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12.png" ContentType="image/png"/>
  <Override PartName="/ppt/media/image32.wmf" ContentType="image/x-wmf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DCC1-292F-40C9-8274-FB4B58BD8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8328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A4E5-2AAA-459D-8B57-FEE3C25D5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86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0F6A-573A-44BA-9ED5-26D4B480D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444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3132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444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3132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BD1F-5665-4E1A-AEC9-8182FCF9A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6248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F843-A28B-4089-BCDF-FD24E3492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086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38328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086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9444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31320" y="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9444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31320" y="3383280"/>
            <a:ext cx="27968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D398-F353-40FF-A21D-58694E055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B297-7B46-46B7-AF8C-D5FC10DA9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7A91-1A46-45A5-96EB-6376AB5C4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6248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A4F0-272E-41F2-9AF3-8C409E273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CBBA-6B8E-41AA-AF80-47D9E0FA3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8600" y="338328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A32A-604B-45E4-86AC-F01FBD462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8600" y="0"/>
            <a:ext cx="42390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83280"/>
            <a:ext cx="86868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C498-377C-42F8-B0E3-D96D15A5F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pty" descr=""/>
          <p:cNvPicPr/>
          <p:nvPr/>
        </p:nvPicPr>
        <p:blipFill>
          <a:blip r:embed="rId2"/>
          <a:stretch/>
        </p:blipFill>
        <p:spPr>
          <a:xfrm>
            <a:off x="7620120" y="6264360"/>
            <a:ext cx="1523880" cy="593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0"/>
            <a:ext cx="762120" cy="6858000"/>
            <a:chOff x="0" y="0"/>
            <a:chExt cx="76212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35080" y="0"/>
              <a:ext cx="5270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lick to edit the title text forma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56204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4" marL="198108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5" marL="1981080" indent="-228600">
              <a:spcBef>
                <a:spcPts val="7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6" marL="1981080" indent="-228600">
              <a:spcBef>
                <a:spcPts val="7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146720" y="6370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5854-5DCB-4BF3-8E54-24BC025B9865}" type="slidenum">
              <a:rPr b="0" lang="fr-FR" sz="1400" spc="-1" strike="noStrike">
                <a:solidFill>
                  <a:srgbClr val="808080"/>
                </a:solidFill>
                <a:latin typeface="Bookman Old Style"/>
              </a:rPr>
              <a:t>&lt;number&gt;</a:t>
            </a:fld>
            <a:r>
              <a:rPr b="0" lang="fr-FR" sz="1400" spc="-1" strike="noStrike">
                <a:solidFill>
                  <a:srgbClr val="808080"/>
                </a:solidFill>
                <a:latin typeface="Bookman Old Style"/>
              </a:rPr>
              <a:t>/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690120" y="6410160"/>
            <a:ext cx="72392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lick to edit the title text forma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762120" cy="6858000"/>
            <a:chOff x="0" y="0"/>
            <a:chExt cx="76212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5080" y="0"/>
              <a:ext cx="5270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333440" algn="ctr"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4" marL="1752480" algn="ctr">
              <a:spcBef>
                <a:spcPts val="499"/>
              </a:spcBef>
              <a:buClr>
                <a:srgbClr val="000066"/>
              </a:buClr>
              <a:buFont typeface="Bookman Old Style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32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0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18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7.png"/><Relationship Id="rId43" Type="http://schemas.openxmlformats.org/officeDocument/2006/relationships/image" Target="../media/image21.png"/><Relationship Id="rId44" Type="http://schemas.openxmlformats.org/officeDocument/2006/relationships/image" Target="../media/image22.png"/><Relationship Id="rId45" Type="http://schemas.openxmlformats.org/officeDocument/2006/relationships/image" Target="../media/image23.png"/><Relationship Id="rId4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32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64008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Workshop IJCAI 2001 - Fabien GANDON - ACACIA Team - INRIA Sophia Antipolis (FR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040" y="73656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Experience in Ontology Engineering for a Multi-Agents Corporate Memory System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87" name="Winner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599400" y="-4680"/>
            <a:ext cx="1874304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lass rdf:ID="SculptureRepresenta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subClassOf rdf:resource="#IconicRepresentationSystem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omment xml:lang="en"&gt;Iconic Representation System producing three-dimensional and usually tangible representations.&lt;/rdfs:com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omment xml:lang="fr"&gt;Representation iconique tridimensionnelle et habituellement tangible.&lt;/rdfs:com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label xml:lang="en"&gt;sculpture&lt;/rdfs:labe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label xml:lang="en"&gt;carving&lt;/rdfs:labe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label xml:lang="fr"&gt;sculpture&lt;/rdfs:labe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rdfs:Clas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lass rdf:ID="VirtualReality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subClassOf rdf:resource="#IconicRepresentationSystem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omment xml:lang="en"&gt;Iconic Representation System for simulating systems or environments with and within which people can interact.&lt;/rdfs:com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omment xml:lang="fr"&gt;Systeme de representation iconique pour simuler des systemes ou des environnements a l interieur desquelles et avec lesquelles les personnes peuvent interagir.&lt;/rdfs:com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label xml:lang="en"&gt;virtual reality&lt;/rdfs:labe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label xml:lang="fr"&gt;realite virtuelle&lt;/rdfs:labe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rdfs:Clas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lass rdf:ID="GraphicRepresenta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subClassOf rdf:resource="#IconicRepresentationSystem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omment xml:lang="en"&gt;Iconic Representation written or drawn, printed or engraved.&lt;/rdfs:com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omment xml:lang="fr"&gt;Representation iconique ecrite ou dessinee, imprimee ou gravee.&lt;/rdfs:com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label xml:lang="en"&gt;graphic&lt;/rdfs:labe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label xml:lang="fr"&gt;graphique&lt;/rdfs:labe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rdfs:Clas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lass rdf:ID="ImageRepresenta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subClassOf rdf:resource="#GraphicRepresentation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omment xml:lang="en"&gt;Graphic visually representing an object, a scene, a person... and produced on a surface.&lt;/rdfs:com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comment xml:lang="fr"&gt;Graphique representant visuellement un objet, une scene, une personne... et produit sur une surface.&lt;/rdfs:com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label xml:lang="en"&gt;image&lt;/rdfs:labe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label xml:lang="en"&gt;picture&lt;/rdfs:labe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rdfs:label xml:lang="fr"&gt;image&lt;/rdfs:labe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rdfs:Clas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8EA6-69DA-4B6D-AB53-D9E2BC48F7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Result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12520" y="-88920"/>
            <a:ext cx="83055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~</a:t>
            </a: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420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concepts, ~</a:t>
            </a: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50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relations, </a:t>
            </a: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12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hop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Three Layer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54" name=""/>
          <p:cNvSpPr/>
          <p:nvPr/>
        </p:nvSpPr>
        <p:spPr>
          <a:xfrm>
            <a:off x="2108160" y="1155600"/>
            <a:ext cx="3165480" cy="1578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057400" y="1206360"/>
            <a:ext cx="5067360" cy="2222640"/>
            <a:chOff x="2057400" y="1206360"/>
            <a:chExt cx="5067360" cy="2222640"/>
          </a:xfrm>
        </p:grpSpPr>
        <p:sp>
          <p:nvSpPr>
            <p:cNvPr id="456" name=""/>
            <p:cNvSpPr/>
            <p:nvPr/>
          </p:nvSpPr>
          <p:spPr>
            <a:xfrm>
              <a:off x="2154240" y="1206360"/>
              <a:ext cx="3073320" cy="459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2240" y="1255680"/>
              <a:ext cx="10670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</a:rPr>
                <a:t>A.T.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57400" y="3124080"/>
              <a:ext cx="506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.T.O.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: Abstract Top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905120" y="1716120"/>
            <a:ext cx="4543200" cy="1425600"/>
            <a:chOff x="1905120" y="1716120"/>
            <a:chExt cx="4543200" cy="1425600"/>
          </a:xfrm>
        </p:grpSpPr>
        <p:sp>
          <p:nvSpPr>
            <p:cNvPr id="460" name=""/>
            <p:cNvSpPr/>
            <p:nvPr/>
          </p:nvSpPr>
          <p:spPr>
            <a:xfrm flipV="1">
              <a:off x="4460760" y="1716120"/>
              <a:ext cx="0" cy="1324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05120" y="2784600"/>
              <a:ext cx="2562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Memory aspect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14680" y="2784600"/>
              <a:ext cx="2033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Domain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057400" y="1716120"/>
            <a:ext cx="5791320" cy="1941480"/>
            <a:chOff x="2057400" y="1716120"/>
            <a:chExt cx="5791320" cy="1941480"/>
          </a:xfrm>
        </p:grpSpPr>
        <p:sp>
          <p:nvSpPr>
            <p:cNvPr id="464" name=""/>
            <p:cNvSpPr/>
            <p:nvPr/>
          </p:nvSpPr>
          <p:spPr>
            <a:xfrm>
              <a:off x="2154240" y="1765440"/>
              <a:ext cx="723960" cy="919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08160" y="1716120"/>
              <a:ext cx="951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urier New"/>
                </a:rPr>
                <a:t>E.M.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57400" y="3352680"/>
              <a:ext cx="5791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.M.O.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: Enterprise Modeling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838080" y="42670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op : reusable/not really u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Middle lay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Documentary corporate memory (r. mem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Domain Topics (r. dom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Extensions : usable/not really reu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057400" y="1716120"/>
            <a:ext cx="5791320" cy="2170080"/>
            <a:chOff x="2057400" y="1716120"/>
            <a:chExt cx="5791320" cy="2170080"/>
          </a:xfrm>
        </p:grpSpPr>
        <p:sp>
          <p:nvSpPr>
            <p:cNvPr id="469" name=""/>
            <p:cNvSpPr/>
            <p:nvPr/>
          </p:nvSpPr>
          <p:spPr>
            <a:xfrm>
              <a:off x="2924280" y="1765440"/>
              <a:ext cx="722160" cy="919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57680" y="1716120"/>
              <a:ext cx="9475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urier New"/>
                </a:rPr>
                <a:t>U.P.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57400" y="3581280"/>
              <a:ext cx="5791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.P.O.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: User Profile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057400" y="1720800"/>
            <a:ext cx="5791320" cy="2394000"/>
            <a:chOff x="2057400" y="1720800"/>
            <a:chExt cx="5791320" cy="2394000"/>
          </a:xfrm>
        </p:grpSpPr>
        <p:sp>
          <p:nvSpPr>
            <p:cNvPr id="473" name=""/>
            <p:cNvSpPr/>
            <p:nvPr/>
          </p:nvSpPr>
          <p:spPr>
            <a:xfrm>
              <a:off x="3691080" y="1765440"/>
              <a:ext cx="723600" cy="919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21240" y="1720800"/>
              <a:ext cx="950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urier New"/>
                </a:rPr>
                <a:t>D.D.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57400" y="3809880"/>
              <a:ext cx="5791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.D.O.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: Document Description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057400" y="1712880"/>
            <a:ext cx="5791320" cy="2630520"/>
            <a:chOff x="2057400" y="1712880"/>
            <a:chExt cx="5791320" cy="2630520"/>
          </a:xfrm>
        </p:grpSpPr>
        <p:sp>
          <p:nvSpPr>
            <p:cNvPr id="477" name=""/>
            <p:cNvSpPr/>
            <p:nvPr/>
          </p:nvSpPr>
          <p:spPr>
            <a:xfrm>
              <a:off x="4505400" y="1765440"/>
              <a:ext cx="722160" cy="919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46720" y="1712880"/>
              <a:ext cx="947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urier New"/>
                </a:rPr>
                <a:t>D.T.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7400" y="4038480"/>
              <a:ext cx="5791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.T.O.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: Domain Topic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108160" y="1143000"/>
            <a:ext cx="6883560" cy="1592280"/>
            <a:chOff x="2108160" y="1143000"/>
            <a:chExt cx="6883560" cy="1592280"/>
          </a:xfrm>
        </p:grpSpPr>
        <p:sp>
          <p:nvSpPr>
            <p:cNvPr id="481" name=""/>
            <p:cNvSpPr/>
            <p:nvPr/>
          </p:nvSpPr>
          <p:spPr>
            <a:xfrm>
              <a:off x="5303880" y="1255680"/>
              <a:ext cx="28497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Top Laye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 :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Courier New"/>
                </a:rPr>
                <a:t>abs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03880" y="1817640"/>
              <a:ext cx="29257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Middle Laye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 :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Courier New"/>
                </a:rPr>
                <a:t>comm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08160" y="1716120"/>
              <a:ext cx="334512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08160" y="2274840"/>
              <a:ext cx="334512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73640" y="1143000"/>
              <a:ext cx="588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73640" y="2733480"/>
              <a:ext cx="58896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03880" y="2327040"/>
              <a:ext cx="3687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Extension Laye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 :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Courier New"/>
                </a:rPr>
                <a:t>speci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CA9D-E0BB-449C-A6E3-7033D2205F5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3517920" y="3089160"/>
            <a:ext cx="790560" cy="1273320"/>
            <a:chOff x="3517920" y="3089160"/>
            <a:chExt cx="790560" cy="1273320"/>
          </a:xfrm>
        </p:grpSpPr>
        <p:grpSp>
          <p:nvGrpSpPr>
            <p:cNvPr id="489" name=""/>
            <p:cNvGrpSpPr/>
            <p:nvPr/>
          </p:nvGrpSpPr>
          <p:grpSpPr>
            <a:xfrm>
              <a:off x="3517920" y="3089160"/>
              <a:ext cx="790560" cy="1122480"/>
              <a:chOff x="3517920" y="3089160"/>
              <a:chExt cx="790560" cy="1122480"/>
            </a:xfrm>
          </p:grpSpPr>
          <p:sp>
            <p:nvSpPr>
              <p:cNvPr id="490" name=""/>
              <p:cNvSpPr/>
              <p:nvPr/>
            </p:nvSpPr>
            <p:spPr>
              <a:xfrm>
                <a:off x="3517920" y="3668400"/>
                <a:ext cx="790560" cy="543240"/>
              </a:xfrm>
              <a:prstGeom prst="parallelogram">
                <a:avLst>
                  <a:gd name="adj" fmla="val 56385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3699000" y="3342600"/>
                <a:ext cx="289440" cy="54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4169520" y="3342600"/>
                <a:ext cx="72360" cy="57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3988800" y="3089160"/>
                <a:ext cx="144720" cy="25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4242240" y="3089160"/>
                <a:ext cx="36000" cy="25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4041720" y="4232160"/>
              <a:ext cx="19980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i="1" lang="fr-FR" sz="800" spc="-1" strike="noStrike" baseline="-25000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10040" y="4213080"/>
              <a:ext cx="3492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962000" y="3103560"/>
            <a:ext cx="1003320" cy="1325520"/>
            <a:chOff x="1962000" y="3103560"/>
            <a:chExt cx="1003320" cy="1325520"/>
          </a:xfrm>
        </p:grpSpPr>
        <p:sp>
          <p:nvSpPr>
            <p:cNvPr id="498" name=""/>
            <p:cNvSpPr/>
            <p:nvPr/>
          </p:nvSpPr>
          <p:spPr>
            <a:xfrm>
              <a:off x="1962000" y="3646440"/>
              <a:ext cx="978120" cy="687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2470320" y="3161880"/>
              <a:ext cx="180720" cy="181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2831760" y="3103560"/>
              <a:ext cx="34920" cy="2541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65520" y="4299120"/>
              <a:ext cx="19980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1" i="1" lang="fr-FR" sz="800" spc="-1" strike="noStrike" baseline="-25000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22680" y="4284720"/>
              <a:ext cx="363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035080" y="3343320"/>
              <a:ext cx="435240" cy="47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866680" y="3357360"/>
              <a:ext cx="73080" cy="57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419120" y="3683160"/>
            <a:ext cx="3727080" cy="564840"/>
            <a:chOff x="1419120" y="3683160"/>
            <a:chExt cx="3727080" cy="564840"/>
          </a:xfrm>
        </p:grpSpPr>
        <p:grpSp>
          <p:nvGrpSpPr>
            <p:cNvPr id="506" name=""/>
            <p:cNvGrpSpPr/>
            <p:nvPr/>
          </p:nvGrpSpPr>
          <p:grpSpPr>
            <a:xfrm>
              <a:off x="2614680" y="3683160"/>
              <a:ext cx="2531520" cy="532800"/>
              <a:chOff x="2614680" y="3683160"/>
              <a:chExt cx="2531520" cy="53280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2722320" y="4081320"/>
                <a:ext cx="647640" cy="129960"/>
                <a:chOff x="2722320" y="4081320"/>
                <a:chExt cx="647640" cy="12996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2722320" y="4089240"/>
                  <a:ext cx="647640" cy="108360"/>
                  <a:chOff x="2722320" y="4089240"/>
                  <a:chExt cx="647640" cy="108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2722320" y="4144320"/>
                    <a:ext cx="64764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908800" y="4089240"/>
                    <a:ext cx="253080" cy="1083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1" name=""/>
                <p:cNvSpPr/>
                <p:nvPr/>
              </p:nvSpPr>
              <p:spPr>
                <a:xfrm>
                  <a:off x="2977920" y="408132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95440" y="4086000"/>
                <a:ext cx="253800" cy="129960"/>
                <a:chOff x="3295440" y="4086000"/>
                <a:chExt cx="253800" cy="129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295440" y="4094640"/>
                  <a:ext cx="253800" cy="100800"/>
                </a:xfrm>
                <a:prstGeom prst="parallelogram">
                  <a:avLst>
                    <a:gd name="adj" fmla="val 62946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65280" y="4086000"/>
                  <a:ext cx="183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4060800" y="4081320"/>
                <a:ext cx="253440" cy="129960"/>
                <a:chOff x="4060800" y="4081320"/>
                <a:chExt cx="253440" cy="1299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060800" y="408996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130640" y="4081320"/>
                  <a:ext cx="1836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3483000" y="4081320"/>
                <a:ext cx="647280" cy="129960"/>
                <a:chOff x="3483000" y="4081320"/>
                <a:chExt cx="647280" cy="129960"/>
              </a:xfrm>
            </p:grpSpPr>
            <p:grpSp>
              <p:nvGrpSpPr>
                <p:cNvPr id="519" name=""/>
                <p:cNvGrpSpPr/>
                <p:nvPr/>
              </p:nvGrpSpPr>
              <p:grpSpPr>
                <a:xfrm>
                  <a:off x="3483000" y="4089240"/>
                  <a:ext cx="647280" cy="108360"/>
                  <a:chOff x="3483000" y="4089240"/>
                  <a:chExt cx="647280" cy="10836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3483000" y="4144320"/>
                    <a:ext cx="64728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669480" y="4089240"/>
                    <a:ext cx="253080" cy="1083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2" name=""/>
                <p:cNvSpPr/>
                <p:nvPr/>
              </p:nvSpPr>
              <p:spPr>
                <a:xfrm>
                  <a:off x="3738600" y="408132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614680" y="3873600"/>
                <a:ext cx="1012680" cy="129600"/>
                <a:chOff x="2614680" y="3873600"/>
                <a:chExt cx="1012680" cy="12960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2614680" y="3881520"/>
                  <a:ext cx="1012680" cy="108000"/>
                  <a:chOff x="2614680" y="3881520"/>
                  <a:chExt cx="1012680" cy="1080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2614680" y="3940200"/>
                    <a:ext cx="101268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981880" y="3881520"/>
                    <a:ext cx="253080" cy="108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"/>
                <p:cNvSpPr/>
                <p:nvPr/>
              </p:nvSpPr>
              <p:spPr>
                <a:xfrm>
                  <a:off x="3051000" y="3873600"/>
                  <a:ext cx="17496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3413160" y="3878280"/>
                <a:ext cx="252000" cy="129600"/>
                <a:chOff x="3413160" y="3878280"/>
                <a:chExt cx="252000" cy="1296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413160" y="3886920"/>
                  <a:ext cx="252000" cy="100440"/>
                </a:xfrm>
                <a:prstGeom prst="parallelogram">
                  <a:avLst>
                    <a:gd name="adj" fmla="val 62724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482640" y="3878280"/>
                  <a:ext cx="18252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4165560" y="3884400"/>
                <a:ext cx="252000" cy="129960"/>
                <a:chOff x="4165560" y="3884400"/>
                <a:chExt cx="252000" cy="1299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165560" y="3893040"/>
                  <a:ext cx="252000" cy="100800"/>
                </a:xfrm>
                <a:prstGeom prst="parallelogram">
                  <a:avLst>
                    <a:gd name="adj" fmla="val 62500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235040" y="3884400"/>
                  <a:ext cx="18252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3590640" y="3878280"/>
                <a:ext cx="647640" cy="129600"/>
                <a:chOff x="3590640" y="3878280"/>
                <a:chExt cx="647640" cy="12960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3590640" y="3886200"/>
                  <a:ext cx="647640" cy="108000"/>
                  <a:chOff x="3590640" y="3886200"/>
                  <a:chExt cx="647640" cy="1080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3590640" y="3941280"/>
                    <a:ext cx="64764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777120" y="3886200"/>
                    <a:ext cx="253080" cy="108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8" name=""/>
                <p:cNvSpPr/>
                <p:nvPr/>
              </p:nvSpPr>
              <p:spPr>
                <a:xfrm>
                  <a:off x="3846240" y="3878280"/>
                  <a:ext cx="17496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3590640" y="3683160"/>
                <a:ext cx="924840" cy="225000"/>
                <a:chOff x="3590640" y="3683160"/>
                <a:chExt cx="924840" cy="22500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4262400" y="3687840"/>
                  <a:ext cx="253080" cy="129600"/>
                  <a:chOff x="4262400" y="3687840"/>
                  <a:chExt cx="253080" cy="1296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4262400" y="3696480"/>
                    <a:ext cx="253080" cy="100440"/>
                  </a:xfrm>
                  <a:prstGeom prst="parallelogram">
                    <a:avLst>
                      <a:gd name="adj" fmla="val 62993"/>
                    </a:avLst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4332240" y="3687840"/>
                    <a:ext cx="183240" cy="12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3590640" y="3683160"/>
                  <a:ext cx="757440" cy="225000"/>
                  <a:chOff x="3590640" y="3683160"/>
                  <a:chExt cx="757440" cy="22500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3880080" y="3683160"/>
                    <a:ext cx="174960" cy="12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3590640" y="3691080"/>
                    <a:ext cx="757440" cy="217080"/>
                    <a:chOff x="3590640" y="3691080"/>
                    <a:chExt cx="757440" cy="21708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3590640" y="3718800"/>
                      <a:ext cx="289440" cy="189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3810600" y="3691080"/>
                      <a:ext cx="253080" cy="1080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4022640" y="3749760"/>
                      <a:ext cx="325440" cy="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49" name=""/>
              <p:cNvGrpSpPr/>
              <p:nvPr/>
            </p:nvGrpSpPr>
            <p:grpSpPr>
              <a:xfrm>
                <a:off x="4894200" y="3878280"/>
                <a:ext cx="252000" cy="129600"/>
                <a:chOff x="4894200" y="3878280"/>
                <a:chExt cx="252000" cy="1296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894200" y="3886920"/>
                  <a:ext cx="252000" cy="100440"/>
                </a:xfrm>
                <a:prstGeom prst="parallelogram">
                  <a:avLst>
                    <a:gd name="adj" fmla="val 62724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963680" y="3878280"/>
                  <a:ext cx="18252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4314600" y="3878280"/>
                <a:ext cx="647280" cy="129600"/>
                <a:chOff x="4314600" y="3878280"/>
                <a:chExt cx="647280" cy="12960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4314600" y="3886200"/>
                  <a:ext cx="647280" cy="108000"/>
                  <a:chOff x="4314600" y="3886200"/>
                  <a:chExt cx="647280" cy="10800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4314600" y="3941280"/>
                    <a:ext cx="64728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501080" y="3886200"/>
                    <a:ext cx="253080" cy="108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6" name=""/>
                <p:cNvSpPr/>
                <p:nvPr/>
              </p:nvSpPr>
              <p:spPr>
                <a:xfrm>
                  <a:off x="4570200" y="3878280"/>
                  <a:ext cx="17496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7" name=""/>
            <p:cNvGrpSpPr/>
            <p:nvPr/>
          </p:nvGrpSpPr>
          <p:grpSpPr>
            <a:xfrm>
              <a:off x="1419120" y="3697200"/>
              <a:ext cx="1376640" cy="550800"/>
              <a:chOff x="1419120" y="3697200"/>
              <a:chExt cx="1376640" cy="55080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1419120" y="3827520"/>
                <a:ext cx="254160" cy="129960"/>
                <a:chOff x="1419120" y="3827520"/>
                <a:chExt cx="254160" cy="12996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419120" y="3836160"/>
                  <a:ext cx="254160" cy="100800"/>
                </a:xfrm>
                <a:prstGeom prst="parallelogram">
                  <a:avLst>
                    <a:gd name="adj" fmla="val 63036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488960" y="3827520"/>
                  <a:ext cx="183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2360520" y="3697200"/>
                <a:ext cx="254160" cy="130320"/>
                <a:chOff x="2360520" y="3697200"/>
                <a:chExt cx="254160" cy="1303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2360520" y="3705840"/>
                  <a:ext cx="254160" cy="101160"/>
                </a:xfrm>
                <a:prstGeom prst="parallelogram">
                  <a:avLst>
                    <a:gd name="adj" fmla="val 62811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430360" y="3697200"/>
                  <a:ext cx="18396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2179800" y="4118040"/>
                <a:ext cx="253800" cy="129960"/>
                <a:chOff x="2179800" y="4118040"/>
                <a:chExt cx="253800" cy="1299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179800" y="4126680"/>
                  <a:ext cx="253800" cy="100800"/>
                </a:xfrm>
                <a:prstGeom prst="parallelogram">
                  <a:avLst>
                    <a:gd name="adj" fmla="val 62946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249640" y="4118040"/>
                  <a:ext cx="183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2035080" y="3827520"/>
                <a:ext cx="252360" cy="129960"/>
                <a:chOff x="2035080" y="3827520"/>
                <a:chExt cx="252360" cy="1299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2035080" y="3836160"/>
                  <a:ext cx="252360" cy="100800"/>
                </a:xfrm>
                <a:prstGeom prst="parallelogram">
                  <a:avLst>
                    <a:gd name="adj" fmla="val 62589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104560" y="3827520"/>
                  <a:ext cx="1828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2541600" y="4081320"/>
                <a:ext cx="254160" cy="130320"/>
                <a:chOff x="2541600" y="4081320"/>
                <a:chExt cx="254160" cy="1303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2541600" y="4089960"/>
                  <a:ext cx="254160" cy="101160"/>
                </a:xfrm>
                <a:prstGeom prst="parallelogram">
                  <a:avLst>
                    <a:gd name="adj" fmla="val 62811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611440" y="4081320"/>
                  <a:ext cx="18396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2433600" y="3878280"/>
                <a:ext cx="252360" cy="130320"/>
                <a:chOff x="2433600" y="3878280"/>
                <a:chExt cx="252360" cy="1303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433600" y="3886920"/>
                  <a:ext cx="252360" cy="101160"/>
                </a:xfrm>
                <a:prstGeom prst="parallelogram">
                  <a:avLst>
                    <a:gd name="adj" fmla="val 62367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503080" y="3878280"/>
                  <a:ext cx="18288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Three-Layer Schema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62120" y="3610080"/>
            <a:ext cx="4333680" cy="1658880"/>
            <a:chOff x="762120" y="3610080"/>
            <a:chExt cx="4333680" cy="1658880"/>
          </a:xfrm>
        </p:grpSpPr>
        <p:sp>
          <p:nvSpPr>
            <p:cNvPr id="578" name=""/>
            <p:cNvSpPr/>
            <p:nvPr/>
          </p:nvSpPr>
          <p:spPr>
            <a:xfrm>
              <a:off x="762120" y="4797360"/>
              <a:ext cx="43336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CoMMA:Memo rdf:about="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http://www.inria.fr/comma.rtf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CoMMA:E-Mail rdf:about="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http://www.inria.fr/comma.rtf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995400" y="3610080"/>
              <a:ext cx="1653480" cy="1446120"/>
              <a:chOff x="995400" y="3610080"/>
              <a:chExt cx="1653480" cy="144612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1600200" y="3610080"/>
                <a:ext cx="1048680" cy="1446120"/>
                <a:chOff x="1600200" y="3610080"/>
                <a:chExt cx="1048680" cy="14461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1600200" y="3610080"/>
                  <a:ext cx="288720" cy="10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790640" y="3717720"/>
                  <a:ext cx="63360" cy="32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>
                  <a:off x="1853640" y="4041720"/>
                  <a:ext cx="795240" cy="79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854000" y="4041720"/>
                  <a:ext cx="650880" cy="10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995400" y="4614840"/>
                <a:ext cx="151920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urier New"/>
                  </a:rPr>
                  <a:t>Multi-Instanci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762120" y="5408640"/>
            <a:ext cx="822312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876240" y="5807160"/>
            <a:ext cx="1913040" cy="288720"/>
            <a:chOff x="876240" y="5807160"/>
            <a:chExt cx="1913040" cy="288720"/>
          </a:xfrm>
        </p:grpSpPr>
        <p:sp>
          <p:nvSpPr>
            <p:cNvPr id="588" name=""/>
            <p:cNvSpPr/>
            <p:nvPr/>
          </p:nvSpPr>
          <p:spPr>
            <a:xfrm>
              <a:off x="887400" y="6006960"/>
              <a:ext cx="128520" cy="54000"/>
            </a:xfrm>
            <a:prstGeom prst="parallelogram">
              <a:avLst>
                <a:gd name="adj" fmla="val 595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52560" y="5880240"/>
              <a:ext cx="0" cy="144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876240" y="5827680"/>
              <a:ext cx="139680" cy="87480"/>
              <a:chOff x="876240" y="5827680"/>
              <a:chExt cx="139680" cy="87480"/>
            </a:xfrm>
          </p:grpSpPr>
          <p:sp>
            <p:nvSpPr>
              <p:cNvPr id="591" name=""/>
              <p:cNvSpPr/>
              <p:nvPr/>
            </p:nvSpPr>
            <p:spPr>
              <a:xfrm>
                <a:off x="934920" y="5843160"/>
                <a:ext cx="57600" cy="51840"/>
              </a:xfrm>
              <a:prstGeom prst="foldedCorner">
                <a:avLst>
                  <a:gd name="adj" fmla="val 44601"/>
                </a:avLst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985320" y="5830920"/>
                <a:ext cx="122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931320" y="5830560"/>
                <a:ext cx="644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15840" y="5864760"/>
                <a:ext cx="432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240" y="5827680"/>
                <a:ext cx="139680" cy="66600"/>
              </a:xfrm>
              <a:prstGeom prst="parallelogram">
                <a:avLst>
                  <a:gd name="adj" fmla="val 52432"/>
                </a:avLst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968760" y="589356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989640" y="587592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9207200">
                <a:off x="968400" y="5880240"/>
                <a:ext cx="4284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1087560" y="5807160"/>
              <a:ext cx="17017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Term used to label a conce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870120" y="5445000"/>
            <a:ext cx="6116400" cy="579600"/>
            <a:chOff x="870120" y="5445000"/>
            <a:chExt cx="6116400" cy="579600"/>
          </a:xfrm>
        </p:grpSpPr>
        <p:grpSp>
          <p:nvGrpSpPr>
            <p:cNvPr id="601" name=""/>
            <p:cNvGrpSpPr/>
            <p:nvPr/>
          </p:nvGrpSpPr>
          <p:grpSpPr>
            <a:xfrm>
              <a:off x="870120" y="5445000"/>
              <a:ext cx="869400" cy="288720"/>
              <a:chOff x="870120" y="5445000"/>
              <a:chExt cx="869400" cy="288720"/>
            </a:xfrm>
          </p:grpSpPr>
          <p:grpSp>
            <p:nvGrpSpPr>
              <p:cNvPr id="602" name=""/>
              <p:cNvGrpSpPr/>
              <p:nvPr/>
            </p:nvGrpSpPr>
            <p:grpSpPr>
              <a:xfrm>
                <a:off x="870120" y="5516280"/>
                <a:ext cx="253800" cy="141840"/>
                <a:chOff x="870120" y="5516280"/>
                <a:chExt cx="253800" cy="141840"/>
              </a:xfrm>
            </p:grpSpPr>
            <p:grpSp>
              <p:nvGrpSpPr>
                <p:cNvPr id="603" name=""/>
                <p:cNvGrpSpPr/>
                <p:nvPr/>
              </p:nvGrpSpPr>
              <p:grpSpPr>
                <a:xfrm>
                  <a:off x="870120" y="5525640"/>
                  <a:ext cx="253800" cy="132480"/>
                  <a:chOff x="870120" y="5525640"/>
                  <a:chExt cx="253800" cy="13248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976680" y="5548680"/>
                    <a:ext cx="104400" cy="76680"/>
                  </a:xfrm>
                  <a:prstGeom prst="foldedCorner">
                    <a:avLst>
                      <a:gd name="adj" fmla="val 4460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1067760" y="5530680"/>
                    <a:ext cx="21960" cy="5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970560" y="5529960"/>
                    <a:ext cx="117000" cy="5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942480" y="5581080"/>
                    <a:ext cx="78120" cy="4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870120" y="5525640"/>
                    <a:ext cx="253800" cy="98640"/>
                  </a:xfrm>
                  <a:prstGeom prst="parallelogram">
                    <a:avLst>
                      <a:gd name="adj" fmla="val 64325"/>
                    </a:avLst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1037880" y="5623200"/>
                    <a:ext cx="41760" cy="3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1076040" y="5597280"/>
                    <a:ext cx="41760" cy="3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9207200">
                    <a:off x="1037520" y="5603760"/>
                    <a:ext cx="78120" cy="32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2" name=""/>
                <p:cNvSpPr/>
                <p:nvPr/>
              </p:nvSpPr>
              <p:spPr>
                <a:xfrm>
                  <a:off x="923400" y="5516280"/>
                  <a:ext cx="200520" cy="13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087200" y="5445000"/>
                <a:ext cx="6523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A ter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933640" y="5445000"/>
              <a:ext cx="1773000" cy="217440"/>
              <a:chOff x="2933640" y="5445000"/>
              <a:chExt cx="1773000" cy="2174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933640" y="5526000"/>
                <a:ext cx="252360" cy="129960"/>
                <a:chOff x="2933640" y="5526000"/>
                <a:chExt cx="252360" cy="1299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933640" y="5532840"/>
                  <a:ext cx="252360" cy="100800"/>
                </a:xfrm>
                <a:prstGeom prst="parallelogram">
                  <a:avLst>
                    <a:gd name="adj" fmla="val 62589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995560" y="5526000"/>
                  <a:ext cx="184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3151080" y="5445000"/>
                <a:ext cx="15555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tension of the concept C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897280" y="5807160"/>
              <a:ext cx="1809720" cy="217440"/>
              <a:chOff x="2897280" y="5807160"/>
              <a:chExt cx="1809720" cy="21744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897280" y="5864400"/>
                <a:ext cx="254160" cy="129960"/>
                <a:chOff x="2897280" y="5864400"/>
                <a:chExt cx="254160" cy="1299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897280" y="5873040"/>
                  <a:ext cx="254160" cy="100800"/>
                </a:xfrm>
                <a:prstGeom prst="parallelogram">
                  <a:avLst>
                    <a:gd name="adj" fmla="val 63036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967120" y="5864400"/>
                  <a:ext cx="183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3151440" y="5807160"/>
                <a:ext cx="15555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stance of a concep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819680" y="5445000"/>
              <a:ext cx="2166840" cy="217440"/>
              <a:chOff x="4819680" y="5445000"/>
              <a:chExt cx="2166840" cy="2174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4819680" y="5516280"/>
                <a:ext cx="642600" cy="130320"/>
                <a:chOff x="4819680" y="5516280"/>
                <a:chExt cx="642600" cy="13032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4819680" y="5522400"/>
                  <a:ext cx="642600" cy="108720"/>
                  <a:chOff x="4819680" y="5522400"/>
                  <a:chExt cx="642600" cy="10872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4896720" y="5577840"/>
                    <a:ext cx="4698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819680" y="553752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013000" y="5522400"/>
                    <a:ext cx="252720" cy="108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281920" y="5537520"/>
                    <a:ext cx="180360" cy="72360"/>
                  </a:xfrm>
                  <a:prstGeom prst="parallelogram">
                    <a:avLst>
                      <a:gd name="adj" fmla="val 6231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1" name=""/>
                <p:cNvSpPr/>
                <p:nvPr/>
              </p:nvSpPr>
              <p:spPr>
                <a:xfrm>
                  <a:off x="5086080" y="5516280"/>
                  <a:ext cx="17496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5430600" y="5445000"/>
                <a:ext cx="15559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tension of the relation R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819680" y="5807160"/>
              <a:ext cx="2166840" cy="217440"/>
              <a:chOff x="4819680" y="5807160"/>
              <a:chExt cx="2166840" cy="217440"/>
            </a:xfrm>
          </p:grpSpPr>
          <p:grpSp>
            <p:nvGrpSpPr>
              <p:cNvPr id="634" name=""/>
              <p:cNvGrpSpPr/>
              <p:nvPr/>
            </p:nvGrpSpPr>
            <p:grpSpPr>
              <a:xfrm>
                <a:off x="4819680" y="5880240"/>
                <a:ext cx="647640" cy="130320"/>
                <a:chOff x="4819680" y="5880240"/>
                <a:chExt cx="647640" cy="130320"/>
              </a:xfrm>
            </p:grpSpPr>
            <p:grpSp>
              <p:nvGrpSpPr>
                <p:cNvPr id="635" name=""/>
                <p:cNvGrpSpPr/>
                <p:nvPr/>
              </p:nvGrpSpPr>
              <p:grpSpPr>
                <a:xfrm>
                  <a:off x="4819680" y="5888160"/>
                  <a:ext cx="647640" cy="108720"/>
                  <a:chOff x="4819680" y="5888160"/>
                  <a:chExt cx="647640" cy="10872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819680" y="5943600"/>
                    <a:ext cx="64764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5006160" y="5888160"/>
                    <a:ext cx="253080" cy="1087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8" name=""/>
                <p:cNvSpPr/>
                <p:nvPr/>
              </p:nvSpPr>
              <p:spPr>
                <a:xfrm>
                  <a:off x="5075280" y="5880240"/>
                  <a:ext cx="17496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>
                <a:off x="5430600" y="5807160"/>
                <a:ext cx="15559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stance of a 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0" name=""/>
          <p:cNvGrpSpPr/>
          <p:nvPr/>
        </p:nvGrpSpPr>
        <p:grpSpPr>
          <a:xfrm>
            <a:off x="7240680" y="5445000"/>
            <a:ext cx="1751040" cy="252360"/>
            <a:chOff x="7240680" y="5445000"/>
            <a:chExt cx="1751040" cy="252360"/>
          </a:xfrm>
        </p:grpSpPr>
        <p:grpSp>
          <p:nvGrpSpPr>
            <p:cNvPr id="641" name=""/>
            <p:cNvGrpSpPr/>
            <p:nvPr/>
          </p:nvGrpSpPr>
          <p:grpSpPr>
            <a:xfrm>
              <a:off x="7240680" y="5481720"/>
              <a:ext cx="390600" cy="215640"/>
              <a:chOff x="7240680" y="5481720"/>
              <a:chExt cx="390600" cy="215640"/>
            </a:xfrm>
          </p:grpSpPr>
          <p:sp>
            <p:nvSpPr>
              <p:cNvPr id="642" name=""/>
              <p:cNvSpPr/>
              <p:nvPr/>
            </p:nvSpPr>
            <p:spPr>
              <a:xfrm>
                <a:off x="7240680" y="5629320"/>
                <a:ext cx="127440" cy="52920"/>
              </a:xfrm>
              <a:prstGeom prst="parallelogram">
                <a:avLst>
                  <a:gd name="adj" fmla="val 60204"/>
                </a:avLst>
              </a:prstGeom>
              <a:solidFill>
                <a:srgbClr val="969696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05480" y="5502600"/>
                <a:ext cx="0" cy="14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250040" y="5485320"/>
                <a:ext cx="127800" cy="52920"/>
              </a:xfrm>
              <a:prstGeom prst="parallelogram">
                <a:avLst>
                  <a:gd name="adj" fmla="val 60374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486560" y="5625360"/>
                <a:ext cx="144720" cy="7200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558920" y="5502600"/>
                <a:ext cx="0" cy="14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86560" y="5481720"/>
                <a:ext cx="144720" cy="7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7637400" y="5445000"/>
              <a:ext cx="1354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Instantiation lin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7167600" y="5726160"/>
            <a:ext cx="1900080" cy="446040"/>
            <a:chOff x="7167600" y="5726160"/>
            <a:chExt cx="1900080" cy="446040"/>
          </a:xfrm>
        </p:grpSpPr>
        <p:sp>
          <p:nvSpPr>
            <p:cNvPr id="650" name=""/>
            <p:cNvSpPr/>
            <p:nvPr/>
          </p:nvSpPr>
          <p:spPr>
            <a:xfrm>
              <a:off x="7643880" y="5726160"/>
              <a:ext cx="14238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Extension of concept C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or relation R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7167600" y="5824440"/>
              <a:ext cx="417240" cy="252360"/>
              <a:chOff x="7167600" y="5824440"/>
              <a:chExt cx="417240" cy="252360"/>
            </a:xfrm>
          </p:grpSpPr>
          <p:sp>
            <p:nvSpPr>
              <p:cNvPr id="652" name=""/>
              <p:cNvSpPr/>
              <p:nvPr/>
            </p:nvSpPr>
            <p:spPr>
              <a:xfrm>
                <a:off x="7329240" y="5946480"/>
                <a:ext cx="20016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286400" y="5932080"/>
                <a:ext cx="3672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67600" y="5824440"/>
                <a:ext cx="144360" cy="1378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548480" y="5946480"/>
                <a:ext cx="3636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7456320" y="5821200"/>
              <a:ext cx="325440" cy="274680"/>
              <a:chOff x="7456320" y="5821200"/>
              <a:chExt cx="325440" cy="274680"/>
            </a:xfrm>
          </p:grpSpPr>
          <p:sp>
            <p:nvSpPr>
              <p:cNvPr id="657" name=""/>
              <p:cNvSpPr/>
              <p:nvPr/>
            </p:nvSpPr>
            <p:spPr>
              <a:xfrm>
                <a:off x="7581960" y="5965560"/>
                <a:ext cx="1998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56320" y="5821200"/>
                <a:ext cx="181080" cy="144360"/>
              </a:xfrm>
              <a:prstGeom prst="parallelogram">
                <a:avLst>
                  <a:gd name="adj" fmla="val 48601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1709640" y="1479600"/>
            <a:ext cx="2387520" cy="556560"/>
            <a:chOff x="1709640" y="1479600"/>
            <a:chExt cx="2387520" cy="556560"/>
          </a:xfrm>
        </p:grpSpPr>
        <p:grpSp>
          <p:nvGrpSpPr>
            <p:cNvPr id="660" name=""/>
            <p:cNvGrpSpPr/>
            <p:nvPr/>
          </p:nvGrpSpPr>
          <p:grpSpPr>
            <a:xfrm>
              <a:off x="1709640" y="1690560"/>
              <a:ext cx="252360" cy="141840"/>
              <a:chOff x="1709640" y="1690560"/>
              <a:chExt cx="252360" cy="14184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1709640" y="1699920"/>
                <a:ext cx="252360" cy="132480"/>
                <a:chOff x="1709640" y="1699920"/>
                <a:chExt cx="252360" cy="1324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1815840" y="1722960"/>
                  <a:ext cx="10368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906200" y="1704960"/>
                  <a:ext cx="2196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809360" y="1704240"/>
                  <a:ext cx="1162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781640" y="1755360"/>
                  <a:ext cx="777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709640" y="1699920"/>
                  <a:ext cx="252360" cy="98640"/>
                </a:xfrm>
                <a:prstGeom prst="parallelogram">
                  <a:avLst>
                    <a:gd name="adj" fmla="val 63960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876680" y="179748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914480" y="177156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rot="19207200">
                  <a:off x="1876680" y="1778400"/>
                  <a:ext cx="777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1762560" y="1690560"/>
                <a:ext cx="19944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216160" y="1479600"/>
              <a:ext cx="252360" cy="141840"/>
              <a:chOff x="2216160" y="1479600"/>
              <a:chExt cx="252360" cy="14184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2216160" y="1488960"/>
                <a:ext cx="252360" cy="132480"/>
                <a:chOff x="2216160" y="1488960"/>
                <a:chExt cx="252360" cy="13248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2322360" y="1512000"/>
                  <a:ext cx="10368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12720" y="1494000"/>
                  <a:ext cx="2196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315880" y="1493280"/>
                  <a:ext cx="1162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288160" y="1544400"/>
                  <a:ext cx="777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216160" y="1488960"/>
                  <a:ext cx="252360" cy="98640"/>
                </a:xfrm>
                <a:prstGeom prst="parallelogram">
                  <a:avLst>
                    <a:gd name="adj" fmla="val 63960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383200" y="158652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421000" y="156060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rot="19207200">
                  <a:off x="2383200" y="1567440"/>
                  <a:ext cx="777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2269080" y="1479600"/>
                <a:ext cx="19944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3844800" y="1509480"/>
              <a:ext cx="252360" cy="142560"/>
              <a:chOff x="3844800" y="1509480"/>
              <a:chExt cx="252360" cy="14256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3844800" y="1519200"/>
                <a:ext cx="252360" cy="132840"/>
                <a:chOff x="3844800" y="1519200"/>
                <a:chExt cx="252360" cy="1328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951000" y="1542240"/>
                  <a:ext cx="103680" cy="7704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041360" y="1524240"/>
                  <a:ext cx="21960" cy="5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944520" y="1523520"/>
                  <a:ext cx="1162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916800" y="1574640"/>
                  <a:ext cx="77760" cy="4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844800" y="1519200"/>
                  <a:ext cx="252360" cy="99000"/>
                </a:xfrm>
                <a:prstGeom prst="parallelogram">
                  <a:avLst>
                    <a:gd name="adj" fmla="val 63727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011840" y="161712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049640" y="159084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rot="19207200">
                  <a:off x="4011840" y="1598040"/>
                  <a:ext cx="777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" name=""/>
              <p:cNvSpPr/>
              <p:nvPr/>
            </p:nvSpPr>
            <p:spPr>
              <a:xfrm>
                <a:off x="3897720" y="1509480"/>
                <a:ext cx="199440" cy="13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2360520" y="1871640"/>
              <a:ext cx="253800" cy="141840"/>
              <a:chOff x="2360520" y="1871640"/>
              <a:chExt cx="253800" cy="1418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2360520" y="1881000"/>
                <a:ext cx="253800" cy="132480"/>
                <a:chOff x="2360520" y="1881000"/>
                <a:chExt cx="253800" cy="13248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2467080" y="1904040"/>
                  <a:ext cx="10440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558160" y="1886040"/>
                  <a:ext cx="2196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460960" y="1885320"/>
                  <a:ext cx="11700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432880" y="1936440"/>
                  <a:ext cx="7812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360520" y="1881000"/>
                  <a:ext cx="253800" cy="98640"/>
                </a:xfrm>
                <a:prstGeom prst="parallelogram">
                  <a:avLst>
                    <a:gd name="adj" fmla="val 64325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528280" y="197856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566440" y="195264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rot="19207200">
                  <a:off x="2527920" y="1959120"/>
                  <a:ext cx="7812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"/>
              <p:cNvSpPr/>
              <p:nvPr/>
            </p:nvSpPr>
            <p:spPr>
              <a:xfrm>
                <a:off x="2413800" y="1871640"/>
                <a:ext cx="20052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3735360" y="1895400"/>
              <a:ext cx="253800" cy="140760"/>
              <a:chOff x="3735360" y="1895400"/>
              <a:chExt cx="253800" cy="140760"/>
            </a:xfrm>
          </p:grpSpPr>
          <p:grpSp>
            <p:nvGrpSpPr>
              <p:cNvPr id="705" name=""/>
              <p:cNvGrpSpPr/>
              <p:nvPr/>
            </p:nvGrpSpPr>
            <p:grpSpPr>
              <a:xfrm>
                <a:off x="3735360" y="1904760"/>
                <a:ext cx="253800" cy="131400"/>
                <a:chOff x="3735360" y="1904760"/>
                <a:chExt cx="253800" cy="13140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841920" y="1927440"/>
                  <a:ext cx="104400" cy="7596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933000" y="1909800"/>
                  <a:ext cx="21960" cy="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835800" y="1909080"/>
                  <a:ext cx="117000" cy="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807720" y="1959480"/>
                  <a:ext cx="7812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735360" y="1904760"/>
                  <a:ext cx="253800" cy="97560"/>
                </a:xfrm>
                <a:prstGeom prst="parallelogram">
                  <a:avLst>
                    <a:gd name="adj" fmla="val 65037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903120" y="2001240"/>
                  <a:ext cx="41760" cy="3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941280" y="1975680"/>
                  <a:ext cx="41760" cy="3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19207200">
                  <a:off x="3902760" y="1982160"/>
                  <a:ext cx="7812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4" name=""/>
              <p:cNvSpPr/>
              <p:nvPr/>
            </p:nvSpPr>
            <p:spPr>
              <a:xfrm>
                <a:off x="3788640" y="1895400"/>
                <a:ext cx="20052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579960" y="1085040"/>
            <a:ext cx="4964760" cy="3358080"/>
            <a:chOff x="579960" y="1085040"/>
            <a:chExt cx="4964760" cy="3358080"/>
          </a:xfrm>
        </p:grpSpPr>
        <p:grpSp>
          <p:nvGrpSpPr>
            <p:cNvPr id="716" name=""/>
            <p:cNvGrpSpPr/>
            <p:nvPr/>
          </p:nvGrpSpPr>
          <p:grpSpPr>
            <a:xfrm>
              <a:off x="768240" y="2342880"/>
              <a:ext cx="4740120" cy="1014480"/>
              <a:chOff x="768240" y="2342880"/>
              <a:chExt cx="4740120" cy="1014480"/>
            </a:xfrm>
          </p:grpSpPr>
          <p:sp>
            <p:nvSpPr>
              <p:cNvPr id="717" name=""/>
              <p:cNvSpPr/>
              <p:nvPr/>
            </p:nvSpPr>
            <p:spPr>
              <a:xfrm flipH="1">
                <a:off x="768240" y="2523960"/>
                <a:ext cx="542880" cy="83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1310760" y="2342880"/>
                <a:ext cx="10836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768240" y="3357360"/>
                <a:ext cx="45957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291280" y="3357360"/>
                <a:ext cx="217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768240" y="1184040"/>
              <a:ext cx="4740120" cy="1014480"/>
              <a:chOff x="768240" y="1184040"/>
              <a:chExt cx="4740120" cy="1014480"/>
            </a:xfrm>
          </p:grpSpPr>
          <p:sp>
            <p:nvSpPr>
              <p:cNvPr id="722" name=""/>
              <p:cNvSpPr/>
              <p:nvPr/>
            </p:nvSpPr>
            <p:spPr>
              <a:xfrm flipH="1">
                <a:off x="768240" y="1365120"/>
                <a:ext cx="542880" cy="83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1310760" y="1184040"/>
                <a:ext cx="10836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68240" y="2198520"/>
                <a:ext cx="45957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5291280" y="2198520"/>
                <a:ext cx="217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804600" y="3429000"/>
              <a:ext cx="4740120" cy="1014120"/>
              <a:chOff x="804600" y="3429000"/>
              <a:chExt cx="4740120" cy="101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804600" y="3610080"/>
                <a:ext cx="542520" cy="833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1347120" y="3429000"/>
                <a:ext cx="10836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804600" y="4443120"/>
                <a:ext cx="4595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5327640" y="4443120"/>
                <a:ext cx="217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 txBox="1"/>
            <p:nvPr/>
          </p:nvSpPr>
          <p:spPr>
            <a:xfrm rot="18167400">
              <a:off x="386640" y="1546560"/>
              <a:ext cx="120636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erminologic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 rot="18167400">
              <a:off x="430920" y="2750040"/>
              <a:ext cx="11109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Intension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 rot="18167400">
              <a:off x="452520" y="3828600"/>
              <a:ext cx="1152360" cy="12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Extension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533520" y="-76320"/>
            <a:ext cx="4952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Appropriateness</a:t>
            </a:r>
            <a:br>
              <a:rPr sz="3000"/>
            </a:b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of RDFS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564920" y="3103560"/>
            <a:ext cx="2641680" cy="1085760"/>
            <a:chOff x="1564920" y="3103560"/>
            <a:chExt cx="2641680" cy="1085760"/>
          </a:xfrm>
        </p:grpSpPr>
        <p:sp>
          <p:nvSpPr>
            <p:cNvPr id="736" name=""/>
            <p:cNvSpPr/>
            <p:nvPr/>
          </p:nvSpPr>
          <p:spPr>
            <a:xfrm flipH="1">
              <a:off x="2181240" y="3352680"/>
              <a:ext cx="40968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2587680" y="3124080"/>
              <a:ext cx="155520" cy="23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469960" y="3357720"/>
              <a:ext cx="215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2685600" y="3139920"/>
              <a:ext cx="10980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2323800" y="3357720"/>
              <a:ext cx="398520" cy="83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2722680" y="3103560"/>
              <a:ext cx="109440" cy="254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577600" y="3357720"/>
              <a:ext cx="1810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758680" y="3139920"/>
              <a:ext cx="7308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651040" y="3357720"/>
              <a:ext cx="14472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2795400" y="3139920"/>
              <a:ext cx="3636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3373560" y="3139920"/>
              <a:ext cx="10944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1565280" y="3355920"/>
              <a:ext cx="32544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1890720" y="3174840"/>
              <a:ext cx="10800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64920" y="3355920"/>
              <a:ext cx="6145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2179800" y="3174840"/>
              <a:ext cx="21744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3952440" y="3355920"/>
              <a:ext cx="144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096800" y="3174840"/>
              <a:ext cx="7308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916440" y="3343320"/>
              <a:ext cx="21744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4133520" y="3162240"/>
              <a:ext cx="7308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3772080" y="3379680"/>
              <a:ext cx="28872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060440" y="3162240"/>
              <a:ext cx="73080" cy="217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120840" y="3357720"/>
              <a:ext cx="2523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093680" y="2451240"/>
            <a:ext cx="4407120" cy="745560"/>
            <a:chOff x="1093680" y="2451240"/>
            <a:chExt cx="4407120" cy="745560"/>
          </a:xfrm>
        </p:grpSpPr>
        <p:grpSp>
          <p:nvGrpSpPr>
            <p:cNvPr id="759" name=""/>
            <p:cNvGrpSpPr/>
            <p:nvPr/>
          </p:nvGrpSpPr>
          <p:grpSpPr>
            <a:xfrm>
              <a:off x="1093680" y="2523960"/>
              <a:ext cx="1809360" cy="658440"/>
              <a:chOff x="1093680" y="2523960"/>
              <a:chExt cx="1809360" cy="658440"/>
            </a:xfrm>
          </p:grpSpPr>
          <p:sp>
            <p:nvSpPr>
              <p:cNvPr id="760" name=""/>
              <p:cNvSpPr/>
              <p:nvPr/>
            </p:nvSpPr>
            <p:spPr>
              <a:xfrm flipV="1">
                <a:off x="2396520" y="2835000"/>
                <a:ext cx="14472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2541240" y="2835000"/>
                <a:ext cx="28944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>
                <a:off x="2179440" y="2545200"/>
                <a:ext cx="43416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1600200" y="2835000"/>
                <a:ext cx="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2034720" y="2871000"/>
                <a:ext cx="50652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1202040" y="2835000"/>
                <a:ext cx="43416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1636560" y="2581560"/>
                <a:ext cx="50652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1491840" y="2777400"/>
                <a:ext cx="253440" cy="129960"/>
                <a:chOff x="1491840" y="2777400"/>
                <a:chExt cx="253440" cy="12996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1491840" y="278424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553760" y="277740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2071080" y="2523960"/>
                <a:ext cx="253080" cy="129960"/>
                <a:chOff x="2071080" y="2523960"/>
                <a:chExt cx="253080" cy="12996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2071080" y="253080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133000" y="252396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2432880" y="2799000"/>
                <a:ext cx="253440" cy="129960"/>
                <a:chOff x="2432880" y="2799000"/>
                <a:chExt cx="253440" cy="12996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432880" y="280584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494800" y="279900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1093680" y="3052440"/>
                <a:ext cx="253440" cy="129960"/>
                <a:chOff x="1093680" y="3052440"/>
                <a:chExt cx="253440" cy="12996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093680" y="305928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155600" y="305244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1455480" y="3052440"/>
                <a:ext cx="253080" cy="129960"/>
                <a:chOff x="1455480" y="3052440"/>
                <a:chExt cx="253080" cy="12996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455480" y="305928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517400" y="305244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1926000" y="3052440"/>
                <a:ext cx="253440" cy="129960"/>
                <a:chOff x="1926000" y="3052440"/>
                <a:chExt cx="253440" cy="12996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1926000" y="305928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987920" y="305244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2288160" y="3052440"/>
                <a:ext cx="253080" cy="129960"/>
                <a:chOff x="2288160" y="3052440"/>
                <a:chExt cx="253080" cy="12996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2288160" y="305928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350080" y="305244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2649960" y="3052440"/>
                <a:ext cx="253080" cy="129960"/>
                <a:chOff x="2649960" y="3052440"/>
                <a:chExt cx="253080" cy="1299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2649960" y="305928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711880" y="305244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1" name=""/>
            <p:cNvGrpSpPr/>
            <p:nvPr/>
          </p:nvGrpSpPr>
          <p:grpSpPr>
            <a:xfrm>
              <a:off x="3157560" y="2451240"/>
              <a:ext cx="2343240" cy="745560"/>
              <a:chOff x="3157560" y="2451240"/>
              <a:chExt cx="2343240" cy="745560"/>
            </a:xfrm>
          </p:grpSpPr>
          <p:sp>
            <p:nvSpPr>
              <p:cNvPr id="792" name=""/>
              <p:cNvSpPr/>
              <p:nvPr/>
            </p:nvSpPr>
            <p:spPr>
              <a:xfrm flipH="1">
                <a:off x="4205880" y="2523600"/>
                <a:ext cx="289080" cy="61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482640" y="2813400"/>
                <a:ext cx="867960" cy="3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495680" y="2523600"/>
                <a:ext cx="68724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350960" y="2849400"/>
                <a:ext cx="68724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4170240" y="2451240"/>
                <a:ext cx="643320" cy="129960"/>
                <a:chOff x="4170240" y="2451240"/>
                <a:chExt cx="643320" cy="12996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170240" y="2457360"/>
                  <a:ext cx="643320" cy="108360"/>
                  <a:chOff x="4170240" y="2457360"/>
                  <a:chExt cx="643320" cy="10836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247640" y="25124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4170240" y="24724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4363560" y="24573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632840" y="24724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2" name=""/>
                <p:cNvSpPr/>
                <p:nvPr/>
              </p:nvSpPr>
              <p:spPr>
                <a:xfrm>
                  <a:off x="4436640" y="24512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4025520" y="2755440"/>
                <a:ext cx="643320" cy="129960"/>
                <a:chOff x="4025520" y="2755440"/>
                <a:chExt cx="643320" cy="129960"/>
              </a:xfrm>
            </p:grpSpPr>
            <p:grpSp>
              <p:nvGrpSpPr>
                <p:cNvPr id="804" name=""/>
                <p:cNvGrpSpPr/>
                <p:nvPr/>
              </p:nvGrpSpPr>
              <p:grpSpPr>
                <a:xfrm>
                  <a:off x="4025520" y="2761560"/>
                  <a:ext cx="643320" cy="108360"/>
                  <a:chOff x="4025520" y="2761560"/>
                  <a:chExt cx="643320" cy="10836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4102920" y="28166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4025520" y="27766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4218840" y="27615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4488120" y="27766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9" name=""/>
                <p:cNvSpPr/>
                <p:nvPr/>
              </p:nvSpPr>
              <p:spPr>
                <a:xfrm>
                  <a:off x="4291920" y="27554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3157560" y="3066840"/>
                <a:ext cx="643320" cy="129960"/>
                <a:chOff x="3157560" y="3066840"/>
                <a:chExt cx="643320" cy="129960"/>
              </a:xfrm>
            </p:grpSpPr>
            <p:grpSp>
              <p:nvGrpSpPr>
                <p:cNvPr id="811" name=""/>
                <p:cNvGrpSpPr/>
                <p:nvPr/>
              </p:nvGrpSpPr>
              <p:grpSpPr>
                <a:xfrm>
                  <a:off x="3157560" y="3072960"/>
                  <a:ext cx="643320" cy="108360"/>
                  <a:chOff x="3157560" y="3072960"/>
                  <a:chExt cx="643320" cy="10836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>
                    <a:off x="3234960" y="31280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31575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350880" y="30729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36201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" name=""/>
                <p:cNvSpPr/>
                <p:nvPr/>
              </p:nvSpPr>
              <p:spPr>
                <a:xfrm>
                  <a:off x="3423960" y="30668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3880800" y="3066840"/>
                <a:ext cx="643320" cy="129960"/>
                <a:chOff x="3880800" y="3066840"/>
                <a:chExt cx="643320" cy="129960"/>
              </a:xfrm>
            </p:grpSpPr>
            <p:grpSp>
              <p:nvGrpSpPr>
                <p:cNvPr id="818" name=""/>
                <p:cNvGrpSpPr/>
                <p:nvPr/>
              </p:nvGrpSpPr>
              <p:grpSpPr>
                <a:xfrm>
                  <a:off x="3880800" y="3072960"/>
                  <a:ext cx="643320" cy="108360"/>
                  <a:chOff x="3880800" y="3072960"/>
                  <a:chExt cx="643320" cy="10836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>
                    <a:off x="3958200" y="31280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88080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4074120" y="30729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434340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>
                  <a:off x="4147200" y="30668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4611960" y="3066840"/>
                <a:ext cx="643320" cy="129960"/>
                <a:chOff x="4611960" y="3066840"/>
                <a:chExt cx="643320" cy="12996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4611960" y="3072960"/>
                  <a:ext cx="643320" cy="108360"/>
                  <a:chOff x="4611960" y="3072960"/>
                  <a:chExt cx="643320" cy="1083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4689360" y="31280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46119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4805280" y="30729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50745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0" name=""/>
                <p:cNvSpPr/>
                <p:nvPr/>
              </p:nvSpPr>
              <p:spPr>
                <a:xfrm>
                  <a:off x="4878360" y="30668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4857480" y="2751120"/>
                <a:ext cx="643320" cy="129960"/>
                <a:chOff x="4857480" y="2751120"/>
                <a:chExt cx="643320" cy="129960"/>
              </a:xfrm>
            </p:grpSpPr>
            <p:grpSp>
              <p:nvGrpSpPr>
                <p:cNvPr id="832" name=""/>
                <p:cNvGrpSpPr/>
                <p:nvPr/>
              </p:nvGrpSpPr>
              <p:grpSpPr>
                <a:xfrm>
                  <a:off x="4857480" y="2757240"/>
                  <a:ext cx="643320" cy="108360"/>
                  <a:chOff x="4857480" y="2757240"/>
                  <a:chExt cx="643320" cy="10836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4934880" y="281232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857480" y="277236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050800" y="275724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320080" y="277236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7" name=""/>
                <p:cNvSpPr/>
                <p:nvPr/>
              </p:nvSpPr>
              <p:spPr>
                <a:xfrm>
                  <a:off x="5123880" y="275112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38" name=""/>
          <p:cNvGrpSpPr/>
          <p:nvPr/>
        </p:nvGrpSpPr>
        <p:grpSpPr>
          <a:xfrm>
            <a:off x="1238400" y="1619280"/>
            <a:ext cx="3184200" cy="1484280"/>
            <a:chOff x="1238400" y="1619280"/>
            <a:chExt cx="3184200" cy="1484280"/>
          </a:xfrm>
        </p:grpSpPr>
        <p:sp>
          <p:nvSpPr>
            <p:cNvPr id="839" name=""/>
            <p:cNvSpPr/>
            <p:nvPr/>
          </p:nvSpPr>
          <p:spPr>
            <a:xfrm flipH="1">
              <a:off x="1238400" y="2198520"/>
              <a:ext cx="39816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1636200" y="1800360"/>
              <a:ext cx="181080" cy="39816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1238400" y="2198520"/>
              <a:ext cx="6523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1890720" y="1619280"/>
              <a:ext cx="396720" cy="5792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2142720" y="2198520"/>
              <a:ext cx="2905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2468520" y="2198520"/>
              <a:ext cx="367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2433240" y="1981080"/>
              <a:ext cx="71640" cy="2174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505240" y="1981080"/>
              <a:ext cx="0" cy="2174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25880" y="1619280"/>
              <a:ext cx="252360" cy="5792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41640" y="2003400"/>
              <a:ext cx="73080" cy="1810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78240" y="2198520"/>
              <a:ext cx="144360" cy="31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19400" y="2189160"/>
              <a:ext cx="263520" cy="615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1479600" y="114480"/>
            <a:ext cx="7969320" cy="2255760"/>
            <a:chOff x="1479600" y="114480"/>
            <a:chExt cx="7969320" cy="2255760"/>
          </a:xfrm>
        </p:grpSpPr>
        <p:sp>
          <p:nvSpPr>
            <p:cNvPr id="852" name=""/>
            <p:cNvSpPr/>
            <p:nvPr/>
          </p:nvSpPr>
          <p:spPr>
            <a:xfrm>
              <a:off x="5272200" y="114480"/>
              <a:ext cx="417672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Department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OrganizationPar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Organization part which is a sub division of of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Research Direction, corresponding to sub inter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field e.g mobile 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department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division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1479600" y="1206360"/>
              <a:ext cx="3854160" cy="1163880"/>
              <a:chOff x="1479600" y="1206360"/>
              <a:chExt cx="3854160" cy="1163880"/>
            </a:xfrm>
          </p:grpSpPr>
          <p:grpSp>
            <p:nvGrpSpPr>
              <p:cNvPr id="854" name=""/>
              <p:cNvGrpSpPr/>
              <p:nvPr/>
            </p:nvGrpSpPr>
            <p:grpSpPr>
              <a:xfrm>
                <a:off x="1479600" y="1282680"/>
                <a:ext cx="3854160" cy="1087560"/>
                <a:chOff x="1479600" y="1282680"/>
                <a:chExt cx="3854160" cy="108756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479600" y="2262240"/>
                  <a:ext cx="434880" cy="108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1923840" y="1365120"/>
                  <a:ext cx="833400" cy="9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2757240" y="1365120"/>
                  <a:ext cx="250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297400" y="1282680"/>
                  <a:ext cx="36360" cy="181080"/>
                </a:xfrm>
                <a:custGeom>
                  <a:avLst/>
                  <a:gdLst>
                    <a:gd name="textAreaLeft" fmla="*/ 23400 w 36360"/>
                    <a:gd name="textAreaRight" fmla="*/ 36720 w 36360"/>
                    <a:gd name="textAreaTop" fmla="*/ 4680 h 181080"/>
                    <a:gd name="textAreaBottom" fmla="*/ 176400 h 1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" name=""/>
              <p:cNvSpPr/>
              <p:nvPr/>
            </p:nvSpPr>
            <p:spPr>
              <a:xfrm>
                <a:off x="2685960" y="1206360"/>
                <a:ext cx="83196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urier New"/>
                  </a:rPr>
                  <a:t>Synonym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2287440" y="2082960"/>
            <a:ext cx="7008840" cy="2884320"/>
            <a:chOff x="2287440" y="2082960"/>
            <a:chExt cx="7008840" cy="2884320"/>
          </a:xfrm>
        </p:grpSpPr>
        <p:sp>
          <p:nvSpPr>
            <p:cNvPr id="861" name=""/>
            <p:cNvSpPr/>
            <p:nvPr/>
          </p:nvSpPr>
          <p:spPr>
            <a:xfrm>
              <a:off x="5656320" y="2082960"/>
              <a:ext cx="363996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E-Mai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Mail sent in electronic format over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computerized world-wide communication syst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e-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electronic m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                        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PostMai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Mail transmitted via the post off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post 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2287440" y="2278080"/>
              <a:ext cx="3579480" cy="2331720"/>
              <a:chOff x="2287440" y="2278080"/>
              <a:chExt cx="3579480" cy="2331720"/>
            </a:xfrm>
          </p:grpSpPr>
          <p:grpSp>
            <p:nvGrpSpPr>
              <p:cNvPr id="863" name=""/>
              <p:cNvGrpSpPr/>
              <p:nvPr/>
            </p:nvGrpSpPr>
            <p:grpSpPr>
              <a:xfrm>
                <a:off x="2287440" y="2379600"/>
                <a:ext cx="3579480" cy="2230200"/>
                <a:chOff x="2287440" y="2379600"/>
                <a:chExt cx="3579480" cy="223020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2287440" y="2379600"/>
                  <a:ext cx="289080" cy="108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585880" y="2436840"/>
                  <a:ext cx="304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5638320" y="2436840"/>
                  <a:ext cx="228600" cy="103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5638320" y="2476080"/>
                  <a:ext cx="15228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"/>
              <p:cNvSpPr/>
              <p:nvPr/>
            </p:nvSpPr>
            <p:spPr>
              <a:xfrm>
                <a:off x="2516040" y="2278080"/>
                <a:ext cx="108576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urier New"/>
                  </a:rPr>
                  <a:t>Ambigu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DC5F-094F-4AFF-9C61-687CFB4507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RDF Extensions and Interface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Need for extension</a:t>
            </a:r>
            <a:r>
              <a:rPr b="0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:</a:t>
            </a:r>
            <a:br>
              <a:rPr sz="3000"/>
            </a:b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ormal definitions for concepts / properti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Multi-modal (redundancy / common know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Newcomer (fuzzy / tunabl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olleague (term, concept, property, defined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Need for interface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Hide top: not interest. &amp; p.b. of commitment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low levels = day-to-day consensu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Profiles and terminology in browsing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erminology &amp; several languages/jarg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EFC3-AACF-43F2-904D-54677CCF920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Visualization: Web technique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876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85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886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87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889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890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92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1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913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8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919" name="" descr=""/>
          <p:cNvPicPr/>
          <p:nvPr/>
        </p:nvPicPr>
        <p:blipFill>
          <a:blip r:embed="rId6"/>
          <a:stretch/>
        </p:blipFill>
        <p:spPr>
          <a:xfrm>
            <a:off x="3651120" y="3949560"/>
            <a:ext cx="5340600" cy="15526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b) From semi-informal to semi-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c) RD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7160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d) Browsing and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926" name="" descr=""/>
            <p:cNvPicPr/>
            <p:nvPr/>
          </p:nvPicPr>
          <p:blipFill>
            <a:blip r:embed="rId7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27" name="" descr=""/>
            <p:cNvPicPr/>
            <p:nvPr/>
          </p:nvPicPr>
          <p:blipFill>
            <a:blip r:embed="rId8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28" name="" descr=""/>
            <p:cNvPicPr/>
            <p:nvPr/>
          </p:nvPicPr>
          <p:blipFill>
            <a:blip r:embed="rId9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"/>
          <p:cNvGrpSpPr/>
          <p:nvPr/>
        </p:nvGrpSpPr>
        <p:grpSpPr>
          <a:xfrm>
            <a:off x="3048120" y="2095560"/>
            <a:ext cx="228600" cy="1714320"/>
            <a:chOff x="3048120" y="2095560"/>
            <a:chExt cx="228600" cy="1714320"/>
          </a:xfrm>
        </p:grpSpPr>
        <p:sp>
          <p:nvSpPr>
            <p:cNvPr id="930" name=""/>
            <p:cNvSpPr/>
            <p:nvPr/>
          </p:nvSpPr>
          <p:spPr>
            <a:xfrm>
              <a:off x="3073320" y="209556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48120" y="2362320"/>
              <a:ext cx="228600" cy="1447560"/>
            </a:xfrm>
            <a:prstGeom prst="downArrow">
              <a:avLst>
                <a:gd name="adj1" fmla="val 50000"/>
                <a:gd name="adj2" fmla="val 11386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3060720" y="4114800"/>
            <a:ext cx="228600" cy="1409760"/>
            <a:chOff x="3060720" y="4114800"/>
            <a:chExt cx="228600" cy="1409760"/>
          </a:xfrm>
        </p:grpSpPr>
        <p:sp>
          <p:nvSpPr>
            <p:cNvPr id="933" name=""/>
            <p:cNvSpPr/>
            <p:nvPr/>
          </p:nvSpPr>
          <p:spPr>
            <a:xfrm>
              <a:off x="3085920" y="411480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060720" y="4343400"/>
              <a:ext cx="228600" cy="1181160"/>
            </a:xfrm>
            <a:prstGeom prst="downArrow">
              <a:avLst>
                <a:gd name="adj1" fmla="val 50000"/>
                <a:gd name="adj2" fmla="val 9290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936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2124000" y="1057320"/>
            <a:ext cx="619200" cy="466560"/>
            <a:chOff x="2124000" y="1057320"/>
            <a:chExt cx="619200" cy="466560"/>
          </a:xfrm>
        </p:grpSpPr>
        <p:sp>
          <p:nvSpPr>
            <p:cNvPr id="939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762120" y="69516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')Reuse &amp;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0"/>
          <a:stretch/>
        </p:blipFill>
        <p:spPr>
          <a:xfrm>
            <a:off x="3638520" y="5591160"/>
            <a:ext cx="5353200" cy="62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6747-D982-4AFC-9EAB-383BBC3BBF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From term to no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Terminological access to the ontology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1219320" y="914400"/>
            <a:ext cx="7010280" cy="1295280"/>
            <a:chOff x="1219320" y="914400"/>
            <a:chExt cx="7010280" cy="1295280"/>
          </a:xfrm>
        </p:grpSpPr>
        <p:sp>
          <p:nvSpPr>
            <p:cNvPr id="946" name=""/>
            <p:cNvSpPr/>
            <p:nvPr/>
          </p:nvSpPr>
          <p:spPr>
            <a:xfrm>
              <a:off x="1219320" y="914400"/>
              <a:ext cx="701028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7" name="Capture01" descr=""/>
            <p:cNvPicPr/>
            <p:nvPr/>
          </p:nvPicPr>
          <p:blipFill>
            <a:blip r:embed="rId1"/>
            <a:stretch/>
          </p:blipFill>
          <p:spPr>
            <a:xfrm>
              <a:off x="1828800" y="1076400"/>
              <a:ext cx="5353200" cy="98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8" name=""/>
          <p:cNvGrpSpPr/>
          <p:nvPr/>
        </p:nvGrpSpPr>
        <p:grpSpPr>
          <a:xfrm>
            <a:off x="4048200" y="1504800"/>
            <a:ext cx="1095480" cy="254880"/>
            <a:chOff x="4048200" y="1504800"/>
            <a:chExt cx="1095480" cy="254880"/>
          </a:xfrm>
        </p:grpSpPr>
        <p:sp>
          <p:nvSpPr>
            <p:cNvPr id="949" name=""/>
            <p:cNvSpPr/>
            <p:nvPr/>
          </p:nvSpPr>
          <p:spPr>
            <a:xfrm>
              <a:off x="4076640" y="1549440"/>
              <a:ext cx="1067040" cy="16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48200" y="1504800"/>
              <a:ext cx="533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19320" y="2286000"/>
            <a:ext cx="7010280" cy="3962520"/>
            <a:chOff x="1219320" y="2286000"/>
            <a:chExt cx="7010280" cy="3962520"/>
          </a:xfrm>
        </p:grpSpPr>
        <p:sp>
          <p:nvSpPr>
            <p:cNvPr id="952" name=""/>
            <p:cNvSpPr/>
            <p:nvPr/>
          </p:nvSpPr>
          <p:spPr>
            <a:xfrm>
              <a:off x="4419720" y="228600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219320" y="2819520"/>
              <a:ext cx="701028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4" name="Capture02" descr=""/>
            <p:cNvPicPr/>
            <p:nvPr/>
          </p:nvPicPr>
          <p:blipFill>
            <a:blip r:embed="rId2"/>
            <a:stretch/>
          </p:blipFill>
          <p:spPr>
            <a:xfrm>
              <a:off x="1295280" y="2895480"/>
              <a:ext cx="6848640" cy="329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77B4-EB61-4931-AB04-D83849AA09A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Select a Concept in English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lect a Concept (in English)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957" name="Capture03" descr=""/>
          <p:cNvPicPr/>
          <p:nvPr/>
        </p:nvPicPr>
        <p:blipFill>
          <a:blip r:embed="rId1"/>
          <a:stretch/>
        </p:blipFill>
        <p:spPr>
          <a:xfrm>
            <a:off x="1600200" y="627120"/>
            <a:ext cx="5867280" cy="567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96F6-5286-4DDC-A294-231BEB44646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Select a Concept in French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lect a Concept (in French)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960" name="Capture04" descr=""/>
          <p:cNvPicPr/>
          <p:nvPr/>
        </p:nvPicPr>
        <p:blipFill>
          <a:blip r:embed="rId1"/>
          <a:stretch/>
        </p:blipFill>
        <p:spPr>
          <a:xfrm>
            <a:off x="1600200" y="622440"/>
            <a:ext cx="5943600" cy="5664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8C88-BFB1-4AC6-98F2-EE25E1FA94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Rel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lect a relation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963" name="Capture05" descr=""/>
          <p:cNvPicPr/>
          <p:nvPr/>
        </p:nvPicPr>
        <p:blipFill>
          <a:blip r:embed="rId1"/>
          <a:stretch/>
        </p:blipFill>
        <p:spPr>
          <a:xfrm>
            <a:off x="1486080" y="752400"/>
            <a:ext cx="6895800" cy="5419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283F-65FC-4339-88EB-B761EED7F6D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Taxonomy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Browse the taxonomy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966" name="Capture06" descr=""/>
          <p:cNvPicPr/>
          <p:nvPr/>
        </p:nvPicPr>
        <p:blipFill>
          <a:blip r:embed="rId1"/>
          <a:stretch/>
        </p:blipFill>
        <p:spPr>
          <a:xfrm>
            <a:off x="1676520" y="549360"/>
            <a:ext cx="6095880" cy="5753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2ABC-BF55-4238-9719-2088EE15537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oMMA ? 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-7668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What is it ?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IST Project - Funded by E. C.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What for ?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  Provide a corporate memory management framework (2 scenarios)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Assistance of integration of newcomer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Support technology monitoring proces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89160" y="2416320"/>
            <a:ext cx="6661080" cy="3766320"/>
            <a:chOff x="1289160" y="2416320"/>
            <a:chExt cx="6661080" cy="3766320"/>
          </a:xfrm>
        </p:grpSpPr>
        <p:grpSp>
          <p:nvGrpSpPr>
            <p:cNvPr id="91" name=""/>
            <p:cNvGrpSpPr/>
            <p:nvPr/>
          </p:nvGrpSpPr>
          <p:grpSpPr>
            <a:xfrm>
              <a:off x="1289160" y="2416320"/>
              <a:ext cx="6661080" cy="3733200"/>
              <a:chOff x="1289160" y="2416320"/>
              <a:chExt cx="6661080" cy="3733200"/>
            </a:xfrm>
          </p:grpSpPr>
          <p:sp>
            <p:nvSpPr>
              <p:cNvPr id="92" name=""/>
              <p:cNvSpPr/>
              <p:nvPr/>
            </p:nvSpPr>
            <p:spPr>
              <a:xfrm>
                <a:off x="1289160" y="2416320"/>
                <a:ext cx="6661080" cy="373320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3959640" y="2484000"/>
                <a:ext cx="1419840" cy="3563280"/>
                <a:chOff x="3959640" y="2484000"/>
                <a:chExt cx="1419840" cy="35632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959640" y="2619000"/>
                  <a:ext cx="1285560" cy="3428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095360" y="2484000"/>
                  <a:ext cx="1284120" cy="204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Corporate Memo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980000" y="3637800"/>
                <a:ext cx="5598000" cy="848160"/>
                <a:chOff x="1980000" y="3637800"/>
                <a:chExt cx="5598000" cy="848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980000" y="3710520"/>
                  <a:ext cx="5478480" cy="7750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104880" y="3637800"/>
                  <a:ext cx="1473120" cy="2030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Multi-Agents Syste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296680" y="3783960"/>
                  <a:ext cx="676080" cy="1350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Learnin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999080" y="4201920"/>
                  <a:ext cx="573840" cy="20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Use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336400" y="3827160"/>
                  <a:ext cx="709920" cy="149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Learnin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41640" y="3904200"/>
                  <a:ext cx="266760" cy="2674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03" name=""/>
                <p:cNvGrpSpPr/>
                <p:nvPr/>
              </p:nvGrpSpPr>
              <p:grpSpPr>
                <a:xfrm>
                  <a:off x="5379840" y="3909600"/>
                  <a:ext cx="778320" cy="542160"/>
                  <a:chOff x="5379840" y="3909600"/>
                  <a:chExt cx="778320" cy="54216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5379840" y="4216320"/>
                    <a:ext cx="778320" cy="23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Interest Group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5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6720" y="3909600"/>
                    <a:ext cx="267120" cy="2674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106" name=""/>
                <p:cNvSpPr/>
                <p:nvPr/>
              </p:nvSpPr>
              <p:spPr>
                <a:xfrm>
                  <a:off x="3959640" y="3712320"/>
                  <a:ext cx="1285560" cy="7736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7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18680" y="3947400"/>
                  <a:ext cx="266760" cy="2674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>
                  <a:off x="2877840" y="4249440"/>
                  <a:ext cx="777960" cy="20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Ontology and Models 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158160" y="4246560"/>
                  <a:ext cx="709920" cy="20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Use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563520" y="3871800"/>
                  <a:ext cx="709920" cy="138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Learning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1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68760" y="3948840"/>
                  <a:ext cx="266760" cy="2674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12" name=""/>
                <p:cNvGrpSpPr/>
                <p:nvPr/>
              </p:nvGrpSpPr>
              <p:grpSpPr>
                <a:xfrm>
                  <a:off x="3554280" y="3749760"/>
                  <a:ext cx="777960" cy="540720"/>
                  <a:chOff x="3554280" y="3749760"/>
                  <a:chExt cx="777960" cy="540720"/>
                </a:xfrm>
              </p:grpSpPr>
              <p:pic>
                <p:nvPicPr>
                  <p:cNvPr id="113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90800" y="3749760"/>
                    <a:ext cx="267120" cy="26784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114" name=""/>
                  <p:cNvSpPr/>
                  <p:nvPr/>
                </p:nvSpPr>
                <p:spPr>
                  <a:xfrm>
                    <a:off x="3554280" y="4055040"/>
                    <a:ext cx="777960" cy="23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Interconnect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5" name=""/>
            <p:cNvGrpSpPr/>
            <p:nvPr/>
          </p:nvGrpSpPr>
          <p:grpSpPr>
            <a:xfrm>
              <a:off x="1423440" y="4520160"/>
              <a:ext cx="943920" cy="1322640"/>
              <a:chOff x="1423440" y="4520160"/>
              <a:chExt cx="943920" cy="1322640"/>
            </a:xfrm>
          </p:grpSpPr>
          <p:sp>
            <p:nvSpPr>
              <p:cNvPr id="116" name=""/>
              <p:cNvSpPr/>
              <p:nvPr/>
            </p:nvSpPr>
            <p:spPr>
              <a:xfrm>
                <a:off x="1423440" y="5334480"/>
                <a:ext cx="92088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Knowled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ngine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1998720" y="4520160"/>
                <a:ext cx="368640" cy="1005840"/>
                <a:chOff x="1998720" y="4520160"/>
                <a:chExt cx="368640" cy="100584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1998720" y="4520160"/>
                  <a:ext cx="181080" cy="83520"/>
                  <a:chOff x="1998720" y="4520160"/>
                  <a:chExt cx="181080" cy="835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1998720" y="4583160"/>
                    <a:ext cx="442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043000" y="4528800"/>
                    <a:ext cx="194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105640" y="4520160"/>
                    <a:ext cx="16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140200" y="4552200"/>
                    <a:ext cx="396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2062800" y="4579560"/>
                  <a:ext cx="304560" cy="946440"/>
                  <a:chOff x="2062800" y="4579560"/>
                  <a:chExt cx="304560" cy="9464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2117880" y="4735440"/>
                    <a:ext cx="15300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2227320" y="4579560"/>
                    <a:ext cx="13608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2062800" y="4919400"/>
                    <a:ext cx="122760" cy="22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2162880" y="4908960"/>
                    <a:ext cx="11520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2129040" y="5131080"/>
                    <a:ext cx="87480" cy="39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2223720" y="5131080"/>
                    <a:ext cx="14364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30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32200" y="4572360"/>
                  <a:ext cx="114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1" name=""/>
            <p:cNvGrpSpPr/>
            <p:nvPr/>
          </p:nvGrpSpPr>
          <p:grpSpPr>
            <a:xfrm>
              <a:off x="1356840" y="2483640"/>
              <a:ext cx="1521000" cy="1221480"/>
              <a:chOff x="1356840" y="2483640"/>
              <a:chExt cx="1521000" cy="1221480"/>
            </a:xfrm>
          </p:grpSpPr>
          <p:sp>
            <p:nvSpPr>
              <p:cNvPr id="132" name=""/>
              <p:cNvSpPr/>
              <p:nvPr/>
            </p:nvSpPr>
            <p:spPr>
              <a:xfrm>
                <a:off x="1356840" y="3399480"/>
                <a:ext cx="1521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uthor and/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nnotator of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829880" y="2483640"/>
                <a:ext cx="675720" cy="1049760"/>
                <a:chOff x="1829880" y="2483640"/>
                <a:chExt cx="675720" cy="104976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2065680" y="2865240"/>
                  <a:ext cx="408960" cy="668160"/>
                  <a:chOff x="2065680" y="2865240"/>
                  <a:chExt cx="408960" cy="66816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2244960" y="3087360"/>
                    <a:ext cx="9540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2282040" y="3297240"/>
                    <a:ext cx="10872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138400" y="3285720"/>
                    <a:ext cx="13572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2065680" y="3087720"/>
                    <a:ext cx="18324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339640" y="2865240"/>
                    <a:ext cx="1350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207160" y="2902320"/>
                    <a:ext cx="105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2075400" y="2483640"/>
                  <a:ext cx="202680" cy="203760"/>
                  <a:chOff x="2075400" y="2483640"/>
                  <a:chExt cx="202680" cy="2037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2075400" y="2483640"/>
                    <a:ext cx="202680" cy="2037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3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98440" y="2502000"/>
                    <a:ext cx="168840" cy="16992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1829880" y="2588760"/>
                  <a:ext cx="218880" cy="237240"/>
                  <a:chOff x="1829880" y="2588760"/>
                  <a:chExt cx="218880" cy="2372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1829880" y="2588760"/>
                    <a:ext cx="218880" cy="2372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6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6720" y="2604600"/>
                    <a:ext cx="2026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1964880" y="2860560"/>
                  <a:ext cx="174960" cy="208800"/>
                  <a:chOff x="1964880" y="2860560"/>
                  <a:chExt cx="174960" cy="20880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1964880" y="2860560"/>
                    <a:ext cx="174960" cy="20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49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2520" y="2874600"/>
                    <a:ext cx="14292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2302920" y="2622960"/>
                  <a:ext cx="202680" cy="237600"/>
                  <a:chOff x="2302920" y="2622960"/>
                  <a:chExt cx="202680" cy="23760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2302920" y="2622960"/>
                    <a:ext cx="202680" cy="23760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2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07600" y="2651400"/>
                    <a:ext cx="19260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53" name=""/>
            <p:cNvGrpSpPr/>
            <p:nvPr/>
          </p:nvGrpSpPr>
          <p:grpSpPr>
            <a:xfrm>
              <a:off x="6732360" y="5165640"/>
              <a:ext cx="948240" cy="1017000"/>
              <a:chOff x="6732360" y="5165640"/>
              <a:chExt cx="948240" cy="1017000"/>
            </a:xfrm>
          </p:grpSpPr>
          <p:sp>
            <p:nvSpPr>
              <p:cNvPr id="154" name=""/>
              <p:cNvSpPr/>
              <p:nvPr/>
            </p:nvSpPr>
            <p:spPr>
              <a:xfrm>
                <a:off x="6732360" y="5971680"/>
                <a:ext cx="9482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nd Us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6868440" y="5232960"/>
                <a:ext cx="368640" cy="770040"/>
                <a:chOff x="6868440" y="5232960"/>
                <a:chExt cx="368640" cy="77004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6975360" y="5275800"/>
                  <a:ext cx="144000" cy="16776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7070760" y="5232960"/>
                  <a:ext cx="166320" cy="2696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6993720" y="5456160"/>
                  <a:ext cx="86400" cy="25308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6906960" y="5463360"/>
                  <a:ext cx="133200" cy="19404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6868440" y="5683680"/>
                  <a:ext cx="161280" cy="31428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7022160" y="5682960"/>
                  <a:ext cx="108360" cy="32004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239600" y="5165640"/>
                <a:ext cx="405720" cy="338040"/>
                <a:chOff x="7239600" y="5165640"/>
                <a:chExt cx="405720" cy="3380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239600" y="5165640"/>
                  <a:ext cx="405720" cy="33804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4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339320" y="5225400"/>
                  <a:ext cx="202680" cy="202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65" name=""/>
            <p:cNvGrpSpPr/>
            <p:nvPr/>
          </p:nvGrpSpPr>
          <p:grpSpPr>
            <a:xfrm>
              <a:off x="2506320" y="2833920"/>
              <a:ext cx="1386000" cy="769680"/>
              <a:chOff x="2506320" y="2833920"/>
              <a:chExt cx="1386000" cy="7696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06320" y="3239640"/>
                <a:ext cx="202680" cy="202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7" name=""/>
              <p:cNvGrpSpPr/>
              <p:nvPr/>
            </p:nvGrpSpPr>
            <p:grpSpPr>
              <a:xfrm>
                <a:off x="2742840" y="2833920"/>
                <a:ext cx="878760" cy="769680"/>
                <a:chOff x="2742840" y="2833920"/>
                <a:chExt cx="878760" cy="7696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742840" y="3060720"/>
                  <a:ext cx="878760" cy="54288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742840" y="2833920"/>
                  <a:ext cx="878760" cy="20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57960" y="3062880"/>
                  <a:ext cx="86364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080520" y="3261240"/>
                  <a:ext cx="27036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808360" y="2859840"/>
                  <a:ext cx="22572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689640" y="3230280"/>
                <a:ext cx="202680" cy="20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"/>
            <p:cNvGrpSpPr/>
            <p:nvPr/>
          </p:nvGrpSpPr>
          <p:grpSpPr>
            <a:xfrm>
              <a:off x="5311800" y="5199480"/>
              <a:ext cx="1454400" cy="848160"/>
              <a:chOff x="5311800" y="5199480"/>
              <a:chExt cx="1454400" cy="848160"/>
            </a:xfrm>
          </p:grpSpPr>
          <p:pic>
            <p:nvPicPr>
              <p:cNvPr id="17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311800" y="5606280"/>
                <a:ext cx="203760" cy="20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563520" y="5606280"/>
                <a:ext cx="202680" cy="203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" name=""/>
              <p:cNvGrpSpPr/>
              <p:nvPr/>
            </p:nvGrpSpPr>
            <p:grpSpPr>
              <a:xfrm>
                <a:off x="5548320" y="5199480"/>
                <a:ext cx="946800" cy="848160"/>
                <a:chOff x="5548320" y="5199480"/>
                <a:chExt cx="946800" cy="84816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5548320" y="5199480"/>
                  <a:ext cx="879120" cy="768960"/>
                  <a:chOff x="5548320" y="5199480"/>
                  <a:chExt cx="879120" cy="768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548320" y="5425920"/>
                    <a:ext cx="879120" cy="54252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548320" y="5199480"/>
                    <a:ext cx="879120" cy="20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563440" y="5428440"/>
                    <a:ext cx="864000" cy="29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86360" y="5626800"/>
                    <a:ext cx="270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3840" y="5225400"/>
                    <a:ext cx="225720" cy="1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581800" y="5233320"/>
                  <a:ext cx="879120" cy="769680"/>
                  <a:chOff x="5581800" y="5233320"/>
                  <a:chExt cx="879120" cy="7696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581800" y="5460120"/>
                    <a:ext cx="879120" cy="54288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581800" y="5233320"/>
                    <a:ext cx="879120" cy="20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596920" y="5462280"/>
                    <a:ext cx="864000" cy="2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19840" y="5660640"/>
                    <a:ext cx="270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47320" y="5259240"/>
                    <a:ext cx="225720" cy="16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616000" y="5277960"/>
                  <a:ext cx="879120" cy="769680"/>
                  <a:chOff x="5616000" y="5277960"/>
                  <a:chExt cx="879120" cy="7696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616000" y="5504760"/>
                    <a:ext cx="879120" cy="54288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616000" y="5277960"/>
                    <a:ext cx="879120" cy="2034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631120" y="5506920"/>
                    <a:ext cx="864000" cy="2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54040" y="5705280"/>
                    <a:ext cx="270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681520" y="5303880"/>
                    <a:ext cx="225720" cy="16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96" name=""/>
            <p:cNvGrpSpPr/>
            <p:nvPr/>
          </p:nvGrpSpPr>
          <p:grpSpPr>
            <a:xfrm>
              <a:off x="2540520" y="4622040"/>
              <a:ext cx="1857600" cy="577440"/>
              <a:chOff x="2540520" y="4622040"/>
              <a:chExt cx="1857600" cy="57744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540520" y="4860000"/>
                <a:ext cx="202320" cy="20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655800" y="4860000"/>
                <a:ext cx="202320" cy="202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9" name=""/>
              <p:cNvGrpSpPr/>
              <p:nvPr/>
            </p:nvGrpSpPr>
            <p:grpSpPr>
              <a:xfrm>
                <a:off x="2709000" y="4622040"/>
                <a:ext cx="863280" cy="577440"/>
                <a:chOff x="2709000" y="4622040"/>
                <a:chExt cx="863280" cy="577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844000" y="4655880"/>
                  <a:ext cx="574560" cy="54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1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979360" y="4854960"/>
                  <a:ext cx="270360" cy="271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" name=""/>
                <p:cNvSpPr/>
                <p:nvPr/>
              </p:nvSpPr>
              <p:spPr>
                <a:xfrm>
                  <a:off x="2709000" y="4622040"/>
                  <a:ext cx="8632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3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4129200" y="4826160"/>
                <a:ext cx="268920" cy="270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4" name=""/>
            <p:cNvGrpSpPr/>
            <p:nvPr/>
          </p:nvGrpSpPr>
          <p:grpSpPr>
            <a:xfrm>
              <a:off x="2358360" y="5261760"/>
              <a:ext cx="1398240" cy="752040"/>
              <a:chOff x="2358360" y="5261760"/>
              <a:chExt cx="1398240" cy="75204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2358360" y="5503680"/>
                <a:ext cx="1398240" cy="510120"/>
                <a:chOff x="2358360" y="5503680"/>
                <a:chExt cx="1398240" cy="5101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25680" y="5537520"/>
                  <a:ext cx="1148760" cy="47628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7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459520" y="571140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"/>
                <p:cNvSpPr/>
                <p:nvPr/>
              </p:nvSpPr>
              <p:spPr>
                <a:xfrm>
                  <a:off x="2358360" y="5503680"/>
                  <a:ext cx="641880" cy="21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e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616840" y="5673600"/>
                  <a:ext cx="1139760" cy="30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Enterprise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User's Profil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10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046680" y="5261760"/>
                <a:ext cx="202320" cy="20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"/>
            <p:cNvGrpSpPr/>
            <p:nvPr/>
          </p:nvGrpSpPr>
          <p:grpSpPr>
            <a:xfrm>
              <a:off x="3656160" y="5573160"/>
              <a:ext cx="912240" cy="304200"/>
              <a:chOff x="3656160" y="5573160"/>
              <a:chExt cx="912240" cy="304200"/>
            </a:xfrm>
          </p:grpSpPr>
          <p:pic>
            <p:nvPicPr>
              <p:cNvPr id="21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656160" y="5640840"/>
                <a:ext cx="202320" cy="20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263840" y="5573160"/>
                <a:ext cx="304560" cy="30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4" name=""/>
            <p:cNvGrpSpPr/>
            <p:nvPr/>
          </p:nvGrpSpPr>
          <p:grpSpPr>
            <a:xfrm>
              <a:off x="6800400" y="4540680"/>
              <a:ext cx="541440" cy="658440"/>
              <a:chOff x="6800400" y="4540680"/>
              <a:chExt cx="541440" cy="658440"/>
            </a:xfrm>
          </p:grpSpPr>
          <p:pic>
            <p:nvPicPr>
              <p:cNvPr id="21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6968880" y="4995000"/>
                <a:ext cx="202680" cy="204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6" name=""/>
              <p:cNvGrpSpPr/>
              <p:nvPr/>
            </p:nvGrpSpPr>
            <p:grpSpPr>
              <a:xfrm>
                <a:off x="6800400" y="4540680"/>
                <a:ext cx="541440" cy="417240"/>
                <a:chOff x="6800400" y="4540680"/>
                <a:chExt cx="541440" cy="417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834240" y="4584960"/>
                  <a:ext cx="473760" cy="372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800400" y="4540680"/>
                  <a:ext cx="541440" cy="29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Query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9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003440" y="4739400"/>
                  <a:ext cx="20304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20" name=""/>
            <p:cNvGrpSpPr/>
            <p:nvPr/>
          </p:nvGrpSpPr>
          <p:grpSpPr>
            <a:xfrm>
              <a:off x="4007160" y="2758320"/>
              <a:ext cx="1179360" cy="3039120"/>
              <a:chOff x="4007160" y="2758320"/>
              <a:chExt cx="1179360" cy="3039120"/>
            </a:xfrm>
          </p:grpSpPr>
          <p:pic>
            <p:nvPicPr>
              <p:cNvPr id="221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4830120" y="3281760"/>
                <a:ext cx="19404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4794120" y="3214080"/>
                <a:ext cx="19404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007160" y="2758320"/>
                <a:ext cx="300600" cy="28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4149720" y="5119560"/>
                <a:ext cx="358200" cy="3380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25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079160" y="3180600"/>
                <a:ext cx="25020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4686120" y="5050800"/>
                <a:ext cx="275760" cy="24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615920" y="4571640"/>
                <a:ext cx="372240" cy="35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457520" y="2791800"/>
                <a:ext cx="300240" cy="28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4866120" y="3315600"/>
                <a:ext cx="19404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900680" y="5527080"/>
                <a:ext cx="28584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435920" y="3315600"/>
                <a:ext cx="302040" cy="28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900680" y="2840760"/>
                <a:ext cx="285840" cy="27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3" name=""/>
            <p:cNvSpPr txBox="1"/>
            <p:nvPr/>
          </p:nvSpPr>
          <p:spPr>
            <a:xfrm>
              <a:off x="2438640" y="5267160"/>
              <a:ext cx="20268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3012840" y="2585160"/>
              <a:ext cx="203760" cy="14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597360" y="5368680"/>
              <a:ext cx="202680" cy="14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472480" y="4385160"/>
              <a:ext cx="1689120" cy="1084680"/>
              <a:chOff x="2472480" y="4385160"/>
              <a:chExt cx="1689120" cy="1084680"/>
            </a:xfrm>
          </p:grpSpPr>
          <p:sp>
            <p:nvSpPr>
              <p:cNvPr id="237" name=""/>
              <p:cNvSpPr/>
              <p:nvPr/>
            </p:nvSpPr>
            <p:spPr>
              <a:xfrm>
                <a:off x="3587760" y="4385160"/>
                <a:ext cx="573840" cy="4071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472480" y="4385160"/>
                <a:ext cx="439200" cy="4071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53120" y="4452840"/>
                <a:ext cx="100800" cy="101700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099880" y="3536640"/>
              <a:ext cx="811080" cy="338040"/>
              <a:chOff x="2099880" y="3536640"/>
              <a:chExt cx="811080" cy="338040"/>
            </a:xfrm>
          </p:grpSpPr>
          <p:sp>
            <p:nvSpPr>
              <p:cNvPr id="241" name=""/>
              <p:cNvSpPr/>
              <p:nvPr/>
            </p:nvSpPr>
            <p:spPr>
              <a:xfrm>
                <a:off x="2099880" y="3625560"/>
                <a:ext cx="101520" cy="2149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369880" y="3536640"/>
                <a:ext cx="541080" cy="33804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141520" y="3065400"/>
              <a:ext cx="1926360" cy="2133360"/>
              <a:chOff x="5141520" y="3065400"/>
              <a:chExt cx="1926360" cy="2133360"/>
            </a:xfrm>
          </p:grpSpPr>
          <p:sp>
            <p:nvSpPr>
              <p:cNvPr id="244" name=""/>
              <p:cNvSpPr/>
              <p:nvPr/>
            </p:nvSpPr>
            <p:spPr>
              <a:xfrm flipH="1" flipV="1">
                <a:off x="5141520" y="3065400"/>
                <a:ext cx="1175400" cy="97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98160" y="4180320"/>
                <a:ext cx="36972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089760" y="4452120"/>
                <a:ext cx="304200" cy="67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597360" y="4452120"/>
                <a:ext cx="270720" cy="74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974480" y="4351320"/>
              <a:ext cx="1825560" cy="882000"/>
              <a:chOff x="4974480" y="4351320"/>
              <a:chExt cx="1825560" cy="88200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4974480" y="4351320"/>
                <a:ext cx="473400" cy="33840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5684760" y="4402440"/>
                <a:ext cx="0" cy="762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89680" y="4452840"/>
                <a:ext cx="810360" cy="7804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1200240" y="2286000"/>
            <a:ext cx="6933960" cy="3962160"/>
            <a:chOff x="1200240" y="2286000"/>
            <a:chExt cx="6933960" cy="3962160"/>
          </a:xfrm>
        </p:grpSpPr>
        <p:sp>
          <p:nvSpPr>
            <p:cNvPr id="253" name=""/>
            <p:cNvSpPr/>
            <p:nvPr/>
          </p:nvSpPr>
          <p:spPr>
            <a:xfrm>
              <a:off x="1200240" y="2286000"/>
              <a:ext cx="6933960" cy="2338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0240" y="5230800"/>
              <a:ext cx="6933960" cy="1017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00240" y="4624200"/>
              <a:ext cx="1584720" cy="649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5560" y="4624200"/>
              <a:ext cx="4688280" cy="649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07280" y="4624200"/>
              <a:ext cx="649080" cy="60624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8431-B130-466B-A115-F7FC7795874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Terminology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View terminology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969" name="Capture07" descr=""/>
          <p:cNvPicPr/>
          <p:nvPr/>
        </p:nvPicPr>
        <p:blipFill>
          <a:blip r:embed="rId1"/>
          <a:stretch/>
        </p:blipFill>
        <p:spPr>
          <a:xfrm>
            <a:off x="1695600" y="538200"/>
            <a:ext cx="6000480" cy="580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2AA6-EDDE-41CB-AAF8-816F141938F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To Document the resul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To document the results of a query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972" name="Capture08" descr=""/>
          <p:cNvPicPr/>
          <p:nvPr/>
        </p:nvPicPr>
        <p:blipFill>
          <a:blip r:embed="rId1"/>
          <a:stretch/>
        </p:blipFill>
        <p:spPr>
          <a:xfrm>
            <a:off x="1371600" y="905040"/>
            <a:ext cx="6791400" cy="473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AA08-C394-4656-AA5E-9990B2E75B9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onclus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urther work...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Query interface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(terminological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intensional levels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Extension to RDFS (formal definitions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Inferences and Query distribution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975" name="Winner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A66B-6480-409F-A208-F18901DA73C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Winner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858000" cy="324000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6172200" y="41911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5394-B599-43F3-A02E-A631BFAA111B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Use, feasibility and RDF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Use of an ontology in CoMMA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omponent of the memor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.V. for models, annotations and queri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Agent communication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O'CoMMA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RDF :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Resource Description Framework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Describe Web resources and their relati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Internal/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external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annotation of document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Comes with RDF Schema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RDFS is Limited - Extension </a:t>
            </a:r>
            <a:r>
              <a:rPr b="1" i="1" lang="en-US" sz="2800" spc="-1" strike="noStrike">
                <a:solidFill>
                  <a:srgbClr val="000066"/>
                </a:solidFill>
                <a:latin typeface="Bookman Old Style"/>
              </a:rPr>
              <a:t>iff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necessar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Toward a </a:t>
            </a: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rporate Semantic Web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4269-3D02-4A76-86C4-999B355A5F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The 4 stages for engineering O'CoMMA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64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C277-4D6D-4BA3-AC17-4C6F3F2086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Data-Collection : Document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270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9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1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283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284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6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5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307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313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5800" y="622440"/>
            <a:ext cx="2666880" cy="609480"/>
            <a:chOff x="685800" y="622440"/>
            <a:chExt cx="2666880" cy="609480"/>
          </a:xfrm>
        </p:grpSpPr>
        <p:sp>
          <p:nvSpPr>
            <p:cNvPr id="316" name=""/>
            <p:cNvSpPr/>
            <p:nvPr/>
          </p:nvSpPr>
          <p:spPr>
            <a:xfrm>
              <a:off x="685800" y="669960"/>
              <a:ext cx="2286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(a')Reuse &amp; 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622440"/>
              <a:ext cx="609480" cy="609480"/>
            </a:xfrm>
            <a:custGeom>
              <a:avLst/>
              <a:gdLst>
                <a:gd name="textAreaLeft" fmla="*/ 184680 w 609480"/>
                <a:gd name="textAreaRight" fmla="*/ 543240 w 609480"/>
                <a:gd name="textAreaTop" fmla="*/ 419400 h 609480"/>
                <a:gd name="textAreaBottom" fmla="*/ 5432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055"/>
                  </a:moveTo>
                  <a:lnTo>
                    <a:pt x="6550" y="12510"/>
                  </a:lnTo>
                  <a:lnTo>
                    <a:pt x="6550" y="14860"/>
                  </a:lnTo>
                  <a:lnTo>
                    <a:pt x="14860" y="14860"/>
                  </a:lnTo>
                  <a:lnTo>
                    <a:pt x="14860" y="6550"/>
                  </a:lnTo>
                  <a:lnTo>
                    <a:pt x="12510" y="6550"/>
                  </a:lnTo>
                  <a:lnTo>
                    <a:pt x="17055" y="0"/>
                  </a:lnTo>
                  <a:lnTo>
                    <a:pt x="21600" y="6550"/>
                  </a:lnTo>
                  <a:lnTo>
                    <a:pt x="19250" y="6550"/>
                  </a:lnTo>
                  <a:lnTo>
                    <a:pt x="19250" y="19250"/>
                  </a:lnTo>
                  <a:lnTo>
                    <a:pt x="6550" y="19250"/>
                  </a:lnTo>
                  <a:lnTo>
                    <a:pt x="6550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162E-4DEB-4C27-B7D6-E8B4A0ADE2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Formalizing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323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2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4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336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337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9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8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360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366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b) From semi-informal to semi-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1" name="" descr=""/>
            <p:cNvPicPr/>
            <p:nvPr/>
          </p:nvPicPr>
          <p:blipFill>
            <a:blip r:embed="rId7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2" name="" descr=""/>
            <p:cNvPicPr/>
            <p:nvPr/>
          </p:nvPicPr>
          <p:blipFill>
            <a:blip r:embed="rId8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374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124000" y="1057320"/>
            <a:ext cx="619200" cy="466560"/>
            <a:chOff x="2124000" y="1057320"/>
            <a:chExt cx="619200" cy="466560"/>
          </a:xfrm>
        </p:grpSpPr>
        <p:sp>
          <p:nvSpPr>
            <p:cNvPr id="377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762120" y="69516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')Reuse &amp;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392C-2A38-4A2B-A820-91E8901D14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onstruc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andidate term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Synonymous/ambiguou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Proposition of definitions (academic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man Old Style"/>
              </a:rPr>
              <a:t>Terminological level in conceptual structure &amp; usefulness of NLP tool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Three approache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op-Down / Bottom-Up / Middle-Out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man Old Style"/>
              </a:rPr>
              <a:t>Three complementary perspectiv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5B7F-CE17-4A95-A606-25282DEE34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onstruc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Structuring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Extended Aristotelian Principle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(Bachimont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Genus/Differentia/Semantic Axi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(Kassel et al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Attributes &amp; Constraint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(Guarino et Welty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ookman Old Style"/>
              </a:rPr>
              <a:t>Very good for small parts / not feasible for whole ontology without assisting tool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ntinuum Informal </a:t>
            </a:r>
            <a:r>
              <a:rPr b="1" lang="en-US" sz="3000" spc="-1" strike="noStrike" u="sng">
                <a:solidFill>
                  <a:srgbClr val="000066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 Formal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extual (Informal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Tables (semi-informal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 semi-formal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RDF-RDFS (formal, use taxonomy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C990-2F85-439D-B525-35245573D1C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Result in RDF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389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8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00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402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403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5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426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1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432" name="" descr=""/>
          <p:cNvPicPr/>
          <p:nvPr/>
        </p:nvPicPr>
        <p:blipFill>
          <a:blip r:embed="rId6"/>
          <a:stretch/>
        </p:blipFill>
        <p:spPr>
          <a:xfrm>
            <a:off x="3651120" y="3949560"/>
            <a:ext cx="5340600" cy="15526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-1260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) Scenarios and data-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b) From semi-informal to semi-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c) RD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438" name="" descr=""/>
            <p:cNvPicPr/>
            <p:nvPr/>
          </p:nvPicPr>
          <p:blipFill>
            <a:blip r:embed="rId7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39" name="" descr=""/>
            <p:cNvPicPr/>
            <p:nvPr/>
          </p:nvPicPr>
          <p:blipFill>
            <a:blip r:embed="rId8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40" name="" descr=""/>
            <p:cNvPicPr/>
            <p:nvPr/>
          </p:nvPicPr>
          <p:blipFill>
            <a:blip r:embed="rId9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"/>
          <p:cNvGrpSpPr/>
          <p:nvPr/>
        </p:nvGrpSpPr>
        <p:grpSpPr>
          <a:xfrm>
            <a:off x="3048120" y="2095560"/>
            <a:ext cx="228600" cy="1714320"/>
            <a:chOff x="3048120" y="2095560"/>
            <a:chExt cx="228600" cy="1714320"/>
          </a:xfrm>
        </p:grpSpPr>
        <p:sp>
          <p:nvSpPr>
            <p:cNvPr id="442" name=""/>
            <p:cNvSpPr/>
            <p:nvPr/>
          </p:nvSpPr>
          <p:spPr>
            <a:xfrm>
              <a:off x="3073320" y="209556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48120" y="2362320"/>
              <a:ext cx="228600" cy="1447560"/>
            </a:xfrm>
            <a:prstGeom prst="downArrow">
              <a:avLst>
                <a:gd name="adj1" fmla="val 50000"/>
                <a:gd name="adj2" fmla="val 11386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445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124000" y="1057320"/>
            <a:ext cx="619200" cy="466560"/>
            <a:chOff x="2124000" y="1057320"/>
            <a:chExt cx="619200" cy="466560"/>
          </a:xfrm>
        </p:grpSpPr>
        <p:sp>
          <p:nvSpPr>
            <p:cNvPr id="448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762120" y="69516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a')Reuse &amp;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8DE1-F2C0-421C-9FA9-C3815E3FF5C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10:27:51Z</dcterms:created>
  <dc:creator>Fabien GANDON</dc:creator>
  <dc:description/>
  <dc:language>en-US</dc:language>
  <cp:lastModifiedBy>Fabien GANDON</cp:lastModifiedBy>
  <dcterms:modified xsi:type="dcterms:W3CDTF">2002-01-06T12:11:24Z</dcterms:modified>
  <cp:revision>127</cp:revision>
  <dc:subject/>
  <dc:title>Essai de titre</dc:title>
</cp:coreProperties>
</file>