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3263-9B01-47E4-BF2C-AA0113130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34368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0851-8FEC-4A69-BE37-8FBA46CE0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892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EF05-A363-44A3-BC00-B61380077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60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6192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60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6192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A528-E3F7-42A4-A8D3-89411AAFD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643896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2F39-6F35-49CF-A4B2-D56DB171A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3892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334368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3892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060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461920" y="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060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461920" y="3343680"/>
            <a:ext cx="2600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88FA-5B7A-49E5-BAA5-5D79D6191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BBB8-CB38-4063-8087-4381913F9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3D9E-0CF6-40D3-8A01-99AFBBDC2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43896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9218-CC59-40A0-96AD-37751F1D4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3671-9C29-4FFA-88A5-C3D78A8AD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8920" y="334368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CE84-9FD0-4E27-AEF8-24E1301CC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39972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8920" y="0"/>
            <a:ext cx="394164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343680"/>
            <a:ext cx="8077320" cy="30531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C94C-D3DE-4136-8DD6-122A840EB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7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A35-3EF3-4FF5-B593-D2FE5C296ACF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/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11960"/>
            <a:ext cx="5461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400800"/>
            <a:ext cx="8001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4771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6411960"/>
            <a:ext cx="546120" cy="45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400800"/>
            <a:ext cx="8001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4771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Conférence INRIA - Projet ACACIA - Initiative INSAzu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7668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cc3300"/>
                </a:solidFill>
                <a:latin typeface="Arial"/>
              </a:rPr>
              <a:t>Introduction à l’Ingénierie des Connaissa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4197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Fabien GA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(Doctorant - Systèmes Multi-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t Mémoire d’Ent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Exemple "Et si mon chien s'appelle Hugo"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'exemple du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férence élémentaire sur la class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séquence ex. recherche d'information (+document +"Hugo") Précision &amp; Rapp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rogres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41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FC7D-382B-44E7-B670-938E37E75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 &amp; Subsomption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anque une connaissance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éliser et formaliser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repré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8240" y="198108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Times New Roman"/>
              </a:rPr>
              <a:t>"Un roman et une nouvelle sont des livre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Times New Roman"/>
              </a:rPr>
              <a:t>"Un livre est un documen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04160" y="3048120"/>
            <a:ext cx="3049560" cy="2669400"/>
            <a:chOff x="704160" y="3048120"/>
            <a:chExt cx="3049560" cy="2669400"/>
          </a:xfrm>
        </p:grpSpPr>
        <p:sp>
          <p:nvSpPr>
            <p:cNvPr id="125" name=""/>
            <p:cNvSpPr/>
            <p:nvPr/>
          </p:nvSpPr>
          <p:spPr>
            <a:xfrm>
              <a:off x="1315440" y="304812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3800" y="411480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Liv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4160" y="525780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03640" y="52578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Nouv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6" idx="0"/>
              <a:endCxn id="125" idx="2"/>
            </p:cNvCxnSpPr>
            <p:nvPr/>
          </p:nvCxnSpPr>
          <p:spPr>
            <a:xfrm flipV="1">
              <a:off x="2149560" y="3504600"/>
              <a:ext cx="2160" cy="61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7" idx="0"/>
              <a:endCxn id="126" idx="2"/>
            </p:cNvCxnSpPr>
            <p:nvPr/>
          </p:nvCxnSpPr>
          <p:spPr>
            <a:xfrm flipV="1">
              <a:off x="1310760" y="4571280"/>
              <a:ext cx="83916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8" idx="0"/>
              <a:endCxn id="126" idx="2"/>
            </p:cNvCxnSpPr>
            <p:nvPr/>
          </p:nvCxnSpPr>
          <p:spPr>
            <a:xfrm flipH="1" flipV="1">
              <a:off x="2148840" y="4571280"/>
              <a:ext cx="8802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2" name=""/>
          <p:cNvSpPr/>
          <p:nvPr/>
        </p:nvSpPr>
        <p:spPr>
          <a:xfrm>
            <a:off x="228600" y="2895480"/>
            <a:ext cx="769608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943600" y="1905120"/>
            <a:ext cx="1461240" cy="990360"/>
            <a:chOff x="5943600" y="1905120"/>
            <a:chExt cx="1461240" cy="990360"/>
          </a:xfrm>
        </p:grpSpPr>
        <p:sp>
          <p:nvSpPr>
            <p:cNvPr id="134" name=""/>
            <p:cNvSpPr/>
            <p:nvPr/>
          </p:nvSpPr>
          <p:spPr>
            <a:xfrm>
              <a:off x="6020280" y="213372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Inform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1905120"/>
              <a:ext cx="0" cy="99036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43600" y="2895480"/>
            <a:ext cx="1274760" cy="3124440"/>
            <a:chOff x="5943600" y="2895480"/>
            <a:chExt cx="1274760" cy="3124440"/>
          </a:xfrm>
        </p:grpSpPr>
        <p:sp>
          <p:nvSpPr>
            <p:cNvPr id="137" name=""/>
            <p:cNvSpPr/>
            <p:nvPr/>
          </p:nvSpPr>
          <p:spPr>
            <a:xfrm>
              <a:off x="6021000" y="4114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orm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600" y="2895480"/>
              <a:ext cx="0" cy="312444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568680" y="3521160"/>
            <a:ext cx="2298960" cy="1359000"/>
            <a:chOff x="3568680" y="3521160"/>
            <a:chExt cx="2298960" cy="1359000"/>
          </a:xfrm>
        </p:grpSpPr>
        <p:sp>
          <p:nvSpPr>
            <p:cNvPr id="140" name=""/>
            <p:cNvSpPr/>
            <p:nvPr/>
          </p:nvSpPr>
          <p:spPr>
            <a:xfrm>
              <a:off x="3570840" y="359748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ubsom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6240" y="4054680"/>
              <a:ext cx="22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Relation bin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trans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68680" y="3521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D100-EA95-4730-BF11-63671A060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 &amp; Relation binaire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anque une connaissance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éliser et formaliser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repré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6800" y="1895400"/>
            <a:ext cx="48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Times New Roman"/>
              </a:rPr>
              <a:t>"Un document a un ti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Times New Roman"/>
              </a:rPr>
              <a:t>Un titre est une chaîne de caractè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2120" y="4105440"/>
            <a:ext cx="5319360" cy="461880"/>
            <a:chOff x="312120" y="4105440"/>
            <a:chExt cx="5319360" cy="461880"/>
          </a:xfrm>
        </p:grpSpPr>
        <p:sp>
          <p:nvSpPr>
            <p:cNvPr id="147" name=""/>
            <p:cNvSpPr/>
            <p:nvPr/>
          </p:nvSpPr>
          <p:spPr>
            <a:xfrm>
              <a:off x="312120" y="4105440"/>
              <a:ext cx="166968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35920" y="4105440"/>
              <a:ext cx="119556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6600"/>
                  </a:solidFill>
                  <a:latin typeface="Arial"/>
                </a:rPr>
                <a:t>Chaî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55520" y="4105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6880" y="4110120"/>
              <a:ext cx="121932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7" idx="3"/>
              <a:endCxn id="150" idx="2"/>
            </p:cNvCxnSpPr>
            <p:nvPr/>
          </p:nvCxnSpPr>
          <p:spPr>
            <a:xfrm>
              <a:off x="1988640" y="4338360"/>
              <a:ext cx="678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50" idx="6"/>
              <a:endCxn id="148" idx="1"/>
            </p:cNvCxnSpPr>
            <p:nvPr/>
          </p:nvCxnSpPr>
          <p:spPr>
            <a:xfrm>
              <a:off x="3886200" y="4338360"/>
              <a:ext cx="543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2274840" y="4118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0840" y="4118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20280" y="2133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Infor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10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For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895480"/>
            <a:ext cx="769608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1905120"/>
            <a:ext cx="0" cy="9903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895480"/>
            <a:ext cx="0" cy="31244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09C3-421E-4E39-92AC-794FC0FCF2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 &amp; Annotation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6280" y="0"/>
            <a:ext cx="3049560" cy="1983600"/>
            <a:chOff x="3806280" y="0"/>
            <a:chExt cx="3049560" cy="1983600"/>
          </a:xfrm>
        </p:grpSpPr>
        <p:sp>
          <p:nvSpPr>
            <p:cNvPr id="162" name=""/>
            <p:cNvSpPr/>
            <p:nvPr/>
          </p:nvSpPr>
          <p:spPr>
            <a:xfrm>
              <a:off x="4417200" y="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95920" y="76212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Liv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6280" y="1523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05760" y="15238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Nouv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3" idx="0"/>
              <a:endCxn id="162" idx="2"/>
            </p:cNvCxnSpPr>
            <p:nvPr/>
          </p:nvCxnSpPr>
          <p:spPr>
            <a:xfrm flipV="1">
              <a:off x="5250960" y="456480"/>
              <a:ext cx="252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4" idx="0"/>
              <a:endCxn id="163" idx="2"/>
            </p:cNvCxnSpPr>
            <p:nvPr/>
          </p:nvCxnSpPr>
          <p:spPr>
            <a:xfrm flipV="1">
              <a:off x="4413240" y="1218960"/>
              <a:ext cx="83880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5" idx="0"/>
              <a:endCxn id="163" idx="2"/>
            </p:cNvCxnSpPr>
            <p:nvPr/>
          </p:nvCxnSpPr>
          <p:spPr>
            <a:xfrm flipH="1" flipV="1">
              <a:off x="5250600" y="1218960"/>
              <a:ext cx="88020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377280" y="0"/>
            <a:ext cx="2847600" cy="1983600"/>
            <a:chOff x="377280" y="0"/>
            <a:chExt cx="2847600" cy="1983600"/>
          </a:xfrm>
        </p:grpSpPr>
        <p:sp>
          <p:nvSpPr>
            <p:cNvPr id="170" name=""/>
            <p:cNvSpPr/>
            <p:nvPr/>
          </p:nvSpPr>
          <p:spPr>
            <a:xfrm>
              <a:off x="961920" y="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Etre Viv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98800" y="76212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71" idx="0"/>
              <a:endCxn id="170" idx="2"/>
            </p:cNvCxnSpPr>
            <p:nvPr/>
          </p:nvCxnSpPr>
          <p:spPr>
            <a:xfrm flipV="1">
              <a:off x="1847880" y="456480"/>
              <a:ext cx="216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77280" y="15238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o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7480" y="15238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Fe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73" idx="0"/>
              <a:endCxn id="171" idx="2"/>
            </p:cNvCxnSpPr>
            <p:nvPr/>
          </p:nvCxnSpPr>
          <p:spPr>
            <a:xfrm flipV="1">
              <a:off x="1027080" y="1218960"/>
              <a:ext cx="82152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4" idx="0"/>
              <a:endCxn id="171" idx="2"/>
            </p:cNvCxnSpPr>
            <p:nvPr/>
          </p:nvCxnSpPr>
          <p:spPr>
            <a:xfrm flipH="1" flipV="1">
              <a:off x="1847160" y="1218960"/>
              <a:ext cx="75492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702360" y="2124000"/>
            <a:ext cx="5538960" cy="461880"/>
            <a:chOff x="702360" y="2124000"/>
            <a:chExt cx="5538960" cy="461880"/>
          </a:xfrm>
        </p:grpSpPr>
        <p:sp>
          <p:nvSpPr>
            <p:cNvPr id="178" name=""/>
            <p:cNvSpPr/>
            <p:nvPr/>
          </p:nvSpPr>
          <p:spPr>
            <a:xfrm>
              <a:off x="702360" y="2124000"/>
              <a:ext cx="166968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5760" y="2124000"/>
              <a:ext cx="119556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6600"/>
                  </a:solidFill>
                  <a:latin typeface="Arial"/>
                </a:rPr>
                <a:t>Chaî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50720" y="21240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62440" y="2128680"/>
              <a:ext cx="121896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8" idx="3"/>
              <a:endCxn id="181" idx="2"/>
            </p:cNvCxnSpPr>
            <p:nvPr/>
          </p:nvCxnSpPr>
          <p:spPr>
            <a:xfrm>
              <a:off x="2379240" y="2356920"/>
              <a:ext cx="58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81" idx="6"/>
              <a:endCxn id="179" idx="1"/>
            </p:cNvCxnSpPr>
            <p:nvPr/>
          </p:nvCxnSpPr>
          <p:spPr>
            <a:xfrm>
              <a:off x="4181040" y="2356920"/>
              <a:ext cx="85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>
              <a:off x="2525400" y="2136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3440" y="2136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02360" y="2809800"/>
            <a:ext cx="5640840" cy="461880"/>
            <a:chOff x="702360" y="2809800"/>
            <a:chExt cx="5640840" cy="461880"/>
          </a:xfrm>
        </p:grpSpPr>
        <p:sp>
          <p:nvSpPr>
            <p:cNvPr id="187" name=""/>
            <p:cNvSpPr/>
            <p:nvPr/>
          </p:nvSpPr>
          <p:spPr>
            <a:xfrm>
              <a:off x="702360" y="2809800"/>
              <a:ext cx="166968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45400" y="2809800"/>
              <a:ext cx="129780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08880" y="28098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Au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19520" y="2814480"/>
              <a:ext cx="152388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7" idx="3"/>
              <a:endCxn id="190" idx="2"/>
            </p:cNvCxnSpPr>
            <p:nvPr/>
          </p:nvCxnSpPr>
          <p:spPr>
            <a:xfrm>
              <a:off x="2379600" y="3042720"/>
              <a:ext cx="440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90" idx="6"/>
              <a:endCxn id="188" idx="1"/>
            </p:cNvCxnSpPr>
            <p:nvPr/>
          </p:nvCxnSpPr>
          <p:spPr>
            <a:xfrm>
              <a:off x="4343040" y="3042720"/>
              <a:ext cx="69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3" name=""/>
            <p:cNvSpPr/>
            <p:nvPr/>
          </p:nvSpPr>
          <p:spPr>
            <a:xfrm>
              <a:off x="2525400" y="2822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2800" y="2822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92280" y="3495600"/>
            <a:ext cx="5539320" cy="461880"/>
            <a:chOff x="692280" y="3495600"/>
            <a:chExt cx="5539320" cy="461880"/>
          </a:xfrm>
        </p:grpSpPr>
        <p:sp>
          <p:nvSpPr>
            <p:cNvPr id="196" name=""/>
            <p:cNvSpPr/>
            <p:nvPr/>
          </p:nvSpPr>
          <p:spPr>
            <a:xfrm>
              <a:off x="692280" y="3495600"/>
              <a:ext cx="129780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36040" y="3495600"/>
              <a:ext cx="119556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6600"/>
                  </a:solidFill>
                  <a:latin typeface="Arial"/>
                </a:rPr>
                <a:t>Chaî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51800" y="3495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N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62440" y="3500280"/>
              <a:ext cx="121896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6" idx="3"/>
              <a:endCxn id="199" idx="2"/>
            </p:cNvCxnSpPr>
            <p:nvPr/>
          </p:nvCxnSpPr>
          <p:spPr>
            <a:xfrm>
              <a:off x="1996920" y="3728520"/>
              <a:ext cx="966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99" idx="6"/>
              <a:endCxn id="197" idx="1"/>
            </p:cNvCxnSpPr>
            <p:nvPr/>
          </p:nvCxnSpPr>
          <p:spPr>
            <a:xfrm>
              <a:off x="4181040" y="3728520"/>
              <a:ext cx="848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2516040" y="350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3440" y="350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4191120"/>
            <a:ext cx="80773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33720" y="5346720"/>
            <a:ext cx="1238040" cy="781920"/>
            <a:chOff x="2133720" y="5346720"/>
            <a:chExt cx="1238040" cy="781920"/>
          </a:xfrm>
        </p:grpSpPr>
        <p:sp>
          <p:nvSpPr>
            <p:cNvPr id="206" name=""/>
            <p:cNvSpPr/>
            <p:nvPr/>
          </p:nvSpPr>
          <p:spPr>
            <a:xfrm>
              <a:off x="2133720" y="5346720"/>
              <a:ext cx="123804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H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1256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H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589200" y="5346720"/>
            <a:ext cx="1322640" cy="781920"/>
            <a:chOff x="3589200" y="5346720"/>
            <a:chExt cx="1322640" cy="781920"/>
          </a:xfrm>
        </p:grpSpPr>
        <p:sp>
          <p:nvSpPr>
            <p:cNvPr id="209" name=""/>
            <p:cNvSpPr/>
            <p:nvPr/>
          </p:nvSpPr>
          <p:spPr>
            <a:xfrm>
              <a:off x="3589200" y="5346720"/>
              <a:ext cx="132264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R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1360" y="579132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RO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92160" y="4311720"/>
            <a:ext cx="2027520" cy="1816920"/>
            <a:chOff x="92160" y="4311720"/>
            <a:chExt cx="2027520" cy="1816920"/>
          </a:xfrm>
        </p:grpSpPr>
        <p:sp>
          <p:nvSpPr>
            <p:cNvPr id="212" name=""/>
            <p:cNvSpPr/>
            <p:nvPr/>
          </p:nvSpPr>
          <p:spPr>
            <a:xfrm>
              <a:off x="956520" y="45846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N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597560"/>
              <a:ext cx="121932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5" idx="0"/>
              <a:endCxn id="213" idx="2"/>
            </p:cNvCxnSpPr>
            <p:nvPr/>
          </p:nvCxnSpPr>
          <p:spPr>
            <a:xfrm flipV="1">
              <a:off x="716040" y="4825800"/>
              <a:ext cx="108720" cy="49752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16" name=""/>
            <p:cNvCxnSpPr>
              <a:stCxn id="213" idx="6"/>
              <a:endCxn id="206" idx="1"/>
            </p:cNvCxnSpPr>
            <p:nvPr/>
          </p:nvCxnSpPr>
          <p:spPr>
            <a:xfrm>
              <a:off x="2071800" y="4825800"/>
              <a:ext cx="48240" cy="7642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15" name=""/>
            <p:cNvSpPr/>
            <p:nvPr/>
          </p:nvSpPr>
          <p:spPr>
            <a:xfrm>
              <a:off x="92160" y="5337000"/>
              <a:ext cx="124740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"Hugo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968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5880" y="43117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52560" y="4311720"/>
            <a:ext cx="1528920" cy="1020960"/>
            <a:chOff x="2752560" y="4311720"/>
            <a:chExt cx="1528920" cy="1020960"/>
          </a:xfrm>
        </p:grpSpPr>
        <p:sp>
          <p:nvSpPr>
            <p:cNvPr id="220" name=""/>
            <p:cNvSpPr/>
            <p:nvPr/>
          </p:nvSpPr>
          <p:spPr>
            <a:xfrm>
              <a:off x="2899800" y="45720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Auteu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584600"/>
              <a:ext cx="14475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06" idx="0"/>
              <a:endCxn id="221" idx="2"/>
            </p:cNvCxnSpPr>
            <p:nvPr/>
          </p:nvCxnSpPr>
          <p:spPr>
            <a:xfrm flipV="1">
              <a:off x="2752560" y="4812840"/>
              <a:ext cx="5328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1" idx="6"/>
              <a:endCxn id="209" idx="0"/>
            </p:cNvCxnSpPr>
            <p:nvPr/>
          </p:nvCxnSpPr>
          <p:spPr>
            <a:xfrm flipH="1">
              <a:off x="4251240" y="4813200"/>
              <a:ext cx="3060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012480" y="431172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AU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25520" y="4311720"/>
            <a:ext cx="2983320" cy="1816920"/>
            <a:chOff x="4925520" y="4311720"/>
            <a:chExt cx="2983320" cy="1816920"/>
          </a:xfrm>
        </p:grpSpPr>
        <p:sp>
          <p:nvSpPr>
            <p:cNvPr id="226" name=""/>
            <p:cNvSpPr/>
            <p:nvPr/>
          </p:nvSpPr>
          <p:spPr>
            <a:xfrm>
              <a:off x="5253120" y="5334120"/>
              <a:ext cx="265572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"Les Misérables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46640" y="45846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Titr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45846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09" idx="3"/>
              <a:endCxn id="228" idx="2"/>
            </p:cNvCxnSpPr>
            <p:nvPr/>
          </p:nvCxnSpPr>
          <p:spPr>
            <a:xfrm flipV="1">
              <a:off x="4925520" y="4812480"/>
              <a:ext cx="165960" cy="7772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30" name=""/>
            <p:cNvCxnSpPr>
              <a:stCxn id="228" idx="6"/>
              <a:endCxn id="226" idx="0"/>
            </p:cNvCxnSpPr>
            <p:nvPr/>
          </p:nvCxnSpPr>
          <p:spPr>
            <a:xfrm>
              <a:off x="6338520" y="4812840"/>
              <a:ext cx="243720" cy="5068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31" name=""/>
            <p:cNvSpPr/>
            <p:nvPr/>
          </p:nvSpPr>
          <p:spPr>
            <a:xfrm>
              <a:off x="598428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28000" y="43117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066680" y="50292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99"/>
                </a:solidFill>
                <a:latin typeface="Times New Roman"/>
              </a:rPr>
              <a:t>Hugo est l'auteur des Misé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75B9-E869-48C6-86E6-F9961B560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4925520" y="2254320"/>
            <a:ext cx="2016720" cy="1816920"/>
            <a:chOff x="4925520" y="2254320"/>
            <a:chExt cx="2016720" cy="1816920"/>
          </a:xfrm>
        </p:grpSpPr>
        <p:sp>
          <p:nvSpPr>
            <p:cNvPr id="235" name=""/>
            <p:cNvSpPr/>
            <p:nvPr/>
          </p:nvSpPr>
          <p:spPr>
            <a:xfrm>
              <a:off x="6399000" y="3276720"/>
              <a:ext cx="36648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000" y="22543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05520" y="2527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"/>
            <p:cNvCxnSpPr>
              <a:stCxn id="239" idx="3"/>
              <a:endCxn id="237" idx="2"/>
            </p:cNvCxnSpPr>
            <p:nvPr/>
          </p:nvCxnSpPr>
          <p:spPr>
            <a:xfrm flipV="1">
              <a:off x="4925520" y="2755080"/>
              <a:ext cx="165960" cy="7772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40" name=""/>
            <p:cNvCxnSpPr>
              <a:stCxn id="237" idx="6"/>
              <a:endCxn id="235" idx="0"/>
            </p:cNvCxnSpPr>
            <p:nvPr/>
          </p:nvCxnSpPr>
          <p:spPr>
            <a:xfrm>
              <a:off x="6338520" y="2755440"/>
              <a:ext cx="244800" cy="5068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5984280" y="37339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495680" y="403848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Annotation, Requête &amp; Projection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4191120"/>
            <a:ext cx="8077320" cy="1937520"/>
            <a:chOff x="0" y="4191120"/>
            <a:chExt cx="8077320" cy="1937520"/>
          </a:xfrm>
        </p:grpSpPr>
        <p:sp>
          <p:nvSpPr>
            <p:cNvPr id="245" name=""/>
            <p:cNvSpPr/>
            <p:nvPr/>
          </p:nvSpPr>
          <p:spPr>
            <a:xfrm>
              <a:off x="1145880" y="43117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2480" y="431172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AU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28000" y="43117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9200" y="5346720"/>
              <a:ext cx="132264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R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3120" y="5334120"/>
              <a:ext cx="265572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"Les Misérables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46640" y="45846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Titr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05520" y="45846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8" idx="3"/>
              <a:endCxn id="251" idx="2"/>
            </p:cNvCxnSpPr>
            <p:nvPr/>
          </p:nvCxnSpPr>
          <p:spPr>
            <a:xfrm flipV="1">
              <a:off x="4925520" y="4812480"/>
              <a:ext cx="165960" cy="7772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53" name=""/>
            <p:cNvCxnSpPr>
              <a:stCxn id="251" idx="6"/>
              <a:endCxn id="249" idx="0"/>
            </p:cNvCxnSpPr>
            <p:nvPr/>
          </p:nvCxnSpPr>
          <p:spPr>
            <a:xfrm>
              <a:off x="6338520" y="4812840"/>
              <a:ext cx="243720" cy="5068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2133720" y="5346720"/>
              <a:ext cx="123804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H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9800" y="45720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Auteu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4584600"/>
              <a:ext cx="14475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" name=""/>
            <p:cNvCxnSpPr>
              <a:stCxn id="254" idx="0"/>
              <a:endCxn id="256" idx="2"/>
            </p:cNvCxnSpPr>
            <p:nvPr/>
          </p:nvCxnSpPr>
          <p:spPr>
            <a:xfrm flipV="1">
              <a:off x="2752560" y="4812840"/>
              <a:ext cx="5328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6" idx="6"/>
              <a:endCxn id="248" idx="0"/>
            </p:cNvCxnSpPr>
            <p:nvPr/>
          </p:nvCxnSpPr>
          <p:spPr>
            <a:xfrm flipH="1">
              <a:off x="4251240" y="4813200"/>
              <a:ext cx="3060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956520" y="45846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No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4597560"/>
              <a:ext cx="121932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2" idx="0"/>
              <a:endCxn id="260" idx="2"/>
            </p:cNvCxnSpPr>
            <p:nvPr/>
          </p:nvCxnSpPr>
          <p:spPr>
            <a:xfrm flipV="1">
              <a:off x="716040" y="4825800"/>
              <a:ext cx="108720" cy="49752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63" name=""/>
            <p:cNvCxnSpPr>
              <a:stCxn id="260" idx="6"/>
              <a:endCxn id="254" idx="1"/>
            </p:cNvCxnSpPr>
            <p:nvPr/>
          </p:nvCxnSpPr>
          <p:spPr>
            <a:xfrm>
              <a:off x="2071800" y="4825800"/>
              <a:ext cx="48240" cy="7642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62" name=""/>
            <p:cNvSpPr/>
            <p:nvPr/>
          </p:nvSpPr>
          <p:spPr>
            <a:xfrm>
              <a:off x="92160" y="5337000"/>
              <a:ext cx="124740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"Hugo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4191120"/>
              <a:ext cx="8077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1256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H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1360" y="579132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RO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428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680" y="57913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133720" y="2254320"/>
            <a:ext cx="2147760" cy="1816920"/>
            <a:chOff x="2133720" y="2254320"/>
            <a:chExt cx="2147760" cy="1816920"/>
          </a:xfrm>
        </p:grpSpPr>
        <p:sp>
          <p:nvSpPr>
            <p:cNvPr id="270" name=""/>
            <p:cNvSpPr/>
            <p:nvPr/>
          </p:nvSpPr>
          <p:spPr>
            <a:xfrm>
              <a:off x="2133720" y="3289320"/>
              <a:ext cx="1238040" cy="485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12560" y="37339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H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12480" y="225432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AU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19520" y="2527200"/>
              <a:ext cx="144756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0" idx="0"/>
              <a:endCxn id="273" idx="2"/>
            </p:cNvCxnSpPr>
            <p:nvPr/>
          </p:nvCxnSpPr>
          <p:spPr>
            <a:xfrm flipV="1">
              <a:off x="2752560" y="2755440"/>
              <a:ext cx="5328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75" name=""/>
            <p:cNvCxnSpPr>
              <a:stCxn id="273" idx="6"/>
              <a:endCxn id="239" idx="0"/>
            </p:cNvCxnSpPr>
            <p:nvPr/>
          </p:nvCxnSpPr>
          <p:spPr>
            <a:xfrm flipH="1">
              <a:off x="4251240" y="2755800"/>
              <a:ext cx="30600" cy="51984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3589200" y="3289320"/>
            <a:ext cx="1361160" cy="781920"/>
            <a:chOff x="3589200" y="3289320"/>
            <a:chExt cx="1361160" cy="781920"/>
          </a:xfrm>
        </p:grpSpPr>
        <p:sp>
          <p:nvSpPr>
            <p:cNvPr id="239" name=""/>
            <p:cNvSpPr/>
            <p:nvPr/>
          </p:nvSpPr>
          <p:spPr>
            <a:xfrm>
              <a:off x="3589200" y="3289320"/>
              <a:ext cx="1322640" cy="485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99280" y="37339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2160" y="2230560"/>
            <a:ext cx="2027520" cy="1840680"/>
            <a:chOff x="92160" y="2230560"/>
            <a:chExt cx="2027520" cy="1840680"/>
          </a:xfrm>
        </p:grpSpPr>
        <p:sp>
          <p:nvSpPr>
            <p:cNvPr id="279" name=""/>
            <p:cNvSpPr/>
            <p:nvPr/>
          </p:nvSpPr>
          <p:spPr>
            <a:xfrm>
              <a:off x="1145880" y="223056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00"/>
                  </a:solidFill>
                  <a:latin typeface="Arial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2540160"/>
              <a:ext cx="1219320" cy="4572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2" idx="0"/>
              <a:endCxn id="280" idx="2"/>
            </p:cNvCxnSpPr>
            <p:nvPr/>
          </p:nvCxnSpPr>
          <p:spPr>
            <a:xfrm flipV="1">
              <a:off x="716040" y="2768400"/>
              <a:ext cx="108720" cy="49752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cxnSp>
          <p:nvCxnSpPr>
            <p:cNvPr id="283" name=""/>
            <p:cNvCxnSpPr>
              <a:stCxn id="280" idx="6"/>
              <a:endCxn id="270" idx="1"/>
            </p:cNvCxnSpPr>
            <p:nvPr/>
          </p:nvCxnSpPr>
          <p:spPr>
            <a:xfrm>
              <a:off x="2071800" y="2768400"/>
              <a:ext cx="48240" cy="764280"/>
            </a:xfrm>
            <a:prstGeom prst="straightConnector1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</p:cxnSp>
        <p:sp>
          <p:nvSpPr>
            <p:cNvPr id="282" name=""/>
            <p:cNvSpPr/>
            <p:nvPr/>
          </p:nvSpPr>
          <p:spPr>
            <a:xfrm>
              <a:off x="92160" y="3279600"/>
              <a:ext cx="1247400" cy="4597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0099"/>
                  </a:solidFill>
                  <a:latin typeface="Arial"/>
                </a:rPr>
                <a:t>"Hugo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9680" y="373392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6600"/>
                  </a:solidFill>
                  <a:latin typeface="Arial"/>
                </a:rPr>
                <a:t>CH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4038480"/>
            <a:ext cx="228600" cy="1295640"/>
          </a:xfrm>
          <a:prstGeom prst="upDownArrow">
            <a:avLst>
              <a:gd name="adj1" fmla="val 50000"/>
              <a:gd name="adj2" fmla="val 112829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2895480"/>
            <a:ext cx="228600" cy="1447920"/>
          </a:xfrm>
          <a:prstGeom prst="upDownArrow">
            <a:avLst>
              <a:gd name="adj1" fmla="val 50000"/>
              <a:gd name="adj2" fmla="val 12609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403848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297180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7180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403848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858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jection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Infér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85680" y="304920"/>
            <a:ext cx="2965680" cy="1983600"/>
            <a:chOff x="4585680" y="304920"/>
            <a:chExt cx="2965680" cy="1983600"/>
          </a:xfrm>
        </p:grpSpPr>
        <p:sp>
          <p:nvSpPr>
            <p:cNvPr id="293" name=""/>
            <p:cNvSpPr/>
            <p:nvPr/>
          </p:nvSpPr>
          <p:spPr>
            <a:xfrm>
              <a:off x="5196600" y="30492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5320" y="10666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00"/>
                  </a:solidFill>
                  <a:latin typeface="Arial"/>
                </a:rPr>
                <a:t>Liv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5680" y="182880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00"/>
                  </a:solidFill>
                  <a:latin typeface="Arial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8040" y="182880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b2b2b2"/>
                  </a:solidFill>
                  <a:latin typeface="Arial"/>
                </a:rPr>
                <a:t>Nouv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" name=""/>
            <p:cNvCxnSpPr>
              <a:stCxn id="294" idx="0"/>
              <a:endCxn id="293" idx="2"/>
            </p:cNvCxnSpPr>
            <p:nvPr/>
          </p:nvCxnSpPr>
          <p:spPr>
            <a:xfrm flipV="1">
              <a:off x="6030360" y="761760"/>
              <a:ext cx="2520" cy="305280"/>
            </a:xfrm>
            <a:prstGeom prst="straightConnector1">
              <a:avLst/>
            </a:prstGeom>
            <a:ln w="255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5" idx="0"/>
              <a:endCxn id="294" idx="2"/>
            </p:cNvCxnSpPr>
            <p:nvPr/>
          </p:nvCxnSpPr>
          <p:spPr>
            <a:xfrm flipV="1">
              <a:off x="5192640" y="1523160"/>
              <a:ext cx="838800" cy="305640"/>
            </a:xfrm>
            <a:prstGeom prst="straightConnector1">
              <a:avLst/>
            </a:prstGeom>
            <a:ln w="255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6" idx="0"/>
              <a:endCxn id="294" idx="2"/>
            </p:cNvCxnSpPr>
            <p:nvPr/>
          </p:nvCxnSpPr>
          <p:spPr>
            <a:xfrm flipH="1" flipV="1">
              <a:off x="6030000" y="1523160"/>
              <a:ext cx="840600" cy="305640"/>
            </a:xfrm>
            <a:prstGeom prst="straightConnector1">
              <a:avLst/>
            </a:prstGeom>
            <a:ln cap="rnd" w="25560">
              <a:solidFill>
                <a:srgbClr val="b2b2b2"/>
              </a:solidFill>
              <a:custDash>
                <a:ds d="100000" sp="1000"/>
              </a:custDash>
              <a:miter/>
              <a:tailEnd len="sm" type="triangle" w="sm"/>
            </a:ln>
          </p:spPr>
        </p:cxnSp>
      </p:grpSp>
      <p:sp>
        <p:nvSpPr>
          <p:cNvPr id="300" name=""/>
          <p:cNvSpPr/>
          <p:nvPr/>
        </p:nvSpPr>
        <p:spPr>
          <a:xfrm flipV="1">
            <a:off x="4191120" y="151920"/>
            <a:ext cx="3949560" cy="2425680"/>
          </a:xfrm>
          <a:prstGeom prst="cloudCallout">
            <a:avLst>
              <a:gd name="adj1" fmla="val -104986"/>
              <a:gd name="adj2" fmla="val 1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6002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cision &amp; Rapp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763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cherche : Requê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5790960" y="4419360"/>
            <a:ext cx="1752480" cy="2286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C205-3D97-464F-814A-987D3B28C9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263480" y="0"/>
            <a:ext cx="3049560" cy="1983600"/>
            <a:chOff x="4263480" y="0"/>
            <a:chExt cx="3049560" cy="1983600"/>
          </a:xfrm>
        </p:grpSpPr>
        <p:sp>
          <p:nvSpPr>
            <p:cNvPr id="306" name=""/>
            <p:cNvSpPr/>
            <p:nvPr/>
          </p:nvSpPr>
          <p:spPr>
            <a:xfrm>
              <a:off x="4874400" y="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3120" y="76212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Liv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3480" y="1523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62960" y="15238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Nouv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0" name=""/>
            <p:cNvCxnSpPr>
              <a:stCxn id="307" idx="0"/>
              <a:endCxn id="306" idx="2"/>
            </p:cNvCxnSpPr>
            <p:nvPr/>
          </p:nvCxnSpPr>
          <p:spPr>
            <a:xfrm flipV="1">
              <a:off x="5708160" y="456480"/>
              <a:ext cx="252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08" idx="0"/>
              <a:endCxn id="307" idx="2"/>
            </p:cNvCxnSpPr>
            <p:nvPr/>
          </p:nvCxnSpPr>
          <p:spPr>
            <a:xfrm flipV="1">
              <a:off x="4870440" y="1218960"/>
              <a:ext cx="83880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9" idx="0"/>
              <a:endCxn id="307" idx="2"/>
            </p:cNvCxnSpPr>
            <p:nvPr/>
          </p:nvCxnSpPr>
          <p:spPr>
            <a:xfrm flipH="1" flipV="1">
              <a:off x="5707800" y="1218960"/>
              <a:ext cx="88020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3" name=""/>
          <p:cNvGrpSpPr/>
          <p:nvPr/>
        </p:nvGrpSpPr>
        <p:grpSpPr>
          <a:xfrm>
            <a:off x="834480" y="0"/>
            <a:ext cx="2847600" cy="1983600"/>
            <a:chOff x="834480" y="0"/>
            <a:chExt cx="2847600" cy="1983600"/>
          </a:xfrm>
        </p:grpSpPr>
        <p:sp>
          <p:nvSpPr>
            <p:cNvPr id="314" name=""/>
            <p:cNvSpPr/>
            <p:nvPr/>
          </p:nvSpPr>
          <p:spPr>
            <a:xfrm>
              <a:off x="1419120" y="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Etre Viv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6000" y="76212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5" idx="0"/>
              <a:endCxn id="314" idx="2"/>
            </p:cNvCxnSpPr>
            <p:nvPr/>
          </p:nvCxnSpPr>
          <p:spPr>
            <a:xfrm flipV="1">
              <a:off x="2305080" y="456480"/>
              <a:ext cx="216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834480" y="15238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o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4680" y="15238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Fe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7" idx="0"/>
              <a:endCxn id="315" idx="2"/>
            </p:cNvCxnSpPr>
            <p:nvPr/>
          </p:nvCxnSpPr>
          <p:spPr>
            <a:xfrm flipV="1">
              <a:off x="1484280" y="1218960"/>
              <a:ext cx="82152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318" idx="0"/>
              <a:endCxn id="315" idx="2"/>
            </p:cNvCxnSpPr>
            <p:nvPr/>
          </p:nvCxnSpPr>
          <p:spPr>
            <a:xfrm flipH="1" flipV="1">
              <a:off x="2304360" y="1218960"/>
              <a:ext cx="75492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1159560" y="2124000"/>
            <a:ext cx="5538600" cy="459720"/>
            <a:chOff x="1159560" y="2124000"/>
            <a:chExt cx="5538600" cy="459720"/>
          </a:xfrm>
        </p:grpSpPr>
        <p:sp>
          <p:nvSpPr>
            <p:cNvPr id="322" name=""/>
            <p:cNvSpPr/>
            <p:nvPr/>
          </p:nvSpPr>
          <p:spPr>
            <a:xfrm>
              <a:off x="1159560" y="2124000"/>
              <a:ext cx="166968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02600" y="2124000"/>
              <a:ext cx="119556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6600"/>
                  </a:solidFill>
                  <a:latin typeface="Arial"/>
                </a:rPr>
                <a:t>Chaî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7560" y="21240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Ti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19280" y="2124000"/>
              <a:ext cx="121932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" name=""/>
            <p:cNvCxnSpPr>
              <a:stCxn id="322" idx="3"/>
              <a:endCxn id="325" idx="2"/>
            </p:cNvCxnSpPr>
            <p:nvPr/>
          </p:nvCxnSpPr>
          <p:spPr>
            <a:xfrm flipV="1">
              <a:off x="2836800" y="2352240"/>
              <a:ext cx="58320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" name=""/>
            <p:cNvCxnSpPr>
              <a:stCxn id="325" idx="6"/>
              <a:endCxn id="323" idx="1"/>
            </p:cNvCxnSpPr>
            <p:nvPr/>
          </p:nvCxnSpPr>
          <p:spPr>
            <a:xfrm>
              <a:off x="4638240" y="2352600"/>
              <a:ext cx="85788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8" name=""/>
            <p:cNvSpPr/>
            <p:nvPr/>
          </p:nvSpPr>
          <p:spPr>
            <a:xfrm>
              <a:off x="2982600" y="2136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30280" y="2136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159560" y="2809800"/>
            <a:ext cx="5640480" cy="459720"/>
            <a:chOff x="1159560" y="2809800"/>
            <a:chExt cx="5640480" cy="459720"/>
          </a:xfrm>
        </p:grpSpPr>
        <p:sp>
          <p:nvSpPr>
            <p:cNvPr id="331" name=""/>
            <p:cNvSpPr/>
            <p:nvPr/>
          </p:nvSpPr>
          <p:spPr>
            <a:xfrm>
              <a:off x="1159560" y="2809800"/>
              <a:ext cx="166968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02240" y="2809800"/>
              <a:ext cx="129780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65720" y="28098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Au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6360" y="2809800"/>
              <a:ext cx="152388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31" idx="3"/>
              <a:endCxn id="334" idx="2"/>
            </p:cNvCxnSpPr>
            <p:nvPr/>
          </p:nvCxnSpPr>
          <p:spPr>
            <a:xfrm flipV="1">
              <a:off x="2836440" y="3038040"/>
              <a:ext cx="44028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" name=""/>
            <p:cNvCxnSpPr>
              <a:stCxn id="334" idx="6"/>
              <a:endCxn id="332" idx="1"/>
            </p:cNvCxnSpPr>
            <p:nvPr/>
          </p:nvCxnSpPr>
          <p:spPr>
            <a:xfrm>
              <a:off x="4800240" y="3038400"/>
              <a:ext cx="6962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7" name=""/>
            <p:cNvSpPr/>
            <p:nvPr/>
          </p:nvSpPr>
          <p:spPr>
            <a:xfrm>
              <a:off x="2982600" y="2822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40000" y="2822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149480" y="3495600"/>
            <a:ext cx="5538960" cy="459720"/>
            <a:chOff x="1149480" y="3495600"/>
            <a:chExt cx="5538960" cy="459720"/>
          </a:xfrm>
        </p:grpSpPr>
        <p:sp>
          <p:nvSpPr>
            <p:cNvPr id="340" name=""/>
            <p:cNvSpPr/>
            <p:nvPr/>
          </p:nvSpPr>
          <p:spPr>
            <a:xfrm>
              <a:off x="1149480" y="3495600"/>
              <a:ext cx="129780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Hu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2880" y="3495600"/>
              <a:ext cx="1195560" cy="45972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006600"/>
                  </a:solidFill>
                  <a:latin typeface="Arial"/>
                </a:rPr>
                <a:t>Chaî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08640" y="3495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Arial"/>
                </a:rPr>
                <a:t>N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19280" y="3495600"/>
              <a:ext cx="1218960" cy="45720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>
              <a:stCxn id="340" idx="3"/>
              <a:endCxn id="343" idx="2"/>
            </p:cNvCxnSpPr>
            <p:nvPr/>
          </p:nvCxnSpPr>
          <p:spPr>
            <a:xfrm flipV="1">
              <a:off x="2454120" y="3723840"/>
              <a:ext cx="96552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43" idx="6"/>
              <a:endCxn id="341" idx="1"/>
            </p:cNvCxnSpPr>
            <p:nvPr/>
          </p:nvCxnSpPr>
          <p:spPr>
            <a:xfrm>
              <a:off x="4638240" y="3724200"/>
              <a:ext cx="84780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6" name=""/>
            <p:cNvSpPr/>
            <p:nvPr/>
          </p:nvSpPr>
          <p:spPr>
            <a:xfrm>
              <a:off x="2972520" y="3508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29920" y="3508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66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589200" y="5346720"/>
            <a:ext cx="132264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Ro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3120" y="5334120"/>
            <a:ext cx="265572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"Les Misérabl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46640" y="4584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Titr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4584600"/>
            <a:ext cx="121896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8" idx="3"/>
            <a:endCxn id="351" idx="2"/>
          </p:cNvCxnSpPr>
          <p:nvPr/>
        </p:nvCxnSpPr>
        <p:spPr>
          <a:xfrm flipV="1">
            <a:off x="4925520" y="4812480"/>
            <a:ext cx="165960" cy="7772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353" name=""/>
          <p:cNvCxnSpPr>
            <a:stCxn id="351" idx="6"/>
            <a:endCxn id="349" idx="0"/>
          </p:cNvCxnSpPr>
          <p:nvPr/>
        </p:nvCxnSpPr>
        <p:spPr>
          <a:xfrm>
            <a:off x="6338520" y="4812840"/>
            <a:ext cx="243720" cy="50688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354" name=""/>
          <p:cNvSpPr/>
          <p:nvPr/>
        </p:nvSpPr>
        <p:spPr>
          <a:xfrm>
            <a:off x="2133720" y="5346720"/>
            <a:ext cx="123804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Ho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9800" y="4572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Auteu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584600"/>
            <a:ext cx="144756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4" idx="0"/>
            <a:endCxn id="356" idx="2"/>
          </p:cNvCxnSpPr>
          <p:nvPr/>
        </p:nvCxnSpPr>
        <p:spPr>
          <a:xfrm flipV="1">
            <a:off x="2752560" y="4812840"/>
            <a:ext cx="53280" cy="5198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358" name=""/>
          <p:cNvCxnSpPr>
            <a:stCxn id="356" idx="6"/>
            <a:endCxn id="348" idx="0"/>
          </p:cNvCxnSpPr>
          <p:nvPr/>
        </p:nvCxnSpPr>
        <p:spPr>
          <a:xfrm flipH="1">
            <a:off x="4251240" y="4813200"/>
            <a:ext cx="30600" cy="5198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359" name=""/>
          <p:cNvSpPr/>
          <p:nvPr/>
        </p:nvSpPr>
        <p:spPr>
          <a:xfrm>
            <a:off x="956520" y="458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4597560"/>
            <a:ext cx="121932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2" idx="0"/>
            <a:endCxn id="360" idx="2"/>
          </p:cNvCxnSpPr>
          <p:nvPr/>
        </p:nvCxnSpPr>
        <p:spPr>
          <a:xfrm flipV="1">
            <a:off x="716040" y="4825800"/>
            <a:ext cx="108720" cy="49752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363" name=""/>
          <p:cNvCxnSpPr>
            <a:stCxn id="360" idx="6"/>
            <a:endCxn id="354" idx="1"/>
          </p:cNvCxnSpPr>
          <p:nvPr/>
        </p:nvCxnSpPr>
        <p:spPr>
          <a:xfrm>
            <a:off x="2071800" y="4825800"/>
            <a:ext cx="48240" cy="76428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362" name=""/>
          <p:cNvSpPr/>
          <p:nvPr/>
        </p:nvSpPr>
        <p:spPr>
          <a:xfrm>
            <a:off x="92160" y="5337000"/>
            <a:ext cx="124740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"Hugo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191120"/>
            <a:ext cx="80773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56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HO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71360" y="5791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8428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6600"/>
                </a:solidFill>
                <a:latin typeface="Arial"/>
              </a:rPr>
              <a:t>CH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68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6600"/>
                </a:solidFill>
                <a:latin typeface="Arial"/>
              </a:rPr>
              <a:t>CH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 rot="16200000">
            <a:off x="-1485360" y="179064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Ontologi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5880" y="4311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N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2480" y="43117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A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28000" y="43117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TI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BF85-60D9-4D7E-9B66-AC38687A5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 (Sans les terme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65640" y="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64200" y="7621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26120" y="1523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9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3680" y="1523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9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0"/>
            <a:endCxn id="374" idx="2"/>
          </p:cNvCxnSpPr>
          <p:nvPr/>
        </p:nvCxnSpPr>
        <p:spPr>
          <a:xfrm flipV="1">
            <a:off x="5711400" y="456480"/>
            <a:ext cx="25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6" idx="0"/>
            <a:endCxn id="375" idx="2"/>
          </p:cNvCxnSpPr>
          <p:nvPr/>
        </p:nvCxnSpPr>
        <p:spPr>
          <a:xfrm flipV="1">
            <a:off x="4873680" y="1218960"/>
            <a:ext cx="83880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7" idx="0"/>
            <a:endCxn id="375" idx="2"/>
          </p:cNvCxnSpPr>
          <p:nvPr/>
        </p:nvCxnSpPr>
        <p:spPr>
          <a:xfrm flipH="1" flipV="1">
            <a:off x="5711040" y="1218960"/>
            <a:ext cx="88020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722600" y="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1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60760" y="7621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0"/>
            <a:endCxn id="381" idx="2"/>
          </p:cNvCxnSpPr>
          <p:nvPr/>
        </p:nvCxnSpPr>
        <p:spPr>
          <a:xfrm flipH="1" flipV="1">
            <a:off x="2269800" y="456480"/>
            <a:ext cx="388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939960" y="1523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3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1523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4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4" idx="0"/>
            <a:endCxn id="382" idx="2"/>
          </p:cNvCxnSpPr>
          <p:nvPr/>
        </p:nvCxnSpPr>
        <p:spPr>
          <a:xfrm flipV="1">
            <a:off x="1487520" y="1218960"/>
            <a:ext cx="8215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5" idx="0"/>
            <a:endCxn id="382" idx="2"/>
          </p:cNvCxnSpPr>
          <p:nvPr/>
        </p:nvCxnSpPr>
        <p:spPr>
          <a:xfrm flipH="1" flipV="1">
            <a:off x="2307960" y="1218960"/>
            <a:ext cx="75456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260360" y="2124000"/>
            <a:ext cx="109368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6320" y="2124000"/>
            <a:ext cx="107820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00"/>
                </a:solidFill>
                <a:latin typeface="Arial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51760" y="2124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R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124000"/>
            <a:ext cx="1218960" cy="4572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8" idx="3"/>
            <a:endCxn id="391" idx="2"/>
          </p:cNvCxnSpPr>
          <p:nvPr/>
        </p:nvCxnSpPr>
        <p:spPr>
          <a:xfrm flipV="1">
            <a:off x="2361960" y="2351880"/>
            <a:ext cx="1058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"/>
          <p:cNvCxnSpPr>
            <a:stCxn id="391" idx="6"/>
            <a:endCxn id="389" idx="1"/>
          </p:cNvCxnSpPr>
          <p:nvPr/>
        </p:nvCxnSpPr>
        <p:spPr>
          <a:xfrm>
            <a:off x="4638600" y="2352240"/>
            <a:ext cx="9216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2982600" y="2136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30640" y="2136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60360" y="2809800"/>
            <a:ext cx="109368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53000" y="2809800"/>
            <a:ext cx="109368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86960" y="2809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R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809800"/>
            <a:ext cx="1523880" cy="4572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6" idx="3"/>
            <a:endCxn id="399" idx="2"/>
          </p:cNvCxnSpPr>
          <p:nvPr/>
        </p:nvCxnSpPr>
        <p:spPr>
          <a:xfrm flipV="1">
            <a:off x="2362320" y="3037680"/>
            <a:ext cx="9151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stCxn id="399" idx="6"/>
            <a:endCxn id="397" idx="1"/>
          </p:cNvCxnSpPr>
          <p:nvPr/>
        </p:nvCxnSpPr>
        <p:spPr>
          <a:xfrm>
            <a:off x="4800600" y="3038040"/>
            <a:ext cx="7452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2982600" y="2822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40000" y="2822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51000" y="3495600"/>
            <a:ext cx="109368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T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3720" y="3495600"/>
            <a:ext cx="107820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00"/>
                </a:solidFill>
                <a:latin typeface="Arial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1120" y="34956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R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3495600"/>
            <a:ext cx="1218960" cy="4572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4" idx="3"/>
            <a:endCxn id="407" idx="2"/>
          </p:cNvCxnSpPr>
          <p:nvPr/>
        </p:nvCxnSpPr>
        <p:spPr>
          <a:xfrm flipV="1">
            <a:off x="2352600" y="3723480"/>
            <a:ext cx="10677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7" idx="6"/>
            <a:endCxn id="405" idx="1"/>
          </p:cNvCxnSpPr>
          <p:nvPr/>
        </p:nvCxnSpPr>
        <p:spPr>
          <a:xfrm>
            <a:off x="4638240" y="3723840"/>
            <a:ext cx="9090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2973240" y="3508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30640" y="3508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89200" y="5346720"/>
            <a:ext cx="132264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124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0" y="5334120"/>
            <a:ext cx="263592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011011100100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48800" y="4584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R5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4584600"/>
            <a:ext cx="121896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2" idx="3"/>
            <a:endCxn id="415" idx="2"/>
          </p:cNvCxnSpPr>
          <p:nvPr/>
        </p:nvCxnSpPr>
        <p:spPr>
          <a:xfrm flipV="1">
            <a:off x="4925520" y="4812480"/>
            <a:ext cx="165960" cy="7772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417" name=""/>
          <p:cNvCxnSpPr>
            <a:stCxn id="415" idx="6"/>
            <a:endCxn id="413" idx="0"/>
          </p:cNvCxnSpPr>
          <p:nvPr/>
        </p:nvCxnSpPr>
        <p:spPr>
          <a:xfrm>
            <a:off x="6338520" y="4812840"/>
            <a:ext cx="235800" cy="50688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418" name=""/>
          <p:cNvSpPr/>
          <p:nvPr/>
        </p:nvSpPr>
        <p:spPr>
          <a:xfrm>
            <a:off x="2133720" y="5346720"/>
            <a:ext cx="123804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24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01240" y="4572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R568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4584600"/>
            <a:ext cx="144756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8" idx="0"/>
            <a:endCxn id="420" idx="2"/>
          </p:cNvCxnSpPr>
          <p:nvPr/>
        </p:nvCxnSpPr>
        <p:spPr>
          <a:xfrm flipV="1">
            <a:off x="2752560" y="4812840"/>
            <a:ext cx="53280" cy="5198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422" name=""/>
          <p:cNvCxnSpPr>
            <a:stCxn id="420" idx="6"/>
            <a:endCxn id="412" idx="0"/>
          </p:cNvCxnSpPr>
          <p:nvPr/>
        </p:nvCxnSpPr>
        <p:spPr>
          <a:xfrm flipH="1">
            <a:off x="4251240" y="4813200"/>
            <a:ext cx="30600" cy="51984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423" name=""/>
          <p:cNvSpPr/>
          <p:nvPr/>
        </p:nvSpPr>
        <p:spPr>
          <a:xfrm>
            <a:off x="957600" y="4584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R18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4597560"/>
            <a:ext cx="1219320" cy="457200"/>
          </a:xfrm>
          <a:prstGeom prst="ellipse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0"/>
            <a:endCxn id="424" idx="2"/>
          </p:cNvCxnSpPr>
          <p:nvPr/>
        </p:nvCxnSpPr>
        <p:spPr>
          <a:xfrm flipV="1">
            <a:off x="819000" y="4825800"/>
            <a:ext cx="5760" cy="49752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cxnSp>
        <p:nvCxnSpPr>
          <p:cNvPr id="427" name=""/>
          <p:cNvCxnSpPr>
            <a:stCxn id="424" idx="6"/>
            <a:endCxn id="418" idx="1"/>
          </p:cNvCxnSpPr>
          <p:nvPr/>
        </p:nvCxnSpPr>
        <p:spPr>
          <a:xfrm>
            <a:off x="2071800" y="4825800"/>
            <a:ext cx="48240" cy="764280"/>
          </a:xfrm>
          <a:prstGeom prst="straightConnector1">
            <a:avLst/>
          </a:prstGeom>
          <a:ln w="28440">
            <a:solidFill>
              <a:srgbClr val="000099"/>
            </a:solidFill>
            <a:prstDash val="sysDot"/>
            <a:miter/>
          </a:ln>
        </p:spPr>
      </p:cxnSp>
      <p:sp>
        <p:nvSpPr>
          <p:cNvPr id="426" name=""/>
          <p:cNvSpPr/>
          <p:nvPr/>
        </p:nvSpPr>
        <p:spPr>
          <a:xfrm>
            <a:off x="92520" y="5337000"/>
            <a:ext cx="1451880" cy="459720"/>
          </a:xfrm>
          <a:prstGeom prst="rect">
            <a:avLst/>
          </a:prstGeom>
          <a:noFill/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010010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191120"/>
            <a:ext cx="80773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11480" y="5791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CT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70280" y="5791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CT9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86080" y="5791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6600"/>
                </a:solidFill>
                <a:latin typeface="Arial"/>
              </a:rPr>
              <a:t>Char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1480" y="5791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6600"/>
                </a:solidFill>
                <a:latin typeface="Arial"/>
              </a:rPr>
              <a:t>Char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 rot="16200000">
            <a:off x="-1485360" y="179064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Ontologi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8120" y="431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CR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5520" y="4311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CR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95680" y="431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CR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5C5D-4FB1-4A24-A704-88526E43D4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Ontologie et limites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 système comprend ce que je veux qu'il comprenne </a:t>
            </a:r>
            <a:r>
              <a:rPr b="1" lang="fr-FR" sz="3000" spc="-1" strike="noStrike">
                <a:solidFill>
                  <a:srgbClr val="cc33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 système ne comprend que ce que je lui ai permis de comprendre </a:t>
            </a:r>
            <a:r>
              <a:rPr b="1" lang="fr-FR" sz="3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avail sur l'ontolog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omption entre document et livre </a:t>
            </a:r>
            <a:r>
              <a:rPr b="1" lang="fr-FR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omption entre véhicule et voiture </a:t>
            </a:r>
            <a:r>
              <a:rPr b="1" lang="fr-FR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l'agrégation: page/livre, portière/voiture </a:t>
            </a:r>
            <a:r>
              <a:rPr b="1" lang="fr-FR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avail sur les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isie: Hugo a écrit la légende des siècles </a:t>
            </a:r>
            <a:r>
              <a:rPr b="1" lang="fr-FR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érences sur l'agrégation </a:t>
            </a:r>
            <a:r>
              <a:rPr b="1" lang="fr-FR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tâche d'identification est vita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9578-E23D-47A7-B7CE-87F28583A6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Modélisation et Pluridisciplinarité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alyse de besoins, scénarios, use cases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entrale nucléaire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odélisation physique lourde, aide exp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cidentologie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ultiples points de vue, cohérence dans un travail collabo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Veille technologique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odélisation documentaire et organisa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dentification (Génie logiciel, Scénarios,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cquisition (Linguistique, Recue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élisation (Philosophie, Graph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férences (Psychologie, Logiq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782400" y="5030640"/>
            <a:ext cx="1141920" cy="838440"/>
            <a:chOff x="6782400" y="5030640"/>
            <a:chExt cx="1141920" cy="838440"/>
          </a:xfrm>
        </p:grpSpPr>
        <p:grpSp>
          <p:nvGrpSpPr>
            <p:cNvPr id="442" name=""/>
            <p:cNvGrpSpPr/>
            <p:nvPr/>
          </p:nvGrpSpPr>
          <p:grpSpPr>
            <a:xfrm>
              <a:off x="7148160" y="5030640"/>
              <a:ext cx="776160" cy="790560"/>
              <a:chOff x="7148160" y="5030640"/>
              <a:chExt cx="776160" cy="7905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148160" y="5030640"/>
                <a:ext cx="776160" cy="790560"/>
                <a:chOff x="7148160" y="5030640"/>
                <a:chExt cx="776160" cy="790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148160" y="5030640"/>
                  <a:ext cx="776160" cy="790560"/>
                </a:xfrm>
                <a:custGeom>
                  <a:avLst/>
                  <a:gdLst/>
                  <a:ahLst/>
                  <a:rect l="l" t="t" r="r" b="b"/>
                  <a:pathLst>
                    <a:path w="1465" h="1495">
                      <a:moveTo>
                        <a:pt x="0" y="426"/>
                      </a:moveTo>
                      <a:lnTo>
                        <a:pt x="448" y="0"/>
                      </a:lnTo>
                      <a:lnTo>
                        <a:pt x="1018" y="0"/>
                      </a:lnTo>
                      <a:lnTo>
                        <a:pt x="1465" y="426"/>
                      </a:lnTo>
                      <a:lnTo>
                        <a:pt x="1465" y="1042"/>
                      </a:lnTo>
                      <a:lnTo>
                        <a:pt x="1018" y="1495"/>
                      </a:lnTo>
                      <a:lnTo>
                        <a:pt x="448" y="1495"/>
                      </a:lnTo>
                      <a:lnTo>
                        <a:pt x="0" y="1042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00360" y="5084640"/>
                  <a:ext cx="671760" cy="682560"/>
                </a:xfrm>
                <a:custGeom>
                  <a:avLst/>
                  <a:gdLst/>
                  <a:ahLst/>
                  <a:rect l="l" t="t" r="r" b="b"/>
                  <a:pathLst>
                    <a:path w="1267" h="1292">
                      <a:moveTo>
                        <a:pt x="0" y="368"/>
                      </a:moveTo>
                      <a:lnTo>
                        <a:pt x="387" y="0"/>
                      </a:lnTo>
                      <a:lnTo>
                        <a:pt x="881" y="0"/>
                      </a:lnTo>
                      <a:lnTo>
                        <a:pt x="1267" y="368"/>
                      </a:lnTo>
                      <a:lnTo>
                        <a:pt x="1267" y="900"/>
                      </a:lnTo>
                      <a:lnTo>
                        <a:pt x="881" y="1292"/>
                      </a:lnTo>
                      <a:lnTo>
                        <a:pt x="387" y="1292"/>
                      </a:lnTo>
                      <a:lnTo>
                        <a:pt x="0" y="900"/>
                      </a:lnTo>
                      <a:lnTo>
                        <a:pt x="0" y="368"/>
                      </a:lnTo>
                    </a:path>
                  </a:pathLst>
                </a:custGeom>
                <a:noFill/>
                <a:ln w="49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200360" y="5084640"/>
                  <a:ext cx="671760" cy="682560"/>
                </a:xfrm>
                <a:custGeom>
                  <a:avLst/>
                  <a:gdLst/>
                  <a:ahLst/>
                  <a:rect l="l" t="t" r="r" b="b"/>
                  <a:pathLst>
                    <a:path w="1267" h="1292">
                      <a:moveTo>
                        <a:pt x="0" y="368"/>
                      </a:moveTo>
                      <a:lnTo>
                        <a:pt x="386" y="0"/>
                      </a:lnTo>
                      <a:lnTo>
                        <a:pt x="880" y="0"/>
                      </a:lnTo>
                      <a:lnTo>
                        <a:pt x="1267" y="368"/>
                      </a:lnTo>
                      <a:lnTo>
                        <a:pt x="1267" y="900"/>
                      </a:lnTo>
                      <a:lnTo>
                        <a:pt x="880" y="1292"/>
                      </a:lnTo>
                      <a:lnTo>
                        <a:pt x="386" y="1292"/>
                      </a:lnTo>
                      <a:lnTo>
                        <a:pt x="0" y="900"/>
                      </a:lnTo>
                      <a:lnTo>
                        <a:pt x="0" y="368"/>
                      </a:lnTo>
                    </a:path>
                  </a:pathLst>
                </a:custGeom>
                <a:noFill/>
                <a:ln w="30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240320" y="5253120"/>
                <a:ext cx="591840" cy="331560"/>
                <a:chOff x="7240320" y="5253120"/>
                <a:chExt cx="591840" cy="3315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700400" y="5253120"/>
                  <a:ext cx="131760" cy="331560"/>
                </a:xfrm>
                <a:custGeom>
                  <a:avLst/>
                  <a:gdLst/>
                  <a:ahLst/>
                  <a:rect l="l" t="t" r="r" b="b"/>
                  <a:pathLst>
                    <a:path w="250" h="628">
                      <a:moveTo>
                        <a:pt x="0" y="0"/>
                      </a:moveTo>
                      <a:lnTo>
                        <a:pt x="176" y="0"/>
                      </a:lnTo>
                      <a:lnTo>
                        <a:pt x="250" y="100"/>
                      </a:lnTo>
                      <a:lnTo>
                        <a:pt x="250" y="331"/>
                      </a:lnTo>
                      <a:lnTo>
                        <a:pt x="176" y="430"/>
                      </a:lnTo>
                      <a:lnTo>
                        <a:pt x="103" y="430"/>
                      </a:lnTo>
                      <a:lnTo>
                        <a:pt x="103" y="628"/>
                      </a:lnTo>
                      <a:lnTo>
                        <a:pt x="0" y="6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33720" y="5253120"/>
                  <a:ext cx="141480" cy="331560"/>
                </a:xfrm>
                <a:custGeom>
                  <a:avLst/>
                  <a:gdLst/>
                  <a:ahLst/>
                  <a:rect l="l" t="t" r="r" b="b"/>
                  <a:pathLst>
                    <a:path w="268" h="628">
                      <a:moveTo>
                        <a:pt x="74" y="0"/>
                      </a:moveTo>
                      <a:lnTo>
                        <a:pt x="194" y="0"/>
                      </a:lnTo>
                      <a:lnTo>
                        <a:pt x="268" y="100"/>
                      </a:lnTo>
                      <a:lnTo>
                        <a:pt x="268" y="528"/>
                      </a:lnTo>
                      <a:lnTo>
                        <a:pt x="194" y="628"/>
                      </a:lnTo>
                      <a:lnTo>
                        <a:pt x="74" y="628"/>
                      </a:lnTo>
                      <a:lnTo>
                        <a:pt x="0" y="539"/>
                      </a:lnTo>
                      <a:lnTo>
                        <a:pt x="0" y="10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40320" y="5253120"/>
                  <a:ext cx="131760" cy="331560"/>
                </a:xfrm>
                <a:custGeom>
                  <a:avLst/>
                  <a:gdLst/>
                  <a:ahLst/>
                  <a:rect l="l" t="t" r="r" b="b"/>
                  <a:pathLst>
                    <a:path w="249" h="628">
                      <a:moveTo>
                        <a:pt x="63" y="0"/>
                      </a:moveTo>
                      <a:lnTo>
                        <a:pt x="175" y="0"/>
                      </a:lnTo>
                      <a:lnTo>
                        <a:pt x="249" y="100"/>
                      </a:lnTo>
                      <a:lnTo>
                        <a:pt x="249" y="211"/>
                      </a:lnTo>
                      <a:lnTo>
                        <a:pt x="156" y="211"/>
                      </a:lnTo>
                      <a:lnTo>
                        <a:pt x="156" y="130"/>
                      </a:lnTo>
                      <a:lnTo>
                        <a:pt x="91" y="130"/>
                      </a:lnTo>
                      <a:lnTo>
                        <a:pt x="91" y="270"/>
                      </a:lnTo>
                      <a:lnTo>
                        <a:pt x="175" y="270"/>
                      </a:lnTo>
                      <a:lnTo>
                        <a:pt x="249" y="350"/>
                      </a:lnTo>
                      <a:lnTo>
                        <a:pt x="249" y="539"/>
                      </a:lnTo>
                      <a:lnTo>
                        <a:pt x="184" y="628"/>
                      </a:lnTo>
                      <a:lnTo>
                        <a:pt x="63" y="628"/>
                      </a:lnTo>
                      <a:lnTo>
                        <a:pt x="0" y="539"/>
                      </a:lnTo>
                      <a:lnTo>
                        <a:pt x="0" y="430"/>
                      </a:lnTo>
                      <a:lnTo>
                        <a:pt x="91" y="430"/>
                      </a:lnTo>
                      <a:lnTo>
                        <a:pt x="91" y="509"/>
                      </a:lnTo>
                      <a:lnTo>
                        <a:pt x="156" y="509"/>
                      </a:lnTo>
                      <a:lnTo>
                        <a:pt x="156" y="369"/>
                      </a:lnTo>
                      <a:lnTo>
                        <a:pt x="73" y="369"/>
                      </a:lnTo>
                      <a:lnTo>
                        <a:pt x="0" y="290"/>
                      </a:lnTo>
                      <a:lnTo>
                        <a:pt x="0" y="10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397280" y="5253120"/>
                  <a:ext cx="122400" cy="331560"/>
                </a:xfrm>
                <a:custGeom>
                  <a:avLst/>
                  <a:gdLst/>
                  <a:ahLst/>
                  <a:rect l="l" t="t" r="r" b="b"/>
                  <a:pathLst>
                    <a:path w="230" h="628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30"/>
                      </a:lnTo>
                      <a:lnTo>
                        <a:pt x="166" y="130"/>
                      </a:lnTo>
                      <a:lnTo>
                        <a:pt x="166" y="628"/>
                      </a:lnTo>
                      <a:lnTo>
                        <a:pt x="65" y="628"/>
                      </a:lnTo>
                      <a:lnTo>
                        <a:pt x="65" y="130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589520" y="5322960"/>
                  <a:ext cx="31680" cy="191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756200" y="5322960"/>
                  <a:ext cx="25200" cy="871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"/>
            <p:cNvSpPr/>
            <p:nvPr/>
          </p:nvSpPr>
          <p:spPr>
            <a:xfrm>
              <a:off x="6782400" y="52876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cc33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93320" y="5715000"/>
            <a:ext cx="76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Webdings"/>
                <a:ea typeface="Webdings"/>
              </a:rPr>
              <a:t></a:t>
            </a:r>
            <a:r>
              <a:rPr b="0" lang="fr-FR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cc3300"/>
                </a:solidFill>
                <a:latin typeface="Times New Roman"/>
              </a:rPr>
              <a:t>Solution technique à un problème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637F-08FE-4568-BF5D-E461DD1D2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Travail préliminaire sur Collègue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"Collègue" &amp; veille technolog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Identification lors d'un entreti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l faut que je diffuse ce document à mes collèg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mander une défini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Je suis ton collègue si on travaille dans la même équip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Vérifier par le recuei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groupe, entrepris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ictionnai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ersonne qui remplie la même fonction ou qui fait partie d'un même établissement qu'une aut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éfinition consensuel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'Collègue de Travail'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ersonne qui fait partie d'un même établissement qu'une aut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avail préliminaire indépendant techn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C5E2-2C3D-4A8F-9B14-008FF0620B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gniticien" descr=""/>
          <p:cNvPicPr/>
          <p:nvPr/>
        </p:nvPicPr>
        <p:blipFill>
          <a:blip r:embed="rId2"/>
          <a:stretch/>
        </p:blipFill>
        <p:spPr>
          <a:xfrm>
            <a:off x="0" y="-266760"/>
            <a:ext cx="6477120" cy="415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Histoire (Les systèmes expert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3733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Héritière des systèmes experts (1980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naissances dans la tête des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riture des règles de l'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expert (déduction / analy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Travail d'acquisition = goulet d'étr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89320" y="33526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808080"/>
                </a:solidFill>
                <a:latin typeface="Times New Roman"/>
              </a:rPr>
              <a:t>Le cognitici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042C-467F-43A5-BC70-222EA5D8F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Conclusion sur collègue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éfinition consensuel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'Collègue de Travail'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ersonne qui fait partie d'un même établissement qu'une aut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emi-formel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"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Une personne A et une personne B sont collègues de travail si et seulement si A fait partie d'un établissement E et B fait partie du même établissement 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Formel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                                          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(CollegueTrv,Personne A,Personne B) 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 Etablissement E)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&amp; 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(FaitPartie, A ,E)    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&amp;   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(FaitPartie, B, E)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 repose sur le consensus ontolog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ègue Travail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ême 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de "Distributio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A082-66D4-41A6-B4D1-500102D294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Conclusion sur la pluridisciplinarité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ncore la pluridisciplinarité (au-delà tech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ciologie (dimension colle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agement (politique, formulai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unication (Ergonomie,I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nguistique, Psychologi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'Ontologie n'est qu'une approche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olution complète à un problème comp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gration des éléments de solutions pluridisciplinaires pour une solution complè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thodologie complète, out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ation et 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oductibilité et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6B0-DB02-45D6-9E95-60F3455A3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Définitions justifiées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'ingénierie des connaissa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'étude de modèles symboliques formels plongés dans des systèmes d'usage; c'est l'ingénierie informatique et logique de modèles en fonction des usages qu'il rendent possibles et des appropriations qu'ils permettent.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systèmes à base de connaissa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de manipulation d'inscription pour peu que cette manipulation soit appréhendée et explicitement modélisée en fonction des usages et des fonctions qu'elle autorise.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65920" y="5230800"/>
            <a:ext cx="64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* INGÉNIERIE DES CONNAISS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ossier paru dans le bulletin de l'AFIA n°34 en juille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Jean Charlet, Manuel Zacklad etGilles Ka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44AE-CC61-4B29-B530-3903A1E2FC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Pour en savoir plus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320" y="228600"/>
            <a:ext cx="746748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Pour en savoir plu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yrolles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10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BN: 2-212-09110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www.irit.fr/GRACQ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férences utilisé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r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Bulletin de l'AFIA n°34 en juillet 1998, Jean Charlet, Manuel Zacklad et Gilles Kassel 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C Aujourd'hui quels enjeux par rapport aux organis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C'2000 Régine Teulier CN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i Fait Quoi? Acquisition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Bulletin de l'AFIA n°5 en mars 1991. Nathalie Aussenac (*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livre2" descr=""/>
          <p:cNvPicPr/>
          <p:nvPr/>
        </p:nvPicPr>
        <p:blipFill>
          <a:blip r:embed="rId2"/>
          <a:stretch/>
        </p:blipFill>
        <p:spPr>
          <a:xfrm>
            <a:off x="4491000" y="228600"/>
            <a:ext cx="262116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1EBB-E797-481C-A7AF-6CAA06CB65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Histoire (L'acquisition des connaissance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cquisition des Connaissances (Fin 8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Fournir au système les connaissances qui lui donneront son expertise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domaine de l'Intelligence Artific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s Systèmes Experts aux Systèmes à Base de Connaiss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naissance pas forcément explic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ruction collective de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la simulation d'expert à l'aide à l'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uverture à d'autres disciplines de l'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uverture aux sciences cogn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éthodes et out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Pluridisciplinarité, Cycle de v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B11A-B6A7-4B09-985C-7414700CEF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Histoire (Influences extérieure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ystèmes d'informations &amp; documenta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célération du temps d'accès à l'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duction de l'espace &amp; Géographi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MondeInternet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086600" cy="467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6E37-59AF-4EE0-A06B-2F0F8DB50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Histoire (Influences extérieure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ystèmes d'informations &amp; documenta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célération du temps d'accès à l'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duction de l'espace &amp; Géographi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388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ise de conscience des organis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onnaissance = ressource straté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onnaissance a un prix (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aux march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lle règle &amp; nouvel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quérir &amp; Capitaliser (mémoire d'entrepr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user &amp; Partager (individuel 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llect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oiter &amp; Créer (réactivité &amp; proactivit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F1E4-849A-4635-B642-F58ECF6AE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Histoire (Vers une ingénierie des connaissances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génierie des Connaissances (199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tude des concepts, méthodes et techniques permettant de modéliser et/ou d’acquérir les connaissances pour les systèmes réalisant ou aidant des humains à réaliser des tâches se formalisant à priori peu ou pa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cation &amp;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iques &amp; Outils (documents, entretie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élisation &amp; Form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age de modélisation (domaine, tâche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thodologies (KADS, KOD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age de représentation formelle (LO, LD, G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: navigation, inférence, explica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ance &amp;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AA43-FD1F-47E7-A903-603892AAFB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Domaine pluridisciplinaire (technologique)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telligence artific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'apprentissage symbolique, Rà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uille de donné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itement automatique du langage natu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ystèmes d'information &amp; documenta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 hypertex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Génie logic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ation Orientée 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ation 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terfaces Homme Mach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9DEB-A7D9-4467-B198-FACFF1562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Domaine pluridisciplinaire 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inguistique (Langage naturel, Terminolog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ogique (Raisonnement,Logiques formel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s de raisonnement hu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thodes de recueil des connaiss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rgonomie (IHM, approche utilisate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édagogie &amp; Enseign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hilosophie (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tolog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émiotique (Signes et représent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ociologie &amp; Anthropologie (collecti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3300"/>
                </a:solidFill>
                <a:latin typeface="Arial"/>
              </a:rPr>
              <a:t>Réciproquement, ces disciplines se nourrissent de nos nouvelles problémat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126A-24A1-4D28-B814-BAA8806AF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43896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IC: De nombreux domaines d'application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ide à la décision (médecine, manag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ide à la conception (ex: projet CE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moire d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cherche d'Informations (Web, Intran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eille techno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génierie docu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Formation (ex: Télé-enseign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magerie et multimé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avail collaboratif médiatis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ulti-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quipes / Entreprises virtu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720" y="5562720"/>
            <a:ext cx="1141920" cy="838440"/>
            <a:chOff x="6858720" y="5562720"/>
            <a:chExt cx="1141920" cy="838440"/>
          </a:xfrm>
        </p:grpSpPr>
        <p:grpSp>
          <p:nvGrpSpPr>
            <p:cNvPr id="105" name=""/>
            <p:cNvGrpSpPr/>
            <p:nvPr/>
          </p:nvGrpSpPr>
          <p:grpSpPr>
            <a:xfrm>
              <a:off x="7224480" y="5562720"/>
              <a:ext cx="776160" cy="790560"/>
              <a:chOff x="7224480" y="5562720"/>
              <a:chExt cx="776160" cy="7905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224480" y="5562720"/>
                <a:ext cx="776160" cy="790560"/>
                <a:chOff x="7224480" y="5562720"/>
                <a:chExt cx="776160" cy="7905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224480" y="5562720"/>
                  <a:ext cx="776160" cy="790560"/>
                </a:xfrm>
                <a:custGeom>
                  <a:avLst/>
                  <a:gdLst/>
                  <a:ahLst/>
                  <a:rect l="l" t="t" r="r" b="b"/>
                  <a:pathLst>
                    <a:path w="1465" h="1495">
                      <a:moveTo>
                        <a:pt x="0" y="426"/>
                      </a:moveTo>
                      <a:lnTo>
                        <a:pt x="448" y="0"/>
                      </a:lnTo>
                      <a:lnTo>
                        <a:pt x="1018" y="0"/>
                      </a:lnTo>
                      <a:lnTo>
                        <a:pt x="1465" y="426"/>
                      </a:lnTo>
                      <a:lnTo>
                        <a:pt x="1465" y="1042"/>
                      </a:lnTo>
                      <a:lnTo>
                        <a:pt x="1018" y="1495"/>
                      </a:lnTo>
                      <a:lnTo>
                        <a:pt x="448" y="1495"/>
                      </a:lnTo>
                      <a:lnTo>
                        <a:pt x="0" y="1042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6680" y="5616720"/>
                  <a:ext cx="671760" cy="682560"/>
                </a:xfrm>
                <a:custGeom>
                  <a:avLst/>
                  <a:gdLst/>
                  <a:ahLst/>
                  <a:rect l="l" t="t" r="r" b="b"/>
                  <a:pathLst>
                    <a:path w="1267" h="1292">
                      <a:moveTo>
                        <a:pt x="0" y="368"/>
                      </a:moveTo>
                      <a:lnTo>
                        <a:pt x="387" y="0"/>
                      </a:lnTo>
                      <a:lnTo>
                        <a:pt x="881" y="0"/>
                      </a:lnTo>
                      <a:lnTo>
                        <a:pt x="1267" y="368"/>
                      </a:lnTo>
                      <a:lnTo>
                        <a:pt x="1267" y="900"/>
                      </a:lnTo>
                      <a:lnTo>
                        <a:pt x="881" y="1292"/>
                      </a:lnTo>
                      <a:lnTo>
                        <a:pt x="387" y="1292"/>
                      </a:lnTo>
                      <a:lnTo>
                        <a:pt x="0" y="900"/>
                      </a:lnTo>
                      <a:lnTo>
                        <a:pt x="0" y="368"/>
                      </a:lnTo>
                    </a:path>
                  </a:pathLst>
                </a:custGeom>
                <a:noFill/>
                <a:ln w="49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76680" y="5616720"/>
                  <a:ext cx="671760" cy="682560"/>
                </a:xfrm>
                <a:custGeom>
                  <a:avLst/>
                  <a:gdLst/>
                  <a:ahLst/>
                  <a:rect l="l" t="t" r="r" b="b"/>
                  <a:pathLst>
                    <a:path w="1267" h="1292">
                      <a:moveTo>
                        <a:pt x="0" y="368"/>
                      </a:moveTo>
                      <a:lnTo>
                        <a:pt x="386" y="0"/>
                      </a:lnTo>
                      <a:lnTo>
                        <a:pt x="880" y="0"/>
                      </a:lnTo>
                      <a:lnTo>
                        <a:pt x="1267" y="368"/>
                      </a:lnTo>
                      <a:lnTo>
                        <a:pt x="1267" y="900"/>
                      </a:lnTo>
                      <a:lnTo>
                        <a:pt x="880" y="1292"/>
                      </a:lnTo>
                      <a:lnTo>
                        <a:pt x="386" y="1292"/>
                      </a:lnTo>
                      <a:lnTo>
                        <a:pt x="0" y="900"/>
                      </a:lnTo>
                      <a:lnTo>
                        <a:pt x="0" y="368"/>
                      </a:lnTo>
                    </a:path>
                  </a:pathLst>
                </a:custGeom>
                <a:noFill/>
                <a:ln w="30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316640" y="5785200"/>
                <a:ext cx="591840" cy="331560"/>
                <a:chOff x="7316640" y="5785200"/>
                <a:chExt cx="591840" cy="33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776720" y="5785200"/>
                  <a:ext cx="131760" cy="331560"/>
                </a:xfrm>
                <a:custGeom>
                  <a:avLst/>
                  <a:gdLst/>
                  <a:ahLst/>
                  <a:rect l="l" t="t" r="r" b="b"/>
                  <a:pathLst>
                    <a:path w="250" h="628">
                      <a:moveTo>
                        <a:pt x="0" y="0"/>
                      </a:moveTo>
                      <a:lnTo>
                        <a:pt x="176" y="0"/>
                      </a:lnTo>
                      <a:lnTo>
                        <a:pt x="250" y="100"/>
                      </a:lnTo>
                      <a:lnTo>
                        <a:pt x="250" y="331"/>
                      </a:lnTo>
                      <a:lnTo>
                        <a:pt x="176" y="430"/>
                      </a:lnTo>
                      <a:lnTo>
                        <a:pt x="103" y="430"/>
                      </a:lnTo>
                      <a:lnTo>
                        <a:pt x="103" y="628"/>
                      </a:lnTo>
                      <a:lnTo>
                        <a:pt x="0" y="6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610040" y="5785200"/>
                  <a:ext cx="141480" cy="331560"/>
                </a:xfrm>
                <a:custGeom>
                  <a:avLst/>
                  <a:gdLst/>
                  <a:ahLst/>
                  <a:rect l="l" t="t" r="r" b="b"/>
                  <a:pathLst>
                    <a:path w="268" h="628">
                      <a:moveTo>
                        <a:pt x="74" y="0"/>
                      </a:moveTo>
                      <a:lnTo>
                        <a:pt x="194" y="0"/>
                      </a:lnTo>
                      <a:lnTo>
                        <a:pt x="268" y="100"/>
                      </a:lnTo>
                      <a:lnTo>
                        <a:pt x="268" y="528"/>
                      </a:lnTo>
                      <a:lnTo>
                        <a:pt x="194" y="628"/>
                      </a:lnTo>
                      <a:lnTo>
                        <a:pt x="74" y="628"/>
                      </a:lnTo>
                      <a:lnTo>
                        <a:pt x="0" y="539"/>
                      </a:lnTo>
                      <a:lnTo>
                        <a:pt x="0" y="10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16640" y="5785200"/>
                  <a:ext cx="131760" cy="331560"/>
                </a:xfrm>
                <a:custGeom>
                  <a:avLst/>
                  <a:gdLst/>
                  <a:ahLst/>
                  <a:rect l="l" t="t" r="r" b="b"/>
                  <a:pathLst>
                    <a:path w="249" h="628">
                      <a:moveTo>
                        <a:pt x="63" y="0"/>
                      </a:moveTo>
                      <a:lnTo>
                        <a:pt x="175" y="0"/>
                      </a:lnTo>
                      <a:lnTo>
                        <a:pt x="249" y="100"/>
                      </a:lnTo>
                      <a:lnTo>
                        <a:pt x="249" y="211"/>
                      </a:lnTo>
                      <a:lnTo>
                        <a:pt x="156" y="211"/>
                      </a:lnTo>
                      <a:lnTo>
                        <a:pt x="156" y="130"/>
                      </a:lnTo>
                      <a:lnTo>
                        <a:pt x="91" y="130"/>
                      </a:lnTo>
                      <a:lnTo>
                        <a:pt x="91" y="270"/>
                      </a:lnTo>
                      <a:lnTo>
                        <a:pt x="175" y="270"/>
                      </a:lnTo>
                      <a:lnTo>
                        <a:pt x="249" y="350"/>
                      </a:lnTo>
                      <a:lnTo>
                        <a:pt x="249" y="539"/>
                      </a:lnTo>
                      <a:lnTo>
                        <a:pt x="184" y="628"/>
                      </a:lnTo>
                      <a:lnTo>
                        <a:pt x="63" y="628"/>
                      </a:lnTo>
                      <a:lnTo>
                        <a:pt x="0" y="539"/>
                      </a:lnTo>
                      <a:lnTo>
                        <a:pt x="0" y="430"/>
                      </a:lnTo>
                      <a:lnTo>
                        <a:pt x="91" y="430"/>
                      </a:lnTo>
                      <a:lnTo>
                        <a:pt x="91" y="509"/>
                      </a:lnTo>
                      <a:lnTo>
                        <a:pt x="156" y="509"/>
                      </a:lnTo>
                      <a:lnTo>
                        <a:pt x="156" y="369"/>
                      </a:lnTo>
                      <a:lnTo>
                        <a:pt x="73" y="369"/>
                      </a:lnTo>
                      <a:lnTo>
                        <a:pt x="0" y="290"/>
                      </a:lnTo>
                      <a:lnTo>
                        <a:pt x="0" y="10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473600" y="5785200"/>
                  <a:ext cx="122400" cy="331560"/>
                </a:xfrm>
                <a:custGeom>
                  <a:avLst/>
                  <a:gdLst/>
                  <a:ahLst/>
                  <a:rect l="l" t="t" r="r" b="b"/>
                  <a:pathLst>
                    <a:path w="230" h="628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30"/>
                      </a:lnTo>
                      <a:lnTo>
                        <a:pt x="166" y="130"/>
                      </a:lnTo>
                      <a:lnTo>
                        <a:pt x="166" y="628"/>
                      </a:lnTo>
                      <a:lnTo>
                        <a:pt x="65" y="628"/>
                      </a:lnTo>
                      <a:lnTo>
                        <a:pt x="65" y="130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65840" y="5855040"/>
                  <a:ext cx="31680" cy="191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832520" y="5855040"/>
                  <a:ext cx="25200" cy="871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6858720" y="5819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cc33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9567-537B-4A6E-8C02-733D20D94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9:12:49Z</dcterms:created>
  <dc:creator>fgandon</dc:creator>
  <dc:description/>
  <dc:language>en-US</dc:language>
  <cp:lastModifiedBy>fgandon</cp:lastModifiedBy>
  <dcterms:modified xsi:type="dcterms:W3CDTF">2000-12-01T17:31:03Z</dcterms:modified>
  <cp:revision>90</cp:revision>
  <dc:subject/>
  <dc:title>Aucun titre de diapositive</dc:title>
</cp:coreProperties>
</file>