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C7BE-7F59-45D7-B085-6DE1AB6C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E3D-8A22-401F-B71C-F1685639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63E-3434-44B0-AE7C-4743EA6F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3F1-0DEA-4C08-B8DE-657E25E6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BD3-005C-440D-B693-015487E6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5D1-5C9C-4075-854F-E90E4AF3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9052-F2C6-4488-AC15-DFDD9DB0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5BD-69FB-41C5-B0B7-10AE1F34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85F-5F51-44D3-B81B-269C1EA4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8554-22B7-4EC6-982F-1F67EC72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916-66BE-48A0-B480-B7E4044E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674-DB50-4121-BF81-38E46FB4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 juin 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C7F0-B9D7-44D9-96F0-BF29EE78D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ann02" descr=""/>
          <p:cNvPicPr/>
          <p:nvPr/>
        </p:nvPicPr>
        <p:blipFill>
          <a:blip r:embed="rId2"/>
          <a:stretch/>
        </p:blipFill>
        <p:spPr>
          <a:xfrm>
            <a:off x="685800" y="6172200"/>
            <a:ext cx="2879640" cy="27000"/>
          </a:xfrm>
          <a:prstGeom prst="rect">
            <a:avLst/>
          </a:prstGeom>
          <a:ln w="0">
            <a:noFill/>
          </a:ln>
        </p:spPr>
      </p:pic>
      <p:pic>
        <p:nvPicPr>
          <p:cNvPr id="6" name="bann02" descr=""/>
          <p:cNvPicPr/>
          <p:nvPr/>
        </p:nvPicPr>
        <p:blipFill>
          <a:blip r:embed="rId3"/>
          <a:stretch/>
        </p:blipFill>
        <p:spPr>
          <a:xfrm>
            <a:off x="5562720" y="6172200"/>
            <a:ext cx="2879640" cy="27000"/>
          </a:xfrm>
          <a:prstGeom prst="rect">
            <a:avLst/>
          </a:prstGeom>
          <a:ln w="0">
            <a:noFill/>
          </a:ln>
        </p:spPr>
      </p:pic>
      <p:pic>
        <p:nvPicPr>
          <p:cNvPr id="7" name="logo_sophia" descr=""/>
          <p:cNvPicPr/>
          <p:nvPr/>
        </p:nvPicPr>
        <p:blipFill>
          <a:blip r:embed="rId4"/>
          <a:stretch/>
        </p:blipFill>
        <p:spPr>
          <a:xfrm>
            <a:off x="3962520" y="5943600"/>
            <a:ext cx="1352520" cy="366840"/>
          </a:xfrm>
          <a:prstGeom prst="rect">
            <a:avLst/>
          </a:prstGeom>
          <a:ln w="0">
            <a:noFill/>
          </a:ln>
        </p:spPr>
      </p:pic>
      <p:pic>
        <p:nvPicPr>
          <p:cNvPr id="8" name="bann02" descr=""/>
          <p:cNvPicPr/>
          <p:nvPr/>
        </p:nvPicPr>
        <p:blipFill>
          <a:blip r:embed="rId5"/>
          <a:stretch/>
        </p:blipFill>
        <p:spPr>
          <a:xfrm>
            <a:off x="685800" y="533520"/>
            <a:ext cx="7737480" cy="2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éthodes et Outils pour la Gestion des Connaiss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2590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Rose DIE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sponsable scientifique du Projet AC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http://www.inria.fr/acacia/acacia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imes New Roman"/>
              </a:rPr>
              <a:t>«If you are not acquiring Knowledge,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fr-FR" sz="3200" spc="-1" strike="noStrike">
                <a:solidFill>
                  <a:srgbClr val="ff0000"/>
                </a:solidFill>
                <a:latin typeface="Times New Roman"/>
              </a:rPr>
              <a:t>you are losing it »</a:t>
            </a:r>
            <a:br>
              <a:rPr sz="3200"/>
            </a:br>
            <a:r>
              <a:rPr b="0" i="1" lang="fr-FR" sz="3200" spc="-1" strike="noStrike">
                <a:solidFill>
                  <a:srgbClr val="ff0000"/>
                </a:solidFill>
                <a:latin typeface="Times New Roman"/>
              </a:rPr>
              <a:t>Yuval Shah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D55-A826-4A89-918D-98C3DE9E83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Gestion de multiples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oints de v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imer le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arties commu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t le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iffé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re experti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dre en compte le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ifférentes terminolog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t le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ifférents points de  v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 expe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FDC-7025-4A74-B2FB-AA82C6B7B5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ULTIK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s d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mparais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ég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connaissances de plusieurs expert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ésentées par de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raphes Conceptu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c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ratégies pour gérer les confli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ruction d’une ontologie commune à plusieurs expe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781-0356-45DA-8436-92F101DF9F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oints de vue dans les G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74760" y="2496960"/>
            <a:ext cx="8497800" cy="2438640"/>
            <a:chOff x="374760" y="2496960"/>
            <a:chExt cx="8497800" cy="2438640"/>
          </a:xfrm>
        </p:grpSpPr>
        <p:sp>
          <p:nvSpPr>
            <p:cNvPr id="150" name=""/>
            <p:cNvSpPr/>
            <p:nvPr/>
          </p:nvSpPr>
          <p:spPr>
            <a:xfrm>
              <a:off x="1618200" y="2536920"/>
              <a:ext cx="175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Ontolog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20400" y="2581200"/>
              <a:ext cx="256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se de graph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4760" y="2511360"/>
              <a:ext cx="8485200" cy="24242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53120" y="4081320"/>
              <a:ext cx="254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e0000"/>
                  </a:solidFill>
                  <a:latin typeface="Comic Sans MS"/>
                </a:rPr>
                <a:t>Modèle C-VIS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05600" y="4083120"/>
              <a:ext cx="27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e0000"/>
                  </a:solidFill>
                  <a:latin typeface="Comic Sans MS"/>
                </a:rPr>
                <a:t>Modèle CG-VIS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32480" y="2496960"/>
              <a:ext cx="0" cy="2438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4120" y="3303360"/>
              <a:ext cx="635040" cy="1168560"/>
            </a:xfrm>
            <a:custGeom>
              <a:avLst/>
              <a:gdLst>
                <a:gd name="textAreaLeft" fmla="*/ 84960 w 635040"/>
                <a:gd name="textAreaRight" fmla="*/ 550080 w 635040"/>
                <a:gd name="textAreaTop" fmla="*/ 204480 h 1168560"/>
                <a:gd name="textAreaBottom" fmla="*/ 847440 h 116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0c0c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04240" y="3382920"/>
              <a:ext cx="634680" cy="1168200"/>
            </a:xfrm>
            <a:custGeom>
              <a:avLst/>
              <a:gdLst>
                <a:gd name="textAreaLeft" fmla="*/ 84960 w 634680"/>
                <a:gd name="textAreaRight" fmla="*/ 549720 w 634680"/>
                <a:gd name="textAreaTop" fmla="*/ 204480 h 1168200"/>
                <a:gd name="textAreaBottom" fmla="*/ 847080 h 116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0c0c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611-0E78-443D-B9B5-EB57246F0B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odèle C-VISTA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(Ontologi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Identifier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indexer</a:t>
            </a: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</a:t>
            </a: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terminologie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de différents experts (par ex. de métiers ou disciplines différ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tablir des </a:t>
            </a: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lien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ntre ces termi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ermettre la </a:t>
            </a: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multi-représentatio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des objets du doma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2C93-89A9-458F-9AAF-611AF15D50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-VISTA : Exe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560" y="2995560"/>
            <a:ext cx="13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cteur Acc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410840" y="3123360"/>
            <a:ext cx="3389760" cy="1312200"/>
            <a:chOff x="1410840" y="3123360"/>
            <a:chExt cx="3389760" cy="1312200"/>
          </a:xfrm>
        </p:grpSpPr>
        <p:sp>
          <p:nvSpPr>
            <p:cNvPr id="163" name=""/>
            <p:cNvSpPr/>
            <p:nvPr/>
          </p:nvSpPr>
          <p:spPr>
            <a:xfrm>
              <a:off x="1782720" y="3429000"/>
              <a:ext cx="3017880" cy="990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410840" y="3123360"/>
              <a:ext cx="3288240" cy="1312200"/>
              <a:chOff x="1410840" y="3123360"/>
              <a:chExt cx="3288240" cy="1312200"/>
            </a:xfrm>
          </p:grpSpPr>
          <p:sp>
            <p:nvSpPr>
              <p:cNvPr id="165" name=""/>
              <p:cNvSpPr/>
              <p:nvPr/>
            </p:nvSpPr>
            <p:spPr>
              <a:xfrm>
                <a:off x="1828440" y="3429000"/>
                <a:ext cx="28706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PDV: Infrastruct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ce0000"/>
                    </a:solidFill>
                    <a:latin typeface="Comic Sans MS"/>
                  </a:rPr>
                  <a:t>Contexte: Analyse Accid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ce0000"/>
                    </a:solidFill>
                    <a:latin typeface="Comic Sans MS"/>
                  </a:rPr>
                  <a:t>Objectif: Analyse infra comme facte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Personne: Joë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Domaine: Infrastruct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6" name=""/>
              <p:cNvCxnSpPr>
                <a:stCxn id="165" idx="1"/>
                <a:endCxn id="161" idx="3"/>
              </p:cNvCxnSpPr>
              <p:nvPr/>
            </p:nvCxnSpPr>
            <p:spPr>
              <a:xfrm flipH="1" flipV="1">
                <a:off x="1410840" y="3123360"/>
                <a:ext cx="372240" cy="80892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lg" type="triangle" w="med"/>
              </a:ln>
            </p:spPr>
          </p:cxnSp>
        </p:grpSp>
      </p:grpSp>
      <p:grpSp>
        <p:nvGrpSpPr>
          <p:cNvPr id="167" name=""/>
          <p:cNvGrpSpPr/>
          <p:nvPr/>
        </p:nvGrpSpPr>
        <p:grpSpPr>
          <a:xfrm>
            <a:off x="1418760" y="3133080"/>
            <a:ext cx="3762720" cy="2445480"/>
            <a:chOff x="1418760" y="3133080"/>
            <a:chExt cx="3762720" cy="2445480"/>
          </a:xfrm>
        </p:grpSpPr>
        <p:sp>
          <p:nvSpPr>
            <p:cNvPr id="168" name=""/>
            <p:cNvSpPr/>
            <p:nvPr/>
          </p:nvSpPr>
          <p:spPr>
            <a:xfrm>
              <a:off x="1782720" y="4572000"/>
              <a:ext cx="3398760" cy="990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1418760" y="3133080"/>
              <a:ext cx="3743280" cy="2445480"/>
              <a:chOff x="1418760" y="3133080"/>
              <a:chExt cx="3743280" cy="2445480"/>
            </a:xfrm>
          </p:grpSpPr>
          <p:sp>
            <p:nvSpPr>
              <p:cNvPr id="170" name=""/>
              <p:cNvSpPr/>
              <p:nvPr/>
            </p:nvSpPr>
            <p:spPr>
              <a:xfrm>
                <a:off x="1805400" y="4572000"/>
                <a:ext cx="33566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PDV: Véhicu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ce0000"/>
                    </a:solidFill>
                    <a:latin typeface="Comic Sans MS"/>
                  </a:rPr>
                  <a:t>Contexte: Analyse Accid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ce0000"/>
                    </a:solidFill>
                    <a:latin typeface="Comic Sans MS"/>
                  </a:rPr>
                  <a:t>Objectif: Analyse conducteur comme facte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Personne: Yv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Domaine: Psychologie du conducte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1" name=""/>
              <p:cNvCxnSpPr>
                <a:stCxn id="170" idx="1"/>
                <a:endCxn id="161" idx="3"/>
              </p:cNvCxnSpPr>
              <p:nvPr/>
            </p:nvCxnSpPr>
            <p:spPr>
              <a:xfrm flipH="1" flipV="1">
                <a:off x="1418760" y="3133080"/>
                <a:ext cx="364320" cy="194220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lg" type="triangle" w="med"/>
              </a:ln>
            </p:spPr>
          </p:cxnSp>
        </p:grpSp>
      </p:grpSp>
      <p:grpSp>
        <p:nvGrpSpPr>
          <p:cNvPr id="172" name=""/>
          <p:cNvGrpSpPr/>
          <p:nvPr/>
        </p:nvGrpSpPr>
        <p:grpSpPr>
          <a:xfrm>
            <a:off x="1418760" y="2286000"/>
            <a:ext cx="3610440" cy="1006560"/>
            <a:chOff x="1418760" y="2286000"/>
            <a:chExt cx="3610440" cy="1006560"/>
          </a:xfrm>
        </p:grpSpPr>
        <p:sp>
          <p:nvSpPr>
            <p:cNvPr id="173" name=""/>
            <p:cNvSpPr/>
            <p:nvPr/>
          </p:nvSpPr>
          <p:spPr>
            <a:xfrm>
              <a:off x="1828800" y="2286000"/>
              <a:ext cx="3200400" cy="990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418760" y="2286000"/>
              <a:ext cx="3564720" cy="1006560"/>
              <a:chOff x="1418760" y="2286000"/>
              <a:chExt cx="3564720" cy="1006560"/>
            </a:xfrm>
          </p:grpSpPr>
          <p:cxnSp>
            <p:nvCxnSpPr>
              <p:cNvPr id="175" name=""/>
              <p:cNvCxnSpPr>
                <a:stCxn id="176" idx="1"/>
                <a:endCxn id="161" idx="3"/>
              </p:cNvCxnSpPr>
              <p:nvPr/>
            </p:nvCxnSpPr>
            <p:spPr>
              <a:xfrm flipH="1">
                <a:off x="1418760" y="2788920"/>
                <a:ext cx="410400" cy="34524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lg" type="triangle" w="med"/>
              </a:ln>
            </p:spPr>
          </p:cxnSp>
          <p:sp>
            <p:nvSpPr>
              <p:cNvPr id="176" name=""/>
              <p:cNvSpPr/>
              <p:nvPr/>
            </p:nvSpPr>
            <p:spPr>
              <a:xfrm>
                <a:off x="1856880" y="2286000"/>
                <a:ext cx="31266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PDV: Véhicu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ce0000"/>
                    </a:solidFill>
                    <a:latin typeface="Comic Sans MS"/>
                  </a:rPr>
                  <a:t>Contexte: Analyse Accid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ce0000"/>
                    </a:solidFill>
                    <a:latin typeface="Comic Sans MS"/>
                  </a:rPr>
                  <a:t>Objectif: Analyse véhicule comme facte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Personne: Joë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Domaine: Infrastruct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5010840" y="2286000"/>
            <a:ext cx="2570400" cy="916200"/>
            <a:chOff x="5010840" y="2286000"/>
            <a:chExt cx="2570400" cy="916200"/>
          </a:xfrm>
        </p:grpSpPr>
        <p:grpSp>
          <p:nvGrpSpPr>
            <p:cNvPr id="178" name=""/>
            <p:cNvGrpSpPr/>
            <p:nvPr/>
          </p:nvGrpSpPr>
          <p:grpSpPr>
            <a:xfrm>
              <a:off x="5010840" y="2286000"/>
              <a:ext cx="1860480" cy="503640"/>
              <a:chOff x="5010840" y="2286000"/>
              <a:chExt cx="1860480" cy="503640"/>
            </a:xfrm>
          </p:grpSpPr>
          <p:sp>
            <p:nvSpPr>
              <p:cNvPr id="179" name=""/>
              <p:cNvSpPr/>
              <p:nvPr/>
            </p:nvSpPr>
            <p:spPr>
              <a:xfrm>
                <a:off x="5396760" y="2286000"/>
                <a:ext cx="147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Pneu_sous_gonflé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0" name=""/>
              <p:cNvCxnSpPr>
                <a:stCxn id="179" idx="1"/>
                <a:endCxn id="176" idx="3"/>
              </p:cNvCxnSpPr>
              <p:nvPr/>
            </p:nvCxnSpPr>
            <p:spPr>
              <a:xfrm flipH="1">
                <a:off x="5010840" y="2424240"/>
                <a:ext cx="399240" cy="36576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lg" type="triangle" w="med"/>
              </a:ln>
            </p:spPr>
          </p:cxnSp>
        </p:grpSp>
        <p:grpSp>
          <p:nvGrpSpPr>
            <p:cNvPr id="181" name=""/>
            <p:cNvGrpSpPr/>
            <p:nvPr/>
          </p:nvGrpSpPr>
          <p:grpSpPr>
            <a:xfrm>
              <a:off x="5011200" y="2743200"/>
              <a:ext cx="2570040" cy="459000"/>
              <a:chOff x="5011200" y="2743200"/>
              <a:chExt cx="2570040" cy="459000"/>
            </a:xfrm>
          </p:grpSpPr>
          <p:sp>
            <p:nvSpPr>
              <p:cNvPr id="182" name=""/>
              <p:cNvSpPr/>
              <p:nvPr/>
            </p:nvSpPr>
            <p:spPr>
              <a:xfrm>
                <a:off x="5222880" y="2743200"/>
                <a:ext cx="235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Inexistence_signal_spécifique_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sortie_chaussé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3" name=""/>
              <p:cNvCxnSpPr>
                <a:stCxn id="182" idx="1"/>
                <a:endCxn id="176" idx="3"/>
              </p:cNvCxnSpPr>
              <p:nvPr/>
            </p:nvCxnSpPr>
            <p:spPr>
              <a:xfrm flipH="1" flipV="1">
                <a:off x="5011200" y="2788560"/>
                <a:ext cx="170640" cy="18324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lg" type="triangle" w="med"/>
              </a:ln>
            </p:spPr>
          </p:cxnSp>
        </p:grpSp>
      </p:grpSp>
      <p:grpSp>
        <p:nvGrpSpPr>
          <p:cNvPr id="184" name=""/>
          <p:cNvGrpSpPr/>
          <p:nvPr/>
        </p:nvGrpSpPr>
        <p:grpSpPr>
          <a:xfrm>
            <a:off x="4800240" y="3505320"/>
            <a:ext cx="2424960" cy="962280"/>
            <a:chOff x="4800240" y="3505320"/>
            <a:chExt cx="2424960" cy="962280"/>
          </a:xfrm>
        </p:grpSpPr>
        <p:grpSp>
          <p:nvGrpSpPr>
            <p:cNvPr id="185" name=""/>
            <p:cNvGrpSpPr/>
            <p:nvPr/>
          </p:nvGrpSpPr>
          <p:grpSpPr>
            <a:xfrm>
              <a:off x="4800240" y="3505320"/>
              <a:ext cx="2218680" cy="419040"/>
              <a:chOff x="4800240" y="3505320"/>
              <a:chExt cx="2218680" cy="419040"/>
            </a:xfrm>
          </p:grpSpPr>
          <p:sp>
            <p:nvSpPr>
              <p:cNvPr id="186" name=""/>
              <p:cNvSpPr/>
              <p:nvPr/>
            </p:nvSpPr>
            <p:spPr>
              <a:xfrm>
                <a:off x="5332320" y="3505320"/>
                <a:ext cx="1686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Conflit_dépass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7" name=""/>
              <p:cNvCxnSpPr>
                <a:stCxn id="186" idx="1"/>
                <a:endCxn id="163" idx="3"/>
              </p:cNvCxnSpPr>
              <p:nvPr/>
            </p:nvCxnSpPr>
            <p:spPr>
              <a:xfrm flipH="1">
                <a:off x="4800240" y="3642840"/>
                <a:ext cx="534240" cy="28188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lg" type="triangle" w="med"/>
              </a:ln>
            </p:spPr>
          </p:cxnSp>
        </p:grpSp>
        <p:grpSp>
          <p:nvGrpSpPr>
            <p:cNvPr id="188" name=""/>
            <p:cNvGrpSpPr/>
            <p:nvPr/>
          </p:nvGrpSpPr>
          <p:grpSpPr>
            <a:xfrm>
              <a:off x="4800240" y="3809880"/>
              <a:ext cx="2424960" cy="276480"/>
              <a:chOff x="4800240" y="3809880"/>
              <a:chExt cx="2424960" cy="276480"/>
            </a:xfrm>
          </p:grpSpPr>
          <p:sp>
            <p:nvSpPr>
              <p:cNvPr id="189" name=""/>
              <p:cNvSpPr/>
              <p:nvPr/>
            </p:nvSpPr>
            <p:spPr>
              <a:xfrm>
                <a:off x="5276520" y="3809880"/>
                <a:ext cx="1948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Conflit_tourne_à_gauc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0" name=""/>
              <p:cNvCxnSpPr>
                <a:stCxn id="189" idx="1"/>
                <a:endCxn id="163" idx="3"/>
              </p:cNvCxnSpPr>
              <p:nvPr/>
            </p:nvCxnSpPr>
            <p:spPr>
              <a:xfrm flipH="1" flipV="1">
                <a:off x="4800240" y="3924000"/>
                <a:ext cx="457920" cy="2448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lg" type="triangle" w="med"/>
              </a:ln>
            </p:spPr>
          </p:cxnSp>
        </p:grpSp>
        <p:grpSp>
          <p:nvGrpSpPr>
            <p:cNvPr id="191" name=""/>
            <p:cNvGrpSpPr/>
            <p:nvPr/>
          </p:nvGrpSpPr>
          <p:grpSpPr>
            <a:xfrm>
              <a:off x="4800240" y="3924000"/>
              <a:ext cx="1746720" cy="543600"/>
              <a:chOff x="4800240" y="3924000"/>
              <a:chExt cx="1746720" cy="543600"/>
            </a:xfrm>
          </p:grpSpPr>
          <p:sp>
            <p:nvSpPr>
              <p:cNvPr id="192" name=""/>
              <p:cNvSpPr/>
              <p:nvPr/>
            </p:nvSpPr>
            <p:spPr>
              <a:xfrm>
                <a:off x="5354280" y="4191120"/>
                <a:ext cx="1192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Route_3_vo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3" name=""/>
              <p:cNvCxnSpPr>
                <a:stCxn id="192" idx="1"/>
                <a:endCxn id="163" idx="3"/>
              </p:cNvCxnSpPr>
              <p:nvPr/>
            </p:nvCxnSpPr>
            <p:spPr>
              <a:xfrm flipH="1" flipV="1">
                <a:off x="4800240" y="3924000"/>
                <a:ext cx="534240" cy="40536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lg" type="triangle" w="med"/>
              </a:ln>
            </p:spPr>
          </p:cxnSp>
        </p:grpSp>
      </p:grpSp>
      <p:grpSp>
        <p:nvGrpSpPr>
          <p:cNvPr id="194" name=""/>
          <p:cNvGrpSpPr/>
          <p:nvPr/>
        </p:nvGrpSpPr>
        <p:grpSpPr>
          <a:xfrm>
            <a:off x="5184360" y="4724280"/>
            <a:ext cx="1859040" cy="962280"/>
            <a:chOff x="5184360" y="4724280"/>
            <a:chExt cx="1859040" cy="962280"/>
          </a:xfrm>
        </p:grpSpPr>
        <p:grpSp>
          <p:nvGrpSpPr>
            <p:cNvPr id="195" name=""/>
            <p:cNvGrpSpPr/>
            <p:nvPr/>
          </p:nvGrpSpPr>
          <p:grpSpPr>
            <a:xfrm>
              <a:off x="5184360" y="4724280"/>
              <a:ext cx="1853640" cy="351000"/>
              <a:chOff x="5184360" y="4724280"/>
              <a:chExt cx="1853640" cy="351000"/>
            </a:xfrm>
          </p:grpSpPr>
          <p:sp>
            <p:nvSpPr>
              <p:cNvPr id="196" name=""/>
              <p:cNvSpPr/>
              <p:nvPr/>
            </p:nvSpPr>
            <p:spPr>
              <a:xfrm>
                <a:off x="5420160" y="4724280"/>
                <a:ext cx="1617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Connaissance_traj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7" name=""/>
              <p:cNvCxnSpPr>
                <a:stCxn id="196" idx="1"/>
                <a:endCxn id="170" idx="3"/>
              </p:cNvCxnSpPr>
              <p:nvPr/>
            </p:nvCxnSpPr>
            <p:spPr>
              <a:xfrm flipH="1">
                <a:off x="5184360" y="4862160"/>
                <a:ext cx="226080" cy="21348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lg" type="triangle" w="med"/>
              </a:ln>
            </p:spPr>
          </p:cxnSp>
        </p:grpSp>
        <p:grpSp>
          <p:nvGrpSpPr>
            <p:cNvPr id="198" name=""/>
            <p:cNvGrpSpPr/>
            <p:nvPr/>
          </p:nvGrpSpPr>
          <p:grpSpPr>
            <a:xfrm>
              <a:off x="5184360" y="5029200"/>
              <a:ext cx="1607400" cy="276480"/>
              <a:chOff x="5184360" y="5029200"/>
              <a:chExt cx="1607400" cy="276480"/>
            </a:xfrm>
          </p:grpSpPr>
          <p:sp>
            <p:nvSpPr>
              <p:cNvPr id="199" name=""/>
              <p:cNvSpPr/>
              <p:nvPr/>
            </p:nvSpPr>
            <p:spPr>
              <a:xfrm>
                <a:off x="5422320" y="5029200"/>
                <a:ext cx="136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Règle_à_adop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0" name=""/>
              <p:cNvCxnSpPr>
                <a:stCxn id="199" idx="1"/>
                <a:endCxn id="170" idx="3"/>
              </p:cNvCxnSpPr>
              <p:nvPr/>
            </p:nvCxnSpPr>
            <p:spPr>
              <a:xfrm flipH="1" flipV="1">
                <a:off x="5184360" y="5074920"/>
                <a:ext cx="226080" cy="9288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lg" type="triangle" w="med"/>
              </a:ln>
            </p:spPr>
          </p:cxnSp>
        </p:grpSp>
        <p:grpSp>
          <p:nvGrpSpPr>
            <p:cNvPr id="201" name=""/>
            <p:cNvGrpSpPr/>
            <p:nvPr/>
          </p:nvGrpSpPr>
          <p:grpSpPr>
            <a:xfrm>
              <a:off x="5184360" y="5074920"/>
              <a:ext cx="1859040" cy="611640"/>
              <a:chOff x="5184360" y="5074920"/>
              <a:chExt cx="1859040" cy="611640"/>
            </a:xfrm>
          </p:grpSpPr>
          <p:cxnSp>
            <p:nvCxnSpPr>
              <p:cNvPr id="202" name=""/>
              <p:cNvCxnSpPr>
                <a:endCxn id="170" idx="3"/>
              </p:cNvCxnSpPr>
              <p:nvPr/>
            </p:nvCxnSpPr>
            <p:spPr>
              <a:xfrm flipH="1" flipV="1">
                <a:off x="5184360" y="5074920"/>
                <a:ext cx="289440" cy="41184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lg" type="triangle" w="med"/>
              </a:ln>
            </p:spPr>
          </p:cxnSp>
          <p:sp>
            <p:nvSpPr>
              <p:cNvPr id="203" name=""/>
              <p:cNvSpPr/>
              <p:nvPr/>
            </p:nvSpPr>
            <p:spPr>
              <a:xfrm>
                <a:off x="5328000" y="5410080"/>
                <a:ext cx="1715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Ambiguïté_clignota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7010280" y="3947760"/>
            <a:ext cx="609840" cy="1600200"/>
            <a:chOff x="7010280" y="3947760"/>
            <a:chExt cx="609840" cy="1600200"/>
          </a:xfrm>
        </p:grpSpPr>
        <p:sp>
          <p:nvSpPr>
            <p:cNvPr id="205" name=""/>
            <p:cNvSpPr/>
            <p:nvPr/>
          </p:nvSpPr>
          <p:spPr>
            <a:xfrm>
              <a:off x="7010280" y="4114800"/>
              <a:ext cx="609840" cy="30492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Inc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3"/>
              <a:endCxn id="205" idx="4"/>
            </p:cNvCxnSpPr>
            <p:nvPr/>
          </p:nvCxnSpPr>
          <p:spPr>
            <a:xfrm flipV="1">
              <a:off x="7037280" y="4419000"/>
              <a:ext cx="278280" cy="112932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07" name=""/>
            <p:cNvCxnSpPr>
              <a:stCxn id="205" idx="0"/>
              <a:endCxn id="189" idx="3"/>
            </p:cNvCxnSpPr>
            <p:nvPr/>
          </p:nvCxnSpPr>
          <p:spPr>
            <a:xfrm flipV="1" rot="16200000">
              <a:off x="7196040" y="3994920"/>
              <a:ext cx="167040" cy="72000"/>
            </a:xfrm>
            <a:prstGeom prst="curvedConnector2">
              <a:avLst/>
            </a:prstGeom>
            <a:ln cap="sq" w="12600">
              <a:solidFill>
                <a:srgbClr val="000000"/>
              </a:solidFill>
              <a:miter/>
              <a:tailEnd len="lg" type="triangle" w="med"/>
            </a:ln>
          </p:spPr>
        </p:cxnSp>
      </p:grpSp>
      <p:grpSp>
        <p:nvGrpSpPr>
          <p:cNvPr id="208" name=""/>
          <p:cNvGrpSpPr/>
          <p:nvPr/>
        </p:nvGrpSpPr>
        <p:grpSpPr>
          <a:xfrm>
            <a:off x="7016040" y="3642480"/>
            <a:ext cx="1061280" cy="1905480"/>
            <a:chOff x="7016040" y="3642480"/>
            <a:chExt cx="1061280" cy="1905480"/>
          </a:xfrm>
        </p:grpSpPr>
        <p:sp>
          <p:nvSpPr>
            <p:cNvPr id="209" name=""/>
            <p:cNvSpPr/>
            <p:nvPr/>
          </p:nvSpPr>
          <p:spPr>
            <a:xfrm>
              <a:off x="7467480" y="3733920"/>
              <a:ext cx="609840" cy="30456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Inc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203" idx="3"/>
              <a:endCxn id="209" idx="5"/>
            </p:cNvCxnSpPr>
            <p:nvPr/>
          </p:nvCxnSpPr>
          <p:spPr>
            <a:xfrm flipV="1">
              <a:off x="7037280" y="3993480"/>
              <a:ext cx="951840" cy="1554840"/>
            </a:xfrm>
            <a:prstGeom prst="curvedConnector2">
              <a:avLst/>
            </a:prstGeom>
            <a:ln cap="sq"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11" name=""/>
            <p:cNvCxnSpPr>
              <a:stCxn id="209" idx="1"/>
              <a:endCxn id="186" idx="3"/>
            </p:cNvCxnSpPr>
            <p:nvPr/>
          </p:nvCxnSpPr>
          <p:spPr>
            <a:xfrm flipV="1" rot="16200000">
              <a:off x="7218360" y="3440160"/>
              <a:ext cx="135720" cy="540360"/>
            </a:xfrm>
            <a:prstGeom prst="curvedConnector2">
              <a:avLst/>
            </a:prstGeom>
            <a:ln cap="sq" w="12600">
              <a:solidFill>
                <a:srgbClr val="000000"/>
              </a:solidFill>
              <a:miter/>
              <a:tailEnd len="lg" type="triangle" w="med"/>
            </a:ln>
          </p:spPr>
        </p:cxnSp>
      </p:grpSp>
      <p:grpSp>
        <p:nvGrpSpPr>
          <p:cNvPr id="212" name=""/>
          <p:cNvGrpSpPr/>
          <p:nvPr/>
        </p:nvGrpSpPr>
        <p:grpSpPr>
          <a:xfrm>
            <a:off x="7036920" y="2666880"/>
            <a:ext cx="1649880" cy="2881440"/>
            <a:chOff x="7036920" y="2666880"/>
            <a:chExt cx="1649880" cy="2881440"/>
          </a:xfrm>
        </p:grpSpPr>
        <p:sp>
          <p:nvSpPr>
            <p:cNvPr id="213" name=""/>
            <p:cNvSpPr/>
            <p:nvPr/>
          </p:nvSpPr>
          <p:spPr>
            <a:xfrm>
              <a:off x="8077320" y="2666880"/>
              <a:ext cx="609480" cy="30492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qui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03" idx="3"/>
              <a:endCxn id="213" idx="5"/>
            </p:cNvCxnSpPr>
            <p:nvPr/>
          </p:nvCxnSpPr>
          <p:spPr>
            <a:xfrm flipV="1">
              <a:off x="7036920" y="2927160"/>
              <a:ext cx="1561320" cy="2621520"/>
            </a:xfrm>
            <a:prstGeom prst="curvedConnector2">
              <a:avLst/>
            </a:prstGeom>
            <a:ln cap="sq"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15" name=""/>
            <p:cNvCxnSpPr>
              <a:stCxn id="213" idx="2"/>
              <a:endCxn id="182" idx="3"/>
            </p:cNvCxnSpPr>
            <p:nvPr/>
          </p:nvCxnSpPr>
          <p:spPr>
            <a:xfrm flipV="1" rot="10800000">
              <a:off x="7622280" y="2818440"/>
              <a:ext cx="455040" cy="15300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786-5D79-43D1-A7F7-DD88BE1485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dèle CG-VISTA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Base de graph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205740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Identifier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indexer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les </a:t>
            </a: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connaissance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des différents expe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Intégrer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selon un </a:t>
            </a: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point de focalisation commu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les conn. des différents expe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Filtrer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l’accès à la base de connaissances, suivant le </a:t>
            </a: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profil utilisateur</a:t>
            </a: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Navigation orientée point de vu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3C4-3711-49A5-853F-0F3229288B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émoire d’entreprise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basée sur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émoire d’entreprise matérialisée da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documents XM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vec des </a:t>
            </a: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annotations sémantiqu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basées sur des </a:t>
            </a: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ontologi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t distribués sur l’</a:t>
            </a: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Intrane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ou le </a:t>
            </a: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Web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tologies et annotations peuvent être représentées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Graphes Conceptuel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langage de représentation des connaissances, utilisé en IA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u </a:t>
            </a: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RDF Schema / RDF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(langage recommandé par le W3C pour la description des ressources sur le Web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traducteurs entre ces lang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423-74DB-4848-9F49-5A93511E74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90720" y="457200"/>
            <a:ext cx="7086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émoire basée su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53200" y="1981080"/>
            <a:ext cx="3391920" cy="1981440"/>
            <a:chOff x="5353200" y="1981080"/>
            <a:chExt cx="3391920" cy="1981440"/>
          </a:xfrm>
        </p:grpSpPr>
        <p:grpSp>
          <p:nvGrpSpPr>
            <p:cNvPr id="222" name=""/>
            <p:cNvGrpSpPr/>
            <p:nvPr/>
          </p:nvGrpSpPr>
          <p:grpSpPr>
            <a:xfrm>
              <a:off x="5353200" y="2546280"/>
              <a:ext cx="3391920" cy="1416240"/>
              <a:chOff x="5353200" y="2546280"/>
              <a:chExt cx="3391920" cy="1416240"/>
            </a:xfrm>
          </p:grpSpPr>
          <p:sp>
            <p:nvSpPr>
              <p:cNvPr id="223" name=""/>
              <p:cNvSpPr/>
              <p:nvPr/>
            </p:nvSpPr>
            <p:spPr>
              <a:xfrm>
                <a:off x="5353200" y="2546280"/>
                <a:ext cx="2883240" cy="109656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525280" y="2641320"/>
                <a:ext cx="2917440" cy="115380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697360" y="2779200"/>
                <a:ext cx="2948040" cy="116820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595480" y="2895120"/>
                <a:ext cx="31496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&lt;accident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&lt;date&gt; 19 Mai 2000 &lt;/date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&lt;description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&lt;facteur&gt;le facteur d ’accident mis en cause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est un problème d ambiguïté clignotant sur une nationa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très fréquentée&lt;/facteur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&lt;/description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&lt;/accident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745240" y="1981080"/>
              <a:ext cx="204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ocuments X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933440" y="4599000"/>
            <a:ext cx="3295800" cy="1433520"/>
            <a:chOff x="4933440" y="4599000"/>
            <a:chExt cx="3295800" cy="1433520"/>
          </a:xfrm>
        </p:grpSpPr>
        <p:sp>
          <p:nvSpPr>
            <p:cNvPr id="229" name=""/>
            <p:cNvSpPr/>
            <p:nvPr/>
          </p:nvSpPr>
          <p:spPr>
            <a:xfrm>
              <a:off x="7213320" y="4848480"/>
              <a:ext cx="1015920" cy="11840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06160" y="5166000"/>
              <a:ext cx="1927800" cy="260280"/>
            </a:xfrm>
            <a:prstGeom prst="rightArrow">
              <a:avLst>
                <a:gd name="adj1" fmla="val 50000"/>
                <a:gd name="adj2" fmla="val 185166"/>
              </a:avLst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33440" y="4599000"/>
              <a:ext cx="257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Traduction RDF -&gt; G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Comic Sans MS"/>
                </a:rPr>
                <a:t>(CORES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526480" y="2895480"/>
            <a:ext cx="3268440" cy="1428840"/>
            <a:chOff x="2526480" y="2895480"/>
            <a:chExt cx="3268440" cy="1428840"/>
          </a:xfrm>
        </p:grpSpPr>
        <p:sp>
          <p:nvSpPr>
            <p:cNvPr id="233" name=""/>
            <p:cNvSpPr/>
            <p:nvPr/>
          </p:nvSpPr>
          <p:spPr>
            <a:xfrm>
              <a:off x="2526480" y="3414600"/>
              <a:ext cx="326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Recherche d’inform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tilisant les capacités des G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45080" y="3978360"/>
              <a:ext cx="433440" cy="3459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03760" y="2895480"/>
              <a:ext cx="966600" cy="43344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320" y="1905120"/>
            <a:ext cx="5961240" cy="4074480"/>
            <a:chOff x="4320" y="1905120"/>
            <a:chExt cx="5961240" cy="4074480"/>
          </a:xfrm>
        </p:grpSpPr>
        <p:grpSp>
          <p:nvGrpSpPr>
            <p:cNvPr id="237" name=""/>
            <p:cNvGrpSpPr/>
            <p:nvPr/>
          </p:nvGrpSpPr>
          <p:grpSpPr>
            <a:xfrm>
              <a:off x="1017720" y="2442600"/>
              <a:ext cx="655560" cy="698040"/>
              <a:chOff x="1017720" y="2442600"/>
              <a:chExt cx="655560" cy="698040"/>
            </a:xfrm>
          </p:grpSpPr>
          <p:sp>
            <p:nvSpPr>
              <p:cNvPr id="238" name=""/>
              <p:cNvSpPr/>
              <p:nvPr/>
            </p:nvSpPr>
            <p:spPr>
              <a:xfrm>
                <a:off x="1279800" y="2442960"/>
                <a:ext cx="55080" cy="6192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92480" y="2569320"/>
                <a:ext cx="55080" cy="615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493280" y="2838600"/>
                <a:ext cx="55080" cy="615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18200" y="3060720"/>
                <a:ext cx="55080" cy="615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378440" y="3079080"/>
                <a:ext cx="55080" cy="615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308960" y="2895120"/>
                <a:ext cx="55080" cy="6192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98440" y="3056760"/>
                <a:ext cx="55080" cy="615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15000" y="2739960"/>
                <a:ext cx="55080" cy="615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017720" y="2830680"/>
                <a:ext cx="55080" cy="6192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52720" y="2562480"/>
                <a:ext cx="55080" cy="615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8" name=""/>
              <p:cNvCxnSpPr>
                <a:stCxn id="238" idx="1"/>
                <a:endCxn id="247" idx="7"/>
              </p:cNvCxnSpPr>
              <p:nvPr/>
            </p:nvCxnSpPr>
            <p:spPr>
              <a:xfrm flipH="1">
                <a:off x="1199520" y="2451960"/>
                <a:ext cx="88560" cy="12024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49" name=""/>
              <p:cNvCxnSpPr>
                <a:stCxn id="238" idx="0"/>
                <a:endCxn id="239" idx="0"/>
              </p:cNvCxnSpPr>
              <p:nvPr/>
            </p:nvCxnSpPr>
            <p:spPr>
              <a:xfrm>
                <a:off x="1307520" y="2442600"/>
                <a:ext cx="113400" cy="12672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0" name=""/>
              <p:cNvCxnSpPr>
                <a:stCxn id="247" idx="2"/>
                <a:endCxn id="246" idx="7"/>
              </p:cNvCxnSpPr>
              <p:nvPr/>
            </p:nvCxnSpPr>
            <p:spPr>
              <a:xfrm flipH="1">
                <a:off x="1064160" y="2594160"/>
                <a:ext cx="88560" cy="24624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1" name=""/>
              <p:cNvCxnSpPr>
                <a:stCxn id="247" idx="1"/>
                <a:endCxn id="245" idx="0"/>
              </p:cNvCxnSpPr>
              <p:nvPr/>
            </p:nvCxnSpPr>
            <p:spPr>
              <a:xfrm>
                <a:off x="1161000" y="2571840"/>
                <a:ext cx="82800" cy="16848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2" name=""/>
              <p:cNvCxnSpPr>
                <a:stCxn id="239" idx="1"/>
                <a:endCxn id="243" idx="1"/>
              </p:cNvCxnSpPr>
              <p:nvPr/>
            </p:nvCxnSpPr>
            <p:spPr>
              <a:xfrm flipH="1">
                <a:off x="1316880" y="2577960"/>
                <a:ext cx="83520" cy="32652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3" name=""/>
              <p:cNvCxnSpPr>
                <a:stCxn id="239" idx="1"/>
                <a:endCxn id="240" idx="5"/>
              </p:cNvCxnSpPr>
              <p:nvPr/>
            </p:nvCxnSpPr>
            <p:spPr>
              <a:xfrm>
                <a:off x="1400760" y="2578320"/>
                <a:ext cx="140400" cy="31320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4" name=""/>
              <p:cNvCxnSpPr>
                <a:stCxn id="245" idx="5"/>
                <a:endCxn id="244" idx="1"/>
              </p:cNvCxnSpPr>
              <p:nvPr/>
            </p:nvCxnSpPr>
            <p:spPr>
              <a:xfrm flipH="1">
                <a:off x="1206000" y="2792520"/>
                <a:ext cx="55800" cy="27432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5" name=""/>
              <p:cNvCxnSpPr>
                <a:stCxn id="243" idx="2"/>
                <a:endCxn id="242" idx="0"/>
              </p:cNvCxnSpPr>
              <p:nvPr/>
            </p:nvCxnSpPr>
            <p:spPr>
              <a:xfrm>
                <a:off x="1308960" y="2926080"/>
                <a:ext cx="97920" cy="15300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6" name=""/>
              <p:cNvCxnSpPr>
                <a:stCxn id="243" idx="2"/>
                <a:endCxn id="244" idx="7"/>
              </p:cNvCxnSpPr>
              <p:nvPr/>
            </p:nvCxnSpPr>
            <p:spPr>
              <a:xfrm flipH="1">
                <a:off x="1245240" y="2926080"/>
                <a:ext cx="64080" cy="14004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7" name=""/>
              <p:cNvCxnSpPr>
                <a:stCxn id="240" idx="3"/>
                <a:endCxn id="241" idx="3"/>
              </p:cNvCxnSpPr>
              <p:nvPr/>
            </p:nvCxnSpPr>
            <p:spPr>
              <a:xfrm>
                <a:off x="1501560" y="2891160"/>
                <a:ext cx="125280" cy="22248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58" name=""/>
            <p:cNvSpPr/>
            <p:nvPr/>
          </p:nvSpPr>
          <p:spPr>
            <a:xfrm>
              <a:off x="575640" y="1919160"/>
              <a:ext cx="143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Ontolog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317520" y="2422080"/>
              <a:ext cx="655560" cy="698040"/>
              <a:chOff x="317520" y="2422080"/>
              <a:chExt cx="655560" cy="698040"/>
            </a:xfrm>
          </p:grpSpPr>
          <p:sp>
            <p:nvSpPr>
              <p:cNvPr id="260" name=""/>
              <p:cNvSpPr/>
              <p:nvPr/>
            </p:nvSpPr>
            <p:spPr>
              <a:xfrm>
                <a:off x="579600" y="2422440"/>
                <a:ext cx="55080" cy="6192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92280" y="2548800"/>
                <a:ext cx="55080" cy="615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3080" y="2818080"/>
                <a:ext cx="55080" cy="615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18000" y="3040200"/>
                <a:ext cx="55080" cy="615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78240" y="3058560"/>
                <a:ext cx="55080" cy="615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8760" y="2874600"/>
                <a:ext cx="55080" cy="6192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8240" y="3036240"/>
                <a:ext cx="55080" cy="615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14800" y="2719440"/>
                <a:ext cx="55080" cy="615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17520" y="2810160"/>
                <a:ext cx="55080" cy="6192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2520" y="2541960"/>
                <a:ext cx="55080" cy="615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0" name=""/>
              <p:cNvCxnSpPr>
                <a:stCxn id="260" idx="1"/>
                <a:endCxn id="269" idx="7"/>
              </p:cNvCxnSpPr>
              <p:nvPr/>
            </p:nvCxnSpPr>
            <p:spPr>
              <a:xfrm flipH="1">
                <a:off x="499320" y="2431440"/>
                <a:ext cx="88560" cy="12024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71" name=""/>
              <p:cNvCxnSpPr>
                <a:stCxn id="260" idx="0"/>
                <a:endCxn id="261" idx="0"/>
              </p:cNvCxnSpPr>
              <p:nvPr/>
            </p:nvCxnSpPr>
            <p:spPr>
              <a:xfrm>
                <a:off x="607320" y="2422080"/>
                <a:ext cx="113400" cy="12672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72" name=""/>
              <p:cNvCxnSpPr>
                <a:stCxn id="269" idx="2"/>
                <a:endCxn id="268" idx="7"/>
              </p:cNvCxnSpPr>
              <p:nvPr/>
            </p:nvCxnSpPr>
            <p:spPr>
              <a:xfrm flipH="1">
                <a:off x="363960" y="2573640"/>
                <a:ext cx="88560" cy="24624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73" name=""/>
              <p:cNvCxnSpPr>
                <a:stCxn id="269" idx="1"/>
                <a:endCxn id="267" idx="0"/>
              </p:cNvCxnSpPr>
              <p:nvPr/>
            </p:nvCxnSpPr>
            <p:spPr>
              <a:xfrm>
                <a:off x="460800" y="2551320"/>
                <a:ext cx="82800" cy="16848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74" name=""/>
              <p:cNvCxnSpPr>
                <a:stCxn id="261" idx="1"/>
                <a:endCxn id="265" idx="1"/>
              </p:cNvCxnSpPr>
              <p:nvPr/>
            </p:nvCxnSpPr>
            <p:spPr>
              <a:xfrm flipH="1">
                <a:off x="616680" y="2557440"/>
                <a:ext cx="83520" cy="32652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75" name=""/>
              <p:cNvCxnSpPr>
                <a:stCxn id="261" idx="1"/>
                <a:endCxn id="262" idx="5"/>
              </p:cNvCxnSpPr>
              <p:nvPr/>
            </p:nvCxnSpPr>
            <p:spPr>
              <a:xfrm>
                <a:off x="700560" y="2557800"/>
                <a:ext cx="140400" cy="31320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76" name=""/>
              <p:cNvCxnSpPr>
                <a:stCxn id="267" idx="5"/>
                <a:endCxn id="266" idx="1"/>
              </p:cNvCxnSpPr>
              <p:nvPr/>
            </p:nvCxnSpPr>
            <p:spPr>
              <a:xfrm flipH="1">
                <a:off x="505800" y="2772000"/>
                <a:ext cx="55800" cy="27432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77" name=""/>
              <p:cNvCxnSpPr>
                <a:stCxn id="265" idx="2"/>
                <a:endCxn id="264" idx="0"/>
              </p:cNvCxnSpPr>
              <p:nvPr/>
            </p:nvCxnSpPr>
            <p:spPr>
              <a:xfrm>
                <a:off x="608760" y="2905560"/>
                <a:ext cx="97920" cy="15300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78" name=""/>
              <p:cNvCxnSpPr>
                <a:stCxn id="265" idx="2"/>
                <a:endCxn id="266" idx="7"/>
              </p:cNvCxnSpPr>
              <p:nvPr/>
            </p:nvCxnSpPr>
            <p:spPr>
              <a:xfrm flipH="1">
                <a:off x="545040" y="2905560"/>
                <a:ext cx="64080" cy="14004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79" name=""/>
              <p:cNvCxnSpPr>
                <a:stCxn id="262" idx="3"/>
                <a:endCxn id="263" idx="3"/>
              </p:cNvCxnSpPr>
              <p:nvPr/>
            </p:nvCxnSpPr>
            <p:spPr>
              <a:xfrm>
                <a:off x="801360" y="2870640"/>
                <a:ext cx="125280" cy="22248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80" name=""/>
            <p:cNvSpPr/>
            <p:nvPr/>
          </p:nvSpPr>
          <p:spPr>
            <a:xfrm flipH="1">
              <a:off x="1600920" y="2414520"/>
              <a:ext cx="3606840" cy="431280"/>
            </a:xfrm>
            <a:custGeom>
              <a:avLst/>
              <a:gdLst>
                <a:gd name="textAreaLeft" fmla="*/ 631080 w 3606840"/>
                <a:gd name="textAreaRight" fmla="*/ 2615040 w 3606840"/>
                <a:gd name="textAreaTop" fmla="*/ 57600 h 431280"/>
                <a:gd name="textAreaBottom" fmla="*/ 373680 h 43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72000" y="1905120"/>
              <a:ext cx="319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Annotations sémantiques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52560" y="3352680"/>
              <a:ext cx="216000" cy="1037880"/>
            </a:xfrm>
            <a:prstGeom prst="downArrow">
              <a:avLst>
                <a:gd name="adj1" fmla="val 50000"/>
                <a:gd name="adj2" fmla="val 120125"/>
              </a:avLst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03200" y="3512880"/>
              <a:ext cx="138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éfinition d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ont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4320" y="4635360"/>
              <a:ext cx="3078720" cy="1344240"/>
              <a:chOff x="4320" y="4635360"/>
              <a:chExt cx="3078720" cy="1344240"/>
            </a:xfrm>
          </p:grpSpPr>
          <p:sp>
            <p:nvSpPr>
              <p:cNvPr id="285" name=""/>
              <p:cNvSpPr/>
              <p:nvPr/>
            </p:nvSpPr>
            <p:spPr>
              <a:xfrm>
                <a:off x="65160" y="4635360"/>
                <a:ext cx="3017880" cy="1344240"/>
              </a:xfrm>
              <a:prstGeom prst="rect">
                <a:avLst/>
              </a:prstGeom>
              <a:solidFill>
                <a:srgbClr val="80808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320" y="4681080"/>
                <a:ext cx="1220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RDF Schem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7040" y="5013000"/>
                <a:ext cx="2801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Comic Sans MS"/>
                  </a:rPr>
                  <a:t>&lt;rdfs:Class rdf:ID=« Facteur-Accident »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Comic Sans MS"/>
                  </a:rPr>
                  <a:t>&lt;rdfs:suclassOf rdf:ressource=« http:/…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Comic Sans MS"/>
                  </a:rPr>
                  <a:t>&lt;/rdfs: Class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Comic Sans MS"/>
                  </a:rPr>
                  <a:t>&lt;rdfs:Class rdf:ID=« Ambiguite-clignotant »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Comic Sans MS"/>
                  </a:rPr>
                  <a:t>&lt;rdfs:SuClassOf rdf:ressource=« #Facteur-Accident » /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Comic Sans MS"/>
                  </a:rPr>
                  <a:t>&lt;/rdfs:Class&gt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200040" y="4495680"/>
            <a:ext cx="1522800" cy="1602000"/>
            <a:chOff x="3200040" y="4495680"/>
            <a:chExt cx="1522800" cy="1602000"/>
          </a:xfrm>
        </p:grpSpPr>
        <p:cxnSp>
          <p:nvCxnSpPr>
            <p:cNvPr id="289" name=""/>
            <p:cNvCxnSpPr>
              <a:stCxn id="285" idx="3"/>
              <a:endCxn id="290" idx="1"/>
            </p:cNvCxnSpPr>
            <p:nvPr/>
          </p:nvCxnSpPr>
          <p:spPr>
            <a:xfrm flipV="1">
              <a:off x="3200040" y="4703040"/>
              <a:ext cx="859320" cy="49140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</a:ln>
          </p:spPr>
        </p:cxnSp>
        <p:cxnSp>
          <p:nvCxnSpPr>
            <p:cNvPr id="291" name=""/>
            <p:cNvCxnSpPr>
              <a:stCxn id="285" idx="3"/>
              <a:endCxn id="292" idx="1"/>
            </p:cNvCxnSpPr>
            <p:nvPr/>
          </p:nvCxnSpPr>
          <p:spPr>
            <a:xfrm>
              <a:off x="3200400" y="5194440"/>
              <a:ext cx="838800" cy="12456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</a:ln>
          </p:spPr>
        </p:cxnSp>
        <p:cxnSp>
          <p:nvCxnSpPr>
            <p:cNvPr id="293" name=""/>
            <p:cNvCxnSpPr>
              <a:stCxn id="285" idx="3"/>
              <a:endCxn id="294" idx="1"/>
            </p:cNvCxnSpPr>
            <p:nvPr/>
          </p:nvCxnSpPr>
          <p:spPr>
            <a:xfrm>
              <a:off x="3200400" y="5194080"/>
              <a:ext cx="846720" cy="7102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4059000" y="4508640"/>
              <a:ext cx="663840" cy="3888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46400" y="5708520"/>
              <a:ext cx="663480" cy="3891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38480" y="5122800"/>
              <a:ext cx="663480" cy="3891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31280" y="4495680"/>
              <a:ext cx="5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D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16880" y="5692680"/>
              <a:ext cx="5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D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31280" y="5116680"/>
              <a:ext cx="5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D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2BB-1845-470B-808B-D72E9FF353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ff"/>
                </a:solidFill>
                <a:latin typeface="Times New Roman"/>
              </a:rPr>
              <a:t>CORESE </a:t>
            </a:r>
            <a:br>
              <a:rPr sz="4400"/>
            </a:br>
            <a:r>
              <a:rPr b="1" lang="fr-FR" sz="3200" spc="-1" strike="noStrike">
                <a:solidFill>
                  <a:srgbClr val="0000ff"/>
                </a:solidFill>
                <a:latin typeface="Times New Roman"/>
              </a:rPr>
              <a:t>(Conceptual Resource Search Eng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imes New Roman"/>
              </a:rPr>
              <a:t>Interprétation en Graphes Conceptuels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des ontologies décrites en RDF Schema et des annotations RDF sur les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imes New Roman"/>
              </a:rPr>
              <a:t>Raisonnement sur les GC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pour améliorer la recherche d’inform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99D-C284-4C09-8756-FB35044877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quêtes CORE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91800" y="2057400"/>
            <a:ext cx="74660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La requête 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3880" y="2590920"/>
            <a:ext cx="13240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Acc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8480" y="2590920"/>
            <a:ext cx="1629000" cy="34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itué-s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2514600"/>
            <a:ext cx="19047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Console"/>
              </a:rPr>
              <a:t>Carref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95480" y="2743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5000" y="2743200"/>
            <a:ext cx="581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962520"/>
            <a:ext cx="807732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Accident-carrefour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:http://www.somewhere.net/doc.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90920" y="4572000"/>
            <a:ext cx="1838160" cy="34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itué-s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828800" y="5410080"/>
            <a:ext cx="4648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Console"/>
              </a:rPr>
              <a:t>Giratoire: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Route des Luci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5120" y="4724280"/>
            <a:ext cx="86788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13960" y="3165480"/>
            <a:ext cx="60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ettra de retrouver un document annoté pa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369-0305-4E4D-97BB-B5FFBCB78D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a Gestion des Connaiss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1680" y="4800600"/>
            <a:ext cx="628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ion des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essources de connaissa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ns 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rganis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ur faciliter leur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ccès, partage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éutilis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8240" y="1608120"/>
            <a:ext cx="68580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75880" y="1760400"/>
            <a:ext cx="1381320" cy="1286280"/>
            <a:chOff x="875880" y="1760400"/>
            <a:chExt cx="1381320" cy="1286280"/>
          </a:xfrm>
        </p:grpSpPr>
        <p:pic>
          <p:nvPicPr>
            <p:cNvPr id="51" name="Personnes" descr=""/>
            <p:cNvPicPr/>
            <p:nvPr/>
          </p:nvPicPr>
          <p:blipFill>
            <a:blip r:embed="rId1"/>
            <a:stretch/>
          </p:blipFill>
          <p:spPr>
            <a:xfrm>
              <a:off x="1257120" y="1760400"/>
              <a:ext cx="100008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75880" y="2647800"/>
              <a:ext cx="138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écialis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855880" y="1760400"/>
            <a:ext cx="1639080" cy="1286280"/>
            <a:chOff x="2855880" y="1760400"/>
            <a:chExt cx="1639080" cy="1286280"/>
          </a:xfrm>
        </p:grpSpPr>
        <p:pic>
          <p:nvPicPr>
            <p:cNvPr id="54" name="Plume" descr=""/>
            <p:cNvPicPr/>
            <p:nvPr/>
          </p:nvPicPr>
          <p:blipFill>
            <a:blip r:embed="rId2"/>
            <a:stretch/>
          </p:blipFill>
          <p:spPr>
            <a:xfrm>
              <a:off x="3378600" y="1760400"/>
              <a:ext cx="88560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855880" y="2647800"/>
              <a:ext cx="163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tes, dess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991040" y="1700280"/>
            <a:ext cx="2527200" cy="1237320"/>
            <a:chOff x="4991040" y="1700280"/>
            <a:chExt cx="2527200" cy="1237320"/>
          </a:xfrm>
        </p:grpSpPr>
        <p:pic>
          <p:nvPicPr>
            <p:cNvPr id="57" name="Livre" descr=""/>
            <p:cNvPicPr/>
            <p:nvPr/>
          </p:nvPicPr>
          <p:blipFill>
            <a:blip r:embed="rId3"/>
            <a:stretch/>
          </p:blipFill>
          <p:spPr>
            <a:xfrm>
              <a:off x="5949720" y="1700280"/>
              <a:ext cx="609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991040" y="2233800"/>
              <a:ext cx="252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cuments papi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rapports,manuel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933640" y="3436920"/>
            <a:ext cx="1806480" cy="1161000"/>
            <a:chOff x="2933640" y="3436920"/>
            <a:chExt cx="1806480" cy="1161000"/>
          </a:xfrm>
        </p:grpSpPr>
        <p:pic>
          <p:nvPicPr>
            <p:cNvPr id="60" name="Elec-doc" descr=""/>
            <p:cNvPicPr/>
            <p:nvPr/>
          </p:nvPicPr>
          <p:blipFill>
            <a:blip r:embed="rId4"/>
            <a:stretch/>
          </p:blipFill>
          <p:spPr>
            <a:xfrm>
              <a:off x="3531960" y="3436920"/>
              <a:ext cx="609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933640" y="3894120"/>
              <a:ext cx="180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cument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électroniq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446800" y="3284640"/>
            <a:ext cx="1406160" cy="1362600"/>
            <a:chOff x="5446800" y="3284640"/>
            <a:chExt cx="1406160" cy="1362600"/>
          </a:xfrm>
        </p:grpSpPr>
        <p:pic>
          <p:nvPicPr>
            <p:cNvPr id="63" name="Multimedia" descr=""/>
            <p:cNvPicPr/>
            <p:nvPr/>
          </p:nvPicPr>
          <p:blipFill>
            <a:blip r:embed="rId5"/>
            <a:stretch/>
          </p:blipFill>
          <p:spPr>
            <a:xfrm>
              <a:off x="5891040" y="3284640"/>
              <a:ext cx="76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446800" y="3943440"/>
              <a:ext cx="140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ocument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multiméd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05200" y="3436920"/>
            <a:ext cx="1142280" cy="1209960"/>
            <a:chOff x="1105200" y="3436920"/>
            <a:chExt cx="1142280" cy="1209960"/>
          </a:xfrm>
        </p:grpSpPr>
        <p:pic>
          <p:nvPicPr>
            <p:cNvPr id="66" name="BD" descr=""/>
            <p:cNvPicPr/>
            <p:nvPr/>
          </p:nvPicPr>
          <p:blipFill>
            <a:blip r:embed="rId6"/>
            <a:stretch/>
          </p:blipFill>
          <p:spPr>
            <a:xfrm>
              <a:off x="1468080" y="3436920"/>
              <a:ext cx="6098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105200" y="3943080"/>
              <a:ext cx="114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Bases 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onné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A880-0711-4475-A79E-C74F7AC3E4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14400" y="457200"/>
            <a:ext cx="7086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jet Européen COM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204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80640" y="2819520"/>
            <a:ext cx="2610000" cy="1128600"/>
            <a:chOff x="1880640" y="2819520"/>
            <a:chExt cx="2610000" cy="1128600"/>
          </a:xfrm>
        </p:grpSpPr>
        <p:sp>
          <p:nvSpPr>
            <p:cNvPr id="317" name=""/>
            <p:cNvSpPr/>
            <p:nvPr/>
          </p:nvSpPr>
          <p:spPr>
            <a:xfrm>
              <a:off x="1909800" y="2822400"/>
              <a:ext cx="2576520" cy="11257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880640" y="2819520"/>
              <a:ext cx="2610000" cy="1128600"/>
              <a:chOff x="1880640" y="2819520"/>
              <a:chExt cx="2610000" cy="1128600"/>
            </a:xfrm>
          </p:grpSpPr>
          <p:sp>
            <p:nvSpPr>
              <p:cNvPr id="319" name=""/>
              <p:cNvSpPr/>
              <p:nvPr/>
            </p:nvSpPr>
            <p:spPr>
              <a:xfrm>
                <a:off x="1880640" y="2819520"/>
                <a:ext cx="261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omic Sans MS"/>
                  </a:rPr>
                  <a:t>Annotations RD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vec des </a:t>
                </a:r>
                <a:r>
                  <a:rPr b="0" lang="en-US" sz="1800" spc="-1" strike="noStrike">
                    <a:solidFill>
                      <a:srgbClr val="0000ff"/>
                    </a:solidFill>
                    <a:latin typeface="Comic Sans MS"/>
                  </a:rPr>
                  <a:t>points de v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1909800" y="3386160"/>
                <a:ext cx="2576520" cy="561960"/>
                <a:chOff x="1909800" y="3386160"/>
                <a:chExt cx="2576520" cy="5619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1990800" y="3516480"/>
                  <a:ext cx="2419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Documents XM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909800" y="3386160"/>
                  <a:ext cx="2576520" cy="561960"/>
                </a:xfrm>
                <a:prstGeom prst="rect">
                  <a:avLst/>
                </a:prstGeom>
                <a:noFill/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3" name=""/>
          <p:cNvSpPr/>
          <p:nvPr/>
        </p:nvSpPr>
        <p:spPr>
          <a:xfrm>
            <a:off x="1143000" y="2209680"/>
            <a:ext cx="4894200" cy="381024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35360" y="5181480"/>
            <a:ext cx="205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tilisateur fi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Nouvel employé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eilleu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5120" y="2666880"/>
            <a:ext cx="1792440" cy="1203120"/>
            <a:chOff x="195120" y="2666880"/>
            <a:chExt cx="1792440" cy="1203120"/>
          </a:xfrm>
        </p:grpSpPr>
        <p:sp>
          <p:nvSpPr>
            <p:cNvPr id="326" name=""/>
            <p:cNvSpPr/>
            <p:nvPr/>
          </p:nvSpPr>
          <p:spPr>
            <a:xfrm>
              <a:off x="195120" y="3227400"/>
              <a:ext cx="141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u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ocu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2120" y="2666880"/>
              <a:ext cx="1225440" cy="622440"/>
            </a:xfrm>
            <a:custGeom>
              <a:avLst/>
              <a:gdLst>
                <a:gd name="textAreaLeft" fmla="*/ 214200 w 1225440"/>
                <a:gd name="textAreaRight" fmla="*/ 888480 w 1225440"/>
                <a:gd name="textAreaTop" fmla="*/ 83160 h 622440"/>
                <a:gd name="textAreaBottom" fmla="*/ 53928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-29160" y="4038480"/>
            <a:ext cx="1904040" cy="1388880"/>
            <a:chOff x="-29160" y="4038480"/>
            <a:chExt cx="1904040" cy="1388880"/>
          </a:xfrm>
        </p:grpSpPr>
        <p:sp>
          <p:nvSpPr>
            <p:cNvPr id="329" name=""/>
            <p:cNvSpPr/>
            <p:nvPr/>
          </p:nvSpPr>
          <p:spPr>
            <a:xfrm>
              <a:off x="-29160" y="4784760"/>
              <a:ext cx="155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réateu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 ’ontolog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6360" y="4038480"/>
              <a:ext cx="1298520" cy="663480"/>
            </a:xfrm>
            <a:custGeom>
              <a:avLst/>
              <a:gdLst>
                <a:gd name="textAreaLeft" fmla="*/ 227160 w 1298520"/>
                <a:gd name="textAreaRight" fmla="*/ 941400 w 1298520"/>
                <a:gd name="textAreaTop" fmla="*/ 88920 h 663480"/>
                <a:gd name="textAreaBottom" fmla="*/ 574560 h 66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676520" y="3962520"/>
            <a:ext cx="3888360" cy="1476000"/>
            <a:chOff x="1676520" y="3962520"/>
            <a:chExt cx="3888360" cy="1476000"/>
          </a:xfrm>
        </p:grpSpPr>
        <p:grpSp>
          <p:nvGrpSpPr>
            <p:cNvPr id="332" name=""/>
            <p:cNvGrpSpPr/>
            <p:nvPr/>
          </p:nvGrpSpPr>
          <p:grpSpPr>
            <a:xfrm>
              <a:off x="1676520" y="4491360"/>
              <a:ext cx="3888360" cy="947160"/>
              <a:chOff x="1676520" y="4491360"/>
              <a:chExt cx="3888360" cy="947160"/>
            </a:xfrm>
          </p:grpSpPr>
          <p:sp>
            <p:nvSpPr>
              <p:cNvPr id="333" name=""/>
              <p:cNvSpPr/>
              <p:nvPr/>
            </p:nvSpPr>
            <p:spPr>
              <a:xfrm>
                <a:off x="1694520" y="4521600"/>
                <a:ext cx="3870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omic Sans MS"/>
                  </a:rPr>
                  <a:t>Ontologies, modèles d ’entreprise,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omic Sans MS"/>
                  </a:rPr>
                  <a:t>modèles utilisateurs (RDFS),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organisés selon des </a:t>
                </a:r>
                <a:r>
                  <a:rPr b="0" lang="en-US" sz="1800" spc="-1" strike="noStrike">
                    <a:solidFill>
                      <a:srgbClr val="0000ff"/>
                    </a:solidFill>
                    <a:latin typeface="Comic Sans MS"/>
                  </a:rPr>
                  <a:t>points de v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76520" y="4491360"/>
                <a:ext cx="3749400" cy="85680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V="1">
              <a:off x="3089160" y="3962520"/>
              <a:ext cx="0" cy="5140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572000" y="2133720"/>
            <a:ext cx="4094640" cy="2854080"/>
            <a:chOff x="4572000" y="2133720"/>
            <a:chExt cx="4094640" cy="2854080"/>
          </a:xfrm>
        </p:grpSpPr>
        <p:grpSp>
          <p:nvGrpSpPr>
            <p:cNvPr id="337" name=""/>
            <p:cNvGrpSpPr/>
            <p:nvPr/>
          </p:nvGrpSpPr>
          <p:grpSpPr>
            <a:xfrm>
              <a:off x="5943600" y="2133720"/>
              <a:ext cx="2723040" cy="977400"/>
              <a:chOff x="5943600" y="2133720"/>
              <a:chExt cx="2723040" cy="977400"/>
            </a:xfrm>
          </p:grpSpPr>
          <p:sp>
            <p:nvSpPr>
              <p:cNvPr id="338" name=""/>
              <p:cNvSpPr/>
              <p:nvPr/>
            </p:nvSpPr>
            <p:spPr>
              <a:xfrm>
                <a:off x="5980320" y="2194200"/>
                <a:ext cx="2686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ff"/>
                    </a:solidFill>
                    <a:latin typeface="Comic Sans MS"/>
                  </a:rPr>
                  <a:t>Système Multi-Agen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ff"/>
                    </a:solidFill>
                    <a:latin typeface="Comic Sans MS"/>
                  </a:rPr>
                  <a:t>de Gestion de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ff"/>
                    </a:solidFill>
                    <a:latin typeface="Comic Sans MS"/>
                  </a:rPr>
                  <a:t>Connaissanc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943600" y="2133720"/>
                <a:ext cx="2667240" cy="955800"/>
              </a:xfrm>
              <a:prstGeom prst="rect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7010280" y="3429000"/>
              <a:ext cx="476280" cy="1558800"/>
            </a:xfrm>
            <a:prstGeom prst="upDownArrow">
              <a:avLst>
                <a:gd name="adj1" fmla="val 50000"/>
                <a:gd name="adj2" fmla="val 65154"/>
              </a:avLst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572000" y="2590560"/>
              <a:ext cx="1371600" cy="9903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410080" y="2819160"/>
              <a:ext cx="45720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284560" y="2362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émoire d’entre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62F-BEC3-4A19-B3C9-AF1A0A8EA3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émoire de projet véhicul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RENA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italiser les connaissances sur les problèmes rencontrés pendant un projet véhic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3581280"/>
            <a:ext cx="70102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580200" y="3581280"/>
            <a:ext cx="1299240" cy="847800"/>
            <a:chOff x="3580200" y="3581280"/>
            <a:chExt cx="1299240" cy="847800"/>
          </a:xfrm>
        </p:grpSpPr>
        <p:pic>
          <p:nvPicPr>
            <p:cNvPr id="348" name="BC" descr=""/>
            <p:cNvPicPr/>
            <p:nvPr/>
          </p:nvPicPr>
          <p:blipFill>
            <a:blip r:embed="rId1"/>
            <a:stretch/>
          </p:blipFill>
          <p:spPr>
            <a:xfrm>
              <a:off x="3963960" y="4038480"/>
              <a:ext cx="533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580200" y="358128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tolog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294200" y="3581280"/>
            <a:ext cx="1256760" cy="1008720"/>
            <a:chOff x="1294200" y="3581280"/>
            <a:chExt cx="1256760" cy="1008720"/>
          </a:xfrm>
        </p:grpSpPr>
        <p:pic>
          <p:nvPicPr>
            <p:cNvPr id="351" name="Personnes" descr=""/>
            <p:cNvPicPr/>
            <p:nvPr/>
          </p:nvPicPr>
          <p:blipFill>
            <a:blip r:embed="rId2"/>
            <a:stretch/>
          </p:blipFill>
          <p:spPr>
            <a:xfrm>
              <a:off x="1447920" y="3581280"/>
              <a:ext cx="100008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1294200" y="419112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438280" y="4800600"/>
            <a:ext cx="3200400" cy="685800"/>
            <a:chOff x="2438280" y="4800600"/>
            <a:chExt cx="3200400" cy="685800"/>
          </a:xfrm>
        </p:grpSpPr>
        <p:sp>
          <p:nvSpPr>
            <p:cNvPr id="354" name=""/>
            <p:cNvSpPr/>
            <p:nvPr/>
          </p:nvSpPr>
          <p:spPr>
            <a:xfrm>
              <a:off x="2895480" y="4800600"/>
              <a:ext cx="2743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tils de Traitem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nguist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5" name=""/>
            <p:cNvCxnSpPr>
              <a:stCxn id="356" idx="3"/>
              <a:endCxn id="354" idx="1"/>
            </p:cNvCxnSpPr>
            <p:nvPr/>
          </p:nvCxnSpPr>
          <p:spPr>
            <a:xfrm flipV="1">
              <a:off x="2438280" y="5142960"/>
              <a:ext cx="457920" cy="124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57" name=""/>
          <p:cNvGrpSpPr/>
          <p:nvPr/>
        </p:nvGrpSpPr>
        <p:grpSpPr>
          <a:xfrm>
            <a:off x="2193480" y="3976200"/>
            <a:ext cx="2033640" cy="815040"/>
            <a:chOff x="2193480" y="3976200"/>
            <a:chExt cx="2033640" cy="815040"/>
          </a:xfrm>
        </p:grpSpPr>
        <p:cxnSp>
          <p:nvCxnSpPr>
            <p:cNvPr id="358" name=""/>
            <p:cNvCxnSpPr/>
            <p:nvPr/>
          </p:nvCxnSpPr>
          <p:spPr>
            <a:xfrm>
              <a:off x="2447640" y="3976200"/>
              <a:ext cx="1516680" cy="258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"/>
            <p:cNvCxnSpPr>
              <a:stCxn id="360" idx="3"/>
            </p:cNvCxnSpPr>
            <p:nvPr/>
          </p:nvCxnSpPr>
          <p:spPr>
            <a:xfrm flipV="1">
              <a:off x="2193480" y="4266720"/>
              <a:ext cx="175356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1" name=""/>
            <p:cNvCxnSpPr/>
            <p:nvPr/>
          </p:nvCxnSpPr>
          <p:spPr>
            <a:xfrm flipH="1" flipV="1">
              <a:off x="4190400" y="4419360"/>
              <a:ext cx="37080" cy="372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62" name=""/>
          <p:cNvGrpSpPr/>
          <p:nvPr/>
        </p:nvGrpSpPr>
        <p:grpSpPr>
          <a:xfrm>
            <a:off x="4497120" y="3657600"/>
            <a:ext cx="3046680" cy="576360"/>
            <a:chOff x="4497120" y="3657600"/>
            <a:chExt cx="3046680" cy="576360"/>
          </a:xfrm>
        </p:grpSpPr>
        <p:sp>
          <p:nvSpPr>
            <p:cNvPr id="363" name=""/>
            <p:cNvSpPr/>
            <p:nvPr/>
          </p:nvSpPr>
          <p:spPr>
            <a:xfrm>
              <a:off x="6477120" y="3657600"/>
              <a:ext cx="10666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4" name=""/>
            <p:cNvCxnSpPr>
              <a:stCxn id="348" idx="3"/>
              <a:endCxn id="363" idx="1"/>
            </p:cNvCxnSpPr>
            <p:nvPr/>
          </p:nvCxnSpPr>
          <p:spPr>
            <a:xfrm flipV="1">
              <a:off x="4497120" y="3924000"/>
              <a:ext cx="1980360" cy="31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65" name=""/>
          <p:cNvGrpSpPr/>
          <p:nvPr/>
        </p:nvGrpSpPr>
        <p:grpSpPr>
          <a:xfrm>
            <a:off x="1294200" y="4572000"/>
            <a:ext cx="1342080" cy="551160"/>
            <a:chOff x="1294200" y="4572000"/>
            <a:chExt cx="1342080" cy="551160"/>
          </a:xfrm>
        </p:grpSpPr>
        <p:pic>
          <p:nvPicPr>
            <p:cNvPr id="366" name="Livre" descr=""/>
            <p:cNvPicPr/>
            <p:nvPr/>
          </p:nvPicPr>
          <p:blipFill>
            <a:blip r:embed="rId3"/>
            <a:stretch/>
          </p:blipFill>
          <p:spPr>
            <a:xfrm>
              <a:off x="1736640" y="4572000"/>
              <a:ext cx="4572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294200" y="4724280"/>
              <a:ext cx="134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219320" y="5029200"/>
            <a:ext cx="1218960" cy="794160"/>
            <a:chOff x="1219320" y="5029200"/>
            <a:chExt cx="1218960" cy="794160"/>
          </a:xfrm>
        </p:grpSpPr>
        <p:pic>
          <p:nvPicPr>
            <p:cNvPr id="369" name="BD" descr=""/>
            <p:cNvPicPr/>
            <p:nvPr/>
          </p:nvPicPr>
          <p:blipFill>
            <a:blip r:embed="rId4"/>
            <a:stretch/>
          </p:blipFill>
          <p:spPr>
            <a:xfrm>
              <a:off x="1828800" y="5029200"/>
              <a:ext cx="6094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585800" y="542448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B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1" name="BD" descr=""/>
            <p:cNvPicPr/>
            <p:nvPr/>
          </p:nvPicPr>
          <p:blipFill>
            <a:blip r:embed="rId5"/>
            <a:stretch/>
          </p:blipFill>
          <p:spPr>
            <a:xfrm>
              <a:off x="1219320" y="5029200"/>
              <a:ext cx="609480" cy="47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2" name=""/>
          <p:cNvGrpSpPr/>
          <p:nvPr/>
        </p:nvGrpSpPr>
        <p:grpSpPr>
          <a:xfrm>
            <a:off x="4497120" y="4190760"/>
            <a:ext cx="3353040" cy="1740600"/>
            <a:chOff x="4497120" y="4190760"/>
            <a:chExt cx="3353040" cy="1740600"/>
          </a:xfrm>
        </p:grpSpPr>
        <p:cxnSp>
          <p:nvCxnSpPr>
            <p:cNvPr id="373" name=""/>
            <p:cNvCxnSpPr>
              <a:stCxn id="374" idx="0"/>
              <a:endCxn id="363" idx="2"/>
            </p:cNvCxnSpPr>
            <p:nvPr/>
          </p:nvCxnSpPr>
          <p:spPr>
            <a:xfrm flipV="1">
              <a:off x="6987960" y="4190760"/>
              <a:ext cx="22680" cy="427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75" name=""/>
            <p:cNvGrpSpPr/>
            <p:nvPr/>
          </p:nvGrpSpPr>
          <p:grpSpPr>
            <a:xfrm>
              <a:off x="4497120" y="4233960"/>
              <a:ext cx="3353040" cy="1697400"/>
              <a:chOff x="4497120" y="4233960"/>
              <a:chExt cx="3353040" cy="169740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6316560" y="4267080"/>
                <a:ext cx="1533600" cy="1664280"/>
                <a:chOff x="6316560" y="4267080"/>
                <a:chExt cx="1533600" cy="1664280"/>
              </a:xfrm>
            </p:grpSpPr>
            <p:grpSp>
              <p:nvGrpSpPr>
                <p:cNvPr id="377" name=""/>
                <p:cNvGrpSpPr/>
                <p:nvPr/>
              </p:nvGrpSpPr>
              <p:grpSpPr>
                <a:xfrm>
                  <a:off x="6316560" y="4267080"/>
                  <a:ext cx="1533600" cy="1269000"/>
                  <a:chOff x="6316560" y="4267080"/>
                  <a:chExt cx="1533600" cy="1269000"/>
                </a:xfrm>
              </p:grpSpPr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6316560" y="4617360"/>
                    <a:ext cx="1533600" cy="918720"/>
                    <a:chOff x="6316560" y="4617360"/>
                    <a:chExt cx="1533600" cy="91872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6316560" y="4617360"/>
                      <a:ext cx="1343160" cy="679680"/>
                    </a:xfrm>
                    <a:prstGeom prst="rect">
                      <a:avLst/>
                    </a:prstGeom>
                    <a:noFill/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6396480" y="4676400"/>
                      <a:ext cx="1359000" cy="715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6476760" y="4761720"/>
                      <a:ext cx="1373400" cy="723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cap="sq"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6397200" y="4833720"/>
                      <a:ext cx="1434960" cy="702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lt;probleme&gt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lt;piece&gt;…  &lt;/piece&gt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lt;jalon&gt; … &lt;/jalon&gt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lt;solution&gt; … &lt;/solution&gt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lt;/probleme&gt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2" name=""/>
                  <p:cNvSpPr/>
                  <p:nvPr/>
                </p:nvSpPr>
                <p:spPr>
                  <a:xfrm>
                    <a:off x="6522840" y="426708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3" name=""/>
                <p:cNvSpPr/>
                <p:nvPr/>
              </p:nvSpPr>
              <p:spPr>
                <a:xfrm>
                  <a:off x="6318000" y="5532480"/>
                  <a:ext cx="1531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ase annoté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84" name=""/>
              <p:cNvCxnSpPr>
                <a:stCxn id="348" idx="3"/>
              </p:cNvCxnSpPr>
              <p:nvPr/>
            </p:nvCxnSpPr>
            <p:spPr>
              <a:xfrm>
                <a:off x="4497120" y="4233960"/>
                <a:ext cx="1904040" cy="643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85" name=""/>
              <p:cNvCxnSpPr>
                <a:stCxn id="354" idx="3"/>
                <a:endCxn id="374" idx="1"/>
              </p:cNvCxnSpPr>
              <p:nvPr/>
            </p:nvCxnSpPr>
            <p:spPr>
              <a:xfrm flipV="1">
                <a:off x="5638320" y="4957560"/>
                <a:ext cx="678600" cy="186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788-14DB-41DA-98C3-5A7A6C2AE5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llabo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imes New Roman"/>
              </a:rPr>
              <a:t>Collaborations nationales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jet ESCRIRE (3 équipes IN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érospatiale, Dassault-Aviation et RENAULT (mémoire de proj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RETS (multi-expertise, X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roupe de travail M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imes New Roman"/>
              </a:rPr>
              <a:t>Collaborations internationales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rojet Européen IST </a:t>
            </a: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COMMA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 : </a:t>
            </a: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ATOS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, LIRMM, Univ. Parme, T-NOVA, CSEL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BC5-73D8-4080-B2C5-1DAA3AC6E6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Multiples points de vu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s particulier : </a:t>
            </a: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mémoire de pro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Web &amp; Intranet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ploitation de </a:t>
            </a: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XML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pour la mémoire d’entreprise 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onnées + doc. + conn.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Web séman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Recherche d’information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sur le Web/Intranet, guidée par des </a:t>
            </a: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ontologie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B92-1647-43E8-BB4F-92A3572096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09480" y="763560"/>
            <a:ext cx="74678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ur en savoir plu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NOD -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0 p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BN: 21000457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livre" descr=""/>
          <p:cNvPicPr/>
          <p:nvPr/>
        </p:nvPicPr>
        <p:blipFill>
          <a:blip r:embed="rId1"/>
          <a:stretch/>
        </p:blipFill>
        <p:spPr>
          <a:xfrm>
            <a:off x="4900680" y="685800"/>
            <a:ext cx="3504960" cy="510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80C-6B58-4AE3-91D4-DA59BBE946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émoire d’entre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présentation </a:t>
            </a: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explicite et persistan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connaissances et informations crucia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’une organisation pour faciliter leur </a:t>
            </a: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accès, partage et réuti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par les membres de l’entreprise dans leurs </a:t>
            </a: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tâches individuelles et collectiv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Humain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l’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Organ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la 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Technologi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Besoin d’une 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approche pluridiscipli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ieurs types de mémoi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Mémoire « société »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Mémoire « métier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Mémoire individuell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- </a:t>
            </a: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Mémoire tech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Mémoire managérial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- </a:t>
            </a: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Mémoire de pro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91B-0585-4EE3-8770-C524D825D1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bjectifs du projet Aca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cquisition des Connaissa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ur l’Assistance à l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nce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 Interaction entr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g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» (199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rir une aid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ogicielle et méthodolog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.e.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odèles, méthodes et outi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pour l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nstruction, la gestion et la diffusion de mémoires d’entrepri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BBE-5BDC-4A81-9FDD-0DE39CA709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'équi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Chercheurs :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livier Corby, Rose Dieng, Alain Gib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Post-doctorante :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atherine Faron-Zuc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Doctorants :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lexandre Delteil, Fabien Gandon, Joanna Golebiowska, Carolina Medina-Rami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0A81-8182-4104-BFC2-8CDA57E424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ycle de vie de la mémoire d’entre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hèmes de recher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estion de multiples points de v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ploitation des technos du Web et de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llabo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636-A7E1-40AE-B43B-4D0358BFA9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ycle de vie de la mémoire d’entre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200400"/>
            <a:ext cx="198108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éte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es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676520" y="2209680"/>
            <a:ext cx="3809880" cy="990360"/>
            <a:chOff x="1676520" y="2209680"/>
            <a:chExt cx="3809880" cy="990360"/>
          </a:xfrm>
        </p:grpSpPr>
        <p:sp>
          <p:nvSpPr>
            <p:cNvPr id="79" name=""/>
            <p:cNvSpPr/>
            <p:nvPr/>
          </p:nvSpPr>
          <p:spPr>
            <a:xfrm>
              <a:off x="3352680" y="2209680"/>
              <a:ext cx="2133720" cy="609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Constru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7" idx="0"/>
              <a:endCxn id="79" idx="1"/>
            </p:cNvCxnSpPr>
            <p:nvPr/>
          </p:nvCxnSpPr>
          <p:spPr>
            <a:xfrm flipV="1">
              <a:off x="1676520" y="2513880"/>
              <a:ext cx="167688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1" name=""/>
          <p:cNvGrpSpPr/>
          <p:nvPr/>
        </p:nvGrpSpPr>
        <p:grpSpPr>
          <a:xfrm>
            <a:off x="5486400" y="2514600"/>
            <a:ext cx="2971800" cy="1143000"/>
            <a:chOff x="5486400" y="2514600"/>
            <a:chExt cx="2971800" cy="1143000"/>
          </a:xfrm>
        </p:grpSpPr>
        <p:sp>
          <p:nvSpPr>
            <p:cNvPr id="82" name=""/>
            <p:cNvSpPr/>
            <p:nvPr/>
          </p:nvSpPr>
          <p:spPr>
            <a:xfrm>
              <a:off x="6324480" y="2895480"/>
              <a:ext cx="21337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Diff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"/>
            <p:cNvCxnSpPr>
              <a:stCxn id="79" idx="3"/>
              <a:endCxn id="82" idx="0"/>
            </p:cNvCxnSpPr>
            <p:nvPr/>
          </p:nvCxnSpPr>
          <p:spPr>
            <a:xfrm>
              <a:off x="5486400" y="2514600"/>
              <a:ext cx="190584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4" name=""/>
          <p:cNvGrpSpPr/>
          <p:nvPr/>
        </p:nvGrpSpPr>
        <p:grpSpPr>
          <a:xfrm>
            <a:off x="6400800" y="3657600"/>
            <a:ext cx="2057400" cy="1523880"/>
            <a:chOff x="6400800" y="3657600"/>
            <a:chExt cx="2057400" cy="1523880"/>
          </a:xfrm>
        </p:grpSpPr>
        <p:sp>
          <p:nvSpPr>
            <p:cNvPr id="85" name=""/>
            <p:cNvSpPr/>
            <p:nvPr/>
          </p:nvSpPr>
          <p:spPr>
            <a:xfrm>
              <a:off x="6400800" y="4572000"/>
              <a:ext cx="2057400" cy="609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Utili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2" idx="2"/>
              <a:endCxn id="85" idx="0"/>
            </p:cNvCxnSpPr>
            <p:nvPr/>
          </p:nvCxnSpPr>
          <p:spPr>
            <a:xfrm>
              <a:off x="7391520" y="3657600"/>
              <a:ext cx="3888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7" name=""/>
          <p:cNvGrpSpPr/>
          <p:nvPr/>
        </p:nvGrpSpPr>
        <p:grpSpPr>
          <a:xfrm>
            <a:off x="838080" y="4572000"/>
            <a:ext cx="5562360" cy="609480"/>
            <a:chOff x="838080" y="4572000"/>
            <a:chExt cx="5562360" cy="609480"/>
          </a:xfrm>
        </p:grpSpPr>
        <p:sp>
          <p:nvSpPr>
            <p:cNvPr id="88" name=""/>
            <p:cNvSpPr/>
            <p:nvPr/>
          </p:nvSpPr>
          <p:spPr>
            <a:xfrm>
              <a:off x="838080" y="4572000"/>
              <a:ext cx="2210040" cy="609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Eva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85" idx="1"/>
              <a:endCxn id="88" idx="3"/>
            </p:cNvCxnSpPr>
            <p:nvPr/>
          </p:nvCxnSpPr>
          <p:spPr>
            <a:xfrm flipH="1">
              <a:off x="3047400" y="4876560"/>
              <a:ext cx="335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0" name=""/>
          <p:cNvGrpSpPr/>
          <p:nvPr/>
        </p:nvGrpSpPr>
        <p:grpSpPr>
          <a:xfrm>
            <a:off x="1942920" y="3505320"/>
            <a:ext cx="3467160" cy="1066320"/>
            <a:chOff x="1942920" y="3505320"/>
            <a:chExt cx="3467160" cy="1066320"/>
          </a:xfrm>
        </p:grpSpPr>
        <p:sp>
          <p:nvSpPr>
            <p:cNvPr id="91" name=""/>
            <p:cNvSpPr/>
            <p:nvPr/>
          </p:nvSpPr>
          <p:spPr>
            <a:xfrm>
              <a:off x="3352680" y="3505320"/>
              <a:ext cx="2057400" cy="76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Faire évo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" name=""/>
            <p:cNvCxnSpPr>
              <a:stCxn id="88" idx="0"/>
              <a:endCxn id="91" idx="1"/>
            </p:cNvCxnSpPr>
            <p:nvPr/>
          </p:nvCxnSpPr>
          <p:spPr>
            <a:xfrm flipV="1">
              <a:off x="1942920" y="3885480"/>
              <a:ext cx="141012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58E-54DD-4CE2-B826-E1C318FC12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590920" y="4267080"/>
            <a:ext cx="6019560" cy="1828800"/>
            <a:chOff x="2590920" y="4267080"/>
            <a:chExt cx="6019560" cy="1828800"/>
          </a:xfrm>
        </p:grpSpPr>
        <p:sp>
          <p:nvSpPr>
            <p:cNvPr id="94" name=""/>
            <p:cNvSpPr/>
            <p:nvPr/>
          </p:nvSpPr>
          <p:spPr>
            <a:xfrm>
              <a:off x="2590920" y="4267080"/>
              <a:ext cx="601956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92920" y="5715000"/>
              <a:ext cx="316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MEMOIRE D ’ENTREPR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rchitecture pos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268160" y="4343400"/>
            <a:ext cx="1185120" cy="795600"/>
            <a:chOff x="4268160" y="4343400"/>
            <a:chExt cx="1185120" cy="795600"/>
          </a:xfrm>
        </p:grpSpPr>
        <p:pic>
          <p:nvPicPr>
            <p:cNvPr id="98" name="memento-BC" descr=""/>
            <p:cNvPicPr/>
            <p:nvPr/>
          </p:nvPicPr>
          <p:blipFill>
            <a:blip r:embed="rId1"/>
            <a:stretch/>
          </p:blipFill>
          <p:spPr>
            <a:xfrm>
              <a:off x="4665240" y="4343400"/>
              <a:ext cx="6498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268160" y="4770720"/>
              <a:ext cx="118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ntolog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791320" y="4343400"/>
            <a:ext cx="1460880" cy="749160"/>
            <a:chOff x="5791320" y="4343400"/>
            <a:chExt cx="1460880" cy="749160"/>
          </a:xfrm>
        </p:grpSpPr>
        <p:grpSp>
          <p:nvGrpSpPr>
            <p:cNvPr id="101" name=""/>
            <p:cNvGrpSpPr/>
            <p:nvPr/>
          </p:nvGrpSpPr>
          <p:grpSpPr>
            <a:xfrm>
              <a:off x="6178680" y="4343400"/>
              <a:ext cx="685800" cy="533520"/>
              <a:chOff x="6178680" y="4343400"/>
              <a:chExt cx="685800" cy="533520"/>
            </a:xfrm>
          </p:grpSpPr>
          <p:pic>
            <p:nvPicPr>
              <p:cNvPr id="102" name="memento-BD" descr=""/>
              <p:cNvPicPr/>
              <p:nvPr/>
            </p:nvPicPr>
            <p:blipFill>
              <a:blip r:embed="rId2"/>
              <a:stretch/>
            </p:blipFill>
            <p:spPr>
              <a:xfrm>
                <a:off x="6178680" y="4343400"/>
                <a:ext cx="68580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memento-BC" descr=""/>
              <p:cNvPicPr/>
              <p:nvPr/>
            </p:nvPicPr>
            <p:blipFill>
              <a:blip r:embed="rId3"/>
              <a:stretch/>
            </p:blipFill>
            <p:spPr>
              <a:xfrm>
                <a:off x="6321240" y="4556520"/>
                <a:ext cx="399960" cy="219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"/>
            <p:cNvSpPr/>
            <p:nvPr/>
          </p:nvSpPr>
          <p:spPr>
            <a:xfrm>
              <a:off x="5791320" y="472428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Base de con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292560" y="4648320"/>
            <a:ext cx="4372920" cy="1168560"/>
            <a:chOff x="3292560" y="4648320"/>
            <a:chExt cx="4372920" cy="1168560"/>
          </a:xfrm>
        </p:grpSpPr>
        <p:grpSp>
          <p:nvGrpSpPr>
            <p:cNvPr id="106" name=""/>
            <p:cNvGrpSpPr/>
            <p:nvPr/>
          </p:nvGrpSpPr>
          <p:grpSpPr>
            <a:xfrm>
              <a:off x="3809160" y="5105520"/>
              <a:ext cx="1811520" cy="711360"/>
              <a:chOff x="3809160" y="5105520"/>
              <a:chExt cx="1811520" cy="711360"/>
            </a:xfrm>
          </p:grpSpPr>
          <p:pic>
            <p:nvPicPr>
              <p:cNvPr id="107" name="memento-Elec-doc" descr=""/>
              <p:cNvPicPr/>
              <p:nvPr/>
            </p:nvPicPr>
            <p:blipFill>
              <a:blip r:embed="rId4"/>
              <a:stretch/>
            </p:blipFill>
            <p:spPr>
              <a:xfrm>
                <a:off x="4495680" y="510552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3809160" y="5448600"/>
                <a:ext cx="181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oc. électroniq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292560" y="4648320"/>
              <a:ext cx="745920" cy="825480"/>
              <a:chOff x="3292560" y="4648320"/>
              <a:chExt cx="745920" cy="825480"/>
            </a:xfrm>
          </p:grpSpPr>
          <p:pic>
            <p:nvPicPr>
              <p:cNvPr id="110" name="memento-BD" descr=""/>
              <p:cNvPicPr/>
              <p:nvPr/>
            </p:nvPicPr>
            <p:blipFill>
              <a:blip r:embed="rId5"/>
              <a:stretch/>
            </p:blipFill>
            <p:spPr>
              <a:xfrm>
                <a:off x="3292560" y="4648320"/>
                <a:ext cx="74592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3416400" y="510552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942520" y="5029200"/>
              <a:ext cx="1722960" cy="672840"/>
              <a:chOff x="5942520" y="5029200"/>
              <a:chExt cx="1722960" cy="672840"/>
            </a:xfrm>
          </p:grpSpPr>
          <p:pic>
            <p:nvPicPr>
              <p:cNvPr id="113" name="memento-Multimedia" descr=""/>
              <p:cNvPicPr/>
              <p:nvPr/>
            </p:nvPicPr>
            <p:blipFill>
              <a:blip r:embed="rId6"/>
              <a:stretch/>
            </p:blipFill>
            <p:spPr>
              <a:xfrm>
                <a:off x="6527880" y="5029200"/>
                <a:ext cx="552600" cy="48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5942520" y="5333760"/>
                <a:ext cx="172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Doc. multimed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3886200" y="3352680"/>
            <a:ext cx="2895480" cy="762120"/>
            <a:chOff x="3886200" y="3352680"/>
            <a:chExt cx="2895480" cy="762120"/>
          </a:xfrm>
        </p:grpSpPr>
        <p:sp>
          <p:nvSpPr>
            <p:cNvPr id="116" name=""/>
            <p:cNvSpPr/>
            <p:nvPr/>
          </p:nvSpPr>
          <p:spPr>
            <a:xfrm>
              <a:off x="3886200" y="3352680"/>
              <a:ext cx="289548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05600" y="3413160"/>
              <a:ext cx="21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Système de Ges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des Connaissan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3341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895480" y="38095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524600" y="3429000"/>
            <a:ext cx="1266120" cy="1203480"/>
            <a:chOff x="1524600" y="3429000"/>
            <a:chExt cx="1266120" cy="1203480"/>
          </a:xfrm>
        </p:grpSpPr>
        <p:pic>
          <p:nvPicPr>
            <p:cNvPr id="121" name="ijcai-user" descr=""/>
            <p:cNvPicPr/>
            <p:nvPr/>
          </p:nvPicPr>
          <p:blipFill>
            <a:blip r:embed="rId7"/>
            <a:stretch/>
          </p:blipFill>
          <p:spPr>
            <a:xfrm>
              <a:off x="1752480" y="3429000"/>
              <a:ext cx="10382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524600" y="426420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Veill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876920" y="2895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38480" y="1523880"/>
            <a:ext cx="1485360" cy="1442880"/>
            <a:chOff x="4038480" y="1523880"/>
            <a:chExt cx="1485360" cy="1442880"/>
          </a:xfrm>
        </p:grpSpPr>
        <p:pic>
          <p:nvPicPr>
            <p:cNvPr id="125" name="ijcai-user" descr=""/>
            <p:cNvPicPr/>
            <p:nvPr/>
          </p:nvPicPr>
          <p:blipFill>
            <a:blip r:embed="rId8"/>
            <a:stretch/>
          </p:blipFill>
          <p:spPr>
            <a:xfrm>
              <a:off x="4130280" y="1523880"/>
              <a:ext cx="10382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038480" y="2324160"/>
              <a:ext cx="148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ff"/>
                  </a:solidFill>
                  <a:latin typeface="Times New Roman"/>
                </a:rPr>
                <a:t>Développeur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ff"/>
                  </a:solidFill>
                  <a:latin typeface="Times New Roman"/>
                </a:rPr>
                <a:t>mainten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581280" y="3276720"/>
            <a:ext cx="8384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666880" y="2438280"/>
            <a:ext cx="1038240" cy="1366560"/>
            <a:chOff x="2666880" y="2438280"/>
            <a:chExt cx="1038240" cy="1366560"/>
          </a:xfrm>
        </p:grpSpPr>
        <p:pic>
          <p:nvPicPr>
            <p:cNvPr id="129" name="ijcai-user" descr=""/>
            <p:cNvPicPr/>
            <p:nvPr/>
          </p:nvPicPr>
          <p:blipFill>
            <a:blip r:embed="rId9"/>
            <a:stretch/>
          </p:blipFill>
          <p:spPr>
            <a:xfrm>
              <a:off x="2666880" y="2438280"/>
              <a:ext cx="103824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804040" y="3162240"/>
              <a:ext cx="84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Au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 do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6172200" y="2971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1676520"/>
            <a:ext cx="2133360" cy="1295280"/>
            <a:chOff x="5791320" y="1676520"/>
            <a:chExt cx="2133360" cy="1295280"/>
          </a:xfrm>
        </p:grpSpPr>
        <p:pic>
          <p:nvPicPr>
            <p:cNvPr id="133" name="ijcai-user" descr=""/>
            <p:cNvPicPr/>
            <p:nvPr/>
          </p:nvPicPr>
          <p:blipFill>
            <a:blip r:embed="rId10"/>
            <a:stretch/>
          </p:blipFill>
          <p:spPr>
            <a:xfrm>
              <a:off x="6338880" y="2133720"/>
              <a:ext cx="10382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791320" y="1676520"/>
              <a:ext cx="2133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Utilisa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tâche individuell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H="1">
            <a:off x="6781680" y="3733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161120" y="2895480"/>
            <a:ext cx="1768680" cy="1285560"/>
            <a:chOff x="7161120" y="2895480"/>
            <a:chExt cx="1768680" cy="1285560"/>
          </a:xfrm>
        </p:grpSpPr>
        <p:pic>
          <p:nvPicPr>
            <p:cNvPr id="137" name="Personnes" descr=""/>
            <p:cNvPicPr/>
            <p:nvPr/>
          </p:nvPicPr>
          <p:blipFill>
            <a:blip r:embed="rId11"/>
            <a:stretch/>
          </p:blipFill>
          <p:spPr>
            <a:xfrm>
              <a:off x="7545240" y="3390480"/>
              <a:ext cx="99972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161120" y="2895480"/>
              <a:ext cx="176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Utilisa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tâche collectiv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1328760"/>
            <a:ext cx="4876200" cy="6215400"/>
            <a:chOff x="685800" y="1328760"/>
            <a:chExt cx="4876200" cy="6215400"/>
          </a:xfrm>
        </p:grpSpPr>
        <p:sp>
          <p:nvSpPr>
            <p:cNvPr id="140" name=""/>
            <p:cNvSpPr/>
            <p:nvPr/>
          </p:nvSpPr>
          <p:spPr>
            <a:xfrm flipH="1">
              <a:off x="990720" y="1904400"/>
              <a:ext cx="4571280" cy="5639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570" y="27"/>
                  </a:moveTo>
                  <a:arcTo wR="10800" hR="10800" stAng="-5154749" swAng="51547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570" y="27"/>
                  </a:moveTo>
                  <a:arcTo wR="10800" hR="10800" stAng="-5154749" swAng="515474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895200">
              <a:off x="627120" y="1923480"/>
              <a:ext cx="194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Monde extéri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(Internet &amp; Web..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C73-F3F9-4D97-ADE5-47E9EAB585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èmes de recher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Construc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Organ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index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 la mémoi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ise en compte de </a:t>
            </a: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multiples terminologi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de </a:t>
            </a: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multiples points de v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Diffusion &amp; Utilisation</a:t>
            </a: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mélioration de la </a:t>
            </a: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recherche d’info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de la </a:t>
            </a: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dissémination proactiv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 la mémoire?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Ontologies + Doc +Annotations sémant. + Agents + Utilis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Evolution :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estion de la </a:t>
            </a: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cohérenc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lors évolution de la mémoi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F58-6E54-40E8-8F3F-BCD6F370C2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2T10:28:54Z</dcterms:created>
  <dc:creator>soubra</dc:creator>
  <dc:description/>
  <dc:language>en-US</dc:language>
  <cp:lastModifiedBy>fgandon</cp:lastModifiedBy>
  <cp:lastPrinted>2000-11-30T14:56:24Z</cp:lastPrinted>
  <dcterms:modified xsi:type="dcterms:W3CDTF">2000-12-01T17:32:03Z</dcterms:modified>
  <cp:revision>104</cp:revision>
  <dc:subject/>
  <dc:title>Méthodes et Outils pour la Gestion des Connaissances</dc:title>
</cp:coreProperties>
</file>