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9162-2F3F-453E-BD05-72D2F1145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4518-B1B7-4ADC-8F85-D9385211E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CC62-41B6-4928-81AC-194EF517C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088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380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088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AD0D-FA86-4055-B362-1CE48F9F4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3880" y="-4320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A232-DD69-48F8-9978-C1AD1B0FA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088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380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3088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D0FC-0587-4AFB-86D9-03F2B1587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E74C-B273-481D-84C2-6056CADC2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EB7C-7B0D-430C-9196-92BA9546F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13880" y="-4320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4B05-CA5A-4575-9E19-C70A44DFE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8BEB-2416-4267-8772-E36145008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76D1-1736-405C-BFC2-B9BD83B20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8879-1853-4702-84BE-1CE327EAD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62120" cy="6858000"/>
          </a:xfrm>
          <a:prstGeom prst="bevel">
            <a:avLst>
              <a:gd name="adj" fmla="val 375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-360" y="6476760"/>
            <a:ext cx="685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5f5f5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31C0-5E82-43CB-8613-462C5ED0A4CD}" type="slidenum">
              <a:rPr b="0" lang="en-GB" sz="1600" spc="-1" strike="noStrike">
                <a:solidFill>
                  <a:srgbClr val="5f5f5f"/>
                </a:solidFill>
                <a:latin typeface="Impac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378080" indent="-228600">
              <a:spcBef>
                <a:spcPts val="75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79712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21616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21616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21616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" name="bleft1" descr=""/>
          <p:cNvPicPr/>
          <p:nvPr/>
        </p:nvPicPr>
        <p:blipFill>
          <a:blip r:embed="rId3"/>
          <a:stretch/>
        </p:blipFill>
        <p:spPr>
          <a:xfrm>
            <a:off x="596880" y="670572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5" name="bright1" descr=""/>
          <p:cNvPicPr/>
          <p:nvPr/>
        </p:nvPicPr>
        <p:blipFill>
          <a:blip r:embed="rId4"/>
          <a:stretch/>
        </p:blipFill>
        <p:spPr>
          <a:xfrm>
            <a:off x="62244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6" name="tleft1" descr=""/>
          <p:cNvPicPr/>
          <p:nvPr/>
        </p:nvPicPr>
        <p:blipFill>
          <a:blip r:embed="rId5"/>
          <a:stretch/>
        </p:blipFill>
        <p:spPr>
          <a:xfrm>
            <a:off x="3816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" name="tright1" descr=""/>
          <p:cNvPicPr/>
          <p:nvPr/>
        </p:nvPicPr>
        <p:blipFill>
          <a:blip r:embed="rId6"/>
          <a:stretch/>
        </p:blipFill>
        <p:spPr>
          <a:xfrm>
            <a:off x="25560" y="670572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96600" y="6550200"/>
            <a:ext cx="85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bien.Gandon@sophia.inria.fr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ulti-Agents Platform for a Corporate Web Semant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33520"/>
            <a:ext cx="8534160" cy="3352680"/>
          </a:xfrm>
          <a:prstGeom prst="bevel">
            <a:avLst>
              <a:gd name="adj" fmla="val 1468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left1" descr=""/>
          <p:cNvPicPr/>
          <p:nvPr/>
        </p:nvPicPr>
        <p:blipFill>
          <a:blip r:embed="rId3"/>
          <a:stretch/>
        </p:blipFill>
        <p:spPr>
          <a:xfrm>
            <a:off x="8651880" y="36957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48" name="bright1" descr=""/>
          <p:cNvPicPr/>
          <p:nvPr/>
        </p:nvPicPr>
        <p:blipFill>
          <a:blip r:embed="rId4"/>
          <a:stretch/>
        </p:blipFill>
        <p:spPr>
          <a:xfrm>
            <a:off x="8658360" y="6094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49" name="tleft1" descr=""/>
          <p:cNvPicPr/>
          <p:nvPr/>
        </p:nvPicPr>
        <p:blipFill>
          <a:blip r:embed="rId5"/>
          <a:stretch/>
        </p:blipFill>
        <p:spPr>
          <a:xfrm>
            <a:off x="380880" y="6094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0" name="tright1" descr=""/>
          <p:cNvPicPr/>
          <p:nvPr/>
        </p:nvPicPr>
        <p:blipFill>
          <a:blip r:embed="rId6"/>
          <a:stretch/>
        </p:blipFill>
        <p:spPr>
          <a:xfrm>
            <a:off x="380880" y="3695760"/>
            <a:ext cx="114480" cy="11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235080" algn="ctr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196920" algn="ctr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158760" algn="ctr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6.png"/><Relationship Id="rId12" Type="http://schemas.openxmlformats.org/officeDocument/2006/relationships/image" Target="../media/image10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0.png"/><Relationship Id="rId31" Type="http://schemas.openxmlformats.org/officeDocument/2006/relationships/image" Target="../media/image12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20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17.png"/><Relationship Id="rId40" Type="http://schemas.openxmlformats.org/officeDocument/2006/relationships/image" Target="../media/image21.png"/><Relationship Id="rId41" Type="http://schemas.openxmlformats.org/officeDocument/2006/relationships/image" Target="../media/image22.png"/><Relationship Id="rId42" Type="http://schemas.openxmlformats.org/officeDocument/2006/relationships/image" Target="../media/image16.png"/><Relationship Id="rId43" Type="http://schemas.openxmlformats.org/officeDocument/2006/relationships/image" Target="../media/image23.png"/><Relationship Id="rId44" Type="http://schemas.openxmlformats.org/officeDocument/2006/relationships/image" Target="../media/image24.png"/><Relationship Id="rId45" Type="http://schemas.openxmlformats.org/officeDocument/2006/relationships/image" Target="../media/image25.png"/><Relationship Id="rId4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9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9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0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20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7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16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20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7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16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6.png"/><Relationship Id="rId12" Type="http://schemas.openxmlformats.org/officeDocument/2006/relationships/image" Target="../media/image10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0.png"/><Relationship Id="rId31" Type="http://schemas.openxmlformats.org/officeDocument/2006/relationships/image" Target="../media/image12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20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17.png"/><Relationship Id="rId40" Type="http://schemas.openxmlformats.org/officeDocument/2006/relationships/image" Target="../media/image21.png"/><Relationship Id="rId41" Type="http://schemas.openxmlformats.org/officeDocument/2006/relationships/image" Target="../media/image22.png"/><Relationship Id="rId42" Type="http://schemas.openxmlformats.org/officeDocument/2006/relationships/image" Target="../media/image16.png"/><Relationship Id="rId43" Type="http://schemas.openxmlformats.org/officeDocument/2006/relationships/image" Target="../media/image23.png"/><Relationship Id="rId44" Type="http://schemas.openxmlformats.org/officeDocument/2006/relationships/image" Target="../media/image24.png"/><Relationship Id="rId45" Type="http://schemas.openxmlformats.org/officeDocument/2006/relationships/image" Target="../media/image25.png"/><Relationship Id="rId4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74280" y="640044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bien GANDON, Laurent BERTHELOT, Rose DIE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A Multi-Agents Platform for a Corporate  Web Semantic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Winner" descr=""/>
          <p:cNvPicPr/>
          <p:nvPr/>
        </p:nvPicPr>
        <p:blipFill>
          <a:blip r:embed="rId1"/>
          <a:stretch/>
        </p:blipFill>
        <p:spPr>
          <a:xfrm>
            <a:off x="1828800" y="4173480"/>
            <a:ext cx="5257800" cy="177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240" y="6286680"/>
            <a:ext cx="122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  0    0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_sophia" descr=""/>
          <p:cNvPicPr/>
          <p:nvPr/>
        </p:nvPicPr>
        <p:blipFill>
          <a:blip r:embed="rId2"/>
          <a:stretch/>
        </p:blipFill>
        <p:spPr>
          <a:xfrm>
            <a:off x="7162920" y="6318360"/>
            <a:ext cx="1981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838080" y="228600"/>
            <a:ext cx="8169480" cy="2209680"/>
            <a:chOff x="838080" y="228600"/>
            <a:chExt cx="8169480" cy="2209680"/>
          </a:xfrm>
        </p:grpSpPr>
        <p:sp>
          <p:nvSpPr>
            <p:cNvPr id="537" name=""/>
            <p:cNvSpPr/>
            <p:nvPr/>
          </p:nvSpPr>
          <p:spPr>
            <a:xfrm>
              <a:off x="853920" y="304920"/>
              <a:ext cx="8153640" cy="21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34160" y="322200"/>
              <a:ext cx="57895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Class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Proper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Property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Member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8080" y="22860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in 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38080" y="2311560"/>
            <a:ext cx="8169480" cy="1523880"/>
            <a:chOff x="838080" y="2311560"/>
            <a:chExt cx="8169480" cy="1523880"/>
          </a:xfrm>
        </p:grpSpPr>
        <p:sp>
          <p:nvSpPr>
            <p:cNvPr id="541" name=""/>
            <p:cNvSpPr/>
            <p:nvPr/>
          </p:nvSpPr>
          <p:spPr>
            <a:xfrm>
              <a:off x="853920" y="2387520"/>
              <a:ext cx="815364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94000" y="2463840"/>
              <a:ext cx="91296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01840" y="3301920"/>
              <a:ext cx="1295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25720" y="3301920"/>
              <a:ext cx="13716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6340320" y="3225960"/>
              <a:ext cx="1523880" cy="533160"/>
              <a:chOff x="6340320" y="3225960"/>
              <a:chExt cx="1523880" cy="533160"/>
            </a:xfrm>
          </p:grpSpPr>
          <p:sp>
            <p:nvSpPr>
              <p:cNvPr id="546" name=""/>
              <p:cNvSpPr/>
              <p:nvPr/>
            </p:nvSpPr>
            <p:spPr>
              <a:xfrm>
                <a:off x="6340320" y="322596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65960" y="323856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 flipH="1">
              <a:off x="2987280" y="2921040"/>
              <a:ext cx="76212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49760" y="2921040"/>
              <a:ext cx="76176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444840" y="3149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444840" y="3149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196960" y="35305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6840" y="314964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864200" y="3530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78560" y="246384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7318440" y="2463840"/>
              <a:ext cx="1523880" cy="533160"/>
              <a:chOff x="7318440" y="2463840"/>
              <a:chExt cx="1523880" cy="533160"/>
            </a:xfrm>
          </p:grpSpPr>
          <p:sp>
            <p:nvSpPr>
              <p:cNvPr id="557" name=""/>
              <p:cNvSpPr/>
              <p:nvPr/>
            </p:nvSpPr>
            <p:spPr>
              <a:xfrm>
                <a:off x="7318440" y="24638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35880" y="2476440"/>
                <a:ext cx="103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flipH="1">
              <a:off x="7330680" y="2997360"/>
              <a:ext cx="6094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53080" y="32767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03120" y="288288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8080" y="231156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838080" y="3759120"/>
            <a:ext cx="8169480" cy="1215000"/>
            <a:chOff x="838080" y="3759120"/>
            <a:chExt cx="8169480" cy="1215000"/>
          </a:xfrm>
        </p:grpSpPr>
        <p:sp>
          <p:nvSpPr>
            <p:cNvPr id="564" name=""/>
            <p:cNvSpPr/>
            <p:nvPr/>
          </p:nvSpPr>
          <p:spPr>
            <a:xfrm>
              <a:off x="853920" y="3819240"/>
              <a:ext cx="815364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44200" y="3908160"/>
              <a:ext cx="71301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-sop.inria.fr/acacia/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.inria.fr/~fab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Employe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Group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3759120"/>
              <a:ext cx="19209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RDF(S) - Aspects used by the agents managing the annotations 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853920" y="4876920"/>
            <a:ext cx="8180280" cy="1523520"/>
            <a:chOff x="853920" y="4876920"/>
            <a:chExt cx="8180280" cy="1523520"/>
          </a:xfrm>
        </p:grpSpPr>
        <p:sp>
          <p:nvSpPr>
            <p:cNvPr id="569" name=""/>
            <p:cNvSpPr/>
            <p:nvPr/>
          </p:nvSpPr>
          <p:spPr>
            <a:xfrm>
              <a:off x="853920" y="495288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71600" y="5829120"/>
              <a:ext cx="22860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Aca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282920" y="5790960"/>
              <a:ext cx="1523880" cy="533160"/>
              <a:chOff x="4282920" y="5790960"/>
              <a:chExt cx="1523880" cy="533160"/>
            </a:xfrm>
          </p:grpSpPr>
          <p:sp>
            <p:nvSpPr>
              <p:cNvPr id="572" name=""/>
              <p:cNvSpPr/>
              <p:nvPr/>
            </p:nvSpPr>
            <p:spPr>
              <a:xfrm>
                <a:off x="4282920" y="579096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08560" y="580356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 flipH="1">
              <a:off x="3657240" y="605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75560" y="57909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803560" y="6059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18440" y="579096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2960" y="5829120"/>
              <a:ext cx="2438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Fa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3920" y="487692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riplet and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78600" y="5333760"/>
              <a:ext cx="4755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urier New"/>
                </a:rPr>
                <a:t>(Acacia, Employee, Fab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38080" y="228600"/>
            <a:ext cx="8305920" cy="6248520"/>
            <a:chOff x="838080" y="228600"/>
            <a:chExt cx="8305920" cy="6248520"/>
          </a:xfrm>
        </p:grpSpPr>
        <p:sp>
          <p:nvSpPr>
            <p:cNvPr id="582" name=""/>
            <p:cNvSpPr/>
            <p:nvPr/>
          </p:nvSpPr>
          <p:spPr>
            <a:xfrm>
              <a:off x="838080" y="228600"/>
              <a:ext cx="8305920" cy="2209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8080" y="3809880"/>
              <a:ext cx="8305920" cy="1905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80" y="2362320"/>
              <a:ext cx="1447920" cy="1523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8080" y="5638680"/>
              <a:ext cx="457200" cy="83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95280" y="5715000"/>
              <a:ext cx="7696440" cy="68580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0" y="2438280"/>
              <a:ext cx="6705720" cy="137160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497A-14A6-4ACA-A054-BA8AD9D06A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MAS Architectur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590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591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01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602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4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605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06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607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0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611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612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613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4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615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617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9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30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631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2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5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8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51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52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653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63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64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66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6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7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3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67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9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95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69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8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0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2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6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7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0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71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3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71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5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8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19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720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724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5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736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740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743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748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1" name=""/>
          <p:cNvGrpSpPr/>
          <p:nvPr/>
        </p:nvGrpSpPr>
        <p:grpSpPr>
          <a:xfrm>
            <a:off x="1143000" y="838080"/>
            <a:ext cx="8001000" cy="4724640"/>
            <a:chOff x="1143000" y="838080"/>
            <a:chExt cx="8001000" cy="4724640"/>
          </a:xfrm>
        </p:grpSpPr>
        <p:sp>
          <p:nvSpPr>
            <p:cNvPr id="752" name=""/>
            <p:cNvSpPr/>
            <p:nvPr/>
          </p:nvSpPr>
          <p:spPr>
            <a:xfrm>
              <a:off x="1143000" y="838080"/>
              <a:ext cx="8001000" cy="152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3000" y="3505320"/>
              <a:ext cx="8001000" cy="2057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19320" y="2362320"/>
              <a:ext cx="77724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3FEA-C7A6-4EAB-BA00-401B7F7A37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Multi-agents information system for the CM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53800" y="228240"/>
            <a:ext cx="9042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CoMM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is an heterogeneous multi-agents information syste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ral types of ag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al with duality of information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cattered data, information &amp; knowled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iffuse captured information and knowled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gent paradigm adequacy: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abo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Global Capitaliz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nomy &amp; Individual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cal Adap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6600" indent="-426600">
              <a:lnSpc>
                <a:spcPct val="9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From Macroscopic to Microscopic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unctional analysis for high level functions: societi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ociety internal functional analysis: rol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//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scenario and use-cases analysis: interaction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6618-32E3-45DE-9CA0-777B38C881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38080" y="0"/>
            <a:ext cx="8305920" cy="6553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819520" y="4546440"/>
            <a:ext cx="4419360" cy="1944720"/>
            <a:chOff x="2819520" y="4546440"/>
            <a:chExt cx="4419360" cy="1944720"/>
          </a:xfrm>
        </p:grpSpPr>
        <p:sp>
          <p:nvSpPr>
            <p:cNvPr id="759" name=""/>
            <p:cNvSpPr/>
            <p:nvPr/>
          </p:nvSpPr>
          <p:spPr>
            <a:xfrm>
              <a:off x="2819520" y="454644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05320" y="460368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3098880" y="4572000"/>
              <a:ext cx="444600" cy="609480"/>
              <a:chOff x="3098880" y="4572000"/>
              <a:chExt cx="444600" cy="609480"/>
            </a:xfrm>
          </p:grpSpPr>
          <p:sp>
            <p:nvSpPr>
              <p:cNvPr id="762" name=""/>
              <p:cNvSpPr/>
              <p:nvPr/>
            </p:nvSpPr>
            <p:spPr>
              <a:xfrm>
                <a:off x="3098880" y="457200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3149280" y="4597560"/>
                <a:ext cx="353880" cy="550800"/>
                <a:chOff x="3149280" y="4597560"/>
                <a:chExt cx="353880" cy="550800"/>
              </a:xfrm>
            </p:grpSpPr>
            <p:sp>
              <p:nvSpPr>
                <p:cNvPr id="764" name=""/>
                <p:cNvSpPr/>
                <p:nvPr/>
              </p:nvSpPr>
              <p:spPr>
                <a:xfrm flipH="1">
                  <a:off x="3251880" y="462816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3343320" y="459756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3269520" y="475740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3186000" y="476244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3149280" y="491976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3296880" y="491940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0" name=""/>
          <p:cNvGrpSpPr/>
          <p:nvPr/>
        </p:nvGrpSpPr>
        <p:grpSpPr>
          <a:xfrm>
            <a:off x="5105520" y="50760"/>
            <a:ext cx="3886200" cy="1944720"/>
            <a:chOff x="5105520" y="50760"/>
            <a:chExt cx="3886200" cy="1944720"/>
          </a:xfrm>
        </p:grpSpPr>
        <p:sp>
          <p:nvSpPr>
            <p:cNvPr id="771" name=""/>
            <p:cNvSpPr/>
            <p:nvPr/>
          </p:nvSpPr>
          <p:spPr>
            <a:xfrm>
              <a:off x="510552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8680" y="1270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3" name="" descr=""/>
            <p:cNvPicPr/>
            <p:nvPr/>
          </p:nvPicPr>
          <p:blipFill>
            <a:blip r:embed="rId1"/>
            <a:stretch/>
          </p:blipFill>
          <p:spPr>
            <a:xfrm>
              <a:off x="5257800" y="2030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774" name=""/>
          <p:cNvGrpSpPr/>
          <p:nvPr/>
        </p:nvGrpSpPr>
        <p:grpSpPr>
          <a:xfrm>
            <a:off x="914400" y="50760"/>
            <a:ext cx="3886200" cy="1944720"/>
            <a:chOff x="914400" y="50760"/>
            <a:chExt cx="3886200" cy="1944720"/>
          </a:xfrm>
        </p:grpSpPr>
        <p:sp>
          <p:nvSpPr>
            <p:cNvPr id="775" name=""/>
            <p:cNvSpPr/>
            <p:nvPr/>
          </p:nvSpPr>
          <p:spPr>
            <a:xfrm>
              <a:off x="91440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71600" y="1270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7" name="onto_01" descr=""/>
            <p:cNvPicPr/>
            <p:nvPr/>
          </p:nvPicPr>
          <p:blipFill>
            <a:blip r:embed="rId2"/>
            <a:stretch/>
          </p:blipFill>
          <p:spPr>
            <a:xfrm>
              <a:off x="1057320" y="2030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778" name=""/>
          <p:cNvGrpSpPr/>
          <p:nvPr/>
        </p:nvGrpSpPr>
        <p:grpSpPr>
          <a:xfrm>
            <a:off x="2819520" y="1879560"/>
            <a:ext cx="4267080" cy="2971800"/>
            <a:chOff x="2819520" y="1879560"/>
            <a:chExt cx="4267080" cy="2971800"/>
          </a:xfrm>
        </p:grpSpPr>
        <p:sp>
          <p:nvSpPr>
            <p:cNvPr id="779" name=""/>
            <p:cNvSpPr/>
            <p:nvPr/>
          </p:nvSpPr>
          <p:spPr>
            <a:xfrm>
              <a:off x="2819520" y="23367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29000" y="24890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1800" y="18795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05720" y="4013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324480" y="18795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3"/>
            <a:stretch/>
          </p:blipFill>
          <p:spPr>
            <a:xfrm>
              <a:off x="2971800" y="24890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90200" y="5638680"/>
            <a:ext cx="172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oMMA Society Sub-societies</a:t>
            </a:r>
            <a:br>
              <a:rPr sz="1600"/>
            </a:b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nd Roles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219320" y="660240"/>
            <a:ext cx="3276360" cy="1000440"/>
            <a:chOff x="1219320" y="660240"/>
            <a:chExt cx="3276360" cy="1000440"/>
          </a:xfrm>
        </p:grpSpPr>
        <p:sp>
          <p:nvSpPr>
            <p:cNvPr id="787" name=""/>
            <p:cNvSpPr/>
            <p:nvPr/>
          </p:nvSpPr>
          <p:spPr>
            <a:xfrm>
              <a:off x="2209680" y="736560"/>
              <a:ext cx="22860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8" name="agent" descr=""/>
            <p:cNvPicPr/>
            <p:nvPr/>
          </p:nvPicPr>
          <p:blipFill>
            <a:blip r:embed="rId4"/>
            <a:stretch/>
          </p:blipFill>
          <p:spPr>
            <a:xfrm>
              <a:off x="1828800" y="660240"/>
              <a:ext cx="31104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89" name="agent" descr=""/>
            <p:cNvPicPr/>
            <p:nvPr/>
          </p:nvPicPr>
          <p:blipFill>
            <a:blip r:embed="rId5"/>
            <a:stretch/>
          </p:blipFill>
          <p:spPr>
            <a:xfrm>
              <a:off x="1219320" y="9651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90" name="agent" descr=""/>
            <p:cNvPicPr/>
            <p:nvPr/>
          </p:nvPicPr>
          <p:blipFill>
            <a:blip r:embed="rId6"/>
            <a:stretch/>
          </p:blipFill>
          <p:spPr>
            <a:xfrm>
              <a:off x="1752480" y="1346040"/>
              <a:ext cx="31140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91" name="agent" descr=""/>
            <p:cNvPicPr/>
            <p:nvPr/>
          </p:nvPicPr>
          <p:blipFill>
            <a:blip r:embed="rId7"/>
            <a:stretch/>
          </p:blipFill>
          <p:spPr>
            <a:xfrm>
              <a:off x="2286000" y="11937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792" name=""/>
          <p:cNvGrpSpPr/>
          <p:nvPr/>
        </p:nvGrpSpPr>
        <p:grpSpPr>
          <a:xfrm>
            <a:off x="5257800" y="660240"/>
            <a:ext cx="3657600" cy="1219320"/>
            <a:chOff x="5257800" y="660240"/>
            <a:chExt cx="3657600" cy="1219320"/>
          </a:xfrm>
        </p:grpSpPr>
        <p:sp>
          <p:nvSpPr>
            <p:cNvPr id="793" name=""/>
            <p:cNvSpPr/>
            <p:nvPr/>
          </p:nvSpPr>
          <p:spPr>
            <a:xfrm>
              <a:off x="6172200" y="1193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86400" y="142236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57800" y="66024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agent" descr=""/>
            <p:cNvPicPr/>
            <p:nvPr/>
          </p:nvPicPr>
          <p:blipFill>
            <a:blip r:embed="rId8"/>
            <a:stretch/>
          </p:blipFill>
          <p:spPr>
            <a:xfrm>
              <a:off x="6477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797" name="agent" descr=""/>
            <p:cNvPicPr/>
            <p:nvPr/>
          </p:nvPicPr>
          <p:blipFill>
            <a:blip r:embed="rId9"/>
            <a:stretch/>
          </p:blipFill>
          <p:spPr>
            <a:xfrm>
              <a:off x="6858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798" name="agent" descr=""/>
            <p:cNvPicPr/>
            <p:nvPr/>
          </p:nvPicPr>
          <p:blipFill>
            <a:blip r:embed="rId10"/>
            <a:stretch/>
          </p:blipFill>
          <p:spPr>
            <a:xfrm>
              <a:off x="7238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799" name="agent" descr=""/>
            <p:cNvPicPr/>
            <p:nvPr/>
          </p:nvPicPr>
          <p:blipFill>
            <a:blip r:embed="rId11"/>
            <a:stretch/>
          </p:blipFill>
          <p:spPr>
            <a:xfrm>
              <a:off x="7620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00" name="agent" descr=""/>
            <p:cNvPicPr/>
            <p:nvPr/>
          </p:nvPicPr>
          <p:blipFill>
            <a:blip r:embed="rId12"/>
            <a:stretch/>
          </p:blipFill>
          <p:spPr>
            <a:xfrm>
              <a:off x="8001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01" name="agent" descr=""/>
            <p:cNvPicPr/>
            <p:nvPr/>
          </p:nvPicPr>
          <p:blipFill>
            <a:blip r:embed="rId13"/>
            <a:stretch/>
          </p:blipFill>
          <p:spPr>
            <a:xfrm>
              <a:off x="8381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02" name="agent" descr=""/>
            <p:cNvPicPr/>
            <p:nvPr/>
          </p:nvPicPr>
          <p:blipFill>
            <a:blip r:embed="rId14"/>
            <a:stretch/>
          </p:blipFill>
          <p:spPr>
            <a:xfrm>
              <a:off x="6858000" y="142236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803" name="agent" descr=""/>
            <p:cNvPicPr/>
            <p:nvPr/>
          </p:nvPicPr>
          <p:blipFill>
            <a:blip r:embed="rId15"/>
            <a:stretch/>
          </p:blipFill>
          <p:spPr>
            <a:xfrm>
              <a:off x="7238880" y="142236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2971800" y="5146560"/>
            <a:ext cx="3962520" cy="1000080"/>
            <a:chOff x="2971800" y="5146560"/>
            <a:chExt cx="3962520" cy="1000080"/>
          </a:xfrm>
        </p:grpSpPr>
        <p:grpSp>
          <p:nvGrpSpPr>
            <p:cNvPr id="805" name=""/>
            <p:cNvGrpSpPr/>
            <p:nvPr/>
          </p:nvGrpSpPr>
          <p:grpSpPr>
            <a:xfrm>
              <a:off x="4267080" y="5384880"/>
              <a:ext cx="1371600" cy="761760"/>
              <a:chOff x="4267080" y="5384880"/>
              <a:chExt cx="1371600" cy="761760"/>
            </a:xfrm>
          </p:grpSpPr>
          <p:pic>
            <p:nvPicPr>
              <p:cNvPr id="806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800600" y="538488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4267080" y="56894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334120" y="5146560"/>
              <a:ext cx="1600200" cy="924120"/>
              <a:chOff x="5334120" y="5146560"/>
              <a:chExt cx="1600200" cy="924120"/>
            </a:xfrm>
          </p:grpSpPr>
          <p:pic>
            <p:nvPicPr>
              <p:cNvPr id="809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37120" y="514656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810" name=""/>
              <p:cNvSpPr/>
              <p:nvPr/>
            </p:nvSpPr>
            <p:spPr>
              <a:xfrm>
                <a:off x="5334120" y="546084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971800" y="5308560"/>
              <a:ext cx="1371600" cy="762120"/>
              <a:chOff x="2971800" y="5308560"/>
              <a:chExt cx="1371600" cy="762120"/>
            </a:xfrm>
          </p:grpSpPr>
          <p:pic>
            <p:nvPicPr>
              <p:cNvPr id="812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505320" y="530856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2971800" y="561348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2819520" y="2946240"/>
            <a:ext cx="3968640" cy="1219320"/>
            <a:chOff x="2819520" y="2946240"/>
            <a:chExt cx="3968640" cy="1219320"/>
          </a:xfrm>
        </p:grpSpPr>
        <p:sp>
          <p:nvSpPr>
            <p:cNvPr id="815" name=""/>
            <p:cNvSpPr/>
            <p:nvPr/>
          </p:nvSpPr>
          <p:spPr>
            <a:xfrm>
              <a:off x="2819520" y="347976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agent" descr=""/>
            <p:cNvPicPr/>
            <p:nvPr/>
          </p:nvPicPr>
          <p:blipFill>
            <a:blip r:embed="rId19"/>
            <a:stretch/>
          </p:blipFill>
          <p:spPr>
            <a:xfrm>
              <a:off x="4038480" y="317484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17" name="agent" descr=""/>
            <p:cNvPicPr/>
            <p:nvPr/>
          </p:nvPicPr>
          <p:blipFill>
            <a:blip r:embed="rId20"/>
            <a:stretch/>
          </p:blipFill>
          <p:spPr>
            <a:xfrm>
              <a:off x="4876920" y="30225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18" name="agent" descr=""/>
            <p:cNvPicPr/>
            <p:nvPr/>
          </p:nvPicPr>
          <p:blipFill>
            <a:blip r:embed="rId21"/>
            <a:stretch/>
          </p:blipFill>
          <p:spPr>
            <a:xfrm>
              <a:off x="5867280" y="325116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19" name="agent" descr=""/>
            <p:cNvPicPr/>
            <p:nvPr/>
          </p:nvPicPr>
          <p:blipFill>
            <a:blip r:embed="rId22"/>
            <a:stretch/>
          </p:blipFill>
          <p:spPr>
            <a:xfrm>
              <a:off x="5029200" y="37083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20" name="agent" descr=""/>
            <p:cNvPicPr/>
            <p:nvPr/>
          </p:nvPicPr>
          <p:blipFill>
            <a:blip r:embed="rId23"/>
            <a:stretch/>
          </p:blipFill>
          <p:spPr>
            <a:xfrm>
              <a:off x="6477120" y="294624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4211-2FD0-4283-9815-0E0EE6CF01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838080" y="0"/>
            <a:ext cx="8305920" cy="6553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2819520" y="4546440"/>
            <a:ext cx="4419360" cy="1944720"/>
            <a:chOff x="2819520" y="4546440"/>
            <a:chExt cx="4419360" cy="1944720"/>
          </a:xfrm>
        </p:grpSpPr>
        <p:sp>
          <p:nvSpPr>
            <p:cNvPr id="823" name=""/>
            <p:cNvSpPr/>
            <p:nvPr/>
          </p:nvSpPr>
          <p:spPr>
            <a:xfrm>
              <a:off x="2819520" y="454644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05320" y="460368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098880" y="4572000"/>
              <a:ext cx="444600" cy="609480"/>
              <a:chOff x="3098880" y="4572000"/>
              <a:chExt cx="444600" cy="609480"/>
            </a:xfrm>
          </p:grpSpPr>
          <p:sp>
            <p:nvSpPr>
              <p:cNvPr id="826" name=""/>
              <p:cNvSpPr/>
              <p:nvPr/>
            </p:nvSpPr>
            <p:spPr>
              <a:xfrm>
                <a:off x="3098880" y="457200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3149280" y="4597560"/>
                <a:ext cx="353880" cy="550800"/>
                <a:chOff x="3149280" y="4597560"/>
                <a:chExt cx="353880" cy="550800"/>
              </a:xfrm>
            </p:grpSpPr>
            <p:sp>
              <p:nvSpPr>
                <p:cNvPr id="828" name=""/>
                <p:cNvSpPr/>
                <p:nvPr/>
              </p:nvSpPr>
              <p:spPr>
                <a:xfrm flipH="1">
                  <a:off x="3251880" y="462816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3343320" y="459756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3269520" y="475740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3186000" y="476244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3149280" y="491976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3296880" y="491940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4" name=""/>
          <p:cNvGrpSpPr/>
          <p:nvPr/>
        </p:nvGrpSpPr>
        <p:grpSpPr>
          <a:xfrm>
            <a:off x="5105520" y="50760"/>
            <a:ext cx="3886200" cy="1944720"/>
            <a:chOff x="5105520" y="50760"/>
            <a:chExt cx="3886200" cy="1944720"/>
          </a:xfrm>
        </p:grpSpPr>
        <p:sp>
          <p:nvSpPr>
            <p:cNvPr id="835" name=""/>
            <p:cNvSpPr/>
            <p:nvPr/>
          </p:nvSpPr>
          <p:spPr>
            <a:xfrm>
              <a:off x="510552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638680" y="1270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7" name="" descr=""/>
            <p:cNvPicPr/>
            <p:nvPr/>
          </p:nvPicPr>
          <p:blipFill>
            <a:blip r:embed="rId1"/>
            <a:stretch/>
          </p:blipFill>
          <p:spPr>
            <a:xfrm>
              <a:off x="5257800" y="2030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838" name=""/>
          <p:cNvGrpSpPr/>
          <p:nvPr/>
        </p:nvGrpSpPr>
        <p:grpSpPr>
          <a:xfrm>
            <a:off x="914400" y="50760"/>
            <a:ext cx="3886200" cy="1944720"/>
            <a:chOff x="914400" y="50760"/>
            <a:chExt cx="3886200" cy="1944720"/>
          </a:xfrm>
        </p:grpSpPr>
        <p:sp>
          <p:nvSpPr>
            <p:cNvPr id="839" name=""/>
            <p:cNvSpPr/>
            <p:nvPr/>
          </p:nvSpPr>
          <p:spPr>
            <a:xfrm>
              <a:off x="91440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71600" y="1270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1" name="onto_01" descr=""/>
            <p:cNvPicPr/>
            <p:nvPr/>
          </p:nvPicPr>
          <p:blipFill>
            <a:blip r:embed="rId2"/>
            <a:stretch/>
          </p:blipFill>
          <p:spPr>
            <a:xfrm>
              <a:off x="1057320" y="2030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842" name=""/>
          <p:cNvSpPr/>
          <p:nvPr/>
        </p:nvSpPr>
        <p:spPr>
          <a:xfrm>
            <a:off x="2819520" y="2336760"/>
            <a:ext cx="4190760" cy="194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9000" y="2489040"/>
            <a:ext cx="3657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2971800" y="2489040"/>
            <a:ext cx="474840" cy="3794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61760" y="5486400"/>
            <a:ext cx="15714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Roles Interaction specifications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1219320" y="660240"/>
            <a:ext cx="3276360" cy="1000440"/>
            <a:chOff x="1219320" y="660240"/>
            <a:chExt cx="3276360" cy="1000440"/>
          </a:xfrm>
        </p:grpSpPr>
        <p:sp>
          <p:nvSpPr>
            <p:cNvPr id="847" name=""/>
            <p:cNvSpPr/>
            <p:nvPr/>
          </p:nvSpPr>
          <p:spPr>
            <a:xfrm>
              <a:off x="2209680" y="736560"/>
              <a:ext cx="22860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8" name="agent" descr=""/>
            <p:cNvPicPr/>
            <p:nvPr/>
          </p:nvPicPr>
          <p:blipFill>
            <a:blip r:embed="rId4"/>
            <a:stretch/>
          </p:blipFill>
          <p:spPr>
            <a:xfrm>
              <a:off x="1828800" y="660240"/>
              <a:ext cx="31104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49" name="agent" descr=""/>
            <p:cNvPicPr/>
            <p:nvPr/>
          </p:nvPicPr>
          <p:blipFill>
            <a:blip r:embed="rId5"/>
            <a:stretch/>
          </p:blipFill>
          <p:spPr>
            <a:xfrm>
              <a:off x="1219320" y="9651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50" name="agent" descr=""/>
            <p:cNvPicPr/>
            <p:nvPr/>
          </p:nvPicPr>
          <p:blipFill>
            <a:blip r:embed="rId6"/>
            <a:stretch/>
          </p:blipFill>
          <p:spPr>
            <a:xfrm>
              <a:off x="1752480" y="1346040"/>
              <a:ext cx="31140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51" name="agent" descr=""/>
            <p:cNvPicPr/>
            <p:nvPr/>
          </p:nvPicPr>
          <p:blipFill>
            <a:blip r:embed="rId7"/>
            <a:stretch/>
          </p:blipFill>
          <p:spPr>
            <a:xfrm>
              <a:off x="2286000" y="11937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852" name=""/>
          <p:cNvGrpSpPr/>
          <p:nvPr/>
        </p:nvGrpSpPr>
        <p:grpSpPr>
          <a:xfrm>
            <a:off x="5257800" y="660240"/>
            <a:ext cx="3657600" cy="1219320"/>
            <a:chOff x="5257800" y="660240"/>
            <a:chExt cx="3657600" cy="1219320"/>
          </a:xfrm>
        </p:grpSpPr>
        <p:sp>
          <p:nvSpPr>
            <p:cNvPr id="853" name=""/>
            <p:cNvSpPr/>
            <p:nvPr/>
          </p:nvSpPr>
          <p:spPr>
            <a:xfrm>
              <a:off x="6172200" y="1193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86400" y="142236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57800" y="66024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6" name="agent" descr=""/>
            <p:cNvPicPr/>
            <p:nvPr/>
          </p:nvPicPr>
          <p:blipFill>
            <a:blip r:embed="rId8"/>
            <a:stretch/>
          </p:blipFill>
          <p:spPr>
            <a:xfrm>
              <a:off x="6477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7" name="agent" descr=""/>
            <p:cNvPicPr/>
            <p:nvPr/>
          </p:nvPicPr>
          <p:blipFill>
            <a:blip r:embed="rId9"/>
            <a:stretch/>
          </p:blipFill>
          <p:spPr>
            <a:xfrm>
              <a:off x="6858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8" name="agent" descr=""/>
            <p:cNvPicPr/>
            <p:nvPr/>
          </p:nvPicPr>
          <p:blipFill>
            <a:blip r:embed="rId10"/>
            <a:stretch/>
          </p:blipFill>
          <p:spPr>
            <a:xfrm>
              <a:off x="7238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9" name="agent" descr=""/>
            <p:cNvPicPr/>
            <p:nvPr/>
          </p:nvPicPr>
          <p:blipFill>
            <a:blip r:embed="rId11"/>
            <a:stretch/>
          </p:blipFill>
          <p:spPr>
            <a:xfrm>
              <a:off x="7620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0" name="agent" descr=""/>
            <p:cNvPicPr/>
            <p:nvPr/>
          </p:nvPicPr>
          <p:blipFill>
            <a:blip r:embed="rId12"/>
            <a:stretch/>
          </p:blipFill>
          <p:spPr>
            <a:xfrm>
              <a:off x="8001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1" name="agent" descr=""/>
            <p:cNvPicPr/>
            <p:nvPr/>
          </p:nvPicPr>
          <p:blipFill>
            <a:blip r:embed="rId13"/>
            <a:stretch/>
          </p:blipFill>
          <p:spPr>
            <a:xfrm>
              <a:off x="8381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2" name="agent" descr=""/>
            <p:cNvPicPr/>
            <p:nvPr/>
          </p:nvPicPr>
          <p:blipFill>
            <a:blip r:embed="rId14"/>
            <a:stretch/>
          </p:blipFill>
          <p:spPr>
            <a:xfrm>
              <a:off x="6858000" y="142236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863" name="agent" descr=""/>
            <p:cNvPicPr/>
            <p:nvPr/>
          </p:nvPicPr>
          <p:blipFill>
            <a:blip r:embed="rId15"/>
            <a:stretch/>
          </p:blipFill>
          <p:spPr>
            <a:xfrm>
              <a:off x="7238880" y="142236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864" name=""/>
          <p:cNvGrpSpPr/>
          <p:nvPr/>
        </p:nvGrpSpPr>
        <p:grpSpPr>
          <a:xfrm>
            <a:off x="2971800" y="5146560"/>
            <a:ext cx="3962520" cy="1000080"/>
            <a:chOff x="2971800" y="5146560"/>
            <a:chExt cx="3962520" cy="1000080"/>
          </a:xfrm>
        </p:grpSpPr>
        <p:grpSp>
          <p:nvGrpSpPr>
            <p:cNvPr id="865" name=""/>
            <p:cNvGrpSpPr/>
            <p:nvPr/>
          </p:nvGrpSpPr>
          <p:grpSpPr>
            <a:xfrm>
              <a:off x="4267080" y="5384880"/>
              <a:ext cx="1371600" cy="761760"/>
              <a:chOff x="4267080" y="5384880"/>
              <a:chExt cx="1371600" cy="761760"/>
            </a:xfrm>
          </p:grpSpPr>
          <p:pic>
            <p:nvPicPr>
              <p:cNvPr id="866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800600" y="538488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867" name=""/>
              <p:cNvSpPr/>
              <p:nvPr/>
            </p:nvSpPr>
            <p:spPr>
              <a:xfrm>
                <a:off x="4267080" y="56894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5334120" y="5146560"/>
              <a:ext cx="1600200" cy="924120"/>
              <a:chOff x="5334120" y="5146560"/>
              <a:chExt cx="1600200" cy="924120"/>
            </a:xfrm>
          </p:grpSpPr>
          <p:pic>
            <p:nvPicPr>
              <p:cNvPr id="869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37120" y="514656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870" name=""/>
              <p:cNvSpPr/>
              <p:nvPr/>
            </p:nvSpPr>
            <p:spPr>
              <a:xfrm>
                <a:off x="5334120" y="546084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2971800" y="5308560"/>
              <a:ext cx="1371600" cy="762120"/>
              <a:chOff x="2971800" y="5308560"/>
              <a:chExt cx="1371600" cy="762120"/>
            </a:xfrm>
          </p:grpSpPr>
          <p:pic>
            <p:nvPicPr>
              <p:cNvPr id="872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505320" y="530856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873" name=""/>
              <p:cNvSpPr/>
              <p:nvPr/>
            </p:nvSpPr>
            <p:spPr>
              <a:xfrm>
                <a:off x="2971800" y="561348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2819520" y="2946240"/>
            <a:ext cx="3968640" cy="1219320"/>
            <a:chOff x="2819520" y="2946240"/>
            <a:chExt cx="3968640" cy="1219320"/>
          </a:xfrm>
        </p:grpSpPr>
        <p:sp>
          <p:nvSpPr>
            <p:cNvPr id="875" name=""/>
            <p:cNvSpPr/>
            <p:nvPr/>
          </p:nvSpPr>
          <p:spPr>
            <a:xfrm>
              <a:off x="2819520" y="347976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6" name="agent" descr=""/>
            <p:cNvPicPr/>
            <p:nvPr/>
          </p:nvPicPr>
          <p:blipFill>
            <a:blip r:embed="rId19"/>
            <a:stretch/>
          </p:blipFill>
          <p:spPr>
            <a:xfrm>
              <a:off x="4038480" y="317484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77" name="agent" descr=""/>
            <p:cNvPicPr/>
            <p:nvPr/>
          </p:nvPicPr>
          <p:blipFill>
            <a:blip r:embed="rId20"/>
            <a:stretch/>
          </p:blipFill>
          <p:spPr>
            <a:xfrm>
              <a:off x="4876920" y="30225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78" name="agent" descr=""/>
            <p:cNvPicPr/>
            <p:nvPr/>
          </p:nvPicPr>
          <p:blipFill>
            <a:blip r:embed="rId21"/>
            <a:stretch/>
          </p:blipFill>
          <p:spPr>
            <a:xfrm>
              <a:off x="5867280" y="325116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79" name="agent" descr=""/>
            <p:cNvPicPr/>
            <p:nvPr/>
          </p:nvPicPr>
          <p:blipFill>
            <a:blip r:embed="rId22"/>
            <a:stretch/>
          </p:blipFill>
          <p:spPr>
            <a:xfrm>
              <a:off x="5029200" y="37083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80" name="agent" descr=""/>
            <p:cNvPicPr/>
            <p:nvPr/>
          </p:nvPicPr>
          <p:blipFill>
            <a:blip r:embed="rId23"/>
            <a:stretch/>
          </p:blipFill>
          <p:spPr>
            <a:xfrm>
              <a:off x="6477120" y="294624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881" name=""/>
          <p:cNvSpPr/>
          <p:nvPr/>
        </p:nvSpPr>
        <p:spPr>
          <a:xfrm flipV="1">
            <a:off x="7010280" y="104148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7238880" y="1041480"/>
            <a:ext cx="129564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6705360" y="1041480"/>
            <a:ext cx="22860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086600" y="1041480"/>
            <a:ext cx="68580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4419720" y="3174840"/>
            <a:ext cx="304560" cy="763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257800" y="3174840"/>
            <a:ext cx="457200" cy="1526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5410080" y="3556080"/>
            <a:ext cx="38124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343400" y="3632040"/>
            <a:ext cx="533520" cy="2286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6248160" y="3174840"/>
            <a:ext cx="152280" cy="2286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86200" y="5486400"/>
            <a:ext cx="838080" cy="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181480" y="5333760"/>
            <a:ext cx="609840" cy="1522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62920" y="2133720"/>
            <a:ext cx="838080" cy="914400"/>
          </a:xfrm>
          <a:custGeom>
            <a:avLst/>
            <a:gdLst>
              <a:gd name="textAreaLeft" fmla="*/ 240120 w 838080"/>
              <a:gd name="textAreaRight" fmla="*/ 733320 w 838080"/>
              <a:gd name="textAreaTop" fmla="*/ 56448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6118"/>
                </a:moveTo>
                <a:lnTo>
                  <a:pt x="6188" y="10636"/>
                </a:lnTo>
                <a:lnTo>
                  <a:pt x="6188" y="13336"/>
                </a:lnTo>
                <a:lnTo>
                  <a:pt x="13336" y="13336"/>
                </a:lnTo>
                <a:lnTo>
                  <a:pt x="13336" y="6188"/>
                </a:lnTo>
                <a:lnTo>
                  <a:pt x="10636" y="6188"/>
                </a:lnTo>
                <a:lnTo>
                  <a:pt x="16118" y="0"/>
                </a:lnTo>
                <a:lnTo>
                  <a:pt x="21600" y="6188"/>
                </a:lnTo>
                <a:lnTo>
                  <a:pt x="18900" y="6188"/>
                </a:lnTo>
                <a:lnTo>
                  <a:pt x="18900" y="18900"/>
                </a:lnTo>
                <a:lnTo>
                  <a:pt x="6188" y="18900"/>
                </a:lnTo>
                <a:lnTo>
                  <a:pt x="6188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828800" y="2133720"/>
            <a:ext cx="838080" cy="914400"/>
          </a:xfrm>
          <a:custGeom>
            <a:avLst/>
            <a:gdLst>
              <a:gd name="textAreaLeft" fmla="*/ 240120 w 838080"/>
              <a:gd name="textAreaRight" fmla="*/ 733320 w 838080"/>
              <a:gd name="textAreaTop" fmla="*/ 56448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6118"/>
                </a:moveTo>
                <a:lnTo>
                  <a:pt x="6188" y="10636"/>
                </a:lnTo>
                <a:lnTo>
                  <a:pt x="6188" y="13336"/>
                </a:lnTo>
                <a:lnTo>
                  <a:pt x="13336" y="13336"/>
                </a:lnTo>
                <a:lnTo>
                  <a:pt x="13336" y="6188"/>
                </a:lnTo>
                <a:lnTo>
                  <a:pt x="10636" y="6188"/>
                </a:lnTo>
                <a:lnTo>
                  <a:pt x="16118" y="0"/>
                </a:lnTo>
                <a:lnTo>
                  <a:pt x="21600" y="6188"/>
                </a:lnTo>
                <a:lnTo>
                  <a:pt x="18900" y="6188"/>
                </a:lnTo>
                <a:lnTo>
                  <a:pt x="18900" y="18900"/>
                </a:lnTo>
                <a:lnTo>
                  <a:pt x="6188" y="18900"/>
                </a:lnTo>
                <a:lnTo>
                  <a:pt x="6188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48520" y="3962520"/>
            <a:ext cx="457200" cy="9144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91040" y="2895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62120" y="0"/>
            <a:ext cx="8381880" cy="6553080"/>
            <a:chOff x="762120" y="0"/>
            <a:chExt cx="8381880" cy="6553080"/>
          </a:xfrm>
        </p:grpSpPr>
        <p:grpSp>
          <p:nvGrpSpPr>
            <p:cNvPr id="897" name=""/>
            <p:cNvGrpSpPr/>
            <p:nvPr/>
          </p:nvGrpSpPr>
          <p:grpSpPr>
            <a:xfrm>
              <a:off x="762120" y="0"/>
              <a:ext cx="8381880" cy="6553080"/>
              <a:chOff x="762120" y="0"/>
              <a:chExt cx="8381880" cy="6553080"/>
            </a:xfrm>
          </p:grpSpPr>
          <p:sp>
            <p:nvSpPr>
              <p:cNvPr id="898" name=""/>
              <p:cNvSpPr/>
              <p:nvPr/>
            </p:nvSpPr>
            <p:spPr>
              <a:xfrm>
                <a:off x="762120" y="0"/>
                <a:ext cx="4190760" cy="655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52880" y="2057400"/>
                <a:ext cx="4191120" cy="44956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4940280" y="0"/>
              <a:ext cx="4191120" cy="20700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02F4-C507-4846-871F-E9F9E7E206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762120" y="304920"/>
            <a:ext cx="8465400" cy="4267080"/>
            <a:chOff x="762120" y="304920"/>
            <a:chExt cx="8465400" cy="4267080"/>
          </a:xfrm>
        </p:grpSpPr>
        <p:grpSp>
          <p:nvGrpSpPr>
            <p:cNvPr id="902" name=""/>
            <p:cNvGrpSpPr/>
            <p:nvPr/>
          </p:nvGrpSpPr>
          <p:grpSpPr>
            <a:xfrm>
              <a:off x="762120" y="304920"/>
              <a:ext cx="4402080" cy="4267080"/>
              <a:chOff x="762120" y="304920"/>
              <a:chExt cx="4402080" cy="4267080"/>
            </a:xfrm>
          </p:grpSpPr>
          <p:sp>
            <p:nvSpPr>
              <p:cNvPr id="903" name=""/>
              <p:cNvSpPr/>
              <p:nvPr/>
            </p:nvSpPr>
            <p:spPr>
              <a:xfrm>
                <a:off x="787320" y="304920"/>
                <a:ext cx="4241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04" name=""/>
              <p:cNvGraphicFramePr/>
              <p:nvPr/>
            </p:nvGraphicFramePr>
            <p:xfrm>
              <a:off x="762120" y="380880"/>
              <a:ext cx="4402080" cy="41911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9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380880"/>
                        <a:ext cx="4402080" cy="4191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06" name=""/>
            <p:cNvGrpSpPr/>
            <p:nvPr/>
          </p:nvGrpSpPr>
          <p:grpSpPr>
            <a:xfrm>
              <a:off x="5181480" y="2759040"/>
              <a:ext cx="4046040" cy="825480"/>
              <a:chOff x="5181480" y="2759040"/>
              <a:chExt cx="4046040" cy="825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658840" y="2759040"/>
                <a:ext cx="3568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Roles descrip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implied role characteristic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81480" y="297180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4190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Zooming on the annotation society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105520" y="50760"/>
            <a:ext cx="3886200" cy="1944720"/>
            <a:chOff x="5105520" y="50760"/>
            <a:chExt cx="3886200" cy="1944720"/>
          </a:xfrm>
        </p:grpSpPr>
        <p:grpSp>
          <p:nvGrpSpPr>
            <p:cNvPr id="911" name=""/>
            <p:cNvGrpSpPr/>
            <p:nvPr/>
          </p:nvGrpSpPr>
          <p:grpSpPr>
            <a:xfrm>
              <a:off x="5105520" y="50760"/>
              <a:ext cx="3886200" cy="1944720"/>
              <a:chOff x="5105520" y="50760"/>
              <a:chExt cx="3886200" cy="1944720"/>
            </a:xfrm>
          </p:grpSpPr>
          <p:sp>
            <p:nvSpPr>
              <p:cNvPr id="912" name=""/>
              <p:cNvSpPr/>
              <p:nvPr/>
            </p:nvSpPr>
            <p:spPr>
              <a:xfrm>
                <a:off x="5105520" y="50760"/>
                <a:ext cx="3886200" cy="1944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38680" y="127080"/>
                <a:ext cx="320040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nnotations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203040"/>
                <a:ext cx="380880" cy="2890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915" name=""/>
            <p:cNvGrpSpPr/>
            <p:nvPr/>
          </p:nvGrpSpPr>
          <p:grpSpPr>
            <a:xfrm>
              <a:off x="5257800" y="660240"/>
              <a:ext cx="3657600" cy="1219320"/>
              <a:chOff x="5257800" y="660240"/>
              <a:chExt cx="3657600" cy="1219320"/>
            </a:xfrm>
          </p:grpSpPr>
          <p:sp>
            <p:nvSpPr>
              <p:cNvPr id="916" name=""/>
              <p:cNvSpPr/>
              <p:nvPr/>
            </p:nvSpPr>
            <p:spPr>
              <a:xfrm>
                <a:off x="6172200" y="119376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486400" y="142236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9933"/>
                    </a:solidFill>
                    <a:latin typeface="Times New Roman"/>
                  </a:rPr>
                  <a:t>Media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57800" y="660240"/>
                <a:ext cx="1752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9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712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0" name="agent" descr=""/>
              <p:cNvPicPr/>
              <p:nvPr/>
            </p:nvPicPr>
            <p:blipFill>
              <a:blip r:embed="rId5"/>
              <a:stretch/>
            </p:blipFill>
            <p:spPr>
              <a:xfrm>
                <a:off x="685800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1" name="agent" descr=""/>
              <p:cNvPicPr/>
              <p:nvPr/>
            </p:nvPicPr>
            <p:blipFill>
              <a:blip r:embed="rId6"/>
              <a:stretch/>
            </p:blipFill>
            <p:spPr>
              <a:xfrm>
                <a:off x="7238880" y="660240"/>
                <a:ext cx="31140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2" name="agent" descr=""/>
              <p:cNvPicPr/>
              <p:nvPr/>
            </p:nvPicPr>
            <p:blipFill>
              <a:blip r:embed="rId7"/>
              <a:stretch/>
            </p:blipFill>
            <p:spPr>
              <a:xfrm>
                <a:off x="762012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3" name="agent" descr=""/>
              <p:cNvPicPr/>
              <p:nvPr/>
            </p:nvPicPr>
            <p:blipFill>
              <a:blip r:embed="rId8"/>
              <a:stretch/>
            </p:blipFill>
            <p:spPr>
              <a:xfrm>
                <a:off x="800100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4" name="agent" descr=""/>
              <p:cNvPicPr/>
              <p:nvPr/>
            </p:nvPicPr>
            <p:blipFill>
              <a:blip r:embed="rId9"/>
              <a:stretch/>
            </p:blipFill>
            <p:spPr>
              <a:xfrm>
                <a:off x="8381880" y="660240"/>
                <a:ext cx="31140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5" name="agent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58000" y="1422360"/>
                <a:ext cx="311040" cy="314280"/>
              </a:xfrm>
              <a:prstGeom prst="rect">
                <a:avLst/>
              </a:prstGeom>
              <a:ln w="28440">
                <a:solidFill>
                  <a:srgbClr val="339933"/>
                </a:solidFill>
                <a:miter/>
              </a:ln>
            </p:spPr>
          </p:pic>
          <p:pic>
            <p:nvPicPr>
              <p:cNvPr id="926" name="agent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38880" y="1422360"/>
                <a:ext cx="311400" cy="314280"/>
              </a:xfrm>
              <a:prstGeom prst="rect">
                <a:avLst/>
              </a:prstGeom>
              <a:ln w="28440">
                <a:solidFill>
                  <a:srgbClr val="339933"/>
                </a:solidFill>
                <a:miter/>
              </a:ln>
            </p:spPr>
          </p:pic>
        </p:grpSp>
        <p:sp>
          <p:nvSpPr>
            <p:cNvPr id="927" name=""/>
            <p:cNvSpPr/>
            <p:nvPr/>
          </p:nvSpPr>
          <p:spPr>
            <a:xfrm flipV="1">
              <a:off x="7010280" y="1041480"/>
              <a:ext cx="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238880" y="1041480"/>
              <a:ext cx="129564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6705360" y="1041480"/>
              <a:ext cx="22860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086600" y="1041480"/>
              <a:ext cx="68580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2133720"/>
            <a:ext cx="8305560" cy="4305240"/>
            <a:chOff x="762120" y="2133720"/>
            <a:chExt cx="8305560" cy="4305240"/>
          </a:xfrm>
        </p:grpSpPr>
        <p:sp>
          <p:nvSpPr>
            <p:cNvPr id="932" name=""/>
            <p:cNvSpPr/>
            <p:nvPr/>
          </p:nvSpPr>
          <p:spPr>
            <a:xfrm>
              <a:off x="762120" y="4724280"/>
              <a:ext cx="2514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Scenarios and</a:t>
              </a:r>
              <a:br>
                <a:rPr sz="2400"/>
              </a:b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use cases to derive interactions and protocols spec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743200" y="480060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3225960" y="2133720"/>
              <a:ext cx="5841720" cy="4305240"/>
              <a:chOff x="3225960" y="2133720"/>
              <a:chExt cx="5841720" cy="4305240"/>
            </a:xfrm>
          </p:grpSpPr>
          <p:sp>
            <p:nvSpPr>
              <p:cNvPr id="935" name=""/>
              <p:cNvSpPr/>
              <p:nvPr/>
            </p:nvSpPr>
            <p:spPr>
              <a:xfrm>
                <a:off x="3225960" y="2133720"/>
                <a:ext cx="5841720" cy="430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" name=""/>
              <p:cNvGrpSpPr/>
              <p:nvPr/>
            </p:nvGrpSpPr>
            <p:grpSpPr>
              <a:xfrm>
                <a:off x="3301920" y="2157840"/>
                <a:ext cx="5714280" cy="4231800"/>
                <a:chOff x="3301920" y="2157840"/>
                <a:chExt cx="5714280" cy="423180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3301920" y="3512160"/>
                  <a:ext cx="119412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AMLocal</a:t>
                  </a: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496040" y="3681360"/>
                  <a:ext cx="175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235200" y="3512160"/>
                  <a:ext cx="54468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471520" y="3486240"/>
                  <a:ext cx="54468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794640" y="3681360"/>
                  <a:ext cx="1676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235200" y="4471200"/>
                  <a:ext cx="60696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798360" y="4640760"/>
                  <a:ext cx="243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3798360" y="3850560"/>
                  <a:ext cx="0" cy="78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8320" y="3624840"/>
                  <a:ext cx="683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04080" y="3568320"/>
                  <a:ext cx="13716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300920" y="3314880"/>
                  <a:ext cx="10558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1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f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8" name=""/>
                <p:cNvGrpSpPr/>
                <p:nvPr/>
              </p:nvGrpSpPr>
              <p:grpSpPr>
                <a:xfrm>
                  <a:off x="4132080" y="4523760"/>
                  <a:ext cx="683280" cy="56160"/>
                  <a:chOff x="4132080" y="4523760"/>
                  <a:chExt cx="683280" cy="5616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4132080" y="457992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677840" y="452376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1" name=""/>
                <p:cNvSpPr/>
                <p:nvPr/>
              </p:nvSpPr>
              <p:spPr>
                <a:xfrm>
                  <a:off x="3874680" y="4270320"/>
                  <a:ext cx="10558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2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f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6865200" y="3577320"/>
                  <a:ext cx="683280" cy="56160"/>
                  <a:chOff x="6865200" y="3577320"/>
                  <a:chExt cx="683280" cy="5616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6865200" y="363348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7411320" y="357732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5" name=""/>
                <p:cNvSpPr/>
                <p:nvPr/>
              </p:nvSpPr>
              <p:spPr>
                <a:xfrm>
                  <a:off x="6608160" y="3349800"/>
                  <a:ext cx="10558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2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f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97360" y="3737520"/>
                  <a:ext cx="14569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3:prop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7" name=""/>
                <p:cNvGrpSpPr/>
                <p:nvPr/>
              </p:nvGrpSpPr>
              <p:grpSpPr>
                <a:xfrm>
                  <a:off x="7726320" y="3741840"/>
                  <a:ext cx="683280" cy="56160"/>
                  <a:chOff x="7726320" y="3741840"/>
                  <a:chExt cx="683280" cy="561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H="1">
                    <a:off x="7726320" y="37418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flipV="1">
                    <a:off x="7726680" y="375480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0" name=""/>
                <p:cNvSpPr/>
                <p:nvPr/>
              </p:nvSpPr>
              <p:spPr>
                <a:xfrm>
                  <a:off x="5046120" y="4670280"/>
                  <a:ext cx="13525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3:prop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1" name=""/>
                <p:cNvGrpSpPr/>
                <p:nvPr/>
              </p:nvGrpSpPr>
              <p:grpSpPr>
                <a:xfrm>
                  <a:off x="5441760" y="4696200"/>
                  <a:ext cx="683280" cy="56160"/>
                  <a:chOff x="5441760" y="4696200"/>
                  <a:chExt cx="683280" cy="5616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flipH="1">
                    <a:off x="5441760" y="469620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H="1" flipV="1">
                    <a:off x="5442120" y="470916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4" name=""/>
                <p:cNvSpPr/>
                <p:nvPr/>
              </p:nvSpPr>
              <p:spPr>
                <a:xfrm flipH="1" flipV="1">
                  <a:off x="4916520" y="2947320"/>
                  <a:ext cx="14040" cy="39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flipV="1">
                  <a:off x="4916520" y="2947680"/>
                  <a:ext cx="2174040" cy="45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4744440" y="2157480"/>
                  <a:ext cx="2967480" cy="789840"/>
                </a:xfrm>
                <a:prstGeom prst="foldedCorner">
                  <a:avLst>
                    <a:gd name="adj" fmla="val 14175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806720" y="2285280"/>
                  <a:ext cx="3091680" cy="90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protocol fipa contract 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content &lt;RDF Annotation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language CoMMA-RD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ontology CoMMA Ontolo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056200" y="3223080"/>
                  <a:ext cx="136656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:accept/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rej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4357800" y="5317560"/>
                  <a:ext cx="4658400" cy="1072080"/>
                </a:xfrm>
                <a:prstGeom prst="foldedCorner">
                  <a:avLst>
                    <a:gd name="adj" fmla="val 13657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481640" y="5374440"/>
                  <a:ext cx="453456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protocol fipa contract 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content &lt;propose bid = distance to current archive / refuse / not understood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language CoMMA-RD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ontology CoMMA Ontolo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8271000" y="4019760"/>
                  <a:ext cx="0" cy="12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>
                  <a:off x="6172920" y="4979160"/>
                  <a:ext cx="2159640" cy="33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30800" y="3732840"/>
                  <a:ext cx="13435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4:prop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4" name=""/>
                <p:cNvGrpSpPr/>
                <p:nvPr/>
              </p:nvGrpSpPr>
              <p:grpSpPr>
                <a:xfrm>
                  <a:off x="5427720" y="3737160"/>
                  <a:ext cx="683280" cy="56520"/>
                  <a:chOff x="5427720" y="3737160"/>
                  <a:chExt cx="683280" cy="5652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flipH="1">
                    <a:off x="5427720" y="37371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 flipV="1">
                    <a:off x="5428080" y="37501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7" name=""/>
                <p:cNvSpPr/>
                <p:nvPr/>
              </p:nvSpPr>
              <p:spPr>
                <a:xfrm flipH="1" flipV="1">
                  <a:off x="6283080" y="4019400"/>
                  <a:ext cx="1987560" cy="129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8" name=""/>
                <p:cNvGrpSpPr/>
                <p:nvPr/>
              </p:nvGrpSpPr>
              <p:grpSpPr>
                <a:xfrm>
                  <a:off x="5393880" y="3568320"/>
                  <a:ext cx="683280" cy="56520"/>
                  <a:chOff x="5393880" y="3568320"/>
                  <a:chExt cx="683280" cy="5652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5393880" y="36248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5939640" y="35683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1" name=""/>
                <p:cNvSpPr/>
                <p:nvPr/>
              </p:nvSpPr>
              <p:spPr>
                <a:xfrm>
                  <a:off x="4620240" y="4184280"/>
                  <a:ext cx="204984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6:accept/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rej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2" name=""/>
                <p:cNvGrpSpPr/>
                <p:nvPr/>
              </p:nvGrpSpPr>
              <p:grpSpPr>
                <a:xfrm>
                  <a:off x="5303520" y="4527720"/>
                  <a:ext cx="683280" cy="56520"/>
                  <a:chOff x="5303520" y="4527720"/>
                  <a:chExt cx="683280" cy="5652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5303520" y="45842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5849280" y="45277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5" name=""/>
                <p:cNvSpPr/>
                <p:nvPr/>
              </p:nvSpPr>
              <p:spPr>
                <a:xfrm>
                  <a:off x="7305480" y="3237840"/>
                  <a:ext cx="1414440" cy="6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6:accept/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rej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6" name=""/>
                <p:cNvGrpSpPr/>
                <p:nvPr/>
              </p:nvGrpSpPr>
              <p:grpSpPr>
                <a:xfrm>
                  <a:off x="7726320" y="3581280"/>
                  <a:ext cx="683280" cy="56160"/>
                  <a:chOff x="7726320" y="3581280"/>
                  <a:chExt cx="683280" cy="5616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726320" y="36374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8272080" y="358128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9" name=""/>
                <p:cNvSpPr/>
                <p:nvPr/>
              </p:nvSpPr>
              <p:spPr>
                <a:xfrm>
                  <a:off x="3812760" y="4671360"/>
                  <a:ext cx="124200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7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in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"/>
                <p:cNvGrpSpPr/>
                <p:nvPr/>
              </p:nvGrpSpPr>
              <p:grpSpPr>
                <a:xfrm>
                  <a:off x="4137480" y="4696560"/>
                  <a:ext cx="683280" cy="56520"/>
                  <a:chOff x="4137480" y="4696560"/>
                  <a:chExt cx="683280" cy="5652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flipH="1">
                    <a:off x="4137480" y="46965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 flipV="1">
                    <a:off x="4137840" y="47095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3" name=""/>
                <p:cNvSpPr/>
                <p:nvPr/>
              </p:nvSpPr>
              <p:spPr>
                <a:xfrm>
                  <a:off x="6612480" y="3742560"/>
                  <a:ext cx="124200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7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in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4" name=""/>
                <p:cNvGrpSpPr/>
                <p:nvPr/>
              </p:nvGrpSpPr>
              <p:grpSpPr>
                <a:xfrm>
                  <a:off x="6885000" y="3740760"/>
                  <a:ext cx="683280" cy="56160"/>
                  <a:chOff x="6885000" y="3740760"/>
                  <a:chExt cx="683280" cy="561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>
                    <a:off x="6885000" y="37407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flipV="1">
                    <a:off x="6885360" y="375372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7" name=""/>
                <p:cNvSpPr/>
                <p:nvPr/>
              </p:nvSpPr>
              <p:spPr>
                <a:xfrm>
                  <a:off x="4276080" y="3737520"/>
                  <a:ext cx="124200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8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in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8" name=""/>
                <p:cNvGrpSpPr/>
                <p:nvPr/>
              </p:nvGrpSpPr>
              <p:grpSpPr>
                <a:xfrm>
                  <a:off x="4572360" y="3737160"/>
                  <a:ext cx="683280" cy="56520"/>
                  <a:chOff x="4572360" y="3737160"/>
                  <a:chExt cx="683280" cy="5652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flipH="1">
                    <a:off x="4572360" y="37371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H="1" flipV="1">
                    <a:off x="4572720" y="37501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1" name=""/>
                <p:cNvSpPr/>
                <p:nvPr/>
              </p:nvSpPr>
              <p:spPr>
                <a:xfrm>
                  <a:off x="3798360" y="2778480"/>
                  <a:ext cx="0" cy="677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EF3F-F708-448A-91CA-90A2F98F48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Interactions AA-AM in allocat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68680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C-Net : Annotation alloca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- AA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iscuss best place to archiv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ntract-net 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(CfP, Proposal, Accept/Rejec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llocation criteria: pseudo-semantic meas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990720" y="1981080"/>
            <a:ext cx="8229600" cy="2901600"/>
            <a:chOff x="990720" y="1981080"/>
            <a:chExt cx="8229600" cy="2901600"/>
          </a:xfrm>
        </p:grpSpPr>
        <p:sp>
          <p:nvSpPr>
            <p:cNvPr id="1005" name=""/>
            <p:cNvSpPr/>
            <p:nvPr/>
          </p:nvSpPr>
          <p:spPr>
            <a:xfrm>
              <a:off x="990720" y="1987200"/>
              <a:ext cx="8077320" cy="28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90720" y="1981080"/>
              <a:ext cx="82296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rdf:RDF xmlns:rdf="http://www.w3.org/1999/02/22-rdf-syntax-ns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mlns:rdfs="http://www.w3.org/TR/1999/PR-rdf-schema-19990303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mlns:CoMMA="http://www.inria.fr/acacia/comma#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lang="en-GB" sz="1800" spc="-1" strike="noStrike">
                  <a:solidFill>
                    <a:srgbClr val="3333cc"/>
                  </a:solidFill>
                  <a:latin typeface="Arial"/>
                </a:rPr>
                <a:t>http://intranet/reports/R3029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0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CoMMA:Titl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lang="en-GB" sz="1800" spc="-1" strike="noStrike">
                  <a:solidFill>
                    <a:srgbClr val="3333cc"/>
                  </a:solidFill>
                  <a:latin typeface="Arial"/>
                </a:rPr>
                <a:t>http://www.mycorp.com/~fab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 /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CoMMA: Author</a:t>
              </a:r>
              <a:r>
                <a:rPr b="0" lang="en-GB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CoMMA:Articl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rdf:RDF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990720" y="4883040"/>
            <a:ext cx="8076960" cy="1523880"/>
            <a:chOff x="990720" y="4883040"/>
            <a:chExt cx="8076960" cy="1523880"/>
          </a:xfrm>
        </p:grpSpPr>
        <p:sp>
          <p:nvSpPr>
            <p:cNvPr id="1008" name=""/>
            <p:cNvSpPr/>
            <p:nvPr/>
          </p:nvSpPr>
          <p:spPr>
            <a:xfrm>
              <a:off x="990720" y="4883040"/>
              <a:ext cx="807696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19160" y="534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010280" y="534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66680" y="4959000"/>
              <a:ext cx="38095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81480" y="4959000"/>
              <a:ext cx="38095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81480" y="5949720"/>
              <a:ext cx="38095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66680" y="5949720"/>
              <a:ext cx="38095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61960" y="5416200"/>
              <a:ext cx="91404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53080" y="5416200"/>
              <a:ext cx="91404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39000" y="4959000"/>
              <a:ext cx="85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14240" y="5430600"/>
              <a:ext cx="61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47560" y="596412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630120" y="4959000"/>
              <a:ext cx="85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03840" y="5416200"/>
              <a:ext cx="8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476760" y="5964120"/>
              <a:ext cx="104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7FF2-A29A-4404-990A-F20B6B9D59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"/>
          <p:cNvGrpSpPr/>
          <p:nvPr/>
        </p:nvGrpSpPr>
        <p:grpSpPr>
          <a:xfrm>
            <a:off x="853920" y="252360"/>
            <a:ext cx="8137800" cy="1550880"/>
            <a:chOff x="853920" y="252360"/>
            <a:chExt cx="8137800" cy="1550880"/>
          </a:xfrm>
        </p:grpSpPr>
        <p:sp>
          <p:nvSpPr>
            <p:cNvPr id="1024" name=""/>
            <p:cNvSpPr/>
            <p:nvPr/>
          </p:nvSpPr>
          <p:spPr>
            <a:xfrm>
              <a:off x="914400" y="279360"/>
              <a:ext cx="807732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886200" y="7365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2920" y="7365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220840" y="355680"/>
              <a:ext cx="32655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38680" y="35568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38680" y="1346040"/>
              <a:ext cx="32767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209680" y="1346040"/>
              <a:ext cx="32734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429000" y="81288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05720" y="81288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07480" y="3556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582360" y="826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209680" y="1360440"/>
              <a:ext cx="32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83840" y="3556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57920" y="8128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30840" y="136044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9" name="" descr=""/>
            <p:cNvPicPr/>
            <p:nvPr/>
          </p:nvPicPr>
          <p:blipFill>
            <a:blip r:embed="rId1"/>
            <a:stretch/>
          </p:blipFill>
          <p:spPr>
            <a:xfrm>
              <a:off x="927000" y="507960"/>
              <a:ext cx="8384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>
              <a:off x="853920" y="25236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875160" y="1803240"/>
            <a:ext cx="8116560" cy="4724640"/>
            <a:chOff x="875160" y="1803240"/>
            <a:chExt cx="8116560" cy="4724640"/>
          </a:xfrm>
        </p:grpSpPr>
        <p:sp>
          <p:nvSpPr>
            <p:cNvPr id="1042" name=""/>
            <p:cNvSpPr/>
            <p:nvPr/>
          </p:nvSpPr>
          <p:spPr>
            <a:xfrm>
              <a:off x="914400" y="1803240"/>
              <a:ext cx="8077320" cy="472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2"/>
            <a:stretch/>
          </p:blipFill>
          <p:spPr>
            <a:xfrm>
              <a:off x="990720" y="591804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875160" y="5613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474560" y="596880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B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Interactions AA-AM in allocat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183040" y="1955880"/>
            <a:ext cx="3350880" cy="1906560"/>
            <a:chOff x="2183040" y="1955880"/>
            <a:chExt cx="3350880" cy="1906560"/>
          </a:xfrm>
        </p:grpSpPr>
        <p:sp>
          <p:nvSpPr>
            <p:cNvPr id="1048" name=""/>
            <p:cNvSpPr/>
            <p:nvPr/>
          </p:nvSpPr>
          <p:spPr>
            <a:xfrm>
              <a:off x="3778920" y="2336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87720" y="1955880"/>
              <a:ext cx="326160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84480" y="2946240"/>
              <a:ext cx="326160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301560" y="2413080"/>
              <a:ext cx="95472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381840" y="195588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96600" y="2427120"/>
              <a:ext cx="7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83040" y="2960640"/>
              <a:ext cx="33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Negotiation in C-Net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87720" y="3479760"/>
              <a:ext cx="326160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86280" y="3494160"/>
              <a:ext cx="26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Zeno paradox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86680" y="3098880"/>
              <a:ext cx="33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82280" y="233676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613480" y="1955880"/>
            <a:ext cx="3276360" cy="1373040"/>
            <a:chOff x="5613480" y="1955880"/>
            <a:chExt cx="3276360" cy="1373040"/>
          </a:xfrm>
        </p:grpSpPr>
        <p:sp>
          <p:nvSpPr>
            <p:cNvPr id="1060" name=""/>
            <p:cNvSpPr/>
            <p:nvPr/>
          </p:nvSpPr>
          <p:spPr>
            <a:xfrm>
              <a:off x="7137360" y="2336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13480" y="195588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613480" y="2946240"/>
              <a:ext cx="32763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0160" y="2413080"/>
              <a:ext cx="91404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757920" y="195588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732000" y="24130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04920" y="2960640"/>
              <a:ext cx="108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71960" y="2336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066680" y="1041480"/>
            <a:ext cx="609840" cy="4572000"/>
            <a:chOff x="1066680" y="1041480"/>
            <a:chExt cx="609840" cy="4572000"/>
          </a:xfrm>
        </p:grpSpPr>
        <p:sp>
          <p:nvSpPr>
            <p:cNvPr id="1069" name=""/>
            <p:cNvSpPr/>
            <p:nvPr/>
          </p:nvSpPr>
          <p:spPr>
            <a:xfrm>
              <a:off x="1066680" y="1041480"/>
              <a:ext cx="609840" cy="4572000"/>
            </a:xfrm>
            <a:prstGeom prst="upDownArrow">
              <a:avLst>
                <a:gd name="adj1" fmla="val 58333"/>
                <a:gd name="adj2" fmla="val 580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-60840" y="314208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Times New Roman"/>
                </a:rPr>
                <a:t>How close are they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095560" y="1879560"/>
            <a:ext cx="6858000" cy="4497120"/>
            <a:chOff x="2095560" y="1879560"/>
            <a:chExt cx="6858000" cy="4497120"/>
          </a:xfrm>
        </p:grpSpPr>
        <p:sp>
          <p:nvSpPr>
            <p:cNvPr id="1072" name=""/>
            <p:cNvSpPr/>
            <p:nvPr/>
          </p:nvSpPr>
          <p:spPr>
            <a:xfrm>
              <a:off x="7161480" y="3860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02320" y="3479760"/>
              <a:ext cx="3351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02320" y="4470120"/>
              <a:ext cx="335124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693120" y="3936960"/>
              <a:ext cx="93492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771240" y="347976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745320" y="393696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15360" y="448452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Com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07960" y="386064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61480" y="53845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02320" y="5003640"/>
              <a:ext cx="3351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602320" y="5994360"/>
              <a:ext cx="3351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93120" y="5460840"/>
              <a:ext cx="93492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70880" y="5003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745320" y="546084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15360" y="600840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07960" y="538452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10240" y="48513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08520" y="4470120"/>
              <a:ext cx="33382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08520" y="5460840"/>
              <a:ext cx="33350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41880" y="4927320"/>
              <a:ext cx="93672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85160" y="4470120"/>
              <a:ext cx="6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498840" y="4941720"/>
              <a:ext cx="64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3720" y="5475240"/>
              <a:ext cx="340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Agents for dummi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51440" y="5994360"/>
              <a:ext cx="3195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88520" y="6008400"/>
              <a:ext cx="31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Francs and Euro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621600" y="5613120"/>
              <a:ext cx="33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01000" y="485136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95560" y="416556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24560" y="1879560"/>
              <a:ext cx="0" cy="4495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24560" y="340344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24560" y="492732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72360" y="4127400"/>
              <a:ext cx="777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72360" y="3365280"/>
              <a:ext cx="777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72360" y="4889160"/>
              <a:ext cx="777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FD71-8CB2-4B22-A127-306EF5CC23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Allocating an annotation: lexicographical distanc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888840" y="343080"/>
            <a:ext cx="8077320" cy="2286000"/>
            <a:chOff x="888840" y="343080"/>
            <a:chExt cx="8077320" cy="2286000"/>
          </a:xfrm>
        </p:grpSpPr>
        <p:sp>
          <p:nvSpPr>
            <p:cNvPr id="1108" name=""/>
            <p:cNvSpPr/>
            <p:nvPr/>
          </p:nvSpPr>
          <p:spPr>
            <a:xfrm>
              <a:off x="888840" y="343080"/>
              <a:ext cx="80773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9" name="" descr=""/>
            <p:cNvPicPr/>
            <p:nvPr/>
          </p:nvPicPr>
          <p:blipFill>
            <a:blip r:embed="rId1"/>
            <a:stretch/>
          </p:blipFill>
          <p:spPr>
            <a:xfrm>
              <a:off x="901800" y="87660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2717640" y="876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66680" y="495360"/>
              <a:ext cx="32511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66680" y="1486080"/>
              <a:ext cx="32482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60440" y="95256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38920" y="4953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14160" y="9669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24920" y="1500480"/>
              <a:ext cx="333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064280" y="876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540400" y="495360"/>
              <a:ext cx="337500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37160" y="1486080"/>
              <a:ext cx="3378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607080" y="95256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685200" y="49536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0800" y="9669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537160" y="1500480"/>
              <a:ext cx="342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Negotiation in C-Net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40400" y="2019600"/>
              <a:ext cx="337500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540760" y="2033640"/>
              <a:ext cx="272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Zeno paradox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1760" y="1638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7" name="" descr=""/>
            <p:cNvPicPr/>
            <p:nvPr/>
          </p:nvPicPr>
          <p:blipFill>
            <a:blip r:embed="rId2"/>
            <a:stretch/>
          </p:blipFill>
          <p:spPr>
            <a:xfrm>
              <a:off x="8410680" y="91440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5003640" y="148608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079960" y="19576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75040" y="41940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08640" y="1638360"/>
              <a:ext cx="533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888840" y="2590920"/>
            <a:ext cx="8117640" cy="1828800"/>
            <a:chOff x="888840" y="2590920"/>
            <a:chExt cx="8117640" cy="1828800"/>
          </a:xfrm>
        </p:grpSpPr>
        <p:sp>
          <p:nvSpPr>
            <p:cNvPr id="1133" name=""/>
            <p:cNvSpPr/>
            <p:nvPr/>
          </p:nvSpPr>
          <p:spPr>
            <a:xfrm>
              <a:off x="888840" y="2629080"/>
              <a:ext cx="8077320" cy="179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"/>
                <p:cNvSpPr txBox="1"/>
                <p:nvPr/>
              </p:nvSpPr>
              <p:spPr>
                <a:xfrm>
                  <a:off x="1225440" y="2987640"/>
                  <a:ext cx="716760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scissa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i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s</m:t>
                          </m:r>
                        </m:sub>
                        <m:sup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,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</m:sub>
                              </m:sSub>
                            </m:den>
                          </m:f>
                        </m:e>
                      </m:nary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[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 ;   Li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,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,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35" name=""/>
            <p:cNvSpPr/>
            <p:nvPr/>
          </p:nvSpPr>
          <p:spPr>
            <a:xfrm>
              <a:off x="1232280" y="3809880"/>
              <a:ext cx="650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= | Abscissa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- Abscissa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40320" y="2590920"/>
              <a:ext cx="806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lassic lexicographical distance: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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 pseudo semanti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888840" y="4343400"/>
            <a:ext cx="8109000" cy="2150640"/>
            <a:chOff x="888840" y="4343400"/>
            <a:chExt cx="8109000" cy="2150640"/>
          </a:xfrm>
        </p:grpSpPr>
        <p:sp>
          <p:nvSpPr>
            <p:cNvPr id="1138" name=""/>
            <p:cNvSpPr/>
            <p:nvPr/>
          </p:nvSpPr>
          <p:spPr>
            <a:xfrm>
              <a:off x="888840" y="4419360"/>
              <a:ext cx="8077320" cy="20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352520" y="4800600"/>
              <a:ext cx="7029360" cy="16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[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]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[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=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= Min(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, 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941040" y="4343400"/>
              <a:ext cx="80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ance to a literal interval: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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 pseudo distan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DF7F-02D1-45C7-A473-1B153B0514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Allocating an annotation: semantic distanc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838080" y="291960"/>
            <a:ext cx="8077320" cy="1523880"/>
            <a:chOff x="838080" y="291960"/>
            <a:chExt cx="8077320" cy="1523880"/>
          </a:xfrm>
        </p:grpSpPr>
        <p:sp>
          <p:nvSpPr>
            <p:cNvPr id="1143" name=""/>
            <p:cNvSpPr/>
            <p:nvPr/>
          </p:nvSpPr>
          <p:spPr>
            <a:xfrm>
              <a:off x="838080" y="291960"/>
              <a:ext cx="807732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4" name="" descr=""/>
            <p:cNvPicPr/>
            <p:nvPr/>
          </p:nvPicPr>
          <p:blipFill>
            <a:blip r:embed="rId1"/>
            <a:stretch/>
          </p:blipFill>
          <p:spPr>
            <a:xfrm>
              <a:off x="876240" y="74916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2"/>
            <a:stretch/>
          </p:blipFill>
          <p:spPr>
            <a:xfrm>
              <a:off x="8359560" y="787320"/>
              <a:ext cx="528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4927680" y="31716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66880" y="749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143000" y="367920"/>
              <a:ext cx="32763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143000" y="135864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09680" y="82512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88160" y="3679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261880" y="82512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35160" y="13730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933960" y="749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10080" y="367920"/>
              <a:ext cx="32767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10080" y="135864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248160" y="825120"/>
              <a:ext cx="13716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54880" y="3679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43560" y="82512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Co-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401520" y="137304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29000" y="1053720"/>
              <a:ext cx="2666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7960" y="151092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47960" y="52056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838080" y="1752480"/>
            <a:ext cx="8077320" cy="2438640"/>
            <a:chOff x="838080" y="1752480"/>
            <a:chExt cx="8077320" cy="2438640"/>
          </a:xfrm>
        </p:grpSpPr>
        <p:sp>
          <p:nvSpPr>
            <p:cNvPr id="1165" name=""/>
            <p:cNvSpPr/>
            <p:nvPr/>
          </p:nvSpPr>
          <p:spPr>
            <a:xfrm>
              <a:off x="838080" y="1806480"/>
              <a:ext cx="8077320" cy="238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914400" y="1833480"/>
              <a:ext cx="1782720" cy="765360"/>
              <a:chOff x="914400" y="1833480"/>
              <a:chExt cx="1782720" cy="76536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2197800" y="2194560"/>
                <a:ext cx="14256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 flipV="1">
                <a:off x="2340360" y="2194560"/>
                <a:ext cx="28512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 flipV="1">
                <a:off x="1983960" y="1857960"/>
                <a:ext cx="42768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1413360" y="2194560"/>
                <a:ext cx="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1841400" y="2236680"/>
                <a:ext cx="49896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1021320" y="2194560"/>
                <a:ext cx="42768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1449360" y="1900080"/>
                <a:ext cx="49896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4" name=""/>
              <p:cNvGrpSpPr/>
              <p:nvPr/>
            </p:nvGrpSpPr>
            <p:grpSpPr>
              <a:xfrm>
                <a:off x="1306440" y="2127960"/>
                <a:ext cx="249480" cy="151200"/>
                <a:chOff x="1306440" y="2127960"/>
                <a:chExt cx="249480" cy="15120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1306440" y="213588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367640" y="212796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1877040" y="1833480"/>
                <a:ext cx="249480" cy="151200"/>
                <a:chOff x="1877040" y="1833480"/>
                <a:chExt cx="249480" cy="15120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877040" y="18414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938240" y="18334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2233440" y="2153160"/>
                <a:ext cx="249480" cy="150840"/>
                <a:chOff x="2233440" y="2153160"/>
                <a:chExt cx="249480" cy="15084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2233440" y="2161080"/>
                  <a:ext cx="249480" cy="117000"/>
                </a:xfrm>
                <a:prstGeom prst="parallelogram">
                  <a:avLst>
                    <a:gd name="adj" fmla="val 5330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94640" y="2153160"/>
                  <a:ext cx="18252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"/>
              <p:cNvGrpSpPr/>
              <p:nvPr/>
            </p:nvGrpSpPr>
            <p:grpSpPr>
              <a:xfrm>
                <a:off x="914400" y="2447640"/>
                <a:ext cx="249480" cy="151200"/>
                <a:chOff x="914400" y="2447640"/>
                <a:chExt cx="249480" cy="15120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91440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7560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1270800" y="2447640"/>
                <a:ext cx="249480" cy="151200"/>
                <a:chOff x="1270800" y="2447640"/>
                <a:chExt cx="249480" cy="15120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127080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33200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" name=""/>
              <p:cNvGrpSpPr/>
              <p:nvPr/>
            </p:nvGrpSpPr>
            <p:grpSpPr>
              <a:xfrm>
                <a:off x="1734480" y="2447640"/>
                <a:ext cx="249480" cy="151200"/>
                <a:chOff x="1734480" y="2447640"/>
                <a:chExt cx="249480" cy="15120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173448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79568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"/>
              <p:cNvGrpSpPr/>
              <p:nvPr/>
            </p:nvGrpSpPr>
            <p:grpSpPr>
              <a:xfrm>
                <a:off x="2090880" y="2447640"/>
                <a:ext cx="249480" cy="151200"/>
                <a:chOff x="2090880" y="2447640"/>
                <a:chExt cx="249480" cy="15120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209088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15208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2447640" y="2447640"/>
                <a:ext cx="249480" cy="151200"/>
                <a:chOff x="2447640" y="2447640"/>
                <a:chExt cx="249480" cy="15120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244764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50884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6378480" y="1833480"/>
              <a:ext cx="2307960" cy="866520"/>
              <a:chOff x="6378480" y="1833480"/>
              <a:chExt cx="2307960" cy="866520"/>
            </a:xfrm>
          </p:grpSpPr>
          <p:sp>
            <p:nvSpPr>
              <p:cNvPr id="1199" name=""/>
              <p:cNvSpPr/>
              <p:nvPr/>
            </p:nvSpPr>
            <p:spPr>
              <a:xfrm flipH="1">
                <a:off x="7411320" y="1917720"/>
                <a:ext cx="284760" cy="7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6698520" y="2254320"/>
                <a:ext cx="85500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96800" y="1917720"/>
                <a:ext cx="67680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553880" y="2296440"/>
                <a:ext cx="67680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3" name=""/>
              <p:cNvGrpSpPr/>
              <p:nvPr/>
            </p:nvGrpSpPr>
            <p:grpSpPr>
              <a:xfrm>
                <a:off x="7376040" y="1833480"/>
                <a:ext cx="633600" cy="151200"/>
                <a:chOff x="7376040" y="1833480"/>
                <a:chExt cx="633600" cy="15120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7376040" y="1840680"/>
                  <a:ext cx="633600" cy="126000"/>
                  <a:chOff x="7376040" y="1840680"/>
                  <a:chExt cx="633600" cy="12600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7452000" y="190476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376040" y="185832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566480" y="184068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7831800" y="185832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7638480" y="183348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7233480" y="2187000"/>
                <a:ext cx="633600" cy="151200"/>
                <a:chOff x="7233480" y="2187000"/>
                <a:chExt cx="633600" cy="15120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7233480" y="2194200"/>
                  <a:ext cx="633600" cy="126000"/>
                  <a:chOff x="7233480" y="2194200"/>
                  <a:chExt cx="633600" cy="1260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7309440" y="22582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7233480" y="2211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423920" y="21942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7689240" y="2211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495920" y="21870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6378480" y="2548800"/>
                <a:ext cx="633600" cy="151200"/>
                <a:chOff x="6378480" y="2548800"/>
                <a:chExt cx="633600" cy="151200"/>
              </a:xfrm>
            </p:grpSpPr>
            <p:grpSp>
              <p:nvGrpSpPr>
                <p:cNvPr id="1218" name=""/>
                <p:cNvGrpSpPr/>
                <p:nvPr/>
              </p:nvGrpSpPr>
              <p:grpSpPr>
                <a:xfrm>
                  <a:off x="6378480" y="2556000"/>
                  <a:ext cx="633600" cy="126000"/>
                  <a:chOff x="6378480" y="2556000"/>
                  <a:chExt cx="633600" cy="12600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6454440" y="26200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37848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6568920" y="25560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683424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3" name=""/>
                <p:cNvSpPr/>
                <p:nvPr/>
              </p:nvSpPr>
              <p:spPr>
                <a:xfrm>
                  <a:off x="6640920" y="25488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7090920" y="2548800"/>
                <a:ext cx="633600" cy="151200"/>
                <a:chOff x="7090920" y="2548800"/>
                <a:chExt cx="633600" cy="151200"/>
              </a:xfrm>
            </p:grpSpPr>
            <p:grpSp>
              <p:nvGrpSpPr>
                <p:cNvPr id="1225" name=""/>
                <p:cNvGrpSpPr/>
                <p:nvPr/>
              </p:nvGrpSpPr>
              <p:grpSpPr>
                <a:xfrm>
                  <a:off x="7090920" y="2556000"/>
                  <a:ext cx="633600" cy="126000"/>
                  <a:chOff x="7090920" y="2556000"/>
                  <a:chExt cx="633600" cy="12600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7166880" y="26200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709092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7281360" y="25560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54668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0" name=""/>
                <p:cNvSpPr/>
                <p:nvPr/>
              </p:nvSpPr>
              <p:spPr>
                <a:xfrm>
                  <a:off x="7353360" y="25488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810920" y="2548800"/>
                <a:ext cx="633600" cy="151200"/>
                <a:chOff x="7810920" y="2548800"/>
                <a:chExt cx="633600" cy="151200"/>
              </a:xfrm>
            </p:grpSpPr>
            <p:grpSp>
              <p:nvGrpSpPr>
                <p:cNvPr id="1232" name=""/>
                <p:cNvGrpSpPr/>
                <p:nvPr/>
              </p:nvGrpSpPr>
              <p:grpSpPr>
                <a:xfrm>
                  <a:off x="7810920" y="2556000"/>
                  <a:ext cx="633600" cy="126000"/>
                  <a:chOff x="7810920" y="2556000"/>
                  <a:chExt cx="633600" cy="126000"/>
                </a:xfrm>
              </p:grpSpPr>
              <p:sp>
                <p:nvSpPr>
                  <p:cNvPr id="1233" name=""/>
                  <p:cNvSpPr/>
                  <p:nvPr/>
                </p:nvSpPr>
                <p:spPr>
                  <a:xfrm>
                    <a:off x="7886880" y="26200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781092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8001360" y="25560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826668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7" name=""/>
                <p:cNvSpPr/>
                <p:nvPr/>
              </p:nvSpPr>
              <p:spPr>
                <a:xfrm>
                  <a:off x="8073360" y="25488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8052840" y="2181960"/>
                <a:ext cx="633600" cy="151200"/>
                <a:chOff x="8052840" y="2181960"/>
                <a:chExt cx="633600" cy="151200"/>
              </a:xfrm>
            </p:grpSpPr>
            <p:grpSp>
              <p:nvGrpSpPr>
                <p:cNvPr id="1239" name=""/>
                <p:cNvGrpSpPr/>
                <p:nvPr/>
              </p:nvGrpSpPr>
              <p:grpSpPr>
                <a:xfrm>
                  <a:off x="8052840" y="2189160"/>
                  <a:ext cx="633600" cy="126000"/>
                  <a:chOff x="8052840" y="2189160"/>
                  <a:chExt cx="633600" cy="12600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>
                    <a:off x="8128800" y="225324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8052840" y="220680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8243280" y="218916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8508600" y="220680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4" name=""/>
                <p:cNvSpPr/>
                <p:nvPr/>
              </p:nvSpPr>
              <p:spPr>
                <a:xfrm>
                  <a:off x="8315280" y="218196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5" name=""/>
            <p:cNvSpPr/>
            <p:nvPr/>
          </p:nvSpPr>
          <p:spPr>
            <a:xfrm>
              <a:off x="2286000" y="17524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cep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562720" y="17524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lation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870120" y="2565360"/>
            <a:ext cx="807948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ance from 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ough least common super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= SPath(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LCST) +SPath(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LC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th(,): number of edges through </a:t>
            </a: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generalisati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CST: least common super type = </a:t>
            </a: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shared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838080" y="4191120"/>
            <a:ext cx="8229600" cy="469800"/>
            <a:chOff x="838080" y="4191120"/>
            <a:chExt cx="8229600" cy="469800"/>
          </a:xfrm>
        </p:grpSpPr>
        <p:sp>
          <p:nvSpPr>
            <p:cNvPr id="1249" name=""/>
            <p:cNvSpPr/>
            <p:nvPr/>
          </p:nvSpPr>
          <p:spPr>
            <a:xfrm>
              <a:off x="838080" y="4191120"/>
              <a:ext cx="807732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38080" y="4191120"/>
              <a:ext cx="82296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L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Li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(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2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838080" y="4635360"/>
            <a:ext cx="8229600" cy="2124360"/>
            <a:chOff x="838080" y="4635360"/>
            <a:chExt cx="8229600" cy="2124360"/>
          </a:xfrm>
        </p:grpSpPr>
        <p:sp>
          <p:nvSpPr>
            <p:cNvPr id="1252" name=""/>
            <p:cNvSpPr/>
            <p:nvPr/>
          </p:nvSpPr>
          <p:spPr>
            <a:xfrm>
              <a:off x="838080" y="4635360"/>
              <a:ext cx="8077320" cy="194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38080" y="4635360"/>
              <a:ext cx="8229600" cy="21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riple-triple: conditional sum with normalisation &amp; we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 TFAB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ripl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Tripl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+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      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r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,L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r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N 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Lit, [B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)         N=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2/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3276720" y="3733920"/>
            <a:ext cx="5835600" cy="2590200"/>
            <a:chOff x="3276720" y="3733920"/>
            <a:chExt cx="5835600" cy="2590200"/>
          </a:xfrm>
        </p:grpSpPr>
        <p:sp>
          <p:nvSpPr>
            <p:cNvPr id="1255" name=""/>
            <p:cNvSpPr/>
            <p:nvPr/>
          </p:nvSpPr>
          <p:spPr>
            <a:xfrm>
              <a:off x="3276720" y="3809880"/>
              <a:ext cx="5790960" cy="251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74400" y="396216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42320" y="480060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36160" y="48006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427640" y="563868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59520" y="563868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1" name=""/>
            <p:cNvCxnSpPr>
              <a:stCxn id="1256" idx="2"/>
              <a:endCxn id="1257" idx="0"/>
            </p:cNvCxnSpPr>
            <p:nvPr/>
          </p:nvCxnSpPr>
          <p:spPr>
            <a:xfrm flipH="1">
              <a:off x="4619160" y="4432320"/>
              <a:ext cx="7876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62" name=""/>
            <p:cNvCxnSpPr>
              <a:stCxn id="1256" idx="2"/>
              <a:endCxn id="1258" idx="0"/>
            </p:cNvCxnSpPr>
            <p:nvPr/>
          </p:nvCxnSpPr>
          <p:spPr>
            <a:xfrm>
              <a:off x="5406840" y="4432320"/>
              <a:ext cx="7624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63" name=""/>
            <p:cNvCxnSpPr>
              <a:stCxn id="1257" idx="2"/>
              <a:endCxn id="1260" idx="0"/>
            </p:cNvCxnSpPr>
            <p:nvPr/>
          </p:nvCxnSpPr>
          <p:spPr>
            <a:xfrm flipH="1">
              <a:off x="3813840" y="5270400"/>
              <a:ext cx="80532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64" name=""/>
            <p:cNvCxnSpPr>
              <a:stCxn id="1257" idx="2"/>
              <a:endCxn id="1259" idx="0"/>
            </p:cNvCxnSpPr>
            <p:nvPr/>
          </p:nvCxnSpPr>
          <p:spPr>
            <a:xfrm>
              <a:off x="4619520" y="5270400"/>
              <a:ext cx="30528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5" name=""/>
            <p:cNvSpPr/>
            <p:nvPr/>
          </p:nvSpPr>
          <p:spPr>
            <a:xfrm>
              <a:off x="4191480" y="38606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76720" y="4365360"/>
              <a:ext cx="31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bicycle)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31840" y="563868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9" name=""/>
            <p:cNvCxnSpPr>
              <a:stCxn id="1258" idx="2"/>
              <a:endCxn id="1268" idx="0"/>
            </p:cNvCxnSpPr>
            <p:nvPr/>
          </p:nvCxnSpPr>
          <p:spPr>
            <a:xfrm>
              <a:off x="6168960" y="5270400"/>
              <a:ext cx="36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270" name=""/>
          <p:cNvGrpSpPr/>
          <p:nvPr/>
        </p:nvGrpSpPr>
        <p:grpSpPr>
          <a:xfrm>
            <a:off x="3270960" y="3733920"/>
            <a:ext cx="5841360" cy="2590560"/>
            <a:chOff x="3270960" y="3733920"/>
            <a:chExt cx="5841360" cy="2590560"/>
          </a:xfrm>
        </p:grpSpPr>
        <p:sp>
          <p:nvSpPr>
            <p:cNvPr id="1271" name=""/>
            <p:cNvSpPr/>
            <p:nvPr/>
          </p:nvSpPr>
          <p:spPr>
            <a:xfrm>
              <a:off x="3276720" y="3809880"/>
              <a:ext cx="579096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71840" y="41022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39760" y="494028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33600" y="494028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25080" y="577836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56960" y="577836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7" name=""/>
            <p:cNvCxnSpPr>
              <a:stCxn id="1272" idx="2"/>
              <a:endCxn id="1273" idx="0"/>
            </p:cNvCxnSpPr>
            <p:nvPr/>
          </p:nvCxnSpPr>
          <p:spPr>
            <a:xfrm flipH="1">
              <a:off x="6816240" y="457164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8" name=""/>
            <p:cNvCxnSpPr>
              <a:stCxn id="1272" idx="2"/>
              <a:endCxn id="1274" idx="0"/>
            </p:cNvCxnSpPr>
            <p:nvPr/>
          </p:nvCxnSpPr>
          <p:spPr>
            <a:xfrm>
              <a:off x="7604280" y="4571640"/>
              <a:ext cx="7624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9" name=""/>
            <p:cNvCxnSpPr>
              <a:stCxn id="1273" idx="2"/>
              <a:endCxn id="1276" idx="0"/>
            </p:cNvCxnSpPr>
            <p:nvPr/>
          </p:nvCxnSpPr>
          <p:spPr>
            <a:xfrm flipH="1">
              <a:off x="6011280" y="5409720"/>
              <a:ext cx="805320" cy="36900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80" name=""/>
            <p:cNvCxnSpPr>
              <a:stCxn id="1273" idx="2"/>
              <a:endCxn id="1275" idx="0"/>
            </p:cNvCxnSpPr>
            <p:nvPr/>
          </p:nvCxnSpPr>
          <p:spPr>
            <a:xfrm>
              <a:off x="6816240" y="5409720"/>
              <a:ext cx="3056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1" name=""/>
            <p:cNvSpPr/>
            <p:nvPr/>
          </p:nvSpPr>
          <p:spPr>
            <a:xfrm>
              <a:off x="5904720" y="4832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70960" y="5257800"/>
              <a:ext cx="30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wagon)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29280" y="577836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5" name=""/>
            <p:cNvCxnSpPr>
              <a:stCxn id="1274" idx="2"/>
              <a:endCxn id="1284" idx="0"/>
            </p:cNvCxnSpPr>
            <p:nvPr/>
          </p:nvCxnSpPr>
          <p:spPr>
            <a:xfrm>
              <a:off x="8365680" y="5409720"/>
              <a:ext cx="39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2941-D1AA-44F1-BAB0-BD0E291DD0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A Multi-Agents Platform for a Corporate  Web Semantic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388620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160">
              <a:lnSpc>
                <a:spcPct val="7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orate memory materialization in Co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ives &amp; Overall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RDF(S) to build a corporate semantic w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38160">
              <a:lnSpc>
                <a:spcPct val="8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 MAS architecture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8160">
              <a:lnSpc>
                <a:spcPct val="7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distribution of an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cating new anno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tributed query-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873000" y="304920"/>
            <a:ext cx="8118720" cy="2438280"/>
            <a:chOff x="873000" y="304920"/>
            <a:chExt cx="8118720" cy="2438280"/>
          </a:xfrm>
        </p:grpSpPr>
        <p:sp>
          <p:nvSpPr>
            <p:cNvPr id="1287" name=""/>
            <p:cNvSpPr/>
            <p:nvPr/>
          </p:nvSpPr>
          <p:spPr>
            <a:xfrm>
              <a:off x="914400" y="304920"/>
              <a:ext cx="8077320" cy="24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1"/>
            <a:stretch/>
          </p:blipFill>
          <p:spPr>
            <a:xfrm>
              <a:off x="2266920" y="31752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2"/>
            <a:stretch/>
          </p:blipFill>
          <p:spPr>
            <a:xfrm>
              <a:off x="3778200" y="38088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3168720" y="622440"/>
              <a:ext cx="533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75000" y="4064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B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73000" y="38088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Allocating an annotation: final pseudo-distanc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990720" y="1066680"/>
            <a:ext cx="7924680" cy="838440"/>
            <a:chOff x="990720" y="1066680"/>
            <a:chExt cx="7924680" cy="838440"/>
          </a:xfrm>
        </p:grpSpPr>
        <p:sp>
          <p:nvSpPr>
            <p:cNvPr id="1295" name=""/>
            <p:cNvSpPr/>
            <p:nvPr/>
          </p:nvSpPr>
          <p:spPr>
            <a:xfrm>
              <a:off x="990720" y="1066680"/>
              <a:ext cx="79246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ABIS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ABIS) = Min(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TFABIS 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Tripl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1397160"/>
              <a:ext cx="2133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Triple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A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066680" y="1990800"/>
                <a:ext cx="66931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BI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ABI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BI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ABI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29760" y="4152600"/>
            <a:ext cx="853452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8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Allocation criteria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73280" indent="-2397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Winner = Archivist with the smallest distan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73280" indent="-2397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Effect: cluster annotations having close semantic contribution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specialise the archiv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73280" indent="-2397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One use: specialisation improve query solving and respect knowledge distribu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914400" y="2743200"/>
            <a:ext cx="8077320" cy="840600"/>
            <a:chOff x="914400" y="2743200"/>
            <a:chExt cx="8077320" cy="840600"/>
          </a:xfrm>
        </p:grpSpPr>
        <p:sp>
          <p:nvSpPr>
            <p:cNvPr id="1300" name=""/>
            <p:cNvSpPr/>
            <p:nvPr/>
          </p:nvSpPr>
          <p:spPr>
            <a:xfrm>
              <a:off x="914400" y="2743200"/>
              <a:ext cx="80773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1092240" y="2743200"/>
              <a:ext cx="7780320" cy="840600"/>
              <a:chOff x="1092240" y="2743200"/>
              <a:chExt cx="7780320" cy="840600"/>
            </a:xfrm>
          </p:grpSpPr>
          <mc:AlternateContent>
            <mc:Choice xmlns:a14="http://schemas.microsoft.com/office/drawing/2010/main" Requires="a14">
              <p:sp>
                <p:nvSpPr>
                  <p:cNvPr id="1302" name=""/>
                  <p:cNvSpPr txBox="1"/>
                  <p:nvPr/>
                </p:nvSpPr>
                <p:spPr>
                  <a:xfrm>
                    <a:off x="1092240" y="2743200"/>
                    <a:ext cx="652788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A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ipl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CA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ipl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CAP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3" name=""/>
              <p:cNvSpPr/>
              <p:nvPr/>
            </p:nvSpPr>
            <p:spPr>
              <a:xfrm>
                <a:off x="5943600" y="3124080"/>
                <a:ext cx="292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sub-type 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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 Dist =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914400" y="3581280"/>
            <a:ext cx="8077320" cy="533520"/>
            <a:chOff x="914400" y="3581280"/>
            <a:chExt cx="8077320" cy="533520"/>
          </a:xfrm>
        </p:grpSpPr>
        <p:sp>
          <p:nvSpPr>
            <p:cNvPr id="1305" name=""/>
            <p:cNvSpPr/>
            <p:nvPr/>
          </p:nvSpPr>
          <p:spPr>
            <a:xfrm>
              <a:off x="914400" y="3581280"/>
              <a:ext cx="8077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143360" y="3611520"/>
              <a:ext cx="75427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Dist(An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, AA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) = Dist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AABIS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(An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, ABIS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) + Dist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ACAP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(An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, CAP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0403-3FF6-4AAB-A1A8-C6ED73B065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Interactions AA-AM in solving a request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79360" y="152280"/>
            <a:ext cx="8864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17600" indent="-417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Fragmentation et distribu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Co-operatively solve a query (multi-stage Query-Re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decomposes submitted query into sub-quer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llocation of sub-query based on AB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4920" y="45720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Overlap de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Refines service description of Archivi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arget multicast communications in query-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Exploit archive specialisation obtained by the distribution of anno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1066680" y="1981080"/>
            <a:ext cx="3962520" cy="1084680"/>
            <a:chOff x="1066680" y="1981080"/>
            <a:chExt cx="3962520" cy="1084680"/>
          </a:xfrm>
        </p:grpSpPr>
        <p:sp>
          <p:nvSpPr>
            <p:cNvPr id="1311" name=""/>
            <p:cNvSpPr/>
            <p:nvPr/>
          </p:nvSpPr>
          <p:spPr>
            <a:xfrm>
              <a:off x="1143000" y="1981080"/>
              <a:ext cx="373392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2" name="inter" descr=""/>
            <p:cNvPicPr/>
            <p:nvPr/>
          </p:nvPicPr>
          <p:blipFill>
            <a:blip r:embed="rId1"/>
            <a:stretch/>
          </p:blipFill>
          <p:spPr>
            <a:xfrm>
              <a:off x="1366920" y="2124000"/>
              <a:ext cx="461880" cy="4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3" name=""/>
            <p:cNvGrpSpPr/>
            <p:nvPr/>
          </p:nvGrpSpPr>
          <p:grpSpPr>
            <a:xfrm>
              <a:off x="2819520" y="2057400"/>
              <a:ext cx="609480" cy="533160"/>
              <a:chOff x="2819520" y="2057400"/>
              <a:chExt cx="609480" cy="533160"/>
            </a:xfrm>
          </p:grpSpPr>
          <p:sp>
            <p:nvSpPr>
              <p:cNvPr id="1314" name=""/>
              <p:cNvSpPr/>
              <p:nvPr/>
            </p:nvSpPr>
            <p:spPr>
              <a:xfrm>
                <a:off x="31028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195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95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0178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2133720" y="2057400"/>
              <a:ext cx="609480" cy="533160"/>
              <a:chOff x="2133720" y="2057400"/>
              <a:chExt cx="609480" cy="533160"/>
            </a:xfrm>
          </p:grpSpPr>
          <p:sp>
            <p:nvSpPr>
              <p:cNvPr id="1319" name=""/>
              <p:cNvSpPr/>
              <p:nvPr/>
            </p:nvSpPr>
            <p:spPr>
              <a:xfrm>
                <a:off x="24170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1337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1337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3320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3505320" y="2057400"/>
              <a:ext cx="609480" cy="533160"/>
              <a:chOff x="3505320" y="2057400"/>
              <a:chExt cx="609480" cy="533160"/>
            </a:xfrm>
          </p:grpSpPr>
          <p:sp>
            <p:nvSpPr>
              <p:cNvPr id="1324" name=""/>
              <p:cNvSpPr/>
              <p:nvPr/>
            </p:nvSpPr>
            <p:spPr>
              <a:xfrm>
                <a:off x="37886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5053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5053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7036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4191120" y="2057400"/>
              <a:ext cx="609480" cy="533160"/>
              <a:chOff x="4191120" y="2057400"/>
              <a:chExt cx="609480" cy="533160"/>
            </a:xfrm>
          </p:grpSpPr>
          <p:sp>
            <p:nvSpPr>
              <p:cNvPr id="1329" name=""/>
              <p:cNvSpPr/>
              <p:nvPr/>
            </p:nvSpPr>
            <p:spPr>
              <a:xfrm>
                <a:off x="44744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911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1911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3894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1066680" y="266688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query needs (in ontological term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384880" y="1981080"/>
            <a:ext cx="3759120" cy="1119960"/>
            <a:chOff x="5384880" y="1981080"/>
            <a:chExt cx="3759120" cy="1119960"/>
          </a:xfrm>
        </p:grpSpPr>
        <p:sp>
          <p:nvSpPr>
            <p:cNvPr id="1335" name=""/>
            <p:cNvSpPr/>
            <p:nvPr/>
          </p:nvSpPr>
          <p:spPr>
            <a:xfrm>
              <a:off x="5410080" y="1981080"/>
              <a:ext cx="365760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5384880" y="2006640"/>
              <a:ext cx="3759120" cy="1094400"/>
              <a:chOff x="5384880" y="2006640"/>
              <a:chExt cx="3759120" cy="1094400"/>
            </a:xfrm>
          </p:grpSpPr>
          <p:pic>
            <p:nvPicPr>
              <p:cNvPr id="13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37160" y="2006640"/>
                <a:ext cx="378000" cy="38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8" name=""/>
              <p:cNvGrpSpPr/>
              <p:nvPr/>
            </p:nvGrpSpPr>
            <p:grpSpPr>
              <a:xfrm>
                <a:off x="6324480" y="2057400"/>
                <a:ext cx="609840" cy="533160"/>
                <a:chOff x="6324480" y="2057400"/>
                <a:chExt cx="609840" cy="5331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6607800" y="2205360"/>
                  <a:ext cx="0" cy="23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324480" y="2057400"/>
                  <a:ext cx="609840" cy="14796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324480" y="244296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522840" y="2243880"/>
                  <a:ext cx="169560" cy="147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696080" y="2057400"/>
                <a:ext cx="609840" cy="533160"/>
                <a:chOff x="7696080" y="2057400"/>
                <a:chExt cx="609840" cy="53316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979400" y="2205360"/>
                  <a:ext cx="0" cy="23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696080" y="2057400"/>
                  <a:ext cx="609840" cy="14796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696080" y="244296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894440" y="2243880"/>
                  <a:ext cx="169560" cy="147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7010280" y="2057400"/>
                <a:ext cx="609840" cy="723960"/>
                <a:chOff x="7010280" y="2057400"/>
                <a:chExt cx="609840" cy="72396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7294680" y="2205000"/>
                  <a:ext cx="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010280" y="205740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010280" y="244332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209000" y="2244960"/>
                  <a:ext cx="169560" cy="1476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010280" y="263376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8381880" y="2057400"/>
                <a:ext cx="609840" cy="719280"/>
                <a:chOff x="8381880" y="2057400"/>
                <a:chExt cx="609840" cy="719280"/>
              </a:xfrm>
            </p:grpSpPr>
            <p:grpSp>
              <p:nvGrpSpPr>
                <p:cNvPr id="1355" name=""/>
                <p:cNvGrpSpPr/>
                <p:nvPr/>
              </p:nvGrpSpPr>
              <p:grpSpPr>
                <a:xfrm>
                  <a:off x="8381880" y="2057400"/>
                  <a:ext cx="609840" cy="533160"/>
                  <a:chOff x="8381880" y="2057400"/>
                  <a:chExt cx="609840" cy="53316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8665200" y="2205360"/>
                    <a:ext cx="0" cy="23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8381880" y="2057400"/>
                    <a:ext cx="609840" cy="1479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8381880" y="2442960"/>
                    <a:ext cx="609840" cy="14760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8580240" y="2243880"/>
                    <a:ext cx="169560" cy="147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8381880" y="262908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5384880" y="2397240"/>
                <a:ext cx="3759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(ABI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archive contribution to mem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2" name=""/>
          <p:cNvGrpSpPr/>
          <p:nvPr/>
        </p:nvGrpSpPr>
        <p:grpSpPr>
          <a:xfrm>
            <a:off x="1143000" y="2120760"/>
            <a:ext cx="8001000" cy="2374920"/>
            <a:chOff x="1143000" y="2120760"/>
            <a:chExt cx="8001000" cy="2374920"/>
          </a:xfrm>
        </p:grpSpPr>
        <p:sp>
          <p:nvSpPr>
            <p:cNvPr id="1363" name=""/>
            <p:cNvSpPr/>
            <p:nvPr/>
          </p:nvSpPr>
          <p:spPr>
            <a:xfrm>
              <a:off x="1752480" y="3352680"/>
              <a:ext cx="6705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868280" y="212076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808080"/>
                  </a:solidFill>
                  <a:latin typeface="Times New Roman"/>
                </a:rPr>
                <a:t>&amp;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43000" y="3200400"/>
              <a:ext cx="8001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6" name="" descr=""/>
            <p:cNvPicPr/>
            <p:nvPr/>
          </p:nvPicPr>
          <p:blipFill>
            <a:blip r:embed="rId3"/>
            <a:stretch/>
          </p:blipFill>
          <p:spPr>
            <a:xfrm>
              <a:off x="1828800" y="3429000"/>
              <a:ext cx="455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7" name=""/>
            <p:cNvSpPr/>
            <p:nvPr/>
          </p:nvSpPr>
          <p:spPr>
            <a:xfrm>
              <a:off x="4954680" y="2743200"/>
              <a:ext cx="380880" cy="762120"/>
            </a:xfrm>
            <a:prstGeom prst="downArrow">
              <a:avLst>
                <a:gd name="adj1" fmla="val 50000"/>
                <a:gd name="adj2" fmla="val 5002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114800" y="3720960"/>
              <a:ext cx="609480" cy="533160"/>
              <a:chOff x="4114800" y="3720960"/>
              <a:chExt cx="609480" cy="533160"/>
            </a:xfrm>
          </p:grpSpPr>
          <p:sp>
            <p:nvSpPr>
              <p:cNvPr id="1369" name=""/>
              <p:cNvSpPr/>
              <p:nvPr/>
            </p:nvSpPr>
            <p:spPr>
              <a:xfrm>
                <a:off x="43981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1148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148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131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3429000" y="3720960"/>
              <a:ext cx="609480" cy="533160"/>
              <a:chOff x="3429000" y="3720960"/>
              <a:chExt cx="609480" cy="533160"/>
            </a:xfrm>
          </p:grpSpPr>
          <p:sp>
            <p:nvSpPr>
              <p:cNvPr id="1374" name=""/>
              <p:cNvSpPr/>
              <p:nvPr/>
            </p:nvSpPr>
            <p:spPr>
              <a:xfrm>
                <a:off x="37123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290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290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273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4800600" y="3720960"/>
              <a:ext cx="609480" cy="533160"/>
              <a:chOff x="4800600" y="3720960"/>
              <a:chExt cx="609480" cy="533160"/>
            </a:xfrm>
          </p:grpSpPr>
          <p:sp>
            <p:nvSpPr>
              <p:cNvPr id="1379" name=""/>
              <p:cNvSpPr/>
              <p:nvPr/>
            </p:nvSpPr>
            <p:spPr>
              <a:xfrm>
                <a:off x="50839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8006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8006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989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5486400" y="3720960"/>
              <a:ext cx="609480" cy="533160"/>
              <a:chOff x="5486400" y="3720960"/>
              <a:chExt cx="609480" cy="533160"/>
            </a:xfrm>
          </p:grpSpPr>
          <p:sp>
            <p:nvSpPr>
              <p:cNvPr id="1384" name=""/>
              <p:cNvSpPr/>
              <p:nvPr/>
            </p:nvSpPr>
            <p:spPr>
              <a:xfrm>
                <a:off x="57697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4864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4864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847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4114800" y="3568680"/>
              <a:ext cx="1320840" cy="83808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91120" y="3581280"/>
              <a:ext cx="45720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4191120" y="3581280"/>
              <a:ext cx="38088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76920" y="3581280"/>
              <a:ext cx="45720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4876920" y="3581280"/>
              <a:ext cx="38088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464160" y="34131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f the overlap need/arch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38862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(OBSIQ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706A-C5CF-4DF6-A711-A08AC12655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DOM RDF structur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62120" y="0"/>
            <a:ext cx="6095880" cy="643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?xml version="1.0" encoding="UTF-8"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rdf:RDF xmlns:rdf="http://www.w3.org/1999/02/22-rdf-syntax-ns#" xmlns:rdfs="http://www.w3.org/TR/1999/ PR-rdf-schema-19990303#" xmlns:CoMMA="http://www.inria.fr/acacia/comma#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ocument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Author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Author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Doc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Tit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Edi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mpan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esign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~smith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esign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Situa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Ni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untr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Fran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untr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Editor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hon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Loc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Situate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HasForActiv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Edi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HasForActiv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mpan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Edited&gt;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ionDat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200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ionD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Review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hofstadter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douglas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Review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ncer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ComputerScienceTopic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ncer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ocument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791320" y="990720"/>
            <a:ext cx="3276360" cy="5333760"/>
            <a:chOff x="5791320" y="990720"/>
            <a:chExt cx="3276360" cy="5333760"/>
          </a:xfrm>
        </p:grpSpPr>
        <p:sp>
          <p:nvSpPr>
            <p:cNvPr id="1398" name=""/>
            <p:cNvSpPr/>
            <p:nvPr/>
          </p:nvSpPr>
          <p:spPr>
            <a:xfrm>
              <a:off x="5791320" y="990720"/>
              <a:ext cx="327636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72320" y="115560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67280" y="2382840"/>
              <a:ext cx="144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12000" y="1278000"/>
              <a:ext cx="698400" cy="619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6012000" y="1339560"/>
              <a:ext cx="698400" cy="122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72320" y="13683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72320" y="183024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72320" y="287352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72320" y="30574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72320" y="324180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72320" y="385452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72320" y="45910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72320" y="508176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72320" y="532620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72320" y="593892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012000" y="2933640"/>
              <a:ext cx="371160" cy="184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6012000" y="3117600"/>
              <a:ext cx="371160" cy="245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012000" y="3117960"/>
              <a:ext cx="37116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012000" y="5203800"/>
              <a:ext cx="698400" cy="604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012000" y="5264280"/>
              <a:ext cx="698400" cy="1238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83160" y="3117960"/>
              <a:ext cx="37332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12000" y="2505240"/>
              <a:ext cx="744480" cy="6127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6012000" y="3117960"/>
              <a:ext cx="744480" cy="7365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56480" y="3117960"/>
              <a:ext cx="223524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12000" y="1952640"/>
              <a:ext cx="2979720" cy="1165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10400" y="1339920"/>
              <a:ext cx="2281320" cy="1778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6012000" y="3117600"/>
              <a:ext cx="2979720" cy="15951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6012000" y="3117960"/>
              <a:ext cx="2979720" cy="2882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710400" y="3117960"/>
              <a:ext cx="2281320" cy="2146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920000" y="250524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920000" y="28735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920000" y="342432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920000" y="207648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920000" y="38545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20000" y="416088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456240" y="115560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456240" y="137304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488280" y="27367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491160" y="295416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56240" y="529272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456240" y="50817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491160" y="33307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053040" y="28065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053040" y="310356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53040" y="326880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5FC4-E881-4431-991C-1CB5AB1D1C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"/>
          <p:cNvGrpSpPr/>
          <p:nvPr/>
        </p:nvGrpSpPr>
        <p:grpSpPr>
          <a:xfrm>
            <a:off x="838080" y="2819520"/>
            <a:ext cx="8153640" cy="3352680"/>
            <a:chOff x="838080" y="2819520"/>
            <a:chExt cx="8153640" cy="3352680"/>
          </a:xfrm>
        </p:grpSpPr>
        <p:sp>
          <p:nvSpPr>
            <p:cNvPr id="1444" name=""/>
            <p:cNvSpPr/>
            <p:nvPr/>
          </p:nvSpPr>
          <p:spPr>
            <a:xfrm>
              <a:off x="838080" y="3429000"/>
              <a:ext cx="815364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5400000">
              <a:off x="7619400" y="29718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Decomposition (Constraints)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5562720" y="1066680"/>
            <a:ext cx="3429000" cy="1600200"/>
            <a:chOff x="5562720" y="1066680"/>
            <a:chExt cx="3429000" cy="1600200"/>
          </a:xfrm>
        </p:grpSpPr>
        <p:sp>
          <p:nvSpPr>
            <p:cNvPr id="1448" name=""/>
            <p:cNvSpPr/>
            <p:nvPr/>
          </p:nvSpPr>
          <p:spPr>
            <a:xfrm>
              <a:off x="5562720" y="106668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658296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08336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027840" y="121896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6128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36128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361280" y="121896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8613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1392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7499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278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680544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8336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80544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08336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083360" y="15872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639280" y="15872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36136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500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58520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30584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83360" y="19587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026120" y="232704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694560" y="23270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69456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47388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386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49960" y="195876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305840" y="232704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 rot="5400000">
            <a:off x="1427040" y="4768920"/>
            <a:ext cx="276480" cy="133200"/>
          </a:xfrm>
          <a:prstGeom prst="rightArrow">
            <a:avLst>
              <a:gd name="adj1" fmla="val 50000"/>
              <a:gd name="adj2" fmla="val 51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920880" y="3581280"/>
            <a:ext cx="8045280" cy="1204920"/>
            <a:chOff x="920880" y="3581280"/>
            <a:chExt cx="8045280" cy="1204920"/>
          </a:xfrm>
        </p:grpSpPr>
        <p:sp>
          <p:nvSpPr>
            <p:cNvPr id="1479" name=""/>
            <p:cNvSpPr/>
            <p:nvPr/>
          </p:nvSpPr>
          <p:spPr>
            <a:xfrm flipH="1">
              <a:off x="744336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88160" y="3581280"/>
              <a:ext cx="6890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88160" y="35812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88160" y="358128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8129520" y="3906720"/>
              <a:ext cx="2476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7720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719748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44372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197480" y="4229280"/>
              <a:ext cx="2458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43720" y="390672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81856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57268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03268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88508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4064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443720" y="422928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394400" y="455472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101000" y="455472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101000" y="422928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550188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746680" y="3581280"/>
              <a:ext cx="6876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46680" y="35812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746680" y="358128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6188040" y="390672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43428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25600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0224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256000" y="4229280"/>
              <a:ext cx="24588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502240" y="390672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708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29400" y="422928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09120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4360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69916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502240" y="4229280"/>
              <a:ext cx="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52920" y="4554720"/>
              <a:ext cx="1479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59520" y="4554720"/>
              <a:ext cx="1458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159520" y="422928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3379680" y="35812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625920" y="358128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62592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25920" y="3581280"/>
              <a:ext cx="117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06692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1316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313344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79680" y="390672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79680" y="390672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56320" y="390672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0864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96864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82104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7660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035160" y="422928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3216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26504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09840" y="3581280"/>
              <a:ext cx="688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09840" y="358128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509840" y="358128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195228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98520" y="3906720"/>
              <a:ext cx="244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019160" y="390672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65400" y="390672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65400" y="3906720"/>
              <a:ext cx="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639880" y="390672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39400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85580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70820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460520" y="4229280"/>
              <a:ext cx="14904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20880" y="422928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16080" y="4229280"/>
              <a:ext cx="1461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6877080" y="3627360"/>
              <a:ext cx="342720" cy="138240"/>
            </a:xfrm>
            <a:prstGeom prst="rightArrow">
              <a:avLst>
                <a:gd name="adj1" fmla="val 50000"/>
                <a:gd name="adj2" fmla="val 619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4926960" y="3630600"/>
              <a:ext cx="345960" cy="138240"/>
            </a:xfrm>
            <a:prstGeom prst="rightArrow">
              <a:avLst>
                <a:gd name="adj1" fmla="val 50000"/>
                <a:gd name="adj2" fmla="val 625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2752560" y="3627360"/>
              <a:ext cx="346320" cy="138240"/>
            </a:xfrm>
            <a:prstGeom prst="rightArrow">
              <a:avLst>
                <a:gd name="adj1" fmla="val 50000"/>
                <a:gd name="adj2" fmla="val 6263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427720" y="418464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200240" y="385128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920880" y="5167440"/>
            <a:ext cx="8045280" cy="901440"/>
            <a:chOff x="920880" y="5167440"/>
            <a:chExt cx="8045280" cy="901440"/>
          </a:xfrm>
        </p:grpSpPr>
        <p:sp>
          <p:nvSpPr>
            <p:cNvPr id="1555" name=""/>
            <p:cNvSpPr/>
            <p:nvPr/>
          </p:nvSpPr>
          <p:spPr>
            <a:xfrm flipH="1">
              <a:off x="1019160" y="518940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265400" y="518940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265400" y="518940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265400" y="5189400"/>
              <a:ext cx="11779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707840" y="551484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952640" y="551484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39400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49560" y="583740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09560" y="583740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60520" y="5514840"/>
              <a:ext cx="149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2088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3035160" y="518940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82840" y="5189400"/>
              <a:ext cx="685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82840" y="518940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82840" y="5189400"/>
              <a:ext cx="11764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723840" y="551484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968640" y="551484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1000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165560" y="583740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625920" y="583740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7832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93688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106960" y="523548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54640" y="523548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354640" y="52354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54640" y="523548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483240" y="556092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51560" y="556092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11560" y="5560920"/>
              <a:ext cx="147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041880" y="556092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7080120" y="5221440"/>
              <a:ext cx="2462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326360" y="5221440"/>
              <a:ext cx="68580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326360" y="5221440"/>
              <a:ext cx="2444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26360" y="5221440"/>
              <a:ext cx="117612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453520" y="554508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521480" y="554508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80400" y="554508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012160" y="554508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820000" y="523548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565360" y="5253120"/>
              <a:ext cx="343080" cy="137880"/>
            </a:xfrm>
            <a:prstGeom prst="rightArrow">
              <a:avLst>
                <a:gd name="adj1" fmla="val 50000"/>
                <a:gd name="adj2" fmla="val 622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65600" y="5253120"/>
              <a:ext cx="345960" cy="137880"/>
            </a:xfrm>
            <a:prstGeom prst="rightArrow">
              <a:avLst>
                <a:gd name="adj1" fmla="val 50000"/>
                <a:gd name="adj2" fmla="val 6272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10320" y="5249880"/>
              <a:ext cx="344520" cy="141120"/>
            </a:xfrm>
            <a:prstGeom prst="rightArrow">
              <a:avLst>
                <a:gd name="adj1" fmla="val 50000"/>
                <a:gd name="adj2" fmla="val 6103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354880" y="5249880"/>
              <a:ext cx="346320" cy="141120"/>
            </a:xfrm>
            <a:prstGeom prst="rightArrow">
              <a:avLst>
                <a:gd name="adj1" fmla="val 50000"/>
                <a:gd name="adj2" fmla="val 6135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09960" y="5461200"/>
              <a:ext cx="13356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259760" y="5167440"/>
              <a:ext cx="13320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304920" y="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17600" indent="-417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Solving / Decompo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simplifies + decomposes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sub-queries to A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Bottom-up constraints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op-down quest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URI as cut/joint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ACB0-34AA-474E-98BB-1EE5F42F10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/>
          <p:nvPr/>
        </p:nvSpPr>
        <p:spPr>
          <a:xfrm>
            <a:off x="304920" y="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86640" indent="-38664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768886"/>
                </a:solidFill>
                <a:uFillTx/>
                <a:latin typeface="Georgia"/>
              </a:rPr>
              <a:t>Solving / Decompo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AM simplifies + decomposes </a:t>
            </a:r>
            <a:r>
              <a:rPr b="0" lang="en-GB" sz="2600" spc="-1" strike="noStrike">
                <a:solidFill>
                  <a:srgbClr val="768886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 sub-queries to A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Bottom-up constraints</a:t>
            </a:r>
            <a:br>
              <a:rPr sz="2600"/>
            </a:b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Top-down question</a:t>
            </a:r>
            <a:br>
              <a:rPr sz="2600"/>
            </a:b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URI as cut/joint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Decomposition (Questions) &amp;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merging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5562720" y="1066680"/>
            <a:ext cx="3429000" cy="1600200"/>
            <a:chOff x="5562720" y="1066680"/>
            <a:chExt cx="3429000" cy="1600200"/>
          </a:xfrm>
        </p:grpSpPr>
        <p:sp>
          <p:nvSpPr>
            <p:cNvPr id="1604" name=""/>
            <p:cNvSpPr/>
            <p:nvPr/>
          </p:nvSpPr>
          <p:spPr>
            <a:xfrm>
              <a:off x="5562720" y="106668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58296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708336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6027840" y="121896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36128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36128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61280" y="121896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78613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1392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57499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278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680544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8336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680544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8336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083360" y="15872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639280" y="15872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36136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500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58520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0584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83360" y="19587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026120" y="232704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694560" y="23270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69456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7388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386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49960" y="195876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305840" y="232704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838080" y="2743200"/>
            <a:ext cx="8153640" cy="2514600"/>
            <a:chOff x="838080" y="2743200"/>
            <a:chExt cx="8153640" cy="2514600"/>
          </a:xfrm>
        </p:grpSpPr>
        <p:sp>
          <p:nvSpPr>
            <p:cNvPr id="1634" name=""/>
            <p:cNvSpPr/>
            <p:nvPr/>
          </p:nvSpPr>
          <p:spPr>
            <a:xfrm>
              <a:off x="838080" y="3276720"/>
              <a:ext cx="8153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5400000">
              <a:off x="7619400" y="2895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990720" y="3429000"/>
            <a:ext cx="7924680" cy="1676520"/>
            <a:chOff x="990720" y="3429000"/>
            <a:chExt cx="7924680" cy="1676520"/>
          </a:xfrm>
        </p:grpSpPr>
        <p:sp>
          <p:nvSpPr>
            <p:cNvPr id="1637" name=""/>
            <p:cNvSpPr/>
            <p:nvPr/>
          </p:nvSpPr>
          <p:spPr>
            <a:xfrm flipH="1">
              <a:off x="8004240" y="3441960"/>
              <a:ext cx="7970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516880" y="3441960"/>
              <a:ext cx="28440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7432560" y="3441960"/>
              <a:ext cx="13687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7148160" y="3859200"/>
              <a:ext cx="2840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432560" y="3859200"/>
              <a:ext cx="2858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516880" y="4280040"/>
              <a:ext cx="2844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516880" y="38592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889760" y="3859200"/>
              <a:ext cx="1699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34040" y="428004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61160" y="428004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744040" y="470088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951520" y="3441960"/>
              <a:ext cx="2858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37360" y="344196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5610240" y="3441960"/>
              <a:ext cx="6271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5267160" y="3841920"/>
              <a:ext cx="28584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553000" y="3841920"/>
              <a:ext cx="28440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37360" y="433872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237360" y="38592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894280" y="380232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151600" y="4319640"/>
              <a:ext cx="1728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80160" y="4319640"/>
              <a:ext cx="171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64280" y="474840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67320" y="380232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76880" y="380232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64280" y="431172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4125960" y="3502080"/>
              <a:ext cx="287280" cy="4190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413240" y="35020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3786120" y="350208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3441600" y="3902040"/>
              <a:ext cx="28728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728880" y="3902040"/>
              <a:ext cx="2826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13240" y="43992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13240" y="392112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68720" y="3859200"/>
              <a:ext cx="17316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30720" y="4380120"/>
              <a:ext cx="168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57480" y="4380120"/>
              <a:ext cx="16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340160" y="480564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43200" y="3859200"/>
              <a:ext cx="1717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56000" y="3859200"/>
              <a:ext cx="16848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340160" y="4372200"/>
              <a:ext cx="1713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63800" y="35020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63800" y="4399200"/>
              <a:ext cx="0" cy="4172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63800" y="392112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992160" y="4805640"/>
              <a:ext cx="17316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6560" y="385920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92160" y="434052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60840" y="35020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2133720" y="350208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1789200" y="3902040"/>
              <a:ext cx="2858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075040" y="3902040"/>
              <a:ext cx="2840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760840" y="43992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760840" y="392112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677960" y="4380120"/>
              <a:ext cx="1684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305080" y="4380120"/>
              <a:ext cx="16812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85960" y="4805640"/>
              <a:ext cx="173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90800" y="385920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703600" y="3859200"/>
              <a:ext cx="16812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685960" y="43722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6577920" y="3919680"/>
              <a:ext cx="398520" cy="182520"/>
            </a:xfrm>
            <a:prstGeom prst="rightArrow">
              <a:avLst>
                <a:gd name="adj1" fmla="val 50000"/>
                <a:gd name="adj2" fmla="val 5458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4638600" y="392112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2985480" y="3921120"/>
              <a:ext cx="401400" cy="181080"/>
            </a:xfrm>
            <a:prstGeom prst="rightArrow">
              <a:avLst>
                <a:gd name="adj1" fmla="val 50000"/>
                <a:gd name="adj2" fmla="val 5541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276200" y="392112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2240" y="3429000"/>
              <a:ext cx="155520" cy="179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1080" y="3886200"/>
              <a:ext cx="181080" cy="1764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90720" y="4372200"/>
              <a:ext cx="156960" cy="1807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304920" y="5283360"/>
            <a:ext cx="86868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13280" indent="-41328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Solving / Mer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265680">
              <a:lnSpc>
                <a:spcPct val="7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merges partial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265680">
              <a:lnSpc>
                <a:spcPct val="7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solves cross-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6A0D-84E2-4523-B0EF-9F800C2309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28600" y="762120"/>
            <a:ext cx="88390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rgonomics problems and complex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rge scale real eval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rking system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i.e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proof of conc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ability and Usefulness recogni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veloper appreciation of Agent-Onto coupl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dustrial interest in the dv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n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of the proto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3092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Focused criticism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Georgia"/>
              </a:rPr>
              <a:t>pseudo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-semantic distance; liter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Georgia"/>
              </a:rPr>
              <a:t>over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specialisation; fine tuning, other crite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decomposition improvements (existential qualification, constraint focal point and heuristic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30920">
              <a:lnSpc>
                <a:spcPct val="9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Resul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PhD to be defended in Octob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30920">
              <a:lnSpc>
                <a:spcPct val="9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Take home message: "looking for Post Doc." </a:t>
            </a:r>
            <a:r>
              <a:rPr b="0" lang="en-GB" sz="3000" spc="-1" strike="noStrike">
                <a:solidFill>
                  <a:srgbClr val="003399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241200" y="152280"/>
            <a:ext cx="8839440" cy="609840"/>
            <a:chOff x="241200" y="152280"/>
            <a:chExt cx="8839440" cy="609840"/>
          </a:xfrm>
        </p:grpSpPr>
        <p:grpSp>
          <p:nvGrpSpPr>
            <p:cNvPr id="1705" name=""/>
            <p:cNvGrpSpPr/>
            <p:nvPr/>
          </p:nvGrpSpPr>
          <p:grpSpPr>
            <a:xfrm>
              <a:off x="5079960" y="210960"/>
              <a:ext cx="1523880" cy="461880"/>
              <a:chOff x="5079960" y="210960"/>
              <a:chExt cx="1523880" cy="461880"/>
            </a:xfrm>
          </p:grpSpPr>
          <p:sp>
            <p:nvSpPr>
              <p:cNvPr id="1706" name=""/>
              <p:cNvSpPr/>
              <p:nvPr/>
            </p:nvSpPr>
            <p:spPr>
              <a:xfrm>
                <a:off x="5079960" y="21096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07" name="JAD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5156280" y="240840"/>
                <a:ext cx="139680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8" name=""/>
            <p:cNvSpPr/>
            <p:nvPr/>
          </p:nvSpPr>
          <p:spPr>
            <a:xfrm>
              <a:off x="241200" y="152280"/>
              <a:ext cx="8839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44600">
                <a:lnSpc>
                  <a:spcPct val="100000"/>
                </a:lnSpc>
                <a:spcBef>
                  <a:spcPts val="751"/>
                </a:spcBef>
                <a:buClr>
                  <a:srgbClr val="777777"/>
                </a:buClr>
                <a:buSzPct val="9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Georgia"/>
                </a:rPr>
                <a:t>System implementation (                 ) &amp; trial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A37C-5909-4528-A61F-AF98A90228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Login &amp; JADE Agent Management GUI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1"/>
          <a:stretch/>
        </p:blipFill>
        <p:spPr>
          <a:xfrm>
            <a:off x="2341440" y="1363680"/>
            <a:ext cx="5430960" cy="41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135F-CABC-4422-AC9F-08A4326B78C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Mak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1"/>
          <a:stretch/>
        </p:blipFill>
        <p:spPr>
          <a:xfrm>
            <a:off x="662040" y="68904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6B43-9AB8-491A-96A2-40C087F5988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Message passing in allocat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1311120" y="380880"/>
            <a:ext cx="7680600" cy="610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18D0-C755-444C-8E26-2303EF1C14C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Submitting a query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55520" y="649440"/>
            <a:ext cx="793620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B061-2751-4CC2-B778-20F9C6321D7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What is CoMMA ?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1960" y="-360"/>
            <a:ext cx="8623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CoMMA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uropean project : Provide a corporate memory management framework. Started February 2000 - Ended February 2002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lnSpc>
                <a:spcPct val="7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2 application &amp; trial scenario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ist new employee integr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pport technology monitoring activiti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73CC-16CE-46BE-B4D4-C95E2AAC1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Message passing in query-solving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1311120" y="446040"/>
            <a:ext cx="768060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4B1B-3E83-4643-BA40-EAB1F85E41B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Query result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1"/>
          <a:stretch/>
        </p:blipFill>
        <p:spPr>
          <a:xfrm>
            <a:off x="76320" y="2362320"/>
            <a:ext cx="8993160" cy="20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E5F8-109F-4104-9DA1-0112C49EE77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 txBox="1"/>
          <p:nvPr/>
        </p:nvSpPr>
        <p:spPr>
          <a:xfrm>
            <a:off x="2819520" y="2895480"/>
            <a:ext cx="449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k you 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25BD-D6CE-4C80-A6E8-C915C897CF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pproach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1960" y="1815840"/>
            <a:ext cx="862344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20160" indent="-2739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rporate memories a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nformation landscap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keholders are a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popul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ploitation of corporate memory involve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ask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59000" y="3936960"/>
            <a:ext cx="7314840" cy="609480"/>
            <a:chOff x="1359000" y="3936960"/>
            <a:chExt cx="7314840" cy="609480"/>
          </a:xfrm>
        </p:grpSpPr>
        <p:grpSp>
          <p:nvGrpSpPr>
            <p:cNvPr id="101" name=""/>
            <p:cNvGrpSpPr/>
            <p:nvPr/>
          </p:nvGrpSpPr>
          <p:grpSpPr>
            <a:xfrm>
              <a:off x="1359000" y="3936960"/>
              <a:ext cx="7314840" cy="533160"/>
              <a:chOff x="1359000" y="3936960"/>
              <a:chExt cx="7314840" cy="533160"/>
            </a:xfrm>
          </p:grpSpPr>
          <p:sp>
            <p:nvSpPr>
              <p:cNvPr id="102" name=""/>
              <p:cNvSpPr/>
              <p:nvPr/>
            </p:nvSpPr>
            <p:spPr>
              <a:xfrm>
                <a:off x="1359000" y="3936960"/>
                <a:ext cx="36583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17320" y="3936960"/>
                <a:ext cx="36565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511640" y="39369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CM Material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07120" y="3936960"/>
              <a:ext cx="303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CM Explo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359000" y="4470480"/>
            <a:ext cx="7315200" cy="2132280"/>
            <a:chOff x="1359000" y="4470480"/>
            <a:chExt cx="7315200" cy="2132280"/>
          </a:xfrm>
        </p:grpSpPr>
        <p:sp>
          <p:nvSpPr>
            <p:cNvPr id="107" name=""/>
            <p:cNvSpPr/>
            <p:nvPr/>
          </p:nvSpPr>
          <p:spPr>
            <a:xfrm>
              <a:off x="1359000" y="447048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447048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33440" y="4444920"/>
            <a:ext cx="3606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8280" indent="-188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XML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eb standard, Structure, Extend, Validation,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-188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DF(S) &amp; K. Eng.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notation,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91040" y="4432320"/>
            <a:ext cx="381024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84680" indent="-184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ulti-Agent System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odularity, Distributed, Collaboration, Sem. M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achine Learning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dap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040" y="1371600"/>
            <a:ext cx="8707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63320" indent="-426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ositioning &amp; Approach</a:t>
            </a:r>
            <a:r>
              <a:rPr b="1" lang="en-US" sz="3000" spc="-1" strike="noStrike" u="sng">
                <a:solidFill>
                  <a:srgbClr val="768886"/>
                </a:solidFill>
                <a:uFillTx/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960" y="0"/>
            <a:ext cx="8623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43880" indent="-40896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768886"/>
                </a:solidFill>
                <a:uFillTx/>
                <a:latin typeface="Georgia"/>
              </a:rPr>
              <a:t>CoMMA</a:t>
            </a:r>
            <a:r>
              <a:rPr b="1" lang="en-US" sz="3000" spc="-1" strike="noStrike">
                <a:solidFill>
                  <a:srgbClr val="768886"/>
                </a:solidFill>
                <a:latin typeface="Georgia"/>
              </a:rPr>
              <a:t>: </a:t>
            </a:r>
            <a:r>
              <a:rPr b="0" lang="en-US" sz="3000" spc="-1" strike="noStrike">
                <a:solidFill>
                  <a:srgbClr val="768886"/>
                </a:solidFill>
                <a:latin typeface="Georgia"/>
              </a:rPr>
              <a:t>European project : Provide a corporate memory management framework. Started February 2000 - Ended February 20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E40F-613D-4E8C-AE12-B0E9C4C1E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115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120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6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8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29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4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35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136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" name=""/>
          <p:cNvGrpSpPr/>
          <p:nvPr/>
        </p:nvGrpSpPr>
        <p:grpSpPr>
          <a:xfrm>
            <a:off x="1152360" y="3382920"/>
            <a:ext cx="1101240" cy="1552680"/>
            <a:chOff x="1152360" y="3382920"/>
            <a:chExt cx="1101240" cy="1552680"/>
          </a:xfrm>
        </p:grpSpPr>
        <p:sp>
          <p:nvSpPr>
            <p:cNvPr id="139" name=""/>
            <p:cNvSpPr/>
            <p:nvPr/>
          </p:nvSpPr>
          <p:spPr>
            <a:xfrm>
              <a:off x="1152360" y="433872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823760" y="3382920"/>
              <a:ext cx="429840" cy="1181160"/>
              <a:chOff x="1823760" y="3382920"/>
              <a:chExt cx="429840" cy="118116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823760" y="3382920"/>
                <a:ext cx="210960" cy="97920"/>
                <a:chOff x="1823760" y="3382920"/>
                <a:chExt cx="210960" cy="979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823760" y="345672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875600" y="339336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8320" y="338292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88640" y="342036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898280" y="3452760"/>
                <a:ext cx="355320" cy="1111320"/>
                <a:chOff x="1898280" y="3452760"/>
                <a:chExt cx="355320" cy="11113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62360" y="363564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090160" y="345276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898280" y="385164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014920" y="383976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75320" y="410040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85840" y="410040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3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863000" y="344412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"/>
          <p:cNvGrpSpPr/>
          <p:nvPr/>
        </p:nvGrpSpPr>
        <p:grpSpPr>
          <a:xfrm>
            <a:off x="2455920" y="3502080"/>
            <a:ext cx="2168640" cy="677520"/>
            <a:chOff x="2455920" y="3502080"/>
            <a:chExt cx="2168640" cy="677520"/>
          </a:xfrm>
        </p:grpSpPr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245592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8"/>
            <a:stretch/>
          </p:blipFill>
          <p:spPr>
            <a:xfrm>
              <a:off x="375768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2652840" y="3502080"/>
              <a:ext cx="1008000" cy="677520"/>
              <a:chOff x="2652840" y="3502080"/>
              <a:chExt cx="1008000" cy="677520"/>
            </a:xfrm>
          </p:grpSpPr>
          <p:sp>
            <p:nvSpPr>
              <p:cNvPr id="158" name=""/>
              <p:cNvSpPr/>
              <p:nvPr/>
            </p:nvSpPr>
            <p:spPr>
              <a:xfrm>
                <a:off x="2810520" y="354168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9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968560" y="377532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2652840" y="350208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onto_01" descr=""/>
            <p:cNvPicPr/>
            <p:nvPr/>
          </p:nvPicPr>
          <p:blipFill>
            <a:blip r:embed="rId10"/>
            <a:stretch/>
          </p:blipFill>
          <p:spPr>
            <a:xfrm>
              <a:off x="4310280" y="374184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2243160" y="4253040"/>
            <a:ext cx="1631880" cy="881640"/>
            <a:chOff x="2243160" y="4253040"/>
            <a:chExt cx="1631880" cy="881640"/>
          </a:xfrm>
        </p:grpSpPr>
        <p:grpSp>
          <p:nvGrpSpPr>
            <p:cNvPr id="163" name=""/>
            <p:cNvGrpSpPr/>
            <p:nvPr/>
          </p:nvGrpSpPr>
          <p:grpSpPr>
            <a:xfrm>
              <a:off x="2243160" y="4536720"/>
              <a:ext cx="1631880" cy="597960"/>
              <a:chOff x="2243160" y="4536720"/>
              <a:chExt cx="1631880" cy="597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22000" y="4576320"/>
                <a:ext cx="1340640" cy="55836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5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361240" y="4780080"/>
                <a:ext cx="2757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2243160" y="4536720"/>
                <a:ext cx="74916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44840" y="4736160"/>
                <a:ext cx="13302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3046320" y="4253040"/>
              <a:ext cx="23616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3757680" y="4618080"/>
            <a:ext cx="1065240" cy="357120"/>
            <a:chOff x="3757680" y="4618080"/>
            <a:chExt cx="1065240" cy="357120"/>
          </a:xfrm>
        </p:grpSpPr>
        <p:pic>
          <p:nvPicPr>
            <p:cNvPr id="170" name="" descr=""/>
            <p:cNvPicPr/>
            <p:nvPr/>
          </p:nvPicPr>
          <p:blipFill>
            <a:blip r:embed="rId13"/>
            <a:stretch/>
          </p:blipFill>
          <p:spPr>
            <a:xfrm>
              <a:off x="3757680" y="46976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onto_02" descr=""/>
            <p:cNvPicPr/>
            <p:nvPr/>
          </p:nvPicPr>
          <p:blipFill>
            <a:blip r:embed="rId14"/>
            <a:stretch/>
          </p:blipFill>
          <p:spPr>
            <a:xfrm>
              <a:off x="4467240" y="461808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 txBox="1"/>
          <p:nvPr/>
        </p:nvSpPr>
        <p:spPr>
          <a:xfrm>
            <a:off x="2336760" y="425916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76360" y="3224160"/>
            <a:ext cx="1971720" cy="1273320"/>
            <a:chOff x="2376360" y="3224160"/>
            <a:chExt cx="1971720" cy="1273320"/>
          </a:xfrm>
        </p:grpSpPr>
        <p:sp>
          <p:nvSpPr>
            <p:cNvPr id="174" name=""/>
            <p:cNvSpPr/>
            <p:nvPr/>
          </p:nvSpPr>
          <p:spPr>
            <a:xfrm>
              <a:off x="3678120" y="322416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376360" y="322416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20800" y="330372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0466-A505-47DF-A86B-481A0878D2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179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181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184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9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2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93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99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200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2" name=""/>
          <p:cNvGrpSpPr/>
          <p:nvPr/>
        </p:nvGrpSpPr>
        <p:grpSpPr>
          <a:xfrm>
            <a:off x="1074600" y="993600"/>
            <a:ext cx="1774800" cy="1433520"/>
            <a:chOff x="1074600" y="993600"/>
            <a:chExt cx="1774800" cy="1433520"/>
          </a:xfrm>
        </p:grpSpPr>
        <p:sp>
          <p:nvSpPr>
            <p:cNvPr id="203" name=""/>
            <p:cNvSpPr/>
            <p:nvPr/>
          </p:nvSpPr>
          <p:spPr>
            <a:xfrm>
              <a:off x="1074600" y="206820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626840" y="993600"/>
              <a:ext cx="789120" cy="1231920"/>
              <a:chOff x="1626840" y="993600"/>
              <a:chExt cx="789120" cy="123192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902240" y="1441440"/>
                <a:ext cx="477360" cy="784080"/>
                <a:chOff x="1902240" y="1441440"/>
                <a:chExt cx="477360" cy="7840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111400" y="170208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54600" y="194868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86840" y="193500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02240" y="170280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22280" y="144144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067480" y="148500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913040" y="993600"/>
                <a:ext cx="236520" cy="239040"/>
                <a:chOff x="1913040" y="993600"/>
                <a:chExt cx="236520" cy="239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913040" y="99360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4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40040" y="101520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1626840" y="1117080"/>
                <a:ext cx="255240" cy="278640"/>
                <a:chOff x="1626840" y="1117080"/>
                <a:chExt cx="255240" cy="2786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626840" y="111708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7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35120" y="113580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8" name=""/>
              <p:cNvGrpSpPr/>
              <p:nvPr/>
            </p:nvGrpSpPr>
            <p:grpSpPr>
              <a:xfrm>
                <a:off x="1784520" y="1436040"/>
                <a:ext cx="204120" cy="245160"/>
                <a:chOff x="1784520" y="1436040"/>
                <a:chExt cx="204120" cy="2451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784520" y="143604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0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05040" y="145260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1" name=""/>
              <p:cNvGrpSpPr/>
              <p:nvPr/>
            </p:nvGrpSpPr>
            <p:grpSpPr>
              <a:xfrm>
                <a:off x="2179080" y="1157040"/>
                <a:ext cx="236880" cy="278640"/>
                <a:chOff x="2179080" y="1157040"/>
                <a:chExt cx="236880" cy="278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179080" y="115704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3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84480" y="119052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24" name=""/>
          <p:cNvGrpSpPr/>
          <p:nvPr/>
        </p:nvGrpSpPr>
        <p:grpSpPr>
          <a:xfrm>
            <a:off x="2416320" y="1405080"/>
            <a:ext cx="1617120" cy="903240"/>
            <a:chOff x="2416320" y="1405080"/>
            <a:chExt cx="1617120" cy="903240"/>
          </a:xfrm>
        </p:grpSpPr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2416320" y="188136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2692080" y="1405080"/>
              <a:ext cx="1025280" cy="903240"/>
              <a:chOff x="2692080" y="1405080"/>
              <a:chExt cx="1025280" cy="903240"/>
            </a:xfrm>
          </p:grpSpPr>
          <p:sp>
            <p:nvSpPr>
              <p:cNvPr id="227" name=""/>
              <p:cNvSpPr/>
              <p:nvPr/>
            </p:nvSpPr>
            <p:spPr>
              <a:xfrm>
                <a:off x="2692080" y="167112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92080" y="140508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9720" y="167400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86280" y="190656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68760" y="143568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" descr=""/>
            <p:cNvPicPr/>
            <p:nvPr/>
          </p:nvPicPr>
          <p:blipFill>
            <a:blip r:embed="rId13"/>
            <a:stretch/>
          </p:blipFill>
          <p:spPr>
            <a:xfrm>
              <a:off x="3796920" y="187020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4167360" y="1316160"/>
            <a:ext cx="1375920" cy="3565440"/>
            <a:chOff x="4167360" y="1316160"/>
            <a:chExt cx="1375920" cy="3565440"/>
          </a:xfrm>
        </p:grpSpPr>
        <p:pic>
          <p:nvPicPr>
            <p:cNvPr id="234" name="doc_01" descr=""/>
            <p:cNvPicPr/>
            <p:nvPr/>
          </p:nvPicPr>
          <p:blipFill>
            <a:blip r:embed="rId14"/>
            <a:stretch/>
          </p:blipFill>
          <p:spPr>
            <a:xfrm>
              <a:off x="5127480" y="193032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doc_01" descr=""/>
            <p:cNvPicPr/>
            <p:nvPr/>
          </p:nvPicPr>
          <p:blipFill>
            <a:blip r:embed="rId15"/>
            <a:stretch/>
          </p:blipFill>
          <p:spPr>
            <a:xfrm>
              <a:off x="5085720" y="185112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memory_01" descr=""/>
            <p:cNvPicPr/>
            <p:nvPr/>
          </p:nvPicPr>
          <p:blipFill>
            <a:blip r:embed="rId16"/>
            <a:stretch/>
          </p:blipFill>
          <p:spPr>
            <a:xfrm>
              <a:off x="4167360" y="131616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doc_03" descr=""/>
            <p:cNvPicPr/>
            <p:nvPr/>
          </p:nvPicPr>
          <p:blipFill>
            <a:blip r:embed="rId17"/>
            <a:stretch/>
          </p:blipFill>
          <p:spPr>
            <a:xfrm>
              <a:off x="4333680" y="408636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38" name="doc_04" descr=""/>
            <p:cNvPicPr/>
            <p:nvPr/>
          </p:nvPicPr>
          <p:blipFill>
            <a:blip r:embed="rId18"/>
            <a:stretch/>
          </p:blipFill>
          <p:spPr>
            <a:xfrm>
              <a:off x="4251240" y="181152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doc_05gif" descr=""/>
            <p:cNvPicPr/>
            <p:nvPr/>
          </p:nvPicPr>
          <p:blipFill>
            <a:blip r:embed="rId19"/>
            <a:stretch/>
          </p:blipFill>
          <p:spPr>
            <a:xfrm>
              <a:off x="4959720" y="400536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0"/>
            <a:stretch/>
          </p:blipFill>
          <p:spPr>
            <a:xfrm>
              <a:off x="4877280" y="344340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1"/>
            <a:stretch/>
          </p:blipFill>
          <p:spPr>
            <a:xfrm>
              <a:off x="4692960" y="135576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doc_01" descr=""/>
            <p:cNvPicPr/>
            <p:nvPr/>
          </p:nvPicPr>
          <p:blipFill>
            <a:blip r:embed="rId22"/>
            <a:stretch/>
          </p:blipFill>
          <p:spPr>
            <a:xfrm>
              <a:off x="5169240" y="197028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3"/>
            <a:stretch/>
          </p:blipFill>
          <p:spPr>
            <a:xfrm>
              <a:off x="5209560" y="456408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4"/>
            <a:stretch/>
          </p:blipFill>
          <p:spPr>
            <a:xfrm>
              <a:off x="4667760" y="197028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5"/>
            <a:stretch/>
          </p:blipFill>
          <p:spPr>
            <a:xfrm>
              <a:off x="5209560" y="141300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 txBox="1"/>
          <p:nvPr/>
        </p:nvSpPr>
        <p:spPr>
          <a:xfrm>
            <a:off x="3006720" y="1112760"/>
            <a:ext cx="237960" cy="1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941480" y="2228760"/>
            <a:ext cx="947160" cy="396720"/>
            <a:chOff x="1941480" y="2228760"/>
            <a:chExt cx="947160" cy="396720"/>
          </a:xfrm>
        </p:grpSpPr>
        <p:sp>
          <p:nvSpPr>
            <p:cNvPr id="248" name=""/>
            <p:cNvSpPr/>
            <p:nvPr/>
          </p:nvSpPr>
          <p:spPr>
            <a:xfrm>
              <a:off x="1941480" y="233352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256840" y="222876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onto_01" descr=""/>
          <p:cNvPicPr/>
          <p:nvPr/>
        </p:nvPicPr>
        <p:blipFill>
          <a:blip r:embed="rId26"/>
          <a:stretch/>
        </p:blipFill>
        <p:spPr>
          <a:xfrm>
            <a:off x="4309920" y="3741840"/>
            <a:ext cx="314640" cy="317520"/>
          </a:xfrm>
          <a:prstGeom prst="rect">
            <a:avLst/>
          </a:prstGeom>
          <a:ln w="0">
            <a:noFill/>
          </a:ln>
        </p:spPr>
      </p:pic>
      <p:pic>
        <p:nvPicPr>
          <p:cNvPr id="251" name="onto_02" descr=""/>
          <p:cNvPicPr/>
          <p:nvPr/>
        </p:nvPicPr>
        <p:blipFill>
          <a:blip r:embed="rId27"/>
          <a:stretch/>
        </p:blipFill>
        <p:spPr>
          <a:xfrm>
            <a:off x="4467240" y="4618080"/>
            <a:ext cx="35568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93F3-8FB6-482A-953A-903C604CBC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254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256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65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7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68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9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3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275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76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7" name=""/>
          <p:cNvGrpSpPr/>
          <p:nvPr/>
        </p:nvGrpSpPr>
        <p:grpSpPr>
          <a:xfrm>
            <a:off x="7346880" y="4140360"/>
            <a:ext cx="1106280" cy="1193760"/>
            <a:chOff x="7346880" y="4140360"/>
            <a:chExt cx="1106280" cy="1193760"/>
          </a:xfrm>
        </p:grpSpPr>
        <p:sp>
          <p:nvSpPr>
            <p:cNvPr id="278" name=""/>
            <p:cNvSpPr/>
            <p:nvPr/>
          </p:nvSpPr>
          <p:spPr>
            <a:xfrm>
              <a:off x="7346880" y="508644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505280" y="4219560"/>
              <a:ext cx="430200" cy="903600"/>
              <a:chOff x="7505280" y="4219560"/>
              <a:chExt cx="430200" cy="9036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7629840" y="426996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741080" y="421956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651440" y="448164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0280" y="448992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504920" y="474840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684920" y="474768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7938720" y="4140360"/>
              <a:ext cx="473400" cy="396720"/>
              <a:chOff x="7938720" y="4140360"/>
              <a:chExt cx="473400" cy="396720"/>
            </a:xfrm>
          </p:grpSpPr>
          <p:sp>
            <p:nvSpPr>
              <p:cNvPr id="287" name=""/>
              <p:cNvSpPr/>
              <p:nvPr/>
            </p:nvSpPr>
            <p:spPr>
              <a:xfrm>
                <a:off x="7938720" y="414036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8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8055000" y="42105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9" name=""/>
          <p:cNvGrpSpPr/>
          <p:nvPr/>
        </p:nvGrpSpPr>
        <p:grpSpPr>
          <a:xfrm>
            <a:off x="5689440" y="4179960"/>
            <a:ext cx="1697040" cy="995400"/>
            <a:chOff x="5689440" y="4179960"/>
            <a:chExt cx="1697040" cy="995400"/>
          </a:xfrm>
        </p:grpSpPr>
        <p:pic>
          <p:nvPicPr>
            <p:cNvPr id="290" name="" descr=""/>
            <p:cNvPicPr/>
            <p:nvPr/>
          </p:nvPicPr>
          <p:blipFill>
            <a:blip r:embed="rId7"/>
            <a:stretch/>
          </p:blipFill>
          <p:spPr>
            <a:xfrm>
              <a:off x="5689440" y="465768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8"/>
            <a:stretch/>
          </p:blipFill>
          <p:spPr>
            <a:xfrm>
              <a:off x="7149960" y="465768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5965560" y="4179960"/>
              <a:ext cx="1104840" cy="995400"/>
              <a:chOff x="5965560" y="4179960"/>
              <a:chExt cx="1104840" cy="9954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5965560" y="4179960"/>
                <a:ext cx="1026000" cy="902880"/>
                <a:chOff x="5965560" y="4179960"/>
                <a:chExt cx="1026000" cy="902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965560" y="444600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965560" y="41799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83200" y="44485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60120" y="46814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042240" y="42105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9" name=""/>
              <p:cNvGrpSpPr/>
              <p:nvPr/>
            </p:nvGrpSpPr>
            <p:grpSpPr>
              <a:xfrm>
                <a:off x="6004800" y="4219560"/>
                <a:ext cx="1026000" cy="903240"/>
                <a:chOff x="6004800" y="4219560"/>
                <a:chExt cx="1026000" cy="9032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004800" y="448560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04800" y="42195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22440" y="448848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399360" y="47210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1480" y="42501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6044400" y="4272120"/>
                <a:ext cx="1026000" cy="903240"/>
                <a:chOff x="6044400" y="4272120"/>
                <a:chExt cx="1026000" cy="903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044400" y="453816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44400" y="42721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62040" y="454104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438960" y="47736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21080" y="43027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11" name="onto_01" descr=""/>
          <p:cNvPicPr/>
          <p:nvPr/>
        </p:nvPicPr>
        <p:blipFill>
          <a:blip r:embed="rId15"/>
          <a:stretch/>
        </p:blipFill>
        <p:spPr>
          <a:xfrm>
            <a:off x="4309920" y="3741840"/>
            <a:ext cx="314640" cy="317520"/>
          </a:xfrm>
          <a:prstGeom prst="rect">
            <a:avLst/>
          </a:prstGeom>
          <a:ln w="0">
            <a:noFill/>
          </a:ln>
        </p:spPr>
      </p:pic>
      <p:pic>
        <p:nvPicPr>
          <p:cNvPr id="312" name="onto_02" descr=""/>
          <p:cNvPicPr/>
          <p:nvPr/>
        </p:nvPicPr>
        <p:blipFill>
          <a:blip r:embed="rId16"/>
          <a:stretch/>
        </p:blipFill>
        <p:spPr>
          <a:xfrm>
            <a:off x="4467240" y="461808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7426440" y="3406680"/>
            <a:ext cx="631800" cy="772920"/>
            <a:chOff x="7426440" y="3406680"/>
            <a:chExt cx="631800" cy="772920"/>
          </a:xfrm>
        </p:grpSpPr>
        <p:pic>
          <p:nvPicPr>
            <p:cNvPr id="314" name="" descr=""/>
            <p:cNvPicPr/>
            <p:nvPr/>
          </p:nvPicPr>
          <p:blipFill>
            <a:blip r:embed="rId17"/>
            <a:stretch/>
          </p:blipFill>
          <p:spPr>
            <a:xfrm>
              <a:off x="7623360" y="393984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" name=""/>
            <p:cNvGrpSpPr/>
            <p:nvPr/>
          </p:nvGrpSpPr>
          <p:grpSpPr>
            <a:xfrm>
              <a:off x="7426440" y="3406680"/>
              <a:ext cx="631800" cy="490320"/>
              <a:chOff x="7426440" y="3406680"/>
              <a:chExt cx="631800" cy="490320"/>
            </a:xfrm>
          </p:grpSpPr>
          <p:sp>
            <p:nvSpPr>
              <p:cNvPr id="316" name=""/>
              <p:cNvSpPr/>
              <p:nvPr/>
            </p:nvSpPr>
            <p:spPr>
              <a:xfrm>
                <a:off x="7465680" y="345888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26440" y="340668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1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663320" y="363996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9" name="doc_01" descr=""/>
          <p:cNvPicPr/>
          <p:nvPr/>
        </p:nvPicPr>
        <p:blipFill>
          <a:blip r:embed="rId19"/>
          <a:stretch/>
        </p:blipFill>
        <p:spPr>
          <a:xfrm>
            <a:off x="5127480" y="193032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20" name="doc_01" descr=""/>
          <p:cNvPicPr/>
          <p:nvPr/>
        </p:nvPicPr>
        <p:blipFill>
          <a:blip r:embed="rId20"/>
          <a:stretch/>
        </p:blipFill>
        <p:spPr>
          <a:xfrm>
            <a:off x="5084640" y="185112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21" name="memory_01" descr=""/>
          <p:cNvPicPr/>
          <p:nvPr/>
        </p:nvPicPr>
        <p:blipFill>
          <a:blip r:embed="rId21"/>
          <a:stretch/>
        </p:blipFill>
        <p:spPr>
          <a:xfrm>
            <a:off x="4167360" y="1316160"/>
            <a:ext cx="350640" cy="336600"/>
          </a:xfrm>
          <a:prstGeom prst="rect">
            <a:avLst/>
          </a:prstGeom>
          <a:ln w="0">
            <a:noFill/>
          </a:ln>
        </p:spPr>
      </p:pic>
      <p:pic>
        <p:nvPicPr>
          <p:cNvPr id="322" name="doc_03" descr=""/>
          <p:cNvPicPr/>
          <p:nvPr/>
        </p:nvPicPr>
        <p:blipFill>
          <a:blip r:embed="rId22"/>
          <a:stretch/>
        </p:blipFill>
        <p:spPr>
          <a:xfrm>
            <a:off x="4334040" y="4086360"/>
            <a:ext cx="417240" cy="396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323" name="doc_04" descr=""/>
          <p:cNvPicPr/>
          <p:nvPr/>
        </p:nvPicPr>
        <p:blipFill>
          <a:blip r:embed="rId23"/>
          <a:stretch/>
        </p:blipFill>
        <p:spPr>
          <a:xfrm>
            <a:off x="4251240" y="1811160"/>
            <a:ext cx="292320" cy="277920"/>
          </a:xfrm>
          <a:prstGeom prst="rect">
            <a:avLst/>
          </a:prstGeom>
          <a:ln w="0">
            <a:noFill/>
          </a:ln>
        </p:spPr>
      </p:pic>
      <p:pic>
        <p:nvPicPr>
          <p:cNvPr id="324" name="doc_05gif" descr=""/>
          <p:cNvPicPr/>
          <p:nvPr/>
        </p:nvPicPr>
        <p:blipFill>
          <a:blip r:embed="rId24"/>
          <a:stretch/>
        </p:blipFill>
        <p:spPr>
          <a:xfrm>
            <a:off x="4959360" y="4005360"/>
            <a:ext cx="322200" cy="291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5"/>
          <a:stretch/>
        </p:blipFill>
        <p:spPr>
          <a:xfrm>
            <a:off x="4876920" y="3443400"/>
            <a:ext cx="434880" cy="4158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6"/>
          <a:stretch/>
        </p:blipFill>
        <p:spPr>
          <a:xfrm>
            <a:off x="4692600" y="1355760"/>
            <a:ext cx="351000" cy="336600"/>
          </a:xfrm>
          <a:prstGeom prst="rect">
            <a:avLst/>
          </a:prstGeom>
          <a:ln w="0">
            <a:noFill/>
          </a:ln>
        </p:spPr>
      </p:pic>
      <p:pic>
        <p:nvPicPr>
          <p:cNvPr id="327" name="doc_01" descr=""/>
          <p:cNvPicPr/>
          <p:nvPr/>
        </p:nvPicPr>
        <p:blipFill>
          <a:blip r:embed="rId27"/>
          <a:stretch/>
        </p:blipFill>
        <p:spPr>
          <a:xfrm>
            <a:off x="5168880" y="1969920"/>
            <a:ext cx="227160" cy="27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8"/>
          <a:stretch/>
        </p:blipFill>
        <p:spPr>
          <a:xfrm>
            <a:off x="5210280" y="4564080"/>
            <a:ext cx="333360" cy="317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9"/>
          <a:stretch/>
        </p:blipFill>
        <p:spPr>
          <a:xfrm>
            <a:off x="4667400" y="1969920"/>
            <a:ext cx="352440" cy="335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0"/>
          <a:stretch/>
        </p:blipFill>
        <p:spPr>
          <a:xfrm>
            <a:off x="5210280" y="1413000"/>
            <a:ext cx="333360" cy="318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7189920" y="437832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491080" y="1676160"/>
            <a:ext cx="2247840" cy="2503800"/>
            <a:chOff x="5491080" y="1676160"/>
            <a:chExt cx="2247840" cy="2503800"/>
          </a:xfrm>
        </p:grpSpPr>
        <p:sp>
          <p:nvSpPr>
            <p:cNvPr id="333" name=""/>
            <p:cNvSpPr/>
            <p:nvPr/>
          </p:nvSpPr>
          <p:spPr>
            <a:xfrm flipH="1" flipV="1">
              <a:off x="5491080" y="167616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07280" y="298476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597360" y="330372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89560" y="330372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295600" y="3184560"/>
            <a:ext cx="2130840" cy="1035000"/>
            <a:chOff x="5295600" y="3184560"/>
            <a:chExt cx="2130840" cy="1035000"/>
          </a:xfrm>
        </p:grpSpPr>
        <p:sp>
          <p:nvSpPr>
            <p:cNvPr id="338" name=""/>
            <p:cNvSpPr/>
            <p:nvPr/>
          </p:nvSpPr>
          <p:spPr>
            <a:xfrm flipH="1">
              <a:off x="5295600" y="318456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124680" y="324468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80360" y="330372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CA3A-BB29-4908-BC68-C1AF5415BF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343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345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348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3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54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6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357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8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2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63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36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6" name=""/>
          <p:cNvGrpSpPr/>
          <p:nvPr/>
        </p:nvGrpSpPr>
        <p:grpSpPr>
          <a:xfrm>
            <a:off x="1152360" y="3382920"/>
            <a:ext cx="1101240" cy="1552680"/>
            <a:chOff x="1152360" y="3382920"/>
            <a:chExt cx="1101240" cy="1552680"/>
          </a:xfrm>
        </p:grpSpPr>
        <p:sp>
          <p:nvSpPr>
            <p:cNvPr id="367" name=""/>
            <p:cNvSpPr/>
            <p:nvPr/>
          </p:nvSpPr>
          <p:spPr>
            <a:xfrm>
              <a:off x="1152360" y="433872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823760" y="3382920"/>
              <a:ext cx="429840" cy="1181160"/>
              <a:chOff x="1823760" y="3382920"/>
              <a:chExt cx="429840" cy="118116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1823760" y="3382920"/>
                <a:ext cx="210960" cy="97920"/>
                <a:chOff x="1823760" y="3382920"/>
                <a:chExt cx="210960" cy="9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823760" y="345672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75600" y="339336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948320" y="338292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88640" y="342036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898280" y="3452760"/>
                <a:ext cx="355320" cy="1111320"/>
                <a:chOff x="1898280" y="3452760"/>
                <a:chExt cx="355320" cy="11113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962360" y="363564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090160" y="345276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98280" y="385164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014920" y="383976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75320" y="410040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85840" y="410040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1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863000" y="344412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2" name=""/>
          <p:cNvGrpSpPr/>
          <p:nvPr/>
        </p:nvGrpSpPr>
        <p:grpSpPr>
          <a:xfrm>
            <a:off x="1074600" y="993600"/>
            <a:ext cx="1774800" cy="1433520"/>
            <a:chOff x="1074600" y="993600"/>
            <a:chExt cx="1774800" cy="1433520"/>
          </a:xfrm>
        </p:grpSpPr>
        <p:sp>
          <p:nvSpPr>
            <p:cNvPr id="383" name=""/>
            <p:cNvSpPr/>
            <p:nvPr/>
          </p:nvSpPr>
          <p:spPr>
            <a:xfrm>
              <a:off x="1074600" y="206820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626840" y="993600"/>
              <a:ext cx="789120" cy="1231920"/>
              <a:chOff x="1626840" y="993600"/>
              <a:chExt cx="789120" cy="123192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1902240" y="1441440"/>
                <a:ext cx="477360" cy="784080"/>
                <a:chOff x="1902240" y="1441440"/>
                <a:chExt cx="477360" cy="7840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111400" y="170208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54600" y="194868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86840" y="193500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902240" y="170280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22280" y="144144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067480" y="148500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913040" y="993600"/>
                <a:ext cx="236520" cy="239040"/>
                <a:chOff x="1913040" y="993600"/>
                <a:chExt cx="236520" cy="2390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913040" y="99360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4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40040" y="101520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395" name=""/>
              <p:cNvGrpSpPr/>
              <p:nvPr/>
            </p:nvGrpSpPr>
            <p:grpSpPr>
              <a:xfrm>
                <a:off x="1626840" y="1117080"/>
                <a:ext cx="255240" cy="278640"/>
                <a:chOff x="1626840" y="1117080"/>
                <a:chExt cx="255240" cy="278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626840" y="111708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7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35120" y="113580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8" name=""/>
              <p:cNvGrpSpPr/>
              <p:nvPr/>
            </p:nvGrpSpPr>
            <p:grpSpPr>
              <a:xfrm>
                <a:off x="1784520" y="1436040"/>
                <a:ext cx="204120" cy="245160"/>
                <a:chOff x="1784520" y="1436040"/>
                <a:chExt cx="204120" cy="2451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784520" y="143604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0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05040" y="145260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2179080" y="1157040"/>
                <a:ext cx="236880" cy="278640"/>
                <a:chOff x="2179080" y="1157040"/>
                <a:chExt cx="236880" cy="2786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179080" y="115704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3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184480" y="119052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04" name=""/>
          <p:cNvGrpSpPr/>
          <p:nvPr/>
        </p:nvGrpSpPr>
        <p:grpSpPr>
          <a:xfrm>
            <a:off x="7346880" y="4140360"/>
            <a:ext cx="1106280" cy="1193760"/>
            <a:chOff x="7346880" y="4140360"/>
            <a:chExt cx="1106280" cy="1193760"/>
          </a:xfrm>
        </p:grpSpPr>
        <p:sp>
          <p:nvSpPr>
            <p:cNvPr id="405" name=""/>
            <p:cNvSpPr/>
            <p:nvPr/>
          </p:nvSpPr>
          <p:spPr>
            <a:xfrm>
              <a:off x="7346880" y="508644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7505280" y="4219560"/>
              <a:ext cx="430200" cy="903600"/>
              <a:chOff x="7505280" y="4219560"/>
              <a:chExt cx="430200" cy="90360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7629840" y="426996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741080" y="421956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651440" y="448164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550280" y="448992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504920" y="474840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684920" y="474768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938720" y="4140360"/>
              <a:ext cx="473400" cy="396720"/>
              <a:chOff x="7938720" y="4140360"/>
              <a:chExt cx="473400" cy="396720"/>
            </a:xfrm>
          </p:grpSpPr>
          <p:sp>
            <p:nvSpPr>
              <p:cNvPr id="414" name=""/>
              <p:cNvSpPr/>
              <p:nvPr/>
            </p:nvSpPr>
            <p:spPr>
              <a:xfrm>
                <a:off x="7938720" y="414036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5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8055000" y="42105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6" name=""/>
          <p:cNvGrpSpPr/>
          <p:nvPr/>
        </p:nvGrpSpPr>
        <p:grpSpPr>
          <a:xfrm>
            <a:off x="2416320" y="1405080"/>
            <a:ext cx="1617120" cy="903240"/>
            <a:chOff x="2416320" y="1405080"/>
            <a:chExt cx="1617120" cy="903240"/>
          </a:xfrm>
        </p:grpSpPr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>
              <a:off x="2416320" y="188136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2692080" y="1405080"/>
              <a:ext cx="1025280" cy="903240"/>
              <a:chOff x="2692080" y="1405080"/>
              <a:chExt cx="1025280" cy="903240"/>
            </a:xfrm>
          </p:grpSpPr>
          <p:sp>
            <p:nvSpPr>
              <p:cNvPr id="419" name=""/>
              <p:cNvSpPr/>
              <p:nvPr/>
            </p:nvSpPr>
            <p:spPr>
              <a:xfrm>
                <a:off x="2692080" y="167112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92080" y="140508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09720" y="167400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86280" y="190656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68760" y="143568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4" name="" descr=""/>
            <p:cNvPicPr/>
            <p:nvPr/>
          </p:nvPicPr>
          <p:blipFill>
            <a:blip r:embed="rId15"/>
            <a:stretch/>
          </p:blipFill>
          <p:spPr>
            <a:xfrm>
              <a:off x="3796920" y="187020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"/>
          <p:cNvGrpSpPr/>
          <p:nvPr/>
        </p:nvGrpSpPr>
        <p:grpSpPr>
          <a:xfrm>
            <a:off x="5689440" y="4179960"/>
            <a:ext cx="1697040" cy="995400"/>
            <a:chOff x="5689440" y="4179960"/>
            <a:chExt cx="1697040" cy="995400"/>
          </a:xfrm>
        </p:grpSpPr>
        <p:pic>
          <p:nvPicPr>
            <p:cNvPr id="426" name="" descr=""/>
            <p:cNvPicPr/>
            <p:nvPr/>
          </p:nvPicPr>
          <p:blipFill>
            <a:blip r:embed="rId16"/>
            <a:stretch/>
          </p:blipFill>
          <p:spPr>
            <a:xfrm>
              <a:off x="5689440" y="465768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7"/>
            <a:stretch/>
          </p:blipFill>
          <p:spPr>
            <a:xfrm>
              <a:off x="7149960" y="465768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5965560" y="4179960"/>
              <a:ext cx="1104840" cy="995400"/>
              <a:chOff x="5965560" y="4179960"/>
              <a:chExt cx="1104840" cy="9954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5965560" y="4179960"/>
                <a:ext cx="1026000" cy="902880"/>
                <a:chOff x="5965560" y="4179960"/>
                <a:chExt cx="1026000" cy="902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965560" y="444600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965560" y="41799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83200" y="44485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360120" y="46814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042240" y="42105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5" name=""/>
              <p:cNvGrpSpPr/>
              <p:nvPr/>
            </p:nvGrpSpPr>
            <p:grpSpPr>
              <a:xfrm>
                <a:off x="6004800" y="4219560"/>
                <a:ext cx="1026000" cy="903240"/>
                <a:chOff x="6004800" y="4219560"/>
                <a:chExt cx="1026000" cy="9032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004800" y="448560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04800" y="42195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22440" y="448848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399360" y="47210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081480" y="42501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1" name=""/>
              <p:cNvGrpSpPr/>
              <p:nvPr/>
            </p:nvGrpSpPr>
            <p:grpSpPr>
              <a:xfrm>
                <a:off x="6044400" y="4272120"/>
                <a:ext cx="1026000" cy="903240"/>
                <a:chOff x="6044400" y="4272120"/>
                <a:chExt cx="1026000" cy="9032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044400" y="453816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044400" y="42721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62040" y="454104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438960" y="47736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121080" y="43027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47" name=""/>
          <p:cNvGrpSpPr/>
          <p:nvPr/>
        </p:nvGrpSpPr>
        <p:grpSpPr>
          <a:xfrm>
            <a:off x="2455920" y="3502080"/>
            <a:ext cx="2168640" cy="677520"/>
            <a:chOff x="2455920" y="3502080"/>
            <a:chExt cx="2168640" cy="677520"/>
          </a:xfrm>
        </p:grpSpPr>
        <p:pic>
          <p:nvPicPr>
            <p:cNvPr id="448" name="" descr=""/>
            <p:cNvPicPr/>
            <p:nvPr/>
          </p:nvPicPr>
          <p:blipFill>
            <a:blip r:embed="rId24"/>
            <a:stretch/>
          </p:blipFill>
          <p:spPr>
            <a:xfrm>
              <a:off x="245592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5"/>
            <a:stretch/>
          </p:blipFill>
          <p:spPr>
            <a:xfrm>
              <a:off x="375768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"/>
            <p:cNvGrpSpPr/>
            <p:nvPr/>
          </p:nvGrpSpPr>
          <p:grpSpPr>
            <a:xfrm>
              <a:off x="2652840" y="3502080"/>
              <a:ext cx="1008000" cy="677520"/>
              <a:chOff x="2652840" y="3502080"/>
              <a:chExt cx="1008000" cy="677520"/>
            </a:xfrm>
          </p:grpSpPr>
          <p:sp>
            <p:nvSpPr>
              <p:cNvPr id="451" name=""/>
              <p:cNvSpPr/>
              <p:nvPr/>
            </p:nvSpPr>
            <p:spPr>
              <a:xfrm>
                <a:off x="2810520" y="354168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2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968560" y="377532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2652840" y="350208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4" name="onto_01" descr=""/>
            <p:cNvPicPr/>
            <p:nvPr/>
          </p:nvPicPr>
          <p:blipFill>
            <a:blip r:embed="rId27"/>
            <a:stretch/>
          </p:blipFill>
          <p:spPr>
            <a:xfrm>
              <a:off x="4310280" y="374184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2243160" y="4253040"/>
            <a:ext cx="1631880" cy="881640"/>
            <a:chOff x="2243160" y="4253040"/>
            <a:chExt cx="1631880" cy="881640"/>
          </a:xfrm>
        </p:grpSpPr>
        <p:grpSp>
          <p:nvGrpSpPr>
            <p:cNvPr id="456" name=""/>
            <p:cNvGrpSpPr/>
            <p:nvPr/>
          </p:nvGrpSpPr>
          <p:grpSpPr>
            <a:xfrm>
              <a:off x="2243160" y="4536720"/>
              <a:ext cx="1631880" cy="597960"/>
              <a:chOff x="2243160" y="4536720"/>
              <a:chExt cx="1631880" cy="59796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2000" y="4576320"/>
                <a:ext cx="1340640" cy="55836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8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361240" y="4780080"/>
                <a:ext cx="2757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2243160" y="4536720"/>
                <a:ext cx="74916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44840" y="4736160"/>
                <a:ext cx="13302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1" name="" descr=""/>
            <p:cNvPicPr/>
            <p:nvPr/>
          </p:nvPicPr>
          <p:blipFill>
            <a:blip r:embed="rId29"/>
            <a:stretch/>
          </p:blipFill>
          <p:spPr>
            <a:xfrm>
              <a:off x="3046320" y="4253040"/>
              <a:ext cx="23616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"/>
          <p:cNvGrpSpPr/>
          <p:nvPr/>
        </p:nvGrpSpPr>
        <p:grpSpPr>
          <a:xfrm>
            <a:off x="3757680" y="4618080"/>
            <a:ext cx="1065240" cy="357120"/>
            <a:chOff x="3757680" y="4618080"/>
            <a:chExt cx="1065240" cy="357120"/>
          </a:xfrm>
        </p:grpSpPr>
        <p:pic>
          <p:nvPicPr>
            <p:cNvPr id="463" name="" descr=""/>
            <p:cNvPicPr/>
            <p:nvPr/>
          </p:nvPicPr>
          <p:blipFill>
            <a:blip r:embed="rId30"/>
            <a:stretch/>
          </p:blipFill>
          <p:spPr>
            <a:xfrm>
              <a:off x="3757680" y="46976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nto_02" descr=""/>
            <p:cNvPicPr/>
            <p:nvPr/>
          </p:nvPicPr>
          <p:blipFill>
            <a:blip r:embed="rId31"/>
            <a:stretch/>
          </p:blipFill>
          <p:spPr>
            <a:xfrm>
              <a:off x="4467240" y="461808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"/>
          <p:cNvGrpSpPr/>
          <p:nvPr/>
        </p:nvGrpSpPr>
        <p:grpSpPr>
          <a:xfrm>
            <a:off x="7426440" y="3406680"/>
            <a:ext cx="631800" cy="772920"/>
            <a:chOff x="7426440" y="3406680"/>
            <a:chExt cx="631800" cy="772920"/>
          </a:xfrm>
        </p:grpSpPr>
        <p:pic>
          <p:nvPicPr>
            <p:cNvPr id="466" name="" descr=""/>
            <p:cNvPicPr/>
            <p:nvPr/>
          </p:nvPicPr>
          <p:blipFill>
            <a:blip r:embed="rId32"/>
            <a:stretch/>
          </p:blipFill>
          <p:spPr>
            <a:xfrm>
              <a:off x="7623360" y="393984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7" name=""/>
            <p:cNvGrpSpPr/>
            <p:nvPr/>
          </p:nvGrpSpPr>
          <p:grpSpPr>
            <a:xfrm>
              <a:off x="7426440" y="3406680"/>
              <a:ext cx="631800" cy="490320"/>
              <a:chOff x="7426440" y="3406680"/>
              <a:chExt cx="631800" cy="490320"/>
            </a:xfrm>
          </p:grpSpPr>
          <p:sp>
            <p:nvSpPr>
              <p:cNvPr id="468" name=""/>
              <p:cNvSpPr/>
              <p:nvPr/>
            </p:nvSpPr>
            <p:spPr>
              <a:xfrm>
                <a:off x="7465680" y="345888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426440" y="340668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663320" y="363996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71" name=""/>
          <p:cNvGrpSpPr/>
          <p:nvPr/>
        </p:nvGrpSpPr>
        <p:grpSpPr>
          <a:xfrm>
            <a:off x="4167360" y="1316160"/>
            <a:ext cx="1375920" cy="3565440"/>
            <a:chOff x="4167360" y="1316160"/>
            <a:chExt cx="1375920" cy="3565440"/>
          </a:xfrm>
        </p:grpSpPr>
        <p:pic>
          <p:nvPicPr>
            <p:cNvPr id="472" name="doc_01" descr=""/>
            <p:cNvPicPr/>
            <p:nvPr/>
          </p:nvPicPr>
          <p:blipFill>
            <a:blip r:embed="rId34"/>
            <a:stretch/>
          </p:blipFill>
          <p:spPr>
            <a:xfrm>
              <a:off x="5127480" y="193032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doc_01" descr=""/>
            <p:cNvPicPr/>
            <p:nvPr/>
          </p:nvPicPr>
          <p:blipFill>
            <a:blip r:embed="rId35"/>
            <a:stretch/>
          </p:blipFill>
          <p:spPr>
            <a:xfrm>
              <a:off x="5085720" y="185112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memory_01" descr=""/>
            <p:cNvPicPr/>
            <p:nvPr/>
          </p:nvPicPr>
          <p:blipFill>
            <a:blip r:embed="rId36"/>
            <a:stretch/>
          </p:blipFill>
          <p:spPr>
            <a:xfrm>
              <a:off x="4167360" y="131616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doc_03" descr=""/>
            <p:cNvPicPr/>
            <p:nvPr/>
          </p:nvPicPr>
          <p:blipFill>
            <a:blip r:embed="rId37"/>
            <a:stretch/>
          </p:blipFill>
          <p:spPr>
            <a:xfrm>
              <a:off x="4333680" y="408636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476" name="doc_04" descr=""/>
            <p:cNvPicPr/>
            <p:nvPr/>
          </p:nvPicPr>
          <p:blipFill>
            <a:blip r:embed="rId38"/>
            <a:stretch/>
          </p:blipFill>
          <p:spPr>
            <a:xfrm>
              <a:off x="4251240" y="181152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doc_05gif" descr=""/>
            <p:cNvPicPr/>
            <p:nvPr/>
          </p:nvPicPr>
          <p:blipFill>
            <a:blip r:embed="rId39"/>
            <a:stretch/>
          </p:blipFill>
          <p:spPr>
            <a:xfrm>
              <a:off x="4959720" y="400536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40"/>
            <a:stretch/>
          </p:blipFill>
          <p:spPr>
            <a:xfrm>
              <a:off x="4877280" y="344340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41"/>
            <a:stretch/>
          </p:blipFill>
          <p:spPr>
            <a:xfrm>
              <a:off x="4692960" y="135576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doc_01" descr=""/>
            <p:cNvPicPr/>
            <p:nvPr/>
          </p:nvPicPr>
          <p:blipFill>
            <a:blip r:embed="rId42"/>
            <a:stretch/>
          </p:blipFill>
          <p:spPr>
            <a:xfrm>
              <a:off x="5169240" y="197028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43"/>
            <a:stretch/>
          </p:blipFill>
          <p:spPr>
            <a:xfrm>
              <a:off x="5209560" y="456408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44"/>
            <a:stretch/>
          </p:blipFill>
          <p:spPr>
            <a:xfrm>
              <a:off x="4667760" y="197028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45"/>
            <a:stretch/>
          </p:blipFill>
          <p:spPr>
            <a:xfrm>
              <a:off x="5209560" y="141300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"/>
          <p:cNvSpPr txBox="1"/>
          <p:nvPr/>
        </p:nvSpPr>
        <p:spPr>
          <a:xfrm>
            <a:off x="2336760" y="425916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006720" y="1112760"/>
            <a:ext cx="237960" cy="1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189920" y="437832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376360" y="3224160"/>
            <a:ext cx="1971720" cy="1273320"/>
            <a:chOff x="2376360" y="3224160"/>
            <a:chExt cx="1971720" cy="1273320"/>
          </a:xfrm>
        </p:grpSpPr>
        <p:sp>
          <p:nvSpPr>
            <p:cNvPr id="488" name=""/>
            <p:cNvSpPr/>
            <p:nvPr/>
          </p:nvSpPr>
          <p:spPr>
            <a:xfrm>
              <a:off x="3678120" y="322416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2376360" y="322416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0800" y="330372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1480" y="2228760"/>
            <a:ext cx="947160" cy="396720"/>
            <a:chOff x="1941480" y="2228760"/>
            <a:chExt cx="947160" cy="396720"/>
          </a:xfrm>
        </p:grpSpPr>
        <p:sp>
          <p:nvSpPr>
            <p:cNvPr id="492" name=""/>
            <p:cNvSpPr/>
            <p:nvPr/>
          </p:nvSpPr>
          <p:spPr>
            <a:xfrm>
              <a:off x="1941480" y="233352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56840" y="222876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491080" y="1676160"/>
            <a:ext cx="2247840" cy="2503800"/>
            <a:chOff x="5491080" y="1676160"/>
            <a:chExt cx="2247840" cy="2503800"/>
          </a:xfrm>
        </p:grpSpPr>
        <p:sp>
          <p:nvSpPr>
            <p:cNvPr id="495" name=""/>
            <p:cNvSpPr/>
            <p:nvPr/>
          </p:nvSpPr>
          <p:spPr>
            <a:xfrm flipH="1" flipV="1">
              <a:off x="5491080" y="167616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07280" y="298476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597360" y="330372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89560" y="330372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295600" y="3184560"/>
            <a:ext cx="2130840" cy="1035000"/>
            <a:chOff x="5295600" y="3184560"/>
            <a:chExt cx="2130840" cy="1035000"/>
          </a:xfrm>
        </p:grpSpPr>
        <p:sp>
          <p:nvSpPr>
            <p:cNvPr id="500" name=""/>
            <p:cNvSpPr/>
            <p:nvPr/>
          </p:nvSpPr>
          <p:spPr>
            <a:xfrm flipH="1">
              <a:off x="5295600" y="318456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124680" y="324468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80360" y="330372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927000" y="762120"/>
            <a:ext cx="8013600" cy="4647960"/>
            <a:chOff x="927000" y="762120"/>
            <a:chExt cx="8013600" cy="4647960"/>
          </a:xfrm>
        </p:grpSpPr>
        <p:sp>
          <p:nvSpPr>
            <p:cNvPr id="504" name=""/>
            <p:cNvSpPr/>
            <p:nvPr/>
          </p:nvSpPr>
          <p:spPr>
            <a:xfrm>
              <a:off x="939600" y="76212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39600" y="518148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39600" y="3505320"/>
              <a:ext cx="18288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16520" y="914400"/>
              <a:ext cx="3124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7000" y="4191120"/>
              <a:ext cx="13842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11200" y="518148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64040" y="91440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68400" y="350532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1200" y="449568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1200" y="449568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64040" y="91440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6520" y="914400"/>
              <a:ext cx="0" cy="426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68400" y="350532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8D47-0A78-4AA0-8C80-25F05B14DF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 Corporate Semantic Web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3800" y="1522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00680" indent="-369000">
              <a:lnSpc>
                <a:spcPct val="11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RDF 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Resource Description Framework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95600" indent="-236880">
              <a:lnSpc>
                <a:spcPct val="11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scribe Web resour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95600" indent="-236880">
              <a:lnSpc>
                <a:spcPct val="11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DF Schema (to formalize the ontology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010280" y="2666880"/>
            <a:ext cx="1981440" cy="1981080"/>
            <a:chOff x="7010280" y="2666880"/>
            <a:chExt cx="1981440" cy="1981080"/>
          </a:xfrm>
        </p:grpSpPr>
        <p:sp>
          <p:nvSpPr>
            <p:cNvPr id="520" name=""/>
            <p:cNvSpPr/>
            <p:nvPr/>
          </p:nvSpPr>
          <p:spPr>
            <a:xfrm>
              <a:off x="7010280" y="2666880"/>
              <a:ext cx="198144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93080" y="2754000"/>
              <a:ext cx="412560" cy="4302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0200"/>
                <a:gd name="textAreaBottom" fmla="*/ 410400 h 430200"/>
              </a:gdLst>
              <a:ahLst/>
              <a:rect l="textAreaLeft" t="textAreaTop" r="textAreaRight" b="textAreaBottom"/>
              <a:pathLst>
                <a:path w="21600" h="22523">
                  <a:moveTo>
                    <a:pt x="3562" y="0"/>
                  </a:moveTo>
                  <a:arcTo wR="3562" hR="3562" stAng="16200000" swAng="-5400000"/>
                  <a:lnTo>
                    <a:pt x="0" y="18961"/>
                  </a:lnTo>
                  <a:arcTo wR="3562" hR="3562" stAng="10800000" swAng="-5400000"/>
                  <a:lnTo>
                    <a:pt x="18038" y="2252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96360" y="2754000"/>
              <a:ext cx="412560" cy="4302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0200"/>
                <a:gd name="textAreaBottom" fmla="*/ 410400 h 430200"/>
              </a:gdLst>
              <a:ahLst/>
              <a:rect l="textAreaLeft" t="textAreaTop" r="textAreaRight" b="textAreaBottom"/>
              <a:pathLst>
                <a:path w="21600" h="22523">
                  <a:moveTo>
                    <a:pt x="3562" y="0"/>
                  </a:moveTo>
                  <a:arcTo wR="3562" hR="3562" stAng="16200000" swAng="-5400000"/>
                  <a:lnTo>
                    <a:pt x="0" y="18961"/>
                  </a:lnTo>
                  <a:arcTo wR="3562" hR="3562" stAng="10800000" swAng="-5400000"/>
                  <a:lnTo>
                    <a:pt x="18038" y="2252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96360" y="4133520"/>
              <a:ext cx="412560" cy="4320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2000"/>
                <a:gd name="textAreaBottom" fmla="*/ 412200 h 432000"/>
              </a:gdLst>
              <a:ahLst/>
              <a:rect l="textAreaLeft" t="textAreaTop" r="textAreaRight" b="textAreaBottom"/>
              <a:pathLst>
                <a:path w="21600" h="22617">
                  <a:moveTo>
                    <a:pt x="3562" y="0"/>
                  </a:moveTo>
                  <a:arcTo wR="3562" hR="3562" stAng="16200000" swAng="-5400000"/>
                  <a:lnTo>
                    <a:pt x="0" y="19055"/>
                  </a:lnTo>
                  <a:arcTo wR="3562" hR="3562" stAng="10800000" swAng="-5400000"/>
                  <a:lnTo>
                    <a:pt x="18038" y="2261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93080" y="4133520"/>
              <a:ext cx="412560" cy="4320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2000"/>
                <a:gd name="textAreaBottom" fmla="*/ 412200 h 432000"/>
              </a:gdLst>
              <a:ahLst/>
              <a:rect l="textAreaLeft" t="textAreaTop" r="textAreaRight" b="textAreaBottom"/>
              <a:pathLst>
                <a:path w="21600" h="22617">
                  <a:moveTo>
                    <a:pt x="3562" y="0"/>
                  </a:moveTo>
                  <a:arcTo wR="3562" hR="3562" stAng="16200000" swAng="-5400000"/>
                  <a:lnTo>
                    <a:pt x="0" y="19055"/>
                  </a:lnTo>
                  <a:arcTo wR="3562" hR="3562" stAng="10800000" swAng="-5400000"/>
                  <a:lnTo>
                    <a:pt x="18038" y="2261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51760" y="2790720"/>
              <a:ext cx="336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56480" y="279072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56480" y="4171680"/>
              <a:ext cx="333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51760" y="4171680"/>
              <a:ext cx="3366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93080" y="3528720"/>
              <a:ext cx="3333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32880" y="421632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35760" y="2839680"/>
              <a:ext cx="333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77360" y="3528720"/>
              <a:ext cx="3380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577000">
              <a:off x="7575120" y="3249000"/>
              <a:ext cx="824040" cy="8622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62200"/>
                <a:gd name="textAreaBottom" fmla="*/ 862560 h 86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10280" y="3355560"/>
              <a:ext cx="1981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54160" y="19810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73040" indent="-435600">
              <a:lnSpc>
                <a:spcPct val="12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Approach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tology in RDFS     (O'CoM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scription 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uation in RD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0360" indent="-223920">
              <a:lnSpc>
                <a:spcPct val="12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r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0360" indent="-223920">
              <a:lnSpc>
                <a:spcPct val="12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notations in RDF describ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oward 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corporate semantic w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Annotated world for agent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(quickly intellig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71C1-5516-47A9-A8DD-51B7B00F53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3:44:36Z</dcterms:created>
  <dc:creator>Fabien GANDON</dc:creator>
  <dc:description/>
  <dc:language>en-US</dc:language>
  <cp:lastModifiedBy>Fabien GANDON</cp:lastModifiedBy>
  <dcterms:modified xsi:type="dcterms:W3CDTF">2002-07-19T05:49:45Z</dcterms:modified>
  <cp:revision>81</cp:revision>
  <dc:subject/>
  <dc:title>Séminaire du PSI - 20/12/2001 - Fabien Gandon projet ACACIA INRIA Sophia-Antipolis</dc:title>
</cp:coreProperties>
</file>