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FEC2-DBAD-4D61-A38F-B1361D2BC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54C5A-A193-48EF-BCF3-188395C2D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4455-87D5-4922-AAD8-1E62F892F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7CE4-9E89-4632-9AFE-6B75B981F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09CA-DC47-4962-BF7C-946550C0F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DE65F-C459-42D4-A83E-9812604F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A92D-F0DF-4869-B8DE-11DE24AC0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2C9C-144B-411E-AF1B-902A904AC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AD4B-9ED3-409A-80DD-365479F7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40BB-0361-4B8D-A0B0-706D2C6D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F0C1-CD17-4E38-ACF1-EAE7B60C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EEEE-F660-4144-8E05-64096C764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A4F1-AA4D-4B3F-96C4-8723DAC7B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1052640"/>
            <a:ext cx="9144000" cy="20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.A.I. &amp; S.M. for KM”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 synergy of complementary domains and 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28720" y="3827160"/>
            <a:ext cx="7415280" cy="609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lIns="90000" rIns="90000" tIns="82800" bIns="82800" anchor="t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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he semantic web addicted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lease, raise your hands !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103680" y="-1424520"/>
            <a:ext cx="9133560" cy="9915840"/>
            <a:chOff x="103680" y="-1424520"/>
            <a:chExt cx="9133560" cy="9915840"/>
          </a:xfrm>
        </p:grpSpPr>
        <p:sp>
          <p:nvSpPr>
            <p:cNvPr id="52" name=""/>
            <p:cNvSpPr/>
            <p:nvPr/>
          </p:nvSpPr>
          <p:spPr>
            <a:xfrm>
              <a:off x="2195640" y="3532320"/>
              <a:ext cx="504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4668840" y="855720"/>
              <a:ext cx="0" cy="525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03680" y="3532320"/>
              <a:ext cx="4564800" cy="495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4668840" y="3532320"/>
              <a:ext cx="4568400" cy="495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4668840" y="-1424520"/>
              <a:ext cx="4568400" cy="495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103680" y="-1227240"/>
              <a:ext cx="4564800" cy="475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118160" y="3178080"/>
              <a:ext cx="1054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DAI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82160" y="3159000"/>
              <a:ext cx="997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SW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566520" y="6040440"/>
              <a:ext cx="2405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Ontolog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069800" y="90360"/>
              <a:ext cx="1252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K.M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1262160" y="3578040"/>
            <a:ext cx="2483640" cy="1814040"/>
            <a:chOff x="1262160" y="3578040"/>
            <a:chExt cx="2483640" cy="1814040"/>
          </a:xfrm>
        </p:grpSpPr>
        <p:sp>
          <p:nvSpPr>
            <p:cNvPr id="63" name=""/>
            <p:cNvSpPr/>
            <p:nvPr/>
          </p:nvSpPr>
          <p:spPr>
            <a:xfrm rot="20457000">
              <a:off x="2103480" y="3776040"/>
              <a:ext cx="1450440" cy="141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349" y="600"/>
                  </a:moveTo>
                  <a:arcTo wR="10800" hR="10800" stAng="-4249039" swAng="38019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349" y="600"/>
                  </a:moveTo>
                  <a:arcTo wR="10800" hR="10800" stAng="-4249039" swAng="3801978"/>
                </a:path>
              </a:pathLst>
            </a:custGeom>
            <a:noFill/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2160" y="3860640"/>
              <a:ext cx="213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peech acts, ACL,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ssage primitiv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008080" y="847440"/>
            <a:ext cx="2601000" cy="1917360"/>
            <a:chOff x="2008080" y="847440"/>
            <a:chExt cx="2601000" cy="1917360"/>
          </a:xfrm>
        </p:grpSpPr>
        <p:sp>
          <p:nvSpPr>
            <p:cNvPr id="66" name=""/>
            <p:cNvSpPr/>
            <p:nvPr/>
          </p:nvSpPr>
          <p:spPr>
            <a:xfrm rot="3880200">
              <a:off x="2932920" y="1097280"/>
              <a:ext cx="1450440" cy="14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349" y="600"/>
                  </a:moveTo>
                  <a:arcTo wR="10800" hR="10800" stAng="-4249039" swAng="38019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349" y="600"/>
                  </a:moveTo>
                  <a:arcTo wR="10800" hR="10800" stAng="-4249039" swAng="3801978"/>
                </a:path>
              </a:pathLst>
            </a:custGeom>
            <a:noFill/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08080" y="1413000"/>
              <a:ext cx="2273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atural paradigm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tributed platfor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nd framework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4693320" y="4493160"/>
            <a:ext cx="4513680" cy="1942560"/>
            <a:chOff x="4693320" y="4493160"/>
            <a:chExt cx="4513680" cy="1942560"/>
          </a:xfrm>
        </p:grpSpPr>
        <p:sp>
          <p:nvSpPr>
            <p:cNvPr id="69" name=""/>
            <p:cNvSpPr/>
            <p:nvPr/>
          </p:nvSpPr>
          <p:spPr>
            <a:xfrm rot="14542200">
              <a:off x="4932360" y="4755240"/>
              <a:ext cx="1450440" cy="141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349" y="600"/>
                  </a:moveTo>
                  <a:arcTo wR="10800" hR="10800" stAng="-4249039" swAng="38019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349" y="600"/>
                  </a:moveTo>
                  <a:arcTo wR="10800" hR="10800" stAng="-4249039" swAng="3801978"/>
                </a:path>
              </a:pathLst>
            </a:custGeom>
            <a:noFill/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10480" y="5092560"/>
              <a:ext cx="419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ndard frameworks and langua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line libraries and standard ontolog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3564000" y="1341360"/>
            <a:ext cx="5230800" cy="2016360"/>
            <a:chOff x="3564000" y="1341360"/>
            <a:chExt cx="5230800" cy="2016360"/>
          </a:xfrm>
        </p:grpSpPr>
        <p:sp>
          <p:nvSpPr>
            <p:cNvPr id="72" name=""/>
            <p:cNvSpPr/>
            <p:nvPr/>
          </p:nvSpPr>
          <p:spPr>
            <a:xfrm flipH="1">
              <a:off x="3564000" y="3357720"/>
              <a:ext cx="93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800680" y="1341360"/>
              <a:ext cx="29941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ameworks and langua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 semantic-level messag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erac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V="1">
              <a:off x="4067280" y="1557000"/>
              <a:ext cx="1728720" cy="180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4859280" y="4076640"/>
            <a:ext cx="4552920" cy="642600"/>
            <a:chOff x="4859280" y="4076640"/>
            <a:chExt cx="4552920" cy="642600"/>
          </a:xfrm>
        </p:grpSpPr>
        <p:sp>
          <p:nvSpPr>
            <p:cNvPr id="76" name=""/>
            <p:cNvSpPr/>
            <p:nvPr/>
          </p:nvSpPr>
          <p:spPr>
            <a:xfrm>
              <a:off x="4859280" y="4076640"/>
              <a:ext cx="1441440" cy="2160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62560" y="4076640"/>
              <a:ext cx="314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traweb = good appl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and testb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4859280" y="1599120"/>
            <a:ext cx="4281840" cy="3125160"/>
            <a:chOff x="4859280" y="1599120"/>
            <a:chExt cx="4281840" cy="3125160"/>
          </a:xfrm>
        </p:grpSpPr>
        <p:sp>
          <p:nvSpPr>
            <p:cNvPr id="79" name=""/>
            <p:cNvSpPr/>
            <p:nvPr/>
          </p:nvSpPr>
          <p:spPr>
            <a:xfrm>
              <a:off x="4859280" y="3789360"/>
              <a:ext cx="0" cy="93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rot="9486000">
              <a:off x="5711040" y="1818360"/>
              <a:ext cx="1450440" cy="14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349" y="600"/>
                  </a:moveTo>
                  <a:arcTo wR="10800" hR="10800" stAng="-4249039" swAng="38019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349" y="600"/>
                  </a:moveTo>
                  <a:arcTo wR="10800" hR="10800" stAng="-4249039" swAng="3801978"/>
                </a:path>
              </a:pathLst>
            </a:custGeom>
            <a:noFill/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435000" y="2421000"/>
              <a:ext cx="2706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 typologies, K life-cyc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thods and tools K A/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V="1">
              <a:off x="6156360" y="2708280"/>
              <a:ext cx="287280" cy="433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859280" y="2707920"/>
              <a:ext cx="1584360" cy="1368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103680" y="-1424520"/>
            <a:ext cx="9133560" cy="9915840"/>
            <a:chOff x="103680" y="-1424520"/>
            <a:chExt cx="9133560" cy="9915840"/>
          </a:xfrm>
        </p:grpSpPr>
        <p:sp>
          <p:nvSpPr>
            <p:cNvPr id="85" name=""/>
            <p:cNvSpPr/>
            <p:nvPr/>
          </p:nvSpPr>
          <p:spPr>
            <a:xfrm>
              <a:off x="2195640" y="3532320"/>
              <a:ext cx="504036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4668840" y="855720"/>
              <a:ext cx="0" cy="52560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680" y="3532320"/>
              <a:ext cx="4564800" cy="495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4668840" y="3532320"/>
              <a:ext cx="4568400" cy="495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4668840" y="-1424520"/>
              <a:ext cx="4568400" cy="495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103680" y="-1227240"/>
              <a:ext cx="4564800" cy="4759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118160" y="3178080"/>
              <a:ext cx="1054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DAI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382160" y="3159000"/>
              <a:ext cx="997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SW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66520" y="6040440"/>
              <a:ext cx="24058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Ontolog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069800" y="90360"/>
              <a:ext cx="1252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Arial"/>
                </a:rPr>
                <a:t>K.M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262880" y="3578040"/>
            <a:ext cx="2614680" cy="1814040"/>
            <a:chOff x="1262880" y="3578040"/>
            <a:chExt cx="2614680" cy="1814040"/>
          </a:xfrm>
        </p:grpSpPr>
        <p:sp>
          <p:nvSpPr>
            <p:cNvPr id="96" name=""/>
            <p:cNvSpPr/>
            <p:nvPr/>
          </p:nvSpPr>
          <p:spPr>
            <a:xfrm rot="20457000">
              <a:off x="2103480" y="3776040"/>
              <a:ext cx="1450440" cy="141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349" y="600"/>
                  </a:moveTo>
                  <a:arcTo wR="10800" hR="10800" stAng="-4249039" swAng="38019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349" y="600"/>
                  </a:moveTo>
                  <a:arcTo wR="10800" hR="10800" stAng="-4249039" swAng="3801978"/>
                </a:path>
              </a:pathLst>
            </a:custGeom>
            <a:noFill/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62880" y="3860640"/>
              <a:ext cx="2614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tributed archi.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CSCW) for emergence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intenance and use of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tological consens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2079000" y="847440"/>
            <a:ext cx="2530080" cy="2005560"/>
            <a:chOff x="2079000" y="847440"/>
            <a:chExt cx="2530080" cy="2005560"/>
          </a:xfrm>
        </p:grpSpPr>
        <p:sp>
          <p:nvSpPr>
            <p:cNvPr id="99" name=""/>
            <p:cNvSpPr/>
            <p:nvPr/>
          </p:nvSpPr>
          <p:spPr>
            <a:xfrm rot="3880200">
              <a:off x="2932920" y="1097280"/>
              <a:ext cx="1450440" cy="14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349" y="600"/>
                  </a:moveTo>
                  <a:arcTo wR="10800" hR="10800" stAng="-4249039" swAng="38019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349" y="600"/>
                  </a:moveTo>
                  <a:arcTo wR="10800" hR="10800" stAng="-4249039" swAng="3801978"/>
                </a:path>
              </a:pathLst>
            </a:custGeom>
            <a:noFill/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079000" y="1387440"/>
              <a:ext cx="2134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Good applic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; Studies of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ganizational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nowledge and its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ynamic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499000" y="1599120"/>
            <a:ext cx="3414240" cy="1856160"/>
            <a:chOff x="5499000" y="1599120"/>
            <a:chExt cx="3414240" cy="1856160"/>
          </a:xfrm>
        </p:grpSpPr>
        <p:sp>
          <p:nvSpPr>
            <p:cNvPr id="102" name=""/>
            <p:cNvSpPr/>
            <p:nvPr/>
          </p:nvSpPr>
          <p:spPr>
            <a:xfrm rot="9486000">
              <a:off x="5711040" y="1818360"/>
              <a:ext cx="1450440" cy="141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349" y="600"/>
                  </a:moveTo>
                  <a:arcTo wR="10800" hR="10800" stAng="-4249039" swAng="38019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349" y="600"/>
                  </a:moveTo>
                  <a:arcTo wR="10800" hR="10800" stAng="-4249039" swAng="3801978"/>
                </a:path>
              </a:pathLst>
            </a:custGeom>
            <a:noFill/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018120" y="2492280"/>
              <a:ext cx="28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ndard for intra and in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terprise exchang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4693320" y="4493160"/>
            <a:ext cx="4411080" cy="1942560"/>
            <a:chOff x="4693320" y="4493160"/>
            <a:chExt cx="4411080" cy="1942560"/>
          </a:xfrm>
        </p:grpSpPr>
        <p:sp>
          <p:nvSpPr>
            <p:cNvPr id="105" name=""/>
            <p:cNvSpPr/>
            <p:nvPr/>
          </p:nvSpPr>
          <p:spPr>
            <a:xfrm rot="14542200">
              <a:off x="4932360" y="4755240"/>
              <a:ext cx="1450440" cy="141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349" y="600"/>
                  </a:moveTo>
                  <a:arcTo wR="10800" hR="10800" stAng="-4249039" swAng="3801978"/>
                  <a:lnTo>
                    <a:pt x="10800" y="10800"/>
                  </a:lnTo>
                  <a:close/>
                </a:path>
                <a:path fill="none" w="21600" h="21600">
                  <a:moveTo>
                    <a:pt x="14349" y="600"/>
                  </a:moveTo>
                  <a:arcTo wR="10800" hR="10800" stAng="-4249039" swAng="3801978"/>
                </a:path>
              </a:pathLst>
            </a:custGeom>
            <a:noFill/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4979520" y="5229360"/>
              <a:ext cx="4124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deling primitives, ontology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ngineering methods for SW schem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4859280" y="3789360"/>
            <a:ext cx="3803400" cy="1354680"/>
            <a:chOff x="4859280" y="3789360"/>
            <a:chExt cx="3803400" cy="1354680"/>
          </a:xfrm>
        </p:grpSpPr>
        <p:sp>
          <p:nvSpPr>
            <p:cNvPr id="108" name=""/>
            <p:cNvSpPr/>
            <p:nvPr/>
          </p:nvSpPr>
          <p:spPr>
            <a:xfrm>
              <a:off x="6278400" y="3952800"/>
              <a:ext cx="2384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tology-based K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atfor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nowledge reuse 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ndard ontologi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59280" y="3789360"/>
              <a:ext cx="0" cy="934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V="1">
              <a:off x="4859280" y="4292640"/>
              <a:ext cx="144144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564000" y="1341360"/>
            <a:ext cx="4850640" cy="2016360"/>
            <a:chOff x="3564000" y="1341360"/>
            <a:chExt cx="4850640" cy="2016360"/>
          </a:xfrm>
        </p:grpSpPr>
        <p:sp>
          <p:nvSpPr>
            <p:cNvPr id="112" name=""/>
            <p:cNvSpPr/>
            <p:nvPr/>
          </p:nvSpPr>
          <p:spPr>
            <a:xfrm flipH="1">
              <a:off x="3564000" y="3357720"/>
              <a:ext cx="93672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799960" y="1341360"/>
              <a:ext cx="26146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istributed archi.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intenance and use of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ssertional knowled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067280" y="1557000"/>
              <a:ext cx="1728720" cy="1800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iles and interests of participant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ledge manager, machine learning and dynamic construction of knowledge, web-services and DAMLS, e-mail and SW for KM, information retrieval, constraints, standard upper ontologies, corporate memories, linguist, semantic intraweb, peer two peer for KM, ontology for processes and interaction protocols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tc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new in the semantic web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.R. languages existed before but none of them made it to the real world ; some part also matured (ontolo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 is a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-world appl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he Web) for K.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W is also abou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ffus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ffort for semantic representation on the We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new in the agent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level programming and design paradigm tha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duces conceptual g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tween description of our reality (problems and envisioned solutions) and the description used in the modeling and implementation fra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Agents &amp; SW interesting in KM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A.I. offers a paradigm and architectures t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loy and ma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ver distributed knowledge sp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organizations can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flect, and integr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uman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 we think there exists such a thing as an ontolog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bstract categor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hows up in a lot of 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is not enough, the machine does not understan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car /&gt; any more than “car” ; need for ontologies and S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e both for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Web and for the intrawe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if the human brain representation is completely different of the ones (D)AI is using, if ou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mbolic systems can simul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inferences we want using ontologies then why not use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ology problem: the heart of SW and symbolic D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ry to previous attempts,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ontology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bject and its problematics ar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gniz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be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dress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effort in trying to buil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top ontolog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UMO), and domain ontologies that can be reused and extended by organ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 imposed standar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ke them available and show benefits to everyone  ; otherwise it will not happ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ortance of the content of ontologies and S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antic content or statistic cont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lot of low-quality ontologies on the Web but they will disappear with time / hope they won’t harm the do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nguistic / semiotic leve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oo often mixed-up with the conceptual structures and representation themselves ; need for separation and development of this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of pragmatic use of terms / signs and interpretation not really addres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semantic are largely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estima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tools and methods are too much emphas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have to go through a period of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os befo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ou reach a stable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iod: going to double web before going where everything is in the mark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 initiatives also provid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les, constrai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how it should be don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.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 is more than a simple syntactic sug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large, standard ontologies exis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small but viral” Tim Burners-L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0/20 rule for dissemina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the demand for the rest come af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the right domain to build and demonstrate ontologies (e.g., services, processes, interaction protoco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tend toward a maximum of expressiveness and overlap with other existing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ontologies and standard domain ontologies are vital to foster this convergence and make the compatibility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sible models are important because they give room for further exten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yers? The semantic web cak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? But too much anarchy would be dangero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ontology (essential) + hierarchies of extensions and management of overlaps between ext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mi-automatic mapping for relevant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there a killer-application for the SW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ct answer to my query? Improving search mechanism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chanisms to reduce number of answer?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what if there really are  1,000,000,000,000,000 answ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improvements? Not ambigu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as good as the expressivity of the ontolog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more weighting / fuzzy ? No, just sub-type of Ont. 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nography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mm let say… “Multimedi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y be look at trust, quality and secu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ormal knowledge to evaluate some quality (e.g., coherence) and security (e.g. access polici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for filtering and rank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olution of K.M. (e.g., peer review, trust authorities and (acquaintance) networ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KM and S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rge organizations with intranet = interesting special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aweb application are a good domain of application (information systems and workf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of burden, separation of concerns in the company (worker vs. K Manag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 : get KM outside the organization ; helps link with open web and link with other organiz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enterpri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ny mer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ing shared common ontolo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e internal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 ontology ex: SUMO then extension with domain ont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tological work in the agent field can bring works on speech acts and interaction protocols (FIPA, KQML) to SW and K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exity of ontolog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o complex to be shown to a us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reason to show it to a u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s are a very important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s are not usable for every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intelligent interfaces using semiotic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focus, and interfaces should focus with u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gmatic aspects of language in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 is going to give us this semantic that the SW wants to make avail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f it manually (e.g. building an ontolo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f it from (semi-)automatic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agmatic aspect of the interpretation of the content of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22:20:16Z</dcterms:created>
  <dc:creator>Fabien Gandon</dc:creator>
  <dc:description/>
  <dc:language>en-US</dc:language>
  <cp:lastModifiedBy>Fabien Gandon</cp:lastModifiedBy>
  <dcterms:modified xsi:type="dcterms:W3CDTF">2003-03-27T02:29:00Z</dcterms:modified>
  <cp:revision>35</cp:revision>
  <dc:subject/>
  <dc:title>Wrap-up</dc:title>
</cp:coreProperties>
</file>