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3.wmf" ContentType="image/x-wmf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1.jpeg" ContentType="image/jpeg"/>
  <Override PartName="/ppt/media/image36.png" ContentType="image/png"/>
  <Override PartName="/ppt/media/image6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1296-2AE1-4636-B5A5-2BA286381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883908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3800" y="3422520"/>
            <a:ext cx="883908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95ED2-7076-44FA-9A0B-497260354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2960" y="-36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53800" y="342252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2960" y="342252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C660-5CF3-4321-9AF0-827BD8CAB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284580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2160" y="-360"/>
            <a:ext cx="284580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0880" y="-360"/>
            <a:ext cx="284580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53800" y="3422520"/>
            <a:ext cx="284580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2160" y="3422520"/>
            <a:ext cx="284580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0880" y="3422520"/>
            <a:ext cx="284580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EDA76-3E74-4BF7-A1C3-EEFBF58F5E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380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4313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2960" y="-360"/>
            <a:ext cx="4313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6552720"/>
            <a:ext cx="84582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2960" y="-360"/>
            <a:ext cx="4313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3800" y="342252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5380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2DADF-20AA-4689-9E12-230E193C33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4313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2960" y="-36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2960" y="342252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2960" y="-36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3800" y="3422520"/>
            <a:ext cx="883908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883908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800" y="3422520"/>
            <a:ext cx="883908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2960" y="-36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53800" y="342252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2960" y="342252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284580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2160" y="-360"/>
            <a:ext cx="284580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30880" y="-360"/>
            <a:ext cx="284580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53800" y="3422520"/>
            <a:ext cx="284580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2160" y="3422520"/>
            <a:ext cx="284580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30880" y="3422520"/>
            <a:ext cx="284580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E812-D479-48C1-85C5-7F33D6283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4313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2960" y="-360"/>
            <a:ext cx="4313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F9187-E5C8-4F90-94D0-663690808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EDE4C-E003-4615-922D-F784FCD2B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6552720"/>
            <a:ext cx="84582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4239-3431-45D1-B3C8-1D3A76FA1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2960" y="-360"/>
            <a:ext cx="4313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3800" y="342252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3C25F-C3C7-4C6C-9F56-A0C96701E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4313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2960" y="-36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2960" y="342252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66F9-1738-4E92-BABF-DD508812B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2960" y="-36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53800" y="3422520"/>
            <a:ext cx="883908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547A-EA0A-40DC-86F1-1741C51DB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762120" cy="6858000"/>
          </a:xfrm>
          <a:prstGeom prst="bevel">
            <a:avLst>
              <a:gd name="adj" fmla="val 375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-360" y="6476760"/>
            <a:ext cx="6858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f5f5f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E66F-97D3-4E54-A5F5-A1EA0D09A047}" type="slidenum">
              <a:rPr b="0" lang="en-US" sz="1600" spc="-1" strike="noStrike">
                <a:solidFill>
                  <a:srgbClr val="5f5f5f"/>
                </a:solidFill>
                <a:latin typeface="Impact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65530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25380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378080" indent="-228600">
              <a:spcBef>
                <a:spcPts val="799"/>
              </a:spcBef>
              <a:buClr>
                <a:srgbClr val="777777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79712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21616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21616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21616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" name="bleft1" descr=""/>
          <p:cNvPicPr/>
          <p:nvPr/>
        </p:nvPicPr>
        <p:blipFill>
          <a:blip r:embed="rId4"/>
          <a:stretch/>
        </p:blipFill>
        <p:spPr>
          <a:xfrm>
            <a:off x="596880" y="6705720"/>
            <a:ext cx="123840" cy="114120"/>
          </a:xfrm>
          <a:prstGeom prst="rect">
            <a:avLst/>
          </a:prstGeom>
          <a:ln w="0">
            <a:noFill/>
          </a:ln>
        </p:spPr>
      </p:pic>
      <p:pic>
        <p:nvPicPr>
          <p:cNvPr id="6" name="bright1" descr=""/>
          <p:cNvPicPr/>
          <p:nvPr/>
        </p:nvPicPr>
        <p:blipFill>
          <a:blip r:embed="rId5"/>
          <a:stretch/>
        </p:blipFill>
        <p:spPr>
          <a:xfrm>
            <a:off x="622440" y="3816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7" name="tleft1" descr=""/>
          <p:cNvPicPr/>
          <p:nvPr/>
        </p:nvPicPr>
        <p:blipFill>
          <a:blip r:embed="rId6"/>
          <a:stretch/>
        </p:blipFill>
        <p:spPr>
          <a:xfrm>
            <a:off x="38160" y="3816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8" name="tright1" descr=""/>
          <p:cNvPicPr/>
          <p:nvPr/>
        </p:nvPicPr>
        <p:blipFill>
          <a:blip r:embed="rId7"/>
          <a:stretch/>
        </p:blipFill>
        <p:spPr>
          <a:xfrm>
            <a:off x="25560" y="6705720"/>
            <a:ext cx="114120" cy="11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552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990720"/>
            <a:ext cx="8534160" cy="3352680"/>
          </a:xfrm>
          <a:prstGeom prst="bevel">
            <a:avLst>
              <a:gd name="adj" fmla="val 1468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65530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left1" descr=""/>
          <p:cNvPicPr/>
          <p:nvPr/>
        </p:nvPicPr>
        <p:blipFill>
          <a:blip r:embed="rId4"/>
          <a:stretch/>
        </p:blipFill>
        <p:spPr>
          <a:xfrm>
            <a:off x="8651880" y="4152960"/>
            <a:ext cx="123840" cy="114120"/>
          </a:xfrm>
          <a:prstGeom prst="rect">
            <a:avLst/>
          </a:prstGeom>
          <a:ln w="0">
            <a:noFill/>
          </a:ln>
        </p:spPr>
      </p:pic>
      <p:pic>
        <p:nvPicPr>
          <p:cNvPr id="49" name="bright1" descr=""/>
          <p:cNvPicPr/>
          <p:nvPr/>
        </p:nvPicPr>
        <p:blipFill>
          <a:blip r:embed="rId5"/>
          <a:stretch/>
        </p:blipFill>
        <p:spPr>
          <a:xfrm>
            <a:off x="8658360" y="106668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50" name="tleft1" descr=""/>
          <p:cNvPicPr/>
          <p:nvPr/>
        </p:nvPicPr>
        <p:blipFill>
          <a:blip r:embed="rId6"/>
          <a:stretch/>
        </p:blipFill>
        <p:spPr>
          <a:xfrm>
            <a:off x="380880" y="106668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51" name="tright1" descr=""/>
          <p:cNvPicPr/>
          <p:nvPr/>
        </p:nvPicPr>
        <p:blipFill>
          <a:blip r:embed="rId7"/>
          <a:stretch/>
        </p:blipFill>
        <p:spPr>
          <a:xfrm>
            <a:off x="380880" y="4152960"/>
            <a:ext cx="114480" cy="1141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235080" algn="ctr"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371600" indent="196920" algn="ctr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828800" indent="158760" algn="ctr">
              <a:spcBef>
                <a:spcPts val="499"/>
              </a:spcBef>
              <a:buClr>
                <a:srgbClr val="000000"/>
              </a:buClr>
              <a:buFont typeface="Georgi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1828800" indent="158760">
              <a:spcBef>
                <a:spcPts val="4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1828800" indent="158760">
              <a:spcBef>
                <a:spcPts val="4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3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29.wmf"/><Relationship Id="rId6" Type="http://schemas.openxmlformats.org/officeDocument/2006/relationships/slide" Target="slide28.xml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16.png"/><Relationship Id="rId24" Type="http://schemas.openxmlformats.org/officeDocument/2006/relationships/image" Target="../media/image17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19.png"/><Relationship Id="rId30" Type="http://schemas.openxmlformats.org/officeDocument/2006/relationships/image" Target="../media/image20.png"/><Relationship Id="rId31" Type="http://schemas.openxmlformats.org/officeDocument/2006/relationships/image" Target="../media/image15.png"/><Relationship Id="rId32" Type="http://schemas.openxmlformats.org/officeDocument/2006/relationships/image" Target="../media/image19.png"/><Relationship Id="rId33" Type="http://schemas.openxmlformats.org/officeDocument/2006/relationships/image" Target="../media/image21.png"/><Relationship Id="rId34" Type="http://schemas.openxmlformats.org/officeDocument/2006/relationships/image" Target="../media/image2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23.png"/><Relationship Id="rId38" Type="http://schemas.openxmlformats.org/officeDocument/2006/relationships/image" Target="../media/image10.png"/><Relationship Id="rId39" Type="http://schemas.openxmlformats.org/officeDocument/2006/relationships/image" Target="../media/image11.png"/><Relationship Id="rId40" Type="http://schemas.openxmlformats.org/officeDocument/2006/relationships/image" Target="../media/image13.png"/><Relationship Id="rId41" Type="http://schemas.openxmlformats.org/officeDocument/2006/relationships/image" Target="../media/image24.png"/><Relationship Id="rId42" Type="http://schemas.openxmlformats.org/officeDocument/2006/relationships/image" Target="../media/image25.png"/><Relationship Id="rId43" Type="http://schemas.openxmlformats.org/officeDocument/2006/relationships/image" Target="../media/image12.png"/><Relationship Id="rId44" Type="http://schemas.openxmlformats.org/officeDocument/2006/relationships/image" Target="../media/image26.png"/><Relationship Id="rId45" Type="http://schemas.openxmlformats.org/officeDocument/2006/relationships/image" Target="../media/image27.png"/><Relationship Id="rId46" Type="http://schemas.openxmlformats.org/officeDocument/2006/relationships/image" Target="../media/image28.png"/><Relationship Id="rId4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16.png"/><Relationship Id="rId24" Type="http://schemas.openxmlformats.org/officeDocument/2006/relationships/image" Target="../media/image17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19.png"/><Relationship Id="rId30" Type="http://schemas.openxmlformats.org/officeDocument/2006/relationships/image" Target="../media/image20.png"/><Relationship Id="rId31" Type="http://schemas.openxmlformats.org/officeDocument/2006/relationships/image" Target="../media/image15.png"/><Relationship Id="rId32" Type="http://schemas.openxmlformats.org/officeDocument/2006/relationships/image" Target="../media/image19.png"/><Relationship Id="rId33" Type="http://schemas.openxmlformats.org/officeDocument/2006/relationships/image" Target="../media/image21.png"/><Relationship Id="rId34" Type="http://schemas.openxmlformats.org/officeDocument/2006/relationships/image" Target="../media/image2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23.png"/><Relationship Id="rId38" Type="http://schemas.openxmlformats.org/officeDocument/2006/relationships/image" Target="../media/image10.png"/><Relationship Id="rId39" Type="http://schemas.openxmlformats.org/officeDocument/2006/relationships/image" Target="../media/image11.png"/><Relationship Id="rId40" Type="http://schemas.openxmlformats.org/officeDocument/2006/relationships/image" Target="../media/image13.png"/><Relationship Id="rId41" Type="http://schemas.openxmlformats.org/officeDocument/2006/relationships/image" Target="../media/image24.png"/><Relationship Id="rId42" Type="http://schemas.openxmlformats.org/officeDocument/2006/relationships/image" Target="../media/image25.png"/><Relationship Id="rId43" Type="http://schemas.openxmlformats.org/officeDocument/2006/relationships/image" Target="../media/image12.png"/><Relationship Id="rId44" Type="http://schemas.openxmlformats.org/officeDocument/2006/relationships/image" Target="../media/image26.png"/><Relationship Id="rId45" Type="http://schemas.openxmlformats.org/officeDocument/2006/relationships/image" Target="../media/image27.png"/><Relationship Id="rId46" Type="http://schemas.openxmlformats.org/officeDocument/2006/relationships/image" Target="../media/image28.png"/><Relationship Id="rId4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552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T 2 AI - EMCSR 2002 - Fabien Gandon ACACIA project INRIA Sophia-Antipoli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90360" y="1828440"/>
            <a:ext cx="7010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A Multi-Agents System for a Corporate  Web Semantic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1" name="Winner" descr=""/>
          <p:cNvPicPr/>
          <p:nvPr/>
        </p:nvPicPr>
        <p:blipFill>
          <a:blip r:embed="rId2"/>
          <a:stretch/>
        </p:blipFill>
        <p:spPr>
          <a:xfrm>
            <a:off x="2666880" y="4495680"/>
            <a:ext cx="464832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254160" y="1981080"/>
            <a:ext cx="9118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872280" indent="-25956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arted from the tasks to be performed (handle ontology, annotations, users and distrib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2280" indent="-25956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ole analysis first level: 4 dedicated sub-socie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371600" y="6552720"/>
            <a:ext cx="7765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rchitecture: Organizational Approach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9194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68000" indent="-43092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From Macroscopic-level to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Microscopic-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29880" indent="-27684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blem: Engineering interaction &amp; organization of the MAS to match the societal requirem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447920" y="3600360"/>
            <a:ext cx="3178080" cy="725400"/>
            <a:chOff x="1447920" y="3600360"/>
            <a:chExt cx="3178080" cy="725400"/>
          </a:xfrm>
        </p:grpSpPr>
        <p:sp>
          <p:nvSpPr>
            <p:cNvPr id="480" name=""/>
            <p:cNvSpPr/>
            <p:nvPr/>
          </p:nvSpPr>
          <p:spPr>
            <a:xfrm>
              <a:off x="1447920" y="3600360"/>
              <a:ext cx="31780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1535400" y="3726720"/>
              <a:ext cx="445680" cy="475200"/>
              <a:chOff x="1535400" y="3726720"/>
              <a:chExt cx="445680" cy="475200"/>
            </a:xfrm>
          </p:grpSpPr>
          <p:grpSp>
            <p:nvGrpSpPr>
              <p:cNvPr id="482" name=""/>
              <p:cNvGrpSpPr/>
              <p:nvPr/>
            </p:nvGrpSpPr>
            <p:grpSpPr>
              <a:xfrm>
                <a:off x="1686960" y="3726720"/>
                <a:ext cx="294120" cy="389880"/>
                <a:chOff x="1686960" y="3726720"/>
                <a:chExt cx="294120" cy="38988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1686960" y="3921840"/>
                  <a:ext cx="2941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V="1">
                  <a:off x="1686960" y="3726360"/>
                  <a:ext cx="2941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1633320" y="3755160"/>
                <a:ext cx="294120" cy="389880"/>
                <a:chOff x="1633320" y="3755160"/>
                <a:chExt cx="294120" cy="38988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1633320" y="3950280"/>
                  <a:ext cx="2941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>
                  <a:off x="1633320" y="3754800"/>
                  <a:ext cx="2941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1589040" y="3783240"/>
                <a:ext cx="294120" cy="389880"/>
                <a:chOff x="1589040" y="3783240"/>
                <a:chExt cx="294120" cy="38988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1589040" y="3978360"/>
                  <a:ext cx="2941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V="1">
                  <a:off x="1589040" y="3782880"/>
                  <a:ext cx="2941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1535400" y="3812040"/>
                <a:ext cx="294120" cy="389880"/>
                <a:chOff x="1535400" y="3812040"/>
                <a:chExt cx="294120" cy="38988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1535400" y="4007160"/>
                  <a:ext cx="2941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V="1">
                  <a:off x="1535400" y="3811680"/>
                  <a:ext cx="2941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>
              <a:off x="2038320" y="3617640"/>
              <a:ext cx="2587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tology-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413160" y="5742000"/>
            <a:ext cx="3178080" cy="735120"/>
            <a:chOff x="3413160" y="5742000"/>
            <a:chExt cx="3178080" cy="735120"/>
          </a:xfrm>
        </p:grpSpPr>
        <p:sp>
          <p:nvSpPr>
            <p:cNvPr id="496" name=""/>
            <p:cNvSpPr/>
            <p:nvPr/>
          </p:nvSpPr>
          <p:spPr>
            <a:xfrm>
              <a:off x="3413160" y="5742000"/>
              <a:ext cx="3178080" cy="72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3630240" y="5879880"/>
              <a:ext cx="407520" cy="473400"/>
              <a:chOff x="3630240" y="5879880"/>
              <a:chExt cx="407520" cy="47340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3768840" y="5879880"/>
                <a:ext cx="268920" cy="388440"/>
                <a:chOff x="3768840" y="5879880"/>
                <a:chExt cx="268920" cy="38844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3768840" y="6074280"/>
                  <a:ext cx="26892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V="1">
                  <a:off x="3768840" y="5879520"/>
                  <a:ext cx="26892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3719880" y="5908320"/>
                <a:ext cx="268920" cy="388440"/>
                <a:chOff x="3719880" y="5908320"/>
                <a:chExt cx="268920" cy="38844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3719880" y="6102720"/>
                  <a:ext cx="26892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V="1">
                  <a:off x="3719880" y="5907960"/>
                  <a:ext cx="26892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3679200" y="5936400"/>
                <a:ext cx="268920" cy="388440"/>
                <a:chOff x="3679200" y="5936400"/>
                <a:chExt cx="268920" cy="38844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3679200" y="6130800"/>
                  <a:ext cx="26892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V="1">
                  <a:off x="3679200" y="5936040"/>
                  <a:ext cx="26892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3630240" y="5964840"/>
                <a:ext cx="268920" cy="388440"/>
                <a:chOff x="3630240" y="5964840"/>
                <a:chExt cx="268920" cy="38844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3630240" y="6159240"/>
                  <a:ext cx="26892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V="1">
                  <a:off x="3630240" y="5964480"/>
                  <a:ext cx="26892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0" name=""/>
            <p:cNvSpPr/>
            <p:nvPr/>
          </p:nvSpPr>
          <p:spPr>
            <a:xfrm>
              <a:off x="4151160" y="5772240"/>
              <a:ext cx="24015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-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311800" y="3600360"/>
            <a:ext cx="3179880" cy="725400"/>
            <a:chOff x="5311800" y="3600360"/>
            <a:chExt cx="3179880" cy="725400"/>
          </a:xfrm>
        </p:grpSpPr>
        <p:sp>
          <p:nvSpPr>
            <p:cNvPr id="512" name=""/>
            <p:cNvSpPr/>
            <p:nvPr/>
          </p:nvSpPr>
          <p:spPr>
            <a:xfrm>
              <a:off x="5311800" y="3600360"/>
              <a:ext cx="31798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5531040" y="3714120"/>
              <a:ext cx="412560" cy="475200"/>
              <a:chOff x="5531040" y="3714120"/>
              <a:chExt cx="412560" cy="47520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5671440" y="3714120"/>
                <a:ext cx="272160" cy="389880"/>
                <a:chOff x="5671440" y="3714120"/>
                <a:chExt cx="272160" cy="38988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5671440" y="3909240"/>
                  <a:ext cx="272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V="1">
                  <a:off x="5671440" y="3713760"/>
                  <a:ext cx="272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5621760" y="3742560"/>
                <a:ext cx="272160" cy="389880"/>
                <a:chOff x="5621760" y="3742560"/>
                <a:chExt cx="272160" cy="38988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5621760" y="3937680"/>
                  <a:ext cx="272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5621760" y="3742200"/>
                  <a:ext cx="272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5580720" y="3770640"/>
                <a:ext cx="272160" cy="389880"/>
                <a:chOff x="5580720" y="3770640"/>
                <a:chExt cx="272160" cy="38988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5580720" y="3965760"/>
                  <a:ext cx="272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V="1">
                  <a:off x="5580720" y="3770280"/>
                  <a:ext cx="272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5531040" y="3799440"/>
                <a:ext cx="272160" cy="389880"/>
                <a:chOff x="5531040" y="3799440"/>
                <a:chExt cx="272160" cy="38988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5531040" y="3994560"/>
                  <a:ext cx="272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V="1">
                  <a:off x="5531040" y="3799080"/>
                  <a:ext cx="272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6" name=""/>
            <p:cNvSpPr/>
            <p:nvPr/>
          </p:nvSpPr>
          <p:spPr>
            <a:xfrm>
              <a:off x="5788080" y="3612960"/>
              <a:ext cx="26924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cument-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3413160" y="4178160"/>
            <a:ext cx="3472920" cy="1660320"/>
            <a:chOff x="3413160" y="4178160"/>
            <a:chExt cx="3472920" cy="1660320"/>
          </a:xfrm>
        </p:grpSpPr>
        <p:sp>
          <p:nvSpPr>
            <p:cNvPr id="528" name=""/>
            <p:cNvSpPr/>
            <p:nvPr/>
          </p:nvSpPr>
          <p:spPr>
            <a:xfrm>
              <a:off x="3413160" y="4681440"/>
              <a:ext cx="31780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3617640" y="4817520"/>
              <a:ext cx="420120" cy="473400"/>
              <a:chOff x="3617640" y="4817520"/>
              <a:chExt cx="420120" cy="47340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760560" y="4817520"/>
                <a:ext cx="277200" cy="388440"/>
                <a:chOff x="3760560" y="4817520"/>
                <a:chExt cx="277200" cy="38844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760560" y="5011920"/>
                  <a:ext cx="27720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V="1">
                  <a:off x="3760560" y="4817160"/>
                  <a:ext cx="27720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3709800" y="4845960"/>
                <a:ext cx="277200" cy="388440"/>
                <a:chOff x="3709800" y="4845960"/>
                <a:chExt cx="277200" cy="38844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709800" y="5040360"/>
                  <a:ext cx="27720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3709800" y="4845600"/>
                  <a:ext cx="27720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3668040" y="4874040"/>
                <a:ext cx="277200" cy="388440"/>
                <a:chOff x="3668040" y="4874040"/>
                <a:chExt cx="277200" cy="38844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3668040" y="5068440"/>
                  <a:ext cx="27720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V="1">
                  <a:off x="3668040" y="4873680"/>
                  <a:ext cx="27720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3617640" y="4902480"/>
                <a:ext cx="277200" cy="388440"/>
                <a:chOff x="3617640" y="4902480"/>
                <a:chExt cx="277200" cy="38844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3617640" y="5096880"/>
                  <a:ext cx="27720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V="1">
                  <a:off x="3617640" y="4902120"/>
                  <a:ext cx="27720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2" name=""/>
            <p:cNvSpPr/>
            <p:nvPr/>
          </p:nvSpPr>
          <p:spPr>
            <a:xfrm>
              <a:off x="4078080" y="4711320"/>
              <a:ext cx="280800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nection-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08000" y="4178160"/>
              <a:ext cx="73800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46520" y="5278320"/>
              <a:ext cx="0" cy="560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5925960" y="4178160"/>
              <a:ext cx="73944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2057400" y="2057400"/>
            <a:ext cx="6324480" cy="2108160"/>
            <a:chOff x="2057400" y="2057400"/>
            <a:chExt cx="6324480" cy="2108160"/>
          </a:xfrm>
        </p:grpSpPr>
        <p:sp>
          <p:nvSpPr>
            <p:cNvPr id="547" name=""/>
            <p:cNvSpPr/>
            <p:nvPr/>
          </p:nvSpPr>
          <p:spPr>
            <a:xfrm>
              <a:off x="2057400" y="2108160"/>
              <a:ext cx="6324480" cy="2057400"/>
            </a:xfrm>
            <a:prstGeom prst="foldedCorner">
              <a:avLst>
                <a:gd name="adj" fmla="val 557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058840" y="2057400"/>
              <a:ext cx="210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Sabas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t al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9" name="" descr=""/>
            <p:cNvPicPr/>
            <p:nvPr/>
          </p:nvPicPr>
          <p:blipFill>
            <a:blip r:embed="rId2"/>
            <a:stretch/>
          </p:blipFill>
          <p:spPr>
            <a:xfrm>
              <a:off x="7086600" y="2184480"/>
              <a:ext cx="12193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2057400" y="2536920"/>
              <a:ext cx="6324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thodology Dimen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Scenario analysis &amp; reports [Caroll, 1997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Prototypical development cyc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two trials (intermediate one)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FF70-4284-4681-A375-5F1F73A43E7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rganizing resource-dedicated sub-societie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035720" y="190440"/>
            <a:ext cx="3841200" cy="5753160"/>
            <a:chOff x="1035720" y="190440"/>
            <a:chExt cx="3841200" cy="5753160"/>
          </a:xfrm>
        </p:grpSpPr>
        <p:grpSp>
          <p:nvGrpSpPr>
            <p:cNvPr id="553" name=""/>
            <p:cNvGrpSpPr/>
            <p:nvPr/>
          </p:nvGrpSpPr>
          <p:grpSpPr>
            <a:xfrm>
              <a:off x="1035720" y="2265480"/>
              <a:ext cx="3841200" cy="1620720"/>
              <a:chOff x="1035720" y="2265480"/>
              <a:chExt cx="3841200" cy="1620720"/>
            </a:xfrm>
          </p:grpSpPr>
          <p:grpSp>
            <p:nvGrpSpPr>
              <p:cNvPr id="554" name=""/>
              <p:cNvGrpSpPr/>
              <p:nvPr/>
            </p:nvGrpSpPr>
            <p:grpSpPr>
              <a:xfrm>
                <a:off x="1295640" y="2265480"/>
                <a:ext cx="3581280" cy="1620720"/>
                <a:chOff x="1295640" y="2265480"/>
                <a:chExt cx="3581280" cy="162072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1295640" y="2743200"/>
                  <a:ext cx="3581280" cy="1143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6" name=""/>
                <p:cNvGrpSpPr/>
                <p:nvPr/>
              </p:nvGrpSpPr>
              <p:grpSpPr>
                <a:xfrm>
                  <a:off x="2997360" y="3340080"/>
                  <a:ext cx="228600" cy="388800"/>
                  <a:chOff x="2997360" y="3340080"/>
                  <a:chExt cx="228600" cy="38880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>
                    <a:off x="2997360" y="35344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V="1">
                    <a:off x="2997360" y="33400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9" name=""/>
                <p:cNvGrpSpPr/>
                <p:nvPr/>
              </p:nvGrpSpPr>
              <p:grpSpPr>
                <a:xfrm>
                  <a:off x="3429360" y="2836800"/>
                  <a:ext cx="228600" cy="388800"/>
                  <a:chOff x="3429360" y="2836800"/>
                  <a:chExt cx="228600" cy="388800"/>
                </a:xfrm>
              </p:grpSpPr>
              <p:sp>
                <p:nvSpPr>
                  <p:cNvPr id="560" name=""/>
                  <p:cNvSpPr/>
                  <p:nvPr/>
                </p:nvSpPr>
                <p:spPr>
                  <a:xfrm>
                    <a:off x="3429360" y="30312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V="1">
                    <a:off x="3429360" y="28368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2" name=""/>
                <p:cNvGrpSpPr/>
                <p:nvPr/>
              </p:nvGrpSpPr>
              <p:grpSpPr>
                <a:xfrm>
                  <a:off x="3962520" y="3429000"/>
                  <a:ext cx="228600" cy="388800"/>
                  <a:chOff x="3962520" y="3429000"/>
                  <a:chExt cx="228600" cy="388800"/>
                </a:xfrm>
              </p:grpSpPr>
              <p:sp>
                <p:nvSpPr>
                  <p:cNvPr id="563" name=""/>
                  <p:cNvSpPr/>
                  <p:nvPr/>
                </p:nvSpPr>
                <p:spPr>
                  <a:xfrm>
                    <a:off x="3962520" y="36234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V="1">
                    <a:off x="3962520" y="34290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5" name=""/>
                <p:cNvGrpSpPr/>
                <p:nvPr/>
              </p:nvGrpSpPr>
              <p:grpSpPr>
                <a:xfrm>
                  <a:off x="4419720" y="3446640"/>
                  <a:ext cx="228600" cy="388800"/>
                  <a:chOff x="4419720" y="3446640"/>
                  <a:chExt cx="228600" cy="38880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4419720" y="36410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flipV="1">
                    <a:off x="4419720" y="34466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8" name=""/>
                <p:cNvSpPr/>
                <p:nvPr/>
              </p:nvSpPr>
              <p:spPr>
                <a:xfrm>
                  <a:off x="1371960" y="2836800"/>
                  <a:ext cx="14475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ooperativ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esource-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edicat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flipV="1">
                  <a:off x="3276720" y="3263760"/>
                  <a:ext cx="228600" cy="1522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H="1" flipV="1">
                  <a:off x="3581640" y="3264120"/>
                  <a:ext cx="380880" cy="30456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4191120" y="2913120"/>
                  <a:ext cx="228600" cy="388800"/>
                  <a:chOff x="4191120" y="2913120"/>
                  <a:chExt cx="228600" cy="3888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4191120" y="310752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V="1">
                    <a:off x="4191120" y="291312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4" name=""/>
                <p:cNvSpPr/>
                <p:nvPr/>
              </p:nvSpPr>
              <p:spPr>
                <a:xfrm flipH="1" flipV="1">
                  <a:off x="3657600" y="3065400"/>
                  <a:ext cx="533160" cy="7632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5" name=""/>
                <p:cNvGrpSpPr/>
                <p:nvPr/>
              </p:nvGrpSpPr>
              <p:grpSpPr>
                <a:xfrm>
                  <a:off x="3429360" y="3446640"/>
                  <a:ext cx="228600" cy="388800"/>
                  <a:chOff x="3429360" y="3446640"/>
                  <a:chExt cx="228600" cy="38880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>
                    <a:off x="3429360" y="36410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V="1">
                    <a:off x="3429360" y="34466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3061080" y="2803680"/>
                  <a:ext cx="228600" cy="388800"/>
                  <a:chOff x="3061080" y="2803680"/>
                  <a:chExt cx="228600" cy="38880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>
                    <a:off x="3061080" y="29980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V="1">
                    <a:off x="3061080" y="28036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3353040" y="2265480"/>
                  <a:ext cx="380880" cy="545760"/>
                  <a:chOff x="3353040" y="2265480"/>
                  <a:chExt cx="380880" cy="54576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 flipV="1">
                    <a:off x="3353040" y="2282760"/>
                    <a:ext cx="203040" cy="528480"/>
                  </a:xfrm>
                  <a:prstGeom prst="upArrow">
                    <a:avLst>
                      <a:gd name="adj1" fmla="val 50000"/>
                      <a:gd name="adj2" fmla="val 65071"/>
                    </a:avLst>
                  </a:prstGeom>
                  <a:solidFill>
                    <a:srgbClr val="003366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3530880" y="2265480"/>
                    <a:ext cx="203040" cy="528840"/>
                  </a:xfrm>
                  <a:prstGeom prst="upArrow">
                    <a:avLst>
                      <a:gd name="adj1" fmla="val 50000"/>
                      <a:gd name="adj2" fmla="val 65115"/>
                    </a:avLst>
                  </a:prstGeom>
                  <a:solidFill>
                    <a:srgbClr val="003366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84" name=""/>
              <p:cNvSpPr/>
              <p:nvPr/>
            </p:nvSpPr>
            <p:spPr>
              <a:xfrm>
                <a:off x="1035720" y="2286000"/>
                <a:ext cx="182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Times New Roman"/>
                  </a:rPr>
                  <a:t>Peer-to-Pe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1036440" y="190440"/>
              <a:ext cx="3840480" cy="1657080"/>
              <a:chOff x="1036440" y="190440"/>
              <a:chExt cx="3840480" cy="1657080"/>
            </a:xfrm>
          </p:grpSpPr>
          <p:grpSp>
            <p:nvGrpSpPr>
              <p:cNvPr id="586" name=""/>
              <p:cNvGrpSpPr/>
              <p:nvPr/>
            </p:nvGrpSpPr>
            <p:grpSpPr>
              <a:xfrm>
                <a:off x="1295640" y="190440"/>
                <a:ext cx="3581280" cy="1657080"/>
                <a:chOff x="1295640" y="190440"/>
                <a:chExt cx="3581280" cy="165708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1295640" y="685800"/>
                  <a:ext cx="3581280" cy="1143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8" name=""/>
                <p:cNvGrpSpPr/>
                <p:nvPr/>
              </p:nvGrpSpPr>
              <p:grpSpPr>
                <a:xfrm>
                  <a:off x="4115160" y="774720"/>
                  <a:ext cx="228600" cy="388800"/>
                  <a:chOff x="4115160" y="774720"/>
                  <a:chExt cx="228600" cy="38880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4115160" y="96912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3366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V="1">
                    <a:off x="4115160" y="77472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3366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2972160" y="1371600"/>
                  <a:ext cx="228600" cy="388800"/>
                  <a:chOff x="2972160" y="1371600"/>
                  <a:chExt cx="228600" cy="38880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>
                    <a:off x="2972160" y="15660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V="1">
                    <a:off x="2972160" y="13716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3429360" y="774720"/>
                  <a:ext cx="228600" cy="388800"/>
                  <a:chOff x="3429360" y="774720"/>
                  <a:chExt cx="228600" cy="38880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3429360" y="96912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3366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V="1">
                    <a:off x="3429360" y="77472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3366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3429360" y="1371600"/>
                  <a:ext cx="228600" cy="388800"/>
                  <a:chOff x="3429360" y="1371600"/>
                  <a:chExt cx="228600" cy="38880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>
                    <a:off x="3429360" y="15660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V="1">
                    <a:off x="3429360" y="13716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0" name=""/>
                <p:cNvGrpSpPr/>
                <p:nvPr/>
              </p:nvGrpSpPr>
              <p:grpSpPr>
                <a:xfrm>
                  <a:off x="3962520" y="1371600"/>
                  <a:ext cx="228600" cy="388800"/>
                  <a:chOff x="3962520" y="1371600"/>
                  <a:chExt cx="228600" cy="38880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>
                    <a:off x="3962520" y="15660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V="1">
                    <a:off x="3962520" y="13716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4419720" y="1371600"/>
                  <a:ext cx="228600" cy="388800"/>
                  <a:chOff x="4419720" y="1371600"/>
                  <a:chExt cx="228600" cy="38880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>
                    <a:off x="4419720" y="15660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flipV="1">
                    <a:off x="4419720" y="13716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6" name=""/>
                <p:cNvSpPr/>
                <p:nvPr/>
              </p:nvSpPr>
              <p:spPr>
                <a:xfrm>
                  <a:off x="1295640" y="1244520"/>
                  <a:ext cx="358128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356840" y="736560"/>
                  <a:ext cx="169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epresentativ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371600" y="1204920"/>
                  <a:ext cx="12139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esource-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edicat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V="1">
                  <a:off x="3276720" y="1206000"/>
                  <a:ext cx="228600" cy="1522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 flipV="1">
                  <a:off x="3581640" y="1206000"/>
                  <a:ext cx="380880" cy="30492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1" name=""/>
                <p:cNvGrpSpPr/>
                <p:nvPr/>
              </p:nvGrpSpPr>
              <p:grpSpPr>
                <a:xfrm>
                  <a:off x="3353040" y="190440"/>
                  <a:ext cx="380880" cy="545760"/>
                  <a:chOff x="3353040" y="190440"/>
                  <a:chExt cx="380880" cy="54576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flipV="1">
                    <a:off x="3353040" y="207720"/>
                    <a:ext cx="203040" cy="528480"/>
                  </a:xfrm>
                  <a:prstGeom prst="upArrow">
                    <a:avLst>
                      <a:gd name="adj1" fmla="val 50000"/>
                      <a:gd name="adj2" fmla="val 65071"/>
                    </a:avLst>
                  </a:prstGeom>
                  <a:solidFill>
                    <a:srgbClr val="003366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3530880" y="190440"/>
                    <a:ext cx="203040" cy="528840"/>
                  </a:xfrm>
                  <a:prstGeom prst="upArrow">
                    <a:avLst>
                      <a:gd name="adj1" fmla="val 50000"/>
                      <a:gd name="adj2" fmla="val 65115"/>
                    </a:avLst>
                  </a:prstGeom>
                  <a:solidFill>
                    <a:srgbClr val="003366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14" name=""/>
              <p:cNvSpPr/>
              <p:nvPr/>
            </p:nvSpPr>
            <p:spPr>
              <a:xfrm>
                <a:off x="1036440" y="228600"/>
                <a:ext cx="152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Times New Roman"/>
                  </a:rPr>
                  <a:t>Hierarch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1037160" y="4305240"/>
              <a:ext cx="3839760" cy="1638360"/>
              <a:chOff x="1037160" y="4305240"/>
              <a:chExt cx="3839760" cy="163836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1295640" y="4305240"/>
                <a:ext cx="3581280" cy="1638360"/>
                <a:chOff x="1295640" y="4305240"/>
                <a:chExt cx="3581280" cy="163836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1295640" y="4800600"/>
                  <a:ext cx="3581280" cy="1143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8" name=""/>
                <p:cNvGrpSpPr/>
                <p:nvPr/>
              </p:nvGrpSpPr>
              <p:grpSpPr>
                <a:xfrm>
                  <a:off x="2972160" y="5181480"/>
                  <a:ext cx="228600" cy="388800"/>
                  <a:chOff x="2972160" y="5181480"/>
                  <a:chExt cx="228600" cy="38880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>
                    <a:off x="2972160" y="53758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V="1">
                    <a:off x="2972160" y="51814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3810240" y="4876560"/>
                  <a:ext cx="228600" cy="388800"/>
                  <a:chOff x="3810240" y="4876560"/>
                  <a:chExt cx="228600" cy="3888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3810240" y="50709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V="1">
                    <a:off x="3810240" y="48765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4" name=""/>
                <p:cNvGrpSpPr/>
                <p:nvPr/>
              </p:nvGrpSpPr>
              <p:grpSpPr>
                <a:xfrm>
                  <a:off x="3733920" y="5410080"/>
                  <a:ext cx="228600" cy="388800"/>
                  <a:chOff x="3733920" y="5410080"/>
                  <a:chExt cx="228600" cy="38880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>
                    <a:off x="3733920" y="56044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V="1">
                    <a:off x="3733920" y="54100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7" name=""/>
                <p:cNvGrpSpPr/>
                <p:nvPr/>
              </p:nvGrpSpPr>
              <p:grpSpPr>
                <a:xfrm>
                  <a:off x="4419720" y="5503680"/>
                  <a:ext cx="228600" cy="388800"/>
                  <a:chOff x="4419720" y="5503680"/>
                  <a:chExt cx="228600" cy="38880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>
                    <a:off x="4419720" y="56980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V="1">
                    <a:off x="4419720" y="55036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0" name=""/>
                <p:cNvSpPr/>
                <p:nvPr/>
              </p:nvSpPr>
              <p:spPr>
                <a:xfrm>
                  <a:off x="1371960" y="4894200"/>
                  <a:ext cx="14475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eplica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esource-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edicat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1" name=""/>
                <p:cNvGrpSpPr/>
                <p:nvPr/>
              </p:nvGrpSpPr>
              <p:grpSpPr>
                <a:xfrm>
                  <a:off x="4115160" y="5257800"/>
                  <a:ext cx="228600" cy="388800"/>
                  <a:chOff x="4115160" y="5257800"/>
                  <a:chExt cx="228600" cy="38880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>
                    <a:off x="4115160" y="54522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V="1">
                    <a:off x="4115160" y="52578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3276720" y="5486400"/>
                  <a:ext cx="228600" cy="388800"/>
                  <a:chOff x="3276720" y="5486400"/>
                  <a:chExt cx="228600" cy="38880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>
                    <a:off x="3276720" y="56808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flipV="1">
                    <a:off x="3276720" y="54864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7" name=""/>
                <p:cNvGrpSpPr/>
                <p:nvPr/>
              </p:nvGrpSpPr>
              <p:grpSpPr>
                <a:xfrm>
                  <a:off x="3429360" y="4876560"/>
                  <a:ext cx="228600" cy="388800"/>
                  <a:chOff x="3429360" y="4876560"/>
                  <a:chExt cx="228600" cy="38880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>
                    <a:off x="3429360" y="50709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V="1">
                    <a:off x="3429360" y="48765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3353040" y="4305240"/>
                  <a:ext cx="380880" cy="545760"/>
                  <a:chOff x="3353040" y="4305240"/>
                  <a:chExt cx="380880" cy="54576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 flipV="1">
                    <a:off x="3353040" y="4322520"/>
                    <a:ext cx="203040" cy="528480"/>
                  </a:xfrm>
                  <a:prstGeom prst="upArrow">
                    <a:avLst>
                      <a:gd name="adj1" fmla="val 50000"/>
                      <a:gd name="adj2" fmla="val 65071"/>
                    </a:avLst>
                  </a:prstGeom>
                  <a:solidFill>
                    <a:srgbClr val="003366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3530880" y="4305240"/>
                    <a:ext cx="203040" cy="528840"/>
                  </a:xfrm>
                  <a:prstGeom prst="upArrow">
                    <a:avLst>
                      <a:gd name="adj1" fmla="val 50000"/>
                      <a:gd name="adj2" fmla="val 65115"/>
                    </a:avLst>
                  </a:prstGeom>
                  <a:solidFill>
                    <a:srgbClr val="003366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3" name=""/>
              <p:cNvSpPr/>
              <p:nvPr/>
            </p:nvSpPr>
            <p:spPr>
              <a:xfrm>
                <a:off x="1037160" y="4343400"/>
                <a:ext cx="1672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Times New Roman"/>
                  </a:rPr>
                  <a:t>Replic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4" name=""/>
          <p:cNvGrpSpPr/>
          <p:nvPr/>
        </p:nvGrpSpPr>
        <p:grpSpPr>
          <a:xfrm>
            <a:off x="4572000" y="609480"/>
            <a:ext cx="4572000" cy="5562720"/>
            <a:chOff x="4572000" y="609480"/>
            <a:chExt cx="4572000" cy="5562720"/>
          </a:xfrm>
        </p:grpSpPr>
        <p:sp>
          <p:nvSpPr>
            <p:cNvPr id="645" name=""/>
            <p:cNvSpPr/>
            <p:nvPr/>
          </p:nvSpPr>
          <p:spPr>
            <a:xfrm>
              <a:off x="4572000" y="2666880"/>
              <a:ext cx="45720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lvl="1" marL="891360" indent="-26532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Distribute only cont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91360" indent="-265320">
                <a:lnSpc>
                  <a:spcPct val="80000"/>
                </a:lnSpc>
                <a:spcBef>
                  <a:spcPts val="700"/>
                </a:spcBef>
                <a:buClr>
                  <a:srgbClr val="777777"/>
                </a:buClr>
                <a:buSzPct val="90000"/>
                <a:buFont typeface="Wingdings" charset="2"/>
                <a:buChar char="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WL &amp; N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91360" indent="-265320">
                <a:lnSpc>
                  <a:spcPct val="80000"/>
                </a:lnSpc>
                <a:spcBef>
                  <a:spcPts val="700"/>
                </a:spcBef>
                <a:buClr>
                  <a:srgbClr val="777777"/>
                </a:buClr>
                <a:buSzPct val="90000"/>
                <a:buFont typeface="Wingdings" charset="2"/>
                <a:buChar char="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Redundanc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72000" y="4724280"/>
              <a:ext cx="45720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lvl="1" marL="891360" indent="-26532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Complete replic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91360" indent="-265320">
                <a:lnSpc>
                  <a:spcPct val="80000"/>
                </a:lnSpc>
                <a:spcBef>
                  <a:spcPts val="700"/>
                </a:spcBef>
                <a:buClr>
                  <a:srgbClr val="777777"/>
                </a:buClr>
                <a:buSzPct val="90000"/>
                <a:buFont typeface="Wingdings" charset="2"/>
                <a:buChar char="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Redundant &amp; less N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91360" indent="-265320">
                <a:lnSpc>
                  <a:spcPct val="80000"/>
                </a:lnSpc>
                <a:spcBef>
                  <a:spcPts val="700"/>
                </a:spcBef>
                <a:buClr>
                  <a:srgbClr val="777777"/>
                </a:buClr>
                <a:buSzPct val="90000"/>
                <a:buFont typeface="Wingdings" charset="2"/>
                <a:buChar char="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Content replica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72000" y="609480"/>
              <a:ext cx="45720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958680" indent="-28548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Distribute ro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58680" indent="-285480">
                <a:lnSpc>
                  <a:spcPct val="80000"/>
                </a:lnSpc>
                <a:spcBef>
                  <a:spcPts val="700"/>
                </a:spcBef>
                <a:buClr>
                  <a:srgbClr val="777777"/>
                </a:buClr>
                <a:buSzPct val="90000"/>
                <a:buFont typeface="Wingdings" charset="2"/>
                <a:buChar char="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Distribute W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58680" indent="-285480">
                <a:lnSpc>
                  <a:spcPct val="80000"/>
                </a:lnSpc>
                <a:spcBef>
                  <a:spcPts val="700"/>
                </a:spcBef>
                <a:buClr>
                  <a:srgbClr val="777777"/>
                </a:buClr>
                <a:buSzPct val="90000"/>
                <a:buFont typeface="Wingdings" charset="2"/>
                <a:buChar char="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Increase N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BA13-04C9-43EF-BBE2-30967CB4840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Dedicated sub-societies (ontology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560" y="-360"/>
            <a:ext cx="87627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Ontology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-dedicated sub-society 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Queries on hierarchy of concepts &amp; rel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Queries on terms, synonyms, possible view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957240" y="1752480"/>
            <a:ext cx="7043760" cy="2876400"/>
            <a:chOff x="957240" y="1752480"/>
            <a:chExt cx="7043760" cy="2876400"/>
          </a:xfrm>
        </p:grpSpPr>
        <p:sp>
          <p:nvSpPr>
            <p:cNvPr id="651" name=""/>
            <p:cNvSpPr/>
            <p:nvPr/>
          </p:nvSpPr>
          <p:spPr>
            <a:xfrm>
              <a:off x="957240" y="1752480"/>
              <a:ext cx="31780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1044720" y="1879200"/>
              <a:ext cx="446040" cy="474840"/>
              <a:chOff x="1044720" y="1879200"/>
              <a:chExt cx="446040" cy="474840"/>
            </a:xfrm>
          </p:grpSpPr>
          <p:grpSp>
            <p:nvGrpSpPr>
              <p:cNvPr id="653" name=""/>
              <p:cNvGrpSpPr/>
              <p:nvPr/>
            </p:nvGrpSpPr>
            <p:grpSpPr>
              <a:xfrm>
                <a:off x="1197000" y="1879200"/>
                <a:ext cx="293760" cy="388800"/>
                <a:chOff x="1197000" y="1879200"/>
                <a:chExt cx="293760" cy="38880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1197000" y="207360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V="1">
                  <a:off x="1197000" y="187920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1143000" y="1908000"/>
                <a:ext cx="293760" cy="388800"/>
                <a:chOff x="1143000" y="1908000"/>
                <a:chExt cx="293760" cy="38880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1143000" y="210240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V="1">
                  <a:off x="1143000" y="190800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1098720" y="1936440"/>
                <a:ext cx="293400" cy="388800"/>
                <a:chOff x="1098720" y="1936440"/>
                <a:chExt cx="293400" cy="38880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1098720" y="213084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V="1">
                  <a:off x="1098720" y="193644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1044720" y="1965240"/>
                <a:ext cx="293400" cy="388800"/>
                <a:chOff x="1044720" y="1965240"/>
                <a:chExt cx="293400" cy="38880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1044720" y="215964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V="1">
                  <a:off x="1044720" y="196524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5" name=""/>
            <p:cNvSpPr/>
            <p:nvPr/>
          </p:nvSpPr>
          <p:spPr>
            <a:xfrm>
              <a:off x="1547640" y="1769760"/>
              <a:ext cx="2587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Ontology-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22480" y="3893760"/>
              <a:ext cx="3178440" cy="72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3139920" y="4031640"/>
              <a:ext cx="408240" cy="473400"/>
              <a:chOff x="3139920" y="4031640"/>
              <a:chExt cx="408240" cy="473400"/>
            </a:xfrm>
          </p:grpSpPr>
          <p:grpSp>
            <p:nvGrpSpPr>
              <p:cNvPr id="668" name=""/>
              <p:cNvGrpSpPr/>
              <p:nvPr/>
            </p:nvGrpSpPr>
            <p:grpSpPr>
              <a:xfrm>
                <a:off x="3278880" y="4031640"/>
                <a:ext cx="269280" cy="388440"/>
                <a:chOff x="3278880" y="4031640"/>
                <a:chExt cx="269280" cy="38844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3278880" y="422604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V="1">
                  <a:off x="3278880" y="403128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3229560" y="4060080"/>
                <a:ext cx="269280" cy="388440"/>
                <a:chOff x="3229560" y="4060080"/>
                <a:chExt cx="269280" cy="38844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3229560" y="425448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 flipV="1">
                  <a:off x="3229560" y="405972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3188880" y="4088160"/>
                <a:ext cx="269280" cy="388440"/>
                <a:chOff x="3188880" y="4088160"/>
                <a:chExt cx="269280" cy="38844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3188880" y="428256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V="1">
                  <a:off x="3188880" y="408780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3139920" y="4116600"/>
                <a:ext cx="269280" cy="388440"/>
                <a:chOff x="3139920" y="4116600"/>
                <a:chExt cx="269280" cy="38844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3139920" y="431100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 flipV="1">
                  <a:off x="3139920" y="411624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0" name=""/>
            <p:cNvSpPr/>
            <p:nvPr/>
          </p:nvSpPr>
          <p:spPr>
            <a:xfrm>
              <a:off x="3660840" y="3924000"/>
              <a:ext cx="24019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-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821120" y="1752480"/>
              <a:ext cx="31798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5040360" y="1866600"/>
              <a:ext cx="412560" cy="474480"/>
              <a:chOff x="5040360" y="1866600"/>
              <a:chExt cx="412560" cy="47448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5181480" y="1866600"/>
                <a:ext cx="271440" cy="388800"/>
                <a:chOff x="5181480" y="1866600"/>
                <a:chExt cx="271440" cy="38880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5181480" y="206100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V="1">
                  <a:off x="5181480" y="186660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5130720" y="1895400"/>
                <a:ext cx="273240" cy="388800"/>
                <a:chOff x="5130720" y="1895400"/>
                <a:chExt cx="273240" cy="38880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5130720" y="2089800"/>
                  <a:ext cx="2732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V="1">
                  <a:off x="5130720" y="1895400"/>
                  <a:ext cx="2732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5089680" y="1923840"/>
                <a:ext cx="272880" cy="388800"/>
                <a:chOff x="5089680" y="1923840"/>
                <a:chExt cx="272880" cy="38880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5089680" y="2118240"/>
                  <a:ext cx="2728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flipV="1">
                  <a:off x="5089680" y="1923840"/>
                  <a:ext cx="2728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5040360" y="1952280"/>
                <a:ext cx="271440" cy="388800"/>
                <a:chOff x="5040360" y="1952280"/>
                <a:chExt cx="271440" cy="388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5040360" y="214668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V="1">
                  <a:off x="5040360" y="195228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5" name=""/>
            <p:cNvSpPr/>
            <p:nvPr/>
          </p:nvSpPr>
          <p:spPr>
            <a:xfrm>
              <a:off x="5297400" y="1765080"/>
              <a:ext cx="26924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cument-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22480" y="2833560"/>
              <a:ext cx="317844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3127320" y="2969640"/>
              <a:ext cx="420840" cy="473400"/>
              <a:chOff x="3127320" y="2969640"/>
              <a:chExt cx="420840" cy="473400"/>
            </a:xfrm>
          </p:grpSpPr>
          <p:grpSp>
            <p:nvGrpSpPr>
              <p:cNvPr id="698" name=""/>
              <p:cNvGrpSpPr/>
              <p:nvPr/>
            </p:nvGrpSpPr>
            <p:grpSpPr>
              <a:xfrm>
                <a:off x="3270600" y="2969640"/>
                <a:ext cx="277560" cy="388440"/>
                <a:chOff x="3270600" y="2969640"/>
                <a:chExt cx="277560" cy="38844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3270600" y="316404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flipV="1">
                  <a:off x="3270600" y="296928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3219840" y="2998080"/>
                <a:ext cx="277560" cy="388440"/>
                <a:chOff x="3219840" y="2998080"/>
                <a:chExt cx="277560" cy="38844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3219840" y="319248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V="1">
                  <a:off x="3219840" y="299772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3177720" y="3026160"/>
                <a:ext cx="277560" cy="388440"/>
                <a:chOff x="3177720" y="3026160"/>
                <a:chExt cx="277560" cy="38844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3177720" y="322056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flipV="1">
                  <a:off x="3177720" y="302580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3127320" y="3054600"/>
                <a:ext cx="277560" cy="388440"/>
                <a:chOff x="3127320" y="3054600"/>
                <a:chExt cx="277560" cy="38844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3127320" y="324900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flipV="1">
                  <a:off x="3127320" y="305424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0" name=""/>
            <p:cNvSpPr/>
            <p:nvPr/>
          </p:nvSpPr>
          <p:spPr>
            <a:xfrm>
              <a:off x="3587760" y="2863440"/>
              <a:ext cx="28083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nection-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218040" y="2330280"/>
              <a:ext cx="73800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056200" y="3430440"/>
              <a:ext cx="0" cy="560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5435280" y="2330280"/>
              <a:ext cx="73980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DF76-E6F9-458B-B633-8E5BB871707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90720" y="6552720"/>
            <a:ext cx="8153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Dedicated sub-societies (ontology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560" y="-360"/>
            <a:ext cx="87627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Ontology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-dedicated sub-society 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Queries on hierarchy of concepts &amp; rel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Queries on terms, synonyms, possible view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957240" y="1752480"/>
            <a:ext cx="3178080" cy="725400"/>
            <a:chOff x="957240" y="1752480"/>
            <a:chExt cx="3178080" cy="725400"/>
          </a:xfrm>
        </p:grpSpPr>
        <p:sp>
          <p:nvSpPr>
            <p:cNvPr id="717" name=""/>
            <p:cNvSpPr/>
            <p:nvPr/>
          </p:nvSpPr>
          <p:spPr>
            <a:xfrm>
              <a:off x="957240" y="1752480"/>
              <a:ext cx="31780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1044720" y="1879200"/>
              <a:ext cx="446040" cy="474840"/>
              <a:chOff x="1044720" y="1879200"/>
              <a:chExt cx="446040" cy="474840"/>
            </a:xfrm>
          </p:grpSpPr>
          <p:grpSp>
            <p:nvGrpSpPr>
              <p:cNvPr id="719" name=""/>
              <p:cNvGrpSpPr/>
              <p:nvPr/>
            </p:nvGrpSpPr>
            <p:grpSpPr>
              <a:xfrm>
                <a:off x="1197000" y="1879200"/>
                <a:ext cx="293760" cy="388800"/>
                <a:chOff x="1197000" y="1879200"/>
                <a:chExt cx="293760" cy="38880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1197000" y="207360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V="1">
                  <a:off x="1197000" y="187920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1143000" y="1908000"/>
                <a:ext cx="293760" cy="388800"/>
                <a:chOff x="1143000" y="1908000"/>
                <a:chExt cx="293760" cy="38880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1143000" y="210240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V="1">
                  <a:off x="1143000" y="190800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1098720" y="1936440"/>
                <a:ext cx="293400" cy="388800"/>
                <a:chOff x="1098720" y="1936440"/>
                <a:chExt cx="293400" cy="38880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1098720" y="213084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 flipV="1">
                  <a:off x="1098720" y="193644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1044720" y="1965240"/>
                <a:ext cx="293400" cy="388800"/>
                <a:chOff x="1044720" y="1965240"/>
                <a:chExt cx="293400" cy="38880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1044720" y="215964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V="1">
                  <a:off x="1044720" y="196524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1" name=""/>
            <p:cNvSpPr/>
            <p:nvPr/>
          </p:nvSpPr>
          <p:spPr>
            <a:xfrm>
              <a:off x="1547640" y="1769760"/>
              <a:ext cx="2587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Ontology-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1295280" y="2018880"/>
            <a:ext cx="6782040" cy="2590920"/>
            <a:chOff x="1295280" y="2018880"/>
            <a:chExt cx="6782040" cy="2590920"/>
          </a:xfrm>
        </p:grpSpPr>
        <p:grpSp>
          <p:nvGrpSpPr>
            <p:cNvPr id="733" name=""/>
            <p:cNvGrpSpPr/>
            <p:nvPr/>
          </p:nvGrpSpPr>
          <p:grpSpPr>
            <a:xfrm>
              <a:off x="1295280" y="2018880"/>
              <a:ext cx="3423600" cy="1468800"/>
              <a:chOff x="1295280" y="2018880"/>
              <a:chExt cx="3423600" cy="1468800"/>
            </a:xfrm>
          </p:grpSpPr>
          <p:sp>
            <p:nvSpPr>
              <p:cNvPr id="734" name=""/>
              <p:cNvSpPr/>
              <p:nvPr/>
            </p:nvSpPr>
            <p:spPr>
              <a:xfrm rot="2148000">
                <a:off x="3492000" y="2209320"/>
                <a:ext cx="1003320" cy="10872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3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63720" y="2454120"/>
                <a:ext cx="50004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6" name=""/>
              <p:cNvSpPr/>
              <p:nvPr/>
            </p:nvSpPr>
            <p:spPr>
              <a:xfrm>
                <a:off x="1295280" y="2763720"/>
                <a:ext cx="2666880" cy="43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imes New Roman"/>
                  </a:rPr>
                  <a:t>Zoom on actual choi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4235760" y="2971440"/>
              <a:ext cx="3841560" cy="1638360"/>
              <a:chOff x="4235760" y="2971440"/>
              <a:chExt cx="3841560" cy="1638360"/>
            </a:xfrm>
          </p:grpSpPr>
          <p:grpSp>
            <p:nvGrpSpPr>
              <p:cNvPr id="738" name=""/>
              <p:cNvGrpSpPr/>
              <p:nvPr/>
            </p:nvGrpSpPr>
            <p:grpSpPr>
              <a:xfrm>
                <a:off x="4496040" y="2971440"/>
                <a:ext cx="3581280" cy="1638360"/>
                <a:chOff x="4496040" y="2971440"/>
                <a:chExt cx="3581280" cy="163836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4496040" y="3466800"/>
                  <a:ext cx="3581280" cy="1143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0" name=""/>
                <p:cNvGrpSpPr/>
                <p:nvPr/>
              </p:nvGrpSpPr>
              <p:grpSpPr>
                <a:xfrm>
                  <a:off x="6172560" y="3847680"/>
                  <a:ext cx="228600" cy="388800"/>
                  <a:chOff x="6172560" y="3847680"/>
                  <a:chExt cx="228600" cy="388800"/>
                </a:xfrm>
              </p:grpSpPr>
              <p:sp>
                <p:nvSpPr>
                  <p:cNvPr id="741" name=""/>
                  <p:cNvSpPr/>
                  <p:nvPr/>
                </p:nvSpPr>
                <p:spPr>
                  <a:xfrm>
                    <a:off x="6172560" y="40420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 flipV="1">
                    <a:off x="6172560" y="38476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3" name=""/>
                <p:cNvGrpSpPr/>
                <p:nvPr/>
              </p:nvGrpSpPr>
              <p:grpSpPr>
                <a:xfrm>
                  <a:off x="7010640" y="3542760"/>
                  <a:ext cx="228600" cy="388800"/>
                  <a:chOff x="7010640" y="3542760"/>
                  <a:chExt cx="228600" cy="388800"/>
                </a:xfrm>
              </p:grpSpPr>
              <p:sp>
                <p:nvSpPr>
                  <p:cNvPr id="744" name=""/>
                  <p:cNvSpPr/>
                  <p:nvPr/>
                </p:nvSpPr>
                <p:spPr>
                  <a:xfrm>
                    <a:off x="7010640" y="37371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flipV="1">
                    <a:off x="7010640" y="35427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6" name=""/>
                <p:cNvGrpSpPr/>
                <p:nvPr/>
              </p:nvGrpSpPr>
              <p:grpSpPr>
                <a:xfrm>
                  <a:off x="6934320" y="4076280"/>
                  <a:ext cx="228600" cy="388800"/>
                  <a:chOff x="6934320" y="4076280"/>
                  <a:chExt cx="228600" cy="388800"/>
                </a:xfrm>
              </p:grpSpPr>
              <p:sp>
                <p:nvSpPr>
                  <p:cNvPr id="747" name=""/>
                  <p:cNvSpPr/>
                  <p:nvPr/>
                </p:nvSpPr>
                <p:spPr>
                  <a:xfrm>
                    <a:off x="6934320" y="42706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 flipV="1">
                    <a:off x="6934320" y="40762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9" name=""/>
                <p:cNvGrpSpPr/>
                <p:nvPr/>
              </p:nvGrpSpPr>
              <p:grpSpPr>
                <a:xfrm>
                  <a:off x="7620120" y="4169880"/>
                  <a:ext cx="228600" cy="388800"/>
                  <a:chOff x="7620120" y="4169880"/>
                  <a:chExt cx="228600" cy="388800"/>
                </a:xfrm>
              </p:grpSpPr>
              <p:sp>
                <p:nvSpPr>
                  <p:cNvPr id="750" name=""/>
                  <p:cNvSpPr/>
                  <p:nvPr/>
                </p:nvSpPr>
                <p:spPr>
                  <a:xfrm>
                    <a:off x="7620120" y="43642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 flipV="1">
                    <a:off x="7620120" y="41698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2" name=""/>
                <p:cNvSpPr/>
                <p:nvPr/>
              </p:nvSpPr>
              <p:spPr>
                <a:xfrm>
                  <a:off x="4572360" y="3560400"/>
                  <a:ext cx="14475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eplica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esource-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edicat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3" name=""/>
                <p:cNvGrpSpPr/>
                <p:nvPr/>
              </p:nvGrpSpPr>
              <p:grpSpPr>
                <a:xfrm>
                  <a:off x="7315560" y="3924000"/>
                  <a:ext cx="228600" cy="388800"/>
                  <a:chOff x="7315560" y="3924000"/>
                  <a:chExt cx="228600" cy="388800"/>
                </a:xfrm>
              </p:grpSpPr>
              <p:sp>
                <p:nvSpPr>
                  <p:cNvPr id="754" name=""/>
                  <p:cNvSpPr/>
                  <p:nvPr/>
                </p:nvSpPr>
                <p:spPr>
                  <a:xfrm>
                    <a:off x="7315560" y="41184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flipV="1">
                    <a:off x="7315560" y="39240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6" name=""/>
                <p:cNvGrpSpPr/>
                <p:nvPr/>
              </p:nvGrpSpPr>
              <p:grpSpPr>
                <a:xfrm>
                  <a:off x="6477120" y="4152600"/>
                  <a:ext cx="228600" cy="388800"/>
                  <a:chOff x="6477120" y="4152600"/>
                  <a:chExt cx="228600" cy="388800"/>
                </a:xfrm>
              </p:grpSpPr>
              <p:sp>
                <p:nvSpPr>
                  <p:cNvPr id="757" name=""/>
                  <p:cNvSpPr/>
                  <p:nvPr/>
                </p:nvSpPr>
                <p:spPr>
                  <a:xfrm>
                    <a:off x="6477120" y="43470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 flipV="1">
                    <a:off x="6477120" y="41526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9" name=""/>
                <p:cNvGrpSpPr/>
                <p:nvPr/>
              </p:nvGrpSpPr>
              <p:grpSpPr>
                <a:xfrm>
                  <a:off x="6629760" y="3542760"/>
                  <a:ext cx="228600" cy="388800"/>
                  <a:chOff x="6629760" y="3542760"/>
                  <a:chExt cx="228600" cy="388800"/>
                </a:xfrm>
              </p:grpSpPr>
              <p:sp>
                <p:nvSpPr>
                  <p:cNvPr id="760" name=""/>
                  <p:cNvSpPr/>
                  <p:nvPr/>
                </p:nvSpPr>
                <p:spPr>
                  <a:xfrm>
                    <a:off x="6629760" y="37371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 flipV="1">
                    <a:off x="6629760" y="35427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2" name=""/>
                <p:cNvGrpSpPr/>
                <p:nvPr/>
              </p:nvGrpSpPr>
              <p:grpSpPr>
                <a:xfrm>
                  <a:off x="6553440" y="2971440"/>
                  <a:ext cx="380880" cy="545760"/>
                  <a:chOff x="6553440" y="2971440"/>
                  <a:chExt cx="380880" cy="545760"/>
                </a:xfrm>
              </p:grpSpPr>
              <p:sp>
                <p:nvSpPr>
                  <p:cNvPr id="763" name=""/>
                  <p:cNvSpPr/>
                  <p:nvPr/>
                </p:nvSpPr>
                <p:spPr>
                  <a:xfrm flipV="1">
                    <a:off x="6553440" y="2988720"/>
                    <a:ext cx="203040" cy="528480"/>
                  </a:xfrm>
                  <a:prstGeom prst="upArrow">
                    <a:avLst>
                      <a:gd name="adj1" fmla="val 50000"/>
                      <a:gd name="adj2" fmla="val 65071"/>
                    </a:avLst>
                  </a:prstGeom>
                  <a:solidFill>
                    <a:srgbClr val="003366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6731280" y="2971440"/>
                    <a:ext cx="203040" cy="528840"/>
                  </a:xfrm>
                  <a:prstGeom prst="upArrow">
                    <a:avLst>
                      <a:gd name="adj1" fmla="val 50000"/>
                      <a:gd name="adj2" fmla="val 65115"/>
                    </a:avLst>
                  </a:prstGeom>
                  <a:solidFill>
                    <a:srgbClr val="003366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65" name=""/>
              <p:cNvSpPr/>
              <p:nvPr/>
            </p:nvSpPr>
            <p:spPr>
              <a:xfrm>
                <a:off x="4235760" y="3009600"/>
                <a:ext cx="1589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Replic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6" name=""/>
          <p:cNvSpPr/>
          <p:nvPr/>
        </p:nvSpPr>
        <p:spPr>
          <a:xfrm>
            <a:off x="304920" y="4724280"/>
            <a:ext cx="8839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39200" indent="-404280">
              <a:lnSpc>
                <a:spcPct val="10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rototype choice because ‘ontology stable’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ther choices to maintain and support the ontology consensus (ex. FRODO proj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2F5F-B51D-4E33-B609-7BCDB250107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Dedicated sub-societies (document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4560" y="-360"/>
            <a:ext cx="87627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68000" indent="-43092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Document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-dedicated sub-society 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29880" indent="-27684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chive annotations on documents of the 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29880" indent="-27684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arch &amp; retrieve references matching quer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957240" y="1752480"/>
            <a:ext cx="7043760" cy="2876400"/>
            <a:chOff x="957240" y="1752480"/>
            <a:chExt cx="7043760" cy="2876400"/>
          </a:xfrm>
        </p:grpSpPr>
        <p:sp>
          <p:nvSpPr>
            <p:cNvPr id="770" name=""/>
            <p:cNvSpPr/>
            <p:nvPr/>
          </p:nvSpPr>
          <p:spPr>
            <a:xfrm>
              <a:off x="957240" y="1752480"/>
              <a:ext cx="31780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1044720" y="1879200"/>
              <a:ext cx="446040" cy="474840"/>
              <a:chOff x="1044720" y="1879200"/>
              <a:chExt cx="446040" cy="474840"/>
            </a:xfrm>
          </p:grpSpPr>
          <p:grpSp>
            <p:nvGrpSpPr>
              <p:cNvPr id="772" name=""/>
              <p:cNvGrpSpPr/>
              <p:nvPr/>
            </p:nvGrpSpPr>
            <p:grpSpPr>
              <a:xfrm>
                <a:off x="1197000" y="1879200"/>
                <a:ext cx="293760" cy="388800"/>
                <a:chOff x="1197000" y="1879200"/>
                <a:chExt cx="293760" cy="38880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1197000" y="207360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V="1">
                  <a:off x="1197000" y="187920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1143000" y="1908000"/>
                <a:ext cx="293760" cy="388800"/>
                <a:chOff x="1143000" y="1908000"/>
                <a:chExt cx="293760" cy="38880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1143000" y="210240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V="1">
                  <a:off x="1143000" y="190800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1098720" y="1936440"/>
                <a:ext cx="293400" cy="388800"/>
                <a:chOff x="1098720" y="1936440"/>
                <a:chExt cx="293400" cy="38880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1098720" y="213084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V="1">
                  <a:off x="1098720" y="193644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1044720" y="1965240"/>
                <a:ext cx="293400" cy="388800"/>
                <a:chOff x="1044720" y="1965240"/>
                <a:chExt cx="293400" cy="38880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1044720" y="215964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V="1">
                  <a:off x="1044720" y="196524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4" name=""/>
            <p:cNvSpPr/>
            <p:nvPr/>
          </p:nvSpPr>
          <p:spPr>
            <a:xfrm>
              <a:off x="1547640" y="1769760"/>
              <a:ext cx="2587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Ontology-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922480" y="3893760"/>
              <a:ext cx="3178440" cy="72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3139920" y="4031640"/>
              <a:ext cx="408240" cy="473400"/>
              <a:chOff x="3139920" y="4031640"/>
              <a:chExt cx="408240" cy="473400"/>
            </a:xfrm>
          </p:grpSpPr>
          <p:grpSp>
            <p:nvGrpSpPr>
              <p:cNvPr id="787" name=""/>
              <p:cNvGrpSpPr/>
              <p:nvPr/>
            </p:nvGrpSpPr>
            <p:grpSpPr>
              <a:xfrm>
                <a:off x="3278880" y="4031640"/>
                <a:ext cx="269280" cy="388440"/>
                <a:chOff x="3278880" y="4031640"/>
                <a:chExt cx="269280" cy="38844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3278880" y="422604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V="1">
                  <a:off x="3278880" y="403128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3229560" y="4060080"/>
                <a:ext cx="269280" cy="388440"/>
                <a:chOff x="3229560" y="4060080"/>
                <a:chExt cx="269280" cy="38844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3229560" y="425448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V="1">
                  <a:off x="3229560" y="405972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3188880" y="4088160"/>
                <a:ext cx="269280" cy="388440"/>
                <a:chOff x="3188880" y="4088160"/>
                <a:chExt cx="269280" cy="38844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188880" y="428256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V="1">
                  <a:off x="3188880" y="408780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3139920" y="4116600"/>
                <a:ext cx="269280" cy="388440"/>
                <a:chOff x="3139920" y="4116600"/>
                <a:chExt cx="269280" cy="38844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3139920" y="431100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flipV="1">
                  <a:off x="3139920" y="411624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9" name=""/>
            <p:cNvSpPr/>
            <p:nvPr/>
          </p:nvSpPr>
          <p:spPr>
            <a:xfrm>
              <a:off x="3660840" y="3924000"/>
              <a:ext cx="24019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-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821120" y="1752480"/>
              <a:ext cx="31798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5040360" y="1866600"/>
              <a:ext cx="412560" cy="474480"/>
              <a:chOff x="5040360" y="1866600"/>
              <a:chExt cx="412560" cy="474480"/>
            </a:xfrm>
          </p:grpSpPr>
          <p:grpSp>
            <p:nvGrpSpPr>
              <p:cNvPr id="802" name=""/>
              <p:cNvGrpSpPr/>
              <p:nvPr/>
            </p:nvGrpSpPr>
            <p:grpSpPr>
              <a:xfrm>
                <a:off x="5181480" y="1866600"/>
                <a:ext cx="271440" cy="388800"/>
                <a:chOff x="5181480" y="1866600"/>
                <a:chExt cx="271440" cy="38880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181480" y="206100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V="1">
                  <a:off x="5181480" y="186660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5130720" y="1895400"/>
                <a:ext cx="273240" cy="388800"/>
                <a:chOff x="5130720" y="1895400"/>
                <a:chExt cx="273240" cy="38880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5130720" y="2089800"/>
                  <a:ext cx="2732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flipV="1">
                  <a:off x="5130720" y="1895400"/>
                  <a:ext cx="2732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5089680" y="1923840"/>
                <a:ext cx="272880" cy="388800"/>
                <a:chOff x="5089680" y="1923840"/>
                <a:chExt cx="272880" cy="38880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5089680" y="2118240"/>
                  <a:ext cx="2728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flipV="1">
                  <a:off x="5089680" y="1923840"/>
                  <a:ext cx="2728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5040360" y="1952280"/>
                <a:ext cx="271440" cy="388800"/>
                <a:chOff x="5040360" y="1952280"/>
                <a:chExt cx="271440" cy="38880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5040360" y="214668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flipV="1">
                  <a:off x="5040360" y="195228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4" name=""/>
            <p:cNvSpPr/>
            <p:nvPr/>
          </p:nvSpPr>
          <p:spPr>
            <a:xfrm>
              <a:off x="5297400" y="1765080"/>
              <a:ext cx="26924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Document-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22480" y="2833560"/>
              <a:ext cx="317844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3127320" y="2969640"/>
              <a:ext cx="420840" cy="473400"/>
              <a:chOff x="3127320" y="2969640"/>
              <a:chExt cx="420840" cy="473400"/>
            </a:xfrm>
          </p:grpSpPr>
          <p:grpSp>
            <p:nvGrpSpPr>
              <p:cNvPr id="817" name=""/>
              <p:cNvGrpSpPr/>
              <p:nvPr/>
            </p:nvGrpSpPr>
            <p:grpSpPr>
              <a:xfrm>
                <a:off x="3270600" y="2969640"/>
                <a:ext cx="277560" cy="388440"/>
                <a:chOff x="3270600" y="2969640"/>
                <a:chExt cx="277560" cy="38844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3270600" y="316404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flipV="1">
                  <a:off x="3270600" y="296928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3219840" y="2998080"/>
                <a:ext cx="277560" cy="388440"/>
                <a:chOff x="3219840" y="2998080"/>
                <a:chExt cx="277560" cy="38844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3219840" y="319248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V="1">
                  <a:off x="3219840" y="299772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3177720" y="3026160"/>
                <a:ext cx="277560" cy="388440"/>
                <a:chOff x="3177720" y="3026160"/>
                <a:chExt cx="277560" cy="38844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3177720" y="322056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V="1">
                  <a:off x="3177720" y="302580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3127320" y="3054600"/>
                <a:ext cx="277560" cy="388440"/>
                <a:chOff x="3127320" y="3054600"/>
                <a:chExt cx="277560" cy="38844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3127320" y="324900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V="1">
                  <a:off x="3127320" y="305424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29" name=""/>
            <p:cNvSpPr/>
            <p:nvPr/>
          </p:nvSpPr>
          <p:spPr>
            <a:xfrm>
              <a:off x="3587760" y="2863440"/>
              <a:ext cx="28083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nection-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218040" y="2330280"/>
              <a:ext cx="73800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056200" y="3430440"/>
              <a:ext cx="0" cy="560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5435280" y="2330280"/>
              <a:ext cx="73980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E563-260A-45C5-89C5-528C86F194E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Dedicated sub-societies (document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4560" y="-360"/>
            <a:ext cx="87627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68000" indent="-43092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Document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-dedicated sub-society 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29880" indent="-27684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chive annotations on documents of the 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29880" indent="-27684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arch &amp; retrieve references matching quer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4821120" y="1752480"/>
            <a:ext cx="3179880" cy="725400"/>
            <a:chOff x="4821120" y="1752480"/>
            <a:chExt cx="3179880" cy="725400"/>
          </a:xfrm>
        </p:grpSpPr>
        <p:sp>
          <p:nvSpPr>
            <p:cNvPr id="836" name=""/>
            <p:cNvSpPr/>
            <p:nvPr/>
          </p:nvSpPr>
          <p:spPr>
            <a:xfrm>
              <a:off x="4821120" y="1752480"/>
              <a:ext cx="31798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5040360" y="1866600"/>
              <a:ext cx="412560" cy="474480"/>
              <a:chOff x="5040360" y="1866600"/>
              <a:chExt cx="412560" cy="474480"/>
            </a:xfrm>
          </p:grpSpPr>
          <p:grpSp>
            <p:nvGrpSpPr>
              <p:cNvPr id="838" name=""/>
              <p:cNvGrpSpPr/>
              <p:nvPr/>
            </p:nvGrpSpPr>
            <p:grpSpPr>
              <a:xfrm>
                <a:off x="5181480" y="1866600"/>
                <a:ext cx="271440" cy="388800"/>
                <a:chOff x="5181480" y="1866600"/>
                <a:chExt cx="271440" cy="38880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181480" y="206100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V="1">
                  <a:off x="5181480" y="186660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5130720" y="1895400"/>
                <a:ext cx="273240" cy="388800"/>
                <a:chOff x="5130720" y="1895400"/>
                <a:chExt cx="273240" cy="38880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5130720" y="2089800"/>
                  <a:ext cx="2732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flipV="1">
                  <a:off x="5130720" y="1895400"/>
                  <a:ext cx="2732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5089680" y="1923840"/>
                <a:ext cx="272880" cy="388800"/>
                <a:chOff x="5089680" y="1923840"/>
                <a:chExt cx="272880" cy="38880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5089680" y="2118240"/>
                  <a:ext cx="2728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flipV="1">
                  <a:off x="5089680" y="1923840"/>
                  <a:ext cx="2728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5040360" y="1952280"/>
                <a:ext cx="271440" cy="388800"/>
                <a:chOff x="5040360" y="1952280"/>
                <a:chExt cx="271440" cy="3888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5040360" y="214668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V="1">
                  <a:off x="5040360" y="195228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0" name=""/>
            <p:cNvSpPr/>
            <p:nvPr/>
          </p:nvSpPr>
          <p:spPr>
            <a:xfrm>
              <a:off x="5297400" y="1765080"/>
              <a:ext cx="26924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Document-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1371600" y="2188800"/>
            <a:ext cx="7345080" cy="2079360"/>
            <a:chOff x="1371600" y="2188800"/>
            <a:chExt cx="7345080" cy="2079360"/>
          </a:xfrm>
        </p:grpSpPr>
        <p:grpSp>
          <p:nvGrpSpPr>
            <p:cNvPr id="852" name=""/>
            <p:cNvGrpSpPr/>
            <p:nvPr/>
          </p:nvGrpSpPr>
          <p:grpSpPr>
            <a:xfrm>
              <a:off x="1371600" y="2611080"/>
              <a:ext cx="3840120" cy="1657080"/>
              <a:chOff x="1371600" y="2611080"/>
              <a:chExt cx="3840120" cy="1657080"/>
            </a:xfrm>
          </p:grpSpPr>
          <p:grpSp>
            <p:nvGrpSpPr>
              <p:cNvPr id="853" name=""/>
              <p:cNvGrpSpPr/>
              <p:nvPr/>
            </p:nvGrpSpPr>
            <p:grpSpPr>
              <a:xfrm>
                <a:off x="1630440" y="2611080"/>
                <a:ext cx="3581280" cy="1657080"/>
                <a:chOff x="1630440" y="2611080"/>
                <a:chExt cx="3581280" cy="165708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1630440" y="3106440"/>
                  <a:ext cx="3581280" cy="1143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5" name=""/>
                <p:cNvGrpSpPr/>
                <p:nvPr/>
              </p:nvGrpSpPr>
              <p:grpSpPr>
                <a:xfrm>
                  <a:off x="4449960" y="3195360"/>
                  <a:ext cx="228600" cy="388800"/>
                  <a:chOff x="4449960" y="3195360"/>
                  <a:chExt cx="228600" cy="38880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4449960" y="33897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3366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V="1">
                    <a:off x="4449960" y="31953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3366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8" name=""/>
                <p:cNvGrpSpPr/>
                <p:nvPr/>
              </p:nvGrpSpPr>
              <p:grpSpPr>
                <a:xfrm>
                  <a:off x="3306960" y="3792240"/>
                  <a:ext cx="228600" cy="388800"/>
                  <a:chOff x="3306960" y="3792240"/>
                  <a:chExt cx="228600" cy="388800"/>
                </a:xfrm>
              </p:grpSpPr>
              <p:sp>
                <p:nvSpPr>
                  <p:cNvPr id="859" name=""/>
                  <p:cNvSpPr/>
                  <p:nvPr/>
                </p:nvSpPr>
                <p:spPr>
                  <a:xfrm>
                    <a:off x="3306960" y="39866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V="1">
                    <a:off x="3306960" y="37922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1" name=""/>
                <p:cNvGrpSpPr/>
                <p:nvPr/>
              </p:nvGrpSpPr>
              <p:grpSpPr>
                <a:xfrm>
                  <a:off x="3764160" y="3195360"/>
                  <a:ext cx="228600" cy="388800"/>
                  <a:chOff x="3764160" y="3195360"/>
                  <a:chExt cx="228600" cy="388800"/>
                </a:xfrm>
              </p:grpSpPr>
              <p:sp>
                <p:nvSpPr>
                  <p:cNvPr id="862" name=""/>
                  <p:cNvSpPr/>
                  <p:nvPr/>
                </p:nvSpPr>
                <p:spPr>
                  <a:xfrm>
                    <a:off x="3764160" y="33897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3366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flipV="1">
                    <a:off x="3764160" y="31953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3366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4" name=""/>
                <p:cNvGrpSpPr/>
                <p:nvPr/>
              </p:nvGrpSpPr>
              <p:grpSpPr>
                <a:xfrm>
                  <a:off x="3764160" y="3792240"/>
                  <a:ext cx="228600" cy="388800"/>
                  <a:chOff x="3764160" y="3792240"/>
                  <a:chExt cx="228600" cy="38880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>
                    <a:off x="3764160" y="39866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flipV="1">
                    <a:off x="3764160" y="37922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7" name=""/>
                <p:cNvGrpSpPr/>
                <p:nvPr/>
              </p:nvGrpSpPr>
              <p:grpSpPr>
                <a:xfrm>
                  <a:off x="4297320" y="3792240"/>
                  <a:ext cx="228600" cy="388800"/>
                  <a:chOff x="4297320" y="3792240"/>
                  <a:chExt cx="228600" cy="388800"/>
                </a:xfrm>
              </p:grpSpPr>
              <p:sp>
                <p:nvSpPr>
                  <p:cNvPr id="868" name=""/>
                  <p:cNvSpPr/>
                  <p:nvPr/>
                </p:nvSpPr>
                <p:spPr>
                  <a:xfrm>
                    <a:off x="4297320" y="39866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V="1">
                    <a:off x="4297320" y="37922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0" name=""/>
                <p:cNvGrpSpPr/>
                <p:nvPr/>
              </p:nvGrpSpPr>
              <p:grpSpPr>
                <a:xfrm>
                  <a:off x="4754520" y="3792240"/>
                  <a:ext cx="228600" cy="388800"/>
                  <a:chOff x="4754520" y="3792240"/>
                  <a:chExt cx="228600" cy="388800"/>
                </a:xfrm>
              </p:grpSpPr>
              <p:sp>
                <p:nvSpPr>
                  <p:cNvPr id="871" name=""/>
                  <p:cNvSpPr/>
                  <p:nvPr/>
                </p:nvSpPr>
                <p:spPr>
                  <a:xfrm>
                    <a:off x="4754520" y="39866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 flipV="1">
                    <a:off x="4754520" y="37922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3" name=""/>
                <p:cNvSpPr/>
                <p:nvPr/>
              </p:nvSpPr>
              <p:spPr>
                <a:xfrm>
                  <a:off x="1630440" y="3665160"/>
                  <a:ext cx="358128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1691640" y="3157200"/>
                  <a:ext cx="169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epresentativ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1706400" y="3625560"/>
                  <a:ext cx="12139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esource-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edicat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V="1">
                  <a:off x="3611520" y="3626640"/>
                  <a:ext cx="228600" cy="1522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H="1" flipV="1">
                  <a:off x="3916440" y="3626640"/>
                  <a:ext cx="380880" cy="30492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8" name=""/>
                <p:cNvGrpSpPr/>
                <p:nvPr/>
              </p:nvGrpSpPr>
              <p:grpSpPr>
                <a:xfrm>
                  <a:off x="3687840" y="2611080"/>
                  <a:ext cx="380880" cy="545760"/>
                  <a:chOff x="3687840" y="2611080"/>
                  <a:chExt cx="380880" cy="545760"/>
                </a:xfrm>
              </p:grpSpPr>
              <p:sp>
                <p:nvSpPr>
                  <p:cNvPr id="879" name=""/>
                  <p:cNvSpPr/>
                  <p:nvPr/>
                </p:nvSpPr>
                <p:spPr>
                  <a:xfrm flipV="1">
                    <a:off x="3687840" y="2628360"/>
                    <a:ext cx="203040" cy="528480"/>
                  </a:xfrm>
                  <a:prstGeom prst="upArrow">
                    <a:avLst>
                      <a:gd name="adj1" fmla="val 50000"/>
                      <a:gd name="adj2" fmla="val 65071"/>
                    </a:avLst>
                  </a:prstGeom>
                  <a:solidFill>
                    <a:srgbClr val="003366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3865680" y="2611080"/>
                    <a:ext cx="203040" cy="528840"/>
                  </a:xfrm>
                  <a:prstGeom prst="upArrow">
                    <a:avLst>
                      <a:gd name="adj1" fmla="val 50000"/>
                      <a:gd name="adj2" fmla="val 65115"/>
                    </a:avLst>
                  </a:prstGeom>
                  <a:solidFill>
                    <a:srgbClr val="003366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81" name=""/>
              <p:cNvSpPr/>
              <p:nvPr/>
            </p:nvSpPr>
            <p:spPr>
              <a:xfrm>
                <a:off x="1371600" y="2649240"/>
                <a:ext cx="140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Hierarch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5051520" y="2188800"/>
              <a:ext cx="3665160" cy="1468800"/>
              <a:chOff x="5051520" y="2188800"/>
              <a:chExt cx="3665160" cy="1468800"/>
            </a:xfrm>
          </p:grpSpPr>
          <p:sp>
            <p:nvSpPr>
              <p:cNvPr id="883" name=""/>
              <p:cNvSpPr/>
              <p:nvPr/>
            </p:nvSpPr>
            <p:spPr>
              <a:xfrm flipH="1" rot="19452000">
                <a:off x="5274000" y="2379240"/>
                <a:ext cx="1003320" cy="10872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4" name=""/>
              <p:cNvGrpSpPr/>
              <p:nvPr/>
            </p:nvGrpSpPr>
            <p:grpSpPr>
              <a:xfrm>
                <a:off x="5619960" y="2607840"/>
                <a:ext cx="429480" cy="673560"/>
                <a:chOff x="5619960" y="2607840"/>
                <a:chExt cx="429480" cy="673560"/>
              </a:xfrm>
            </p:grpSpPr>
            <p:grpSp>
              <p:nvGrpSpPr>
                <p:cNvPr id="885" name=""/>
                <p:cNvGrpSpPr/>
                <p:nvPr/>
              </p:nvGrpSpPr>
              <p:grpSpPr>
                <a:xfrm>
                  <a:off x="5635080" y="2607840"/>
                  <a:ext cx="414360" cy="411840"/>
                  <a:chOff x="5635080" y="2607840"/>
                  <a:chExt cx="414360" cy="411840"/>
                </a:xfrm>
              </p:grpSpPr>
              <p:grpSp>
                <p:nvGrpSpPr>
                  <p:cNvPr id="886" name=""/>
                  <p:cNvGrpSpPr/>
                  <p:nvPr/>
                </p:nvGrpSpPr>
                <p:grpSpPr>
                  <a:xfrm>
                    <a:off x="5635080" y="2613960"/>
                    <a:ext cx="406440" cy="403920"/>
                    <a:chOff x="5635080" y="2613960"/>
                    <a:chExt cx="406440" cy="403920"/>
                  </a:xfrm>
                </p:grpSpPr>
                <p:grpSp>
                  <p:nvGrpSpPr>
                    <p:cNvPr id="887" name=""/>
                    <p:cNvGrpSpPr/>
                    <p:nvPr/>
                  </p:nvGrpSpPr>
                  <p:grpSpPr>
                    <a:xfrm>
                      <a:off x="5635080" y="2613960"/>
                      <a:ext cx="406440" cy="403920"/>
                      <a:chOff x="5635080" y="2613960"/>
                      <a:chExt cx="406440" cy="403920"/>
                    </a:xfrm>
                  </p:grpSpPr>
                  <p:sp>
                    <p:nvSpPr>
                      <p:cNvPr id="888" name=""/>
                      <p:cNvSpPr/>
                      <p:nvPr/>
                    </p:nvSpPr>
                    <p:spPr>
                      <a:xfrm flipH="1">
                        <a:off x="5696640" y="2613960"/>
                        <a:ext cx="344520" cy="234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6" h="739">
                            <a:moveTo>
                              <a:pt x="23" y="739"/>
                            </a:moveTo>
                            <a:lnTo>
                              <a:pt x="7" y="652"/>
                            </a:lnTo>
                            <a:lnTo>
                              <a:pt x="0" y="568"/>
                            </a:lnTo>
                            <a:lnTo>
                              <a:pt x="3" y="510"/>
                            </a:lnTo>
                            <a:lnTo>
                              <a:pt x="13" y="457"/>
                            </a:lnTo>
                            <a:lnTo>
                              <a:pt x="29" y="398"/>
                            </a:lnTo>
                            <a:lnTo>
                              <a:pt x="55" y="340"/>
                            </a:lnTo>
                            <a:lnTo>
                              <a:pt x="88" y="279"/>
                            </a:lnTo>
                            <a:lnTo>
                              <a:pt x="120" y="230"/>
                            </a:lnTo>
                            <a:lnTo>
                              <a:pt x="159" y="181"/>
                            </a:lnTo>
                            <a:lnTo>
                              <a:pt x="205" y="139"/>
                            </a:lnTo>
                            <a:lnTo>
                              <a:pt x="250" y="104"/>
                            </a:lnTo>
                            <a:lnTo>
                              <a:pt x="299" y="75"/>
                            </a:lnTo>
                            <a:lnTo>
                              <a:pt x="359" y="49"/>
                            </a:lnTo>
                            <a:lnTo>
                              <a:pt x="427" y="26"/>
                            </a:lnTo>
                            <a:lnTo>
                              <a:pt x="485" y="10"/>
                            </a:lnTo>
                            <a:lnTo>
                              <a:pt x="557" y="0"/>
                            </a:lnTo>
                            <a:lnTo>
                              <a:pt x="648" y="0"/>
                            </a:lnTo>
                            <a:lnTo>
                              <a:pt x="716" y="13"/>
                            </a:lnTo>
                            <a:lnTo>
                              <a:pt x="797" y="32"/>
                            </a:lnTo>
                            <a:lnTo>
                              <a:pt x="878" y="68"/>
                            </a:lnTo>
                            <a:lnTo>
                              <a:pt x="950" y="110"/>
                            </a:lnTo>
                            <a:lnTo>
                              <a:pt x="998" y="152"/>
                            </a:lnTo>
                            <a:lnTo>
                              <a:pt x="1047" y="201"/>
                            </a:lnTo>
                            <a:lnTo>
                              <a:pt x="1086" y="249"/>
                            </a:lnTo>
                            <a:lnTo>
                              <a:pt x="982" y="172"/>
                            </a:lnTo>
                            <a:lnTo>
                              <a:pt x="927" y="139"/>
                            </a:lnTo>
                            <a:lnTo>
                              <a:pt x="868" y="117"/>
                            </a:lnTo>
                            <a:lnTo>
                              <a:pt x="794" y="94"/>
                            </a:lnTo>
                            <a:lnTo>
                              <a:pt x="722" y="84"/>
                            </a:lnTo>
                            <a:lnTo>
                              <a:pt x="644" y="81"/>
                            </a:lnTo>
                            <a:lnTo>
                              <a:pt x="586" y="84"/>
                            </a:lnTo>
                            <a:lnTo>
                              <a:pt x="524" y="94"/>
                            </a:lnTo>
                            <a:lnTo>
                              <a:pt x="462" y="110"/>
                            </a:lnTo>
                            <a:lnTo>
                              <a:pt x="404" y="130"/>
                            </a:lnTo>
                            <a:lnTo>
                              <a:pt x="339" y="162"/>
                            </a:lnTo>
                            <a:lnTo>
                              <a:pt x="289" y="191"/>
                            </a:lnTo>
                            <a:lnTo>
                              <a:pt x="247" y="227"/>
                            </a:lnTo>
                            <a:lnTo>
                              <a:pt x="198" y="266"/>
                            </a:lnTo>
                            <a:lnTo>
                              <a:pt x="159" y="308"/>
                            </a:lnTo>
                            <a:lnTo>
                              <a:pt x="120" y="366"/>
                            </a:lnTo>
                            <a:lnTo>
                              <a:pt x="85" y="427"/>
                            </a:lnTo>
                            <a:lnTo>
                              <a:pt x="62" y="486"/>
                            </a:lnTo>
                            <a:lnTo>
                              <a:pt x="42" y="555"/>
                            </a:lnTo>
                            <a:lnTo>
                              <a:pt x="29" y="639"/>
                            </a:lnTo>
                            <a:lnTo>
                              <a:pt x="23" y="739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9" name=""/>
                      <p:cNvSpPr/>
                      <p:nvPr/>
                    </p:nvSpPr>
                    <p:spPr>
                      <a:xfrm flipH="1">
                        <a:off x="5635080" y="2729520"/>
                        <a:ext cx="380880" cy="288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98" h="908">
                            <a:moveTo>
                              <a:pt x="0" y="552"/>
                            </a:moveTo>
                            <a:lnTo>
                              <a:pt x="69" y="629"/>
                            </a:lnTo>
                            <a:lnTo>
                              <a:pt x="143" y="697"/>
                            </a:lnTo>
                            <a:lnTo>
                              <a:pt x="211" y="736"/>
                            </a:lnTo>
                            <a:lnTo>
                              <a:pt x="310" y="778"/>
                            </a:lnTo>
                            <a:lnTo>
                              <a:pt x="388" y="801"/>
                            </a:lnTo>
                            <a:lnTo>
                              <a:pt x="459" y="811"/>
                            </a:lnTo>
                            <a:lnTo>
                              <a:pt x="544" y="811"/>
                            </a:lnTo>
                            <a:lnTo>
                              <a:pt x="605" y="804"/>
                            </a:lnTo>
                            <a:lnTo>
                              <a:pt x="680" y="791"/>
                            </a:lnTo>
                            <a:lnTo>
                              <a:pt x="755" y="769"/>
                            </a:lnTo>
                            <a:lnTo>
                              <a:pt x="817" y="736"/>
                            </a:lnTo>
                            <a:lnTo>
                              <a:pt x="875" y="701"/>
                            </a:lnTo>
                            <a:lnTo>
                              <a:pt x="927" y="665"/>
                            </a:lnTo>
                            <a:lnTo>
                              <a:pt x="979" y="613"/>
                            </a:lnTo>
                            <a:lnTo>
                              <a:pt x="1031" y="555"/>
                            </a:lnTo>
                            <a:lnTo>
                              <a:pt x="1071" y="500"/>
                            </a:lnTo>
                            <a:lnTo>
                              <a:pt x="1094" y="445"/>
                            </a:lnTo>
                            <a:lnTo>
                              <a:pt x="1123" y="357"/>
                            </a:lnTo>
                            <a:lnTo>
                              <a:pt x="1142" y="267"/>
                            </a:lnTo>
                            <a:lnTo>
                              <a:pt x="1146" y="186"/>
                            </a:lnTo>
                            <a:lnTo>
                              <a:pt x="1133" y="97"/>
                            </a:lnTo>
                            <a:lnTo>
                              <a:pt x="1103" y="0"/>
                            </a:lnTo>
                            <a:lnTo>
                              <a:pt x="1133" y="52"/>
                            </a:lnTo>
                            <a:lnTo>
                              <a:pt x="1165" y="126"/>
                            </a:lnTo>
                            <a:lnTo>
                              <a:pt x="1181" y="195"/>
                            </a:lnTo>
                            <a:lnTo>
                              <a:pt x="1198" y="260"/>
                            </a:lnTo>
                            <a:lnTo>
                              <a:pt x="1194" y="315"/>
                            </a:lnTo>
                            <a:lnTo>
                              <a:pt x="1191" y="390"/>
                            </a:lnTo>
                            <a:lnTo>
                              <a:pt x="1152" y="532"/>
                            </a:lnTo>
                            <a:lnTo>
                              <a:pt x="1113" y="610"/>
                            </a:lnTo>
                            <a:lnTo>
                              <a:pt x="1064" y="678"/>
                            </a:lnTo>
                            <a:lnTo>
                              <a:pt x="1011" y="736"/>
                            </a:lnTo>
                            <a:lnTo>
                              <a:pt x="959" y="778"/>
                            </a:lnTo>
                            <a:lnTo>
                              <a:pt x="888" y="827"/>
                            </a:lnTo>
                            <a:lnTo>
                              <a:pt x="817" y="859"/>
                            </a:lnTo>
                            <a:lnTo>
                              <a:pt x="748" y="882"/>
                            </a:lnTo>
                            <a:lnTo>
                              <a:pt x="661" y="905"/>
                            </a:lnTo>
                            <a:lnTo>
                              <a:pt x="596" y="908"/>
                            </a:lnTo>
                            <a:lnTo>
                              <a:pt x="524" y="908"/>
                            </a:lnTo>
                            <a:lnTo>
                              <a:pt x="453" y="895"/>
                            </a:lnTo>
                            <a:lnTo>
                              <a:pt x="375" y="879"/>
                            </a:lnTo>
                            <a:lnTo>
                              <a:pt x="323" y="859"/>
                            </a:lnTo>
                            <a:lnTo>
                              <a:pt x="254" y="824"/>
                            </a:lnTo>
                            <a:lnTo>
                              <a:pt x="195" y="791"/>
                            </a:lnTo>
                            <a:lnTo>
                              <a:pt x="140" y="746"/>
                            </a:lnTo>
                            <a:lnTo>
                              <a:pt x="82" y="684"/>
                            </a:lnTo>
                            <a:lnTo>
                              <a:pt x="26" y="607"/>
                            </a:lnTo>
                            <a:lnTo>
                              <a:pt x="0" y="552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90" name=""/>
                    <p:cNvGrpSpPr/>
                    <p:nvPr/>
                  </p:nvGrpSpPr>
                  <p:grpSpPr>
                    <a:xfrm>
                      <a:off x="5636520" y="2620080"/>
                      <a:ext cx="401760" cy="379800"/>
                      <a:chOff x="5636520" y="2620080"/>
                      <a:chExt cx="401760" cy="379800"/>
                    </a:xfrm>
                  </p:grpSpPr>
                  <p:sp>
                    <p:nvSpPr>
                      <p:cNvPr id="891" name=""/>
                      <p:cNvSpPr/>
                      <p:nvPr/>
                    </p:nvSpPr>
                    <p:spPr>
                      <a:xfrm flipH="1">
                        <a:off x="5917320" y="2904840"/>
                        <a:ext cx="9828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1" h="300">
                            <a:moveTo>
                              <a:pt x="0" y="0"/>
                            </a:moveTo>
                            <a:lnTo>
                              <a:pt x="33" y="60"/>
                            </a:lnTo>
                            <a:lnTo>
                              <a:pt x="64" y="107"/>
                            </a:lnTo>
                            <a:lnTo>
                              <a:pt x="98" y="149"/>
                            </a:lnTo>
                            <a:lnTo>
                              <a:pt x="150" y="199"/>
                            </a:lnTo>
                            <a:lnTo>
                              <a:pt x="189" y="232"/>
                            </a:lnTo>
                            <a:lnTo>
                              <a:pt x="238" y="263"/>
                            </a:lnTo>
                            <a:lnTo>
                              <a:pt x="311" y="300"/>
                            </a:lnTo>
                            <a:lnTo>
                              <a:pt x="230" y="190"/>
                            </a:lnTo>
                            <a:lnTo>
                              <a:pt x="184" y="164"/>
                            </a:lnTo>
                            <a:lnTo>
                              <a:pt x="152" y="141"/>
                            </a:lnTo>
                            <a:lnTo>
                              <a:pt x="104" y="109"/>
                            </a:lnTo>
                            <a:lnTo>
                              <a:pt x="67" y="74"/>
                            </a:lnTo>
                            <a:lnTo>
                              <a:pt x="38" y="4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2" name=""/>
                      <p:cNvSpPr/>
                      <p:nvPr/>
                    </p:nvSpPr>
                    <p:spPr>
                      <a:xfrm flipH="1">
                        <a:off x="5636160" y="2727720"/>
                        <a:ext cx="34920" cy="18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590">
                            <a:moveTo>
                              <a:pt x="21" y="0"/>
                            </a:moveTo>
                            <a:lnTo>
                              <a:pt x="42" y="40"/>
                            </a:lnTo>
                            <a:lnTo>
                              <a:pt x="56" y="75"/>
                            </a:lnTo>
                            <a:lnTo>
                              <a:pt x="71" y="111"/>
                            </a:lnTo>
                            <a:lnTo>
                              <a:pt x="82" y="145"/>
                            </a:lnTo>
                            <a:lnTo>
                              <a:pt x="91" y="178"/>
                            </a:lnTo>
                            <a:lnTo>
                              <a:pt x="107" y="235"/>
                            </a:lnTo>
                            <a:lnTo>
                              <a:pt x="111" y="291"/>
                            </a:lnTo>
                            <a:lnTo>
                              <a:pt x="108" y="377"/>
                            </a:lnTo>
                            <a:lnTo>
                              <a:pt x="101" y="436"/>
                            </a:lnTo>
                            <a:lnTo>
                              <a:pt x="89" y="483"/>
                            </a:lnTo>
                            <a:lnTo>
                              <a:pt x="70" y="533"/>
                            </a:lnTo>
                            <a:lnTo>
                              <a:pt x="45" y="590"/>
                            </a:lnTo>
                            <a:lnTo>
                              <a:pt x="0" y="479"/>
                            </a:lnTo>
                            <a:lnTo>
                              <a:pt x="21" y="430"/>
                            </a:lnTo>
                            <a:lnTo>
                              <a:pt x="30" y="404"/>
                            </a:lnTo>
                            <a:lnTo>
                              <a:pt x="42" y="371"/>
                            </a:lnTo>
                            <a:lnTo>
                              <a:pt x="50" y="336"/>
                            </a:lnTo>
                            <a:lnTo>
                              <a:pt x="56" y="283"/>
                            </a:lnTo>
                            <a:lnTo>
                              <a:pt x="59" y="239"/>
                            </a:lnTo>
                            <a:lnTo>
                              <a:pt x="59" y="173"/>
                            </a:lnTo>
                            <a:lnTo>
                              <a:pt x="50" y="114"/>
                            </a:lnTo>
                            <a:lnTo>
                              <a:pt x="39" y="65"/>
                            </a:lnTo>
                            <a:lnTo>
                              <a:pt x="32" y="39"/>
                            </a:lnTo>
                            <a:lnTo>
                              <a:pt x="2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3" name=""/>
                      <p:cNvSpPr/>
                      <p:nvPr/>
                    </p:nvSpPr>
                    <p:spPr>
                      <a:xfrm flipH="1">
                        <a:off x="5716080" y="2620080"/>
                        <a:ext cx="13968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1" h="178">
                            <a:moveTo>
                              <a:pt x="0" y="0"/>
                            </a:moveTo>
                            <a:lnTo>
                              <a:pt x="33" y="65"/>
                            </a:lnTo>
                            <a:lnTo>
                              <a:pt x="85" y="62"/>
                            </a:lnTo>
                            <a:lnTo>
                              <a:pt x="133" y="65"/>
                            </a:lnTo>
                            <a:lnTo>
                              <a:pt x="177" y="72"/>
                            </a:lnTo>
                            <a:lnTo>
                              <a:pt x="218" y="79"/>
                            </a:lnTo>
                            <a:lnTo>
                              <a:pt x="259" y="90"/>
                            </a:lnTo>
                            <a:lnTo>
                              <a:pt x="288" y="99"/>
                            </a:lnTo>
                            <a:lnTo>
                              <a:pt x="324" y="114"/>
                            </a:lnTo>
                            <a:lnTo>
                              <a:pt x="367" y="134"/>
                            </a:lnTo>
                            <a:lnTo>
                              <a:pt x="441" y="178"/>
                            </a:lnTo>
                            <a:lnTo>
                              <a:pt x="398" y="133"/>
                            </a:lnTo>
                            <a:lnTo>
                              <a:pt x="368" y="110"/>
                            </a:lnTo>
                            <a:lnTo>
                              <a:pt x="328" y="84"/>
                            </a:lnTo>
                            <a:lnTo>
                              <a:pt x="303" y="69"/>
                            </a:lnTo>
                            <a:lnTo>
                              <a:pt x="247" y="43"/>
                            </a:lnTo>
                            <a:lnTo>
                              <a:pt x="212" y="31"/>
                            </a:lnTo>
                            <a:lnTo>
                              <a:pt x="183" y="21"/>
                            </a:lnTo>
                            <a:lnTo>
                              <a:pt x="155" y="14"/>
                            </a:lnTo>
                            <a:lnTo>
                              <a:pt x="113" y="7"/>
                            </a:lnTo>
                            <a:lnTo>
                              <a:pt x="69" y="1"/>
                            </a:lnTo>
                            <a:lnTo>
                              <a:pt x="19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4" name=""/>
                      <p:cNvSpPr/>
                      <p:nvPr/>
                    </p:nvSpPr>
                    <p:spPr>
                      <a:xfrm flipH="1">
                        <a:off x="5993640" y="2698920"/>
                        <a:ext cx="44280" cy="13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1" h="417">
                            <a:moveTo>
                              <a:pt x="0" y="320"/>
                            </a:moveTo>
                            <a:lnTo>
                              <a:pt x="3" y="288"/>
                            </a:lnTo>
                            <a:lnTo>
                              <a:pt x="5" y="252"/>
                            </a:lnTo>
                            <a:lnTo>
                              <a:pt x="15" y="195"/>
                            </a:lnTo>
                            <a:lnTo>
                              <a:pt x="26" y="150"/>
                            </a:lnTo>
                            <a:lnTo>
                              <a:pt x="41" y="109"/>
                            </a:lnTo>
                            <a:lnTo>
                              <a:pt x="60" y="67"/>
                            </a:lnTo>
                            <a:lnTo>
                              <a:pt x="78" y="34"/>
                            </a:lnTo>
                            <a:lnTo>
                              <a:pt x="99" y="0"/>
                            </a:lnTo>
                            <a:lnTo>
                              <a:pt x="141" y="54"/>
                            </a:lnTo>
                            <a:lnTo>
                              <a:pt x="117" y="86"/>
                            </a:lnTo>
                            <a:lnTo>
                              <a:pt x="99" y="115"/>
                            </a:lnTo>
                            <a:lnTo>
                              <a:pt x="85" y="142"/>
                            </a:lnTo>
                            <a:lnTo>
                              <a:pt x="65" y="180"/>
                            </a:lnTo>
                            <a:lnTo>
                              <a:pt x="52" y="213"/>
                            </a:lnTo>
                            <a:lnTo>
                              <a:pt x="44" y="246"/>
                            </a:lnTo>
                            <a:lnTo>
                              <a:pt x="34" y="278"/>
                            </a:lnTo>
                            <a:lnTo>
                              <a:pt x="28" y="314"/>
                            </a:lnTo>
                            <a:lnTo>
                              <a:pt x="23" y="357"/>
                            </a:lnTo>
                            <a:lnTo>
                              <a:pt x="18" y="400"/>
                            </a:lnTo>
                            <a:lnTo>
                              <a:pt x="11" y="417"/>
                            </a:lnTo>
                            <a:lnTo>
                              <a:pt x="0" y="32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95" name=""/>
                  <p:cNvSpPr/>
                  <p:nvPr/>
                </p:nvSpPr>
                <p:spPr>
                  <a:xfrm flipH="1">
                    <a:off x="5634720" y="2639520"/>
                    <a:ext cx="398520" cy="380160"/>
                  </a:xfrm>
                  <a:prstGeom prst="ellipse">
                    <a:avLst/>
                  </a:prstGeom>
                  <a:noFill/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6" name=""/>
                  <p:cNvGrpSpPr/>
                  <p:nvPr/>
                </p:nvGrpSpPr>
                <p:grpSpPr>
                  <a:xfrm>
                    <a:off x="5650920" y="2607840"/>
                    <a:ext cx="398520" cy="380520"/>
                    <a:chOff x="5650920" y="2607840"/>
                    <a:chExt cx="398520" cy="380520"/>
                  </a:xfrm>
                </p:grpSpPr>
                <p:sp>
                  <p:nvSpPr>
                    <p:cNvPr id="897" name=""/>
                    <p:cNvSpPr/>
                    <p:nvPr/>
                  </p:nvSpPr>
                  <p:spPr>
                    <a:xfrm flipH="1">
                      <a:off x="5657400" y="2613960"/>
                      <a:ext cx="387360" cy="369360"/>
                    </a:xfrm>
                    <a:prstGeom prst="ellipse">
                      <a:avLst/>
                    </a:prstGeom>
                    <a:noFill/>
                    <a:ln w="14400">
                      <a:solidFill>
                        <a:srgbClr val="9f9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 flipH="1">
                      <a:off x="5650560" y="2607840"/>
                      <a:ext cx="398520" cy="380520"/>
                    </a:xfrm>
                    <a:prstGeom prst="ellipse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" name=""/>
                    <p:cNvSpPr/>
                    <p:nvPr/>
                  </p:nvSpPr>
                  <p:spPr>
                    <a:xfrm flipH="1">
                      <a:off x="5663160" y="2620440"/>
                      <a:ext cx="374760" cy="356400"/>
                    </a:xfrm>
                    <a:prstGeom prst="ellipse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00" name=""/>
                <p:cNvGrpSpPr/>
                <p:nvPr/>
              </p:nvGrpSpPr>
              <p:grpSpPr>
                <a:xfrm>
                  <a:off x="5619960" y="2966040"/>
                  <a:ext cx="202680" cy="315360"/>
                  <a:chOff x="5619960" y="2966040"/>
                  <a:chExt cx="202680" cy="315360"/>
                </a:xfrm>
              </p:grpSpPr>
              <p:sp>
                <p:nvSpPr>
                  <p:cNvPr id="901" name=""/>
                  <p:cNvSpPr/>
                  <p:nvPr/>
                </p:nvSpPr>
                <p:spPr>
                  <a:xfrm flipH="1">
                    <a:off x="5626080" y="2981520"/>
                    <a:ext cx="19476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11" h="873">
                        <a:moveTo>
                          <a:pt x="0" y="65"/>
                        </a:moveTo>
                        <a:lnTo>
                          <a:pt x="433" y="873"/>
                        </a:lnTo>
                        <a:lnTo>
                          <a:pt x="611" y="783"/>
                        </a:lnTo>
                        <a:lnTo>
                          <a:pt x="175" y="0"/>
                        </a:lnTo>
                        <a:lnTo>
                          <a:pt x="0" y="65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 flipH="1">
                    <a:off x="5762880" y="2966040"/>
                    <a:ext cx="5832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38" y="13843"/>
                        </a:moveTo>
                        <a:arcTo wR="10800" hR="10800" stAng="9818105" swAng="1055423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38" y="13843"/>
                        </a:moveTo>
                        <a:arcTo wR="10800" hR="10800" stAng="9818105" swAng="10554234"/>
                      </a:path>
                    </a:pathLst>
                  </a:custGeom>
                  <a:solidFill>
                    <a:srgbClr val="5f3f1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flipH="1">
                    <a:off x="5760000" y="2970360"/>
                    <a:ext cx="5940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9" y="11931"/>
                        </a:moveTo>
                        <a:arcTo wR="10800" hR="10800" stAng="10439460" swAng="1005444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9" y="11931"/>
                        </a:moveTo>
                        <a:arcTo wR="10800" hR="10800" stAng="10439460" swAng="10054443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 flipH="1">
                    <a:off x="5785920" y="2970360"/>
                    <a:ext cx="363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223">
                        <a:moveTo>
                          <a:pt x="3" y="103"/>
                        </a:moveTo>
                        <a:lnTo>
                          <a:pt x="0" y="88"/>
                        </a:lnTo>
                        <a:lnTo>
                          <a:pt x="0" y="74"/>
                        </a:lnTo>
                        <a:lnTo>
                          <a:pt x="2" y="62"/>
                        </a:lnTo>
                        <a:lnTo>
                          <a:pt x="6" y="45"/>
                        </a:lnTo>
                        <a:lnTo>
                          <a:pt x="13" y="31"/>
                        </a:lnTo>
                        <a:lnTo>
                          <a:pt x="22" y="18"/>
                        </a:lnTo>
                        <a:lnTo>
                          <a:pt x="33" y="7"/>
                        </a:lnTo>
                        <a:lnTo>
                          <a:pt x="44" y="0"/>
                        </a:lnTo>
                        <a:lnTo>
                          <a:pt x="115" y="121"/>
                        </a:lnTo>
                        <a:lnTo>
                          <a:pt x="102" y="128"/>
                        </a:lnTo>
                        <a:lnTo>
                          <a:pt x="94" y="137"/>
                        </a:lnTo>
                        <a:lnTo>
                          <a:pt x="85" y="145"/>
                        </a:lnTo>
                        <a:lnTo>
                          <a:pt x="79" y="156"/>
                        </a:lnTo>
                        <a:lnTo>
                          <a:pt x="71" y="176"/>
                        </a:lnTo>
                        <a:lnTo>
                          <a:pt x="67" y="202"/>
                        </a:lnTo>
                        <a:lnTo>
                          <a:pt x="67" y="223"/>
                        </a:lnTo>
                        <a:lnTo>
                          <a:pt x="3" y="103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 flipH="1">
                    <a:off x="5761440" y="2967120"/>
                    <a:ext cx="594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58" y="13146"/>
                        </a:moveTo>
                        <a:arcTo wR="10800" hR="10800" stAng="10047177" swAng="48759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58" y="13146"/>
                        </a:moveTo>
                        <a:arcTo wR="10800" hR="10800" stAng="10047177" swAng="4875948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 flipH="1">
                    <a:off x="5740920" y="3005280"/>
                    <a:ext cx="594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3"/>
                        </a:moveTo>
                        <a:arcTo wR="10800" hR="10800" stAng="9986129" swAng="1042014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3"/>
                        </a:moveTo>
                        <a:arcTo wR="10800" hR="10800" stAng="9986129" swAng="10420145"/>
                      </a:path>
                    </a:pathLst>
                  </a:custGeom>
                  <a:solidFill>
                    <a:srgbClr val="7f3f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07" name=""/>
                  <p:cNvGrpSpPr/>
                  <p:nvPr/>
                </p:nvGrpSpPr>
                <p:grpSpPr>
                  <a:xfrm>
                    <a:off x="5736960" y="3009960"/>
                    <a:ext cx="61920" cy="61920"/>
                    <a:chOff x="5736960" y="3009960"/>
                    <a:chExt cx="61920" cy="61920"/>
                  </a:xfrm>
                </p:grpSpPr>
                <p:grpSp>
                  <p:nvGrpSpPr>
                    <p:cNvPr id="908" name=""/>
                    <p:cNvGrpSpPr/>
                    <p:nvPr/>
                  </p:nvGrpSpPr>
                  <p:grpSpPr>
                    <a:xfrm>
                      <a:off x="5739840" y="3009960"/>
                      <a:ext cx="59040" cy="55800"/>
                      <a:chOff x="5739840" y="3009960"/>
                      <a:chExt cx="59040" cy="55800"/>
                    </a:xfrm>
                  </p:grpSpPr>
                  <p:sp>
                    <p:nvSpPr>
                      <p:cNvPr id="909" name=""/>
                      <p:cNvSpPr/>
                      <p:nvPr/>
                    </p:nvSpPr>
                    <p:spPr>
                      <a:xfrm flipH="1">
                        <a:off x="5739840" y="3009960"/>
                        <a:ext cx="5904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301" y="13333"/>
                            </a:moveTo>
                            <a:arcTo wR="10800" hR="10800" stAng="9986129" swAng="10606913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301" y="13333"/>
                            </a:moveTo>
                            <a:arcTo wR="10800" hR="10800" stAng="9986129" swAng="10606913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0" name=""/>
                      <p:cNvSpPr/>
                      <p:nvPr/>
                    </p:nvSpPr>
                    <p:spPr>
                      <a:xfrm flipH="1">
                        <a:off x="5739840" y="3009960"/>
                        <a:ext cx="5868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301" y="13333"/>
                            </a:moveTo>
                            <a:arcTo wR="10800" hR="10800" stAng="9986129" swAng="4570572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301" y="13333"/>
                            </a:moveTo>
                            <a:arcTo wR="10800" hR="10800" stAng="9986129" swAng="4570572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1" name=""/>
                      <p:cNvSpPr/>
                      <p:nvPr/>
                    </p:nvSpPr>
                    <p:spPr>
                      <a:xfrm flipH="1">
                        <a:off x="5740200" y="3009960"/>
                        <a:ext cx="5760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6" y="13270"/>
                            </a:moveTo>
                            <a:arcTo wR="10800" hR="10800" stAng="10006785" swAng="1061132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6" y="13270"/>
                            </a:moveTo>
                            <a:arcTo wR="10800" hR="10800" stAng="10006785" swAng="10611320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12" name=""/>
                    <p:cNvSpPr/>
                    <p:nvPr/>
                  </p:nvSpPr>
                  <p:spPr>
                    <a:xfrm flipH="1">
                      <a:off x="5736960" y="3016080"/>
                      <a:ext cx="5760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6" y="13270"/>
                          </a:moveTo>
                          <a:arcTo wR="10800" hR="10800" stAng="10006785" swAng="1061132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6" y="13270"/>
                          </a:moveTo>
                          <a:arcTo wR="10800" hR="10800" stAng="10006785" swAng="10611320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13" name=""/>
                  <p:cNvGrpSpPr/>
                  <p:nvPr/>
                </p:nvGrpSpPr>
                <p:grpSpPr>
                  <a:xfrm>
                    <a:off x="5731200" y="3020400"/>
                    <a:ext cx="61560" cy="62280"/>
                    <a:chOff x="5731200" y="3020400"/>
                    <a:chExt cx="61560" cy="62280"/>
                  </a:xfrm>
                </p:grpSpPr>
                <p:grpSp>
                  <p:nvGrpSpPr>
                    <p:cNvPr id="914" name=""/>
                    <p:cNvGrpSpPr/>
                    <p:nvPr/>
                  </p:nvGrpSpPr>
                  <p:grpSpPr>
                    <a:xfrm>
                      <a:off x="5733360" y="3020400"/>
                      <a:ext cx="59400" cy="57240"/>
                      <a:chOff x="5733360" y="3020400"/>
                      <a:chExt cx="59400" cy="57240"/>
                    </a:xfrm>
                  </p:grpSpPr>
                  <p:sp>
                    <p:nvSpPr>
                      <p:cNvPr id="915" name=""/>
                      <p:cNvSpPr/>
                      <p:nvPr/>
                    </p:nvSpPr>
                    <p:spPr>
                      <a:xfrm flipH="1">
                        <a:off x="5733720" y="3021120"/>
                        <a:ext cx="5868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5" y="13266"/>
                            </a:moveTo>
                            <a:arcTo wR="10800" hR="10800" stAng="10007935" swAng="108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5" y="13266"/>
                            </a:moveTo>
                            <a:arcTo wR="10800" hR="10800" stAng="10007935" swAng="10800000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6" name=""/>
                      <p:cNvSpPr/>
                      <p:nvPr/>
                    </p:nvSpPr>
                    <p:spPr>
                      <a:xfrm flipH="1">
                        <a:off x="5733000" y="3020400"/>
                        <a:ext cx="59400" cy="5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5" y="13266"/>
                            </a:moveTo>
                            <a:arcTo wR="10800" hR="10800" stAng="10007935" swAng="4415176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5" y="13266"/>
                            </a:moveTo>
                            <a:arcTo wR="10800" hR="10800" stAng="10007935" swAng="4415176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7" name=""/>
                      <p:cNvSpPr/>
                      <p:nvPr/>
                    </p:nvSpPr>
                    <p:spPr>
                      <a:xfrm flipH="1">
                        <a:off x="5734440" y="3021120"/>
                        <a:ext cx="56880" cy="5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44" y="13084"/>
                            </a:moveTo>
                            <a:arcTo wR="10800" hR="10800" stAng="10067453" swAng="1071685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44" y="13084"/>
                            </a:moveTo>
                            <a:arcTo wR="10800" hR="10800" stAng="10067453" swAng="10716857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18" name=""/>
                    <p:cNvSpPr/>
                    <p:nvPr/>
                  </p:nvSpPr>
                  <p:spPr>
                    <a:xfrm flipH="1">
                      <a:off x="5730840" y="3027240"/>
                      <a:ext cx="5868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301" y="13333"/>
                          </a:moveTo>
                          <a:arcTo wR="10800" hR="10800" stAng="9986129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301" y="13333"/>
                          </a:moveTo>
                          <a:arcTo wR="10800" hR="10800" stAng="9986129" swAng="10800000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19" name=""/>
                  <p:cNvGrpSpPr/>
                  <p:nvPr/>
                </p:nvGrpSpPr>
                <p:grpSpPr>
                  <a:xfrm>
                    <a:off x="5726880" y="3031560"/>
                    <a:ext cx="59400" cy="56880"/>
                    <a:chOff x="5726880" y="3031560"/>
                    <a:chExt cx="59400" cy="56880"/>
                  </a:xfrm>
                </p:grpSpPr>
                <p:sp>
                  <p:nvSpPr>
                    <p:cNvPr id="920" name=""/>
                    <p:cNvSpPr/>
                    <p:nvPr/>
                  </p:nvSpPr>
                  <p:spPr>
                    <a:xfrm flipH="1">
                      <a:off x="5727240" y="303228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3" y="12671"/>
                          </a:moveTo>
                          <a:arcTo wR="10800" hR="10800" stAng="10201338" swAng="1060659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3" y="12671"/>
                          </a:moveTo>
                          <a:arcTo wR="10800" hR="10800" stAng="10201338" swAng="10606598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1" name=""/>
                    <p:cNvSpPr/>
                    <p:nvPr/>
                  </p:nvSpPr>
                  <p:spPr>
                    <a:xfrm flipH="1">
                      <a:off x="5726520" y="3031560"/>
                      <a:ext cx="59400" cy="5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3" y="12671"/>
                          </a:moveTo>
                          <a:arcTo wR="10800" hR="10800" stAng="10201338" swAng="422177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3" y="12671"/>
                          </a:moveTo>
                          <a:arcTo wR="10800" hR="10800" stAng="10201338" swAng="4221774"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22" name=""/>
                  <p:cNvGrpSpPr/>
                  <p:nvPr/>
                </p:nvGrpSpPr>
                <p:grpSpPr>
                  <a:xfrm>
                    <a:off x="5724720" y="3032280"/>
                    <a:ext cx="61560" cy="61200"/>
                    <a:chOff x="5724720" y="3032280"/>
                    <a:chExt cx="61560" cy="61200"/>
                  </a:xfrm>
                </p:grpSpPr>
                <p:sp>
                  <p:nvSpPr>
                    <p:cNvPr id="923" name=""/>
                    <p:cNvSpPr/>
                    <p:nvPr/>
                  </p:nvSpPr>
                  <p:spPr>
                    <a:xfrm flipH="1">
                      <a:off x="5727240" y="303228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5" y="13266"/>
                          </a:moveTo>
                          <a:arcTo wR="10800" hR="10800" stAng="10007935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5" y="13266"/>
                          </a:moveTo>
                          <a:arcTo wR="10800" hR="10800" stAng="10007935" swAng="10800000"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4" name=""/>
                    <p:cNvSpPr/>
                    <p:nvPr/>
                  </p:nvSpPr>
                  <p:spPr>
                    <a:xfrm flipH="1">
                      <a:off x="5724360" y="3038400"/>
                      <a:ext cx="5868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73" y="12723"/>
                          </a:moveTo>
                          <a:arcTo wR="10800" hR="10800" stAng="10184591" swAng="106015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73" y="12723"/>
                          </a:moveTo>
                          <a:arcTo wR="10800" hR="10800" stAng="10184591" swAng="10601538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25" name=""/>
                  <p:cNvGrpSpPr/>
                  <p:nvPr/>
                </p:nvGrpSpPr>
                <p:grpSpPr>
                  <a:xfrm>
                    <a:off x="5626800" y="2983320"/>
                    <a:ext cx="192960" cy="276840"/>
                    <a:chOff x="5626800" y="2983320"/>
                    <a:chExt cx="192960" cy="276840"/>
                  </a:xfrm>
                </p:grpSpPr>
                <p:sp>
                  <p:nvSpPr>
                    <p:cNvPr id="926" name=""/>
                    <p:cNvSpPr/>
                    <p:nvPr/>
                  </p:nvSpPr>
                  <p:spPr>
                    <a:xfrm flipH="1">
                      <a:off x="5626800" y="2983320"/>
                      <a:ext cx="137520" cy="2469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7" name=""/>
                    <p:cNvSpPr/>
                    <p:nvPr/>
                  </p:nvSpPr>
                  <p:spPr>
                    <a:xfrm flipH="1">
                      <a:off x="5681880" y="3001680"/>
                      <a:ext cx="137880" cy="258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28" name=""/>
                  <p:cNvGrpSpPr/>
                  <p:nvPr/>
                </p:nvGrpSpPr>
                <p:grpSpPr>
                  <a:xfrm>
                    <a:off x="5718600" y="3042720"/>
                    <a:ext cx="61200" cy="60840"/>
                    <a:chOff x="5718600" y="3042720"/>
                    <a:chExt cx="61200" cy="60840"/>
                  </a:xfrm>
                </p:grpSpPr>
                <p:grpSp>
                  <p:nvGrpSpPr>
                    <p:cNvPr id="929" name=""/>
                    <p:cNvGrpSpPr/>
                    <p:nvPr/>
                  </p:nvGrpSpPr>
                  <p:grpSpPr>
                    <a:xfrm>
                      <a:off x="5721120" y="3042720"/>
                      <a:ext cx="58680" cy="56880"/>
                      <a:chOff x="5721120" y="3042720"/>
                      <a:chExt cx="58680" cy="56880"/>
                    </a:xfrm>
                  </p:grpSpPr>
                  <p:sp>
                    <p:nvSpPr>
                      <p:cNvPr id="930" name=""/>
                      <p:cNvSpPr/>
                      <p:nvPr/>
                    </p:nvSpPr>
                    <p:spPr>
                      <a:xfrm flipH="1">
                        <a:off x="5720760" y="3043440"/>
                        <a:ext cx="5868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3" y="12671"/>
                            </a:moveTo>
                            <a:arcTo wR="10800" hR="10800" stAng="10201338" swAng="1060659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3" y="12671"/>
                            </a:moveTo>
                            <a:arcTo wR="10800" hR="10800" stAng="10201338" swAng="10606598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1" name=""/>
                      <p:cNvSpPr/>
                      <p:nvPr/>
                    </p:nvSpPr>
                    <p:spPr>
                      <a:xfrm flipH="1">
                        <a:off x="5720760" y="3042720"/>
                        <a:ext cx="58680" cy="5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3" y="12671"/>
                            </a:moveTo>
                            <a:arcTo wR="10800" hR="10800" stAng="10201338" swAng="422177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3" y="12671"/>
                            </a:moveTo>
                            <a:arcTo wR="10800" hR="10800" stAng="10201338" swAng="4221774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080" bIns="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32" name=""/>
                    <p:cNvSpPr/>
                    <p:nvPr/>
                  </p:nvSpPr>
                  <p:spPr>
                    <a:xfrm flipH="1">
                      <a:off x="5720760" y="304344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73" y="12723"/>
                          </a:moveTo>
                          <a:arcTo wR="10800" hR="10800" stAng="10184591" swAng="106015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73" y="12723"/>
                          </a:moveTo>
                          <a:arcTo wR="10800" hR="10800" stAng="10184591" swAng="10601538"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3" name=""/>
                    <p:cNvSpPr/>
                    <p:nvPr/>
                  </p:nvSpPr>
                  <p:spPr>
                    <a:xfrm flipH="1">
                      <a:off x="5718240" y="304776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5" y="13266"/>
                          </a:moveTo>
                          <a:arcTo wR="10800" hR="10800" stAng="10007935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5" y="13266"/>
                          </a:moveTo>
                          <a:arcTo wR="10800" hR="10800" stAng="10007935" swAng="10800000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34" name=""/>
                  <p:cNvSpPr/>
                  <p:nvPr/>
                </p:nvSpPr>
                <p:spPr>
                  <a:xfrm flipH="1">
                    <a:off x="5659560" y="3049920"/>
                    <a:ext cx="1188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645">
                        <a:moveTo>
                          <a:pt x="48" y="0"/>
                        </a:moveTo>
                        <a:lnTo>
                          <a:pt x="34" y="9"/>
                        </a:lnTo>
                        <a:lnTo>
                          <a:pt x="23" y="18"/>
                        </a:lnTo>
                        <a:lnTo>
                          <a:pt x="13" y="28"/>
                        </a:lnTo>
                        <a:lnTo>
                          <a:pt x="9" y="39"/>
                        </a:lnTo>
                        <a:lnTo>
                          <a:pt x="4" y="51"/>
                        </a:lnTo>
                        <a:lnTo>
                          <a:pt x="1" y="63"/>
                        </a:lnTo>
                        <a:lnTo>
                          <a:pt x="0" y="77"/>
                        </a:lnTo>
                        <a:lnTo>
                          <a:pt x="0" y="93"/>
                        </a:lnTo>
                        <a:lnTo>
                          <a:pt x="292" y="645"/>
                        </a:lnTo>
                        <a:lnTo>
                          <a:pt x="377" y="58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 flipH="1">
                    <a:off x="5619960" y="3219840"/>
                    <a:ext cx="64800" cy="6156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36" name=""/>
              <p:cNvSpPr/>
              <p:nvPr/>
            </p:nvSpPr>
            <p:spPr>
              <a:xfrm>
                <a:off x="6049800" y="3065040"/>
                <a:ext cx="2666880" cy="43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imes New Roman"/>
                  </a:rPr>
                  <a:t>Zoom on actual choi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7" name=""/>
          <p:cNvSpPr/>
          <p:nvPr/>
        </p:nvSpPr>
        <p:spPr>
          <a:xfrm>
            <a:off x="228600" y="4419720"/>
            <a:ext cx="8915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61800" indent="-333360">
              <a:lnSpc>
                <a:spcPct val="10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rchivist: attached to &amp; exploiting local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33360">
              <a:lnSpc>
                <a:spcPct val="10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edia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8920" indent="-21384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stributed query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8920" indent="-21384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location new anno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DB5A-E03D-4644-9CA5-BE4D01BFD78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Dedicated sub-societies (connection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560" y="-360"/>
            <a:ext cx="87627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Connection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-dedicated sub-society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ellow pages service manage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ederable to allow us to configure the MA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957240" y="1752480"/>
            <a:ext cx="7043760" cy="2876400"/>
            <a:chOff x="957240" y="1752480"/>
            <a:chExt cx="7043760" cy="2876400"/>
          </a:xfrm>
        </p:grpSpPr>
        <p:sp>
          <p:nvSpPr>
            <p:cNvPr id="941" name=""/>
            <p:cNvSpPr/>
            <p:nvPr/>
          </p:nvSpPr>
          <p:spPr>
            <a:xfrm>
              <a:off x="957240" y="1752480"/>
              <a:ext cx="31780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2" name=""/>
            <p:cNvGrpSpPr/>
            <p:nvPr/>
          </p:nvGrpSpPr>
          <p:grpSpPr>
            <a:xfrm>
              <a:off x="1044720" y="1879200"/>
              <a:ext cx="446040" cy="474840"/>
              <a:chOff x="1044720" y="1879200"/>
              <a:chExt cx="446040" cy="474840"/>
            </a:xfrm>
          </p:grpSpPr>
          <p:grpSp>
            <p:nvGrpSpPr>
              <p:cNvPr id="943" name=""/>
              <p:cNvGrpSpPr/>
              <p:nvPr/>
            </p:nvGrpSpPr>
            <p:grpSpPr>
              <a:xfrm>
                <a:off x="1197000" y="1879200"/>
                <a:ext cx="293760" cy="388800"/>
                <a:chOff x="1197000" y="1879200"/>
                <a:chExt cx="293760" cy="38880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1197000" y="207360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V="1">
                  <a:off x="1197000" y="187920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1143000" y="1908000"/>
                <a:ext cx="293760" cy="388800"/>
                <a:chOff x="1143000" y="1908000"/>
                <a:chExt cx="293760" cy="38880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1143000" y="210240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V="1">
                  <a:off x="1143000" y="190800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9" name=""/>
              <p:cNvGrpSpPr/>
              <p:nvPr/>
            </p:nvGrpSpPr>
            <p:grpSpPr>
              <a:xfrm>
                <a:off x="1098720" y="1936440"/>
                <a:ext cx="293400" cy="388800"/>
                <a:chOff x="1098720" y="1936440"/>
                <a:chExt cx="293400" cy="388800"/>
              </a:xfrm>
            </p:grpSpPr>
            <p:sp>
              <p:nvSpPr>
                <p:cNvPr id="950" name=""/>
                <p:cNvSpPr/>
                <p:nvPr/>
              </p:nvSpPr>
              <p:spPr>
                <a:xfrm>
                  <a:off x="1098720" y="213084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flipV="1">
                  <a:off x="1098720" y="193644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2" name=""/>
              <p:cNvGrpSpPr/>
              <p:nvPr/>
            </p:nvGrpSpPr>
            <p:grpSpPr>
              <a:xfrm>
                <a:off x="1044720" y="1965240"/>
                <a:ext cx="293400" cy="388800"/>
                <a:chOff x="1044720" y="1965240"/>
                <a:chExt cx="293400" cy="38880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1044720" y="215964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V="1">
                  <a:off x="1044720" y="196524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5" name=""/>
            <p:cNvSpPr/>
            <p:nvPr/>
          </p:nvSpPr>
          <p:spPr>
            <a:xfrm>
              <a:off x="1547640" y="1769760"/>
              <a:ext cx="2587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Ontology-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922480" y="3893760"/>
              <a:ext cx="3178440" cy="72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7" name=""/>
            <p:cNvGrpSpPr/>
            <p:nvPr/>
          </p:nvGrpSpPr>
          <p:grpSpPr>
            <a:xfrm>
              <a:off x="3139920" y="4031640"/>
              <a:ext cx="408240" cy="473400"/>
              <a:chOff x="3139920" y="4031640"/>
              <a:chExt cx="408240" cy="473400"/>
            </a:xfrm>
          </p:grpSpPr>
          <p:grpSp>
            <p:nvGrpSpPr>
              <p:cNvPr id="958" name=""/>
              <p:cNvGrpSpPr/>
              <p:nvPr/>
            </p:nvGrpSpPr>
            <p:grpSpPr>
              <a:xfrm>
                <a:off x="3278880" y="4031640"/>
                <a:ext cx="269280" cy="388440"/>
                <a:chOff x="3278880" y="4031640"/>
                <a:chExt cx="269280" cy="388440"/>
              </a:xfrm>
            </p:grpSpPr>
            <p:sp>
              <p:nvSpPr>
                <p:cNvPr id="959" name=""/>
                <p:cNvSpPr/>
                <p:nvPr/>
              </p:nvSpPr>
              <p:spPr>
                <a:xfrm>
                  <a:off x="3278880" y="422604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V="1">
                  <a:off x="3278880" y="403128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1" name=""/>
              <p:cNvGrpSpPr/>
              <p:nvPr/>
            </p:nvGrpSpPr>
            <p:grpSpPr>
              <a:xfrm>
                <a:off x="3229560" y="4060080"/>
                <a:ext cx="269280" cy="388440"/>
                <a:chOff x="3229560" y="4060080"/>
                <a:chExt cx="269280" cy="388440"/>
              </a:xfrm>
            </p:grpSpPr>
            <p:sp>
              <p:nvSpPr>
                <p:cNvPr id="962" name=""/>
                <p:cNvSpPr/>
                <p:nvPr/>
              </p:nvSpPr>
              <p:spPr>
                <a:xfrm>
                  <a:off x="3229560" y="425448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flipV="1">
                  <a:off x="3229560" y="405972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4" name=""/>
              <p:cNvGrpSpPr/>
              <p:nvPr/>
            </p:nvGrpSpPr>
            <p:grpSpPr>
              <a:xfrm>
                <a:off x="3188880" y="4088160"/>
                <a:ext cx="269280" cy="388440"/>
                <a:chOff x="3188880" y="4088160"/>
                <a:chExt cx="269280" cy="388440"/>
              </a:xfrm>
            </p:grpSpPr>
            <p:sp>
              <p:nvSpPr>
                <p:cNvPr id="965" name=""/>
                <p:cNvSpPr/>
                <p:nvPr/>
              </p:nvSpPr>
              <p:spPr>
                <a:xfrm>
                  <a:off x="3188880" y="428256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V="1">
                  <a:off x="3188880" y="408780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7" name=""/>
              <p:cNvGrpSpPr/>
              <p:nvPr/>
            </p:nvGrpSpPr>
            <p:grpSpPr>
              <a:xfrm>
                <a:off x="3139920" y="4116600"/>
                <a:ext cx="269280" cy="388440"/>
                <a:chOff x="3139920" y="4116600"/>
                <a:chExt cx="269280" cy="388440"/>
              </a:xfrm>
            </p:grpSpPr>
            <p:sp>
              <p:nvSpPr>
                <p:cNvPr id="968" name=""/>
                <p:cNvSpPr/>
                <p:nvPr/>
              </p:nvSpPr>
              <p:spPr>
                <a:xfrm>
                  <a:off x="3139920" y="431100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V="1">
                  <a:off x="3139920" y="411624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0" name=""/>
            <p:cNvSpPr/>
            <p:nvPr/>
          </p:nvSpPr>
          <p:spPr>
            <a:xfrm>
              <a:off x="3660840" y="3924000"/>
              <a:ext cx="24019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-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821120" y="1752480"/>
              <a:ext cx="31798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5040360" y="1866600"/>
              <a:ext cx="412560" cy="474480"/>
              <a:chOff x="5040360" y="1866600"/>
              <a:chExt cx="412560" cy="474480"/>
            </a:xfrm>
          </p:grpSpPr>
          <p:grpSp>
            <p:nvGrpSpPr>
              <p:cNvPr id="973" name=""/>
              <p:cNvGrpSpPr/>
              <p:nvPr/>
            </p:nvGrpSpPr>
            <p:grpSpPr>
              <a:xfrm>
                <a:off x="5181480" y="1866600"/>
                <a:ext cx="271440" cy="388800"/>
                <a:chOff x="5181480" y="1866600"/>
                <a:chExt cx="271440" cy="38880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5181480" y="206100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5181480" y="186660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6" name=""/>
              <p:cNvGrpSpPr/>
              <p:nvPr/>
            </p:nvGrpSpPr>
            <p:grpSpPr>
              <a:xfrm>
                <a:off x="5130720" y="1895400"/>
                <a:ext cx="273240" cy="388800"/>
                <a:chOff x="5130720" y="1895400"/>
                <a:chExt cx="273240" cy="38880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5130720" y="2089800"/>
                  <a:ext cx="2732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V="1">
                  <a:off x="5130720" y="1895400"/>
                  <a:ext cx="2732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9" name=""/>
              <p:cNvGrpSpPr/>
              <p:nvPr/>
            </p:nvGrpSpPr>
            <p:grpSpPr>
              <a:xfrm>
                <a:off x="5089680" y="1923840"/>
                <a:ext cx="272880" cy="388800"/>
                <a:chOff x="5089680" y="1923840"/>
                <a:chExt cx="272880" cy="388800"/>
              </a:xfrm>
            </p:grpSpPr>
            <p:sp>
              <p:nvSpPr>
                <p:cNvPr id="980" name=""/>
                <p:cNvSpPr/>
                <p:nvPr/>
              </p:nvSpPr>
              <p:spPr>
                <a:xfrm>
                  <a:off x="5089680" y="2118240"/>
                  <a:ext cx="2728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V="1">
                  <a:off x="5089680" y="1923840"/>
                  <a:ext cx="2728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2" name=""/>
              <p:cNvGrpSpPr/>
              <p:nvPr/>
            </p:nvGrpSpPr>
            <p:grpSpPr>
              <a:xfrm>
                <a:off x="5040360" y="1952280"/>
                <a:ext cx="271440" cy="388800"/>
                <a:chOff x="5040360" y="1952280"/>
                <a:chExt cx="271440" cy="388800"/>
              </a:xfrm>
            </p:grpSpPr>
            <p:sp>
              <p:nvSpPr>
                <p:cNvPr id="983" name=""/>
                <p:cNvSpPr/>
                <p:nvPr/>
              </p:nvSpPr>
              <p:spPr>
                <a:xfrm>
                  <a:off x="5040360" y="214668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V="1">
                  <a:off x="5040360" y="195228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5" name=""/>
            <p:cNvSpPr/>
            <p:nvPr/>
          </p:nvSpPr>
          <p:spPr>
            <a:xfrm>
              <a:off x="5297400" y="1765080"/>
              <a:ext cx="26924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cument-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922480" y="2833560"/>
              <a:ext cx="317844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7" name=""/>
            <p:cNvGrpSpPr/>
            <p:nvPr/>
          </p:nvGrpSpPr>
          <p:grpSpPr>
            <a:xfrm>
              <a:off x="3127320" y="2969640"/>
              <a:ext cx="420840" cy="473400"/>
              <a:chOff x="3127320" y="2969640"/>
              <a:chExt cx="420840" cy="473400"/>
            </a:xfrm>
          </p:grpSpPr>
          <p:grpSp>
            <p:nvGrpSpPr>
              <p:cNvPr id="988" name=""/>
              <p:cNvGrpSpPr/>
              <p:nvPr/>
            </p:nvGrpSpPr>
            <p:grpSpPr>
              <a:xfrm>
                <a:off x="3270600" y="2969640"/>
                <a:ext cx="277560" cy="388440"/>
                <a:chOff x="3270600" y="2969640"/>
                <a:chExt cx="277560" cy="388440"/>
              </a:xfrm>
            </p:grpSpPr>
            <p:sp>
              <p:nvSpPr>
                <p:cNvPr id="989" name=""/>
                <p:cNvSpPr/>
                <p:nvPr/>
              </p:nvSpPr>
              <p:spPr>
                <a:xfrm>
                  <a:off x="3270600" y="316404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flipV="1">
                  <a:off x="3270600" y="296928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3219840" y="2998080"/>
                <a:ext cx="277560" cy="388440"/>
                <a:chOff x="3219840" y="2998080"/>
                <a:chExt cx="277560" cy="38844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219840" y="319248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219840" y="299772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4" name=""/>
              <p:cNvGrpSpPr/>
              <p:nvPr/>
            </p:nvGrpSpPr>
            <p:grpSpPr>
              <a:xfrm>
                <a:off x="3177720" y="3026160"/>
                <a:ext cx="277560" cy="388440"/>
                <a:chOff x="3177720" y="3026160"/>
                <a:chExt cx="277560" cy="38844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3177720" y="322056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V="1">
                  <a:off x="3177720" y="302580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3127320" y="3054600"/>
                <a:ext cx="277560" cy="388440"/>
                <a:chOff x="3127320" y="3054600"/>
                <a:chExt cx="277560" cy="38844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3127320" y="324900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flipV="1">
                  <a:off x="3127320" y="305424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00" name=""/>
            <p:cNvSpPr/>
            <p:nvPr/>
          </p:nvSpPr>
          <p:spPr>
            <a:xfrm>
              <a:off x="3587760" y="2863440"/>
              <a:ext cx="28083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Connection-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218040" y="2330280"/>
              <a:ext cx="73800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056200" y="3430440"/>
              <a:ext cx="0" cy="560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5435280" y="2330280"/>
              <a:ext cx="73980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1BBC-F181-42AA-B3BF-03E1973CFC1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Dedicated sub-societies (connection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04560" y="-360"/>
            <a:ext cx="87627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Connection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-dedicated sub-society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ellow pages service manage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ederable to allow us to configure the MA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2922480" y="2833560"/>
            <a:ext cx="3473640" cy="734760"/>
            <a:chOff x="2922480" y="2833560"/>
            <a:chExt cx="3473640" cy="734760"/>
          </a:xfrm>
        </p:grpSpPr>
        <p:sp>
          <p:nvSpPr>
            <p:cNvPr id="1007" name=""/>
            <p:cNvSpPr/>
            <p:nvPr/>
          </p:nvSpPr>
          <p:spPr>
            <a:xfrm>
              <a:off x="2922480" y="2833560"/>
              <a:ext cx="317844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3127320" y="2969640"/>
              <a:ext cx="420840" cy="473400"/>
              <a:chOff x="3127320" y="2969640"/>
              <a:chExt cx="420840" cy="473400"/>
            </a:xfrm>
          </p:grpSpPr>
          <p:grpSp>
            <p:nvGrpSpPr>
              <p:cNvPr id="1009" name=""/>
              <p:cNvGrpSpPr/>
              <p:nvPr/>
            </p:nvGrpSpPr>
            <p:grpSpPr>
              <a:xfrm>
                <a:off x="3270600" y="2969640"/>
                <a:ext cx="277560" cy="388440"/>
                <a:chOff x="3270600" y="2969640"/>
                <a:chExt cx="277560" cy="38844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3270600" y="316404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V="1">
                  <a:off x="3270600" y="296928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2" name=""/>
              <p:cNvGrpSpPr/>
              <p:nvPr/>
            </p:nvGrpSpPr>
            <p:grpSpPr>
              <a:xfrm>
                <a:off x="3219840" y="2998080"/>
                <a:ext cx="277560" cy="388440"/>
                <a:chOff x="3219840" y="2998080"/>
                <a:chExt cx="277560" cy="38844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3219840" y="319248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flipV="1">
                  <a:off x="3219840" y="299772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3177720" y="3026160"/>
                <a:ext cx="277560" cy="388440"/>
                <a:chOff x="3177720" y="3026160"/>
                <a:chExt cx="277560" cy="38844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3177720" y="322056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V="1">
                  <a:off x="3177720" y="302580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8" name=""/>
              <p:cNvGrpSpPr/>
              <p:nvPr/>
            </p:nvGrpSpPr>
            <p:grpSpPr>
              <a:xfrm>
                <a:off x="3127320" y="3054600"/>
                <a:ext cx="277560" cy="388440"/>
                <a:chOff x="3127320" y="3054600"/>
                <a:chExt cx="277560" cy="388440"/>
              </a:xfrm>
            </p:grpSpPr>
            <p:sp>
              <p:nvSpPr>
                <p:cNvPr id="1019" name=""/>
                <p:cNvSpPr/>
                <p:nvPr/>
              </p:nvSpPr>
              <p:spPr>
                <a:xfrm>
                  <a:off x="3127320" y="324900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flipV="1">
                  <a:off x="3127320" y="305424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1" name=""/>
            <p:cNvSpPr/>
            <p:nvPr/>
          </p:nvSpPr>
          <p:spPr>
            <a:xfrm>
              <a:off x="3587760" y="2863440"/>
              <a:ext cx="28083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Connection-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3505320" y="1905120"/>
            <a:ext cx="2108160" cy="685800"/>
            <a:chOff x="3505320" y="1905120"/>
            <a:chExt cx="2108160" cy="685800"/>
          </a:xfrm>
        </p:grpSpPr>
        <p:sp>
          <p:nvSpPr>
            <p:cNvPr id="1023" name=""/>
            <p:cNvSpPr/>
            <p:nvPr/>
          </p:nvSpPr>
          <p:spPr>
            <a:xfrm>
              <a:off x="3505320" y="1905120"/>
              <a:ext cx="210816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4" name="JADElogo" descr=""/>
            <p:cNvPicPr/>
            <p:nvPr/>
          </p:nvPicPr>
          <p:blipFill>
            <a:blip r:embed="rId2"/>
            <a:stretch/>
          </p:blipFill>
          <p:spPr>
            <a:xfrm>
              <a:off x="3578400" y="1981440"/>
              <a:ext cx="110808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fipa" descr=""/>
            <p:cNvPicPr/>
            <p:nvPr/>
          </p:nvPicPr>
          <p:blipFill>
            <a:blip r:embed="rId3"/>
            <a:stretch/>
          </p:blipFill>
          <p:spPr>
            <a:xfrm>
              <a:off x="4699080" y="1981440"/>
              <a:ext cx="838080" cy="57780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</p:grpSp>
      <p:grpSp>
        <p:nvGrpSpPr>
          <p:cNvPr id="1026" name=""/>
          <p:cNvGrpSpPr/>
          <p:nvPr/>
        </p:nvGrpSpPr>
        <p:grpSpPr>
          <a:xfrm>
            <a:off x="837720" y="3466800"/>
            <a:ext cx="8154000" cy="2553120"/>
            <a:chOff x="837720" y="3466800"/>
            <a:chExt cx="8154000" cy="2553120"/>
          </a:xfrm>
        </p:grpSpPr>
        <p:grpSp>
          <p:nvGrpSpPr>
            <p:cNvPr id="1027" name=""/>
            <p:cNvGrpSpPr/>
            <p:nvPr/>
          </p:nvGrpSpPr>
          <p:grpSpPr>
            <a:xfrm>
              <a:off x="837720" y="3466800"/>
              <a:ext cx="3956760" cy="2553120"/>
              <a:chOff x="837720" y="3466800"/>
              <a:chExt cx="3956760" cy="2553120"/>
            </a:xfrm>
          </p:grpSpPr>
          <p:grpSp>
            <p:nvGrpSpPr>
              <p:cNvPr id="1028" name=""/>
              <p:cNvGrpSpPr/>
              <p:nvPr/>
            </p:nvGrpSpPr>
            <p:grpSpPr>
              <a:xfrm>
                <a:off x="837720" y="4399200"/>
                <a:ext cx="3840480" cy="1620720"/>
                <a:chOff x="837720" y="4399200"/>
                <a:chExt cx="3840480" cy="1620720"/>
              </a:xfrm>
            </p:grpSpPr>
            <p:grpSp>
              <p:nvGrpSpPr>
                <p:cNvPr id="1029" name=""/>
                <p:cNvGrpSpPr/>
                <p:nvPr/>
              </p:nvGrpSpPr>
              <p:grpSpPr>
                <a:xfrm>
                  <a:off x="1096920" y="4399200"/>
                  <a:ext cx="3581280" cy="1620720"/>
                  <a:chOff x="1096920" y="4399200"/>
                  <a:chExt cx="3581280" cy="16207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>
                    <a:off x="1096920" y="4876920"/>
                    <a:ext cx="3581280" cy="1143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1" name=""/>
                  <p:cNvGrpSpPr/>
                  <p:nvPr/>
                </p:nvGrpSpPr>
                <p:grpSpPr>
                  <a:xfrm>
                    <a:off x="2798640" y="5473800"/>
                    <a:ext cx="228600" cy="388800"/>
                    <a:chOff x="2798640" y="5473800"/>
                    <a:chExt cx="228600" cy="388800"/>
                  </a:xfrm>
                </p:grpSpPr>
                <p:sp>
                  <p:nvSpPr>
                    <p:cNvPr id="1032" name=""/>
                    <p:cNvSpPr/>
                    <p:nvPr/>
                  </p:nvSpPr>
                  <p:spPr>
                    <a:xfrm>
                      <a:off x="2798640" y="5668200"/>
                      <a:ext cx="228600" cy="194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284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 flipV="1">
                      <a:off x="2798640" y="5473800"/>
                      <a:ext cx="228600" cy="194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284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4" name=""/>
                  <p:cNvGrpSpPr/>
                  <p:nvPr/>
                </p:nvGrpSpPr>
                <p:grpSpPr>
                  <a:xfrm>
                    <a:off x="3230640" y="4970520"/>
                    <a:ext cx="228600" cy="388800"/>
                    <a:chOff x="3230640" y="4970520"/>
                    <a:chExt cx="228600" cy="388800"/>
                  </a:xfrm>
                </p:grpSpPr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3230640" y="5164920"/>
                      <a:ext cx="228600" cy="194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284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 flipV="1">
                      <a:off x="3230640" y="4970520"/>
                      <a:ext cx="228600" cy="194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284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7" name=""/>
                  <p:cNvGrpSpPr/>
                  <p:nvPr/>
                </p:nvGrpSpPr>
                <p:grpSpPr>
                  <a:xfrm>
                    <a:off x="3763800" y="5562720"/>
                    <a:ext cx="228600" cy="388800"/>
                    <a:chOff x="3763800" y="5562720"/>
                    <a:chExt cx="228600" cy="388800"/>
                  </a:xfrm>
                </p:grpSpPr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3763800" y="5757120"/>
                      <a:ext cx="228600" cy="194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284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 flipV="1">
                      <a:off x="3763800" y="5562720"/>
                      <a:ext cx="228600" cy="194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284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0" name=""/>
                  <p:cNvGrpSpPr/>
                  <p:nvPr/>
                </p:nvGrpSpPr>
                <p:grpSpPr>
                  <a:xfrm>
                    <a:off x="4221000" y="5580360"/>
                    <a:ext cx="228600" cy="388800"/>
                    <a:chOff x="4221000" y="5580360"/>
                    <a:chExt cx="228600" cy="388800"/>
                  </a:xfrm>
                </p:grpSpPr>
                <p:sp>
                  <p:nvSpPr>
                    <p:cNvPr id="1041" name=""/>
                    <p:cNvSpPr/>
                    <p:nvPr/>
                  </p:nvSpPr>
                  <p:spPr>
                    <a:xfrm>
                      <a:off x="4221000" y="5774760"/>
                      <a:ext cx="228600" cy="194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284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2" name=""/>
                    <p:cNvSpPr/>
                    <p:nvPr/>
                  </p:nvSpPr>
                  <p:spPr>
                    <a:xfrm flipV="1">
                      <a:off x="4221000" y="5580360"/>
                      <a:ext cx="228600" cy="194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284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3" name=""/>
                  <p:cNvSpPr/>
                  <p:nvPr/>
                </p:nvSpPr>
                <p:spPr>
                  <a:xfrm>
                    <a:off x="1173240" y="4970520"/>
                    <a:ext cx="144756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operativ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esource-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edicated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 flipV="1">
                    <a:off x="3078000" y="5397480"/>
                    <a:ext cx="228600" cy="15228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 flipH="1" flipV="1">
                    <a:off x="3382920" y="5397840"/>
                    <a:ext cx="380880" cy="30456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6" name=""/>
                  <p:cNvGrpSpPr/>
                  <p:nvPr/>
                </p:nvGrpSpPr>
                <p:grpSpPr>
                  <a:xfrm>
                    <a:off x="3992400" y="5046840"/>
                    <a:ext cx="228600" cy="388800"/>
                    <a:chOff x="3992400" y="5046840"/>
                    <a:chExt cx="228600" cy="388800"/>
                  </a:xfrm>
                </p:grpSpPr>
                <p:sp>
                  <p:nvSpPr>
                    <p:cNvPr id="1047" name=""/>
                    <p:cNvSpPr/>
                    <p:nvPr/>
                  </p:nvSpPr>
                  <p:spPr>
                    <a:xfrm>
                      <a:off x="3992400" y="5241240"/>
                      <a:ext cx="228600" cy="194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284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8" name=""/>
                    <p:cNvSpPr/>
                    <p:nvPr/>
                  </p:nvSpPr>
                  <p:spPr>
                    <a:xfrm flipV="1">
                      <a:off x="3992400" y="5046840"/>
                      <a:ext cx="228600" cy="194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284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9" name=""/>
                  <p:cNvSpPr/>
                  <p:nvPr/>
                </p:nvSpPr>
                <p:spPr>
                  <a:xfrm flipH="1" flipV="1">
                    <a:off x="3458880" y="5199120"/>
                    <a:ext cx="533160" cy="7632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0" name=""/>
                  <p:cNvGrpSpPr/>
                  <p:nvPr/>
                </p:nvGrpSpPr>
                <p:grpSpPr>
                  <a:xfrm>
                    <a:off x="3230640" y="5580360"/>
                    <a:ext cx="228600" cy="388800"/>
                    <a:chOff x="3230640" y="5580360"/>
                    <a:chExt cx="228600" cy="388800"/>
                  </a:xfrm>
                </p:grpSpPr>
                <p:sp>
                  <p:nvSpPr>
                    <p:cNvPr id="1051" name=""/>
                    <p:cNvSpPr/>
                    <p:nvPr/>
                  </p:nvSpPr>
                  <p:spPr>
                    <a:xfrm>
                      <a:off x="3230640" y="5774760"/>
                      <a:ext cx="228600" cy="194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284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"/>
                    <p:cNvSpPr/>
                    <p:nvPr/>
                  </p:nvSpPr>
                  <p:spPr>
                    <a:xfrm flipV="1">
                      <a:off x="3230640" y="5580360"/>
                      <a:ext cx="228600" cy="194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284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3" name=""/>
                  <p:cNvGrpSpPr/>
                  <p:nvPr/>
                </p:nvGrpSpPr>
                <p:grpSpPr>
                  <a:xfrm>
                    <a:off x="2862360" y="4937400"/>
                    <a:ext cx="228600" cy="388800"/>
                    <a:chOff x="2862360" y="4937400"/>
                    <a:chExt cx="228600" cy="388800"/>
                  </a:xfrm>
                </p:grpSpPr>
                <p:sp>
                  <p:nvSpPr>
                    <p:cNvPr id="1054" name=""/>
                    <p:cNvSpPr/>
                    <p:nvPr/>
                  </p:nvSpPr>
                  <p:spPr>
                    <a:xfrm>
                      <a:off x="2862360" y="5131800"/>
                      <a:ext cx="228600" cy="194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284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5" name=""/>
                    <p:cNvSpPr/>
                    <p:nvPr/>
                  </p:nvSpPr>
                  <p:spPr>
                    <a:xfrm flipV="1">
                      <a:off x="2862360" y="4937400"/>
                      <a:ext cx="228600" cy="194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284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6" name=""/>
                  <p:cNvGrpSpPr/>
                  <p:nvPr/>
                </p:nvGrpSpPr>
                <p:grpSpPr>
                  <a:xfrm>
                    <a:off x="3154320" y="4399200"/>
                    <a:ext cx="380880" cy="545760"/>
                    <a:chOff x="3154320" y="4399200"/>
                    <a:chExt cx="380880" cy="545760"/>
                  </a:xfrm>
                </p:grpSpPr>
                <p:sp>
                  <p:nvSpPr>
                    <p:cNvPr id="1057" name=""/>
                    <p:cNvSpPr/>
                    <p:nvPr/>
                  </p:nvSpPr>
                  <p:spPr>
                    <a:xfrm flipV="1">
                      <a:off x="3154320" y="4416480"/>
                      <a:ext cx="203040" cy="528480"/>
                    </a:xfrm>
                    <a:prstGeom prst="upArrow">
                      <a:avLst>
                        <a:gd name="adj1" fmla="val 50000"/>
                        <a:gd name="adj2" fmla="val 65071"/>
                      </a:avLst>
                    </a:prstGeom>
                    <a:solidFill>
                      <a:srgbClr val="003366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3332160" y="4399200"/>
                      <a:ext cx="203040" cy="528840"/>
                    </a:xfrm>
                    <a:prstGeom prst="upArrow">
                      <a:avLst>
                        <a:gd name="adj1" fmla="val 50000"/>
                        <a:gd name="adj2" fmla="val 65115"/>
                      </a:avLst>
                    </a:prstGeom>
                    <a:solidFill>
                      <a:srgbClr val="003366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59" name=""/>
                <p:cNvSpPr/>
                <p:nvPr/>
              </p:nvSpPr>
              <p:spPr>
                <a:xfrm>
                  <a:off x="837720" y="4419720"/>
                  <a:ext cx="1707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c3300"/>
                      </a:solidFill>
                      <a:latin typeface="Times New Roman"/>
                    </a:rPr>
                    <a:t>Peer-to-Pee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0" name=""/>
              <p:cNvGrpSpPr/>
              <p:nvPr/>
            </p:nvGrpSpPr>
            <p:grpSpPr>
              <a:xfrm>
                <a:off x="1599840" y="3466800"/>
                <a:ext cx="3194640" cy="1469160"/>
                <a:chOff x="1599840" y="3466800"/>
                <a:chExt cx="3194640" cy="1469160"/>
              </a:xfrm>
            </p:grpSpPr>
            <p:sp>
              <p:nvSpPr>
                <p:cNvPr id="1061" name=""/>
                <p:cNvSpPr/>
                <p:nvPr/>
              </p:nvSpPr>
              <p:spPr>
                <a:xfrm flipH="1" rot="19452000">
                  <a:off x="3567240" y="3657240"/>
                  <a:ext cx="1003320" cy="1087560"/>
                </a:xfrm>
                <a:prstGeom prst="rightArrow">
                  <a:avLst>
                    <a:gd name="adj1" fmla="val 50000"/>
                    <a:gd name="adj2" fmla="val 25000"/>
                  </a:avLst>
                </a:prstGeom>
                <a:solidFill>
                  <a:srgbClr val="ffffff"/>
                </a:solidFill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62" name=""/>
                <p:cNvGrpSpPr/>
                <p:nvPr/>
              </p:nvGrpSpPr>
              <p:grpSpPr>
                <a:xfrm>
                  <a:off x="3913200" y="3886200"/>
                  <a:ext cx="429480" cy="673920"/>
                  <a:chOff x="3913200" y="3886200"/>
                  <a:chExt cx="429480" cy="673920"/>
                </a:xfrm>
              </p:grpSpPr>
              <p:grpSp>
                <p:nvGrpSpPr>
                  <p:cNvPr id="1063" name=""/>
                  <p:cNvGrpSpPr/>
                  <p:nvPr/>
                </p:nvGrpSpPr>
                <p:grpSpPr>
                  <a:xfrm>
                    <a:off x="3928320" y="3886200"/>
                    <a:ext cx="414360" cy="412200"/>
                    <a:chOff x="3928320" y="3886200"/>
                    <a:chExt cx="414360" cy="412200"/>
                  </a:xfrm>
                </p:grpSpPr>
                <p:grpSp>
                  <p:nvGrpSpPr>
                    <p:cNvPr id="1064" name=""/>
                    <p:cNvGrpSpPr/>
                    <p:nvPr/>
                  </p:nvGrpSpPr>
                  <p:grpSpPr>
                    <a:xfrm>
                      <a:off x="3928320" y="3892320"/>
                      <a:ext cx="406440" cy="404280"/>
                      <a:chOff x="3928320" y="3892320"/>
                      <a:chExt cx="406440" cy="404280"/>
                    </a:xfrm>
                  </p:grpSpPr>
                  <p:grpSp>
                    <p:nvGrpSpPr>
                      <p:cNvPr id="1065" name=""/>
                      <p:cNvGrpSpPr/>
                      <p:nvPr/>
                    </p:nvGrpSpPr>
                    <p:grpSpPr>
                      <a:xfrm>
                        <a:off x="3928320" y="3892320"/>
                        <a:ext cx="406440" cy="404280"/>
                        <a:chOff x="3928320" y="3892320"/>
                        <a:chExt cx="406440" cy="404280"/>
                      </a:xfrm>
                    </p:grpSpPr>
                    <p:sp>
                      <p:nvSpPr>
                        <p:cNvPr id="1066" name=""/>
                        <p:cNvSpPr/>
                        <p:nvPr/>
                      </p:nvSpPr>
                      <p:spPr>
                        <a:xfrm flipH="1">
                          <a:off x="3989880" y="3892320"/>
                          <a:ext cx="344520" cy="234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6" h="739">
                              <a:moveTo>
                                <a:pt x="23" y="739"/>
                              </a:moveTo>
                              <a:lnTo>
                                <a:pt x="7" y="652"/>
                              </a:lnTo>
                              <a:lnTo>
                                <a:pt x="0" y="568"/>
                              </a:lnTo>
                              <a:lnTo>
                                <a:pt x="3" y="510"/>
                              </a:lnTo>
                              <a:lnTo>
                                <a:pt x="13" y="457"/>
                              </a:lnTo>
                              <a:lnTo>
                                <a:pt x="29" y="398"/>
                              </a:lnTo>
                              <a:lnTo>
                                <a:pt x="55" y="340"/>
                              </a:lnTo>
                              <a:lnTo>
                                <a:pt x="88" y="279"/>
                              </a:lnTo>
                              <a:lnTo>
                                <a:pt x="120" y="230"/>
                              </a:lnTo>
                              <a:lnTo>
                                <a:pt x="159" y="181"/>
                              </a:lnTo>
                              <a:lnTo>
                                <a:pt x="205" y="139"/>
                              </a:lnTo>
                              <a:lnTo>
                                <a:pt x="250" y="104"/>
                              </a:lnTo>
                              <a:lnTo>
                                <a:pt x="299" y="75"/>
                              </a:lnTo>
                              <a:lnTo>
                                <a:pt x="359" y="49"/>
                              </a:lnTo>
                              <a:lnTo>
                                <a:pt x="427" y="26"/>
                              </a:lnTo>
                              <a:lnTo>
                                <a:pt x="485" y="10"/>
                              </a:lnTo>
                              <a:lnTo>
                                <a:pt x="557" y="0"/>
                              </a:lnTo>
                              <a:lnTo>
                                <a:pt x="648" y="0"/>
                              </a:lnTo>
                              <a:lnTo>
                                <a:pt x="716" y="13"/>
                              </a:lnTo>
                              <a:lnTo>
                                <a:pt x="797" y="32"/>
                              </a:lnTo>
                              <a:lnTo>
                                <a:pt x="878" y="68"/>
                              </a:lnTo>
                              <a:lnTo>
                                <a:pt x="950" y="110"/>
                              </a:lnTo>
                              <a:lnTo>
                                <a:pt x="998" y="152"/>
                              </a:lnTo>
                              <a:lnTo>
                                <a:pt x="1047" y="201"/>
                              </a:lnTo>
                              <a:lnTo>
                                <a:pt x="1086" y="249"/>
                              </a:lnTo>
                              <a:lnTo>
                                <a:pt x="982" y="172"/>
                              </a:lnTo>
                              <a:lnTo>
                                <a:pt x="927" y="139"/>
                              </a:lnTo>
                              <a:lnTo>
                                <a:pt x="868" y="117"/>
                              </a:lnTo>
                              <a:lnTo>
                                <a:pt x="794" y="94"/>
                              </a:lnTo>
                              <a:lnTo>
                                <a:pt x="722" y="84"/>
                              </a:lnTo>
                              <a:lnTo>
                                <a:pt x="644" y="81"/>
                              </a:lnTo>
                              <a:lnTo>
                                <a:pt x="586" y="84"/>
                              </a:lnTo>
                              <a:lnTo>
                                <a:pt x="524" y="94"/>
                              </a:lnTo>
                              <a:lnTo>
                                <a:pt x="462" y="110"/>
                              </a:lnTo>
                              <a:lnTo>
                                <a:pt x="404" y="130"/>
                              </a:lnTo>
                              <a:lnTo>
                                <a:pt x="339" y="162"/>
                              </a:lnTo>
                              <a:lnTo>
                                <a:pt x="289" y="191"/>
                              </a:lnTo>
                              <a:lnTo>
                                <a:pt x="247" y="227"/>
                              </a:lnTo>
                              <a:lnTo>
                                <a:pt x="198" y="266"/>
                              </a:lnTo>
                              <a:lnTo>
                                <a:pt x="159" y="308"/>
                              </a:lnTo>
                              <a:lnTo>
                                <a:pt x="120" y="366"/>
                              </a:lnTo>
                              <a:lnTo>
                                <a:pt x="85" y="427"/>
                              </a:lnTo>
                              <a:lnTo>
                                <a:pt x="62" y="486"/>
                              </a:lnTo>
                              <a:lnTo>
                                <a:pt x="42" y="555"/>
                              </a:lnTo>
                              <a:lnTo>
                                <a:pt x="29" y="639"/>
                              </a:lnTo>
                              <a:lnTo>
                                <a:pt x="23" y="7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7" name=""/>
                        <p:cNvSpPr/>
                        <p:nvPr/>
                      </p:nvSpPr>
                      <p:spPr>
                        <a:xfrm flipH="1">
                          <a:off x="3928320" y="4007880"/>
                          <a:ext cx="380880" cy="288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98" h="908">
                              <a:moveTo>
                                <a:pt x="0" y="552"/>
                              </a:moveTo>
                              <a:lnTo>
                                <a:pt x="69" y="629"/>
                              </a:lnTo>
                              <a:lnTo>
                                <a:pt x="143" y="697"/>
                              </a:lnTo>
                              <a:lnTo>
                                <a:pt x="211" y="736"/>
                              </a:lnTo>
                              <a:lnTo>
                                <a:pt x="310" y="778"/>
                              </a:lnTo>
                              <a:lnTo>
                                <a:pt x="388" y="801"/>
                              </a:lnTo>
                              <a:lnTo>
                                <a:pt x="459" y="811"/>
                              </a:lnTo>
                              <a:lnTo>
                                <a:pt x="544" y="811"/>
                              </a:lnTo>
                              <a:lnTo>
                                <a:pt x="605" y="804"/>
                              </a:lnTo>
                              <a:lnTo>
                                <a:pt x="680" y="791"/>
                              </a:lnTo>
                              <a:lnTo>
                                <a:pt x="755" y="769"/>
                              </a:lnTo>
                              <a:lnTo>
                                <a:pt x="817" y="736"/>
                              </a:lnTo>
                              <a:lnTo>
                                <a:pt x="875" y="701"/>
                              </a:lnTo>
                              <a:lnTo>
                                <a:pt x="927" y="665"/>
                              </a:lnTo>
                              <a:lnTo>
                                <a:pt x="979" y="613"/>
                              </a:lnTo>
                              <a:lnTo>
                                <a:pt x="1031" y="555"/>
                              </a:lnTo>
                              <a:lnTo>
                                <a:pt x="1071" y="500"/>
                              </a:lnTo>
                              <a:lnTo>
                                <a:pt x="1094" y="445"/>
                              </a:lnTo>
                              <a:lnTo>
                                <a:pt x="1123" y="357"/>
                              </a:lnTo>
                              <a:lnTo>
                                <a:pt x="1142" y="267"/>
                              </a:lnTo>
                              <a:lnTo>
                                <a:pt x="1146" y="186"/>
                              </a:lnTo>
                              <a:lnTo>
                                <a:pt x="1133" y="97"/>
                              </a:lnTo>
                              <a:lnTo>
                                <a:pt x="1103" y="0"/>
                              </a:lnTo>
                              <a:lnTo>
                                <a:pt x="1133" y="52"/>
                              </a:lnTo>
                              <a:lnTo>
                                <a:pt x="1165" y="126"/>
                              </a:lnTo>
                              <a:lnTo>
                                <a:pt x="1181" y="195"/>
                              </a:lnTo>
                              <a:lnTo>
                                <a:pt x="1198" y="260"/>
                              </a:lnTo>
                              <a:lnTo>
                                <a:pt x="1194" y="315"/>
                              </a:lnTo>
                              <a:lnTo>
                                <a:pt x="1191" y="390"/>
                              </a:lnTo>
                              <a:lnTo>
                                <a:pt x="1152" y="532"/>
                              </a:lnTo>
                              <a:lnTo>
                                <a:pt x="1113" y="610"/>
                              </a:lnTo>
                              <a:lnTo>
                                <a:pt x="1064" y="678"/>
                              </a:lnTo>
                              <a:lnTo>
                                <a:pt x="1011" y="736"/>
                              </a:lnTo>
                              <a:lnTo>
                                <a:pt x="959" y="778"/>
                              </a:lnTo>
                              <a:lnTo>
                                <a:pt x="888" y="827"/>
                              </a:lnTo>
                              <a:lnTo>
                                <a:pt x="817" y="859"/>
                              </a:lnTo>
                              <a:lnTo>
                                <a:pt x="748" y="882"/>
                              </a:lnTo>
                              <a:lnTo>
                                <a:pt x="661" y="905"/>
                              </a:lnTo>
                              <a:lnTo>
                                <a:pt x="596" y="908"/>
                              </a:lnTo>
                              <a:lnTo>
                                <a:pt x="524" y="908"/>
                              </a:lnTo>
                              <a:lnTo>
                                <a:pt x="453" y="895"/>
                              </a:lnTo>
                              <a:lnTo>
                                <a:pt x="375" y="879"/>
                              </a:lnTo>
                              <a:lnTo>
                                <a:pt x="323" y="859"/>
                              </a:lnTo>
                              <a:lnTo>
                                <a:pt x="254" y="824"/>
                              </a:lnTo>
                              <a:lnTo>
                                <a:pt x="195" y="791"/>
                              </a:lnTo>
                              <a:lnTo>
                                <a:pt x="140" y="746"/>
                              </a:lnTo>
                              <a:lnTo>
                                <a:pt x="82" y="684"/>
                              </a:lnTo>
                              <a:lnTo>
                                <a:pt x="26" y="607"/>
                              </a:lnTo>
                              <a:lnTo>
                                <a:pt x="0" y="5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68" name=""/>
                      <p:cNvGrpSpPr/>
                      <p:nvPr/>
                    </p:nvGrpSpPr>
                    <p:grpSpPr>
                      <a:xfrm>
                        <a:off x="3929760" y="3898440"/>
                        <a:ext cx="401760" cy="380160"/>
                        <a:chOff x="3929760" y="3898440"/>
                        <a:chExt cx="401760" cy="380160"/>
                      </a:xfrm>
                    </p:grpSpPr>
                    <p:sp>
                      <p:nvSpPr>
                        <p:cNvPr id="1069" name=""/>
                        <p:cNvSpPr/>
                        <p:nvPr/>
                      </p:nvSpPr>
                      <p:spPr>
                        <a:xfrm flipH="1">
                          <a:off x="4210560" y="4183560"/>
                          <a:ext cx="98280" cy="9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1" h="300">
                              <a:moveTo>
                                <a:pt x="0" y="0"/>
                              </a:moveTo>
                              <a:lnTo>
                                <a:pt x="33" y="60"/>
                              </a:lnTo>
                              <a:lnTo>
                                <a:pt x="64" y="107"/>
                              </a:lnTo>
                              <a:lnTo>
                                <a:pt x="98" y="149"/>
                              </a:lnTo>
                              <a:lnTo>
                                <a:pt x="150" y="199"/>
                              </a:lnTo>
                              <a:lnTo>
                                <a:pt x="189" y="232"/>
                              </a:lnTo>
                              <a:lnTo>
                                <a:pt x="238" y="263"/>
                              </a:lnTo>
                              <a:lnTo>
                                <a:pt x="311" y="300"/>
                              </a:lnTo>
                              <a:lnTo>
                                <a:pt x="230" y="190"/>
                              </a:lnTo>
                              <a:lnTo>
                                <a:pt x="184" y="164"/>
                              </a:lnTo>
                              <a:lnTo>
                                <a:pt x="152" y="141"/>
                              </a:lnTo>
                              <a:lnTo>
                                <a:pt x="104" y="109"/>
                              </a:lnTo>
                              <a:lnTo>
                                <a:pt x="67" y="74"/>
                              </a:lnTo>
                              <a:lnTo>
                                <a:pt x="38" y="45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0" name=""/>
                        <p:cNvSpPr/>
                        <p:nvPr/>
                      </p:nvSpPr>
                      <p:spPr>
                        <a:xfrm flipH="1">
                          <a:off x="3929400" y="4006080"/>
                          <a:ext cx="34920" cy="18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1" h="590">
                              <a:moveTo>
                                <a:pt x="21" y="0"/>
                              </a:moveTo>
                              <a:lnTo>
                                <a:pt x="42" y="40"/>
                              </a:lnTo>
                              <a:lnTo>
                                <a:pt x="56" y="75"/>
                              </a:lnTo>
                              <a:lnTo>
                                <a:pt x="71" y="111"/>
                              </a:lnTo>
                              <a:lnTo>
                                <a:pt x="82" y="145"/>
                              </a:lnTo>
                              <a:lnTo>
                                <a:pt x="91" y="178"/>
                              </a:lnTo>
                              <a:lnTo>
                                <a:pt x="107" y="235"/>
                              </a:lnTo>
                              <a:lnTo>
                                <a:pt x="111" y="291"/>
                              </a:lnTo>
                              <a:lnTo>
                                <a:pt x="108" y="377"/>
                              </a:lnTo>
                              <a:lnTo>
                                <a:pt x="101" y="436"/>
                              </a:lnTo>
                              <a:lnTo>
                                <a:pt x="89" y="483"/>
                              </a:lnTo>
                              <a:lnTo>
                                <a:pt x="70" y="533"/>
                              </a:lnTo>
                              <a:lnTo>
                                <a:pt x="45" y="590"/>
                              </a:lnTo>
                              <a:lnTo>
                                <a:pt x="0" y="479"/>
                              </a:lnTo>
                              <a:lnTo>
                                <a:pt x="21" y="430"/>
                              </a:lnTo>
                              <a:lnTo>
                                <a:pt x="30" y="404"/>
                              </a:lnTo>
                              <a:lnTo>
                                <a:pt x="42" y="371"/>
                              </a:lnTo>
                              <a:lnTo>
                                <a:pt x="50" y="336"/>
                              </a:lnTo>
                              <a:lnTo>
                                <a:pt x="56" y="283"/>
                              </a:lnTo>
                              <a:lnTo>
                                <a:pt x="59" y="239"/>
                              </a:lnTo>
                              <a:lnTo>
                                <a:pt x="59" y="173"/>
                              </a:lnTo>
                              <a:lnTo>
                                <a:pt x="50" y="114"/>
                              </a:lnTo>
                              <a:lnTo>
                                <a:pt x="39" y="65"/>
                              </a:lnTo>
                              <a:lnTo>
                                <a:pt x="32" y="39"/>
                              </a:lnTo>
                              <a:lnTo>
                                <a:pt x="2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1" name=""/>
                        <p:cNvSpPr/>
                        <p:nvPr/>
                      </p:nvSpPr>
                      <p:spPr>
                        <a:xfrm flipH="1">
                          <a:off x="4009320" y="3898440"/>
                          <a:ext cx="139680" cy="55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41" h="178">
                              <a:moveTo>
                                <a:pt x="0" y="0"/>
                              </a:moveTo>
                              <a:lnTo>
                                <a:pt x="33" y="65"/>
                              </a:lnTo>
                              <a:lnTo>
                                <a:pt x="85" y="62"/>
                              </a:lnTo>
                              <a:lnTo>
                                <a:pt x="133" y="65"/>
                              </a:lnTo>
                              <a:lnTo>
                                <a:pt x="177" y="72"/>
                              </a:lnTo>
                              <a:lnTo>
                                <a:pt x="218" y="79"/>
                              </a:lnTo>
                              <a:lnTo>
                                <a:pt x="259" y="90"/>
                              </a:lnTo>
                              <a:lnTo>
                                <a:pt x="288" y="99"/>
                              </a:lnTo>
                              <a:lnTo>
                                <a:pt x="324" y="114"/>
                              </a:lnTo>
                              <a:lnTo>
                                <a:pt x="367" y="134"/>
                              </a:lnTo>
                              <a:lnTo>
                                <a:pt x="441" y="178"/>
                              </a:lnTo>
                              <a:lnTo>
                                <a:pt x="398" y="133"/>
                              </a:lnTo>
                              <a:lnTo>
                                <a:pt x="368" y="110"/>
                              </a:lnTo>
                              <a:lnTo>
                                <a:pt x="328" y="84"/>
                              </a:lnTo>
                              <a:lnTo>
                                <a:pt x="303" y="69"/>
                              </a:lnTo>
                              <a:lnTo>
                                <a:pt x="247" y="43"/>
                              </a:lnTo>
                              <a:lnTo>
                                <a:pt x="212" y="31"/>
                              </a:lnTo>
                              <a:lnTo>
                                <a:pt x="183" y="21"/>
                              </a:lnTo>
                              <a:lnTo>
                                <a:pt x="155" y="14"/>
                              </a:lnTo>
                              <a:lnTo>
                                <a:pt x="113" y="7"/>
                              </a:lnTo>
                              <a:lnTo>
                                <a:pt x="69" y="1"/>
                              </a:lnTo>
                              <a:lnTo>
                                <a:pt x="19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280" bIns="8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2" name=""/>
                        <p:cNvSpPr/>
                        <p:nvPr/>
                      </p:nvSpPr>
                      <p:spPr>
                        <a:xfrm flipH="1">
                          <a:off x="4286880" y="3977280"/>
                          <a:ext cx="44280" cy="131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1" h="417">
                              <a:moveTo>
                                <a:pt x="0" y="320"/>
                              </a:moveTo>
                              <a:lnTo>
                                <a:pt x="3" y="288"/>
                              </a:lnTo>
                              <a:lnTo>
                                <a:pt x="5" y="252"/>
                              </a:lnTo>
                              <a:lnTo>
                                <a:pt x="15" y="195"/>
                              </a:lnTo>
                              <a:lnTo>
                                <a:pt x="26" y="150"/>
                              </a:lnTo>
                              <a:lnTo>
                                <a:pt x="41" y="109"/>
                              </a:lnTo>
                              <a:lnTo>
                                <a:pt x="60" y="67"/>
                              </a:lnTo>
                              <a:lnTo>
                                <a:pt x="78" y="34"/>
                              </a:lnTo>
                              <a:lnTo>
                                <a:pt x="99" y="0"/>
                              </a:lnTo>
                              <a:lnTo>
                                <a:pt x="141" y="54"/>
                              </a:lnTo>
                              <a:lnTo>
                                <a:pt x="117" y="86"/>
                              </a:lnTo>
                              <a:lnTo>
                                <a:pt x="99" y="115"/>
                              </a:lnTo>
                              <a:lnTo>
                                <a:pt x="85" y="142"/>
                              </a:lnTo>
                              <a:lnTo>
                                <a:pt x="65" y="180"/>
                              </a:lnTo>
                              <a:lnTo>
                                <a:pt x="52" y="213"/>
                              </a:lnTo>
                              <a:lnTo>
                                <a:pt x="44" y="246"/>
                              </a:lnTo>
                              <a:lnTo>
                                <a:pt x="34" y="278"/>
                              </a:lnTo>
                              <a:lnTo>
                                <a:pt x="28" y="314"/>
                              </a:lnTo>
                              <a:lnTo>
                                <a:pt x="23" y="357"/>
                              </a:lnTo>
                              <a:lnTo>
                                <a:pt x="18" y="400"/>
                              </a:lnTo>
                              <a:lnTo>
                                <a:pt x="11" y="417"/>
                              </a:lnTo>
                              <a:lnTo>
                                <a:pt x="0" y="32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073" name=""/>
                    <p:cNvSpPr/>
                    <p:nvPr/>
                  </p:nvSpPr>
                  <p:spPr>
                    <a:xfrm flipH="1">
                      <a:off x="3927960" y="3917880"/>
                      <a:ext cx="398520" cy="380520"/>
                    </a:xfrm>
                    <a:prstGeom prst="ellipse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74" name=""/>
                    <p:cNvGrpSpPr/>
                    <p:nvPr/>
                  </p:nvGrpSpPr>
                  <p:grpSpPr>
                    <a:xfrm>
                      <a:off x="3944160" y="3886200"/>
                      <a:ext cx="398520" cy="380880"/>
                      <a:chOff x="3944160" y="3886200"/>
                      <a:chExt cx="398520" cy="380880"/>
                    </a:xfrm>
                  </p:grpSpPr>
                  <p:sp>
                    <p:nvSpPr>
                      <p:cNvPr id="1075" name=""/>
                      <p:cNvSpPr/>
                      <p:nvPr/>
                    </p:nvSpPr>
                    <p:spPr>
                      <a:xfrm flipH="1">
                        <a:off x="3950640" y="3892320"/>
                        <a:ext cx="387360" cy="369720"/>
                      </a:xfrm>
                      <a:prstGeom prst="ellipse">
                        <a:avLst/>
                      </a:prstGeom>
                      <a:noFill/>
                      <a:ln w="14400">
                        <a:solidFill>
                          <a:srgbClr val="9f9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6" name=""/>
                      <p:cNvSpPr/>
                      <p:nvPr/>
                    </p:nvSpPr>
                    <p:spPr>
                      <a:xfrm flipH="1">
                        <a:off x="3943800" y="3886200"/>
                        <a:ext cx="398520" cy="380880"/>
                      </a:xfrm>
                      <a:prstGeom prst="ellipse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7" name=""/>
                      <p:cNvSpPr/>
                      <p:nvPr/>
                    </p:nvSpPr>
                    <p:spPr>
                      <a:xfrm flipH="1">
                        <a:off x="3956400" y="3898800"/>
                        <a:ext cx="374760" cy="356760"/>
                      </a:xfrm>
                      <a:prstGeom prst="ellipse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078" name=""/>
                  <p:cNvGrpSpPr/>
                  <p:nvPr/>
                </p:nvGrpSpPr>
                <p:grpSpPr>
                  <a:xfrm>
                    <a:off x="3913200" y="4244760"/>
                    <a:ext cx="202680" cy="315360"/>
                    <a:chOff x="3913200" y="4244760"/>
                    <a:chExt cx="202680" cy="315360"/>
                  </a:xfrm>
                </p:grpSpPr>
                <p:sp>
                  <p:nvSpPr>
                    <p:cNvPr id="1079" name=""/>
                    <p:cNvSpPr/>
                    <p:nvPr/>
                  </p:nvSpPr>
                  <p:spPr>
                    <a:xfrm flipH="1">
                      <a:off x="3919320" y="4260240"/>
                      <a:ext cx="194760" cy="27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1" h="873">
                          <a:moveTo>
                            <a:pt x="0" y="65"/>
                          </a:moveTo>
                          <a:lnTo>
                            <a:pt x="433" y="873"/>
                          </a:lnTo>
                          <a:lnTo>
                            <a:pt x="611" y="783"/>
                          </a:lnTo>
                          <a:lnTo>
                            <a:pt x="175" y="0"/>
                          </a:lnTo>
                          <a:lnTo>
                            <a:pt x="0" y="65"/>
                          </a:lnTo>
                          <a:close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0" name=""/>
                    <p:cNvSpPr/>
                    <p:nvPr/>
                  </p:nvSpPr>
                  <p:spPr>
                    <a:xfrm flipH="1">
                      <a:off x="4056120" y="4244760"/>
                      <a:ext cx="5832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438" y="13843"/>
                          </a:moveTo>
                          <a:arcTo wR="10800" hR="10800" stAng="9818105" swAng="1055423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438" y="13843"/>
                          </a:moveTo>
                          <a:arcTo wR="10800" hR="10800" stAng="9818105" swAng="10554234"/>
                        </a:path>
                      </a:pathLst>
                    </a:custGeom>
                    <a:solidFill>
                      <a:srgbClr val="5f3f1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1" name=""/>
                    <p:cNvSpPr/>
                    <p:nvPr/>
                  </p:nvSpPr>
                  <p:spPr>
                    <a:xfrm flipH="1">
                      <a:off x="4053240" y="4249080"/>
                      <a:ext cx="5940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59" y="11931"/>
                          </a:moveTo>
                          <a:arcTo wR="10800" hR="10800" stAng="10439460" swAng="1005444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59" y="11931"/>
                          </a:moveTo>
                          <a:arcTo wR="10800" hR="10800" stAng="10439460" swAng="10054443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2" name=""/>
                    <p:cNvSpPr/>
                    <p:nvPr/>
                  </p:nvSpPr>
                  <p:spPr>
                    <a:xfrm flipH="1">
                      <a:off x="4079160" y="4249080"/>
                      <a:ext cx="36360" cy="6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223">
                          <a:moveTo>
                            <a:pt x="3" y="103"/>
                          </a:moveTo>
                          <a:lnTo>
                            <a:pt x="0" y="88"/>
                          </a:lnTo>
                          <a:lnTo>
                            <a:pt x="0" y="74"/>
                          </a:lnTo>
                          <a:lnTo>
                            <a:pt x="2" y="62"/>
                          </a:lnTo>
                          <a:lnTo>
                            <a:pt x="6" y="45"/>
                          </a:lnTo>
                          <a:lnTo>
                            <a:pt x="13" y="31"/>
                          </a:lnTo>
                          <a:lnTo>
                            <a:pt x="22" y="18"/>
                          </a:lnTo>
                          <a:lnTo>
                            <a:pt x="33" y="7"/>
                          </a:lnTo>
                          <a:lnTo>
                            <a:pt x="44" y="0"/>
                          </a:lnTo>
                          <a:lnTo>
                            <a:pt x="115" y="121"/>
                          </a:lnTo>
                          <a:lnTo>
                            <a:pt x="102" y="128"/>
                          </a:lnTo>
                          <a:lnTo>
                            <a:pt x="94" y="137"/>
                          </a:lnTo>
                          <a:lnTo>
                            <a:pt x="85" y="145"/>
                          </a:lnTo>
                          <a:lnTo>
                            <a:pt x="79" y="156"/>
                          </a:lnTo>
                          <a:lnTo>
                            <a:pt x="71" y="176"/>
                          </a:lnTo>
                          <a:lnTo>
                            <a:pt x="67" y="202"/>
                          </a:lnTo>
                          <a:lnTo>
                            <a:pt x="67" y="223"/>
                          </a:lnTo>
                          <a:lnTo>
                            <a:pt x="3" y="103"/>
                          </a:lnTo>
                          <a:close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3" name=""/>
                    <p:cNvSpPr/>
                    <p:nvPr/>
                  </p:nvSpPr>
                  <p:spPr>
                    <a:xfrm flipH="1">
                      <a:off x="4054680" y="4245840"/>
                      <a:ext cx="5940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58" y="13146"/>
                          </a:moveTo>
                          <a:arcTo wR="10800" hR="10800" stAng="10047177" swAng="487594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58" y="13146"/>
                          </a:moveTo>
                          <a:arcTo wR="10800" hR="10800" stAng="10047177" swAng="4875948"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4" name=""/>
                    <p:cNvSpPr/>
                    <p:nvPr/>
                  </p:nvSpPr>
                  <p:spPr>
                    <a:xfrm flipH="1">
                      <a:off x="4034160" y="4284000"/>
                      <a:ext cx="5940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301" y="13333"/>
                          </a:moveTo>
                          <a:arcTo wR="10800" hR="10800" stAng="9986129" swAng="1042014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301" y="13333"/>
                          </a:moveTo>
                          <a:arcTo wR="10800" hR="10800" stAng="9986129" swAng="10420145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85" name=""/>
                    <p:cNvGrpSpPr/>
                    <p:nvPr/>
                  </p:nvGrpSpPr>
                  <p:grpSpPr>
                    <a:xfrm>
                      <a:off x="4030200" y="4288680"/>
                      <a:ext cx="61920" cy="61920"/>
                      <a:chOff x="4030200" y="4288680"/>
                      <a:chExt cx="61920" cy="61920"/>
                    </a:xfrm>
                  </p:grpSpPr>
                  <p:grpSp>
                    <p:nvGrpSpPr>
                      <p:cNvPr id="1086" name=""/>
                      <p:cNvGrpSpPr/>
                      <p:nvPr/>
                    </p:nvGrpSpPr>
                    <p:grpSpPr>
                      <a:xfrm>
                        <a:off x="4033080" y="4288680"/>
                        <a:ext cx="59040" cy="55800"/>
                        <a:chOff x="4033080" y="4288680"/>
                        <a:chExt cx="59040" cy="55800"/>
                      </a:xfrm>
                    </p:grpSpPr>
                    <p:sp>
                      <p:nvSpPr>
                        <p:cNvPr id="1087" name=""/>
                        <p:cNvSpPr/>
                        <p:nvPr/>
                      </p:nvSpPr>
                      <p:spPr>
                        <a:xfrm flipH="1">
                          <a:off x="4033080" y="4288680"/>
                          <a:ext cx="590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301" y="13333"/>
                              </a:moveTo>
                              <a:arcTo wR="10800" hR="10800" stAng="9986129" swAng="10606913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301" y="13333"/>
                              </a:moveTo>
                              <a:arcTo wR="10800" hR="10800" stAng="9986129" swAng="10606913"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8" name=""/>
                        <p:cNvSpPr/>
                        <p:nvPr/>
                      </p:nvSpPr>
                      <p:spPr>
                        <a:xfrm flipH="1">
                          <a:off x="4033080" y="4288680"/>
                          <a:ext cx="5868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301" y="13333"/>
                              </a:moveTo>
                              <a:arcTo wR="10800" hR="10800" stAng="9986129" swAng="4570572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301" y="13333"/>
                              </a:moveTo>
                              <a:arcTo wR="10800" hR="10800" stAng="9986129" swAng="4570572"/>
                            </a:path>
                          </a:pathLst>
                        </a:custGeom>
                        <a:solidFill>
                          <a:srgbClr val="3f1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9" name=""/>
                        <p:cNvSpPr/>
                        <p:nvPr/>
                      </p:nvSpPr>
                      <p:spPr>
                        <a:xfrm flipH="1">
                          <a:off x="4033440" y="4288680"/>
                          <a:ext cx="5760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286" y="13270"/>
                              </a:moveTo>
                              <a:arcTo wR="10800" hR="10800" stAng="10006785" swAng="1061132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286" y="13270"/>
                              </a:moveTo>
                              <a:arcTo wR="10800" hR="10800" stAng="10006785" swAng="10611320"/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90" name=""/>
                      <p:cNvSpPr/>
                      <p:nvPr/>
                    </p:nvSpPr>
                    <p:spPr>
                      <a:xfrm flipH="1">
                        <a:off x="4030200" y="4294800"/>
                        <a:ext cx="5760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6" y="13270"/>
                            </a:moveTo>
                            <a:arcTo wR="10800" hR="10800" stAng="10006785" swAng="1061132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6" y="13270"/>
                            </a:moveTo>
                            <a:arcTo wR="10800" hR="10800" stAng="10006785" swAng="10611320"/>
                          </a:path>
                        </a:pathLst>
                      </a:custGeom>
                      <a:solidFill>
                        <a:srgbClr val="7f3f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91" name=""/>
                    <p:cNvGrpSpPr/>
                    <p:nvPr/>
                  </p:nvGrpSpPr>
                  <p:grpSpPr>
                    <a:xfrm>
                      <a:off x="4024440" y="4299120"/>
                      <a:ext cx="61560" cy="62280"/>
                      <a:chOff x="4024440" y="4299120"/>
                      <a:chExt cx="61560" cy="62280"/>
                    </a:xfrm>
                  </p:grpSpPr>
                  <p:grpSp>
                    <p:nvGrpSpPr>
                      <p:cNvPr id="1092" name=""/>
                      <p:cNvGrpSpPr/>
                      <p:nvPr/>
                    </p:nvGrpSpPr>
                    <p:grpSpPr>
                      <a:xfrm>
                        <a:off x="4026600" y="4299120"/>
                        <a:ext cx="59400" cy="57240"/>
                        <a:chOff x="4026600" y="4299120"/>
                        <a:chExt cx="59400" cy="57240"/>
                      </a:xfrm>
                    </p:grpSpPr>
                    <p:sp>
                      <p:nvSpPr>
                        <p:cNvPr id="1093" name=""/>
                        <p:cNvSpPr/>
                        <p:nvPr/>
                      </p:nvSpPr>
                      <p:spPr>
                        <a:xfrm flipH="1">
                          <a:off x="4026960" y="4299840"/>
                          <a:ext cx="5868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285" y="13266"/>
                              </a:moveTo>
                              <a:arcTo wR="10800" hR="10800" stAng="10007935" swAng="108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285" y="13266"/>
                              </a:moveTo>
                              <a:arcTo wR="10800" hR="10800" stAng="10007935" swAng="10800000"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4" name=""/>
                        <p:cNvSpPr/>
                        <p:nvPr/>
                      </p:nvSpPr>
                      <p:spPr>
                        <a:xfrm flipH="1">
                          <a:off x="4026240" y="4299120"/>
                          <a:ext cx="59400" cy="56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285" y="13266"/>
                              </a:moveTo>
                              <a:arcTo wR="10800" hR="10800" stAng="10007935" swAng="4415176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285" y="13266"/>
                              </a:moveTo>
                              <a:arcTo wR="10800" hR="10800" stAng="10007935" swAng="4415176"/>
                            </a:path>
                          </a:pathLst>
                        </a:custGeom>
                        <a:solidFill>
                          <a:srgbClr val="3f1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720" bIns="9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5" name=""/>
                        <p:cNvSpPr/>
                        <p:nvPr/>
                      </p:nvSpPr>
                      <p:spPr>
                        <a:xfrm flipH="1">
                          <a:off x="4027680" y="4299840"/>
                          <a:ext cx="56880" cy="56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244" y="13084"/>
                              </a:moveTo>
                              <a:arcTo wR="10800" hR="10800" stAng="10067453" swAng="10716857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244" y="13084"/>
                              </a:moveTo>
                              <a:arcTo wR="10800" hR="10800" stAng="10067453" swAng="10716857"/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720" bIns="9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96" name=""/>
                      <p:cNvSpPr/>
                      <p:nvPr/>
                    </p:nvSpPr>
                    <p:spPr>
                      <a:xfrm flipH="1">
                        <a:off x="4024080" y="4305960"/>
                        <a:ext cx="5868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301" y="13333"/>
                            </a:moveTo>
                            <a:arcTo wR="10800" hR="10800" stAng="9986129" swAng="108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301" y="13333"/>
                            </a:moveTo>
                            <a:arcTo wR="10800" hR="10800" stAng="9986129" swAng="10800000"/>
                          </a:path>
                        </a:pathLst>
                      </a:custGeom>
                      <a:solidFill>
                        <a:srgbClr val="7f3f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97" name=""/>
                    <p:cNvGrpSpPr/>
                    <p:nvPr/>
                  </p:nvGrpSpPr>
                  <p:grpSpPr>
                    <a:xfrm>
                      <a:off x="4020120" y="4310280"/>
                      <a:ext cx="59400" cy="56880"/>
                      <a:chOff x="4020120" y="4310280"/>
                      <a:chExt cx="59400" cy="56880"/>
                    </a:xfrm>
                  </p:grpSpPr>
                  <p:sp>
                    <p:nvSpPr>
                      <p:cNvPr id="1098" name=""/>
                      <p:cNvSpPr/>
                      <p:nvPr/>
                    </p:nvSpPr>
                    <p:spPr>
                      <a:xfrm flipH="1">
                        <a:off x="4020480" y="4311000"/>
                        <a:ext cx="5868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3" y="12671"/>
                            </a:moveTo>
                            <a:arcTo wR="10800" hR="10800" stAng="10201338" swAng="1060659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3" y="12671"/>
                            </a:moveTo>
                            <a:arcTo wR="10800" hR="10800" stAng="10201338" swAng="10606598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9" name=""/>
                      <p:cNvSpPr/>
                      <p:nvPr/>
                    </p:nvSpPr>
                    <p:spPr>
                      <a:xfrm flipH="1">
                        <a:off x="4019760" y="4310280"/>
                        <a:ext cx="59400" cy="5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3" y="12671"/>
                            </a:moveTo>
                            <a:arcTo wR="10800" hR="10800" stAng="10201338" swAng="422177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3" y="12671"/>
                            </a:moveTo>
                            <a:arcTo wR="10800" hR="10800" stAng="10201338" swAng="4221774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080" bIns="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00" name=""/>
                    <p:cNvGrpSpPr/>
                    <p:nvPr/>
                  </p:nvGrpSpPr>
                  <p:grpSpPr>
                    <a:xfrm>
                      <a:off x="4017960" y="4311000"/>
                      <a:ext cx="61560" cy="61200"/>
                      <a:chOff x="4017960" y="4311000"/>
                      <a:chExt cx="61560" cy="61200"/>
                    </a:xfrm>
                  </p:grpSpPr>
                  <p:sp>
                    <p:nvSpPr>
                      <p:cNvPr id="1101" name=""/>
                      <p:cNvSpPr/>
                      <p:nvPr/>
                    </p:nvSpPr>
                    <p:spPr>
                      <a:xfrm flipH="1">
                        <a:off x="4020480" y="4311000"/>
                        <a:ext cx="5868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5" y="13266"/>
                            </a:moveTo>
                            <a:arcTo wR="10800" hR="10800" stAng="10007935" swAng="108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5" y="13266"/>
                            </a:moveTo>
                            <a:arcTo wR="10800" hR="10800" stAng="10007935" swAng="10800000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2" name=""/>
                      <p:cNvSpPr/>
                      <p:nvPr/>
                    </p:nvSpPr>
                    <p:spPr>
                      <a:xfrm flipH="1">
                        <a:off x="4017600" y="4317120"/>
                        <a:ext cx="5868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73" y="12723"/>
                            </a:moveTo>
                            <a:arcTo wR="10800" hR="10800" stAng="10184591" swAng="1060153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73" y="12723"/>
                            </a:moveTo>
                            <a:arcTo wR="10800" hR="10800" stAng="10184591" swAng="10601538"/>
                          </a:path>
                        </a:pathLst>
                      </a:custGeom>
                      <a:solidFill>
                        <a:srgbClr val="7f3f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03" name=""/>
                    <p:cNvGrpSpPr/>
                    <p:nvPr/>
                  </p:nvGrpSpPr>
                  <p:grpSpPr>
                    <a:xfrm>
                      <a:off x="3920040" y="4262040"/>
                      <a:ext cx="192960" cy="276840"/>
                      <a:chOff x="3920040" y="4262040"/>
                      <a:chExt cx="192960" cy="276840"/>
                    </a:xfrm>
                  </p:grpSpPr>
                  <p:sp>
                    <p:nvSpPr>
                      <p:cNvPr id="1104" name=""/>
                      <p:cNvSpPr/>
                      <p:nvPr/>
                    </p:nvSpPr>
                    <p:spPr>
                      <a:xfrm flipH="1">
                        <a:off x="3920040" y="4262040"/>
                        <a:ext cx="137520" cy="2469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5" name=""/>
                      <p:cNvSpPr/>
                      <p:nvPr/>
                    </p:nvSpPr>
                    <p:spPr>
                      <a:xfrm flipH="1">
                        <a:off x="3975120" y="4280400"/>
                        <a:ext cx="137880" cy="25848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06" name=""/>
                    <p:cNvGrpSpPr/>
                    <p:nvPr/>
                  </p:nvGrpSpPr>
                  <p:grpSpPr>
                    <a:xfrm>
                      <a:off x="4011840" y="4321440"/>
                      <a:ext cx="61200" cy="60840"/>
                      <a:chOff x="4011840" y="4321440"/>
                      <a:chExt cx="61200" cy="60840"/>
                    </a:xfrm>
                  </p:grpSpPr>
                  <p:grpSp>
                    <p:nvGrpSpPr>
                      <p:cNvPr id="1107" name=""/>
                      <p:cNvGrpSpPr/>
                      <p:nvPr/>
                    </p:nvGrpSpPr>
                    <p:grpSpPr>
                      <a:xfrm>
                        <a:off x="4014360" y="4321440"/>
                        <a:ext cx="58680" cy="56880"/>
                        <a:chOff x="4014360" y="4321440"/>
                        <a:chExt cx="58680" cy="56880"/>
                      </a:xfrm>
                    </p:grpSpPr>
                    <p:sp>
                      <p:nvSpPr>
                        <p:cNvPr id="1108" name=""/>
                        <p:cNvSpPr/>
                        <p:nvPr/>
                      </p:nvSpPr>
                      <p:spPr>
                        <a:xfrm flipH="1">
                          <a:off x="4014000" y="4322160"/>
                          <a:ext cx="5868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63" y="12671"/>
                              </a:moveTo>
                              <a:arcTo wR="10800" hR="10800" stAng="10201338" swAng="10606598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63" y="12671"/>
                              </a:moveTo>
                              <a:arcTo wR="10800" hR="10800" stAng="10201338" swAng="10606598"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9" name=""/>
                        <p:cNvSpPr/>
                        <p:nvPr/>
                      </p:nvSpPr>
                      <p:spPr>
                        <a:xfrm flipH="1">
                          <a:off x="4014000" y="4321440"/>
                          <a:ext cx="5868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63" y="12671"/>
                              </a:moveTo>
                              <a:arcTo wR="10800" hR="10800" stAng="10201338" swAng="4221774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63" y="12671"/>
                              </a:moveTo>
                              <a:arcTo wR="10800" hR="10800" stAng="10201338" swAng="4221774"/>
                            </a:path>
                          </a:pathLst>
                        </a:custGeom>
                        <a:solidFill>
                          <a:srgbClr val="3f1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10" name=""/>
                      <p:cNvSpPr/>
                      <p:nvPr/>
                    </p:nvSpPr>
                    <p:spPr>
                      <a:xfrm flipH="1">
                        <a:off x="4014000" y="4322160"/>
                        <a:ext cx="5868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73" y="12723"/>
                            </a:moveTo>
                            <a:arcTo wR="10800" hR="10800" stAng="10184591" swAng="1060153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73" y="12723"/>
                            </a:moveTo>
                            <a:arcTo wR="10800" hR="10800" stAng="10184591" swAng="10601538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1" name=""/>
                      <p:cNvSpPr/>
                      <p:nvPr/>
                    </p:nvSpPr>
                    <p:spPr>
                      <a:xfrm flipH="1">
                        <a:off x="4011480" y="4326480"/>
                        <a:ext cx="5868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5" y="13266"/>
                            </a:moveTo>
                            <a:arcTo wR="10800" hR="10800" stAng="10007935" swAng="108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5" y="13266"/>
                            </a:moveTo>
                            <a:arcTo wR="10800" hR="10800" stAng="10007935" swAng="10800000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12" name=""/>
                    <p:cNvSpPr/>
                    <p:nvPr/>
                  </p:nvSpPr>
                  <p:spPr>
                    <a:xfrm flipH="1">
                      <a:off x="3952800" y="4328640"/>
                      <a:ext cx="118800" cy="20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7" h="645">
                          <a:moveTo>
                            <a:pt x="48" y="0"/>
                          </a:moveTo>
                          <a:lnTo>
                            <a:pt x="34" y="9"/>
                          </a:lnTo>
                          <a:lnTo>
                            <a:pt x="23" y="18"/>
                          </a:lnTo>
                          <a:lnTo>
                            <a:pt x="13" y="28"/>
                          </a:lnTo>
                          <a:lnTo>
                            <a:pt x="9" y="39"/>
                          </a:lnTo>
                          <a:lnTo>
                            <a:pt x="4" y="51"/>
                          </a:lnTo>
                          <a:lnTo>
                            <a:pt x="1" y="63"/>
                          </a:lnTo>
                          <a:lnTo>
                            <a:pt x="0" y="77"/>
                          </a:lnTo>
                          <a:lnTo>
                            <a:pt x="0" y="93"/>
                          </a:lnTo>
                          <a:lnTo>
                            <a:pt x="292" y="645"/>
                          </a:lnTo>
                          <a:lnTo>
                            <a:pt x="377" y="58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3" name=""/>
                    <p:cNvSpPr/>
                    <p:nvPr/>
                  </p:nvSpPr>
                  <p:spPr>
                    <a:xfrm flipH="1">
                      <a:off x="3913200" y="4498560"/>
                      <a:ext cx="64800" cy="61560"/>
                    </a:xfrm>
                    <a:prstGeom prst="ellipse">
                      <a:avLst/>
                    </a:prstGeom>
                    <a:solidFill>
                      <a:srgbClr val="7f5f3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114" name=""/>
                <p:cNvSpPr/>
                <p:nvPr/>
              </p:nvSpPr>
              <p:spPr>
                <a:xfrm>
                  <a:off x="1599840" y="3598920"/>
                  <a:ext cx="190512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c3300"/>
                      </a:solidFill>
                      <a:latin typeface="Times New Roman"/>
                    </a:rPr>
                    <a:t>Zoom on actual cho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5" name=""/>
            <p:cNvSpPr/>
            <p:nvPr/>
          </p:nvSpPr>
          <p:spPr>
            <a:xfrm>
              <a:off x="4800600" y="4876920"/>
              <a:ext cx="419112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434160" indent="-399960">
                <a:lnSpc>
                  <a:spcPct val="100000"/>
                </a:lnSpc>
                <a:spcBef>
                  <a:spcPts val="799"/>
                </a:spcBef>
                <a:buClr>
                  <a:srgbClr val="777777"/>
                </a:buClr>
                <a:buSzPct val="9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Cooperating matchmakers (DF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D361-BE54-452A-8DEC-3F88A20E1D6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Dedicated sub-societies (user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304560" y="-360"/>
            <a:ext cx="87627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48920" indent="-41328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User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dedicated sub-society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891360" indent="-26532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t related to one resource typ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91360" indent="-26532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wo main roles : GUI Mgnt &amp; User Profile Mg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957240" y="1752480"/>
            <a:ext cx="7043760" cy="2876400"/>
            <a:chOff x="957240" y="1752480"/>
            <a:chExt cx="7043760" cy="2876400"/>
          </a:xfrm>
        </p:grpSpPr>
        <p:sp>
          <p:nvSpPr>
            <p:cNvPr id="1119" name=""/>
            <p:cNvSpPr/>
            <p:nvPr/>
          </p:nvSpPr>
          <p:spPr>
            <a:xfrm>
              <a:off x="957240" y="1752480"/>
              <a:ext cx="31780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1044720" y="1879200"/>
              <a:ext cx="446040" cy="474840"/>
              <a:chOff x="1044720" y="1879200"/>
              <a:chExt cx="446040" cy="474840"/>
            </a:xfrm>
          </p:grpSpPr>
          <p:grpSp>
            <p:nvGrpSpPr>
              <p:cNvPr id="1121" name=""/>
              <p:cNvGrpSpPr/>
              <p:nvPr/>
            </p:nvGrpSpPr>
            <p:grpSpPr>
              <a:xfrm>
                <a:off x="1197000" y="1879200"/>
                <a:ext cx="293760" cy="388800"/>
                <a:chOff x="1197000" y="1879200"/>
                <a:chExt cx="293760" cy="38880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1197000" y="207360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flipV="1">
                  <a:off x="1197000" y="187920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1143000" y="1908000"/>
                <a:ext cx="293760" cy="388800"/>
                <a:chOff x="1143000" y="1908000"/>
                <a:chExt cx="293760" cy="38880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1143000" y="210240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flipV="1">
                  <a:off x="1143000" y="190800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1098720" y="1936440"/>
                <a:ext cx="293400" cy="388800"/>
                <a:chOff x="1098720" y="1936440"/>
                <a:chExt cx="293400" cy="38880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1098720" y="213084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 flipV="1">
                  <a:off x="1098720" y="193644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0" name=""/>
              <p:cNvGrpSpPr/>
              <p:nvPr/>
            </p:nvGrpSpPr>
            <p:grpSpPr>
              <a:xfrm>
                <a:off x="1044720" y="1965240"/>
                <a:ext cx="293400" cy="388800"/>
                <a:chOff x="1044720" y="1965240"/>
                <a:chExt cx="293400" cy="38880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1044720" y="215964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flipV="1">
                  <a:off x="1044720" y="196524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3" name=""/>
            <p:cNvSpPr/>
            <p:nvPr/>
          </p:nvSpPr>
          <p:spPr>
            <a:xfrm>
              <a:off x="1547640" y="1769760"/>
              <a:ext cx="2587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Ontology-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922480" y="3893760"/>
              <a:ext cx="3178440" cy="72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3139920" y="4031640"/>
              <a:ext cx="408240" cy="473400"/>
              <a:chOff x="3139920" y="4031640"/>
              <a:chExt cx="408240" cy="473400"/>
            </a:xfrm>
          </p:grpSpPr>
          <p:grpSp>
            <p:nvGrpSpPr>
              <p:cNvPr id="1136" name=""/>
              <p:cNvGrpSpPr/>
              <p:nvPr/>
            </p:nvGrpSpPr>
            <p:grpSpPr>
              <a:xfrm>
                <a:off x="3278880" y="4031640"/>
                <a:ext cx="269280" cy="388440"/>
                <a:chOff x="3278880" y="4031640"/>
                <a:chExt cx="269280" cy="38844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3278880" y="422604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flipV="1">
                  <a:off x="3278880" y="403128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3229560" y="4060080"/>
                <a:ext cx="269280" cy="388440"/>
                <a:chOff x="3229560" y="4060080"/>
                <a:chExt cx="269280" cy="38844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3229560" y="425448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V="1">
                  <a:off x="3229560" y="405972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3188880" y="4088160"/>
                <a:ext cx="269280" cy="388440"/>
                <a:chOff x="3188880" y="4088160"/>
                <a:chExt cx="269280" cy="38844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3188880" y="428256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flipV="1">
                  <a:off x="3188880" y="408780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3139920" y="4116600"/>
                <a:ext cx="269280" cy="388440"/>
                <a:chOff x="3139920" y="4116600"/>
                <a:chExt cx="269280" cy="38844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3139920" y="431100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flipV="1">
                  <a:off x="3139920" y="411624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8" name=""/>
            <p:cNvSpPr/>
            <p:nvPr/>
          </p:nvSpPr>
          <p:spPr>
            <a:xfrm>
              <a:off x="3660840" y="3924000"/>
              <a:ext cx="24019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User-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821120" y="1752480"/>
              <a:ext cx="31798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0" name=""/>
            <p:cNvGrpSpPr/>
            <p:nvPr/>
          </p:nvGrpSpPr>
          <p:grpSpPr>
            <a:xfrm>
              <a:off x="5040360" y="1866600"/>
              <a:ext cx="412560" cy="474480"/>
              <a:chOff x="5040360" y="1866600"/>
              <a:chExt cx="412560" cy="474480"/>
            </a:xfrm>
          </p:grpSpPr>
          <p:grpSp>
            <p:nvGrpSpPr>
              <p:cNvPr id="1151" name=""/>
              <p:cNvGrpSpPr/>
              <p:nvPr/>
            </p:nvGrpSpPr>
            <p:grpSpPr>
              <a:xfrm>
                <a:off x="5181480" y="1866600"/>
                <a:ext cx="271440" cy="388800"/>
                <a:chOff x="5181480" y="1866600"/>
                <a:chExt cx="271440" cy="38880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5181480" y="206100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flipV="1">
                  <a:off x="5181480" y="186660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5130720" y="1895400"/>
                <a:ext cx="273240" cy="388800"/>
                <a:chOff x="5130720" y="1895400"/>
                <a:chExt cx="273240" cy="38880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5130720" y="2089800"/>
                  <a:ext cx="2732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flipV="1">
                  <a:off x="5130720" y="1895400"/>
                  <a:ext cx="2732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5089680" y="1923840"/>
                <a:ext cx="272880" cy="388800"/>
                <a:chOff x="5089680" y="1923840"/>
                <a:chExt cx="272880" cy="38880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5089680" y="2118240"/>
                  <a:ext cx="2728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V="1">
                  <a:off x="5089680" y="1923840"/>
                  <a:ext cx="2728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5040360" y="1952280"/>
                <a:ext cx="271440" cy="388800"/>
                <a:chOff x="5040360" y="1952280"/>
                <a:chExt cx="271440" cy="38880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5040360" y="214668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V="1">
                  <a:off x="5040360" y="195228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3" name=""/>
            <p:cNvSpPr/>
            <p:nvPr/>
          </p:nvSpPr>
          <p:spPr>
            <a:xfrm>
              <a:off x="5297400" y="1765080"/>
              <a:ext cx="26924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cument-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922480" y="2833560"/>
              <a:ext cx="317844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5" name=""/>
            <p:cNvGrpSpPr/>
            <p:nvPr/>
          </p:nvGrpSpPr>
          <p:grpSpPr>
            <a:xfrm>
              <a:off x="3127320" y="2969640"/>
              <a:ext cx="420840" cy="473400"/>
              <a:chOff x="3127320" y="2969640"/>
              <a:chExt cx="420840" cy="473400"/>
            </a:xfrm>
          </p:grpSpPr>
          <p:grpSp>
            <p:nvGrpSpPr>
              <p:cNvPr id="1166" name=""/>
              <p:cNvGrpSpPr/>
              <p:nvPr/>
            </p:nvGrpSpPr>
            <p:grpSpPr>
              <a:xfrm>
                <a:off x="3270600" y="2969640"/>
                <a:ext cx="277560" cy="388440"/>
                <a:chOff x="3270600" y="2969640"/>
                <a:chExt cx="277560" cy="38844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3270600" y="316404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flipV="1">
                  <a:off x="3270600" y="296928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3219840" y="2998080"/>
                <a:ext cx="277560" cy="388440"/>
                <a:chOff x="3219840" y="2998080"/>
                <a:chExt cx="277560" cy="38844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3219840" y="319248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flipV="1">
                  <a:off x="3219840" y="299772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3177720" y="3026160"/>
                <a:ext cx="277560" cy="388440"/>
                <a:chOff x="3177720" y="3026160"/>
                <a:chExt cx="277560" cy="38844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3177720" y="322056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V="1">
                  <a:off x="3177720" y="302580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3127320" y="3054600"/>
                <a:ext cx="277560" cy="388440"/>
                <a:chOff x="3127320" y="3054600"/>
                <a:chExt cx="277560" cy="38844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127320" y="324900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3127320" y="305424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3587760" y="2863440"/>
              <a:ext cx="28083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nection-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218040" y="2330280"/>
              <a:ext cx="73800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056200" y="3430440"/>
              <a:ext cx="0" cy="560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5435280" y="2330280"/>
              <a:ext cx="73980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069D-7A16-4C32-A89E-518BB29CEF0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Dedicated sub-societies (user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304560" y="-360"/>
            <a:ext cx="8762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63320" indent="-426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User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dedicated sub-society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20160" indent="-27396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t related to one resource typ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20160" indent="-27396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wo main roles : GUI Mgnt &amp; User Profile Mg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20160" indent="-27396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ymbolic learning techniqu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2922480" y="3894120"/>
            <a:ext cx="3178440" cy="735120"/>
            <a:chOff x="2922480" y="3894120"/>
            <a:chExt cx="3178440" cy="735120"/>
          </a:xfrm>
        </p:grpSpPr>
        <p:sp>
          <p:nvSpPr>
            <p:cNvPr id="1185" name=""/>
            <p:cNvSpPr/>
            <p:nvPr/>
          </p:nvSpPr>
          <p:spPr>
            <a:xfrm>
              <a:off x="2922480" y="3894120"/>
              <a:ext cx="3178440" cy="72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6" name=""/>
            <p:cNvGrpSpPr/>
            <p:nvPr/>
          </p:nvGrpSpPr>
          <p:grpSpPr>
            <a:xfrm>
              <a:off x="3139920" y="4032000"/>
              <a:ext cx="408240" cy="473400"/>
              <a:chOff x="3139920" y="4032000"/>
              <a:chExt cx="408240" cy="473400"/>
            </a:xfrm>
          </p:grpSpPr>
          <p:grpSp>
            <p:nvGrpSpPr>
              <p:cNvPr id="1187" name=""/>
              <p:cNvGrpSpPr/>
              <p:nvPr/>
            </p:nvGrpSpPr>
            <p:grpSpPr>
              <a:xfrm>
                <a:off x="3278880" y="4032000"/>
                <a:ext cx="269280" cy="388440"/>
                <a:chOff x="3278880" y="4032000"/>
                <a:chExt cx="269280" cy="38844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3278880" y="422640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 flipV="1">
                  <a:off x="3278880" y="403164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0" name=""/>
              <p:cNvGrpSpPr/>
              <p:nvPr/>
            </p:nvGrpSpPr>
            <p:grpSpPr>
              <a:xfrm>
                <a:off x="3229560" y="4060440"/>
                <a:ext cx="269280" cy="388440"/>
                <a:chOff x="3229560" y="4060440"/>
                <a:chExt cx="269280" cy="38844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3229560" y="425484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 flipV="1">
                  <a:off x="3229560" y="406008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3188880" y="4088520"/>
                <a:ext cx="269280" cy="388440"/>
                <a:chOff x="3188880" y="4088520"/>
                <a:chExt cx="269280" cy="38844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3188880" y="428292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 flipV="1">
                  <a:off x="3188880" y="408816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6" name=""/>
              <p:cNvGrpSpPr/>
              <p:nvPr/>
            </p:nvGrpSpPr>
            <p:grpSpPr>
              <a:xfrm>
                <a:off x="3139920" y="4116960"/>
                <a:ext cx="269280" cy="388440"/>
                <a:chOff x="3139920" y="4116960"/>
                <a:chExt cx="269280" cy="38844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3139920" y="431136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 flipV="1">
                  <a:off x="3139920" y="411660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9" name=""/>
            <p:cNvSpPr/>
            <p:nvPr/>
          </p:nvSpPr>
          <p:spPr>
            <a:xfrm>
              <a:off x="3660840" y="3924360"/>
              <a:ext cx="24019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User-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304920" y="190512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58680" indent="-2854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roduce new roles for custo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llaborative fil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utomatic annotation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2743200" y="4495680"/>
            <a:ext cx="3505320" cy="914400"/>
            <a:chOff x="2743200" y="4495680"/>
            <a:chExt cx="3505320" cy="914400"/>
          </a:xfrm>
        </p:grpSpPr>
        <p:sp>
          <p:nvSpPr>
            <p:cNvPr id="1202" name=""/>
            <p:cNvSpPr/>
            <p:nvPr/>
          </p:nvSpPr>
          <p:spPr>
            <a:xfrm>
              <a:off x="2743200" y="4724280"/>
              <a:ext cx="2666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Zoom on actual cho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105520" y="4495680"/>
              <a:ext cx="1143000" cy="9144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4" name=""/>
            <p:cNvGrpSpPr/>
            <p:nvPr/>
          </p:nvGrpSpPr>
          <p:grpSpPr>
            <a:xfrm>
              <a:off x="5475600" y="4595400"/>
              <a:ext cx="429480" cy="675000"/>
              <a:chOff x="5475600" y="4595400"/>
              <a:chExt cx="429480" cy="675000"/>
            </a:xfrm>
          </p:grpSpPr>
          <p:grpSp>
            <p:nvGrpSpPr>
              <p:cNvPr id="1205" name=""/>
              <p:cNvGrpSpPr/>
              <p:nvPr/>
            </p:nvGrpSpPr>
            <p:grpSpPr>
              <a:xfrm>
                <a:off x="5490720" y="4595400"/>
                <a:ext cx="414360" cy="412920"/>
                <a:chOff x="5490720" y="4595400"/>
                <a:chExt cx="414360" cy="412920"/>
              </a:xfrm>
            </p:grpSpPr>
            <p:grpSp>
              <p:nvGrpSpPr>
                <p:cNvPr id="1206" name=""/>
                <p:cNvGrpSpPr/>
                <p:nvPr/>
              </p:nvGrpSpPr>
              <p:grpSpPr>
                <a:xfrm>
                  <a:off x="5490720" y="4601880"/>
                  <a:ext cx="406440" cy="405000"/>
                  <a:chOff x="5490720" y="4601880"/>
                  <a:chExt cx="406440" cy="405000"/>
                </a:xfrm>
              </p:grpSpPr>
              <p:grpSp>
                <p:nvGrpSpPr>
                  <p:cNvPr id="1207" name=""/>
                  <p:cNvGrpSpPr/>
                  <p:nvPr/>
                </p:nvGrpSpPr>
                <p:grpSpPr>
                  <a:xfrm>
                    <a:off x="5490720" y="4601880"/>
                    <a:ext cx="406440" cy="405000"/>
                    <a:chOff x="5490720" y="4601880"/>
                    <a:chExt cx="406440" cy="405000"/>
                  </a:xfrm>
                </p:grpSpPr>
                <p:sp>
                  <p:nvSpPr>
                    <p:cNvPr id="1208" name=""/>
                    <p:cNvSpPr/>
                    <p:nvPr/>
                  </p:nvSpPr>
                  <p:spPr>
                    <a:xfrm flipH="1">
                      <a:off x="5552280" y="4601880"/>
                      <a:ext cx="344520" cy="23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6" h="739">
                          <a:moveTo>
                            <a:pt x="23" y="739"/>
                          </a:moveTo>
                          <a:lnTo>
                            <a:pt x="7" y="652"/>
                          </a:lnTo>
                          <a:lnTo>
                            <a:pt x="0" y="568"/>
                          </a:lnTo>
                          <a:lnTo>
                            <a:pt x="3" y="510"/>
                          </a:lnTo>
                          <a:lnTo>
                            <a:pt x="13" y="457"/>
                          </a:lnTo>
                          <a:lnTo>
                            <a:pt x="29" y="398"/>
                          </a:lnTo>
                          <a:lnTo>
                            <a:pt x="55" y="340"/>
                          </a:lnTo>
                          <a:lnTo>
                            <a:pt x="88" y="279"/>
                          </a:lnTo>
                          <a:lnTo>
                            <a:pt x="120" y="230"/>
                          </a:lnTo>
                          <a:lnTo>
                            <a:pt x="159" y="181"/>
                          </a:lnTo>
                          <a:lnTo>
                            <a:pt x="205" y="139"/>
                          </a:lnTo>
                          <a:lnTo>
                            <a:pt x="250" y="104"/>
                          </a:lnTo>
                          <a:lnTo>
                            <a:pt x="299" y="75"/>
                          </a:lnTo>
                          <a:lnTo>
                            <a:pt x="359" y="49"/>
                          </a:lnTo>
                          <a:lnTo>
                            <a:pt x="427" y="26"/>
                          </a:lnTo>
                          <a:lnTo>
                            <a:pt x="485" y="10"/>
                          </a:lnTo>
                          <a:lnTo>
                            <a:pt x="557" y="0"/>
                          </a:lnTo>
                          <a:lnTo>
                            <a:pt x="648" y="0"/>
                          </a:lnTo>
                          <a:lnTo>
                            <a:pt x="716" y="13"/>
                          </a:lnTo>
                          <a:lnTo>
                            <a:pt x="797" y="32"/>
                          </a:lnTo>
                          <a:lnTo>
                            <a:pt x="878" y="68"/>
                          </a:lnTo>
                          <a:lnTo>
                            <a:pt x="950" y="110"/>
                          </a:lnTo>
                          <a:lnTo>
                            <a:pt x="998" y="152"/>
                          </a:lnTo>
                          <a:lnTo>
                            <a:pt x="1047" y="201"/>
                          </a:lnTo>
                          <a:lnTo>
                            <a:pt x="1086" y="249"/>
                          </a:lnTo>
                          <a:lnTo>
                            <a:pt x="982" y="172"/>
                          </a:lnTo>
                          <a:lnTo>
                            <a:pt x="927" y="139"/>
                          </a:lnTo>
                          <a:lnTo>
                            <a:pt x="868" y="117"/>
                          </a:lnTo>
                          <a:lnTo>
                            <a:pt x="794" y="94"/>
                          </a:lnTo>
                          <a:lnTo>
                            <a:pt x="722" y="84"/>
                          </a:lnTo>
                          <a:lnTo>
                            <a:pt x="644" y="81"/>
                          </a:lnTo>
                          <a:lnTo>
                            <a:pt x="586" y="84"/>
                          </a:lnTo>
                          <a:lnTo>
                            <a:pt x="524" y="94"/>
                          </a:lnTo>
                          <a:lnTo>
                            <a:pt x="462" y="110"/>
                          </a:lnTo>
                          <a:lnTo>
                            <a:pt x="404" y="130"/>
                          </a:lnTo>
                          <a:lnTo>
                            <a:pt x="339" y="162"/>
                          </a:lnTo>
                          <a:lnTo>
                            <a:pt x="289" y="191"/>
                          </a:lnTo>
                          <a:lnTo>
                            <a:pt x="247" y="227"/>
                          </a:lnTo>
                          <a:lnTo>
                            <a:pt x="198" y="266"/>
                          </a:lnTo>
                          <a:lnTo>
                            <a:pt x="159" y="308"/>
                          </a:lnTo>
                          <a:lnTo>
                            <a:pt x="120" y="366"/>
                          </a:lnTo>
                          <a:lnTo>
                            <a:pt x="85" y="427"/>
                          </a:lnTo>
                          <a:lnTo>
                            <a:pt x="62" y="486"/>
                          </a:lnTo>
                          <a:lnTo>
                            <a:pt x="42" y="555"/>
                          </a:lnTo>
                          <a:lnTo>
                            <a:pt x="29" y="639"/>
                          </a:lnTo>
                          <a:lnTo>
                            <a:pt x="23" y="739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 flipH="1">
                      <a:off x="5490720" y="4717800"/>
                      <a:ext cx="38088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8" h="908">
                          <a:moveTo>
                            <a:pt x="0" y="552"/>
                          </a:moveTo>
                          <a:lnTo>
                            <a:pt x="69" y="629"/>
                          </a:lnTo>
                          <a:lnTo>
                            <a:pt x="143" y="697"/>
                          </a:lnTo>
                          <a:lnTo>
                            <a:pt x="211" y="736"/>
                          </a:lnTo>
                          <a:lnTo>
                            <a:pt x="310" y="778"/>
                          </a:lnTo>
                          <a:lnTo>
                            <a:pt x="388" y="801"/>
                          </a:lnTo>
                          <a:lnTo>
                            <a:pt x="459" y="811"/>
                          </a:lnTo>
                          <a:lnTo>
                            <a:pt x="544" y="811"/>
                          </a:lnTo>
                          <a:lnTo>
                            <a:pt x="605" y="804"/>
                          </a:lnTo>
                          <a:lnTo>
                            <a:pt x="680" y="791"/>
                          </a:lnTo>
                          <a:lnTo>
                            <a:pt x="755" y="769"/>
                          </a:lnTo>
                          <a:lnTo>
                            <a:pt x="817" y="736"/>
                          </a:lnTo>
                          <a:lnTo>
                            <a:pt x="875" y="701"/>
                          </a:lnTo>
                          <a:lnTo>
                            <a:pt x="927" y="665"/>
                          </a:lnTo>
                          <a:lnTo>
                            <a:pt x="979" y="613"/>
                          </a:lnTo>
                          <a:lnTo>
                            <a:pt x="1031" y="555"/>
                          </a:lnTo>
                          <a:lnTo>
                            <a:pt x="1071" y="500"/>
                          </a:lnTo>
                          <a:lnTo>
                            <a:pt x="1094" y="445"/>
                          </a:lnTo>
                          <a:lnTo>
                            <a:pt x="1123" y="357"/>
                          </a:lnTo>
                          <a:lnTo>
                            <a:pt x="1142" y="267"/>
                          </a:lnTo>
                          <a:lnTo>
                            <a:pt x="1146" y="186"/>
                          </a:lnTo>
                          <a:lnTo>
                            <a:pt x="1133" y="97"/>
                          </a:lnTo>
                          <a:lnTo>
                            <a:pt x="1103" y="0"/>
                          </a:lnTo>
                          <a:lnTo>
                            <a:pt x="1133" y="52"/>
                          </a:lnTo>
                          <a:lnTo>
                            <a:pt x="1165" y="126"/>
                          </a:lnTo>
                          <a:lnTo>
                            <a:pt x="1181" y="195"/>
                          </a:lnTo>
                          <a:lnTo>
                            <a:pt x="1198" y="260"/>
                          </a:lnTo>
                          <a:lnTo>
                            <a:pt x="1194" y="315"/>
                          </a:lnTo>
                          <a:lnTo>
                            <a:pt x="1191" y="390"/>
                          </a:lnTo>
                          <a:lnTo>
                            <a:pt x="1152" y="532"/>
                          </a:lnTo>
                          <a:lnTo>
                            <a:pt x="1113" y="610"/>
                          </a:lnTo>
                          <a:lnTo>
                            <a:pt x="1064" y="678"/>
                          </a:lnTo>
                          <a:lnTo>
                            <a:pt x="1011" y="736"/>
                          </a:lnTo>
                          <a:lnTo>
                            <a:pt x="959" y="778"/>
                          </a:lnTo>
                          <a:lnTo>
                            <a:pt x="888" y="827"/>
                          </a:lnTo>
                          <a:lnTo>
                            <a:pt x="817" y="859"/>
                          </a:lnTo>
                          <a:lnTo>
                            <a:pt x="748" y="882"/>
                          </a:lnTo>
                          <a:lnTo>
                            <a:pt x="661" y="905"/>
                          </a:lnTo>
                          <a:lnTo>
                            <a:pt x="596" y="908"/>
                          </a:lnTo>
                          <a:lnTo>
                            <a:pt x="524" y="908"/>
                          </a:lnTo>
                          <a:lnTo>
                            <a:pt x="453" y="895"/>
                          </a:lnTo>
                          <a:lnTo>
                            <a:pt x="375" y="879"/>
                          </a:lnTo>
                          <a:lnTo>
                            <a:pt x="323" y="859"/>
                          </a:lnTo>
                          <a:lnTo>
                            <a:pt x="254" y="824"/>
                          </a:lnTo>
                          <a:lnTo>
                            <a:pt x="195" y="791"/>
                          </a:lnTo>
                          <a:lnTo>
                            <a:pt x="140" y="746"/>
                          </a:lnTo>
                          <a:lnTo>
                            <a:pt x="82" y="684"/>
                          </a:lnTo>
                          <a:lnTo>
                            <a:pt x="26" y="607"/>
                          </a:lnTo>
                          <a:lnTo>
                            <a:pt x="0" y="55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0" name=""/>
                  <p:cNvGrpSpPr/>
                  <p:nvPr/>
                </p:nvGrpSpPr>
                <p:grpSpPr>
                  <a:xfrm>
                    <a:off x="5492160" y="4608360"/>
                    <a:ext cx="401760" cy="380880"/>
                    <a:chOff x="5492160" y="4608360"/>
                    <a:chExt cx="401760" cy="380880"/>
                  </a:xfrm>
                </p:grpSpPr>
                <p:sp>
                  <p:nvSpPr>
                    <p:cNvPr id="1211" name=""/>
                    <p:cNvSpPr/>
                    <p:nvPr/>
                  </p:nvSpPr>
                  <p:spPr>
                    <a:xfrm flipH="1">
                      <a:off x="5772960" y="4893840"/>
                      <a:ext cx="98280" cy="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300">
                          <a:moveTo>
                            <a:pt x="0" y="0"/>
                          </a:moveTo>
                          <a:lnTo>
                            <a:pt x="33" y="60"/>
                          </a:lnTo>
                          <a:lnTo>
                            <a:pt x="64" y="107"/>
                          </a:lnTo>
                          <a:lnTo>
                            <a:pt x="98" y="149"/>
                          </a:lnTo>
                          <a:lnTo>
                            <a:pt x="150" y="199"/>
                          </a:lnTo>
                          <a:lnTo>
                            <a:pt x="189" y="232"/>
                          </a:lnTo>
                          <a:lnTo>
                            <a:pt x="238" y="263"/>
                          </a:lnTo>
                          <a:lnTo>
                            <a:pt x="311" y="300"/>
                          </a:lnTo>
                          <a:lnTo>
                            <a:pt x="230" y="190"/>
                          </a:lnTo>
                          <a:lnTo>
                            <a:pt x="184" y="164"/>
                          </a:lnTo>
                          <a:lnTo>
                            <a:pt x="152" y="141"/>
                          </a:lnTo>
                          <a:lnTo>
                            <a:pt x="104" y="109"/>
                          </a:lnTo>
                          <a:lnTo>
                            <a:pt x="67" y="74"/>
                          </a:lnTo>
                          <a:lnTo>
                            <a:pt x="38" y="4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2" name=""/>
                    <p:cNvSpPr/>
                    <p:nvPr/>
                  </p:nvSpPr>
                  <p:spPr>
                    <a:xfrm flipH="1">
                      <a:off x="5491800" y="4716360"/>
                      <a:ext cx="34920" cy="18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590">
                          <a:moveTo>
                            <a:pt x="21" y="0"/>
                          </a:moveTo>
                          <a:lnTo>
                            <a:pt x="42" y="40"/>
                          </a:lnTo>
                          <a:lnTo>
                            <a:pt x="56" y="75"/>
                          </a:lnTo>
                          <a:lnTo>
                            <a:pt x="71" y="111"/>
                          </a:lnTo>
                          <a:lnTo>
                            <a:pt x="82" y="145"/>
                          </a:lnTo>
                          <a:lnTo>
                            <a:pt x="91" y="178"/>
                          </a:lnTo>
                          <a:lnTo>
                            <a:pt x="107" y="235"/>
                          </a:lnTo>
                          <a:lnTo>
                            <a:pt x="111" y="291"/>
                          </a:lnTo>
                          <a:lnTo>
                            <a:pt x="108" y="377"/>
                          </a:lnTo>
                          <a:lnTo>
                            <a:pt x="101" y="436"/>
                          </a:lnTo>
                          <a:lnTo>
                            <a:pt x="89" y="483"/>
                          </a:lnTo>
                          <a:lnTo>
                            <a:pt x="70" y="533"/>
                          </a:lnTo>
                          <a:lnTo>
                            <a:pt x="45" y="590"/>
                          </a:lnTo>
                          <a:lnTo>
                            <a:pt x="0" y="479"/>
                          </a:lnTo>
                          <a:lnTo>
                            <a:pt x="21" y="430"/>
                          </a:lnTo>
                          <a:lnTo>
                            <a:pt x="30" y="404"/>
                          </a:lnTo>
                          <a:lnTo>
                            <a:pt x="42" y="371"/>
                          </a:lnTo>
                          <a:lnTo>
                            <a:pt x="50" y="336"/>
                          </a:lnTo>
                          <a:lnTo>
                            <a:pt x="56" y="283"/>
                          </a:lnTo>
                          <a:lnTo>
                            <a:pt x="59" y="239"/>
                          </a:lnTo>
                          <a:lnTo>
                            <a:pt x="59" y="173"/>
                          </a:lnTo>
                          <a:lnTo>
                            <a:pt x="50" y="114"/>
                          </a:lnTo>
                          <a:lnTo>
                            <a:pt x="39" y="65"/>
                          </a:lnTo>
                          <a:lnTo>
                            <a:pt x="32" y="39"/>
                          </a:lnTo>
                          <a:lnTo>
                            <a:pt x="21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3" name=""/>
                    <p:cNvSpPr/>
                    <p:nvPr/>
                  </p:nvSpPr>
                  <p:spPr>
                    <a:xfrm flipH="1">
                      <a:off x="5571720" y="4608360"/>
                      <a:ext cx="13968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1" h="178">
                          <a:moveTo>
                            <a:pt x="0" y="0"/>
                          </a:moveTo>
                          <a:lnTo>
                            <a:pt x="33" y="65"/>
                          </a:lnTo>
                          <a:lnTo>
                            <a:pt x="85" y="62"/>
                          </a:lnTo>
                          <a:lnTo>
                            <a:pt x="133" y="65"/>
                          </a:lnTo>
                          <a:lnTo>
                            <a:pt x="177" y="72"/>
                          </a:lnTo>
                          <a:lnTo>
                            <a:pt x="218" y="79"/>
                          </a:lnTo>
                          <a:lnTo>
                            <a:pt x="259" y="90"/>
                          </a:lnTo>
                          <a:lnTo>
                            <a:pt x="288" y="99"/>
                          </a:lnTo>
                          <a:lnTo>
                            <a:pt x="324" y="114"/>
                          </a:lnTo>
                          <a:lnTo>
                            <a:pt x="367" y="134"/>
                          </a:lnTo>
                          <a:lnTo>
                            <a:pt x="441" y="178"/>
                          </a:lnTo>
                          <a:lnTo>
                            <a:pt x="398" y="133"/>
                          </a:lnTo>
                          <a:lnTo>
                            <a:pt x="368" y="110"/>
                          </a:lnTo>
                          <a:lnTo>
                            <a:pt x="328" y="84"/>
                          </a:lnTo>
                          <a:lnTo>
                            <a:pt x="303" y="69"/>
                          </a:lnTo>
                          <a:lnTo>
                            <a:pt x="247" y="43"/>
                          </a:lnTo>
                          <a:lnTo>
                            <a:pt x="212" y="31"/>
                          </a:lnTo>
                          <a:lnTo>
                            <a:pt x="183" y="21"/>
                          </a:lnTo>
                          <a:lnTo>
                            <a:pt x="155" y="14"/>
                          </a:lnTo>
                          <a:lnTo>
                            <a:pt x="113" y="7"/>
                          </a:lnTo>
                          <a:lnTo>
                            <a:pt x="69" y="1"/>
                          </a:lnTo>
                          <a:lnTo>
                            <a:pt x="19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4" name=""/>
                    <p:cNvSpPr/>
                    <p:nvPr/>
                  </p:nvSpPr>
                  <p:spPr>
                    <a:xfrm flipH="1">
                      <a:off x="5849280" y="4687560"/>
                      <a:ext cx="4428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1" h="417">
                          <a:moveTo>
                            <a:pt x="0" y="320"/>
                          </a:moveTo>
                          <a:lnTo>
                            <a:pt x="3" y="288"/>
                          </a:lnTo>
                          <a:lnTo>
                            <a:pt x="5" y="252"/>
                          </a:lnTo>
                          <a:lnTo>
                            <a:pt x="15" y="195"/>
                          </a:lnTo>
                          <a:lnTo>
                            <a:pt x="26" y="150"/>
                          </a:lnTo>
                          <a:lnTo>
                            <a:pt x="41" y="109"/>
                          </a:lnTo>
                          <a:lnTo>
                            <a:pt x="60" y="67"/>
                          </a:lnTo>
                          <a:lnTo>
                            <a:pt x="78" y="34"/>
                          </a:lnTo>
                          <a:lnTo>
                            <a:pt x="99" y="0"/>
                          </a:lnTo>
                          <a:lnTo>
                            <a:pt x="141" y="54"/>
                          </a:lnTo>
                          <a:lnTo>
                            <a:pt x="117" y="86"/>
                          </a:lnTo>
                          <a:lnTo>
                            <a:pt x="99" y="115"/>
                          </a:lnTo>
                          <a:lnTo>
                            <a:pt x="85" y="142"/>
                          </a:lnTo>
                          <a:lnTo>
                            <a:pt x="65" y="180"/>
                          </a:lnTo>
                          <a:lnTo>
                            <a:pt x="52" y="213"/>
                          </a:lnTo>
                          <a:lnTo>
                            <a:pt x="44" y="246"/>
                          </a:lnTo>
                          <a:lnTo>
                            <a:pt x="34" y="278"/>
                          </a:lnTo>
                          <a:lnTo>
                            <a:pt x="28" y="314"/>
                          </a:lnTo>
                          <a:lnTo>
                            <a:pt x="23" y="357"/>
                          </a:lnTo>
                          <a:lnTo>
                            <a:pt x="18" y="400"/>
                          </a:lnTo>
                          <a:lnTo>
                            <a:pt x="11" y="417"/>
                          </a:lnTo>
                          <a:lnTo>
                            <a:pt x="0" y="32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15" name=""/>
                <p:cNvSpPr/>
                <p:nvPr/>
              </p:nvSpPr>
              <p:spPr>
                <a:xfrm flipH="1">
                  <a:off x="5490360" y="4627440"/>
                  <a:ext cx="398520" cy="380880"/>
                </a:xfrm>
                <a:prstGeom prst="ellipse">
                  <a:avLst/>
                </a:prstGeom>
                <a:noFill/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6" name=""/>
                <p:cNvGrpSpPr/>
                <p:nvPr/>
              </p:nvGrpSpPr>
              <p:grpSpPr>
                <a:xfrm>
                  <a:off x="5506560" y="4595400"/>
                  <a:ext cx="398520" cy="381240"/>
                  <a:chOff x="5506560" y="4595400"/>
                  <a:chExt cx="398520" cy="38124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 flipH="1">
                    <a:off x="5513040" y="4601880"/>
                    <a:ext cx="387360" cy="370080"/>
                  </a:xfrm>
                  <a:prstGeom prst="ellipse">
                    <a:avLst/>
                  </a:prstGeom>
                  <a:noFill/>
                  <a:ln w="14400">
                    <a:solidFill>
                      <a:srgbClr val="9f9f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 flipH="1">
                    <a:off x="5506200" y="4595400"/>
                    <a:ext cx="398520" cy="381240"/>
                  </a:xfrm>
                  <a:prstGeom prst="ellipse">
                    <a:avLst/>
                  </a:prstGeom>
                  <a:noFill/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 flipH="1">
                    <a:off x="5518800" y="4608360"/>
                    <a:ext cx="374760" cy="357120"/>
                  </a:xfrm>
                  <a:prstGeom prst="ellipse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20" name=""/>
              <p:cNvGrpSpPr/>
              <p:nvPr/>
            </p:nvGrpSpPr>
            <p:grpSpPr>
              <a:xfrm>
                <a:off x="5475600" y="4954320"/>
                <a:ext cx="202680" cy="316080"/>
                <a:chOff x="5475600" y="4954320"/>
                <a:chExt cx="202680" cy="316080"/>
              </a:xfrm>
            </p:grpSpPr>
            <p:sp>
              <p:nvSpPr>
                <p:cNvPr id="1221" name=""/>
                <p:cNvSpPr/>
                <p:nvPr/>
              </p:nvSpPr>
              <p:spPr>
                <a:xfrm flipH="1">
                  <a:off x="5481720" y="4970160"/>
                  <a:ext cx="194760" cy="277920"/>
                </a:xfrm>
                <a:custGeom>
                  <a:avLst/>
                  <a:gdLst/>
                  <a:ahLst/>
                  <a:rect l="l" t="t" r="r" b="b"/>
                  <a:pathLst>
                    <a:path w="611" h="873">
                      <a:moveTo>
                        <a:pt x="0" y="65"/>
                      </a:moveTo>
                      <a:lnTo>
                        <a:pt x="433" y="873"/>
                      </a:lnTo>
                      <a:lnTo>
                        <a:pt x="611" y="783"/>
                      </a:lnTo>
                      <a:lnTo>
                        <a:pt x="175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 flipH="1">
                  <a:off x="5618520" y="4954320"/>
                  <a:ext cx="58320" cy="54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38" y="13843"/>
                      </a:moveTo>
                      <a:arcTo wR="10800" hR="10800" stAng="9818105" swAng="105542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38" y="13843"/>
                      </a:moveTo>
                      <a:arcTo wR="10800" hR="10800" stAng="9818105" swAng="10554234"/>
                    </a:path>
                  </a:pathLst>
                </a:custGeom>
                <a:solidFill>
                  <a:srgbClr val="5f3f1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 flipH="1">
                  <a:off x="5615640" y="4959000"/>
                  <a:ext cx="59400" cy="60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9" y="11931"/>
                      </a:moveTo>
                      <a:arcTo wR="10800" hR="10800" stAng="10439460" swAng="1005444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9" y="11931"/>
                      </a:moveTo>
                      <a:arcTo wR="10800" hR="10800" stAng="10439460" swAng="10054443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H="1">
                  <a:off x="5641560" y="4959000"/>
                  <a:ext cx="36360" cy="69840"/>
                </a:xfrm>
                <a:custGeom>
                  <a:avLst/>
                  <a:gdLst/>
                  <a:ahLst/>
                  <a:rect l="l" t="t" r="r" b="b"/>
                  <a:pathLst>
                    <a:path w="115" h="223">
                      <a:moveTo>
                        <a:pt x="3" y="103"/>
                      </a:moveTo>
                      <a:lnTo>
                        <a:pt x="0" y="88"/>
                      </a:lnTo>
                      <a:lnTo>
                        <a:pt x="0" y="74"/>
                      </a:lnTo>
                      <a:lnTo>
                        <a:pt x="2" y="62"/>
                      </a:lnTo>
                      <a:lnTo>
                        <a:pt x="6" y="45"/>
                      </a:lnTo>
                      <a:lnTo>
                        <a:pt x="13" y="31"/>
                      </a:lnTo>
                      <a:lnTo>
                        <a:pt x="22" y="18"/>
                      </a:lnTo>
                      <a:lnTo>
                        <a:pt x="33" y="7"/>
                      </a:lnTo>
                      <a:lnTo>
                        <a:pt x="44" y="0"/>
                      </a:lnTo>
                      <a:lnTo>
                        <a:pt x="115" y="121"/>
                      </a:lnTo>
                      <a:lnTo>
                        <a:pt x="102" y="128"/>
                      </a:lnTo>
                      <a:lnTo>
                        <a:pt x="94" y="137"/>
                      </a:lnTo>
                      <a:lnTo>
                        <a:pt x="85" y="145"/>
                      </a:lnTo>
                      <a:lnTo>
                        <a:pt x="79" y="156"/>
                      </a:lnTo>
                      <a:lnTo>
                        <a:pt x="71" y="176"/>
                      </a:lnTo>
                      <a:lnTo>
                        <a:pt x="67" y="202"/>
                      </a:lnTo>
                      <a:lnTo>
                        <a:pt x="67" y="223"/>
                      </a:lnTo>
                      <a:lnTo>
                        <a:pt x="3" y="103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5617080" y="4955760"/>
                  <a:ext cx="59400" cy="54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58" y="13146"/>
                      </a:moveTo>
                      <a:arcTo wR="10800" hR="10800" stAng="10047177" swAng="487594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58" y="13146"/>
                      </a:moveTo>
                      <a:arcTo wR="10800" hR="10800" stAng="10047177" swAng="4875948"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 flipH="1">
                  <a:off x="5596560" y="4993920"/>
                  <a:ext cx="59400" cy="56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3"/>
                      </a:moveTo>
                      <a:arcTo wR="10800" hR="10800" stAng="9986129" swAng="104201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3"/>
                      </a:moveTo>
                      <a:arcTo wR="10800" hR="10800" stAng="9986129" swAng="10420145"/>
                    </a:path>
                  </a:pathLst>
                </a:custGeom>
                <a:solidFill>
                  <a:srgbClr val="7f3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7" name=""/>
                <p:cNvGrpSpPr/>
                <p:nvPr/>
              </p:nvGrpSpPr>
              <p:grpSpPr>
                <a:xfrm>
                  <a:off x="5592600" y="4998600"/>
                  <a:ext cx="61920" cy="62640"/>
                  <a:chOff x="5592600" y="4998600"/>
                  <a:chExt cx="61920" cy="62640"/>
                </a:xfrm>
              </p:grpSpPr>
              <p:grpSp>
                <p:nvGrpSpPr>
                  <p:cNvPr id="1228" name=""/>
                  <p:cNvGrpSpPr/>
                  <p:nvPr/>
                </p:nvGrpSpPr>
                <p:grpSpPr>
                  <a:xfrm>
                    <a:off x="5595480" y="4998600"/>
                    <a:ext cx="59040" cy="56160"/>
                    <a:chOff x="5595480" y="4998600"/>
                    <a:chExt cx="59040" cy="56160"/>
                  </a:xfrm>
                </p:grpSpPr>
                <p:sp>
                  <p:nvSpPr>
                    <p:cNvPr id="1229" name=""/>
                    <p:cNvSpPr/>
                    <p:nvPr/>
                  </p:nvSpPr>
                  <p:spPr>
                    <a:xfrm flipH="1">
                      <a:off x="5595480" y="4998600"/>
                      <a:ext cx="5904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301" y="13333"/>
                          </a:moveTo>
                          <a:arcTo wR="10800" hR="10800" stAng="9986129" swAng="1060691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301" y="13333"/>
                          </a:moveTo>
                          <a:arcTo wR="10800" hR="10800" stAng="9986129" swAng="10606913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0" name=""/>
                    <p:cNvSpPr/>
                    <p:nvPr/>
                  </p:nvSpPr>
                  <p:spPr>
                    <a:xfrm flipH="1">
                      <a:off x="5595480" y="499896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301" y="13333"/>
                          </a:moveTo>
                          <a:arcTo wR="10800" hR="10800" stAng="9986129" swAng="457057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301" y="13333"/>
                          </a:moveTo>
                          <a:arcTo wR="10800" hR="10800" stAng="9986129" swAng="4570572"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1" name=""/>
                    <p:cNvSpPr/>
                    <p:nvPr/>
                  </p:nvSpPr>
                  <p:spPr>
                    <a:xfrm flipH="1">
                      <a:off x="5595840" y="4998600"/>
                      <a:ext cx="5760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6" y="13270"/>
                          </a:moveTo>
                          <a:arcTo wR="10800" hR="10800" stAng="10006785" swAng="1061132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6" y="13270"/>
                          </a:moveTo>
                          <a:arcTo wR="10800" hR="10800" stAng="10006785" swAng="10611320"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32" name=""/>
                  <p:cNvSpPr/>
                  <p:nvPr/>
                </p:nvSpPr>
                <p:spPr>
                  <a:xfrm flipH="1">
                    <a:off x="5592600" y="5005080"/>
                    <a:ext cx="57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86" y="13270"/>
                        </a:moveTo>
                        <a:arcTo wR="10800" hR="10800" stAng="10006785" swAng="1061132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86" y="13270"/>
                        </a:moveTo>
                        <a:arcTo wR="10800" hR="10800" stAng="10006785" swAng="10611320"/>
                      </a:path>
                    </a:pathLst>
                  </a:custGeom>
                  <a:solidFill>
                    <a:srgbClr val="7f3f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3" name=""/>
                <p:cNvGrpSpPr/>
                <p:nvPr/>
              </p:nvGrpSpPr>
              <p:grpSpPr>
                <a:xfrm>
                  <a:off x="5586840" y="5009400"/>
                  <a:ext cx="61560" cy="63000"/>
                  <a:chOff x="5586840" y="5009400"/>
                  <a:chExt cx="61560" cy="63000"/>
                </a:xfrm>
              </p:grpSpPr>
              <p:grpSp>
                <p:nvGrpSpPr>
                  <p:cNvPr id="1234" name=""/>
                  <p:cNvGrpSpPr/>
                  <p:nvPr/>
                </p:nvGrpSpPr>
                <p:grpSpPr>
                  <a:xfrm>
                    <a:off x="5589000" y="5009400"/>
                    <a:ext cx="59400" cy="57600"/>
                    <a:chOff x="5589000" y="5009400"/>
                    <a:chExt cx="59400" cy="57600"/>
                  </a:xfrm>
                </p:grpSpPr>
                <p:sp>
                  <p:nvSpPr>
                    <p:cNvPr id="1235" name=""/>
                    <p:cNvSpPr/>
                    <p:nvPr/>
                  </p:nvSpPr>
                  <p:spPr>
                    <a:xfrm flipH="1">
                      <a:off x="5589360" y="5009760"/>
                      <a:ext cx="5868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5" y="13266"/>
                          </a:moveTo>
                          <a:arcTo wR="10800" hR="10800" stAng="10007935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5" y="13266"/>
                          </a:moveTo>
                          <a:arcTo wR="10800" hR="10800" stAng="10007935" swAng="10800000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6" name=""/>
                    <p:cNvSpPr/>
                    <p:nvPr/>
                  </p:nvSpPr>
                  <p:spPr>
                    <a:xfrm flipH="1">
                      <a:off x="5588640" y="5009400"/>
                      <a:ext cx="5940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5" y="13266"/>
                          </a:moveTo>
                          <a:arcTo wR="10800" hR="10800" stAng="10007935" swAng="441517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5" y="13266"/>
                          </a:moveTo>
                          <a:arcTo wR="10800" hR="10800" stAng="10007935" swAng="4415176"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7" name=""/>
                    <p:cNvSpPr/>
                    <p:nvPr/>
                  </p:nvSpPr>
                  <p:spPr>
                    <a:xfrm flipH="1">
                      <a:off x="5590080" y="5009760"/>
                      <a:ext cx="5688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44" y="13084"/>
                          </a:moveTo>
                          <a:arcTo wR="10800" hR="10800" stAng="10067453" swAng="1071685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44" y="13084"/>
                          </a:moveTo>
                          <a:arcTo wR="10800" hR="10800" stAng="10067453" swAng="10716857"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38" name=""/>
                  <p:cNvSpPr/>
                  <p:nvPr/>
                </p:nvSpPr>
                <p:spPr>
                  <a:xfrm flipH="1">
                    <a:off x="5586480" y="5016240"/>
                    <a:ext cx="586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3"/>
                        </a:moveTo>
                        <a:arcTo wR="10800" hR="10800" stAng="9986129" swAng="108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3"/>
                        </a:moveTo>
                        <a:arcTo wR="10800" hR="10800" stAng="9986129" swAng="10800000"/>
                      </a:path>
                    </a:pathLst>
                  </a:custGeom>
                  <a:solidFill>
                    <a:srgbClr val="7f3f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9" name=""/>
                <p:cNvGrpSpPr/>
                <p:nvPr/>
              </p:nvGrpSpPr>
              <p:grpSpPr>
                <a:xfrm>
                  <a:off x="5582520" y="5020560"/>
                  <a:ext cx="59400" cy="57600"/>
                  <a:chOff x="5582520" y="5020560"/>
                  <a:chExt cx="59400" cy="57600"/>
                </a:xfrm>
              </p:grpSpPr>
              <p:sp>
                <p:nvSpPr>
                  <p:cNvPr id="1240" name=""/>
                  <p:cNvSpPr/>
                  <p:nvPr/>
                </p:nvSpPr>
                <p:spPr>
                  <a:xfrm flipH="1">
                    <a:off x="5582880" y="5020920"/>
                    <a:ext cx="5868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3" y="12671"/>
                        </a:moveTo>
                        <a:arcTo wR="10800" hR="10800" stAng="10201338" swAng="106065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3" y="12671"/>
                        </a:moveTo>
                        <a:arcTo wR="10800" hR="10800" stAng="10201338" swAng="1060659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 flipH="1">
                    <a:off x="5582160" y="5020560"/>
                    <a:ext cx="5940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3" y="12671"/>
                        </a:moveTo>
                        <a:arcTo wR="10800" hR="10800" stAng="10201338" swAng="422177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3" y="12671"/>
                        </a:moveTo>
                        <a:arcTo wR="10800" hR="10800" stAng="10201338" swAng="4221774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2" name=""/>
                <p:cNvGrpSpPr/>
                <p:nvPr/>
              </p:nvGrpSpPr>
              <p:grpSpPr>
                <a:xfrm>
                  <a:off x="5580360" y="5020920"/>
                  <a:ext cx="61560" cy="62280"/>
                  <a:chOff x="5580360" y="5020920"/>
                  <a:chExt cx="61560" cy="62280"/>
                </a:xfrm>
              </p:grpSpPr>
              <p:sp>
                <p:nvSpPr>
                  <p:cNvPr id="1243" name=""/>
                  <p:cNvSpPr/>
                  <p:nvPr/>
                </p:nvSpPr>
                <p:spPr>
                  <a:xfrm flipH="1">
                    <a:off x="5582880" y="5020920"/>
                    <a:ext cx="586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85" y="13266"/>
                        </a:moveTo>
                        <a:arcTo wR="10800" hR="10800" stAng="10007935" swAng="108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85" y="13266"/>
                        </a:moveTo>
                        <a:arcTo wR="10800" hR="10800" stAng="10007935" swAng="10800000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 flipH="1">
                    <a:off x="5580000" y="5027400"/>
                    <a:ext cx="5868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73" y="12723"/>
                        </a:moveTo>
                        <a:arcTo wR="10800" hR="10800" stAng="10184591" swAng="106015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73" y="12723"/>
                        </a:moveTo>
                        <a:arcTo wR="10800" hR="10800" stAng="10184591" swAng="10601538"/>
                      </a:path>
                    </a:pathLst>
                  </a:custGeom>
                  <a:solidFill>
                    <a:srgbClr val="7f3f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5" name=""/>
                <p:cNvGrpSpPr/>
                <p:nvPr/>
              </p:nvGrpSpPr>
              <p:grpSpPr>
                <a:xfrm>
                  <a:off x="5482440" y="4971960"/>
                  <a:ext cx="192960" cy="277560"/>
                  <a:chOff x="5482440" y="4971960"/>
                  <a:chExt cx="192960" cy="277560"/>
                </a:xfrm>
              </p:grpSpPr>
              <p:sp>
                <p:nvSpPr>
                  <p:cNvPr id="1246" name=""/>
                  <p:cNvSpPr/>
                  <p:nvPr/>
                </p:nvSpPr>
                <p:spPr>
                  <a:xfrm flipH="1">
                    <a:off x="5482440" y="4971960"/>
                    <a:ext cx="137520" cy="2473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 flipH="1">
                    <a:off x="5537520" y="4990680"/>
                    <a:ext cx="137880" cy="2588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8" name=""/>
                <p:cNvGrpSpPr/>
                <p:nvPr/>
              </p:nvGrpSpPr>
              <p:grpSpPr>
                <a:xfrm>
                  <a:off x="5574240" y="5031720"/>
                  <a:ext cx="61200" cy="61200"/>
                  <a:chOff x="5574240" y="5031720"/>
                  <a:chExt cx="61200" cy="61200"/>
                </a:xfrm>
              </p:grpSpPr>
              <p:grpSp>
                <p:nvGrpSpPr>
                  <p:cNvPr id="1249" name=""/>
                  <p:cNvGrpSpPr/>
                  <p:nvPr/>
                </p:nvGrpSpPr>
                <p:grpSpPr>
                  <a:xfrm>
                    <a:off x="5576760" y="5031720"/>
                    <a:ext cx="58680" cy="57600"/>
                    <a:chOff x="5576760" y="5031720"/>
                    <a:chExt cx="58680" cy="57600"/>
                  </a:xfrm>
                </p:grpSpPr>
                <p:sp>
                  <p:nvSpPr>
                    <p:cNvPr id="1250" name=""/>
                    <p:cNvSpPr/>
                    <p:nvPr/>
                  </p:nvSpPr>
                  <p:spPr>
                    <a:xfrm flipH="1">
                      <a:off x="5576400" y="5032080"/>
                      <a:ext cx="5868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3" y="12671"/>
                          </a:moveTo>
                          <a:arcTo wR="10800" hR="10800" stAng="10201338" swAng="1060659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3" y="12671"/>
                          </a:moveTo>
                          <a:arcTo wR="10800" hR="10800" stAng="10201338" swAng="10606598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1" name=""/>
                    <p:cNvSpPr/>
                    <p:nvPr/>
                  </p:nvSpPr>
                  <p:spPr>
                    <a:xfrm flipH="1">
                      <a:off x="5576400" y="5031720"/>
                      <a:ext cx="58680" cy="5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3" y="12671"/>
                          </a:moveTo>
                          <a:arcTo wR="10800" hR="10800" stAng="10201338" swAng="422177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3" y="12671"/>
                          </a:moveTo>
                          <a:arcTo wR="10800" hR="10800" stAng="10201338" swAng="4221774"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52" name=""/>
                  <p:cNvSpPr/>
                  <p:nvPr/>
                </p:nvSpPr>
                <p:spPr>
                  <a:xfrm flipH="1">
                    <a:off x="5576400" y="5032080"/>
                    <a:ext cx="586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73" y="12723"/>
                        </a:moveTo>
                        <a:arcTo wR="10800" hR="10800" stAng="10184591" swAng="106015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73" y="12723"/>
                        </a:moveTo>
                        <a:arcTo wR="10800" hR="10800" stAng="10184591" swAng="10601538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 flipH="1">
                    <a:off x="5573880" y="5036760"/>
                    <a:ext cx="586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85" y="13266"/>
                        </a:moveTo>
                        <a:arcTo wR="10800" hR="10800" stAng="10007935" swAng="108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85" y="13266"/>
                        </a:moveTo>
                        <a:arcTo wR="10800" hR="10800" stAng="10007935" swAng="10800000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4" name=""/>
                <p:cNvSpPr/>
                <p:nvPr/>
              </p:nvSpPr>
              <p:spPr>
                <a:xfrm flipH="1">
                  <a:off x="5515200" y="5038560"/>
                  <a:ext cx="118800" cy="204840"/>
                </a:xfrm>
                <a:custGeom>
                  <a:avLst/>
                  <a:gdLst/>
                  <a:ahLst/>
                  <a:rect l="l" t="t" r="r" b="b"/>
                  <a:pathLst>
                    <a:path w="377" h="645">
                      <a:moveTo>
                        <a:pt x="48" y="0"/>
                      </a:moveTo>
                      <a:lnTo>
                        <a:pt x="34" y="9"/>
                      </a:lnTo>
                      <a:lnTo>
                        <a:pt x="23" y="18"/>
                      </a:lnTo>
                      <a:lnTo>
                        <a:pt x="13" y="28"/>
                      </a:lnTo>
                      <a:lnTo>
                        <a:pt x="9" y="39"/>
                      </a:lnTo>
                      <a:lnTo>
                        <a:pt x="4" y="51"/>
                      </a:lnTo>
                      <a:lnTo>
                        <a:pt x="1" y="63"/>
                      </a:lnTo>
                      <a:lnTo>
                        <a:pt x="0" y="77"/>
                      </a:lnTo>
                      <a:lnTo>
                        <a:pt x="0" y="93"/>
                      </a:lnTo>
                      <a:lnTo>
                        <a:pt x="292" y="645"/>
                      </a:lnTo>
                      <a:lnTo>
                        <a:pt x="377" y="58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 flipH="1">
                  <a:off x="5475600" y="5208480"/>
                  <a:ext cx="64800" cy="61920"/>
                </a:xfrm>
                <a:prstGeom prst="ellipse">
                  <a:avLst/>
                </a:prstGeom>
                <a:solidFill>
                  <a:srgbClr val="7f5f3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6" name=""/>
          <p:cNvSpPr/>
          <p:nvPr/>
        </p:nvSpPr>
        <p:spPr>
          <a:xfrm>
            <a:off x="304920" y="54864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58680" indent="-2854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C, UPM, UPA,  (+ more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2514600" y="3276720"/>
            <a:ext cx="6324480" cy="2768040"/>
            <a:chOff x="2514600" y="3276720"/>
            <a:chExt cx="6324480" cy="2768040"/>
          </a:xfrm>
        </p:grpSpPr>
        <p:sp>
          <p:nvSpPr>
            <p:cNvPr id="1258" name=""/>
            <p:cNvSpPr/>
            <p:nvPr/>
          </p:nvSpPr>
          <p:spPr>
            <a:xfrm>
              <a:off x="2514600" y="3327480"/>
              <a:ext cx="6324480" cy="2692440"/>
            </a:xfrm>
            <a:prstGeom prst="foldedCorner">
              <a:avLst>
                <a:gd name="adj" fmla="val 557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516040" y="3276720"/>
              <a:ext cx="210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Sabas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t al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0" name="" descr=""/>
            <p:cNvPicPr/>
            <p:nvPr/>
          </p:nvPicPr>
          <p:blipFill>
            <a:blip r:embed="rId2"/>
            <a:stretch/>
          </p:blipFill>
          <p:spPr>
            <a:xfrm>
              <a:off x="7543800" y="3403800"/>
              <a:ext cx="12189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1" name=""/>
            <p:cNvSpPr/>
            <p:nvPr/>
          </p:nvSpPr>
          <p:spPr>
            <a:xfrm>
              <a:off x="2514600" y="3756240"/>
              <a:ext cx="63244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ganization Dimen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Sub-societies with different organization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Closed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Active environment (if user include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Symbolic environment: ontology-based annotated worl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832C2-3537-4089-B76B-1334BA6D6A6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What is CoMMA ?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1960" y="-360"/>
            <a:ext cx="883944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63320" indent="-426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What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ST European project : Provide a corporate memory management framework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20160" indent="-273960">
              <a:lnSpc>
                <a:spcPct val="11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orporate Memory: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 explicit, disembodied and persistent representation of knowledge and information in an organization, in order to facilitate their access and reuse by members of the organization, for their task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20160" indent="-273960">
              <a:lnSpc>
                <a:spcPct val="11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Management Framework: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vide supporting structure around which one can build a system insuring coherent integration and exploitation of the dispersed knowled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933E6-56F0-464A-A034-197D599087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dentifying the roles from the societie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4272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Rol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577800" indent="-196920">
              <a:lnSpc>
                <a:spcPct val="110000"/>
              </a:lnSpc>
              <a:spcBef>
                <a:spcPts val="550"/>
              </a:spcBef>
              <a:buClr>
                <a:srgbClr val="777777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Ontology Archivist: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maintains and accesses the ontology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577800" indent="-196920">
              <a:lnSpc>
                <a:spcPct val="110000"/>
              </a:lnSpc>
              <a:spcBef>
                <a:spcPts val="550"/>
              </a:spcBef>
              <a:buClr>
                <a:srgbClr val="777777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Enterprise Model Archivist: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maintains and accesses the enterprise model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577800" indent="-196920">
              <a:lnSpc>
                <a:spcPct val="110000"/>
              </a:lnSpc>
              <a:spcBef>
                <a:spcPts val="550"/>
              </a:spcBef>
              <a:buClr>
                <a:srgbClr val="777777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Annotation Archivist: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maintains and accesses the annotation repositories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577800" indent="-196920">
              <a:lnSpc>
                <a:spcPct val="110000"/>
              </a:lnSpc>
              <a:spcBef>
                <a:spcPts val="550"/>
              </a:spcBef>
              <a:buClr>
                <a:srgbClr val="777777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Annotation Mediator: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manages and mediates among a set of Annotation Archivists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577800" indent="-196920">
              <a:lnSpc>
                <a:spcPct val="110000"/>
              </a:lnSpc>
              <a:spcBef>
                <a:spcPts val="550"/>
              </a:spcBef>
              <a:buClr>
                <a:srgbClr val="777777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Directory Facilitator: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maintains and accesses the yellow pages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577800" indent="-196920">
              <a:lnSpc>
                <a:spcPct val="110000"/>
              </a:lnSpc>
              <a:spcBef>
                <a:spcPts val="550"/>
              </a:spcBef>
              <a:buClr>
                <a:srgbClr val="777777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Interface Controller: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manages and monitors the user interface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577800" indent="-196920">
              <a:lnSpc>
                <a:spcPct val="110000"/>
              </a:lnSpc>
              <a:spcBef>
                <a:spcPts val="550"/>
              </a:spcBef>
              <a:buClr>
                <a:srgbClr val="777777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User Profile Manager: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manages updates of  profiles of users logged nearby and learns from the sessio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577800" indent="-196920">
              <a:lnSpc>
                <a:spcPct val="110000"/>
              </a:lnSpc>
              <a:spcBef>
                <a:spcPts val="550"/>
              </a:spcBef>
              <a:buClr>
                <a:srgbClr val="777777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User Profile Archivist: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stores and retrieves users' profil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0A65B-E373-4424-9F80-9416E9C9D98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4" name=""/>
          <p:cNvGrpSpPr/>
          <p:nvPr/>
        </p:nvGrpSpPr>
        <p:grpSpPr>
          <a:xfrm>
            <a:off x="304920" y="0"/>
            <a:ext cx="8839080" cy="4800600"/>
            <a:chOff x="304920" y="0"/>
            <a:chExt cx="8839080" cy="4800600"/>
          </a:xfrm>
        </p:grpSpPr>
        <p:graphicFrame>
          <p:nvGraphicFramePr>
            <p:cNvPr id="1265" name=""/>
            <p:cNvGraphicFramePr/>
            <p:nvPr/>
          </p:nvGraphicFramePr>
          <p:xfrm>
            <a:off x="762120" y="533520"/>
            <a:ext cx="8305560" cy="426708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26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2120" y="533520"/>
                      <a:ext cx="8305560" cy="42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7" name=""/>
            <p:cNvSpPr/>
            <p:nvPr/>
          </p:nvSpPr>
          <p:spPr>
            <a:xfrm>
              <a:off x="304920" y="0"/>
              <a:ext cx="88390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82760" indent="-444600">
                <a:lnSpc>
                  <a:spcPct val="100000"/>
                </a:lnSpc>
                <a:spcBef>
                  <a:spcPts val="799"/>
                </a:spcBef>
                <a:buClr>
                  <a:srgbClr val="777777"/>
                </a:buClr>
                <a:buSzPct val="9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Roles </a:t>
              </a: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Georgia"/>
                </a:rPr>
                <a:t>characteristics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 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nalysis of role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04920" y="4572000"/>
            <a:ext cx="8839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82760" indent="-44460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o summarize: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chitectu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Sub-socie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b-societi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Georgia"/>
              </a:rPr>
              <a:t>Next step : inte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4800600" y="304920"/>
            <a:ext cx="4038480" cy="2133000"/>
            <a:chOff x="4800600" y="304920"/>
            <a:chExt cx="4038480" cy="2133000"/>
          </a:xfrm>
        </p:grpSpPr>
        <p:sp>
          <p:nvSpPr>
            <p:cNvPr id="1271" name=""/>
            <p:cNvSpPr/>
            <p:nvPr/>
          </p:nvSpPr>
          <p:spPr>
            <a:xfrm>
              <a:off x="4800600" y="355320"/>
              <a:ext cx="4038480" cy="2082600"/>
            </a:xfrm>
            <a:prstGeom prst="foldedCorner">
              <a:avLst>
                <a:gd name="adj" fmla="val 436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802040" y="304920"/>
              <a:ext cx="210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Sabas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t al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3" name="" descr=""/>
            <p:cNvPicPr/>
            <p:nvPr/>
          </p:nvPicPr>
          <p:blipFill>
            <a:blip r:embed="rId4"/>
            <a:stretch/>
          </p:blipFill>
          <p:spPr>
            <a:xfrm>
              <a:off x="7543800" y="431640"/>
              <a:ext cx="12193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4800600" y="838080"/>
              <a:ext cx="4038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gent Dimen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Heterogeneous a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Roles for information a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Table gives agent attribu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1536840" y="3200400"/>
            <a:ext cx="7315200" cy="3606120"/>
            <a:chOff x="1536840" y="3200400"/>
            <a:chExt cx="7315200" cy="3606120"/>
          </a:xfrm>
        </p:grpSpPr>
        <p:grpSp>
          <p:nvGrpSpPr>
            <p:cNvPr id="1276" name=""/>
            <p:cNvGrpSpPr/>
            <p:nvPr/>
          </p:nvGrpSpPr>
          <p:grpSpPr>
            <a:xfrm>
              <a:off x="1536840" y="4038480"/>
              <a:ext cx="7315200" cy="2768040"/>
              <a:chOff x="1536840" y="4038480"/>
              <a:chExt cx="7315200" cy="2768040"/>
            </a:xfrm>
          </p:grpSpPr>
          <p:sp>
            <p:nvSpPr>
              <p:cNvPr id="1277" name=""/>
              <p:cNvSpPr/>
              <p:nvPr/>
            </p:nvSpPr>
            <p:spPr>
              <a:xfrm>
                <a:off x="1536840" y="4089240"/>
                <a:ext cx="7239240" cy="2463840"/>
              </a:xfrm>
              <a:prstGeom prst="foldedCorner">
                <a:avLst>
                  <a:gd name="adj" fmla="val 436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541160" y="4038480"/>
                <a:ext cx="37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[Mercer &amp; Greenwood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7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480440" y="4114800"/>
                <a:ext cx="1219320" cy="71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0" name=""/>
              <p:cNvSpPr/>
              <p:nvPr/>
            </p:nvSpPr>
            <p:spPr>
              <a:xfrm>
                <a:off x="1536840" y="4518000"/>
                <a:ext cx="73152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achine learning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 Applied to people preferences to learn an order relation to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R10"/>
                  </a:rPr>
                  <a:t>rank the documents and sort the answers list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R10"/>
                  </a:rPr>
                  <a:t>- Learning on the fl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R10"/>
                  </a:rPr>
                  <a:t>- Profile = initial stereotype + self description + learn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1" name=""/>
            <p:cNvSpPr/>
            <p:nvPr/>
          </p:nvSpPr>
          <p:spPr>
            <a:xfrm flipV="1">
              <a:off x="5499360" y="3352680"/>
              <a:ext cx="2133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645680" y="3200400"/>
              <a:ext cx="22860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1317-DA5C-46AC-9414-1981FFAE25B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nteractions &amp; Protocols: AA &amp; AM example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80880" y="0"/>
            <a:ext cx="876312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t">
            <a:normAutofit fontScale="94000"/>
          </a:bodyPr>
          <a:p>
            <a:pPr marL="453600" indent="-41760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Interactions and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080" indent="-2682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cquaintance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080" indent="-2682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ssages exchange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cc3300"/>
                </a:solidFill>
                <a:latin typeface="Georgia"/>
              </a:rPr>
              <a:t>(</a:t>
            </a:r>
            <a:r>
              <a:rPr b="0" lang="en-US" sz="2800" spc="-1" strike="noStrike">
                <a:solidFill>
                  <a:srgbClr val="cc3300"/>
                </a:solidFill>
                <a:latin typeface="Webdings"/>
                <a:ea typeface="Webdings"/>
              </a:rPr>
              <a:t></a:t>
            </a:r>
            <a:r>
              <a:rPr b="0" lang="en-US" sz="2800" spc="-1" strike="noStrike">
                <a:solidFill>
                  <a:srgbClr val="cc3300"/>
                </a:solidFill>
                <a:latin typeface="Georgia"/>
              </a:rPr>
              <a:t> Paol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3600" indent="-41760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Ex: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Annotations Archivist &amp; Medi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080" indent="-26820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cases and scenarios: requested serv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Wingdings"/>
                <a:ea typeface="Wingdings"/>
              </a:rPr>
              <a:t></a:t>
            </a:r>
            <a:r>
              <a:rPr b="0" lang="en-US" sz="2400" spc="-1" strike="noStrike">
                <a:solidFill>
                  <a:srgbClr val="80808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notation submiss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Wingdings"/>
                <a:ea typeface="Wingdings"/>
              </a:rPr>
              <a:t></a:t>
            </a:r>
            <a:r>
              <a:rPr b="0" lang="en-US" sz="2400" spc="-1" strike="noStrike">
                <a:solidFill>
                  <a:srgbClr val="80808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query solv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Wingdings"/>
                <a:ea typeface="Wingdings"/>
              </a:rPr>
              <a:t></a:t>
            </a:r>
            <a:r>
              <a:rPr b="0" lang="en-US" sz="2400" spc="-1" strike="noStrike">
                <a:solidFill>
                  <a:srgbClr val="80808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new annotation ev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080" indent="-2682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rresponding intera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456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iscuss best place to archi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contract-n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posal: semantic pseudo-distance(annotation,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456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operate to solve a quer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multi-stage query-re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atistic description of archives (service precisio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composition and sub-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456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inform new annot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subscrib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5" name=""/>
          <p:cNvGrpSpPr/>
          <p:nvPr/>
        </p:nvGrpSpPr>
        <p:grpSpPr>
          <a:xfrm>
            <a:off x="3352680" y="152280"/>
            <a:ext cx="5181840" cy="3200400"/>
            <a:chOff x="3352680" y="152280"/>
            <a:chExt cx="5181840" cy="3200400"/>
          </a:xfrm>
        </p:grpSpPr>
        <p:sp>
          <p:nvSpPr>
            <p:cNvPr id="1286" name=""/>
            <p:cNvSpPr/>
            <p:nvPr/>
          </p:nvSpPr>
          <p:spPr>
            <a:xfrm>
              <a:off x="3352680" y="203040"/>
              <a:ext cx="5181840" cy="3149640"/>
            </a:xfrm>
            <a:prstGeom prst="foldedCorner">
              <a:avLst>
                <a:gd name="adj" fmla="val 436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354120" y="152280"/>
              <a:ext cx="210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Sabas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t al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2"/>
            <a:stretch/>
          </p:blipFill>
          <p:spPr>
            <a:xfrm>
              <a:off x="7238880" y="271440"/>
              <a:ext cx="12193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>
              <a:off x="3352680" y="631800"/>
              <a:ext cx="518184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presentation Dimen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Protocol diagram (AUM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operation Dimen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FIPA ACL + Speech acts + O'CoM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Human-Agent : IC (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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Control ( depends sub-societ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Interactions (?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11E45-1065-4A38-9368-AC71CE2B4D4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304920" y="0"/>
            <a:ext cx="8458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>
              <a:lnSpc>
                <a:spcPct val="12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Types &amp; Behaviors of Agents</a:t>
            </a:r>
            <a:br>
              <a:rPr sz="3200"/>
            </a:b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ntology Archivis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nterprise Model Archivis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nnotation Archivis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nnotation Mediat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ederable DF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nterface Controlle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User Profile Manag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User Profile Archivis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Types and behaviors of agent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3962520" y="762120"/>
            <a:ext cx="2786400" cy="4189320"/>
            <a:chOff x="3962520" y="762120"/>
            <a:chExt cx="2786400" cy="4189320"/>
          </a:xfrm>
        </p:grpSpPr>
        <p:grpSp>
          <p:nvGrpSpPr>
            <p:cNvPr id="1293" name=""/>
            <p:cNvGrpSpPr/>
            <p:nvPr/>
          </p:nvGrpSpPr>
          <p:grpSpPr>
            <a:xfrm>
              <a:off x="5486400" y="762120"/>
              <a:ext cx="1038600" cy="761760"/>
              <a:chOff x="5486400" y="762120"/>
              <a:chExt cx="1038600" cy="761760"/>
            </a:xfrm>
          </p:grpSpPr>
          <p:sp>
            <p:nvSpPr>
              <p:cNvPr id="1294" name=""/>
              <p:cNvSpPr/>
              <p:nvPr/>
            </p:nvSpPr>
            <p:spPr>
              <a:xfrm>
                <a:off x="5486400" y="762120"/>
                <a:ext cx="76320" cy="76176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9800 h 761760"/>
                  <a:gd name="textAreaBottom" fmla="*/ 74196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562720" y="1143000"/>
                <a:ext cx="30456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874840" y="914400"/>
                <a:ext cx="65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00"/>
                    </a:solidFill>
                    <a:latin typeface="Georgia"/>
                  </a:rPr>
                  <a:t>O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4572000" y="1676520"/>
              <a:ext cx="1939680" cy="459720"/>
              <a:chOff x="4572000" y="1676520"/>
              <a:chExt cx="1939680" cy="459720"/>
            </a:xfrm>
          </p:grpSpPr>
          <p:sp>
            <p:nvSpPr>
              <p:cNvPr id="1298" name=""/>
              <p:cNvSpPr/>
              <p:nvPr/>
            </p:nvSpPr>
            <p:spPr>
              <a:xfrm>
                <a:off x="4572000" y="1905120"/>
                <a:ext cx="129528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870880" y="1676520"/>
                <a:ext cx="64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00"/>
                    </a:solidFill>
                    <a:latin typeface="Georgia"/>
                  </a:rPr>
                  <a:t>A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"/>
            <p:cNvGrpSpPr/>
            <p:nvPr/>
          </p:nvGrpSpPr>
          <p:grpSpPr>
            <a:xfrm>
              <a:off x="4572000" y="2133720"/>
              <a:ext cx="2009880" cy="459720"/>
              <a:chOff x="4572000" y="2133720"/>
              <a:chExt cx="2009880" cy="459720"/>
            </a:xfrm>
          </p:grpSpPr>
          <p:sp>
            <p:nvSpPr>
              <p:cNvPr id="1301" name=""/>
              <p:cNvSpPr/>
              <p:nvPr/>
            </p:nvSpPr>
            <p:spPr>
              <a:xfrm>
                <a:off x="4572000" y="2362320"/>
                <a:ext cx="129528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881320" y="2133720"/>
                <a:ext cx="70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00"/>
                    </a:solidFill>
                    <a:latin typeface="Georgia"/>
                  </a:rPr>
                  <a:t>A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3962520" y="2590920"/>
              <a:ext cx="2548440" cy="459720"/>
              <a:chOff x="3962520" y="2590920"/>
              <a:chExt cx="2548440" cy="459720"/>
            </a:xfrm>
          </p:grpSpPr>
          <p:sp>
            <p:nvSpPr>
              <p:cNvPr id="1304" name=""/>
              <p:cNvSpPr/>
              <p:nvPr/>
            </p:nvSpPr>
            <p:spPr>
              <a:xfrm>
                <a:off x="3962520" y="2819520"/>
                <a:ext cx="190476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907960" y="2590920"/>
                <a:ext cx="60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00"/>
                    </a:solidFill>
                    <a:latin typeface="Georgia"/>
                  </a:rPr>
                  <a:t>D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4191120" y="3048120"/>
              <a:ext cx="2198520" cy="459720"/>
              <a:chOff x="4191120" y="3048120"/>
              <a:chExt cx="2198520" cy="459720"/>
            </a:xfrm>
          </p:grpSpPr>
          <p:sp>
            <p:nvSpPr>
              <p:cNvPr id="1307" name=""/>
              <p:cNvSpPr/>
              <p:nvPr/>
            </p:nvSpPr>
            <p:spPr>
              <a:xfrm>
                <a:off x="4191120" y="3276720"/>
                <a:ext cx="167616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882760" y="3048120"/>
                <a:ext cx="50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00"/>
                    </a:solidFill>
                    <a:latin typeface="Georgia"/>
                  </a:rPr>
                  <a:t>I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9" name=""/>
            <p:cNvGrpSpPr/>
            <p:nvPr/>
          </p:nvGrpSpPr>
          <p:grpSpPr>
            <a:xfrm>
              <a:off x="4267080" y="3530520"/>
              <a:ext cx="2473560" cy="459720"/>
              <a:chOff x="4267080" y="3530520"/>
              <a:chExt cx="2473560" cy="459720"/>
            </a:xfrm>
          </p:grpSpPr>
          <p:sp>
            <p:nvSpPr>
              <p:cNvPr id="1310" name=""/>
              <p:cNvSpPr/>
              <p:nvPr/>
            </p:nvSpPr>
            <p:spPr>
              <a:xfrm>
                <a:off x="4267080" y="3759120"/>
                <a:ext cx="160020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848200" y="353052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00"/>
                    </a:solidFill>
                    <a:latin typeface="Georgia"/>
                  </a:rPr>
                  <a:t>UP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2" name=""/>
            <p:cNvGrpSpPr/>
            <p:nvPr/>
          </p:nvGrpSpPr>
          <p:grpSpPr>
            <a:xfrm>
              <a:off x="4038480" y="3979800"/>
              <a:ext cx="2710440" cy="971640"/>
              <a:chOff x="4038480" y="3979800"/>
              <a:chExt cx="2710440" cy="971640"/>
            </a:xfrm>
          </p:grpSpPr>
          <p:sp>
            <p:nvSpPr>
              <p:cNvPr id="1313" name=""/>
              <p:cNvSpPr/>
              <p:nvPr/>
            </p:nvSpPr>
            <p:spPr>
              <a:xfrm>
                <a:off x="4038480" y="4267080"/>
                <a:ext cx="1684800" cy="20340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836680" y="3979800"/>
                <a:ext cx="91224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00"/>
                    </a:solidFill>
                    <a:latin typeface="Georgia"/>
                  </a:rPr>
                  <a:t>UPA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00"/>
                    </a:solidFill>
                    <a:latin typeface="Georgia"/>
                  </a:rPr>
                  <a:t>A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770080" y="4140360"/>
                <a:ext cx="70200" cy="685800"/>
              </a:xfrm>
              <a:custGeom>
                <a:avLst/>
                <a:gdLst>
                  <a:gd name="textAreaLeft" fmla="*/ 45000 w 70200"/>
                  <a:gd name="textAreaRight" fmla="*/ 70560 w 70200"/>
                  <a:gd name="textAreaTop" fmla="*/ 17640 h 685800"/>
                  <a:gd name="textAreaBottom" fmla="*/ 668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6" name=""/>
          <p:cNvSpPr/>
          <p:nvPr/>
        </p:nvSpPr>
        <p:spPr>
          <a:xfrm>
            <a:off x="343080" y="5410080"/>
            <a:ext cx="8877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82760" indent="-4446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Georgia"/>
              </a:rPr>
              <a:t>Architecture + Roles + Protocols + Behaviors + Competencies = 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6400440" y="952560"/>
            <a:ext cx="3086640" cy="4000320"/>
            <a:chOff x="6400440" y="952560"/>
            <a:chExt cx="3086640" cy="4000320"/>
          </a:xfrm>
        </p:grpSpPr>
        <p:grpSp>
          <p:nvGrpSpPr>
            <p:cNvPr id="1318" name=""/>
            <p:cNvGrpSpPr/>
            <p:nvPr/>
          </p:nvGrpSpPr>
          <p:grpSpPr>
            <a:xfrm>
              <a:off x="6553080" y="1689120"/>
              <a:ext cx="2552760" cy="457200"/>
              <a:chOff x="6553080" y="1689120"/>
              <a:chExt cx="2552760" cy="457200"/>
            </a:xfrm>
          </p:grpSpPr>
          <p:grpSp>
            <p:nvGrpSpPr>
              <p:cNvPr id="1319" name=""/>
              <p:cNvGrpSpPr/>
              <p:nvPr/>
            </p:nvGrpSpPr>
            <p:grpSpPr>
              <a:xfrm>
                <a:off x="7581960" y="1689120"/>
                <a:ext cx="1523880" cy="457200"/>
                <a:chOff x="7581960" y="1689120"/>
                <a:chExt cx="1523880" cy="45720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7581960" y="1689120"/>
                  <a:ext cx="152388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1" name=""/>
                <p:cNvGrpSpPr/>
                <p:nvPr/>
              </p:nvGrpSpPr>
              <p:grpSpPr>
                <a:xfrm>
                  <a:off x="7620120" y="1749600"/>
                  <a:ext cx="380880" cy="383760"/>
                  <a:chOff x="7620120" y="1749600"/>
                  <a:chExt cx="380880" cy="383760"/>
                </a:xfrm>
              </p:grpSpPr>
              <p:sp>
                <p:nvSpPr>
                  <p:cNvPr id="1322" name=""/>
                  <p:cNvSpPr/>
                  <p:nvPr/>
                </p:nvSpPr>
                <p:spPr>
                  <a:xfrm>
                    <a:off x="7809480" y="1749600"/>
                    <a:ext cx="191520" cy="286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cc33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23" name=""/>
                  <p:cNvGrpSpPr/>
                  <p:nvPr/>
                </p:nvGrpSpPr>
                <p:grpSpPr>
                  <a:xfrm>
                    <a:off x="7620120" y="1805040"/>
                    <a:ext cx="334440" cy="328320"/>
                    <a:chOff x="7620120" y="1805040"/>
                    <a:chExt cx="334440" cy="328320"/>
                  </a:xfrm>
                </p:grpSpPr>
                <p:grpSp>
                  <p:nvGrpSpPr>
                    <p:cNvPr id="1324" name=""/>
                    <p:cNvGrpSpPr/>
                    <p:nvPr/>
                  </p:nvGrpSpPr>
                  <p:grpSpPr>
                    <a:xfrm>
                      <a:off x="7811280" y="1980360"/>
                      <a:ext cx="143280" cy="153000"/>
                      <a:chOff x="7811280" y="1980360"/>
                      <a:chExt cx="143280" cy="153000"/>
                    </a:xfrm>
                  </p:grpSpPr>
                  <p:sp>
                    <p:nvSpPr>
                      <p:cNvPr id="1325" name=""/>
                      <p:cNvSpPr/>
                      <p:nvPr/>
                    </p:nvSpPr>
                    <p:spPr>
                      <a:xfrm>
                        <a:off x="7811280" y="1980360"/>
                        <a:ext cx="143280" cy="153000"/>
                      </a:xfrm>
                      <a:custGeom>
                        <a:avLst/>
                        <a:gdLst>
                          <a:gd name="textAreaLeft" fmla="*/ 38160 w 143280"/>
                          <a:gd name="textAreaRight" fmla="*/ 105120 w 143280"/>
                          <a:gd name="textAreaTop" fmla="*/ 40680 h 153000"/>
                          <a:gd name="textAreaBottom" fmla="*/ 112320 h 1530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3791" y="12162"/>
                            </a:lnTo>
                            <a:lnTo>
                              <a:pt x="786" y="14846"/>
                            </a:lnTo>
                            <a:lnTo>
                              <a:pt x="4812" y="14689"/>
                            </a:lnTo>
                            <a:lnTo>
                              <a:pt x="3163" y="18437"/>
                            </a:lnTo>
                            <a:lnTo>
                              <a:pt x="6807" y="16719"/>
                            </a:lnTo>
                            <a:lnTo>
                              <a:pt x="6580" y="20741"/>
                            </a:lnTo>
                            <a:lnTo>
                              <a:pt x="9316" y="17784"/>
                            </a:lnTo>
                            <a:lnTo>
                              <a:pt x="10800" y="21600"/>
                            </a:lnTo>
                            <a:lnTo>
                              <a:pt x="12162" y="17809"/>
                            </a:lnTo>
                            <a:lnTo>
                              <a:pt x="14846" y="20814"/>
                            </a:lnTo>
                            <a:lnTo>
                              <a:pt x="14689" y="16788"/>
                            </a:lnTo>
                            <a:lnTo>
                              <a:pt x="18437" y="18437"/>
                            </a:lnTo>
                            <a:lnTo>
                              <a:pt x="16719" y="14793"/>
                            </a:lnTo>
                            <a:lnTo>
                              <a:pt x="20741" y="15020"/>
                            </a:lnTo>
                            <a:lnTo>
                              <a:pt x="17784" y="12284"/>
                            </a:lnTo>
                            <a:lnTo>
                              <a:pt x="21600" y="10800"/>
                            </a:lnTo>
                            <a:lnTo>
                              <a:pt x="17809" y="9438"/>
                            </a:lnTo>
                            <a:lnTo>
                              <a:pt x="20814" y="6754"/>
                            </a:lnTo>
                            <a:lnTo>
                              <a:pt x="16788" y="6911"/>
                            </a:lnTo>
                            <a:lnTo>
                              <a:pt x="18437" y="3163"/>
                            </a:lnTo>
                            <a:lnTo>
                              <a:pt x="14793" y="4881"/>
                            </a:lnTo>
                            <a:lnTo>
                              <a:pt x="15020" y="859"/>
                            </a:lnTo>
                            <a:lnTo>
                              <a:pt x="12284" y="3816"/>
                            </a:lnTo>
                            <a:lnTo>
                              <a:pt x="10800" y="0"/>
                            </a:lnTo>
                            <a:lnTo>
                              <a:pt x="9438" y="3791"/>
                            </a:lnTo>
                            <a:lnTo>
                              <a:pt x="6754" y="786"/>
                            </a:lnTo>
                            <a:lnTo>
                              <a:pt x="6911" y="4812"/>
                            </a:lnTo>
                            <a:lnTo>
                              <a:pt x="3163" y="3163"/>
                            </a:lnTo>
                            <a:lnTo>
                              <a:pt x="4881" y="6807"/>
                            </a:lnTo>
                            <a:lnTo>
                              <a:pt x="859" y="6580"/>
                            </a:lnTo>
                            <a:lnTo>
                              <a:pt x="3816" y="9316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3366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840" bIns="24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6" name=""/>
                      <p:cNvSpPr/>
                      <p:nvPr/>
                    </p:nvSpPr>
                    <p:spPr>
                      <a:xfrm>
                        <a:off x="7868520" y="2042640"/>
                        <a:ext cx="28440" cy="284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6280" bIns="-26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27" name=""/>
                    <p:cNvGrpSpPr/>
                    <p:nvPr/>
                  </p:nvGrpSpPr>
                  <p:grpSpPr>
                    <a:xfrm>
                      <a:off x="7620120" y="1805040"/>
                      <a:ext cx="250200" cy="258120"/>
                      <a:chOff x="7620120" y="1805040"/>
                      <a:chExt cx="250200" cy="258120"/>
                    </a:xfrm>
                  </p:grpSpPr>
                  <p:sp>
                    <p:nvSpPr>
                      <p:cNvPr id="1328" name=""/>
                      <p:cNvSpPr/>
                      <p:nvPr/>
                    </p:nvSpPr>
                    <p:spPr>
                      <a:xfrm>
                        <a:off x="7620120" y="1805040"/>
                        <a:ext cx="250200" cy="258120"/>
                      </a:xfrm>
                      <a:custGeom>
                        <a:avLst/>
                        <a:gdLst>
                          <a:gd name="textAreaLeft" fmla="*/ 56880 w 250200"/>
                          <a:gd name="textAreaRight" fmla="*/ 193320 w 250200"/>
                          <a:gd name="textAreaTop" fmla="*/ 58680 h 258120"/>
                          <a:gd name="textAreaBottom" fmla="*/ 199440 h 2581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2562" y="11812"/>
                            </a:lnTo>
                            <a:lnTo>
                              <a:pt x="368" y="13595"/>
                            </a:lnTo>
                            <a:lnTo>
                              <a:pt x="3104" y="13909"/>
                            </a:lnTo>
                            <a:lnTo>
                              <a:pt x="1447" y="16200"/>
                            </a:lnTo>
                            <a:lnTo>
                              <a:pt x="4171" y="15795"/>
                            </a:lnTo>
                            <a:lnTo>
                              <a:pt x="3163" y="18437"/>
                            </a:lnTo>
                            <a:lnTo>
                              <a:pt x="5690" y="17340"/>
                            </a:lnTo>
                            <a:lnTo>
                              <a:pt x="5400" y="20153"/>
                            </a:lnTo>
                            <a:lnTo>
                              <a:pt x="7557" y="18440"/>
                            </a:lnTo>
                            <a:lnTo>
                              <a:pt x="8005" y="21232"/>
                            </a:lnTo>
                            <a:lnTo>
                              <a:pt x="9645" y="19019"/>
                            </a:lnTo>
                            <a:lnTo>
                              <a:pt x="10800" y="21600"/>
                            </a:lnTo>
                            <a:lnTo>
                              <a:pt x="11812" y="19038"/>
                            </a:lnTo>
                            <a:lnTo>
                              <a:pt x="13595" y="21232"/>
                            </a:lnTo>
                            <a:lnTo>
                              <a:pt x="13909" y="18496"/>
                            </a:lnTo>
                            <a:lnTo>
                              <a:pt x="16200" y="20153"/>
                            </a:lnTo>
                            <a:lnTo>
                              <a:pt x="15795" y="17429"/>
                            </a:lnTo>
                            <a:lnTo>
                              <a:pt x="18437" y="18437"/>
                            </a:lnTo>
                            <a:lnTo>
                              <a:pt x="17340" y="15910"/>
                            </a:lnTo>
                            <a:lnTo>
                              <a:pt x="20153" y="16200"/>
                            </a:lnTo>
                            <a:lnTo>
                              <a:pt x="18440" y="14043"/>
                            </a:lnTo>
                            <a:lnTo>
                              <a:pt x="21232" y="13595"/>
                            </a:lnTo>
                            <a:lnTo>
                              <a:pt x="19019" y="11955"/>
                            </a:lnTo>
                            <a:lnTo>
                              <a:pt x="21600" y="10800"/>
                            </a:lnTo>
                            <a:lnTo>
                              <a:pt x="19038" y="9788"/>
                            </a:lnTo>
                            <a:lnTo>
                              <a:pt x="21232" y="8005"/>
                            </a:lnTo>
                            <a:lnTo>
                              <a:pt x="18496" y="7691"/>
                            </a:lnTo>
                            <a:lnTo>
                              <a:pt x="20153" y="5400"/>
                            </a:lnTo>
                            <a:lnTo>
                              <a:pt x="17429" y="5805"/>
                            </a:lnTo>
                            <a:lnTo>
                              <a:pt x="18437" y="3163"/>
                            </a:lnTo>
                            <a:lnTo>
                              <a:pt x="15910" y="4260"/>
                            </a:lnTo>
                            <a:lnTo>
                              <a:pt x="16200" y="1447"/>
                            </a:lnTo>
                            <a:lnTo>
                              <a:pt x="14043" y="3160"/>
                            </a:lnTo>
                            <a:lnTo>
                              <a:pt x="13595" y="368"/>
                            </a:lnTo>
                            <a:lnTo>
                              <a:pt x="11955" y="2581"/>
                            </a:lnTo>
                            <a:lnTo>
                              <a:pt x="10800" y="0"/>
                            </a:lnTo>
                            <a:lnTo>
                              <a:pt x="9788" y="2562"/>
                            </a:lnTo>
                            <a:lnTo>
                              <a:pt x="8005" y="368"/>
                            </a:lnTo>
                            <a:lnTo>
                              <a:pt x="7691" y="3104"/>
                            </a:lnTo>
                            <a:lnTo>
                              <a:pt x="5400" y="1447"/>
                            </a:lnTo>
                            <a:lnTo>
                              <a:pt x="5805" y="4171"/>
                            </a:lnTo>
                            <a:lnTo>
                              <a:pt x="3163" y="3163"/>
                            </a:lnTo>
                            <a:lnTo>
                              <a:pt x="4260" y="5690"/>
                            </a:lnTo>
                            <a:lnTo>
                              <a:pt x="1447" y="5400"/>
                            </a:lnTo>
                            <a:lnTo>
                              <a:pt x="3160" y="7557"/>
                            </a:lnTo>
                            <a:lnTo>
                              <a:pt x="368" y="8005"/>
                            </a:lnTo>
                            <a:lnTo>
                              <a:pt x="2581" y="9645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3366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9" name=""/>
                      <p:cNvSpPr/>
                      <p:nvPr/>
                    </p:nvSpPr>
                    <p:spPr>
                      <a:xfrm>
                        <a:off x="7725960" y="1914840"/>
                        <a:ext cx="38160" cy="38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440" bIns="-19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330" name=""/>
                <p:cNvSpPr/>
                <p:nvPr/>
              </p:nvSpPr>
              <p:spPr>
                <a:xfrm>
                  <a:off x="7871760" y="1724040"/>
                  <a:ext cx="12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Georgia"/>
                    </a:rPr>
                    <a:t>CORES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1" name=""/>
              <p:cNvSpPr/>
              <p:nvPr/>
            </p:nvSpPr>
            <p:spPr>
              <a:xfrm flipH="1">
                <a:off x="6553080" y="190512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2" name=""/>
            <p:cNvGrpSpPr/>
            <p:nvPr/>
          </p:nvGrpSpPr>
          <p:grpSpPr>
            <a:xfrm>
              <a:off x="6553080" y="2146320"/>
              <a:ext cx="2552760" cy="457200"/>
              <a:chOff x="6553080" y="2146320"/>
              <a:chExt cx="2552760" cy="457200"/>
            </a:xfrm>
          </p:grpSpPr>
          <p:grpSp>
            <p:nvGrpSpPr>
              <p:cNvPr id="1333" name=""/>
              <p:cNvGrpSpPr/>
              <p:nvPr/>
            </p:nvGrpSpPr>
            <p:grpSpPr>
              <a:xfrm>
                <a:off x="7581960" y="2146320"/>
                <a:ext cx="1523880" cy="457200"/>
                <a:chOff x="7581960" y="2146320"/>
                <a:chExt cx="1523880" cy="457200"/>
              </a:xfrm>
            </p:grpSpPr>
            <p:sp>
              <p:nvSpPr>
                <p:cNvPr id="1334" name=""/>
                <p:cNvSpPr/>
                <p:nvPr/>
              </p:nvSpPr>
              <p:spPr>
                <a:xfrm>
                  <a:off x="7581960" y="2146320"/>
                  <a:ext cx="152388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5" name=""/>
                <p:cNvGrpSpPr/>
                <p:nvPr/>
              </p:nvGrpSpPr>
              <p:grpSpPr>
                <a:xfrm>
                  <a:off x="7632720" y="2206800"/>
                  <a:ext cx="380880" cy="383760"/>
                  <a:chOff x="7632720" y="2206800"/>
                  <a:chExt cx="380880" cy="383760"/>
                </a:xfrm>
              </p:grpSpPr>
              <p:sp>
                <p:nvSpPr>
                  <p:cNvPr id="1336" name=""/>
                  <p:cNvSpPr/>
                  <p:nvPr/>
                </p:nvSpPr>
                <p:spPr>
                  <a:xfrm>
                    <a:off x="7822080" y="2206800"/>
                    <a:ext cx="191520" cy="286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cc33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37" name=""/>
                  <p:cNvGrpSpPr/>
                  <p:nvPr/>
                </p:nvGrpSpPr>
                <p:grpSpPr>
                  <a:xfrm>
                    <a:off x="7632720" y="2262240"/>
                    <a:ext cx="334440" cy="328320"/>
                    <a:chOff x="7632720" y="2262240"/>
                    <a:chExt cx="334440" cy="328320"/>
                  </a:xfrm>
                </p:grpSpPr>
                <p:grpSp>
                  <p:nvGrpSpPr>
                    <p:cNvPr id="1338" name=""/>
                    <p:cNvGrpSpPr/>
                    <p:nvPr/>
                  </p:nvGrpSpPr>
                  <p:grpSpPr>
                    <a:xfrm>
                      <a:off x="7823880" y="2437560"/>
                      <a:ext cx="143280" cy="153000"/>
                      <a:chOff x="7823880" y="2437560"/>
                      <a:chExt cx="143280" cy="153000"/>
                    </a:xfrm>
                  </p:grpSpPr>
                  <p:sp>
                    <p:nvSpPr>
                      <p:cNvPr id="1339" name=""/>
                      <p:cNvSpPr/>
                      <p:nvPr/>
                    </p:nvSpPr>
                    <p:spPr>
                      <a:xfrm>
                        <a:off x="7823880" y="2437560"/>
                        <a:ext cx="143280" cy="153000"/>
                      </a:xfrm>
                      <a:custGeom>
                        <a:avLst/>
                        <a:gdLst>
                          <a:gd name="textAreaLeft" fmla="*/ 38160 w 143280"/>
                          <a:gd name="textAreaRight" fmla="*/ 105120 w 143280"/>
                          <a:gd name="textAreaTop" fmla="*/ 40680 h 153000"/>
                          <a:gd name="textAreaBottom" fmla="*/ 112320 h 1530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3791" y="12162"/>
                            </a:lnTo>
                            <a:lnTo>
                              <a:pt x="786" y="14846"/>
                            </a:lnTo>
                            <a:lnTo>
                              <a:pt x="4812" y="14689"/>
                            </a:lnTo>
                            <a:lnTo>
                              <a:pt x="3163" y="18437"/>
                            </a:lnTo>
                            <a:lnTo>
                              <a:pt x="6807" y="16719"/>
                            </a:lnTo>
                            <a:lnTo>
                              <a:pt x="6580" y="20741"/>
                            </a:lnTo>
                            <a:lnTo>
                              <a:pt x="9316" y="17784"/>
                            </a:lnTo>
                            <a:lnTo>
                              <a:pt x="10800" y="21600"/>
                            </a:lnTo>
                            <a:lnTo>
                              <a:pt x="12162" y="17809"/>
                            </a:lnTo>
                            <a:lnTo>
                              <a:pt x="14846" y="20814"/>
                            </a:lnTo>
                            <a:lnTo>
                              <a:pt x="14689" y="16788"/>
                            </a:lnTo>
                            <a:lnTo>
                              <a:pt x="18437" y="18437"/>
                            </a:lnTo>
                            <a:lnTo>
                              <a:pt x="16719" y="14793"/>
                            </a:lnTo>
                            <a:lnTo>
                              <a:pt x="20741" y="15020"/>
                            </a:lnTo>
                            <a:lnTo>
                              <a:pt x="17784" y="12284"/>
                            </a:lnTo>
                            <a:lnTo>
                              <a:pt x="21600" y="10800"/>
                            </a:lnTo>
                            <a:lnTo>
                              <a:pt x="17809" y="9438"/>
                            </a:lnTo>
                            <a:lnTo>
                              <a:pt x="20814" y="6754"/>
                            </a:lnTo>
                            <a:lnTo>
                              <a:pt x="16788" y="6911"/>
                            </a:lnTo>
                            <a:lnTo>
                              <a:pt x="18437" y="3163"/>
                            </a:lnTo>
                            <a:lnTo>
                              <a:pt x="14793" y="4881"/>
                            </a:lnTo>
                            <a:lnTo>
                              <a:pt x="15020" y="859"/>
                            </a:lnTo>
                            <a:lnTo>
                              <a:pt x="12284" y="3816"/>
                            </a:lnTo>
                            <a:lnTo>
                              <a:pt x="10800" y="0"/>
                            </a:lnTo>
                            <a:lnTo>
                              <a:pt x="9438" y="3791"/>
                            </a:lnTo>
                            <a:lnTo>
                              <a:pt x="6754" y="786"/>
                            </a:lnTo>
                            <a:lnTo>
                              <a:pt x="6911" y="4812"/>
                            </a:lnTo>
                            <a:lnTo>
                              <a:pt x="3163" y="3163"/>
                            </a:lnTo>
                            <a:lnTo>
                              <a:pt x="4881" y="6807"/>
                            </a:lnTo>
                            <a:lnTo>
                              <a:pt x="859" y="6580"/>
                            </a:lnTo>
                            <a:lnTo>
                              <a:pt x="3816" y="9316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3366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840" bIns="24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0" name=""/>
                      <p:cNvSpPr/>
                      <p:nvPr/>
                    </p:nvSpPr>
                    <p:spPr>
                      <a:xfrm>
                        <a:off x="7881120" y="2499840"/>
                        <a:ext cx="28440" cy="284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6280" bIns="-26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41" name=""/>
                    <p:cNvGrpSpPr/>
                    <p:nvPr/>
                  </p:nvGrpSpPr>
                  <p:grpSpPr>
                    <a:xfrm>
                      <a:off x="7632720" y="2262240"/>
                      <a:ext cx="250200" cy="258120"/>
                      <a:chOff x="7632720" y="2262240"/>
                      <a:chExt cx="250200" cy="258120"/>
                    </a:xfrm>
                  </p:grpSpPr>
                  <p:sp>
                    <p:nvSpPr>
                      <p:cNvPr id="1342" name=""/>
                      <p:cNvSpPr/>
                      <p:nvPr/>
                    </p:nvSpPr>
                    <p:spPr>
                      <a:xfrm>
                        <a:off x="7632720" y="2262240"/>
                        <a:ext cx="250200" cy="258120"/>
                      </a:xfrm>
                      <a:custGeom>
                        <a:avLst/>
                        <a:gdLst>
                          <a:gd name="textAreaLeft" fmla="*/ 56880 w 250200"/>
                          <a:gd name="textAreaRight" fmla="*/ 193320 w 250200"/>
                          <a:gd name="textAreaTop" fmla="*/ 58680 h 258120"/>
                          <a:gd name="textAreaBottom" fmla="*/ 199440 h 2581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2562" y="11812"/>
                            </a:lnTo>
                            <a:lnTo>
                              <a:pt x="368" y="13595"/>
                            </a:lnTo>
                            <a:lnTo>
                              <a:pt x="3104" y="13909"/>
                            </a:lnTo>
                            <a:lnTo>
                              <a:pt x="1447" y="16200"/>
                            </a:lnTo>
                            <a:lnTo>
                              <a:pt x="4171" y="15795"/>
                            </a:lnTo>
                            <a:lnTo>
                              <a:pt x="3163" y="18437"/>
                            </a:lnTo>
                            <a:lnTo>
                              <a:pt x="5690" y="17340"/>
                            </a:lnTo>
                            <a:lnTo>
                              <a:pt x="5400" y="20153"/>
                            </a:lnTo>
                            <a:lnTo>
                              <a:pt x="7557" y="18440"/>
                            </a:lnTo>
                            <a:lnTo>
                              <a:pt x="8005" y="21232"/>
                            </a:lnTo>
                            <a:lnTo>
                              <a:pt x="9645" y="19019"/>
                            </a:lnTo>
                            <a:lnTo>
                              <a:pt x="10800" y="21600"/>
                            </a:lnTo>
                            <a:lnTo>
                              <a:pt x="11812" y="19038"/>
                            </a:lnTo>
                            <a:lnTo>
                              <a:pt x="13595" y="21232"/>
                            </a:lnTo>
                            <a:lnTo>
                              <a:pt x="13909" y="18496"/>
                            </a:lnTo>
                            <a:lnTo>
                              <a:pt x="16200" y="20153"/>
                            </a:lnTo>
                            <a:lnTo>
                              <a:pt x="15795" y="17429"/>
                            </a:lnTo>
                            <a:lnTo>
                              <a:pt x="18437" y="18437"/>
                            </a:lnTo>
                            <a:lnTo>
                              <a:pt x="17340" y="15910"/>
                            </a:lnTo>
                            <a:lnTo>
                              <a:pt x="20153" y="16200"/>
                            </a:lnTo>
                            <a:lnTo>
                              <a:pt x="18440" y="14043"/>
                            </a:lnTo>
                            <a:lnTo>
                              <a:pt x="21232" y="13595"/>
                            </a:lnTo>
                            <a:lnTo>
                              <a:pt x="19019" y="11955"/>
                            </a:lnTo>
                            <a:lnTo>
                              <a:pt x="21600" y="10800"/>
                            </a:lnTo>
                            <a:lnTo>
                              <a:pt x="19038" y="9788"/>
                            </a:lnTo>
                            <a:lnTo>
                              <a:pt x="21232" y="8005"/>
                            </a:lnTo>
                            <a:lnTo>
                              <a:pt x="18496" y="7691"/>
                            </a:lnTo>
                            <a:lnTo>
                              <a:pt x="20153" y="5400"/>
                            </a:lnTo>
                            <a:lnTo>
                              <a:pt x="17429" y="5805"/>
                            </a:lnTo>
                            <a:lnTo>
                              <a:pt x="18437" y="3163"/>
                            </a:lnTo>
                            <a:lnTo>
                              <a:pt x="15910" y="4260"/>
                            </a:lnTo>
                            <a:lnTo>
                              <a:pt x="16200" y="1447"/>
                            </a:lnTo>
                            <a:lnTo>
                              <a:pt x="14043" y="3160"/>
                            </a:lnTo>
                            <a:lnTo>
                              <a:pt x="13595" y="368"/>
                            </a:lnTo>
                            <a:lnTo>
                              <a:pt x="11955" y="2581"/>
                            </a:lnTo>
                            <a:lnTo>
                              <a:pt x="10800" y="0"/>
                            </a:lnTo>
                            <a:lnTo>
                              <a:pt x="9788" y="2562"/>
                            </a:lnTo>
                            <a:lnTo>
                              <a:pt x="8005" y="368"/>
                            </a:lnTo>
                            <a:lnTo>
                              <a:pt x="7691" y="3104"/>
                            </a:lnTo>
                            <a:lnTo>
                              <a:pt x="5400" y="1447"/>
                            </a:lnTo>
                            <a:lnTo>
                              <a:pt x="5805" y="4171"/>
                            </a:lnTo>
                            <a:lnTo>
                              <a:pt x="3163" y="3163"/>
                            </a:lnTo>
                            <a:lnTo>
                              <a:pt x="4260" y="5690"/>
                            </a:lnTo>
                            <a:lnTo>
                              <a:pt x="1447" y="5400"/>
                            </a:lnTo>
                            <a:lnTo>
                              <a:pt x="3160" y="7557"/>
                            </a:lnTo>
                            <a:lnTo>
                              <a:pt x="368" y="8005"/>
                            </a:lnTo>
                            <a:lnTo>
                              <a:pt x="2581" y="9645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3366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3" name=""/>
                      <p:cNvSpPr/>
                      <p:nvPr/>
                    </p:nvSpPr>
                    <p:spPr>
                      <a:xfrm>
                        <a:off x="7738560" y="2372040"/>
                        <a:ext cx="38160" cy="38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440" bIns="-19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344" name=""/>
                <p:cNvSpPr/>
                <p:nvPr/>
              </p:nvSpPr>
              <p:spPr>
                <a:xfrm>
                  <a:off x="7884360" y="2181240"/>
                  <a:ext cx="12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Georgia"/>
                    </a:rPr>
                    <a:t>CORES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5" name=""/>
              <p:cNvSpPr/>
              <p:nvPr/>
            </p:nvSpPr>
            <p:spPr>
              <a:xfrm flipH="1">
                <a:off x="6553080" y="236232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6" name=""/>
            <p:cNvGrpSpPr/>
            <p:nvPr/>
          </p:nvGrpSpPr>
          <p:grpSpPr>
            <a:xfrm>
              <a:off x="6553080" y="2590920"/>
              <a:ext cx="2552760" cy="461880"/>
              <a:chOff x="6553080" y="2590920"/>
              <a:chExt cx="2552760" cy="461880"/>
            </a:xfrm>
          </p:grpSpPr>
          <p:grpSp>
            <p:nvGrpSpPr>
              <p:cNvPr id="1347" name=""/>
              <p:cNvGrpSpPr/>
              <p:nvPr/>
            </p:nvGrpSpPr>
            <p:grpSpPr>
              <a:xfrm>
                <a:off x="7581960" y="2590920"/>
                <a:ext cx="1523880" cy="461880"/>
                <a:chOff x="7581960" y="2590920"/>
                <a:chExt cx="1523880" cy="46188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7581960" y="2590920"/>
                  <a:ext cx="152388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349" name="JADElogo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658280" y="2620800"/>
                  <a:ext cx="1396800" cy="432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350" name=""/>
              <p:cNvSpPr/>
              <p:nvPr/>
            </p:nvSpPr>
            <p:spPr>
              <a:xfrm flipH="1">
                <a:off x="6553080" y="281952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6553080" y="3048120"/>
              <a:ext cx="2934000" cy="468720"/>
              <a:chOff x="6553080" y="3048120"/>
              <a:chExt cx="2934000" cy="468720"/>
            </a:xfrm>
          </p:grpSpPr>
          <p:grpSp>
            <p:nvGrpSpPr>
              <p:cNvPr id="1352" name=""/>
              <p:cNvGrpSpPr/>
              <p:nvPr/>
            </p:nvGrpSpPr>
            <p:grpSpPr>
              <a:xfrm>
                <a:off x="7581960" y="3048120"/>
                <a:ext cx="1905120" cy="468720"/>
                <a:chOff x="7581960" y="3048120"/>
                <a:chExt cx="1905120" cy="468720"/>
              </a:xfrm>
            </p:grpSpPr>
            <p:sp>
              <p:nvSpPr>
                <p:cNvPr id="1353" name=""/>
                <p:cNvSpPr/>
                <p:nvPr/>
              </p:nvSpPr>
              <p:spPr>
                <a:xfrm>
                  <a:off x="7581960" y="3048120"/>
                  <a:ext cx="152388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3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620120" y="3060720"/>
                  <a:ext cx="376200" cy="433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5" name=""/>
                <p:cNvSpPr/>
                <p:nvPr/>
              </p:nvSpPr>
              <p:spPr>
                <a:xfrm>
                  <a:off x="7962840" y="3060720"/>
                  <a:ext cx="1524240" cy="45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0000"/>
                      </a:solidFill>
                      <a:latin typeface="Times New Roman"/>
                    </a:rPr>
                    <a:t>J</a:t>
                  </a: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AV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Swing </a:t>
                  </a:r>
                  <a:r>
                    <a:rPr b="1" lang="en-US" sz="1400" spc="-1" strike="noStrike">
                      <a:solidFill>
                        <a:srgbClr val="990000"/>
                      </a:solidFill>
                      <a:latin typeface="Times New Roman"/>
                    </a:rPr>
                    <a:t>MV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6" name=""/>
              <p:cNvSpPr/>
              <p:nvPr/>
            </p:nvSpPr>
            <p:spPr>
              <a:xfrm flipH="1">
                <a:off x="6553080" y="327672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6781320" y="3505320"/>
              <a:ext cx="2324520" cy="472320"/>
              <a:chOff x="6781320" y="3505320"/>
              <a:chExt cx="2324520" cy="472320"/>
            </a:xfrm>
          </p:grpSpPr>
          <p:grpSp>
            <p:nvGrpSpPr>
              <p:cNvPr id="1358" name=""/>
              <p:cNvGrpSpPr/>
              <p:nvPr/>
            </p:nvGrpSpPr>
            <p:grpSpPr>
              <a:xfrm>
                <a:off x="7566120" y="3505320"/>
                <a:ext cx="1539720" cy="472320"/>
                <a:chOff x="7566120" y="3505320"/>
                <a:chExt cx="1539720" cy="47232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7581960" y="3505320"/>
                  <a:ext cx="152388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7566120" y="3517920"/>
                  <a:ext cx="1245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990000"/>
                      </a:solidFill>
                      <a:latin typeface="Webdings"/>
                      <a:ea typeface="Webdings"/>
                    </a:rPr>
                    <a:t>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Georgia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Garamond"/>
                    </a:rPr>
                    <a:t>Wek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1" name=""/>
              <p:cNvSpPr/>
              <p:nvPr/>
            </p:nvSpPr>
            <p:spPr>
              <a:xfrm flipH="1">
                <a:off x="6781320" y="377208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6553080" y="952560"/>
              <a:ext cx="2552760" cy="457200"/>
              <a:chOff x="6553080" y="952560"/>
              <a:chExt cx="2552760" cy="45720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7581960" y="952560"/>
                <a:ext cx="1523880" cy="457200"/>
                <a:chOff x="7581960" y="952560"/>
                <a:chExt cx="1523880" cy="45720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7581960" y="952560"/>
                  <a:ext cx="152388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5" name=""/>
                <p:cNvGrpSpPr/>
                <p:nvPr/>
              </p:nvGrpSpPr>
              <p:grpSpPr>
                <a:xfrm>
                  <a:off x="7607160" y="990720"/>
                  <a:ext cx="380880" cy="383760"/>
                  <a:chOff x="7607160" y="990720"/>
                  <a:chExt cx="380880" cy="383760"/>
                </a:xfrm>
              </p:grpSpPr>
              <p:sp>
                <p:nvSpPr>
                  <p:cNvPr id="1366" name=""/>
                  <p:cNvSpPr/>
                  <p:nvPr/>
                </p:nvSpPr>
                <p:spPr>
                  <a:xfrm>
                    <a:off x="7796520" y="990720"/>
                    <a:ext cx="191520" cy="286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cc33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67" name=""/>
                  <p:cNvGrpSpPr/>
                  <p:nvPr/>
                </p:nvGrpSpPr>
                <p:grpSpPr>
                  <a:xfrm>
                    <a:off x="7607160" y="1046160"/>
                    <a:ext cx="335160" cy="328320"/>
                    <a:chOff x="7607160" y="1046160"/>
                    <a:chExt cx="335160" cy="328320"/>
                  </a:xfrm>
                </p:grpSpPr>
                <p:grpSp>
                  <p:nvGrpSpPr>
                    <p:cNvPr id="1368" name=""/>
                    <p:cNvGrpSpPr/>
                    <p:nvPr/>
                  </p:nvGrpSpPr>
                  <p:grpSpPr>
                    <a:xfrm>
                      <a:off x="7798680" y="1221480"/>
                      <a:ext cx="143640" cy="153000"/>
                      <a:chOff x="7798680" y="1221480"/>
                      <a:chExt cx="143640" cy="153000"/>
                    </a:xfrm>
                  </p:grpSpPr>
                  <p:sp>
                    <p:nvSpPr>
                      <p:cNvPr id="1369" name=""/>
                      <p:cNvSpPr/>
                      <p:nvPr/>
                    </p:nvSpPr>
                    <p:spPr>
                      <a:xfrm>
                        <a:off x="7798680" y="1221480"/>
                        <a:ext cx="143640" cy="153000"/>
                      </a:xfrm>
                      <a:custGeom>
                        <a:avLst/>
                        <a:gdLst>
                          <a:gd name="textAreaLeft" fmla="*/ 38160 w 143640"/>
                          <a:gd name="textAreaRight" fmla="*/ 105480 w 143640"/>
                          <a:gd name="textAreaTop" fmla="*/ 40680 h 153000"/>
                          <a:gd name="textAreaBottom" fmla="*/ 112320 h 1530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3791" y="12162"/>
                            </a:lnTo>
                            <a:lnTo>
                              <a:pt x="786" y="14846"/>
                            </a:lnTo>
                            <a:lnTo>
                              <a:pt x="4812" y="14689"/>
                            </a:lnTo>
                            <a:lnTo>
                              <a:pt x="3163" y="18437"/>
                            </a:lnTo>
                            <a:lnTo>
                              <a:pt x="6807" y="16719"/>
                            </a:lnTo>
                            <a:lnTo>
                              <a:pt x="6580" y="20741"/>
                            </a:lnTo>
                            <a:lnTo>
                              <a:pt x="9316" y="17784"/>
                            </a:lnTo>
                            <a:lnTo>
                              <a:pt x="10800" y="21600"/>
                            </a:lnTo>
                            <a:lnTo>
                              <a:pt x="12162" y="17809"/>
                            </a:lnTo>
                            <a:lnTo>
                              <a:pt x="14846" y="20814"/>
                            </a:lnTo>
                            <a:lnTo>
                              <a:pt x="14689" y="16788"/>
                            </a:lnTo>
                            <a:lnTo>
                              <a:pt x="18437" y="18437"/>
                            </a:lnTo>
                            <a:lnTo>
                              <a:pt x="16719" y="14793"/>
                            </a:lnTo>
                            <a:lnTo>
                              <a:pt x="20741" y="15020"/>
                            </a:lnTo>
                            <a:lnTo>
                              <a:pt x="17784" y="12284"/>
                            </a:lnTo>
                            <a:lnTo>
                              <a:pt x="21600" y="10800"/>
                            </a:lnTo>
                            <a:lnTo>
                              <a:pt x="17809" y="9438"/>
                            </a:lnTo>
                            <a:lnTo>
                              <a:pt x="20814" y="6754"/>
                            </a:lnTo>
                            <a:lnTo>
                              <a:pt x="16788" y="6911"/>
                            </a:lnTo>
                            <a:lnTo>
                              <a:pt x="18437" y="3163"/>
                            </a:lnTo>
                            <a:lnTo>
                              <a:pt x="14793" y="4881"/>
                            </a:lnTo>
                            <a:lnTo>
                              <a:pt x="15020" y="859"/>
                            </a:lnTo>
                            <a:lnTo>
                              <a:pt x="12284" y="3816"/>
                            </a:lnTo>
                            <a:lnTo>
                              <a:pt x="10800" y="0"/>
                            </a:lnTo>
                            <a:lnTo>
                              <a:pt x="9438" y="3791"/>
                            </a:lnTo>
                            <a:lnTo>
                              <a:pt x="6754" y="786"/>
                            </a:lnTo>
                            <a:lnTo>
                              <a:pt x="6911" y="4812"/>
                            </a:lnTo>
                            <a:lnTo>
                              <a:pt x="3163" y="3163"/>
                            </a:lnTo>
                            <a:lnTo>
                              <a:pt x="4881" y="6807"/>
                            </a:lnTo>
                            <a:lnTo>
                              <a:pt x="859" y="6580"/>
                            </a:lnTo>
                            <a:lnTo>
                              <a:pt x="3816" y="9316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3366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840" bIns="24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0" name=""/>
                      <p:cNvSpPr/>
                      <p:nvPr/>
                    </p:nvSpPr>
                    <p:spPr>
                      <a:xfrm>
                        <a:off x="7855920" y="1283760"/>
                        <a:ext cx="28440" cy="284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6280" bIns="-26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71" name=""/>
                    <p:cNvGrpSpPr/>
                    <p:nvPr/>
                  </p:nvGrpSpPr>
                  <p:grpSpPr>
                    <a:xfrm>
                      <a:off x="7607160" y="1046160"/>
                      <a:ext cx="250560" cy="258120"/>
                      <a:chOff x="7607160" y="1046160"/>
                      <a:chExt cx="250560" cy="258120"/>
                    </a:xfrm>
                  </p:grpSpPr>
                  <p:sp>
                    <p:nvSpPr>
                      <p:cNvPr id="1372" name=""/>
                      <p:cNvSpPr/>
                      <p:nvPr/>
                    </p:nvSpPr>
                    <p:spPr>
                      <a:xfrm>
                        <a:off x="7607160" y="1046160"/>
                        <a:ext cx="250560" cy="258120"/>
                      </a:xfrm>
                      <a:custGeom>
                        <a:avLst/>
                        <a:gdLst>
                          <a:gd name="textAreaLeft" fmla="*/ 57240 w 250560"/>
                          <a:gd name="textAreaRight" fmla="*/ 193320 w 250560"/>
                          <a:gd name="textAreaTop" fmla="*/ 58680 h 258120"/>
                          <a:gd name="textAreaBottom" fmla="*/ 199440 h 2581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2562" y="11812"/>
                            </a:lnTo>
                            <a:lnTo>
                              <a:pt x="368" y="13595"/>
                            </a:lnTo>
                            <a:lnTo>
                              <a:pt x="3104" y="13909"/>
                            </a:lnTo>
                            <a:lnTo>
                              <a:pt x="1447" y="16200"/>
                            </a:lnTo>
                            <a:lnTo>
                              <a:pt x="4171" y="15795"/>
                            </a:lnTo>
                            <a:lnTo>
                              <a:pt x="3163" y="18437"/>
                            </a:lnTo>
                            <a:lnTo>
                              <a:pt x="5690" y="17340"/>
                            </a:lnTo>
                            <a:lnTo>
                              <a:pt x="5400" y="20153"/>
                            </a:lnTo>
                            <a:lnTo>
                              <a:pt x="7557" y="18440"/>
                            </a:lnTo>
                            <a:lnTo>
                              <a:pt x="8005" y="21232"/>
                            </a:lnTo>
                            <a:lnTo>
                              <a:pt x="9645" y="19019"/>
                            </a:lnTo>
                            <a:lnTo>
                              <a:pt x="10800" y="21600"/>
                            </a:lnTo>
                            <a:lnTo>
                              <a:pt x="11812" y="19038"/>
                            </a:lnTo>
                            <a:lnTo>
                              <a:pt x="13595" y="21232"/>
                            </a:lnTo>
                            <a:lnTo>
                              <a:pt x="13909" y="18496"/>
                            </a:lnTo>
                            <a:lnTo>
                              <a:pt x="16200" y="20153"/>
                            </a:lnTo>
                            <a:lnTo>
                              <a:pt x="15795" y="17429"/>
                            </a:lnTo>
                            <a:lnTo>
                              <a:pt x="18437" y="18437"/>
                            </a:lnTo>
                            <a:lnTo>
                              <a:pt x="17340" y="15910"/>
                            </a:lnTo>
                            <a:lnTo>
                              <a:pt x="20153" y="16200"/>
                            </a:lnTo>
                            <a:lnTo>
                              <a:pt x="18440" y="14043"/>
                            </a:lnTo>
                            <a:lnTo>
                              <a:pt x="21232" y="13595"/>
                            </a:lnTo>
                            <a:lnTo>
                              <a:pt x="19019" y="11955"/>
                            </a:lnTo>
                            <a:lnTo>
                              <a:pt x="21600" y="10800"/>
                            </a:lnTo>
                            <a:lnTo>
                              <a:pt x="19038" y="9788"/>
                            </a:lnTo>
                            <a:lnTo>
                              <a:pt x="21232" y="8005"/>
                            </a:lnTo>
                            <a:lnTo>
                              <a:pt x="18496" y="7691"/>
                            </a:lnTo>
                            <a:lnTo>
                              <a:pt x="20153" y="5400"/>
                            </a:lnTo>
                            <a:lnTo>
                              <a:pt x="17429" y="5805"/>
                            </a:lnTo>
                            <a:lnTo>
                              <a:pt x="18437" y="3163"/>
                            </a:lnTo>
                            <a:lnTo>
                              <a:pt x="15910" y="4260"/>
                            </a:lnTo>
                            <a:lnTo>
                              <a:pt x="16200" y="1447"/>
                            </a:lnTo>
                            <a:lnTo>
                              <a:pt x="14043" y="3160"/>
                            </a:lnTo>
                            <a:lnTo>
                              <a:pt x="13595" y="368"/>
                            </a:lnTo>
                            <a:lnTo>
                              <a:pt x="11955" y="2581"/>
                            </a:lnTo>
                            <a:lnTo>
                              <a:pt x="10800" y="0"/>
                            </a:lnTo>
                            <a:lnTo>
                              <a:pt x="9788" y="2562"/>
                            </a:lnTo>
                            <a:lnTo>
                              <a:pt x="8005" y="368"/>
                            </a:lnTo>
                            <a:lnTo>
                              <a:pt x="7691" y="3104"/>
                            </a:lnTo>
                            <a:lnTo>
                              <a:pt x="5400" y="1447"/>
                            </a:lnTo>
                            <a:lnTo>
                              <a:pt x="5805" y="4171"/>
                            </a:lnTo>
                            <a:lnTo>
                              <a:pt x="3163" y="3163"/>
                            </a:lnTo>
                            <a:lnTo>
                              <a:pt x="4260" y="5690"/>
                            </a:lnTo>
                            <a:lnTo>
                              <a:pt x="1447" y="5400"/>
                            </a:lnTo>
                            <a:lnTo>
                              <a:pt x="3160" y="7557"/>
                            </a:lnTo>
                            <a:lnTo>
                              <a:pt x="368" y="8005"/>
                            </a:lnTo>
                            <a:lnTo>
                              <a:pt x="2581" y="9645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3366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3" name=""/>
                      <p:cNvSpPr/>
                      <p:nvPr/>
                    </p:nvSpPr>
                    <p:spPr>
                      <a:xfrm>
                        <a:off x="7713360" y="1155960"/>
                        <a:ext cx="38160" cy="38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440" bIns="-19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374" name=""/>
                <p:cNvSpPr/>
                <p:nvPr/>
              </p:nvSpPr>
              <p:spPr>
                <a:xfrm>
                  <a:off x="7858800" y="965160"/>
                  <a:ext cx="12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Georgia"/>
                    </a:rPr>
                    <a:t>CORES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5" name=""/>
              <p:cNvSpPr/>
              <p:nvPr/>
            </p:nvSpPr>
            <p:spPr>
              <a:xfrm flipH="1">
                <a:off x="6553080" y="114300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6" name=""/>
            <p:cNvGrpSpPr/>
            <p:nvPr/>
          </p:nvGrpSpPr>
          <p:grpSpPr>
            <a:xfrm>
              <a:off x="6629400" y="4038480"/>
              <a:ext cx="2476440" cy="457200"/>
              <a:chOff x="6629400" y="4038480"/>
              <a:chExt cx="2476440" cy="457200"/>
            </a:xfrm>
          </p:grpSpPr>
          <p:grpSp>
            <p:nvGrpSpPr>
              <p:cNvPr id="1377" name=""/>
              <p:cNvGrpSpPr/>
              <p:nvPr/>
            </p:nvGrpSpPr>
            <p:grpSpPr>
              <a:xfrm>
                <a:off x="7581960" y="4038480"/>
                <a:ext cx="1523880" cy="457200"/>
                <a:chOff x="7581960" y="4038480"/>
                <a:chExt cx="1523880" cy="45720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7581960" y="4038480"/>
                  <a:ext cx="152388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37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620120" y="4051080"/>
                  <a:ext cx="376200" cy="433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0" name=""/>
                <p:cNvSpPr/>
                <p:nvPr/>
              </p:nvSpPr>
              <p:spPr>
                <a:xfrm>
                  <a:off x="8026560" y="4165200"/>
                  <a:ext cx="952200" cy="28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0000"/>
                      </a:solidFill>
                      <a:latin typeface="Times New Roman"/>
                    </a:rPr>
                    <a:t>J</a:t>
                  </a: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AV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1" name=""/>
              <p:cNvSpPr/>
              <p:nvPr/>
            </p:nvSpPr>
            <p:spPr>
              <a:xfrm flipH="1">
                <a:off x="6629400" y="426708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6400440" y="4495680"/>
              <a:ext cx="2705400" cy="457200"/>
              <a:chOff x="6400440" y="4495680"/>
              <a:chExt cx="2705400" cy="457200"/>
            </a:xfrm>
          </p:grpSpPr>
          <p:grpSp>
            <p:nvGrpSpPr>
              <p:cNvPr id="1383" name=""/>
              <p:cNvGrpSpPr/>
              <p:nvPr/>
            </p:nvGrpSpPr>
            <p:grpSpPr>
              <a:xfrm>
                <a:off x="7581960" y="4495680"/>
                <a:ext cx="1523880" cy="457200"/>
                <a:chOff x="7581960" y="4495680"/>
                <a:chExt cx="1523880" cy="45720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7581960" y="4495680"/>
                  <a:ext cx="152388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5" name=""/>
                <p:cNvGrpSpPr/>
                <p:nvPr/>
              </p:nvGrpSpPr>
              <p:grpSpPr>
                <a:xfrm>
                  <a:off x="7632720" y="4543200"/>
                  <a:ext cx="380880" cy="383760"/>
                  <a:chOff x="7632720" y="4543200"/>
                  <a:chExt cx="380880" cy="38376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>
                    <a:off x="7822080" y="4543200"/>
                    <a:ext cx="191520" cy="286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cc33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87" name=""/>
                  <p:cNvGrpSpPr/>
                  <p:nvPr/>
                </p:nvGrpSpPr>
                <p:grpSpPr>
                  <a:xfrm>
                    <a:off x="7632720" y="4598640"/>
                    <a:ext cx="334440" cy="328320"/>
                    <a:chOff x="7632720" y="4598640"/>
                    <a:chExt cx="334440" cy="328320"/>
                  </a:xfrm>
                </p:grpSpPr>
                <p:grpSp>
                  <p:nvGrpSpPr>
                    <p:cNvPr id="1388" name=""/>
                    <p:cNvGrpSpPr/>
                    <p:nvPr/>
                  </p:nvGrpSpPr>
                  <p:grpSpPr>
                    <a:xfrm>
                      <a:off x="7823880" y="4773960"/>
                      <a:ext cx="143280" cy="153000"/>
                      <a:chOff x="7823880" y="4773960"/>
                      <a:chExt cx="143280" cy="153000"/>
                    </a:xfrm>
                  </p:grpSpPr>
                  <p:sp>
                    <p:nvSpPr>
                      <p:cNvPr id="1389" name=""/>
                      <p:cNvSpPr/>
                      <p:nvPr/>
                    </p:nvSpPr>
                    <p:spPr>
                      <a:xfrm>
                        <a:off x="7823880" y="4773960"/>
                        <a:ext cx="143280" cy="153000"/>
                      </a:xfrm>
                      <a:custGeom>
                        <a:avLst/>
                        <a:gdLst>
                          <a:gd name="textAreaLeft" fmla="*/ 38160 w 143280"/>
                          <a:gd name="textAreaRight" fmla="*/ 105120 w 143280"/>
                          <a:gd name="textAreaTop" fmla="*/ 40680 h 153000"/>
                          <a:gd name="textAreaBottom" fmla="*/ 112320 h 1530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3791" y="12162"/>
                            </a:lnTo>
                            <a:lnTo>
                              <a:pt x="786" y="14846"/>
                            </a:lnTo>
                            <a:lnTo>
                              <a:pt x="4812" y="14689"/>
                            </a:lnTo>
                            <a:lnTo>
                              <a:pt x="3163" y="18437"/>
                            </a:lnTo>
                            <a:lnTo>
                              <a:pt x="6807" y="16719"/>
                            </a:lnTo>
                            <a:lnTo>
                              <a:pt x="6580" y="20741"/>
                            </a:lnTo>
                            <a:lnTo>
                              <a:pt x="9316" y="17784"/>
                            </a:lnTo>
                            <a:lnTo>
                              <a:pt x="10800" y="21600"/>
                            </a:lnTo>
                            <a:lnTo>
                              <a:pt x="12162" y="17809"/>
                            </a:lnTo>
                            <a:lnTo>
                              <a:pt x="14846" y="20814"/>
                            </a:lnTo>
                            <a:lnTo>
                              <a:pt x="14689" y="16788"/>
                            </a:lnTo>
                            <a:lnTo>
                              <a:pt x="18437" y="18437"/>
                            </a:lnTo>
                            <a:lnTo>
                              <a:pt x="16719" y="14793"/>
                            </a:lnTo>
                            <a:lnTo>
                              <a:pt x="20741" y="15020"/>
                            </a:lnTo>
                            <a:lnTo>
                              <a:pt x="17784" y="12284"/>
                            </a:lnTo>
                            <a:lnTo>
                              <a:pt x="21600" y="10800"/>
                            </a:lnTo>
                            <a:lnTo>
                              <a:pt x="17809" y="9438"/>
                            </a:lnTo>
                            <a:lnTo>
                              <a:pt x="20814" y="6754"/>
                            </a:lnTo>
                            <a:lnTo>
                              <a:pt x="16788" y="6911"/>
                            </a:lnTo>
                            <a:lnTo>
                              <a:pt x="18437" y="3163"/>
                            </a:lnTo>
                            <a:lnTo>
                              <a:pt x="14793" y="4881"/>
                            </a:lnTo>
                            <a:lnTo>
                              <a:pt x="15020" y="859"/>
                            </a:lnTo>
                            <a:lnTo>
                              <a:pt x="12284" y="3816"/>
                            </a:lnTo>
                            <a:lnTo>
                              <a:pt x="10800" y="0"/>
                            </a:lnTo>
                            <a:lnTo>
                              <a:pt x="9438" y="3791"/>
                            </a:lnTo>
                            <a:lnTo>
                              <a:pt x="6754" y="786"/>
                            </a:lnTo>
                            <a:lnTo>
                              <a:pt x="6911" y="4812"/>
                            </a:lnTo>
                            <a:lnTo>
                              <a:pt x="3163" y="3163"/>
                            </a:lnTo>
                            <a:lnTo>
                              <a:pt x="4881" y="6807"/>
                            </a:lnTo>
                            <a:lnTo>
                              <a:pt x="859" y="6580"/>
                            </a:lnTo>
                            <a:lnTo>
                              <a:pt x="3816" y="9316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3366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840" bIns="24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0" name=""/>
                      <p:cNvSpPr/>
                      <p:nvPr/>
                    </p:nvSpPr>
                    <p:spPr>
                      <a:xfrm>
                        <a:off x="7881120" y="4836240"/>
                        <a:ext cx="28440" cy="284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6280" bIns="-26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91" name=""/>
                    <p:cNvGrpSpPr/>
                    <p:nvPr/>
                  </p:nvGrpSpPr>
                  <p:grpSpPr>
                    <a:xfrm>
                      <a:off x="7632720" y="4598640"/>
                      <a:ext cx="250200" cy="258120"/>
                      <a:chOff x="7632720" y="4598640"/>
                      <a:chExt cx="250200" cy="258120"/>
                    </a:xfrm>
                  </p:grpSpPr>
                  <p:sp>
                    <p:nvSpPr>
                      <p:cNvPr id="1392" name=""/>
                      <p:cNvSpPr/>
                      <p:nvPr/>
                    </p:nvSpPr>
                    <p:spPr>
                      <a:xfrm>
                        <a:off x="7632720" y="4598640"/>
                        <a:ext cx="250200" cy="258120"/>
                      </a:xfrm>
                      <a:custGeom>
                        <a:avLst/>
                        <a:gdLst>
                          <a:gd name="textAreaLeft" fmla="*/ 56880 w 250200"/>
                          <a:gd name="textAreaRight" fmla="*/ 193320 w 250200"/>
                          <a:gd name="textAreaTop" fmla="*/ 58680 h 258120"/>
                          <a:gd name="textAreaBottom" fmla="*/ 199440 h 2581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2562" y="11812"/>
                            </a:lnTo>
                            <a:lnTo>
                              <a:pt x="368" y="13595"/>
                            </a:lnTo>
                            <a:lnTo>
                              <a:pt x="3104" y="13909"/>
                            </a:lnTo>
                            <a:lnTo>
                              <a:pt x="1447" y="16200"/>
                            </a:lnTo>
                            <a:lnTo>
                              <a:pt x="4171" y="15795"/>
                            </a:lnTo>
                            <a:lnTo>
                              <a:pt x="3163" y="18437"/>
                            </a:lnTo>
                            <a:lnTo>
                              <a:pt x="5690" y="17340"/>
                            </a:lnTo>
                            <a:lnTo>
                              <a:pt x="5400" y="20153"/>
                            </a:lnTo>
                            <a:lnTo>
                              <a:pt x="7557" y="18440"/>
                            </a:lnTo>
                            <a:lnTo>
                              <a:pt x="8005" y="21232"/>
                            </a:lnTo>
                            <a:lnTo>
                              <a:pt x="9645" y="19019"/>
                            </a:lnTo>
                            <a:lnTo>
                              <a:pt x="10800" y="21600"/>
                            </a:lnTo>
                            <a:lnTo>
                              <a:pt x="11812" y="19038"/>
                            </a:lnTo>
                            <a:lnTo>
                              <a:pt x="13595" y="21232"/>
                            </a:lnTo>
                            <a:lnTo>
                              <a:pt x="13909" y="18496"/>
                            </a:lnTo>
                            <a:lnTo>
                              <a:pt x="16200" y="20153"/>
                            </a:lnTo>
                            <a:lnTo>
                              <a:pt x="15795" y="17429"/>
                            </a:lnTo>
                            <a:lnTo>
                              <a:pt x="18437" y="18437"/>
                            </a:lnTo>
                            <a:lnTo>
                              <a:pt x="17340" y="15910"/>
                            </a:lnTo>
                            <a:lnTo>
                              <a:pt x="20153" y="16200"/>
                            </a:lnTo>
                            <a:lnTo>
                              <a:pt x="18440" y="14043"/>
                            </a:lnTo>
                            <a:lnTo>
                              <a:pt x="21232" y="13595"/>
                            </a:lnTo>
                            <a:lnTo>
                              <a:pt x="19019" y="11955"/>
                            </a:lnTo>
                            <a:lnTo>
                              <a:pt x="21600" y="10800"/>
                            </a:lnTo>
                            <a:lnTo>
                              <a:pt x="19038" y="9788"/>
                            </a:lnTo>
                            <a:lnTo>
                              <a:pt x="21232" y="8005"/>
                            </a:lnTo>
                            <a:lnTo>
                              <a:pt x="18496" y="7691"/>
                            </a:lnTo>
                            <a:lnTo>
                              <a:pt x="20153" y="5400"/>
                            </a:lnTo>
                            <a:lnTo>
                              <a:pt x="17429" y="5805"/>
                            </a:lnTo>
                            <a:lnTo>
                              <a:pt x="18437" y="3163"/>
                            </a:lnTo>
                            <a:lnTo>
                              <a:pt x="15910" y="4260"/>
                            </a:lnTo>
                            <a:lnTo>
                              <a:pt x="16200" y="1447"/>
                            </a:lnTo>
                            <a:lnTo>
                              <a:pt x="14043" y="3160"/>
                            </a:lnTo>
                            <a:lnTo>
                              <a:pt x="13595" y="368"/>
                            </a:lnTo>
                            <a:lnTo>
                              <a:pt x="11955" y="2581"/>
                            </a:lnTo>
                            <a:lnTo>
                              <a:pt x="10800" y="0"/>
                            </a:lnTo>
                            <a:lnTo>
                              <a:pt x="9788" y="2562"/>
                            </a:lnTo>
                            <a:lnTo>
                              <a:pt x="8005" y="368"/>
                            </a:lnTo>
                            <a:lnTo>
                              <a:pt x="7691" y="3104"/>
                            </a:lnTo>
                            <a:lnTo>
                              <a:pt x="5400" y="1447"/>
                            </a:lnTo>
                            <a:lnTo>
                              <a:pt x="5805" y="4171"/>
                            </a:lnTo>
                            <a:lnTo>
                              <a:pt x="3163" y="3163"/>
                            </a:lnTo>
                            <a:lnTo>
                              <a:pt x="4260" y="5690"/>
                            </a:lnTo>
                            <a:lnTo>
                              <a:pt x="1447" y="5400"/>
                            </a:lnTo>
                            <a:lnTo>
                              <a:pt x="3160" y="7557"/>
                            </a:lnTo>
                            <a:lnTo>
                              <a:pt x="368" y="8005"/>
                            </a:lnTo>
                            <a:lnTo>
                              <a:pt x="2581" y="9645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3366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3" name=""/>
                      <p:cNvSpPr/>
                      <p:nvPr/>
                    </p:nvSpPr>
                    <p:spPr>
                      <a:xfrm>
                        <a:off x="7738560" y="4708440"/>
                        <a:ext cx="38160" cy="38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440" bIns="-19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394" name=""/>
                <p:cNvSpPr/>
                <p:nvPr/>
              </p:nvSpPr>
              <p:spPr>
                <a:xfrm>
                  <a:off x="7884360" y="4517640"/>
                  <a:ext cx="12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Georgia"/>
                    </a:rPr>
                    <a:t>CORES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"/>
              <p:cNvSpPr/>
              <p:nvPr/>
            </p:nvSpPr>
            <p:spPr>
              <a:xfrm flipH="1">
                <a:off x="6400440" y="472428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6" name=""/>
          <p:cNvGrpSpPr/>
          <p:nvPr/>
        </p:nvGrpSpPr>
        <p:grpSpPr>
          <a:xfrm>
            <a:off x="1600200" y="1219320"/>
            <a:ext cx="7315200" cy="3200400"/>
            <a:chOff x="1600200" y="1219320"/>
            <a:chExt cx="7315200" cy="3200400"/>
          </a:xfrm>
        </p:grpSpPr>
        <p:sp>
          <p:nvSpPr>
            <p:cNvPr id="1397" name=""/>
            <p:cNvSpPr/>
            <p:nvPr/>
          </p:nvSpPr>
          <p:spPr>
            <a:xfrm>
              <a:off x="1600200" y="1270080"/>
              <a:ext cx="7238880" cy="3149640"/>
            </a:xfrm>
            <a:prstGeom prst="foldedCorner">
              <a:avLst>
                <a:gd name="adj" fmla="val 436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601640" y="1219320"/>
              <a:ext cx="210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Sabas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t al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9" name="" descr=""/>
            <p:cNvPicPr/>
            <p:nvPr/>
          </p:nvPicPr>
          <p:blipFill>
            <a:blip r:embed="rId5"/>
            <a:stretch/>
          </p:blipFill>
          <p:spPr>
            <a:xfrm>
              <a:off x="7543800" y="1371960"/>
              <a:ext cx="12193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0" name=""/>
            <p:cNvSpPr/>
            <p:nvPr/>
          </p:nvSpPr>
          <p:spPr>
            <a:xfrm>
              <a:off x="1600200" y="1698840"/>
              <a:ext cx="73152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chnology Dimen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Asynchronous / Multi-threa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GUI: adaptation by machine lear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Programming: object-oriented + Agent API &amp; platfo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Application: information management and integ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Environment: JADE + CORESE + WEKA + XALAN + XERCES + SIRPAC + NOT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1" name="">
            <a:hlinkClick r:id="rId6" action="ppaction://hlinksldjump"/>
          </p:cNvPr>
          <p:cNvSpPr/>
          <p:nvPr/>
        </p:nvSpPr>
        <p:spPr>
          <a:xfrm>
            <a:off x="152280" y="6019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4309" y="10800"/>
                </a:moveTo>
                <a:lnTo>
                  <a:pt x="3804" y="17806"/>
                </a:lnTo>
                <a:lnTo>
                  <a:pt x="3804" y="3794"/>
                </a:lnTo>
                <a:close/>
              </a:path>
              <a:path fill="darken" w="21620" h="21600">
                <a:moveTo>
                  <a:pt x="16154" y="3794"/>
                </a:moveTo>
                <a:lnTo>
                  <a:pt x="16154" y="17806"/>
                </a:lnTo>
                <a:lnTo>
                  <a:pt x="17817" y="17806"/>
                </a:lnTo>
                <a:lnTo>
                  <a:pt x="17817" y="3794"/>
                </a:lnTo>
                <a:close/>
              </a:path>
            </a:pathLst>
          </a:cu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BD53-3541-42F9-933C-9A8630E7B2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ubmitting an annotation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03" name="" descr=""/>
          <p:cNvPicPr/>
          <p:nvPr/>
        </p:nvPicPr>
        <p:blipFill>
          <a:blip r:embed="rId2"/>
          <a:stretch/>
        </p:blipFill>
        <p:spPr>
          <a:xfrm>
            <a:off x="662040" y="0"/>
            <a:ext cx="8481960" cy="5483160"/>
          </a:xfrm>
          <a:prstGeom prst="rect">
            <a:avLst/>
          </a:prstGeom>
          <a:ln w="0">
            <a:noFill/>
          </a:ln>
        </p:spPr>
      </p:pic>
      <p:sp>
        <p:nvSpPr>
          <p:cNvPr id="1404" name=""/>
          <p:cNvSpPr/>
          <p:nvPr/>
        </p:nvSpPr>
        <p:spPr>
          <a:xfrm>
            <a:off x="266760" y="5410080"/>
            <a:ext cx="8877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82760" indent="-444600">
              <a:lnSpc>
                <a:spcPct val="10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Interface Agent: ontology-guided ann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463E0-3ABF-4720-ADAC-A8B59018C05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nnotation Message Passing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06" name="" descr=""/>
          <p:cNvPicPr/>
          <p:nvPr/>
        </p:nvPicPr>
        <p:blipFill>
          <a:blip r:embed="rId2"/>
          <a:stretch/>
        </p:blipFill>
        <p:spPr>
          <a:xfrm>
            <a:off x="1463760" y="0"/>
            <a:ext cx="7680240" cy="6107040"/>
          </a:xfrm>
          <a:prstGeom prst="rect">
            <a:avLst/>
          </a:prstGeom>
          <a:ln w="0">
            <a:noFill/>
          </a:ln>
        </p:spPr>
      </p:pic>
      <p:sp>
        <p:nvSpPr>
          <p:cNvPr id="1407" name=""/>
          <p:cNvSpPr/>
          <p:nvPr/>
        </p:nvSpPr>
        <p:spPr>
          <a:xfrm>
            <a:off x="266760" y="6019920"/>
            <a:ext cx="8877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82760" indent="-44460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emantic pseudo distance for contract-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F342-6EA2-4392-8884-4B59E769A7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Querying the corporate semantic web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2"/>
          <a:stretch/>
        </p:blipFill>
        <p:spPr>
          <a:xfrm>
            <a:off x="1208160" y="0"/>
            <a:ext cx="7935840" cy="5522760"/>
          </a:xfrm>
          <a:prstGeom prst="rect">
            <a:avLst/>
          </a:prstGeom>
          <a:ln w="0">
            <a:noFill/>
          </a:ln>
        </p:spPr>
      </p:pic>
      <p:sp>
        <p:nvSpPr>
          <p:cNvPr id="1410" name=""/>
          <p:cNvSpPr/>
          <p:nvPr/>
        </p:nvSpPr>
        <p:spPr>
          <a:xfrm>
            <a:off x="266760" y="5715000"/>
            <a:ext cx="8877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82760" indent="-444600">
              <a:lnSpc>
                <a:spcPct val="10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Interface Agent: ontology-guided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127C3-7D8B-42B7-A9BA-88859BB0EC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Query Message Passing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12" name="" descr=""/>
          <p:cNvPicPr/>
          <p:nvPr/>
        </p:nvPicPr>
        <p:blipFill>
          <a:blip r:embed="rId2"/>
          <a:stretch/>
        </p:blipFill>
        <p:spPr>
          <a:xfrm>
            <a:off x="1463760" y="0"/>
            <a:ext cx="7680240" cy="6107040"/>
          </a:xfrm>
          <a:prstGeom prst="rect">
            <a:avLst/>
          </a:prstGeom>
          <a:ln w="0">
            <a:noFill/>
          </a:ln>
        </p:spPr>
      </p:pic>
      <p:sp>
        <p:nvSpPr>
          <p:cNvPr id="1413" name=""/>
          <p:cNvSpPr/>
          <p:nvPr/>
        </p:nvSpPr>
        <p:spPr>
          <a:xfrm>
            <a:off x="266760" y="6045120"/>
            <a:ext cx="8877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82760" indent="-44460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Multi-stage Query-R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05DC-2A0F-4AB4-B0C4-D4E1F2A62A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nclusion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253800" y="990720"/>
            <a:ext cx="8839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gent Approach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plex software wrapping (not too concerne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16" name="Winner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1563840"/>
          </a:xfrm>
          <a:prstGeom prst="rect">
            <a:avLst/>
          </a:prstGeom>
          <a:ln w="0">
            <a:noFill/>
          </a:ln>
        </p:spPr>
      </p:pic>
      <p:sp>
        <p:nvSpPr>
          <p:cNvPr id="1417" name=""/>
          <p:cNvSpPr/>
          <p:nvPr/>
        </p:nvSpPr>
        <p:spPr>
          <a:xfrm>
            <a:off x="25416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920160" indent="-27396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gration and flexibility (agent + ont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3320" indent="-426600">
              <a:lnSpc>
                <a:spcPct val="10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rganizational approach &amp; JADE (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160" indent="-27396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t a formal approach; a perspective could be to try to formally validate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3320" indent="-426600">
              <a:lnSpc>
                <a:spcPct val="10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trial is fin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160" indent="-27396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rgonomics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160" indent="-27396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plete solution evaluation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160" indent="-27396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ability and Usefulness recogn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160" indent="-27396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dustrial interest in the dvpnt of the prot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8" name=""/>
          <p:cNvGrpSpPr/>
          <p:nvPr/>
        </p:nvGrpSpPr>
        <p:grpSpPr>
          <a:xfrm>
            <a:off x="1676520" y="2133720"/>
            <a:ext cx="7315200" cy="2514600"/>
            <a:chOff x="1676520" y="2133720"/>
            <a:chExt cx="7315200" cy="2514600"/>
          </a:xfrm>
        </p:grpSpPr>
        <p:sp>
          <p:nvSpPr>
            <p:cNvPr id="1419" name=""/>
            <p:cNvSpPr/>
            <p:nvPr/>
          </p:nvSpPr>
          <p:spPr>
            <a:xfrm>
              <a:off x="1676520" y="2184480"/>
              <a:ext cx="7238880" cy="2463840"/>
            </a:xfrm>
            <a:prstGeom prst="foldedCorner">
              <a:avLst>
                <a:gd name="adj" fmla="val 436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678320" y="2133720"/>
              <a:ext cx="251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Bergenti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t al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1" name="" descr=""/>
            <p:cNvPicPr/>
            <p:nvPr/>
          </p:nvPicPr>
          <p:blipFill>
            <a:blip r:embed="rId3"/>
            <a:stretch/>
          </p:blipFill>
          <p:spPr>
            <a:xfrm>
              <a:off x="7620120" y="2286000"/>
              <a:ext cx="12193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2" name=""/>
            <p:cNvSpPr/>
            <p:nvPr/>
          </p:nvSpPr>
          <p:spPr>
            <a:xfrm>
              <a:off x="1676520" y="2612880"/>
              <a:ext cx="73152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lex (multi-recursive) algorith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too much classes and methods invol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keep the code read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two threads and reify the dialog between them: synchronized objet playing the role of an autom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4A0B-9FAD-439F-96D5-09A3C3C759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That's all folks !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2666880" y="1905120"/>
            <a:ext cx="518184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50000">
                      <a:srgbClr val="ffffff"/>
                    </a:gs>
                    <a:gs pos="100000">
                      <a:srgbClr val="cc3300"/>
                    </a:gs>
                  </a:gsLst>
                  <a:lin ang="13500000"/>
                </a:gradFill>
                <a:latin typeface="Impact"/>
              </a:rPr>
              <a:t>Thank you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56C8E-740D-4D6B-8778-629C1EF392F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Why ? Who ? Where ? When ?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-43992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Why 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w Employee inser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chnology Monitoring suppor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77720" indent="-43992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Who ?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&amp;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OS - Origin (Franc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SELT - Telecom Italia (Italie)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begin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STB (France)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RMM - University of Montpelli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-Nova - Deutsch Telekom (German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niversity of Parma (Ital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jet ACACIA - INRIA Sophia Antipol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77720" indent="-43992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When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e February 2000 à February 2002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3EFE-4BD9-4301-98D1-F7705AEC0E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How ?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3800" y="0"/>
            <a:ext cx="883908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34160" indent="-39996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How 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862560" indent="-2566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rporate memories as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heterogeneous and distribute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nformation landscap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62560" indent="-2566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akeholders are a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heterogeneous and distribute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opul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62560" indent="-2566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ploitation of CM involves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heterogeneou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and distribute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ask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20840" y="3429000"/>
            <a:ext cx="7314840" cy="609480"/>
            <a:chOff x="1320840" y="3429000"/>
            <a:chExt cx="7314840" cy="609480"/>
          </a:xfrm>
        </p:grpSpPr>
        <p:grpSp>
          <p:nvGrpSpPr>
            <p:cNvPr id="99" name=""/>
            <p:cNvGrpSpPr/>
            <p:nvPr/>
          </p:nvGrpSpPr>
          <p:grpSpPr>
            <a:xfrm>
              <a:off x="1320840" y="3429000"/>
              <a:ext cx="7314840" cy="533160"/>
              <a:chOff x="1320840" y="3429000"/>
              <a:chExt cx="7314840" cy="533160"/>
            </a:xfrm>
          </p:grpSpPr>
          <p:sp>
            <p:nvSpPr>
              <p:cNvPr id="100" name=""/>
              <p:cNvSpPr/>
              <p:nvPr/>
            </p:nvSpPr>
            <p:spPr>
              <a:xfrm>
                <a:off x="1320840" y="3429000"/>
                <a:ext cx="3658320" cy="5331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979160" y="3429000"/>
                <a:ext cx="3656520" cy="5331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1473480" y="34290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marL="482760" indent="-44460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 u="sng">
                  <a:solidFill>
                    <a:srgbClr val="000000"/>
                  </a:solidFill>
                  <a:uFillTx/>
                  <a:latin typeface="Georgia"/>
                </a:rPr>
                <a:t>CM Materialization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68960" y="3429000"/>
              <a:ext cx="3035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marL="482760" indent="-44460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 u="sng">
                  <a:solidFill>
                    <a:srgbClr val="000000"/>
                  </a:solidFill>
                  <a:uFillTx/>
                  <a:latin typeface="Georgia"/>
                </a:rPr>
                <a:t>CM Exploitation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320840" y="3962520"/>
            <a:ext cx="7315200" cy="2132280"/>
            <a:chOff x="1320840" y="3962520"/>
            <a:chExt cx="7315200" cy="2132280"/>
          </a:xfrm>
        </p:grpSpPr>
        <p:sp>
          <p:nvSpPr>
            <p:cNvPr id="105" name=""/>
            <p:cNvSpPr/>
            <p:nvPr/>
          </p:nvSpPr>
          <p:spPr>
            <a:xfrm>
              <a:off x="1320840" y="3962520"/>
              <a:ext cx="3657600" cy="213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78440" y="3962520"/>
              <a:ext cx="3657600" cy="213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295280" y="3936960"/>
            <a:ext cx="36068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88280" indent="-1882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XML: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Standard, Structure, Extend, Validation,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8280" indent="-1882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RDF: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Annotation,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924360"/>
            <a:ext cx="381024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86480" indent="-1864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Multi-Agent System: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Modularity, Distributed,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6480" indent="-1864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Machine Learning: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Adap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2209-694A-473C-89EF-8FD100AA23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verall Schema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919080" y="380880"/>
            <a:ext cx="7772400" cy="4380120"/>
            <a:chOff x="919080" y="380880"/>
            <a:chExt cx="7772400" cy="4380120"/>
          </a:xfrm>
        </p:grpSpPr>
        <p:sp>
          <p:nvSpPr>
            <p:cNvPr id="111" name=""/>
            <p:cNvSpPr/>
            <p:nvPr/>
          </p:nvSpPr>
          <p:spPr>
            <a:xfrm>
              <a:off x="919080" y="3808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4035240" y="460440"/>
              <a:ext cx="1657080" cy="4181400"/>
              <a:chOff x="4035240" y="460440"/>
              <a:chExt cx="1657080" cy="4181400"/>
            </a:xfrm>
          </p:grpSpPr>
          <p:sp>
            <p:nvSpPr>
              <p:cNvPr id="113" name=""/>
              <p:cNvSpPr/>
              <p:nvPr/>
            </p:nvSpPr>
            <p:spPr>
              <a:xfrm>
                <a:off x="4035240" y="6192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194000" y="4604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725480" y="1814400"/>
              <a:ext cx="6532560" cy="995400"/>
              <a:chOff x="1725480" y="1814400"/>
              <a:chExt cx="6532560" cy="995400"/>
            </a:xfrm>
          </p:grpSpPr>
          <p:sp>
            <p:nvSpPr>
              <p:cNvPr id="116" name=""/>
              <p:cNvSpPr/>
              <p:nvPr/>
            </p:nvSpPr>
            <p:spPr>
              <a:xfrm>
                <a:off x="1725480" y="19000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539040" y="18144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595840" y="19861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47800" y="24764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41640" y="20368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1" name="agent" descr=""/>
              <p:cNvPicPr/>
              <p:nvPr/>
            </p:nvPicPr>
            <p:blipFill>
              <a:blip r:embed="rId2"/>
              <a:stretch/>
            </p:blipFill>
            <p:spPr>
              <a:xfrm>
                <a:off x="1914480" y="21272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22" name=""/>
              <p:cNvGrpSpPr/>
              <p:nvPr/>
            </p:nvGrpSpPr>
            <p:grpSpPr>
              <a:xfrm>
                <a:off x="5692680" y="2133720"/>
                <a:ext cx="908280" cy="636120"/>
                <a:chOff x="5692680" y="2133720"/>
                <a:chExt cx="908280" cy="6361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692680" y="24937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4" name="agent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968800" y="21337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125" name=""/>
              <p:cNvSpPr/>
              <p:nvPr/>
            </p:nvSpPr>
            <p:spPr>
              <a:xfrm>
                <a:off x="4035600" y="19018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3054240" y="21780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2773440" y="25322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00960" y="25290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74000" y="20890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0" name="agent" descr=""/>
              <p:cNvPicPr/>
              <p:nvPr/>
            </p:nvPicPr>
            <p:blipFill>
              <a:blip r:embed="rId5"/>
              <a:stretch/>
            </p:blipFill>
            <p:spPr>
              <a:xfrm>
                <a:off x="6846840" y="21798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31" name=""/>
              <p:cNvGrpSpPr/>
              <p:nvPr/>
            </p:nvGrpSpPr>
            <p:grpSpPr>
              <a:xfrm>
                <a:off x="3562560" y="1946160"/>
                <a:ext cx="907920" cy="635040"/>
                <a:chOff x="3562560" y="1946160"/>
                <a:chExt cx="907920" cy="635040"/>
              </a:xfrm>
            </p:grpSpPr>
            <p:pic>
              <p:nvPicPr>
                <p:cNvPr id="132" name="agent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838680" y="19461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>
                  <a:off x="3562560" y="23047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4" name=""/>
          <p:cNvGrpSpPr/>
          <p:nvPr/>
        </p:nvGrpSpPr>
        <p:grpSpPr>
          <a:xfrm>
            <a:off x="1076400" y="2849400"/>
            <a:ext cx="1101240" cy="1552680"/>
            <a:chOff x="1076400" y="2849400"/>
            <a:chExt cx="1101240" cy="1552680"/>
          </a:xfrm>
        </p:grpSpPr>
        <p:sp>
          <p:nvSpPr>
            <p:cNvPr id="135" name=""/>
            <p:cNvSpPr/>
            <p:nvPr/>
          </p:nvSpPr>
          <p:spPr>
            <a:xfrm>
              <a:off x="1076400" y="380520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747800" y="2849400"/>
              <a:ext cx="429840" cy="1181160"/>
              <a:chOff x="1747800" y="2849400"/>
              <a:chExt cx="429840" cy="118116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1747800" y="2849400"/>
                <a:ext cx="210960" cy="97920"/>
                <a:chOff x="1747800" y="2849400"/>
                <a:chExt cx="210960" cy="979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747800" y="292320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799640" y="285984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72360" y="284940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912680" y="288684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1822320" y="2919240"/>
                <a:ext cx="355320" cy="1111320"/>
                <a:chOff x="1822320" y="2919240"/>
                <a:chExt cx="355320" cy="11113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886400" y="310212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014200" y="291924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2320" y="331812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938960" y="330624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899360" y="356688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009880" y="356688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49" name="ampoule" descr=""/>
              <p:cNvPicPr/>
              <p:nvPr/>
            </p:nvPicPr>
            <p:blipFill>
              <a:blip r:embed="rId7"/>
              <a:stretch/>
            </p:blipFill>
            <p:spPr>
              <a:xfrm>
                <a:off x="1787040" y="291060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0" name=""/>
          <p:cNvGrpSpPr/>
          <p:nvPr/>
        </p:nvGrpSpPr>
        <p:grpSpPr>
          <a:xfrm>
            <a:off x="998640" y="460440"/>
            <a:ext cx="1774800" cy="1433520"/>
            <a:chOff x="998640" y="460440"/>
            <a:chExt cx="1774800" cy="1433520"/>
          </a:xfrm>
        </p:grpSpPr>
        <p:sp>
          <p:nvSpPr>
            <p:cNvPr id="151" name=""/>
            <p:cNvSpPr/>
            <p:nvPr/>
          </p:nvSpPr>
          <p:spPr>
            <a:xfrm>
              <a:off x="998640" y="153504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thor and/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notator of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550880" y="460440"/>
              <a:ext cx="789120" cy="1231920"/>
              <a:chOff x="1550880" y="460440"/>
              <a:chExt cx="789120" cy="123192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1826280" y="908280"/>
                <a:ext cx="477360" cy="784080"/>
                <a:chOff x="1826280" y="908280"/>
                <a:chExt cx="477360" cy="7840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2035440" y="116892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078640" y="141552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910880" y="140184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826280" y="116964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46320" y="90828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991520" y="95184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1837080" y="460440"/>
                <a:ext cx="236520" cy="239040"/>
                <a:chOff x="1837080" y="460440"/>
                <a:chExt cx="236520" cy="2390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837080" y="46044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2" name="doc_0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864080" y="48204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163" name=""/>
              <p:cNvGrpSpPr/>
              <p:nvPr/>
            </p:nvGrpSpPr>
            <p:grpSpPr>
              <a:xfrm>
                <a:off x="1550880" y="583920"/>
                <a:ext cx="255240" cy="278640"/>
                <a:chOff x="1550880" y="583920"/>
                <a:chExt cx="255240" cy="2786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550880" y="58392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5" name="doc_0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59160" y="60264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6" name=""/>
              <p:cNvGrpSpPr/>
              <p:nvPr/>
            </p:nvGrpSpPr>
            <p:grpSpPr>
              <a:xfrm>
                <a:off x="1708560" y="902880"/>
                <a:ext cx="204120" cy="245160"/>
                <a:chOff x="1708560" y="902880"/>
                <a:chExt cx="204120" cy="2451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708560" y="90288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8" name="doc_0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729080" y="91944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9" name=""/>
              <p:cNvGrpSpPr/>
              <p:nvPr/>
            </p:nvGrpSpPr>
            <p:grpSpPr>
              <a:xfrm>
                <a:off x="2103120" y="623880"/>
                <a:ext cx="236880" cy="278640"/>
                <a:chOff x="2103120" y="623880"/>
                <a:chExt cx="236880" cy="278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103120" y="62388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71" name="doc_05gif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108520" y="65736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72" name=""/>
          <p:cNvGrpSpPr/>
          <p:nvPr/>
        </p:nvGrpSpPr>
        <p:grpSpPr>
          <a:xfrm>
            <a:off x="7270920" y="3606840"/>
            <a:ext cx="1106280" cy="1193760"/>
            <a:chOff x="7270920" y="3606840"/>
            <a:chExt cx="1106280" cy="1193760"/>
          </a:xfrm>
        </p:grpSpPr>
        <p:sp>
          <p:nvSpPr>
            <p:cNvPr id="173" name=""/>
            <p:cNvSpPr/>
            <p:nvPr/>
          </p:nvSpPr>
          <p:spPr>
            <a:xfrm>
              <a:off x="7270920" y="455292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7429320" y="3686040"/>
              <a:ext cx="430200" cy="903600"/>
              <a:chOff x="7429320" y="3686040"/>
              <a:chExt cx="430200" cy="903600"/>
            </a:xfrm>
          </p:grpSpPr>
          <p:sp>
            <p:nvSpPr>
              <p:cNvPr id="175" name=""/>
              <p:cNvSpPr/>
              <p:nvPr/>
            </p:nvSpPr>
            <p:spPr>
              <a:xfrm flipH="1">
                <a:off x="7553880" y="373644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7665120" y="368604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7575480" y="394812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7474320" y="395640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7428960" y="421488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7608960" y="421416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862760" y="3606840"/>
              <a:ext cx="473400" cy="396720"/>
              <a:chOff x="7862760" y="3606840"/>
              <a:chExt cx="473400" cy="396720"/>
            </a:xfrm>
          </p:grpSpPr>
          <p:sp>
            <p:nvSpPr>
              <p:cNvPr id="182" name=""/>
              <p:cNvSpPr/>
              <p:nvPr/>
            </p:nvSpPr>
            <p:spPr>
              <a:xfrm>
                <a:off x="7862760" y="360684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3" name="inter" descr=""/>
              <p:cNvPicPr/>
              <p:nvPr/>
            </p:nvPicPr>
            <p:blipFill>
              <a:blip r:embed="rId12"/>
              <a:stretch/>
            </p:blipFill>
            <p:spPr>
              <a:xfrm>
                <a:off x="7979040" y="36770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4" name=""/>
          <p:cNvGrpSpPr/>
          <p:nvPr/>
        </p:nvGrpSpPr>
        <p:grpSpPr>
          <a:xfrm>
            <a:off x="2340000" y="871560"/>
            <a:ext cx="1617120" cy="903240"/>
            <a:chOff x="2340000" y="871560"/>
            <a:chExt cx="1617120" cy="903240"/>
          </a:xfrm>
        </p:grpSpPr>
        <p:pic>
          <p:nvPicPr>
            <p:cNvPr id="185" name="" descr=""/>
            <p:cNvPicPr/>
            <p:nvPr/>
          </p:nvPicPr>
          <p:blipFill>
            <a:blip r:embed="rId13"/>
            <a:stretch/>
          </p:blipFill>
          <p:spPr>
            <a:xfrm>
              <a:off x="2340000" y="1347840"/>
              <a:ext cx="23616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"/>
            <p:cNvGrpSpPr/>
            <p:nvPr/>
          </p:nvGrpSpPr>
          <p:grpSpPr>
            <a:xfrm>
              <a:off x="2615760" y="871560"/>
              <a:ext cx="1025280" cy="903240"/>
              <a:chOff x="2615760" y="871560"/>
              <a:chExt cx="1025280" cy="903240"/>
            </a:xfrm>
          </p:grpSpPr>
          <p:sp>
            <p:nvSpPr>
              <p:cNvPr id="187" name=""/>
              <p:cNvSpPr/>
              <p:nvPr/>
            </p:nvSpPr>
            <p:spPr>
              <a:xfrm>
                <a:off x="2615760" y="1137600"/>
                <a:ext cx="102528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615760" y="871560"/>
                <a:ext cx="102528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633400" y="1140480"/>
                <a:ext cx="10072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009960" y="137304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92440" y="90216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2" name="" descr=""/>
            <p:cNvPicPr/>
            <p:nvPr/>
          </p:nvPicPr>
          <p:blipFill>
            <a:blip r:embed="rId16"/>
            <a:stretch/>
          </p:blipFill>
          <p:spPr>
            <a:xfrm>
              <a:off x="3720600" y="1336680"/>
              <a:ext cx="23652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5613480" y="3646440"/>
            <a:ext cx="1697040" cy="995400"/>
            <a:chOff x="5613480" y="3646440"/>
            <a:chExt cx="1697040" cy="995400"/>
          </a:xfrm>
        </p:grpSpPr>
        <p:pic>
          <p:nvPicPr>
            <p:cNvPr id="194" name="" descr=""/>
            <p:cNvPicPr/>
            <p:nvPr/>
          </p:nvPicPr>
          <p:blipFill>
            <a:blip r:embed="rId17"/>
            <a:stretch/>
          </p:blipFill>
          <p:spPr>
            <a:xfrm>
              <a:off x="5613480" y="412416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18"/>
            <a:stretch/>
          </p:blipFill>
          <p:spPr>
            <a:xfrm>
              <a:off x="7074000" y="412416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6" name=""/>
            <p:cNvGrpSpPr/>
            <p:nvPr/>
          </p:nvGrpSpPr>
          <p:grpSpPr>
            <a:xfrm>
              <a:off x="5889600" y="3646440"/>
              <a:ext cx="1104840" cy="995400"/>
              <a:chOff x="5889600" y="3646440"/>
              <a:chExt cx="1104840" cy="99540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889600" y="3646440"/>
                <a:ext cx="1026000" cy="902880"/>
                <a:chOff x="5889600" y="3646440"/>
                <a:chExt cx="1026000" cy="90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889600" y="391248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889600" y="36464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907240" y="391500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6284160" y="41479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5966280" y="36770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3" name=""/>
              <p:cNvGrpSpPr/>
              <p:nvPr/>
            </p:nvGrpSpPr>
            <p:grpSpPr>
              <a:xfrm>
                <a:off x="5928840" y="3686040"/>
                <a:ext cx="1026000" cy="903240"/>
                <a:chOff x="5928840" y="3686040"/>
                <a:chExt cx="1026000" cy="9032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5928840" y="395208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928840" y="36860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946480" y="395496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6323400" y="41875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005520" y="37166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9" name=""/>
              <p:cNvGrpSpPr/>
              <p:nvPr/>
            </p:nvGrpSpPr>
            <p:grpSpPr>
              <a:xfrm>
                <a:off x="5968440" y="3738600"/>
                <a:ext cx="1026000" cy="903240"/>
                <a:chOff x="5968440" y="3738600"/>
                <a:chExt cx="1026000" cy="90324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5968440" y="400464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968440" y="373860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986080" y="40075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6363000" y="424008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6045120" y="376920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15" name=""/>
          <p:cNvGrpSpPr/>
          <p:nvPr/>
        </p:nvGrpSpPr>
        <p:grpSpPr>
          <a:xfrm>
            <a:off x="2379600" y="2968560"/>
            <a:ext cx="2168640" cy="677520"/>
            <a:chOff x="2379600" y="2968560"/>
            <a:chExt cx="2168640" cy="677520"/>
          </a:xfrm>
        </p:grpSpPr>
        <p:pic>
          <p:nvPicPr>
            <p:cNvPr id="216" name="" descr=""/>
            <p:cNvPicPr/>
            <p:nvPr/>
          </p:nvPicPr>
          <p:blipFill>
            <a:blip r:embed="rId25"/>
            <a:stretch/>
          </p:blipFill>
          <p:spPr>
            <a:xfrm>
              <a:off x="2379600" y="32479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6"/>
            <a:stretch/>
          </p:blipFill>
          <p:spPr>
            <a:xfrm>
              <a:off x="3681360" y="32479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" name=""/>
            <p:cNvGrpSpPr/>
            <p:nvPr/>
          </p:nvGrpSpPr>
          <p:grpSpPr>
            <a:xfrm>
              <a:off x="2576520" y="2968560"/>
              <a:ext cx="1008000" cy="677520"/>
              <a:chOff x="2576520" y="2968560"/>
              <a:chExt cx="1008000" cy="677520"/>
            </a:xfrm>
          </p:grpSpPr>
          <p:sp>
            <p:nvSpPr>
              <p:cNvPr id="219" name=""/>
              <p:cNvSpPr/>
              <p:nvPr/>
            </p:nvSpPr>
            <p:spPr>
              <a:xfrm>
                <a:off x="2734200" y="300816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0" name="onto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2892240" y="324180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2576520" y="2968560"/>
                <a:ext cx="100800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Ontolo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2" name="onto_01" descr=""/>
            <p:cNvPicPr/>
            <p:nvPr/>
          </p:nvPicPr>
          <p:blipFill>
            <a:blip r:embed="rId28"/>
            <a:stretch/>
          </p:blipFill>
          <p:spPr>
            <a:xfrm>
              <a:off x="4233960" y="3208320"/>
              <a:ext cx="31428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3" name=""/>
          <p:cNvGrpSpPr/>
          <p:nvPr/>
        </p:nvGrpSpPr>
        <p:grpSpPr>
          <a:xfrm>
            <a:off x="2166840" y="3719520"/>
            <a:ext cx="1631880" cy="882360"/>
            <a:chOff x="2166840" y="3719520"/>
            <a:chExt cx="1631880" cy="882360"/>
          </a:xfrm>
        </p:grpSpPr>
        <p:grpSp>
          <p:nvGrpSpPr>
            <p:cNvPr id="224" name=""/>
            <p:cNvGrpSpPr/>
            <p:nvPr/>
          </p:nvGrpSpPr>
          <p:grpSpPr>
            <a:xfrm>
              <a:off x="2166840" y="4003560"/>
              <a:ext cx="1631880" cy="598320"/>
              <a:chOff x="2166840" y="4003560"/>
              <a:chExt cx="1631880" cy="598320"/>
            </a:xfrm>
          </p:grpSpPr>
          <p:sp>
            <p:nvSpPr>
              <p:cNvPr id="225" name=""/>
              <p:cNvSpPr/>
              <p:nvPr/>
            </p:nvSpPr>
            <p:spPr>
              <a:xfrm>
                <a:off x="2245680" y="4043160"/>
                <a:ext cx="1340640" cy="55872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6" name="onto_02" descr=""/>
              <p:cNvPicPr/>
              <p:nvPr/>
            </p:nvPicPr>
            <p:blipFill>
              <a:blip r:embed="rId29"/>
              <a:stretch/>
            </p:blipFill>
            <p:spPr>
              <a:xfrm>
                <a:off x="2284920" y="4247280"/>
                <a:ext cx="2757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2166840" y="4003560"/>
                <a:ext cx="74916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Mode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468520" y="4203000"/>
                <a:ext cx="133020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Enterprise Mode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User's Profi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9" name="" descr=""/>
            <p:cNvPicPr/>
            <p:nvPr/>
          </p:nvPicPr>
          <p:blipFill>
            <a:blip r:embed="rId30"/>
            <a:stretch/>
          </p:blipFill>
          <p:spPr>
            <a:xfrm>
              <a:off x="2970000" y="3719520"/>
              <a:ext cx="23616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"/>
          <p:cNvGrpSpPr/>
          <p:nvPr/>
        </p:nvGrpSpPr>
        <p:grpSpPr>
          <a:xfrm>
            <a:off x="3681360" y="4084560"/>
            <a:ext cx="1065240" cy="357120"/>
            <a:chOff x="3681360" y="4084560"/>
            <a:chExt cx="1065240" cy="357120"/>
          </a:xfrm>
        </p:grpSpPr>
        <p:pic>
          <p:nvPicPr>
            <p:cNvPr id="231" name="" descr=""/>
            <p:cNvPicPr/>
            <p:nvPr/>
          </p:nvPicPr>
          <p:blipFill>
            <a:blip r:embed="rId31"/>
            <a:stretch/>
          </p:blipFill>
          <p:spPr>
            <a:xfrm>
              <a:off x="3681360" y="416412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onto_02" descr=""/>
            <p:cNvPicPr/>
            <p:nvPr/>
          </p:nvPicPr>
          <p:blipFill>
            <a:blip r:embed="rId32"/>
            <a:stretch/>
          </p:blipFill>
          <p:spPr>
            <a:xfrm>
              <a:off x="4390920" y="408456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"/>
          <p:cNvGrpSpPr/>
          <p:nvPr/>
        </p:nvGrpSpPr>
        <p:grpSpPr>
          <a:xfrm>
            <a:off x="7350120" y="2873520"/>
            <a:ext cx="631800" cy="772920"/>
            <a:chOff x="7350120" y="2873520"/>
            <a:chExt cx="631800" cy="772920"/>
          </a:xfrm>
        </p:grpSpPr>
        <p:pic>
          <p:nvPicPr>
            <p:cNvPr id="234" name="" descr=""/>
            <p:cNvPicPr/>
            <p:nvPr/>
          </p:nvPicPr>
          <p:blipFill>
            <a:blip r:embed="rId33"/>
            <a:stretch/>
          </p:blipFill>
          <p:spPr>
            <a:xfrm>
              <a:off x="7547040" y="340668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5" name=""/>
            <p:cNvGrpSpPr/>
            <p:nvPr/>
          </p:nvGrpSpPr>
          <p:grpSpPr>
            <a:xfrm>
              <a:off x="7350120" y="2873520"/>
              <a:ext cx="631800" cy="490320"/>
              <a:chOff x="7350120" y="2873520"/>
              <a:chExt cx="631800" cy="490320"/>
            </a:xfrm>
          </p:grpSpPr>
          <p:sp>
            <p:nvSpPr>
              <p:cNvPr id="236" name=""/>
              <p:cNvSpPr/>
              <p:nvPr/>
            </p:nvSpPr>
            <p:spPr>
              <a:xfrm>
                <a:off x="7389360" y="292572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350120" y="287352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Query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8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7587000" y="310680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39" name=""/>
          <p:cNvGrpSpPr/>
          <p:nvPr/>
        </p:nvGrpSpPr>
        <p:grpSpPr>
          <a:xfrm>
            <a:off x="4091040" y="782640"/>
            <a:ext cx="1375920" cy="3565440"/>
            <a:chOff x="4091040" y="782640"/>
            <a:chExt cx="1375920" cy="3565440"/>
          </a:xfrm>
        </p:grpSpPr>
        <p:pic>
          <p:nvPicPr>
            <p:cNvPr id="240" name="doc_01" descr=""/>
            <p:cNvPicPr/>
            <p:nvPr/>
          </p:nvPicPr>
          <p:blipFill>
            <a:blip r:embed="rId35"/>
            <a:stretch/>
          </p:blipFill>
          <p:spPr>
            <a:xfrm>
              <a:off x="5051160" y="1396800"/>
              <a:ext cx="22644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doc_01" descr=""/>
            <p:cNvPicPr/>
            <p:nvPr/>
          </p:nvPicPr>
          <p:blipFill>
            <a:blip r:embed="rId36"/>
            <a:stretch/>
          </p:blipFill>
          <p:spPr>
            <a:xfrm>
              <a:off x="5009400" y="131760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memory_01" descr=""/>
            <p:cNvPicPr/>
            <p:nvPr/>
          </p:nvPicPr>
          <p:blipFill>
            <a:blip r:embed="rId37"/>
            <a:stretch/>
          </p:blipFill>
          <p:spPr>
            <a:xfrm>
              <a:off x="4091040" y="782640"/>
              <a:ext cx="35064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doc_03" descr=""/>
            <p:cNvPicPr/>
            <p:nvPr/>
          </p:nvPicPr>
          <p:blipFill>
            <a:blip r:embed="rId38"/>
            <a:stretch/>
          </p:blipFill>
          <p:spPr>
            <a:xfrm>
              <a:off x="4257360" y="3552840"/>
              <a:ext cx="41760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244" name="doc_04" descr=""/>
            <p:cNvPicPr/>
            <p:nvPr/>
          </p:nvPicPr>
          <p:blipFill>
            <a:blip r:embed="rId39"/>
            <a:stretch/>
          </p:blipFill>
          <p:spPr>
            <a:xfrm>
              <a:off x="4174920" y="1278000"/>
              <a:ext cx="2916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doc_05gif" descr=""/>
            <p:cNvPicPr/>
            <p:nvPr/>
          </p:nvPicPr>
          <p:blipFill>
            <a:blip r:embed="rId40"/>
            <a:stretch/>
          </p:blipFill>
          <p:spPr>
            <a:xfrm>
              <a:off x="4883400" y="3471840"/>
              <a:ext cx="321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41"/>
            <a:stretch/>
          </p:blipFill>
          <p:spPr>
            <a:xfrm>
              <a:off x="4800960" y="2909880"/>
              <a:ext cx="4345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42"/>
            <a:stretch/>
          </p:blipFill>
          <p:spPr>
            <a:xfrm>
              <a:off x="4616640" y="822240"/>
              <a:ext cx="3502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doc_01" descr=""/>
            <p:cNvPicPr/>
            <p:nvPr/>
          </p:nvPicPr>
          <p:blipFill>
            <a:blip r:embed="rId43"/>
            <a:stretch/>
          </p:blipFill>
          <p:spPr>
            <a:xfrm>
              <a:off x="5092920" y="143676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44"/>
            <a:stretch/>
          </p:blipFill>
          <p:spPr>
            <a:xfrm>
              <a:off x="5133240" y="4030560"/>
              <a:ext cx="333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45"/>
            <a:stretch/>
          </p:blipFill>
          <p:spPr>
            <a:xfrm>
              <a:off x="4591440" y="1436760"/>
              <a:ext cx="35208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6"/>
            <a:stretch/>
          </p:blipFill>
          <p:spPr>
            <a:xfrm>
              <a:off x="5133240" y="879480"/>
              <a:ext cx="333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"/>
          <p:cNvSpPr txBox="1"/>
          <p:nvPr/>
        </p:nvSpPr>
        <p:spPr>
          <a:xfrm>
            <a:off x="2260440" y="372600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930400" y="579600"/>
            <a:ext cx="238320" cy="1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113600" y="384480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300400" y="2690640"/>
            <a:ext cx="1971720" cy="1273320"/>
            <a:chOff x="2300400" y="2690640"/>
            <a:chExt cx="1971720" cy="1273320"/>
          </a:xfrm>
        </p:grpSpPr>
        <p:sp>
          <p:nvSpPr>
            <p:cNvPr id="256" name=""/>
            <p:cNvSpPr/>
            <p:nvPr/>
          </p:nvSpPr>
          <p:spPr>
            <a:xfrm>
              <a:off x="3602160" y="269064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2300400" y="269064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44840" y="277020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865160" y="1695600"/>
            <a:ext cx="947160" cy="396720"/>
            <a:chOff x="1865160" y="1695600"/>
            <a:chExt cx="947160" cy="396720"/>
          </a:xfrm>
        </p:grpSpPr>
        <p:sp>
          <p:nvSpPr>
            <p:cNvPr id="260" name=""/>
            <p:cNvSpPr/>
            <p:nvPr/>
          </p:nvSpPr>
          <p:spPr>
            <a:xfrm>
              <a:off x="1865160" y="180036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180520" y="169560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415120" y="1142640"/>
            <a:ext cx="2247840" cy="2503800"/>
            <a:chOff x="5415120" y="1142640"/>
            <a:chExt cx="2247840" cy="2503800"/>
          </a:xfrm>
        </p:grpSpPr>
        <p:sp>
          <p:nvSpPr>
            <p:cNvPr id="263" name=""/>
            <p:cNvSpPr/>
            <p:nvPr/>
          </p:nvSpPr>
          <p:spPr>
            <a:xfrm flipH="1" flipV="1">
              <a:off x="5415120" y="114264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31320" y="245124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521400" y="277020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13600" y="277020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219280" y="2651040"/>
            <a:ext cx="2130840" cy="1035000"/>
            <a:chOff x="5219280" y="2651040"/>
            <a:chExt cx="2130840" cy="1035000"/>
          </a:xfrm>
        </p:grpSpPr>
        <p:sp>
          <p:nvSpPr>
            <p:cNvPr id="268" name=""/>
            <p:cNvSpPr/>
            <p:nvPr/>
          </p:nvSpPr>
          <p:spPr>
            <a:xfrm flipH="1">
              <a:off x="5219280" y="2651040"/>
              <a:ext cx="55260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6048360" y="271116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04040" y="2770200"/>
              <a:ext cx="94608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04920" y="4876920"/>
            <a:ext cx="8153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77720" indent="-439920">
              <a:lnSpc>
                <a:spcPct val="10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llaboration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Global Capit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7720" indent="-43992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utonomy &amp; Individuality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ocal Adap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838080" y="228600"/>
            <a:ext cx="8001000" cy="4648320"/>
            <a:chOff x="838080" y="228600"/>
            <a:chExt cx="8001000" cy="4648320"/>
          </a:xfrm>
        </p:grpSpPr>
        <p:sp>
          <p:nvSpPr>
            <p:cNvPr id="273" name=""/>
            <p:cNvSpPr/>
            <p:nvPr/>
          </p:nvSpPr>
          <p:spPr>
            <a:xfrm>
              <a:off x="838080" y="228600"/>
              <a:ext cx="312444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38080" y="4648320"/>
              <a:ext cx="8001000" cy="228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38080" y="2971800"/>
              <a:ext cx="1828800" cy="990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15000" y="380880"/>
              <a:ext cx="3124080" cy="4267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3657600"/>
              <a:ext cx="1295280" cy="990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09680" y="4648320"/>
              <a:ext cx="35053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62520" y="380880"/>
              <a:ext cx="17524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6880" y="2971800"/>
              <a:ext cx="1295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09680" y="3962520"/>
              <a:ext cx="457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09680" y="3962520"/>
              <a:ext cx="0" cy="68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62520" y="380880"/>
              <a:ext cx="0" cy="2590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715000" y="380880"/>
              <a:ext cx="0" cy="4267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66880" y="2971800"/>
              <a:ext cx="0" cy="990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23238-0500-4D91-B819-90511D15C1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 Corporate Semantic Web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3800" y="-76680"/>
            <a:ext cx="8839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RDF :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Resource Description Framework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Describe Web resourc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nal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Externa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nnotation of docum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DF Schema (to formalize the ontolog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DFS Limited - Extend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iff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necessa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010280" y="2819520"/>
            <a:ext cx="1981440" cy="1981080"/>
            <a:chOff x="7010280" y="2819520"/>
            <a:chExt cx="1981440" cy="1981080"/>
          </a:xfrm>
        </p:grpSpPr>
        <p:sp>
          <p:nvSpPr>
            <p:cNvPr id="289" name=""/>
            <p:cNvSpPr/>
            <p:nvPr/>
          </p:nvSpPr>
          <p:spPr>
            <a:xfrm>
              <a:off x="7010280" y="2819520"/>
              <a:ext cx="1981440" cy="1981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93440" y="2907000"/>
              <a:ext cx="412200" cy="429480"/>
            </a:xfrm>
            <a:custGeom>
              <a:avLst/>
              <a:gdLst>
                <a:gd name="textAreaLeft" fmla="*/ 19800 w 412200"/>
                <a:gd name="textAreaRight" fmla="*/ 392400 w 412200"/>
                <a:gd name="textAreaTop" fmla="*/ 19800 h 429480"/>
                <a:gd name="textAreaBottom" fmla="*/ 409680 h 429480"/>
              </a:gdLst>
              <a:ahLst/>
              <a:rect l="textAreaLeft" t="textAreaTop" r="textAreaRight" b="textAreaBottom"/>
              <a:pathLst>
                <a:path w="21600" h="22505">
                  <a:moveTo>
                    <a:pt x="3562" y="0"/>
                  </a:moveTo>
                  <a:arcTo wR="3562" hR="3562" stAng="16200000" swAng="-5400000"/>
                  <a:lnTo>
                    <a:pt x="0" y="18943"/>
                  </a:lnTo>
                  <a:arcTo wR="3562" hR="3562" stAng="10800000" swAng="-5400000"/>
                  <a:lnTo>
                    <a:pt x="18038" y="22505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496000" y="2907000"/>
              <a:ext cx="412200" cy="429480"/>
            </a:xfrm>
            <a:custGeom>
              <a:avLst/>
              <a:gdLst>
                <a:gd name="textAreaLeft" fmla="*/ 19800 w 412200"/>
                <a:gd name="textAreaRight" fmla="*/ 392400 w 412200"/>
                <a:gd name="textAreaTop" fmla="*/ 19800 h 429480"/>
                <a:gd name="textAreaBottom" fmla="*/ 409680 h 429480"/>
              </a:gdLst>
              <a:ahLst/>
              <a:rect l="textAreaLeft" t="textAreaTop" r="textAreaRight" b="textAreaBottom"/>
              <a:pathLst>
                <a:path w="21600" h="22505">
                  <a:moveTo>
                    <a:pt x="3562" y="0"/>
                  </a:moveTo>
                  <a:arcTo wR="3562" hR="3562" stAng="16200000" swAng="-5400000"/>
                  <a:lnTo>
                    <a:pt x="0" y="18943"/>
                  </a:lnTo>
                  <a:arcTo wR="3562" hR="3562" stAng="10800000" swAng="-5400000"/>
                  <a:lnTo>
                    <a:pt x="18038" y="22505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496000" y="4286520"/>
              <a:ext cx="412200" cy="430920"/>
            </a:xfrm>
            <a:custGeom>
              <a:avLst/>
              <a:gdLst>
                <a:gd name="textAreaLeft" fmla="*/ 19800 w 412200"/>
                <a:gd name="textAreaRight" fmla="*/ 392400 w 412200"/>
                <a:gd name="textAreaTop" fmla="*/ 19800 h 430920"/>
                <a:gd name="textAreaBottom" fmla="*/ 411120 h 430920"/>
              </a:gdLst>
              <a:ahLst/>
              <a:rect l="textAreaLeft" t="textAreaTop" r="textAreaRight" b="textAreaBottom"/>
              <a:pathLst>
                <a:path w="21600" h="22580">
                  <a:moveTo>
                    <a:pt x="3562" y="0"/>
                  </a:moveTo>
                  <a:arcTo wR="3562" hR="3562" stAng="16200000" swAng="-5400000"/>
                  <a:lnTo>
                    <a:pt x="0" y="19018"/>
                  </a:lnTo>
                  <a:arcTo wR="3562" hR="3562" stAng="10800000" swAng="-5400000"/>
                  <a:lnTo>
                    <a:pt x="18038" y="22580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93440" y="4286520"/>
              <a:ext cx="412200" cy="430920"/>
            </a:xfrm>
            <a:custGeom>
              <a:avLst/>
              <a:gdLst>
                <a:gd name="textAreaLeft" fmla="*/ 19800 w 412200"/>
                <a:gd name="textAreaRight" fmla="*/ 392400 w 412200"/>
                <a:gd name="textAreaTop" fmla="*/ 19800 h 430920"/>
                <a:gd name="textAreaBottom" fmla="*/ 411120 h 430920"/>
              </a:gdLst>
              <a:ahLst/>
              <a:rect l="textAreaLeft" t="textAreaTop" r="textAreaRight" b="textAreaBottom"/>
              <a:pathLst>
                <a:path w="21600" h="22580">
                  <a:moveTo>
                    <a:pt x="3562" y="0"/>
                  </a:moveTo>
                  <a:arcTo wR="3562" hR="3562" stAng="16200000" swAng="-5400000"/>
                  <a:lnTo>
                    <a:pt x="0" y="19018"/>
                  </a:lnTo>
                  <a:arcTo wR="3562" hR="3562" stAng="10800000" swAng="-5400000"/>
                  <a:lnTo>
                    <a:pt x="18038" y="22580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51400" y="2943360"/>
              <a:ext cx="33660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55760" y="2943360"/>
              <a:ext cx="33336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555760" y="4323960"/>
              <a:ext cx="33336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151400" y="4323960"/>
              <a:ext cx="3366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3440" y="3681720"/>
              <a:ext cx="33336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33240" y="4369320"/>
              <a:ext cx="331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36480" y="2992680"/>
              <a:ext cx="331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77720" y="3681720"/>
              <a:ext cx="33768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2577000">
              <a:off x="7575480" y="3402000"/>
              <a:ext cx="824400" cy="862200"/>
            </a:xfrm>
            <a:custGeom>
              <a:avLst/>
              <a:gdLst>
                <a:gd name="textAreaLeft" fmla="*/ 0 w 824400"/>
                <a:gd name="textAreaRight" fmla="*/ 824760 w 824400"/>
                <a:gd name="textAreaTop" fmla="*/ 0 h 862200"/>
                <a:gd name="textAreaBottom" fmla="*/ 862560 h 86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99" y="10800"/>
                  </a:moveTo>
                  <a:arcTo wR="-6101" hR="-6101" stAng="-10800000" swAng="-18761082"/>
                  <a:lnTo>
                    <a:pt x="18122" y="18739"/>
                  </a:lnTo>
                  <a:arcTo wR="10800" hR="10800" stAng="2838918" swAng="18761082"/>
                  <a:lnTo>
                    <a:pt x="24300" y="10800"/>
                  </a:lnTo>
                  <a:lnTo>
                    <a:pt x="19251" y="15850"/>
                  </a:lnTo>
                  <a:lnTo>
                    <a:pt x="14201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010280" y="3508560"/>
              <a:ext cx="198144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54160" y="2514600"/>
            <a:ext cx="8839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73040" indent="-435600">
              <a:lnSpc>
                <a:spcPct val="10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Approach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39240" indent="-27972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tology in RD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9240" indent="-27972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scription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uation in RD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0360" indent="-22392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ser Pro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0360" indent="-22392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ganiza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9240" indent="-27972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notations in RDF describing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35600">
              <a:lnSpc>
                <a:spcPct val="10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oward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corporate semantic We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nnotated memory based on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4F54-1BB8-4861-9C92-44F8D3127B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RESE &amp; Ontology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0"/>
            <a:ext cx="861048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30920" indent="-43092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COR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3160" indent="-2772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ceptual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R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urces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arch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3160" indent="-2772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DF(S) </a:t>
            </a:r>
            <a:r>
              <a:rPr b="0" lang="en-US" sz="2800" spc="-1" strike="noStrike">
                <a:solidFill>
                  <a:srgbClr val="cc33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ceptual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3160" indent="-2772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mantic search engine for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3160" indent="-2772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PI for agents behavior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-43092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-430920">
              <a:lnSpc>
                <a:spcPct val="10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Ontology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xplicit partial account of concepts used in the corporate memory management scenarios and their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-430920">
              <a:lnSpc>
                <a:spcPct val="10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3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needs for an ont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3160" indent="-2772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ponent of the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3160" indent="-2772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scription of models and anno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3160" indent="-2772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munication between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C0E3-64C4-4434-9FA0-2ED0EDDAB8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chéma général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219320" y="965160"/>
            <a:ext cx="7772400" cy="4419720"/>
            <a:chOff x="1219320" y="965160"/>
            <a:chExt cx="7772400" cy="4419720"/>
          </a:xfrm>
        </p:grpSpPr>
        <p:grpSp>
          <p:nvGrpSpPr>
            <p:cNvPr id="309" name=""/>
            <p:cNvGrpSpPr/>
            <p:nvPr/>
          </p:nvGrpSpPr>
          <p:grpSpPr>
            <a:xfrm>
              <a:off x="1219320" y="965160"/>
              <a:ext cx="7772400" cy="4380120"/>
              <a:chOff x="1219320" y="965160"/>
              <a:chExt cx="7772400" cy="4380120"/>
            </a:xfrm>
          </p:grpSpPr>
          <p:sp>
            <p:nvSpPr>
              <p:cNvPr id="310" name=""/>
              <p:cNvSpPr/>
              <p:nvPr/>
            </p:nvSpPr>
            <p:spPr>
              <a:xfrm>
                <a:off x="1219320" y="965160"/>
                <a:ext cx="7772400" cy="4380120"/>
              </a:xfrm>
              <a:prstGeom prst="rect">
                <a:avLst/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4335480" y="1044720"/>
                <a:ext cx="1657080" cy="4181400"/>
                <a:chOff x="4335480" y="1044720"/>
                <a:chExt cx="1657080" cy="41814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335480" y="1203480"/>
                  <a:ext cx="1500120" cy="4022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494240" y="1044720"/>
                  <a:ext cx="1498320" cy="239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0" bIns="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Mémoire d'entrepris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2025720" y="2398680"/>
                <a:ext cx="6532560" cy="995400"/>
                <a:chOff x="2025720" y="2398680"/>
                <a:chExt cx="6532560" cy="9954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2025720" y="2484360"/>
                  <a:ext cx="6392880" cy="90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839280" y="2398680"/>
                  <a:ext cx="1719000" cy="2383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10800" bIns="10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Courier New"/>
                    </a:rPr>
                    <a:t>Système Multi-Ag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896080" y="2570400"/>
                  <a:ext cx="789120" cy="1587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048040" y="3060720"/>
                  <a:ext cx="66996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441880" y="2621160"/>
                  <a:ext cx="828720" cy="1760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0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214720" y="271152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321" name=""/>
                <p:cNvGrpSpPr/>
                <p:nvPr/>
              </p:nvGrpSpPr>
              <p:grpSpPr>
                <a:xfrm>
                  <a:off x="5992920" y="2718000"/>
                  <a:ext cx="908280" cy="636120"/>
                  <a:chOff x="5992920" y="2718000"/>
                  <a:chExt cx="908280" cy="63612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5992920" y="3078000"/>
                    <a:ext cx="908280" cy="27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group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d'intérêt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3" name="agen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69040" y="2718000"/>
                    <a:ext cx="311760" cy="31392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grpSp>
            <p:sp>
              <p:nvSpPr>
                <p:cNvPr id="324" name=""/>
                <p:cNvSpPr/>
                <p:nvPr/>
              </p:nvSpPr>
              <p:spPr>
                <a:xfrm>
                  <a:off x="4335840" y="2486160"/>
                  <a:ext cx="1500120" cy="9079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5" name="agent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354480" y="276228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326" name=""/>
                <p:cNvSpPr/>
                <p:nvPr/>
              </p:nvSpPr>
              <p:spPr>
                <a:xfrm>
                  <a:off x="3073680" y="3116520"/>
                  <a:ext cx="9079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 Ontologie et Modèle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901200" y="3113280"/>
                  <a:ext cx="8287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374240" y="2673360"/>
                  <a:ext cx="828720" cy="1634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9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47080" y="276408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330" name=""/>
                <p:cNvGrpSpPr/>
                <p:nvPr/>
              </p:nvGrpSpPr>
              <p:grpSpPr>
                <a:xfrm>
                  <a:off x="3862800" y="2530440"/>
                  <a:ext cx="907920" cy="635040"/>
                  <a:chOff x="3862800" y="2530440"/>
                  <a:chExt cx="907920" cy="635040"/>
                </a:xfrm>
              </p:grpSpPr>
              <p:pic>
                <p:nvPicPr>
                  <p:cNvPr id="331" name="agent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38920" y="2530440"/>
                    <a:ext cx="311760" cy="3142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  <p:sp>
                <p:nvSpPr>
                  <p:cNvPr id="332" name=""/>
                  <p:cNvSpPr/>
                  <p:nvPr/>
                </p:nvSpPr>
                <p:spPr>
                  <a:xfrm>
                    <a:off x="3862800" y="2889000"/>
                    <a:ext cx="907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d'inter-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connexio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33" name=""/>
            <p:cNvGrpSpPr/>
            <p:nvPr/>
          </p:nvGrpSpPr>
          <p:grpSpPr>
            <a:xfrm>
              <a:off x="1376280" y="3433680"/>
              <a:ext cx="1101240" cy="1552680"/>
              <a:chOff x="1376280" y="3433680"/>
              <a:chExt cx="1101240" cy="1552680"/>
            </a:xfrm>
          </p:grpSpPr>
          <p:sp>
            <p:nvSpPr>
              <p:cNvPr id="334" name=""/>
              <p:cNvSpPr/>
              <p:nvPr/>
            </p:nvSpPr>
            <p:spPr>
              <a:xfrm>
                <a:off x="1376280" y="4389480"/>
                <a:ext cx="107460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Ingénieur d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a connaiss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5" name=""/>
              <p:cNvGrpSpPr/>
              <p:nvPr/>
            </p:nvGrpSpPr>
            <p:grpSpPr>
              <a:xfrm>
                <a:off x="2047680" y="3433680"/>
                <a:ext cx="429840" cy="1181160"/>
                <a:chOff x="2047680" y="3433680"/>
                <a:chExt cx="429840" cy="118116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2047680" y="3433680"/>
                  <a:ext cx="210960" cy="97920"/>
                  <a:chOff x="2047680" y="3433680"/>
                  <a:chExt cx="210960" cy="9792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2047680" y="3507480"/>
                    <a:ext cx="518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69">
                        <a:moveTo>
                          <a:pt x="149" y="69"/>
                        </a:moveTo>
                        <a:lnTo>
                          <a:pt x="25" y="48"/>
                        </a:lnTo>
                        <a:lnTo>
                          <a:pt x="0" y="23"/>
                        </a:lnTo>
                        <a:lnTo>
                          <a:pt x="10" y="2"/>
                        </a:lnTo>
                        <a:lnTo>
                          <a:pt x="39" y="0"/>
                        </a:lnTo>
                        <a:lnTo>
                          <a:pt x="149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2099520" y="3444120"/>
                    <a:ext cx="2268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15">
                        <a:moveTo>
                          <a:pt x="66" y="115"/>
                        </a:moveTo>
                        <a:lnTo>
                          <a:pt x="0" y="42"/>
                        </a:lnTo>
                        <a:lnTo>
                          <a:pt x="7" y="11"/>
                        </a:lnTo>
                        <a:lnTo>
                          <a:pt x="39" y="0"/>
                        </a:lnTo>
                        <a:lnTo>
                          <a:pt x="57" y="22"/>
                        </a:lnTo>
                        <a:lnTo>
                          <a:pt x="66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2172240" y="3433680"/>
                    <a:ext cx="194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38">
                        <a:moveTo>
                          <a:pt x="9" y="138"/>
                        </a:moveTo>
                        <a:lnTo>
                          <a:pt x="0" y="35"/>
                        </a:lnTo>
                        <a:lnTo>
                          <a:pt x="30" y="0"/>
                        </a:lnTo>
                        <a:lnTo>
                          <a:pt x="56" y="15"/>
                        </a:lnTo>
                        <a:lnTo>
                          <a:pt x="52" y="42"/>
                        </a:lnTo>
                        <a:lnTo>
                          <a:pt x="9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2212560" y="3471120"/>
                    <a:ext cx="460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86">
                        <a:moveTo>
                          <a:pt x="0" y="86"/>
                        </a:moveTo>
                        <a:lnTo>
                          <a:pt x="100" y="0"/>
                        </a:lnTo>
                        <a:lnTo>
                          <a:pt x="135" y="17"/>
                        </a:lnTo>
                        <a:lnTo>
                          <a:pt x="132" y="45"/>
                        </a:lnTo>
                        <a:lnTo>
                          <a:pt x="114" y="59"/>
                        </a:lnTo>
                        <a:lnTo>
                          <a:pt x="0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2122200" y="3503520"/>
                  <a:ext cx="355320" cy="1111320"/>
                  <a:chOff x="2122200" y="3503520"/>
                  <a:chExt cx="355320" cy="111132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2186280" y="3686400"/>
                    <a:ext cx="17856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554">
                        <a:moveTo>
                          <a:pt x="366" y="160"/>
                        </a:moveTo>
                        <a:lnTo>
                          <a:pt x="297" y="56"/>
                        </a:lnTo>
                        <a:lnTo>
                          <a:pt x="228" y="0"/>
                        </a:lnTo>
                        <a:lnTo>
                          <a:pt x="145" y="0"/>
                        </a:lnTo>
                        <a:lnTo>
                          <a:pt x="55" y="36"/>
                        </a:lnTo>
                        <a:lnTo>
                          <a:pt x="14" y="97"/>
                        </a:lnTo>
                        <a:lnTo>
                          <a:pt x="0" y="181"/>
                        </a:lnTo>
                        <a:lnTo>
                          <a:pt x="14" y="291"/>
                        </a:lnTo>
                        <a:lnTo>
                          <a:pt x="69" y="416"/>
                        </a:lnTo>
                        <a:lnTo>
                          <a:pt x="166" y="499"/>
                        </a:lnTo>
                        <a:lnTo>
                          <a:pt x="241" y="540"/>
                        </a:lnTo>
                        <a:lnTo>
                          <a:pt x="318" y="554"/>
                        </a:lnTo>
                        <a:lnTo>
                          <a:pt x="380" y="533"/>
                        </a:lnTo>
                        <a:lnTo>
                          <a:pt x="414" y="499"/>
                        </a:lnTo>
                        <a:lnTo>
                          <a:pt x="436" y="416"/>
                        </a:lnTo>
                        <a:lnTo>
                          <a:pt x="429" y="319"/>
                        </a:lnTo>
                        <a:lnTo>
                          <a:pt x="407" y="237"/>
                        </a:lnTo>
                        <a:lnTo>
                          <a:pt x="545" y="160"/>
                        </a:lnTo>
                        <a:lnTo>
                          <a:pt x="560" y="126"/>
                        </a:lnTo>
                        <a:lnTo>
                          <a:pt x="545" y="111"/>
                        </a:lnTo>
                        <a:lnTo>
                          <a:pt x="393" y="201"/>
                        </a:lnTo>
                        <a:lnTo>
                          <a:pt x="366" y="1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2314080" y="3503520"/>
                    <a:ext cx="158760" cy="43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1238">
                        <a:moveTo>
                          <a:pt x="138" y="1045"/>
                        </a:moveTo>
                        <a:lnTo>
                          <a:pt x="47" y="1113"/>
                        </a:lnTo>
                        <a:lnTo>
                          <a:pt x="20" y="1135"/>
                        </a:lnTo>
                        <a:lnTo>
                          <a:pt x="0" y="1183"/>
                        </a:lnTo>
                        <a:lnTo>
                          <a:pt x="27" y="1231"/>
                        </a:lnTo>
                        <a:lnTo>
                          <a:pt x="54" y="1238"/>
                        </a:lnTo>
                        <a:lnTo>
                          <a:pt x="138" y="1210"/>
                        </a:lnTo>
                        <a:lnTo>
                          <a:pt x="262" y="1113"/>
                        </a:lnTo>
                        <a:lnTo>
                          <a:pt x="373" y="997"/>
                        </a:lnTo>
                        <a:lnTo>
                          <a:pt x="491" y="864"/>
                        </a:lnTo>
                        <a:lnTo>
                          <a:pt x="498" y="809"/>
                        </a:lnTo>
                        <a:lnTo>
                          <a:pt x="498" y="658"/>
                        </a:lnTo>
                        <a:lnTo>
                          <a:pt x="464" y="422"/>
                        </a:lnTo>
                        <a:lnTo>
                          <a:pt x="484" y="284"/>
                        </a:lnTo>
                        <a:lnTo>
                          <a:pt x="498" y="228"/>
                        </a:lnTo>
                        <a:lnTo>
                          <a:pt x="477" y="201"/>
                        </a:lnTo>
                        <a:lnTo>
                          <a:pt x="428" y="173"/>
                        </a:lnTo>
                        <a:lnTo>
                          <a:pt x="394" y="153"/>
                        </a:lnTo>
                        <a:lnTo>
                          <a:pt x="414" y="28"/>
                        </a:lnTo>
                        <a:lnTo>
                          <a:pt x="401" y="0"/>
                        </a:lnTo>
                        <a:lnTo>
                          <a:pt x="373" y="8"/>
                        </a:lnTo>
                        <a:lnTo>
                          <a:pt x="360" y="167"/>
                        </a:lnTo>
                        <a:lnTo>
                          <a:pt x="346" y="208"/>
                        </a:lnTo>
                        <a:lnTo>
                          <a:pt x="339" y="235"/>
                        </a:lnTo>
                        <a:lnTo>
                          <a:pt x="283" y="214"/>
                        </a:lnTo>
                        <a:lnTo>
                          <a:pt x="242" y="214"/>
                        </a:lnTo>
                        <a:lnTo>
                          <a:pt x="242" y="242"/>
                        </a:lnTo>
                        <a:lnTo>
                          <a:pt x="269" y="264"/>
                        </a:lnTo>
                        <a:lnTo>
                          <a:pt x="319" y="264"/>
                        </a:lnTo>
                        <a:lnTo>
                          <a:pt x="353" y="291"/>
                        </a:lnTo>
                        <a:lnTo>
                          <a:pt x="380" y="339"/>
                        </a:lnTo>
                        <a:lnTo>
                          <a:pt x="408" y="416"/>
                        </a:lnTo>
                        <a:lnTo>
                          <a:pt x="428" y="567"/>
                        </a:lnTo>
                        <a:lnTo>
                          <a:pt x="428" y="706"/>
                        </a:lnTo>
                        <a:lnTo>
                          <a:pt x="414" y="816"/>
                        </a:lnTo>
                        <a:lnTo>
                          <a:pt x="387" y="864"/>
                        </a:lnTo>
                        <a:lnTo>
                          <a:pt x="290" y="934"/>
                        </a:lnTo>
                        <a:lnTo>
                          <a:pt x="186" y="997"/>
                        </a:lnTo>
                        <a:lnTo>
                          <a:pt x="138" y="10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2122200" y="3902400"/>
                    <a:ext cx="14328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47">
                        <a:moveTo>
                          <a:pt x="451" y="20"/>
                        </a:moveTo>
                        <a:lnTo>
                          <a:pt x="401" y="0"/>
                        </a:lnTo>
                        <a:lnTo>
                          <a:pt x="297" y="7"/>
                        </a:lnTo>
                        <a:lnTo>
                          <a:pt x="207" y="76"/>
                        </a:lnTo>
                        <a:lnTo>
                          <a:pt x="75" y="221"/>
                        </a:lnTo>
                        <a:lnTo>
                          <a:pt x="7" y="339"/>
                        </a:lnTo>
                        <a:lnTo>
                          <a:pt x="0" y="380"/>
                        </a:lnTo>
                        <a:lnTo>
                          <a:pt x="34" y="457"/>
                        </a:lnTo>
                        <a:lnTo>
                          <a:pt x="110" y="491"/>
                        </a:lnTo>
                        <a:lnTo>
                          <a:pt x="207" y="532"/>
                        </a:lnTo>
                        <a:lnTo>
                          <a:pt x="283" y="552"/>
                        </a:lnTo>
                        <a:lnTo>
                          <a:pt x="318" y="588"/>
                        </a:lnTo>
                        <a:lnTo>
                          <a:pt x="297" y="636"/>
                        </a:lnTo>
                        <a:lnTo>
                          <a:pt x="242" y="692"/>
                        </a:lnTo>
                        <a:lnTo>
                          <a:pt x="173" y="699"/>
                        </a:lnTo>
                        <a:lnTo>
                          <a:pt x="125" y="677"/>
                        </a:lnTo>
                        <a:lnTo>
                          <a:pt x="96" y="699"/>
                        </a:lnTo>
                        <a:lnTo>
                          <a:pt x="103" y="726"/>
                        </a:lnTo>
                        <a:lnTo>
                          <a:pt x="159" y="747"/>
                        </a:lnTo>
                        <a:lnTo>
                          <a:pt x="242" y="747"/>
                        </a:lnTo>
                        <a:lnTo>
                          <a:pt x="318" y="726"/>
                        </a:lnTo>
                        <a:lnTo>
                          <a:pt x="360" y="699"/>
                        </a:lnTo>
                        <a:lnTo>
                          <a:pt x="388" y="650"/>
                        </a:lnTo>
                        <a:lnTo>
                          <a:pt x="401" y="595"/>
                        </a:lnTo>
                        <a:lnTo>
                          <a:pt x="367" y="546"/>
                        </a:lnTo>
                        <a:lnTo>
                          <a:pt x="283" y="511"/>
                        </a:lnTo>
                        <a:lnTo>
                          <a:pt x="186" y="484"/>
                        </a:lnTo>
                        <a:lnTo>
                          <a:pt x="103" y="436"/>
                        </a:lnTo>
                        <a:lnTo>
                          <a:pt x="82" y="394"/>
                        </a:lnTo>
                        <a:lnTo>
                          <a:pt x="96" y="319"/>
                        </a:lnTo>
                        <a:lnTo>
                          <a:pt x="159" y="221"/>
                        </a:lnTo>
                        <a:lnTo>
                          <a:pt x="236" y="165"/>
                        </a:lnTo>
                        <a:lnTo>
                          <a:pt x="353" y="124"/>
                        </a:lnTo>
                        <a:lnTo>
                          <a:pt x="451" y="104"/>
                        </a:lnTo>
                        <a:lnTo>
                          <a:pt x="451" y="48"/>
                        </a:lnTo>
                        <a:lnTo>
                          <a:pt x="451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238840" y="3890520"/>
                    <a:ext cx="134280" cy="32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919">
                        <a:moveTo>
                          <a:pt x="367" y="290"/>
                        </a:moveTo>
                        <a:lnTo>
                          <a:pt x="325" y="117"/>
                        </a:lnTo>
                        <a:lnTo>
                          <a:pt x="277" y="34"/>
                        </a:lnTo>
                        <a:lnTo>
                          <a:pt x="173" y="0"/>
                        </a:lnTo>
                        <a:lnTo>
                          <a:pt x="68" y="13"/>
                        </a:lnTo>
                        <a:lnTo>
                          <a:pt x="21" y="104"/>
                        </a:lnTo>
                        <a:lnTo>
                          <a:pt x="27" y="214"/>
                        </a:lnTo>
                        <a:lnTo>
                          <a:pt x="55" y="394"/>
                        </a:lnTo>
                        <a:lnTo>
                          <a:pt x="55" y="552"/>
                        </a:lnTo>
                        <a:lnTo>
                          <a:pt x="21" y="690"/>
                        </a:lnTo>
                        <a:lnTo>
                          <a:pt x="0" y="767"/>
                        </a:lnTo>
                        <a:lnTo>
                          <a:pt x="14" y="835"/>
                        </a:lnTo>
                        <a:lnTo>
                          <a:pt x="62" y="871"/>
                        </a:lnTo>
                        <a:lnTo>
                          <a:pt x="125" y="905"/>
                        </a:lnTo>
                        <a:lnTo>
                          <a:pt x="186" y="919"/>
                        </a:lnTo>
                        <a:lnTo>
                          <a:pt x="263" y="919"/>
                        </a:lnTo>
                        <a:lnTo>
                          <a:pt x="353" y="849"/>
                        </a:lnTo>
                        <a:lnTo>
                          <a:pt x="422" y="704"/>
                        </a:lnTo>
                        <a:lnTo>
                          <a:pt x="415" y="573"/>
                        </a:lnTo>
                        <a:lnTo>
                          <a:pt x="374" y="421"/>
                        </a:lnTo>
                        <a:lnTo>
                          <a:pt x="367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199240" y="4151160"/>
                    <a:ext cx="10188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1329">
                        <a:moveTo>
                          <a:pt x="305" y="21"/>
                        </a:moveTo>
                        <a:lnTo>
                          <a:pt x="223" y="0"/>
                        </a:lnTo>
                        <a:lnTo>
                          <a:pt x="174" y="21"/>
                        </a:lnTo>
                        <a:lnTo>
                          <a:pt x="153" y="89"/>
                        </a:lnTo>
                        <a:lnTo>
                          <a:pt x="174" y="470"/>
                        </a:lnTo>
                        <a:lnTo>
                          <a:pt x="174" y="560"/>
                        </a:lnTo>
                        <a:lnTo>
                          <a:pt x="147" y="727"/>
                        </a:lnTo>
                        <a:lnTo>
                          <a:pt x="140" y="920"/>
                        </a:lnTo>
                        <a:lnTo>
                          <a:pt x="153" y="1017"/>
                        </a:lnTo>
                        <a:lnTo>
                          <a:pt x="140" y="1071"/>
                        </a:lnTo>
                        <a:lnTo>
                          <a:pt x="42" y="1155"/>
                        </a:lnTo>
                        <a:lnTo>
                          <a:pt x="0" y="1259"/>
                        </a:lnTo>
                        <a:lnTo>
                          <a:pt x="8" y="1293"/>
                        </a:lnTo>
                        <a:lnTo>
                          <a:pt x="84" y="1329"/>
                        </a:lnTo>
                        <a:lnTo>
                          <a:pt x="104" y="1314"/>
                        </a:lnTo>
                        <a:lnTo>
                          <a:pt x="112" y="1252"/>
                        </a:lnTo>
                        <a:lnTo>
                          <a:pt x="133" y="1162"/>
                        </a:lnTo>
                        <a:lnTo>
                          <a:pt x="167" y="1121"/>
                        </a:lnTo>
                        <a:lnTo>
                          <a:pt x="208" y="1093"/>
                        </a:lnTo>
                        <a:lnTo>
                          <a:pt x="244" y="1058"/>
                        </a:lnTo>
                        <a:lnTo>
                          <a:pt x="251" y="1030"/>
                        </a:lnTo>
                        <a:lnTo>
                          <a:pt x="230" y="996"/>
                        </a:lnTo>
                        <a:lnTo>
                          <a:pt x="208" y="976"/>
                        </a:lnTo>
                        <a:lnTo>
                          <a:pt x="194" y="892"/>
                        </a:lnTo>
                        <a:lnTo>
                          <a:pt x="208" y="719"/>
                        </a:lnTo>
                        <a:lnTo>
                          <a:pt x="257" y="519"/>
                        </a:lnTo>
                        <a:lnTo>
                          <a:pt x="305" y="359"/>
                        </a:lnTo>
                        <a:lnTo>
                          <a:pt x="320" y="166"/>
                        </a:lnTo>
                        <a:lnTo>
                          <a:pt x="305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309760" y="4151160"/>
                    <a:ext cx="16776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1121">
                        <a:moveTo>
                          <a:pt x="172" y="166"/>
                        </a:moveTo>
                        <a:lnTo>
                          <a:pt x="159" y="55"/>
                        </a:lnTo>
                        <a:lnTo>
                          <a:pt x="97" y="0"/>
                        </a:lnTo>
                        <a:lnTo>
                          <a:pt x="7" y="7"/>
                        </a:lnTo>
                        <a:lnTo>
                          <a:pt x="0" y="55"/>
                        </a:lnTo>
                        <a:lnTo>
                          <a:pt x="7" y="159"/>
                        </a:lnTo>
                        <a:lnTo>
                          <a:pt x="55" y="318"/>
                        </a:lnTo>
                        <a:lnTo>
                          <a:pt x="90" y="435"/>
                        </a:lnTo>
                        <a:lnTo>
                          <a:pt x="131" y="594"/>
                        </a:lnTo>
                        <a:lnTo>
                          <a:pt x="145" y="732"/>
                        </a:lnTo>
                        <a:lnTo>
                          <a:pt x="145" y="843"/>
                        </a:lnTo>
                        <a:lnTo>
                          <a:pt x="124" y="926"/>
                        </a:lnTo>
                        <a:lnTo>
                          <a:pt x="104" y="954"/>
                        </a:lnTo>
                        <a:lnTo>
                          <a:pt x="104" y="981"/>
                        </a:lnTo>
                        <a:lnTo>
                          <a:pt x="131" y="1024"/>
                        </a:lnTo>
                        <a:lnTo>
                          <a:pt x="179" y="1037"/>
                        </a:lnTo>
                        <a:lnTo>
                          <a:pt x="256" y="1037"/>
                        </a:lnTo>
                        <a:lnTo>
                          <a:pt x="394" y="1071"/>
                        </a:lnTo>
                        <a:lnTo>
                          <a:pt x="435" y="1121"/>
                        </a:lnTo>
                        <a:lnTo>
                          <a:pt x="498" y="1092"/>
                        </a:lnTo>
                        <a:lnTo>
                          <a:pt x="526" y="1024"/>
                        </a:lnTo>
                        <a:lnTo>
                          <a:pt x="498" y="996"/>
                        </a:lnTo>
                        <a:lnTo>
                          <a:pt x="380" y="981"/>
                        </a:lnTo>
                        <a:lnTo>
                          <a:pt x="249" y="981"/>
                        </a:lnTo>
                        <a:lnTo>
                          <a:pt x="193" y="974"/>
                        </a:lnTo>
                        <a:lnTo>
                          <a:pt x="179" y="933"/>
                        </a:lnTo>
                        <a:lnTo>
                          <a:pt x="193" y="857"/>
                        </a:lnTo>
                        <a:lnTo>
                          <a:pt x="201" y="725"/>
                        </a:lnTo>
                        <a:lnTo>
                          <a:pt x="186" y="580"/>
                        </a:lnTo>
                        <a:lnTo>
                          <a:pt x="165" y="388"/>
                        </a:lnTo>
                        <a:lnTo>
                          <a:pt x="172" y="221"/>
                        </a:lnTo>
                        <a:lnTo>
                          <a:pt x="172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348" name="ampoule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086920" y="3494880"/>
                  <a:ext cx="13356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49" name=""/>
            <p:cNvGrpSpPr/>
            <p:nvPr/>
          </p:nvGrpSpPr>
          <p:grpSpPr>
            <a:xfrm>
              <a:off x="1298520" y="1044720"/>
              <a:ext cx="1774800" cy="1433520"/>
              <a:chOff x="1298520" y="1044720"/>
              <a:chExt cx="1774800" cy="1433520"/>
            </a:xfrm>
          </p:grpSpPr>
          <p:sp>
            <p:nvSpPr>
              <p:cNvPr id="350" name=""/>
              <p:cNvSpPr/>
              <p:nvPr/>
            </p:nvSpPr>
            <p:spPr>
              <a:xfrm>
                <a:off x="1298520" y="2119320"/>
                <a:ext cx="17748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uteur et/o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nnotateur de 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1850760" y="1044720"/>
                <a:ext cx="789120" cy="1231920"/>
                <a:chOff x="1850760" y="1044720"/>
                <a:chExt cx="789120" cy="1231920"/>
              </a:xfrm>
            </p:grpSpPr>
            <p:grpSp>
              <p:nvGrpSpPr>
                <p:cNvPr id="352" name=""/>
                <p:cNvGrpSpPr/>
                <p:nvPr/>
              </p:nvGrpSpPr>
              <p:grpSpPr>
                <a:xfrm>
                  <a:off x="2126160" y="1492560"/>
                  <a:ext cx="477360" cy="784080"/>
                  <a:chOff x="2126160" y="1492560"/>
                  <a:chExt cx="477360" cy="78408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2335320" y="1753200"/>
                    <a:ext cx="11124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1" h="1535">
                        <a:moveTo>
                          <a:pt x="182" y="123"/>
                        </a:moveTo>
                        <a:lnTo>
                          <a:pt x="265" y="33"/>
                        </a:lnTo>
                        <a:lnTo>
                          <a:pt x="423" y="0"/>
                        </a:lnTo>
                        <a:lnTo>
                          <a:pt x="558" y="33"/>
                        </a:lnTo>
                        <a:lnTo>
                          <a:pt x="633" y="83"/>
                        </a:lnTo>
                        <a:lnTo>
                          <a:pt x="693" y="183"/>
                        </a:lnTo>
                        <a:lnTo>
                          <a:pt x="746" y="361"/>
                        </a:lnTo>
                        <a:lnTo>
                          <a:pt x="771" y="554"/>
                        </a:lnTo>
                        <a:lnTo>
                          <a:pt x="771" y="899"/>
                        </a:lnTo>
                        <a:lnTo>
                          <a:pt x="693" y="1200"/>
                        </a:lnTo>
                        <a:lnTo>
                          <a:pt x="581" y="1370"/>
                        </a:lnTo>
                        <a:lnTo>
                          <a:pt x="468" y="1468"/>
                        </a:lnTo>
                        <a:lnTo>
                          <a:pt x="340" y="1535"/>
                        </a:lnTo>
                        <a:lnTo>
                          <a:pt x="160" y="1528"/>
                        </a:lnTo>
                        <a:lnTo>
                          <a:pt x="17" y="1425"/>
                        </a:lnTo>
                        <a:lnTo>
                          <a:pt x="0" y="1302"/>
                        </a:lnTo>
                        <a:lnTo>
                          <a:pt x="70" y="1119"/>
                        </a:lnTo>
                        <a:lnTo>
                          <a:pt x="130" y="914"/>
                        </a:lnTo>
                        <a:lnTo>
                          <a:pt x="152" y="649"/>
                        </a:lnTo>
                        <a:lnTo>
                          <a:pt x="115" y="423"/>
                        </a:lnTo>
                        <a:lnTo>
                          <a:pt x="115" y="258"/>
                        </a:lnTo>
                        <a:lnTo>
                          <a:pt x="182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2378520" y="1999800"/>
                    <a:ext cx="12708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81" h="1512">
                        <a:moveTo>
                          <a:pt x="293" y="63"/>
                        </a:moveTo>
                        <a:lnTo>
                          <a:pt x="187" y="0"/>
                        </a:lnTo>
                        <a:lnTo>
                          <a:pt x="52" y="0"/>
                        </a:lnTo>
                        <a:lnTo>
                          <a:pt x="0" y="83"/>
                        </a:lnTo>
                        <a:lnTo>
                          <a:pt x="22" y="205"/>
                        </a:lnTo>
                        <a:lnTo>
                          <a:pt x="142" y="325"/>
                        </a:lnTo>
                        <a:lnTo>
                          <a:pt x="390" y="436"/>
                        </a:lnTo>
                        <a:lnTo>
                          <a:pt x="676" y="671"/>
                        </a:lnTo>
                        <a:lnTo>
                          <a:pt x="721" y="774"/>
                        </a:lnTo>
                        <a:lnTo>
                          <a:pt x="698" y="821"/>
                        </a:lnTo>
                        <a:lnTo>
                          <a:pt x="480" y="977"/>
                        </a:lnTo>
                        <a:lnTo>
                          <a:pt x="225" y="1162"/>
                        </a:lnTo>
                        <a:lnTo>
                          <a:pt x="165" y="1242"/>
                        </a:lnTo>
                        <a:lnTo>
                          <a:pt x="165" y="1325"/>
                        </a:lnTo>
                        <a:lnTo>
                          <a:pt x="360" y="1412"/>
                        </a:lnTo>
                        <a:lnTo>
                          <a:pt x="661" y="1512"/>
                        </a:lnTo>
                        <a:lnTo>
                          <a:pt x="766" y="1512"/>
                        </a:lnTo>
                        <a:lnTo>
                          <a:pt x="881" y="1445"/>
                        </a:lnTo>
                        <a:lnTo>
                          <a:pt x="881" y="1392"/>
                        </a:lnTo>
                        <a:lnTo>
                          <a:pt x="796" y="1365"/>
                        </a:lnTo>
                        <a:lnTo>
                          <a:pt x="413" y="1325"/>
                        </a:lnTo>
                        <a:lnTo>
                          <a:pt x="270" y="1290"/>
                        </a:lnTo>
                        <a:lnTo>
                          <a:pt x="255" y="1229"/>
                        </a:lnTo>
                        <a:lnTo>
                          <a:pt x="503" y="1059"/>
                        </a:lnTo>
                        <a:lnTo>
                          <a:pt x="773" y="896"/>
                        </a:lnTo>
                        <a:lnTo>
                          <a:pt x="833" y="836"/>
                        </a:lnTo>
                        <a:lnTo>
                          <a:pt x="856" y="754"/>
                        </a:lnTo>
                        <a:lnTo>
                          <a:pt x="833" y="638"/>
                        </a:lnTo>
                        <a:lnTo>
                          <a:pt x="751" y="551"/>
                        </a:lnTo>
                        <a:lnTo>
                          <a:pt x="480" y="253"/>
                        </a:lnTo>
                        <a:lnTo>
                          <a:pt x="293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210760" y="1986120"/>
                    <a:ext cx="158400" cy="2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7" h="1610">
                        <a:moveTo>
                          <a:pt x="596" y="218"/>
                        </a:moveTo>
                        <a:lnTo>
                          <a:pt x="771" y="80"/>
                        </a:lnTo>
                        <a:lnTo>
                          <a:pt x="937" y="0"/>
                        </a:lnTo>
                        <a:lnTo>
                          <a:pt x="1042" y="12"/>
                        </a:lnTo>
                        <a:lnTo>
                          <a:pt x="1097" y="80"/>
                        </a:lnTo>
                        <a:lnTo>
                          <a:pt x="1097" y="155"/>
                        </a:lnTo>
                        <a:lnTo>
                          <a:pt x="1064" y="238"/>
                        </a:lnTo>
                        <a:lnTo>
                          <a:pt x="952" y="285"/>
                        </a:lnTo>
                        <a:lnTo>
                          <a:pt x="724" y="400"/>
                        </a:lnTo>
                        <a:lnTo>
                          <a:pt x="589" y="543"/>
                        </a:lnTo>
                        <a:lnTo>
                          <a:pt x="499" y="713"/>
                        </a:lnTo>
                        <a:lnTo>
                          <a:pt x="476" y="814"/>
                        </a:lnTo>
                        <a:lnTo>
                          <a:pt x="596" y="936"/>
                        </a:lnTo>
                        <a:lnTo>
                          <a:pt x="724" y="1114"/>
                        </a:lnTo>
                        <a:lnTo>
                          <a:pt x="817" y="1277"/>
                        </a:lnTo>
                        <a:lnTo>
                          <a:pt x="839" y="1380"/>
                        </a:lnTo>
                        <a:lnTo>
                          <a:pt x="839" y="1440"/>
                        </a:lnTo>
                        <a:lnTo>
                          <a:pt x="779" y="1480"/>
                        </a:lnTo>
                        <a:lnTo>
                          <a:pt x="589" y="1487"/>
                        </a:lnTo>
                        <a:lnTo>
                          <a:pt x="301" y="1547"/>
                        </a:lnTo>
                        <a:lnTo>
                          <a:pt x="248" y="1602"/>
                        </a:lnTo>
                        <a:lnTo>
                          <a:pt x="203" y="1610"/>
                        </a:lnTo>
                        <a:lnTo>
                          <a:pt x="0" y="1547"/>
                        </a:lnTo>
                        <a:lnTo>
                          <a:pt x="0" y="1487"/>
                        </a:lnTo>
                        <a:lnTo>
                          <a:pt x="90" y="1440"/>
                        </a:lnTo>
                        <a:lnTo>
                          <a:pt x="453" y="1380"/>
                        </a:lnTo>
                        <a:lnTo>
                          <a:pt x="641" y="1400"/>
                        </a:lnTo>
                        <a:lnTo>
                          <a:pt x="734" y="1400"/>
                        </a:lnTo>
                        <a:lnTo>
                          <a:pt x="756" y="1365"/>
                        </a:lnTo>
                        <a:lnTo>
                          <a:pt x="679" y="1214"/>
                        </a:lnTo>
                        <a:lnTo>
                          <a:pt x="521" y="1019"/>
                        </a:lnTo>
                        <a:lnTo>
                          <a:pt x="408" y="876"/>
                        </a:lnTo>
                        <a:lnTo>
                          <a:pt x="363" y="794"/>
                        </a:lnTo>
                        <a:lnTo>
                          <a:pt x="363" y="671"/>
                        </a:lnTo>
                        <a:lnTo>
                          <a:pt x="438" y="468"/>
                        </a:lnTo>
                        <a:lnTo>
                          <a:pt x="506" y="340"/>
                        </a:lnTo>
                        <a:lnTo>
                          <a:pt x="596" y="2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126160" y="1753920"/>
                    <a:ext cx="21384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2" h="1202">
                        <a:moveTo>
                          <a:pt x="889" y="1202"/>
                        </a:moveTo>
                        <a:lnTo>
                          <a:pt x="981" y="1192"/>
                        </a:lnTo>
                        <a:lnTo>
                          <a:pt x="1009" y="1124"/>
                        </a:lnTo>
                        <a:lnTo>
                          <a:pt x="1034" y="881"/>
                        </a:lnTo>
                        <a:lnTo>
                          <a:pt x="1172" y="596"/>
                        </a:lnTo>
                        <a:lnTo>
                          <a:pt x="1314" y="465"/>
                        </a:lnTo>
                        <a:lnTo>
                          <a:pt x="1482" y="330"/>
                        </a:lnTo>
                        <a:lnTo>
                          <a:pt x="1467" y="235"/>
                        </a:lnTo>
                        <a:lnTo>
                          <a:pt x="1367" y="185"/>
                        </a:lnTo>
                        <a:lnTo>
                          <a:pt x="1242" y="235"/>
                        </a:lnTo>
                        <a:lnTo>
                          <a:pt x="1104" y="373"/>
                        </a:lnTo>
                        <a:lnTo>
                          <a:pt x="976" y="673"/>
                        </a:lnTo>
                        <a:lnTo>
                          <a:pt x="921" y="906"/>
                        </a:lnTo>
                        <a:lnTo>
                          <a:pt x="884" y="1029"/>
                        </a:lnTo>
                        <a:lnTo>
                          <a:pt x="779" y="984"/>
                        </a:lnTo>
                        <a:lnTo>
                          <a:pt x="661" y="783"/>
                        </a:lnTo>
                        <a:lnTo>
                          <a:pt x="563" y="505"/>
                        </a:lnTo>
                        <a:lnTo>
                          <a:pt x="581" y="380"/>
                        </a:lnTo>
                        <a:lnTo>
                          <a:pt x="636" y="248"/>
                        </a:lnTo>
                        <a:lnTo>
                          <a:pt x="658" y="150"/>
                        </a:lnTo>
                        <a:lnTo>
                          <a:pt x="418" y="145"/>
                        </a:lnTo>
                        <a:lnTo>
                          <a:pt x="178" y="105"/>
                        </a:lnTo>
                        <a:lnTo>
                          <a:pt x="65" y="0"/>
                        </a:lnTo>
                        <a:lnTo>
                          <a:pt x="0" y="50"/>
                        </a:lnTo>
                        <a:lnTo>
                          <a:pt x="88" y="230"/>
                        </a:lnTo>
                        <a:lnTo>
                          <a:pt x="280" y="250"/>
                        </a:lnTo>
                        <a:lnTo>
                          <a:pt x="488" y="270"/>
                        </a:lnTo>
                        <a:lnTo>
                          <a:pt x="493" y="428"/>
                        </a:lnTo>
                        <a:lnTo>
                          <a:pt x="513" y="611"/>
                        </a:lnTo>
                        <a:lnTo>
                          <a:pt x="583" y="816"/>
                        </a:lnTo>
                        <a:lnTo>
                          <a:pt x="671" y="1019"/>
                        </a:lnTo>
                        <a:lnTo>
                          <a:pt x="804" y="1154"/>
                        </a:lnTo>
                        <a:lnTo>
                          <a:pt x="889" y="12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446200" y="1492560"/>
                    <a:ext cx="157320" cy="29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1625">
                        <a:moveTo>
                          <a:pt x="0" y="1610"/>
                        </a:moveTo>
                        <a:lnTo>
                          <a:pt x="0" y="1503"/>
                        </a:lnTo>
                        <a:lnTo>
                          <a:pt x="67" y="1420"/>
                        </a:lnTo>
                        <a:lnTo>
                          <a:pt x="363" y="1325"/>
                        </a:lnTo>
                        <a:lnTo>
                          <a:pt x="728" y="1245"/>
                        </a:lnTo>
                        <a:lnTo>
                          <a:pt x="939" y="1197"/>
                        </a:lnTo>
                        <a:lnTo>
                          <a:pt x="964" y="1155"/>
                        </a:lnTo>
                        <a:lnTo>
                          <a:pt x="864" y="1034"/>
                        </a:lnTo>
                        <a:lnTo>
                          <a:pt x="666" y="857"/>
                        </a:lnTo>
                        <a:lnTo>
                          <a:pt x="463" y="706"/>
                        </a:lnTo>
                        <a:lnTo>
                          <a:pt x="303" y="626"/>
                        </a:lnTo>
                        <a:lnTo>
                          <a:pt x="213" y="544"/>
                        </a:lnTo>
                        <a:lnTo>
                          <a:pt x="205" y="483"/>
                        </a:lnTo>
                        <a:lnTo>
                          <a:pt x="258" y="428"/>
                        </a:lnTo>
                        <a:lnTo>
                          <a:pt x="385" y="401"/>
                        </a:lnTo>
                        <a:lnTo>
                          <a:pt x="546" y="298"/>
                        </a:lnTo>
                        <a:lnTo>
                          <a:pt x="568" y="198"/>
                        </a:lnTo>
                        <a:lnTo>
                          <a:pt x="568" y="55"/>
                        </a:lnTo>
                        <a:lnTo>
                          <a:pt x="553" y="0"/>
                        </a:lnTo>
                        <a:lnTo>
                          <a:pt x="613" y="13"/>
                        </a:lnTo>
                        <a:lnTo>
                          <a:pt x="698" y="135"/>
                        </a:lnTo>
                        <a:lnTo>
                          <a:pt x="728" y="266"/>
                        </a:lnTo>
                        <a:lnTo>
                          <a:pt x="636" y="361"/>
                        </a:lnTo>
                        <a:lnTo>
                          <a:pt x="553" y="388"/>
                        </a:lnTo>
                        <a:lnTo>
                          <a:pt x="393" y="463"/>
                        </a:lnTo>
                        <a:lnTo>
                          <a:pt x="363" y="504"/>
                        </a:lnTo>
                        <a:lnTo>
                          <a:pt x="385" y="544"/>
                        </a:lnTo>
                        <a:lnTo>
                          <a:pt x="531" y="654"/>
                        </a:lnTo>
                        <a:lnTo>
                          <a:pt x="683" y="714"/>
                        </a:lnTo>
                        <a:lnTo>
                          <a:pt x="886" y="869"/>
                        </a:lnTo>
                        <a:lnTo>
                          <a:pt x="1024" y="1054"/>
                        </a:lnTo>
                        <a:lnTo>
                          <a:pt x="1091" y="1197"/>
                        </a:lnTo>
                        <a:lnTo>
                          <a:pt x="1069" y="1245"/>
                        </a:lnTo>
                        <a:lnTo>
                          <a:pt x="1024" y="1277"/>
                        </a:lnTo>
                        <a:lnTo>
                          <a:pt x="849" y="1340"/>
                        </a:lnTo>
                        <a:lnTo>
                          <a:pt x="501" y="1443"/>
                        </a:lnTo>
                        <a:lnTo>
                          <a:pt x="280" y="1530"/>
                        </a:lnTo>
                        <a:lnTo>
                          <a:pt x="138" y="1605"/>
                        </a:lnTo>
                        <a:lnTo>
                          <a:pt x="45" y="1625"/>
                        </a:lnTo>
                        <a:lnTo>
                          <a:pt x="0" y="16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291400" y="1536120"/>
                    <a:ext cx="1227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851" h="1157">
                        <a:moveTo>
                          <a:pt x="173" y="939"/>
                        </a:moveTo>
                        <a:lnTo>
                          <a:pt x="271" y="1042"/>
                        </a:lnTo>
                        <a:lnTo>
                          <a:pt x="431" y="1137"/>
                        </a:lnTo>
                        <a:lnTo>
                          <a:pt x="566" y="1157"/>
                        </a:lnTo>
                        <a:lnTo>
                          <a:pt x="669" y="1137"/>
                        </a:lnTo>
                        <a:lnTo>
                          <a:pt x="791" y="1057"/>
                        </a:lnTo>
                        <a:lnTo>
                          <a:pt x="836" y="892"/>
                        </a:lnTo>
                        <a:lnTo>
                          <a:pt x="851" y="769"/>
                        </a:lnTo>
                        <a:lnTo>
                          <a:pt x="814" y="654"/>
                        </a:lnTo>
                        <a:lnTo>
                          <a:pt x="744" y="511"/>
                        </a:lnTo>
                        <a:lnTo>
                          <a:pt x="679" y="388"/>
                        </a:lnTo>
                        <a:lnTo>
                          <a:pt x="669" y="361"/>
                        </a:lnTo>
                        <a:lnTo>
                          <a:pt x="699" y="218"/>
                        </a:lnTo>
                        <a:lnTo>
                          <a:pt x="791" y="75"/>
                        </a:lnTo>
                        <a:lnTo>
                          <a:pt x="806" y="33"/>
                        </a:lnTo>
                        <a:lnTo>
                          <a:pt x="759" y="0"/>
                        </a:lnTo>
                        <a:lnTo>
                          <a:pt x="699" y="0"/>
                        </a:lnTo>
                        <a:lnTo>
                          <a:pt x="634" y="185"/>
                        </a:lnTo>
                        <a:lnTo>
                          <a:pt x="604" y="306"/>
                        </a:lnTo>
                        <a:lnTo>
                          <a:pt x="521" y="225"/>
                        </a:lnTo>
                        <a:lnTo>
                          <a:pt x="451" y="163"/>
                        </a:lnTo>
                        <a:lnTo>
                          <a:pt x="308" y="115"/>
                        </a:lnTo>
                        <a:lnTo>
                          <a:pt x="203" y="115"/>
                        </a:lnTo>
                        <a:lnTo>
                          <a:pt x="45" y="185"/>
                        </a:lnTo>
                        <a:lnTo>
                          <a:pt x="0" y="381"/>
                        </a:lnTo>
                        <a:lnTo>
                          <a:pt x="38" y="634"/>
                        </a:lnTo>
                        <a:lnTo>
                          <a:pt x="105" y="872"/>
                        </a:lnTo>
                        <a:lnTo>
                          <a:pt x="173" y="9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2136960" y="1044720"/>
                  <a:ext cx="236520" cy="239040"/>
                  <a:chOff x="2136960" y="1044720"/>
                  <a:chExt cx="236520" cy="23904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2136960" y="1044720"/>
                    <a:ext cx="236520" cy="2390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1" name="doc_0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63960" y="1066320"/>
                    <a:ext cx="197280" cy="199080"/>
                  </a:xfrm>
                  <a:prstGeom prst="rect">
                    <a:avLst/>
                  </a:prstGeom>
                  <a:ln w="9360">
                    <a:solidFill>
                      <a:srgbClr val="c0c0c0"/>
                    </a:solidFill>
                    <a:miter/>
                  </a:ln>
                </p:spPr>
              </p:pic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1850760" y="1168200"/>
                  <a:ext cx="255240" cy="278640"/>
                  <a:chOff x="1850760" y="1168200"/>
                  <a:chExt cx="255240" cy="27864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1850760" y="1168200"/>
                    <a:ext cx="25524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4" name="doc_0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59040" y="1186920"/>
                    <a:ext cx="236520" cy="2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2008440" y="1487160"/>
                  <a:ext cx="204120" cy="245160"/>
                  <a:chOff x="2008440" y="1487160"/>
                  <a:chExt cx="204120" cy="24516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2008440" y="1487160"/>
                    <a:ext cx="204120" cy="2451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7" name="doc_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28960" y="1503720"/>
                    <a:ext cx="1666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403000" y="1208160"/>
                  <a:ext cx="236880" cy="278640"/>
                  <a:chOff x="2403000" y="1208160"/>
                  <a:chExt cx="236880" cy="27864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403000" y="1208160"/>
                    <a:ext cx="23688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0" name="doc_05gif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08400" y="1241640"/>
                    <a:ext cx="22500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371" name=""/>
            <p:cNvGrpSpPr/>
            <p:nvPr/>
          </p:nvGrpSpPr>
          <p:grpSpPr>
            <a:xfrm>
              <a:off x="7570800" y="4191120"/>
              <a:ext cx="1106280" cy="1193760"/>
              <a:chOff x="7570800" y="4191120"/>
              <a:chExt cx="1106280" cy="1193760"/>
            </a:xfrm>
          </p:grpSpPr>
          <p:sp>
            <p:nvSpPr>
              <p:cNvPr id="372" name=""/>
              <p:cNvSpPr/>
              <p:nvPr/>
            </p:nvSpPr>
            <p:spPr>
              <a:xfrm>
                <a:off x="7570800" y="5137200"/>
                <a:ext cx="1106280" cy="24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Utilisateur fin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7729200" y="4270320"/>
                <a:ext cx="430200" cy="903600"/>
                <a:chOff x="7729200" y="4270320"/>
                <a:chExt cx="430200" cy="903600"/>
              </a:xfrm>
            </p:grpSpPr>
            <p:sp>
              <p:nvSpPr>
                <p:cNvPr id="374" name=""/>
                <p:cNvSpPr/>
                <p:nvPr/>
              </p:nvSpPr>
              <p:spPr>
                <a:xfrm flipH="1">
                  <a:off x="7853760" y="4320720"/>
                  <a:ext cx="168120" cy="19692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>
                  <a:off x="7965000" y="4270320"/>
                  <a:ext cx="194040" cy="31644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>
                  <a:off x="7875360" y="4532400"/>
                  <a:ext cx="100800" cy="29664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>
                  <a:off x="7774200" y="4540680"/>
                  <a:ext cx="155160" cy="22788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>
                  <a:off x="7728840" y="4799160"/>
                  <a:ext cx="188280" cy="368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H="1">
                  <a:off x="7908840" y="4798440"/>
                  <a:ext cx="126360" cy="37548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8162640" y="4191120"/>
                <a:ext cx="473400" cy="396720"/>
                <a:chOff x="8162640" y="4191120"/>
                <a:chExt cx="473400" cy="3967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8162640" y="4191120"/>
                  <a:ext cx="473400" cy="396720"/>
                </a:xfrm>
                <a:prstGeom prst="cloudCallout">
                  <a:avLst>
                    <a:gd name="adj1" fmla="val -75731"/>
                    <a:gd name="adj2" fmla="val 15087"/>
                  </a:avLst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82" name="inter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78920" y="4261320"/>
                  <a:ext cx="2365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83" name=""/>
            <p:cNvGrpSpPr/>
            <p:nvPr/>
          </p:nvGrpSpPr>
          <p:grpSpPr>
            <a:xfrm>
              <a:off x="2639880" y="1455840"/>
              <a:ext cx="1617840" cy="903240"/>
              <a:chOff x="2639880" y="1455840"/>
              <a:chExt cx="1617840" cy="903240"/>
            </a:xfrm>
          </p:grpSpPr>
          <p:pic>
            <p:nvPicPr>
              <p:cNvPr id="38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39880" y="193212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85" name=""/>
              <p:cNvGrpSpPr/>
              <p:nvPr/>
            </p:nvGrpSpPr>
            <p:grpSpPr>
              <a:xfrm>
                <a:off x="2916000" y="1455840"/>
                <a:ext cx="1025640" cy="903240"/>
                <a:chOff x="2916000" y="1455840"/>
                <a:chExt cx="1025640" cy="90324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2916000" y="1721880"/>
                  <a:ext cx="102564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916000" y="1455840"/>
                  <a:ext cx="102564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933640" y="1724760"/>
                  <a:ext cx="100764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8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310200" y="1957320"/>
                  <a:ext cx="31536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992680" y="1486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9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20840" y="1920960"/>
                <a:ext cx="23688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2" name=""/>
            <p:cNvGrpSpPr/>
            <p:nvPr/>
          </p:nvGrpSpPr>
          <p:grpSpPr>
            <a:xfrm>
              <a:off x="5913360" y="4230720"/>
              <a:ext cx="1697040" cy="995400"/>
              <a:chOff x="5913360" y="4230720"/>
              <a:chExt cx="1697040" cy="995400"/>
            </a:xfrm>
          </p:grpSpPr>
          <p:pic>
            <p:nvPicPr>
              <p:cNvPr id="39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913360" y="4708440"/>
                <a:ext cx="2379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373880" y="4708440"/>
                <a:ext cx="23652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5" name=""/>
              <p:cNvGrpSpPr/>
              <p:nvPr/>
            </p:nvGrpSpPr>
            <p:grpSpPr>
              <a:xfrm>
                <a:off x="6189480" y="4230720"/>
                <a:ext cx="1104840" cy="995400"/>
                <a:chOff x="6189480" y="4230720"/>
                <a:chExt cx="1104840" cy="995400"/>
              </a:xfrm>
            </p:grpSpPr>
            <p:grpSp>
              <p:nvGrpSpPr>
                <p:cNvPr id="396" name=""/>
                <p:cNvGrpSpPr/>
                <p:nvPr/>
              </p:nvGrpSpPr>
              <p:grpSpPr>
                <a:xfrm>
                  <a:off x="6189480" y="4230720"/>
                  <a:ext cx="1026000" cy="902880"/>
                  <a:chOff x="6189480" y="4230720"/>
                  <a:chExt cx="1026000" cy="90288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>
                    <a:off x="6189480" y="4496760"/>
                    <a:ext cx="1026000" cy="63684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6189480" y="42307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6207120" y="449928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0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584040" y="47322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0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66160" y="42613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6228720" y="4270320"/>
                  <a:ext cx="1026000" cy="903240"/>
                  <a:chOff x="6228720" y="4270320"/>
                  <a:chExt cx="1026000" cy="90324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>
                    <a:off x="6228720" y="453636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6228720" y="42703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6246360" y="453924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0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623280" y="47718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0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05400" y="43009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6268320" y="4322880"/>
                  <a:ext cx="1026000" cy="903240"/>
                  <a:chOff x="6268320" y="4322880"/>
                  <a:chExt cx="1026000" cy="90324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6268320" y="458892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6268320" y="432288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6285960" y="459180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662880" y="482436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45000" y="435348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414" name=""/>
            <p:cNvGrpSpPr/>
            <p:nvPr/>
          </p:nvGrpSpPr>
          <p:grpSpPr>
            <a:xfrm>
              <a:off x="2679840" y="3552840"/>
              <a:ext cx="2167920" cy="677520"/>
              <a:chOff x="2679840" y="3552840"/>
              <a:chExt cx="2167920" cy="677520"/>
            </a:xfrm>
          </p:grpSpPr>
          <p:pic>
            <p:nvPicPr>
              <p:cNvPr id="415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2679840" y="383220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3981240" y="383220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"/>
              <p:cNvGrpSpPr/>
              <p:nvPr/>
            </p:nvGrpSpPr>
            <p:grpSpPr>
              <a:xfrm>
                <a:off x="2876400" y="3552840"/>
                <a:ext cx="1007640" cy="677520"/>
                <a:chOff x="2876400" y="3552840"/>
                <a:chExt cx="1007640" cy="6775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3034080" y="3592440"/>
                  <a:ext cx="670680" cy="6379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19" name="onto_01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191760" y="3826080"/>
                  <a:ext cx="315360" cy="31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0" name=""/>
                <p:cNvSpPr/>
                <p:nvPr/>
              </p:nvSpPr>
              <p:spPr>
                <a:xfrm>
                  <a:off x="2876400" y="3552840"/>
                  <a:ext cx="100764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Ontologi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21" name="onto_01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33840" y="3792600"/>
                <a:ext cx="313920" cy="317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2" name=""/>
            <p:cNvGrpSpPr/>
            <p:nvPr/>
          </p:nvGrpSpPr>
          <p:grpSpPr>
            <a:xfrm>
              <a:off x="2467080" y="4303800"/>
              <a:ext cx="1631880" cy="882360"/>
              <a:chOff x="2467080" y="4303800"/>
              <a:chExt cx="1631880" cy="88236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2467080" y="4587840"/>
                <a:ext cx="1631880" cy="598320"/>
                <a:chOff x="2467080" y="4587840"/>
                <a:chExt cx="1631880" cy="5983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2545920" y="4627440"/>
                  <a:ext cx="1340640" cy="558720"/>
                </a:xfrm>
                <a:prstGeom prst="foldedCorner">
                  <a:avLst>
                    <a:gd name="adj" fmla="val 6138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25" name="onto_02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2585160" y="4831560"/>
                  <a:ext cx="27576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6" name=""/>
                <p:cNvSpPr/>
                <p:nvPr/>
              </p:nvSpPr>
              <p:spPr>
                <a:xfrm>
                  <a:off x="2467080" y="4587840"/>
                  <a:ext cx="749160" cy="2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Modèl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768760" y="4787280"/>
                  <a:ext cx="1330200" cy="3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- Modèle d'entrepris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- Profils d'utilisateur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28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3270240" y="4303800"/>
                <a:ext cx="23616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9" name=""/>
            <p:cNvGrpSpPr/>
            <p:nvPr/>
          </p:nvGrpSpPr>
          <p:grpSpPr>
            <a:xfrm>
              <a:off x="3981600" y="4668840"/>
              <a:ext cx="1065240" cy="357120"/>
              <a:chOff x="3981600" y="4668840"/>
              <a:chExt cx="1065240" cy="357120"/>
            </a:xfrm>
          </p:grpSpPr>
          <p:pic>
            <p:nvPicPr>
              <p:cNvPr id="430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3981600" y="474840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onto_02" descr=""/>
              <p:cNvPicPr/>
              <p:nvPr/>
            </p:nvPicPr>
            <p:blipFill>
              <a:blip r:embed="rId32"/>
              <a:stretch/>
            </p:blipFill>
            <p:spPr>
              <a:xfrm>
                <a:off x="4691160" y="4668840"/>
                <a:ext cx="35568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2" name=""/>
            <p:cNvGrpSpPr/>
            <p:nvPr/>
          </p:nvGrpSpPr>
          <p:grpSpPr>
            <a:xfrm>
              <a:off x="7650000" y="3457800"/>
              <a:ext cx="631800" cy="772920"/>
              <a:chOff x="7650000" y="3457800"/>
              <a:chExt cx="631800" cy="772920"/>
            </a:xfrm>
          </p:grpSpPr>
          <p:pic>
            <p:nvPicPr>
              <p:cNvPr id="433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846920" y="3990960"/>
                <a:ext cx="236520" cy="239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4" name=""/>
              <p:cNvGrpSpPr/>
              <p:nvPr/>
            </p:nvGrpSpPr>
            <p:grpSpPr>
              <a:xfrm>
                <a:off x="7650000" y="3457800"/>
                <a:ext cx="631800" cy="490320"/>
                <a:chOff x="7650000" y="3457800"/>
                <a:chExt cx="631800" cy="49032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7689240" y="3510000"/>
                  <a:ext cx="552960" cy="4381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650000" y="3457800"/>
                  <a:ext cx="6318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Requête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37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7886880" y="3691080"/>
                  <a:ext cx="236880" cy="238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38" name=""/>
            <p:cNvGrpSpPr/>
            <p:nvPr/>
          </p:nvGrpSpPr>
          <p:grpSpPr>
            <a:xfrm>
              <a:off x="4414680" y="1386000"/>
              <a:ext cx="1301760" cy="3565440"/>
              <a:chOff x="4414680" y="1386000"/>
              <a:chExt cx="1301760" cy="3565440"/>
            </a:xfrm>
          </p:grpSpPr>
          <p:pic>
            <p:nvPicPr>
              <p:cNvPr id="439" name="doc_01" descr=""/>
              <p:cNvPicPr/>
              <p:nvPr/>
            </p:nvPicPr>
            <p:blipFill>
              <a:blip r:embed="rId35"/>
              <a:stretch/>
            </p:blipFill>
            <p:spPr>
              <a:xfrm>
                <a:off x="5322960" y="2000160"/>
                <a:ext cx="214200" cy="2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doc_01" descr=""/>
              <p:cNvPicPr/>
              <p:nvPr/>
            </p:nvPicPr>
            <p:blipFill>
              <a:blip r:embed="rId36"/>
              <a:stretch/>
            </p:blipFill>
            <p:spPr>
              <a:xfrm>
                <a:off x="5283360" y="192096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memory_01" descr=""/>
              <p:cNvPicPr/>
              <p:nvPr/>
            </p:nvPicPr>
            <p:blipFill>
              <a:blip r:embed="rId37"/>
              <a:stretch/>
            </p:blipFill>
            <p:spPr>
              <a:xfrm>
                <a:off x="4414680" y="1386000"/>
                <a:ext cx="33192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doc_03" descr=""/>
              <p:cNvPicPr/>
              <p:nvPr/>
            </p:nvPicPr>
            <p:blipFill>
              <a:blip r:embed="rId38"/>
              <a:stretch/>
            </p:blipFill>
            <p:spPr>
              <a:xfrm>
                <a:off x="4572000" y="4156200"/>
                <a:ext cx="395280" cy="39672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443" name="doc_04" descr=""/>
              <p:cNvPicPr/>
              <p:nvPr/>
            </p:nvPicPr>
            <p:blipFill>
              <a:blip r:embed="rId39"/>
              <a:stretch/>
            </p:blipFill>
            <p:spPr>
              <a:xfrm>
                <a:off x="4494240" y="1881360"/>
                <a:ext cx="276120" cy="27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4" name="doc_05gif" descr=""/>
              <p:cNvPicPr/>
              <p:nvPr/>
            </p:nvPicPr>
            <p:blipFill>
              <a:blip r:embed="rId40"/>
              <a:stretch/>
            </p:blipFill>
            <p:spPr>
              <a:xfrm>
                <a:off x="5164200" y="4075200"/>
                <a:ext cx="30456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5086440" y="3513240"/>
                <a:ext cx="41112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6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4911840" y="1425600"/>
                <a:ext cx="3315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7" name="doc_01" descr=""/>
              <p:cNvPicPr/>
              <p:nvPr/>
            </p:nvPicPr>
            <p:blipFill>
              <a:blip r:embed="rId43"/>
              <a:stretch/>
            </p:blipFill>
            <p:spPr>
              <a:xfrm>
                <a:off x="5362560" y="204012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8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5400720" y="4633920"/>
                <a:ext cx="315720" cy="31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9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4888080" y="2040120"/>
                <a:ext cx="333360" cy="33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0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5400720" y="148284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1" name=""/>
            <p:cNvSpPr txBox="1"/>
            <p:nvPr/>
          </p:nvSpPr>
          <p:spPr>
            <a:xfrm>
              <a:off x="2560680" y="4310280"/>
              <a:ext cx="236520" cy="15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1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3230640" y="1163880"/>
              <a:ext cx="237960" cy="16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2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53" name=""/>
            <p:cNvSpPr txBox="1"/>
            <p:nvPr/>
          </p:nvSpPr>
          <p:spPr>
            <a:xfrm>
              <a:off x="7413480" y="4429080"/>
              <a:ext cx="236520" cy="1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3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2600280" y="3274920"/>
              <a:ext cx="1971720" cy="1273320"/>
              <a:chOff x="2600280" y="3274920"/>
              <a:chExt cx="1971720" cy="1273320"/>
            </a:xfrm>
          </p:grpSpPr>
          <p:sp>
            <p:nvSpPr>
              <p:cNvPr id="455" name=""/>
              <p:cNvSpPr/>
              <p:nvPr/>
            </p:nvSpPr>
            <p:spPr>
              <a:xfrm>
                <a:off x="3902040" y="3274920"/>
                <a:ext cx="66996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2600280" y="3274920"/>
                <a:ext cx="51264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44720" y="3354480"/>
                <a:ext cx="117720" cy="119376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2165400" y="2279880"/>
              <a:ext cx="947160" cy="396720"/>
              <a:chOff x="2165400" y="2279880"/>
              <a:chExt cx="947160" cy="396720"/>
            </a:xfrm>
          </p:grpSpPr>
          <p:sp>
            <p:nvSpPr>
              <p:cNvPr id="459" name=""/>
              <p:cNvSpPr/>
              <p:nvPr/>
            </p:nvSpPr>
            <p:spPr>
              <a:xfrm>
                <a:off x="2165400" y="2384640"/>
                <a:ext cx="118800" cy="25236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2480760" y="2279880"/>
                <a:ext cx="631800" cy="39672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5715000" y="1726920"/>
              <a:ext cx="2247840" cy="2503800"/>
              <a:chOff x="5715000" y="1726920"/>
              <a:chExt cx="2247840" cy="2503800"/>
            </a:xfrm>
          </p:grpSpPr>
          <p:sp>
            <p:nvSpPr>
              <p:cNvPr id="462" name=""/>
              <p:cNvSpPr/>
              <p:nvPr/>
            </p:nvSpPr>
            <p:spPr>
              <a:xfrm flipH="1" flipV="1">
                <a:off x="5715000" y="1726920"/>
                <a:ext cx="137160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531200" y="3035520"/>
                <a:ext cx="431640" cy="44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6821280" y="3354480"/>
                <a:ext cx="355320" cy="79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413480" y="3354480"/>
                <a:ext cx="316080" cy="87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5519880" y="3235320"/>
              <a:ext cx="2129760" cy="1035000"/>
              <a:chOff x="5519880" y="3235320"/>
              <a:chExt cx="2129760" cy="1035000"/>
            </a:xfrm>
          </p:grpSpPr>
          <p:sp>
            <p:nvSpPr>
              <p:cNvPr id="467" name=""/>
              <p:cNvSpPr/>
              <p:nvPr/>
            </p:nvSpPr>
            <p:spPr>
              <a:xfrm flipH="1">
                <a:off x="5519880" y="3235320"/>
                <a:ext cx="552240" cy="39708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6348240" y="3295440"/>
                <a:ext cx="0" cy="89532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703920" y="3354480"/>
                <a:ext cx="945720" cy="91584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1143000" y="838080"/>
            <a:ext cx="8001000" cy="4724640"/>
            <a:chOff x="1143000" y="838080"/>
            <a:chExt cx="8001000" cy="4724640"/>
          </a:xfrm>
        </p:grpSpPr>
        <p:sp>
          <p:nvSpPr>
            <p:cNvPr id="471" name=""/>
            <p:cNvSpPr/>
            <p:nvPr/>
          </p:nvSpPr>
          <p:spPr>
            <a:xfrm>
              <a:off x="1143000" y="838080"/>
              <a:ext cx="8001000" cy="1524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43000" y="3505320"/>
              <a:ext cx="8001000" cy="2057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219320" y="2362320"/>
              <a:ext cx="7772400" cy="114300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DDD9-B32C-46C3-ABFF-91FAE574BF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Multi-agents information system for the CM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53800" y="79200"/>
            <a:ext cx="8839080" cy="61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39200" indent="-40428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Agent asset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872280" indent="-25956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Loosely-coupled software component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(design, integration, deployment)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cc3300"/>
                </a:solidFill>
                <a:latin typeface="Georgia"/>
              </a:rPr>
              <a:t>(</a:t>
            </a:r>
            <a:r>
              <a:rPr b="0" lang="en-US" sz="2800" spc="-1" strike="noStrike">
                <a:solidFill>
                  <a:srgbClr val="cc3300"/>
                </a:solidFill>
                <a:latin typeface="Webdings"/>
                <a:ea typeface="Webdings"/>
              </a:rPr>
              <a:t></a:t>
            </a:r>
            <a:r>
              <a:rPr b="0" lang="en-US" sz="2800" spc="-1" strike="noStrike">
                <a:solidFill>
                  <a:srgbClr val="cc3300"/>
                </a:solidFill>
                <a:latin typeface="Georgia"/>
              </a:rPr>
              <a:t> Paola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72280" indent="-25956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emantic-level message passing, natural in a KM environ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39200" indent="-40428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CoMMA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= Heterogeneous Multi-Agents Information System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872280" indent="-259560">
              <a:lnSpc>
                <a:spcPct val="11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t heterogeneous sources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foSleuth)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cuments are heterogeneous but annotations are in RDF and based on a shared RDFS schem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72280" indent="-259560">
              <a:lnSpc>
                <a:spcPct val="11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al with information 'distribution'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253880" indent="-207720">
              <a:lnSpc>
                <a:spcPct val="110000"/>
              </a:lnSpc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cattered data, information &amp; knowled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253880" indent="-207720">
              <a:lnSpc>
                <a:spcPct val="110000"/>
              </a:lnSpc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iffuse captured information and knowled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0499E-1EEA-4CEF-B665-8F813564CFD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13:44:36Z</dcterms:created>
  <dc:creator>Fabien GANDON</dc:creator>
  <dc:description/>
  <dc:language>en-US</dc:language>
  <cp:lastModifiedBy>Fabien GANDON</cp:lastModifiedBy>
  <dcterms:modified xsi:type="dcterms:W3CDTF">2002-04-03T08:07:42Z</dcterms:modified>
  <cp:revision>73</cp:revision>
  <dc:subject/>
  <dc:title>Séminaire du PSI - 20/12/2001 - Fabien Gandon projet ACACIA INRIA Sophia-Antipolis</dc:title>
</cp:coreProperties>
</file>