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5.wmf" ContentType="image/x-wmf"/>
  <Override PartName="/ppt/media/image35.wmf" ContentType="image/x-wmf"/>
  <Override PartName="/ppt/media/image25.png" ContentType="image/png"/>
  <Override PartName="/ppt/media/image30.png" ContentType="image/png"/>
  <Override PartName="/ppt/media/image37.wmf" ContentType="image/x-wmf"/>
  <Override PartName="/ppt/media/image31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50.png" ContentType="image/png"/>
  <Override PartName="/ppt/media/image13.png" ContentType="image/png"/>
  <Override PartName="/ppt/media/image45.wmf" ContentType="image/x-wmf"/>
  <Override PartName="/ppt/media/image10.wmf" ContentType="image/x-wmf"/>
  <Override PartName="/ppt/media/image46.png" ContentType="image/png"/>
  <Override PartName="/ppt/media/image48.png" ContentType="image/png"/>
  <Override PartName="/ppt/media/image11.png" ContentType="image/png"/>
  <Override PartName="/ppt/media/image9.wmf" ContentType="image/x-wmf"/>
  <Override PartName="/ppt/media/image14.png" ContentType="image/png"/>
  <Override PartName="/ppt/media/image40.png" ContentType="image/png"/>
  <Override PartName="/ppt/media/image38.wmf" ContentType="image/x-wmf"/>
  <Override PartName="/ppt/media/image41.wmf" ContentType="image/x-wmf"/>
  <Override PartName="/ppt/media/image39.jpeg" ContentType="image/jpe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47.png" ContentType="image/png"/>
  <Override PartName="/ppt/media/image1.jpeg" ContentType="image/jpeg"/>
  <Override PartName="/ppt/media/image2.png" ContentType="image/png"/>
  <Override PartName="/ppt/media/image32.png" ContentType="image/png"/>
  <Override PartName="/ppt/media/image6.wmf" ContentType="image/x-wmf"/>
  <Override PartName="/ppt/media/image3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F04-4D93-472D-94C5-B9B3DD6F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240" y="368100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6665-04E0-48D6-A11F-4968A4DF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72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40B-DBB9-4674-A893-0196986A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700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140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24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700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140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D0E5-D12B-4A52-8F6F-B321A9DB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240" y="456840"/>
            <a:ext cx="90932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90932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160" y="-63360"/>
            <a:ext cx="910584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240" y="456840"/>
            <a:ext cx="90932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1716-DF30-4D6B-A412-8A7FAD47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172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240" y="368100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172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700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61400" y="45684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24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700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61400" y="3681000"/>
            <a:ext cx="292788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90932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8A16-DCCA-435C-ADC1-3051461F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BC8A-3E05-4597-BED7-9FB8F9BD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D512-F671-4245-9181-00819010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160" y="-63360"/>
            <a:ext cx="910584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52AF-0D7B-4AB9-A4FA-AB925ACA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8A04-5B0E-45D9-9028-DFF23774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720" y="368100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1D52-00F1-476D-AB2F-6CE58E54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24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456840"/>
            <a:ext cx="443736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240" y="3681000"/>
            <a:ext cx="9093240" cy="294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C6E4-B079-461A-898A-1D95DE20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corner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240" y="456840"/>
            <a:ext cx="90932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-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428840" indent="-1904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–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809720" indent="-1904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»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809720" indent="-190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809720" indent="-190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d649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d6497"/>
                </a:solidFill>
                <a:latin typeface="Times New Roman"/>
              </a:rPr>
              <a:t>&lt;date/time&gt;</a:t>
            </a:r>
            <a:r>
              <a:rPr b="0" lang="fr-FR" sz="1400" spc="-1" strike="noStrike">
                <a:solidFill>
                  <a:srgbClr val="5d6497"/>
                </a:solidFill>
                <a:latin typeface="Times New Roman"/>
              </a:rPr>
              <a:t> </a:t>
            </a:r>
            <a:fld id="{F882BC98-7DFF-4C40-80B0-188BEDF303E5}" type="datetime11">
              <a:rPr b="0" lang="fr-FR" sz="1400" spc="-1" strike="noStrike">
                <a:solidFill>
                  <a:srgbClr val="5d6497"/>
                </a:solidFill>
                <a:latin typeface="Times New Roman"/>
              </a:rPr>
              <a:t>19:04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0" y="6629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36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d649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d649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00720" y="-12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CA6A-FF89-4EBC-9BAF-B05D0356C44A}" type="slidenum">
              <a:rPr b="1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160" y="282600"/>
            <a:ext cx="7810560" cy="0"/>
          </a:xfrm>
          <a:prstGeom prst="line">
            <a:avLst/>
          </a:prstGeom>
          <a:ln w="19080">
            <a:solidFill>
              <a:srgbClr val="5d64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rner" descr=""/>
          <p:cNvPicPr/>
          <p:nvPr/>
        </p:nvPicPr>
        <p:blipFill>
          <a:blip r:embed="rId2"/>
          <a:stretch/>
        </p:blipFill>
        <p:spPr>
          <a:xfrm>
            <a:off x="7112160" y="0"/>
            <a:ext cx="2031840" cy="1143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160" y="-36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61718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d649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d649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160" y="282600"/>
            <a:ext cx="7810560" cy="0"/>
          </a:xfrm>
          <a:prstGeom prst="line">
            <a:avLst/>
          </a:prstGeom>
          <a:ln w="19080">
            <a:solidFill>
              <a:srgbClr val="5d64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990720"/>
            <a:ext cx="8382240" cy="17524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ogo_sophia" descr=""/>
          <p:cNvPicPr/>
          <p:nvPr/>
        </p:nvPicPr>
        <p:blipFill>
          <a:blip r:embed="rId3"/>
          <a:stretch/>
        </p:blipFill>
        <p:spPr>
          <a:xfrm>
            <a:off x="7924680" y="250920"/>
            <a:ext cx="1219320" cy="333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857160" algn="ctr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238400" algn="ctr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619280" algn="ctr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  <a:tab algn="l" pos="79246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619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6192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30.png"/><Relationship Id="rId12" Type="http://schemas.openxmlformats.org/officeDocument/2006/relationships/image" Target="../media/image14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17.png"/><Relationship Id="rId30" Type="http://schemas.openxmlformats.org/officeDocument/2006/relationships/image" Target="../media/image14.png"/><Relationship Id="rId31" Type="http://schemas.openxmlformats.org/officeDocument/2006/relationships/image" Target="../media/image16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20.png"/><Relationship Id="rId35" Type="http://schemas.openxmlformats.org/officeDocument/2006/relationships/image" Target="../media/image20.png"/><Relationship Id="rId36" Type="http://schemas.openxmlformats.org/officeDocument/2006/relationships/image" Target="../media/image24.png"/><Relationship Id="rId37" Type="http://schemas.openxmlformats.org/officeDocument/2006/relationships/image" Target="../media/image18.png"/><Relationship Id="rId38" Type="http://schemas.openxmlformats.org/officeDocument/2006/relationships/image" Target="../media/image19.png"/><Relationship Id="rId39" Type="http://schemas.openxmlformats.org/officeDocument/2006/relationships/image" Target="../media/image21.png"/><Relationship Id="rId40" Type="http://schemas.openxmlformats.org/officeDocument/2006/relationships/image" Target="../media/image25.png"/><Relationship Id="rId41" Type="http://schemas.openxmlformats.org/officeDocument/2006/relationships/image" Target="../media/image26.png"/><Relationship Id="rId42" Type="http://schemas.openxmlformats.org/officeDocument/2006/relationships/image" Target="../media/image20.png"/><Relationship Id="rId43" Type="http://schemas.openxmlformats.org/officeDocument/2006/relationships/image" Target="../media/image27.png"/><Relationship Id="rId44" Type="http://schemas.openxmlformats.org/officeDocument/2006/relationships/image" Target="../media/image28.png"/><Relationship Id="rId45" Type="http://schemas.openxmlformats.org/officeDocument/2006/relationships/image" Target="../media/image29.png"/><Relationship Id="rId4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30.png"/><Relationship Id="rId12" Type="http://schemas.openxmlformats.org/officeDocument/2006/relationships/image" Target="../media/image14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17.png"/><Relationship Id="rId30" Type="http://schemas.openxmlformats.org/officeDocument/2006/relationships/image" Target="../media/image14.png"/><Relationship Id="rId31" Type="http://schemas.openxmlformats.org/officeDocument/2006/relationships/image" Target="../media/image16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20.png"/><Relationship Id="rId35" Type="http://schemas.openxmlformats.org/officeDocument/2006/relationships/image" Target="../media/image20.png"/><Relationship Id="rId36" Type="http://schemas.openxmlformats.org/officeDocument/2006/relationships/image" Target="../media/image24.png"/><Relationship Id="rId37" Type="http://schemas.openxmlformats.org/officeDocument/2006/relationships/image" Target="../media/image18.png"/><Relationship Id="rId38" Type="http://schemas.openxmlformats.org/officeDocument/2006/relationships/image" Target="../media/image19.png"/><Relationship Id="rId39" Type="http://schemas.openxmlformats.org/officeDocument/2006/relationships/image" Target="../media/image21.png"/><Relationship Id="rId40" Type="http://schemas.openxmlformats.org/officeDocument/2006/relationships/image" Target="../media/image25.png"/><Relationship Id="rId41" Type="http://schemas.openxmlformats.org/officeDocument/2006/relationships/image" Target="../media/image26.png"/><Relationship Id="rId42" Type="http://schemas.openxmlformats.org/officeDocument/2006/relationships/image" Target="../media/image20.png"/><Relationship Id="rId43" Type="http://schemas.openxmlformats.org/officeDocument/2006/relationships/image" Target="../media/image27.png"/><Relationship Id="rId44" Type="http://schemas.openxmlformats.org/officeDocument/2006/relationships/image" Target="../media/image28.png"/><Relationship Id="rId45" Type="http://schemas.openxmlformats.org/officeDocument/2006/relationships/image" Target="../media/image29.png"/><Relationship Id="rId4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35.wm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35.wm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35.wm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image" Target="../media/image39.jpe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35.wm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35.wm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35.wm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4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14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14.png"/><Relationship Id="rId14" Type="http://schemas.openxmlformats.org/officeDocument/2006/relationships/image" Target="../media/image20.png"/><Relationship Id="rId15" Type="http://schemas.openxmlformats.org/officeDocument/2006/relationships/image" Target="../media/image20.png"/><Relationship Id="rId16" Type="http://schemas.openxmlformats.org/officeDocument/2006/relationships/image" Target="../media/image24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1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0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15.png"/><Relationship Id="rId27" Type="http://schemas.openxmlformats.org/officeDocument/2006/relationships/image" Target="../media/image16.png"/><Relationship Id="rId2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30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4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image" Target="../media/image21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0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30.png"/><Relationship Id="rId12" Type="http://schemas.openxmlformats.org/officeDocument/2006/relationships/image" Target="../media/image14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17.png"/><Relationship Id="rId30" Type="http://schemas.openxmlformats.org/officeDocument/2006/relationships/image" Target="../media/image14.png"/><Relationship Id="rId31" Type="http://schemas.openxmlformats.org/officeDocument/2006/relationships/image" Target="../media/image16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20.png"/><Relationship Id="rId35" Type="http://schemas.openxmlformats.org/officeDocument/2006/relationships/image" Target="../media/image20.png"/><Relationship Id="rId36" Type="http://schemas.openxmlformats.org/officeDocument/2006/relationships/image" Target="../media/image24.png"/><Relationship Id="rId37" Type="http://schemas.openxmlformats.org/officeDocument/2006/relationships/image" Target="../media/image18.png"/><Relationship Id="rId38" Type="http://schemas.openxmlformats.org/officeDocument/2006/relationships/image" Target="../media/image19.png"/><Relationship Id="rId39" Type="http://schemas.openxmlformats.org/officeDocument/2006/relationships/image" Target="../media/image21.png"/><Relationship Id="rId40" Type="http://schemas.openxmlformats.org/officeDocument/2006/relationships/image" Target="../media/image25.png"/><Relationship Id="rId41" Type="http://schemas.openxmlformats.org/officeDocument/2006/relationships/image" Target="../media/image26.png"/><Relationship Id="rId42" Type="http://schemas.openxmlformats.org/officeDocument/2006/relationships/image" Target="../media/image20.png"/><Relationship Id="rId43" Type="http://schemas.openxmlformats.org/officeDocument/2006/relationships/image" Target="../media/image27.png"/><Relationship Id="rId44" Type="http://schemas.openxmlformats.org/officeDocument/2006/relationships/image" Target="../media/image28.png"/><Relationship Id="rId45" Type="http://schemas.openxmlformats.org/officeDocument/2006/relationships/image" Target="../media/image29.png"/><Relationship Id="rId4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Winner" descr=""/>
          <p:cNvPicPr/>
          <p:nvPr/>
        </p:nvPicPr>
        <p:blipFill>
          <a:blip r:embed="rId1"/>
          <a:stretch/>
        </p:blipFill>
        <p:spPr>
          <a:xfrm>
            <a:off x="1981080" y="3921120"/>
            <a:ext cx="5029200" cy="1612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160" y="-36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Fabien Gandon, Rose Dieng-Kuntz - INRIA - ACACIA Team - CIA 2002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Arial"/>
              </a:rPr>
              <a:t>Distributed Artificial Intelligence for Distributed Corporate Knowledge Management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55520" y="3581280"/>
            <a:ext cx="6945480" cy="2362320"/>
          </a:xfrm>
          <a:prstGeom prst="ellipse">
            <a:avLst/>
          </a:prstGeom>
          <a:noFill/>
          <a:ln w="52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1811160" cy="60156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3975120" y="5410080"/>
            <a:ext cx="1390320" cy="1371240"/>
            <a:chOff x="3975120" y="5410080"/>
            <a:chExt cx="1390320" cy="1371240"/>
          </a:xfrm>
        </p:grpSpPr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3975120" y="5410080"/>
              <a:ext cx="1390320" cy="13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tretch/>
          </p:blipFill>
          <p:spPr>
            <a:xfrm>
              <a:off x="3975120" y="5410080"/>
              <a:ext cx="1390320" cy="137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7162920" y="4114800"/>
            <a:ext cx="1612800" cy="77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457200" y="5073480"/>
            <a:ext cx="1523880" cy="94644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1523880" y="3289320"/>
            <a:ext cx="1752480" cy="990360"/>
            <a:chOff x="1523880" y="3289320"/>
            <a:chExt cx="1752480" cy="990360"/>
          </a:xfrm>
        </p:grpSpPr>
        <p:pic>
          <p:nvPicPr>
            <p:cNvPr id="97" name="" descr=""/>
            <p:cNvPicPr/>
            <p:nvPr/>
          </p:nvPicPr>
          <p:blipFill>
            <a:blip r:embed="rId7"/>
            <a:stretch/>
          </p:blipFill>
          <p:spPr>
            <a:xfrm>
              <a:off x="1523880" y="3289320"/>
              <a:ext cx="175248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8"/>
            <a:stretch/>
          </p:blipFill>
          <p:spPr>
            <a:xfrm>
              <a:off x="1523880" y="3289320"/>
              <a:ext cx="1752480" cy="99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6324480" y="5410080"/>
            <a:ext cx="1752840" cy="757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124080" y="358128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abien.Gandon@sophia.inria.f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Overall Schema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66800" y="1295280"/>
            <a:ext cx="7772400" cy="4380120"/>
            <a:chOff x="766800" y="1295280"/>
            <a:chExt cx="7772400" cy="4380120"/>
          </a:xfrm>
        </p:grpSpPr>
        <p:sp>
          <p:nvSpPr>
            <p:cNvPr id="525" name=""/>
            <p:cNvSpPr/>
            <p:nvPr/>
          </p:nvSpPr>
          <p:spPr>
            <a:xfrm>
              <a:off x="76680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3882960" y="1374840"/>
              <a:ext cx="1657080" cy="4181400"/>
              <a:chOff x="3882960" y="1374840"/>
              <a:chExt cx="1657080" cy="4181400"/>
            </a:xfrm>
          </p:grpSpPr>
          <p:sp>
            <p:nvSpPr>
              <p:cNvPr id="527" name=""/>
              <p:cNvSpPr/>
              <p:nvPr/>
            </p:nvSpPr>
            <p:spPr>
              <a:xfrm>
                <a:off x="388296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04172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1573200" y="2728800"/>
              <a:ext cx="6532560" cy="995400"/>
              <a:chOff x="1573200" y="2728800"/>
              <a:chExt cx="6532560" cy="995400"/>
            </a:xfrm>
          </p:grpSpPr>
          <p:sp>
            <p:nvSpPr>
              <p:cNvPr id="530" name=""/>
              <p:cNvSpPr/>
              <p:nvPr/>
            </p:nvSpPr>
            <p:spPr>
              <a:xfrm>
                <a:off x="157320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38676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4356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59552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98936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35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220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536" name=""/>
              <p:cNvGrpSpPr/>
              <p:nvPr/>
            </p:nvGrpSpPr>
            <p:grpSpPr>
              <a:xfrm>
                <a:off x="5540400" y="3048120"/>
                <a:ext cx="908280" cy="636120"/>
                <a:chOff x="5540400" y="3048120"/>
                <a:chExt cx="908280" cy="63612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54040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38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652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539" name=""/>
              <p:cNvSpPr/>
              <p:nvPr/>
            </p:nvSpPr>
            <p:spPr>
              <a:xfrm>
                <a:off x="388332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0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90196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541" name=""/>
              <p:cNvSpPr/>
              <p:nvPr/>
            </p:nvSpPr>
            <p:spPr>
              <a:xfrm>
                <a:off x="262116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44868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92172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44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9456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545" name=""/>
              <p:cNvGrpSpPr/>
              <p:nvPr/>
            </p:nvGrpSpPr>
            <p:grpSpPr>
              <a:xfrm>
                <a:off x="3410280" y="2860560"/>
                <a:ext cx="907920" cy="635040"/>
                <a:chOff x="3410280" y="2860560"/>
                <a:chExt cx="907920" cy="635040"/>
              </a:xfrm>
            </p:grpSpPr>
            <p:pic>
              <p:nvPicPr>
                <p:cNvPr id="546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640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547" name=""/>
                <p:cNvSpPr/>
                <p:nvPr/>
              </p:nvSpPr>
              <p:spPr>
                <a:xfrm>
                  <a:off x="341028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48" name=""/>
          <p:cNvGrpSpPr/>
          <p:nvPr/>
        </p:nvGrpSpPr>
        <p:grpSpPr>
          <a:xfrm>
            <a:off x="923760" y="3763800"/>
            <a:ext cx="1101240" cy="1552680"/>
            <a:chOff x="923760" y="3763800"/>
            <a:chExt cx="1101240" cy="1552680"/>
          </a:xfrm>
        </p:grpSpPr>
        <p:sp>
          <p:nvSpPr>
            <p:cNvPr id="549" name=""/>
            <p:cNvSpPr/>
            <p:nvPr/>
          </p:nvSpPr>
          <p:spPr>
            <a:xfrm>
              <a:off x="923760" y="471960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1595160" y="3763800"/>
              <a:ext cx="429840" cy="1181160"/>
              <a:chOff x="1595160" y="3763800"/>
              <a:chExt cx="429840" cy="1181160"/>
            </a:xfrm>
          </p:grpSpPr>
          <p:grpSp>
            <p:nvGrpSpPr>
              <p:cNvPr id="551" name=""/>
              <p:cNvGrpSpPr/>
              <p:nvPr/>
            </p:nvGrpSpPr>
            <p:grpSpPr>
              <a:xfrm>
                <a:off x="1595160" y="3763800"/>
                <a:ext cx="210960" cy="97920"/>
                <a:chOff x="1595160" y="3763800"/>
                <a:chExt cx="210960" cy="979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1595160" y="383760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647000" y="377424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719720" y="376380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760040" y="380124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1669680" y="3833640"/>
                <a:ext cx="355320" cy="1111320"/>
                <a:chOff x="1669680" y="3833640"/>
                <a:chExt cx="355320" cy="111132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1733760" y="401652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861560" y="383364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669680" y="423252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786320" y="422064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746720" y="448128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857240" y="448128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63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634400" y="382500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64" name=""/>
          <p:cNvGrpSpPr/>
          <p:nvPr/>
        </p:nvGrpSpPr>
        <p:grpSpPr>
          <a:xfrm>
            <a:off x="846000" y="1374840"/>
            <a:ext cx="1774800" cy="1433520"/>
            <a:chOff x="846000" y="1374840"/>
            <a:chExt cx="1774800" cy="1433520"/>
          </a:xfrm>
        </p:grpSpPr>
        <p:sp>
          <p:nvSpPr>
            <p:cNvPr id="565" name=""/>
            <p:cNvSpPr/>
            <p:nvPr/>
          </p:nvSpPr>
          <p:spPr>
            <a:xfrm>
              <a:off x="846000" y="244944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thor and/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notator of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1398240" y="1374840"/>
              <a:ext cx="789120" cy="1231920"/>
              <a:chOff x="1398240" y="1374840"/>
              <a:chExt cx="789120" cy="1231920"/>
            </a:xfrm>
          </p:grpSpPr>
          <p:grpSp>
            <p:nvGrpSpPr>
              <p:cNvPr id="567" name=""/>
              <p:cNvGrpSpPr/>
              <p:nvPr/>
            </p:nvGrpSpPr>
            <p:grpSpPr>
              <a:xfrm>
                <a:off x="1673640" y="1822680"/>
                <a:ext cx="477360" cy="784080"/>
                <a:chOff x="1673640" y="1822680"/>
                <a:chExt cx="477360" cy="78408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1882800" y="208332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926000" y="232992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758240" y="231624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673640" y="208404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993680" y="182268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838880" y="186624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1684440" y="1374840"/>
                <a:ext cx="236520" cy="239040"/>
                <a:chOff x="1684440" y="1374840"/>
                <a:chExt cx="236520" cy="23904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1684440" y="137484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76" name="doc_0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11440" y="139644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577" name=""/>
              <p:cNvGrpSpPr/>
              <p:nvPr/>
            </p:nvGrpSpPr>
            <p:grpSpPr>
              <a:xfrm>
                <a:off x="1398240" y="1498320"/>
                <a:ext cx="255240" cy="278640"/>
                <a:chOff x="1398240" y="1498320"/>
                <a:chExt cx="255240" cy="27864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1398240" y="149832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79" name="doc_0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406520" y="151704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80" name=""/>
              <p:cNvGrpSpPr/>
              <p:nvPr/>
            </p:nvGrpSpPr>
            <p:grpSpPr>
              <a:xfrm>
                <a:off x="1555920" y="1817280"/>
                <a:ext cx="204120" cy="245160"/>
                <a:chOff x="1555920" y="1817280"/>
                <a:chExt cx="204120" cy="24516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1555920" y="181728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82" name="doc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76440" y="183384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83" name=""/>
              <p:cNvGrpSpPr/>
              <p:nvPr/>
            </p:nvGrpSpPr>
            <p:grpSpPr>
              <a:xfrm>
                <a:off x="1950480" y="1538280"/>
                <a:ext cx="236880" cy="278640"/>
                <a:chOff x="1950480" y="1538280"/>
                <a:chExt cx="236880" cy="27864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1950480" y="153828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85" name="doc_05gif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955880" y="157176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586" name=""/>
          <p:cNvGrpSpPr/>
          <p:nvPr/>
        </p:nvGrpSpPr>
        <p:grpSpPr>
          <a:xfrm>
            <a:off x="7118280" y="4521240"/>
            <a:ext cx="1106280" cy="1193760"/>
            <a:chOff x="7118280" y="4521240"/>
            <a:chExt cx="1106280" cy="1193760"/>
          </a:xfrm>
        </p:grpSpPr>
        <p:sp>
          <p:nvSpPr>
            <p:cNvPr id="587" name=""/>
            <p:cNvSpPr/>
            <p:nvPr/>
          </p:nvSpPr>
          <p:spPr>
            <a:xfrm>
              <a:off x="7118280" y="546732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d 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7276680" y="4600440"/>
              <a:ext cx="430200" cy="903600"/>
              <a:chOff x="7276680" y="4600440"/>
              <a:chExt cx="430200" cy="903600"/>
            </a:xfrm>
          </p:grpSpPr>
          <p:sp>
            <p:nvSpPr>
              <p:cNvPr id="589" name=""/>
              <p:cNvSpPr/>
              <p:nvPr/>
            </p:nvSpPr>
            <p:spPr>
              <a:xfrm flipH="1">
                <a:off x="7401240" y="465084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7512480" y="460044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7422840" y="486252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7321680" y="487080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7276320" y="512928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7456320" y="512856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7710120" y="4521240"/>
              <a:ext cx="473400" cy="396720"/>
              <a:chOff x="7710120" y="4521240"/>
              <a:chExt cx="473400" cy="396720"/>
            </a:xfrm>
          </p:grpSpPr>
          <p:sp>
            <p:nvSpPr>
              <p:cNvPr id="596" name=""/>
              <p:cNvSpPr/>
              <p:nvPr/>
            </p:nvSpPr>
            <p:spPr>
              <a:xfrm>
                <a:off x="7710120" y="452124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97" name="inter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26400" y="45914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98" name=""/>
          <p:cNvGrpSpPr/>
          <p:nvPr/>
        </p:nvGrpSpPr>
        <p:grpSpPr>
          <a:xfrm>
            <a:off x="2187720" y="1785960"/>
            <a:ext cx="1617120" cy="903240"/>
            <a:chOff x="2187720" y="1785960"/>
            <a:chExt cx="1617120" cy="903240"/>
          </a:xfrm>
        </p:grpSpPr>
        <p:pic>
          <p:nvPicPr>
            <p:cNvPr id="599" name="" descr=""/>
            <p:cNvPicPr/>
            <p:nvPr/>
          </p:nvPicPr>
          <p:blipFill>
            <a:blip r:embed="rId12"/>
            <a:stretch/>
          </p:blipFill>
          <p:spPr>
            <a:xfrm>
              <a:off x="2187720" y="2262240"/>
              <a:ext cx="23616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0" name=""/>
            <p:cNvGrpSpPr/>
            <p:nvPr/>
          </p:nvGrpSpPr>
          <p:grpSpPr>
            <a:xfrm>
              <a:off x="2463480" y="1785960"/>
              <a:ext cx="1025280" cy="903240"/>
              <a:chOff x="2463480" y="1785960"/>
              <a:chExt cx="1025280" cy="903240"/>
            </a:xfrm>
          </p:grpSpPr>
          <p:sp>
            <p:nvSpPr>
              <p:cNvPr id="601" name=""/>
              <p:cNvSpPr/>
              <p:nvPr/>
            </p:nvSpPr>
            <p:spPr>
              <a:xfrm>
                <a:off x="2463480" y="2052000"/>
                <a:ext cx="102528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463480" y="1785960"/>
                <a:ext cx="102528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481120" y="2054880"/>
                <a:ext cx="10072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857680" y="228744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540160" y="181656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6" name="" descr=""/>
            <p:cNvPicPr/>
            <p:nvPr/>
          </p:nvPicPr>
          <p:blipFill>
            <a:blip r:embed="rId15"/>
            <a:stretch/>
          </p:blipFill>
          <p:spPr>
            <a:xfrm>
              <a:off x="3568320" y="2251080"/>
              <a:ext cx="23652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7" name=""/>
          <p:cNvGrpSpPr/>
          <p:nvPr/>
        </p:nvGrpSpPr>
        <p:grpSpPr>
          <a:xfrm>
            <a:off x="5460840" y="4560840"/>
            <a:ext cx="1697040" cy="995400"/>
            <a:chOff x="5460840" y="4560840"/>
            <a:chExt cx="1697040" cy="995400"/>
          </a:xfrm>
        </p:grpSpPr>
        <p:pic>
          <p:nvPicPr>
            <p:cNvPr id="608" name="" descr=""/>
            <p:cNvPicPr/>
            <p:nvPr/>
          </p:nvPicPr>
          <p:blipFill>
            <a:blip r:embed="rId16"/>
            <a:stretch/>
          </p:blipFill>
          <p:spPr>
            <a:xfrm>
              <a:off x="5460840" y="503856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" descr=""/>
            <p:cNvPicPr/>
            <p:nvPr/>
          </p:nvPicPr>
          <p:blipFill>
            <a:blip r:embed="rId17"/>
            <a:stretch/>
          </p:blipFill>
          <p:spPr>
            <a:xfrm>
              <a:off x="6921360" y="503856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"/>
            <p:cNvGrpSpPr/>
            <p:nvPr/>
          </p:nvGrpSpPr>
          <p:grpSpPr>
            <a:xfrm>
              <a:off x="5736960" y="4560840"/>
              <a:ext cx="1104840" cy="995400"/>
              <a:chOff x="5736960" y="4560840"/>
              <a:chExt cx="1104840" cy="99540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5736960" y="4560840"/>
                <a:ext cx="1026000" cy="902880"/>
                <a:chOff x="5736960" y="4560840"/>
                <a:chExt cx="1026000" cy="90288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736960" y="482688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36960" y="45608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754600" y="482940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1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131520" y="50623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5813640" y="4591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17" name=""/>
              <p:cNvGrpSpPr/>
              <p:nvPr/>
            </p:nvGrpSpPr>
            <p:grpSpPr>
              <a:xfrm>
                <a:off x="5776200" y="4600440"/>
                <a:ext cx="1026000" cy="903240"/>
                <a:chOff x="5776200" y="4600440"/>
                <a:chExt cx="1026000" cy="90324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5776200" y="486648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776200" y="46004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793840" y="486936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2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6170760" y="51019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5852880" y="46310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23" name=""/>
              <p:cNvGrpSpPr/>
              <p:nvPr/>
            </p:nvGrpSpPr>
            <p:grpSpPr>
              <a:xfrm>
                <a:off x="5815800" y="4653000"/>
                <a:ext cx="1026000" cy="903240"/>
                <a:chOff x="5815800" y="4653000"/>
                <a:chExt cx="1026000" cy="90324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5815800" y="491904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815800" y="465300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833440" y="49219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2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210360" y="515448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5892480" y="468360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629" name=""/>
          <p:cNvGrpSpPr/>
          <p:nvPr/>
        </p:nvGrpSpPr>
        <p:grpSpPr>
          <a:xfrm>
            <a:off x="2227320" y="3882960"/>
            <a:ext cx="2168640" cy="677520"/>
            <a:chOff x="2227320" y="3882960"/>
            <a:chExt cx="2168640" cy="677520"/>
          </a:xfrm>
        </p:grpSpPr>
        <p:pic>
          <p:nvPicPr>
            <p:cNvPr id="630" name="" descr=""/>
            <p:cNvPicPr/>
            <p:nvPr/>
          </p:nvPicPr>
          <p:blipFill>
            <a:blip r:embed="rId24"/>
            <a:stretch/>
          </p:blipFill>
          <p:spPr>
            <a:xfrm>
              <a:off x="222732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25"/>
            <a:stretch/>
          </p:blipFill>
          <p:spPr>
            <a:xfrm>
              <a:off x="352908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2" name=""/>
            <p:cNvGrpSpPr/>
            <p:nvPr/>
          </p:nvGrpSpPr>
          <p:grpSpPr>
            <a:xfrm>
              <a:off x="2424240" y="3882960"/>
              <a:ext cx="1008000" cy="677520"/>
              <a:chOff x="2424240" y="3882960"/>
              <a:chExt cx="1008000" cy="677520"/>
            </a:xfrm>
          </p:grpSpPr>
          <p:sp>
            <p:nvSpPr>
              <p:cNvPr id="633" name=""/>
              <p:cNvSpPr/>
              <p:nvPr/>
            </p:nvSpPr>
            <p:spPr>
              <a:xfrm>
                <a:off x="2581920" y="392256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34" name="onto_01" descr=""/>
              <p:cNvPicPr/>
              <p:nvPr/>
            </p:nvPicPr>
            <p:blipFill>
              <a:blip r:embed="rId26"/>
              <a:stretch/>
            </p:blipFill>
            <p:spPr>
              <a:xfrm>
                <a:off x="2739960" y="415620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5" name=""/>
              <p:cNvSpPr/>
              <p:nvPr/>
            </p:nvSpPr>
            <p:spPr>
              <a:xfrm>
                <a:off x="2424240" y="3882960"/>
                <a:ext cx="100800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Ontolog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36" name="onto_01" descr=""/>
            <p:cNvPicPr/>
            <p:nvPr/>
          </p:nvPicPr>
          <p:blipFill>
            <a:blip r:embed="rId27"/>
            <a:stretch/>
          </p:blipFill>
          <p:spPr>
            <a:xfrm>
              <a:off x="4081680" y="4122720"/>
              <a:ext cx="31428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7" name=""/>
          <p:cNvGrpSpPr/>
          <p:nvPr/>
        </p:nvGrpSpPr>
        <p:grpSpPr>
          <a:xfrm>
            <a:off x="2014560" y="4633920"/>
            <a:ext cx="1631880" cy="882360"/>
            <a:chOff x="2014560" y="4633920"/>
            <a:chExt cx="1631880" cy="882360"/>
          </a:xfrm>
        </p:grpSpPr>
        <p:grpSp>
          <p:nvGrpSpPr>
            <p:cNvPr id="638" name=""/>
            <p:cNvGrpSpPr/>
            <p:nvPr/>
          </p:nvGrpSpPr>
          <p:grpSpPr>
            <a:xfrm>
              <a:off x="2014560" y="4917960"/>
              <a:ext cx="1631880" cy="598320"/>
              <a:chOff x="2014560" y="4917960"/>
              <a:chExt cx="1631880" cy="598320"/>
            </a:xfrm>
          </p:grpSpPr>
          <p:sp>
            <p:nvSpPr>
              <p:cNvPr id="639" name=""/>
              <p:cNvSpPr/>
              <p:nvPr/>
            </p:nvSpPr>
            <p:spPr>
              <a:xfrm>
                <a:off x="2093400" y="4957560"/>
                <a:ext cx="1340640" cy="55872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40" name="onto_02" descr=""/>
              <p:cNvPicPr/>
              <p:nvPr/>
            </p:nvPicPr>
            <p:blipFill>
              <a:blip r:embed="rId28"/>
              <a:stretch/>
            </p:blipFill>
            <p:spPr>
              <a:xfrm>
                <a:off x="2132640" y="5161680"/>
                <a:ext cx="2757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1" name=""/>
              <p:cNvSpPr/>
              <p:nvPr/>
            </p:nvSpPr>
            <p:spPr>
              <a:xfrm>
                <a:off x="2014560" y="4917960"/>
                <a:ext cx="74916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Mode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316240" y="5117400"/>
                <a:ext cx="133020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Enterprise Mode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User's Profil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43" name="" descr=""/>
            <p:cNvPicPr/>
            <p:nvPr/>
          </p:nvPicPr>
          <p:blipFill>
            <a:blip r:embed="rId29"/>
            <a:stretch/>
          </p:blipFill>
          <p:spPr>
            <a:xfrm>
              <a:off x="2817720" y="4633920"/>
              <a:ext cx="23616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"/>
          <p:cNvGrpSpPr/>
          <p:nvPr/>
        </p:nvGrpSpPr>
        <p:grpSpPr>
          <a:xfrm>
            <a:off x="3529080" y="4998960"/>
            <a:ext cx="1065240" cy="357120"/>
            <a:chOff x="3529080" y="4998960"/>
            <a:chExt cx="1065240" cy="357120"/>
          </a:xfrm>
        </p:grpSpPr>
        <p:pic>
          <p:nvPicPr>
            <p:cNvPr id="645" name="" descr=""/>
            <p:cNvPicPr/>
            <p:nvPr/>
          </p:nvPicPr>
          <p:blipFill>
            <a:blip r:embed="rId30"/>
            <a:stretch/>
          </p:blipFill>
          <p:spPr>
            <a:xfrm>
              <a:off x="3529080" y="507852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onto_02" descr=""/>
            <p:cNvPicPr/>
            <p:nvPr/>
          </p:nvPicPr>
          <p:blipFill>
            <a:blip r:embed="rId31"/>
            <a:stretch/>
          </p:blipFill>
          <p:spPr>
            <a:xfrm>
              <a:off x="4238640" y="499896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7" name=""/>
          <p:cNvGrpSpPr/>
          <p:nvPr/>
        </p:nvGrpSpPr>
        <p:grpSpPr>
          <a:xfrm>
            <a:off x="7197840" y="3787920"/>
            <a:ext cx="631800" cy="772920"/>
            <a:chOff x="7197840" y="3787920"/>
            <a:chExt cx="631800" cy="772920"/>
          </a:xfrm>
        </p:grpSpPr>
        <p:pic>
          <p:nvPicPr>
            <p:cNvPr id="648" name="" descr=""/>
            <p:cNvPicPr/>
            <p:nvPr/>
          </p:nvPicPr>
          <p:blipFill>
            <a:blip r:embed="rId32"/>
            <a:stretch/>
          </p:blipFill>
          <p:spPr>
            <a:xfrm>
              <a:off x="7394760" y="432108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9" name=""/>
            <p:cNvGrpSpPr/>
            <p:nvPr/>
          </p:nvGrpSpPr>
          <p:grpSpPr>
            <a:xfrm>
              <a:off x="7197840" y="3787920"/>
              <a:ext cx="631800" cy="490320"/>
              <a:chOff x="7197840" y="3787920"/>
              <a:chExt cx="631800" cy="490320"/>
            </a:xfrm>
          </p:grpSpPr>
          <p:sp>
            <p:nvSpPr>
              <p:cNvPr id="650" name=""/>
              <p:cNvSpPr/>
              <p:nvPr/>
            </p:nvSpPr>
            <p:spPr>
              <a:xfrm>
                <a:off x="7237080" y="384012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197840" y="378792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Query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52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434720" y="402120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53" name=""/>
          <p:cNvGrpSpPr/>
          <p:nvPr/>
        </p:nvGrpSpPr>
        <p:grpSpPr>
          <a:xfrm>
            <a:off x="3938760" y="1697040"/>
            <a:ext cx="1375920" cy="3565440"/>
            <a:chOff x="3938760" y="1697040"/>
            <a:chExt cx="1375920" cy="3565440"/>
          </a:xfrm>
        </p:grpSpPr>
        <p:pic>
          <p:nvPicPr>
            <p:cNvPr id="654" name="doc_01" descr=""/>
            <p:cNvPicPr/>
            <p:nvPr/>
          </p:nvPicPr>
          <p:blipFill>
            <a:blip r:embed="rId34"/>
            <a:stretch/>
          </p:blipFill>
          <p:spPr>
            <a:xfrm>
              <a:off x="4898880" y="2311200"/>
              <a:ext cx="22644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doc_01" descr=""/>
            <p:cNvPicPr/>
            <p:nvPr/>
          </p:nvPicPr>
          <p:blipFill>
            <a:blip r:embed="rId35"/>
            <a:stretch/>
          </p:blipFill>
          <p:spPr>
            <a:xfrm>
              <a:off x="4857120" y="223200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memory_01" descr=""/>
            <p:cNvPicPr/>
            <p:nvPr/>
          </p:nvPicPr>
          <p:blipFill>
            <a:blip r:embed="rId36"/>
            <a:stretch/>
          </p:blipFill>
          <p:spPr>
            <a:xfrm>
              <a:off x="3938760" y="1697040"/>
              <a:ext cx="35064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doc_03" descr=""/>
            <p:cNvPicPr/>
            <p:nvPr/>
          </p:nvPicPr>
          <p:blipFill>
            <a:blip r:embed="rId37"/>
            <a:stretch/>
          </p:blipFill>
          <p:spPr>
            <a:xfrm>
              <a:off x="4105080" y="4467240"/>
              <a:ext cx="41760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658" name="doc_04" descr=""/>
            <p:cNvPicPr/>
            <p:nvPr/>
          </p:nvPicPr>
          <p:blipFill>
            <a:blip r:embed="rId38"/>
            <a:stretch/>
          </p:blipFill>
          <p:spPr>
            <a:xfrm>
              <a:off x="4022640" y="2192400"/>
              <a:ext cx="2916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doc_05gif" descr=""/>
            <p:cNvPicPr/>
            <p:nvPr/>
          </p:nvPicPr>
          <p:blipFill>
            <a:blip r:embed="rId39"/>
            <a:stretch/>
          </p:blipFill>
          <p:spPr>
            <a:xfrm>
              <a:off x="4731120" y="4386240"/>
              <a:ext cx="321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" descr=""/>
            <p:cNvPicPr/>
            <p:nvPr/>
          </p:nvPicPr>
          <p:blipFill>
            <a:blip r:embed="rId40"/>
            <a:stretch/>
          </p:blipFill>
          <p:spPr>
            <a:xfrm>
              <a:off x="4648680" y="3824280"/>
              <a:ext cx="4345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" descr=""/>
            <p:cNvPicPr/>
            <p:nvPr/>
          </p:nvPicPr>
          <p:blipFill>
            <a:blip r:embed="rId41"/>
            <a:stretch/>
          </p:blipFill>
          <p:spPr>
            <a:xfrm>
              <a:off x="4464360" y="1736640"/>
              <a:ext cx="3502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doc_01" descr=""/>
            <p:cNvPicPr/>
            <p:nvPr/>
          </p:nvPicPr>
          <p:blipFill>
            <a:blip r:embed="rId42"/>
            <a:stretch/>
          </p:blipFill>
          <p:spPr>
            <a:xfrm>
              <a:off x="4940640" y="235116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" descr=""/>
            <p:cNvPicPr/>
            <p:nvPr/>
          </p:nvPicPr>
          <p:blipFill>
            <a:blip r:embed="rId43"/>
            <a:stretch/>
          </p:blipFill>
          <p:spPr>
            <a:xfrm>
              <a:off x="4980960" y="4944960"/>
              <a:ext cx="333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" descr=""/>
            <p:cNvPicPr/>
            <p:nvPr/>
          </p:nvPicPr>
          <p:blipFill>
            <a:blip r:embed="rId44"/>
            <a:stretch/>
          </p:blipFill>
          <p:spPr>
            <a:xfrm>
              <a:off x="4439160" y="2351160"/>
              <a:ext cx="35208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" name="" descr=""/>
            <p:cNvPicPr/>
            <p:nvPr/>
          </p:nvPicPr>
          <p:blipFill>
            <a:blip r:embed="rId45"/>
            <a:stretch/>
          </p:blipFill>
          <p:spPr>
            <a:xfrm>
              <a:off x="4980960" y="1793880"/>
              <a:ext cx="333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6" name=""/>
          <p:cNvSpPr txBox="1"/>
          <p:nvPr/>
        </p:nvSpPr>
        <p:spPr>
          <a:xfrm>
            <a:off x="2108160" y="464040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2778120" y="1494000"/>
            <a:ext cx="237960" cy="1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6961320" y="475920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2147760" y="3605040"/>
            <a:ext cx="1971720" cy="1273320"/>
            <a:chOff x="2147760" y="3605040"/>
            <a:chExt cx="1971720" cy="1273320"/>
          </a:xfrm>
        </p:grpSpPr>
        <p:sp>
          <p:nvSpPr>
            <p:cNvPr id="670" name=""/>
            <p:cNvSpPr/>
            <p:nvPr/>
          </p:nvSpPr>
          <p:spPr>
            <a:xfrm>
              <a:off x="3449520" y="360504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2147760" y="360504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92200" y="368460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712880" y="2610000"/>
            <a:ext cx="947160" cy="396720"/>
            <a:chOff x="1712880" y="2610000"/>
            <a:chExt cx="947160" cy="396720"/>
          </a:xfrm>
        </p:grpSpPr>
        <p:sp>
          <p:nvSpPr>
            <p:cNvPr id="674" name=""/>
            <p:cNvSpPr/>
            <p:nvPr/>
          </p:nvSpPr>
          <p:spPr>
            <a:xfrm>
              <a:off x="1712880" y="271476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028240" y="261000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5262480" y="2057040"/>
            <a:ext cx="2247840" cy="2503800"/>
            <a:chOff x="5262480" y="2057040"/>
            <a:chExt cx="2247840" cy="2503800"/>
          </a:xfrm>
        </p:grpSpPr>
        <p:sp>
          <p:nvSpPr>
            <p:cNvPr id="677" name=""/>
            <p:cNvSpPr/>
            <p:nvPr/>
          </p:nvSpPr>
          <p:spPr>
            <a:xfrm flipH="1" flipV="1">
              <a:off x="5262480" y="205704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078680" y="336564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6368760" y="368460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960960" y="368460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067000" y="3565440"/>
            <a:ext cx="2130840" cy="1035000"/>
            <a:chOff x="5067000" y="3565440"/>
            <a:chExt cx="2130840" cy="1035000"/>
          </a:xfrm>
        </p:grpSpPr>
        <p:sp>
          <p:nvSpPr>
            <p:cNvPr id="682" name=""/>
            <p:cNvSpPr/>
            <p:nvPr/>
          </p:nvSpPr>
          <p:spPr>
            <a:xfrm flipH="1">
              <a:off x="5067000" y="3565440"/>
              <a:ext cx="55260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5896080" y="362556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251760" y="3684600"/>
              <a:ext cx="94608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698400" y="1143000"/>
            <a:ext cx="8013600" cy="4647960"/>
            <a:chOff x="698400" y="1143000"/>
            <a:chExt cx="8013600" cy="4647960"/>
          </a:xfrm>
        </p:grpSpPr>
        <p:sp>
          <p:nvSpPr>
            <p:cNvPr id="686" name=""/>
            <p:cNvSpPr/>
            <p:nvPr/>
          </p:nvSpPr>
          <p:spPr>
            <a:xfrm>
              <a:off x="711000" y="1143000"/>
              <a:ext cx="312444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1000" y="5562360"/>
              <a:ext cx="8001000" cy="228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11000" y="3886200"/>
              <a:ext cx="1828800" cy="990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587920" y="1295280"/>
              <a:ext cx="3124080" cy="4267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98400" y="4572000"/>
              <a:ext cx="1384200" cy="990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82600" y="5562360"/>
              <a:ext cx="35053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835440" y="1295280"/>
              <a:ext cx="17524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39800" y="3886200"/>
              <a:ext cx="1295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082600" y="4876560"/>
              <a:ext cx="4572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082600" y="4876560"/>
              <a:ext cx="0" cy="685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835440" y="1295280"/>
              <a:ext cx="0" cy="2590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87920" y="1295280"/>
              <a:ext cx="0" cy="4267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539800" y="3886200"/>
              <a:ext cx="0" cy="99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AB96-EA65-44E4-AB6B-5C9E074CC3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Illustration of the cycle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304920" y="1422360"/>
            <a:ext cx="2514600" cy="4998600"/>
            <a:chOff x="304920" y="1422360"/>
            <a:chExt cx="2514600" cy="4998600"/>
          </a:xfrm>
        </p:grpSpPr>
        <p:sp>
          <p:nvSpPr>
            <p:cNvPr id="701" name=""/>
            <p:cNvSpPr/>
            <p:nvPr/>
          </p:nvSpPr>
          <p:spPr>
            <a:xfrm>
              <a:off x="304920" y="1422360"/>
              <a:ext cx="2514600" cy="4495680"/>
            </a:xfrm>
            <a:prstGeom prst="rect">
              <a:avLst/>
            </a:prstGeom>
            <a:solidFill>
              <a:srgbClr val="e3e4ed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57200" y="6146640"/>
              <a:ext cx="19051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 - Rea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330120" y="1815840"/>
              <a:ext cx="2438280" cy="519840"/>
              <a:chOff x="330120" y="1815840"/>
              <a:chExt cx="2438280" cy="519840"/>
            </a:xfrm>
          </p:grpSpPr>
          <p:sp>
            <p:nvSpPr>
              <p:cNvPr id="704" name=""/>
              <p:cNvSpPr/>
              <p:nvPr/>
            </p:nvSpPr>
            <p:spPr>
              <a:xfrm>
                <a:off x="21589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3875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346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824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301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0159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445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4731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7017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9303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632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0918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204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5490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7776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0062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34880" y="1945440"/>
                <a:ext cx="381240" cy="129960"/>
              </a:xfrm>
              <a:prstGeom prst="parallelogram">
                <a:avLst>
                  <a:gd name="adj" fmla="val 12223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110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396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1682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3968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6254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8540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082600" y="207576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587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873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0159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2445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4731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7017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930320" y="2205720"/>
                <a:ext cx="380880" cy="129960"/>
              </a:xfrm>
              <a:prstGeom prst="parallelogram">
                <a:avLst>
                  <a:gd name="adj" fmla="val 122114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87320" y="1815840"/>
                <a:ext cx="380880" cy="129600"/>
              </a:xfrm>
              <a:prstGeom prst="parallelogram">
                <a:avLst>
                  <a:gd name="adj" fmla="val 122453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736560" y="1714320"/>
              <a:ext cx="1511280" cy="456840"/>
            </a:xfrm>
            <a:custGeom>
              <a:avLst/>
              <a:gdLst/>
              <a:ahLst/>
              <a:rect l="l" t="t" r="r" b="b"/>
              <a:pathLst>
                <a:path w="2166" h="1311">
                  <a:moveTo>
                    <a:pt x="0" y="0"/>
                  </a:moveTo>
                  <a:lnTo>
                    <a:pt x="0" y="1311"/>
                  </a:lnTo>
                  <a:lnTo>
                    <a:pt x="2166" y="1311"/>
                  </a:lnTo>
                  <a:lnTo>
                    <a:pt x="2166" y="342"/>
                  </a:lnTo>
                  <a:lnTo>
                    <a:pt x="1938" y="570"/>
                  </a:lnTo>
                  <a:lnTo>
                    <a:pt x="1938" y="342"/>
                  </a:lnTo>
                  <a:lnTo>
                    <a:pt x="1710" y="570"/>
                  </a:lnTo>
                  <a:lnTo>
                    <a:pt x="1710" y="342"/>
                  </a:lnTo>
                  <a:lnTo>
                    <a:pt x="1482" y="570"/>
                  </a:lnTo>
                  <a:lnTo>
                    <a:pt x="1482" y="342"/>
                  </a:lnTo>
                  <a:lnTo>
                    <a:pt x="1254" y="570"/>
                  </a:lnTo>
                  <a:lnTo>
                    <a:pt x="1254" y="342"/>
                  </a:lnTo>
                  <a:lnTo>
                    <a:pt x="1026" y="570"/>
                  </a:lnTo>
                  <a:lnTo>
                    <a:pt x="1026" y="342"/>
                  </a:lnTo>
                  <a:lnTo>
                    <a:pt x="798" y="570"/>
                  </a:lnTo>
                  <a:lnTo>
                    <a:pt x="798" y="342"/>
                  </a:lnTo>
                  <a:lnTo>
                    <a:pt x="570" y="570"/>
                  </a:lnTo>
                  <a:lnTo>
                    <a:pt x="570" y="342"/>
                  </a:lnTo>
                  <a:lnTo>
                    <a:pt x="342" y="570"/>
                  </a:lnTo>
                  <a:lnTo>
                    <a:pt x="3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457200" y="2412720"/>
              <a:ext cx="1980720" cy="685080"/>
              <a:chOff x="457200" y="2412720"/>
              <a:chExt cx="1980720" cy="685080"/>
            </a:xfrm>
          </p:grpSpPr>
          <p:sp>
            <p:nvSpPr>
              <p:cNvPr id="738" name=""/>
              <p:cNvSpPr/>
              <p:nvPr/>
            </p:nvSpPr>
            <p:spPr>
              <a:xfrm>
                <a:off x="457200" y="2412720"/>
                <a:ext cx="1980720" cy="6850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14800" y="2559240"/>
                <a:ext cx="290880" cy="48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865080" y="2559240"/>
                <a:ext cx="699120" cy="48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621800" y="2559240"/>
                <a:ext cx="758520" cy="48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922680" y="2608200"/>
                <a:ext cx="233280" cy="3916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213560" y="2608200"/>
                <a:ext cx="290880" cy="3916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680840" y="2608200"/>
                <a:ext cx="174240" cy="391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913040" y="2608200"/>
                <a:ext cx="176040" cy="391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146680" y="2608200"/>
                <a:ext cx="174240" cy="391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73840" y="2608200"/>
                <a:ext cx="173880" cy="975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73840" y="2755080"/>
                <a:ext cx="173880" cy="97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73840" y="2902320"/>
                <a:ext cx="173880" cy="975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50" name="" descr=""/>
            <p:cNvPicPr/>
            <p:nvPr/>
          </p:nvPicPr>
          <p:blipFill>
            <a:blip r:embed="rId1"/>
            <a:stretch/>
          </p:blipFill>
          <p:spPr>
            <a:xfrm>
              <a:off x="914400" y="4782960"/>
              <a:ext cx="1752480" cy="10584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751" name="" descr=""/>
            <p:cNvPicPr/>
            <p:nvPr/>
          </p:nvPicPr>
          <p:blipFill>
            <a:blip r:embed="rId2"/>
            <a:stretch/>
          </p:blipFill>
          <p:spPr>
            <a:xfrm>
              <a:off x="609480" y="3325680"/>
              <a:ext cx="2057400" cy="12204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752" name=""/>
            <p:cNvSpPr/>
            <p:nvPr/>
          </p:nvSpPr>
          <p:spPr>
            <a:xfrm>
              <a:off x="457200" y="5968800"/>
              <a:ext cx="2133720" cy="228240"/>
            </a:xfrm>
            <a:custGeom>
              <a:avLst/>
              <a:gdLst>
                <a:gd name="textAreaLeft" fmla="*/ 333360 w 2133720"/>
                <a:gd name="textAreaRight" fmla="*/ 1846800 w 2133720"/>
                <a:gd name="textAreaTop" fmla="*/ 44280 h 228240"/>
                <a:gd name="textAreaBottom" fmla="*/ 18396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200"/>
                  </a:moveTo>
                  <a:lnTo>
                    <a:pt x="16843" y="4200"/>
                  </a:lnTo>
                  <a:lnTo>
                    <a:pt x="16843" y="0"/>
                  </a:lnTo>
                  <a:lnTo>
                    <a:pt x="21600" y="10800"/>
                  </a:lnTo>
                  <a:lnTo>
                    <a:pt x="16843" y="21600"/>
                  </a:lnTo>
                  <a:lnTo>
                    <a:pt x="16843" y="17400"/>
                  </a:lnTo>
                  <a:lnTo>
                    <a:pt x="3375" y="17400"/>
                  </a:lnTo>
                  <a:close/>
                </a:path>
                <a:path w="21600" h="21600">
                  <a:moveTo>
                    <a:pt x="0" y="4200"/>
                  </a:moveTo>
                  <a:lnTo>
                    <a:pt x="675" y="4200"/>
                  </a:lnTo>
                  <a:lnTo>
                    <a:pt x="675" y="17400"/>
                  </a:lnTo>
                  <a:lnTo>
                    <a:pt x="0" y="17400"/>
                  </a:lnTo>
                  <a:close/>
                </a:path>
                <a:path w="21600" h="21600">
                  <a:moveTo>
                    <a:pt x="1350" y="4200"/>
                  </a:moveTo>
                  <a:lnTo>
                    <a:pt x="2700" y="4200"/>
                  </a:lnTo>
                  <a:lnTo>
                    <a:pt x="2700" y="17400"/>
                  </a:lnTo>
                  <a:lnTo>
                    <a:pt x="1350" y="17400"/>
                  </a:lnTo>
                  <a:close/>
                </a:path>
              </a:pathLst>
            </a:custGeom>
            <a:solidFill>
              <a:srgbClr val="e3e4ed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533520" y="4089240"/>
              <a:ext cx="1218960" cy="794520"/>
              <a:chOff x="533520" y="4089240"/>
              <a:chExt cx="1218960" cy="794520"/>
            </a:xfrm>
          </p:grpSpPr>
          <p:sp>
            <p:nvSpPr>
              <p:cNvPr id="754" name=""/>
              <p:cNvSpPr/>
              <p:nvPr/>
            </p:nvSpPr>
            <p:spPr>
              <a:xfrm>
                <a:off x="939600" y="408924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35040" y="440712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193760" y="440712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990360" y="472500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447560" y="4725000"/>
                <a:ext cx="30492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33520" y="4725000"/>
                <a:ext cx="304560" cy="15876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888840" y="4248000"/>
                <a:ext cx="101520" cy="1591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85800" y="4566240"/>
                <a:ext cx="101520" cy="1587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1142640" y="4566240"/>
                <a:ext cx="101520" cy="1587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193760" y="4248000"/>
                <a:ext cx="101160" cy="1591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447560" y="4566240"/>
                <a:ext cx="101520" cy="15876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2240" y="457200"/>
            <a:ext cx="9131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"/>
              </a:rPr>
              <a:t>Ontology</a:t>
            </a: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: explicit partial account of concepts used in the corporate memory management scenarios and their relations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2781360" y="1397160"/>
            <a:ext cx="3124080" cy="5054400"/>
            <a:chOff x="2781360" y="1397160"/>
            <a:chExt cx="3124080" cy="5054400"/>
          </a:xfrm>
        </p:grpSpPr>
        <p:sp>
          <p:nvSpPr>
            <p:cNvPr id="767" name=""/>
            <p:cNvSpPr/>
            <p:nvPr/>
          </p:nvSpPr>
          <p:spPr>
            <a:xfrm>
              <a:off x="2819520" y="1422360"/>
              <a:ext cx="2971800" cy="4496040"/>
            </a:xfrm>
            <a:prstGeom prst="rect">
              <a:avLst/>
            </a:prstGeom>
            <a:solidFill>
              <a:srgbClr val="c4c7da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781360" y="1397160"/>
              <a:ext cx="3124080" cy="45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Organizational Entity (X) :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The entity X is or is a sub-part of an organization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Person (X): 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The entity X is living being pertaining to the human rac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 (Organizational Entity: X, Organizational Entity / Person Y)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the organizational entity X includes Y as one of its member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Manage (Person: X, Organizational Entity: Y) :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 The person X watches and directs the organizational entity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38560" y="6151680"/>
              <a:ext cx="21715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 - Ont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819520" y="5969160"/>
              <a:ext cx="2895480" cy="228600"/>
            </a:xfrm>
            <a:custGeom>
              <a:avLst/>
              <a:gdLst>
                <a:gd name="textAreaLeft" fmla="*/ 452160 w 2895480"/>
                <a:gd name="textAreaRight" fmla="*/ 2608560 w 2895480"/>
                <a:gd name="textAreaTop" fmla="*/ 44280 h 228600"/>
                <a:gd name="textAreaBottom" fmla="*/ 1843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200"/>
                  </a:moveTo>
                  <a:lnTo>
                    <a:pt x="18095" y="4200"/>
                  </a:lnTo>
                  <a:lnTo>
                    <a:pt x="18095" y="0"/>
                  </a:lnTo>
                  <a:lnTo>
                    <a:pt x="21600" y="10800"/>
                  </a:lnTo>
                  <a:lnTo>
                    <a:pt x="18095" y="21600"/>
                  </a:lnTo>
                  <a:lnTo>
                    <a:pt x="18095" y="17400"/>
                  </a:lnTo>
                  <a:lnTo>
                    <a:pt x="3375" y="17400"/>
                  </a:lnTo>
                  <a:close/>
                </a:path>
                <a:path w="21600" h="21600">
                  <a:moveTo>
                    <a:pt x="0" y="4200"/>
                  </a:moveTo>
                  <a:lnTo>
                    <a:pt x="675" y="4200"/>
                  </a:lnTo>
                  <a:lnTo>
                    <a:pt x="675" y="17400"/>
                  </a:lnTo>
                  <a:lnTo>
                    <a:pt x="0" y="17400"/>
                  </a:lnTo>
                  <a:close/>
                </a:path>
                <a:path w="21600" h="21600">
                  <a:moveTo>
                    <a:pt x="1350" y="4200"/>
                  </a:moveTo>
                  <a:lnTo>
                    <a:pt x="2700" y="4200"/>
                  </a:lnTo>
                  <a:lnTo>
                    <a:pt x="2700" y="17400"/>
                  </a:lnTo>
                  <a:lnTo>
                    <a:pt x="1350" y="17400"/>
                  </a:lnTo>
                  <a:close/>
                </a:path>
              </a:pathLst>
            </a:custGeom>
            <a:solidFill>
              <a:srgbClr val="c4c7da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5715000" y="1422360"/>
            <a:ext cx="2973240" cy="5130360"/>
            <a:chOff x="5715000" y="1422360"/>
            <a:chExt cx="2973240" cy="5130360"/>
          </a:xfrm>
        </p:grpSpPr>
        <p:sp>
          <p:nvSpPr>
            <p:cNvPr id="772" name=""/>
            <p:cNvSpPr/>
            <p:nvPr/>
          </p:nvSpPr>
          <p:spPr>
            <a:xfrm>
              <a:off x="5791320" y="1422360"/>
              <a:ext cx="2895480" cy="4495680"/>
            </a:xfrm>
            <a:prstGeom prst="rect">
              <a:avLst/>
            </a:prstGeom>
            <a:solidFill>
              <a:srgbClr val="adb1c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867280" y="1422360"/>
              <a:ext cx="2819520" cy="44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Person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Rose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Person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Fabien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Person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Olivier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Person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lain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Organizational Entity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INRIA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Organizational Entity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cacia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INRIA, Acacia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Manag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Rose, Acacia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cacia, Rose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cacia, Fabien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cacia, Olivier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Include(</a:t>
              </a:r>
              <a:r>
                <a:rPr b="0" sz="1400" spc="-1" strike="noStrike">
                  <a:solidFill>
                    <a:srgbClr val="000000"/>
                  </a:solidFill>
                  <a:latin typeface="Courier New"/>
                </a:rPr>
                <a:t>Acacia, Alain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715000" y="6222600"/>
              <a:ext cx="2973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 - Situation &amp; Anno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867280" y="5968800"/>
              <a:ext cx="2667240" cy="228240"/>
            </a:xfrm>
            <a:custGeom>
              <a:avLst/>
              <a:gdLst>
                <a:gd name="textAreaLeft" fmla="*/ 416520 w 2667240"/>
                <a:gd name="textAreaRight" fmla="*/ 2403000 w 2667240"/>
                <a:gd name="textAreaTop" fmla="*/ 44280 h 228240"/>
                <a:gd name="textAreaBottom" fmla="*/ 18396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200"/>
                  </a:moveTo>
                  <a:lnTo>
                    <a:pt x="18095" y="4200"/>
                  </a:lnTo>
                  <a:lnTo>
                    <a:pt x="18095" y="0"/>
                  </a:lnTo>
                  <a:lnTo>
                    <a:pt x="21600" y="10800"/>
                  </a:lnTo>
                  <a:lnTo>
                    <a:pt x="18095" y="21600"/>
                  </a:lnTo>
                  <a:lnTo>
                    <a:pt x="18095" y="17400"/>
                  </a:lnTo>
                  <a:lnTo>
                    <a:pt x="3375" y="17400"/>
                  </a:lnTo>
                  <a:close/>
                </a:path>
                <a:path w="21600" h="21600">
                  <a:moveTo>
                    <a:pt x="0" y="4200"/>
                  </a:moveTo>
                  <a:lnTo>
                    <a:pt x="675" y="4200"/>
                  </a:lnTo>
                  <a:lnTo>
                    <a:pt x="675" y="17400"/>
                  </a:lnTo>
                  <a:lnTo>
                    <a:pt x="0" y="17400"/>
                  </a:lnTo>
                  <a:close/>
                </a:path>
                <a:path w="21600" h="21600">
                  <a:moveTo>
                    <a:pt x="1350" y="4200"/>
                  </a:moveTo>
                  <a:lnTo>
                    <a:pt x="2700" y="4200"/>
                  </a:lnTo>
                  <a:lnTo>
                    <a:pt x="2700" y="17400"/>
                  </a:lnTo>
                  <a:lnTo>
                    <a:pt x="1350" y="17400"/>
                  </a:lnTo>
                  <a:close/>
                </a:path>
              </a:pathLst>
            </a:custGeom>
            <a:solidFill>
              <a:srgbClr val="adb1cb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4465-F0A6-42F8-8BA5-F44E4D589F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Interesting aspects of XML &amp; RDF(S)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2240" y="343080"/>
            <a:ext cx="90932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XML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cc3300"/>
                </a:solidFill>
                <a:uFillTx/>
                <a:latin typeface="Arial"/>
              </a:rPr>
              <a:t>leitmotiv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ring structure to the memory to improve search and manipulation of documents using an emerging standard in industry.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RDF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cc3300"/>
                </a:solidFill>
                <a:uFillTx/>
                <a:latin typeface="Arial"/>
              </a:rPr>
              <a:t>leitmotiv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66"/>
                </a:solidFill>
                <a:latin typeface="Arial"/>
              </a:rPr>
              <a:t>If the corporate memory becomes an annotated world, software can use the semantics of these annotations an through inferences help the users exploit the corporate memory.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7086600" y="3733920"/>
            <a:ext cx="1981080" cy="1981080"/>
            <a:chOff x="7086600" y="3733920"/>
            <a:chExt cx="1981080" cy="1981080"/>
          </a:xfrm>
        </p:grpSpPr>
        <p:sp>
          <p:nvSpPr>
            <p:cNvPr id="779" name=""/>
            <p:cNvSpPr/>
            <p:nvPr/>
          </p:nvSpPr>
          <p:spPr>
            <a:xfrm>
              <a:off x="7086600" y="3733920"/>
              <a:ext cx="19810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169040" y="3821040"/>
              <a:ext cx="412920" cy="429840"/>
            </a:xfrm>
            <a:custGeom>
              <a:avLst/>
              <a:gdLst>
                <a:gd name="textAreaLeft" fmla="*/ 19800 w 412920"/>
                <a:gd name="textAreaRight" fmla="*/ 393120 w 412920"/>
                <a:gd name="textAreaTop" fmla="*/ 19800 h 429840"/>
                <a:gd name="textAreaBottom" fmla="*/ 410040 h 429840"/>
              </a:gdLst>
              <a:ahLst/>
              <a:rect l="textAreaLeft" t="textAreaTop" r="textAreaRight" b="textAreaBottom"/>
              <a:pathLst>
                <a:path w="21600" h="22484">
                  <a:moveTo>
                    <a:pt x="3562" y="0"/>
                  </a:moveTo>
                  <a:arcTo wR="3562" hR="3562" stAng="16200000" swAng="-5400000"/>
                  <a:lnTo>
                    <a:pt x="0" y="18922"/>
                  </a:lnTo>
                  <a:arcTo wR="3562" hR="3562" stAng="10800000" swAng="-5400000"/>
                  <a:lnTo>
                    <a:pt x="18038" y="22484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572320" y="3821040"/>
              <a:ext cx="412920" cy="429840"/>
            </a:xfrm>
            <a:custGeom>
              <a:avLst/>
              <a:gdLst>
                <a:gd name="textAreaLeft" fmla="*/ 19800 w 412920"/>
                <a:gd name="textAreaRight" fmla="*/ 393120 w 412920"/>
                <a:gd name="textAreaTop" fmla="*/ 19800 h 429840"/>
                <a:gd name="textAreaBottom" fmla="*/ 410040 h 429840"/>
              </a:gdLst>
              <a:ahLst/>
              <a:rect l="textAreaLeft" t="textAreaTop" r="textAreaRight" b="textAreaBottom"/>
              <a:pathLst>
                <a:path w="21600" h="22484">
                  <a:moveTo>
                    <a:pt x="3562" y="0"/>
                  </a:moveTo>
                  <a:arcTo wR="3562" hR="3562" stAng="16200000" swAng="-5400000"/>
                  <a:lnTo>
                    <a:pt x="0" y="18922"/>
                  </a:lnTo>
                  <a:arcTo wR="3562" hR="3562" stAng="10800000" swAng="-5400000"/>
                  <a:lnTo>
                    <a:pt x="18038" y="22484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572320" y="5200560"/>
              <a:ext cx="412920" cy="431280"/>
            </a:xfrm>
            <a:custGeom>
              <a:avLst/>
              <a:gdLst>
                <a:gd name="textAreaLeft" fmla="*/ 19800 w 412920"/>
                <a:gd name="textAreaRight" fmla="*/ 393120 w 412920"/>
                <a:gd name="textAreaTop" fmla="*/ 19800 h 431280"/>
                <a:gd name="textAreaBottom" fmla="*/ 411480 h 431280"/>
              </a:gdLst>
              <a:ahLst/>
              <a:rect l="textAreaLeft" t="textAreaTop" r="textAreaRight" b="textAreaBottom"/>
              <a:pathLst>
                <a:path w="21600" h="22560">
                  <a:moveTo>
                    <a:pt x="3562" y="0"/>
                  </a:moveTo>
                  <a:arcTo wR="3562" hR="3562" stAng="16200000" swAng="-5400000"/>
                  <a:lnTo>
                    <a:pt x="0" y="18998"/>
                  </a:lnTo>
                  <a:arcTo wR="3562" hR="3562" stAng="10800000" swAng="-5400000"/>
                  <a:lnTo>
                    <a:pt x="18038" y="22560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169040" y="5200560"/>
              <a:ext cx="412920" cy="431280"/>
            </a:xfrm>
            <a:custGeom>
              <a:avLst/>
              <a:gdLst>
                <a:gd name="textAreaLeft" fmla="*/ 19800 w 412920"/>
                <a:gd name="textAreaRight" fmla="*/ 393120 w 412920"/>
                <a:gd name="textAreaTop" fmla="*/ 19800 h 431280"/>
                <a:gd name="textAreaBottom" fmla="*/ 411480 h 431280"/>
              </a:gdLst>
              <a:ahLst/>
              <a:rect l="textAreaLeft" t="textAreaTop" r="textAreaRight" b="textAreaBottom"/>
              <a:pathLst>
                <a:path w="21600" h="22560">
                  <a:moveTo>
                    <a:pt x="3562" y="0"/>
                  </a:moveTo>
                  <a:arcTo wR="3562" hR="3562" stAng="16200000" swAng="-5400000"/>
                  <a:lnTo>
                    <a:pt x="0" y="18998"/>
                  </a:lnTo>
                  <a:arcTo wR="3562" hR="3562" stAng="10800000" swAng="-5400000"/>
                  <a:lnTo>
                    <a:pt x="18038" y="22560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27720" y="3857400"/>
              <a:ext cx="3366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632800" y="3857400"/>
              <a:ext cx="333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632800" y="5238720"/>
              <a:ext cx="33336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227720" y="5238720"/>
              <a:ext cx="33660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169040" y="4595760"/>
              <a:ext cx="333360" cy="4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908840" y="5283000"/>
              <a:ext cx="333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912080" y="3906720"/>
              <a:ext cx="33336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653320" y="4595760"/>
              <a:ext cx="338040" cy="4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2577000">
              <a:off x="7651800" y="4316040"/>
              <a:ext cx="823680" cy="861480"/>
            </a:xfrm>
            <a:custGeom>
              <a:avLst/>
              <a:gdLst>
                <a:gd name="textAreaLeft" fmla="*/ 0 w 823680"/>
                <a:gd name="textAreaRight" fmla="*/ 824040 w 823680"/>
                <a:gd name="textAreaTop" fmla="*/ 0 h 861480"/>
                <a:gd name="textAreaBottom" fmla="*/ 861840 h 86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99" y="10800"/>
                  </a:moveTo>
                  <a:arcTo wR="-6101" hR="-6101" stAng="-10800000" swAng="-18761082"/>
                  <a:lnTo>
                    <a:pt x="18122" y="18739"/>
                  </a:lnTo>
                  <a:arcTo wR="10800" hR="10800" stAng="2838918" swAng="18761082"/>
                  <a:lnTo>
                    <a:pt x="24300" y="10800"/>
                  </a:lnTo>
                  <a:lnTo>
                    <a:pt x="19251" y="15850"/>
                  </a:lnTo>
                  <a:lnTo>
                    <a:pt x="14201" y="108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086600" y="4422600"/>
              <a:ext cx="1981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50760" y="3048120"/>
            <a:ext cx="90932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orporate semantic web: 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(annotated info world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18468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US" sz="2600" spc="-1" strike="noStrike" u="sng">
                <a:solidFill>
                  <a:srgbClr val="000066"/>
                </a:solidFill>
                <a:uFillTx/>
                <a:latin typeface="Arial"/>
              </a:rPr>
              <a:t>O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ntology in RDFS     (O'CoMM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1846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escription the </a:t>
            </a:r>
            <a:r>
              <a:rPr b="1" lang="en-US" sz="2600" spc="-1" strike="noStrike" u="sng">
                <a:solidFill>
                  <a:srgbClr val="000066"/>
                </a:solidFill>
                <a:uFillTx/>
                <a:latin typeface="Arial"/>
              </a:rPr>
              <a:t>S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ituation in RD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5920" indent="-1846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r Profiles (annotate per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5920" indent="-1846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ganization model (annotate grou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560" indent="-1846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US" sz="26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nnotations in RDF describing </a:t>
            </a:r>
            <a:r>
              <a:rPr b="1" lang="en-US" sz="2600" spc="-1" strike="noStrike" u="sng">
                <a:solidFill>
                  <a:srgbClr val="000066"/>
                </a:solidFill>
                <a:uFillTx/>
                <a:latin typeface="Arial"/>
              </a:rPr>
              <a:t>D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ocuments</a:t>
            </a:r>
            <a:br>
              <a:rPr sz="2600"/>
            </a:b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(manipulation at semantic level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Annotated persons &amp; organizational entities</a:t>
            </a:r>
            <a:br>
              <a:rPr sz="3000"/>
            </a:b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 context aware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C23B-926C-4B8A-8662-511E621E9A2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"/>
          <p:cNvGrpSpPr/>
          <p:nvPr/>
        </p:nvGrpSpPr>
        <p:grpSpPr>
          <a:xfrm>
            <a:off x="152280" y="380880"/>
            <a:ext cx="8169480" cy="2209680"/>
            <a:chOff x="152280" y="380880"/>
            <a:chExt cx="8169480" cy="2209680"/>
          </a:xfrm>
        </p:grpSpPr>
        <p:sp>
          <p:nvSpPr>
            <p:cNvPr id="796" name=""/>
            <p:cNvSpPr/>
            <p:nvPr/>
          </p:nvSpPr>
          <p:spPr>
            <a:xfrm>
              <a:off x="168120" y="457200"/>
              <a:ext cx="8153640" cy="21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548360" y="474480"/>
              <a:ext cx="5789520" cy="20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0000ff"/>
                  </a:solidFill>
                  <a:latin typeface="Courier New"/>
                </a:rPr>
                <a:t>Class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ID=‘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Entity’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0000ff"/>
                  </a:solidFill>
                  <a:latin typeface="Courier New"/>
                </a:rPr>
                <a:t>Class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ID=‘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Group’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ff0000"/>
                  </a:solidFill>
                  <a:latin typeface="Courier New"/>
                </a:rPr>
                <a:t>subClassOf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Entity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’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/rdfs:Class&gt;   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:</a:t>
              </a:r>
              <a:r>
                <a:rPr b="1" lang="en-GB" sz="1600" spc="-1" strike="noStrike">
                  <a:solidFill>
                    <a:srgbClr val="0000ff"/>
                  </a:solidFill>
                  <a:latin typeface="Courier New"/>
                </a:rPr>
                <a:t>Property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ID=‘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Employee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’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ff0000"/>
                  </a:solidFill>
                  <a:latin typeface="Courier New"/>
                </a:rPr>
                <a:t>subPropertyOf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Member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’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domain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Group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range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lang="en-GB" sz="1600" spc="-1" strike="noStrike">
                  <a:solidFill>
                    <a:srgbClr val="006600"/>
                  </a:solidFill>
                  <a:latin typeface="Courier New"/>
                </a:rPr>
                <a:t>Person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’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&lt;/rdf:Property&gt;  </a:t>
              </a:r>
              <a:r>
                <a:rPr b="0" lang="en-GB" sz="1600" spc="-1" strike="noStrike">
                  <a:solidFill>
                    <a:srgbClr val="006600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52280" y="380880"/>
              <a:ext cx="192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Ontolog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in RD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152280" y="2463840"/>
            <a:ext cx="8169480" cy="1523880"/>
            <a:chOff x="152280" y="2463840"/>
            <a:chExt cx="8169480" cy="1523880"/>
          </a:xfrm>
        </p:grpSpPr>
        <p:sp>
          <p:nvSpPr>
            <p:cNvPr id="800" name=""/>
            <p:cNvSpPr/>
            <p:nvPr/>
          </p:nvSpPr>
          <p:spPr>
            <a:xfrm>
              <a:off x="168120" y="2539800"/>
              <a:ext cx="8153640" cy="144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08200" y="2616120"/>
              <a:ext cx="91296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nt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616040" y="3454200"/>
              <a:ext cx="129528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39920" y="3454200"/>
              <a:ext cx="137160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4" name=""/>
            <p:cNvGrpSpPr/>
            <p:nvPr/>
          </p:nvGrpSpPr>
          <p:grpSpPr>
            <a:xfrm>
              <a:off x="5654520" y="3378240"/>
              <a:ext cx="1523880" cy="533160"/>
              <a:chOff x="5654520" y="3378240"/>
              <a:chExt cx="1523880" cy="533160"/>
            </a:xfrm>
          </p:grpSpPr>
          <p:sp>
            <p:nvSpPr>
              <p:cNvPr id="805" name=""/>
              <p:cNvSpPr/>
              <p:nvPr/>
            </p:nvSpPr>
            <p:spPr>
              <a:xfrm>
                <a:off x="5654520" y="3378240"/>
                <a:ext cx="1523880" cy="5331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780160" y="3390840"/>
                <a:ext cx="128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Employe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" name=""/>
            <p:cNvSpPr/>
            <p:nvPr/>
          </p:nvSpPr>
          <p:spPr>
            <a:xfrm flipH="1">
              <a:off x="2301480" y="3073320"/>
              <a:ext cx="76212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063960" y="3073320"/>
              <a:ext cx="761760" cy="380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2759040" y="33015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2759040" y="330192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4511160" y="36828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331040" y="33019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7178400" y="3682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892760" y="261612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6632640" y="2616120"/>
              <a:ext cx="1523880" cy="533160"/>
              <a:chOff x="6632640" y="2616120"/>
              <a:chExt cx="1523880" cy="533160"/>
            </a:xfrm>
          </p:grpSpPr>
          <p:sp>
            <p:nvSpPr>
              <p:cNvPr id="816" name=""/>
              <p:cNvSpPr/>
              <p:nvPr/>
            </p:nvSpPr>
            <p:spPr>
              <a:xfrm>
                <a:off x="6632640" y="2616120"/>
                <a:ext cx="1523880" cy="5331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850080" y="2628720"/>
                <a:ext cx="103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Me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 flipH="1">
              <a:off x="6644880" y="3149640"/>
              <a:ext cx="60948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967280" y="342900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017320" y="3035160"/>
              <a:ext cx="57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52280" y="2463840"/>
              <a:ext cx="192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hierarch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52280" y="3911760"/>
            <a:ext cx="8169480" cy="1215000"/>
            <a:chOff x="152280" y="3911760"/>
            <a:chExt cx="8169480" cy="1215000"/>
          </a:xfrm>
        </p:grpSpPr>
        <p:sp>
          <p:nvSpPr>
            <p:cNvPr id="823" name=""/>
            <p:cNvSpPr/>
            <p:nvPr/>
          </p:nvSpPr>
          <p:spPr>
            <a:xfrm>
              <a:off x="168120" y="3971880"/>
              <a:ext cx="8153640" cy="11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58400" y="4060800"/>
              <a:ext cx="71301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Group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 rdf:about=“http://www-sop.inria.fr/acacia/”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erson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 rdf:about=“http://www.inria.fr/~fab/”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lt;/CoMMA:Employee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&lt;/CoMMA:Group 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52280" y="3911760"/>
              <a:ext cx="1920960" cy="6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Times New Roman"/>
                </a:rPr>
                <a:t>anno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RDF(S) - Aspects used by the agents managing the annotations 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68120" y="5029200"/>
            <a:ext cx="8180280" cy="1523520"/>
            <a:chOff x="168120" y="5029200"/>
            <a:chExt cx="8180280" cy="1523520"/>
          </a:xfrm>
        </p:grpSpPr>
        <p:sp>
          <p:nvSpPr>
            <p:cNvPr id="828" name=""/>
            <p:cNvSpPr/>
            <p:nvPr/>
          </p:nvSpPr>
          <p:spPr>
            <a:xfrm>
              <a:off x="168120" y="5105160"/>
              <a:ext cx="81536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85800" y="5981400"/>
              <a:ext cx="228600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Group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: Aca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3597120" y="5943240"/>
              <a:ext cx="1523880" cy="533160"/>
              <a:chOff x="3597120" y="5943240"/>
              <a:chExt cx="1523880" cy="533160"/>
            </a:xfrm>
          </p:grpSpPr>
          <p:sp>
            <p:nvSpPr>
              <p:cNvPr id="831" name=""/>
              <p:cNvSpPr/>
              <p:nvPr/>
            </p:nvSpPr>
            <p:spPr>
              <a:xfrm>
                <a:off x="3597120" y="5943240"/>
                <a:ext cx="1523880" cy="5331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22760" y="5955840"/>
                <a:ext cx="128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Employe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"/>
            <p:cNvSpPr/>
            <p:nvPr/>
          </p:nvSpPr>
          <p:spPr>
            <a:xfrm flipH="1">
              <a:off x="2971440" y="62118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189760" y="594324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5117760" y="6211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032640" y="5943240"/>
              <a:ext cx="57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807160" y="5981400"/>
              <a:ext cx="243828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: Fabi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8120" y="5029200"/>
              <a:ext cx="243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Anno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triplet and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592800" y="5486040"/>
              <a:ext cx="47556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urier New"/>
                </a:rPr>
                <a:t>(Acacia, Employee, Fabi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B73-8C6D-4359-8BAB-E7FAC9379C2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"/>
          <p:cNvGrpSpPr/>
          <p:nvPr/>
        </p:nvGrpSpPr>
        <p:grpSpPr>
          <a:xfrm>
            <a:off x="171000" y="5091120"/>
            <a:ext cx="3110400" cy="855360"/>
            <a:chOff x="171000" y="5091120"/>
            <a:chExt cx="3110400" cy="855360"/>
          </a:xfrm>
        </p:grpSpPr>
        <p:sp>
          <p:nvSpPr>
            <p:cNvPr id="841" name=""/>
            <p:cNvSpPr/>
            <p:nvPr/>
          </p:nvSpPr>
          <p:spPr>
            <a:xfrm>
              <a:off x="1461960" y="5135400"/>
              <a:ext cx="1819440" cy="811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19800" y="5095800"/>
              <a:ext cx="101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171000" y="5170320"/>
              <a:ext cx="430200" cy="758880"/>
              <a:chOff x="171000" y="5170320"/>
              <a:chExt cx="430200" cy="758880"/>
            </a:xfrm>
          </p:grpSpPr>
          <p:sp>
            <p:nvSpPr>
              <p:cNvPr id="844" name=""/>
              <p:cNvSpPr/>
              <p:nvPr/>
            </p:nvSpPr>
            <p:spPr>
              <a:xfrm flipH="1">
                <a:off x="295560" y="5212440"/>
                <a:ext cx="168120" cy="16560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406800" y="5170320"/>
                <a:ext cx="194040" cy="26568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317160" y="5390280"/>
                <a:ext cx="100800" cy="24912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216000" y="5397480"/>
                <a:ext cx="155160" cy="19152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170640" y="5614560"/>
                <a:ext cx="188280" cy="30960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350640" y="5613840"/>
                <a:ext cx="126360" cy="31536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604800" y="5091120"/>
              <a:ext cx="473040" cy="396720"/>
              <a:chOff x="604800" y="5091120"/>
              <a:chExt cx="473040" cy="396720"/>
            </a:xfrm>
          </p:grpSpPr>
          <p:sp>
            <p:nvSpPr>
              <p:cNvPr id="851" name=""/>
              <p:cNvSpPr/>
              <p:nvPr/>
            </p:nvSpPr>
            <p:spPr>
              <a:xfrm>
                <a:off x="604800" y="5091120"/>
                <a:ext cx="47304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52" name="inter" descr=""/>
              <p:cNvPicPr/>
              <p:nvPr/>
            </p:nvPicPr>
            <p:blipFill>
              <a:blip r:embed="rId1"/>
              <a:stretch/>
            </p:blipFill>
            <p:spPr>
              <a:xfrm>
                <a:off x="720720" y="516132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53" name=""/>
            <p:cNvSpPr/>
            <p:nvPr/>
          </p:nvSpPr>
          <p:spPr>
            <a:xfrm>
              <a:off x="393480" y="5562360"/>
              <a:ext cx="609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50680" y="5715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88920" y="4102200"/>
            <a:ext cx="3193920" cy="917640"/>
            <a:chOff x="88920" y="4102200"/>
            <a:chExt cx="3193920" cy="917640"/>
          </a:xfrm>
        </p:grpSpPr>
        <p:sp>
          <p:nvSpPr>
            <p:cNvPr id="856" name=""/>
            <p:cNvSpPr/>
            <p:nvPr/>
          </p:nvSpPr>
          <p:spPr>
            <a:xfrm>
              <a:off x="1465200" y="4185000"/>
              <a:ext cx="1817640" cy="811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84240" y="4194360"/>
              <a:ext cx="912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93480" y="4419720"/>
              <a:ext cx="1143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88920" y="4102200"/>
              <a:ext cx="380520" cy="876600"/>
              <a:chOff x="88920" y="4102200"/>
              <a:chExt cx="380520" cy="876600"/>
            </a:xfrm>
          </p:grpSpPr>
          <p:grpSp>
            <p:nvGrpSpPr>
              <p:cNvPr id="860" name=""/>
              <p:cNvGrpSpPr/>
              <p:nvPr/>
            </p:nvGrpSpPr>
            <p:grpSpPr>
              <a:xfrm>
                <a:off x="88920" y="4102200"/>
                <a:ext cx="187200" cy="73080"/>
                <a:chOff x="88920" y="4102200"/>
                <a:chExt cx="187200" cy="7308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88920" y="4157280"/>
                  <a:ext cx="46080" cy="1800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135000" y="4109760"/>
                  <a:ext cx="20160" cy="2988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199440" y="4102200"/>
                  <a:ext cx="16920" cy="3564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35080" y="4130280"/>
                  <a:ext cx="41040" cy="2196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155160" y="4154040"/>
                <a:ext cx="314280" cy="824760"/>
                <a:chOff x="155160" y="4154040"/>
                <a:chExt cx="314280" cy="82476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212040" y="4289760"/>
                  <a:ext cx="158040" cy="14328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325080" y="4154040"/>
                  <a:ext cx="140760" cy="3207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155160" y="4449960"/>
                  <a:ext cx="127080" cy="19332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58480" y="4440960"/>
                  <a:ext cx="119160" cy="23796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23560" y="4634640"/>
                  <a:ext cx="90360" cy="34416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321120" y="4634640"/>
                  <a:ext cx="148320" cy="2901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872" name="ampoule" descr=""/>
              <p:cNvPicPr/>
              <p:nvPr/>
            </p:nvPicPr>
            <p:blipFill>
              <a:blip r:embed="rId2"/>
              <a:stretch/>
            </p:blipFill>
            <p:spPr>
              <a:xfrm>
                <a:off x="123840" y="4147560"/>
                <a:ext cx="118440" cy="16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73" name=""/>
            <p:cNvSpPr/>
            <p:nvPr/>
          </p:nvSpPr>
          <p:spPr>
            <a:xfrm>
              <a:off x="1181160" y="4750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73080" y="2841480"/>
            <a:ext cx="3205080" cy="968400"/>
            <a:chOff x="73080" y="2841480"/>
            <a:chExt cx="3205080" cy="968400"/>
          </a:xfrm>
        </p:grpSpPr>
        <p:sp>
          <p:nvSpPr>
            <p:cNvPr id="875" name=""/>
            <p:cNvSpPr/>
            <p:nvPr/>
          </p:nvSpPr>
          <p:spPr>
            <a:xfrm>
              <a:off x="1460520" y="2867040"/>
              <a:ext cx="1817640" cy="8776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437120" y="2841480"/>
              <a:ext cx="177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nnot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190440" y="3179520"/>
              <a:ext cx="430200" cy="630360"/>
              <a:chOff x="190440" y="3179520"/>
              <a:chExt cx="430200" cy="630360"/>
            </a:xfrm>
          </p:grpSpPr>
          <p:sp>
            <p:nvSpPr>
              <p:cNvPr id="878" name=""/>
              <p:cNvSpPr/>
              <p:nvPr/>
            </p:nvSpPr>
            <p:spPr>
              <a:xfrm>
                <a:off x="379080" y="3389040"/>
                <a:ext cx="100080" cy="222480"/>
              </a:xfrm>
              <a:custGeom>
                <a:avLst/>
                <a:gdLst/>
                <a:ahLst/>
                <a:rect l="l" t="t" r="r" b="b"/>
                <a:pathLst>
                  <a:path w="771" h="1535">
                    <a:moveTo>
                      <a:pt x="182" y="123"/>
                    </a:moveTo>
                    <a:lnTo>
                      <a:pt x="265" y="33"/>
                    </a:lnTo>
                    <a:lnTo>
                      <a:pt x="423" y="0"/>
                    </a:lnTo>
                    <a:lnTo>
                      <a:pt x="558" y="33"/>
                    </a:lnTo>
                    <a:lnTo>
                      <a:pt x="633" y="83"/>
                    </a:lnTo>
                    <a:lnTo>
                      <a:pt x="693" y="183"/>
                    </a:lnTo>
                    <a:lnTo>
                      <a:pt x="746" y="361"/>
                    </a:lnTo>
                    <a:lnTo>
                      <a:pt x="771" y="554"/>
                    </a:lnTo>
                    <a:lnTo>
                      <a:pt x="771" y="899"/>
                    </a:lnTo>
                    <a:lnTo>
                      <a:pt x="693" y="1200"/>
                    </a:lnTo>
                    <a:lnTo>
                      <a:pt x="581" y="1370"/>
                    </a:lnTo>
                    <a:lnTo>
                      <a:pt x="468" y="1468"/>
                    </a:lnTo>
                    <a:lnTo>
                      <a:pt x="340" y="1535"/>
                    </a:lnTo>
                    <a:lnTo>
                      <a:pt x="160" y="1528"/>
                    </a:lnTo>
                    <a:lnTo>
                      <a:pt x="17" y="1425"/>
                    </a:lnTo>
                    <a:lnTo>
                      <a:pt x="0" y="1302"/>
                    </a:lnTo>
                    <a:lnTo>
                      <a:pt x="70" y="1119"/>
                    </a:lnTo>
                    <a:lnTo>
                      <a:pt x="130" y="914"/>
                    </a:lnTo>
                    <a:lnTo>
                      <a:pt x="152" y="649"/>
                    </a:lnTo>
                    <a:lnTo>
                      <a:pt x="115" y="423"/>
                    </a:lnTo>
                    <a:lnTo>
                      <a:pt x="115" y="258"/>
                    </a:lnTo>
                    <a:lnTo>
                      <a:pt x="182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7960" y="3587400"/>
                <a:ext cx="114480" cy="219240"/>
              </a:xfrm>
              <a:custGeom>
                <a:avLst/>
                <a:gdLst/>
                <a:ahLst/>
                <a:rect l="l" t="t" r="r" b="b"/>
                <a:pathLst>
                  <a:path w="881" h="1512">
                    <a:moveTo>
                      <a:pt x="293" y="63"/>
                    </a:moveTo>
                    <a:lnTo>
                      <a:pt x="187" y="0"/>
                    </a:lnTo>
                    <a:lnTo>
                      <a:pt x="52" y="0"/>
                    </a:lnTo>
                    <a:lnTo>
                      <a:pt x="0" y="83"/>
                    </a:lnTo>
                    <a:lnTo>
                      <a:pt x="22" y="205"/>
                    </a:lnTo>
                    <a:lnTo>
                      <a:pt x="142" y="325"/>
                    </a:lnTo>
                    <a:lnTo>
                      <a:pt x="390" y="436"/>
                    </a:lnTo>
                    <a:lnTo>
                      <a:pt x="676" y="671"/>
                    </a:lnTo>
                    <a:lnTo>
                      <a:pt x="721" y="774"/>
                    </a:lnTo>
                    <a:lnTo>
                      <a:pt x="698" y="821"/>
                    </a:lnTo>
                    <a:lnTo>
                      <a:pt x="480" y="977"/>
                    </a:lnTo>
                    <a:lnTo>
                      <a:pt x="225" y="1162"/>
                    </a:lnTo>
                    <a:lnTo>
                      <a:pt x="165" y="1242"/>
                    </a:lnTo>
                    <a:lnTo>
                      <a:pt x="165" y="1325"/>
                    </a:lnTo>
                    <a:lnTo>
                      <a:pt x="360" y="1412"/>
                    </a:lnTo>
                    <a:lnTo>
                      <a:pt x="661" y="1512"/>
                    </a:lnTo>
                    <a:lnTo>
                      <a:pt x="766" y="1512"/>
                    </a:lnTo>
                    <a:lnTo>
                      <a:pt x="881" y="1445"/>
                    </a:lnTo>
                    <a:lnTo>
                      <a:pt x="881" y="1392"/>
                    </a:lnTo>
                    <a:lnTo>
                      <a:pt x="796" y="1365"/>
                    </a:lnTo>
                    <a:lnTo>
                      <a:pt x="413" y="1325"/>
                    </a:lnTo>
                    <a:lnTo>
                      <a:pt x="270" y="1290"/>
                    </a:lnTo>
                    <a:lnTo>
                      <a:pt x="255" y="1229"/>
                    </a:lnTo>
                    <a:lnTo>
                      <a:pt x="503" y="1059"/>
                    </a:lnTo>
                    <a:lnTo>
                      <a:pt x="773" y="896"/>
                    </a:lnTo>
                    <a:lnTo>
                      <a:pt x="833" y="836"/>
                    </a:lnTo>
                    <a:lnTo>
                      <a:pt x="856" y="754"/>
                    </a:lnTo>
                    <a:lnTo>
                      <a:pt x="833" y="638"/>
                    </a:lnTo>
                    <a:lnTo>
                      <a:pt x="751" y="551"/>
                    </a:lnTo>
                    <a:lnTo>
                      <a:pt x="480" y="253"/>
                    </a:lnTo>
                    <a:lnTo>
                      <a:pt x="29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66760" y="3576240"/>
                <a:ext cx="142560" cy="233640"/>
              </a:xfrm>
              <a:custGeom>
                <a:avLst/>
                <a:gdLst/>
                <a:ahLst/>
                <a:rect l="l" t="t" r="r" b="b"/>
                <a:pathLst>
                  <a:path w="1097" h="1610">
                    <a:moveTo>
                      <a:pt x="596" y="218"/>
                    </a:moveTo>
                    <a:lnTo>
                      <a:pt x="771" y="80"/>
                    </a:lnTo>
                    <a:lnTo>
                      <a:pt x="937" y="0"/>
                    </a:lnTo>
                    <a:lnTo>
                      <a:pt x="1042" y="12"/>
                    </a:lnTo>
                    <a:lnTo>
                      <a:pt x="1097" y="80"/>
                    </a:lnTo>
                    <a:lnTo>
                      <a:pt x="1097" y="155"/>
                    </a:lnTo>
                    <a:lnTo>
                      <a:pt x="1064" y="238"/>
                    </a:lnTo>
                    <a:lnTo>
                      <a:pt x="952" y="285"/>
                    </a:lnTo>
                    <a:lnTo>
                      <a:pt x="724" y="400"/>
                    </a:lnTo>
                    <a:lnTo>
                      <a:pt x="589" y="543"/>
                    </a:lnTo>
                    <a:lnTo>
                      <a:pt x="499" y="713"/>
                    </a:lnTo>
                    <a:lnTo>
                      <a:pt x="476" y="814"/>
                    </a:lnTo>
                    <a:lnTo>
                      <a:pt x="596" y="936"/>
                    </a:lnTo>
                    <a:lnTo>
                      <a:pt x="724" y="1114"/>
                    </a:lnTo>
                    <a:lnTo>
                      <a:pt x="817" y="1277"/>
                    </a:lnTo>
                    <a:lnTo>
                      <a:pt x="839" y="1380"/>
                    </a:lnTo>
                    <a:lnTo>
                      <a:pt x="839" y="1440"/>
                    </a:lnTo>
                    <a:lnTo>
                      <a:pt x="779" y="1480"/>
                    </a:lnTo>
                    <a:lnTo>
                      <a:pt x="589" y="1487"/>
                    </a:lnTo>
                    <a:lnTo>
                      <a:pt x="301" y="1547"/>
                    </a:lnTo>
                    <a:lnTo>
                      <a:pt x="248" y="1602"/>
                    </a:lnTo>
                    <a:lnTo>
                      <a:pt x="203" y="1610"/>
                    </a:lnTo>
                    <a:lnTo>
                      <a:pt x="0" y="1547"/>
                    </a:lnTo>
                    <a:lnTo>
                      <a:pt x="0" y="1487"/>
                    </a:lnTo>
                    <a:lnTo>
                      <a:pt x="90" y="1440"/>
                    </a:lnTo>
                    <a:lnTo>
                      <a:pt x="453" y="1380"/>
                    </a:lnTo>
                    <a:lnTo>
                      <a:pt x="641" y="1400"/>
                    </a:lnTo>
                    <a:lnTo>
                      <a:pt x="734" y="1400"/>
                    </a:lnTo>
                    <a:lnTo>
                      <a:pt x="756" y="1365"/>
                    </a:lnTo>
                    <a:lnTo>
                      <a:pt x="679" y="1214"/>
                    </a:lnTo>
                    <a:lnTo>
                      <a:pt x="521" y="1019"/>
                    </a:lnTo>
                    <a:lnTo>
                      <a:pt x="408" y="876"/>
                    </a:lnTo>
                    <a:lnTo>
                      <a:pt x="363" y="794"/>
                    </a:lnTo>
                    <a:lnTo>
                      <a:pt x="363" y="671"/>
                    </a:lnTo>
                    <a:lnTo>
                      <a:pt x="438" y="468"/>
                    </a:lnTo>
                    <a:lnTo>
                      <a:pt x="506" y="340"/>
                    </a:lnTo>
                    <a:lnTo>
                      <a:pt x="596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90440" y="3389400"/>
                <a:ext cx="192960" cy="174240"/>
              </a:xfrm>
              <a:custGeom>
                <a:avLst/>
                <a:gdLst/>
                <a:ahLst/>
                <a:rect l="l" t="t" r="r" b="b"/>
                <a:pathLst>
                  <a:path w="1482" h="1202">
                    <a:moveTo>
                      <a:pt x="889" y="1202"/>
                    </a:moveTo>
                    <a:lnTo>
                      <a:pt x="981" y="1192"/>
                    </a:lnTo>
                    <a:lnTo>
                      <a:pt x="1009" y="1124"/>
                    </a:lnTo>
                    <a:lnTo>
                      <a:pt x="1034" y="881"/>
                    </a:lnTo>
                    <a:lnTo>
                      <a:pt x="1172" y="596"/>
                    </a:lnTo>
                    <a:lnTo>
                      <a:pt x="1314" y="465"/>
                    </a:lnTo>
                    <a:lnTo>
                      <a:pt x="1482" y="330"/>
                    </a:lnTo>
                    <a:lnTo>
                      <a:pt x="1467" y="235"/>
                    </a:lnTo>
                    <a:lnTo>
                      <a:pt x="1367" y="185"/>
                    </a:lnTo>
                    <a:lnTo>
                      <a:pt x="1242" y="235"/>
                    </a:lnTo>
                    <a:lnTo>
                      <a:pt x="1104" y="373"/>
                    </a:lnTo>
                    <a:lnTo>
                      <a:pt x="976" y="673"/>
                    </a:lnTo>
                    <a:lnTo>
                      <a:pt x="921" y="906"/>
                    </a:lnTo>
                    <a:lnTo>
                      <a:pt x="884" y="1029"/>
                    </a:lnTo>
                    <a:lnTo>
                      <a:pt x="779" y="984"/>
                    </a:lnTo>
                    <a:lnTo>
                      <a:pt x="661" y="783"/>
                    </a:lnTo>
                    <a:lnTo>
                      <a:pt x="563" y="505"/>
                    </a:lnTo>
                    <a:lnTo>
                      <a:pt x="581" y="380"/>
                    </a:lnTo>
                    <a:lnTo>
                      <a:pt x="636" y="248"/>
                    </a:lnTo>
                    <a:lnTo>
                      <a:pt x="658" y="150"/>
                    </a:lnTo>
                    <a:lnTo>
                      <a:pt x="418" y="145"/>
                    </a:lnTo>
                    <a:lnTo>
                      <a:pt x="178" y="105"/>
                    </a:lnTo>
                    <a:lnTo>
                      <a:pt x="65" y="0"/>
                    </a:lnTo>
                    <a:lnTo>
                      <a:pt x="0" y="50"/>
                    </a:lnTo>
                    <a:lnTo>
                      <a:pt x="88" y="230"/>
                    </a:lnTo>
                    <a:lnTo>
                      <a:pt x="280" y="250"/>
                    </a:lnTo>
                    <a:lnTo>
                      <a:pt x="488" y="270"/>
                    </a:lnTo>
                    <a:lnTo>
                      <a:pt x="493" y="428"/>
                    </a:lnTo>
                    <a:lnTo>
                      <a:pt x="513" y="611"/>
                    </a:lnTo>
                    <a:lnTo>
                      <a:pt x="583" y="816"/>
                    </a:lnTo>
                    <a:lnTo>
                      <a:pt x="671" y="1019"/>
                    </a:lnTo>
                    <a:lnTo>
                      <a:pt x="804" y="1154"/>
                    </a:lnTo>
                    <a:lnTo>
                      <a:pt x="889" y="1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78800" y="3179520"/>
                <a:ext cx="141840" cy="235800"/>
              </a:xfrm>
              <a:custGeom>
                <a:avLst/>
                <a:gdLst/>
                <a:ahLst/>
                <a:rect l="l" t="t" r="r" b="b"/>
                <a:pathLst>
                  <a:path w="1091" h="1625">
                    <a:moveTo>
                      <a:pt x="0" y="1610"/>
                    </a:moveTo>
                    <a:lnTo>
                      <a:pt x="0" y="1503"/>
                    </a:lnTo>
                    <a:lnTo>
                      <a:pt x="67" y="1420"/>
                    </a:lnTo>
                    <a:lnTo>
                      <a:pt x="363" y="1325"/>
                    </a:lnTo>
                    <a:lnTo>
                      <a:pt x="728" y="1245"/>
                    </a:lnTo>
                    <a:lnTo>
                      <a:pt x="939" y="1197"/>
                    </a:lnTo>
                    <a:lnTo>
                      <a:pt x="964" y="1155"/>
                    </a:lnTo>
                    <a:lnTo>
                      <a:pt x="864" y="1034"/>
                    </a:lnTo>
                    <a:lnTo>
                      <a:pt x="666" y="857"/>
                    </a:lnTo>
                    <a:lnTo>
                      <a:pt x="463" y="706"/>
                    </a:lnTo>
                    <a:lnTo>
                      <a:pt x="303" y="626"/>
                    </a:lnTo>
                    <a:lnTo>
                      <a:pt x="213" y="544"/>
                    </a:lnTo>
                    <a:lnTo>
                      <a:pt x="205" y="483"/>
                    </a:lnTo>
                    <a:lnTo>
                      <a:pt x="258" y="428"/>
                    </a:lnTo>
                    <a:lnTo>
                      <a:pt x="385" y="401"/>
                    </a:lnTo>
                    <a:lnTo>
                      <a:pt x="546" y="298"/>
                    </a:lnTo>
                    <a:lnTo>
                      <a:pt x="568" y="198"/>
                    </a:lnTo>
                    <a:lnTo>
                      <a:pt x="568" y="55"/>
                    </a:lnTo>
                    <a:lnTo>
                      <a:pt x="553" y="0"/>
                    </a:lnTo>
                    <a:lnTo>
                      <a:pt x="613" y="13"/>
                    </a:lnTo>
                    <a:lnTo>
                      <a:pt x="698" y="135"/>
                    </a:lnTo>
                    <a:lnTo>
                      <a:pt x="728" y="266"/>
                    </a:lnTo>
                    <a:lnTo>
                      <a:pt x="636" y="361"/>
                    </a:lnTo>
                    <a:lnTo>
                      <a:pt x="553" y="388"/>
                    </a:lnTo>
                    <a:lnTo>
                      <a:pt x="393" y="463"/>
                    </a:lnTo>
                    <a:lnTo>
                      <a:pt x="363" y="504"/>
                    </a:lnTo>
                    <a:lnTo>
                      <a:pt x="385" y="544"/>
                    </a:lnTo>
                    <a:lnTo>
                      <a:pt x="531" y="654"/>
                    </a:lnTo>
                    <a:lnTo>
                      <a:pt x="683" y="714"/>
                    </a:lnTo>
                    <a:lnTo>
                      <a:pt x="886" y="869"/>
                    </a:lnTo>
                    <a:lnTo>
                      <a:pt x="1024" y="1054"/>
                    </a:lnTo>
                    <a:lnTo>
                      <a:pt x="1091" y="1197"/>
                    </a:lnTo>
                    <a:lnTo>
                      <a:pt x="1069" y="1245"/>
                    </a:lnTo>
                    <a:lnTo>
                      <a:pt x="1024" y="1277"/>
                    </a:lnTo>
                    <a:lnTo>
                      <a:pt x="849" y="1340"/>
                    </a:lnTo>
                    <a:lnTo>
                      <a:pt x="501" y="1443"/>
                    </a:lnTo>
                    <a:lnTo>
                      <a:pt x="280" y="1530"/>
                    </a:lnTo>
                    <a:lnTo>
                      <a:pt x="138" y="1605"/>
                    </a:lnTo>
                    <a:lnTo>
                      <a:pt x="45" y="1625"/>
                    </a:lnTo>
                    <a:lnTo>
                      <a:pt x="0" y="16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39120" y="3214800"/>
                <a:ext cx="110520" cy="167760"/>
              </a:xfrm>
              <a:custGeom>
                <a:avLst/>
                <a:gdLst/>
                <a:ahLst/>
                <a:rect l="l" t="t" r="r" b="b"/>
                <a:pathLst>
                  <a:path w="851" h="1157">
                    <a:moveTo>
                      <a:pt x="173" y="939"/>
                    </a:moveTo>
                    <a:lnTo>
                      <a:pt x="271" y="1042"/>
                    </a:lnTo>
                    <a:lnTo>
                      <a:pt x="431" y="1137"/>
                    </a:lnTo>
                    <a:lnTo>
                      <a:pt x="566" y="1157"/>
                    </a:lnTo>
                    <a:lnTo>
                      <a:pt x="669" y="1137"/>
                    </a:lnTo>
                    <a:lnTo>
                      <a:pt x="791" y="1057"/>
                    </a:lnTo>
                    <a:lnTo>
                      <a:pt x="836" y="892"/>
                    </a:lnTo>
                    <a:lnTo>
                      <a:pt x="851" y="769"/>
                    </a:lnTo>
                    <a:lnTo>
                      <a:pt x="814" y="654"/>
                    </a:lnTo>
                    <a:lnTo>
                      <a:pt x="744" y="511"/>
                    </a:lnTo>
                    <a:lnTo>
                      <a:pt x="679" y="388"/>
                    </a:lnTo>
                    <a:lnTo>
                      <a:pt x="669" y="361"/>
                    </a:lnTo>
                    <a:lnTo>
                      <a:pt x="699" y="218"/>
                    </a:lnTo>
                    <a:lnTo>
                      <a:pt x="791" y="75"/>
                    </a:lnTo>
                    <a:lnTo>
                      <a:pt x="806" y="33"/>
                    </a:lnTo>
                    <a:lnTo>
                      <a:pt x="759" y="0"/>
                    </a:lnTo>
                    <a:lnTo>
                      <a:pt x="699" y="0"/>
                    </a:lnTo>
                    <a:lnTo>
                      <a:pt x="634" y="185"/>
                    </a:lnTo>
                    <a:lnTo>
                      <a:pt x="604" y="306"/>
                    </a:lnTo>
                    <a:lnTo>
                      <a:pt x="521" y="225"/>
                    </a:lnTo>
                    <a:lnTo>
                      <a:pt x="451" y="163"/>
                    </a:lnTo>
                    <a:lnTo>
                      <a:pt x="308" y="115"/>
                    </a:lnTo>
                    <a:lnTo>
                      <a:pt x="203" y="115"/>
                    </a:lnTo>
                    <a:lnTo>
                      <a:pt x="45" y="185"/>
                    </a:lnTo>
                    <a:lnTo>
                      <a:pt x="0" y="381"/>
                    </a:lnTo>
                    <a:lnTo>
                      <a:pt x="38" y="634"/>
                    </a:lnTo>
                    <a:lnTo>
                      <a:pt x="105" y="872"/>
                    </a:lnTo>
                    <a:lnTo>
                      <a:pt x="173" y="9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469800" y="2895480"/>
              <a:ext cx="237960" cy="239760"/>
              <a:chOff x="469800" y="2895480"/>
              <a:chExt cx="237960" cy="239760"/>
            </a:xfrm>
          </p:grpSpPr>
          <p:sp>
            <p:nvSpPr>
              <p:cNvPr id="885" name=""/>
              <p:cNvSpPr/>
              <p:nvPr/>
            </p:nvSpPr>
            <p:spPr>
              <a:xfrm>
                <a:off x="469800" y="2895480"/>
                <a:ext cx="237960" cy="2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86" name="doc_03" descr=""/>
              <p:cNvPicPr/>
              <p:nvPr/>
            </p:nvPicPr>
            <p:blipFill>
              <a:blip r:embed="rId3"/>
              <a:stretch/>
            </p:blipFill>
            <p:spPr>
              <a:xfrm>
                <a:off x="496800" y="2917080"/>
                <a:ext cx="198360" cy="19980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</p:grpSp>
        <p:grpSp>
          <p:nvGrpSpPr>
            <p:cNvPr id="887" name=""/>
            <p:cNvGrpSpPr/>
            <p:nvPr/>
          </p:nvGrpSpPr>
          <p:grpSpPr>
            <a:xfrm>
              <a:off x="137880" y="2855880"/>
              <a:ext cx="255600" cy="279360"/>
              <a:chOff x="137880" y="2855880"/>
              <a:chExt cx="255600" cy="279360"/>
            </a:xfrm>
          </p:grpSpPr>
          <p:sp>
            <p:nvSpPr>
              <p:cNvPr id="888" name=""/>
              <p:cNvSpPr/>
              <p:nvPr/>
            </p:nvSpPr>
            <p:spPr>
              <a:xfrm>
                <a:off x="137880" y="2855880"/>
                <a:ext cx="255600" cy="27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89" name="doc_04" descr=""/>
              <p:cNvPicPr/>
              <p:nvPr/>
            </p:nvPicPr>
            <p:blipFill>
              <a:blip r:embed="rId4"/>
              <a:stretch/>
            </p:blipFill>
            <p:spPr>
              <a:xfrm>
                <a:off x="146160" y="2874600"/>
                <a:ext cx="236880" cy="23940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</p:grpSp>
        <p:grpSp>
          <p:nvGrpSpPr>
            <p:cNvPr id="890" name=""/>
            <p:cNvGrpSpPr/>
            <p:nvPr/>
          </p:nvGrpSpPr>
          <p:grpSpPr>
            <a:xfrm>
              <a:off x="73080" y="3174840"/>
              <a:ext cx="204480" cy="244440"/>
              <a:chOff x="73080" y="3174840"/>
              <a:chExt cx="204480" cy="244440"/>
            </a:xfrm>
          </p:grpSpPr>
          <p:sp>
            <p:nvSpPr>
              <p:cNvPr id="891" name=""/>
              <p:cNvSpPr/>
              <p:nvPr/>
            </p:nvSpPr>
            <p:spPr>
              <a:xfrm>
                <a:off x="73080" y="3174840"/>
                <a:ext cx="204480" cy="244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92" name="doc_01" descr=""/>
              <p:cNvPicPr/>
              <p:nvPr/>
            </p:nvPicPr>
            <p:blipFill>
              <a:blip r:embed="rId5"/>
              <a:stretch/>
            </p:blipFill>
            <p:spPr>
              <a:xfrm>
                <a:off x="93600" y="3191400"/>
                <a:ext cx="167040" cy="2152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</p:grpSp>
        <p:sp>
          <p:nvSpPr>
            <p:cNvPr id="893" name=""/>
            <p:cNvSpPr/>
            <p:nvPr/>
          </p:nvSpPr>
          <p:spPr>
            <a:xfrm>
              <a:off x="457200" y="3389040"/>
              <a:ext cx="60948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901440" y="3530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88920" y="1828800"/>
            <a:ext cx="3189240" cy="950760"/>
            <a:chOff x="88920" y="1828800"/>
            <a:chExt cx="3189240" cy="950760"/>
          </a:xfrm>
        </p:grpSpPr>
        <p:sp>
          <p:nvSpPr>
            <p:cNvPr id="896" name=""/>
            <p:cNvSpPr/>
            <p:nvPr/>
          </p:nvSpPr>
          <p:spPr>
            <a:xfrm>
              <a:off x="1460520" y="1919160"/>
              <a:ext cx="1817640" cy="860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622160" y="1915920"/>
              <a:ext cx="1197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che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93480" y="2146320"/>
              <a:ext cx="1143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9" name=""/>
            <p:cNvGrpSpPr/>
            <p:nvPr/>
          </p:nvGrpSpPr>
          <p:grpSpPr>
            <a:xfrm>
              <a:off x="88920" y="1828800"/>
              <a:ext cx="380520" cy="875520"/>
              <a:chOff x="88920" y="1828800"/>
              <a:chExt cx="380520" cy="875520"/>
            </a:xfrm>
          </p:grpSpPr>
          <p:grpSp>
            <p:nvGrpSpPr>
              <p:cNvPr id="900" name=""/>
              <p:cNvGrpSpPr/>
              <p:nvPr/>
            </p:nvGrpSpPr>
            <p:grpSpPr>
              <a:xfrm>
                <a:off x="88920" y="1828800"/>
                <a:ext cx="187200" cy="73080"/>
                <a:chOff x="88920" y="1828800"/>
                <a:chExt cx="187200" cy="7308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88920" y="1883880"/>
                  <a:ext cx="46080" cy="1800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135000" y="1836360"/>
                  <a:ext cx="20160" cy="2988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99440" y="1828800"/>
                  <a:ext cx="16920" cy="3564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235080" y="1856880"/>
                  <a:ext cx="41040" cy="2196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5" name=""/>
              <p:cNvGrpSpPr/>
              <p:nvPr/>
            </p:nvGrpSpPr>
            <p:grpSpPr>
              <a:xfrm>
                <a:off x="155160" y="1880280"/>
                <a:ext cx="314280" cy="824040"/>
                <a:chOff x="155160" y="1880280"/>
                <a:chExt cx="314280" cy="824040"/>
              </a:xfrm>
            </p:grpSpPr>
            <p:sp>
              <p:nvSpPr>
                <p:cNvPr id="906" name=""/>
                <p:cNvSpPr/>
                <p:nvPr/>
              </p:nvSpPr>
              <p:spPr>
                <a:xfrm>
                  <a:off x="212040" y="2016000"/>
                  <a:ext cx="158040" cy="14328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325080" y="1880280"/>
                  <a:ext cx="140760" cy="3207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155160" y="2176200"/>
                  <a:ext cx="127080" cy="19332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258480" y="2167200"/>
                  <a:ext cx="119160" cy="2376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223560" y="2360520"/>
                  <a:ext cx="90360" cy="34380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21120" y="2360520"/>
                  <a:ext cx="148320" cy="2901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912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23840" y="1874160"/>
                <a:ext cx="118440" cy="16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3" name=""/>
            <p:cNvSpPr/>
            <p:nvPr/>
          </p:nvSpPr>
          <p:spPr>
            <a:xfrm>
              <a:off x="1181160" y="2476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Operationalise the corporate semantic web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2240" y="457200"/>
            <a:ext cx="9131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25720" indent="-22572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CORESE: COnceptual REsources Search Engine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526680" indent="-15012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RDF(S) for schema, annotations, rules</a:t>
            </a:r>
            <a:r>
              <a:rPr b="0" lang="en-GB" sz="2600" spc="-1" strike="noStrike" baseline="30000">
                <a:solidFill>
                  <a:srgbClr val="000066"/>
                </a:solidFill>
                <a:latin typeface="Arial"/>
              </a:rPr>
              <a:t>(+) 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, queries</a:t>
            </a:r>
            <a:r>
              <a:rPr b="0" lang="en-GB" sz="2600" spc="-1" strike="noStrike" baseline="30000">
                <a:solidFill>
                  <a:srgbClr val="000066"/>
                </a:solidFill>
                <a:latin typeface="Arial"/>
              </a:rPr>
              <a:t>(+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526680" indent="-15012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Light weight component &amp; API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3367080" y="1849320"/>
            <a:ext cx="3167280" cy="4262760"/>
            <a:chOff x="3367080" y="1849320"/>
            <a:chExt cx="3167280" cy="4262760"/>
          </a:xfrm>
        </p:grpSpPr>
        <p:sp>
          <p:nvSpPr>
            <p:cNvPr id="917" name=""/>
            <p:cNvSpPr/>
            <p:nvPr/>
          </p:nvSpPr>
          <p:spPr>
            <a:xfrm>
              <a:off x="3367080" y="1849320"/>
              <a:ext cx="3090600" cy="4191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306760" y="5713200"/>
              <a:ext cx="122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COR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2539080" y="1841400"/>
            <a:ext cx="2273400" cy="4841280"/>
            <a:chOff x="2539080" y="1841400"/>
            <a:chExt cx="2273400" cy="4841280"/>
          </a:xfrm>
        </p:grpSpPr>
        <p:grpSp>
          <p:nvGrpSpPr>
            <p:cNvPr id="920" name=""/>
            <p:cNvGrpSpPr/>
            <p:nvPr/>
          </p:nvGrpSpPr>
          <p:grpSpPr>
            <a:xfrm>
              <a:off x="2539080" y="1841400"/>
              <a:ext cx="1572120" cy="4841280"/>
              <a:chOff x="2539080" y="1841400"/>
              <a:chExt cx="1572120" cy="4841280"/>
            </a:xfrm>
          </p:grpSpPr>
          <p:sp>
            <p:nvSpPr>
              <p:cNvPr id="921" name=""/>
              <p:cNvSpPr/>
              <p:nvPr/>
            </p:nvSpPr>
            <p:spPr>
              <a:xfrm>
                <a:off x="3367080" y="1841400"/>
                <a:ext cx="0" cy="4481640"/>
              </a:xfrm>
              <a:prstGeom prst="line">
                <a:avLst/>
              </a:prstGeom>
              <a:ln w="2844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539080" y="6222960"/>
                <a:ext cx="157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Transl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2820960" y="1860480"/>
              <a:ext cx="1991520" cy="4116240"/>
              <a:chOff x="2820960" y="1860480"/>
              <a:chExt cx="1991520" cy="4116240"/>
            </a:xfrm>
          </p:grpSpPr>
          <p:sp>
            <p:nvSpPr>
              <p:cNvPr id="924" name=""/>
              <p:cNvSpPr/>
              <p:nvPr/>
            </p:nvSpPr>
            <p:spPr>
              <a:xfrm>
                <a:off x="3528720" y="1933560"/>
                <a:ext cx="1250280" cy="8460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495960" y="1860480"/>
                <a:ext cx="1247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Suppor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in C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542760" y="2863800"/>
                <a:ext cx="1212480" cy="8460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575880" y="2792160"/>
                <a:ext cx="1087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of C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531600" y="4179600"/>
                <a:ext cx="1214280" cy="8463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517560" y="4190760"/>
                <a:ext cx="1294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CGs Ru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820960" y="2149200"/>
                <a:ext cx="861480" cy="430200"/>
              </a:xfrm>
              <a:custGeom>
                <a:avLst/>
                <a:gdLst>
                  <a:gd name="textAreaLeft" fmla="*/ 134640 w 861480"/>
                  <a:gd name="textAreaRight" fmla="*/ 753840 w 861480"/>
                  <a:gd name="textAreaTop" fmla="*/ 107640 h 430200"/>
                  <a:gd name="textAreaBottom" fmla="*/ 32292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820960" y="2965320"/>
                <a:ext cx="861480" cy="426960"/>
              </a:xfrm>
              <a:custGeom>
                <a:avLst/>
                <a:gdLst>
                  <a:gd name="textAreaLeft" fmla="*/ 134640 w 861480"/>
                  <a:gd name="textAreaRight" fmla="*/ 753840 w 861480"/>
                  <a:gd name="textAreaTop" fmla="*/ 106560 h 426960"/>
                  <a:gd name="textAreaBottom" fmla="*/ 320400 h 42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825280" y="4362480"/>
                <a:ext cx="853560" cy="430200"/>
              </a:xfrm>
              <a:custGeom>
                <a:avLst/>
                <a:gdLst>
                  <a:gd name="textAreaLeft" fmla="*/ 133200 w 853560"/>
                  <a:gd name="textAreaRight" fmla="*/ 747000 w 853560"/>
                  <a:gd name="textAreaTop" fmla="*/ 107640 h 430200"/>
                  <a:gd name="textAreaBottom" fmla="*/ 32292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530160" y="5130720"/>
                <a:ext cx="1213920" cy="8460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600360" y="5030640"/>
                <a:ext cx="1011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C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Que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823840" y="5298840"/>
                <a:ext cx="853560" cy="430200"/>
              </a:xfrm>
              <a:custGeom>
                <a:avLst/>
                <a:gdLst>
                  <a:gd name="textAreaLeft" fmla="*/ 133200 w 853560"/>
                  <a:gd name="textAreaRight" fmla="*/ 747000 w 853560"/>
                  <a:gd name="textAreaTop" fmla="*/ 107640 h 430200"/>
                  <a:gd name="textAreaBottom" fmla="*/ 32292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6" name=""/>
          <p:cNvGrpSpPr/>
          <p:nvPr/>
        </p:nvGrpSpPr>
        <p:grpSpPr>
          <a:xfrm>
            <a:off x="3325680" y="3543120"/>
            <a:ext cx="1649160" cy="758520"/>
            <a:chOff x="3325680" y="3543120"/>
            <a:chExt cx="1649160" cy="758520"/>
          </a:xfrm>
        </p:grpSpPr>
        <p:sp>
          <p:nvSpPr>
            <p:cNvPr id="937" name=""/>
            <p:cNvSpPr/>
            <p:nvPr/>
          </p:nvSpPr>
          <p:spPr>
            <a:xfrm flipH="1">
              <a:off x="3366720" y="3828960"/>
              <a:ext cx="1608120" cy="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325680" y="3757320"/>
              <a:ext cx="12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3300"/>
                  </a:solidFill>
                  <a:latin typeface="Times New Roman"/>
                </a:rPr>
                <a:t>Infer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6200000">
              <a:off x="4281480" y="3789000"/>
              <a:ext cx="758520" cy="266760"/>
            </a:xfrm>
            <a:prstGeom prst="rightArrow">
              <a:avLst>
                <a:gd name="adj1" fmla="val 50000"/>
                <a:gd name="adj2" fmla="val 71086"/>
              </a:avLst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4158720" y="1841400"/>
            <a:ext cx="2122920" cy="4841280"/>
            <a:chOff x="4158720" y="1841400"/>
            <a:chExt cx="2122920" cy="4841280"/>
          </a:xfrm>
        </p:grpSpPr>
        <p:sp>
          <p:nvSpPr>
            <p:cNvPr id="941" name=""/>
            <p:cNvSpPr/>
            <p:nvPr/>
          </p:nvSpPr>
          <p:spPr>
            <a:xfrm>
              <a:off x="5064120" y="2868480"/>
              <a:ext cx="1217520" cy="8413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165640" y="2852640"/>
              <a:ext cx="108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es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in C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965480" y="1841400"/>
              <a:ext cx="0" cy="448308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158720" y="622296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Proj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rot="5400000">
              <a:off x="4722480" y="2068200"/>
              <a:ext cx="716040" cy="954000"/>
            </a:xfrm>
            <a:custGeom>
              <a:avLst/>
              <a:gdLst>
                <a:gd name="textAreaLeft" fmla="*/ 0 w 716040"/>
                <a:gd name="textAreaRight" fmla="*/ 716400 w 71604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439" stAng="10800000" swAng="5400000"/>
                  <a:lnTo>
                    <a:pt x="14846" y="3721"/>
                  </a:lnTo>
                  <a:lnTo>
                    <a:pt x="14846" y="0"/>
                  </a:lnTo>
                  <a:lnTo>
                    <a:pt x="21600" y="6079"/>
                  </a:lnTo>
                  <a:lnTo>
                    <a:pt x="14846" y="12158"/>
                  </a:lnTo>
                  <a:lnTo>
                    <a:pt x="14846" y="8437"/>
                  </a:lnTo>
                  <a:lnTo>
                    <a:pt x="12427" y="8437"/>
                  </a:lnTo>
                  <a:arcTo wR="7711" hR="3723" stAng="16200000" swAng="-5400000"/>
                  <a:lnTo>
                    <a:pt x="4716" y="216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603680" y="3033720"/>
              <a:ext cx="706320" cy="460080"/>
            </a:xfrm>
            <a:prstGeom prst="rightArrow">
              <a:avLst>
                <a:gd name="adj1" fmla="val 50000"/>
                <a:gd name="adj2" fmla="val 38380"/>
              </a:avLst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 rot="16200000">
              <a:off x="4183560" y="4089240"/>
              <a:ext cx="1792440" cy="955440"/>
            </a:xfrm>
            <a:custGeom>
              <a:avLst/>
              <a:gdLst>
                <a:gd name="textAreaLeft" fmla="*/ 0 w 1792440"/>
                <a:gd name="textAreaRight" fmla="*/ 1792800 w 1792440"/>
                <a:gd name="textAreaTop" fmla="*/ 360 h 955440"/>
                <a:gd name="textAreaBottom" fmla="*/ 956160 h 95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783" stAng="10800000" swAng="5400000"/>
                  <a:lnTo>
                    <a:pt x="18347" y="4377"/>
                  </a:lnTo>
                  <a:lnTo>
                    <a:pt x="18347" y="0"/>
                  </a:lnTo>
                  <a:lnTo>
                    <a:pt x="21600" y="6079"/>
                  </a:lnTo>
                  <a:lnTo>
                    <a:pt x="18347" y="12158"/>
                  </a:lnTo>
                  <a:lnTo>
                    <a:pt x="18347" y="7781"/>
                  </a:lnTo>
                  <a:lnTo>
                    <a:pt x="12427" y="7781"/>
                  </a:lnTo>
                  <a:arcTo wR="9023" hR="4379" stAng="16200000" swAng="-5400000"/>
                  <a:lnTo>
                    <a:pt x="3404" y="216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5632920" y="1841400"/>
            <a:ext cx="3496320" cy="4841280"/>
            <a:chOff x="5632920" y="1841400"/>
            <a:chExt cx="3496320" cy="4841280"/>
          </a:xfrm>
        </p:grpSpPr>
        <p:grpSp>
          <p:nvGrpSpPr>
            <p:cNvPr id="949" name=""/>
            <p:cNvGrpSpPr/>
            <p:nvPr/>
          </p:nvGrpSpPr>
          <p:grpSpPr>
            <a:xfrm>
              <a:off x="6589080" y="2863800"/>
              <a:ext cx="2540160" cy="847800"/>
              <a:chOff x="6589080" y="2863800"/>
              <a:chExt cx="2540160" cy="847800"/>
            </a:xfrm>
          </p:grpSpPr>
          <p:sp>
            <p:nvSpPr>
              <p:cNvPr id="950" name=""/>
              <p:cNvSpPr/>
              <p:nvPr/>
            </p:nvSpPr>
            <p:spPr>
              <a:xfrm>
                <a:off x="6618240" y="2863800"/>
                <a:ext cx="1446120" cy="8460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589080" y="2886120"/>
                <a:ext cx="1418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Result 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RD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2" name=""/>
              <p:cNvGrpSpPr/>
              <p:nvPr/>
            </p:nvGrpSpPr>
            <p:grpSpPr>
              <a:xfrm>
                <a:off x="8699040" y="2895480"/>
                <a:ext cx="430200" cy="758880"/>
                <a:chOff x="8699040" y="2895480"/>
                <a:chExt cx="430200" cy="758880"/>
              </a:xfrm>
            </p:grpSpPr>
            <p:sp>
              <p:nvSpPr>
                <p:cNvPr id="953" name=""/>
                <p:cNvSpPr/>
                <p:nvPr/>
              </p:nvSpPr>
              <p:spPr>
                <a:xfrm flipH="1">
                  <a:off x="8823600" y="2937600"/>
                  <a:ext cx="168120" cy="16560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H="1">
                  <a:off x="8934840" y="2895480"/>
                  <a:ext cx="194040" cy="26568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H="1">
                  <a:off x="8845200" y="3115440"/>
                  <a:ext cx="100800" cy="2491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H="1">
                  <a:off x="8744040" y="3122640"/>
                  <a:ext cx="155160" cy="19152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H="1">
                  <a:off x="8698680" y="3339720"/>
                  <a:ext cx="188280" cy="30960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H="1">
                  <a:off x="8878680" y="3339000"/>
                  <a:ext cx="126360" cy="3153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9" name=""/>
              <p:cNvSpPr/>
              <p:nvPr/>
            </p:nvSpPr>
            <p:spPr>
              <a:xfrm>
                <a:off x="8242200" y="3352680"/>
                <a:ext cx="609480" cy="31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8165880" y="33526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6464160" y="1841400"/>
              <a:ext cx="0" cy="448164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632920" y="6222960"/>
              <a:ext cx="157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Trans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122880" y="3093840"/>
              <a:ext cx="696960" cy="426960"/>
            </a:xfrm>
            <a:custGeom>
              <a:avLst/>
              <a:gdLst>
                <a:gd name="textAreaLeft" fmla="*/ 108720 w 696960"/>
                <a:gd name="textAreaRight" fmla="*/ 586080 w 696960"/>
                <a:gd name="textAreaTop" fmla="*/ 118800 h 426960"/>
                <a:gd name="textAreaBottom" fmla="*/ 308160 h 42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022"/>
                  </a:moveTo>
                  <a:lnTo>
                    <a:pt x="13826" y="6022"/>
                  </a:lnTo>
                  <a:lnTo>
                    <a:pt x="13826" y="0"/>
                  </a:lnTo>
                  <a:lnTo>
                    <a:pt x="21600" y="10800"/>
                  </a:lnTo>
                  <a:lnTo>
                    <a:pt x="13826" y="21600"/>
                  </a:lnTo>
                  <a:lnTo>
                    <a:pt x="13826" y="15578"/>
                  </a:lnTo>
                  <a:lnTo>
                    <a:pt x="3375" y="15578"/>
                  </a:lnTo>
                  <a:close/>
                </a:path>
                <a:path w="21600" h="21600">
                  <a:moveTo>
                    <a:pt x="0" y="6022"/>
                  </a:moveTo>
                  <a:lnTo>
                    <a:pt x="675" y="6022"/>
                  </a:lnTo>
                  <a:lnTo>
                    <a:pt x="675" y="15578"/>
                  </a:lnTo>
                  <a:lnTo>
                    <a:pt x="0" y="15578"/>
                  </a:lnTo>
                  <a:close/>
                </a:path>
                <a:path w="21600" h="21600">
                  <a:moveTo>
                    <a:pt x="1350" y="6022"/>
                  </a:moveTo>
                  <a:lnTo>
                    <a:pt x="2700" y="6022"/>
                  </a:lnTo>
                  <a:lnTo>
                    <a:pt x="2700" y="15578"/>
                  </a:lnTo>
                  <a:lnTo>
                    <a:pt x="1350" y="15578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3505320" y="3886200"/>
            <a:ext cx="3047760" cy="283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Courier New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cl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son ?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cl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son ?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Courier New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son ?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llea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son ?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EAB8-ECCA-4750-AFF9-D6E76D67AC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MAS Architecture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766800" y="1295280"/>
            <a:ext cx="7772400" cy="4380120"/>
            <a:chOff x="766800" y="1295280"/>
            <a:chExt cx="7772400" cy="4380120"/>
          </a:xfrm>
        </p:grpSpPr>
        <p:sp>
          <p:nvSpPr>
            <p:cNvPr id="967" name=""/>
            <p:cNvSpPr/>
            <p:nvPr/>
          </p:nvSpPr>
          <p:spPr>
            <a:xfrm>
              <a:off x="76680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8" name=""/>
            <p:cNvGrpSpPr/>
            <p:nvPr/>
          </p:nvGrpSpPr>
          <p:grpSpPr>
            <a:xfrm>
              <a:off x="3882960" y="1374840"/>
              <a:ext cx="1657080" cy="4181400"/>
              <a:chOff x="3882960" y="1374840"/>
              <a:chExt cx="1657080" cy="4181400"/>
            </a:xfrm>
          </p:grpSpPr>
          <p:sp>
            <p:nvSpPr>
              <p:cNvPr id="969" name=""/>
              <p:cNvSpPr/>
              <p:nvPr/>
            </p:nvSpPr>
            <p:spPr>
              <a:xfrm>
                <a:off x="388296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04172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1573200" y="2728800"/>
              <a:ext cx="6532560" cy="995400"/>
              <a:chOff x="1573200" y="2728800"/>
              <a:chExt cx="6532560" cy="995400"/>
            </a:xfrm>
          </p:grpSpPr>
          <p:sp>
            <p:nvSpPr>
              <p:cNvPr id="972" name=""/>
              <p:cNvSpPr/>
              <p:nvPr/>
            </p:nvSpPr>
            <p:spPr>
              <a:xfrm>
                <a:off x="157320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38676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44356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59552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98936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77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220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978" name=""/>
              <p:cNvGrpSpPr/>
              <p:nvPr/>
            </p:nvGrpSpPr>
            <p:grpSpPr>
              <a:xfrm>
                <a:off x="5540400" y="3048120"/>
                <a:ext cx="908280" cy="636120"/>
                <a:chOff x="5540400" y="3048120"/>
                <a:chExt cx="908280" cy="63612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554040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980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652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981" name=""/>
              <p:cNvSpPr/>
              <p:nvPr/>
            </p:nvSpPr>
            <p:spPr>
              <a:xfrm>
                <a:off x="388332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82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90196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983" name=""/>
              <p:cNvSpPr/>
              <p:nvPr/>
            </p:nvSpPr>
            <p:spPr>
              <a:xfrm>
                <a:off x="262116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44868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92172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86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9456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987" name=""/>
              <p:cNvGrpSpPr/>
              <p:nvPr/>
            </p:nvGrpSpPr>
            <p:grpSpPr>
              <a:xfrm>
                <a:off x="3410280" y="2860560"/>
                <a:ext cx="907920" cy="635040"/>
                <a:chOff x="3410280" y="2860560"/>
                <a:chExt cx="907920" cy="635040"/>
              </a:xfrm>
            </p:grpSpPr>
            <p:pic>
              <p:nvPicPr>
                <p:cNvPr id="988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640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989" name=""/>
                <p:cNvSpPr/>
                <p:nvPr/>
              </p:nvSpPr>
              <p:spPr>
                <a:xfrm>
                  <a:off x="341028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90" name=""/>
          <p:cNvGrpSpPr/>
          <p:nvPr/>
        </p:nvGrpSpPr>
        <p:grpSpPr>
          <a:xfrm>
            <a:off x="923760" y="3763800"/>
            <a:ext cx="1101240" cy="1552680"/>
            <a:chOff x="923760" y="3763800"/>
            <a:chExt cx="1101240" cy="1552680"/>
          </a:xfrm>
        </p:grpSpPr>
        <p:sp>
          <p:nvSpPr>
            <p:cNvPr id="991" name=""/>
            <p:cNvSpPr/>
            <p:nvPr/>
          </p:nvSpPr>
          <p:spPr>
            <a:xfrm>
              <a:off x="923760" y="471960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2" name=""/>
            <p:cNvGrpSpPr/>
            <p:nvPr/>
          </p:nvGrpSpPr>
          <p:grpSpPr>
            <a:xfrm>
              <a:off x="1595160" y="3763800"/>
              <a:ext cx="429840" cy="1181160"/>
              <a:chOff x="1595160" y="3763800"/>
              <a:chExt cx="429840" cy="1181160"/>
            </a:xfrm>
          </p:grpSpPr>
          <p:grpSp>
            <p:nvGrpSpPr>
              <p:cNvPr id="993" name=""/>
              <p:cNvGrpSpPr/>
              <p:nvPr/>
            </p:nvGrpSpPr>
            <p:grpSpPr>
              <a:xfrm>
                <a:off x="1595160" y="3763800"/>
                <a:ext cx="210960" cy="97920"/>
                <a:chOff x="1595160" y="3763800"/>
                <a:chExt cx="210960" cy="9792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1595160" y="383760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1647000" y="377424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1719720" y="376380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1760040" y="380124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1669680" y="3833640"/>
                <a:ext cx="355320" cy="1111320"/>
                <a:chOff x="1669680" y="3833640"/>
                <a:chExt cx="355320" cy="111132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1733760" y="401652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1861560" y="383364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1669680" y="423252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1786320" y="422064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1746720" y="448128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1857240" y="448128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005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634400" y="382500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06" name=""/>
          <p:cNvGrpSpPr/>
          <p:nvPr/>
        </p:nvGrpSpPr>
        <p:grpSpPr>
          <a:xfrm>
            <a:off x="846000" y="1374840"/>
            <a:ext cx="1774800" cy="1433520"/>
            <a:chOff x="846000" y="1374840"/>
            <a:chExt cx="1774800" cy="1433520"/>
          </a:xfrm>
        </p:grpSpPr>
        <p:sp>
          <p:nvSpPr>
            <p:cNvPr id="1007" name=""/>
            <p:cNvSpPr/>
            <p:nvPr/>
          </p:nvSpPr>
          <p:spPr>
            <a:xfrm>
              <a:off x="846000" y="244944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thor and/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notator of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1398240" y="1374840"/>
              <a:ext cx="789120" cy="1231920"/>
              <a:chOff x="1398240" y="1374840"/>
              <a:chExt cx="789120" cy="1231920"/>
            </a:xfrm>
          </p:grpSpPr>
          <p:grpSp>
            <p:nvGrpSpPr>
              <p:cNvPr id="1009" name=""/>
              <p:cNvGrpSpPr/>
              <p:nvPr/>
            </p:nvGrpSpPr>
            <p:grpSpPr>
              <a:xfrm>
                <a:off x="1673640" y="1822680"/>
                <a:ext cx="477360" cy="784080"/>
                <a:chOff x="1673640" y="1822680"/>
                <a:chExt cx="477360" cy="78408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1882800" y="208332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1926000" y="232992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1758240" y="231624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1673640" y="208404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1993680" y="182268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1838880" y="186624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1684440" y="1374840"/>
                <a:ext cx="236520" cy="239040"/>
                <a:chOff x="1684440" y="1374840"/>
                <a:chExt cx="236520" cy="239040"/>
              </a:xfrm>
            </p:grpSpPr>
            <p:sp>
              <p:nvSpPr>
                <p:cNvPr id="1017" name=""/>
                <p:cNvSpPr/>
                <p:nvPr/>
              </p:nvSpPr>
              <p:spPr>
                <a:xfrm>
                  <a:off x="1684440" y="137484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18" name="doc_0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11440" y="139644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1019" name=""/>
              <p:cNvGrpSpPr/>
              <p:nvPr/>
            </p:nvGrpSpPr>
            <p:grpSpPr>
              <a:xfrm>
                <a:off x="1398240" y="1498320"/>
                <a:ext cx="255240" cy="278640"/>
                <a:chOff x="1398240" y="1498320"/>
                <a:chExt cx="255240" cy="278640"/>
              </a:xfrm>
            </p:grpSpPr>
            <p:sp>
              <p:nvSpPr>
                <p:cNvPr id="1020" name=""/>
                <p:cNvSpPr/>
                <p:nvPr/>
              </p:nvSpPr>
              <p:spPr>
                <a:xfrm>
                  <a:off x="1398240" y="149832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21" name="doc_0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406520" y="151704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22" name=""/>
              <p:cNvGrpSpPr/>
              <p:nvPr/>
            </p:nvGrpSpPr>
            <p:grpSpPr>
              <a:xfrm>
                <a:off x="1555920" y="1817280"/>
                <a:ext cx="204120" cy="245160"/>
                <a:chOff x="1555920" y="1817280"/>
                <a:chExt cx="204120" cy="24516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1555920" y="181728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24" name="doc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76440" y="183384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25" name=""/>
              <p:cNvGrpSpPr/>
              <p:nvPr/>
            </p:nvGrpSpPr>
            <p:grpSpPr>
              <a:xfrm>
                <a:off x="1950480" y="1538280"/>
                <a:ext cx="236880" cy="278640"/>
                <a:chOff x="1950480" y="1538280"/>
                <a:chExt cx="236880" cy="278640"/>
              </a:xfrm>
            </p:grpSpPr>
            <p:sp>
              <p:nvSpPr>
                <p:cNvPr id="1026" name=""/>
                <p:cNvSpPr/>
                <p:nvPr/>
              </p:nvSpPr>
              <p:spPr>
                <a:xfrm>
                  <a:off x="1950480" y="153828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27" name="doc_05gif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955880" y="157176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028" name=""/>
          <p:cNvGrpSpPr/>
          <p:nvPr/>
        </p:nvGrpSpPr>
        <p:grpSpPr>
          <a:xfrm>
            <a:off x="7118280" y="4521240"/>
            <a:ext cx="1106280" cy="1193760"/>
            <a:chOff x="7118280" y="4521240"/>
            <a:chExt cx="1106280" cy="1193760"/>
          </a:xfrm>
        </p:grpSpPr>
        <p:sp>
          <p:nvSpPr>
            <p:cNvPr id="1029" name=""/>
            <p:cNvSpPr/>
            <p:nvPr/>
          </p:nvSpPr>
          <p:spPr>
            <a:xfrm>
              <a:off x="7118280" y="546732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d 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"/>
            <p:cNvGrpSpPr/>
            <p:nvPr/>
          </p:nvGrpSpPr>
          <p:grpSpPr>
            <a:xfrm>
              <a:off x="7276680" y="4600440"/>
              <a:ext cx="430200" cy="903600"/>
              <a:chOff x="7276680" y="4600440"/>
              <a:chExt cx="430200" cy="903600"/>
            </a:xfrm>
          </p:grpSpPr>
          <p:sp>
            <p:nvSpPr>
              <p:cNvPr id="1031" name=""/>
              <p:cNvSpPr/>
              <p:nvPr/>
            </p:nvSpPr>
            <p:spPr>
              <a:xfrm flipH="1">
                <a:off x="7401240" y="465084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7512480" y="460044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7422840" y="486252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7321680" y="487080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7276320" y="512928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7456320" y="512856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7710120" y="4521240"/>
              <a:ext cx="473400" cy="396720"/>
              <a:chOff x="7710120" y="4521240"/>
              <a:chExt cx="473400" cy="396720"/>
            </a:xfrm>
          </p:grpSpPr>
          <p:sp>
            <p:nvSpPr>
              <p:cNvPr id="1038" name=""/>
              <p:cNvSpPr/>
              <p:nvPr/>
            </p:nvSpPr>
            <p:spPr>
              <a:xfrm>
                <a:off x="7710120" y="452124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39" name="inter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26400" y="45914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40" name=""/>
          <p:cNvGrpSpPr/>
          <p:nvPr/>
        </p:nvGrpSpPr>
        <p:grpSpPr>
          <a:xfrm>
            <a:off x="2187720" y="1785960"/>
            <a:ext cx="1617120" cy="903240"/>
            <a:chOff x="2187720" y="1785960"/>
            <a:chExt cx="1617120" cy="903240"/>
          </a:xfrm>
        </p:grpSpPr>
        <p:pic>
          <p:nvPicPr>
            <p:cNvPr id="1041" name="" descr=""/>
            <p:cNvPicPr/>
            <p:nvPr/>
          </p:nvPicPr>
          <p:blipFill>
            <a:blip r:embed="rId12"/>
            <a:stretch/>
          </p:blipFill>
          <p:spPr>
            <a:xfrm>
              <a:off x="2187720" y="2262240"/>
              <a:ext cx="23616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2" name=""/>
            <p:cNvGrpSpPr/>
            <p:nvPr/>
          </p:nvGrpSpPr>
          <p:grpSpPr>
            <a:xfrm>
              <a:off x="2463480" y="1785960"/>
              <a:ext cx="1025280" cy="903240"/>
              <a:chOff x="2463480" y="1785960"/>
              <a:chExt cx="1025280" cy="903240"/>
            </a:xfrm>
          </p:grpSpPr>
          <p:sp>
            <p:nvSpPr>
              <p:cNvPr id="1043" name=""/>
              <p:cNvSpPr/>
              <p:nvPr/>
            </p:nvSpPr>
            <p:spPr>
              <a:xfrm>
                <a:off x="2463480" y="2052000"/>
                <a:ext cx="102528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463480" y="1785960"/>
                <a:ext cx="102528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481120" y="2054880"/>
                <a:ext cx="10072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857680" y="228744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540160" y="181656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48" name="" descr=""/>
            <p:cNvPicPr/>
            <p:nvPr/>
          </p:nvPicPr>
          <p:blipFill>
            <a:blip r:embed="rId15"/>
            <a:stretch/>
          </p:blipFill>
          <p:spPr>
            <a:xfrm>
              <a:off x="3568320" y="2251080"/>
              <a:ext cx="23652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9" name=""/>
          <p:cNvGrpSpPr/>
          <p:nvPr/>
        </p:nvGrpSpPr>
        <p:grpSpPr>
          <a:xfrm>
            <a:off x="5460840" y="4560840"/>
            <a:ext cx="1697040" cy="995400"/>
            <a:chOff x="5460840" y="4560840"/>
            <a:chExt cx="1697040" cy="995400"/>
          </a:xfrm>
        </p:grpSpPr>
        <p:pic>
          <p:nvPicPr>
            <p:cNvPr id="1050" name="" descr=""/>
            <p:cNvPicPr/>
            <p:nvPr/>
          </p:nvPicPr>
          <p:blipFill>
            <a:blip r:embed="rId16"/>
            <a:stretch/>
          </p:blipFill>
          <p:spPr>
            <a:xfrm>
              <a:off x="5460840" y="503856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1" name="" descr=""/>
            <p:cNvPicPr/>
            <p:nvPr/>
          </p:nvPicPr>
          <p:blipFill>
            <a:blip r:embed="rId17"/>
            <a:stretch/>
          </p:blipFill>
          <p:spPr>
            <a:xfrm>
              <a:off x="6921360" y="503856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2" name=""/>
            <p:cNvGrpSpPr/>
            <p:nvPr/>
          </p:nvGrpSpPr>
          <p:grpSpPr>
            <a:xfrm>
              <a:off x="5736960" y="4560840"/>
              <a:ext cx="1104840" cy="995400"/>
              <a:chOff x="5736960" y="4560840"/>
              <a:chExt cx="1104840" cy="995400"/>
            </a:xfrm>
          </p:grpSpPr>
          <p:grpSp>
            <p:nvGrpSpPr>
              <p:cNvPr id="1053" name=""/>
              <p:cNvGrpSpPr/>
              <p:nvPr/>
            </p:nvGrpSpPr>
            <p:grpSpPr>
              <a:xfrm>
                <a:off x="5736960" y="4560840"/>
                <a:ext cx="1026000" cy="902880"/>
                <a:chOff x="5736960" y="4560840"/>
                <a:chExt cx="1026000" cy="90288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5736960" y="482688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5736960" y="45608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5754600" y="482940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5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131520" y="50623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5813640" y="4591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59" name=""/>
              <p:cNvGrpSpPr/>
              <p:nvPr/>
            </p:nvGrpSpPr>
            <p:grpSpPr>
              <a:xfrm>
                <a:off x="5776200" y="4600440"/>
                <a:ext cx="1026000" cy="903240"/>
                <a:chOff x="5776200" y="4600440"/>
                <a:chExt cx="1026000" cy="90324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5776200" y="486648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5776200" y="46004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5793840" y="486936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6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6170760" y="51019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5852880" y="46310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65" name=""/>
              <p:cNvGrpSpPr/>
              <p:nvPr/>
            </p:nvGrpSpPr>
            <p:grpSpPr>
              <a:xfrm>
                <a:off x="5815800" y="4653000"/>
                <a:ext cx="1026000" cy="903240"/>
                <a:chOff x="5815800" y="4653000"/>
                <a:chExt cx="1026000" cy="90324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815800" y="491904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815800" y="465300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5833440" y="49219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6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210360" y="515448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5892480" y="468360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071" name=""/>
          <p:cNvGrpSpPr/>
          <p:nvPr/>
        </p:nvGrpSpPr>
        <p:grpSpPr>
          <a:xfrm>
            <a:off x="2227320" y="3882960"/>
            <a:ext cx="2168640" cy="677520"/>
            <a:chOff x="2227320" y="3882960"/>
            <a:chExt cx="2168640" cy="677520"/>
          </a:xfrm>
        </p:grpSpPr>
        <p:pic>
          <p:nvPicPr>
            <p:cNvPr id="1072" name="" descr=""/>
            <p:cNvPicPr/>
            <p:nvPr/>
          </p:nvPicPr>
          <p:blipFill>
            <a:blip r:embed="rId24"/>
            <a:stretch/>
          </p:blipFill>
          <p:spPr>
            <a:xfrm>
              <a:off x="222732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25"/>
            <a:stretch/>
          </p:blipFill>
          <p:spPr>
            <a:xfrm>
              <a:off x="352908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4" name=""/>
            <p:cNvGrpSpPr/>
            <p:nvPr/>
          </p:nvGrpSpPr>
          <p:grpSpPr>
            <a:xfrm>
              <a:off x="2424240" y="3882960"/>
              <a:ext cx="1008000" cy="677520"/>
              <a:chOff x="2424240" y="3882960"/>
              <a:chExt cx="1008000" cy="677520"/>
            </a:xfrm>
          </p:grpSpPr>
          <p:sp>
            <p:nvSpPr>
              <p:cNvPr id="1075" name=""/>
              <p:cNvSpPr/>
              <p:nvPr/>
            </p:nvSpPr>
            <p:spPr>
              <a:xfrm>
                <a:off x="2581920" y="392256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76" name="onto_01" descr=""/>
              <p:cNvPicPr/>
              <p:nvPr/>
            </p:nvPicPr>
            <p:blipFill>
              <a:blip r:embed="rId26"/>
              <a:stretch/>
            </p:blipFill>
            <p:spPr>
              <a:xfrm>
                <a:off x="2739960" y="415620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7" name=""/>
              <p:cNvSpPr/>
              <p:nvPr/>
            </p:nvSpPr>
            <p:spPr>
              <a:xfrm>
                <a:off x="2424240" y="3882960"/>
                <a:ext cx="100800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Ontolog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78" name="onto_01" descr=""/>
            <p:cNvPicPr/>
            <p:nvPr/>
          </p:nvPicPr>
          <p:blipFill>
            <a:blip r:embed="rId27"/>
            <a:stretch/>
          </p:blipFill>
          <p:spPr>
            <a:xfrm>
              <a:off x="4081680" y="4122720"/>
              <a:ext cx="31428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9" name=""/>
          <p:cNvGrpSpPr/>
          <p:nvPr/>
        </p:nvGrpSpPr>
        <p:grpSpPr>
          <a:xfrm>
            <a:off x="2014560" y="4633920"/>
            <a:ext cx="1631880" cy="882360"/>
            <a:chOff x="2014560" y="4633920"/>
            <a:chExt cx="1631880" cy="882360"/>
          </a:xfrm>
        </p:grpSpPr>
        <p:grpSp>
          <p:nvGrpSpPr>
            <p:cNvPr id="1080" name=""/>
            <p:cNvGrpSpPr/>
            <p:nvPr/>
          </p:nvGrpSpPr>
          <p:grpSpPr>
            <a:xfrm>
              <a:off x="2014560" y="4917960"/>
              <a:ext cx="1631880" cy="598320"/>
              <a:chOff x="2014560" y="4917960"/>
              <a:chExt cx="1631880" cy="598320"/>
            </a:xfrm>
          </p:grpSpPr>
          <p:sp>
            <p:nvSpPr>
              <p:cNvPr id="1081" name=""/>
              <p:cNvSpPr/>
              <p:nvPr/>
            </p:nvSpPr>
            <p:spPr>
              <a:xfrm>
                <a:off x="2093400" y="4957560"/>
                <a:ext cx="1340640" cy="55872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82" name="onto_02" descr=""/>
              <p:cNvPicPr/>
              <p:nvPr/>
            </p:nvPicPr>
            <p:blipFill>
              <a:blip r:embed="rId28"/>
              <a:stretch/>
            </p:blipFill>
            <p:spPr>
              <a:xfrm>
                <a:off x="2132640" y="5161680"/>
                <a:ext cx="2757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3" name=""/>
              <p:cNvSpPr/>
              <p:nvPr/>
            </p:nvSpPr>
            <p:spPr>
              <a:xfrm>
                <a:off x="2014560" y="4917960"/>
                <a:ext cx="74916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Mode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316240" y="5117400"/>
                <a:ext cx="133020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Enterprise Mode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User's Profil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85" name="" descr=""/>
            <p:cNvPicPr/>
            <p:nvPr/>
          </p:nvPicPr>
          <p:blipFill>
            <a:blip r:embed="rId29"/>
            <a:stretch/>
          </p:blipFill>
          <p:spPr>
            <a:xfrm>
              <a:off x="2817720" y="4633920"/>
              <a:ext cx="23616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6" name=""/>
          <p:cNvGrpSpPr/>
          <p:nvPr/>
        </p:nvGrpSpPr>
        <p:grpSpPr>
          <a:xfrm>
            <a:off x="3529080" y="4998960"/>
            <a:ext cx="1065240" cy="357120"/>
            <a:chOff x="3529080" y="4998960"/>
            <a:chExt cx="1065240" cy="357120"/>
          </a:xfrm>
        </p:grpSpPr>
        <p:pic>
          <p:nvPicPr>
            <p:cNvPr id="1087" name="" descr=""/>
            <p:cNvPicPr/>
            <p:nvPr/>
          </p:nvPicPr>
          <p:blipFill>
            <a:blip r:embed="rId30"/>
            <a:stretch/>
          </p:blipFill>
          <p:spPr>
            <a:xfrm>
              <a:off x="3529080" y="507852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onto_02" descr=""/>
            <p:cNvPicPr/>
            <p:nvPr/>
          </p:nvPicPr>
          <p:blipFill>
            <a:blip r:embed="rId31"/>
            <a:stretch/>
          </p:blipFill>
          <p:spPr>
            <a:xfrm>
              <a:off x="4238640" y="499896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9" name=""/>
          <p:cNvGrpSpPr/>
          <p:nvPr/>
        </p:nvGrpSpPr>
        <p:grpSpPr>
          <a:xfrm>
            <a:off x="7197840" y="3787920"/>
            <a:ext cx="631800" cy="772920"/>
            <a:chOff x="7197840" y="3787920"/>
            <a:chExt cx="631800" cy="772920"/>
          </a:xfrm>
        </p:grpSpPr>
        <p:pic>
          <p:nvPicPr>
            <p:cNvPr id="1090" name="" descr=""/>
            <p:cNvPicPr/>
            <p:nvPr/>
          </p:nvPicPr>
          <p:blipFill>
            <a:blip r:embed="rId32"/>
            <a:stretch/>
          </p:blipFill>
          <p:spPr>
            <a:xfrm>
              <a:off x="7394760" y="432108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1" name=""/>
            <p:cNvGrpSpPr/>
            <p:nvPr/>
          </p:nvGrpSpPr>
          <p:grpSpPr>
            <a:xfrm>
              <a:off x="7197840" y="3787920"/>
              <a:ext cx="631800" cy="490320"/>
              <a:chOff x="7197840" y="3787920"/>
              <a:chExt cx="631800" cy="490320"/>
            </a:xfrm>
          </p:grpSpPr>
          <p:sp>
            <p:nvSpPr>
              <p:cNvPr id="1092" name=""/>
              <p:cNvSpPr/>
              <p:nvPr/>
            </p:nvSpPr>
            <p:spPr>
              <a:xfrm>
                <a:off x="7237080" y="384012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197840" y="378792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Query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94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434720" y="402120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95" name=""/>
          <p:cNvGrpSpPr/>
          <p:nvPr/>
        </p:nvGrpSpPr>
        <p:grpSpPr>
          <a:xfrm>
            <a:off x="3938760" y="1697040"/>
            <a:ext cx="1375920" cy="3565440"/>
            <a:chOff x="3938760" y="1697040"/>
            <a:chExt cx="1375920" cy="3565440"/>
          </a:xfrm>
        </p:grpSpPr>
        <p:pic>
          <p:nvPicPr>
            <p:cNvPr id="1096" name="doc_01" descr=""/>
            <p:cNvPicPr/>
            <p:nvPr/>
          </p:nvPicPr>
          <p:blipFill>
            <a:blip r:embed="rId34"/>
            <a:stretch/>
          </p:blipFill>
          <p:spPr>
            <a:xfrm>
              <a:off x="4898880" y="2311200"/>
              <a:ext cx="22644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doc_01" descr=""/>
            <p:cNvPicPr/>
            <p:nvPr/>
          </p:nvPicPr>
          <p:blipFill>
            <a:blip r:embed="rId35"/>
            <a:stretch/>
          </p:blipFill>
          <p:spPr>
            <a:xfrm>
              <a:off x="4857120" y="223200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8" name="memory_01" descr=""/>
            <p:cNvPicPr/>
            <p:nvPr/>
          </p:nvPicPr>
          <p:blipFill>
            <a:blip r:embed="rId36"/>
            <a:stretch/>
          </p:blipFill>
          <p:spPr>
            <a:xfrm>
              <a:off x="3938760" y="1697040"/>
              <a:ext cx="35064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9" name="doc_03" descr=""/>
            <p:cNvPicPr/>
            <p:nvPr/>
          </p:nvPicPr>
          <p:blipFill>
            <a:blip r:embed="rId37"/>
            <a:stretch/>
          </p:blipFill>
          <p:spPr>
            <a:xfrm>
              <a:off x="4105080" y="4467240"/>
              <a:ext cx="41760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1100" name="doc_04" descr=""/>
            <p:cNvPicPr/>
            <p:nvPr/>
          </p:nvPicPr>
          <p:blipFill>
            <a:blip r:embed="rId38"/>
            <a:stretch/>
          </p:blipFill>
          <p:spPr>
            <a:xfrm>
              <a:off x="4022640" y="2192400"/>
              <a:ext cx="2916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doc_05gif" descr=""/>
            <p:cNvPicPr/>
            <p:nvPr/>
          </p:nvPicPr>
          <p:blipFill>
            <a:blip r:embed="rId39"/>
            <a:stretch/>
          </p:blipFill>
          <p:spPr>
            <a:xfrm>
              <a:off x="4731120" y="4386240"/>
              <a:ext cx="321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40"/>
            <a:stretch/>
          </p:blipFill>
          <p:spPr>
            <a:xfrm>
              <a:off x="4648680" y="3824280"/>
              <a:ext cx="4345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41"/>
            <a:stretch/>
          </p:blipFill>
          <p:spPr>
            <a:xfrm>
              <a:off x="4464360" y="1736640"/>
              <a:ext cx="3502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" name="doc_01" descr=""/>
            <p:cNvPicPr/>
            <p:nvPr/>
          </p:nvPicPr>
          <p:blipFill>
            <a:blip r:embed="rId42"/>
            <a:stretch/>
          </p:blipFill>
          <p:spPr>
            <a:xfrm>
              <a:off x="4940640" y="235116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" name="" descr=""/>
            <p:cNvPicPr/>
            <p:nvPr/>
          </p:nvPicPr>
          <p:blipFill>
            <a:blip r:embed="rId43"/>
            <a:stretch/>
          </p:blipFill>
          <p:spPr>
            <a:xfrm>
              <a:off x="4980960" y="4944960"/>
              <a:ext cx="333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" descr=""/>
            <p:cNvPicPr/>
            <p:nvPr/>
          </p:nvPicPr>
          <p:blipFill>
            <a:blip r:embed="rId44"/>
            <a:stretch/>
          </p:blipFill>
          <p:spPr>
            <a:xfrm>
              <a:off x="4439160" y="2351160"/>
              <a:ext cx="35208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" descr=""/>
            <p:cNvPicPr/>
            <p:nvPr/>
          </p:nvPicPr>
          <p:blipFill>
            <a:blip r:embed="rId45"/>
            <a:stretch/>
          </p:blipFill>
          <p:spPr>
            <a:xfrm>
              <a:off x="4980960" y="1793880"/>
              <a:ext cx="333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8" name=""/>
          <p:cNvSpPr txBox="1"/>
          <p:nvPr/>
        </p:nvSpPr>
        <p:spPr>
          <a:xfrm>
            <a:off x="2108160" y="464040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2778120" y="1494000"/>
            <a:ext cx="237960" cy="1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6961320" y="475920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2147760" y="3605040"/>
            <a:ext cx="1971720" cy="1273320"/>
            <a:chOff x="2147760" y="3605040"/>
            <a:chExt cx="1971720" cy="1273320"/>
          </a:xfrm>
        </p:grpSpPr>
        <p:sp>
          <p:nvSpPr>
            <p:cNvPr id="1112" name=""/>
            <p:cNvSpPr/>
            <p:nvPr/>
          </p:nvSpPr>
          <p:spPr>
            <a:xfrm>
              <a:off x="3449520" y="360504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2147760" y="360504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292200" y="368460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5" name=""/>
          <p:cNvGrpSpPr/>
          <p:nvPr/>
        </p:nvGrpSpPr>
        <p:grpSpPr>
          <a:xfrm>
            <a:off x="1712880" y="2610000"/>
            <a:ext cx="947160" cy="396720"/>
            <a:chOff x="1712880" y="2610000"/>
            <a:chExt cx="947160" cy="396720"/>
          </a:xfrm>
        </p:grpSpPr>
        <p:sp>
          <p:nvSpPr>
            <p:cNvPr id="1116" name=""/>
            <p:cNvSpPr/>
            <p:nvPr/>
          </p:nvSpPr>
          <p:spPr>
            <a:xfrm>
              <a:off x="1712880" y="271476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2028240" y="261000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5262480" y="2057040"/>
            <a:ext cx="2247840" cy="2503800"/>
            <a:chOff x="5262480" y="2057040"/>
            <a:chExt cx="2247840" cy="2503800"/>
          </a:xfrm>
        </p:grpSpPr>
        <p:sp>
          <p:nvSpPr>
            <p:cNvPr id="1119" name=""/>
            <p:cNvSpPr/>
            <p:nvPr/>
          </p:nvSpPr>
          <p:spPr>
            <a:xfrm flipH="1" flipV="1">
              <a:off x="5262480" y="205704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78680" y="336564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6368760" y="368460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960960" y="368460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5067000" y="3565440"/>
            <a:ext cx="2130840" cy="1035000"/>
            <a:chOff x="5067000" y="3565440"/>
            <a:chExt cx="2130840" cy="1035000"/>
          </a:xfrm>
        </p:grpSpPr>
        <p:sp>
          <p:nvSpPr>
            <p:cNvPr id="1124" name=""/>
            <p:cNvSpPr/>
            <p:nvPr/>
          </p:nvSpPr>
          <p:spPr>
            <a:xfrm flipH="1">
              <a:off x="5067000" y="3565440"/>
              <a:ext cx="55260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5896080" y="362556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251760" y="3684600"/>
              <a:ext cx="94608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711360" y="1143000"/>
            <a:ext cx="7975440" cy="1523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85800" y="3809880"/>
            <a:ext cx="8026560" cy="1981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62120" y="2666880"/>
            <a:ext cx="7772400" cy="114300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822B-209F-4348-A4FD-67DB3DF1AC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Principal interest of MAS in CoMMA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2240" y="380520"/>
            <a:ext cx="9093240" cy="63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Leitmotiv: 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One functional architecture leading to several possible configurations in order to adapt to the broad range of environments that can be found in a company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19920" indent="-17676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Architecture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: Agent kinds and their relationships</a:t>
            </a:r>
            <a:br>
              <a:rPr sz="2600"/>
            </a:b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2600" spc="-1" strike="noStrike">
                <a:solidFill>
                  <a:srgbClr val="cc3300"/>
                </a:solidFill>
                <a:latin typeface="Arial"/>
              </a:rPr>
              <a:t>Fixed at design tim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19920" indent="-17676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Configuration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: Exact topography of a given MAS</a:t>
            </a:r>
            <a:br>
              <a:rPr sz="2600"/>
            </a:b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cc3300"/>
                </a:solidFill>
                <a:latin typeface="Arial"/>
              </a:rPr>
              <a:t>Fixed at deployment tim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19920" indent="-176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One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architecture </a:t>
            </a:r>
            <a:r>
              <a:rPr b="0" lang="en-US" sz="26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Several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configurations</a:t>
            </a:r>
            <a:br>
              <a:rPr sz="2600"/>
            </a:b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cc3300"/>
                </a:solidFill>
                <a:latin typeface="Arial"/>
              </a:rPr>
              <a:t>Adapt to </a:t>
            </a:r>
            <a:r>
              <a:rPr b="0" i="1" lang="en-GB" sz="2600" spc="-1" strike="noStrike">
                <a:solidFill>
                  <a:srgbClr val="cc3300"/>
                </a:solidFill>
                <a:latin typeface="Arial"/>
              </a:rPr>
              <a:t>context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65680" indent="-265680">
              <a:lnSpc>
                <a:spcPct val="7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Agent paradigm adequacy:  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19920" indent="-17676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gent collaboration </a:t>
            </a:r>
            <a:r>
              <a:rPr b="0" lang="en-US" sz="2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Global capitaliza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19920" indent="-17676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gent autonomy &amp; individuality </a:t>
            </a:r>
            <a:r>
              <a:rPr b="0" lang="en-US" sz="2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Local adapta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oMMA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is an heterogeneous multi-agents information system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167F-AE72-452C-9601-E69F7BBF03A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oMMA Society Sub-societies and Role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2057400" y="4800600"/>
            <a:ext cx="4419360" cy="1944720"/>
            <a:chOff x="2057400" y="4800600"/>
            <a:chExt cx="4419360" cy="1944720"/>
          </a:xfrm>
        </p:grpSpPr>
        <p:sp>
          <p:nvSpPr>
            <p:cNvPr id="1134" name=""/>
            <p:cNvSpPr/>
            <p:nvPr/>
          </p:nvSpPr>
          <p:spPr>
            <a:xfrm>
              <a:off x="2057400" y="480060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743200" y="4857840"/>
              <a:ext cx="37335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s'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6" name=""/>
            <p:cNvGrpSpPr/>
            <p:nvPr/>
          </p:nvGrpSpPr>
          <p:grpSpPr>
            <a:xfrm>
              <a:off x="2336760" y="4826160"/>
              <a:ext cx="444600" cy="609480"/>
              <a:chOff x="2336760" y="4826160"/>
              <a:chExt cx="444600" cy="609480"/>
            </a:xfrm>
          </p:grpSpPr>
          <p:sp>
            <p:nvSpPr>
              <p:cNvPr id="1137" name=""/>
              <p:cNvSpPr/>
              <p:nvPr/>
            </p:nvSpPr>
            <p:spPr>
              <a:xfrm>
                <a:off x="2336760" y="4826160"/>
                <a:ext cx="4446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8" name=""/>
              <p:cNvGrpSpPr/>
              <p:nvPr/>
            </p:nvGrpSpPr>
            <p:grpSpPr>
              <a:xfrm>
                <a:off x="2387160" y="4851720"/>
                <a:ext cx="353880" cy="550800"/>
                <a:chOff x="2387160" y="4851720"/>
                <a:chExt cx="353880" cy="550800"/>
              </a:xfrm>
            </p:grpSpPr>
            <p:sp>
              <p:nvSpPr>
                <p:cNvPr id="1139" name=""/>
                <p:cNvSpPr/>
                <p:nvPr/>
              </p:nvSpPr>
              <p:spPr>
                <a:xfrm flipH="1">
                  <a:off x="2489760" y="4882320"/>
                  <a:ext cx="138240" cy="1202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H="1">
                  <a:off x="2581200" y="485172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>
                  <a:off x="2507400" y="501156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H="1">
                  <a:off x="2423880" y="501660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H="1">
                  <a:off x="2387160" y="517392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flipH="1">
                  <a:off x="2534760" y="5173560"/>
                  <a:ext cx="104040" cy="2289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45" name=""/>
          <p:cNvGrpSpPr/>
          <p:nvPr/>
        </p:nvGrpSpPr>
        <p:grpSpPr>
          <a:xfrm>
            <a:off x="4419720" y="493560"/>
            <a:ext cx="3886200" cy="1944720"/>
            <a:chOff x="4419720" y="493560"/>
            <a:chExt cx="3886200" cy="1944720"/>
          </a:xfrm>
        </p:grpSpPr>
        <p:sp>
          <p:nvSpPr>
            <p:cNvPr id="1146" name=""/>
            <p:cNvSpPr/>
            <p:nvPr/>
          </p:nvSpPr>
          <p:spPr>
            <a:xfrm>
              <a:off x="441972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952880" y="56988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8" name="" descr=""/>
            <p:cNvPicPr/>
            <p:nvPr/>
          </p:nvPicPr>
          <p:blipFill>
            <a:blip r:embed="rId1"/>
            <a:stretch/>
          </p:blipFill>
          <p:spPr>
            <a:xfrm>
              <a:off x="4572000" y="64584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149" name=""/>
          <p:cNvGrpSpPr/>
          <p:nvPr/>
        </p:nvGrpSpPr>
        <p:grpSpPr>
          <a:xfrm>
            <a:off x="152280" y="493560"/>
            <a:ext cx="3886200" cy="1944720"/>
            <a:chOff x="152280" y="493560"/>
            <a:chExt cx="3886200" cy="1944720"/>
          </a:xfrm>
        </p:grpSpPr>
        <p:sp>
          <p:nvSpPr>
            <p:cNvPr id="1150" name=""/>
            <p:cNvSpPr/>
            <p:nvPr/>
          </p:nvSpPr>
          <p:spPr>
            <a:xfrm>
              <a:off x="15228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9480" y="56988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tology and Model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2" name="onto_01" descr=""/>
            <p:cNvPicPr/>
            <p:nvPr/>
          </p:nvPicPr>
          <p:blipFill>
            <a:blip r:embed="rId2"/>
            <a:stretch/>
          </p:blipFill>
          <p:spPr>
            <a:xfrm>
              <a:off x="295200" y="64584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153" name=""/>
          <p:cNvGrpSpPr/>
          <p:nvPr/>
        </p:nvGrpSpPr>
        <p:grpSpPr>
          <a:xfrm>
            <a:off x="2057400" y="2184480"/>
            <a:ext cx="4267080" cy="2971800"/>
            <a:chOff x="2057400" y="2184480"/>
            <a:chExt cx="4267080" cy="2971800"/>
          </a:xfrm>
        </p:grpSpPr>
        <p:sp>
          <p:nvSpPr>
            <p:cNvPr id="1154" name=""/>
            <p:cNvSpPr/>
            <p:nvPr/>
          </p:nvSpPr>
          <p:spPr>
            <a:xfrm>
              <a:off x="2057400" y="264168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666880" y="2793960"/>
              <a:ext cx="3657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connection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209680" y="2184480"/>
              <a:ext cx="6858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943600" y="4318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5562360" y="2184480"/>
              <a:ext cx="4572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9" name="" descr=""/>
            <p:cNvPicPr/>
            <p:nvPr/>
          </p:nvPicPr>
          <p:blipFill>
            <a:blip r:embed="rId3"/>
            <a:stretch/>
          </p:blipFill>
          <p:spPr>
            <a:xfrm>
              <a:off x="2209680" y="2793960"/>
              <a:ext cx="474840" cy="3794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160" name=""/>
          <p:cNvGrpSpPr/>
          <p:nvPr/>
        </p:nvGrpSpPr>
        <p:grpSpPr>
          <a:xfrm>
            <a:off x="457200" y="1103400"/>
            <a:ext cx="3276360" cy="999720"/>
            <a:chOff x="457200" y="1103400"/>
            <a:chExt cx="3276360" cy="999720"/>
          </a:xfrm>
        </p:grpSpPr>
        <p:sp>
          <p:nvSpPr>
            <p:cNvPr id="1161" name=""/>
            <p:cNvSpPr/>
            <p:nvPr/>
          </p:nvSpPr>
          <p:spPr>
            <a:xfrm>
              <a:off x="1447560" y="1179360"/>
              <a:ext cx="228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Ontologist 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2" name="agent" descr=""/>
            <p:cNvPicPr/>
            <p:nvPr/>
          </p:nvPicPr>
          <p:blipFill>
            <a:blip r:embed="rId4"/>
            <a:stretch/>
          </p:blipFill>
          <p:spPr>
            <a:xfrm>
              <a:off x="1066680" y="110340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163" name="agent" descr=""/>
            <p:cNvPicPr/>
            <p:nvPr/>
          </p:nvPicPr>
          <p:blipFill>
            <a:blip r:embed="rId5"/>
            <a:stretch/>
          </p:blipFill>
          <p:spPr>
            <a:xfrm>
              <a:off x="457200" y="14079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164" name="agent" descr=""/>
            <p:cNvPicPr/>
            <p:nvPr/>
          </p:nvPicPr>
          <p:blipFill>
            <a:blip r:embed="rId6"/>
            <a:stretch/>
          </p:blipFill>
          <p:spPr>
            <a:xfrm>
              <a:off x="990360" y="1788840"/>
              <a:ext cx="31140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165" name="agent" descr=""/>
            <p:cNvPicPr/>
            <p:nvPr/>
          </p:nvPicPr>
          <p:blipFill>
            <a:blip r:embed="rId7"/>
            <a:stretch/>
          </p:blipFill>
          <p:spPr>
            <a:xfrm>
              <a:off x="1523880" y="16365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1166" name=""/>
          <p:cNvGrpSpPr/>
          <p:nvPr/>
        </p:nvGrpSpPr>
        <p:grpSpPr>
          <a:xfrm>
            <a:off x="4572000" y="1054080"/>
            <a:ext cx="3657600" cy="1219320"/>
            <a:chOff x="4572000" y="1054080"/>
            <a:chExt cx="3657600" cy="1219320"/>
          </a:xfrm>
        </p:grpSpPr>
        <p:sp>
          <p:nvSpPr>
            <p:cNvPr id="1167" name=""/>
            <p:cNvSpPr/>
            <p:nvPr/>
          </p:nvSpPr>
          <p:spPr>
            <a:xfrm>
              <a:off x="5486400" y="15876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800600" y="18162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572000" y="105408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0" name="agent" descr=""/>
            <p:cNvPicPr/>
            <p:nvPr/>
          </p:nvPicPr>
          <p:blipFill>
            <a:blip r:embed="rId8"/>
            <a:stretch/>
          </p:blipFill>
          <p:spPr>
            <a:xfrm>
              <a:off x="5791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171" name="agent" descr=""/>
            <p:cNvPicPr/>
            <p:nvPr/>
          </p:nvPicPr>
          <p:blipFill>
            <a:blip r:embed="rId9"/>
            <a:stretch/>
          </p:blipFill>
          <p:spPr>
            <a:xfrm>
              <a:off x="6172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172" name="agent" descr=""/>
            <p:cNvPicPr/>
            <p:nvPr/>
          </p:nvPicPr>
          <p:blipFill>
            <a:blip r:embed="rId10"/>
            <a:stretch/>
          </p:blipFill>
          <p:spPr>
            <a:xfrm>
              <a:off x="6553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173" name="agent" descr=""/>
            <p:cNvPicPr/>
            <p:nvPr/>
          </p:nvPicPr>
          <p:blipFill>
            <a:blip r:embed="rId11"/>
            <a:stretch/>
          </p:blipFill>
          <p:spPr>
            <a:xfrm>
              <a:off x="6934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174" name="agent" descr=""/>
            <p:cNvPicPr/>
            <p:nvPr/>
          </p:nvPicPr>
          <p:blipFill>
            <a:blip r:embed="rId12"/>
            <a:stretch/>
          </p:blipFill>
          <p:spPr>
            <a:xfrm>
              <a:off x="7315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175" name="agent" descr=""/>
            <p:cNvPicPr/>
            <p:nvPr/>
          </p:nvPicPr>
          <p:blipFill>
            <a:blip r:embed="rId13"/>
            <a:stretch/>
          </p:blipFill>
          <p:spPr>
            <a:xfrm>
              <a:off x="7696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176" name="agent" descr=""/>
            <p:cNvPicPr/>
            <p:nvPr/>
          </p:nvPicPr>
          <p:blipFill>
            <a:blip r:embed="rId14"/>
            <a:stretch/>
          </p:blipFill>
          <p:spPr>
            <a:xfrm>
              <a:off x="6172200" y="181620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1177" name="agent" descr=""/>
            <p:cNvPicPr/>
            <p:nvPr/>
          </p:nvPicPr>
          <p:blipFill>
            <a:blip r:embed="rId15"/>
            <a:stretch/>
          </p:blipFill>
          <p:spPr>
            <a:xfrm>
              <a:off x="6553080" y="1816200"/>
              <a:ext cx="31140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1178" name=""/>
          <p:cNvGrpSpPr/>
          <p:nvPr/>
        </p:nvGrpSpPr>
        <p:grpSpPr>
          <a:xfrm>
            <a:off x="2209680" y="5400720"/>
            <a:ext cx="3962520" cy="1000080"/>
            <a:chOff x="2209680" y="5400720"/>
            <a:chExt cx="3962520" cy="1000080"/>
          </a:xfrm>
        </p:grpSpPr>
        <p:grpSp>
          <p:nvGrpSpPr>
            <p:cNvPr id="1179" name=""/>
            <p:cNvGrpSpPr/>
            <p:nvPr/>
          </p:nvGrpSpPr>
          <p:grpSpPr>
            <a:xfrm>
              <a:off x="3504960" y="5639040"/>
              <a:ext cx="1371600" cy="761760"/>
              <a:chOff x="3504960" y="5639040"/>
              <a:chExt cx="1371600" cy="761760"/>
            </a:xfrm>
          </p:grpSpPr>
          <p:pic>
            <p:nvPicPr>
              <p:cNvPr id="1180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38480" y="563904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1181" name=""/>
              <p:cNvSpPr/>
              <p:nvPr/>
            </p:nvSpPr>
            <p:spPr>
              <a:xfrm>
                <a:off x="3504960" y="594360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Profile 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4572000" y="5400720"/>
              <a:ext cx="1600200" cy="924120"/>
              <a:chOff x="4572000" y="5400720"/>
              <a:chExt cx="1600200" cy="924120"/>
            </a:xfrm>
          </p:grpSpPr>
          <p:pic>
            <p:nvPicPr>
              <p:cNvPr id="1183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75000" y="540072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1184" name=""/>
              <p:cNvSpPr/>
              <p:nvPr/>
            </p:nvSpPr>
            <p:spPr>
              <a:xfrm>
                <a:off x="4572000" y="571500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rofiles 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2209680" y="5562720"/>
              <a:ext cx="1371600" cy="762120"/>
              <a:chOff x="2209680" y="5562720"/>
              <a:chExt cx="1371600" cy="762120"/>
            </a:xfrm>
          </p:grpSpPr>
          <p:pic>
            <p:nvPicPr>
              <p:cNvPr id="1186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556272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1187" name=""/>
              <p:cNvSpPr/>
              <p:nvPr/>
            </p:nvSpPr>
            <p:spPr>
              <a:xfrm>
                <a:off x="2209680" y="586764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Controll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8" name=""/>
          <p:cNvGrpSpPr/>
          <p:nvPr/>
        </p:nvGrpSpPr>
        <p:grpSpPr>
          <a:xfrm>
            <a:off x="2057400" y="3251160"/>
            <a:ext cx="3968640" cy="1219320"/>
            <a:chOff x="2057400" y="3251160"/>
            <a:chExt cx="3968640" cy="1219320"/>
          </a:xfrm>
        </p:grpSpPr>
        <p:sp>
          <p:nvSpPr>
            <p:cNvPr id="1189" name=""/>
            <p:cNvSpPr/>
            <p:nvPr/>
          </p:nvSpPr>
          <p:spPr>
            <a:xfrm>
              <a:off x="2057400" y="378468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Fed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Matchm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0" name="agent" descr=""/>
            <p:cNvPicPr/>
            <p:nvPr/>
          </p:nvPicPr>
          <p:blipFill>
            <a:blip r:embed="rId19"/>
            <a:stretch/>
          </p:blipFill>
          <p:spPr>
            <a:xfrm>
              <a:off x="3276360" y="3479760"/>
              <a:ext cx="31140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191" name="agent" descr=""/>
            <p:cNvPicPr/>
            <p:nvPr/>
          </p:nvPicPr>
          <p:blipFill>
            <a:blip r:embed="rId20"/>
            <a:stretch/>
          </p:blipFill>
          <p:spPr>
            <a:xfrm>
              <a:off x="4114800" y="33274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192" name="agent" descr=""/>
            <p:cNvPicPr/>
            <p:nvPr/>
          </p:nvPicPr>
          <p:blipFill>
            <a:blip r:embed="rId21"/>
            <a:stretch/>
          </p:blipFill>
          <p:spPr>
            <a:xfrm>
              <a:off x="5105160" y="355608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193" name="agent" descr=""/>
            <p:cNvPicPr/>
            <p:nvPr/>
          </p:nvPicPr>
          <p:blipFill>
            <a:blip r:embed="rId22"/>
            <a:stretch/>
          </p:blipFill>
          <p:spPr>
            <a:xfrm>
              <a:off x="4267080" y="40132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194" name="agent" descr=""/>
            <p:cNvPicPr/>
            <p:nvPr/>
          </p:nvPicPr>
          <p:blipFill>
            <a:blip r:embed="rId23"/>
            <a:stretch/>
          </p:blipFill>
          <p:spPr>
            <a:xfrm>
              <a:off x="5715000" y="3251160"/>
              <a:ext cx="31104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C9C7-8B3F-45A6-8CAA-D8A9B539A7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oMMA Society Sub-societies and Role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2057400" y="4800600"/>
            <a:ext cx="4419360" cy="1944720"/>
            <a:chOff x="2057400" y="4800600"/>
            <a:chExt cx="4419360" cy="1944720"/>
          </a:xfrm>
        </p:grpSpPr>
        <p:sp>
          <p:nvSpPr>
            <p:cNvPr id="1197" name=""/>
            <p:cNvSpPr/>
            <p:nvPr/>
          </p:nvSpPr>
          <p:spPr>
            <a:xfrm>
              <a:off x="2057400" y="480060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743200" y="4857840"/>
              <a:ext cx="37335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s'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9" name=""/>
            <p:cNvGrpSpPr/>
            <p:nvPr/>
          </p:nvGrpSpPr>
          <p:grpSpPr>
            <a:xfrm>
              <a:off x="2336760" y="4826160"/>
              <a:ext cx="444600" cy="609480"/>
              <a:chOff x="2336760" y="4826160"/>
              <a:chExt cx="444600" cy="609480"/>
            </a:xfrm>
          </p:grpSpPr>
          <p:sp>
            <p:nvSpPr>
              <p:cNvPr id="1200" name=""/>
              <p:cNvSpPr/>
              <p:nvPr/>
            </p:nvSpPr>
            <p:spPr>
              <a:xfrm>
                <a:off x="2336760" y="4826160"/>
                <a:ext cx="4446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1" name=""/>
              <p:cNvGrpSpPr/>
              <p:nvPr/>
            </p:nvGrpSpPr>
            <p:grpSpPr>
              <a:xfrm>
                <a:off x="2387160" y="4851720"/>
                <a:ext cx="353880" cy="550800"/>
                <a:chOff x="2387160" y="4851720"/>
                <a:chExt cx="353880" cy="550800"/>
              </a:xfrm>
            </p:grpSpPr>
            <p:sp>
              <p:nvSpPr>
                <p:cNvPr id="1202" name=""/>
                <p:cNvSpPr/>
                <p:nvPr/>
              </p:nvSpPr>
              <p:spPr>
                <a:xfrm flipH="1">
                  <a:off x="2489760" y="4882320"/>
                  <a:ext cx="138240" cy="1202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 flipH="1">
                  <a:off x="2581200" y="485172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H="1">
                  <a:off x="2507400" y="501156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 flipH="1">
                  <a:off x="2423880" y="501660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 flipH="1">
                  <a:off x="2387160" y="517392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 flipH="1">
                  <a:off x="2534760" y="5173560"/>
                  <a:ext cx="104040" cy="2289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08" name=""/>
          <p:cNvGrpSpPr/>
          <p:nvPr/>
        </p:nvGrpSpPr>
        <p:grpSpPr>
          <a:xfrm>
            <a:off x="4419720" y="493560"/>
            <a:ext cx="3886200" cy="1944720"/>
            <a:chOff x="4419720" y="493560"/>
            <a:chExt cx="3886200" cy="1944720"/>
          </a:xfrm>
        </p:grpSpPr>
        <p:sp>
          <p:nvSpPr>
            <p:cNvPr id="1209" name=""/>
            <p:cNvSpPr/>
            <p:nvPr/>
          </p:nvSpPr>
          <p:spPr>
            <a:xfrm>
              <a:off x="441972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952880" y="56988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1" name="" descr=""/>
            <p:cNvPicPr/>
            <p:nvPr/>
          </p:nvPicPr>
          <p:blipFill>
            <a:blip r:embed="rId1"/>
            <a:stretch/>
          </p:blipFill>
          <p:spPr>
            <a:xfrm>
              <a:off x="4572000" y="64584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212" name=""/>
          <p:cNvGrpSpPr/>
          <p:nvPr/>
        </p:nvGrpSpPr>
        <p:grpSpPr>
          <a:xfrm>
            <a:off x="152280" y="493560"/>
            <a:ext cx="3886200" cy="1944720"/>
            <a:chOff x="152280" y="493560"/>
            <a:chExt cx="3886200" cy="1944720"/>
          </a:xfrm>
        </p:grpSpPr>
        <p:sp>
          <p:nvSpPr>
            <p:cNvPr id="1213" name=""/>
            <p:cNvSpPr/>
            <p:nvPr/>
          </p:nvSpPr>
          <p:spPr>
            <a:xfrm>
              <a:off x="15228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09480" y="56988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tology and Model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5" name="onto_01" descr=""/>
            <p:cNvPicPr/>
            <p:nvPr/>
          </p:nvPicPr>
          <p:blipFill>
            <a:blip r:embed="rId2"/>
            <a:stretch/>
          </p:blipFill>
          <p:spPr>
            <a:xfrm>
              <a:off x="295200" y="64584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216" name=""/>
          <p:cNvGrpSpPr/>
          <p:nvPr/>
        </p:nvGrpSpPr>
        <p:grpSpPr>
          <a:xfrm>
            <a:off x="2057400" y="2184480"/>
            <a:ext cx="4267080" cy="2971800"/>
            <a:chOff x="2057400" y="2184480"/>
            <a:chExt cx="4267080" cy="2971800"/>
          </a:xfrm>
        </p:grpSpPr>
        <p:sp>
          <p:nvSpPr>
            <p:cNvPr id="1217" name=""/>
            <p:cNvSpPr/>
            <p:nvPr/>
          </p:nvSpPr>
          <p:spPr>
            <a:xfrm>
              <a:off x="2057400" y="264168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666880" y="2793960"/>
              <a:ext cx="3657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connection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209680" y="2184480"/>
              <a:ext cx="6858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943600" y="4318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H="1">
              <a:off x="5562360" y="2184480"/>
              <a:ext cx="4572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2" name="" descr=""/>
            <p:cNvPicPr/>
            <p:nvPr/>
          </p:nvPicPr>
          <p:blipFill>
            <a:blip r:embed="rId3"/>
            <a:stretch/>
          </p:blipFill>
          <p:spPr>
            <a:xfrm>
              <a:off x="2209680" y="2793960"/>
              <a:ext cx="474840" cy="3794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223" name=""/>
          <p:cNvGrpSpPr/>
          <p:nvPr/>
        </p:nvGrpSpPr>
        <p:grpSpPr>
          <a:xfrm>
            <a:off x="457200" y="1103400"/>
            <a:ext cx="3276360" cy="999720"/>
            <a:chOff x="457200" y="1103400"/>
            <a:chExt cx="3276360" cy="999720"/>
          </a:xfrm>
        </p:grpSpPr>
        <p:sp>
          <p:nvSpPr>
            <p:cNvPr id="1224" name=""/>
            <p:cNvSpPr/>
            <p:nvPr/>
          </p:nvSpPr>
          <p:spPr>
            <a:xfrm>
              <a:off x="1447560" y="1179360"/>
              <a:ext cx="228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Ontologist 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5" name="agent" descr=""/>
            <p:cNvPicPr/>
            <p:nvPr/>
          </p:nvPicPr>
          <p:blipFill>
            <a:blip r:embed="rId4"/>
            <a:stretch/>
          </p:blipFill>
          <p:spPr>
            <a:xfrm>
              <a:off x="1066680" y="110340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226" name="agent" descr=""/>
            <p:cNvPicPr/>
            <p:nvPr/>
          </p:nvPicPr>
          <p:blipFill>
            <a:blip r:embed="rId5"/>
            <a:stretch/>
          </p:blipFill>
          <p:spPr>
            <a:xfrm>
              <a:off x="457200" y="14079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227" name="agent" descr=""/>
            <p:cNvPicPr/>
            <p:nvPr/>
          </p:nvPicPr>
          <p:blipFill>
            <a:blip r:embed="rId6"/>
            <a:stretch/>
          </p:blipFill>
          <p:spPr>
            <a:xfrm>
              <a:off x="990360" y="1788840"/>
              <a:ext cx="31140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228" name="agent" descr=""/>
            <p:cNvPicPr/>
            <p:nvPr/>
          </p:nvPicPr>
          <p:blipFill>
            <a:blip r:embed="rId7"/>
            <a:stretch/>
          </p:blipFill>
          <p:spPr>
            <a:xfrm>
              <a:off x="1523880" y="16365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1229" name=""/>
          <p:cNvGrpSpPr/>
          <p:nvPr/>
        </p:nvGrpSpPr>
        <p:grpSpPr>
          <a:xfrm>
            <a:off x="4572000" y="1054080"/>
            <a:ext cx="3657600" cy="1219320"/>
            <a:chOff x="4572000" y="1054080"/>
            <a:chExt cx="3657600" cy="1219320"/>
          </a:xfrm>
        </p:grpSpPr>
        <p:sp>
          <p:nvSpPr>
            <p:cNvPr id="1230" name=""/>
            <p:cNvSpPr/>
            <p:nvPr/>
          </p:nvSpPr>
          <p:spPr>
            <a:xfrm>
              <a:off x="5486400" y="15876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800600" y="18162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72000" y="105408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3" name="agent" descr=""/>
            <p:cNvPicPr/>
            <p:nvPr/>
          </p:nvPicPr>
          <p:blipFill>
            <a:blip r:embed="rId8"/>
            <a:stretch/>
          </p:blipFill>
          <p:spPr>
            <a:xfrm>
              <a:off x="5791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234" name="agent" descr=""/>
            <p:cNvPicPr/>
            <p:nvPr/>
          </p:nvPicPr>
          <p:blipFill>
            <a:blip r:embed="rId9"/>
            <a:stretch/>
          </p:blipFill>
          <p:spPr>
            <a:xfrm>
              <a:off x="6172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235" name="agent" descr=""/>
            <p:cNvPicPr/>
            <p:nvPr/>
          </p:nvPicPr>
          <p:blipFill>
            <a:blip r:embed="rId10"/>
            <a:stretch/>
          </p:blipFill>
          <p:spPr>
            <a:xfrm>
              <a:off x="6553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236" name="agent" descr=""/>
            <p:cNvPicPr/>
            <p:nvPr/>
          </p:nvPicPr>
          <p:blipFill>
            <a:blip r:embed="rId11"/>
            <a:stretch/>
          </p:blipFill>
          <p:spPr>
            <a:xfrm>
              <a:off x="6934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237" name="agent" descr=""/>
            <p:cNvPicPr/>
            <p:nvPr/>
          </p:nvPicPr>
          <p:blipFill>
            <a:blip r:embed="rId12"/>
            <a:stretch/>
          </p:blipFill>
          <p:spPr>
            <a:xfrm>
              <a:off x="7315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238" name="agent" descr=""/>
            <p:cNvPicPr/>
            <p:nvPr/>
          </p:nvPicPr>
          <p:blipFill>
            <a:blip r:embed="rId13"/>
            <a:stretch/>
          </p:blipFill>
          <p:spPr>
            <a:xfrm>
              <a:off x="7696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239" name="agent" descr=""/>
            <p:cNvPicPr/>
            <p:nvPr/>
          </p:nvPicPr>
          <p:blipFill>
            <a:blip r:embed="rId14"/>
            <a:stretch/>
          </p:blipFill>
          <p:spPr>
            <a:xfrm>
              <a:off x="6172200" y="181620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1240" name="agent" descr=""/>
            <p:cNvPicPr/>
            <p:nvPr/>
          </p:nvPicPr>
          <p:blipFill>
            <a:blip r:embed="rId15"/>
            <a:stretch/>
          </p:blipFill>
          <p:spPr>
            <a:xfrm>
              <a:off x="6553080" y="1816200"/>
              <a:ext cx="31140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1241" name=""/>
          <p:cNvGrpSpPr/>
          <p:nvPr/>
        </p:nvGrpSpPr>
        <p:grpSpPr>
          <a:xfrm>
            <a:off x="2209680" y="5400720"/>
            <a:ext cx="3962520" cy="1000080"/>
            <a:chOff x="2209680" y="5400720"/>
            <a:chExt cx="3962520" cy="1000080"/>
          </a:xfrm>
        </p:grpSpPr>
        <p:grpSp>
          <p:nvGrpSpPr>
            <p:cNvPr id="1242" name=""/>
            <p:cNvGrpSpPr/>
            <p:nvPr/>
          </p:nvGrpSpPr>
          <p:grpSpPr>
            <a:xfrm>
              <a:off x="3504960" y="5639040"/>
              <a:ext cx="1371600" cy="761760"/>
              <a:chOff x="3504960" y="5639040"/>
              <a:chExt cx="1371600" cy="761760"/>
            </a:xfrm>
          </p:grpSpPr>
          <p:pic>
            <p:nvPicPr>
              <p:cNvPr id="1243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38480" y="563904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1244" name=""/>
              <p:cNvSpPr/>
              <p:nvPr/>
            </p:nvSpPr>
            <p:spPr>
              <a:xfrm>
                <a:off x="3504960" y="594360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Profile 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4572000" y="5400720"/>
              <a:ext cx="1600200" cy="924120"/>
              <a:chOff x="4572000" y="5400720"/>
              <a:chExt cx="1600200" cy="924120"/>
            </a:xfrm>
          </p:grpSpPr>
          <p:pic>
            <p:nvPicPr>
              <p:cNvPr id="1246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75000" y="540072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1247" name=""/>
              <p:cNvSpPr/>
              <p:nvPr/>
            </p:nvSpPr>
            <p:spPr>
              <a:xfrm>
                <a:off x="4572000" y="571500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rofiles 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2209680" y="5562720"/>
              <a:ext cx="1371600" cy="762120"/>
              <a:chOff x="2209680" y="5562720"/>
              <a:chExt cx="1371600" cy="762120"/>
            </a:xfrm>
          </p:grpSpPr>
          <p:pic>
            <p:nvPicPr>
              <p:cNvPr id="1249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556272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1250" name=""/>
              <p:cNvSpPr/>
              <p:nvPr/>
            </p:nvSpPr>
            <p:spPr>
              <a:xfrm>
                <a:off x="2209680" y="586764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Controll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1" name=""/>
          <p:cNvGrpSpPr/>
          <p:nvPr/>
        </p:nvGrpSpPr>
        <p:grpSpPr>
          <a:xfrm>
            <a:off x="2057400" y="3251160"/>
            <a:ext cx="3968640" cy="1219320"/>
            <a:chOff x="2057400" y="3251160"/>
            <a:chExt cx="3968640" cy="1219320"/>
          </a:xfrm>
        </p:grpSpPr>
        <p:sp>
          <p:nvSpPr>
            <p:cNvPr id="1252" name=""/>
            <p:cNvSpPr/>
            <p:nvPr/>
          </p:nvSpPr>
          <p:spPr>
            <a:xfrm>
              <a:off x="2057400" y="378468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Fed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Matchm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3" name="agent" descr=""/>
            <p:cNvPicPr/>
            <p:nvPr/>
          </p:nvPicPr>
          <p:blipFill>
            <a:blip r:embed="rId19"/>
            <a:stretch/>
          </p:blipFill>
          <p:spPr>
            <a:xfrm>
              <a:off x="3276360" y="3479760"/>
              <a:ext cx="31140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254" name="agent" descr=""/>
            <p:cNvPicPr/>
            <p:nvPr/>
          </p:nvPicPr>
          <p:blipFill>
            <a:blip r:embed="rId20"/>
            <a:stretch/>
          </p:blipFill>
          <p:spPr>
            <a:xfrm>
              <a:off x="4114800" y="33274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255" name="agent" descr=""/>
            <p:cNvPicPr/>
            <p:nvPr/>
          </p:nvPicPr>
          <p:blipFill>
            <a:blip r:embed="rId21"/>
            <a:stretch/>
          </p:blipFill>
          <p:spPr>
            <a:xfrm>
              <a:off x="5105160" y="355608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256" name="agent" descr=""/>
            <p:cNvPicPr/>
            <p:nvPr/>
          </p:nvPicPr>
          <p:blipFill>
            <a:blip r:embed="rId22"/>
            <a:stretch/>
          </p:blipFill>
          <p:spPr>
            <a:xfrm>
              <a:off x="4267080" y="40132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257" name="agent" descr=""/>
            <p:cNvPicPr/>
            <p:nvPr/>
          </p:nvPicPr>
          <p:blipFill>
            <a:blip r:embed="rId23"/>
            <a:stretch/>
          </p:blipFill>
          <p:spPr>
            <a:xfrm>
              <a:off x="5715000" y="3251160"/>
              <a:ext cx="31104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grpSp>
        <p:nvGrpSpPr>
          <p:cNvPr id="1258" name=""/>
          <p:cNvGrpSpPr/>
          <p:nvPr/>
        </p:nvGrpSpPr>
        <p:grpSpPr>
          <a:xfrm>
            <a:off x="0" y="444600"/>
            <a:ext cx="8381880" cy="6413400"/>
            <a:chOff x="0" y="444600"/>
            <a:chExt cx="8381880" cy="6413400"/>
          </a:xfrm>
        </p:grpSpPr>
        <p:sp>
          <p:nvSpPr>
            <p:cNvPr id="1259" name=""/>
            <p:cNvSpPr/>
            <p:nvPr/>
          </p:nvSpPr>
          <p:spPr>
            <a:xfrm>
              <a:off x="0" y="2590920"/>
              <a:ext cx="4267080" cy="4267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191120" y="457200"/>
              <a:ext cx="2361960" cy="6400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191120" y="457200"/>
              <a:ext cx="4190760" cy="22096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6320" y="444600"/>
              <a:ext cx="4051080" cy="205740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07B7-90DE-457A-B813-6EB9A9A16A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Ontology and Model Society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240" y="457200"/>
            <a:ext cx="90932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marL="188640" indent="-1886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Societies of replication and serving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439920" indent="-1256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Ontologist: to store and provide ontology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380880" y="1371600"/>
          <a:ext cx="853452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5345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7" name=""/>
          <p:cNvGrpSpPr/>
          <p:nvPr/>
        </p:nvGrpSpPr>
        <p:grpSpPr>
          <a:xfrm>
            <a:off x="12600" y="3657600"/>
            <a:ext cx="9207720" cy="2921040"/>
            <a:chOff x="12600" y="3657600"/>
            <a:chExt cx="9207720" cy="2921040"/>
          </a:xfrm>
        </p:grpSpPr>
        <p:graphicFrame>
          <p:nvGraphicFramePr>
            <p:cNvPr id="1268" name=""/>
            <p:cNvGraphicFramePr/>
            <p:nvPr/>
          </p:nvGraphicFramePr>
          <p:xfrm>
            <a:off x="380880" y="4368960"/>
            <a:ext cx="8839440" cy="22096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2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4368960"/>
                      <a:ext cx="883944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0" name=""/>
            <p:cNvSpPr/>
            <p:nvPr/>
          </p:nvSpPr>
          <p:spPr>
            <a:xfrm>
              <a:off x="12600" y="3657600"/>
              <a:ext cx="9093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74000"/>
            </a:bodyPr>
            <a:p>
              <a:pPr lvl="1" marL="493200" indent="-140760">
                <a:lnSpc>
                  <a:spcPct val="90000"/>
                </a:lnSpc>
                <a:spcBef>
                  <a:spcPts val="649"/>
                </a:spcBef>
                <a:buClr>
                  <a:srgbClr val="000066"/>
                </a:buClr>
                <a:buFont typeface="Wingdings" charset="2"/>
                <a:buChar char=""/>
                <a:tabLst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  <a:tab algn="l" pos="6934320"/>
                  <a:tab algn="l" pos="7264440"/>
                </a:tabLst>
              </a:pPr>
              <a:r>
                <a:rPr b="0" lang="en-GB" sz="2600" spc="-1" strike="noStrike">
                  <a:solidFill>
                    <a:srgbClr val="000066"/>
                  </a:solidFill>
                  <a:latin typeface="Arial"/>
                </a:rPr>
                <a:t>Corporate model archivist: to store and provide structural model of the (human) organisati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12600" y="2629080"/>
            <a:ext cx="9093240" cy="4228920"/>
            <a:chOff x="12600" y="2629080"/>
            <a:chExt cx="9093240" cy="4228920"/>
          </a:xfrm>
        </p:grpSpPr>
        <p:sp>
          <p:nvSpPr>
            <p:cNvPr id="1272" name=""/>
            <p:cNvSpPr/>
            <p:nvPr/>
          </p:nvSpPr>
          <p:spPr>
            <a:xfrm>
              <a:off x="2743200" y="2629080"/>
              <a:ext cx="3657600" cy="22860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666880" y="5359320"/>
              <a:ext cx="3886200" cy="15264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2600" y="6324480"/>
              <a:ext cx="9093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lvl="1" marL="666720" indent="-190440">
                <a:lnSpc>
                  <a:spcPct val="90000"/>
                </a:lnSpc>
                <a:spcBef>
                  <a:spcPts val="649"/>
                </a:spcBef>
                <a:buClr>
                  <a:srgbClr val="cc3300"/>
                </a:buClr>
                <a:buFont typeface="Wingdings" charset="2"/>
                <a:buChar char=""/>
                <a:tabLst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  <a:tab algn="l" pos="6934320"/>
                  <a:tab algn="l" pos="7264440"/>
                </a:tabLst>
              </a:pPr>
              <a:r>
                <a:rPr b="0" lang="en-GB" sz="2600" spc="-1" strike="noStrike">
                  <a:solidFill>
                    <a:srgbClr val="cc3300"/>
                  </a:solidFill>
                  <a:latin typeface="Arial"/>
                </a:rPr>
                <a:t>One agent + CORESE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4666-EE3D-4F35-881E-B90659DE35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Positioning and pointer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240" y="266400"/>
            <a:ext cx="909324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Dynamically integrating heterogeneous sources of information: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   OBSERVER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Mena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1996]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;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foSleuth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Nodine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1999]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; Carnot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Collet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1991]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; InfoMaster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Genesereth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1997]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; SIMS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Arens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1996] ;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RETSINA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Decker and Sycara, 1997]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; Manifold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Kirk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1995]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Digital libraries: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AIRE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Odubiyi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1997]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UMDL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Weinstein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1999]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Knowledge management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39720" indent="-182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Collaborative gathering, filtering and profiling: CASMIR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Berney and Ferneley, 1999]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; Ricochet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Bothorel and Thomas, 1999]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9720" indent="-182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Mobile access to memory and domain model for classification:   KnowWeb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Dzbor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2000]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9720" indent="-182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Taxonomy, profiling and push: RICA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Aguirre </a:t>
            </a:r>
            <a:r>
              <a:rPr b="0" i="1" lang="en-GB" sz="2000" spc="-1" strike="noStrike">
                <a:solidFill>
                  <a:srgbClr val="000066"/>
                </a:solidFill>
                <a:latin typeface="Arial"/>
              </a:rPr>
              <a:t>et al.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, 2000]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9720" indent="-182520">
              <a:lnSpc>
                <a:spcPct val="10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Ontology and corporate memory:</a:t>
            </a:r>
            <a:br>
              <a:rPr sz="2600"/>
            </a:b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FRODO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[Van Elst and Abecker, 2001]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0360" y="6394320"/>
            <a:ext cx="169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3300"/>
                </a:solidFill>
                <a:latin typeface="Arial"/>
              </a:rPr>
              <a:t>+ Co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49FE-8C78-496C-8482-8F892E734B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oMMA Society Sub-societies and Role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2057400" y="4800600"/>
            <a:ext cx="4419360" cy="1944720"/>
            <a:chOff x="2057400" y="4800600"/>
            <a:chExt cx="4419360" cy="1944720"/>
          </a:xfrm>
        </p:grpSpPr>
        <p:sp>
          <p:nvSpPr>
            <p:cNvPr id="1277" name=""/>
            <p:cNvSpPr/>
            <p:nvPr/>
          </p:nvSpPr>
          <p:spPr>
            <a:xfrm>
              <a:off x="2057400" y="480060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743200" y="4857840"/>
              <a:ext cx="37335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s'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9" name=""/>
            <p:cNvGrpSpPr/>
            <p:nvPr/>
          </p:nvGrpSpPr>
          <p:grpSpPr>
            <a:xfrm>
              <a:off x="2336760" y="4826160"/>
              <a:ext cx="444600" cy="609480"/>
              <a:chOff x="2336760" y="4826160"/>
              <a:chExt cx="444600" cy="609480"/>
            </a:xfrm>
          </p:grpSpPr>
          <p:sp>
            <p:nvSpPr>
              <p:cNvPr id="1280" name=""/>
              <p:cNvSpPr/>
              <p:nvPr/>
            </p:nvSpPr>
            <p:spPr>
              <a:xfrm>
                <a:off x="2336760" y="4826160"/>
                <a:ext cx="4446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1" name=""/>
              <p:cNvGrpSpPr/>
              <p:nvPr/>
            </p:nvGrpSpPr>
            <p:grpSpPr>
              <a:xfrm>
                <a:off x="2387160" y="4851720"/>
                <a:ext cx="353880" cy="550800"/>
                <a:chOff x="2387160" y="4851720"/>
                <a:chExt cx="353880" cy="550800"/>
              </a:xfrm>
            </p:grpSpPr>
            <p:sp>
              <p:nvSpPr>
                <p:cNvPr id="1282" name=""/>
                <p:cNvSpPr/>
                <p:nvPr/>
              </p:nvSpPr>
              <p:spPr>
                <a:xfrm flipH="1">
                  <a:off x="2489760" y="4882320"/>
                  <a:ext cx="138240" cy="1202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 flipH="1">
                  <a:off x="2581200" y="485172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 flipH="1">
                  <a:off x="2507400" y="501156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H="1">
                  <a:off x="2423880" y="501660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 flipH="1">
                  <a:off x="2387160" y="517392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flipH="1">
                  <a:off x="2534760" y="5173560"/>
                  <a:ext cx="104040" cy="2289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88" name=""/>
          <p:cNvGrpSpPr/>
          <p:nvPr/>
        </p:nvGrpSpPr>
        <p:grpSpPr>
          <a:xfrm>
            <a:off x="4419720" y="493560"/>
            <a:ext cx="3886200" cy="1944720"/>
            <a:chOff x="4419720" y="493560"/>
            <a:chExt cx="3886200" cy="1944720"/>
          </a:xfrm>
        </p:grpSpPr>
        <p:sp>
          <p:nvSpPr>
            <p:cNvPr id="1289" name=""/>
            <p:cNvSpPr/>
            <p:nvPr/>
          </p:nvSpPr>
          <p:spPr>
            <a:xfrm>
              <a:off x="441972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52880" y="56988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1" name="" descr=""/>
            <p:cNvPicPr/>
            <p:nvPr/>
          </p:nvPicPr>
          <p:blipFill>
            <a:blip r:embed="rId1"/>
            <a:stretch/>
          </p:blipFill>
          <p:spPr>
            <a:xfrm>
              <a:off x="4572000" y="64584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292" name=""/>
          <p:cNvGrpSpPr/>
          <p:nvPr/>
        </p:nvGrpSpPr>
        <p:grpSpPr>
          <a:xfrm>
            <a:off x="152280" y="493560"/>
            <a:ext cx="3886200" cy="1944720"/>
            <a:chOff x="152280" y="493560"/>
            <a:chExt cx="3886200" cy="1944720"/>
          </a:xfrm>
        </p:grpSpPr>
        <p:sp>
          <p:nvSpPr>
            <p:cNvPr id="1293" name=""/>
            <p:cNvSpPr/>
            <p:nvPr/>
          </p:nvSpPr>
          <p:spPr>
            <a:xfrm>
              <a:off x="15228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09480" y="56988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tology and Model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5" name="onto_01" descr=""/>
            <p:cNvPicPr/>
            <p:nvPr/>
          </p:nvPicPr>
          <p:blipFill>
            <a:blip r:embed="rId2"/>
            <a:stretch/>
          </p:blipFill>
          <p:spPr>
            <a:xfrm>
              <a:off x="295200" y="64584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296" name=""/>
          <p:cNvGrpSpPr/>
          <p:nvPr/>
        </p:nvGrpSpPr>
        <p:grpSpPr>
          <a:xfrm>
            <a:off x="2057400" y="2184480"/>
            <a:ext cx="4267080" cy="2971800"/>
            <a:chOff x="2057400" y="2184480"/>
            <a:chExt cx="4267080" cy="2971800"/>
          </a:xfrm>
        </p:grpSpPr>
        <p:sp>
          <p:nvSpPr>
            <p:cNvPr id="1297" name=""/>
            <p:cNvSpPr/>
            <p:nvPr/>
          </p:nvSpPr>
          <p:spPr>
            <a:xfrm>
              <a:off x="2057400" y="264168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666880" y="2793960"/>
              <a:ext cx="3657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connection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209680" y="2184480"/>
              <a:ext cx="6858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943600" y="4318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5562360" y="2184480"/>
              <a:ext cx="4572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2" name="" descr=""/>
            <p:cNvPicPr/>
            <p:nvPr/>
          </p:nvPicPr>
          <p:blipFill>
            <a:blip r:embed="rId3"/>
            <a:stretch/>
          </p:blipFill>
          <p:spPr>
            <a:xfrm>
              <a:off x="2209680" y="2793960"/>
              <a:ext cx="474840" cy="3794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303" name=""/>
          <p:cNvGrpSpPr/>
          <p:nvPr/>
        </p:nvGrpSpPr>
        <p:grpSpPr>
          <a:xfrm>
            <a:off x="457200" y="1103400"/>
            <a:ext cx="3276360" cy="999720"/>
            <a:chOff x="457200" y="1103400"/>
            <a:chExt cx="3276360" cy="999720"/>
          </a:xfrm>
        </p:grpSpPr>
        <p:sp>
          <p:nvSpPr>
            <p:cNvPr id="1304" name=""/>
            <p:cNvSpPr/>
            <p:nvPr/>
          </p:nvSpPr>
          <p:spPr>
            <a:xfrm>
              <a:off x="1447560" y="1179360"/>
              <a:ext cx="228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Ontologist 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5" name="agent" descr=""/>
            <p:cNvPicPr/>
            <p:nvPr/>
          </p:nvPicPr>
          <p:blipFill>
            <a:blip r:embed="rId4"/>
            <a:stretch/>
          </p:blipFill>
          <p:spPr>
            <a:xfrm>
              <a:off x="1066680" y="110340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306" name="agent" descr=""/>
            <p:cNvPicPr/>
            <p:nvPr/>
          </p:nvPicPr>
          <p:blipFill>
            <a:blip r:embed="rId5"/>
            <a:stretch/>
          </p:blipFill>
          <p:spPr>
            <a:xfrm>
              <a:off x="457200" y="14079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307" name="agent" descr=""/>
            <p:cNvPicPr/>
            <p:nvPr/>
          </p:nvPicPr>
          <p:blipFill>
            <a:blip r:embed="rId6"/>
            <a:stretch/>
          </p:blipFill>
          <p:spPr>
            <a:xfrm>
              <a:off x="990360" y="1788840"/>
              <a:ext cx="31140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308" name="agent" descr=""/>
            <p:cNvPicPr/>
            <p:nvPr/>
          </p:nvPicPr>
          <p:blipFill>
            <a:blip r:embed="rId7"/>
            <a:stretch/>
          </p:blipFill>
          <p:spPr>
            <a:xfrm>
              <a:off x="1523880" y="16365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1309" name=""/>
          <p:cNvGrpSpPr/>
          <p:nvPr/>
        </p:nvGrpSpPr>
        <p:grpSpPr>
          <a:xfrm>
            <a:off x="4572000" y="1054080"/>
            <a:ext cx="3657600" cy="1219320"/>
            <a:chOff x="4572000" y="1054080"/>
            <a:chExt cx="3657600" cy="1219320"/>
          </a:xfrm>
        </p:grpSpPr>
        <p:sp>
          <p:nvSpPr>
            <p:cNvPr id="1310" name=""/>
            <p:cNvSpPr/>
            <p:nvPr/>
          </p:nvSpPr>
          <p:spPr>
            <a:xfrm>
              <a:off x="5486400" y="15876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800600" y="18162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572000" y="105408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3" name="agent" descr=""/>
            <p:cNvPicPr/>
            <p:nvPr/>
          </p:nvPicPr>
          <p:blipFill>
            <a:blip r:embed="rId8"/>
            <a:stretch/>
          </p:blipFill>
          <p:spPr>
            <a:xfrm>
              <a:off x="5791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14" name="agent" descr=""/>
            <p:cNvPicPr/>
            <p:nvPr/>
          </p:nvPicPr>
          <p:blipFill>
            <a:blip r:embed="rId9"/>
            <a:stretch/>
          </p:blipFill>
          <p:spPr>
            <a:xfrm>
              <a:off x="6172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15" name="agent" descr=""/>
            <p:cNvPicPr/>
            <p:nvPr/>
          </p:nvPicPr>
          <p:blipFill>
            <a:blip r:embed="rId10"/>
            <a:stretch/>
          </p:blipFill>
          <p:spPr>
            <a:xfrm>
              <a:off x="6553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16" name="agent" descr=""/>
            <p:cNvPicPr/>
            <p:nvPr/>
          </p:nvPicPr>
          <p:blipFill>
            <a:blip r:embed="rId11"/>
            <a:stretch/>
          </p:blipFill>
          <p:spPr>
            <a:xfrm>
              <a:off x="6934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17" name="agent" descr=""/>
            <p:cNvPicPr/>
            <p:nvPr/>
          </p:nvPicPr>
          <p:blipFill>
            <a:blip r:embed="rId12"/>
            <a:stretch/>
          </p:blipFill>
          <p:spPr>
            <a:xfrm>
              <a:off x="7315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18" name="agent" descr=""/>
            <p:cNvPicPr/>
            <p:nvPr/>
          </p:nvPicPr>
          <p:blipFill>
            <a:blip r:embed="rId13"/>
            <a:stretch/>
          </p:blipFill>
          <p:spPr>
            <a:xfrm>
              <a:off x="7696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19" name="agent" descr=""/>
            <p:cNvPicPr/>
            <p:nvPr/>
          </p:nvPicPr>
          <p:blipFill>
            <a:blip r:embed="rId14"/>
            <a:stretch/>
          </p:blipFill>
          <p:spPr>
            <a:xfrm>
              <a:off x="6172200" y="181620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1320" name="agent" descr=""/>
            <p:cNvPicPr/>
            <p:nvPr/>
          </p:nvPicPr>
          <p:blipFill>
            <a:blip r:embed="rId15"/>
            <a:stretch/>
          </p:blipFill>
          <p:spPr>
            <a:xfrm>
              <a:off x="6553080" y="1816200"/>
              <a:ext cx="31140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1321" name=""/>
          <p:cNvGrpSpPr/>
          <p:nvPr/>
        </p:nvGrpSpPr>
        <p:grpSpPr>
          <a:xfrm>
            <a:off x="2209680" y="5400720"/>
            <a:ext cx="3962520" cy="1000080"/>
            <a:chOff x="2209680" y="5400720"/>
            <a:chExt cx="3962520" cy="1000080"/>
          </a:xfrm>
        </p:grpSpPr>
        <p:grpSp>
          <p:nvGrpSpPr>
            <p:cNvPr id="1322" name=""/>
            <p:cNvGrpSpPr/>
            <p:nvPr/>
          </p:nvGrpSpPr>
          <p:grpSpPr>
            <a:xfrm>
              <a:off x="3504960" y="5639040"/>
              <a:ext cx="1371600" cy="761760"/>
              <a:chOff x="3504960" y="5639040"/>
              <a:chExt cx="1371600" cy="761760"/>
            </a:xfrm>
          </p:grpSpPr>
          <p:pic>
            <p:nvPicPr>
              <p:cNvPr id="1323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38480" y="563904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1324" name=""/>
              <p:cNvSpPr/>
              <p:nvPr/>
            </p:nvSpPr>
            <p:spPr>
              <a:xfrm>
                <a:off x="3504960" y="594360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Profile 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5" name=""/>
            <p:cNvGrpSpPr/>
            <p:nvPr/>
          </p:nvGrpSpPr>
          <p:grpSpPr>
            <a:xfrm>
              <a:off x="4572000" y="5400720"/>
              <a:ext cx="1600200" cy="924120"/>
              <a:chOff x="4572000" y="5400720"/>
              <a:chExt cx="1600200" cy="924120"/>
            </a:xfrm>
          </p:grpSpPr>
          <p:pic>
            <p:nvPicPr>
              <p:cNvPr id="1326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75000" y="540072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1327" name=""/>
              <p:cNvSpPr/>
              <p:nvPr/>
            </p:nvSpPr>
            <p:spPr>
              <a:xfrm>
                <a:off x="4572000" y="571500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rofiles 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8" name=""/>
            <p:cNvGrpSpPr/>
            <p:nvPr/>
          </p:nvGrpSpPr>
          <p:grpSpPr>
            <a:xfrm>
              <a:off x="2209680" y="5562720"/>
              <a:ext cx="1371600" cy="762120"/>
              <a:chOff x="2209680" y="5562720"/>
              <a:chExt cx="1371600" cy="762120"/>
            </a:xfrm>
          </p:grpSpPr>
          <p:pic>
            <p:nvPicPr>
              <p:cNvPr id="1329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556272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1330" name=""/>
              <p:cNvSpPr/>
              <p:nvPr/>
            </p:nvSpPr>
            <p:spPr>
              <a:xfrm>
                <a:off x="2209680" y="586764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Controll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2057400" y="3251160"/>
            <a:ext cx="3968640" cy="1219320"/>
            <a:chOff x="2057400" y="3251160"/>
            <a:chExt cx="3968640" cy="1219320"/>
          </a:xfrm>
        </p:grpSpPr>
        <p:sp>
          <p:nvSpPr>
            <p:cNvPr id="1332" name=""/>
            <p:cNvSpPr/>
            <p:nvPr/>
          </p:nvSpPr>
          <p:spPr>
            <a:xfrm>
              <a:off x="2057400" y="378468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Fed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Matchm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3" name="agent" descr=""/>
            <p:cNvPicPr/>
            <p:nvPr/>
          </p:nvPicPr>
          <p:blipFill>
            <a:blip r:embed="rId19"/>
            <a:stretch/>
          </p:blipFill>
          <p:spPr>
            <a:xfrm>
              <a:off x="3276360" y="3479760"/>
              <a:ext cx="31140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334" name="agent" descr=""/>
            <p:cNvPicPr/>
            <p:nvPr/>
          </p:nvPicPr>
          <p:blipFill>
            <a:blip r:embed="rId20"/>
            <a:stretch/>
          </p:blipFill>
          <p:spPr>
            <a:xfrm>
              <a:off x="4114800" y="33274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335" name="agent" descr=""/>
            <p:cNvPicPr/>
            <p:nvPr/>
          </p:nvPicPr>
          <p:blipFill>
            <a:blip r:embed="rId21"/>
            <a:stretch/>
          </p:blipFill>
          <p:spPr>
            <a:xfrm>
              <a:off x="5105160" y="355608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336" name="agent" descr=""/>
            <p:cNvPicPr/>
            <p:nvPr/>
          </p:nvPicPr>
          <p:blipFill>
            <a:blip r:embed="rId22"/>
            <a:stretch/>
          </p:blipFill>
          <p:spPr>
            <a:xfrm>
              <a:off x="4267080" y="40132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337" name="agent" descr=""/>
            <p:cNvPicPr/>
            <p:nvPr/>
          </p:nvPicPr>
          <p:blipFill>
            <a:blip r:embed="rId23"/>
            <a:stretch/>
          </p:blipFill>
          <p:spPr>
            <a:xfrm>
              <a:off x="5715000" y="3251160"/>
              <a:ext cx="31104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grpSp>
        <p:nvGrpSpPr>
          <p:cNvPr id="1338" name=""/>
          <p:cNvGrpSpPr/>
          <p:nvPr/>
        </p:nvGrpSpPr>
        <p:grpSpPr>
          <a:xfrm>
            <a:off x="0" y="457200"/>
            <a:ext cx="8381880" cy="6400800"/>
            <a:chOff x="0" y="457200"/>
            <a:chExt cx="8381880" cy="6400800"/>
          </a:xfrm>
        </p:grpSpPr>
        <p:sp>
          <p:nvSpPr>
            <p:cNvPr id="1339" name=""/>
            <p:cNvSpPr/>
            <p:nvPr/>
          </p:nvSpPr>
          <p:spPr>
            <a:xfrm>
              <a:off x="0" y="4724280"/>
              <a:ext cx="6400800" cy="213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0" y="457200"/>
              <a:ext cx="8381880" cy="213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981080" y="2590920"/>
              <a:ext cx="4343400" cy="205740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BA9-8A14-48C8-B857-32ED2FD04E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Interconnection society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12240" y="457200"/>
            <a:ext cx="9093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0" lang="en-US" sz="3000" spc="-1" strike="noStrike" u="sng">
                <a:solidFill>
                  <a:srgbClr val="000066"/>
                </a:solidFill>
                <a:uFillTx/>
                <a:latin typeface="Arial"/>
              </a:rPr>
              <a:t>Connection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-dedicated sub-society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Yellow pages service management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Federable to allow us to configure the MA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ooperating matchmakers (DF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44" name=""/>
          <p:cNvGrpSpPr/>
          <p:nvPr/>
        </p:nvGrpSpPr>
        <p:grpSpPr>
          <a:xfrm>
            <a:off x="457200" y="2463840"/>
            <a:ext cx="8763120" cy="3708360"/>
            <a:chOff x="457200" y="2463840"/>
            <a:chExt cx="8763120" cy="3708360"/>
          </a:xfrm>
        </p:grpSpPr>
        <p:graphicFrame>
          <p:nvGraphicFramePr>
            <p:cNvPr id="1345" name=""/>
            <p:cNvGraphicFramePr/>
            <p:nvPr/>
          </p:nvGraphicFramePr>
          <p:xfrm>
            <a:off x="457200" y="2463840"/>
            <a:ext cx="8763120" cy="32511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3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2463840"/>
                      <a:ext cx="8763120" cy="325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47" name=""/>
            <p:cNvGrpSpPr/>
            <p:nvPr/>
          </p:nvGrpSpPr>
          <p:grpSpPr>
            <a:xfrm>
              <a:off x="6858000" y="5486400"/>
              <a:ext cx="2108160" cy="685800"/>
              <a:chOff x="6858000" y="5486400"/>
              <a:chExt cx="2108160" cy="685800"/>
            </a:xfrm>
          </p:grpSpPr>
          <p:sp>
            <p:nvSpPr>
              <p:cNvPr id="1348" name=""/>
              <p:cNvSpPr/>
              <p:nvPr/>
            </p:nvSpPr>
            <p:spPr>
              <a:xfrm>
                <a:off x="6858000" y="5486400"/>
                <a:ext cx="2108160" cy="685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49" name="JADElogo" descr=""/>
              <p:cNvPicPr/>
              <p:nvPr/>
            </p:nvPicPr>
            <p:blipFill>
              <a:blip r:embed="rId3"/>
              <a:stretch/>
            </p:blipFill>
            <p:spPr>
              <a:xfrm>
                <a:off x="6931080" y="5562720"/>
                <a:ext cx="1108080" cy="54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0" name="fipa" descr=""/>
              <p:cNvPicPr/>
              <p:nvPr/>
            </p:nvPicPr>
            <p:blipFill>
              <a:blip r:embed="rId4"/>
              <a:stretch/>
            </p:blipFill>
            <p:spPr>
              <a:xfrm>
                <a:off x="8051760" y="5562720"/>
                <a:ext cx="838080" cy="577800"/>
              </a:xfrm>
              <a:prstGeom prst="rect">
                <a:avLst/>
              </a:prstGeom>
              <a:ln w="25560">
                <a:solidFill>
                  <a:srgbClr val="000000"/>
                </a:solidFill>
                <a:miter/>
              </a:ln>
            </p:spPr>
          </p:pic>
        </p:grpSp>
      </p:grpSp>
      <p:sp>
        <p:nvSpPr>
          <p:cNvPr id="1351" name=""/>
          <p:cNvSpPr/>
          <p:nvPr/>
        </p:nvSpPr>
        <p:spPr>
          <a:xfrm>
            <a:off x="457200" y="6400800"/>
            <a:ext cx="864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(Plus the AMS for white pag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FA69-3568-41D3-B2CB-32B6001E83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oMMA Society Sub-societies and Role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2057400" y="4800600"/>
            <a:ext cx="4419360" cy="1944720"/>
            <a:chOff x="2057400" y="4800600"/>
            <a:chExt cx="4419360" cy="1944720"/>
          </a:xfrm>
        </p:grpSpPr>
        <p:sp>
          <p:nvSpPr>
            <p:cNvPr id="1354" name=""/>
            <p:cNvSpPr/>
            <p:nvPr/>
          </p:nvSpPr>
          <p:spPr>
            <a:xfrm>
              <a:off x="2057400" y="480060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743200" y="4857840"/>
              <a:ext cx="37335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s'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6" name=""/>
            <p:cNvGrpSpPr/>
            <p:nvPr/>
          </p:nvGrpSpPr>
          <p:grpSpPr>
            <a:xfrm>
              <a:off x="2336760" y="4826160"/>
              <a:ext cx="444600" cy="609480"/>
              <a:chOff x="2336760" y="4826160"/>
              <a:chExt cx="444600" cy="609480"/>
            </a:xfrm>
          </p:grpSpPr>
          <p:sp>
            <p:nvSpPr>
              <p:cNvPr id="1357" name=""/>
              <p:cNvSpPr/>
              <p:nvPr/>
            </p:nvSpPr>
            <p:spPr>
              <a:xfrm>
                <a:off x="2336760" y="4826160"/>
                <a:ext cx="4446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8" name=""/>
              <p:cNvGrpSpPr/>
              <p:nvPr/>
            </p:nvGrpSpPr>
            <p:grpSpPr>
              <a:xfrm>
                <a:off x="2387160" y="4851720"/>
                <a:ext cx="353880" cy="550800"/>
                <a:chOff x="2387160" y="4851720"/>
                <a:chExt cx="353880" cy="550800"/>
              </a:xfrm>
            </p:grpSpPr>
            <p:sp>
              <p:nvSpPr>
                <p:cNvPr id="1359" name=""/>
                <p:cNvSpPr/>
                <p:nvPr/>
              </p:nvSpPr>
              <p:spPr>
                <a:xfrm flipH="1">
                  <a:off x="2489760" y="4882320"/>
                  <a:ext cx="138240" cy="1202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 flipH="1">
                  <a:off x="2581200" y="485172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 flipH="1">
                  <a:off x="2507400" y="501156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 flipH="1">
                  <a:off x="2423880" y="501660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 flipH="1">
                  <a:off x="2387160" y="517392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 flipH="1">
                  <a:off x="2534760" y="5173560"/>
                  <a:ext cx="104040" cy="2289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65" name=""/>
          <p:cNvGrpSpPr/>
          <p:nvPr/>
        </p:nvGrpSpPr>
        <p:grpSpPr>
          <a:xfrm>
            <a:off x="4419720" y="493560"/>
            <a:ext cx="3886200" cy="1944720"/>
            <a:chOff x="4419720" y="493560"/>
            <a:chExt cx="3886200" cy="1944720"/>
          </a:xfrm>
        </p:grpSpPr>
        <p:sp>
          <p:nvSpPr>
            <p:cNvPr id="1366" name=""/>
            <p:cNvSpPr/>
            <p:nvPr/>
          </p:nvSpPr>
          <p:spPr>
            <a:xfrm>
              <a:off x="441972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952880" y="56988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8" name="" descr=""/>
            <p:cNvPicPr/>
            <p:nvPr/>
          </p:nvPicPr>
          <p:blipFill>
            <a:blip r:embed="rId1"/>
            <a:stretch/>
          </p:blipFill>
          <p:spPr>
            <a:xfrm>
              <a:off x="4572000" y="64584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369" name=""/>
          <p:cNvGrpSpPr/>
          <p:nvPr/>
        </p:nvGrpSpPr>
        <p:grpSpPr>
          <a:xfrm>
            <a:off x="152280" y="493560"/>
            <a:ext cx="3886200" cy="1944720"/>
            <a:chOff x="152280" y="493560"/>
            <a:chExt cx="3886200" cy="1944720"/>
          </a:xfrm>
        </p:grpSpPr>
        <p:sp>
          <p:nvSpPr>
            <p:cNvPr id="1370" name=""/>
            <p:cNvSpPr/>
            <p:nvPr/>
          </p:nvSpPr>
          <p:spPr>
            <a:xfrm>
              <a:off x="15228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09480" y="56988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tology and Model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2" name="onto_01" descr=""/>
            <p:cNvPicPr/>
            <p:nvPr/>
          </p:nvPicPr>
          <p:blipFill>
            <a:blip r:embed="rId2"/>
            <a:stretch/>
          </p:blipFill>
          <p:spPr>
            <a:xfrm>
              <a:off x="295200" y="64584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373" name=""/>
          <p:cNvGrpSpPr/>
          <p:nvPr/>
        </p:nvGrpSpPr>
        <p:grpSpPr>
          <a:xfrm>
            <a:off x="2057400" y="2184480"/>
            <a:ext cx="4267080" cy="2971800"/>
            <a:chOff x="2057400" y="2184480"/>
            <a:chExt cx="4267080" cy="2971800"/>
          </a:xfrm>
        </p:grpSpPr>
        <p:sp>
          <p:nvSpPr>
            <p:cNvPr id="1374" name=""/>
            <p:cNvSpPr/>
            <p:nvPr/>
          </p:nvSpPr>
          <p:spPr>
            <a:xfrm>
              <a:off x="2057400" y="264168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666880" y="2793960"/>
              <a:ext cx="3657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connection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209680" y="2184480"/>
              <a:ext cx="6858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943600" y="4318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5562360" y="2184480"/>
              <a:ext cx="4572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9" name="" descr=""/>
            <p:cNvPicPr/>
            <p:nvPr/>
          </p:nvPicPr>
          <p:blipFill>
            <a:blip r:embed="rId3"/>
            <a:stretch/>
          </p:blipFill>
          <p:spPr>
            <a:xfrm>
              <a:off x="2209680" y="2793960"/>
              <a:ext cx="474840" cy="3794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380" name=""/>
          <p:cNvGrpSpPr/>
          <p:nvPr/>
        </p:nvGrpSpPr>
        <p:grpSpPr>
          <a:xfrm>
            <a:off x="457200" y="1103400"/>
            <a:ext cx="3276360" cy="999720"/>
            <a:chOff x="457200" y="1103400"/>
            <a:chExt cx="3276360" cy="999720"/>
          </a:xfrm>
        </p:grpSpPr>
        <p:sp>
          <p:nvSpPr>
            <p:cNvPr id="1381" name=""/>
            <p:cNvSpPr/>
            <p:nvPr/>
          </p:nvSpPr>
          <p:spPr>
            <a:xfrm>
              <a:off x="1447560" y="1179360"/>
              <a:ext cx="228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Ontologist 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2" name="agent" descr=""/>
            <p:cNvPicPr/>
            <p:nvPr/>
          </p:nvPicPr>
          <p:blipFill>
            <a:blip r:embed="rId4"/>
            <a:stretch/>
          </p:blipFill>
          <p:spPr>
            <a:xfrm>
              <a:off x="1066680" y="110340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383" name="agent" descr=""/>
            <p:cNvPicPr/>
            <p:nvPr/>
          </p:nvPicPr>
          <p:blipFill>
            <a:blip r:embed="rId5"/>
            <a:stretch/>
          </p:blipFill>
          <p:spPr>
            <a:xfrm>
              <a:off x="457200" y="14079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384" name="agent" descr=""/>
            <p:cNvPicPr/>
            <p:nvPr/>
          </p:nvPicPr>
          <p:blipFill>
            <a:blip r:embed="rId6"/>
            <a:stretch/>
          </p:blipFill>
          <p:spPr>
            <a:xfrm>
              <a:off x="990360" y="1788840"/>
              <a:ext cx="31140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385" name="agent" descr=""/>
            <p:cNvPicPr/>
            <p:nvPr/>
          </p:nvPicPr>
          <p:blipFill>
            <a:blip r:embed="rId7"/>
            <a:stretch/>
          </p:blipFill>
          <p:spPr>
            <a:xfrm>
              <a:off x="1523880" y="16365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1386" name=""/>
          <p:cNvGrpSpPr/>
          <p:nvPr/>
        </p:nvGrpSpPr>
        <p:grpSpPr>
          <a:xfrm>
            <a:off x="4572000" y="1054080"/>
            <a:ext cx="3657600" cy="1219320"/>
            <a:chOff x="4572000" y="1054080"/>
            <a:chExt cx="3657600" cy="1219320"/>
          </a:xfrm>
        </p:grpSpPr>
        <p:sp>
          <p:nvSpPr>
            <p:cNvPr id="1387" name=""/>
            <p:cNvSpPr/>
            <p:nvPr/>
          </p:nvSpPr>
          <p:spPr>
            <a:xfrm>
              <a:off x="5486400" y="15876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800600" y="18162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72000" y="105408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0" name="agent" descr=""/>
            <p:cNvPicPr/>
            <p:nvPr/>
          </p:nvPicPr>
          <p:blipFill>
            <a:blip r:embed="rId8"/>
            <a:stretch/>
          </p:blipFill>
          <p:spPr>
            <a:xfrm>
              <a:off x="5791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91" name="agent" descr=""/>
            <p:cNvPicPr/>
            <p:nvPr/>
          </p:nvPicPr>
          <p:blipFill>
            <a:blip r:embed="rId9"/>
            <a:stretch/>
          </p:blipFill>
          <p:spPr>
            <a:xfrm>
              <a:off x="6172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92" name="agent" descr=""/>
            <p:cNvPicPr/>
            <p:nvPr/>
          </p:nvPicPr>
          <p:blipFill>
            <a:blip r:embed="rId10"/>
            <a:stretch/>
          </p:blipFill>
          <p:spPr>
            <a:xfrm>
              <a:off x="6553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93" name="agent" descr=""/>
            <p:cNvPicPr/>
            <p:nvPr/>
          </p:nvPicPr>
          <p:blipFill>
            <a:blip r:embed="rId11"/>
            <a:stretch/>
          </p:blipFill>
          <p:spPr>
            <a:xfrm>
              <a:off x="6934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94" name="agent" descr=""/>
            <p:cNvPicPr/>
            <p:nvPr/>
          </p:nvPicPr>
          <p:blipFill>
            <a:blip r:embed="rId12"/>
            <a:stretch/>
          </p:blipFill>
          <p:spPr>
            <a:xfrm>
              <a:off x="7315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95" name="agent" descr=""/>
            <p:cNvPicPr/>
            <p:nvPr/>
          </p:nvPicPr>
          <p:blipFill>
            <a:blip r:embed="rId13"/>
            <a:stretch/>
          </p:blipFill>
          <p:spPr>
            <a:xfrm>
              <a:off x="7696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396" name="agent" descr=""/>
            <p:cNvPicPr/>
            <p:nvPr/>
          </p:nvPicPr>
          <p:blipFill>
            <a:blip r:embed="rId14"/>
            <a:stretch/>
          </p:blipFill>
          <p:spPr>
            <a:xfrm>
              <a:off x="6172200" y="181620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1397" name="agent" descr=""/>
            <p:cNvPicPr/>
            <p:nvPr/>
          </p:nvPicPr>
          <p:blipFill>
            <a:blip r:embed="rId15"/>
            <a:stretch/>
          </p:blipFill>
          <p:spPr>
            <a:xfrm>
              <a:off x="6553080" y="1816200"/>
              <a:ext cx="31140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1398" name=""/>
          <p:cNvGrpSpPr/>
          <p:nvPr/>
        </p:nvGrpSpPr>
        <p:grpSpPr>
          <a:xfrm>
            <a:off x="2209680" y="5400720"/>
            <a:ext cx="3962520" cy="1000080"/>
            <a:chOff x="2209680" y="5400720"/>
            <a:chExt cx="3962520" cy="1000080"/>
          </a:xfrm>
        </p:grpSpPr>
        <p:grpSp>
          <p:nvGrpSpPr>
            <p:cNvPr id="1399" name=""/>
            <p:cNvGrpSpPr/>
            <p:nvPr/>
          </p:nvGrpSpPr>
          <p:grpSpPr>
            <a:xfrm>
              <a:off x="3504960" y="5639040"/>
              <a:ext cx="1371600" cy="761760"/>
              <a:chOff x="3504960" y="5639040"/>
              <a:chExt cx="1371600" cy="761760"/>
            </a:xfrm>
          </p:grpSpPr>
          <p:pic>
            <p:nvPicPr>
              <p:cNvPr id="1400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38480" y="563904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1401" name=""/>
              <p:cNvSpPr/>
              <p:nvPr/>
            </p:nvSpPr>
            <p:spPr>
              <a:xfrm>
                <a:off x="3504960" y="594360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Profile 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4572000" y="5400720"/>
              <a:ext cx="1600200" cy="924120"/>
              <a:chOff x="4572000" y="5400720"/>
              <a:chExt cx="1600200" cy="924120"/>
            </a:xfrm>
          </p:grpSpPr>
          <p:pic>
            <p:nvPicPr>
              <p:cNvPr id="1403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75000" y="540072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1404" name=""/>
              <p:cNvSpPr/>
              <p:nvPr/>
            </p:nvSpPr>
            <p:spPr>
              <a:xfrm>
                <a:off x="4572000" y="571500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rofiles 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2209680" y="5562720"/>
              <a:ext cx="1371600" cy="762120"/>
              <a:chOff x="2209680" y="5562720"/>
              <a:chExt cx="1371600" cy="762120"/>
            </a:xfrm>
          </p:grpSpPr>
          <p:pic>
            <p:nvPicPr>
              <p:cNvPr id="1406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556272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1407" name=""/>
              <p:cNvSpPr/>
              <p:nvPr/>
            </p:nvSpPr>
            <p:spPr>
              <a:xfrm>
                <a:off x="2209680" y="586764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Controll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8" name=""/>
          <p:cNvGrpSpPr/>
          <p:nvPr/>
        </p:nvGrpSpPr>
        <p:grpSpPr>
          <a:xfrm>
            <a:off x="2057400" y="3251160"/>
            <a:ext cx="3968640" cy="1219320"/>
            <a:chOff x="2057400" y="3251160"/>
            <a:chExt cx="3968640" cy="1219320"/>
          </a:xfrm>
        </p:grpSpPr>
        <p:sp>
          <p:nvSpPr>
            <p:cNvPr id="1409" name=""/>
            <p:cNvSpPr/>
            <p:nvPr/>
          </p:nvSpPr>
          <p:spPr>
            <a:xfrm>
              <a:off x="2057400" y="378468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Fed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Matchm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0" name="agent" descr=""/>
            <p:cNvPicPr/>
            <p:nvPr/>
          </p:nvPicPr>
          <p:blipFill>
            <a:blip r:embed="rId19"/>
            <a:stretch/>
          </p:blipFill>
          <p:spPr>
            <a:xfrm>
              <a:off x="3276360" y="3479760"/>
              <a:ext cx="31140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11" name="agent" descr=""/>
            <p:cNvPicPr/>
            <p:nvPr/>
          </p:nvPicPr>
          <p:blipFill>
            <a:blip r:embed="rId20"/>
            <a:stretch/>
          </p:blipFill>
          <p:spPr>
            <a:xfrm>
              <a:off x="4114800" y="33274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12" name="agent" descr=""/>
            <p:cNvPicPr/>
            <p:nvPr/>
          </p:nvPicPr>
          <p:blipFill>
            <a:blip r:embed="rId21"/>
            <a:stretch/>
          </p:blipFill>
          <p:spPr>
            <a:xfrm>
              <a:off x="5105160" y="355608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13" name="agent" descr=""/>
            <p:cNvPicPr/>
            <p:nvPr/>
          </p:nvPicPr>
          <p:blipFill>
            <a:blip r:embed="rId22"/>
            <a:stretch/>
          </p:blipFill>
          <p:spPr>
            <a:xfrm>
              <a:off x="4267080" y="40132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14" name="agent" descr=""/>
            <p:cNvPicPr/>
            <p:nvPr/>
          </p:nvPicPr>
          <p:blipFill>
            <a:blip r:embed="rId23"/>
            <a:stretch/>
          </p:blipFill>
          <p:spPr>
            <a:xfrm>
              <a:off x="5715000" y="3251160"/>
              <a:ext cx="31104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grpSp>
        <p:nvGrpSpPr>
          <p:cNvPr id="1415" name=""/>
          <p:cNvGrpSpPr/>
          <p:nvPr/>
        </p:nvGrpSpPr>
        <p:grpSpPr>
          <a:xfrm>
            <a:off x="0" y="457200"/>
            <a:ext cx="8381880" cy="6350040"/>
            <a:chOff x="0" y="457200"/>
            <a:chExt cx="8381880" cy="6350040"/>
          </a:xfrm>
        </p:grpSpPr>
        <p:sp>
          <p:nvSpPr>
            <p:cNvPr id="1416" name=""/>
            <p:cNvSpPr/>
            <p:nvPr/>
          </p:nvSpPr>
          <p:spPr>
            <a:xfrm>
              <a:off x="0" y="457200"/>
              <a:ext cx="8381880" cy="4267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994040" y="4724280"/>
              <a:ext cx="4343400" cy="208296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E6B4-370F-4FE9-8513-54F1B74A9F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Dedicated sub-societies (user)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4800" y="457200"/>
            <a:ext cx="90154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ree main roles in user-dedicated sub-society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GUI management: direct interactions with user (IC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User Profile management: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ymbolic learning techniques (UPM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rchiving and ensuring secured login (UP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420" name=""/>
          <p:cNvGraphicFramePr/>
          <p:nvPr/>
        </p:nvGraphicFramePr>
        <p:xfrm>
          <a:off x="380880" y="3048120"/>
          <a:ext cx="9144000" cy="279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8120"/>
                    <a:ext cx="914400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2" name=""/>
          <p:cNvSpPr/>
          <p:nvPr/>
        </p:nvSpPr>
        <p:spPr>
          <a:xfrm>
            <a:off x="2743200" y="3454560"/>
            <a:ext cx="5029200" cy="43164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795F-AAC8-4602-8C66-05B034E3BA6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Dedicated sub-societies (user)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424" name=""/>
          <p:cNvGrpSpPr/>
          <p:nvPr/>
        </p:nvGrpSpPr>
        <p:grpSpPr>
          <a:xfrm>
            <a:off x="-380880" y="457200"/>
            <a:ext cx="9677160" cy="3249720"/>
            <a:chOff x="-380880" y="457200"/>
            <a:chExt cx="9677160" cy="3249720"/>
          </a:xfrm>
        </p:grpSpPr>
        <p:graphicFrame>
          <p:nvGraphicFramePr>
            <p:cNvPr id="1425" name=""/>
            <p:cNvGraphicFramePr/>
            <p:nvPr/>
          </p:nvGraphicFramePr>
          <p:xfrm>
            <a:off x="152280" y="914400"/>
            <a:ext cx="9144000" cy="27925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4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914400"/>
                      <a:ext cx="9144000" cy="279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7" name=""/>
            <p:cNvSpPr/>
            <p:nvPr/>
          </p:nvSpPr>
          <p:spPr>
            <a:xfrm>
              <a:off x="-380880" y="457200"/>
              <a:ext cx="9093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lvl="1" marL="666720" indent="-190440">
                <a:lnSpc>
                  <a:spcPct val="90000"/>
                </a:lnSpc>
                <a:spcBef>
                  <a:spcPts val="649"/>
                </a:spcBef>
                <a:buClr>
                  <a:srgbClr val="000066"/>
                </a:buClr>
                <a:buFont typeface="Wingdings" charset="2"/>
                <a:buChar char=""/>
                <a:tabLst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  <a:tab algn="l" pos="6934320"/>
                  <a:tab algn="l" pos="7264440"/>
                </a:tabLst>
              </a:pPr>
              <a:r>
                <a:rPr b="0" lang="en-GB" sz="2600" spc="-1" strike="noStrike">
                  <a:solidFill>
                    <a:srgbClr val="000066"/>
                  </a:solidFill>
                  <a:latin typeface="Arial"/>
                </a:rPr>
                <a:t>User profile manager: machine learning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8" name=""/>
          <p:cNvGrpSpPr/>
          <p:nvPr/>
        </p:nvGrpSpPr>
        <p:grpSpPr>
          <a:xfrm>
            <a:off x="-380880" y="3657600"/>
            <a:ext cx="9677160" cy="2975040"/>
            <a:chOff x="-380880" y="3657600"/>
            <a:chExt cx="9677160" cy="2975040"/>
          </a:xfrm>
        </p:grpSpPr>
        <p:sp>
          <p:nvSpPr>
            <p:cNvPr id="1429" name=""/>
            <p:cNvSpPr/>
            <p:nvPr/>
          </p:nvSpPr>
          <p:spPr>
            <a:xfrm>
              <a:off x="-380880" y="3657600"/>
              <a:ext cx="9093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lvl="1" marL="666720" indent="-190440">
                <a:lnSpc>
                  <a:spcPct val="90000"/>
                </a:lnSpc>
                <a:spcBef>
                  <a:spcPts val="649"/>
                </a:spcBef>
                <a:buClr>
                  <a:srgbClr val="000066"/>
                </a:buClr>
                <a:buFont typeface="Wingdings" charset="2"/>
                <a:buChar char=""/>
                <a:tabLst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  <a:tab algn="l" pos="6934320"/>
                  <a:tab algn="l" pos="7264440"/>
                </a:tabLst>
              </a:pPr>
              <a:r>
                <a:rPr b="0" lang="en-GB" sz="2600" spc="-1" strike="noStrike">
                  <a:solidFill>
                    <a:srgbClr val="000066"/>
                  </a:solidFill>
                  <a:latin typeface="Arial"/>
                </a:rPr>
                <a:t>User profile archivist: profile storage and log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30" name=""/>
            <p:cNvGraphicFramePr/>
            <p:nvPr/>
          </p:nvGraphicFramePr>
          <p:xfrm>
            <a:off x="152280" y="4232160"/>
            <a:ext cx="9144000" cy="24004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4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4232160"/>
                      <a:ext cx="9144000" cy="240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455-A972-428D-BEF4-449A75A8C0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oMMA Society Sub-societies and Role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2057400" y="4800600"/>
            <a:ext cx="4419360" cy="1944720"/>
            <a:chOff x="2057400" y="4800600"/>
            <a:chExt cx="4419360" cy="1944720"/>
          </a:xfrm>
        </p:grpSpPr>
        <p:sp>
          <p:nvSpPr>
            <p:cNvPr id="1434" name=""/>
            <p:cNvSpPr/>
            <p:nvPr/>
          </p:nvSpPr>
          <p:spPr>
            <a:xfrm>
              <a:off x="2057400" y="480060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743200" y="4857840"/>
              <a:ext cx="37335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s'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6" name=""/>
            <p:cNvGrpSpPr/>
            <p:nvPr/>
          </p:nvGrpSpPr>
          <p:grpSpPr>
            <a:xfrm>
              <a:off x="2336760" y="4826160"/>
              <a:ext cx="444600" cy="609480"/>
              <a:chOff x="2336760" y="4826160"/>
              <a:chExt cx="444600" cy="609480"/>
            </a:xfrm>
          </p:grpSpPr>
          <p:sp>
            <p:nvSpPr>
              <p:cNvPr id="1437" name=""/>
              <p:cNvSpPr/>
              <p:nvPr/>
            </p:nvSpPr>
            <p:spPr>
              <a:xfrm>
                <a:off x="2336760" y="4826160"/>
                <a:ext cx="4446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8" name=""/>
              <p:cNvGrpSpPr/>
              <p:nvPr/>
            </p:nvGrpSpPr>
            <p:grpSpPr>
              <a:xfrm>
                <a:off x="2387160" y="4851720"/>
                <a:ext cx="353880" cy="550800"/>
                <a:chOff x="2387160" y="4851720"/>
                <a:chExt cx="353880" cy="550800"/>
              </a:xfrm>
            </p:grpSpPr>
            <p:sp>
              <p:nvSpPr>
                <p:cNvPr id="1439" name=""/>
                <p:cNvSpPr/>
                <p:nvPr/>
              </p:nvSpPr>
              <p:spPr>
                <a:xfrm flipH="1">
                  <a:off x="2489760" y="4882320"/>
                  <a:ext cx="138240" cy="1202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 flipH="1">
                  <a:off x="2581200" y="485172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 flipH="1">
                  <a:off x="2507400" y="501156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 flipH="1">
                  <a:off x="2423880" y="501660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 flipH="1">
                  <a:off x="2387160" y="517392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 flipH="1">
                  <a:off x="2534760" y="5173560"/>
                  <a:ext cx="104040" cy="2289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45" name=""/>
          <p:cNvGrpSpPr/>
          <p:nvPr/>
        </p:nvGrpSpPr>
        <p:grpSpPr>
          <a:xfrm>
            <a:off x="4419720" y="493560"/>
            <a:ext cx="3886200" cy="1944720"/>
            <a:chOff x="4419720" y="493560"/>
            <a:chExt cx="3886200" cy="1944720"/>
          </a:xfrm>
        </p:grpSpPr>
        <p:sp>
          <p:nvSpPr>
            <p:cNvPr id="1446" name=""/>
            <p:cNvSpPr/>
            <p:nvPr/>
          </p:nvSpPr>
          <p:spPr>
            <a:xfrm>
              <a:off x="441972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952880" y="56988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8" name="" descr=""/>
            <p:cNvPicPr/>
            <p:nvPr/>
          </p:nvPicPr>
          <p:blipFill>
            <a:blip r:embed="rId1"/>
            <a:stretch/>
          </p:blipFill>
          <p:spPr>
            <a:xfrm>
              <a:off x="4572000" y="64584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449" name=""/>
          <p:cNvGrpSpPr/>
          <p:nvPr/>
        </p:nvGrpSpPr>
        <p:grpSpPr>
          <a:xfrm>
            <a:off x="152280" y="493560"/>
            <a:ext cx="3886200" cy="1944720"/>
            <a:chOff x="152280" y="493560"/>
            <a:chExt cx="3886200" cy="1944720"/>
          </a:xfrm>
        </p:grpSpPr>
        <p:sp>
          <p:nvSpPr>
            <p:cNvPr id="1450" name=""/>
            <p:cNvSpPr/>
            <p:nvPr/>
          </p:nvSpPr>
          <p:spPr>
            <a:xfrm>
              <a:off x="15228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09480" y="56988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tology and Model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2" name="onto_01" descr=""/>
            <p:cNvPicPr/>
            <p:nvPr/>
          </p:nvPicPr>
          <p:blipFill>
            <a:blip r:embed="rId2"/>
            <a:stretch/>
          </p:blipFill>
          <p:spPr>
            <a:xfrm>
              <a:off x="295200" y="64584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453" name=""/>
          <p:cNvGrpSpPr/>
          <p:nvPr/>
        </p:nvGrpSpPr>
        <p:grpSpPr>
          <a:xfrm>
            <a:off x="2057400" y="2184480"/>
            <a:ext cx="4267080" cy="2971800"/>
            <a:chOff x="2057400" y="2184480"/>
            <a:chExt cx="4267080" cy="2971800"/>
          </a:xfrm>
        </p:grpSpPr>
        <p:sp>
          <p:nvSpPr>
            <p:cNvPr id="1454" name=""/>
            <p:cNvSpPr/>
            <p:nvPr/>
          </p:nvSpPr>
          <p:spPr>
            <a:xfrm>
              <a:off x="2057400" y="264168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666880" y="2793960"/>
              <a:ext cx="3657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connection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209680" y="2184480"/>
              <a:ext cx="6858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943600" y="431820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5562360" y="2184480"/>
              <a:ext cx="457200" cy="550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9" name="" descr=""/>
            <p:cNvPicPr/>
            <p:nvPr/>
          </p:nvPicPr>
          <p:blipFill>
            <a:blip r:embed="rId3"/>
            <a:stretch/>
          </p:blipFill>
          <p:spPr>
            <a:xfrm>
              <a:off x="2209680" y="2793960"/>
              <a:ext cx="474840" cy="3794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460" name=""/>
          <p:cNvGrpSpPr/>
          <p:nvPr/>
        </p:nvGrpSpPr>
        <p:grpSpPr>
          <a:xfrm>
            <a:off x="457200" y="1103400"/>
            <a:ext cx="3276360" cy="999720"/>
            <a:chOff x="457200" y="1103400"/>
            <a:chExt cx="3276360" cy="999720"/>
          </a:xfrm>
        </p:grpSpPr>
        <p:sp>
          <p:nvSpPr>
            <p:cNvPr id="1461" name=""/>
            <p:cNvSpPr/>
            <p:nvPr/>
          </p:nvSpPr>
          <p:spPr>
            <a:xfrm>
              <a:off x="1447560" y="1179360"/>
              <a:ext cx="228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Ontologist 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62" name="agent" descr=""/>
            <p:cNvPicPr/>
            <p:nvPr/>
          </p:nvPicPr>
          <p:blipFill>
            <a:blip r:embed="rId4"/>
            <a:stretch/>
          </p:blipFill>
          <p:spPr>
            <a:xfrm>
              <a:off x="1066680" y="110340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463" name="agent" descr=""/>
            <p:cNvPicPr/>
            <p:nvPr/>
          </p:nvPicPr>
          <p:blipFill>
            <a:blip r:embed="rId5"/>
            <a:stretch/>
          </p:blipFill>
          <p:spPr>
            <a:xfrm>
              <a:off x="457200" y="14079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464" name="agent" descr=""/>
            <p:cNvPicPr/>
            <p:nvPr/>
          </p:nvPicPr>
          <p:blipFill>
            <a:blip r:embed="rId6"/>
            <a:stretch/>
          </p:blipFill>
          <p:spPr>
            <a:xfrm>
              <a:off x="990360" y="1788840"/>
              <a:ext cx="31140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465" name="agent" descr=""/>
            <p:cNvPicPr/>
            <p:nvPr/>
          </p:nvPicPr>
          <p:blipFill>
            <a:blip r:embed="rId7"/>
            <a:stretch/>
          </p:blipFill>
          <p:spPr>
            <a:xfrm>
              <a:off x="1523880" y="16365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1466" name=""/>
          <p:cNvGrpSpPr/>
          <p:nvPr/>
        </p:nvGrpSpPr>
        <p:grpSpPr>
          <a:xfrm>
            <a:off x="4572000" y="1054080"/>
            <a:ext cx="3657600" cy="1219320"/>
            <a:chOff x="4572000" y="1054080"/>
            <a:chExt cx="3657600" cy="1219320"/>
          </a:xfrm>
        </p:grpSpPr>
        <p:sp>
          <p:nvSpPr>
            <p:cNvPr id="1467" name=""/>
            <p:cNvSpPr/>
            <p:nvPr/>
          </p:nvSpPr>
          <p:spPr>
            <a:xfrm>
              <a:off x="5486400" y="15876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800600" y="18162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572000" y="105408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0" name="agent" descr=""/>
            <p:cNvPicPr/>
            <p:nvPr/>
          </p:nvPicPr>
          <p:blipFill>
            <a:blip r:embed="rId8"/>
            <a:stretch/>
          </p:blipFill>
          <p:spPr>
            <a:xfrm>
              <a:off x="5791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71" name="agent" descr=""/>
            <p:cNvPicPr/>
            <p:nvPr/>
          </p:nvPicPr>
          <p:blipFill>
            <a:blip r:embed="rId9"/>
            <a:stretch/>
          </p:blipFill>
          <p:spPr>
            <a:xfrm>
              <a:off x="6172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72" name="agent" descr=""/>
            <p:cNvPicPr/>
            <p:nvPr/>
          </p:nvPicPr>
          <p:blipFill>
            <a:blip r:embed="rId10"/>
            <a:stretch/>
          </p:blipFill>
          <p:spPr>
            <a:xfrm>
              <a:off x="6553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73" name="agent" descr=""/>
            <p:cNvPicPr/>
            <p:nvPr/>
          </p:nvPicPr>
          <p:blipFill>
            <a:blip r:embed="rId11"/>
            <a:stretch/>
          </p:blipFill>
          <p:spPr>
            <a:xfrm>
              <a:off x="6934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74" name="agent" descr=""/>
            <p:cNvPicPr/>
            <p:nvPr/>
          </p:nvPicPr>
          <p:blipFill>
            <a:blip r:embed="rId12"/>
            <a:stretch/>
          </p:blipFill>
          <p:spPr>
            <a:xfrm>
              <a:off x="7315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75" name="agent" descr=""/>
            <p:cNvPicPr/>
            <p:nvPr/>
          </p:nvPicPr>
          <p:blipFill>
            <a:blip r:embed="rId13"/>
            <a:stretch/>
          </p:blipFill>
          <p:spPr>
            <a:xfrm>
              <a:off x="7696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476" name="agent" descr=""/>
            <p:cNvPicPr/>
            <p:nvPr/>
          </p:nvPicPr>
          <p:blipFill>
            <a:blip r:embed="rId14"/>
            <a:stretch/>
          </p:blipFill>
          <p:spPr>
            <a:xfrm>
              <a:off x="6172200" y="181620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1477" name="agent" descr=""/>
            <p:cNvPicPr/>
            <p:nvPr/>
          </p:nvPicPr>
          <p:blipFill>
            <a:blip r:embed="rId15"/>
            <a:stretch/>
          </p:blipFill>
          <p:spPr>
            <a:xfrm>
              <a:off x="6553080" y="1816200"/>
              <a:ext cx="31140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1478" name=""/>
          <p:cNvGrpSpPr/>
          <p:nvPr/>
        </p:nvGrpSpPr>
        <p:grpSpPr>
          <a:xfrm>
            <a:off x="2209680" y="5400720"/>
            <a:ext cx="3962520" cy="1000080"/>
            <a:chOff x="2209680" y="5400720"/>
            <a:chExt cx="3962520" cy="1000080"/>
          </a:xfrm>
        </p:grpSpPr>
        <p:grpSp>
          <p:nvGrpSpPr>
            <p:cNvPr id="1479" name=""/>
            <p:cNvGrpSpPr/>
            <p:nvPr/>
          </p:nvGrpSpPr>
          <p:grpSpPr>
            <a:xfrm>
              <a:off x="3504960" y="5639040"/>
              <a:ext cx="1371600" cy="761760"/>
              <a:chOff x="3504960" y="5639040"/>
              <a:chExt cx="1371600" cy="761760"/>
            </a:xfrm>
          </p:grpSpPr>
          <p:pic>
            <p:nvPicPr>
              <p:cNvPr id="1480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38480" y="563904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1481" name=""/>
              <p:cNvSpPr/>
              <p:nvPr/>
            </p:nvSpPr>
            <p:spPr>
              <a:xfrm>
                <a:off x="3504960" y="594360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Profile 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4572000" y="5400720"/>
              <a:ext cx="1600200" cy="924120"/>
              <a:chOff x="4572000" y="5400720"/>
              <a:chExt cx="1600200" cy="924120"/>
            </a:xfrm>
          </p:grpSpPr>
          <p:pic>
            <p:nvPicPr>
              <p:cNvPr id="1483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75000" y="540072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1484" name=""/>
              <p:cNvSpPr/>
              <p:nvPr/>
            </p:nvSpPr>
            <p:spPr>
              <a:xfrm>
                <a:off x="4572000" y="571500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rofiles 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2209680" y="5562720"/>
              <a:ext cx="1371600" cy="762120"/>
              <a:chOff x="2209680" y="5562720"/>
              <a:chExt cx="1371600" cy="762120"/>
            </a:xfrm>
          </p:grpSpPr>
          <p:pic>
            <p:nvPicPr>
              <p:cNvPr id="1486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556272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1487" name=""/>
              <p:cNvSpPr/>
              <p:nvPr/>
            </p:nvSpPr>
            <p:spPr>
              <a:xfrm>
                <a:off x="2209680" y="586764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Controll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8" name=""/>
          <p:cNvGrpSpPr/>
          <p:nvPr/>
        </p:nvGrpSpPr>
        <p:grpSpPr>
          <a:xfrm>
            <a:off x="2057400" y="3251160"/>
            <a:ext cx="3968640" cy="1219320"/>
            <a:chOff x="2057400" y="3251160"/>
            <a:chExt cx="3968640" cy="1219320"/>
          </a:xfrm>
        </p:grpSpPr>
        <p:sp>
          <p:nvSpPr>
            <p:cNvPr id="1489" name=""/>
            <p:cNvSpPr/>
            <p:nvPr/>
          </p:nvSpPr>
          <p:spPr>
            <a:xfrm>
              <a:off x="2057400" y="378468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Fed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Matchm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0" name="agent" descr=""/>
            <p:cNvPicPr/>
            <p:nvPr/>
          </p:nvPicPr>
          <p:blipFill>
            <a:blip r:embed="rId19"/>
            <a:stretch/>
          </p:blipFill>
          <p:spPr>
            <a:xfrm>
              <a:off x="3276360" y="3479760"/>
              <a:ext cx="31140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91" name="agent" descr=""/>
            <p:cNvPicPr/>
            <p:nvPr/>
          </p:nvPicPr>
          <p:blipFill>
            <a:blip r:embed="rId20"/>
            <a:stretch/>
          </p:blipFill>
          <p:spPr>
            <a:xfrm>
              <a:off x="4114800" y="33274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92" name="agent" descr=""/>
            <p:cNvPicPr/>
            <p:nvPr/>
          </p:nvPicPr>
          <p:blipFill>
            <a:blip r:embed="rId21"/>
            <a:stretch/>
          </p:blipFill>
          <p:spPr>
            <a:xfrm>
              <a:off x="5105160" y="355608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93" name="agent" descr=""/>
            <p:cNvPicPr/>
            <p:nvPr/>
          </p:nvPicPr>
          <p:blipFill>
            <a:blip r:embed="rId22"/>
            <a:stretch/>
          </p:blipFill>
          <p:spPr>
            <a:xfrm>
              <a:off x="4267080" y="40132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494" name="agent" descr=""/>
            <p:cNvPicPr/>
            <p:nvPr/>
          </p:nvPicPr>
          <p:blipFill>
            <a:blip r:embed="rId23"/>
            <a:stretch/>
          </p:blipFill>
          <p:spPr>
            <a:xfrm>
              <a:off x="5715000" y="3251160"/>
              <a:ext cx="31104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grpSp>
        <p:nvGrpSpPr>
          <p:cNvPr id="1495" name=""/>
          <p:cNvGrpSpPr/>
          <p:nvPr/>
        </p:nvGrpSpPr>
        <p:grpSpPr>
          <a:xfrm>
            <a:off x="0" y="380880"/>
            <a:ext cx="8394840" cy="6477120"/>
            <a:chOff x="0" y="380880"/>
            <a:chExt cx="8394840" cy="6477120"/>
          </a:xfrm>
        </p:grpSpPr>
        <p:sp>
          <p:nvSpPr>
            <p:cNvPr id="1496" name=""/>
            <p:cNvSpPr/>
            <p:nvPr/>
          </p:nvSpPr>
          <p:spPr>
            <a:xfrm>
              <a:off x="0" y="380880"/>
              <a:ext cx="4267080" cy="6477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286000" y="2514600"/>
              <a:ext cx="4267080" cy="4343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267080" y="444600"/>
              <a:ext cx="4127760" cy="205740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BFAA-F855-4B59-9399-85D6514637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Annotation-dedicated sub-societies (AM)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9600" y="457200"/>
            <a:ext cx="89521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e annotation-dedicated sub-socie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istributed local sour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rchive annotations on documents of the O.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earch &amp; retrieve references matching 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Hierarchy: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 to federate two aspects of the socie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8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ediator role (manage social aspect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904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ervising distributed query solv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904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aging allocation of new an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7600" indent="-1904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tification of new annotations to trigger push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762120" y="3971880"/>
          <a:ext cx="8381880" cy="29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71880"/>
                    <a:ext cx="838188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7698-60B4-4813-9BEA-94769499CF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Annotation-dedicated sub-societies (AA)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39600" y="457200"/>
            <a:ext cx="8952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0" spc="-1" strike="noStrike">
                <a:solidFill>
                  <a:srgbClr val="7278a8"/>
                </a:solidFill>
                <a:latin typeface="Arial"/>
              </a:rPr>
              <a:t>The annotation-dedicated sub-society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70000"/>
              </a:lnSpc>
              <a:spcBef>
                <a:spcPts val="649"/>
              </a:spcBef>
              <a:buClr>
                <a:srgbClr val="7278a8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7278a8"/>
                </a:solidFill>
                <a:latin typeface="Arial"/>
              </a:rPr>
              <a:t>Distributed local sour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70000"/>
              </a:lnSpc>
              <a:spcBef>
                <a:spcPts val="649"/>
              </a:spcBef>
              <a:buClr>
                <a:srgbClr val="7278a8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7278a8"/>
                </a:solidFill>
                <a:latin typeface="Arial"/>
              </a:rPr>
              <a:t>Archive annotations on documents of the O.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70000"/>
              </a:lnSpc>
              <a:spcBef>
                <a:spcPts val="649"/>
              </a:spcBef>
              <a:buClr>
                <a:srgbClr val="7278a8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7278a8"/>
                </a:solidFill>
                <a:latin typeface="Arial"/>
              </a:rPr>
              <a:t>Search &amp; retrieve references matching que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7278a8"/>
                </a:solidFill>
                <a:latin typeface="Arial"/>
              </a:rPr>
              <a:t>Hierarchy:</a:t>
            </a:r>
            <a:r>
              <a:rPr b="0" lang="en-US" sz="3000" spc="-1" strike="noStrike">
                <a:solidFill>
                  <a:srgbClr val="7278a8"/>
                </a:solidFill>
                <a:latin typeface="Arial"/>
              </a:rPr>
              <a:t> to federate two aspects of the socie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838080" y="3809880"/>
          <a:ext cx="8263080" cy="266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9880"/>
                    <a:ext cx="826308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7" name=""/>
          <p:cNvSpPr/>
          <p:nvPr/>
        </p:nvSpPr>
        <p:spPr>
          <a:xfrm>
            <a:off x="0" y="2514600"/>
            <a:ext cx="8951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67000"/>
          </a:bodyPr>
          <a:p>
            <a:pPr lvl="1" marL="446400" indent="-127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rchivist role (manage local aspect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701640" indent="-127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tached to &amp; exploits local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01640" indent="-1274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swers to query &amp; proposes archiving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2C10-B1DC-4B3F-9902-E814A4D920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Interaction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509" name=""/>
          <p:cNvGrpSpPr/>
          <p:nvPr/>
        </p:nvGrpSpPr>
        <p:grpSpPr>
          <a:xfrm>
            <a:off x="2057400" y="4800600"/>
            <a:ext cx="4419360" cy="1944720"/>
            <a:chOff x="2057400" y="4800600"/>
            <a:chExt cx="4419360" cy="1944720"/>
          </a:xfrm>
        </p:grpSpPr>
        <p:sp>
          <p:nvSpPr>
            <p:cNvPr id="1510" name=""/>
            <p:cNvSpPr/>
            <p:nvPr/>
          </p:nvSpPr>
          <p:spPr>
            <a:xfrm>
              <a:off x="2057400" y="4800600"/>
              <a:ext cx="419076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743200" y="4857840"/>
              <a:ext cx="37335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s'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2" name=""/>
            <p:cNvGrpSpPr/>
            <p:nvPr/>
          </p:nvGrpSpPr>
          <p:grpSpPr>
            <a:xfrm>
              <a:off x="2336760" y="4826160"/>
              <a:ext cx="444600" cy="609480"/>
              <a:chOff x="2336760" y="4826160"/>
              <a:chExt cx="444600" cy="609480"/>
            </a:xfrm>
          </p:grpSpPr>
          <p:sp>
            <p:nvSpPr>
              <p:cNvPr id="1513" name=""/>
              <p:cNvSpPr/>
              <p:nvPr/>
            </p:nvSpPr>
            <p:spPr>
              <a:xfrm>
                <a:off x="2336760" y="4826160"/>
                <a:ext cx="4446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4" name=""/>
              <p:cNvGrpSpPr/>
              <p:nvPr/>
            </p:nvGrpSpPr>
            <p:grpSpPr>
              <a:xfrm>
                <a:off x="2387160" y="4851720"/>
                <a:ext cx="353880" cy="550800"/>
                <a:chOff x="2387160" y="4851720"/>
                <a:chExt cx="353880" cy="550800"/>
              </a:xfrm>
            </p:grpSpPr>
            <p:sp>
              <p:nvSpPr>
                <p:cNvPr id="1515" name=""/>
                <p:cNvSpPr/>
                <p:nvPr/>
              </p:nvSpPr>
              <p:spPr>
                <a:xfrm flipH="1">
                  <a:off x="2489760" y="4882320"/>
                  <a:ext cx="138240" cy="1202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 flipH="1">
                  <a:off x="2581200" y="4851720"/>
                  <a:ext cx="159480" cy="1929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 flipH="1">
                  <a:off x="2507400" y="5011560"/>
                  <a:ext cx="82800" cy="1807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 flipH="1">
                  <a:off x="2423880" y="5016600"/>
                  <a:ext cx="127800" cy="138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 flipH="1">
                  <a:off x="2387160" y="5173920"/>
                  <a:ext cx="154800" cy="224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 flipH="1">
                  <a:off x="2534760" y="5173560"/>
                  <a:ext cx="104040" cy="22896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21" name=""/>
          <p:cNvGrpSpPr/>
          <p:nvPr/>
        </p:nvGrpSpPr>
        <p:grpSpPr>
          <a:xfrm>
            <a:off x="4419720" y="493560"/>
            <a:ext cx="3886200" cy="1944720"/>
            <a:chOff x="4419720" y="493560"/>
            <a:chExt cx="3886200" cy="1944720"/>
          </a:xfrm>
        </p:grpSpPr>
        <p:sp>
          <p:nvSpPr>
            <p:cNvPr id="1522" name=""/>
            <p:cNvSpPr/>
            <p:nvPr/>
          </p:nvSpPr>
          <p:spPr>
            <a:xfrm>
              <a:off x="441972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952880" y="569880"/>
              <a:ext cx="32004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4" name="" descr=""/>
            <p:cNvPicPr/>
            <p:nvPr/>
          </p:nvPicPr>
          <p:blipFill>
            <a:blip r:embed="rId1"/>
            <a:stretch/>
          </p:blipFill>
          <p:spPr>
            <a:xfrm>
              <a:off x="4572000" y="645840"/>
              <a:ext cx="380880" cy="289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1525" name=""/>
          <p:cNvGrpSpPr/>
          <p:nvPr/>
        </p:nvGrpSpPr>
        <p:grpSpPr>
          <a:xfrm>
            <a:off x="152280" y="493560"/>
            <a:ext cx="3886200" cy="1944720"/>
            <a:chOff x="152280" y="493560"/>
            <a:chExt cx="3886200" cy="1944720"/>
          </a:xfrm>
        </p:grpSpPr>
        <p:sp>
          <p:nvSpPr>
            <p:cNvPr id="1526" name=""/>
            <p:cNvSpPr/>
            <p:nvPr/>
          </p:nvSpPr>
          <p:spPr>
            <a:xfrm>
              <a:off x="152280" y="493560"/>
              <a:ext cx="3886200" cy="1944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09480" y="569880"/>
              <a:ext cx="33526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tology and Model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8" name="onto_01" descr=""/>
            <p:cNvPicPr/>
            <p:nvPr/>
          </p:nvPicPr>
          <p:blipFill>
            <a:blip r:embed="rId2"/>
            <a:stretch/>
          </p:blipFill>
          <p:spPr>
            <a:xfrm>
              <a:off x="295200" y="645840"/>
              <a:ext cx="314280" cy="3175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sp>
        <p:nvSpPr>
          <p:cNvPr id="1529" name=""/>
          <p:cNvSpPr/>
          <p:nvPr/>
        </p:nvSpPr>
        <p:spPr>
          <a:xfrm>
            <a:off x="2057400" y="2641680"/>
            <a:ext cx="4191120" cy="1944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666880" y="2793960"/>
            <a:ext cx="3657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connection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1" name="" descr=""/>
          <p:cNvPicPr/>
          <p:nvPr/>
        </p:nvPicPr>
        <p:blipFill>
          <a:blip r:embed="rId3"/>
          <a:stretch/>
        </p:blipFill>
        <p:spPr>
          <a:xfrm>
            <a:off x="2209680" y="2793960"/>
            <a:ext cx="474840" cy="3794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grpSp>
        <p:nvGrpSpPr>
          <p:cNvPr id="1532" name=""/>
          <p:cNvGrpSpPr/>
          <p:nvPr/>
        </p:nvGrpSpPr>
        <p:grpSpPr>
          <a:xfrm>
            <a:off x="457200" y="1103400"/>
            <a:ext cx="3276360" cy="999720"/>
            <a:chOff x="457200" y="1103400"/>
            <a:chExt cx="3276360" cy="999720"/>
          </a:xfrm>
        </p:grpSpPr>
        <p:sp>
          <p:nvSpPr>
            <p:cNvPr id="1533" name=""/>
            <p:cNvSpPr/>
            <p:nvPr/>
          </p:nvSpPr>
          <p:spPr>
            <a:xfrm>
              <a:off x="1447560" y="1179360"/>
              <a:ext cx="22860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Ontologist 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4" name="agent" descr=""/>
            <p:cNvPicPr/>
            <p:nvPr/>
          </p:nvPicPr>
          <p:blipFill>
            <a:blip r:embed="rId4"/>
            <a:stretch/>
          </p:blipFill>
          <p:spPr>
            <a:xfrm>
              <a:off x="1066680" y="1103400"/>
              <a:ext cx="31104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535" name="agent" descr=""/>
            <p:cNvPicPr/>
            <p:nvPr/>
          </p:nvPicPr>
          <p:blipFill>
            <a:blip r:embed="rId5"/>
            <a:stretch/>
          </p:blipFill>
          <p:spPr>
            <a:xfrm>
              <a:off x="457200" y="14079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536" name="agent" descr=""/>
            <p:cNvPicPr/>
            <p:nvPr/>
          </p:nvPicPr>
          <p:blipFill>
            <a:blip r:embed="rId6"/>
            <a:stretch/>
          </p:blipFill>
          <p:spPr>
            <a:xfrm>
              <a:off x="990360" y="1788840"/>
              <a:ext cx="311400" cy="31428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1537" name="agent" descr=""/>
            <p:cNvPicPr/>
            <p:nvPr/>
          </p:nvPicPr>
          <p:blipFill>
            <a:blip r:embed="rId7"/>
            <a:stretch/>
          </p:blipFill>
          <p:spPr>
            <a:xfrm>
              <a:off x="1523880" y="1636560"/>
              <a:ext cx="311040" cy="31392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1538" name=""/>
          <p:cNvGrpSpPr/>
          <p:nvPr/>
        </p:nvGrpSpPr>
        <p:grpSpPr>
          <a:xfrm>
            <a:off x="4572000" y="1054080"/>
            <a:ext cx="3657600" cy="1219320"/>
            <a:chOff x="4572000" y="1054080"/>
            <a:chExt cx="3657600" cy="1219320"/>
          </a:xfrm>
        </p:grpSpPr>
        <p:sp>
          <p:nvSpPr>
            <p:cNvPr id="1539" name=""/>
            <p:cNvSpPr/>
            <p:nvPr/>
          </p:nvSpPr>
          <p:spPr>
            <a:xfrm>
              <a:off x="5486400" y="15876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800600" y="18162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572000" y="105408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2" name="agent" descr=""/>
            <p:cNvPicPr/>
            <p:nvPr/>
          </p:nvPicPr>
          <p:blipFill>
            <a:blip r:embed="rId8"/>
            <a:stretch/>
          </p:blipFill>
          <p:spPr>
            <a:xfrm>
              <a:off x="5791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543" name="agent" descr=""/>
            <p:cNvPicPr/>
            <p:nvPr/>
          </p:nvPicPr>
          <p:blipFill>
            <a:blip r:embed="rId9"/>
            <a:stretch/>
          </p:blipFill>
          <p:spPr>
            <a:xfrm>
              <a:off x="6172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544" name="agent" descr=""/>
            <p:cNvPicPr/>
            <p:nvPr/>
          </p:nvPicPr>
          <p:blipFill>
            <a:blip r:embed="rId10"/>
            <a:stretch/>
          </p:blipFill>
          <p:spPr>
            <a:xfrm>
              <a:off x="6553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545" name="agent" descr=""/>
            <p:cNvPicPr/>
            <p:nvPr/>
          </p:nvPicPr>
          <p:blipFill>
            <a:blip r:embed="rId11"/>
            <a:stretch/>
          </p:blipFill>
          <p:spPr>
            <a:xfrm>
              <a:off x="693432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546" name="agent" descr=""/>
            <p:cNvPicPr/>
            <p:nvPr/>
          </p:nvPicPr>
          <p:blipFill>
            <a:blip r:embed="rId12"/>
            <a:stretch/>
          </p:blipFill>
          <p:spPr>
            <a:xfrm>
              <a:off x="7315200" y="1054080"/>
              <a:ext cx="31104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547" name="agent" descr=""/>
            <p:cNvPicPr/>
            <p:nvPr/>
          </p:nvPicPr>
          <p:blipFill>
            <a:blip r:embed="rId13"/>
            <a:stretch/>
          </p:blipFill>
          <p:spPr>
            <a:xfrm>
              <a:off x="7696080" y="1054080"/>
              <a:ext cx="311400" cy="3146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1548" name="agent" descr=""/>
            <p:cNvPicPr/>
            <p:nvPr/>
          </p:nvPicPr>
          <p:blipFill>
            <a:blip r:embed="rId14"/>
            <a:stretch/>
          </p:blipFill>
          <p:spPr>
            <a:xfrm>
              <a:off x="6172200" y="1816200"/>
              <a:ext cx="31104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1549" name="agent" descr=""/>
            <p:cNvPicPr/>
            <p:nvPr/>
          </p:nvPicPr>
          <p:blipFill>
            <a:blip r:embed="rId15"/>
            <a:stretch/>
          </p:blipFill>
          <p:spPr>
            <a:xfrm>
              <a:off x="6553080" y="1816200"/>
              <a:ext cx="311400" cy="314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1550" name=""/>
          <p:cNvGrpSpPr/>
          <p:nvPr/>
        </p:nvGrpSpPr>
        <p:grpSpPr>
          <a:xfrm>
            <a:off x="2209680" y="5400720"/>
            <a:ext cx="3962520" cy="1000080"/>
            <a:chOff x="2209680" y="5400720"/>
            <a:chExt cx="3962520" cy="1000080"/>
          </a:xfrm>
        </p:grpSpPr>
        <p:grpSp>
          <p:nvGrpSpPr>
            <p:cNvPr id="1551" name=""/>
            <p:cNvGrpSpPr/>
            <p:nvPr/>
          </p:nvGrpSpPr>
          <p:grpSpPr>
            <a:xfrm>
              <a:off x="3504960" y="5639040"/>
              <a:ext cx="1371600" cy="761760"/>
              <a:chOff x="3504960" y="5639040"/>
              <a:chExt cx="1371600" cy="761760"/>
            </a:xfrm>
          </p:grpSpPr>
          <p:pic>
            <p:nvPicPr>
              <p:cNvPr id="1552" name="agent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38480" y="5639040"/>
                <a:ext cx="311040" cy="31428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1553" name=""/>
              <p:cNvSpPr/>
              <p:nvPr/>
            </p:nvSpPr>
            <p:spPr>
              <a:xfrm>
                <a:off x="3504960" y="594360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Profile 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4" name=""/>
            <p:cNvGrpSpPr/>
            <p:nvPr/>
          </p:nvGrpSpPr>
          <p:grpSpPr>
            <a:xfrm>
              <a:off x="4572000" y="5400720"/>
              <a:ext cx="1600200" cy="924120"/>
              <a:chOff x="4572000" y="5400720"/>
              <a:chExt cx="1600200" cy="924120"/>
            </a:xfrm>
          </p:grpSpPr>
          <p:pic>
            <p:nvPicPr>
              <p:cNvPr id="1555" name="agent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75000" y="5400720"/>
                <a:ext cx="311400" cy="31428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1556" name=""/>
              <p:cNvSpPr/>
              <p:nvPr/>
            </p:nvSpPr>
            <p:spPr>
              <a:xfrm>
                <a:off x="4572000" y="5715000"/>
                <a:ext cx="1600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rofiles 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2209680" y="5562720"/>
              <a:ext cx="1371600" cy="762120"/>
              <a:chOff x="2209680" y="5562720"/>
              <a:chExt cx="1371600" cy="762120"/>
            </a:xfrm>
          </p:grpSpPr>
          <p:pic>
            <p:nvPicPr>
              <p:cNvPr id="1558" name="agent" descr=""/>
              <p:cNvPicPr/>
              <p:nvPr/>
            </p:nvPicPr>
            <p:blipFill>
              <a:blip r:embed="rId18"/>
              <a:stretch/>
            </p:blipFill>
            <p:spPr>
              <a:xfrm>
                <a:off x="2743200" y="5562720"/>
                <a:ext cx="311040" cy="31428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1559" name=""/>
              <p:cNvSpPr/>
              <p:nvPr/>
            </p:nvSpPr>
            <p:spPr>
              <a:xfrm>
                <a:off x="2209680" y="5867640"/>
                <a:ext cx="137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Controll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0" name=""/>
          <p:cNvGrpSpPr/>
          <p:nvPr/>
        </p:nvGrpSpPr>
        <p:grpSpPr>
          <a:xfrm>
            <a:off x="2057400" y="3251160"/>
            <a:ext cx="3968640" cy="1219320"/>
            <a:chOff x="2057400" y="3251160"/>
            <a:chExt cx="3968640" cy="1219320"/>
          </a:xfrm>
        </p:grpSpPr>
        <p:sp>
          <p:nvSpPr>
            <p:cNvPr id="1561" name=""/>
            <p:cNvSpPr/>
            <p:nvPr/>
          </p:nvSpPr>
          <p:spPr>
            <a:xfrm>
              <a:off x="2057400" y="378468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Fed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Matchm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2" name="agent" descr=""/>
            <p:cNvPicPr/>
            <p:nvPr/>
          </p:nvPicPr>
          <p:blipFill>
            <a:blip r:embed="rId19"/>
            <a:stretch/>
          </p:blipFill>
          <p:spPr>
            <a:xfrm>
              <a:off x="3276360" y="3479760"/>
              <a:ext cx="31140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563" name="agent" descr=""/>
            <p:cNvPicPr/>
            <p:nvPr/>
          </p:nvPicPr>
          <p:blipFill>
            <a:blip r:embed="rId20"/>
            <a:stretch/>
          </p:blipFill>
          <p:spPr>
            <a:xfrm>
              <a:off x="4114800" y="33274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564" name="agent" descr=""/>
            <p:cNvPicPr/>
            <p:nvPr/>
          </p:nvPicPr>
          <p:blipFill>
            <a:blip r:embed="rId21"/>
            <a:stretch/>
          </p:blipFill>
          <p:spPr>
            <a:xfrm>
              <a:off x="5105160" y="3556080"/>
              <a:ext cx="31140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565" name="agent" descr=""/>
            <p:cNvPicPr/>
            <p:nvPr/>
          </p:nvPicPr>
          <p:blipFill>
            <a:blip r:embed="rId22"/>
            <a:stretch/>
          </p:blipFill>
          <p:spPr>
            <a:xfrm>
              <a:off x="4267080" y="4013280"/>
              <a:ext cx="311040" cy="31428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1566" name="agent" descr=""/>
            <p:cNvPicPr/>
            <p:nvPr/>
          </p:nvPicPr>
          <p:blipFill>
            <a:blip r:embed="rId23"/>
            <a:stretch/>
          </p:blipFill>
          <p:spPr>
            <a:xfrm>
              <a:off x="5715000" y="3251160"/>
              <a:ext cx="311040" cy="31464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grpSp>
        <p:nvGrpSpPr>
          <p:cNvPr id="1567" name=""/>
          <p:cNvGrpSpPr/>
          <p:nvPr/>
        </p:nvGrpSpPr>
        <p:grpSpPr>
          <a:xfrm>
            <a:off x="1676520" y="1447920"/>
            <a:ext cx="5790600" cy="4343400"/>
            <a:chOff x="1676520" y="1447920"/>
            <a:chExt cx="5790600" cy="4343400"/>
          </a:xfrm>
        </p:grpSpPr>
        <p:sp>
          <p:nvSpPr>
            <p:cNvPr id="1568" name=""/>
            <p:cNvSpPr/>
            <p:nvPr/>
          </p:nvSpPr>
          <p:spPr>
            <a:xfrm flipH="1" flipV="1">
              <a:off x="5943600" y="1447920"/>
              <a:ext cx="380880" cy="30456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6324120" y="1447920"/>
              <a:ext cx="381240" cy="30456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6476760" y="1447920"/>
              <a:ext cx="990360" cy="30456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5867280" y="2209680"/>
              <a:ext cx="457200" cy="83844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676520" y="3657600"/>
              <a:ext cx="15238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V="1">
              <a:off x="3657600" y="3504960"/>
              <a:ext cx="380880" cy="1522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495680" y="3505320"/>
              <a:ext cx="533520" cy="1522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657600" y="3809880"/>
              <a:ext cx="533520" cy="3049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4648320" y="3962160"/>
              <a:ext cx="533160" cy="2286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V="1">
              <a:off x="5486400" y="3657240"/>
              <a:ext cx="380880" cy="1522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495680" y="4419720"/>
              <a:ext cx="609840" cy="10666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343400" y="4419720"/>
              <a:ext cx="0" cy="11430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124080" y="5791320"/>
              <a:ext cx="83844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V="1">
              <a:off x="1676520" y="1980720"/>
              <a:ext cx="0" cy="16765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76320" y="380880"/>
            <a:ext cx="8394120" cy="6477120"/>
            <a:chOff x="76320" y="380880"/>
            <a:chExt cx="8394120" cy="6477120"/>
          </a:xfrm>
        </p:grpSpPr>
        <p:sp>
          <p:nvSpPr>
            <p:cNvPr id="1583" name=""/>
            <p:cNvSpPr/>
            <p:nvPr/>
          </p:nvSpPr>
          <p:spPr>
            <a:xfrm>
              <a:off x="76320" y="380880"/>
              <a:ext cx="4266720" cy="6477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361960" y="2514600"/>
              <a:ext cx="4266720" cy="4343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343040" y="444600"/>
              <a:ext cx="4127400" cy="205740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D40B-9B56-4580-9428-7CDCCFB6DC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Interactions AA-AM in allocating an annotation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0" y="342720"/>
            <a:ext cx="86868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4600" indent="-44460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66"/>
                </a:solidFill>
                <a:uFillTx/>
                <a:latin typeface="Arial"/>
              </a:rPr>
              <a:t>C-Net : Annotation allocation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920880" indent="-28584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Mediator &amp; Archivists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iscuss best place to archiv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920880" indent="-28584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ontract-net 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(CfP, Proposal, Accept/Reject):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88" name=""/>
          <p:cNvGrpSpPr/>
          <p:nvPr/>
        </p:nvGrpSpPr>
        <p:grpSpPr>
          <a:xfrm>
            <a:off x="939960" y="1498680"/>
            <a:ext cx="8001000" cy="4647960"/>
            <a:chOff x="939960" y="1498680"/>
            <a:chExt cx="8001000" cy="4647960"/>
          </a:xfrm>
        </p:grpSpPr>
        <p:grpSp>
          <p:nvGrpSpPr>
            <p:cNvPr id="1589" name=""/>
            <p:cNvGrpSpPr/>
            <p:nvPr/>
          </p:nvGrpSpPr>
          <p:grpSpPr>
            <a:xfrm>
              <a:off x="939960" y="1498680"/>
              <a:ext cx="8001000" cy="4647960"/>
              <a:chOff x="939960" y="1498680"/>
              <a:chExt cx="8001000" cy="4647960"/>
            </a:xfrm>
          </p:grpSpPr>
          <p:sp>
            <p:nvSpPr>
              <p:cNvPr id="1590" name=""/>
              <p:cNvSpPr/>
              <p:nvPr/>
            </p:nvSpPr>
            <p:spPr>
              <a:xfrm>
                <a:off x="939960" y="1498680"/>
                <a:ext cx="8001000" cy="464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1" name=""/>
              <p:cNvGrpSpPr/>
              <p:nvPr/>
            </p:nvGrpSpPr>
            <p:grpSpPr>
              <a:xfrm>
                <a:off x="1044720" y="2947680"/>
                <a:ext cx="7826400" cy="1404360"/>
                <a:chOff x="1044720" y="2947680"/>
                <a:chExt cx="7826400" cy="1404360"/>
              </a:xfrm>
            </p:grpSpPr>
            <p:sp>
              <p:nvSpPr>
                <p:cNvPr id="1592" name=""/>
                <p:cNvSpPr/>
                <p:nvPr/>
              </p:nvSpPr>
              <p:spPr>
                <a:xfrm>
                  <a:off x="1044720" y="2974320"/>
                  <a:ext cx="1635120" cy="358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200" spc="-1" strike="noStrike">
                      <a:solidFill>
                        <a:srgbClr val="000000"/>
                      </a:solidFill>
                      <a:latin typeface="Courier New"/>
                    </a:rPr>
                    <a:t>AMLocal</a:t>
                  </a: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: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2679840" y="3153600"/>
                  <a:ext cx="2401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5062680" y="2974320"/>
                  <a:ext cx="746280" cy="358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*: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8124840" y="2947680"/>
                  <a:ext cx="746280" cy="358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*:A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5828040" y="3153600"/>
                  <a:ext cx="2296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5062680" y="3993480"/>
                  <a:ext cx="830160" cy="358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200" spc="-1" strike="noStrike">
                      <a:solidFill>
                        <a:srgbClr val="000000"/>
                      </a:solidFill>
                      <a:latin typeface="Courier New"/>
                    </a:rPr>
                    <a:t>*:A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1725840" y="4172760"/>
                  <a:ext cx="3336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 flipV="1">
                  <a:off x="1725840" y="3332880"/>
                  <a:ext cx="0" cy="83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00" name=""/>
            <p:cNvGrpSpPr/>
            <p:nvPr/>
          </p:nvGrpSpPr>
          <p:grpSpPr>
            <a:xfrm>
              <a:off x="1725480" y="1536840"/>
              <a:ext cx="7145280" cy="4494240"/>
              <a:chOff x="1725480" y="1536840"/>
              <a:chExt cx="7145280" cy="4494240"/>
            </a:xfrm>
          </p:grpSpPr>
          <p:sp>
            <p:nvSpPr>
              <p:cNvPr id="1601" name=""/>
              <p:cNvSpPr/>
              <p:nvPr/>
            </p:nvSpPr>
            <p:spPr>
              <a:xfrm>
                <a:off x="2765160" y="3094200"/>
                <a:ext cx="93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512880" y="3035520"/>
                <a:ext cx="18756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2412720" y="2765520"/>
                <a:ext cx="1446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1:</a:t>
                </a: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cf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4" name=""/>
              <p:cNvGrpSpPr/>
              <p:nvPr/>
            </p:nvGrpSpPr>
            <p:grpSpPr>
              <a:xfrm>
                <a:off x="2180880" y="4049640"/>
                <a:ext cx="936720" cy="59040"/>
                <a:chOff x="2180880" y="4049640"/>
                <a:chExt cx="936720" cy="59040"/>
              </a:xfrm>
            </p:grpSpPr>
            <p:sp>
              <p:nvSpPr>
                <p:cNvPr id="1605" name=""/>
                <p:cNvSpPr/>
                <p:nvPr/>
              </p:nvSpPr>
              <p:spPr>
                <a:xfrm>
                  <a:off x="2180880" y="4108680"/>
                  <a:ext cx="93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2928960" y="4049640"/>
                  <a:ext cx="188280" cy="4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7" name=""/>
              <p:cNvSpPr/>
              <p:nvPr/>
            </p:nvSpPr>
            <p:spPr>
              <a:xfrm>
                <a:off x="1830240" y="3780000"/>
                <a:ext cx="144468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2:</a:t>
                </a: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cf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8" name=""/>
              <p:cNvGrpSpPr/>
              <p:nvPr/>
            </p:nvGrpSpPr>
            <p:grpSpPr>
              <a:xfrm>
                <a:off x="5924520" y="3044880"/>
                <a:ext cx="936360" cy="58680"/>
                <a:chOff x="5924520" y="3044880"/>
                <a:chExt cx="936360" cy="5868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5924520" y="3103560"/>
                  <a:ext cx="936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6672600" y="3044880"/>
                  <a:ext cx="187920" cy="4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1" name=""/>
              <p:cNvSpPr/>
              <p:nvPr/>
            </p:nvSpPr>
            <p:spPr>
              <a:xfrm>
                <a:off x="5572080" y="2801880"/>
                <a:ext cx="1446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2:</a:t>
                </a: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cf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789600" y="3214800"/>
                <a:ext cx="1995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3:propo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3" name=""/>
              <p:cNvGrpSpPr/>
              <p:nvPr/>
            </p:nvGrpSpPr>
            <p:grpSpPr>
              <a:xfrm>
                <a:off x="7103520" y="3219120"/>
                <a:ext cx="934920" cy="58680"/>
                <a:chOff x="7103520" y="3219120"/>
                <a:chExt cx="934920" cy="58680"/>
              </a:xfrm>
            </p:grpSpPr>
            <p:sp>
              <p:nvSpPr>
                <p:cNvPr id="1614" name=""/>
                <p:cNvSpPr/>
                <p:nvPr/>
              </p:nvSpPr>
              <p:spPr>
                <a:xfrm flipH="1">
                  <a:off x="7103520" y="3219120"/>
                  <a:ext cx="9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H="1" flipV="1">
                  <a:off x="7103880" y="3232800"/>
                  <a:ext cx="187920" cy="4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6" name=""/>
              <p:cNvSpPr/>
              <p:nvPr/>
            </p:nvSpPr>
            <p:spPr>
              <a:xfrm>
                <a:off x="3433680" y="4205520"/>
                <a:ext cx="185256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3:propo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7" name=""/>
              <p:cNvGrpSpPr/>
              <p:nvPr/>
            </p:nvGrpSpPr>
            <p:grpSpPr>
              <a:xfrm>
                <a:off x="3974760" y="4232160"/>
                <a:ext cx="936720" cy="60120"/>
                <a:chOff x="3974760" y="4232160"/>
                <a:chExt cx="936720" cy="60120"/>
              </a:xfrm>
            </p:grpSpPr>
            <p:sp>
              <p:nvSpPr>
                <p:cNvPr id="1618" name=""/>
                <p:cNvSpPr/>
                <p:nvPr/>
              </p:nvSpPr>
              <p:spPr>
                <a:xfrm flipH="1">
                  <a:off x="3974760" y="4232160"/>
                  <a:ext cx="93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flipH="1" flipV="1">
                  <a:off x="3975120" y="4246200"/>
                  <a:ext cx="188280" cy="46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0" name=""/>
              <p:cNvSpPr/>
              <p:nvPr/>
            </p:nvSpPr>
            <p:spPr>
              <a:xfrm flipH="1" flipV="1">
                <a:off x="3255480" y="2374560"/>
                <a:ext cx="19080" cy="42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H="1" flipV="1">
                <a:off x="3255840" y="2374920"/>
                <a:ext cx="2977920" cy="47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>
                <a:off x="3020760" y="1536480"/>
                <a:ext cx="4064040" cy="838080"/>
              </a:xfrm>
              <a:prstGeom prst="foldedCorner">
                <a:avLst>
                  <a:gd name="adj" fmla="val 1417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105000" y="1671840"/>
                <a:ext cx="4233960" cy="9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protocol fipa contract 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content &lt;RDF Annotation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language CoMMA-RD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ontology CoMMA Ontolo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447720" y="2668680"/>
                <a:ext cx="1871640" cy="64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5:accept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re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V="1">
                <a:off x="2490480" y="4892400"/>
                <a:ext cx="6380280" cy="1138320"/>
              </a:xfrm>
              <a:prstGeom prst="foldedCorner">
                <a:avLst>
                  <a:gd name="adj" fmla="val 1365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660400" y="4953240"/>
                <a:ext cx="6210360" cy="10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protocol fipa contract 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content &lt;propose bid = distance to current archive / refuse / not understood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language CoMMA-RD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ontology CoMMA Ontolo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V="1">
                <a:off x="7850160" y="3514680"/>
                <a:ext cx="0" cy="131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H="1" flipV="1">
                <a:off x="4976640" y="4532040"/>
                <a:ext cx="295920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686040" y="3210120"/>
                <a:ext cx="183996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4:propo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0" name=""/>
              <p:cNvGrpSpPr/>
              <p:nvPr/>
            </p:nvGrpSpPr>
            <p:grpSpPr>
              <a:xfrm>
                <a:off x="3955680" y="3214800"/>
                <a:ext cx="936720" cy="60480"/>
                <a:chOff x="3955680" y="3214800"/>
                <a:chExt cx="936720" cy="60480"/>
              </a:xfrm>
            </p:grpSpPr>
            <p:sp>
              <p:nvSpPr>
                <p:cNvPr id="1631" name=""/>
                <p:cNvSpPr/>
                <p:nvPr/>
              </p:nvSpPr>
              <p:spPr>
                <a:xfrm flipH="1">
                  <a:off x="3955680" y="3214800"/>
                  <a:ext cx="93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flipH="1" flipV="1">
                  <a:off x="3956040" y="3228840"/>
                  <a:ext cx="18828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3" name=""/>
              <p:cNvSpPr/>
              <p:nvPr/>
            </p:nvSpPr>
            <p:spPr>
              <a:xfrm flipH="1" flipV="1">
                <a:off x="5127120" y="3514680"/>
                <a:ext cx="2722680" cy="137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4" name=""/>
              <p:cNvGrpSpPr/>
              <p:nvPr/>
            </p:nvGrpSpPr>
            <p:grpSpPr>
              <a:xfrm>
                <a:off x="3909960" y="3035520"/>
                <a:ext cx="934920" cy="58680"/>
                <a:chOff x="3909960" y="3035520"/>
                <a:chExt cx="934920" cy="58680"/>
              </a:xfrm>
            </p:grpSpPr>
            <p:sp>
              <p:nvSpPr>
                <p:cNvPr id="1635" name=""/>
                <p:cNvSpPr/>
                <p:nvPr/>
              </p:nvSpPr>
              <p:spPr>
                <a:xfrm>
                  <a:off x="3909960" y="3094200"/>
                  <a:ext cx="9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4656600" y="3035520"/>
                  <a:ext cx="187920" cy="4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7" name=""/>
              <p:cNvSpPr/>
              <p:nvPr/>
            </p:nvSpPr>
            <p:spPr>
              <a:xfrm>
                <a:off x="2850840" y="3689280"/>
                <a:ext cx="2806920" cy="47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6:accept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re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8" name=""/>
              <p:cNvGrpSpPr/>
              <p:nvPr/>
            </p:nvGrpSpPr>
            <p:grpSpPr>
              <a:xfrm>
                <a:off x="3786120" y="4052880"/>
                <a:ext cx="934920" cy="60480"/>
                <a:chOff x="3786120" y="4052880"/>
                <a:chExt cx="934920" cy="60480"/>
              </a:xfrm>
            </p:grpSpPr>
            <p:sp>
              <p:nvSpPr>
                <p:cNvPr id="1639" name=""/>
                <p:cNvSpPr/>
                <p:nvPr/>
              </p:nvSpPr>
              <p:spPr>
                <a:xfrm>
                  <a:off x="3786120" y="4113360"/>
                  <a:ext cx="9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4532760" y="4052880"/>
                  <a:ext cx="18792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1" name=""/>
              <p:cNvSpPr/>
              <p:nvPr/>
            </p:nvSpPr>
            <p:spPr>
              <a:xfrm>
                <a:off x="6527520" y="2683080"/>
                <a:ext cx="1936800" cy="65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6:accept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6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re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2" name=""/>
              <p:cNvGrpSpPr/>
              <p:nvPr/>
            </p:nvGrpSpPr>
            <p:grpSpPr>
              <a:xfrm>
                <a:off x="7103880" y="3048120"/>
                <a:ext cx="934920" cy="60480"/>
                <a:chOff x="7103880" y="3048120"/>
                <a:chExt cx="934920" cy="60480"/>
              </a:xfrm>
            </p:grpSpPr>
            <p:sp>
              <p:nvSpPr>
                <p:cNvPr id="1643" name=""/>
                <p:cNvSpPr/>
                <p:nvPr/>
              </p:nvSpPr>
              <p:spPr>
                <a:xfrm>
                  <a:off x="7103880" y="3108600"/>
                  <a:ext cx="9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7850520" y="3048120"/>
                  <a:ext cx="18792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5" name=""/>
              <p:cNvSpPr/>
              <p:nvPr/>
            </p:nvSpPr>
            <p:spPr>
              <a:xfrm>
                <a:off x="1744560" y="4205520"/>
                <a:ext cx="17017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7:</a:t>
                </a: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6" name=""/>
              <p:cNvGrpSpPr/>
              <p:nvPr/>
            </p:nvGrpSpPr>
            <p:grpSpPr>
              <a:xfrm>
                <a:off x="2188800" y="4233600"/>
                <a:ext cx="936720" cy="58680"/>
                <a:chOff x="2188800" y="4233600"/>
                <a:chExt cx="936720" cy="58680"/>
              </a:xfrm>
            </p:grpSpPr>
            <p:sp>
              <p:nvSpPr>
                <p:cNvPr id="1647" name=""/>
                <p:cNvSpPr/>
                <p:nvPr/>
              </p:nvSpPr>
              <p:spPr>
                <a:xfrm flipH="1">
                  <a:off x="2188800" y="4233600"/>
                  <a:ext cx="93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 flipH="1" flipV="1">
                  <a:off x="2189160" y="4247280"/>
                  <a:ext cx="188280" cy="4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9" name=""/>
              <p:cNvSpPr/>
              <p:nvPr/>
            </p:nvSpPr>
            <p:spPr>
              <a:xfrm>
                <a:off x="5578200" y="3219480"/>
                <a:ext cx="17017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7:</a:t>
                </a: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0" name=""/>
              <p:cNvGrpSpPr/>
              <p:nvPr/>
            </p:nvGrpSpPr>
            <p:grpSpPr>
              <a:xfrm>
                <a:off x="5951160" y="3217680"/>
                <a:ext cx="936720" cy="60120"/>
                <a:chOff x="5951160" y="3217680"/>
                <a:chExt cx="936720" cy="60120"/>
              </a:xfrm>
            </p:grpSpPr>
            <p:sp>
              <p:nvSpPr>
                <p:cNvPr id="1651" name=""/>
                <p:cNvSpPr/>
                <p:nvPr/>
              </p:nvSpPr>
              <p:spPr>
                <a:xfrm flipH="1">
                  <a:off x="5951160" y="3217680"/>
                  <a:ext cx="93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flipH="1" flipV="1">
                  <a:off x="5951520" y="3231720"/>
                  <a:ext cx="188280" cy="46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3" name=""/>
              <p:cNvSpPr/>
              <p:nvPr/>
            </p:nvSpPr>
            <p:spPr>
              <a:xfrm>
                <a:off x="2377800" y="3214800"/>
                <a:ext cx="170172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Courier New"/>
                  </a:rPr>
                  <a:t>8:</a:t>
                </a: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4" name=""/>
              <p:cNvGrpSpPr/>
              <p:nvPr/>
            </p:nvGrpSpPr>
            <p:grpSpPr>
              <a:xfrm>
                <a:off x="2784240" y="3214800"/>
                <a:ext cx="936720" cy="60480"/>
                <a:chOff x="2784240" y="3214800"/>
                <a:chExt cx="936720" cy="60480"/>
              </a:xfrm>
            </p:grpSpPr>
            <p:sp>
              <p:nvSpPr>
                <p:cNvPr id="1655" name=""/>
                <p:cNvSpPr/>
                <p:nvPr/>
              </p:nvSpPr>
              <p:spPr>
                <a:xfrm flipH="1">
                  <a:off x="2784240" y="3214800"/>
                  <a:ext cx="93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 flipH="1" flipV="1">
                  <a:off x="2784600" y="3228840"/>
                  <a:ext cx="18828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7" name=""/>
              <p:cNvSpPr/>
              <p:nvPr/>
            </p:nvSpPr>
            <p:spPr>
              <a:xfrm>
                <a:off x="1725480" y="2195640"/>
                <a:ext cx="0" cy="71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8" name=""/>
          <p:cNvSpPr/>
          <p:nvPr/>
        </p:nvSpPr>
        <p:spPr>
          <a:xfrm>
            <a:off x="0" y="624852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 lvl="1" marL="690480" indent="-21420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Proposals are based on pseudo semantic distance over ontology sp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3276720" y="3733920"/>
            <a:ext cx="5835600" cy="2590200"/>
            <a:chOff x="3276720" y="3733920"/>
            <a:chExt cx="5835600" cy="2590200"/>
          </a:xfrm>
        </p:grpSpPr>
        <p:sp>
          <p:nvSpPr>
            <p:cNvPr id="1660" name=""/>
            <p:cNvSpPr/>
            <p:nvPr/>
          </p:nvSpPr>
          <p:spPr>
            <a:xfrm>
              <a:off x="3276720" y="3809880"/>
              <a:ext cx="5790960" cy="2514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874400" y="3962160"/>
              <a:ext cx="10630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vehi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342320" y="4800600"/>
              <a:ext cx="55404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636160" y="4800600"/>
              <a:ext cx="10630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bicy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427640" y="5638680"/>
              <a:ext cx="9928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ag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359520" y="5638680"/>
              <a:ext cx="9093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coup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6" name=""/>
            <p:cNvCxnSpPr>
              <a:stCxn id="1661" idx="2"/>
              <a:endCxn id="1662" idx="0"/>
            </p:cNvCxnSpPr>
            <p:nvPr/>
          </p:nvCxnSpPr>
          <p:spPr>
            <a:xfrm flipH="1">
              <a:off x="4619160" y="4432320"/>
              <a:ext cx="787680" cy="36864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  <p:cxnSp>
          <p:nvCxnSpPr>
            <p:cNvPr id="1667" name=""/>
            <p:cNvCxnSpPr>
              <a:stCxn id="1661" idx="2"/>
              <a:endCxn id="1663" idx="0"/>
            </p:cNvCxnSpPr>
            <p:nvPr/>
          </p:nvCxnSpPr>
          <p:spPr>
            <a:xfrm>
              <a:off x="5406840" y="4432320"/>
              <a:ext cx="762480" cy="36864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  <p:cxnSp>
          <p:nvCxnSpPr>
            <p:cNvPr id="1668" name=""/>
            <p:cNvCxnSpPr>
              <a:stCxn id="1662" idx="2"/>
              <a:endCxn id="1665" idx="0"/>
            </p:cNvCxnSpPr>
            <p:nvPr/>
          </p:nvCxnSpPr>
          <p:spPr>
            <a:xfrm flipH="1">
              <a:off x="3813840" y="5270400"/>
              <a:ext cx="805320" cy="36864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  <p:cxnSp>
          <p:nvCxnSpPr>
            <p:cNvPr id="1669" name=""/>
            <p:cNvCxnSpPr>
              <a:stCxn id="1662" idx="2"/>
              <a:endCxn id="1664" idx="0"/>
            </p:cNvCxnSpPr>
            <p:nvPr/>
          </p:nvCxnSpPr>
          <p:spPr>
            <a:xfrm>
              <a:off x="4619520" y="5270400"/>
              <a:ext cx="305280" cy="36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70" name=""/>
            <p:cNvSpPr/>
            <p:nvPr/>
          </p:nvSpPr>
          <p:spPr>
            <a:xfrm>
              <a:off x="4191480" y="386064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cc3300"/>
                  </a:solidFill>
                  <a:latin typeface="Times New Roman"/>
                </a:rPr>
                <a:t>LC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773480" y="3733920"/>
              <a:ext cx="133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oy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976720" y="4365360"/>
              <a:ext cx="313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Times New Roman"/>
                </a:rPr>
                <a:t>Distance(coupé,bicycle) =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631840" y="5638680"/>
              <a:ext cx="108000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and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4" name=""/>
            <p:cNvCxnSpPr>
              <a:stCxn id="1663" idx="2"/>
              <a:endCxn id="1673" idx="0"/>
            </p:cNvCxnSpPr>
            <p:nvPr/>
          </p:nvCxnSpPr>
          <p:spPr>
            <a:xfrm>
              <a:off x="6168960" y="5270400"/>
              <a:ext cx="3600" cy="36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1675" name=""/>
          <p:cNvGrpSpPr/>
          <p:nvPr/>
        </p:nvGrpSpPr>
        <p:grpSpPr>
          <a:xfrm>
            <a:off x="3270960" y="3733920"/>
            <a:ext cx="5841360" cy="2590560"/>
            <a:chOff x="3270960" y="3733920"/>
            <a:chExt cx="5841360" cy="2590560"/>
          </a:xfrm>
        </p:grpSpPr>
        <p:sp>
          <p:nvSpPr>
            <p:cNvPr id="1676" name=""/>
            <p:cNvSpPr/>
            <p:nvPr/>
          </p:nvSpPr>
          <p:spPr>
            <a:xfrm>
              <a:off x="3276720" y="3809880"/>
              <a:ext cx="5790960" cy="2514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071840" y="4102200"/>
              <a:ext cx="10630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ehi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539760" y="4940280"/>
              <a:ext cx="55404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c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833600" y="4940280"/>
              <a:ext cx="10630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bicy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625080" y="5778360"/>
              <a:ext cx="9928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wag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556960" y="5778360"/>
              <a:ext cx="9093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Times New Roman"/>
                </a:rPr>
                <a:t>coup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2" name=""/>
            <p:cNvCxnSpPr>
              <a:stCxn id="1677" idx="2"/>
              <a:endCxn id="1678" idx="0"/>
            </p:cNvCxnSpPr>
            <p:nvPr/>
          </p:nvCxnSpPr>
          <p:spPr>
            <a:xfrm flipH="1">
              <a:off x="6816240" y="4571640"/>
              <a:ext cx="78840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3" name=""/>
            <p:cNvCxnSpPr>
              <a:stCxn id="1677" idx="2"/>
              <a:endCxn id="1679" idx="0"/>
            </p:cNvCxnSpPr>
            <p:nvPr/>
          </p:nvCxnSpPr>
          <p:spPr>
            <a:xfrm>
              <a:off x="7604280" y="4571640"/>
              <a:ext cx="76248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4" name=""/>
            <p:cNvCxnSpPr>
              <a:stCxn id="1678" idx="2"/>
              <a:endCxn id="1681" idx="0"/>
            </p:cNvCxnSpPr>
            <p:nvPr/>
          </p:nvCxnSpPr>
          <p:spPr>
            <a:xfrm flipH="1">
              <a:off x="6011280" y="5409720"/>
              <a:ext cx="805320" cy="36900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  <p:cxnSp>
          <p:nvCxnSpPr>
            <p:cNvPr id="1685" name=""/>
            <p:cNvCxnSpPr>
              <a:stCxn id="1678" idx="2"/>
              <a:endCxn id="1680" idx="0"/>
            </p:cNvCxnSpPr>
            <p:nvPr/>
          </p:nvCxnSpPr>
          <p:spPr>
            <a:xfrm>
              <a:off x="6816240" y="5409720"/>
              <a:ext cx="30564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86" name=""/>
            <p:cNvSpPr/>
            <p:nvPr/>
          </p:nvSpPr>
          <p:spPr>
            <a:xfrm>
              <a:off x="5904720" y="483228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cc3300"/>
                  </a:solidFill>
                  <a:latin typeface="Times New Roman"/>
                </a:rPr>
                <a:t>LC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773480" y="3733920"/>
              <a:ext cx="133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oy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270960" y="5257800"/>
              <a:ext cx="30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99"/>
                  </a:solidFill>
                  <a:latin typeface="Times New Roman"/>
                </a:rPr>
                <a:t>Distance(coupé,wagon) =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829280" y="5778360"/>
              <a:ext cx="108000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and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0" name=""/>
            <p:cNvCxnSpPr>
              <a:stCxn id="1679" idx="2"/>
              <a:endCxn id="1689" idx="0"/>
            </p:cNvCxnSpPr>
            <p:nvPr/>
          </p:nvCxnSpPr>
          <p:spPr>
            <a:xfrm>
              <a:off x="8365680" y="5409720"/>
              <a:ext cx="396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3CD0-92F3-45B4-B6B4-9C785798F36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Introduction: issues and motivation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240" y="406080"/>
            <a:ext cx="9093240" cy="63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Knowledge and information management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Needs: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improve reaction time &amp; address turnover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1036800" indent="-188280">
              <a:lnSpc>
                <a:spcPct val="7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Persistent memory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store and/or index knowle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36800" indent="-188280">
              <a:lnSpc>
                <a:spcPct val="7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Nervous system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capture and diffuse knowle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O.M.: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n explicit and persistent representation and/or indexing of knowledge in an organization, in order to facilitate its access and reuse by members of the organization, for their individual and collective tasks.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Current trend: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reuse internet and web technologies to build intranets and intraweb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1036800" indent="-1882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Same advantage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standardised technology, browser unique access means, distributed architecture, 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36800" indent="-1882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 u="sng">
                <a:solidFill>
                  <a:srgbClr val="000066"/>
                </a:solidFill>
                <a:uFillTx/>
                <a:latin typeface="Arial"/>
              </a:rPr>
              <a:t>Same drawback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: human-understandable but only machine readable; problem of retrieval, automation,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Co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porate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mory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nagement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rough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A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ents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ssist new employee integra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upport technology monitoring activitie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D7D-DF87-4BF2-BA5E-547C2A78DB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Interactions AA-AM in solving a request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6320" y="330120"/>
            <a:ext cx="90676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66"/>
                </a:solidFill>
                <a:uFillTx/>
                <a:latin typeface="Arial"/>
              </a:rPr>
              <a:t>Fragmentation et distributed qu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Co-operatively solve a query (multi-stage Query-Ref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838080" y="1130400"/>
            <a:ext cx="8382240" cy="4647960"/>
            <a:chOff x="838080" y="1130400"/>
            <a:chExt cx="8382240" cy="4647960"/>
          </a:xfrm>
        </p:grpSpPr>
        <p:grpSp>
          <p:nvGrpSpPr>
            <p:cNvPr id="1694" name=""/>
            <p:cNvGrpSpPr/>
            <p:nvPr/>
          </p:nvGrpSpPr>
          <p:grpSpPr>
            <a:xfrm>
              <a:off x="838080" y="1130400"/>
              <a:ext cx="8229600" cy="4647960"/>
              <a:chOff x="838080" y="1130400"/>
              <a:chExt cx="8229600" cy="4647960"/>
            </a:xfrm>
          </p:grpSpPr>
          <p:sp>
            <p:nvSpPr>
              <p:cNvPr id="1695" name=""/>
              <p:cNvSpPr/>
              <p:nvPr/>
            </p:nvSpPr>
            <p:spPr>
              <a:xfrm>
                <a:off x="838080" y="1130400"/>
                <a:ext cx="8229600" cy="464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022640" y="1973160"/>
                <a:ext cx="1128960" cy="343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LocalAM: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7864560" y="1973160"/>
                <a:ext cx="495360" cy="343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*: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7864560" y="4152960"/>
                <a:ext cx="495360" cy="344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*:A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248000" y="4152960"/>
                <a:ext cx="552600" cy="3445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*:A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V="1">
                <a:off x="4530600" y="2316240"/>
                <a:ext cx="0" cy="18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V="1">
                <a:off x="8089920" y="2316240"/>
                <a:ext cx="0" cy="18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>
                <a:off x="5151600" y="2144880"/>
                <a:ext cx="2712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3" name=""/>
            <p:cNvGrpSpPr/>
            <p:nvPr/>
          </p:nvGrpSpPr>
          <p:grpSpPr>
            <a:xfrm>
              <a:off x="914400" y="1206360"/>
              <a:ext cx="8305920" cy="4496040"/>
              <a:chOff x="914400" y="1206360"/>
              <a:chExt cx="8305920" cy="4496040"/>
            </a:xfrm>
          </p:grpSpPr>
          <p:sp>
            <p:nvSpPr>
              <p:cNvPr id="1704" name=""/>
              <p:cNvSpPr/>
              <p:nvPr/>
            </p:nvSpPr>
            <p:spPr>
              <a:xfrm>
                <a:off x="6157800" y="2087640"/>
                <a:ext cx="621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6665760" y="2030400"/>
                <a:ext cx="12564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829480" y="1801800"/>
                <a:ext cx="1638000" cy="34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1:query-re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 flipV="1">
                <a:off x="1139400" y="1398600"/>
                <a:ext cx="1978200" cy="45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V="1">
                <a:off x="914400" y="1206000"/>
                <a:ext cx="2938320" cy="803520"/>
              </a:xfrm>
              <a:prstGeom prst="foldedCorner">
                <a:avLst>
                  <a:gd name="adj" fmla="val 9009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971640" y="1284480"/>
                <a:ext cx="327636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protocol fipa que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content &lt;RDF pattern / OBSIQ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language CoMMA-RD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ontology CoMMA Ontolo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 flipV="1">
                <a:off x="3287520" y="2030400"/>
                <a:ext cx="1298520" cy="57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 flipV="1">
                <a:off x="3852360" y="1398600"/>
                <a:ext cx="2243160" cy="442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 flipV="1">
                <a:off x="3852720" y="1398240"/>
                <a:ext cx="2167200" cy="82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829480" y="2201760"/>
                <a:ext cx="1130040" cy="34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4: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4" name=""/>
              <p:cNvGrpSpPr/>
              <p:nvPr/>
            </p:nvGrpSpPr>
            <p:grpSpPr>
              <a:xfrm>
                <a:off x="6168600" y="2201400"/>
                <a:ext cx="622440" cy="57240"/>
                <a:chOff x="6168600" y="2201400"/>
                <a:chExt cx="622440" cy="57240"/>
              </a:xfrm>
            </p:grpSpPr>
            <p:sp>
              <p:nvSpPr>
                <p:cNvPr id="1715" name=""/>
                <p:cNvSpPr/>
                <p:nvPr/>
              </p:nvSpPr>
              <p:spPr>
                <a:xfrm flipH="1">
                  <a:off x="6168600" y="2201400"/>
                  <a:ext cx="622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 flipH="1" flipV="1">
                  <a:off x="6168960" y="2214720"/>
                  <a:ext cx="124920" cy="43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7" name=""/>
              <p:cNvSpPr/>
              <p:nvPr/>
            </p:nvSpPr>
            <p:spPr>
              <a:xfrm>
                <a:off x="4530600" y="1284480"/>
                <a:ext cx="0" cy="68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8" name=""/>
              <p:cNvGrpSpPr/>
              <p:nvPr/>
            </p:nvGrpSpPr>
            <p:grpSpPr>
              <a:xfrm>
                <a:off x="4586400" y="2432520"/>
                <a:ext cx="56880" cy="642600"/>
                <a:chOff x="4586400" y="2432520"/>
                <a:chExt cx="56880" cy="642600"/>
              </a:xfrm>
            </p:grpSpPr>
            <p:sp>
              <p:nvSpPr>
                <p:cNvPr id="1719" name=""/>
                <p:cNvSpPr/>
                <p:nvPr/>
              </p:nvSpPr>
              <p:spPr>
                <a:xfrm flipV="1">
                  <a:off x="4586400" y="2444400"/>
                  <a:ext cx="0" cy="63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 flipH="1" flipV="1">
                  <a:off x="4599360" y="2432520"/>
                  <a:ext cx="43920" cy="12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1" name=""/>
              <p:cNvSpPr/>
              <p:nvPr/>
            </p:nvSpPr>
            <p:spPr>
              <a:xfrm>
                <a:off x="2892600" y="2639880"/>
                <a:ext cx="1638000" cy="34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2a:query-re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2" name=""/>
              <p:cNvGrpSpPr/>
              <p:nvPr/>
            </p:nvGrpSpPr>
            <p:grpSpPr>
              <a:xfrm>
                <a:off x="4417920" y="2432160"/>
                <a:ext cx="55800" cy="630000"/>
                <a:chOff x="4417920" y="2432160"/>
                <a:chExt cx="55800" cy="630000"/>
              </a:xfrm>
            </p:grpSpPr>
            <p:sp>
              <p:nvSpPr>
                <p:cNvPr id="1723" name=""/>
                <p:cNvSpPr/>
                <p:nvPr/>
              </p:nvSpPr>
              <p:spPr>
                <a:xfrm>
                  <a:off x="4473720" y="2432160"/>
                  <a:ext cx="0" cy="630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4417920" y="2935440"/>
                  <a:ext cx="42840" cy="12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5" name=""/>
              <p:cNvSpPr/>
              <p:nvPr/>
            </p:nvSpPr>
            <p:spPr>
              <a:xfrm>
                <a:off x="4419720" y="2546280"/>
                <a:ext cx="1242720" cy="34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3a: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6" name=""/>
              <p:cNvGrpSpPr/>
              <p:nvPr/>
            </p:nvGrpSpPr>
            <p:grpSpPr>
              <a:xfrm>
                <a:off x="8147160" y="2375280"/>
                <a:ext cx="55440" cy="642600"/>
                <a:chOff x="8147160" y="2375280"/>
                <a:chExt cx="55440" cy="642600"/>
              </a:xfrm>
            </p:grpSpPr>
            <p:sp>
              <p:nvSpPr>
                <p:cNvPr id="1727" name=""/>
                <p:cNvSpPr/>
                <p:nvPr/>
              </p:nvSpPr>
              <p:spPr>
                <a:xfrm flipV="1">
                  <a:off x="8147160" y="2387160"/>
                  <a:ext cx="0" cy="63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 flipH="1" flipV="1">
                  <a:off x="8159760" y="2375280"/>
                  <a:ext cx="42840" cy="12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9" name=""/>
              <p:cNvSpPr/>
              <p:nvPr/>
            </p:nvSpPr>
            <p:spPr>
              <a:xfrm>
                <a:off x="6451560" y="2639880"/>
                <a:ext cx="1638360" cy="34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2b:query-re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0" name=""/>
              <p:cNvGrpSpPr/>
              <p:nvPr/>
            </p:nvGrpSpPr>
            <p:grpSpPr>
              <a:xfrm>
                <a:off x="7977240" y="2374920"/>
                <a:ext cx="57240" cy="630360"/>
                <a:chOff x="7977240" y="2374920"/>
                <a:chExt cx="57240" cy="630360"/>
              </a:xfrm>
            </p:grpSpPr>
            <p:sp>
              <p:nvSpPr>
                <p:cNvPr id="1731" name=""/>
                <p:cNvSpPr/>
                <p:nvPr/>
              </p:nvSpPr>
              <p:spPr>
                <a:xfrm>
                  <a:off x="8034480" y="2374920"/>
                  <a:ext cx="0" cy="63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7977240" y="2878560"/>
                  <a:ext cx="43920" cy="12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3" name=""/>
              <p:cNvSpPr/>
              <p:nvPr/>
            </p:nvSpPr>
            <p:spPr>
              <a:xfrm>
                <a:off x="8034480" y="2546280"/>
                <a:ext cx="1185840" cy="34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3b: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 flipV="1">
                <a:off x="5151600" y="2259000"/>
                <a:ext cx="2712960" cy="206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5" name=""/>
              <p:cNvGrpSpPr/>
              <p:nvPr/>
            </p:nvGrpSpPr>
            <p:grpSpPr>
              <a:xfrm>
                <a:off x="4586400" y="3235680"/>
                <a:ext cx="56880" cy="642600"/>
                <a:chOff x="4586400" y="3235680"/>
                <a:chExt cx="56880" cy="642600"/>
              </a:xfrm>
            </p:grpSpPr>
            <p:sp>
              <p:nvSpPr>
                <p:cNvPr id="1736" name=""/>
                <p:cNvSpPr/>
                <p:nvPr/>
              </p:nvSpPr>
              <p:spPr>
                <a:xfrm flipV="1">
                  <a:off x="4586400" y="3247560"/>
                  <a:ext cx="0" cy="63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 flipH="1" flipV="1">
                  <a:off x="4599360" y="3235680"/>
                  <a:ext cx="43920" cy="12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8" name=""/>
              <p:cNvSpPr/>
              <p:nvPr/>
            </p:nvSpPr>
            <p:spPr>
              <a:xfrm>
                <a:off x="2665440" y="3292560"/>
                <a:ext cx="186516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5a,b,c,...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query-re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9" name=""/>
              <p:cNvGrpSpPr/>
              <p:nvPr/>
            </p:nvGrpSpPr>
            <p:grpSpPr>
              <a:xfrm>
                <a:off x="4417920" y="3235320"/>
                <a:ext cx="55800" cy="630360"/>
                <a:chOff x="4417920" y="3235320"/>
                <a:chExt cx="55800" cy="630360"/>
              </a:xfrm>
            </p:grpSpPr>
            <p:sp>
              <p:nvSpPr>
                <p:cNvPr id="1740" name=""/>
                <p:cNvSpPr/>
                <p:nvPr/>
              </p:nvSpPr>
              <p:spPr>
                <a:xfrm>
                  <a:off x="4473720" y="3235320"/>
                  <a:ext cx="0" cy="63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4417920" y="3738960"/>
                  <a:ext cx="42840" cy="12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2" name=""/>
              <p:cNvSpPr/>
              <p:nvPr/>
            </p:nvSpPr>
            <p:spPr>
              <a:xfrm>
                <a:off x="4530600" y="3349800"/>
                <a:ext cx="141300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5a,b,c,...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5105520" y="3568680"/>
                <a:ext cx="1863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5a,b,c,...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query-re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563520" y="3406680"/>
                <a:ext cx="622440" cy="45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H="1">
                <a:off x="7073640" y="3865680"/>
                <a:ext cx="112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846840" y="3178080"/>
                <a:ext cx="1413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5a,b,c,...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H="1">
                <a:off x="6676920" y="334980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676200" y="3349800"/>
                <a:ext cx="622440" cy="45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H="1" flipV="1">
                <a:off x="3287880" y="2030040"/>
                <a:ext cx="1185840" cy="63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H="1" flipV="1">
                <a:off x="3852360" y="1398240"/>
                <a:ext cx="4294440" cy="12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H="1" flipV="1">
                <a:off x="3886200" y="1383840"/>
                <a:ext cx="4114800" cy="129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flipH="1" flipV="1">
                <a:off x="5095440" y="5129280"/>
                <a:ext cx="1978200" cy="45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V="1">
                <a:off x="4869000" y="4898880"/>
                <a:ext cx="2938320" cy="803520"/>
              </a:xfrm>
              <a:prstGeom prst="foldedCorner">
                <a:avLst>
                  <a:gd name="adj" fmla="val 9009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925880" y="4977000"/>
                <a:ext cx="327672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protocol fipa que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content &lt;RDF pattern /result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language CoMMA-RD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200" spc="-1" strike="noStrike">
                    <a:solidFill>
                      <a:srgbClr val="000000"/>
                    </a:solidFill>
                    <a:latin typeface="Courier New"/>
                  </a:rPr>
                  <a:t>:ontology CoMMA Ontolo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7016760" y="3751200"/>
                <a:ext cx="0" cy="11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H="1">
                <a:off x="7016760" y="3751200"/>
                <a:ext cx="225360" cy="11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473720" y="3808440"/>
                <a:ext cx="1187280" cy="10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586400" y="3751200"/>
                <a:ext cx="1074600" cy="11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9" name=""/>
          <p:cNvSpPr/>
          <p:nvPr/>
        </p:nvSpPr>
        <p:spPr>
          <a:xfrm>
            <a:off x="76320" y="5867280"/>
            <a:ext cx="9067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20880" indent="-285840">
              <a:lnSpc>
                <a:spcPct val="6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Query decomposition using URIs as cut/join poi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6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Allocation of sub-query based on overlap descri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6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Ontology primitives usage statist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6C46-FF84-48A5-AD6F-24631BC2C52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Message requesting memo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-360" y="533160"/>
            <a:ext cx="8394840" cy="60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(QUERY-REF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sender  ( agent-identifi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name localUPM@fapollo:1099/JADE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receiver  (set ( agent-identifier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name AM@fapollo:1099/JADE) 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content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((all ?x (is-answer-for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      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(query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pattern "&lt;?xml version =\"1.0\"?&gt;  &lt;rdf:RDF xml:lang="en" xmlns:rdf= "http://www.w3.org/1999/02/22-rdf-syntax-ns#" xmlns:comma="http://www.inria.fr/acacia/comma#"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comma:Memo&gt;&lt;comma:Designation&gt;?&lt;/comma:Designation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/comma:Memo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/rdf:RDF&gt;" ) ?x ) ) 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reply-with  QuerylocalUPM98768310587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language  CoMMA-RDF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ontology  CoMMA-annotation-ontolog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protocol  FIPA-Que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conversation-id  QuerylocalUPM98768310587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F0A5-EA45-47C0-A795-FF447CE7201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Message : FIPA ACL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83948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(QUERY-REF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sender  ( agent-identifi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                          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name localUPM@fapollo:1099/JADE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receiver  (set ( agent-identifier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                          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name AM@fapollo:1099/JADE) 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content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((all ?x (is-answer-for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      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(query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pattern "&lt;?xml version =\"1.0\"?&gt;  &lt;rdf:RDF xml:lang="en" xmlns:rdf= "http://www.w3.org/1999/02/22-rdf-syntax-ns#" xmlns:comma="http://www.inria.fr/acacia/comma#"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comma:Memo&gt;&lt;comma:Designation&gt;?&lt;/comma:Designation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/comma:Memo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/rdf:RDF&gt;" ) ?x ) ) 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reply-with  QuerylocalUPM98768310587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language  CoMMA-RDF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ontology  CoMMA-annotation-ontolog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protocol  FIPA-Que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conversation-id  QuerylocalUPM98768310587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A04F-FEA4-4A91-A2EC-F2595C663A1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Message : CoMMA ACL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83948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(QUERY-REF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sender  ( agent-identifi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name localUPM@fapollo:1099/JADE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receiver  (set ( agent-identifier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name AM@fapollo:1099/JADE) 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content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((all ?x (is-answer-for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              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(query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:pattern "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?xml version =\"1.0\"?&gt;  &lt;rdf:RDF xml:lang="en" xmlns:rdf= "http://www.w3.org/1999/02/22-rdf-syntax-ns#" xmlns:comma="http://www.inria.fr/acacia/comma#"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comma:Memo&gt;&lt;comma:Designation&gt;?&lt;/comma:Designation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/comma:Memo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&lt;/rdf:RDF&gt;</a:t>
            </a:r>
            <a:r>
              <a:rPr b="1" sz="1800" spc="-1" strike="noStrike">
                <a:solidFill>
                  <a:srgbClr val="cc3300"/>
                </a:solidFill>
                <a:latin typeface="Arial"/>
              </a:rPr>
              <a:t>" ) ?x ) ) 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reply-with  QuerylocalUPM98768310587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language  CoMMA-RDF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ontology  CoMMA-annotation-ontolog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protocol  FIPA-Que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conversation-id  QuerylocalUPM98768310587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3BA6-FBA1-4002-893B-1B6F99E5411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Message : O'COMMA RDF(S) 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839484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(QUERY-REF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sender  ( agent-identifi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name localUPM@fapollo:1099/JADE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receiver  (set ( agent-identifier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name AM@fapollo:1099/JADE) 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content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((all ?x (is-answer-for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      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(query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pattern "</a:t>
            </a:r>
            <a:r>
              <a:rPr b="1" sz="1800" spc="-1" strike="noStrike">
                <a:solidFill>
                  <a:srgbClr val="cc0000"/>
                </a:solidFill>
                <a:latin typeface="Arial"/>
              </a:rPr>
              <a:t>&lt;?xml version =\"1.0\"?&gt;  &lt;rdf:RDF xml:lang="en" xmlns:rdf= "http://www.w3.org/1999/02/22-rdf-syntax-ns#" xmlns:comma="http://www.inria.fr/acacia/comma#"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cc0000"/>
                </a:solidFill>
                <a:latin typeface="Arial"/>
              </a:rPr>
              <a:t>&lt;comma:Memo&gt;&lt;comma:Designation&gt;?&lt;/comma:Designation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cc0000"/>
                </a:solidFill>
                <a:latin typeface="Arial"/>
              </a:rPr>
              <a:t>&lt;/comma:Memo&gt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sz="1800" spc="-1" strike="noStrike">
                <a:solidFill>
                  <a:srgbClr val="cc0000"/>
                </a:solidFill>
                <a:latin typeface="Arial"/>
              </a:rPr>
              <a:t>&lt;/rdf:RDF&gt;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"</a:t>
            </a:r>
            <a:r>
              <a:rPr b="1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) ?x ) ) 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reply-with  QuerylocalUPM98768310587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language  CoMMA-RDF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ontology  CoMMA-annotation-ontolog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protocol  FIPA-Que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sz="1800" spc="-1" strike="noStrike">
                <a:solidFill>
                  <a:srgbClr val="000066"/>
                </a:solidFill>
                <a:latin typeface="Arial"/>
              </a:rPr>
              <a:t>:conversation-id  QuerylocalUPM98768310587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F26-4C45-40B7-A22A-FC39AD02D7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Role of the ontology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12240" y="457200"/>
            <a:ext cx="90932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Ontology as a cornerstone of DAI for KM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Modelling and representation consensu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mmunication between humans (ontology as a component of the memory, annotations and model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mmunication between agents (c.f. messag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ormal structures (annotations, schemata, etc.) for inferen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Ontological consensus to build consensus above: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mputational consensus, e.g.: meas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47600" indent="-1904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-"/>
              <a:tabLst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  <a:tab algn="l" pos="75945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-operation consensus, e.g.: protoco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Vice-versa: DAI as a cornerstone for ontologies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Complementary domains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D.A.I. </a:t>
            </a:r>
            <a:r>
              <a:rPr b="0" lang="en-GB" sz="2600" spc="-1" strike="noStrike">
                <a:solidFill>
                  <a:srgbClr val="000066"/>
                </a:solidFill>
                <a:latin typeface="Symbol"/>
                <a:ea typeface="Symbol"/>
              </a:rPr>
              <a:t>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Ontolog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D.A.I. </a:t>
            </a:r>
            <a:r>
              <a:rPr b="0" lang="en-GB" sz="2600" spc="-1" strike="noStrike">
                <a:solidFill>
                  <a:srgbClr val="000066"/>
                </a:solidFill>
                <a:latin typeface="Symbol"/>
                <a:ea typeface="Symbol"/>
              </a:rPr>
              <a:t>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Semantic Web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66720" indent="-1904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Ontology </a:t>
            </a:r>
            <a:r>
              <a:rPr b="0" lang="en-GB" sz="2600" spc="-1" strike="noStrike">
                <a:solidFill>
                  <a:srgbClr val="000066"/>
                </a:solidFill>
                <a:latin typeface="Symbol"/>
                <a:ea typeface="Symbol"/>
              </a:rPr>
              <a:t></a:t>
            </a: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 Semantic Web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6817-6067-4FBE-8445-66AA3113A48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-360" y="456840"/>
            <a:ext cx="909324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Two trials and one</a:t>
            </a:r>
            <a:br>
              <a:rPr sz="3000"/>
            </a:b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open-day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Results &amp; feedback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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Ergonomics proble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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pecialization proble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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onolithic solution evaluation problem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ff3300"/>
              </a:buClr>
              <a:buFont typeface="Wingdings" charset="2"/>
              <a:buChar char="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No large-scale evaluation (groups of 4/6 users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009900"/>
              </a:buClr>
              <a:buFont typeface="Wingdings" charset="2"/>
              <a:buChar char="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Proof of concept: usability and usefulness recognize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009900"/>
              </a:buClr>
              <a:buFont typeface="Wingdings" charset="2"/>
              <a:buChar char="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Integration of results from different domain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009900"/>
              </a:buClr>
              <a:buFont typeface="Wingdings" charset="2"/>
              <a:buChar char="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evelopers appreciation of ontology-agent approac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009900"/>
              </a:buClr>
              <a:buFont typeface="Wingdings" charset="2"/>
              <a:buChar char="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Industrial interest in the development of the prototyp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On going improvements in the team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pseudo distance &amp; decomposition algorith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Web mining wrappers: semi-automatic annota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Ontology mapping: connect 2 corporate semantic web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863640" indent="-387360">
              <a:lnSpc>
                <a:spcPct val="7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Ontology reuse and integration and NLP tool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72" name="Winner" descr=""/>
          <p:cNvPicPr/>
          <p:nvPr/>
        </p:nvPicPr>
        <p:blipFill>
          <a:blip r:embed="rId1"/>
          <a:stretch/>
        </p:blipFill>
        <p:spPr>
          <a:xfrm>
            <a:off x="4495680" y="417600"/>
            <a:ext cx="4648320" cy="1563480"/>
          </a:xfrm>
          <a:prstGeom prst="rect">
            <a:avLst/>
          </a:prstGeom>
          <a:ln w="0">
            <a:noFill/>
          </a:ln>
        </p:spPr>
      </p:pic>
      <p:sp>
        <p:nvSpPr>
          <p:cNvPr id="1773" name=""/>
          <p:cNvSpPr/>
          <p:nvPr/>
        </p:nvSpPr>
        <p:spPr>
          <a:xfrm rot="19264200">
            <a:off x="5595480" y="1005840"/>
            <a:ext cx="166716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Times New Roman"/>
              </a:rPr>
              <a:t>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F550-EC1A-4681-9F58-D55A66AFEBD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Interface Agent: ontology-guided annotation submission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775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481960" cy="548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C523-765C-4C71-B049-F1CE78D7BA5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Annotation allocation: </a:t>
            </a:r>
            <a:r>
              <a:rPr b="1" lang="en-US" sz="1600" spc="-1" strike="noStrike">
                <a:solidFill>
                  <a:srgbClr val="5d6497"/>
                </a:solidFill>
                <a:latin typeface="Arial"/>
              </a:rPr>
              <a:t>contract-net</a:t>
            </a: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 based on </a:t>
            </a:r>
            <a:r>
              <a:rPr b="1" lang="en-US" sz="1600" spc="-1" strike="noStrike">
                <a:solidFill>
                  <a:srgbClr val="5d6497"/>
                </a:solidFill>
                <a:latin typeface="Arial"/>
              </a:rPr>
              <a:t>pseudo-semantic distance bids</a:t>
            </a:r>
            <a:endParaRPr b="0" lang="en-US" sz="16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777" name="" descr=""/>
          <p:cNvPicPr/>
          <p:nvPr/>
        </p:nvPicPr>
        <p:blipFill>
          <a:blip r:embed="rId1"/>
          <a:stretch/>
        </p:blipFill>
        <p:spPr>
          <a:xfrm>
            <a:off x="244440" y="457200"/>
            <a:ext cx="7680240" cy="610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E7E4-D812-4D05-9BF9-18A42EC504C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Interface Agent: Ontology-guided query on the corporate semantic web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779" name="" descr=""/>
          <p:cNvPicPr/>
          <p:nvPr/>
        </p:nvPicPr>
        <p:blipFill>
          <a:blip r:embed="rId1"/>
          <a:stretch/>
        </p:blipFill>
        <p:spPr>
          <a:xfrm>
            <a:off x="228600" y="801720"/>
            <a:ext cx="7935840" cy="55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06B1-A9FE-4AC6-8F69-35A86B92982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How ?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240" y="372960"/>
            <a:ext cx="9093240" cy="29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62800" indent="-26280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In CoMMA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13080" indent="-17496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orporate memories are </a:t>
            </a: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heterogeneous and distributed information landscape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13080" indent="-17496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takeholders are an </a:t>
            </a: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heterogeneous and distributed popula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13080" indent="-17496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Exploitation of CM involves </a:t>
            </a: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heterogeneous and distributed task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62800" indent="-26280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Choices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11360" y="3632040"/>
            <a:ext cx="8279640" cy="609840"/>
            <a:chOff x="711360" y="3632040"/>
            <a:chExt cx="8279640" cy="609840"/>
          </a:xfrm>
        </p:grpSpPr>
        <p:grpSp>
          <p:nvGrpSpPr>
            <p:cNvPr id="109" name=""/>
            <p:cNvGrpSpPr/>
            <p:nvPr/>
          </p:nvGrpSpPr>
          <p:grpSpPr>
            <a:xfrm>
              <a:off x="711360" y="3632040"/>
              <a:ext cx="8279640" cy="533520"/>
              <a:chOff x="711360" y="3632040"/>
              <a:chExt cx="8279640" cy="533520"/>
            </a:xfrm>
          </p:grpSpPr>
          <p:sp>
            <p:nvSpPr>
              <p:cNvPr id="110" name=""/>
              <p:cNvSpPr/>
              <p:nvPr/>
            </p:nvSpPr>
            <p:spPr>
              <a:xfrm>
                <a:off x="711360" y="3632040"/>
                <a:ext cx="4140720" cy="5335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52080" y="3632040"/>
                <a:ext cx="4138920" cy="53352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883800" y="3632040"/>
              <a:ext cx="3794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marL="285840" indent="-285840"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1" lang="en-US" sz="3000" spc="-1" strike="noStrike" u="sng">
                  <a:solidFill>
                    <a:srgbClr val="000066"/>
                  </a:solidFill>
                  <a:uFillTx/>
                  <a:latin typeface="Arial"/>
                </a:rPr>
                <a:t>Materialization C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80040" y="3632040"/>
              <a:ext cx="34358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marL="285840" indent="-285840"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1" lang="en-US" sz="3000" spc="-1" strike="noStrike" u="sng">
                  <a:solidFill>
                    <a:srgbClr val="000066"/>
                  </a:solidFill>
                  <a:uFillTx/>
                  <a:latin typeface="Arial"/>
                </a:rPr>
                <a:t>Exploitation CM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11360" y="4165560"/>
            <a:ext cx="8280000" cy="2056680"/>
            <a:chOff x="711360" y="4165560"/>
            <a:chExt cx="8280000" cy="2056680"/>
          </a:xfrm>
        </p:grpSpPr>
        <p:sp>
          <p:nvSpPr>
            <p:cNvPr id="115" name=""/>
            <p:cNvSpPr/>
            <p:nvPr/>
          </p:nvSpPr>
          <p:spPr>
            <a:xfrm>
              <a:off x="711360" y="4165560"/>
              <a:ext cx="4140000" cy="2056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51360" y="4165560"/>
              <a:ext cx="4140000" cy="2056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85800" y="4140360"/>
            <a:ext cx="41148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ML: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tandard, Structure, Extensible, Validate, Trans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DF: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nnotation,   Schemas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4127400"/>
            <a:ext cx="411480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ulti-Agent System: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odularity, Distributed,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chine Learning: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daptation, Emer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11360" y="6222960"/>
            <a:ext cx="8368920" cy="380880"/>
            <a:chOff x="711360" y="6222960"/>
            <a:chExt cx="8368920" cy="380880"/>
          </a:xfrm>
        </p:grpSpPr>
        <p:grpSp>
          <p:nvGrpSpPr>
            <p:cNvPr id="120" name=""/>
            <p:cNvGrpSpPr/>
            <p:nvPr/>
          </p:nvGrpSpPr>
          <p:grpSpPr>
            <a:xfrm>
              <a:off x="711360" y="6222960"/>
              <a:ext cx="8282160" cy="380880"/>
              <a:chOff x="711360" y="6222960"/>
              <a:chExt cx="8282160" cy="380880"/>
            </a:xfrm>
          </p:grpSpPr>
          <p:sp>
            <p:nvSpPr>
              <p:cNvPr id="121" name=""/>
              <p:cNvSpPr/>
              <p:nvPr/>
            </p:nvSpPr>
            <p:spPr>
              <a:xfrm>
                <a:off x="711360" y="6222960"/>
                <a:ext cx="4141440" cy="3808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852800" y="6222960"/>
                <a:ext cx="4140720" cy="3808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216080" y="6222960"/>
              <a:ext cx="3693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 algn="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orporate </a:t>
              </a: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91600" y="6222960"/>
              <a:ext cx="4288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marL="280080" indent="-280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anagement through </a:t>
              </a: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g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9E5D-EFCF-4905-8A2E-4BBF380D5E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Query solving: multi-stage query-ref based on URI cut/join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781" name="" descr=""/>
          <p:cNvPicPr/>
          <p:nvPr/>
        </p:nvPicPr>
        <p:blipFill>
          <a:blip r:embed="rId1"/>
          <a:stretch/>
        </p:blipFill>
        <p:spPr>
          <a:xfrm>
            <a:off x="152280" y="446040"/>
            <a:ext cx="7680600" cy="610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315-BBB4-45B6-A916-DF775C862EE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Presenting and documenting results with the ontology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pic>
        <p:nvPicPr>
          <p:cNvPr id="1783" name="" descr=""/>
          <p:cNvPicPr/>
          <p:nvPr/>
        </p:nvPicPr>
        <p:blipFill>
          <a:blip r:embed="rId1"/>
          <a:stretch/>
        </p:blipFill>
        <p:spPr>
          <a:xfrm>
            <a:off x="1447920" y="628560"/>
            <a:ext cx="5999040" cy="5376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735B-9EC2-4A57-A9FF-C15E68B5D66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"/>
          <p:cNvSpPr txBox="1"/>
          <p:nvPr/>
        </p:nvSpPr>
        <p:spPr>
          <a:xfrm>
            <a:off x="2209680" y="2895480"/>
            <a:ext cx="48783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505682"/>
                  </a:solidFill>
                  <a:miter/>
                </a:ln>
                <a:solidFill>
                  <a:srgbClr val="7278a8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hank you !</a:t>
            </a:r>
            <a:endParaRPr b="0" i="1" lang="en-US" sz="2400" spc="1" strike="noStrike">
              <a:ln w="9360">
                <a:solidFill>
                  <a:srgbClr val="505682"/>
                </a:solidFill>
                <a:miter/>
              </a:ln>
              <a:solidFill>
                <a:srgbClr val="7278a8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4F37-0397-4247-8E42-30925F31883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d6497"/>
                </a:solidFill>
                <a:latin typeface="Arial"/>
              </a:rPr>
              <a:t>Other aspects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240" y="393480"/>
            <a:ext cx="9093240" cy="58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This is not a presentation of...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The overall design rationale of CoMMA (see IFIP 2002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The top-down organisational function analysis and implementation of the MAS (see AT2AI 2002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The ontology design (see ISMICK 2001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The machine learning (see PKDD 2001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The semantic search engine based on conceptual graphs</a:t>
            </a:r>
            <a:br>
              <a:rPr sz="2600"/>
            </a:b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(see WWW 2002 - RDF workshop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Pseudo-semantic distance and distributed query-solving protocols (see AAMAS 2002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SzPct val="105000"/>
              <a:buFont typeface="Wingdings" charset="2"/>
              <a:buChar char="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GB" sz="3000" spc="-1" strike="noStrike">
                <a:solidFill>
                  <a:srgbClr val="000066"/>
                </a:solidFill>
                <a:latin typeface="Arial"/>
              </a:rPr>
              <a:t>This is an overview a the CoMMA solution as it was in the last trial:</a:t>
            </a:r>
            <a:endParaRPr b="1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The corporate semantic web (distributed knowledge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659880" indent="-18828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  <a:tab algn="l" pos="6934320"/>
                <a:tab algn="l" pos="7264440"/>
              </a:tabLst>
            </a:pPr>
            <a:r>
              <a:rPr b="0" lang="en-GB" sz="2600" spc="-1" strike="noStrike">
                <a:solidFill>
                  <a:srgbClr val="000066"/>
                </a:solidFill>
                <a:latin typeface="Arial"/>
              </a:rPr>
              <a:t>The multi-agent architecture (distributed AI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6AAB-0869-4CE9-8A2F-C512579A4A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Overall Schema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62120" y="1295280"/>
            <a:ext cx="7772400" cy="4380120"/>
            <a:chOff x="762120" y="1295280"/>
            <a:chExt cx="7772400" cy="4380120"/>
          </a:xfrm>
        </p:grpSpPr>
        <p:sp>
          <p:nvSpPr>
            <p:cNvPr id="129" name=""/>
            <p:cNvSpPr/>
            <p:nvPr/>
          </p:nvSpPr>
          <p:spPr>
            <a:xfrm>
              <a:off x="76212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3878280" y="1374840"/>
              <a:ext cx="1657080" cy="4181400"/>
              <a:chOff x="3878280" y="1374840"/>
              <a:chExt cx="1657080" cy="4181400"/>
            </a:xfrm>
          </p:grpSpPr>
          <p:sp>
            <p:nvSpPr>
              <p:cNvPr id="131" name=""/>
              <p:cNvSpPr/>
              <p:nvPr/>
            </p:nvSpPr>
            <p:spPr>
              <a:xfrm>
                <a:off x="387828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03704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1568520" y="2728800"/>
              <a:ext cx="6532560" cy="995400"/>
              <a:chOff x="1568520" y="2728800"/>
              <a:chExt cx="6532560" cy="995400"/>
            </a:xfrm>
          </p:grpSpPr>
          <p:sp>
            <p:nvSpPr>
              <p:cNvPr id="134" name=""/>
              <p:cNvSpPr/>
              <p:nvPr/>
            </p:nvSpPr>
            <p:spPr>
              <a:xfrm>
                <a:off x="156852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38208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43888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9084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98468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9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5752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40" name=""/>
              <p:cNvGrpSpPr/>
              <p:nvPr/>
            </p:nvGrpSpPr>
            <p:grpSpPr>
              <a:xfrm>
                <a:off x="5535720" y="3048120"/>
                <a:ext cx="908280" cy="636120"/>
                <a:chOff x="5535720" y="3048120"/>
                <a:chExt cx="908280" cy="6361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53572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42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184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143" name=""/>
              <p:cNvSpPr/>
              <p:nvPr/>
            </p:nvSpPr>
            <p:spPr>
              <a:xfrm>
                <a:off x="387864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4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89728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261648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44400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91704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8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8988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49" name=""/>
              <p:cNvGrpSpPr/>
              <p:nvPr/>
            </p:nvGrpSpPr>
            <p:grpSpPr>
              <a:xfrm>
                <a:off x="3405600" y="2860560"/>
                <a:ext cx="907920" cy="635040"/>
                <a:chOff x="3405600" y="2860560"/>
                <a:chExt cx="907920" cy="635040"/>
              </a:xfrm>
            </p:grpSpPr>
            <p:pic>
              <p:nvPicPr>
                <p:cNvPr id="150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172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340560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2" name=""/>
          <p:cNvGrpSpPr/>
          <p:nvPr/>
        </p:nvGrpSpPr>
        <p:grpSpPr>
          <a:xfrm>
            <a:off x="919080" y="3763800"/>
            <a:ext cx="1101240" cy="1552680"/>
            <a:chOff x="919080" y="3763800"/>
            <a:chExt cx="1101240" cy="1552680"/>
          </a:xfrm>
        </p:grpSpPr>
        <p:sp>
          <p:nvSpPr>
            <p:cNvPr id="153" name=""/>
            <p:cNvSpPr/>
            <p:nvPr/>
          </p:nvSpPr>
          <p:spPr>
            <a:xfrm>
              <a:off x="919080" y="471960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1590480" y="3763800"/>
              <a:ext cx="429840" cy="1181160"/>
              <a:chOff x="1590480" y="3763800"/>
              <a:chExt cx="429840" cy="118116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1590480" y="3763800"/>
                <a:ext cx="210960" cy="97920"/>
                <a:chOff x="1590480" y="3763800"/>
                <a:chExt cx="210960" cy="979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590480" y="383760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642320" y="377424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715040" y="376380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755360" y="380124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1665000" y="3833640"/>
                <a:ext cx="355320" cy="1111320"/>
                <a:chOff x="1665000" y="3833640"/>
                <a:chExt cx="355320" cy="11113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729080" y="401652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856880" y="383364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665000" y="423252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781640" y="422064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742040" y="448128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852560" y="448128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67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629720" y="382500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68" name=""/>
          <p:cNvGrpSpPr/>
          <p:nvPr/>
        </p:nvGrpSpPr>
        <p:grpSpPr>
          <a:xfrm>
            <a:off x="2222640" y="3882960"/>
            <a:ext cx="2167920" cy="677520"/>
            <a:chOff x="2222640" y="3882960"/>
            <a:chExt cx="2167920" cy="677520"/>
          </a:xfrm>
        </p:grpSpPr>
        <p:pic>
          <p:nvPicPr>
            <p:cNvPr id="169" name="" descr=""/>
            <p:cNvPicPr/>
            <p:nvPr/>
          </p:nvPicPr>
          <p:blipFill>
            <a:blip r:embed="rId7"/>
            <a:stretch/>
          </p:blipFill>
          <p:spPr>
            <a:xfrm>
              <a:off x="2222640" y="4162320"/>
              <a:ext cx="2361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8"/>
            <a:stretch/>
          </p:blipFill>
          <p:spPr>
            <a:xfrm>
              <a:off x="3524040" y="4162320"/>
              <a:ext cx="23616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"/>
            <p:cNvGrpSpPr/>
            <p:nvPr/>
          </p:nvGrpSpPr>
          <p:grpSpPr>
            <a:xfrm>
              <a:off x="2419200" y="3882960"/>
              <a:ext cx="1007640" cy="677520"/>
              <a:chOff x="2419200" y="3882960"/>
              <a:chExt cx="1007640" cy="677520"/>
            </a:xfrm>
          </p:grpSpPr>
          <p:sp>
            <p:nvSpPr>
              <p:cNvPr id="172" name=""/>
              <p:cNvSpPr/>
              <p:nvPr/>
            </p:nvSpPr>
            <p:spPr>
              <a:xfrm>
                <a:off x="2576880" y="392256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3" name="onto_01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560" y="4156200"/>
                <a:ext cx="31536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2419200" y="3882960"/>
                <a:ext cx="100764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Ontolog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5" name="onto_01" descr=""/>
            <p:cNvPicPr/>
            <p:nvPr/>
          </p:nvPicPr>
          <p:blipFill>
            <a:blip r:embed="rId10"/>
            <a:stretch/>
          </p:blipFill>
          <p:spPr>
            <a:xfrm>
              <a:off x="4076640" y="4122720"/>
              <a:ext cx="31392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2009880" y="4633920"/>
            <a:ext cx="1631880" cy="882360"/>
            <a:chOff x="2009880" y="4633920"/>
            <a:chExt cx="1631880" cy="882360"/>
          </a:xfrm>
        </p:grpSpPr>
        <p:grpSp>
          <p:nvGrpSpPr>
            <p:cNvPr id="177" name=""/>
            <p:cNvGrpSpPr/>
            <p:nvPr/>
          </p:nvGrpSpPr>
          <p:grpSpPr>
            <a:xfrm>
              <a:off x="2009880" y="4917960"/>
              <a:ext cx="1631880" cy="598320"/>
              <a:chOff x="2009880" y="4917960"/>
              <a:chExt cx="1631880" cy="598320"/>
            </a:xfrm>
          </p:grpSpPr>
          <p:sp>
            <p:nvSpPr>
              <p:cNvPr id="178" name=""/>
              <p:cNvSpPr/>
              <p:nvPr/>
            </p:nvSpPr>
            <p:spPr>
              <a:xfrm>
                <a:off x="2088720" y="4957560"/>
                <a:ext cx="1340640" cy="55872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9" name="onto_02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27960" y="5161680"/>
                <a:ext cx="2757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>
                <a:off x="2009880" y="4917960"/>
                <a:ext cx="74916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Mode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311560" y="5117400"/>
                <a:ext cx="133020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Enterprise Mode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User's Profil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2" name="" descr=""/>
            <p:cNvPicPr/>
            <p:nvPr/>
          </p:nvPicPr>
          <p:blipFill>
            <a:blip r:embed="rId12"/>
            <a:stretch/>
          </p:blipFill>
          <p:spPr>
            <a:xfrm>
              <a:off x="2813040" y="4633920"/>
              <a:ext cx="23616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"/>
          <p:cNvGrpSpPr/>
          <p:nvPr/>
        </p:nvGrpSpPr>
        <p:grpSpPr>
          <a:xfrm>
            <a:off x="3524400" y="4998960"/>
            <a:ext cx="1065240" cy="357120"/>
            <a:chOff x="3524400" y="4998960"/>
            <a:chExt cx="1065240" cy="357120"/>
          </a:xfrm>
        </p:grpSpPr>
        <p:pic>
          <p:nvPicPr>
            <p:cNvPr id="184" name="" descr=""/>
            <p:cNvPicPr/>
            <p:nvPr/>
          </p:nvPicPr>
          <p:blipFill>
            <a:blip r:embed="rId13"/>
            <a:stretch/>
          </p:blipFill>
          <p:spPr>
            <a:xfrm>
              <a:off x="3524400" y="507852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onto_02" descr=""/>
            <p:cNvPicPr/>
            <p:nvPr/>
          </p:nvPicPr>
          <p:blipFill>
            <a:blip r:embed="rId14"/>
            <a:stretch/>
          </p:blipFill>
          <p:spPr>
            <a:xfrm>
              <a:off x="4233960" y="499896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"/>
          <p:cNvSpPr txBox="1"/>
          <p:nvPr/>
        </p:nvSpPr>
        <p:spPr>
          <a:xfrm>
            <a:off x="2103480" y="464040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143080" y="3605040"/>
            <a:ext cx="1971720" cy="1273320"/>
            <a:chOff x="2143080" y="3605040"/>
            <a:chExt cx="1971720" cy="1273320"/>
          </a:xfrm>
        </p:grpSpPr>
        <p:sp>
          <p:nvSpPr>
            <p:cNvPr id="188" name=""/>
            <p:cNvSpPr/>
            <p:nvPr/>
          </p:nvSpPr>
          <p:spPr>
            <a:xfrm>
              <a:off x="3444840" y="360504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2143080" y="360504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87520" y="368460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0938-5764-44D5-9207-B1D731A19C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Overall Schema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62120" y="1295280"/>
            <a:ext cx="7772400" cy="4380120"/>
            <a:chOff x="762120" y="1295280"/>
            <a:chExt cx="7772400" cy="4380120"/>
          </a:xfrm>
        </p:grpSpPr>
        <p:sp>
          <p:nvSpPr>
            <p:cNvPr id="193" name=""/>
            <p:cNvSpPr/>
            <p:nvPr/>
          </p:nvSpPr>
          <p:spPr>
            <a:xfrm>
              <a:off x="76212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878280" y="1374840"/>
              <a:ext cx="1657080" cy="4181400"/>
              <a:chOff x="3878280" y="1374840"/>
              <a:chExt cx="1657080" cy="4181400"/>
            </a:xfrm>
          </p:grpSpPr>
          <p:sp>
            <p:nvSpPr>
              <p:cNvPr id="195" name=""/>
              <p:cNvSpPr/>
              <p:nvPr/>
            </p:nvSpPr>
            <p:spPr>
              <a:xfrm>
                <a:off x="387828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03704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1568520" y="2728800"/>
              <a:ext cx="6532560" cy="995400"/>
              <a:chOff x="1568520" y="2728800"/>
              <a:chExt cx="6532560" cy="995400"/>
            </a:xfrm>
          </p:grpSpPr>
          <p:sp>
            <p:nvSpPr>
              <p:cNvPr id="198" name=""/>
              <p:cNvSpPr/>
              <p:nvPr/>
            </p:nvSpPr>
            <p:spPr>
              <a:xfrm>
                <a:off x="156852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38208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43888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59084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8468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3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5752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04" name=""/>
              <p:cNvGrpSpPr/>
              <p:nvPr/>
            </p:nvGrpSpPr>
            <p:grpSpPr>
              <a:xfrm>
                <a:off x="5535720" y="3048120"/>
                <a:ext cx="908280" cy="636120"/>
                <a:chOff x="5535720" y="3048120"/>
                <a:chExt cx="908280" cy="6361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53572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6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184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207" name=""/>
              <p:cNvSpPr/>
              <p:nvPr/>
            </p:nvSpPr>
            <p:spPr>
              <a:xfrm>
                <a:off x="387864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8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89728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261648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44400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91704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12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8988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13" name=""/>
              <p:cNvGrpSpPr/>
              <p:nvPr/>
            </p:nvGrpSpPr>
            <p:grpSpPr>
              <a:xfrm>
                <a:off x="3405600" y="2860560"/>
                <a:ext cx="907920" cy="635040"/>
                <a:chOff x="3405600" y="2860560"/>
                <a:chExt cx="907920" cy="635040"/>
              </a:xfrm>
            </p:grpSpPr>
            <p:pic>
              <p:nvPicPr>
                <p:cNvPr id="214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172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215" name=""/>
                <p:cNvSpPr/>
                <p:nvPr/>
              </p:nvSpPr>
              <p:spPr>
                <a:xfrm>
                  <a:off x="340560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6" name=""/>
          <p:cNvGrpSpPr/>
          <p:nvPr/>
        </p:nvGrpSpPr>
        <p:grpSpPr>
          <a:xfrm>
            <a:off x="841320" y="1374840"/>
            <a:ext cx="1774800" cy="1433520"/>
            <a:chOff x="841320" y="1374840"/>
            <a:chExt cx="1774800" cy="1433520"/>
          </a:xfrm>
        </p:grpSpPr>
        <p:sp>
          <p:nvSpPr>
            <p:cNvPr id="217" name=""/>
            <p:cNvSpPr/>
            <p:nvPr/>
          </p:nvSpPr>
          <p:spPr>
            <a:xfrm>
              <a:off x="841320" y="244944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thor and/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notator of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1393560" y="1374840"/>
              <a:ext cx="789120" cy="1231920"/>
              <a:chOff x="1393560" y="1374840"/>
              <a:chExt cx="789120" cy="123192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1668960" y="1822680"/>
                <a:ext cx="477360" cy="784080"/>
                <a:chOff x="1668960" y="1822680"/>
                <a:chExt cx="477360" cy="7840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878120" y="208332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921320" y="232992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753560" y="231624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668960" y="208404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989000" y="182268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834200" y="186624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1679760" y="1374840"/>
                <a:ext cx="236520" cy="239040"/>
                <a:chOff x="1679760" y="1374840"/>
                <a:chExt cx="236520" cy="23904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679760" y="137484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28" name="doc_0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706760" y="139644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229" name=""/>
              <p:cNvGrpSpPr/>
              <p:nvPr/>
            </p:nvGrpSpPr>
            <p:grpSpPr>
              <a:xfrm>
                <a:off x="1393560" y="1498320"/>
                <a:ext cx="255240" cy="278640"/>
                <a:chOff x="1393560" y="1498320"/>
                <a:chExt cx="255240" cy="27864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1393560" y="149832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1" name="doc_0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01840" y="151704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2" name=""/>
              <p:cNvGrpSpPr/>
              <p:nvPr/>
            </p:nvGrpSpPr>
            <p:grpSpPr>
              <a:xfrm>
                <a:off x="1551240" y="1817280"/>
                <a:ext cx="204120" cy="245160"/>
                <a:chOff x="1551240" y="1817280"/>
                <a:chExt cx="204120" cy="24516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1551240" y="181728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4" name="doc_0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71760" y="183384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5" name=""/>
              <p:cNvGrpSpPr/>
              <p:nvPr/>
            </p:nvGrpSpPr>
            <p:grpSpPr>
              <a:xfrm>
                <a:off x="1945800" y="1538280"/>
                <a:ext cx="236880" cy="278640"/>
                <a:chOff x="1945800" y="1538280"/>
                <a:chExt cx="236880" cy="2786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945800" y="153828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7" name="doc_05gif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951200" y="157176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38" name=""/>
          <p:cNvGrpSpPr/>
          <p:nvPr/>
        </p:nvGrpSpPr>
        <p:grpSpPr>
          <a:xfrm>
            <a:off x="2182680" y="1785960"/>
            <a:ext cx="1617840" cy="903240"/>
            <a:chOff x="2182680" y="1785960"/>
            <a:chExt cx="1617840" cy="903240"/>
          </a:xfrm>
        </p:grpSpPr>
        <p:pic>
          <p:nvPicPr>
            <p:cNvPr id="239" name="" descr=""/>
            <p:cNvPicPr/>
            <p:nvPr/>
          </p:nvPicPr>
          <p:blipFill>
            <a:blip r:embed="rId10"/>
            <a:stretch/>
          </p:blipFill>
          <p:spPr>
            <a:xfrm>
              <a:off x="2182680" y="226224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"/>
            <p:cNvGrpSpPr/>
            <p:nvPr/>
          </p:nvGrpSpPr>
          <p:grpSpPr>
            <a:xfrm>
              <a:off x="2458800" y="1785960"/>
              <a:ext cx="1025640" cy="903240"/>
              <a:chOff x="2458800" y="1785960"/>
              <a:chExt cx="1025640" cy="903240"/>
            </a:xfrm>
          </p:grpSpPr>
          <p:sp>
            <p:nvSpPr>
              <p:cNvPr id="241" name=""/>
              <p:cNvSpPr/>
              <p:nvPr/>
            </p:nvSpPr>
            <p:spPr>
              <a:xfrm>
                <a:off x="2458800" y="2052000"/>
                <a:ext cx="102564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58800" y="1785960"/>
                <a:ext cx="102564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476440" y="2054880"/>
                <a:ext cx="10076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853000" y="228744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35480" y="181656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6" name="" descr=""/>
            <p:cNvPicPr/>
            <p:nvPr/>
          </p:nvPicPr>
          <p:blipFill>
            <a:blip r:embed="rId13"/>
            <a:stretch/>
          </p:blipFill>
          <p:spPr>
            <a:xfrm>
              <a:off x="3563640" y="2251080"/>
              <a:ext cx="23688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"/>
          <p:cNvGrpSpPr/>
          <p:nvPr/>
        </p:nvGrpSpPr>
        <p:grpSpPr>
          <a:xfrm>
            <a:off x="3933720" y="1697040"/>
            <a:ext cx="1376280" cy="3565440"/>
            <a:chOff x="3933720" y="1697040"/>
            <a:chExt cx="1376280" cy="3565440"/>
          </a:xfrm>
        </p:grpSpPr>
        <p:pic>
          <p:nvPicPr>
            <p:cNvPr id="248" name="doc_01" descr=""/>
            <p:cNvPicPr/>
            <p:nvPr/>
          </p:nvPicPr>
          <p:blipFill>
            <a:blip r:embed="rId14"/>
            <a:stretch/>
          </p:blipFill>
          <p:spPr>
            <a:xfrm>
              <a:off x="4894200" y="2311200"/>
              <a:ext cx="22644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doc_01" descr=""/>
            <p:cNvPicPr/>
            <p:nvPr/>
          </p:nvPicPr>
          <p:blipFill>
            <a:blip r:embed="rId15"/>
            <a:stretch/>
          </p:blipFill>
          <p:spPr>
            <a:xfrm>
              <a:off x="4852080" y="223200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memory_01" descr=""/>
            <p:cNvPicPr/>
            <p:nvPr/>
          </p:nvPicPr>
          <p:blipFill>
            <a:blip r:embed="rId16"/>
            <a:stretch/>
          </p:blipFill>
          <p:spPr>
            <a:xfrm>
              <a:off x="3933720" y="1697040"/>
              <a:ext cx="35100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doc_03" descr=""/>
            <p:cNvPicPr/>
            <p:nvPr/>
          </p:nvPicPr>
          <p:blipFill>
            <a:blip r:embed="rId17"/>
            <a:stretch/>
          </p:blipFill>
          <p:spPr>
            <a:xfrm>
              <a:off x="4100040" y="4467240"/>
              <a:ext cx="41796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252" name="doc_04" descr=""/>
            <p:cNvPicPr/>
            <p:nvPr/>
          </p:nvPicPr>
          <p:blipFill>
            <a:blip r:embed="rId18"/>
            <a:stretch/>
          </p:blipFill>
          <p:spPr>
            <a:xfrm>
              <a:off x="4017600" y="2192400"/>
              <a:ext cx="2919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doc_05gif" descr=""/>
            <p:cNvPicPr/>
            <p:nvPr/>
          </p:nvPicPr>
          <p:blipFill>
            <a:blip r:embed="rId19"/>
            <a:stretch/>
          </p:blipFill>
          <p:spPr>
            <a:xfrm>
              <a:off x="4726080" y="4386240"/>
              <a:ext cx="321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20"/>
            <a:stretch/>
          </p:blipFill>
          <p:spPr>
            <a:xfrm>
              <a:off x="4644000" y="3824280"/>
              <a:ext cx="4345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21"/>
            <a:stretch/>
          </p:blipFill>
          <p:spPr>
            <a:xfrm>
              <a:off x="4459320" y="1736640"/>
              <a:ext cx="3502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doc_01" descr=""/>
            <p:cNvPicPr/>
            <p:nvPr/>
          </p:nvPicPr>
          <p:blipFill>
            <a:blip r:embed="rId22"/>
            <a:stretch/>
          </p:blipFill>
          <p:spPr>
            <a:xfrm>
              <a:off x="4935960" y="235116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23"/>
            <a:stretch/>
          </p:blipFill>
          <p:spPr>
            <a:xfrm>
              <a:off x="4976280" y="4944960"/>
              <a:ext cx="333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24"/>
            <a:stretch/>
          </p:blipFill>
          <p:spPr>
            <a:xfrm>
              <a:off x="4434120" y="2351160"/>
              <a:ext cx="3524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25"/>
            <a:stretch/>
          </p:blipFill>
          <p:spPr>
            <a:xfrm>
              <a:off x="4976280" y="1793880"/>
              <a:ext cx="333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"/>
          <p:cNvSpPr txBox="1"/>
          <p:nvPr/>
        </p:nvSpPr>
        <p:spPr>
          <a:xfrm>
            <a:off x="2773440" y="1494000"/>
            <a:ext cx="237960" cy="1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708200" y="2610000"/>
            <a:ext cx="947160" cy="396720"/>
            <a:chOff x="1708200" y="2610000"/>
            <a:chExt cx="947160" cy="396720"/>
          </a:xfrm>
        </p:grpSpPr>
        <p:sp>
          <p:nvSpPr>
            <p:cNvPr id="262" name=""/>
            <p:cNvSpPr/>
            <p:nvPr/>
          </p:nvSpPr>
          <p:spPr>
            <a:xfrm>
              <a:off x="1708200" y="271476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023560" y="261000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4" name="onto_01" descr=""/>
          <p:cNvPicPr/>
          <p:nvPr/>
        </p:nvPicPr>
        <p:blipFill>
          <a:blip r:embed="rId26"/>
          <a:stretch/>
        </p:blipFill>
        <p:spPr>
          <a:xfrm>
            <a:off x="4076640" y="4122720"/>
            <a:ext cx="314280" cy="317520"/>
          </a:xfrm>
          <a:prstGeom prst="rect">
            <a:avLst/>
          </a:prstGeom>
          <a:ln w="0">
            <a:noFill/>
          </a:ln>
        </p:spPr>
      </p:pic>
      <p:pic>
        <p:nvPicPr>
          <p:cNvPr id="265" name="onto_02" descr=""/>
          <p:cNvPicPr/>
          <p:nvPr/>
        </p:nvPicPr>
        <p:blipFill>
          <a:blip r:embed="rId27"/>
          <a:stretch/>
        </p:blipFill>
        <p:spPr>
          <a:xfrm>
            <a:off x="4233960" y="4998960"/>
            <a:ext cx="355680" cy="35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7758-4D49-46AF-8B72-3DBECFD518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Overall Schema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62120" y="1295280"/>
            <a:ext cx="7772400" cy="4380120"/>
            <a:chOff x="762120" y="1295280"/>
            <a:chExt cx="7772400" cy="4380120"/>
          </a:xfrm>
        </p:grpSpPr>
        <p:sp>
          <p:nvSpPr>
            <p:cNvPr id="268" name=""/>
            <p:cNvSpPr/>
            <p:nvPr/>
          </p:nvSpPr>
          <p:spPr>
            <a:xfrm>
              <a:off x="76212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878280" y="1374840"/>
              <a:ext cx="1657080" cy="4181400"/>
              <a:chOff x="3878280" y="1374840"/>
              <a:chExt cx="1657080" cy="4181400"/>
            </a:xfrm>
          </p:grpSpPr>
          <p:sp>
            <p:nvSpPr>
              <p:cNvPr id="270" name=""/>
              <p:cNvSpPr/>
              <p:nvPr/>
            </p:nvSpPr>
            <p:spPr>
              <a:xfrm>
                <a:off x="387828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3704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1568520" y="2728800"/>
              <a:ext cx="6532560" cy="995400"/>
              <a:chOff x="1568520" y="2728800"/>
              <a:chExt cx="6532560" cy="995400"/>
            </a:xfrm>
          </p:grpSpPr>
          <p:sp>
            <p:nvSpPr>
              <p:cNvPr id="273" name=""/>
              <p:cNvSpPr/>
              <p:nvPr/>
            </p:nvSpPr>
            <p:spPr>
              <a:xfrm>
                <a:off x="156852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8208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43888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59084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8468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78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5752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79" name=""/>
              <p:cNvGrpSpPr/>
              <p:nvPr/>
            </p:nvGrpSpPr>
            <p:grpSpPr>
              <a:xfrm>
                <a:off x="5535720" y="3048120"/>
                <a:ext cx="908280" cy="636120"/>
                <a:chOff x="5535720" y="3048120"/>
                <a:chExt cx="908280" cy="6361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53572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81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184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282" name=""/>
              <p:cNvSpPr/>
              <p:nvPr/>
            </p:nvSpPr>
            <p:spPr>
              <a:xfrm>
                <a:off x="387864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3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89728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284" name=""/>
              <p:cNvSpPr/>
              <p:nvPr/>
            </p:nvSpPr>
            <p:spPr>
              <a:xfrm>
                <a:off x="261648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4400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91704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7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8988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288" name=""/>
              <p:cNvGrpSpPr/>
              <p:nvPr/>
            </p:nvGrpSpPr>
            <p:grpSpPr>
              <a:xfrm>
                <a:off x="3405600" y="2860560"/>
                <a:ext cx="907920" cy="635040"/>
                <a:chOff x="3405600" y="2860560"/>
                <a:chExt cx="907920" cy="635040"/>
              </a:xfrm>
            </p:grpSpPr>
            <p:pic>
              <p:nvPicPr>
                <p:cNvPr id="289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172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290" name=""/>
                <p:cNvSpPr/>
                <p:nvPr/>
              </p:nvSpPr>
              <p:spPr>
                <a:xfrm>
                  <a:off x="340560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1" name=""/>
          <p:cNvGrpSpPr/>
          <p:nvPr/>
        </p:nvGrpSpPr>
        <p:grpSpPr>
          <a:xfrm>
            <a:off x="7113600" y="4521240"/>
            <a:ext cx="1106280" cy="1193760"/>
            <a:chOff x="7113600" y="4521240"/>
            <a:chExt cx="1106280" cy="1193760"/>
          </a:xfrm>
        </p:grpSpPr>
        <p:sp>
          <p:nvSpPr>
            <p:cNvPr id="292" name=""/>
            <p:cNvSpPr/>
            <p:nvPr/>
          </p:nvSpPr>
          <p:spPr>
            <a:xfrm>
              <a:off x="7113600" y="546732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d 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7272000" y="4600440"/>
              <a:ext cx="430200" cy="903600"/>
              <a:chOff x="7272000" y="4600440"/>
              <a:chExt cx="430200" cy="903600"/>
            </a:xfrm>
          </p:grpSpPr>
          <p:sp>
            <p:nvSpPr>
              <p:cNvPr id="294" name=""/>
              <p:cNvSpPr/>
              <p:nvPr/>
            </p:nvSpPr>
            <p:spPr>
              <a:xfrm flipH="1">
                <a:off x="7396560" y="465084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7507800" y="460044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7418160" y="486252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7317000" y="487080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7271640" y="512928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7451640" y="512856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7705440" y="4521240"/>
              <a:ext cx="473400" cy="396720"/>
              <a:chOff x="7705440" y="4521240"/>
              <a:chExt cx="473400" cy="396720"/>
            </a:xfrm>
          </p:grpSpPr>
          <p:sp>
            <p:nvSpPr>
              <p:cNvPr id="301" name=""/>
              <p:cNvSpPr/>
              <p:nvPr/>
            </p:nvSpPr>
            <p:spPr>
              <a:xfrm>
                <a:off x="7705440" y="452124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02" name="inter" descr=""/>
              <p:cNvPicPr/>
              <p:nvPr/>
            </p:nvPicPr>
            <p:blipFill>
              <a:blip r:embed="rId6"/>
              <a:stretch/>
            </p:blipFill>
            <p:spPr>
              <a:xfrm>
                <a:off x="7821720" y="45914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03" name=""/>
          <p:cNvGrpSpPr/>
          <p:nvPr/>
        </p:nvGrpSpPr>
        <p:grpSpPr>
          <a:xfrm>
            <a:off x="5456160" y="4560840"/>
            <a:ext cx="1697040" cy="995400"/>
            <a:chOff x="5456160" y="4560840"/>
            <a:chExt cx="1697040" cy="995400"/>
          </a:xfrm>
        </p:grpSpPr>
        <p:pic>
          <p:nvPicPr>
            <p:cNvPr id="304" name="" descr=""/>
            <p:cNvPicPr/>
            <p:nvPr/>
          </p:nvPicPr>
          <p:blipFill>
            <a:blip r:embed="rId7"/>
            <a:stretch/>
          </p:blipFill>
          <p:spPr>
            <a:xfrm>
              <a:off x="5456160" y="503856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8"/>
            <a:stretch/>
          </p:blipFill>
          <p:spPr>
            <a:xfrm>
              <a:off x="6916680" y="503856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6" name=""/>
            <p:cNvGrpSpPr/>
            <p:nvPr/>
          </p:nvGrpSpPr>
          <p:grpSpPr>
            <a:xfrm>
              <a:off x="5732280" y="4560840"/>
              <a:ext cx="1104840" cy="995400"/>
              <a:chOff x="5732280" y="4560840"/>
              <a:chExt cx="1104840" cy="9954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5732280" y="4560840"/>
                <a:ext cx="1026000" cy="902880"/>
                <a:chOff x="5732280" y="4560840"/>
                <a:chExt cx="1026000" cy="9028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732280" y="482688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732280" y="45608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749920" y="482940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1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126840" y="50623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808960" y="4591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3" name=""/>
              <p:cNvGrpSpPr/>
              <p:nvPr/>
            </p:nvGrpSpPr>
            <p:grpSpPr>
              <a:xfrm>
                <a:off x="5771520" y="4600440"/>
                <a:ext cx="1026000" cy="903240"/>
                <a:chOff x="5771520" y="4600440"/>
                <a:chExt cx="1026000" cy="90324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5771520" y="486648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771520" y="46004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789160" y="486936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1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66080" y="51019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848200" y="46310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9" name=""/>
              <p:cNvGrpSpPr/>
              <p:nvPr/>
            </p:nvGrpSpPr>
            <p:grpSpPr>
              <a:xfrm>
                <a:off x="5811120" y="4653000"/>
                <a:ext cx="1026000" cy="903240"/>
                <a:chOff x="5811120" y="4653000"/>
                <a:chExt cx="1026000" cy="90324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5811120" y="491904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811120" y="465300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828760" y="49219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205680" y="515448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5887800" y="468360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325" name="onto_01" descr=""/>
          <p:cNvPicPr/>
          <p:nvPr/>
        </p:nvPicPr>
        <p:blipFill>
          <a:blip r:embed="rId15"/>
          <a:stretch/>
        </p:blipFill>
        <p:spPr>
          <a:xfrm>
            <a:off x="4076640" y="4122720"/>
            <a:ext cx="314280" cy="317520"/>
          </a:xfrm>
          <a:prstGeom prst="rect">
            <a:avLst/>
          </a:prstGeom>
          <a:ln w="0">
            <a:noFill/>
          </a:ln>
        </p:spPr>
      </p:pic>
      <p:pic>
        <p:nvPicPr>
          <p:cNvPr id="326" name="onto_02" descr=""/>
          <p:cNvPicPr/>
          <p:nvPr/>
        </p:nvPicPr>
        <p:blipFill>
          <a:blip r:embed="rId16"/>
          <a:stretch/>
        </p:blipFill>
        <p:spPr>
          <a:xfrm>
            <a:off x="4233960" y="4998960"/>
            <a:ext cx="355680" cy="35712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7192800" y="3787920"/>
            <a:ext cx="631800" cy="772920"/>
            <a:chOff x="7192800" y="3787920"/>
            <a:chExt cx="631800" cy="772920"/>
          </a:xfrm>
        </p:grpSpPr>
        <p:pic>
          <p:nvPicPr>
            <p:cNvPr id="328" name="" descr=""/>
            <p:cNvPicPr/>
            <p:nvPr/>
          </p:nvPicPr>
          <p:blipFill>
            <a:blip r:embed="rId17"/>
            <a:stretch/>
          </p:blipFill>
          <p:spPr>
            <a:xfrm>
              <a:off x="7389720" y="432108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9" name=""/>
            <p:cNvGrpSpPr/>
            <p:nvPr/>
          </p:nvGrpSpPr>
          <p:grpSpPr>
            <a:xfrm>
              <a:off x="7192800" y="3787920"/>
              <a:ext cx="631800" cy="490320"/>
              <a:chOff x="7192800" y="3787920"/>
              <a:chExt cx="631800" cy="490320"/>
            </a:xfrm>
          </p:grpSpPr>
          <p:sp>
            <p:nvSpPr>
              <p:cNvPr id="330" name=""/>
              <p:cNvSpPr/>
              <p:nvPr/>
            </p:nvSpPr>
            <p:spPr>
              <a:xfrm>
                <a:off x="7232040" y="384012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192800" y="378792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Query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3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429680" y="402120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33" name="doc_01" descr=""/>
          <p:cNvPicPr/>
          <p:nvPr/>
        </p:nvPicPr>
        <p:blipFill>
          <a:blip r:embed="rId19"/>
          <a:stretch/>
        </p:blipFill>
        <p:spPr>
          <a:xfrm>
            <a:off x="4894200" y="2311560"/>
            <a:ext cx="227160" cy="279360"/>
          </a:xfrm>
          <a:prstGeom prst="rect">
            <a:avLst/>
          </a:prstGeom>
          <a:ln w="0">
            <a:noFill/>
          </a:ln>
        </p:spPr>
      </p:pic>
      <p:pic>
        <p:nvPicPr>
          <p:cNvPr id="334" name="doc_01" descr=""/>
          <p:cNvPicPr/>
          <p:nvPr/>
        </p:nvPicPr>
        <p:blipFill>
          <a:blip r:embed="rId20"/>
          <a:stretch/>
        </p:blipFill>
        <p:spPr>
          <a:xfrm>
            <a:off x="4851360" y="2232000"/>
            <a:ext cx="227160" cy="279360"/>
          </a:xfrm>
          <a:prstGeom prst="rect">
            <a:avLst/>
          </a:prstGeom>
          <a:ln w="0">
            <a:noFill/>
          </a:ln>
        </p:spPr>
      </p:pic>
      <p:pic>
        <p:nvPicPr>
          <p:cNvPr id="335" name="memory_01" descr=""/>
          <p:cNvPicPr/>
          <p:nvPr/>
        </p:nvPicPr>
        <p:blipFill>
          <a:blip r:embed="rId21"/>
          <a:stretch/>
        </p:blipFill>
        <p:spPr>
          <a:xfrm>
            <a:off x="3933720" y="1697040"/>
            <a:ext cx="351000" cy="336600"/>
          </a:xfrm>
          <a:prstGeom prst="rect">
            <a:avLst/>
          </a:prstGeom>
          <a:ln w="0">
            <a:noFill/>
          </a:ln>
        </p:spPr>
      </p:pic>
      <p:pic>
        <p:nvPicPr>
          <p:cNvPr id="336" name="doc_03" descr=""/>
          <p:cNvPicPr/>
          <p:nvPr/>
        </p:nvPicPr>
        <p:blipFill>
          <a:blip r:embed="rId22"/>
          <a:stretch/>
        </p:blipFill>
        <p:spPr>
          <a:xfrm>
            <a:off x="4100400" y="4467240"/>
            <a:ext cx="417600" cy="39672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337" name="doc_04" descr=""/>
          <p:cNvPicPr/>
          <p:nvPr/>
        </p:nvPicPr>
        <p:blipFill>
          <a:blip r:embed="rId23"/>
          <a:stretch/>
        </p:blipFill>
        <p:spPr>
          <a:xfrm>
            <a:off x="4017960" y="2192400"/>
            <a:ext cx="291960" cy="277920"/>
          </a:xfrm>
          <a:prstGeom prst="rect">
            <a:avLst/>
          </a:prstGeom>
          <a:ln w="0">
            <a:noFill/>
          </a:ln>
        </p:spPr>
      </p:pic>
      <p:pic>
        <p:nvPicPr>
          <p:cNvPr id="338" name="doc_05gif" descr=""/>
          <p:cNvPicPr/>
          <p:nvPr/>
        </p:nvPicPr>
        <p:blipFill>
          <a:blip r:embed="rId24"/>
          <a:stretch/>
        </p:blipFill>
        <p:spPr>
          <a:xfrm>
            <a:off x="4726080" y="4386240"/>
            <a:ext cx="322200" cy="2919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5"/>
          <a:stretch/>
        </p:blipFill>
        <p:spPr>
          <a:xfrm>
            <a:off x="4643280" y="3824280"/>
            <a:ext cx="435240" cy="4158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6"/>
          <a:stretch/>
        </p:blipFill>
        <p:spPr>
          <a:xfrm>
            <a:off x="4459320" y="1736640"/>
            <a:ext cx="350640" cy="336600"/>
          </a:xfrm>
          <a:prstGeom prst="rect">
            <a:avLst/>
          </a:prstGeom>
          <a:ln w="0">
            <a:noFill/>
          </a:ln>
        </p:spPr>
      </p:pic>
      <p:pic>
        <p:nvPicPr>
          <p:cNvPr id="341" name="doc_01" descr=""/>
          <p:cNvPicPr/>
          <p:nvPr/>
        </p:nvPicPr>
        <p:blipFill>
          <a:blip r:embed="rId27"/>
          <a:stretch/>
        </p:blipFill>
        <p:spPr>
          <a:xfrm>
            <a:off x="4935600" y="2351160"/>
            <a:ext cx="226800" cy="279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8"/>
          <a:stretch/>
        </p:blipFill>
        <p:spPr>
          <a:xfrm>
            <a:off x="4976640" y="4944960"/>
            <a:ext cx="333720" cy="3175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9"/>
          <a:stretch/>
        </p:blipFill>
        <p:spPr>
          <a:xfrm>
            <a:off x="4433760" y="2351160"/>
            <a:ext cx="352440" cy="3348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0"/>
          <a:stretch/>
        </p:blipFill>
        <p:spPr>
          <a:xfrm>
            <a:off x="4976640" y="1793880"/>
            <a:ext cx="333720" cy="3189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6956280" y="475920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257800" y="2057040"/>
            <a:ext cx="2247840" cy="2503800"/>
            <a:chOff x="5257800" y="2057040"/>
            <a:chExt cx="2247840" cy="2503800"/>
          </a:xfrm>
        </p:grpSpPr>
        <p:sp>
          <p:nvSpPr>
            <p:cNvPr id="347" name=""/>
            <p:cNvSpPr/>
            <p:nvPr/>
          </p:nvSpPr>
          <p:spPr>
            <a:xfrm flipH="1" flipV="1">
              <a:off x="5257800" y="205704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074000" y="336564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364080" y="368460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56280" y="368460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062680" y="3565440"/>
            <a:ext cx="2129760" cy="1035000"/>
            <a:chOff x="5062680" y="3565440"/>
            <a:chExt cx="2129760" cy="1035000"/>
          </a:xfrm>
        </p:grpSpPr>
        <p:sp>
          <p:nvSpPr>
            <p:cNvPr id="352" name=""/>
            <p:cNvSpPr/>
            <p:nvPr/>
          </p:nvSpPr>
          <p:spPr>
            <a:xfrm flipH="1">
              <a:off x="5062680" y="3565440"/>
              <a:ext cx="55224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5891040" y="362556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46720" y="3684600"/>
              <a:ext cx="94572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CA65-48CD-4598-AE60-ED03D970C0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160" y="-63360"/>
            <a:ext cx="9105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6497"/>
                </a:solidFill>
                <a:latin typeface="Arial"/>
              </a:rPr>
              <a:t>Functionalities studied in CoMMA: Annotate, Pull and Push</a:t>
            </a:r>
            <a:endParaRPr b="0" lang="en-US" sz="1800" spc="-1" strike="noStrike">
              <a:solidFill>
                <a:srgbClr val="5d6497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766800" y="1295280"/>
            <a:ext cx="7772400" cy="4380120"/>
            <a:chOff x="766800" y="1295280"/>
            <a:chExt cx="7772400" cy="4380120"/>
          </a:xfrm>
        </p:grpSpPr>
        <p:sp>
          <p:nvSpPr>
            <p:cNvPr id="357" name=""/>
            <p:cNvSpPr/>
            <p:nvPr/>
          </p:nvSpPr>
          <p:spPr>
            <a:xfrm>
              <a:off x="766800" y="1295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3882960" y="1374840"/>
              <a:ext cx="1657080" cy="4181400"/>
              <a:chOff x="3882960" y="1374840"/>
              <a:chExt cx="1657080" cy="4181400"/>
            </a:xfrm>
          </p:grpSpPr>
          <p:sp>
            <p:nvSpPr>
              <p:cNvPr id="359" name=""/>
              <p:cNvSpPr/>
              <p:nvPr/>
            </p:nvSpPr>
            <p:spPr>
              <a:xfrm>
                <a:off x="3882960" y="1533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041720" y="1374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Corporate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1573200" y="2728800"/>
              <a:ext cx="6532560" cy="995400"/>
              <a:chOff x="1573200" y="2728800"/>
              <a:chExt cx="6532560" cy="995400"/>
            </a:xfrm>
          </p:grpSpPr>
          <p:sp>
            <p:nvSpPr>
              <p:cNvPr id="362" name=""/>
              <p:cNvSpPr/>
              <p:nvPr/>
            </p:nvSpPr>
            <p:spPr>
              <a:xfrm>
                <a:off x="1573200" y="2814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386760" y="2728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Multi-Agents Syste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443560" y="2900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595520" y="3390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89360" y="2951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67" name="agent" descr=""/>
              <p:cNvPicPr/>
              <p:nvPr/>
            </p:nvPicPr>
            <p:blipFill>
              <a:blip r:embed="rId1"/>
              <a:stretch/>
            </p:blipFill>
            <p:spPr>
              <a:xfrm>
                <a:off x="1762200" y="3041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368" name=""/>
              <p:cNvGrpSpPr/>
              <p:nvPr/>
            </p:nvGrpSpPr>
            <p:grpSpPr>
              <a:xfrm>
                <a:off x="5540400" y="3048120"/>
                <a:ext cx="908280" cy="636120"/>
                <a:chOff x="5540400" y="3048120"/>
                <a:chExt cx="908280" cy="6361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5540400" y="3408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Profil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70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16520" y="3048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371" name=""/>
              <p:cNvSpPr/>
              <p:nvPr/>
            </p:nvSpPr>
            <p:spPr>
              <a:xfrm>
                <a:off x="3883320" y="2816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72" name="agent" descr=""/>
              <p:cNvPicPr/>
              <p:nvPr/>
            </p:nvPicPr>
            <p:blipFill>
              <a:blip r:embed="rId3"/>
              <a:stretch/>
            </p:blipFill>
            <p:spPr>
              <a:xfrm>
                <a:off x="2901960" y="3092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373" name=""/>
              <p:cNvSpPr/>
              <p:nvPr/>
            </p:nvSpPr>
            <p:spPr>
              <a:xfrm>
                <a:off x="2621160" y="3446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Ontology and Models 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448680" y="3443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Use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ourier New"/>
                  </a:rPr>
                  <a:t>Agen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21720" y="3003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Learning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76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6694560" y="3094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377" name=""/>
              <p:cNvGrpSpPr/>
              <p:nvPr/>
            </p:nvGrpSpPr>
            <p:grpSpPr>
              <a:xfrm>
                <a:off x="3410280" y="2860560"/>
                <a:ext cx="907920" cy="635040"/>
                <a:chOff x="3410280" y="2860560"/>
                <a:chExt cx="907920" cy="635040"/>
              </a:xfrm>
            </p:grpSpPr>
            <p:pic>
              <p:nvPicPr>
                <p:cNvPr id="378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686400" y="2860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379" name=""/>
                <p:cNvSpPr/>
                <p:nvPr/>
              </p:nvSpPr>
              <p:spPr>
                <a:xfrm>
                  <a:off x="3410280" y="3219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Interconnect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0" name=""/>
          <p:cNvGrpSpPr/>
          <p:nvPr/>
        </p:nvGrpSpPr>
        <p:grpSpPr>
          <a:xfrm>
            <a:off x="923760" y="3763800"/>
            <a:ext cx="1101240" cy="1552680"/>
            <a:chOff x="923760" y="3763800"/>
            <a:chExt cx="1101240" cy="1552680"/>
          </a:xfrm>
        </p:grpSpPr>
        <p:sp>
          <p:nvSpPr>
            <p:cNvPr id="381" name=""/>
            <p:cNvSpPr/>
            <p:nvPr/>
          </p:nvSpPr>
          <p:spPr>
            <a:xfrm>
              <a:off x="923760" y="471960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1595160" y="3763800"/>
              <a:ext cx="429840" cy="1181160"/>
              <a:chOff x="1595160" y="3763800"/>
              <a:chExt cx="429840" cy="118116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1595160" y="3763800"/>
                <a:ext cx="210960" cy="97920"/>
                <a:chOff x="1595160" y="3763800"/>
                <a:chExt cx="210960" cy="979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1595160" y="383760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647000" y="377424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719720" y="376380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760040" y="380124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1669680" y="3833640"/>
                <a:ext cx="355320" cy="1111320"/>
                <a:chOff x="1669680" y="3833640"/>
                <a:chExt cx="355320" cy="11113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1733760" y="401652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861560" y="383364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669680" y="423252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786320" y="422064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746720" y="448128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857240" y="448128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95" name="ampoule" descr=""/>
              <p:cNvPicPr/>
              <p:nvPr/>
            </p:nvPicPr>
            <p:blipFill>
              <a:blip r:embed="rId6"/>
              <a:stretch/>
            </p:blipFill>
            <p:spPr>
              <a:xfrm>
                <a:off x="1634400" y="382500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96" name=""/>
          <p:cNvGrpSpPr/>
          <p:nvPr/>
        </p:nvGrpSpPr>
        <p:grpSpPr>
          <a:xfrm>
            <a:off x="846000" y="1374840"/>
            <a:ext cx="1774800" cy="1433520"/>
            <a:chOff x="846000" y="1374840"/>
            <a:chExt cx="1774800" cy="1433520"/>
          </a:xfrm>
        </p:grpSpPr>
        <p:sp>
          <p:nvSpPr>
            <p:cNvPr id="397" name=""/>
            <p:cNvSpPr/>
            <p:nvPr/>
          </p:nvSpPr>
          <p:spPr>
            <a:xfrm>
              <a:off x="846000" y="244944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uthor and/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notator of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1398240" y="1374840"/>
              <a:ext cx="789120" cy="1231920"/>
              <a:chOff x="1398240" y="1374840"/>
              <a:chExt cx="789120" cy="123192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1673640" y="1822680"/>
                <a:ext cx="477360" cy="784080"/>
                <a:chOff x="1673640" y="1822680"/>
                <a:chExt cx="477360" cy="78408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1882800" y="208332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926000" y="232992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1758240" y="231624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673640" y="208404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993680" y="182268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838880" y="186624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1684440" y="1374840"/>
                <a:ext cx="236520" cy="239040"/>
                <a:chOff x="1684440" y="1374840"/>
                <a:chExt cx="236520" cy="2390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684440" y="137484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08" name="doc_0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711440" y="139644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409" name=""/>
              <p:cNvGrpSpPr/>
              <p:nvPr/>
            </p:nvGrpSpPr>
            <p:grpSpPr>
              <a:xfrm>
                <a:off x="1398240" y="1498320"/>
                <a:ext cx="255240" cy="278640"/>
                <a:chOff x="1398240" y="1498320"/>
                <a:chExt cx="255240" cy="2786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398240" y="149832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11" name="doc_0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406520" y="151704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12" name=""/>
              <p:cNvGrpSpPr/>
              <p:nvPr/>
            </p:nvGrpSpPr>
            <p:grpSpPr>
              <a:xfrm>
                <a:off x="1555920" y="1817280"/>
                <a:ext cx="204120" cy="245160"/>
                <a:chOff x="1555920" y="1817280"/>
                <a:chExt cx="204120" cy="2451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555920" y="181728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14" name="doc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76440" y="183384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15" name=""/>
              <p:cNvGrpSpPr/>
              <p:nvPr/>
            </p:nvGrpSpPr>
            <p:grpSpPr>
              <a:xfrm>
                <a:off x="1950480" y="1538280"/>
                <a:ext cx="236880" cy="278640"/>
                <a:chOff x="1950480" y="1538280"/>
                <a:chExt cx="236880" cy="2786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950480" y="153828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17" name="doc_05gif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955880" y="157176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418" name=""/>
          <p:cNvGrpSpPr/>
          <p:nvPr/>
        </p:nvGrpSpPr>
        <p:grpSpPr>
          <a:xfrm>
            <a:off x="7118280" y="4521240"/>
            <a:ext cx="1106280" cy="1193760"/>
            <a:chOff x="7118280" y="4521240"/>
            <a:chExt cx="1106280" cy="1193760"/>
          </a:xfrm>
        </p:grpSpPr>
        <p:sp>
          <p:nvSpPr>
            <p:cNvPr id="419" name=""/>
            <p:cNvSpPr/>
            <p:nvPr/>
          </p:nvSpPr>
          <p:spPr>
            <a:xfrm>
              <a:off x="7118280" y="546732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d 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7276680" y="4600440"/>
              <a:ext cx="430200" cy="903600"/>
              <a:chOff x="7276680" y="4600440"/>
              <a:chExt cx="430200" cy="903600"/>
            </a:xfrm>
          </p:grpSpPr>
          <p:sp>
            <p:nvSpPr>
              <p:cNvPr id="421" name=""/>
              <p:cNvSpPr/>
              <p:nvPr/>
            </p:nvSpPr>
            <p:spPr>
              <a:xfrm flipH="1">
                <a:off x="7401240" y="465084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7512480" y="460044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7422840" y="486252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7321680" y="487080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7276320" y="512928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7456320" y="512856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7710120" y="4521240"/>
              <a:ext cx="473400" cy="396720"/>
              <a:chOff x="7710120" y="4521240"/>
              <a:chExt cx="473400" cy="396720"/>
            </a:xfrm>
          </p:grpSpPr>
          <p:sp>
            <p:nvSpPr>
              <p:cNvPr id="428" name=""/>
              <p:cNvSpPr/>
              <p:nvPr/>
            </p:nvSpPr>
            <p:spPr>
              <a:xfrm>
                <a:off x="7710120" y="452124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29" name="inter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26400" y="45914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30" name=""/>
          <p:cNvGrpSpPr/>
          <p:nvPr/>
        </p:nvGrpSpPr>
        <p:grpSpPr>
          <a:xfrm>
            <a:off x="2187720" y="1785960"/>
            <a:ext cx="1617120" cy="903240"/>
            <a:chOff x="2187720" y="1785960"/>
            <a:chExt cx="1617120" cy="903240"/>
          </a:xfrm>
        </p:grpSpPr>
        <p:pic>
          <p:nvPicPr>
            <p:cNvPr id="431" name="" descr=""/>
            <p:cNvPicPr/>
            <p:nvPr/>
          </p:nvPicPr>
          <p:blipFill>
            <a:blip r:embed="rId12"/>
            <a:stretch/>
          </p:blipFill>
          <p:spPr>
            <a:xfrm>
              <a:off x="2187720" y="2262240"/>
              <a:ext cx="23616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2" name=""/>
            <p:cNvGrpSpPr/>
            <p:nvPr/>
          </p:nvGrpSpPr>
          <p:grpSpPr>
            <a:xfrm>
              <a:off x="2463480" y="1785960"/>
              <a:ext cx="1025280" cy="903240"/>
              <a:chOff x="2463480" y="1785960"/>
              <a:chExt cx="1025280" cy="903240"/>
            </a:xfrm>
          </p:grpSpPr>
          <p:sp>
            <p:nvSpPr>
              <p:cNvPr id="433" name=""/>
              <p:cNvSpPr/>
              <p:nvPr/>
            </p:nvSpPr>
            <p:spPr>
              <a:xfrm>
                <a:off x="2463480" y="2052000"/>
                <a:ext cx="102528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463480" y="1785960"/>
                <a:ext cx="102528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481120" y="2054880"/>
                <a:ext cx="10072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3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857680" y="228744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540160" y="181656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8" name="" descr=""/>
            <p:cNvPicPr/>
            <p:nvPr/>
          </p:nvPicPr>
          <p:blipFill>
            <a:blip r:embed="rId15"/>
            <a:stretch/>
          </p:blipFill>
          <p:spPr>
            <a:xfrm>
              <a:off x="3568320" y="2251080"/>
              <a:ext cx="23652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9" name=""/>
          <p:cNvGrpSpPr/>
          <p:nvPr/>
        </p:nvGrpSpPr>
        <p:grpSpPr>
          <a:xfrm>
            <a:off x="5460840" y="4560840"/>
            <a:ext cx="1697040" cy="995400"/>
            <a:chOff x="5460840" y="4560840"/>
            <a:chExt cx="1697040" cy="995400"/>
          </a:xfrm>
        </p:grpSpPr>
        <p:pic>
          <p:nvPicPr>
            <p:cNvPr id="440" name="" descr=""/>
            <p:cNvPicPr/>
            <p:nvPr/>
          </p:nvPicPr>
          <p:blipFill>
            <a:blip r:embed="rId16"/>
            <a:stretch/>
          </p:blipFill>
          <p:spPr>
            <a:xfrm>
              <a:off x="5460840" y="503856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" descr=""/>
            <p:cNvPicPr/>
            <p:nvPr/>
          </p:nvPicPr>
          <p:blipFill>
            <a:blip r:embed="rId17"/>
            <a:stretch/>
          </p:blipFill>
          <p:spPr>
            <a:xfrm>
              <a:off x="6921360" y="503856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5736960" y="4560840"/>
              <a:ext cx="1104840" cy="995400"/>
              <a:chOff x="5736960" y="4560840"/>
              <a:chExt cx="1104840" cy="9954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5736960" y="4560840"/>
                <a:ext cx="1026000" cy="902880"/>
                <a:chOff x="5736960" y="4560840"/>
                <a:chExt cx="1026000" cy="90288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5736960" y="482688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736960" y="45608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754600" y="482940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4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131520" y="50623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5813640" y="4591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49" name=""/>
              <p:cNvGrpSpPr/>
              <p:nvPr/>
            </p:nvGrpSpPr>
            <p:grpSpPr>
              <a:xfrm>
                <a:off x="5776200" y="4600440"/>
                <a:ext cx="1026000" cy="903240"/>
                <a:chOff x="5776200" y="4600440"/>
                <a:chExt cx="1026000" cy="90324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5776200" y="486648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776200" y="46004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793840" y="486936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5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6170760" y="51019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5852880" y="46310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55" name=""/>
              <p:cNvGrpSpPr/>
              <p:nvPr/>
            </p:nvGrpSpPr>
            <p:grpSpPr>
              <a:xfrm>
                <a:off x="5815800" y="4653000"/>
                <a:ext cx="1026000" cy="903240"/>
                <a:chOff x="5815800" y="4653000"/>
                <a:chExt cx="1026000" cy="90324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5815800" y="491904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815800" y="465300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833440" y="49219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5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210360" y="515448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5892480" y="468360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461" name=""/>
          <p:cNvGrpSpPr/>
          <p:nvPr/>
        </p:nvGrpSpPr>
        <p:grpSpPr>
          <a:xfrm>
            <a:off x="2227320" y="3882960"/>
            <a:ext cx="2168640" cy="677520"/>
            <a:chOff x="2227320" y="3882960"/>
            <a:chExt cx="2168640" cy="677520"/>
          </a:xfrm>
        </p:grpSpPr>
        <p:pic>
          <p:nvPicPr>
            <p:cNvPr id="462" name="" descr=""/>
            <p:cNvPicPr/>
            <p:nvPr/>
          </p:nvPicPr>
          <p:blipFill>
            <a:blip r:embed="rId24"/>
            <a:stretch/>
          </p:blipFill>
          <p:spPr>
            <a:xfrm>
              <a:off x="222732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" descr=""/>
            <p:cNvPicPr/>
            <p:nvPr/>
          </p:nvPicPr>
          <p:blipFill>
            <a:blip r:embed="rId25"/>
            <a:stretch/>
          </p:blipFill>
          <p:spPr>
            <a:xfrm>
              <a:off x="3529080" y="416232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4" name=""/>
            <p:cNvGrpSpPr/>
            <p:nvPr/>
          </p:nvGrpSpPr>
          <p:grpSpPr>
            <a:xfrm>
              <a:off x="2424240" y="3882960"/>
              <a:ext cx="1008000" cy="677520"/>
              <a:chOff x="2424240" y="3882960"/>
              <a:chExt cx="1008000" cy="677520"/>
            </a:xfrm>
          </p:grpSpPr>
          <p:sp>
            <p:nvSpPr>
              <p:cNvPr id="465" name=""/>
              <p:cNvSpPr/>
              <p:nvPr/>
            </p:nvSpPr>
            <p:spPr>
              <a:xfrm>
                <a:off x="2581920" y="392256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66" name="onto_01" descr=""/>
              <p:cNvPicPr/>
              <p:nvPr/>
            </p:nvPicPr>
            <p:blipFill>
              <a:blip r:embed="rId26"/>
              <a:stretch/>
            </p:blipFill>
            <p:spPr>
              <a:xfrm>
                <a:off x="2739960" y="415620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"/>
              <p:cNvSpPr/>
              <p:nvPr/>
            </p:nvSpPr>
            <p:spPr>
              <a:xfrm>
                <a:off x="2424240" y="3882960"/>
                <a:ext cx="100800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Ontolog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68" name="onto_01" descr=""/>
            <p:cNvPicPr/>
            <p:nvPr/>
          </p:nvPicPr>
          <p:blipFill>
            <a:blip r:embed="rId27"/>
            <a:stretch/>
          </p:blipFill>
          <p:spPr>
            <a:xfrm>
              <a:off x="4081680" y="4122720"/>
              <a:ext cx="31428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9" name=""/>
          <p:cNvGrpSpPr/>
          <p:nvPr/>
        </p:nvGrpSpPr>
        <p:grpSpPr>
          <a:xfrm>
            <a:off x="2014560" y="4633920"/>
            <a:ext cx="1631880" cy="882360"/>
            <a:chOff x="2014560" y="4633920"/>
            <a:chExt cx="1631880" cy="882360"/>
          </a:xfrm>
        </p:grpSpPr>
        <p:grpSp>
          <p:nvGrpSpPr>
            <p:cNvPr id="470" name=""/>
            <p:cNvGrpSpPr/>
            <p:nvPr/>
          </p:nvGrpSpPr>
          <p:grpSpPr>
            <a:xfrm>
              <a:off x="2014560" y="4917960"/>
              <a:ext cx="1631880" cy="598320"/>
              <a:chOff x="2014560" y="4917960"/>
              <a:chExt cx="1631880" cy="598320"/>
            </a:xfrm>
          </p:grpSpPr>
          <p:sp>
            <p:nvSpPr>
              <p:cNvPr id="471" name=""/>
              <p:cNvSpPr/>
              <p:nvPr/>
            </p:nvSpPr>
            <p:spPr>
              <a:xfrm>
                <a:off x="2093400" y="4957560"/>
                <a:ext cx="1340640" cy="55872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72" name="onto_02" descr=""/>
              <p:cNvPicPr/>
              <p:nvPr/>
            </p:nvPicPr>
            <p:blipFill>
              <a:blip r:embed="rId28"/>
              <a:stretch/>
            </p:blipFill>
            <p:spPr>
              <a:xfrm>
                <a:off x="2132640" y="5161680"/>
                <a:ext cx="2757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"/>
              <p:cNvSpPr/>
              <p:nvPr/>
            </p:nvSpPr>
            <p:spPr>
              <a:xfrm>
                <a:off x="2014560" y="4917960"/>
                <a:ext cx="74916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Mode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316240" y="5117400"/>
                <a:ext cx="133020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Enterprise Mode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- User's Profil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75" name="" descr=""/>
            <p:cNvPicPr/>
            <p:nvPr/>
          </p:nvPicPr>
          <p:blipFill>
            <a:blip r:embed="rId29"/>
            <a:stretch/>
          </p:blipFill>
          <p:spPr>
            <a:xfrm>
              <a:off x="2817720" y="4633920"/>
              <a:ext cx="23616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6" name=""/>
          <p:cNvGrpSpPr/>
          <p:nvPr/>
        </p:nvGrpSpPr>
        <p:grpSpPr>
          <a:xfrm>
            <a:off x="3529080" y="4998960"/>
            <a:ext cx="1065240" cy="357120"/>
            <a:chOff x="3529080" y="4998960"/>
            <a:chExt cx="1065240" cy="357120"/>
          </a:xfrm>
        </p:grpSpPr>
        <p:pic>
          <p:nvPicPr>
            <p:cNvPr id="477" name="" descr=""/>
            <p:cNvPicPr/>
            <p:nvPr/>
          </p:nvPicPr>
          <p:blipFill>
            <a:blip r:embed="rId30"/>
            <a:stretch/>
          </p:blipFill>
          <p:spPr>
            <a:xfrm>
              <a:off x="3529080" y="507852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onto_02" descr=""/>
            <p:cNvPicPr/>
            <p:nvPr/>
          </p:nvPicPr>
          <p:blipFill>
            <a:blip r:embed="rId31"/>
            <a:stretch/>
          </p:blipFill>
          <p:spPr>
            <a:xfrm>
              <a:off x="4238640" y="499896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9" name=""/>
          <p:cNvGrpSpPr/>
          <p:nvPr/>
        </p:nvGrpSpPr>
        <p:grpSpPr>
          <a:xfrm>
            <a:off x="7197840" y="3787920"/>
            <a:ext cx="631800" cy="772920"/>
            <a:chOff x="7197840" y="3787920"/>
            <a:chExt cx="631800" cy="772920"/>
          </a:xfrm>
        </p:grpSpPr>
        <p:pic>
          <p:nvPicPr>
            <p:cNvPr id="480" name="" descr=""/>
            <p:cNvPicPr/>
            <p:nvPr/>
          </p:nvPicPr>
          <p:blipFill>
            <a:blip r:embed="rId32"/>
            <a:stretch/>
          </p:blipFill>
          <p:spPr>
            <a:xfrm>
              <a:off x="7394760" y="432108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1" name=""/>
            <p:cNvGrpSpPr/>
            <p:nvPr/>
          </p:nvGrpSpPr>
          <p:grpSpPr>
            <a:xfrm>
              <a:off x="7197840" y="3787920"/>
              <a:ext cx="631800" cy="490320"/>
              <a:chOff x="7197840" y="3787920"/>
              <a:chExt cx="631800" cy="490320"/>
            </a:xfrm>
          </p:grpSpPr>
          <p:sp>
            <p:nvSpPr>
              <p:cNvPr id="482" name=""/>
              <p:cNvSpPr/>
              <p:nvPr/>
            </p:nvSpPr>
            <p:spPr>
              <a:xfrm>
                <a:off x="7237080" y="384012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197840" y="378792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Bookman Old Style"/>
                  </a:rPr>
                  <a:t>Query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84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434720" y="402120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85" name=""/>
          <p:cNvGrpSpPr/>
          <p:nvPr/>
        </p:nvGrpSpPr>
        <p:grpSpPr>
          <a:xfrm>
            <a:off x="3938760" y="1697040"/>
            <a:ext cx="1375920" cy="3565440"/>
            <a:chOff x="3938760" y="1697040"/>
            <a:chExt cx="1375920" cy="3565440"/>
          </a:xfrm>
        </p:grpSpPr>
        <p:pic>
          <p:nvPicPr>
            <p:cNvPr id="486" name="doc_01" descr=""/>
            <p:cNvPicPr/>
            <p:nvPr/>
          </p:nvPicPr>
          <p:blipFill>
            <a:blip r:embed="rId34"/>
            <a:stretch/>
          </p:blipFill>
          <p:spPr>
            <a:xfrm>
              <a:off x="4898880" y="2311200"/>
              <a:ext cx="22644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doc_01" descr=""/>
            <p:cNvPicPr/>
            <p:nvPr/>
          </p:nvPicPr>
          <p:blipFill>
            <a:blip r:embed="rId35"/>
            <a:stretch/>
          </p:blipFill>
          <p:spPr>
            <a:xfrm>
              <a:off x="4857120" y="223200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memory_01" descr=""/>
            <p:cNvPicPr/>
            <p:nvPr/>
          </p:nvPicPr>
          <p:blipFill>
            <a:blip r:embed="rId36"/>
            <a:stretch/>
          </p:blipFill>
          <p:spPr>
            <a:xfrm>
              <a:off x="3938760" y="1697040"/>
              <a:ext cx="35064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doc_03" descr=""/>
            <p:cNvPicPr/>
            <p:nvPr/>
          </p:nvPicPr>
          <p:blipFill>
            <a:blip r:embed="rId37"/>
            <a:stretch/>
          </p:blipFill>
          <p:spPr>
            <a:xfrm>
              <a:off x="4105080" y="4467240"/>
              <a:ext cx="41760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490" name="doc_04" descr=""/>
            <p:cNvPicPr/>
            <p:nvPr/>
          </p:nvPicPr>
          <p:blipFill>
            <a:blip r:embed="rId38"/>
            <a:stretch/>
          </p:blipFill>
          <p:spPr>
            <a:xfrm>
              <a:off x="4022640" y="2192400"/>
              <a:ext cx="2916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doc_05gif" descr=""/>
            <p:cNvPicPr/>
            <p:nvPr/>
          </p:nvPicPr>
          <p:blipFill>
            <a:blip r:embed="rId39"/>
            <a:stretch/>
          </p:blipFill>
          <p:spPr>
            <a:xfrm>
              <a:off x="4731120" y="4386240"/>
              <a:ext cx="32184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40"/>
            <a:stretch/>
          </p:blipFill>
          <p:spPr>
            <a:xfrm>
              <a:off x="4648680" y="3824280"/>
              <a:ext cx="4345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" descr=""/>
            <p:cNvPicPr/>
            <p:nvPr/>
          </p:nvPicPr>
          <p:blipFill>
            <a:blip r:embed="rId41"/>
            <a:stretch/>
          </p:blipFill>
          <p:spPr>
            <a:xfrm>
              <a:off x="4464360" y="1736640"/>
              <a:ext cx="3502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doc_01" descr=""/>
            <p:cNvPicPr/>
            <p:nvPr/>
          </p:nvPicPr>
          <p:blipFill>
            <a:blip r:embed="rId42"/>
            <a:stretch/>
          </p:blipFill>
          <p:spPr>
            <a:xfrm>
              <a:off x="4940640" y="2351160"/>
              <a:ext cx="22644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43"/>
            <a:stretch/>
          </p:blipFill>
          <p:spPr>
            <a:xfrm>
              <a:off x="4980960" y="4944960"/>
              <a:ext cx="333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44"/>
            <a:stretch/>
          </p:blipFill>
          <p:spPr>
            <a:xfrm>
              <a:off x="4439160" y="2351160"/>
              <a:ext cx="35208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" descr=""/>
            <p:cNvPicPr/>
            <p:nvPr/>
          </p:nvPicPr>
          <p:blipFill>
            <a:blip r:embed="rId45"/>
            <a:stretch/>
          </p:blipFill>
          <p:spPr>
            <a:xfrm>
              <a:off x="4980960" y="1793880"/>
              <a:ext cx="333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"/>
          <p:cNvSpPr txBox="1"/>
          <p:nvPr/>
        </p:nvSpPr>
        <p:spPr>
          <a:xfrm>
            <a:off x="2108160" y="464040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2778120" y="1494000"/>
            <a:ext cx="237960" cy="1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961320" y="475920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147760" y="3605040"/>
            <a:ext cx="1971720" cy="1273320"/>
            <a:chOff x="2147760" y="3605040"/>
            <a:chExt cx="1971720" cy="1273320"/>
          </a:xfrm>
        </p:grpSpPr>
        <p:sp>
          <p:nvSpPr>
            <p:cNvPr id="502" name=""/>
            <p:cNvSpPr/>
            <p:nvPr/>
          </p:nvSpPr>
          <p:spPr>
            <a:xfrm>
              <a:off x="3449520" y="360504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2147760" y="360504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92200" y="368460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1712880" y="2610000"/>
            <a:ext cx="947160" cy="396720"/>
            <a:chOff x="1712880" y="2610000"/>
            <a:chExt cx="947160" cy="396720"/>
          </a:xfrm>
        </p:grpSpPr>
        <p:sp>
          <p:nvSpPr>
            <p:cNvPr id="506" name=""/>
            <p:cNvSpPr/>
            <p:nvPr/>
          </p:nvSpPr>
          <p:spPr>
            <a:xfrm>
              <a:off x="1712880" y="271476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2028240" y="261000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5262480" y="2057040"/>
            <a:ext cx="2247840" cy="2503800"/>
            <a:chOff x="5262480" y="2057040"/>
            <a:chExt cx="2247840" cy="2503800"/>
          </a:xfrm>
        </p:grpSpPr>
        <p:sp>
          <p:nvSpPr>
            <p:cNvPr id="509" name=""/>
            <p:cNvSpPr/>
            <p:nvPr/>
          </p:nvSpPr>
          <p:spPr>
            <a:xfrm flipH="1" flipV="1">
              <a:off x="5262480" y="205704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078680" y="336564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368760" y="368460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60960" y="368460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067000" y="3565440"/>
            <a:ext cx="2130840" cy="1035000"/>
            <a:chOff x="5067000" y="3565440"/>
            <a:chExt cx="2130840" cy="1035000"/>
          </a:xfrm>
        </p:grpSpPr>
        <p:sp>
          <p:nvSpPr>
            <p:cNvPr id="514" name=""/>
            <p:cNvSpPr/>
            <p:nvPr/>
          </p:nvSpPr>
          <p:spPr>
            <a:xfrm flipH="1">
              <a:off x="5067000" y="3565440"/>
              <a:ext cx="55260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896080" y="362556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51760" y="3684600"/>
              <a:ext cx="94608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11360" y="1295280"/>
            <a:ext cx="8001000" cy="4496040"/>
            <a:chOff x="711360" y="1295280"/>
            <a:chExt cx="8001000" cy="4496040"/>
          </a:xfrm>
        </p:grpSpPr>
        <p:sp>
          <p:nvSpPr>
            <p:cNvPr id="518" name=""/>
            <p:cNvSpPr/>
            <p:nvPr/>
          </p:nvSpPr>
          <p:spPr>
            <a:xfrm>
              <a:off x="711360" y="2819520"/>
              <a:ext cx="3174840" cy="2971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486400" y="1295280"/>
              <a:ext cx="3225960" cy="243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09880" y="1295280"/>
              <a:ext cx="1676520" cy="441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62120" y="1295280"/>
              <a:ext cx="3047760" cy="152424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486400" y="3733920"/>
              <a:ext cx="3048120" cy="1981080"/>
            </a:xfrm>
            <a:prstGeom prst="rect">
              <a:avLst/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bien.Gandon@sophia.inria.f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1E64-AAD2-4264-AE07-8670C3974E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9T18:56:05Z</dcterms:created>
  <dc:creator>Fabien GANDON</dc:creator>
  <dc:description/>
  <dc:language>en-US</dc:language>
  <cp:lastModifiedBy>Fabien GANDON</cp:lastModifiedBy>
  <dcterms:modified xsi:type="dcterms:W3CDTF">2002-09-20T08:12:40Z</dcterms:modified>
  <cp:revision>66</cp:revision>
  <dc:subject/>
  <dc:title>Trying the title of the slides</dc:title>
</cp:coreProperties>
</file>