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0.wmf" ContentType="image/x-wmf"/>
  <Override PartName="/ppt/media/image18.png" ContentType="image/png"/>
  <Override PartName="/ppt/media/image39.wmf" ContentType="image/x-wmf"/>
  <Override PartName="/ppt/media/image35.wmf" ContentType="image/x-wmf"/>
  <Override PartName="/ppt/media/image78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8.png" ContentType="image/png"/>
  <Override PartName="/ppt/media/image70.wmf" ContentType="image/x-wmf"/>
  <Override PartName="/ppt/media/image11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62.wmf" ContentType="image/x-wmf"/>
  <Override PartName="/ppt/media/image25.png" ContentType="image/png"/>
  <Override PartName="/ppt/media/image65.wmf" ContentType="image/x-wmf"/>
  <Override PartName="/ppt/media/image26.png" ContentType="image/png"/>
  <Override PartName="/ppt/media/image29.png" ContentType="image/png"/>
  <Override PartName="/ppt/media/image57.png" ContentType="image/png"/>
  <Override PartName="/ppt/media/image2.wmf" ContentType="image/x-wmf"/>
  <Override PartName="/ppt/media/image69.wmf" ContentType="image/x-wmf"/>
  <Override PartName="/ppt/media/image23.png" ContentType="image/png"/>
  <Override PartName="/ppt/media/image63.wmf" ContentType="image/x-wmf"/>
  <Override PartName="/ppt/media/image60.png" ContentType="image/png"/>
  <Override PartName="/ppt/media/image64.wmf" ContentType="image/x-wmf"/>
  <Override PartName="/ppt/media/image24.png" ContentType="image/png"/>
  <Override PartName="/ppt/media/image59.png" ContentType="image/png"/>
  <Override PartName="/ppt/media/image66.jpeg" ContentType="image/jpeg"/>
  <Override PartName="/ppt/media/image76.png" ContentType="image/png"/>
  <Override PartName="/ppt/media/image7.wmf" ContentType="image/x-wmf"/>
  <Override PartName="/ppt/media/image37.wmf" ContentType="image/x-wmf"/>
  <Override PartName="/ppt/media/image8.png" ContentType="image/png"/>
  <Override PartName="/ppt/media/image38.png" ContentType="image/png"/>
  <Override PartName="/ppt/media/image75.png" ContentType="image/png"/>
  <Override PartName="/ppt/media/image6.wmf" ContentType="image/x-wmf"/>
  <Override PartName="/ppt/media/image77.png" ContentType="image/png"/>
  <Override PartName="/ppt/media/image73.wmf" ContentType="image/x-wmf"/>
  <Override PartName="/ppt/media/image80.png" ContentType="image/png"/>
  <Override PartName="/ppt/media/image15.png" ContentType="image/png"/>
  <Override PartName="/ppt/media/image72.wmf" ContentType="image/x-wmf"/>
  <Override PartName="/ppt/media/image61.png" ContentType="image/png"/>
  <Override PartName="/ppt/media/image41.wmf" ContentType="image/x-wmf"/>
  <Override PartName="/ppt/media/image19.png" ContentType="image/png"/>
  <Override PartName="/ppt/media/image14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58.png" ContentType="image/png"/>
  <Override PartName="/ppt/media/image3.wmf" ContentType="image/x-wmf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31.wmf" ContentType="image/x-wmf"/>
  <Override PartName="/ppt/media/image7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7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36.wmf" ContentType="image/x-wmf"/>
  <Override PartName="/ppt/media/image7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8CD1-8A2D-4D52-93F0-737EA409B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600" y="368100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420C-3048-4D94-BDB2-2EF4B4634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9612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0820-1236-45A2-A44F-11804C2BB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5532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440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60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5532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440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6755-5D2D-40C1-A57D-338BCB14A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60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60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9CFF-7C59-4885-8D8B-5ABFDF236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9612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600" y="368100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9612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5532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400" y="45684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60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05532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400" y="3681000"/>
            <a:ext cx="284616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6579-C2B2-40EB-B703-EAC7A9C1D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A8F0-37FE-40ED-A4BE-B6DB45DF3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E38B-D614-41FD-9398-B586030E4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3B59-E460-42B5-A8DA-9F0ED8F0B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03ED-BCD0-4486-BC84-739340603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96120" y="368100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FB6A2-4642-4E26-B6FB-4D117523B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6120" y="456840"/>
            <a:ext cx="431352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00" y="3681000"/>
            <a:ext cx="8839440" cy="29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0739-20DB-4CD6-891F-E25E8B352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00" y="4568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3" marL="170172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4" marL="212076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5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6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19560" y="6660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fr-FR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315200" y="66672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8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7477-CB48-4AE9-A96C-5B3000032A09}" type="slidenum">
              <a:rPr b="1" lang="fr-FR" sz="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0"/>
            <a:ext cx="0" cy="6400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90440" y="620640"/>
            <a:ext cx="0" cy="5943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2286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04920" y="6400800"/>
            <a:ext cx="0" cy="17928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0440" y="6553080"/>
            <a:ext cx="0" cy="1796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971800" y="3049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1260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6019560" y="66546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fr-FR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0"/>
            <a:ext cx="0" cy="4495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5840" y="230040"/>
            <a:ext cx="1522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495680"/>
            <a:ext cx="0" cy="8384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04920"/>
            <a:ext cx="3049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86364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indent="10152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indent="6336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 indent="63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 indent="63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1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2.png"/><Relationship Id="rId31" Type="http://schemas.openxmlformats.org/officeDocument/2006/relationships/image" Target="../media/image14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22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9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18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png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2.png"/><Relationship Id="rId13" Type="http://schemas.openxmlformats.org/officeDocument/2006/relationships/image" Target="../media/image43.wmf"/><Relationship Id="rId14" Type="http://schemas.openxmlformats.org/officeDocument/2006/relationships/image" Target="../media/image44.png"/><Relationship Id="rId15" Type="http://schemas.openxmlformats.org/officeDocument/2006/relationships/image" Target="../media/image45.wmf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1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2.png"/><Relationship Id="rId31" Type="http://schemas.openxmlformats.org/officeDocument/2006/relationships/image" Target="../media/image14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22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9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18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1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2.png"/><Relationship Id="rId31" Type="http://schemas.openxmlformats.org/officeDocument/2006/relationships/image" Target="../media/image14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22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9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18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6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9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18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22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18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1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5.png"/><Relationship Id="rId30" Type="http://schemas.openxmlformats.org/officeDocument/2006/relationships/image" Target="../media/image12.png"/><Relationship Id="rId31" Type="http://schemas.openxmlformats.org/officeDocument/2006/relationships/image" Target="../media/image14.png"/><Relationship Id="rId32" Type="http://schemas.openxmlformats.org/officeDocument/2006/relationships/image" Target="../media/image29.png"/><Relationship Id="rId33" Type="http://schemas.openxmlformats.org/officeDocument/2006/relationships/image" Target="../media/image30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22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9.png"/><Relationship Id="rId40" Type="http://schemas.openxmlformats.org/officeDocument/2006/relationships/image" Target="../media/image23.png"/><Relationship Id="rId41" Type="http://schemas.openxmlformats.org/officeDocument/2006/relationships/image" Target="../media/image24.png"/><Relationship Id="rId42" Type="http://schemas.openxmlformats.org/officeDocument/2006/relationships/image" Target="../media/image18.png"/><Relationship Id="rId43" Type="http://schemas.openxmlformats.org/officeDocument/2006/relationships/image" Target="../media/image25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1260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Fabien GANDON - INRIA Sophia Antipolis - e-COOP UTC 2002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6680" y="18730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99"/>
                </a:solidFill>
                <a:latin typeface="Arial"/>
              </a:rPr>
              <a:t>L'expérience CoMMA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3473280"/>
            <a:ext cx="6477120" cy="2286000"/>
          </a:xfrm>
          <a:prstGeom prst="ellipse">
            <a:avLst/>
          </a:prstGeom>
          <a:noFill/>
          <a:ln w="52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04040" y="3328920"/>
            <a:ext cx="18111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066680" y="4540320"/>
            <a:ext cx="1390320" cy="1371240"/>
            <a:chOff x="1066680" y="4540320"/>
            <a:chExt cx="1390320" cy="137124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066680" y="454032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1066680" y="454032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400800" y="5149800"/>
            <a:ext cx="1612800" cy="77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657600" y="5454720"/>
            <a:ext cx="2133720" cy="8697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905120" y="3232080"/>
            <a:ext cx="1752120" cy="851040"/>
            <a:chOff x="1905120" y="3232080"/>
            <a:chExt cx="1752120" cy="851040"/>
          </a:xfrm>
        </p:grpSpPr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1905120" y="3232080"/>
              <a:ext cx="1752120" cy="8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1905120" y="3232080"/>
              <a:ext cx="1752120" cy="85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7505640" y="431172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05320" y="3397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Winner" descr=""/>
          <p:cNvPicPr/>
          <p:nvPr/>
        </p:nvPicPr>
        <p:blipFill>
          <a:blip r:embed="rId9"/>
          <a:stretch/>
        </p:blipFill>
        <p:spPr>
          <a:xfrm>
            <a:off x="2438280" y="3736800"/>
            <a:ext cx="50292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La mémoir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09480" y="1143000"/>
            <a:ext cx="7772400" cy="4419720"/>
            <a:chOff x="609480" y="1143000"/>
            <a:chExt cx="7772400" cy="4419720"/>
          </a:xfrm>
        </p:grpSpPr>
        <p:grpSp>
          <p:nvGrpSpPr>
            <p:cNvPr id="540" name=""/>
            <p:cNvGrpSpPr/>
            <p:nvPr/>
          </p:nvGrpSpPr>
          <p:grpSpPr>
            <a:xfrm>
              <a:off x="609480" y="1143000"/>
              <a:ext cx="7772400" cy="4380120"/>
              <a:chOff x="609480" y="1143000"/>
              <a:chExt cx="7772400" cy="4380120"/>
            </a:xfrm>
          </p:grpSpPr>
          <p:sp>
            <p:nvSpPr>
              <p:cNvPr id="541" name=""/>
              <p:cNvSpPr/>
              <p:nvPr/>
            </p:nvSpPr>
            <p:spPr>
              <a:xfrm>
                <a:off x="609480" y="114300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725640" y="1222560"/>
                <a:ext cx="1657080" cy="4181400"/>
                <a:chOff x="3725640" y="1222560"/>
                <a:chExt cx="1657080" cy="41814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725640" y="138132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884400" y="122256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1415880" y="2576520"/>
                <a:ext cx="6532560" cy="995400"/>
                <a:chOff x="1415880" y="2576520"/>
                <a:chExt cx="6532560" cy="9954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1415880" y="266220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29440" y="257652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286240" y="274824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438200" y="323856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32040" y="279900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1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04880" y="288936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552" name=""/>
                <p:cNvGrpSpPr/>
                <p:nvPr/>
              </p:nvGrpSpPr>
              <p:grpSpPr>
                <a:xfrm>
                  <a:off x="5383080" y="2895840"/>
                  <a:ext cx="908280" cy="636120"/>
                  <a:chOff x="5383080" y="2895840"/>
                  <a:chExt cx="908280" cy="6361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5383080" y="325584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54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200" y="289584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555" name=""/>
                <p:cNvSpPr/>
                <p:nvPr/>
              </p:nvSpPr>
              <p:spPr>
                <a:xfrm>
                  <a:off x="3726000" y="266400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6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44640" y="29401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57" name=""/>
                <p:cNvSpPr/>
                <p:nvPr/>
              </p:nvSpPr>
              <p:spPr>
                <a:xfrm>
                  <a:off x="2463840" y="329436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291360" y="329112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764400" y="285120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0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37240" y="29419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561" name=""/>
                <p:cNvGrpSpPr/>
                <p:nvPr/>
              </p:nvGrpSpPr>
              <p:grpSpPr>
                <a:xfrm>
                  <a:off x="3252960" y="2708280"/>
                  <a:ext cx="907920" cy="635040"/>
                  <a:chOff x="3252960" y="2708280"/>
                  <a:chExt cx="907920" cy="635040"/>
                </a:xfrm>
              </p:grpSpPr>
              <p:pic>
                <p:nvPicPr>
                  <p:cNvPr id="562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29080" y="270828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563" name=""/>
                  <p:cNvSpPr/>
                  <p:nvPr/>
                </p:nvSpPr>
                <p:spPr>
                  <a:xfrm>
                    <a:off x="3252960" y="306684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64" name=""/>
            <p:cNvGrpSpPr/>
            <p:nvPr/>
          </p:nvGrpSpPr>
          <p:grpSpPr>
            <a:xfrm>
              <a:off x="766440" y="3611520"/>
              <a:ext cx="1101240" cy="1552680"/>
              <a:chOff x="766440" y="3611520"/>
              <a:chExt cx="1101240" cy="1552680"/>
            </a:xfrm>
          </p:grpSpPr>
          <p:sp>
            <p:nvSpPr>
              <p:cNvPr id="565" name=""/>
              <p:cNvSpPr/>
              <p:nvPr/>
            </p:nvSpPr>
            <p:spPr>
              <a:xfrm>
                <a:off x="766440" y="456732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1437840" y="3611520"/>
                <a:ext cx="429840" cy="1181160"/>
                <a:chOff x="1437840" y="3611520"/>
                <a:chExt cx="429840" cy="11811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437840" y="3611520"/>
                  <a:ext cx="210960" cy="97920"/>
                  <a:chOff x="1437840" y="3611520"/>
                  <a:chExt cx="210960" cy="979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437840" y="368532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489680" y="362196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562400" y="361152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602720" y="364896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1512360" y="3681360"/>
                  <a:ext cx="355320" cy="1111320"/>
                  <a:chOff x="1512360" y="3681360"/>
                  <a:chExt cx="355320" cy="11113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1576440" y="386424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704240" y="368136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512360" y="408024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629000" y="406836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589400" y="432900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699920" y="432900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9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7080" y="367272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80" name=""/>
            <p:cNvGrpSpPr/>
            <p:nvPr/>
          </p:nvGrpSpPr>
          <p:grpSpPr>
            <a:xfrm>
              <a:off x="688680" y="1222560"/>
              <a:ext cx="1774800" cy="1433520"/>
              <a:chOff x="688680" y="1222560"/>
              <a:chExt cx="1774800" cy="1433520"/>
            </a:xfrm>
          </p:grpSpPr>
          <p:sp>
            <p:nvSpPr>
              <p:cNvPr id="581" name=""/>
              <p:cNvSpPr/>
              <p:nvPr/>
            </p:nvSpPr>
            <p:spPr>
              <a:xfrm>
                <a:off x="688680" y="229716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1240920" y="1222560"/>
                <a:ext cx="789120" cy="1231920"/>
                <a:chOff x="1240920" y="1222560"/>
                <a:chExt cx="789120" cy="12319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1516320" y="1670400"/>
                  <a:ext cx="477360" cy="784080"/>
                  <a:chOff x="1516320" y="1670400"/>
                  <a:chExt cx="477360" cy="78408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1725480" y="193104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768680" y="217764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600920" y="216396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516320" y="193176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836360" y="167040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681560" y="171396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1527120" y="1222560"/>
                  <a:ext cx="236520" cy="239040"/>
                  <a:chOff x="1527120" y="1222560"/>
                  <a:chExt cx="236520" cy="23904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1527120" y="122256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2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54120" y="124416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1240920" y="1346040"/>
                  <a:ext cx="255240" cy="278640"/>
                  <a:chOff x="1240920" y="1346040"/>
                  <a:chExt cx="255240" cy="278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1240920" y="134604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5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9200" y="136476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1398600" y="1665000"/>
                  <a:ext cx="204120" cy="245160"/>
                  <a:chOff x="1398600" y="1665000"/>
                  <a:chExt cx="204120" cy="24516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1398600" y="166500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98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19120" y="168156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1793160" y="1386000"/>
                  <a:ext cx="236880" cy="278640"/>
                  <a:chOff x="1793160" y="1386000"/>
                  <a:chExt cx="236880" cy="2786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1793160" y="138600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01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8560" y="141948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02" name=""/>
            <p:cNvGrpSpPr/>
            <p:nvPr/>
          </p:nvGrpSpPr>
          <p:grpSpPr>
            <a:xfrm>
              <a:off x="6960960" y="4368960"/>
              <a:ext cx="1106280" cy="1193760"/>
              <a:chOff x="6960960" y="4368960"/>
              <a:chExt cx="1106280" cy="1193760"/>
            </a:xfrm>
          </p:grpSpPr>
          <p:sp>
            <p:nvSpPr>
              <p:cNvPr id="603" name=""/>
              <p:cNvSpPr/>
              <p:nvPr/>
            </p:nvSpPr>
            <p:spPr>
              <a:xfrm>
                <a:off x="6960960" y="531504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7119360" y="4448160"/>
                <a:ext cx="430200" cy="903600"/>
                <a:chOff x="7119360" y="4448160"/>
                <a:chExt cx="430200" cy="903600"/>
              </a:xfrm>
            </p:grpSpPr>
            <p:sp>
              <p:nvSpPr>
                <p:cNvPr id="605" name=""/>
                <p:cNvSpPr/>
                <p:nvPr/>
              </p:nvSpPr>
              <p:spPr>
                <a:xfrm flipH="1">
                  <a:off x="7243920" y="449856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>
                  <a:off x="7355160" y="444816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7265520" y="471024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>
                  <a:off x="7164360" y="471852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7119000" y="497700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>
                  <a:off x="7299000" y="497628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7552800" y="4368960"/>
                <a:ext cx="473400" cy="396720"/>
                <a:chOff x="7552800" y="4368960"/>
                <a:chExt cx="473400" cy="39672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552800" y="436896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3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669080" y="443916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14" name=""/>
            <p:cNvGrpSpPr/>
            <p:nvPr/>
          </p:nvGrpSpPr>
          <p:grpSpPr>
            <a:xfrm>
              <a:off x="2030040" y="1633680"/>
              <a:ext cx="1617840" cy="903240"/>
              <a:chOff x="2030040" y="1633680"/>
              <a:chExt cx="1617840" cy="903240"/>
            </a:xfrm>
          </p:grpSpPr>
          <p:pic>
            <p:nvPicPr>
              <p:cNvPr id="6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30040" y="21099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6" name=""/>
              <p:cNvGrpSpPr/>
              <p:nvPr/>
            </p:nvGrpSpPr>
            <p:grpSpPr>
              <a:xfrm>
                <a:off x="2306160" y="1633680"/>
                <a:ext cx="1025640" cy="903240"/>
                <a:chOff x="2306160" y="1633680"/>
                <a:chExt cx="1025640" cy="90324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2306160" y="189972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306160" y="163368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323800" y="190260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700360" y="213516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382840" y="166428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2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11000" y="209880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3" name=""/>
            <p:cNvGrpSpPr/>
            <p:nvPr/>
          </p:nvGrpSpPr>
          <p:grpSpPr>
            <a:xfrm>
              <a:off x="5303520" y="4408560"/>
              <a:ext cx="1697040" cy="995400"/>
              <a:chOff x="5303520" y="4408560"/>
              <a:chExt cx="1697040" cy="995400"/>
            </a:xfrm>
          </p:grpSpPr>
          <p:pic>
            <p:nvPicPr>
              <p:cNvPr id="62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03520" y="488628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764040" y="488628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6" name=""/>
              <p:cNvGrpSpPr/>
              <p:nvPr/>
            </p:nvGrpSpPr>
            <p:grpSpPr>
              <a:xfrm>
                <a:off x="5579640" y="4408560"/>
                <a:ext cx="1104840" cy="995400"/>
                <a:chOff x="5579640" y="4408560"/>
                <a:chExt cx="1104840" cy="9954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5579640" y="4408560"/>
                  <a:ext cx="1026000" cy="902880"/>
                  <a:chOff x="5579640" y="4408560"/>
                  <a:chExt cx="1026000" cy="90288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5579640" y="467460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579640" y="440856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597280" y="467712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74200" y="491004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3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56320" y="443916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5618880" y="4448160"/>
                  <a:ext cx="1026000" cy="903240"/>
                  <a:chOff x="5618880" y="4448160"/>
                  <a:chExt cx="1026000" cy="9032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5618880" y="471420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618880" y="444816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636520" y="47170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3440" y="494964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3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95560" y="447876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5658480" y="4500720"/>
                  <a:ext cx="1026000" cy="903240"/>
                  <a:chOff x="5658480" y="4500720"/>
                  <a:chExt cx="1026000" cy="9032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5658480" y="47667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658480" y="450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676120" y="47696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64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53040" y="500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35160" y="453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645" name=""/>
            <p:cNvGrpSpPr/>
            <p:nvPr/>
          </p:nvGrpSpPr>
          <p:grpSpPr>
            <a:xfrm>
              <a:off x="2070000" y="3730680"/>
              <a:ext cx="2167920" cy="677520"/>
              <a:chOff x="2070000" y="3730680"/>
              <a:chExt cx="2167920" cy="677520"/>
            </a:xfrm>
          </p:grpSpPr>
          <p:pic>
            <p:nvPicPr>
              <p:cNvPr id="646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70000" y="401004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371400" y="401004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8" name=""/>
              <p:cNvGrpSpPr/>
              <p:nvPr/>
            </p:nvGrpSpPr>
            <p:grpSpPr>
              <a:xfrm>
                <a:off x="2266560" y="3730680"/>
                <a:ext cx="1007640" cy="677520"/>
                <a:chOff x="2266560" y="3730680"/>
                <a:chExt cx="1007640" cy="67752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2424240" y="377028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50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581920" y="400392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1" name=""/>
                <p:cNvSpPr/>
                <p:nvPr/>
              </p:nvSpPr>
              <p:spPr>
                <a:xfrm>
                  <a:off x="2266560" y="373068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52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24000" y="397044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3" name=""/>
            <p:cNvGrpSpPr/>
            <p:nvPr/>
          </p:nvGrpSpPr>
          <p:grpSpPr>
            <a:xfrm>
              <a:off x="1857240" y="4481640"/>
              <a:ext cx="1631880" cy="882360"/>
              <a:chOff x="1857240" y="4481640"/>
              <a:chExt cx="1631880" cy="88236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857240" y="4765680"/>
                <a:ext cx="1631880" cy="598320"/>
                <a:chOff x="1857240" y="4765680"/>
                <a:chExt cx="1631880" cy="5983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1936080" y="480528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56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75320" y="500940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7" name=""/>
                <p:cNvSpPr/>
                <p:nvPr/>
              </p:nvSpPr>
              <p:spPr>
                <a:xfrm>
                  <a:off x="1857240" y="476568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158920" y="496512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5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660400" y="448164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0" name=""/>
            <p:cNvGrpSpPr/>
            <p:nvPr/>
          </p:nvGrpSpPr>
          <p:grpSpPr>
            <a:xfrm>
              <a:off x="3371760" y="4846680"/>
              <a:ext cx="1065240" cy="357120"/>
              <a:chOff x="3371760" y="4846680"/>
              <a:chExt cx="1065240" cy="357120"/>
            </a:xfrm>
          </p:grpSpPr>
          <p:pic>
            <p:nvPicPr>
              <p:cNvPr id="66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371760" y="49262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2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081320" y="484668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3" name=""/>
            <p:cNvGrpSpPr/>
            <p:nvPr/>
          </p:nvGrpSpPr>
          <p:grpSpPr>
            <a:xfrm>
              <a:off x="7040160" y="3635640"/>
              <a:ext cx="631800" cy="772920"/>
              <a:chOff x="7040160" y="3635640"/>
              <a:chExt cx="631800" cy="772920"/>
            </a:xfrm>
          </p:grpSpPr>
          <p:pic>
            <p:nvPicPr>
              <p:cNvPr id="664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237080" y="416880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5" name=""/>
              <p:cNvGrpSpPr/>
              <p:nvPr/>
            </p:nvGrpSpPr>
            <p:grpSpPr>
              <a:xfrm>
                <a:off x="7040160" y="3635640"/>
                <a:ext cx="631800" cy="490320"/>
                <a:chOff x="7040160" y="3635640"/>
                <a:chExt cx="631800" cy="490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7079400" y="368784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7040160" y="363564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68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277040" y="386892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69" name=""/>
            <p:cNvGrpSpPr/>
            <p:nvPr/>
          </p:nvGrpSpPr>
          <p:grpSpPr>
            <a:xfrm>
              <a:off x="3804840" y="1563840"/>
              <a:ext cx="1301760" cy="3565440"/>
              <a:chOff x="3804840" y="1563840"/>
              <a:chExt cx="1301760" cy="3565440"/>
            </a:xfrm>
          </p:grpSpPr>
          <p:pic>
            <p:nvPicPr>
              <p:cNvPr id="670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713120" y="217800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673520" y="209880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3804840" y="156384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962160" y="433404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674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84400" y="205920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4360" y="425304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476600" y="369108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302000" y="160344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752720" y="2217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790880" y="481176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278240" y="221796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790880" y="166068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"/>
            <p:cNvSpPr txBox="1"/>
            <p:nvPr/>
          </p:nvSpPr>
          <p:spPr>
            <a:xfrm>
              <a:off x="1950840" y="448812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2620800" y="134172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6803640" y="460692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1990440" y="3452760"/>
              <a:ext cx="1971720" cy="1273320"/>
              <a:chOff x="1990440" y="3452760"/>
              <a:chExt cx="1971720" cy="1273320"/>
            </a:xfrm>
          </p:grpSpPr>
          <p:sp>
            <p:nvSpPr>
              <p:cNvPr id="686" name=""/>
              <p:cNvSpPr/>
              <p:nvPr/>
            </p:nvSpPr>
            <p:spPr>
              <a:xfrm>
                <a:off x="3292200" y="345276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1990440" y="345276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34880" y="353232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1555560" y="2457720"/>
              <a:ext cx="947160" cy="396720"/>
              <a:chOff x="1555560" y="2457720"/>
              <a:chExt cx="947160" cy="396720"/>
            </a:xfrm>
          </p:grpSpPr>
          <p:sp>
            <p:nvSpPr>
              <p:cNvPr id="690" name=""/>
              <p:cNvSpPr/>
              <p:nvPr/>
            </p:nvSpPr>
            <p:spPr>
              <a:xfrm>
                <a:off x="1555560" y="256248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1870920" y="245772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105160" y="1904760"/>
              <a:ext cx="2247840" cy="2503800"/>
              <a:chOff x="5105160" y="1904760"/>
              <a:chExt cx="2247840" cy="2503800"/>
            </a:xfrm>
          </p:grpSpPr>
          <p:sp>
            <p:nvSpPr>
              <p:cNvPr id="693" name=""/>
              <p:cNvSpPr/>
              <p:nvPr/>
            </p:nvSpPr>
            <p:spPr>
              <a:xfrm flipH="1" flipV="1">
                <a:off x="5105160" y="190476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921360" y="321336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211440" y="353232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03640" y="353232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413160"/>
              <a:ext cx="2129760" cy="1035000"/>
              <a:chOff x="4910040" y="3413160"/>
              <a:chExt cx="2129760" cy="1035000"/>
            </a:xfrm>
          </p:grpSpPr>
          <p:sp>
            <p:nvSpPr>
              <p:cNvPr id="698" name=""/>
              <p:cNvSpPr/>
              <p:nvPr/>
            </p:nvSpPr>
            <p:spPr>
              <a:xfrm flipH="1">
                <a:off x="4910040" y="341316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738400" y="347328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94080" y="353232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457200" y="1015920"/>
            <a:ext cx="3124080" cy="4648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1143000"/>
            <a:ext cx="3048120" cy="5029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1168560"/>
            <a:ext cx="1905120" cy="434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4802-A4CA-40A4-8267-4023414E97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lution technique: XML &amp; RDF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8102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29196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fr-FR" sz="3100" spc="-1" strike="noStrike">
                <a:solidFill>
                  <a:srgbClr val="cc3300"/>
                </a:solidFill>
                <a:latin typeface="Arial"/>
              </a:rPr>
              <a:t>: </a:t>
            </a:r>
            <a:r>
              <a:rPr b="1" lang="fr-FR" sz="3100" spc="-1" strike="noStrike">
                <a:solidFill>
                  <a:srgbClr val="000099"/>
                </a:solidFill>
                <a:latin typeface="Arial"/>
              </a:rPr>
              <a:t>Si la mémoire devient un monde annoté (Web sémantique d'entreprise), les agents peuvent utiliser la sémantique des annotations et par des inférences aider son exploitation.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90720" y="1905120"/>
            <a:ext cx="7619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térialiser la mémoire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EB32-F53D-4E0E-A9D0-11C70EE227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llustration des étapes de modélisation(organis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933640" y="457200"/>
            <a:ext cx="3124080" cy="6091200"/>
            <a:chOff x="2933640" y="457200"/>
            <a:chExt cx="3124080" cy="6091200"/>
          </a:xfrm>
        </p:grpSpPr>
        <p:sp>
          <p:nvSpPr>
            <p:cNvPr id="709" name=""/>
            <p:cNvSpPr/>
            <p:nvPr/>
          </p:nvSpPr>
          <p:spPr>
            <a:xfrm>
              <a:off x="2933640" y="457200"/>
              <a:ext cx="3009960" cy="55627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33640" y="533520"/>
              <a:ext cx="312408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Entité_Organisationnelle(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x est une organisation ou une sous-partie d'une organisati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Personne (x): </a:t>
              </a: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x est une entité vivante appartenant au genre hu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Document (x): </a:t>
              </a: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x est une entité comprenant des éléments de la pens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Inclus (Entité_ Organisationnelle(x), Entité_Organisationnelle(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/ Personne(y)) : </a:t>
              </a: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l'entité organisationnelle x inclut la personne ou l'entité organisationnelle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Auteur </a:t>
              </a: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Personne(x)/</a:t>
              </a: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Entité _Organisationnelle(x), Document (y)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la personne ou l'entité organisationnelle x a créé le contenu du documen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76720" y="624852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 - 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71800" y="609624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905440" y="457200"/>
            <a:ext cx="3124440" cy="6172200"/>
            <a:chOff x="5905440" y="457200"/>
            <a:chExt cx="3124440" cy="6172200"/>
          </a:xfrm>
        </p:grpSpPr>
        <p:sp>
          <p:nvSpPr>
            <p:cNvPr id="714" name=""/>
            <p:cNvSpPr/>
            <p:nvPr/>
          </p:nvSpPr>
          <p:spPr>
            <a:xfrm>
              <a:off x="5943600" y="457200"/>
              <a:ext cx="2895480" cy="5562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05440" y="533520"/>
              <a:ext cx="297180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Personne 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Rose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Personne 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Fabien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Personne 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Olivier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Personne 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lain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Entité_Organisationne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 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INRIA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Entité_Organisationne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 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cacia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Inclus 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INRIA,Acacia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Inclus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CACIA,Rose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Inclus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CACIA,Fabien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Inclus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CACIA,Olivier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Inclus(</a:t>
              </a:r>
              <a:r>
                <a:rPr b="0" lang="fr-FR" sz="1400" spc="-1" strike="noStrike">
                  <a:solidFill>
                    <a:srgbClr val="3333cc"/>
                  </a:solidFill>
                  <a:latin typeface="Courier New"/>
                </a:rPr>
                <a:t>ACACIA,Alain</a:t>
              </a:r>
              <a:r>
                <a:rPr b="1" lang="fr-FR" sz="1400" spc="-1" strike="noStrike">
                  <a:solidFill>
                    <a:srgbClr val="3333cc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Document(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ArticleIC1</a:t>
              </a: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Auteur(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Fabien</a:t>
              </a: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, 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ArticleIC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Document (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Rapport-An</a:t>
              </a: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Auteur(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ACACIA</a:t>
              </a:r>
              <a:r>
                <a:rPr b="1" lang="fr-FR" sz="1400" spc="-1" strike="noStrike">
                  <a:solidFill>
                    <a:srgbClr val="cc3300"/>
                  </a:solidFill>
                  <a:latin typeface="Courier New"/>
                </a:rPr>
                <a:t>,</a:t>
              </a:r>
              <a:r>
                <a:rPr b="0" lang="fr-FR" sz="1400" spc="-1" strike="noStrike">
                  <a:solidFill>
                    <a:srgbClr val="cc3300"/>
                  </a:solidFill>
                  <a:latin typeface="Courier New"/>
                </a:rPr>
                <a:t>Rapport-A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05440" y="6299280"/>
              <a:ext cx="3124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 - </a:t>
              </a:r>
              <a:r>
                <a:rPr b="1" lang="fr-FR" sz="2000" spc="-1" strike="noStrike">
                  <a:solidFill>
                    <a:srgbClr val="3333cc"/>
                  </a:solidFill>
                  <a:latin typeface="Times New Roman"/>
                </a:rPr>
                <a:t>situation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 &amp; </a:t>
              </a:r>
              <a:r>
                <a:rPr b="1" lang="fr-FR" sz="2000" spc="-1" strike="noStrike">
                  <a:solidFill>
                    <a:srgbClr val="cc3300"/>
                  </a:solidFill>
                  <a:latin typeface="Times New Roman"/>
                </a:rPr>
                <a:t>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19920" y="6095880"/>
              <a:ext cx="2666880" cy="228600"/>
            </a:xfrm>
            <a:custGeom>
              <a:avLst/>
              <a:gdLst>
                <a:gd name="textAreaLeft" fmla="*/ 416520 w 2666880"/>
                <a:gd name="textAreaRight" fmla="*/ 2402640 w 26668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57200" y="457200"/>
            <a:ext cx="2476440" cy="6066000"/>
            <a:chOff x="457200" y="457200"/>
            <a:chExt cx="2476440" cy="6066000"/>
          </a:xfrm>
        </p:grpSpPr>
        <p:sp>
          <p:nvSpPr>
            <p:cNvPr id="719" name=""/>
            <p:cNvSpPr/>
            <p:nvPr/>
          </p:nvSpPr>
          <p:spPr>
            <a:xfrm>
              <a:off x="457200" y="457200"/>
              <a:ext cx="2476440" cy="5562720"/>
            </a:xfrm>
            <a:prstGeom prst="rect">
              <a:avLst/>
            </a:prstGeom>
            <a:solidFill>
              <a:srgbClr val="ffff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9480" y="6248520"/>
              <a:ext cx="190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 - réal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69800" y="952560"/>
              <a:ext cx="2438280" cy="520560"/>
              <a:chOff x="469800" y="952560"/>
              <a:chExt cx="2438280" cy="520560"/>
            </a:xfrm>
          </p:grpSpPr>
          <p:sp>
            <p:nvSpPr>
              <p:cNvPr id="722" name=""/>
              <p:cNvSpPr/>
              <p:nvPr/>
            </p:nvSpPr>
            <p:spPr>
              <a:xfrm>
                <a:off x="22986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5272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743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20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98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556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3842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128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8414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700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029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315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4601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887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173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459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374560" y="1082520"/>
                <a:ext cx="381240" cy="130320"/>
              </a:xfrm>
              <a:prstGeom prst="parallelogram">
                <a:avLst>
                  <a:gd name="adj" fmla="val 121892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506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792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3078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364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650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9936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22280" y="121284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84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270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1556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842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128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8414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070000" y="1342800"/>
                <a:ext cx="380880" cy="130320"/>
              </a:xfrm>
              <a:prstGeom prst="parallelogram">
                <a:avLst>
                  <a:gd name="adj" fmla="val 121777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27000" y="95256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50680" y="851040"/>
              <a:ext cx="1511640" cy="45720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495360" y="1778040"/>
              <a:ext cx="1980720" cy="685440"/>
              <a:chOff x="495360" y="1778040"/>
              <a:chExt cx="1980720" cy="685440"/>
            </a:xfrm>
          </p:grpSpPr>
          <p:sp>
            <p:nvSpPr>
              <p:cNvPr id="756" name=""/>
              <p:cNvSpPr/>
              <p:nvPr/>
            </p:nvSpPr>
            <p:spPr>
              <a:xfrm>
                <a:off x="495360" y="1778040"/>
                <a:ext cx="1980720" cy="6854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2960" y="192456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03240" y="192456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59960" y="192456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60840" y="197352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51720" y="197352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19000" y="197352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951200" y="197352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4840" y="197352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12000" y="197352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12000" y="2120400"/>
                <a:ext cx="173880" cy="98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2000" y="226764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68" name="" descr=""/>
            <p:cNvPicPr/>
            <p:nvPr/>
          </p:nvPicPr>
          <p:blipFill>
            <a:blip r:embed="rId1"/>
            <a:stretch/>
          </p:blipFill>
          <p:spPr>
            <a:xfrm>
              <a:off x="571320" y="4345200"/>
              <a:ext cx="2057400" cy="1243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571320" y="2692440"/>
              <a:ext cx="2057400" cy="12207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70" name=""/>
            <p:cNvSpPr/>
            <p:nvPr/>
          </p:nvSpPr>
          <p:spPr>
            <a:xfrm>
              <a:off x="609480" y="6096240"/>
              <a:ext cx="2133720" cy="22860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ffffe1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73200" y="3835440"/>
              <a:ext cx="1218960" cy="794880"/>
              <a:chOff x="673200" y="3835440"/>
              <a:chExt cx="1218960" cy="794880"/>
            </a:xfrm>
          </p:grpSpPr>
          <p:sp>
            <p:nvSpPr>
              <p:cNvPr id="772" name=""/>
              <p:cNvSpPr/>
              <p:nvPr/>
            </p:nvSpPr>
            <p:spPr>
              <a:xfrm>
                <a:off x="1079280" y="383544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4720" y="415368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333440" y="415368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30040" y="447156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87240" y="447156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73200" y="447156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1028520" y="399420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825480" y="43124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1282320" y="43124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333440" y="399420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587240" y="43124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4BBF4-FC5F-4D5C-AD94-63CDA68F2F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XML : Approche Metadata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908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XML: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Extensible Markup Languag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Structure 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ocuments &amp;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Extensibl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(&lt;Balise&gt; &lt;/Balise&gt;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réé pour le monde des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réseaux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intern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Format texte &amp; compréhensible à l'hom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mpréhensible machine 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distribuer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la charge de travail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TD &amp; XML Schema: permettre une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définition formell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es structur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tyle sheets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manipulation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es documents au-delà des styles et mises en for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Standard industrie </a:t>
            </a:r>
            <a:r>
              <a:rPr b="0" lang="fr-FR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Bon candidat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1900-2DBF-47B7-8E87-E7F8E62DF86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Faisabilité Ontologie &amp; atouts de RDF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6240" y="456840"/>
            <a:ext cx="9077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RDF: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Resource Description Framework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Décrire les ressources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u Web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nnotation interne/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extern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e docu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DF Schema (pour formaliser l'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ontologi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DFS Limité - Etendre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ssi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nécessa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8720" indent="-28872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Vers un </a:t>
            </a: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Web sémantique d'entreprise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mémoire annotée, basée sur un modèl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88720" indent="-28872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Trois </a:t>
            </a: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sources de besoin d'une ontologi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Composant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à part entièr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e la mém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Vocabulaire partagé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pour annotations et modèl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Vocabulaire partagé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pour communication entre ag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8720" indent="-28872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ontexte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= </a:t>
            </a: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Entrepris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ortée limitée (scénarios) &amp; Communauté (entrepris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Ontologie &amp; Engagement ontolog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A685-85AA-4FAE-A28F-8F1BA162AC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569880" y="380880"/>
            <a:ext cx="8169480" cy="2209680"/>
            <a:chOff x="569880" y="380880"/>
            <a:chExt cx="8169480" cy="2209680"/>
          </a:xfrm>
        </p:grpSpPr>
        <p:sp>
          <p:nvSpPr>
            <p:cNvPr id="788" name=""/>
            <p:cNvSpPr/>
            <p:nvPr/>
          </p:nvSpPr>
          <p:spPr>
            <a:xfrm>
              <a:off x="585720" y="456840"/>
              <a:ext cx="8153640" cy="21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965960" y="47448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é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Groupe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é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mployé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Membr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Group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Personn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9880" y="38088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ntolog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RDF(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69880" y="2514600"/>
            <a:ext cx="8169480" cy="1523880"/>
            <a:chOff x="569880" y="2514600"/>
            <a:chExt cx="8169480" cy="1523880"/>
          </a:xfrm>
        </p:grpSpPr>
        <p:sp>
          <p:nvSpPr>
            <p:cNvPr id="793" name=""/>
            <p:cNvSpPr/>
            <p:nvPr/>
          </p:nvSpPr>
          <p:spPr>
            <a:xfrm>
              <a:off x="585720" y="259092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25800" y="266688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tit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33640" y="350532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rou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57520" y="350532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erson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072120" y="3429000"/>
              <a:ext cx="1523880" cy="533160"/>
              <a:chOff x="6072120" y="3429000"/>
              <a:chExt cx="1523880" cy="533160"/>
            </a:xfrm>
          </p:grpSpPr>
          <p:sp>
            <p:nvSpPr>
              <p:cNvPr id="798" name=""/>
              <p:cNvSpPr/>
              <p:nvPr/>
            </p:nvSpPr>
            <p:spPr>
              <a:xfrm>
                <a:off x="6072120" y="342900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98840" y="344160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mploy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2719080" y="3124080"/>
              <a:ext cx="76212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81560" y="3124080"/>
              <a:ext cx="76176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17664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176640" y="335268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928760" y="37339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48640" y="33526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96000" y="3733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10360" y="26668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050240" y="2666880"/>
              <a:ext cx="1523880" cy="533160"/>
              <a:chOff x="7050240" y="2666880"/>
              <a:chExt cx="1523880" cy="533160"/>
            </a:xfrm>
          </p:grpSpPr>
          <p:sp>
            <p:nvSpPr>
              <p:cNvPr id="809" name=""/>
              <p:cNvSpPr/>
              <p:nvPr/>
            </p:nvSpPr>
            <p:spPr>
              <a:xfrm>
                <a:off x="7050240" y="266688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177320" y="2679480"/>
                <a:ext cx="12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Memb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 flipH="1">
              <a:off x="7062480" y="320040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86680" y="34797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36720" y="308628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oma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9880" y="251460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iérarchie de l'ont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68440" y="3962520"/>
            <a:ext cx="8168760" cy="1215360"/>
            <a:chOff x="568440" y="3962520"/>
            <a:chExt cx="8168760" cy="1215360"/>
          </a:xfrm>
        </p:grpSpPr>
        <p:sp>
          <p:nvSpPr>
            <p:cNvPr id="816" name=""/>
            <p:cNvSpPr/>
            <p:nvPr/>
          </p:nvSpPr>
          <p:spPr>
            <a:xfrm>
              <a:off x="583920" y="4023000"/>
              <a:ext cx="8153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74200" y="4111920"/>
              <a:ext cx="72522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Groupe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Employé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Personne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/CoMMA:Employé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/CoMMA:Groupe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8440" y="3962520"/>
              <a:ext cx="192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(XM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585720" y="5079960"/>
            <a:ext cx="8179560" cy="1523880"/>
            <a:chOff x="585720" y="5079960"/>
            <a:chExt cx="8179560" cy="1523880"/>
          </a:xfrm>
        </p:grpSpPr>
        <p:sp>
          <p:nvSpPr>
            <p:cNvPr id="820" name=""/>
            <p:cNvSpPr/>
            <p:nvPr/>
          </p:nvSpPr>
          <p:spPr>
            <a:xfrm>
              <a:off x="585720" y="515628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014720" y="5994360"/>
              <a:ext cx="1523880" cy="533160"/>
              <a:chOff x="4014720" y="5994360"/>
              <a:chExt cx="1523880" cy="533160"/>
            </a:xfrm>
          </p:grpSpPr>
          <p:sp>
            <p:nvSpPr>
              <p:cNvPr id="822" name=""/>
              <p:cNvSpPr/>
              <p:nvPr/>
            </p:nvSpPr>
            <p:spPr>
              <a:xfrm>
                <a:off x="4014720" y="599436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141440" y="600696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mploy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3124080" y="6262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4120" y="5994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538600" y="62611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38200" y="599436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oma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24760" y="603252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ersonne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5720" y="507996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nnot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 de tri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12560" y="5537160"/>
              <a:ext cx="4752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urier New"/>
                </a:rPr>
                <a:t>(Acacia, Employé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603252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roupe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C2A6-4FCF-4DCE-8299-049F0AFFD1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Mémoire annotée et basée sur des modèl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3360" y="457200"/>
            <a:ext cx="6566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O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ntologie en RDFS (O'CoMM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escription de la </a:t>
            </a: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S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ituation en RD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fil utilisateur (annoter les person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Modèle Organisation (annoter les grou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A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nnotations en RDF décrivant les </a:t>
            </a: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D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ocu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6324480" y="533520"/>
            <a:ext cx="2666880" cy="2514240"/>
            <a:chOff x="6324480" y="533520"/>
            <a:chExt cx="2666880" cy="2514240"/>
          </a:xfrm>
        </p:grpSpPr>
        <p:sp>
          <p:nvSpPr>
            <p:cNvPr id="835" name=""/>
            <p:cNvSpPr/>
            <p:nvPr/>
          </p:nvSpPr>
          <p:spPr>
            <a:xfrm>
              <a:off x="6324480" y="533520"/>
              <a:ext cx="2666880" cy="251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35360" y="644400"/>
              <a:ext cx="555840" cy="545760"/>
            </a:xfrm>
            <a:prstGeom prst="roundRect">
              <a:avLst>
                <a:gd name="adj" fmla="val 164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24640" y="644400"/>
              <a:ext cx="555840" cy="545760"/>
            </a:xfrm>
            <a:prstGeom prst="roundRect">
              <a:avLst>
                <a:gd name="adj" fmla="val 164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24640" y="2395080"/>
              <a:ext cx="555840" cy="547560"/>
            </a:xfrm>
            <a:prstGeom prst="roundRect">
              <a:avLst>
                <a:gd name="adj" fmla="val 164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35360" y="2395080"/>
              <a:ext cx="555840" cy="547560"/>
            </a:xfrm>
            <a:prstGeom prst="roundRect">
              <a:avLst>
                <a:gd name="adj" fmla="val 1649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14200" y="690480"/>
              <a:ext cx="452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06000" y="690480"/>
              <a:ext cx="448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406000" y="2443320"/>
              <a:ext cx="448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4200" y="2443320"/>
              <a:ext cx="452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435360" y="1627560"/>
              <a:ext cx="448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31120" y="2499480"/>
              <a:ext cx="448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35800" y="753120"/>
              <a:ext cx="448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33720" y="1627560"/>
              <a:ext cx="4550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577000">
              <a:off x="7085160" y="1272960"/>
              <a:ext cx="1108800" cy="1093680"/>
            </a:xfrm>
            <a:custGeom>
              <a:avLst/>
              <a:gdLst>
                <a:gd name="textAreaLeft" fmla="*/ 0 w 1108800"/>
                <a:gd name="textAreaRight" fmla="*/ 1109160 w 110880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324480" y="1407600"/>
              <a:ext cx="266688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3360" y="3581280"/>
            <a:ext cx="9080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Annotation des personnes et des groupes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cc3300"/>
                </a:solidFill>
                <a:latin typeface="Arial"/>
              </a:rPr>
              <a:t> conscience du contex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Annotation des documents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9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cc3300"/>
                </a:solidFill>
                <a:latin typeface="Arial"/>
              </a:rPr>
              <a:t> conscience du contenu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EB65-8E97-44E1-A4E7-E33A79AFFF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"/>
          <p:cNvGrpSpPr/>
          <p:nvPr/>
        </p:nvGrpSpPr>
        <p:grpSpPr>
          <a:xfrm>
            <a:off x="380520" y="5091120"/>
            <a:ext cx="3159720" cy="855720"/>
            <a:chOff x="380520" y="5091120"/>
            <a:chExt cx="3159720" cy="855720"/>
          </a:xfrm>
        </p:grpSpPr>
        <p:sp>
          <p:nvSpPr>
            <p:cNvPr id="852" name=""/>
            <p:cNvSpPr/>
            <p:nvPr/>
          </p:nvSpPr>
          <p:spPr>
            <a:xfrm>
              <a:off x="1720800" y="5135400"/>
              <a:ext cx="1819440" cy="811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60480" y="5095800"/>
              <a:ext cx="132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equê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380520" y="5170320"/>
              <a:ext cx="430200" cy="758880"/>
              <a:chOff x="380520" y="5170320"/>
              <a:chExt cx="430200" cy="758880"/>
            </a:xfrm>
          </p:grpSpPr>
          <p:sp>
            <p:nvSpPr>
              <p:cNvPr id="855" name=""/>
              <p:cNvSpPr/>
              <p:nvPr/>
            </p:nvSpPr>
            <p:spPr>
              <a:xfrm flipH="1">
                <a:off x="505080" y="5212440"/>
                <a:ext cx="1681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16320" y="5170320"/>
                <a:ext cx="19404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526680" y="5390280"/>
                <a:ext cx="10080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425520" y="5397480"/>
                <a:ext cx="15516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80160" y="5614560"/>
                <a:ext cx="18828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560160" y="5613840"/>
                <a:ext cx="1263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814320" y="5091120"/>
              <a:ext cx="473040" cy="396720"/>
              <a:chOff x="814320" y="5091120"/>
              <a:chExt cx="473040" cy="396720"/>
            </a:xfrm>
          </p:grpSpPr>
          <p:sp>
            <p:nvSpPr>
              <p:cNvPr id="862" name=""/>
              <p:cNvSpPr/>
              <p:nvPr/>
            </p:nvSpPr>
            <p:spPr>
              <a:xfrm>
                <a:off x="814320" y="5091120"/>
                <a:ext cx="47304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3" name="i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930240" y="51613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4" name=""/>
            <p:cNvSpPr/>
            <p:nvPr/>
          </p:nvSpPr>
          <p:spPr>
            <a:xfrm>
              <a:off x="603360" y="5562720"/>
              <a:ext cx="996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58840" y="556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43080" y="4102200"/>
            <a:ext cx="3198600" cy="917280"/>
            <a:chOff x="343080" y="4102200"/>
            <a:chExt cx="3198600" cy="917280"/>
          </a:xfrm>
        </p:grpSpPr>
        <p:sp>
          <p:nvSpPr>
            <p:cNvPr id="867" name=""/>
            <p:cNvSpPr/>
            <p:nvPr/>
          </p:nvSpPr>
          <p:spPr>
            <a:xfrm>
              <a:off x="1724040" y="4184640"/>
              <a:ext cx="18176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844640" y="4194000"/>
              <a:ext cx="121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èg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4419720"/>
              <a:ext cx="12351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Ingéni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Connaiss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343080" y="4102200"/>
              <a:ext cx="380520" cy="875520"/>
              <a:chOff x="343080" y="4102200"/>
              <a:chExt cx="380520" cy="8755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343080" y="4102200"/>
                <a:ext cx="187200" cy="73080"/>
                <a:chOff x="343080" y="4102200"/>
                <a:chExt cx="187200" cy="7308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343080" y="41572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89160" y="41097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453600" y="41022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89240" y="41302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409320" y="4153680"/>
                <a:ext cx="314280" cy="824040"/>
                <a:chOff x="409320" y="4153680"/>
                <a:chExt cx="314280" cy="82404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466200" y="428940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79240" y="415368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09320" y="444960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12640" y="444060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77720" y="463392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75280" y="463392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83" name="ampoule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000" y="41475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4" name=""/>
            <p:cNvSpPr/>
            <p:nvPr/>
          </p:nvSpPr>
          <p:spPr>
            <a:xfrm>
              <a:off x="1447920" y="4559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80880" y="2841480"/>
            <a:ext cx="3156120" cy="968400"/>
            <a:chOff x="380880" y="2841480"/>
            <a:chExt cx="3156120" cy="968400"/>
          </a:xfrm>
        </p:grpSpPr>
        <p:sp>
          <p:nvSpPr>
            <p:cNvPr id="886" name=""/>
            <p:cNvSpPr/>
            <p:nvPr/>
          </p:nvSpPr>
          <p:spPr>
            <a:xfrm>
              <a:off x="1719360" y="2867040"/>
              <a:ext cx="1817640" cy="878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95960" y="284148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498600" y="3179880"/>
              <a:ext cx="430200" cy="630000"/>
              <a:chOff x="498600" y="3179880"/>
              <a:chExt cx="430200" cy="630000"/>
            </a:xfrm>
          </p:grpSpPr>
          <p:sp>
            <p:nvSpPr>
              <p:cNvPr id="889" name=""/>
              <p:cNvSpPr/>
              <p:nvPr/>
            </p:nvSpPr>
            <p:spPr>
              <a:xfrm>
                <a:off x="687240" y="3389400"/>
                <a:ext cx="10008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26120" y="3587400"/>
                <a:ext cx="11448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74920" y="3576600"/>
                <a:ext cx="142560" cy="23328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98600" y="3389760"/>
                <a:ext cx="19296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6960" y="3179880"/>
                <a:ext cx="141840" cy="23544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47280" y="3214800"/>
                <a:ext cx="11052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777960" y="2895480"/>
              <a:ext cx="237960" cy="239760"/>
              <a:chOff x="777960" y="2895480"/>
              <a:chExt cx="237960" cy="239760"/>
            </a:xfrm>
          </p:grpSpPr>
          <p:sp>
            <p:nvSpPr>
              <p:cNvPr id="896" name=""/>
              <p:cNvSpPr/>
              <p:nvPr/>
            </p:nvSpPr>
            <p:spPr>
              <a:xfrm>
                <a:off x="777960" y="2895480"/>
                <a:ext cx="2379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7" name="doc_03" descr=""/>
              <p:cNvPicPr/>
              <p:nvPr/>
            </p:nvPicPr>
            <p:blipFill>
              <a:blip r:embed="rId3"/>
              <a:stretch/>
            </p:blipFill>
            <p:spPr>
              <a:xfrm>
                <a:off x="804960" y="2917080"/>
                <a:ext cx="19836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98" name=""/>
            <p:cNvGrpSpPr/>
            <p:nvPr/>
          </p:nvGrpSpPr>
          <p:grpSpPr>
            <a:xfrm>
              <a:off x="446040" y="2855880"/>
              <a:ext cx="255600" cy="279360"/>
              <a:chOff x="446040" y="2855880"/>
              <a:chExt cx="255600" cy="279360"/>
            </a:xfrm>
          </p:grpSpPr>
          <p:sp>
            <p:nvSpPr>
              <p:cNvPr id="899" name=""/>
              <p:cNvSpPr/>
              <p:nvPr/>
            </p:nvSpPr>
            <p:spPr>
              <a:xfrm>
                <a:off x="446040" y="2855880"/>
                <a:ext cx="25560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0" name="doc_0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4320" y="2874600"/>
                <a:ext cx="23688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901" name=""/>
            <p:cNvGrpSpPr/>
            <p:nvPr/>
          </p:nvGrpSpPr>
          <p:grpSpPr>
            <a:xfrm>
              <a:off x="380880" y="3174840"/>
              <a:ext cx="204840" cy="244800"/>
              <a:chOff x="380880" y="3174840"/>
              <a:chExt cx="204840" cy="244800"/>
            </a:xfrm>
          </p:grpSpPr>
          <p:sp>
            <p:nvSpPr>
              <p:cNvPr id="902" name=""/>
              <p:cNvSpPr/>
              <p:nvPr/>
            </p:nvSpPr>
            <p:spPr>
              <a:xfrm>
                <a:off x="380880" y="3174840"/>
                <a:ext cx="204840" cy="244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3" name="doc_01" descr=""/>
              <p:cNvPicPr/>
              <p:nvPr/>
            </p:nvPicPr>
            <p:blipFill>
              <a:blip r:embed="rId5"/>
              <a:stretch/>
            </p:blipFill>
            <p:spPr>
              <a:xfrm>
                <a:off x="401400" y="3191400"/>
                <a:ext cx="167400" cy="2156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904" name=""/>
            <p:cNvSpPr/>
            <p:nvPr/>
          </p:nvSpPr>
          <p:spPr>
            <a:xfrm>
              <a:off x="765000" y="3389400"/>
              <a:ext cx="10638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Utilisa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4300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0120" y="1828800"/>
            <a:ext cx="3206880" cy="965160"/>
            <a:chOff x="330120" y="1828800"/>
            <a:chExt cx="3206880" cy="965160"/>
          </a:xfrm>
        </p:grpSpPr>
        <p:sp>
          <p:nvSpPr>
            <p:cNvPr id="907" name=""/>
            <p:cNvSpPr/>
            <p:nvPr/>
          </p:nvSpPr>
          <p:spPr>
            <a:xfrm>
              <a:off x="1719360" y="1919160"/>
              <a:ext cx="18176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81000" y="191628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Sché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1680" y="2197080"/>
              <a:ext cx="1269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Ingéni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Connaiss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330120" y="1828800"/>
              <a:ext cx="381240" cy="875520"/>
              <a:chOff x="330120" y="1828800"/>
              <a:chExt cx="381240" cy="87552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330120" y="1828800"/>
                <a:ext cx="187200" cy="73080"/>
                <a:chOff x="330120" y="1828800"/>
                <a:chExt cx="187200" cy="730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330120" y="18838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6200" y="18363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40640" y="18288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76280" y="18568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396360" y="1880280"/>
                <a:ext cx="315000" cy="824040"/>
                <a:chOff x="396360" y="1880280"/>
                <a:chExt cx="315000" cy="8240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453240" y="2016000"/>
                  <a:ext cx="15840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6640" y="188028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96360" y="217620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99680" y="216720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64760" y="236052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2680" y="2360520"/>
                  <a:ext cx="14868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2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365040" y="18741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4" name=""/>
            <p:cNvSpPr/>
            <p:nvPr/>
          </p:nvSpPr>
          <p:spPr>
            <a:xfrm>
              <a:off x="1438200" y="2336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mplantation du web sémantique d'entrepris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3360" y="457200"/>
            <a:ext cx="9080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16000" indent="-2160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CORESE: COnceptual REsources Search Engin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497880" indent="-1407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DF(S) pour ontologie, annotations, règles</a:t>
            </a:r>
            <a:r>
              <a:rPr b="0" lang="fr-FR" sz="2400" spc="-1" strike="noStrike" baseline="30000">
                <a:solidFill>
                  <a:srgbClr val="000099"/>
                </a:solidFill>
                <a:latin typeface="Arial"/>
              </a:rPr>
              <a:t>(+) 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, requêtes</a:t>
            </a:r>
            <a:r>
              <a:rPr b="0" lang="fr-FR" sz="2400" spc="-1" strike="noStrike" baseline="30000">
                <a:solidFill>
                  <a:srgbClr val="000099"/>
                </a:solidFill>
                <a:latin typeface="Arial"/>
              </a:rPr>
              <a:t>(+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97880" indent="-1407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mposant léger &amp; API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625920" y="1849320"/>
            <a:ext cx="3167280" cy="4263120"/>
            <a:chOff x="3625920" y="1849320"/>
            <a:chExt cx="3167280" cy="4263120"/>
          </a:xfrm>
        </p:grpSpPr>
        <p:sp>
          <p:nvSpPr>
            <p:cNvPr id="928" name=""/>
            <p:cNvSpPr/>
            <p:nvPr/>
          </p:nvSpPr>
          <p:spPr>
            <a:xfrm>
              <a:off x="3625920" y="1849320"/>
              <a:ext cx="3090960" cy="419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65600" y="571356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797560" y="1841400"/>
            <a:ext cx="1572120" cy="4841280"/>
            <a:chOff x="2797560" y="1841400"/>
            <a:chExt cx="1572120" cy="4841280"/>
          </a:xfrm>
        </p:grpSpPr>
        <p:sp>
          <p:nvSpPr>
            <p:cNvPr id="931" name=""/>
            <p:cNvSpPr/>
            <p:nvPr/>
          </p:nvSpPr>
          <p:spPr>
            <a:xfrm>
              <a:off x="3625920" y="184140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97560" y="622296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041640" y="1860480"/>
            <a:ext cx="2030400" cy="4116600"/>
            <a:chOff x="3041640" y="1860480"/>
            <a:chExt cx="2030400" cy="4116600"/>
          </a:xfrm>
        </p:grpSpPr>
        <p:sp>
          <p:nvSpPr>
            <p:cNvPr id="934" name=""/>
            <p:cNvSpPr/>
            <p:nvPr/>
          </p:nvSpPr>
          <p:spPr>
            <a:xfrm>
              <a:off x="3787920" y="1933560"/>
              <a:ext cx="1250640" cy="84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55520" y="186048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de G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01960" y="2863800"/>
              <a:ext cx="1212840" cy="84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10240" y="2792520"/>
              <a:ext cx="113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de G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90800" y="4179960"/>
              <a:ext cx="1214640" cy="84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76760" y="419112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ègles G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79800" y="2149560"/>
              <a:ext cx="861840" cy="430200"/>
            </a:xfrm>
            <a:custGeom>
              <a:avLst/>
              <a:gdLst>
                <a:gd name="textAreaLeft" fmla="*/ 134640 w 861840"/>
                <a:gd name="textAreaRight" fmla="*/ 754200 w 861840"/>
                <a:gd name="textAreaTop" fmla="*/ 107640 h 430200"/>
                <a:gd name="textAreaBottom" fmla="*/ 32292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041640" y="3116160"/>
              <a:ext cx="862200" cy="427320"/>
            </a:xfrm>
            <a:custGeom>
              <a:avLst/>
              <a:gdLst>
                <a:gd name="textAreaLeft" fmla="*/ 134640 w 862200"/>
                <a:gd name="textAreaRight" fmla="*/ 754560 w 862200"/>
                <a:gd name="textAreaTop" fmla="*/ 106920 h 427320"/>
                <a:gd name="textAreaBottom" fmla="*/ 320760 h 4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84480" y="4362480"/>
              <a:ext cx="854280" cy="430200"/>
            </a:xfrm>
            <a:custGeom>
              <a:avLst/>
              <a:gdLst>
                <a:gd name="textAreaLeft" fmla="*/ 133200 w 854280"/>
                <a:gd name="textAreaRight" fmla="*/ 747720 w 854280"/>
                <a:gd name="textAreaTop" fmla="*/ 107640 h 430200"/>
                <a:gd name="textAreaBottom" fmla="*/ 32292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789360" y="5130720"/>
              <a:ext cx="1214280" cy="84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76760" y="506880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equê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G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83040" y="5299200"/>
              <a:ext cx="853920" cy="430200"/>
            </a:xfrm>
            <a:custGeom>
              <a:avLst/>
              <a:gdLst>
                <a:gd name="textAreaLeft" fmla="*/ 133200 w 853920"/>
                <a:gd name="textAreaRight" fmla="*/ 747360 w 853920"/>
                <a:gd name="textAreaTop" fmla="*/ 107640 h 430200"/>
                <a:gd name="textAreaBottom" fmla="*/ 322920 h 43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584880" y="3543120"/>
            <a:ext cx="1648800" cy="758520"/>
            <a:chOff x="3584880" y="3543120"/>
            <a:chExt cx="1648800" cy="758520"/>
          </a:xfrm>
        </p:grpSpPr>
        <p:sp>
          <p:nvSpPr>
            <p:cNvPr id="947" name=""/>
            <p:cNvSpPr/>
            <p:nvPr/>
          </p:nvSpPr>
          <p:spPr>
            <a:xfrm flipH="1">
              <a:off x="3625560" y="3828960"/>
              <a:ext cx="16081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84880" y="375768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16200000">
              <a:off x="4540320" y="3789000"/>
              <a:ext cx="758520" cy="266760"/>
            </a:xfrm>
            <a:prstGeom prst="rightArrow">
              <a:avLst>
                <a:gd name="adj1" fmla="val 50000"/>
                <a:gd name="adj2" fmla="val 7108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7560" y="1841400"/>
            <a:ext cx="2183400" cy="4841280"/>
            <a:chOff x="4417560" y="1841400"/>
            <a:chExt cx="2183400" cy="4841280"/>
          </a:xfrm>
        </p:grpSpPr>
        <p:sp>
          <p:nvSpPr>
            <p:cNvPr id="951" name=""/>
            <p:cNvSpPr/>
            <p:nvPr/>
          </p:nvSpPr>
          <p:spPr>
            <a:xfrm>
              <a:off x="5322960" y="2868480"/>
              <a:ext cx="1217520" cy="841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335200" y="2852640"/>
              <a:ext cx="126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Résult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Times New Roman"/>
                </a:rPr>
                <a:t>en G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224320" y="1841400"/>
              <a:ext cx="0" cy="4483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17560" y="6222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5400000">
              <a:off x="4981680" y="2068560"/>
              <a:ext cx="715680" cy="95400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9" stAng="10800000" swAng="5400000"/>
                  <a:lnTo>
                    <a:pt x="14846" y="3721"/>
                  </a:lnTo>
                  <a:lnTo>
                    <a:pt x="14846" y="0"/>
                  </a:lnTo>
                  <a:lnTo>
                    <a:pt x="21600" y="6079"/>
                  </a:lnTo>
                  <a:lnTo>
                    <a:pt x="14846" y="12158"/>
                  </a:lnTo>
                  <a:lnTo>
                    <a:pt x="14846" y="8437"/>
                  </a:lnTo>
                  <a:lnTo>
                    <a:pt x="12427" y="8437"/>
                  </a:lnTo>
                  <a:arcTo wR="7711" hR="3723" stAng="16200000" swAng="-5400000"/>
                  <a:lnTo>
                    <a:pt x="4716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79800" y="3033720"/>
              <a:ext cx="609840" cy="460440"/>
            </a:xfrm>
            <a:prstGeom prst="rightArrow">
              <a:avLst>
                <a:gd name="adj1" fmla="val 49657"/>
                <a:gd name="adj2" fmla="val 46908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 rot="16200000">
              <a:off x="4496040" y="4143960"/>
              <a:ext cx="1792080" cy="847800"/>
            </a:xfrm>
            <a:custGeom>
              <a:avLst/>
              <a:gdLst>
                <a:gd name="textAreaLeft" fmla="*/ 0 w 1792080"/>
                <a:gd name="textAreaRight" fmla="*/ 1792440 w 1792080"/>
                <a:gd name="textAreaTop" fmla="*/ -360 h 847800"/>
                <a:gd name="textAreaBottom" fmla="*/ 847800 h 8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83" stAng="10800000" swAng="5400000"/>
                  <a:lnTo>
                    <a:pt x="18347" y="4377"/>
                  </a:lnTo>
                  <a:lnTo>
                    <a:pt x="18347" y="0"/>
                  </a:lnTo>
                  <a:lnTo>
                    <a:pt x="21600" y="6079"/>
                  </a:lnTo>
                  <a:lnTo>
                    <a:pt x="18347" y="12158"/>
                  </a:lnTo>
                  <a:lnTo>
                    <a:pt x="18347" y="7781"/>
                  </a:lnTo>
                  <a:lnTo>
                    <a:pt x="12427" y="7781"/>
                  </a:lnTo>
                  <a:arcTo wR="9023" hR="4379" stAng="16200000" swAng="-5400000"/>
                  <a:lnTo>
                    <a:pt x="340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5891760" y="1841400"/>
            <a:ext cx="3252240" cy="4841280"/>
            <a:chOff x="5891760" y="1841400"/>
            <a:chExt cx="3252240" cy="4841280"/>
          </a:xfrm>
        </p:grpSpPr>
        <p:grpSp>
          <p:nvGrpSpPr>
            <p:cNvPr id="959" name=""/>
            <p:cNvGrpSpPr/>
            <p:nvPr/>
          </p:nvGrpSpPr>
          <p:grpSpPr>
            <a:xfrm>
              <a:off x="6797520" y="2666880"/>
              <a:ext cx="2346480" cy="1044720"/>
              <a:chOff x="6797520" y="2666880"/>
              <a:chExt cx="2346480" cy="1044720"/>
            </a:xfrm>
          </p:grpSpPr>
          <p:sp>
            <p:nvSpPr>
              <p:cNvPr id="960" name=""/>
              <p:cNvSpPr/>
              <p:nvPr/>
            </p:nvSpPr>
            <p:spPr>
              <a:xfrm>
                <a:off x="6797520" y="2863800"/>
                <a:ext cx="1446480" cy="846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06880" y="2886120"/>
                <a:ext cx="1342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Times New Roman"/>
                  </a:rPr>
                  <a:t> </a:t>
                </a:r>
                <a:r>
                  <a:rPr b="1" lang="fr-FR" sz="2400" spc="-1" strike="noStrike">
                    <a:solidFill>
                      <a:srgbClr val="000099"/>
                    </a:solidFill>
                    <a:latin typeface="Times New Roman"/>
                  </a:rPr>
                  <a:t>Résult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Times New Roman"/>
                  </a:rPr>
                  <a:t>en 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2" name=""/>
              <p:cNvGrpSpPr/>
              <p:nvPr/>
            </p:nvGrpSpPr>
            <p:grpSpPr>
              <a:xfrm>
                <a:off x="8702280" y="2895480"/>
                <a:ext cx="430200" cy="758880"/>
                <a:chOff x="8702280" y="2895480"/>
                <a:chExt cx="430200" cy="758880"/>
              </a:xfrm>
            </p:grpSpPr>
            <p:sp>
              <p:nvSpPr>
                <p:cNvPr id="963" name=""/>
                <p:cNvSpPr/>
                <p:nvPr/>
              </p:nvSpPr>
              <p:spPr>
                <a:xfrm flipH="1">
                  <a:off x="8826840" y="2937600"/>
                  <a:ext cx="168120" cy="16560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8938080" y="2895480"/>
                  <a:ext cx="19404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8848440" y="3115440"/>
                  <a:ext cx="10080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8747280" y="3122640"/>
                  <a:ext cx="155160" cy="19152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8701920" y="3339720"/>
                  <a:ext cx="188280" cy="30960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8881920" y="3339000"/>
                  <a:ext cx="126360" cy="3153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9" name=""/>
              <p:cNvSpPr/>
              <p:nvPr/>
            </p:nvSpPr>
            <p:spPr>
              <a:xfrm>
                <a:off x="8153280" y="2666880"/>
                <a:ext cx="99072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Utilis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321760" y="335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6723000" y="184140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91760" y="622296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00800" y="3081240"/>
              <a:ext cx="663480" cy="487440"/>
            </a:xfrm>
            <a:custGeom>
              <a:avLst/>
              <a:gdLst>
                <a:gd name="textAreaLeft" fmla="*/ 103680 w 663480"/>
                <a:gd name="textAreaRight" fmla="*/ 558000 w 663480"/>
                <a:gd name="textAreaTop" fmla="*/ 135720 h 487440"/>
                <a:gd name="textAreaBottom" fmla="*/ 351720 h 4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3581280" y="3809880"/>
            <a:ext cx="3048120" cy="283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Courier New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Grou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Incl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Personn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Incl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Personn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Courier New"/>
              </a:rPr>
              <a:t>AL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Personn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Collè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fr-FR" sz="1800" spc="-1" strike="noStrike">
                <a:solidFill>
                  <a:srgbClr val="000099"/>
                </a:solidFill>
                <a:latin typeface="Courier New"/>
              </a:rPr>
              <a:t>Personn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194440" y="3581280"/>
            <a:ext cx="3949560" cy="2438640"/>
            <a:chOff x="5194440" y="3581280"/>
            <a:chExt cx="3949560" cy="2438640"/>
          </a:xfrm>
        </p:grpSpPr>
        <p:sp>
          <p:nvSpPr>
            <p:cNvPr id="976" name=""/>
            <p:cNvSpPr/>
            <p:nvPr/>
          </p:nvSpPr>
          <p:spPr>
            <a:xfrm flipV="1">
              <a:off x="5194440" y="3581280"/>
              <a:ext cx="3949560" cy="2438640"/>
            </a:xfrm>
            <a:prstGeom prst="cloudCallout">
              <a:avLst>
                <a:gd name="adj1" fmla="val -51009"/>
                <a:gd name="adj2" fmla="val -59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5589000" y="3733920"/>
              <a:ext cx="2965680" cy="1983600"/>
              <a:chOff x="5589000" y="3733920"/>
              <a:chExt cx="2965680" cy="1983600"/>
            </a:xfrm>
          </p:grpSpPr>
          <p:sp>
            <p:nvSpPr>
              <p:cNvPr id="978" name=""/>
              <p:cNvSpPr/>
              <p:nvPr/>
            </p:nvSpPr>
            <p:spPr>
              <a:xfrm>
                <a:off x="6199920" y="3733920"/>
                <a:ext cx="166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Docu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578640" y="4495680"/>
                <a:ext cx="9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Liv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589000" y="5257800"/>
                <a:ext cx="121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Ro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191360" y="5257800"/>
                <a:ext cx="136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99"/>
                    </a:solidFill>
                    <a:latin typeface="Arial"/>
                  </a:rPr>
                  <a:t>Nouvel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0"/>
                <a:endCxn id="978" idx="2"/>
              </p:cNvCxnSpPr>
              <p:nvPr/>
            </p:nvCxnSpPr>
            <p:spPr>
              <a:xfrm flipV="1">
                <a:off x="7033680" y="4190760"/>
                <a:ext cx="2520" cy="305280"/>
              </a:xfrm>
              <a:prstGeom prst="straightConnector1">
                <a:avLst/>
              </a:prstGeom>
              <a:ln w="25560">
                <a:solidFill>
                  <a:srgbClr val="cc3300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0"/>
                <a:endCxn id="979" idx="2"/>
              </p:cNvCxnSpPr>
              <p:nvPr/>
            </p:nvCxnSpPr>
            <p:spPr>
              <a:xfrm flipV="1">
                <a:off x="6195960" y="4952160"/>
                <a:ext cx="838800" cy="305640"/>
              </a:xfrm>
              <a:prstGeom prst="straightConnector1">
                <a:avLst/>
              </a:prstGeom>
              <a:ln w="25560">
                <a:solidFill>
                  <a:srgbClr val="cc3300"/>
                </a:solidFill>
                <a:miter/>
                <a:tailEnd len="med" type="triangle" w="med"/>
              </a:ln>
            </p:spPr>
          </p:cxnSp>
          <p:cxnSp>
            <p:nvCxnSpPr>
              <p:cNvPr id="984" name=""/>
              <p:cNvCxnSpPr>
                <a:stCxn id="981" idx="0"/>
                <a:endCxn id="979" idx="2"/>
              </p:cNvCxnSpPr>
              <p:nvPr/>
            </p:nvCxnSpPr>
            <p:spPr>
              <a:xfrm flipH="1" flipV="1">
                <a:off x="7033320" y="4952160"/>
                <a:ext cx="840600" cy="305640"/>
              </a:xfrm>
              <a:prstGeom prst="straightConnector1">
                <a:avLst/>
              </a:prstGeom>
              <a:ln cap="rnd" w="25560">
                <a:solidFill>
                  <a:srgbClr val="b2b2b2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31C0-92EA-4488-AF9E-715B905F705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711360" y="5835600"/>
            <a:ext cx="7791120" cy="322200"/>
            <a:chOff x="711360" y="5835600"/>
            <a:chExt cx="7791120" cy="322200"/>
          </a:xfrm>
        </p:grpSpPr>
        <p:sp>
          <p:nvSpPr>
            <p:cNvPr id="986" name=""/>
            <p:cNvSpPr/>
            <p:nvPr/>
          </p:nvSpPr>
          <p:spPr>
            <a:xfrm>
              <a:off x="711360" y="5835600"/>
              <a:ext cx="7791120" cy="3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127320" y="5835600"/>
              <a:ext cx="301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</a:rPr>
                <a:t>Usages et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1360" y="3397320"/>
            <a:ext cx="3862080" cy="2592360"/>
            <a:chOff x="711360" y="3397320"/>
            <a:chExt cx="3862080" cy="2592360"/>
          </a:xfrm>
        </p:grpSpPr>
        <p:grpSp>
          <p:nvGrpSpPr>
            <p:cNvPr id="989" name=""/>
            <p:cNvGrpSpPr/>
            <p:nvPr/>
          </p:nvGrpSpPr>
          <p:grpSpPr>
            <a:xfrm>
              <a:off x="711360" y="3397320"/>
              <a:ext cx="3862080" cy="2278080"/>
              <a:chOff x="711360" y="3397320"/>
              <a:chExt cx="3862080" cy="2278080"/>
            </a:xfrm>
          </p:grpSpPr>
          <p:sp>
            <p:nvSpPr>
              <p:cNvPr id="990" name=""/>
              <p:cNvSpPr/>
              <p:nvPr/>
            </p:nvSpPr>
            <p:spPr>
              <a:xfrm>
                <a:off x="711360" y="3397320"/>
                <a:ext cx="3862080" cy="207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149120" y="5436000"/>
                <a:ext cx="30175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1) Scenarios et colle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 rot="16200000">
              <a:off x="496440" y="5504040"/>
              <a:ext cx="768240" cy="20268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2680"/>
                <a:gd name="textAreaBottom" fmla="*/ 15192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nstruire O'CoMMA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1328760" y="3490920"/>
            <a:ext cx="3249000" cy="1228680"/>
            <a:chOff x="1328760" y="3490920"/>
            <a:chExt cx="3249000" cy="1228680"/>
          </a:xfrm>
        </p:grpSpPr>
        <p:sp>
          <p:nvSpPr>
            <p:cNvPr id="995" name=""/>
            <p:cNvSpPr/>
            <p:nvPr/>
          </p:nvSpPr>
          <p:spPr>
            <a:xfrm>
              <a:off x="1531800" y="4243320"/>
              <a:ext cx="1270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28760" y="4362480"/>
              <a:ext cx="339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00200" y="4541760"/>
              <a:ext cx="2973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5400000">
              <a:off x="3927600" y="3809160"/>
              <a:ext cx="9684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In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9" name="" descr=""/>
            <p:cNvPicPr/>
            <p:nvPr/>
          </p:nvPicPr>
          <p:blipFill>
            <a:blip r:embed="rId1"/>
            <a:stretch/>
          </p:blipFill>
          <p:spPr>
            <a:xfrm>
              <a:off x="1625400" y="3500280"/>
              <a:ext cx="990720" cy="598680"/>
            </a:xfrm>
            <a:prstGeom prst="rect">
              <a:avLst/>
            </a:prstGeom>
            <a:ln w="12600">
              <a:solidFill>
                <a:srgbClr val="b2b2b2"/>
              </a:solidFill>
              <a:miter/>
            </a:ln>
          </p:spPr>
        </p:pic>
        <p:grpSp>
          <p:nvGrpSpPr>
            <p:cNvPr id="1000" name=""/>
            <p:cNvGrpSpPr/>
            <p:nvPr/>
          </p:nvGrpSpPr>
          <p:grpSpPr>
            <a:xfrm>
              <a:off x="2049480" y="3834000"/>
              <a:ext cx="718920" cy="494640"/>
              <a:chOff x="2049480" y="3834000"/>
              <a:chExt cx="718920" cy="494640"/>
            </a:xfrm>
          </p:grpSpPr>
          <p:sp>
            <p:nvSpPr>
              <p:cNvPr id="1001" name=""/>
              <p:cNvSpPr/>
              <p:nvPr/>
            </p:nvSpPr>
            <p:spPr>
              <a:xfrm>
                <a:off x="2049480" y="3841560"/>
                <a:ext cx="160200" cy="50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158920" y="3834000"/>
                <a:ext cx="593640" cy="730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049480" y="3891960"/>
                <a:ext cx="91800" cy="436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9560" y="3925800"/>
                <a:ext cx="618840" cy="397440"/>
              </a:xfrm>
              <a:prstGeom prst="rect">
                <a:avLst/>
              </a:prstGeom>
              <a:ln w="12600">
                <a:solidFill>
                  <a:srgbClr val="b2b2b2"/>
                </a:solidFill>
                <a:miter/>
              </a:ln>
            </p:spPr>
          </p:pic>
        </p:grpSp>
        <p:grpSp>
          <p:nvGrpSpPr>
            <p:cNvPr id="1005" name=""/>
            <p:cNvGrpSpPr/>
            <p:nvPr/>
          </p:nvGrpSpPr>
          <p:grpSpPr>
            <a:xfrm>
              <a:off x="2766960" y="3502080"/>
              <a:ext cx="744480" cy="984240"/>
              <a:chOff x="2766960" y="3502080"/>
              <a:chExt cx="744480" cy="984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2766960" y="4246560"/>
                <a:ext cx="7444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Entreti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2843280" y="3502080"/>
                <a:ext cx="591840" cy="785520"/>
                <a:chOff x="2843280" y="3502080"/>
                <a:chExt cx="591840" cy="78552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2843280" y="3502080"/>
                  <a:ext cx="591840" cy="785520"/>
                </a:xfrm>
                <a:prstGeom prst="foldedCorner">
                  <a:avLst>
                    <a:gd name="adj" fmla="val 5273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62360" y="3538440"/>
                  <a:ext cx="5443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10" name=""/>
                <p:cNvGrpSpPr/>
                <p:nvPr/>
              </p:nvGrpSpPr>
              <p:grpSpPr>
                <a:xfrm>
                  <a:off x="2882880" y="4005000"/>
                  <a:ext cx="517320" cy="27000"/>
                  <a:chOff x="2882880" y="4005000"/>
                  <a:chExt cx="517320" cy="2700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3058200" y="4005000"/>
                    <a:ext cx="3420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2882880" y="4032000"/>
                    <a:ext cx="212400" cy="0"/>
                  </a:xfrm>
                  <a:prstGeom prst="line">
                    <a:avLst/>
                  </a:prstGeom>
                  <a:ln w="32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2882880" y="3757680"/>
                  <a:ext cx="517320" cy="31680"/>
                  <a:chOff x="2882880" y="3757680"/>
                  <a:chExt cx="517320" cy="316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3067560" y="375768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381840" y="3757680"/>
                    <a:ext cx="1836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2882880" y="3789360"/>
                    <a:ext cx="240120" cy="0"/>
                  </a:xfrm>
                  <a:prstGeom prst="line">
                    <a:avLst/>
                  </a:prstGeom>
                  <a:ln w="3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2882880" y="3633840"/>
                  <a:ext cx="517320" cy="554040"/>
                  <a:chOff x="2882880" y="3633840"/>
                  <a:chExt cx="517320" cy="55404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349440" y="3633840"/>
                    <a:ext cx="460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2882880" y="3661560"/>
                    <a:ext cx="249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261600" y="3661560"/>
                    <a:ext cx="1292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882880" y="3693240"/>
                    <a:ext cx="644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125520" y="3849840"/>
                    <a:ext cx="26784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2886120" y="3879000"/>
                    <a:ext cx="1108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944080" y="390960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095280" y="4096440"/>
                    <a:ext cx="3049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2888640" y="4125600"/>
                    <a:ext cx="50832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891880" y="4156200"/>
                    <a:ext cx="25848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057120" y="4187880"/>
                    <a:ext cx="147600" cy="0"/>
                  </a:xfrm>
                  <a:prstGeom prst="line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9" name=""/>
            <p:cNvGrpSpPr/>
            <p:nvPr/>
          </p:nvGrpSpPr>
          <p:grpSpPr>
            <a:xfrm>
              <a:off x="3463920" y="3490920"/>
              <a:ext cx="828720" cy="987480"/>
              <a:chOff x="3463920" y="3490920"/>
              <a:chExt cx="828720" cy="987480"/>
            </a:xfrm>
          </p:grpSpPr>
          <p:sp>
            <p:nvSpPr>
              <p:cNvPr id="1030" name=""/>
              <p:cNvSpPr/>
              <p:nvPr/>
            </p:nvSpPr>
            <p:spPr>
              <a:xfrm>
                <a:off x="3463920" y="4238640"/>
                <a:ext cx="8287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Docum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484440" y="3490920"/>
                <a:ext cx="773280" cy="8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2" name=""/>
          <p:cNvGrpSpPr/>
          <p:nvPr/>
        </p:nvGrpSpPr>
        <p:grpSpPr>
          <a:xfrm>
            <a:off x="1531800" y="4557600"/>
            <a:ext cx="3022200" cy="847800"/>
            <a:chOff x="1531800" y="4557600"/>
            <a:chExt cx="3022200" cy="847800"/>
          </a:xfrm>
        </p:grpSpPr>
        <p:sp>
          <p:nvSpPr>
            <p:cNvPr id="1033" name=""/>
            <p:cNvSpPr/>
            <p:nvPr/>
          </p:nvSpPr>
          <p:spPr>
            <a:xfrm>
              <a:off x="1531800" y="5124600"/>
              <a:ext cx="115272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Réutili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1531800" y="4792320"/>
              <a:ext cx="1152720" cy="357480"/>
              <a:chOff x="1531800" y="4792320"/>
              <a:chExt cx="1152720" cy="357480"/>
            </a:xfrm>
          </p:grpSpPr>
          <p:sp>
            <p:nvSpPr>
              <p:cNvPr id="1035" name=""/>
              <p:cNvSpPr/>
              <p:nvPr/>
            </p:nvSpPr>
            <p:spPr>
              <a:xfrm>
                <a:off x="1667160" y="47926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31800" y="489960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802880" y="489960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599480" y="482832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735200" y="4828320"/>
                <a:ext cx="1353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31800" y="50068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99480" y="493524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701360" y="50068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904760" y="500688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1769040" y="493524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70560" y="4935240"/>
                <a:ext cx="10152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31800" y="51141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01360" y="51141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904760" y="5114160"/>
                <a:ext cx="135360" cy="35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1599120" y="5042520"/>
                <a:ext cx="16956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69040" y="504252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69040" y="5042520"/>
                <a:ext cx="20340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2277720" y="4792680"/>
                <a:ext cx="271080" cy="35640"/>
                <a:chOff x="2277720" y="4792680"/>
                <a:chExt cx="271080" cy="3564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2277720" y="479268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479320" y="479268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347200" y="481032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370600" y="479268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2108160" y="4935240"/>
                <a:ext cx="271080" cy="35640"/>
                <a:chOff x="2108160" y="4935240"/>
                <a:chExt cx="271080" cy="3564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2108160" y="493524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309760" y="493524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177640" y="495288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201040" y="493524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2413440" y="4935240"/>
                <a:ext cx="271080" cy="35640"/>
                <a:chOff x="2413440" y="4935240"/>
                <a:chExt cx="271080" cy="3564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2413440" y="493524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615040" y="493524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482920" y="495288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506320" y="493524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2108160" y="5078520"/>
                <a:ext cx="271080" cy="35640"/>
                <a:chOff x="2108160" y="5078520"/>
                <a:chExt cx="271080" cy="3564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2108160" y="50785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309760" y="50785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2177640" y="50961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201040" y="50785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2413440" y="5078520"/>
                <a:ext cx="271080" cy="35640"/>
                <a:chOff x="2413440" y="5078520"/>
                <a:chExt cx="271080" cy="3564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2413440" y="50785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615040" y="5078520"/>
                  <a:ext cx="69480" cy="35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482920" y="5096160"/>
                  <a:ext cx="131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506320" y="5078520"/>
                  <a:ext cx="84960" cy="35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7" name=""/>
              <p:cNvSpPr/>
              <p:nvPr/>
            </p:nvSpPr>
            <p:spPr>
              <a:xfrm>
                <a:off x="2413440" y="4828320"/>
                <a:ext cx="1353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2243160" y="4828320"/>
                <a:ext cx="1695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2243160" y="4971240"/>
                <a:ext cx="30492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48800" y="49712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108160" y="479268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6160 h 321480"/>
                  <a:gd name="textAreaBottom" fmla="*/ 23328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1938600" y="4791960"/>
                <a:ext cx="135360" cy="321480"/>
              </a:xfrm>
              <a:custGeom>
                <a:avLst/>
                <a:gdLst>
                  <a:gd name="textAreaLeft" fmla="*/ 18000 w 135360"/>
                  <a:gd name="textAreaRight" fmla="*/ 117360 w 135360"/>
                  <a:gd name="textAreaTop" fmla="*/ 55800 h 321480"/>
                  <a:gd name="textAreaBottom" fmla="*/ 232920 h 321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rot="5400000">
              <a:off x="3999240" y="4850640"/>
              <a:ext cx="8478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2819520" y="4710240"/>
              <a:ext cx="677880" cy="647280"/>
              <a:chOff x="2819520" y="4710240"/>
              <a:chExt cx="677880" cy="64728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3159360" y="4710240"/>
                <a:ext cx="295200" cy="331560"/>
                <a:chOff x="3159360" y="4710240"/>
                <a:chExt cx="295200" cy="331560"/>
              </a:xfrm>
            </p:grpSpPr>
            <p:grpSp>
              <p:nvGrpSpPr>
                <p:cNvPr id="1086" name=""/>
                <p:cNvGrpSpPr/>
                <p:nvPr/>
              </p:nvGrpSpPr>
              <p:grpSpPr>
                <a:xfrm>
                  <a:off x="3159360" y="4710240"/>
                  <a:ext cx="295200" cy="331560"/>
                  <a:chOff x="3159360" y="4710240"/>
                  <a:chExt cx="295200" cy="331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>
                    <a:off x="3159360" y="4710240"/>
                    <a:ext cx="2952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90" h="2249">
                        <a:moveTo>
                          <a:pt x="22" y="2249"/>
                        </a:moveTo>
                        <a:lnTo>
                          <a:pt x="18" y="2247"/>
                        </a:lnTo>
                        <a:lnTo>
                          <a:pt x="15" y="2245"/>
                        </a:lnTo>
                        <a:lnTo>
                          <a:pt x="13" y="2243"/>
                        </a:lnTo>
                        <a:lnTo>
                          <a:pt x="10" y="2242"/>
                        </a:lnTo>
                        <a:lnTo>
                          <a:pt x="15" y="2195"/>
                        </a:lnTo>
                        <a:lnTo>
                          <a:pt x="27" y="2150"/>
                        </a:lnTo>
                        <a:lnTo>
                          <a:pt x="39" y="2105"/>
                        </a:lnTo>
                        <a:lnTo>
                          <a:pt x="44" y="2062"/>
                        </a:lnTo>
                        <a:lnTo>
                          <a:pt x="61" y="2002"/>
                        </a:lnTo>
                        <a:lnTo>
                          <a:pt x="79" y="1941"/>
                        </a:lnTo>
                        <a:lnTo>
                          <a:pt x="96" y="1879"/>
                        </a:lnTo>
                        <a:lnTo>
                          <a:pt x="111" y="1819"/>
                        </a:lnTo>
                        <a:lnTo>
                          <a:pt x="127" y="1757"/>
                        </a:lnTo>
                        <a:lnTo>
                          <a:pt x="140" y="1697"/>
                        </a:lnTo>
                        <a:lnTo>
                          <a:pt x="152" y="1635"/>
                        </a:lnTo>
                        <a:lnTo>
                          <a:pt x="161" y="1574"/>
                        </a:lnTo>
                        <a:lnTo>
                          <a:pt x="170" y="1524"/>
                        </a:lnTo>
                        <a:lnTo>
                          <a:pt x="173" y="1485"/>
                        </a:lnTo>
                        <a:lnTo>
                          <a:pt x="172" y="1445"/>
                        </a:lnTo>
                        <a:lnTo>
                          <a:pt x="164" y="1399"/>
                        </a:lnTo>
                        <a:lnTo>
                          <a:pt x="155" y="1373"/>
                        </a:lnTo>
                        <a:lnTo>
                          <a:pt x="146" y="1342"/>
                        </a:lnTo>
                        <a:lnTo>
                          <a:pt x="134" y="1302"/>
                        </a:lnTo>
                        <a:lnTo>
                          <a:pt x="118" y="1252"/>
                        </a:lnTo>
                        <a:lnTo>
                          <a:pt x="98" y="1189"/>
                        </a:lnTo>
                        <a:lnTo>
                          <a:pt x="72" y="1109"/>
                        </a:lnTo>
                        <a:lnTo>
                          <a:pt x="40" y="1009"/>
                        </a:lnTo>
                        <a:lnTo>
                          <a:pt x="0" y="885"/>
                        </a:lnTo>
                        <a:lnTo>
                          <a:pt x="0" y="881"/>
                        </a:lnTo>
                        <a:lnTo>
                          <a:pt x="0" y="877"/>
                        </a:lnTo>
                        <a:lnTo>
                          <a:pt x="0" y="873"/>
                        </a:lnTo>
                        <a:lnTo>
                          <a:pt x="0" y="871"/>
                        </a:lnTo>
                        <a:lnTo>
                          <a:pt x="10" y="856"/>
                        </a:lnTo>
                        <a:lnTo>
                          <a:pt x="19" y="837"/>
                        </a:lnTo>
                        <a:lnTo>
                          <a:pt x="27" y="814"/>
                        </a:lnTo>
                        <a:lnTo>
                          <a:pt x="34" y="791"/>
                        </a:lnTo>
                        <a:lnTo>
                          <a:pt x="39" y="767"/>
                        </a:lnTo>
                        <a:lnTo>
                          <a:pt x="43" y="745"/>
                        </a:lnTo>
                        <a:lnTo>
                          <a:pt x="47" y="725"/>
                        </a:lnTo>
                        <a:lnTo>
                          <a:pt x="50" y="709"/>
                        </a:lnTo>
                        <a:lnTo>
                          <a:pt x="72" y="632"/>
                        </a:lnTo>
                        <a:lnTo>
                          <a:pt x="94" y="553"/>
                        </a:lnTo>
                        <a:lnTo>
                          <a:pt x="117" y="475"/>
                        </a:lnTo>
                        <a:lnTo>
                          <a:pt x="138" y="398"/>
                        </a:lnTo>
                        <a:lnTo>
                          <a:pt x="157" y="320"/>
                        </a:lnTo>
                        <a:lnTo>
                          <a:pt x="174" y="241"/>
                        </a:lnTo>
                        <a:lnTo>
                          <a:pt x="188" y="164"/>
                        </a:lnTo>
                        <a:lnTo>
                          <a:pt x="197" y="85"/>
                        </a:lnTo>
                        <a:lnTo>
                          <a:pt x="199" y="79"/>
                        </a:lnTo>
                        <a:lnTo>
                          <a:pt x="202" y="75"/>
                        </a:lnTo>
                        <a:lnTo>
                          <a:pt x="205" y="70"/>
                        </a:lnTo>
                        <a:lnTo>
                          <a:pt x="207" y="66"/>
                        </a:lnTo>
                        <a:lnTo>
                          <a:pt x="260" y="56"/>
                        </a:lnTo>
                        <a:lnTo>
                          <a:pt x="311" y="48"/>
                        </a:lnTo>
                        <a:lnTo>
                          <a:pt x="364" y="41"/>
                        </a:lnTo>
                        <a:lnTo>
                          <a:pt x="416" y="35"/>
                        </a:lnTo>
                        <a:lnTo>
                          <a:pt x="469" y="31"/>
                        </a:lnTo>
                        <a:lnTo>
                          <a:pt x="521" y="27"/>
                        </a:lnTo>
                        <a:lnTo>
                          <a:pt x="574" y="24"/>
                        </a:lnTo>
                        <a:lnTo>
                          <a:pt x="628" y="23"/>
                        </a:lnTo>
                        <a:lnTo>
                          <a:pt x="680" y="20"/>
                        </a:lnTo>
                        <a:lnTo>
                          <a:pt x="734" y="19"/>
                        </a:lnTo>
                        <a:lnTo>
                          <a:pt x="787" y="18"/>
                        </a:lnTo>
                        <a:lnTo>
                          <a:pt x="841" y="15"/>
                        </a:lnTo>
                        <a:lnTo>
                          <a:pt x="893" y="12"/>
                        </a:lnTo>
                        <a:lnTo>
                          <a:pt x="947" y="10"/>
                        </a:lnTo>
                        <a:lnTo>
                          <a:pt x="1000" y="6"/>
                        </a:lnTo>
                        <a:lnTo>
                          <a:pt x="1053" y="0"/>
                        </a:lnTo>
                        <a:lnTo>
                          <a:pt x="1097" y="0"/>
                        </a:lnTo>
                        <a:lnTo>
                          <a:pt x="1140" y="2"/>
                        </a:lnTo>
                        <a:lnTo>
                          <a:pt x="1185" y="4"/>
                        </a:lnTo>
                        <a:lnTo>
                          <a:pt x="1228" y="7"/>
                        </a:lnTo>
                        <a:lnTo>
                          <a:pt x="1273" y="11"/>
                        </a:lnTo>
                        <a:lnTo>
                          <a:pt x="1316" y="15"/>
                        </a:lnTo>
                        <a:lnTo>
                          <a:pt x="1361" y="20"/>
                        </a:lnTo>
                        <a:lnTo>
                          <a:pt x="1406" y="25"/>
                        </a:lnTo>
                        <a:lnTo>
                          <a:pt x="1449" y="31"/>
                        </a:lnTo>
                        <a:lnTo>
                          <a:pt x="1494" y="37"/>
                        </a:lnTo>
                        <a:lnTo>
                          <a:pt x="1538" y="44"/>
                        </a:lnTo>
                        <a:lnTo>
                          <a:pt x="1583" y="52"/>
                        </a:lnTo>
                        <a:lnTo>
                          <a:pt x="1628" y="60"/>
                        </a:lnTo>
                        <a:lnTo>
                          <a:pt x="1672" y="68"/>
                        </a:lnTo>
                        <a:lnTo>
                          <a:pt x="1717" y="75"/>
                        </a:lnTo>
                        <a:lnTo>
                          <a:pt x="1762" y="83"/>
                        </a:lnTo>
                        <a:lnTo>
                          <a:pt x="1772" y="85"/>
                        </a:lnTo>
                        <a:lnTo>
                          <a:pt x="1785" y="86"/>
                        </a:lnTo>
                        <a:lnTo>
                          <a:pt x="1800" y="87"/>
                        </a:lnTo>
                        <a:lnTo>
                          <a:pt x="1817" y="90"/>
                        </a:lnTo>
                        <a:lnTo>
                          <a:pt x="1833" y="91"/>
                        </a:lnTo>
                        <a:lnTo>
                          <a:pt x="1851" y="94"/>
                        </a:lnTo>
                        <a:lnTo>
                          <a:pt x="1868" y="98"/>
                        </a:lnTo>
                        <a:lnTo>
                          <a:pt x="1886" y="102"/>
                        </a:lnTo>
                        <a:lnTo>
                          <a:pt x="1903" y="106"/>
                        </a:lnTo>
                        <a:lnTo>
                          <a:pt x="1921" y="111"/>
                        </a:lnTo>
                        <a:lnTo>
                          <a:pt x="1936" y="116"/>
                        </a:lnTo>
                        <a:lnTo>
                          <a:pt x="1951" y="123"/>
                        </a:lnTo>
                        <a:lnTo>
                          <a:pt x="1964" y="129"/>
                        </a:lnTo>
                        <a:lnTo>
                          <a:pt x="1974" y="137"/>
                        </a:lnTo>
                        <a:lnTo>
                          <a:pt x="1984" y="146"/>
                        </a:lnTo>
                        <a:lnTo>
                          <a:pt x="1990" y="156"/>
                        </a:lnTo>
                        <a:lnTo>
                          <a:pt x="1986" y="170"/>
                        </a:lnTo>
                        <a:lnTo>
                          <a:pt x="1981" y="186"/>
                        </a:lnTo>
                        <a:lnTo>
                          <a:pt x="1974" y="200"/>
                        </a:lnTo>
                        <a:lnTo>
                          <a:pt x="1967" y="215"/>
                        </a:lnTo>
                        <a:lnTo>
                          <a:pt x="1959" y="231"/>
                        </a:lnTo>
                        <a:lnTo>
                          <a:pt x="1951" y="245"/>
                        </a:lnTo>
                        <a:lnTo>
                          <a:pt x="1942" y="260"/>
                        </a:lnTo>
                        <a:lnTo>
                          <a:pt x="1934" y="274"/>
                        </a:lnTo>
                        <a:lnTo>
                          <a:pt x="1901" y="346"/>
                        </a:lnTo>
                        <a:lnTo>
                          <a:pt x="1868" y="420"/>
                        </a:lnTo>
                        <a:lnTo>
                          <a:pt x="1835" y="494"/>
                        </a:lnTo>
                        <a:lnTo>
                          <a:pt x="1806" y="567"/>
                        </a:lnTo>
                        <a:lnTo>
                          <a:pt x="1779" y="642"/>
                        </a:lnTo>
                        <a:lnTo>
                          <a:pt x="1758" y="720"/>
                        </a:lnTo>
                        <a:lnTo>
                          <a:pt x="1742" y="799"/>
                        </a:lnTo>
                        <a:lnTo>
                          <a:pt x="1734" y="880"/>
                        </a:lnTo>
                        <a:lnTo>
                          <a:pt x="1735" y="909"/>
                        </a:lnTo>
                        <a:lnTo>
                          <a:pt x="1737" y="937"/>
                        </a:lnTo>
                        <a:lnTo>
                          <a:pt x="1738" y="966"/>
                        </a:lnTo>
                        <a:lnTo>
                          <a:pt x="1739" y="994"/>
                        </a:lnTo>
                        <a:lnTo>
                          <a:pt x="1733" y="1018"/>
                        </a:lnTo>
                        <a:lnTo>
                          <a:pt x="1734" y="1054"/>
                        </a:lnTo>
                        <a:lnTo>
                          <a:pt x="1741" y="1097"/>
                        </a:lnTo>
                        <a:lnTo>
                          <a:pt x="1752" y="1146"/>
                        </a:lnTo>
                        <a:lnTo>
                          <a:pt x="1767" y="1197"/>
                        </a:lnTo>
                        <a:lnTo>
                          <a:pt x="1781" y="1246"/>
                        </a:lnTo>
                        <a:lnTo>
                          <a:pt x="1796" y="1289"/>
                        </a:lnTo>
                        <a:lnTo>
                          <a:pt x="1808" y="1323"/>
                        </a:lnTo>
                        <a:lnTo>
                          <a:pt x="1818" y="1339"/>
                        </a:lnTo>
                        <a:lnTo>
                          <a:pt x="1831" y="1360"/>
                        </a:lnTo>
                        <a:lnTo>
                          <a:pt x="1846" y="1384"/>
                        </a:lnTo>
                        <a:lnTo>
                          <a:pt x="1859" y="1410"/>
                        </a:lnTo>
                        <a:lnTo>
                          <a:pt x="1871" y="1436"/>
                        </a:lnTo>
                        <a:lnTo>
                          <a:pt x="1877" y="1464"/>
                        </a:lnTo>
                        <a:lnTo>
                          <a:pt x="1878" y="1489"/>
                        </a:lnTo>
                        <a:lnTo>
                          <a:pt x="1872" y="1512"/>
                        </a:lnTo>
                        <a:lnTo>
                          <a:pt x="1875" y="1547"/>
                        </a:lnTo>
                        <a:lnTo>
                          <a:pt x="1877" y="1581"/>
                        </a:lnTo>
                        <a:lnTo>
                          <a:pt x="1881" y="1614"/>
                        </a:lnTo>
                        <a:lnTo>
                          <a:pt x="1884" y="1648"/>
                        </a:lnTo>
                        <a:lnTo>
                          <a:pt x="1882" y="1707"/>
                        </a:lnTo>
                        <a:lnTo>
                          <a:pt x="1878" y="1766"/>
                        </a:lnTo>
                        <a:lnTo>
                          <a:pt x="1873" y="1827"/>
                        </a:lnTo>
                        <a:lnTo>
                          <a:pt x="1867" y="1887"/>
                        </a:lnTo>
                        <a:lnTo>
                          <a:pt x="1857" y="1949"/>
                        </a:lnTo>
                        <a:lnTo>
                          <a:pt x="1848" y="2009"/>
                        </a:lnTo>
                        <a:lnTo>
                          <a:pt x="1838" y="2070"/>
                        </a:lnTo>
                        <a:lnTo>
                          <a:pt x="1827" y="2130"/>
                        </a:lnTo>
                        <a:lnTo>
                          <a:pt x="1810" y="2195"/>
                        </a:lnTo>
                        <a:lnTo>
                          <a:pt x="1801" y="2229"/>
                        </a:lnTo>
                        <a:lnTo>
                          <a:pt x="1797" y="2242"/>
                        </a:lnTo>
                        <a:lnTo>
                          <a:pt x="1793" y="2246"/>
                        </a:lnTo>
                        <a:lnTo>
                          <a:pt x="1785" y="2247"/>
                        </a:lnTo>
                        <a:lnTo>
                          <a:pt x="1777" y="2247"/>
                        </a:lnTo>
                        <a:lnTo>
                          <a:pt x="1769" y="2249"/>
                        </a:lnTo>
                        <a:lnTo>
                          <a:pt x="1762" y="2249"/>
                        </a:lnTo>
                        <a:lnTo>
                          <a:pt x="1733" y="2245"/>
                        </a:lnTo>
                        <a:lnTo>
                          <a:pt x="1704" y="2240"/>
                        </a:lnTo>
                        <a:lnTo>
                          <a:pt x="1675" y="2236"/>
                        </a:lnTo>
                        <a:lnTo>
                          <a:pt x="1646" y="2232"/>
                        </a:lnTo>
                        <a:lnTo>
                          <a:pt x="1617" y="2228"/>
                        </a:lnTo>
                        <a:lnTo>
                          <a:pt x="1588" y="2224"/>
                        </a:lnTo>
                        <a:lnTo>
                          <a:pt x="1559" y="2220"/>
                        </a:lnTo>
                        <a:lnTo>
                          <a:pt x="1530" y="2216"/>
                        </a:lnTo>
                        <a:lnTo>
                          <a:pt x="1501" y="2213"/>
                        </a:lnTo>
                        <a:lnTo>
                          <a:pt x="1474" y="2209"/>
                        </a:lnTo>
                        <a:lnTo>
                          <a:pt x="1445" y="2205"/>
                        </a:lnTo>
                        <a:lnTo>
                          <a:pt x="1416" y="2203"/>
                        </a:lnTo>
                        <a:lnTo>
                          <a:pt x="1387" y="2199"/>
                        </a:lnTo>
                        <a:lnTo>
                          <a:pt x="1358" y="2195"/>
                        </a:lnTo>
                        <a:lnTo>
                          <a:pt x="1329" y="2192"/>
                        </a:lnTo>
                        <a:lnTo>
                          <a:pt x="1300" y="2188"/>
                        </a:lnTo>
                        <a:lnTo>
                          <a:pt x="1271" y="2186"/>
                        </a:lnTo>
                        <a:lnTo>
                          <a:pt x="1243" y="2182"/>
                        </a:lnTo>
                        <a:lnTo>
                          <a:pt x="1215" y="2179"/>
                        </a:lnTo>
                        <a:lnTo>
                          <a:pt x="1186" y="2175"/>
                        </a:lnTo>
                        <a:lnTo>
                          <a:pt x="1157" y="2172"/>
                        </a:lnTo>
                        <a:lnTo>
                          <a:pt x="1128" y="2169"/>
                        </a:lnTo>
                        <a:lnTo>
                          <a:pt x="1099" y="2166"/>
                        </a:lnTo>
                        <a:lnTo>
                          <a:pt x="1072" y="2162"/>
                        </a:lnTo>
                        <a:lnTo>
                          <a:pt x="1043" y="2158"/>
                        </a:lnTo>
                        <a:lnTo>
                          <a:pt x="1014" y="2155"/>
                        </a:lnTo>
                        <a:lnTo>
                          <a:pt x="986" y="2151"/>
                        </a:lnTo>
                        <a:lnTo>
                          <a:pt x="957" y="2147"/>
                        </a:lnTo>
                        <a:lnTo>
                          <a:pt x="930" y="2144"/>
                        </a:lnTo>
                        <a:lnTo>
                          <a:pt x="901" y="2140"/>
                        </a:lnTo>
                        <a:lnTo>
                          <a:pt x="872" y="2136"/>
                        </a:lnTo>
                        <a:lnTo>
                          <a:pt x="844" y="2132"/>
                        </a:lnTo>
                        <a:lnTo>
                          <a:pt x="793" y="2134"/>
                        </a:lnTo>
                        <a:lnTo>
                          <a:pt x="741" y="2140"/>
                        </a:lnTo>
                        <a:lnTo>
                          <a:pt x="689" y="2145"/>
                        </a:lnTo>
                        <a:lnTo>
                          <a:pt x="637" y="2153"/>
                        </a:lnTo>
                        <a:lnTo>
                          <a:pt x="586" y="2162"/>
                        </a:lnTo>
                        <a:lnTo>
                          <a:pt x="533" y="2172"/>
                        </a:lnTo>
                        <a:lnTo>
                          <a:pt x="482" y="2183"/>
                        </a:lnTo>
                        <a:lnTo>
                          <a:pt x="429" y="2194"/>
                        </a:lnTo>
                        <a:lnTo>
                          <a:pt x="378" y="2204"/>
                        </a:lnTo>
                        <a:lnTo>
                          <a:pt x="327" y="2213"/>
                        </a:lnTo>
                        <a:lnTo>
                          <a:pt x="276" y="2224"/>
                        </a:lnTo>
                        <a:lnTo>
                          <a:pt x="224" y="2232"/>
                        </a:lnTo>
                        <a:lnTo>
                          <a:pt x="173" y="2238"/>
                        </a:lnTo>
                        <a:lnTo>
                          <a:pt x="122" y="2243"/>
                        </a:lnTo>
                        <a:lnTo>
                          <a:pt x="72" y="2247"/>
                        </a:lnTo>
                        <a:lnTo>
                          <a:pt x="22" y="22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169800" y="4716720"/>
                    <a:ext cx="270360" cy="31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0" h="2126">
                        <a:moveTo>
                          <a:pt x="44" y="2126"/>
                        </a:moveTo>
                        <a:lnTo>
                          <a:pt x="45" y="2098"/>
                        </a:lnTo>
                        <a:lnTo>
                          <a:pt x="49" y="2069"/>
                        </a:lnTo>
                        <a:lnTo>
                          <a:pt x="53" y="2043"/>
                        </a:lnTo>
                        <a:lnTo>
                          <a:pt x="59" y="2015"/>
                        </a:lnTo>
                        <a:lnTo>
                          <a:pt x="66" y="1989"/>
                        </a:lnTo>
                        <a:lnTo>
                          <a:pt x="74" y="1963"/>
                        </a:lnTo>
                        <a:lnTo>
                          <a:pt x="80" y="1937"/>
                        </a:lnTo>
                        <a:lnTo>
                          <a:pt x="86" y="1909"/>
                        </a:lnTo>
                        <a:lnTo>
                          <a:pt x="88" y="1904"/>
                        </a:lnTo>
                        <a:lnTo>
                          <a:pt x="90" y="1898"/>
                        </a:lnTo>
                        <a:lnTo>
                          <a:pt x="92" y="1893"/>
                        </a:lnTo>
                        <a:lnTo>
                          <a:pt x="95" y="1888"/>
                        </a:lnTo>
                        <a:lnTo>
                          <a:pt x="105" y="1831"/>
                        </a:lnTo>
                        <a:lnTo>
                          <a:pt x="116" y="1773"/>
                        </a:lnTo>
                        <a:lnTo>
                          <a:pt x="126" y="1717"/>
                        </a:lnTo>
                        <a:lnTo>
                          <a:pt x="137" y="1659"/>
                        </a:lnTo>
                        <a:lnTo>
                          <a:pt x="146" y="1601"/>
                        </a:lnTo>
                        <a:lnTo>
                          <a:pt x="153" y="1545"/>
                        </a:lnTo>
                        <a:lnTo>
                          <a:pt x="158" y="1488"/>
                        </a:lnTo>
                        <a:lnTo>
                          <a:pt x="159" y="1433"/>
                        </a:lnTo>
                        <a:lnTo>
                          <a:pt x="133" y="1397"/>
                        </a:lnTo>
                        <a:lnTo>
                          <a:pt x="115" y="1357"/>
                        </a:lnTo>
                        <a:lnTo>
                          <a:pt x="101" y="1311"/>
                        </a:lnTo>
                        <a:lnTo>
                          <a:pt x="94" y="1263"/>
                        </a:lnTo>
                        <a:lnTo>
                          <a:pt x="87" y="1215"/>
                        </a:lnTo>
                        <a:lnTo>
                          <a:pt x="80" y="1166"/>
                        </a:lnTo>
                        <a:lnTo>
                          <a:pt x="70" y="1120"/>
                        </a:lnTo>
                        <a:lnTo>
                          <a:pt x="55" y="1078"/>
                        </a:lnTo>
                        <a:lnTo>
                          <a:pt x="50" y="1040"/>
                        </a:lnTo>
                        <a:lnTo>
                          <a:pt x="42" y="1002"/>
                        </a:lnTo>
                        <a:lnTo>
                          <a:pt x="34" y="964"/>
                        </a:lnTo>
                        <a:lnTo>
                          <a:pt x="27" y="927"/>
                        </a:lnTo>
                        <a:lnTo>
                          <a:pt x="17" y="890"/>
                        </a:lnTo>
                        <a:lnTo>
                          <a:pt x="9" y="853"/>
                        </a:lnTo>
                        <a:lnTo>
                          <a:pt x="4" y="816"/>
                        </a:lnTo>
                        <a:lnTo>
                          <a:pt x="0" y="780"/>
                        </a:lnTo>
                        <a:lnTo>
                          <a:pt x="3" y="769"/>
                        </a:lnTo>
                        <a:lnTo>
                          <a:pt x="6" y="756"/>
                        </a:lnTo>
                        <a:lnTo>
                          <a:pt x="9" y="737"/>
                        </a:lnTo>
                        <a:lnTo>
                          <a:pt x="15" y="711"/>
                        </a:lnTo>
                        <a:lnTo>
                          <a:pt x="21" y="678"/>
                        </a:lnTo>
                        <a:lnTo>
                          <a:pt x="30" y="635"/>
                        </a:lnTo>
                        <a:lnTo>
                          <a:pt x="44" y="581"/>
                        </a:lnTo>
                        <a:lnTo>
                          <a:pt x="59" y="514"/>
                        </a:lnTo>
                        <a:lnTo>
                          <a:pt x="76" y="456"/>
                        </a:lnTo>
                        <a:lnTo>
                          <a:pt x="94" y="400"/>
                        </a:lnTo>
                        <a:lnTo>
                          <a:pt x="112" y="343"/>
                        </a:lnTo>
                        <a:lnTo>
                          <a:pt x="132" y="286"/>
                        </a:lnTo>
                        <a:lnTo>
                          <a:pt x="151" y="231"/>
                        </a:lnTo>
                        <a:lnTo>
                          <a:pt x="174" y="176"/>
                        </a:lnTo>
                        <a:lnTo>
                          <a:pt x="196" y="122"/>
                        </a:lnTo>
                        <a:lnTo>
                          <a:pt x="220" y="68"/>
                        </a:lnTo>
                        <a:lnTo>
                          <a:pt x="272" y="60"/>
                        </a:lnTo>
                        <a:lnTo>
                          <a:pt x="323" y="52"/>
                        </a:lnTo>
                        <a:lnTo>
                          <a:pt x="375" y="46"/>
                        </a:lnTo>
                        <a:lnTo>
                          <a:pt x="427" y="39"/>
                        </a:lnTo>
                        <a:lnTo>
                          <a:pt x="479" y="34"/>
                        </a:lnTo>
                        <a:lnTo>
                          <a:pt x="530" y="29"/>
                        </a:lnTo>
                        <a:lnTo>
                          <a:pt x="582" y="25"/>
                        </a:lnTo>
                        <a:lnTo>
                          <a:pt x="634" y="20"/>
                        </a:lnTo>
                        <a:lnTo>
                          <a:pt x="686" y="17"/>
                        </a:lnTo>
                        <a:lnTo>
                          <a:pt x="737" y="13"/>
                        </a:lnTo>
                        <a:lnTo>
                          <a:pt x="790" y="10"/>
                        </a:lnTo>
                        <a:lnTo>
                          <a:pt x="842" y="8"/>
                        </a:lnTo>
                        <a:lnTo>
                          <a:pt x="895" y="5"/>
                        </a:lnTo>
                        <a:lnTo>
                          <a:pt x="948" y="4"/>
                        </a:lnTo>
                        <a:lnTo>
                          <a:pt x="1000" y="1"/>
                        </a:lnTo>
                        <a:lnTo>
                          <a:pt x="1054" y="0"/>
                        </a:lnTo>
                        <a:lnTo>
                          <a:pt x="1066" y="1"/>
                        </a:lnTo>
                        <a:lnTo>
                          <a:pt x="1076" y="3"/>
                        </a:lnTo>
                        <a:lnTo>
                          <a:pt x="1088" y="4"/>
                        </a:lnTo>
                        <a:lnTo>
                          <a:pt x="1099" y="5"/>
                        </a:lnTo>
                        <a:lnTo>
                          <a:pt x="1109" y="6"/>
                        </a:lnTo>
                        <a:lnTo>
                          <a:pt x="1121" y="8"/>
                        </a:lnTo>
                        <a:lnTo>
                          <a:pt x="1134" y="10"/>
                        </a:lnTo>
                        <a:lnTo>
                          <a:pt x="1149" y="12"/>
                        </a:lnTo>
                        <a:lnTo>
                          <a:pt x="1163" y="14"/>
                        </a:lnTo>
                        <a:lnTo>
                          <a:pt x="1180" y="16"/>
                        </a:lnTo>
                        <a:lnTo>
                          <a:pt x="1200" y="18"/>
                        </a:lnTo>
                        <a:lnTo>
                          <a:pt x="1222" y="21"/>
                        </a:lnTo>
                        <a:lnTo>
                          <a:pt x="1247" y="25"/>
                        </a:lnTo>
                        <a:lnTo>
                          <a:pt x="1275" y="27"/>
                        </a:lnTo>
                        <a:lnTo>
                          <a:pt x="1306" y="31"/>
                        </a:lnTo>
                        <a:lnTo>
                          <a:pt x="1340" y="35"/>
                        </a:lnTo>
                        <a:lnTo>
                          <a:pt x="1422" y="51"/>
                        </a:lnTo>
                        <a:lnTo>
                          <a:pt x="1494" y="64"/>
                        </a:lnTo>
                        <a:lnTo>
                          <a:pt x="1557" y="77"/>
                        </a:lnTo>
                        <a:lnTo>
                          <a:pt x="1610" y="87"/>
                        </a:lnTo>
                        <a:lnTo>
                          <a:pt x="1656" y="96"/>
                        </a:lnTo>
                        <a:lnTo>
                          <a:pt x="1694" y="104"/>
                        </a:lnTo>
                        <a:lnTo>
                          <a:pt x="1725" y="109"/>
                        </a:lnTo>
                        <a:lnTo>
                          <a:pt x="1750" y="114"/>
                        </a:lnTo>
                        <a:lnTo>
                          <a:pt x="1770" y="118"/>
                        </a:lnTo>
                        <a:lnTo>
                          <a:pt x="1786" y="121"/>
                        </a:lnTo>
                        <a:lnTo>
                          <a:pt x="1796" y="123"/>
                        </a:lnTo>
                        <a:lnTo>
                          <a:pt x="1805" y="126"/>
                        </a:lnTo>
                        <a:lnTo>
                          <a:pt x="1811" y="127"/>
                        </a:lnTo>
                        <a:lnTo>
                          <a:pt x="1815" y="129"/>
                        </a:lnTo>
                        <a:lnTo>
                          <a:pt x="1817" y="129"/>
                        </a:lnTo>
                        <a:lnTo>
                          <a:pt x="1820" y="130"/>
                        </a:lnTo>
                        <a:lnTo>
                          <a:pt x="1820" y="133"/>
                        </a:lnTo>
                        <a:lnTo>
                          <a:pt x="1820" y="135"/>
                        </a:lnTo>
                        <a:lnTo>
                          <a:pt x="1820" y="138"/>
                        </a:lnTo>
                        <a:lnTo>
                          <a:pt x="1820" y="142"/>
                        </a:lnTo>
                        <a:lnTo>
                          <a:pt x="1802" y="180"/>
                        </a:lnTo>
                        <a:lnTo>
                          <a:pt x="1783" y="218"/>
                        </a:lnTo>
                        <a:lnTo>
                          <a:pt x="1766" y="258"/>
                        </a:lnTo>
                        <a:lnTo>
                          <a:pt x="1749" y="298"/>
                        </a:lnTo>
                        <a:lnTo>
                          <a:pt x="1733" y="338"/>
                        </a:lnTo>
                        <a:lnTo>
                          <a:pt x="1717" y="380"/>
                        </a:lnTo>
                        <a:lnTo>
                          <a:pt x="1703" y="421"/>
                        </a:lnTo>
                        <a:lnTo>
                          <a:pt x="1689" y="461"/>
                        </a:lnTo>
                        <a:lnTo>
                          <a:pt x="1675" y="503"/>
                        </a:lnTo>
                        <a:lnTo>
                          <a:pt x="1662" y="546"/>
                        </a:lnTo>
                        <a:lnTo>
                          <a:pt x="1649" y="588"/>
                        </a:lnTo>
                        <a:lnTo>
                          <a:pt x="1636" y="630"/>
                        </a:lnTo>
                        <a:lnTo>
                          <a:pt x="1624" y="672"/>
                        </a:lnTo>
                        <a:lnTo>
                          <a:pt x="1612" y="714"/>
                        </a:lnTo>
                        <a:lnTo>
                          <a:pt x="1602" y="756"/>
                        </a:lnTo>
                        <a:lnTo>
                          <a:pt x="1590" y="798"/>
                        </a:lnTo>
                        <a:lnTo>
                          <a:pt x="1603" y="874"/>
                        </a:lnTo>
                        <a:lnTo>
                          <a:pt x="1615" y="949"/>
                        </a:lnTo>
                        <a:lnTo>
                          <a:pt x="1628" y="1025"/>
                        </a:lnTo>
                        <a:lnTo>
                          <a:pt x="1644" y="1102"/>
                        </a:lnTo>
                        <a:lnTo>
                          <a:pt x="1660" y="1178"/>
                        </a:lnTo>
                        <a:lnTo>
                          <a:pt x="1679" y="1253"/>
                        </a:lnTo>
                        <a:lnTo>
                          <a:pt x="1703" y="1329"/>
                        </a:lnTo>
                        <a:lnTo>
                          <a:pt x="1732" y="1404"/>
                        </a:lnTo>
                        <a:lnTo>
                          <a:pt x="1738" y="1453"/>
                        </a:lnTo>
                        <a:lnTo>
                          <a:pt x="1742" y="1487"/>
                        </a:lnTo>
                        <a:lnTo>
                          <a:pt x="1745" y="1520"/>
                        </a:lnTo>
                        <a:lnTo>
                          <a:pt x="1749" y="1568"/>
                        </a:lnTo>
                        <a:lnTo>
                          <a:pt x="1749" y="1620"/>
                        </a:lnTo>
                        <a:lnTo>
                          <a:pt x="1749" y="1689"/>
                        </a:lnTo>
                        <a:lnTo>
                          <a:pt x="1748" y="1772"/>
                        </a:lnTo>
                        <a:lnTo>
                          <a:pt x="1742" y="1860"/>
                        </a:lnTo>
                        <a:lnTo>
                          <a:pt x="1733" y="1947"/>
                        </a:lnTo>
                        <a:lnTo>
                          <a:pt x="1717" y="2025"/>
                        </a:lnTo>
                        <a:lnTo>
                          <a:pt x="1695" y="2085"/>
                        </a:lnTo>
                        <a:lnTo>
                          <a:pt x="1665" y="2123"/>
                        </a:lnTo>
                        <a:lnTo>
                          <a:pt x="1640" y="2123"/>
                        </a:lnTo>
                        <a:lnTo>
                          <a:pt x="1616" y="2122"/>
                        </a:lnTo>
                        <a:lnTo>
                          <a:pt x="1591" y="2122"/>
                        </a:lnTo>
                        <a:lnTo>
                          <a:pt x="1568" y="2122"/>
                        </a:lnTo>
                        <a:lnTo>
                          <a:pt x="1543" y="2121"/>
                        </a:lnTo>
                        <a:lnTo>
                          <a:pt x="1519" y="2121"/>
                        </a:lnTo>
                        <a:lnTo>
                          <a:pt x="1494" y="2121"/>
                        </a:lnTo>
                        <a:lnTo>
                          <a:pt x="1470" y="2121"/>
                        </a:lnTo>
                        <a:lnTo>
                          <a:pt x="1440" y="2118"/>
                        </a:lnTo>
                        <a:lnTo>
                          <a:pt x="1410" y="2114"/>
                        </a:lnTo>
                        <a:lnTo>
                          <a:pt x="1380" y="2110"/>
                        </a:lnTo>
                        <a:lnTo>
                          <a:pt x="1350" y="2106"/>
                        </a:lnTo>
                        <a:lnTo>
                          <a:pt x="1319" y="2102"/>
                        </a:lnTo>
                        <a:lnTo>
                          <a:pt x="1289" y="2098"/>
                        </a:lnTo>
                        <a:lnTo>
                          <a:pt x="1258" y="2094"/>
                        </a:lnTo>
                        <a:lnTo>
                          <a:pt x="1227" y="2090"/>
                        </a:lnTo>
                        <a:lnTo>
                          <a:pt x="1196" y="2086"/>
                        </a:lnTo>
                        <a:lnTo>
                          <a:pt x="1166" y="2084"/>
                        </a:lnTo>
                        <a:lnTo>
                          <a:pt x="1135" y="2080"/>
                        </a:lnTo>
                        <a:lnTo>
                          <a:pt x="1105" y="2077"/>
                        </a:lnTo>
                        <a:lnTo>
                          <a:pt x="1076" y="2075"/>
                        </a:lnTo>
                        <a:lnTo>
                          <a:pt x="1047" y="2073"/>
                        </a:lnTo>
                        <a:lnTo>
                          <a:pt x="1018" y="2072"/>
                        </a:lnTo>
                        <a:lnTo>
                          <a:pt x="990" y="2072"/>
                        </a:lnTo>
                        <a:lnTo>
                          <a:pt x="973" y="2071"/>
                        </a:lnTo>
                        <a:lnTo>
                          <a:pt x="957" y="2068"/>
                        </a:lnTo>
                        <a:lnTo>
                          <a:pt x="940" y="2067"/>
                        </a:lnTo>
                        <a:lnTo>
                          <a:pt x="924" y="2065"/>
                        </a:lnTo>
                        <a:lnTo>
                          <a:pt x="907" y="2063"/>
                        </a:lnTo>
                        <a:lnTo>
                          <a:pt x="891" y="2061"/>
                        </a:lnTo>
                        <a:lnTo>
                          <a:pt x="874" y="2059"/>
                        </a:lnTo>
                        <a:lnTo>
                          <a:pt x="858" y="2057"/>
                        </a:lnTo>
                        <a:lnTo>
                          <a:pt x="842" y="2056"/>
                        </a:lnTo>
                        <a:lnTo>
                          <a:pt x="825" y="2054"/>
                        </a:lnTo>
                        <a:lnTo>
                          <a:pt x="810" y="2052"/>
                        </a:lnTo>
                        <a:lnTo>
                          <a:pt x="793" y="2050"/>
                        </a:lnTo>
                        <a:lnTo>
                          <a:pt x="777" y="2048"/>
                        </a:lnTo>
                        <a:lnTo>
                          <a:pt x="760" y="2047"/>
                        </a:lnTo>
                        <a:lnTo>
                          <a:pt x="744" y="2044"/>
                        </a:lnTo>
                        <a:lnTo>
                          <a:pt x="727" y="2043"/>
                        </a:lnTo>
                        <a:lnTo>
                          <a:pt x="683" y="2048"/>
                        </a:lnTo>
                        <a:lnTo>
                          <a:pt x="640" y="2054"/>
                        </a:lnTo>
                        <a:lnTo>
                          <a:pt x="597" y="2060"/>
                        </a:lnTo>
                        <a:lnTo>
                          <a:pt x="553" y="2067"/>
                        </a:lnTo>
                        <a:lnTo>
                          <a:pt x="511" y="2073"/>
                        </a:lnTo>
                        <a:lnTo>
                          <a:pt x="468" y="2080"/>
                        </a:lnTo>
                        <a:lnTo>
                          <a:pt x="426" y="2086"/>
                        </a:lnTo>
                        <a:lnTo>
                          <a:pt x="384" y="2092"/>
                        </a:lnTo>
                        <a:lnTo>
                          <a:pt x="341" y="2098"/>
                        </a:lnTo>
                        <a:lnTo>
                          <a:pt x="299" y="2105"/>
                        </a:lnTo>
                        <a:lnTo>
                          <a:pt x="256" y="2110"/>
                        </a:lnTo>
                        <a:lnTo>
                          <a:pt x="213" y="2114"/>
                        </a:lnTo>
                        <a:lnTo>
                          <a:pt x="171" y="2118"/>
                        </a:lnTo>
                        <a:lnTo>
                          <a:pt x="129" y="2122"/>
                        </a:lnTo>
                        <a:lnTo>
                          <a:pt x="86" y="2125"/>
                        </a:lnTo>
                        <a:lnTo>
                          <a:pt x="44" y="2126"/>
                        </a:lnTo>
                        <a:close/>
                      </a:path>
                    </a:pathLst>
                  </a:custGeom>
                  <a:solidFill>
                    <a:srgbClr val="edead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294720" y="4950000"/>
                    <a:ext cx="1299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5" h="449">
                        <a:moveTo>
                          <a:pt x="528" y="449"/>
                        </a:moveTo>
                        <a:lnTo>
                          <a:pt x="520" y="445"/>
                        </a:lnTo>
                        <a:lnTo>
                          <a:pt x="514" y="440"/>
                        </a:lnTo>
                        <a:lnTo>
                          <a:pt x="506" y="436"/>
                        </a:lnTo>
                        <a:lnTo>
                          <a:pt x="499" y="432"/>
                        </a:lnTo>
                        <a:lnTo>
                          <a:pt x="482" y="435"/>
                        </a:lnTo>
                        <a:lnTo>
                          <a:pt x="469" y="437"/>
                        </a:lnTo>
                        <a:lnTo>
                          <a:pt x="459" y="439"/>
                        </a:lnTo>
                        <a:lnTo>
                          <a:pt x="452" y="439"/>
                        </a:lnTo>
                        <a:lnTo>
                          <a:pt x="446" y="437"/>
                        </a:lnTo>
                        <a:lnTo>
                          <a:pt x="440" y="432"/>
                        </a:lnTo>
                        <a:lnTo>
                          <a:pt x="434" y="426"/>
                        </a:lnTo>
                        <a:lnTo>
                          <a:pt x="426" y="414"/>
                        </a:lnTo>
                        <a:lnTo>
                          <a:pt x="406" y="416"/>
                        </a:lnTo>
                        <a:lnTo>
                          <a:pt x="392" y="419"/>
                        </a:lnTo>
                        <a:lnTo>
                          <a:pt x="381" y="422"/>
                        </a:lnTo>
                        <a:lnTo>
                          <a:pt x="373" y="422"/>
                        </a:lnTo>
                        <a:lnTo>
                          <a:pt x="368" y="420"/>
                        </a:lnTo>
                        <a:lnTo>
                          <a:pt x="363" y="415"/>
                        </a:lnTo>
                        <a:lnTo>
                          <a:pt x="359" y="406"/>
                        </a:lnTo>
                        <a:lnTo>
                          <a:pt x="355" y="391"/>
                        </a:lnTo>
                        <a:lnTo>
                          <a:pt x="347" y="393"/>
                        </a:lnTo>
                        <a:lnTo>
                          <a:pt x="340" y="394"/>
                        </a:lnTo>
                        <a:lnTo>
                          <a:pt x="335" y="395"/>
                        </a:lnTo>
                        <a:lnTo>
                          <a:pt x="331" y="395"/>
                        </a:lnTo>
                        <a:lnTo>
                          <a:pt x="326" y="397"/>
                        </a:lnTo>
                        <a:lnTo>
                          <a:pt x="322" y="397"/>
                        </a:lnTo>
                        <a:lnTo>
                          <a:pt x="317" y="397"/>
                        </a:lnTo>
                        <a:lnTo>
                          <a:pt x="310" y="397"/>
                        </a:lnTo>
                        <a:lnTo>
                          <a:pt x="300" y="381"/>
                        </a:lnTo>
                        <a:lnTo>
                          <a:pt x="297" y="364"/>
                        </a:lnTo>
                        <a:lnTo>
                          <a:pt x="300" y="348"/>
                        </a:lnTo>
                        <a:lnTo>
                          <a:pt x="304" y="332"/>
                        </a:lnTo>
                        <a:lnTo>
                          <a:pt x="288" y="337"/>
                        </a:lnTo>
                        <a:lnTo>
                          <a:pt x="271" y="343"/>
                        </a:lnTo>
                        <a:lnTo>
                          <a:pt x="255" y="349"/>
                        </a:lnTo>
                        <a:lnTo>
                          <a:pt x="239" y="356"/>
                        </a:lnTo>
                        <a:lnTo>
                          <a:pt x="223" y="362"/>
                        </a:lnTo>
                        <a:lnTo>
                          <a:pt x="208" y="369"/>
                        </a:lnTo>
                        <a:lnTo>
                          <a:pt x="192" y="376"/>
                        </a:lnTo>
                        <a:lnTo>
                          <a:pt x="176" y="383"/>
                        </a:lnTo>
                        <a:lnTo>
                          <a:pt x="160" y="390"/>
                        </a:lnTo>
                        <a:lnTo>
                          <a:pt x="146" y="398"/>
                        </a:lnTo>
                        <a:lnTo>
                          <a:pt x="130" y="406"/>
                        </a:lnTo>
                        <a:lnTo>
                          <a:pt x="116" y="414"/>
                        </a:lnTo>
                        <a:lnTo>
                          <a:pt x="100" y="420"/>
                        </a:lnTo>
                        <a:lnTo>
                          <a:pt x="86" y="428"/>
                        </a:lnTo>
                        <a:lnTo>
                          <a:pt x="70" y="436"/>
                        </a:lnTo>
                        <a:lnTo>
                          <a:pt x="55" y="444"/>
                        </a:lnTo>
                        <a:lnTo>
                          <a:pt x="50" y="444"/>
                        </a:lnTo>
                        <a:lnTo>
                          <a:pt x="46" y="443"/>
                        </a:lnTo>
                        <a:lnTo>
                          <a:pt x="40" y="440"/>
                        </a:lnTo>
                        <a:lnTo>
                          <a:pt x="29" y="433"/>
                        </a:lnTo>
                        <a:lnTo>
                          <a:pt x="32" y="415"/>
                        </a:lnTo>
                        <a:lnTo>
                          <a:pt x="40" y="394"/>
                        </a:lnTo>
                        <a:lnTo>
                          <a:pt x="51" y="373"/>
                        </a:lnTo>
                        <a:lnTo>
                          <a:pt x="65" y="351"/>
                        </a:lnTo>
                        <a:lnTo>
                          <a:pt x="80" y="330"/>
                        </a:lnTo>
                        <a:lnTo>
                          <a:pt x="96" y="309"/>
                        </a:lnTo>
                        <a:lnTo>
                          <a:pt x="110" y="289"/>
                        </a:lnTo>
                        <a:lnTo>
                          <a:pt x="124" y="273"/>
                        </a:lnTo>
                        <a:lnTo>
                          <a:pt x="105" y="273"/>
                        </a:lnTo>
                        <a:lnTo>
                          <a:pt x="91" y="274"/>
                        </a:lnTo>
                        <a:lnTo>
                          <a:pt x="79" y="274"/>
                        </a:lnTo>
                        <a:lnTo>
                          <a:pt x="70" y="274"/>
                        </a:lnTo>
                        <a:lnTo>
                          <a:pt x="59" y="276"/>
                        </a:lnTo>
                        <a:lnTo>
                          <a:pt x="49" y="277"/>
                        </a:lnTo>
                        <a:lnTo>
                          <a:pt x="36" y="278"/>
                        </a:lnTo>
                        <a:lnTo>
                          <a:pt x="19" y="281"/>
                        </a:lnTo>
                        <a:lnTo>
                          <a:pt x="8" y="272"/>
                        </a:lnTo>
                        <a:lnTo>
                          <a:pt x="3" y="265"/>
                        </a:lnTo>
                        <a:lnTo>
                          <a:pt x="1" y="260"/>
                        </a:lnTo>
                        <a:lnTo>
                          <a:pt x="0" y="253"/>
                        </a:lnTo>
                        <a:lnTo>
                          <a:pt x="19" y="241"/>
                        </a:lnTo>
                        <a:lnTo>
                          <a:pt x="36" y="230"/>
                        </a:lnTo>
                        <a:lnTo>
                          <a:pt x="51" y="219"/>
                        </a:lnTo>
                        <a:lnTo>
                          <a:pt x="68" y="209"/>
                        </a:lnTo>
                        <a:lnTo>
                          <a:pt x="84" y="199"/>
                        </a:lnTo>
                        <a:lnTo>
                          <a:pt x="100" y="190"/>
                        </a:lnTo>
                        <a:lnTo>
                          <a:pt x="116" y="182"/>
                        </a:lnTo>
                        <a:lnTo>
                          <a:pt x="132" y="174"/>
                        </a:lnTo>
                        <a:lnTo>
                          <a:pt x="147" y="168"/>
                        </a:lnTo>
                        <a:lnTo>
                          <a:pt x="163" y="161"/>
                        </a:lnTo>
                        <a:lnTo>
                          <a:pt x="180" y="156"/>
                        </a:lnTo>
                        <a:lnTo>
                          <a:pt x="199" y="149"/>
                        </a:lnTo>
                        <a:lnTo>
                          <a:pt x="217" y="144"/>
                        </a:lnTo>
                        <a:lnTo>
                          <a:pt x="238" y="140"/>
                        </a:lnTo>
                        <a:lnTo>
                          <a:pt x="259" y="135"/>
                        </a:lnTo>
                        <a:lnTo>
                          <a:pt x="281" y="131"/>
                        </a:lnTo>
                        <a:lnTo>
                          <a:pt x="287" y="126"/>
                        </a:lnTo>
                        <a:lnTo>
                          <a:pt x="293" y="122"/>
                        </a:lnTo>
                        <a:lnTo>
                          <a:pt x="300" y="118"/>
                        </a:lnTo>
                        <a:lnTo>
                          <a:pt x="305" y="115"/>
                        </a:lnTo>
                        <a:lnTo>
                          <a:pt x="312" y="111"/>
                        </a:lnTo>
                        <a:lnTo>
                          <a:pt x="319" y="109"/>
                        </a:lnTo>
                        <a:lnTo>
                          <a:pt x="327" y="106"/>
                        </a:lnTo>
                        <a:lnTo>
                          <a:pt x="335" y="102"/>
                        </a:lnTo>
                        <a:lnTo>
                          <a:pt x="338" y="82"/>
                        </a:lnTo>
                        <a:lnTo>
                          <a:pt x="340" y="69"/>
                        </a:lnTo>
                        <a:lnTo>
                          <a:pt x="344" y="61"/>
                        </a:lnTo>
                        <a:lnTo>
                          <a:pt x="351" y="56"/>
                        </a:lnTo>
                        <a:lnTo>
                          <a:pt x="360" y="55"/>
                        </a:lnTo>
                        <a:lnTo>
                          <a:pt x="372" y="53"/>
                        </a:lnTo>
                        <a:lnTo>
                          <a:pt x="389" y="52"/>
                        </a:lnTo>
                        <a:lnTo>
                          <a:pt x="410" y="47"/>
                        </a:lnTo>
                        <a:lnTo>
                          <a:pt x="414" y="35"/>
                        </a:lnTo>
                        <a:lnTo>
                          <a:pt x="418" y="26"/>
                        </a:lnTo>
                        <a:lnTo>
                          <a:pt x="423" y="19"/>
                        </a:lnTo>
                        <a:lnTo>
                          <a:pt x="431" y="11"/>
                        </a:lnTo>
                        <a:lnTo>
                          <a:pt x="439" y="17"/>
                        </a:lnTo>
                        <a:lnTo>
                          <a:pt x="447" y="23"/>
                        </a:lnTo>
                        <a:lnTo>
                          <a:pt x="455" y="28"/>
                        </a:lnTo>
                        <a:lnTo>
                          <a:pt x="464" y="35"/>
                        </a:lnTo>
                        <a:lnTo>
                          <a:pt x="470" y="31"/>
                        </a:lnTo>
                        <a:lnTo>
                          <a:pt x="477" y="25"/>
                        </a:lnTo>
                        <a:lnTo>
                          <a:pt x="484" y="19"/>
                        </a:lnTo>
                        <a:lnTo>
                          <a:pt x="490" y="13"/>
                        </a:lnTo>
                        <a:lnTo>
                          <a:pt x="498" y="7"/>
                        </a:lnTo>
                        <a:lnTo>
                          <a:pt x="505" y="3"/>
                        </a:lnTo>
                        <a:lnTo>
                          <a:pt x="513" y="1"/>
                        </a:lnTo>
                        <a:lnTo>
                          <a:pt x="520" y="0"/>
                        </a:lnTo>
                        <a:lnTo>
                          <a:pt x="527" y="10"/>
                        </a:lnTo>
                        <a:lnTo>
                          <a:pt x="535" y="21"/>
                        </a:lnTo>
                        <a:lnTo>
                          <a:pt x="543" y="32"/>
                        </a:lnTo>
                        <a:lnTo>
                          <a:pt x="549" y="43"/>
                        </a:lnTo>
                        <a:lnTo>
                          <a:pt x="557" y="39"/>
                        </a:lnTo>
                        <a:lnTo>
                          <a:pt x="564" y="35"/>
                        </a:lnTo>
                        <a:lnTo>
                          <a:pt x="572" y="32"/>
                        </a:lnTo>
                        <a:lnTo>
                          <a:pt x="585" y="30"/>
                        </a:lnTo>
                        <a:lnTo>
                          <a:pt x="589" y="40"/>
                        </a:lnTo>
                        <a:lnTo>
                          <a:pt x="591" y="52"/>
                        </a:lnTo>
                        <a:lnTo>
                          <a:pt x="597" y="65"/>
                        </a:lnTo>
                        <a:lnTo>
                          <a:pt x="607" y="78"/>
                        </a:lnTo>
                        <a:lnTo>
                          <a:pt x="615" y="76"/>
                        </a:lnTo>
                        <a:lnTo>
                          <a:pt x="622" y="73"/>
                        </a:lnTo>
                        <a:lnTo>
                          <a:pt x="629" y="72"/>
                        </a:lnTo>
                        <a:lnTo>
                          <a:pt x="644" y="71"/>
                        </a:lnTo>
                        <a:lnTo>
                          <a:pt x="648" y="78"/>
                        </a:lnTo>
                        <a:lnTo>
                          <a:pt x="650" y="90"/>
                        </a:lnTo>
                        <a:lnTo>
                          <a:pt x="653" y="105"/>
                        </a:lnTo>
                        <a:lnTo>
                          <a:pt x="654" y="119"/>
                        </a:lnTo>
                        <a:lnTo>
                          <a:pt x="665" y="123"/>
                        </a:lnTo>
                        <a:lnTo>
                          <a:pt x="678" y="128"/>
                        </a:lnTo>
                        <a:lnTo>
                          <a:pt x="694" y="134"/>
                        </a:lnTo>
                        <a:lnTo>
                          <a:pt x="712" y="139"/>
                        </a:lnTo>
                        <a:lnTo>
                          <a:pt x="731" y="145"/>
                        </a:lnTo>
                        <a:lnTo>
                          <a:pt x="750" y="153"/>
                        </a:lnTo>
                        <a:lnTo>
                          <a:pt x="771" y="161"/>
                        </a:lnTo>
                        <a:lnTo>
                          <a:pt x="791" y="170"/>
                        </a:lnTo>
                        <a:lnTo>
                          <a:pt x="811" y="180"/>
                        </a:lnTo>
                        <a:lnTo>
                          <a:pt x="828" y="189"/>
                        </a:lnTo>
                        <a:lnTo>
                          <a:pt x="844" y="199"/>
                        </a:lnTo>
                        <a:lnTo>
                          <a:pt x="857" y="211"/>
                        </a:lnTo>
                        <a:lnTo>
                          <a:pt x="866" y="223"/>
                        </a:lnTo>
                        <a:lnTo>
                          <a:pt x="873" y="235"/>
                        </a:lnTo>
                        <a:lnTo>
                          <a:pt x="875" y="248"/>
                        </a:lnTo>
                        <a:lnTo>
                          <a:pt x="873" y="261"/>
                        </a:lnTo>
                        <a:lnTo>
                          <a:pt x="865" y="262"/>
                        </a:lnTo>
                        <a:lnTo>
                          <a:pt x="855" y="264"/>
                        </a:lnTo>
                        <a:lnTo>
                          <a:pt x="848" y="265"/>
                        </a:lnTo>
                        <a:lnTo>
                          <a:pt x="838" y="268"/>
                        </a:lnTo>
                        <a:lnTo>
                          <a:pt x="829" y="269"/>
                        </a:lnTo>
                        <a:lnTo>
                          <a:pt x="820" y="270"/>
                        </a:lnTo>
                        <a:lnTo>
                          <a:pt x="812" y="273"/>
                        </a:lnTo>
                        <a:lnTo>
                          <a:pt x="803" y="274"/>
                        </a:lnTo>
                        <a:lnTo>
                          <a:pt x="815" y="309"/>
                        </a:lnTo>
                        <a:lnTo>
                          <a:pt x="823" y="341"/>
                        </a:lnTo>
                        <a:lnTo>
                          <a:pt x="828" y="377"/>
                        </a:lnTo>
                        <a:lnTo>
                          <a:pt x="830" y="419"/>
                        </a:lnTo>
                        <a:lnTo>
                          <a:pt x="816" y="426"/>
                        </a:lnTo>
                        <a:lnTo>
                          <a:pt x="798" y="423"/>
                        </a:lnTo>
                        <a:lnTo>
                          <a:pt x="777" y="415"/>
                        </a:lnTo>
                        <a:lnTo>
                          <a:pt x="754" y="403"/>
                        </a:lnTo>
                        <a:lnTo>
                          <a:pt x="731" y="389"/>
                        </a:lnTo>
                        <a:lnTo>
                          <a:pt x="707" y="377"/>
                        </a:lnTo>
                        <a:lnTo>
                          <a:pt x="687" y="368"/>
                        </a:lnTo>
                        <a:lnTo>
                          <a:pt x="670" y="364"/>
                        </a:lnTo>
                        <a:lnTo>
                          <a:pt x="665" y="368"/>
                        </a:lnTo>
                        <a:lnTo>
                          <a:pt x="660" y="372"/>
                        </a:lnTo>
                        <a:lnTo>
                          <a:pt x="654" y="373"/>
                        </a:lnTo>
                        <a:lnTo>
                          <a:pt x="649" y="374"/>
                        </a:lnTo>
                        <a:lnTo>
                          <a:pt x="643" y="376"/>
                        </a:lnTo>
                        <a:lnTo>
                          <a:pt x="637" y="377"/>
                        </a:lnTo>
                        <a:lnTo>
                          <a:pt x="632" y="377"/>
                        </a:lnTo>
                        <a:lnTo>
                          <a:pt x="627" y="378"/>
                        </a:lnTo>
                        <a:lnTo>
                          <a:pt x="622" y="395"/>
                        </a:lnTo>
                        <a:lnTo>
                          <a:pt x="618" y="406"/>
                        </a:lnTo>
                        <a:lnTo>
                          <a:pt x="612" y="414"/>
                        </a:lnTo>
                        <a:lnTo>
                          <a:pt x="607" y="418"/>
                        </a:lnTo>
                        <a:lnTo>
                          <a:pt x="599" y="420"/>
                        </a:lnTo>
                        <a:lnTo>
                          <a:pt x="590" y="420"/>
                        </a:lnTo>
                        <a:lnTo>
                          <a:pt x="577" y="422"/>
                        </a:lnTo>
                        <a:lnTo>
                          <a:pt x="561" y="422"/>
                        </a:lnTo>
                        <a:lnTo>
                          <a:pt x="556" y="428"/>
                        </a:lnTo>
                        <a:lnTo>
                          <a:pt x="549" y="435"/>
                        </a:lnTo>
                        <a:lnTo>
                          <a:pt x="544" y="443"/>
                        </a:lnTo>
                        <a:lnTo>
                          <a:pt x="537" y="449"/>
                        </a:lnTo>
                        <a:lnTo>
                          <a:pt x="535" y="449"/>
                        </a:lnTo>
                        <a:lnTo>
                          <a:pt x="532" y="449"/>
                        </a:lnTo>
                        <a:lnTo>
                          <a:pt x="531" y="449"/>
                        </a:lnTo>
                        <a:lnTo>
                          <a:pt x="528" y="4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212640" y="4972320"/>
                    <a:ext cx="748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49">
                        <a:moveTo>
                          <a:pt x="8" y="49"/>
                        </a:moveTo>
                        <a:lnTo>
                          <a:pt x="7" y="47"/>
                        </a:lnTo>
                        <a:lnTo>
                          <a:pt x="4" y="46"/>
                        </a:lnTo>
                        <a:lnTo>
                          <a:pt x="3" y="45"/>
                        </a:lnTo>
                        <a:lnTo>
                          <a:pt x="0" y="43"/>
                        </a:lnTo>
                        <a:lnTo>
                          <a:pt x="0" y="41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1" y="33"/>
                        </a:lnTo>
                        <a:lnTo>
                          <a:pt x="30" y="26"/>
                        </a:lnTo>
                        <a:lnTo>
                          <a:pt x="60" y="20"/>
                        </a:lnTo>
                        <a:lnTo>
                          <a:pt x="91" y="15"/>
                        </a:lnTo>
                        <a:lnTo>
                          <a:pt x="122" y="11"/>
                        </a:lnTo>
                        <a:lnTo>
                          <a:pt x="154" y="7"/>
                        </a:lnTo>
                        <a:lnTo>
                          <a:pt x="185" y="4"/>
                        </a:lnTo>
                        <a:lnTo>
                          <a:pt x="217" y="3"/>
                        </a:lnTo>
                        <a:lnTo>
                          <a:pt x="250" y="1"/>
                        </a:lnTo>
                        <a:lnTo>
                          <a:pt x="281" y="0"/>
                        </a:lnTo>
                        <a:lnTo>
                          <a:pt x="314" y="0"/>
                        </a:lnTo>
                        <a:lnTo>
                          <a:pt x="346" y="0"/>
                        </a:lnTo>
                        <a:lnTo>
                          <a:pt x="377" y="0"/>
                        </a:lnTo>
                        <a:lnTo>
                          <a:pt x="410" y="0"/>
                        </a:lnTo>
                        <a:lnTo>
                          <a:pt x="440" y="1"/>
                        </a:lnTo>
                        <a:lnTo>
                          <a:pt x="472" y="1"/>
                        </a:lnTo>
                        <a:lnTo>
                          <a:pt x="502" y="3"/>
                        </a:lnTo>
                        <a:lnTo>
                          <a:pt x="503" y="8"/>
                        </a:lnTo>
                        <a:lnTo>
                          <a:pt x="502" y="12"/>
                        </a:lnTo>
                        <a:lnTo>
                          <a:pt x="501" y="15"/>
                        </a:lnTo>
                        <a:lnTo>
                          <a:pt x="498" y="17"/>
                        </a:lnTo>
                        <a:lnTo>
                          <a:pt x="466" y="18"/>
                        </a:lnTo>
                        <a:lnTo>
                          <a:pt x="435" y="20"/>
                        </a:lnTo>
                        <a:lnTo>
                          <a:pt x="405" y="21"/>
                        </a:lnTo>
                        <a:lnTo>
                          <a:pt x="373" y="22"/>
                        </a:lnTo>
                        <a:lnTo>
                          <a:pt x="343" y="24"/>
                        </a:lnTo>
                        <a:lnTo>
                          <a:pt x="311" y="25"/>
                        </a:lnTo>
                        <a:lnTo>
                          <a:pt x="281" y="26"/>
                        </a:lnTo>
                        <a:lnTo>
                          <a:pt x="251" y="29"/>
                        </a:lnTo>
                        <a:lnTo>
                          <a:pt x="219" y="30"/>
                        </a:lnTo>
                        <a:lnTo>
                          <a:pt x="189" y="32"/>
                        </a:lnTo>
                        <a:lnTo>
                          <a:pt x="159" y="34"/>
                        </a:lnTo>
                        <a:lnTo>
                          <a:pt x="129" y="37"/>
                        </a:lnTo>
                        <a:lnTo>
                          <a:pt x="99" y="39"/>
                        </a:lnTo>
                        <a:lnTo>
                          <a:pt x="68" y="42"/>
                        </a:lnTo>
                        <a:lnTo>
                          <a:pt x="38" y="45"/>
                        </a:lnTo>
                        <a:lnTo>
                          <a:pt x="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337920" y="4954320"/>
                    <a:ext cx="608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398">
                        <a:moveTo>
                          <a:pt x="234" y="398"/>
                        </a:moveTo>
                        <a:lnTo>
                          <a:pt x="221" y="386"/>
                        </a:lnTo>
                        <a:lnTo>
                          <a:pt x="210" y="381"/>
                        </a:lnTo>
                        <a:lnTo>
                          <a:pt x="203" y="380"/>
                        </a:lnTo>
                        <a:lnTo>
                          <a:pt x="197" y="381"/>
                        </a:lnTo>
                        <a:lnTo>
                          <a:pt x="191" y="385"/>
                        </a:lnTo>
                        <a:lnTo>
                          <a:pt x="183" y="389"/>
                        </a:lnTo>
                        <a:lnTo>
                          <a:pt x="175" y="393"/>
                        </a:lnTo>
                        <a:lnTo>
                          <a:pt x="163" y="396"/>
                        </a:lnTo>
                        <a:lnTo>
                          <a:pt x="151" y="378"/>
                        </a:lnTo>
                        <a:lnTo>
                          <a:pt x="142" y="368"/>
                        </a:lnTo>
                        <a:lnTo>
                          <a:pt x="136" y="361"/>
                        </a:lnTo>
                        <a:lnTo>
                          <a:pt x="130" y="360"/>
                        </a:lnTo>
                        <a:lnTo>
                          <a:pt x="124" y="363"/>
                        </a:lnTo>
                        <a:lnTo>
                          <a:pt x="114" y="367"/>
                        </a:lnTo>
                        <a:lnTo>
                          <a:pt x="103" y="372"/>
                        </a:lnTo>
                        <a:lnTo>
                          <a:pt x="86" y="377"/>
                        </a:lnTo>
                        <a:lnTo>
                          <a:pt x="83" y="356"/>
                        </a:lnTo>
                        <a:lnTo>
                          <a:pt x="79" y="343"/>
                        </a:lnTo>
                        <a:lnTo>
                          <a:pt x="74" y="336"/>
                        </a:lnTo>
                        <a:lnTo>
                          <a:pt x="68" y="336"/>
                        </a:lnTo>
                        <a:lnTo>
                          <a:pt x="61" y="339"/>
                        </a:lnTo>
                        <a:lnTo>
                          <a:pt x="51" y="343"/>
                        </a:lnTo>
                        <a:lnTo>
                          <a:pt x="41" y="348"/>
                        </a:lnTo>
                        <a:lnTo>
                          <a:pt x="28" y="351"/>
                        </a:lnTo>
                        <a:lnTo>
                          <a:pt x="30" y="335"/>
                        </a:lnTo>
                        <a:lnTo>
                          <a:pt x="33" y="319"/>
                        </a:lnTo>
                        <a:lnTo>
                          <a:pt x="37" y="303"/>
                        </a:lnTo>
                        <a:lnTo>
                          <a:pt x="40" y="288"/>
                        </a:lnTo>
                        <a:lnTo>
                          <a:pt x="34" y="284"/>
                        </a:lnTo>
                        <a:lnTo>
                          <a:pt x="30" y="282"/>
                        </a:lnTo>
                        <a:lnTo>
                          <a:pt x="24" y="281"/>
                        </a:lnTo>
                        <a:lnTo>
                          <a:pt x="19" y="281"/>
                        </a:lnTo>
                        <a:lnTo>
                          <a:pt x="13" y="281"/>
                        </a:lnTo>
                        <a:lnTo>
                          <a:pt x="8" y="281"/>
                        </a:lnTo>
                        <a:lnTo>
                          <a:pt x="4" y="282"/>
                        </a:lnTo>
                        <a:lnTo>
                          <a:pt x="0" y="282"/>
                        </a:lnTo>
                        <a:lnTo>
                          <a:pt x="4" y="268"/>
                        </a:lnTo>
                        <a:lnTo>
                          <a:pt x="11" y="255"/>
                        </a:lnTo>
                        <a:lnTo>
                          <a:pt x="17" y="242"/>
                        </a:lnTo>
                        <a:lnTo>
                          <a:pt x="24" y="231"/>
                        </a:lnTo>
                        <a:lnTo>
                          <a:pt x="26" y="221"/>
                        </a:lnTo>
                        <a:lnTo>
                          <a:pt x="24" y="211"/>
                        </a:lnTo>
                        <a:lnTo>
                          <a:pt x="16" y="204"/>
                        </a:lnTo>
                        <a:lnTo>
                          <a:pt x="0" y="196"/>
                        </a:lnTo>
                        <a:lnTo>
                          <a:pt x="4" y="181"/>
                        </a:lnTo>
                        <a:lnTo>
                          <a:pt x="12" y="171"/>
                        </a:lnTo>
                        <a:lnTo>
                          <a:pt x="21" y="163"/>
                        </a:lnTo>
                        <a:lnTo>
                          <a:pt x="30" y="152"/>
                        </a:lnTo>
                        <a:lnTo>
                          <a:pt x="26" y="131"/>
                        </a:lnTo>
                        <a:lnTo>
                          <a:pt x="24" y="119"/>
                        </a:lnTo>
                        <a:lnTo>
                          <a:pt x="23" y="112"/>
                        </a:lnTo>
                        <a:lnTo>
                          <a:pt x="23" y="102"/>
                        </a:lnTo>
                        <a:lnTo>
                          <a:pt x="33" y="93"/>
                        </a:lnTo>
                        <a:lnTo>
                          <a:pt x="42" y="89"/>
                        </a:lnTo>
                        <a:lnTo>
                          <a:pt x="50" y="87"/>
                        </a:lnTo>
                        <a:lnTo>
                          <a:pt x="57" y="85"/>
                        </a:lnTo>
                        <a:lnTo>
                          <a:pt x="62" y="83"/>
                        </a:lnTo>
                        <a:lnTo>
                          <a:pt x="66" y="76"/>
                        </a:lnTo>
                        <a:lnTo>
                          <a:pt x="68" y="64"/>
                        </a:lnTo>
                        <a:lnTo>
                          <a:pt x="71" y="46"/>
                        </a:lnTo>
                        <a:lnTo>
                          <a:pt x="75" y="44"/>
                        </a:lnTo>
                        <a:lnTo>
                          <a:pt x="79" y="43"/>
                        </a:lnTo>
                        <a:lnTo>
                          <a:pt x="83" y="42"/>
                        </a:lnTo>
                        <a:lnTo>
                          <a:pt x="88" y="41"/>
                        </a:lnTo>
                        <a:lnTo>
                          <a:pt x="95" y="41"/>
                        </a:lnTo>
                        <a:lnTo>
                          <a:pt x="104" y="39"/>
                        </a:lnTo>
                        <a:lnTo>
                          <a:pt x="117" y="39"/>
                        </a:lnTo>
                        <a:lnTo>
                          <a:pt x="134" y="38"/>
                        </a:lnTo>
                        <a:lnTo>
                          <a:pt x="137" y="31"/>
                        </a:lnTo>
                        <a:lnTo>
                          <a:pt x="138" y="23"/>
                        </a:lnTo>
                        <a:lnTo>
                          <a:pt x="141" y="17"/>
                        </a:lnTo>
                        <a:lnTo>
                          <a:pt x="143" y="10"/>
                        </a:lnTo>
                        <a:lnTo>
                          <a:pt x="153" y="12"/>
                        </a:lnTo>
                        <a:lnTo>
                          <a:pt x="162" y="13"/>
                        </a:lnTo>
                        <a:lnTo>
                          <a:pt x="170" y="16"/>
                        </a:lnTo>
                        <a:lnTo>
                          <a:pt x="178" y="17"/>
                        </a:lnTo>
                        <a:lnTo>
                          <a:pt x="187" y="17"/>
                        </a:lnTo>
                        <a:lnTo>
                          <a:pt x="196" y="14"/>
                        </a:lnTo>
                        <a:lnTo>
                          <a:pt x="206" y="9"/>
                        </a:lnTo>
                        <a:lnTo>
                          <a:pt x="218" y="0"/>
                        </a:lnTo>
                        <a:lnTo>
                          <a:pt x="221" y="0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8" y="13"/>
                        </a:lnTo>
                        <a:lnTo>
                          <a:pt x="245" y="22"/>
                        </a:lnTo>
                        <a:lnTo>
                          <a:pt x="250" y="26"/>
                        </a:lnTo>
                        <a:lnTo>
                          <a:pt x="255" y="27"/>
                        </a:lnTo>
                        <a:lnTo>
                          <a:pt x="262" y="27"/>
                        </a:lnTo>
                        <a:lnTo>
                          <a:pt x="268" y="26"/>
                        </a:lnTo>
                        <a:lnTo>
                          <a:pt x="276" y="26"/>
                        </a:lnTo>
                        <a:lnTo>
                          <a:pt x="287" y="27"/>
                        </a:lnTo>
                        <a:lnTo>
                          <a:pt x="291" y="38"/>
                        </a:lnTo>
                        <a:lnTo>
                          <a:pt x="293" y="46"/>
                        </a:lnTo>
                        <a:lnTo>
                          <a:pt x="297" y="52"/>
                        </a:lnTo>
                        <a:lnTo>
                          <a:pt x="302" y="58"/>
                        </a:lnTo>
                        <a:lnTo>
                          <a:pt x="309" y="62"/>
                        </a:lnTo>
                        <a:lnTo>
                          <a:pt x="317" y="64"/>
                        </a:lnTo>
                        <a:lnTo>
                          <a:pt x="329" y="67"/>
                        </a:lnTo>
                        <a:lnTo>
                          <a:pt x="343" y="67"/>
                        </a:lnTo>
                        <a:lnTo>
                          <a:pt x="344" y="77"/>
                        </a:lnTo>
                        <a:lnTo>
                          <a:pt x="346" y="89"/>
                        </a:lnTo>
                        <a:lnTo>
                          <a:pt x="348" y="100"/>
                        </a:lnTo>
                        <a:lnTo>
                          <a:pt x="350" y="112"/>
                        </a:lnTo>
                        <a:lnTo>
                          <a:pt x="355" y="113"/>
                        </a:lnTo>
                        <a:lnTo>
                          <a:pt x="359" y="114"/>
                        </a:lnTo>
                        <a:lnTo>
                          <a:pt x="367" y="114"/>
                        </a:lnTo>
                        <a:lnTo>
                          <a:pt x="379" y="114"/>
                        </a:lnTo>
                        <a:lnTo>
                          <a:pt x="380" y="123"/>
                        </a:lnTo>
                        <a:lnTo>
                          <a:pt x="379" y="131"/>
                        </a:lnTo>
                        <a:lnTo>
                          <a:pt x="377" y="143"/>
                        </a:lnTo>
                        <a:lnTo>
                          <a:pt x="373" y="164"/>
                        </a:lnTo>
                        <a:lnTo>
                          <a:pt x="394" y="173"/>
                        </a:lnTo>
                        <a:lnTo>
                          <a:pt x="405" y="179"/>
                        </a:lnTo>
                        <a:lnTo>
                          <a:pt x="409" y="181"/>
                        </a:lnTo>
                        <a:lnTo>
                          <a:pt x="411" y="185"/>
                        </a:lnTo>
                        <a:lnTo>
                          <a:pt x="398" y="198"/>
                        </a:lnTo>
                        <a:lnTo>
                          <a:pt x="390" y="208"/>
                        </a:lnTo>
                        <a:lnTo>
                          <a:pt x="390" y="218"/>
                        </a:lnTo>
                        <a:lnTo>
                          <a:pt x="404" y="238"/>
                        </a:lnTo>
                        <a:lnTo>
                          <a:pt x="404" y="243"/>
                        </a:lnTo>
                        <a:lnTo>
                          <a:pt x="404" y="248"/>
                        </a:lnTo>
                        <a:lnTo>
                          <a:pt x="404" y="254"/>
                        </a:lnTo>
                        <a:lnTo>
                          <a:pt x="404" y="259"/>
                        </a:lnTo>
                        <a:lnTo>
                          <a:pt x="397" y="264"/>
                        </a:lnTo>
                        <a:lnTo>
                          <a:pt x="390" y="268"/>
                        </a:lnTo>
                        <a:lnTo>
                          <a:pt x="385" y="271"/>
                        </a:lnTo>
                        <a:lnTo>
                          <a:pt x="380" y="273"/>
                        </a:lnTo>
                        <a:lnTo>
                          <a:pt x="373" y="275"/>
                        </a:lnTo>
                        <a:lnTo>
                          <a:pt x="368" y="276"/>
                        </a:lnTo>
                        <a:lnTo>
                          <a:pt x="361" y="279"/>
                        </a:lnTo>
                        <a:lnTo>
                          <a:pt x="355" y="280"/>
                        </a:lnTo>
                        <a:lnTo>
                          <a:pt x="356" y="290"/>
                        </a:lnTo>
                        <a:lnTo>
                          <a:pt x="358" y="300"/>
                        </a:lnTo>
                        <a:lnTo>
                          <a:pt x="360" y="310"/>
                        </a:lnTo>
                        <a:lnTo>
                          <a:pt x="361" y="321"/>
                        </a:lnTo>
                        <a:lnTo>
                          <a:pt x="355" y="322"/>
                        </a:lnTo>
                        <a:lnTo>
                          <a:pt x="350" y="323"/>
                        </a:lnTo>
                        <a:lnTo>
                          <a:pt x="343" y="326"/>
                        </a:lnTo>
                        <a:lnTo>
                          <a:pt x="338" y="327"/>
                        </a:lnTo>
                        <a:lnTo>
                          <a:pt x="331" y="330"/>
                        </a:lnTo>
                        <a:lnTo>
                          <a:pt x="326" y="331"/>
                        </a:lnTo>
                        <a:lnTo>
                          <a:pt x="319" y="334"/>
                        </a:lnTo>
                        <a:lnTo>
                          <a:pt x="313" y="335"/>
                        </a:lnTo>
                        <a:lnTo>
                          <a:pt x="313" y="344"/>
                        </a:lnTo>
                        <a:lnTo>
                          <a:pt x="313" y="352"/>
                        </a:lnTo>
                        <a:lnTo>
                          <a:pt x="312" y="361"/>
                        </a:lnTo>
                        <a:lnTo>
                          <a:pt x="312" y="371"/>
                        </a:lnTo>
                        <a:lnTo>
                          <a:pt x="298" y="371"/>
                        </a:lnTo>
                        <a:lnTo>
                          <a:pt x="288" y="369"/>
                        </a:lnTo>
                        <a:lnTo>
                          <a:pt x="279" y="368"/>
                        </a:lnTo>
                        <a:lnTo>
                          <a:pt x="272" y="368"/>
                        </a:lnTo>
                        <a:lnTo>
                          <a:pt x="267" y="368"/>
                        </a:lnTo>
                        <a:lnTo>
                          <a:pt x="262" y="372"/>
                        </a:lnTo>
                        <a:lnTo>
                          <a:pt x="256" y="378"/>
                        </a:lnTo>
                        <a:lnTo>
                          <a:pt x="250" y="389"/>
                        </a:lnTo>
                        <a:lnTo>
                          <a:pt x="242" y="396"/>
                        </a:lnTo>
                        <a:lnTo>
                          <a:pt x="238" y="398"/>
                        </a:lnTo>
                        <a:lnTo>
                          <a:pt x="235" y="398"/>
                        </a:lnTo>
                        <a:lnTo>
                          <a:pt x="234" y="398"/>
                        </a:lnTo>
                        <a:close/>
                      </a:path>
                    </a:pathLst>
                  </a:cu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302280" y="4972320"/>
                    <a:ext cx="363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249">
                        <a:moveTo>
                          <a:pt x="18" y="249"/>
                        </a:moveTo>
                        <a:lnTo>
                          <a:pt x="24" y="230"/>
                        </a:lnTo>
                        <a:lnTo>
                          <a:pt x="32" y="212"/>
                        </a:lnTo>
                        <a:lnTo>
                          <a:pt x="43" y="192"/>
                        </a:lnTo>
                        <a:lnTo>
                          <a:pt x="57" y="174"/>
                        </a:lnTo>
                        <a:lnTo>
                          <a:pt x="71" y="157"/>
                        </a:lnTo>
                        <a:lnTo>
                          <a:pt x="85" y="141"/>
                        </a:lnTo>
                        <a:lnTo>
                          <a:pt x="100" y="126"/>
                        </a:lnTo>
                        <a:lnTo>
                          <a:pt x="114" y="113"/>
                        </a:lnTo>
                        <a:lnTo>
                          <a:pt x="113" y="110"/>
                        </a:lnTo>
                        <a:lnTo>
                          <a:pt x="113" y="107"/>
                        </a:lnTo>
                        <a:lnTo>
                          <a:pt x="112" y="104"/>
                        </a:lnTo>
                        <a:lnTo>
                          <a:pt x="112" y="101"/>
                        </a:lnTo>
                        <a:lnTo>
                          <a:pt x="105" y="100"/>
                        </a:lnTo>
                        <a:lnTo>
                          <a:pt x="99" y="99"/>
                        </a:lnTo>
                        <a:lnTo>
                          <a:pt x="92" y="97"/>
                        </a:lnTo>
                        <a:lnTo>
                          <a:pt x="83" y="96"/>
                        </a:lnTo>
                        <a:lnTo>
                          <a:pt x="71" y="95"/>
                        </a:lnTo>
                        <a:lnTo>
                          <a:pt x="54" y="95"/>
                        </a:lnTo>
                        <a:lnTo>
                          <a:pt x="30" y="93"/>
                        </a:lnTo>
                        <a:lnTo>
                          <a:pt x="0" y="92"/>
                        </a:lnTo>
                        <a:lnTo>
                          <a:pt x="0" y="89"/>
                        </a:lnTo>
                        <a:lnTo>
                          <a:pt x="0" y="87"/>
                        </a:lnTo>
                        <a:lnTo>
                          <a:pt x="0" y="86"/>
                        </a:lnTo>
                        <a:lnTo>
                          <a:pt x="1" y="83"/>
                        </a:lnTo>
                        <a:lnTo>
                          <a:pt x="15" y="75"/>
                        </a:lnTo>
                        <a:lnTo>
                          <a:pt x="28" y="67"/>
                        </a:lnTo>
                        <a:lnTo>
                          <a:pt x="42" y="61"/>
                        </a:lnTo>
                        <a:lnTo>
                          <a:pt x="55" y="53"/>
                        </a:lnTo>
                        <a:lnTo>
                          <a:pt x="70" y="45"/>
                        </a:lnTo>
                        <a:lnTo>
                          <a:pt x="84" y="38"/>
                        </a:lnTo>
                        <a:lnTo>
                          <a:pt x="99" y="30"/>
                        </a:lnTo>
                        <a:lnTo>
                          <a:pt x="113" y="24"/>
                        </a:lnTo>
                        <a:lnTo>
                          <a:pt x="129" y="18"/>
                        </a:lnTo>
                        <a:lnTo>
                          <a:pt x="143" y="13"/>
                        </a:lnTo>
                        <a:lnTo>
                          <a:pt x="159" y="8"/>
                        </a:lnTo>
                        <a:lnTo>
                          <a:pt x="175" y="5"/>
                        </a:lnTo>
                        <a:lnTo>
                          <a:pt x="191" y="1"/>
                        </a:lnTo>
                        <a:lnTo>
                          <a:pt x="206" y="0"/>
                        </a:lnTo>
                        <a:lnTo>
                          <a:pt x="223" y="0"/>
                        </a:lnTo>
                        <a:lnTo>
                          <a:pt x="239" y="0"/>
                        </a:lnTo>
                        <a:lnTo>
                          <a:pt x="243" y="9"/>
                        </a:lnTo>
                        <a:lnTo>
                          <a:pt x="246" y="15"/>
                        </a:lnTo>
                        <a:lnTo>
                          <a:pt x="246" y="18"/>
                        </a:lnTo>
                        <a:lnTo>
                          <a:pt x="244" y="22"/>
                        </a:lnTo>
                        <a:lnTo>
                          <a:pt x="233" y="26"/>
                        </a:lnTo>
                        <a:lnTo>
                          <a:pt x="219" y="29"/>
                        </a:lnTo>
                        <a:lnTo>
                          <a:pt x="208" y="33"/>
                        </a:lnTo>
                        <a:lnTo>
                          <a:pt x="195" y="36"/>
                        </a:lnTo>
                        <a:lnTo>
                          <a:pt x="181" y="39"/>
                        </a:lnTo>
                        <a:lnTo>
                          <a:pt x="170" y="43"/>
                        </a:lnTo>
                        <a:lnTo>
                          <a:pt x="156" y="46"/>
                        </a:lnTo>
                        <a:lnTo>
                          <a:pt x="145" y="50"/>
                        </a:lnTo>
                        <a:lnTo>
                          <a:pt x="151" y="50"/>
                        </a:lnTo>
                        <a:lnTo>
                          <a:pt x="158" y="50"/>
                        </a:lnTo>
                        <a:lnTo>
                          <a:pt x="166" y="50"/>
                        </a:lnTo>
                        <a:lnTo>
                          <a:pt x="175" y="49"/>
                        </a:lnTo>
                        <a:lnTo>
                          <a:pt x="185" y="47"/>
                        </a:lnTo>
                        <a:lnTo>
                          <a:pt x="197" y="47"/>
                        </a:lnTo>
                        <a:lnTo>
                          <a:pt x="210" y="46"/>
                        </a:lnTo>
                        <a:lnTo>
                          <a:pt x="225" y="46"/>
                        </a:lnTo>
                        <a:lnTo>
                          <a:pt x="216" y="53"/>
                        </a:lnTo>
                        <a:lnTo>
                          <a:pt x="205" y="57"/>
                        </a:lnTo>
                        <a:lnTo>
                          <a:pt x="195" y="61"/>
                        </a:lnTo>
                        <a:lnTo>
                          <a:pt x="184" y="62"/>
                        </a:lnTo>
                        <a:lnTo>
                          <a:pt x="173" y="63"/>
                        </a:lnTo>
                        <a:lnTo>
                          <a:pt x="163" y="66"/>
                        </a:lnTo>
                        <a:lnTo>
                          <a:pt x="156" y="68"/>
                        </a:lnTo>
                        <a:lnTo>
                          <a:pt x="151" y="74"/>
                        </a:lnTo>
                        <a:lnTo>
                          <a:pt x="154" y="75"/>
                        </a:lnTo>
                        <a:lnTo>
                          <a:pt x="158" y="75"/>
                        </a:lnTo>
                        <a:lnTo>
                          <a:pt x="162" y="75"/>
                        </a:lnTo>
                        <a:lnTo>
                          <a:pt x="167" y="74"/>
                        </a:lnTo>
                        <a:lnTo>
                          <a:pt x="175" y="74"/>
                        </a:lnTo>
                        <a:lnTo>
                          <a:pt x="184" y="72"/>
                        </a:lnTo>
                        <a:lnTo>
                          <a:pt x="198" y="71"/>
                        </a:lnTo>
                        <a:lnTo>
                          <a:pt x="216" y="71"/>
                        </a:lnTo>
                        <a:lnTo>
                          <a:pt x="217" y="75"/>
                        </a:lnTo>
                        <a:lnTo>
                          <a:pt x="218" y="79"/>
                        </a:lnTo>
                        <a:lnTo>
                          <a:pt x="219" y="83"/>
                        </a:lnTo>
                        <a:lnTo>
                          <a:pt x="221" y="87"/>
                        </a:lnTo>
                        <a:lnTo>
                          <a:pt x="212" y="88"/>
                        </a:lnTo>
                        <a:lnTo>
                          <a:pt x="201" y="91"/>
                        </a:lnTo>
                        <a:lnTo>
                          <a:pt x="191" y="93"/>
                        </a:lnTo>
                        <a:lnTo>
                          <a:pt x="180" y="95"/>
                        </a:lnTo>
                        <a:lnTo>
                          <a:pt x="171" y="99"/>
                        </a:lnTo>
                        <a:lnTo>
                          <a:pt x="162" y="103"/>
                        </a:lnTo>
                        <a:lnTo>
                          <a:pt x="154" y="107"/>
                        </a:lnTo>
                        <a:lnTo>
                          <a:pt x="147" y="112"/>
                        </a:lnTo>
                        <a:lnTo>
                          <a:pt x="150" y="113"/>
                        </a:lnTo>
                        <a:lnTo>
                          <a:pt x="154" y="113"/>
                        </a:lnTo>
                        <a:lnTo>
                          <a:pt x="159" y="113"/>
                        </a:lnTo>
                        <a:lnTo>
                          <a:pt x="166" y="112"/>
                        </a:lnTo>
                        <a:lnTo>
                          <a:pt x="177" y="110"/>
                        </a:lnTo>
                        <a:lnTo>
                          <a:pt x="192" y="108"/>
                        </a:lnTo>
                        <a:lnTo>
                          <a:pt x="214" y="104"/>
                        </a:lnTo>
                        <a:lnTo>
                          <a:pt x="242" y="99"/>
                        </a:lnTo>
                        <a:lnTo>
                          <a:pt x="240" y="101"/>
                        </a:lnTo>
                        <a:lnTo>
                          <a:pt x="240" y="105"/>
                        </a:lnTo>
                        <a:lnTo>
                          <a:pt x="239" y="109"/>
                        </a:lnTo>
                        <a:lnTo>
                          <a:pt x="238" y="113"/>
                        </a:lnTo>
                        <a:lnTo>
                          <a:pt x="227" y="117"/>
                        </a:lnTo>
                        <a:lnTo>
                          <a:pt x="217" y="122"/>
                        </a:lnTo>
                        <a:lnTo>
                          <a:pt x="205" y="126"/>
                        </a:lnTo>
                        <a:lnTo>
                          <a:pt x="195" y="130"/>
                        </a:lnTo>
                        <a:lnTo>
                          <a:pt x="184" y="135"/>
                        </a:lnTo>
                        <a:lnTo>
                          <a:pt x="173" y="139"/>
                        </a:lnTo>
                        <a:lnTo>
                          <a:pt x="162" y="143"/>
                        </a:lnTo>
                        <a:lnTo>
                          <a:pt x="151" y="147"/>
                        </a:lnTo>
                        <a:lnTo>
                          <a:pt x="159" y="147"/>
                        </a:lnTo>
                        <a:lnTo>
                          <a:pt x="167" y="146"/>
                        </a:lnTo>
                        <a:lnTo>
                          <a:pt x="176" y="146"/>
                        </a:lnTo>
                        <a:lnTo>
                          <a:pt x="185" y="145"/>
                        </a:lnTo>
                        <a:lnTo>
                          <a:pt x="193" y="143"/>
                        </a:lnTo>
                        <a:lnTo>
                          <a:pt x="202" y="142"/>
                        </a:lnTo>
                        <a:lnTo>
                          <a:pt x="213" y="141"/>
                        </a:lnTo>
                        <a:lnTo>
                          <a:pt x="222" y="139"/>
                        </a:lnTo>
                        <a:lnTo>
                          <a:pt x="217" y="150"/>
                        </a:lnTo>
                        <a:lnTo>
                          <a:pt x="209" y="158"/>
                        </a:lnTo>
                        <a:lnTo>
                          <a:pt x="201" y="166"/>
                        </a:lnTo>
                        <a:lnTo>
                          <a:pt x="191" y="170"/>
                        </a:lnTo>
                        <a:lnTo>
                          <a:pt x="180" y="175"/>
                        </a:lnTo>
                        <a:lnTo>
                          <a:pt x="170" y="179"/>
                        </a:lnTo>
                        <a:lnTo>
                          <a:pt x="158" y="181"/>
                        </a:lnTo>
                        <a:lnTo>
                          <a:pt x="147" y="185"/>
                        </a:lnTo>
                        <a:lnTo>
                          <a:pt x="131" y="193"/>
                        </a:lnTo>
                        <a:lnTo>
                          <a:pt x="114" y="201"/>
                        </a:lnTo>
                        <a:lnTo>
                          <a:pt x="99" y="209"/>
                        </a:lnTo>
                        <a:lnTo>
                          <a:pt x="83" y="217"/>
                        </a:lnTo>
                        <a:lnTo>
                          <a:pt x="66" y="225"/>
                        </a:lnTo>
                        <a:lnTo>
                          <a:pt x="50" y="233"/>
                        </a:lnTo>
                        <a:lnTo>
                          <a:pt x="34" y="241"/>
                        </a:lnTo>
                        <a:lnTo>
                          <a:pt x="18" y="24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399480" y="4985280"/>
                    <a:ext cx="15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52">
                        <a:moveTo>
                          <a:pt x="97" y="152"/>
                        </a:moveTo>
                        <a:lnTo>
                          <a:pt x="89" y="146"/>
                        </a:lnTo>
                        <a:lnTo>
                          <a:pt x="83" y="141"/>
                        </a:lnTo>
                        <a:lnTo>
                          <a:pt x="79" y="139"/>
                        </a:lnTo>
                        <a:lnTo>
                          <a:pt x="75" y="136"/>
                        </a:lnTo>
                        <a:lnTo>
                          <a:pt x="71" y="133"/>
                        </a:lnTo>
                        <a:lnTo>
                          <a:pt x="66" y="131"/>
                        </a:lnTo>
                        <a:lnTo>
                          <a:pt x="62" y="128"/>
                        </a:lnTo>
                        <a:lnTo>
                          <a:pt x="55" y="124"/>
                        </a:lnTo>
                        <a:lnTo>
                          <a:pt x="53" y="112"/>
                        </a:lnTo>
                        <a:lnTo>
                          <a:pt x="49" y="103"/>
                        </a:lnTo>
                        <a:lnTo>
                          <a:pt x="42" y="95"/>
                        </a:lnTo>
                        <a:lnTo>
                          <a:pt x="37" y="89"/>
                        </a:lnTo>
                        <a:lnTo>
                          <a:pt x="29" y="82"/>
                        </a:lnTo>
                        <a:lnTo>
                          <a:pt x="22" y="77"/>
                        </a:lnTo>
                        <a:lnTo>
                          <a:pt x="14" y="73"/>
                        </a:lnTo>
                        <a:lnTo>
                          <a:pt x="7" y="69"/>
                        </a:lnTo>
                        <a:lnTo>
                          <a:pt x="7" y="64"/>
                        </a:lnTo>
                        <a:lnTo>
                          <a:pt x="8" y="60"/>
                        </a:lnTo>
                        <a:lnTo>
                          <a:pt x="8" y="54"/>
                        </a:lnTo>
                        <a:lnTo>
                          <a:pt x="8" y="50"/>
                        </a:lnTo>
                        <a:lnTo>
                          <a:pt x="21" y="53"/>
                        </a:lnTo>
                        <a:lnTo>
                          <a:pt x="30" y="56"/>
                        </a:lnTo>
                        <a:lnTo>
                          <a:pt x="36" y="58"/>
                        </a:lnTo>
                        <a:lnTo>
                          <a:pt x="41" y="60"/>
                        </a:lnTo>
                        <a:lnTo>
                          <a:pt x="36" y="49"/>
                        </a:lnTo>
                        <a:lnTo>
                          <a:pt x="25" y="39"/>
                        </a:lnTo>
                        <a:lnTo>
                          <a:pt x="13" y="29"/>
                        </a:lnTo>
                        <a:lnTo>
                          <a:pt x="7" y="24"/>
                        </a:lnTo>
                        <a:lnTo>
                          <a:pt x="5" y="18"/>
                        </a:lnTo>
                        <a:lnTo>
                          <a:pt x="3" y="12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26" y="6"/>
                        </a:lnTo>
                        <a:lnTo>
                          <a:pt x="49" y="15"/>
                        </a:lnTo>
                        <a:lnTo>
                          <a:pt x="67" y="29"/>
                        </a:lnTo>
                        <a:lnTo>
                          <a:pt x="83" y="48"/>
                        </a:lnTo>
                        <a:lnTo>
                          <a:pt x="95" y="70"/>
                        </a:lnTo>
                        <a:lnTo>
                          <a:pt x="103" y="95"/>
                        </a:lnTo>
                        <a:lnTo>
                          <a:pt x="106" y="121"/>
                        </a:lnTo>
                        <a:lnTo>
                          <a:pt x="106" y="152"/>
                        </a:lnTo>
                        <a:lnTo>
                          <a:pt x="104" y="152"/>
                        </a:lnTo>
                        <a:lnTo>
                          <a:pt x="101" y="152"/>
                        </a:lnTo>
                        <a:lnTo>
                          <a:pt x="100" y="152"/>
                        </a:lnTo>
                        <a:lnTo>
                          <a:pt x="97" y="15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346560" y="4964400"/>
                    <a:ext cx="42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75">
                        <a:moveTo>
                          <a:pt x="141" y="275"/>
                        </a:moveTo>
                        <a:lnTo>
                          <a:pt x="116" y="270"/>
                        </a:lnTo>
                        <a:lnTo>
                          <a:pt x="93" y="264"/>
                        </a:lnTo>
                        <a:lnTo>
                          <a:pt x="74" y="258"/>
                        </a:lnTo>
                        <a:lnTo>
                          <a:pt x="56" y="249"/>
                        </a:lnTo>
                        <a:lnTo>
                          <a:pt x="41" y="238"/>
                        </a:lnTo>
                        <a:lnTo>
                          <a:pt x="26" y="225"/>
                        </a:lnTo>
                        <a:lnTo>
                          <a:pt x="14" y="208"/>
                        </a:lnTo>
                        <a:lnTo>
                          <a:pt x="3" y="188"/>
                        </a:lnTo>
                        <a:lnTo>
                          <a:pt x="0" y="151"/>
                        </a:lnTo>
                        <a:lnTo>
                          <a:pt x="3" y="117"/>
                        </a:lnTo>
                        <a:lnTo>
                          <a:pt x="12" y="88"/>
                        </a:lnTo>
                        <a:lnTo>
                          <a:pt x="26" y="62"/>
                        </a:lnTo>
                        <a:lnTo>
                          <a:pt x="46" y="41"/>
                        </a:lnTo>
                        <a:lnTo>
                          <a:pt x="67" y="24"/>
                        </a:lnTo>
                        <a:lnTo>
                          <a:pt x="92" y="11"/>
                        </a:lnTo>
                        <a:lnTo>
                          <a:pt x="118" y="3"/>
                        </a:lnTo>
                        <a:lnTo>
                          <a:pt x="146" y="0"/>
                        </a:lnTo>
                        <a:lnTo>
                          <a:pt x="173" y="1"/>
                        </a:lnTo>
                        <a:lnTo>
                          <a:pt x="200" y="8"/>
                        </a:lnTo>
                        <a:lnTo>
                          <a:pt x="225" y="20"/>
                        </a:lnTo>
                        <a:lnTo>
                          <a:pt x="247" y="38"/>
                        </a:lnTo>
                        <a:lnTo>
                          <a:pt x="267" y="61"/>
                        </a:lnTo>
                        <a:lnTo>
                          <a:pt x="281" y="90"/>
                        </a:lnTo>
                        <a:lnTo>
                          <a:pt x="292" y="125"/>
                        </a:lnTo>
                        <a:lnTo>
                          <a:pt x="288" y="155"/>
                        </a:lnTo>
                        <a:lnTo>
                          <a:pt x="279" y="183"/>
                        </a:lnTo>
                        <a:lnTo>
                          <a:pt x="264" y="208"/>
                        </a:lnTo>
                        <a:lnTo>
                          <a:pt x="247" y="230"/>
                        </a:lnTo>
                        <a:lnTo>
                          <a:pt x="225" y="249"/>
                        </a:lnTo>
                        <a:lnTo>
                          <a:pt x="200" y="263"/>
                        </a:lnTo>
                        <a:lnTo>
                          <a:pt x="172" y="272"/>
                        </a:lnTo>
                        <a:lnTo>
                          <a:pt x="141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207600" y="4933800"/>
                    <a:ext cx="871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227">
                        <a:moveTo>
                          <a:pt x="26" y="227"/>
                        </a:moveTo>
                        <a:lnTo>
                          <a:pt x="8" y="213"/>
                        </a:lnTo>
                        <a:lnTo>
                          <a:pt x="0" y="192"/>
                        </a:lnTo>
                        <a:lnTo>
                          <a:pt x="2" y="166"/>
                        </a:lnTo>
                        <a:lnTo>
                          <a:pt x="12" y="138"/>
                        </a:lnTo>
                        <a:lnTo>
                          <a:pt x="25" y="109"/>
                        </a:lnTo>
                        <a:lnTo>
                          <a:pt x="41" y="84"/>
                        </a:lnTo>
                        <a:lnTo>
                          <a:pt x="55" y="62"/>
                        </a:lnTo>
                        <a:lnTo>
                          <a:pt x="67" y="46"/>
                        </a:lnTo>
                        <a:lnTo>
                          <a:pt x="79" y="36"/>
                        </a:lnTo>
                        <a:lnTo>
                          <a:pt x="93" y="22"/>
                        </a:lnTo>
                        <a:lnTo>
                          <a:pt x="109" y="12"/>
                        </a:lnTo>
                        <a:lnTo>
                          <a:pt x="125" y="4"/>
                        </a:lnTo>
                        <a:lnTo>
                          <a:pt x="140" y="0"/>
                        </a:lnTo>
                        <a:lnTo>
                          <a:pt x="154" y="3"/>
                        </a:lnTo>
                        <a:lnTo>
                          <a:pt x="164" y="15"/>
                        </a:lnTo>
                        <a:lnTo>
                          <a:pt x="169" y="37"/>
                        </a:lnTo>
                        <a:lnTo>
                          <a:pt x="167" y="39"/>
                        </a:lnTo>
                        <a:lnTo>
                          <a:pt x="164" y="42"/>
                        </a:lnTo>
                        <a:lnTo>
                          <a:pt x="160" y="42"/>
                        </a:lnTo>
                        <a:lnTo>
                          <a:pt x="154" y="43"/>
                        </a:lnTo>
                        <a:lnTo>
                          <a:pt x="152" y="38"/>
                        </a:lnTo>
                        <a:lnTo>
                          <a:pt x="152" y="32"/>
                        </a:lnTo>
                        <a:lnTo>
                          <a:pt x="151" y="26"/>
                        </a:lnTo>
                        <a:lnTo>
                          <a:pt x="151" y="21"/>
                        </a:lnTo>
                        <a:lnTo>
                          <a:pt x="121" y="26"/>
                        </a:lnTo>
                        <a:lnTo>
                          <a:pt x="96" y="41"/>
                        </a:lnTo>
                        <a:lnTo>
                          <a:pt x="73" y="62"/>
                        </a:lnTo>
                        <a:lnTo>
                          <a:pt x="55" y="88"/>
                        </a:lnTo>
                        <a:lnTo>
                          <a:pt x="42" y="118"/>
                        </a:lnTo>
                        <a:lnTo>
                          <a:pt x="33" y="150"/>
                        </a:lnTo>
                        <a:lnTo>
                          <a:pt x="27" y="181"/>
                        </a:lnTo>
                        <a:lnTo>
                          <a:pt x="26" y="210"/>
                        </a:lnTo>
                        <a:lnTo>
                          <a:pt x="45" y="206"/>
                        </a:lnTo>
                        <a:lnTo>
                          <a:pt x="62" y="196"/>
                        </a:lnTo>
                        <a:lnTo>
                          <a:pt x="79" y="181"/>
                        </a:lnTo>
                        <a:lnTo>
                          <a:pt x="94" y="164"/>
                        </a:lnTo>
                        <a:lnTo>
                          <a:pt x="113" y="147"/>
                        </a:lnTo>
                        <a:lnTo>
                          <a:pt x="131" y="134"/>
                        </a:lnTo>
                        <a:lnTo>
                          <a:pt x="151" y="125"/>
                        </a:lnTo>
                        <a:lnTo>
                          <a:pt x="175" y="124"/>
                        </a:lnTo>
                        <a:lnTo>
                          <a:pt x="175" y="133"/>
                        </a:lnTo>
                        <a:lnTo>
                          <a:pt x="175" y="142"/>
                        </a:lnTo>
                        <a:lnTo>
                          <a:pt x="175" y="153"/>
                        </a:lnTo>
                        <a:lnTo>
                          <a:pt x="175" y="162"/>
                        </a:lnTo>
                        <a:lnTo>
                          <a:pt x="185" y="158"/>
                        </a:lnTo>
                        <a:lnTo>
                          <a:pt x="190" y="155"/>
                        </a:lnTo>
                        <a:lnTo>
                          <a:pt x="196" y="154"/>
                        </a:lnTo>
                        <a:lnTo>
                          <a:pt x="201" y="154"/>
                        </a:lnTo>
                        <a:lnTo>
                          <a:pt x="203" y="159"/>
                        </a:lnTo>
                        <a:lnTo>
                          <a:pt x="206" y="163"/>
                        </a:lnTo>
                        <a:lnTo>
                          <a:pt x="209" y="168"/>
                        </a:lnTo>
                        <a:lnTo>
                          <a:pt x="213" y="174"/>
                        </a:lnTo>
                        <a:lnTo>
                          <a:pt x="228" y="149"/>
                        </a:lnTo>
                        <a:lnTo>
                          <a:pt x="244" y="126"/>
                        </a:lnTo>
                        <a:lnTo>
                          <a:pt x="261" y="104"/>
                        </a:lnTo>
                        <a:lnTo>
                          <a:pt x="278" y="84"/>
                        </a:lnTo>
                        <a:lnTo>
                          <a:pt x="298" y="67"/>
                        </a:lnTo>
                        <a:lnTo>
                          <a:pt x="320" y="54"/>
                        </a:lnTo>
                        <a:lnTo>
                          <a:pt x="345" y="45"/>
                        </a:lnTo>
                        <a:lnTo>
                          <a:pt x="376" y="39"/>
                        </a:lnTo>
                        <a:lnTo>
                          <a:pt x="383" y="57"/>
                        </a:lnTo>
                        <a:lnTo>
                          <a:pt x="383" y="75"/>
                        </a:lnTo>
                        <a:lnTo>
                          <a:pt x="378" y="92"/>
                        </a:lnTo>
                        <a:lnTo>
                          <a:pt x="368" y="110"/>
                        </a:lnTo>
                        <a:lnTo>
                          <a:pt x="356" y="129"/>
                        </a:lnTo>
                        <a:lnTo>
                          <a:pt x="345" y="149"/>
                        </a:lnTo>
                        <a:lnTo>
                          <a:pt x="336" y="168"/>
                        </a:lnTo>
                        <a:lnTo>
                          <a:pt x="331" y="188"/>
                        </a:lnTo>
                        <a:lnTo>
                          <a:pt x="340" y="185"/>
                        </a:lnTo>
                        <a:lnTo>
                          <a:pt x="349" y="180"/>
                        </a:lnTo>
                        <a:lnTo>
                          <a:pt x="359" y="175"/>
                        </a:lnTo>
                        <a:lnTo>
                          <a:pt x="368" y="171"/>
                        </a:lnTo>
                        <a:lnTo>
                          <a:pt x="376" y="170"/>
                        </a:lnTo>
                        <a:lnTo>
                          <a:pt x="383" y="172"/>
                        </a:lnTo>
                        <a:lnTo>
                          <a:pt x="389" y="179"/>
                        </a:lnTo>
                        <a:lnTo>
                          <a:pt x="393" y="191"/>
                        </a:lnTo>
                        <a:lnTo>
                          <a:pt x="403" y="187"/>
                        </a:lnTo>
                        <a:lnTo>
                          <a:pt x="414" y="184"/>
                        </a:lnTo>
                        <a:lnTo>
                          <a:pt x="422" y="181"/>
                        </a:lnTo>
                        <a:lnTo>
                          <a:pt x="431" y="180"/>
                        </a:lnTo>
                        <a:lnTo>
                          <a:pt x="440" y="179"/>
                        </a:lnTo>
                        <a:lnTo>
                          <a:pt x="450" y="179"/>
                        </a:lnTo>
                        <a:lnTo>
                          <a:pt x="462" y="179"/>
                        </a:lnTo>
                        <a:lnTo>
                          <a:pt x="477" y="180"/>
                        </a:lnTo>
                        <a:lnTo>
                          <a:pt x="478" y="183"/>
                        </a:lnTo>
                        <a:lnTo>
                          <a:pt x="479" y="184"/>
                        </a:lnTo>
                        <a:lnTo>
                          <a:pt x="482" y="187"/>
                        </a:lnTo>
                        <a:lnTo>
                          <a:pt x="483" y="189"/>
                        </a:lnTo>
                        <a:lnTo>
                          <a:pt x="494" y="188"/>
                        </a:lnTo>
                        <a:lnTo>
                          <a:pt x="506" y="187"/>
                        </a:lnTo>
                        <a:lnTo>
                          <a:pt x="521" y="185"/>
                        </a:lnTo>
                        <a:lnTo>
                          <a:pt x="537" y="184"/>
                        </a:lnTo>
                        <a:lnTo>
                          <a:pt x="552" y="183"/>
                        </a:lnTo>
                        <a:lnTo>
                          <a:pt x="567" y="184"/>
                        </a:lnTo>
                        <a:lnTo>
                          <a:pt x="579" y="187"/>
                        </a:lnTo>
                        <a:lnTo>
                          <a:pt x="590" y="191"/>
                        </a:lnTo>
                        <a:lnTo>
                          <a:pt x="585" y="197"/>
                        </a:lnTo>
                        <a:lnTo>
                          <a:pt x="571" y="201"/>
                        </a:lnTo>
                        <a:lnTo>
                          <a:pt x="552" y="205"/>
                        </a:lnTo>
                        <a:lnTo>
                          <a:pt x="529" y="208"/>
                        </a:lnTo>
                        <a:lnTo>
                          <a:pt x="507" y="209"/>
                        </a:lnTo>
                        <a:lnTo>
                          <a:pt x="487" y="209"/>
                        </a:lnTo>
                        <a:lnTo>
                          <a:pt x="473" y="209"/>
                        </a:lnTo>
                        <a:lnTo>
                          <a:pt x="466" y="209"/>
                        </a:lnTo>
                        <a:lnTo>
                          <a:pt x="465" y="205"/>
                        </a:lnTo>
                        <a:lnTo>
                          <a:pt x="465" y="201"/>
                        </a:lnTo>
                        <a:lnTo>
                          <a:pt x="464" y="199"/>
                        </a:lnTo>
                        <a:lnTo>
                          <a:pt x="462" y="195"/>
                        </a:lnTo>
                        <a:lnTo>
                          <a:pt x="449" y="196"/>
                        </a:lnTo>
                        <a:lnTo>
                          <a:pt x="436" y="199"/>
                        </a:lnTo>
                        <a:lnTo>
                          <a:pt x="423" y="203"/>
                        </a:lnTo>
                        <a:lnTo>
                          <a:pt x="411" y="208"/>
                        </a:lnTo>
                        <a:lnTo>
                          <a:pt x="401" y="212"/>
                        </a:lnTo>
                        <a:lnTo>
                          <a:pt x="389" y="216"/>
                        </a:lnTo>
                        <a:lnTo>
                          <a:pt x="380" y="218"/>
                        </a:lnTo>
                        <a:lnTo>
                          <a:pt x="370" y="218"/>
                        </a:lnTo>
                        <a:lnTo>
                          <a:pt x="370" y="212"/>
                        </a:lnTo>
                        <a:lnTo>
                          <a:pt x="370" y="204"/>
                        </a:lnTo>
                        <a:lnTo>
                          <a:pt x="370" y="197"/>
                        </a:lnTo>
                        <a:lnTo>
                          <a:pt x="372" y="191"/>
                        </a:lnTo>
                        <a:lnTo>
                          <a:pt x="361" y="195"/>
                        </a:lnTo>
                        <a:lnTo>
                          <a:pt x="352" y="199"/>
                        </a:lnTo>
                        <a:lnTo>
                          <a:pt x="343" y="201"/>
                        </a:lnTo>
                        <a:lnTo>
                          <a:pt x="335" y="204"/>
                        </a:lnTo>
                        <a:lnTo>
                          <a:pt x="326" y="206"/>
                        </a:lnTo>
                        <a:lnTo>
                          <a:pt x="318" y="208"/>
                        </a:lnTo>
                        <a:lnTo>
                          <a:pt x="309" y="209"/>
                        </a:lnTo>
                        <a:lnTo>
                          <a:pt x="301" y="210"/>
                        </a:lnTo>
                        <a:lnTo>
                          <a:pt x="301" y="209"/>
                        </a:lnTo>
                        <a:lnTo>
                          <a:pt x="299" y="208"/>
                        </a:lnTo>
                        <a:lnTo>
                          <a:pt x="299" y="206"/>
                        </a:lnTo>
                        <a:lnTo>
                          <a:pt x="298" y="205"/>
                        </a:lnTo>
                        <a:lnTo>
                          <a:pt x="306" y="193"/>
                        </a:lnTo>
                        <a:lnTo>
                          <a:pt x="315" y="176"/>
                        </a:lnTo>
                        <a:lnTo>
                          <a:pt x="327" y="155"/>
                        </a:lnTo>
                        <a:lnTo>
                          <a:pt x="339" y="133"/>
                        </a:lnTo>
                        <a:lnTo>
                          <a:pt x="351" y="110"/>
                        </a:lnTo>
                        <a:lnTo>
                          <a:pt x="360" y="89"/>
                        </a:lnTo>
                        <a:lnTo>
                          <a:pt x="365" y="71"/>
                        </a:lnTo>
                        <a:lnTo>
                          <a:pt x="366" y="57"/>
                        </a:lnTo>
                        <a:lnTo>
                          <a:pt x="337" y="66"/>
                        </a:lnTo>
                        <a:lnTo>
                          <a:pt x="313" y="78"/>
                        </a:lnTo>
                        <a:lnTo>
                          <a:pt x="292" y="93"/>
                        </a:lnTo>
                        <a:lnTo>
                          <a:pt x="273" y="112"/>
                        </a:lnTo>
                        <a:lnTo>
                          <a:pt x="256" y="133"/>
                        </a:lnTo>
                        <a:lnTo>
                          <a:pt x="242" y="156"/>
                        </a:lnTo>
                        <a:lnTo>
                          <a:pt x="227" y="181"/>
                        </a:lnTo>
                        <a:lnTo>
                          <a:pt x="214" y="209"/>
                        </a:lnTo>
                        <a:lnTo>
                          <a:pt x="209" y="212"/>
                        </a:lnTo>
                        <a:lnTo>
                          <a:pt x="203" y="213"/>
                        </a:lnTo>
                        <a:lnTo>
                          <a:pt x="197" y="216"/>
                        </a:lnTo>
                        <a:lnTo>
                          <a:pt x="192" y="218"/>
                        </a:lnTo>
                        <a:lnTo>
                          <a:pt x="193" y="208"/>
                        </a:lnTo>
                        <a:lnTo>
                          <a:pt x="193" y="197"/>
                        </a:lnTo>
                        <a:lnTo>
                          <a:pt x="194" y="187"/>
                        </a:lnTo>
                        <a:lnTo>
                          <a:pt x="194" y="176"/>
                        </a:lnTo>
                        <a:lnTo>
                          <a:pt x="186" y="176"/>
                        </a:lnTo>
                        <a:lnTo>
                          <a:pt x="180" y="179"/>
                        </a:lnTo>
                        <a:lnTo>
                          <a:pt x="175" y="181"/>
                        </a:lnTo>
                        <a:lnTo>
                          <a:pt x="169" y="184"/>
                        </a:lnTo>
                        <a:lnTo>
                          <a:pt x="164" y="187"/>
                        </a:lnTo>
                        <a:lnTo>
                          <a:pt x="159" y="191"/>
                        </a:lnTo>
                        <a:lnTo>
                          <a:pt x="154" y="193"/>
                        </a:lnTo>
                        <a:lnTo>
                          <a:pt x="148" y="195"/>
                        </a:lnTo>
                        <a:lnTo>
                          <a:pt x="148" y="183"/>
                        </a:lnTo>
                        <a:lnTo>
                          <a:pt x="150" y="174"/>
                        </a:lnTo>
                        <a:lnTo>
                          <a:pt x="152" y="162"/>
                        </a:lnTo>
                        <a:lnTo>
                          <a:pt x="159" y="141"/>
                        </a:lnTo>
                        <a:lnTo>
                          <a:pt x="140" y="146"/>
                        </a:lnTo>
                        <a:lnTo>
                          <a:pt x="123" y="156"/>
                        </a:lnTo>
                        <a:lnTo>
                          <a:pt x="106" y="171"/>
                        </a:lnTo>
                        <a:lnTo>
                          <a:pt x="90" y="187"/>
                        </a:lnTo>
                        <a:lnTo>
                          <a:pt x="76" y="201"/>
                        </a:lnTo>
                        <a:lnTo>
                          <a:pt x="60" y="214"/>
                        </a:lnTo>
                        <a:lnTo>
                          <a:pt x="43" y="224"/>
                        </a:lnTo>
                        <a:lnTo>
                          <a:pt x="26" y="2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349080" y="4967280"/>
                    <a:ext cx="374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34">
                        <a:moveTo>
                          <a:pt x="103" y="234"/>
                        </a:moveTo>
                        <a:lnTo>
                          <a:pt x="67" y="217"/>
                        </a:lnTo>
                        <a:lnTo>
                          <a:pt x="38" y="200"/>
                        </a:lnTo>
                        <a:lnTo>
                          <a:pt x="18" y="181"/>
                        </a:lnTo>
                        <a:lnTo>
                          <a:pt x="5" y="160"/>
                        </a:lnTo>
                        <a:lnTo>
                          <a:pt x="0" y="137"/>
                        </a:lnTo>
                        <a:lnTo>
                          <a:pt x="3" y="109"/>
                        </a:lnTo>
                        <a:lnTo>
                          <a:pt x="15" y="79"/>
                        </a:lnTo>
                        <a:lnTo>
                          <a:pt x="33" y="43"/>
                        </a:lnTo>
                        <a:lnTo>
                          <a:pt x="50" y="29"/>
                        </a:lnTo>
                        <a:lnTo>
                          <a:pt x="67" y="17"/>
                        </a:lnTo>
                        <a:lnTo>
                          <a:pt x="85" y="9"/>
                        </a:lnTo>
                        <a:lnTo>
                          <a:pt x="104" y="2"/>
                        </a:lnTo>
                        <a:lnTo>
                          <a:pt x="122" y="0"/>
                        </a:lnTo>
                        <a:lnTo>
                          <a:pt x="139" y="0"/>
                        </a:lnTo>
                        <a:lnTo>
                          <a:pt x="158" y="2"/>
                        </a:lnTo>
                        <a:lnTo>
                          <a:pt x="175" y="8"/>
                        </a:lnTo>
                        <a:lnTo>
                          <a:pt x="191" y="16"/>
                        </a:lnTo>
                        <a:lnTo>
                          <a:pt x="205" y="26"/>
                        </a:lnTo>
                        <a:lnTo>
                          <a:pt x="218" y="39"/>
                        </a:lnTo>
                        <a:lnTo>
                          <a:pt x="230" y="54"/>
                        </a:lnTo>
                        <a:lnTo>
                          <a:pt x="239" y="72"/>
                        </a:lnTo>
                        <a:lnTo>
                          <a:pt x="246" y="92"/>
                        </a:lnTo>
                        <a:lnTo>
                          <a:pt x="251" y="114"/>
                        </a:lnTo>
                        <a:lnTo>
                          <a:pt x="252" y="138"/>
                        </a:lnTo>
                        <a:lnTo>
                          <a:pt x="243" y="164"/>
                        </a:lnTo>
                        <a:lnTo>
                          <a:pt x="230" y="184"/>
                        </a:lnTo>
                        <a:lnTo>
                          <a:pt x="214" y="201"/>
                        </a:lnTo>
                        <a:lnTo>
                          <a:pt x="196" y="214"/>
                        </a:lnTo>
                        <a:lnTo>
                          <a:pt x="175" y="223"/>
                        </a:lnTo>
                        <a:lnTo>
                          <a:pt x="151" y="230"/>
                        </a:lnTo>
                        <a:lnTo>
                          <a:pt x="128" y="233"/>
                        </a:lnTo>
                        <a:lnTo>
                          <a:pt x="103" y="234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396600" y="499716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5">
                        <a:moveTo>
                          <a:pt x="39" y="25"/>
                        </a:moveTo>
                        <a:lnTo>
                          <a:pt x="35" y="23"/>
                        </a:lnTo>
                        <a:lnTo>
                          <a:pt x="31" y="20"/>
                        </a:lnTo>
                        <a:lnTo>
                          <a:pt x="25" y="17"/>
                        </a:lnTo>
                        <a:lnTo>
                          <a:pt x="18" y="15"/>
                        </a:lnTo>
                        <a:lnTo>
                          <a:pt x="11" y="11"/>
                        </a:lnTo>
                        <a:lnTo>
                          <a:pt x="6" y="8"/>
                        </a:lnTo>
                        <a:lnTo>
                          <a:pt x="2" y="6"/>
                        </a:lnTo>
                        <a:lnTo>
                          <a:pt x="0" y="4"/>
                        </a:lnTo>
                        <a:lnTo>
                          <a:pt x="5" y="2"/>
                        </a:lnTo>
                        <a:lnTo>
                          <a:pt x="10" y="0"/>
                        </a:lnTo>
                        <a:lnTo>
                          <a:pt x="15" y="2"/>
                        </a:lnTo>
                        <a:lnTo>
                          <a:pt x="22" y="4"/>
                        </a:lnTo>
                        <a:lnTo>
                          <a:pt x="29" y="8"/>
                        </a:lnTo>
                        <a:lnTo>
                          <a:pt x="35" y="12"/>
                        </a:lnTo>
                        <a:lnTo>
                          <a:pt x="43" y="17"/>
                        </a:lnTo>
                        <a:lnTo>
                          <a:pt x="51" y="23"/>
                        </a:lnTo>
                        <a:lnTo>
                          <a:pt x="50" y="24"/>
                        </a:lnTo>
                        <a:lnTo>
                          <a:pt x="47" y="25"/>
                        </a:lnTo>
                        <a:lnTo>
                          <a:pt x="44" y="25"/>
                        </a:lnTo>
                        <a:lnTo>
                          <a:pt x="39" y="2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396960" y="4973400"/>
                    <a:ext cx="226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89">
                        <a:moveTo>
                          <a:pt x="71" y="89"/>
                        </a:moveTo>
                        <a:lnTo>
                          <a:pt x="61" y="82"/>
                        </a:lnTo>
                        <a:lnTo>
                          <a:pt x="55" y="77"/>
                        </a:lnTo>
                        <a:lnTo>
                          <a:pt x="48" y="75"/>
                        </a:lnTo>
                        <a:lnTo>
                          <a:pt x="38" y="71"/>
                        </a:lnTo>
                        <a:lnTo>
                          <a:pt x="38" y="61"/>
                        </a:lnTo>
                        <a:lnTo>
                          <a:pt x="39" y="54"/>
                        </a:lnTo>
                        <a:lnTo>
                          <a:pt x="39" y="46"/>
                        </a:lnTo>
                        <a:lnTo>
                          <a:pt x="40" y="38"/>
                        </a:lnTo>
                        <a:lnTo>
                          <a:pt x="34" y="35"/>
                        </a:lnTo>
                        <a:lnTo>
                          <a:pt x="28" y="32"/>
                        </a:lnTo>
                        <a:lnTo>
                          <a:pt x="22" y="31"/>
                        </a:lnTo>
                        <a:lnTo>
                          <a:pt x="17" y="30"/>
                        </a:lnTo>
                        <a:lnTo>
                          <a:pt x="11" y="29"/>
                        </a:lnTo>
                        <a:lnTo>
                          <a:pt x="7" y="27"/>
                        </a:lnTo>
                        <a:lnTo>
                          <a:pt x="4" y="26"/>
                        </a:lnTo>
                        <a:lnTo>
                          <a:pt x="0" y="26"/>
                        </a:lnTo>
                        <a:lnTo>
                          <a:pt x="0" y="19"/>
                        </a:lnTo>
                        <a:lnTo>
                          <a:pt x="0" y="13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  <a:lnTo>
                          <a:pt x="18" y="2"/>
                        </a:lnTo>
                        <a:lnTo>
                          <a:pt x="38" y="6"/>
                        </a:lnTo>
                        <a:lnTo>
                          <a:pt x="57" y="13"/>
                        </a:lnTo>
                        <a:lnTo>
                          <a:pt x="77" y="19"/>
                        </a:lnTo>
                        <a:lnTo>
                          <a:pt x="97" y="29"/>
                        </a:lnTo>
                        <a:lnTo>
                          <a:pt x="115" y="40"/>
                        </a:lnTo>
                        <a:lnTo>
                          <a:pt x="135" y="52"/>
                        </a:lnTo>
                        <a:lnTo>
                          <a:pt x="152" y="67"/>
                        </a:lnTo>
                        <a:lnTo>
                          <a:pt x="151" y="68"/>
                        </a:lnTo>
                        <a:lnTo>
                          <a:pt x="149" y="71"/>
                        </a:lnTo>
                        <a:lnTo>
                          <a:pt x="145" y="72"/>
                        </a:lnTo>
                        <a:lnTo>
                          <a:pt x="140" y="73"/>
                        </a:lnTo>
                        <a:lnTo>
                          <a:pt x="130" y="76"/>
                        </a:lnTo>
                        <a:lnTo>
                          <a:pt x="117" y="79"/>
                        </a:lnTo>
                        <a:lnTo>
                          <a:pt x="97" y="84"/>
                        </a:lnTo>
                        <a:lnTo>
                          <a:pt x="71" y="8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9" name=""/>
                <p:cNvSpPr txBox="1"/>
                <p:nvPr/>
              </p:nvSpPr>
              <p:spPr>
                <a:xfrm>
                  <a:off x="3216960" y="4814640"/>
                  <a:ext cx="147960" cy="18540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106868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MIME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1100" name=""/>
              <p:cNvSpPr/>
              <p:nvPr/>
            </p:nvSpPr>
            <p:spPr>
              <a:xfrm>
                <a:off x="2819520" y="4978440"/>
                <a:ext cx="67788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Experti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Exter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45080" y="4710240"/>
                <a:ext cx="252360" cy="25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2" name=""/>
            <p:cNvGrpSpPr/>
            <p:nvPr/>
          </p:nvGrpSpPr>
          <p:grpSpPr>
            <a:xfrm>
              <a:off x="3463920" y="4710240"/>
              <a:ext cx="955440" cy="639720"/>
              <a:chOff x="3463920" y="4710240"/>
              <a:chExt cx="955440" cy="639720"/>
            </a:xfrm>
          </p:grpSpPr>
          <p:sp>
            <p:nvSpPr>
              <p:cNvPr id="1103" name=""/>
              <p:cNvSpPr/>
              <p:nvPr/>
            </p:nvSpPr>
            <p:spPr>
              <a:xfrm>
                <a:off x="3463920" y="4970880"/>
                <a:ext cx="95544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(Meta-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Dictionnai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43640" y="4710240"/>
                <a:ext cx="3582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5" name=""/>
          <p:cNvGrpSpPr/>
          <p:nvPr/>
        </p:nvGrpSpPr>
        <p:grpSpPr>
          <a:xfrm>
            <a:off x="787320" y="4037040"/>
            <a:ext cx="685800" cy="1001520"/>
            <a:chOff x="787320" y="4037040"/>
            <a:chExt cx="685800" cy="1001520"/>
          </a:xfrm>
        </p:grpSpPr>
        <p:grpSp>
          <p:nvGrpSpPr>
            <p:cNvPr id="1106" name=""/>
            <p:cNvGrpSpPr/>
            <p:nvPr/>
          </p:nvGrpSpPr>
          <p:grpSpPr>
            <a:xfrm>
              <a:off x="798480" y="4037040"/>
              <a:ext cx="565200" cy="809640"/>
              <a:chOff x="798480" y="4037040"/>
              <a:chExt cx="565200" cy="809640"/>
            </a:xfrm>
          </p:grpSpPr>
          <p:sp>
            <p:nvSpPr>
              <p:cNvPr id="1107" name=""/>
              <p:cNvSpPr/>
              <p:nvPr/>
            </p:nvSpPr>
            <p:spPr>
              <a:xfrm>
                <a:off x="840960" y="409248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2320" y="407988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2960" y="406656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13960" y="4054320"/>
                <a:ext cx="522720" cy="75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8480" y="4037040"/>
                <a:ext cx="528840" cy="7545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>
              <a:off x="787320" y="480996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Scenari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3" name="" descr=""/>
            <p:cNvPicPr/>
            <p:nvPr/>
          </p:nvPicPr>
          <p:blipFill>
            <a:blip r:embed="rId7"/>
            <a:stretch/>
          </p:blipFill>
          <p:spPr>
            <a:xfrm>
              <a:off x="815760" y="4062600"/>
              <a:ext cx="4572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4" name=""/>
          <p:cNvGrpSpPr/>
          <p:nvPr/>
        </p:nvGrpSpPr>
        <p:grpSpPr>
          <a:xfrm>
            <a:off x="711360" y="976320"/>
            <a:ext cx="3862080" cy="2590920"/>
            <a:chOff x="711360" y="976320"/>
            <a:chExt cx="3862080" cy="2590920"/>
          </a:xfrm>
        </p:grpSpPr>
        <p:grpSp>
          <p:nvGrpSpPr>
            <p:cNvPr id="1115" name=""/>
            <p:cNvGrpSpPr/>
            <p:nvPr/>
          </p:nvGrpSpPr>
          <p:grpSpPr>
            <a:xfrm>
              <a:off x="711360" y="976320"/>
              <a:ext cx="3862080" cy="2276640"/>
              <a:chOff x="711360" y="976320"/>
              <a:chExt cx="3862080" cy="2276640"/>
            </a:xfrm>
          </p:grpSpPr>
          <p:sp>
            <p:nvSpPr>
              <p:cNvPr id="1116" name=""/>
              <p:cNvSpPr/>
              <p:nvPr/>
            </p:nvSpPr>
            <p:spPr>
              <a:xfrm>
                <a:off x="711360" y="976320"/>
                <a:ext cx="3862080" cy="207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8240" y="3014640"/>
                <a:ext cx="365724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(2) Du semi-informel au semi-form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749160" y="1052640"/>
              <a:ext cx="3809880" cy="1877760"/>
              <a:chOff x="749160" y="1052640"/>
              <a:chExt cx="3809880" cy="1877760"/>
            </a:xfrm>
          </p:grpSpPr>
          <p:pic>
            <p:nvPicPr>
              <p:cNvPr id="111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6960" y="1052640"/>
                <a:ext cx="371448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901440" y="1357200"/>
                <a:ext cx="3619080" cy="1251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9160" y="1747800"/>
                <a:ext cx="3809880" cy="118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2" name=""/>
            <p:cNvGrpSpPr/>
            <p:nvPr/>
          </p:nvGrpSpPr>
          <p:grpSpPr>
            <a:xfrm>
              <a:off x="779400" y="2862360"/>
              <a:ext cx="167760" cy="704880"/>
              <a:chOff x="779400" y="2862360"/>
              <a:chExt cx="167760" cy="704880"/>
            </a:xfrm>
          </p:grpSpPr>
          <p:sp>
            <p:nvSpPr>
              <p:cNvPr id="1123" name=""/>
              <p:cNvSpPr/>
              <p:nvPr/>
            </p:nvSpPr>
            <p:spPr>
              <a:xfrm>
                <a:off x="779400" y="2862360"/>
                <a:ext cx="167760" cy="571320"/>
              </a:xfrm>
              <a:prstGeom prst="upArrow">
                <a:avLst>
                  <a:gd name="adj1" fmla="val 50000"/>
                  <a:gd name="adj2" fmla="val 85139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12520" y="3460680"/>
                <a:ext cx="101160" cy="106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"/>
          <p:cNvGrpSpPr/>
          <p:nvPr/>
        </p:nvGrpSpPr>
        <p:grpSpPr>
          <a:xfrm>
            <a:off x="4368960" y="914400"/>
            <a:ext cx="4165920" cy="2338560"/>
            <a:chOff x="4368960" y="914400"/>
            <a:chExt cx="4165920" cy="2338560"/>
          </a:xfrm>
        </p:grpSpPr>
        <p:grpSp>
          <p:nvGrpSpPr>
            <p:cNvPr id="1126" name=""/>
            <p:cNvGrpSpPr/>
            <p:nvPr/>
          </p:nvGrpSpPr>
          <p:grpSpPr>
            <a:xfrm>
              <a:off x="4368960" y="914400"/>
              <a:ext cx="4165920" cy="2338560"/>
              <a:chOff x="4368960" y="914400"/>
              <a:chExt cx="4165920" cy="233856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4640400" y="976320"/>
                <a:ext cx="3862440" cy="2276640"/>
                <a:chOff x="4640400" y="976320"/>
                <a:chExt cx="3862440" cy="227664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640400" y="976320"/>
                  <a:ext cx="3862440" cy="20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183640" y="3014640"/>
                  <a:ext cx="30175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(3) RDF(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4368960" y="1119240"/>
                <a:ext cx="687600" cy="179280"/>
                <a:chOff x="4368960" y="1119240"/>
                <a:chExt cx="687600" cy="179280"/>
              </a:xfrm>
            </p:grpSpPr>
            <p:sp>
              <p:nvSpPr>
                <p:cNvPr id="1131" name=""/>
                <p:cNvSpPr/>
                <p:nvPr/>
              </p:nvSpPr>
              <p:spPr>
                <a:xfrm rot="5400000">
                  <a:off x="4695480" y="937440"/>
                  <a:ext cx="179280" cy="542880"/>
                </a:xfrm>
                <a:prstGeom prst="upArrow">
                  <a:avLst>
                    <a:gd name="adj1" fmla="val 50000"/>
                    <a:gd name="adj2" fmla="val 75703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368960" y="1155600"/>
                  <a:ext cx="101880" cy="1065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6121440" y="914400"/>
                <a:ext cx="24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Vocabulaire conceptu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4584600" y="1814400"/>
              <a:ext cx="3885840" cy="587160"/>
              <a:chOff x="4584600" y="1814400"/>
              <a:chExt cx="3885840" cy="587160"/>
            </a:xfrm>
          </p:grpSpPr>
          <p:sp>
            <p:nvSpPr>
              <p:cNvPr id="1135" name=""/>
              <p:cNvSpPr/>
              <p:nvPr/>
            </p:nvSpPr>
            <p:spPr>
              <a:xfrm>
                <a:off x="4584600" y="181440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cc3300"/>
                    </a:solidFill>
                    <a:latin typeface="Times New Roman"/>
                  </a:rPr>
                  <a:t>Relations - signature &amp; sub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personn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(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uteur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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7556400" y="1967040"/>
                <a:ext cx="914040" cy="152280"/>
                <a:chOff x="7556400" y="1967040"/>
                <a:chExt cx="914040" cy="15228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7629120" y="2043000"/>
                  <a:ext cx="74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556400" y="199224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878240" y="1967040"/>
                  <a:ext cx="249480" cy="15228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221320" y="1992240"/>
                  <a:ext cx="249120" cy="11448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1" name=""/>
            <p:cNvGrpSpPr/>
            <p:nvPr/>
          </p:nvGrpSpPr>
          <p:grpSpPr>
            <a:xfrm>
              <a:off x="4584600" y="2370240"/>
              <a:ext cx="3873600" cy="587160"/>
              <a:chOff x="4584600" y="2370240"/>
              <a:chExt cx="3873600" cy="587160"/>
            </a:xfrm>
          </p:grpSpPr>
          <p:sp>
            <p:nvSpPr>
              <p:cNvPr id="1142" name=""/>
              <p:cNvSpPr/>
              <p:nvPr/>
            </p:nvSpPr>
            <p:spPr>
              <a:xfrm>
                <a:off x="4584600" y="2370240"/>
                <a:ext cx="373392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cc3300"/>
                    </a:solidFill>
                    <a:latin typeface="Times New Roman"/>
                  </a:rPr>
                  <a:t>Termes &amp; définitions lang. naturel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ex: 'vélo', 'bicyclette' - (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vélo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153280" y="2500200"/>
                <a:ext cx="304920" cy="152640"/>
              </a:xfrm>
              <a:prstGeom prst="foldedCorner">
                <a:avLst>
                  <a:gd name="adj" fmla="val 41666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4584600" y="1281240"/>
              <a:ext cx="3886200" cy="535320"/>
              <a:chOff x="4584600" y="1281240"/>
              <a:chExt cx="3886200" cy="535320"/>
            </a:xfrm>
          </p:grpSpPr>
          <p:sp>
            <p:nvSpPr>
              <p:cNvPr id="1145" name=""/>
              <p:cNvSpPr/>
              <p:nvPr/>
            </p:nvSpPr>
            <p:spPr>
              <a:xfrm>
                <a:off x="4584600" y="1284120"/>
                <a:ext cx="370224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cc3300"/>
                    </a:solidFill>
                    <a:latin typeface="Times New Roman"/>
                  </a:rPr>
                  <a:t>Concepts - subsom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ex: 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documen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rappo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7480440" y="1281240"/>
                <a:ext cx="990360" cy="533160"/>
                <a:chOff x="7480440" y="1281240"/>
                <a:chExt cx="990360" cy="53316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7861320" y="12812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480440" y="15098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861320" y="15098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242200" y="15098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242200" y="17384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861320" y="17384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480440" y="1738440"/>
                  <a:ext cx="228600" cy="7596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>
                  <a:off x="7556040" y="135720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975800" y="135720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013600" y="1357200"/>
                  <a:ext cx="38124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369280" y="158580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7962840" y="1585800"/>
                  <a:ext cx="4320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581960" y="158580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4640400" y="2805120"/>
            <a:ext cx="3862080" cy="2870280"/>
            <a:chOff x="4640400" y="2805120"/>
            <a:chExt cx="3862080" cy="2870280"/>
          </a:xfrm>
        </p:grpSpPr>
        <p:grpSp>
          <p:nvGrpSpPr>
            <p:cNvPr id="1161" name=""/>
            <p:cNvGrpSpPr/>
            <p:nvPr/>
          </p:nvGrpSpPr>
          <p:grpSpPr>
            <a:xfrm>
              <a:off x="4640400" y="2805120"/>
              <a:ext cx="3862080" cy="2870280"/>
              <a:chOff x="4640400" y="2805120"/>
              <a:chExt cx="3862080" cy="287028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640400" y="3397320"/>
                <a:ext cx="3862080" cy="2278080"/>
                <a:chOff x="4640400" y="3397320"/>
                <a:chExt cx="3862080" cy="227808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640400" y="3397320"/>
                  <a:ext cx="3862080" cy="2073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216400" y="5436000"/>
                  <a:ext cx="3017520" cy="23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(4) Navigation et Utilisation</a:t>
                  </a:r>
                  <a:r>
                    <a:rPr b="1" i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8304120" y="2805120"/>
                <a:ext cx="167760" cy="750240"/>
                <a:chOff x="8304120" y="2805120"/>
                <a:chExt cx="167760" cy="750240"/>
              </a:xfrm>
            </p:grpSpPr>
            <p:sp>
              <p:nvSpPr>
                <p:cNvPr id="1166" name=""/>
                <p:cNvSpPr/>
                <p:nvPr/>
              </p:nvSpPr>
              <p:spPr>
                <a:xfrm rot="10800000">
                  <a:off x="8304120" y="2984040"/>
                  <a:ext cx="167760" cy="571320"/>
                </a:xfrm>
                <a:prstGeom prst="upArrow">
                  <a:avLst>
                    <a:gd name="adj1" fmla="val 50000"/>
                    <a:gd name="adj2" fmla="val 85139"/>
                  </a:avLst>
                </a:prstGeom>
                <a:solidFill>
                  <a:srgbClr val="333333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337240" y="2805120"/>
                  <a:ext cx="100800" cy="1076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168" name=""/>
            <p:cNvGraphicFramePr/>
            <p:nvPr/>
          </p:nvGraphicFramePr>
          <p:xfrm>
            <a:off x="4708440" y="3505320"/>
            <a:ext cx="1970280" cy="1179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08440" y="3505320"/>
                      <a:ext cx="1970280" cy="11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70" name="" descr=""/>
            <p:cNvPicPr/>
            <p:nvPr/>
          </p:nvPicPr>
          <p:blipFill>
            <a:blip r:embed="rId13"/>
            <a:stretch/>
          </p:blipFill>
          <p:spPr>
            <a:xfrm>
              <a:off x="6578640" y="3490920"/>
              <a:ext cx="1739880" cy="165744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1171" name="" descr=""/>
            <p:cNvPicPr/>
            <p:nvPr/>
          </p:nvPicPr>
          <p:blipFill>
            <a:blip r:embed="rId14"/>
            <a:stretch/>
          </p:blipFill>
          <p:spPr>
            <a:xfrm>
              <a:off x="5740560" y="4862520"/>
              <a:ext cx="2495520" cy="43020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pic>
          <p:nvPicPr>
            <p:cNvPr id="1172" name="" descr=""/>
            <p:cNvPicPr/>
            <p:nvPr/>
          </p:nvPicPr>
          <p:blipFill>
            <a:blip r:embed="rId15"/>
            <a:stretch/>
          </p:blipFill>
          <p:spPr>
            <a:xfrm>
              <a:off x="4673520" y="4329000"/>
              <a:ext cx="1952640" cy="1086120"/>
            </a:xfrm>
            <a:prstGeom prst="rect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</p:grpSp>
      <p:grpSp>
        <p:nvGrpSpPr>
          <p:cNvPr id="1173" name=""/>
          <p:cNvGrpSpPr/>
          <p:nvPr/>
        </p:nvGrpSpPr>
        <p:grpSpPr>
          <a:xfrm>
            <a:off x="4212360" y="2788920"/>
            <a:ext cx="4271040" cy="3200760"/>
            <a:chOff x="4212360" y="2788920"/>
            <a:chExt cx="4271040" cy="3200760"/>
          </a:xfrm>
        </p:grpSpPr>
        <p:sp>
          <p:nvSpPr>
            <p:cNvPr id="1174" name=""/>
            <p:cNvSpPr/>
            <p:nvPr/>
          </p:nvSpPr>
          <p:spPr>
            <a:xfrm flipV="1" rot="5400000">
              <a:off x="7997760" y="5504040"/>
              <a:ext cx="768240" cy="203040"/>
            </a:xfrm>
            <a:custGeom>
              <a:avLst/>
              <a:gdLst>
                <a:gd name="textAreaLeft" fmla="*/ 119880 w 768240"/>
                <a:gd name="textAreaRight" fmla="*/ 693000 w 768240"/>
                <a:gd name="textAreaTop" fmla="*/ 50760 h 203040"/>
                <a:gd name="textAreaBottom" fmla="*/ 15228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6"/>
                  </a:moveTo>
                  <a:lnTo>
                    <a:pt x="17349" y="5416"/>
                  </a:lnTo>
                  <a:lnTo>
                    <a:pt x="17349" y="0"/>
                  </a:lnTo>
                  <a:lnTo>
                    <a:pt x="21600" y="10800"/>
                  </a:lnTo>
                  <a:lnTo>
                    <a:pt x="17349" y="21600"/>
                  </a:lnTo>
                  <a:lnTo>
                    <a:pt x="17349" y="16184"/>
                  </a:lnTo>
                  <a:lnTo>
                    <a:pt x="3375" y="16184"/>
                  </a:lnTo>
                  <a:close/>
                </a:path>
                <a:path w="21600" h="21600">
                  <a:moveTo>
                    <a:pt x="0" y="5416"/>
                  </a:moveTo>
                  <a:lnTo>
                    <a:pt x="675" y="5416"/>
                  </a:lnTo>
                  <a:lnTo>
                    <a:pt x="675" y="16184"/>
                  </a:lnTo>
                  <a:lnTo>
                    <a:pt x="0" y="16184"/>
                  </a:lnTo>
                  <a:close/>
                </a:path>
                <a:path w="21600" h="21600">
                  <a:moveTo>
                    <a:pt x="1350" y="5416"/>
                  </a:moveTo>
                  <a:lnTo>
                    <a:pt x="2700" y="5416"/>
                  </a:lnTo>
                  <a:lnTo>
                    <a:pt x="2700" y="16184"/>
                  </a:lnTo>
                  <a:lnTo>
                    <a:pt x="1350" y="1618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2847600">
              <a:off x="4317120" y="2921400"/>
              <a:ext cx="601920" cy="5493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707" y="10800"/>
                  </a:moveTo>
                  <a:arcTo wR="-6093" hR="-6093" stAng="-10800000" swAng="-19318940"/>
                  <a:lnTo>
                    <a:pt x="19308" y="17452"/>
                  </a:lnTo>
                  <a:arcTo wR="10800" hR="10800" stAng="2281060" swAng="19318940"/>
                  <a:lnTo>
                    <a:pt x="24300" y="10800"/>
                  </a:lnTo>
                  <a:lnTo>
                    <a:pt x="19247" y="15854"/>
                  </a:lnTo>
                  <a:lnTo>
                    <a:pt x="14193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D687-4BE5-4F7F-8E84-7E30C323436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Tableau d'étude des scénario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685800" y="1022400"/>
          <a:ext cx="7772400" cy="49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22400"/>
                    <a:ext cx="7772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9" name=""/>
          <p:cNvSpPr/>
          <p:nvPr/>
        </p:nvSpPr>
        <p:spPr>
          <a:xfrm>
            <a:off x="736560" y="1596960"/>
            <a:ext cx="1181160" cy="381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511960" y="1419120"/>
            <a:ext cx="1168200" cy="711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52280" y="57913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spects à considé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Les utilisateurs finaux </a:t>
            </a:r>
            <a:r>
              <a:rPr b="0" lang="fr-FR" sz="24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Ra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3360" y="4572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Analyse par scénarios textue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1F5A-F18B-41CA-89DB-716234A44E4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MMA Quand ? Quoi ?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360" y="418680"/>
            <a:ext cx="908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Quand ?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e Février 2000 à Février 2002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Quoi ?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Projet IST - Communauté Européenne Environnement de gestion d'une mémoire organisationnelle.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Mémoire organisationnelle</a:t>
            </a: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Représentation persistante, explicite et/ou indexation des connaissances et des informations dans une organisation, afin de faciliter leur accès, leur partage et leur réutilisa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cc3300"/>
                </a:solidFill>
                <a:uFillTx/>
                <a:latin typeface="Arial"/>
              </a:rPr>
              <a:t>Environnement de gestion</a:t>
            </a: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Infrastructure logicielle permettant l'intégration cohérente et la capitalisation des connaissances distribuées dans l'organisation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F706-17A4-4A95-AFB6-133E2106C5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Exemple de contenu de rapport de scénario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09480" y="609480"/>
            <a:ext cx="6782040" cy="52578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669960" y="685800"/>
            <a:ext cx="6619680" cy="4094280"/>
          </a:xfrm>
          <a:prstGeom prst="rect">
            <a:avLst/>
          </a:prstGeom>
          <a:ln w="0">
            <a:noFill/>
          </a:ln>
        </p:spPr>
      </p:pic>
      <p:grpSp>
        <p:nvGrpSpPr>
          <p:cNvPr id="1186" name=""/>
          <p:cNvGrpSpPr/>
          <p:nvPr/>
        </p:nvGrpSpPr>
        <p:grpSpPr>
          <a:xfrm>
            <a:off x="822240" y="693720"/>
            <a:ext cx="2352600" cy="5785920"/>
            <a:chOff x="822240" y="693720"/>
            <a:chExt cx="2352600" cy="5785920"/>
          </a:xfrm>
        </p:grpSpPr>
        <p:sp>
          <p:nvSpPr>
            <p:cNvPr id="1187" name=""/>
            <p:cNvSpPr/>
            <p:nvPr/>
          </p:nvSpPr>
          <p:spPr>
            <a:xfrm>
              <a:off x="1041480" y="693720"/>
              <a:ext cx="213336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224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1041480" y="1484280"/>
            <a:ext cx="3057480" cy="4995360"/>
            <a:chOff x="1041480" y="1484280"/>
            <a:chExt cx="3057480" cy="4995360"/>
          </a:xfrm>
        </p:grpSpPr>
        <p:sp>
          <p:nvSpPr>
            <p:cNvPr id="1190" name=""/>
            <p:cNvSpPr/>
            <p:nvPr/>
          </p:nvSpPr>
          <p:spPr>
            <a:xfrm>
              <a:off x="1041480" y="1484280"/>
              <a:ext cx="14475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98760" y="6019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Evé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584360" y="3865680"/>
            <a:ext cx="3720960" cy="2613960"/>
            <a:chOff x="1584360" y="3865680"/>
            <a:chExt cx="3720960" cy="2613960"/>
          </a:xfrm>
        </p:grpSpPr>
        <p:sp>
          <p:nvSpPr>
            <p:cNvPr id="1193" name=""/>
            <p:cNvSpPr/>
            <p:nvPr/>
          </p:nvSpPr>
          <p:spPr>
            <a:xfrm>
              <a:off x="1584360" y="3865680"/>
              <a:ext cx="113328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74920" y="601992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Rô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1422360" y="1027080"/>
            <a:ext cx="5857920" cy="5452560"/>
            <a:chOff x="1422360" y="1027080"/>
            <a:chExt cx="5857920" cy="5452560"/>
          </a:xfrm>
        </p:grpSpPr>
        <p:sp>
          <p:nvSpPr>
            <p:cNvPr id="1196" name=""/>
            <p:cNvSpPr/>
            <p:nvPr/>
          </p:nvSpPr>
          <p:spPr>
            <a:xfrm>
              <a:off x="6537240" y="6019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33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27760" y="10270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22360" y="285588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099040" y="405612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994360" y="343692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775040" y="343692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22560" y="441792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689440" y="31989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60960" y="42372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2031840" y="4579920"/>
            <a:ext cx="4340160" cy="1899720"/>
            <a:chOff x="2031840" y="4579920"/>
            <a:chExt cx="4340160" cy="1899720"/>
          </a:xfrm>
        </p:grpSpPr>
        <p:sp>
          <p:nvSpPr>
            <p:cNvPr id="1206" name=""/>
            <p:cNvSpPr/>
            <p:nvPr/>
          </p:nvSpPr>
          <p:spPr>
            <a:xfrm>
              <a:off x="2031840" y="4579920"/>
              <a:ext cx="1305000" cy="220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089320" y="60199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Fo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9104-E77D-4522-AF54-02419D2801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Entretien semi-structuré &amp; exempl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6600" y="456840"/>
            <a:ext cx="883944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Guide et conseils pour l'entretie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Semi-structuré (individuel / groupe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19200" y="1600200"/>
            <a:ext cx="3730680" cy="4800600"/>
            <a:chOff x="619200" y="1600200"/>
            <a:chExt cx="3730680" cy="4800600"/>
          </a:xfrm>
        </p:grpSpPr>
        <p:sp>
          <p:nvSpPr>
            <p:cNvPr id="1211" name=""/>
            <p:cNvSpPr/>
            <p:nvPr/>
          </p:nvSpPr>
          <p:spPr>
            <a:xfrm>
              <a:off x="619200" y="16002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2" name="" descr=""/>
            <p:cNvPicPr/>
            <p:nvPr/>
          </p:nvPicPr>
          <p:blipFill>
            <a:blip r:embed="rId1"/>
            <a:stretch/>
          </p:blipFill>
          <p:spPr>
            <a:xfrm>
              <a:off x="677520" y="16650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3" name=""/>
          <p:cNvGrpSpPr/>
          <p:nvPr/>
        </p:nvGrpSpPr>
        <p:grpSpPr>
          <a:xfrm>
            <a:off x="909720" y="2243160"/>
            <a:ext cx="7491600" cy="3549600"/>
            <a:chOff x="909720" y="2243160"/>
            <a:chExt cx="7491600" cy="3549600"/>
          </a:xfrm>
        </p:grpSpPr>
        <p:grpSp>
          <p:nvGrpSpPr>
            <p:cNvPr id="1214" name=""/>
            <p:cNvGrpSpPr/>
            <p:nvPr/>
          </p:nvGrpSpPr>
          <p:grpSpPr>
            <a:xfrm>
              <a:off x="909720" y="2403720"/>
              <a:ext cx="3263040" cy="3389040"/>
              <a:chOff x="909720" y="2403720"/>
              <a:chExt cx="3263040" cy="3389040"/>
            </a:xfrm>
          </p:grpSpPr>
          <p:sp>
            <p:nvSpPr>
              <p:cNvPr id="1215" name=""/>
              <p:cNvSpPr/>
              <p:nvPr/>
            </p:nvSpPr>
            <p:spPr>
              <a:xfrm>
                <a:off x="3852720" y="24037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909720" y="25740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299040" y="25740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09720" y="27684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439360" y="37252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31680" y="39034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295640" y="40899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50000" y="52329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46080" y="5411520"/>
                <a:ext cx="3204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68040" y="55980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009520" y="57927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>
              <a:off x="4386600" y="224316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Définition du rôle (</a:t>
              </a:r>
              <a:r>
                <a:rPr b="0" lang="fr-FR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 baseline="30000">
                  <a:solidFill>
                    <a:srgbClr val="ff6600"/>
                  </a:solidFill>
                  <a:latin typeface="Times New Roman"/>
                </a:rPr>
                <a:t>ntes</a:t>
              </a: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 tâ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909720" y="4389480"/>
            <a:ext cx="6567480" cy="1191240"/>
            <a:chOff x="909720" y="4389480"/>
            <a:chExt cx="6567480" cy="1191240"/>
          </a:xfrm>
        </p:grpSpPr>
        <p:grpSp>
          <p:nvGrpSpPr>
            <p:cNvPr id="1228" name=""/>
            <p:cNvGrpSpPr/>
            <p:nvPr/>
          </p:nvGrpSpPr>
          <p:grpSpPr>
            <a:xfrm>
              <a:off x="909720" y="4673520"/>
              <a:ext cx="3265200" cy="169920"/>
              <a:chOff x="909720" y="4673520"/>
              <a:chExt cx="3265200" cy="169920"/>
            </a:xfrm>
          </p:grpSpPr>
          <p:sp>
            <p:nvSpPr>
              <p:cNvPr id="1229" name=""/>
              <p:cNvSpPr/>
              <p:nvPr/>
            </p:nvSpPr>
            <p:spPr>
              <a:xfrm>
                <a:off x="2017440" y="46735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09720" y="48434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4407120" y="43894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339933"/>
                  </a:solidFill>
                  <a:uFillTx/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909720" y="2897280"/>
            <a:ext cx="5406840" cy="825480"/>
            <a:chOff x="909720" y="2897280"/>
            <a:chExt cx="5406840" cy="825480"/>
          </a:xfrm>
        </p:grpSpPr>
        <p:grpSp>
          <p:nvGrpSpPr>
            <p:cNvPr id="1233" name=""/>
            <p:cNvGrpSpPr/>
            <p:nvPr/>
          </p:nvGrpSpPr>
          <p:grpSpPr>
            <a:xfrm>
              <a:off x="909720" y="3156840"/>
              <a:ext cx="3263400" cy="194760"/>
              <a:chOff x="909720" y="3156840"/>
              <a:chExt cx="3263400" cy="194760"/>
            </a:xfrm>
          </p:grpSpPr>
          <p:sp>
            <p:nvSpPr>
              <p:cNvPr id="1234" name=""/>
              <p:cNvSpPr/>
              <p:nvPr/>
            </p:nvSpPr>
            <p:spPr>
              <a:xfrm>
                <a:off x="2075400" y="3156840"/>
                <a:ext cx="1631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056480" y="3156840"/>
                <a:ext cx="1166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909720" y="3351600"/>
                <a:ext cx="15152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4406040" y="2897280"/>
              <a:ext cx="191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Réseau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connaissa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2424-AC1A-478A-AE8F-F4AEA50ACA5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Exemple d'observat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39" name="Atos-Laet-bureau-3" descr=""/>
          <p:cNvPicPr/>
          <p:nvPr/>
        </p:nvPicPr>
        <p:blipFill>
          <a:blip r:embed="rId1"/>
          <a:stretch/>
        </p:blipFill>
        <p:spPr>
          <a:xfrm>
            <a:off x="1066680" y="1098720"/>
            <a:ext cx="4713480" cy="3409920"/>
          </a:xfrm>
          <a:prstGeom prst="rect">
            <a:avLst/>
          </a:prstGeom>
          <a:ln w="0">
            <a:noFill/>
          </a:ln>
        </p:spPr>
      </p:pic>
      <p:grpSp>
        <p:nvGrpSpPr>
          <p:cNvPr id="1240" name=""/>
          <p:cNvGrpSpPr/>
          <p:nvPr/>
        </p:nvGrpSpPr>
        <p:grpSpPr>
          <a:xfrm>
            <a:off x="1066680" y="1098720"/>
            <a:ext cx="4724280" cy="3414600"/>
            <a:chOff x="1066680" y="1098720"/>
            <a:chExt cx="4724280" cy="3414600"/>
          </a:xfrm>
        </p:grpSpPr>
        <p:sp>
          <p:nvSpPr>
            <p:cNvPr id="1241" name=""/>
            <p:cNvSpPr/>
            <p:nvPr/>
          </p:nvSpPr>
          <p:spPr>
            <a:xfrm>
              <a:off x="1066680" y="1098720"/>
              <a:ext cx="4713120" cy="12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66680" y="2033640"/>
              <a:ext cx="1195560" cy="93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33560" y="2033640"/>
              <a:ext cx="2057400" cy="2027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62240" y="2300400"/>
              <a:ext cx="1525320" cy="26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62240" y="2536920"/>
              <a:ext cx="463320" cy="43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90680" y="2433600"/>
              <a:ext cx="596880" cy="40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25560" y="2827440"/>
              <a:ext cx="1527120" cy="7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66680" y="3436920"/>
              <a:ext cx="3651120" cy="60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66680" y="3978360"/>
              <a:ext cx="4713120" cy="534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66680" y="3102120"/>
              <a:ext cx="265572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66680" y="2901960"/>
              <a:ext cx="2057400" cy="66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124080" y="2892600"/>
            <a:ext cx="4410000" cy="3126960"/>
            <a:chOff x="3124080" y="2892600"/>
            <a:chExt cx="4410000" cy="3126960"/>
          </a:xfrm>
        </p:grpSpPr>
        <p:sp>
          <p:nvSpPr>
            <p:cNvPr id="1253" name=""/>
            <p:cNvSpPr/>
            <p:nvPr/>
          </p:nvSpPr>
          <p:spPr>
            <a:xfrm>
              <a:off x="3124080" y="2892600"/>
              <a:ext cx="59760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4" name="" descr=""/>
            <p:cNvPicPr/>
            <p:nvPr/>
          </p:nvPicPr>
          <p:blipFill>
            <a:blip r:embed="rId2"/>
            <a:stretch/>
          </p:blipFill>
          <p:spPr>
            <a:xfrm>
              <a:off x="5115960" y="429408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1255" name=""/>
          <p:cNvGrpSpPr/>
          <p:nvPr/>
        </p:nvGrpSpPr>
        <p:grpSpPr>
          <a:xfrm>
            <a:off x="2727360" y="1089000"/>
            <a:ext cx="5001840" cy="1736280"/>
            <a:chOff x="2727360" y="1089000"/>
            <a:chExt cx="5001840" cy="1736280"/>
          </a:xfrm>
        </p:grpSpPr>
        <p:sp>
          <p:nvSpPr>
            <p:cNvPr id="1256" name=""/>
            <p:cNvSpPr/>
            <p:nvPr/>
          </p:nvSpPr>
          <p:spPr>
            <a:xfrm>
              <a:off x="2727360" y="255816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7" name="" descr=""/>
            <p:cNvPicPr/>
            <p:nvPr/>
          </p:nvPicPr>
          <p:blipFill>
            <a:blip r:embed="rId3"/>
            <a:stretch/>
          </p:blipFill>
          <p:spPr>
            <a:xfrm>
              <a:off x="4586040" y="1089000"/>
              <a:ext cx="3143160" cy="144000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A3CA-C311-47D5-BE34-81B6D85FE7A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arte d'itinéraire du nouvel employé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59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86396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0" name=""/>
          <p:cNvSpPr/>
          <p:nvPr/>
        </p:nvSpPr>
        <p:spPr>
          <a:xfrm>
            <a:off x="5410080" y="660240"/>
            <a:ext cx="36576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Que fai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Où all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Qui vo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Moyen de contac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Dans quel ord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410080" y="5638680"/>
            <a:ext cx="3505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990000"/>
                </a:solidFill>
                <a:latin typeface="Arial"/>
              </a:rPr>
              <a:t>Multi-linguis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2440" indent="-26244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990000"/>
                </a:solidFill>
                <a:latin typeface="Arial"/>
              </a:rPr>
              <a:t>TAL &amp; graphiq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8414-CB97-426E-8FA4-5562C3DD38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Réutilisation et Autres sources d'expertis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8890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Etat de l'art et réutilisation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nterprise Ontology (AIAI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OVE Ontolog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yc Ontolog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Ontologie P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GKAT &amp; WebKB top ontolog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Pas d'inclusion automat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Autres sources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xpertise en sémiotique (pas dans recueil)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“Using Language” H.H. Cla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MIME: énumération formats électroniq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ublin Core: Initialisation propriétés docu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Scénarios pour l'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élagage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(ex. relation propriété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Méta-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dictionnaires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(ex. www.onelook.com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7C78-470A-4737-92F7-7CB74ABAABA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nstruct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Collecte des termes et de leurs défini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position de définitions initiales (académique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position de d'extensions (industriel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Amorçage &amp; itér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Etude terminologique: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u terme à la no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ravail sur termes: synonymes/ambigus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Label formel (Uschold &amp; Gruninger 96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Nécessité outils LN &amp; nv terminologiq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Trois approches identifiée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op-Down / Bottom-Up / Middle-Ou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2680" indent="-1846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Trois perspectives complémentaires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niveau/granularité &amp; interac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Continuum: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Informel </a:t>
            </a:r>
            <a:r>
              <a:rPr b="0" lang="fr-FR" sz="29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Formel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Informel (textuel) </a:t>
            </a:r>
            <a:r>
              <a:rPr b="0" lang="fr-FR" sz="29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Lexiques (semi-informel) </a:t>
            </a:r>
            <a:r>
              <a:rPr b="0" lang="fr-FR" sz="29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Tableaux (semi-formel) </a:t>
            </a:r>
            <a:r>
              <a:rPr b="0" lang="fr-FR" sz="29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RDF(S) (formel)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BEC9-E9BE-4A9D-B143-A08D5585CFC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O'CoMMA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909324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ontenu de O'CoMMA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819000" indent="-2854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470 concepts (prof. taxonomie = 13 liens subsomption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19000" indent="-2854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79 relations (prof. taxonomie = 2 liens subsomption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19000" indent="-2854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715 termes en Anglais et 699 en França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19000" indent="-2854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547 définitions en Français et 550 en Anglai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090440" y="2286000"/>
            <a:ext cx="7772400" cy="2666520"/>
            <a:chOff x="1090440" y="2286000"/>
            <a:chExt cx="7772400" cy="2666520"/>
          </a:xfrm>
        </p:grpSpPr>
        <p:sp>
          <p:nvSpPr>
            <p:cNvPr id="1269" name=""/>
            <p:cNvSpPr/>
            <p:nvPr/>
          </p:nvSpPr>
          <p:spPr>
            <a:xfrm>
              <a:off x="5383080" y="2286000"/>
              <a:ext cx="255276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11" y="36156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Haut : abstr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16600" y="3071160"/>
              <a:ext cx="255240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68" y="29090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Milieu : comm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27600" y="3858120"/>
              <a:ext cx="223524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136" y="14039"/>
                  </a:moveTo>
                  <a:lnTo>
                    <a:pt x="-736" y="3337"/>
                  </a:lnTo>
                </a:path>
                <a:path w="21600" h="21600">
                  <a:moveTo>
                    <a:pt x="-736" y="0"/>
                  </a:moveTo>
                  <a:lnTo>
                    <a:pt x="-736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Extension: Spéc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090440" y="2286000"/>
              <a:ext cx="5486400" cy="2666520"/>
              <a:chOff x="1090440" y="2286000"/>
              <a:chExt cx="5486400" cy="2666520"/>
            </a:xfrm>
          </p:grpSpPr>
          <p:sp>
            <p:nvSpPr>
              <p:cNvPr id="1273" name=""/>
              <p:cNvSpPr/>
              <p:nvPr/>
            </p:nvSpPr>
            <p:spPr>
              <a:xfrm>
                <a:off x="1992240" y="3922560"/>
                <a:ext cx="3657600" cy="181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944800" y="3074040"/>
                <a:ext cx="1752480" cy="181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944800" y="2286000"/>
                <a:ext cx="1752480" cy="78804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1992240" y="3133440"/>
                <a:ext cx="3657600" cy="788040"/>
              </a:xfrm>
              <a:custGeom>
                <a:avLst/>
                <a:gdLst>
                  <a:gd name="textAreaLeft" fmla="*/ 804240 w 3657600"/>
                  <a:gd name="textAreaRight" fmla="*/ 2853360 w 3657600"/>
                  <a:gd name="textAreaTop" fmla="*/ 173160 h 788040"/>
                  <a:gd name="textAreaBottom" fmla="*/ 614880 h 78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1090440" y="3992760"/>
                <a:ext cx="5486400" cy="727200"/>
              </a:xfrm>
              <a:custGeom>
                <a:avLst/>
                <a:gdLst>
                  <a:gd name="textAreaLeft" fmla="*/ 924840 w 5486400"/>
                  <a:gd name="textAreaRight" fmla="*/ 4561560 w 5486400"/>
                  <a:gd name="textAreaTop" fmla="*/ 122400 h 727200"/>
                  <a:gd name="textAreaBottom" fmla="*/ 604800 h 72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090440" y="4710600"/>
                <a:ext cx="5486400" cy="241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9" name=""/>
          <p:cNvSpPr/>
          <p:nvPr/>
        </p:nvSpPr>
        <p:spPr>
          <a:xfrm>
            <a:off x="127080" y="5105520"/>
            <a:ext cx="87627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Haut: réutilisable/peu utili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uche centr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280" indent="-219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Mémoire d'entreprise (relatif à la mémo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280" indent="-219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Sujets du domaine (relatif au doma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xtensions: utilisables/peu réutili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245600" y="3123720"/>
            <a:ext cx="5265360" cy="1868760"/>
            <a:chOff x="1245600" y="3123720"/>
            <a:chExt cx="5265360" cy="1868760"/>
          </a:xfrm>
        </p:grpSpPr>
        <p:sp>
          <p:nvSpPr>
            <p:cNvPr id="1281" name=""/>
            <p:cNvSpPr/>
            <p:nvPr/>
          </p:nvSpPr>
          <p:spPr>
            <a:xfrm>
              <a:off x="2462040" y="47178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57680" y="47178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281560" y="47178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2462040" y="3123720"/>
              <a:ext cx="966960" cy="15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4190760" y="3123720"/>
              <a:ext cx="1090440" cy="15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3757680" y="3123720"/>
              <a:ext cx="52200" cy="159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45600" y="46242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508480" y="462420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91960" y="462420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rganis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90360" y="462420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oma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1248-55F1-4DB3-831B-B5E54C0A8DC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"/>
          <p:cNvGrpSpPr/>
          <p:nvPr/>
        </p:nvGrpSpPr>
        <p:grpSpPr>
          <a:xfrm>
            <a:off x="3249720" y="3051000"/>
            <a:ext cx="753840" cy="1273320"/>
            <a:chOff x="3249720" y="3051000"/>
            <a:chExt cx="753840" cy="1273320"/>
          </a:xfrm>
        </p:grpSpPr>
        <p:grpSp>
          <p:nvGrpSpPr>
            <p:cNvPr id="1292" name=""/>
            <p:cNvGrpSpPr/>
            <p:nvPr/>
          </p:nvGrpSpPr>
          <p:grpSpPr>
            <a:xfrm>
              <a:off x="3249720" y="3051000"/>
              <a:ext cx="753840" cy="1122480"/>
              <a:chOff x="3249720" y="3051000"/>
              <a:chExt cx="753840" cy="1122480"/>
            </a:xfrm>
          </p:grpSpPr>
          <p:sp>
            <p:nvSpPr>
              <p:cNvPr id="1293" name=""/>
              <p:cNvSpPr/>
              <p:nvPr/>
            </p:nvSpPr>
            <p:spPr>
              <a:xfrm>
                <a:off x="3249720" y="3630240"/>
                <a:ext cx="753840" cy="543240"/>
              </a:xfrm>
              <a:prstGeom prst="parallelogram">
                <a:avLst>
                  <a:gd name="adj" fmla="val 53766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3421800" y="3304440"/>
                <a:ext cx="276120" cy="5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3871440" y="3304440"/>
                <a:ext cx="69120" cy="57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3698640" y="3051000"/>
                <a:ext cx="13824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3940200" y="3051000"/>
                <a:ext cx="3420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749040" y="4194000"/>
              <a:ext cx="1904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18800" y="4174920"/>
              <a:ext cx="3312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1703520" y="3065400"/>
            <a:ext cx="956880" cy="1325520"/>
            <a:chOff x="1703520" y="3065400"/>
            <a:chExt cx="956880" cy="1325520"/>
          </a:xfrm>
        </p:grpSpPr>
        <p:sp>
          <p:nvSpPr>
            <p:cNvPr id="1301" name=""/>
            <p:cNvSpPr/>
            <p:nvPr/>
          </p:nvSpPr>
          <p:spPr>
            <a:xfrm>
              <a:off x="1703520" y="3608280"/>
              <a:ext cx="933120" cy="687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2188440" y="3123720"/>
              <a:ext cx="172080" cy="18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2533680" y="3065400"/>
              <a:ext cx="33120" cy="254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469960" y="4260960"/>
              <a:ext cx="1904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28920" y="4246560"/>
              <a:ext cx="345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1773000" y="3305160"/>
              <a:ext cx="415080" cy="47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2566440" y="3319200"/>
              <a:ext cx="6948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2427120" y="3645000"/>
            <a:ext cx="2414520" cy="532800"/>
            <a:chOff x="2427120" y="3645000"/>
            <a:chExt cx="2414520" cy="532800"/>
          </a:xfrm>
        </p:grpSpPr>
        <p:grpSp>
          <p:nvGrpSpPr>
            <p:cNvPr id="1309" name=""/>
            <p:cNvGrpSpPr/>
            <p:nvPr/>
          </p:nvGrpSpPr>
          <p:grpSpPr>
            <a:xfrm>
              <a:off x="2530080" y="4043160"/>
              <a:ext cx="617760" cy="129960"/>
              <a:chOff x="2530080" y="4043160"/>
              <a:chExt cx="617760" cy="12996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2530080" y="4051080"/>
                <a:ext cx="617760" cy="108360"/>
                <a:chOff x="2530080" y="4051080"/>
                <a:chExt cx="617760" cy="10836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2530080" y="4106160"/>
                  <a:ext cx="617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707920" y="4051080"/>
                  <a:ext cx="24156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>
                <a:off x="2774160" y="4043160"/>
                <a:ext cx="167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3076560" y="4047840"/>
              <a:ext cx="242280" cy="129960"/>
              <a:chOff x="3076560" y="4047840"/>
              <a:chExt cx="242280" cy="129960"/>
            </a:xfrm>
          </p:grpSpPr>
          <p:sp>
            <p:nvSpPr>
              <p:cNvPr id="1315" name=""/>
              <p:cNvSpPr/>
              <p:nvPr/>
            </p:nvSpPr>
            <p:spPr>
              <a:xfrm>
                <a:off x="3076560" y="4056480"/>
                <a:ext cx="242280" cy="100800"/>
              </a:xfrm>
              <a:prstGeom prst="parallelogram">
                <a:avLst>
                  <a:gd name="adj" fmla="val 60089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143160" y="4047840"/>
                <a:ext cx="1753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3806280" y="4043160"/>
              <a:ext cx="241920" cy="129960"/>
              <a:chOff x="3806280" y="4043160"/>
              <a:chExt cx="241920" cy="129960"/>
            </a:xfrm>
          </p:grpSpPr>
          <p:sp>
            <p:nvSpPr>
              <p:cNvPr id="1318" name=""/>
              <p:cNvSpPr/>
              <p:nvPr/>
            </p:nvSpPr>
            <p:spPr>
              <a:xfrm>
                <a:off x="3806280" y="4051800"/>
                <a:ext cx="241920" cy="100800"/>
              </a:xfrm>
              <a:prstGeom prst="parallelogram">
                <a:avLst>
                  <a:gd name="adj" fmla="val 6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72880" y="4043160"/>
                <a:ext cx="1753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3255480" y="4043160"/>
              <a:ext cx="617400" cy="129960"/>
              <a:chOff x="3255480" y="4043160"/>
              <a:chExt cx="617400" cy="12996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3255480" y="4051080"/>
                <a:ext cx="617400" cy="108360"/>
                <a:chOff x="3255480" y="4051080"/>
                <a:chExt cx="617400" cy="10836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255480" y="4106160"/>
                  <a:ext cx="617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433320" y="4051080"/>
                  <a:ext cx="24120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4" name=""/>
              <p:cNvSpPr/>
              <p:nvPr/>
            </p:nvSpPr>
            <p:spPr>
              <a:xfrm>
                <a:off x="3499200" y="4043160"/>
                <a:ext cx="167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427120" y="3835440"/>
              <a:ext cx="965880" cy="129600"/>
              <a:chOff x="2427120" y="3835440"/>
              <a:chExt cx="965880" cy="129600"/>
            </a:xfrm>
          </p:grpSpPr>
          <p:grpSp>
            <p:nvGrpSpPr>
              <p:cNvPr id="1326" name=""/>
              <p:cNvGrpSpPr/>
              <p:nvPr/>
            </p:nvGrpSpPr>
            <p:grpSpPr>
              <a:xfrm>
                <a:off x="2427120" y="3843360"/>
                <a:ext cx="965880" cy="108000"/>
                <a:chOff x="2427120" y="3843360"/>
                <a:chExt cx="965880" cy="10800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2427120" y="3902040"/>
                  <a:ext cx="9658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777400" y="3843360"/>
                  <a:ext cx="24156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9" name=""/>
              <p:cNvSpPr/>
              <p:nvPr/>
            </p:nvSpPr>
            <p:spPr>
              <a:xfrm>
                <a:off x="2843280" y="3835440"/>
                <a:ext cx="16704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3188880" y="3840120"/>
              <a:ext cx="240480" cy="129600"/>
              <a:chOff x="3188880" y="3840120"/>
              <a:chExt cx="240480" cy="129600"/>
            </a:xfrm>
          </p:grpSpPr>
          <p:sp>
            <p:nvSpPr>
              <p:cNvPr id="1331" name=""/>
              <p:cNvSpPr/>
              <p:nvPr/>
            </p:nvSpPr>
            <p:spPr>
              <a:xfrm>
                <a:off x="3188880" y="3848760"/>
                <a:ext cx="240480" cy="100440"/>
              </a:xfrm>
              <a:prstGeom prst="parallelogram">
                <a:avLst>
                  <a:gd name="adj" fmla="val 5985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255120" y="3840120"/>
                <a:ext cx="17424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3906360" y="3846240"/>
              <a:ext cx="240480" cy="129960"/>
              <a:chOff x="3906360" y="3846240"/>
              <a:chExt cx="240480" cy="129960"/>
            </a:xfrm>
          </p:grpSpPr>
          <p:sp>
            <p:nvSpPr>
              <p:cNvPr id="1334" name=""/>
              <p:cNvSpPr/>
              <p:nvPr/>
            </p:nvSpPr>
            <p:spPr>
              <a:xfrm>
                <a:off x="3906360" y="3854880"/>
                <a:ext cx="240480" cy="100800"/>
              </a:xfrm>
              <a:prstGeom prst="parallelogram">
                <a:avLst>
                  <a:gd name="adj" fmla="val 59643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972600" y="3846240"/>
                <a:ext cx="174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3358080" y="3840120"/>
              <a:ext cx="617760" cy="129600"/>
              <a:chOff x="3358080" y="3840120"/>
              <a:chExt cx="617760" cy="129600"/>
            </a:xfrm>
          </p:grpSpPr>
          <p:grpSp>
            <p:nvGrpSpPr>
              <p:cNvPr id="1337" name=""/>
              <p:cNvGrpSpPr/>
              <p:nvPr/>
            </p:nvGrpSpPr>
            <p:grpSpPr>
              <a:xfrm>
                <a:off x="3358080" y="3848040"/>
                <a:ext cx="617760" cy="108000"/>
                <a:chOff x="3358080" y="3848040"/>
                <a:chExt cx="617760" cy="1080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358080" y="3903120"/>
                  <a:ext cx="617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535920" y="3848040"/>
                  <a:ext cx="24156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3602160" y="3840120"/>
                <a:ext cx="16704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3358080" y="3645000"/>
              <a:ext cx="882360" cy="225000"/>
              <a:chOff x="3358080" y="3645000"/>
              <a:chExt cx="882360" cy="225000"/>
            </a:xfrm>
          </p:grpSpPr>
          <p:grpSp>
            <p:nvGrpSpPr>
              <p:cNvPr id="1342" name=""/>
              <p:cNvGrpSpPr/>
              <p:nvPr/>
            </p:nvGrpSpPr>
            <p:grpSpPr>
              <a:xfrm>
                <a:off x="3998880" y="3649680"/>
                <a:ext cx="241560" cy="129600"/>
                <a:chOff x="3998880" y="3649680"/>
                <a:chExt cx="241560" cy="12960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3998880" y="3658320"/>
                  <a:ext cx="241560" cy="100440"/>
                </a:xfrm>
                <a:prstGeom prst="parallelogram">
                  <a:avLst>
                    <a:gd name="adj" fmla="val 60125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065480" y="3649680"/>
                  <a:ext cx="174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3358080" y="3645000"/>
                <a:ext cx="722160" cy="225000"/>
                <a:chOff x="3358080" y="3645000"/>
                <a:chExt cx="722160" cy="22500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3633840" y="3645000"/>
                  <a:ext cx="16668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7" name=""/>
                <p:cNvGrpSpPr/>
                <p:nvPr/>
              </p:nvGrpSpPr>
              <p:grpSpPr>
                <a:xfrm>
                  <a:off x="3358080" y="3652920"/>
                  <a:ext cx="722160" cy="217080"/>
                  <a:chOff x="3358080" y="3652920"/>
                  <a:chExt cx="722160" cy="21708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flipV="1">
                    <a:off x="3358080" y="3680640"/>
                    <a:ext cx="275760" cy="18936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3567960" y="3652920"/>
                    <a:ext cx="241200" cy="1080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3769920" y="3711600"/>
                    <a:ext cx="31032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51" name=""/>
            <p:cNvGrpSpPr/>
            <p:nvPr/>
          </p:nvGrpSpPr>
          <p:grpSpPr>
            <a:xfrm>
              <a:off x="4601160" y="3840120"/>
              <a:ext cx="240480" cy="129600"/>
              <a:chOff x="4601160" y="3840120"/>
              <a:chExt cx="240480" cy="129600"/>
            </a:xfrm>
          </p:grpSpPr>
          <p:sp>
            <p:nvSpPr>
              <p:cNvPr id="1352" name=""/>
              <p:cNvSpPr/>
              <p:nvPr/>
            </p:nvSpPr>
            <p:spPr>
              <a:xfrm>
                <a:off x="4601160" y="3848760"/>
                <a:ext cx="240480" cy="100440"/>
              </a:xfrm>
              <a:prstGeom prst="parallelogram">
                <a:avLst>
                  <a:gd name="adj" fmla="val 5985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667400" y="3840120"/>
                <a:ext cx="17424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4048560" y="3840120"/>
              <a:ext cx="617400" cy="129600"/>
              <a:chOff x="4048560" y="3840120"/>
              <a:chExt cx="617400" cy="129600"/>
            </a:xfrm>
          </p:grpSpPr>
          <p:grpSp>
            <p:nvGrpSpPr>
              <p:cNvPr id="1355" name=""/>
              <p:cNvGrpSpPr/>
              <p:nvPr/>
            </p:nvGrpSpPr>
            <p:grpSpPr>
              <a:xfrm>
                <a:off x="4048560" y="3848040"/>
                <a:ext cx="617400" cy="108000"/>
                <a:chOff x="4048560" y="3848040"/>
                <a:chExt cx="617400" cy="1080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048560" y="3903120"/>
                  <a:ext cx="617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226400" y="3848040"/>
                  <a:ext cx="241200" cy="10800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4292280" y="3840120"/>
                <a:ext cx="167040" cy="1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9" name=""/>
          <p:cNvGrpSpPr/>
          <p:nvPr/>
        </p:nvGrpSpPr>
        <p:grpSpPr>
          <a:xfrm>
            <a:off x="1179360" y="3659040"/>
            <a:ext cx="1311120" cy="550800"/>
            <a:chOff x="1179360" y="3659040"/>
            <a:chExt cx="1311120" cy="550800"/>
          </a:xfrm>
        </p:grpSpPr>
        <p:grpSp>
          <p:nvGrpSpPr>
            <p:cNvPr id="1360" name=""/>
            <p:cNvGrpSpPr/>
            <p:nvPr/>
          </p:nvGrpSpPr>
          <p:grpSpPr>
            <a:xfrm>
              <a:off x="1179360" y="3789360"/>
              <a:ext cx="241920" cy="129960"/>
              <a:chOff x="1179360" y="3789360"/>
              <a:chExt cx="241920" cy="129960"/>
            </a:xfrm>
          </p:grpSpPr>
          <p:sp>
            <p:nvSpPr>
              <p:cNvPr id="1361" name=""/>
              <p:cNvSpPr/>
              <p:nvPr/>
            </p:nvSpPr>
            <p:spPr>
              <a:xfrm>
                <a:off x="1179360" y="3798000"/>
                <a:ext cx="241920" cy="100800"/>
              </a:xfrm>
              <a:prstGeom prst="parallelogram">
                <a:avLst>
                  <a:gd name="adj" fmla="val 6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245960" y="3789360"/>
                <a:ext cx="1753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2076120" y="3659040"/>
              <a:ext cx="241920" cy="130320"/>
              <a:chOff x="2076120" y="3659040"/>
              <a:chExt cx="241920" cy="130320"/>
            </a:xfrm>
          </p:grpSpPr>
          <p:sp>
            <p:nvSpPr>
              <p:cNvPr id="1364" name=""/>
              <p:cNvSpPr/>
              <p:nvPr/>
            </p:nvSpPr>
            <p:spPr>
              <a:xfrm>
                <a:off x="2076120" y="3667680"/>
                <a:ext cx="241920" cy="101160"/>
              </a:xfrm>
              <a:prstGeom prst="parallelogram">
                <a:avLst>
                  <a:gd name="adj" fmla="val 5978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142720" y="365904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1904040" y="4079880"/>
              <a:ext cx="241560" cy="129960"/>
              <a:chOff x="1904040" y="4079880"/>
              <a:chExt cx="241560" cy="129960"/>
            </a:xfrm>
          </p:grpSpPr>
          <p:sp>
            <p:nvSpPr>
              <p:cNvPr id="1367" name=""/>
              <p:cNvSpPr/>
              <p:nvPr/>
            </p:nvSpPr>
            <p:spPr>
              <a:xfrm>
                <a:off x="1904040" y="4088520"/>
                <a:ext cx="241560" cy="100800"/>
              </a:xfrm>
              <a:prstGeom prst="parallelogram">
                <a:avLst>
                  <a:gd name="adj" fmla="val 599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970640" y="407988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1766160" y="3789360"/>
              <a:ext cx="240120" cy="129960"/>
              <a:chOff x="1766160" y="3789360"/>
              <a:chExt cx="240120" cy="129960"/>
            </a:xfrm>
          </p:grpSpPr>
          <p:sp>
            <p:nvSpPr>
              <p:cNvPr id="1370" name=""/>
              <p:cNvSpPr/>
              <p:nvPr/>
            </p:nvSpPr>
            <p:spPr>
              <a:xfrm>
                <a:off x="1766160" y="3798000"/>
                <a:ext cx="240120" cy="100800"/>
              </a:xfrm>
              <a:prstGeom prst="parallelogram">
                <a:avLst>
                  <a:gd name="adj" fmla="val 5955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832400" y="3789360"/>
                <a:ext cx="1738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248560" y="4043160"/>
              <a:ext cx="241920" cy="130320"/>
              <a:chOff x="2248560" y="4043160"/>
              <a:chExt cx="241920" cy="130320"/>
            </a:xfrm>
          </p:grpSpPr>
          <p:sp>
            <p:nvSpPr>
              <p:cNvPr id="1373" name=""/>
              <p:cNvSpPr/>
              <p:nvPr/>
            </p:nvSpPr>
            <p:spPr>
              <a:xfrm>
                <a:off x="2248560" y="4051800"/>
                <a:ext cx="241920" cy="101160"/>
              </a:xfrm>
              <a:prstGeom prst="parallelogram">
                <a:avLst>
                  <a:gd name="adj" fmla="val 5978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315160" y="404316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2145600" y="3840120"/>
              <a:ext cx="240120" cy="130320"/>
              <a:chOff x="2145600" y="3840120"/>
              <a:chExt cx="240120" cy="130320"/>
            </a:xfrm>
          </p:grpSpPr>
          <p:sp>
            <p:nvSpPr>
              <p:cNvPr id="1376" name=""/>
              <p:cNvSpPr/>
              <p:nvPr/>
            </p:nvSpPr>
            <p:spPr>
              <a:xfrm>
                <a:off x="2145600" y="3848760"/>
                <a:ext cx="240120" cy="101160"/>
              </a:xfrm>
              <a:prstGeom prst="parallelogram">
                <a:avLst>
                  <a:gd name="adj" fmla="val 59342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11840" y="3840120"/>
                <a:ext cx="1738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chéma des trois couch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06600" y="3571920"/>
            <a:ext cx="4333680" cy="1658880"/>
            <a:chOff x="606600" y="3571920"/>
            <a:chExt cx="4333680" cy="1658880"/>
          </a:xfrm>
        </p:grpSpPr>
        <p:sp>
          <p:nvSpPr>
            <p:cNvPr id="1380" name=""/>
            <p:cNvSpPr/>
            <p:nvPr/>
          </p:nvSpPr>
          <p:spPr>
            <a:xfrm>
              <a:off x="606600" y="4759200"/>
              <a:ext cx="4333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Memo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E-Mail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839880" y="3571920"/>
              <a:ext cx="1653480" cy="1446120"/>
              <a:chOff x="839880" y="3571920"/>
              <a:chExt cx="1653480" cy="1446120"/>
            </a:xfrm>
          </p:grpSpPr>
          <p:grpSp>
            <p:nvGrpSpPr>
              <p:cNvPr id="1382" name=""/>
              <p:cNvGrpSpPr/>
              <p:nvPr/>
            </p:nvGrpSpPr>
            <p:grpSpPr>
              <a:xfrm>
                <a:off x="1444680" y="3571920"/>
                <a:ext cx="1048680" cy="1446120"/>
                <a:chOff x="1444680" y="3571920"/>
                <a:chExt cx="1048680" cy="144612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444680" y="3571920"/>
                  <a:ext cx="288720" cy="10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635120" y="3679560"/>
                  <a:ext cx="63360" cy="32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 flipV="1">
                  <a:off x="1698120" y="4003560"/>
                  <a:ext cx="795240" cy="79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698480" y="4003560"/>
                  <a:ext cx="650880" cy="10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7" name=""/>
              <p:cNvSpPr/>
              <p:nvPr/>
            </p:nvSpPr>
            <p:spPr>
              <a:xfrm>
                <a:off x="839880" y="4576680"/>
                <a:ext cx="15192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Multi-Instan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8" name=""/>
          <p:cNvSpPr/>
          <p:nvPr/>
        </p:nvSpPr>
        <p:spPr>
          <a:xfrm>
            <a:off x="533520" y="5370480"/>
            <a:ext cx="822312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641520" y="5407200"/>
            <a:ext cx="6116400" cy="578880"/>
            <a:chOff x="641520" y="5407200"/>
            <a:chExt cx="6116400" cy="578880"/>
          </a:xfrm>
        </p:grpSpPr>
        <p:grpSp>
          <p:nvGrpSpPr>
            <p:cNvPr id="1390" name=""/>
            <p:cNvGrpSpPr/>
            <p:nvPr/>
          </p:nvGrpSpPr>
          <p:grpSpPr>
            <a:xfrm>
              <a:off x="641520" y="5407200"/>
              <a:ext cx="869400" cy="288720"/>
              <a:chOff x="641520" y="5407200"/>
              <a:chExt cx="869400" cy="2887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641520" y="5478480"/>
                <a:ext cx="253800" cy="141840"/>
                <a:chOff x="641520" y="5478480"/>
                <a:chExt cx="253800" cy="14184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641520" y="5487840"/>
                  <a:ext cx="253800" cy="132480"/>
                  <a:chOff x="641520" y="5487840"/>
                  <a:chExt cx="253800" cy="13248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>
                    <a:off x="748080" y="5510880"/>
                    <a:ext cx="104400" cy="76680"/>
                  </a:xfrm>
                  <a:prstGeom prst="foldedCorner">
                    <a:avLst>
                      <a:gd name="adj" fmla="val 4460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839160" y="5492880"/>
                    <a:ext cx="2196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741960" y="5492160"/>
                    <a:ext cx="11700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713880" y="5543280"/>
                    <a:ext cx="78120" cy="4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641520" y="5487840"/>
                    <a:ext cx="253800" cy="98640"/>
                  </a:xfrm>
                  <a:prstGeom prst="parallelogram">
                    <a:avLst>
                      <a:gd name="adj" fmla="val 64325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809280" y="558540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847440" y="555948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rot="19207200">
                    <a:off x="808920" y="5565960"/>
                    <a:ext cx="78120" cy="3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1" name=""/>
                <p:cNvSpPr/>
                <p:nvPr/>
              </p:nvSpPr>
              <p:spPr>
                <a:xfrm>
                  <a:off x="694800" y="5478480"/>
                  <a:ext cx="200520" cy="1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2" name=""/>
              <p:cNvSpPr/>
              <p:nvPr/>
            </p:nvSpPr>
            <p:spPr>
              <a:xfrm>
                <a:off x="858600" y="5407200"/>
                <a:ext cx="652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2705040" y="5407200"/>
              <a:ext cx="1773000" cy="217080"/>
              <a:chOff x="2705040" y="5407200"/>
              <a:chExt cx="1773000" cy="21708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2705040" y="5487840"/>
                <a:ext cx="252360" cy="129600"/>
                <a:chOff x="2705040" y="5487840"/>
                <a:chExt cx="252360" cy="12960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2705040" y="5494680"/>
                  <a:ext cx="252360" cy="100440"/>
                </a:xfrm>
                <a:prstGeom prst="parallelogram">
                  <a:avLst>
                    <a:gd name="adj" fmla="val 6281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766960" y="5487840"/>
                  <a:ext cx="18468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7" name=""/>
              <p:cNvSpPr/>
              <p:nvPr/>
            </p:nvSpPr>
            <p:spPr>
              <a:xfrm>
                <a:off x="2922480" y="5407200"/>
                <a:ext cx="15555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u concept C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2668680" y="5769000"/>
              <a:ext cx="1809720" cy="217080"/>
              <a:chOff x="2668680" y="5769000"/>
              <a:chExt cx="1809720" cy="21708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2668680" y="5825880"/>
                <a:ext cx="254160" cy="129600"/>
                <a:chOff x="2668680" y="5825880"/>
                <a:chExt cx="254160" cy="1296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2668680" y="5834520"/>
                  <a:ext cx="254160" cy="100440"/>
                </a:xfrm>
                <a:prstGeom prst="parallelogram">
                  <a:avLst>
                    <a:gd name="adj" fmla="val 63262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2738520" y="5825880"/>
                  <a:ext cx="183960" cy="12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2922840" y="5769000"/>
                <a:ext cx="15555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de 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591080" y="5407200"/>
              <a:ext cx="2166840" cy="217080"/>
              <a:chOff x="4591080" y="5407200"/>
              <a:chExt cx="2166840" cy="21708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4591080" y="5478120"/>
                <a:ext cx="642600" cy="129960"/>
                <a:chOff x="4591080" y="5478120"/>
                <a:chExt cx="642600" cy="12996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4591080" y="5484240"/>
                  <a:ext cx="642600" cy="108360"/>
                  <a:chOff x="4591080" y="5484240"/>
                  <a:chExt cx="642600" cy="108360"/>
                </a:xfrm>
              </p:grpSpPr>
              <p:sp>
                <p:nvSpPr>
                  <p:cNvPr id="1416" name=""/>
                  <p:cNvSpPr/>
                  <p:nvPr/>
                </p:nvSpPr>
                <p:spPr>
                  <a:xfrm>
                    <a:off x="4668120" y="5539320"/>
                    <a:ext cx="4698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4591080" y="549936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4784400" y="5484240"/>
                    <a:ext cx="25272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5053320" y="5499360"/>
                    <a:ext cx="180360" cy="72360"/>
                  </a:xfrm>
                  <a:prstGeom prst="parallelogram">
                    <a:avLst>
                      <a:gd name="adj" fmla="val 6231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4857480" y="54781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1" name=""/>
              <p:cNvSpPr/>
              <p:nvPr/>
            </p:nvSpPr>
            <p:spPr>
              <a:xfrm>
                <a:off x="5202000" y="5407200"/>
                <a:ext cx="15559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e la relation R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4591080" y="5769000"/>
              <a:ext cx="2166840" cy="217080"/>
              <a:chOff x="4591080" y="5769000"/>
              <a:chExt cx="2166840" cy="217080"/>
            </a:xfrm>
          </p:grpSpPr>
          <p:grpSp>
            <p:nvGrpSpPr>
              <p:cNvPr id="1423" name=""/>
              <p:cNvGrpSpPr/>
              <p:nvPr/>
            </p:nvGrpSpPr>
            <p:grpSpPr>
              <a:xfrm>
                <a:off x="4591080" y="5841720"/>
                <a:ext cx="647640" cy="129960"/>
                <a:chOff x="4591080" y="5841720"/>
                <a:chExt cx="647640" cy="129960"/>
              </a:xfrm>
            </p:grpSpPr>
            <p:grpSp>
              <p:nvGrpSpPr>
                <p:cNvPr id="1424" name=""/>
                <p:cNvGrpSpPr/>
                <p:nvPr/>
              </p:nvGrpSpPr>
              <p:grpSpPr>
                <a:xfrm>
                  <a:off x="4591080" y="5849640"/>
                  <a:ext cx="647640" cy="108360"/>
                  <a:chOff x="4591080" y="5849640"/>
                  <a:chExt cx="647640" cy="108360"/>
                </a:xfrm>
              </p:grpSpPr>
              <p:sp>
                <p:nvSpPr>
                  <p:cNvPr id="1425" name=""/>
                  <p:cNvSpPr/>
                  <p:nvPr/>
                </p:nvSpPr>
                <p:spPr>
                  <a:xfrm>
                    <a:off x="4591080" y="590472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4777560" y="5849640"/>
                    <a:ext cx="253080" cy="108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4846680" y="584172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5202000" y="5769000"/>
                <a:ext cx="15559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de 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9" name=""/>
          <p:cNvGrpSpPr/>
          <p:nvPr/>
        </p:nvGrpSpPr>
        <p:grpSpPr>
          <a:xfrm>
            <a:off x="7012080" y="5407200"/>
            <a:ext cx="1751040" cy="252360"/>
            <a:chOff x="7012080" y="5407200"/>
            <a:chExt cx="1751040" cy="252360"/>
          </a:xfrm>
        </p:grpSpPr>
        <p:sp>
          <p:nvSpPr>
            <p:cNvPr id="1430" name=""/>
            <p:cNvSpPr/>
            <p:nvPr/>
          </p:nvSpPr>
          <p:spPr>
            <a:xfrm>
              <a:off x="7012080" y="5591520"/>
              <a:ext cx="127080" cy="52200"/>
            </a:xfrm>
            <a:prstGeom prst="parallelogram">
              <a:avLst>
                <a:gd name="adj" fmla="val 60862"/>
              </a:avLst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77240" y="54644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21440" y="5447160"/>
              <a:ext cx="127080" cy="54000"/>
            </a:xfrm>
            <a:prstGeom prst="parallelogram">
              <a:avLst>
                <a:gd name="adj" fmla="val 5883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57960" y="5588280"/>
              <a:ext cx="144720" cy="7128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29600" y="54644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57960" y="5443920"/>
              <a:ext cx="1447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08800" y="5407200"/>
              <a:ext cx="1354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Lien d'instan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6939000" y="5688000"/>
            <a:ext cx="1900080" cy="446040"/>
            <a:chOff x="6939000" y="5688000"/>
            <a:chExt cx="1900080" cy="446040"/>
          </a:xfrm>
        </p:grpSpPr>
        <p:sp>
          <p:nvSpPr>
            <p:cNvPr id="1438" name=""/>
            <p:cNvSpPr/>
            <p:nvPr/>
          </p:nvSpPr>
          <p:spPr>
            <a:xfrm>
              <a:off x="7415280" y="5688000"/>
              <a:ext cx="142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Extension du concept C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u  relation R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6939000" y="5786280"/>
              <a:ext cx="417240" cy="252360"/>
              <a:chOff x="6939000" y="5786280"/>
              <a:chExt cx="417240" cy="252360"/>
            </a:xfrm>
          </p:grpSpPr>
          <p:sp>
            <p:nvSpPr>
              <p:cNvPr id="1440" name=""/>
              <p:cNvSpPr/>
              <p:nvPr/>
            </p:nvSpPr>
            <p:spPr>
              <a:xfrm>
                <a:off x="7100640" y="5908320"/>
                <a:ext cx="2001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57800" y="5893920"/>
                <a:ext cx="3672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939000" y="5786280"/>
                <a:ext cx="144360" cy="1378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319880" y="5908320"/>
                <a:ext cx="3636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7227720" y="5783040"/>
              <a:ext cx="325440" cy="274680"/>
              <a:chOff x="7227720" y="5783040"/>
              <a:chExt cx="325440" cy="274680"/>
            </a:xfrm>
          </p:grpSpPr>
          <p:sp>
            <p:nvSpPr>
              <p:cNvPr id="1445" name=""/>
              <p:cNvSpPr/>
              <p:nvPr/>
            </p:nvSpPr>
            <p:spPr>
              <a:xfrm>
                <a:off x="7353360" y="5927400"/>
                <a:ext cx="1998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227720" y="5783040"/>
                <a:ext cx="181080" cy="144360"/>
              </a:xfrm>
              <a:prstGeom prst="parallelogram">
                <a:avLst>
                  <a:gd name="adj" fmla="val 48601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7" name=""/>
          <p:cNvGrpSpPr/>
          <p:nvPr/>
        </p:nvGrpSpPr>
        <p:grpSpPr>
          <a:xfrm>
            <a:off x="1515960" y="1441440"/>
            <a:ext cx="2276280" cy="555480"/>
            <a:chOff x="1515960" y="1441440"/>
            <a:chExt cx="2276280" cy="555480"/>
          </a:xfrm>
        </p:grpSpPr>
        <p:grpSp>
          <p:nvGrpSpPr>
            <p:cNvPr id="1448" name=""/>
            <p:cNvGrpSpPr/>
            <p:nvPr/>
          </p:nvGrpSpPr>
          <p:grpSpPr>
            <a:xfrm>
              <a:off x="1515960" y="1652400"/>
              <a:ext cx="240480" cy="140760"/>
              <a:chOff x="1515960" y="1652400"/>
              <a:chExt cx="240480" cy="140760"/>
            </a:xfrm>
          </p:grpSpPr>
          <p:grpSp>
            <p:nvGrpSpPr>
              <p:cNvPr id="1449" name=""/>
              <p:cNvGrpSpPr/>
              <p:nvPr/>
            </p:nvGrpSpPr>
            <p:grpSpPr>
              <a:xfrm>
                <a:off x="1515960" y="1661760"/>
                <a:ext cx="240480" cy="131400"/>
                <a:chOff x="1515960" y="1661760"/>
                <a:chExt cx="240480" cy="1314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1617120" y="1684800"/>
                  <a:ext cx="990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1703520" y="166680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1611000" y="166608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1584360" y="1717200"/>
                  <a:ext cx="741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1515960" y="1661760"/>
                  <a:ext cx="240480" cy="98640"/>
                </a:xfrm>
                <a:prstGeom prst="parallelogram">
                  <a:avLst>
                    <a:gd name="adj" fmla="val 6094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675080" y="175932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711080" y="173340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rot="19207200">
                  <a:off x="1675080" y="174024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1566360" y="1652400"/>
                <a:ext cx="1897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1998720" y="1441440"/>
              <a:ext cx="240480" cy="140760"/>
              <a:chOff x="1998720" y="1441440"/>
              <a:chExt cx="240480" cy="14076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1998720" y="1450800"/>
                <a:ext cx="240480" cy="131400"/>
                <a:chOff x="1998720" y="1450800"/>
                <a:chExt cx="240480" cy="13140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2099880" y="1473840"/>
                  <a:ext cx="990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186280" y="145584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2093760" y="145512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2067120" y="1506240"/>
                  <a:ext cx="741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1998720" y="1450800"/>
                  <a:ext cx="240480" cy="98640"/>
                </a:xfrm>
                <a:prstGeom prst="parallelogram">
                  <a:avLst>
                    <a:gd name="adj" fmla="val 6094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157840" y="154836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193840" y="152244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rot="19207200">
                  <a:off x="2157840" y="152928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9" name=""/>
              <p:cNvSpPr/>
              <p:nvPr/>
            </p:nvSpPr>
            <p:spPr>
              <a:xfrm>
                <a:off x="2049120" y="1441440"/>
                <a:ext cx="1897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3551760" y="1471320"/>
              <a:ext cx="240480" cy="141480"/>
              <a:chOff x="3551760" y="1471320"/>
              <a:chExt cx="240480" cy="14148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3551760" y="1481040"/>
                <a:ext cx="240480" cy="131760"/>
                <a:chOff x="3551760" y="1481040"/>
                <a:chExt cx="240480" cy="13176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3652920" y="1504080"/>
                  <a:ext cx="99000" cy="7704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3739320" y="1486080"/>
                  <a:ext cx="20880" cy="5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646800" y="148536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620160" y="1536480"/>
                  <a:ext cx="74160" cy="4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3551760" y="1481040"/>
                  <a:ext cx="240480" cy="99000"/>
                </a:xfrm>
                <a:prstGeom prst="parallelogram">
                  <a:avLst>
                    <a:gd name="adj" fmla="val 6072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3710880" y="157896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3746880" y="155268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19207200">
                  <a:off x="3710880" y="155988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0" name=""/>
              <p:cNvSpPr/>
              <p:nvPr/>
            </p:nvSpPr>
            <p:spPr>
              <a:xfrm>
                <a:off x="3602160" y="1471320"/>
                <a:ext cx="18972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2136600" y="1833480"/>
              <a:ext cx="241920" cy="140760"/>
              <a:chOff x="2136600" y="1833480"/>
              <a:chExt cx="241920" cy="14076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2136600" y="1842840"/>
                <a:ext cx="241920" cy="131400"/>
                <a:chOff x="2136600" y="1842840"/>
                <a:chExt cx="241920" cy="13140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2238120" y="1865880"/>
                  <a:ext cx="9936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2325240" y="184788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2232360" y="1847160"/>
                  <a:ext cx="11160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2205360" y="1898280"/>
                  <a:ext cx="7452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136600" y="1842840"/>
                  <a:ext cx="241920" cy="98640"/>
                </a:xfrm>
                <a:prstGeom prst="parallelogram">
                  <a:avLst>
                    <a:gd name="adj" fmla="val 61314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2296800" y="1940400"/>
                  <a:ext cx="399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333160" y="1914480"/>
                  <a:ext cx="399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9207200">
                  <a:off x="2296800" y="1921320"/>
                  <a:ext cx="7452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1" name=""/>
              <p:cNvSpPr/>
              <p:nvPr/>
            </p:nvSpPr>
            <p:spPr>
              <a:xfrm>
                <a:off x="2187360" y="1833480"/>
                <a:ext cx="19116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3447360" y="1857240"/>
              <a:ext cx="241920" cy="139680"/>
              <a:chOff x="3447360" y="1857240"/>
              <a:chExt cx="241920" cy="139680"/>
            </a:xfrm>
          </p:grpSpPr>
          <p:grpSp>
            <p:nvGrpSpPr>
              <p:cNvPr id="1493" name=""/>
              <p:cNvGrpSpPr/>
              <p:nvPr/>
            </p:nvGrpSpPr>
            <p:grpSpPr>
              <a:xfrm>
                <a:off x="3447360" y="1866600"/>
                <a:ext cx="241920" cy="130320"/>
                <a:chOff x="3447360" y="1866600"/>
                <a:chExt cx="241920" cy="1303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548880" y="1889280"/>
                  <a:ext cx="99360" cy="7596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636000" y="1871640"/>
                  <a:ext cx="2088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543120" y="1870920"/>
                  <a:ext cx="11160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3516120" y="1921320"/>
                  <a:ext cx="7452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447360" y="1866600"/>
                  <a:ext cx="241920" cy="97560"/>
                </a:xfrm>
                <a:prstGeom prst="parallelogram">
                  <a:avLst>
                    <a:gd name="adj" fmla="val 61993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3607560" y="1963080"/>
                  <a:ext cx="399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3643920" y="1937520"/>
                  <a:ext cx="399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9207200">
                  <a:off x="3607200" y="1944360"/>
                  <a:ext cx="7452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2" name=""/>
              <p:cNvSpPr/>
              <p:nvPr/>
            </p:nvSpPr>
            <p:spPr>
              <a:xfrm>
                <a:off x="3498120" y="1857240"/>
                <a:ext cx="19116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3" name=""/>
          <p:cNvGrpSpPr/>
          <p:nvPr/>
        </p:nvGrpSpPr>
        <p:grpSpPr>
          <a:xfrm>
            <a:off x="491040" y="1049400"/>
            <a:ext cx="4748400" cy="3355560"/>
            <a:chOff x="491040" y="1049400"/>
            <a:chExt cx="4748400" cy="3355560"/>
          </a:xfrm>
        </p:grpSpPr>
        <p:grpSp>
          <p:nvGrpSpPr>
            <p:cNvPr id="1504" name=""/>
            <p:cNvGrpSpPr/>
            <p:nvPr/>
          </p:nvGrpSpPr>
          <p:grpSpPr>
            <a:xfrm>
              <a:off x="685440" y="2304720"/>
              <a:ext cx="4519440" cy="1014480"/>
              <a:chOff x="685440" y="2304720"/>
              <a:chExt cx="4519440" cy="1014480"/>
            </a:xfrm>
          </p:grpSpPr>
          <p:sp>
            <p:nvSpPr>
              <p:cNvPr id="1505" name=""/>
              <p:cNvSpPr/>
              <p:nvPr/>
            </p:nvSpPr>
            <p:spPr>
              <a:xfrm flipH="1">
                <a:off x="685440" y="2485800"/>
                <a:ext cx="51732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1202760" y="230472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685440" y="3319200"/>
                <a:ext cx="4381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4998240" y="331920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85440" y="1145880"/>
              <a:ext cx="4519440" cy="1014480"/>
              <a:chOff x="685440" y="1145880"/>
              <a:chExt cx="4519440" cy="1014480"/>
            </a:xfrm>
          </p:grpSpPr>
          <p:sp>
            <p:nvSpPr>
              <p:cNvPr id="1510" name=""/>
              <p:cNvSpPr/>
              <p:nvPr/>
            </p:nvSpPr>
            <p:spPr>
              <a:xfrm flipH="1">
                <a:off x="685440" y="1326960"/>
                <a:ext cx="51732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1202760" y="114588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685440" y="2160360"/>
                <a:ext cx="4381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4998240" y="216036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720360" y="3390840"/>
              <a:ext cx="4519080" cy="1014120"/>
              <a:chOff x="720360" y="3390840"/>
              <a:chExt cx="4519080" cy="1014120"/>
            </a:xfrm>
          </p:grpSpPr>
          <p:sp>
            <p:nvSpPr>
              <p:cNvPr id="1515" name=""/>
              <p:cNvSpPr/>
              <p:nvPr/>
            </p:nvSpPr>
            <p:spPr>
              <a:xfrm flipH="1">
                <a:off x="720360" y="3571920"/>
                <a:ext cx="517320" cy="83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1237680" y="339084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720720" y="4404960"/>
                <a:ext cx="438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5032800" y="440496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9" name=""/>
            <p:cNvSpPr txBox="1"/>
            <p:nvPr/>
          </p:nvSpPr>
          <p:spPr>
            <a:xfrm rot="18167400">
              <a:off x="293760" y="1513080"/>
              <a:ext cx="1206360" cy="18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erminologic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 rot="18167400">
              <a:off x="338400" y="2715480"/>
              <a:ext cx="1110960" cy="13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 rot="18167400">
              <a:off x="357480" y="3793320"/>
              <a:ext cx="1152360" cy="12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Ex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63360" y="457200"/>
            <a:ext cx="525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Utilisation de RDFS 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383840" y="3065400"/>
            <a:ext cx="2517480" cy="1085760"/>
            <a:chOff x="1383840" y="3065400"/>
            <a:chExt cx="2517480" cy="1085760"/>
          </a:xfrm>
        </p:grpSpPr>
        <p:sp>
          <p:nvSpPr>
            <p:cNvPr id="1524" name=""/>
            <p:cNvSpPr/>
            <p:nvPr/>
          </p:nvSpPr>
          <p:spPr>
            <a:xfrm flipH="1">
              <a:off x="1971000" y="3314520"/>
              <a:ext cx="3902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2358000" y="3085920"/>
              <a:ext cx="147960" cy="23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246760" y="3319560"/>
              <a:ext cx="2052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2452320" y="3101760"/>
              <a:ext cx="10440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2107080" y="3319560"/>
              <a:ext cx="37980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2486880" y="3065400"/>
              <a:ext cx="104040" cy="25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2349000" y="3319560"/>
              <a:ext cx="17244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2521440" y="3101760"/>
              <a:ext cx="6948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418480" y="3319560"/>
              <a:ext cx="13788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2556720" y="3101760"/>
              <a:ext cx="3456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107160" y="3101760"/>
              <a:ext cx="10404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1383840" y="3317760"/>
              <a:ext cx="3099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693800" y="3136680"/>
              <a:ext cx="1026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1384200" y="3317760"/>
              <a:ext cx="585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1969200" y="3136680"/>
              <a:ext cx="2070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659760" y="3317760"/>
              <a:ext cx="13752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796920" y="3136680"/>
              <a:ext cx="694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624480" y="3305160"/>
              <a:ext cx="20700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831840" y="3124080"/>
              <a:ext cx="694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487320" y="3341520"/>
              <a:ext cx="27504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62360" y="3124080"/>
              <a:ext cx="6948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2867040" y="3319560"/>
              <a:ext cx="24048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993600" y="2413080"/>
            <a:ext cx="4201560" cy="745560"/>
            <a:chOff x="993600" y="2413080"/>
            <a:chExt cx="4201560" cy="745560"/>
          </a:xfrm>
        </p:grpSpPr>
        <p:grpSp>
          <p:nvGrpSpPr>
            <p:cNvPr id="1547" name=""/>
            <p:cNvGrpSpPr/>
            <p:nvPr/>
          </p:nvGrpSpPr>
          <p:grpSpPr>
            <a:xfrm>
              <a:off x="993600" y="2485800"/>
              <a:ext cx="1725120" cy="658440"/>
              <a:chOff x="993600" y="2485800"/>
              <a:chExt cx="1725120" cy="658440"/>
            </a:xfrm>
          </p:grpSpPr>
          <p:sp>
            <p:nvSpPr>
              <p:cNvPr id="1548" name=""/>
              <p:cNvSpPr/>
              <p:nvPr/>
            </p:nvSpPr>
            <p:spPr>
              <a:xfrm flipV="1">
                <a:off x="2235960" y="2796840"/>
                <a:ext cx="13788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flipV="1">
                <a:off x="2373480" y="2796840"/>
                <a:ext cx="27612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 flipV="1">
                <a:off x="2028960" y="2507040"/>
                <a:ext cx="4140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1476720" y="2796840"/>
                <a:ext cx="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1890720" y="2832840"/>
                <a:ext cx="48276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1096920" y="2796840"/>
                <a:ext cx="4140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1511280" y="2543400"/>
                <a:ext cx="48312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5" name=""/>
              <p:cNvGrpSpPr/>
              <p:nvPr/>
            </p:nvGrpSpPr>
            <p:grpSpPr>
              <a:xfrm>
                <a:off x="1373040" y="2739240"/>
                <a:ext cx="241560" cy="129960"/>
                <a:chOff x="1373040" y="2739240"/>
                <a:chExt cx="241560" cy="129960"/>
              </a:xfrm>
            </p:grpSpPr>
            <p:sp>
              <p:nvSpPr>
                <p:cNvPr id="1556" name=""/>
                <p:cNvSpPr/>
                <p:nvPr/>
              </p:nvSpPr>
              <p:spPr>
                <a:xfrm>
                  <a:off x="1373040" y="274608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1432080" y="273924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1925280" y="2485800"/>
                <a:ext cx="241200" cy="129960"/>
                <a:chOff x="1925280" y="2485800"/>
                <a:chExt cx="241200" cy="12996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1925280" y="249264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1984320" y="248580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2270520" y="2760840"/>
                <a:ext cx="241560" cy="129960"/>
                <a:chOff x="2270520" y="2760840"/>
                <a:chExt cx="241560" cy="12996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2270520" y="276768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2329560" y="276084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993600" y="3014280"/>
                <a:ext cx="241560" cy="129960"/>
                <a:chOff x="993600" y="3014280"/>
                <a:chExt cx="241560" cy="1299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993600" y="302112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1052640" y="301428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1338480" y="3014280"/>
                <a:ext cx="241200" cy="129960"/>
                <a:chOff x="1338480" y="3014280"/>
                <a:chExt cx="241200" cy="12996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1338480" y="302112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1397520" y="301428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1787040" y="3014280"/>
                <a:ext cx="241560" cy="129960"/>
                <a:chOff x="1787040" y="3014280"/>
                <a:chExt cx="241560" cy="12996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1787040" y="302112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846080" y="301428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2132280" y="3014280"/>
                <a:ext cx="241200" cy="129960"/>
                <a:chOff x="2132280" y="3014280"/>
                <a:chExt cx="241200" cy="12996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2132280" y="302112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191320" y="301428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2477520" y="3014280"/>
                <a:ext cx="241200" cy="129960"/>
                <a:chOff x="2477520" y="3014280"/>
                <a:chExt cx="241200" cy="12996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2477520" y="302112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536560" y="301428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2961360" y="2413080"/>
              <a:ext cx="2233800" cy="745560"/>
              <a:chOff x="2961360" y="2413080"/>
              <a:chExt cx="2233800" cy="745560"/>
            </a:xfrm>
          </p:grpSpPr>
          <p:sp>
            <p:nvSpPr>
              <p:cNvPr id="1580" name=""/>
              <p:cNvSpPr/>
              <p:nvPr/>
            </p:nvSpPr>
            <p:spPr>
              <a:xfrm flipH="1">
                <a:off x="3961440" y="2485440"/>
                <a:ext cx="27576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3271680" y="2775240"/>
                <a:ext cx="82728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237200" y="2485440"/>
                <a:ext cx="6552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099320" y="2811240"/>
                <a:ext cx="6552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4" name=""/>
              <p:cNvGrpSpPr/>
              <p:nvPr/>
            </p:nvGrpSpPr>
            <p:grpSpPr>
              <a:xfrm>
                <a:off x="3926880" y="2413080"/>
                <a:ext cx="613080" cy="129960"/>
                <a:chOff x="3926880" y="2413080"/>
                <a:chExt cx="613080" cy="129960"/>
              </a:xfrm>
            </p:grpSpPr>
            <p:grpSp>
              <p:nvGrpSpPr>
                <p:cNvPr id="1585" name=""/>
                <p:cNvGrpSpPr/>
                <p:nvPr/>
              </p:nvGrpSpPr>
              <p:grpSpPr>
                <a:xfrm>
                  <a:off x="3926880" y="2419200"/>
                  <a:ext cx="613080" cy="108360"/>
                  <a:chOff x="3926880" y="2419200"/>
                  <a:chExt cx="613080" cy="108360"/>
                </a:xfrm>
              </p:grpSpPr>
              <p:sp>
                <p:nvSpPr>
                  <p:cNvPr id="1586" name=""/>
                  <p:cNvSpPr/>
                  <p:nvPr/>
                </p:nvSpPr>
                <p:spPr>
                  <a:xfrm>
                    <a:off x="4000680" y="24742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3926880" y="24343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4111200" y="24192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4367880" y="24343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0" name=""/>
                <p:cNvSpPr/>
                <p:nvPr/>
              </p:nvSpPr>
              <p:spPr>
                <a:xfrm>
                  <a:off x="4181040" y="24130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3788640" y="2717280"/>
                <a:ext cx="613080" cy="129960"/>
                <a:chOff x="3788640" y="2717280"/>
                <a:chExt cx="613080" cy="129960"/>
              </a:xfrm>
            </p:grpSpPr>
            <p:grpSp>
              <p:nvGrpSpPr>
                <p:cNvPr id="1592" name=""/>
                <p:cNvGrpSpPr/>
                <p:nvPr/>
              </p:nvGrpSpPr>
              <p:grpSpPr>
                <a:xfrm>
                  <a:off x="3788640" y="2723400"/>
                  <a:ext cx="613080" cy="108360"/>
                  <a:chOff x="3788640" y="2723400"/>
                  <a:chExt cx="613080" cy="10836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>
                    <a:off x="3862440" y="27784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3788640" y="27385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972960" y="27234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229640" y="27385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7" name=""/>
                <p:cNvSpPr/>
                <p:nvPr/>
              </p:nvSpPr>
              <p:spPr>
                <a:xfrm>
                  <a:off x="4042800" y="27172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2961360" y="3028680"/>
                <a:ext cx="613080" cy="129960"/>
                <a:chOff x="2961360" y="3028680"/>
                <a:chExt cx="613080" cy="129960"/>
              </a:xfrm>
            </p:grpSpPr>
            <p:grpSp>
              <p:nvGrpSpPr>
                <p:cNvPr id="1599" name=""/>
                <p:cNvGrpSpPr/>
                <p:nvPr/>
              </p:nvGrpSpPr>
              <p:grpSpPr>
                <a:xfrm>
                  <a:off x="2961360" y="3034800"/>
                  <a:ext cx="613080" cy="108360"/>
                  <a:chOff x="2961360" y="3034800"/>
                  <a:chExt cx="613080" cy="10836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3035160" y="30898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2961360" y="30499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3145680" y="30348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3402360" y="30499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4" name=""/>
                <p:cNvSpPr/>
                <p:nvPr/>
              </p:nvSpPr>
              <p:spPr>
                <a:xfrm>
                  <a:off x="3215520" y="30286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3650760" y="3028680"/>
                <a:ext cx="613080" cy="129960"/>
                <a:chOff x="3650760" y="3028680"/>
                <a:chExt cx="613080" cy="129960"/>
              </a:xfrm>
            </p:grpSpPr>
            <p:grpSp>
              <p:nvGrpSpPr>
                <p:cNvPr id="1606" name=""/>
                <p:cNvGrpSpPr/>
                <p:nvPr/>
              </p:nvGrpSpPr>
              <p:grpSpPr>
                <a:xfrm>
                  <a:off x="3650760" y="3034800"/>
                  <a:ext cx="613080" cy="108360"/>
                  <a:chOff x="3650760" y="3034800"/>
                  <a:chExt cx="613080" cy="108360"/>
                </a:xfrm>
              </p:grpSpPr>
              <p:sp>
                <p:nvSpPr>
                  <p:cNvPr id="1607" name=""/>
                  <p:cNvSpPr/>
                  <p:nvPr/>
                </p:nvSpPr>
                <p:spPr>
                  <a:xfrm>
                    <a:off x="3724560" y="30898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650760" y="30499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835080" y="30348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4091760" y="30499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1" name=""/>
                <p:cNvSpPr/>
                <p:nvPr/>
              </p:nvSpPr>
              <p:spPr>
                <a:xfrm>
                  <a:off x="3904920" y="30286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4348080" y="3028680"/>
                <a:ext cx="613080" cy="129960"/>
                <a:chOff x="4348080" y="3028680"/>
                <a:chExt cx="613080" cy="12996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4348080" y="3034800"/>
                  <a:ext cx="613080" cy="108360"/>
                  <a:chOff x="4348080" y="3034800"/>
                  <a:chExt cx="613080" cy="10836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4421880" y="30898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4348080" y="30499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4532400" y="30348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4789080" y="30499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4602240" y="30286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4582080" y="2712960"/>
                <a:ext cx="613080" cy="129960"/>
                <a:chOff x="4582080" y="2712960"/>
                <a:chExt cx="613080" cy="129960"/>
              </a:xfrm>
            </p:grpSpPr>
            <p:grpSp>
              <p:nvGrpSpPr>
                <p:cNvPr id="1620" name=""/>
                <p:cNvGrpSpPr/>
                <p:nvPr/>
              </p:nvGrpSpPr>
              <p:grpSpPr>
                <a:xfrm>
                  <a:off x="4582080" y="2719080"/>
                  <a:ext cx="613080" cy="108360"/>
                  <a:chOff x="4582080" y="2719080"/>
                  <a:chExt cx="613080" cy="10836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>
                    <a:off x="4655880" y="277416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4582080" y="273420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4766400" y="271908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5023080" y="273420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5" name=""/>
                <p:cNvSpPr/>
                <p:nvPr/>
              </p:nvSpPr>
              <p:spPr>
                <a:xfrm>
                  <a:off x="4836240" y="271296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26" name=""/>
          <p:cNvGrpSpPr/>
          <p:nvPr/>
        </p:nvGrpSpPr>
        <p:grpSpPr>
          <a:xfrm>
            <a:off x="1081080" y="1581120"/>
            <a:ext cx="3036600" cy="1484280"/>
            <a:chOff x="1081080" y="1581120"/>
            <a:chExt cx="3036600" cy="1484280"/>
          </a:xfrm>
        </p:grpSpPr>
        <p:sp>
          <p:nvSpPr>
            <p:cNvPr id="1627" name=""/>
            <p:cNvSpPr/>
            <p:nvPr/>
          </p:nvSpPr>
          <p:spPr>
            <a:xfrm flipH="1">
              <a:off x="1081080" y="2160360"/>
              <a:ext cx="37944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1460160" y="1762200"/>
              <a:ext cx="172440" cy="39816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1081080" y="2160360"/>
              <a:ext cx="62208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702800" y="1581120"/>
              <a:ext cx="37836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1943280" y="2160360"/>
              <a:ext cx="27684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2253960" y="2160360"/>
              <a:ext cx="349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220480" y="1942920"/>
              <a:ext cx="6804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89240" y="1942920"/>
              <a:ext cx="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739320" y="1581120"/>
              <a:ext cx="24048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59040" y="1965240"/>
              <a:ext cx="69480" cy="1810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980160" y="2160360"/>
              <a:ext cx="13752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733200" y="2151000"/>
              <a:ext cx="251280" cy="61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1295280" y="76320"/>
            <a:ext cx="7848360" cy="2255760"/>
            <a:chOff x="1295280" y="76320"/>
            <a:chExt cx="7848360" cy="2255760"/>
          </a:xfrm>
        </p:grpSpPr>
        <p:sp>
          <p:nvSpPr>
            <p:cNvPr id="1640" name=""/>
            <p:cNvSpPr/>
            <p:nvPr/>
          </p:nvSpPr>
          <p:spPr>
            <a:xfrm>
              <a:off x="5030280" y="76320"/>
              <a:ext cx="411336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epartment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ivision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1295280" y="1168200"/>
              <a:ext cx="3795480" cy="1163880"/>
              <a:chOff x="1295280" y="1168200"/>
              <a:chExt cx="3795480" cy="116388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1295280" y="1244520"/>
                <a:ext cx="3795480" cy="1087560"/>
                <a:chOff x="1295280" y="1244520"/>
                <a:chExt cx="3795480" cy="108756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1295280" y="2224080"/>
                  <a:ext cx="42804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V="1">
                  <a:off x="1732680" y="1326960"/>
                  <a:ext cx="820440" cy="9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553480" y="1326960"/>
                  <a:ext cx="246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055120" y="1244520"/>
                  <a:ext cx="35640" cy="181080"/>
                </a:xfrm>
                <a:custGeom>
                  <a:avLst/>
                  <a:gdLst>
                    <a:gd name="textAreaLeft" fmla="*/ 22680 w 35640"/>
                    <a:gd name="textAreaRight" fmla="*/ 36000 w 35640"/>
                    <a:gd name="textAreaTop" fmla="*/ 4680 h 181080"/>
                    <a:gd name="textAreaBottom" fmla="*/ 176400 h 1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7" name=""/>
              <p:cNvSpPr/>
              <p:nvPr/>
            </p:nvSpPr>
            <p:spPr>
              <a:xfrm>
                <a:off x="2483280" y="1168200"/>
                <a:ext cx="8193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Synony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8" name=""/>
          <p:cNvGrpSpPr/>
          <p:nvPr/>
        </p:nvGrpSpPr>
        <p:grpSpPr>
          <a:xfrm>
            <a:off x="2057400" y="2044800"/>
            <a:ext cx="6933960" cy="2884320"/>
            <a:chOff x="2057400" y="2044800"/>
            <a:chExt cx="6933960" cy="2884320"/>
          </a:xfrm>
        </p:grpSpPr>
        <p:sp>
          <p:nvSpPr>
            <p:cNvPr id="1649" name=""/>
            <p:cNvSpPr/>
            <p:nvPr/>
          </p:nvSpPr>
          <p:spPr>
            <a:xfrm>
              <a:off x="5390280" y="2044800"/>
              <a:ext cx="360108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sent in electronic format over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computerized world-wide communication 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                        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0" name=""/>
            <p:cNvGrpSpPr/>
            <p:nvPr/>
          </p:nvGrpSpPr>
          <p:grpSpPr>
            <a:xfrm>
              <a:off x="2057400" y="2239920"/>
              <a:ext cx="3541320" cy="2331720"/>
              <a:chOff x="2057400" y="2239920"/>
              <a:chExt cx="3541320" cy="2331720"/>
            </a:xfrm>
          </p:grpSpPr>
          <p:grpSp>
            <p:nvGrpSpPr>
              <p:cNvPr id="1651" name=""/>
              <p:cNvGrpSpPr/>
              <p:nvPr/>
            </p:nvGrpSpPr>
            <p:grpSpPr>
              <a:xfrm>
                <a:off x="2057400" y="2341440"/>
                <a:ext cx="3541320" cy="2230200"/>
                <a:chOff x="2057400" y="2341440"/>
                <a:chExt cx="3541320" cy="2230200"/>
              </a:xfrm>
            </p:grpSpPr>
            <p:sp>
              <p:nvSpPr>
                <p:cNvPr id="1652" name=""/>
                <p:cNvSpPr/>
                <p:nvPr/>
              </p:nvSpPr>
              <p:spPr>
                <a:xfrm>
                  <a:off x="2057400" y="2341440"/>
                  <a:ext cx="28584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352600" y="2398680"/>
                  <a:ext cx="300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 flipV="1">
                  <a:off x="5372640" y="2398680"/>
                  <a:ext cx="226080" cy="10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 flipV="1">
                  <a:off x="5372640" y="2437920"/>
                  <a:ext cx="1504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6" name=""/>
              <p:cNvSpPr/>
              <p:nvPr/>
            </p:nvSpPr>
            <p:spPr>
              <a:xfrm>
                <a:off x="2283480" y="2239920"/>
                <a:ext cx="107388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Ambiguïté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7" name=""/>
          <p:cNvGrpSpPr/>
          <p:nvPr/>
        </p:nvGrpSpPr>
        <p:grpSpPr>
          <a:xfrm>
            <a:off x="628560" y="5769000"/>
            <a:ext cx="1932120" cy="288720"/>
            <a:chOff x="628560" y="5769000"/>
            <a:chExt cx="1932120" cy="288720"/>
          </a:xfrm>
        </p:grpSpPr>
        <p:sp>
          <p:nvSpPr>
            <p:cNvPr id="1658" name=""/>
            <p:cNvSpPr/>
            <p:nvPr/>
          </p:nvSpPr>
          <p:spPr>
            <a:xfrm>
              <a:off x="639720" y="5968800"/>
              <a:ext cx="128520" cy="54000"/>
            </a:xfrm>
            <a:prstGeom prst="parallelogram">
              <a:avLst>
                <a:gd name="adj" fmla="val 59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04880" y="584208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0" name=""/>
            <p:cNvGrpSpPr/>
            <p:nvPr/>
          </p:nvGrpSpPr>
          <p:grpSpPr>
            <a:xfrm>
              <a:off x="628560" y="5789520"/>
              <a:ext cx="139680" cy="87480"/>
              <a:chOff x="628560" y="5789520"/>
              <a:chExt cx="139680" cy="87480"/>
            </a:xfrm>
          </p:grpSpPr>
          <p:sp>
            <p:nvSpPr>
              <p:cNvPr id="1661" name=""/>
              <p:cNvSpPr/>
              <p:nvPr/>
            </p:nvSpPr>
            <p:spPr>
              <a:xfrm>
                <a:off x="687240" y="580500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37640" y="579276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83640" y="579240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68160" y="582660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28560" y="578952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21080" y="585540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41960" y="58377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19207200">
                <a:off x="720720" y="584208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9" name=""/>
            <p:cNvSpPr/>
            <p:nvPr/>
          </p:nvSpPr>
          <p:spPr>
            <a:xfrm>
              <a:off x="858960" y="5769000"/>
              <a:ext cx="1701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Terme utilisé comme label d'un concept / d'une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85880" y="5958000"/>
              <a:ext cx="14436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61840" y="584208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2" name=""/>
            <p:cNvGrpSpPr/>
            <p:nvPr/>
          </p:nvGrpSpPr>
          <p:grpSpPr>
            <a:xfrm>
              <a:off x="785880" y="5789520"/>
              <a:ext cx="139680" cy="87480"/>
              <a:chOff x="785880" y="5789520"/>
              <a:chExt cx="139680" cy="87480"/>
            </a:xfrm>
          </p:grpSpPr>
          <p:sp>
            <p:nvSpPr>
              <p:cNvPr id="1673" name=""/>
              <p:cNvSpPr/>
              <p:nvPr/>
            </p:nvSpPr>
            <p:spPr>
              <a:xfrm>
                <a:off x="844560" y="580500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894960" y="579276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840960" y="579240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25480" y="582660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85880" y="578952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78400" y="585540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99280" y="583776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19207200">
                <a:off x="878040" y="584208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1" name=""/>
          <p:cNvSpPr/>
          <p:nvPr/>
        </p:nvSpPr>
        <p:spPr>
          <a:xfrm>
            <a:off x="63360" y="6134040"/>
            <a:ext cx="90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règles (collègue, </a:t>
            </a:r>
            <a:r>
              <a:rPr b="0" i="1" lang="fr-FR" sz="2900" spc="-1" strike="noStrike">
                <a:solidFill>
                  <a:srgbClr val="000099"/>
                </a:solidFill>
                <a:latin typeface="Arial"/>
              </a:rPr>
              <a:t>etc.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propriétés algébriqu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9B6D-6501-4161-A566-40989C6E108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Naviguer dans l'ontologi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48496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2C2C-148D-4DBE-994D-1E82CCD48A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Extensions pour CORES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1"/>
          <a:stretch/>
        </p:blipFill>
        <p:spPr>
          <a:xfrm>
            <a:off x="2057400" y="851040"/>
            <a:ext cx="5791320" cy="532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3DDE-9FCD-474D-9095-83F6E25A66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Problèmes et motivatio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89028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Pourquoi ?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ide à l'insertion d'un nouvel employ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upport de la veille technolog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Besoins ?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améliorer le temps de réaction &amp; adresser problèmes liés changement de personnel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Mémoire persistant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 sauver et/ou indexer la connaissa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Système nerveux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 capturer and diffuser la connaissa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Tendance actuelle ?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réutilisation technologies internet et web pour intranets et intraweb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Mêmes avantages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 technologie standardisée, navigateur comme moyen d'accès unique, architecture distribuée,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Mêmes désavantages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 compréhensible à l'humain mais seulement lisible pour la machine; problème de la recherche d'information et de l'automatisation en général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7062-762C-4E39-9BEC-7BBD49775BC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chéma généra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762120" y="1270080"/>
            <a:ext cx="7772400" cy="4418640"/>
            <a:chOff x="762120" y="1270080"/>
            <a:chExt cx="7772400" cy="4418640"/>
          </a:xfrm>
        </p:grpSpPr>
        <p:grpSp>
          <p:nvGrpSpPr>
            <p:cNvPr id="1688" name=""/>
            <p:cNvGrpSpPr/>
            <p:nvPr/>
          </p:nvGrpSpPr>
          <p:grpSpPr>
            <a:xfrm>
              <a:off x="762120" y="1270080"/>
              <a:ext cx="7772400" cy="4379760"/>
              <a:chOff x="762120" y="1270080"/>
              <a:chExt cx="7772400" cy="4379760"/>
            </a:xfrm>
          </p:grpSpPr>
          <p:sp>
            <p:nvSpPr>
              <p:cNvPr id="1689" name=""/>
              <p:cNvSpPr/>
              <p:nvPr/>
            </p:nvSpPr>
            <p:spPr>
              <a:xfrm>
                <a:off x="762120" y="1270080"/>
                <a:ext cx="7772400" cy="43797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3878280" y="1349280"/>
                <a:ext cx="1657080" cy="4180680"/>
                <a:chOff x="3878280" y="1349280"/>
                <a:chExt cx="1657080" cy="4180680"/>
              </a:xfrm>
            </p:grpSpPr>
            <p:sp>
              <p:nvSpPr>
                <p:cNvPr id="1691" name=""/>
                <p:cNvSpPr/>
                <p:nvPr/>
              </p:nvSpPr>
              <p:spPr>
                <a:xfrm>
                  <a:off x="3878280" y="1507680"/>
                  <a:ext cx="1500120" cy="4022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037040" y="1349280"/>
                  <a:ext cx="1498320" cy="239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1568520" y="2703240"/>
                <a:ext cx="6532560" cy="994680"/>
                <a:chOff x="1568520" y="2703240"/>
                <a:chExt cx="6532560" cy="99468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1568520" y="2788560"/>
                  <a:ext cx="6392880" cy="9093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382080" y="2703240"/>
                  <a:ext cx="171900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38880" y="2874600"/>
                  <a:ext cx="789120" cy="158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590840" y="3364920"/>
                  <a:ext cx="66996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1984680" y="2925360"/>
                  <a:ext cx="828720" cy="175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99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57520" y="30157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700" name=""/>
                <p:cNvGrpSpPr/>
                <p:nvPr/>
              </p:nvGrpSpPr>
              <p:grpSpPr>
                <a:xfrm>
                  <a:off x="5535720" y="3022200"/>
                  <a:ext cx="908280" cy="636120"/>
                  <a:chOff x="5535720" y="3022200"/>
                  <a:chExt cx="908280" cy="63612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>
                    <a:off x="5535720" y="33822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02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1840" y="30222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703" name=""/>
                <p:cNvSpPr/>
                <p:nvPr/>
              </p:nvSpPr>
              <p:spPr>
                <a:xfrm>
                  <a:off x="3878640" y="2790360"/>
                  <a:ext cx="1500120" cy="90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04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97280" y="306648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705" name=""/>
                <p:cNvSpPr/>
                <p:nvPr/>
              </p:nvSpPr>
              <p:spPr>
                <a:xfrm>
                  <a:off x="2616480" y="3420720"/>
                  <a:ext cx="9079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6444000" y="3417480"/>
                  <a:ext cx="8287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917040" y="2977560"/>
                  <a:ext cx="828720" cy="163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08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89880" y="306828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709" name=""/>
                <p:cNvGrpSpPr/>
                <p:nvPr/>
              </p:nvGrpSpPr>
              <p:grpSpPr>
                <a:xfrm>
                  <a:off x="3405600" y="2834640"/>
                  <a:ext cx="907920" cy="634680"/>
                  <a:chOff x="3405600" y="2834640"/>
                  <a:chExt cx="907920" cy="634680"/>
                </a:xfrm>
              </p:grpSpPr>
              <p:pic>
                <p:nvPicPr>
                  <p:cNvPr id="1710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1720" y="28346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711" name=""/>
                  <p:cNvSpPr/>
                  <p:nvPr/>
                </p:nvSpPr>
                <p:spPr>
                  <a:xfrm>
                    <a:off x="3405600" y="319284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12" name=""/>
            <p:cNvGrpSpPr/>
            <p:nvPr/>
          </p:nvGrpSpPr>
          <p:grpSpPr>
            <a:xfrm>
              <a:off x="919080" y="3738240"/>
              <a:ext cx="1101240" cy="1551960"/>
              <a:chOff x="919080" y="3738240"/>
              <a:chExt cx="1101240" cy="1551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919080" y="4693680"/>
                <a:ext cx="10746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1590480" y="3738240"/>
                <a:ext cx="429840" cy="1180800"/>
                <a:chOff x="1590480" y="3738240"/>
                <a:chExt cx="429840" cy="1180800"/>
              </a:xfrm>
            </p:grpSpPr>
            <p:grpSp>
              <p:nvGrpSpPr>
                <p:cNvPr id="1715" name=""/>
                <p:cNvGrpSpPr/>
                <p:nvPr/>
              </p:nvGrpSpPr>
              <p:grpSpPr>
                <a:xfrm>
                  <a:off x="1590480" y="3738240"/>
                  <a:ext cx="210960" cy="97920"/>
                  <a:chOff x="1590480" y="3738240"/>
                  <a:chExt cx="210960" cy="9792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1590480" y="381204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1642320" y="374868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1715040" y="373824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1755360" y="377568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0" name=""/>
                <p:cNvGrpSpPr/>
                <p:nvPr/>
              </p:nvGrpSpPr>
              <p:grpSpPr>
                <a:xfrm>
                  <a:off x="1665000" y="3808080"/>
                  <a:ext cx="355320" cy="1110960"/>
                  <a:chOff x="1665000" y="3808080"/>
                  <a:chExt cx="355320" cy="1110960"/>
                </a:xfrm>
              </p:grpSpPr>
              <p:sp>
                <p:nvSpPr>
                  <p:cNvPr id="1721" name=""/>
                  <p:cNvSpPr/>
                  <p:nvPr/>
                </p:nvSpPr>
                <p:spPr>
                  <a:xfrm>
                    <a:off x="1729080" y="399096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1856880" y="380808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1665000" y="42066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1781640" y="41947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1742040" y="44553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1852560" y="44553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727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29720" y="379944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728" name=""/>
            <p:cNvGrpSpPr/>
            <p:nvPr/>
          </p:nvGrpSpPr>
          <p:grpSpPr>
            <a:xfrm>
              <a:off x="841320" y="1349280"/>
              <a:ext cx="1774800" cy="1432800"/>
              <a:chOff x="841320" y="1349280"/>
              <a:chExt cx="1774800" cy="1432800"/>
            </a:xfrm>
          </p:grpSpPr>
          <p:sp>
            <p:nvSpPr>
              <p:cNvPr id="1729" name=""/>
              <p:cNvSpPr/>
              <p:nvPr/>
            </p:nvSpPr>
            <p:spPr>
              <a:xfrm>
                <a:off x="841320" y="2423520"/>
                <a:ext cx="177480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1393560" y="1349280"/>
                <a:ext cx="789120" cy="1231200"/>
                <a:chOff x="1393560" y="1349280"/>
                <a:chExt cx="789120" cy="1231200"/>
              </a:xfrm>
            </p:grpSpPr>
            <p:grpSp>
              <p:nvGrpSpPr>
                <p:cNvPr id="1731" name=""/>
                <p:cNvGrpSpPr/>
                <p:nvPr/>
              </p:nvGrpSpPr>
              <p:grpSpPr>
                <a:xfrm>
                  <a:off x="1668960" y="1797120"/>
                  <a:ext cx="477360" cy="783360"/>
                  <a:chOff x="1668960" y="1797120"/>
                  <a:chExt cx="477360" cy="78336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1878120" y="205776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1921320" y="2304000"/>
                    <a:ext cx="1270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1753560" y="2290320"/>
                    <a:ext cx="15840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1668960" y="20581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1989000" y="179712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1834200" y="1840680"/>
                    <a:ext cx="12276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8" name=""/>
                <p:cNvGrpSpPr/>
                <p:nvPr/>
              </p:nvGrpSpPr>
              <p:grpSpPr>
                <a:xfrm>
                  <a:off x="1679760" y="1349280"/>
                  <a:ext cx="236520" cy="239040"/>
                  <a:chOff x="1679760" y="1349280"/>
                  <a:chExt cx="236520" cy="239040"/>
                </a:xfrm>
              </p:grpSpPr>
              <p:sp>
                <p:nvSpPr>
                  <p:cNvPr id="1739" name=""/>
                  <p:cNvSpPr/>
                  <p:nvPr/>
                </p:nvSpPr>
                <p:spPr>
                  <a:xfrm>
                    <a:off x="1679760" y="134928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0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06760" y="137088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741" name=""/>
                <p:cNvGrpSpPr/>
                <p:nvPr/>
              </p:nvGrpSpPr>
              <p:grpSpPr>
                <a:xfrm>
                  <a:off x="1393560" y="1472760"/>
                  <a:ext cx="255240" cy="278640"/>
                  <a:chOff x="1393560" y="1472760"/>
                  <a:chExt cx="255240" cy="278640"/>
                </a:xfrm>
              </p:grpSpPr>
              <p:sp>
                <p:nvSpPr>
                  <p:cNvPr id="1742" name=""/>
                  <p:cNvSpPr/>
                  <p:nvPr/>
                </p:nvSpPr>
                <p:spPr>
                  <a:xfrm>
                    <a:off x="1393560" y="147276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3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1840" y="149148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1551240" y="1791360"/>
                  <a:ext cx="204120" cy="245160"/>
                  <a:chOff x="1551240" y="1791360"/>
                  <a:chExt cx="204120" cy="24516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>
                    <a:off x="1551240" y="17913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6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71760" y="18079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1945800" y="1512720"/>
                  <a:ext cx="236880" cy="278640"/>
                  <a:chOff x="1945800" y="1512720"/>
                  <a:chExt cx="236880" cy="27864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>
                    <a:off x="1945800" y="151272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49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1200" y="154620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750" name=""/>
            <p:cNvGrpSpPr/>
            <p:nvPr/>
          </p:nvGrpSpPr>
          <p:grpSpPr>
            <a:xfrm>
              <a:off x="7113600" y="4495680"/>
              <a:ext cx="1106280" cy="1193040"/>
              <a:chOff x="7113600" y="4495680"/>
              <a:chExt cx="1106280" cy="1193040"/>
            </a:xfrm>
          </p:grpSpPr>
          <p:sp>
            <p:nvSpPr>
              <p:cNvPr id="1751" name=""/>
              <p:cNvSpPr/>
              <p:nvPr/>
            </p:nvSpPr>
            <p:spPr>
              <a:xfrm>
                <a:off x="7113600" y="5441400"/>
                <a:ext cx="11062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7272000" y="4574520"/>
                <a:ext cx="430200" cy="903240"/>
                <a:chOff x="7272000" y="4574520"/>
                <a:chExt cx="430200" cy="903240"/>
              </a:xfrm>
            </p:grpSpPr>
            <p:sp>
              <p:nvSpPr>
                <p:cNvPr id="1753" name=""/>
                <p:cNvSpPr/>
                <p:nvPr/>
              </p:nvSpPr>
              <p:spPr>
                <a:xfrm flipH="1">
                  <a:off x="7396560" y="46249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>
                  <a:off x="7507800" y="45745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7418160" y="48366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>
                  <a:off x="7317000" y="48448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>
                  <a:off x="7271640" y="5103000"/>
                  <a:ext cx="188280" cy="36828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>
                  <a:off x="7451640" y="510228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"/>
              <p:cNvGrpSpPr/>
              <p:nvPr/>
            </p:nvGrpSpPr>
            <p:grpSpPr>
              <a:xfrm>
                <a:off x="7705440" y="4495680"/>
                <a:ext cx="473400" cy="396360"/>
                <a:chOff x="7705440" y="4495680"/>
                <a:chExt cx="473400" cy="39636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7705440" y="4495680"/>
                  <a:ext cx="473400" cy="39636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61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821720" y="4565880"/>
                  <a:ext cx="2365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762" name=""/>
            <p:cNvGrpSpPr/>
            <p:nvPr/>
          </p:nvGrpSpPr>
          <p:grpSpPr>
            <a:xfrm>
              <a:off x="2182680" y="1760400"/>
              <a:ext cx="1617840" cy="902880"/>
              <a:chOff x="2182680" y="1760400"/>
              <a:chExt cx="1617840" cy="902880"/>
            </a:xfrm>
          </p:grpSpPr>
          <p:pic>
            <p:nvPicPr>
              <p:cNvPr id="176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2680" y="223632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4" name=""/>
              <p:cNvGrpSpPr/>
              <p:nvPr/>
            </p:nvGrpSpPr>
            <p:grpSpPr>
              <a:xfrm>
                <a:off x="2458800" y="1760400"/>
                <a:ext cx="1025640" cy="902880"/>
                <a:chOff x="2458800" y="1760400"/>
                <a:chExt cx="1025640" cy="90288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2458800" y="2026440"/>
                  <a:ext cx="102564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458800" y="176040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2476440" y="20289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853000" y="226188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5480" y="17910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7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63640" y="2225160"/>
                <a:ext cx="23688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1" name=""/>
            <p:cNvGrpSpPr/>
            <p:nvPr/>
          </p:nvGrpSpPr>
          <p:grpSpPr>
            <a:xfrm>
              <a:off x="5456160" y="4535280"/>
              <a:ext cx="1697040" cy="995040"/>
              <a:chOff x="5456160" y="4535280"/>
              <a:chExt cx="1697040" cy="995040"/>
            </a:xfrm>
          </p:grpSpPr>
          <p:pic>
            <p:nvPicPr>
              <p:cNvPr id="177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56160" y="5012640"/>
                <a:ext cx="2379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16680" y="50126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4" name=""/>
              <p:cNvGrpSpPr/>
              <p:nvPr/>
            </p:nvGrpSpPr>
            <p:grpSpPr>
              <a:xfrm>
                <a:off x="5732280" y="4535280"/>
                <a:ext cx="1104840" cy="995040"/>
                <a:chOff x="5732280" y="4535280"/>
                <a:chExt cx="1104840" cy="995040"/>
              </a:xfrm>
            </p:grpSpPr>
            <p:grpSp>
              <p:nvGrpSpPr>
                <p:cNvPr id="1775" name=""/>
                <p:cNvGrpSpPr/>
                <p:nvPr/>
              </p:nvGrpSpPr>
              <p:grpSpPr>
                <a:xfrm>
                  <a:off x="5732280" y="4535280"/>
                  <a:ext cx="1026000" cy="902880"/>
                  <a:chOff x="5732280" y="4535280"/>
                  <a:chExt cx="1026000" cy="90288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5732280" y="480132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5732280" y="45352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5749920" y="48038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26840" y="50367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08960" y="45658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5771520" y="4574880"/>
                  <a:ext cx="1026000" cy="902880"/>
                  <a:chOff x="5771520" y="4574880"/>
                  <a:chExt cx="1026000" cy="90288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5771520" y="484092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5771520" y="4574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5789160" y="48434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66080" y="5076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8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48200" y="4605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5811120" y="4627440"/>
                  <a:ext cx="1026000" cy="902880"/>
                  <a:chOff x="5811120" y="4627440"/>
                  <a:chExt cx="1026000" cy="90288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5811120" y="489348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5811120" y="462744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5828760" y="48960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5680" y="512892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87800" y="465804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793" name=""/>
            <p:cNvGrpSpPr/>
            <p:nvPr/>
          </p:nvGrpSpPr>
          <p:grpSpPr>
            <a:xfrm>
              <a:off x="2222640" y="3857400"/>
              <a:ext cx="2167920" cy="677160"/>
              <a:chOff x="2222640" y="3857400"/>
              <a:chExt cx="2167920" cy="677160"/>
            </a:xfrm>
          </p:grpSpPr>
          <p:pic>
            <p:nvPicPr>
              <p:cNvPr id="179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222640" y="41364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524040" y="41364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6" name=""/>
              <p:cNvGrpSpPr/>
              <p:nvPr/>
            </p:nvGrpSpPr>
            <p:grpSpPr>
              <a:xfrm>
                <a:off x="2419200" y="3857400"/>
                <a:ext cx="1007640" cy="677160"/>
                <a:chOff x="2419200" y="3857400"/>
                <a:chExt cx="1007640" cy="677160"/>
              </a:xfrm>
            </p:grpSpPr>
            <p:sp>
              <p:nvSpPr>
                <p:cNvPr id="1797" name=""/>
                <p:cNvSpPr/>
                <p:nvPr/>
              </p:nvSpPr>
              <p:spPr>
                <a:xfrm>
                  <a:off x="2576880" y="3897000"/>
                  <a:ext cx="670680" cy="6375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98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734560" y="4130640"/>
                  <a:ext cx="315360" cy="31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9" name=""/>
                <p:cNvSpPr/>
                <p:nvPr/>
              </p:nvSpPr>
              <p:spPr>
                <a:xfrm>
                  <a:off x="2419200" y="385740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800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076640" y="4096800"/>
                <a:ext cx="31392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1" name=""/>
            <p:cNvGrpSpPr/>
            <p:nvPr/>
          </p:nvGrpSpPr>
          <p:grpSpPr>
            <a:xfrm>
              <a:off x="2009880" y="4608360"/>
              <a:ext cx="1631880" cy="881640"/>
              <a:chOff x="2009880" y="4608360"/>
              <a:chExt cx="1631880" cy="881640"/>
            </a:xfrm>
          </p:grpSpPr>
          <p:grpSp>
            <p:nvGrpSpPr>
              <p:cNvPr id="1802" name=""/>
              <p:cNvGrpSpPr/>
              <p:nvPr/>
            </p:nvGrpSpPr>
            <p:grpSpPr>
              <a:xfrm>
                <a:off x="2009880" y="4892040"/>
                <a:ext cx="1631880" cy="597960"/>
                <a:chOff x="2009880" y="4892040"/>
                <a:chExt cx="1631880" cy="59796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2088720" y="4931640"/>
                  <a:ext cx="1340640" cy="55836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04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127960" y="5135400"/>
                  <a:ext cx="27576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5" name=""/>
                <p:cNvSpPr/>
                <p:nvPr/>
              </p:nvSpPr>
              <p:spPr>
                <a:xfrm>
                  <a:off x="2009880" y="4892040"/>
                  <a:ext cx="74916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311560" y="5091480"/>
                  <a:ext cx="13302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80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813040" y="4608360"/>
                <a:ext cx="2361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8" name=""/>
            <p:cNvGrpSpPr/>
            <p:nvPr/>
          </p:nvGrpSpPr>
          <p:grpSpPr>
            <a:xfrm>
              <a:off x="3524400" y="4973400"/>
              <a:ext cx="1065240" cy="356760"/>
              <a:chOff x="3524400" y="4973400"/>
              <a:chExt cx="1065240" cy="356760"/>
            </a:xfrm>
          </p:grpSpPr>
          <p:pic>
            <p:nvPicPr>
              <p:cNvPr id="180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524400" y="505260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0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33960" y="4973400"/>
                <a:ext cx="35568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1" name=""/>
            <p:cNvGrpSpPr/>
            <p:nvPr/>
          </p:nvGrpSpPr>
          <p:grpSpPr>
            <a:xfrm>
              <a:off x="7192800" y="3762360"/>
              <a:ext cx="631800" cy="772200"/>
              <a:chOff x="7192800" y="3762360"/>
              <a:chExt cx="631800" cy="772200"/>
            </a:xfrm>
          </p:grpSpPr>
          <p:pic>
            <p:nvPicPr>
              <p:cNvPr id="1812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389720" y="4295160"/>
                <a:ext cx="236520" cy="2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13" name=""/>
              <p:cNvGrpSpPr/>
              <p:nvPr/>
            </p:nvGrpSpPr>
            <p:grpSpPr>
              <a:xfrm>
                <a:off x="7192800" y="3762360"/>
                <a:ext cx="631800" cy="489960"/>
                <a:chOff x="7192800" y="3762360"/>
                <a:chExt cx="631800" cy="48996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7232040" y="3814560"/>
                  <a:ext cx="552960" cy="437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192800" y="3762360"/>
                  <a:ext cx="63180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16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429680" y="399564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17" name=""/>
            <p:cNvGrpSpPr/>
            <p:nvPr/>
          </p:nvGrpSpPr>
          <p:grpSpPr>
            <a:xfrm>
              <a:off x="3957480" y="1690560"/>
              <a:ext cx="1301760" cy="3564720"/>
              <a:chOff x="3957480" y="1690560"/>
              <a:chExt cx="1301760" cy="3564720"/>
            </a:xfrm>
          </p:grpSpPr>
          <p:pic>
            <p:nvPicPr>
              <p:cNvPr id="1818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865760" y="23043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9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826160" y="222516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0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3957480" y="1690560"/>
                <a:ext cx="33192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1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114800" y="4460400"/>
                <a:ext cx="395280" cy="3963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1822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037040" y="2185560"/>
                <a:ext cx="27612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3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07000" y="4379400"/>
                <a:ext cx="304560" cy="2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629240" y="3817440"/>
                <a:ext cx="4111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454640" y="1729800"/>
                <a:ext cx="33156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6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05360" y="234432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43520" y="4938120"/>
                <a:ext cx="3157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430880" y="2344320"/>
                <a:ext cx="333360" cy="33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943520" y="1787040"/>
                <a:ext cx="315720" cy="31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0" name=""/>
            <p:cNvSpPr txBox="1"/>
            <p:nvPr/>
          </p:nvSpPr>
          <p:spPr>
            <a:xfrm>
              <a:off x="2103480" y="4614840"/>
              <a:ext cx="23652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831" name=""/>
            <p:cNvSpPr txBox="1"/>
            <p:nvPr/>
          </p:nvSpPr>
          <p:spPr>
            <a:xfrm>
              <a:off x="2773440" y="1468440"/>
              <a:ext cx="23796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832" name=""/>
            <p:cNvSpPr txBox="1"/>
            <p:nvPr/>
          </p:nvSpPr>
          <p:spPr>
            <a:xfrm>
              <a:off x="6956280" y="4733640"/>
              <a:ext cx="23652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2143080" y="3579480"/>
              <a:ext cx="1971720" cy="1272600"/>
              <a:chOff x="2143080" y="3579480"/>
              <a:chExt cx="1971720" cy="1272600"/>
            </a:xfrm>
          </p:grpSpPr>
          <p:sp>
            <p:nvSpPr>
              <p:cNvPr id="1834" name=""/>
              <p:cNvSpPr/>
              <p:nvPr/>
            </p:nvSpPr>
            <p:spPr>
              <a:xfrm>
                <a:off x="3444840" y="3579480"/>
                <a:ext cx="66996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2143080" y="3579480"/>
                <a:ext cx="51264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287520" y="3658680"/>
                <a:ext cx="117720" cy="119340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1708200" y="2584440"/>
              <a:ext cx="947160" cy="396360"/>
              <a:chOff x="1708200" y="2584440"/>
              <a:chExt cx="947160" cy="396360"/>
            </a:xfrm>
          </p:grpSpPr>
          <p:sp>
            <p:nvSpPr>
              <p:cNvPr id="1838" name=""/>
              <p:cNvSpPr/>
              <p:nvPr/>
            </p:nvSpPr>
            <p:spPr>
              <a:xfrm>
                <a:off x="1708200" y="2688840"/>
                <a:ext cx="118800" cy="2520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2023560" y="2584440"/>
                <a:ext cx="631800" cy="396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5257800" y="2031840"/>
              <a:ext cx="2247840" cy="2502720"/>
              <a:chOff x="5257800" y="2031840"/>
              <a:chExt cx="2247840" cy="2502720"/>
            </a:xfrm>
          </p:grpSpPr>
          <p:sp>
            <p:nvSpPr>
              <p:cNvPr id="1841" name=""/>
              <p:cNvSpPr/>
              <p:nvPr/>
            </p:nvSpPr>
            <p:spPr>
              <a:xfrm flipH="1" flipV="1">
                <a:off x="5257800" y="2031840"/>
                <a:ext cx="137160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074000" y="3339720"/>
                <a:ext cx="43164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6364080" y="3658680"/>
                <a:ext cx="355320" cy="79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956280" y="3658680"/>
                <a:ext cx="316080" cy="87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5062680" y="3539880"/>
              <a:ext cx="2129760" cy="1034280"/>
              <a:chOff x="5062680" y="3539880"/>
              <a:chExt cx="2129760" cy="1034280"/>
            </a:xfrm>
          </p:grpSpPr>
          <p:sp>
            <p:nvSpPr>
              <p:cNvPr id="1846" name=""/>
              <p:cNvSpPr/>
              <p:nvPr/>
            </p:nvSpPr>
            <p:spPr>
              <a:xfrm flipH="1">
                <a:off x="5062680" y="3539880"/>
                <a:ext cx="552240" cy="3967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5891040" y="3600000"/>
                <a:ext cx="0" cy="89496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246720" y="3658680"/>
                <a:ext cx="945720" cy="9154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9" name=""/>
          <p:cNvSpPr/>
          <p:nvPr/>
        </p:nvSpPr>
        <p:spPr>
          <a:xfrm>
            <a:off x="2286000" y="1143000"/>
            <a:ext cx="4724280" cy="4648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34320" y="1143000"/>
            <a:ext cx="1752480" cy="32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85800" y="2743200"/>
            <a:ext cx="1600200" cy="32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010280" y="4432320"/>
            <a:ext cx="152424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62120" y="1295280"/>
            <a:ext cx="1523880" cy="1447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1CFF-498D-493A-830B-0BB34E6DB2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lution technique: Apprentissage symboliqu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380880" y="2634840"/>
            <a:ext cx="830592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29196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fr-FR" sz="31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fr-FR" sz="3100" spc="-1" strike="noStrike">
                <a:solidFill>
                  <a:srgbClr val="000099"/>
                </a:solidFill>
                <a:latin typeface="Arial"/>
              </a:rPr>
              <a:t> Représenter, apprendre et comparer les profils d'utilisation actuels afin d'améliorer la qualité de l'utilisation future.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6" name=""/>
          <p:cNvSpPr txBox="1"/>
          <p:nvPr/>
        </p:nvSpPr>
        <p:spPr>
          <a:xfrm>
            <a:off x="838080" y="1981080"/>
            <a:ext cx="7620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naître l'utilisateur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F94C-1D05-4A6A-A0F5-E4C3B8B9027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faces utilisateur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63000" y="456840"/>
            <a:ext cx="7023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Interfaces utilisateur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nnoter des docu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nterroger la mém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ésenter les résulta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acher la complexité (ontologie, agents,..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828800" cy="1555920"/>
          </a:xfrm>
          <a:prstGeom prst="rect">
            <a:avLst/>
          </a:prstGeom>
          <a:ln w="0">
            <a:noFill/>
          </a:ln>
        </p:spPr>
      </p:pic>
      <p:grpSp>
        <p:nvGrpSpPr>
          <p:cNvPr id="1860" name=""/>
          <p:cNvGrpSpPr/>
          <p:nvPr/>
        </p:nvGrpSpPr>
        <p:grpSpPr>
          <a:xfrm>
            <a:off x="6431040" y="2118960"/>
            <a:ext cx="2482920" cy="2376720"/>
            <a:chOff x="6431040" y="2118960"/>
            <a:chExt cx="2482920" cy="2376720"/>
          </a:xfrm>
        </p:grpSpPr>
        <p:grpSp>
          <p:nvGrpSpPr>
            <p:cNvPr id="1861" name=""/>
            <p:cNvGrpSpPr/>
            <p:nvPr/>
          </p:nvGrpSpPr>
          <p:grpSpPr>
            <a:xfrm>
              <a:off x="6431040" y="3035160"/>
              <a:ext cx="730080" cy="1400040"/>
              <a:chOff x="6431040" y="3035160"/>
              <a:chExt cx="730080" cy="1400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6559560" y="3346200"/>
                <a:ext cx="241200" cy="582840"/>
              </a:xfrm>
              <a:custGeom>
                <a:avLst/>
                <a:gdLst/>
                <a:ahLst/>
                <a:rect l="l" t="t" r="r" b="b"/>
                <a:pathLst>
                  <a:path w="303" h="734">
                    <a:moveTo>
                      <a:pt x="104" y="71"/>
                    </a:moveTo>
                    <a:lnTo>
                      <a:pt x="159" y="19"/>
                    </a:lnTo>
                    <a:lnTo>
                      <a:pt x="225" y="0"/>
                    </a:lnTo>
                    <a:lnTo>
                      <a:pt x="272" y="3"/>
                    </a:lnTo>
                    <a:lnTo>
                      <a:pt x="280" y="48"/>
                    </a:lnTo>
                    <a:lnTo>
                      <a:pt x="277" y="105"/>
                    </a:lnTo>
                    <a:lnTo>
                      <a:pt x="225" y="173"/>
                    </a:lnTo>
                    <a:lnTo>
                      <a:pt x="193" y="275"/>
                    </a:lnTo>
                    <a:lnTo>
                      <a:pt x="190" y="377"/>
                    </a:lnTo>
                    <a:lnTo>
                      <a:pt x="214" y="472"/>
                    </a:lnTo>
                    <a:lnTo>
                      <a:pt x="246" y="559"/>
                    </a:lnTo>
                    <a:lnTo>
                      <a:pt x="303" y="632"/>
                    </a:lnTo>
                    <a:lnTo>
                      <a:pt x="303" y="656"/>
                    </a:lnTo>
                    <a:lnTo>
                      <a:pt x="295" y="708"/>
                    </a:lnTo>
                    <a:lnTo>
                      <a:pt x="253" y="732"/>
                    </a:lnTo>
                    <a:lnTo>
                      <a:pt x="206" y="734"/>
                    </a:lnTo>
                    <a:lnTo>
                      <a:pt x="127" y="716"/>
                    </a:lnTo>
                    <a:lnTo>
                      <a:pt x="67" y="656"/>
                    </a:lnTo>
                    <a:lnTo>
                      <a:pt x="34" y="551"/>
                    </a:lnTo>
                    <a:lnTo>
                      <a:pt x="11" y="482"/>
                    </a:lnTo>
                    <a:lnTo>
                      <a:pt x="0" y="393"/>
                    </a:lnTo>
                    <a:lnTo>
                      <a:pt x="8" y="275"/>
                    </a:lnTo>
                    <a:lnTo>
                      <a:pt x="34" y="176"/>
                    </a:lnTo>
                    <a:lnTo>
                      <a:pt x="67" y="110"/>
                    </a:lnTo>
                    <a:lnTo>
                      <a:pt x="10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26240" y="3343320"/>
                <a:ext cx="380880" cy="399960"/>
              </a:xfrm>
              <a:custGeom>
                <a:avLst/>
                <a:gdLst/>
                <a:ahLst/>
                <a:rect l="l" t="t" r="r" b="b"/>
                <a:pathLst>
                  <a:path w="480" h="503">
                    <a:moveTo>
                      <a:pt x="0" y="36"/>
                    </a:moveTo>
                    <a:lnTo>
                      <a:pt x="16" y="0"/>
                    </a:lnTo>
                    <a:lnTo>
                      <a:pt x="47" y="0"/>
                    </a:lnTo>
                    <a:lnTo>
                      <a:pt x="86" y="39"/>
                    </a:lnTo>
                    <a:lnTo>
                      <a:pt x="112" y="133"/>
                    </a:lnTo>
                    <a:lnTo>
                      <a:pt x="133" y="243"/>
                    </a:lnTo>
                    <a:lnTo>
                      <a:pt x="149" y="358"/>
                    </a:lnTo>
                    <a:lnTo>
                      <a:pt x="199" y="445"/>
                    </a:lnTo>
                    <a:lnTo>
                      <a:pt x="199" y="447"/>
                    </a:lnTo>
                    <a:lnTo>
                      <a:pt x="199" y="463"/>
                    </a:lnTo>
                    <a:lnTo>
                      <a:pt x="267" y="453"/>
                    </a:lnTo>
                    <a:lnTo>
                      <a:pt x="338" y="408"/>
                    </a:lnTo>
                    <a:lnTo>
                      <a:pt x="370" y="366"/>
                    </a:lnTo>
                    <a:lnTo>
                      <a:pt x="425" y="251"/>
                    </a:lnTo>
                    <a:lnTo>
                      <a:pt x="425" y="209"/>
                    </a:lnTo>
                    <a:lnTo>
                      <a:pt x="404" y="170"/>
                    </a:lnTo>
                    <a:lnTo>
                      <a:pt x="380" y="115"/>
                    </a:lnTo>
                    <a:lnTo>
                      <a:pt x="372" y="94"/>
                    </a:lnTo>
                    <a:lnTo>
                      <a:pt x="401" y="83"/>
                    </a:lnTo>
                    <a:lnTo>
                      <a:pt x="435" y="86"/>
                    </a:lnTo>
                    <a:lnTo>
                      <a:pt x="456" y="107"/>
                    </a:lnTo>
                    <a:lnTo>
                      <a:pt x="480" y="154"/>
                    </a:lnTo>
                    <a:lnTo>
                      <a:pt x="467" y="241"/>
                    </a:lnTo>
                    <a:lnTo>
                      <a:pt x="456" y="288"/>
                    </a:lnTo>
                    <a:lnTo>
                      <a:pt x="404" y="385"/>
                    </a:lnTo>
                    <a:lnTo>
                      <a:pt x="357" y="455"/>
                    </a:lnTo>
                    <a:lnTo>
                      <a:pt x="269" y="487"/>
                    </a:lnTo>
                    <a:lnTo>
                      <a:pt x="199" y="503"/>
                    </a:lnTo>
                    <a:lnTo>
                      <a:pt x="144" y="476"/>
                    </a:lnTo>
                    <a:lnTo>
                      <a:pt x="118" y="385"/>
                    </a:lnTo>
                    <a:lnTo>
                      <a:pt x="89" y="272"/>
                    </a:lnTo>
                    <a:lnTo>
                      <a:pt x="65" y="188"/>
                    </a:lnTo>
                    <a:lnTo>
                      <a:pt x="34" y="141"/>
                    </a:lnTo>
                    <a:lnTo>
                      <a:pt x="2" y="9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6811920" y="3344760"/>
                <a:ext cx="349200" cy="347760"/>
                <a:chOff x="6811920" y="3344760"/>
                <a:chExt cx="349200" cy="34776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6811920" y="3344760"/>
                  <a:ext cx="349200" cy="347760"/>
                </a:xfrm>
                <a:custGeom>
                  <a:avLst/>
                  <a:gdLst/>
                  <a:ahLst/>
                  <a:rect l="l" t="t" r="r" b="b"/>
                  <a:pathLst>
                    <a:path w="441" h="437">
                      <a:moveTo>
                        <a:pt x="5" y="154"/>
                      </a:moveTo>
                      <a:lnTo>
                        <a:pt x="5" y="107"/>
                      </a:lnTo>
                      <a:lnTo>
                        <a:pt x="24" y="68"/>
                      </a:lnTo>
                      <a:lnTo>
                        <a:pt x="55" y="36"/>
                      </a:lnTo>
                      <a:lnTo>
                        <a:pt x="102" y="13"/>
                      </a:lnTo>
                      <a:lnTo>
                        <a:pt x="134" y="0"/>
                      </a:lnTo>
                      <a:lnTo>
                        <a:pt x="186" y="5"/>
                      </a:lnTo>
                      <a:lnTo>
                        <a:pt x="433" y="243"/>
                      </a:lnTo>
                      <a:lnTo>
                        <a:pt x="441" y="290"/>
                      </a:lnTo>
                      <a:lnTo>
                        <a:pt x="433" y="330"/>
                      </a:lnTo>
                      <a:lnTo>
                        <a:pt x="402" y="382"/>
                      </a:lnTo>
                      <a:lnTo>
                        <a:pt x="347" y="421"/>
                      </a:lnTo>
                      <a:lnTo>
                        <a:pt x="289" y="437"/>
                      </a:lnTo>
                      <a:lnTo>
                        <a:pt x="250" y="437"/>
                      </a:lnTo>
                      <a:lnTo>
                        <a:pt x="5" y="178"/>
                      </a:lnTo>
                      <a:lnTo>
                        <a:pt x="0" y="131"/>
                      </a:lnTo>
                      <a:lnTo>
                        <a:pt x="0" y="138"/>
                      </a:lnTo>
                      <a:lnTo>
                        <a:pt x="5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811920" y="3344760"/>
                  <a:ext cx="349200" cy="347760"/>
                </a:xfrm>
                <a:custGeom>
                  <a:avLst/>
                  <a:gdLst/>
                  <a:ahLst/>
                  <a:rect l="l" t="t" r="r" b="b"/>
                  <a:pathLst>
                    <a:path w="441" h="437">
                      <a:moveTo>
                        <a:pt x="5" y="154"/>
                      </a:moveTo>
                      <a:lnTo>
                        <a:pt x="5" y="107"/>
                      </a:lnTo>
                      <a:lnTo>
                        <a:pt x="24" y="68"/>
                      </a:lnTo>
                      <a:lnTo>
                        <a:pt x="55" y="36"/>
                      </a:lnTo>
                      <a:lnTo>
                        <a:pt x="102" y="13"/>
                      </a:lnTo>
                      <a:lnTo>
                        <a:pt x="134" y="0"/>
                      </a:lnTo>
                      <a:lnTo>
                        <a:pt x="186" y="5"/>
                      </a:lnTo>
                      <a:lnTo>
                        <a:pt x="433" y="243"/>
                      </a:lnTo>
                      <a:lnTo>
                        <a:pt x="441" y="290"/>
                      </a:lnTo>
                      <a:lnTo>
                        <a:pt x="433" y="330"/>
                      </a:lnTo>
                      <a:lnTo>
                        <a:pt x="402" y="382"/>
                      </a:lnTo>
                      <a:lnTo>
                        <a:pt x="347" y="421"/>
                      </a:lnTo>
                      <a:lnTo>
                        <a:pt x="289" y="437"/>
                      </a:lnTo>
                      <a:lnTo>
                        <a:pt x="250" y="437"/>
                      </a:lnTo>
                      <a:lnTo>
                        <a:pt x="5" y="178"/>
                      </a:lnTo>
                      <a:lnTo>
                        <a:pt x="0" y="131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816600" y="3354120"/>
                  <a:ext cx="139680" cy="123840"/>
                </a:xfrm>
                <a:custGeom>
                  <a:avLst/>
                  <a:gdLst/>
                  <a:ahLst/>
                  <a:rect l="l" t="t" r="r" b="b"/>
                  <a:pathLst>
                    <a:path w="176" h="157">
                      <a:moveTo>
                        <a:pt x="0" y="149"/>
                      </a:moveTo>
                      <a:lnTo>
                        <a:pt x="48" y="157"/>
                      </a:lnTo>
                      <a:lnTo>
                        <a:pt x="87" y="143"/>
                      </a:lnTo>
                      <a:lnTo>
                        <a:pt x="113" y="128"/>
                      </a:lnTo>
                      <a:lnTo>
                        <a:pt x="145" y="104"/>
                      </a:lnTo>
                      <a:lnTo>
                        <a:pt x="166" y="78"/>
                      </a:lnTo>
                      <a:lnTo>
                        <a:pt x="176" y="34"/>
                      </a:lnTo>
                      <a:lnTo>
                        <a:pt x="176" y="7"/>
                      </a:lnTo>
                      <a:lnTo>
                        <a:pt x="174" y="0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8" name=""/>
              <p:cNvSpPr/>
              <p:nvPr/>
            </p:nvSpPr>
            <p:spPr>
              <a:xfrm>
                <a:off x="6431040" y="3336840"/>
                <a:ext cx="550800" cy="409680"/>
              </a:xfrm>
              <a:custGeom>
                <a:avLst/>
                <a:gdLst/>
                <a:ahLst/>
                <a:rect l="l" t="t" r="r" b="b"/>
                <a:pathLst>
                  <a:path w="693" h="515">
                    <a:moveTo>
                      <a:pt x="245" y="21"/>
                    </a:moveTo>
                    <a:lnTo>
                      <a:pt x="305" y="0"/>
                    </a:lnTo>
                    <a:lnTo>
                      <a:pt x="337" y="23"/>
                    </a:lnTo>
                    <a:lnTo>
                      <a:pt x="337" y="78"/>
                    </a:lnTo>
                    <a:lnTo>
                      <a:pt x="284" y="138"/>
                    </a:lnTo>
                    <a:lnTo>
                      <a:pt x="194" y="170"/>
                    </a:lnTo>
                    <a:lnTo>
                      <a:pt x="124" y="227"/>
                    </a:lnTo>
                    <a:lnTo>
                      <a:pt x="79" y="295"/>
                    </a:lnTo>
                    <a:lnTo>
                      <a:pt x="55" y="350"/>
                    </a:lnTo>
                    <a:lnTo>
                      <a:pt x="55" y="397"/>
                    </a:lnTo>
                    <a:lnTo>
                      <a:pt x="84" y="447"/>
                    </a:lnTo>
                    <a:lnTo>
                      <a:pt x="155" y="470"/>
                    </a:lnTo>
                    <a:lnTo>
                      <a:pt x="213" y="476"/>
                    </a:lnTo>
                    <a:lnTo>
                      <a:pt x="300" y="470"/>
                    </a:lnTo>
                    <a:lnTo>
                      <a:pt x="410" y="439"/>
                    </a:lnTo>
                    <a:lnTo>
                      <a:pt x="480" y="374"/>
                    </a:lnTo>
                    <a:lnTo>
                      <a:pt x="525" y="321"/>
                    </a:lnTo>
                    <a:lnTo>
                      <a:pt x="512" y="272"/>
                    </a:lnTo>
                    <a:lnTo>
                      <a:pt x="517" y="240"/>
                    </a:lnTo>
                    <a:lnTo>
                      <a:pt x="564" y="259"/>
                    </a:lnTo>
                    <a:lnTo>
                      <a:pt x="614" y="259"/>
                    </a:lnTo>
                    <a:lnTo>
                      <a:pt x="651" y="227"/>
                    </a:lnTo>
                    <a:lnTo>
                      <a:pt x="675" y="204"/>
                    </a:lnTo>
                    <a:lnTo>
                      <a:pt x="691" y="209"/>
                    </a:lnTo>
                    <a:lnTo>
                      <a:pt x="693" y="225"/>
                    </a:lnTo>
                    <a:lnTo>
                      <a:pt x="678" y="272"/>
                    </a:lnTo>
                    <a:lnTo>
                      <a:pt x="678" y="314"/>
                    </a:lnTo>
                    <a:lnTo>
                      <a:pt x="658" y="345"/>
                    </a:lnTo>
                    <a:lnTo>
                      <a:pt x="614" y="368"/>
                    </a:lnTo>
                    <a:lnTo>
                      <a:pt x="575" y="368"/>
                    </a:lnTo>
                    <a:lnTo>
                      <a:pt x="533" y="374"/>
                    </a:lnTo>
                    <a:lnTo>
                      <a:pt x="449" y="444"/>
                    </a:lnTo>
                    <a:lnTo>
                      <a:pt x="386" y="483"/>
                    </a:lnTo>
                    <a:lnTo>
                      <a:pt x="289" y="510"/>
                    </a:lnTo>
                    <a:lnTo>
                      <a:pt x="186" y="515"/>
                    </a:lnTo>
                    <a:lnTo>
                      <a:pt x="110" y="499"/>
                    </a:lnTo>
                    <a:lnTo>
                      <a:pt x="53" y="478"/>
                    </a:lnTo>
                    <a:lnTo>
                      <a:pt x="14" y="436"/>
                    </a:lnTo>
                    <a:lnTo>
                      <a:pt x="0" y="389"/>
                    </a:lnTo>
                    <a:lnTo>
                      <a:pt x="0" y="319"/>
                    </a:lnTo>
                    <a:lnTo>
                      <a:pt x="24" y="272"/>
                    </a:lnTo>
                    <a:lnTo>
                      <a:pt x="53" y="225"/>
                    </a:lnTo>
                    <a:lnTo>
                      <a:pt x="92" y="172"/>
                    </a:lnTo>
                    <a:lnTo>
                      <a:pt x="150" y="131"/>
                    </a:lnTo>
                    <a:lnTo>
                      <a:pt x="186" y="86"/>
                    </a:lnTo>
                    <a:lnTo>
                      <a:pt x="213" y="47"/>
                    </a:lnTo>
                    <a:lnTo>
                      <a:pt x="24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30920" y="3849480"/>
                <a:ext cx="247680" cy="585720"/>
              </a:xfrm>
              <a:custGeom>
                <a:avLst/>
                <a:gdLst/>
                <a:ahLst/>
                <a:rect l="l" t="t" r="r" b="b"/>
                <a:pathLst>
                  <a:path w="313" h="737">
                    <a:moveTo>
                      <a:pt x="24" y="0"/>
                    </a:moveTo>
                    <a:lnTo>
                      <a:pt x="79" y="32"/>
                    </a:lnTo>
                    <a:lnTo>
                      <a:pt x="134" y="123"/>
                    </a:lnTo>
                    <a:lnTo>
                      <a:pt x="171" y="186"/>
                    </a:lnTo>
                    <a:lnTo>
                      <a:pt x="197" y="260"/>
                    </a:lnTo>
                    <a:lnTo>
                      <a:pt x="226" y="330"/>
                    </a:lnTo>
                    <a:lnTo>
                      <a:pt x="249" y="414"/>
                    </a:lnTo>
                    <a:lnTo>
                      <a:pt x="249" y="472"/>
                    </a:lnTo>
                    <a:lnTo>
                      <a:pt x="213" y="520"/>
                    </a:lnTo>
                    <a:lnTo>
                      <a:pt x="189" y="567"/>
                    </a:lnTo>
                    <a:lnTo>
                      <a:pt x="147" y="604"/>
                    </a:lnTo>
                    <a:lnTo>
                      <a:pt x="131" y="638"/>
                    </a:lnTo>
                    <a:lnTo>
                      <a:pt x="150" y="659"/>
                    </a:lnTo>
                    <a:lnTo>
                      <a:pt x="179" y="661"/>
                    </a:lnTo>
                    <a:lnTo>
                      <a:pt x="244" y="669"/>
                    </a:lnTo>
                    <a:lnTo>
                      <a:pt x="289" y="690"/>
                    </a:lnTo>
                    <a:lnTo>
                      <a:pt x="313" y="708"/>
                    </a:lnTo>
                    <a:lnTo>
                      <a:pt x="298" y="732"/>
                    </a:lnTo>
                    <a:lnTo>
                      <a:pt x="257" y="737"/>
                    </a:lnTo>
                    <a:lnTo>
                      <a:pt x="205" y="716"/>
                    </a:lnTo>
                    <a:lnTo>
                      <a:pt x="173" y="698"/>
                    </a:lnTo>
                    <a:lnTo>
                      <a:pt x="108" y="682"/>
                    </a:lnTo>
                    <a:lnTo>
                      <a:pt x="92" y="677"/>
                    </a:lnTo>
                    <a:lnTo>
                      <a:pt x="84" y="653"/>
                    </a:lnTo>
                    <a:lnTo>
                      <a:pt x="95" y="619"/>
                    </a:lnTo>
                    <a:lnTo>
                      <a:pt x="147" y="559"/>
                    </a:lnTo>
                    <a:lnTo>
                      <a:pt x="173" y="520"/>
                    </a:lnTo>
                    <a:lnTo>
                      <a:pt x="205" y="446"/>
                    </a:lnTo>
                    <a:lnTo>
                      <a:pt x="213" y="409"/>
                    </a:lnTo>
                    <a:lnTo>
                      <a:pt x="181" y="315"/>
                    </a:lnTo>
                    <a:lnTo>
                      <a:pt x="124" y="218"/>
                    </a:lnTo>
                    <a:lnTo>
                      <a:pt x="68" y="155"/>
                    </a:lnTo>
                    <a:lnTo>
                      <a:pt x="40" y="108"/>
                    </a:lnTo>
                    <a:lnTo>
                      <a:pt x="8" y="79"/>
                    </a:lnTo>
                    <a:lnTo>
                      <a:pt x="0" y="3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472080" y="3848040"/>
                <a:ext cx="223920" cy="544320"/>
              </a:xfrm>
              <a:custGeom>
                <a:avLst/>
                <a:gdLst/>
                <a:ahLst/>
                <a:rect l="l" t="t" r="r" b="b"/>
                <a:pathLst>
                  <a:path w="283" h="687">
                    <a:moveTo>
                      <a:pt x="157" y="65"/>
                    </a:moveTo>
                    <a:lnTo>
                      <a:pt x="215" y="8"/>
                    </a:lnTo>
                    <a:lnTo>
                      <a:pt x="278" y="0"/>
                    </a:lnTo>
                    <a:lnTo>
                      <a:pt x="283" y="50"/>
                    </a:lnTo>
                    <a:lnTo>
                      <a:pt x="246" y="86"/>
                    </a:lnTo>
                    <a:lnTo>
                      <a:pt x="192" y="113"/>
                    </a:lnTo>
                    <a:lnTo>
                      <a:pt x="149" y="160"/>
                    </a:lnTo>
                    <a:lnTo>
                      <a:pt x="141" y="223"/>
                    </a:lnTo>
                    <a:lnTo>
                      <a:pt x="149" y="314"/>
                    </a:lnTo>
                    <a:lnTo>
                      <a:pt x="172" y="474"/>
                    </a:lnTo>
                    <a:lnTo>
                      <a:pt x="199" y="574"/>
                    </a:lnTo>
                    <a:lnTo>
                      <a:pt x="228" y="645"/>
                    </a:lnTo>
                    <a:lnTo>
                      <a:pt x="223" y="679"/>
                    </a:lnTo>
                    <a:lnTo>
                      <a:pt x="192" y="684"/>
                    </a:lnTo>
                    <a:lnTo>
                      <a:pt x="136" y="669"/>
                    </a:lnTo>
                    <a:lnTo>
                      <a:pt x="73" y="669"/>
                    </a:lnTo>
                    <a:lnTo>
                      <a:pt x="39" y="687"/>
                    </a:lnTo>
                    <a:lnTo>
                      <a:pt x="8" y="679"/>
                    </a:lnTo>
                    <a:lnTo>
                      <a:pt x="0" y="640"/>
                    </a:lnTo>
                    <a:lnTo>
                      <a:pt x="31" y="632"/>
                    </a:lnTo>
                    <a:lnTo>
                      <a:pt x="94" y="632"/>
                    </a:lnTo>
                    <a:lnTo>
                      <a:pt x="189" y="653"/>
                    </a:lnTo>
                    <a:lnTo>
                      <a:pt x="192" y="645"/>
                    </a:lnTo>
                    <a:lnTo>
                      <a:pt x="184" y="614"/>
                    </a:lnTo>
                    <a:lnTo>
                      <a:pt x="149" y="495"/>
                    </a:lnTo>
                    <a:lnTo>
                      <a:pt x="133" y="401"/>
                    </a:lnTo>
                    <a:lnTo>
                      <a:pt x="110" y="285"/>
                    </a:lnTo>
                    <a:lnTo>
                      <a:pt x="110" y="204"/>
                    </a:lnTo>
                    <a:lnTo>
                      <a:pt x="112" y="141"/>
                    </a:lnTo>
                    <a:lnTo>
                      <a:pt x="125" y="97"/>
                    </a:lnTo>
                    <a:lnTo>
                      <a:pt x="15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692760" y="3035160"/>
                <a:ext cx="265320" cy="291960"/>
              </a:xfrm>
              <a:custGeom>
                <a:avLst/>
                <a:gdLst/>
                <a:ahLst/>
                <a:rect l="l" t="t" r="r" b="b"/>
                <a:pathLst>
                  <a:path w="332" h="370">
                    <a:moveTo>
                      <a:pt x="0" y="331"/>
                    </a:moveTo>
                    <a:lnTo>
                      <a:pt x="0" y="248"/>
                    </a:lnTo>
                    <a:lnTo>
                      <a:pt x="16" y="157"/>
                    </a:lnTo>
                    <a:lnTo>
                      <a:pt x="55" y="84"/>
                    </a:lnTo>
                    <a:lnTo>
                      <a:pt x="105" y="39"/>
                    </a:lnTo>
                    <a:lnTo>
                      <a:pt x="160" y="5"/>
                    </a:lnTo>
                    <a:lnTo>
                      <a:pt x="207" y="0"/>
                    </a:lnTo>
                    <a:lnTo>
                      <a:pt x="259" y="13"/>
                    </a:lnTo>
                    <a:lnTo>
                      <a:pt x="283" y="44"/>
                    </a:lnTo>
                    <a:lnTo>
                      <a:pt x="298" y="84"/>
                    </a:lnTo>
                    <a:lnTo>
                      <a:pt x="293" y="125"/>
                    </a:lnTo>
                    <a:lnTo>
                      <a:pt x="285" y="173"/>
                    </a:lnTo>
                    <a:lnTo>
                      <a:pt x="259" y="212"/>
                    </a:lnTo>
                    <a:lnTo>
                      <a:pt x="332" y="303"/>
                    </a:lnTo>
                    <a:lnTo>
                      <a:pt x="322" y="328"/>
                    </a:lnTo>
                    <a:lnTo>
                      <a:pt x="238" y="256"/>
                    </a:lnTo>
                    <a:lnTo>
                      <a:pt x="191" y="312"/>
                    </a:lnTo>
                    <a:lnTo>
                      <a:pt x="141" y="351"/>
                    </a:lnTo>
                    <a:lnTo>
                      <a:pt x="89" y="370"/>
                    </a:lnTo>
                    <a:lnTo>
                      <a:pt x="47" y="370"/>
                    </a:lnTo>
                    <a:lnTo>
                      <a:pt x="16" y="354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8185320" y="3035160"/>
              <a:ext cx="728640" cy="1460520"/>
              <a:chOff x="8185320" y="3035160"/>
              <a:chExt cx="728640" cy="1460520"/>
            </a:xfrm>
          </p:grpSpPr>
          <p:sp>
            <p:nvSpPr>
              <p:cNvPr id="1873" name=""/>
              <p:cNvSpPr/>
              <p:nvPr/>
            </p:nvSpPr>
            <p:spPr>
              <a:xfrm>
                <a:off x="8548560" y="3362040"/>
                <a:ext cx="239760" cy="608040"/>
              </a:xfrm>
              <a:custGeom>
                <a:avLst/>
                <a:gdLst/>
                <a:ahLst/>
                <a:rect l="l" t="t" r="r" b="b"/>
                <a:pathLst>
                  <a:path w="302" h="765">
                    <a:moveTo>
                      <a:pt x="199" y="74"/>
                    </a:moveTo>
                    <a:lnTo>
                      <a:pt x="144" y="19"/>
                    </a:lnTo>
                    <a:lnTo>
                      <a:pt x="78" y="0"/>
                    </a:lnTo>
                    <a:lnTo>
                      <a:pt x="31" y="3"/>
                    </a:lnTo>
                    <a:lnTo>
                      <a:pt x="23" y="49"/>
                    </a:lnTo>
                    <a:lnTo>
                      <a:pt x="26" y="109"/>
                    </a:lnTo>
                    <a:lnTo>
                      <a:pt x="78" y="180"/>
                    </a:lnTo>
                    <a:lnTo>
                      <a:pt x="110" y="287"/>
                    </a:lnTo>
                    <a:lnTo>
                      <a:pt x="112" y="393"/>
                    </a:lnTo>
                    <a:lnTo>
                      <a:pt x="89" y="491"/>
                    </a:lnTo>
                    <a:lnTo>
                      <a:pt x="57" y="582"/>
                    </a:lnTo>
                    <a:lnTo>
                      <a:pt x="0" y="659"/>
                    </a:lnTo>
                    <a:lnTo>
                      <a:pt x="0" y="683"/>
                    </a:lnTo>
                    <a:lnTo>
                      <a:pt x="8" y="738"/>
                    </a:lnTo>
                    <a:lnTo>
                      <a:pt x="50" y="762"/>
                    </a:lnTo>
                    <a:lnTo>
                      <a:pt x="97" y="765"/>
                    </a:lnTo>
                    <a:lnTo>
                      <a:pt x="175" y="746"/>
                    </a:lnTo>
                    <a:lnTo>
                      <a:pt x="235" y="683"/>
                    </a:lnTo>
                    <a:lnTo>
                      <a:pt x="268" y="574"/>
                    </a:lnTo>
                    <a:lnTo>
                      <a:pt x="291" y="502"/>
                    </a:lnTo>
                    <a:lnTo>
                      <a:pt x="302" y="409"/>
                    </a:lnTo>
                    <a:lnTo>
                      <a:pt x="294" y="287"/>
                    </a:lnTo>
                    <a:lnTo>
                      <a:pt x="268" y="183"/>
                    </a:lnTo>
                    <a:lnTo>
                      <a:pt x="235" y="115"/>
                    </a:lnTo>
                    <a:lnTo>
                      <a:pt x="19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8240760" y="3355920"/>
                <a:ext cx="380880" cy="419040"/>
              </a:xfrm>
              <a:custGeom>
                <a:avLst/>
                <a:gdLst/>
                <a:ahLst/>
                <a:rect l="l" t="t" r="r" b="b"/>
                <a:pathLst>
                  <a:path w="480" h="527">
                    <a:moveTo>
                      <a:pt x="480" y="38"/>
                    </a:moveTo>
                    <a:lnTo>
                      <a:pt x="464" y="0"/>
                    </a:lnTo>
                    <a:lnTo>
                      <a:pt x="433" y="0"/>
                    </a:lnTo>
                    <a:lnTo>
                      <a:pt x="393" y="41"/>
                    </a:lnTo>
                    <a:lnTo>
                      <a:pt x="367" y="140"/>
                    </a:lnTo>
                    <a:lnTo>
                      <a:pt x="346" y="255"/>
                    </a:lnTo>
                    <a:lnTo>
                      <a:pt x="331" y="375"/>
                    </a:lnTo>
                    <a:lnTo>
                      <a:pt x="281" y="466"/>
                    </a:lnTo>
                    <a:lnTo>
                      <a:pt x="281" y="468"/>
                    </a:lnTo>
                    <a:lnTo>
                      <a:pt x="281" y="485"/>
                    </a:lnTo>
                    <a:lnTo>
                      <a:pt x="213" y="474"/>
                    </a:lnTo>
                    <a:lnTo>
                      <a:pt x="141" y="427"/>
                    </a:lnTo>
                    <a:lnTo>
                      <a:pt x="110" y="384"/>
                    </a:lnTo>
                    <a:lnTo>
                      <a:pt x="55" y="263"/>
                    </a:lnTo>
                    <a:lnTo>
                      <a:pt x="55" y="219"/>
                    </a:lnTo>
                    <a:lnTo>
                      <a:pt x="76" y="178"/>
                    </a:lnTo>
                    <a:lnTo>
                      <a:pt x="99" y="121"/>
                    </a:lnTo>
                    <a:lnTo>
                      <a:pt x="107" y="99"/>
                    </a:lnTo>
                    <a:lnTo>
                      <a:pt x="78" y="88"/>
                    </a:lnTo>
                    <a:lnTo>
                      <a:pt x="44" y="90"/>
                    </a:lnTo>
                    <a:lnTo>
                      <a:pt x="23" y="112"/>
                    </a:lnTo>
                    <a:lnTo>
                      <a:pt x="0" y="162"/>
                    </a:lnTo>
                    <a:lnTo>
                      <a:pt x="13" y="252"/>
                    </a:lnTo>
                    <a:lnTo>
                      <a:pt x="23" y="301"/>
                    </a:lnTo>
                    <a:lnTo>
                      <a:pt x="76" y="403"/>
                    </a:lnTo>
                    <a:lnTo>
                      <a:pt x="123" y="477"/>
                    </a:lnTo>
                    <a:lnTo>
                      <a:pt x="210" y="510"/>
                    </a:lnTo>
                    <a:lnTo>
                      <a:pt x="281" y="527"/>
                    </a:lnTo>
                    <a:lnTo>
                      <a:pt x="336" y="499"/>
                    </a:lnTo>
                    <a:lnTo>
                      <a:pt x="362" y="403"/>
                    </a:lnTo>
                    <a:lnTo>
                      <a:pt x="391" y="285"/>
                    </a:lnTo>
                    <a:lnTo>
                      <a:pt x="414" y="197"/>
                    </a:lnTo>
                    <a:lnTo>
                      <a:pt x="446" y="148"/>
                    </a:lnTo>
                    <a:lnTo>
                      <a:pt x="477" y="99"/>
                    </a:lnTo>
                    <a:lnTo>
                      <a:pt x="48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5" name=""/>
              <p:cNvGrpSpPr/>
              <p:nvPr/>
            </p:nvGrpSpPr>
            <p:grpSpPr>
              <a:xfrm>
                <a:off x="8185320" y="3357360"/>
                <a:ext cx="349200" cy="363600"/>
                <a:chOff x="8185320" y="3357360"/>
                <a:chExt cx="349200" cy="363600"/>
              </a:xfrm>
            </p:grpSpPr>
            <p:sp>
              <p:nvSpPr>
                <p:cNvPr id="1876" name=""/>
                <p:cNvSpPr/>
                <p:nvPr/>
              </p:nvSpPr>
              <p:spPr>
                <a:xfrm>
                  <a:off x="8185320" y="3357360"/>
                  <a:ext cx="349200" cy="3636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34" y="162"/>
                      </a:moveTo>
                      <a:lnTo>
                        <a:pt x="434" y="113"/>
                      </a:lnTo>
                      <a:lnTo>
                        <a:pt x="416" y="72"/>
                      </a:lnTo>
                      <a:lnTo>
                        <a:pt x="385" y="39"/>
                      </a:lnTo>
                      <a:lnTo>
                        <a:pt x="338" y="14"/>
                      </a:lnTo>
                      <a:lnTo>
                        <a:pt x="306" y="0"/>
                      </a:lnTo>
                      <a:lnTo>
                        <a:pt x="254" y="6"/>
                      </a:lnTo>
                      <a:lnTo>
                        <a:pt x="7" y="255"/>
                      </a:lnTo>
                      <a:lnTo>
                        <a:pt x="0" y="305"/>
                      </a:lnTo>
                      <a:lnTo>
                        <a:pt x="7" y="346"/>
                      </a:lnTo>
                      <a:lnTo>
                        <a:pt x="39" y="401"/>
                      </a:lnTo>
                      <a:lnTo>
                        <a:pt x="94" y="442"/>
                      </a:lnTo>
                      <a:lnTo>
                        <a:pt x="151" y="458"/>
                      </a:lnTo>
                      <a:lnTo>
                        <a:pt x="190" y="458"/>
                      </a:lnTo>
                      <a:lnTo>
                        <a:pt x="434" y="187"/>
                      </a:lnTo>
                      <a:lnTo>
                        <a:pt x="440" y="137"/>
                      </a:lnTo>
                      <a:lnTo>
                        <a:pt x="440" y="146"/>
                      </a:lnTo>
                      <a:lnTo>
                        <a:pt x="434" y="16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8185320" y="3357360"/>
                  <a:ext cx="349200" cy="363600"/>
                </a:xfrm>
                <a:custGeom>
                  <a:avLst/>
                  <a:gdLst/>
                  <a:ahLst/>
                  <a:rect l="l" t="t" r="r" b="b"/>
                  <a:pathLst>
                    <a:path w="440" h="458">
                      <a:moveTo>
                        <a:pt x="434" y="162"/>
                      </a:moveTo>
                      <a:lnTo>
                        <a:pt x="434" y="113"/>
                      </a:lnTo>
                      <a:lnTo>
                        <a:pt x="416" y="72"/>
                      </a:lnTo>
                      <a:lnTo>
                        <a:pt x="385" y="39"/>
                      </a:lnTo>
                      <a:lnTo>
                        <a:pt x="338" y="14"/>
                      </a:lnTo>
                      <a:lnTo>
                        <a:pt x="306" y="0"/>
                      </a:lnTo>
                      <a:lnTo>
                        <a:pt x="254" y="6"/>
                      </a:lnTo>
                      <a:lnTo>
                        <a:pt x="7" y="255"/>
                      </a:lnTo>
                      <a:lnTo>
                        <a:pt x="0" y="305"/>
                      </a:lnTo>
                      <a:lnTo>
                        <a:pt x="7" y="346"/>
                      </a:lnTo>
                      <a:lnTo>
                        <a:pt x="39" y="401"/>
                      </a:lnTo>
                      <a:lnTo>
                        <a:pt x="94" y="442"/>
                      </a:lnTo>
                      <a:lnTo>
                        <a:pt x="151" y="458"/>
                      </a:lnTo>
                      <a:lnTo>
                        <a:pt x="190" y="458"/>
                      </a:lnTo>
                      <a:lnTo>
                        <a:pt x="434" y="187"/>
                      </a:lnTo>
                      <a:lnTo>
                        <a:pt x="440" y="137"/>
                      </a:lnTo>
                      <a:lnTo>
                        <a:pt x="440" y="146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8393040" y="3368520"/>
                  <a:ext cx="138240" cy="128520"/>
                </a:xfrm>
                <a:custGeom>
                  <a:avLst/>
                  <a:gdLst/>
                  <a:ahLst/>
                  <a:rect l="l" t="t" r="r" b="b"/>
                  <a:pathLst>
                    <a:path w="175" h="162">
                      <a:moveTo>
                        <a:pt x="175" y="154"/>
                      </a:moveTo>
                      <a:lnTo>
                        <a:pt x="128" y="162"/>
                      </a:lnTo>
                      <a:lnTo>
                        <a:pt x="89" y="148"/>
                      </a:lnTo>
                      <a:lnTo>
                        <a:pt x="62" y="132"/>
                      </a:lnTo>
                      <a:lnTo>
                        <a:pt x="31" y="108"/>
                      </a:lnTo>
                      <a:lnTo>
                        <a:pt x="10" y="81"/>
                      </a:lnTo>
                      <a:lnTo>
                        <a:pt x="0" y="35"/>
                      </a:lnTo>
                      <a:lnTo>
                        <a:pt x="0" y="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9" name=""/>
              <p:cNvSpPr/>
              <p:nvPr/>
            </p:nvSpPr>
            <p:spPr>
              <a:xfrm>
                <a:off x="8364600" y="3348000"/>
                <a:ext cx="549360" cy="430200"/>
              </a:xfrm>
              <a:custGeom>
                <a:avLst/>
                <a:gdLst/>
                <a:ahLst/>
                <a:rect l="l" t="t" r="r" b="b"/>
                <a:pathLst>
                  <a:path w="693" h="541">
                    <a:moveTo>
                      <a:pt x="448" y="22"/>
                    </a:moveTo>
                    <a:lnTo>
                      <a:pt x="388" y="0"/>
                    </a:lnTo>
                    <a:lnTo>
                      <a:pt x="356" y="25"/>
                    </a:lnTo>
                    <a:lnTo>
                      <a:pt x="356" y="83"/>
                    </a:lnTo>
                    <a:lnTo>
                      <a:pt x="409" y="146"/>
                    </a:lnTo>
                    <a:lnTo>
                      <a:pt x="499" y="179"/>
                    </a:lnTo>
                    <a:lnTo>
                      <a:pt x="569" y="239"/>
                    </a:lnTo>
                    <a:lnTo>
                      <a:pt x="614" y="310"/>
                    </a:lnTo>
                    <a:lnTo>
                      <a:pt x="638" y="368"/>
                    </a:lnTo>
                    <a:lnTo>
                      <a:pt x="638" y="417"/>
                    </a:lnTo>
                    <a:lnTo>
                      <a:pt x="609" y="469"/>
                    </a:lnTo>
                    <a:lnTo>
                      <a:pt x="538" y="494"/>
                    </a:lnTo>
                    <a:lnTo>
                      <a:pt x="480" y="499"/>
                    </a:lnTo>
                    <a:lnTo>
                      <a:pt x="393" y="494"/>
                    </a:lnTo>
                    <a:lnTo>
                      <a:pt x="283" y="461"/>
                    </a:lnTo>
                    <a:lnTo>
                      <a:pt x="213" y="392"/>
                    </a:lnTo>
                    <a:lnTo>
                      <a:pt x="168" y="338"/>
                    </a:lnTo>
                    <a:lnTo>
                      <a:pt x="181" y="285"/>
                    </a:lnTo>
                    <a:lnTo>
                      <a:pt x="176" y="253"/>
                    </a:lnTo>
                    <a:lnTo>
                      <a:pt x="129" y="272"/>
                    </a:lnTo>
                    <a:lnTo>
                      <a:pt x="79" y="272"/>
                    </a:lnTo>
                    <a:lnTo>
                      <a:pt x="42" y="239"/>
                    </a:lnTo>
                    <a:lnTo>
                      <a:pt x="18" y="214"/>
                    </a:lnTo>
                    <a:lnTo>
                      <a:pt x="2" y="220"/>
                    </a:lnTo>
                    <a:lnTo>
                      <a:pt x="0" y="236"/>
                    </a:lnTo>
                    <a:lnTo>
                      <a:pt x="15" y="285"/>
                    </a:lnTo>
                    <a:lnTo>
                      <a:pt x="15" y="329"/>
                    </a:lnTo>
                    <a:lnTo>
                      <a:pt x="35" y="362"/>
                    </a:lnTo>
                    <a:lnTo>
                      <a:pt x="79" y="387"/>
                    </a:lnTo>
                    <a:lnTo>
                      <a:pt x="118" y="387"/>
                    </a:lnTo>
                    <a:lnTo>
                      <a:pt x="160" y="392"/>
                    </a:lnTo>
                    <a:lnTo>
                      <a:pt x="244" y="466"/>
                    </a:lnTo>
                    <a:lnTo>
                      <a:pt x="307" y="507"/>
                    </a:lnTo>
                    <a:lnTo>
                      <a:pt x="404" y="536"/>
                    </a:lnTo>
                    <a:lnTo>
                      <a:pt x="507" y="541"/>
                    </a:lnTo>
                    <a:lnTo>
                      <a:pt x="583" y="525"/>
                    </a:lnTo>
                    <a:lnTo>
                      <a:pt x="640" y="502"/>
                    </a:lnTo>
                    <a:lnTo>
                      <a:pt x="679" y="458"/>
                    </a:lnTo>
                    <a:lnTo>
                      <a:pt x="693" y="409"/>
                    </a:lnTo>
                    <a:lnTo>
                      <a:pt x="693" y="335"/>
                    </a:lnTo>
                    <a:lnTo>
                      <a:pt x="669" y="285"/>
                    </a:lnTo>
                    <a:lnTo>
                      <a:pt x="640" y="236"/>
                    </a:lnTo>
                    <a:lnTo>
                      <a:pt x="601" y="181"/>
                    </a:lnTo>
                    <a:lnTo>
                      <a:pt x="543" y="137"/>
                    </a:lnTo>
                    <a:lnTo>
                      <a:pt x="507" y="91"/>
                    </a:lnTo>
                    <a:lnTo>
                      <a:pt x="480" y="50"/>
                    </a:lnTo>
                    <a:lnTo>
                      <a:pt x="44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8369280" y="3886200"/>
                <a:ext cx="247680" cy="609480"/>
              </a:xfrm>
              <a:custGeom>
                <a:avLst/>
                <a:gdLst/>
                <a:ahLst/>
                <a:rect l="l" t="t" r="r" b="b"/>
                <a:pathLst>
                  <a:path w="312" h="768">
                    <a:moveTo>
                      <a:pt x="288" y="0"/>
                    </a:moveTo>
                    <a:lnTo>
                      <a:pt x="233" y="33"/>
                    </a:lnTo>
                    <a:lnTo>
                      <a:pt x="179" y="128"/>
                    </a:lnTo>
                    <a:lnTo>
                      <a:pt x="142" y="194"/>
                    </a:lnTo>
                    <a:lnTo>
                      <a:pt x="116" y="270"/>
                    </a:lnTo>
                    <a:lnTo>
                      <a:pt x="87" y="344"/>
                    </a:lnTo>
                    <a:lnTo>
                      <a:pt x="64" y="431"/>
                    </a:lnTo>
                    <a:lnTo>
                      <a:pt x="64" y="492"/>
                    </a:lnTo>
                    <a:lnTo>
                      <a:pt x="100" y="541"/>
                    </a:lnTo>
                    <a:lnTo>
                      <a:pt x="124" y="590"/>
                    </a:lnTo>
                    <a:lnTo>
                      <a:pt x="165" y="629"/>
                    </a:lnTo>
                    <a:lnTo>
                      <a:pt x="181" y="664"/>
                    </a:lnTo>
                    <a:lnTo>
                      <a:pt x="163" y="686"/>
                    </a:lnTo>
                    <a:lnTo>
                      <a:pt x="134" y="689"/>
                    </a:lnTo>
                    <a:lnTo>
                      <a:pt x="69" y="697"/>
                    </a:lnTo>
                    <a:lnTo>
                      <a:pt x="24" y="719"/>
                    </a:lnTo>
                    <a:lnTo>
                      <a:pt x="0" y="738"/>
                    </a:lnTo>
                    <a:lnTo>
                      <a:pt x="15" y="762"/>
                    </a:lnTo>
                    <a:lnTo>
                      <a:pt x="56" y="768"/>
                    </a:lnTo>
                    <a:lnTo>
                      <a:pt x="108" y="746"/>
                    </a:lnTo>
                    <a:lnTo>
                      <a:pt x="139" y="727"/>
                    </a:lnTo>
                    <a:lnTo>
                      <a:pt x="205" y="711"/>
                    </a:lnTo>
                    <a:lnTo>
                      <a:pt x="220" y="705"/>
                    </a:lnTo>
                    <a:lnTo>
                      <a:pt x="228" y="681"/>
                    </a:lnTo>
                    <a:lnTo>
                      <a:pt x="218" y="645"/>
                    </a:lnTo>
                    <a:lnTo>
                      <a:pt x="165" y="582"/>
                    </a:lnTo>
                    <a:lnTo>
                      <a:pt x="139" y="541"/>
                    </a:lnTo>
                    <a:lnTo>
                      <a:pt x="108" y="465"/>
                    </a:lnTo>
                    <a:lnTo>
                      <a:pt x="100" y="426"/>
                    </a:lnTo>
                    <a:lnTo>
                      <a:pt x="131" y="327"/>
                    </a:lnTo>
                    <a:lnTo>
                      <a:pt x="189" y="226"/>
                    </a:lnTo>
                    <a:lnTo>
                      <a:pt x="244" y="161"/>
                    </a:lnTo>
                    <a:lnTo>
                      <a:pt x="273" y="112"/>
                    </a:lnTo>
                    <a:lnTo>
                      <a:pt x="304" y="82"/>
                    </a:lnTo>
                    <a:lnTo>
                      <a:pt x="312" y="3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650440" y="3881160"/>
                <a:ext cx="223560" cy="570240"/>
              </a:xfrm>
              <a:custGeom>
                <a:avLst/>
                <a:gdLst/>
                <a:ahLst/>
                <a:rect l="l" t="t" r="r" b="b"/>
                <a:pathLst>
                  <a:path w="284" h="717">
                    <a:moveTo>
                      <a:pt x="126" y="69"/>
                    </a:moveTo>
                    <a:lnTo>
                      <a:pt x="68" y="9"/>
                    </a:lnTo>
                    <a:lnTo>
                      <a:pt x="5" y="0"/>
                    </a:lnTo>
                    <a:lnTo>
                      <a:pt x="0" y="52"/>
                    </a:lnTo>
                    <a:lnTo>
                      <a:pt x="36" y="91"/>
                    </a:lnTo>
                    <a:lnTo>
                      <a:pt x="91" y="118"/>
                    </a:lnTo>
                    <a:lnTo>
                      <a:pt x="134" y="167"/>
                    </a:lnTo>
                    <a:lnTo>
                      <a:pt x="142" y="232"/>
                    </a:lnTo>
                    <a:lnTo>
                      <a:pt x="134" y="328"/>
                    </a:lnTo>
                    <a:lnTo>
                      <a:pt x="110" y="495"/>
                    </a:lnTo>
                    <a:lnTo>
                      <a:pt x="83" y="599"/>
                    </a:lnTo>
                    <a:lnTo>
                      <a:pt x="55" y="673"/>
                    </a:lnTo>
                    <a:lnTo>
                      <a:pt x="60" y="708"/>
                    </a:lnTo>
                    <a:lnTo>
                      <a:pt x="91" y="714"/>
                    </a:lnTo>
                    <a:lnTo>
                      <a:pt x="147" y="697"/>
                    </a:lnTo>
                    <a:lnTo>
                      <a:pt x="210" y="697"/>
                    </a:lnTo>
                    <a:lnTo>
                      <a:pt x="244" y="717"/>
                    </a:lnTo>
                    <a:lnTo>
                      <a:pt x="276" y="708"/>
                    </a:lnTo>
                    <a:lnTo>
                      <a:pt x="284" y="667"/>
                    </a:lnTo>
                    <a:lnTo>
                      <a:pt x="252" y="659"/>
                    </a:lnTo>
                    <a:lnTo>
                      <a:pt x="189" y="659"/>
                    </a:lnTo>
                    <a:lnTo>
                      <a:pt x="94" y="681"/>
                    </a:lnTo>
                    <a:lnTo>
                      <a:pt x="91" y="673"/>
                    </a:lnTo>
                    <a:lnTo>
                      <a:pt x="99" y="640"/>
                    </a:lnTo>
                    <a:lnTo>
                      <a:pt x="134" y="517"/>
                    </a:lnTo>
                    <a:lnTo>
                      <a:pt x="150" y="418"/>
                    </a:lnTo>
                    <a:lnTo>
                      <a:pt x="173" y="298"/>
                    </a:lnTo>
                    <a:lnTo>
                      <a:pt x="173" y="213"/>
                    </a:lnTo>
                    <a:lnTo>
                      <a:pt x="171" y="148"/>
                    </a:lnTo>
                    <a:lnTo>
                      <a:pt x="158" y="101"/>
                    </a:lnTo>
                    <a:lnTo>
                      <a:pt x="126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389800" y="3035160"/>
                <a:ext cx="265320" cy="304920"/>
              </a:xfrm>
              <a:custGeom>
                <a:avLst/>
                <a:gdLst/>
                <a:ahLst/>
                <a:rect l="l" t="t" r="r" b="b"/>
                <a:pathLst>
                  <a:path w="333" h="386">
                    <a:moveTo>
                      <a:pt x="333" y="345"/>
                    </a:moveTo>
                    <a:lnTo>
                      <a:pt x="333" y="259"/>
                    </a:lnTo>
                    <a:lnTo>
                      <a:pt x="317" y="164"/>
                    </a:lnTo>
                    <a:lnTo>
                      <a:pt x="278" y="87"/>
                    </a:lnTo>
                    <a:lnTo>
                      <a:pt x="228" y="41"/>
                    </a:lnTo>
                    <a:lnTo>
                      <a:pt x="173" y="5"/>
                    </a:lnTo>
                    <a:lnTo>
                      <a:pt x="126" y="0"/>
                    </a:lnTo>
                    <a:lnTo>
                      <a:pt x="73" y="14"/>
                    </a:lnTo>
                    <a:lnTo>
                      <a:pt x="50" y="46"/>
                    </a:lnTo>
                    <a:lnTo>
                      <a:pt x="34" y="87"/>
                    </a:lnTo>
                    <a:lnTo>
                      <a:pt x="39" y="131"/>
                    </a:lnTo>
                    <a:lnTo>
                      <a:pt x="47" y="180"/>
                    </a:lnTo>
                    <a:lnTo>
                      <a:pt x="73" y="221"/>
                    </a:lnTo>
                    <a:lnTo>
                      <a:pt x="0" y="318"/>
                    </a:lnTo>
                    <a:lnTo>
                      <a:pt x="10" y="342"/>
                    </a:lnTo>
                    <a:lnTo>
                      <a:pt x="94" y="267"/>
                    </a:lnTo>
                    <a:lnTo>
                      <a:pt x="141" y="326"/>
                    </a:lnTo>
                    <a:lnTo>
                      <a:pt x="191" y="367"/>
                    </a:lnTo>
                    <a:lnTo>
                      <a:pt x="244" y="386"/>
                    </a:lnTo>
                    <a:lnTo>
                      <a:pt x="286" y="386"/>
                    </a:lnTo>
                    <a:lnTo>
                      <a:pt x="317" y="369"/>
                    </a:lnTo>
                    <a:lnTo>
                      <a:pt x="333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3" name=""/>
            <p:cNvSpPr/>
            <p:nvPr/>
          </p:nvSpPr>
          <p:spPr>
            <a:xfrm>
              <a:off x="6967800" y="2118960"/>
              <a:ext cx="1436760" cy="19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02" y="17585"/>
                  </a:moveTo>
                  <a:arcTo wR="10800" hR="10800" stAng="2335415" swAng="629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02" y="17585"/>
                  </a:moveTo>
                  <a:arcTo wR="10800" hR="10800" stAng="2335415" swAng="6297924"/>
                </a:path>
              </a:pathLst>
            </a:custGeom>
            <a:noFill/>
            <a:ln w="64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152280" y="4572000"/>
            <a:ext cx="8839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265680" indent="-26568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Apprentissage symbolique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 leitmotiv: 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représenter, apprendre et comparer les profils d'utilisation actuels pour améliorer l'utilisation fut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360" indent="-173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pprentissage au vol durant un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2360" indent="-1731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rier les résultats (relation ordre parti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6478560" y="5467320"/>
            <a:ext cx="2436840" cy="1237680"/>
            <a:chOff x="6478560" y="5467320"/>
            <a:chExt cx="2436840" cy="1237680"/>
          </a:xfrm>
        </p:grpSpPr>
        <p:grpSp>
          <p:nvGrpSpPr>
            <p:cNvPr id="1886" name=""/>
            <p:cNvGrpSpPr/>
            <p:nvPr/>
          </p:nvGrpSpPr>
          <p:grpSpPr>
            <a:xfrm>
              <a:off x="6478560" y="5892840"/>
              <a:ext cx="2436840" cy="812160"/>
              <a:chOff x="6478560" y="5892840"/>
              <a:chExt cx="2436840" cy="812160"/>
            </a:xfrm>
          </p:grpSpPr>
          <p:sp>
            <p:nvSpPr>
              <p:cNvPr id="1887" name=""/>
              <p:cNvSpPr/>
              <p:nvPr/>
            </p:nvSpPr>
            <p:spPr>
              <a:xfrm>
                <a:off x="6487920" y="5906880"/>
                <a:ext cx="2414520" cy="785520"/>
              </a:xfrm>
              <a:custGeom>
                <a:avLst/>
                <a:gdLst/>
                <a:ahLst/>
                <a:rect l="l" t="t" r="r" b="b"/>
                <a:pathLst>
                  <a:path w="3041" h="1112">
                    <a:moveTo>
                      <a:pt x="0" y="542"/>
                    </a:moveTo>
                    <a:lnTo>
                      <a:pt x="4" y="393"/>
                    </a:lnTo>
                    <a:lnTo>
                      <a:pt x="4" y="387"/>
                    </a:lnTo>
                    <a:lnTo>
                      <a:pt x="19" y="279"/>
                    </a:lnTo>
                    <a:lnTo>
                      <a:pt x="51" y="204"/>
                    </a:lnTo>
                    <a:lnTo>
                      <a:pt x="90" y="178"/>
                    </a:lnTo>
                    <a:lnTo>
                      <a:pt x="176" y="167"/>
                    </a:lnTo>
                    <a:lnTo>
                      <a:pt x="432" y="152"/>
                    </a:lnTo>
                    <a:lnTo>
                      <a:pt x="840" y="135"/>
                    </a:lnTo>
                    <a:lnTo>
                      <a:pt x="1130" y="126"/>
                    </a:lnTo>
                    <a:lnTo>
                      <a:pt x="1519" y="90"/>
                    </a:lnTo>
                    <a:lnTo>
                      <a:pt x="1895" y="56"/>
                    </a:lnTo>
                    <a:lnTo>
                      <a:pt x="2297" y="10"/>
                    </a:lnTo>
                    <a:lnTo>
                      <a:pt x="2510" y="0"/>
                    </a:lnTo>
                    <a:lnTo>
                      <a:pt x="2553" y="8"/>
                    </a:lnTo>
                    <a:lnTo>
                      <a:pt x="2725" y="64"/>
                    </a:lnTo>
                    <a:lnTo>
                      <a:pt x="2933" y="142"/>
                    </a:lnTo>
                    <a:lnTo>
                      <a:pt x="3026" y="197"/>
                    </a:lnTo>
                    <a:lnTo>
                      <a:pt x="3041" y="223"/>
                    </a:lnTo>
                    <a:lnTo>
                      <a:pt x="3039" y="281"/>
                    </a:lnTo>
                    <a:lnTo>
                      <a:pt x="3017" y="376"/>
                    </a:lnTo>
                    <a:lnTo>
                      <a:pt x="3011" y="456"/>
                    </a:lnTo>
                    <a:lnTo>
                      <a:pt x="3013" y="606"/>
                    </a:lnTo>
                    <a:lnTo>
                      <a:pt x="3013" y="613"/>
                    </a:lnTo>
                    <a:lnTo>
                      <a:pt x="3028" y="776"/>
                    </a:lnTo>
                    <a:lnTo>
                      <a:pt x="3017" y="800"/>
                    </a:lnTo>
                    <a:lnTo>
                      <a:pt x="3000" y="815"/>
                    </a:lnTo>
                    <a:lnTo>
                      <a:pt x="2905" y="823"/>
                    </a:lnTo>
                    <a:lnTo>
                      <a:pt x="2596" y="879"/>
                    </a:lnTo>
                    <a:lnTo>
                      <a:pt x="2364" y="935"/>
                    </a:lnTo>
                    <a:lnTo>
                      <a:pt x="2357" y="937"/>
                    </a:lnTo>
                    <a:lnTo>
                      <a:pt x="2123" y="991"/>
                    </a:lnTo>
                    <a:lnTo>
                      <a:pt x="1895" y="1013"/>
                    </a:lnTo>
                    <a:lnTo>
                      <a:pt x="1395" y="1043"/>
                    </a:lnTo>
                    <a:lnTo>
                      <a:pt x="973" y="1069"/>
                    </a:lnTo>
                    <a:lnTo>
                      <a:pt x="965" y="1075"/>
                    </a:lnTo>
                    <a:lnTo>
                      <a:pt x="795" y="1077"/>
                    </a:lnTo>
                    <a:lnTo>
                      <a:pt x="389" y="1112"/>
                    </a:lnTo>
                    <a:lnTo>
                      <a:pt x="352" y="1103"/>
                    </a:lnTo>
                    <a:lnTo>
                      <a:pt x="294" y="1060"/>
                    </a:lnTo>
                    <a:lnTo>
                      <a:pt x="256" y="1019"/>
                    </a:lnTo>
                    <a:lnTo>
                      <a:pt x="241" y="967"/>
                    </a:lnTo>
                    <a:lnTo>
                      <a:pt x="230" y="907"/>
                    </a:lnTo>
                    <a:lnTo>
                      <a:pt x="198" y="864"/>
                    </a:lnTo>
                    <a:lnTo>
                      <a:pt x="82" y="675"/>
                    </a:lnTo>
                    <a:lnTo>
                      <a:pt x="17" y="585"/>
                    </a:lnTo>
                    <a:lnTo>
                      <a:pt x="0" y="54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8" name=""/>
              <p:cNvGrpSpPr/>
              <p:nvPr/>
            </p:nvGrpSpPr>
            <p:grpSpPr>
              <a:xfrm>
                <a:off x="6478560" y="5892840"/>
                <a:ext cx="2436840" cy="812160"/>
                <a:chOff x="6478560" y="5892840"/>
                <a:chExt cx="2436840" cy="81216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6478560" y="5892840"/>
                  <a:ext cx="2436840" cy="679680"/>
                </a:xfrm>
                <a:custGeom>
                  <a:avLst/>
                  <a:gdLst/>
                  <a:ahLst/>
                  <a:rect l="l" t="t" r="r" b="b"/>
                  <a:pathLst>
                    <a:path w="3071" h="962">
                      <a:moveTo>
                        <a:pt x="1133" y="136"/>
                      </a:moveTo>
                      <a:lnTo>
                        <a:pt x="935" y="140"/>
                      </a:lnTo>
                      <a:lnTo>
                        <a:pt x="709" y="146"/>
                      </a:lnTo>
                      <a:lnTo>
                        <a:pt x="430" y="159"/>
                      </a:lnTo>
                      <a:lnTo>
                        <a:pt x="232" y="168"/>
                      </a:lnTo>
                      <a:lnTo>
                        <a:pt x="226" y="170"/>
                      </a:lnTo>
                      <a:lnTo>
                        <a:pt x="129" y="179"/>
                      </a:lnTo>
                      <a:lnTo>
                        <a:pt x="71" y="190"/>
                      </a:lnTo>
                      <a:lnTo>
                        <a:pt x="47" y="211"/>
                      </a:lnTo>
                      <a:lnTo>
                        <a:pt x="28" y="256"/>
                      </a:lnTo>
                      <a:lnTo>
                        <a:pt x="6" y="372"/>
                      </a:lnTo>
                      <a:lnTo>
                        <a:pt x="0" y="495"/>
                      </a:lnTo>
                      <a:lnTo>
                        <a:pt x="2" y="557"/>
                      </a:lnTo>
                      <a:lnTo>
                        <a:pt x="9" y="587"/>
                      </a:lnTo>
                      <a:lnTo>
                        <a:pt x="24" y="618"/>
                      </a:lnTo>
                      <a:lnTo>
                        <a:pt x="24" y="624"/>
                      </a:lnTo>
                      <a:lnTo>
                        <a:pt x="84" y="712"/>
                      </a:lnTo>
                      <a:lnTo>
                        <a:pt x="157" y="828"/>
                      </a:lnTo>
                      <a:lnTo>
                        <a:pt x="198" y="886"/>
                      </a:lnTo>
                      <a:lnTo>
                        <a:pt x="217" y="940"/>
                      </a:lnTo>
                      <a:lnTo>
                        <a:pt x="241" y="962"/>
                      </a:lnTo>
                      <a:lnTo>
                        <a:pt x="251" y="949"/>
                      </a:lnTo>
                      <a:lnTo>
                        <a:pt x="247" y="908"/>
                      </a:lnTo>
                      <a:lnTo>
                        <a:pt x="208" y="856"/>
                      </a:lnTo>
                      <a:lnTo>
                        <a:pt x="155" y="753"/>
                      </a:lnTo>
                      <a:lnTo>
                        <a:pt x="105" y="684"/>
                      </a:lnTo>
                      <a:lnTo>
                        <a:pt x="56" y="622"/>
                      </a:lnTo>
                      <a:lnTo>
                        <a:pt x="30" y="575"/>
                      </a:lnTo>
                      <a:lnTo>
                        <a:pt x="37" y="519"/>
                      </a:lnTo>
                      <a:lnTo>
                        <a:pt x="37" y="439"/>
                      </a:lnTo>
                      <a:lnTo>
                        <a:pt x="43" y="379"/>
                      </a:lnTo>
                      <a:lnTo>
                        <a:pt x="49" y="316"/>
                      </a:lnTo>
                      <a:lnTo>
                        <a:pt x="58" y="276"/>
                      </a:lnTo>
                      <a:lnTo>
                        <a:pt x="71" y="265"/>
                      </a:lnTo>
                      <a:lnTo>
                        <a:pt x="92" y="271"/>
                      </a:lnTo>
                      <a:lnTo>
                        <a:pt x="178" y="411"/>
                      </a:lnTo>
                      <a:lnTo>
                        <a:pt x="249" y="540"/>
                      </a:lnTo>
                      <a:lnTo>
                        <a:pt x="269" y="553"/>
                      </a:lnTo>
                      <a:lnTo>
                        <a:pt x="271" y="529"/>
                      </a:lnTo>
                      <a:lnTo>
                        <a:pt x="204" y="405"/>
                      </a:lnTo>
                      <a:lnTo>
                        <a:pt x="157" y="301"/>
                      </a:lnTo>
                      <a:lnTo>
                        <a:pt x="118" y="233"/>
                      </a:lnTo>
                      <a:lnTo>
                        <a:pt x="120" y="215"/>
                      </a:lnTo>
                      <a:lnTo>
                        <a:pt x="159" y="205"/>
                      </a:lnTo>
                      <a:lnTo>
                        <a:pt x="260" y="198"/>
                      </a:lnTo>
                      <a:lnTo>
                        <a:pt x="430" y="187"/>
                      </a:lnTo>
                      <a:lnTo>
                        <a:pt x="595" y="181"/>
                      </a:lnTo>
                      <a:lnTo>
                        <a:pt x="1072" y="164"/>
                      </a:lnTo>
                      <a:lnTo>
                        <a:pt x="1595" y="123"/>
                      </a:lnTo>
                      <a:lnTo>
                        <a:pt x="1827" y="101"/>
                      </a:lnTo>
                      <a:lnTo>
                        <a:pt x="2102" y="67"/>
                      </a:lnTo>
                      <a:lnTo>
                        <a:pt x="2433" y="37"/>
                      </a:lnTo>
                      <a:lnTo>
                        <a:pt x="2521" y="41"/>
                      </a:lnTo>
                      <a:lnTo>
                        <a:pt x="2568" y="48"/>
                      </a:lnTo>
                      <a:lnTo>
                        <a:pt x="2617" y="71"/>
                      </a:lnTo>
                      <a:lnTo>
                        <a:pt x="2802" y="127"/>
                      </a:lnTo>
                      <a:lnTo>
                        <a:pt x="2966" y="190"/>
                      </a:lnTo>
                      <a:lnTo>
                        <a:pt x="3019" y="224"/>
                      </a:lnTo>
                      <a:lnTo>
                        <a:pt x="3032" y="248"/>
                      </a:lnTo>
                      <a:lnTo>
                        <a:pt x="3032" y="284"/>
                      </a:lnTo>
                      <a:lnTo>
                        <a:pt x="3015" y="392"/>
                      </a:lnTo>
                      <a:lnTo>
                        <a:pt x="3011" y="504"/>
                      </a:lnTo>
                      <a:lnTo>
                        <a:pt x="3013" y="656"/>
                      </a:lnTo>
                      <a:lnTo>
                        <a:pt x="3015" y="747"/>
                      </a:lnTo>
                      <a:lnTo>
                        <a:pt x="3028" y="772"/>
                      </a:lnTo>
                      <a:lnTo>
                        <a:pt x="3043" y="772"/>
                      </a:lnTo>
                      <a:lnTo>
                        <a:pt x="3056" y="751"/>
                      </a:lnTo>
                      <a:lnTo>
                        <a:pt x="3054" y="682"/>
                      </a:lnTo>
                      <a:lnTo>
                        <a:pt x="3045" y="531"/>
                      </a:lnTo>
                      <a:lnTo>
                        <a:pt x="3045" y="525"/>
                      </a:lnTo>
                      <a:lnTo>
                        <a:pt x="3045" y="426"/>
                      </a:lnTo>
                      <a:lnTo>
                        <a:pt x="3058" y="327"/>
                      </a:lnTo>
                      <a:lnTo>
                        <a:pt x="3071" y="254"/>
                      </a:lnTo>
                      <a:lnTo>
                        <a:pt x="3069" y="226"/>
                      </a:lnTo>
                      <a:lnTo>
                        <a:pt x="3043" y="202"/>
                      </a:lnTo>
                      <a:lnTo>
                        <a:pt x="3021" y="185"/>
                      </a:lnTo>
                      <a:lnTo>
                        <a:pt x="2955" y="155"/>
                      </a:lnTo>
                      <a:lnTo>
                        <a:pt x="2856" y="114"/>
                      </a:lnTo>
                      <a:lnTo>
                        <a:pt x="2734" y="71"/>
                      </a:lnTo>
                      <a:lnTo>
                        <a:pt x="2617" y="32"/>
                      </a:lnTo>
                      <a:lnTo>
                        <a:pt x="2559" y="11"/>
                      </a:lnTo>
                      <a:lnTo>
                        <a:pt x="2529" y="2"/>
                      </a:lnTo>
                      <a:lnTo>
                        <a:pt x="2491" y="0"/>
                      </a:lnTo>
                      <a:lnTo>
                        <a:pt x="2413" y="9"/>
                      </a:lnTo>
                      <a:lnTo>
                        <a:pt x="2226" y="22"/>
                      </a:lnTo>
                      <a:lnTo>
                        <a:pt x="2220" y="24"/>
                      </a:lnTo>
                      <a:lnTo>
                        <a:pt x="1915" y="60"/>
                      </a:lnTo>
                      <a:lnTo>
                        <a:pt x="1618" y="88"/>
                      </a:lnTo>
                      <a:lnTo>
                        <a:pt x="1249" y="121"/>
                      </a:lnTo>
                      <a:lnTo>
                        <a:pt x="1133" y="13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667200" y="6089040"/>
                  <a:ext cx="2240280" cy="615960"/>
                </a:xfrm>
                <a:custGeom>
                  <a:avLst/>
                  <a:gdLst/>
                  <a:ahLst/>
                  <a:rect l="l" t="t" r="r" b="b"/>
                  <a:pathLst>
                    <a:path w="2821" h="873">
                      <a:moveTo>
                        <a:pt x="2813" y="451"/>
                      </a:moveTo>
                      <a:lnTo>
                        <a:pt x="2821" y="497"/>
                      </a:lnTo>
                      <a:lnTo>
                        <a:pt x="2821" y="540"/>
                      </a:lnTo>
                      <a:lnTo>
                        <a:pt x="2813" y="561"/>
                      </a:lnTo>
                      <a:lnTo>
                        <a:pt x="2787" y="574"/>
                      </a:lnTo>
                      <a:lnTo>
                        <a:pt x="2780" y="576"/>
                      </a:lnTo>
                      <a:lnTo>
                        <a:pt x="2774" y="576"/>
                      </a:lnTo>
                      <a:lnTo>
                        <a:pt x="2707" y="585"/>
                      </a:lnTo>
                      <a:lnTo>
                        <a:pt x="2546" y="604"/>
                      </a:lnTo>
                      <a:lnTo>
                        <a:pt x="2540" y="606"/>
                      </a:lnTo>
                      <a:lnTo>
                        <a:pt x="2533" y="606"/>
                      </a:lnTo>
                      <a:lnTo>
                        <a:pt x="2387" y="636"/>
                      </a:lnTo>
                      <a:lnTo>
                        <a:pt x="2254" y="669"/>
                      </a:lnTo>
                      <a:lnTo>
                        <a:pt x="2129" y="705"/>
                      </a:lnTo>
                      <a:lnTo>
                        <a:pt x="2017" y="731"/>
                      </a:lnTo>
                      <a:lnTo>
                        <a:pt x="1934" y="748"/>
                      </a:lnTo>
                      <a:lnTo>
                        <a:pt x="1815" y="759"/>
                      </a:lnTo>
                      <a:lnTo>
                        <a:pt x="1659" y="770"/>
                      </a:lnTo>
                      <a:lnTo>
                        <a:pt x="1465" y="778"/>
                      </a:lnTo>
                      <a:lnTo>
                        <a:pt x="1169" y="798"/>
                      </a:lnTo>
                      <a:lnTo>
                        <a:pt x="984" y="811"/>
                      </a:lnTo>
                      <a:lnTo>
                        <a:pt x="971" y="815"/>
                      </a:lnTo>
                      <a:lnTo>
                        <a:pt x="756" y="828"/>
                      </a:lnTo>
                      <a:lnTo>
                        <a:pt x="485" y="841"/>
                      </a:lnTo>
                      <a:lnTo>
                        <a:pt x="270" y="862"/>
                      </a:lnTo>
                      <a:lnTo>
                        <a:pt x="264" y="866"/>
                      </a:lnTo>
                      <a:lnTo>
                        <a:pt x="165" y="873"/>
                      </a:lnTo>
                      <a:lnTo>
                        <a:pt x="159" y="873"/>
                      </a:lnTo>
                      <a:lnTo>
                        <a:pt x="122" y="860"/>
                      </a:lnTo>
                      <a:lnTo>
                        <a:pt x="116" y="862"/>
                      </a:lnTo>
                      <a:lnTo>
                        <a:pt x="68" y="830"/>
                      </a:lnTo>
                      <a:lnTo>
                        <a:pt x="34" y="798"/>
                      </a:lnTo>
                      <a:lnTo>
                        <a:pt x="17" y="761"/>
                      </a:lnTo>
                      <a:lnTo>
                        <a:pt x="8" y="729"/>
                      </a:lnTo>
                      <a:lnTo>
                        <a:pt x="4" y="666"/>
                      </a:lnTo>
                      <a:lnTo>
                        <a:pt x="0" y="615"/>
                      </a:lnTo>
                      <a:lnTo>
                        <a:pt x="4" y="550"/>
                      </a:lnTo>
                      <a:lnTo>
                        <a:pt x="25" y="376"/>
                      </a:lnTo>
                      <a:lnTo>
                        <a:pt x="36" y="301"/>
                      </a:lnTo>
                      <a:lnTo>
                        <a:pt x="8" y="243"/>
                      </a:lnTo>
                      <a:lnTo>
                        <a:pt x="6" y="217"/>
                      </a:lnTo>
                      <a:lnTo>
                        <a:pt x="21" y="228"/>
                      </a:lnTo>
                      <a:lnTo>
                        <a:pt x="49" y="251"/>
                      </a:lnTo>
                      <a:lnTo>
                        <a:pt x="75" y="262"/>
                      </a:lnTo>
                      <a:lnTo>
                        <a:pt x="107" y="271"/>
                      </a:lnTo>
                      <a:lnTo>
                        <a:pt x="202" y="266"/>
                      </a:lnTo>
                      <a:lnTo>
                        <a:pt x="354" y="260"/>
                      </a:lnTo>
                      <a:lnTo>
                        <a:pt x="554" y="247"/>
                      </a:lnTo>
                      <a:lnTo>
                        <a:pt x="1044" y="210"/>
                      </a:lnTo>
                      <a:lnTo>
                        <a:pt x="1282" y="185"/>
                      </a:lnTo>
                      <a:lnTo>
                        <a:pt x="1626" y="137"/>
                      </a:lnTo>
                      <a:lnTo>
                        <a:pt x="1841" y="105"/>
                      </a:lnTo>
                      <a:lnTo>
                        <a:pt x="2192" y="41"/>
                      </a:lnTo>
                      <a:lnTo>
                        <a:pt x="2385" y="4"/>
                      </a:lnTo>
                      <a:lnTo>
                        <a:pt x="2415" y="0"/>
                      </a:lnTo>
                      <a:lnTo>
                        <a:pt x="2417" y="6"/>
                      </a:lnTo>
                      <a:lnTo>
                        <a:pt x="2398" y="25"/>
                      </a:lnTo>
                      <a:lnTo>
                        <a:pt x="2318" y="45"/>
                      </a:lnTo>
                      <a:lnTo>
                        <a:pt x="2159" y="73"/>
                      </a:lnTo>
                      <a:lnTo>
                        <a:pt x="1940" y="114"/>
                      </a:lnTo>
                      <a:lnTo>
                        <a:pt x="1710" y="150"/>
                      </a:lnTo>
                      <a:lnTo>
                        <a:pt x="1497" y="185"/>
                      </a:lnTo>
                      <a:lnTo>
                        <a:pt x="1491" y="185"/>
                      </a:lnTo>
                      <a:lnTo>
                        <a:pt x="1143" y="226"/>
                      </a:lnTo>
                      <a:lnTo>
                        <a:pt x="872" y="251"/>
                      </a:lnTo>
                      <a:lnTo>
                        <a:pt x="866" y="253"/>
                      </a:lnTo>
                      <a:lnTo>
                        <a:pt x="586" y="271"/>
                      </a:lnTo>
                      <a:lnTo>
                        <a:pt x="358" y="284"/>
                      </a:lnTo>
                      <a:lnTo>
                        <a:pt x="350" y="286"/>
                      </a:lnTo>
                      <a:lnTo>
                        <a:pt x="120" y="297"/>
                      </a:lnTo>
                      <a:lnTo>
                        <a:pt x="79" y="307"/>
                      </a:lnTo>
                      <a:lnTo>
                        <a:pt x="64" y="331"/>
                      </a:lnTo>
                      <a:lnTo>
                        <a:pt x="51" y="410"/>
                      </a:lnTo>
                      <a:lnTo>
                        <a:pt x="40" y="518"/>
                      </a:lnTo>
                      <a:lnTo>
                        <a:pt x="25" y="606"/>
                      </a:lnTo>
                      <a:lnTo>
                        <a:pt x="32" y="682"/>
                      </a:lnTo>
                      <a:lnTo>
                        <a:pt x="32" y="688"/>
                      </a:lnTo>
                      <a:lnTo>
                        <a:pt x="43" y="748"/>
                      </a:lnTo>
                      <a:lnTo>
                        <a:pt x="64" y="776"/>
                      </a:lnTo>
                      <a:lnTo>
                        <a:pt x="90" y="804"/>
                      </a:lnTo>
                      <a:lnTo>
                        <a:pt x="124" y="821"/>
                      </a:lnTo>
                      <a:lnTo>
                        <a:pt x="163" y="830"/>
                      </a:lnTo>
                      <a:lnTo>
                        <a:pt x="300" y="834"/>
                      </a:lnTo>
                      <a:lnTo>
                        <a:pt x="412" y="819"/>
                      </a:lnTo>
                      <a:lnTo>
                        <a:pt x="515" y="813"/>
                      </a:lnTo>
                      <a:lnTo>
                        <a:pt x="674" y="798"/>
                      </a:lnTo>
                      <a:lnTo>
                        <a:pt x="846" y="787"/>
                      </a:lnTo>
                      <a:lnTo>
                        <a:pt x="977" y="774"/>
                      </a:lnTo>
                      <a:lnTo>
                        <a:pt x="1190" y="765"/>
                      </a:lnTo>
                      <a:lnTo>
                        <a:pt x="1377" y="752"/>
                      </a:lnTo>
                      <a:lnTo>
                        <a:pt x="1618" y="742"/>
                      </a:lnTo>
                      <a:lnTo>
                        <a:pt x="1809" y="731"/>
                      </a:lnTo>
                      <a:lnTo>
                        <a:pt x="1951" y="712"/>
                      </a:lnTo>
                      <a:lnTo>
                        <a:pt x="2099" y="677"/>
                      </a:lnTo>
                      <a:lnTo>
                        <a:pt x="2359" y="611"/>
                      </a:lnTo>
                      <a:lnTo>
                        <a:pt x="2471" y="587"/>
                      </a:lnTo>
                      <a:lnTo>
                        <a:pt x="2632" y="563"/>
                      </a:lnTo>
                      <a:lnTo>
                        <a:pt x="2770" y="535"/>
                      </a:lnTo>
                      <a:lnTo>
                        <a:pt x="2776" y="516"/>
                      </a:lnTo>
                      <a:lnTo>
                        <a:pt x="2780" y="466"/>
                      </a:lnTo>
                      <a:lnTo>
                        <a:pt x="2795" y="438"/>
                      </a:lnTo>
                      <a:lnTo>
                        <a:pt x="2813" y="45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1" name=""/>
            <p:cNvSpPr/>
            <p:nvPr/>
          </p:nvSpPr>
          <p:spPr>
            <a:xfrm>
              <a:off x="7941960" y="5467320"/>
              <a:ext cx="252720" cy="199080"/>
            </a:xfrm>
            <a:custGeom>
              <a:avLst/>
              <a:gdLst/>
              <a:ahLst/>
              <a:rect l="l" t="t" r="r" b="b"/>
              <a:pathLst>
                <a:path w="318" h="282">
                  <a:moveTo>
                    <a:pt x="231" y="130"/>
                  </a:moveTo>
                  <a:lnTo>
                    <a:pt x="219" y="100"/>
                  </a:lnTo>
                  <a:lnTo>
                    <a:pt x="209" y="75"/>
                  </a:lnTo>
                  <a:lnTo>
                    <a:pt x="193" y="53"/>
                  </a:lnTo>
                  <a:lnTo>
                    <a:pt x="174" y="29"/>
                  </a:lnTo>
                  <a:lnTo>
                    <a:pt x="155" y="14"/>
                  </a:lnTo>
                  <a:lnTo>
                    <a:pt x="135" y="6"/>
                  </a:lnTo>
                  <a:lnTo>
                    <a:pt x="113" y="0"/>
                  </a:lnTo>
                  <a:lnTo>
                    <a:pt x="86" y="3"/>
                  </a:lnTo>
                  <a:lnTo>
                    <a:pt x="61" y="11"/>
                  </a:lnTo>
                  <a:lnTo>
                    <a:pt x="41" y="27"/>
                  </a:lnTo>
                  <a:lnTo>
                    <a:pt x="22" y="52"/>
                  </a:lnTo>
                  <a:lnTo>
                    <a:pt x="10" y="81"/>
                  </a:lnTo>
                  <a:lnTo>
                    <a:pt x="2" y="119"/>
                  </a:lnTo>
                  <a:lnTo>
                    <a:pt x="0" y="158"/>
                  </a:lnTo>
                  <a:lnTo>
                    <a:pt x="6" y="195"/>
                  </a:lnTo>
                  <a:lnTo>
                    <a:pt x="16" y="226"/>
                  </a:lnTo>
                  <a:lnTo>
                    <a:pt x="31" y="246"/>
                  </a:lnTo>
                  <a:lnTo>
                    <a:pt x="55" y="265"/>
                  </a:lnTo>
                  <a:lnTo>
                    <a:pt x="77" y="275"/>
                  </a:lnTo>
                  <a:lnTo>
                    <a:pt x="106" y="282"/>
                  </a:lnTo>
                  <a:lnTo>
                    <a:pt x="134" y="282"/>
                  </a:lnTo>
                  <a:lnTo>
                    <a:pt x="160" y="275"/>
                  </a:lnTo>
                  <a:lnTo>
                    <a:pt x="183" y="262"/>
                  </a:lnTo>
                  <a:lnTo>
                    <a:pt x="199" y="248"/>
                  </a:lnTo>
                  <a:lnTo>
                    <a:pt x="215" y="226"/>
                  </a:lnTo>
                  <a:lnTo>
                    <a:pt x="225" y="201"/>
                  </a:lnTo>
                  <a:lnTo>
                    <a:pt x="231" y="181"/>
                  </a:lnTo>
                  <a:lnTo>
                    <a:pt x="231" y="172"/>
                  </a:lnTo>
                  <a:lnTo>
                    <a:pt x="251" y="171"/>
                  </a:lnTo>
                  <a:lnTo>
                    <a:pt x="257" y="171"/>
                  </a:lnTo>
                  <a:lnTo>
                    <a:pt x="261" y="172"/>
                  </a:lnTo>
                  <a:lnTo>
                    <a:pt x="266" y="172"/>
                  </a:lnTo>
                  <a:lnTo>
                    <a:pt x="271" y="175"/>
                  </a:lnTo>
                  <a:lnTo>
                    <a:pt x="276" y="175"/>
                  </a:lnTo>
                  <a:lnTo>
                    <a:pt x="280" y="179"/>
                  </a:lnTo>
                  <a:lnTo>
                    <a:pt x="286" y="181"/>
                  </a:lnTo>
                  <a:lnTo>
                    <a:pt x="292" y="182"/>
                  </a:lnTo>
                  <a:lnTo>
                    <a:pt x="296" y="184"/>
                  </a:lnTo>
                  <a:lnTo>
                    <a:pt x="302" y="184"/>
                  </a:lnTo>
                  <a:lnTo>
                    <a:pt x="308" y="182"/>
                  </a:lnTo>
                  <a:lnTo>
                    <a:pt x="313" y="181"/>
                  </a:lnTo>
                  <a:lnTo>
                    <a:pt x="316" y="175"/>
                  </a:lnTo>
                  <a:lnTo>
                    <a:pt x="318" y="171"/>
                  </a:lnTo>
                  <a:lnTo>
                    <a:pt x="318" y="166"/>
                  </a:lnTo>
                  <a:lnTo>
                    <a:pt x="318" y="161"/>
                  </a:lnTo>
                  <a:lnTo>
                    <a:pt x="315" y="156"/>
                  </a:lnTo>
                  <a:lnTo>
                    <a:pt x="313" y="152"/>
                  </a:lnTo>
                  <a:lnTo>
                    <a:pt x="308" y="152"/>
                  </a:lnTo>
                  <a:lnTo>
                    <a:pt x="305" y="146"/>
                  </a:lnTo>
                  <a:lnTo>
                    <a:pt x="300" y="146"/>
                  </a:lnTo>
                  <a:lnTo>
                    <a:pt x="295" y="145"/>
                  </a:lnTo>
                  <a:lnTo>
                    <a:pt x="289" y="143"/>
                  </a:lnTo>
                  <a:lnTo>
                    <a:pt x="284" y="142"/>
                  </a:lnTo>
                  <a:lnTo>
                    <a:pt x="279" y="142"/>
                  </a:lnTo>
                  <a:lnTo>
                    <a:pt x="274" y="140"/>
                  </a:lnTo>
                  <a:lnTo>
                    <a:pt x="241" y="136"/>
                  </a:lnTo>
                  <a:lnTo>
                    <a:pt x="2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089920" y="5666400"/>
              <a:ext cx="147600" cy="69120"/>
            </a:xfrm>
            <a:custGeom>
              <a:avLst/>
              <a:gdLst/>
              <a:ahLst/>
              <a:rect l="l" t="t" r="r" b="b"/>
              <a:pathLst>
                <a:path w="187" h="97">
                  <a:moveTo>
                    <a:pt x="0" y="18"/>
                  </a:moveTo>
                  <a:lnTo>
                    <a:pt x="18" y="5"/>
                  </a:lnTo>
                  <a:lnTo>
                    <a:pt x="51" y="0"/>
                  </a:lnTo>
                  <a:lnTo>
                    <a:pt x="80" y="3"/>
                  </a:lnTo>
                  <a:lnTo>
                    <a:pt x="119" y="16"/>
                  </a:lnTo>
                  <a:lnTo>
                    <a:pt x="137" y="25"/>
                  </a:lnTo>
                  <a:lnTo>
                    <a:pt x="142" y="25"/>
                  </a:lnTo>
                  <a:lnTo>
                    <a:pt x="163" y="29"/>
                  </a:lnTo>
                  <a:lnTo>
                    <a:pt x="187" y="35"/>
                  </a:lnTo>
                  <a:lnTo>
                    <a:pt x="187" y="47"/>
                  </a:lnTo>
                  <a:lnTo>
                    <a:pt x="138" y="76"/>
                  </a:lnTo>
                  <a:lnTo>
                    <a:pt x="103" y="97"/>
                  </a:lnTo>
                  <a:lnTo>
                    <a:pt x="77" y="92"/>
                  </a:lnTo>
                  <a:lnTo>
                    <a:pt x="44" y="68"/>
                  </a:lnTo>
                  <a:lnTo>
                    <a:pt x="21" y="54"/>
                  </a:lnTo>
                  <a:lnTo>
                    <a:pt x="0" y="3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3" name=""/>
            <p:cNvGrpSpPr/>
            <p:nvPr/>
          </p:nvGrpSpPr>
          <p:grpSpPr>
            <a:xfrm>
              <a:off x="8005680" y="5659560"/>
              <a:ext cx="398520" cy="360000"/>
              <a:chOff x="8005680" y="5659560"/>
              <a:chExt cx="398520" cy="360000"/>
            </a:xfrm>
          </p:grpSpPr>
          <p:sp>
            <p:nvSpPr>
              <p:cNvPr id="1894" name=""/>
              <p:cNvSpPr/>
              <p:nvPr/>
            </p:nvSpPr>
            <p:spPr>
              <a:xfrm>
                <a:off x="8005680" y="5659560"/>
                <a:ext cx="398520" cy="360000"/>
              </a:xfrm>
              <a:custGeom>
                <a:avLst/>
                <a:gdLst/>
                <a:ahLst/>
                <a:rect l="l" t="t" r="r" b="b"/>
                <a:pathLst>
                  <a:path w="503" h="511">
                    <a:moveTo>
                      <a:pt x="39" y="62"/>
                    </a:moveTo>
                    <a:lnTo>
                      <a:pt x="107" y="62"/>
                    </a:lnTo>
                    <a:lnTo>
                      <a:pt x="170" y="59"/>
                    </a:lnTo>
                    <a:lnTo>
                      <a:pt x="264" y="37"/>
                    </a:lnTo>
                    <a:lnTo>
                      <a:pt x="336" y="13"/>
                    </a:lnTo>
                    <a:lnTo>
                      <a:pt x="374" y="1"/>
                    </a:lnTo>
                    <a:lnTo>
                      <a:pt x="396" y="0"/>
                    </a:lnTo>
                    <a:lnTo>
                      <a:pt x="410" y="8"/>
                    </a:lnTo>
                    <a:lnTo>
                      <a:pt x="422" y="48"/>
                    </a:lnTo>
                    <a:lnTo>
                      <a:pt x="441" y="153"/>
                    </a:lnTo>
                    <a:lnTo>
                      <a:pt x="444" y="158"/>
                    </a:lnTo>
                    <a:lnTo>
                      <a:pt x="468" y="271"/>
                    </a:lnTo>
                    <a:lnTo>
                      <a:pt x="496" y="395"/>
                    </a:lnTo>
                    <a:lnTo>
                      <a:pt x="503" y="437"/>
                    </a:lnTo>
                    <a:lnTo>
                      <a:pt x="502" y="453"/>
                    </a:lnTo>
                    <a:lnTo>
                      <a:pt x="486" y="469"/>
                    </a:lnTo>
                    <a:lnTo>
                      <a:pt x="480" y="469"/>
                    </a:lnTo>
                    <a:lnTo>
                      <a:pt x="451" y="474"/>
                    </a:lnTo>
                    <a:lnTo>
                      <a:pt x="331" y="474"/>
                    </a:lnTo>
                    <a:lnTo>
                      <a:pt x="326" y="477"/>
                    </a:lnTo>
                    <a:lnTo>
                      <a:pt x="222" y="490"/>
                    </a:lnTo>
                    <a:lnTo>
                      <a:pt x="144" y="504"/>
                    </a:lnTo>
                    <a:lnTo>
                      <a:pt x="87" y="510"/>
                    </a:lnTo>
                    <a:lnTo>
                      <a:pt x="83" y="511"/>
                    </a:lnTo>
                    <a:lnTo>
                      <a:pt x="54" y="507"/>
                    </a:lnTo>
                    <a:lnTo>
                      <a:pt x="44" y="494"/>
                    </a:lnTo>
                    <a:lnTo>
                      <a:pt x="38" y="450"/>
                    </a:lnTo>
                    <a:lnTo>
                      <a:pt x="32" y="356"/>
                    </a:lnTo>
                    <a:lnTo>
                      <a:pt x="19" y="236"/>
                    </a:lnTo>
                    <a:lnTo>
                      <a:pt x="0" y="90"/>
                    </a:lnTo>
                    <a:lnTo>
                      <a:pt x="0" y="71"/>
                    </a:lnTo>
                    <a:lnTo>
                      <a:pt x="15" y="61"/>
                    </a:lnTo>
                    <a:lnTo>
                      <a:pt x="3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8024760" y="5677560"/>
                <a:ext cx="355680" cy="322200"/>
              </a:xfrm>
              <a:custGeom>
                <a:avLst/>
                <a:gdLst/>
                <a:ahLst/>
                <a:rect l="l" t="t" r="r" b="b"/>
                <a:pathLst>
                  <a:path w="448" h="457">
                    <a:moveTo>
                      <a:pt x="0" y="58"/>
                    </a:moveTo>
                    <a:lnTo>
                      <a:pt x="71" y="55"/>
                    </a:lnTo>
                    <a:lnTo>
                      <a:pt x="148" y="55"/>
                    </a:lnTo>
                    <a:lnTo>
                      <a:pt x="210" y="45"/>
                    </a:lnTo>
                    <a:lnTo>
                      <a:pt x="277" y="25"/>
                    </a:lnTo>
                    <a:lnTo>
                      <a:pt x="346" y="0"/>
                    </a:lnTo>
                    <a:lnTo>
                      <a:pt x="358" y="0"/>
                    </a:lnTo>
                    <a:lnTo>
                      <a:pt x="374" y="10"/>
                    </a:lnTo>
                    <a:lnTo>
                      <a:pt x="391" y="115"/>
                    </a:lnTo>
                    <a:lnTo>
                      <a:pt x="409" y="197"/>
                    </a:lnTo>
                    <a:lnTo>
                      <a:pt x="427" y="276"/>
                    </a:lnTo>
                    <a:lnTo>
                      <a:pt x="448" y="386"/>
                    </a:lnTo>
                    <a:lnTo>
                      <a:pt x="448" y="409"/>
                    </a:lnTo>
                    <a:lnTo>
                      <a:pt x="438" y="419"/>
                    </a:lnTo>
                    <a:lnTo>
                      <a:pt x="401" y="425"/>
                    </a:lnTo>
                    <a:lnTo>
                      <a:pt x="294" y="425"/>
                    </a:lnTo>
                    <a:lnTo>
                      <a:pt x="290" y="426"/>
                    </a:lnTo>
                    <a:lnTo>
                      <a:pt x="219" y="435"/>
                    </a:lnTo>
                    <a:lnTo>
                      <a:pt x="213" y="439"/>
                    </a:lnTo>
                    <a:lnTo>
                      <a:pt x="127" y="450"/>
                    </a:lnTo>
                    <a:lnTo>
                      <a:pt x="61" y="457"/>
                    </a:lnTo>
                    <a:lnTo>
                      <a:pt x="45" y="452"/>
                    </a:lnTo>
                    <a:lnTo>
                      <a:pt x="40" y="450"/>
                    </a:lnTo>
                    <a:lnTo>
                      <a:pt x="33" y="418"/>
                    </a:lnTo>
                    <a:lnTo>
                      <a:pt x="26" y="271"/>
                    </a:lnTo>
                    <a:lnTo>
                      <a:pt x="20" y="183"/>
                    </a:lnTo>
                    <a:lnTo>
                      <a:pt x="3" y="97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6" name=""/>
            <p:cNvSpPr/>
            <p:nvPr/>
          </p:nvSpPr>
          <p:spPr>
            <a:xfrm>
              <a:off x="8234280" y="5651280"/>
              <a:ext cx="160200" cy="74520"/>
            </a:xfrm>
            <a:custGeom>
              <a:avLst/>
              <a:gdLst/>
              <a:ahLst/>
              <a:rect l="l" t="t" r="r" b="b"/>
              <a:pathLst>
                <a:path w="201" h="107">
                  <a:moveTo>
                    <a:pt x="71" y="3"/>
                  </a:moveTo>
                  <a:lnTo>
                    <a:pt x="65" y="6"/>
                  </a:lnTo>
                  <a:lnTo>
                    <a:pt x="58" y="6"/>
                  </a:lnTo>
                  <a:lnTo>
                    <a:pt x="53" y="6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9" y="12"/>
                  </a:lnTo>
                  <a:lnTo>
                    <a:pt x="33" y="16"/>
                  </a:lnTo>
                  <a:lnTo>
                    <a:pt x="29" y="22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4" y="80"/>
                  </a:lnTo>
                  <a:lnTo>
                    <a:pt x="7" y="87"/>
                  </a:lnTo>
                  <a:lnTo>
                    <a:pt x="11" y="91"/>
                  </a:lnTo>
                  <a:lnTo>
                    <a:pt x="17" y="93"/>
                  </a:lnTo>
                  <a:lnTo>
                    <a:pt x="23" y="93"/>
                  </a:lnTo>
                  <a:lnTo>
                    <a:pt x="27" y="93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3" y="84"/>
                  </a:lnTo>
                  <a:lnTo>
                    <a:pt x="49" y="80"/>
                  </a:lnTo>
                  <a:lnTo>
                    <a:pt x="52" y="74"/>
                  </a:lnTo>
                  <a:lnTo>
                    <a:pt x="52" y="70"/>
                  </a:lnTo>
                  <a:lnTo>
                    <a:pt x="53" y="65"/>
                  </a:lnTo>
                  <a:lnTo>
                    <a:pt x="53" y="60"/>
                  </a:lnTo>
                  <a:lnTo>
                    <a:pt x="52" y="55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2" y="41"/>
                  </a:lnTo>
                  <a:lnTo>
                    <a:pt x="56" y="36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71" y="35"/>
                  </a:lnTo>
                  <a:lnTo>
                    <a:pt x="76" y="36"/>
                  </a:lnTo>
                  <a:lnTo>
                    <a:pt x="81" y="39"/>
                  </a:lnTo>
                  <a:lnTo>
                    <a:pt x="84" y="44"/>
                  </a:lnTo>
                  <a:lnTo>
                    <a:pt x="84" y="49"/>
                  </a:lnTo>
                  <a:lnTo>
                    <a:pt x="84" y="54"/>
                  </a:lnTo>
                  <a:lnTo>
                    <a:pt x="81" y="58"/>
                  </a:lnTo>
                  <a:lnTo>
                    <a:pt x="81" y="64"/>
                  </a:lnTo>
                  <a:lnTo>
                    <a:pt x="81" y="68"/>
                  </a:lnTo>
                  <a:lnTo>
                    <a:pt x="79" y="74"/>
                  </a:lnTo>
                  <a:lnTo>
                    <a:pt x="78" y="81"/>
                  </a:lnTo>
                  <a:lnTo>
                    <a:pt x="76" y="87"/>
                  </a:lnTo>
                  <a:lnTo>
                    <a:pt x="75" y="94"/>
                  </a:lnTo>
                  <a:lnTo>
                    <a:pt x="78" y="99"/>
                  </a:lnTo>
                  <a:lnTo>
                    <a:pt x="81" y="103"/>
                  </a:lnTo>
                  <a:lnTo>
                    <a:pt x="85" y="106"/>
                  </a:lnTo>
                  <a:lnTo>
                    <a:pt x="91" y="107"/>
                  </a:lnTo>
                  <a:lnTo>
                    <a:pt x="95" y="107"/>
                  </a:lnTo>
                  <a:lnTo>
                    <a:pt x="100" y="107"/>
                  </a:lnTo>
                  <a:lnTo>
                    <a:pt x="105" y="107"/>
                  </a:lnTo>
                  <a:lnTo>
                    <a:pt x="110" y="103"/>
                  </a:lnTo>
                  <a:lnTo>
                    <a:pt x="113" y="99"/>
                  </a:lnTo>
                  <a:lnTo>
                    <a:pt x="118" y="96"/>
                  </a:lnTo>
                  <a:lnTo>
                    <a:pt x="121" y="89"/>
                  </a:lnTo>
                  <a:lnTo>
                    <a:pt x="123" y="84"/>
                  </a:lnTo>
                  <a:lnTo>
                    <a:pt x="123" y="80"/>
                  </a:lnTo>
                  <a:lnTo>
                    <a:pt x="123" y="74"/>
                  </a:lnTo>
                  <a:lnTo>
                    <a:pt x="123" y="70"/>
                  </a:lnTo>
                  <a:lnTo>
                    <a:pt x="120" y="65"/>
                  </a:lnTo>
                  <a:lnTo>
                    <a:pt x="118" y="60"/>
                  </a:lnTo>
                  <a:lnTo>
                    <a:pt x="116" y="55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1" y="41"/>
                  </a:lnTo>
                  <a:lnTo>
                    <a:pt x="110" y="36"/>
                  </a:lnTo>
                  <a:lnTo>
                    <a:pt x="110" y="31"/>
                  </a:lnTo>
                  <a:lnTo>
                    <a:pt x="114" y="29"/>
                  </a:lnTo>
                  <a:lnTo>
                    <a:pt x="120" y="29"/>
                  </a:lnTo>
                  <a:lnTo>
                    <a:pt x="126" y="29"/>
                  </a:lnTo>
                  <a:lnTo>
                    <a:pt x="133" y="31"/>
                  </a:lnTo>
                  <a:lnTo>
                    <a:pt x="137" y="32"/>
                  </a:lnTo>
                  <a:lnTo>
                    <a:pt x="142" y="36"/>
                  </a:lnTo>
                  <a:lnTo>
                    <a:pt x="145" y="41"/>
                  </a:lnTo>
                  <a:lnTo>
                    <a:pt x="149" y="45"/>
                  </a:lnTo>
                  <a:lnTo>
                    <a:pt x="153" y="52"/>
                  </a:lnTo>
                  <a:lnTo>
                    <a:pt x="159" y="58"/>
                  </a:lnTo>
                  <a:lnTo>
                    <a:pt x="166" y="61"/>
                  </a:lnTo>
                  <a:lnTo>
                    <a:pt x="171" y="64"/>
                  </a:lnTo>
                  <a:lnTo>
                    <a:pt x="176" y="67"/>
                  </a:lnTo>
                  <a:lnTo>
                    <a:pt x="181" y="67"/>
                  </a:lnTo>
                  <a:lnTo>
                    <a:pt x="185" y="67"/>
                  </a:lnTo>
                  <a:lnTo>
                    <a:pt x="191" y="65"/>
                  </a:lnTo>
                  <a:lnTo>
                    <a:pt x="195" y="60"/>
                  </a:lnTo>
                  <a:lnTo>
                    <a:pt x="200" y="57"/>
                  </a:lnTo>
                  <a:lnTo>
                    <a:pt x="201" y="52"/>
                  </a:lnTo>
                  <a:lnTo>
                    <a:pt x="201" y="47"/>
                  </a:lnTo>
                  <a:lnTo>
                    <a:pt x="200" y="41"/>
                  </a:lnTo>
                  <a:lnTo>
                    <a:pt x="197" y="36"/>
                  </a:lnTo>
                  <a:lnTo>
                    <a:pt x="194" y="31"/>
                  </a:lnTo>
                  <a:lnTo>
                    <a:pt x="191" y="26"/>
                  </a:lnTo>
                  <a:lnTo>
                    <a:pt x="185" y="23"/>
                  </a:lnTo>
                  <a:lnTo>
                    <a:pt x="181" y="18"/>
                  </a:lnTo>
                  <a:lnTo>
                    <a:pt x="176" y="16"/>
                  </a:lnTo>
                  <a:lnTo>
                    <a:pt x="169" y="12"/>
                  </a:lnTo>
                  <a:lnTo>
                    <a:pt x="165" y="9"/>
                  </a:lnTo>
                  <a:lnTo>
                    <a:pt x="158" y="7"/>
                  </a:lnTo>
                  <a:lnTo>
                    <a:pt x="152" y="3"/>
                  </a:lnTo>
                  <a:lnTo>
                    <a:pt x="147" y="2"/>
                  </a:lnTo>
                  <a:lnTo>
                    <a:pt x="142" y="2"/>
                  </a:lnTo>
                  <a:lnTo>
                    <a:pt x="137" y="2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332480" y="5720400"/>
              <a:ext cx="399960" cy="336240"/>
            </a:xfrm>
            <a:custGeom>
              <a:avLst/>
              <a:gdLst/>
              <a:ahLst/>
              <a:rect l="l" t="t" r="r" b="b"/>
              <a:pathLst>
                <a:path w="505" h="475">
                  <a:moveTo>
                    <a:pt x="177" y="23"/>
                  </a:moveTo>
                  <a:lnTo>
                    <a:pt x="204" y="7"/>
                  </a:lnTo>
                  <a:lnTo>
                    <a:pt x="242" y="0"/>
                  </a:lnTo>
                  <a:lnTo>
                    <a:pt x="275" y="11"/>
                  </a:lnTo>
                  <a:lnTo>
                    <a:pt x="297" y="30"/>
                  </a:lnTo>
                  <a:lnTo>
                    <a:pt x="323" y="68"/>
                  </a:lnTo>
                  <a:lnTo>
                    <a:pt x="351" y="87"/>
                  </a:lnTo>
                  <a:lnTo>
                    <a:pt x="385" y="107"/>
                  </a:lnTo>
                  <a:lnTo>
                    <a:pt x="440" y="124"/>
                  </a:lnTo>
                  <a:lnTo>
                    <a:pt x="492" y="150"/>
                  </a:lnTo>
                  <a:lnTo>
                    <a:pt x="502" y="168"/>
                  </a:lnTo>
                  <a:lnTo>
                    <a:pt x="505" y="195"/>
                  </a:lnTo>
                  <a:lnTo>
                    <a:pt x="488" y="200"/>
                  </a:lnTo>
                  <a:lnTo>
                    <a:pt x="453" y="197"/>
                  </a:lnTo>
                  <a:lnTo>
                    <a:pt x="370" y="169"/>
                  </a:lnTo>
                  <a:lnTo>
                    <a:pt x="379" y="217"/>
                  </a:lnTo>
                  <a:lnTo>
                    <a:pt x="385" y="282"/>
                  </a:lnTo>
                  <a:lnTo>
                    <a:pt x="385" y="287"/>
                  </a:lnTo>
                  <a:lnTo>
                    <a:pt x="382" y="356"/>
                  </a:lnTo>
                  <a:lnTo>
                    <a:pt x="366" y="411"/>
                  </a:lnTo>
                  <a:lnTo>
                    <a:pt x="347" y="445"/>
                  </a:lnTo>
                  <a:lnTo>
                    <a:pt x="309" y="468"/>
                  </a:lnTo>
                  <a:lnTo>
                    <a:pt x="255" y="472"/>
                  </a:lnTo>
                  <a:lnTo>
                    <a:pt x="251" y="475"/>
                  </a:lnTo>
                  <a:lnTo>
                    <a:pt x="203" y="459"/>
                  </a:lnTo>
                  <a:lnTo>
                    <a:pt x="197" y="461"/>
                  </a:lnTo>
                  <a:lnTo>
                    <a:pt x="171" y="416"/>
                  </a:lnTo>
                  <a:lnTo>
                    <a:pt x="145" y="355"/>
                  </a:lnTo>
                  <a:lnTo>
                    <a:pt x="132" y="278"/>
                  </a:lnTo>
                  <a:lnTo>
                    <a:pt x="93" y="258"/>
                  </a:lnTo>
                  <a:lnTo>
                    <a:pt x="54" y="239"/>
                  </a:lnTo>
                  <a:lnTo>
                    <a:pt x="23" y="216"/>
                  </a:lnTo>
                  <a:lnTo>
                    <a:pt x="4" y="188"/>
                  </a:lnTo>
                  <a:lnTo>
                    <a:pt x="0" y="172"/>
                  </a:lnTo>
                  <a:lnTo>
                    <a:pt x="1" y="150"/>
                  </a:lnTo>
                  <a:lnTo>
                    <a:pt x="20" y="129"/>
                  </a:lnTo>
                  <a:lnTo>
                    <a:pt x="48" y="104"/>
                  </a:lnTo>
                  <a:lnTo>
                    <a:pt x="43" y="108"/>
                  </a:lnTo>
                  <a:lnTo>
                    <a:pt x="48" y="104"/>
                  </a:lnTo>
                  <a:lnTo>
                    <a:pt x="83" y="78"/>
                  </a:lnTo>
                  <a:lnTo>
                    <a:pt x="129" y="42"/>
                  </a:lnTo>
                  <a:lnTo>
                    <a:pt x="17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7391160" y="5704560"/>
              <a:ext cx="384120" cy="348840"/>
              <a:chOff x="7391160" y="5704560"/>
              <a:chExt cx="384120" cy="348840"/>
            </a:xfrm>
          </p:grpSpPr>
          <p:sp>
            <p:nvSpPr>
              <p:cNvPr id="1899" name=""/>
              <p:cNvSpPr/>
              <p:nvPr/>
            </p:nvSpPr>
            <p:spPr>
              <a:xfrm>
                <a:off x="7391160" y="5704560"/>
                <a:ext cx="384120" cy="348840"/>
              </a:xfrm>
              <a:custGeom>
                <a:avLst/>
                <a:gdLst/>
                <a:ahLst/>
                <a:rect l="l" t="t" r="r" b="b"/>
                <a:pathLst>
                  <a:path w="484" h="493">
                    <a:moveTo>
                      <a:pt x="41" y="44"/>
                    </a:moveTo>
                    <a:lnTo>
                      <a:pt x="108" y="47"/>
                    </a:lnTo>
                    <a:lnTo>
                      <a:pt x="172" y="47"/>
                    </a:lnTo>
                    <a:lnTo>
                      <a:pt x="266" y="30"/>
                    </a:lnTo>
                    <a:lnTo>
                      <a:pt x="339" y="9"/>
                    </a:lnTo>
                    <a:lnTo>
                      <a:pt x="378" y="0"/>
                    </a:lnTo>
                    <a:lnTo>
                      <a:pt x="399" y="0"/>
                    </a:lnTo>
                    <a:lnTo>
                      <a:pt x="413" y="8"/>
                    </a:lnTo>
                    <a:lnTo>
                      <a:pt x="423" y="50"/>
                    </a:lnTo>
                    <a:lnTo>
                      <a:pt x="437" y="154"/>
                    </a:lnTo>
                    <a:lnTo>
                      <a:pt x="439" y="160"/>
                    </a:lnTo>
                    <a:lnTo>
                      <a:pt x="457" y="274"/>
                    </a:lnTo>
                    <a:lnTo>
                      <a:pt x="479" y="400"/>
                    </a:lnTo>
                    <a:lnTo>
                      <a:pt x="484" y="442"/>
                    </a:lnTo>
                    <a:lnTo>
                      <a:pt x="482" y="458"/>
                    </a:lnTo>
                    <a:lnTo>
                      <a:pt x="465" y="473"/>
                    </a:lnTo>
                    <a:lnTo>
                      <a:pt x="459" y="473"/>
                    </a:lnTo>
                    <a:lnTo>
                      <a:pt x="430" y="476"/>
                    </a:lnTo>
                    <a:lnTo>
                      <a:pt x="310" y="471"/>
                    </a:lnTo>
                    <a:lnTo>
                      <a:pt x="305" y="473"/>
                    </a:lnTo>
                    <a:lnTo>
                      <a:pt x="201" y="480"/>
                    </a:lnTo>
                    <a:lnTo>
                      <a:pt x="122" y="490"/>
                    </a:lnTo>
                    <a:lnTo>
                      <a:pt x="65" y="493"/>
                    </a:lnTo>
                    <a:lnTo>
                      <a:pt x="61" y="493"/>
                    </a:lnTo>
                    <a:lnTo>
                      <a:pt x="32" y="488"/>
                    </a:lnTo>
                    <a:lnTo>
                      <a:pt x="23" y="475"/>
                    </a:lnTo>
                    <a:lnTo>
                      <a:pt x="19" y="430"/>
                    </a:lnTo>
                    <a:lnTo>
                      <a:pt x="17" y="336"/>
                    </a:lnTo>
                    <a:lnTo>
                      <a:pt x="10" y="216"/>
                    </a:lnTo>
                    <a:lnTo>
                      <a:pt x="0" y="69"/>
                    </a:lnTo>
                    <a:lnTo>
                      <a:pt x="1" y="50"/>
                    </a:lnTo>
                    <a:lnTo>
                      <a:pt x="17" y="41"/>
                    </a:lnTo>
                    <a:lnTo>
                      <a:pt x="4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412040" y="5722560"/>
                <a:ext cx="341280" cy="312120"/>
              </a:xfrm>
              <a:custGeom>
                <a:avLst/>
                <a:gdLst/>
                <a:ahLst/>
                <a:rect l="l" t="t" r="r" b="b"/>
                <a:pathLst>
                  <a:path w="429" h="442">
                    <a:moveTo>
                      <a:pt x="0" y="40"/>
                    </a:moveTo>
                    <a:lnTo>
                      <a:pt x="70" y="41"/>
                    </a:lnTo>
                    <a:lnTo>
                      <a:pt x="148" y="44"/>
                    </a:lnTo>
                    <a:lnTo>
                      <a:pt x="209" y="38"/>
                    </a:lnTo>
                    <a:lnTo>
                      <a:pt x="278" y="22"/>
                    </a:lnTo>
                    <a:lnTo>
                      <a:pt x="348" y="0"/>
                    </a:lnTo>
                    <a:lnTo>
                      <a:pt x="359" y="1"/>
                    </a:lnTo>
                    <a:lnTo>
                      <a:pt x="375" y="11"/>
                    </a:lnTo>
                    <a:lnTo>
                      <a:pt x="386" y="118"/>
                    </a:lnTo>
                    <a:lnTo>
                      <a:pt x="400" y="200"/>
                    </a:lnTo>
                    <a:lnTo>
                      <a:pt x="413" y="281"/>
                    </a:lnTo>
                    <a:lnTo>
                      <a:pt x="429" y="392"/>
                    </a:lnTo>
                    <a:lnTo>
                      <a:pt x="428" y="414"/>
                    </a:lnTo>
                    <a:lnTo>
                      <a:pt x="417" y="424"/>
                    </a:lnTo>
                    <a:lnTo>
                      <a:pt x="380" y="427"/>
                    </a:lnTo>
                    <a:lnTo>
                      <a:pt x="274" y="422"/>
                    </a:lnTo>
                    <a:lnTo>
                      <a:pt x="269" y="423"/>
                    </a:lnTo>
                    <a:lnTo>
                      <a:pt x="198" y="428"/>
                    </a:lnTo>
                    <a:lnTo>
                      <a:pt x="192" y="432"/>
                    </a:lnTo>
                    <a:lnTo>
                      <a:pt x="105" y="439"/>
                    </a:lnTo>
                    <a:lnTo>
                      <a:pt x="39" y="442"/>
                    </a:lnTo>
                    <a:lnTo>
                      <a:pt x="23" y="436"/>
                    </a:lnTo>
                    <a:lnTo>
                      <a:pt x="18" y="435"/>
                    </a:lnTo>
                    <a:lnTo>
                      <a:pt x="13" y="401"/>
                    </a:lnTo>
                    <a:lnTo>
                      <a:pt x="13" y="254"/>
                    </a:lnTo>
                    <a:lnTo>
                      <a:pt x="12" y="166"/>
                    </a:lnTo>
                    <a:lnTo>
                      <a:pt x="1" y="7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1" name=""/>
            <p:cNvSpPr/>
            <p:nvPr/>
          </p:nvSpPr>
          <p:spPr>
            <a:xfrm>
              <a:off x="7386480" y="5834880"/>
              <a:ext cx="84240" cy="131400"/>
            </a:xfrm>
            <a:custGeom>
              <a:avLst/>
              <a:gdLst/>
              <a:ahLst/>
              <a:rect l="l" t="t" r="r" b="b"/>
              <a:pathLst>
                <a:path w="107" h="188">
                  <a:moveTo>
                    <a:pt x="8" y="60"/>
                  </a:moveTo>
                  <a:lnTo>
                    <a:pt x="14" y="60"/>
                  </a:lnTo>
                  <a:lnTo>
                    <a:pt x="20" y="55"/>
                  </a:lnTo>
                  <a:lnTo>
                    <a:pt x="24" y="49"/>
                  </a:lnTo>
                  <a:lnTo>
                    <a:pt x="24" y="43"/>
                  </a:lnTo>
                  <a:lnTo>
                    <a:pt x="24" y="39"/>
                  </a:lnTo>
                  <a:lnTo>
                    <a:pt x="23" y="34"/>
                  </a:lnTo>
                  <a:lnTo>
                    <a:pt x="23" y="29"/>
                  </a:lnTo>
                  <a:lnTo>
                    <a:pt x="24" y="24"/>
                  </a:lnTo>
                  <a:lnTo>
                    <a:pt x="29" y="20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3" y="7"/>
                  </a:lnTo>
                  <a:lnTo>
                    <a:pt x="49" y="5"/>
                  </a:lnTo>
                  <a:lnTo>
                    <a:pt x="53" y="2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81" y="5"/>
                  </a:lnTo>
                  <a:lnTo>
                    <a:pt x="85" y="7"/>
                  </a:lnTo>
                  <a:lnTo>
                    <a:pt x="88" y="11"/>
                  </a:lnTo>
                  <a:lnTo>
                    <a:pt x="94" y="18"/>
                  </a:lnTo>
                  <a:lnTo>
                    <a:pt x="94" y="23"/>
                  </a:lnTo>
                  <a:lnTo>
                    <a:pt x="94" y="27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1" y="42"/>
                  </a:lnTo>
                  <a:lnTo>
                    <a:pt x="75" y="46"/>
                  </a:lnTo>
                  <a:lnTo>
                    <a:pt x="71" y="49"/>
                  </a:lnTo>
                  <a:lnTo>
                    <a:pt x="66" y="50"/>
                  </a:lnTo>
                  <a:lnTo>
                    <a:pt x="62" y="53"/>
                  </a:lnTo>
                  <a:lnTo>
                    <a:pt x="56" y="56"/>
                  </a:lnTo>
                  <a:lnTo>
                    <a:pt x="56" y="62"/>
                  </a:lnTo>
                  <a:lnTo>
                    <a:pt x="55" y="66"/>
                  </a:lnTo>
                  <a:lnTo>
                    <a:pt x="55" y="71"/>
                  </a:lnTo>
                  <a:lnTo>
                    <a:pt x="55" y="76"/>
                  </a:lnTo>
                  <a:lnTo>
                    <a:pt x="59" y="79"/>
                  </a:lnTo>
                  <a:lnTo>
                    <a:pt x="65" y="81"/>
                  </a:lnTo>
                  <a:lnTo>
                    <a:pt x="69" y="84"/>
                  </a:lnTo>
                  <a:lnTo>
                    <a:pt x="75" y="85"/>
                  </a:lnTo>
                  <a:lnTo>
                    <a:pt x="84" y="91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100" y="104"/>
                  </a:lnTo>
                  <a:lnTo>
                    <a:pt x="104" y="107"/>
                  </a:lnTo>
                  <a:lnTo>
                    <a:pt x="104" y="111"/>
                  </a:lnTo>
                  <a:lnTo>
                    <a:pt x="107" y="118"/>
                  </a:lnTo>
                  <a:lnTo>
                    <a:pt x="107" y="123"/>
                  </a:lnTo>
                  <a:lnTo>
                    <a:pt x="107" y="129"/>
                  </a:lnTo>
                  <a:lnTo>
                    <a:pt x="104" y="134"/>
                  </a:lnTo>
                  <a:lnTo>
                    <a:pt x="104" y="139"/>
                  </a:lnTo>
                  <a:lnTo>
                    <a:pt x="100" y="142"/>
                  </a:lnTo>
                  <a:lnTo>
                    <a:pt x="95" y="143"/>
                  </a:lnTo>
                  <a:lnTo>
                    <a:pt x="88" y="143"/>
                  </a:lnTo>
                  <a:lnTo>
                    <a:pt x="82" y="146"/>
                  </a:lnTo>
                  <a:lnTo>
                    <a:pt x="78" y="147"/>
                  </a:lnTo>
                  <a:lnTo>
                    <a:pt x="71" y="147"/>
                  </a:lnTo>
                  <a:lnTo>
                    <a:pt x="66" y="143"/>
                  </a:lnTo>
                  <a:lnTo>
                    <a:pt x="59" y="140"/>
                  </a:lnTo>
                  <a:lnTo>
                    <a:pt x="55" y="136"/>
                  </a:lnTo>
                  <a:lnTo>
                    <a:pt x="52" y="131"/>
                  </a:lnTo>
                  <a:lnTo>
                    <a:pt x="46" y="133"/>
                  </a:lnTo>
                  <a:lnTo>
                    <a:pt x="43" y="137"/>
                  </a:lnTo>
                  <a:lnTo>
                    <a:pt x="43" y="142"/>
                  </a:lnTo>
                  <a:lnTo>
                    <a:pt x="43" y="147"/>
                  </a:lnTo>
                  <a:lnTo>
                    <a:pt x="46" y="152"/>
                  </a:lnTo>
                  <a:lnTo>
                    <a:pt x="50" y="159"/>
                  </a:lnTo>
                  <a:lnTo>
                    <a:pt x="53" y="163"/>
                  </a:lnTo>
                  <a:lnTo>
                    <a:pt x="53" y="169"/>
                  </a:lnTo>
                  <a:lnTo>
                    <a:pt x="52" y="175"/>
                  </a:lnTo>
                  <a:lnTo>
                    <a:pt x="46" y="181"/>
                  </a:lnTo>
                  <a:lnTo>
                    <a:pt x="42" y="182"/>
                  </a:lnTo>
                  <a:lnTo>
                    <a:pt x="37" y="185"/>
                  </a:lnTo>
                  <a:lnTo>
                    <a:pt x="30" y="188"/>
                  </a:lnTo>
                  <a:lnTo>
                    <a:pt x="26" y="185"/>
                  </a:lnTo>
                  <a:lnTo>
                    <a:pt x="20" y="181"/>
                  </a:lnTo>
                  <a:lnTo>
                    <a:pt x="16" y="176"/>
                  </a:lnTo>
                  <a:lnTo>
                    <a:pt x="11" y="169"/>
                  </a:lnTo>
                  <a:lnTo>
                    <a:pt x="7" y="165"/>
                  </a:lnTo>
                  <a:lnTo>
                    <a:pt x="5" y="159"/>
                  </a:lnTo>
                  <a:lnTo>
                    <a:pt x="5" y="153"/>
                  </a:lnTo>
                  <a:lnTo>
                    <a:pt x="3" y="147"/>
                  </a:lnTo>
                  <a:lnTo>
                    <a:pt x="5" y="142"/>
                  </a:lnTo>
                  <a:lnTo>
                    <a:pt x="5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8" y="117"/>
                  </a:lnTo>
                  <a:lnTo>
                    <a:pt x="8" y="111"/>
                  </a:lnTo>
                  <a:lnTo>
                    <a:pt x="8" y="107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0" y="76"/>
                  </a:lnTo>
                  <a:lnTo>
                    <a:pt x="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672320" y="5802120"/>
              <a:ext cx="87120" cy="107640"/>
            </a:xfrm>
            <a:custGeom>
              <a:avLst/>
              <a:gdLst/>
              <a:ahLst/>
              <a:rect l="l" t="t" r="r" b="b"/>
              <a:pathLst>
                <a:path w="111" h="153">
                  <a:moveTo>
                    <a:pt x="84" y="23"/>
                  </a:moveTo>
                  <a:lnTo>
                    <a:pt x="78" y="21"/>
                  </a:lnTo>
                  <a:lnTo>
                    <a:pt x="71" y="16"/>
                  </a:lnTo>
                  <a:lnTo>
                    <a:pt x="65" y="13"/>
                  </a:lnTo>
                  <a:lnTo>
                    <a:pt x="56" y="8"/>
                  </a:lnTo>
                  <a:lnTo>
                    <a:pt x="50" y="7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8" y="1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7" y="33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9" y="40"/>
                  </a:lnTo>
                  <a:lnTo>
                    <a:pt x="36" y="42"/>
                  </a:lnTo>
                  <a:lnTo>
                    <a:pt x="42" y="43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43" y="58"/>
                  </a:lnTo>
                  <a:lnTo>
                    <a:pt x="39" y="62"/>
                  </a:lnTo>
                  <a:lnTo>
                    <a:pt x="37" y="66"/>
                  </a:lnTo>
                  <a:lnTo>
                    <a:pt x="32" y="69"/>
                  </a:lnTo>
                  <a:lnTo>
                    <a:pt x="29" y="74"/>
                  </a:lnTo>
                  <a:lnTo>
                    <a:pt x="27" y="79"/>
                  </a:lnTo>
                  <a:lnTo>
                    <a:pt x="24" y="84"/>
                  </a:lnTo>
                  <a:lnTo>
                    <a:pt x="20" y="88"/>
                  </a:lnTo>
                  <a:lnTo>
                    <a:pt x="16" y="94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6" y="110"/>
                  </a:lnTo>
                  <a:lnTo>
                    <a:pt x="20" y="114"/>
                  </a:lnTo>
                  <a:lnTo>
                    <a:pt x="26" y="117"/>
                  </a:lnTo>
                  <a:lnTo>
                    <a:pt x="30" y="116"/>
                  </a:lnTo>
                  <a:lnTo>
                    <a:pt x="36" y="113"/>
                  </a:lnTo>
                  <a:lnTo>
                    <a:pt x="40" y="107"/>
                  </a:lnTo>
                  <a:lnTo>
                    <a:pt x="45" y="103"/>
                  </a:lnTo>
                  <a:lnTo>
                    <a:pt x="52" y="101"/>
                  </a:lnTo>
                  <a:lnTo>
                    <a:pt x="56" y="107"/>
                  </a:lnTo>
                  <a:lnTo>
                    <a:pt x="58" y="111"/>
                  </a:lnTo>
                  <a:lnTo>
                    <a:pt x="58" y="116"/>
                  </a:lnTo>
                  <a:lnTo>
                    <a:pt x="56" y="123"/>
                  </a:lnTo>
                  <a:lnTo>
                    <a:pt x="56" y="127"/>
                  </a:lnTo>
                  <a:lnTo>
                    <a:pt x="55" y="134"/>
                  </a:lnTo>
                  <a:lnTo>
                    <a:pt x="55" y="139"/>
                  </a:lnTo>
                  <a:lnTo>
                    <a:pt x="56" y="143"/>
                  </a:lnTo>
                  <a:lnTo>
                    <a:pt x="59" y="150"/>
                  </a:lnTo>
                  <a:lnTo>
                    <a:pt x="65" y="153"/>
                  </a:lnTo>
                  <a:lnTo>
                    <a:pt x="71" y="153"/>
                  </a:lnTo>
                  <a:lnTo>
                    <a:pt x="78" y="152"/>
                  </a:lnTo>
                  <a:lnTo>
                    <a:pt x="84" y="149"/>
                  </a:lnTo>
                  <a:lnTo>
                    <a:pt x="87" y="143"/>
                  </a:lnTo>
                  <a:lnTo>
                    <a:pt x="90" y="139"/>
                  </a:lnTo>
                  <a:lnTo>
                    <a:pt x="94" y="133"/>
                  </a:lnTo>
                  <a:lnTo>
                    <a:pt x="97" y="127"/>
                  </a:lnTo>
                  <a:lnTo>
                    <a:pt x="97" y="123"/>
                  </a:lnTo>
                  <a:lnTo>
                    <a:pt x="98" y="116"/>
                  </a:lnTo>
                  <a:lnTo>
                    <a:pt x="100" y="111"/>
                  </a:lnTo>
                  <a:lnTo>
                    <a:pt x="101" y="107"/>
                  </a:lnTo>
                  <a:lnTo>
                    <a:pt x="103" y="101"/>
                  </a:lnTo>
                  <a:lnTo>
                    <a:pt x="108" y="97"/>
                  </a:lnTo>
                  <a:lnTo>
                    <a:pt x="110" y="91"/>
                  </a:lnTo>
                  <a:lnTo>
                    <a:pt x="111" y="85"/>
                  </a:lnTo>
                  <a:lnTo>
                    <a:pt x="111" y="81"/>
                  </a:lnTo>
                  <a:lnTo>
                    <a:pt x="111" y="76"/>
                  </a:lnTo>
                  <a:lnTo>
                    <a:pt x="110" y="71"/>
                  </a:lnTo>
                  <a:lnTo>
                    <a:pt x="107" y="66"/>
                  </a:lnTo>
                  <a:lnTo>
                    <a:pt x="107" y="62"/>
                  </a:lnTo>
                  <a:lnTo>
                    <a:pt x="103" y="56"/>
                  </a:lnTo>
                  <a:lnTo>
                    <a:pt x="103" y="52"/>
                  </a:lnTo>
                  <a:lnTo>
                    <a:pt x="103" y="45"/>
                  </a:lnTo>
                  <a:lnTo>
                    <a:pt x="103" y="40"/>
                  </a:lnTo>
                  <a:lnTo>
                    <a:pt x="98" y="37"/>
                  </a:lnTo>
                  <a:lnTo>
                    <a:pt x="97" y="33"/>
                  </a:lnTo>
                  <a:lnTo>
                    <a:pt x="94" y="27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404120" y="5515200"/>
              <a:ext cx="231480" cy="192240"/>
            </a:xfrm>
            <a:custGeom>
              <a:avLst/>
              <a:gdLst/>
              <a:ahLst/>
              <a:rect l="l" t="t" r="r" b="b"/>
              <a:pathLst>
                <a:path w="291" h="271">
                  <a:moveTo>
                    <a:pt x="208" y="113"/>
                  </a:moveTo>
                  <a:lnTo>
                    <a:pt x="190" y="74"/>
                  </a:lnTo>
                  <a:lnTo>
                    <a:pt x="168" y="43"/>
                  </a:lnTo>
                  <a:lnTo>
                    <a:pt x="142" y="19"/>
                  </a:lnTo>
                  <a:lnTo>
                    <a:pt x="119" y="4"/>
                  </a:lnTo>
                  <a:lnTo>
                    <a:pt x="97" y="0"/>
                  </a:lnTo>
                  <a:lnTo>
                    <a:pt x="68" y="0"/>
                  </a:lnTo>
                  <a:lnTo>
                    <a:pt x="44" y="11"/>
                  </a:lnTo>
                  <a:lnTo>
                    <a:pt x="16" y="36"/>
                  </a:lnTo>
                  <a:lnTo>
                    <a:pt x="3" y="61"/>
                  </a:lnTo>
                  <a:lnTo>
                    <a:pt x="0" y="91"/>
                  </a:lnTo>
                  <a:lnTo>
                    <a:pt x="0" y="133"/>
                  </a:lnTo>
                  <a:lnTo>
                    <a:pt x="9" y="169"/>
                  </a:lnTo>
                  <a:lnTo>
                    <a:pt x="16" y="200"/>
                  </a:lnTo>
                  <a:lnTo>
                    <a:pt x="31" y="222"/>
                  </a:lnTo>
                  <a:lnTo>
                    <a:pt x="48" y="242"/>
                  </a:lnTo>
                  <a:lnTo>
                    <a:pt x="77" y="261"/>
                  </a:lnTo>
                  <a:lnTo>
                    <a:pt x="102" y="269"/>
                  </a:lnTo>
                  <a:lnTo>
                    <a:pt x="129" y="271"/>
                  </a:lnTo>
                  <a:lnTo>
                    <a:pt x="155" y="264"/>
                  </a:lnTo>
                  <a:lnTo>
                    <a:pt x="176" y="258"/>
                  </a:lnTo>
                  <a:lnTo>
                    <a:pt x="195" y="235"/>
                  </a:lnTo>
                  <a:lnTo>
                    <a:pt x="203" y="204"/>
                  </a:lnTo>
                  <a:lnTo>
                    <a:pt x="208" y="171"/>
                  </a:lnTo>
                  <a:lnTo>
                    <a:pt x="215" y="153"/>
                  </a:lnTo>
                  <a:lnTo>
                    <a:pt x="238" y="148"/>
                  </a:lnTo>
                  <a:lnTo>
                    <a:pt x="273" y="149"/>
                  </a:lnTo>
                  <a:lnTo>
                    <a:pt x="291" y="142"/>
                  </a:lnTo>
                  <a:lnTo>
                    <a:pt x="291" y="127"/>
                  </a:lnTo>
                  <a:lnTo>
                    <a:pt x="281" y="111"/>
                  </a:lnTo>
                  <a:lnTo>
                    <a:pt x="264" y="106"/>
                  </a:lnTo>
                  <a:lnTo>
                    <a:pt x="238" y="106"/>
                  </a:lnTo>
                  <a:lnTo>
                    <a:pt x="208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62680" y="5581440"/>
              <a:ext cx="274680" cy="190800"/>
            </a:xfrm>
            <a:custGeom>
              <a:avLst/>
              <a:gdLst/>
              <a:ahLst/>
              <a:rect l="l" t="t" r="r" b="b"/>
              <a:pathLst>
                <a:path w="346" h="271">
                  <a:moveTo>
                    <a:pt x="246" y="165"/>
                  </a:moveTo>
                  <a:lnTo>
                    <a:pt x="236" y="110"/>
                  </a:lnTo>
                  <a:lnTo>
                    <a:pt x="220" y="72"/>
                  </a:lnTo>
                  <a:lnTo>
                    <a:pt x="191" y="33"/>
                  </a:lnTo>
                  <a:lnTo>
                    <a:pt x="165" y="11"/>
                  </a:lnTo>
                  <a:lnTo>
                    <a:pt x="130" y="0"/>
                  </a:lnTo>
                  <a:lnTo>
                    <a:pt x="91" y="0"/>
                  </a:lnTo>
                  <a:lnTo>
                    <a:pt x="54" y="10"/>
                  </a:lnTo>
                  <a:lnTo>
                    <a:pt x="26" y="34"/>
                  </a:lnTo>
                  <a:lnTo>
                    <a:pt x="10" y="59"/>
                  </a:lnTo>
                  <a:lnTo>
                    <a:pt x="1" y="92"/>
                  </a:lnTo>
                  <a:lnTo>
                    <a:pt x="0" y="126"/>
                  </a:lnTo>
                  <a:lnTo>
                    <a:pt x="3" y="162"/>
                  </a:lnTo>
                  <a:lnTo>
                    <a:pt x="10" y="192"/>
                  </a:lnTo>
                  <a:lnTo>
                    <a:pt x="33" y="220"/>
                  </a:lnTo>
                  <a:lnTo>
                    <a:pt x="54" y="239"/>
                  </a:lnTo>
                  <a:lnTo>
                    <a:pt x="81" y="259"/>
                  </a:lnTo>
                  <a:lnTo>
                    <a:pt x="103" y="268"/>
                  </a:lnTo>
                  <a:lnTo>
                    <a:pt x="138" y="271"/>
                  </a:lnTo>
                  <a:lnTo>
                    <a:pt x="165" y="263"/>
                  </a:lnTo>
                  <a:lnTo>
                    <a:pt x="190" y="252"/>
                  </a:lnTo>
                  <a:lnTo>
                    <a:pt x="212" y="236"/>
                  </a:lnTo>
                  <a:lnTo>
                    <a:pt x="229" y="216"/>
                  </a:lnTo>
                  <a:lnTo>
                    <a:pt x="251" y="205"/>
                  </a:lnTo>
                  <a:lnTo>
                    <a:pt x="284" y="208"/>
                  </a:lnTo>
                  <a:lnTo>
                    <a:pt x="287" y="213"/>
                  </a:lnTo>
                  <a:lnTo>
                    <a:pt x="313" y="224"/>
                  </a:lnTo>
                  <a:lnTo>
                    <a:pt x="333" y="221"/>
                  </a:lnTo>
                  <a:lnTo>
                    <a:pt x="346" y="201"/>
                  </a:lnTo>
                  <a:lnTo>
                    <a:pt x="341" y="189"/>
                  </a:lnTo>
                  <a:lnTo>
                    <a:pt x="325" y="179"/>
                  </a:lnTo>
                  <a:lnTo>
                    <a:pt x="291" y="175"/>
                  </a:lnTo>
                  <a:lnTo>
                    <a:pt x="262" y="171"/>
                  </a:lnTo>
                  <a:lnTo>
                    <a:pt x="24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99240" y="5827680"/>
              <a:ext cx="223560" cy="302040"/>
            </a:xfrm>
            <a:custGeom>
              <a:avLst/>
              <a:gdLst/>
              <a:ahLst/>
              <a:rect l="l" t="t" r="r" b="b"/>
              <a:pathLst>
                <a:path w="284" h="429">
                  <a:moveTo>
                    <a:pt x="90" y="100"/>
                  </a:moveTo>
                  <a:lnTo>
                    <a:pt x="152" y="42"/>
                  </a:lnTo>
                  <a:lnTo>
                    <a:pt x="213" y="13"/>
                  </a:lnTo>
                  <a:lnTo>
                    <a:pt x="260" y="0"/>
                  </a:lnTo>
                  <a:lnTo>
                    <a:pt x="277" y="7"/>
                  </a:lnTo>
                  <a:lnTo>
                    <a:pt x="284" y="33"/>
                  </a:lnTo>
                  <a:lnTo>
                    <a:pt x="265" y="75"/>
                  </a:lnTo>
                  <a:lnTo>
                    <a:pt x="236" y="98"/>
                  </a:lnTo>
                  <a:lnTo>
                    <a:pt x="180" y="111"/>
                  </a:lnTo>
                  <a:lnTo>
                    <a:pt x="112" y="142"/>
                  </a:lnTo>
                  <a:lnTo>
                    <a:pt x="61" y="181"/>
                  </a:lnTo>
                  <a:lnTo>
                    <a:pt x="39" y="219"/>
                  </a:lnTo>
                  <a:lnTo>
                    <a:pt x="39" y="240"/>
                  </a:lnTo>
                  <a:lnTo>
                    <a:pt x="47" y="261"/>
                  </a:lnTo>
                  <a:lnTo>
                    <a:pt x="64" y="280"/>
                  </a:lnTo>
                  <a:lnTo>
                    <a:pt x="93" y="297"/>
                  </a:lnTo>
                  <a:lnTo>
                    <a:pt x="125" y="303"/>
                  </a:lnTo>
                  <a:lnTo>
                    <a:pt x="145" y="297"/>
                  </a:lnTo>
                  <a:lnTo>
                    <a:pt x="171" y="290"/>
                  </a:lnTo>
                  <a:lnTo>
                    <a:pt x="200" y="284"/>
                  </a:lnTo>
                  <a:lnTo>
                    <a:pt x="222" y="287"/>
                  </a:lnTo>
                  <a:lnTo>
                    <a:pt x="226" y="298"/>
                  </a:lnTo>
                  <a:lnTo>
                    <a:pt x="223" y="303"/>
                  </a:lnTo>
                  <a:lnTo>
                    <a:pt x="225" y="307"/>
                  </a:lnTo>
                  <a:lnTo>
                    <a:pt x="225" y="313"/>
                  </a:lnTo>
                  <a:lnTo>
                    <a:pt x="219" y="317"/>
                  </a:lnTo>
                  <a:lnTo>
                    <a:pt x="215" y="319"/>
                  </a:lnTo>
                  <a:lnTo>
                    <a:pt x="209" y="322"/>
                  </a:lnTo>
                  <a:lnTo>
                    <a:pt x="202" y="323"/>
                  </a:lnTo>
                  <a:lnTo>
                    <a:pt x="197" y="322"/>
                  </a:lnTo>
                  <a:lnTo>
                    <a:pt x="193" y="320"/>
                  </a:lnTo>
                  <a:lnTo>
                    <a:pt x="187" y="320"/>
                  </a:lnTo>
                  <a:lnTo>
                    <a:pt x="183" y="319"/>
                  </a:lnTo>
                  <a:lnTo>
                    <a:pt x="178" y="319"/>
                  </a:lnTo>
                  <a:lnTo>
                    <a:pt x="171" y="317"/>
                  </a:lnTo>
                  <a:lnTo>
                    <a:pt x="165" y="317"/>
                  </a:lnTo>
                  <a:lnTo>
                    <a:pt x="160" y="317"/>
                  </a:lnTo>
                  <a:lnTo>
                    <a:pt x="155" y="319"/>
                  </a:lnTo>
                  <a:lnTo>
                    <a:pt x="151" y="323"/>
                  </a:lnTo>
                  <a:lnTo>
                    <a:pt x="152" y="329"/>
                  </a:lnTo>
                  <a:lnTo>
                    <a:pt x="158" y="330"/>
                  </a:lnTo>
                  <a:lnTo>
                    <a:pt x="165" y="333"/>
                  </a:lnTo>
                  <a:lnTo>
                    <a:pt x="170" y="333"/>
                  </a:lnTo>
                  <a:lnTo>
                    <a:pt x="176" y="335"/>
                  </a:lnTo>
                  <a:lnTo>
                    <a:pt x="181" y="335"/>
                  </a:lnTo>
                  <a:lnTo>
                    <a:pt x="187" y="336"/>
                  </a:lnTo>
                  <a:lnTo>
                    <a:pt x="194" y="336"/>
                  </a:lnTo>
                  <a:lnTo>
                    <a:pt x="200" y="339"/>
                  </a:lnTo>
                  <a:lnTo>
                    <a:pt x="207" y="340"/>
                  </a:lnTo>
                  <a:lnTo>
                    <a:pt x="212" y="342"/>
                  </a:lnTo>
                  <a:lnTo>
                    <a:pt x="216" y="343"/>
                  </a:lnTo>
                  <a:lnTo>
                    <a:pt x="219" y="348"/>
                  </a:lnTo>
                  <a:lnTo>
                    <a:pt x="222" y="352"/>
                  </a:lnTo>
                  <a:lnTo>
                    <a:pt x="223" y="358"/>
                  </a:lnTo>
                  <a:lnTo>
                    <a:pt x="218" y="362"/>
                  </a:lnTo>
                  <a:lnTo>
                    <a:pt x="215" y="368"/>
                  </a:lnTo>
                  <a:lnTo>
                    <a:pt x="207" y="371"/>
                  </a:lnTo>
                  <a:lnTo>
                    <a:pt x="200" y="374"/>
                  </a:lnTo>
                  <a:lnTo>
                    <a:pt x="194" y="374"/>
                  </a:lnTo>
                  <a:lnTo>
                    <a:pt x="189" y="374"/>
                  </a:lnTo>
                  <a:lnTo>
                    <a:pt x="181" y="372"/>
                  </a:lnTo>
                  <a:lnTo>
                    <a:pt x="173" y="369"/>
                  </a:lnTo>
                  <a:lnTo>
                    <a:pt x="167" y="365"/>
                  </a:lnTo>
                  <a:lnTo>
                    <a:pt x="161" y="364"/>
                  </a:lnTo>
                  <a:lnTo>
                    <a:pt x="157" y="364"/>
                  </a:lnTo>
                  <a:lnTo>
                    <a:pt x="149" y="362"/>
                  </a:lnTo>
                  <a:lnTo>
                    <a:pt x="144" y="364"/>
                  </a:lnTo>
                  <a:lnTo>
                    <a:pt x="144" y="371"/>
                  </a:lnTo>
                  <a:lnTo>
                    <a:pt x="149" y="371"/>
                  </a:lnTo>
                  <a:lnTo>
                    <a:pt x="154" y="374"/>
                  </a:lnTo>
                  <a:lnTo>
                    <a:pt x="157" y="378"/>
                  </a:lnTo>
                  <a:lnTo>
                    <a:pt x="161" y="378"/>
                  </a:lnTo>
                  <a:lnTo>
                    <a:pt x="165" y="383"/>
                  </a:lnTo>
                  <a:lnTo>
                    <a:pt x="170" y="383"/>
                  </a:lnTo>
                  <a:lnTo>
                    <a:pt x="174" y="386"/>
                  </a:lnTo>
                  <a:lnTo>
                    <a:pt x="180" y="389"/>
                  </a:lnTo>
                  <a:lnTo>
                    <a:pt x="186" y="395"/>
                  </a:lnTo>
                  <a:lnTo>
                    <a:pt x="190" y="400"/>
                  </a:lnTo>
                  <a:lnTo>
                    <a:pt x="193" y="406"/>
                  </a:lnTo>
                  <a:lnTo>
                    <a:pt x="194" y="412"/>
                  </a:lnTo>
                  <a:lnTo>
                    <a:pt x="197" y="416"/>
                  </a:lnTo>
                  <a:lnTo>
                    <a:pt x="193" y="422"/>
                  </a:lnTo>
                  <a:lnTo>
                    <a:pt x="187" y="426"/>
                  </a:lnTo>
                  <a:lnTo>
                    <a:pt x="183" y="428"/>
                  </a:lnTo>
                  <a:lnTo>
                    <a:pt x="178" y="428"/>
                  </a:lnTo>
                  <a:lnTo>
                    <a:pt x="173" y="429"/>
                  </a:lnTo>
                  <a:lnTo>
                    <a:pt x="168" y="429"/>
                  </a:lnTo>
                  <a:lnTo>
                    <a:pt x="161" y="428"/>
                  </a:lnTo>
                  <a:lnTo>
                    <a:pt x="155" y="426"/>
                  </a:lnTo>
                  <a:lnTo>
                    <a:pt x="151" y="425"/>
                  </a:lnTo>
                  <a:lnTo>
                    <a:pt x="144" y="422"/>
                  </a:lnTo>
                  <a:lnTo>
                    <a:pt x="139" y="422"/>
                  </a:lnTo>
                  <a:lnTo>
                    <a:pt x="132" y="419"/>
                  </a:lnTo>
                  <a:lnTo>
                    <a:pt x="129" y="415"/>
                  </a:lnTo>
                  <a:lnTo>
                    <a:pt x="125" y="413"/>
                  </a:lnTo>
                  <a:lnTo>
                    <a:pt x="119" y="408"/>
                  </a:lnTo>
                  <a:lnTo>
                    <a:pt x="115" y="403"/>
                  </a:lnTo>
                  <a:lnTo>
                    <a:pt x="110" y="397"/>
                  </a:lnTo>
                  <a:lnTo>
                    <a:pt x="106" y="393"/>
                  </a:lnTo>
                  <a:lnTo>
                    <a:pt x="103" y="389"/>
                  </a:lnTo>
                  <a:lnTo>
                    <a:pt x="103" y="384"/>
                  </a:lnTo>
                  <a:lnTo>
                    <a:pt x="100" y="378"/>
                  </a:lnTo>
                  <a:lnTo>
                    <a:pt x="100" y="374"/>
                  </a:lnTo>
                  <a:lnTo>
                    <a:pt x="97" y="369"/>
                  </a:lnTo>
                  <a:lnTo>
                    <a:pt x="74" y="333"/>
                  </a:lnTo>
                  <a:lnTo>
                    <a:pt x="31" y="298"/>
                  </a:lnTo>
                  <a:lnTo>
                    <a:pt x="12" y="265"/>
                  </a:lnTo>
                  <a:lnTo>
                    <a:pt x="6" y="243"/>
                  </a:lnTo>
                  <a:lnTo>
                    <a:pt x="0" y="217"/>
                  </a:lnTo>
                  <a:lnTo>
                    <a:pt x="12" y="188"/>
                  </a:lnTo>
                  <a:lnTo>
                    <a:pt x="44" y="155"/>
                  </a:lnTo>
                  <a:lnTo>
                    <a:pt x="74" y="117"/>
                  </a:lnTo>
                  <a:lnTo>
                    <a:pt x="9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40520" y="5821920"/>
              <a:ext cx="195120" cy="274320"/>
            </a:xfrm>
            <a:custGeom>
              <a:avLst/>
              <a:gdLst/>
              <a:ahLst/>
              <a:rect l="l" t="t" r="r" b="b"/>
              <a:pathLst>
                <a:path w="246" h="389">
                  <a:moveTo>
                    <a:pt x="7" y="0"/>
                  </a:moveTo>
                  <a:lnTo>
                    <a:pt x="46" y="7"/>
                  </a:lnTo>
                  <a:lnTo>
                    <a:pt x="95" y="29"/>
                  </a:lnTo>
                  <a:lnTo>
                    <a:pt x="132" y="60"/>
                  </a:lnTo>
                  <a:lnTo>
                    <a:pt x="181" y="103"/>
                  </a:lnTo>
                  <a:lnTo>
                    <a:pt x="213" y="142"/>
                  </a:lnTo>
                  <a:lnTo>
                    <a:pt x="230" y="174"/>
                  </a:lnTo>
                  <a:lnTo>
                    <a:pt x="242" y="207"/>
                  </a:lnTo>
                  <a:lnTo>
                    <a:pt x="246" y="241"/>
                  </a:lnTo>
                  <a:lnTo>
                    <a:pt x="246" y="245"/>
                  </a:lnTo>
                  <a:lnTo>
                    <a:pt x="243" y="274"/>
                  </a:lnTo>
                  <a:lnTo>
                    <a:pt x="230" y="302"/>
                  </a:lnTo>
                  <a:lnTo>
                    <a:pt x="204" y="320"/>
                  </a:lnTo>
                  <a:lnTo>
                    <a:pt x="178" y="341"/>
                  </a:lnTo>
                  <a:lnTo>
                    <a:pt x="177" y="345"/>
                  </a:lnTo>
                  <a:lnTo>
                    <a:pt x="156" y="364"/>
                  </a:lnTo>
                  <a:lnTo>
                    <a:pt x="132" y="381"/>
                  </a:lnTo>
                  <a:lnTo>
                    <a:pt x="127" y="383"/>
                  </a:lnTo>
                  <a:lnTo>
                    <a:pt x="123" y="386"/>
                  </a:lnTo>
                  <a:lnTo>
                    <a:pt x="117" y="386"/>
                  </a:lnTo>
                  <a:lnTo>
                    <a:pt x="113" y="387"/>
                  </a:lnTo>
                  <a:lnTo>
                    <a:pt x="108" y="387"/>
                  </a:lnTo>
                  <a:lnTo>
                    <a:pt x="103" y="389"/>
                  </a:lnTo>
                  <a:lnTo>
                    <a:pt x="98" y="389"/>
                  </a:lnTo>
                  <a:lnTo>
                    <a:pt x="91" y="387"/>
                  </a:lnTo>
                  <a:lnTo>
                    <a:pt x="87" y="387"/>
                  </a:lnTo>
                  <a:lnTo>
                    <a:pt x="79" y="384"/>
                  </a:lnTo>
                  <a:lnTo>
                    <a:pt x="72" y="381"/>
                  </a:lnTo>
                  <a:lnTo>
                    <a:pt x="66" y="378"/>
                  </a:lnTo>
                  <a:lnTo>
                    <a:pt x="59" y="377"/>
                  </a:lnTo>
                  <a:lnTo>
                    <a:pt x="56" y="371"/>
                  </a:lnTo>
                  <a:lnTo>
                    <a:pt x="55" y="367"/>
                  </a:lnTo>
                  <a:lnTo>
                    <a:pt x="55" y="361"/>
                  </a:lnTo>
                  <a:lnTo>
                    <a:pt x="55" y="357"/>
                  </a:lnTo>
                  <a:lnTo>
                    <a:pt x="59" y="352"/>
                  </a:lnTo>
                  <a:lnTo>
                    <a:pt x="65" y="348"/>
                  </a:lnTo>
                  <a:lnTo>
                    <a:pt x="69" y="345"/>
                  </a:lnTo>
                  <a:lnTo>
                    <a:pt x="74" y="344"/>
                  </a:lnTo>
                  <a:lnTo>
                    <a:pt x="79" y="344"/>
                  </a:lnTo>
                  <a:lnTo>
                    <a:pt x="84" y="342"/>
                  </a:lnTo>
                  <a:lnTo>
                    <a:pt x="88" y="342"/>
                  </a:lnTo>
                  <a:lnTo>
                    <a:pt x="94" y="342"/>
                  </a:lnTo>
                  <a:lnTo>
                    <a:pt x="100" y="341"/>
                  </a:lnTo>
                  <a:lnTo>
                    <a:pt x="104" y="338"/>
                  </a:lnTo>
                  <a:lnTo>
                    <a:pt x="111" y="336"/>
                  </a:lnTo>
                  <a:lnTo>
                    <a:pt x="114" y="331"/>
                  </a:lnTo>
                  <a:lnTo>
                    <a:pt x="119" y="328"/>
                  </a:lnTo>
                  <a:lnTo>
                    <a:pt x="120" y="323"/>
                  </a:lnTo>
                  <a:lnTo>
                    <a:pt x="114" y="320"/>
                  </a:lnTo>
                  <a:lnTo>
                    <a:pt x="108" y="316"/>
                  </a:lnTo>
                  <a:lnTo>
                    <a:pt x="101" y="315"/>
                  </a:lnTo>
                  <a:lnTo>
                    <a:pt x="97" y="315"/>
                  </a:lnTo>
                  <a:lnTo>
                    <a:pt x="88" y="315"/>
                  </a:lnTo>
                  <a:lnTo>
                    <a:pt x="84" y="315"/>
                  </a:lnTo>
                  <a:lnTo>
                    <a:pt x="79" y="313"/>
                  </a:lnTo>
                  <a:lnTo>
                    <a:pt x="74" y="313"/>
                  </a:lnTo>
                  <a:lnTo>
                    <a:pt x="69" y="309"/>
                  </a:lnTo>
                  <a:lnTo>
                    <a:pt x="62" y="303"/>
                  </a:lnTo>
                  <a:lnTo>
                    <a:pt x="58" y="299"/>
                  </a:lnTo>
                  <a:lnTo>
                    <a:pt x="56" y="294"/>
                  </a:lnTo>
                  <a:lnTo>
                    <a:pt x="55" y="289"/>
                  </a:lnTo>
                  <a:lnTo>
                    <a:pt x="55" y="284"/>
                  </a:lnTo>
                  <a:lnTo>
                    <a:pt x="56" y="280"/>
                  </a:lnTo>
                  <a:lnTo>
                    <a:pt x="62" y="277"/>
                  </a:lnTo>
                  <a:lnTo>
                    <a:pt x="68" y="274"/>
                  </a:lnTo>
                  <a:lnTo>
                    <a:pt x="72" y="273"/>
                  </a:lnTo>
                  <a:lnTo>
                    <a:pt x="77" y="273"/>
                  </a:lnTo>
                  <a:lnTo>
                    <a:pt x="84" y="274"/>
                  </a:lnTo>
                  <a:lnTo>
                    <a:pt x="88" y="274"/>
                  </a:lnTo>
                  <a:lnTo>
                    <a:pt x="94" y="274"/>
                  </a:lnTo>
                  <a:lnTo>
                    <a:pt x="98" y="277"/>
                  </a:lnTo>
                  <a:lnTo>
                    <a:pt x="103" y="277"/>
                  </a:lnTo>
                  <a:lnTo>
                    <a:pt x="108" y="278"/>
                  </a:lnTo>
                  <a:lnTo>
                    <a:pt x="113" y="278"/>
                  </a:lnTo>
                  <a:lnTo>
                    <a:pt x="117" y="278"/>
                  </a:lnTo>
                  <a:lnTo>
                    <a:pt x="120" y="273"/>
                  </a:lnTo>
                  <a:lnTo>
                    <a:pt x="119" y="268"/>
                  </a:lnTo>
                  <a:lnTo>
                    <a:pt x="114" y="264"/>
                  </a:lnTo>
                  <a:lnTo>
                    <a:pt x="111" y="257"/>
                  </a:lnTo>
                  <a:lnTo>
                    <a:pt x="103" y="252"/>
                  </a:lnTo>
                  <a:lnTo>
                    <a:pt x="98" y="249"/>
                  </a:lnTo>
                  <a:lnTo>
                    <a:pt x="90" y="241"/>
                  </a:lnTo>
                  <a:lnTo>
                    <a:pt x="85" y="236"/>
                  </a:lnTo>
                  <a:lnTo>
                    <a:pt x="84" y="231"/>
                  </a:lnTo>
                  <a:lnTo>
                    <a:pt x="84" y="226"/>
                  </a:lnTo>
                  <a:lnTo>
                    <a:pt x="85" y="220"/>
                  </a:lnTo>
                  <a:lnTo>
                    <a:pt x="87" y="215"/>
                  </a:lnTo>
                  <a:lnTo>
                    <a:pt x="91" y="212"/>
                  </a:lnTo>
                  <a:lnTo>
                    <a:pt x="97" y="210"/>
                  </a:lnTo>
                  <a:lnTo>
                    <a:pt x="101" y="209"/>
                  </a:lnTo>
                  <a:lnTo>
                    <a:pt x="106" y="207"/>
                  </a:lnTo>
                  <a:lnTo>
                    <a:pt x="111" y="207"/>
                  </a:lnTo>
                  <a:lnTo>
                    <a:pt x="117" y="210"/>
                  </a:lnTo>
                  <a:lnTo>
                    <a:pt x="123" y="212"/>
                  </a:lnTo>
                  <a:lnTo>
                    <a:pt x="126" y="216"/>
                  </a:lnTo>
                  <a:lnTo>
                    <a:pt x="130" y="220"/>
                  </a:lnTo>
                  <a:lnTo>
                    <a:pt x="137" y="223"/>
                  </a:lnTo>
                  <a:lnTo>
                    <a:pt x="142" y="226"/>
                  </a:lnTo>
                  <a:lnTo>
                    <a:pt x="145" y="231"/>
                  </a:lnTo>
                  <a:lnTo>
                    <a:pt x="148" y="236"/>
                  </a:lnTo>
                  <a:lnTo>
                    <a:pt x="152" y="241"/>
                  </a:lnTo>
                  <a:lnTo>
                    <a:pt x="155" y="245"/>
                  </a:lnTo>
                  <a:lnTo>
                    <a:pt x="159" y="249"/>
                  </a:lnTo>
                  <a:lnTo>
                    <a:pt x="162" y="254"/>
                  </a:lnTo>
                  <a:lnTo>
                    <a:pt x="168" y="255"/>
                  </a:lnTo>
                  <a:lnTo>
                    <a:pt x="169" y="260"/>
                  </a:lnTo>
                  <a:lnTo>
                    <a:pt x="174" y="260"/>
                  </a:lnTo>
                  <a:lnTo>
                    <a:pt x="178" y="264"/>
                  </a:lnTo>
                  <a:lnTo>
                    <a:pt x="184" y="267"/>
                  </a:lnTo>
                  <a:lnTo>
                    <a:pt x="188" y="267"/>
                  </a:lnTo>
                  <a:lnTo>
                    <a:pt x="204" y="258"/>
                  </a:lnTo>
                  <a:lnTo>
                    <a:pt x="210" y="244"/>
                  </a:lnTo>
                  <a:lnTo>
                    <a:pt x="211" y="223"/>
                  </a:lnTo>
                  <a:lnTo>
                    <a:pt x="198" y="196"/>
                  </a:lnTo>
                  <a:lnTo>
                    <a:pt x="174" y="165"/>
                  </a:lnTo>
                  <a:lnTo>
                    <a:pt x="130" y="135"/>
                  </a:lnTo>
                  <a:lnTo>
                    <a:pt x="59" y="109"/>
                  </a:lnTo>
                  <a:lnTo>
                    <a:pt x="30" y="89"/>
                  </a:lnTo>
                  <a:lnTo>
                    <a:pt x="11" y="68"/>
                  </a:lnTo>
                  <a:lnTo>
                    <a:pt x="4" y="39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7" name=""/>
            <p:cNvGrpSpPr/>
            <p:nvPr/>
          </p:nvGrpSpPr>
          <p:grpSpPr>
            <a:xfrm>
              <a:off x="6789600" y="5780880"/>
              <a:ext cx="374760" cy="337680"/>
              <a:chOff x="6789600" y="5780880"/>
              <a:chExt cx="374760" cy="337680"/>
            </a:xfrm>
          </p:grpSpPr>
          <p:sp>
            <p:nvSpPr>
              <p:cNvPr id="1908" name=""/>
              <p:cNvSpPr/>
              <p:nvPr/>
            </p:nvSpPr>
            <p:spPr>
              <a:xfrm>
                <a:off x="6789600" y="5780880"/>
                <a:ext cx="374760" cy="337680"/>
              </a:xfrm>
              <a:custGeom>
                <a:avLst/>
                <a:gdLst/>
                <a:ahLst/>
                <a:rect l="l" t="t" r="r" b="b"/>
                <a:pathLst>
                  <a:path w="472" h="480">
                    <a:moveTo>
                      <a:pt x="94" y="2"/>
                    </a:moveTo>
                    <a:lnTo>
                      <a:pt x="181" y="7"/>
                    </a:lnTo>
                    <a:lnTo>
                      <a:pt x="275" y="9"/>
                    </a:lnTo>
                    <a:lnTo>
                      <a:pt x="382" y="0"/>
                    </a:lnTo>
                    <a:lnTo>
                      <a:pt x="448" y="2"/>
                    </a:lnTo>
                    <a:lnTo>
                      <a:pt x="456" y="9"/>
                    </a:lnTo>
                    <a:lnTo>
                      <a:pt x="461" y="25"/>
                    </a:lnTo>
                    <a:lnTo>
                      <a:pt x="458" y="128"/>
                    </a:lnTo>
                    <a:lnTo>
                      <a:pt x="458" y="235"/>
                    </a:lnTo>
                    <a:lnTo>
                      <a:pt x="465" y="326"/>
                    </a:lnTo>
                    <a:lnTo>
                      <a:pt x="472" y="423"/>
                    </a:lnTo>
                    <a:lnTo>
                      <a:pt x="472" y="450"/>
                    </a:lnTo>
                    <a:lnTo>
                      <a:pt x="459" y="467"/>
                    </a:lnTo>
                    <a:lnTo>
                      <a:pt x="429" y="469"/>
                    </a:lnTo>
                    <a:lnTo>
                      <a:pt x="300" y="467"/>
                    </a:lnTo>
                    <a:lnTo>
                      <a:pt x="295" y="469"/>
                    </a:lnTo>
                    <a:lnTo>
                      <a:pt x="290" y="469"/>
                    </a:lnTo>
                    <a:lnTo>
                      <a:pt x="168" y="473"/>
                    </a:lnTo>
                    <a:lnTo>
                      <a:pt x="162" y="475"/>
                    </a:lnTo>
                    <a:lnTo>
                      <a:pt x="53" y="480"/>
                    </a:lnTo>
                    <a:lnTo>
                      <a:pt x="8" y="469"/>
                    </a:lnTo>
                    <a:lnTo>
                      <a:pt x="0" y="441"/>
                    </a:lnTo>
                    <a:lnTo>
                      <a:pt x="8" y="378"/>
                    </a:lnTo>
                    <a:lnTo>
                      <a:pt x="21" y="265"/>
                    </a:lnTo>
                    <a:lnTo>
                      <a:pt x="24" y="134"/>
                    </a:lnTo>
                    <a:lnTo>
                      <a:pt x="24" y="129"/>
                    </a:lnTo>
                    <a:lnTo>
                      <a:pt x="29" y="47"/>
                    </a:lnTo>
                    <a:lnTo>
                      <a:pt x="34" y="9"/>
                    </a:lnTo>
                    <a:lnTo>
                      <a:pt x="53" y="0"/>
                    </a:lnTo>
                    <a:lnTo>
                      <a:pt x="84" y="3"/>
                    </a:lnTo>
                    <a:lnTo>
                      <a:pt x="100" y="3"/>
                    </a:lnTo>
                    <a:lnTo>
                      <a:pt x="9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805440" y="5796360"/>
                <a:ext cx="338040" cy="303480"/>
              </a:xfrm>
              <a:custGeom>
                <a:avLst/>
                <a:gdLst/>
                <a:ahLst/>
                <a:rect l="l" t="t" r="r" b="b"/>
                <a:pathLst>
                  <a:path w="425" h="430">
                    <a:moveTo>
                      <a:pt x="40" y="2"/>
                    </a:moveTo>
                    <a:lnTo>
                      <a:pt x="135" y="5"/>
                    </a:lnTo>
                    <a:lnTo>
                      <a:pt x="225" y="6"/>
                    </a:lnTo>
                    <a:lnTo>
                      <a:pt x="321" y="2"/>
                    </a:lnTo>
                    <a:lnTo>
                      <a:pt x="396" y="0"/>
                    </a:lnTo>
                    <a:lnTo>
                      <a:pt x="409" y="3"/>
                    </a:lnTo>
                    <a:lnTo>
                      <a:pt x="412" y="21"/>
                    </a:lnTo>
                    <a:lnTo>
                      <a:pt x="409" y="121"/>
                    </a:lnTo>
                    <a:lnTo>
                      <a:pt x="411" y="221"/>
                    </a:lnTo>
                    <a:lnTo>
                      <a:pt x="419" y="309"/>
                    </a:lnTo>
                    <a:lnTo>
                      <a:pt x="425" y="399"/>
                    </a:lnTo>
                    <a:lnTo>
                      <a:pt x="422" y="412"/>
                    </a:lnTo>
                    <a:lnTo>
                      <a:pt x="399" y="416"/>
                    </a:lnTo>
                    <a:lnTo>
                      <a:pt x="292" y="416"/>
                    </a:lnTo>
                    <a:lnTo>
                      <a:pt x="187" y="419"/>
                    </a:lnTo>
                    <a:lnTo>
                      <a:pt x="89" y="428"/>
                    </a:lnTo>
                    <a:lnTo>
                      <a:pt x="25" y="430"/>
                    </a:lnTo>
                    <a:lnTo>
                      <a:pt x="6" y="427"/>
                    </a:lnTo>
                    <a:lnTo>
                      <a:pt x="0" y="415"/>
                    </a:lnTo>
                    <a:lnTo>
                      <a:pt x="16" y="309"/>
                    </a:lnTo>
                    <a:lnTo>
                      <a:pt x="25" y="218"/>
                    </a:lnTo>
                    <a:lnTo>
                      <a:pt x="31" y="125"/>
                    </a:lnTo>
                    <a:lnTo>
                      <a:pt x="32" y="35"/>
                    </a:lnTo>
                    <a:lnTo>
                      <a:pt x="37" y="8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6771960" y="6018480"/>
              <a:ext cx="113040" cy="110160"/>
            </a:xfrm>
            <a:custGeom>
              <a:avLst/>
              <a:gdLst/>
              <a:ahLst/>
              <a:rect l="l" t="t" r="r" b="b"/>
              <a:pathLst>
                <a:path w="142" h="155">
                  <a:moveTo>
                    <a:pt x="16" y="30"/>
                  </a:moveTo>
                  <a:lnTo>
                    <a:pt x="22" y="33"/>
                  </a:lnTo>
                  <a:lnTo>
                    <a:pt x="32" y="32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8" y="26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4" y="14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77" y="4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3"/>
                  </a:lnTo>
                  <a:lnTo>
                    <a:pt x="122" y="4"/>
                  </a:lnTo>
                  <a:lnTo>
                    <a:pt x="128" y="6"/>
                  </a:lnTo>
                  <a:lnTo>
                    <a:pt x="132" y="9"/>
                  </a:lnTo>
                  <a:lnTo>
                    <a:pt x="138" y="16"/>
                  </a:lnTo>
                  <a:lnTo>
                    <a:pt x="138" y="20"/>
                  </a:lnTo>
                  <a:lnTo>
                    <a:pt x="142" y="26"/>
                  </a:lnTo>
                  <a:lnTo>
                    <a:pt x="142" y="32"/>
                  </a:lnTo>
                  <a:lnTo>
                    <a:pt x="142" y="36"/>
                  </a:lnTo>
                  <a:lnTo>
                    <a:pt x="138" y="42"/>
                  </a:lnTo>
                  <a:lnTo>
                    <a:pt x="134" y="45"/>
                  </a:lnTo>
                  <a:lnTo>
                    <a:pt x="129" y="48"/>
                  </a:lnTo>
                  <a:lnTo>
                    <a:pt x="124" y="48"/>
                  </a:lnTo>
                  <a:lnTo>
                    <a:pt x="119" y="48"/>
                  </a:lnTo>
                  <a:lnTo>
                    <a:pt x="115" y="46"/>
                  </a:lnTo>
                  <a:lnTo>
                    <a:pt x="109" y="43"/>
                  </a:lnTo>
                  <a:lnTo>
                    <a:pt x="103" y="42"/>
                  </a:lnTo>
                  <a:lnTo>
                    <a:pt x="99" y="40"/>
                  </a:lnTo>
                  <a:lnTo>
                    <a:pt x="92" y="38"/>
                  </a:lnTo>
                  <a:lnTo>
                    <a:pt x="87" y="38"/>
                  </a:lnTo>
                  <a:lnTo>
                    <a:pt x="80" y="36"/>
                  </a:lnTo>
                  <a:lnTo>
                    <a:pt x="76" y="35"/>
                  </a:lnTo>
                  <a:lnTo>
                    <a:pt x="70" y="36"/>
                  </a:lnTo>
                  <a:lnTo>
                    <a:pt x="64" y="38"/>
                  </a:lnTo>
                  <a:lnTo>
                    <a:pt x="61" y="43"/>
                  </a:lnTo>
                  <a:lnTo>
                    <a:pt x="60" y="48"/>
                  </a:lnTo>
                  <a:lnTo>
                    <a:pt x="64" y="52"/>
                  </a:lnTo>
                  <a:lnTo>
                    <a:pt x="70" y="56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4" y="62"/>
                  </a:lnTo>
                  <a:lnTo>
                    <a:pt x="92" y="62"/>
                  </a:lnTo>
                  <a:lnTo>
                    <a:pt x="96" y="62"/>
                  </a:lnTo>
                  <a:lnTo>
                    <a:pt x="103" y="62"/>
                  </a:lnTo>
                  <a:lnTo>
                    <a:pt x="108" y="62"/>
                  </a:lnTo>
                  <a:lnTo>
                    <a:pt x="113" y="64"/>
                  </a:lnTo>
                  <a:lnTo>
                    <a:pt x="118" y="68"/>
                  </a:lnTo>
                  <a:lnTo>
                    <a:pt x="122" y="71"/>
                  </a:lnTo>
                  <a:lnTo>
                    <a:pt x="128" y="74"/>
                  </a:lnTo>
                  <a:lnTo>
                    <a:pt x="129" y="78"/>
                  </a:lnTo>
                  <a:lnTo>
                    <a:pt x="132" y="84"/>
                  </a:lnTo>
                  <a:lnTo>
                    <a:pt x="132" y="88"/>
                  </a:lnTo>
                  <a:lnTo>
                    <a:pt x="129" y="94"/>
                  </a:lnTo>
                  <a:lnTo>
                    <a:pt x="128" y="100"/>
                  </a:lnTo>
                  <a:lnTo>
                    <a:pt x="122" y="103"/>
                  </a:lnTo>
                  <a:lnTo>
                    <a:pt x="116" y="104"/>
                  </a:lnTo>
                  <a:lnTo>
                    <a:pt x="111" y="104"/>
                  </a:lnTo>
                  <a:lnTo>
                    <a:pt x="106" y="104"/>
                  </a:lnTo>
                  <a:lnTo>
                    <a:pt x="100" y="104"/>
                  </a:lnTo>
                  <a:lnTo>
                    <a:pt x="95" y="103"/>
                  </a:lnTo>
                  <a:lnTo>
                    <a:pt x="89" y="100"/>
                  </a:lnTo>
                  <a:lnTo>
                    <a:pt x="84" y="100"/>
                  </a:lnTo>
                  <a:lnTo>
                    <a:pt x="77" y="97"/>
                  </a:lnTo>
                  <a:lnTo>
                    <a:pt x="73" y="97"/>
                  </a:lnTo>
                  <a:lnTo>
                    <a:pt x="67" y="94"/>
                  </a:lnTo>
                  <a:lnTo>
                    <a:pt x="60" y="93"/>
                  </a:lnTo>
                  <a:lnTo>
                    <a:pt x="55" y="91"/>
                  </a:lnTo>
                  <a:lnTo>
                    <a:pt x="48" y="91"/>
                  </a:lnTo>
                  <a:lnTo>
                    <a:pt x="44" y="91"/>
                  </a:lnTo>
                  <a:lnTo>
                    <a:pt x="45" y="97"/>
                  </a:lnTo>
                  <a:lnTo>
                    <a:pt x="50" y="101"/>
                  </a:lnTo>
                  <a:lnTo>
                    <a:pt x="55" y="103"/>
                  </a:lnTo>
                  <a:lnTo>
                    <a:pt x="60" y="106"/>
                  </a:lnTo>
                  <a:lnTo>
                    <a:pt x="64" y="107"/>
                  </a:lnTo>
                  <a:lnTo>
                    <a:pt x="70" y="109"/>
                  </a:lnTo>
                  <a:lnTo>
                    <a:pt x="74" y="112"/>
                  </a:lnTo>
                  <a:lnTo>
                    <a:pt x="79" y="115"/>
                  </a:lnTo>
                  <a:lnTo>
                    <a:pt x="84" y="118"/>
                  </a:lnTo>
                  <a:lnTo>
                    <a:pt x="87" y="122"/>
                  </a:lnTo>
                  <a:lnTo>
                    <a:pt x="92" y="124"/>
                  </a:lnTo>
                  <a:lnTo>
                    <a:pt x="99" y="135"/>
                  </a:lnTo>
                  <a:lnTo>
                    <a:pt x="100" y="144"/>
                  </a:lnTo>
                  <a:lnTo>
                    <a:pt x="96" y="148"/>
                  </a:lnTo>
                  <a:lnTo>
                    <a:pt x="95" y="154"/>
                  </a:lnTo>
                  <a:lnTo>
                    <a:pt x="90" y="154"/>
                  </a:lnTo>
                  <a:lnTo>
                    <a:pt x="86" y="154"/>
                  </a:lnTo>
                  <a:lnTo>
                    <a:pt x="80" y="155"/>
                  </a:lnTo>
                  <a:lnTo>
                    <a:pt x="76" y="155"/>
                  </a:lnTo>
                  <a:lnTo>
                    <a:pt x="71" y="155"/>
                  </a:lnTo>
                  <a:lnTo>
                    <a:pt x="64" y="154"/>
                  </a:lnTo>
                  <a:lnTo>
                    <a:pt x="58" y="154"/>
                  </a:lnTo>
                  <a:lnTo>
                    <a:pt x="53" y="151"/>
                  </a:lnTo>
                  <a:lnTo>
                    <a:pt x="48" y="150"/>
                  </a:lnTo>
                  <a:lnTo>
                    <a:pt x="42" y="147"/>
                  </a:lnTo>
                  <a:lnTo>
                    <a:pt x="37" y="144"/>
                  </a:lnTo>
                  <a:lnTo>
                    <a:pt x="32" y="141"/>
                  </a:lnTo>
                  <a:lnTo>
                    <a:pt x="28" y="137"/>
                  </a:lnTo>
                  <a:lnTo>
                    <a:pt x="25" y="132"/>
                  </a:lnTo>
                  <a:lnTo>
                    <a:pt x="22" y="128"/>
                  </a:lnTo>
                  <a:lnTo>
                    <a:pt x="18" y="122"/>
                  </a:lnTo>
                  <a:lnTo>
                    <a:pt x="15" y="118"/>
                  </a:lnTo>
                  <a:lnTo>
                    <a:pt x="13" y="113"/>
                  </a:lnTo>
                  <a:lnTo>
                    <a:pt x="9" y="107"/>
                  </a:lnTo>
                  <a:lnTo>
                    <a:pt x="9" y="103"/>
                  </a:lnTo>
                  <a:lnTo>
                    <a:pt x="6" y="98"/>
                  </a:lnTo>
                  <a:lnTo>
                    <a:pt x="6" y="93"/>
                  </a:lnTo>
                  <a:lnTo>
                    <a:pt x="5" y="88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3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3" y="49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88040" y="5970600"/>
              <a:ext cx="104760" cy="12852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132" y="60"/>
                  </a:moveTo>
                  <a:lnTo>
                    <a:pt x="101" y="42"/>
                  </a:lnTo>
                  <a:lnTo>
                    <a:pt x="98" y="38"/>
                  </a:lnTo>
                  <a:lnTo>
                    <a:pt x="94" y="34"/>
                  </a:lnTo>
                  <a:lnTo>
                    <a:pt x="91" y="29"/>
                  </a:lnTo>
                  <a:lnTo>
                    <a:pt x="87" y="25"/>
                  </a:lnTo>
                  <a:lnTo>
                    <a:pt x="85" y="19"/>
                  </a:lnTo>
                  <a:lnTo>
                    <a:pt x="79" y="15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6" y="5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40" y="5"/>
                  </a:lnTo>
                  <a:lnTo>
                    <a:pt x="36" y="9"/>
                  </a:lnTo>
                  <a:lnTo>
                    <a:pt x="34" y="13"/>
                  </a:lnTo>
                  <a:lnTo>
                    <a:pt x="30" y="18"/>
                  </a:lnTo>
                  <a:lnTo>
                    <a:pt x="30" y="23"/>
                  </a:lnTo>
                  <a:lnTo>
                    <a:pt x="33" y="28"/>
                  </a:lnTo>
                  <a:lnTo>
                    <a:pt x="34" y="32"/>
                  </a:lnTo>
                  <a:lnTo>
                    <a:pt x="37" y="38"/>
                  </a:lnTo>
                  <a:lnTo>
                    <a:pt x="43" y="39"/>
                  </a:lnTo>
                  <a:lnTo>
                    <a:pt x="49" y="42"/>
                  </a:lnTo>
                  <a:lnTo>
                    <a:pt x="53" y="45"/>
                  </a:lnTo>
                  <a:lnTo>
                    <a:pt x="58" y="51"/>
                  </a:lnTo>
                  <a:lnTo>
                    <a:pt x="63" y="55"/>
                  </a:lnTo>
                  <a:lnTo>
                    <a:pt x="66" y="60"/>
                  </a:lnTo>
                  <a:lnTo>
                    <a:pt x="66" y="65"/>
                  </a:lnTo>
                  <a:lnTo>
                    <a:pt x="62" y="67"/>
                  </a:lnTo>
                  <a:lnTo>
                    <a:pt x="56" y="68"/>
                  </a:lnTo>
                  <a:lnTo>
                    <a:pt x="50" y="67"/>
                  </a:lnTo>
                  <a:lnTo>
                    <a:pt x="45" y="65"/>
                  </a:lnTo>
                  <a:lnTo>
                    <a:pt x="40" y="63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26" y="63"/>
                  </a:lnTo>
                  <a:lnTo>
                    <a:pt x="21" y="63"/>
                  </a:lnTo>
                  <a:lnTo>
                    <a:pt x="14" y="65"/>
                  </a:lnTo>
                  <a:lnTo>
                    <a:pt x="8" y="67"/>
                  </a:lnTo>
                  <a:lnTo>
                    <a:pt x="3" y="70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5" y="96"/>
                  </a:lnTo>
                  <a:lnTo>
                    <a:pt x="10" y="97"/>
                  </a:lnTo>
                  <a:lnTo>
                    <a:pt x="14" y="99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29" y="103"/>
                  </a:lnTo>
                  <a:lnTo>
                    <a:pt x="34" y="106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9" y="109"/>
                  </a:lnTo>
                  <a:lnTo>
                    <a:pt x="53" y="110"/>
                  </a:lnTo>
                  <a:lnTo>
                    <a:pt x="58" y="112"/>
                  </a:lnTo>
                  <a:lnTo>
                    <a:pt x="63" y="113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59" y="126"/>
                  </a:lnTo>
                  <a:lnTo>
                    <a:pt x="53" y="128"/>
                  </a:lnTo>
                  <a:lnTo>
                    <a:pt x="46" y="131"/>
                  </a:lnTo>
                  <a:lnTo>
                    <a:pt x="42" y="131"/>
                  </a:lnTo>
                  <a:lnTo>
                    <a:pt x="37" y="132"/>
                  </a:lnTo>
                  <a:lnTo>
                    <a:pt x="30" y="132"/>
                  </a:lnTo>
                  <a:lnTo>
                    <a:pt x="24" y="134"/>
                  </a:lnTo>
                  <a:lnTo>
                    <a:pt x="20" y="139"/>
                  </a:lnTo>
                  <a:lnTo>
                    <a:pt x="14" y="141"/>
                  </a:lnTo>
                  <a:lnTo>
                    <a:pt x="11" y="145"/>
                  </a:lnTo>
                  <a:lnTo>
                    <a:pt x="7" y="151"/>
                  </a:lnTo>
                  <a:lnTo>
                    <a:pt x="5" y="155"/>
                  </a:lnTo>
                  <a:lnTo>
                    <a:pt x="5" y="160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3"/>
                  </a:lnTo>
                  <a:lnTo>
                    <a:pt x="21" y="176"/>
                  </a:lnTo>
                  <a:lnTo>
                    <a:pt x="26" y="180"/>
                  </a:lnTo>
                  <a:lnTo>
                    <a:pt x="30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6" y="182"/>
                  </a:lnTo>
                  <a:lnTo>
                    <a:pt x="50" y="177"/>
                  </a:lnTo>
                  <a:lnTo>
                    <a:pt x="55" y="177"/>
                  </a:lnTo>
                  <a:lnTo>
                    <a:pt x="59" y="176"/>
                  </a:lnTo>
                  <a:lnTo>
                    <a:pt x="66" y="173"/>
                  </a:lnTo>
                  <a:lnTo>
                    <a:pt x="72" y="170"/>
                  </a:lnTo>
                  <a:lnTo>
                    <a:pt x="78" y="168"/>
                  </a:lnTo>
                  <a:lnTo>
                    <a:pt x="82" y="165"/>
                  </a:lnTo>
                  <a:lnTo>
                    <a:pt x="87" y="161"/>
                  </a:lnTo>
                  <a:lnTo>
                    <a:pt x="91" y="157"/>
                  </a:lnTo>
                  <a:lnTo>
                    <a:pt x="95" y="154"/>
                  </a:lnTo>
                  <a:lnTo>
                    <a:pt x="98" y="148"/>
                  </a:lnTo>
                  <a:lnTo>
                    <a:pt x="104" y="145"/>
                  </a:lnTo>
                  <a:lnTo>
                    <a:pt x="108" y="141"/>
                  </a:lnTo>
                  <a:lnTo>
                    <a:pt x="113" y="139"/>
                  </a:lnTo>
                  <a:lnTo>
                    <a:pt x="116" y="134"/>
                  </a:lnTo>
                  <a:lnTo>
                    <a:pt x="117" y="129"/>
                  </a:lnTo>
                  <a:lnTo>
                    <a:pt x="129" y="103"/>
                  </a:lnTo>
                  <a:lnTo>
                    <a:pt x="129" y="74"/>
                  </a:lnTo>
                  <a:lnTo>
                    <a:pt x="13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951680" y="5696280"/>
              <a:ext cx="168120" cy="244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12" y="64"/>
                  </a:moveTo>
                  <a:lnTo>
                    <a:pt x="26" y="23"/>
                  </a:lnTo>
                  <a:lnTo>
                    <a:pt x="48" y="4"/>
                  </a:lnTo>
                  <a:lnTo>
                    <a:pt x="71" y="0"/>
                  </a:lnTo>
                  <a:lnTo>
                    <a:pt x="89" y="4"/>
                  </a:lnTo>
                  <a:lnTo>
                    <a:pt x="99" y="23"/>
                  </a:lnTo>
                  <a:lnTo>
                    <a:pt x="95" y="56"/>
                  </a:lnTo>
                  <a:lnTo>
                    <a:pt x="84" y="85"/>
                  </a:lnTo>
                  <a:lnTo>
                    <a:pt x="70" y="114"/>
                  </a:lnTo>
                  <a:lnTo>
                    <a:pt x="53" y="143"/>
                  </a:lnTo>
                  <a:lnTo>
                    <a:pt x="48" y="174"/>
                  </a:lnTo>
                  <a:lnTo>
                    <a:pt x="47" y="201"/>
                  </a:lnTo>
                  <a:lnTo>
                    <a:pt x="53" y="229"/>
                  </a:lnTo>
                  <a:lnTo>
                    <a:pt x="66" y="243"/>
                  </a:lnTo>
                  <a:lnTo>
                    <a:pt x="86" y="248"/>
                  </a:lnTo>
                  <a:lnTo>
                    <a:pt x="90" y="251"/>
                  </a:lnTo>
                  <a:lnTo>
                    <a:pt x="95" y="249"/>
                  </a:lnTo>
                  <a:lnTo>
                    <a:pt x="100" y="245"/>
                  </a:lnTo>
                  <a:lnTo>
                    <a:pt x="105" y="242"/>
                  </a:lnTo>
                  <a:lnTo>
                    <a:pt x="106" y="236"/>
                  </a:lnTo>
                  <a:lnTo>
                    <a:pt x="106" y="230"/>
                  </a:lnTo>
                  <a:lnTo>
                    <a:pt x="106" y="226"/>
                  </a:lnTo>
                  <a:lnTo>
                    <a:pt x="108" y="220"/>
                  </a:lnTo>
                  <a:lnTo>
                    <a:pt x="108" y="216"/>
                  </a:lnTo>
                  <a:lnTo>
                    <a:pt x="108" y="210"/>
                  </a:lnTo>
                  <a:lnTo>
                    <a:pt x="106" y="204"/>
                  </a:lnTo>
                  <a:lnTo>
                    <a:pt x="106" y="198"/>
                  </a:lnTo>
                  <a:lnTo>
                    <a:pt x="108" y="193"/>
                  </a:lnTo>
                  <a:lnTo>
                    <a:pt x="109" y="188"/>
                  </a:lnTo>
                  <a:lnTo>
                    <a:pt x="115" y="184"/>
                  </a:lnTo>
                  <a:lnTo>
                    <a:pt x="118" y="178"/>
                  </a:lnTo>
                  <a:lnTo>
                    <a:pt x="121" y="174"/>
                  </a:lnTo>
                  <a:lnTo>
                    <a:pt x="125" y="171"/>
                  </a:lnTo>
                  <a:lnTo>
                    <a:pt x="129" y="165"/>
                  </a:lnTo>
                  <a:lnTo>
                    <a:pt x="134" y="161"/>
                  </a:lnTo>
                  <a:lnTo>
                    <a:pt x="138" y="158"/>
                  </a:lnTo>
                  <a:lnTo>
                    <a:pt x="144" y="156"/>
                  </a:lnTo>
                  <a:lnTo>
                    <a:pt x="150" y="155"/>
                  </a:lnTo>
                  <a:lnTo>
                    <a:pt x="154" y="155"/>
                  </a:lnTo>
                  <a:lnTo>
                    <a:pt x="160" y="158"/>
                  </a:lnTo>
                  <a:lnTo>
                    <a:pt x="161" y="162"/>
                  </a:lnTo>
                  <a:lnTo>
                    <a:pt x="163" y="167"/>
                  </a:lnTo>
                  <a:lnTo>
                    <a:pt x="161" y="172"/>
                  </a:lnTo>
                  <a:lnTo>
                    <a:pt x="160" y="178"/>
                  </a:lnTo>
                  <a:lnTo>
                    <a:pt x="158" y="184"/>
                  </a:lnTo>
                  <a:lnTo>
                    <a:pt x="157" y="188"/>
                  </a:lnTo>
                  <a:lnTo>
                    <a:pt x="154" y="193"/>
                  </a:lnTo>
                  <a:lnTo>
                    <a:pt x="150" y="197"/>
                  </a:lnTo>
                  <a:lnTo>
                    <a:pt x="145" y="201"/>
                  </a:lnTo>
                  <a:lnTo>
                    <a:pt x="142" y="206"/>
                  </a:lnTo>
                  <a:lnTo>
                    <a:pt x="140" y="210"/>
                  </a:lnTo>
                  <a:lnTo>
                    <a:pt x="137" y="216"/>
                  </a:lnTo>
                  <a:lnTo>
                    <a:pt x="137" y="220"/>
                  </a:lnTo>
                  <a:lnTo>
                    <a:pt x="137" y="226"/>
                  </a:lnTo>
                  <a:lnTo>
                    <a:pt x="142" y="229"/>
                  </a:lnTo>
                  <a:lnTo>
                    <a:pt x="147" y="227"/>
                  </a:lnTo>
                  <a:lnTo>
                    <a:pt x="153" y="223"/>
                  </a:lnTo>
                  <a:lnTo>
                    <a:pt x="160" y="219"/>
                  </a:lnTo>
                  <a:lnTo>
                    <a:pt x="163" y="214"/>
                  </a:lnTo>
                  <a:lnTo>
                    <a:pt x="167" y="210"/>
                  </a:lnTo>
                  <a:lnTo>
                    <a:pt x="173" y="207"/>
                  </a:lnTo>
                  <a:lnTo>
                    <a:pt x="179" y="204"/>
                  </a:lnTo>
                  <a:lnTo>
                    <a:pt x="186" y="204"/>
                  </a:lnTo>
                  <a:lnTo>
                    <a:pt x="190" y="204"/>
                  </a:lnTo>
                  <a:lnTo>
                    <a:pt x="196" y="206"/>
                  </a:lnTo>
                  <a:lnTo>
                    <a:pt x="202" y="206"/>
                  </a:lnTo>
                  <a:lnTo>
                    <a:pt x="205" y="210"/>
                  </a:lnTo>
                  <a:lnTo>
                    <a:pt x="208" y="216"/>
                  </a:lnTo>
                  <a:lnTo>
                    <a:pt x="211" y="222"/>
                  </a:lnTo>
                  <a:lnTo>
                    <a:pt x="211" y="227"/>
                  </a:lnTo>
                  <a:lnTo>
                    <a:pt x="211" y="232"/>
                  </a:lnTo>
                  <a:lnTo>
                    <a:pt x="211" y="238"/>
                  </a:lnTo>
                  <a:lnTo>
                    <a:pt x="211" y="243"/>
                  </a:lnTo>
                  <a:lnTo>
                    <a:pt x="206" y="248"/>
                  </a:lnTo>
                  <a:lnTo>
                    <a:pt x="205" y="252"/>
                  </a:lnTo>
                  <a:lnTo>
                    <a:pt x="199" y="258"/>
                  </a:lnTo>
                  <a:lnTo>
                    <a:pt x="195" y="262"/>
                  </a:lnTo>
                  <a:lnTo>
                    <a:pt x="189" y="265"/>
                  </a:lnTo>
                  <a:lnTo>
                    <a:pt x="182" y="267"/>
                  </a:lnTo>
                  <a:lnTo>
                    <a:pt x="176" y="269"/>
                  </a:lnTo>
                  <a:lnTo>
                    <a:pt x="170" y="271"/>
                  </a:lnTo>
                  <a:lnTo>
                    <a:pt x="164" y="271"/>
                  </a:lnTo>
                  <a:lnTo>
                    <a:pt x="157" y="271"/>
                  </a:lnTo>
                  <a:lnTo>
                    <a:pt x="151" y="271"/>
                  </a:lnTo>
                  <a:lnTo>
                    <a:pt x="147" y="271"/>
                  </a:lnTo>
                  <a:lnTo>
                    <a:pt x="142" y="272"/>
                  </a:lnTo>
                  <a:lnTo>
                    <a:pt x="138" y="277"/>
                  </a:lnTo>
                  <a:lnTo>
                    <a:pt x="138" y="281"/>
                  </a:lnTo>
                  <a:lnTo>
                    <a:pt x="138" y="287"/>
                  </a:lnTo>
                  <a:lnTo>
                    <a:pt x="140" y="293"/>
                  </a:lnTo>
                  <a:lnTo>
                    <a:pt x="147" y="297"/>
                  </a:lnTo>
                  <a:lnTo>
                    <a:pt x="151" y="301"/>
                  </a:lnTo>
                  <a:lnTo>
                    <a:pt x="157" y="303"/>
                  </a:lnTo>
                  <a:lnTo>
                    <a:pt x="163" y="306"/>
                  </a:lnTo>
                  <a:lnTo>
                    <a:pt x="167" y="309"/>
                  </a:lnTo>
                  <a:lnTo>
                    <a:pt x="171" y="314"/>
                  </a:lnTo>
                  <a:lnTo>
                    <a:pt x="174" y="320"/>
                  </a:lnTo>
                  <a:lnTo>
                    <a:pt x="176" y="326"/>
                  </a:lnTo>
                  <a:lnTo>
                    <a:pt x="176" y="330"/>
                  </a:lnTo>
                  <a:lnTo>
                    <a:pt x="176" y="335"/>
                  </a:lnTo>
                  <a:lnTo>
                    <a:pt x="174" y="340"/>
                  </a:lnTo>
                  <a:lnTo>
                    <a:pt x="170" y="343"/>
                  </a:lnTo>
                  <a:lnTo>
                    <a:pt x="163" y="346"/>
                  </a:lnTo>
                  <a:lnTo>
                    <a:pt x="158" y="346"/>
                  </a:lnTo>
                  <a:lnTo>
                    <a:pt x="153" y="346"/>
                  </a:lnTo>
                  <a:lnTo>
                    <a:pt x="148" y="346"/>
                  </a:lnTo>
                  <a:lnTo>
                    <a:pt x="144" y="346"/>
                  </a:lnTo>
                  <a:lnTo>
                    <a:pt x="135" y="345"/>
                  </a:lnTo>
                  <a:lnTo>
                    <a:pt x="131" y="345"/>
                  </a:lnTo>
                  <a:lnTo>
                    <a:pt x="125" y="342"/>
                  </a:lnTo>
                  <a:lnTo>
                    <a:pt x="119" y="336"/>
                  </a:lnTo>
                  <a:lnTo>
                    <a:pt x="118" y="332"/>
                  </a:lnTo>
                  <a:lnTo>
                    <a:pt x="115" y="327"/>
                  </a:lnTo>
                  <a:lnTo>
                    <a:pt x="108" y="322"/>
                  </a:lnTo>
                  <a:lnTo>
                    <a:pt x="108" y="317"/>
                  </a:lnTo>
                  <a:lnTo>
                    <a:pt x="105" y="313"/>
                  </a:lnTo>
                  <a:lnTo>
                    <a:pt x="102" y="307"/>
                  </a:lnTo>
                  <a:lnTo>
                    <a:pt x="100" y="303"/>
                  </a:lnTo>
                  <a:lnTo>
                    <a:pt x="95" y="300"/>
                  </a:lnTo>
                  <a:lnTo>
                    <a:pt x="92" y="294"/>
                  </a:lnTo>
                  <a:lnTo>
                    <a:pt x="70" y="287"/>
                  </a:lnTo>
                  <a:lnTo>
                    <a:pt x="38" y="264"/>
                  </a:lnTo>
                  <a:lnTo>
                    <a:pt x="18" y="238"/>
                  </a:lnTo>
                  <a:lnTo>
                    <a:pt x="5" y="206"/>
                  </a:lnTo>
                  <a:lnTo>
                    <a:pt x="0" y="169"/>
                  </a:lnTo>
                  <a:lnTo>
                    <a:pt x="0" y="123"/>
                  </a:lnTo>
                  <a:lnTo>
                    <a:pt x="6" y="87"/>
                  </a:lnTo>
                  <a:lnTo>
                    <a:pt x="1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527600" y="5782680"/>
              <a:ext cx="93960" cy="194760"/>
            </a:xfrm>
            <a:custGeom>
              <a:avLst/>
              <a:gdLst/>
              <a:ahLst/>
              <a:rect l="l" t="t" r="r" b="b"/>
              <a:pathLst>
                <a:path w="117" h="277">
                  <a:moveTo>
                    <a:pt x="0" y="57"/>
                  </a:moveTo>
                  <a:lnTo>
                    <a:pt x="25" y="40"/>
                  </a:lnTo>
                  <a:lnTo>
                    <a:pt x="42" y="25"/>
                  </a:lnTo>
                  <a:lnTo>
                    <a:pt x="50" y="11"/>
                  </a:lnTo>
                  <a:lnTo>
                    <a:pt x="57" y="0"/>
                  </a:lnTo>
                  <a:lnTo>
                    <a:pt x="117" y="6"/>
                  </a:lnTo>
                  <a:lnTo>
                    <a:pt x="109" y="277"/>
                  </a:lnTo>
                  <a:lnTo>
                    <a:pt x="33" y="271"/>
                  </a:lnTo>
                  <a:lnTo>
                    <a:pt x="41" y="93"/>
                  </a:lnTo>
                  <a:lnTo>
                    <a:pt x="20" y="105"/>
                  </a:lnTo>
                  <a:lnTo>
                    <a:pt x="7" y="11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89680" y="5832000"/>
              <a:ext cx="179280" cy="197640"/>
            </a:xfrm>
            <a:custGeom>
              <a:avLst/>
              <a:gdLst/>
              <a:ahLst/>
              <a:rect l="l" t="t" r="r" b="b"/>
              <a:pathLst>
                <a:path w="225" h="281">
                  <a:moveTo>
                    <a:pt x="2" y="71"/>
                  </a:moveTo>
                  <a:lnTo>
                    <a:pt x="76" y="81"/>
                  </a:lnTo>
                  <a:lnTo>
                    <a:pt x="77" y="68"/>
                  </a:lnTo>
                  <a:lnTo>
                    <a:pt x="87" y="54"/>
                  </a:lnTo>
                  <a:lnTo>
                    <a:pt x="96" y="49"/>
                  </a:lnTo>
                  <a:lnTo>
                    <a:pt x="110" y="45"/>
                  </a:lnTo>
                  <a:lnTo>
                    <a:pt x="125" y="48"/>
                  </a:lnTo>
                  <a:lnTo>
                    <a:pt x="132" y="58"/>
                  </a:lnTo>
                  <a:lnTo>
                    <a:pt x="135" y="73"/>
                  </a:lnTo>
                  <a:lnTo>
                    <a:pt x="132" y="84"/>
                  </a:lnTo>
                  <a:lnTo>
                    <a:pt x="128" y="94"/>
                  </a:lnTo>
                  <a:lnTo>
                    <a:pt x="116" y="106"/>
                  </a:lnTo>
                  <a:lnTo>
                    <a:pt x="103" y="107"/>
                  </a:lnTo>
                  <a:lnTo>
                    <a:pt x="92" y="107"/>
                  </a:lnTo>
                  <a:lnTo>
                    <a:pt x="86" y="160"/>
                  </a:lnTo>
                  <a:lnTo>
                    <a:pt x="103" y="154"/>
                  </a:lnTo>
                  <a:lnTo>
                    <a:pt x="129" y="157"/>
                  </a:lnTo>
                  <a:lnTo>
                    <a:pt x="142" y="168"/>
                  </a:lnTo>
                  <a:lnTo>
                    <a:pt x="150" y="183"/>
                  </a:lnTo>
                  <a:lnTo>
                    <a:pt x="151" y="200"/>
                  </a:lnTo>
                  <a:lnTo>
                    <a:pt x="147" y="216"/>
                  </a:lnTo>
                  <a:lnTo>
                    <a:pt x="135" y="228"/>
                  </a:lnTo>
                  <a:lnTo>
                    <a:pt x="122" y="235"/>
                  </a:lnTo>
                  <a:lnTo>
                    <a:pt x="103" y="232"/>
                  </a:lnTo>
                  <a:lnTo>
                    <a:pt x="87" y="228"/>
                  </a:lnTo>
                  <a:lnTo>
                    <a:pt x="79" y="215"/>
                  </a:lnTo>
                  <a:lnTo>
                    <a:pt x="74" y="203"/>
                  </a:lnTo>
                  <a:lnTo>
                    <a:pt x="73" y="196"/>
                  </a:lnTo>
                  <a:lnTo>
                    <a:pt x="0" y="206"/>
                  </a:lnTo>
                  <a:lnTo>
                    <a:pt x="13" y="236"/>
                  </a:lnTo>
                  <a:lnTo>
                    <a:pt x="29" y="254"/>
                  </a:lnTo>
                  <a:lnTo>
                    <a:pt x="50" y="270"/>
                  </a:lnTo>
                  <a:lnTo>
                    <a:pt x="71" y="277"/>
                  </a:lnTo>
                  <a:lnTo>
                    <a:pt x="105" y="281"/>
                  </a:lnTo>
                  <a:lnTo>
                    <a:pt x="132" y="280"/>
                  </a:lnTo>
                  <a:lnTo>
                    <a:pt x="161" y="274"/>
                  </a:lnTo>
                  <a:lnTo>
                    <a:pt x="183" y="265"/>
                  </a:lnTo>
                  <a:lnTo>
                    <a:pt x="202" y="252"/>
                  </a:lnTo>
                  <a:lnTo>
                    <a:pt x="216" y="229"/>
                  </a:lnTo>
                  <a:lnTo>
                    <a:pt x="225" y="207"/>
                  </a:lnTo>
                  <a:lnTo>
                    <a:pt x="222" y="181"/>
                  </a:lnTo>
                  <a:lnTo>
                    <a:pt x="219" y="165"/>
                  </a:lnTo>
                  <a:lnTo>
                    <a:pt x="212" y="152"/>
                  </a:lnTo>
                  <a:lnTo>
                    <a:pt x="203" y="141"/>
                  </a:lnTo>
                  <a:lnTo>
                    <a:pt x="189" y="132"/>
                  </a:lnTo>
                  <a:lnTo>
                    <a:pt x="167" y="128"/>
                  </a:lnTo>
                  <a:lnTo>
                    <a:pt x="184" y="118"/>
                  </a:lnTo>
                  <a:lnTo>
                    <a:pt x="196" y="103"/>
                  </a:lnTo>
                  <a:lnTo>
                    <a:pt x="205" y="87"/>
                  </a:lnTo>
                  <a:lnTo>
                    <a:pt x="206" y="67"/>
                  </a:lnTo>
                  <a:lnTo>
                    <a:pt x="203" y="44"/>
                  </a:lnTo>
                  <a:lnTo>
                    <a:pt x="192" y="28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2" y="3"/>
                  </a:lnTo>
                  <a:lnTo>
                    <a:pt x="113" y="0"/>
                  </a:lnTo>
                  <a:lnTo>
                    <a:pt x="77" y="2"/>
                  </a:lnTo>
                  <a:lnTo>
                    <a:pt x="48" y="10"/>
                  </a:lnTo>
                  <a:lnTo>
                    <a:pt x="31" y="23"/>
                  </a:lnTo>
                  <a:lnTo>
                    <a:pt x="19" y="39"/>
                  </a:lnTo>
                  <a:lnTo>
                    <a:pt x="10" y="55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19800" y="5752800"/>
              <a:ext cx="182520" cy="195120"/>
            </a:xfrm>
            <a:custGeom>
              <a:avLst/>
              <a:gdLst/>
              <a:ahLst/>
              <a:rect l="l" t="t" r="r" b="b"/>
              <a:pathLst>
                <a:path w="229" h="277">
                  <a:moveTo>
                    <a:pt x="5" y="86"/>
                  </a:moveTo>
                  <a:lnTo>
                    <a:pt x="82" y="90"/>
                  </a:lnTo>
                  <a:lnTo>
                    <a:pt x="85" y="71"/>
                  </a:lnTo>
                  <a:lnTo>
                    <a:pt x="92" y="61"/>
                  </a:lnTo>
                  <a:lnTo>
                    <a:pt x="107" y="51"/>
                  </a:lnTo>
                  <a:lnTo>
                    <a:pt x="124" y="51"/>
                  </a:lnTo>
                  <a:lnTo>
                    <a:pt x="139" y="57"/>
                  </a:lnTo>
                  <a:lnTo>
                    <a:pt x="150" y="65"/>
                  </a:lnTo>
                  <a:lnTo>
                    <a:pt x="152" y="80"/>
                  </a:lnTo>
                  <a:lnTo>
                    <a:pt x="152" y="93"/>
                  </a:lnTo>
                  <a:lnTo>
                    <a:pt x="143" y="104"/>
                  </a:lnTo>
                  <a:lnTo>
                    <a:pt x="130" y="115"/>
                  </a:lnTo>
                  <a:lnTo>
                    <a:pt x="114" y="129"/>
                  </a:lnTo>
                  <a:lnTo>
                    <a:pt x="92" y="148"/>
                  </a:lnTo>
                  <a:lnTo>
                    <a:pt x="60" y="171"/>
                  </a:lnTo>
                  <a:lnTo>
                    <a:pt x="40" y="194"/>
                  </a:lnTo>
                  <a:lnTo>
                    <a:pt x="23" y="210"/>
                  </a:lnTo>
                  <a:lnTo>
                    <a:pt x="14" y="233"/>
                  </a:lnTo>
                  <a:lnTo>
                    <a:pt x="7" y="252"/>
                  </a:lnTo>
                  <a:lnTo>
                    <a:pt x="0" y="277"/>
                  </a:lnTo>
                  <a:lnTo>
                    <a:pt x="227" y="277"/>
                  </a:lnTo>
                  <a:lnTo>
                    <a:pt x="229" y="215"/>
                  </a:lnTo>
                  <a:lnTo>
                    <a:pt x="107" y="216"/>
                  </a:lnTo>
                  <a:lnTo>
                    <a:pt x="118" y="204"/>
                  </a:lnTo>
                  <a:lnTo>
                    <a:pt x="145" y="186"/>
                  </a:lnTo>
                  <a:lnTo>
                    <a:pt x="168" y="170"/>
                  </a:lnTo>
                  <a:lnTo>
                    <a:pt x="192" y="152"/>
                  </a:lnTo>
                  <a:lnTo>
                    <a:pt x="208" y="133"/>
                  </a:lnTo>
                  <a:lnTo>
                    <a:pt x="217" y="115"/>
                  </a:lnTo>
                  <a:lnTo>
                    <a:pt x="224" y="97"/>
                  </a:lnTo>
                  <a:lnTo>
                    <a:pt x="226" y="80"/>
                  </a:lnTo>
                  <a:lnTo>
                    <a:pt x="226" y="65"/>
                  </a:lnTo>
                  <a:lnTo>
                    <a:pt x="221" y="48"/>
                  </a:lnTo>
                  <a:lnTo>
                    <a:pt x="210" y="33"/>
                  </a:lnTo>
                  <a:lnTo>
                    <a:pt x="197" y="22"/>
                  </a:lnTo>
                  <a:lnTo>
                    <a:pt x="176" y="12"/>
                  </a:lnTo>
                  <a:lnTo>
                    <a:pt x="150" y="4"/>
                  </a:lnTo>
                  <a:lnTo>
                    <a:pt x="118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7" y="13"/>
                  </a:lnTo>
                  <a:lnTo>
                    <a:pt x="33" y="26"/>
                  </a:lnTo>
                  <a:lnTo>
                    <a:pt x="21" y="41"/>
                  </a:lnTo>
                  <a:lnTo>
                    <a:pt x="13" y="61"/>
                  </a:lnTo>
                  <a:lnTo>
                    <a:pt x="11" y="74"/>
                  </a:lnTo>
                  <a:lnTo>
                    <a:pt x="5" y="8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152280" y="2743200"/>
            <a:ext cx="746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Pousser l'inform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méliorer les flots d'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iffusion proactive des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Favoriser communautés d'intér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7D11-9826-4C68-B963-CCDFCD828D9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-68400" y="-8892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9B57-3541-40D1-9F1C-87A1A12FE21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20" name="" descr=""/>
          <p:cNvPicPr/>
          <p:nvPr/>
        </p:nvPicPr>
        <p:blipFill>
          <a:blip r:embed="rId1"/>
          <a:stretch/>
        </p:blipFill>
        <p:spPr>
          <a:xfrm>
            <a:off x="-144360" y="-8892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9581-07A8-4662-9AFA-DB2CC01FC3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22" name="" descr=""/>
          <p:cNvPicPr/>
          <p:nvPr/>
        </p:nvPicPr>
        <p:blipFill>
          <a:blip r:embed="rId1"/>
          <a:stretch/>
        </p:blipFill>
        <p:spPr>
          <a:xfrm>
            <a:off x="-144360" y="-8892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74F6-6035-459D-B58E-79B0B4EF222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1"/>
          <a:stretch/>
        </p:blipFill>
        <p:spPr>
          <a:xfrm>
            <a:off x="-144360" y="-88920"/>
            <a:ext cx="9364680" cy="702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BF948-BB72-4B3C-B758-85FD58D7A2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Profiles pour naviguer l'ontologi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5898960" cy="53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8493-058B-4356-B64E-BD9DF541E27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face Web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533520" y="785880"/>
            <a:ext cx="8240760" cy="5310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29" name=""/>
          <p:cNvSpPr/>
          <p:nvPr/>
        </p:nvSpPr>
        <p:spPr>
          <a:xfrm>
            <a:off x="543960" y="6084720"/>
            <a:ext cx="62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[Interface implantée pour APROBATIOM par A. Ginepro et A.P. Manin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B09E-3F7C-414A-BC3A-8A6A35F183A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Métaphore du shopping: utiliser le caddie de notions pour des requêt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7273800" cy="354672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856080" y="537840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[Interface spécifiée par A. Giboin et implantée et par J. Guillaum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6E55A-320C-43B8-AD8F-48D60A9C4C8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mment ?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600" y="457200"/>
            <a:ext cx="8839440" cy="26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omment ?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Repartir des constats de départ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Mémoire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distribuée et hétérogè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Gestion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distribuée et hétérogè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opulation d'utilisateurs 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distribuée et hétérogè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hoix techniques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35040" y="3200400"/>
            <a:ext cx="7314840" cy="609480"/>
            <a:chOff x="635040" y="3200400"/>
            <a:chExt cx="7314840" cy="609480"/>
          </a:xfrm>
        </p:grpSpPr>
        <p:grpSp>
          <p:nvGrpSpPr>
            <p:cNvPr id="123" name=""/>
            <p:cNvGrpSpPr/>
            <p:nvPr/>
          </p:nvGrpSpPr>
          <p:grpSpPr>
            <a:xfrm>
              <a:off x="635040" y="3200400"/>
              <a:ext cx="7314840" cy="533160"/>
              <a:chOff x="635040" y="3200400"/>
              <a:chExt cx="7314840" cy="533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35040" y="320040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93360" y="320040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87680" y="32004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91960" indent="-2919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 u="sng">
                  <a:solidFill>
                    <a:srgbClr val="000099"/>
                  </a:solidFill>
                  <a:uFillTx/>
                  <a:latin typeface="Arial"/>
                </a:rPr>
                <a:t>Matérialisation M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83160" y="320040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91960" indent="-29196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 u="sng">
                  <a:solidFill>
                    <a:srgbClr val="000099"/>
                  </a:solidFill>
                  <a:uFillTx/>
                  <a:latin typeface="Arial"/>
                </a:rPr>
                <a:t>Exploitation M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5040" y="3733920"/>
            <a:ext cx="7315200" cy="2132280"/>
            <a:chOff x="635040" y="3733920"/>
            <a:chExt cx="7315200" cy="2132280"/>
          </a:xfrm>
        </p:grpSpPr>
        <p:sp>
          <p:nvSpPr>
            <p:cNvPr id="129" name=""/>
            <p:cNvSpPr/>
            <p:nvPr/>
          </p:nvSpPr>
          <p:spPr>
            <a:xfrm>
              <a:off x="635040" y="373392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92640" y="3733920"/>
              <a:ext cx="3657600" cy="213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480" y="3860640"/>
            <a:ext cx="36068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8072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XML: 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tandard, Structure, Etendre, Valider, Transf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RDF: 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nnotation, Schémas</a:t>
            </a: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48040"/>
            <a:ext cx="38102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8072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Système multi-agents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Modularité, Distribué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Apprentissage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Adaptation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040" y="5867280"/>
            <a:ext cx="7391520" cy="380880"/>
            <a:chOff x="635040" y="5867280"/>
            <a:chExt cx="7391520" cy="380880"/>
          </a:xfrm>
        </p:grpSpPr>
        <p:grpSp>
          <p:nvGrpSpPr>
            <p:cNvPr id="134" name=""/>
            <p:cNvGrpSpPr/>
            <p:nvPr/>
          </p:nvGrpSpPr>
          <p:grpSpPr>
            <a:xfrm>
              <a:off x="635040" y="5867280"/>
              <a:ext cx="7314840" cy="380880"/>
              <a:chOff x="635040" y="5867280"/>
              <a:chExt cx="7314840" cy="380880"/>
            </a:xfrm>
          </p:grpSpPr>
          <p:sp>
            <p:nvSpPr>
              <p:cNvPr id="135" name=""/>
              <p:cNvSpPr/>
              <p:nvPr/>
            </p:nvSpPr>
            <p:spPr>
              <a:xfrm>
                <a:off x="635040" y="5867280"/>
                <a:ext cx="365760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92640" y="5867280"/>
                <a:ext cx="36572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081080" y="5867280"/>
              <a:ext cx="32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288720" indent="-288720" algn="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0" lang="fr-FR" sz="2100" spc="-1" strike="noStrike">
                  <a:solidFill>
                    <a:srgbClr val="000099"/>
                  </a:solidFill>
                  <a:latin typeface="Arial"/>
                </a:rPr>
                <a:t>rporate </a:t>
              </a:r>
              <a:r>
                <a:rPr b="0" lang="fr-FR" sz="21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fr-FR" sz="2100" spc="-1" strike="noStrike">
                  <a:solidFill>
                    <a:srgbClr val="000099"/>
                  </a:solidFill>
                  <a:latin typeface="Arial"/>
                </a:rPr>
                <a:t>emory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8640" y="5867280"/>
              <a:ext cx="3787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288720" indent="-288720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fr-FR" sz="2100" spc="-1" strike="noStrike">
                  <a:solidFill>
                    <a:srgbClr val="000099"/>
                  </a:solidFill>
                  <a:latin typeface="Arial"/>
                </a:rPr>
                <a:t>anagement through </a:t>
              </a:r>
              <a:r>
                <a:rPr b="0" lang="fr-FR" sz="21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fr-FR" sz="2100" spc="-1" strike="noStrike">
                  <a:solidFill>
                    <a:srgbClr val="000099"/>
                  </a:solidFill>
                  <a:latin typeface="Arial"/>
                </a:rPr>
                <a:t>gent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E346-27D6-49C2-B61E-DED1F9656D7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face complexe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40680" cy="543096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847080" y="6084720"/>
            <a:ext cx="33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[Interface implantée par Phuc Nguye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5FD7-87C6-44F6-9945-6257389EC8D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Le SMA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762120" y="1270080"/>
            <a:ext cx="7772400" cy="4418640"/>
            <a:chOff x="762120" y="1270080"/>
            <a:chExt cx="7772400" cy="4418640"/>
          </a:xfrm>
        </p:grpSpPr>
        <p:grpSp>
          <p:nvGrpSpPr>
            <p:cNvPr id="1938" name=""/>
            <p:cNvGrpSpPr/>
            <p:nvPr/>
          </p:nvGrpSpPr>
          <p:grpSpPr>
            <a:xfrm>
              <a:off x="762120" y="1270080"/>
              <a:ext cx="7772400" cy="4379760"/>
              <a:chOff x="762120" y="1270080"/>
              <a:chExt cx="7772400" cy="4379760"/>
            </a:xfrm>
          </p:grpSpPr>
          <p:sp>
            <p:nvSpPr>
              <p:cNvPr id="1939" name=""/>
              <p:cNvSpPr/>
              <p:nvPr/>
            </p:nvSpPr>
            <p:spPr>
              <a:xfrm>
                <a:off x="762120" y="1270080"/>
                <a:ext cx="7772400" cy="43797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3878280" y="1349280"/>
                <a:ext cx="1657080" cy="4180680"/>
                <a:chOff x="3878280" y="1349280"/>
                <a:chExt cx="1657080" cy="418068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3878280" y="1507680"/>
                  <a:ext cx="1500120" cy="4022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4037040" y="1349280"/>
                  <a:ext cx="1498320" cy="239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3" name=""/>
              <p:cNvGrpSpPr/>
              <p:nvPr/>
            </p:nvGrpSpPr>
            <p:grpSpPr>
              <a:xfrm>
                <a:off x="1568520" y="2703240"/>
                <a:ext cx="6532560" cy="994680"/>
                <a:chOff x="1568520" y="2703240"/>
                <a:chExt cx="6532560" cy="99468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1568520" y="2788560"/>
                  <a:ext cx="6392880" cy="9093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382080" y="2703240"/>
                  <a:ext cx="1719000" cy="23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5438880" y="2874600"/>
                  <a:ext cx="789120" cy="158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90840" y="3364920"/>
                  <a:ext cx="66996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984680" y="2925360"/>
                  <a:ext cx="828720" cy="175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9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57520" y="301572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950" name=""/>
                <p:cNvGrpSpPr/>
                <p:nvPr/>
              </p:nvGrpSpPr>
              <p:grpSpPr>
                <a:xfrm>
                  <a:off x="5535720" y="3022200"/>
                  <a:ext cx="908280" cy="636120"/>
                  <a:chOff x="5535720" y="3022200"/>
                  <a:chExt cx="908280" cy="636120"/>
                </a:xfrm>
              </p:grpSpPr>
              <p:sp>
                <p:nvSpPr>
                  <p:cNvPr id="1951" name=""/>
                  <p:cNvSpPr/>
                  <p:nvPr/>
                </p:nvSpPr>
                <p:spPr>
                  <a:xfrm>
                    <a:off x="5535720" y="33822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52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1840" y="30222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953" name=""/>
                <p:cNvSpPr/>
                <p:nvPr/>
              </p:nvSpPr>
              <p:spPr>
                <a:xfrm>
                  <a:off x="3878640" y="2790360"/>
                  <a:ext cx="1500120" cy="90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54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97280" y="306648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955" name=""/>
                <p:cNvSpPr/>
                <p:nvPr/>
              </p:nvSpPr>
              <p:spPr>
                <a:xfrm>
                  <a:off x="2616480" y="3420720"/>
                  <a:ext cx="9079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444000" y="3417480"/>
                  <a:ext cx="828720" cy="2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917040" y="2977560"/>
                  <a:ext cx="828720" cy="1630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58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689880" y="3068280"/>
                  <a:ext cx="31140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959" name=""/>
                <p:cNvGrpSpPr/>
                <p:nvPr/>
              </p:nvGrpSpPr>
              <p:grpSpPr>
                <a:xfrm>
                  <a:off x="3405600" y="2834640"/>
                  <a:ext cx="907920" cy="634680"/>
                  <a:chOff x="3405600" y="2834640"/>
                  <a:chExt cx="907920" cy="634680"/>
                </a:xfrm>
              </p:grpSpPr>
              <p:pic>
                <p:nvPicPr>
                  <p:cNvPr id="1960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81720" y="28346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961" name=""/>
                  <p:cNvSpPr/>
                  <p:nvPr/>
                </p:nvSpPr>
                <p:spPr>
                  <a:xfrm>
                    <a:off x="3405600" y="319284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2" name=""/>
            <p:cNvGrpSpPr/>
            <p:nvPr/>
          </p:nvGrpSpPr>
          <p:grpSpPr>
            <a:xfrm>
              <a:off x="919080" y="3738240"/>
              <a:ext cx="1101240" cy="1551960"/>
              <a:chOff x="919080" y="3738240"/>
              <a:chExt cx="1101240" cy="1551960"/>
            </a:xfrm>
          </p:grpSpPr>
          <p:sp>
            <p:nvSpPr>
              <p:cNvPr id="1963" name=""/>
              <p:cNvSpPr/>
              <p:nvPr/>
            </p:nvSpPr>
            <p:spPr>
              <a:xfrm>
                <a:off x="919080" y="4693680"/>
                <a:ext cx="107460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4" name=""/>
              <p:cNvGrpSpPr/>
              <p:nvPr/>
            </p:nvGrpSpPr>
            <p:grpSpPr>
              <a:xfrm>
                <a:off x="1590480" y="3738240"/>
                <a:ext cx="429840" cy="1180800"/>
                <a:chOff x="1590480" y="3738240"/>
                <a:chExt cx="429840" cy="1180800"/>
              </a:xfrm>
            </p:grpSpPr>
            <p:grpSp>
              <p:nvGrpSpPr>
                <p:cNvPr id="1965" name=""/>
                <p:cNvGrpSpPr/>
                <p:nvPr/>
              </p:nvGrpSpPr>
              <p:grpSpPr>
                <a:xfrm>
                  <a:off x="1590480" y="3738240"/>
                  <a:ext cx="210960" cy="97920"/>
                  <a:chOff x="1590480" y="3738240"/>
                  <a:chExt cx="210960" cy="97920"/>
                </a:xfrm>
              </p:grpSpPr>
              <p:sp>
                <p:nvSpPr>
                  <p:cNvPr id="1966" name=""/>
                  <p:cNvSpPr/>
                  <p:nvPr/>
                </p:nvSpPr>
                <p:spPr>
                  <a:xfrm>
                    <a:off x="1590480" y="381204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1642320" y="374868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1715040" y="373824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1755360" y="377568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0" name=""/>
                <p:cNvGrpSpPr/>
                <p:nvPr/>
              </p:nvGrpSpPr>
              <p:grpSpPr>
                <a:xfrm>
                  <a:off x="1665000" y="3808080"/>
                  <a:ext cx="355320" cy="1110960"/>
                  <a:chOff x="1665000" y="3808080"/>
                  <a:chExt cx="355320" cy="111096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1729080" y="399096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856880" y="380808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1665000" y="42066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1781640" y="41947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1742040" y="44553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1852560" y="44553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977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29720" y="379944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978" name=""/>
            <p:cNvGrpSpPr/>
            <p:nvPr/>
          </p:nvGrpSpPr>
          <p:grpSpPr>
            <a:xfrm>
              <a:off x="841320" y="1349280"/>
              <a:ext cx="1774800" cy="1432800"/>
              <a:chOff x="841320" y="1349280"/>
              <a:chExt cx="1774800" cy="1432800"/>
            </a:xfrm>
          </p:grpSpPr>
          <p:sp>
            <p:nvSpPr>
              <p:cNvPr id="1979" name=""/>
              <p:cNvSpPr/>
              <p:nvPr/>
            </p:nvSpPr>
            <p:spPr>
              <a:xfrm>
                <a:off x="841320" y="2423520"/>
                <a:ext cx="177480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1393560" y="1349280"/>
                <a:ext cx="789120" cy="1231200"/>
                <a:chOff x="1393560" y="1349280"/>
                <a:chExt cx="789120" cy="1231200"/>
              </a:xfrm>
            </p:grpSpPr>
            <p:grpSp>
              <p:nvGrpSpPr>
                <p:cNvPr id="1981" name=""/>
                <p:cNvGrpSpPr/>
                <p:nvPr/>
              </p:nvGrpSpPr>
              <p:grpSpPr>
                <a:xfrm>
                  <a:off x="1668960" y="1797120"/>
                  <a:ext cx="477360" cy="783360"/>
                  <a:chOff x="1668960" y="1797120"/>
                  <a:chExt cx="477360" cy="78336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1878120" y="205776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1921320" y="2304000"/>
                    <a:ext cx="1270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1753560" y="2290320"/>
                    <a:ext cx="158400" cy="29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1668960" y="20581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1989000" y="179712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1834200" y="1840680"/>
                    <a:ext cx="122760" cy="20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8" name=""/>
                <p:cNvGrpSpPr/>
                <p:nvPr/>
              </p:nvGrpSpPr>
              <p:grpSpPr>
                <a:xfrm>
                  <a:off x="1679760" y="1349280"/>
                  <a:ext cx="236520" cy="239040"/>
                  <a:chOff x="1679760" y="1349280"/>
                  <a:chExt cx="236520" cy="23904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1679760" y="134928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0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06760" y="137088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991" name=""/>
                <p:cNvGrpSpPr/>
                <p:nvPr/>
              </p:nvGrpSpPr>
              <p:grpSpPr>
                <a:xfrm>
                  <a:off x="1393560" y="1472760"/>
                  <a:ext cx="255240" cy="278640"/>
                  <a:chOff x="1393560" y="1472760"/>
                  <a:chExt cx="255240" cy="27864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1393560" y="147276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3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1840" y="149148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94" name=""/>
                <p:cNvGrpSpPr/>
                <p:nvPr/>
              </p:nvGrpSpPr>
              <p:grpSpPr>
                <a:xfrm>
                  <a:off x="1551240" y="1791360"/>
                  <a:ext cx="204120" cy="245160"/>
                  <a:chOff x="1551240" y="1791360"/>
                  <a:chExt cx="204120" cy="24516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1551240" y="17913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6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71760" y="18079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97" name=""/>
                <p:cNvGrpSpPr/>
                <p:nvPr/>
              </p:nvGrpSpPr>
              <p:grpSpPr>
                <a:xfrm>
                  <a:off x="1945800" y="1512720"/>
                  <a:ext cx="236880" cy="278640"/>
                  <a:chOff x="1945800" y="1512720"/>
                  <a:chExt cx="236880" cy="27864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1945800" y="151272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99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51200" y="154620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2000" name=""/>
            <p:cNvGrpSpPr/>
            <p:nvPr/>
          </p:nvGrpSpPr>
          <p:grpSpPr>
            <a:xfrm>
              <a:off x="7113600" y="4495680"/>
              <a:ext cx="1106280" cy="1193040"/>
              <a:chOff x="7113600" y="4495680"/>
              <a:chExt cx="1106280" cy="1193040"/>
            </a:xfrm>
          </p:grpSpPr>
          <p:sp>
            <p:nvSpPr>
              <p:cNvPr id="2001" name=""/>
              <p:cNvSpPr/>
              <p:nvPr/>
            </p:nvSpPr>
            <p:spPr>
              <a:xfrm>
                <a:off x="7113600" y="5441400"/>
                <a:ext cx="110628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2" name=""/>
              <p:cNvGrpSpPr/>
              <p:nvPr/>
            </p:nvGrpSpPr>
            <p:grpSpPr>
              <a:xfrm>
                <a:off x="7272000" y="4574520"/>
                <a:ext cx="430200" cy="903240"/>
                <a:chOff x="7272000" y="4574520"/>
                <a:chExt cx="430200" cy="903240"/>
              </a:xfrm>
            </p:grpSpPr>
            <p:sp>
              <p:nvSpPr>
                <p:cNvPr id="2003" name=""/>
                <p:cNvSpPr/>
                <p:nvPr/>
              </p:nvSpPr>
              <p:spPr>
                <a:xfrm flipH="1">
                  <a:off x="7396560" y="46249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7507800" y="45745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H="1">
                  <a:off x="7418160" y="48366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H="1">
                  <a:off x="7317000" y="48448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>
                  <a:off x="7271640" y="5103000"/>
                  <a:ext cx="188280" cy="36828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H="1">
                  <a:off x="7451640" y="510228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7705440" y="4495680"/>
                <a:ext cx="473400" cy="396360"/>
                <a:chOff x="7705440" y="4495680"/>
                <a:chExt cx="473400" cy="39636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7705440" y="4495680"/>
                  <a:ext cx="473400" cy="39636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11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821720" y="4565880"/>
                  <a:ext cx="2365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12" name=""/>
            <p:cNvGrpSpPr/>
            <p:nvPr/>
          </p:nvGrpSpPr>
          <p:grpSpPr>
            <a:xfrm>
              <a:off x="2182680" y="1760400"/>
              <a:ext cx="1617840" cy="902880"/>
              <a:chOff x="2182680" y="1760400"/>
              <a:chExt cx="1617840" cy="902880"/>
            </a:xfrm>
          </p:grpSpPr>
          <p:pic>
            <p:nvPicPr>
              <p:cNvPr id="201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82680" y="223632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4" name=""/>
              <p:cNvGrpSpPr/>
              <p:nvPr/>
            </p:nvGrpSpPr>
            <p:grpSpPr>
              <a:xfrm>
                <a:off x="2458800" y="1760400"/>
                <a:ext cx="1025640" cy="902880"/>
                <a:chOff x="2458800" y="1760400"/>
                <a:chExt cx="1025640" cy="90288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2458800" y="2026440"/>
                  <a:ext cx="102564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2458800" y="176040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476440" y="20289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1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853000" y="226188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5480" y="17910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63640" y="2225160"/>
                <a:ext cx="23688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21" name=""/>
            <p:cNvGrpSpPr/>
            <p:nvPr/>
          </p:nvGrpSpPr>
          <p:grpSpPr>
            <a:xfrm>
              <a:off x="5456160" y="4535280"/>
              <a:ext cx="1697040" cy="995040"/>
              <a:chOff x="5456160" y="4535280"/>
              <a:chExt cx="1697040" cy="995040"/>
            </a:xfrm>
          </p:grpSpPr>
          <p:pic>
            <p:nvPicPr>
              <p:cNvPr id="202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56160" y="5012640"/>
                <a:ext cx="2379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16680" y="50126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24" name=""/>
              <p:cNvGrpSpPr/>
              <p:nvPr/>
            </p:nvGrpSpPr>
            <p:grpSpPr>
              <a:xfrm>
                <a:off x="5732280" y="4535280"/>
                <a:ext cx="1104840" cy="995040"/>
                <a:chOff x="5732280" y="4535280"/>
                <a:chExt cx="1104840" cy="995040"/>
              </a:xfrm>
            </p:grpSpPr>
            <p:grpSp>
              <p:nvGrpSpPr>
                <p:cNvPr id="2025" name=""/>
                <p:cNvGrpSpPr/>
                <p:nvPr/>
              </p:nvGrpSpPr>
              <p:grpSpPr>
                <a:xfrm>
                  <a:off x="5732280" y="4535280"/>
                  <a:ext cx="1026000" cy="902880"/>
                  <a:chOff x="5732280" y="4535280"/>
                  <a:chExt cx="1026000" cy="902880"/>
                </a:xfrm>
              </p:grpSpPr>
              <p:sp>
                <p:nvSpPr>
                  <p:cNvPr id="2026" name=""/>
                  <p:cNvSpPr/>
                  <p:nvPr/>
                </p:nvSpPr>
                <p:spPr>
                  <a:xfrm>
                    <a:off x="5732280" y="480132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5732280" y="45352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5749920" y="48038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26840" y="50367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3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08960" y="45658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31" name=""/>
                <p:cNvGrpSpPr/>
                <p:nvPr/>
              </p:nvGrpSpPr>
              <p:grpSpPr>
                <a:xfrm>
                  <a:off x="5771520" y="4574880"/>
                  <a:ext cx="1026000" cy="902880"/>
                  <a:chOff x="5771520" y="4574880"/>
                  <a:chExt cx="1026000" cy="902880"/>
                </a:xfrm>
              </p:grpSpPr>
              <p:sp>
                <p:nvSpPr>
                  <p:cNvPr id="2032" name=""/>
                  <p:cNvSpPr/>
                  <p:nvPr/>
                </p:nvSpPr>
                <p:spPr>
                  <a:xfrm>
                    <a:off x="5771520" y="484092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5771520" y="4574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5789160" y="48434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66080" y="5076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3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48200" y="4605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5811120" y="4627440"/>
                  <a:ext cx="1026000" cy="902880"/>
                  <a:chOff x="5811120" y="4627440"/>
                  <a:chExt cx="1026000" cy="90288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5811120" y="489348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5811120" y="462744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5828760" y="48960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5680" y="512892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87800" y="465804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2043" name=""/>
            <p:cNvGrpSpPr/>
            <p:nvPr/>
          </p:nvGrpSpPr>
          <p:grpSpPr>
            <a:xfrm>
              <a:off x="2222640" y="3857400"/>
              <a:ext cx="2167920" cy="677160"/>
              <a:chOff x="2222640" y="3857400"/>
              <a:chExt cx="2167920" cy="677160"/>
            </a:xfrm>
          </p:grpSpPr>
          <p:pic>
            <p:nvPicPr>
              <p:cNvPr id="204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222640" y="41364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524040" y="41364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46" name=""/>
              <p:cNvGrpSpPr/>
              <p:nvPr/>
            </p:nvGrpSpPr>
            <p:grpSpPr>
              <a:xfrm>
                <a:off x="2419200" y="3857400"/>
                <a:ext cx="1007640" cy="677160"/>
                <a:chOff x="2419200" y="3857400"/>
                <a:chExt cx="1007640" cy="67716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2576880" y="3897000"/>
                  <a:ext cx="670680" cy="6375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8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734560" y="4130640"/>
                  <a:ext cx="315360" cy="31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9" name=""/>
                <p:cNvSpPr/>
                <p:nvPr/>
              </p:nvSpPr>
              <p:spPr>
                <a:xfrm>
                  <a:off x="2419200" y="385740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0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4076640" y="4096800"/>
                <a:ext cx="31392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1" name=""/>
            <p:cNvGrpSpPr/>
            <p:nvPr/>
          </p:nvGrpSpPr>
          <p:grpSpPr>
            <a:xfrm>
              <a:off x="2009880" y="4608360"/>
              <a:ext cx="1631880" cy="881640"/>
              <a:chOff x="2009880" y="4608360"/>
              <a:chExt cx="1631880" cy="88164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2009880" y="4892040"/>
                <a:ext cx="1631880" cy="597960"/>
                <a:chOff x="2009880" y="4892040"/>
                <a:chExt cx="1631880" cy="59796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2088720" y="4931640"/>
                  <a:ext cx="1340640" cy="55836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54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127960" y="5135400"/>
                  <a:ext cx="27576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5" name=""/>
                <p:cNvSpPr/>
                <p:nvPr/>
              </p:nvSpPr>
              <p:spPr>
                <a:xfrm>
                  <a:off x="2009880" y="4892040"/>
                  <a:ext cx="749160" cy="25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2311560" y="5091480"/>
                  <a:ext cx="1330200" cy="3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7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813040" y="4608360"/>
                <a:ext cx="2361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8" name=""/>
            <p:cNvGrpSpPr/>
            <p:nvPr/>
          </p:nvGrpSpPr>
          <p:grpSpPr>
            <a:xfrm>
              <a:off x="3524400" y="4973400"/>
              <a:ext cx="1065240" cy="356760"/>
              <a:chOff x="3524400" y="4973400"/>
              <a:chExt cx="1065240" cy="356760"/>
            </a:xfrm>
          </p:grpSpPr>
          <p:pic>
            <p:nvPicPr>
              <p:cNvPr id="205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524400" y="5052600"/>
                <a:ext cx="236520" cy="2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0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33960" y="4973400"/>
                <a:ext cx="355680" cy="35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1" name=""/>
            <p:cNvGrpSpPr/>
            <p:nvPr/>
          </p:nvGrpSpPr>
          <p:grpSpPr>
            <a:xfrm>
              <a:off x="7192800" y="3762360"/>
              <a:ext cx="631800" cy="772200"/>
              <a:chOff x="7192800" y="3762360"/>
              <a:chExt cx="631800" cy="772200"/>
            </a:xfrm>
          </p:grpSpPr>
          <p:pic>
            <p:nvPicPr>
              <p:cNvPr id="2062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389720" y="4295160"/>
                <a:ext cx="236520" cy="2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3" name=""/>
              <p:cNvGrpSpPr/>
              <p:nvPr/>
            </p:nvGrpSpPr>
            <p:grpSpPr>
              <a:xfrm>
                <a:off x="7192800" y="3762360"/>
                <a:ext cx="631800" cy="489960"/>
                <a:chOff x="7192800" y="3762360"/>
                <a:chExt cx="631800" cy="48996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7232040" y="3814560"/>
                  <a:ext cx="552960" cy="437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192800" y="3762360"/>
                  <a:ext cx="631800" cy="34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66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429680" y="399564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67" name=""/>
            <p:cNvGrpSpPr/>
            <p:nvPr/>
          </p:nvGrpSpPr>
          <p:grpSpPr>
            <a:xfrm>
              <a:off x="3957480" y="1690560"/>
              <a:ext cx="1301760" cy="3564720"/>
              <a:chOff x="3957480" y="1690560"/>
              <a:chExt cx="1301760" cy="3564720"/>
            </a:xfrm>
          </p:grpSpPr>
          <p:pic>
            <p:nvPicPr>
              <p:cNvPr id="2068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865760" y="23043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9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826160" y="222516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0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3957480" y="1690560"/>
                <a:ext cx="33192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1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4114800" y="4460400"/>
                <a:ext cx="395280" cy="3963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072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037040" y="2185560"/>
                <a:ext cx="276120" cy="27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3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07000" y="4379400"/>
                <a:ext cx="304560" cy="2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629240" y="3817440"/>
                <a:ext cx="4111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454640" y="1729800"/>
                <a:ext cx="331560" cy="33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6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05360" y="2344320"/>
                <a:ext cx="21420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43520" y="4938120"/>
                <a:ext cx="315720" cy="31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430880" y="2344320"/>
                <a:ext cx="333360" cy="33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943520" y="1787040"/>
                <a:ext cx="315720" cy="31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0" name=""/>
            <p:cNvSpPr txBox="1"/>
            <p:nvPr/>
          </p:nvSpPr>
          <p:spPr>
            <a:xfrm>
              <a:off x="2103480" y="4614840"/>
              <a:ext cx="23652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2773440" y="1468440"/>
              <a:ext cx="237960" cy="16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082" name=""/>
            <p:cNvSpPr txBox="1"/>
            <p:nvPr/>
          </p:nvSpPr>
          <p:spPr>
            <a:xfrm>
              <a:off x="6956280" y="4733640"/>
              <a:ext cx="23652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2143080" y="3579480"/>
              <a:ext cx="1971720" cy="1272600"/>
              <a:chOff x="2143080" y="3579480"/>
              <a:chExt cx="1971720" cy="1272600"/>
            </a:xfrm>
          </p:grpSpPr>
          <p:sp>
            <p:nvSpPr>
              <p:cNvPr id="2084" name=""/>
              <p:cNvSpPr/>
              <p:nvPr/>
            </p:nvSpPr>
            <p:spPr>
              <a:xfrm>
                <a:off x="3444840" y="3579480"/>
                <a:ext cx="66996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>
                <a:off x="2143080" y="3579480"/>
                <a:ext cx="512640" cy="4777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287520" y="3658680"/>
                <a:ext cx="117720" cy="119340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708200" y="2584440"/>
              <a:ext cx="947160" cy="396360"/>
              <a:chOff x="1708200" y="2584440"/>
              <a:chExt cx="947160" cy="396360"/>
            </a:xfrm>
          </p:grpSpPr>
          <p:sp>
            <p:nvSpPr>
              <p:cNvPr id="2088" name=""/>
              <p:cNvSpPr/>
              <p:nvPr/>
            </p:nvSpPr>
            <p:spPr>
              <a:xfrm>
                <a:off x="1708200" y="2688840"/>
                <a:ext cx="118800" cy="2520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2023560" y="2584440"/>
                <a:ext cx="631800" cy="396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5257800" y="2031840"/>
              <a:ext cx="2247840" cy="2502720"/>
              <a:chOff x="5257800" y="2031840"/>
              <a:chExt cx="2247840" cy="2502720"/>
            </a:xfrm>
          </p:grpSpPr>
          <p:sp>
            <p:nvSpPr>
              <p:cNvPr id="2091" name=""/>
              <p:cNvSpPr/>
              <p:nvPr/>
            </p:nvSpPr>
            <p:spPr>
              <a:xfrm flipH="1" flipV="1">
                <a:off x="5257800" y="2031840"/>
                <a:ext cx="1371600" cy="114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074000" y="3339720"/>
                <a:ext cx="431640" cy="44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6364080" y="3658680"/>
                <a:ext cx="355320" cy="79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956280" y="3658680"/>
                <a:ext cx="316080" cy="87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5062680" y="3539880"/>
              <a:ext cx="2129760" cy="1034280"/>
              <a:chOff x="5062680" y="3539880"/>
              <a:chExt cx="2129760" cy="1034280"/>
            </a:xfrm>
          </p:grpSpPr>
          <p:sp>
            <p:nvSpPr>
              <p:cNvPr id="2096" name=""/>
              <p:cNvSpPr/>
              <p:nvPr/>
            </p:nvSpPr>
            <p:spPr>
              <a:xfrm flipH="1">
                <a:off x="5062680" y="3539880"/>
                <a:ext cx="552240" cy="3967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91040" y="3600000"/>
                <a:ext cx="0" cy="89496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246720" y="3658680"/>
                <a:ext cx="945720" cy="9154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9" name=""/>
          <p:cNvSpPr/>
          <p:nvPr/>
        </p:nvSpPr>
        <p:spPr>
          <a:xfrm>
            <a:off x="609480" y="1143000"/>
            <a:ext cx="807732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5800" y="3809880"/>
            <a:ext cx="8001000" cy="190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85800" y="2590920"/>
            <a:ext cx="838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153280" y="2438280"/>
            <a:ext cx="609840" cy="190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523880" y="2666880"/>
            <a:ext cx="662940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50A8-933E-42CA-8ED0-68C7F5A9DFC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MAS : Une société pour la mémoir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29196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fr-FR" sz="3100" spc="-1" strike="noStrike">
                <a:solidFill>
                  <a:srgbClr val="cc3300"/>
                </a:solidFill>
                <a:latin typeface="Arial"/>
              </a:rPr>
              <a:t>: </a:t>
            </a:r>
            <a:r>
              <a:rPr b="0" lang="fr-FR" sz="3100" spc="-1" strike="noStrike">
                <a:solidFill>
                  <a:srgbClr val="000099"/>
                </a:solidFill>
                <a:latin typeface="Arial"/>
              </a:rPr>
              <a:t>Une architecture fonctionnelle pour plusieurs configurations possibles afin de s'adapter au panel d'environnements que l'on trouve au sein d'une entreprise</a:t>
            </a:r>
            <a:r>
              <a:rPr b="1" lang="fr-FR" sz="31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685800" y="198108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Une Société pour la Mémoire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D953-3FBE-4F05-B242-1A5FEC8A878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aractéristiques des MA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63360" y="457200"/>
            <a:ext cx="908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Systèmes d'Information Multi-Agents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opulation d'agents (fournisseurs, demandeurs, médiateur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istribués à travers le réseau &amp; assignés aux différentes ressour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changent &amp; exploitent l'information grâce à l'ontologie partagé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Adéquation du paradigme agent: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llaboration des agents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capitalisation globa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utonomie &amp; individualité des agents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adaptation loca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Atouts des agents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mposants logiciels faiblement couplés (conception, intégration // pluridisciplinaire, déploiement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change de messages au niveau sémantique, naturel et adapté à un problème de gestion de connaissa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59520" indent="-186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erspective de conception socia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25E1-D423-49F3-B4FD-846E967906A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Vue d'Ensemble de l'Architectur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90806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</a:rPr>
              <a:t>Architecture / Configura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Architecture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Types d'agents et leurs relations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i="1" lang="fr-FR" sz="2400" spc="-1" strike="noStrike">
                <a:solidFill>
                  <a:srgbClr val="cc3300"/>
                </a:solidFill>
                <a:latin typeface="Arial"/>
              </a:rPr>
              <a:t>Fixée lors de la concep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Configuration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Topographie exacte d'un MAS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i="1" lang="fr-FR" sz="2400" spc="-1" strike="noStrike">
                <a:solidFill>
                  <a:srgbClr val="cc3300"/>
                </a:solidFill>
                <a:latin typeface="Arial"/>
              </a:rPr>
              <a:t>Fixée lors du déploi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Une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architecture donnée</a:t>
            </a:r>
            <a:r>
              <a:rPr b="0" lang="fr-FR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Arial"/>
              </a:rPr>
              <a:t>Plusieurs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configurations possibles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i="1" lang="fr-FR" sz="2400" spc="-1" strike="noStrike">
                <a:solidFill>
                  <a:srgbClr val="cc3300"/>
                </a:solidFill>
                <a:latin typeface="Arial"/>
              </a:rPr>
              <a:t>S'adapter à l'environn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Choix de déploiement motivés par la topographie du paysage d'informa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tructure organisation (organigramme, géographie..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éseau Intranet (topographie, sécurité..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46200" indent="-1825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ntéressés (fournisseurs, demandeurs...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9B30-77E6-4069-AEEB-59073EE0AF3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Multi-agents information system for the CM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8991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CoMMA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est un système d'information multi-agents hétérogèn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373320" indent="-373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u 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Macroscopique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au 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Microscopiqu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773280" indent="-2397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b = "Ingénierie des interactions &amp; organisation du MAS pour satisfaire le le cahier des charges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73280" indent="-2397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nalyse fonctionnelle descendante (SMA, sociétés, rôle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73280" indent="-2397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Quatre aspects dans nos scénarios: disponibilité ontologie et modèles, gestion des annotations, interactions avec l'utilisateur, et services de pages jaun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90720" y="4248000"/>
            <a:ext cx="8076960" cy="2457360"/>
            <a:chOff x="990720" y="4248000"/>
            <a:chExt cx="8076960" cy="2457360"/>
          </a:xfrm>
        </p:grpSpPr>
        <p:grpSp>
          <p:nvGrpSpPr>
            <p:cNvPr id="2114" name=""/>
            <p:cNvGrpSpPr/>
            <p:nvPr/>
          </p:nvGrpSpPr>
          <p:grpSpPr>
            <a:xfrm>
              <a:off x="2895480" y="5943240"/>
              <a:ext cx="4419720" cy="762120"/>
              <a:chOff x="2895480" y="5943240"/>
              <a:chExt cx="4419720" cy="762120"/>
            </a:xfrm>
          </p:grpSpPr>
          <p:sp>
            <p:nvSpPr>
              <p:cNvPr id="2115" name=""/>
              <p:cNvSpPr/>
              <p:nvPr/>
            </p:nvSpPr>
            <p:spPr>
              <a:xfrm>
                <a:off x="2895480" y="5943240"/>
                <a:ext cx="419112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581280" y="6000480"/>
                <a:ext cx="37339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ciété dédiée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7" name=""/>
              <p:cNvGrpSpPr/>
              <p:nvPr/>
            </p:nvGrpSpPr>
            <p:grpSpPr>
              <a:xfrm>
                <a:off x="3174840" y="5968440"/>
                <a:ext cx="444600" cy="609480"/>
                <a:chOff x="3174840" y="5968440"/>
                <a:chExt cx="444600" cy="6094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3174840" y="5968440"/>
                  <a:ext cx="444600" cy="6094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9" name=""/>
                <p:cNvGrpSpPr/>
                <p:nvPr/>
              </p:nvGrpSpPr>
              <p:grpSpPr>
                <a:xfrm>
                  <a:off x="3225240" y="5994000"/>
                  <a:ext cx="353880" cy="550800"/>
                  <a:chOff x="3225240" y="5994000"/>
                  <a:chExt cx="353880" cy="55080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 flipH="1">
                    <a:off x="3327840" y="6024600"/>
                    <a:ext cx="138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522">
                        <a:moveTo>
                          <a:pt x="245" y="120"/>
                        </a:moveTo>
                        <a:lnTo>
                          <a:pt x="204" y="67"/>
                        </a:lnTo>
                        <a:lnTo>
                          <a:pt x="146" y="26"/>
                        </a:lnTo>
                        <a:lnTo>
                          <a:pt x="94" y="0"/>
                        </a:lnTo>
                        <a:lnTo>
                          <a:pt x="53" y="7"/>
                        </a:lnTo>
                        <a:lnTo>
                          <a:pt x="23" y="37"/>
                        </a:lnTo>
                        <a:lnTo>
                          <a:pt x="0" y="127"/>
                        </a:lnTo>
                        <a:lnTo>
                          <a:pt x="9" y="231"/>
                        </a:lnTo>
                        <a:lnTo>
                          <a:pt x="34" y="331"/>
                        </a:lnTo>
                        <a:lnTo>
                          <a:pt x="60" y="409"/>
                        </a:lnTo>
                        <a:lnTo>
                          <a:pt x="112" y="489"/>
                        </a:lnTo>
                        <a:lnTo>
                          <a:pt x="156" y="522"/>
                        </a:lnTo>
                        <a:lnTo>
                          <a:pt x="217" y="522"/>
                        </a:lnTo>
                        <a:lnTo>
                          <a:pt x="279" y="499"/>
                        </a:lnTo>
                        <a:lnTo>
                          <a:pt x="310" y="441"/>
                        </a:lnTo>
                        <a:lnTo>
                          <a:pt x="326" y="368"/>
                        </a:lnTo>
                        <a:lnTo>
                          <a:pt x="320" y="278"/>
                        </a:lnTo>
                        <a:lnTo>
                          <a:pt x="463" y="288"/>
                        </a:lnTo>
                        <a:lnTo>
                          <a:pt x="471" y="248"/>
                        </a:lnTo>
                        <a:lnTo>
                          <a:pt x="307" y="231"/>
                        </a:lnTo>
                        <a:lnTo>
                          <a:pt x="265" y="138"/>
                        </a:lnTo>
                        <a:lnTo>
                          <a:pt x="245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H="1">
                    <a:off x="3419280" y="5994000"/>
                    <a:ext cx="15948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837">
                        <a:moveTo>
                          <a:pt x="317" y="19"/>
                        </a:moveTo>
                        <a:lnTo>
                          <a:pt x="385" y="0"/>
                        </a:lnTo>
                        <a:lnTo>
                          <a:pt x="439" y="3"/>
                        </a:lnTo>
                        <a:lnTo>
                          <a:pt x="480" y="33"/>
                        </a:lnTo>
                        <a:lnTo>
                          <a:pt x="508" y="80"/>
                        </a:lnTo>
                        <a:lnTo>
                          <a:pt x="498" y="130"/>
                        </a:lnTo>
                        <a:lnTo>
                          <a:pt x="460" y="130"/>
                        </a:lnTo>
                        <a:lnTo>
                          <a:pt x="470" y="89"/>
                        </a:lnTo>
                        <a:lnTo>
                          <a:pt x="439" y="53"/>
                        </a:lnTo>
                        <a:lnTo>
                          <a:pt x="409" y="40"/>
                        </a:lnTo>
                        <a:lnTo>
                          <a:pt x="358" y="53"/>
                        </a:lnTo>
                        <a:lnTo>
                          <a:pt x="378" y="94"/>
                        </a:lnTo>
                        <a:lnTo>
                          <a:pt x="385" y="130"/>
                        </a:lnTo>
                        <a:lnTo>
                          <a:pt x="378" y="160"/>
                        </a:lnTo>
                        <a:lnTo>
                          <a:pt x="327" y="174"/>
                        </a:lnTo>
                        <a:lnTo>
                          <a:pt x="272" y="164"/>
                        </a:lnTo>
                        <a:lnTo>
                          <a:pt x="262" y="140"/>
                        </a:lnTo>
                        <a:lnTo>
                          <a:pt x="204" y="204"/>
                        </a:lnTo>
                        <a:lnTo>
                          <a:pt x="170" y="274"/>
                        </a:lnTo>
                        <a:lnTo>
                          <a:pt x="123" y="364"/>
                        </a:lnTo>
                        <a:lnTo>
                          <a:pt x="92" y="445"/>
                        </a:lnTo>
                        <a:lnTo>
                          <a:pt x="78" y="522"/>
                        </a:lnTo>
                        <a:lnTo>
                          <a:pt x="89" y="562"/>
                        </a:lnTo>
                        <a:lnTo>
                          <a:pt x="143" y="613"/>
                        </a:lnTo>
                        <a:lnTo>
                          <a:pt x="256" y="656"/>
                        </a:lnTo>
                        <a:lnTo>
                          <a:pt x="317" y="675"/>
                        </a:lnTo>
                        <a:lnTo>
                          <a:pt x="378" y="686"/>
                        </a:lnTo>
                        <a:lnTo>
                          <a:pt x="470" y="723"/>
                        </a:lnTo>
                        <a:lnTo>
                          <a:pt x="538" y="746"/>
                        </a:lnTo>
                        <a:lnTo>
                          <a:pt x="542" y="793"/>
                        </a:lnTo>
                        <a:lnTo>
                          <a:pt x="508" y="827"/>
                        </a:lnTo>
                        <a:lnTo>
                          <a:pt x="467" y="837"/>
                        </a:lnTo>
                        <a:lnTo>
                          <a:pt x="405" y="806"/>
                        </a:lnTo>
                        <a:lnTo>
                          <a:pt x="262" y="733"/>
                        </a:lnTo>
                        <a:lnTo>
                          <a:pt x="143" y="683"/>
                        </a:lnTo>
                        <a:lnTo>
                          <a:pt x="61" y="626"/>
                        </a:lnTo>
                        <a:lnTo>
                          <a:pt x="6" y="575"/>
                        </a:lnTo>
                        <a:lnTo>
                          <a:pt x="0" y="515"/>
                        </a:lnTo>
                        <a:lnTo>
                          <a:pt x="30" y="434"/>
                        </a:lnTo>
                        <a:lnTo>
                          <a:pt x="92" y="314"/>
                        </a:lnTo>
                        <a:lnTo>
                          <a:pt x="150" y="214"/>
                        </a:lnTo>
                        <a:lnTo>
                          <a:pt x="222" y="110"/>
                        </a:lnTo>
                        <a:lnTo>
                          <a:pt x="276" y="49"/>
                        </a:lnTo>
                        <a:lnTo>
                          <a:pt x="344" y="19"/>
                        </a:lnTo>
                        <a:lnTo>
                          <a:pt x="31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 flipH="1">
                    <a:off x="3345480" y="6153840"/>
                    <a:ext cx="8280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6">
                        <a:moveTo>
                          <a:pt x="18" y="61"/>
                        </a:moveTo>
                        <a:lnTo>
                          <a:pt x="28" y="20"/>
                        </a:lnTo>
                        <a:lnTo>
                          <a:pt x="72" y="0"/>
                        </a:lnTo>
                        <a:lnTo>
                          <a:pt x="113" y="0"/>
                        </a:lnTo>
                        <a:lnTo>
                          <a:pt x="164" y="30"/>
                        </a:lnTo>
                        <a:lnTo>
                          <a:pt x="213" y="101"/>
                        </a:lnTo>
                        <a:lnTo>
                          <a:pt x="247" y="174"/>
                        </a:lnTo>
                        <a:lnTo>
                          <a:pt x="263" y="274"/>
                        </a:lnTo>
                        <a:lnTo>
                          <a:pt x="278" y="391"/>
                        </a:lnTo>
                        <a:lnTo>
                          <a:pt x="284" y="504"/>
                        </a:lnTo>
                        <a:lnTo>
                          <a:pt x="284" y="652"/>
                        </a:lnTo>
                        <a:lnTo>
                          <a:pt x="263" y="742"/>
                        </a:lnTo>
                        <a:lnTo>
                          <a:pt x="226" y="775"/>
                        </a:lnTo>
                        <a:lnTo>
                          <a:pt x="161" y="786"/>
                        </a:lnTo>
                        <a:lnTo>
                          <a:pt x="93" y="783"/>
                        </a:lnTo>
                        <a:lnTo>
                          <a:pt x="58" y="742"/>
                        </a:lnTo>
                        <a:lnTo>
                          <a:pt x="38" y="672"/>
                        </a:lnTo>
                        <a:lnTo>
                          <a:pt x="21" y="602"/>
                        </a:lnTo>
                        <a:lnTo>
                          <a:pt x="8" y="475"/>
                        </a:lnTo>
                        <a:lnTo>
                          <a:pt x="0" y="331"/>
                        </a:lnTo>
                        <a:lnTo>
                          <a:pt x="0" y="164"/>
                        </a:lnTo>
                        <a:lnTo>
                          <a:pt x="18" y="91"/>
                        </a:lnTo>
                        <a:lnTo>
                          <a:pt x="18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flipH="1">
                    <a:off x="3261960" y="6158880"/>
                    <a:ext cx="12780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603">
                        <a:moveTo>
                          <a:pt x="24" y="0"/>
                        </a:moveTo>
                        <a:lnTo>
                          <a:pt x="113" y="10"/>
                        </a:lnTo>
                        <a:lnTo>
                          <a:pt x="204" y="26"/>
                        </a:lnTo>
                        <a:lnTo>
                          <a:pt x="300" y="80"/>
                        </a:lnTo>
                        <a:lnTo>
                          <a:pt x="368" y="120"/>
                        </a:lnTo>
                        <a:lnTo>
                          <a:pt x="413" y="178"/>
                        </a:lnTo>
                        <a:lnTo>
                          <a:pt x="433" y="211"/>
                        </a:lnTo>
                        <a:lnTo>
                          <a:pt x="392" y="308"/>
                        </a:lnTo>
                        <a:lnTo>
                          <a:pt x="327" y="368"/>
                        </a:lnTo>
                        <a:lnTo>
                          <a:pt x="249" y="411"/>
                        </a:lnTo>
                        <a:lnTo>
                          <a:pt x="207" y="438"/>
                        </a:lnTo>
                        <a:lnTo>
                          <a:pt x="136" y="452"/>
                        </a:lnTo>
                        <a:lnTo>
                          <a:pt x="133" y="478"/>
                        </a:lnTo>
                        <a:lnTo>
                          <a:pt x="188" y="502"/>
                        </a:lnTo>
                        <a:lnTo>
                          <a:pt x="266" y="523"/>
                        </a:lnTo>
                        <a:lnTo>
                          <a:pt x="340" y="563"/>
                        </a:lnTo>
                        <a:lnTo>
                          <a:pt x="310" y="593"/>
                        </a:lnTo>
                        <a:lnTo>
                          <a:pt x="280" y="603"/>
                        </a:lnTo>
                        <a:lnTo>
                          <a:pt x="235" y="559"/>
                        </a:lnTo>
                        <a:lnTo>
                          <a:pt x="167" y="532"/>
                        </a:lnTo>
                        <a:lnTo>
                          <a:pt x="113" y="512"/>
                        </a:lnTo>
                        <a:lnTo>
                          <a:pt x="113" y="472"/>
                        </a:lnTo>
                        <a:lnTo>
                          <a:pt x="123" y="429"/>
                        </a:lnTo>
                        <a:lnTo>
                          <a:pt x="157" y="411"/>
                        </a:lnTo>
                        <a:lnTo>
                          <a:pt x="266" y="368"/>
                        </a:lnTo>
                        <a:lnTo>
                          <a:pt x="327" y="301"/>
                        </a:lnTo>
                        <a:lnTo>
                          <a:pt x="371" y="231"/>
                        </a:lnTo>
                        <a:lnTo>
                          <a:pt x="361" y="197"/>
                        </a:lnTo>
                        <a:lnTo>
                          <a:pt x="327" y="157"/>
                        </a:lnTo>
                        <a:lnTo>
                          <a:pt x="246" y="100"/>
                        </a:lnTo>
                        <a:lnTo>
                          <a:pt x="147" y="80"/>
                        </a:lnTo>
                        <a:lnTo>
                          <a:pt x="82" y="77"/>
                        </a:lnTo>
                        <a:lnTo>
                          <a:pt x="24" y="77"/>
                        </a:lnTo>
                        <a:lnTo>
                          <a:pt x="0" y="4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 flipH="1">
                    <a:off x="3225240" y="6316200"/>
                    <a:ext cx="1548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976">
                        <a:moveTo>
                          <a:pt x="61" y="0"/>
                        </a:moveTo>
                        <a:lnTo>
                          <a:pt x="14" y="0"/>
                        </a:lnTo>
                        <a:lnTo>
                          <a:pt x="0" y="70"/>
                        </a:lnTo>
                        <a:lnTo>
                          <a:pt x="34" y="112"/>
                        </a:lnTo>
                        <a:lnTo>
                          <a:pt x="144" y="208"/>
                        </a:lnTo>
                        <a:lnTo>
                          <a:pt x="239" y="332"/>
                        </a:lnTo>
                        <a:lnTo>
                          <a:pt x="301" y="460"/>
                        </a:lnTo>
                        <a:lnTo>
                          <a:pt x="311" y="543"/>
                        </a:lnTo>
                        <a:lnTo>
                          <a:pt x="307" y="604"/>
                        </a:lnTo>
                        <a:lnTo>
                          <a:pt x="281" y="741"/>
                        </a:lnTo>
                        <a:lnTo>
                          <a:pt x="246" y="852"/>
                        </a:lnTo>
                        <a:lnTo>
                          <a:pt x="216" y="916"/>
                        </a:lnTo>
                        <a:lnTo>
                          <a:pt x="208" y="956"/>
                        </a:lnTo>
                        <a:lnTo>
                          <a:pt x="239" y="956"/>
                        </a:lnTo>
                        <a:lnTo>
                          <a:pt x="287" y="943"/>
                        </a:lnTo>
                        <a:lnTo>
                          <a:pt x="301" y="946"/>
                        </a:lnTo>
                        <a:lnTo>
                          <a:pt x="400" y="952"/>
                        </a:lnTo>
                        <a:lnTo>
                          <a:pt x="475" y="976"/>
                        </a:lnTo>
                        <a:lnTo>
                          <a:pt x="502" y="962"/>
                        </a:lnTo>
                        <a:lnTo>
                          <a:pt x="527" y="912"/>
                        </a:lnTo>
                        <a:lnTo>
                          <a:pt x="502" y="885"/>
                        </a:lnTo>
                        <a:lnTo>
                          <a:pt x="390" y="882"/>
                        </a:lnTo>
                        <a:lnTo>
                          <a:pt x="311" y="892"/>
                        </a:lnTo>
                        <a:lnTo>
                          <a:pt x="270" y="912"/>
                        </a:lnTo>
                        <a:lnTo>
                          <a:pt x="276" y="865"/>
                        </a:lnTo>
                        <a:lnTo>
                          <a:pt x="318" y="794"/>
                        </a:lnTo>
                        <a:lnTo>
                          <a:pt x="352" y="684"/>
                        </a:lnTo>
                        <a:lnTo>
                          <a:pt x="380" y="590"/>
                        </a:lnTo>
                        <a:lnTo>
                          <a:pt x="359" y="483"/>
                        </a:lnTo>
                        <a:lnTo>
                          <a:pt x="328" y="369"/>
                        </a:lnTo>
                        <a:lnTo>
                          <a:pt x="266" y="238"/>
                        </a:lnTo>
                        <a:lnTo>
                          <a:pt x="178" y="118"/>
                        </a:lnTo>
                        <a:lnTo>
                          <a:pt x="102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3372840" y="6315840"/>
                    <a:ext cx="10404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994">
                        <a:moveTo>
                          <a:pt x="246" y="0"/>
                        </a:moveTo>
                        <a:lnTo>
                          <a:pt x="201" y="94"/>
                        </a:lnTo>
                        <a:lnTo>
                          <a:pt x="170" y="231"/>
                        </a:lnTo>
                        <a:lnTo>
                          <a:pt x="133" y="382"/>
                        </a:lnTo>
                        <a:lnTo>
                          <a:pt x="99" y="536"/>
                        </a:lnTo>
                        <a:lnTo>
                          <a:pt x="99" y="592"/>
                        </a:lnTo>
                        <a:lnTo>
                          <a:pt x="133" y="693"/>
                        </a:lnTo>
                        <a:lnTo>
                          <a:pt x="181" y="747"/>
                        </a:lnTo>
                        <a:lnTo>
                          <a:pt x="225" y="814"/>
                        </a:lnTo>
                        <a:lnTo>
                          <a:pt x="256" y="863"/>
                        </a:lnTo>
                        <a:lnTo>
                          <a:pt x="243" y="887"/>
                        </a:lnTo>
                        <a:lnTo>
                          <a:pt x="164" y="897"/>
                        </a:lnTo>
                        <a:lnTo>
                          <a:pt x="37" y="917"/>
                        </a:lnTo>
                        <a:lnTo>
                          <a:pt x="0" y="948"/>
                        </a:lnTo>
                        <a:lnTo>
                          <a:pt x="31" y="974"/>
                        </a:lnTo>
                        <a:lnTo>
                          <a:pt x="102" y="994"/>
                        </a:lnTo>
                        <a:lnTo>
                          <a:pt x="185" y="954"/>
                        </a:lnTo>
                        <a:lnTo>
                          <a:pt x="246" y="927"/>
                        </a:lnTo>
                        <a:lnTo>
                          <a:pt x="324" y="917"/>
                        </a:lnTo>
                        <a:lnTo>
                          <a:pt x="355" y="907"/>
                        </a:lnTo>
                        <a:lnTo>
                          <a:pt x="345" y="874"/>
                        </a:lnTo>
                        <a:lnTo>
                          <a:pt x="256" y="787"/>
                        </a:lnTo>
                        <a:lnTo>
                          <a:pt x="204" y="696"/>
                        </a:lnTo>
                        <a:lnTo>
                          <a:pt x="160" y="636"/>
                        </a:lnTo>
                        <a:lnTo>
                          <a:pt x="154" y="576"/>
                        </a:lnTo>
                        <a:lnTo>
                          <a:pt x="175" y="476"/>
                        </a:lnTo>
                        <a:lnTo>
                          <a:pt x="222" y="372"/>
                        </a:lnTo>
                        <a:lnTo>
                          <a:pt x="274" y="195"/>
                        </a:lnTo>
                        <a:lnTo>
                          <a:pt x="318" y="91"/>
                        </a:lnTo>
                        <a:lnTo>
                          <a:pt x="314" y="30"/>
                        </a:lnTo>
                        <a:lnTo>
                          <a:pt x="274" y="0"/>
                        </a:lnTo>
                        <a:lnTo>
                          <a:pt x="2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26" name=""/>
            <p:cNvGrpSpPr/>
            <p:nvPr/>
          </p:nvGrpSpPr>
          <p:grpSpPr>
            <a:xfrm>
              <a:off x="5181480" y="4248000"/>
              <a:ext cx="3886200" cy="711000"/>
              <a:chOff x="5181480" y="4248000"/>
              <a:chExt cx="3886200" cy="711000"/>
            </a:xfrm>
          </p:grpSpPr>
          <p:sp>
            <p:nvSpPr>
              <p:cNvPr id="2127" name=""/>
              <p:cNvSpPr/>
              <p:nvPr/>
            </p:nvSpPr>
            <p:spPr>
              <a:xfrm>
                <a:off x="5181480" y="424800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715000" y="4323960"/>
                <a:ext cx="32004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ciété gestion annot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4120" y="4400280"/>
                <a:ext cx="380880" cy="2883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2130" name=""/>
            <p:cNvGrpSpPr/>
            <p:nvPr/>
          </p:nvGrpSpPr>
          <p:grpSpPr>
            <a:xfrm>
              <a:off x="990720" y="4248000"/>
              <a:ext cx="3886200" cy="780480"/>
              <a:chOff x="990720" y="4248000"/>
              <a:chExt cx="3886200" cy="780480"/>
            </a:xfrm>
          </p:grpSpPr>
          <p:sp>
            <p:nvSpPr>
              <p:cNvPr id="2131" name=""/>
              <p:cNvSpPr/>
              <p:nvPr/>
            </p:nvSpPr>
            <p:spPr>
              <a:xfrm>
                <a:off x="990720" y="4248000"/>
                <a:ext cx="3886200" cy="711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447920" y="4323960"/>
                <a:ext cx="3352680" cy="70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ciété Ontologie et Modè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33" name="onto_01" descr=""/>
              <p:cNvPicPr/>
              <p:nvPr/>
            </p:nvPicPr>
            <p:blipFill>
              <a:blip r:embed="rId2"/>
              <a:stretch/>
            </p:blipFill>
            <p:spPr>
              <a:xfrm>
                <a:off x="1133640" y="4400280"/>
                <a:ext cx="314280" cy="317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  <p:grpSp>
          <p:nvGrpSpPr>
            <p:cNvPr id="2134" name=""/>
            <p:cNvGrpSpPr/>
            <p:nvPr/>
          </p:nvGrpSpPr>
          <p:grpSpPr>
            <a:xfrm>
              <a:off x="2895480" y="4800240"/>
              <a:ext cx="4343400" cy="1371600"/>
              <a:chOff x="2895480" y="4800240"/>
              <a:chExt cx="4343400" cy="1371600"/>
            </a:xfrm>
          </p:grpSpPr>
          <p:sp>
            <p:nvSpPr>
              <p:cNvPr id="2135" name=""/>
              <p:cNvSpPr/>
              <p:nvPr/>
            </p:nvSpPr>
            <p:spPr>
              <a:xfrm>
                <a:off x="2895480" y="5079600"/>
                <a:ext cx="4191120" cy="7113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505320" y="5231880"/>
                <a:ext cx="365760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ciété d'interconnex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4495680" y="4800240"/>
                <a:ext cx="2133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781680" y="548604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6781680" y="4800240"/>
                <a:ext cx="4572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231880"/>
                <a:ext cx="474480" cy="37944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8F5A-DD54-4491-8B25-807294DF4A1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Organisation des société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716040" y="32004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92000" y="329400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ssig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ssource Coopér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2697120" y="3720960"/>
            <a:ext cx="228600" cy="1526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H="1" flipV="1">
            <a:off x="3002040" y="3720600"/>
            <a:ext cx="50328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H="1" flipV="1">
            <a:off x="3077640" y="3522240"/>
            <a:ext cx="427320" cy="586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7" name=""/>
          <p:cNvGrpSpPr/>
          <p:nvPr/>
        </p:nvGrpSpPr>
        <p:grpSpPr>
          <a:xfrm>
            <a:off x="2773440" y="2722680"/>
            <a:ext cx="380880" cy="545760"/>
            <a:chOff x="2773440" y="2722680"/>
            <a:chExt cx="380880" cy="545760"/>
          </a:xfrm>
        </p:grpSpPr>
        <p:sp>
          <p:nvSpPr>
            <p:cNvPr id="2148" name=""/>
            <p:cNvSpPr/>
            <p:nvPr/>
          </p:nvSpPr>
          <p:spPr>
            <a:xfrm flipV="1">
              <a:off x="2773440" y="273996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51280" y="272268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0" name=""/>
          <p:cNvSpPr/>
          <p:nvPr/>
        </p:nvSpPr>
        <p:spPr>
          <a:xfrm>
            <a:off x="458280" y="27417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Egali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16040" y="11430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16040" y="1701720"/>
            <a:ext cx="3581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76880" y="119376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présen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92000" y="16621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ssig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s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2590920" y="1663200"/>
            <a:ext cx="33480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 flipV="1">
            <a:off x="3002040" y="1663200"/>
            <a:ext cx="350640" cy="1652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7" name=""/>
          <p:cNvGrpSpPr/>
          <p:nvPr/>
        </p:nvGrpSpPr>
        <p:grpSpPr>
          <a:xfrm>
            <a:off x="2773440" y="647640"/>
            <a:ext cx="380880" cy="545760"/>
            <a:chOff x="2773440" y="647640"/>
            <a:chExt cx="380880" cy="545760"/>
          </a:xfrm>
        </p:grpSpPr>
        <p:sp>
          <p:nvSpPr>
            <p:cNvPr id="2158" name=""/>
            <p:cNvSpPr/>
            <p:nvPr/>
          </p:nvSpPr>
          <p:spPr>
            <a:xfrm flipV="1">
              <a:off x="2773440" y="66492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951280" y="64764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0" name=""/>
          <p:cNvSpPr/>
          <p:nvPr/>
        </p:nvSpPr>
        <p:spPr>
          <a:xfrm>
            <a:off x="459720" y="6843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Hiérarc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16040" y="5257800"/>
            <a:ext cx="358128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92000" y="53514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ssig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ssource Ré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2773440" y="4762440"/>
            <a:ext cx="380880" cy="545760"/>
            <a:chOff x="2773440" y="4762440"/>
            <a:chExt cx="380880" cy="545760"/>
          </a:xfrm>
        </p:grpSpPr>
        <p:sp>
          <p:nvSpPr>
            <p:cNvPr id="2164" name=""/>
            <p:cNvSpPr/>
            <p:nvPr/>
          </p:nvSpPr>
          <p:spPr>
            <a:xfrm flipV="1">
              <a:off x="2773440" y="4779720"/>
              <a:ext cx="203040" cy="528480"/>
            </a:xfrm>
            <a:prstGeom prst="upArrow">
              <a:avLst>
                <a:gd name="adj1" fmla="val 50000"/>
                <a:gd name="adj2" fmla="val 65071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951280" y="4762440"/>
              <a:ext cx="203040" cy="528840"/>
            </a:xfrm>
            <a:prstGeom prst="upArrow">
              <a:avLst>
                <a:gd name="adj1" fmla="val 50000"/>
                <a:gd name="adj2" fmla="val 65115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6" name=""/>
          <p:cNvSpPr/>
          <p:nvPr/>
        </p:nvSpPr>
        <p:spPr>
          <a:xfrm>
            <a:off x="457920" y="479916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Ré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4191120" y="990720"/>
            <a:ext cx="4952520" cy="5562000"/>
            <a:chOff x="4191120" y="990720"/>
            <a:chExt cx="4952520" cy="5562000"/>
          </a:xfrm>
        </p:grpSpPr>
        <p:sp>
          <p:nvSpPr>
            <p:cNvPr id="2168" name=""/>
            <p:cNvSpPr/>
            <p:nvPr/>
          </p:nvSpPr>
          <p:spPr>
            <a:xfrm>
              <a:off x="4191120" y="3047760"/>
              <a:ext cx="49525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Distribuer cont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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Charge Travail </a:t>
              </a:r>
              <a:r>
                <a:rPr b="0" lang="fr-FR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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Rés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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Redondance Rô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191120" y="5105160"/>
              <a:ext cx="49525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lvl="1" marL="646200" indent="-18252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Réplication complè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46200" indent="-18252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Redonda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46200" indent="-18252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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Charge Travail </a:t>
              </a:r>
              <a:r>
                <a:rPr b="0" lang="fr-FR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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Rés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46200" indent="-18252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Contenu répliqu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191120" y="990720"/>
              <a:ext cx="49525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Distribuer les rô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Distribue charge trav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73200" indent="-190440">
                <a:lnSpc>
                  <a:spcPct val="80000"/>
                </a:lnSpc>
                <a:spcBef>
                  <a:spcPts val="601"/>
                </a:spcBef>
                <a:buClr>
                  <a:srgbClr val="000099"/>
                </a:buClr>
                <a:buFont typeface="Wingdings" charset="2"/>
                <a:buChar char="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Augmente charge rés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1" name="agent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11040" cy="3142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2172" name="agent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2173" name="agent" descr=""/>
          <p:cNvPicPr/>
          <p:nvPr/>
        </p:nvPicPr>
        <p:blipFill>
          <a:blip r:embed="rId3"/>
          <a:stretch/>
        </p:blipFill>
        <p:spPr>
          <a:xfrm>
            <a:off x="274320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2174" name="agent" descr=""/>
          <p:cNvPicPr/>
          <p:nvPr/>
        </p:nvPicPr>
        <p:blipFill>
          <a:blip r:embed="rId4"/>
          <a:stretch/>
        </p:blipFill>
        <p:spPr>
          <a:xfrm>
            <a:off x="3124080" y="1905120"/>
            <a:ext cx="31140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2175" name="agent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pic>
        <p:nvPicPr>
          <p:cNvPr id="2176" name="agent" descr=""/>
          <p:cNvPicPr/>
          <p:nvPr/>
        </p:nvPicPr>
        <p:blipFill>
          <a:blip r:embed="rId6"/>
          <a:stretch/>
        </p:blipFill>
        <p:spPr>
          <a:xfrm>
            <a:off x="3886200" y="1905120"/>
            <a:ext cx="311040" cy="314280"/>
          </a:xfrm>
          <a:prstGeom prst="rect">
            <a:avLst/>
          </a:prstGeom>
          <a:ln w="28440">
            <a:solidFill>
              <a:srgbClr val="339933"/>
            </a:solidFill>
            <a:miter/>
          </a:ln>
        </p:spPr>
      </p:pic>
      <p:sp>
        <p:nvSpPr>
          <p:cNvPr id="2177" name=""/>
          <p:cNvSpPr/>
          <p:nvPr/>
        </p:nvSpPr>
        <p:spPr>
          <a:xfrm flipH="1" flipV="1">
            <a:off x="3200400" y="1676160"/>
            <a:ext cx="457200" cy="15228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agent" descr=""/>
          <p:cNvPicPr/>
          <p:nvPr/>
        </p:nvPicPr>
        <p:blipFill>
          <a:blip r:embed="rId7"/>
          <a:stretch/>
        </p:blipFill>
        <p:spPr>
          <a:xfrm>
            <a:off x="2692440" y="335268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2179" name="agent" descr=""/>
          <p:cNvPicPr/>
          <p:nvPr/>
        </p:nvPicPr>
        <p:blipFill>
          <a:blip r:embed="rId8"/>
          <a:stretch/>
        </p:blipFill>
        <p:spPr>
          <a:xfrm>
            <a:off x="2438280" y="3962520"/>
            <a:ext cx="31140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2180" name="agent" descr=""/>
          <p:cNvPicPr/>
          <p:nvPr/>
        </p:nvPicPr>
        <p:blipFill>
          <a:blip r:embed="rId9"/>
          <a:stretch/>
        </p:blipFill>
        <p:spPr>
          <a:xfrm>
            <a:off x="2889360" y="388620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2181" name="agent" descr=""/>
          <p:cNvPicPr/>
          <p:nvPr/>
        </p:nvPicPr>
        <p:blipFill>
          <a:blip r:embed="rId10"/>
          <a:stretch/>
        </p:blipFill>
        <p:spPr>
          <a:xfrm>
            <a:off x="3429000" y="3962520"/>
            <a:ext cx="31104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2182" name="agent" descr=""/>
          <p:cNvPicPr/>
          <p:nvPr/>
        </p:nvPicPr>
        <p:blipFill>
          <a:blip r:embed="rId11"/>
          <a:stretch/>
        </p:blipFill>
        <p:spPr>
          <a:xfrm>
            <a:off x="3581280" y="3505320"/>
            <a:ext cx="311400" cy="314280"/>
          </a:xfrm>
          <a:prstGeom prst="rect">
            <a:avLst/>
          </a:prstGeom>
          <a:ln w="28440">
            <a:solidFill>
              <a:srgbClr val="505682"/>
            </a:solidFill>
            <a:miter/>
          </a:ln>
        </p:spPr>
      </p:pic>
      <p:pic>
        <p:nvPicPr>
          <p:cNvPr id="2183" name="agent" descr=""/>
          <p:cNvPicPr/>
          <p:nvPr/>
        </p:nvPicPr>
        <p:blipFill>
          <a:blip r:embed="rId12"/>
          <a:stretch/>
        </p:blipFill>
        <p:spPr>
          <a:xfrm>
            <a:off x="2438280" y="54864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184" name="agent" descr=""/>
          <p:cNvPicPr/>
          <p:nvPr/>
        </p:nvPicPr>
        <p:blipFill>
          <a:blip r:embed="rId13"/>
          <a:stretch/>
        </p:blipFill>
        <p:spPr>
          <a:xfrm>
            <a:off x="2590920" y="5943600"/>
            <a:ext cx="31104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185" name="agent" descr=""/>
          <p:cNvPicPr/>
          <p:nvPr/>
        </p:nvPicPr>
        <p:blipFill>
          <a:blip r:embed="rId14"/>
          <a:stretch/>
        </p:blipFill>
        <p:spPr>
          <a:xfrm>
            <a:off x="3048120" y="5410080"/>
            <a:ext cx="31104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186" name="agent" descr=""/>
          <p:cNvPicPr/>
          <p:nvPr/>
        </p:nvPicPr>
        <p:blipFill>
          <a:blip r:embed="rId15"/>
          <a:stretch/>
        </p:blipFill>
        <p:spPr>
          <a:xfrm>
            <a:off x="3124080" y="59436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187" name="agent" descr=""/>
          <p:cNvPicPr/>
          <p:nvPr/>
        </p:nvPicPr>
        <p:blipFill>
          <a:blip r:embed="rId16"/>
          <a:stretch/>
        </p:blipFill>
        <p:spPr>
          <a:xfrm>
            <a:off x="3581280" y="5715000"/>
            <a:ext cx="311400" cy="3142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7F9C-B4B6-4D0B-B38C-55D954A5079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s et rôl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190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193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4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195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1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202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4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05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206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8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09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210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5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16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217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8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19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20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21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222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223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6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27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28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29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30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31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32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233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234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235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236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237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239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240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242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243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4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245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6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247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248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249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250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FEED-CFE9-48EB-9780-2C0BF537B21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s ontologie et modèl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2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253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256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7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258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64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265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7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68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269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1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72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273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8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279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280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1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82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83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284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285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286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9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0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1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2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3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4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295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296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297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298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299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300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302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303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305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306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7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308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9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10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11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12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13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2314" name=""/>
          <p:cNvGrpSpPr/>
          <p:nvPr/>
        </p:nvGrpSpPr>
        <p:grpSpPr>
          <a:xfrm>
            <a:off x="482760" y="380880"/>
            <a:ext cx="8508960" cy="6477120"/>
            <a:chOff x="482760" y="380880"/>
            <a:chExt cx="8508960" cy="6477120"/>
          </a:xfrm>
        </p:grpSpPr>
        <p:sp>
          <p:nvSpPr>
            <p:cNvPr id="2315" name=""/>
            <p:cNvSpPr/>
            <p:nvPr/>
          </p:nvSpPr>
          <p:spPr>
            <a:xfrm>
              <a:off x="482760" y="2514600"/>
              <a:ext cx="632448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724280" y="380880"/>
              <a:ext cx="426744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33520" y="380880"/>
              <a:ext cx="4190760" cy="213372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0F8B-F1A5-4577-9492-A0EB16C66EB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ontologie et modèl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66600" y="45720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57320" indent="-157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Société de 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réplication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et mise à disposi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363240" indent="-102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Ontologiste: sauvegarder et fournir l'ontolog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320" name=""/>
          <p:cNvGraphicFramePr/>
          <p:nvPr/>
        </p:nvGraphicFramePr>
        <p:xfrm>
          <a:off x="380880" y="1371600"/>
          <a:ext cx="85345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2" name=""/>
          <p:cNvGrpSpPr/>
          <p:nvPr/>
        </p:nvGrpSpPr>
        <p:grpSpPr>
          <a:xfrm>
            <a:off x="12600" y="3657600"/>
            <a:ext cx="9207720" cy="2921040"/>
            <a:chOff x="12600" y="3657600"/>
            <a:chExt cx="9207720" cy="2921040"/>
          </a:xfrm>
        </p:grpSpPr>
        <p:graphicFrame>
          <p:nvGraphicFramePr>
            <p:cNvPr id="2323" name=""/>
            <p:cNvGraphicFramePr/>
            <p:nvPr/>
          </p:nvGraphicFramePr>
          <p:xfrm>
            <a:off x="380880" y="4368960"/>
            <a:ext cx="8839440" cy="2209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368960"/>
                      <a:ext cx="88394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5" name=""/>
            <p:cNvSpPr/>
            <p:nvPr/>
          </p:nvSpPr>
          <p:spPr>
            <a:xfrm>
              <a:off x="1260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1000"/>
            </a:bodyPr>
            <a:p>
              <a:pPr lvl="1" marL="545040" indent="-154080">
                <a:lnSpc>
                  <a:spcPct val="90000"/>
                </a:lnSpc>
                <a:spcBef>
                  <a:spcPts val="601"/>
                </a:spcBef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</a:rPr>
                <a:t>Archiviste modèle organisationnel: sauvegarder et fournir le modèle structurel de l'organis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12600" y="2629080"/>
            <a:ext cx="9093240" cy="4228920"/>
            <a:chOff x="12600" y="2629080"/>
            <a:chExt cx="9093240" cy="4228920"/>
          </a:xfrm>
        </p:grpSpPr>
        <p:sp>
          <p:nvSpPr>
            <p:cNvPr id="2327" name=""/>
            <p:cNvSpPr/>
            <p:nvPr/>
          </p:nvSpPr>
          <p:spPr>
            <a:xfrm>
              <a:off x="2743200" y="2629080"/>
              <a:ext cx="3657600" cy="2286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66880" y="5359320"/>
              <a:ext cx="3886200" cy="1526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600" y="632448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73200" indent="-190440">
                <a:lnSpc>
                  <a:spcPct val="90000"/>
                </a:lnSpc>
                <a:spcBef>
                  <a:spcPts val="601"/>
                </a:spcBef>
                <a:buClr>
                  <a:srgbClr val="000099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Arial"/>
                </a:rPr>
                <a:t>Un agent (CORESE)</a:t>
              </a:r>
              <a:r>
                <a:rPr b="0" lang="en-GB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ECB9-0AF8-4FE5-913B-6652EBB58F3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Positionnement et pointeur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360" y="457200"/>
            <a:ext cx="8902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Intégration d'informations hétérogènes:</a:t>
            </a:r>
            <a:br>
              <a:rPr sz="2900"/>
            </a:b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Manifold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Kirk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1995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InfoSleuth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Nodine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9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InfoMaster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Genesereth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7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Carnot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Collet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1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RETSINA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Decker and Sycara, 1997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SIMS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Arens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6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OBSERVER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Mena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6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Bibliothèque numériques:</a:t>
            </a:r>
            <a:br>
              <a:rPr sz="2900"/>
            </a:b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SAIRE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Odubiyi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7]</a:t>
            </a:r>
            <a:r>
              <a:rPr b="0" lang="fr-FR" sz="2700" spc="-1" strike="noStrike">
                <a:solidFill>
                  <a:srgbClr val="000099"/>
                </a:solidFill>
                <a:latin typeface="Arial"/>
              </a:rPr>
              <a:t> ; UMDL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Weinstein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1999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Gestion de connaissances organisationnelles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ecueil, filtrage et profiling collaboratifs : CASMIR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Berney and Ferneley, 1999]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; Ricochet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Bothorel and Thomas, 1999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ccès itinérant à la mémoire et modèle du domaine pour classifier: KnowWeb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Dzbor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2000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Taxonomie, profiling et push: RICA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Aguirre </a:t>
            </a:r>
            <a:r>
              <a:rPr b="0" i="1" lang="fr-FR" sz="1800" spc="-1" strike="noStrike">
                <a:solidFill>
                  <a:srgbClr val="000099"/>
                </a:solidFill>
                <a:latin typeface="Arial"/>
              </a:rPr>
              <a:t>et al.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, 2000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Ontologie and mémoire d'entreprise: FRODO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[Van Elst and Abecker, 2002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+ CoMMA</a:t>
            </a:r>
            <a:r>
              <a:rPr b="1" lang="fr-FR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8199-26FB-4233-890D-41AE788D2C0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s d'interconnexion des agents (pages jaune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332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4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335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6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337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43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344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347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348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0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351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352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7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358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359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0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361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362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363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364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365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8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69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70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71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72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73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374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375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376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377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378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379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381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382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384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385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6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387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8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89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90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91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392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2393" name=""/>
          <p:cNvGrpSpPr/>
          <p:nvPr/>
        </p:nvGrpSpPr>
        <p:grpSpPr>
          <a:xfrm>
            <a:off x="609480" y="380880"/>
            <a:ext cx="8382240" cy="6477120"/>
            <a:chOff x="609480" y="380880"/>
            <a:chExt cx="8382240" cy="6477120"/>
          </a:xfrm>
        </p:grpSpPr>
        <p:sp>
          <p:nvSpPr>
            <p:cNvPr id="2394" name=""/>
            <p:cNvSpPr/>
            <p:nvPr/>
          </p:nvSpPr>
          <p:spPr>
            <a:xfrm>
              <a:off x="2514600" y="4648320"/>
              <a:ext cx="441972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09480" y="380880"/>
              <a:ext cx="838224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514600" y="2514600"/>
              <a:ext cx="4495680" cy="213372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3AC7-B224-4D82-928B-8A148E8B9BC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d'interconnex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66600" y="45720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Société 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égalitaire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d'agents d'annuaire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Gestion des pages jau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Fédérables pour permettre la configuration du SMA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Un rôle central: Directory Facilitator coopératif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99" name=""/>
          <p:cNvGrpSpPr/>
          <p:nvPr/>
        </p:nvGrpSpPr>
        <p:grpSpPr>
          <a:xfrm>
            <a:off x="457200" y="2463840"/>
            <a:ext cx="8763120" cy="3708360"/>
            <a:chOff x="457200" y="2463840"/>
            <a:chExt cx="8763120" cy="3708360"/>
          </a:xfrm>
        </p:grpSpPr>
        <p:graphicFrame>
          <p:nvGraphicFramePr>
            <p:cNvPr id="2400" name=""/>
            <p:cNvGraphicFramePr/>
            <p:nvPr/>
          </p:nvGraphicFramePr>
          <p:xfrm>
            <a:off x="457200" y="2463840"/>
            <a:ext cx="8763120" cy="3251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463840"/>
                      <a:ext cx="876312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02" name=""/>
            <p:cNvGrpSpPr/>
            <p:nvPr/>
          </p:nvGrpSpPr>
          <p:grpSpPr>
            <a:xfrm>
              <a:off x="6858000" y="5486400"/>
              <a:ext cx="2108160" cy="685800"/>
              <a:chOff x="6858000" y="5486400"/>
              <a:chExt cx="2108160" cy="685800"/>
            </a:xfrm>
          </p:grpSpPr>
          <p:sp>
            <p:nvSpPr>
              <p:cNvPr id="2403" name=""/>
              <p:cNvSpPr/>
              <p:nvPr/>
            </p:nvSpPr>
            <p:spPr>
              <a:xfrm>
                <a:off x="6858000" y="5486400"/>
                <a:ext cx="2108160" cy="68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04" name="JADE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1080" y="5562720"/>
                <a:ext cx="110808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5" name="fipa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1760" y="5562720"/>
                <a:ext cx="838080" cy="57780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2406" name=""/>
          <p:cNvSpPr/>
          <p:nvPr/>
        </p:nvSpPr>
        <p:spPr>
          <a:xfrm>
            <a:off x="457200" y="6019920"/>
            <a:ext cx="86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AMS pour les pages blanch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0A60-C43C-4501-89B0-284DCC69074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s dédiée à l'utilisateur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8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409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1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412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414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20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421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424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425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7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428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429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4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435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436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7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438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439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440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441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442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5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46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47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48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49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50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451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452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453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454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455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456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7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458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459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461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462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3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464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5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466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467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468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469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2470" name=""/>
          <p:cNvGrpSpPr/>
          <p:nvPr/>
        </p:nvGrpSpPr>
        <p:grpSpPr>
          <a:xfrm>
            <a:off x="609480" y="380880"/>
            <a:ext cx="8382240" cy="6400800"/>
            <a:chOff x="609480" y="380880"/>
            <a:chExt cx="8382240" cy="6400800"/>
          </a:xfrm>
        </p:grpSpPr>
        <p:sp>
          <p:nvSpPr>
            <p:cNvPr id="2471" name=""/>
            <p:cNvSpPr/>
            <p:nvPr/>
          </p:nvSpPr>
          <p:spPr>
            <a:xfrm>
              <a:off x="609480" y="380880"/>
              <a:ext cx="8382240" cy="4267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514600" y="4648320"/>
              <a:ext cx="4343400" cy="21333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6DDF-FBEA-474F-BCC2-ADB7647FD13F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dédiée aux utilisateur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3360" y="4572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Trois rôles principaux / société différente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39360" indent="-1807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Gestion interface: interactions directes avec utilisateur (IC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39360" indent="-1807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Gestion des profils utilisateurs: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037520" indent="-217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pprentissage symbolique pour préférences thèmes (UP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037520" indent="-217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rchivage des profils, accès et sécurité à la connexion (UPA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Gestionnaire d'interface (IC)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380880" y="3048120"/>
          <a:ext cx="914400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91440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3114-F3A0-4C2F-ACE0-3BF03660577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dédiée à l'utilisateur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-317520" y="507960"/>
            <a:ext cx="9677160" cy="3249720"/>
            <a:chOff x="-317520" y="507960"/>
            <a:chExt cx="9677160" cy="3249720"/>
          </a:xfrm>
        </p:grpSpPr>
        <p:graphicFrame>
          <p:nvGraphicFramePr>
            <p:cNvPr id="2479" name=""/>
            <p:cNvGraphicFramePr/>
            <p:nvPr/>
          </p:nvGraphicFramePr>
          <p:xfrm>
            <a:off x="215640" y="965160"/>
            <a:ext cx="9144000" cy="2792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4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5640" y="965160"/>
                      <a:ext cx="9144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1" name=""/>
            <p:cNvSpPr/>
            <p:nvPr/>
          </p:nvSpPr>
          <p:spPr>
            <a:xfrm>
              <a:off x="-317520" y="50796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62120" indent="-292320">
                <a:lnSpc>
                  <a:spcPct val="90000"/>
                </a:lnSpc>
                <a:spcBef>
                  <a:spcPts val="726"/>
                </a:spcBef>
                <a:buClr>
                  <a:srgbClr val="000099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900" spc="-1" strike="noStrike">
                  <a:solidFill>
                    <a:srgbClr val="000099"/>
                  </a:solidFill>
                  <a:latin typeface="Arial"/>
                </a:rPr>
                <a:t>Gestionnaire de profils (UPM) apprentissage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-317520" y="3654360"/>
            <a:ext cx="9677160" cy="2975040"/>
            <a:chOff x="-317520" y="3654360"/>
            <a:chExt cx="9677160" cy="2975040"/>
          </a:xfrm>
        </p:grpSpPr>
        <p:sp>
          <p:nvSpPr>
            <p:cNvPr id="2483" name=""/>
            <p:cNvSpPr/>
            <p:nvPr/>
          </p:nvSpPr>
          <p:spPr>
            <a:xfrm>
              <a:off x="-317520" y="365436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62120" indent="-292320">
                <a:lnSpc>
                  <a:spcPct val="90000"/>
                </a:lnSpc>
                <a:spcBef>
                  <a:spcPts val="726"/>
                </a:spcBef>
                <a:buClr>
                  <a:srgbClr val="000099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900" spc="-1" strike="noStrike">
                  <a:solidFill>
                    <a:srgbClr val="000099"/>
                  </a:solidFill>
                  <a:latin typeface="Arial"/>
                </a:rPr>
                <a:t>Archiviste de profils (UPA) archivage et accè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4" name=""/>
            <p:cNvGraphicFramePr/>
            <p:nvPr/>
          </p:nvGraphicFramePr>
          <p:xfrm>
            <a:off x="215640" y="4228920"/>
            <a:ext cx="9144000" cy="240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5640" y="4228920"/>
                      <a:ext cx="91440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D0C1-58BF-4567-9F58-ED0E95EA3DA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gérant les annotatio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87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488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0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491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2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493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9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500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2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503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504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6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507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508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514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515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6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517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518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519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520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521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4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25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26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27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28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29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530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531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532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533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534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535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537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538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540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541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2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543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4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545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546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547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548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2549" name=""/>
          <p:cNvGrpSpPr/>
          <p:nvPr/>
        </p:nvGrpSpPr>
        <p:grpSpPr>
          <a:xfrm>
            <a:off x="482760" y="380880"/>
            <a:ext cx="8533800" cy="6477120"/>
            <a:chOff x="482760" y="380880"/>
            <a:chExt cx="8533800" cy="6477120"/>
          </a:xfrm>
        </p:grpSpPr>
        <p:sp>
          <p:nvSpPr>
            <p:cNvPr id="2550" name=""/>
            <p:cNvSpPr/>
            <p:nvPr/>
          </p:nvSpPr>
          <p:spPr>
            <a:xfrm>
              <a:off x="482760" y="2514600"/>
              <a:ext cx="632412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58720" y="380880"/>
              <a:ext cx="426672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825800" y="380880"/>
              <a:ext cx="4190760" cy="213372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BA2-E60F-414D-9A2D-8A5B1FA0884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de gestion des annotatio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154080" y="507960"/>
            <a:ext cx="8951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Gestion des annotation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ources locales distrib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rchiver les annotations à propos des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hercher et extraire les références pour une requ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Hiérarchie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fédérer deux aspects de la société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ôle de médiateur (gérer l'aspect soci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superviser le processus de résolution distribuée des requê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gérer l'allocation d'une nouvelle 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notification d'une nouvelle annotation pour déclencher le </a:t>
            </a:r>
            <a:r>
              <a:rPr b="0" i="1" lang="fr-FR" sz="2000" spc="-1" strike="noStrike">
                <a:solidFill>
                  <a:srgbClr val="000099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5" name=""/>
          <p:cNvGraphicFramePr/>
          <p:nvPr/>
        </p:nvGraphicFramePr>
        <p:xfrm>
          <a:off x="762120" y="3971880"/>
          <a:ext cx="838188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71880"/>
                    <a:ext cx="83818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97DC-B875-4239-8577-E79B06752CA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ociété de gestion des annotatio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154080" y="507960"/>
            <a:ext cx="8951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7cba"/>
                </a:solidFill>
                <a:latin typeface="Arial"/>
              </a:rPr>
              <a:t>Gestion des annotation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Sources locales distrib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Archiver les annotations à propos des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Chercher et extraire les références pour une requ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7cba"/>
                </a:solidFill>
                <a:latin typeface="Arial"/>
              </a:rPr>
              <a:t>Hiérarchie:</a:t>
            </a:r>
            <a:r>
              <a:rPr b="0" lang="fr-FR" sz="2900" spc="-1" strike="noStrike">
                <a:solidFill>
                  <a:srgbClr val="007cba"/>
                </a:solidFill>
                <a:latin typeface="Arial"/>
              </a:rPr>
              <a:t> fédérer deux aspects de la société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762120" y="3556080"/>
          <a:ext cx="826272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56080"/>
                    <a:ext cx="82627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1" name=""/>
          <p:cNvSpPr/>
          <p:nvPr/>
        </p:nvSpPr>
        <p:spPr>
          <a:xfrm>
            <a:off x="0" y="2438280"/>
            <a:ext cx="895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8000"/>
          </a:bodyPr>
          <a:p>
            <a:pPr lvl="1" marL="524880" indent="-148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ôle d'archiviste (gérer l'aspect loc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1760" indent="-17820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attaché à &amp; exploitant une base lo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1760" indent="-1782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répondre aux requêtes &amp; proposer service archiv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E5C4-AB3E-4183-983C-B5ADAF30F1C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Rôles Identifié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3360" y="457200"/>
            <a:ext cx="88394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Analyse des rôles identifiés</a:t>
            </a:r>
            <a:br>
              <a:rPr sz="29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rchiviste Ontologiste ; Archiviste Modèle d'Entreprise ; Archiviste d'Annotations ; Médiateur d'Annotations ; Apparieur Fédérable ; Contrôleur d'Interface ; Gestionnaire de profils ; Archiviste de profils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4" name=""/>
          <p:cNvGraphicFramePr/>
          <p:nvPr/>
        </p:nvGraphicFramePr>
        <p:xfrm>
          <a:off x="380880" y="2133720"/>
          <a:ext cx="87631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7631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B94C-A1FB-4AA7-93BF-3392E040FAA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use case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63360" y="488880"/>
            <a:ext cx="883944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Interactions entres les rôle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nalyse des scénario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Use cases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68" name="" descr=""/>
          <p:cNvPicPr/>
          <p:nvPr/>
        </p:nvPicPr>
        <p:blipFill>
          <a:blip r:embed="rId1"/>
          <a:stretch/>
        </p:blipFill>
        <p:spPr>
          <a:xfrm>
            <a:off x="1295280" y="1612800"/>
            <a:ext cx="75438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EC18-2656-4689-AFEC-51EDA68C34C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609480" y="1143000"/>
            <a:ext cx="7772400" cy="4379760"/>
            <a:chOff x="609480" y="1143000"/>
            <a:chExt cx="7772400" cy="4379760"/>
          </a:xfrm>
        </p:grpSpPr>
        <p:sp>
          <p:nvSpPr>
            <p:cNvPr id="142" name=""/>
            <p:cNvSpPr/>
            <p:nvPr/>
          </p:nvSpPr>
          <p:spPr>
            <a:xfrm>
              <a:off x="609480" y="11430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725640" y="1222200"/>
              <a:ext cx="1657080" cy="4180680"/>
              <a:chOff x="3725640" y="1222200"/>
              <a:chExt cx="1657080" cy="418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25640" y="13806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84400" y="12222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15880" y="2576160"/>
              <a:ext cx="6532560" cy="994680"/>
              <a:chOff x="1415880" y="2576160"/>
              <a:chExt cx="6532560" cy="994680"/>
            </a:xfrm>
          </p:grpSpPr>
          <p:sp>
            <p:nvSpPr>
              <p:cNvPr id="147" name=""/>
              <p:cNvSpPr/>
              <p:nvPr/>
            </p:nvSpPr>
            <p:spPr>
              <a:xfrm>
                <a:off x="1415880" y="26614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29440" y="25761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86240" y="27475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438200" y="32378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32040" y="27982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2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4880" y="28886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53" name=""/>
              <p:cNvGrpSpPr/>
              <p:nvPr/>
            </p:nvGrpSpPr>
            <p:grpSpPr>
              <a:xfrm>
                <a:off x="5383080" y="2895120"/>
                <a:ext cx="908280" cy="636120"/>
                <a:chOff x="5383080" y="2895120"/>
                <a:chExt cx="908280" cy="6361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383080" y="325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59200" y="289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56" name=""/>
              <p:cNvSpPr/>
              <p:nvPr/>
            </p:nvSpPr>
            <p:spPr>
              <a:xfrm>
                <a:off x="3726000" y="26632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7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4640" y="29394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2463840" y="32936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91360" y="32904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64400" y="28504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1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537240" y="29412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62" name=""/>
              <p:cNvGrpSpPr/>
              <p:nvPr/>
            </p:nvGrpSpPr>
            <p:grpSpPr>
              <a:xfrm>
                <a:off x="3252960" y="2707560"/>
                <a:ext cx="907920" cy="634680"/>
                <a:chOff x="3252960" y="2707560"/>
                <a:chExt cx="907920" cy="634680"/>
              </a:xfrm>
            </p:grpSpPr>
            <p:pic>
              <p:nvPicPr>
                <p:cNvPr id="163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29080" y="270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>
                  <a:off x="3252960" y="30657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chéma généra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6800" y="3611520"/>
            <a:ext cx="1101240" cy="1552680"/>
            <a:chOff x="766800" y="3611520"/>
            <a:chExt cx="1101240" cy="1552680"/>
          </a:xfrm>
        </p:grpSpPr>
        <p:sp>
          <p:nvSpPr>
            <p:cNvPr id="167" name=""/>
            <p:cNvSpPr/>
            <p:nvPr/>
          </p:nvSpPr>
          <p:spPr>
            <a:xfrm>
              <a:off x="766800" y="456732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génieur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la connaiss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438200" y="3611520"/>
              <a:ext cx="429840" cy="1181160"/>
              <a:chOff x="1438200" y="3611520"/>
              <a:chExt cx="429840" cy="11811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438200" y="3611520"/>
                <a:ext cx="210960" cy="97920"/>
                <a:chOff x="1438200" y="3611520"/>
                <a:chExt cx="210960" cy="97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438200" y="368532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90040" y="362196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62760" y="361152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03080" y="364896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512720" y="3681360"/>
                <a:ext cx="355320" cy="1111320"/>
                <a:chOff x="1512720" y="3681360"/>
                <a:chExt cx="355320" cy="11113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576800" y="386424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704600" y="368136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12720" y="408024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629360" y="406836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589760" y="432900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700280" y="432900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81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477440" y="367272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2" name=""/>
          <p:cNvGrpSpPr/>
          <p:nvPr/>
        </p:nvGrpSpPr>
        <p:grpSpPr>
          <a:xfrm>
            <a:off x="2070000" y="3730680"/>
            <a:ext cx="2168640" cy="677520"/>
            <a:chOff x="2070000" y="3730680"/>
            <a:chExt cx="2168640" cy="677520"/>
          </a:xfrm>
        </p:grpSpPr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2070000" y="40100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3371760" y="401004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2266920" y="3730680"/>
              <a:ext cx="1008000" cy="677520"/>
              <a:chOff x="2266920" y="3730680"/>
              <a:chExt cx="1008000" cy="677520"/>
            </a:xfrm>
          </p:grpSpPr>
          <p:sp>
            <p:nvSpPr>
              <p:cNvPr id="186" name=""/>
              <p:cNvSpPr/>
              <p:nvPr/>
            </p:nvSpPr>
            <p:spPr>
              <a:xfrm>
                <a:off x="2424600" y="377028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2640" y="400392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2266920" y="373068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Ontologi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9" name="onto_01" descr=""/>
            <p:cNvPicPr/>
            <p:nvPr/>
          </p:nvPicPr>
          <p:blipFill>
            <a:blip r:embed="rId10"/>
            <a:stretch/>
          </p:blipFill>
          <p:spPr>
            <a:xfrm>
              <a:off x="3924360" y="397044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"/>
          <p:cNvGrpSpPr/>
          <p:nvPr/>
        </p:nvGrpSpPr>
        <p:grpSpPr>
          <a:xfrm>
            <a:off x="1857240" y="4481640"/>
            <a:ext cx="1632240" cy="881640"/>
            <a:chOff x="1857240" y="4481640"/>
            <a:chExt cx="1632240" cy="881640"/>
          </a:xfrm>
        </p:grpSpPr>
        <p:grpSp>
          <p:nvGrpSpPr>
            <p:cNvPr id="191" name=""/>
            <p:cNvGrpSpPr/>
            <p:nvPr/>
          </p:nvGrpSpPr>
          <p:grpSpPr>
            <a:xfrm>
              <a:off x="1857240" y="4765320"/>
              <a:ext cx="1632240" cy="597960"/>
              <a:chOff x="1857240" y="4765320"/>
              <a:chExt cx="1632240" cy="597960"/>
            </a:xfrm>
          </p:grpSpPr>
          <p:sp>
            <p:nvSpPr>
              <p:cNvPr id="192" name=""/>
              <p:cNvSpPr/>
              <p:nvPr/>
            </p:nvSpPr>
            <p:spPr>
              <a:xfrm>
                <a:off x="1936080" y="4804920"/>
                <a:ext cx="1341000" cy="55836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75320" y="5008680"/>
                <a:ext cx="27612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1857240" y="4765320"/>
                <a:ext cx="74916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odèl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158920" y="4964760"/>
                <a:ext cx="13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Modèle d'entre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Profils d'utilisateu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6" name="" descr=""/>
            <p:cNvPicPr/>
            <p:nvPr/>
          </p:nvPicPr>
          <p:blipFill>
            <a:blip r:embed="rId12"/>
            <a:stretch/>
          </p:blipFill>
          <p:spPr>
            <a:xfrm>
              <a:off x="2660760" y="4481640"/>
              <a:ext cx="236520" cy="23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3371760" y="4846680"/>
            <a:ext cx="1065240" cy="357120"/>
            <a:chOff x="3371760" y="4846680"/>
            <a:chExt cx="1065240" cy="357120"/>
          </a:xfrm>
        </p:grpSpPr>
        <p:pic>
          <p:nvPicPr>
            <p:cNvPr id="198" name="" descr=""/>
            <p:cNvPicPr/>
            <p:nvPr/>
          </p:nvPicPr>
          <p:blipFill>
            <a:blip r:embed="rId13"/>
            <a:stretch/>
          </p:blipFill>
          <p:spPr>
            <a:xfrm>
              <a:off x="3371760" y="4926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onto_02" descr=""/>
            <p:cNvPicPr/>
            <p:nvPr/>
          </p:nvPicPr>
          <p:blipFill>
            <a:blip r:embed="rId14"/>
            <a:stretch/>
          </p:blipFill>
          <p:spPr>
            <a:xfrm>
              <a:off x="4081320" y="484668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 txBox="1"/>
          <p:nvPr/>
        </p:nvSpPr>
        <p:spPr>
          <a:xfrm>
            <a:off x="1951200" y="448776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90800" y="3452760"/>
            <a:ext cx="1971720" cy="1273320"/>
            <a:chOff x="1990800" y="3452760"/>
            <a:chExt cx="1971720" cy="1273320"/>
          </a:xfrm>
        </p:grpSpPr>
        <p:sp>
          <p:nvSpPr>
            <p:cNvPr id="202" name=""/>
            <p:cNvSpPr/>
            <p:nvPr/>
          </p:nvSpPr>
          <p:spPr>
            <a:xfrm>
              <a:off x="3292560" y="345276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1990800" y="345276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5240" y="353232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2E10-3606-41B4-B97F-76C21400C37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protocole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Protocoles des Interac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Graphe d'accointanc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équences de messag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2000160" y="2795760"/>
            <a:ext cx="4508640" cy="3747960"/>
            <a:chOff x="2000160" y="2795760"/>
            <a:chExt cx="4508640" cy="3747960"/>
          </a:xfrm>
        </p:grpSpPr>
        <p:sp>
          <p:nvSpPr>
            <p:cNvPr id="2572" name=""/>
            <p:cNvSpPr/>
            <p:nvPr/>
          </p:nvSpPr>
          <p:spPr>
            <a:xfrm>
              <a:off x="4770360" y="2795760"/>
              <a:ext cx="124956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 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000160" y="3394080"/>
              <a:ext cx="1249560" cy="3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f : 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70360" y="4587840"/>
              <a:ext cx="1738440" cy="3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 U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770360" y="6218280"/>
              <a:ext cx="1738440" cy="3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: U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3249720" y="2959200"/>
              <a:ext cx="1520640" cy="5968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5369040" y="3122640"/>
              <a:ext cx="0" cy="14652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5369040" y="4915080"/>
              <a:ext cx="0" cy="13032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914400" y="1981080"/>
            <a:ext cx="7942320" cy="4131720"/>
            <a:chOff x="914400" y="1981080"/>
            <a:chExt cx="7942320" cy="4131720"/>
          </a:xfrm>
        </p:grpSpPr>
        <p:sp>
          <p:nvSpPr>
            <p:cNvPr id="2580" name=""/>
            <p:cNvSpPr/>
            <p:nvPr/>
          </p:nvSpPr>
          <p:spPr>
            <a:xfrm>
              <a:off x="3249720" y="3556080"/>
              <a:ext cx="2119320" cy="10317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4227480" y="2959200"/>
              <a:ext cx="380880" cy="163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4227480" y="3013200"/>
              <a:ext cx="108000" cy="109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54240" y="2741760"/>
              <a:ext cx="703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: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3956040" y="3176640"/>
              <a:ext cx="379440" cy="162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4227480" y="3176640"/>
              <a:ext cx="108000" cy="108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016280" y="1981080"/>
              <a:ext cx="25030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protocol fipa-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content &lt;Search for UPM/Result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language FIPA-SL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117680" y="3228840"/>
              <a:ext cx="5724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: ag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3430440" y="3394080"/>
              <a:ext cx="379440" cy="162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3684600" y="3394080"/>
              <a:ext cx="125280" cy="108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88840" y="3448080"/>
              <a:ext cx="6728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: in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968400" y="2035080"/>
              <a:ext cx="2552760" cy="7081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398760" y="2035080"/>
              <a:ext cx="122400" cy="123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521160" y="2577960"/>
              <a:ext cx="760320" cy="21780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303720" y="2741760"/>
              <a:ext cx="760320" cy="54288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141720" y="2741760"/>
              <a:ext cx="542880" cy="70632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498920" y="4098960"/>
              <a:ext cx="434880" cy="217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498920" y="4098960"/>
              <a:ext cx="1094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279680" y="3827520"/>
              <a:ext cx="703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: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119480" y="4044960"/>
              <a:ext cx="379440" cy="217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335480" y="4262400"/>
              <a:ext cx="1634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738240" y="4098960"/>
              <a:ext cx="5724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: ag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467160" y="3719520"/>
              <a:ext cx="434880" cy="217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92600" y="3936960"/>
              <a:ext cx="1094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028320" y="3772080"/>
              <a:ext cx="6728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: in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3359160" y="3990960"/>
              <a:ext cx="379440" cy="3794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949320" y="4316400"/>
              <a:ext cx="280044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protocol fipa-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content &lt;Search UPA of user /Result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language FIPA-SL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914400" y="4370400"/>
              <a:ext cx="2933640" cy="7081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84600" y="4370400"/>
              <a:ext cx="163440" cy="1094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848040" y="4262400"/>
              <a:ext cx="922320" cy="48888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3848040" y="4316400"/>
              <a:ext cx="162000" cy="2174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5313240" y="4968720"/>
              <a:ext cx="0" cy="325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259240" y="5186520"/>
              <a:ext cx="54000" cy="1076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551120" y="4968720"/>
              <a:ext cx="703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: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5423040" y="5347800"/>
              <a:ext cx="0" cy="3272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74520" y="5457960"/>
              <a:ext cx="6620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: ag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72720" y="5891040"/>
              <a:ext cx="7628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: in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23040" y="5348160"/>
              <a:ext cx="54000" cy="1098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5423040" y="5783400"/>
              <a:ext cx="0" cy="325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23040" y="5783400"/>
              <a:ext cx="54000" cy="1076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3575160" y="5130720"/>
              <a:ext cx="923760" cy="48888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948240" y="5348160"/>
              <a:ext cx="263412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protocol fipa-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content &lt;Open User Profile/Result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language FIPA-SL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914400" y="5403960"/>
              <a:ext cx="2660760" cy="7063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452760" y="5403960"/>
              <a:ext cx="122400" cy="122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3575160" y="5511960"/>
              <a:ext cx="1847880" cy="2714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575160" y="5946840"/>
              <a:ext cx="1847880" cy="5400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5313240" y="3502080"/>
              <a:ext cx="0" cy="325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259240" y="3719520"/>
              <a:ext cx="54000" cy="108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551120" y="3500280"/>
              <a:ext cx="7034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: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5423040" y="3230640"/>
              <a:ext cx="0" cy="325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474880" y="3338640"/>
              <a:ext cx="57240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: ag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472720" y="4154400"/>
              <a:ext cx="76284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: in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423040" y="3230640"/>
              <a:ext cx="54000" cy="1080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5423040" y="4044960"/>
              <a:ext cx="0" cy="325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423040" y="4044960"/>
              <a:ext cx="54000" cy="10944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225840" y="3394080"/>
              <a:ext cx="232632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protocol fipa-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content &lt;Request login/Result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language FIPA-SL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195960" y="3448080"/>
              <a:ext cx="2660760" cy="7081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34320" y="3448080"/>
              <a:ext cx="122400" cy="122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477040" y="3284640"/>
              <a:ext cx="1031760" cy="1634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313240" y="3665520"/>
              <a:ext cx="870120" cy="10800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5423040" y="3990960"/>
              <a:ext cx="760320" cy="10800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E0E2-81E5-421D-A2D9-027B4CC8460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Niveaux &amp; Besoi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66600" y="41868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Trois couches de communications &amp; trois niveaux d'intervention des ontologies 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iveau FIPA ACL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Actes du langage fixés dans la norme FIPA pour les protocoles d'interaction de haut niveau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SL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iveau CoMMA ACL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premier niveau du contenu des messages, actes sur la mémoire fixés par les concepteurs pour les protocoles d'interaction spécifiques à CoMMA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SL1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  (maintenant RDF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iveau des annotations et leurs requêtes: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deuxième niveau du contenu, concerne directement les connaissances de la mémoire et exprimé en O'CoMMA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RDF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EE17-F358-48DA-95EE-A7629E989E0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Message requesting memo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44600" y="533160"/>
            <a:ext cx="8394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-RE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sender  ( agent-identifier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localUPM@fapollo:1099/JADE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ceiver  (set ( agent-identifie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AM@fapollo:1099/JADE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tent 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(all ?x (is-answer-fo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comma:Memo&gt;&lt;comma:Designation&gt;?&lt;/comma:Designation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comma:Memo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rdf:RDF&gt;" ) ?x ) 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ply-with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language  CoMMA-RD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ontology  CoMMA-annotation-ontolog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rotocol  FIPA-Quer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versation-id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B5FB-95A1-408C-9AE9-7A34B95E5DF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Message : FIPA AC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444600" y="533520"/>
            <a:ext cx="839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(QUERY-RE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sender  ( agent-identifier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name localUPM@fapollo:1099/JADE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receiver  (set ( agent-identifie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name AM@fapollo:1099/JADE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content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(all ?x (is-answer-fo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comma:Memo&gt;&lt;comma:Designation&gt;?&lt;/comma:Designation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comma:Memo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rdf:RDF&gt;" ) ?x ) 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reply-with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language  CoMMA-RD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ontology  CoMMA-annotation-ontolog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protocol  FIPA-Quer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conversation-id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2372-3F47-4E34-9547-5E2FAC8925C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Message : CoMMA AC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44600" y="533520"/>
            <a:ext cx="839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-RE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sender  ( agent-identifier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localUPM@fapollo:1099/JADE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ceiver  (set ( agent-identifie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AM@fapollo:1099/JADE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tent 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((all ?x (is-answer-fo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(query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:pattern "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comma:Memo&gt;&lt;comma:Designation&gt;?&lt;/comma:Designation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comma:Memo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&lt;/rdf:RDF&gt;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" ) ?x ) 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ply-with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language  CoMMA-RD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ontology  CoMMA-annotation-ontolog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rotocol  FIPA-Quer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versation-id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C43C-75D1-4719-AF0D-6A31DCB4A47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Message : O'COMMA RDF(S)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44600" y="533520"/>
            <a:ext cx="839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-RE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sender  ( agent-identifier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localUPM@fapollo:1099/JADE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ceiver  (set ( agent-identifie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name AM@fapollo:1099/JADE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tent 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(all ?x (is-answer-for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(query 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attern "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&lt;comma:Memo&gt;&lt;comma:Designation&gt;?&lt;/comma:Designation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&lt;/comma:Memo&gt;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sz="1700" spc="-1" strike="noStrike">
                <a:solidFill>
                  <a:srgbClr val="ff0000"/>
                </a:solidFill>
                <a:latin typeface="Arial"/>
              </a:rPr>
              <a:t>&lt;/rdf:RDF&gt;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sz="1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) ?x ) ) 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reply-with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language  CoMMA-RDF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ontology  CoMMA-annotation-ontolog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protocol  FIPA-Query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sz="1700" spc="-1" strike="noStrike">
                <a:solidFill>
                  <a:srgbClr val="000099"/>
                </a:solidFill>
                <a:latin typeface="Arial"/>
              </a:rPr>
              <a:t>:conversation-id  QuerylocalUPM987683105872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D598-33FD-4348-A409-D765745B7251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"/>
          <p:cNvSpPr/>
          <p:nvPr/>
        </p:nvSpPr>
        <p:spPr>
          <a:xfrm>
            <a:off x="63360" y="279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40000"/>
              </a:lnSpc>
              <a:spcBef>
                <a:spcPts val="550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Types &amp; Comportements d'Agents</a:t>
            </a:r>
            <a:br>
              <a:rPr sz="29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rchiviste Ontologiste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rchiviste Modèle d'Entreprise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rchiviste d'Annotations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Médiateur d'Annotations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pparieur Fédérable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Contrôleur d'Interface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Gestionnaire de profils</a:t>
            </a:r>
            <a:br>
              <a:rPr sz="2200"/>
            </a:b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Archiviste de profils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Types et comportements d'agen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53" name=""/>
          <p:cNvGrpSpPr/>
          <p:nvPr/>
        </p:nvGrpSpPr>
        <p:grpSpPr>
          <a:xfrm>
            <a:off x="3645000" y="1041480"/>
            <a:ext cx="2862720" cy="4189320"/>
            <a:chOff x="3645000" y="1041480"/>
            <a:chExt cx="2862720" cy="4189320"/>
          </a:xfrm>
        </p:grpSpPr>
        <p:grpSp>
          <p:nvGrpSpPr>
            <p:cNvPr id="2654" name=""/>
            <p:cNvGrpSpPr/>
            <p:nvPr/>
          </p:nvGrpSpPr>
          <p:grpSpPr>
            <a:xfrm>
              <a:off x="5245200" y="1041480"/>
              <a:ext cx="1038600" cy="761760"/>
              <a:chOff x="5245200" y="1041480"/>
              <a:chExt cx="1038600" cy="761760"/>
            </a:xfrm>
          </p:grpSpPr>
          <p:sp>
            <p:nvSpPr>
              <p:cNvPr id="2655" name=""/>
              <p:cNvSpPr/>
              <p:nvPr/>
            </p:nvSpPr>
            <p:spPr>
              <a:xfrm>
                <a:off x="5245200" y="1041480"/>
                <a:ext cx="76320" cy="76176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9800 h 761760"/>
                  <a:gd name="textAreaBottom" fmla="*/ 741960 h 76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321520" y="1422360"/>
                <a:ext cx="3045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633640" y="1193760"/>
                <a:ext cx="65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O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8" name=""/>
            <p:cNvGrpSpPr/>
            <p:nvPr/>
          </p:nvGrpSpPr>
          <p:grpSpPr>
            <a:xfrm>
              <a:off x="4330800" y="1955880"/>
              <a:ext cx="1938960" cy="459720"/>
              <a:chOff x="4330800" y="1955880"/>
              <a:chExt cx="1938960" cy="459720"/>
            </a:xfrm>
          </p:grpSpPr>
          <p:sp>
            <p:nvSpPr>
              <p:cNvPr id="2659" name=""/>
              <p:cNvSpPr/>
              <p:nvPr/>
            </p:nvSpPr>
            <p:spPr>
              <a:xfrm>
                <a:off x="4330800" y="2184480"/>
                <a:ext cx="129492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628960" y="1955880"/>
                <a:ext cx="64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4330800" y="2413080"/>
              <a:ext cx="2009880" cy="459720"/>
              <a:chOff x="4330800" y="2413080"/>
              <a:chExt cx="2009880" cy="459720"/>
            </a:xfrm>
          </p:grpSpPr>
          <p:sp>
            <p:nvSpPr>
              <p:cNvPr id="2662" name=""/>
              <p:cNvSpPr/>
              <p:nvPr/>
            </p:nvSpPr>
            <p:spPr>
              <a:xfrm>
                <a:off x="4330800" y="2641680"/>
                <a:ext cx="129528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640120" y="2413080"/>
                <a:ext cx="70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3720960" y="2870280"/>
              <a:ext cx="2548440" cy="459720"/>
              <a:chOff x="3720960" y="2870280"/>
              <a:chExt cx="2548440" cy="459720"/>
            </a:xfrm>
          </p:grpSpPr>
          <p:sp>
            <p:nvSpPr>
              <p:cNvPr id="2665" name=""/>
              <p:cNvSpPr/>
              <p:nvPr/>
            </p:nvSpPr>
            <p:spPr>
              <a:xfrm>
                <a:off x="3720960" y="3098880"/>
                <a:ext cx="1904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666400" y="287028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3949560" y="3327480"/>
              <a:ext cx="2198520" cy="459720"/>
              <a:chOff x="3949560" y="3327480"/>
              <a:chExt cx="2198520" cy="459720"/>
            </a:xfrm>
          </p:grpSpPr>
          <p:sp>
            <p:nvSpPr>
              <p:cNvPr id="2668" name=""/>
              <p:cNvSpPr/>
              <p:nvPr/>
            </p:nvSpPr>
            <p:spPr>
              <a:xfrm>
                <a:off x="3949560" y="3556080"/>
                <a:ext cx="16761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641200" y="3327480"/>
                <a:ext cx="50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0" name=""/>
            <p:cNvGrpSpPr/>
            <p:nvPr/>
          </p:nvGrpSpPr>
          <p:grpSpPr>
            <a:xfrm>
              <a:off x="4025880" y="3809880"/>
              <a:ext cx="2473560" cy="459720"/>
              <a:chOff x="4025880" y="3809880"/>
              <a:chExt cx="2473560" cy="459720"/>
            </a:xfrm>
          </p:grpSpPr>
          <p:sp>
            <p:nvSpPr>
              <p:cNvPr id="2671" name=""/>
              <p:cNvSpPr/>
              <p:nvPr/>
            </p:nvSpPr>
            <p:spPr>
              <a:xfrm>
                <a:off x="4025880" y="4038480"/>
                <a:ext cx="160020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607000" y="380988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U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3645000" y="4259160"/>
              <a:ext cx="2862720" cy="971640"/>
              <a:chOff x="3645000" y="4259160"/>
              <a:chExt cx="2862720" cy="971640"/>
            </a:xfrm>
          </p:grpSpPr>
          <p:sp>
            <p:nvSpPr>
              <p:cNvPr id="2674" name=""/>
              <p:cNvSpPr/>
              <p:nvPr/>
            </p:nvSpPr>
            <p:spPr>
              <a:xfrm>
                <a:off x="3645000" y="4546440"/>
                <a:ext cx="1828800" cy="2034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595480" y="4259160"/>
                <a:ext cx="9122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UP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Georgia"/>
                  </a:rPr>
                  <a:t>A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524560" y="441972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7" name=""/>
          <p:cNvSpPr/>
          <p:nvPr/>
        </p:nvSpPr>
        <p:spPr>
          <a:xfrm>
            <a:off x="63360" y="5105520"/>
            <a:ext cx="8877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Implantation: AF, Classes imbriqué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990000"/>
                </a:solidFill>
                <a:latin typeface="Arial"/>
              </a:rPr>
              <a:t>Architecture + Rôles + Protocoles + Types</a:t>
            </a:r>
            <a:br>
              <a:rPr sz="2900"/>
            </a:br>
            <a:r>
              <a:rPr b="1" lang="fr-FR" sz="2900" spc="-1" strike="noStrike">
                <a:solidFill>
                  <a:srgbClr val="990000"/>
                </a:solidFill>
                <a:latin typeface="Arial"/>
              </a:rPr>
              <a:t>Comportements + Compétences = SM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6159240" y="1231920"/>
            <a:ext cx="3085560" cy="4000320"/>
            <a:chOff x="6159240" y="1231920"/>
            <a:chExt cx="3085560" cy="4000320"/>
          </a:xfrm>
        </p:grpSpPr>
        <p:grpSp>
          <p:nvGrpSpPr>
            <p:cNvPr id="2679" name=""/>
            <p:cNvGrpSpPr/>
            <p:nvPr/>
          </p:nvGrpSpPr>
          <p:grpSpPr>
            <a:xfrm>
              <a:off x="6311520" y="1968480"/>
              <a:ext cx="2552400" cy="457200"/>
              <a:chOff x="6311520" y="1968480"/>
              <a:chExt cx="2552400" cy="457200"/>
            </a:xfrm>
          </p:grpSpPr>
          <p:grpSp>
            <p:nvGrpSpPr>
              <p:cNvPr id="2680" name=""/>
              <p:cNvGrpSpPr/>
              <p:nvPr/>
            </p:nvGrpSpPr>
            <p:grpSpPr>
              <a:xfrm>
                <a:off x="7340400" y="1968480"/>
                <a:ext cx="1523520" cy="457200"/>
                <a:chOff x="7340400" y="1968480"/>
                <a:chExt cx="1523520" cy="457200"/>
              </a:xfrm>
            </p:grpSpPr>
            <p:sp>
              <p:nvSpPr>
                <p:cNvPr id="2681" name=""/>
                <p:cNvSpPr/>
                <p:nvPr/>
              </p:nvSpPr>
              <p:spPr>
                <a:xfrm>
                  <a:off x="7340400" y="196848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2" name=""/>
                <p:cNvGrpSpPr/>
                <p:nvPr/>
              </p:nvGrpSpPr>
              <p:grpSpPr>
                <a:xfrm>
                  <a:off x="7378200" y="2028960"/>
                  <a:ext cx="380160" cy="383760"/>
                  <a:chOff x="7378200" y="2028960"/>
                  <a:chExt cx="380160" cy="383760"/>
                </a:xfrm>
              </p:grpSpPr>
              <p:sp>
                <p:nvSpPr>
                  <p:cNvPr id="2683" name=""/>
                  <p:cNvSpPr/>
                  <p:nvPr/>
                </p:nvSpPr>
                <p:spPr>
                  <a:xfrm>
                    <a:off x="7567200" y="2028960"/>
                    <a:ext cx="19116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84" name=""/>
                  <p:cNvGrpSpPr/>
                  <p:nvPr/>
                </p:nvGrpSpPr>
                <p:grpSpPr>
                  <a:xfrm>
                    <a:off x="7378200" y="2084400"/>
                    <a:ext cx="334440" cy="328320"/>
                    <a:chOff x="7378200" y="2084400"/>
                    <a:chExt cx="334440" cy="328320"/>
                  </a:xfrm>
                </p:grpSpPr>
                <p:grpSp>
                  <p:nvGrpSpPr>
                    <p:cNvPr id="2685" name=""/>
                    <p:cNvGrpSpPr/>
                    <p:nvPr/>
                  </p:nvGrpSpPr>
                  <p:grpSpPr>
                    <a:xfrm>
                      <a:off x="7569360" y="2259720"/>
                      <a:ext cx="143280" cy="153000"/>
                      <a:chOff x="7569360" y="2259720"/>
                      <a:chExt cx="143280" cy="153000"/>
                    </a:xfrm>
                  </p:grpSpPr>
                  <p:sp>
                    <p:nvSpPr>
                      <p:cNvPr id="2686" name=""/>
                      <p:cNvSpPr/>
                      <p:nvPr/>
                    </p:nvSpPr>
                    <p:spPr>
                      <a:xfrm>
                        <a:off x="7569360" y="225972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7" name=""/>
                      <p:cNvSpPr/>
                      <p:nvPr/>
                    </p:nvSpPr>
                    <p:spPr>
                      <a:xfrm>
                        <a:off x="7626600" y="232200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88" name=""/>
                    <p:cNvGrpSpPr/>
                    <p:nvPr/>
                  </p:nvGrpSpPr>
                  <p:grpSpPr>
                    <a:xfrm>
                      <a:off x="7378200" y="2084400"/>
                      <a:ext cx="250200" cy="258120"/>
                      <a:chOff x="7378200" y="2084400"/>
                      <a:chExt cx="250200" cy="258120"/>
                    </a:xfrm>
                  </p:grpSpPr>
                  <p:sp>
                    <p:nvSpPr>
                      <p:cNvPr id="2689" name=""/>
                      <p:cNvSpPr/>
                      <p:nvPr/>
                    </p:nvSpPr>
                    <p:spPr>
                      <a:xfrm>
                        <a:off x="7378200" y="208440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0" name=""/>
                      <p:cNvSpPr/>
                      <p:nvPr/>
                    </p:nvSpPr>
                    <p:spPr>
                      <a:xfrm>
                        <a:off x="7484040" y="219420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691" name=""/>
                <p:cNvSpPr/>
                <p:nvPr/>
              </p:nvSpPr>
              <p:spPr>
                <a:xfrm>
                  <a:off x="7629840" y="200340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2" name=""/>
              <p:cNvSpPr/>
              <p:nvPr/>
            </p:nvSpPr>
            <p:spPr>
              <a:xfrm flipH="1">
                <a:off x="6311520" y="218448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3" name=""/>
            <p:cNvGrpSpPr/>
            <p:nvPr/>
          </p:nvGrpSpPr>
          <p:grpSpPr>
            <a:xfrm>
              <a:off x="6311880" y="2425680"/>
              <a:ext cx="2552760" cy="457200"/>
              <a:chOff x="6311880" y="2425680"/>
              <a:chExt cx="2552760" cy="45720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7340760" y="2425680"/>
                <a:ext cx="1523880" cy="457200"/>
                <a:chOff x="7340760" y="2425680"/>
                <a:chExt cx="1523880" cy="45720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7340760" y="242568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6" name=""/>
                <p:cNvGrpSpPr/>
                <p:nvPr/>
              </p:nvGrpSpPr>
              <p:grpSpPr>
                <a:xfrm>
                  <a:off x="7391520" y="2486160"/>
                  <a:ext cx="380880" cy="383760"/>
                  <a:chOff x="7391520" y="2486160"/>
                  <a:chExt cx="380880" cy="38376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>
                    <a:off x="7580880" y="248616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8" name=""/>
                  <p:cNvGrpSpPr/>
                  <p:nvPr/>
                </p:nvGrpSpPr>
                <p:grpSpPr>
                  <a:xfrm>
                    <a:off x="7391520" y="2541600"/>
                    <a:ext cx="334440" cy="328320"/>
                    <a:chOff x="7391520" y="2541600"/>
                    <a:chExt cx="334440" cy="328320"/>
                  </a:xfrm>
                </p:grpSpPr>
                <p:grpSp>
                  <p:nvGrpSpPr>
                    <p:cNvPr id="2699" name=""/>
                    <p:cNvGrpSpPr/>
                    <p:nvPr/>
                  </p:nvGrpSpPr>
                  <p:grpSpPr>
                    <a:xfrm>
                      <a:off x="7582680" y="2716920"/>
                      <a:ext cx="143280" cy="153000"/>
                      <a:chOff x="7582680" y="2716920"/>
                      <a:chExt cx="143280" cy="153000"/>
                    </a:xfrm>
                  </p:grpSpPr>
                  <p:sp>
                    <p:nvSpPr>
                      <p:cNvPr id="2700" name=""/>
                      <p:cNvSpPr/>
                      <p:nvPr/>
                    </p:nvSpPr>
                    <p:spPr>
                      <a:xfrm>
                        <a:off x="7582680" y="271692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1" name=""/>
                      <p:cNvSpPr/>
                      <p:nvPr/>
                    </p:nvSpPr>
                    <p:spPr>
                      <a:xfrm>
                        <a:off x="7639920" y="277920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02" name=""/>
                    <p:cNvGrpSpPr/>
                    <p:nvPr/>
                  </p:nvGrpSpPr>
                  <p:grpSpPr>
                    <a:xfrm>
                      <a:off x="7391520" y="2541600"/>
                      <a:ext cx="250200" cy="258120"/>
                      <a:chOff x="7391520" y="2541600"/>
                      <a:chExt cx="250200" cy="258120"/>
                    </a:xfrm>
                  </p:grpSpPr>
                  <p:sp>
                    <p:nvSpPr>
                      <p:cNvPr id="2703" name=""/>
                      <p:cNvSpPr/>
                      <p:nvPr/>
                    </p:nvSpPr>
                    <p:spPr>
                      <a:xfrm>
                        <a:off x="7391520" y="254160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4" name=""/>
                      <p:cNvSpPr/>
                      <p:nvPr/>
                    </p:nvSpPr>
                    <p:spPr>
                      <a:xfrm>
                        <a:off x="7497360" y="265140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05" name=""/>
                <p:cNvSpPr/>
                <p:nvPr/>
              </p:nvSpPr>
              <p:spPr>
                <a:xfrm>
                  <a:off x="7643160" y="246060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6" name=""/>
              <p:cNvSpPr/>
              <p:nvPr/>
            </p:nvSpPr>
            <p:spPr>
              <a:xfrm flipH="1">
                <a:off x="6311880" y="26416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7" name=""/>
            <p:cNvGrpSpPr/>
            <p:nvPr/>
          </p:nvGrpSpPr>
          <p:grpSpPr>
            <a:xfrm>
              <a:off x="6311880" y="2870280"/>
              <a:ext cx="2552760" cy="461880"/>
              <a:chOff x="6311880" y="2870280"/>
              <a:chExt cx="2552760" cy="461880"/>
            </a:xfrm>
          </p:grpSpPr>
          <p:grpSp>
            <p:nvGrpSpPr>
              <p:cNvPr id="2708" name=""/>
              <p:cNvGrpSpPr/>
              <p:nvPr/>
            </p:nvGrpSpPr>
            <p:grpSpPr>
              <a:xfrm>
                <a:off x="7340760" y="2870280"/>
                <a:ext cx="1523880" cy="461880"/>
                <a:chOff x="7340760" y="2870280"/>
                <a:chExt cx="1523880" cy="461880"/>
              </a:xfrm>
            </p:grpSpPr>
            <p:sp>
              <p:nvSpPr>
                <p:cNvPr id="2709" name=""/>
                <p:cNvSpPr/>
                <p:nvPr/>
              </p:nvSpPr>
              <p:spPr>
                <a:xfrm>
                  <a:off x="7340760" y="287028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10" name="JADElogo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417080" y="2900160"/>
                  <a:ext cx="1396800" cy="43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711" name=""/>
              <p:cNvSpPr/>
              <p:nvPr/>
            </p:nvSpPr>
            <p:spPr>
              <a:xfrm flipH="1">
                <a:off x="6311880" y="309888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2" name=""/>
            <p:cNvGrpSpPr/>
            <p:nvPr/>
          </p:nvGrpSpPr>
          <p:grpSpPr>
            <a:xfrm>
              <a:off x="6311520" y="3327480"/>
              <a:ext cx="2933280" cy="468720"/>
              <a:chOff x="6311520" y="3327480"/>
              <a:chExt cx="2933280" cy="468720"/>
            </a:xfrm>
          </p:grpSpPr>
          <p:grpSp>
            <p:nvGrpSpPr>
              <p:cNvPr id="2713" name=""/>
              <p:cNvGrpSpPr/>
              <p:nvPr/>
            </p:nvGrpSpPr>
            <p:grpSpPr>
              <a:xfrm>
                <a:off x="7340400" y="3327480"/>
                <a:ext cx="1904400" cy="468720"/>
                <a:chOff x="7340400" y="3327480"/>
                <a:chExt cx="1904400" cy="4687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7340400" y="3327480"/>
                  <a:ext cx="152352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78200" y="3340080"/>
                  <a:ext cx="37584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6" name=""/>
                <p:cNvSpPr/>
                <p:nvPr/>
              </p:nvSpPr>
              <p:spPr>
                <a:xfrm>
                  <a:off x="7720920" y="3340080"/>
                  <a:ext cx="1523880" cy="4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fr-FR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990000"/>
                      </a:solidFill>
                      <a:latin typeface="Times New Roman"/>
                    </a:rPr>
                    <a:t>Swing MV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7" name=""/>
              <p:cNvSpPr/>
              <p:nvPr/>
            </p:nvSpPr>
            <p:spPr>
              <a:xfrm flipH="1">
                <a:off x="6311520" y="355608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6540120" y="3784680"/>
              <a:ext cx="2324520" cy="472320"/>
              <a:chOff x="6540120" y="3784680"/>
              <a:chExt cx="2324520" cy="472320"/>
            </a:xfrm>
          </p:grpSpPr>
          <p:grpSp>
            <p:nvGrpSpPr>
              <p:cNvPr id="2719" name=""/>
              <p:cNvGrpSpPr/>
              <p:nvPr/>
            </p:nvGrpSpPr>
            <p:grpSpPr>
              <a:xfrm>
                <a:off x="7324920" y="3784680"/>
                <a:ext cx="1539720" cy="472320"/>
                <a:chOff x="7324920" y="3784680"/>
                <a:chExt cx="1539720" cy="47232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7340760" y="378468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7324920" y="3797280"/>
                  <a:ext cx="1245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990000"/>
                      </a:solidFill>
                      <a:latin typeface="Webdings"/>
                      <a:ea typeface="Webdings"/>
                    </a:rPr>
                    <a:t>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Georgia"/>
                    </a:rPr>
                    <a:t>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Garamond"/>
                    </a:rPr>
                    <a:t>We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2" name=""/>
              <p:cNvSpPr/>
              <p:nvPr/>
            </p:nvSpPr>
            <p:spPr>
              <a:xfrm flipH="1">
                <a:off x="6540120" y="405144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3" name=""/>
            <p:cNvGrpSpPr/>
            <p:nvPr/>
          </p:nvGrpSpPr>
          <p:grpSpPr>
            <a:xfrm>
              <a:off x="6311880" y="1231920"/>
              <a:ext cx="2552760" cy="457200"/>
              <a:chOff x="6311880" y="1231920"/>
              <a:chExt cx="2552760" cy="457200"/>
            </a:xfrm>
          </p:grpSpPr>
          <p:grpSp>
            <p:nvGrpSpPr>
              <p:cNvPr id="2724" name=""/>
              <p:cNvGrpSpPr/>
              <p:nvPr/>
            </p:nvGrpSpPr>
            <p:grpSpPr>
              <a:xfrm>
                <a:off x="7340760" y="1231920"/>
                <a:ext cx="1523880" cy="457200"/>
                <a:chOff x="7340760" y="1231920"/>
                <a:chExt cx="1523880" cy="45720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7340760" y="123192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6" name=""/>
                <p:cNvGrpSpPr/>
                <p:nvPr/>
              </p:nvGrpSpPr>
              <p:grpSpPr>
                <a:xfrm>
                  <a:off x="7365960" y="1270080"/>
                  <a:ext cx="380880" cy="383760"/>
                  <a:chOff x="7365960" y="1270080"/>
                  <a:chExt cx="380880" cy="383760"/>
                </a:xfrm>
              </p:grpSpPr>
              <p:sp>
                <p:nvSpPr>
                  <p:cNvPr id="2727" name=""/>
                  <p:cNvSpPr/>
                  <p:nvPr/>
                </p:nvSpPr>
                <p:spPr>
                  <a:xfrm>
                    <a:off x="7555320" y="127008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8" name=""/>
                  <p:cNvGrpSpPr/>
                  <p:nvPr/>
                </p:nvGrpSpPr>
                <p:grpSpPr>
                  <a:xfrm>
                    <a:off x="7365960" y="1325520"/>
                    <a:ext cx="335160" cy="328320"/>
                    <a:chOff x="7365960" y="1325520"/>
                    <a:chExt cx="335160" cy="328320"/>
                  </a:xfrm>
                </p:grpSpPr>
                <p:grpSp>
                  <p:nvGrpSpPr>
                    <p:cNvPr id="2729" name=""/>
                    <p:cNvGrpSpPr/>
                    <p:nvPr/>
                  </p:nvGrpSpPr>
                  <p:grpSpPr>
                    <a:xfrm>
                      <a:off x="7557480" y="1500840"/>
                      <a:ext cx="143640" cy="153000"/>
                      <a:chOff x="7557480" y="1500840"/>
                      <a:chExt cx="143640" cy="153000"/>
                    </a:xfrm>
                  </p:grpSpPr>
                  <p:sp>
                    <p:nvSpPr>
                      <p:cNvPr id="2730" name=""/>
                      <p:cNvSpPr/>
                      <p:nvPr/>
                    </p:nvSpPr>
                    <p:spPr>
                      <a:xfrm>
                        <a:off x="7557480" y="1500840"/>
                        <a:ext cx="143640" cy="153000"/>
                      </a:xfrm>
                      <a:custGeom>
                        <a:avLst/>
                        <a:gdLst>
                          <a:gd name="textAreaLeft" fmla="*/ 38160 w 143640"/>
                          <a:gd name="textAreaRight" fmla="*/ 105480 w 14364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1" name=""/>
                      <p:cNvSpPr/>
                      <p:nvPr/>
                    </p:nvSpPr>
                    <p:spPr>
                      <a:xfrm>
                        <a:off x="7614720" y="156312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32" name=""/>
                    <p:cNvGrpSpPr/>
                    <p:nvPr/>
                  </p:nvGrpSpPr>
                  <p:grpSpPr>
                    <a:xfrm>
                      <a:off x="7365960" y="1325520"/>
                      <a:ext cx="250560" cy="258120"/>
                      <a:chOff x="7365960" y="1325520"/>
                      <a:chExt cx="250560" cy="258120"/>
                    </a:xfrm>
                  </p:grpSpPr>
                  <p:sp>
                    <p:nvSpPr>
                      <p:cNvPr id="2733" name=""/>
                      <p:cNvSpPr/>
                      <p:nvPr/>
                    </p:nvSpPr>
                    <p:spPr>
                      <a:xfrm>
                        <a:off x="7365960" y="1325520"/>
                        <a:ext cx="250560" cy="258120"/>
                      </a:xfrm>
                      <a:custGeom>
                        <a:avLst/>
                        <a:gdLst>
                          <a:gd name="textAreaLeft" fmla="*/ 57240 w 250560"/>
                          <a:gd name="textAreaRight" fmla="*/ 193320 w 25056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4" name=""/>
                      <p:cNvSpPr/>
                      <p:nvPr/>
                    </p:nvSpPr>
                    <p:spPr>
                      <a:xfrm>
                        <a:off x="7472160" y="143532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35" name=""/>
                <p:cNvSpPr/>
                <p:nvPr/>
              </p:nvSpPr>
              <p:spPr>
                <a:xfrm>
                  <a:off x="7617600" y="124452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6" name=""/>
              <p:cNvSpPr/>
              <p:nvPr/>
            </p:nvSpPr>
            <p:spPr>
              <a:xfrm flipH="1">
                <a:off x="6311880" y="142236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7" name=""/>
            <p:cNvGrpSpPr/>
            <p:nvPr/>
          </p:nvGrpSpPr>
          <p:grpSpPr>
            <a:xfrm>
              <a:off x="6388200" y="4317840"/>
              <a:ext cx="2476440" cy="457200"/>
              <a:chOff x="6388200" y="4317840"/>
              <a:chExt cx="2476440" cy="45720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7340760" y="4317840"/>
                <a:ext cx="1523880" cy="457200"/>
                <a:chOff x="7340760" y="4317840"/>
                <a:chExt cx="1523880" cy="45720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7340760" y="431784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4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78920" y="4330440"/>
                  <a:ext cx="376200" cy="4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41" name=""/>
                <p:cNvSpPr/>
                <p:nvPr/>
              </p:nvSpPr>
              <p:spPr>
                <a:xfrm>
                  <a:off x="7785360" y="4444560"/>
                  <a:ext cx="952200" cy="2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990000"/>
                      </a:solidFill>
                      <a:latin typeface="Times New Roman"/>
                    </a:rPr>
                    <a:t>J</a:t>
                  </a:r>
                  <a:r>
                    <a:rPr b="1" lang="fr-FR" sz="1600" spc="-1" strike="noStrike">
                      <a:solidFill>
                        <a:srgbClr val="990000"/>
                      </a:solidFill>
                      <a:latin typeface="Times New Roman"/>
                    </a:rPr>
                    <a:t>AV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2" name=""/>
              <p:cNvSpPr/>
              <p:nvPr/>
            </p:nvSpPr>
            <p:spPr>
              <a:xfrm flipH="1">
                <a:off x="6388200" y="45464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3" name=""/>
            <p:cNvGrpSpPr/>
            <p:nvPr/>
          </p:nvGrpSpPr>
          <p:grpSpPr>
            <a:xfrm>
              <a:off x="6159240" y="4775040"/>
              <a:ext cx="2705400" cy="457200"/>
              <a:chOff x="6159240" y="4775040"/>
              <a:chExt cx="2705400" cy="457200"/>
            </a:xfrm>
          </p:grpSpPr>
          <p:grpSp>
            <p:nvGrpSpPr>
              <p:cNvPr id="2744" name=""/>
              <p:cNvGrpSpPr/>
              <p:nvPr/>
            </p:nvGrpSpPr>
            <p:grpSpPr>
              <a:xfrm>
                <a:off x="7340760" y="4775040"/>
                <a:ext cx="1523880" cy="457200"/>
                <a:chOff x="7340760" y="4775040"/>
                <a:chExt cx="1523880" cy="45720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7340760" y="4775040"/>
                  <a:ext cx="15238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6" name=""/>
                <p:cNvGrpSpPr/>
                <p:nvPr/>
              </p:nvGrpSpPr>
              <p:grpSpPr>
                <a:xfrm>
                  <a:off x="7391520" y="4822560"/>
                  <a:ext cx="380880" cy="383760"/>
                  <a:chOff x="7391520" y="4822560"/>
                  <a:chExt cx="380880" cy="38376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7580880" y="4822560"/>
                    <a:ext cx="191520" cy="2865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33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48" name=""/>
                  <p:cNvGrpSpPr/>
                  <p:nvPr/>
                </p:nvGrpSpPr>
                <p:grpSpPr>
                  <a:xfrm>
                    <a:off x="7391520" y="4878000"/>
                    <a:ext cx="334440" cy="328320"/>
                    <a:chOff x="7391520" y="4878000"/>
                    <a:chExt cx="334440" cy="328320"/>
                  </a:xfrm>
                </p:grpSpPr>
                <p:grpSp>
                  <p:nvGrpSpPr>
                    <p:cNvPr id="2749" name=""/>
                    <p:cNvGrpSpPr/>
                    <p:nvPr/>
                  </p:nvGrpSpPr>
                  <p:grpSpPr>
                    <a:xfrm>
                      <a:off x="7582680" y="5053320"/>
                      <a:ext cx="143280" cy="153000"/>
                      <a:chOff x="7582680" y="5053320"/>
                      <a:chExt cx="143280" cy="153000"/>
                    </a:xfrm>
                  </p:grpSpPr>
                  <p:sp>
                    <p:nvSpPr>
                      <p:cNvPr id="2750" name=""/>
                      <p:cNvSpPr/>
                      <p:nvPr/>
                    </p:nvSpPr>
                    <p:spPr>
                      <a:xfrm>
                        <a:off x="7582680" y="5053320"/>
                        <a:ext cx="143280" cy="153000"/>
                      </a:xfrm>
                      <a:custGeom>
                        <a:avLst/>
                        <a:gdLst>
                          <a:gd name="textAreaLeft" fmla="*/ 38160 w 143280"/>
                          <a:gd name="textAreaRight" fmla="*/ 105120 w 143280"/>
                          <a:gd name="textAreaTop" fmla="*/ 40680 h 153000"/>
                          <a:gd name="textAreaBottom" fmla="*/ 112320 h 15300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3791" y="12162"/>
                            </a:lnTo>
                            <a:lnTo>
                              <a:pt x="786" y="14846"/>
                            </a:lnTo>
                            <a:lnTo>
                              <a:pt x="4812" y="14689"/>
                            </a:lnTo>
                            <a:lnTo>
                              <a:pt x="3163" y="18437"/>
                            </a:lnTo>
                            <a:lnTo>
                              <a:pt x="6807" y="16719"/>
                            </a:lnTo>
                            <a:lnTo>
                              <a:pt x="6580" y="20741"/>
                            </a:lnTo>
                            <a:lnTo>
                              <a:pt x="9316" y="17784"/>
                            </a:lnTo>
                            <a:lnTo>
                              <a:pt x="10800" y="21600"/>
                            </a:lnTo>
                            <a:lnTo>
                              <a:pt x="12162" y="17809"/>
                            </a:lnTo>
                            <a:lnTo>
                              <a:pt x="14846" y="20814"/>
                            </a:lnTo>
                            <a:lnTo>
                              <a:pt x="14689" y="16788"/>
                            </a:lnTo>
                            <a:lnTo>
                              <a:pt x="18437" y="18437"/>
                            </a:lnTo>
                            <a:lnTo>
                              <a:pt x="16719" y="14793"/>
                            </a:lnTo>
                            <a:lnTo>
                              <a:pt x="20741" y="15020"/>
                            </a:lnTo>
                            <a:lnTo>
                              <a:pt x="17784" y="12284"/>
                            </a:lnTo>
                            <a:lnTo>
                              <a:pt x="21600" y="10800"/>
                            </a:lnTo>
                            <a:lnTo>
                              <a:pt x="17809" y="9438"/>
                            </a:lnTo>
                            <a:lnTo>
                              <a:pt x="20814" y="6754"/>
                            </a:lnTo>
                            <a:lnTo>
                              <a:pt x="16788" y="6911"/>
                            </a:lnTo>
                            <a:lnTo>
                              <a:pt x="18437" y="3163"/>
                            </a:lnTo>
                            <a:lnTo>
                              <a:pt x="14793" y="4881"/>
                            </a:lnTo>
                            <a:lnTo>
                              <a:pt x="15020" y="859"/>
                            </a:lnTo>
                            <a:lnTo>
                              <a:pt x="12284" y="3816"/>
                            </a:lnTo>
                            <a:lnTo>
                              <a:pt x="10800" y="0"/>
                            </a:lnTo>
                            <a:lnTo>
                              <a:pt x="9438" y="3791"/>
                            </a:lnTo>
                            <a:lnTo>
                              <a:pt x="6754" y="786"/>
                            </a:lnTo>
                            <a:lnTo>
                              <a:pt x="6911" y="4812"/>
                            </a:lnTo>
                            <a:lnTo>
                              <a:pt x="3163" y="3163"/>
                            </a:lnTo>
                            <a:lnTo>
                              <a:pt x="4881" y="6807"/>
                            </a:lnTo>
                            <a:lnTo>
                              <a:pt x="859" y="6580"/>
                            </a:lnTo>
                            <a:lnTo>
                              <a:pt x="3816" y="9316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840" bIns="24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1" name=""/>
                      <p:cNvSpPr/>
                      <p:nvPr/>
                    </p:nvSpPr>
                    <p:spPr>
                      <a:xfrm>
                        <a:off x="7639920" y="5115600"/>
                        <a:ext cx="28440" cy="28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52" name=""/>
                    <p:cNvGrpSpPr/>
                    <p:nvPr/>
                  </p:nvGrpSpPr>
                  <p:grpSpPr>
                    <a:xfrm>
                      <a:off x="7391520" y="4878000"/>
                      <a:ext cx="250200" cy="258120"/>
                      <a:chOff x="7391520" y="4878000"/>
                      <a:chExt cx="250200" cy="258120"/>
                    </a:xfrm>
                  </p:grpSpPr>
                  <p:sp>
                    <p:nvSpPr>
                      <p:cNvPr id="2753" name=""/>
                      <p:cNvSpPr/>
                      <p:nvPr/>
                    </p:nvSpPr>
                    <p:spPr>
                      <a:xfrm>
                        <a:off x="7391520" y="4878000"/>
                        <a:ext cx="250200" cy="258120"/>
                      </a:xfrm>
                      <a:custGeom>
                        <a:avLst/>
                        <a:gdLst>
                          <a:gd name="textAreaLeft" fmla="*/ 56880 w 250200"/>
                          <a:gd name="textAreaRight" fmla="*/ 193320 w 250200"/>
                          <a:gd name="textAreaTop" fmla="*/ 58680 h 258120"/>
                          <a:gd name="textAreaBottom" fmla="*/ 199440 h 2581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10800"/>
                            </a:moveTo>
                            <a:lnTo>
                              <a:pt x="2562" y="11812"/>
                            </a:lnTo>
                            <a:lnTo>
                              <a:pt x="368" y="13595"/>
                            </a:lnTo>
                            <a:lnTo>
                              <a:pt x="3104" y="13909"/>
                            </a:lnTo>
                            <a:lnTo>
                              <a:pt x="1447" y="16200"/>
                            </a:lnTo>
                            <a:lnTo>
                              <a:pt x="4171" y="15795"/>
                            </a:lnTo>
                            <a:lnTo>
                              <a:pt x="3163" y="18437"/>
                            </a:lnTo>
                            <a:lnTo>
                              <a:pt x="5690" y="17340"/>
                            </a:lnTo>
                            <a:lnTo>
                              <a:pt x="5400" y="20153"/>
                            </a:lnTo>
                            <a:lnTo>
                              <a:pt x="7557" y="18440"/>
                            </a:lnTo>
                            <a:lnTo>
                              <a:pt x="8005" y="21232"/>
                            </a:lnTo>
                            <a:lnTo>
                              <a:pt x="9645" y="19019"/>
                            </a:lnTo>
                            <a:lnTo>
                              <a:pt x="10800" y="21600"/>
                            </a:lnTo>
                            <a:lnTo>
                              <a:pt x="11812" y="19038"/>
                            </a:lnTo>
                            <a:lnTo>
                              <a:pt x="13595" y="21232"/>
                            </a:lnTo>
                            <a:lnTo>
                              <a:pt x="13909" y="18496"/>
                            </a:lnTo>
                            <a:lnTo>
                              <a:pt x="16200" y="20153"/>
                            </a:lnTo>
                            <a:lnTo>
                              <a:pt x="15795" y="17429"/>
                            </a:lnTo>
                            <a:lnTo>
                              <a:pt x="18437" y="18437"/>
                            </a:lnTo>
                            <a:lnTo>
                              <a:pt x="17340" y="15910"/>
                            </a:lnTo>
                            <a:lnTo>
                              <a:pt x="20153" y="16200"/>
                            </a:lnTo>
                            <a:lnTo>
                              <a:pt x="18440" y="14043"/>
                            </a:lnTo>
                            <a:lnTo>
                              <a:pt x="21232" y="13595"/>
                            </a:lnTo>
                            <a:lnTo>
                              <a:pt x="19019" y="11955"/>
                            </a:lnTo>
                            <a:lnTo>
                              <a:pt x="21600" y="10800"/>
                            </a:lnTo>
                            <a:lnTo>
                              <a:pt x="19038" y="9788"/>
                            </a:lnTo>
                            <a:lnTo>
                              <a:pt x="21232" y="8005"/>
                            </a:lnTo>
                            <a:lnTo>
                              <a:pt x="18496" y="7691"/>
                            </a:lnTo>
                            <a:lnTo>
                              <a:pt x="20153" y="5400"/>
                            </a:lnTo>
                            <a:lnTo>
                              <a:pt x="17429" y="5805"/>
                            </a:lnTo>
                            <a:lnTo>
                              <a:pt x="18437" y="3163"/>
                            </a:lnTo>
                            <a:lnTo>
                              <a:pt x="15910" y="4260"/>
                            </a:lnTo>
                            <a:lnTo>
                              <a:pt x="16200" y="1447"/>
                            </a:lnTo>
                            <a:lnTo>
                              <a:pt x="14043" y="3160"/>
                            </a:lnTo>
                            <a:lnTo>
                              <a:pt x="13595" y="368"/>
                            </a:lnTo>
                            <a:lnTo>
                              <a:pt x="11955" y="2581"/>
                            </a:lnTo>
                            <a:lnTo>
                              <a:pt x="10800" y="0"/>
                            </a:lnTo>
                            <a:lnTo>
                              <a:pt x="9788" y="2562"/>
                            </a:lnTo>
                            <a:lnTo>
                              <a:pt x="8005" y="368"/>
                            </a:lnTo>
                            <a:lnTo>
                              <a:pt x="7691" y="3104"/>
                            </a:lnTo>
                            <a:lnTo>
                              <a:pt x="5400" y="1447"/>
                            </a:lnTo>
                            <a:lnTo>
                              <a:pt x="5805" y="4171"/>
                            </a:lnTo>
                            <a:lnTo>
                              <a:pt x="3163" y="3163"/>
                            </a:lnTo>
                            <a:lnTo>
                              <a:pt x="4260" y="5690"/>
                            </a:lnTo>
                            <a:lnTo>
                              <a:pt x="1447" y="5400"/>
                            </a:lnTo>
                            <a:lnTo>
                              <a:pt x="3160" y="7557"/>
                            </a:lnTo>
                            <a:lnTo>
                              <a:pt x="368" y="8005"/>
                            </a:lnTo>
                            <a:lnTo>
                              <a:pt x="2581" y="9645"/>
                            </a:lnTo>
                            <a:lnTo>
                              <a:pt x="0" y="10800"/>
                            </a:lnTo>
                            <a:close/>
                          </a:path>
                        </a:pathLst>
                      </a:custGeom>
                      <a:solidFill>
                        <a:srgbClr val="003366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4" name=""/>
                      <p:cNvSpPr/>
                      <p:nvPr/>
                    </p:nvSpPr>
                    <p:spPr>
                      <a:xfrm>
                        <a:off x="7497360" y="4987800"/>
                        <a:ext cx="38160" cy="381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440" bIns="-19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55" name=""/>
                <p:cNvSpPr/>
                <p:nvPr/>
              </p:nvSpPr>
              <p:spPr>
                <a:xfrm>
                  <a:off x="7643160" y="4797000"/>
                  <a:ext cx="12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Georgia"/>
                    </a:rPr>
                    <a:t>CORES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6" name=""/>
              <p:cNvSpPr/>
              <p:nvPr/>
            </p:nvSpPr>
            <p:spPr>
              <a:xfrm flipH="1">
                <a:off x="6159240" y="5003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1E93-4596-43EA-8FA6-FD6E2F2D181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Documenter une configurat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58" name=""/>
          <p:cNvGrpSpPr/>
          <p:nvPr/>
        </p:nvGrpSpPr>
        <p:grpSpPr>
          <a:xfrm>
            <a:off x="457200" y="1143000"/>
            <a:ext cx="8381160" cy="5686200"/>
            <a:chOff x="457200" y="1143000"/>
            <a:chExt cx="8381160" cy="5686200"/>
          </a:xfrm>
        </p:grpSpPr>
        <p:sp>
          <p:nvSpPr>
            <p:cNvPr id="2759" name=""/>
            <p:cNvSpPr/>
            <p:nvPr/>
          </p:nvSpPr>
          <p:spPr>
            <a:xfrm>
              <a:off x="959040" y="5168160"/>
              <a:ext cx="4233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771840" y="5119200"/>
              <a:ext cx="199800" cy="430200"/>
              <a:chOff x="771840" y="5119200"/>
              <a:chExt cx="199800" cy="430200"/>
            </a:xfrm>
          </p:grpSpPr>
          <p:sp>
            <p:nvSpPr>
              <p:cNvPr id="2761" name=""/>
              <p:cNvSpPr/>
              <p:nvPr/>
            </p:nvSpPr>
            <p:spPr>
              <a:xfrm>
                <a:off x="771840" y="5334480"/>
                <a:ext cx="19980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V="1">
                <a:off x="771840" y="5118840"/>
                <a:ext cx="19980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3438360" y="1143000"/>
              <a:ext cx="2532240" cy="2161440"/>
              <a:chOff x="3438360" y="1143000"/>
              <a:chExt cx="2532240" cy="2161440"/>
            </a:xfrm>
          </p:grpSpPr>
          <p:sp>
            <p:nvSpPr>
              <p:cNvPr id="2764" name=""/>
              <p:cNvSpPr/>
              <p:nvPr/>
            </p:nvSpPr>
            <p:spPr>
              <a:xfrm>
                <a:off x="3438360" y="1499040"/>
                <a:ext cx="1822680" cy="1805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3438360" y="1143000"/>
                <a:ext cx="2532240" cy="35604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250240" y="1143000"/>
                <a:ext cx="720000" cy="215136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7" name=""/>
            <p:cNvGrpSpPr/>
            <p:nvPr/>
          </p:nvGrpSpPr>
          <p:grpSpPr>
            <a:xfrm>
              <a:off x="457200" y="4639320"/>
              <a:ext cx="2081160" cy="1334880"/>
              <a:chOff x="457200" y="4639320"/>
              <a:chExt cx="2081160" cy="1334880"/>
            </a:xfrm>
          </p:grpSpPr>
          <p:sp>
            <p:nvSpPr>
              <p:cNvPr id="2768" name=""/>
              <p:cNvSpPr/>
              <p:nvPr/>
            </p:nvSpPr>
            <p:spPr>
              <a:xfrm>
                <a:off x="457200" y="4859280"/>
                <a:ext cx="1497960" cy="111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57200" y="4639320"/>
                <a:ext cx="2081160" cy="21996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1946520" y="4639320"/>
                <a:ext cx="591840" cy="132876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1" name=""/>
            <p:cNvGrpSpPr/>
            <p:nvPr/>
          </p:nvGrpSpPr>
          <p:grpSpPr>
            <a:xfrm>
              <a:off x="6365160" y="4512600"/>
              <a:ext cx="2473200" cy="2033280"/>
              <a:chOff x="6365160" y="4512600"/>
              <a:chExt cx="2473200" cy="2033280"/>
            </a:xfrm>
          </p:grpSpPr>
          <p:sp>
            <p:nvSpPr>
              <p:cNvPr id="2772" name=""/>
              <p:cNvSpPr/>
              <p:nvPr/>
            </p:nvSpPr>
            <p:spPr>
              <a:xfrm>
                <a:off x="6365160" y="4847760"/>
                <a:ext cx="1780200" cy="169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365160" y="4512600"/>
                <a:ext cx="2473200" cy="335160"/>
              </a:xfrm>
              <a:custGeom>
                <a:avLst/>
                <a:gdLst/>
                <a:ahLst/>
                <a:rect l="l" t="t" r="r" b="b"/>
                <a:pathLst>
                  <a:path w="599" h="93">
                    <a:moveTo>
                      <a:pt x="0" y="93"/>
                    </a:moveTo>
                    <a:lnTo>
                      <a:pt x="239" y="0"/>
                    </a:lnTo>
                    <a:lnTo>
                      <a:pt x="599" y="0"/>
                    </a:lnTo>
                    <a:lnTo>
                      <a:pt x="42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134920" y="4512600"/>
                <a:ext cx="703080" cy="2023560"/>
              </a:xfrm>
              <a:custGeom>
                <a:avLst/>
                <a:gdLst/>
                <a:ahLst/>
                <a:rect l="l" t="t" r="r" b="b"/>
                <a:pathLst>
                  <a:path w="171" h="562">
                    <a:moveTo>
                      <a:pt x="0" y="93"/>
                    </a:moveTo>
                    <a:lnTo>
                      <a:pt x="171" y="0"/>
                    </a:lnTo>
                    <a:lnTo>
                      <a:pt x="171" y="421"/>
                    </a:lnTo>
                    <a:lnTo>
                      <a:pt x="0" y="56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5" name=""/>
            <p:cNvSpPr/>
            <p:nvPr/>
          </p:nvSpPr>
          <p:spPr>
            <a:xfrm>
              <a:off x="4394880" y="3368520"/>
              <a:ext cx="17996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al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297680" y="330516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363560" y="2731680"/>
              <a:ext cx="4248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8" name=""/>
            <p:cNvGrpSpPr/>
            <p:nvPr/>
          </p:nvGrpSpPr>
          <p:grpSpPr>
            <a:xfrm>
              <a:off x="4178880" y="2682720"/>
              <a:ext cx="197640" cy="430200"/>
              <a:chOff x="4178880" y="2682720"/>
              <a:chExt cx="197640" cy="430200"/>
            </a:xfrm>
          </p:grpSpPr>
          <p:sp>
            <p:nvSpPr>
              <p:cNvPr id="2779" name=""/>
              <p:cNvSpPr/>
              <p:nvPr/>
            </p:nvSpPr>
            <p:spPr>
              <a:xfrm>
                <a:off x="4178880" y="289800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4178880" y="268236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3682080" y="1956960"/>
              <a:ext cx="3952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2" name=""/>
            <p:cNvGrpSpPr/>
            <p:nvPr/>
          </p:nvGrpSpPr>
          <p:grpSpPr>
            <a:xfrm>
              <a:off x="3495240" y="1792440"/>
              <a:ext cx="186840" cy="430200"/>
              <a:chOff x="3495240" y="1792440"/>
              <a:chExt cx="186840" cy="430200"/>
            </a:xfrm>
          </p:grpSpPr>
          <p:sp>
            <p:nvSpPr>
              <p:cNvPr id="2783" name=""/>
              <p:cNvSpPr/>
              <p:nvPr/>
            </p:nvSpPr>
            <p:spPr>
              <a:xfrm>
                <a:off x="3495240" y="2007720"/>
                <a:ext cx="1868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V="1">
                <a:off x="3495240" y="1792080"/>
                <a:ext cx="1868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5" name=""/>
            <p:cNvSpPr/>
            <p:nvPr/>
          </p:nvSpPr>
          <p:spPr>
            <a:xfrm>
              <a:off x="4327200" y="1867320"/>
              <a:ext cx="4248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6" name=""/>
            <p:cNvGrpSpPr/>
            <p:nvPr/>
          </p:nvGrpSpPr>
          <p:grpSpPr>
            <a:xfrm>
              <a:off x="4169520" y="1792440"/>
              <a:ext cx="199440" cy="430200"/>
              <a:chOff x="4169520" y="1792440"/>
              <a:chExt cx="199440" cy="430200"/>
            </a:xfrm>
          </p:grpSpPr>
          <p:sp>
            <p:nvSpPr>
              <p:cNvPr id="2787" name=""/>
              <p:cNvSpPr/>
              <p:nvPr/>
            </p:nvSpPr>
            <p:spPr>
              <a:xfrm>
                <a:off x="4169520" y="2007720"/>
                <a:ext cx="1994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4169520" y="1792080"/>
                <a:ext cx="1994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9" name=""/>
            <p:cNvSpPr/>
            <p:nvPr/>
          </p:nvSpPr>
          <p:spPr>
            <a:xfrm>
              <a:off x="1550880" y="5177520"/>
              <a:ext cx="4248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0" name=""/>
            <p:cNvGrpSpPr/>
            <p:nvPr/>
          </p:nvGrpSpPr>
          <p:grpSpPr>
            <a:xfrm>
              <a:off x="1365840" y="5128560"/>
              <a:ext cx="197640" cy="430200"/>
              <a:chOff x="1365840" y="5128560"/>
              <a:chExt cx="197640" cy="430200"/>
            </a:xfrm>
          </p:grpSpPr>
          <p:sp>
            <p:nvSpPr>
              <p:cNvPr id="2791" name=""/>
              <p:cNvSpPr/>
              <p:nvPr/>
            </p:nvSpPr>
            <p:spPr>
              <a:xfrm>
                <a:off x="1365840" y="534384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1365840" y="512820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3" name=""/>
            <p:cNvSpPr/>
            <p:nvPr/>
          </p:nvSpPr>
          <p:spPr>
            <a:xfrm>
              <a:off x="6782760" y="5324400"/>
              <a:ext cx="4248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4" name=""/>
            <p:cNvGrpSpPr/>
            <p:nvPr/>
          </p:nvGrpSpPr>
          <p:grpSpPr>
            <a:xfrm>
              <a:off x="6597720" y="5275800"/>
              <a:ext cx="197640" cy="430200"/>
              <a:chOff x="6597720" y="5275800"/>
              <a:chExt cx="197640" cy="430200"/>
            </a:xfrm>
          </p:grpSpPr>
          <p:sp>
            <p:nvSpPr>
              <p:cNvPr id="2795" name=""/>
              <p:cNvSpPr/>
              <p:nvPr/>
            </p:nvSpPr>
            <p:spPr>
              <a:xfrm>
                <a:off x="6597720" y="549108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6597720" y="5275440"/>
                <a:ext cx="19764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7" name=""/>
            <p:cNvSpPr/>
            <p:nvPr/>
          </p:nvSpPr>
          <p:spPr>
            <a:xfrm>
              <a:off x="7458840" y="5339520"/>
              <a:ext cx="4233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8" name=""/>
            <p:cNvGrpSpPr/>
            <p:nvPr/>
          </p:nvGrpSpPr>
          <p:grpSpPr>
            <a:xfrm>
              <a:off x="7271640" y="5289480"/>
              <a:ext cx="199800" cy="432000"/>
              <a:chOff x="7271640" y="5289480"/>
              <a:chExt cx="199800" cy="432000"/>
            </a:xfrm>
          </p:grpSpPr>
          <p:sp>
            <p:nvSpPr>
              <p:cNvPr id="2799" name=""/>
              <p:cNvSpPr/>
              <p:nvPr/>
            </p:nvSpPr>
            <p:spPr>
              <a:xfrm>
                <a:off x="7271640" y="5505480"/>
                <a:ext cx="19980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V="1">
                <a:off x="7271640" y="5289480"/>
                <a:ext cx="19980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1" name=""/>
            <p:cNvSpPr/>
            <p:nvPr/>
          </p:nvSpPr>
          <p:spPr>
            <a:xfrm>
              <a:off x="4942800" y="1828080"/>
              <a:ext cx="42480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2" name=""/>
            <p:cNvGrpSpPr/>
            <p:nvPr/>
          </p:nvGrpSpPr>
          <p:grpSpPr>
            <a:xfrm>
              <a:off x="4766760" y="1777320"/>
              <a:ext cx="199800" cy="430200"/>
              <a:chOff x="4766760" y="1777320"/>
              <a:chExt cx="199800" cy="430200"/>
            </a:xfrm>
          </p:grpSpPr>
          <p:sp>
            <p:nvSpPr>
              <p:cNvPr id="2803" name=""/>
              <p:cNvSpPr/>
              <p:nvPr/>
            </p:nvSpPr>
            <p:spPr>
              <a:xfrm>
                <a:off x="4766760" y="1992600"/>
                <a:ext cx="19980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766760" y="1776960"/>
                <a:ext cx="199800" cy="21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>
              <a:off x="1413720" y="4003920"/>
              <a:ext cx="58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264800" y="4003920"/>
              <a:ext cx="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413720" y="4003920"/>
              <a:ext cx="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1019160" y="5147280"/>
              <a:ext cx="2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851040" y="3049920"/>
              <a:ext cx="3318480" cy="19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81840" y="3240000"/>
              <a:ext cx="2587680" cy="18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394880" y="3176640"/>
              <a:ext cx="2193480" cy="20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638720" y="5529240"/>
              <a:ext cx="489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94880" y="2223000"/>
              <a:ext cx="2812680" cy="30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4484520" y="2096280"/>
              <a:ext cx="2818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720240" y="2286360"/>
              <a:ext cx="393840" cy="31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82920" y="2286360"/>
              <a:ext cx="0" cy="31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957560" y="2351520"/>
              <a:ext cx="225000" cy="3801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900680" y="2139480"/>
              <a:ext cx="168480" cy="25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420680" y="5862960"/>
              <a:ext cx="225000" cy="379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363440" y="5650560"/>
              <a:ext cx="168480" cy="25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718680" y="5862960"/>
              <a:ext cx="225000" cy="379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702120" y="5637240"/>
              <a:ext cx="111600" cy="2736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H="1">
              <a:off x="6813720" y="5655960"/>
              <a:ext cx="562320" cy="25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086160" y="2839680"/>
              <a:ext cx="255420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ptop used with video projector to show message exchang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ere runs the main 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038640" y="2729880"/>
              <a:ext cx="2631240" cy="82872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549280" y="2729880"/>
              <a:ext cx="120600" cy="156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631840" y="2535840"/>
              <a:ext cx="393840" cy="51408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482280" y="1539360"/>
              <a:ext cx="8445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apto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13360" y="5676840"/>
              <a:ext cx="84312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apto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493760" y="4894200"/>
              <a:ext cx="8445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aptop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413720" y="6162840"/>
              <a:ext cx="150588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laptop for open day visi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69440" y="6168240"/>
              <a:ext cx="1619640" cy="50616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876040" y="6166800"/>
              <a:ext cx="113400" cy="128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962640" y="5974560"/>
              <a:ext cx="393840" cy="31824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500520" y="6230160"/>
              <a:ext cx="7070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prof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93160" y="6190920"/>
              <a:ext cx="10130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nno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151160" y="6164640"/>
              <a:ext cx="1934640" cy="6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chive Laptop with profiles and anno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975120" y="6168240"/>
              <a:ext cx="1995840" cy="487800"/>
            </a:xfrm>
            <a:custGeom>
              <a:avLst/>
              <a:gdLst/>
              <a:ahLst/>
              <a:rect l="l" t="t" r="r" b="b"/>
              <a:pathLst>
                <a:path w="178" h="52">
                  <a:moveTo>
                    <a:pt x="0" y="0"/>
                  </a:moveTo>
                  <a:lnTo>
                    <a:pt x="169" y="0"/>
                  </a:lnTo>
                  <a:lnTo>
                    <a:pt x="178" y="9"/>
                  </a:lnTo>
                  <a:lnTo>
                    <a:pt x="178" y="52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870160" y="6166800"/>
              <a:ext cx="100800" cy="1260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5970960" y="6230160"/>
              <a:ext cx="393840" cy="189360"/>
            </a:xfrm>
            <a:prstGeom prst="line">
              <a:avLst/>
            </a:prstGeom>
            <a:ln w="1260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1" name=""/>
          <p:cNvSpPr/>
          <p:nvPr/>
        </p:nvSpPr>
        <p:spPr>
          <a:xfrm>
            <a:off x="63360" y="457200"/>
            <a:ext cx="9080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Rappel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 une architecture / plusieurs configur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ocumenter le</a:t>
            </a:r>
            <a:br>
              <a:rPr sz="2900"/>
            </a:b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déploiemen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A0E8-0865-4AA6-A53C-14C831FB6A5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pour la gestion des annotation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2590920" y="4764240"/>
            <a:ext cx="4419360" cy="1944360"/>
            <a:chOff x="2590920" y="4764240"/>
            <a:chExt cx="4419360" cy="1944360"/>
          </a:xfrm>
        </p:grpSpPr>
        <p:sp>
          <p:nvSpPr>
            <p:cNvPr id="2844" name=""/>
            <p:cNvSpPr/>
            <p:nvPr/>
          </p:nvSpPr>
          <p:spPr>
            <a:xfrm>
              <a:off x="2590920" y="4764240"/>
              <a:ext cx="4190760" cy="1944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276720" y="4821120"/>
              <a:ext cx="373356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édiée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6" name=""/>
            <p:cNvGrpSpPr/>
            <p:nvPr/>
          </p:nvGrpSpPr>
          <p:grpSpPr>
            <a:xfrm>
              <a:off x="2870280" y="4789440"/>
              <a:ext cx="444600" cy="609120"/>
              <a:chOff x="2870280" y="4789440"/>
              <a:chExt cx="444600" cy="609120"/>
            </a:xfrm>
          </p:grpSpPr>
          <p:sp>
            <p:nvSpPr>
              <p:cNvPr id="2847" name=""/>
              <p:cNvSpPr/>
              <p:nvPr/>
            </p:nvSpPr>
            <p:spPr>
              <a:xfrm>
                <a:off x="2870280" y="4789440"/>
                <a:ext cx="444600" cy="609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8" name=""/>
              <p:cNvGrpSpPr/>
              <p:nvPr/>
            </p:nvGrpSpPr>
            <p:grpSpPr>
              <a:xfrm>
                <a:off x="2920680" y="4814640"/>
                <a:ext cx="353880" cy="550080"/>
                <a:chOff x="2920680" y="4814640"/>
                <a:chExt cx="353880" cy="550080"/>
              </a:xfrm>
            </p:grpSpPr>
            <p:sp>
              <p:nvSpPr>
                <p:cNvPr id="2849" name=""/>
                <p:cNvSpPr/>
                <p:nvPr/>
              </p:nvSpPr>
              <p:spPr>
                <a:xfrm flipH="1">
                  <a:off x="3023280" y="4845240"/>
                  <a:ext cx="138240" cy="11988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3114720" y="481464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3040920" y="497412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2957400" y="497916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H="1">
                  <a:off x="2920680" y="513684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>
                  <a:off x="3068280" y="5136120"/>
                  <a:ext cx="104040" cy="2286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55" name=""/>
          <p:cNvGrpSpPr/>
          <p:nvPr/>
        </p:nvGrpSpPr>
        <p:grpSpPr>
          <a:xfrm>
            <a:off x="4952880" y="457200"/>
            <a:ext cx="3886200" cy="1944720"/>
            <a:chOff x="4952880" y="457200"/>
            <a:chExt cx="3886200" cy="1944720"/>
          </a:xfrm>
        </p:grpSpPr>
        <p:sp>
          <p:nvSpPr>
            <p:cNvPr id="2856" name=""/>
            <p:cNvSpPr/>
            <p:nvPr/>
          </p:nvSpPr>
          <p:spPr>
            <a:xfrm>
              <a:off x="495288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486040" y="53352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gestion 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8" name="" descr=""/>
            <p:cNvPicPr/>
            <p:nvPr/>
          </p:nvPicPr>
          <p:blipFill>
            <a:blip r:embed="rId1"/>
            <a:stretch/>
          </p:blipFill>
          <p:spPr>
            <a:xfrm>
              <a:off x="5105160" y="60948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859" name=""/>
          <p:cNvGrpSpPr/>
          <p:nvPr/>
        </p:nvGrpSpPr>
        <p:grpSpPr>
          <a:xfrm>
            <a:off x="685800" y="457200"/>
            <a:ext cx="3886200" cy="1944720"/>
            <a:chOff x="685800" y="457200"/>
            <a:chExt cx="3886200" cy="1944720"/>
          </a:xfrm>
        </p:grpSpPr>
        <p:sp>
          <p:nvSpPr>
            <p:cNvPr id="2860" name=""/>
            <p:cNvSpPr/>
            <p:nvPr/>
          </p:nvSpPr>
          <p:spPr>
            <a:xfrm>
              <a:off x="685800" y="45720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143000" y="53352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Ontologie et 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2" name="onto_01" descr=""/>
            <p:cNvPicPr/>
            <p:nvPr/>
          </p:nvPicPr>
          <p:blipFill>
            <a:blip r:embed="rId2"/>
            <a:stretch/>
          </p:blipFill>
          <p:spPr>
            <a:xfrm>
              <a:off x="828720" y="60948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863" name=""/>
          <p:cNvGrpSpPr/>
          <p:nvPr/>
        </p:nvGrpSpPr>
        <p:grpSpPr>
          <a:xfrm>
            <a:off x="2590920" y="2147760"/>
            <a:ext cx="4267080" cy="2971800"/>
            <a:chOff x="2590920" y="2147760"/>
            <a:chExt cx="4267080" cy="2971800"/>
          </a:xfrm>
        </p:grpSpPr>
        <p:sp>
          <p:nvSpPr>
            <p:cNvPr id="2864" name=""/>
            <p:cNvSpPr/>
            <p:nvPr/>
          </p:nvSpPr>
          <p:spPr>
            <a:xfrm>
              <a:off x="2590920" y="260496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200400" y="275724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Société d'inter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743200" y="214776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477120" y="4281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6095880" y="214776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9" name="" descr=""/>
            <p:cNvPicPr/>
            <p:nvPr/>
          </p:nvPicPr>
          <p:blipFill>
            <a:blip r:embed="rId3"/>
            <a:stretch/>
          </p:blipFill>
          <p:spPr>
            <a:xfrm>
              <a:off x="2743200" y="275724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2870" name=""/>
          <p:cNvGrpSpPr/>
          <p:nvPr/>
        </p:nvGrpSpPr>
        <p:grpSpPr>
          <a:xfrm>
            <a:off x="990720" y="1066680"/>
            <a:ext cx="3276360" cy="999720"/>
            <a:chOff x="990720" y="1066680"/>
            <a:chExt cx="3276360" cy="999720"/>
          </a:xfrm>
        </p:grpSpPr>
        <p:sp>
          <p:nvSpPr>
            <p:cNvPr id="2871" name=""/>
            <p:cNvSpPr/>
            <p:nvPr/>
          </p:nvSpPr>
          <p:spPr>
            <a:xfrm>
              <a:off x="1981080" y="114264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808080"/>
                  </a:solidFill>
                  <a:latin typeface="Times New Roman"/>
                </a:rPr>
                <a:t>Agents ontologist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2" name="agent" descr=""/>
            <p:cNvPicPr/>
            <p:nvPr/>
          </p:nvPicPr>
          <p:blipFill>
            <a:blip r:embed="rId4"/>
            <a:stretch/>
          </p:blipFill>
          <p:spPr>
            <a:xfrm>
              <a:off x="1600200" y="106668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873" name="agent" descr=""/>
            <p:cNvPicPr/>
            <p:nvPr/>
          </p:nvPicPr>
          <p:blipFill>
            <a:blip r:embed="rId5"/>
            <a:stretch/>
          </p:blipFill>
          <p:spPr>
            <a:xfrm>
              <a:off x="990720" y="13712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874" name="agent" descr=""/>
            <p:cNvPicPr/>
            <p:nvPr/>
          </p:nvPicPr>
          <p:blipFill>
            <a:blip r:embed="rId6"/>
            <a:stretch/>
          </p:blipFill>
          <p:spPr>
            <a:xfrm>
              <a:off x="1523880" y="175212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2875" name="agent" descr=""/>
            <p:cNvPicPr/>
            <p:nvPr/>
          </p:nvPicPr>
          <p:blipFill>
            <a:blip r:embed="rId7"/>
            <a:stretch/>
          </p:blipFill>
          <p:spPr>
            <a:xfrm>
              <a:off x="2057400" y="159984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2876" name=""/>
          <p:cNvGrpSpPr/>
          <p:nvPr/>
        </p:nvGrpSpPr>
        <p:grpSpPr>
          <a:xfrm>
            <a:off x="5029200" y="1017720"/>
            <a:ext cx="3733920" cy="1166760"/>
            <a:chOff x="5029200" y="1017720"/>
            <a:chExt cx="3733920" cy="1166760"/>
          </a:xfrm>
        </p:grpSpPr>
        <p:sp>
          <p:nvSpPr>
            <p:cNvPr id="2877" name=""/>
            <p:cNvSpPr/>
            <p:nvPr/>
          </p:nvSpPr>
          <p:spPr>
            <a:xfrm>
              <a:off x="6019920" y="15508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34120" y="1727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9933"/>
                  </a:solidFill>
                  <a:latin typeface="Times New Roman"/>
                </a:rPr>
                <a:t>Médi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029200" y="1017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Times New Roman"/>
                </a:rPr>
                <a:t>Archivis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0" name="agent" descr=""/>
            <p:cNvPicPr/>
            <p:nvPr/>
          </p:nvPicPr>
          <p:blipFill>
            <a:blip r:embed="rId8"/>
            <a:stretch/>
          </p:blipFill>
          <p:spPr>
            <a:xfrm>
              <a:off x="6324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1" name="agent" descr=""/>
            <p:cNvPicPr/>
            <p:nvPr/>
          </p:nvPicPr>
          <p:blipFill>
            <a:blip r:embed="rId9"/>
            <a:stretch/>
          </p:blipFill>
          <p:spPr>
            <a:xfrm>
              <a:off x="6705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2" name="agent" descr=""/>
            <p:cNvPicPr/>
            <p:nvPr/>
          </p:nvPicPr>
          <p:blipFill>
            <a:blip r:embed="rId10"/>
            <a:stretch/>
          </p:blipFill>
          <p:spPr>
            <a:xfrm>
              <a:off x="7086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3" name="agent" descr=""/>
            <p:cNvPicPr/>
            <p:nvPr/>
          </p:nvPicPr>
          <p:blipFill>
            <a:blip r:embed="rId11"/>
            <a:stretch/>
          </p:blipFill>
          <p:spPr>
            <a:xfrm>
              <a:off x="7467480" y="1017720"/>
              <a:ext cx="31140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4" name="agent" descr=""/>
            <p:cNvPicPr/>
            <p:nvPr/>
          </p:nvPicPr>
          <p:blipFill>
            <a:blip r:embed="rId12"/>
            <a:stretch/>
          </p:blipFill>
          <p:spPr>
            <a:xfrm>
              <a:off x="784872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5" name="agent" descr=""/>
            <p:cNvPicPr/>
            <p:nvPr/>
          </p:nvPicPr>
          <p:blipFill>
            <a:blip r:embed="rId13"/>
            <a:stretch/>
          </p:blipFill>
          <p:spPr>
            <a:xfrm>
              <a:off x="8229600" y="1017720"/>
              <a:ext cx="311040" cy="3142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2886" name="agent" descr=""/>
            <p:cNvPicPr/>
            <p:nvPr/>
          </p:nvPicPr>
          <p:blipFill>
            <a:blip r:embed="rId14"/>
            <a:stretch/>
          </p:blipFill>
          <p:spPr>
            <a:xfrm>
              <a:off x="670572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2887" name="agent" descr=""/>
            <p:cNvPicPr/>
            <p:nvPr/>
          </p:nvPicPr>
          <p:blipFill>
            <a:blip r:embed="rId15"/>
            <a:stretch/>
          </p:blipFill>
          <p:spPr>
            <a:xfrm>
              <a:off x="7086600" y="177948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2888" name=""/>
          <p:cNvGrpSpPr/>
          <p:nvPr/>
        </p:nvGrpSpPr>
        <p:grpSpPr>
          <a:xfrm>
            <a:off x="2743200" y="5364000"/>
            <a:ext cx="3962520" cy="1000440"/>
            <a:chOff x="2743200" y="5364000"/>
            <a:chExt cx="3962520" cy="1000440"/>
          </a:xfrm>
        </p:grpSpPr>
        <p:grpSp>
          <p:nvGrpSpPr>
            <p:cNvPr id="2889" name=""/>
            <p:cNvGrpSpPr/>
            <p:nvPr/>
          </p:nvGrpSpPr>
          <p:grpSpPr>
            <a:xfrm>
              <a:off x="3962520" y="5602320"/>
              <a:ext cx="1523880" cy="762120"/>
              <a:chOff x="3962520" y="5602320"/>
              <a:chExt cx="1523880" cy="762120"/>
            </a:xfrm>
          </p:grpSpPr>
          <p:pic>
            <p:nvPicPr>
              <p:cNvPr id="289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72000" y="560232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2891" name=""/>
              <p:cNvSpPr/>
              <p:nvPr/>
            </p:nvSpPr>
            <p:spPr>
              <a:xfrm>
                <a:off x="3962520" y="5907240"/>
                <a:ext cx="1523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Gestionn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808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5105520" y="5364000"/>
              <a:ext cx="1600200" cy="924120"/>
              <a:chOff x="5105520" y="5364000"/>
              <a:chExt cx="1600200" cy="924120"/>
            </a:xfrm>
          </p:grpSpPr>
          <p:pic>
            <p:nvPicPr>
              <p:cNvPr id="289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8520" y="536400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2894" name=""/>
              <p:cNvSpPr/>
              <p:nvPr/>
            </p:nvSpPr>
            <p:spPr>
              <a:xfrm>
                <a:off x="5105520" y="567828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Archivis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Times New Roman"/>
                  </a:rPr>
                  <a:t>de profi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5" name=""/>
            <p:cNvGrpSpPr/>
            <p:nvPr/>
          </p:nvGrpSpPr>
          <p:grpSpPr>
            <a:xfrm>
              <a:off x="2743200" y="5526000"/>
              <a:ext cx="1371600" cy="762120"/>
              <a:chOff x="2743200" y="5526000"/>
              <a:chExt cx="1371600" cy="762120"/>
            </a:xfrm>
          </p:grpSpPr>
          <p:pic>
            <p:nvPicPr>
              <p:cNvPr id="289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76720" y="552600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2897" name=""/>
              <p:cNvSpPr/>
              <p:nvPr/>
            </p:nvSpPr>
            <p:spPr>
              <a:xfrm>
                <a:off x="2743200" y="583092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Contrôle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800080"/>
                    </a:solidFill>
                    <a:latin typeface="Times New Roman"/>
                  </a:rPr>
                  <a:t>d'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8" name=""/>
          <p:cNvGrpSpPr/>
          <p:nvPr/>
        </p:nvGrpSpPr>
        <p:grpSpPr>
          <a:xfrm>
            <a:off x="2590920" y="3214800"/>
            <a:ext cx="3968640" cy="1218600"/>
            <a:chOff x="2590920" y="3214800"/>
            <a:chExt cx="3968640" cy="1218600"/>
          </a:xfrm>
        </p:grpSpPr>
        <p:sp>
          <p:nvSpPr>
            <p:cNvPr id="2899" name=""/>
            <p:cNvSpPr/>
            <p:nvPr/>
          </p:nvSpPr>
          <p:spPr>
            <a:xfrm>
              <a:off x="2590920" y="3747960"/>
              <a:ext cx="160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Appari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imes New Roman"/>
                </a:rPr>
                <a:t>fédér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0" name="agent" descr=""/>
            <p:cNvPicPr/>
            <p:nvPr/>
          </p:nvPicPr>
          <p:blipFill>
            <a:blip r:embed="rId19"/>
            <a:stretch/>
          </p:blipFill>
          <p:spPr>
            <a:xfrm>
              <a:off x="3809880" y="344304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901" name="agent" descr=""/>
            <p:cNvPicPr/>
            <p:nvPr/>
          </p:nvPicPr>
          <p:blipFill>
            <a:blip r:embed="rId20"/>
            <a:stretch/>
          </p:blipFill>
          <p:spPr>
            <a:xfrm>
              <a:off x="4648320" y="32907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902" name="agent" descr=""/>
            <p:cNvPicPr/>
            <p:nvPr/>
          </p:nvPicPr>
          <p:blipFill>
            <a:blip r:embed="rId21"/>
            <a:stretch/>
          </p:blipFill>
          <p:spPr>
            <a:xfrm>
              <a:off x="5638680" y="3519360"/>
              <a:ext cx="31140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903" name="agent" descr=""/>
            <p:cNvPicPr/>
            <p:nvPr/>
          </p:nvPicPr>
          <p:blipFill>
            <a:blip r:embed="rId22"/>
            <a:stretch/>
          </p:blipFill>
          <p:spPr>
            <a:xfrm>
              <a:off x="4800600" y="3976560"/>
              <a:ext cx="311040" cy="3139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2904" name="agent" descr=""/>
            <p:cNvPicPr/>
            <p:nvPr/>
          </p:nvPicPr>
          <p:blipFill>
            <a:blip r:embed="rId23"/>
            <a:stretch/>
          </p:blipFill>
          <p:spPr>
            <a:xfrm>
              <a:off x="6248520" y="321480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2905" name=""/>
          <p:cNvGrpSpPr/>
          <p:nvPr/>
        </p:nvGrpSpPr>
        <p:grpSpPr>
          <a:xfrm>
            <a:off x="482760" y="380880"/>
            <a:ext cx="8533800" cy="6477120"/>
            <a:chOff x="482760" y="380880"/>
            <a:chExt cx="8533800" cy="6477120"/>
          </a:xfrm>
        </p:grpSpPr>
        <p:sp>
          <p:nvSpPr>
            <p:cNvPr id="2906" name=""/>
            <p:cNvSpPr/>
            <p:nvPr/>
          </p:nvSpPr>
          <p:spPr>
            <a:xfrm>
              <a:off x="482760" y="2514600"/>
              <a:ext cx="632412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58720" y="380880"/>
              <a:ext cx="426672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825800" y="380880"/>
              <a:ext cx="4190760" cy="213372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9" name=""/>
          <p:cNvSpPr/>
          <p:nvPr/>
        </p:nvSpPr>
        <p:spPr>
          <a:xfrm>
            <a:off x="6477120" y="1371600"/>
            <a:ext cx="38088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6858000" y="1371600"/>
            <a:ext cx="38088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 flipH="1">
            <a:off x="6858000" y="1447920"/>
            <a:ext cx="144792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ED09-E83F-457A-8A68-A2B4F63B59F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AA-AM pour l'allocation d'une annotat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3360" y="45720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ontract-Net : allocation des annotation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Médiateur &amp; Archivistes discutent meilleur arch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Mécanisme de marché: AàP, Proposition, Accepté/Refus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939960" y="1574640"/>
            <a:ext cx="8001000" cy="4648320"/>
            <a:chOff x="939960" y="1574640"/>
            <a:chExt cx="8001000" cy="4648320"/>
          </a:xfrm>
        </p:grpSpPr>
        <p:sp>
          <p:nvSpPr>
            <p:cNvPr id="2915" name=""/>
            <p:cNvSpPr/>
            <p:nvPr/>
          </p:nvSpPr>
          <p:spPr>
            <a:xfrm>
              <a:off x="939960" y="1574640"/>
              <a:ext cx="8001000" cy="46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6" name=""/>
            <p:cNvGrpSpPr/>
            <p:nvPr/>
          </p:nvGrpSpPr>
          <p:grpSpPr>
            <a:xfrm>
              <a:off x="1044720" y="3024000"/>
              <a:ext cx="7826400" cy="1405080"/>
              <a:chOff x="1044720" y="3024000"/>
              <a:chExt cx="7826400" cy="1405080"/>
            </a:xfrm>
          </p:grpSpPr>
          <p:sp>
            <p:nvSpPr>
              <p:cNvPr id="2917" name=""/>
              <p:cNvSpPr/>
              <p:nvPr/>
            </p:nvSpPr>
            <p:spPr>
              <a:xfrm>
                <a:off x="1044720" y="3051000"/>
                <a:ext cx="163512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AMLocal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2679840" y="3230280"/>
                <a:ext cx="240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062680" y="3051000"/>
                <a:ext cx="74628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8124840" y="3024000"/>
                <a:ext cx="74628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828040" y="3230280"/>
                <a:ext cx="229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062680" y="4070160"/>
                <a:ext cx="830160" cy="35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1725840" y="4249440"/>
                <a:ext cx="333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1725840" y="3409920"/>
                <a:ext cx="0" cy="83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5" name=""/>
          <p:cNvGrpSpPr/>
          <p:nvPr/>
        </p:nvGrpSpPr>
        <p:grpSpPr>
          <a:xfrm>
            <a:off x="1725480" y="1612800"/>
            <a:ext cx="7145280" cy="4494240"/>
            <a:chOff x="1725480" y="1612800"/>
            <a:chExt cx="7145280" cy="4494240"/>
          </a:xfrm>
        </p:grpSpPr>
        <p:sp>
          <p:nvSpPr>
            <p:cNvPr id="2926" name=""/>
            <p:cNvSpPr/>
            <p:nvPr/>
          </p:nvSpPr>
          <p:spPr>
            <a:xfrm>
              <a:off x="2765160" y="3170160"/>
              <a:ext cx="93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512880" y="3111480"/>
              <a:ext cx="18756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412720" y="2841480"/>
              <a:ext cx="1446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1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9" name=""/>
            <p:cNvGrpSpPr/>
            <p:nvPr/>
          </p:nvGrpSpPr>
          <p:grpSpPr>
            <a:xfrm>
              <a:off x="2180880" y="4125600"/>
              <a:ext cx="936720" cy="59040"/>
              <a:chOff x="2180880" y="4125600"/>
              <a:chExt cx="936720" cy="59040"/>
            </a:xfrm>
          </p:grpSpPr>
          <p:sp>
            <p:nvSpPr>
              <p:cNvPr id="2930" name=""/>
              <p:cNvSpPr/>
              <p:nvPr/>
            </p:nvSpPr>
            <p:spPr>
              <a:xfrm>
                <a:off x="2180880" y="418464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928960" y="4125600"/>
                <a:ext cx="18828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2" name=""/>
            <p:cNvSpPr/>
            <p:nvPr/>
          </p:nvSpPr>
          <p:spPr>
            <a:xfrm>
              <a:off x="1830240" y="3855960"/>
              <a:ext cx="1444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2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3" name=""/>
            <p:cNvGrpSpPr/>
            <p:nvPr/>
          </p:nvGrpSpPr>
          <p:grpSpPr>
            <a:xfrm>
              <a:off x="5924520" y="3120840"/>
              <a:ext cx="936360" cy="58680"/>
              <a:chOff x="5924520" y="3120840"/>
              <a:chExt cx="936360" cy="58680"/>
            </a:xfrm>
          </p:grpSpPr>
          <p:sp>
            <p:nvSpPr>
              <p:cNvPr id="2934" name=""/>
              <p:cNvSpPr/>
              <p:nvPr/>
            </p:nvSpPr>
            <p:spPr>
              <a:xfrm>
                <a:off x="5924520" y="3179520"/>
                <a:ext cx="9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672600" y="3120840"/>
                <a:ext cx="187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6" name=""/>
            <p:cNvSpPr/>
            <p:nvPr/>
          </p:nvSpPr>
          <p:spPr>
            <a:xfrm>
              <a:off x="5572080" y="2877840"/>
              <a:ext cx="1446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2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789600" y="3290760"/>
              <a:ext cx="1995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3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8" name=""/>
            <p:cNvGrpSpPr/>
            <p:nvPr/>
          </p:nvGrpSpPr>
          <p:grpSpPr>
            <a:xfrm>
              <a:off x="7103520" y="3295080"/>
              <a:ext cx="934920" cy="58680"/>
              <a:chOff x="7103520" y="3295080"/>
              <a:chExt cx="934920" cy="58680"/>
            </a:xfrm>
          </p:grpSpPr>
          <p:sp>
            <p:nvSpPr>
              <p:cNvPr id="2939" name=""/>
              <p:cNvSpPr/>
              <p:nvPr/>
            </p:nvSpPr>
            <p:spPr>
              <a:xfrm flipH="1">
                <a:off x="7103520" y="329508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 flipV="1">
                <a:off x="7103880" y="3308760"/>
                <a:ext cx="18792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1" name=""/>
            <p:cNvSpPr/>
            <p:nvPr/>
          </p:nvSpPr>
          <p:spPr>
            <a:xfrm>
              <a:off x="3433680" y="4281480"/>
              <a:ext cx="185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3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2" name=""/>
            <p:cNvGrpSpPr/>
            <p:nvPr/>
          </p:nvGrpSpPr>
          <p:grpSpPr>
            <a:xfrm>
              <a:off x="3974760" y="4308120"/>
              <a:ext cx="936720" cy="60120"/>
              <a:chOff x="3974760" y="4308120"/>
              <a:chExt cx="936720" cy="60120"/>
            </a:xfrm>
          </p:grpSpPr>
          <p:sp>
            <p:nvSpPr>
              <p:cNvPr id="2943" name=""/>
              <p:cNvSpPr/>
              <p:nvPr/>
            </p:nvSpPr>
            <p:spPr>
              <a:xfrm flipH="1">
                <a:off x="3974760" y="430812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 flipV="1">
                <a:off x="3975120" y="4322160"/>
                <a:ext cx="1882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5" name=""/>
            <p:cNvSpPr/>
            <p:nvPr/>
          </p:nvSpPr>
          <p:spPr>
            <a:xfrm flipH="1" flipV="1">
              <a:off x="3255480" y="2450520"/>
              <a:ext cx="19080" cy="42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 flipV="1">
              <a:off x="3255840" y="2450880"/>
              <a:ext cx="297792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3020760" y="1612440"/>
              <a:ext cx="4064040" cy="838080"/>
            </a:xfrm>
            <a:prstGeom prst="foldedCorner">
              <a:avLst>
                <a:gd name="adj" fmla="val 1417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105000" y="1747800"/>
              <a:ext cx="423396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RDF Annotation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447720" y="2744640"/>
              <a:ext cx="18716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2490480" y="4968360"/>
              <a:ext cx="6380280" cy="1138320"/>
            </a:xfrm>
            <a:prstGeom prst="foldedCorner">
              <a:avLst>
                <a:gd name="adj" fmla="val 1365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660400" y="5029200"/>
              <a:ext cx="6210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contract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propose bid = distance to current archive / refuse / not understoo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7850160" y="3590640"/>
              <a:ext cx="0" cy="1317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 flipV="1">
              <a:off x="4976640" y="4608000"/>
              <a:ext cx="295920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686040" y="3286080"/>
              <a:ext cx="18399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4:prop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"/>
            <p:cNvGrpSpPr/>
            <p:nvPr/>
          </p:nvGrpSpPr>
          <p:grpSpPr>
            <a:xfrm>
              <a:off x="3955680" y="3290760"/>
              <a:ext cx="936720" cy="60480"/>
              <a:chOff x="3955680" y="3290760"/>
              <a:chExt cx="936720" cy="60480"/>
            </a:xfrm>
          </p:grpSpPr>
          <p:sp>
            <p:nvSpPr>
              <p:cNvPr id="2956" name=""/>
              <p:cNvSpPr/>
              <p:nvPr/>
            </p:nvSpPr>
            <p:spPr>
              <a:xfrm flipH="1">
                <a:off x="3955680" y="329076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 flipV="1">
                <a:off x="3956040" y="3304800"/>
                <a:ext cx="18828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8" name=""/>
            <p:cNvSpPr/>
            <p:nvPr/>
          </p:nvSpPr>
          <p:spPr>
            <a:xfrm flipH="1" flipV="1">
              <a:off x="5127120" y="3590640"/>
              <a:ext cx="2722680" cy="137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3909960" y="3111480"/>
              <a:ext cx="934920" cy="58680"/>
              <a:chOff x="3909960" y="3111480"/>
              <a:chExt cx="934920" cy="58680"/>
            </a:xfrm>
          </p:grpSpPr>
          <p:sp>
            <p:nvSpPr>
              <p:cNvPr id="2960" name=""/>
              <p:cNvSpPr/>
              <p:nvPr/>
            </p:nvSpPr>
            <p:spPr>
              <a:xfrm>
                <a:off x="3909960" y="317016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656600" y="3111480"/>
                <a:ext cx="18792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2" name=""/>
            <p:cNvSpPr/>
            <p:nvPr/>
          </p:nvSpPr>
          <p:spPr>
            <a:xfrm>
              <a:off x="2850840" y="3765240"/>
              <a:ext cx="28069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6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3" name=""/>
            <p:cNvGrpSpPr/>
            <p:nvPr/>
          </p:nvGrpSpPr>
          <p:grpSpPr>
            <a:xfrm>
              <a:off x="3786120" y="4128840"/>
              <a:ext cx="934920" cy="60480"/>
              <a:chOff x="3786120" y="4128840"/>
              <a:chExt cx="934920" cy="60480"/>
            </a:xfrm>
          </p:grpSpPr>
          <p:sp>
            <p:nvSpPr>
              <p:cNvPr id="2964" name=""/>
              <p:cNvSpPr/>
              <p:nvPr/>
            </p:nvSpPr>
            <p:spPr>
              <a:xfrm>
                <a:off x="3786120" y="418932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532760" y="4128840"/>
                <a:ext cx="187920" cy="4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6" name=""/>
            <p:cNvSpPr/>
            <p:nvPr/>
          </p:nvSpPr>
          <p:spPr>
            <a:xfrm>
              <a:off x="6527520" y="2759040"/>
              <a:ext cx="19368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6:accept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7" name=""/>
            <p:cNvGrpSpPr/>
            <p:nvPr/>
          </p:nvGrpSpPr>
          <p:grpSpPr>
            <a:xfrm>
              <a:off x="7103880" y="3124080"/>
              <a:ext cx="934920" cy="60480"/>
              <a:chOff x="7103880" y="3124080"/>
              <a:chExt cx="934920" cy="60480"/>
            </a:xfrm>
          </p:grpSpPr>
          <p:sp>
            <p:nvSpPr>
              <p:cNvPr id="2968" name=""/>
              <p:cNvSpPr/>
              <p:nvPr/>
            </p:nvSpPr>
            <p:spPr>
              <a:xfrm>
                <a:off x="7103880" y="3184560"/>
                <a:ext cx="93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850520" y="3124080"/>
                <a:ext cx="187920" cy="4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0" name=""/>
            <p:cNvSpPr/>
            <p:nvPr/>
          </p:nvSpPr>
          <p:spPr>
            <a:xfrm>
              <a:off x="1744560" y="4281480"/>
              <a:ext cx="1701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7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1" name=""/>
            <p:cNvGrpSpPr/>
            <p:nvPr/>
          </p:nvGrpSpPr>
          <p:grpSpPr>
            <a:xfrm>
              <a:off x="2188800" y="4309560"/>
              <a:ext cx="936720" cy="58680"/>
              <a:chOff x="2188800" y="4309560"/>
              <a:chExt cx="936720" cy="58680"/>
            </a:xfrm>
          </p:grpSpPr>
          <p:sp>
            <p:nvSpPr>
              <p:cNvPr id="2972" name=""/>
              <p:cNvSpPr/>
              <p:nvPr/>
            </p:nvSpPr>
            <p:spPr>
              <a:xfrm flipH="1">
                <a:off x="2188800" y="430956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 flipV="1">
                <a:off x="2189160" y="4323240"/>
                <a:ext cx="188280" cy="4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4" name=""/>
            <p:cNvSpPr/>
            <p:nvPr/>
          </p:nvSpPr>
          <p:spPr>
            <a:xfrm>
              <a:off x="5578200" y="3295440"/>
              <a:ext cx="1701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7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951160" y="3293640"/>
              <a:ext cx="936720" cy="60120"/>
              <a:chOff x="5951160" y="3293640"/>
              <a:chExt cx="936720" cy="60120"/>
            </a:xfrm>
          </p:grpSpPr>
          <p:sp>
            <p:nvSpPr>
              <p:cNvPr id="2976" name=""/>
              <p:cNvSpPr/>
              <p:nvPr/>
            </p:nvSpPr>
            <p:spPr>
              <a:xfrm flipH="1">
                <a:off x="5951160" y="329364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 flipV="1">
                <a:off x="5951520" y="3307680"/>
                <a:ext cx="18828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8" name=""/>
            <p:cNvSpPr/>
            <p:nvPr/>
          </p:nvSpPr>
          <p:spPr>
            <a:xfrm>
              <a:off x="2377800" y="3290760"/>
              <a:ext cx="1701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</a:rPr>
                <a:t>8: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9" name=""/>
            <p:cNvGrpSpPr/>
            <p:nvPr/>
          </p:nvGrpSpPr>
          <p:grpSpPr>
            <a:xfrm>
              <a:off x="2784240" y="3290760"/>
              <a:ext cx="936720" cy="60480"/>
              <a:chOff x="2784240" y="3290760"/>
              <a:chExt cx="936720" cy="60480"/>
            </a:xfrm>
          </p:grpSpPr>
          <p:sp>
            <p:nvSpPr>
              <p:cNvPr id="2980" name=""/>
              <p:cNvSpPr/>
              <p:nvPr/>
            </p:nvSpPr>
            <p:spPr>
              <a:xfrm flipH="1">
                <a:off x="2784240" y="3290760"/>
                <a:ext cx="93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 flipV="1">
                <a:off x="2784600" y="3304800"/>
                <a:ext cx="18828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2" name=""/>
            <p:cNvSpPr/>
            <p:nvPr/>
          </p:nvSpPr>
          <p:spPr>
            <a:xfrm>
              <a:off x="1725480" y="2271600"/>
              <a:ext cx="0" cy="719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3" name=""/>
          <p:cNvSpPr/>
          <p:nvPr/>
        </p:nvSpPr>
        <p:spPr>
          <a:xfrm>
            <a:off x="152280" y="629928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4000"/>
          </a:bodyPr>
          <a:p>
            <a:pPr lvl="1" marL="681120" indent="-2113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Les propositions sont basées sur une pseudo-distance sémantique définie sur l'on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4D43-B90C-4F65-BDE0-D82CBF63676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609480" y="1143000"/>
            <a:ext cx="7772400" cy="4379760"/>
            <a:chOff x="609480" y="1143000"/>
            <a:chExt cx="7772400" cy="4379760"/>
          </a:xfrm>
        </p:grpSpPr>
        <p:sp>
          <p:nvSpPr>
            <p:cNvPr id="206" name=""/>
            <p:cNvSpPr/>
            <p:nvPr/>
          </p:nvSpPr>
          <p:spPr>
            <a:xfrm>
              <a:off x="609480" y="11430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725640" y="1222200"/>
              <a:ext cx="1657080" cy="4180680"/>
              <a:chOff x="3725640" y="1222200"/>
              <a:chExt cx="1657080" cy="4180680"/>
            </a:xfrm>
          </p:grpSpPr>
          <p:sp>
            <p:nvSpPr>
              <p:cNvPr id="208" name=""/>
              <p:cNvSpPr/>
              <p:nvPr/>
            </p:nvSpPr>
            <p:spPr>
              <a:xfrm>
                <a:off x="3725640" y="13806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84400" y="12222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415880" y="2576160"/>
              <a:ext cx="6532560" cy="994680"/>
              <a:chOff x="1415880" y="2576160"/>
              <a:chExt cx="6532560" cy="994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415880" y="26614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29440" y="25761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86240" y="27475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38200" y="32378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32040" y="27982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6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4880" y="28886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7" name=""/>
              <p:cNvGrpSpPr/>
              <p:nvPr/>
            </p:nvGrpSpPr>
            <p:grpSpPr>
              <a:xfrm>
                <a:off x="5383080" y="2895120"/>
                <a:ext cx="908280" cy="636120"/>
                <a:chOff x="5383080" y="2895120"/>
                <a:chExt cx="908280" cy="636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383080" y="325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9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59200" y="289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20" name=""/>
              <p:cNvSpPr/>
              <p:nvPr/>
            </p:nvSpPr>
            <p:spPr>
              <a:xfrm>
                <a:off x="3726000" y="26632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1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4640" y="29394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2463840" y="32936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91360" y="32904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64400" y="28504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5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537240" y="29412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26" name=""/>
              <p:cNvGrpSpPr/>
              <p:nvPr/>
            </p:nvGrpSpPr>
            <p:grpSpPr>
              <a:xfrm>
                <a:off x="3252960" y="2707560"/>
                <a:ext cx="907920" cy="634680"/>
                <a:chOff x="3252960" y="2707560"/>
                <a:chExt cx="907920" cy="634680"/>
              </a:xfrm>
            </p:grpSpPr>
            <p:pic>
              <p:nvPicPr>
                <p:cNvPr id="227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29080" y="270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>
                  <a:off x="3252960" y="30657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chéma généra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9040" y="1222200"/>
            <a:ext cx="1774800" cy="1433520"/>
            <a:chOff x="689040" y="1222200"/>
            <a:chExt cx="1774800" cy="1433520"/>
          </a:xfrm>
        </p:grpSpPr>
        <p:sp>
          <p:nvSpPr>
            <p:cNvPr id="231" name=""/>
            <p:cNvSpPr/>
            <p:nvPr/>
          </p:nvSpPr>
          <p:spPr>
            <a:xfrm>
              <a:off x="689040" y="229680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uteur et/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nnotateur de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241280" y="1222200"/>
              <a:ext cx="789120" cy="1231920"/>
              <a:chOff x="1241280" y="1222200"/>
              <a:chExt cx="789120" cy="123192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516680" y="1670040"/>
                <a:ext cx="477360" cy="784080"/>
                <a:chOff x="1516680" y="1670040"/>
                <a:chExt cx="477360" cy="7840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725840" y="193068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769040" y="217728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01280" y="216360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516680" y="193140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36720" y="167004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81920" y="171360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527480" y="1222200"/>
                <a:ext cx="236520" cy="239040"/>
                <a:chOff x="1527480" y="1222200"/>
                <a:chExt cx="236520" cy="239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527480" y="122220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2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54480" y="124380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43" name=""/>
              <p:cNvGrpSpPr/>
              <p:nvPr/>
            </p:nvGrpSpPr>
            <p:grpSpPr>
              <a:xfrm>
                <a:off x="1241280" y="1345680"/>
                <a:ext cx="255240" cy="278640"/>
                <a:chOff x="1241280" y="1345680"/>
                <a:chExt cx="255240" cy="278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241280" y="134568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5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49560" y="136440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6" name=""/>
              <p:cNvGrpSpPr/>
              <p:nvPr/>
            </p:nvGrpSpPr>
            <p:grpSpPr>
              <a:xfrm>
                <a:off x="1398960" y="1664640"/>
                <a:ext cx="204120" cy="245160"/>
                <a:chOff x="1398960" y="1664640"/>
                <a:chExt cx="204120" cy="245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398960" y="166464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8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19480" y="168120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9" name=""/>
              <p:cNvGrpSpPr/>
              <p:nvPr/>
            </p:nvGrpSpPr>
            <p:grpSpPr>
              <a:xfrm>
                <a:off x="1793520" y="1385640"/>
                <a:ext cx="236880" cy="278640"/>
                <a:chOff x="1793520" y="1385640"/>
                <a:chExt cx="236880" cy="2786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793520" y="138564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1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798920" y="141912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52" name=""/>
          <p:cNvGrpSpPr/>
          <p:nvPr/>
        </p:nvGrpSpPr>
        <p:grpSpPr>
          <a:xfrm>
            <a:off x="2030400" y="1633680"/>
            <a:ext cx="1617840" cy="903240"/>
            <a:chOff x="2030400" y="1633680"/>
            <a:chExt cx="1617840" cy="903240"/>
          </a:xfrm>
        </p:grpSpPr>
        <p:pic>
          <p:nvPicPr>
            <p:cNvPr id="253" name="" descr=""/>
            <p:cNvPicPr/>
            <p:nvPr/>
          </p:nvPicPr>
          <p:blipFill>
            <a:blip r:embed="rId10"/>
            <a:stretch/>
          </p:blipFill>
          <p:spPr>
            <a:xfrm>
              <a:off x="2030400" y="210996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2306520" y="1633680"/>
              <a:ext cx="1025640" cy="903240"/>
              <a:chOff x="2306520" y="1633680"/>
              <a:chExt cx="1025640" cy="903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06520" y="189972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06520" y="163368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24160" y="190260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00720" y="213516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83200" y="166428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3411360" y="209880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onto_01" descr=""/>
          <p:cNvPicPr/>
          <p:nvPr/>
        </p:nvPicPr>
        <p:blipFill>
          <a:blip r:embed="rId14"/>
          <a:stretch/>
        </p:blipFill>
        <p:spPr>
          <a:xfrm>
            <a:off x="3924360" y="397044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62" name="onto_02" descr=""/>
          <p:cNvPicPr/>
          <p:nvPr/>
        </p:nvPicPr>
        <p:blipFill>
          <a:blip r:embed="rId15"/>
          <a:stretch/>
        </p:blipFill>
        <p:spPr>
          <a:xfrm>
            <a:off x="4081320" y="484668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3805200" y="1563840"/>
            <a:ext cx="1301760" cy="3565440"/>
            <a:chOff x="3805200" y="1563840"/>
            <a:chExt cx="1301760" cy="3565440"/>
          </a:xfrm>
        </p:grpSpPr>
        <p:pic>
          <p:nvPicPr>
            <p:cNvPr id="264" name="doc_01" descr=""/>
            <p:cNvPicPr/>
            <p:nvPr/>
          </p:nvPicPr>
          <p:blipFill>
            <a:blip r:embed="rId16"/>
            <a:stretch/>
          </p:blipFill>
          <p:spPr>
            <a:xfrm>
              <a:off x="4713480" y="2178000"/>
              <a:ext cx="21420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doc_01" descr=""/>
            <p:cNvPicPr/>
            <p:nvPr/>
          </p:nvPicPr>
          <p:blipFill>
            <a:blip r:embed="rId17"/>
            <a:stretch/>
          </p:blipFill>
          <p:spPr>
            <a:xfrm>
              <a:off x="4673880" y="209880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memory_01" descr=""/>
            <p:cNvPicPr/>
            <p:nvPr/>
          </p:nvPicPr>
          <p:blipFill>
            <a:blip r:embed="rId18"/>
            <a:stretch/>
          </p:blipFill>
          <p:spPr>
            <a:xfrm>
              <a:off x="3805200" y="156384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doc_03" descr=""/>
            <p:cNvPicPr/>
            <p:nvPr/>
          </p:nvPicPr>
          <p:blipFill>
            <a:blip r:embed="rId19"/>
            <a:stretch/>
          </p:blipFill>
          <p:spPr>
            <a:xfrm>
              <a:off x="3962520" y="433404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68" name="doc_04" descr=""/>
            <p:cNvPicPr/>
            <p:nvPr/>
          </p:nvPicPr>
          <p:blipFill>
            <a:blip r:embed="rId20"/>
            <a:stretch/>
          </p:blipFill>
          <p:spPr>
            <a:xfrm>
              <a:off x="3884760" y="2059200"/>
              <a:ext cx="2761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doc_05gif" descr=""/>
            <p:cNvPicPr/>
            <p:nvPr/>
          </p:nvPicPr>
          <p:blipFill>
            <a:blip r:embed="rId21"/>
            <a:stretch/>
          </p:blipFill>
          <p:spPr>
            <a:xfrm>
              <a:off x="4554720" y="4253040"/>
              <a:ext cx="3045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2"/>
            <a:stretch/>
          </p:blipFill>
          <p:spPr>
            <a:xfrm>
              <a:off x="4476960" y="3691080"/>
              <a:ext cx="411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3"/>
            <a:stretch/>
          </p:blipFill>
          <p:spPr>
            <a:xfrm>
              <a:off x="4302360" y="1603440"/>
              <a:ext cx="3315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doc_01" descr=""/>
            <p:cNvPicPr/>
            <p:nvPr/>
          </p:nvPicPr>
          <p:blipFill>
            <a:blip r:embed="rId24"/>
            <a:stretch/>
          </p:blipFill>
          <p:spPr>
            <a:xfrm>
              <a:off x="4753080" y="221796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5"/>
            <a:stretch/>
          </p:blipFill>
          <p:spPr>
            <a:xfrm>
              <a:off x="4791240" y="481176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6"/>
            <a:stretch/>
          </p:blipFill>
          <p:spPr>
            <a:xfrm>
              <a:off x="4278600" y="2217960"/>
              <a:ext cx="3333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7"/>
            <a:stretch/>
          </p:blipFill>
          <p:spPr>
            <a:xfrm>
              <a:off x="4791240" y="166068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 txBox="1"/>
          <p:nvPr/>
        </p:nvSpPr>
        <p:spPr>
          <a:xfrm>
            <a:off x="2620800" y="1341360"/>
            <a:ext cx="238320" cy="1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55920" y="2457360"/>
            <a:ext cx="947160" cy="396720"/>
            <a:chOff x="1555920" y="2457360"/>
            <a:chExt cx="947160" cy="396720"/>
          </a:xfrm>
        </p:grpSpPr>
        <p:sp>
          <p:nvSpPr>
            <p:cNvPr id="278" name=""/>
            <p:cNvSpPr/>
            <p:nvPr/>
          </p:nvSpPr>
          <p:spPr>
            <a:xfrm>
              <a:off x="1555920" y="256212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871280" y="245736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F19A-18A3-4335-873F-849383C1E66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Soumission d'une annot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336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3280" indent="-413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Détecter la contribution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856080" indent="-265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'une annotation: type de concepts / relations utilisé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56080" indent="-2656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'une base: statistiques sur les annotati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6" name=""/>
          <p:cNvGrpSpPr/>
          <p:nvPr/>
        </p:nvGrpSpPr>
        <p:grpSpPr>
          <a:xfrm>
            <a:off x="762120" y="4896000"/>
            <a:ext cx="8076960" cy="1523880"/>
            <a:chOff x="762120" y="4896000"/>
            <a:chExt cx="8076960" cy="1523880"/>
          </a:xfrm>
        </p:grpSpPr>
        <p:sp>
          <p:nvSpPr>
            <p:cNvPr id="2987" name=""/>
            <p:cNvSpPr/>
            <p:nvPr/>
          </p:nvSpPr>
          <p:spPr>
            <a:xfrm>
              <a:off x="762120" y="4896000"/>
              <a:ext cx="807696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590560" y="535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781680" y="5353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38080" y="497196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952880" y="4971960"/>
              <a:ext cx="38095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52880" y="596268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38080" y="5962680"/>
              <a:ext cx="38095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133360" y="542916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24480" y="542916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211480" y="49719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287080" y="5443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218960" y="59770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402600" y="49719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7040" y="5429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251040" y="597708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762120" y="1905120"/>
            <a:ext cx="8229600" cy="2837160"/>
            <a:chOff x="762120" y="1905120"/>
            <a:chExt cx="8229600" cy="2837160"/>
          </a:xfrm>
        </p:grpSpPr>
        <p:sp>
          <p:nvSpPr>
            <p:cNvPr id="3003" name=""/>
            <p:cNvSpPr/>
            <p:nvPr/>
          </p:nvSpPr>
          <p:spPr>
            <a:xfrm>
              <a:off x="762120" y="1911240"/>
              <a:ext cx="8077320" cy="28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62120" y="1905120"/>
              <a:ext cx="8229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rdf:RDF xmlns:rdf="http://www.w3.org/1999/02/22-rdf-syntax-ns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xmlns:rdfs="http://www.w3.org/TR/1999/PR-rdf-schema-19990303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xmlns:CoMMA="http://www.inria.fr/acacia/comma#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sz="1800" spc="-1" strike="noStrike">
                  <a:solidFill>
                    <a:srgbClr val="3333cc"/>
                  </a:solidFill>
                  <a:latin typeface="Arial"/>
                </a:rPr>
                <a:t>http://intranet/reports/R3029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sz="1800" spc="-1" strike="noStrike">
                  <a:solidFill>
                    <a:srgbClr val="3333cc"/>
                  </a:solidFill>
                  <a:latin typeface="Arial"/>
                </a:rPr>
                <a:t>http://www.mycorp.com/~fab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 /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rdf:RDF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D941-B3E2-4642-8522-D4FBA810A98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5" name=""/>
          <p:cNvGrpSpPr/>
          <p:nvPr/>
        </p:nvGrpSpPr>
        <p:grpSpPr>
          <a:xfrm>
            <a:off x="570240" y="1932120"/>
            <a:ext cx="8116560" cy="4724280"/>
            <a:chOff x="570240" y="1932120"/>
            <a:chExt cx="8116560" cy="4724280"/>
          </a:xfrm>
        </p:grpSpPr>
        <p:sp>
          <p:nvSpPr>
            <p:cNvPr id="3006" name=""/>
            <p:cNvSpPr/>
            <p:nvPr/>
          </p:nvSpPr>
          <p:spPr>
            <a:xfrm>
              <a:off x="609480" y="1932120"/>
              <a:ext cx="807732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7" name="" descr=""/>
            <p:cNvPicPr/>
            <p:nvPr/>
          </p:nvPicPr>
          <p:blipFill>
            <a:blip r:embed="rId1"/>
            <a:stretch/>
          </p:blipFill>
          <p:spPr>
            <a:xfrm>
              <a:off x="685800" y="6046560"/>
              <a:ext cx="52848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"/>
            <p:cNvSpPr/>
            <p:nvPr/>
          </p:nvSpPr>
          <p:spPr>
            <a:xfrm>
              <a:off x="570240" y="574200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168200" y="60973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ABI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Soumission d'une annot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11" name=""/>
          <p:cNvGrpSpPr/>
          <p:nvPr/>
        </p:nvGrpSpPr>
        <p:grpSpPr>
          <a:xfrm>
            <a:off x="2054160" y="2084400"/>
            <a:ext cx="3127320" cy="1906560"/>
            <a:chOff x="2054160" y="2084400"/>
            <a:chExt cx="3127320" cy="1906560"/>
          </a:xfrm>
        </p:grpSpPr>
        <p:sp>
          <p:nvSpPr>
            <p:cNvPr id="3012" name=""/>
            <p:cNvSpPr/>
            <p:nvPr/>
          </p:nvSpPr>
          <p:spPr>
            <a:xfrm>
              <a:off x="3581280" y="24652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057400" y="20844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54160" y="3074760"/>
              <a:ext cx="31240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124080" y="25416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202560" y="20844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278160" y="2555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058480" y="308916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Négociation C-Net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057400" y="360828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59920" y="3622680"/>
              <a:ext cx="23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Xerces V3.4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398760" y="32274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160520" y="2465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549000" y="304920"/>
            <a:ext cx="8137800" cy="1550520"/>
            <a:chOff x="549000" y="304920"/>
            <a:chExt cx="8137800" cy="1550520"/>
          </a:xfrm>
        </p:grpSpPr>
        <p:sp>
          <p:nvSpPr>
            <p:cNvPr id="3024" name=""/>
            <p:cNvSpPr/>
            <p:nvPr/>
          </p:nvSpPr>
          <p:spPr>
            <a:xfrm>
              <a:off x="609480" y="33156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581280" y="788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858000" y="788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057400" y="407880"/>
              <a:ext cx="3124080" cy="380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333760" y="407880"/>
              <a:ext cx="3276720" cy="380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333760" y="1398600"/>
              <a:ext cx="3276720" cy="380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054160" y="1398600"/>
              <a:ext cx="3124080" cy="380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124080" y="865080"/>
              <a:ext cx="914400" cy="380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400800" y="865080"/>
              <a:ext cx="914400" cy="380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202560" y="407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278160" y="879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056680" y="1412640"/>
              <a:ext cx="31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478920" y="407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453720" y="865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327360" y="141264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9" name="" descr=""/>
            <p:cNvPicPr/>
            <p:nvPr/>
          </p:nvPicPr>
          <p:blipFill>
            <a:blip r:embed="rId2"/>
            <a:stretch/>
          </p:blipFill>
          <p:spPr>
            <a:xfrm>
              <a:off x="622080" y="560160"/>
              <a:ext cx="8384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0" name=""/>
            <p:cNvSpPr/>
            <p:nvPr/>
          </p:nvSpPr>
          <p:spPr>
            <a:xfrm>
              <a:off x="549000" y="30492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5334120" y="2084400"/>
            <a:ext cx="3276360" cy="1373040"/>
            <a:chOff x="5334120" y="2084400"/>
            <a:chExt cx="3276360" cy="1373040"/>
          </a:xfrm>
        </p:grpSpPr>
        <p:sp>
          <p:nvSpPr>
            <p:cNvPr id="3042" name=""/>
            <p:cNvSpPr/>
            <p:nvPr/>
          </p:nvSpPr>
          <p:spPr>
            <a:xfrm>
              <a:off x="6858000" y="24652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334120" y="208440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334120" y="307476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400800" y="2541600"/>
              <a:ext cx="91404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478920" y="20844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453360" y="25416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327360" y="30891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392600" y="2465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62120" y="1170000"/>
            <a:ext cx="609480" cy="4572000"/>
            <a:chOff x="762120" y="1170000"/>
            <a:chExt cx="609480" cy="4572000"/>
          </a:xfrm>
        </p:grpSpPr>
        <p:sp>
          <p:nvSpPr>
            <p:cNvPr id="3051" name=""/>
            <p:cNvSpPr/>
            <p:nvPr/>
          </p:nvSpPr>
          <p:spPr>
            <a:xfrm>
              <a:off x="762120" y="1170000"/>
              <a:ext cx="609480" cy="4572000"/>
            </a:xfrm>
            <a:prstGeom prst="upDownArrow">
              <a:avLst>
                <a:gd name="adj1" fmla="val 58333"/>
                <a:gd name="adj2" fmla="val 58102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rot="16200000">
              <a:off x="-466200" y="3316320"/>
              <a:ext cx="30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990000"/>
                  </a:solidFill>
                  <a:latin typeface="Times New Roman"/>
                </a:rPr>
                <a:t>Proximité sémantique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1905120" y="2008080"/>
            <a:ext cx="6705000" cy="4497480"/>
            <a:chOff x="1905120" y="2008080"/>
            <a:chExt cx="6705000" cy="4497480"/>
          </a:xfrm>
        </p:grpSpPr>
        <p:sp>
          <p:nvSpPr>
            <p:cNvPr id="3054" name=""/>
            <p:cNvSpPr/>
            <p:nvPr/>
          </p:nvSpPr>
          <p:spPr>
            <a:xfrm>
              <a:off x="6858000" y="39891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333760" y="360828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333760" y="459900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400800" y="4065480"/>
              <a:ext cx="91404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478920" y="36082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53360" y="4065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326640" y="461304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392600" y="398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858000" y="55134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333760" y="5132160"/>
              <a:ext cx="327636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333760" y="612288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00800" y="5589360"/>
              <a:ext cx="91404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78920" y="513216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Liv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53360" y="55893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327360" y="613728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392600" y="5513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581280" y="49798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057400" y="4599000"/>
              <a:ext cx="3123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054160" y="5589360"/>
              <a:ext cx="3123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124080" y="5056200"/>
              <a:ext cx="91404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202560" y="45990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Liv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277800" y="5070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057040" y="5603760"/>
              <a:ext cx="29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Access en 2 jour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057400" y="6122880"/>
              <a:ext cx="3123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059560" y="6137280"/>
              <a:ext cx="27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Francs et Euro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398400" y="5742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160520" y="49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905120" y="429408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257800" y="2008080"/>
              <a:ext cx="0" cy="4495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257800" y="3531960"/>
              <a:ext cx="3352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257800" y="5056200"/>
              <a:ext cx="3352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207040" y="4255920"/>
              <a:ext cx="7560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207040" y="3494160"/>
              <a:ext cx="7560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207040" y="5018040"/>
              <a:ext cx="7560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5F84-E430-4A2E-BE78-E4D29E4BD38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Soumission d'une annot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89" name=""/>
          <p:cNvGrpSpPr/>
          <p:nvPr/>
        </p:nvGrpSpPr>
        <p:grpSpPr>
          <a:xfrm>
            <a:off x="685800" y="533520"/>
            <a:ext cx="8077320" cy="2286000"/>
            <a:chOff x="685800" y="533520"/>
            <a:chExt cx="8077320" cy="2286000"/>
          </a:xfrm>
        </p:grpSpPr>
        <p:sp>
          <p:nvSpPr>
            <p:cNvPr id="3090" name=""/>
            <p:cNvSpPr/>
            <p:nvPr/>
          </p:nvSpPr>
          <p:spPr>
            <a:xfrm>
              <a:off x="685800" y="533520"/>
              <a:ext cx="80773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1" name="" descr=""/>
            <p:cNvPicPr/>
            <p:nvPr/>
          </p:nvPicPr>
          <p:blipFill>
            <a:blip r:embed="rId1"/>
            <a:stretch/>
          </p:blipFill>
          <p:spPr>
            <a:xfrm>
              <a:off x="698400" y="1066680"/>
              <a:ext cx="83844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2" name=""/>
            <p:cNvSpPr/>
            <p:nvPr/>
          </p:nvSpPr>
          <p:spPr>
            <a:xfrm>
              <a:off x="2514600" y="1066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990720" y="6858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987480" y="16765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057400" y="11430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35880" y="6858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211480" y="11574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90000" y="1690560"/>
              <a:ext cx="31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861240" y="1066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337000" y="685800"/>
              <a:ext cx="31244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334120" y="16765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404040" y="11430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482520" y="6858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558120" y="11574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338440" y="169056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Négociation C-Net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37000" y="2209680"/>
              <a:ext cx="312444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339880" y="2224080"/>
              <a:ext cx="23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Xerces V3.4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7872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9" name="" descr=""/>
            <p:cNvPicPr/>
            <p:nvPr/>
          </p:nvPicPr>
          <p:blipFill>
            <a:blip r:embed="rId2"/>
            <a:stretch/>
          </p:blipFill>
          <p:spPr>
            <a:xfrm>
              <a:off x="8207280" y="110484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0" name=""/>
            <p:cNvSpPr/>
            <p:nvPr/>
          </p:nvSpPr>
          <p:spPr>
            <a:xfrm>
              <a:off x="4800600" y="16765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876920" y="21477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572000" y="60948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305240" y="18288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4" name=""/>
          <p:cNvGrpSpPr/>
          <p:nvPr/>
        </p:nvGrpSpPr>
        <p:grpSpPr>
          <a:xfrm>
            <a:off x="685800" y="2743200"/>
            <a:ext cx="8077320" cy="1828800"/>
            <a:chOff x="685800" y="2743200"/>
            <a:chExt cx="8077320" cy="1828800"/>
          </a:xfrm>
        </p:grpSpPr>
        <p:sp>
          <p:nvSpPr>
            <p:cNvPr id="3115" name=""/>
            <p:cNvSpPr/>
            <p:nvPr/>
          </p:nvSpPr>
          <p:spPr>
            <a:xfrm>
              <a:off x="685800" y="2781360"/>
              <a:ext cx="8077320" cy="179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6" name=""/>
                <p:cNvSpPr txBox="1"/>
                <p:nvPr/>
              </p:nvSpPr>
              <p:spPr>
                <a:xfrm>
                  <a:off x="1022400" y="3139920"/>
                  <a:ext cx="716760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scissa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s</m:t>
                          </m:r>
                        </m:sub>
                        <m:sup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,i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</m:sub>
                              </m:sSub>
                            </m:den>
                          </m:f>
                        </m:e>
                      </m:nary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[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 ;   Lit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,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17" name=""/>
            <p:cNvSpPr/>
            <p:nvPr/>
          </p:nvSpPr>
          <p:spPr>
            <a:xfrm>
              <a:off x="1029240" y="3962160"/>
              <a:ext cx="650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= |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- Abscissa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37280" y="2743200"/>
              <a:ext cx="80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istance lexicographique classique: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fr-FR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 pseudo-sémant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685800" y="4495680"/>
            <a:ext cx="8109000" cy="2150640"/>
            <a:chOff x="685800" y="4495680"/>
            <a:chExt cx="8109000" cy="2150640"/>
          </a:xfrm>
        </p:grpSpPr>
        <p:sp>
          <p:nvSpPr>
            <p:cNvPr id="3120" name=""/>
            <p:cNvSpPr/>
            <p:nvPr/>
          </p:nvSpPr>
          <p:spPr>
            <a:xfrm>
              <a:off x="685800" y="4571640"/>
              <a:ext cx="8077320" cy="20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149480" y="4952880"/>
              <a:ext cx="702936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[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then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=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sz="2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, 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(Li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 B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38000" y="4495680"/>
              <a:ext cx="80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istance à un intervalle de littéraux: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(</a:t>
              </a:r>
              <a:r>
                <a:rPr b="0" lang="fr-FR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</a:t>
              </a: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 pseudo distan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406F-C16F-4677-BA2C-E01612E8FB5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Soumission d'une annot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4" name=""/>
          <p:cNvGrpSpPr/>
          <p:nvPr/>
        </p:nvGrpSpPr>
        <p:grpSpPr>
          <a:xfrm>
            <a:off x="609480" y="380880"/>
            <a:ext cx="8077320" cy="1447920"/>
            <a:chOff x="609480" y="380880"/>
            <a:chExt cx="8077320" cy="1447920"/>
          </a:xfrm>
        </p:grpSpPr>
        <p:sp>
          <p:nvSpPr>
            <p:cNvPr id="3125" name=""/>
            <p:cNvSpPr/>
            <p:nvPr/>
          </p:nvSpPr>
          <p:spPr>
            <a:xfrm>
              <a:off x="609480" y="380880"/>
              <a:ext cx="807732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6" name="" descr=""/>
            <p:cNvPicPr/>
            <p:nvPr/>
          </p:nvPicPr>
          <p:blipFill>
            <a:blip r:embed="rId1"/>
            <a:stretch/>
          </p:blipFill>
          <p:spPr>
            <a:xfrm>
              <a:off x="622080" y="863280"/>
              <a:ext cx="838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7" name="" descr=""/>
            <p:cNvPicPr/>
            <p:nvPr/>
          </p:nvPicPr>
          <p:blipFill>
            <a:blip r:embed="rId2"/>
            <a:stretch/>
          </p:blipFill>
          <p:spPr>
            <a:xfrm>
              <a:off x="8130960" y="897840"/>
              <a:ext cx="52884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8" name=""/>
            <p:cNvSpPr/>
            <p:nvPr/>
          </p:nvSpPr>
          <p:spPr>
            <a:xfrm>
              <a:off x="4698720" y="449280"/>
              <a:ext cx="0" cy="1310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438280" y="863280"/>
              <a:ext cx="0" cy="5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914400" y="518400"/>
              <a:ext cx="3276360" cy="34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914400" y="1414800"/>
              <a:ext cx="3276360" cy="34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981080" y="932040"/>
              <a:ext cx="914400" cy="344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059560" y="5184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034000" y="9320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907640" y="14277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705360" y="863280"/>
              <a:ext cx="0" cy="5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181480" y="518400"/>
              <a:ext cx="3276720" cy="34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181480" y="1414800"/>
              <a:ext cx="3276720" cy="34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19560" y="932040"/>
              <a:ext cx="1371600" cy="344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327000" y="5184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114960" y="93204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Co-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174360" y="1427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200400" y="1139040"/>
              <a:ext cx="2666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419360" y="155268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419360" y="65628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6" name=""/>
          <p:cNvGrpSpPr/>
          <p:nvPr/>
        </p:nvGrpSpPr>
        <p:grpSpPr>
          <a:xfrm>
            <a:off x="609480" y="1778040"/>
            <a:ext cx="8077320" cy="2437920"/>
            <a:chOff x="609480" y="1778040"/>
            <a:chExt cx="8077320" cy="2437920"/>
          </a:xfrm>
        </p:grpSpPr>
        <p:sp>
          <p:nvSpPr>
            <p:cNvPr id="3147" name=""/>
            <p:cNvSpPr/>
            <p:nvPr/>
          </p:nvSpPr>
          <p:spPr>
            <a:xfrm>
              <a:off x="609480" y="1831680"/>
              <a:ext cx="8077320" cy="238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8" name=""/>
            <p:cNvGrpSpPr/>
            <p:nvPr/>
          </p:nvGrpSpPr>
          <p:grpSpPr>
            <a:xfrm>
              <a:off x="685800" y="1858680"/>
              <a:ext cx="1782720" cy="765000"/>
              <a:chOff x="685800" y="1858680"/>
              <a:chExt cx="1782720" cy="765000"/>
            </a:xfrm>
          </p:grpSpPr>
          <p:sp>
            <p:nvSpPr>
              <p:cNvPr id="3149" name=""/>
              <p:cNvSpPr/>
              <p:nvPr/>
            </p:nvSpPr>
            <p:spPr>
              <a:xfrm flipV="1">
                <a:off x="1969200" y="2220120"/>
                <a:ext cx="14256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 flipV="1">
                <a:off x="2111760" y="2220120"/>
                <a:ext cx="28512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H="1" flipV="1">
                <a:off x="1755360" y="1883520"/>
                <a:ext cx="42768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V="1">
                <a:off x="1184760" y="2220120"/>
                <a:ext cx="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1612800" y="2262240"/>
                <a:ext cx="49896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792720" y="2220120"/>
                <a:ext cx="427680" cy="3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1220760" y="1925280"/>
                <a:ext cx="49896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6" name=""/>
              <p:cNvGrpSpPr/>
              <p:nvPr/>
            </p:nvGrpSpPr>
            <p:grpSpPr>
              <a:xfrm>
                <a:off x="1077840" y="2153160"/>
                <a:ext cx="249480" cy="151200"/>
                <a:chOff x="1077840" y="2153160"/>
                <a:chExt cx="249480" cy="151200"/>
              </a:xfrm>
            </p:grpSpPr>
            <p:sp>
              <p:nvSpPr>
                <p:cNvPr id="3157" name=""/>
                <p:cNvSpPr/>
                <p:nvPr/>
              </p:nvSpPr>
              <p:spPr>
                <a:xfrm>
                  <a:off x="1077840" y="216108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1139040" y="215316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9" name=""/>
              <p:cNvGrpSpPr/>
              <p:nvPr/>
            </p:nvGrpSpPr>
            <p:grpSpPr>
              <a:xfrm>
                <a:off x="1648440" y="1858680"/>
                <a:ext cx="249480" cy="151200"/>
                <a:chOff x="1648440" y="1858680"/>
                <a:chExt cx="249480" cy="151200"/>
              </a:xfrm>
            </p:grpSpPr>
            <p:sp>
              <p:nvSpPr>
                <p:cNvPr id="3160" name=""/>
                <p:cNvSpPr/>
                <p:nvPr/>
              </p:nvSpPr>
              <p:spPr>
                <a:xfrm>
                  <a:off x="1648440" y="18666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1709640" y="18586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2" name=""/>
              <p:cNvGrpSpPr/>
              <p:nvPr/>
            </p:nvGrpSpPr>
            <p:grpSpPr>
              <a:xfrm>
                <a:off x="2004840" y="2178000"/>
                <a:ext cx="249480" cy="150840"/>
                <a:chOff x="2004840" y="2178000"/>
                <a:chExt cx="249480" cy="150840"/>
              </a:xfrm>
            </p:grpSpPr>
            <p:sp>
              <p:nvSpPr>
                <p:cNvPr id="3163" name=""/>
                <p:cNvSpPr/>
                <p:nvPr/>
              </p:nvSpPr>
              <p:spPr>
                <a:xfrm>
                  <a:off x="2004840" y="2185920"/>
                  <a:ext cx="249480" cy="117000"/>
                </a:xfrm>
                <a:prstGeom prst="parallelogram">
                  <a:avLst>
                    <a:gd name="adj" fmla="val 5330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2066040" y="2178000"/>
                  <a:ext cx="18252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5" name=""/>
              <p:cNvGrpSpPr/>
              <p:nvPr/>
            </p:nvGrpSpPr>
            <p:grpSpPr>
              <a:xfrm>
                <a:off x="685800" y="2472480"/>
                <a:ext cx="249480" cy="151200"/>
                <a:chOff x="685800" y="2472480"/>
                <a:chExt cx="249480" cy="151200"/>
              </a:xfrm>
            </p:grpSpPr>
            <p:sp>
              <p:nvSpPr>
                <p:cNvPr id="3166" name=""/>
                <p:cNvSpPr/>
                <p:nvPr/>
              </p:nvSpPr>
              <p:spPr>
                <a:xfrm>
                  <a:off x="685800" y="2480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747000" y="2472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1042200" y="2472480"/>
                <a:ext cx="249480" cy="151200"/>
                <a:chOff x="1042200" y="2472480"/>
                <a:chExt cx="249480" cy="15120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1042200" y="2480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1103400" y="2472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1" name=""/>
              <p:cNvGrpSpPr/>
              <p:nvPr/>
            </p:nvGrpSpPr>
            <p:grpSpPr>
              <a:xfrm>
                <a:off x="1505880" y="2472480"/>
                <a:ext cx="249480" cy="151200"/>
                <a:chOff x="1505880" y="2472480"/>
                <a:chExt cx="249480" cy="151200"/>
              </a:xfrm>
            </p:grpSpPr>
            <p:sp>
              <p:nvSpPr>
                <p:cNvPr id="3172" name=""/>
                <p:cNvSpPr/>
                <p:nvPr/>
              </p:nvSpPr>
              <p:spPr>
                <a:xfrm>
                  <a:off x="1505880" y="2480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1567080" y="2472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4" name=""/>
              <p:cNvGrpSpPr/>
              <p:nvPr/>
            </p:nvGrpSpPr>
            <p:grpSpPr>
              <a:xfrm>
                <a:off x="1862280" y="2472480"/>
                <a:ext cx="249480" cy="151200"/>
                <a:chOff x="1862280" y="2472480"/>
                <a:chExt cx="249480" cy="151200"/>
              </a:xfrm>
            </p:grpSpPr>
            <p:sp>
              <p:nvSpPr>
                <p:cNvPr id="3175" name=""/>
                <p:cNvSpPr/>
                <p:nvPr/>
              </p:nvSpPr>
              <p:spPr>
                <a:xfrm>
                  <a:off x="1862280" y="2480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1923480" y="2472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7" name=""/>
              <p:cNvGrpSpPr/>
              <p:nvPr/>
            </p:nvGrpSpPr>
            <p:grpSpPr>
              <a:xfrm>
                <a:off x="2219040" y="2472480"/>
                <a:ext cx="249480" cy="151200"/>
                <a:chOff x="2219040" y="2472480"/>
                <a:chExt cx="249480" cy="151200"/>
              </a:xfrm>
            </p:grpSpPr>
            <p:sp>
              <p:nvSpPr>
                <p:cNvPr id="3178" name=""/>
                <p:cNvSpPr/>
                <p:nvPr/>
              </p:nvSpPr>
              <p:spPr>
                <a:xfrm>
                  <a:off x="2219040" y="2480400"/>
                  <a:ext cx="249480" cy="117360"/>
                </a:xfrm>
                <a:prstGeom prst="parallelogram">
                  <a:avLst>
                    <a:gd name="adj" fmla="val 53144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2280240" y="2472480"/>
                  <a:ext cx="18252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0" name=""/>
            <p:cNvGrpSpPr/>
            <p:nvPr/>
          </p:nvGrpSpPr>
          <p:grpSpPr>
            <a:xfrm>
              <a:off x="6149880" y="1858680"/>
              <a:ext cx="2307960" cy="866520"/>
              <a:chOff x="6149880" y="1858680"/>
              <a:chExt cx="2307960" cy="866520"/>
            </a:xfrm>
          </p:grpSpPr>
          <p:sp>
            <p:nvSpPr>
              <p:cNvPr id="3181" name=""/>
              <p:cNvSpPr/>
              <p:nvPr/>
            </p:nvSpPr>
            <p:spPr>
              <a:xfrm flipH="1">
                <a:off x="7182720" y="1942560"/>
                <a:ext cx="284760" cy="7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H="1">
                <a:off x="6469920" y="2279520"/>
                <a:ext cx="855000" cy="37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468200" y="194256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325280" y="2321280"/>
                <a:ext cx="676800" cy="33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5" name=""/>
              <p:cNvGrpSpPr/>
              <p:nvPr/>
            </p:nvGrpSpPr>
            <p:grpSpPr>
              <a:xfrm>
                <a:off x="7147440" y="1858680"/>
                <a:ext cx="633600" cy="151200"/>
                <a:chOff x="7147440" y="1858680"/>
                <a:chExt cx="633600" cy="151200"/>
              </a:xfrm>
            </p:grpSpPr>
            <p:grpSp>
              <p:nvGrpSpPr>
                <p:cNvPr id="3186" name=""/>
                <p:cNvGrpSpPr/>
                <p:nvPr/>
              </p:nvGrpSpPr>
              <p:grpSpPr>
                <a:xfrm>
                  <a:off x="7147440" y="1865880"/>
                  <a:ext cx="633600" cy="126000"/>
                  <a:chOff x="7147440" y="1865880"/>
                  <a:chExt cx="633600" cy="126000"/>
                </a:xfrm>
              </p:grpSpPr>
              <p:sp>
                <p:nvSpPr>
                  <p:cNvPr id="3187" name=""/>
                  <p:cNvSpPr/>
                  <p:nvPr/>
                </p:nvSpPr>
                <p:spPr>
                  <a:xfrm>
                    <a:off x="7223400" y="192996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7147440" y="18835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7337880" y="186588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7603200" y="188352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1" name=""/>
                <p:cNvSpPr/>
                <p:nvPr/>
              </p:nvSpPr>
              <p:spPr>
                <a:xfrm>
                  <a:off x="7409880" y="185868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7004880" y="2212200"/>
                <a:ext cx="633600" cy="151200"/>
                <a:chOff x="7004880" y="2212200"/>
                <a:chExt cx="633600" cy="151200"/>
              </a:xfrm>
            </p:grpSpPr>
            <p:grpSp>
              <p:nvGrpSpPr>
                <p:cNvPr id="3193" name=""/>
                <p:cNvGrpSpPr/>
                <p:nvPr/>
              </p:nvGrpSpPr>
              <p:grpSpPr>
                <a:xfrm>
                  <a:off x="7004880" y="2219400"/>
                  <a:ext cx="633600" cy="126000"/>
                  <a:chOff x="7004880" y="2219400"/>
                  <a:chExt cx="633600" cy="126000"/>
                </a:xfrm>
              </p:grpSpPr>
              <p:sp>
                <p:nvSpPr>
                  <p:cNvPr id="3194" name=""/>
                  <p:cNvSpPr/>
                  <p:nvPr/>
                </p:nvSpPr>
                <p:spPr>
                  <a:xfrm>
                    <a:off x="7080840" y="22834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>
                    <a:off x="7004880" y="22370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7195320" y="22194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7460640" y="22370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8" name=""/>
                <p:cNvSpPr/>
                <p:nvPr/>
              </p:nvSpPr>
              <p:spPr>
                <a:xfrm>
                  <a:off x="7267320" y="22122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6149880" y="2574000"/>
                <a:ext cx="633600" cy="151200"/>
                <a:chOff x="6149880" y="2574000"/>
                <a:chExt cx="633600" cy="151200"/>
              </a:xfrm>
            </p:grpSpPr>
            <p:grpSp>
              <p:nvGrpSpPr>
                <p:cNvPr id="3200" name=""/>
                <p:cNvGrpSpPr/>
                <p:nvPr/>
              </p:nvGrpSpPr>
              <p:grpSpPr>
                <a:xfrm>
                  <a:off x="6149880" y="2581200"/>
                  <a:ext cx="633600" cy="126000"/>
                  <a:chOff x="6149880" y="2581200"/>
                  <a:chExt cx="633600" cy="126000"/>
                </a:xfrm>
              </p:grpSpPr>
              <p:sp>
                <p:nvSpPr>
                  <p:cNvPr id="3201" name=""/>
                  <p:cNvSpPr/>
                  <p:nvPr/>
                </p:nvSpPr>
                <p:spPr>
                  <a:xfrm>
                    <a:off x="6225840" y="26452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614988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6340320" y="25812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660564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5" name=""/>
                <p:cNvSpPr/>
                <p:nvPr/>
              </p:nvSpPr>
              <p:spPr>
                <a:xfrm>
                  <a:off x="6412320" y="25740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6" name=""/>
              <p:cNvGrpSpPr/>
              <p:nvPr/>
            </p:nvGrpSpPr>
            <p:grpSpPr>
              <a:xfrm>
                <a:off x="6862320" y="2574000"/>
                <a:ext cx="633600" cy="151200"/>
                <a:chOff x="6862320" y="2574000"/>
                <a:chExt cx="633600" cy="151200"/>
              </a:xfrm>
            </p:grpSpPr>
            <p:grpSp>
              <p:nvGrpSpPr>
                <p:cNvPr id="3207" name=""/>
                <p:cNvGrpSpPr/>
                <p:nvPr/>
              </p:nvGrpSpPr>
              <p:grpSpPr>
                <a:xfrm>
                  <a:off x="6862320" y="2581200"/>
                  <a:ext cx="633600" cy="126000"/>
                  <a:chOff x="6862320" y="2581200"/>
                  <a:chExt cx="633600" cy="126000"/>
                </a:xfrm>
              </p:grpSpPr>
              <p:sp>
                <p:nvSpPr>
                  <p:cNvPr id="3208" name=""/>
                  <p:cNvSpPr/>
                  <p:nvPr/>
                </p:nvSpPr>
                <p:spPr>
                  <a:xfrm>
                    <a:off x="6938280" y="26452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86232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7052760" y="25812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731808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2" name=""/>
                <p:cNvSpPr/>
                <p:nvPr/>
              </p:nvSpPr>
              <p:spPr>
                <a:xfrm>
                  <a:off x="7124760" y="25740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3" name=""/>
              <p:cNvGrpSpPr/>
              <p:nvPr/>
            </p:nvGrpSpPr>
            <p:grpSpPr>
              <a:xfrm>
                <a:off x="7582320" y="2574000"/>
                <a:ext cx="633600" cy="151200"/>
                <a:chOff x="7582320" y="2574000"/>
                <a:chExt cx="633600" cy="151200"/>
              </a:xfrm>
            </p:grpSpPr>
            <p:grpSp>
              <p:nvGrpSpPr>
                <p:cNvPr id="3214" name=""/>
                <p:cNvGrpSpPr/>
                <p:nvPr/>
              </p:nvGrpSpPr>
              <p:grpSpPr>
                <a:xfrm>
                  <a:off x="7582320" y="2581200"/>
                  <a:ext cx="633600" cy="126000"/>
                  <a:chOff x="7582320" y="2581200"/>
                  <a:chExt cx="633600" cy="126000"/>
                </a:xfrm>
              </p:grpSpPr>
              <p:sp>
                <p:nvSpPr>
                  <p:cNvPr id="3215" name=""/>
                  <p:cNvSpPr/>
                  <p:nvPr/>
                </p:nvSpPr>
                <p:spPr>
                  <a:xfrm>
                    <a:off x="7658280" y="26452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758232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7772760" y="25812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8038080" y="25988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9" name=""/>
                <p:cNvSpPr/>
                <p:nvPr/>
              </p:nvSpPr>
              <p:spPr>
                <a:xfrm>
                  <a:off x="7844760" y="25740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0" name=""/>
              <p:cNvGrpSpPr/>
              <p:nvPr/>
            </p:nvGrpSpPr>
            <p:grpSpPr>
              <a:xfrm>
                <a:off x="7824240" y="2206800"/>
                <a:ext cx="633600" cy="151200"/>
                <a:chOff x="7824240" y="2206800"/>
                <a:chExt cx="633600" cy="151200"/>
              </a:xfrm>
            </p:grpSpPr>
            <p:grpSp>
              <p:nvGrpSpPr>
                <p:cNvPr id="3221" name=""/>
                <p:cNvGrpSpPr/>
                <p:nvPr/>
              </p:nvGrpSpPr>
              <p:grpSpPr>
                <a:xfrm>
                  <a:off x="7824240" y="2214000"/>
                  <a:ext cx="633600" cy="126000"/>
                  <a:chOff x="7824240" y="2214000"/>
                  <a:chExt cx="633600" cy="126000"/>
                </a:xfrm>
              </p:grpSpPr>
              <p:sp>
                <p:nvSpPr>
                  <p:cNvPr id="3222" name=""/>
                  <p:cNvSpPr/>
                  <p:nvPr/>
                </p:nvSpPr>
                <p:spPr>
                  <a:xfrm>
                    <a:off x="7900200" y="227808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7824240" y="2231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8014680" y="2214000"/>
                    <a:ext cx="249120" cy="12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8280000" y="2231640"/>
                    <a:ext cx="177840" cy="83880"/>
                  </a:xfrm>
                  <a:prstGeom prst="parallelogram">
                    <a:avLst>
                      <a:gd name="adj" fmla="val 53004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6" name=""/>
                <p:cNvSpPr/>
                <p:nvPr/>
              </p:nvSpPr>
              <p:spPr>
                <a:xfrm>
                  <a:off x="8086680" y="2206800"/>
                  <a:ext cx="172440" cy="15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en-US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7" name=""/>
            <p:cNvSpPr/>
            <p:nvPr/>
          </p:nvSpPr>
          <p:spPr>
            <a:xfrm>
              <a:off x="2057400" y="17780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cep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334120" y="177804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9" name=""/>
          <p:cNvSpPr/>
          <p:nvPr/>
        </p:nvSpPr>
        <p:spPr>
          <a:xfrm>
            <a:off x="605160" y="2590920"/>
            <a:ext cx="802080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tance chemin 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 plus petit super-type comm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SPath(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+SPath(Typ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ath(,): nombre d'arcs (liens de généralis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plus petit super-type commun = </a:t>
            </a: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caractéristiques partag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0" name=""/>
          <p:cNvGrpSpPr/>
          <p:nvPr/>
        </p:nvGrpSpPr>
        <p:grpSpPr>
          <a:xfrm>
            <a:off x="609480" y="4216320"/>
            <a:ext cx="8229600" cy="470160"/>
            <a:chOff x="609480" y="4216320"/>
            <a:chExt cx="8229600" cy="470160"/>
          </a:xfrm>
        </p:grpSpPr>
        <p:sp>
          <p:nvSpPr>
            <p:cNvPr id="3231" name=""/>
            <p:cNvSpPr/>
            <p:nvPr/>
          </p:nvSpPr>
          <p:spPr>
            <a:xfrm>
              <a:off x="609480" y="4216320"/>
              <a:ext cx="8077320" cy="47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09480" y="4216320"/>
              <a:ext cx="82296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T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Li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(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609480" y="4660920"/>
            <a:ext cx="8229600" cy="2124360"/>
            <a:chOff x="609480" y="4660920"/>
            <a:chExt cx="8229600" cy="2124360"/>
          </a:xfrm>
        </p:grpSpPr>
        <p:sp>
          <p:nvSpPr>
            <p:cNvPr id="3234" name=""/>
            <p:cNvSpPr/>
            <p:nvPr/>
          </p:nvSpPr>
          <p:spPr>
            <a:xfrm>
              <a:off x="609480" y="4660920"/>
              <a:ext cx="8077320" cy="194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09480" y="4660920"/>
              <a:ext cx="822960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riplet-triplet: somme conditionnelle normalisée et pondéré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 TFAB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Tripl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= 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+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      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Typ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Type,L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r W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 N * Dist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Lit, [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ow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B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)         N=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*2/Max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6" name=""/>
          <p:cNvGrpSpPr/>
          <p:nvPr/>
        </p:nvGrpSpPr>
        <p:grpSpPr>
          <a:xfrm>
            <a:off x="2913120" y="4013280"/>
            <a:ext cx="5835600" cy="2590200"/>
            <a:chOff x="2913120" y="4013280"/>
            <a:chExt cx="5835600" cy="2590200"/>
          </a:xfrm>
        </p:grpSpPr>
        <p:sp>
          <p:nvSpPr>
            <p:cNvPr id="3237" name=""/>
            <p:cNvSpPr/>
            <p:nvPr/>
          </p:nvSpPr>
          <p:spPr>
            <a:xfrm>
              <a:off x="2913120" y="408924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510800" y="424152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3978720" y="507996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272560" y="50799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064040" y="591804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995920" y="591804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3" name=""/>
            <p:cNvCxnSpPr>
              <a:stCxn id="3238" idx="2"/>
              <a:endCxn id="3239" idx="0"/>
            </p:cNvCxnSpPr>
            <p:nvPr/>
          </p:nvCxnSpPr>
          <p:spPr>
            <a:xfrm flipH="1">
              <a:off x="4255560" y="471168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3244" name=""/>
            <p:cNvCxnSpPr>
              <a:stCxn id="3238" idx="2"/>
              <a:endCxn id="3240" idx="0"/>
            </p:cNvCxnSpPr>
            <p:nvPr/>
          </p:nvCxnSpPr>
          <p:spPr>
            <a:xfrm>
              <a:off x="5043240" y="471168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3245" name=""/>
            <p:cNvCxnSpPr>
              <a:stCxn id="3239" idx="2"/>
              <a:endCxn id="3242" idx="0"/>
            </p:cNvCxnSpPr>
            <p:nvPr/>
          </p:nvCxnSpPr>
          <p:spPr>
            <a:xfrm flipH="1">
              <a:off x="3450240" y="554976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3246" name=""/>
            <p:cNvCxnSpPr>
              <a:stCxn id="3239" idx="2"/>
              <a:endCxn id="3241" idx="0"/>
            </p:cNvCxnSpPr>
            <p:nvPr/>
          </p:nvCxnSpPr>
          <p:spPr>
            <a:xfrm>
              <a:off x="4255920" y="554976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47" name=""/>
            <p:cNvSpPr/>
            <p:nvPr/>
          </p:nvSpPr>
          <p:spPr>
            <a:xfrm>
              <a:off x="4159080" y="4140000"/>
              <a:ext cx="37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cc33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810920" y="40132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Exe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613120" y="464472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268240" y="591804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1" name=""/>
            <p:cNvCxnSpPr>
              <a:stCxn id="3240" idx="2"/>
              <a:endCxn id="3250" idx="0"/>
            </p:cNvCxnSpPr>
            <p:nvPr/>
          </p:nvCxnSpPr>
          <p:spPr>
            <a:xfrm>
              <a:off x="5805360" y="554976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252" name=""/>
          <p:cNvGrpSpPr/>
          <p:nvPr/>
        </p:nvGrpSpPr>
        <p:grpSpPr>
          <a:xfrm>
            <a:off x="2919960" y="4025880"/>
            <a:ext cx="5840280" cy="2590560"/>
            <a:chOff x="2919960" y="4025880"/>
            <a:chExt cx="5840280" cy="2590560"/>
          </a:xfrm>
        </p:grpSpPr>
        <p:sp>
          <p:nvSpPr>
            <p:cNvPr id="3253" name=""/>
            <p:cNvSpPr/>
            <p:nvPr/>
          </p:nvSpPr>
          <p:spPr>
            <a:xfrm>
              <a:off x="2925720" y="410184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720840" y="4394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6188760" y="523224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482600" y="523224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6274080" y="607032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205960" y="607032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59" name=""/>
            <p:cNvCxnSpPr>
              <a:stCxn id="3254" idx="2"/>
              <a:endCxn id="3255" idx="0"/>
            </p:cNvCxnSpPr>
            <p:nvPr/>
          </p:nvCxnSpPr>
          <p:spPr>
            <a:xfrm flipH="1">
              <a:off x="6465240" y="486360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60" name=""/>
            <p:cNvCxnSpPr>
              <a:stCxn id="3254" idx="2"/>
              <a:endCxn id="3256" idx="0"/>
            </p:cNvCxnSpPr>
            <p:nvPr/>
          </p:nvCxnSpPr>
          <p:spPr>
            <a:xfrm>
              <a:off x="7253280" y="486360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61" name=""/>
            <p:cNvCxnSpPr>
              <a:stCxn id="3255" idx="2"/>
              <a:endCxn id="3258" idx="0"/>
            </p:cNvCxnSpPr>
            <p:nvPr/>
          </p:nvCxnSpPr>
          <p:spPr>
            <a:xfrm flipH="1">
              <a:off x="5660280" y="570168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3262" name=""/>
            <p:cNvCxnSpPr>
              <a:stCxn id="3255" idx="2"/>
              <a:endCxn id="3257" idx="0"/>
            </p:cNvCxnSpPr>
            <p:nvPr/>
          </p:nvCxnSpPr>
          <p:spPr>
            <a:xfrm>
              <a:off x="6465240" y="570168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3" name=""/>
            <p:cNvSpPr/>
            <p:nvPr/>
          </p:nvSpPr>
          <p:spPr>
            <a:xfrm>
              <a:off x="5884920" y="5124240"/>
              <a:ext cx="37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cc33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23520" y="402588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Exe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919960" y="554976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478280" y="607032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7" name=""/>
            <p:cNvCxnSpPr>
              <a:stCxn id="3256" idx="2"/>
              <a:endCxn id="3266" idx="0"/>
            </p:cNvCxnSpPr>
            <p:nvPr/>
          </p:nvCxnSpPr>
          <p:spPr>
            <a:xfrm>
              <a:off x="8014680" y="570168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D72D-8BA3-492F-BB41-F454C8C89C0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Soumission d'une annotation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3000" y="4419720"/>
            <a:ext cx="885204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9920" indent="-43992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ritère d'allocation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91152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rchiviste ayant la plus petite dista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152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assemble les annotations ayant des contributions sémantiquement proches (au sens de l'ontologie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152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pécialise / respecte la spécialisation des ba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911520" indent="-282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la spécialisation améliore la résolution des requê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0" name=""/>
          <p:cNvGrpSpPr/>
          <p:nvPr/>
        </p:nvGrpSpPr>
        <p:grpSpPr>
          <a:xfrm>
            <a:off x="491760" y="457200"/>
            <a:ext cx="8118720" cy="2438280"/>
            <a:chOff x="491760" y="457200"/>
            <a:chExt cx="8118720" cy="2438280"/>
          </a:xfrm>
        </p:grpSpPr>
        <p:sp>
          <p:nvSpPr>
            <p:cNvPr id="3271" name=""/>
            <p:cNvSpPr/>
            <p:nvPr/>
          </p:nvSpPr>
          <p:spPr>
            <a:xfrm>
              <a:off x="533160" y="457200"/>
              <a:ext cx="8077320" cy="24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2" name="" descr=""/>
            <p:cNvPicPr/>
            <p:nvPr/>
          </p:nvPicPr>
          <p:blipFill>
            <a:blip r:embed="rId1"/>
            <a:stretch/>
          </p:blipFill>
          <p:spPr>
            <a:xfrm>
              <a:off x="1885680" y="46980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3" name="" descr=""/>
            <p:cNvPicPr/>
            <p:nvPr/>
          </p:nvPicPr>
          <p:blipFill>
            <a:blip r:embed="rId2"/>
            <a:stretch/>
          </p:blipFill>
          <p:spPr>
            <a:xfrm>
              <a:off x="3396960" y="53316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4" name=""/>
            <p:cNvSpPr/>
            <p:nvPr/>
          </p:nvSpPr>
          <p:spPr>
            <a:xfrm>
              <a:off x="2787480" y="77472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893760" y="55872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91760" y="53316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7" name=""/>
          <p:cNvGrpSpPr/>
          <p:nvPr/>
        </p:nvGrpSpPr>
        <p:grpSpPr>
          <a:xfrm>
            <a:off x="609480" y="1219320"/>
            <a:ext cx="7924680" cy="837720"/>
            <a:chOff x="609480" y="1219320"/>
            <a:chExt cx="7924680" cy="837720"/>
          </a:xfrm>
        </p:grpSpPr>
        <p:sp>
          <p:nvSpPr>
            <p:cNvPr id="3278" name=""/>
            <p:cNvSpPr/>
            <p:nvPr/>
          </p:nvSpPr>
          <p:spPr>
            <a:xfrm>
              <a:off x="609480" y="1219320"/>
              <a:ext cx="79246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ABIS) = Min(Dis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TFABIS 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Tripl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200040" y="1549440"/>
              <a:ext cx="213372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Triple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A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0" name=""/>
              <p:cNvSpPr txBox="1"/>
              <p:nvPr/>
            </p:nvSpPr>
            <p:spPr>
              <a:xfrm>
                <a:off x="685800" y="2143080"/>
                <a:ext cx="6692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BI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ABI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BI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ABI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281" name=""/>
          <p:cNvGrpSpPr/>
          <p:nvPr/>
        </p:nvGrpSpPr>
        <p:grpSpPr>
          <a:xfrm>
            <a:off x="533520" y="2895480"/>
            <a:ext cx="8076960" cy="840600"/>
            <a:chOff x="533520" y="2895480"/>
            <a:chExt cx="8076960" cy="840600"/>
          </a:xfrm>
        </p:grpSpPr>
        <p:sp>
          <p:nvSpPr>
            <p:cNvPr id="3282" name=""/>
            <p:cNvSpPr/>
            <p:nvPr/>
          </p:nvSpPr>
          <p:spPr>
            <a:xfrm>
              <a:off x="533520" y="2895480"/>
              <a:ext cx="807696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3" name=""/>
            <p:cNvGrpSpPr/>
            <p:nvPr/>
          </p:nvGrpSpPr>
          <p:grpSpPr>
            <a:xfrm>
              <a:off x="711000" y="2895480"/>
              <a:ext cx="7779600" cy="840600"/>
              <a:chOff x="711000" y="2895480"/>
              <a:chExt cx="7779600" cy="840600"/>
            </a:xfrm>
          </p:grpSpPr>
          <mc:AlternateContent>
            <mc:Choice xmlns:a14="http://schemas.microsoft.com/office/drawing/2010/main" Requires="a14">
              <p:sp>
                <p:nvSpPr>
                  <p:cNvPr id="3284" name=""/>
                  <p:cNvSpPr txBox="1"/>
                  <p:nvPr/>
                </p:nvSpPr>
                <p:spPr>
                  <a:xfrm>
                    <a:off x="711000" y="2895480"/>
                    <a:ext cx="6527520" cy="762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A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CA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CA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ipl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CAP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85" name=""/>
              <p:cNvSpPr/>
              <p:nvPr/>
            </p:nvSpPr>
            <p:spPr>
              <a:xfrm>
                <a:off x="5562000" y="3276360"/>
                <a:ext cx="29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 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sub-type 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</a:t>
                </a: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 Dist =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6" name=""/>
          <p:cNvGrpSpPr/>
          <p:nvPr/>
        </p:nvGrpSpPr>
        <p:grpSpPr>
          <a:xfrm>
            <a:off x="533520" y="3733920"/>
            <a:ext cx="8076960" cy="533160"/>
            <a:chOff x="533520" y="3733920"/>
            <a:chExt cx="8076960" cy="533160"/>
          </a:xfrm>
        </p:grpSpPr>
        <p:sp>
          <p:nvSpPr>
            <p:cNvPr id="3287" name=""/>
            <p:cNvSpPr/>
            <p:nvPr/>
          </p:nvSpPr>
          <p:spPr>
            <a:xfrm>
              <a:off x="533520" y="3733920"/>
              <a:ext cx="807696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57440" y="3763800"/>
              <a:ext cx="73760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Dist(An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, AA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) = Dist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AABIS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, ABIS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) + Dist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ACAP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(An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, CAP</a:t>
              </a:r>
              <a:r>
                <a:rPr b="0" sz="2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30D5-FBD1-4BFB-B156-864C6540438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AA-AM pour résoudre une requêt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3360" y="457200"/>
            <a:ext cx="90680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Fragmentation et requêtes distribué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ésolution coopérative d'une requête (multi-query-re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1" name=""/>
          <p:cNvGrpSpPr/>
          <p:nvPr/>
        </p:nvGrpSpPr>
        <p:grpSpPr>
          <a:xfrm>
            <a:off x="762120" y="1308240"/>
            <a:ext cx="8229600" cy="4647960"/>
            <a:chOff x="762120" y="1308240"/>
            <a:chExt cx="8229600" cy="4647960"/>
          </a:xfrm>
        </p:grpSpPr>
        <p:sp>
          <p:nvSpPr>
            <p:cNvPr id="3292" name=""/>
            <p:cNvSpPr/>
            <p:nvPr/>
          </p:nvSpPr>
          <p:spPr>
            <a:xfrm>
              <a:off x="762120" y="1308240"/>
              <a:ext cx="8229600" cy="46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946680" y="2151000"/>
              <a:ext cx="112896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LocalAM: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788600" y="2151000"/>
              <a:ext cx="49536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*: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788600" y="4330800"/>
              <a:ext cx="495360" cy="34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*:A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172040" y="4330800"/>
              <a:ext cx="552600" cy="34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*:A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4454640" y="2494080"/>
              <a:ext cx="0" cy="18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8013960" y="2494080"/>
              <a:ext cx="0" cy="18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H="1">
              <a:off x="5075640" y="2322720"/>
              <a:ext cx="27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838080" y="1384200"/>
            <a:ext cx="8305920" cy="4496040"/>
            <a:chOff x="838080" y="1384200"/>
            <a:chExt cx="8305920" cy="4496040"/>
          </a:xfrm>
        </p:grpSpPr>
        <p:sp>
          <p:nvSpPr>
            <p:cNvPr id="3301" name=""/>
            <p:cNvSpPr/>
            <p:nvPr/>
          </p:nvSpPr>
          <p:spPr>
            <a:xfrm>
              <a:off x="6081480" y="2265480"/>
              <a:ext cx="62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589440" y="2208240"/>
              <a:ext cx="12564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753160" y="1979640"/>
              <a:ext cx="16380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1:query-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1063080" y="1576440"/>
              <a:ext cx="1978200" cy="458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838080" y="1383840"/>
              <a:ext cx="2938320" cy="803520"/>
            </a:xfrm>
            <a:prstGeom prst="foldedCorner">
              <a:avLst>
                <a:gd name="adj" fmla="val 900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95320" y="1462320"/>
              <a:ext cx="32763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RDF pattern / OBSIQ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3211200" y="2208240"/>
              <a:ext cx="1298520" cy="57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H="1" flipV="1">
              <a:off x="3776040" y="1576440"/>
              <a:ext cx="2243160" cy="442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 flipV="1">
              <a:off x="3776400" y="1576080"/>
              <a:ext cx="2167200" cy="82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753160" y="2379600"/>
              <a:ext cx="11300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4: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1" name=""/>
            <p:cNvGrpSpPr/>
            <p:nvPr/>
          </p:nvGrpSpPr>
          <p:grpSpPr>
            <a:xfrm>
              <a:off x="6092280" y="2379240"/>
              <a:ext cx="622440" cy="57240"/>
              <a:chOff x="6092280" y="2379240"/>
              <a:chExt cx="622440" cy="57240"/>
            </a:xfrm>
          </p:grpSpPr>
          <p:sp>
            <p:nvSpPr>
              <p:cNvPr id="3312" name=""/>
              <p:cNvSpPr/>
              <p:nvPr/>
            </p:nvSpPr>
            <p:spPr>
              <a:xfrm flipH="1">
                <a:off x="6092280" y="2379240"/>
                <a:ext cx="62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 flipV="1">
                <a:off x="6092640" y="2392560"/>
                <a:ext cx="124920" cy="4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4" name=""/>
            <p:cNvSpPr/>
            <p:nvPr/>
          </p:nvSpPr>
          <p:spPr>
            <a:xfrm>
              <a:off x="4454280" y="1462320"/>
              <a:ext cx="0" cy="68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5" name=""/>
            <p:cNvGrpSpPr/>
            <p:nvPr/>
          </p:nvGrpSpPr>
          <p:grpSpPr>
            <a:xfrm>
              <a:off x="4510080" y="2610360"/>
              <a:ext cx="56880" cy="642600"/>
              <a:chOff x="4510080" y="2610360"/>
              <a:chExt cx="56880" cy="642600"/>
            </a:xfrm>
          </p:grpSpPr>
          <p:sp>
            <p:nvSpPr>
              <p:cNvPr id="3316" name=""/>
              <p:cNvSpPr/>
              <p:nvPr/>
            </p:nvSpPr>
            <p:spPr>
              <a:xfrm flipV="1">
                <a:off x="4510080" y="2622240"/>
                <a:ext cx="0" cy="6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 flipH="1" flipV="1">
                <a:off x="4523040" y="2610360"/>
                <a:ext cx="439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8" name=""/>
            <p:cNvSpPr/>
            <p:nvPr/>
          </p:nvSpPr>
          <p:spPr>
            <a:xfrm>
              <a:off x="2816280" y="2817720"/>
              <a:ext cx="16380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2a:query-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9" name=""/>
            <p:cNvGrpSpPr/>
            <p:nvPr/>
          </p:nvGrpSpPr>
          <p:grpSpPr>
            <a:xfrm>
              <a:off x="4341600" y="2610000"/>
              <a:ext cx="55800" cy="630000"/>
              <a:chOff x="4341600" y="2610000"/>
              <a:chExt cx="55800" cy="630000"/>
            </a:xfrm>
          </p:grpSpPr>
          <p:sp>
            <p:nvSpPr>
              <p:cNvPr id="3320" name=""/>
              <p:cNvSpPr/>
              <p:nvPr/>
            </p:nvSpPr>
            <p:spPr>
              <a:xfrm>
                <a:off x="4397400" y="2610000"/>
                <a:ext cx="0" cy="63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341600" y="3113280"/>
                <a:ext cx="42840" cy="12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2" name=""/>
            <p:cNvSpPr/>
            <p:nvPr/>
          </p:nvSpPr>
          <p:spPr>
            <a:xfrm>
              <a:off x="4343400" y="2724120"/>
              <a:ext cx="1242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3a: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8070840" y="2553120"/>
              <a:ext cx="55440" cy="642600"/>
              <a:chOff x="8070840" y="2553120"/>
              <a:chExt cx="55440" cy="642600"/>
            </a:xfrm>
          </p:grpSpPr>
          <p:sp>
            <p:nvSpPr>
              <p:cNvPr id="3324" name=""/>
              <p:cNvSpPr/>
              <p:nvPr/>
            </p:nvSpPr>
            <p:spPr>
              <a:xfrm flipV="1">
                <a:off x="8070840" y="2565000"/>
                <a:ext cx="0" cy="6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 flipV="1">
                <a:off x="8083440" y="2553120"/>
                <a:ext cx="428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6" name=""/>
            <p:cNvSpPr/>
            <p:nvPr/>
          </p:nvSpPr>
          <p:spPr>
            <a:xfrm>
              <a:off x="6375240" y="2817720"/>
              <a:ext cx="16383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2b:query-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7900920" y="2552760"/>
              <a:ext cx="57240" cy="630360"/>
              <a:chOff x="7900920" y="2552760"/>
              <a:chExt cx="57240" cy="630360"/>
            </a:xfrm>
          </p:grpSpPr>
          <p:sp>
            <p:nvSpPr>
              <p:cNvPr id="3328" name=""/>
              <p:cNvSpPr/>
              <p:nvPr/>
            </p:nvSpPr>
            <p:spPr>
              <a:xfrm>
                <a:off x="7958160" y="2552760"/>
                <a:ext cx="0" cy="6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00920" y="3056400"/>
                <a:ext cx="439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0" name=""/>
            <p:cNvSpPr/>
            <p:nvPr/>
          </p:nvSpPr>
          <p:spPr>
            <a:xfrm>
              <a:off x="7958160" y="2724120"/>
              <a:ext cx="1185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3b: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 flipV="1">
              <a:off x="5075280" y="2436840"/>
              <a:ext cx="2712960" cy="206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2" name=""/>
            <p:cNvGrpSpPr/>
            <p:nvPr/>
          </p:nvGrpSpPr>
          <p:grpSpPr>
            <a:xfrm>
              <a:off x="4510080" y="3413520"/>
              <a:ext cx="56880" cy="642600"/>
              <a:chOff x="4510080" y="3413520"/>
              <a:chExt cx="56880" cy="642600"/>
            </a:xfrm>
          </p:grpSpPr>
          <p:sp>
            <p:nvSpPr>
              <p:cNvPr id="3333" name=""/>
              <p:cNvSpPr/>
              <p:nvPr/>
            </p:nvSpPr>
            <p:spPr>
              <a:xfrm flipV="1">
                <a:off x="4510080" y="3425400"/>
                <a:ext cx="0" cy="6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 flipV="1">
                <a:off x="4523040" y="3413520"/>
                <a:ext cx="4392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5" name=""/>
            <p:cNvSpPr/>
            <p:nvPr/>
          </p:nvSpPr>
          <p:spPr>
            <a:xfrm>
              <a:off x="2589120" y="3470400"/>
              <a:ext cx="18651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a,b,c,...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query-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6" name=""/>
            <p:cNvGrpSpPr/>
            <p:nvPr/>
          </p:nvGrpSpPr>
          <p:grpSpPr>
            <a:xfrm>
              <a:off x="4341600" y="3413160"/>
              <a:ext cx="55800" cy="630360"/>
              <a:chOff x="4341600" y="3413160"/>
              <a:chExt cx="55800" cy="630360"/>
            </a:xfrm>
          </p:grpSpPr>
          <p:sp>
            <p:nvSpPr>
              <p:cNvPr id="3337" name=""/>
              <p:cNvSpPr/>
              <p:nvPr/>
            </p:nvSpPr>
            <p:spPr>
              <a:xfrm>
                <a:off x="4397400" y="3413160"/>
                <a:ext cx="0" cy="6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341600" y="3916800"/>
                <a:ext cx="428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9" name=""/>
            <p:cNvSpPr/>
            <p:nvPr/>
          </p:nvSpPr>
          <p:spPr>
            <a:xfrm>
              <a:off x="4454280" y="3527640"/>
              <a:ext cx="1413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a,b,c,...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029200" y="3746520"/>
              <a:ext cx="186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a,b,c,...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query-re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6487200" y="3584520"/>
              <a:ext cx="62244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>
              <a:off x="6997320" y="4043520"/>
              <a:ext cx="11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6770520" y="3355920"/>
              <a:ext cx="141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5a,b,c,...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n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6600600" y="35276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599880" y="3527640"/>
              <a:ext cx="62244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H="1" flipV="1">
              <a:off x="3211560" y="2207880"/>
              <a:ext cx="1185840" cy="63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H="1" flipV="1">
              <a:off x="3776040" y="1576080"/>
              <a:ext cx="4294440" cy="1204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H="1" flipV="1">
              <a:off x="3809880" y="1561680"/>
              <a:ext cx="4114800" cy="1295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H="1" flipV="1">
              <a:off x="5019120" y="5307120"/>
              <a:ext cx="1978200" cy="458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4792680" y="5076720"/>
              <a:ext cx="2938320" cy="803520"/>
            </a:xfrm>
            <a:prstGeom prst="foldedCorner">
              <a:avLst>
                <a:gd name="adj" fmla="val 900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849560" y="5154840"/>
              <a:ext cx="32767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protocol fipa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content &lt;RDF pattern /result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language CoMMA-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:ontology CoMMA 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940440" y="3929040"/>
              <a:ext cx="0" cy="1147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H="1">
              <a:off x="6940440" y="3929040"/>
              <a:ext cx="225360" cy="1147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7400" y="3986280"/>
              <a:ext cx="1187280" cy="1090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510080" y="3929040"/>
              <a:ext cx="1074600" cy="1147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76320" y="6019920"/>
            <a:ext cx="906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écomposition requête (URI pour coupures/join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llocation des sous-requêtes aux archivistes compé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071B-71BE-4B2E-AD00-7FA7E15EB0EA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Interactions entre agents (Résolution d'une requête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63360" y="457200"/>
            <a:ext cx="9080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Carte de recouvr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ffiner la description des services pour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ibler les communications multic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En tandem avec la répartition des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9" name=""/>
          <p:cNvGrpSpPr/>
          <p:nvPr/>
        </p:nvGrpSpPr>
        <p:grpSpPr>
          <a:xfrm>
            <a:off x="914400" y="2590920"/>
            <a:ext cx="3962520" cy="1084320"/>
            <a:chOff x="914400" y="2590920"/>
            <a:chExt cx="3962520" cy="1084320"/>
          </a:xfrm>
        </p:grpSpPr>
        <p:sp>
          <p:nvSpPr>
            <p:cNvPr id="3360" name=""/>
            <p:cNvSpPr/>
            <p:nvPr/>
          </p:nvSpPr>
          <p:spPr>
            <a:xfrm>
              <a:off x="990720" y="2590920"/>
              <a:ext cx="3733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1" name="inter" descr=""/>
            <p:cNvPicPr/>
            <p:nvPr/>
          </p:nvPicPr>
          <p:blipFill>
            <a:blip r:embed="rId1"/>
            <a:stretch/>
          </p:blipFill>
          <p:spPr>
            <a:xfrm>
              <a:off x="1214640" y="2733480"/>
              <a:ext cx="461880" cy="46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2" name=""/>
            <p:cNvGrpSpPr/>
            <p:nvPr/>
          </p:nvGrpSpPr>
          <p:grpSpPr>
            <a:xfrm>
              <a:off x="2667240" y="2666880"/>
              <a:ext cx="609480" cy="533160"/>
              <a:chOff x="2667240" y="2666880"/>
              <a:chExt cx="609480" cy="533160"/>
            </a:xfrm>
          </p:grpSpPr>
          <p:sp>
            <p:nvSpPr>
              <p:cNvPr id="3363" name=""/>
              <p:cNvSpPr/>
              <p:nvPr/>
            </p:nvSpPr>
            <p:spPr>
              <a:xfrm>
                <a:off x="2950560" y="281448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667240" y="26668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2667240" y="30524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2865600" y="285336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7" name=""/>
            <p:cNvGrpSpPr/>
            <p:nvPr/>
          </p:nvGrpSpPr>
          <p:grpSpPr>
            <a:xfrm>
              <a:off x="1981440" y="2666880"/>
              <a:ext cx="609480" cy="533160"/>
              <a:chOff x="1981440" y="2666880"/>
              <a:chExt cx="609480" cy="533160"/>
            </a:xfrm>
          </p:grpSpPr>
          <p:sp>
            <p:nvSpPr>
              <p:cNvPr id="3368" name=""/>
              <p:cNvSpPr/>
              <p:nvPr/>
            </p:nvSpPr>
            <p:spPr>
              <a:xfrm>
                <a:off x="2264760" y="281448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981440" y="26668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981440" y="30524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2179800" y="285336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2" name=""/>
            <p:cNvGrpSpPr/>
            <p:nvPr/>
          </p:nvGrpSpPr>
          <p:grpSpPr>
            <a:xfrm>
              <a:off x="3353040" y="2666880"/>
              <a:ext cx="609480" cy="533160"/>
              <a:chOff x="3353040" y="2666880"/>
              <a:chExt cx="609480" cy="533160"/>
            </a:xfrm>
          </p:grpSpPr>
          <p:sp>
            <p:nvSpPr>
              <p:cNvPr id="3373" name=""/>
              <p:cNvSpPr/>
              <p:nvPr/>
            </p:nvSpPr>
            <p:spPr>
              <a:xfrm>
                <a:off x="3636360" y="281448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353040" y="26668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3353040" y="30524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551400" y="285336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4038840" y="2666880"/>
              <a:ext cx="609480" cy="533160"/>
              <a:chOff x="4038840" y="2666880"/>
              <a:chExt cx="609480" cy="533160"/>
            </a:xfrm>
          </p:grpSpPr>
          <p:sp>
            <p:nvSpPr>
              <p:cNvPr id="3378" name=""/>
              <p:cNvSpPr/>
              <p:nvPr/>
            </p:nvSpPr>
            <p:spPr>
              <a:xfrm>
                <a:off x="4322160" y="281448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4038840" y="26668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038840" y="30524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237200" y="285336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2" name=""/>
            <p:cNvSpPr/>
            <p:nvPr/>
          </p:nvSpPr>
          <p:spPr>
            <a:xfrm>
              <a:off x="914400" y="327636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esoins requête (types ontologi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5232240" y="2590920"/>
            <a:ext cx="3759120" cy="1119240"/>
            <a:chOff x="5232240" y="2590920"/>
            <a:chExt cx="3759120" cy="1119240"/>
          </a:xfrm>
        </p:grpSpPr>
        <p:sp>
          <p:nvSpPr>
            <p:cNvPr id="3384" name=""/>
            <p:cNvSpPr/>
            <p:nvPr/>
          </p:nvSpPr>
          <p:spPr>
            <a:xfrm>
              <a:off x="5257440" y="2590920"/>
              <a:ext cx="36576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5" name=""/>
            <p:cNvGrpSpPr/>
            <p:nvPr/>
          </p:nvGrpSpPr>
          <p:grpSpPr>
            <a:xfrm>
              <a:off x="5232240" y="2616120"/>
              <a:ext cx="3759120" cy="1094040"/>
              <a:chOff x="5232240" y="2616120"/>
              <a:chExt cx="3759120" cy="1094040"/>
            </a:xfrm>
          </p:grpSpPr>
          <p:pic>
            <p:nvPicPr>
              <p:cNvPr id="3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4520" y="2616120"/>
                <a:ext cx="378000" cy="38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87" name=""/>
              <p:cNvGrpSpPr/>
              <p:nvPr/>
            </p:nvGrpSpPr>
            <p:grpSpPr>
              <a:xfrm>
                <a:off x="6171840" y="2666520"/>
                <a:ext cx="609840" cy="533160"/>
                <a:chOff x="6171840" y="2666520"/>
                <a:chExt cx="609840" cy="533160"/>
              </a:xfrm>
            </p:grpSpPr>
            <p:sp>
              <p:nvSpPr>
                <p:cNvPr id="3388" name=""/>
                <p:cNvSpPr/>
                <p:nvPr/>
              </p:nvSpPr>
              <p:spPr>
                <a:xfrm>
                  <a:off x="6455160" y="281412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6171840" y="266652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6171840" y="305208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370200" y="2853000"/>
                  <a:ext cx="169560" cy="1476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2" name=""/>
              <p:cNvGrpSpPr/>
              <p:nvPr/>
            </p:nvGrpSpPr>
            <p:grpSpPr>
              <a:xfrm>
                <a:off x="7543440" y="2666520"/>
                <a:ext cx="609840" cy="533160"/>
                <a:chOff x="7543440" y="2666520"/>
                <a:chExt cx="609840" cy="533160"/>
              </a:xfrm>
            </p:grpSpPr>
            <p:sp>
              <p:nvSpPr>
                <p:cNvPr id="3393" name=""/>
                <p:cNvSpPr/>
                <p:nvPr/>
              </p:nvSpPr>
              <p:spPr>
                <a:xfrm>
                  <a:off x="7826760" y="281412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7543440" y="266652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7543440" y="305208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7741800" y="2853000"/>
                  <a:ext cx="169560" cy="1476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7" name=""/>
              <p:cNvGrpSpPr/>
              <p:nvPr/>
            </p:nvGrpSpPr>
            <p:grpSpPr>
              <a:xfrm>
                <a:off x="6857640" y="2666520"/>
                <a:ext cx="609840" cy="723240"/>
                <a:chOff x="6857640" y="2666520"/>
                <a:chExt cx="609840" cy="723240"/>
              </a:xfrm>
            </p:grpSpPr>
            <p:sp>
              <p:nvSpPr>
                <p:cNvPr id="3398" name=""/>
                <p:cNvSpPr/>
                <p:nvPr/>
              </p:nvSpPr>
              <p:spPr>
                <a:xfrm>
                  <a:off x="7142040" y="2813760"/>
                  <a:ext cx="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857640" y="2666520"/>
                  <a:ext cx="609840" cy="1472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6857640" y="3052080"/>
                  <a:ext cx="609840" cy="1472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7056360" y="2853720"/>
                  <a:ext cx="169560" cy="1472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857640" y="3242520"/>
                  <a:ext cx="609840" cy="1472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3" name=""/>
              <p:cNvGrpSpPr/>
              <p:nvPr/>
            </p:nvGrpSpPr>
            <p:grpSpPr>
              <a:xfrm>
                <a:off x="8229240" y="2666520"/>
                <a:ext cx="609840" cy="718560"/>
                <a:chOff x="8229240" y="2666520"/>
                <a:chExt cx="609840" cy="718560"/>
              </a:xfrm>
            </p:grpSpPr>
            <p:grpSp>
              <p:nvGrpSpPr>
                <p:cNvPr id="3404" name=""/>
                <p:cNvGrpSpPr/>
                <p:nvPr/>
              </p:nvGrpSpPr>
              <p:grpSpPr>
                <a:xfrm>
                  <a:off x="8229240" y="2666520"/>
                  <a:ext cx="609840" cy="533160"/>
                  <a:chOff x="8229240" y="2666520"/>
                  <a:chExt cx="609840" cy="533160"/>
                </a:xfrm>
              </p:grpSpPr>
              <p:sp>
                <p:nvSpPr>
                  <p:cNvPr id="3405" name=""/>
                  <p:cNvSpPr/>
                  <p:nvPr/>
                </p:nvSpPr>
                <p:spPr>
                  <a:xfrm>
                    <a:off x="8512560" y="2814120"/>
                    <a:ext cx="0" cy="23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8229240" y="2666520"/>
                    <a:ext cx="609840" cy="14760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8229240" y="3052080"/>
                    <a:ext cx="609840" cy="14760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8427600" y="2853000"/>
                    <a:ext cx="169560" cy="1476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9" name=""/>
                <p:cNvSpPr/>
                <p:nvPr/>
              </p:nvSpPr>
              <p:spPr>
                <a:xfrm>
                  <a:off x="8229240" y="3237840"/>
                  <a:ext cx="609840" cy="1472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0" name=""/>
              <p:cNvSpPr/>
              <p:nvPr/>
            </p:nvSpPr>
            <p:spPr>
              <a:xfrm>
                <a:off x="5232240" y="3006360"/>
                <a:ext cx="3759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(ABI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contribution archive à mémo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1" name=""/>
          <p:cNvGrpSpPr/>
          <p:nvPr/>
        </p:nvGrpSpPr>
        <p:grpSpPr>
          <a:xfrm>
            <a:off x="990720" y="2730600"/>
            <a:ext cx="8001000" cy="2374920"/>
            <a:chOff x="990720" y="2730600"/>
            <a:chExt cx="8001000" cy="2374920"/>
          </a:xfrm>
        </p:grpSpPr>
        <p:sp>
          <p:nvSpPr>
            <p:cNvPr id="3412" name=""/>
            <p:cNvSpPr/>
            <p:nvPr/>
          </p:nvSpPr>
          <p:spPr>
            <a:xfrm>
              <a:off x="1600200" y="3962520"/>
              <a:ext cx="67057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716000" y="273060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8080"/>
                  </a:solidFill>
                  <a:latin typeface="Times New Roman"/>
                </a:rPr>
                <a:t>&amp;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990720" y="3810240"/>
              <a:ext cx="8001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5" name="" descr=""/>
            <p:cNvPicPr/>
            <p:nvPr/>
          </p:nvPicPr>
          <p:blipFill>
            <a:blip r:embed="rId3"/>
            <a:stretch/>
          </p:blipFill>
          <p:spPr>
            <a:xfrm>
              <a:off x="1676520" y="4038840"/>
              <a:ext cx="455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6" name=""/>
            <p:cNvSpPr/>
            <p:nvPr/>
          </p:nvSpPr>
          <p:spPr>
            <a:xfrm>
              <a:off x="4802400" y="3353040"/>
              <a:ext cx="380880" cy="762120"/>
            </a:xfrm>
            <a:prstGeom prst="downArrow">
              <a:avLst>
                <a:gd name="adj1" fmla="val 50000"/>
                <a:gd name="adj2" fmla="val 5002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7" name=""/>
            <p:cNvGrpSpPr/>
            <p:nvPr/>
          </p:nvGrpSpPr>
          <p:grpSpPr>
            <a:xfrm>
              <a:off x="3962520" y="4330800"/>
              <a:ext cx="609480" cy="533160"/>
              <a:chOff x="3962520" y="4330800"/>
              <a:chExt cx="609480" cy="533160"/>
            </a:xfrm>
          </p:grpSpPr>
          <p:sp>
            <p:nvSpPr>
              <p:cNvPr id="3418" name=""/>
              <p:cNvSpPr/>
              <p:nvPr/>
            </p:nvSpPr>
            <p:spPr>
              <a:xfrm>
                <a:off x="4245840" y="44787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962520" y="43308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962520" y="47163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160880" y="45172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2" name=""/>
            <p:cNvGrpSpPr/>
            <p:nvPr/>
          </p:nvGrpSpPr>
          <p:grpSpPr>
            <a:xfrm>
              <a:off x="3276720" y="4330800"/>
              <a:ext cx="609480" cy="533160"/>
              <a:chOff x="3276720" y="4330800"/>
              <a:chExt cx="609480" cy="533160"/>
            </a:xfrm>
          </p:grpSpPr>
          <p:sp>
            <p:nvSpPr>
              <p:cNvPr id="3423" name=""/>
              <p:cNvSpPr/>
              <p:nvPr/>
            </p:nvSpPr>
            <p:spPr>
              <a:xfrm>
                <a:off x="3560040" y="44787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276720" y="43308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276720" y="47163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75080" y="45172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7" name=""/>
            <p:cNvGrpSpPr/>
            <p:nvPr/>
          </p:nvGrpSpPr>
          <p:grpSpPr>
            <a:xfrm>
              <a:off x="4648320" y="4330800"/>
              <a:ext cx="609480" cy="533160"/>
              <a:chOff x="4648320" y="4330800"/>
              <a:chExt cx="609480" cy="533160"/>
            </a:xfrm>
          </p:grpSpPr>
          <p:sp>
            <p:nvSpPr>
              <p:cNvPr id="3428" name=""/>
              <p:cNvSpPr/>
              <p:nvPr/>
            </p:nvSpPr>
            <p:spPr>
              <a:xfrm>
                <a:off x="4931640" y="44787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648320" y="43308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648320" y="47163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846680" y="45172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2" name=""/>
            <p:cNvGrpSpPr/>
            <p:nvPr/>
          </p:nvGrpSpPr>
          <p:grpSpPr>
            <a:xfrm>
              <a:off x="5334120" y="4330800"/>
              <a:ext cx="609480" cy="533160"/>
              <a:chOff x="5334120" y="4330800"/>
              <a:chExt cx="609480" cy="533160"/>
            </a:xfrm>
          </p:grpSpPr>
          <p:sp>
            <p:nvSpPr>
              <p:cNvPr id="3433" name=""/>
              <p:cNvSpPr/>
              <p:nvPr/>
            </p:nvSpPr>
            <p:spPr>
              <a:xfrm>
                <a:off x="5617440" y="447876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34120" y="433080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34120" y="471636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532480" y="451728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7" name=""/>
            <p:cNvSpPr/>
            <p:nvPr/>
          </p:nvSpPr>
          <p:spPr>
            <a:xfrm>
              <a:off x="3962520" y="4178520"/>
              <a:ext cx="1320840" cy="83808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038840" y="419112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>
              <a:off x="4038840" y="419112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724640" y="4191120"/>
              <a:ext cx="45720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H="1">
              <a:off x="4724640" y="4191120"/>
              <a:ext cx="380880" cy="838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311880" y="402300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description recouvrements besoins/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600200" y="44960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OBSIQ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38AD-0826-4C41-86B4-ECD32BCE5C93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Arbre DOM d'une requêt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457200" y="266760"/>
            <a:ext cx="84582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rdf:RDF xmlns:rdf="http://www.w3.org/1999/02/22-rdf-syntax-ns#" xmlns:rdfs="http://www.w3.org/TR/1999/ PR-rdf-schema-19990303#" xmlns:CoMMA="http://www.inria.fr/acacia/comma#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Author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Author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Doc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Tit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an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esign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~smith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esign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Situa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Ni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untr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ran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untr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Editor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hon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Loc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Situate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asForActiv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HasForActiv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mpan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Edited&gt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ionDat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200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ionD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Review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ofstadter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uglas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Review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ncer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uterScienceTopic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ncer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ocument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6" name=""/>
          <p:cNvGrpSpPr/>
          <p:nvPr/>
        </p:nvGrpSpPr>
        <p:grpSpPr>
          <a:xfrm>
            <a:off x="5562720" y="1295280"/>
            <a:ext cx="3276360" cy="5333760"/>
            <a:chOff x="5562720" y="1295280"/>
            <a:chExt cx="3276360" cy="5333760"/>
          </a:xfrm>
        </p:grpSpPr>
        <p:sp>
          <p:nvSpPr>
            <p:cNvPr id="3447" name=""/>
            <p:cNvSpPr/>
            <p:nvPr/>
          </p:nvSpPr>
          <p:spPr>
            <a:xfrm>
              <a:off x="5562720" y="1295280"/>
              <a:ext cx="327636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643720" y="146016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638680" y="2687400"/>
              <a:ext cx="144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783400" y="1582560"/>
              <a:ext cx="698400" cy="619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5783400" y="1644120"/>
              <a:ext cx="698400" cy="122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643720" y="16729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643720" y="21348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643720" y="31780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5643720" y="336204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643720" y="354636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643720" y="41590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643720" y="489564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643720" y="53863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43720" y="563076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643720" y="624348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783400" y="3238200"/>
              <a:ext cx="371160" cy="184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V="1">
              <a:off x="5783400" y="3422160"/>
              <a:ext cx="371160" cy="245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783400" y="3422520"/>
              <a:ext cx="37116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783400" y="5508360"/>
              <a:ext cx="698400" cy="604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V="1">
              <a:off x="5783400" y="5568840"/>
              <a:ext cx="698400" cy="1238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154560" y="3422520"/>
              <a:ext cx="37332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783400" y="2809800"/>
              <a:ext cx="744480" cy="6127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5783400" y="3422520"/>
              <a:ext cx="744480" cy="7365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527880" y="3422520"/>
              <a:ext cx="223524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783400" y="2257200"/>
              <a:ext cx="2979720" cy="1165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481800" y="1644480"/>
              <a:ext cx="2281320" cy="1778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5783400" y="3422160"/>
              <a:ext cx="2979720" cy="15951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5783400" y="3422520"/>
              <a:ext cx="2979720" cy="2882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6481800" y="3422520"/>
              <a:ext cx="2281320" cy="2146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691400" y="280980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691400" y="31780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691400" y="372888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691400" y="238104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691400" y="41590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691400" y="446544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227640" y="146016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227640" y="167760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259680" y="30412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262560" y="325872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227640" y="559728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227640" y="53863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262560" y="36352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824440" y="31111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824440" y="340812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824440" y="357336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202-F436-42A7-BDFD-B94DF714F5D3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2" name=""/>
          <p:cNvGrpSpPr/>
          <p:nvPr/>
        </p:nvGrpSpPr>
        <p:grpSpPr>
          <a:xfrm>
            <a:off x="838080" y="2743200"/>
            <a:ext cx="8153640" cy="3352680"/>
            <a:chOff x="838080" y="2743200"/>
            <a:chExt cx="8153640" cy="3352680"/>
          </a:xfrm>
        </p:grpSpPr>
        <p:sp>
          <p:nvSpPr>
            <p:cNvPr id="3493" name=""/>
            <p:cNvSpPr/>
            <p:nvPr/>
          </p:nvSpPr>
          <p:spPr>
            <a:xfrm>
              <a:off x="838080" y="3352680"/>
              <a:ext cx="815364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5400000">
              <a:off x="7619400" y="2895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Décomposition (Contrainte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5562720" y="990720"/>
            <a:ext cx="3429000" cy="1600200"/>
            <a:chOff x="5562720" y="990720"/>
            <a:chExt cx="3429000" cy="1600200"/>
          </a:xfrm>
        </p:grpSpPr>
        <p:sp>
          <p:nvSpPr>
            <p:cNvPr id="3497" name=""/>
            <p:cNvSpPr/>
            <p:nvPr/>
          </p:nvSpPr>
          <p:spPr>
            <a:xfrm>
              <a:off x="5562720" y="99072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658296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708336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H="1">
              <a:off x="6027840" y="114300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6128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6128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61280" y="114300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78613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1392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H="1">
              <a:off x="57499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0278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680544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08336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H="1">
              <a:off x="680544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08336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083360" y="1511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8639280" y="15112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836136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7500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58520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30584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083360" y="1882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026120" y="225108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694560" y="22510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69456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647388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6386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249960" y="188280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305840" y="225108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 rot="5400000">
            <a:off x="1427040" y="4680000"/>
            <a:ext cx="276480" cy="133200"/>
          </a:xfrm>
          <a:prstGeom prst="rightArrow">
            <a:avLst>
              <a:gd name="adj1" fmla="val 50000"/>
              <a:gd name="adj2" fmla="val 51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7" name=""/>
          <p:cNvGrpSpPr/>
          <p:nvPr/>
        </p:nvGrpSpPr>
        <p:grpSpPr>
          <a:xfrm>
            <a:off x="920880" y="3492360"/>
            <a:ext cx="8045280" cy="1204920"/>
            <a:chOff x="920880" y="3492360"/>
            <a:chExt cx="8045280" cy="1204920"/>
          </a:xfrm>
        </p:grpSpPr>
        <p:sp>
          <p:nvSpPr>
            <p:cNvPr id="3528" name=""/>
            <p:cNvSpPr/>
            <p:nvPr/>
          </p:nvSpPr>
          <p:spPr>
            <a:xfrm flipH="1">
              <a:off x="744336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688160" y="3492360"/>
              <a:ext cx="6890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68816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688160" y="349236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H="1">
              <a:off x="8129520" y="3817800"/>
              <a:ext cx="2476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837720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H="1">
              <a:off x="719748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44372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H="1">
              <a:off x="7197480" y="4140360"/>
              <a:ext cx="2458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44372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881856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857268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803268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88508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64064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443720" y="414036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394400" y="446580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101000" y="446580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101000" y="414036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>
              <a:off x="550188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746680" y="3492360"/>
              <a:ext cx="6876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74668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746680" y="349236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H="1">
              <a:off x="6188040" y="381780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43428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>
              <a:off x="525600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50224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H="1">
              <a:off x="5256000" y="4140360"/>
              <a:ext cx="24588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50224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87708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629400" y="414036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09120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94360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69916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502240" y="4140360"/>
              <a:ext cx="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5452920" y="4465800"/>
              <a:ext cx="1479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5159520" y="4465800"/>
              <a:ext cx="1458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159520" y="414036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H="1">
              <a:off x="337968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5920" y="349236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592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25920" y="3492360"/>
              <a:ext cx="117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H="1">
              <a:off x="406692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31316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313344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379680" y="381780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37968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756320" y="381780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450864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96864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82104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7660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035160" y="414036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33216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H="1">
              <a:off x="126504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509840" y="3492360"/>
              <a:ext cx="688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509840" y="349236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509840" y="349236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H="1">
              <a:off x="195228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198520" y="3817800"/>
              <a:ext cx="244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H="1">
              <a:off x="1019160" y="381780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265400" y="381780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1265400" y="3817800"/>
              <a:ext cx="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39880" y="38178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39400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85580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70820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460520" y="4140360"/>
              <a:ext cx="14904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920880" y="414036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16080" y="4140360"/>
              <a:ext cx="1461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H="1">
              <a:off x="6877080" y="3538440"/>
              <a:ext cx="342720" cy="138240"/>
            </a:xfrm>
            <a:prstGeom prst="rightArrow">
              <a:avLst>
                <a:gd name="adj1" fmla="val 50000"/>
                <a:gd name="adj2" fmla="val 619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 flipH="1">
              <a:off x="4926960" y="3541680"/>
              <a:ext cx="345960" cy="138240"/>
            </a:xfrm>
            <a:prstGeom prst="rightArrow">
              <a:avLst>
                <a:gd name="adj1" fmla="val 50000"/>
                <a:gd name="adj2" fmla="val 625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H="1">
              <a:off x="2752560" y="3538440"/>
              <a:ext cx="346320" cy="138240"/>
            </a:xfrm>
            <a:prstGeom prst="rightArrow">
              <a:avLst>
                <a:gd name="adj1" fmla="val 50000"/>
                <a:gd name="adj2" fmla="val 626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427720" y="409572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200240" y="376236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920880" y="5078520"/>
            <a:ext cx="8045280" cy="901440"/>
            <a:chOff x="920880" y="5078520"/>
            <a:chExt cx="8045280" cy="901440"/>
          </a:xfrm>
        </p:grpSpPr>
        <p:sp>
          <p:nvSpPr>
            <p:cNvPr id="3604" name=""/>
            <p:cNvSpPr/>
            <p:nvPr/>
          </p:nvSpPr>
          <p:spPr>
            <a:xfrm flipH="1">
              <a:off x="1019160" y="51004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265400" y="51004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265400" y="51004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265400" y="5100480"/>
              <a:ext cx="11779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>
              <a:off x="1707840" y="54259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952640" y="54259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39400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149560" y="57484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609560" y="574848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460520" y="5425920"/>
              <a:ext cx="149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92088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H="1">
              <a:off x="3035160" y="51004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82840" y="5100480"/>
              <a:ext cx="685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82840" y="51004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82840" y="5100480"/>
              <a:ext cx="11764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>
              <a:off x="3723840" y="542592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968640" y="542592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41000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165560" y="57484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625920" y="57484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47832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3688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H="1">
              <a:off x="5106960" y="514656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354640" y="514656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354640" y="51465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5354640" y="514656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483240" y="54720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5551560" y="547200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011560" y="5472000"/>
              <a:ext cx="147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041880" y="54720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H="1">
              <a:off x="7080120" y="5132520"/>
              <a:ext cx="2462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326360" y="5132520"/>
              <a:ext cx="68580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326360" y="5132520"/>
              <a:ext cx="2444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326360" y="5132520"/>
              <a:ext cx="117612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8453520" y="545616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521480" y="545616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980400" y="545616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8012160" y="545616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8820000" y="514656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565360" y="5164200"/>
              <a:ext cx="343080" cy="137880"/>
            </a:xfrm>
            <a:prstGeom prst="rightArrow">
              <a:avLst>
                <a:gd name="adj1" fmla="val 50000"/>
                <a:gd name="adj2" fmla="val 622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665600" y="5164200"/>
              <a:ext cx="345960" cy="137880"/>
            </a:xfrm>
            <a:prstGeom prst="rightArrow">
              <a:avLst>
                <a:gd name="adj1" fmla="val 50000"/>
                <a:gd name="adj2" fmla="val 6272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610320" y="5160960"/>
              <a:ext cx="344520" cy="141120"/>
            </a:xfrm>
            <a:prstGeom prst="rightArrow">
              <a:avLst>
                <a:gd name="adj1" fmla="val 50000"/>
                <a:gd name="adj2" fmla="val 6103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8354880" y="5160960"/>
              <a:ext cx="346320" cy="141120"/>
            </a:xfrm>
            <a:prstGeom prst="rightArrow">
              <a:avLst>
                <a:gd name="adj1" fmla="val 50000"/>
                <a:gd name="adj2" fmla="val 6135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909960" y="5372280"/>
              <a:ext cx="13356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59760" y="5078520"/>
              <a:ext cx="13320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9" name=""/>
          <p:cNvSpPr/>
          <p:nvPr/>
        </p:nvSpPr>
        <p:spPr>
          <a:xfrm>
            <a:off x="63360" y="457200"/>
            <a:ext cx="908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Résolution / Dé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AM Décompose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ous-requêtes aux 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ésolution remontante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es 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D3B1-5584-4DF3-912B-73D565D47815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"/>
          <p:cNvSpPr/>
          <p:nvPr/>
        </p:nvSpPr>
        <p:spPr>
          <a:xfrm>
            <a:off x="63360" y="4572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 u="sng">
                <a:solidFill>
                  <a:srgbClr val="007cba"/>
                </a:solidFill>
                <a:uFillTx/>
                <a:latin typeface="Arial"/>
              </a:rPr>
              <a:t>Résolution / Dé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AM Décompose </a:t>
            </a:r>
            <a:r>
              <a:rPr b="0" lang="fr-FR" sz="2400" spc="-1" strike="noStrike">
                <a:solidFill>
                  <a:srgbClr val="007cba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sous-requêtes aux 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Résolution remontante</a:t>
            </a:r>
            <a:br>
              <a:rPr sz="2400"/>
            </a:br>
            <a:r>
              <a:rPr b="0" lang="fr-FR" sz="2400" spc="-1" strike="noStrike">
                <a:solidFill>
                  <a:srgbClr val="007cba"/>
                </a:solidFill>
                <a:latin typeface="Arial"/>
              </a:rPr>
              <a:t>des 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Résolution descendante</a:t>
            </a:r>
            <a:br>
              <a:rPr sz="2400"/>
            </a:br>
            <a:r>
              <a:rPr b="0" lang="fr-FR" sz="2400" spc="-1" strike="noStrike">
                <a:solidFill>
                  <a:srgbClr val="666699"/>
                </a:solidFill>
                <a:latin typeface="Arial"/>
              </a:rPr>
              <a:t>des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Décomposition (Questions)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5562720" y="990720"/>
            <a:ext cx="3429000" cy="1600200"/>
            <a:chOff x="5562720" y="990720"/>
            <a:chExt cx="3429000" cy="1600200"/>
          </a:xfrm>
        </p:grpSpPr>
        <p:sp>
          <p:nvSpPr>
            <p:cNvPr id="3653" name=""/>
            <p:cNvSpPr/>
            <p:nvPr/>
          </p:nvSpPr>
          <p:spPr>
            <a:xfrm>
              <a:off x="5562720" y="99072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58296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708336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6027840" y="114300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36128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36128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7361280" y="114300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>
              <a:off x="78613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81392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57499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0278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H="1">
              <a:off x="680544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08336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H="1">
              <a:off x="680544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708336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83360" y="1511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8639280" y="15112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836136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7500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758520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30584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083360" y="1882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026120" y="225108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694560" y="22510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69456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47388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6386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249960" y="188280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305840" y="225108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838080" y="2666880"/>
            <a:ext cx="8153640" cy="2514600"/>
            <a:chOff x="838080" y="2666880"/>
            <a:chExt cx="8153640" cy="2514600"/>
          </a:xfrm>
        </p:grpSpPr>
        <p:sp>
          <p:nvSpPr>
            <p:cNvPr id="3683" name=""/>
            <p:cNvSpPr/>
            <p:nvPr/>
          </p:nvSpPr>
          <p:spPr>
            <a:xfrm>
              <a:off x="838080" y="3200400"/>
              <a:ext cx="8153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rot="5400000">
              <a:off x="7619400" y="281916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5" name=""/>
          <p:cNvGrpSpPr/>
          <p:nvPr/>
        </p:nvGrpSpPr>
        <p:grpSpPr>
          <a:xfrm>
            <a:off x="990720" y="3352680"/>
            <a:ext cx="7924680" cy="1676520"/>
            <a:chOff x="990720" y="3352680"/>
            <a:chExt cx="7924680" cy="1676520"/>
          </a:xfrm>
        </p:grpSpPr>
        <p:sp>
          <p:nvSpPr>
            <p:cNvPr id="3686" name=""/>
            <p:cNvSpPr/>
            <p:nvPr/>
          </p:nvSpPr>
          <p:spPr>
            <a:xfrm flipH="1">
              <a:off x="8004240" y="3365640"/>
              <a:ext cx="7970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H="1">
              <a:off x="8516880" y="3365640"/>
              <a:ext cx="28440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7432560" y="3365640"/>
              <a:ext cx="13687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flipH="1">
              <a:off x="7148160" y="3782880"/>
              <a:ext cx="2840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432560" y="3782880"/>
              <a:ext cx="2858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516880" y="4203720"/>
              <a:ext cx="2844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8516880" y="378288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889760" y="3782880"/>
              <a:ext cx="1699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034040" y="42037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661160" y="42037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8744040" y="462456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flipH="1">
              <a:off x="5951520" y="3365640"/>
              <a:ext cx="2858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237360" y="336564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H="1">
              <a:off x="5610240" y="3365640"/>
              <a:ext cx="6271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H="1">
              <a:off x="5267160" y="3765600"/>
              <a:ext cx="285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553000" y="3765600"/>
              <a:ext cx="28440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237360" y="42624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237360" y="378288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894280" y="372600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151600" y="4243320"/>
              <a:ext cx="172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780160" y="4243320"/>
              <a:ext cx="171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6164280" y="467208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467320" y="37260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176880" y="37260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164280" y="42354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H="1">
              <a:off x="4125960" y="3425760"/>
              <a:ext cx="287280" cy="4190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41324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>
              <a:off x="3786120" y="342576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441600" y="3825720"/>
              <a:ext cx="2872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728880" y="3825720"/>
              <a:ext cx="282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413240" y="432288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41324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68720" y="3782880"/>
              <a:ext cx="17316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330720" y="4303800"/>
              <a:ext cx="168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3957480" y="4303800"/>
              <a:ext cx="16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40160" y="472932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643200" y="3782880"/>
              <a:ext cx="171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356000" y="3782880"/>
              <a:ext cx="16848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340160" y="4295880"/>
              <a:ext cx="1713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06380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063800" y="4322880"/>
              <a:ext cx="0" cy="4172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06380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992160" y="4729320"/>
              <a:ext cx="17316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006560" y="378288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992160" y="42642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6084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H="1">
              <a:off x="2133720" y="342576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1789200" y="3825720"/>
              <a:ext cx="2858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075040" y="3825720"/>
              <a:ext cx="2840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60840" y="432288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76084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677960" y="4303800"/>
              <a:ext cx="1684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305080" y="4303800"/>
              <a:ext cx="16812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685960" y="4729320"/>
              <a:ext cx="173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990800" y="378288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03600" y="3782880"/>
              <a:ext cx="16812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685960" y="429588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H="1">
              <a:off x="6577920" y="3843360"/>
              <a:ext cx="398520" cy="182520"/>
            </a:xfrm>
            <a:prstGeom prst="rightArrow">
              <a:avLst>
                <a:gd name="adj1" fmla="val 50000"/>
                <a:gd name="adj2" fmla="val 545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4638600" y="384480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H="1">
              <a:off x="2985480" y="3844800"/>
              <a:ext cx="401400" cy="181080"/>
            </a:xfrm>
            <a:prstGeom prst="rightArrow">
              <a:avLst>
                <a:gd name="adj1" fmla="val 50000"/>
                <a:gd name="adj2" fmla="val 5541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H="1">
              <a:off x="1276200" y="384480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332240" y="3352680"/>
              <a:ext cx="155520" cy="179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981080" y="3809880"/>
              <a:ext cx="181080" cy="1764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990720" y="4295880"/>
              <a:ext cx="156960" cy="1807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63360" y="5283360"/>
            <a:ext cx="8686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 u="sng">
                <a:solidFill>
                  <a:srgbClr val="000099"/>
                </a:solidFill>
                <a:uFillTx/>
                <a:latin typeface="Arial"/>
              </a:rPr>
              <a:t>Résolution / Re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Fusion des résultats part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ésolution références crois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4316-26B2-40C6-845B-2E91ADC27250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609480" y="1143000"/>
            <a:ext cx="7772400" cy="4379760"/>
            <a:chOff x="609480" y="1143000"/>
            <a:chExt cx="7772400" cy="4379760"/>
          </a:xfrm>
        </p:grpSpPr>
        <p:sp>
          <p:nvSpPr>
            <p:cNvPr id="281" name=""/>
            <p:cNvSpPr/>
            <p:nvPr/>
          </p:nvSpPr>
          <p:spPr>
            <a:xfrm>
              <a:off x="609480" y="1143000"/>
              <a:ext cx="7772400" cy="43797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725640" y="1222200"/>
              <a:ext cx="1657080" cy="4180680"/>
              <a:chOff x="3725640" y="1222200"/>
              <a:chExt cx="1657080" cy="4180680"/>
            </a:xfrm>
          </p:grpSpPr>
          <p:sp>
            <p:nvSpPr>
              <p:cNvPr id="283" name=""/>
              <p:cNvSpPr/>
              <p:nvPr/>
            </p:nvSpPr>
            <p:spPr>
              <a:xfrm>
                <a:off x="3725640" y="1380600"/>
                <a:ext cx="1500120" cy="4022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84400" y="1222200"/>
                <a:ext cx="1498320" cy="239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415880" y="2576160"/>
              <a:ext cx="6532560" cy="994680"/>
              <a:chOff x="1415880" y="2576160"/>
              <a:chExt cx="6532560" cy="994680"/>
            </a:xfrm>
          </p:grpSpPr>
          <p:sp>
            <p:nvSpPr>
              <p:cNvPr id="286" name=""/>
              <p:cNvSpPr/>
              <p:nvPr/>
            </p:nvSpPr>
            <p:spPr>
              <a:xfrm>
                <a:off x="1415880" y="2661480"/>
                <a:ext cx="6392880" cy="909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29440" y="2576160"/>
                <a:ext cx="1719000" cy="237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86240" y="2747520"/>
                <a:ext cx="789120" cy="158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38200" y="3237840"/>
                <a:ext cx="6699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32040" y="2798280"/>
                <a:ext cx="828720" cy="175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1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4880" y="288864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92" name=""/>
              <p:cNvGrpSpPr/>
              <p:nvPr/>
            </p:nvGrpSpPr>
            <p:grpSpPr>
              <a:xfrm>
                <a:off x="5383080" y="2895120"/>
                <a:ext cx="908280" cy="636120"/>
                <a:chOff x="5383080" y="2895120"/>
                <a:chExt cx="908280" cy="636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383080" y="325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4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59200" y="289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95" name=""/>
              <p:cNvSpPr/>
              <p:nvPr/>
            </p:nvSpPr>
            <p:spPr>
              <a:xfrm>
                <a:off x="3726000" y="2663280"/>
                <a:ext cx="1500120" cy="90756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4640" y="29394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2463840" y="3293640"/>
                <a:ext cx="9079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91360" y="3290400"/>
                <a:ext cx="82872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64400" y="2850480"/>
                <a:ext cx="828720" cy="163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0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537240" y="2941200"/>
                <a:ext cx="311400" cy="31392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01" name=""/>
              <p:cNvGrpSpPr/>
              <p:nvPr/>
            </p:nvGrpSpPr>
            <p:grpSpPr>
              <a:xfrm>
                <a:off x="3252960" y="2707560"/>
                <a:ext cx="907920" cy="634680"/>
                <a:chOff x="3252960" y="2707560"/>
                <a:chExt cx="907920" cy="634680"/>
              </a:xfrm>
            </p:grpSpPr>
            <p:pic>
              <p:nvPicPr>
                <p:cNvPr id="302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29080" y="270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03" name=""/>
                <p:cNvSpPr/>
                <p:nvPr/>
              </p:nvSpPr>
              <p:spPr>
                <a:xfrm>
                  <a:off x="3252960" y="306576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Schéma général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961320" y="4368960"/>
            <a:ext cx="1106280" cy="1193760"/>
            <a:chOff x="6961320" y="4368960"/>
            <a:chExt cx="1106280" cy="1193760"/>
          </a:xfrm>
        </p:grpSpPr>
        <p:sp>
          <p:nvSpPr>
            <p:cNvPr id="306" name=""/>
            <p:cNvSpPr/>
            <p:nvPr/>
          </p:nvSpPr>
          <p:spPr>
            <a:xfrm>
              <a:off x="6961320" y="531504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tilisateur fi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7119720" y="4448160"/>
              <a:ext cx="430200" cy="903600"/>
              <a:chOff x="7119720" y="4448160"/>
              <a:chExt cx="430200" cy="903600"/>
            </a:xfrm>
          </p:grpSpPr>
          <p:sp>
            <p:nvSpPr>
              <p:cNvPr id="308" name=""/>
              <p:cNvSpPr/>
              <p:nvPr/>
            </p:nvSpPr>
            <p:spPr>
              <a:xfrm flipH="1">
                <a:off x="7244280" y="449856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55520" y="444816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265880" y="471024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164720" y="471852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119360" y="497700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7299360" y="497628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553160" y="4368960"/>
              <a:ext cx="473400" cy="396720"/>
              <a:chOff x="7553160" y="4368960"/>
              <a:chExt cx="473400" cy="396720"/>
            </a:xfrm>
          </p:grpSpPr>
          <p:sp>
            <p:nvSpPr>
              <p:cNvPr id="315" name=""/>
              <p:cNvSpPr/>
              <p:nvPr/>
            </p:nvSpPr>
            <p:spPr>
              <a:xfrm>
                <a:off x="7553160" y="436896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16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669440" y="44391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17" name=""/>
          <p:cNvGrpSpPr/>
          <p:nvPr/>
        </p:nvGrpSpPr>
        <p:grpSpPr>
          <a:xfrm>
            <a:off x="5303880" y="4408560"/>
            <a:ext cx="1697040" cy="995400"/>
            <a:chOff x="5303880" y="4408560"/>
            <a:chExt cx="1697040" cy="995400"/>
          </a:xfrm>
        </p:grpSpPr>
        <p:pic>
          <p:nvPicPr>
            <p:cNvPr id="318" name="" descr=""/>
            <p:cNvPicPr/>
            <p:nvPr/>
          </p:nvPicPr>
          <p:blipFill>
            <a:blip r:embed="rId7"/>
            <a:stretch/>
          </p:blipFill>
          <p:spPr>
            <a:xfrm>
              <a:off x="5303880" y="488628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6764400" y="488628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"/>
            <p:cNvGrpSpPr/>
            <p:nvPr/>
          </p:nvGrpSpPr>
          <p:grpSpPr>
            <a:xfrm>
              <a:off x="5580000" y="4408560"/>
              <a:ext cx="1104840" cy="995400"/>
              <a:chOff x="5580000" y="4408560"/>
              <a:chExt cx="1104840" cy="995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580000" y="4408560"/>
                <a:ext cx="1026000" cy="902880"/>
                <a:chOff x="5580000" y="4408560"/>
                <a:chExt cx="1026000" cy="9028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580000" y="467460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580000" y="44085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97640" y="46771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974560" y="49100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656680" y="44391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"/>
              <p:cNvGrpSpPr/>
              <p:nvPr/>
            </p:nvGrpSpPr>
            <p:grpSpPr>
              <a:xfrm>
                <a:off x="5619240" y="4448160"/>
                <a:ext cx="1026000" cy="903240"/>
                <a:chOff x="5619240" y="4448160"/>
                <a:chExt cx="1026000" cy="9032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619240" y="471420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19240" y="444816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6880" y="471708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013800" y="494964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695920" y="447876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3" name=""/>
              <p:cNvGrpSpPr/>
              <p:nvPr/>
            </p:nvGrpSpPr>
            <p:grpSpPr>
              <a:xfrm>
                <a:off x="5658840" y="4500720"/>
                <a:ext cx="1026000" cy="903240"/>
                <a:chOff x="5658840" y="4500720"/>
                <a:chExt cx="1026000" cy="9032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58840" y="476676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58840" y="450072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676480" y="476964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053400" y="500220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735520" y="453132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39" name=""/>
          <p:cNvGrpSpPr/>
          <p:nvPr/>
        </p:nvGrpSpPr>
        <p:grpSpPr>
          <a:xfrm>
            <a:off x="7040520" y="3635280"/>
            <a:ext cx="631800" cy="772920"/>
            <a:chOff x="7040520" y="3635280"/>
            <a:chExt cx="631800" cy="772920"/>
          </a:xfrm>
        </p:grpSpPr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7237440" y="416844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"/>
            <p:cNvGrpSpPr/>
            <p:nvPr/>
          </p:nvGrpSpPr>
          <p:grpSpPr>
            <a:xfrm>
              <a:off x="7040520" y="3635280"/>
              <a:ext cx="631800" cy="490320"/>
              <a:chOff x="7040520" y="3635280"/>
              <a:chExt cx="631800" cy="490320"/>
            </a:xfrm>
          </p:grpSpPr>
          <p:sp>
            <p:nvSpPr>
              <p:cNvPr id="342" name=""/>
              <p:cNvSpPr/>
              <p:nvPr/>
            </p:nvSpPr>
            <p:spPr>
              <a:xfrm>
                <a:off x="7079760" y="368748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40520" y="363528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Requê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77400" y="386856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5" name=""/>
          <p:cNvGrpSpPr/>
          <p:nvPr/>
        </p:nvGrpSpPr>
        <p:grpSpPr>
          <a:xfrm>
            <a:off x="3805200" y="1563840"/>
            <a:ext cx="1301760" cy="3639960"/>
            <a:chOff x="3805200" y="1563840"/>
            <a:chExt cx="1301760" cy="3639960"/>
          </a:xfrm>
        </p:grpSpPr>
        <p:pic>
          <p:nvPicPr>
            <p:cNvPr id="346" name="onto_01" descr=""/>
            <p:cNvPicPr/>
            <p:nvPr/>
          </p:nvPicPr>
          <p:blipFill>
            <a:blip r:embed="rId17"/>
            <a:stretch/>
          </p:blipFill>
          <p:spPr>
            <a:xfrm>
              <a:off x="3924360" y="3970440"/>
              <a:ext cx="31428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onto_02" descr=""/>
            <p:cNvPicPr/>
            <p:nvPr/>
          </p:nvPicPr>
          <p:blipFill>
            <a:blip r:embed="rId18"/>
            <a:stretch/>
          </p:blipFill>
          <p:spPr>
            <a:xfrm>
              <a:off x="4081320" y="4846680"/>
              <a:ext cx="35568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doc_01" descr=""/>
            <p:cNvPicPr/>
            <p:nvPr/>
          </p:nvPicPr>
          <p:blipFill>
            <a:blip r:embed="rId19"/>
            <a:stretch/>
          </p:blipFill>
          <p:spPr>
            <a:xfrm>
              <a:off x="4713120" y="2178000"/>
              <a:ext cx="2145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doc_01" descr=""/>
            <p:cNvPicPr/>
            <p:nvPr/>
          </p:nvPicPr>
          <p:blipFill>
            <a:blip r:embed="rId20"/>
            <a:stretch/>
          </p:blipFill>
          <p:spPr>
            <a:xfrm>
              <a:off x="4673520" y="2098800"/>
              <a:ext cx="2145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memory_01" descr=""/>
            <p:cNvPicPr/>
            <p:nvPr/>
          </p:nvPicPr>
          <p:blipFill>
            <a:blip r:embed="rId21"/>
            <a:stretch/>
          </p:blipFill>
          <p:spPr>
            <a:xfrm>
              <a:off x="3805200" y="1563840"/>
              <a:ext cx="33192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doc_03" descr=""/>
            <p:cNvPicPr/>
            <p:nvPr/>
          </p:nvPicPr>
          <p:blipFill>
            <a:blip r:embed="rId22"/>
            <a:stretch/>
          </p:blipFill>
          <p:spPr>
            <a:xfrm>
              <a:off x="3962520" y="433404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352" name="doc_04" descr=""/>
            <p:cNvPicPr/>
            <p:nvPr/>
          </p:nvPicPr>
          <p:blipFill>
            <a:blip r:embed="rId23"/>
            <a:stretch/>
          </p:blipFill>
          <p:spPr>
            <a:xfrm>
              <a:off x="3884760" y="2058840"/>
              <a:ext cx="27612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doc_05gif" descr=""/>
            <p:cNvPicPr/>
            <p:nvPr/>
          </p:nvPicPr>
          <p:blipFill>
            <a:blip r:embed="rId24"/>
            <a:stretch/>
          </p:blipFill>
          <p:spPr>
            <a:xfrm>
              <a:off x="4554360" y="4253040"/>
              <a:ext cx="30492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5"/>
            <a:stretch/>
          </p:blipFill>
          <p:spPr>
            <a:xfrm>
              <a:off x="4476600" y="3691080"/>
              <a:ext cx="41148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6"/>
            <a:stretch/>
          </p:blipFill>
          <p:spPr>
            <a:xfrm>
              <a:off x="4302000" y="160344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doc_01" descr=""/>
            <p:cNvPicPr/>
            <p:nvPr/>
          </p:nvPicPr>
          <p:blipFill>
            <a:blip r:embed="rId27"/>
            <a:stretch/>
          </p:blipFill>
          <p:spPr>
            <a:xfrm>
              <a:off x="4753080" y="221760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28"/>
            <a:stretch/>
          </p:blipFill>
          <p:spPr>
            <a:xfrm>
              <a:off x="4791240" y="481176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29"/>
            <a:stretch/>
          </p:blipFill>
          <p:spPr>
            <a:xfrm>
              <a:off x="4278240" y="2217600"/>
              <a:ext cx="333360" cy="3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30"/>
            <a:stretch/>
          </p:blipFill>
          <p:spPr>
            <a:xfrm>
              <a:off x="4791240" y="166068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"/>
          <p:cNvSpPr txBox="1"/>
          <p:nvPr/>
        </p:nvSpPr>
        <p:spPr>
          <a:xfrm>
            <a:off x="6804000" y="460692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05520" y="1904760"/>
            <a:ext cx="2247840" cy="2503800"/>
            <a:chOff x="5105520" y="1904760"/>
            <a:chExt cx="2247840" cy="2503800"/>
          </a:xfrm>
        </p:grpSpPr>
        <p:sp>
          <p:nvSpPr>
            <p:cNvPr id="362" name=""/>
            <p:cNvSpPr/>
            <p:nvPr/>
          </p:nvSpPr>
          <p:spPr>
            <a:xfrm flipH="1" flipV="1">
              <a:off x="5105520" y="190476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21720" y="321336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211800" y="353232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04000" y="353232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909680" y="3413160"/>
            <a:ext cx="2130840" cy="1035000"/>
            <a:chOff x="4909680" y="3413160"/>
            <a:chExt cx="2130840" cy="1035000"/>
          </a:xfrm>
        </p:grpSpPr>
        <p:sp>
          <p:nvSpPr>
            <p:cNvPr id="367" name=""/>
            <p:cNvSpPr/>
            <p:nvPr/>
          </p:nvSpPr>
          <p:spPr>
            <a:xfrm flipH="1">
              <a:off x="4909680" y="341316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738760" y="347328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4440" y="353232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A85A-CA5F-4BC7-BAB4-BA0BBFE142A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nclusion CoMMA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3000" y="45684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Deux essais et une journée</a:t>
            </a:r>
            <a:br>
              <a:rPr sz="29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portes-ouverte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Résultats &amp; retour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blèmes ergonomiq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Sur-spécialis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roblème évaluation d'une solution intégré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as d'évaluation à grande échelle: groupes 4/6 utilisateu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Validation de l'idée: utilisabilité et utilité reconn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ntégration de résultats de domaines différ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Développeurs apprécient approche ontologie-ag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ntérêts industriel pour développement du prototy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Résultats </a:t>
            </a:r>
            <a:r>
              <a:rPr b="1" lang="fr-FR" sz="29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Thèse à soutenir le 7 Novembre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Améliorations en cours dans l'équipe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pseudo-distance &amp; algorithme de décomposi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wrappers fouille du Web : annotation semi-automat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rrespondance ontologies : connecter 2 SW entrepri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29080" indent="-371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réutilisation ontologie and intégration + outils T.A.L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53" name="Winner" descr=""/>
          <p:cNvPicPr/>
          <p:nvPr/>
        </p:nvPicPr>
        <p:blipFill>
          <a:blip r:embed="rId1"/>
          <a:stretch/>
        </p:blipFill>
        <p:spPr>
          <a:xfrm>
            <a:off x="4495680" y="685800"/>
            <a:ext cx="4648320" cy="1563840"/>
          </a:xfrm>
          <a:prstGeom prst="rect">
            <a:avLst/>
          </a:prstGeom>
          <a:ln w="0">
            <a:noFill/>
          </a:ln>
        </p:spPr>
      </p:pic>
      <p:sp>
        <p:nvSpPr>
          <p:cNvPr id="3754" name=""/>
          <p:cNvSpPr/>
          <p:nvPr/>
        </p:nvSpPr>
        <p:spPr>
          <a:xfrm rot="19264200">
            <a:off x="5595480" y="1274040"/>
            <a:ext cx="166716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48B3-6850-4183-87C0-7A9D4D7C2F5F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Rôle de l'ontologie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Ontologie comme 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clef de voûte IAD pour KM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nsensus de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représentation et modélisation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Communication entre humains (ontologie comme composant de la mémoire et base des annotations et modèle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Communication entre agents (c.f. mess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Structures formelles (annotations, schémas, etc.) pour inféren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Consensus ontologique pour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construire d'autres au-dessus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consensus computationnel, ex.: mesur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09224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consensus pour coopération, ex.: proto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Vice-versa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fr-FR" sz="2900" spc="-1" strike="noStrike">
                <a:solidFill>
                  <a:srgbClr val="000099"/>
                </a:solidFill>
                <a:latin typeface="Arial"/>
              </a:rPr>
              <a:t>IAD comme clef de voûte ontologie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Complémentarité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des domaines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.A.D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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Ontologi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I.A.D.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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Web Sémant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Ontologie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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Web Sémantiqu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B6FD-FE9E-4661-AF6F-10BADE590DF8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nclusions général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3360" y="533520"/>
            <a:ext cx="90806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7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Ce que je n'ai 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jamais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dit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CoMMA est une solution complète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ontologie, DAI..</a:t>
            </a:r>
            <a:r>
              <a:rPr b="0" i="1" lang="fr-FR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 sont des solutions miracles pour le KM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un système d'information = solution aux problèmes KM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une ontologie est facile à construire, utiliser, maintenir...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Ce que j'ai </a:t>
            </a:r>
            <a:r>
              <a:rPr b="1" lang="fr-FR" sz="2900" spc="-1" strike="noStrike">
                <a:solidFill>
                  <a:srgbClr val="cc3300"/>
                </a:solidFill>
                <a:latin typeface="Arial"/>
              </a:rPr>
              <a:t>effectivement</a:t>
            </a: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dit:</a:t>
            </a:r>
            <a:endParaRPr b="1" lang="en-US" sz="29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les systèmes à base de connaissances ne sont pas des systèmes experts classiques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l'ontologie est un nouveau concept en représentation des connaissances qui peut être utilisé dans une infrastructure supportant une solution complète de KM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Arial"/>
              </a:rPr>
              <a:t>"l'intelligence artificielle distribuée offre des paradigmes qui peuvent être utilisés pour des architectures logicielles adaptées à la gestion des connaissances distribuées"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73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Juste un exemple du fait qu'un peu de connaissances formelles et d'intelligence artificielle distribuée peuvent donner des outils puissants en particulier pour le K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BCFC5-8619-43FC-9FD4-E9A2AA14981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Connexion à CoMMA: Login et Agen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60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913440" cy="409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D769-7B5A-4F71-840B-866E2236506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Interface Agent: ontology-guided annotation submissio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6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B4BF-706C-4622-B191-F2FC6884E2E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Annotation allocation: 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contract-net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 based on 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pseudo-semantic distance bids</a:t>
            </a:r>
            <a:endParaRPr b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6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780A-8417-48E6-8E18-581F4FE6181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Interface Agent: Ontology-guided query on the corporate semantic web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6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935840" cy="552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64E2-B0D3-4F30-87D6-19BB30163AB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Query solving: multi-stage query-ref based on URI cut/joi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6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C19E-D8FF-4CD8-9665-DE61DFF9F46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Arial"/>
              </a:rPr>
              <a:t>Presenting and documenting results with the ontology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770" name="" descr=""/>
          <p:cNvPicPr/>
          <p:nvPr/>
        </p:nvPicPr>
        <p:blipFill>
          <a:blip r:embed="rId1"/>
          <a:stretch/>
        </p:blipFill>
        <p:spPr>
          <a:xfrm>
            <a:off x="1447920" y="628560"/>
            <a:ext cx="5999040" cy="537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DD3A-04DD-40C2-8F9B-1A728A64AAB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 txBox="1"/>
          <p:nvPr/>
        </p:nvSpPr>
        <p:spPr>
          <a:xfrm>
            <a:off x="2284560" y="2819520"/>
            <a:ext cx="487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505682"/>
                  </a:solidFill>
                  <a:miter/>
                </a:ln>
                <a:solidFill>
                  <a:srgbClr val="7278a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rci !</a:t>
            </a:r>
            <a:endParaRPr b="0" i="1" lang="en-US" sz="2400" spc="1" strike="noStrike">
              <a:ln w="9360">
                <a:solidFill>
                  <a:srgbClr val="505682"/>
                </a:solidFill>
                <a:miter/>
              </a:ln>
              <a:solidFill>
                <a:srgbClr val="7278a8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7AAA-E506-4914-8436-5264A3AED38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Arial"/>
              </a:rPr>
              <a:t>Aspects centraux aux scénario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09480" y="1143000"/>
            <a:ext cx="7772400" cy="4419720"/>
            <a:chOff x="609480" y="1143000"/>
            <a:chExt cx="7772400" cy="4419720"/>
          </a:xfrm>
        </p:grpSpPr>
        <p:grpSp>
          <p:nvGrpSpPr>
            <p:cNvPr id="372" name=""/>
            <p:cNvGrpSpPr/>
            <p:nvPr/>
          </p:nvGrpSpPr>
          <p:grpSpPr>
            <a:xfrm>
              <a:off x="609480" y="1143000"/>
              <a:ext cx="7772400" cy="4380120"/>
              <a:chOff x="609480" y="1143000"/>
              <a:chExt cx="7772400" cy="4380120"/>
            </a:xfrm>
          </p:grpSpPr>
          <p:sp>
            <p:nvSpPr>
              <p:cNvPr id="373" name=""/>
              <p:cNvSpPr/>
              <p:nvPr/>
            </p:nvSpPr>
            <p:spPr>
              <a:xfrm>
                <a:off x="609480" y="114300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3725640" y="1222560"/>
                <a:ext cx="1657080" cy="4181400"/>
                <a:chOff x="3725640" y="1222560"/>
                <a:chExt cx="1657080" cy="41814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25640" y="138132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884400" y="122256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415880" y="2576520"/>
                <a:ext cx="6532560" cy="995400"/>
                <a:chOff x="1415880" y="2576520"/>
                <a:chExt cx="6532560" cy="9954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415880" y="266220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229440" y="257652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286240" y="274824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438200" y="323856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32040" y="279900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3" name="agent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04880" y="288936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84" name=""/>
                <p:cNvGrpSpPr/>
                <p:nvPr/>
              </p:nvGrpSpPr>
              <p:grpSpPr>
                <a:xfrm>
                  <a:off x="5383080" y="2895840"/>
                  <a:ext cx="908280" cy="636120"/>
                  <a:chOff x="5383080" y="2895840"/>
                  <a:chExt cx="908280" cy="636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383080" y="325584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" name="agen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200" y="289584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387" name=""/>
                <p:cNvSpPr/>
                <p:nvPr/>
              </p:nvSpPr>
              <p:spPr>
                <a:xfrm>
                  <a:off x="3726000" y="266400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8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44640" y="29401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89" name=""/>
                <p:cNvSpPr/>
                <p:nvPr/>
              </p:nvSpPr>
              <p:spPr>
                <a:xfrm>
                  <a:off x="2463840" y="329436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91360" y="329112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764400" y="285120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37240" y="29419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93" name=""/>
                <p:cNvGrpSpPr/>
                <p:nvPr/>
              </p:nvGrpSpPr>
              <p:grpSpPr>
                <a:xfrm>
                  <a:off x="3252960" y="2708280"/>
                  <a:ext cx="907920" cy="635040"/>
                  <a:chOff x="3252960" y="2708280"/>
                  <a:chExt cx="907920" cy="635040"/>
                </a:xfrm>
              </p:grpSpPr>
              <p:pic>
                <p:nvPicPr>
                  <p:cNvPr id="394" name="agent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29080" y="270828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3252960" y="306684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766440" y="3611520"/>
              <a:ext cx="1101240" cy="1552680"/>
              <a:chOff x="766440" y="3611520"/>
              <a:chExt cx="1101240" cy="1552680"/>
            </a:xfrm>
          </p:grpSpPr>
          <p:sp>
            <p:nvSpPr>
              <p:cNvPr id="397" name=""/>
              <p:cNvSpPr/>
              <p:nvPr/>
            </p:nvSpPr>
            <p:spPr>
              <a:xfrm>
                <a:off x="766440" y="456732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1437840" y="3611520"/>
                <a:ext cx="429840" cy="1181160"/>
                <a:chOff x="1437840" y="3611520"/>
                <a:chExt cx="429840" cy="118116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437840" y="3611520"/>
                  <a:ext cx="210960" cy="97920"/>
                  <a:chOff x="1437840" y="3611520"/>
                  <a:chExt cx="210960" cy="97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1437840" y="368532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89680" y="362196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562400" y="361152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602720" y="364896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1512360" y="3681360"/>
                  <a:ext cx="355320" cy="1111320"/>
                  <a:chOff x="1512360" y="3681360"/>
                  <a:chExt cx="355320" cy="11113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1576440" y="386424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704240" y="368136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512360" y="408024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629000" y="406836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589400" y="432900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699920" y="432900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11" name="ampoule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7080" y="367272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12" name=""/>
            <p:cNvGrpSpPr/>
            <p:nvPr/>
          </p:nvGrpSpPr>
          <p:grpSpPr>
            <a:xfrm>
              <a:off x="688680" y="1222560"/>
              <a:ext cx="1774800" cy="1433520"/>
              <a:chOff x="688680" y="1222560"/>
              <a:chExt cx="1774800" cy="143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688680" y="229716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1240920" y="1222560"/>
                <a:ext cx="789120" cy="1231920"/>
                <a:chOff x="1240920" y="1222560"/>
                <a:chExt cx="789120" cy="12319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516320" y="1670400"/>
                  <a:ext cx="477360" cy="784080"/>
                  <a:chOff x="1516320" y="1670400"/>
                  <a:chExt cx="477360" cy="784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1725480" y="193104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768680" y="217764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0920" y="216396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516320" y="193176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836360" y="167040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681560" y="171396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527120" y="1222560"/>
                  <a:ext cx="236520" cy="239040"/>
                  <a:chOff x="1527120" y="1222560"/>
                  <a:chExt cx="236520" cy="2390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1527120" y="122256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4" name="doc_0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54120" y="124416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1240920" y="1346040"/>
                  <a:ext cx="255240" cy="278640"/>
                  <a:chOff x="1240920" y="1346040"/>
                  <a:chExt cx="255240" cy="2786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1240920" y="134604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7" name="doc_0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9200" y="136476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1398600" y="1665000"/>
                  <a:ext cx="204120" cy="245160"/>
                  <a:chOff x="1398600" y="1665000"/>
                  <a:chExt cx="204120" cy="245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1398600" y="166500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0" name="doc_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19120" y="168156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1793160" y="1386000"/>
                  <a:ext cx="236880" cy="278640"/>
                  <a:chOff x="1793160" y="1386000"/>
                  <a:chExt cx="236880" cy="2786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1793160" y="138600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3" name="doc_05gif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8560" y="141948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34" name=""/>
            <p:cNvGrpSpPr/>
            <p:nvPr/>
          </p:nvGrpSpPr>
          <p:grpSpPr>
            <a:xfrm>
              <a:off x="6960960" y="4368960"/>
              <a:ext cx="1106280" cy="1193760"/>
              <a:chOff x="6960960" y="4368960"/>
              <a:chExt cx="1106280" cy="1193760"/>
            </a:xfrm>
          </p:grpSpPr>
          <p:sp>
            <p:nvSpPr>
              <p:cNvPr id="435" name=""/>
              <p:cNvSpPr/>
              <p:nvPr/>
            </p:nvSpPr>
            <p:spPr>
              <a:xfrm>
                <a:off x="6960960" y="531504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7119360" y="4448160"/>
                <a:ext cx="430200" cy="903600"/>
                <a:chOff x="7119360" y="4448160"/>
                <a:chExt cx="430200" cy="903600"/>
              </a:xfrm>
            </p:grpSpPr>
            <p:sp>
              <p:nvSpPr>
                <p:cNvPr id="437" name=""/>
                <p:cNvSpPr/>
                <p:nvPr/>
              </p:nvSpPr>
              <p:spPr>
                <a:xfrm flipH="1">
                  <a:off x="7243920" y="449856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7355160" y="444816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7265520" y="471024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7164360" y="471852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7119000" y="497700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>
                  <a:off x="7299000" y="497628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7552800" y="4368960"/>
                <a:ext cx="473400" cy="396720"/>
                <a:chOff x="7552800" y="4368960"/>
                <a:chExt cx="473400" cy="3967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552800" y="436896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5" name="inter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669080" y="443916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46" name=""/>
            <p:cNvGrpSpPr/>
            <p:nvPr/>
          </p:nvGrpSpPr>
          <p:grpSpPr>
            <a:xfrm>
              <a:off x="2030040" y="1633680"/>
              <a:ext cx="1617840" cy="903240"/>
              <a:chOff x="2030040" y="1633680"/>
              <a:chExt cx="1617840" cy="90324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30040" y="210996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8" name=""/>
              <p:cNvGrpSpPr/>
              <p:nvPr/>
            </p:nvGrpSpPr>
            <p:grpSpPr>
              <a:xfrm>
                <a:off x="2306160" y="1633680"/>
                <a:ext cx="1025640" cy="903240"/>
                <a:chOff x="2306160" y="1633680"/>
                <a:chExt cx="1025640" cy="9032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306160" y="189972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06160" y="163368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23800" y="190260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700360" y="213516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382840" y="166428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5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11000" y="209880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5303520" y="4408560"/>
              <a:ext cx="1697040" cy="995400"/>
              <a:chOff x="5303520" y="4408560"/>
              <a:chExt cx="1697040" cy="9954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303520" y="488628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764040" y="488628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8" name=""/>
              <p:cNvGrpSpPr/>
              <p:nvPr/>
            </p:nvGrpSpPr>
            <p:grpSpPr>
              <a:xfrm>
                <a:off x="5579640" y="4408560"/>
                <a:ext cx="1104840" cy="995400"/>
                <a:chOff x="5579640" y="4408560"/>
                <a:chExt cx="1104840" cy="99540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5579640" y="4408560"/>
                  <a:ext cx="1026000" cy="902880"/>
                  <a:chOff x="5579640" y="4408560"/>
                  <a:chExt cx="1026000" cy="9028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579640" y="467460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579640" y="440856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597280" y="467712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74200" y="491004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56320" y="443916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618880" y="4448160"/>
                  <a:ext cx="1026000" cy="903240"/>
                  <a:chOff x="5618880" y="4448160"/>
                  <a:chExt cx="1026000" cy="9032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5618880" y="471420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618880" y="444816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636520" y="47170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3440" y="494964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95560" y="447876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5658480" y="4500720"/>
                  <a:ext cx="1026000" cy="903240"/>
                  <a:chOff x="5658480" y="4500720"/>
                  <a:chExt cx="1026000" cy="9032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5658480" y="47667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658480" y="450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676120" y="47696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53040" y="500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35160" y="453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77" name=""/>
            <p:cNvGrpSpPr/>
            <p:nvPr/>
          </p:nvGrpSpPr>
          <p:grpSpPr>
            <a:xfrm>
              <a:off x="2070000" y="3730680"/>
              <a:ext cx="2167920" cy="677520"/>
              <a:chOff x="2070000" y="3730680"/>
              <a:chExt cx="2167920" cy="677520"/>
            </a:xfrm>
          </p:grpSpPr>
          <p:pic>
            <p:nvPicPr>
              <p:cNvPr id="47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070000" y="401004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371400" y="401004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0" name=""/>
              <p:cNvGrpSpPr/>
              <p:nvPr/>
            </p:nvGrpSpPr>
            <p:grpSpPr>
              <a:xfrm>
                <a:off x="2266560" y="3730680"/>
                <a:ext cx="1007640" cy="677520"/>
                <a:chOff x="2266560" y="3730680"/>
                <a:chExt cx="1007640" cy="677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424240" y="377028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2" name="onto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581920" y="400392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2266560" y="373068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4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924000" y="397044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5" name=""/>
            <p:cNvGrpSpPr/>
            <p:nvPr/>
          </p:nvGrpSpPr>
          <p:grpSpPr>
            <a:xfrm>
              <a:off x="1857240" y="4481640"/>
              <a:ext cx="1631880" cy="882360"/>
              <a:chOff x="1857240" y="4481640"/>
              <a:chExt cx="1631880" cy="88236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1857240" y="4765680"/>
                <a:ext cx="1631880" cy="598320"/>
                <a:chOff x="1857240" y="4765680"/>
                <a:chExt cx="1631880" cy="59832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936080" y="480528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8" name="onto_02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75320" y="500940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>
                  <a:off x="1857240" y="476568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158920" y="496512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9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660400" y="448164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2" name=""/>
            <p:cNvGrpSpPr/>
            <p:nvPr/>
          </p:nvGrpSpPr>
          <p:grpSpPr>
            <a:xfrm>
              <a:off x="3371760" y="4846680"/>
              <a:ext cx="1065240" cy="357120"/>
              <a:chOff x="3371760" y="4846680"/>
              <a:chExt cx="1065240" cy="357120"/>
            </a:xfrm>
          </p:grpSpPr>
          <p:pic>
            <p:nvPicPr>
              <p:cNvPr id="49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371760" y="49262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onto_02" descr=""/>
              <p:cNvPicPr/>
              <p:nvPr/>
            </p:nvPicPr>
            <p:blipFill>
              <a:blip r:embed="rId31"/>
              <a:stretch/>
            </p:blipFill>
            <p:spPr>
              <a:xfrm>
                <a:off x="4081320" y="484668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5" name=""/>
            <p:cNvGrpSpPr/>
            <p:nvPr/>
          </p:nvGrpSpPr>
          <p:grpSpPr>
            <a:xfrm>
              <a:off x="7040160" y="3635640"/>
              <a:ext cx="631800" cy="772920"/>
              <a:chOff x="7040160" y="3635640"/>
              <a:chExt cx="631800" cy="772920"/>
            </a:xfrm>
          </p:grpSpPr>
          <p:pic>
            <p:nvPicPr>
              <p:cNvPr id="496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7237080" y="416880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7" name=""/>
              <p:cNvGrpSpPr/>
              <p:nvPr/>
            </p:nvGrpSpPr>
            <p:grpSpPr>
              <a:xfrm>
                <a:off x="7040160" y="3635640"/>
                <a:ext cx="631800" cy="490320"/>
                <a:chOff x="7040160" y="3635640"/>
                <a:chExt cx="631800" cy="490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079400" y="368784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40160" y="363564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0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277040" y="386892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1" name=""/>
            <p:cNvGrpSpPr/>
            <p:nvPr/>
          </p:nvGrpSpPr>
          <p:grpSpPr>
            <a:xfrm>
              <a:off x="3804840" y="1563840"/>
              <a:ext cx="1301760" cy="3565440"/>
              <a:chOff x="3804840" y="1563840"/>
              <a:chExt cx="1301760" cy="3565440"/>
            </a:xfrm>
          </p:grpSpPr>
          <p:pic>
            <p:nvPicPr>
              <p:cNvPr id="502" name="doc_0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713120" y="217800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4673520" y="209880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memory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3804840" y="156384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doc_0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962160" y="433404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506" name="doc_04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84400" y="205920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doc_05gif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4360" y="425304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476600" y="369108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302000" y="160344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doc_01" descr=""/>
              <p:cNvPicPr/>
              <p:nvPr/>
            </p:nvPicPr>
            <p:blipFill>
              <a:blip r:embed="rId42"/>
              <a:stretch/>
            </p:blipFill>
            <p:spPr>
              <a:xfrm>
                <a:off x="4752720" y="2217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790880" y="481176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4278240" y="221796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790880" y="166068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4" name=""/>
            <p:cNvSpPr txBox="1"/>
            <p:nvPr/>
          </p:nvSpPr>
          <p:spPr>
            <a:xfrm>
              <a:off x="1950840" y="448812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2620800" y="134172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6803640" y="460692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1990440" y="3452760"/>
              <a:ext cx="1971720" cy="1273320"/>
              <a:chOff x="1990440" y="3452760"/>
              <a:chExt cx="1971720" cy="1273320"/>
            </a:xfrm>
          </p:grpSpPr>
          <p:sp>
            <p:nvSpPr>
              <p:cNvPr id="518" name=""/>
              <p:cNvSpPr/>
              <p:nvPr/>
            </p:nvSpPr>
            <p:spPr>
              <a:xfrm>
                <a:off x="3292200" y="345276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1990440" y="345276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34880" y="353232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1555560" y="2457720"/>
              <a:ext cx="947160" cy="396720"/>
              <a:chOff x="1555560" y="2457720"/>
              <a:chExt cx="947160" cy="396720"/>
            </a:xfrm>
          </p:grpSpPr>
          <p:sp>
            <p:nvSpPr>
              <p:cNvPr id="522" name=""/>
              <p:cNvSpPr/>
              <p:nvPr/>
            </p:nvSpPr>
            <p:spPr>
              <a:xfrm>
                <a:off x="1555560" y="256248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870920" y="245772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105160" y="1904760"/>
              <a:ext cx="2247840" cy="2503800"/>
              <a:chOff x="5105160" y="1904760"/>
              <a:chExt cx="2247840" cy="2503800"/>
            </a:xfrm>
          </p:grpSpPr>
          <p:sp>
            <p:nvSpPr>
              <p:cNvPr id="525" name=""/>
              <p:cNvSpPr/>
              <p:nvPr/>
            </p:nvSpPr>
            <p:spPr>
              <a:xfrm flipH="1" flipV="1">
                <a:off x="5105160" y="190476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921360" y="321336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6211440" y="353232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03640" y="353232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4910040" y="3413160"/>
              <a:ext cx="2129760" cy="1035000"/>
              <a:chOff x="4910040" y="3413160"/>
              <a:chExt cx="2129760" cy="1035000"/>
            </a:xfrm>
          </p:grpSpPr>
          <p:sp>
            <p:nvSpPr>
              <p:cNvPr id="530" name=""/>
              <p:cNvSpPr/>
              <p:nvPr/>
            </p:nvSpPr>
            <p:spPr>
              <a:xfrm flipH="1">
                <a:off x="4910040" y="341316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738400" y="347328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4080" y="353232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2133720" y="1015920"/>
            <a:ext cx="4724280" cy="4648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1680" y="1015920"/>
            <a:ext cx="1752840" cy="32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2629080"/>
            <a:ext cx="1600200" cy="327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4305240"/>
            <a:ext cx="152388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1168560"/>
            <a:ext cx="1524240" cy="144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FF09-3AFA-4217-AEAA-8005C2206B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27:51Z</dcterms:created>
  <dc:creator>Fabien GANDON</dc:creator>
  <dc:description/>
  <dc:language>en-US</dc:language>
  <cp:lastModifiedBy>Fabien GANDON</cp:lastModifiedBy>
  <dcterms:modified xsi:type="dcterms:W3CDTF">2002-10-08T07:37:39Z</dcterms:modified>
  <cp:revision>72</cp:revision>
  <dc:subject/>
  <dc:title>Fabien GANDON</dc:title>
</cp:coreProperties>
</file>