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435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720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435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67200" y="4435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93000" y="2286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53200" y="2286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435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93000" y="4435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53200" y="4435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67200" y="2286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200" y="2286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435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6720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67200" y="4435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7200" y="2286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435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Click to edit the title text format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" name="cec_small" descr=""/>
          <p:cNvPicPr/>
          <p:nvPr/>
        </p:nvPicPr>
        <p:blipFill>
          <a:blip r:embed="rId3"/>
          <a:stretch/>
        </p:blipFill>
        <p:spPr>
          <a:xfrm>
            <a:off x="7631280" y="6095880"/>
            <a:ext cx="11318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Towards a Common Methodology for </a:t>
            </a:r>
            <a:br>
              <a:rPr sz="4400"/>
            </a:b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Knowledge Management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990360" y="3580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Albert Bokma, Gill Mallalieu &amp; Andrew Slad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School of Computing, Engineering and Technology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University of Sunderland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albert.bokma@sunderland.ac.uk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Summary of Requirements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Bridging the organisational-technical divide (tandem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Managing explicit ant tacit Knowledge together (symbiotic)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takeholder orientation for improved suc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Integration of knowledge with information managemen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Transparency of socio-technical system to the user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Intuitive and context preserving navigation and brows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Supporting process and non-process orientation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Full life-cycle support through evolutionary paradigm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analysis, design, implementation and evolution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Common KM Method Concept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2286000"/>
            <a:ext cx="5334120" cy="3962520"/>
          </a:xfrm>
          <a:prstGeom prst="triangle">
            <a:avLst>
              <a:gd name="adj" fmla="val 50000"/>
            </a:avLst>
          </a:prstGeom>
          <a:solidFill>
            <a:srgbClr val="00ac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352680" y="4343400"/>
            <a:ext cx="2286000" cy="17524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4495680"/>
            <a:ext cx="2209680" cy="16002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Organis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Requirement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514600"/>
            <a:ext cx="2133720" cy="1676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4419720"/>
            <a:ext cx="2209680" cy="1676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Technical </a:t>
            </a: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 Narrow"/>
              </a:rPr>
              <a:t>Requirement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10520" y="44956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Unified KM </a:t>
            </a:r>
            <a:br>
              <a:rPr sz="1600"/>
            </a:b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ystem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21680" y="3533760"/>
            <a:ext cx="153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ystem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Overview and Proviso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 position paper to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vestigate requirements for a common knowledge management method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the case for an integrated metho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tarting points provided elsewher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a cognitive network exampl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key requirements for a common method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KM method concep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Background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Organisational and technical approaches exist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There is a lack of a integrated and holistic approach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bridging the socio-technical divid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panning the whole life-cycle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managing both explicit and tacit aspects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solutions transparent to the user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evolutionary approaches that evolve with the need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Identified in the Literature...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Franklin Gothic Book"/>
              </a:rPr>
              <a:t>A number of methods and tools exist (Dieng et al.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Franklin Gothic Book"/>
              </a:rPr>
              <a:t>Need for: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better integration between technical and organisational aspects </a:t>
            </a: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(Akkermans et al.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approaches that should involve stakeholder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(Macaulay &amp; Akkermans et al.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addressing  the dichotomy between tacit and explicit knowledge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(Nonaka et al.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ongoing support that evolves with changing needs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Franklin Gothic Book"/>
              </a:rPr>
              <a:t>(van Heijst et al &amp; Kuhn et al.)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KADS and CommonKADS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n method originally for KBS develop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rovides for an integrated set of model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organisational, application, task, cooperation, expertise, conceptual &amp; design mode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Capable of modelling of socio-technical aspect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Has been adapted for KM in CommonKA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Book"/>
              </a:rPr>
              <a:t>including treatment of tacit and explicit knowledge and using UML modelling techniqu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133720"/>
            <a:ext cx="632484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KADS Model Set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pic>
        <p:nvPicPr>
          <p:cNvPr id="51" name="km" descr=""/>
          <p:cNvPicPr/>
          <p:nvPr/>
        </p:nvPicPr>
        <p:blipFill>
          <a:blip r:embed="rId2"/>
          <a:stretch/>
        </p:blipFill>
        <p:spPr>
          <a:xfrm>
            <a:off x="2819520" y="2209680"/>
            <a:ext cx="3267000" cy="37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94240" y="5943600"/>
            <a:ext cx="54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rce: Schreiber G et al., “KADS: A Principled Approach to Knowledge Based System Development”, Academic Press 19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a827"/>
                </a:solidFill>
                <a:latin typeface="Franklin Gothic Medium Cond"/>
              </a:rPr>
              <a:t>CommonKADS Approach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pic>
        <p:nvPicPr>
          <p:cNvPr id="54" name="km3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5639040" cy="4033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6262560"/>
            <a:ext cx="5639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ource: Schreiber A. Th. et al., “Knowledge Engineering and Management: The CommonKADS Methodology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CogNet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An approach currently being develop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egrating information and knowledge management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Intuitive navigation of shared information and knowledg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Preservation of context for browsing and interpret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Balance between individual and organisational need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827"/>
                </a:solidFill>
                <a:latin typeface="Franklin Gothic Medium Cond"/>
              </a:rPr>
              <a:t>CogNet Example</a:t>
            </a:r>
            <a:endParaRPr b="0" lang="en-US" sz="4400" spc="-1" strike="noStrike">
              <a:solidFill>
                <a:srgbClr val="ffa827"/>
              </a:solidFill>
              <a:latin typeface="Franklin Gothic Medium Cond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143000" y="2209680"/>
            <a:ext cx="7086600" cy="3741840"/>
            <a:chOff x="1143000" y="2209680"/>
            <a:chExt cx="7086600" cy="3741840"/>
          </a:xfrm>
        </p:grpSpPr>
        <p:sp>
          <p:nvSpPr>
            <p:cNvPr id="60" name=""/>
            <p:cNvSpPr/>
            <p:nvPr/>
          </p:nvSpPr>
          <p:spPr>
            <a:xfrm>
              <a:off x="1143000" y="2209680"/>
              <a:ext cx="7086600" cy="374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49600" y="2658960"/>
              <a:ext cx="425520" cy="179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3954600" y="2780280"/>
              <a:ext cx="307800" cy="25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0160" y="2946240"/>
              <a:ext cx="344520" cy="113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59080" y="2519280"/>
              <a:ext cx="2664000" cy="101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646280" y="2675160"/>
              <a:ext cx="433440" cy="169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482840" y="2420280"/>
              <a:ext cx="1675800" cy="166320"/>
              <a:chOff x="1482840" y="2420280"/>
              <a:chExt cx="1675800" cy="166320"/>
            </a:xfrm>
          </p:grpSpPr>
          <p:sp>
            <p:nvSpPr>
              <p:cNvPr id="67" name=""/>
              <p:cNvSpPr/>
              <p:nvPr/>
            </p:nvSpPr>
            <p:spPr>
              <a:xfrm>
                <a:off x="1587960" y="2420280"/>
                <a:ext cx="1465920" cy="166320"/>
              </a:xfrm>
              <a:prstGeom prst="roundRect">
                <a:avLst>
                  <a:gd name="adj" fmla="val 375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82840" y="2451240"/>
                <a:ext cx="167580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sz="800" spc="-1" strike="noStrike">
                    <a:solidFill>
                      <a:srgbClr val="000000"/>
                    </a:solidFill>
                    <a:latin typeface="Arial"/>
                  </a:rPr>
                  <a:t>Computer Scie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281240" y="4405320"/>
              <a:ext cx="7700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2360" y="3099240"/>
              <a:ext cx="91296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BSc Comput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15280" y="2571840"/>
              <a:ext cx="1158840" cy="1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Subje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60720" y="4832280"/>
              <a:ext cx="46188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71720" y="4640760"/>
              <a:ext cx="770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Research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46280" y="5135040"/>
              <a:ext cx="770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Acad Staf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02120" y="279072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Program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0040" y="3057480"/>
              <a:ext cx="998280" cy="1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BSc Media System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03720" y="2721600"/>
              <a:ext cx="99864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BSc Info Te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2480" y="2860920"/>
              <a:ext cx="7700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Softw E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6440" y="2959920"/>
              <a:ext cx="95256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Art. Intellig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877840" y="2935800"/>
              <a:ext cx="214200" cy="106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883120" y="2700720"/>
              <a:ext cx="142920" cy="130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360" y="2721600"/>
              <a:ext cx="466920" cy="20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0880" y="2679480"/>
              <a:ext cx="432000" cy="65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491840" y="4584960"/>
              <a:ext cx="95400" cy="200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11440" y="4565880"/>
              <a:ext cx="297000" cy="522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3680" y="4504320"/>
              <a:ext cx="317520" cy="137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88320" y="2715840"/>
              <a:ext cx="512640" cy="1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Info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84960" y="4883400"/>
              <a:ext cx="260280" cy="208080"/>
            </a:xfrm>
            <a:prstGeom prst="smileyFace">
              <a:avLst>
                <a:gd name="adj" fmla="val 928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56520" y="5117040"/>
              <a:ext cx="368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Arial"/>
                </a:rPr>
                <a:t>User1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5880" y="4696200"/>
              <a:ext cx="260280" cy="204840"/>
            </a:xfrm>
            <a:prstGeom prst="smileyFace">
              <a:avLst>
                <a:gd name="adj" fmla="val 928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6280" y="4908960"/>
              <a:ext cx="368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Arial"/>
                </a:rPr>
                <a:t>User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6759720" y="4060440"/>
              <a:ext cx="546120" cy="675360"/>
              <a:chOff x="6759720" y="4060440"/>
              <a:chExt cx="546120" cy="6753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834960" y="4060440"/>
                <a:ext cx="260640" cy="265320"/>
                <a:chOff x="6834960" y="4060440"/>
                <a:chExt cx="260640" cy="26532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6834960" y="4060440"/>
                  <a:ext cx="260640" cy="265320"/>
                  <a:chOff x="6834960" y="4060440"/>
                  <a:chExt cx="260640" cy="26532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 flipV="1">
                    <a:off x="6864840" y="4060080"/>
                    <a:ext cx="230760" cy="23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6834960" y="4086000"/>
                    <a:ext cx="224640" cy="239400"/>
                  </a:xfrm>
                  <a:prstGeom prst="foldedCorner">
                    <a:avLst>
                      <a:gd name="adj" fmla="val 4068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6870240" y="4159080"/>
                  <a:ext cx="158400" cy="141480"/>
                  <a:chOff x="6870240" y="4159080"/>
                  <a:chExt cx="158400" cy="14148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6905520" y="4198320"/>
                    <a:ext cx="123120" cy="10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0240" y="4159080"/>
                    <a:ext cx="111240" cy="108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6759720" y="4119120"/>
                <a:ext cx="546120" cy="616680"/>
                <a:chOff x="6759720" y="4119120"/>
                <a:chExt cx="546120" cy="61668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6905880" y="4119120"/>
                  <a:ext cx="261000" cy="265320"/>
                  <a:chOff x="6905880" y="4119120"/>
                  <a:chExt cx="261000" cy="26532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6905880" y="4119120"/>
                    <a:ext cx="261000" cy="265320"/>
                    <a:chOff x="6905880" y="4119120"/>
                    <a:chExt cx="261000" cy="26532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 flipV="1">
                      <a:off x="6935760" y="4118760"/>
                      <a:ext cx="231120" cy="233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flipV="1">
                      <a:off x="6905880" y="4144680"/>
                      <a:ext cx="225000" cy="239400"/>
                    </a:xfrm>
                    <a:prstGeom prst="foldedCorner">
                      <a:avLst>
                        <a:gd name="adj" fmla="val 40685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6941160" y="4217760"/>
                    <a:ext cx="158760" cy="141480"/>
                    <a:chOff x="6941160" y="4217760"/>
                    <a:chExt cx="158760" cy="14148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976440" y="4257000"/>
                      <a:ext cx="12348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6941160" y="4217760"/>
                      <a:ext cx="111600" cy="1083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000" rIns="18000" tIns="-108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8" name=""/>
                <p:cNvSpPr/>
                <p:nvPr/>
              </p:nvSpPr>
              <p:spPr>
                <a:xfrm>
                  <a:off x="6759720" y="4430880"/>
                  <a:ext cx="5461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700" spc="-1" strike="noStrike">
                      <a:solidFill>
                        <a:srgbClr val="000000"/>
                      </a:solidFill>
                      <a:latin typeface="Arial"/>
                    </a:rPr>
                    <a:t>Old Teach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700" spc="-1" strike="noStrike">
                      <a:solidFill>
                        <a:srgbClr val="000000"/>
                      </a:solidFill>
                      <a:latin typeface="Arial"/>
                    </a:rPr>
                    <a:t>Material 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475760" y="4075560"/>
              <a:ext cx="260280" cy="265320"/>
              <a:chOff x="7475760" y="4075560"/>
              <a:chExt cx="260280" cy="26532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7505640" y="4075200"/>
                <a:ext cx="230400" cy="23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475760" y="4101840"/>
                <a:ext cx="223920" cy="239040"/>
              </a:xfrm>
              <a:prstGeom prst="foldedCorner">
                <a:avLst>
                  <a:gd name="adj" fmla="val 4068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569360" y="4144320"/>
              <a:ext cx="261360" cy="266040"/>
              <a:chOff x="7569360" y="4144320"/>
              <a:chExt cx="261360" cy="26604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599240" y="4143960"/>
                <a:ext cx="231480" cy="234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569360" y="4169880"/>
                <a:ext cx="225360" cy="240120"/>
              </a:xfrm>
              <a:prstGeom prst="foldedCorner">
                <a:avLst>
                  <a:gd name="adj" fmla="val 4068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7435800" y="4437000"/>
              <a:ext cx="6159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>
                  <a:solidFill>
                    <a:srgbClr val="000000"/>
                  </a:solidFill>
                  <a:latin typeface="Arial"/>
                </a:rPr>
                <a:t>Old Module Spec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422880" y="4518720"/>
              <a:ext cx="60300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149280" y="4312440"/>
              <a:ext cx="58680" cy="31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687760" y="4206240"/>
              <a:ext cx="45072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792760" y="4455000"/>
              <a:ext cx="56700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760920" y="4110120"/>
              <a:ext cx="254160" cy="16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885920" y="4809960"/>
              <a:ext cx="51444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330520" y="4492080"/>
              <a:ext cx="18900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673960" y="4710960"/>
              <a:ext cx="586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316320" y="3974040"/>
              <a:ext cx="27144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275360" y="4510080"/>
              <a:ext cx="2253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634440" y="4622400"/>
              <a:ext cx="16488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693120" y="4658760"/>
              <a:ext cx="8650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827680" y="4883040"/>
              <a:ext cx="36828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975120" y="3988800"/>
              <a:ext cx="451080" cy="509040"/>
              <a:chOff x="3975120" y="3988800"/>
              <a:chExt cx="451080" cy="509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050000" y="3988800"/>
                <a:ext cx="260640" cy="265680"/>
                <a:chOff x="4050000" y="3988800"/>
                <a:chExt cx="260640" cy="26568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4050000" y="3988800"/>
                  <a:ext cx="260640" cy="265680"/>
                  <a:chOff x="4050000" y="3988800"/>
                  <a:chExt cx="260640" cy="2656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V="1">
                    <a:off x="4079880" y="3988800"/>
                    <a:ext cx="230760" cy="23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V="1">
                    <a:off x="4050000" y="4014720"/>
                    <a:ext cx="224640" cy="239760"/>
                  </a:xfrm>
                  <a:prstGeom prst="foldedCorner">
                    <a:avLst>
                      <a:gd name="adj" fmla="val 4068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085280" y="4087080"/>
                  <a:ext cx="158400" cy="141480"/>
                  <a:chOff x="4085280" y="4087080"/>
                  <a:chExt cx="158400" cy="1414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120560" y="4126320"/>
                    <a:ext cx="123120" cy="10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085280" y="4087080"/>
                    <a:ext cx="111240" cy="1083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8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7" name=""/>
              <p:cNvSpPr/>
              <p:nvPr/>
            </p:nvSpPr>
            <p:spPr>
              <a:xfrm>
                <a:off x="3975120" y="4290840"/>
                <a:ext cx="451080" cy="2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700" spc="-1" strike="noStrike">
                    <a:solidFill>
                      <a:srgbClr val="000000"/>
                    </a:solidFill>
                    <a:latin typeface="Arial"/>
                  </a:rPr>
                  <a:t>Teach Materia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4897440" y="4448880"/>
              <a:ext cx="12888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09920" y="3346560"/>
              <a:ext cx="12128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COM362 </a:t>
              </a:r>
              <a:br>
                <a:rPr sz="800"/>
              </a:b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Knowledge Eng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89720" y="3267000"/>
              <a:ext cx="10350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COM363 </a:t>
              </a:r>
              <a:br>
                <a:rPr sz="800"/>
              </a:b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Art. Intellig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33720" y="3231000"/>
              <a:ext cx="129960" cy="8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3760" y="3213000"/>
              <a:ext cx="201600" cy="95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83160" y="3650040"/>
              <a:ext cx="320760" cy="53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316320" y="3650040"/>
              <a:ext cx="5684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092560" y="3585600"/>
              <a:ext cx="106200" cy="29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294520" y="3585960"/>
              <a:ext cx="1092240" cy="10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737240" y="3577320"/>
              <a:ext cx="214200" cy="10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33880" y="3650400"/>
              <a:ext cx="460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9120" y="3587760"/>
              <a:ext cx="451080" cy="52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2818080" y="3650040"/>
              <a:ext cx="93636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389560" y="3585600"/>
              <a:ext cx="80640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508720" y="3596040"/>
              <a:ext cx="14097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932200" y="3762720"/>
              <a:ext cx="403200" cy="510840"/>
              <a:chOff x="2932200" y="3762720"/>
              <a:chExt cx="403200" cy="51084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2983320" y="3762720"/>
                <a:ext cx="260280" cy="266040"/>
                <a:chOff x="2983320" y="3762720"/>
                <a:chExt cx="260280" cy="266040"/>
              </a:xfrm>
            </p:grpSpPr>
            <p:sp>
              <p:nvSpPr>
                <p:cNvPr id="155" name=""/>
                <p:cNvSpPr/>
                <p:nvPr/>
              </p:nvSpPr>
              <p:spPr>
                <a:xfrm flipV="1">
                  <a:off x="3013200" y="3762360"/>
                  <a:ext cx="230400" cy="23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2983320" y="3788280"/>
                  <a:ext cx="224280" cy="240120"/>
                </a:xfrm>
                <a:prstGeom prst="foldedCorner">
                  <a:avLst>
                    <a:gd name="adj" fmla="val 4068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2932200" y="4056120"/>
                <a:ext cx="40320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700" spc="-1" strike="noStrike">
                    <a:solidFill>
                      <a:srgbClr val="000000"/>
                    </a:solidFill>
                    <a:latin typeface="Arial"/>
                  </a:rPr>
                  <a:t>Module Spe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380040" y="4276440"/>
              <a:ext cx="365040" cy="194400"/>
            </a:xfrm>
            <a:prstGeom prst="cloudCallout">
              <a:avLst>
                <a:gd name="adj1" fmla="val 31939"/>
                <a:gd name="adj2" fmla="val 80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1560" y="3318120"/>
              <a:ext cx="770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KB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28000" y="3115800"/>
              <a:ext cx="184320" cy="143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24800" y="3087360"/>
              <a:ext cx="101520" cy="201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244920" y="3125880"/>
              <a:ext cx="195480" cy="96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94640" y="3241440"/>
              <a:ext cx="769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Neur. Netw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02640" y="327024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800" spc="-1" strike="noStrike">
                  <a:solidFill>
                    <a:srgbClr val="000000"/>
                  </a:solidFill>
                  <a:latin typeface="Arial"/>
                </a:rPr>
                <a:t>NL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35920" y="4703760"/>
              <a:ext cx="365040" cy="196200"/>
            </a:xfrm>
            <a:prstGeom prst="cloudCallout">
              <a:avLst>
                <a:gd name="adj1" fmla="val 31939"/>
                <a:gd name="adj2" fmla="val 80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18000" y="4645080"/>
              <a:ext cx="365400" cy="194400"/>
            </a:xfrm>
            <a:prstGeom prst="cloudCallout">
              <a:avLst>
                <a:gd name="adj1" fmla="val 31939"/>
                <a:gd name="adj2" fmla="val 80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018040" y="3936240"/>
              <a:ext cx="403560" cy="510840"/>
              <a:chOff x="5018040" y="3936240"/>
              <a:chExt cx="403560" cy="5108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069520" y="3936240"/>
                <a:ext cx="260640" cy="267120"/>
                <a:chOff x="5069520" y="3936240"/>
                <a:chExt cx="260640" cy="267120"/>
              </a:xfrm>
            </p:grpSpPr>
            <p:sp>
              <p:nvSpPr>
                <p:cNvPr id="169" name=""/>
                <p:cNvSpPr/>
                <p:nvPr/>
              </p:nvSpPr>
              <p:spPr>
                <a:xfrm flipV="1">
                  <a:off x="5099400" y="3935880"/>
                  <a:ext cx="230760" cy="23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069520" y="3962880"/>
                  <a:ext cx="224640" cy="240480"/>
                </a:xfrm>
                <a:prstGeom prst="foldedCorner">
                  <a:avLst>
                    <a:gd name="adj" fmla="val 4068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5018040" y="4229640"/>
                <a:ext cx="403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700" spc="-1" strike="noStrike">
                    <a:solidFill>
                      <a:srgbClr val="000000"/>
                    </a:solidFill>
                    <a:latin typeface="Arial"/>
                  </a:rPr>
                  <a:t>Module Spec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5516640" y="4173120"/>
              <a:ext cx="449280" cy="511200"/>
              <a:chOff x="5516640" y="4173120"/>
              <a:chExt cx="449280" cy="5112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5591520" y="4173120"/>
                <a:ext cx="259920" cy="267120"/>
                <a:chOff x="5591520" y="4173120"/>
                <a:chExt cx="259920" cy="26712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5591520" y="4173120"/>
                  <a:ext cx="259920" cy="267120"/>
                  <a:chOff x="5591520" y="4173120"/>
                  <a:chExt cx="259920" cy="2671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V="1">
                    <a:off x="5621400" y="4172760"/>
                    <a:ext cx="230040" cy="23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V="1">
                    <a:off x="5591520" y="4199760"/>
                    <a:ext cx="223560" cy="240480"/>
                  </a:xfrm>
                  <a:prstGeom prst="foldedCorner">
                    <a:avLst>
                      <a:gd name="adj" fmla="val 4068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5626800" y="4272120"/>
                  <a:ext cx="158040" cy="142200"/>
                  <a:chOff x="5626800" y="4272120"/>
                  <a:chExt cx="158040" cy="1422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5662080" y="4311720"/>
                    <a:ext cx="122760" cy="102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626800" y="4272120"/>
                    <a:ext cx="110880" cy="108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-1044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5516640" y="4476600"/>
                <a:ext cx="44928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700" spc="-1" strike="noStrike">
                    <a:solidFill>
                      <a:srgbClr val="000000"/>
                    </a:solidFill>
                    <a:latin typeface="Arial"/>
                  </a:rPr>
                  <a:t>Teach Materia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flipV="1">
              <a:off x="3351240" y="4535280"/>
              <a:ext cx="1540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11640" y="3762720"/>
              <a:ext cx="403200" cy="510840"/>
              <a:chOff x="2411640" y="3762720"/>
              <a:chExt cx="403200" cy="51084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2411640" y="3762720"/>
                <a:ext cx="403200" cy="510840"/>
                <a:chOff x="2411640" y="3762720"/>
                <a:chExt cx="403200" cy="5108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2462760" y="3762720"/>
                  <a:ext cx="260280" cy="266040"/>
                  <a:chOff x="2462760" y="3762720"/>
                  <a:chExt cx="260280" cy="2660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V="1">
                    <a:off x="2492640" y="3762360"/>
                    <a:ext cx="230400" cy="23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2462760" y="3788280"/>
                    <a:ext cx="224280" cy="240120"/>
                  </a:xfrm>
                  <a:prstGeom prst="foldedCorner">
                    <a:avLst>
                      <a:gd name="adj" fmla="val 4068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>
                  <a:off x="2411640" y="4056120"/>
                  <a:ext cx="40320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sz="700" spc="-1" strike="noStrike">
                      <a:solidFill>
                        <a:srgbClr val="000000"/>
                      </a:solidFill>
                      <a:latin typeface="Arial"/>
                    </a:rPr>
                    <a:t>Exam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2486160" y="3848040"/>
                <a:ext cx="154080" cy="158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215040" y="4033800"/>
              <a:ext cx="403200" cy="510840"/>
              <a:chOff x="6215040" y="4033800"/>
              <a:chExt cx="403200" cy="51084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6266160" y="4033800"/>
                <a:ext cx="260280" cy="266040"/>
                <a:chOff x="6266160" y="4033800"/>
                <a:chExt cx="260280" cy="26604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6296040" y="4033440"/>
                  <a:ext cx="230400" cy="234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6266160" y="4059360"/>
                  <a:ext cx="224280" cy="240120"/>
                </a:xfrm>
                <a:prstGeom prst="foldedCorner">
                  <a:avLst>
                    <a:gd name="adj" fmla="val 4068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6215040" y="4327200"/>
                <a:ext cx="40320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700" spc="-1" strike="noStrike">
                    <a:solidFill>
                      <a:srgbClr val="000000"/>
                    </a:solidFill>
                    <a:latin typeface="Arial"/>
                  </a:rPr>
                  <a:t>Exam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 flipV="1">
              <a:off x="5615280" y="3596400"/>
              <a:ext cx="1860480" cy="43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427480" y="4923720"/>
              <a:ext cx="63972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414880" y="5088240"/>
              <a:ext cx="299844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330520" y="3400200"/>
              <a:ext cx="911160" cy="495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12960" y="3470760"/>
              <a:ext cx="1860840" cy="57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424480" y="3478320"/>
              <a:ext cx="1387440" cy="475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0520" y="5445360"/>
              <a:ext cx="317520" cy="165960"/>
            </a:xfrm>
            <a:prstGeom prst="cloudCallout">
              <a:avLst>
                <a:gd name="adj1" fmla="val 31939"/>
                <a:gd name="adj2" fmla="val 807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10320" y="5434560"/>
              <a:ext cx="225720" cy="186840"/>
            </a:xfrm>
            <a:prstGeom prst="smileyFace">
              <a:avLst>
                <a:gd name="adj" fmla="val 9282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754440" y="5424120"/>
              <a:ext cx="212760" cy="207720"/>
              <a:chOff x="3754440" y="5424120"/>
              <a:chExt cx="212760" cy="2077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3754440" y="5424120"/>
                <a:ext cx="212760" cy="207720"/>
                <a:chOff x="3754440" y="5424120"/>
                <a:chExt cx="212760" cy="207720"/>
              </a:xfrm>
            </p:grpSpPr>
            <p:sp>
              <p:nvSpPr>
                <p:cNvPr id="204" name=""/>
                <p:cNvSpPr/>
                <p:nvPr/>
              </p:nvSpPr>
              <p:spPr>
                <a:xfrm flipV="1">
                  <a:off x="3778920" y="5424120"/>
                  <a:ext cx="188280" cy="18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3754440" y="5443920"/>
                  <a:ext cx="183240" cy="187560"/>
                </a:xfrm>
                <a:prstGeom prst="foldedCorner">
                  <a:avLst>
                    <a:gd name="adj" fmla="val 40685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783240" y="5501160"/>
                <a:ext cx="129600" cy="110520"/>
                <a:chOff x="3783240" y="5501160"/>
                <a:chExt cx="129600" cy="110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812040" y="5531760"/>
                  <a:ext cx="100800" cy="79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83240" y="5501160"/>
                  <a:ext cx="91080" cy="8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-1872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2187720" y="5801400"/>
              <a:ext cx="298440" cy="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1840" y="5803200"/>
              <a:ext cx="27000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248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246640" y="5798520"/>
              <a:ext cx="304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4536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7720" y="573732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7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7920" y="546336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ML Do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91560" y="5728320"/>
              <a:ext cx="7696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35680" y="5472000"/>
              <a:ext cx="995400" cy="11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on-XML do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99160" y="546336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nnot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78600" y="546336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ystem us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06760" y="5738760"/>
              <a:ext cx="77004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ncept link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35680" y="5737320"/>
              <a:ext cx="7696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ssoci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75400" y="5737320"/>
              <a:ext cx="7700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assific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25520" y="5465880"/>
              <a:ext cx="7718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7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egend: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5280" y="3857040"/>
              <a:ext cx="154080" cy="158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86440" y="4028040"/>
              <a:ext cx="154080" cy="158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86680" y="4119480"/>
              <a:ext cx="154080" cy="158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94560" y="4230000"/>
              <a:ext cx="154080" cy="158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2186280" y="5423760"/>
              <a:ext cx="276120" cy="350280"/>
              <a:chOff x="2186280" y="5423760"/>
              <a:chExt cx="276120" cy="350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186280" y="5423760"/>
                <a:ext cx="276120" cy="350280"/>
                <a:chOff x="2186280" y="5423760"/>
                <a:chExt cx="276120" cy="350280"/>
              </a:xfrm>
            </p:grpSpPr>
            <p:grpSp>
              <p:nvGrpSpPr>
                <p:cNvPr id="228" name=""/>
                <p:cNvGrpSpPr/>
                <p:nvPr/>
              </p:nvGrpSpPr>
              <p:grpSpPr>
                <a:xfrm>
                  <a:off x="2221200" y="5423760"/>
                  <a:ext cx="178560" cy="183240"/>
                  <a:chOff x="2221200" y="5423760"/>
                  <a:chExt cx="178560" cy="18324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flipV="1">
                    <a:off x="2241720" y="5423400"/>
                    <a:ext cx="158040" cy="1609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flipV="1">
                    <a:off x="2221200" y="5442120"/>
                    <a:ext cx="153720" cy="164880"/>
                  </a:xfrm>
                  <a:prstGeom prst="foldedCorner">
                    <a:avLst>
                      <a:gd name="adj" fmla="val 4068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" name=""/>
                <p:cNvSpPr/>
                <p:nvPr/>
              </p:nvSpPr>
              <p:spPr>
                <a:xfrm>
                  <a:off x="2186280" y="5625000"/>
                  <a:ext cx="276120" cy="14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2237040" y="5482440"/>
                <a:ext cx="105480" cy="108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5:22Z</dcterms:created>
  <dc:creator>Paul Cranner</dc:creator>
  <dc:description/>
  <dc:language>en-US</dc:language>
  <cp:lastModifiedBy>Albert Bokma</cp:lastModifiedBy>
  <dcterms:modified xsi:type="dcterms:W3CDTF">2000-10-09T10:49:24Z</dcterms:modified>
  <cp:revision>10</cp:revision>
  <dc:subject/>
  <dc:title>PowerPoint Presentation</dc:title>
</cp:coreProperties>
</file>