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53213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7B0B-A4C4-4490-8DFB-59995C3BA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317700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1A6F-59C5-410E-88DB-D0FC6622C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9E45-0BE8-4F81-8622-A1DB72A32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1519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1519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317700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317700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317700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48FB-D498-4C95-A398-2AE6B39C1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2280" y="6172200"/>
            <a:ext cx="8839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7AEC-0869-428F-8E72-67FD06C1C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4256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2280" y="317700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2280" y="317700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228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4256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15080" y="1519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7880" y="1519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2280" y="317700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15080" y="317700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7880" y="317700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F6C2-A47C-48B0-8106-C9204AB82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8FBA-E2E1-4729-86D6-D652E5C93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3225-C904-49C6-B1D6-963F2BED3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6172200"/>
            <a:ext cx="8839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EFA3-705B-4057-8A66-0AF811B08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5876-7131-4566-B634-6A9A3AE96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317700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024B-B014-4119-A2A5-32F52155D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519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17700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3A0D-D16F-4E83-9CD4-5981EEBAC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6134040"/>
            <a:ext cx="8829360" cy="685800"/>
            <a:chOff x="152280" y="6134040"/>
            <a:chExt cx="8829360" cy="685800"/>
          </a:xfrm>
        </p:grpSpPr>
        <p:sp>
          <p:nvSpPr>
            <p:cNvPr id="1" name=""/>
            <p:cNvSpPr/>
            <p:nvPr/>
          </p:nvSpPr>
          <p:spPr>
            <a:xfrm>
              <a:off x="152280" y="6134040"/>
              <a:ext cx="8787600" cy="68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134040"/>
              <a:ext cx="882936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6134040"/>
              <a:ext cx="882936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52280" y="152280"/>
            <a:ext cx="8829360" cy="5789520"/>
            <a:chOff x="152280" y="152280"/>
            <a:chExt cx="8829360" cy="5789520"/>
          </a:xfrm>
        </p:grpSpPr>
        <p:sp>
          <p:nvSpPr>
            <p:cNvPr id="5" name=""/>
            <p:cNvSpPr/>
            <p:nvPr/>
          </p:nvSpPr>
          <p:spPr>
            <a:xfrm>
              <a:off x="152280" y="152280"/>
              <a:ext cx="8787600" cy="5782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152280"/>
              <a:ext cx="8829360" cy="57895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52280"/>
              <a:ext cx="8829360" cy="57895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Empty" descr=""/>
          <p:cNvPicPr/>
          <p:nvPr/>
        </p:nvPicPr>
        <p:blipFill>
          <a:blip r:embed="rId9"/>
          <a:stretch/>
        </p:blipFill>
        <p:spPr>
          <a:xfrm>
            <a:off x="6959520" y="6087960"/>
            <a:ext cx="1981440" cy="770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670536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A33-AC15-4071-9927-EFB9B366FA9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6273720"/>
            <a:ext cx="8829360" cy="495360"/>
            <a:chOff x="152280" y="6273720"/>
            <a:chExt cx="8829360" cy="495360"/>
          </a:xfrm>
        </p:grpSpPr>
        <p:sp>
          <p:nvSpPr>
            <p:cNvPr id="49" name=""/>
            <p:cNvSpPr/>
            <p:nvPr/>
          </p:nvSpPr>
          <p:spPr>
            <a:xfrm>
              <a:off x="152280" y="6273720"/>
              <a:ext cx="8787600" cy="494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6273720"/>
              <a:ext cx="8829360" cy="49536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273720"/>
              <a:ext cx="8829360" cy="49536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6360" y="762120"/>
            <a:ext cx="8598960" cy="4722840"/>
            <a:chOff x="306360" y="762120"/>
            <a:chExt cx="8598960" cy="4722840"/>
          </a:xfrm>
        </p:grpSpPr>
        <p:sp>
          <p:nvSpPr>
            <p:cNvPr id="53" name=""/>
            <p:cNvSpPr/>
            <p:nvPr/>
          </p:nvSpPr>
          <p:spPr>
            <a:xfrm>
              <a:off x="306360" y="762120"/>
              <a:ext cx="8558640" cy="4717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6360" y="762120"/>
              <a:ext cx="8598960" cy="472284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6360" y="762120"/>
              <a:ext cx="8598960" cy="472284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63241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8368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n example of Method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inner" descr=""/>
          <p:cNvPicPr/>
          <p:nvPr/>
        </p:nvPicPr>
        <p:blipFill>
          <a:blip r:embed="rId9"/>
          <a:stretch/>
        </p:blipFill>
        <p:spPr>
          <a:xfrm>
            <a:off x="317520" y="812880"/>
            <a:ext cx="7010280" cy="2844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219320" y="4572000"/>
            <a:ext cx="7543800" cy="152280"/>
            <a:chOff x="1219320" y="4572000"/>
            <a:chExt cx="7543800" cy="152280"/>
          </a:xfrm>
        </p:grpSpPr>
        <p:sp>
          <p:nvSpPr>
            <p:cNvPr id="60" name=""/>
            <p:cNvSpPr/>
            <p:nvPr/>
          </p:nvSpPr>
          <p:spPr>
            <a:xfrm>
              <a:off x="1219320" y="4660920"/>
              <a:ext cx="746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0480" y="4572000"/>
              <a:ext cx="152640" cy="152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35560" y="50547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Fabien GA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63241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 :Corporate Memory Management through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Report : From industri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Report : Rich story-telling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8600" y="685800"/>
            <a:ext cx="6629400" cy="5181480"/>
            <a:chOff x="228600" y="685800"/>
            <a:chExt cx="6629400" cy="518148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6629400" cy="5181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237960" y="706320"/>
              <a:ext cx="6620040" cy="409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609480" y="533520"/>
            <a:ext cx="8382960" cy="459720"/>
            <a:chOff x="609480" y="533520"/>
            <a:chExt cx="8382960" cy="459720"/>
          </a:xfrm>
        </p:grpSpPr>
        <p:sp>
          <p:nvSpPr>
            <p:cNvPr id="393" name=""/>
            <p:cNvSpPr/>
            <p:nvPr/>
          </p:nvSpPr>
          <p:spPr>
            <a:xfrm>
              <a:off x="609480" y="714240"/>
              <a:ext cx="2133720" cy="190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38640" y="53352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ocument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09480" y="1314360"/>
            <a:ext cx="7849080" cy="459720"/>
            <a:chOff x="609480" y="1314360"/>
            <a:chExt cx="7849080" cy="459720"/>
          </a:xfrm>
        </p:grpSpPr>
        <p:sp>
          <p:nvSpPr>
            <p:cNvPr id="396" name=""/>
            <p:cNvSpPr/>
            <p:nvPr/>
          </p:nvSpPr>
          <p:spPr>
            <a:xfrm>
              <a:off x="609480" y="1504800"/>
              <a:ext cx="144792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64200" y="1314360"/>
              <a:ext cx="14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vent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52360" y="3695760"/>
            <a:ext cx="7153200" cy="459720"/>
            <a:chOff x="1152360" y="3695760"/>
            <a:chExt cx="7153200" cy="459720"/>
          </a:xfrm>
        </p:grpSpPr>
        <p:sp>
          <p:nvSpPr>
            <p:cNvPr id="399" name=""/>
            <p:cNvSpPr/>
            <p:nvPr/>
          </p:nvSpPr>
          <p:spPr>
            <a:xfrm>
              <a:off x="1152360" y="3886200"/>
              <a:ext cx="113364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46920" y="36957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ole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8672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y rich documen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90720" y="1047600"/>
            <a:ext cx="5857920" cy="3391200"/>
            <a:chOff x="990720" y="1047600"/>
            <a:chExt cx="5857920" cy="3391200"/>
          </a:xfrm>
        </p:grpSpPr>
        <p:sp>
          <p:nvSpPr>
            <p:cNvPr id="403" name=""/>
            <p:cNvSpPr/>
            <p:nvPr/>
          </p:nvSpPr>
          <p:spPr>
            <a:xfrm>
              <a:off x="5495760" y="1047600"/>
              <a:ext cx="1295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287640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67400" y="407664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2720" y="345744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43400" y="345744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90920" y="443880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7800" y="321948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29320" y="425772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419720"/>
            <a:ext cx="6628680" cy="459720"/>
            <a:chOff x="1600200" y="4419720"/>
            <a:chExt cx="6628680" cy="459720"/>
          </a:xfrm>
        </p:grpSpPr>
        <p:sp>
          <p:nvSpPr>
            <p:cNvPr id="412" name=""/>
            <p:cNvSpPr/>
            <p:nvPr/>
          </p:nvSpPr>
          <p:spPr>
            <a:xfrm>
              <a:off x="1600200" y="4600440"/>
              <a:ext cx="76212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63120" y="44197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55A1-345F-499E-B241-74DCE347AD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: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416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426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429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445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459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464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Tacit information &amp; Very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-consuming &amp; Del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471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61800" y="1181160"/>
            <a:ext cx="1371600" cy="34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7E11-D65D-425D-ABCD-09CC7A5D7F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: example of data collection guid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lines data collection : example for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structured individual &amp; group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Discussion (Unstruct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questions have to be very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the tasks and roles of the people inter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eople speak and tell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questions (why ? how ? when ? who ? where ? with what ? any thing else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a long silence sets up (“anything else ? … hummm no !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back &amp; Clarificatio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ruct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es to take notes during the first p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oints and subject to be clarified or det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questions not spontaneously answ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s’ Self-synthesis (Good for gener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1F10-C395-4611-89DA-811034E84D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: Translated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28600" y="228600"/>
            <a:ext cx="4876920" cy="5638680"/>
            <a:chOff x="228600" y="228600"/>
            <a:chExt cx="4876920" cy="5638680"/>
          </a:xfrm>
        </p:grpSpPr>
        <p:sp>
          <p:nvSpPr>
            <p:cNvPr id="488" name=""/>
            <p:cNvSpPr/>
            <p:nvPr/>
          </p:nvSpPr>
          <p:spPr>
            <a:xfrm>
              <a:off x="228600" y="228600"/>
              <a:ext cx="4876920" cy="563868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4587840" cy="53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"/>
          <p:cNvGrpSpPr/>
          <p:nvPr/>
        </p:nvGrpSpPr>
        <p:grpSpPr>
          <a:xfrm>
            <a:off x="609480" y="990720"/>
            <a:ext cx="7318800" cy="4162320"/>
            <a:chOff x="609480" y="990720"/>
            <a:chExt cx="7318800" cy="4162320"/>
          </a:xfrm>
        </p:grpSpPr>
        <p:grpSp>
          <p:nvGrpSpPr>
            <p:cNvPr id="491" name=""/>
            <p:cNvGrpSpPr/>
            <p:nvPr/>
          </p:nvGrpSpPr>
          <p:grpSpPr>
            <a:xfrm>
              <a:off x="609480" y="1171440"/>
              <a:ext cx="4267440" cy="3981600"/>
              <a:chOff x="609480" y="1171440"/>
              <a:chExt cx="4267440" cy="3981600"/>
            </a:xfrm>
          </p:grpSpPr>
          <p:sp>
            <p:nvSpPr>
              <p:cNvPr id="492" name=""/>
              <p:cNvSpPr/>
              <p:nvPr/>
            </p:nvSpPr>
            <p:spPr>
              <a:xfrm>
                <a:off x="4457880" y="117144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9480" y="1371600"/>
                <a:ext cx="2057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733920" y="1371600"/>
                <a:ext cx="10666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9480" y="1600200"/>
                <a:ext cx="533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0000" y="2724120"/>
                <a:ext cx="22096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38280" y="2933640"/>
                <a:ext cx="914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4560" y="3152880"/>
                <a:ext cx="1218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62320" y="4495680"/>
                <a:ext cx="2514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7360" y="4705200"/>
                <a:ext cx="4190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5800" y="4924440"/>
                <a:ext cx="2133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48040" y="5153040"/>
                <a:ext cx="1218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176440" y="990720"/>
              <a:ext cx="27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Role : task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09480" y="3505320"/>
            <a:ext cx="8382240" cy="1191240"/>
            <a:chOff x="609480" y="3505320"/>
            <a:chExt cx="8382240" cy="1191240"/>
          </a:xfrm>
        </p:grpSpPr>
        <p:grpSp>
          <p:nvGrpSpPr>
            <p:cNvPr id="505" name=""/>
            <p:cNvGrpSpPr/>
            <p:nvPr/>
          </p:nvGrpSpPr>
          <p:grpSpPr>
            <a:xfrm>
              <a:off x="609480" y="3838680"/>
              <a:ext cx="4267440" cy="199800"/>
              <a:chOff x="609480" y="3838680"/>
              <a:chExt cx="4267440" cy="199800"/>
            </a:xfrm>
          </p:grpSpPr>
          <p:sp>
            <p:nvSpPr>
              <p:cNvPr id="506" name=""/>
              <p:cNvSpPr/>
              <p:nvPr/>
            </p:nvSpPr>
            <p:spPr>
              <a:xfrm>
                <a:off x="2057400" y="3838680"/>
                <a:ext cx="2819520" cy="0"/>
              </a:xfrm>
              <a:prstGeom prst="line">
                <a:avLst/>
              </a:prstGeom>
              <a:ln w="1908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9480" y="4038480"/>
                <a:ext cx="1752840" cy="0"/>
              </a:xfrm>
              <a:prstGeom prst="line">
                <a:avLst/>
              </a:prstGeom>
              <a:ln w="1908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5181480" y="350532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Self definition </a:t>
              </a:r>
              <a:r>
                <a:rPr b="0" lang="en-US" sz="24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Official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480" y="1752480"/>
            <a:ext cx="7505640" cy="825480"/>
            <a:chOff x="609480" y="1752480"/>
            <a:chExt cx="7505640" cy="825480"/>
          </a:xfrm>
        </p:grpSpPr>
        <p:grpSp>
          <p:nvGrpSpPr>
            <p:cNvPr id="510" name=""/>
            <p:cNvGrpSpPr/>
            <p:nvPr/>
          </p:nvGrpSpPr>
          <p:grpSpPr>
            <a:xfrm>
              <a:off x="609480" y="2057400"/>
              <a:ext cx="4267440" cy="228600"/>
              <a:chOff x="609480" y="2057400"/>
              <a:chExt cx="4267440" cy="228600"/>
            </a:xfrm>
          </p:grpSpPr>
          <p:sp>
            <p:nvSpPr>
              <p:cNvPr id="511" name=""/>
              <p:cNvSpPr/>
              <p:nvPr/>
            </p:nvSpPr>
            <p:spPr>
              <a:xfrm>
                <a:off x="2133720" y="2057400"/>
                <a:ext cx="213336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24280" y="2057400"/>
                <a:ext cx="1526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9480" y="2286000"/>
                <a:ext cx="19814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180400" y="1752480"/>
              <a:ext cx="293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cquaintance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ther’s 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0496-29B7-4DDF-838A-C6DBDE64D3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: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517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527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530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546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560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565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environment (desk, filing systems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572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61800" y="1638360"/>
            <a:ext cx="1695600" cy="34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6929-9E3A-4C91-ABDD-84AD169549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: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mployee at 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Atos-Laet-bureau-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10080" cy="3890880"/>
          </a:xfrm>
          <a:prstGeom prst="rect">
            <a:avLst/>
          </a:prstGeom>
          <a:ln w="0">
            <a:noFill/>
          </a:ln>
        </p:spPr>
      </p:pic>
      <p:grpSp>
        <p:nvGrpSpPr>
          <p:cNvPr id="588" name=""/>
          <p:cNvGrpSpPr/>
          <p:nvPr/>
        </p:nvGrpSpPr>
        <p:grpSpPr>
          <a:xfrm>
            <a:off x="228600" y="228600"/>
            <a:ext cx="5410080" cy="3895560"/>
            <a:chOff x="228600" y="228600"/>
            <a:chExt cx="5410080" cy="3895560"/>
          </a:xfrm>
        </p:grpSpPr>
        <p:sp>
          <p:nvSpPr>
            <p:cNvPr id="589" name=""/>
            <p:cNvSpPr/>
            <p:nvPr/>
          </p:nvSpPr>
          <p:spPr>
            <a:xfrm>
              <a:off x="228600" y="228600"/>
              <a:ext cx="5410080" cy="1447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600" y="1295280"/>
              <a:ext cx="1371600" cy="106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1295280"/>
              <a:ext cx="1219320" cy="129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00200" y="1600200"/>
              <a:ext cx="175248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0200" y="1905120"/>
              <a:ext cx="53352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1752480"/>
              <a:ext cx="6858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33720" y="2209680"/>
              <a:ext cx="1752480" cy="76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52880" y="1676520"/>
              <a:ext cx="6858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86200" y="2438280"/>
              <a:ext cx="175248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8600" y="2895480"/>
              <a:ext cx="41911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2895480"/>
              <a:ext cx="838080" cy="76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8600" y="3514680"/>
              <a:ext cx="5410080" cy="609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76720" y="2286000"/>
              <a:ext cx="838080" cy="76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8600" y="2514600"/>
              <a:ext cx="3048120" cy="76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" y="2286000"/>
              <a:ext cx="2362320" cy="76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419720" y="2895480"/>
            <a:ext cx="38088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105520" y="2133720"/>
            <a:ext cx="1066680" cy="304560"/>
            <a:chOff x="5105520" y="2133720"/>
            <a:chExt cx="1066680" cy="304560"/>
          </a:xfrm>
        </p:grpSpPr>
        <p:sp>
          <p:nvSpPr>
            <p:cNvPr id="606" name=""/>
            <p:cNvSpPr/>
            <p:nvPr/>
          </p:nvSpPr>
          <p:spPr>
            <a:xfrm>
              <a:off x="5715000" y="2162160"/>
              <a:ext cx="457200" cy="2286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05520" y="2133720"/>
              <a:ext cx="53316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590920" y="2286000"/>
            <a:ext cx="6051600" cy="3341520"/>
            <a:chOff x="2590920" y="2286000"/>
            <a:chExt cx="6051600" cy="3341520"/>
          </a:xfrm>
        </p:grpSpPr>
        <p:sp>
          <p:nvSpPr>
            <p:cNvPr id="609" name=""/>
            <p:cNvSpPr/>
            <p:nvPr/>
          </p:nvSpPr>
          <p:spPr>
            <a:xfrm>
              <a:off x="2590920" y="2286000"/>
              <a:ext cx="68580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0" name="" descr=""/>
            <p:cNvPicPr/>
            <p:nvPr/>
          </p:nvPicPr>
          <p:blipFill>
            <a:blip r:embed="rId3"/>
            <a:stretch/>
          </p:blipFill>
          <p:spPr>
            <a:xfrm>
              <a:off x="5867280" y="3657600"/>
              <a:ext cx="2775240" cy="1969920"/>
            </a:xfrm>
            <a:prstGeom prst="rect">
              <a:avLst/>
            </a:prstGeom>
            <a:ln w="9360">
              <a:solidFill>
                <a:srgbClr val="cc3300"/>
              </a:solidFill>
              <a:miter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4419720" y="1981080"/>
            <a:ext cx="4384440" cy="2549520"/>
            <a:chOff x="4419720" y="1981080"/>
            <a:chExt cx="4384440" cy="2549520"/>
          </a:xfrm>
        </p:grpSpPr>
        <p:sp>
          <p:nvSpPr>
            <p:cNvPr id="612" name=""/>
            <p:cNvSpPr/>
            <p:nvPr/>
          </p:nvSpPr>
          <p:spPr>
            <a:xfrm>
              <a:off x="4419720" y="1981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48320" y="1981080"/>
              <a:ext cx="4114800" cy="6098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19720" y="2209680"/>
              <a:ext cx="2819160" cy="22860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4"/>
            <a:stretch/>
          </p:blipFill>
          <p:spPr>
            <a:xfrm>
              <a:off x="7238880" y="2590920"/>
              <a:ext cx="1565280" cy="1939680"/>
            </a:xfrm>
            <a:prstGeom prst="rect">
              <a:avLst/>
            </a:prstGeom>
            <a:ln w="9360">
              <a:solidFill>
                <a:srgbClr val="cc3300"/>
              </a:solidFill>
              <a:miter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2133720" y="304920"/>
            <a:ext cx="6705360" cy="1904760"/>
            <a:chOff x="2133720" y="304920"/>
            <a:chExt cx="6705360" cy="1904760"/>
          </a:xfrm>
        </p:grpSpPr>
        <p:sp>
          <p:nvSpPr>
            <p:cNvPr id="617" name=""/>
            <p:cNvSpPr/>
            <p:nvPr/>
          </p:nvSpPr>
          <p:spPr>
            <a:xfrm>
              <a:off x="2133720" y="1905120"/>
              <a:ext cx="53316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5"/>
            <a:stretch/>
          </p:blipFill>
          <p:spPr>
            <a:xfrm>
              <a:off x="5230800" y="304920"/>
              <a:ext cx="3608280" cy="1643040"/>
            </a:xfrm>
            <a:prstGeom prst="rect">
              <a:avLst/>
            </a:prstGeom>
            <a:ln w="9360">
              <a:solidFill>
                <a:srgbClr val="cc3300"/>
              </a:solidFill>
              <a:miter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3352680" y="1676520"/>
            <a:ext cx="5280120" cy="3016080"/>
            <a:chOff x="3352680" y="1676520"/>
            <a:chExt cx="5280120" cy="3016080"/>
          </a:xfrm>
        </p:grpSpPr>
        <p:sp>
          <p:nvSpPr>
            <p:cNvPr id="620" name=""/>
            <p:cNvSpPr/>
            <p:nvPr/>
          </p:nvSpPr>
          <p:spPr>
            <a:xfrm>
              <a:off x="3352680" y="1676520"/>
              <a:ext cx="53352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" descr=""/>
            <p:cNvPicPr/>
            <p:nvPr/>
          </p:nvPicPr>
          <p:blipFill>
            <a:blip r:embed="rId6"/>
            <a:stretch/>
          </p:blipFill>
          <p:spPr>
            <a:xfrm>
              <a:off x="5562720" y="1752480"/>
              <a:ext cx="3070080" cy="2940120"/>
            </a:xfrm>
            <a:prstGeom prst="rect">
              <a:avLst/>
            </a:prstGeom>
            <a:ln w="9360">
              <a:solidFill>
                <a:srgbClr val="cc33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D43F-76B3-4E4A-BDB9-4FF5A772CE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: Organizing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2280" y="38095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ing, 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/ Classes of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Atos-dossiers-couleurs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6324480" cy="345744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3352680" y="1581120"/>
            <a:ext cx="3962160" cy="1238400"/>
            <a:chOff x="3352680" y="1581120"/>
            <a:chExt cx="3962160" cy="1238400"/>
          </a:xfrm>
        </p:grpSpPr>
        <p:sp>
          <p:nvSpPr>
            <p:cNvPr id="626" name=""/>
            <p:cNvSpPr/>
            <p:nvPr/>
          </p:nvSpPr>
          <p:spPr>
            <a:xfrm>
              <a:off x="4876560" y="1905120"/>
              <a:ext cx="990720" cy="6094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28640" y="2209680"/>
              <a:ext cx="990720" cy="6098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52680" y="1752480"/>
              <a:ext cx="990360" cy="3812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24280" y="1581120"/>
              <a:ext cx="990360" cy="3049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160" y="2085840"/>
              <a:ext cx="1066680" cy="6858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3240" y="1676520"/>
              <a:ext cx="990720" cy="3045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962440" cy="346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09ED-363C-4C6C-96D6-B67B542B18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6770520" y="228600"/>
            <a:ext cx="2103480" cy="3657600"/>
            <a:chOff x="6770520" y="228600"/>
            <a:chExt cx="2103480" cy="3657600"/>
          </a:xfrm>
        </p:grpSpPr>
        <p:pic>
          <p:nvPicPr>
            <p:cNvPr id="634" name="" descr=""/>
            <p:cNvPicPr/>
            <p:nvPr/>
          </p:nvPicPr>
          <p:blipFill>
            <a:blip r:embed="rId2"/>
            <a:stretch/>
          </p:blipFill>
          <p:spPr>
            <a:xfrm>
              <a:off x="6770520" y="228600"/>
              <a:ext cx="2103480" cy="365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5" name=""/>
            <p:cNvSpPr/>
            <p:nvPr/>
          </p:nvSpPr>
          <p:spPr>
            <a:xfrm>
              <a:off x="6858000" y="1066680"/>
              <a:ext cx="152280" cy="2133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 : Annotations and C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&amp;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ti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agenda-Atos-2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952880" cy="35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39" name=""/>
          <p:cNvGrpSpPr/>
          <p:nvPr/>
        </p:nvGrpSpPr>
        <p:grpSpPr>
          <a:xfrm>
            <a:off x="2590920" y="838080"/>
            <a:ext cx="4086360" cy="1676520"/>
            <a:chOff x="2590920" y="838080"/>
            <a:chExt cx="4086360" cy="1676520"/>
          </a:xfrm>
        </p:grpSpPr>
        <p:grpSp>
          <p:nvGrpSpPr>
            <p:cNvPr id="640" name=""/>
            <p:cNvGrpSpPr/>
            <p:nvPr/>
          </p:nvGrpSpPr>
          <p:grpSpPr>
            <a:xfrm>
              <a:off x="2590920" y="838080"/>
              <a:ext cx="2819160" cy="1676520"/>
              <a:chOff x="2590920" y="838080"/>
              <a:chExt cx="2819160" cy="167652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2590920" y="1219320"/>
                <a:ext cx="2819160" cy="1295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3816360" y="1218960"/>
                <a:ext cx="1593360" cy="152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55160" y="838080"/>
                <a:ext cx="1654560" cy="381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5410080" y="9144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se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143000" y="990720"/>
            <a:ext cx="5795280" cy="1904760"/>
            <a:chOff x="1143000" y="990720"/>
            <a:chExt cx="5795280" cy="1904760"/>
          </a:xfrm>
        </p:grpSpPr>
        <p:grpSp>
          <p:nvGrpSpPr>
            <p:cNvPr id="646" name=""/>
            <p:cNvGrpSpPr/>
            <p:nvPr/>
          </p:nvGrpSpPr>
          <p:grpSpPr>
            <a:xfrm>
              <a:off x="1143000" y="990720"/>
              <a:ext cx="4267080" cy="1904760"/>
              <a:chOff x="1143000" y="990720"/>
              <a:chExt cx="4267080" cy="1904760"/>
            </a:xfrm>
          </p:grpSpPr>
          <p:sp>
            <p:nvSpPr>
              <p:cNvPr id="647" name=""/>
              <p:cNvSpPr/>
              <p:nvPr/>
            </p:nvSpPr>
            <p:spPr>
              <a:xfrm flipV="1">
                <a:off x="2455560" y="2133720"/>
                <a:ext cx="2954160" cy="76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68840" y="1447920"/>
                <a:ext cx="1640880" cy="68580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390400" y="2057400"/>
                <a:ext cx="3019680" cy="7632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536840" y="990720"/>
                <a:ext cx="3872880" cy="114300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43000" y="1523880"/>
                <a:ext cx="4267080" cy="60984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208520" y="2133720"/>
                <a:ext cx="4201200" cy="76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410440" y="185724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r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9432-E7CA-404C-B0BE-54F2200E6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: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656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666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669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685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699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704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(ex. generated, ex. workpl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forms, circula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711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61800" y="3009960"/>
            <a:ext cx="1695600" cy="34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CA19-C3A0-4335-A90E-1122ABBF16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: Route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735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6" name=""/>
          <p:cNvSpPr/>
          <p:nvPr/>
        </p:nvSpPr>
        <p:spPr>
          <a:xfrm>
            <a:off x="5105520" y="228600"/>
            <a:ext cx="37335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Rout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7A2E-BF4D-41DE-8EE9-F96354BD35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&amp;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 IST European project - Februar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Provide a corporate memory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ate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An explicit, disembodied and persistent representation of knowledge and information in an organization, in order to facilitate their access and reuse by members of the organization, for their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Fra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A supporting structure around which one can build a system insuring coherent integration and exploitation of the dispers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lasses of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cal approach (Development &amp; Roll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FCD0-AF76-468C-89B6-C6C6A72DE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spects :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729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739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742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758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772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777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time being : consumer #1 of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mbiguate exchanges &amp; Semantic-based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784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3714840" y="2590920"/>
            <a:ext cx="1218960" cy="34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1779-4039-4AF0-B34C-E82432408E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: Cros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 Memory Contex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rporation 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mmunity shares some common global views of the world : ontological commitment is conceivable to a certain ext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A Ont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plicit partial specification of corporate-memory-relevant concepts carefully defined with their corresponding terms and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he building blocks of th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approaches to ontolog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-Up : Data collection +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Down : Reuse Ontologies +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-Out : Core concepts + Generalization &amp;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990720" y="4083120"/>
            <a:ext cx="7923240" cy="825480"/>
            <a:chOff x="990720" y="4083120"/>
            <a:chExt cx="7923240" cy="825480"/>
          </a:xfrm>
        </p:grpSpPr>
        <p:sp>
          <p:nvSpPr>
            <p:cNvPr id="800" name=""/>
            <p:cNvSpPr/>
            <p:nvPr/>
          </p:nvSpPr>
          <p:spPr>
            <a:xfrm>
              <a:off x="990720" y="4390920"/>
              <a:ext cx="60195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90720" y="4819680"/>
              <a:ext cx="63244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219560"/>
              <a:ext cx="76320" cy="6094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30840" y="408312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Cr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ppro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5033-A890-47B1-98B5-C0ED8D97AD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Dow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the art &amp; Study of existing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V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 Ontology (publicly available p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KAT &amp; WebKB top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ourc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“Using Language” from Herbert H.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ur own ontology (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hierarchy and reus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dictionaries (Wordnet, Cambridge dictionary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concepts/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ED9E-DC99-4C27-B9CF-E01776471A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: Joining the two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ntology at CM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+ Terminology +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of the two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from data collection should cling to general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usability of the ontology to describe th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concepts in general ontology (restructure/comp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specific concepts (Extend / Devel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layers : Top-level + General CM Ontology + Scenarios’ specific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B5A5-708E-4CE4-970D-3C5702944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spects :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810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820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823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839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853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858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Agent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: Societies &amp;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865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14840" y="3029040"/>
            <a:ext cx="1600200" cy="34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0C25-D3E9-4BEA-B7B9-DCB01B80AE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: Architecture Vs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verall structure of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s agent kinds and relationships amo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at design time, general features of the CoMMA 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crete structure of a certain CoMMA 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s the acquaintance graph among actual agen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social struc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at deployment time, specific of each corporate environment hosting a CoMMA 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Vs.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A MAS will be installed on a corporate intra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two intranets will be exactly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flexibility by mapping a single architecture to many configu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772C-4981-4CCC-9B94-055E9C8616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: Organization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sub-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00240" y="679320"/>
            <a:ext cx="7714440" cy="2901960"/>
            <a:chOff x="1200240" y="679320"/>
            <a:chExt cx="7714440" cy="2901960"/>
          </a:xfrm>
        </p:grpSpPr>
        <p:grpSp>
          <p:nvGrpSpPr>
            <p:cNvPr id="883" name=""/>
            <p:cNvGrpSpPr/>
            <p:nvPr/>
          </p:nvGrpSpPr>
          <p:grpSpPr>
            <a:xfrm>
              <a:off x="5708520" y="679320"/>
              <a:ext cx="3206160" cy="780840"/>
              <a:chOff x="5708520" y="679320"/>
              <a:chExt cx="3206160" cy="780840"/>
            </a:xfrm>
          </p:grpSpPr>
          <p:sp>
            <p:nvSpPr>
              <p:cNvPr id="884" name=""/>
              <p:cNvSpPr/>
              <p:nvPr/>
            </p:nvSpPr>
            <p:spPr>
              <a:xfrm>
                <a:off x="5708520" y="679320"/>
                <a:ext cx="317952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5" name=""/>
              <p:cNvGrpSpPr/>
              <p:nvPr/>
            </p:nvGrpSpPr>
            <p:grpSpPr>
              <a:xfrm>
                <a:off x="5927400" y="831240"/>
                <a:ext cx="521640" cy="475200"/>
                <a:chOff x="5927400" y="831240"/>
                <a:chExt cx="521640" cy="475200"/>
              </a:xfrm>
            </p:grpSpPr>
            <p:grpSp>
              <p:nvGrpSpPr>
                <p:cNvPr id="886" name=""/>
                <p:cNvGrpSpPr/>
                <p:nvPr/>
              </p:nvGrpSpPr>
              <p:grpSpPr>
                <a:xfrm>
                  <a:off x="6104880" y="831240"/>
                  <a:ext cx="344160" cy="389880"/>
                  <a:chOff x="6104880" y="831240"/>
                  <a:chExt cx="344160" cy="3898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6104880" y="102636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V="1">
                    <a:off x="6104880" y="83088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6041880" y="859680"/>
                  <a:ext cx="344160" cy="389880"/>
                  <a:chOff x="6041880" y="859680"/>
                  <a:chExt cx="344160" cy="3898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6041880" y="105480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V="1">
                    <a:off x="6041880" y="85932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5990040" y="887760"/>
                  <a:ext cx="344160" cy="389880"/>
                  <a:chOff x="5990040" y="887760"/>
                  <a:chExt cx="344160" cy="3898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5990040" y="108288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5990040" y="88740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5927400" y="916560"/>
                  <a:ext cx="344160" cy="389880"/>
                  <a:chOff x="5927400" y="916560"/>
                  <a:chExt cx="344160" cy="3898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5927400" y="111168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V="1">
                    <a:off x="5927400" y="916200"/>
                    <a:ext cx="34416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98" name=""/>
              <p:cNvSpPr/>
              <p:nvPr/>
            </p:nvSpPr>
            <p:spPr>
              <a:xfrm>
                <a:off x="6222600" y="755280"/>
                <a:ext cx="269208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cument 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-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200240" y="679320"/>
              <a:ext cx="3178080" cy="760320"/>
              <a:chOff x="1200240" y="679320"/>
              <a:chExt cx="3178080" cy="760320"/>
            </a:xfrm>
          </p:grpSpPr>
          <p:sp>
            <p:nvSpPr>
              <p:cNvPr id="900" name=""/>
              <p:cNvSpPr/>
              <p:nvPr/>
            </p:nvSpPr>
            <p:spPr>
              <a:xfrm>
                <a:off x="1200240" y="679320"/>
                <a:ext cx="317808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287360" y="831240"/>
                <a:ext cx="520560" cy="475200"/>
                <a:chOff x="1287360" y="831240"/>
                <a:chExt cx="520560" cy="47520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1464480" y="831240"/>
                  <a:ext cx="343440" cy="389880"/>
                  <a:chOff x="1464480" y="831240"/>
                  <a:chExt cx="343440" cy="3898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1464480" y="102636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V="1">
                    <a:off x="1464480" y="83088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1401840" y="859680"/>
                  <a:ext cx="343440" cy="389880"/>
                  <a:chOff x="1401840" y="859680"/>
                  <a:chExt cx="343440" cy="3898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1401840" y="105480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1401840" y="85932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8" name=""/>
                <p:cNvGrpSpPr/>
                <p:nvPr/>
              </p:nvGrpSpPr>
              <p:grpSpPr>
                <a:xfrm>
                  <a:off x="1350000" y="887760"/>
                  <a:ext cx="343440" cy="389880"/>
                  <a:chOff x="1350000" y="887760"/>
                  <a:chExt cx="343440" cy="38988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>
                    <a:off x="1350000" y="108288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V="1">
                    <a:off x="1350000" y="88740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1287360" y="916560"/>
                  <a:ext cx="343440" cy="389880"/>
                  <a:chOff x="1287360" y="916560"/>
                  <a:chExt cx="343440" cy="38988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1287360" y="111168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V="1">
                    <a:off x="1287360" y="916200"/>
                    <a:ext cx="34344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4" name=""/>
              <p:cNvSpPr/>
              <p:nvPr/>
            </p:nvSpPr>
            <p:spPr>
              <a:xfrm>
                <a:off x="1790640" y="734760"/>
                <a:ext cx="258768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tology 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-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492360" y="1760400"/>
              <a:ext cx="3472560" cy="760320"/>
              <a:chOff x="3492360" y="1760400"/>
              <a:chExt cx="3472560" cy="7603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3492360" y="1760400"/>
                <a:ext cx="3177720" cy="725400"/>
                <a:chOff x="3492360" y="1760400"/>
                <a:chExt cx="3177720" cy="72540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3492360" y="1760400"/>
                  <a:ext cx="3177720" cy="725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8" name=""/>
                <p:cNvGrpSpPr/>
                <p:nvPr/>
              </p:nvGrpSpPr>
              <p:grpSpPr>
                <a:xfrm>
                  <a:off x="3709440" y="1870920"/>
                  <a:ext cx="520560" cy="473400"/>
                  <a:chOff x="3709440" y="1870920"/>
                  <a:chExt cx="520560" cy="473400"/>
                </a:xfrm>
              </p:grpSpPr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3886560" y="1870920"/>
                    <a:ext cx="343440" cy="388440"/>
                    <a:chOff x="3886560" y="1870920"/>
                    <a:chExt cx="343440" cy="388440"/>
                  </a:xfrm>
                </p:grpSpPr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3886560" y="206532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V="1">
                      <a:off x="3886560" y="187056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3823920" y="1899360"/>
                    <a:ext cx="343440" cy="388440"/>
                    <a:chOff x="3823920" y="1899360"/>
                    <a:chExt cx="343440" cy="38844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3823920" y="209376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V="1">
                      <a:off x="3823920" y="189900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3772080" y="1927440"/>
                    <a:ext cx="343440" cy="388440"/>
                    <a:chOff x="3772080" y="1927440"/>
                    <a:chExt cx="343440" cy="388440"/>
                  </a:xfrm>
                </p:grpSpPr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3772080" y="212184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V="1">
                      <a:off x="3772080" y="192708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3709440" y="1955880"/>
                    <a:ext cx="343440" cy="388440"/>
                    <a:chOff x="3709440" y="1955880"/>
                    <a:chExt cx="343440" cy="38844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3709440" y="215028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 flipV="1">
                      <a:off x="3709440" y="195552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31" name=""/>
              <p:cNvSpPr/>
              <p:nvPr/>
            </p:nvSpPr>
            <p:spPr>
              <a:xfrm>
                <a:off x="4157280" y="1815840"/>
                <a:ext cx="2807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nection 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-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3492360" y="2820600"/>
              <a:ext cx="3726720" cy="760680"/>
              <a:chOff x="3492360" y="2820600"/>
              <a:chExt cx="3726720" cy="760680"/>
            </a:xfrm>
          </p:grpSpPr>
          <p:grpSp>
            <p:nvGrpSpPr>
              <p:cNvPr id="933" name=""/>
              <p:cNvGrpSpPr/>
              <p:nvPr/>
            </p:nvGrpSpPr>
            <p:grpSpPr>
              <a:xfrm>
                <a:off x="3492360" y="2820600"/>
                <a:ext cx="3178080" cy="725760"/>
                <a:chOff x="3492360" y="2820600"/>
                <a:chExt cx="3178080" cy="72576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3492360" y="2820600"/>
                  <a:ext cx="3178080" cy="725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5" name=""/>
                <p:cNvGrpSpPr/>
                <p:nvPr/>
              </p:nvGrpSpPr>
              <p:grpSpPr>
                <a:xfrm>
                  <a:off x="3709440" y="2932920"/>
                  <a:ext cx="520560" cy="473400"/>
                  <a:chOff x="3709440" y="2932920"/>
                  <a:chExt cx="520560" cy="47340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3886560" y="2932920"/>
                    <a:ext cx="343440" cy="388440"/>
                    <a:chOff x="3886560" y="2932920"/>
                    <a:chExt cx="343440" cy="388440"/>
                  </a:xfrm>
                </p:grpSpPr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886560" y="312732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 flipV="1">
                      <a:off x="3886560" y="293256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3823920" y="2961360"/>
                    <a:ext cx="343440" cy="388440"/>
                    <a:chOff x="3823920" y="2961360"/>
                    <a:chExt cx="343440" cy="38844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3823920" y="315576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V="1">
                      <a:off x="3823920" y="296100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3772080" y="2989440"/>
                    <a:ext cx="343440" cy="388440"/>
                    <a:chOff x="3772080" y="2989440"/>
                    <a:chExt cx="343440" cy="38844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3772080" y="318384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flipV="1">
                      <a:off x="3772080" y="298908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3709440" y="3017880"/>
                    <a:ext cx="343440" cy="388440"/>
                    <a:chOff x="3709440" y="3017880"/>
                    <a:chExt cx="343440" cy="38844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3709440" y="321228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flipV="1">
                      <a:off x="3709440" y="3017520"/>
                      <a:ext cx="343440" cy="194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48" name=""/>
              <p:cNvSpPr/>
              <p:nvPr/>
            </p:nvSpPr>
            <p:spPr>
              <a:xfrm>
                <a:off x="4230360" y="2876400"/>
                <a:ext cx="298872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 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-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3787560" y="1236240"/>
              <a:ext cx="2956680" cy="1697040"/>
              <a:chOff x="3787560" y="1236240"/>
              <a:chExt cx="2956680" cy="1697040"/>
            </a:xfrm>
          </p:grpSpPr>
          <p:sp>
            <p:nvSpPr>
              <p:cNvPr id="950" name=""/>
              <p:cNvSpPr/>
              <p:nvPr/>
            </p:nvSpPr>
            <p:spPr>
              <a:xfrm>
                <a:off x="3787560" y="1236240"/>
                <a:ext cx="737640" cy="61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6004800" y="1236240"/>
                <a:ext cx="739440" cy="61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707800" y="2373120"/>
                <a:ext cx="0" cy="56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609480" y="4419360"/>
            <a:ext cx="8258400" cy="1562400"/>
            <a:chOff x="609480" y="4419360"/>
            <a:chExt cx="8258400" cy="1562400"/>
          </a:xfrm>
        </p:grpSpPr>
        <p:grpSp>
          <p:nvGrpSpPr>
            <p:cNvPr id="954" name=""/>
            <p:cNvGrpSpPr/>
            <p:nvPr/>
          </p:nvGrpSpPr>
          <p:grpSpPr>
            <a:xfrm>
              <a:off x="3629160" y="4419360"/>
              <a:ext cx="2543040" cy="1470240"/>
              <a:chOff x="3629160" y="4419360"/>
              <a:chExt cx="2543040" cy="1470240"/>
            </a:xfrm>
          </p:grpSpPr>
          <p:sp>
            <p:nvSpPr>
              <p:cNvPr id="955" name=""/>
              <p:cNvSpPr/>
              <p:nvPr/>
            </p:nvSpPr>
            <p:spPr>
              <a:xfrm>
                <a:off x="3629160" y="4898880"/>
                <a:ext cx="25430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6" name=""/>
              <p:cNvGrpSpPr/>
              <p:nvPr/>
            </p:nvGrpSpPr>
            <p:grpSpPr>
              <a:xfrm>
                <a:off x="4556160" y="5003640"/>
                <a:ext cx="216000" cy="282240"/>
                <a:chOff x="4556160" y="5003640"/>
                <a:chExt cx="216000" cy="28224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4556160" y="5144760"/>
                  <a:ext cx="2160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4556160" y="5003640"/>
                  <a:ext cx="2160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3933720" y="4975200"/>
                <a:ext cx="216000" cy="283680"/>
                <a:chOff x="3933720" y="4975200"/>
                <a:chExt cx="216000" cy="2836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3933720" y="5117040"/>
                  <a:ext cx="2160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3933720" y="4975200"/>
                  <a:ext cx="2160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5576760" y="5048280"/>
                <a:ext cx="214560" cy="283680"/>
                <a:chOff x="5576760" y="5048280"/>
                <a:chExt cx="214560" cy="28368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5576760" y="5190120"/>
                  <a:ext cx="21456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V="1">
                  <a:off x="5576760" y="5048280"/>
                  <a:ext cx="21456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4302000" y="5538960"/>
                <a:ext cx="214560" cy="282240"/>
                <a:chOff x="4302000" y="5538960"/>
                <a:chExt cx="214560" cy="28224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302000" y="5680080"/>
                  <a:ext cx="21456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302000" y="5538960"/>
                  <a:ext cx="21456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5576760" y="5538960"/>
                <a:ext cx="214560" cy="282240"/>
                <a:chOff x="5576760" y="5538960"/>
                <a:chExt cx="214560" cy="282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576760" y="5680080"/>
                  <a:ext cx="21456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5576760" y="5538960"/>
                  <a:ext cx="21456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790800" y="5425560"/>
                <a:ext cx="216000" cy="284760"/>
                <a:chOff x="3790800" y="5425560"/>
                <a:chExt cx="216000" cy="28476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790800" y="5568120"/>
                  <a:ext cx="216000" cy="142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V="1">
                  <a:off x="3790800" y="5425200"/>
                  <a:ext cx="216000" cy="142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4897440" y="5483160"/>
                <a:ext cx="214200" cy="282240"/>
                <a:chOff x="4897440" y="5483160"/>
                <a:chExt cx="214200" cy="2822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897440" y="562428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4897440" y="548316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3933720" y="4441680"/>
                <a:ext cx="1955880" cy="10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er to pe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410080" y="4419720"/>
                <a:ext cx="255600" cy="593640"/>
              </a:xfrm>
              <a:prstGeom prst="downArrow">
                <a:avLst>
                  <a:gd name="adj1" fmla="val 50000"/>
                  <a:gd name="adj2" fmla="val 580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flipV="1">
                <a:off x="5665680" y="4419000"/>
                <a:ext cx="255600" cy="593640"/>
              </a:xfrm>
              <a:prstGeom prst="downArrow">
                <a:avLst>
                  <a:gd name="adj1" fmla="val 50000"/>
                  <a:gd name="adj2" fmla="val 580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086360" y="5127480"/>
                <a:ext cx="3776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722840" y="5218200"/>
                <a:ext cx="99216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4699080" y="5124600"/>
                <a:ext cx="9396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 flipV="1">
                <a:off x="4039920" y="5324400"/>
                <a:ext cx="17604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4429080" y="5665320"/>
                <a:ext cx="3636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640400" y="5324400"/>
                <a:ext cx="15228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933720" y="5584680"/>
                <a:ext cx="31752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324480" y="4438800"/>
              <a:ext cx="2543400" cy="1447560"/>
              <a:chOff x="6324480" y="4438800"/>
              <a:chExt cx="2543400" cy="1447560"/>
            </a:xfrm>
          </p:grpSpPr>
          <p:sp>
            <p:nvSpPr>
              <p:cNvPr id="988" name=""/>
              <p:cNvSpPr/>
              <p:nvPr/>
            </p:nvSpPr>
            <p:spPr>
              <a:xfrm>
                <a:off x="6324480" y="4896000"/>
                <a:ext cx="25434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7251840" y="5000760"/>
                <a:ext cx="215640" cy="282240"/>
                <a:chOff x="7251840" y="5000760"/>
                <a:chExt cx="215640" cy="28224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7251840" y="5141880"/>
                  <a:ext cx="21564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7251840" y="5000760"/>
                  <a:ext cx="21564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629400" y="4971600"/>
                <a:ext cx="216000" cy="284760"/>
                <a:chOff x="6629400" y="4971600"/>
                <a:chExt cx="216000" cy="2847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629400" y="5114160"/>
                  <a:ext cx="216000" cy="142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629400" y="4971240"/>
                  <a:ext cx="216000" cy="142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8272440" y="5045040"/>
                <a:ext cx="214200" cy="283680"/>
                <a:chOff x="8272440" y="5045040"/>
                <a:chExt cx="214200" cy="2836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8272440" y="5186880"/>
                  <a:ext cx="2142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8272440" y="5045040"/>
                  <a:ext cx="2142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997680" y="5535720"/>
                <a:ext cx="214200" cy="282240"/>
                <a:chOff x="6997680" y="5535720"/>
                <a:chExt cx="214200" cy="2822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997680" y="567684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997680" y="553572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8272440" y="5535720"/>
                <a:ext cx="214200" cy="282240"/>
                <a:chOff x="8272440" y="5535720"/>
                <a:chExt cx="214200" cy="28224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8272440" y="567684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8272440" y="553572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486480" y="5423040"/>
                <a:ext cx="216000" cy="283680"/>
                <a:chOff x="6486480" y="5423040"/>
                <a:chExt cx="216000" cy="2836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486480" y="5564880"/>
                  <a:ext cx="2160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86480" y="5423040"/>
                  <a:ext cx="2160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7593120" y="5479920"/>
                <a:ext cx="214200" cy="282240"/>
                <a:chOff x="7593120" y="5479920"/>
                <a:chExt cx="214200" cy="28224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7593120" y="562104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V="1">
                  <a:off x="7593120" y="5479920"/>
                  <a:ext cx="214200" cy="14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6629400" y="4438800"/>
                <a:ext cx="1955880" cy="10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05760" y="4454640"/>
                <a:ext cx="255600" cy="555480"/>
              </a:xfrm>
              <a:prstGeom prst="downArrow">
                <a:avLst>
                  <a:gd name="adj1" fmla="val 50000"/>
                  <a:gd name="adj2" fmla="val 5433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8361360" y="4453920"/>
                <a:ext cx="255600" cy="555480"/>
              </a:xfrm>
              <a:prstGeom prst="downArrow">
                <a:avLst>
                  <a:gd name="adj1" fmla="val 50000"/>
                  <a:gd name="adj2" fmla="val 5433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609480" y="4419360"/>
              <a:ext cx="2820960" cy="1562400"/>
              <a:chOff x="609480" y="4419360"/>
              <a:chExt cx="2820960" cy="156240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9480" y="4883040"/>
                <a:ext cx="2820960" cy="993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2087640" y="4979520"/>
                <a:ext cx="177840" cy="260280"/>
                <a:chOff x="2087640" y="4979520"/>
                <a:chExt cx="177840" cy="2602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2087640" y="510984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2087640" y="497916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2581200" y="4979520"/>
                <a:ext cx="179640" cy="260280"/>
                <a:chOff x="2581200" y="4979520"/>
                <a:chExt cx="179640" cy="26028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2581200" y="5109840"/>
                  <a:ext cx="1796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2581200" y="4979160"/>
                  <a:ext cx="1796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2370240" y="5554440"/>
                <a:ext cx="177840" cy="260280"/>
                <a:chOff x="2370240" y="5554440"/>
                <a:chExt cx="177840" cy="26028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2370240" y="568476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2370240" y="555408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2652840" y="5554440"/>
                <a:ext cx="177840" cy="260280"/>
                <a:chOff x="2652840" y="5554440"/>
                <a:chExt cx="177840" cy="2602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2652840" y="568476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2652840" y="555408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2935440" y="5554440"/>
                <a:ext cx="179280" cy="260280"/>
                <a:chOff x="2935440" y="5554440"/>
                <a:chExt cx="179280" cy="26028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2935440" y="5684760"/>
                  <a:ext cx="17928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2935440" y="5554080"/>
                  <a:ext cx="17928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1805040" y="5554440"/>
                <a:ext cx="177840" cy="260280"/>
                <a:chOff x="1805040" y="5554440"/>
                <a:chExt cx="177840" cy="2602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1805040" y="568476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V="1">
                  <a:off x="1805040" y="555408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2087640" y="5554440"/>
                <a:ext cx="177840" cy="260280"/>
                <a:chOff x="2087640" y="5554440"/>
                <a:chExt cx="177840" cy="2602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2087640" y="568476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2087640" y="5554080"/>
                  <a:ext cx="17784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6" name=""/>
              <p:cNvSpPr/>
              <p:nvPr/>
            </p:nvSpPr>
            <p:spPr>
              <a:xfrm flipH="1">
                <a:off x="1945800" y="5265720"/>
                <a:ext cx="18756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209680" y="5265720"/>
                <a:ext cx="79704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09480" y="4908600"/>
                <a:ext cx="121932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di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09480" y="5265720"/>
                <a:ext cx="137160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 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85800" y="4424400"/>
                <a:ext cx="1281240" cy="4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ierarch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09480" y="5337000"/>
                <a:ext cx="2820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955880" y="4419720"/>
                <a:ext cx="210960" cy="531720"/>
              </a:xfrm>
              <a:prstGeom prst="downArrow">
                <a:avLst>
                  <a:gd name="adj1" fmla="val 50000"/>
                  <a:gd name="adj2" fmla="val 6301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 flipV="1">
                <a:off x="2166120" y="4419000"/>
                <a:ext cx="212760" cy="531720"/>
              </a:xfrm>
              <a:prstGeom prst="downArrow">
                <a:avLst>
                  <a:gd name="adj1" fmla="val 50000"/>
                  <a:gd name="adj2" fmla="val 6247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4" name=""/>
          <p:cNvSpPr/>
          <p:nvPr/>
        </p:nvSpPr>
        <p:spPr>
          <a:xfrm>
            <a:off x="152280" y="3809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and Relationships (advantage&amp; inconven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32F9-60D2-4051-B3E9-22D056404B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spects :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1047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1057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1060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1076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1090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1095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(to be adap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1102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733920" y="1666800"/>
            <a:ext cx="12952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5115-EEF4-410C-B6A0-C07535B338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: Fence diagram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56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409C-64A2-42CC-815E-0FBD998A95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1119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1129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1132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1148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1162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1167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ation, Models,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FE0B-D39F-46C2-8A0D-1A93E390B5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chnical 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glance at the global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pproac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‘What we did/How we did i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first : Limited scope / Project First Qu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054A-03B2-42C6-949A-96F4B1558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, statements &amp; technological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 memories are heterogeneous and distributed information land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are an heterogeneous and distributed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4920" y="2133720"/>
            <a:ext cx="8534160" cy="685800"/>
            <a:chOff x="304920" y="2133720"/>
            <a:chExt cx="8534160" cy="685800"/>
          </a:xfrm>
        </p:grpSpPr>
        <p:sp>
          <p:nvSpPr>
            <p:cNvPr id="108" name=""/>
            <p:cNvSpPr/>
            <p:nvPr/>
          </p:nvSpPr>
          <p:spPr>
            <a:xfrm>
              <a:off x="609480" y="221004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CM Materializ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221004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CM Exploi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4920" y="2133720"/>
              <a:ext cx="8534160" cy="685800"/>
              <a:chOff x="304920" y="2133720"/>
              <a:chExt cx="8534160" cy="68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304920" y="2133720"/>
                <a:ext cx="426708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2000" y="2133720"/>
                <a:ext cx="426708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04920" y="2819520"/>
            <a:ext cx="8534160" cy="2513520"/>
            <a:chOff x="304920" y="2819520"/>
            <a:chExt cx="8534160" cy="2513520"/>
          </a:xfrm>
        </p:grpSpPr>
        <p:sp>
          <p:nvSpPr>
            <p:cNvPr id="114" name=""/>
            <p:cNvSpPr/>
            <p:nvPr/>
          </p:nvSpPr>
          <p:spPr>
            <a:xfrm>
              <a:off x="304920" y="2819520"/>
              <a:ext cx="4267080" cy="251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2819520"/>
              <a:ext cx="4267080" cy="251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2895480"/>
            <a:ext cx="429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: Standard, Structure, Extend, Validation,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: Annotation, Schem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9400" y="289548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Agent System : Modularity, Distributed,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Learning : Adaptability, Em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920" y="5334120"/>
            <a:ext cx="8534160" cy="609480"/>
            <a:chOff x="304920" y="5334120"/>
            <a:chExt cx="8534160" cy="609480"/>
          </a:xfrm>
        </p:grpSpPr>
        <p:sp>
          <p:nvSpPr>
            <p:cNvPr id="119" name=""/>
            <p:cNvSpPr/>
            <p:nvPr/>
          </p:nvSpPr>
          <p:spPr>
            <a:xfrm>
              <a:off x="1397160" y="53341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porate </a:t>
              </a: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33840" y="5334120"/>
              <a:ext cx="4267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gement through </a:t>
              </a: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04920" y="5334120"/>
              <a:ext cx="8534160" cy="457200"/>
              <a:chOff x="304920" y="5334120"/>
              <a:chExt cx="853416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5334120"/>
                <a:ext cx="42670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72000" y="5334120"/>
                <a:ext cx="42670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4480-C467-4ABA-BA87-DB353A7D7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icture of 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17640" y="228600"/>
            <a:ext cx="8933040" cy="5035680"/>
            <a:chOff x="-17640" y="228600"/>
            <a:chExt cx="8933040" cy="5035680"/>
          </a:xfrm>
        </p:grpSpPr>
        <p:grpSp>
          <p:nvGrpSpPr>
            <p:cNvPr id="126" name=""/>
            <p:cNvGrpSpPr/>
            <p:nvPr/>
          </p:nvGrpSpPr>
          <p:grpSpPr>
            <a:xfrm>
              <a:off x="7257960" y="3276720"/>
              <a:ext cx="1319040" cy="1987560"/>
              <a:chOff x="7257960" y="3276720"/>
              <a:chExt cx="1319040" cy="19875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7970760" y="3276720"/>
                <a:ext cx="606240" cy="1549080"/>
                <a:chOff x="7970760" y="3276720"/>
                <a:chExt cx="606240" cy="15490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7970760" y="3276720"/>
                  <a:ext cx="606240" cy="1549080"/>
                  <a:chOff x="7970760" y="3276720"/>
                  <a:chExt cx="606240" cy="15490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>
                    <a:off x="8145720" y="3363120"/>
                    <a:ext cx="2372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522">
                        <a:moveTo>
                          <a:pt x="245" y="120"/>
                        </a:moveTo>
                        <a:lnTo>
                          <a:pt x="204" y="67"/>
                        </a:lnTo>
                        <a:lnTo>
                          <a:pt x="146" y="26"/>
                        </a:lnTo>
                        <a:lnTo>
                          <a:pt x="94" y="0"/>
                        </a:lnTo>
                        <a:lnTo>
                          <a:pt x="53" y="7"/>
                        </a:lnTo>
                        <a:lnTo>
                          <a:pt x="23" y="37"/>
                        </a:lnTo>
                        <a:lnTo>
                          <a:pt x="0" y="127"/>
                        </a:lnTo>
                        <a:lnTo>
                          <a:pt x="9" y="231"/>
                        </a:lnTo>
                        <a:lnTo>
                          <a:pt x="34" y="331"/>
                        </a:lnTo>
                        <a:lnTo>
                          <a:pt x="60" y="409"/>
                        </a:lnTo>
                        <a:lnTo>
                          <a:pt x="112" y="489"/>
                        </a:lnTo>
                        <a:lnTo>
                          <a:pt x="156" y="522"/>
                        </a:lnTo>
                        <a:lnTo>
                          <a:pt x="217" y="522"/>
                        </a:lnTo>
                        <a:lnTo>
                          <a:pt x="279" y="499"/>
                        </a:lnTo>
                        <a:lnTo>
                          <a:pt x="310" y="441"/>
                        </a:lnTo>
                        <a:lnTo>
                          <a:pt x="326" y="368"/>
                        </a:lnTo>
                        <a:lnTo>
                          <a:pt x="320" y="278"/>
                        </a:lnTo>
                        <a:lnTo>
                          <a:pt x="463" y="288"/>
                        </a:lnTo>
                        <a:lnTo>
                          <a:pt x="471" y="248"/>
                        </a:lnTo>
                        <a:lnTo>
                          <a:pt x="307" y="231"/>
                        </a:lnTo>
                        <a:lnTo>
                          <a:pt x="265" y="138"/>
                        </a:lnTo>
                        <a:lnTo>
                          <a:pt x="245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>
                    <a:off x="8303400" y="3276720"/>
                    <a:ext cx="27360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837">
                        <a:moveTo>
                          <a:pt x="317" y="19"/>
                        </a:moveTo>
                        <a:lnTo>
                          <a:pt x="385" y="0"/>
                        </a:lnTo>
                        <a:lnTo>
                          <a:pt x="439" y="3"/>
                        </a:lnTo>
                        <a:lnTo>
                          <a:pt x="480" y="33"/>
                        </a:lnTo>
                        <a:lnTo>
                          <a:pt x="508" y="80"/>
                        </a:lnTo>
                        <a:lnTo>
                          <a:pt x="498" y="130"/>
                        </a:lnTo>
                        <a:lnTo>
                          <a:pt x="460" y="130"/>
                        </a:lnTo>
                        <a:lnTo>
                          <a:pt x="470" y="89"/>
                        </a:lnTo>
                        <a:lnTo>
                          <a:pt x="439" y="53"/>
                        </a:lnTo>
                        <a:lnTo>
                          <a:pt x="409" y="40"/>
                        </a:lnTo>
                        <a:lnTo>
                          <a:pt x="358" y="53"/>
                        </a:lnTo>
                        <a:lnTo>
                          <a:pt x="378" y="94"/>
                        </a:lnTo>
                        <a:lnTo>
                          <a:pt x="385" y="130"/>
                        </a:lnTo>
                        <a:lnTo>
                          <a:pt x="378" y="160"/>
                        </a:lnTo>
                        <a:lnTo>
                          <a:pt x="327" y="174"/>
                        </a:lnTo>
                        <a:lnTo>
                          <a:pt x="272" y="164"/>
                        </a:lnTo>
                        <a:lnTo>
                          <a:pt x="262" y="140"/>
                        </a:lnTo>
                        <a:lnTo>
                          <a:pt x="204" y="204"/>
                        </a:lnTo>
                        <a:lnTo>
                          <a:pt x="170" y="274"/>
                        </a:lnTo>
                        <a:lnTo>
                          <a:pt x="123" y="364"/>
                        </a:lnTo>
                        <a:lnTo>
                          <a:pt x="92" y="445"/>
                        </a:lnTo>
                        <a:lnTo>
                          <a:pt x="78" y="522"/>
                        </a:lnTo>
                        <a:lnTo>
                          <a:pt x="89" y="562"/>
                        </a:lnTo>
                        <a:lnTo>
                          <a:pt x="143" y="613"/>
                        </a:lnTo>
                        <a:lnTo>
                          <a:pt x="256" y="656"/>
                        </a:lnTo>
                        <a:lnTo>
                          <a:pt x="317" y="675"/>
                        </a:lnTo>
                        <a:lnTo>
                          <a:pt x="378" y="686"/>
                        </a:lnTo>
                        <a:lnTo>
                          <a:pt x="470" y="723"/>
                        </a:lnTo>
                        <a:lnTo>
                          <a:pt x="538" y="746"/>
                        </a:lnTo>
                        <a:lnTo>
                          <a:pt x="542" y="793"/>
                        </a:lnTo>
                        <a:lnTo>
                          <a:pt x="508" y="827"/>
                        </a:lnTo>
                        <a:lnTo>
                          <a:pt x="467" y="837"/>
                        </a:lnTo>
                        <a:lnTo>
                          <a:pt x="405" y="806"/>
                        </a:lnTo>
                        <a:lnTo>
                          <a:pt x="262" y="733"/>
                        </a:lnTo>
                        <a:lnTo>
                          <a:pt x="143" y="683"/>
                        </a:lnTo>
                        <a:lnTo>
                          <a:pt x="61" y="626"/>
                        </a:lnTo>
                        <a:lnTo>
                          <a:pt x="6" y="575"/>
                        </a:lnTo>
                        <a:lnTo>
                          <a:pt x="0" y="515"/>
                        </a:lnTo>
                        <a:lnTo>
                          <a:pt x="30" y="434"/>
                        </a:lnTo>
                        <a:lnTo>
                          <a:pt x="92" y="314"/>
                        </a:lnTo>
                        <a:lnTo>
                          <a:pt x="150" y="214"/>
                        </a:lnTo>
                        <a:lnTo>
                          <a:pt x="222" y="110"/>
                        </a:lnTo>
                        <a:lnTo>
                          <a:pt x="276" y="49"/>
                        </a:lnTo>
                        <a:lnTo>
                          <a:pt x="344" y="19"/>
                        </a:lnTo>
                        <a:lnTo>
                          <a:pt x="31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>
                    <a:off x="8176680" y="3726000"/>
                    <a:ext cx="141840" cy="50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6">
                        <a:moveTo>
                          <a:pt x="18" y="61"/>
                        </a:moveTo>
                        <a:lnTo>
                          <a:pt x="28" y="20"/>
                        </a:lnTo>
                        <a:lnTo>
                          <a:pt x="72" y="0"/>
                        </a:lnTo>
                        <a:lnTo>
                          <a:pt x="113" y="0"/>
                        </a:lnTo>
                        <a:lnTo>
                          <a:pt x="164" y="30"/>
                        </a:lnTo>
                        <a:lnTo>
                          <a:pt x="213" y="101"/>
                        </a:lnTo>
                        <a:lnTo>
                          <a:pt x="247" y="174"/>
                        </a:lnTo>
                        <a:lnTo>
                          <a:pt x="263" y="274"/>
                        </a:lnTo>
                        <a:lnTo>
                          <a:pt x="278" y="391"/>
                        </a:lnTo>
                        <a:lnTo>
                          <a:pt x="284" y="504"/>
                        </a:lnTo>
                        <a:lnTo>
                          <a:pt x="284" y="652"/>
                        </a:lnTo>
                        <a:lnTo>
                          <a:pt x="263" y="742"/>
                        </a:lnTo>
                        <a:lnTo>
                          <a:pt x="226" y="775"/>
                        </a:lnTo>
                        <a:lnTo>
                          <a:pt x="161" y="786"/>
                        </a:lnTo>
                        <a:lnTo>
                          <a:pt x="93" y="783"/>
                        </a:lnTo>
                        <a:lnTo>
                          <a:pt x="58" y="742"/>
                        </a:lnTo>
                        <a:lnTo>
                          <a:pt x="38" y="672"/>
                        </a:lnTo>
                        <a:lnTo>
                          <a:pt x="21" y="602"/>
                        </a:lnTo>
                        <a:lnTo>
                          <a:pt x="8" y="475"/>
                        </a:lnTo>
                        <a:lnTo>
                          <a:pt x="0" y="331"/>
                        </a:lnTo>
                        <a:lnTo>
                          <a:pt x="0" y="164"/>
                        </a:lnTo>
                        <a:lnTo>
                          <a:pt x="18" y="91"/>
                        </a:lnTo>
                        <a:lnTo>
                          <a:pt x="18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8034480" y="3740400"/>
                    <a:ext cx="218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603">
                        <a:moveTo>
                          <a:pt x="24" y="0"/>
                        </a:moveTo>
                        <a:lnTo>
                          <a:pt x="113" y="10"/>
                        </a:lnTo>
                        <a:lnTo>
                          <a:pt x="204" y="26"/>
                        </a:lnTo>
                        <a:lnTo>
                          <a:pt x="300" y="80"/>
                        </a:lnTo>
                        <a:lnTo>
                          <a:pt x="368" y="120"/>
                        </a:lnTo>
                        <a:lnTo>
                          <a:pt x="413" y="178"/>
                        </a:lnTo>
                        <a:lnTo>
                          <a:pt x="433" y="211"/>
                        </a:lnTo>
                        <a:lnTo>
                          <a:pt x="392" y="308"/>
                        </a:lnTo>
                        <a:lnTo>
                          <a:pt x="327" y="368"/>
                        </a:lnTo>
                        <a:lnTo>
                          <a:pt x="249" y="411"/>
                        </a:lnTo>
                        <a:lnTo>
                          <a:pt x="207" y="438"/>
                        </a:lnTo>
                        <a:lnTo>
                          <a:pt x="136" y="452"/>
                        </a:lnTo>
                        <a:lnTo>
                          <a:pt x="133" y="478"/>
                        </a:lnTo>
                        <a:lnTo>
                          <a:pt x="188" y="502"/>
                        </a:lnTo>
                        <a:lnTo>
                          <a:pt x="266" y="523"/>
                        </a:lnTo>
                        <a:lnTo>
                          <a:pt x="340" y="563"/>
                        </a:lnTo>
                        <a:lnTo>
                          <a:pt x="310" y="593"/>
                        </a:lnTo>
                        <a:lnTo>
                          <a:pt x="280" y="603"/>
                        </a:lnTo>
                        <a:lnTo>
                          <a:pt x="235" y="559"/>
                        </a:lnTo>
                        <a:lnTo>
                          <a:pt x="167" y="532"/>
                        </a:lnTo>
                        <a:lnTo>
                          <a:pt x="113" y="512"/>
                        </a:lnTo>
                        <a:lnTo>
                          <a:pt x="113" y="472"/>
                        </a:lnTo>
                        <a:lnTo>
                          <a:pt x="123" y="429"/>
                        </a:lnTo>
                        <a:lnTo>
                          <a:pt x="157" y="411"/>
                        </a:lnTo>
                        <a:lnTo>
                          <a:pt x="266" y="368"/>
                        </a:lnTo>
                        <a:lnTo>
                          <a:pt x="327" y="301"/>
                        </a:lnTo>
                        <a:lnTo>
                          <a:pt x="371" y="231"/>
                        </a:lnTo>
                        <a:lnTo>
                          <a:pt x="361" y="197"/>
                        </a:lnTo>
                        <a:lnTo>
                          <a:pt x="327" y="157"/>
                        </a:lnTo>
                        <a:lnTo>
                          <a:pt x="246" y="100"/>
                        </a:lnTo>
                        <a:lnTo>
                          <a:pt x="147" y="80"/>
                        </a:lnTo>
                        <a:lnTo>
                          <a:pt x="82" y="77"/>
                        </a:lnTo>
                        <a:lnTo>
                          <a:pt x="24" y="77"/>
                        </a:lnTo>
                        <a:lnTo>
                          <a:pt x="0" y="4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7970400" y="4183560"/>
                    <a:ext cx="265320" cy="63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976">
                        <a:moveTo>
                          <a:pt x="61" y="0"/>
                        </a:moveTo>
                        <a:lnTo>
                          <a:pt x="14" y="0"/>
                        </a:lnTo>
                        <a:lnTo>
                          <a:pt x="0" y="70"/>
                        </a:lnTo>
                        <a:lnTo>
                          <a:pt x="34" y="112"/>
                        </a:lnTo>
                        <a:lnTo>
                          <a:pt x="144" y="208"/>
                        </a:lnTo>
                        <a:lnTo>
                          <a:pt x="239" y="332"/>
                        </a:lnTo>
                        <a:lnTo>
                          <a:pt x="301" y="460"/>
                        </a:lnTo>
                        <a:lnTo>
                          <a:pt x="311" y="543"/>
                        </a:lnTo>
                        <a:lnTo>
                          <a:pt x="307" y="604"/>
                        </a:lnTo>
                        <a:lnTo>
                          <a:pt x="281" y="741"/>
                        </a:lnTo>
                        <a:lnTo>
                          <a:pt x="246" y="852"/>
                        </a:lnTo>
                        <a:lnTo>
                          <a:pt x="216" y="916"/>
                        </a:lnTo>
                        <a:lnTo>
                          <a:pt x="208" y="956"/>
                        </a:lnTo>
                        <a:lnTo>
                          <a:pt x="239" y="956"/>
                        </a:lnTo>
                        <a:lnTo>
                          <a:pt x="287" y="943"/>
                        </a:lnTo>
                        <a:lnTo>
                          <a:pt x="301" y="946"/>
                        </a:lnTo>
                        <a:lnTo>
                          <a:pt x="400" y="952"/>
                        </a:lnTo>
                        <a:lnTo>
                          <a:pt x="475" y="976"/>
                        </a:lnTo>
                        <a:lnTo>
                          <a:pt x="502" y="962"/>
                        </a:lnTo>
                        <a:lnTo>
                          <a:pt x="527" y="912"/>
                        </a:lnTo>
                        <a:lnTo>
                          <a:pt x="502" y="885"/>
                        </a:lnTo>
                        <a:lnTo>
                          <a:pt x="390" y="882"/>
                        </a:lnTo>
                        <a:lnTo>
                          <a:pt x="311" y="892"/>
                        </a:lnTo>
                        <a:lnTo>
                          <a:pt x="270" y="912"/>
                        </a:lnTo>
                        <a:lnTo>
                          <a:pt x="276" y="865"/>
                        </a:lnTo>
                        <a:lnTo>
                          <a:pt x="318" y="794"/>
                        </a:lnTo>
                        <a:lnTo>
                          <a:pt x="352" y="684"/>
                        </a:lnTo>
                        <a:lnTo>
                          <a:pt x="380" y="590"/>
                        </a:lnTo>
                        <a:lnTo>
                          <a:pt x="359" y="483"/>
                        </a:lnTo>
                        <a:lnTo>
                          <a:pt x="328" y="369"/>
                        </a:lnTo>
                        <a:lnTo>
                          <a:pt x="266" y="238"/>
                        </a:lnTo>
                        <a:lnTo>
                          <a:pt x="178" y="118"/>
                        </a:lnTo>
                        <a:lnTo>
                          <a:pt x="102" y="3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8223840" y="4182120"/>
                    <a:ext cx="178560" cy="64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994">
                        <a:moveTo>
                          <a:pt x="246" y="0"/>
                        </a:moveTo>
                        <a:lnTo>
                          <a:pt x="201" y="94"/>
                        </a:lnTo>
                        <a:lnTo>
                          <a:pt x="170" y="231"/>
                        </a:lnTo>
                        <a:lnTo>
                          <a:pt x="133" y="382"/>
                        </a:lnTo>
                        <a:lnTo>
                          <a:pt x="99" y="536"/>
                        </a:lnTo>
                        <a:lnTo>
                          <a:pt x="99" y="592"/>
                        </a:lnTo>
                        <a:lnTo>
                          <a:pt x="133" y="693"/>
                        </a:lnTo>
                        <a:lnTo>
                          <a:pt x="181" y="747"/>
                        </a:lnTo>
                        <a:lnTo>
                          <a:pt x="225" y="814"/>
                        </a:lnTo>
                        <a:lnTo>
                          <a:pt x="256" y="863"/>
                        </a:lnTo>
                        <a:lnTo>
                          <a:pt x="243" y="887"/>
                        </a:lnTo>
                        <a:lnTo>
                          <a:pt x="164" y="897"/>
                        </a:lnTo>
                        <a:lnTo>
                          <a:pt x="37" y="917"/>
                        </a:lnTo>
                        <a:lnTo>
                          <a:pt x="0" y="948"/>
                        </a:lnTo>
                        <a:lnTo>
                          <a:pt x="31" y="974"/>
                        </a:lnTo>
                        <a:lnTo>
                          <a:pt x="102" y="994"/>
                        </a:lnTo>
                        <a:lnTo>
                          <a:pt x="185" y="954"/>
                        </a:lnTo>
                        <a:lnTo>
                          <a:pt x="246" y="927"/>
                        </a:lnTo>
                        <a:lnTo>
                          <a:pt x="324" y="917"/>
                        </a:lnTo>
                        <a:lnTo>
                          <a:pt x="355" y="907"/>
                        </a:lnTo>
                        <a:lnTo>
                          <a:pt x="345" y="874"/>
                        </a:lnTo>
                        <a:lnTo>
                          <a:pt x="256" y="787"/>
                        </a:lnTo>
                        <a:lnTo>
                          <a:pt x="204" y="696"/>
                        </a:lnTo>
                        <a:lnTo>
                          <a:pt x="160" y="636"/>
                        </a:lnTo>
                        <a:lnTo>
                          <a:pt x="154" y="576"/>
                        </a:lnTo>
                        <a:lnTo>
                          <a:pt x="175" y="476"/>
                        </a:lnTo>
                        <a:lnTo>
                          <a:pt x="222" y="372"/>
                        </a:lnTo>
                        <a:lnTo>
                          <a:pt x="274" y="195"/>
                        </a:lnTo>
                        <a:lnTo>
                          <a:pt x="318" y="91"/>
                        </a:lnTo>
                        <a:lnTo>
                          <a:pt x="314" y="30"/>
                        </a:lnTo>
                        <a:lnTo>
                          <a:pt x="274" y="0"/>
                        </a:lnTo>
                        <a:lnTo>
                          <a:pt x="2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8079840" y="3276720"/>
                  <a:ext cx="134280" cy="130320"/>
                  <a:chOff x="8079840" y="3276720"/>
                  <a:chExt cx="134280" cy="130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8073720" y="3282480"/>
                    <a:ext cx="10512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04">
                        <a:moveTo>
                          <a:pt x="21" y="9"/>
                        </a:moveTo>
                        <a:lnTo>
                          <a:pt x="68" y="0"/>
                        </a:lnTo>
                        <a:lnTo>
                          <a:pt x="113" y="3"/>
                        </a:lnTo>
                        <a:lnTo>
                          <a:pt x="155" y="23"/>
                        </a:lnTo>
                        <a:lnTo>
                          <a:pt x="175" y="60"/>
                        </a:lnTo>
                        <a:lnTo>
                          <a:pt x="175" y="90"/>
                        </a:lnTo>
                        <a:lnTo>
                          <a:pt x="155" y="130"/>
                        </a:lnTo>
                        <a:lnTo>
                          <a:pt x="120" y="153"/>
                        </a:lnTo>
                        <a:lnTo>
                          <a:pt x="68" y="153"/>
                        </a:lnTo>
                        <a:lnTo>
                          <a:pt x="37" y="173"/>
                        </a:lnTo>
                        <a:lnTo>
                          <a:pt x="27" y="204"/>
                        </a:lnTo>
                        <a:lnTo>
                          <a:pt x="0" y="194"/>
                        </a:lnTo>
                        <a:lnTo>
                          <a:pt x="10" y="153"/>
                        </a:lnTo>
                        <a:lnTo>
                          <a:pt x="47" y="130"/>
                        </a:lnTo>
                        <a:lnTo>
                          <a:pt x="109" y="124"/>
                        </a:lnTo>
                        <a:lnTo>
                          <a:pt x="134" y="100"/>
                        </a:lnTo>
                        <a:lnTo>
                          <a:pt x="140" y="63"/>
                        </a:lnTo>
                        <a:lnTo>
                          <a:pt x="113" y="30"/>
                        </a:lnTo>
                        <a:lnTo>
                          <a:pt x="72" y="30"/>
                        </a:lnTo>
                        <a:lnTo>
                          <a:pt x="27" y="40"/>
                        </a:lnTo>
                        <a:lnTo>
                          <a:pt x="10" y="30"/>
                        </a:lnTo>
                        <a:lnTo>
                          <a:pt x="2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6200000">
                    <a:off x="8184600" y="33775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54" y="3"/>
                        </a:moveTo>
                        <a:lnTo>
                          <a:pt x="26" y="0"/>
                        </a:lnTo>
                        <a:lnTo>
                          <a:pt x="8" y="21"/>
                        </a:lnTo>
                        <a:lnTo>
                          <a:pt x="0" y="52"/>
                        </a:lnTo>
                        <a:lnTo>
                          <a:pt x="26" y="56"/>
                        </a:lnTo>
                        <a:lnTo>
                          <a:pt x="49" y="41"/>
                        </a:lnTo>
                        <a:lnTo>
                          <a:pt x="5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257960" y="4748400"/>
                <a:ext cx="124776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mploye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-17640" y="228600"/>
              <a:ext cx="8933040" cy="4764240"/>
              <a:chOff x="-17640" y="228600"/>
              <a:chExt cx="8933040" cy="476424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920880" y="1841400"/>
                <a:ext cx="7994520" cy="1380960"/>
                <a:chOff x="920880" y="1841400"/>
                <a:chExt cx="7994520" cy="13809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920880" y="1841400"/>
                  <a:ext cx="7994520" cy="1380960"/>
                  <a:chOff x="920880" y="1841400"/>
                  <a:chExt cx="7994520" cy="13809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920880" y="2017440"/>
                    <a:ext cx="7656480" cy="12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005600" y="1841400"/>
                    <a:ext cx="190980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ulti-Agent Syste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371680" y="2109960"/>
                  <a:ext cx="265320" cy="515520"/>
                  <a:chOff x="2371680" y="2109960"/>
                  <a:chExt cx="265320" cy="5155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371680" y="2367720"/>
                    <a:ext cx="265320" cy="257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2371680" y="2109960"/>
                    <a:ext cx="265320" cy="257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8050320" y="2530080"/>
                  <a:ext cx="264960" cy="519480"/>
                  <a:chOff x="8050320" y="2530080"/>
                  <a:chExt cx="264960" cy="5194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8050320" y="2790000"/>
                    <a:ext cx="264960" cy="259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8050320" y="2529720"/>
                    <a:ext cx="264960" cy="259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257960" y="2360520"/>
                  <a:ext cx="263520" cy="515520"/>
                  <a:chOff x="7257960" y="2360520"/>
                  <a:chExt cx="263520" cy="515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7257960" y="2618280"/>
                    <a:ext cx="263520" cy="257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257960" y="2360520"/>
                    <a:ext cx="263520" cy="257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5013360" y="2187720"/>
                  <a:ext cx="264960" cy="515520"/>
                  <a:chOff x="5013360" y="2187720"/>
                  <a:chExt cx="264960" cy="5155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5013360" y="2445480"/>
                    <a:ext cx="264960" cy="257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5013360" y="2187720"/>
                    <a:ext cx="264960" cy="257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"/>
              <p:cNvGrpSpPr/>
              <p:nvPr/>
            </p:nvGrpSpPr>
            <p:grpSpPr>
              <a:xfrm>
                <a:off x="-17640" y="228600"/>
                <a:ext cx="1700280" cy="2036880"/>
                <a:chOff x="-17640" y="228600"/>
                <a:chExt cx="1700280" cy="2036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-17640" y="1403280"/>
                  <a:ext cx="1452600" cy="86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ocu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890640" y="228600"/>
                  <a:ext cx="792000" cy="1698480"/>
                  <a:chOff x="890640" y="228600"/>
                  <a:chExt cx="792000" cy="1698480"/>
                </a:xfrm>
              </p:grpSpPr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1060200" y="685440"/>
                    <a:ext cx="622440" cy="1241640"/>
                    <a:chOff x="1060200" y="685440"/>
                    <a:chExt cx="622440" cy="12416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333080" y="1098360"/>
                      <a:ext cx="145080" cy="43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1" h="1535">
                          <a:moveTo>
                            <a:pt x="182" y="123"/>
                          </a:moveTo>
                          <a:lnTo>
                            <a:pt x="265" y="33"/>
                          </a:lnTo>
                          <a:lnTo>
                            <a:pt x="423" y="0"/>
                          </a:lnTo>
                          <a:lnTo>
                            <a:pt x="558" y="33"/>
                          </a:lnTo>
                          <a:lnTo>
                            <a:pt x="633" y="83"/>
                          </a:lnTo>
                          <a:lnTo>
                            <a:pt x="693" y="183"/>
                          </a:lnTo>
                          <a:lnTo>
                            <a:pt x="746" y="361"/>
                          </a:lnTo>
                          <a:lnTo>
                            <a:pt x="771" y="554"/>
                          </a:lnTo>
                          <a:lnTo>
                            <a:pt x="771" y="899"/>
                          </a:lnTo>
                          <a:lnTo>
                            <a:pt x="693" y="1200"/>
                          </a:lnTo>
                          <a:lnTo>
                            <a:pt x="581" y="1370"/>
                          </a:lnTo>
                          <a:lnTo>
                            <a:pt x="468" y="1468"/>
                          </a:lnTo>
                          <a:lnTo>
                            <a:pt x="340" y="1535"/>
                          </a:lnTo>
                          <a:lnTo>
                            <a:pt x="160" y="1528"/>
                          </a:lnTo>
                          <a:lnTo>
                            <a:pt x="17" y="1425"/>
                          </a:lnTo>
                          <a:lnTo>
                            <a:pt x="0" y="1302"/>
                          </a:lnTo>
                          <a:lnTo>
                            <a:pt x="70" y="1119"/>
                          </a:lnTo>
                          <a:lnTo>
                            <a:pt x="130" y="914"/>
                          </a:lnTo>
                          <a:lnTo>
                            <a:pt x="152" y="649"/>
                          </a:lnTo>
                          <a:lnTo>
                            <a:pt x="115" y="423"/>
                          </a:lnTo>
                          <a:lnTo>
                            <a:pt x="115" y="258"/>
                          </a:lnTo>
                          <a:lnTo>
                            <a:pt x="182" y="1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389240" y="1488600"/>
                      <a:ext cx="16560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1" h="1512">
                          <a:moveTo>
                            <a:pt x="293" y="63"/>
                          </a:moveTo>
                          <a:lnTo>
                            <a:pt x="187" y="0"/>
                          </a:lnTo>
                          <a:lnTo>
                            <a:pt x="52" y="0"/>
                          </a:lnTo>
                          <a:lnTo>
                            <a:pt x="0" y="83"/>
                          </a:lnTo>
                          <a:lnTo>
                            <a:pt x="22" y="205"/>
                          </a:lnTo>
                          <a:lnTo>
                            <a:pt x="142" y="325"/>
                          </a:lnTo>
                          <a:lnTo>
                            <a:pt x="390" y="436"/>
                          </a:lnTo>
                          <a:lnTo>
                            <a:pt x="676" y="671"/>
                          </a:lnTo>
                          <a:lnTo>
                            <a:pt x="721" y="774"/>
                          </a:lnTo>
                          <a:lnTo>
                            <a:pt x="698" y="821"/>
                          </a:lnTo>
                          <a:lnTo>
                            <a:pt x="480" y="977"/>
                          </a:lnTo>
                          <a:lnTo>
                            <a:pt x="225" y="1162"/>
                          </a:lnTo>
                          <a:lnTo>
                            <a:pt x="165" y="1242"/>
                          </a:lnTo>
                          <a:lnTo>
                            <a:pt x="165" y="1325"/>
                          </a:lnTo>
                          <a:lnTo>
                            <a:pt x="360" y="1412"/>
                          </a:lnTo>
                          <a:lnTo>
                            <a:pt x="661" y="1512"/>
                          </a:lnTo>
                          <a:lnTo>
                            <a:pt x="766" y="1512"/>
                          </a:lnTo>
                          <a:lnTo>
                            <a:pt x="881" y="1445"/>
                          </a:lnTo>
                          <a:lnTo>
                            <a:pt x="881" y="1392"/>
                          </a:lnTo>
                          <a:lnTo>
                            <a:pt x="796" y="1365"/>
                          </a:lnTo>
                          <a:lnTo>
                            <a:pt x="413" y="1325"/>
                          </a:lnTo>
                          <a:lnTo>
                            <a:pt x="270" y="1290"/>
                          </a:lnTo>
                          <a:lnTo>
                            <a:pt x="255" y="1229"/>
                          </a:lnTo>
                          <a:lnTo>
                            <a:pt x="503" y="1059"/>
                          </a:lnTo>
                          <a:lnTo>
                            <a:pt x="773" y="896"/>
                          </a:lnTo>
                          <a:lnTo>
                            <a:pt x="833" y="836"/>
                          </a:lnTo>
                          <a:lnTo>
                            <a:pt x="856" y="754"/>
                          </a:lnTo>
                          <a:lnTo>
                            <a:pt x="833" y="638"/>
                          </a:lnTo>
                          <a:lnTo>
                            <a:pt x="751" y="551"/>
                          </a:lnTo>
                          <a:lnTo>
                            <a:pt x="480" y="253"/>
                          </a:lnTo>
                          <a:lnTo>
                            <a:pt x="293" y="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170720" y="1467000"/>
                      <a:ext cx="20628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7" h="1610">
                          <a:moveTo>
                            <a:pt x="596" y="218"/>
                          </a:moveTo>
                          <a:lnTo>
                            <a:pt x="771" y="80"/>
                          </a:lnTo>
                          <a:lnTo>
                            <a:pt x="937" y="0"/>
                          </a:lnTo>
                          <a:lnTo>
                            <a:pt x="1042" y="12"/>
                          </a:lnTo>
                          <a:lnTo>
                            <a:pt x="1097" y="80"/>
                          </a:lnTo>
                          <a:lnTo>
                            <a:pt x="1097" y="155"/>
                          </a:lnTo>
                          <a:lnTo>
                            <a:pt x="1064" y="238"/>
                          </a:lnTo>
                          <a:lnTo>
                            <a:pt x="952" y="285"/>
                          </a:lnTo>
                          <a:lnTo>
                            <a:pt x="724" y="400"/>
                          </a:lnTo>
                          <a:lnTo>
                            <a:pt x="589" y="543"/>
                          </a:lnTo>
                          <a:lnTo>
                            <a:pt x="499" y="713"/>
                          </a:lnTo>
                          <a:lnTo>
                            <a:pt x="476" y="814"/>
                          </a:lnTo>
                          <a:lnTo>
                            <a:pt x="596" y="936"/>
                          </a:lnTo>
                          <a:lnTo>
                            <a:pt x="724" y="1114"/>
                          </a:lnTo>
                          <a:lnTo>
                            <a:pt x="817" y="1277"/>
                          </a:lnTo>
                          <a:lnTo>
                            <a:pt x="839" y="1380"/>
                          </a:lnTo>
                          <a:lnTo>
                            <a:pt x="839" y="1440"/>
                          </a:lnTo>
                          <a:lnTo>
                            <a:pt x="779" y="1480"/>
                          </a:lnTo>
                          <a:lnTo>
                            <a:pt x="589" y="1487"/>
                          </a:lnTo>
                          <a:lnTo>
                            <a:pt x="301" y="1547"/>
                          </a:lnTo>
                          <a:lnTo>
                            <a:pt x="248" y="1602"/>
                          </a:lnTo>
                          <a:lnTo>
                            <a:pt x="203" y="1610"/>
                          </a:lnTo>
                          <a:lnTo>
                            <a:pt x="0" y="1547"/>
                          </a:lnTo>
                          <a:lnTo>
                            <a:pt x="0" y="1487"/>
                          </a:lnTo>
                          <a:lnTo>
                            <a:pt x="90" y="1440"/>
                          </a:lnTo>
                          <a:lnTo>
                            <a:pt x="453" y="1380"/>
                          </a:lnTo>
                          <a:lnTo>
                            <a:pt x="641" y="1400"/>
                          </a:lnTo>
                          <a:lnTo>
                            <a:pt x="734" y="1400"/>
                          </a:lnTo>
                          <a:lnTo>
                            <a:pt x="756" y="1365"/>
                          </a:lnTo>
                          <a:lnTo>
                            <a:pt x="679" y="1214"/>
                          </a:lnTo>
                          <a:lnTo>
                            <a:pt x="521" y="1019"/>
                          </a:lnTo>
                          <a:lnTo>
                            <a:pt x="408" y="876"/>
                          </a:lnTo>
                          <a:lnTo>
                            <a:pt x="363" y="794"/>
                          </a:lnTo>
                          <a:lnTo>
                            <a:pt x="363" y="671"/>
                          </a:lnTo>
                          <a:lnTo>
                            <a:pt x="438" y="468"/>
                          </a:lnTo>
                          <a:lnTo>
                            <a:pt x="506" y="340"/>
                          </a:lnTo>
                          <a:lnTo>
                            <a:pt x="596" y="2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060200" y="1099080"/>
                      <a:ext cx="279000" cy="34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2" h="1202">
                          <a:moveTo>
                            <a:pt x="889" y="1202"/>
                          </a:moveTo>
                          <a:lnTo>
                            <a:pt x="981" y="1192"/>
                          </a:lnTo>
                          <a:lnTo>
                            <a:pt x="1009" y="1124"/>
                          </a:lnTo>
                          <a:lnTo>
                            <a:pt x="1034" y="881"/>
                          </a:lnTo>
                          <a:lnTo>
                            <a:pt x="1172" y="596"/>
                          </a:lnTo>
                          <a:lnTo>
                            <a:pt x="1314" y="465"/>
                          </a:lnTo>
                          <a:lnTo>
                            <a:pt x="1482" y="330"/>
                          </a:lnTo>
                          <a:lnTo>
                            <a:pt x="1467" y="235"/>
                          </a:lnTo>
                          <a:lnTo>
                            <a:pt x="1367" y="185"/>
                          </a:lnTo>
                          <a:lnTo>
                            <a:pt x="1242" y="235"/>
                          </a:lnTo>
                          <a:lnTo>
                            <a:pt x="1104" y="373"/>
                          </a:lnTo>
                          <a:lnTo>
                            <a:pt x="976" y="673"/>
                          </a:lnTo>
                          <a:lnTo>
                            <a:pt x="921" y="906"/>
                          </a:lnTo>
                          <a:lnTo>
                            <a:pt x="884" y="1029"/>
                          </a:lnTo>
                          <a:lnTo>
                            <a:pt x="779" y="984"/>
                          </a:lnTo>
                          <a:lnTo>
                            <a:pt x="661" y="783"/>
                          </a:lnTo>
                          <a:lnTo>
                            <a:pt x="563" y="505"/>
                          </a:lnTo>
                          <a:lnTo>
                            <a:pt x="581" y="380"/>
                          </a:lnTo>
                          <a:lnTo>
                            <a:pt x="636" y="248"/>
                          </a:lnTo>
                          <a:lnTo>
                            <a:pt x="658" y="150"/>
                          </a:lnTo>
                          <a:lnTo>
                            <a:pt x="418" y="145"/>
                          </a:lnTo>
                          <a:lnTo>
                            <a:pt x="178" y="105"/>
                          </a:lnTo>
                          <a:lnTo>
                            <a:pt x="65" y="0"/>
                          </a:lnTo>
                          <a:lnTo>
                            <a:pt x="0" y="50"/>
                          </a:lnTo>
                          <a:lnTo>
                            <a:pt x="88" y="230"/>
                          </a:lnTo>
                          <a:lnTo>
                            <a:pt x="280" y="250"/>
                          </a:lnTo>
                          <a:lnTo>
                            <a:pt x="488" y="270"/>
                          </a:lnTo>
                          <a:lnTo>
                            <a:pt x="493" y="428"/>
                          </a:lnTo>
                          <a:lnTo>
                            <a:pt x="513" y="611"/>
                          </a:lnTo>
                          <a:lnTo>
                            <a:pt x="583" y="816"/>
                          </a:lnTo>
                          <a:lnTo>
                            <a:pt x="671" y="1019"/>
                          </a:lnTo>
                          <a:lnTo>
                            <a:pt x="804" y="1154"/>
                          </a:lnTo>
                          <a:lnTo>
                            <a:pt x="889" y="1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477440" y="685440"/>
                      <a:ext cx="2052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1" h="1625">
                          <a:moveTo>
                            <a:pt x="0" y="1610"/>
                          </a:moveTo>
                          <a:lnTo>
                            <a:pt x="0" y="1503"/>
                          </a:lnTo>
                          <a:lnTo>
                            <a:pt x="67" y="1420"/>
                          </a:lnTo>
                          <a:lnTo>
                            <a:pt x="363" y="1325"/>
                          </a:lnTo>
                          <a:lnTo>
                            <a:pt x="728" y="1245"/>
                          </a:lnTo>
                          <a:lnTo>
                            <a:pt x="939" y="1197"/>
                          </a:lnTo>
                          <a:lnTo>
                            <a:pt x="964" y="1155"/>
                          </a:lnTo>
                          <a:lnTo>
                            <a:pt x="864" y="1034"/>
                          </a:lnTo>
                          <a:lnTo>
                            <a:pt x="666" y="857"/>
                          </a:lnTo>
                          <a:lnTo>
                            <a:pt x="463" y="706"/>
                          </a:lnTo>
                          <a:lnTo>
                            <a:pt x="303" y="626"/>
                          </a:lnTo>
                          <a:lnTo>
                            <a:pt x="213" y="544"/>
                          </a:lnTo>
                          <a:lnTo>
                            <a:pt x="205" y="483"/>
                          </a:lnTo>
                          <a:lnTo>
                            <a:pt x="258" y="428"/>
                          </a:lnTo>
                          <a:lnTo>
                            <a:pt x="385" y="401"/>
                          </a:lnTo>
                          <a:lnTo>
                            <a:pt x="546" y="298"/>
                          </a:lnTo>
                          <a:lnTo>
                            <a:pt x="568" y="198"/>
                          </a:lnTo>
                          <a:lnTo>
                            <a:pt x="568" y="55"/>
                          </a:lnTo>
                          <a:lnTo>
                            <a:pt x="553" y="0"/>
                          </a:lnTo>
                          <a:lnTo>
                            <a:pt x="613" y="13"/>
                          </a:lnTo>
                          <a:lnTo>
                            <a:pt x="698" y="135"/>
                          </a:lnTo>
                          <a:lnTo>
                            <a:pt x="728" y="266"/>
                          </a:lnTo>
                          <a:lnTo>
                            <a:pt x="636" y="361"/>
                          </a:lnTo>
                          <a:lnTo>
                            <a:pt x="553" y="388"/>
                          </a:lnTo>
                          <a:lnTo>
                            <a:pt x="393" y="463"/>
                          </a:lnTo>
                          <a:lnTo>
                            <a:pt x="363" y="504"/>
                          </a:lnTo>
                          <a:lnTo>
                            <a:pt x="385" y="544"/>
                          </a:lnTo>
                          <a:lnTo>
                            <a:pt x="531" y="654"/>
                          </a:lnTo>
                          <a:lnTo>
                            <a:pt x="683" y="714"/>
                          </a:lnTo>
                          <a:lnTo>
                            <a:pt x="886" y="869"/>
                          </a:lnTo>
                          <a:lnTo>
                            <a:pt x="1024" y="1054"/>
                          </a:lnTo>
                          <a:lnTo>
                            <a:pt x="1091" y="1197"/>
                          </a:lnTo>
                          <a:lnTo>
                            <a:pt x="1069" y="1245"/>
                          </a:lnTo>
                          <a:lnTo>
                            <a:pt x="1024" y="1277"/>
                          </a:lnTo>
                          <a:lnTo>
                            <a:pt x="849" y="1340"/>
                          </a:lnTo>
                          <a:lnTo>
                            <a:pt x="501" y="1443"/>
                          </a:lnTo>
                          <a:lnTo>
                            <a:pt x="280" y="1530"/>
                          </a:lnTo>
                          <a:lnTo>
                            <a:pt x="138" y="1605"/>
                          </a:lnTo>
                          <a:lnTo>
                            <a:pt x="45" y="1625"/>
                          </a:lnTo>
                          <a:lnTo>
                            <a:pt x="0" y="16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275480" y="754920"/>
                      <a:ext cx="160200" cy="33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1" h="1157">
                          <a:moveTo>
                            <a:pt x="173" y="939"/>
                          </a:moveTo>
                          <a:lnTo>
                            <a:pt x="271" y="1042"/>
                          </a:lnTo>
                          <a:lnTo>
                            <a:pt x="431" y="1137"/>
                          </a:lnTo>
                          <a:lnTo>
                            <a:pt x="566" y="1157"/>
                          </a:lnTo>
                          <a:lnTo>
                            <a:pt x="669" y="1137"/>
                          </a:lnTo>
                          <a:lnTo>
                            <a:pt x="791" y="1057"/>
                          </a:lnTo>
                          <a:lnTo>
                            <a:pt x="836" y="892"/>
                          </a:lnTo>
                          <a:lnTo>
                            <a:pt x="851" y="769"/>
                          </a:lnTo>
                          <a:lnTo>
                            <a:pt x="814" y="654"/>
                          </a:lnTo>
                          <a:lnTo>
                            <a:pt x="744" y="511"/>
                          </a:lnTo>
                          <a:lnTo>
                            <a:pt x="679" y="388"/>
                          </a:lnTo>
                          <a:lnTo>
                            <a:pt x="669" y="361"/>
                          </a:lnTo>
                          <a:lnTo>
                            <a:pt x="699" y="218"/>
                          </a:lnTo>
                          <a:lnTo>
                            <a:pt x="791" y="75"/>
                          </a:lnTo>
                          <a:lnTo>
                            <a:pt x="806" y="33"/>
                          </a:lnTo>
                          <a:lnTo>
                            <a:pt x="759" y="0"/>
                          </a:lnTo>
                          <a:lnTo>
                            <a:pt x="699" y="0"/>
                          </a:lnTo>
                          <a:lnTo>
                            <a:pt x="634" y="185"/>
                          </a:lnTo>
                          <a:lnTo>
                            <a:pt x="604" y="306"/>
                          </a:lnTo>
                          <a:lnTo>
                            <a:pt x="521" y="225"/>
                          </a:lnTo>
                          <a:lnTo>
                            <a:pt x="451" y="163"/>
                          </a:lnTo>
                          <a:lnTo>
                            <a:pt x="308" y="115"/>
                          </a:lnTo>
                          <a:lnTo>
                            <a:pt x="203" y="115"/>
                          </a:lnTo>
                          <a:lnTo>
                            <a:pt x="45" y="185"/>
                          </a:lnTo>
                          <a:lnTo>
                            <a:pt x="0" y="381"/>
                          </a:lnTo>
                          <a:lnTo>
                            <a:pt x="38" y="634"/>
                          </a:lnTo>
                          <a:lnTo>
                            <a:pt x="105" y="872"/>
                          </a:lnTo>
                          <a:lnTo>
                            <a:pt x="173" y="9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1298520" y="228600"/>
                    <a:ext cx="263880" cy="344520"/>
                  </a:xfrm>
                  <a:prstGeom prst="foldedCorner">
                    <a:avLst>
                      <a:gd name="adj" fmla="val 47916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973800" y="291600"/>
                    <a:ext cx="263880" cy="344520"/>
                  </a:xfrm>
                  <a:prstGeom prst="foldedCorner">
                    <a:avLst>
                      <a:gd name="adj" fmla="val 47916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90640" y="713880"/>
                    <a:ext cx="263880" cy="344520"/>
                  </a:xfrm>
                  <a:prstGeom prst="foldedCorner">
                    <a:avLst>
                      <a:gd name="adj" fmla="val 47916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" name=""/>
              <p:cNvGrpSpPr/>
              <p:nvPr/>
            </p:nvGrpSpPr>
            <p:grpSpPr>
              <a:xfrm>
                <a:off x="-3240" y="3316320"/>
                <a:ext cx="2087640" cy="1612800"/>
                <a:chOff x="-3240" y="3316320"/>
                <a:chExt cx="2087640" cy="16128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820880" y="3754440"/>
                  <a:ext cx="263520" cy="515880"/>
                </a:xfrm>
                <a:prstGeom prst="foldedCorner">
                  <a:avLst>
                    <a:gd name="adj" fmla="val 4791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763560" y="3316320"/>
                  <a:ext cx="661680" cy="1466280"/>
                  <a:chOff x="763560" y="3316320"/>
                  <a:chExt cx="661680" cy="14662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763560" y="3316320"/>
                    <a:ext cx="352440" cy="273600"/>
                    <a:chOff x="763560" y="3316320"/>
                    <a:chExt cx="352440" cy="27360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90280" y="3422520"/>
                      <a:ext cx="118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569">
                          <a:moveTo>
                            <a:pt x="103" y="515"/>
                          </a:moveTo>
                          <a:lnTo>
                            <a:pt x="108" y="423"/>
                          </a:lnTo>
                          <a:lnTo>
                            <a:pt x="86" y="352"/>
                          </a:lnTo>
                          <a:lnTo>
                            <a:pt x="47" y="292"/>
                          </a:lnTo>
                          <a:lnTo>
                            <a:pt x="0" y="200"/>
                          </a:lnTo>
                          <a:lnTo>
                            <a:pt x="4" y="140"/>
                          </a:lnTo>
                          <a:lnTo>
                            <a:pt x="37" y="65"/>
                          </a:lnTo>
                          <a:lnTo>
                            <a:pt x="97" y="15"/>
                          </a:lnTo>
                          <a:lnTo>
                            <a:pt x="151" y="0"/>
                          </a:lnTo>
                          <a:lnTo>
                            <a:pt x="206" y="11"/>
                          </a:lnTo>
                          <a:lnTo>
                            <a:pt x="243" y="33"/>
                          </a:lnTo>
                          <a:lnTo>
                            <a:pt x="292" y="76"/>
                          </a:lnTo>
                          <a:lnTo>
                            <a:pt x="320" y="140"/>
                          </a:lnTo>
                          <a:lnTo>
                            <a:pt x="310" y="206"/>
                          </a:lnTo>
                          <a:lnTo>
                            <a:pt x="271" y="264"/>
                          </a:lnTo>
                          <a:lnTo>
                            <a:pt x="217" y="357"/>
                          </a:lnTo>
                          <a:lnTo>
                            <a:pt x="206" y="423"/>
                          </a:lnTo>
                          <a:lnTo>
                            <a:pt x="211" y="477"/>
                          </a:lnTo>
                          <a:lnTo>
                            <a:pt x="185" y="530"/>
                          </a:lnTo>
                          <a:lnTo>
                            <a:pt x="157" y="569"/>
                          </a:lnTo>
                          <a:lnTo>
                            <a:pt x="103" y="51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08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63560" y="3414240"/>
                      <a:ext cx="8712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110">
                          <a:moveTo>
                            <a:pt x="235" y="110"/>
                          </a:moveTo>
                          <a:lnTo>
                            <a:pt x="39" y="76"/>
                          </a:lnTo>
                          <a:lnTo>
                            <a:pt x="0" y="37"/>
                          </a:lnTo>
                          <a:lnTo>
                            <a:pt x="15" y="5"/>
                          </a:lnTo>
                          <a:lnTo>
                            <a:pt x="61" y="0"/>
                          </a:lnTo>
                          <a:lnTo>
                            <a:pt x="235" y="11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850680" y="3329280"/>
                      <a:ext cx="374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80">
                          <a:moveTo>
                            <a:pt x="103" y="180"/>
                          </a:moveTo>
                          <a:lnTo>
                            <a:pt x="0" y="67"/>
                          </a:lnTo>
                          <a:lnTo>
                            <a:pt x="10" y="17"/>
                          </a:lnTo>
                          <a:lnTo>
                            <a:pt x="60" y="0"/>
                          </a:lnTo>
                          <a:lnTo>
                            <a:pt x="88" y="34"/>
                          </a:lnTo>
                          <a:lnTo>
                            <a:pt x="103" y="1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972000" y="3316320"/>
                      <a:ext cx="331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217">
                          <a:moveTo>
                            <a:pt x="13" y="217"/>
                          </a:moveTo>
                          <a:lnTo>
                            <a:pt x="0" y="56"/>
                          </a:lnTo>
                          <a:lnTo>
                            <a:pt x="48" y="0"/>
                          </a:lnTo>
                          <a:lnTo>
                            <a:pt x="89" y="23"/>
                          </a:lnTo>
                          <a:lnTo>
                            <a:pt x="82" y="66"/>
                          </a:lnTo>
                          <a:lnTo>
                            <a:pt x="13" y="217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038240" y="3365280"/>
                      <a:ext cx="77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35">
                          <a:moveTo>
                            <a:pt x="0" y="135"/>
                          </a:moveTo>
                          <a:lnTo>
                            <a:pt x="157" y="0"/>
                          </a:lnTo>
                          <a:lnTo>
                            <a:pt x="210" y="26"/>
                          </a:lnTo>
                          <a:lnTo>
                            <a:pt x="206" y="71"/>
                          </a:lnTo>
                          <a:lnTo>
                            <a:pt x="178" y="92"/>
                          </a:lnTo>
                          <a:lnTo>
                            <a:pt x="0" y="13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895680" y="3316320"/>
                    <a:ext cx="529560" cy="1466280"/>
                    <a:chOff x="895680" y="3316320"/>
                    <a:chExt cx="529560" cy="146628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991080" y="3558240"/>
                      <a:ext cx="26604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9" h="869">
                          <a:moveTo>
                            <a:pt x="573" y="251"/>
                          </a:moveTo>
                          <a:lnTo>
                            <a:pt x="466" y="88"/>
                          </a:lnTo>
                          <a:lnTo>
                            <a:pt x="356" y="0"/>
                          </a:lnTo>
                          <a:lnTo>
                            <a:pt x="228" y="0"/>
                          </a:lnTo>
                          <a:lnTo>
                            <a:pt x="86" y="56"/>
                          </a:lnTo>
                          <a:lnTo>
                            <a:pt x="21" y="152"/>
                          </a:lnTo>
                          <a:lnTo>
                            <a:pt x="0" y="283"/>
                          </a:lnTo>
                          <a:lnTo>
                            <a:pt x="21" y="457"/>
                          </a:lnTo>
                          <a:lnTo>
                            <a:pt x="107" y="652"/>
                          </a:lnTo>
                          <a:lnTo>
                            <a:pt x="260" y="783"/>
                          </a:lnTo>
                          <a:lnTo>
                            <a:pt x="378" y="848"/>
                          </a:lnTo>
                          <a:lnTo>
                            <a:pt x="498" y="869"/>
                          </a:lnTo>
                          <a:lnTo>
                            <a:pt x="595" y="837"/>
                          </a:lnTo>
                          <a:lnTo>
                            <a:pt x="649" y="783"/>
                          </a:lnTo>
                          <a:lnTo>
                            <a:pt x="683" y="652"/>
                          </a:lnTo>
                          <a:lnTo>
                            <a:pt x="672" y="500"/>
                          </a:lnTo>
                          <a:lnTo>
                            <a:pt x="638" y="371"/>
                          </a:lnTo>
                          <a:lnTo>
                            <a:pt x="855" y="251"/>
                          </a:lnTo>
                          <a:lnTo>
                            <a:pt x="879" y="198"/>
                          </a:lnTo>
                          <a:lnTo>
                            <a:pt x="855" y="174"/>
                          </a:lnTo>
                          <a:lnTo>
                            <a:pt x="616" y="316"/>
                          </a:lnTo>
                          <a:lnTo>
                            <a:pt x="573" y="25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81880" y="3316320"/>
                      <a:ext cx="23688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1942">
                          <a:moveTo>
                            <a:pt x="217" y="1639"/>
                          </a:moveTo>
                          <a:lnTo>
                            <a:pt x="76" y="1747"/>
                          </a:lnTo>
                          <a:lnTo>
                            <a:pt x="33" y="1781"/>
                          </a:lnTo>
                          <a:lnTo>
                            <a:pt x="0" y="1856"/>
                          </a:lnTo>
                          <a:lnTo>
                            <a:pt x="43" y="1931"/>
                          </a:lnTo>
                          <a:lnTo>
                            <a:pt x="86" y="1942"/>
                          </a:lnTo>
                          <a:lnTo>
                            <a:pt x="217" y="1899"/>
                          </a:lnTo>
                          <a:lnTo>
                            <a:pt x="413" y="1747"/>
                          </a:lnTo>
                          <a:lnTo>
                            <a:pt x="587" y="1564"/>
                          </a:lnTo>
                          <a:lnTo>
                            <a:pt x="772" y="1356"/>
                          </a:lnTo>
                          <a:lnTo>
                            <a:pt x="782" y="1270"/>
                          </a:lnTo>
                          <a:lnTo>
                            <a:pt x="782" y="1032"/>
                          </a:lnTo>
                          <a:lnTo>
                            <a:pt x="729" y="663"/>
                          </a:lnTo>
                          <a:lnTo>
                            <a:pt x="761" y="447"/>
                          </a:lnTo>
                          <a:lnTo>
                            <a:pt x="782" y="359"/>
                          </a:lnTo>
                          <a:lnTo>
                            <a:pt x="750" y="316"/>
                          </a:lnTo>
                          <a:lnTo>
                            <a:pt x="673" y="273"/>
                          </a:lnTo>
                          <a:lnTo>
                            <a:pt x="619" y="241"/>
                          </a:lnTo>
                          <a:lnTo>
                            <a:pt x="651" y="45"/>
                          </a:lnTo>
                          <a:lnTo>
                            <a:pt x="630" y="0"/>
                          </a:lnTo>
                          <a:lnTo>
                            <a:pt x="587" y="13"/>
                          </a:lnTo>
                          <a:lnTo>
                            <a:pt x="565" y="262"/>
                          </a:lnTo>
                          <a:lnTo>
                            <a:pt x="544" y="326"/>
                          </a:lnTo>
                          <a:lnTo>
                            <a:pt x="533" y="369"/>
                          </a:lnTo>
                          <a:lnTo>
                            <a:pt x="445" y="337"/>
                          </a:lnTo>
                          <a:lnTo>
                            <a:pt x="381" y="337"/>
                          </a:lnTo>
                          <a:lnTo>
                            <a:pt x="381" y="380"/>
                          </a:lnTo>
                          <a:lnTo>
                            <a:pt x="424" y="414"/>
                          </a:lnTo>
                          <a:lnTo>
                            <a:pt x="501" y="414"/>
                          </a:lnTo>
                          <a:lnTo>
                            <a:pt x="555" y="457"/>
                          </a:lnTo>
                          <a:lnTo>
                            <a:pt x="598" y="532"/>
                          </a:lnTo>
                          <a:lnTo>
                            <a:pt x="641" y="652"/>
                          </a:lnTo>
                          <a:lnTo>
                            <a:pt x="673" y="891"/>
                          </a:lnTo>
                          <a:lnTo>
                            <a:pt x="673" y="1107"/>
                          </a:lnTo>
                          <a:lnTo>
                            <a:pt x="651" y="1281"/>
                          </a:lnTo>
                          <a:lnTo>
                            <a:pt x="608" y="1356"/>
                          </a:lnTo>
                          <a:lnTo>
                            <a:pt x="456" y="1466"/>
                          </a:lnTo>
                          <a:lnTo>
                            <a:pt x="293" y="1564"/>
                          </a:lnTo>
                          <a:lnTo>
                            <a:pt x="217" y="16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95680" y="3842640"/>
                      <a:ext cx="213840" cy="34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1171">
                          <a:moveTo>
                            <a:pt x="707" y="32"/>
                          </a:moveTo>
                          <a:lnTo>
                            <a:pt x="630" y="0"/>
                          </a:lnTo>
                          <a:lnTo>
                            <a:pt x="466" y="10"/>
                          </a:lnTo>
                          <a:lnTo>
                            <a:pt x="324" y="120"/>
                          </a:lnTo>
                          <a:lnTo>
                            <a:pt x="118" y="347"/>
                          </a:lnTo>
                          <a:lnTo>
                            <a:pt x="11" y="532"/>
                          </a:lnTo>
                          <a:lnTo>
                            <a:pt x="0" y="596"/>
                          </a:lnTo>
                          <a:lnTo>
                            <a:pt x="54" y="716"/>
                          </a:lnTo>
                          <a:lnTo>
                            <a:pt x="172" y="770"/>
                          </a:lnTo>
                          <a:lnTo>
                            <a:pt x="324" y="834"/>
                          </a:lnTo>
                          <a:lnTo>
                            <a:pt x="445" y="867"/>
                          </a:lnTo>
                          <a:lnTo>
                            <a:pt x="498" y="922"/>
                          </a:lnTo>
                          <a:lnTo>
                            <a:pt x="466" y="997"/>
                          </a:lnTo>
                          <a:lnTo>
                            <a:pt x="380" y="1085"/>
                          </a:lnTo>
                          <a:lnTo>
                            <a:pt x="271" y="1096"/>
                          </a:lnTo>
                          <a:lnTo>
                            <a:pt x="196" y="1062"/>
                          </a:lnTo>
                          <a:lnTo>
                            <a:pt x="150" y="1096"/>
                          </a:lnTo>
                          <a:lnTo>
                            <a:pt x="161" y="1139"/>
                          </a:lnTo>
                          <a:lnTo>
                            <a:pt x="249" y="1171"/>
                          </a:lnTo>
                          <a:lnTo>
                            <a:pt x="380" y="1171"/>
                          </a:lnTo>
                          <a:lnTo>
                            <a:pt x="498" y="1139"/>
                          </a:lnTo>
                          <a:lnTo>
                            <a:pt x="565" y="1096"/>
                          </a:lnTo>
                          <a:lnTo>
                            <a:pt x="608" y="1019"/>
                          </a:lnTo>
                          <a:lnTo>
                            <a:pt x="630" y="933"/>
                          </a:lnTo>
                          <a:lnTo>
                            <a:pt x="576" y="856"/>
                          </a:lnTo>
                          <a:lnTo>
                            <a:pt x="445" y="802"/>
                          </a:lnTo>
                          <a:lnTo>
                            <a:pt x="292" y="759"/>
                          </a:lnTo>
                          <a:lnTo>
                            <a:pt x="161" y="684"/>
                          </a:lnTo>
                          <a:lnTo>
                            <a:pt x="129" y="618"/>
                          </a:lnTo>
                          <a:lnTo>
                            <a:pt x="150" y="500"/>
                          </a:lnTo>
                          <a:lnTo>
                            <a:pt x="249" y="347"/>
                          </a:lnTo>
                          <a:lnTo>
                            <a:pt x="370" y="259"/>
                          </a:lnTo>
                          <a:lnTo>
                            <a:pt x="554" y="195"/>
                          </a:lnTo>
                          <a:lnTo>
                            <a:pt x="707" y="163"/>
                          </a:lnTo>
                          <a:lnTo>
                            <a:pt x="707" y="75"/>
                          </a:lnTo>
                          <a:lnTo>
                            <a:pt x="70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1069920" y="3826800"/>
                      <a:ext cx="200520" cy="42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2" h="1442">
                          <a:moveTo>
                            <a:pt x="576" y="455"/>
                          </a:moveTo>
                          <a:lnTo>
                            <a:pt x="509" y="185"/>
                          </a:lnTo>
                          <a:lnTo>
                            <a:pt x="434" y="54"/>
                          </a:lnTo>
                          <a:lnTo>
                            <a:pt x="270" y="0"/>
                          </a:lnTo>
                          <a:lnTo>
                            <a:pt x="107" y="22"/>
                          </a:lnTo>
                          <a:lnTo>
                            <a:pt x="32" y="163"/>
                          </a:lnTo>
                          <a:lnTo>
                            <a:pt x="43" y="337"/>
                          </a:lnTo>
                          <a:lnTo>
                            <a:pt x="86" y="618"/>
                          </a:lnTo>
                          <a:lnTo>
                            <a:pt x="86" y="867"/>
                          </a:lnTo>
                          <a:lnTo>
                            <a:pt x="32" y="1084"/>
                          </a:lnTo>
                          <a:lnTo>
                            <a:pt x="0" y="1204"/>
                          </a:lnTo>
                          <a:lnTo>
                            <a:pt x="21" y="1311"/>
                          </a:lnTo>
                          <a:lnTo>
                            <a:pt x="96" y="1367"/>
                          </a:lnTo>
                          <a:lnTo>
                            <a:pt x="195" y="1420"/>
                          </a:lnTo>
                          <a:lnTo>
                            <a:pt x="292" y="1442"/>
                          </a:lnTo>
                          <a:lnTo>
                            <a:pt x="412" y="1442"/>
                          </a:lnTo>
                          <a:lnTo>
                            <a:pt x="554" y="1332"/>
                          </a:lnTo>
                          <a:lnTo>
                            <a:pt x="662" y="1105"/>
                          </a:lnTo>
                          <a:lnTo>
                            <a:pt x="651" y="899"/>
                          </a:lnTo>
                          <a:lnTo>
                            <a:pt x="586" y="661"/>
                          </a:lnTo>
                          <a:lnTo>
                            <a:pt x="576" y="45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1010160" y="4170960"/>
                      <a:ext cx="152280" cy="61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3" h="2083">
                          <a:moveTo>
                            <a:pt x="479" y="32"/>
                          </a:moveTo>
                          <a:lnTo>
                            <a:pt x="350" y="0"/>
                          </a:lnTo>
                          <a:lnTo>
                            <a:pt x="273" y="32"/>
                          </a:lnTo>
                          <a:lnTo>
                            <a:pt x="241" y="139"/>
                          </a:lnTo>
                          <a:lnTo>
                            <a:pt x="273" y="735"/>
                          </a:lnTo>
                          <a:lnTo>
                            <a:pt x="273" y="877"/>
                          </a:lnTo>
                          <a:lnTo>
                            <a:pt x="230" y="1139"/>
                          </a:lnTo>
                          <a:lnTo>
                            <a:pt x="219" y="1441"/>
                          </a:lnTo>
                          <a:lnTo>
                            <a:pt x="241" y="1594"/>
                          </a:lnTo>
                          <a:lnTo>
                            <a:pt x="219" y="1679"/>
                          </a:lnTo>
                          <a:lnTo>
                            <a:pt x="67" y="1810"/>
                          </a:lnTo>
                          <a:lnTo>
                            <a:pt x="0" y="1973"/>
                          </a:lnTo>
                          <a:lnTo>
                            <a:pt x="13" y="2027"/>
                          </a:lnTo>
                          <a:lnTo>
                            <a:pt x="131" y="2083"/>
                          </a:lnTo>
                          <a:lnTo>
                            <a:pt x="163" y="2059"/>
                          </a:lnTo>
                          <a:lnTo>
                            <a:pt x="176" y="1963"/>
                          </a:lnTo>
                          <a:lnTo>
                            <a:pt x="209" y="1821"/>
                          </a:lnTo>
                          <a:lnTo>
                            <a:pt x="262" y="1757"/>
                          </a:lnTo>
                          <a:lnTo>
                            <a:pt x="327" y="1714"/>
                          </a:lnTo>
                          <a:lnTo>
                            <a:pt x="383" y="1658"/>
                          </a:lnTo>
                          <a:lnTo>
                            <a:pt x="393" y="1615"/>
                          </a:lnTo>
                          <a:lnTo>
                            <a:pt x="361" y="1561"/>
                          </a:lnTo>
                          <a:lnTo>
                            <a:pt x="327" y="1529"/>
                          </a:lnTo>
                          <a:lnTo>
                            <a:pt x="305" y="1398"/>
                          </a:lnTo>
                          <a:lnTo>
                            <a:pt x="327" y="1126"/>
                          </a:lnTo>
                          <a:lnTo>
                            <a:pt x="404" y="813"/>
                          </a:lnTo>
                          <a:lnTo>
                            <a:pt x="479" y="562"/>
                          </a:lnTo>
                          <a:lnTo>
                            <a:pt x="503" y="259"/>
                          </a:lnTo>
                          <a:lnTo>
                            <a:pt x="479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175400" y="4170960"/>
                      <a:ext cx="249840" cy="51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5" h="1757">
                          <a:moveTo>
                            <a:pt x="271" y="259"/>
                          </a:moveTo>
                          <a:lnTo>
                            <a:pt x="249" y="85"/>
                          </a:lnTo>
                          <a:lnTo>
                            <a:pt x="152" y="0"/>
                          </a:lnTo>
                          <a:lnTo>
                            <a:pt x="11" y="10"/>
                          </a:lnTo>
                          <a:lnTo>
                            <a:pt x="0" y="85"/>
                          </a:lnTo>
                          <a:lnTo>
                            <a:pt x="11" y="248"/>
                          </a:lnTo>
                          <a:lnTo>
                            <a:pt x="86" y="497"/>
                          </a:lnTo>
                          <a:lnTo>
                            <a:pt x="142" y="682"/>
                          </a:lnTo>
                          <a:lnTo>
                            <a:pt x="206" y="931"/>
                          </a:lnTo>
                          <a:lnTo>
                            <a:pt x="228" y="1147"/>
                          </a:lnTo>
                          <a:lnTo>
                            <a:pt x="228" y="1321"/>
                          </a:lnTo>
                          <a:lnTo>
                            <a:pt x="195" y="1452"/>
                          </a:lnTo>
                          <a:lnTo>
                            <a:pt x="163" y="1495"/>
                          </a:lnTo>
                          <a:lnTo>
                            <a:pt x="163" y="1538"/>
                          </a:lnTo>
                          <a:lnTo>
                            <a:pt x="206" y="1604"/>
                          </a:lnTo>
                          <a:lnTo>
                            <a:pt x="281" y="1626"/>
                          </a:lnTo>
                          <a:lnTo>
                            <a:pt x="402" y="1626"/>
                          </a:lnTo>
                          <a:lnTo>
                            <a:pt x="619" y="1679"/>
                          </a:lnTo>
                          <a:lnTo>
                            <a:pt x="683" y="1757"/>
                          </a:lnTo>
                          <a:lnTo>
                            <a:pt x="782" y="1712"/>
                          </a:lnTo>
                          <a:lnTo>
                            <a:pt x="825" y="1604"/>
                          </a:lnTo>
                          <a:lnTo>
                            <a:pt x="782" y="1561"/>
                          </a:lnTo>
                          <a:lnTo>
                            <a:pt x="597" y="1538"/>
                          </a:lnTo>
                          <a:lnTo>
                            <a:pt x="391" y="1538"/>
                          </a:lnTo>
                          <a:lnTo>
                            <a:pt x="303" y="1527"/>
                          </a:lnTo>
                          <a:lnTo>
                            <a:pt x="281" y="1463"/>
                          </a:lnTo>
                          <a:lnTo>
                            <a:pt x="303" y="1343"/>
                          </a:lnTo>
                          <a:lnTo>
                            <a:pt x="316" y="1137"/>
                          </a:lnTo>
                          <a:lnTo>
                            <a:pt x="292" y="909"/>
                          </a:lnTo>
                          <a:lnTo>
                            <a:pt x="260" y="607"/>
                          </a:lnTo>
                          <a:lnTo>
                            <a:pt x="271" y="345"/>
                          </a:lnTo>
                          <a:lnTo>
                            <a:pt x="271" y="25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5" name=""/>
                <p:cNvSpPr/>
                <p:nvPr/>
              </p:nvSpPr>
              <p:spPr>
                <a:xfrm>
                  <a:off x="-3240" y="4128840"/>
                  <a:ext cx="1247760" cy="80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ntology 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89240" y="3924360"/>
                  <a:ext cx="396720" cy="239400"/>
                </a:xfrm>
                <a:custGeom>
                  <a:avLst/>
                  <a:gdLst>
                    <a:gd name="textAreaLeft" fmla="*/ 0 w 396720"/>
                    <a:gd name="textAreaRight" fmla="*/ 397080 w 3967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108160" y="3319560"/>
                <a:ext cx="4272120" cy="1673280"/>
                <a:chOff x="2108160" y="3319560"/>
                <a:chExt cx="4272120" cy="1673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386080" y="3319560"/>
                  <a:ext cx="3419280" cy="1457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49520" y="3613320"/>
                  <a:ext cx="3830760" cy="13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nowledge models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 Enterprise Mode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 User Model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280040" y="4097520"/>
                  <a:ext cx="15843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DF ontolog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108160" y="3930840"/>
                  <a:ext cx="398520" cy="239400"/>
                </a:xfrm>
                <a:custGeom>
                  <a:avLst/>
                  <a:gdLst>
                    <a:gd name="textAreaLeft" fmla="*/ 0 w 398520"/>
                    <a:gd name="textAreaRight" fmla="*/ 398880 w 3985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514600" y="2201400"/>
                <a:ext cx="1517760" cy="1383120"/>
                <a:chOff x="2514600" y="2201400"/>
                <a:chExt cx="1517760" cy="1383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514600" y="2516040"/>
                  <a:ext cx="1517760" cy="59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roup o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terests 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2960640" y="2201400"/>
                  <a:ext cx="263520" cy="519480"/>
                  <a:chOff x="2960640" y="2201400"/>
                  <a:chExt cx="263520" cy="5194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2960640" y="2461320"/>
                    <a:ext cx="263520" cy="259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2960640" y="2201040"/>
                    <a:ext cx="263520" cy="259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 flipV="1">
                  <a:off x="3560760" y="3065400"/>
                  <a:ext cx="0" cy="519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030320" y="355680"/>
                <a:ext cx="2627280" cy="3211560"/>
                <a:chOff x="1030320" y="355680"/>
                <a:chExt cx="2627280" cy="3211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205000" y="903240"/>
                  <a:ext cx="1452600" cy="10335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205000" y="355680"/>
                  <a:ext cx="1452600" cy="5158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DF annotatio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1425600" y="2155320"/>
                  <a:ext cx="263520" cy="516600"/>
                  <a:chOff x="1425600" y="2155320"/>
                  <a:chExt cx="263520" cy="5166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1425600" y="2413800"/>
                    <a:ext cx="263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V="1">
                    <a:off x="1425600" y="2154960"/>
                    <a:ext cx="263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1712880" y="917640"/>
                  <a:ext cx="395280" cy="236520"/>
                </a:xfrm>
                <a:custGeom>
                  <a:avLst/>
                  <a:gdLst>
                    <a:gd name="textAreaLeft" fmla="*/ 0 w 395280"/>
                    <a:gd name="textAreaRight" fmla="*/ 395640 w 3952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030320" y="2703600"/>
                  <a:ext cx="1179360" cy="33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uthor 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371600" y="1828800"/>
                  <a:ext cx="209520" cy="46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1604880" y="1371600"/>
                  <a:ext cx="528840" cy="86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1580760" y="3112920"/>
                  <a:ext cx="1716120" cy="45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205000" y="901800"/>
                  <a:ext cx="1452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ocu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825720" y="1498680"/>
                <a:ext cx="4092840" cy="3262320"/>
                <a:chOff x="3825720" y="1498680"/>
                <a:chExt cx="4092840" cy="3262320"/>
              </a:xfrm>
            </p:grpSpPr>
            <p:grpSp>
              <p:nvGrpSpPr>
                <p:cNvPr id="211" name=""/>
                <p:cNvGrpSpPr/>
                <p:nvPr/>
              </p:nvGrpSpPr>
              <p:grpSpPr>
                <a:xfrm>
                  <a:off x="3825720" y="2283120"/>
                  <a:ext cx="4092840" cy="2477880"/>
                  <a:chOff x="3825720" y="2283120"/>
                  <a:chExt cx="4092840" cy="2477880"/>
                </a:xfrm>
              </p:grpSpPr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5783400" y="2283120"/>
                    <a:ext cx="261720" cy="515520"/>
                    <a:chOff x="5783400" y="2283120"/>
                    <a:chExt cx="261720" cy="51552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5783400" y="2540880"/>
                      <a:ext cx="261720" cy="257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5783400" y="2283120"/>
                      <a:ext cx="261720" cy="257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5" name=""/>
                  <p:cNvSpPr/>
                  <p:nvPr/>
                </p:nvSpPr>
                <p:spPr>
                  <a:xfrm>
                    <a:off x="5506920" y="2814840"/>
                    <a:ext cx="1198800" cy="33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user ag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>
                    <a:off x="3825720" y="3128760"/>
                    <a:ext cx="2087640" cy="438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332400" y="3627720"/>
                    <a:ext cx="1135080" cy="4064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notation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332400" y="4072320"/>
                    <a:ext cx="1135080" cy="68868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324480" y="4038840"/>
                    <a:ext cx="132264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ocum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332400" y="3097440"/>
                    <a:ext cx="265320" cy="515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521480" y="3973680"/>
                    <a:ext cx="397080" cy="236520"/>
                  </a:xfrm>
                  <a:custGeom>
                    <a:avLst/>
                    <a:gdLst>
                      <a:gd name="textAreaLeft" fmla="*/ 0 w 397080"/>
                      <a:gd name="textAreaRight" fmla="*/ 397440 w 3970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62680" y="1498680"/>
                  <a:ext cx="0" cy="68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692520" y="228600"/>
                <a:ext cx="5019840" cy="2820960"/>
                <a:chOff x="3692520" y="228600"/>
                <a:chExt cx="5019840" cy="28209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013360" y="228600"/>
                  <a:ext cx="3699000" cy="1457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92400" y="757080"/>
                  <a:ext cx="924120" cy="5158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dex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92520" y="885600"/>
                  <a:ext cx="395280" cy="239760"/>
                </a:xfrm>
                <a:custGeom>
                  <a:avLst/>
                  <a:gdLst>
                    <a:gd name="textAreaLeft" fmla="*/ 0 w 395280"/>
                    <a:gd name="textAreaRight" fmla="*/ 395640 w 395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21120" y="898560"/>
                  <a:ext cx="398520" cy="239400"/>
                </a:xfrm>
                <a:custGeom>
                  <a:avLst/>
                  <a:gdLst>
                    <a:gd name="textAreaLeft" fmla="*/ 0 w 398520"/>
                    <a:gd name="textAreaRight" fmla="*/ 398880 w 3985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37120" y="322200"/>
                  <a:ext cx="184968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rporate Mem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541840" y="744480"/>
                  <a:ext cx="263520" cy="51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32400" y="1033200"/>
                  <a:ext cx="265320" cy="516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126200" y="917280"/>
                  <a:ext cx="265320" cy="517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918560" y="744480"/>
                  <a:ext cx="264960" cy="51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4352760" y="2530080"/>
                  <a:ext cx="263520" cy="519480"/>
                  <a:chOff x="4352760" y="2530080"/>
                  <a:chExt cx="263520" cy="519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4352760" y="2790000"/>
                    <a:ext cx="263520" cy="259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4352760" y="2529720"/>
                    <a:ext cx="263520" cy="259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4486320" y="1106280"/>
                  <a:ext cx="0" cy="1208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712880" y="2233440"/>
                <a:ext cx="4884840" cy="357480"/>
                <a:chOff x="1712880" y="2233440"/>
                <a:chExt cx="4884840" cy="3574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070680" y="2360520"/>
                  <a:ext cx="527040" cy="230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12880" y="2236680"/>
                  <a:ext cx="528840" cy="277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235320" y="2233440"/>
                  <a:ext cx="528480" cy="281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1" name=""/>
          <p:cNvSpPr/>
          <p:nvPr/>
        </p:nvSpPr>
        <p:spPr>
          <a:xfrm>
            <a:off x="152280" y="52578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sign and deploy such a syst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C491-536B-4487-A6A0-512B09F190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244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254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257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273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287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292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-consuming &amp; iterative 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do so fa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297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4189-B5BB-486C-A8C2-2C95124CEB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ethodology :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04920" y="1089000"/>
            <a:ext cx="2456640" cy="2323440"/>
            <a:chOff x="304920" y="1089000"/>
            <a:chExt cx="2456640" cy="2323440"/>
          </a:xfrm>
        </p:grpSpPr>
        <p:sp>
          <p:nvSpPr>
            <p:cNvPr id="311" name=""/>
            <p:cNvSpPr/>
            <p:nvPr/>
          </p:nvSpPr>
          <p:spPr>
            <a:xfrm>
              <a:off x="320760" y="1123920"/>
              <a:ext cx="24382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920" y="10890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0760" y="15811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400" y="203832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9680" y="249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1120" y="295272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1805040" y="20746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01840" y="1123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rot="10800000">
            <a:off x="2377800" y="3180960"/>
            <a:ext cx="974520" cy="762120"/>
          </a:xfrm>
          <a:custGeom>
            <a:avLst/>
            <a:gdLst>
              <a:gd name="textAreaLeft" fmla="*/ 0 w 974520"/>
              <a:gd name="textAreaRight" fmla="*/ 974880 w 974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59040" y="1123920"/>
            <a:ext cx="459720" cy="2286000"/>
            <a:chOff x="2759040" y="1123920"/>
            <a:chExt cx="459720" cy="2286000"/>
          </a:xfrm>
        </p:grpSpPr>
        <p:sp>
          <p:nvSpPr>
            <p:cNvPr id="321" name=""/>
            <p:cNvSpPr/>
            <p:nvPr/>
          </p:nvSpPr>
          <p:spPr>
            <a:xfrm>
              <a:off x="2835360" y="1123920"/>
              <a:ext cx="3808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2364120" y="205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24080" y="285840"/>
            <a:ext cx="4648680" cy="3126600"/>
            <a:chOff x="3124080" y="285840"/>
            <a:chExt cx="4648680" cy="3126600"/>
          </a:xfrm>
        </p:grpSpPr>
        <p:sp>
          <p:nvSpPr>
            <p:cNvPr id="324" name=""/>
            <p:cNvSpPr/>
            <p:nvPr/>
          </p:nvSpPr>
          <p:spPr>
            <a:xfrm>
              <a:off x="3657600" y="74268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57600" y="20383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8680" y="2495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74760" y="2495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6520" y="74268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56160" y="29527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66920" y="295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9480" y="203832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19440" y="6667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59400" y="15811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6160" y="119988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7120" y="1581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1123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57600" y="28584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952520" y="971640"/>
            <a:ext cx="1676880" cy="2209680"/>
            <a:chOff x="4952520" y="971640"/>
            <a:chExt cx="1676880" cy="2209680"/>
          </a:xfrm>
        </p:grpSpPr>
        <p:sp>
          <p:nvSpPr>
            <p:cNvPr id="340" name=""/>
            <p:cNvSpPr/>
            <p:nvPr/>
          </p:nvSpPr>
          <p:spPr>
            <a:xfrm>
              <a:off x="5715000" y="23432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5000" y="2343240"/>
              <a:ext cx="1522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334120" y="2343240"/>
              <a:ext cx="38088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952520" y="2343240"/>
              <a:ext cx="76212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028840" y="2343240"/>
              <a:ext cx="6858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5028840" y="1886040"/>
              <a:ext cx="6858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5409720" y="1505160"/>
              <a:ext cx="304920" cy="8380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5486040" y="1047960"/>
              <a:ext cx="228600" cy="129528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715000" y="971640"/>
              <a:ext cx="609480" cy="13716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715000" y="1428840"/>
              <a:ext cx="838080" cy="9144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715000" y="1886040"/>
              <a:ext cx="914400" cy="45720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15000" y="2343240"/>
              <a:ext cx="45720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86400" y="2038320"/>
              <a:ext cx="457200" cy="609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219320" y="3333600"/>
            <a:ext cx="6553080" cy="1155240"/>
            <a:chOff x="1219320" y="3333600"/>
            <a:chExt cx="6553080" cy="1155240"/>
          </a:xfrm>
        </p:grpSpPr>
        <p:sp>
          <p:nvSpPr>
            <p:cNvPr id="354" name=""/>
            <p:cNvSpPr/>
            <p:nvPr/>
          </p:nvSpPr>
          <p:spPr>
            <a:xfrm>
              <a:off x="3657600" y="40291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19320" y="4019400"/>
              <a:ext cx="1981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24080" y="4066920"/>
              <a:ext cx="609840" cy="381240"/>
            </a:xfrm>
            <a:prstGeom prst="leftRightArrow">
              <a:avLst>
                <a:gd name="adj1" fmla="val 56667"/>
                <a:gd name="adj2" fmla="val 395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5333760" y="3524040"/>
              <a:ext cx="762120" cy="380880"/>
            </a:xfrm>
            <a:prstGeom prst="leftRightArrow">
              <a:avLst>
                <a:gd name="adj1" fmla="val 56667"/>
                <a:gd name="adj2" fmla="val 495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696080" y="742680"/>
            <a:ext cx="993240" cy="3733560"/>
            <a:chOff x="7696080" y="742680"/>
            <a:chExt cx="993240" cy="3733560"/>
          </a:xfrm>
        </p:grpSpPr>
        <p:sp>
          <p:nvSpPr>
            <p:cNvPr id="359" name=""/>
            <p:cNvSpPr/>
            <p:nvPr/>
          </p:nvSpPr>
          <p:spPr>
            <a:xfrm rot="16200000">
              <a:off x="6592680" y="2379600"/>
              <a:ext cx="37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96080" y="2114280"/>
              <a:ext cx="609840" cy="380880"/>
            </a:xfrm>
            <a:prstGeom prst="leftRightArrow">
              <a:avLst>
                <a:gd name="adj1" fmla="val 56667"/>
                <a:gd name="adj2" fmla="val 39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96080" y="4095720"/>
              <a:ext cx="609840" cy="380520"/>
            </a:xfrm>
            <a:prstGeom prst="leftRightArrow">
              <a:avLst>
                <a:gd name="adj1" fmla="val 56667"/>
                <a:gd name="adj2" fmla="val 3965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52280" y="4572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33920" y="2133720"/>
            <a:ext cx="121896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47242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point in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 cat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590920"/>
            <a:ext cx="18288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80880" y="771480"/>
            <a:ext cx="7315200" cy="3724200"/>
            <a:chOff x="380880" y="771480"/>
            <a:chExt cx="7315200" cy="3724200"/>
          </a:xfrm>
        </p:grpSpPr>
        <p:sp>
          <p:nvSpPr>
            <p:cNvPr id="367" name=""/>
            <p:cNvSpPr/>
            <p:nvPr/>
          </p:nvSpPr>
          <p:spPr>
            <a:xfrm>
              <a:off x="380880" y="214308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3280" y="77148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4200" y="1238400"/>
              <a:ext cx="1676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771480"/>
              <a:ext cx="12952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72160" y="1228680"/>
              <a:ext cx="11239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43600" y="2981160"/>
              <a:ext cx="175248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6920" y="4114800"/>
              <a:ext cx="17524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95280" y="4057560"/>
              <a:ext cx="17528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880" y="2590920"/>
              <a:ext cx="182880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05720" y="16765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72200" y="2133720"/>
              <a:ext cx="15238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05720" y="2590920"/>
              <a:ext cx="9903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D70A-30C8-4D8A-AD0B-241C8C749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: What f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cenari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mploye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monitor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Users’ n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cus on specific aspects of Knowledge Management (K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ew CoMMA as a component of a KM solution for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rete set of interaction sequences with the corporate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to check up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s : Car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DDCC-F625-42AB-9CAF-BBDA8D8BE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6172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: Summar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ome guidelines (influences ex: KA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666720"/>
          <a:ext cx="7772400" cy="522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666720"/>
                    <a:ext cx="77724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143000" y="1219320"/>
            <a:ext cx="12193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1066680"/>
            <a:ext cx="114300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D550-0307-466A-A867-696C22D33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7:34:09Z</dcterms:created>
  <dc:creator>fgandon</dc:creator>
  <dc:description/>
  <dc:language>en-US</dc:language>
  <cp:lastModifiedBy>fgandon</cp:lastModifiedBy>
  <cp:lastPrinted>2000-09-28T06:57:43Z</cp:lastPrinted>
  <dcterms:modified xsi:type="dcterms:W3CDTF">2000-10-02T13:12:36Z</dcterms:modified>
  <cp:revision>38</cp:revision>
  <dc:subject/>
  <dc:title>CoMMA :Corporate Memory Management through Agents</dc:title>
</cp:coreProperties>
</file>