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39AF-3B8E-4F7D-91D9-D488B3C4E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ther gener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KM (in wider sense) is also needed for Manage- Facilitate and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(besides for the classical K Intensive processes) this way the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 (CKO) also comes into 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ee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KIB as a kind of Knowledgeable Ag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, like “normal’ agents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Knowledge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ternalized via “interpretation” 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d after externalisation by “activ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both ontological terms (classes) and contextualized K fragments (in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activities (e.q monitor Org. processes and rescource amani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perate with others (especially “users” ) 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access  (search and retrieve)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knowledge” residing in its mental space allows for reformulating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tly searching and providing the appropiate (I.e. process- and product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ned)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Let  KIB support feedback from  Users (I.e. KI workers to OM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&gt; KIB can learn a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llow monitoring of resource manipulatio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ing of (standard)tool behaviour  and standard tool-user inte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&gt; KIB can learn more and better be (pro) active in Info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repeating the new aspects, introduced with the orignal know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from ecic 99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ology used in prototy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workflow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functionalit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connected to a (COTS) workflow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eparate window interact with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ba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is dedicated, hold within OM (cannot be exchanged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generic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 to collaboration (Lotus No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rs around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 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implentation over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from conceptual model to KAg implementation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 (already systems 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 (or,if desired to “resource guarding/access agent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 involved in Org processes 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agents in interaction with (work) dumb Activity Support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s (like editors, plann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B + KIB knowledge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B-K Agent  + KIB-K-Agent Knowledge (the virtue of the K-Ag method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role and position of the classical info retrieve and collabo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ools (like editors, workflow tools, emailers etc) must be clearly point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ecause these provide the hooks for connecting (cooperating with) the OM K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9360" y="4619520"/>
            <a:ext cx="3914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and tool systems =&gt; Knowledgeable or dumb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58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620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620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152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89160" y="243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152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89160" y="458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620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620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620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6200" y="458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43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58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762120"/>
            <a:ext cx="866916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162920" y="0"/>
            <a:ext cx="1833480" cy="16606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56480" y="6629400"/>
            <a:ext cx="215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Joost Breuker, University of Amsterd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808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Manageable and meaningful information broking:</a:t>
            </a:r>
            <a:br>
              <a:rPr sz="4000"/>
            </a:b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the KDE projec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ost Breu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ter Janswei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a van der St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 van Lies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Amster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ormation serving driven b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es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ask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bussiness processes,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o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gents, (sub)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omai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s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(user pro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tructures in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map-smaller" descr=""/>
          <p:cNvPicPr/>
          <p:nvPr/>
        </p:nvPicPr>
        <p:blipFill>
          <a:blip r:embed="rId1"/>
          <a:stretch/>
        </p:blipFill>
        <p:spPr>
          <a:xfrm>
            <a:off x="1600200" y="915840"/>
            <a:ext cx="7108920" cy="5942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58280" y="-3636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NOW-MOR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More OM conceptual model, abstra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87560" y="2971800"/>
            <a:ext cx="1836720" cy="1295280"/>
          </a:xfrm>
          <a:prstGeom prst="sun">
            <a:avLst>
              <a:gd name="adj" fmla="val 1250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li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3657600"/>
            <a:ext cx="500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465440" y="2514600"/>
            <a:ext cx="3291120" cy="1176840"/>
            <a:chOff x="4465440" y="2514600"/>
            <a:chExt cx="3291120" cy="1176840"/>
          </a:xfrm>
        </p:grpSpPr>
        <p:sp>
          <p:nvSpPr>
            <p:cNvPr id="75" name=""/>
            <p:cNvSpPr/>
            <p:nvPr/>
          </p:nvSpPr>
          <p:spPr>
            <a:xfrm>
              <a:off x="6602400" y="2514600"/>
              <a:ext cx="1154160" cy="533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nterpri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3"/>
              <a:endCxn id="73" idx="7"/>
            </p:cNvCxnSpPr>
            <p:nvPr/>
          </p:nvCxnSpPr>
          <p:spPr>
            <a:xfrm flipH="1">
              <a:off x="4465440" y="2970360"/>
              <a:ext cx="230544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5943240" y="3048120"/>
              <a:ext cx="511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ex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538160" y="3276720"/>
            <a:ext cx="3300840" cy="495000"/>
            <a:chOff x="4538160" y="3276720"/>
            <a:chExt cx="3300840" cy="495000"/>
          </a:xfrm>
        </p:grpSpPr>
        <p:sp>
          <p:nvSpPr>
            <p:cNvPr id="79" name=""/>
            <p:cNvSpPr/>
            <p:nvPr/>
          </p:nvSpPr>
          <p:spPr>
            <a:xfrm>
              <a:off x="6684840" y="3276720"/>
              <a:ext cx="1154160" cy="457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2"/>
              <a:endCxn id="73" idx="6"/>
            </p:cNvCxnSpPr>
            <p:nvPr/>
          </p:nvCxnSpPr>
          <p:spPr>
            <a:xfrm flipH="1">
              <a:off x="4538160" y="3504960"/>
              <a:ext cx="214704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6192000" y="3519360"/>
              <a:ext cx="515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65440" y="3852000"/>
            <a:ext cx="3373560" cy="643680"/>
            <a:chOff x="4465440" y="3852000"/>
            <a:chExt cx="3373560" cy="643680"/>
          </a:xfrm>
        </p:grpSpPr>
        <p:sp>
          <p:nvSpPr>
            <p:cNvPr id="83" name=""/>
            <p:cNvSpPr/>
            <p:nvPr/>
          </p:nvSpPr>
          <p:spPr>
            <a:xfrm>
              <a:off x="6684840" y="4038480"/>
              <a:ext cx="1154160" cy="457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2"/>
              <a:endCxn id="73" idx="5"/>
            </p:cNvCxnSpPr>
            <p:nvPr/>
          </p:nvCxnSpPr>
          <p:spPr>
            <a:xfrm flipH="1" flipV="1">
              <a:off x="4465440" y="3852000"/>
              <a:ext cx="221976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5859360" y="388620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amp; acc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23280" y="990720"/>
            <a:ext cx="4628160" cy="1523880"/>
            <a:chOff x="323280" y="990720"/>
            <a:chExt cx="4628160" cy="1523880"/>
          </a:xfrm>
        </p:grpSpPr>
        <p:sp>
          <p:nvSpPr>
            <p:cNvPr id="87" name=""/>
            <p:cNvSpPr/>
            <p:nvPr/>
          </p:nvSpPr>
          <p:spPr>
            <a:xfrm>
              <a:off x="1403280" y="990720"/>
              <a:ext cx="3548160" cy="1523880"/>
            </a:xfrm>
            <a:custGeom>
              <a:avLst/>
              <a:gdLst>
                <a:gd name="textAreaLeft" fmla="*/ 0 w 3548160"/>
                <a:gd name="textAreaRight" fmla="*/ 3548520 w 354816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300480" y="1523880"/>
              <a:ext cx="1320480" cy="228600"/>
              <a:chOff x="3300480" y="1523880"/>
              <a:chExt cx="1320480" cy="228600"/>
            </a:xfrm>
          </p:grpSpPr>
          <p:sp>
            <p:nvSpPr>
              <p:cNvPr id="89" name=""/>
              <p:cNvSpPr/>
              <p:nvPr/>
            </p:nvSpPr>
            <p:spPr>
              <a:xfrm>
                <a:off x="3300480" y="1523880"/>
                <a:ext cx="495000" cy="228600"/>
              </a:xfrm>
              <a:custGeom>
                <a:avLst/>
                <a:gdLst>
                  <a:gd name="textAreaLeft" fmla="*/ 0 w 495000"/>
                  <a:gd name="textAreaRight" fmla="*/ 495360 w 4950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13400" y="1523880"/>
                <a:ext cx="495000" cy="228600"/>
              </a:xfrm>
              <a:custGeom>
                <a:avLst/>
                <a:gdLst>
                  <a:gd name="textAreaLeft" fmla="*/ 0 w 495000"/>
                  <a:gd name="textAreaRight" fmla="*/ 495360 w 4950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125960" y="1523880"/>
                <a:ext cx="495000" cy="228600"/>
              </a:xfrm>
              <a:custGeom>
                <a:avLst/>
                <a:gdLst>
                  <a:gd name="textAreaLeft" fmla="*/ 0 w 495000"/>
                  <a:gd name="textAreaRight" fmla="*/ 495360 w 4950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323280" y="1447920"/>
              <a:ext cx="1642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anization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34360" y="4572000"/>
            <a:ext cx="5294520" cy="1404000"/>
            <a:chOff x="234360" y="4572000"/>
            <a:chExt cx="5294520" cy="1404000"/>
          </a:xfrm>
        </p:grpSpPr>
        <p:grpSp>
          <p:nvGrpSpPr>
            <p:cNvPr id="94" name=""/>
            <p:cNvGrpSpPr/>
            <p:nvPr/>
          </p:nvGrpSpPr>
          <p:grpSpPr>
            <a:xfrm>
              <a:off x="1650960" y="4572000"/>
              <a:ext cx="3877920" cy="1404000"/>
              <a:chOff x="1650960" y="4572000"/>
              <a:chExt cx="3877920" cy="1404000"/>
            </a:xfrm>
          </p:grpSpPr>
          <p:sp>
            <p:nvSpPr>
              <p:cNvPr id="95" name=""/>
              <p:cNvSpPr/>
              <p:nvPr/>
            </p:nvSpPr>
            <p:spPr>
              <a:xfrm>
                <a:off x="1650960" y="4572000"/>
                <a:ext cx="3877920" cy="1371600"/>
              </a:xfrm>
              <a:prstGeom prst="flowChartMagneticDisk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816200" y="4876920"/>
                <a:ext cx="495000" cy="60948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64000" y="5486400"/>
                <a:ext cx="680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emi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ructure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44680" y="5562720"/>
                <a:ext cx="76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Contacts to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eop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155760" y="5638680"/>
                <a:ext cx="45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77680" y="5638680"/>
                <a:ext cx="680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form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227840" y="5486400"/>
                <a:ext cx="694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l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uss. Proc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stanc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76080" y="4952880"/>
                <a:ext cx="495000" cy="60984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034240" y="5486400"/>
                <a:ext cx="369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135960" y="5029200"/>
                <a:ext cx="495000" cy="60948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13760" y="5029200"/>
                <a:ext cx="495000" cy="60948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91200" y="4952880"/>
                <a:ext cx="495000" cy="60984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951440" y="4876920"/>
                <a:ext cx="495000" cy="60948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234360" y="4952880"/>
              <a:ext cx="1642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anization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557800" y="1752120"/>
            <a:ext cx="1074240" cy="1292760"/>
            <a:chOff x="2557800" y="1752120"/>
            <a:chExt cx="1074240" cy="1292760"/>
          </a:xfrm>
        </p:grpSpPr>
        <p:sp>
          <p:nvSpPr>
            <p:cNvPr id="110" name=""/>
            <p:cNvSpPr/>
            <p:nvPr/>
          </p:nvSpPr>
          <p:spPr>
            <a:xfrm>
              <a:off x="2557800" y="259092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 rot="16189800">
              <a:off x="2900880" y="2315160"/>
              <a:ext cx="1292400" cy="165240"/>
            </a:xfrm>
            <a:prstGeom prst="rightArrow">
              <a:avLst>
                <a:gd name="adj1" fmla="val 38463"/>
                <a:gd name="adj2" fmla="val 19553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339240" y="5697360"/>
            <a:ext cx="6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wt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475360" y="4146840"/>
            <a:ext cx="2141280" cy="882000"/>
            <a:chOff x="2475360" y="4146840"/>
            <a:chExt cx="2141280" cy="882000"/>
          </a:xfrm>
        </p:grpSpPr>
        <p:sp>
          <p:nvSpPr>
            <p:cNvPr id="114" name=""/>
            <p:cNvSpPr/>
            <p:nvPr/>
          </p:nvSpPr>
          <p:spPr>
            <a:xfrm rot="16200000">
              <a:off x="3372480" y="4607280"/>
              <a:ext cx="762120" cy="81000"/>
            </a:xfrm>
            <a:prstGeom prst="rightArrow">
              <a:avLst>
                <a:gd name="adj1" fmla="val 38463"/>
                <a:gd name="adj2" fmla="val 235222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9000200">
              <a:off x="2476440" y="4419360"/>
              <a:ext cx="824040" cy="74520"/>
            </a:xfrm>
            <a:prstGeom prst="rightArrow">
              <a:avLst>
                <a:gd name="adj1" fmla="val 38463"/>
                <a:gd name="adj2" fmla="val 27644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8209400">
              <a:off x="2959920" y="4531680"/>
              <a:ext cx="761760" cy="81000"/>
            </a:xfrm>
            <a:prstGeom prst="rightArrow">
              <a:avLst>
                <a:gd name="adj1" fmla="val 38463"/>
                <a:gd name="adj2" fmla="val 235111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2599800">
              <a:off x="3877200" y="4495680"/>
              <a:ext cx="825480" cy="74880"/>
            </a:xfrm>
            <a:prstGeom prst="rightArrow">
              <a:avLst>
                <a:gd name="adj1" fmla="val 38463"/>
                <a:gd name="adj2" fmla="val 275601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75360" y="434340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trie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23880" y="4572000"/>
            <a:ext cx="3581640" cy="1404000"/>
            <a:chOff x="1523880" y="4572000"/>
            <a:chExt cx="3581640" cy="1404000"/>
          </a:xfrm>
        </p:grpSpPr>
        <p:sp>
          <p:nvSpPr>
            <p:cNvPr id="120" name=""/>
            <p:cNvSpPr/>
            <p:nvPr/>
          </p:nvSpPr>
          <p:spPr>
            <a:xfrm>
              <a:off x="1523880" y="4572000"/>
              <a:ext cx="3581640" cy="1371600"/>
            </a:xfrm>
            <a:prstGeom prst="flowChartMagneticDisk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4876920"/>
              <a:ext cx="457200" cy="6094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02000" y="548640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mi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uctur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4800" y="5562720"/>
              <a:ext cx="76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Contacts t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7280" y="5638680"/>
              <a:ext cx="45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78160" y="5638680"/>
              <a:ext cx="68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orm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77200" y="5486400"/>
              <a:ext cx="69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uss. Pro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tan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4952880"/>
              <a:ext cx="457200" cy="60984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9040" y="548640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5029200"/>
              <a:ext cx="457200" cy="6094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9000" y="5029200"/>
              <a:ext cx="457200" cy="6094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62520" y="4952880"/>
              <a:ext cx="457200" cy="60984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4876920"/>
              <a:ext cx="457200" cy="6094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979960" y="2133720"/>
            <a:ext cx="1067040" cy="5331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79960" y="2819520"/>
            <a:ext cx="106848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10120" y="3429000"/>
            <a:ext cx="106704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3" idx="3"/>
            <a:endCxn id="137" idx="7"/>
          </p:cNvCxnSpPr>
          <p:nvPr/>
        </p:nvCxnSpPr>
        <p:spPr>
          <a:xfrm flipH="1">
            <a:off x="5325480" y="2588760"/>
            <a:ext cx="810360" cy="71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2"/>
            <a:endCxn id="137" idx="6"/>
          </p:cNvCxnSpPr>
          <p:nvPr/>
        </p:nvCxnSpPr>
        <p:spPr>
          <a:xfrm flipH="1">
            <a:off x="5369760" y="3048120"/>
            <a:ext cx="6102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5" idx="2"/>
            <a:endCxn id="137" idx="5"/>
          </p:cNvCxnSpPr>
          <p:nvPr/>
        </p:nvCxnSpPr>
        <p:spPr>
          <a:xfrm flipH="1" flipV="1">
            <a:off x="5325840" y="3405960"/>
            <a:ext cx="58464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255280" y="27432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65880" y="318456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3360" y="1523880"/>
            <a:ext cx="1642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80" y="4876920"/>
            <a:ext cx="1642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2971800"/>
            <a:ext cx="1524240" cy="1295280"/>
          </a:xfrm>
          <a:prstGeom prst="sun">
            <a:avLst>
              <a:gd name="adj" fmla="val 12500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4480" y="261288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3085200" y="4610520"/>
            <a:ext cx="762120" cy="74520"/>
          </a:xfrm>
          <a:prstGeom prst="rightArrow">
            <a:avLst>
              <a:gd name="adj1" fmla="val 38463"/>
              <a:gd name="adj2" fmla="val 25567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9000200">
            <a:off x="2286000" y="4419360"/>
            <a:ext cx="762120" cy="74520"/>
          </a:xfrm>
          <a:prstGeom prst="rightArrow">
            <a:avLst>
              <a:gd name="adj1" fmla="val 38463"/>
              <a:gd name="adj2" fmla="val 25567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05080" y="91440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tal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3720" y="379260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2840" y="312408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209400">
            <a:off x="2704320" y="4534920"/>
            <a:ext cx="761760" cy="74520"/>
          </a:xfrm>
          <a:prstGeom prst="rightArrow">
            <a:avLst>
              <a:gd name="adj1" fmla="val 38463"/>
              <a:gd name="adj2" fmla="val 25555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2599800">
            <a:off x="3580560" y="4495320"/>
            <a:ext cx="762120" cy="75240"/>
          </a:xfrm>
          <a:prstGeom prst="rightArrow">
            <a:avLst>
              <a:gd name="adj1" fmla="val 38463"/>
              <a:gd name="adj2" fmla="val 253230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4920" y="434340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r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88360" y="4168080"/>
            <a:ext cx="628200" cy="577440"/>
            <a:chOff x="3888360" y="4168080"/>
            <a:chExt cx="628200" cy="577440"/>
          </a:xfrm>
        </p:grpSpPr>
        <p:sp>
          <p:nvSpPr>
            <p:cNvPr id="155" name=""/>
            <p:cNvSpPr/>
            <p:nvPr/>
          </p:nvSpPr>
          <p:spPr>
            <a:xfrm flipV="1" rot="2599800">
              <a:off x="3809880" y="4419360"/>
              <a:ext cx="762120" cy="74520"/>
            </a:xfrm>
            <a:prstGeom prst="rightArrow">
              <a:avLst>
                <a:gd name="adj1" fmla="val 38463"/>
                <a:gd name="adj2" fmla="val 255676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62520" y="4343400"/>
              <a:ext cx="5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828800" y="2590920"/>
            <a:ext cx="990360" cy="2057400"/>
            <a:chOff x="1828800" y="2590920"/>
            <a:chExt cx="990360" cy="2057400"/>
          </a:xfrm>
        </p:grpSpPr>
        <p:sp>
          <p:nvSpPr>
            <p:cNvPr id="158" name=""/>
            <p:cNvSpPr/>
            <p:nvPr/>
          </p:nvSpPr>
          <p:spPr>
            <a:xfrm>
              <a:off x="1828800" y="3352680"/>
              <a:ext cx="305280" cy="2286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828800" y="2590920"/>
              <a:ext cx="990360" cy="2057400"/>
              <a:chOff x="1828800" y="2590920"/>
              <a:chExt cx="990360" cy="2057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1828800" y="3351960"/>
                <a:ext cx="305280" cy="2286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1905120" y="2590920"/>
                <a:ext cx="914040" cy="2057400"/>
                <a:chOff x="1905120" y="2590920"/>
                <a:chExt cx="914040" cy="20574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1905120" y="2590920"/>
                  <a:ext cx="152280" cy="2057400"/>
                </a:xfrm>
                <a:prstGeom prst="upDownArrow">
                  <a:avLst>
                    <a:gd name="adj1" fmla="val 50000"/>
                    <a:gd name="adj2" fmla="val 268961"/>
                  </a:avLst>
                </a:prstGeom>
                <a:solidFill>
                  <a:srgbClr val="618ff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 rot="21589800">
                  <a:off x="2133720" y="3390480"/>
                  <a:ext cx="685080" cy="152640"/>
                </a:xfrm>
                <a:prstGeom prst="rightArrow">
                  <a:avLst>
                    <a:gd name="adj1" fmla="val 38463"/>
                    <a:gd name="adj2" fmla="val 112205"/>
                  </a:avLst>
                </a:prstGeom>
                <a:solidFill>
                  <a:srgbClr val="618ff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 rot="10800000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983240" y="3527280"/>
                  <a:ext cx="747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ni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5" name=""/>
          <p:cNvSpPr/>
          <p:nvPr/>
        </p:nvSpPr>
        <p:spPr>
          <a:xfrm>
            <a:off x="4572000" y="1600200"/>
            <a:ext cx="2955960" cy="3124080"/>
          </a:xfrm>
          <a:prstGeom prst="cloudCallout">
            <a:avLst>
              <a:gd name="adj1" fmla="val -65962"/>
              <a:gd name="adj2" fmla="val 14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151160" y="2400120"/>
            <a:ext cx="2192040" cy="1943280"/>
            <a:chOff x="4151160" y="2400120"/>
            <a:chExt cx="2192040" cy="1943280"/>
          </a:xfrm>
        </p:grpSpPr>
        <p:sp>
          <p:nvSpPr>
            <p:cNvPr id="167" name=""/>
            <p:cNvSpPr/>
            <p:nvPr/>
          </p:nvSpPr>
          <p:spPr>
            <a:xfrm>
              <a:off x="5105160" y="2514600"/>
              <a:ext cx="30456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13840" y="2971800"/>
              <a:ext cx="30456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65560" y="3276720"/>
              <a:ext cx="30456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54600" y="3733920"/>
              <a:ext cx="304560" cy="152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8" idx="5"/>
              <a:endCxn id="137" idx="1"/>
            </p:cNvCxnSpPr>
            <p:nvPr/>
          </p:nvCxnSpPr>
          <p:spPr>
            <a:xfrm>
              <a:off x="4974480" y="3102120"/>
              <a:ext cx="1350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" name=""/>
            <p:cNvCxnSpPr>
              <a:stCxn id="169" idx="0"/>
              <a:endCxn id="137" idx="4"/>
            </p:cNvCxnSpPr>
            <p:nvPr/>
          </p:nvCxnSpPr>
          <p:spPr>
            <a:xfrm flipV="1">
              <a:off x="5007240" y="3428280"/>
              <a:ext cx="2116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2" name=""/>
            <p:cNvCxnSpPr>
              <a:stCxn id="133" idx="2"/>
              <a:endCxn id="167" idx="6"/>
            </p:cNvCxnSpPr>
            <p:nvPr/>
          </p:nvCxnSpPr>
          <p:spPr>
            <a:xfrm flipH="1">
              <a:off x="5409360" y="2400120"/>
              <a:ext cx="5709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3" name=""/>
            <p:cNvSpPr/>
            <p:nvPr/>
          </p:nvSpPr>
          <p:spPr>
            <a:xfrm>
              <a:off x="5180040" y="3581280"/>
              <a:ext cx="695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amp; a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5276520" y="4038480"/>
              <a:ext cx="1066680" cy="304920"/>
              <a:chOff x="5276520" y="4038480"/>
              <a:chExt cx="1066680" cy="304920"/>
            </a:xfrm>
          </p:grpSpPr>
          <p:sp>
            <p:nvSpPr>
              <p:cNvPr id="175" name=""/>
              <p:cNvSpPr/>
              <p:nvPr/>
            </p:nvSpPr>
            <p:spPr>
              <a:xfrm>
                <a:off x="5276520" y="4038480"/>
                <a:ext cx="1066680" cy="3049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15040" y="4084560"/>
                <a:ext cx="938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rg.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now.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em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V="1">
              <a:off x="4151160" y="3352320"/>
              <a:ext cx="914400" cy="22860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4151160" y="3657600"/>
              <a:ext cx="774000" cy="7632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827320" y="5697360"/>
            <a:ext cx="6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wt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990720"/>
            <a:ext cx="3276720" cy="152388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8120" y="1523880"/>
            <a:ext cx="1218600" cy="228600"/>
            <a:chOff x="3048120" y="1523880"/>
            <a:chExt cx="1218600" cy="228600"/>
          </a:xfrm>
        </p:grpSpPr>
        <p:sp>
          <p:nvSpPr>
            <p:cNvPr id="182" name=""/>
            <p:cNvSpPr/>
            <p:nvPr/>
          </p:nvSpPr>
          <p:spPr>
            <a:xfrm>
              <a:off x="3048120" y="1523880"/>
              <a:ext cx="456840" cy="228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9000" y="1523880"/>
              <a:ext cx="456840" cy="228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9880" y="1523880"/>
              <a:ext cx="456840" cy="228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345480" y="121932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wledge I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48080" y="1447920"/>
            <a:ext cx="280800" cy="228600"/>
          </a:xfrm>
          <a:prstGeom prst="smileyFace">
            <a:avLst>
              <a:gd name="adj" fmla="val 9282"/>
            </a:avLst>
          </a:prstGeom>
          <a:solidFill>
            <a:srgbClr val="33cc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861200" y="990720"/>
            <a:ext cx="1643400" cy="380880"/>
            <a:chOff x="1861200" y="990720"/>
            <a:chExt cx="1643400" cy="380880"/>
          </a:xfrm>
        </p:grpSpPr>
        <p:grpSp>
          <p:nvGrpSpPr>
            <p:cNvPr id="188" name=""/>
            <p:cNvGrpSpPr/>
            <p:nvPr/>
          </p:nvGrpSpPr>
          <p:grpSpPr>
            <a:xfrm>
              <a:off x="2286720" y="1143000"/>
              <a:ext cx="1217880" cy="228600"/>
              <a:chOff x="2286720" y="1143000"/>
              <a:chExt cx="1217880" cy="228600"/>
            </a:xfrm>
          </p:grpSpPr>
          <p:sp>
            <p:nvSpPr>
              <p:cNvPr id="189" name=""/>
              <p:cNvSpPr/>
              <p:nvPr/>
            </p:nvSpPr>
            <p:spPr>
              <a:xfrm>
                <a:off x="2286720" y="1143000"/>
                <a:ext cx="456480" cy="22860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67600" y="1143000"/>
                <a:ext cx="456480" cy="22860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48120" y="1143000"/>
                <a:ext cx="456480" cy="22860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1861200" y="990720"/>
              <a:ext cx="1055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nage Proces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96000" y="1066680"/>
              <a:ext cx="281520" cy="228600"/>
            </a:xfrm>
            <a:prstGeom prst="smileyFace">
              <a:avLst>
                <a:gd name="adj" fmla="val 9282"/>
              </a:avLst>
            </a:prstGeom>
            <a:solidFill>
              <a:srgbClr val="ff33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065680" y="1981080"/>
            <a:ext cx="1896120" cy="596880"/>
            <a:chOff x="2065680" y="1981080"/>
            <a:chExt cx="1896120" cy="596880"/>
          </a:xfrm>
        </p:grpSpPr>
        <p:grpSp>
          <p:nvGrpSpPr>
            <p:cNvPr id="195" name=""/>
            <p:cNvGrpSpPr/>
            <p:nvPr/>
          </p:nvGrpSpPr>
          <p:grpSpPr>
            <a:xfrm>
              <a:off x="2666520" y="2133720"/>
              <a:ext cx="1219320" cy="228600"/>
              <a:chOff x="2666520" y="2133720"/>
              <a:chExt cx="1219320" cy="228600"/>
            </a:xfrm>
          </p:grpSpPr>
          <p:sp>
            <p:nvSpPr>
              <p:cNvPr id="196" name=""/>
              <p:cNvSpPr/>
              <p:nvPr/>
            </p:nvSpPr>
            <p:spPr>
              <a:xfrm>
                <a:off x="2666520" y="2133720"/>
                <a:ext cx="457200" cy="2286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047760" y="2133720"/>
                <a:ext cx="457200" cy="2286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28640" y="2133720"/>
                <a:ext cx="457200" cy="2286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743200" y="2057400"/>
              <a:ext cx="1218600" cy="228600"/>
              <a:chOff x="2743200" y="2057400"/>
              <a:chExt cx="1218600" cy="228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743200" y="2057400"/>
                <a:ext cx="456840" cy="2286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24080" y="2057400"/>
                <a:ext cx="456840" cy="2286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04960" y="2057400"/>
                <a:ext cx="456840" cy="2286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2065680" y="2362320"/>
              <a:ext cx="1177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acilitation Proces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8840" y="1981080"/>
              <a:ext cx="281520" cy="228600"/>
            </a:xfrm>
            <a:prstGeom prst="smileyFace">
              <a:avLst>
                <a:gd name="adj" fmla="val 9282"/>
              </a:avLst>
            </a:prstGeom>
            <a:solidFill>
              <a:srgbClr val="66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900080" y="1455840"/>
            <a:ext cx="1217520" cy="525240"/>
            <a:chOff x="1900080" y="1455840"/>
            <a:chExt cx="1217520" cy="525240"/>
          </a:xfrm>
        </p:grpSpPr>
        <p:grpSp>
          <p:nvGrpSpPr>
            <p:cNvPr id="206" name=""/>
            <p:cNvGrpSpPr/>
            <p:nvPr/>
          </p:nvGrpSpPr>
          <p:grpSpPr>
            <a:xfrm>
              <a:off x="1900080" y="1676520"/>
              <a:ext cx="1217520" cy="228600"/>
              <a:chOff x="1900080" y="1676520"/>
              <a:chExt cx="1217520" cy="228600"/>
            </a:xfrm>
          </p:grpSpPr>
          <p:sp>
            <p:nvSpPr>
              <p:cNvPr id="207" name=""/>
              <p:cNvSpPr/>
              <p:nvPr/>
            </p:nvSpPr>
            <p:spPr>
              <a:xfrm>
                <a:off x="1900080" y="1676520"/>
                <a:ext cx="456480" cy="22860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80600" y="1676520"/>
                <a:ext cx="456480" cy="22860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661120" y="1676520"/>
                <a:ext cx="456480" cy="22860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911960" y="1455840"/>
              <a:ext cx="1175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duction Proces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22000" y="1752480"/>
              <a:ext cx="281520" cy="228600"/>
            </a:xfrm>
            <a:prstGeom prst="smileyFace">
              <a:avLst>
                <a:gd name="adj" fmla="val 9282"/>
              </a:avLst>
            </a:prstGeom>
            <a:solidFill>
              <a:srgbClr val="99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4280" y="1752480"/>
              <a:ext cx="281520" cy="228600"/>
            </a:xfrm>
            <a:prstGeom prst="smileyFace">
              <a:avLst>
                <a:gd name="adj" fmla="val 9282"/>
              </a:avLst>
            </a:prstGeom>
            <a:solidFill>
              <a:srgbClr val="99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200400" y="1600200"/>
            <a:ext cx="1219320" cy="228600"/>
            <a:chOff x="3200400" y="1600200"/>
            <a:chExt cx="1219320" cy="228600"/>
          </a:xfrm>
        </p:grpSpPr>
        <p:sp>
          <p:nvSpPr>
            <p:cNvPr id="214" name=""/>
            <p:cNvSpPr/>
            <p:nvPr/>
          </p:nvSpPr>
          <p:spPr>
            <a:xfrm>
              <a:off x="3200400" y="16002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81640" y="16002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62520" y="16002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010040" y="1523880"/>
            <a:ext cx="282600" cy="228600"/>
          </a:xfrm>
          <a:prstGeom prst="smileyFace">
            <a:avLst>
              <a:gd name="adj" fmla="val 9282"/>
            </a:avLst>
          </a:prstGeom>
          <a:solidFill>
            <a:srgbClr val="33cc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579840" y="2438280"/>
            <a:ext cx="759960" cy="686160"/>
            <a:chOff x="3579840" y="2438280"/>
            <a:chExt cx="759960" cy="686160"/>
          </a:xfrm>
        </p:grpSpPr>
        <p:sp>
          <p:nvSpPr>
            <p:cNvPr id="219" name=""/>
            <p:cNvSpPr/>
            <p:nvPr/>
          </p:nvSpPr>
          <p:spPr>
            <a:xfrm>
              <a:off x="3659040" y="253692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10200">
              <a:off x="3314160" y="2705040"/>
              <a:ext cx="685800" cy="152280"/>
            </a:xfrm>
            <a:prstGeom prst="rightArrow">
              <a:avLst>
                <a:gd name="adj1" fmla="val 38463"/>
                <a:gd name="adj2" fmla="val 11258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 flipV="1" rot="16189800">
            <a:off x="2629440" y="2321640"/>
            <a:ext cx="1292400" cy="152280"/>
          </a:xfrm>
          <a:prstGeom prst="rightArrow">
            <a:avLst>
              <a:gd name="adj1" fmla="val 38463"/>
              <a:gd name="adj2" fmla="val 212175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ed OM Conceptual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1523880" y="4572000"/>
            <a:ext cx="3581640" cy="1404000"/>
            <a:chOff x="1523880" y="4572000"/>
            <a:chExt cx="3581640" cy="1404000"/>
          </a:xfrm>
        </p:grpSpPr>
        <p:sp>
          <p:nvSpPr>
            <p:cNvPr id="224" name=""/>
            <p:cNvSpPr/>
            <p:nvPr/>
          </p:nvSpPr>
          <p:spPr>
            <a:xfrm>
              <a:off x="1523880" y="4572000"/>
              <a:ext cx="3581640" cy="1371600"/>
            </a:xfrm>
            <a:prstGeom prst="flowChartMagneticDisk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76520" y="4876920"/>
              <a:ext cx="457200" cy="609480"/>
            </a:xfrm>
            <a:prstGeom prst="flowChartMagneticDisk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02000" y="5486400"/>
              <a:ext cx="680760" cy="45900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Semi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structur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4800" y="5562720"/>
              <a:ext cx="766080" cy="33732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(Contacts t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peop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96920" y="5638680"/>
              <a:ext cx="453600" cy="33732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Data</a:t>
              </a:r>
              <a:r>
                <a:rPr b="1" lang="en-US" sz="800" spc="-1" strike="noStrike">
                  <a:solidFill>
                    <a:srgbClr val="b2b2b2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ba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77800" y="5638680"/>
              <a:ext cx="680760" cy="33732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Inform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77200" y="5486400"/>
              <a:ext cx="694440" cy="45900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O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buss. Pro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instan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86000" y="4952880"/>
              <a:ext cx="457200" cy="609840"/>
            </a:xfrm>
            <a:prstGeom prst="flowChartMagneticDisk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39680" y="5486400"/>
              <a:ext cx="369720" cy="21564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5029200"/>
              <a:ext cx="457200" cy="609480"/>
            </a:xfrm>
            <a:prstGeom prst="flowChartMagneticDisk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29000" y="5029200"/>
              <a:ext cx="457200" cy="609480"/>
            </a:xfrm>
            <a:prstGeom prst="flowChartMagneticDisk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62520" y="4952880"/>
              <a:ext cx="457200" cy="609840"/>
            </a:xfrm>
            <a:prstGeom prst="flowChartMagneticDisk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0" y="4876920"/>
              <a:ext cx="457200" cy="609480"/>
            </a:xfrm>
            <a:prstGeom prst="flowChartMagneticDisk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828800" y="3352680"/>
            <a:ext cx="30492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79960" y="2133720"/>
            <a:ext cx="1067040" cy="5331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ecece"/>
                </a:solidFill>
                <a:latin typeface="Times New Roman"/>
              </a:rPr>
              <a:t>Enterpr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ecece"/>
                </a:solidFill>
                <a:latin typeface="Times New Roman"/>
              </a:rPr>
              <a:t>Ont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2819520"/>
            <a:ext cx="106848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ecece"/>
                </a:solidFill>
                <a:latin typeface="Times New Roman"/>
              </a:rPr>
              <a:t>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ecece"/>
                </a:solidFill>
                <a:latin typeface="Times New Roman"/>
              </a:rPr>
              <a:t>Ont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10120" y="3429000"/>
            <a:ext cx="106704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ecece"/>
                </a:solidFill>
                <a:latin typeface="Times New Roman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ecece"/>
                </a:solidFill>
                <a:latin typeface="Times New Roman"/>
              </a:rPr>
              <a:t>Ont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514600"/>
            <a:ext cx="30456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14920" y="2971800"/>
            <a:ext cx="30492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65560" y="3276720"/>
            <a:ext cx="30492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54600" y="3733920"/>
            <a:ext cx="30492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2" idx="5"/>
            <a:endCxn id="243" idx="1"/>
          </p:cNvCxnSpPr>
          <p:nvPr/>
        </p:nvCxnSpPr>
        <p:spPr>
          <a:xfrm>
            <a:off x="4974840" y="3102120"/>
            <a:ext cx="135720" cy="197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44" idx="0"/>
            <a:endCxn id="243" idx="4"/>
          </p:cNvCxnSpPr>
          <p:nvPr/>
        </p:nvCxnSpPr>
        <p:spPr>
          <a:xfrm flipV="1">
            <a:off x="5006520" y="3428280"/>
            <a:ext cx="2120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38" idx="2"/>
            <a:endCxn id="241" idx="6"/>
          </p:cNvCxnSpPr>
          <p:nvPr/>
        </p:nvCxnSpPr>
        <p:spPr>
          <a:xfrm flipH="1">
            <a:off x="5409360" y="2400120"/>
            <a:ext cx="57060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38" idx="3"/>
            <a:endCxn id="243" idx="7"/>
          </p:cNvCxnSpPr>
          <p:nvPr/>
        </p:nvCxnSpPr>
        <p:spPr>
          <a:xfrm flipH="1">
            <a:off x="5325480" y="2588760"/>
            <a:ext cx="810360" cy="71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39" idx="2"/>
            <a:endCxn id="243" idx="6"/>
          </p:cNvCxnSpPr>
          <p:nvPr/>
        </p:nvCxnSpPr>
        <p:spPr>
          <a:xfrm flipH="1">
            <a:off x="5369760" y="3048120"/>
            <a:ext cx="6102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0" idx="2"/>
            <a:endCxn id="243" idx="5"/>
          </p:cNvCxnSpPr>
          <p:nvPr/>
        </p:nvCxnSpPr>
        <p:spPr>
          <a:xfrm flipH="1" flipV="1">
            <a:off x="5325840" y="3405960"/>
            <a:ext cx="58464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5255280" y="27432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65880" y="318456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80760" y="3581280"/>
            <a:ext cx="69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amp; 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276880" y="4038480"/>
            <a:ext cx="1066680" cy="304920"/>
            <a:chOff x="5276880" y="4038480"/>
            <a:chExt cx="1066680" cy="304920"/>
          </a:xfrm>
        </p:grpSpPr>
        <p:sp>
          <p:nvSpPr>
            <p:cNvPr id="255" name=""/>
            <p:cNvSpPr/>
            <p:nvPr/>
          </p:nvSpPr>
          <p:spPr>
            <a:xfrm>
              <a:off x="5276880" y="4038480"/>
              <a:ext cx="106668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15400" y="4084560"/>
              <a:ext cx="93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g.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ow.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53360" y="1523880"/>
            <a:ext cx="1642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0" y="4876920"/>
            <a:ext cx="1642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2971800"/>
            <a:ext cx="1524240" cy="1295280"/>
          </a:xfrm>
          <a:prstGeom prst="sun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Knowledge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Arial"/>
              </a:rPr>
              <a:t>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35320" y="261288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ecece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9400" y="25369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3085200" y="4610520"/>
            <a:ext cx="762120" cy="74520"/>
          </a:xfrm>
          <a:prstGeom prst="rightArrow">
            <a:avLst>
              <a:gd name="adj1" fmla="val 38463"/>
              <a:gd name="adj2" fmla="val 255676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9000200">
            <a:off x="2286000" y="4419360"/>
            <a:ext cx="762120" cy="74520"/>
          </a:xfrm>
          <a:prstGeom prst="rightArrow">
            <a:avLst>
              <a:gd name="adj1" fmla="val 38463"/>
              <a:gd name="adj2" fmla="val 255676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05080" y="91440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tal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23720" y="379260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12840" y="312408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8209400">
            <a:off x="2704320" y="4534920"/>
            <a:ext cx="761760" cy="74520"/>
          </a:xfrm>
          <a:prstGeom prst="rightArrow">
            <a:avLst>
              <a:gd name="adj1" fmla="val 38463"/>
              <a:gd name="adj2" fmla="val 255556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rot="2599800">
            <a:off x="3580560" y="4495320"/>
            <a:ext cx="762120" cy="75240"/>
          </a:xfrm>
          <a:prstGeom prst="rightArrow">
            <a:avLst>
              <a:gd name="adj1" fmla="val 38463"/>
              <a:gd name="adj2" fmla="val 25323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2590920"/>
            <a:ext cx="152280" cy="2057400"/>
          </a:xfrm>
          <a:prstGeom prst="upDownArrow">
            <a:avLst>
              <a:gd name="adj1" fmla="val 50000"/>
              <a:gd name="adj2" fmla="val 268961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61880" y="4343400"/>
            <a:ext cx="73404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retr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 rot="2599800">
            <a:off x="3809880" y="4419360"/>
            <a:ext cx="762120" cy="74520"/>
          </a:xfrm>
          <a:prstGeom prst="rightArrow">
            <a:avLst>
              <a:gd name="adj1" fmla="val 38463"/>
              <a:gd name="adj2" fmla="val 25567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3240" y="43434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 rot="21589800">
            <a:off x="2133720" y="3390480"/>
            <a:ext cx="685800" cy="152640"/>
          </a:xfrm>
          <a:prstGeom prst="rightArrow">
            <a:avLst>
              <a:gd name="adj1" fmla="val 38463"/>
              <a:gd name="adj2" fmla="val 112323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828800" y="3351960"/>
            <a:ext cx="30492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3600" y="352728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1600200"/>
            <a:ext cx="2955960" cy="3124080"/>
          </a:xfrm>
          <a:prstGeom prst="cloudCallout">
            <a:avLst>
              <a:gd name="adj1" fmla="val -65962"/>
              <a:gd name="adj2" fmla="val 14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151160" y="3352320"/>
            <a:ext cx="914400" cy="228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151160" y="3657600"/>
            <a:ext cx="774720" cy="763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5680" y="2362320"/>
            <a:ext cx="117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cilitation Process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27320" y="5697360"/>
            <a:ext cx="6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wt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990720"/>
            <a:ext cx="3276720" cy="152388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048120" y="1523880"/>
            <a:ext cx="1218600" cy="228600"/>
            <a:chOff x="3048120" y="1523880"/>
            <a:chExt cx="1218600" cy="228600"/>
          </a:xfrm>
        </p:grpSpPr>
        <p:sp>
          <p:nvSpPr>
            <p:cNvPr id="283" name=""/>
            <p:cNvSpPr/>
            <p:nvPr/>
          </p:nvSpPr>
          <p:spPr>
            <a:xfrm>
              <a:off x="3048120" y="1523880"/>
              <a:ext cx="456840" cy="228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29000" y="1523880"/>
              <a:ext cx="456840" cy="228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9880" y="1523880"/>
              <a:ext cx="456840" cy="228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666880" y="2133720"/>
            <a:ext cx="1219320" cy="228600"/>
            <a:chOff x="2666880" y="2133720"/>
            <a:chExt cx="1219320" cy="228600"/>
          </a:xfrm>
        </p:grpSpPr>
        <p:sp>
          <p:nvSpPr>
            <p:cNvPr id="287" name=""/>
            <p:cNvSpPr/>
            <p:nvPr/>
          </p:nvSpPr>
          <p:spPr>
            <a:xfrm>
              <a:off x="2666880" y="213372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48120" y="213372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29000" y="213372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286000" y="1143000"/>
            <a:ext cx="1219320" cy="228600"/>
            <a:chOff x="2286000" y="1143000"/>
            <a:chExt cx="1219320" cy="228600"/>
          </a:xfrm>
        </p:grpSpPr>
        <p:sp>
          <p:nvSpPr>
            <p:cNvPr id="291" name=""/>
            <p:cNvSpPr/>
            <p:nvPr/>
          </p:nvSpPr>
          <p:spPr>
            <a:xfrm>
              <a:off x="2286000" y="11430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7240" y="11430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48120" y="11430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900080" y="1676520"/>
            <a:ext cx="1217520" cy="228600"/>
            <a:chOff x="1900080" y="1676520"/>
            <a:chExt cx="1217520" cy="228600"/>
          </a:xfrm>
        </p:grpSpPr>
        <p:sp>
          <p:nvSpPr>
            <p:cNvPr id="295" name=""/>
            <p:cNvSpPr/>
            <p:nvPr/>
          </p:nvSpPr>
          <p:spPr>
            <a:xfrm>
              <a:off x="1900080" y="1676520"/>
              <a:ext cx="456480" cy="22860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0600" y="1676520"/>
              <a:ext cx="456480" cy="22860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1120" y="1676520"/>
              <a:ext cx="456480" cy="22860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743200" y="2057400"/>
            <a:ext cx="1219320" cy="228600"/>
            <a:chOff x="2743200" y="2057400"/>
            <a:chExt cx="1219320" cy="228600"/>
          </a:xfrm>
        </p:grpSpPr>
        <p:sp>
          <p:nvSpPr>
            <p:cNvPr id="299" name=""/>
            <p:cNvSpPr/>
            <p:nvPr/>
          </p:nvSpPr>
          <p:spPr>
            <a:xfrm>
              <a:off x="2743200" y="20574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24440" y="20574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05320" y="20574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861560" y="990720"/>
            <a:ext cx="105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 Process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11600" y="1455840"/>
            <a:ext cx="117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ion Process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65680" y="2362320"/>
            <a:ext cx="117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cilitation Process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45480" y="121932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wledge I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48080" y="1447920"/>
            <a:ext cx="280800" cy="228600"/>
          </a:xfrm>
          <a:prstGeom prst="smileyFace">
            <a:avLst>
              <a:gd name="adj" fmla="val 9282"/>
            </a:avLst>
          </a:prstGeom>
          <a:solidFill>
            <a:srgbClr val="33cc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95640" y="1066680"/>
            <a:ext cx="280800" cy="228600"/>
          </a:xfrm>
          <a:prstGeom prst="smileyFace">
            <a:avLst>
              <a:gd name="adj" fmla="val 9282"/>
            </a:avLst>
          </a:pr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7760" y="1981080"/>
            <a:ext cx="282600" cy="228600"/>
          </a:xfrm>
          <a:prstGeom prst="smileyFace">
            <a:avLst>
              <a:gd name="adj" fmla="val 9282"/>
            </a:avLst>
          </a:prstGeom>
          <a:solidFill>
            <a:srgbClr val="66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22360" y="1752480"/>
            <a:ext cx="281160" cy="228600"/>
          </a:xfrm>
          <a:prstGeom prst="smileyFace">
            <a:avLst>
              <a:gd name="adj" fmla="val 9282"/>
            </a:avLst>
          </a:prstGeom>
          <a:solidFill>
            <a:srgbClr val="99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4640" y="1752480"/>
            <a:ext cx="281160" cy="228600"/>
          </a:xfrm>
          <a:prstGeom prst="smileyFace">
            <a:avLst>
              <a:gd name="adj" fmla="val 9282"/>
            </a:avLst>
          </a:prstGeom>
          <a:solidFill>
            <a:srgbClr val="99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200400" y="1600200"/>
            <a:ext cx="1219320" cy="228600"/>
            <a:chOff x="3200400" y="1600200"/>
            <a:chExt cx="1219320" cy="228600"/>
          </a:xfrm>
        </p:grpSpPr>
        <p:sp>
          <p:nvSpPr>
            <p:cNvPr id="312" name=""/>
            <p:cNvSpPr/>
            <p:nvPr/>
          </p:nvSpPr>
          <p:spPr>
            <a:xfrm>
              <a:off x="3200400" y="16002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81640" y="16002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62520" y="160020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010040" y="1523880"/>
            <a:ext cx="282600" cy="228600"/>
          </a:xfrm>
          <a:prstGeom prst="smileyFace">
            <a:avLst>
              <a:gd name="adj" fmla="val 9282"/>
            </a:avLst>
          </a:prstGeom>
          <a:solidFill>
            <a:srgbClr val="33cc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410200">
            <a:off x="3314520" y="2704680"/>
            <a:ext cx="685800" cy="152640"/>
          </a:xfrm>
          <a:prstGeom prst="rightArrow">
            <a:avLst>
              <a:gd name="adj1" fmla="val 38463"/>
              <a:gd name="adj2" fmla="val 112323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 rot="16189800">
            <a:off x="2629440" y="2321640"/>
            <a:ext cx="1292400" cy="152280"/>
          </a:xfrm>
          <a:prstGeom prst="rightArrow">
            <a:avLst>
              <a:gd name="adj1" fmla="val 38463"/>
              <a:gd name="adj2" fmla="val 212175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Aspects: Resum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3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More example Implementation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knowmore-implementation" descr=""/>
          <p:cNvPicPr/>
          <p:nvPr/>
        </p:nvPicPr>
        <p:blipFill>
          <a:blip r:embed="rId1"/>
          <a:stretch/>
        </p:blipFill>
        <p:spPr>
          <a:xfrm>
            <a:off x="985680" y="1143000"/>
            <a:ext cx="73170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Net example Implementation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41600" y="6058080"/>
            <a:ext cx="3672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anned Know-Net Tool Archite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181240" y="1143000"/>
            <a:ext cx="4573440" cy="4892760"/>
            <a:chOff x="2181240" y="1143000"/>
            <a:chExt cx="4573440" cy="4892760"/>
          </a:xfrm>
        </p:grpSpPr>
        <p:sp>
          <p:nvSpPr>
            <p:cNvPr id="324" name=""/>
            <p:cNvSpPr/>
            <p:nvPr/>
          </p:nvSpPr>
          <p:spPr>
            <a:xfrm>
              <a:off x="2181240" y="2055960"/>
              <a:ext cx="4573440" cy="2903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8680" y="4165560"/>
              <a:ext cx="269640" cy="158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3280" y="1143000"/>
              <a:ext cx="1833480" cy="423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Domino Server + Knowled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36680" y="1387440"/>
              <a:ext cx="753480" cy="1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http dem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20200" y="1442880"/>
              <a:ext cx="120240" cy="748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41600" y="1424160"/>
              <a:ext cx="120240" cy="759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04880" y="1320840"/>
              <a:ext cx="119880" cy="763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64440" y="1481040"/>
              <a:ext cx="120240" cy="763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00000" y="1300320"/>
              <a:ext cx="429480" cy="12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DB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49120" y="1440000"/>
              <a:ext cx="120240" cy="745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66400" y="1379520"/>
              <a:ext cx="145080" cy="14940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93960" y="1725480"/>
              <a:ext cx="618120" cy="220680"/>
            </a:xfrm>
            <a:prstGeom prst="can">
              <a:avLst>
                <a:gd name="adj" fmla="val 332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Ontolo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91600" y="1366920"/>
              <a:ext cx="433800" cy="3538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90200" y="1366920"/>
              <a:ext cx="619920" cy="3538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12200" y="1353960"/>
              <a:ext cx="568440" cy="37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WW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eng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18200" y="2281320"/>
              <a:ext cx="72072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Domino 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06600" y="2286000"/>
              <a:ext cx="678600" cy="2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Ontolo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59800" y="2282760"/>
              <a:ext cx="789840" cy="2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DB 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97160" y="2289240"/>
              <a:ext cx="725400" cy="22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XML-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07520" y="1601640"/>
              <a:ext cx="122760" cy="695520"/>
            </a:xfrm>
            <a:prstGeom prst="upDownArrow">
              <a:avLst>
                <a:gd name="adj1" fmla="val 50000"/>
                <a:gd name="adj2" fmla="val 1127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73960" y="1979640"/>
              <a:ext cx="82080" cy="299880"/>
            </a:xfrm>
            <a:prstGeom prst="upDownArrow">
              <a:avLst>
                <a:gd name="adj1" fmla="val 50000"/>
                <a:gd name="adj2" fmla="val 7273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23640" y="1746360"/>
              <a:ext cx="108360" cy="555480"/>
            </a:xfrm>
            <a:prstGeom prst="upDownArrow">
              <a:avLst>
                <a:gd name="adj1" fmla="val 50000"/>
                <a:gd name="adj2" fmla="val 1020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55520" y="1752480"/>
              <a:ext cx="109800" cy="555840"/>
            </a:xfrm>
            <a:prstGeom prst="upDownArrow">
              <a:avLst>
                <a:gd name="adj1" fmla="val 50000"/>
                <a:gd name="adj2" fmla="val 100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69440" y="2271600"/>
              <a:ext cx="637560" cy="23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WWW 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00000" y="1730520"/>
              <a:ext cx="108360" cy="554040"/>
            </a:xfrm>
            <a:prstGeom prst="upDownArrow">
              <a:avLst>
                <a:gd name="adj1" fmla="val 50000"/>
                <a:gd name="adj2" fmla="val 1017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66760" y="1539720"/>
              <a:ext cx="89280" cy="163800"/>
            </a:xfrm>
            <a:prstGeom prst="upDownArrow">
              <a:avLst>
                <a:gd name="adj1" fmla="val 50000"/>
                <a:gd name="adj2" fmla="val 36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36720" y="2841480"/>
              <a:ext cx="893880" cy="33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ont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53440" y="2509920"/>
              <a:ext cx="80640" cy="301680"/>
            </a:xfrm>
            <a:prstGeom prst="upDownArrow">
              <a:avLst>
                <a:gd name="adj1" fmla="val 50000"/>
                <a:gd name="adj2" fmla="val 744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34960" y="3462480"/>
              <a:ext cx="831240" cy="54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59520" y="2541600"/>
              <a:ext cx="499320" cy="1039680"/>
            </a:xfrm>
            <a:custGeom>
              <a:avLst/>
              <a:gdLst/>
              <a:ahLst/>
              <a:rect l="l" t="t" r="r" b="b"/>
              <a:pathLst>
                <a:path w="708" h="2736">
                  <a:moveTo>
                    <a:pt x="0" y="2712"/>
                  </a:moveTo>
                  <a:lnTo>
                    <a:pt x="708" y="2736"/>
                  </a:lnTo>
                  <a:lnTo>
                    <a:pt x="70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67080" y="2563920"/>
              <a:ext cx="1059480" cy="1093680"/>
            </a:xfrm>
            <a:custGeom>
              <a:avLst/>
              <a:gdLst/>
              <a:ahLst/>
              <a:rect l="l" t="t" r="r" b="b"/>
              <a:pathLst>
                <a:path w="1836" h="2892">
                  <a:moveTo>
                    <a:pt x="0" y="2892"/>
                  </a:moveTo>
                  <a:lnTo>
                    <a:pt x="1836" y="2880"/>
                  </a:lnTo>
                  <a:lnTo>
                    <a:pt x="183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67080" y="2573280"/>
              <a:ext cx="1857240" cy="1157400"/>
            </a:xfrm>
            <a:custGeom>
              <a:avLst/>
              <a:gdLst/>
              <a:ahLst/>
              <a:rect l="l" t="t" r="r" b="b"/>
              <a:pathLst>
                <a:path w="1836" h="2892">
                  <a:moveTo>
                    <a:pt x="0" y="2892"/>
                  </a:moveTo>
                  <a:lnTo>
                    <a:pt x="1836" y="2880"/>
                  </a:lnTo>
                  <a:lnTo>
                    <a:pt x="183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14760" y="2550960"/>
              <a:ext cx="457200" cy="1033560"/>
            </a:xfrm>
            <a:custGeom>
              <a:avLst/>
              <a:gdLst/>
              <a:ahLst/>
              <a:rect l="l" t="t" r="r" b="b"/>
              <a:pathLst>
                <a:path w="792" h="2736">
                  <a:moveTo>
                    <a:pt x="792" y="2736"/>
                  </a:moveTo>
                  <a:lnTo>
                    <a:pt x="0" y="2724"/>
                  </a:lnTo>
                  <a:lnTo>
                    <a:pt x="1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0920" y="3164040"/>
              <a:ext cx="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76040" y="3867120"/>
              <a:ext cx="39420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38120" y="4029120"/>
              <a:ext cx="39456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16200" y="4302000"/>
              <a:ext cx="394200" cy="12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86760" y="3798720"/>
              <a:ext cx="8308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search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retriev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special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g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49720" y="3903840"/>
              <a:ext cx="483480" cy="2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21640" y="3943440"/>
              <a:ext cx="78984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45680" y="3979800"/>
              <a:ext cx="136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69320" y="4587840"/>
              <a:ext cx="8312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UI / Appl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65640" y="4016520"/>
              <a:ext cx="7200" cy="46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96520" y="5308560"/>
              <a:ext cx="740160" cy="64440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ppl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08600" y="5164200"/>
              <a:ext cx="1600920" cy="85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96160" y="5218200"/>
              <a:ext cx="5965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WW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bro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02360" y="5730840"/>
              <a:ext cx="26928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88160" y="5364000"/>
              <a:ext cx="740160" cy="644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appl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07800" y="5178600"/>
              <a:ext cx="1600560" cy="85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88160" y="5273640"/>
              <a:ext cx="5965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WW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bro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20200" y="1666800"/>
              <a:ext cx="0" cy="33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082320" y="4941720"/>
              <a:ext cx="1652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44760" y="4924440"/>
              <a:ext cx="15800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74280" y="4619520"/>
              <a:ext cx="1440720" cy="25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KnowMore Agent Platfo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63400" y="-3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 model -&gt; Agent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27960" y="609480"/>
            <a:ext cx="0" cy="5791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322600" y="4579920"/>
            <a:ext cx="1666800" cy="1282320"/>
            <a:chOff x="5322600" y="4579920"/>
            <a:chExt cx="1666800" cy="1282320"/>
          </a:xfrm>
        </p:grpSpPr>
        <p:grpSp>
          <p:nvGrpSpPr>
            <p:cNvPr id="381" name=""/>
            <p:cNvGrpSpPr/>
            <p:nvPr/>
          </p:nvGrpSpPr>
          <p:grpSpPr>
            <a:xfrm>
              <a:off x="5322600" y="4876920"/>
              <a:ext cx="1666800" cy="804240"/>
              <a:chOff x="5322600" y="4876920"/>
              <a:chExt cx="1666800" cy="804240"/>
            </a:xfrm>
          </p:grpSpPr>
          <p:sp>
            <p:nvSpPr>
              <p:cNvPr id="382" name=""/>
              <p:cNvSpPr/>
              <p:nvPr/>
            </p:nvSpPr>
            <p:spPr>
              <a:xfrm>
                <a:off x="5322600" y="5222160"/>
                <a:ext cx="680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emi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ructure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487120" y="4876920"/>
                <a:ext cx="318240" cy="3006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94280" y="5222160"/>
                <a:ext cx="45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178320" y="4945680"/>
                <a:ext cx="369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909760" y="4876920"/>
                <a:ext cx="316800" cy="3006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543720" y="4876920"/>
                <a:ext cx="318240" cy="3006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520680" y="5222160"/>
                <a:ext cx="46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W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557680" y="5014800"/>
                <a:ext cx="140400" cy="137880"/>
              </a:xfrm>
              <a:prstGeom prst="verticalScroll">
                <a:avLst>
                  <a:gd name="adj" fmla="val 125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614280" y="4945680"/>
                <a:ext cx="210960" cy="207000"/>
              </a:xfrm>
              <a:prstGeom prst="irregularSeal1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6224040" y="4579920"/>
              <a:ext cx="6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trieve &amp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re inf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53440" y="5646600"/>
              <a:ext cx="82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769000" y="2819520"/>
            <a:ext cx="1477440" cy="1371600"/>
            <a:chOff x="5769000" y="2819520"/>
            <a:chExt cx="1477440" cy="1371600"/>
          </a:xfrm>
        </p:grpSpPr>
        <p:sp>
          <p:nvSpPr>
            <p:cNvPr id="394" name=""/>
            <p:cNvSpPr/>
            <p:nvPr/>
          </p:nvSpPr>
          <p:spPr>
            <a:xfrm>
              <a:off x="5769000" y="3252960"/>
              <a:ext cx="882360" cy="938160"/>
            </a:xfrm>
            <a:prstGeom prst="smileyFace">
              <a:avLst>
                <a:gd name="adj" fmla="val 380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5080" y="2819520"/>
              <a:ext cx="621360" cy="609480"/>
            </a:xfrm>
            <a:prstGeom prst="cloudCallout">
              <a:avLst>
                <a:gd name="adj1" fmla="val -64949"/>
                <a:gd name="adj2" fmla="val 3099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6654240" y="2924280"/>
              <a:ext cx="534240" cy="423720"/>
              <a:chOff x="6654240" y="2924280"/>
              <a:chExt cx="534240" cy="423720"/>
            </a:xfrm>
          </p:grpSpPr>
          <p:sp>
            <p:nvSpPr>
              <p:cNvPr id="397" name=""/>
              <p:cNvSpPr/>
              <p:nvPr/>
            </p:nvSpPr>
            <p:spPr>
              <a:xfrm>
                <a:off x="6921000" y="2924280"/>
                <a:ext cx="224280" cy="1033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21000" y="3057480"/>
                <a:ext cx="224280" cy="889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05160" y="3176640"/>
                <a:ext cx="225720" cy="889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736320" y="2998800"/>
                <a:ext cx="63000" cy="288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654240" y="3087720"/>
                <a:ext cx="64800" cy="302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727680" y="3146400"/>
                <a:ext cx="64440" cy="302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83760" y="3235320"/>
                <a:ext cx="64440" cy="302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04" name=""/>
              <p:cNvCxnSpPr>
                <a:stCxn id="401" idx="5"/>
                <a:endCxn id="402" idx="1"/>
              </p:cNvCxnSpPr>
              <p:nvPr/>
            </p:nvCxnSpPr>
            <p:spPr>
              <a:xfrm>
                <a:off x="6710040" y="3111120"/>
                <a:ext cx="26640" cy="40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>
                <a:stCxn id="403" idx="0"/>
                <a:endCxn id="402" idx="4"/>
              </p:cNvCxnSpPr>
              <p:nvPr/>
            </p:nvCxnSpPr>
            <p:spPr>
              <a:xfrm flipV="1">
                <a:off x="6715440" y="3175920"/>
                <a:ext cx="45720" cy="59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6" name=""/>
              <p:cNvCxnSpPr>
                <a:stCxn id="397" idx="2"/>
                <a:endCxn id="400" idx="6"/>
              </p:cNvCxnSpPr>
              <p:nvPr/>
            </p:nvCxnSpPr>
            <p:spPr>
              <a:xfrm flipH="1">
                <a:off x="6798600" y="2975040"/>
                <a:ext cx="122040" cy="38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7" name=""/>
              <p:cNvCxnSpPr>
                <a:stCxn id="397" idx="3"/>
                <a:endCxn id="402" idx="7"/>
              </p:cNvCxnSpPr>
              <p:nvPr/>
            </p:nvCxnSpPr>
            <p:spPr>
              <a:xfrm flipH="1">
                <a:off x="6783120" y="3011760"/>
                <a:ext cx="17136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8" name=""/>
              <p:cNvCxnSpPr>
                <a:stCxn id="398" idx="2"/>
                <a:endCxn id="402" idx="6"/>
              </p:cNvCxnSpPr>
              <p:nvPr/>
            </p:nvCxnSpPr>
            <p:spPr>
              <a:xfrm flipH="1">
                <a:off x="6792120" y="3102120"/>
                <a:ext cx="129240" cy="61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9" name=""/>
              <p:cNvCxnSpPr>
                <a:stCxn id="399" idx="2"/>
                <a:endCxn id="402" idx="5"/>
              </p:cNvCxnSpPr>
              <p:nvPr/>
            </p:nvCxnSpPr>
            <p:spPr>
              <a:xfrm flipH="1" flipV="1">
                <a:off x="6782760" y="3171240"/>
                <a:ext cx="122040" cy="51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0" name=""/>
              <p:cNvSpPr/>
              <p:nvPr/>
            </p:nvSpPr>
            <p:spPr>
              <a:xfrm>
                <a:off x="6785280" y="3162600"/>
                <a:ext cx="403200" cy="18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I’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492120" y="988920"/>
            <a:ext cx="3800160" cy="4869000"/>
            <a:chOff x="492120" y="988920"/>
            <a:chExt cx="3800160" cy="4869000"/>
          </a:xfrm>
        </p:grpSpPr>
        <p:grpSp>
          <p:nvGrpSpPr>
            <p:cNvPr id="412" name=""/>
            <p:cNvGrpSpPr/>
            <p:nvPr/>
          </p:nvGrpSpPr>
          <p:grpSpPr>
            <a:xfrm>
              <a:off x="545040" y="4479840"/>
              <a:ext cx="2346480" cy="1378080"/>
              <a:chOff x="545040" y="4479840"/>
              <a:chExt cx="2346480" cy="1378080"/>
            </a:xfrm>
          </p:grpSpPr>
          <p:sp>
            <p:nvSpPr>
              <p:cNvPr id="413" name=""/>
              <p:cNvSpPr/>
              <p:nvPr/>
            </p:nvSpPr>
            <p:spPr>
              <a:xfrm>
                <a:off x="630000" y="4479840"/>
                <a:ext cx="2184120" cy="1336320"/>
              </a:xfrm>
              <a:prstGeom prst="flowChartMagneticDisk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23240" y="4776840"/>
                <a:ext cx="278640" cy="59364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45040" y="5371920"/>
                <a:ext cx="680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emi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ructure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3200" y="5445000"/>
                <a:ext cx="76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Contacts to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eop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378800" y="5520600"/>
                <a:ext cx="45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567080" y="5520600"/>
                <a:ext cx="680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form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31400" y="5370480"/>
                <a:ext cx="694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l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uss. Proc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stanc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095120" y="4850640"/>
                <a:ext cx="278640" cy="5940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21800" y="5370480"/>
                <a:ext cx="369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66640" y="4925160"/>
                <a:ext cx="278640" cy="59364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792080" y="4925160"/>
                <a:ext cx="278640" cy="59364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117520" y="4850640"/>
                <a:ext cx="278640" cy="5940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489400" y="4776840"/>
                <a:ext cx="278640" cy="59364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15400" y="3290760"/>
              <a:ext cx="186120" cy="222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48720" y="2103480"/>
              <a:ext cx="648720" cy="5191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nterpri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48720" y="2771640"/>
              <a:ext cx="650880" cy="444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05160" y="3365640"/>
              <a:ext cx="650880" cy="446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15200" y="2473200"/>
              <a:ext cx="184320" cy="149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76520" y="2919240"/>
              <a:ext cx="184320" cy="149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90000" y="3216240"/>
              <a:ext cx="186120" cy="149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61480" y="3662280"/>
              <a:ext cx="186480" cy="149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4" name=""/>
            <p:cNvCxnSpPr>
              <a:stCxn id="431" idx="5"/>
              <a:endCxn id="432" idx="1"/>
            </p:cNvCxnSpPr>
            <p:nvPr/>
          </p:nvCxnSpPr>
          <p:spPr>
            <a:xfrm>
              <a:off x="2735640" y="3046320"/>
              <a:ext cx="82080" cy="19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5" name=""/>
            <p:cNvCxnSpPr>
              <a:stCxn id="433" idx="0"/>
              <a:endCxn id="432" idx="4"/>
            </p:cNvCxnSpPr>
            <p:nvPr/>
          </p:nvCxnSpPr>
          <p:spPr>
            <a:xfrm flipV="1">
              <a:off x="2755800" y="3365280"/>
              <a:ext cx="128880" cy="29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6" name=""/>
            <p:cNvCxnSpPr>
              <a:stCxn id="427" idx="2"/>
              <a:endCxn id="430" idx="6"/>
            </p:cNvCxnSpPr>
            <p:nvPr/>
          </p:nvCxnSpPr>
          <p:spPr>
            <a:xfrm flipH="1">
              <a:off x="2998800" y="2362320"/>
              <a:ext cx="3495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7" name=""/>
            <p:cNvCxnSpPr>
              <a:stCxn id="427" idx="3"/>
              <a:endCxn id="432" idx="7"/>
            </p:cNvCxnSpPr>
            <p:nvPr/>
          </p:nvCxnSpPr>
          <p:spPr>
            <a:xfrm flipH="1">
              <a:off x="2948760" y="2545920"/>
              <a:ext cx="493920" cy="69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8" name=""/>
            <p:cNvCxnSpPr>
              <a:stCxn id="428" idx="2"/>
              <a:endCxn id="432" idx="6"/>
            </p:cNvCxnSpPr>
            <p:nvPr/>
          </p:nvCxnSpPr>
          <p:spPr>
            <a:xfrm flipH="1">
              <a:off x="2975760" y="2994120"/>
              <a:ext cx="372960" cy="29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9" name=""/>
            <p:cNvCxnSpPr>
              <a:stCxn id="429" idx="2"/>
              <a:endCxn id="432" idx="5"/>
            </p:cNvCxnSpPr>
            <p:nvPr/>
          </p:nvCxnSpPr>
          <p:spPr>
            <a:xfrm flipH="1" flipV="1">
              <a:off x="2948760" y="3342960"/>
              <a:ext cx="356400" cy="24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0" name=""/>
            <p:cNvSpPr/>
            <p:nvPr/>
          </p:nvSpPr>
          <p:spPr>
            <a:xfrm>
              <a:off x="2898360" y="269712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26520" y="312912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50840" y="3513240"/>
              <a:ext cx="695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amp; a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2918520" y="3959280"/>
              <a:ext cx="949680" cy="296640"/>
              <a:chOff x="2918520" y="3959280"/>
              <a:chExt cx="949680" cy="296640"/>
            </a:xfrm>
          </p:grpSpPr>
          <p:sp>
            <p:nvSpPr>
              <p:cNvPr id="444" name=""/>
              <p:cNvSpPr/>
              <p:nvPr/>
            </p:nvSpPr>
            <p:spPr>
              <a:xfrm>
                <a:off x="2918520" y="3959280"/>
                <a:ext cx="651240" cy="2966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930040" y="4003920"/>
                <a:ext cx="938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rg.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now.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em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1327320" y="2919240"/>
              <a:ext cx="929160" cy="1262160"/>
            </a:xfrm>
            <a:prstGeom prst="sun">
              <a:avLst>
                <a:gd name="adj" fmla="val 125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62560" y="2548080"/>
              <a:ext cx="93600" cy="2004840"/>
            </a:xfrm>
            <a:prstGeom prst="upDownArrow">
              <a:avLst>
                <a:gd name="adj1" fmla="val 50000"/>
                <a:gd name="adj2" fmla="val 426401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1134000" y="4157280"/>
              <a:ext cx="1317240" cy="767160"/>
              <a:chOff x="1134000" y="4157280"/>
              <a:chExt cx="1317240" cy="767160"/>
            </a:xfrm>
          </p:grpSpPr>
          <p:sp>
            <p:nvSpPr>
              <p:cNvPr id="449" name=""/>
              <p:cNvSpPr/>
              <p:nvPr/>
            </p:nvSpPr>
            <p:spPr>
              <a:xfrm rot="16200000">
                <a:off x="1474920" y="4497840"/>
                <a:ext cx="743040" cy="110160"/>
              </a:xfrm>
              <a:prstGeom prst="rightArrow">
                <a:avLst>
                  <a:gd name="adj1" fmla="val 38463"/>
                  <a:gd name="adj2" fmla="val 168627"/>
                </a:avLst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9000200">
                <a:off x="1095840" y="4330440"/>
                <a:ext cx="462600" cy="73080"/>
              </a:xfrm>
              <a:prstGeom prst="rightArrow">
                <a:avLst>
                  <a:gd name="adj1" fmla="val 38463"/>
                  <a:gd name="adj2" fmla="val 158251"/>
                </a:avLst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8209400">
                <a:off x="1209960" y="4456440"/>
                <a:ext cx="743040" cy="46440"/>
              </a:xfrm>
              <a:prstGeom prst="rightArrow">
                <a:avLst>
                  <a:gd name="adj1" fmla="val 38463"/>
                  <a:gd name="adj2" fmla="val 400000"/>
                </a:avLst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rot="2599800">
                <a:off x="1882800" y="4404960"/>
                <a:ext cx="466200" cy="73080"/>
              </a:xfrm>
              <a:prstGeom prst="rightArrow">
                <a:avLst>
                  <a:gd name="adj1" fmla="val 38463"/>
                  <a:gd name="adj2" fmla="val 159483"/>
                </a:avLst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 rot="2599800">
                <a:off x="2024640" y="4330440"/>
                <a:ext cx="464760" cy="73080"/>
              </a:xfrm>
              <a:prstGeom prst="rightArrow">
                <a:avLst>
                  <a:gd name="adj1" fmla="val 38463"/>
                  <a:gd name="adj2" fmla="val 158990"/>
                </a:avLst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 flipV="1" rot="21589800">
              <a:off x="1001520" y="3326400"/>
              <a:ext cx="417600" cy="149040"/>
            </a:xfrm>
            <a:prstGeom prst="rightArrow">
              <a:avLst>
                <a:gd name="adj1" fmla="val 38463"/>
                <a:gd name="adj2" fmla="val 70048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815400" y="3290760"/>
              <a:ext cx="186120" cy="222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90120" y="1582560"/>
              <a:ext cx="1802160" cy="3044880"/>
            </a:xfrm>
            <a:prstGeom prst="cloudCallout">
              <a:avLst>
                <a:gd name="adj1" fmla="val -65962"/>
                <a:gd name="adj2" fmla="val 147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232720" y="3290760"/>
              <a:ext cx="556920" cy="22248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2232720" y="3587400"/>
              <a:ext cx="471600" cy="74520"/>
            </a:xfrm>
            <a:prstGeom prst="line">
              <a:avLst/>
            </a:prstGeom>
            <a:ln w="2844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44680" y="5576760"/>
              <a:ext cx="68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wwt 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492120" y="988920"/>
              <a:ext cx="1998000" cy="1551600"/>
              <a:chOff x="492120" y="988920"/>
              <a:chExt cx="1998000" cy="1551600"/>
            </a:xfrm>
          </p:grpSpPr>
          <p:sp>
            <p:nvSpPr>
              <p:cNvPr id="461" name=""/>
              <p:cNvSpPr/>
              <p:nvPr/>
            </p:nvSpPr>
            <p:spPr>
              <a:xfrm>
                <a:off x="492120" y="988920"/>
                <a:ext cx="1998000" cy="1484280"/>
              </a:xfrm>
              <a:custGeom>
                <a:avLst/>
                <a:gdLst>
                  <a:gd name="textAreaLeft" fmla="*/ 0 w 1998000"/>
                  <a:gd name="textAreaRight" fmla="*/ 1998360 w 1998000"/>
                  <a:gd name="textAreaTop" fmla="*/ 0 h 1484280"/>
                  <a:gd name="textAreaBottom" fmla="*/ 1484640 h 148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1560240" y="1508040"/>
                <a:ext cx="743400" cy="222480"/>
                <a:chOff x="1560240" y="1508040"/>
                <a:chExt cx="743400" cy="2224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560240" y="150804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792800" y="150804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025000" y="150804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1327680" y="2102400"/>
                <a:ext cx="743400" cy="222480"/>
                <a:chOff x="1327680" y="2102400"/>
                <a:chExt cx="743400" cy="2224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1327680" y="210240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560240" y="210240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792440" y="210240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1096200" y="1137240"/>
                <a:ext cx="742320" cy="222480"/>
                <a:chOff x="1096200" y="1137240"/>
                <a:chExt cx="742320" cy="22248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1096200" y="1137240"/>
                  <a:ext cx="278280" cy="222480"/>
                </a:xfrm>
                <a:custGeom>
                  <a:avLst/>
                  <a:gdLst>
                    <a:gd name="textAreaLeft" fmla="*/ 0 w 278280"/>
                    <a:gd name="textAreaRight" fmla="*/ 278640 w 27828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328400" y="1137240"/>
                  <a:ext cx="278280" cy="222480"/>
                </a:xfrm>
                <a:custGeom>
                  <a:avLst/>
                  <a:gdLst>
                    <a:gd name="textAreaLeft" fmla="*/ 0 w 278280"/>
                    <a:gd name="textAreaRight" fmla="*/ 278640 w 27828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560240" y="1137240"/>
                  <a:ext cx="278280" cy="222480"/>
                </a:xfrm>
                <a:custGeom>
                  <a:avLst/>
                  <a:gdLst>
                    <a:gd name="textAreaLeft" fmla="*/ 0 w 278280"/>
                    <a:gd name="textAreaRight" fmla="*/ 278640 w 27828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860400" y="1656720"/>
                <a:ext cx="742320" cy="222480"/>
                <a:chOff x="860400" y="1656720"/>
                <a:chExt cx="742320" cy="2224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860400" y="1656720"/>
                  <a:ext cx="278280" cy="222480"/>
                </a:xfrm>
                <a:custGeom>
                  <a:avLst/>
                  <a:gdLst>
                    <a:gd name="textAreaLeft" fmla="*/ 0 w 278280"/>
                    <a:gd name="textAreaRight" fmla="*/ 278640 w 27828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092600" y="1656720"/>
                  <a:ext cx="278280" cy="222480"/>
                </a:xfrm>
                <a:custGeom>
                  <a:avLst/>
                  <a:gdLst>
                    <a:gd name="textAreaLeft" fmla="*/ 0 w 278280"/>
                    <a:gd name="textAreaRight" fmla="*/ 278640 w 27828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324440" y="1656720"/>
                  <a:ext cx="278280" cy="222480"/>
                </a:xfrm>
                <a:custGeom>
                  <a:avLst/>
                  <a:gdLst>
                    <a:gd name="textAreaLeft" fmla="*/ 0 w 278280"/>
                    <a:gd name="textAreaRight" fmla="*/ 278640 w 27828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99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1374480" y="2027880"/>
                <a:ext cx="743040" cy="222480"/>
                <a:chOff x="1374480" y="2027880"/>
                <a:chExt cx="743040" cy="2224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1374480" y="202788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606680" y="202788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838880" y="202788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66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824040" y="990000"/>
                <a:ext cx="1055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anage Proces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49960" y="1443240"/>
                <a:ext cx="1175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duction Proces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943560" y="2324880"/>
                <a:ext cx="1177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acilitation Proces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409760" y="1212840"/>
                <a:ext cx="889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nowledge Int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ork”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804320" y="1434240"/>
                <a:ext cx="171360" cy="222480"/>
              </a:xfrm>
              <a:prstGeom prst="smileyFace">
                <a:avLst>
                  <a:gd name="adj" fmla="val 9282"/>
                </a:avLst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589760" y="1062720"/>
                <a:ext cx="171360" cy="222480"/>
              </a:xfrm>
              <a:prstGeom prst="smileyFace">
                <a:avLst>
                  <a:gd name="adj" fmla="val 9282"/>
                </a:avLst>
              </a:prstGeom>
              <a:solidFill>
                <a:srgbClr val="ff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90360" y="1953720"/>
                <a:ext cx="171360" cy="222480"/>
              </a:xfrm>
              <a:prstGeom prst="smileyFace">
                <a:avLst>
                  <a:gd name="adj" fmla="val 9282"/>
                </a:avLst>
              </a:prstGeom>
              <a:solidFill>
                <a:srgbClr val="6666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117800" y="1730880"/>
                <a:ext cx="171360" cy="222480"/>
              </a:xfrm>
              <a:prstGeom prst="smileyFace">
                <a:avLst>
                  <a:gd name="adj" fmla="val 9282"/>
                </a:avLst>
              </a:prstGeom>
              <a:solidFill>
                <a:srgbClr val="9966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5200" y="1730880"/>
                <a:ext cx="171360" cy="222480"/>
              </a:xfrm>
              <a:prstGeom prst="smileyFace">
                <a:avLst>
                  <a:gd name="adj" fmla="val 9282"/>
                </a:avLst>
              </a:prstGeom>
              <a:solidFill>
                <a:srgbClr val="9966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1653120" y="1582560"/>
                <a:ext cx="743400" cy="222480"/>
                <a:chOff x="1653120" y="1582560"/>
                <a:chExt cx="743400" cy="22248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653120" y="158256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885680" y="158256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117880" y="1582560"/>
                  <a:ext cx="278640" cy="22248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2147760" y="1508040"/>
                <a:ext cx="171360" cy="222480"/>
              </a:xfrm>
              <a:prstGeom prst="smileyFace">
                <a:avLst>
                  <a:gd name="adj" fmla="val 9282"/>
                </a:avLst>
              </a:prstGeom>
              <a:solidFill>
                <a:srgbClr val="33cc33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 rot="5410200">
              <a:off x="1596240" y="2687400"/>
              <a:ext cx="668160" cy="93960"/>
            </a:xfrm>
            <a:prstGeom prst="rightArrow">
              <a:avLst>
                <a:gd name="adj1" fmla="val 38463"/>
                <a:gd name="adj2" fmla="val 177778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 rot="16189800">
              <a:off x="1069200" y="2315160"/>
              <a:ext cx="1258920" cy="92160"/>
            </a:xfrm>
            <a:prstGeom prst="rightArrow">
              <a:avLst>
                <a:gd name="adj1" fmla="val 38463"/>
                <a:gd name="adj2" fmla="val 34150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256720" y="1828800"/>
            <a:ext cx="1497600" cy="2971800"/>
            <a:chOff x="5256720" y="1828800"/>
            <a:chExt cx="1497600" cy="2971800"/>
          </a:xfrm>
        </p:grpSpPr>
        <p:sp>
          <p:nvSpPr>
            <p:cNvPr id="499" name=""/>
            <p:cNvSpPr/>
            <p:nvPr/>
          </p:nvSpPr>
          <p:spPr>
            <a:xfrm>
              <a:off x="5417280" y="24382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17280" y="4191120"/>
              <a:ext cx="210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17280" y="4191120"/>
              <a:ext cx="633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69360" y="1981080"/>
              <a:ext cx="96480" cy="1467000"/>
            </a:xfrm>
            <a:custGeom>
              <a:avLst/>
              <a:gdLst/>
              <a:ahLst/>
              <a:rect l="l" t="t" r="r" b="b"/>
              <a:pathLst>
                <a:path w="108" h="1278">
                  <a:moveTo>
                    <a:pt x="18" y="0"/>
                  </a:moveTo>
                  <a:lnTo>
                    <a:pt x="0" y="1200"/>
                  </a:lnTo>
                  <a:lnTo>
                    <a:pt x="108" y="12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87840" y="3733920"/>
              <a:ext cx="28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09480" y="25225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ract wi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50400" y="2751120"/>
              <a:ext cx="62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se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ser 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56720" y="3733920"/>
              <a:ext cx="577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se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and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91640" y="4267080"/>
              <a:ext cx="49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21080" y="4267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5698440" y="4267080"/>
              <a:ext cx="351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332400" y="1828800"/>
              <a:ext cx="4219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80680" y="2209680"/>
              <a:ext cx="87480" cy="1143000"/>
            </a:xfrm>
            <a:custGeom>
              <a:avLst/>
              <a:gdLst/>
              <a:ahLst/>
              <a:rect l="l" t="t" r="r" b="b"/>
              <a:pathLst>
                <a:path w="108" h="1278">
                  <a:moveTo>
                    <a:pt x="18" y="0"/>
                  </a:moveTo>
                  <a:lnTo>
                    <a:pt x="0" y="1200"/>
                  </a:lnTo>
                  <a:lnTo>
                    <a:pt x="108" y="12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21080" y="1828800"/>
              <a:ext cx="70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068800" y="1066320"/>
            <a:ext cx="2107440" cy="1371960"/>
            <a:chOff x="5068800" y="1066320"/>
            <a:chExt cx="2107440" cy="1371960"/>
          </a:xfrm>
        </p:grpSpPr>
        <p:sp>
          <p:nvSpPr>
            <p:cNvPr id="514" name=""/>
            <p:cNvSpPr/>
            <p:nvPr/>
          </p:nvSpPr>
          <p:spPr>
            <a:xfrm flipV="1">
              <a:off x="5629320" y="1752120"/>
              <a:ext cx="351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79520" y="1150920"/>
              <a:ext cx="46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64440" y="1066320"/>
              <a:ext cx="81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neric vi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68800" y="1066680"/>
              <a:ext cx="7887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assical”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o Retrieve,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re &amp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nage+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llabor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48160" y="2057400"/>
              <a:ext cx="421920" cy="3808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77600" y="1981080"/>
              <a:ext cx="421920" cy="3812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6684120" y="1371600"/>
              <a:ext cx="492120" cy="762120"/>
              <a:chOff x="6684120" y="1371600"/>
              <a:chExt cx="492120" cy="76212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6684120" y="1524240"/>
                <a:ext cx="351360" cy="609480"/>
                <a:chOff x="6684120" y="1524240"/>
                <a:chExt cx="351360" cy="60948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6684120" y="1524240"/>
                  <a:ext cx="351360" cy="304560"/>
                </a:xfrm>
                <a:prstGeom prst="smileyFace">
                  <a:avLst>
                    <a:gd name="adj" fmla="val 928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824520" y="18288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>
                  <a:off x="6754320" y="2057400"/>
                  <a:ext cx="6984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824520" y="2057400"/>
                  <a:ext cx="702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84120" y="1905120"/>
                  <a:ext cx="28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6965280" y="1371600"/>
                <a:ext cx="210960" cy="15264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flipV="1">
              <a:off x="5770080" y="1752480"/>
              <a:ext cx="914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5981040" y="1371600"/>
              <a:ext cx="491760" cy="762120"/>
              <a:chOff x="5981040" y="1371600"/>
              <a:chExt cx="491760" cy="76212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5981040" y="1524240"/>
                <a:ext cx="351000" cy="609480"/>
                <a:chOff x="5981040" y="1524240"/>
                <a:chExt cx="351000" cy="60948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5981040" y="1524240"/>
                  <a:ext cx="351000" cy="30456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121080" y="18288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6051240" y="2057400"/>
                  <a:ext cx="6984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121080" y="2057400"/>
                  <a:ext cx="702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981040" y="1905120"/>
                  <a:ext cx="28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6262200" y="1371600"/>
                <a:ext cx="210600" cy="15264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6273000" y="1539000"/>
              <a:ext cx="29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2884320" y="1523880"/>
            <a:ext cx="2181240" cy="304920"/>
          </a:xfrm>
          <a:custGeom>
            <a:avLst/>
            <a:gdLst>
              <a:gd name="textAreaLeft" fmla="*/ 340560 w 2181240"/>
              <a:gd name="textAreaRight" fmla="*/ 1908720 w 21812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33680" y="3352680"/>
            <a:ext cx="3095640" cy="304920"/>
          </a:xfrm>
          <a:custGeom>
            <a:avLst/>
            <a:gdLst>
              <a:gd name="textAreaLeft" fmla="*/ 483480 w 3095640"/>
              <a:gd name="textAreaRight" fmla="*/ 2709000 w 30956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55960" y="4876920"/>
            <a:ext cx="2251080" cy="304560"/>
          </a:xfrm>
          <a:custGeom>
            <a:avLst/>
            <a:gdLst>
              <a:gd name="textAreaLeft" fmla="*/ 351720 w 2251080"/>
              <a:gd name="textAreaRight" fmla="*/ 1969920 w 2251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56680" y="6400800"/>
            <a:ext cx="6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wt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26000" y="6408720"/>
            <a:ext cx="124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-Agent modeled V0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2280" y="2209680"/>
            <a:ext cx="8372520" cy="17528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35680" y="3886200"/>
            <a:ext cx="71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bservor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000280" y="9144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44840" y="2455920"/>
            <a:ext cx="86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grations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884000" y="4573440"/>
            <a:ext cx="70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603520" y="5562720"/>
            <a:ext cx="2392200" cy="685800"/>
            <a:chOff x="2603520" y="5562720"/>
            <a:chExt cx="2392200" cy="685800"/>
          </a:xfrm>
        </p:grpSpPr>
        <p:sp>
          <p:nvSpPr>
            <p:cNvPr id="549" name=""/>
            <p:cNvSpPr/>
            <p:nvPr/>
          </p:nvSpPr>
          <p:spPr>
            <a:xfrm>
              <a:off x="2673720" y="5638680"/>
              <a:ext cx="281520" cy="22860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673720" y="5867280"/>
              <a:ext cx="401400" cy="293760"/>
              <a:chOff x="2673720" y="5867280"/>
              <a:chExt cx="401400" cy="293760"/>
            </a:xfrm>
          </p:grpSpPr>
          <p:sp>
            <p:nvSpPr>
              <p:cNvPr id="551" name=""/>
              <p:cNvSpPr/>
              <p:nvPr/>
            </p:nvSpPr>
            <p:spPr>
              <a:xfrm>
                <a:off x="2673720" y="5932440"/>
                <a:ext cx="280800" cy="22860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914560" y="5867280"/>
                <a:ext cx="160560" cy="9792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3045600" y="5646600"/>
              <a:ext cx="99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umb agent (tool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11760" y="5951520"/>
              <a:ext cx="193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nowledgeable Agent (Intelligent Tool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603520" y="5562720"/>
              <a:ext cx="2392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4727520" y="1325520"/>
            <a:ext cx="2673360" cy="3581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c0c0"/>
                </a:solidFill>
                <a:latin typeface="Arial"/>
              </a:rPr>
              <a:t>K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5641920" y="2468520"/>
            <a:ext cx="1477800" cy="1371600"/>
            <a:chOff x="5641920" y="2468520"/>
            <a:chExt cx="1477800" cy="1371600"/>
          </a:xfrm>
        </p:grpSpPr>
        <p:sp>
          <p:nvSpPr>
            <p:cNvPr id="558" name=""/>
            <p:cNvSpPr/>
            <p:nvPr/>
          </p:nvSpPr>
          <p:spPr>
            <a:xfrm>
              <a:off x="5641920" y="2901960"/>
              <a:ext cx="882360" cy="938160"/>
            </a:xfrm>
            <a:prstGeom prst="smileyFace">
              <a:avLst>
                <a:gd name="adj" fmla="val 380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&amp;D c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6498000" y="2468520"/>
              <a:ext cx="621720" cy="609480"/>
              <a:chOff x="6498000" y="2468520"/>
              <a:chExt cx="621720" cy="609480"/>
            </a:xfrm>
          </p:grpSpPr>
          <p:sp>
            <p:nvSpPr>
              <p:cNvPr id="560" name=""/>
              <p:cNvSpPr/>
              <p:nvPr/>
            </p:nvSpPr>
            <p:spPr>
              <a:xfrm>
                <a:off x="6794280" y="2572560"/>
                <a:ext cx="223920" cy="104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794280" y="2706840"/>
                <a:ext cx="223920" cy="89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778440" y="2826000"/>
                <a:ext cx="225360" cy="878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609960" y="2647080"/>
                <a:ext cx="62640" cy="298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26800" y="2736720"/>
                <a:ext cx="64440" cy="295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600600" y="2796120"/>
                <a:ext cx="64080" cy="298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57040" y="2884320"/>
                <a:ext cx="63000" cy="298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67" name=""/>
              <p:cNvCxnSpPr>
                <a:stCxn id="564" idx="5"/>
                <a:endCxn id="565" idx="1"/>
              </p:cNvCxnSpPr>
              <p:nvPr/>
            </p:nvCxnSpPr>
            <p:spPr>
              <a:xfrm>
                <a:off x="6581880" y="2760840"/>
                <a:ext cx="28440" cy="3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8" name=""/>
              <p:cNvCxnSpPr>
                <a:stCxn id="566" idx="0"/>
                <a:endCxn id="565" idx="4"/>
              </p:cNvCxnSpPr>
              <p:nvPr/>
            </p:nvCxnSpPr>
            <p:spPr>
              <a:xfrm flipV="1">
                <a:off x="6588720" y="2825280"/>
                <a:ext cx="45360" cy="58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9" name=""/>
              <p:cNvCxnSpPr>
                <a:stCxn id="560" idx="2"/>
                <a:endCxn id="563" idx="6"/>
              </p:cNvCxnSpPr>
              <p:nvPr/>
            </p:nvCxnSpPr>
            <p:spPr>
              <a:xfrm flipH="1">
                <a:off x="6672240" y="2623680"/>
                <a:ext cx="122040" cy="38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0" name=""/>
              <p:cNvCxnSpPr>
                <a:stCxn id="560" idx="3"/>
                <a:endCxn id="565" idx="7"/>
              </p:cNvCxnSpPr>
              <p:nvPr/>
            </p:nvCxnSpPr>
            <p:spPr>
              <a:xfrm flipH="1">
                <a:off x="6655680" y="2660760"/>
                <a:ext cx="17208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1" name=""/>
              <p:cNvCxnSpPr>
                <a:stCxn id="561" idx="2"/>
                <a:endCxn id="565" idx="6"/>
              </p:cNvCxnSpPr>
              <p:nvPr/>
            </p:nvCxnSpPr>
            <p:spPr>
              <a:xfrm flipH="1">
                <a:off x="6665040" y="2751120"/>
                <a:ext cx="129240" cy="60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2" name=""/>
              <p:cNvCxnSpPr>
                <a:stCxn id="562" idx="2"/>
                <a:endCxn id="565" idx="5"/>
              </p:cNvCxnSpPr>
              <p:nvPr/>
            </p:nvCxnSpPr>
            <p:spPr>
              <a:xfrm flipH="1" flipV="1">
                <a:off x="6655680" y="2820240"/>
                <a:ext cx="123120" cy="5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73" name=""/>
              <p:cNvSpPr/>
              <p:nvPr/>
            </p:nvSpPr>
            <p:spPr>
              <a:xfrm>
                <a:off x="6658560" y="2811240"/>
                <a:ext cx="4032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I’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498000" y="2468520"/>
                <a:ext cx="621720" cy="609480"/>
              </a:xfrm>
              <a:prstGeom prst="cloudCallout">
                <a:avLst>
                  <a:gd name="adj1" fmla="val -64949"/>
                  <a:gd name="adj2" fmla="val 3099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5361120" y="5059440"/>
            <a:ext cx="317520" cy="30168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00280" y="513540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869000" y="487440"/>
            <a:ext cx="2139480" cy="5376960"/>
            <a:chOff x="4869000" y="487440"/>
            <a:chExt cx="2139480" cy="5376960"/>
          </a:xfrm>
        </p:grpSpPr>
        <p:grpSp>
          <p:nvGrpSpPr>
            <p:cNvPr id="578" name=""/>
            <p:cNvGrpSpPr/>
            <p:nvPr/>
          </p:nvGrpSpPr>
          <p:grpSpPr>
            <a:xfrm>
              <a:off x="5079960" y="1554120"/>
              <a:ext cx="844200" cy="3429000"/>
              <a:chOff x="5079960" y="1554120"/>
              <a:chExt cx="844200" cy="3429000"/>
            </a:xfrm>
          </p:grpSpPr>
          <p:sp>
            <p:nvSpPr>
              <p:cNvPr id="579" name=""/>
              <p:cNvSpPr/>
              <p:nvPr/>
            </p:nvSpPr>
            <p:spPr>
              <a:xfrm>
                <a:off x="5079960" y="155412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079960" y="4525920"/>
                <a:ext cx="421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079960" y="4525920"/>
                <a:ext cx="844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4869000" y="487440"/>
              <a:ext cx="2139480" cy="5376960"/>
              <a:chOff x="4869000" y="487440"/>
              <a:chExt cx="2139480" cy="5376960"/>
            </a:xfrm>
          </p:grpSpPr>
          <p:sp>
            <p:nvSpPr>
              <p:cNvPr id="583" name=""/>
              <p:cNvSpPr/>
              <p:nvPr/>
            </p:nvSpPr>
            <p:spPr>
              <a:xfrm>
                <a:off x="5195880" y="5405400"/>
                <a:ext cx="680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emi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ructure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5978520" y="5059440"/>
                <a:ext cx="453600" cy="683280"/>
                <a:chOff x="5978520" y="5059440"/>
                <a:chExt cx="453600" cy="6832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5978520" y="5405400"/>
                  <a:ext cx="453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s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994360" y="5059440"/>
                  <a:ext cx="316440" cy="301680"/>
                </a:xfrm>
                <a:prstGeom prst="flowChartMagneticDisk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7" name=""/>
              <p:cNvSpPr/>
              <p:nvPr/>
            </p:nvSpPr>
            <p:spPr>
              <a:xfrm>
                <a:off x="5431680" y="5197320"/>
                <a:ext cx="140400" cy="138240"/>
              </a:xfrm>
              <a:prstGeom prst="verticalScroll">
                <a:avLst>
                  <a:gd name="adj" fmla="val 125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6539760" y="5059440"/>
                <a:ext cx="468720" cy="683280"/>
                <a:chOff x="6539760" y="5059440"/>
                <a:chExt cx="468720" cy="68328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6562800" y="5059440"/>
                  <a:ext cx="317520" cy="301680"/>
                </a:xfrm>
                <a:prstGeom prst="flowChartMagneticDisk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539760" y="5405400"/>
                  <a:ext cx="468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h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WWW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6633360" y="5129280"/>
                  <a:ext cx="210600" cy="206280"/>
                </a:xfrm>
                <a:prstGeom prst="irregularSeal1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5783040" y="487440"/>
                <a:ext cx="492120" cy="761040"/>
                <a:chOff x="5783040" y="487440"/>
                <a:chExt cx="492120" cy="761040"/>
              </a:xfrm>
            </p:grpSpPr>
            <p:grpSp>
              <p:nvGrpSpPr>
                <p:cNvPr id="593" name=""/>
                <p:cNvGrpSpPr/>
                <p:nvPr/>
              </p:nvGrpSpPr>
              <p:grpSpPr>
                <a:xfrm>
                  <a:off x="5783040" y="639720"/>
                  <a:ext cx="351360" cy="608760"/>
                  <a:chOff x="5783040" y="639720"/>
                  <a:chExt cx="351360" cy="60876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5783040" y="639720"/>
                    <a:ext cx="351360" cy="304200"/>
                  </a:xfrm>
                  <a:prstGeom prst="smileyFace">
                    <a:avLst>
                      <a:gd name="adj" fmla="val 9282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5923440" y="943920"/>
                    <a:ext cx="0" cy="22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5853240" y="1172520"/>
                    <a:ext cx="6984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5923440" y="1172520"/>
                    <a:ext cx="7020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5783040" y="1020240"/>
                    <a:ext cx="281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9" name=""/>
                <p:cNvSpPr/>
                <p:nvPr/>
              </p:nvSpPr>
              <p:spPr>
                <a:xfrm>
                  <a:off x="6064200" y="487440"/>
                  <a:ext cx="210960" cy="152280"/>
                </a:xfrm>
                <a:prstGeom prst="cloudCallout">
                  <a:avLst>
                    <a:gd name="adj1" fmla="val -43750"/>
                    <a:gd name="adj2" fmla="val 7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4869000" y="1173240"/>
                <a:ext cx="421920" cy="3808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290920" y="868320"/>
                <a:ext cx="4921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2" name=""/>
          <p:cNvGrpSpPr/>
          <p:nvPr/>
        </p:nvGrpSpPr>
        <p:grpSpPr>
          <a:xfrm>
            <a:off x="4987080" y="1173240"/>
            <a:ext cx="1006560" cy="2209680"/>
            <a:chOff x="4987080" y="1173240"/>
            <a:chExt cx="1006560" cy="2209680"/>
          </a:xfrm>
        </p:grpSpPr>
        <p:sp>
          <p:nvSpPr>
            <p:cNvPr id="603" name=""/>
            <p:cNvSpPr/>
            <p:nvPr/>
          </p:nvSpPr>
          <p:spPr>
            <a:xfrm>
              <a:off x="4987080" y="1859040"/>
              <a:ext cx="63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bserv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71720" y="1173240"/>
              <a:ext cx="70200" cy="457200"/>
            </a:xfrm>
            <a:custGeom>
              <a:avLst/>
              <a:gdLst/>
              <a:ahLst/>
              <a:rect l="l" t="t" r="r" b="b"/>
              <a:pathLst>
                <a:path w="120" h="768">
                  <a:moveTo>
                    <a:pt x="0" y="0"/>
                  </a:moveTo>
                  <a:lnTo>
                    <a:pt x="120" y="7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5501520" y="1554120"/>
              <a:ext cx="492120" cy="457200"/>
              <a:chOff x="5501520" y="1554120"/>
              <a:chExt cx="492120" cy="457200"/>
            </a:xfrm>
          </p:grpSpPr>
          <p:sp>
            <p:nvSpPr>
              <p:cNvPr id="606" name=""/>
              <p:cNvSpPr/>
              <p:nvPr/>
            </p:nvSpPr>
            <p:spPr>
              <a:xfrm>
                <a:off x="5501520" y="165564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796720" y="155412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5360400" y="1477800"/>
              <a:ext cx="140760" cy="228600"/>
            </a:xfrm>
            <a:custGeom>
              <a:avLst/>
              <a:gdLst/>
              <a:ahLst/>
              <a:rect l="l" t="t" r="r" b="b"/>
              <a:pathLst>
                <a:path w="198" h="72">
                  <a:moveTo>
                    <a:pt x="0" y="0"/>
                  </a:moveTo>
                  <a:lnTo>
                    <a:pt x="198" y="72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66240" y="2011320"/>
              <a:ext cx="175680" cy="1371600"/>
            </a:xfrm>
            <a:custGeom>
              <a:avLst/>
              <a:gdLst/>
              <a:ahLst/>
              <a:rect l="l" t="t" r="r" b="b"/>
              <a:pathLst>
                <a:path w="120" h="864">
                  <a:moveTo>
                    <a:pt x="120" y="0"/>
                  </a:moveTo>
                  <a:lnTo>
                    <a:pt x="0" y="240"/>
                  </a:lnTo>
                  <a:lnTo>
                    <a:pt x="0" y="690"/>
                  </a:lnTo>
                  <a:lnTo>
                    <a:pt x="120" y="8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078160" y="3382920"/>
            <a:ext cx="632880" cy="1142640"/>
            <a:chOff x="5078160" y="3382920"/>
            <a:chExt cx="632880" cy="1142640"/>
          </a:xfrm>
        </p:grpSpPr>
        <p:grpSp>
          <p:nvGrpSpPr>
            <p:cNvPr id="611" name=""/>
            <p:cNvGrpSpPr/>
            <p:nvPr/>
          </p:nvGrpSpPr>
          <p:grpSpPr>
            <a:xfrm>
              <a:off x="5218920" y="3916440"/>
              <a:ext cx="492120" cy="457200"/>
              <a:chOff x="5218920" y="3916440"/>
              <a:chExt cx="492120" cy="457200"/>
            </a:xfrm>
          </p:grpSpPr>
          <p:sp>
            <p:nvSpPr>
              <p:cNvPr id="612" name=""/>
              <p:cNvSpPr/>
              <p:nvPr/>
            </p:nvSpPr>
            <p:spPr>
              <a:xfrm>
                <a:off x="5218920" y="401796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514120" y="391644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14" name=""/>
            <p:cNvCxnSpPr>
              <a:stCxn id="581" idx="0"/>
              <a:endCxn id="612" idx="3"/>
            </p:cNvCxnSpPr>
            <p:nvPr/>
          </p:nvCxnSpPr>
          <p:spPr>
            <a:xfrm flipV="1">
              <a:off x="5078160" y="4320360"/>
              <a:ext cx="191160" cy="20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sp>
          <p:nvSpPr>
            <p:cNvPr id="615" name=""/>
            <p:cNvSpPr/>
            <p:nvPr/>
          </p:nvSpPr>
          <p:spPr>
            <a:xfrm>
              <a:off x="5394960" y="3382920"/>
              <a:ext cx="246240" cy="628560"/>
            </a:xfrm>
            <a:custGeom>
              <a:avLst/>
              <a:gdLst/>
              <a:ahLst/>
              <a:rect l="l" t="t" r="r" b="b"/>
              <a:pathLst>
                <a:path w="168" h="396">
                  <a:moveTo>
                    <a:pt x="0" y="396"/>
                  </a:moveTo>
                  <a:lnTo>
                    <a:pt x="0" y="114"/>
                  </a:lnTo>
                  <a:lnTo>
                    <a:pt x="1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5572080" y="3840120"/>
            <a:ext cx="1929960" cy="1219320"/>
            <a:chOff x="5572080" y="3840120"/>
            <a:chExt cx="1929960" cy="1219320"/>
          </a:xfrm>
        </p:grpSpPr>
        <p:sp>
          <p:nvSpPr>
            <p:cNvPr id="617" name=""/>
            <p:cNvSpPr/>
            <p:nvPr/>
          </p:nvSpPr>
          <p:spPr>
            <a:xfrm>
              <a:off x="6778800" y="452592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ccessor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97440" y="4602240"/>
              <a:ext cx="17280" cy="428400"/>
            </a:xfrm>
            <a:custGeom>
              <a:avLst/>
              <a:gdLst/>
              <a:ahLst/>
              <a:rect l="l" t="t" r="r" b="b"/>
              <a:pathLst>
                <a:path w="12" h="270">
                  <a:moveTo>
                    <a:pt x="12" y="0"/>
                  </a:moveTo>
                  <a:lnTo>
                    <a:pt x="0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8680" y="4630680"/>
              <a:ext cx="43560" cy="409680"/>
            </a:xfrm>
            <a:custGeom>
              <a:avLst/>
              <a:gdLst/>
              <a:ahLst/>
              <a:rect l="l" t="t" r="r" b="b"/>
              <a:pathLst>
                <a:path w="30" h="258">
                  <a:moveTo>
                    <a:pt x="30" y="0"/>
                  </a:moveTo>
                  <a:lnTo>
                    <a:pt x="0" y="2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72080" y="4630680"/>
              <a:ext cx="219960" cy="428760"/>
            </a:xfrm>
            <a:custGeom>
              <a:avLst/>
              <a:gdLst/>
              <a:ahLst/>
              <a:rect l="l" t="t" r="r" b="b"/>
              <a:pathLst>
                <a:path w="150" h="270">
                  <a:moveTo>
                    <a:pt x="150" y="0"/>
                  </a:moveTo>
                  <a:lnTo>
                    <a:pt x="0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5642280" y="4145040"/>
              <a:ext cx="492120" cy="457200"/>
              <a:chOff x="5642280" y="4145040"/>
              <a:chExt cx="492120" cy="457200"/>
            </a:xfrm>
          </p:grpSpPr>
          <p:sp>
            <p:nvSpPr>
              <p:cNvPr id="622" name=""/>
              <p:cNvSpPr/>
              <p:nvPr/>
            </p:nvSpPr>
            <p:spPr>
              <a:xfrm>
                <a:off x="5642280" y="424656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37480" y="414504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6064560" y="4145040"/>
              <a:ext cx="492120" cy="457200"/>
              <a:chOff x="6064560" y="4145040"/>
              <a:chExt cx="492120" cy="457200"/>
            </a:xfrm>
          </p:grpSpPr>
          <p:sp>
            <p:nvSpPr>
              <p:cNvPr id="625" name=""/>
              <p:cNvSpPr/>
              <p:nvPr/>
            </p:nvSpPr>
            <p:spPr>
              <a:xfrm>
                <a:off x="6064560" y="424656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359760" y="414504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6557040" y="4145040"/>
              <a:ext cx="492120" cy="457200"/>
              <a:chOff x="6557040" y="4145040"/>
              <a:chExt cx="492120" cy="457200"/>
            </a:xfrm>
          </p:grpSpPr>
          <p:sp>
            <p:nvSpPr>
              <p:cNvPr id="628" name=""/>
              <p:cNvSpPr/>
              <p:nvPr/>
            </p:nvSpPr>
            <p:spPr>
              <a:xfrm>
                <a:off x="6557040" y="424656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852240" y="414504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V="1">
              <a:off x="5853240" y="3840120"/>
              <a:ext cx="140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6134760" y="3840120"/>
              <a:ext cx="69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6275520" y="3840120"/>
              <a:ext cx="421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6492960" y="3230640"/>
            <a:ext cx="81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IB Info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gration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064200" y="944640"/>
            <a:ext cx="908640" cy="2133360"/>
            <a:chOff x="6064200" y="944640"/>
            <a:chExt cx="908640" cy="2133360"/>
          </a:xfrm>
        </p:grpSpPr>
        <p:grpSp>
          <p:nvGrpSpPr>
            <p:cNvPr id="635" name=""/>
            <p:cNvGrpSpPr/>
            <p:nvPr/>
          </p:nvGrpSpPr>
          <p:grpSpPr>
            <a:xfrm>
              <a:off x="6064200" y="1554120"/>
              <a:ext cx="492480" cy="457200"/>
              <a:chOff x="6064200" y="1554120"/>
              <a:chExt cx="492480" cy="457200"/>
            </a:xfrm>
          </p:grpSpPr>
          <p:sp>
            <p:nvSpPr>
              <p:cNvPr id="636" name=""/>
              <p:cNvSpPr/>
              <p:nvPr/>
            </p:nvSpPr>
            <p:spPr>
              <a:xfrm>
                <a:off x="6064200" y="1655640"/>
                <a:ext cx="34488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359760" y="155412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6275160" y="2011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34400" y="944640"/>
              <a:ext cx="7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22680" y="1706400"/>
              <a:ext cx="65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ac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7470720" y="411120"/>
            <a:ext cx="0" cy="5715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79640" y="227880"/>
            <a:ext cx="95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St Refin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68000" y="227880"/>
            <a:ext cx="2275920" cy="5862960"/>
            <a:chOff x="468000" y="227880"/>
            <a:chExt cx="2275920" cy="5862960"/>
          </a:xfrm>
        </p:grpSpPr>
        <p:sp>
          <p:nvSpPr>
            <p:cNvPr id="644" name=""/>
            <p:cNvSpPr/>
            <p:nvPr/>
          </p:nvSpPr>
          <p:spPr>
            <a:xfrm>
              <a:off x="468000" y="228600"/>
              <a:ext cx="7005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assical”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 Retrieve,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re &amp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nage+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llabor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819360" y="5105520"/>
              <a:ext cx="1666440" cy="804240"/>
              <a:chOff x="819360" y="5105520"/>
              <a:chExt cx="1666440" cy="804240"/>
            </a:xfrm>
          </p:grpSpPr>
          <p:sp>
            <p:nvSpPr>
              <p:cNvPr id="646" name=""/>
              <p:cNvSpPr/>
              <p:nvPr/>
            </p:nvSpPr>
            <p:spPr>
              <a:xfrm>
                <a:off x="819360" y="5450760"/>
                <a:ext cx="680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emi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ructure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984240" y="5105520"/>
                <a:ext cx="317880" cy="3006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91040" y="5450760"/>
                <a:ext cx="45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675080" y="5174280"/>
                <a:ext cx="369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406520" y="5105520"/>
                <a:ext cx="316800" cy="3006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40120" y="5105520"/>
                <a:ext cx="317880" cy="3006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017080" y="5450760"/>
                <a:ext cx="46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W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054800" y="5243400"/>
                <a:ext cx="140400" cy="137880"/>
              </a:xfrm>
              <a:prstGeom prst="verticalScroll">
                <a:avLst>
                  <a:gd name="adj" fmla="val 125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10680" y="5174280"/>
                <a:ext cx="210960" cy="207000"/>
              </a:xfrm>
              <a:prstGeom prst="irregularSeal1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1406880" y="533520"/>
              <a:ext cx="492480" cy="761040"/>
              <a:chOff x="1406880" y="533520"/>
              <a:chExt cx="492480" cy="761040"/>
            </a:xfrm>
          </p:grpSpPr>
          <p:grpSp>
            <p:nvGrpSpPr>
              <p:cNvPr id="656" name=""/>
              <p:cNvGrpSpPr/>
              <p:nvPr/>
            </p:nvGrpSpPr>
            <p:grpSpPr>
              <a:xfrm>
                <a:off x="1406880" y="685800"/>
                <a:ext cx="351720" cy="608760"/>
                <a:chOff x="1406880" y="685800"/>
                <a:chExt cx="351720" cy="60876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1406880" y="685800"/>
                  <a:ext cx="351720" cy="304200"/>
                </a:xfrm>
                <a:prstGeom prst="smileyFace">
                  <a:avLst>
                    <a:gd name="adj" fmla="val 928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547280" y="99000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>
                  <a:off x="1477080" y="1218600"/>
                  <a:ext cx="698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547280" y="1218600"/>
                  <a:ext cx="702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406880" y="1066320"/>
                  <a:ext cx="28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2" name=""/>
              <p:cNvSpPr/>
              <p:nvPr/>
            </p:nvSpPr>
            <p:spPr>
              <a:xfrm>
                <a:off x="1688400" y="533520"/>
                <a:ext cx="21096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703080" y="1143000"/>
              <a:ext cx="422280" cy="3808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14400" y="15238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14400" y="4419720"/>
              <a:ext cx="210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14400" y="4419720"/>
              <a:ext cx="633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1055160" y="914040"/>
              <a:ext cx="351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58960" y="9907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04560" y="1114560"/>
              <a:ext cx="158040" cy="2028600"/>
            </a:xfrm>
            <a:custGeom>
              <a:avLst/>
              <a:gdLst/>
              <a:ahLst/>
              <a:rect l="l" t="t" r="r" b="b"/>
              <a:pathLst>
                <a:path w="108" h="1278">
                  <a:moveTo>
                    <a:pt x="18" y="0"/>
                  </a:moveTo>
                  <a:lnTo>
                    <a:pt x="0" y="1200"/>
                  </a:lnTo>
                  <a:lnTo>
                    <a:pt x="108" y="12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84600" y="3429000"/>
              <a:ext cx="28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06600" y="221760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ract wi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47520" y="2446200"/>
              <a:ext cx="62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se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ser 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3120" y="3429000"/>
              <a:ext cx="577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ser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and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688400" y="3962520"/>
              <a:ext cx="4222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18200" y="39625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1195560" y="3962520"/>
              <a:ext cx="3520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20800" y="4122720"/>
              <a:ext cx="6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trieve &amp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ore inf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05360" y="312840"/>
              <a:ext cx="46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150560" y="5875200"/>
              <a:ext cx="82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91000" y="227880"/>
              <a:ext cx="81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neric vie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1266120" y="2514600"/>
              <a:ext cx="1477800" cy="1371600"/>
              <a:chOff x="1266120" y="2514600"/>
              <a:chExt cx="1477800" cy="1371600"/>
            </a:xfrm>
          </p:grpSpPr>
          <p:sp>
            <p:nvSpPr>
              <p:cNvPr id="682" name=""/>
              <p:cNvSpPr/>
              <p:nvPr/>
            </p:nvSpPr>
            <p:spPr>
              <a:xfrm>
                <a:off x="1266120" y="2948040"/>
                <a:ext cx="882720" cy="938160"/>
              </a:xfrm>
              <a:prstGeom prst="smileyFace">
                <a:avLst>
                  <a:gd name="adj" fmla="val 380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KI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122200" y="2514600"/>
                <a:ext cx="621720" cy="609480"/>
              </a:xfrm>
              <a:prstGeom prst="cloudCallout">
                <a:avLst>
                  <a:gd name="adj1" fmla="val -64949"/>
                  <a:gd name="adj2" fmla="val 3099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4" name=""/>
              <p:cNvGrpSpPr/>
              <p:nvPr/>
            </p:nvGrpSpPr>
            <p:grpSpPr>
              <a:xfrm>
                <a:off x="2151360" y="2619360"/>
                <a:ext cx="534240" cy="423720"/>
                <a:chOff x="2151360" y="2619360"/>
                <a:chExt cx="534240" cy="4237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2418120" y="2619360"/>
                  <a:ext cx="224280" cy="1033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418120" y="2752560"/>
                  <a:ext cx="224280" cy="889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402280" y="2871720"/>
                  <a:ext cx="225720" cy="889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2233440" y="2693880"/>
                  <a:ext cx="63000" cy="288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151360" y="2782800"/>
                  <a:ext cx="64800" cy="302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2224800" y="2841480"/>
                  <a:ext cx="64440" cy="302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2180880" y="2930400"/>
                  <a:ext cx="64440" cy="302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692" name=""/>
                <p:cNvCxnSpPr>
                  <a:stCxn id="689" idx="5"/>
                  <a:endCxn id="690" idx="1"/>
                </p:cNvCxnSpPr>
                <p:nvPr/>
              </p:nvCxnSpPr>
              <p:spPr>
                <a:xfrm>
                  <a:off x="2207160" y="2806200"/>
                  <a:ext cx="26640" cy="40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93" name=""/>
                <p:cNvCxnSpPr>
                  <a:stCxn id="691" idx="0"/>
                  <a:endCxn id="690" idx="4"/>
                </p:cNvCxnSpPr>
                <p:nvPr/>
              </p:nvCxnSpPr>
              <p:spPr>
                <a:xfrm flipV="1">
                  <a:off x="2212560" y="2871000"/>
                  <a:ext cx="45720" cy="59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94" name=""/>
                <p:cNvCxnSpPr>
                  <a:stCxn id="685" idx="2"/>
                  <a:endCxn id="688" idx="6"/>
                </p:cNvCxnSpPr>
                <p:nvPr/>
              </p:nvCxnSpPr>
              <p:spPr>
                <a:xfrm flipH="1">
                  <a:off x="2295720" y="2670120"/>
                  <a:ext cx="122040" cy="38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95" name=""/>
                <p:cNvCxnSpPr>
                  <a:stCxn id="685" idx="3"/>
                  <a:endCxn id="690" idx="7"/>
                </p:cNvCxnSpPr>
                <p:nvPr/>
              </p:nvCxnSpPr>
              <p:spPr>
                <a:xfrm flipH="1">
                  <a:off x="2280240" y="2706840"/>
                  <a:ext cx="17136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96" name=""/>
                <p:cNvCxnSpPr>
                  <a:stCxn id="686" idx="2"/>
                  <a:endCxn id="690" idx="6"/>
                </p:cNvCxnSpPr>
                <p:nvPr/>
              </p:nvCxnSpPr>
              <p:spPr>
                <a:xfrm flipH="1">
                  <a:off x="2289240" y="2797200"/>
                  <a:ext cx="129240" cy="612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97" name=""/>
                <p:cNvCxnSpPr>
                  <a:stCxn id="687" idx="2"/>
                  <a:endCxn id="690" idx="5"/>
                </p:cNvCxnSpPr>
                <p:nvPr/>
              </p:nvCxnSpPr>
              <p:spPr>
                <a:xfrm flipH="1" flipV="1">
                  <a:off x="2279880" y="2866320"/>
                  <a:ext cx="122040" cy="51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698" name=""/>
                <p:cNvSpPr/>
                <p:nvPr/>
              </p:nvSpPr>
              <p:spPr>
                <a:xfrm>
                  <a:off x="2282400" y="2857680"/>
                  <a:ext cx="403200" cy="185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K</a:t>
                  </a: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I’s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99" name=""/>
          <p:cNvSpPr/>
          <p:nvPr/>
        </p:nvSpPr>
        <p:spPr>
          <a:xfrm>
            <a:off x="422280" y="533520"/>
            <a:ext cx="8372520" cy="1523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2280" y="4038480"/>
            <a:ext cx="8372520" cy="1905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14480" y="3048120"/>
            <a:ext cx="1689120" cy="609480"/>
          </a:xfrm>
          <a:custGeom>
            <a:avLst/>
            <a:gdLst>
              <a:gd name="textAreaLeft" fmla="*/ 263880 w 1689120"/>
              <a:gd name="textAreaRight" fmla="*/ 1478160 w 16891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5276880" y="1219320"/>
            <a:ext cx="2673360" cy="3581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8000" y="2057400"/>
            <a:ext cx="2392560" cy="1981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c0c0"/>
                </a:solidFill>
                <a:latin typeface="Arial"/>
              </a:rPr>
              <a:t>K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I&amp;D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6680" y="6400800"/>
            <a:ext cx="6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wt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26000" y="6408720"/>
            <a:ext cx="124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-Agent modeled V0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74720" y="2057400"/>
            <a:ext cx="802008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121440" y="6095880"/>
            <a:ext cx="280800" cy="2286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21440" y="6324480"/>
            <a:ext cx="401400" cy="293760"/>
            <a:chOff x="6121440" y="6324480"/>
            <a:chExt cx="401400" cy="293760"/>
          </a:xfrm>
        </p:grpSpPr>
        <p:sp>
          <p:nvSpPr>
            <p:cNvPr id="709" name=""/>
            <p:cNvSpPr/>
            <p:nvPr/>
          </p:nvSpPr>
          <p:spPr>
            <a:xfrm>
              <a:off x="6121440" y="6389640"/>
              <a:ext cx="281160" cy="22860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362280" y="6324480"/>
              <a:ext cx="160560" cy="9792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6493320" y="610380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mb agent (to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459840" y="6408720"/>
            <a:ext cx="193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wledgeable Agent (Intelligent To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" y="304920"/>
            <a:ext cx="700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ical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 Retriev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932960" y="61128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944840" y="2455920"/>
            <a:ext cx="86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grations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84000" y="4573440"/>
            <a:ext cx="70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51600" y="6019920"/>
            <a:ext cx="2392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49520" y="-360"/>
            <a:ext cx="2900880" cy="5897880"/>
            <a:chOff x="749520" y="-360"/>
            <a:chExt cx="2900880" cy="5897880"/>
          </a:xfrm>
        </p:grpSpPr>
        <p:sp>
          <p:nvSpPr>
            <p:cNvPr id="719" name=""/>
            <p:cNvSpPr/>
            <p:nvPr/>
          </p:nvSpPr>
          <p:spPr>
            <a:xfrm>
              <a:off x="876960" y="1096920"/>
              <a:ext cx="2672640" cy="35816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0c0c0"/>
                  </a:solidFill>
                  <a:latin typeface="Arial"/>
                </a:rPr>
                <a:t>KI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344960" y="517680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mi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uctur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9520" y="3687840"/>
              <a:ext cx="718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and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bservor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927160" y="429732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ccessor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2213280" y="1325520"/>
              <a:ext cx="492120" cy="457200"/>
              <a:chOff x="2213280" y="1325520"/>
              <a:chExt cx="492120" cy="457200"/>
            </a:xfrm>
          </p:grpSpPr>
          <p:sp>
            <p:nvSpPr>
              <p:cNvPr id="724" name=""/>
              <p:cNvSpPr/>
              <p:nvPr/>
            </p:nvSpPr>
            <p:spPr>
              <a:xfrm>
                <a:off x="2213280" y="142704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508480" y="132552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1791360" y="2239920"/>
              <a:ext cx="1476360" cy="1371600"/>
              <a:chOff x="1791360" y="2239920"/>
              <a:chExt cx="1476360" cy="1371600"/>
            </a:xfrm>
          </p:grpSpPr>
          <p:sp>
            <p:nvSpPr>
              <p:cNvPr id="727" name=""/>
              <p:cNvSpPr/>
              <p:nvPr/>
            </p:nvSpPr>
            <p:spPr>
              <a:xfrm>
                <a:off x="1791360" y="2673360"/>
                <a:ext cx="881640" cy="938160"/>
              </a:xfrm>
              <a:prstGeom prst="smileyFace">
                <a:avLst>
                  <a:gd name="adj" fmla="val 3801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KI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&amp;D co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8" name=""/>
              <p:cNvGrpSpPr/>
              <p:nvPr/>
            </p:nvGrpSpPr>
            <p:grpSpPr>
              <a:xfrm>
                <a:off x="2646720" y="2239920"/>
                <a:ext cx="621000" cy="609480"/>
                <a:chOff x="2646720" y="2239920"/>
                <a:chExt cx="621000" cy="60948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2942640" y="2343960"/>
                  <a:ext cx="223560" cy="10440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942640" y="2478240"/>
                  <a:ext cx="223560" cy="892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926800" y="2597400"/>
                  <a:ext cx="225000" cy="8784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758680" y="2418480"/>
                  <a:ext cx="62640" cy="298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675520" y="2508120"/>
                  <a:ext cx="64440" cy="2952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49320" y="2567520"/>
                  <a:ext cx="64080" cy="298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705760" y="2655720"/>
                  <a:ext cx="63000" cy="298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36" name=""/>
                <p:cNvCxnSpPr>
                  <a:stCxn id="733" idx="5"/>
                  <a:endCxn id="734" idx="1"/>
                </p:cNvCxnSpPr>
                <p:nvPr/>
              </p:nvCxnSpPr>
              <p:spPr>
                <a:xfrm>
                  <a:off x="2730960" y="2532240"/>
                  <a:ext cx="28080" cy="39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737" name=""/>
                <p:cNvCxnSpPr>
                  <a:stCxn id="735" idx="0"/>
                  <a:endCxn id="734" idx="4"/>
                </p:cNvCxnSpPr>
                <p:nvPr/>
              </p:nvCxnSpPr>
              <p:spPr>
                <a:xfrm flipV="1">
                  <a:off x="2737440" y="2596680"/>
                  <a:ext cx="45360" cy="58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738" name=""/>
                <p:cNvCxnSpPr>
                  <a:stCxn id="729" idx="2"/>
                  <a:endCxn id="732" idx="6"/>
                </p:cNvCxnSpPr>
                <p:nvPr/>
              </p:nvCxnSpPr>
              <p:spPr>
                <a:xfrm flipH="1">
                  <a:off x="2820960" y="2395080"/>
                  <a:ext cx="121680" cy="38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739" name=""/>
                <p:cNvCxnSpPr>
                  <a:stCxn id="729" idx="3"/>
                  <a:endCxn id="734" idx="7"/>
                </p:cNvCxnSpPr>
                <p:nvPr/>
              </p:nvCxnSpPr>
              <p:spPr>
                <a:xfrm flipH="1">
                  <a:off x="2804040" y="2432160"/>
                  <a:ext cx="17136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740" name=""/>
                <p:cNvCxnSpPr>
                  <a:stCxn id="730" idx="2"/>
                  <a:endCxn id="734" idx="6"/>
                </p:cNvCxnSpPr>
                <p:nvPr/>
              </p:nvCxnSpPr>
              <p:spPr>
                <a:xfrm flipH="1">
                  <a:off x="2813760" y="2522520"/>
                  <a:ext cx="129240" cy="601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741" name=""/>
                <p:cNvCxnSpPr>
                  <a:stCxn id="731" idx="2"/>
                  <a:endCxn id="734" idx="5"/>
                </p:cNvCxnSpPr>
                <p:nvPr/>
              </p:nvCxnSpPr>
              <p:spPr>
                <a:xfrm flipH="1" flipV="1">
                  <a:off x="2804040" y="2591640"/>
                  <a:ext cx="123120" cy="511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742" name=""/>
                <p:cNvSpPr/>
                <p:nvPr/>
              </p:nvSpPr>
              <p:spPr>
                <a:xfrm>
                  <a:off x="2806920" y="2582640"/>
                  <a:ext cx="40320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OK</a:t>
                  </a: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I’s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646720" y="2239920"/>
                  <a:ext cx="621000" cy="609480"/>
                </a:xfrm>
                <a:prstGeom prst="cloudCallout">
                  <a:avLst>
                    <a:gd name="adj1" fmla="val -64949"/>
                    <a:gd name="adj2" fmla="val 3099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4" name=""/>
            <p:cNvSpPr/>
            <p:nvPr/>
          </p:nvSpPr>
          <p:spPr>
            <a:xfrm>
              <a:off x="1509840" y="4830840"/>
              <a:ext cx="317880" cy="301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49360" y="490716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2126880" y="4830840"/>
              <a:ext cx="453600" cy="683280"/>
              <a:chOff x="2126880" y="4830840"/>
              <a:chExt cx="453600" cy="683280"/>
            </a:xfrm>
          </p:grpSpPr>
          <p:sp>
            <p:nvSpPr>
              <p:cNvPr id="747" name=""/>
              <p:cNvSpPr/>
              <p:nvPr/>
            </p:nvSpPr>
            <p:spPr>
              <a:xfrm>
                <a:off x="2126880" y="5176800"/>
                <a:ext cx="45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142720" y="4830840"/>
                <a:ext cx="316440" cy="30168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1580400" y="4969080"/>
              <a:ext cx="140400" cy="137880"/>
            </a:xfrm>
            <a:prstGeom prst="verticalScrol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2688120" y="4830840"/>
              <a:ext cx="468720" cy="683280"/>
              <a:chOff x="2688120" y="4830840"/>
              <a:chExt cx="468720" cy="683280"/>
            </a:xfrm>
          </p:grpSpPr>
          <p:sp>
            <p:nvSpPr>
              <p:cNvPr id="751" name=""/>
              <p:cNvSpPr/>
              <p:nvPr/>
            </p:nvSpPr>
            <p:spPr>
              <a:xfrm>
                <a:off x="2711160" y="4830840"/>
                <a:ext cx="317520" cy="30168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688120" y="5176800"/>
                <a:ext cx="46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W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781720" y="4900680"/>
                <a:ext cx="210600" cy="206280"/>
              </a:xfrm>
              <a:prstGeom prst="irregularSeal1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931760" y="258840"/>
              <a:ext cx="491760" cy="762120"/>
              <a:chOff x="1931760" y="258840"/>
              <a:chExt cx="491760" cy="76212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1931760" y="411480"/>
                <a:ext cx="351000" cy="609480"/>
                <a:chOff x="1931760" y="411480"/>
                <a:chExt cx="351000" cy="60948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1931760" y="411480"/>
                  <a:ext cx="351000" cy="304560"/>
                </a:xfrm>
                <a:prstGeom prst="smileyFace">
                  <a:avLst>
                    <a:gd name="adj" fmla="val 928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2071800" y="7160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>
                  <a:off x="2001960" y="944640"/>
                  <a:ext cx="6984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071800" y="944640"/>
                  <a:ext cx="702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931760" y="792360"/>
                  <a:ext cx="28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" name=""/>
              <p:cNvSpPr/>
              <p:nvPr/>
            </p:nvSpPr>
            <p:spPr>
              <a:xfrm>
                <a:off x="2212920" y="258840"/>
                <a:ext cx="210600" cy="15264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1017720" y="944640"/>
              <a:ext cx="421920" cy="3808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228680" y="13255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228680" y="4297320"/>
              <a:ext cx="421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28680" y="4297320"/>
              <a:ext cx="843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1439640" y="639360"/>
              <a:ext cx="4917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24240" y="178272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20800" y="944640"/>
              <a:ext cx="70200" cy="457200"/>
            </a:xfrm>
            <a:custGeom>
              <a:avLst/>
              <a:gdLst/>
              <a:ahLst/>
              <a:rect l="l" t="t" r="r" b="b"/>
              <a:pathLst>
                <a:path w="120" h="768">
                  <a:moveTo>
                    <a:pt x="0" y="0"/>
                  </a:moveTo>
                  <a:lnTo>
                    <a:pt x="120" y="7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46160" y="4373640"/>
              <a:ext cx="17280" cy="428760"/>
            </a:xfrm>
            <a:custGeom>
              <a:avLst/>
              <a:gdLst/>
              <a:ahLst/>
              <a:rect l="l" t="t" r="r" b="b"/>
              <a:pathLst>
                <a:path w="12" h="270">
                  <a:moveTo>
                    <a:pt x="12" y="0"/>
                  </a:moveTo>
                  <a:lnTo>
                    <a:pt x="0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27760" y="4402080"/>
              <a:ext cx="43560" cy="409680"/>
            </a:xfrm>
            <a:custGeom>
              <a:avLst/>
              <a:gdLst/>
              <a:ahLst/>
              <a:rect l="l" t="t" r="r" b="b"/>
              <a:pathLst>
                <a:path w="30" h="258">
                  <a:moveTo>
                    <a:pt x="30" y="0"/>
                  </a:moveTo>
                  <a:lnTo>
                    <a:pt x="0" y="2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20800" y="4402080"/>
              <a:ext cx="219960" cy="428760"/>
            </a:xfrm>
            <a:custGeom>
              <a:avLst/>
              <a:gdLst/>
              <a:ahLst/>
              <a:rect l="l" t="t" r="r" b="b"/>
              <a:pathLst>
                <a:path w="150" h="270">
                  <a:moveTo>
                    <a:pt x="150" y="0"/>
                  </a:moveTo>
                  <a:lnTo>
                    <a:pt x="0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1650600" y="1325520"/>
              <a:ext cx="491400" cy="457200"/>
              <a:chOff x="1650600" y="1325520"/>
              <a:chExt cx="491400" cy="457200"/>
            </a:xfrm>
          </p:grpSpPr>
          <p:sp>
            <p:nvSpPr>
              <p:cNvPr id="773" name=""/>
              <p:cNvSpPr/>
              <p:nvPr/>
            </p:nvSpPr>
            <p:spPr>
              <a:xfrm>
                <a:off x="1650600" y="1427040"/>
                <a:ext cx="34416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945440" y="1325520"/>
                <a:ext cx="19656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2283840" y="716040"/>
              <a:ext cx="69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136520" y="1630440"/>
              <a:ext cx="63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bserv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509840" y="1249560"/>
              <a:ext cx="140760" cy="228600"/>
            </a:xfrm>
            <a:custGeom>
              <a:avLst/>
              <a:gdLst/>
              <a:ahLst/>
              <a:rect l="l" t="t" r="r" b="b"/>
              <a:pathLst>
                <a:path w="198" h="72">
                  <a:moveTo>
                    <a:pt x="0" y="0"/>
                  </a:moveTo>
                  <a:lnTo>
                    <a:pt x="198" y="72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1369440" y="3687840"/>
              <a:ext cx="492120" cy="457200"/>
              <a:chOff x="1369440" y="3687840"/>
              <a:chExt cx="492120" cy="457200"/>
            </a:xfrm>
          </p:grpSpPr>
          <p:sp>
            <p:nvSpPr>
              <p:cNvPr id="779" name=""/>
              <p:cNvSpPr/>
              <p:nvPr/>
            </p:nvSpPr>
            <p:spPr>
              <a:xfrm>
                <a:off x="1369440" y="378936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664640" y="368784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81" name=""/>
            <p:cNvCxnSpPr>
              <a:stCxn id="765" idx="0"/>
              <a:endCxn id="779" idx="3"/>
            </p:cNvCxnSpPr>
            <p:nvPr/>
          </p:nvCxnSpPr>
          <p:spPr>
            <a:xfrm flipV="1">
              <a:off x="1228680" y="4091760"/>
              <a:ext cx="190800" cy="20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sp>
          <p:nvSpPr>
            <p:cNvPr id="782" name=""/>
            <p:cNvSpPr/>
            <p:nvPr/>
          </p:nvSpPr>
          <p:spPr>
            <a:xfrm>
              <a:off x="1615680" y="1782720"/>
              <a:ext cx="175680" cy="1371600"/>
            </a:xfrm>
            <a:custGeom>
              <a:avLst/>
              <a:gdLst/>
              <a:ahLst/>
              <a:rect l="l" t="t" r="r" b="b"/>
              <a:pathLst>
                <a:path w="120" h="864">
                  <a:moveTo>
                    <a:pt x="120" y="0"/>
                  </a:moveTo>
                  <a:lnTo>
                    <a:pt x="0" y="240"/>
                  </a:lnTo>
                  <a:lnTo>
                    <a:pt x="0" y="690"/>
                  </a:lnTo>
                  <a:lnTo>
                    <a:pt x="120" y="8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545120" y="3154320"/>
              <a:ext cx="245880" cy="628920"/>
            </a:xfrm>
            <a:custGeom>
              <a:avLst/>
              <a:gdLst/>
              <a:ahLst/>
              <a:rect l="l" t="t" r="r" b="b"/>
              <a:pathLst>
                <a:path w="168" h="396">
                  <a:moveTo>
                    <a:pt x="0" y="396"/>
                  </a:moveTo>
                  <a:lnTo>
                    <a:pt x="0" y="114"/>
                  </a:lnTo>
                  <a:lnTo>
                    <a:pt x="1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1791360" y="3916440"/>
              <a:ext cx="492120" cy="457200"/>
              <a:chOff x="1791360" y="3916440"/>
              <a:chExt cx="492120" cy="457200"/>
            </a:xfrm>
          </p:grpSpPr>
          <p:sp>
            <p:nvSpPr>
              <p:cNvPr id="785" name=""/>
              <p:cNvSpPr/>
              <p:nvPr/>
            </p:nvSpPr>
            <p:spPr>
              <a:xfrm>
                <a:off x="1791360" y="401796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086560" y="391644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2213280" y="3916440"/>
              <a:ext cx="492120" cy="457200"/>
              <a:chOff x="2213280" y="3916440"/>
              <a:chExt cx="492120" cy="457200"/>
            </a:xfrm>
          </p:grpSpPr>
          <p:sp>
            <p:nvSpPr>
              <p:cNvPr id="788" name=""/>
              <p:cNvSpPr/>
              <p:nvPr/>
            </p:nvSpPr>
            <p:spPr>
              <a:xfrm>
                <a:off x="2213280" y="4017960"/>
                <a:ext cx="34452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508480" y="391644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2705760" y="3916440"/>
              <a:ext cx="491400" cy="457200"/>
              <a:chOff x="2705760" y="3916440"/>
              <a:chExt cx="491400" cy="457200"/>
            </a:xfrm>
          </p:grpSpPr>
          <p:sp>
            <p:nvSpPr>
              <p:cNvPr id="791" name=""/>
              <p:cNvSpPr/>
              <p:nvPr/>
            </p:nvSpPr>
            <p:spPr>
              <a:xfrm>
                <a:off x="2705760" y="4017960"/>
                <a:ext cx="344160" cy="35568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00600" y="3916440"/>
                <a:ext cx="19656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 flipV="1">
              <a:off x="2002320" y="3611160"/>
              <a:ext cx="140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 flipV="1">
              <a:off x="2283840" y="3611160"/>
              <a:ext cx="698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 flipV="1">
              <a:off x="2424240" y="3611160"/>
              <a:ext cx="421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1320" y="300204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IB Info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gration &amp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471400" y="1478160"/>
              <a:ext cx="65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ac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619800" y="182520"/>
              <a:ext cx="0" cy="5715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28360" y="-360"/>
              <a:ext cx="95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St Refin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5625720" y="227880"/>
            <a:ext cx="102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ND  Refin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2932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940360" y="3568680"/>
            <a:ext cx="87480" cy="412920"/>
          </a:xfrm>
          <a:custGeom>
            <a:avLst/>
            <a:gdLst/>
            <a:ahLst/>
            <a:rect l="l" t="t" r="r" b="b"/>
            <a:pathLst>
              <a:path w="60" h="260">
                <a:moveTo>
                  <a:pt x="4" y="260"/>
                </a:moveTo>
                <a:lnTo>
                  <a:pt x="0" y="116"/>
                </a:lnTo>
                <a:lnTo>
                  <a:pt x="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418000" y="457200"/>
            <a:ext cx="2005560" cy="1917720"/>
            <a:chOff x="5418000" y="457200"/>
            <a:chExt cx="2005560" cy="1917720"/>
          </a:xfrm>
        </p:grpSpPr>
        <p:grpSp>
          <p:nvGrpSpPr>
            <p:cNvPr id="804" name=""/>
            <p:cNvGrpSpPr/>
            <p:nvPr/>
          </p:nvGrpSpPr>
          <p:grpSpPr>
            <a:xfrm>
              <a:off x="6614280" y="1523880"/>
              <a:ext cx="492120" cy="457200"/>
              <a:chOff x="6614280" y="1523880"/>
              <a:chExt cx="492120" cy="457200"/>
            </a:xfrm>
          </p:grpSpPr>
          <p:sp>
            <p:nvSpPr>
              <p:cNvPr id="805" name=""/>
              <p:cNvSpPr/>
              <p:nvPr/>
            </p:nvSpPr>
            <p:spPr>
              <a:xfrm>
                <a:off x="6614280" y="162540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909480" y="152388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6332760" y="457200"/>
              <a:ext cx="492120" cy="762120"/>
              <a:chOff x="6332760" y="457200"/>
              <a:chExt cx="492120" cy="76212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6332760" y="609840"/>
                <a:ext cx="351360" cy="609480"/>
                <a:chOff x="6332760" y="609840"/>
                <a:chExt cx="351360" cy="60948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6332760" y="609840"/>
                  <a:ext cx="351360" cy="304560"/>
                </a:xfrm>
                <a:prstGeom prst="smileyFace">
                  <a:avLst>
                    <a:gd name="adj" fmla="val 9282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473160" y="914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H="1">
                  <a:off x="6402960" y="1143000"/>
                  <a:ext cx="6984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473160" y="1143000"/>
                  <a:ext cx="702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332760" y="990720"/>
                  <a:ext cx="28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4" name=""/>
              <p:cNvSpPr/>
              <p:nvPr/>
            </p:nvSpPr>
            <p:spPr>
              <a:xfrm>
                <a:off x="6613920" y="457200"/>
                <a:ext cx="210960" cy="15264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5418000" y="1143000"/>
              <a:ext cx="421920" cy="3808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5839920" y="837720"/>
              <a:ext cx="492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25240" y="1981080"/>
              <a:ext cx="6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21440" y="1143000"/>
              <a:ext cx="70200" cy="457200"/>
            </a:xfrm>
            <a:custGeom>
              <a:avLst/>
              <a:gdLst/>
              <a:ahLst/>
              <a:rect l="l" t="t" r="r" b="b"/>
              <a:pathLst>
                <a:path w="120" h="768">
                  <a:moveTo>
                    <a:pt x="0" y="0"/>
                  </a:moveTo>
                  <a:lnTo>
                    <a:pt x="120" y="7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51240" y="1523880"/>
              <a:ext cx="492120" cy="457200"/>
              <a:chOff x="6051240" y="1523880"/>
              <a:chExt cx="492120" cy="457200"/>
            </a:xfrm>
          </p:grpSpPr>
          <p:sp>
            <p:nvSpPr>
              <p:cNvPr id="820" name=""/>
              <p:cNvSpPr/>
              <p:nvPr/>
            </p:nvSpPr>
            <p:spPr>
              <a:xfrm>
                <a:off x="6051240" y="162540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46440" y="152388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6684480" y="914400"/>
              <a:ext cx="7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56960" y="1828800"/>
              <a:ext cx="59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PO-A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910480" y="1447920"/>
              <a:ext cx="140400" cy="228600"/>
            </a:xfrm>
            <a:custGeom>
              <a:avLst/>
              <a:gdLst/>
              <a:ahLst/>
              <a:rect l="l" t="t" r="r" b="b"/>
              <a:pathLst>
                <a:path w="198" h="72">
                  <a:moveTo>
                    <a:pt x="0" y="0"/>
                  </a:moveTo>
                  <a:lnTo>
                    <a:pt x="198" y="72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974920" y="1981080"/>
              <a:ext cx="199440" cy="393840"/>
            </a:xfrm>
            <a:custGeom>
              <a:avLst/>
              <a:gdLst/>
              <a:ahLst/>
              <a:rect l="l" t="t" r="r" b="b"/>
              <a:pathLst>
                <a:path w="136" h="248">
                  <a:moveTo>
                    <a:pt x="136" y="0"/>
                  </a:moveTo>
                  <a:lnTo>
                    <a:pt x="4" y="133"/>
                  </a:lnTo>
                  <a:lnTo>
                    <a:pt x="0" y="208"/>
                  </a:lnTo>
                  <a:lnTo>
                    <a:pt x="64" y="2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971400" y="1676520"/>
              <a:ext cx="45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I-A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628960" y="3809520"/>
            <a:ext cx="2245680" cy="2059560"/>
            <a:chOff x="5628960" y="3809520"/>
            <a:chExt cx="2245680" cy="2059560"/>
          </a:xfrm>
        </p:grpSpPr>
        <p:sp>
          <p:nvSpPr>
            <p:cNvPr id="828" name=""/>
            <p:cNvSpPr/>
            <p:nvPr/>
          </p:nvSpPr>
          <p:spPr>
            <a:xfrm>
              <a:off x="5910480" y="5029200"/>
              <a:ext cx="317880" cy="301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49640" y="510552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6527520" y="5029200"/>
              <a:ext cx="453600" cy="683280"/>
              <a:chOff x="6527520" y="5029200"/>
              <a:chExt cx="453600" cy="683280"/>
            </a:xfrm>
          </p:grpSpPr>
          <p:sp>
            <p:nvSpPr>
              <p:cNvPr id="831" name=""/>
              <p:cNvSpPr/>
              <p:nvPr/>
            </p:nvSpPr>
            <p:spPr>
              <a:xfrm>
                <a:off x="6527520" y="5375160"/>
                <a:ext cx="45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as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543360" y="5029200"/>
                <a:ext cx="316440" cy="30168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5981040" y="5167440"/>
              <a:ext cx="140400" cy="137880"/>
            </a:xfrm>
            <a:prstGeom prst="verticalScrol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7088760" y="5029200"/>
              <a:ext cx="468720" cy="683280"/>
              <a:chOff x="7088760" y="5029200"/>
              <a:chExt cx="468720" cy="683280"/>
            </a:xfrm>
          </p:grpSpPr>
          <p:sp>
            <p:nvSpPr>
              <p:cNvPr id="835" name=""/>
              <p:cNvSpPr/>
              <p:nvPr/>
            </p:nvSpPr>
            <p:spPr>
              <a:xfrm>
                <a:off x="7111440" y="5029200"/>
                <a:ext cx="317880" cy="30168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88760" y="5375160"/>
                <a:ext cx="46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h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W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182000" y="5099040"/>
                <a:ext cx="210960" cy="206280"/>
              </a:xfrm>
              <a:prstGeom prst="irregularSeal1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8" name=""/>
            <p:cNvSpPr/>
            <p:nvPr/>
          </p:nvSpPr>
          <p:spPr>
            <a:xfrm>
              <a:off x="5629320" y="4495680"/>
              <a:ext cx="421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29320" y="4495680"/>
              <a:ext cx="843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46800" y="4572000"/>
              <a:ext cx="17280" cy="428760"/>
            </a:xfrm>
            <a:custGeom>
              <a:avLst/>
              <a:gdLst/>
              <a:ahLst/>
              <a:rect l="l" t="t" r="r" b="b"/>
              <a:pathLst>
                <a:path w="12" h="270">
                  <a:moveTo>
                    <a:pt x="12" y="0"/>
                  </a:moveTo>
                  <a:lnTo>
                    <a:pt x="0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28400" y="4600440"/>
              <a:ext cx="43560" cy="409680"/>
            </a:xfrm>
            <a:custGeom>
              <a:avLst/>
              <a:gdLst/>
              <a:ahLst/>
              <a:rect l="l" t="t" r="r" b="b"/>
              <a:pathLst>
                <a:path w="30" h="258">
                  <a:moveTo>
                    <a:pt x="30" y="0"/>
                  </a:moveTo>
                  <a:lnTo>
                    <a:pt x="0" y="2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121440" y="4600440"/>
              <a:ext cx="219600" cy="428760"/>
            </a:xfrm>
            <a:custGeom>
              <a:avLst/>
              <a:gdLst/>
              <a:ahLst/>
              <a:rect l="l" t="t" r="r" b="b"/>
              <a:pathLst>
                <a:path w="150" h="270">
                  <a:moveTo>
                    <a:pt x="150" y="0"/>
                  </a:moveTo>
                  <a:lnTo>
                    <a:pt x="0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5770080" y="3886200"/>
              <a:ext cx="491400" cy="457200"/>
              <a:chOff x="5770080" y="3886200"/>
              <a:chExt cx="491400" cy="457200"/>
            </a:xfrm>
          </p:grpSpPr>
          <p:sp>
            <p:nvSpPr>
              <p:cNvPr id="844" name=""/>
              <p:cNvSpPr/>
              <p:nvPr/>
            </p:nvSpPr>
            <p:spPr>
              <a:xfrm>
                <a:off x="5770080" y="3987720"/>
                <a:ext cx="34416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064920" y="3886200"/>
                <a:ext cx="19656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46" name=""/>
            <p:cNvCxnSpPr>
              <a:stCxn id="839" idx="0"/>
              <a:endCxn id="844" idx="3"/>
            </p:cNvCxnSpPr>
            <p:nvPr/>
          </p:nvCxnSpPr>
          <p:spPr>
            <a:xfrm flipV="1">
              <a:off x="5628960" y="4290120"/>
              <a:ext cx="191160" cy="20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grpSp>
          <p:nvGrpSpPr>
            <p:cNvPr id="847" name=""/>
            <p:cNvGrpSpPr/>
            <p:nvPr/>
          </p:nvGrpSpPr>
          <p:grpSpPr>
            <a:xfrm>
              <a:off x="6192000" y="4114800"/>
              <a:ext cx="491400" cy="457200"/>
              <a:chOff x="6192000" y="4114800"/>
              <a:chExt cx="491400" cy="457200"/>
            </a:xfrm>
          </p:grpSpPr>
          <p:sp>
            <p:nvSpPr>
              <p:cNvPr id="848" name=""/>
              <p:cNvSpPr/>
              <p:nvPr/>
            </p:nvSpPr>
            <p:spPr>
              <a:xfrm>
                <a:off x="6192000" y="4216320"/>
                <a:ext cx="34416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486840" y="4114800"/>
                <a:ext cx="19656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613920" y="4114800"/>
              <a:ext cx="491400" cy="457200"/>
              <a:chOff x="6613920" y="4114800"/>
              <a:chExt cx="491400" cy="457200"/>
            </a:xfrm>
          </p:grpSpPr>
          <p:sp>
            <p:nvSpPr>
              <p:cNvPr id="851" name=""/>
              <p:cNvSpPr/>
              <p:nvPr/>
            </p:nvSpPr>
            <p:spPr>
              <a:xfrm>
                <a:off x="6613920" y="4216320"/>
                <a:ext cx="34416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908760" y="4114800"/>
                <a:ext cx="19656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7106040" y="4114800"/>
              <a:ext cx="492120" cy="457200"/>
              <a:chOff x="7106040" y="4114800"/>
              <a:chExt cx="492120" cy="457200"/>
            </a:xfrm>
          </p:grpSpPr>
          <p:sp>
            <p:nvSpPr>
              <p:cNvPr id="854" name=""/>
              <p:cNvSpPr/>
              <p:nvPr/>
            </p:nvSpPr>
            <p:spPr>
              <a:xfrm>
                <a:off x="7106040" y="421632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401240" y="411480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 flipV="1">
              <a:off x="6402960" y="3809520"/>
              <a:ext cx="1404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6683760" y="3809520"/>
              <a:ext cx="70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6824880" y="3809520"/>
              <a:ext cx="421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745240" y="54100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mi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uctur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293240" y="4495680"/>
              <a:ext cx="58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A-Ag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6684840" y="3048120"/>
            <a:ext cx="1076760" cy="534960"/>
            <a:chOff x="6684840" y="3048120"/>
            <a:chExt cx="1076760" cy="534960"/>
          </a:xfrm>
        </p:grpSpPr>
        <p:grpSp>
          <p:nvGrpSpPr>
            <p:cNvPr id="862" name=""/>
            <p:cNvGrpSpPr/>
            <p:nvPr/>
          </p:nvGrpSpPr>
          <p:grpSpPr>
            <a:xfrm>
              <a:off x="6755040" y="3124080"/>
              <a:ext cx="492120" cy="457200"/>
              <a:chOff x="6755040" y="3124080"/>
              <a:chExt cx="492120" cy="457200"/>
            </a:xfrm>
          </p:grpSpPr>
          <p:sp>
            <p:nvSpPr>
              <p:cNvPr id="863" name=""/>
              <p:cNvSpPr/>
              <p:nvPr/>
            </p:nvSpPr>
            <p:spPr>
              <a:xfrm>
                <a:off x="6755040" y="322560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050240" y="312408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6684840" y="3048120"/>
              <a:ext cx="492120" cy="457200"/>
              <a:chOff x="6684840" y="3048120"/>
              <a:chExt cx="492120" cy="457200"/>
            </a:xfrm>
          </p:grpSpPr>
          <p:sp>
            <p:nvSpPr>
              <p:cNvPr id="866" name=""/>
              <p:cNvSpPr/>
              <p:nvPr/>
            </p:nvSpPr>
            <p:spPr>
              <a:xfrm>
                <a:off x="6684840" y="314964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980040" y="304812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7082640" y="3124080"/>
              <a:ext cx="67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arch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trieve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tore Ag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6896160" y="2362320"/>
            <a:ext cx="902880" cy="565560"/>
            <a:chOff x="6896160" y="2362320"/>
            <a:chExt cx="902880" cy="565560"/>
          </a:xfrm>
        </p:grpSpPr>
        <p:grpSp>
          <p:nvGrpSpPr>
            <p:cNvPr id="870" name=""/>
            <p:cNvGrpSpPr/>
            <p:nvPr/>
          </p:nvGrpSpPr>
          <p:grpSpPr>
            <a:xfrm>
              <a:off x="6896160" y="2362320"/>
              <a:ext cx="492120" cy="457200"/>
              <a:chOff x="6896160" y="2362320"/>
              <a:chExt cx="492120" cy="457200"/>
            </a:xfrm>
          </p:grpSpPr>
          <p:sp>
            <p:nvSpPr>
              <p:cNvPr id="871" name=""/>
              <p:cNvSpPr/>
              <p:nvPr/>
            </p:nvSpPr>
            <p:spPr>
              <a:xfrm>
                <a:off x="6896160" y="246384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191360" y="236232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7080480" y="2590560"/>
              <a:ext cx="71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ordin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5255640" y="2742840"/>
            <a:ext cx="865080" cy="457560"/>
            <a:chOff x="5255640" y="2742840"/>
            <a:chExt cx="865080" cy="457560"/>
          </a:xfrm>
        </p:grpSpPr>
        <p:grpSp>
          <p:nvGrpSpPr>
            <p:cNvPr id="875" name=""/>
            <p:cNvGrpSpPr/>
            <p:nvPr/>
          </p:nvGrpSpPr>
          <p:grpSpPr>
            <a:xfrm>
              <a:off x="5628600" y="2743200"/>
              <a:ext cx="492120" cy="457200"/>
              <a:chOff x="5628600" y="2743200"/>
              <a:chExt cx="492120" cy="457200"/>
            </a:xfrm>
          </p:grpSpPr>
          <p:sp>
            <p:nvSpPr>
              <p:cNvPr id="876" name=""/>
              <p:cNvSpPr/>
              <p:nvPr/>
            </p:nvSpPr>
            <p:spPr>
              <a:xfrm>
                <a:off x="5628600" y="284472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923800" y="274320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5255640" y="2742840"/>
              <a:ext cx="5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pr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g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979960" y="3048120"/>
            <a:ext cx="833760" cy="763560"/>
            <a:chOff x="5979960" y="3048120"/>
            <a:chExt cx="833760" cy="763560"/>
          </a:xfrm>
        </p:grpSpPr>
        <p:grpSp>
          <p:nvGrpSpPr>
            <p:cNvPr id="880" name=""/>
            <p:cNvGrpSpPr/>
            <p:nvPr/>
          </p:nvGrpSpPr>
          <p:grpSpPr>
            <a:xfrm>
              <a:off x="6049800" y="3124080"/>
              <a:ext cx="492480" cy="457200"/>
              <a:chOff x="6049800" y="3124080"/>
              <a:chExt cx="492480" cy="457200"/>
            </a:xfrm>
          </p:grpSpPr>
          <p:sp>
            <p:nvSpPr>
              <p:cNvPr id="881" name=""/>
              <p:cNvSpPr/>
              <p:nvPr/>
            </p:nvSpPr>
            <p:spPr>
              <a:xfrm>
                <a:off x="6049800" y="3225600"/>
                <a:ext cx="34488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345360" y="312408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5979960" y="3048120"/>
              <a:ext cx="492120" cy="457200"/>
              <a:chOff x="5979960" y="3048120"/>
              <a:chExt cx="492120" cy="457200"/>
            </a:xfrm>
          </p:grpSpPr>
          <p:sp>
            <p:nvSpPr>
              <p:cNvPr id="884" name=""/>
              <p:cNvSpPr/>
              <p:nvPr/>
            </p:nvSpPr>
            <p:spPr>
              <a:xfrm>
                <a:off x="5979960" y="314964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275160" y="304812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6166800" y="3352680"/>
              <a:ext cx="64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bine/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ransl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g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5396040" y="2361960"/>
            <a:ext cx="866160" cy="457560"/>
            <a:chOff x="5396040" y="2361960"/>
            <a:chExt cx="866160" cy="457560"/>
          </a:xfrm>
        </p:grpSpPr>
        <p:grpSp>
          <p:nvGrpSpPr>
            <p:cNvPr id="888" name=""/>
            <p:cNvGrpSpPr/>
            <p:nvPr/>
          </p:nvGrpSpPr>
          <p:grpSpPr>
            <a:xfrm>
              <a:off x="5770080" y="2362320"/>
              <a:ext cx="492120" cy="457200"/>
              <a:chOff x="5770080" y="2362320"/>
              <a:chExt cx="492120" cy="457200"/>
            </a:xfrm>
          </p:grpSpPr>
          <p:sp>
            <p:nvSpPr>
              <p:cNvPr id="889" name=""/>
              <p:cNvSpPr/>
              <p:nvPr/>
            </p:nvSpPr>
            <p:spPr>
              <a:xfrm>
                <a:off x="5770080" y="246384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065280" y="236232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5396040" y="2361960"/>
              <a:ext cx="6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fere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g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6191280" y="2209680"/>
            <a:ext cx="751680" cy="641880"/>
            <a:chOff x="6191280" y="2209680"/>
            <a:chExt cx="751680" cy="641880"/>
          </a:xfrm>
        </p:grpSpPr>
        <p:grpSp>
          <p:nvGrpSpPr>
            <p:cNvPr id="893" name=""/>
            <p:cNvGrpSpPr/>
            <p:nvPr/>
          </p:nvGrpSpPr>
          <p:grpSpPr>
            <a:xfrm>
              <a:off x="6191280" y="2209680"/>
              <a:ext cx="492120" cy="457200"/>
              <a:chOff x="6191280" y="2209680"/>
              <a:chExt cx="492120" cy="457200"/>
            </a:xfrm>
          </p:grpSpPr>
          <p:sp>
            <p:nvSpPr>
              <p:cNvPr id="894" name=""/>
              <p:cNvSpPr/>
              <p:nvPr/>
            </p:nvSpPr>
            <p:spPr>
              <a:xfrm>
                <a:off x="6191280" y="2311200"/>
                <a:ext cx="344520" cy="355680"/>
              </a:xfrm>
              <a:prstGeom prst="smileyFace">
                <a:avLst>
                  <a:gd name="adj" fmla="val 9282"/>
                </a:avLst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486480" y="2209680"/>
                <a:ext cx="196920" cy="15228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6236280" y="251424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. Activ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g’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744640" y="2971800"/>
            <a:ext cx="2602080" cy="380880"/>
          </a:xfrm>
          <a:custGeom>
            <a:avLst/>
            <a:gdLst>
              <a:gd name="textAreaLeft" fmla="*/ 406440 w 2602080"/>
              <a:gd name="textAreaRight" fmla="*/ 2277000 w 2602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DE project: KM &amp; Information ser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architecture of Knowledge Workers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es and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5276880" y="1219320"/>
            <a:ext cx="2673360" cy="3581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18000" y="2057400"/>
            <a:ext cx="2392560" cy="1981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c0c0"/>
                </a:solidFill>
                <a:latin typeface="Arial"/>
              </a:rPr>
              <a:t>K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I&amp;D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462040" y="1295280"/>
            <a:ext cx="2673360" cy="3581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c0c0"/>
                </a:solidFill>
                <a:latin typeface="Arial"/>
              </a:rPr>
              <a:t>K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56680" y="6400800"/>
            <a:ext cx="6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wwt 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26000" y="6408720"/>
            <a:ext cx="124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-Agent modeled V0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74720" y="2057400"/>
            <a:ext cx="8020080" cy="2057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121440" y="6095880"/>
            <a:ext cx="280800" cy="2286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6121440" y="6324480"/>
            <a:ext cx="401400" cy="293760"/>
            <a:chOff x="6121440" y="6324480"/>
            <a:chExt cx="401400" cy="293760"/>
          </a:xfrm>
        </p:grpSpPr>
        <p:sp>
          <p:nvSpPr>
            <p:cNvPr id="906" name=""/>
            <p:cNvSpPr/>
            <p:nvPr/>
          </p:nvSpPr>
          <p:spPr>
            <a:xfrm>
              <a:off x="6121440" y="6389640"/>
              <a:ext cx="281160" cy="22860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362280" y="6324480"/>
              <a:ext cx="160560" cy="9792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6493320" y="6103800"/>
            <a:ext cx="99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mb agent (to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459840" y="6408720"/>
            <a:ext cx="193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wledgeable Agent (Intelligent To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97800" y="5105520"/>
            <a:ext cx="1665720" cy="804240"/>
            <a:chOff x="397800" y="5105520"/>
            <a:chExt cx="1665720" cy="804240"/>
          </a:xfrm>
        </p:grpSpPr>
        <p:sp>
          <p:nvSpPr>
            <p:cNvPr id="911" name=""/>
            <p:cNvSpPr/>
            <p:nvPr/>
          </p:nvSpPr>
          <p:spPr>
            <a:xfrm>
              <a:off x="397800" y="545076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mi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uctur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62680" y="5105520"/>
              <a:ext cx="317880" cy="30060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969120" y="5450760"/>
              <a:ext cx="45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53160" y="5174280"/>
              <a:ext cx="369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984960" y="5105520"/>
              <a:ext cx="316440" cy="30060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617840" y="5105520"/>
              <a:ext cx="317880" cy="30060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594800" y="5450760"/>
              <a:ext cx="46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W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33240" y="5243400"/>
              <a:ext cx="140400" cy="137880"/>
            </a:xfrm>
            <a:prstGeom prst="verticalScrol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88400" y="5174280"/>
              <a:ext cx="210960" cy="207000"/>
            </a:xfrm>
            <a:prstGeom prst="irregularSeal1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985680" y="533520"/>
            <a:ext cx="491760" cy="761040"/>
            <a:chOff x="985680" y="533520"/>
            <a:chExt cx="491760" cy="761040"/>
          </a:xfrm>
        </p:grpSpPr>
        <p:grpSp>
          <p:nvGrpSpPr>
            <p:cNvPr id="921" name=""/>
            <p:cNvGrpSpPr/>
            <p:nvPr/>
          </p:nvGrpSpPr>
          <p:grpSpPr>
            <a:xfrm>
              <a:off x="985680" y="685800"/>
              <a:ext cx="351000" cy="608760"/>
              <a:chOff x="985680" y="685800"/>
              <a:chExt cx="351000" cy="608760"/>
            </a:xfrm>
          </p:grpSpPr>
          <p:sp>
            <p:nvSpPr>
              <p:cNvPr id="922" name=""/>
              <p:cNvSpPr/>
              <p:nvPr/>
            </p:nvSpPr>
            <p:spPr>
              <a:xfrm>
                <a:off x="985680" y="685800"/>
                <a:ext cx="351000" cy="30420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125720" y="99000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1055880" y="1218600"/>
                <a:ext cx="6984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125720" y="1218600"/>
                <a:ext cx="702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985680" y="1066320"/>
                <a:ext cx="28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1266840" y="533520"/>
              <a:ext cx="21060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81160" y="1143000"/>
            <a:ext cx="422280" cy="38088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9212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92120" y="4419720"/>
            <a:ext cx="211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92120" y="4419720"/>
            <a:ext cx="633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633240" y="914040"/>
            <a:ext cx="3524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336680" y="990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82640" y="1114560"/>
            <a:ext cx="158760" cy="2028600"/>
          </a:xfrm>
          <a:custGeom>
            <a:avLst/>
            <a:gdLst/>
            <a:ahLst/>
            <a:rect l="l" t="t" r="r" b="b"/>
            <a:pathLst>
              <a:path w="108" h="1278">
                <a:moveTo>
                  <a:pt x="18" y="0"/>
                </a:moveTo>
                <a:lnTo>
                  <a:pt x="0" y="1200"/>
                </a:lnTo>
                <a:lnTo>
                  <a:pt x="108" y="127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63400" y="3429000"/>
            <a:ext cx="281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084320" y="22176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act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5240" y="2446200"/>
            <a:ext cx="62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e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2280" y="3429000"/>
            <a:ext cx="5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e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266840" y="3962520"/>
            <a:ext cx="42228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195560" y="3962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774720" y="3962520"/>
            <a:ext cx="35064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298520" y="412272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triev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e in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30760" y="53751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i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22360" y="304920"/>
            <a:ext cx="0" cy="5790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720" y="304920"/>
            <a:ext cx="700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ical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 Retriev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83080" y="3128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27920" y="5875200"/>
            <a:ext cx="82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335680" y="3886200"/>
            <a:ext cx="71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bservor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514400" y="449568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essor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3798720" y="1523880"/>
            <a:ext cx="493920" cy="457200"/>
            <a:chOff x="3798720" y="1523880"/>
            <a:chExt cx="493920" cy="457200"/>
          </a:xfrm>
        </p:grpSpPr>
        <p:sp>
          <p:nvSpPr>
            <p:cNvPr id="951" name=""/>
            <p:cNvSpPr/>
            <p:nvPr/>
          </p:nvSpPr>
          <p:spPr>
            <a:xfrm>
              <a:off x="3798720" y="1625400"/>
              <a:ext cx="345600" cy="3556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95000" y="1523880"/>
              <a:ext cx="19764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376440" y="2438280"/>
            <a:ext cx="1477800" cy="1371600"/>
            <a:chOff x="3376440" y="2438280"/>
            <a:chExt cx="1477800" cy="1371600"/>
          </a:xfrm>
        </p:grpSpPr>
        <p:sp>
          <p:nvSpPr>
            <p:cNvPr id="954" name=""/>
            <p:cNvSpPr/>
            <p:nvPr/>
          </p:nvSpPr>
          <p:spPr>
            <a:xfrm>
              <a:off x="3376440" y="2871720"/>
              <a:ext cx="882360" cy="938160"/>
            </a:xfrm>
            <a:prstGeom prst="smileyFace">
              <a:avLst>
                <a:gd name="adj" fmla="val 380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&amp;D c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4232520" y="2438280"/>
              <a:ext cx="621720" cy="609480"/>
              <a:chOff x="4232520" y="2438280"/>
              <a:chExt cx="621720" cy="609480"/>
            </a:xfrm>
          </p:grpSpPr>
          <p:sp>
            <p:nvSpPr>
              <p:cNvPr id="956" name=""/>
              <p:cNvSpPr/>
              <p:nvPr/>
            </p:nvSpPr>
            <p:spPr>
              <a:xfrm>
                <a:off x="4528800" y="2542320"/>
                <a:ext cx="223920" cy="104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528800" y="2676600"/>
                <a:ext cx="223920" cy="892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512960" y="2795760"/>
                <a:ext cx="225360" cy="8784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344480" y="2616840"/>
                <a:ext cx="62640" cy="298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261320" y="2706480"/>
                <a:ext cx="64440" cy="295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335120" y="2765880"/>
                <a:ext cx="64080" cy="298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91560" y="2854080"/>
                <a:ext cx="63000" cy="298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63" name=""/>
              <p:cNvCxnSpPr>
                <a:stCxn id="960" idx="5"/>
                <a:endCxn id="961" idx="1"/>
              </p:cNvCxnSpPr>
              <p:nvPr/>
            </p:nvCxnSpPr>
            <p:spPr>
              <a:xfrm>
                <a:off x="4316400" y="2730600"/>
                <a:ext cx="28440" cy="3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4" name=""/>
              <p:cNvCxnSpPr>
                <a:stCxn id="962" idx="0"/>
                <a:endCxn id="961" idx="4"/>
              </p:cNvCxnSpPr>
              <p:nvPr/>
            </p:nvCxnSpPr>
            <p:spPr>
              <a:xfrm flipV="1">
                <a:off x="4323240" y="2795040"/>
                <a:ext cx="45360" cy="58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5" name=""/>
              <p:cNvCxnSpPr>
                <a:stCxn id="956" idx="2"/>
                <a:endCxn id="959" idx="6"/>
              </p:cNvCxnSpPr>
              <p:nvPr/>
            </p:nvCxnSpPr>
            <p:spPr>
              <a:xfrm flipH="1">
                <a:off x="4406760" y="2593440"/>
                <a:ext cx="122040" cy="38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6" name=""/>
              <p:cNvCxnSpPr>
                <a:stCxn id="956" idx="3"/>
                <a:endCxn id="961" idx="7"/>
              </p:cNvCxnSpPr>
              <p:nvPr/>
            </p:nvCxnSpPr>
            <p:spPr>
              <a:xfrm flipH="1">
                <a:off x="4390200" y="2630520"/>
                <a:ext cx="17208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7" name=""/>
              <p:cNvCxnSpPr>
                <a:stCxn id="957" idx="2"/>
                <a:endCxn id="961" idx="6"/>
              </p:cNvCxnSpPr>
              <p:nvPr/>
            </p:nvCxnSpPr>
            <p:spPr>
              <a:xfrm flipH="1">
                <a:off x="4399560" y="2720880"/>
                <a:ext cx="129240" cy="60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8" name=""/>
              <p:cNvCxnSpPr>
                <a:stCxn id="958" idx="2"/>
                <a:endCxn id="961" idx="5"/>
              </p:cNvCxnSpPr>
              <p:nvPr/>
            </p:nvCxnSpPr>
            <p:spPr>
              <a:xfrm flipH="1" flipV="1">
                <a:off x="4390200" y="2790000"/>
                <a:ext cx="123120" cy="5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69" name=""/>
              <p:cNvSpPr/>
              <p:nvPr/>
            </p:nvSpPr>
            <p:spPr>
              <a:xfrm>
                <a:off x="4393080" y="2781000"/>
                <a:ext cx="4032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I’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232520" y="2438280"/>
                <a:ext cx="621720" cy="609480"/>
              </a:xfrm>
              <a:prstGeom prst="cloudCallout">
                <a:avLst>
                  <a:gd name="adj1" fmla="val -64949"/>
                  <a:gd name="adj2" fmla="val 3099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1" name=""/>
          <p:cNvSpPr/>
          <p:nvPr/>
        </p:nvSpPr>
        <p:spPr>
          <a:xfrm>
            <a:off x="3095640" y="5029200"/>
            <a:ext cx="318960" cy="30168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936240" y="510552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3713400" y="5029200"/>
            <a:ext cx="453600" cy="683280"/>
            <a:chOff x="3713400" y="5029200"/>
            <a:chExt cx="453600" cy="683280"/>
          </a:xfrm>
        </p:grpSpPr>
        <p:sp>
          <p:nvSpPr>
            <p:cNvPr id="974" name=""/>
            <p:cNvSpPr/>
            <p:nvPr/>
          </p:nvSpPr>
          <p:spPr>
            <a:xfrm>
              <a:off x="3713400" y="5375160"/>
              <a:ext cx="45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728880" y="5029200"/>
              <a:ext cx="316800" cy="301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3165480" y="5167440"/>
            <a:ext cx="141120" cy="13788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4275000" y="5029200"/>
            <a:ext cx="468720" cy="683280"/>
            <a:chOff x="4275000" y="5029200"/>
            <a:chExt cx="468720" cy="683280"/>
          </a:xfrm>
        </p:grpSpPr>
        <p:sp>
          <p:nvSpPr>
            <p:cNvPr id="978" name=""/>
            <p:cNvSpPr/>
            <p:nvPr/>
          </p:nvSpPr>
          <p:spPr>
            <a:xfrm>
              <a:off x="4298040" y="5029200"/>
              <a:ext cx="317520" cy="301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275000" y="5375160"/>
              <a:ext cx="46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W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368600" y="5099040"/>
              <a:ext cx="210600" cy="206280"/>
            </a:xfrm>
            <a:prstGeom prst="irregularSeal1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3517920" y="457200"/>
            <a:ext cx="491760" cy="762120"/>
            <a:chOff x="3517920" y="457200"/>
            <a:chExt cx="491760" cy="762120"/>
          </a:xfrm>
        </p:grpSpPr>
        <p:grpSp>
          <p:nvGrpSpPr>
            <p:cNvPr id="982" name=""/>
            <p:cNvGrpSpPr/>
            <p:nvPr/>
          </p:nvGrpSpPr>
          <p:grpSpPr>
            <a:xfrm>
              <a:off x="3517920" y="609840"/>
              <a:ext cx="351000" cy="609480"/>
              <a:chOff x="3517920" y="609840"/>
              <a:chExt cx="351000" cy="609480"/>
            </a:xfrm>
          </p:grpSpPr>
          <p:sp>
            <p:nvSpPr>
              <p:cNvPr id="983" name=""/>
              <p:cNvSpPr/>
              <p:nvPr/>
            </p:nvSpPr>
            <p:spPr>
              <a:xfrm>
                <a:off x="3517920" y="609840"/>
                <a:ext cx="351000" cy="30456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657960" y="9144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3588120" y="1143000"/>
                <a:ext cx="698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657960" y="1143000"/>
                <a:ext cx="702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517920" y="990720"/>
                <a:ext cx="28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>
              <a:off x="3799080" y="457200"/>
              <a:ext cx="210600" cy="15264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2603520" y="1143000"/>
            <a:ext cx="422280" cy="38088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8144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814480" y="4495680"/>
            <a:ext cx="42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814480" y="4495680"/>
            <a:ext cx="84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025800" y="837720"/>
            <a:ext cx="4921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010040" y="1981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306600" y="1143000"/>
            <a:ext cx="69840" cy="457200"/>
          </a:xfrm>
          <a:custGeom>
            <a:avLst/>
            <a:gdLst/>
            <a:ahLst/>
            <a:rect l="l" t="t" r="r" b="b"/>
            <a:pathLst>
              <a:path w="120" h="768">
                <a:moveTo>
                  <a:pt x="0" y="0"/>
                </a:moveTo>
                <a:lnTo>
                  <a:pt x="120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432320" y="4572000"/>
            <a:ext cx="17280" cy="428760"/>
          </a:xfrm>
          <a:custGeom>
            <a:avLst/>
            <a:gdLst/>
            <a:ahLst/>
            <a:rect l="l" t="t" r="r" b="b"/>
            <a:pathLst>
              <a:path w="12" h="270">
                <a:moveTo>
                  <a:pt x="12" y="0"/>
                </a:moveTo>
                <a:lnTo>
                  <a:pt x="0" y="27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913200" y="4600440"/>
            <a:ext cx="44280" cy="409680"/>
          </a:xfrm>
          <a:custGeom>
            <a:avLst/>
            <a:gdLst/>
            <a:ahLst/>
            <a:rect l="l" t="t" r="r" b="b"/>
            <a:pathLst>
              <a:path w="30" h="258">
                <a:moveTo>
                  <a:pt x="30" y="0"/>
                </a:moveTo>
                <a:lnTo>
                  <a:pt x="0" y="25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06600" y="4600440"/>
            <a:ext cx="220680" cy="428760"/>
          </a:xfrm>
          <a:custGeom>
            <a:avLst/>
            <a:gdLst/>
            <a:ahLst/>
            <a:rect l="l" t="t" r="r" b="b"/>
            <a:pathLst>
              <a:path w="150" h="270">
                <a:moveTo>
                  <a:pt x="150" y="0"/>
                </a:moveTo>
                <a:lnTo>
                  <a:pt x="0" y="27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3236760" y="1523880"/>
            <a:ext cx="492120" cy="457200"/>
            <a:chOff x="3236760" y="1523880"/>
            <a:chExt cx="492120" cy="457200"/>
          </a:xfrm>
        </p:grpSpPr>
        <p:sp>
          <p:nvSpPr>
            <p:cNvPr id="1000" name=""/>
            <p:cNvSpPr/>
            <p:nvPr/>
          </p:nvSpPr>
          <p:spPr>
            <a:xfrm>
              <a:off x="3236760" y="1625400"/>
              <a:ext cx="344520" cy="3556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531960" y="152388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3870360" y="914400"/>
            <a:ext cx="698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722680" y="1828800"/>
            <a:ext cx="63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bserv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095640" y="1447920"/>
            <a:ext cx="141120" cy="228600"/>
          </a:xfrm>
          <a:custGeom>
            <a:avLst/>
            <a:gdLst/>
            <a:ahLst/>
            <a:rect l="l" t="t" r="r" b="b"/>
            <a:pathLst>
              <a:path w="198" h="72">
                <a:moveTo>
                  <a:pt x="0" y="0"/>
                </a:moveTo>
                <a:lnTo>
                  <a:pt x="198" y="72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2955960" y="3886200"/>
            <a:ext cx="492120" cy="457200"/>
            <a:chOff x="2955960" y="3886200"/>
            <a:chExt cx="492120" cy="457200"/>
          </a:xfrm>
        </p:grpSpPr>
        <p:sp>
          <p:nvSpPr>
            <p:cNvPr id="1006" name=""/>
            <p:cNvSpPr/>
            <p:nvPr/>
          </p:nvSpPr>
          <p:spPr>
            <a:xfrm>
              <a:off x="2955960" y="3987720"/>
              <a:ext cx="344520" cy="3556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251160" y="388620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8" name=""/>
          <p:cNvCxnSpPr>
            <a:stCxn id="992" idx="0"/>
            <a:endCxn id="1006" idx="3"/>
          </p:cNvCxnSpPr>
          <p:nvPr/>
        </p:nvCxnSpPr>
        <p:spPr>
          <a:xfrm flipV="1">
            <a:off x="2814480" y="4290120"/>
            <a:ext cx="19296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1009" name=""/>
          <p:cNvSpPr/>
          <p:nvPr/>
        </p:nvSpPr>
        <p:spPr>
          <a:xfrm>
            <a:off x="3201840" y="1981080"/>
            <a:ext cx="174600" cy="1371600"/>
          </a:xfrm>
          <a:custGeom>
            <a:avLst/>
            <a:gdLst/>
            <a:ahLst/>
            <a:rect l="l" t="t" r="r" b="b"/>
            <a:pathLst>
              <a:path w="120" h="864">
                <a:moveTo>
                  <a:pt x="120" y="0"/>
                </a:moveTo>
                <a:lnTo>
                  <a:pt x="0" y="240"/>
                </a:lnTo>
                <a:lnTo>
                  <a:pt x="0" y="690"/>
                </a:lnTo>
                <a:lnTo>
                  <a:pt x="120" y="86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130560" y="3352680"/>
            <a:ext cx="245880" cy="628920"/>
          </a:xfrm>
          <a:custGeom>
            <a:avLst/>
            <a:gdLst/>
            <a:ahLst/>
            <a:rect l="l" t="t" r="r" b="b"/>
            <a:pathLst>
              <a:path w="168" h="396">
                <a:moveTo>
                  <a:pt x="0" y="396"/>
                </a:moveTo>
                <a:lnTo>
                  <a:pt x="0" y="114"/>
                </a:lnTo>
                <a:lnTo>
                  <a:pt x="1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3376440" y="4114800"/>
            <a:ext cx="493920" cy="457200"/>
            <a:chOff x="3376440" y="4114800"/>
            <a:chExt cx="493920" cy="457200"/>
          </a:xfrm>
        </p:grpSpPr>
        <p:sp>
          <p:nvSpPr>
            <p:cNvPr id="1012" name=""/>
            <p:cNvSpPr/>
            <p:nvPr/>
          </p:nvSpPr>
          <p:spPr>
            <a:xfrm>
              <a:off x="3376440" y="4216320"/>
              <a:ext cx="345600" cy="3556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672720" y="4114800"/>
              <a:ext cx="19764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3798720" y="4114800"/>
            <a:ext cx="493920" cy="457200"/>
            <a:chOff x="3798720" y="4114800"/>
            <a:chExt cx="493920" cy="457200"/>
          </a:xfrm>
        </p:grpSpPr>
        <p:sp>
          <p:nvSpPr>
            <p:cNvPr id="1015" name=""/>
            <p:cNvSpPr/>
            <p:nvPr/>
          </p:nvSpPr>
          <p:spPr>
            <a:xfrm>
              <a:off x="3798720" y="4216320"/>
              <a:ext cx="345600" cy="3556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95000" y="4114800"/>
              <a:ext cx="19764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4292640" y="4114800"/>
            <a:ext cx="492120" cy="457200"/>
            <a:chOff x="4292640" y="4114800"/>
            <a:chExt cx="492120" cy="457200"/>
          </a:xfrm>
        </p:grpSpPr>
        <p:sp>
          <p:nvSpPr>
            <p:cNvPr id="1018" name=""/>
            <p:cNvSpPr/>
            <p:nvPr/>
          </p:nvSpPr>
          <p:spPr>
            <a:xfrm>
              <a:off x="4292640" y="4216320"/>
              <a:ext cx="344520" cy="35568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587840" y="411480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V="1">
            <a:off x="3587760" y="3809520"/>
            <a:ext cx="1411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 flipV="1">
            <a:off x="3870360" y="3809520"/>
            <a:ext cx="6984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>
            <a:off x="4009680" y="3809520"/>
            <a:ext cx="42228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227480" y="3200400"/>
            <a:ext cx="81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IB Info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gration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057920" y="1676520"/>
            <a:ext cx="6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rac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207040" y="380880"/>
            <a:ext cx="0" cy="5715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932960" y="61128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944840" y="2455920"/>
            <a:ext cx="86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grations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884000" y="4573440"/>
            <a:ext cx="70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51600" y="6019920"/>
            <a:ext cx="2392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414160" y="198000"/>
            <a:ext cx="95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St Refin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25720" y="227880"/>
            <a:ext cx="102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ND  Refin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369080" y="227880"/>
            <a:ext cx="81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r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6613560" y="1523880"/>
            <a:ext cx="493200" cy="457200"/>
            <a:chOff x="6613560" y="1523880"/>
            <a:chExt cx="493200" cy="457200"/>
          </a:xfrm>
        </p:grpSpPr>
        <p:sp>
          <p:nvSpPr>
            <p:cNvPr id="1034" name=""/>
            <p:cNvSpPr/>
            <p:nvPr/>
          </p:nvSpPr>
          <p:spPr>
            <a:xfrm>
              <a:off x="6613560" y="1625400"/>
              <a:ext cx="34560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909480" y="1523880"/>
              <a:ext cx="19728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910120" y="5029200"/>
            <a:ext cx="317520" cy="30168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50000" y="510552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6528240" y="5029200"/>
            <a:ext cx="453600" cy="683280"/>
            <a:chOff x="6528240" y="5029200"/>
            <a:chExt cx="453600" cy="683280"/>
          </a:xfrm>
        </p:grpSpPr>
        <p:sp>
          <p:nvSpPr>
            <p:cNvPr id="1039" name=""/>
            <p:cNvSpPr/>
            <p:nvPr/>
          </p:nvSpPr>
          <p:spPr>
            <a:xfrm>
              <a:off x="6528240" y="5375160"/>
              <a:ext cx="45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543720" y="5029200"/>
              <a:ext cx="316800" cy="301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979960" y="5167440"/>
            <a:ext cx="141480" cy="13788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7089480" y="5029200"/>
            <a:ext cx="468720" cy="683280"/>
            <a:chOff x="7089480" y="5029200"/>
            <a:chExt cx="468720" cy="683280"/>
          </a:xfrm>
        </p:grpSpPr>
        <p:sp>
          <p:nvSpPr>
            <p:cNvPr id="1043" name=""/>
            <p:cNvSpPr/>
            <p:nvPr/>
          </p:nvSpPr>
          <p:spPr>
            <a:xfrm>
              <a:off x="7112520" y="5029200"/>
              <a:ext cx="317520" cy="301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89480" y="5375160"/>
              <a:ext cx="46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W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183080" y="5099040"/>
              <a:ext cx="210600" cy="206280"/>
            </a:xfrm>
            <a:prstGeom prst="irregularSeal1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6332400" y="457200"/>
            <a:ext cx="491760" cy="762120"/>
            <a:chOff x="6332400" y="457200"/>
            <a:chExt cx="491760" cy="762120"/>
          </a:xfrm>
        </p:grpSpPr>
        <p:grpSp>
          <p:nvGrpSpPr>
            <p:cNvPr id="1047" name=""/>
            <p:cNvGrpSpPr/>
            <p:nvPr/>
          </p:nvGrpSpPr>
          <p:grpSpPr>
            <a:xfrm>
              <a:off x="6332400" y="609840"/>
              <a:ext cx="351000" cy="609480"/>
              <a:chOff x="6332400" y="609840"/>
              <a:chExt cx="351000" cy="609480"/>
            </a:xfrm>
          </p:grpSpPr>
          <p:sp>
            <p:nvSpPr>
              <p:cNvPr id="1048" name=""/>
              <p:cNvSpPr/>
              <p:nvPr/>
            </p:nvSpPr>
            <p:spPr>
              <a:xfrm>
                <a:off x="6332400" y="609840"/>
                <a:ext cx="351000" cy="304560"/>
              </a:xfrm>
              <a:prstGeom prst="smileyFace">
                <a:avLst>
                  <a:gd name="adj" fmla="val 928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472440" y="9144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6402600" y="1143000"/>
                <a:ext cx="698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472440" y="1143000"/>
                <a:ext cx="702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332400" y="990720"/>
                <a:ext cx="28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6613560" y="457200"/>
              <a:ext cx="210600" cy="15264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5418000" y="1143000"/>
            <a:ext cx="422280" cy="38088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62932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29320" y="4495680"/>
            <a:ext cx="42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629320" y="4495680"/>
            <a:ext cx="84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840280" y="837720"/>
            <a:ext cx="4921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24520" y="1981080"/>
            <a:ext cx="7164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121440" y="1143000"/>
            <a:ext cx="69840" cy="457200"/>
          </a:xfrm>
          <a:custGeom>
            <a:avLst/>
            <a:gdLst/>
            <a:ahLst/>
            <a:rect l="l" t="t" r="r" b="b"/>
            <a:pathLst>
              <a:path w="120" h="768">
                <a:moveTo>
                  <a:pt x="0" y="0"/>
                </a:moveTo>
                <a:lnTo>
                  <a:pt x="120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246800" y="4572000"/>
            <a:ext cx="17640" cy="428760"/>
          </a:xfrm>
          <a:custGeom>
            <a:avLst/>
            <a:gdLst/>
            <a:ahLst/>
            <a:rect l="l" t="t" r="r" b="b"/>
            <a:pathLst>
              <a:path w="12" h="270">
                <a:moveTo>
                  <a:pt x="12" y="0"/>
                </a:moveTo>
                <a:lnTo>
                  <a:pt x="0" y="27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27680" y="4600440"/>
            <a:ext cx="44640" cy="409680"/>
          </a:xfrm>
          <a:custGeom>
            <a:avLst/>
            <a:gdLst/>
            <a:ahLst/>
            <a:rect l="l" t="t" r="r" b="b"/>
            <a:pathLst>
              <a:path w="30" h="258">
                <a:moveTo>
                  <a:pt x="30" y="0"/>
                </a:moveTo>
                <a:lnTo>
                  <a:pt x="0" y="25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121440" y="4600440"/>
            <a:ext cx="220680" cy="428760"/>
          </a:xfrm>
          <a:custGeom>
            <a:avLst/>
            <a:gdLst/>
            <a:ahLst/>
            <a:rect l="l" t="t" r="r" b="b"/>
            <a:pathLst>
              <a:path w="150" h="270">
                <a:moveTo>
                  <a:pt x="150" y="0"/>
                </a:moveTo>
                <a:lnTo>
                  <a:pt x="0" y="27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6051600" y="1523880"/>
            <a:ext cx="492120" cy="457200"/>
            <a:chOff x="6051600" y="1523880"/>
            <a:chExt cx="492120" cy="457200"/>
          </a:xfrm>
        </p:grpSpPr>
        <p:sp>
          <p:nvSpPr>
            <p:cNvPr id="1065" name=""/>
            <p:cNvSpPr/>
            <p:nvPr/>
          </p:nvSpPr>
          <p:spPr>
            <a:xfrm>
              <a:off x="6051600" y="1625400"/>
              <a:ext cx="34452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46800" y="152388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6684840" y="914400"/>
            <a:ext cx="698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557320" y="1828800"/>
            <a:ext cx="59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PO-A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910120" y="1447920"/>
            <a:ext cx="141480" cy="228600"/>
          </a:xfrm>
          <a:custGeom>
            <a:avLst/>
            <a:gdLst/>
            <a:ahLst/>
            <a:rect l="l" t="t" r="r" b="b"/>
            <a:pathLst>
              <a:path w="198" h="72">
                <a:moveTo>
                  <a:pt x="0" y="0"/>
                </a:moveTo>
                <a:lnTo>
                  <a:pt x="198" y="72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5769000" y="3886200"/>
            <a:ext cx="493200" cy="457200"/>
            <a:chOff x="5769000" y="3886200"/>
            <a:chExt cx="493200" cy="457200"/>
          </a:xfrm>
        </p:grpSpPr>
        <p:sp>
          <p:nvSpPr>
            <p:cNvPr id="1071" name=""/>
            <p:cNvSpPr/>
            <p:nvPr/>
          </p:nvSpPr>
          <p:spPr>
            <a:xfrm>
              <a:off x="5769000" y="3987720"/>
              <a:ext cx="34560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64920" y="3886200"/>
              <a:ext cx="19728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73" name=""/>
          <p:cNvCxnSpPr>
            <a:stCxn id="1057" idx="0"/>
            <a:endCxn id="1071" idx="3"/>
          </p:cNvCxnSpPr>
          <p:nvPr/>
        </p:nvCxnSpPr>
        <p:spPr>
          <a:xfrm flipV="1">
            <a:off x="5628960" y="4290120"/>
            <a:ext cx="19116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1074" name=""/>
          <p:cNvSpPr/>
          <p:nvPr/>
        </p:nvSpPr>
        <p:spPr>
          <a:xfrm>
            <a:off x="5975280" y="1981080"/>
            <a:ext cx="198360" cy="393840"/>
          </a:xfrm>
          <a:custGeom>
            <a:avLst/>
            <a:gdLst/>
            <a:ahLst/>
            <a:rect l="l" t="t" r="r" b="b"/>
            <a:pathLst>
              <a:path w="136" h="248">
                <a:moveTo>
                  <a:pt x="136" y="0"/>
                </a:moveTo>
                <a:lnTo>
                  <a:pt x="4" y="133"/>
                </a:lnTo>
                <a:lnTo>
                  <a:pt x="0" y="208"/>
                </a:lnTo>
                <a:lnTo>
                  <a:pt x="64" y="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940360" y="3568680"/>
            <a:ext cx="87480" cy="412920"/>
          </a:xfrm>
          <a:custGeom>
            <a:avLst/>
            <a:gdLst/>
            <a:ahLst/>
            <a:rect l="l" t="t" r="r" b="b"/>
            <a:pathLst>
              <a:path w="60" h="260">
                <a:moveTo>
                  <a:pt x="4" y="260"/>
                </a:moveTo>
                <a:lnTo>
                  <a:pt x="0" y="116"/>
                </a:lnTo>
                <a:lnTo>
                  <a:pt x="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6191280" y="4114800"/>
            <a:ext cx="493200" cy="457200"/>
            <a:chOff x="6191280" y="4114800"/>
            <a:chExt cx="493200" cy="457200"/>
          </a:xfrm>
        </p:grpSpPr>
        <p:sp>
          <p:nvSpPr>
            <p:cNvPr id="1077" name=""/>
            <p:cNvSpPr/>
            <p:nvPr/>
          </p:nvSpPr>
          <p:spPr>
            <a:xfrm>
              <a:off x="6191280" y="4216320"/>
              <a:ext cx="34560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487200" y="4114800"/>
              <a:ext cx="19728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6613560" y="4114800"/>
            <a:ext cx="493200" cy="457200"/>
            <a:chOff x="6613560" y="4114800"/>
            <a:chExt cx="493200" cy="457200"/>
          </a:xfrm>
        </p:grpSpPr>
        <p:sp>
          <p:nvSpPr>
            <p:cNvPr id="1080" name=""/>
            <p:cNvSpPr/>
            <p:nvPr/>
          </p:nvSpPr>
          <p:spPr>
            <a:xfrm>
              <a:off x="6613560" y="4216320"/>
              <a:ext cx="34560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909480" y="4114800"/>
              <a:ext cx="19728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7107120" y="4114800"/>
            <a:ext cx="492120" cy="457200"/>
            <a:chOff x="7107120" y="4114800"/>
            <a:chExt cx="492120" cy="457200"/>
          </a:xfrm>
        </p:grpSpPr>
        <p:sp>
          <p:nvSpPr>
            <p:cNvPr id="1083" name=""/>
            <p:cNvSpPr/>
            <p:nvPr/>
          </p:nvSpPr>
          <p:spPr>
            <a:xfrm>
              <a:off x="7107120" y="4216320"/>
              <a:ext cx="34452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402320" y="411480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5" name=""/>
          <p:cNvSpPr/>
          <p:nvPr/>
        </p:nvSpPr>
        <p:spPr>
          <a:xfrm flipV="1">
            <a:off x="6402240" y="3809520"/>
            <a:ext cx="14148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6684840" y="3809520"/>
            <a:ext cx="6984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 flipV="1">
            <a:off x="6824160" y="3809520"/>
            <a:ext cx="42228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971760" y="167652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I-A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744520" y="541008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i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293600" y="4495680"/>
            <a:ext cx="58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-Ag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844560" y="2514600"/>
            <a:ext cx="1477440" cy="1371600"/>
            <a:chOff x="844560" y="2514600"/>
            <a:chExt cx="1477440" cy="1371600"/>
          </a:xfrm>
        </p:grpSpPr>
        <p:sp>
          <p:nvSpPr>
            <p:cNvPr id="1092" name=""/>
            <p:cNvSpPr/>
            <p:nvPr/>
          </p:nvSpPr>
          <p:spPr>
            <a:xfrm>
              <a:off x="844560" y="2948040"/>
              <a:ext cx="882360" cy="938160"/>
            </a:xfrm>
            <a:prstGeom prst="smileyFace">
              <a:avLst>
                <a:gd name="adj" fmla="val 380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00640" y="2514600"/>
              <a:ext cx="621360" cy="609480"/>
            </a:xfrm>
            <a:prstGeom prst="cloudCallout">
              <a:avLst>
                <a:gd name="adj1" fmla="val -64949"/>
                <a:gd name="adj2" fmla="val 3099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1729800" y="2619360"/>
              <a:ext cx="534240" cy="423720"/>
              <a:chOff x="1729800" y="2619360"/>
              <a:chExt cx="534240" cy="423720"/>
            </a:xfrm>
          </p:grpSpPr>
          <p:sp>
            <p:nvSpPr>
              <p:cNvPr id="1095" name=""/>
              <p:cNvSpPr/>
              <p:nvPr/>
            </p:nvSpPr>
            <p:spPr>
              <a:xfrm>
                <a:off x="1996560" y="2619360"/>
                <a:ext cx="224280" cy="1033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996560" y="2752560"/>
                <a:ext cx="224280" cy="889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980720" y="2871720"/>
                <a:ext cx="225720" cy="889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811880" y="2693880"/>
                <a:ext cx="63000" cy="288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729800" y="2782800"/>
                <a:ext cx="64800" cy="302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803240" y="2841480"/>
                <a:ext cx="64440" cy="302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59320" y="2930400"/>
                <a:ext cx="64440" cy="302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02" name=""/>
              <p:cNvCxnSpPr>
                <a:stCxn id="1099" idx="5"/>
                <a:endCxn id="1100" idx="1"/>
              </p:cNvCxnSpPr>
              <p:nvPr/>
            </p:nvCxnSpPr>
            <p:spPr>
              <a:xfrm>
                <a:off x="1785600" y="2806200"/>
                <a:ext cx="26640" cy="40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3" name=""/>
              <p:cNvCxnSpPr>
                <a:stCxn id="1101" idx="0"/>
                <a:endCxn id="1100" idx="4"/>
              </p:cNvCxnSpPr>
              <p:nvPr/>
            </p:nvCxnSpPr>
            <p:spPr>
              <a:xfrm flipV="1">
                <a:off x="1791000" y="2871000"/>
                <a:ext cx="45720" cy="59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4" name=""/>
              <p:cNvCxnSpPr>
                <a:stCxn id="1095" idx="2"/>
                <a:endCxn id="1098" idx="6"/>
              </p:cNvCxnSpPr>
              <p:nvPr/>
            </p:nvCxnSpPr>
            <p:spPr>
              <a:xfrm flipH="1">
                <a:off x="1874160" y="2670120"/>
                <a:ext cx="122040" cy="38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5" name=""/>
              <p:cNvCxnSpPr>
                <a:stCxn id="1095" idx="3"/>
                <a:endCxn id="1100" idx="7"/>
              </p:cNvCxnSpPr>
              <p:nvPr/>
            </p:nvCxnSpPr>
            <p:spPr>
              <a:xfrm flipH="1">
                <a:off x="1858680" y="2706840"/>
                <a:ext cx="171360" cy="14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6" name=""/>
              <p:cNvCxnSpPr>
                <a:stCxn id="1096" idx="2"/>
                <a:endCxn id="1100" idx="6"/>
              </p:cNvCxnSpPr>
              <p:nvPr/>
            </p:nvCxnSpPr>
            <p:spPr>
              <a:xfrm flipH="1">
                <a:off x="1867680" y="2797200"/>
                <a:ext cx="129240" cy="61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7" name=""/>
              <p:cNvCxnSpPr>
                <a:stCxn id="1097" idx="2"/>
                <a:endCxn id="1100" idx="5"/>
              </p:cNvCxnSpPr>
              <p:nvPr/>
            </p:nvCxnSpPr>
            <p:spPr>
              <a:xfrm flipH="1" flipV="1">
                <a:off x="1858320" y="2866320"/>
                <a:ext cx="122040" cy="51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08" name=""/>
              <p:cNvSpPr/>
              <p:nvPr/>
            </p:nvSpPr>
            <p:spPr>
              <a:xfrm>
                <a:off x="1860840" y="2857680"/>
                <a:ext cx="403200" cy="18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I’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9" name=""/>
          <p:cNvGrpSpPr/>
          <p:nvPr/>
        </p:nvGrpSpPr>
        <p:grpSpPr>
          <a:xfrm>
            <a:off x="6896160" y="2362320"/>
            <a:ext cx="492120" cy="457200"/>
            <a:chOff x="6896160" y="2362320"/>
            <a:chExt cx="492120" cy="457200"/>
          </a:xfrm>
        </p:grpSpPr>
        <p:sp>
          <p:nvSpPr>
            <p:cNvPr id="1110" name=""/>
            <p:cNvSpPr/>
            <p:nvPr/>
          </p:nvSpPr>
          <p:spPr>
            <a:xfrm>
              <a:off x="6896160" y="2463840"/>
              <a:ext cx="34452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191360" y="236232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5629320" y="2743200"/>
            <a:ext cx="492120" cy="457200"/>
            <a:chOff x="5629320" y="2743200"/>
            <a:chExt cx="492120" cy="457200"/>
          </a:xfrm>
        </p:grpSpPr>
        <p:sp>
          <p:nvSpPr>
            <p:cNvPr id="1113" name=""/>
            <p:cNvSpPr/>
            <p:nvPr/>
          </p:nvSpPr>
          <p:spPr>
            <a:xfrm>
              <a:off x="5629320" y="2844720"/>
              <a:ext cx="34452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924520" y="274320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5769000" y="2362320"/>
            <a:ext cx="493200" cy="457200"/>
            <a:chOff x="5769000" y="2362320"/>
            <a:chExt cx="493200" cy="457200"/>
          </a:xfrm>
        </p:grpSpPr>
        <p:sp>
          <p:nvSpPr>
            <p:cNvPr id="1116" name=""/>
            <p:cNvSpPr/>
            <p:nvPr/>
          </p:nvSpPr>
          <p:spPr>
            <a:xfrm>
              <a:off x="5769000" y="2463840"/>
              <a:ext cx="34560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64920" y="2362320"/>
              <a:ext cx="19728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6754680" y="3124080"/>
            <a:ext cx="492120" cy="457200"/>
            <a:chOff x="6754680" y="3124080"/>
            <a:chExt cx="492120" cy="457200"/>
          </a:xfrm>
        </p:grpSpPr>
        <p:sp>
          <p:nvSpPr>
            <p:cNvPr id="1119" name=""/>
            <p:cNvSpPr/>
            <p:nvPr/>
          </p:nvSpPr>
          <p:spPr>
            <a:xfrm>
              <a:off x="6754680" y="3225600"/>
              <a:ext cx="34452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49880" y="312408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6684840" y="3048120"/>
            <a:ext cx="492120" cy="457200"/>
            <a:chOff x="6684840" y="3048120"/>
            <a:chExt cx="492120" cy="457200"/>
          </a:xfrm>
        </p:grpSpPr>
        <p:sp>
          <p:nvSpPr>
            <p:cNvPr id="1122" name=""/>
            <p:cNvSpPr/>
            <p:nvPr/>
          </p:nvSpPr>
          <p:spPr>
            <a:xfrm>
              <a:off x="6684840" y="3149640"/>
              <a:ext cx="34452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980040" y="304812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4" name=""/>
          <p:cNvSpPr/>
          <p:nvPr/>
        </p:nvSpPr>
        <p:spPr>
          <a:xfrm>
            <a:off x="7083000" y="3124080"/>
            <a:ext cx="67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rch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triev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re Ag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080480" y="2590560"/>
            <a:ext cx="7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55640" y="274284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rp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g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6051600" y="3124080"/>
            <a:ext cx="492120" cy="457200"/>
            <a:chOff x="6051600" y="3124080"/>
            <a:chExt cx="492120" cy="457200"/>
          </a:xfrm>
        </p:grpSpPr>
        <p:sp>
          <p:nvSpPr>
            <p:cNvPr id="1128" name=""/>
            <p:cNvSpPr/>
            <p:nvPr/>
          </p:nvSpPr>
          <p:spPr>
            <a:xfrm>
              <a:off x="6051600" y="3225600"/>
              <a:ext cx="34452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346800" y="3124080"/>
              <a:ext cx="19692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979960" y="3048120"/>
            <a:ext cx="493920" cy="457200"/>
            <a:chOff x="5979960" y="3048120"/>
            <a:chExt cx="493920" cy="457200"/>
          </a:xfrm>
        </p:grpSpPr>
        <p:sp>
          <p:nvSpPr>
            <p:cNvPr id="1131" name=""/>
            <p:cNvSpPr/>
            <p:nvPr/>
          </p:nvSpPr>
          <p:spPr>
            <a:xfrm>
              <a:off x="5979960" y="3149640"/>
              <a:ext cx="34560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76240" y="3048120"/>
              <a:ext cx="19764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167160" y="33526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bin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g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6191280" y="2209680"/>
            <a:ext cx="493200" cy="457200"/>
            <a:chOff x="6191280" y="2209680"/>
            <a:chExt cx="493200" cy="457200"/>
          </a:xfrm>
        </p:grpSpPr>
        <p:sp>
          <p:nvSpPr>
            <p:cNvPr id="1135" name=""/>
            <p:cNvSpPr/>
            <p:nvPr/>
          </p:nvSpPr>
          <p:spPr>
            <a:xfrm>
              <a:off x="6191280" y="2311200"/>
              <a:ext cx="345600" cy="355680"/>
            </a:xfrm>
            <a:prstGeom prst="smileyFace">
              <a:avLst>
                <a:gd name="adj" fmla="val 9282"/>
              </a:avLst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487200" y="2209680"/>
              <a:ext cx="197280" cy="152280"/>
            </a:xfrm>
            <a:prstGeom prst="cloudCallout">
              <a:avLst>
                <a:gd name="adj1" fmla="val -43750"/>
                <a:gd name="adj2" fmla="val 70000"/>
              </a:avLst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5396040" y="236196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g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237360" y="251424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. 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g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important research ques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action hypothesis re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es are not function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implement `points of view’/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 as a commodity (sales divi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 as a device (after sales divi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 as a motorized vehicle (traff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ired by role?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n most KM R&amp;D projects: the focus in KDE is on information ser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M plays the role of explicit indexing and role/task context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, XML, agent architecture, wrappers, search engin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little opportunity for basic CS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M is the management of a non scarce resourc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DE esprit 2867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 &amp; information ser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&amp; ro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tech, GB (user): (chemical)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eau Veritas, F (user): ship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T, I (developer):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soft, G,L (developer):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el, F (developer): consultanc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Amsterdam, NL (rese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KDE 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720720" indent="-277200">
              <a:spcAft>
                <a:spcPts val="1037"/>
              </a:spcAft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M Toolse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Aft>
                <a:spcPts val="513"/>
              </a:spcAft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velop a set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eneric tools to support the Knowledge Management Methodolo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to enable the implementation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nowledge Manageme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rough the classification and selection of appropriate knowledge at all levels in the organization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nowledge Worker Desktop (KW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vestigate and develop novel interfaces to improve the usability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KM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encourage their uptake by non IT-experts at all levels within end user organizations.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erface will provide knowledge pro-actively to the us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ly relevant to the task that the user is undertaking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hodology &amp; sup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 methodology: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: Actionel, bottom: CommonK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tools: modelling of ontolog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siness processes &amp;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&amp;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ss vs Product K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oriented: time depend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, transaction document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tools: BSCW, Lotu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of communication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t ori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terval vali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books, instructions, regulations, ontologie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tools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ganizational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or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formati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stems (OM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of knowledge intensiv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28960" y="12189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porting the knowledge worker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/ information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* Knowledge --&gt;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is generic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ical knowledge: recognition and index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ing situations (problems, cases, text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dexing in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is a resource for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new (implied) facts: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facts: 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facts: new knowledge (lear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ed, the knowledge work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TECH: materials expert for maintaining and (re)constructing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materials information (search takes typically a week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eau Veritas: damage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 reports are not inde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how about damage er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inspecto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ormation serving for Fr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requirem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`Federation’ of multiple disperse heterogeneous data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mantic access: indexing by ont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ive suppor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DB queries to conceptual information ser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support: monitoring F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+ user and task domain awareness and integration into the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3:08:48Z</dcterms:created>
  <dc:creator>Joost Breuker</dc:creator>
  <dc:description/>
  <dc:language>en-US</dc:language>
  <cp:lastModifiedBy>fgandon</cp:lastModifiedBy>
  <dcterms:modified xsi:type="dcterms:W3CDTF">2000-10-13T09:15:01Z</dcterms:modified>
  <cp:revision>11</cp:revision>
  <dc:subject/>
  <dc:title>Manageable and meaningful information broking: the KDE project</dc:title>
</cp:coreProperties>
</file>