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7.wmf" ContentType="image/x-wmf"/>
  <Override PartName="/ppt/media/image38.wmf" ContentType="image/x-wmf"/>
  <Override PartName="/ppt/media/image39.wmf" ContentType="image/x-wmf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40.wmf" ContentType="image/x-wmf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6281-F27D-4432-8AF9-B472DCF9B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83059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3383280"/>
            <a:ext cx="83059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2FBE-C07A-4E32-806F-B5EFD8B2D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9436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338328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94360" y="338328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BCFB-0D07-41EA-81CD-4B0EC642E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6800" y="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55160" y="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338328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6800" y="338328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55160" y="338328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ED6C-8AB0-418B-9003-FE9CB647E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4053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4360" y="0"/>
            <a:ext cx="4053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6248160"/>
            <a:ext cx="754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94360" y="0"/>
            <a:ext cx="4053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38328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7979-5955-4FEC-9AD1-F53A6727A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4053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9436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94360" y="338328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436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383280"/>
            <a:ext cx="83059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83059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3383280"/>
            <a:ext cx="83059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9436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38328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94360" y="338328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46800" y="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55160" y="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338328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46800" y="338328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55160" y="338328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9DB2E-3D01-403D-A885-D092A5460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4053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4360" y="0"/>
            <a:ext cx="4053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7D745-D7F1-40AC-8AA9-402441271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6C88-82F5-491B-9FEA-996232570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6248160"/>
            <a:ext cx="754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3149-1754-4D82-A479-D307A25D8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4360" y="0"/>
            <a:ext cx="4053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338328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535F-4DF3-4620-8D0C-B34DBFFBC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4053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436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94360" y="338328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D071-04DA-4C96-838B-8F159A889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9436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3383280"/>
            <a:ext cx="83059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F4F3-A01D-4C90-9FB0-DC47F9D45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mpty" descr=""/>
          <p:cNvPicPr/>
          <p:nvPr/>
        </p:nvPicPr>
        <p:blipFill>
          <a:blip r:embed="rId2"/>
          <a:stretch/>
        </p:blipFill>
        <p:spPr>
          <a:xfrm>
            <a:off x="7620120" y="6264360"/>
            <a:ext cx="1523880" cy="59364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Click to edit the title text format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38080" y="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43000" indent="-228600">
              <a:spcBef>
                <a:spcPts val="751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3" marL="1562040" indent="-228600">
              <a:spcBef>
                <a:spcPts val="751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4" marL="1981080" indent="-228600">
              <a:spcBef>
                <a:spcPts val="751"/>
              </a:spcBef>
              <a:buClr>
                <a:srgbClr val="000066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5" marL="1981080" indent="-228600">
              <a:spcBef>
                <a:spcPts val="75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6" marL="1981080" indent="-228600">
              <a:spcBef>
                <a:spcPts val="75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146720" y="6370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1735-CB37-4C7F-B731-F05F4756CC1F}" type="slidenum">
              <a:rPr b="0" lang="fr-FR" sz="1400" spc="-1" strike="noStrike">
                <a:solidFill>
                  <a:srgbClr val="808080"/>
                </a:solidFill>
                <a:latin typeface="Bookman Old Style"/>
              </a:rPr>
              <a:t>&lt;number&gt;</a:t>
            </a:fld>
            <a:r>
              <a:rPr b="0" lang="fr-FR" sz="1400" spc="-1" strike="noStrike">
                <a:solidFill>
                  <a:srgbClr val="808080"/>
                </a:solidFill>
                <a:latin typeface="Bookman Old Style"/>
              </a:rPr>
              <a:t>/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838080" y="6413400"/>
            <a:ext cx="70106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Click to edit the title text format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Bookman Old Styl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  <a:p>
            <a:pPr lvl="3" marL="1333440" algn="ctr">
              <a:spcBef>
                <a:spcPts val="499"/>
              </a:spcBef>
              <a:buClr>
                <a:srgbClr val="000066"/>
              </a:buClr>
              <a:buFont typeface="Bookman Old Styl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4" marL="1752480" algn="ctr">
              <a:spcBef>
                <a:spcPts val="499"/>
              </a:spcBef>
              <a:buClr>
                <a:srgbClr val="000066"/>
              </a:buClr>
              <a:buFont typeface="Bookman Old Style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5" marL="1752480">
              <a:spcBef>
                <a:spcPts val="4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6" marL="1752480">
              <a:spcBef>
                <a:spcPts val="4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40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40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1.png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1.png"/><Relationship Id="rId23" Type="http://schemas.openxmlformats.org/officeDocument/2006/relationships/image" Target="../media/image12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4.png"/><Relationship Id="rId29" Type="http://schemas.openxmlformats.org/officeDocument/2006/relationships/image" Target="../media/image15.png"/><Relationship Id="rId30" Type="http://schemas.openxmlformats.org/officeDocument/2006/relationships/image" Target="../media/image10.png"/><Relationship Id="rId31" Type="http://schemas.openxmlformats.org/officeDocument/2006/relationships/image" Target="../media/image14.png"/><Relationship Id="rId32" Type="http://schemas.openxmlformats.org/officeDocument/2006/relationships/image" Target="../media/image16.png"/><Relationship Id="rId33" Type="http://schemas.openxmlformats.org/officeDocument/2006/relationships/image" Target="../media/image1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18.png"/><Relationship Id="rId37" Type="http://schemas.openxmlformats.org/officeDocument/2006/relationships/image" Target="../media/image5.png"/><Relationship Id="rId38" Type="http://schemas.openxmlformats.org/officeDocument/2006/relationships/image" Target="../media/image6.png"/><Relationship Id="rId39" Type="http://schemas.openxmlformats.org/officeDocument/2006/relationships/image" Target="../media/image8.png"/><Relationship Id="rId40" Type="http://schemas.openxmlformats.org/officeDocument/2006/relationships/image" Target="../media/image19.png"/><Relationship Id="rId41" Type="http://schemas.openxmlformats.org/officeDocument/2006/relationships/image" Target="../media/image20.png"/><Relationship Id="rId42" Type="http://schemas.openxmlformats.org/officeDocument/2006/relationships/image" Target="../media/image7.png"/><Relationship Id="rId43" Type="http://schemas.openxmlformats.org/officeDocument/2006/relationships/image" Target="../media/image21.png"/><Relationship Id="rId44" Type="http://schemas.openxmlformats.org/officeDocument/2006/relationships/image" Target="../media/image22.png"/><Relationship Id="rId45" Type="http://schemas.openxmlformats.org/officeDocument/2006/relationships/image" Target="../media/image23.png"/><Relationship Id="rId4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400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Présentation IC 2001 - Fabien Gandon- Rose Dieng-Kuntz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4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08080"/>
                </a:solidFill>
                <a:latin typeface="Arial"/>
              </a:rPr>
              <a:t>Ontologie pour un Système</a:t>
            </a:r>
            <a:br>
              <a:rPr sz="3600"/>
            </a:br>
            <a:r>
              <a:rPr b="1" i="1" lang="fr-FR" sz="3600" spc="-1" strike="noStrike">
                <a:solidFill>
                  <a:srgbClr val="808080"/>
                </a:solidFill>
                <a:latin typeface="Arial"/>
              </a:rPr>
              <a:t>Multi-Agents dédié à une </a:t>
            </a:r>
            <a:endParaRPr b="0" lang="en-US" sz="3600" spc="-1" strike="noStrike">
              <a:solidFill>
                <a:srgbClr val="000066"/>
              </a:solidFill>
              <a:latin typeface="Bookman Old Style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08080"/>
                </a:solidFill>
                <a:latin typeface="Arial"/>
              </a:rPr>
              <a:t>Mémoire d'Entreprise</a:t>
            </a:r>
            <a:endParaRPr b="0" lang="en-US" sz="3600" spc="-1" strike="noStrike">
              <a:solidFill>
                <a:srgbClr val="000066"/>
              </a:solidFill>
              <a:latin typeface="Bookman Old Style"/>
            </a:endParaRPr>
          </a:p>
        </p:txBody>
      </p:sp>
      <p:pic>
        <p:nvPicPr>
          <p:cNvPr id="87" name="Winner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6858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De l'intérêt des scénario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Analyse par scénarios textuel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Avantages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Capture naturelle &amp; informelle des besoins utilisateurs dans leur contexte.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Vue d'ensemble d'</a:t>
            </a:r>
            <a:r>
              <a:rPr b="0" lang="fr-FR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un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système comme </a:t>
            </a:r>
            <a:r>
              <a:rPr b="0" lang="fr-FR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un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composant d'</a:t>
            </a:r>
            <a:r>
              <a:rPr b="0" lang="fr-FR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une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solution possible pour gérer </a:t>
            </a:r>
            <a:r>
              <a:rPr b="0" lang="fr-FR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une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mémoire d'</a:t>
            </a:r>
            <a:r>
              <a:rPr b="0" lang="fr-FR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une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organisation.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Se concentrer sur les aspects de gestion de connaissances spécifiques au projet.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Séquences interactions concrètes (UCase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Moyen de vérification (</a:t>
            </a:r>
            <a:r>
              <a:rPr b="0" lang="fr-FR" sz="2000" spc="-1" strike="noStrike">
                <a:solidFill>
                  <a:srgbClr val="000066"/>
                </a:solidFill>
                <a:latin typeface="Bookman Old Style"/>
              </a:rPr>
              <a:t>//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Comp. Questions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9BDF1-9AFA-4364-9E36-5E0FF0ED74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Tableau d'étude des scénario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371600" y="34920"/>
          <a:ext cx="7772400" cy="49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4920"/>
                    <a:ext cx="777240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1422360" y="609480"/>
            <a:ext cx="1181160" cy="3812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97760" y="431640"/>
            <a:ext cx="1168200" cy="7113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95280" y="472428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Aspects à considér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Utilisé dans le recuei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Les utilisateurs finaux </a:t>
            </a:r>
            <a:r>
              <a:rPr b="0" lang="fr-FR" sz="3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 Rappor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F1721-9955-4ECE-B645-723E38276A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Exemple de contenu de rapport de scénario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352" name=""/>
          <p:cNvSpPr/>
          <p:nvPr/>
        </p:nvSpPr>
        <p:spPr>
          <a:xfrm>
            <a:off x="1701720" y="152280"/>
            <a:ext cx="6782040" cy="525780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762200" y="228600"/>
            <a:ext cx="6619680" cy="409428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1914480" y="236520"/>
            <a:ext cx="2352600" cy="5785920"/>
            <a:chOff x="1914480" y="236520"/>
            <a:chExt cx="2352600" cy="5785920"/>
          </a:xfrm>
        </p:grpSpPr>
        <p:sp>
          <p:nvSpPr>
            <p:cNvPr id="355" name=""/>
            <p:cNvSpPr/>
            <p:nvPr/>
          </p:nvSpPr>
          <p:spPr>
            <a:xfrm>
              <a:off x="2133720" y="236520"/>
              <a:ext cx="2133360" cy="190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14480" y="55627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66"/>
                  </a:solidFill>
                  <a:latin typeface="Times New Roman"/>
                </a:rPr>
                <a:t>Doc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133720" y="1027080"/>
            <a:ext cx="3057480" cy="4995360"/>
            <a:chOff x="2133720" y="1027080"/>
            <a:chExt cx="3057480" cy="4995360"/>
          </a:xfrm>
        </p:grpSpPr>
        <p:sp>
          <p:nvSpPr>
            <p:cNvPr id="358" name=""/>
            <p:cNvSpPr/>
            <p:nvPr/>
          </p:nvSpPr>
          <p:spPr>
            <a:xfrm>
              <a:off x="2133720" y="1027080"/>
              <a:ext cx="1447560" cy="228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91000" y="5562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66"/>
                  </a:solidFill>
                  <a:latin typeface="Times New Roman"/>
                </a:rPr>
                <a:t>Evén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676600" y="3408480"/>
            <a:ext cx="3720960" cy="2613960"/>
            <a:chOff x="2676600" y="3408480"/>
            <a:chExt cx="3720960" cy="2613960"/>
          </a:xfrm>
        </p:grpSpPr>
        <p:sp>
          <p:nvSpPr>
            <p:cNvPr id="361" name=""/>
            <p:cNvSpPr/>
            <p:nvPr/>
          </p:nvSpPr>
          <p:spPr>
            <a:xfrm>
              <a:off x="2676600" y="3408480"/>
              <a:ext cx="1133280" cy="228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67160" y="5562720"/>
              <a:ext cx="113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66"/>
                  </a:solidFill>
                  <a:latin typeface="Times New Roman"/>
                </a:rPr>
                <a:t>Rô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514600" y="569880"/>
            <a:ext cx="5857920" cy="5452560"/>
            <a:chOff x="2514600" y="569880"/>
            <a:chExt cx="5857920" cy="5452560"/>
          </a:xfrm>
        </p:grpSpPr>
        <p:sp>
          <p:nvSpPr>
            <p:cNvPr id="364" name=""/>
            <p:cNvSpPr/>
            <p:nvPr/>
          </p:nvSpPr>
          <p:spPr>
            <a:xfrm>
              <a:off x="7629480" y="5562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20000" y="569880"/>
              <a:ext cx="1295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4600" y="2398680"/>
              <a:ext cx="2743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91280" y="3598920"/>
              <a:ext cx="990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86600" y="2979720"/>
              <a:ext cx="762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67280" y="2979720"/>
              <a:ext cx="9144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14800" y="3960720"/>
              <a:ext cx="1371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781680" y="2741760"/>
              <a:ext cx="1447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53200" y="3780000"/>
              <a:ext cx="1219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124080" y="4122720"/>
            <a:ext cx="4340160" cy="1899720"/>
            <a:chOff x="3124080" y="4122720"/>
            <a:chExt cx="4340160" cy="1899720"/>
          </a:xfrm>
        </p:grpSpPr>
        <p:sp>
          <p:nvSpPr>
            <p:cNvPr id="374" name=""/>
            <p:cNvSpPr/>
            <p:nvPr/>
          </p:nvSpPr>
          <p:spPr>
            <a:xfrm>
              <a:off x="3124080" y="4122720"/>
              <a:ext cx="1305000" cy="220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181560" y="55627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66"/>
                  </a:solidFill>
                  <a:latin typeface="Times New Roman"/>
                </a:rPr>
                <a:t>Fon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F36F-C930-412A-9012-DA608F7416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Les entretien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381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8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90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391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392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4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3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ntreti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0AF37-CDB9-4406-BA20-480A9EC4DB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Entretien semi-structuré &amp; exemple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Guide et conseils pour l'entretien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Semi-structuré (individuel / groupe)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295280" y="1371600"/>
            <a:ext cx="3730680" cy="4800600"/>
            <a:chOff x="1295280" y="1371600"/>
            <a:chExt cx="3730680" cy="4800600"/>
          </a:xfrm>
        </p:grpSpPr>
        <p:sp>
          <p:nvSpPr>
            <p:cNvPr id="422" name=""/>
            <p:cNvSpPr/>
            <p:nvPr/>
          </p:nvSpPr>
          <p:spPr>
            <a:xfrm>
              <a:off x="1295280" y="1371600"/>
              <a:ext cx="3730680" cy="4800600"/>
            </a:xfrm>
            <a:prstGeom prst="foldedCorner">
              <a:avLst>
                <a:gd name="adj" fmla="val 527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1"/>
            <a:stretch/>
          </p:blipFill>
          <p:spPr>
            <a:xfrm>
              <a:off x="1353600" y="1436400"/>
              <a:ext cx="3509280" cy="454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"/>
          <p:cNvGrpSpPr/>
          <p:nvPr/>
        </p:nvGrpSpPr>
        <p:grpSpPr>
          <a:xfrm>
            <a:off x="1585800" y="2014560"/>
            <a:ext cx="7491600" cy="3549600"/>
            <a:chOff x="1585800" y="2014560"/>
            <a:chExt cx="7491600" cy="3549600"/>
          </a:xfrm>
        </p:grpSpPr>
        <p:grpSp>
          <p:nvGrpSpPr>
            <p:cNvPr id="425" name=""/>
            <p:cNvGrpSpPr/>
            <p:nvPr/>
          </p:nvGrpSpPr>
          <p:grpSpPr>
            <a:xfrm>
              <a:off x="1585800" y="2175120"/>
              <a:ext cx="3263040" cy="3389040"/>
              <a:chOff x="1585800" y="2175120"/>
              <a:chExt cx="3263040" cy="3389040"/>
            </a:xfrm>
          </p:grpSpPr>
          <p:sp>
            <p:nvSpPr>
              <p:cNvPr id="426" name=""/>
              <p:cNvSpPr/>
              <p:nvPr/>
            </p:nvSpPr>
            <p:spPr>
              <a:xfrm>
                <a:off x="4528800" y="2175120"/>
                <a:ext cx="2912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585800" y="2345400"/>
                <a:ext cx="1573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975120" y="2345400"/>
                <a:ext cx="8154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585800" y="2539800"/>
                <a:ext cx="407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15440" y="3496680"/>
                <a:ext cx="16894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607760" y="3674880"/>
                <a:ext cx="6991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971720" y="3861360"/>
                <a:ext cx="9320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926080" y="5004360"/>
                <a:ext cx="19227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22160" y="5182920"/>
                <a:ext cx="32047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644120" y="5369400"/>
                <a:ext cx="1631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85600" y="5564160"/>
                <a:ext cx="9320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5062680" y="2014560"/>
              <a:ext cx="40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6600"/>
                  </a:solidFill>
                  <a:latin typeface="Times New Roman"/>
                </a:rPr>
                <a:t>Définition du rôle (</a:t>
              </a:r>
              <a:r>
                <a:rPr b="0" lang="fr-FR" sz="24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</a:t>
              </a:r>
              <a:r>
                <a:rPr b="0" lang="fr-FR" sz="2400" spc="-1" strike="noStrike" baseline="30000">
                  <a:solidFill>
                    <a:srgbClr val="ff6600"/>
                  </a:solidFill>
                  <a:latin typeface="Times New Roman"/>
                </a:rPr>
                <a:t>ntes</a:t>
              </a:r>
              <a:r>
                <a:rPr b="0" lang="fr-FR" sz="2400" spc="-1" strike="noStrike">
                  <a:solidFill>
                    <a:srgbClr val="ff6600"/>
                  </a:solidFill>
                  <a:latin typeface="Times New Roman"/>
                </a:rPr>
                <a:t> tâch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1585800" y="4160880"/>
            <a:ext cx="6567480" cy="1191240"/>
            <a:chOff x="1585800" y="4160880"/>
            <a:chExt cx="6567480" cy="1191240"/>
          </a:xfrm>
        </p:grpSpPr>
        <p:grpSp>
          <p:nvGrpSpPr>
            <p:cNvPr id="439" name=""/>
            <p:cNvGrpSpPr/>
            <p:nvPr/>
          </p:nvGrpSpPr>
          <p:grpSpPr>
            <a:xfrm>
              <a:off x="1585800" y="4444920"/>
              <a:ext cx="3265200" cy="169920"/>
              <a:chOff x="1585800" y="4444920"/>
              <a:chExt cx="3265200" cy="169920"/>
            </a:xfrm>
          </p:grpSpPr>
          <p:sp>
            <p:nvSpPr>
              <p:cNvPr id="440" name=""/>
              <p:cNvSpPr/>
              <p:nvPr/>
            </p:nvSpPr>
            <p:spPr>
              <a:xfrm>
                <a:off x="2693520" y="4444920"/>
                <a:ext cx="2157480" cy="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85800" y="4614840"/>
                <a:ext cx="1341000" cy="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5083200" y="4160880"/>
              <a:ext cx="3070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 u="sng">
                  <a:solidFill>
                    <a:srgbClr val="339933"/>
                  </a:solidFill>
                  <a:uFillTx/>
                  <a:latin typeface="Times New Roman"/>
                </a:rPr>
                <a:t>Position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9933"/>
                  </a:solidFill>
                  <a:latin typeface="Times New Roman"/>
                </a:rPr>
                <a:t>Définition personne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</a:t>
              </a:r>
              <a:r>
                <a:rPr b="0" lang="fr-FR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0" lang="fr-FR" sz="2400" spc="-1" strike="noStrike">
                  <a:solidFill>
                    <a:srgbClr val="339933"/>
                  </a:solidFill>
                  <a:latin typeface="Times New Roman"/>
                </a:rPr>
                <a:t>définition officie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585800" y="2668680"/>
            <a:ext cx="5407560" cy="825480"/>
            <a:chOff x="1585800" y="2668680"/>
            <a:chExt cx="5407560" cy="825480"/>
          </a:xfrm>
        </p:grpSpPr>
        <p:grpSp>
          <p:nvGrpSpPr>
            <p:cNvPr id="444" name=""/>
            <p:cNvGrpSpPr/>
            <p:nvPr/>
          </p:nvGrpSpPr>
          <p:grpSpPr>
            <a:xfrm>
              <a:off x="1585800" y="2928240"/>
              <a:ext cx="3263760" cy="194760"/>
              <a:chOff x="1585800" y="2928240"/>
              <a:chExt cx="3263760" cy="194760"/>
            </a:xfrm>
          </p:grpSpPr>
          <p:sp>
            <p:nvSpPr>
              <p:cNvPr id="445" name=""/>
              <p:cNvSpPr/>
              <p:nvPr/>
            </p:nvSpPr>
            <p:spPr>
              <a:xfrm>
                <a:off x="2751480" y="2928240"/>
                <a:ext cx="1631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32920" y="2928240"/>
                <a:ext cx="11664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585800" y="3123000"/>
                <a:ext cx="151560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5082840" y="2668680"/>
              <a:ext cx="1910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Times New Roman"/>
                </a:rPr>
                <a:t>Réseau 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Times New Roman"/>
                </a:rPr>
                <a:t>connaissan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4971-50A1-4A8E-99BD-F4FF6A619A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Observation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454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63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464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465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6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7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6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ntreti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488" name="Atos-Laet-bureau-3" descr=""/>
            <p:cNvPicPr/>
            <p:nvPr/>
          </p:nvPicPr>
          <p:blipFill>
            <a:blip r:embed="rId3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4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494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7566-CE38-4083-8E1E-A9185DFFAC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Exemple observat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09160" y="4114440"/>
            <a:ext cx="785340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Nouvelle employée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Entretien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Observation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pic>
        <p:nvPicPr>
          <p:cNvPr id="501" name="Atos-Laet-bureau-3" descr=""/>
          <p:cNvPicPr/>
          <p:nvPr/>
        </p:nvPicPr>
        <p:blipFill>
          <a:blip r:embed="rId1"/>
          <a:stretch/>
        </p:blipFill>
        <p:spPr>
          <a:xfrm>
            <a:off x="2286000" y="162000"/>
            <a:ext cx="4713120" cy="3409920"/>
          </a:xfrm>
          <a:prstGeom prst="rect">
            <a:avLst/>
          </a:prstGeom>
          <a:ln w="0">
            <a:noFill/>
          </a:ln>
        </p:spPr>
      </p:pic>
      <p:grpSp>
        <p:nvGrpSpPr>
          <p:cNvPr id="502" name=""/>
          <p:cNvGrpSpPr/>
          <p:nvPr/>
        </p:nvGrpSpPr>
        <p:grpSpPr>
          <a:xfrm>
            <a:off x="2286000" y="162000"/>
            <a:ext cx="4713120" cy="3414240"/>
            <a:chOff x="2286000" y="162000"/>
            <a:chExt cx="4713120" cy="3414240"/>
          </a:xfrm>
        </p:grpSpPr>
        <p:sp>
          <p:nvSpPr>
            <p:cNvPr id="503" name=""/>
            <p:cNvSpPr/>
            <p:nvPr/>
          </p:nvSpPr>
          <p:spPr>
            <a:xfrm>
              <a:off x="2286000" y="162000"/>
              <a:ext cx="4713120" cy="1269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86000" y="1096920"/>
              <a:ext cx="1194840" cy="935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72360" y="1096920"/>
              <a:ext cx="1062000" cy="113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480840" y="1364040"/>
              <a:ext cx="1526400" cy="267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480840" y="1631520"/>
              <a:ext cx="464760" cy="4006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0000" y="1497600"/>
              <a:ext cx="597240" cy="4006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45600" y="1898280"/>
              <a:ext cx="1526400" cy="66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01520" y="1431000"/>
              <a:ext cx="597240" cy="4006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72360" y="2098800"/>
              <a:ext cx="1526400" cy="4006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286000" y="2499480"/>
              <a:ext cx="3651120" cy="600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269040" y="2499480"/>
              <a:ext cx="730080" cy="667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86000" y="3042360"/>
              <a:ext cx="4713120" cy="533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941360" y="1965240"/>
              <a:ext cx="730080" cy="667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86000" y="2165760"/>
              <a:ext cx="2655360" cy="667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286000" y="1965240"/>
              <a:ext cx="2057760" cy="667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5937120" y="2498760"/>
            <a:ext cx="331920" cy="534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535800" y="1832040"/>
            <a:ext cx="928440" cy="266760"/>
            <a:chOff x="6535800" y="1832040"/>
            <a:chExt cx="928440" cy="266760"/>
          </a:xfrm>
        </p:grpSpPr>
        <p:sp>
          <p:nvSpPr>
            <p:cNvPr id="520" name=""/>
            <p:cNvSpPr/>
            <p:nvPr/>
          </p:nvSpPr>
          <p:spPr>
            <a:xfrm>
              <a:off x="7066440" y="1856880"/>
              <a:ext cx="397800" cy="200160"/>
            </a:xfrm>
            <a:prstGeom prst="leftArrow">
              <a:avLst>
                <a:gd name="adj1" fmla="val 50000"/>
                <a:gd name="adj2" fmla="val 49685"/>
              </a:avLst>
            </a:prstGeom>
            <a:solidFill>
              <a:srgbClr val="cc3300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35800" y="1832040"/>
              <a:ext cx="464040" cy="2667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4343400" y="1955880"/>
            <a:ext cx="4409640" cy="3126960"/>
            <a:chOff x="4343400" y="1955880"/>
            <a:chExt cx="4409640" cy="3126960"/>
          </a:xfrm>
        </p:grpSpPr>
        <p:sp>
          <p:nvSpPr>
            <p:cNvPr id="523" name=""/>
            <p:cNvSpPr/>
            <p:nvPr/>
          </p:nvSpPr>
          <p:spPr>
            <a:xfrm>
              <a:off x="4343400" y="1955880"/>
              <a:ext cx="597240" cy="2001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334920" y="3357360"/>
              <a:ext cx="2418120" cy="172548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grpSp>
        <p:nvGrpSpPr>
          <p:cNvPr id="525" name=""/>
          <p:cNvGrpSpPr/>
          <p:nvPr/>
        </p:nvGrpSpPr>
        <p:grpSpPr>
          <a:xfrm>
            <a:off x="5937120" y="1698480"/>
            <a:ext cx="3054240" cy="3558960"/>
            <a:chOff x="5937120" y="1698480"/>
            <a:chExt cx="3054240" cy="3558960"/>
          </a:xfrm>
        </p:grpSpPr>
        <p:sp>
          <p:nvSpPr>
            <p:cNvPr id="526" name=""/>
            <p:cNvSpPr/>
            <p:nvPr/>
          </p:nvSpPr>
          <p:spPr>
            <a:xfrm>
              <a:off x="5937120" y="1698480"/>
              <a:ext cx="199080" cy="200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36200" y="1698480"/>
              <a:ext cx="2855160" cy="18594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37120" y="1898640"/>
              <a:ext cx="1659960" cy="33282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9" name="" descr=""/>
            <p:cNvPicPr/>
            <p:nvPr/>
          </p:nvPicPr>
          <p:blipFill>
            <a:blip r:embed="rId3"/>
            <a:stretch/>
          </p:blipFill>
          <p:spPr>
            <a:xfrm>
              <a:off x="7597080" y="3557880"/>
              <a:ext cx="1363680" cy="169956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grpSp>
        <p:nvGrpSpPr>
          <p:cNvPr id="530" name=""/>
          <p:cNvGrpSpPr/>
          <p:nvPr/>
        </p:nvGrpSpPr>
        <p:grpSpPr>
          <a:xfrm>
            <a:off x="3946680" y="152280"/>
            <a:ext cx="5001840" cy="1736640"/>
            <a:chOff x="3946680" y="152280"/>
            <a:chExt cx="5001840" cy="1736640"/>
          </a:xfrm>
        </p:grpSpPr>
        <p:sp>
          <p:nvSpPr>
            <p:cNvPr id="531" name=""/>
            <p:cNvSpPr/>
            <p:nvPr/>
          </p:nvSpPr>
          <p:spPr>
            <a:xfrm>
              <a:off x="3946680" y="1621800"/>
              <a:ext cx="464760" cy="267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2" name="" descr=""/>
            <p:cNvPicPr/>
            <p:nvPr/>
          </p:nvPicPr>
          <p:blipFill>
            <a:blip r:embed="rId4"/>
            <a:stretch/>
          </p:blipFill>
          <p:spPr>
            <a:xfrm>
              <a:off x="5805360" y="152280"/>
              <a:ext cx="3143160" cy="144036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grpSp>
        <p:nvGrpSpPr>
          <p:cNvPr id="533" name=""/>
          <p:cNvGrpSpPr/>
          <p:nvPr/>
        </p:nvGrpSpPr>
        <p:grpSpPr>
          <a:xfrm>
            <a:off x="5008680" y="1420920"/>
            <a:ext cx="3934800" cy="3577680"/>
            <a:chOff x="5008680" y="1420920"/>
            <a:chExt cx="3934800" cy="3577680"/>
          </a:xfrm>
        </p:grpSpPr>
        <p:sp>
          <p:nvSpPr>
            <p:cNvPr id="534" name=""/>
            <p:cNvSpPr/>
            <p:nvPr/>
          </p:nvSpPr>
          <p:spPr>
            <a:xfrm>
              <a:off x="5008680" y="1420920"/>
              <a:ext cx="464400" cy="467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5" name="" descr=""/>
            <p:cNvPicPr/>
            <p:nvPr/>
          </p:nvPicPr>
          <p:blipFill>
            <a:blip r:embed="rId5"/>
            <a:stretch/>
          </p:blipFill>
          <p:spPr>
            <a:xfrm>
              <a:off x="6269760" y="2422440"/>
              <a:ext cx="2673720" cy="257616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191E-8D14-45A8-AE59-0CBC515212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Exemple observat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537" name=""/>
          <p:cNvSpPr/>
          <p:nvPr/>
        </p:nvSpPr>
        <p:spPr>
          <a:xfrm>
            <a:off x="1371600" y="5029200"/>
            <a:ext cx="77724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Indexation, Ran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Catégories / Classes de docu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447920" y="133200"/>
            <a:ext cx="2522520" cy="3218040"/>
          </a:xfrm>
          <a:prstGeom prst="rect">
            <a:avLst/>
          </a:prstGeom>
          <a:ln w="0">
            <a:noFill/>
          </a:ln>
        </p:spPr>
      </p:pic>
      <p:grpSp>
        <p:nvGrpSpPr>
          <p:cNvPr id="539" name=""/>
          <p:cNvGrpSpPr/>
          <p:nvPr/>
        </p:nvGrpSpPr>
        <p:grpSpPr>
          <a:xfrm>
            <a:off x="1459080" y="150840"/>
            <a:ext cx="6478200" cy="4573080"/>
            <a:chOff x="1459080" y="150840"/>
            <a:chExt cx="6478200" cy="4573080"/>
          </a:xfrm>
        </p:grpSpPr>
        <p:pic>
          <p:nvPicPr>
            <p:cNvPr id="540" name="Atos-dossiers-couleurs" descr=""/>
            <p:cNvPicPr/>
            <p:nvPr/>
          </p:nvPicPr>
          <p:blipFill>
            <a:blip r:embed="rId2"/>
            <a:stretch/>
          </p:blipFill>
          <p:spPr>
            <a:xfrm>
              <a:off x="2551320" y="1508760"/>
              <a:ext cx="5385960" cy="321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1459080" y="3363120"/>
              <a:ext cx="1103040" cy="134604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967920" y="150840"/>
              <a:ext cx="3958560" cy="134640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3166920" y="2766960"/>
            <a:ext cx="3374640" cy="1150560"/>
            <a:chOff x="3166920" y="2766960"/>
            <a:chExt cx="3374640" cy="1150560"/>
          </a:xfrm>
        </p:grpSpPr>
        <p:sp>
          <p:nvSpPr>
            <p:cNvPr id="544" name=""/>
            <p:cNvSpPr/>
            <p:nvPr/>
          </p:nvSpPr>
          <p:spPr>
            <a:xfrm>
              <a:off x="4464720" y="3067920"/>
              <a:ext cx="843840" cy="566280"/>
            </a:xfrm>
            <a:prstGeom prst="ellipse">
              <a:avLst/>
            </a:prstGeom>
            <a:noFill/>
            <a:ln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231360" y="3350880"/>
              <a:ext cx="843840" cy="566640"/>
            </a:xfrm>
            <a:prstGeom prst="ellipse">
              <a:avLst/>
            </a:prstGeom>
            <a:noFill/>
            <a:ln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66920" y="2926080"/>
              <a:ext cx="843480" cy="354240"/>
            </a:xfrm>
            <a:prstGeom prst="ellipse">
              <a:avLst/>
            </a:prstGeom>
            <a:noFill/>
            <a:ln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335120" y="2766960"/>
              <a:ext cx="843480" cy="283320"/>
            </a:xfrm>
            <a:prstGeom prst="ellipse">
              <a:avLst/>
            </a:prstGeom>
            <a:noFill/>
            <a:ln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633280" y="3235680"/>
              <a:ext cx="908280" cy="637200"/>
            </a:xfrm>
            <a:prstGeom prst="ellipse">
              <a:avLst/>
            </a:prstGeom>
            <a:noFill/>
            <a:ln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73360" y="2855520"/>
              <a:ext cx="843840" cy="282960"/>
            </a:xfrm>
            <a:prstGeom prst="ellipse">
              <a:avLst/>
            </a:prstGeom>
            <a:noFill/>
            <a:ln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985E-0483-4FE4-9B63-CB1BA00064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Exemple observat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551" name=""/>
          <p:cNvSpPr/>
          <p:nvPr/>
        </p:nvSpPr>
        <p:spPr>
          <a:xfrm>
            <a:off x="1295280" y="4114800"/>
            <a:ext cx="5867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Interfaces &amp;</a:t>
            </a:r>
            <a:br>
              <a:rPr sz="3000"/>
            </a:b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              Représen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Types d'annot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6835680" y="2158920"/>
            <a:ext cx="2308320" cy="335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3" name="agenda-Atos-2" descr=""/>
          <p:cNvPicPr/>
          <p:nvPr/>
        </p:nvPicPr>
        <p:blipFill>
          <a:blip r:embed="rId2"/>
          <a:stretch/>
        </p:blipFill>
        <p:spPr>
          <a:xfrm>
            <a:off x="1981080" y="228600"/>
            <a:ext cx="4359240" cy="322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54" name=""/>
          <p:cNvGrpSpPr/>
          <p:nvPr/>
        </p:nvGrpSpPr>
        <p:grpSpPr>
          <a:xfrm>
            <a:off x="4127400" y="774720"/>
            <a:ext cx="3870720" cy="1501200"/>
            <a:chOff x="4127400" y="774720"/>
            <a:chExt cx="3870720" cy="1501200"/>
          </a:xfrm>
        </p:grpSpPr>
        <p:grpSp>
          <p:nvGrpSpPr>
            <p:cNvPr id="555" name=""/>
            <p:cNvGrpSpPr/>
            <p:nvPr/>
          </p:nvGrpSpPr>
          <p:grpSpPr>
            <a:xfrm>
              <a:off x="4127400" y="774720"/>
              <a:ext cx="2479680" cy="1501200"/>
              <a:chOff x="4127400" y="774720"/>
              <a:chExt cx="2479680" cy="1501200"/>
            </a:xfrm>
          </p:grpSpPr>
          <p:sp>
            <p:nvSpPr>
              <p:cNvPr id="556" name=""/>
              <p:cNvSpPr/>
              <p:nvPr/>
            </p:nvSpPr>
            <p:spPr>
              <a:xfrm flipV="1">
                <a:off x="4127400" y="1115640"/>
                <a:ext cx="2479680" cy="116028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5205240" y="1116000"/>
                <a:ext cx="1401480" cy="13608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151240" y="774720"/>
                <a:ext cx="1455480" cy="34128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6611760" y="84312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ser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852640" y="911160"/>
            <a:ext cx="5690880" cy="1706760"/>
            <a:chOff x="2852640" y="911160"/>
            <a:chExt cx="5690880" cy="1706760"/>
          </a:xfrm>
        </p:grpSpPr>
        <p:grpSp>
          <p:nvGrpSpPr>
            <p:cNvPr id="561" name=""/>
            <p:cNvGrpSpPr/>
            <p:nvPr/>
          </p:nvGrpSpPr>
          <p:grpSpPr>
            <a:xfrm>
              <a:off x="2852640" y="911160"/>
              <a:ext cx="3753720" cy="1706760"/>
              <a:chOff x="2852640" y="911160"/>
              <a:chExt cx="3753720" cy="1706760"/>
            </a:xfrm>
          </p:grpSpPr>
          <p:sp>
            <p:nvSpPr>
              <p:cNvPr id="562" name=""/>
              <p:cNvSpPr/>
              <p:nvPr/>
            </p:nvSpPr>
            <p:spPr>
              <a:xfrm flipV="1">
                <a:off x="4007520" y="1935360"/>
                <a:ext cx="2598840" cy="68256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162760" y="1320840"/>
                <a:ext cx="1443600" cy="614520"/>
              </a:xfrm>
              <a:prstGeom prst="line">
                <a:avLst/>
              </a:prstGeom>
              <a:ln w="1908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949920" y="1866960"/>
                <a:ext cx="2656080" cy="68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198960" y="911160"/>
                <a:ext cx="3407040" cy="1024200"/>
              </a:xfrm>
              <a:prstGeom prst="line">
                <a:avLst/>
              </a:prstGeom>
              <a:ln w="1908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852640" y="1388880"/>
                <a:ext cx="3753720" cy="546120"/>
              </a:xfrm>
              <a:prstGeom prst="line">
                <a:avLst/>
              </a:prstGeom>
              <a:ln w="1908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2910240" y="1935360"/>
                <a:ext cx="3695760" cy="68256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6608520" y="1687320"/>
              <a:ext cx="193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Code couleu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6611760" y="1935000"/>
            <a:ext cx="738360" cy="2390760"/>
            <a:chOff x="6611760" y="1935000"/>
            <a:chExt cx="738360" cy="2390760"/>
          </a:xfrm>
        </p:grpSpPr>
        <p:sp>
          <p:nvSpPr>
            <p:cNvPr id="570" name=""/>
            <p:cNvSpPr/>
            <p:nvPr/>
          </p:nvSpPr>
          <p:spPr>
            <a:xfrm>
              <a:off x="6611760" y="1935000"/>
              <a:ext cx="738360" cy="19123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11760" y="1935000"/>
              <a:ext cx="738360" cy="239076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0A72-DEB9-40C8-BABD-B9B468E5C1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Document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577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86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587" name="" descr=""/>
            <p:cNvPicPr/>
            <p:nvPr/>
          </p:nvPicPr>
          <p:blipFill>
            <a:blip r:embed="rId2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88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590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591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3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2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ntreti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614" name="Atos-Laet-bureau-3" descr=""/>
            <p:cNvPicPr/>
            <p:nvPr/>
          </p:nvPicPr>
          <p:blipFill>
            <a:blip r:embed="rId4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9" name="" descr=""/>
            <p:cNvPicPr/>
            <p:nvPr/>
          </p:nvPicPr>
          <p:blipFill>
            <a:blip r:embed="rId5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620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3035160" y="558720"/>
            <a:ext cx="228600" cy="965160"/>
            <a:chOff x="3035160" y="558720"/>
            <a:chExt cx="228600" cy="965160"/>
          </a:xfrm>
        </p:grpSpPr>
        <p:sp>
          <p:nvSpPr>
            <p:cNvPr id="626" name=""/>
            <p:cNvSpPr/>
            <p:nvPr/>
          </p:nvSpPr>
          <p:spPr>
            <a:xfrm>
              <a:off x="3060720" y="55872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035160" y="799920"/>
              <a:ext cx="228600" cy="723960"/>
            </a:xfrm>
            <a:prstGeom prst="downArrow">
              <a:avLst>
                <a:gd name="adj1" fmla="val 50000"/>
                <a:gd name="adj2" fmla="val 90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5E4B-852D-49AB-91BE-49120070BA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CoMMA c'est quoi ?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-360"/>
            <a:ext cx="83059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Quoi ?</a:t>
            </a:r>
            <a:br>
              <a:rPr sz="3000"/>
            </a:b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Projet IST - Communauté Européenne Environnement de gestion d'une mémoire organisationnelle.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Mémoire organisationnelle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:  Représentation persistante, explicite, désincarnée des connaissances et des informations dans une organisation, afin de faciliter leur accès, leur partage et leur réutilisation.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Environnement de gestion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: Infrastructure logicielle permettant l'intégration cohérente et la capitalisation des connaissances distribuées dans l'organisation.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4721-465A-45A0-AA22-BBA95B39D4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Carte d'itinéraire du nouvel employé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4863960" cy="57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0" name=""/>
          <p:cNvSpPr/>
          <p:nvPr/>
        </p:nvSpPr>
        <p:spPr>
          <a:xfrm>
            <a:off x="6121440" y="-25560"/>
            <a:ext cx="304812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Que f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Où a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Qui vo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Moyen de cont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Dans quel or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5880" y="4038480"/>
            <a:ext cx="30481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Exemple  problè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Nécessité coopé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EFA2B-023E-474D-9972-6AA370998D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Réutilisation et Autres sources d'expertise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637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6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46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647" name="" descr=""/>
            <p:cNvPicPr/>
            <p:nvPr/>
          </p:nvPicPr>
          <p:blipFill>
            <a:blip r:embed="rId2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48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650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651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53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2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ntreti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674" name="Atos-Laet-bureau-3" descr=""/>
            <p:cNvPicPr/>
            <p:nvPr/>
          </p:nvPicPr>
          <p:blipFill>
            <a:blip r:embed="rId4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9" name="" descr=""/>
            <p:cNvPicPr/>
            <p:nvPr/>
          </p:nvPicPr>
          <p:blipFill>
            <a:blip r:embed="rId5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680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035160" y="558720"/>
            <a:ext cx="228600" cy="965160"/>
            <a:chOff x="3035160" y="558720"/>
            <a:chExt cx="228600" cy="965160"/>
          </a:xfrm>
        </p:grpSpPr>
        <p:sp>
          <p:nvSpPr>
            <p:cNvPr id="686" name=""/>
            <p:cNvSpPr/>
            <p:nvPr/>
          </p:nvSpPr>
          <p:spPr>
            <a:xfrm>
              <a:off x="3060720" y="55872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035160" y="799920"/>
              <a:ext cx="228600" cy="723960"/>
            </a:xfrm>
            <a:prstGeom prst="downArrow">
              <a:avLst>
                <a:gd name="adj1" fmla="val 50000"/>
                <a:gd name="adj2" fmla="val 90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914400" y="695160"/>
            <a:ext cx="2057400" cy="828720"/>
            <a:chOff x="914400" y="695160"/>
            <a:chExt cx="2057400" cy="828720"/>
          </a:xfrm>
        </p:grpSpPr>
        <p:sp>
          <p:nvSpPr>
            <p:cNvPr id="689" name=""/>
            <p:cNvSpPr/>
            <p:nvPr/>
          </p:nvSpPr>
          <p:spPr>
            <a:xfrm rot="5400000">
              <a:off x="2324160" y="1104840"/>
              <a:ext cx="457200" cy="380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190" stAng="10800000" swAng="5400000"/>
                  <a:lnTo>
                    <a:pt x="12959" y="2970"/>
                  </a:lnTo>
                  <a:lnTo>
                    <a:pt x="12959" y="0"/>
                  </a:lnTo>
                  <a:lnTo>
                    <a:pt x="21600" y="6079"/>
                  </a:lnTo>
                  <a:lnTo>
                    <a:pt x="12959" y="12158"/>
                  </a:lnTo>
                  <a:lnTo>
                    <a:pt x="12959" y="9188"/>
                  </a:lnTo>
                  <a:lnTo>
                    <a:pt x="12427" y="9188"/>
                  </a:lnTo>
                  <a:arcTo wR="6209" hR="2972" stAng="16200000" swAng="-5400000"/>
                  <a:lnTo>
                    <a:pt x="6218" y="216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124000" y="1057320"/>
              <a:ext cx="15264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14400" y="695160"/>
              <a:ext cx="2057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Réutilis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&amp; aut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FA73-2318-46D3-98B3-FFEBC87DAF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Réutilisation et Autres sources d'expertise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-10476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66"/>
                </a:solidFill>
                <a:latin typeface="Bookman Old Style"/>
              </a:rPr>
              <a:t>Etat de l'art et réutilisation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Enterprise Ontology (AIAI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TOVE Ontology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Cyc Ontology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Ontologie PM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CGKAT &amp; WebKB top ontology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Bookman Old Style"/>
              </a:rPr>
              <a:t>Pas d'inclusion automatiqu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39480" indent="-3394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66"/>
                </a:solidFill>
                <a:latin typeface="Bookman Old Style"/>
              </a:rPr>
              <a:t>Autres sources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Expertise en sémiotique (pas dans recueil)</a:t>
            </a:r>
            <a:br>
              <a:rPr sz="2800"/>
            </a:b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“Using Language” H.H. Clark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MIME: énumération formats électronique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Dublin Core: Init. propriétés document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66"/>
                </a:solidFill>
                <a:latin typeface="Bookman Old Style"/>
              </a:rPr>
              <a:t>Scénarios pour l'élagage</a:t>
            </a: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 (r. propriétaire)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marL="339480" indent="-3394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66"/>
                </a:solidFill>
                <a:latin typeface="Bookman Old Style"/>
              </a:rPr>
              <a:t>Méta-dictionnaire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8023-8CEF-4CD3-B46C-CCF60D7281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Sur le continuum de la formalisat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699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08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709" name="" descr=""/>
            <p:cNvPicPr/>
            <p:nvPr/>
          </p:nvPicPr>
          <p:blipFill>
            <a:blip r:embed="rId2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710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712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713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15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4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ntreti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736" name="Atos-Laet-bureau-3" descr=""/>
            <p:cNvPicPr/>
            <p:nvPr/>
          </p:nvPicPr>
          <p:blipFill>
            <a:blip r:embed="rId4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1" name="" descr=""/>
            <p:cNvPicPr/>
            <p:nvPr/>
          </p:nvPicPr>
          <p:blipFill>
            <a:blip r:embed="rId5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742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3505320" y="1676520"/>
            <a:ext cx="5486400" cy="2133360"/>
            <a:chOff x="3505320" y="1676520"/>
            <a:chExt cx="5486400" cy="2133360"/>
          </a:xfrm>
        </p:grpSpPr>
        <p:pic>
          <p:nvPicPr>
            <p:cNvPr id="748" name="" descr=""/>
            <p:cNvPicPr/>
            <p:nvPr/>
          </p:nvPicPr>
          <p:blipFill>
            <a:blip r:embed="rId6"/>
            <a:stretch/>
          </p:blipFill>
          <p:spPr>
            <a:xfrm>
              <a:off x="3505320" y="1676520"/>
              <a:ext cx="5486400" cy="1190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49" name="" descr=""/>
            <p:cNvPicPr/>
            <p:nvPr/>
          </p:nvPicPr>
          <p:blipFill>
            <a:blip r:embed="rId7"/>
            <a:stretch/>
          </p:blipFill>
          <p:spPr>
            <a:xfrm>
              <a:off x="3581280" y="2187720"/>
              <a:ext cx="5410440" cy="1317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50" name="" descr=""/>
            <p:cNvPicPr/>
            <p:nvPr/>
          </p:nvPicPr>
          <p:blipFill>
            <a:blip r:embed="rId8"/>
            <a:stretch/>
          </p:blipFill>
          <p:spPr>
            <a:xfrm>
              <a:off x="4343400" y="2368440"/>
              <a:ext cx="464832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1" name=""/>
          <p:cNvGrpSpPr/>
          <p:nvPr/>
        </p:nvGrpSpPr>
        <p:grpSpPr>
          <a:xfrm>
            <a:off x="3035160" y="558720"/>
            <a:ext cx="228600" cy="965160"/>
            <a:chOff x="3035160" y="558720"/>
            <a:chExt cx="228600" cy="965160"/>
          </a:xfrm>
        </p:grpSpPr>
        <p:sp>
          <p:nvSpPr>
            <p:cNvPr id="752" name=""/>
            <p:cNvSpPr/>
            <p:nvPr/>
          </p:nvSpPr>
          <p:spPr>
            <a:xfrm>
              <a:off x="3060720" y="55872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35160" y="799920"/>
              <a:ext cx="228600" cy="723960"/>
            </a:xfrm>
            <a:prstGeom prst="downArrow">
              <a:avLst>
                <a:gd name="adj1" fmla="val 50000"/>
                <a:gd name="adj2" fmla="val 90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914400" y="695160"/>
            <a:ext cx="2057400" cy="828720"/>
            <a:chOff x="914400" y="695160"/>
            <a:chExt cx="2057400" cy="828720"/>
          </a:xfrm>
        </p:grpSpPr>
        <p:sp>
          <p:nvSpPr>
            <p:cNvPr id="755" name=""/>
            <p:cNvSpPr/>
            <p:nvPr/>
          </p:nvSpPr>
          <p:spPr>
            <a:xfrm rot="5400000">
              <a:off x="2324160" y="1104840"/>
              <a:ext cx="457200" cy="380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190" stAng="10800000" swAng="5400000"/>
                  <a:lnTo>
                    <a:pt x="12959" y="2970"/>
                  </a:lnTo>
                  <a:lnTo>
                    <a:pt x="12959" y="0"/>
                  </a:lnTo>
                  <a:lnTo>
                    <a:pt x="21600" y="6079"/>
                  </a:lnTo>
                  <a:lnTo>
                    <a:pt x="12959" y="12158"/>
                  </a:lnTo>
                  <a:lnTo>
                    <a:pt x="12959" y="9188"/>
                  </a:lnTo>
                  <a:lnTo>
                    <a:pt x="12427" y="9188"/>
                  </a:lnTo>
                  <a:arcTo wR="6209" hR="2972" stAng="16200000" swAng="-5400000"/>
                  <a:lnTo>
                    <a:pt x="6218" y="216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124000" y="1057320"/>
              <a:ext cx="15264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914400" y="695160"/>
              <a:ext cx="2057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Réutilis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&amp; aut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344E-15A3-4741-A67B-81F004B28A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Construct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Termes candidat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Proposition définitions (ac.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Proposition extensions (in.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Bookman Old Style"/>
              </a:rPr>
              <a:t>Amorçage &amp; itération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Raffinage termes et notion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Travail sur termes: synonymes/ambigus</a:t>
            </a:r>
            <a:br>
              <a:rPr sz="2800"/>
            </a:b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Label formel (Uschold &amp; Gruninger 96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Bookman Old Style"/>
              </a:rPr>
              <a:t>Nécessité outils &amp; niveau terminologiques pour consensus et interfac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Trois approches identifiée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Top-Down / Bottom-Up / Middle-Out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Bookman Old Style"/>
              </a:rPr>
              <a:t>Trois perspectives complémentaire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niveau/granularité &amp; interaction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2150-DA9D-4539-820E-33C8DFF623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Construct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66"/>
                </a:solidFill>
                <a:latin typeface="Bookman Old Style"/>
              </a:rPr>
              <a:t>Structuration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Principes aristotéliciens étendus (Bachimont, 2000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Genus/Differentia/Axe sémantique</a:t>
            </a:r>
            <a:br>
              <a:rPr sz="2800"/>
            </a:b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(Kassel et al, 2000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Attributs et contraintes pour subsomption</a:t>
            </a:r>
            <a:br>
              <a:rPr sz="2800"/>
            </a:b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(Guarino et Welty, 2000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Bookman Old Style"/>
              </a:rPr>
              <a:t>Très bien pour le top / lourd sans les outils pour une large ontologi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Continuum Informel </a:t>
            </a:r>
            <a:r>
              <a:rPr b="1" lang="fr-FR" sz="3000" spc="-1" strike="noStrike" u="sng">
                <a:solidFill>
                  <a:srgbClr val="000066"/>
                </a:solidFill>
                <a:uFillTx/>
                <a:latin typeface="Symbol"/>
                <a:ea typeface="Symbol"/>
              </a:rPr>
              <a:t></a:t>
            </a: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 Form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Textuel (Informel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Tableaux (semi-informel </a:t>
            </a:r>
            <a:r>
              <a:rPr b="0" lang="fr-FR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semi-formel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RDF-RDFS (formel, utilisation taxinomie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Bookman Old Style"/>
              </a:rPr>
              <a:t>Processus d'augmentation (termes &amp; LN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0570-137D-4126-A887-2FB79F98FC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Résultat de la formalisat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767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769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7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76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777" name="" descr=""/>
            <p:cNvPicPr/>
            <p:nvPr/>
          </p:nvPicPr>
          <p:blipFill>
            <a:blip r:embed="rId2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778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780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781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83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2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ntreti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804" name="Atos-Laet-bureau-3" descr=""/>
            <p:cNvPicPr/>
            <p:nvPr/>
          </p:nvPicPr>
          <p:blipFill>
            <a:blip r:embed="rId4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9" name="" descr=""/>
            <p:cNvPicPr/>
            <p:nvPr/>
          </p:nvPicPr>
          <p:blipFill>
            <a:blip r:embed="rId5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pic>
        <p:nvPicPr>
          <p:cNvPr id="810" name="" descr=""/>
          <p:cNvPicPr/>
          <p:nvPr/>
        </p:nvPicPr>
        <p:blipFill>
          <a:blip r:embed="rId6"/>
          <a:stretch/>
        </p:blipFill>
        <p:spPr>
          <a:xfrm>
            <a:off x="3651120" y="3949560"/>
            <a:ext cx="5340600" cy="155268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3505320" y="1676520"/>
            <a:ext cx="5486400" cy="2133360"/>
            <a:chOff x="3505320" y="1676520"/>
            <a:chExt cx="5486400" cy="2133360"/>
          </a:xfrm>
        </p:grpSpPr>
        <p:pic>
          <p:nvPicPr>
            <p:cNvPr id="817" name="" descr=""/>
            <p:cNvPicPr/>
            <p:nvPr/>
          </p:nvPicPr>
          <p:blipFill>
            <a:blip r:embed="rId7"/>
            <a:stretch/>
          </p:blipFill>
          <p:spPr>
            <a:xfrm>
              <a:off x="3505320" y="1676520"/>
              <a:ext cx="5486400" cy="1190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18" name="" descr=""/>
            <p:cNvPicPr/>
            <p:nvPr/>
          </p:nvPicPr>
          <p:blipFill>
            <a:blip r:embed="rId8"/>
            <a:stretch/>
          </p:blipFill>
          <p:spPr>
            <a:xfrm>
              <a:off x="3581280" y="2187720"/>
              <a:ext cx="5410440" cy="1317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19" name="" descr=""/>
            <p:cNvPicPr/>
            <p:nvPr/>
          </p:nvPicPr>
          <p:blipFill>
            <a:blip r:embed="rId9"/>
            <a:stretch/>
          </p:blipFill>
          <p:spPr>
            <a:xfrm>
              <a:off x="4343400" y="2368440"/>
              <a:ext cx="464832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0" name=""/>
          <p:cNvGrpSpPr/>
          <p:nvPr/>
        </p:nvGrpSpPr>
        <p:grpSpPr>
          <a:xfrm>
            <a:off x="3048120" y="2095560"/>
            <a:ext cx="228600" cy="1714320"/>
            <a:chOff x="3048120" y="2095560"/>
            <a:chExt cx="228600" cy="1714320"/>
          </a:xfrm>
        </p:grpSpPr>
        <p:sp>
          <p:nvSpPr>
            <p:cNvPr id="821" name=""/>
            <p:cNvSpPr/>
            <p:nvPr/>
          </p:nvSpPr>
          <p:spPr>
            <a:xfrm>
              <a:off x="3073320" y="2095560"/>
              <a:ext cx="15264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48120" y="2362320"/>
              <a:ext cx="228600" cy="1447560"/>
            </a:xfrm>
            <a:prstGeom prst="downArrow">
              <a:avLst>
                <a:gd name="adj1" fmla="val 50000"/>
                <a:gd name="adj2" fmla="val 11386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3035160" y="558720"/>
            <a:ext cx="228600" cy="965160"/>
            <a:chOff x="3035160" y="558720"/>
            <a:chExt cx="228600" cy="965160"/>
          </a:xfrm>
        </p:grpSpPr>
        <p:sp>
          <p:nvSpPr>
            <p:cNvPr id="824" name=""/>
            <p:cNvSpPr/>
            <p:nvPr/>
          </p:nvSpPr>
          <p:spPr>
            <a:xfrm>
              <a:off x="3060720" y="55872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35160" y="799920"/>
              <a:ext cx="228600" cy="723960"/>
            </a:xfrm>
            <a:prstGeom prst="downArrow">
              <a:avLst>
                <a:gd name="adj1" fmla="val 50000"/>
                <a:gd name="adj2" fmla="val 90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914400" y="695160"/>
            <a:ext cx="2057400" cy="828720"/>
            <a:chOff x="914400" y="695160"/>
            <a:chExt cx="2057400" cy="828720"/>
          </a:xfrm>
        </p:grpSpPr>
        <p:sp>
          <p:nvSpPr>
            <p:cNvPr id="827" name=""/>
            <p:cNvSpPr/>
            <p:nvPr/>
          </p:nvSpPr>
          <p:spPr>
            <a:xfrm rot="5400000">
              <a:off x="2324160" y="1104840"/>
              <a:ext cx="457200" cy="380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190" stAng="10800000" swAng="5400000"/>
                  <a:lnTo>
                    <a:pt x="12959" y="2970"/>
                  </a:lnTo>
                  <a:lnTo>
                    <a:pt x="12959" y="0"/>
                  </a:lnTo>
                  <a:lnTo>
                    <a:pt x="21600" y="6079"/>
                  </a:lnTo>
                  <a:lnTo>
                    <a:pt x="12959" y="12158"/>
                  </a:lnTo>
                  <a:lnTo>
                    <a:pt x="12959" y="9188"/>
                  </a:lnTo>
                  <a:lnTo>
                    <a:pt x="12427" y="9188"/>
                  </a:lnTo>
                  <a:arcTo wR="6209" hR="2972" stAng="16200000" swAng="-5400000"/>
                  <a:lnTo>
                    <a:pt x="6218" y="216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124000" y="1057320"/>
              <a:ext cx="15264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914400" y="695160"/>
              <a:ext cx="2057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Réutilis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&amp; aut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D546-06E4-4355-9DD1-8A57D2571A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Résultats et constat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8080" y="-140040"/>
            <a:ext cx="8305920" cy="66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Trois Couches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Plus de 400 concepts, 50 relations, profondeur maximale de 12 hops.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Haut: réutilisable/peu utilisabl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Couche centrale: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Bookman Old Style"/>
              </a:rPr>
              <a:t>Mémoire d'entreprise (r. mémoire)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Bookman Old Style"/>
              </a:rPr>
              <a:t>Sujets du domaine (r. domaine)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Extensions: utilisables/peu réutilisable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Nécessité extension</a:t>
            </a: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 (définitions formelles concepts / propriétés)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Nécessité interface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Cacher haut: peu intérêt &amp; pb consensus</a:t>
            </a:r>
            <a:br>
              <a:rPr sz="2800"/>
            </a:b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niveau bas = consensus de tous les jour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Profils et terminologie dans la navigation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Terminologie &amp; Plusieurs langues/jargon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96BF-63E7-413F-A99B-76D2606C95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"/>
          <p:cNvGrpSpPr/>
          <p:nvPr/>
        </p:nvGrpSpPr>
        <p:grpSpPr>
          <a:xfrm>
            <a:off x="1129680" y="707760"/>
            <a:ext cx="3402360" cy="5139000"/>
            <a:chOff x="1129680" y="707760"/>
            <a:chExt cx="3402360" cy="5139000"/>
          </a:xfrm>
        </p:grpSpPr>
        <p:grpSp>
          <p:nvGrpSpPr>
            <p:cNvPr id="833" name=""/>
            <p:cNvGrpSpPr/>
            <p:nvPr/>
          </p:nvGrpSpPr>
          <p:grpSpPr>
            <a:xfrm>
              <a:off x="1149480" y="2457000"/>
              <a:ext cx="3368520" cy="1640160"/>
              <a:chOff x="1149480" y="2457000"/>
              <a:chExt cx="3368520" cy="1640160"/>
            </a:xfrm>
          </p:grpSpPr>
          <p:sp>
            <p:nvSpPr>
              <p:cNvPr id="834" name=""/>
              <p:cNvSpPr/>
              <p:nvPr/>
            </p:nvSpPr>
            <p:spPr>
              <a:xfrm flipV="1">
                <a:off x="2666880" y="2457000"/>
                <a:ext cx="366840" cy="328680"/>
              </a:xfrm>
              <a:prstGeom prst="line">
                <a:avLst/>
              </a:prstGeom>
              <a:ln cap="rnd" w="19080">
                <a:solidFill>
                  <a:srgbClr val="0000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1152360" y="2786040"/>
                <a:ext cx="1514520" cy="1311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6" name=""/>
              <p:cNvGrpSpPr/>
              <p:nvPr/>
            </p:nvGrpSpPr>
            <p:grpSpPr>
              <a:xfrm>
                <a:off x="1149480" y="4097160"/>
                <a:ext cx="3368520" cy="0"/>
                <a:chOff x="1149480" y="4097160"/>
                <a:chExt cx="3368520" cy="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1149480" y="4097160"/>
                  <a:ext cx="309960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4249080" y="4097160"/>
                  <a:ext cx="268920" cy="0"/>
                </a:xfrm>
                <a:prstGeom prst="line">
                  <a:avLst/>
                </a:prstGeom>
                <a:ln cap="rnd" w="19080">
                  <a:solidFill>
                    <a:srgbClr val="0000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9" name=""/>
            <p:cNvGrpSpPr/>
            <p:nvPr/>
          </p:nvGrpSpPr>
          <p:grpSpPr>
            <a:xfrm>
              <a:off x="1163520" y="707760"/>
              <a:ext cx="3368520" cy="1640160"/>
              <a:chOff x="1163520" y="707760"/>
              <a:chExt cx="3368520" cy="1640160"/>
            </a:xfrm>
          </p:grpSpPr>
          <p:sp>
            <p:nvSpPr>
              <p:cNvPr id="840" name=""/>
              <p:cNvSpPr/>
              <p:nvPr/>
            </p:nvSpPr>
            <p:spPr>
              <a:xfrm flipV="1">
                <a:off x="1168560" y="1036800"/>
                <a:ext cx="1514160" cy="1311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2682720" y="707760"/>
                <a:ext cx="366840" cy="328680"/>
              </a:xfrm>
              <a:prstGeom prst="line">
                <a:avLst/>
              </a:prstGeom>
              <a:ln cap="rnd" w="19080">
                <a:solidFill>
                  <a:srgbClr val="0000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2" name=""/>
              <p:cNvGrpSpPr/>
              <p:nvPr/>
            </p:nvGrpSpPr>
            <p:grpSpPr>
              <a:xfrm>
                <a:off x="1163520" y="2347920"/>
                <a:ext cx="3368520" cy="0"/>
                <a:chOff x="1163520" y="2347920"/>
                <a:chExt cx="3368520" cy="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1163520" y="2347920"/>
                  <a:ext cx="309960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4263120" y="2347920"/>
                  <a:ext cx="268920" cy="0"/>
                </a:xfrm>
                <a:prstGeom prst="line">
                  <a:avLst/>
                </a:prstGeom>
                <a:ln cap="rnd" w="19080">
                  <a:solidFill>
                    <a:srgbClr val="0000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5" name=""/>
            <p:cNvGrpSpPr/>
            <p:nvPr/>
          </p:nvGrpSpPr>
          <p:grpSpPr>
            <a:xfrm>
              <a:off x="1130400" y="4206600"/>
              <a:ext cx="3368160" cy="1640160"/>
              <a:chOff x="1130400" y="4206600"/>
              <a:chExt cx="3368160" cy="1640160"/>
            </a:xfrm>
          </p:grpSpPr>
          <p:sp>
            <p:nvSpPr>
              <p:cNvPr id="846" name=""/>
              <p:cNvSpPr/>
              <p:nvPr/>
            </p:nvSpPr>
            <p:spPr>
              <a:xfrm flipV="1">
                <a:off x="2644920" y="4206600"/>
                <a:ext cx="368280" cy="328680"/>
              </a:xfrm>
              <a:prstGeom prst="line">
                <a:avLst/>
              </a:prstGeom>
              <a:ln cap="rnd" w="19080">
                <a:solidFill>
                  <a:srgbClr val="0000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>
                <a:off x="1130400" y="4535640"/>
                <a:ext cx="1514520" cy="1311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8" name=""/>
              <p:cNvGrpSpPr/>
              <p:nvPr/>
            </p:nvGrpSpPr>
            <p:grpSpPr>
              <a:xfrm>
                <a:off x="1130400" y="5846760"/>
                <a:ext cx="3368160" cy="0"/>
                <a:chOff x="1130400" y="5846760"/>
                <a:chExt cx="3368160" cy="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1130400" y="5846760"/>
                  <a:ext cx="309924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4229640" y="5846760"/>
                  <a:ext cx="268920" cy="0"/>
                </a:xfrm>
                <a:prstGeom prst="line">
                  <a:avLst/>
                </a:prstGeom>
                <a:ln cap="rnd" w="19080">
                  <a:solidFill>
                    <a:srgbClr val="0000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1" name=""/>
            <p:cNvSpPr txBox="1"/>
            <p:nvPr/>
          </p:nvSpPr>
          <p:spPr>
            <a:xfrm rot="19150800">
              <a:off x="1017720" y="1503000"/>
              <a:ext cx="1547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0066"/>
                  </a:solidFill>
                  <a:latin typeface="AGaramond"/>
                </a:rPr>
                <a:t>Niveau Terminologique</a:t>
              </a:r>
              <a:endPara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latin typeface="AGaramond"/>
                <a:ea typeface="AGaramond"/>
              </a:endParaRPr>
            </a:p>
          </p:txBody>
        </p:sp>
        <p:sp>
          <p:nvSpPr>
            <p:cNvPr id="852" name=""/>
            <p:cNvSpPr txBox="1"/>
            <p:nvPr/>
          </p:nvSpPr>
          <p:spPr>
            <a:xfrm rot="19152600">
              <a:off x="1007640" y="3269880"/>
              <a:ext cx="1498680" cy="18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0066"/>
                  </a:solidFill>
                  <a:latin typeface="AGaramond"/>
                </a:rPr>
                <a:t>Niveau Intensionnel</a:t>
              </a:r>
              <a:endPara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latin typeface="AGaramond"/>
                <a:ea typeface="AGaramond"/>
              </a:endParaRPr>
            </a:p>
          </p:txBody>
        </p:sp>
        <p:sp>
          <p:nvSpPr>
            <p:cNvPr id="853" name=""/>
            <p:cNvSpPr txBox="1"/>
            <p:nvPr/>
          </p:nvSpPr>
          <p:spPr>
            <a:xfrm rot="19152600">
              <a:off x="1007640" y="5022720"/>
              <a:ext cx="1497240" cy="18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0066"/>
                  </a:solidFill>
                  <a:latin typeface="AGaramond"/>
                </a:rPr>
                <a:t>Niveau Extensionnel</a:t>
              </a:r>
              <a:endPara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latin typeface="AGaramond"/>
                <a:ea typeface="AGaramond"/>
              </a:endParaRPr>
            </a:p>
          </p:txBody>
        </p:sp>
      </p:grp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Les niveaux dans la formalisat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1117440" y="1076400"/>
            <a:ext cx="4227480" cy="5156280"/>
            <a:chOff x="1117440" y="1076400"/>
            <a:chExt cx="4227480" cy="5156280"/>
          </a:xfrm>
        </p:grpSpPr>
        <p:sp>
          <p:nvSpPr>
            <p:cNvPr id="856" name=""/>
            <p:cNvSpPr/>
            <p:nvPr/>
          </p:nvSpPr>
          <p:spPr>
            <a:xfrm>
              <a:off x="1117440" y="5943960"/>
              <a:ext cx="42274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808080"/>
                  </a:solidFill>
                  <a:latin typeface="Times New Roman"/>
                </a:rPr>
                <a:t>T</a:t>
              </a:r>
              <a:r>
                <a:rPr b="1" lang="fr-FR" sz="1000" spc="-1" strike="noStrike" baseline="-25000">
                  <a:solidFill>
                    <a:srgbClr val="808080"/>
                  </a:solidFill>
                  <a:latin typeface="Times New Roman"/>
                </a:rPr>
                <a:t>n</a:t>
              </a:r>
              <a:r>
                <a:rPr b="0" lang="fr-FR" sz="1000" spc="-1" strike="noStrike">
                  <a:solidFill>
                    <a:srgbClr val="808080"/>
                  </a:solidFill>
                  <a:latin typeface="Times New Roman"/>
                </a:rPr>
                <a:t>: A term   -   </a:t>
              </a:r>
              <a:r>
                <a:rPr b="1" lang="fr-FR" sz="1000" spc="-1" strike="noStrike">
                  <a:solidFill>
                    <a:srgbClr val="808080"/>
                  </a:solidFill>
                  <a:latin typeface="Times New Roman"/>
                </a:rPr>
                <a:t>I</a:t>
              </a:r>
              <a:r>
                <a:rPr b="1" lang="fr-FR" sz="1000" spc="-1" strike="noStrike" baseline="-25000">
                  <a:solidFill>
                    <a:srgbClr val="808080"/>
                  </a:solidFill>
                  <a:latin typeface="Times New Roman"/>
                </a:rPr>
                <a:t>n</a:t>
              </a:r>
              <a:r>
                <a:rPr b="0" lang="fr-FR" sz="1000" spc="-1" strike="noStrike">
                  <a:solidFill>
                    <a:srgbClr val="808080"/>
                  </a:solidFill>
                  <a:latin typeface="Times New Roman"/>
                </a:rPr>
                <a:t> : Intension of Concept #n   -   </a:t>
              </a:r>
              <a:r>
                <a:rPr b="1" lang="fr-FR" sz="10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r>
                <a:rPr b="1" lang="fr-FR" sz="1000" spc="-1" strike="noStrike" baseline="-25000">
                  <a:solidFill>
                    <a:srgbClr val="808080"/>
                  </a:solidFill>
                  <a:latin typeface="Times New Roman"/>
                </a:rPr>
                <a:t>n</a:t>
              </a:r>
              <a:r>
                <a:rPr b="0" lang="fr-FR" sz="1000" spc="-1" strike="noStrike">
                  <a:solidFill>
                    <a:srgbClr val="808080"/>
                  </a:solidFill>
                  <a:latin typeface="Times New Roman"/>
                </a:rPr>
                <a:t> : Extension of Concept #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7" name=""/>
            <p:cNvGrpSpPr/>
            <p:nvPr/>
          </p:nvGrpSpPr>
          <p:grpSpPr>
            <a:xfrm>
              <a:off x="1888920" y="2538720"/>
              <a:ext cx="2389320" cy="1477800"/>
              <a:chOff x="1888920" y="2538720"/>
              <a:chExt cx="2389320" cy="1477800"/>
            </a:xfrm>
          </p:grpSpPr>
          <p:sp>
            <p:nvSpPr>
              <p:cNvPr id="858" name=""/>
              <p:cNvSpPr/>
              <p:nvPr/>
            </p:nvSpPr>
            <p:spPr>
              <a:xfrm flipV="1">
                <a:off x="2047680" y="3359520"/>
                <a:ext cx="409680" cy="32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 flipV="1">
                <a:off x="2609280" y="3400200"/>
                <a:ext cx="244440" cy="31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2609640" y="2784600"/>
                <a:ext cx="474840" cy="41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 flipV="1">
                <a:off x="3106440" y="2784600"/>
                <a:ext cx="345960" cy="37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3141720" y="3359160"/>
                <a:ext cx="290520" cy="35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3506760" y="3359160"/>
                <a:ext cx="11160" cy="31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 flipV="1">
                <a:off x="3603600" y="3359160"/>
                <a:ext cx="433440" cy="36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019320" y="2538720"/>
                <a:ext cx="29196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000" spc="-1" strike="noStrike">
                    <a:solidFill>
                      <a:srgbClr val="808080"/>
                    </a:solidFill>
                    <a:latin typeface="Times New Roman"/>
                  </a:rPr>
                  <a:t>I</a:t>
                </a:r>
                <a:r>
                  <a:rPr b="1" i="1" lang="fr-FR" sz="1000" spc="-1" strike="noStrike" baseline="-25000">
                    <a:solidFill>
                      <a:srgbClr val="80808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457360" y="3152880"/>
                <a:ext cx="293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000" spc="-1" strike="noStrike">
                    <a:solidFill>
                      <a:srgbClr val="808080"/>
                    </a:solidFill>
                    <a:latin typeface="Times New Roman"/>
                  </a:rPr>
                  <a:t>I</a:t>
                </a:r>
                <a:r>
                  <a:rPr b="1" i="1" lang="fr-FR" sz="1000" spc="-1" strike="noStrike" baseline="-25000">
                    <a:solidFill>
                      <a:srgbClr val="80808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397320" y="3113280"/>
                <a:ext cx="29196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000" spc="-1" strike="noStrike">
                    <a:solidFill>
                      <a:srgbClr val="808080"/>
                    </a:solidFill>
                    <a:latin typeface="Times New Roman"/>
                  </a:rPr>
                  <a:t>I</a:t>
                </a:r>
                <a:r>
                  <a:rPr b="1" i="1" lang="fr-FR" sz="1000" spc="-1" strike="noStrike" baseline="-25000">
                    <a:solidFill>
                      <a:srgbClr val="80808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888920" y="3634200"/>
                <a:ext cx="29232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000" spc="-1" strike="noStrike">
                    <a:solidFill>
                      <a:srgbClr val="808080"/>
                    </a:solidFill>
                    <a:latin typeface="Times New Roman"/>
                  </a:rPr>
                  <a:t>I</a:t>
                </a:r>
                <a:r>
                  <a:rPr b="1" i="1" lang="fr-FR" sz="1000" spc="-1" strike="noStrike" baseline="-25000">
                    <a:solidFill>
                      <a:srgbClr val="80808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795400" y="3646800"/>
                <a:ext cx="29376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000" spc="-1" strike="noStrike">
                    <a:solidFill>
                      <a:srgbClr val="808080"/>
                    </a:solidFill>
                    <a:latin typeface="Times New Roman"/>
                  </a:rPr>
                  <a:t>I</a:t>
                </a:r>
                <a:r>
                  <a:rPr b="1" i="1" lang="fr-FR" sz="1000" spc="-1" strike="noStrike" baseline="-25000">
                    <a:solidFill>
                      <a:srgbClr val="80808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998800" y="3646800"/>
                <a:ext cx="29196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000" spc="-1" strike="noStrike">
                    <a:solidFill>
                      <a:srgbClr val="808080"/>
                    </a:solidFill>
                    <a:latin typeface="Times New Roman"/>
                  </a:rPr>
                  <a:t>I</a:t>
                </a:r>
                <a:r>
                  <a:rPr b="1" i="1" lang="fr-FR" sz="1000" spc="-1" strike="noStrike" baseline="-25000">
                    <a:solidFill>
                      <a:srgbClr val="80808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409920" y="3646800"/>
                <a:ext cx="29196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000" spc="-1" strike="noStrike">
                    <a:solidFill>
                      <a:srgbClr val="808080"/>
                    </a:solidFill>
                    <a:latin typeface="Times New Roman"/>
                  </a:rPr>
                  <a:t>I</a:t>
                </a:r>
                <a:r>
                  <a:rPr b="1" i="1" lang="fr-FR" sz="1000" spc="-1" strike="noStrike" baseline="-25000">
                    <a:solidFill>
                      <a:srgbClr val="80808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986280" y="3646800"/>
                <a:ext cx="29196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000" spc="-1" strike="noStrike">
                    <a:solidFill>
                      <a:srgbClr val="808080"/>
                    </a:solidFill>
                    <a:latin typeface="Times New Roman"/>
                  </a:rPr>
                  <a:t>I</a:t>
                </a:r>
                <a:r>
                  <a:rPr b="1" i="1" lang="fr-FR" sz="1000" spc="-1" strike="noStrike" baseline="-25000">
                    <a:solidFill>
                      <a:srgbClr val="80808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2768400" y="1076400"/>
              <a:ext cx="1433520" cy="657360"/>
              <a:chOff x="2768400" y="1076400"/>
              <a:chExt cx="1433520" cy="657360"/>
            </a:xfrm>
          </p:grpSpPr>
          <p:sp>
            <p:nvSpPr>
              <p:cNvPr id="874" name=""/>
              <p:cNvSpPr/>
              <p:nvPr/>
            </p:nvSpPr>
            <p:spPr>
              <a:xfrm>
                <a:off x="2768400" y="1364040"/>
                <a:ext cx="378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000" spc="-1" strike="noStrike">
                    <a:solidFill>
                      <a:srgbClr val="808080"/>
                    </a:solidFill>
                    <a:latin typeface="Times New Roman"/>
                  </a:rPr>
                  <a:t>T</a:t>
                </a:r>
                <a:r>
                  <a:rPr b="1" i="1" lang="fr-FR" sz="1000" spc="-1" strike="noStrike" baseline="-25000">
                    <a:solidFill>
                      <a:srgbClr val="80808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824280" y="1200240"/>
                <a:ext cx="37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000" spc="-1" strike="noStrike">
                    <a:solidFill>
                      <a:srgbClr val="808080"/>
                    </a:solidFill>
                    <a:latin typeface="Times New Roman"/>
                  </a:rPr>
                  <a:t>T</a:t>
                </a:r>
                <a:r>
                  <a:rPr b="1" i="1" lang="fr-FR" sz="1000" spc="-1" strike="noStrike" baseline="-25000">
                    <a:solidFill>
                      <a:srgbClr val="80808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6" name=""/>
              <p:cNvGrpSpPr/>
              <p:nvPr/>
            </p:nvGrpSpPr>
            <p:grpSpPr>
              <a:xfrm>
                <a:off x="2817720" y="1609560"/>
                <a:ext cx="44640" cy="41400"/>
                <a:chOff x="2817720" y="1609560"/>
                <a:chExt cx="44640" cy="41400"/>
              </a:xfrm>
            </p:grpSpPr>
            <p:sp>
              <p:nvSpPr>
                <p:cNvPr id="877" name=""/>
                <p:cNvSpPr/>
                <p:nvPr/>
              </p:nvSpPr>
              <p:spPr>
                <a:xfrm flipV="1">
                  <a:off x="2817720" y="1609560"/>
                  <a:ext cx="4464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817720" y="1629360"/>
                  <a:ext cx="44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9" name=""/>
              <p:cNvGrpSpPr/>
              <p:nvPr/>
            </p:nvGrpSpPr>
            <p:grpSpPr>
              <a:xfrm>
                <a:off x="3181320" y="1076400"/>
                <a:ext cx="377640" cy="370080"/>
                <a:chOff x="3181320" y="1076400"/>
                <a:chExt cx="377640" cy="37008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3181320" y="1076400"/>
                  <a:ext cx="377640" cy="37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000" spc="-1" strike="noStrike">
                      <a:solidFill>
                        <a:srgbClr val="808080"/>
                      </a:solidFill>
                      <a:latin typeface="Times New Roman"/>
                    </a:rPr>
                    <a:t>T</a:t>
                  </a:r>
                  <a:r>
                    <a:rPr b="1" i="1" lang="fr-FR" sz="1000" spc="-1" strike="noStrike" baseline="-25000">
                      <a:solidFill>
                        <a:srgbClr val="80808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1" name=""/>
                <p:cNvGrpSpPr/>
                <p:nvPr/>
              </p:nvGrpSpPr>
              <p:grpSpPr>
                <a:xfrm>
                  <a:off x="3254040" y="1323000"/>
                  <a:ext cx="72720" cy="41040"/>
                  <a:chOff x="3254040" y="1323000"/>
                  <a:chExt cx="72720" cy="4104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 flipV="1">
                    <a:off x="3254040" y="1323000"/>
                    <a:ext cx="72720" cy="4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3254040" y="1342440"/>
                    <a:ext cx="72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4" name=""/>
              <p:cNvGrpSpPr/>
              <p:nvPr/>
            </p:nvGrpSpPr>
            <p:grpSpPr>
              <a:xfrm>
                <a:off x="3903480" y="1485720"/>
                <a:ext cx="44640" cy="41400"/>
                <a:chOff x="3903480" y="1485720"/>
                <a:chExt cx="44640" cy="41400"/>
              </a:xfrm>
            </p:grpSpPr>
            <p:sp>
              <p:nvSpPr>
                <p:cNvPr id="885" name=""/>
                <p:cNvSpPr/>
                <p:nvPr/>
              </p:nvSpPr>
              <p:spPr>
                <a:xfrm flipV="1">
                  <a:off x="3903480" y="1485720"/>
                  <a:ext cx="4464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3903480" y="1505520"/>
                  <a:ext cx="44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7" name=""/>
            <p:cNvGrpSpPr/>
            <p:nvPr/>
          </p:nvGrpSpPr>
          <p:grpSpPr>
            <a:xfrm>
              <a:off x="2752560" y="5025960"/>
              <a:ext cx="1255680" cy="542880"/>
              <a:chOff x="2752560" y="5025960"/>
              <a:chExt cx="1255680" cy="542880"/>
            </a:xfrm>
          </p:grpSpPr>
          <p:grpSp>
            <p:nvGrpSpPr>
              <p:cNvPr id="888" name=""/>
              <p:cNvGrpSpPr/>
              <p:nvPr/>
            </p:nvGrpSpPr>
            <p:grpSpPr>
              <a:xfrm>
                <a:off x="3509640" y="5355000"/>
                <a:ext cx="43560" cy="41040"/>
                <a:chOff x="3509640" y="5355000"/>
                <a:chExt cx="43560" cy="41040"/>
              </a:xfrm>
            </p:grpSpPr>
            <p:sp>
              <p:nvSpPr>
                <p:cNvPr id="889" name=""/>
                <p:cNvSpPr/>
                <p:nvPr/>
              </p:nvSpPr>
              <p:spPr>
                <a:xfrm flipV="1">
                  <a:off x="3509640" y="5355000"/>
                  <a:ext cx="4356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509640" y="5374440"/>
                  <a:ext cx="4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1" name=""/>
              <p:cNvGrpSpPr/>
              <p:nvPr/>
            </p:nvGrpSpPr>
            <p:grpSpPr>
              <a:xfrm>
                <a:off x="3601080" y="5527440"/>
                <a:ext cx="43560" cy="41400"/>
                <a:chOff x="3601080" y="5527440"/>
                <a:chExt cx="43560" cy="41400"/>
              </a:xfrm>
            </p:grpSpPr>
            <p:sp>
              <p:nvSpPr>
                <p:cNvPr id="892" name=""/>
                <p:cNvSpPr/>
                <p:nvPr/>
              </p:nvSpPr>
              <p:spPr>
                <a:xfrm flipV="1">
                  <a:off x="3601080" y="5527440"/>
                  <a:ext cx="4356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601080" y="5547240"/>
                  <a:ext cx="4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3726360" y="5274000"/>
                <a:ext cx="43200" cy="39600"/>
                <a:chOff x="3726360" y="5274000"/>
                <a:chExt cx="43200" cy="39600"/>
              </a:xfrm>
            </p:grpSpPr>
            <p:sp>
              <p:nvSpPr>
                <p:cNvPr id="895" name=""/>
                <p:cNvSpPr/>
                <p:nvPr/>
              </p:nvSpPr>
              <p:spPr>
                <a:xfrm flipV="1">
                  <a:off x="3726360" y="5274000"/>
                  <a:ext cx="43200" cy="3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726360" y="5292720"/>
                  <a:ext cx="43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" name=""/>
              <p:cNvGrpSpPr/>
              <p:nvPr/>
            </p:nvGrpSpPr>
            <p:grpSpPr>
              <a:xfrm>
                <a:off x="3964680" y="5232240"/>
                <a:ext cx="43560" cy="41400"/>
                <a:chOff x="3964680" y="5232240"/>
                <a:chExt cx="43560" cy="41400"/>
              </a:xfrm>
            </p:grpSpPr>
            <p:sp>
              <p:nvSpPr>
                <p:cNvPr id="898" name=""/>
                <p:cNvSpPr/>
                <p:nvPr/>
              </p:nvSpPr>
              <p:spPr>
                <a:xfrm flipV="1">
                  <a:off x="3964680" y="5232240"/>
                  <a:ext cx="4356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964680" y="5252040"/>
                  <a:ext cx="4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" name=""/>
              <p:cNvGrpSpPr/>
              <p:nvPr/>
            </p:nvGrpSpPr>
            <p:grpSpPr>
              <a:xfrm>
                <a:off x="3899160" y="5437080"/>
                <a:ext cx="43200" cy="41400"/>
                <a:chOff x="3899160" y="5437080"/>
                <a:chExt cx="43200" cy="41400"/>
              </a:xfrm>
            </p:grpSpPr>
            <p:sp>
              <p:nvSpPr>
                <p:cNvPr id="901" name=""/>
                <p:cNvSpPr/>
                <p:nvPr/>
              </p:nvSpPr>
              <p:spPr>
                <a:xfrm flipV="1">
                  <a:off x="3899160" y="5437080"/>
                  <a:ext cx="4320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899160" y="5456880"/>
                  <a:ext cx="43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"/>
              <p:cNvGrpSpPr/>
              <p:nvPr/>
            </p:nvGrpSpPr>
            <p:grpSpPr>
              <a:xfrm>
                <a:off x="3813120" y="5025960"/>
                <a:ext cx="43560" cy="41400"/>
                <a:chOff x="3813120" y="5025960"/>
                <a:chExt cx="43560" cy="41400"/>
              </a:xfrm>
            </p:grpSpPr>
            <p:sp>
              <p:nvSpPr>
                <p:cNvPr id="904" name=""/>
                <p:cNvSpPr/>
                <p:nvPr/>
              </p:nvSpPr>
              <p:spPr>
                <a:xfrm flipV="1">
                  <a:off x="3813120" y="5025960"/>
                  <a:ext cx="4356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813120" y="5045760"/>
                  <a:ext cx="4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3553200" y="5067720"/>
                <a:ext cx="43560" cy="41040"/>
                <a:chOff x="3553200" y="5067720"/>
                <a:chExt cx="43560" cy="41040"/>
              </a:xfrm>
            </p:grpSpPr>
            <p:sp>
              <p:nvSpPr>
                <p:cNvPr id="907" name=""/>
                <p:cNvSpPr/>
                <p:nvPr/>
              </p:nvSpPr>
              <p:spPr>
                <a:xfrm flipV="1">
                  <a:off x="3553200" y="5067720"/>
                  <a:ext cx="4356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553200" y="5087160"/>
                  <a:ext cx="43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9" name=""/>
              <p:cNvGrpSpPr/>
              <p:nvPr/>
            </p:nvGrpSpPr>
            <p:grpSpPr>
              <a:xfrm>
                <a:off x="2752560" y="5355000"/>
                <a:ext cx="43200" cy="41040"/>
                <a:chOff x="2752560" y="5355000"/>
                <a:chExt cx="43200" cy="41040"/>
              </a:xfrm>
            </p:grpSpPr>
            <p:sp>
              <p:nvSpPr>
                <p:cNvPr id="910" name=""/>
                <p:cNvSpPr/>
                <p:nvPr/>
              </p:nvSpPr>
              <p:spPr>
                <a:xfrm flipV="1">
                  <a:off x="2752560" y="5355000"/>
                  <a:ext cx="4320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2752560" y="5374440"/>
                  <a:ext cx="43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12" name=""/>
          <p:cNvGrpSpPr/>
          <p:nvPr/>
        </p:nvGrpSpPr>
        <p:grpSpPr>
          <a:xfrm>
            <a:off x="2017440" y="1322280"/>
            <a:ext cx="2489400" cy="4319640"/>
            <a:chOff x="2017440" y="1322280"/>
            <a:chExt cx="2489400" cy="4319640"/>
          </a:xfrm>
        </p:grpSpPr>
        <p:grpSp>
          <p:nvGrpSpPr>
            <p:cNvPr id="913" name=""/>
            <p:cNvGrpSpPr/>
            <p:nvPr/>
          </p:nvGrpSpPr>
          <p:grpSpPr>
            <a:xfrm>
              <a:off x="2017440" y="1322280"/>
              <a:ext cx="1253880" cy="2352600"/>
              <a:chOff x="2017440" y="1322280"/>
              <a:chExt cx="1253880" cy="2352600"/>
            </a:xfrm>
          </p:grpSpPr>
          <p:sp>
            <p:nvSpPr>
              <p:cNvPr id="914" name=""/>
              <p:cNvSpPr/>
              <p:nvPr/>
            </p:nvSpPr>
            <p:spPr>
              <a:xfrm flipH="1">
                <a:off x="2017800" y="1650960"/>
                <a:ext cx="820800" cy="2023920"/>
              </a:xfrm>
              <a:prstGeom prst="line">
                <a:avLst/>
              </a:prstGeom>
              <a:ln cap="rnd" w="19080">
                <a:solidFill>
                  <a:srgbClr val="cc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2017440" y="1322280"/>
                <a:ext cx="1253880" cy="2352600"/>
              </a:xfrm>
              <a:prstGeom prst="line">
                <a:avLst/>
              </a:prstGeom>
              <a:ln cap="rnd" w="19080">
                <a:solidFill>
                  <a:srgbClr val="cc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3533760" y="1503360"/>
              <a:ext cx="547560" cy="2208240"/>
              <a:chOff x="3533760" y="1503360"/>
              <a:chExt cx="547560" cy="2208240"/>
            </a:xfrm>
          </p:grpSpPr>
          <p:sp>
            <p:nvSpPr>
              <p:cNvPr id="917" name=""/>
              <p:cNvSpPr/>
              <p:nvPr/>
            </p:nvSpPr>
            <p:spPr>
              <a:xfrm>
                <a:off x="3925440" y="1539720"/>
                <a:ext cx="155880" cy="2135160"/>
              </a:xfrm>
              <a:prstGeom prst="line">
                <a:avLst/>
              </a:prstGeom>
              <a:ln cap="rnd" w="19080">
                <a:solidFill>
                  <a:srgbClr val="cc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>
                <a:off x="3533760" y="1503360"/>
                <a:ext cx="391680" cy="2208240"/>
              </a:xfrm>
              <a:prstGeom prst="line">
                <a:avLst/>
              </a:prstGeom>
              <a:ln cap="rnd" w="19080">
                <a:solidFill>
                  <a:srgbClr val="cc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2774520" y="3892320"/>
              <a:ext cx="692280" cy="1484280"/>
              <a:chOff x="2774520" y="3892320"/>
              <a:chExt cx="692280" cy="1484280"/>
            </a:xfrm>
          </p:grpSpPr>
          <p:sp>
            <p:nvSpPr>
              <p:cNvPr id="920" name=""/>
              <p:cNvSpPr/>
              <p:nvPr/>
            </p:nvSpPr>
            <p:spPr>
              <a:xfrm flipH="1">
                <a:off x="2774520" y="3892320"/>
                <a:ext cx="258840" cy="1484280"/>
              </a:xfrm>
              <a:prstGeom prst="line">
                <a:avLst/>
              </a:prstGeom>
              <a:ln w="1908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H="1">
                <a:off x="2774520" y="3933720"/>
                <a:ext cx="692280" cy="1442880"/>
              </a:xfrm>
              <a:prstGeom prst="line">
                <a:avLst/>
              </a:prstGeom>
              <a:ln w="1908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3336840" y="3933720"/>
              <a:ext cx="1170000" cy="1708200"/>
              <a:chOff x="3336840" y="3933720"/>
              <a:chExt cx="1170000" cy="1708200"/>
            </a:xfrm>
          </p:grpSpPr>
          <p:sp>
            <p:nvSpPr>
              <p:cNvPr id="923" name=""/>
              <p:cNvSpPr/>
              <p:nvPr/>
            </p:nvSpPr>
            <p:spPr>
              <a:xfrm>
                <a:off x="3336840" y="4903560"/>
                <a:ext cx="822240" cy="738360"/>
              </a:xfrm>
              <a:prstGeom prst="ellipse">
                <a:avLst/>
              </a:prstGeom>
              <a:noFill/>
              <a:ln cap="rnd" w="19080">
                <a:solidFill>
                  <a:srgbClr val="cc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3846600" y="3933720"/>
                <a:ext cx="225360" cy="1117440"/>
              </a:xfrm>
              <a:prstGeom prst="line">
                <a:avLst/>
              </a:prstGeom>
              <a:ln w="1908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3584520" y="3933720"/>
                <a:ext cx="487440" cy="1152360"/>
              </a:xfrm>
              <a:prstGeom prst="line">
                <a:avLst/>
              </a:prstGeom>
              <a:ln w="1908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4003560" y="3933720"/>
                <a:ext cx="68400" cy="1298520"/>
              </a:xfrm>
              <a:prstGeom prst="line">
                <a:avLst/>
              </a:prstGeom>
              <a:ln w="1908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H="1">
                <a:off x="3925800" y="3975120"/>
                <a:ext cx="125280" cy="1473120"/>
              </a:xfrm>
              <a:prstGeom prst="line">
                <a:avLst/>
              </a:prstGeom>
              <a:ln w="1908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3741480" y="3933720"/>
                <a:ext cx="330120" cy="1370160"/>
              </a:xfrm>
              <a:prstGeom prst="line">
                <a:avLst/>
              </a:prstGeom>
              <a:ln w="1908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3533400" y="3933720"/>
                <a:ext cx="538200" cy="1442880"/>
              </a:xfrm>
              <a:prstGeom prst="line">
                <a:avLst/>
              </a:prstGeom>
              <a:ln w="1908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>
                <a:off x="3638520" y="3933720"/>
                <a:ext cx="433440" cy="1587600"/>
              </a:xfrm>
              <a:prstGeom prst="line">
                <a:avLst/>
              </a:prstGeom>
              <a:ln w="1908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106880" y="5232240"/>
                <a:ext cx="39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000" spc="-1" strike="noStrike">
                    <a:solidFill>
                      <a:srgbClr val="808080"/>
                    </a:solidFill>
                    <a:latin typeface="Times New Roman"/>
                  </a:rPr>
                  <a:t>E</a:t>
                </a:r>
                <a:r>
                  <a:rPr b="1" i="1" lang="fr-FR" sz="1000" spc="-1" strike="noStrike" baseline="-25000">
                    <a:solidFill>
                      <a:srgbClr val="80808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2" name=""/>
          <p:cNvGrpSpPr/>
          <p:nvPr/>
        </p:nvGrpSpPr>
        <p:grpSpPr>
          <a:xfrm>
            <a:off x="2517840" y="304920"/>
            <a:ext cx="6485040" cy="2057400"/>
            <a:chOff x="2517840" y="304920"/>
            <a:chExt cx="6485040" cy="2057400"/>
          </a:xfrm>
        </p:grpSpPr>
        <p:sp>
          <p:nvSpPr>
            <p:cNvPr id="933" name=""/>
            <p:cNvSpPr/>
            <p:nvPr/>
          </p:nvSpPr>
          <p:spPr>
            <a:xfrm>
              <a:off x="4622760" y="304920"/>
              <a:ext cx="4380120" cy="17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&lt;rdfs:Class rdf:ID="Department"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&lt;rdfs:subClassOf rdf:resource="#OrganizationPart"/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&lt;rdfs:comment xml:lang="en"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Organization part which is a sub division of of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Research Direction, corresponding to sub inter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field e.g mobile transmis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&lt;/rdfs:comment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000" spc="-1" strike="noStrike">
                  <a:solidFill>
                    <a:srgbClr val="990000"/>
                  </a:solidFill>
                  <a:latin typeface="Courier New"/>
                </a:rPr>
                <a:t>&lt;rdfs:label xml:lang="en"&gt;department&lt;/rdfs:label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990000"/>
                  </a:solidFill>
                  <a:latin typeface="Courier New"/>
                </a:rPr>
                <a:t> </a:t>
              </a:r>
              <a:r>
                <a:rPr b="1" sz="1000" spc="-1" strike="noStrike">
                  <a:solidFill>
                    <a:srgbClr val="990000"/>
                  </a:solidFill>
                  <a:latin typeface="Courier New"/>
                </a:rPr>
                <a:t>&lt;rdfs:label xml:lang="en"&gt;division&lt;/rdfs:label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&lt;/rdfs:Class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2517840" y="1469880"/>
              <a:ext cx="2205000" cy="892440"/>
              <a:chOff x="2517840" y="1469880"/>
              <a:chExt cx="2205000" cy="892440"/>
            </a:xfrm>
          </p:grpSpPr>
          <p:sp>
            <p:nvSpPr>
              <p:cNvPr id="935" name=""/>
              <p:cNvSpPr/>
              <p:nvPr/>
            </p:nvSpPr>
            <p:spPr>
              <a:xfrm>
                <a:off x="2959200" y="2046240"/>
                <a:ext cx="157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517840" y="1960560"/>
                <a:ext cx="433440" cy="165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857680" y="2000160"/>
                <a:ext cx="939600" cy="36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66"/>
                    </a:solidFill>
                    <a:latin typeface="Times New Roman"/>
                  </a:rPr>
                  <a:t>Synonym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4532400" y="1600200"/>
                <a:ext cx="16488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697280" y="1469880"/>
                <a:ext cx="25560" cy="216000"/>
              </a:xfrm>
              <a:custGeom>
                <a:avLst/>
                <a:gdLst>
                  <a:gd name="textAreaLeft" fmla="*/ 16560 w 25560"/>
                  <a:gd name="textAreaRight" fmla="*/ 25920 w 25560"/>
                  <a:gd name="textAreaTop" fmla="*/ 5400 h 216000"/>
                  <a:gd name="textAreaBottom" fmla="*/ 210600 h 21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0" name=""/>
          <p:cNvGrpSpPr/>
          <p:nvPr/>
        </p:nvGrpSpPr>
        <p:grpSpPr>
          <a:xfrm>
            <a:off x="3506760" y="2009880"/>
            <a:ext cx="5456160" cy="3041640"/>
            <a:chOff x="3506760" y="2009880"/>
            <a:chExt cx="5456160" cy="3041640"/>
          </a:xfrm>
        </p:grpSpPr>
        <p:sp>
          <p:nvSpPr>
            <p:cNvPr id="941" name=""/>
            <p:cNvSpPr/>
            <p:nvPr/>
          </p:nvSpPr>
          <p:spPr>
            <a:xfrm>
              <a:off x="4583160" y="2009880"/>
              <a:ext cx="4379760" cy="30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&lt;rdfs:Class rdf:ID="E-Mail"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&lt;rdfs:subClassOf rdf:resource="#Mail"/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&lt;rdfs:comment xml:lang="en"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Mail sent in electronic format over a computeriz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world-wide communication 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&lt;/rdfs:comment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&lt;rdfs:label xml:lang="en"&gt;e-mail&lt;/rdfs:label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&lt;rdfs:label xml:lang="en"&gt;electronic mail&lt;/rdfs:label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000" spc="-1" strike="noStrike">
                  <a:solidFill>
                    <a:srgbClr val="990000"/>
                  </a:solidFill>
                  <a:latin typeface="Courier New"/>
                </a:rPr>
                <a:t>&lt;rdfs:label xml:lang="en"&gt;mail&lt;/rdfs:label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&lt;/rdfs:Class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&lt;rdfs:Class rdf:ID="PostMail"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&lt;rdfs:subClassOf rdf:resource="#Mail"/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&lt;rdfs:comment xml:lang="en"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Mail transmitted via the post off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&lt;/rdfs:comment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&lt;rdfs:label xml:lang="en"&gt;post mail&lt;/rdfs:label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000" spc="-1" strike="noStrike">
                  <a:solidFill>
                    <a:srgbClr val="990000"/>
                  </a:solidFill>
                  <a:latin typeface="Courier New"/>
                </a:rPr>
                <a:t>&lt;rdfs:label xml:lang="en"&gt;mail&lt;/rdfs:label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&lt;/rdfs:Class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3506760" y="2743200"/>
              <a:ext cx="1406520" cy="1981080"/>
              <a:chOff x="3506760" y="2743200"/>
              <a:chExt cx="1406520" cy="1981080"/>
            </a:xfrm>
          </p:grpSpPr>
          <p:sp>
            <p:nvSpPr>
              <p:cNvPr id="943" name=""/>
              <p:cNvSpPr/>
              <p:nvPr/>
            </p:nvSpPr>
            <p:spPr>
              <a:xfrm>
                <a:off x="3506760" y="2925720"/>
                <a:ext cx="647640" cy="182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154400" y="3019320"/>
                <a:ext cx="32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973320" y="2743200"/>
                <a:ext cx="93996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66"/>
                    </a:solidFill>
                    <a:latin typeface="Times New Roman"/>
                  </a:rPr>
                  <a:t>Ambiguïté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476600" y="3024000"/>
                <a:ext cx="220680" cy="32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476600" y="3024000"/>
                <a:ext cx="220680" cy="170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8" name=""/>
          <p:cNvGrpSpPr/>
          <p:nvPr/>
        </p:nvGrpSpPr>
        <p:grpSpPr>
          <a:xfrm>
            <a:off x="2362320" y="4648320"/>
            <a:ext cx="6752880" cy="1942920"/>
            <a:chOff x="2362320" y="4648320"/>
            <a:chExt cx="6752880" cy="1942920"/>
          </a:xfrm>
        </p:grpSpPr>
        <p:grpSp>
          <p:nvGrpSpPr>
            <p:cNvPr id="949" name=""/>
            <p:cNvGrpSpPr/>
            <p:nvPr/>
          </p:nvGrpSpPr>
          <p:grpSpPr>
            <a:xfrm>
              <a:off x="4554360" y="5076720"/>
              <a:ext cx="4560840" cy="1514520"/>
              <a:chOff x="4554360" y="5076720"/>
              <a:chExt cx="4560840" cy="1514520"/>
            </a:xfrm>
          </p:grpSpPr>
          <p:sp>
            <p:nvSpPr>
              <p:cNvPr id="950" name=""/>
              <p:cNvSpPr/>
              <p:nvPr/>
            </p:nvSpPr>
            <p:spPr>
              <a:xfrm>
                <a:off x="4554360" y="5143320"/>
                <a:ext cx="4560840" cy="14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000" spc="-1" strike="noStrike">
                    <a:solidFill>
                      <a:srgbClr val="000000"/>
                    </a:solidFill>
                    <a:latin typeface="Courier New"/>
                  </a:rPr>
                  <a:t>&lt;CoMMA:Memo rdf:about="</a:t>
                </a:r>
                <a:r>
                  <a:rPr b="1" sz="1000" spc="-1" strike="noStrike">
                    <a:solidFill>
                      <a:srgbClr val="990000"/>
                    </a:solidFill>
                    <a:latin typeface="Courier New"/>
                  </a:rPr>
                  <a:t>http://www.inria.fr/comma.rtf</a:t>
                </a:r>
                <a:r>
                  <a:rPr b="0" sz="1000" spc="-1" strike="noStrike">
                    <a:solidFill>
                      <a:srgbClr val="000000"/>
                    </a:solidFill>
                    <a:latin typeface="Courier New"/>
                  </a:rPr>
                  <a:t>"/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000" spc="-1" strike="noStrike">
                    <a:solidFill>
                      <a:srgbClr val="000000"/>
                    </a:solidFill>
                    <a:latin typeface="Courier New"/>
                  </a:rPr>
                  <a:t>&lt;CoMMA:E-Mail rdf:about="</a:t>
                </a:r>
                <a:r>
                  <a:rPr b="1" sz="1000" spc="-1" strike="noStrike">
                    <a:solidFill>
                      <a:srgbClr val="990000"/>
                    </a:solidFill>
                    <a:latin typeface="Courier New"/>
                  </a:rPr>
                  <a:t>http://www.inria.fr/comma.rtf</a:t>
                </a:r>
                <a:r>
                  <a:rPr b="0" sz="1000" spc="-1" strike="noStrike">
                    <a:solidFill>
                      <a:srgbClr val="000000"/>
                    </a:solidFill>
                    <a:latin typeface="Courier New"/>
                  </a:rPr>
                  <a:t>"/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697360" y="5076720"/>
                <a:ext cx="18828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2362320" y="4648320"/>
              <a:ext cx="2282760" cy="914400"/>
              <a:chOff x="2362320" y="4648320"/>
              <a:chExt cx="2282760" cy="914400"/>
            </a:xfrm>
          </p:grpSpPr>
          <p:sp>
            <p:nvSpPr>
              <p:cNvPr id="953" name=""/>
              <p:cNvSpPr/>
              <p:nvPr/>
            </p:nvSpPr>
            <p:spPr>
              <a:xfrm>
                <a:off x="2773440" y="4651560"/>
                <a:ext cx="447480" cy="144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41800" y="4714920"/>
                <a:ext cx="124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362320" y="4648320"/>
                <a:ext cx="99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900" spc="-1" strike="noStrike">
                    <a:solidFill>
                      <a:srgbClr val="000066"/>
                    </a:solidFill>
                    <a:latin typeface="Times New Roman"/>
                  </a:rPr>
                  <a:t>Multi-Instanci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489560" y="4724640"/>
                <a:ext cx="155520" cy="43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489560" y="4724640"/>
                <a:ext cx="7776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9107-84E8-4D4F-ADAE-7FB6FA05DED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Visualisation: techniques du Web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963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965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72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973" name="" descr=""/>
            <p:cNvPicPr/>
            <p:nvPr/>
          </p:nvPicPr>
          <p:blipFill>
            <a:blip r:embed="rId2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74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976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977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7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9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8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ntreti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1000" name="Atos-Laet-bureau-3" descr=""/>
            <p:cNvPicPr/>
            <p:nvPr/>
          </p:nvPicPr>
          <p:blipFill>
            <a:blip r:embed="rId4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1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5" name="" descr=""/>
            <p:cNvPicPr/>
            <p:nvPr/>
          </p:nvPicPr>
          <p:blipFill>
            <a:blip r:embed="rId5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pic>
        <p:nvPicPr>
          <p:cNvPr id="1006" name="" descr=""/>
          <p:cNvPicPr/>
          <p:nvPr/>
        </p:nvPicPr>
        <p:blipFill>
          <a:blip r:embed="rId6"/>
          <a:stretch/>
        </p:blipFill>
        <p:spPr>
          <a:xfrm>
            <a:off x="3651120" y="3949560"/>
            <a:ext cx="5340600" cy="155268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3505320" y="1676520"/>
            <a:ext cx="5486400" cy="2133360"/>
            <a:chOff x="3505320" y="1676520"/>
            <a:chExt cx="5486400" cy="2133360"/>
          </a:xfrm>
        </p:grpSpPr>
        <p:pic>
          <p:nvPicPr>
            <p:cNvPr id="1013" name="" descr=""/>
            <p:cNvPicPr/>
            <p:nvPr/>
          </p:nvPicPr>
          <p:blipFill>
            <a:blip r:embed="rId7"/>
            <a:stretch/>
          </p:blipFill>
          <p:spPr>
            <a:xfrm>
              <a:off x="3505320" y="1676520"/>
              <a:ext cx="5486400" cy="1190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14" name="" descr=""/>
            <p:cNvPicPr/>
            <p:nvPr/>
          </p:nvPicPr>
          <p:blipFill>
            <a:blip r:embed="rId8"/>
            <a:stretch/>
          </p:blipFill>
          <p:spPr>
            <a:xfrm>
              <a:off x="3581280" y="2187720"/>
              <a:ext cx="5410440" cy="1317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15" name="" descr=""/>
            <p:cNvPicPr/>
            <p:nvPr/>
          </p:nvPicPr>
          <p:blipFill>
            <a:blip r:embed="rId9"/>
            <a:stretch/>
          </p:blipFill>
          <p:spPr>
            <a:xfrm>
              <a:off x="4343400" y="2368440"/>
              <a:ext cx="464832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6" name=""/>
          <p:cNvGrpSpPr/>
          <p:nvPr/>
        </p:nvGrpSpPr>
        <p:grpSpPr>
          <a:xfrm>
            <a:off x="3048120" y="2095560"/>
            <a:ext cx="228600" cy="1714320"/>
            <a:chOff x="3048120" y="2095560"/>
            <a:chExt cx="228600" cy="1714320"/>
          </a:xfrm>
        </p:grpSpPr>
        <p:sp>
          <p:nvSpPr>
            <p:cNvPr id="1017" name=""/>
            <p:cNvSpPr/>
            <p:nvPr/>
          </p:nvSpPr>
          <p:spPr>
            <a:xfrm>
              <a:off x="3073320" y="2095560"/>
              <a:ext cx="15264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048120" y="2362320"/>
              <a:ext cx="228600" cy="1447560"/>
            </a:xfrm>
            <a:prstGeom prst="downArrow">
              <a:avLst>
                <a:gd name="adj1" fmla="val 50000"/>
                <a:gd name="adj2" fmla="val 11386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3060720" y="4114800"/>
            <a:ext cx="228600" cy="1409760"/>
            <a:chOff x="3060720" y="4114800"/>
            <a:chExt cx="228600" cy="1409760"/>
          </a:xfrm>
        </p:grpSpPr>
        <p:sp>
          <p:nvSpPr>
            <p:cNvPr id="1020" name=""/>
            <p:cNvSpPr/>
            <p:nvPr/>
          </p:nvSpPr>
          <p:spPr>
            <a:xfrm>
              <a:off x="3085920" y="4114800"/>
              <a:ext cx="15264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060720" y="4343400"/>
              <a:ext cx="228600" cy="1181160"/>
            </a:xfrm>
            <a:prstGeom prst="downArrow">
              <a:avLst>
                <a:gd name="adj1" fmla="val 50000"/>
                <a:gd name="adj2" fmla="val 929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3035160" y="558720"/>
            <a:ext cx="228600" cy="965160"/>
            <a:chOff x="3035160" y="558720"/>
            <a:chExt cx="228600" cy="965160"/>
          </a:xfrm>
        </p:grpSpPr>
        <p:sp>
          <p:nvSpPr>
            <p:cNvPr id="1023" name=""/>
            <p:cNvSpPr/>
            <p:nvPr/>
          </p:nvSpPr>
          <p:spPr>
            <a:xfrm>
              <a:off x="3060720" y="55872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035160" y="799920"/>
              <a:ext cx="228600" cy="723960"/>
            </a:xfrm>
            <a:prstGeom prst="downArrow">
              <a:avLst>
                <a:gd name="adj1" fmla="val 50000"/>
                <a:gd name="adj2" fmla="val 90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914400" y="695160"/>
            <a:ext cx="2057400" cy="828720"/>
            <a:chOff x="914400" y="695160"/>
            <a:chExt cx="2057400" cy="828720"/>
          </a:xfrm>
        </p:grpSpPr>
        <p:sp>
          <p:nvSpPr>
            <p:cNvPr id="1026" name=""/>
            <p:cNvSpPr/>
            <p:nvPr/>
          </p:nvSpPr>
          <p:spPr>
            <a:xfrm rot="5400000">
              <a:off x="2324160" y="1104840"/>
              <a:ext cx="457200" cy="380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190" stAng="10800000" swAng="5400000"/>
                  <a:lnTo>
                    <a:pt x="12959" y="2970"/>
                  </a:lnTo>
                  <a:lnTo>
                    <a:pt x="12959" y="0"/>
                  </a:lnTo>
                  <a:lnTo>
                    <a:pt x="21600" y="6079"/>
                  </a:lnTo>
                  <a:lnTo>
                    <a:pt x="12959" y="12158"/>
                  </a:lnTo>
                  <a:lnTo>
                    <a:pt x="12959" y="9188"/>
                  </a:lnTo>
                  <a:lnTo>
                    <a:pt x="12427" y="9188"/>
                  </a:lnTo>
                  <a:arcTo wR="6209" hR="2972" stAng="16200000" swAng="-5400000"/>
                  <a:lnTo>
                    <a:pt x="6218" y="216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124000" y="1057320"/>
              <a:ext cx="15264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914400" y="695160"/>
              <a:ext cx="2057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Réutilis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&amp; aut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9" name="" descr=""/>
          <p:cNvPicPr/>
          <p:nvPr/>
        </p:nvPicPr>
        <p:blipFill>
          <a:blip r:embed="rId10"/>
          <a:stretch/>
        </p:blipFill>
        <p:spPr>
          <a:xfrm>
            <a:off x="3638520" y="5591160"/>
            <a:ext cx="5353200" cy="62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7B27-C41A-442B-9A8A-013ACFAB12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Pourquoi ? Qui ? Où ? Quand ?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Pourquoi ?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Aide à l'insertion d'un nouvel employé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Support de la veille technologiqu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Qui ? &amp; Où ?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ATOS - Origin (France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CSELT - Telecom Italia (Italie) </a:t>
            </a:r>
            <a:r>
              <a:rPr b="0" i="1" lang="fr-FR" sz="2800" spc="-1" strike="noStrike">
                <a:solidFill>
                  <a:srgbClr val="000066"/>
                </a:solidFill>
                <a:latin typeface="Bookman Old Style"/>
              </a:rPr>
              <a:t>quitt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CSTB (France) </a:t>
            </a:r>
            <a:r>
              <a:rPr b="0" i="1" lang="fr-FR" sz="2800" spc="-1" strike="noStrike">
                <a:solidFill>
                  <a:srgbClr val="000066"/>
                </a:solidFill>
                <a:latin typeface="Bookman Old Style"/>
              </a:rPr>
              <a:t>arriv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Projet ACACIA - INRIA Sophia Antipoli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LIRMM - Université de Montpellier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T-Nova - Deutsch Telekom (Allemagne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Université de Parme (Italie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Quand ?</a:t>
            </a:r>
            <a:br>
              <a:rPr sz="3000"/>
            </a:b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De Février 2000 à Février 2002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EE60-6672-40F8-8B3A-87195C5CEF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Du terme au concept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838080" y="-36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Entrer dans l'ontologie par la terminologie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1"/>
          <a:stretch/>
        </p:blipFill>
        <p:spPr>
          <a:xfrm>
            <a:off x="1676520" y="1255680"/>
            <a:ext cx="5464080" cy="87804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/>
          <p:cNvPicPr/>
          <p:nvPr/>
        </p:nvPicPr>
        <p:blipFill>
          <a:blip r:embed="rId2"/>
          <a:stretch/>
        </p:blipFill>
        <p:spPr>
          <a:xfrm>
            <a:off x="1611360" y="2563920"/>
            <a:ext cx="715176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35A1-6110-4E41-BFD0-D788806445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Concept en françai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8380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Sélectionner un concept (en français)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1828800" y="752400"/>
            <a:ext cx="6175440" cy="564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9F0A6-22CB-4EA9-9B54-A2F62B458FA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Concept en anglai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8380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Sélectionner un concept (en anglais)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7015320" cy="561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A492-B35B-43BB-A05C-6E8444E9230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Relat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Sélectionner une relation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1577880" y="609480"/>
            <a:ext cx="6956640" cy="547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9E61-23E4-49BC-9126-40B9B1E0705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Taxonomie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838080" y="-36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Naviguer dans la taxonomie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pic>
        <p:nvPicPr>
          <p:cNvPr id="1045" name="" descr=""/>
          <p:cNvPicPr/>
          <p:nvPr/>
        </p:nvPicPr>
        <p:blipFill>
          <a:blip r:embed="rId1"/>
          <a:stretch/>
        </p:blipFill>
        <p:spPr>
          <a:xfrm>
            <a:off x="990720" y="506520"/>
            <a:ext cx="6897600" cy="584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8381-170B-4E87-B619-BB4A7C0A8ED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Terminologie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8380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Voir la terminologie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pic>
        <p:nvPicPr>
          <p:cNvPr id="1048" name="" descr=""/>
          <p:cNvPicPr/>
          <p:nvPr/>
        </p:nvPicPr>
        <p:blipFill>
          <a:blip r:embed="rId1"/>
          <a:stretch/>
        </p:blipFill>
        <p:spPr>
          <a:xfrm>
            <a:off x="1219320" y="546120"/>
            <a:ext cx="6592680" cy="570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B534-4133-4CD5-AE96-ECDCD63FC5B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Documenter résultat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8380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Document le résultat d'une requête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1211400" y="652320"/>
            <a:ext cx="6721200" cy="555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F8AF6-3D3E-41CA-87CD-605BE999C2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Conclus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342864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En cours (du point de vue ontologie)...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Interfaces de requêtes</a:t>
            </a:r>
            <a:br>
              <a:rPr sz="2800"/>
            </a:b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(niveau terminologique </a:t>
            </a:r>
            <a:r>
              <a:rPr b="0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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intensionnel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Extension RDF (définitions formelles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Inférences et classification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pic>
        <p:nvPicPr>
          <p:cNvPr id="1054" name="Winner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06D7-0DE7-470E-83E6-EE4FC76CAF8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Comment ?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8305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Comment ?</a:t>
            </a:r>
            <a:br>
              <a:rPr sz="3000"/>
            </a:b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Repartir des constats de départ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Mémoire distribuée et hétérogèn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Gestion distribuée et hétérogèn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Population d'utilisateurs distribuée et hétérogèn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473120" y="2895480"/>
            <a:ext cx="7314840" cy="609840"/>
            <a:chOff x="1473120" y="2895480"/>
            <a:chExt cx="7314840" cy="609840"/>
          </a:xfrm>
        </p:grpSpPr>
        <p:grpSp>
          <p:nvGrpSpPr>
            <p:cNvPr id="95" name=""/>
            <p:cNvGrpSpPr/>
            <p:nvPr/>
          </p:nvGrpSpPr>
          <p:grpSpPr>
            <a:xfrm>
              <a:off x="1473120" y="2895480"/>
              <a:ext cx="7314840" cy="533520"/>
              <a:chOff x="1473120" y="2895480"/>
              <a:chExt cx="7314840" cy="533520"/>
            </a:xfrm>
          </p:grpSpPr>
          <p:sp>
            <p:nvSpPr>
              <p:cNvPr id="96" name=""/>
              <p:cNvSpPr/>
              <p:nvPr/>
            </p:nvSpPr>
            <p:spPr>
              <a:xfrm>
                <a:off x="1473120" y="2895480"/>
                <a:ext cx="3658320" cy="53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131440" y="2895480"/>
                <a:ext cx="3656520" cy="53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1625760" y="2895480"/>
              <a:ext cx="3352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 u="sng">
                  <a:solidFill>
                    <a:srgbClr val="000066"/>
                  </a:solidFill>
                  <a:uFillTx/>
                  <a:latin typeface="Bookman Old Style"/>
                </a:rPr>
                <a:t>Matérialisation 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21240" y="2895480"/>
              <a:ext cx="3035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 u="sng">
                  <a:solidFill>
                    <a:srgbClr val="000066"/>
                  </a:solidFill>
                  <a:uFillTx/>
                  <a:latin typeface="Bookman Old Style"/>
                </a:rPr>
                <a:t>Exploitation 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473120" y="3429000"/>
            <a:ext cx="7315200" cy="2132640"/>
            <a:chOff x="1473120" y="3429000"/>
            <a:chExt cx="7315200" cy="2132640"/>
          </a:xfrm>
        </p:grpSpPr>
        <p:sp>
          <p:nvSpPr>
            <p:cNvPr id="101" name=""/>
            <p:cNvSpPr/>
            <p:nvPr/>
          </p:nvSpPr>
          <p:spPr>
            <a:xfrm>
              <a:off x="1473120" y="3429000"/>
              <a:ext cx="3657600" cy="213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30720" y="3429000"/>
              <a:ext cx="3657600" cy="213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447920" y="3403440"/>
            <a:ext cx="360684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Bookman Old Style"/>
              </a:rPr>
              <a:t>XML:</a:t>
            </a:r>
            <a:r>
              <a:rPr b="0" lang="fr-FR" sz="2400" spc="-1" strike="noStrike">
                <a:solidFill>
                  <a:srgbClr val="000066"/>
                </a:solidFill>
                <a:latin typeface="Bookman Old Style"/>
              </a:rPr>
              <a:t> Standard, Structure, Etendre, Valider, Transf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Bookman Old Style"/>
              </a:rPr>
              <a:t>RDF:            </a:t>
            </a:r>
            <a:r>
              <a:rPr b="0" lang="fr-FR" sz="2400" spc="-1" strike="noStrike">
                <a:solidFill>
                  <a:srgbClr val="000066"/>
                </a:solidFill>
                <a:latin typeface="Bookman Old Style"/>
              </a:rPr>
              <a:t>Annotation,   Schém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3390840"/>
            <a:ext cx="380988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Bookman Old Style"/>
              </a:rPr>
              <a:t>Système multiagents:</a:t>
            </a:r>
            <a:r>
              <a:rPr b="0" lang="fr-FR" sz="2400" spc="-1" strike="noStrike">
                <a:solidFill>
                  <a:srgbClr val="000066"/>
                </a:solidFill>
                <a:latin typeface="Bookman Old Style"/>
              </a:rPr>
              <a:t> Modularité, Distribué,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Bookman Old Style"/>
              </a:rPr>
              <a:t>Apprentissage :</a:t>
            </a:r>
            <a:r>
              <a:rPr b="0" lang="fr-FR" sz="2400" spc="-1" strike="noStrike">
                <a:solidFill>
                  <a:srgbClr val="000066"/>
                </a:solidFill>
                <a:latin typeface="Bookman Old Style"/>
              </a:rPr>
              <a:t> Adaptation, Em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473120" y="5562720"/>
            <a:ext cx="7391520" cy="380880"/>
            <a:chOff x="1473120" y="5562720"/>
            <a:chExt cx="7391520" cy="380880"/>
          </a:xfrm>
        </p:grpSpPr>
        <p:grpSp>
          <p:nvGrpSpPr>
            <p:cNvPr id="106" name=""/>
            <p:cNvGrpSpPr/>
            <p:nvPr/>
          </p:nvGrpSpPr>
          <p:grpSpPr>
            <a:xfrm>
              <a:off x="1473120" y="5562720"/>
              <a:ext cx="7314840" cy="380880"/>
              <a:chOff x="1473120" y="5562720"/>
              <a:chExt cx="7314840" cy="380880"/>
            </a:xfrm>
          </p:grpSpPr>
          <p:sp>
            <p:nvSpPr>
              <p:cNvPr id="107" name=""/>
              <p:cNvSpPr/>
              <p:nvPr/>
            </p:nvSpPr>
            <p:spPr>
              <a:xfrm>
                <a:off x="1473120" y="5562720"/>
                <a:ext cx="36576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130720" y="5562720"/>
                <a:ext cx="365724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1919160" y="5562720"/>
              <a:ext cx="3262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cc3300"/>
                  </a:solidFill>
                  <a:latin typeface="Bookman Old Style"/>
                </a:rPr>
                <a:t>Co</a:t>
              </a:r>
              <a:r>
                <a:rPr b="1" lang="fr-FR" sz="1800" spc="-1" strike="noStrike">
                  <a:solidFill>
                    <a:srgbClr val="000066"/>
                  </a:solidFill>
                  <a:latin typeface="Bookman Old Style"/>
                </a:rPr>
                <a:t>rporate </a:t>
              </a:r>
              <a:r>
                <a:rPr b="1" lang="fr-FR" sz="1800" spc="-1" strike="noStrike">
                  <a:solidFill>
                    <a:srgbClr val="cc3300"/>
                  </a:solidFill>
                  <a:latin typeface="Bookman Old Style"/>
                </a:rPr>
                <a:t>M</a:t>
              </a:r>
              <a:r>
                <a:rPr b="1" lang="fr-FR" sz="1800" spc="-1" strike="noStrike">
                  <a:solidFill>
                    <a:srgbClr val="000066"/>
                  </a:solidFill>
                  <a:latin typeface="Bookman Old Style"/>
                </a:rPr>
                <a:t>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76720" y="5562720"/>
              <a:ext cx="3787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cc3300"/>
                  </a:solidFill>
                  <a:latin typeface="Bookman Old Style"/>
                </a:rPr>
                <a:t>M</a:t>
              </a:r>
              <a:r>
                <a:rPr b="1" lang="fr-FR" sz="1800" spc="-1" strike="noStrike">
                  <a:solidFill>
                    <a:srgbClr val="000066"/>
                  </a:solidFill>
                  <a:latin typeface="Bookman Old Style"/>
                </a:rPr>
                <a:t>anagement through </a:t>
              </a:r>
              <a:r>
                <a:rPr b="1" lang="fr-FR" sz="1800" spc="-1" strike="noStrike">
                  <a:solidFill>
                    <a:srgbClr val="cc3300"/>
                  </a:solidFill>
                  <a:latin typeface="Bookman Old Style"/>
                </a:rPr>
                <a:t>A</a:t>
              </a:r>
              <a:r>
                <a:rPr b="1" lang="fr-FR" sz="1800" spc="-1" strike="noStrike">
                  <a:solidFill>
                    <a:srgbClr val="000066"/>
                  </a:solidFill>
                  <a:latin typeface="Bookman Old Style"/>
                </a:rPr>
                <a:t>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FFD9-30BE-4726-8B81-018C4A97B4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219320" y="152280"/>
            <a:ext cx="7772400" cy="4380120"/>
            <a:chOff x="1219320" y="152280"/>
            <a:chExt cx="7772400" cy="4380120"/>
          </a:xfrm>
        </p:grpSpPr>
        <p:sp>
          <p:nvSpPr>
            <p:cNvPr id="112" name=""/>
            <p:cNvSpPr/>
            <p:nvPr/>
          </p:nvSpPr>
          <p:spPr>
            <a:xfrm>
              <a:off x="1219320" y="152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4335480" y="231840"/>
              <a:ext cx="1657080" cy="4181400"/>
              <a:chOff x="4335480" y="231840"/>
              <a:chExt cx="1657080" cy="41814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35480" y="390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94240" y="231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Mémoire d'entrepris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025720" y="1585800"/>
              <a:ext cx="6532560" cy="995400"/>
              <a:chOff x="2025720" y="1585800"/>
              <a:chExt cx="6532560" cy="995400"/>
            </a:xfrm>
          </p:grpSpPr>
          <p:sp>
            <p:nvSpPr>
              <p:cNvPr id="117" name=""/>
              <p:cNvSpPr/>
              <p:nvPr/>
            </p:nvSpPr>
            <p:spPr>
              <a:xfrm>
                <a:off x="2025720" y="1671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839280" y="1585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FR" sz="900" spc="-1" strike="noStrike">
                    <a:solidFill>
                      <a:srgbClr val="000000"/>
                    </a:solidFill>
                    <a:latin typeface="Courier New"/>
                  </a:rPr>
                  <a:t>Système Multi-Ag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896080" y="1757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Apprentiss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48040" y="2247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Agent Utilisate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41880" y="1808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Apprentiss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2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2214720" y="1898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23" name=""/>
              <p:cNvGrpSpPr/>
              <p:nvPr/>
            </p:nvGrpSpPr>
            <p:grpSpPr>
              <a:xfrm>
                <a:off x="5992920" y="1905120"/>
                <a:ext cx="908280" cy="636120"/>
                <a:chOff x="5992920" y="1905120"/>
                <a:chExt cx="908280" cy="6361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992920" y="2265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group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d'intérêt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5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269040" y="1905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126" name=""/>
              <p:cNvSpPr/>
              <p:nvPr/>
            </p:nvSpPr>
            <p:spPr>
              <a:xfrm>
                <a:off x="4335840" y="1673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7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3354480" y="1949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3073680" y="2303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Agent Ontologie et Modèl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01200" y="2300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Agent Utilisate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74240" y="1860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Apprentiss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1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7147080" y="1951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32" name=""/>
              <p:cNvGrpSpPr/>
              <p:nvPr/>
            </p:nvGrpSpPr>
            <p:grpSpPr>
              <a:xfrm>
                <a:off x="3862800" y="1717560"/>
                <a:ext cx="907920" cy="635040"/>
                <a:chOff x="3862800" y="1717560"/>
                <a:chExt cx="907920" cy="635040"/>
              </a:xfrm>
            </p:grpSpPr>
            <p:pic>
              <p:nvPicPr>
                <p:cNvPr id="133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138920" y="1717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34" name=""/>
                <p:cNvSpPr/>
                <p:nvPr/>
              </p:nvSpPr>
              <p:spPr>
                <a:xfrm>
                  <a:off x="3862800" y="2076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d'inter-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connex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Schéma général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376280" y="2620800"/>
            <a:ext cx="1101240" cy="1552680"/>
            <a:chOff x="1376280" y="2620800"/>
            <a:chExt cx="1101240" cy="1552680"/>
          </a:xfrm>
        </p:grpSpPr>
        <p:sp>
          <p:nvSpPr>
            <p:cNvPr id="137" name=""/>
            <p:cNvSpPr/>
            <p:nvPr/>
          </p:nvSpPr>
          <p:spPr>
            <a:xfrm>
              <a:off x="1376280" y="357660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Ingénieur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la connaiss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047680" y="2620800"/>
              <a:ext cx="429840" cy="1181160"/>
              <a:chOff x="2047680" y="2620800"/>
              <a:chExt cx="429840" cy="118116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2047680" y="2620800"/>
                <a:ext cx="210960" cy="97920"/>
                <a:chOff x="2047680" y="2620800"/>
                <a:chExt cx="210960" cy="979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047680" y="269460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099520" y="263124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172240" y="262080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212560" y="26582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122200" y="2690640"/>
                <a:ext cx="355320" cy="1111320"/>
                <a:chOff x="2122200" y="2690640"/>
                <a:chExt cx="355320" cy="11113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186280" y="287352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314080" y="269064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122200" y="308952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238840" y="307764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199240" y="333828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09760" y="333828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1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2086920" y="268200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2" name=""/>
          <p:cNvGrpSpPr/>
          <p:nvPr/>
        </p:nvGrpSpPr>
        <p:grpSpPr>
          <a:xfrm>
            <a:off x="1298520" y="231840"/>
            <a:ext cx="1774800" cy="1433520"/>
            <a:chOff x="1298520" y="231840"/>
            <a:chExt cx="1774800" cy="1433520"/>
          </a:xfrm>
        </p:grpSpPr>
        <p:sp>
          <p:nvSpPr>
            <p:cNvPr id="153" name=""/>
            <p:cNvSpPr/>
            <p:nvPr/>
          </p:nvSpPr>
          <p:spPr>
            <a:xfrm>
              <a:off x="1298520" y="130644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Auteur et/o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Annotateur de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850760" y="231840"/>
              <a:ext cx="789120" cy="1231920"/>
              <a:chOff x="1850760" y="231840"/>
              <a:chExt cx="789120" cy="123192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2126160" y="679680"/>
                <a:ext cx="477360" cy="784080"/>
                <a:chOff x="2126160" y="679680"/>
                <a:chExt cx="477360" cy="7840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335320" y="94032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378520" y="118692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210760" y="117324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126160" y="94104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446200" y="67968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291400" y="72324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136960" y="231840"/>
                <a:ext cx="236520" cy="239040"/>
                <a:chOff x="2136960" y="231840"/>
                <a:chExt cx="236520" cy="2390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6960" y="23184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4" name="doc_0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163960" y="25344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165" name=""/>
              <p:cNvGrpSpPr/>
              <p:nvPr/>
            </p:nvGrpSpPr>
            <p:grpSpPr>
              <a:xfrm>
                <a:off x="1850760" y="355320"/>
                <a:ext cx="255240" cy="278640"/>
                <a:chOff x="1850760" y="355320"/>
                <a:chExt cx="255240" cy="278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850760" y="35532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7" name="doc_0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859040" y="37404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8" name=""/>
              <p:cNvGrpSpPr/>
              <p:nvPr/>
            </p:nvGrpSpPr>
            <p:grpSpPr>
              <a:xfrm>
                <a:off x="2008440" y="674280"/>
                <a:ext cx="204120" cy="245160"/>
                <a:chOff x="2008440" y="674280"/>
                <a:chExt cx="204120" cy="2451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008440" y="67428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70" name="doc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28960" y="69084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1" name=""/>
              <p:cNvGrpSpPr/>
              <p:nvPr/>
            </p:nvGrpSpPr>
            <p:grpSpPr>
              <a:xfrm>
                <a:off x="2403000" y="395280"/>
                <a:ext cx="236880" cy="278640"/>
                <a:chOff x="2403000" y="395280"/>
                <a:chExt cx="236880" cy="2786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03000" y="39528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73" name="doc_05gif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408400" y="42876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74" name=""/>
          <p:cNvGrpSpPr/>
          <p:nvPr/>
        </p:nvGrpSpPr>
        <p:grpSpPr>
          <a:xfrm>
            <a:off x="7570800" y="3378240"/>
            <a:ext cx="1106280" cy="1193760"/>
            <a:chOff x="7570800" y="3378240"/>
            <a:chExt cx="1106280" cy="1193760"/>
          </a:xfrm>
        </p:grpSpPr>
        <p:sp>
          <p:nvSpPr>
            <p:cNvPr id="175" name=""/>
            <p:cNvSpPr/>
            <p:nvPr/>
          </p:nvSpPr>
          <p:spPr>
            <a:xfrm>
              <a:off x="7570800" y="432432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Utilisateur fi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7729200" y="3457440"/>
              <a:ext cx="430200" cy="903600"/>
              <a:chOff x="7729200" y="3457440"/>
              <a:chExt cx="430200" cy="903600"/>
            </a:xfrm>
          </p:grpSpPr>
          <p:sp>
            <p:nvSpPr>
              <p:cNvPr id="177" name=""/>
              <p:cNvSpPr/>
              <p:nvPr/>
            </p:nvSpPr>
            <p:spPr>
              <a:xfrm flipH="1">
                <a:off x="7853760" y="350784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7965000" y="345744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7875360" y="371952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7774200" y="372780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7728840" y="398628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7908840" y="398556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8162640" y="3378240"/>
              <a:ext cx="473400" cy="396720"/>
              <a:chOff x="8162640" y="3378240"/>
              <a:chExt cx="473400" cy="396720"/>
            </a:xfrm>
          </p:grpSpPr>
          <p:sp>
            <p:nvSpPr>
              <p:cNvPr id="184" name=""/>
              <p:cNvSpPr/>
              <p:nvPr/>
            </p:nvSpPr>
            <p:spPr>
              <a:xfrm>
                <a:off x="8162640" y="337824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5" name="inter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8920" y="34484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6" name=""/>
          <p:cNvGrpSpPr/>
          <p:nvPr/>
        </p:nvGrpSpPr>
        <p:grpSpPr>
          <a:xfrm>
            <a:off x="2639880" y="642960"/>
            <a:ext cx="1617840" cy="903240"/>
            <a:chOff x="2639880" y="642960"/>
            <a:chExt cx="1617840" cy="903240"/>
          </a:xfrm>
        </p:grpSpPr>
        <p:pic>
          <p:nvPicPr>
            <p:cNvPr id="187" name="" descr=""/>
            <p:cNvPicPr/>
            <p:nvPr/>
          </p:nvPicPr>
          <p:blipFill>
            <a:blip r:embed="rId12"/>
            <a:stretch/>
          </p:blipFill>
          <p:spPr>
            <a:xfrm>
              <a:off x="2639880" y="111924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"/>
            <p:cNvGrpSpPr/>
            <p:nvPr/>
          </p:nvGrpSpPr>
          <p:grpSpPr>
            <a:xfrm>
              <a:off x="2916000" y="642960"/>
              <a:ext cx="1025640" cy="903240"/>
              <a:chOff x="2916000" y="642960"/>
              <a:chExt cx="1025640" cy="903240"/>
            </a:xfrm>
          </p:grpSpPr>
          <p:sp>
            <p:nvSpPr>
              <p:cNvPr id="189" name=""/>
              <p:cNvSpPr/>
              <p:nvPr/>
            </p:nvSpPr>
            <p:spPr>
              <a:xfrm>
                <a:off x="2916000" y="909000"/>
                <a:ext cx="102564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916000" y="642960"/>
                <a:ext cx="102564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33640" y="911880"/>
                <a:ext cx="10076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10200" y="114444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2680" y="67356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4" name="" descr=""/>
            <p:cNvPicPr/>
            <p:nvPr/>
          </p:nvPicPr>
          <p:blipFill>
            <a:blip r:embed="rId15"/>
            <a:stretch/>
          </p:blipFill>
          <p:spPr>
            <a:xfrm>
              <a:off x="4020840" y="1108080"/>
              <a:ext cx="23688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"/>
          <p:cNvGrpSpPr/>
          <p:nvPr/>
        </p:nvGrpSpPr>
        <p:grpSpPr>
          <a:xfrm>
            <a:off x="5913360" y="3417840"/>
            <a:ext cx="1697040" cy="995400"/>
            <a:chOff x="5913360" y="3417840"/>
            <a:chExt cx="1697040" cy="995400"/>
          </a:xfrm>
        </p:grpSpPr>
        <p:pic>
          <p:nvPicPr>
            <p:cNvPr id="196" name="" descr=""/>
            <p:cNvPicPr/>
            <p:nvPr/>
          </p:nvPicPr>
          <p:blipFill>
            <a:blip r:embed="rId16"/>
            <a:stretch/>
          </p:blipFill>
          <p:spPr>
            <a:xfrm>
              <a:off x="5913360" y="38955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7"/>
            <a:stretch/>
          </p:blipFill>
          <p:spPr>
            <a:xfrm>
              <a:off x="7373880" y="389556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8" name=""/>
            <p:cNvGrpSpPr/>
            <p:nvPr/>
          </p:nvGrpSpPr>
          <p:grpSpPr>
            <a:xfrm>
              <a:off x="6189480" y="3417840"/>
              <a:ext cx="1104840" cy="995400"/>
              <a:chOff x="6189480" y="3417840"/>
              <a:chExt cx="1104840" cy="99540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6189480" y="3417840"/>
                <a:ext cx="1026000" cy="902880"/>
                <a:chOff x="6189480" y="3417840"/>
                <a:chExt cx="1026000" cy="9028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6189480" y="368388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189480" y="34178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207120" y="36864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584040" y="39193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6266160" y="3448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5" name=""/>
              <p:cNvGrpSpPr/>
              <p:nvPr/>
            </p:nvGrpSpPr>
            <p:grpSpPr>
              <a:xfrm>
                <a:off x="6228720" y="3457440"/>
                <a:ext cx="1026000" cy="903240"/>
                <a:chOff x="6228720" y="3457440"/>
                <a:chExt cx="1026000" cy="903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228720" y="372348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228720" y="34574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246360" y="372636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623280" y="39589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6305400" y="3488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1" name=""/>
              <p:cNvGrpSpPr/>
              <p:nvPr/>
            </p:nvGrpSpPr>
            <p:grpSpPr>
              <a:xfrm>
                <a:off x="6268320" y="3510000"/>
                <a:ext cx="1026000" cy="903240"/>
                <a:chOff x="6268320" y="3510000"/>
                <a:chExt cx="1026000" cy="903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268320" y="377604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268320" y="351000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285960" y="37789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662880" y="401148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6345000" y="35406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17" name=""/>
          <p:cNvGrpSpPr/>
          <p:nvPr/>
        </p:nvGrpSpPr>
        <p:grpSpPr>
          <a:xfrm>
            <a:off x="2679840" y="2739960"/>
            <a:ext cx="2167920" cy="677520"/>
            <a:chOff x="2679840" y="2739960"/>
            <a:chExt cx="2167920" cy="677520"/>
          </a:xfrm>
        </p:grpSpPr>
        <p:pic>
          <p:nvPicPr>
            <p:cNvPr id="218" name="" descr=""/>
            <p:cNvPicPr/>
            <p:nvPr/>
          </p:nvPicPr>
          <p:blipFill>
            <a:blip r:embed="rId24"/>
            <a:stretch/>
          </p:blipFill>
          <p:spPr>
            <a:xfrm>
              <a:off x="2679840" y="3019320"/>
              <a:ext cx="2361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25"/>
            <a:stretch/>
          </p:blipFill>
          <p:spPr>
            <a:xfrm>
              <a:off x="3981240" y="3019320"/>
              <a:ext cx="23616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0" name=""/>
            <p:cNvGrpSpPr/>
            <p:nvPr/>
          </p:nvGrpSpPr>
          <p:grpSpPr>
            <a:xfrm>
              <a:off x="2876400" y="2739960"/>
              <a:ext cx="1007640" cy="677520"/>
              <a:chOff x="2876400" y="2739960"/>
              <a:chExt cx="1007640" cy="677520"/>
            </a:xfrm>
          </p:grpSpPr>
          <p:sp>
            <p:nvSpPr>
              <p:cNvPr id="221" name=""/>
              <p:cNvSpPr/>
              <p:nvPr/>
            </p:nvSpPr>
            <p:spPr>
              <a:xfrm>
                <a:off x="3034080" y="277956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" name="onto_01" descr=""/>
              <p:cNvPicPr/>
              <p:nvPr/>
            </p:nvPicPr>
            <p:blipFill>
              <a:blip r:embed="rId26"/>
              <a:stretch/>
            </p:blipFill>
            <p:spPr>
              <a:xfrm>
                <a:off x="3191760" y="3013200"/>
                <a:ext cx="31536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2876400" y="2739960"/>
                <a:ext cx="100764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Ontologi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4" name="onto_01" descr=""/>
            <p:cNvPicPr/>
            <p:nvPr/>
          </p:nvPicPr>
          <p:blipFill>
            <a:blip r:embed="rId27"/>
            <a:stretch/>
          </p:blipFill>
          <p:spPr>
            <a:xfrm>
              <a:off x="4533840" y="2979720"/>
              <a:ext cx="31392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2467080" y="3490920"/>
            <a:ext cx="1631880" cy="882360"/>
            <a:chOff x="2467080" y="3490920"/>
            <a:chExt cx="1631880" cy="882360"/>
          </a:xfrm>
        </p:grpSpPr>
        <p:grpSp>
          <p:nvGrpSpPr>
            <p:cNvPr id="226" name=""/>
            <p:cNvGrpSpPr/>
            <p:nvPr/>
          </p:nvGrpSpPr>
          <p:grpSpPr>
            <a:xfrm>
              <a:off x="2467080" y="3774960"/>
              <a:ext cx="1631880" cy="598320"/>
              <a:chOff x="2467080" y="3774960"/>
              <a:chExt cx="1631880" cy="598320"/>
            </a:xfrm>
          </p:grpSpPr>
          <p:sp>
            <p:nvSpPr>
              <p:cNvPr id="227" name=""/>
              <p:cNvSpPr/>
              <p:nvPr/>
            </p:nvSpPr>
            <p:spPr>
              <a:xfrm>
                <a:off x="2545920" y="381456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8" name="onto_02" descr=""/>
              <p:cNvPicPr/>
              <p:nvPr/>
            </p:nvPicPr>
            <p:blipFill>
              <a:blip r:embed="rId28"/>
              <a:stretch/>
            </p:blipFill>
            <p:spPr>
              <a:xfrm>
                <a:off x="2585160" y="401868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2467080" y="377496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Modèl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68760" y="397440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Times New Roman"/>
                  </a:rPr>
                  <a:t>- Modèle d'entrepri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Times New Roman"/>
                  </a:rPr>
                  <a:t>- Profils d'utilisateu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9"/>
            <a:stretch/>
          </p:blipFill>
          <p:spPr>
            <a:xfrm>
              <a:off x="3270240" y="349092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"/>
          <p:cNvGrpSpPr/>
          <p:nvPr/>
        </p:nvGrpSpPr>
        <p:grpSpPr>
          <a:xfrm>
            <a:off x="3981600" y="3855960"/>
            <a:ext cx="1065240" cy="357120"/>
            <a:chOff x="3981600" y="3855960"/>
            <a:chExt cx="1065240" cy="357120"/>
          </a:xfrm>
        </p:grpSpPr>
        <p:pic>
          <p:nvPicPr>
            <p:cNvPr id="233" name="" descr=""/>
            <p:cNvPicPr/>
            <p:nvPr/>
          </p:nvPicPr>
          <p:blipFill>
            <a:blip r:embed="rId30"/>
            <a:stretch/>
          </p:blipFill>
          <p:spPr>
            <a:xfrm>
              <a:off x="3981600" y="39355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onto_02" descr=""/>
            <p:cNvPicPr/>
            <p:nvPr/>
          </p:nvPicPr>
          <p:blipFill>
            <a:blip r:embed="rId31"/>
            <a:stretch/>
          </p:blipFill>
          <p:spPr>
            <a:xfrm>
              <a:off x="4691160" y="385596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"/>
          <p:cNvGrpSpPr/>
          <p:nvPr/>
        </p:nvGrpSpPr>
        <p:grpSpPr>
          <a:xfrm>
            <a:off x="7650000" y="2644920"/>
            <a:ext cx="631800" cy="772920"/>
            <a:chOff x="7650000" y="2644920"/>
            <a:chExt cx="631800" cy="772920"/>
          </a:xfrm>
        </p:grpSpPr>
        <p:pic>
          <p:nvPicPr>
            <p:cNvPr id="236" name="" descr=""/>
            <p:cNvPicPr/>
            <p:nvPr/>
          </p:nvPicPr>
          <p:blipFill>
            <a:blip r:embed="rId32"/>
            <a:stretch/>
          </p:blipFill>
          <p:spPr>
            <a:xfrm>
              <a:off x="7846920" y="317808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"/>
            <p:cNvGrpSpPr/>
            <p:nvPr/>
          </p:nvGrpSpPr>
          <p:grpSpPr>
            <a:xfrm>
              <a:off x="7650000" y="2644920"/>
              <a:ext cx="631800" cy="490320"/>
              <a:chOff x="7650000" y="2644920"/>
              <a:chExt cx="631800" cy="490320"/>
            </a:xfrm>
          </p:grpSpPr>
          <p:sp>
            <p:nvSpPr>
              <p:cNvPr id="238" name=""/>
              <p:cNvSpPr/>
              <p:nvPr/>
            </p:nvSpPr>
            <p:spPr>
              <a:xfrm>
                <a:off x="7689240" y="269712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50000" y="264492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Requête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886880" y="287820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1" name=""/>
          <p:cNvGrpSpPr/>
          <p:nvPr/>
        </p:nvGrpSpPr>
        <p:grpSpPr>
          <a:xfrm>
            <a:off x="4414680" y="573120"/>
            <a:ext cx="1301760" cy="3565440"/>
            <a:chOff x="4414680" y="573120"/>
            <a:chExt cx="1301760" cy="3565440"/>
          </a:xfrm>
        </p:grpSpPr>
        <p:pic>
          <p:nvPicPr>
            <p:cNvPr id="242" name="doc_01" descr=""/>
            <p:cNvPicPr/>
            <p:nvPr/>
          </p:nvPicPr>
          <p:blipFill>
            <a:blip r:embed="rId34"/>
            <a:stretch/>
          </p:blipFill>
          <p:spPr>
            <a:xfrm>
              <a:off x="5322960" y="1187280"/>
              <a:ext cx="21420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doc_01" descr=""/>
            <p:cNvPicPr/>
            <p:nvPr/>
          </p:nvPicPr>
          <p:blipFill>
            <a:blip r:embed="rId35"/>
            <a:stretch/>
          </p:blipFill>
          <p:spPr>
            <a:xfrm>
              <a:off x="5283360" y="1108080"/>
              <a:ext cx="21420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memory_01" descr=""/>
            <p:cNvPicPr/>
            <p:nvPr/>
          </p:nvPicPr>
          <p:blipFill>
            <a:blip r:embed="rId36"/>
            <a:stretch/>
          </p:blipFill>
          <p:spPr>
            <a:xfrm>
              <a:off x="4414680" y="573120"/>
              <a:ext cx="3319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doc_03" descr=""/>
            <p:cNvPicPr/>
            <p:nvPr/>
          </p:nvPicPr>
          <p:blipFill>
            <a:blip r:embed="rId37"/>
            <a:stretch/>
          </p:blipFill>
          <p:spPr>
            <a:xfrm>
              <a:off x="4572000" y="3343320"/>
              <a:ext cx="39528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246" name="doc_04" descr=""/>
            <p:cNvPicPr/>
            <p:nvPr/>
          </p:nvPicPr>
          <p:blipFill>
            <a:blip r:embed="rId38"/>
            <a:stretch/>
          </p:blipFill>
          <p:spPr>
            <a:xfrm>
              <a:off x="4494240" y="1068480"/>
              <a:ext cx="27612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doc_05gif" descr=""/>
            <p:cNvPicPr/>
            <p:nvPr/>
          </p:nvPicPr>
          <p:blipFill>
            <a:blip r:embed="rId39"/>
            <a:stretch/>
          </p:blipFill>
          <p:spPr>
            <a:xfrm>
              <a:off x="5164200" y="3262320"/>
              <a:ext cx="3045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40"/>
            <a:stretch/>
          </p:blipFill>
          <p:spPr>
            <a:xfrm>
              <a:off x="5086440" y="2700360"/>
              <a:ext cx="4111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41"/>
            <a:stretch/>
          </p:blipFill>
          <p:spPr>
            <a:xfrm>
              <a:off x="4911840" y="612720"/>
              <a:ext cx="33156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doc_01" descr=""/>
            <p:cNvPicPr/>
            <p:nvPr/>
          </p:nvPicPr>
          <p:blipFill>
            <a:blip r:embed="rId42"/>
            <a:stretch/>
          </p:blipFill>
          <p:spPr>
            <a:xfrm>
              <a:off x="5362560" y="1227240"/>
              <a:ext cx="21420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3"/>
            <a:stretch/>
          </p:blipFill>
          <p:spPr>
            <a:xfrm>
              <a:off x="5400720" y="3821040"/>
              <a:ext cx="315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44"/>
            <a:stretch/>
          </p:blipFill>
          <p:spPr>
            <a:xfrm>
              <a:off x="4888080" y="1227240"/>
              <a:ext cx="33336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45"/>
            <a:stretch/>
          </p:blipFill>
          <p:spPr>
            <a:xfrm>
              <a:off x="5400720" y="669960"/>
              <a:ext cx="315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/>
          <p:cNvSpPr txBox="1"/>
          <p:nvPr/>
        </p:nvSpPr>
        <p:spPr>
          <a:xfrm>
            <a:off x="2560680" y="349740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0640" y="351000"/>
            <a:ext cx="2379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413480" y="361620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600280" y="2462040"/>
            <a:ext cx="1971720" cy="1273320"/>
            <a:chOff x="2600280" y="2462040"/>
            <a:chExt cx="1971720" cy="1273320"/>
          </a:xfrm>
        </p:grpSpPr>
        <p:sp>
          <p:nvSpPr>
            <p:cNvPr id="258" name=""/>
            <p:cNvSpPr/>
            <p:nvPr/>
          </p:nvSpPr>
          <p:spPr>
            <a:xfrm>
              <a:off x="3902040" y="246204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600280" y="246204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44720" y="254160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165400" y="1467000"/>
            <a:ext cx="947160" cy="396720"/>
            <a:chOff x="2165400" y="1467000"/>
            <a:chExt cx="947160" cy="396720"/>
          </a:xfrm>
        </p:grpSpPr>
        <p:sp>
          <p:nvSpPr>
            <p:cNvPr id="262" name=""/>
            <p:cNvSpPr/>
            <p:nvPr/>
          </p:nvSpPr>
          <p:spPr>
            <a:xfrm>
              <a:off x="2165400" y="157176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480760" y="146700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715000" y="914040"/>
            <a:ext cx="2247840" cy="2503800"/>
            <a:chOff x="5715000" y="914040"/>
            <a:chExt cx="2247840" cy="2503800"/>
          </a:xfrm>
        </p:grpSpPr>
        <p:sp>
          <p:nvSpPr>
            <p:cNvPr id="265" name=""/>
            <p:cNvSpPr/>
            <p:nvPr/>
          </p:nvSpPr>
          <p:spPr>
            <a:xfrm flipH="1" flipV="1">
              <a:off x="5715000" y="91404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31200" y="222264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821280" y="254160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13480" y="254160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519880" y="2422440"/>
            <a:ext cx="2129760" cy="1035000"/>
            <a:chOff x="5519880" y="2422440"/>
            <a:chExt cx="2129760" cy="1035000"/>
          </a:xfrm>
        </p:grpSpPr>
        <p:sp>
          <p:nvSpPr>
            <p:cNvPr id="270" name=""/>
            <p:cNvSpPr/>
            <p:nvPr/>
          </p:nvSpPr>
          <p:spPr>
            <a:xfrm flipH="1">
              <a:off x="5519880" y="2422440"/>
              <a:ext cx="55224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348240" y="248256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703920" y="2541600"/>
              <a:ext cx="94572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219320" y="4648320"/>
            <a:ext cx="7924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Collaboration </a:t>
            </a:r>
            <a:r>
              <a:rPr b="0" lang="fr-FR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 Capitalisation Globa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Autonomie &amp; Individualité </a:t>
            </a:r>
            <a:r>
              <a:rPr b="0" lang="fr-FR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br>
              <a:rPr sz="3000"/>
            </a:b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                                 Adaptation Local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143000" y="0"/>
            <a:ext cx="8001000" cy="6248520"/>
            <a:chOff x="1143000" y="0"/>
            <a:chExt cx="8001000" cy="6248520"/>
          </a:xfrm>
        </p:grpSpPr>
        <p:grpSp>
          <p:nvGrpSpPr>
            <p:cNvPr id="275" name=""/>
            <p:cNvGrpSpPr/>
            <p:nvPr/>
          </p:nvGrpSpPr>
          <p:grpSpPr>
            <a:xfrm>
              <a:off x="1143000" y="0"/>
              <a:ext cx="8001000" cy="6248520"/>
              <a:chOff x="1143000" y="0"/>
              <a:chExt cx="8001000" cy="6248520"/>
            </a:xfrm>
          </p:grpSpPr>
          <p:sp>
            <p:nvSpPr>
              <p:cNvPr id="276" name=""/>
              <p:cNvSpPr/>
              <p:nvPr/>
            </p:nvSpPr>
            <p:spPr>
              <a:xfrm>
                <a:off x="1143000" y="0"/>
                <a:ext cx="8001000" cy="2743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43000" y="3454560"/>
                <a:ext cx="8001000" cy="2793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43000" y="2743200"/>
                <a:ext cx="1828800" cy="762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733920" y="2743200"/>
                <a:ext cx="5410080" cy="762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2997360" y="2743200"/>
              <a:ext cx="749160" cy="71136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0907-E0BF-4725-8CD3-6CF64460CD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Faisabilité Ontologie &amp; atouts de RDF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Contexte</a:t>
            </a:r>
            <a:r>
              <a:rPr b="1" lang="fr-FR" sz="3000" spc="-1" strike="noStrike">
                <a:solidFill>
                  <a:srgbClr val="000066"/>
                </a:solidFill>
                <a:latin typeface="Bookman Old Style"/>
              </a:rPr>
              <a:t> = </a:t>
            </a: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Entreprise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Porté limité &amp; Existence communauté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Ontologie &amp; Engagement ontologiqu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Modèles utilisateurs &amp; Organisation 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Annotation de la mémoir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RDF :</a:t>
            </a: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 Resource Description Framework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Décrire les ressources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du Web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Annotation interne/</a:t>
            </a:r>
            <a:r>
              <a:rPr b="0" lang="fr-FR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externe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de document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RDF Schema (pour formaliser l'</a:t>
            </a:r>
            <a:r>
              <a:rPr b="0" lang="fr-FR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ontologie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Syntaxe </a:t>
            </a:r>
            <a:r>
              <a:rPr b="0" lang="fr-FR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XML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&amp; Proche des modèles objet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RDFS Limité - Etendre </a:t>
            </a:r>
            <a:r>
              <a:rPr b="0" i="1" lang="fr-FR" sz="2800" spc="-1" strike="noStrike">
                <a:solidFill>
                  <a:srgbClr val="000066"/>
                </a:solidFill>
                <a:latin typeface="Bookman Old Style"/>
              </a:rPr>
              <a:t>ssi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nécessair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Vers un </a:t>
            </a: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Web sémantique d'entreprise</a:t>
            </a:r>
            <a:br>
              <a:rPr sz="3000"/>
            </a:b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mémoire annotée, basée sur un modèle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057F-0C5C-4E5A-9ABC-618D495EDC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5537160" y="63360"/>
            <a:ext cx="3668040" cy="4401360"/>
            <a:chOff x="5537160" y="63360"/>
            <a:chExt cx="3668040" cy="4401360"/>
          </a:xfrm>
        </p:grpSpPr>
        <p:sp>
          <p:nvSpPr>
            <p:cNvPr id="284" name=""/>
            <p:cNvSpPr/>
            <p:nvPr/>
          </p:nvSpPr>
          <p:spPr>
            <a:xfrm>
              <a:off x="5537160" y="63360"/>
              <a:ext cx="3530520" cy="4343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20840" y="4127400"/>
              <a:ext cx="158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Garamond"/>
                </a:rPr>
                <a:t>Schéma O.S.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314760" y="1931040"/>
            <a:ext cx="725040" cy="774000"/>
            <a:chOff x="6314760" y="1931040"/>
            <a:chExt cx="725040" cy="774000"/>
          </a:xfrm>
        </p:grpSpPr>
        <p:sp>
          <p:nvSpPr>
            <p:cNvPr id="287" name=""/>
            <p:cNvSpPr/>
            <p:nvPr/>
          </p:nvSpPr>
          <p:spPr>
            <a:xfrm rot="5233800">
              <a:off x="6311520" y="1972800"/>
              <a:ext cx="730080" cy="67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7240">
              <a:solidFill>
                <a:srgbClr val="00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rot="5233200">
              <a:off x="6319800" y="1978560"/>
              <a:ext cx="729360" cy="67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7240">
              <a:solidFill>
                <a:srgbClr val="003399"/>
              </a:solidFill>
              <a:custDash>
                <a:ds d="100000" sp="1000"/>
              </a:custDash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5233200">
              <a:off x="6307560" y="1977840"/>
              <a:ext cx="730080" cy="68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7240">
              <a:solidFill>
                <a:srgbClr val="00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 rot="5233800">
              <a:off x="6266520" y="2034720"/>
              <a:ext cx="729360" cy="58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7240">
              <a:solidFill>
                <a:srgbClr val="003399"/>
              </a:solidFill>
              <a:custDash>
                <a:ds d="100000" sp="1000"/>
              </a:custDash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Mémoire annotée et basée sur des modèle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14880" y="1247760"/>
            <a:ext cx="239760" cy="2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319800" y="1447920"/>
            <a:ext cx="1371600" cy="939600"/>
            <a:chOff x="6319800" y="1447920"/>
            <a:chExt cx="1371600" cy="939600"/>
          </a:xfrm>
        </p:grpSpPr>
        <p:sp>
          <p:nvSpPr>
            <p:cNvPr id="294" name=""/>
            <p:cNvSpPr txBox="1"/>
            <p:nvPr/>
          </p:nvSpPr>
          <p:spPr>
            <a:xfrm>
              <a:off x="7461000" y="2158920"/>
              <a:ext cx="23040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19800" y="1447920"/>
              <a:ext cx="106668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006960" y="1628640"/>
            <a:ext cx="1413000" cy="1621080"/>
            <a:chOff x="6006960" y="1628640"/>
            <a:chExt cx="1413000" cy="1621080"/>
          </a:xfrm>
        </p:grpSpPr>
        <p:sp>
          <p:nvSpPr>
            <p:cNvPr id="297" name=""/>
            <p:cNvSpPr txBox="1"/>
            <p:nvPr/>
          </p:nvSpPr>
          <p:spPr>
            <a:xfrm>
              <a:off x="6006960" y="3022560"/>
              <a:ext cx="236520" cy="22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29360" y="1628640"/>
              <a:ext cx="0" cy="13287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6319800" y="2438280"/>
              <a:ext cx="1100160" cy="660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862600" y="814320"/>
            <a:ext cx="2390760" cy="3058560"/>
            <a:chOff x="5862600" y="814320"/>
            <a:chExt cx="2390760" cy="3058560"/>
          </a:xfrm>
        </p:grpSpPr>
        <p:sp>
          <p:nvSpPr>
            <p:cNvPr id="301" name=""/>
            <p:cNvSpPr/>
            <p:nvPr/>
          </p:nvSpPr>
          <p:spPr>
            <a:xfrm>
              <a:off x="5862600" y="1797120"/>
              <a:ext cx="1451160" cy="9284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5400000">
              <a:off x="5550480" y="1140480"/>
              <a:ext cx="2847960" cy="21952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 rot="19683600">
              <a:off x="7408440" y="2480760"/>
              <a:ext cx="841320" cy="25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339933"/>
                    </a:solidFill>
                    <a:miter/>
                  </a:ln>
                  <a:solidFill>
                    <a:srgbClr val="339933"/>
                  </a:solidFill>
                  <a:latin typeface="Times New Roman"/>
                </a:rPr>
                <a:t>Modèle</a:t>
              </a:r>
              <a:endParaRPr b="0" lang="en-US" sz="24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339933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 rot="19646400">
              <a:off x="5891040" y="3231720"/>
              <a:ext cx="151776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339933"/>
                    </a:solidFill>
                    <a:miter/>
                  </a:ln>
                  <a:solidFill>
                    <a:srgbClr val="339933"/>
                  </a:solidFill>
                  <a:latin typeface="Times New Roman"/>
                </a:rPr>
                <a:t>Annotations</a:t>
              </a:r>
              <a:endParaRPr b="0" lang="en-US" sz="24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339933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645160" y="120960"/>
            <a:ext cx="3411000" cy="4184280"/>
            <a:chOff x="5645160" y="120960"/>
            <a:chExt cx="3411000" cy="4184280"/>
          </a:xfrm>
        </p:grpSpPr>
        <p:sp>
          <p:nvSpPr>
            <p:cNvPr id="306" name=""/>
            <p:cNvSpPr/>
            <p:nvPr/>
          </p:nvSpPr>
          <p:spPr>
            <a:xfrm flipV="1">
              <a:off x="5645160" y="1600200"/>
              <a:ext cx="1974960" cy="130176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5400000">
              <a:off x="5197320" y="771480"/>
              <a:ext cx="3987720" cy="307944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 rot="1945200">
              <a:off x="7643520" y="1573200"/>
              <a:ext cx="1442880" cy="30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3300"/>
                    </a:solidFill>
                    <a:miter/>
                  </a:ln>
                  <a:solidFill>
                    <a:srgbClr val="cc3300"/>
                  </a:solidFill>
                  <a:latin typeface="Times New Roman"/>
                </a:rPr>
                <a:t>Extensionnel</a:t>
              </a:r>
              <a:endParaRPr b="0" lang="en-US" sz="24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 rot="1947000">
              <a:off x="5925600" y="545760"/>
              <a:ext cx="1673280" cy="30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3300"/>
                    </a:solidFill>
                    <a:miter/>
                  </a:ln>
                  <a:solidFill>
                    <a:srgbClr val="cc3300"/>
                  </a:solidFill>
                  <a:latin typeface="Times New Roman"/>
                </a:rPr>
                <a:t>Intensionnel</a:t>
              </a:r>
              <a:endParaRPr b="0" lang="en-US" sz="24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76212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66"/>
                </a:solidFill>
                <a:latin typeface="Bookman Old Style"/>
              </a:rPr>
              <a:t>O</a:t>
            </a: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ntologie en RDF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4572000"/>
            <a:ext cx="8381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Trois sources de besoin d'une ontolog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Communication entr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Annotations et modè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Composant de la mémo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2120" y="2514600"/>
            <a:ext cx="5105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66"/>
                </a:solidFill>
                <a:latin typeface="Bookman Old Style"/>
              </a:rPr>
              <a:t>A</a:t>
            </a: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nnotations en RDF description docu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346716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66"/>
                </a:solidFill>
                <a:latin typeface="Bookman Old Style"/>
              </a:rPr>
              <a:t>I</a:t>
            </a: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nférences d'aide à l'exploitation (</a:t>
            </a:r>
            <a:r>
              <a:rPr b="0" i="1" lang="fr-FR" sz="3000" spc="-1" strike="noStrike">
                <a:solidFill>
                  <a:srgbClr val="000066"/>
                </a:solidFill>
                <a:latin typeface="Bookman Old Style"/>
              </a:rPr>
              <a:t>en cours</a:t>
            </a: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2120" y="571680"/>
            <a:ext cx="4572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Description de la </a:t>
            </a:r>
            <a:r>
              <a:rPr b="1" lang="fr-FR" sz="3000" spc="-1" strike="noStrike">
                <a:solidFill>
                  <a:srgbClr val="000066"/>
                </a:solidFill>
                <a:latin typeface="Bookman Old Style"/>
              </a:rPr>
              <a:t>S</a:t>
            </a: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ituation en RD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Profil utilisa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Modèle Orga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077F-430E-441D-B0F4-7A84C8C9DE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Les quatre grandes étapes de la conception 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319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2A32-B820-4B41-A7AB-0CBEB41681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Scénario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329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8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5E8C-C03D-48EA-8457-AA0797B055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10:27:51Z</dcterms:created>
  <dc:creator>Fabien GANDON</dc:creator>
  <dc:description/>
  <dc:language>en-US</dc:language>
  <cp:lastModifiedBy>Fabien GANDON</cp:lastModifiedBy>
  <dcterms:modified xsi:type="dcterms:W3CDTF">2002-01-06T12:08:51Z</dcterms:modified>
  <cp:revision>51</cp:revision>
  <dc:subject/>
  <dc:title>Essai de titre</dc:title>
</cp:coreProperties>
</file>