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9.png" ContentType="image/png"/>
  <Override PartName="/ppt/media/image6.png" ContentType="image/png"/>
  <Override PartName="/ppt/media/image3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6D41-0255-4943-B3BB-250D2ED28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-76320"/>
            <a:ext cx="893772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920" y="3346920"/>
            <a:ext cx="893772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2BDD-9040-4272-A618-53D08DD68B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920" y="-76320"/>
            <a:ext cx="43614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840" y="-76320"/>
            <a:ext cx="43614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920" y="3346920"/>
            <a:ext cx="43614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840" y="3346920"/>
            <a:ext cx="43614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78A5-427D-44A2-BFFC-F814DB63B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920" y="-76320"/>
            <a:ext cx="287784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8120" y="-76320"/>
            <a:ext cx="287784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0320" y="-76320"/>
            <a:ext cx="287784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920" y="3346920"/>
            <a:ext cx="287784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8120" y="3346920"/>
            <a:ext cx="287784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0320" y="3346920"/>
            <a:ext cx="287784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CD47-69E3-485A-A2EF-8A1BF38DD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5920" y="-76320"/>
            <a:ext cx="8937720" cy="65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502b1a"/>
              </a:solidFill>
              <a:latin typeface="Bookman Old Sty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920" y="-76320"/>
            <a:ext cx="89377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920" y="-76320"/>
            <a:ext cx="43614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5840" y="-76320"/>
            <a:ext cx="43614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426360"/>
            <a:ext cx="81532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502b1a"/>
              </a:solidFill>
              <a:latin typeface="Bookman Old Sty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920" y="-76320"/>
            <a:ext cx="43614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5840" y="-76320"/>
            <a:ext cx="43614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05920" y="3346920"/>
            <a:ext cx="43614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920" y="-76320"/>
            <a:ext cx="8937720" cy="65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B4F1-D009-4FBC-AEC1-7D49FCF35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920" y="-76320"/>
            <a:ext cx="43614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5840" y="-76320"/>
            <a:ext cx="43614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5840" y="3346920"/>
            <a:ext cx="43614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920" y="-76320"/>
            <a:ext cx="43614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5840" y="-76320"/>
            <a:ext cx="43614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5920" y="3346920"/>
            <a:ext cx="893772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920" y="-76320"/>
            <a:ext cx="893772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05920" y="3346920"/>
            <a:ext cx="893772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920" y="-76320"/>
            <a:ext cx="43614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5840" y="-76320"/>
            <a:ext cx="43614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5920" y="3346920"/>
            <a:ext cx="43614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5840" y="3346920"/>
            <a:ext cx="43614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920" y="-76320"/>
            <a:ext cx="287784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8120" y="-76320"/>
            <a:ext cx="287784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320" y="-76320"/>
            <a:ext cx="287784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5920" y="3346920"/>
            <a:ext cx="287784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8120" y="3346920"/>
            <a:ext cx="287784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320" y="3346920"/>
            <a:ext cx="287784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920" y="-76320"/>
            <a:ext cx="89377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0E3D1-DEDE-49E5-97AB-22D7AC5E4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920" y="-76320"/>
            <a:ext cx="43614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840" y="-76320"/>
            <a:ext cx="43614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CC06-ED27-49F7-BF85-DB2E8BC3F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F177-9E66-4F24-898D-955D582AC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426360"/>
            <a:ext cx="81532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CFD8-3496-4F58-863B-AC27EDC40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920" y="-76320"/>
            <a:ext cx="43614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840" y="-76320"/>
            <a:ext cx="43614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920" y="3346920"/>
            <a:ext cx="43614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2123-2AAF-4555-BD34-A272EF9CE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-76320"/>
            <a:ext cx="43614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840" y="-76320"/>
            <a:ext cx="43614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840" y="3346920"/>
            <a:ext cx="43614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802D-4B58-40A3-A8D0-1FCC2D292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-76320"/>
            <a:ext cx="43614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840" y="-76320"/>
            <a:ext cx="43614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920" y="3346920"/>
            <a:ext cx="893772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1AD6-537B-4293-B19B-EE5C4FFD2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2b1a"/>
                </a:solidFill>
                <a:latin typeface="Bookman Old Style"/>
              </a:rPr>
              <a:t>Click to edit the title text format</a:t>
            </a: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-152640" y="64008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2BB6-B718-45C3-B537-4B1EC58F900C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/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EXPHORSA" descr=""/>
          <p:cNvPicPr/>
          <p:nvPr/>
        </p:nvPicPr>
        <p:blipFill>
          <a:blip r:embed="rId4"/>
          <a:stretch/>
        </p:blipFill>
        <p:spPr>
          <a:xfrm>
            <a:off x="685800" y="6413400"/>
            <a:ext cx="8458200" cy="1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205920" y="-76320"/>
            <a:ext cx="89377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2b1a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  <a:p>
            <a:pPr lvl="1" marL="95256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2b1a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  <a:p>
            <a:pPr lvl="2" marL="1371600" indent="-228600">
              <a:spcBef>
                <a:spcPts val="799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2b1a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  <a:p>
            <a:pPr lvl="3" marL="1790640" indent="-228600">
              <a:spcBef>
                <a:spcPts val="799"/>
              </a:spcBef>
              <a:buClr>
                <a:srgbClr val="7f442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2b1a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  <a:p>
            <a:pPr lvl="4" marL="220968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2b1a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  <a:p>
            <a:pPr lvl="5" marL="220968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2b1a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  <a:p>
            <a:pPr lvl="6" marL="220968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2b1a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42670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2b1a"/>
                </a:solidFill>
                <a:latin typeface="Bookman Old Style"/>
              </a:rPr>
              <a:t>Click to edit the title text format</a:t>
            </a:r>
            <a:endParaRPr b="0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3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EXPHORSA" descr=""/>
          <p:cNvPicPr/>
          <p:nvPr/>
        </p:nvPicPr>
        <p:blipFill>
          <a:blip r:embed="rId5"/>
          <a:stretch/>
        </p:blipFill>
        <p:spPr>
          <a:xfrm>
            <a:off x="1981080" y="41148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502b1a"/>
                </a:solidFill>
                <a:latin typeface="Bookman Old Style"/>
              </a:rPr>
              <a:t>Click to edit the outline text format</a:t>
            </a:r>
            <a:endParaRPr b="1" i="1" lang="en-US" sz="4800" spc="-1" strike="noStrike">
              <a:solidFill>
                <a:srgbClr val="502b1a"/>
              </a:solidFill>
              <a:latin typeface="Bookman Old Style"/>
            </a:endParaRPr>
          </a:p>
          <a:p>
            <a:pPr lvl="1" marL="452520"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02b1a"/>
                </a:solidFill>
                <a:latin typeface="Bookman Old Style"/>
              </a:rPr>
              <a:t>Second Outline Level</a:t>
            </a:r>
            <a:endParaRPr b="0" lang="en-US" sz="2900" spc="-1" strike="noStrike">
              <a:solidFill>
                <a:srgbClr val="502b1a"/>
              </a:solidFill>
              <a:latin typeface="Bookman Old Style"/>
            </a:endParaRPr>
          </a:p>
          <a:p>
            <a:pPr lvl="2" marL="905040" indent="226080" algn="ctr">
              <a:spcBef>
                <a:spcPts val="649"/>
              </a:spcBef>
              <a:buClr>
                <a:srgbClr val="993300"/>
              </a:buClr>
              <a:buFont typeface="Bookman Old Styl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2b1a"/>
                </a:solidFill>
                <a:latin typeface="Bookman Old Style"/>
              </a:rPr>
              <a:t>Third Outline Level</a:t>
            </a:r>
            <a:endParaRPr b="0" lang="en-US" sz="2600" spc="-1" strike="noStrike">
              <a:solidFill>
                <a:srgbClr val="502b1a"/>
              </a:solidFill>
              <a:latin typeface="Bookman Old Style"/>
            </a:endParaRPr>
          </a:p>
          <a:p>
            <a:pPr lvl="3" marL="1357560" indent="188280" algn="ctr">
              <a:spcBef>
                <a:spcPts val="575"/>
              </a:spcBef>
              <a:buClr>
                <a:srgbClr val="7f4429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02b1a"/>
                </a:solidFill>
                <a:latin typeface="Bookman Old Style"/>
              </a:rPr>
              <a:t>Fourth Outline Level</a:t>
            </a:r>
            <a:endParaRPr b="0" lang="en-US" sz="2300" spc="-1" strike="noStrike">
              <a:solidFill>
                <a:srgbClr val="502b1a"/>
              </a:solidFill>
              <a:latin typeface="Bookman Old Style"/>
            </a:endParaRPr>
          </a:p>
          <a:p>
            <a:pPr lvl="4" marL="1810440" indent="15048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2b1a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502b1a"/>
              </a:solidFill>
              <a:latin typeface="Bookman Old Style"/>
            </a:endParaRPr>
          </a:p>
          <a:p>
            <a:pPr lvl="5" marL="1810440" indent="15048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2b1a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502b1a"/>
              </a:solidFill>
              <a:latin typeface="Bookman Old Style"/>
            </a:endParaRPr>
          </a:p>
          <a:p>
            <a:pPr lvl="6" marL="1810440" indent="15048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2b1a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6.png"/><Relationship Id="rId22" Type="http://schemas.openxmlformats.org/officeDocument/2006/relationships/image" Target="../media/image15.png"/><Relationship Id="rId23" Type="http://schemas.openxmlformats.org/officeDocument/2006/relationships/image" Target="../media/image16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8.png"/><Relationship Id="rId31" Type="http://schemas.openxmlformats.org/officeDocument/2006/relationships/image" Target="../media/image19.png"/><Relationship Id="rId32" Type="http://schemas.openxmlformats.org/officeDocument/2006/relationships/image" Target="../media/image14.png"/><Relationship Id="rId33" Type="http://schemas.openxmlformats.org/officeDocument/2006/relationships/image" Target="../media/image18.png"/><Relationship Id="rId34" Type="http://schemas.openxmlformats.org/officeDocument/2006/relationships/image" Target="../media/image20.png"/><Relationship Id="rId35" Type="http://schemas.openxmlformats.org/officeDocument/2006/relationships/image" Target="../media/image2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22.png"/><Relationship Id="rId39" Type="http://schemas.openxmlformats.org/officeDocument/2006/relationships/image" Target="../media/image9.png"/><Relationship Id="rId40" Type="http://schemas.openxmlformats.org/officeDocument/2006/relationships/image" Target="../media/image10.png"/><Relationship Id="rId41" Type="http://schemas.openxmlformats.org/officeDocument/2006/relationships/image" Target="../media/image12.png"/><Relationship Id="rId42" Type="http://schemas.openxmlformats.org/officeDocument/2006/relationships/image" Target="../media/image23.png"/><Relationship Id="rId43" Type="http://schemas.openxmlformats.org/officeDocument/2006/relationships/image" Target="../media/image24.png"/><Relationship Id="rId44" Type="http://schemas.openxmlformats.org/officeDocument/2006/relationships/image" Target="../media/image11.png"/><Relationship Id="rId45" Type="http://schemas.openxmlformats.org/officeDocument/2006/relationships/image" Target="../media/image25.png"/><Relationship Id="rId46" Type="http://schemas.openxmlformats.org/officeDocument/2006/relationships/image" Target="../media/image26.png"/><Relationship Id="rId47" Type="http://schemas.openxmlformats.org/officeDocument/2006/relationships/image" Target="../media/image27.png"/><Relationship Id="rId48" Type="http://schemas.openxmlformats.org/officeDocument/2006/relationships/image" Target="../media/image28.png"/><Relationship Id="rId49" Type="http://schemas.openxmlformats.org/officeDocument/2006/relationships/image" Target="../media/image28.png"/><Relationship Id="rId50" Type="http://schemas.openxmlformats.org/officeDocument/2006/relationships/image" Target="../media/image28.png"/><Relationship Id="rId5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32.wmf"/><Relationship Id="rId5" Type="http://schemas.openxmlformats.org/officeDocument/2006/relationships/image" Target="../media/image4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28.png"/><Relationship Id="rId2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8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16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6.png"/><Relationship Id="rId22" Type="http://schemas.openxmlformats.org/officeDocument/2006/relationships/image" Target="../media/image15.png"/><Relationship Id="rId23" Type="http://schemas.openxmlformats.org/officeDocument/2006/relationships/image" Target="../media/image16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8.png"/><Relationship Id="rId31" Type="http://schemas.openxmlformats.org/officeDocument/2006/relationships/image" Target="../media/image19.png"/><Relationship Id="rId32" Type="http://schemas.openxmlformats.org/officeDocument/2006/relationships/image" Target="../media/image14.png"/><Relationship Id="rId33" Type="http://schemas.openxmlformats.org/officeDocument/2006/relationships/image" Target="../media/image18.png"/><Relationship Id="rId34" Type="http://schemas.openxmlformats.org/officeDocument/2006/relationships/image" Target="../media/image20.png"/><Relationship Id="rId35" Type="http://schemas.openxmlformats.org/officeDocument/2006/relationships/image" Target="../media/image2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22.png"/><Relationship Id="rId39" Type="http://schemas.openxmlformats.org/officeDocument/2006/relationships/image" Target="../media/image9.png"/><Relationship Id="rId40" Type="http://schemas.openxmlformats.org/officeDocument/2006/relationships/image" Target="../media/image10.png"/><Relationship Id="rId41" Type="http://schemas.openxmlformats.org/officeDocument/2006/relationships/image" Target="../media/image12.png"/><Relationship Id="rId42" Type="http://schemas.openxmlformats.org/officeDocument/2006/relationships/image" Target="../media/image23.png"/><Relationship Id="rId43" Type="http://schemas.openxmlformats.org/officeDocument/2006/relationships/image" Target="../media/image24.png"/><Relationship Id="rId44" Type="http://schemas.openxmlformats.org/officeDocument/2006/relationships/image" Target="../media/image11.png"/><Relationship Id="rId45" Type="http://schemas.openxmlformats.org/officeDocument/2006/relationships/image" Target="../media/image25.png"/><Relationship Id="rId46" Type="http://schemas.openxmlformats.org/officeDocument/2006/relationships/image" Target="../media/image26.png"/><Relationship Id="rId47" Type="http://schemas.openxmlformats.org/officeDocument/2006/relationships/image" Target="../media/image27.png"/><Relationship Id="rId48" Type="http://schemas.openxmlformats.org/officeDocument/2006/relationships/image" Target="../media/image28.png"/><Relationship Id="rId49" Type="http://schemas.openxmlformats.org/officeDocument/2006/relationships/image" Target="../media/image4.png"/><Relationship Id="rId50" Type="http://schemas.openxmlformats.org/officeDocument/2006/relationships/image" Target="../media/image28.png"/><Relationship Id="rId51" Type="http://schemas.openxmlformats.org/officeDocument/2006/relationships/image" Target="../media/image28.png"/><Relationship Id="rId5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4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4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6.png"/><Relationship Id="rId22" Type="http://schemas.openxmlformats.org/officeDocument/2006/relationships/image" Target="../media/image15.png"/><Relationship Id="rId23" Type="http://schemas.openxmlformats.org/officeDocument/2006/relationships/image" Target="../media/image16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8.png"/><Relationship Id="rId31" Type="http://schemas.openxmlformats.org/officeDocument/2006/relationships/image" Target="../media/image19.png"/><Relationship Id="rId32" Type="http://schemas.openxmlformats.org/officeDocument/2006/relationships/image" Target="../media/image14.png"/><Relationship Id="rId33" Type="http://schemas.openxmlformats.org/officeDocument/2006/relationships/image" Target="../media/image18.png"/><Relationship Id="rId34" Type="http://schemas.openxmlformats.org/officeDocument/2006/relationships/image" Target="../media/image20.png"/><Relationship Id="rId35" Type="http://schemas.openxmlformats.org/officeDocument/2006/relationships/image" Target="../media/image2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22.png"/><Relationship Id="rId39" Type="http://schemas.openxmlformats.org/officeDocument/2006/relationships/image" Target="../media/image9.png"/><Relationship Id="rId40" Type="http://schemas.openxmlformats.org/officeDocument/2006/relationships/image" Target="../media/image10.png"/><Relationship Id="rId41" Type="http://schemas.openxmlformats.org/officeDocument/2006/relationships/image" Target="../media/image12.png"/><Relationship Id="rId42" Type="http://schemas.openxmlformats.org/officeDocument/2006/relationships/image" Target="../media/image23.png"/><Relationship Id="rId43" Type="http://schemas.openxmlformats.org/officeDocument/2006/relationships/image" Target="../media/image24.png"/><Relationship Id="rId44" Type="http://schemas.openxmlformats.org/officeDocument/2006/relationships/image" Target="../media/image11.png"/><Relationship Id="rId45" Type="http://schemas.openxmlformats.org/officeDocument/2006/relationships/image" Target="../media/image25.png"/><Relationship Id="rId46" Type="http://schemas.openxmlformats.org/officeDocument/2006/relationships/image" Target="../media/image26.png"/><Relationship Id="rId47" Type="http://schemas.openxmlformats.org/officeDocument/2006/relationships/image" Target="../media/image27.png"/><Relationship Id="rId48" Type="http://schemas.openxmlformats.org/officeDocument/2006/relationships/image" Target="../media/image28.png"/><Relationship Id="rId49" Type="http://schemas.openxmlformats.org/officeDocument/2006/relationships/image" Target="../media/image28.png"/><Relationship Id="rId50" Type="http://schemas.openxmlformats.org/officeDocument/2006/relationships/image" Target="../media/image28.png"/><Relationship Id="rId5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4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4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330440"/>
            <a:ext cx="7010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502b1a"/>
                </a:solidFill>
                <a:latin typeface="Bookman Old Style"/>
              </a:rPr>
              <a:t>IC 2002 - Fabien Gandon</a:t>
            </a:r>
            <a:br>
              <a:rPr sz="2000"/>
            </a:br>
            <a:r>
              <a:rPr b="0" i="1" lang="fr-FR" sz="2000" spc="-1" strike="noStrike">
                <a:solidFill>
                  <a:srgbClr val="502b1a"/>
                </a:solidFill>
                <a:latin typeface="Bookman Old Style"/>
              </a:rPr>
              <a:t> Rose Dieng - Kuntz, Olivier Corby, Alain Giboin - Equipe ACACIA</a:t>
            </a:r>
            <a:br>
              <a:rPr sz="2000"/>
            </a:br>
            <a:r>
              <a:rPr b="0" i="1" lang="fr-FR" sz="2000" spc="-1" strike="noStrike">
                <a:solidFill>
                  <a:srgbClr val="502b1a"/>
                </a:solidFill>
                <a:latin typeface="Bookman Old Style"/>
              </a:rPr>
              <a:t>INRIA Sophia Antipolis</a:t>
            </a:r>
            <a:endParaRPr b="0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502b1a"/>
                </a:solidFill>
                <a:latin typeface="Bookman Old Style"/>
              </a:rPr>
              <a:t>Web Sémantique et Approche Multi-Agents pour la Gestion d'une Mémoire Organisationnelle Distribuée</a:t>
            </a:r>
            <a:endParaRPr b="1" i="1" lang="en-US" sz="4400" spc="-1" strike="noStrike">
              <a:solidFill>
                <a:srgbClr val="502b1a"/>
              </a:solidFill>
              <a:latin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02b1a"/>
                </a:solidFill>
                <a:latin typeface="Bookman Old Style"/>
              </a:rPr>
              <a:t>L'architecture SMA de CoMMA</a:t>
            </a: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05920" y="-76320"/>
            <a:ext cx="8937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02b1a"/>
                </a:solidFill>
                <a:latin typeface="Bookman Old Style"/>
              </a:rPr>
              <a:t>Approche choisie:</a:t>
            </a: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066680" y="533520"/>
            <a:ext cx="7772400" cy="4419360"/>
            <a:chOff x="1066680" y="533520"/>
            <a:chExt cx="7772400" cy="4419360"/>
          </a:xfrm>
        </p:grpSpPr>
        <p:grpSp>
          <p:nvGrpSpPr>
            <p:cNvPr id="548" name=""/>
            <p:cNvGrpSpPr/>
            <p:nvPr/>
          </p:nvGrpSpPr>
          <p:grpSpPr>
            <a:xfrm>
              <a:off x="1066680" y="533520"/>
              <a:ext cx="7772400" cy="4379760"/>
              <a:chOff x="1066680" y="533520"/>
              <a:chExt cx="7772400" cy="4379760"/>
            </a:xfrm>
          </p:grpSpPr>
          <p:sp>
            <p:nvSpPr>
              <p:cNvPr id="549" name=""/>
              <p:cNvSpPr/>
              <p:nvPr/>
            </p:nvSpPr>
            <p:spPr>
              <a:xfrm>
                <a:off x="1066680" y="533520"/>
                <a:ext cx="7772400" cy="437976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4182840" y="612720"/>
                <a:ext cx="1657080" cy="4180680"/>
                <a:chOff x="4182840" y="612720"/>
                <a:chExt cx="1657080" cy="418068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4182840" y="771120"/>
                  <a:ext cx="1500120" cy="4022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341600" y="612720"/>
                  <a:ext cx="1498320" cy="239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0" bIns="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émoire d'entrepris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1873080" y="1966680"/>
                <a:ext cx="6532560" cy="994680"/>
                <a:chOff x="1873080" y="1966680"/>
                <a:chExt cx="6532560" cy="99468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1873080" y="2052000"/>
                  <a:ext cx="6392880" cy="9093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686640" y="1966680"/>
                  <a:ext cx="1719000" cy="237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10800" bIns="10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fr-FR" sz="900" spc="-1" strike="noStrike">
                      <a:solidFill>
                        <a:srgbClr val="000000"/>
                      </a:solidFill>
                      <a:latin typeface="Courier New"/>
                    </a:rPr>
                    <a:t>Système Multi-Ag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743440" y="2138040"/>
                  <a:ext cx="789120" cy="158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895400" y="2628360"/>
                  <a:ext cx="66996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289240" y="2188800"/>
                  <a:ext cx="828720" cy="1756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59" name="agen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62080" y="2279160"/>
                  <a:ext cx="31140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560" name=""/>
                <p:cNvGrpSpPr/>
                <p:nvPr/>
              </p:nvGrpSpPr>
              <p:grpSpPr>
                <a:xfrm>
                  <a:off x="5840280" y="2285640"/>
                  <a:ext cx="908280" cy="636120"/>
                  <a:chOff x="5840280" y="2285640"/>
                  <a:chExt cx="908280" cy="63612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5840280" y="2645640"/>
                    <a:ext cx="908280" cy="27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group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d'intérêt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62" name="agent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6400" y="2285640"/>
                    <a:ext cx="311760" cy="31392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grpSp>
            <p:sp>
              <p:nvSpPr>
                <p:cNvPr id="563" name=""/>
                <p:cNvSpPr/>
                <p:nvPr/>
              </p:nvSpPr>
              <p:spPr>
                <a:xfrm>
                  <a:off x="4183200" y="2053800"/>
                  <a:ext cx="1500120" cy="9075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64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201840" y="2329920"/>
                  <a:ext cx="31140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565" name=""/>
                <p:cNvSpPr/>
                <p:nvPr/>
              </p:nvSpPr>
              <p:spPr>
                <a:xfrm>
                  <a:off x="2921040" y="2684160"/>
                  <a:ext cx="907920" cy="2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Ontologie et Modèle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748560" y="2680920"/>
                  <a:ext cx="828720" cy="2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221600" y="2241000"/>
                  <a:ext cx="828720" cy="1630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68" name="agent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994440" y="2331720"/>
                  <a:ext cx="31140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569" name=""/>
                <p:cNvGrpSpPr/>
                <p:nvPr/>
              </p:nvGrpSpPr>
              <p:grpSpPr>
                <a:xfrm>
                  <a:off x="3710160" y="2098080"/>
                  <a:ext cx="907920" cy="634680"/>
                  <a:chOff x="3710160" y="2098080"/>
                  <a:chExt cx="907920" cy="634680"/>
                </a:xfrm>
              </p:grpSpPr>
              <p:pic>
                <p:nvPicPr>
                  <p:cNvPr id="570" name="agent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86280" y="2098080"/>
                    <a:ext cx="311760" cy="3142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  <p:sp>
                <p:nvSpPr>
                  <p:cNvPr id="571" name=""/>
                  <p:cNvSpPr/>
                  <p:nvPr/>
                </p:nvSpPr>
                <p:spPr>
                  <a:xfrm>
                    <a:off x="3710160" y="2456280"/>
                    <a:ext cx="907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d'inter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connexi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72" name=""/>
            <p:cNvGrpSpPr/>
            <p:nvPr/>
          </p:nvGrpSpPr>
          <p:grpSpPr>
            <a:xfrm>
              <a:off x="1224000" y="3002040"/>
              <a:ext cx="1101240" cy="1551960"/>
              <a:chOff x="1224000" y="3002040"/>
              <a:chExt cx="1101240" cy="1551960"/>
            </a:xfrm>
          </p:grpSpPr>
          <p:sp>
            <p:nvSpPr>
              <p:cNvPr id="573" name=""/>
              <p:cNvSpPr/>
              <p:nvPr/>
            </p:nvSpPr>
            <p:spPr>
              <a:xfrm>
                <a:off x="1224000" y="3957480"/>
                <a:ext cx="1074600" cy="59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Ingénieur d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la connaiss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4" name=""/>
              <p:cNvGrpSpPr/>
              <p:nvPr/>
            </p:nvGrpSpPr>
            <p:grpSpPr>
              <a:xfrm>
                <a:off x="1895400" y="3002040"/>
                <a:ext cx="429840" cy="1180800"/>
                <a:chOff x="1895400" y="3002040"/>
                <a:chExt cx="429840" cy="1180800"/>
              </a:xfrm>
            </p:grpSpPr>
            <p:grpSp>
              <p:nvGrpSpPr>
                <p:cNvPr id="575" name=""/>
                <p:cNvGrpSpPr/>
                <p:nvPr/>
              </p:nvGrpSpPr>
              <p:grpSpPr>
                <a:xfrm>
                  <a:off x="1895400" y="3002040"/>
                  <a:ext cx="210960" cy="97920"/>
                  <a:chOff x="1895400" y="3002040"/>
                  <a:chExt cx="210960" cy="9792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>
                    <a:off x="1895400" y="3075840"/>
                    <a:ext cx="518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69">
                        <a:moveTo>
                          <a:pt x="149" y="69"/>
                        </a:moveTo>
                        <a:lnTo>
                          <a:pt x="25" y="48"/>
                        </a:lnTo>
                        <a:lnTo>
                          <a:pt x="0" y="23"/>
                        </a:lnTo>
                        <a:lnTo>
                          <a:pt x="10" y="2"/>
                        </a:lnTo>
                        <a:lnTo>
                          <a:pt x="39" y="0"/>
                        </a:lnTo>
                        <a:lnTo>
                          <a:pt x="149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1947240" y="3012480"/>
                    <a:ext cx="2268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5">
                        <a:moveTo>
                          <a:pt x="66" y="115"/>
                        </a:moveTo>
                        <a:lnTo>
                          <a:pt x="0" y="42"/>
                        </a:lnTo>
                        <a:lnTo>
                          <a:pt x="7" y="11"/>
                        </a:lnTo>
                        <a:lnTo>
                          <a:pt x="39" y="0"/>
                        </a:lnTo>
                        <a:lnTo>
                          <a:pt x="57" y="22"/>
                        </a:lnTo>
                        <a:lnTo>
                          <a:pt x="66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019960" y="3002040"/>
                    <a:ext cx="194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8">
                        <a:moveTo>
                          <a:pt x="9" y="138"/>
                        </a:moveTo>
                        <a:lnTo>
                          <a:pt x="0" y="35"/>
                        </a:lnTo>
                        <a:lnTo>
                          <a:pt x="30" y="0"/>
                        </a:lnTo>
                        <a:lnTo>
                          <a:pt x="56" y="15"/>
                        </a:lnTo>
                        <a:lnTo>
                          <a:pt x="52" y="42"/>
                        </a:lnTo>
                        <a:lnTo>
                          <a:pt x="9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060280" y="3039480"/>
                    <a:ext cx="46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6">
                        <a:moveTo>
                          <a:pt x="0" y="86"/>
                        </a:moveTo>
                        <a:lnTo>
                          <a:pt x="100" y="0"/>
                        </a:lnTo>
                        <a:lnTo>
                          <a:pt x="135" y="17"/>
                        </a:lnTo>
                        <a:lnTo>
                          <a:pt x="132" y="45"/>
                        </a:lnTo>
                        <a:lnTo>
                          <a:pt x="114" y="59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0" name=""/>
                <p:cNvGrpSpPr/>
                <p:nvPr/>
              </p:nvGrpSpPr>
              <p:grpSpPr>
                <a:xfrm>
                  <a:off x="1969920" y="3071880"/>
                  <a:ext cx="355320" cy="1110960"/>
                  <a:chOff x="1969920" y="3071880"/>
                  <a:chExt cx="355320" cy="111096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>
                    <a:off x="2034000" y="3254760"/>
                    <a:ext cx="17856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54">
                        <a:moveTo>
                          <a:pt x="366" y="160"/>
                        </a:moveTo>
                        <a:lnTo>
                          <a:pt x="297" y="56"/>
                        </a:lnTo>
                        <a:lnTo>
                          <a:pt x="228" y="0"/>
                        </a:lnTo>
                        <a:lnTo>
                          <a:pt x="145" y="0"/>
                        </a:lnTo>
                        <a:lnTo>
                          <a:pt x="55" y="36"/>
                        </a:lnTo>
                        <a:lnTo>
                          <a:pt x="14" y="97"/>
                        </a:lnTo>
                        <a:lnTo>
                          <a:pt x="0" y="181"/>
                        </a:lnTo>
                        <a:lnTo>
                          <a:pt x="14" y="291"/>
                        </a:lnTo>
                        <a:lnTo>
                          <a:pt x="69" y="416"/>
                        </a:lnTo>
                        <a:lnTo>
                          <a:pt x="166" y="499"/>
                        </a:lnTo>
                        <a:lnTo>
                          <a:pt x="241" y="540"/>
                        </a:lnTo>
                        <a:lnTo>
                          <a:pt x="318" y="554"/>
                        </a:lnTo>
                        <a:lnTo>
                          <a:pt x="380" y="533"/>
                        </a:lnTo>
                        <a:lnTo>
                          <a:pt x="414" y="499"/>
                        </a:lnTo>
                        <a:lnTo>
                          <a:pt x="436" y="416"/>
                        </a:lnTo>
                        <a:lnTo>
                          <a:pt x="429" y="319"/>
                        </a:lnTo>
                        <a:lnTo>
                          <a:pt x="407" y="237"/>
                        </a:lnTo>
                        <a:lnTo>
                          <a:pt x="545" y="160"/>
                        </a:lnTo>
                        <a:lnTo>
                          <a:pt x="560" y="126"/>
                        </a:lnTo>
                        <a:lnTo>
                          <a:pt x="545" y="111"/>
                        </a:lnTo>
                        <a:lnTo>
                          <a:pt x="393" y="201"/>
                        </a:lnTo>
                        <a:lnTo>
                          <a:pt x="366" y="1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2161800" y="3071880"/>
                    <a:ext cx="158760" cy="43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1238">
                        <a:moveTo>
                          <a:pt x="138" y="1045"/>
                        </a:moveTo>
                        <a:lnTo>
                          <a:pt x="47" y="1113"/>
                        </a:lnTo>
                        <a:lnTo>
                          <a:pt x="20" y="1135"/>
                        </a:lnTo>
                        <a:lnTo>
                          <a:pt x="0" y="1183"/>
                        </a:lnTo>
                        <a:lnTo>
                          <a:pt x="27" y="1231"/>
                        </a:lnTo>
                        <a:lnTo>
                          <a:pt x="54" y="1238"/>
                        </a:lnTo>
                        <a:lnTo>
                          <a:pt x="138" y="1210"/>
                        </a:lnTo>
                        <a:lnTo>
                          <a:pt x="262" y="1113"/>
                        </a:lnTo>
                        <a:lnTo>
                          <a:pt x="373" y="997"/>
                        </a:lnTo>
                        <a:lnTo>
                          <a:pt x="491" y="864"/>
                        </a:lnTo>
                        <a:lnTo>
                          <a:pt x="498" y="809"/>
                        </a:lnTo>
                        <a:lnTo>
                          <a:pt x="498" y="658"/>
                        </a:lnTo>
                        <a:lnTo>
                          <a:pt x="464" y="422"/>
                        </a:lnTo>
                        <a:lnTo>
                          <a:pt x="484" y="284"/>
                        </a:lnTo>
                        <a:lnTo>
                          <a:pt x="498" y="228"/>
                        </a:lnTo>
                        <a:lnTo>
                          <a:pt x="477" y="201"/>
                        </a:lnTo>
                        <a:lnTo>
                          <a:pt x="428" y="173"/>
                        </a:lnTo>
                        <a:lnTo>
                          <a:pt x="394" y="153"/>
                        </a:lnTo>
                        <a:lnTo>
                          <a:pt x="414" y="28"/>
                        </a:lnTo>
                        <a:lnTo>
                          <a:pt x="401" y="0"/>
                        </a:lnTo>
                        <a:lnTo>
                          <a:pt x="373" y="8"/>
                        </a:lnTo>
                        <a:lnTo>
                          <a:pt x="360" y="167"/>
                        </a:lnTo>
                        <a:lnTo>
                          <a:pt x="346" y="208"/>
                        </a:lnTo>
                        <a:lnTo>
                          <a:pt x="339" y="235"/>
                        </a:lnTo>
                        <a:lnTo>
                          <a:pt x="283" y="214"/>
                        </a:lnTo>
                        <a:lnTo>
                          <a:pt x="242" y="214"/>
                        </a:lnTo>
                        <a:lnTo>
                          <a:pt x="242" y="242"/>
                        </a:lnTo>
                        <a:lnTo>
                          <a:pt x="269" y="264"/>
                        </a:lnTo>
                        <a:lnTo>
                          <a:pt x="319" y="264"/>
                        </a:lnTo>
                        <a:lnTo>
                          <a:pt x="353" y="291"/>
                        </a:lnTo>
                        <a:lnTo>
                          <a:pt x="380" y="339"/>
                        </a:lnTo>
                        <a:lnTo>
                          <a:pt x="408" y="416"/>
                        </a:lnTo>
                        <a:lnTo>
                          <a:pt x="428" y="567"/>
                        </a:lnTo>
                        <a:lnTo>
                          <a:pt x="428" y="706"/>
                        </a:lnTo>
                        <a:lnTo>
                          <a:pt x="414" y="816"/>
                        </a:lnTo>
                        <a:lnTo>
                          <a:pt x="387" y="864"/>
                        </a:lnTo>
                        <a:lnTo>
                          <a:pt x="290" y="934"/>
                        </a:lnTo>
                        <a:lnTo>
                          <a:pt x="186" y="997"/>
                        </a:lnTo>
                        <a:lnTo>
                          <a:pt x="138" y="10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1969920" y="3470400"/>
                    <a:ext cx="143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47">
                        <a:moveTo>
                          <a:pt x="451" y="20"/>
                        </a:moveTo>
                        <a:lnTo>
                          <a:pt x="401" y="0"/>
                        </a:lnTo>
                        <a:lnTo>
                          <a:pt x="297" y="7"/>
                        </a:lnTo>
                        <a:lnTo>
                          <a:pt x="207" y="76"/>
                        </a:lnTo>
                        <a:lnTo>
                          <a:pt x="75" y="221"/>
                        </a:lnTo>
                        <a:lnTo>
                          <a:pt x="7" y="339"/>
                        </a:lnTo>
                        <a:lnTo>
                          <a:pt x="0" y="380"/>
                        </a:lnTo>
                        <a:lnTo>
                          <a:pt x="34" y="457"/>
                        </a:lnTo>
                        <a:lnTo>
                          <a:pt x="110" y="491"/>
                        </a:lnTo>
                        <a:lnTo>
                          <a:pt x="207" y="532"/>
                        </a:lnTo>
                        <a:lnTo>
                          <a:pt x="283" y="552"/>
                        </a:lnTo>
                        <a:lnTo>
                          <a:pt x="318" y="588"/>
                        </a:lnTo>
                        <a:lnTo>
                          <a:pt x="297" y="636"/>
                        </a:lnTo>
                        <a:lnTo>
                          <a:pt x="242" y="692"/>
                        </a:lnTo>
                        <a:lnTo>
                          <a:pt x="173" y="699"/>
                        </a:lnTo>
                        <a:lnTo>
                          <a:pt x="125" y="677"/>
                        </a:lnTo>
                        <a:lnTo>
                          <a:pt x="96" y="699"/>
                        </a:lnTo>
                        <a:lnTo>
                          <a:pt x="103" y="726"/>
                        </a:lnTo>
                        <a:lnTo>
                          <a:pt x="159" y="747"/>
                        </a:lnTo>
                        <a:lnTo>
                          <a:pt x="242" y="747"/>
                        </a:lnTo>
                        <a:lnTo>
                          <a:pt x="318" y="726"/>
                        </a:lnTo>
                        <a:lnTo>
                          <a:pt x="360" y="699"/>
                        </a:lnTo>
                        <a:lnTo>
                          <a:pt x="388" y="650"/>
                        </a:lnTo>
                        <a:lnTo>
                          <a:pt x="401" y="595"/>
                        </a:lnTo>
                        <a:lnTo>
                          <a:pt x="367" y="546"/>
                        </a:lnTo>
                        <a:lnTo>
                          <a:pt x="283" y="511"/>
                        </a:lnTo>
                        <a:lnTo>
                          <a:pt x="186" y="484"/>
                        </a:lnTo>
                        <a:lnTo>
                          <a:pt x="103" y="436"/>
                        </a:lnTo>
                        <a:lnTo>
                          <a:pt x="82" y="394"/>
                        </a:lnTo>
                        <a:lnTo>
                          <a:pt x="96" y="319"/>
                        </a:lnTo>
                        <a:lnTo>
                          <a:pt x="159" y="221"/>
                        </a:lnTo>
                        <a:lnTo>
                          <a:pt x="236" y="165"/>
                        </a:lnTo>
                        <a:lnTo>
                          <a:pt x="353" y="124"/>
                        </a:lnTo>
                        <a:lnTo>
                          <a:pt x="451" y="104"/>
                        </a:lnTo>
                        <a:lnTo>
                          <a:pt x="451" y="48"/>
                        </a:lnTo>
                        <a:lnTo>
                          <a:pt x="45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086560" y="3458520"/>
                    <a:ext cx="13428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919">
                        <a:moveTo>
                          <a:pt x="367" y="290"/>
                        </a:moveTo>
                        <a:lnTo>
                          <a:pt x="325" y="117"/>
                        </a:lnTo>
                        <a:lnTo>
                          <a:pt x="277" y="34"/>
                        </a:lnTo>
                        <a:lnTo>
                          <a:pt x="173" y="0"/>
                        </a:lnTo>
                        <a:lnTo>
                          <a:pt x="68" y="13"/>
                        </a:lnTo>
                        <a:lnTo>
                          <a:pt x="21" y="104"/>
                        </a:lnTo>
                        <a:lnTo>
                          <a:pt x="27" y="214"/>
                        </a:lnTo>
                        <a:lnTo>
                          <a:pt x="55" y="394"/>
                        </a:lnTo>
                        <a:lnTo>
                          <a:pt x="55" y="552"/>
                        </a:lnTo>
                        <a:lnTo>
                          <a:pt x="21" y="690"/>
                        </a:lnTo>
                        <a:lnTo>
                          <a:pt x="0" y="767"/>
                        </a:lnTo>
                        <a:lnTo>
                          <a:pt x="14" y="835"/>
                        </a:lnTo>
                        <a:lnTo>
                          <a:pt x="62" y="871"/>
                        </a:lnTo>
                        <a:lnTo>
                          <a:pt x="125" y="905"/>
                        </a:lnTo>
                        <a:lnTo>
                          <a:pt x="186" y="919"/>
                        </a:lnTo>
                        <a:lnTo>
                          <a:pt x="263" y="919"/>
                        </a:lnTo>
                        <a:lnTo>
                          <a:pt x="353" y="849"/>
                        </a:lnTo>
                        <a:lnTo>
                          <a:pt x="422" y="704"/>
                        </a:lnTo>
                        <a:lnTo>
                          <a:pt x="415" y="573"/>
                        </a:lnTo>
                        <a:lnTo>
                          <a:pt x="374" y="421"/>
                        </a:lnTo>
                        <a:lnTo>
                          <a:pt x="367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2046960" y="3719160"/>
                    <a:ext cx="10188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329">
                        <a:moveTo>
                          <a:pt x="305" y="21"/>
                        </a:moveTo>
                        <a:lnTo>
                          <a:pt x="223" y="0"/>
                        </a:lnTo>
                        <a:lnTo>
                          <a:pt x="174" y="21"/>
                        </a:lnTo>
                        <a:lnTo>
                          <a:pt x="153" y="89"/>
                        </a:lnTo>
                        <a:lnTo>
                          <a:pt x="174" y="470"/>
                        </a:lnTo>
                        <a:lnTo>
                          <a:pt x="174" y="560"/>
                        </a:lnTo>
                        <a:lnTo>
                          <a:pt x="147" y="727"/>
                        </a:lnTo>
                        <a:lnTo>
                          <a:pt x="140" y="920"/>
                        </a:lnTo>
                        <a:lnTo>
                          <a:pt x="153" y="1017"/>
                        </a:lnTo>
                        <a:lnTo>
                          <a:pt x="140" y="1071"/>
                        </a:lnTo>
                        <a:lnTo>
                          <a:pt x="42" y="1155"/>
                        </a:lnTo>
                        <a:lnTo>
                          <a:pt x="0" y="1259"/>
                        </a:lnTo>
                        <a:lnTo>
                          <a:pt x="8" y="1293"/>
                        </a:lnTo>
                        <a:lnTo>
                          <a:pt x="84" y="1329"/>
                        </a:lnTo>
                        <a:lnTo>
                          <a:pt x="104" y="1314"/>
                        </a:lnTo>
                        <a:lnTo>
                          <a:pt x="112" y="1252"/>
                        </a:lnTo>
                        <a:lnTo>
                          <a:pt x="133" y="1162"/>
                        </a:lnTo>
                        <a:lnTo>
                          <a:pt x="167" y="1121"/>
                        </a:lnTo>
                        <a:lnTo>
                          <a:pt x="208" y="1093"/>
                        </a:lnTo>
                        <a:lnTo>
                          <a:pt x="244" y="1058"/>
                        </a:lnTo>
                        <a:lnTo>
                          <a:pt x="251" y="1030"/>
                        </a:lnTo>
                        <a:lnTo>
                          <a:pt x="230" y="996"/>
                        </a:lnTo>
                        <a:lnTo>
                          <a:pt x="208" y="976"/>
                        </a:lnTo>
                        <a:lnTo>
                          <a:pt x="194" y="892"/>
                        </a:lnTo>
                        <a:lnTo>
                          <a:pt x="208" y="719"/>
                        </a:lnTo>
                        <a:lnTo>
                          <a:pt x="257" y="519"/>
                        </a:lnTo>
                        <a:lnTo>
                          <a:pt x="305" y="359"/>
                        </a:lnTo>
                        <a:lnTo>
                          <a:pt x="320" y="166"/>
                        </a:lnTo>
                        <a:lnTo>
                          <a:pt x="30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157480" y="3719160"/>
                    <a:ext cx="16776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1121">
                        <a:moveTo>
                          <a:pt x="172" y="166"/>
                        </a:moveTo>
                        <a:lnTo>
                          <a:pt x="159" y="55"/>
                        </a:lnTo>
                        <a:lnTo>
                          <a:pt x="97" y="0"/>
                        </a:lnTo>
                        <a:lnTo>
                          <a:pt x="7" y="7"/>
                        </a:lnTo>
                        <a:lnTo>
                          <a:pt x="0" y="55"/>
                        </a:lnTo>
                        <a:lnTo>
                          <a:pt x="7" y="159"/>
                        </a:lnTo>
                        <a:lnTo>
                          <a:pt x="55" y="318"/>
                        </a:lnTo>
                        <a:lnTo>
                          <a:pt x="90" y="435"/>
                        </a:lnTo>
                        <a:lnTo>
                          <a:pt x="131" y="594"/>
                        </a:lnTo>
                        <a:lnTo>
                          <a:pt x="145" y="732"/>
                        </a:lnTo>
                        <a:lnTo>
                          <a:pt x="145" y="843"/>
                        </a:lnTo>
                        <a:lnTo>
                          <a:pt x="124" y="926"/>
                        </a:lnTo>
                        <a:lnTo>
                          <a:pt x="104" y="954"/>
                        </a:lnTo>
                        <a:lnTo>
                          <a:pt x="104" y="981"/>
                        </a:lnTo>
                        <a:lnTo>
                          <a:pt x="131" y="1024"/>
                        </a:lnTo>
                        <a:lnTo>
                          <a:pt x="179" y="1037"/>
                        </a:lnTo>
                        <a:lnTo>
                          <a:pt x="256" y="1037"/>
                        </a:lnTo>
                        <a:lnTo>
                          <a:pt x="394" y="1071"/>
                        </a:lnTo>
                        <a:lnTo>
                          <a:pt x="435" y="1121"/>
                        </a:lnTo>
                        <a:lnTo>
                          <a:pt x="498" y="1092"/>
                        </a:lnTo>
                        <a:lnTo>
                          <a:pt x="526" y="1024"/>
                        </a:lnTo>
                        <a:lnTo>
                          <a:pt x="498" y="996"/>
                        </a:lnTo>
                        <a:lnTo>
                          <a:pt x="380" y="981"/>
                        </a:lnTo>
                        <a:lnTo>
                          <a:pt x="249" y="981"/>
                        </a:lnTo>
                        <a:lnTo>
                          <a:pt x="193" y="974"/>
                        </a:lnTo>
                        <a:lnTo>
                          <a:pt x="179" y="933"/>
                        </a:lnTo>
                        <a:lnTo>
                          <a:pt x="193" y="857"/>
                        </a:lnTo>
                        <a:lnTo>
                          <a:pt x="201" y="725"/>
                        </a:lnTo>
                        <a:lnTo>
                          <a:pt x="186" y="580"/>
                        </a:lnTo>
                        <a:lnTo>
                          <a:pt x="165" y="388"/>
                        </a:lnTo>
                        <a:lnTo>
                          <a:pt x="172" y="221"/>
                        </a:lnTo>
                        <a:lnTo>
                          <a:pt x="172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87" name="ampoule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934640" y="3063240"/>
                  <a:ext cx="13356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88" name=""/>
            <p:cNvGrpSpPr/>
            <p:nvPr/>
          </p:nvGrpSpPr>
          <p:grpSpPr>
            <a:xfrm>
              <a:off x="1146240" y="612720"/>
              <a:ext cx="1774800" cy="1433520"/>
              <a:chOff x="1146240" y="612720"/>
              <a:chExt cx="1774800" cy="1433520"/>
            </a:xfrm>
          </p:grpSpPr>
          <p:sp>
            <p:nvSpPr>
              <p:cNvPr id="589" name=""/>
              <p:cNvSpPr/>
              <p:nvPr/>
            </p:nvSpPr>
            <p:spPr>
              <a:xfrm>
                <a:off x="1146240" y="1687320"/>
                <a:ext cx="17748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uteur et/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nnotateur de 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0" name=""/>
              <p:cNvGrpSpPr/>
              <p:nvPr/>
            </p:nvGrpSpPr>
            <p:grpSpPr>
              <a:xfrm>
                <a:off x="1698480" y="612720"/>
                <a:ext cx="789120" cy="1231920"/>
                <a:chOff x="1698480" y="612720"/>
                <a:chExt cx="789120" cy="1231920"/>
              </a:xfrm>
            </p:grpSpPr>
            <p:grpSp>
              <p:nvGrpSpPr>
                <p:cNvPr id="591" name=""/>
                <p:cNvGrpSpPr/>
                <p:nvPr/>
              </p:nvGrpSpPr>
              <p:grpSpPr>
                <a:xfrm>
                  <a:off x="1973880" y="1060560"/>
                  <a:ext cx="477360" cy="784080"/>
                  <a:chOff x="1973880" y="1060560"/>
                  <a:chExt cx="477360" cy="78408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2183040" y="1321200"/>
                    <a:ext cx="1112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1535">
                        <a:moveTo>
                          <a:pt x="182" y="123"/>
                        </a:moveTo>
                        <a:lnTo>
                          <a:pt x="265" y="33"/>
                        </a:lnTo>
                        <a:lnTo>
                          <a:pt x="423" y="0"/>
                        </a:lnTo>
                        <a:lnTo>
                          <a:pt x="558" y="33"/>
                        </a:lnTo>
                        <a:lnTo>
                          <a:pt x="633" y="83"/>
                        </a:lnTo>
                        <a:lnTo>
                          <a:pt x="693" y="183"/>
                        </a:lnTo>
                        <a:lnTo>
                          <a:pt x="746" y="361"/>
                        </a:lnTo>
                        <a:lnTo>
                          <a:pt x="771" y="554"/>
                        </a:lnTo>
                        <a:lnTo>
                          <a:pt x="771" y="899"/>
                        </a:lnTo>
                        <a:lnTo>
                          <a:pt x="693" y="1200"/>
                        </a:lnTo>
                        <a:lnTo>
                          <a:pt x="581" y="1370"/>
                        </a:lnTo>
                        <a:lnTo>
                          <a:pt x="468" y="1468"/>
                        </a:lnTo>
                        <a:lnTo>
                          <a:pt x="340" y="1535"/>
                        </a:lnTo>
                        <a:lnTo>
                          <a:pt x="160" y="1528"/>
                        </a:lnTo>
                        <a:lnTo>
                          <a:pt x="17" y="1425"/>
                        </a:lnTo>
                        <a:lnTo>
                          <a:pt x="0" y="1302"/>
                        </a:lnTo>
                        <a:lnTo>
                          <a:pt x="70" y="1119"/>
                        </a:lnTo>
                        <a:lnTo>
                          <a:pt x="130" y="914"/>
                        </a:lnTo>
                        <a:lnTo>
                          <a:pt x="152" y="649"/>
                        </a:lnTo>
                        <a:lnTo>
                          <a:pt x="115" y="423"/>
                        </a:lnTo>
                        <a:lnTo>
                          <a:pt x="115" y="258"/>
                        </a:lnTo>
                        <a:lnTo>
                          <a:pt x="182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226240" y="1567800"/>
                    <a:ext cx="12708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1512">
                        <a:moveTo>
                          <a:pt x="293" y="63"/>
                        </a:moveTo>
                        <a:lnTo>
                          <a:pt x="187" y="0"/>
                        </a:lnTo>
                        <a:lnTo>
                          <a:pt x="52" y="0"/>
                        </a:lnTo>
                        <a:lnTo>
                          <a:pt x="0" y="83"/>
                        </a:lnTo>
                        <a:lnTo>
                          <a:pt x="22" y="205"/>
                        </a:lnTo>
                        <a:lnTo>
                          <a:pt x="142" y="325"/>
                        </a:lnTo>
                        <a:lnTo>
                          <a:pt x="390" y="436"/>
                        </a:lnTo>
                        <a:lnTo>
                          <a:pt x="676" y="671"/>
                        </a:lnTo>
                        <a:lnTo>
                          <a:pt x="721" y="774"/>
                        </a:lnTo>
                        <a:lnTo>
                          <a:pt x="698" y="821"/>
                        </a:lnTo>
                        <a:lnTo>
                          <a:pt x="480" y="977"/>
                        </a:lnTo>
                        <a:lnTo>
                          <a:pt x="225" y="1162"/>
                        </a:lnTo>
                        <a:lnTo>
                          <a:pt x="165" y="1242"/>
                        </a:lnTo>
                        <a:lnTo>
                          <a:pt x="165" y="1325"/>
                        </a:lnTo>
                        <a:lnTo>
                          <a:pt x="360" y="1412"/>
                        </a:lnTo>
                        <a:lnTo>
                          <a:pt x="661" y="1512"/>
                        </a:lnTo>
                        <a:lnTo>
                          <a:pt x="766" y="1512"/>
                        </a:lnTo>
                        <a:lnTo>
                          <a:pt x="881" y="1445"/>
                        </a:lnTo>
                        <a:lnTo>
                          <a:pt x="881" y="1392"/>
                        </a:lnTo>
                        <a:lnTo>
                          <a:pt x="796" y="1365"/>
                        </a:lnTo>
                        <a:lnTo>
                          <a:pt x="413" y="1325"/>
                        </a:lnTo>
                        <a:lnTo>
                          <a:pt x="270" y="1290"/>
                        </a:lnTo>
                        <a:lnTo>
                          <a:pt x="255" y="1229"/>
                        </a:lnTo>
                        <a:lnTo>
                          <a:pt x="503" y="1059"/>
                        </a:lnTo>
                        <a:lnTo>
                          <a:pt x="773" y="896"/>
                        </a:lnTo>
                        <a:lnTo>
                          <a:pt x="833" y="836"/>
                        </a:lnTo>
                        <a:lnTo>
                          <a:pt x="856" y="754"/>
                        </a:lnTo>
                        <a:lnTo>
                          <a:pt x="833" y="638"/>
                        </a:lnTo>
                        <a:lnTo>
                          <a:pt x="751" y="551"/>
                        </a:lnTo>
                        <a:lnTo>
                          <a:pt x="480" y="253"/>
                        </a:lnTo>
                        <a:lnTo>
                          <a:pt x="293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058480" y="1554120"/>
                    <a:ext cx="15840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7" h="1610">
                        <a:moveTo>
                          <a:pt x="596" y="218"/>
                        </a:moveTo>
                        <a:lnTo>
                          <a:pt x="771" y="80"/>
                        </a:lnTo>
                        <a:lnTo>
                          <a:pt x="937" y="0"/>
                        </a:lnTo>
                        <a:lnTo>
                          <a:pt x="1042" y="12"/>
                        </a:lnTo>
                        <a:lnTo>
                          <a:pt x="1097" y="80"/>
                        </a:lnTo>
                        <a:lnTo>
                          <a:pt x="1097" y="155"/>
                        </a:lnTo>
                        <a:lnTo>
                          <a:pt x="1064" y="238"/>
                        </a:lnTo>
                        <a:lnTo>
                          <a:pt x="952" y="285"/>
                        </a:lnTo>
                        <a:lnTo>
                          <a:pt x="724" y="400"/>
                        </a:lnTo>
                        <a:lnTo>
                          <a:pt x="589" y="543"/>
                        </a:lnTo>
                        <a:lnTo>
                          <a:pt x="499" y="713"/>
                        </a:lnTo>
                        <a:lnTo>
                          <a:pt x="476" y="814"/>
                        </a:lnTo>
                        <a:lnTo>
                          <a:pt x="596" y="936"/>
                        </a:lnTo>
                        <a:lnTo>
                          <a:pt x="724" y="1114"/>
                        </a:lnTo>
                        <a:lnTo>
                          <a:pt x="817" y="1277"/>
                        </a:lnTo>
                        <a:lnTo>
                          <a:pt x="839" y="1380"/>
                        </a:lnTo>
                        <a:lnTo>
                          <a:pt x="839" y="1440"/>
                        </a:lnTo>
                        <a:lnTo>
                          <a:pt x="779" y="1480"/>
                        </a:lnTo>
                        <a:lnTo>
                          <a:pt x="589" y="1487"/>
                        </a:lnTo>
                        <a:lnTo>
                          <a:pt x="301" y="1547"/>
                        </a:lnTo>
                        <a:lnTo>
                          <a:pt x="248" y="1602"/>
                        </a:lnTo>
                        <a:lnTo>
                          <a:pt x="203" y="1610"/>
                        </a:lnTo>
                        <a:lnTo>
                          <a:pt x="0" y="1547"/>
                        </a:lnTo>
                        <a:lnTo>
                          <a:pt x="0" y="1487"/>
                        </a:lnTo>
                        <a:lnTo>
                          <a:pt x="90" y="1440"/>
                        </a:lnTo>
                        <a:lnTo>
                          <a:pt x="453" y="1380"/>
                        </a:lnTo>
                        <a:lnTo>
                          <a:pt x="641" y="1400"/>
                        </a:lnTo>
                        <a:lnTo>
                          <a:pt x="734" y="1400"/>
                        </a:lnTo>
                        <a:lnTo>
                          <a:pt x="756" y="1365"/>
                        </a:lnTo>
                        <a:lnTo>
                          <a:pt x="679" y="1214"/>
                        </a:lnTo>
                        <a:lnTo>
                          <a:pt x="521" y="1019"/>
                        </a:lnTo>
                        <a:lnTo>
                          <a:pt x="408" y="876"/>
                        </a:lnTo>
                        <a:lnTo>
                          <a:pt x="363" y="794"/>
                        </a:lnTo>
                        <a:lnTo>
                          <a:pt x="363" y="671"/>
                        </a:lnTo>
                        <a:lnTo>
                          <a:pt x="438" y="468"/>
                        </a:lnTo>
                        <a:lnTo>
                          <a:pt x="506" y="340"/>
                        </a:lnTo>
                        <a:lnTo>
                          <a:pt x="596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1973880" y="1321920"/>
                    <a:ext cx="21384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2" h="1202">
                        <a:moveTo>
                          <a:pt x="889" y="1202"/>
                        </a:moveTo>
                        <a:lnTo>
                          <a:pt x="981" y="1192"/>
                        </a:lnTo>
                        <a:lnTo>
                          <a:pt x="1009" y="1124"/>
                        </a:lnTo>
                        <a:lnTo>
                          <a:pt x="1034" y="881"/>
                        </a:lnTo>
                        <a:lnTo>
                          <a:pt x="1172" y="596"/>
                        </a:lnTo>
                        <a:lnTo>
                          <a:pt x="1314" y="465"/>
                        </a:lnTo>
                        <a:lnTo>
                          <a:pt x="1482" y="330"/>
                        </a:lnTo>
                        <a:lnTo>
                          <a:pt x="1467" y="235"/>
                        </a:lnTo>
                        <a:lnTo>
                          <a:pt x="1367" y="185"/>
                        </a:lnTo>
                        <a:lnTo>
                          <a:pt x="1242" y="235"/>
                        </a:lnTo>
                        <a:lnTo>
                          <a:pt x="1104" y="373"/>
                        </a:lnTo>
                        <a:lnTo>
                          <a:pt x="976" y="673"/>
                        </a:lnTo>
                        <a:lnTo>
                          <a:pt x="921" y="906"/>
                        </a:lnTo>
                        <a:lnTo>
                          <a:pt x="884" y="1029"/>
                        </a:lnTo>
                        <a:lnTo>
                          <a:pt x="779" y="984"/>
                        </a:lnTo>
                        <a:lnTo>
                          <a:pt x="661" y="783"/>
                        </a:lnTo>
                        <a:lnTo>
                          <a:pt x="563" y="505"/>
                        </a:lnTo>
                        <a:lnTo>
                          <a:pt x="581" y="380"/>
                        </a:lnTo>
                        <a:lnTo>
                          <a:pt x="636" y="248"/>
                        </a:lnTo>
                        <a:lnTo>
                          <a:pt x="658" y="150"/>
                        </a:lnTo>
                        <a:lnTo>
                          <a:pt x="418" y="145"/>
                        </a:lnTo>
                        <a:lnTo>
                          <a:pt x="178" y="105"/>
                        </a:lnTo>
                        <a:lnTo>
                          <a:pt x="65" y="0"/>
                        </a:lnTo>
                        <a:lnTo>
                          <a:pt x="0" y="50"/>
                        </a:lnTo>
                        <a:lnTo>
                          <a:pt x="88" y="230"/>
                        </a:lnTo>
                        <a:lnTo>
                          <a:pt x="280" y="250"/>
                        </a:lnTo>
                        <a:lnTo>
                          <a:pt x="488" y="270"/>
                        </a:lnTo>
                        <a:lnTo>
                          <a:pt x="493" y="428"/>
                        </a:lnTo>
                        <a:lnTo>
                          <a:pt x="513" y="611"/>
                        </a:lnTo>
                        <a:lnTo>
                          <a:pt x="583" y="816"/>
                        </a:lnTo>
                        <a:lnTo>
                          <a:pt x="671" y="1019"/>
                        </a:lnTo>
                        <a:lnTo>
                          <a:pt x="804" y="1154"/>
                        </a:lnTo>
                        <a:lnTo>
                          <a:pt x="889" y="12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293920" y="1060560"/>
                    <a:ext cx="15732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1625">
                        <a:moveTo>
                          <a:pt x="0" y="1610"/>
                        </a:moveTo>
                        <a:lnTo>
                          <a:pt x="0" y="1503"/>
                        </a:lnTo>
                        <a:lnTo>
                          <a:pt x="67" y="1420"/>
                        </a:lnTo>
                        <a:lnTo>
                          <a:pt x="363" y="1325"/>
                        </a:lnTo>
                        <a:lnTo>
                          <a:pt x="728" y="1245"/>
                        </a:lnTo>
                        <a:lnTo>
                          <a:pt x="939" y="1197"/>
                        </a:lnTo>
                        <a:lnTo>
                          <a:pt x="964" y="1155"/>
                        </a:lnTo>
                        <a:lnTo>
                          <a:pt x="864" y="1034"/>
                        </a:lnTo>
                        <a:lnTo>
                          <a:pt x="666" y="857"/>
                        </a:lnTo>
                        <a:lnTo>
                          <a:pt x="463" y="706"/>
                        </a:lnTo>
                        <a:lnTo>
                          <a:pt x="303" y="626"/>
                        </a:lnTo>
                        <a:lnTo>
                          <a:pt x="213" y="544"/>
                        </a:lnTo>
                        <a:lnTo>
                          <a:pt x="205" y="483"/>
                        </a:lnTo>
                        <a:lnTo>
                          <a:pt x="258" y="428"/>
                        </a:lnTo>
                        <a:lnTo>
                          <a:pt x="385" y="401"/>
                        </a:lnTo>
                        <a:lnTo>
                          <a:pt x="546" y="298"/>
                        </a:lnTo>
                        <a:lnTo>
                          <a:pt x="568" y="198"/>
                        </a:lnTo>
                        <a:lnTo>
                          <a:pt x="568" y="55"/>
                        </a:lnTo>
                        <a:lnTo>
                          <a:pt x="553" y="0"/>
                        </a:lnTo>
                        <a:lnTo>
                          <a:pt x="613" y="13"/>
                        </a:lnTo>
                        <a:lnTo>
                          <a:pt x="698" y="135"/>
                        </a:lnTo>
                        <a:lnTo>
                          <a:pt x="728" y="266"/>
                        </a:lnTo>
                        <a:lnTo>
                          <a:pt x="636" y="361"/>
                        </a:lnTo>
                        <a:lnTo>
                          <a:pt x="553" y="388"/>
                        </a:lnTo>
                        <a:lnTo>
                          <a:pt x="393" y="463"/>
                        </a:lnTo>
                        <a:lnTo>
                          <a:pt x="363" y="504"/>
                        </a:lnTo>
                        <a:lnTo>
                          <a:pt x="385" y="544"/>
                        </a:lnTo>
                        <a:lnTo>
                          <a:pt x="531" y="654"/>
                        </a:lnTo>
                        <a:lnTo>
                          <a:pt x="683" y="714"/>
                        </a:lnTo>
                        <a:lnTo>
                          <a:pt x="886" y="869"/>
                        </a:lnTo>
                        <a:lnTo>
                          <a:pt x="1024" y="1054"/>
                        </a:lnTo>
                        <a:lnTo>
                          <a:pt x="1091" y="1197"/>
                        </a:lnTo>
                        <a:lnTo>
                          <a:pt x="1069" y="1245"/>
                        </a:lnTo>
                        <a:lnTo>
                          <a:pt x="1024" y="1277"/>
                        </a:lnTo>
                        <a:lnTo>
                          <a:pt x="849" y="1340"/>
                        </a:lnTo>
                        <a:lnTo>
                          <a:pt x="501" y="1443"/>
                        </a:lnTo>
                        <a:lnTo>
                          <a:pt x="280" y="1530"/>
                        </a:lnTo>
                        <a:lnTo>
                          <a:pt x="138" y="1605"/>
                        </a:lnTo>
                        <a:lnTo>
                          <a:pt x="45" y="1625"/>
                        </a:lnTo>
                        <a:lnTo>
                          <a:pt x="0" y="16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139120" y="1104120"/>
                    <a:ext cx="1227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157">
                        <a:moveTo>
                          <a:pt x="173" y="939"/>
                        </a:moveTo>
                        <a:lnTo>
                          <a:pt x="271" y="1042"/>
                        </a:lnTo>
                        <a:lnTo>
                          <a:pt x="431" y="1137"/>
                        </a:lnTo>
                        <a:lnTo>
                          <a:pt x="566" y="1157"/>
                        </a:lnTo>
                        <a:lnTo>
                          <a:pt x="669" y="1137"/>
                        </a:lnTo>
                        <a:lnTo>
                          <a:pt x="791" y="1057"/>
                        </a:lnTo>
                        <a:lnTo>
                          <a:pt x="836" y="892"/>
                        </a:lnTo>
                        <a:lnTo>
                          <a:pt x="851" y="769"/>
                        </a:lnTo>
                        <a:lnTo>
                          <a:pt x="814" y="654"/>
                        </a:lnTo>
                        <a:lnTo>
                          <a:pt x="744" y="511"/>
                        </a:lnTo>
                        <a:lnTo>
                          <a:pt x="679" y="388"/>
                        </a:lnTo>
                        <a:lnTo>
                          <a:pt x="669" y="361"/>
                        </a:lnTo>
                        <a:lnTo>
                          <a:pt x="699" y="218"/>
                        </a:lnTo>
                        <a:lnTo>
                          <a:pt x="791" y="75"/>
                        </a:lnTo>
                        <a:lnTo>
                          <a:pt x="806" y="33"/>
                        </a:lnTo>
                        <a:lnTo>
                          <a:pt x="759" y="0"/>
                        </a:lnTo>
                        <a:lnTo>
                          <a:pt x="699" y="0"/>
                        </a:lnTo>
                        <a:lnTo>
                          <a:pt x="634" y="185"/>
                        </a:lnTo>
                        <a:lnTo>
                          <a:pt x="604" y="306"/>
                        </a:lnTo>
                        <a:lnTo>
                          <a:pt x="521" y="225"/>
                        </a:lnTo>
                        <a:lnTo>
                          <a:pt x="451" y="163"/>
                        </a:lnTo>
                        <a:lnTo>
                          <a:pt x="308" y="115"/>
                        </a:lnTo>
                        <a:lnTo>
                          <a:pt x="203" y="115"/>
                        </a:lnTo>
                        <a:lnTo>
                          <a:pt x="45" y="185"/>
                        </a:lnTo>
                        <a:lnTo>
                          <a:pt x="0" y="381"/>
                        </a:lnTo>
                        <a:lnTo>
                          <a:pt x="38" y="634"/>
                        </a:lnTo>
                        <a:lnTo>
                          <a:pt x="105" y="872"/>
                        </a:lnTo>
                        <a:lnTo>
                          <a:pt x="173" y="9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8" name=""/>
                <p:cNvGrpSpPr/>
                <p:nvPr/>
              </p:nvGrpSpPr>
              <p:grpSpPr>
                <a:xfrm>
                  <a:off x="1984680" y="612720"/>
                  <a:ext cx="236520" cy="239040"/>
                  <a:chOff x="1984680" y="612720"/>
                  <a:chExt cx="236520" cy="239040"/>
                </a:xfrm>
              </p:grpSpPr>
              <p:sp>
                <p:nvSpPr>
                  <p:cNvPr id="599" name=""/>
                  <p:cNvSpPr/>
                  <p:nvPr/>
                </p:nvSpPr>
                <p:spPr>
                  <a:xfrm>
                    <a:off x="1984680" y="612720"/>
                    <a:ext cx="236520" cy="2390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00" name="doc_0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11680" y="634320"/>
                    <a:ext cx="197280" cy="19908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grpSp>
            <p:grpSp>
              <p:nvGrpSpPr>
                <p:cNvPr id="601" name=""/>
                <p:cNvGrpSpPr/>
                <p:nvPr/>
              </p:nvGrpSpPr>
              <p:grpSpPr>
                <a:xfrm>
                  <a:off x="1698480" y="736200"/>
                  <a:ext cx="255240" cy="278640"/>
                  <a:chOff x="1698480" y="736200"/>
                  <a:chExt cx="255240" cy="27864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698480" y="736200"/>
                    <a:ext cx="25524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03" name="doc_0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06760" y="754920"/>
                    <a:ext cx="236520" cy="2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04" name=""/>
                <p:cNvGrpSpPr/>
                <p:nvPr/>
              </p:nvGrpSpPr>
              <p:grpSpPr>
                <a:xfrm>
                  <a:off x="1856160" y="1055160"/>
                  <a:ext cx="204120" cy="245160"/>
                  <a:chOff x="1856160" y="1055160"/>
                  <a:chExt cx="204120" cy="24516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>
                    <a:off x="1856160" y="1055160"/>
                    <a:ext cx="204120" cy="2451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06" name="doc_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76680" y="1071720"/>
                    <a:ext cx="1666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07" name=""/>
                <p:cNvGrpSpPr/>
                <p:nvPr/>
              </p:nvGrpSpPr>
              <p:grpSpPr>
                <a:xfrm>
                  <a:off x="2250720" y="776160"/>
                  <a:ext cx="236880" cy="278640"/>
                  <a:chOff x="2250720" y="776160"/>
                  <a:chExt cx="236880" cy="27864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2250720" y="776160"/>
                    <a:ext cx="23688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09" name="doc_05gif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56120" y="809640"/>
                    <a:ext cx="22500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610" name=""/>
            <p:cNvGrpSpPr/>
            <p:nvPr/>
          </p:nvGrpSpPr>
          <p:grpSpPr>
            <a:xfrm>
              <a:off x="7418520" y="3759120"/>
              <a:ext cx="1106280" cy="1193760"/>
              <a:chOff x="7418520" y="3759120"/>
              <a:chExt cx="1106280" cy="1193760"/>
            </a:xfrm>
          </p:grpSpPr>
          <p:sp>
            <p:nvSpPr>
              <p:cNvPr id="611" name=""/>
              <p:cNvSpPr/>
              <p:nvPr/>
            </p:nvSpPr>
            <p:spPr>
              <a:xfrm>
                <a:off x="7418520" y="4705200"/>
                <a:ext cx="1106280" cy="2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Utilisateur fin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"/>
              <p:cNvGrpSpPr/>
              <p:nvPr/>
            </p:nvGrpSpPr>
            <p:grpSpPr>
              <a:xfrm>
                <a:off x="7576920" y="3838320"/>
                <a:ext cx="430200" cy="903600"/>
                <a:chOff x="7576920" y="3838320"/>
                <a:chExt cx="430200" cy="903600"/>
              </a:xfrm>
            </p:grpSpPr>
            <p:sp>
              <p:nvSpPr>
                <p:cNvPr id="613" name=""/>
                <p:cNvSpPr/>
                <p:nvPr/>
              </p:nvSpPr>
              <p:spPr>
                <a:xfrm flipH="1">
                  <a:off x="7701480" y="3888720"/>
                  <a:ext cx="168120" cy="19692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7812720" y="3838320"/>
                  <a:ext cx="194040" cy="31644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H="1">
                  <a:off x="7723080" y="4100400"/>
                  <a:ext cx="100800" cy="29664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H="1">
                  <a:off x="7621920" y="4108680"/>
                  <a:ext cx="155160" cy="22788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H="1">
                  <a:off x="7576560" y="4367160"/>
                  <a:ext cx="188280" cy="368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H="1">
                  <a:off x="7756560" y="4366440"/>
                  <a:ext cx="126360" cy="37548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8010360" y="3759120"/>
                <a:ext cx="473400" cy="396720"/>
                <a:chOff x="8010360" y="3759120"/>
                <a:chExt cx="473400" cy="39672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8010360" y="3759120"/>
                  <a:ext cx="473400" cy="396720"/>
                </a:xfrm>
                <a:prstGeom prst="cloudCallout">
                  <a:avLst>
                    <a:gd name="adj1" fmla="val -75731"/>
                    <a:gd name="adj2" fmla="val 15087"/>
                  </a:avLst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21" name="inter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26640" y="3829320"/>
                  <a:ext cx="2365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22" name=""/>
            <p:cNvGrpSpPr/>
            <p:nvPr/>
          </p:nvGrpSpPr>
          <p:grpSpPr>
            <a:xfrm>
              <a:off x="2487600" y="1023840"/>
              <a:ext cx="1617840" cy="903240"/>
              <a:chOff x="2487600" y="1023840"/>
              <a:chExt cx="1617840" cy="903240"/>
            </a:xfrm>
          </p:grpSpPr>
          <p:pic>
            <p:nvPicPr>
              <p:cNvPr id="62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487600" y="150012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24" name=""/>
              <p:cNvGrpSpPr/>
              <p:nvPr/>
            </p:nvGrpSpPr>
            <p:grpSpPr>
              <a:xfrm>
                <a:off x="2763720" y="1023840"/>
                <a:ext cx="1025640" cy="903240"/>
                <a:chOff x="2763720" y="1023840"/>
                <a:chExt cx="1025640" cy="90324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763720" y="1289880"/>
                  <a:ext cx="102564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763720" y="1023840"/>
                  <a:ext cx="102564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781360" y="1292760"/>
                  <a:ext cx="100764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2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157920" y="1525320"/>
                  <a:ext cx="31536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840400" y="1054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30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868560" y="1488960"/>
                <a:ext cx="2368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1" name=""/>
            <p:cNvGrpSpPr/>
            <p:nvPr/>
          </p:nvGrpSpPr>
          <p:grpSpPr>
            <a:xfrm>
              <a:off x="5761080" y="3798720"/>
              <a:ext cx="1697040" cy="995400"/>
              <a:chOff x="5761080" y="3798720"/>
              <a:chExt cx="1697040" cy="995400"/>
            </a:xfrm>
          </p:grpSpPr>
          <p:pic>
            <p:nvPicPr>
              <p:cNvPr id="63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761080" y="4276440"/>
                <a:ext cx="2379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3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7221600" y="4276440"/>
                <a:ext cx="23652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34" name=""/>
              <p:cNvGrpSpPr/>
              <p:nvPr/>
            </p:nvGrpSpPr>
            <p:grpSpPr>
              <a:xfrm>
                <a:off x="6037200" y="3798720"/>
                <a:ext cx="1104840" cy="995400"/>
                <a:chOff x="6037200" y="3798720"/>
                <a:chExt cx="1104840" cy="995400"/>
              </a:xfrm>
            </p:grpSpPr>
            <p:grpSp>
              <p:nvGrpSpPr>
                <p:cNvPr id="635" name=""/>
                <p:cNvGrpSpPr/>
                <p:nvPr/>
              </p:nvGrpSpPr>
              <p:grpSpPr>
                <a:xfrm>
                  <a:off x="6037200" y="3798720"/>
                  <a:ext cx="1026000" cy="902880"/>
                  <a:chOff x="6037200" y="3798720"/>
                  <a:chExt cx="1026000" cy="90288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6037200" y="406476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6037200" y="37987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6054840" y="406728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3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31760" y="43002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4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113880" y="38293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41" name=""/>
                <p:cNvGrpSpPr/>
                <p:nvPr/>
              </p:nvGrpSpPr>
              <p:grpSpPr>
                <a:xfrm>
                  <a:off x="6076440" y="3838320"/>
                  <a:ext cx="1026000" cy="903240"/>
                  <a:chOff x="6076440" y="3838320"/>
                  <a:chExt cx="1026000" cy="90324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>
                    <a:off x="6076440" y="410436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6076440" y="38383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094080" y="410724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4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71000" y="43398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46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153120" y="38689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116040" y="3890880"/>
                  <a:ext cx="1026000" cy="903240"/>
                  <a:chOff x="6116040" y="3890880"/>
                  <a:chExt cx="1026000" cy="90324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116040" y="415692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116040" y="389088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6133680" y="415980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5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510600" y="439236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52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192720" y="392148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653" name=""/>
            <p:cNvGrpSpPr/>
            <p:nvPr/>
          </p:nvGrpSpPr>
          <p:grpSpPr>
            <a:xfrm>
              <a:off x="2527200" y="3121200"/>
              <a:ext cx="2168640" cy="677160"/>
              <a:chOff x="2527200" y="3121200"/>
              <a:chExt cx="2168640" cy="677160"/>
            </a:xfrm>
          </p:grpSpPr>
          <p:pic>
            <p:nvPicPr>
              <p:cNvPr id="654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2527200" y="340020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5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828960" y="340020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56" name=""/>
              <p:cNvGrpSpPr/>
              <p:nvPr/>
            </p:nvGrpSpPr>
            <p:grpSpPr>
              <a:xfrm>
                <a:off x="2724120" y="3121200"/>
                <a:ext cx="1008000" cy="677160"/>
                <a:chOff x="2724120" y="3121200"/>
                <a:chExt cx="1008000" cy="67716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881800" y="3160800"/>
                  <a:ext cx="670680" cy="6375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58" name="onto_0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3039840" y="3394440"/>
                  <a:ext cx="315720" cy="31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9" name=""/>
                <p:cNvSpPr/>
                <p:nvPr/>
              </p:nvSpPr>
              <p:spPr>
                <a:xfrm>
                  <a:off x="2724120" y="31212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Ontologi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660" name="onto_01" descr=""/>
              <p:cNvPicPr/>
              <p:nvPr/>
            </p:nvPicPr>
            <p:blipFill>
              <a:blip r:embed="rId29"/>
              <a:stretch/>
            </p:blipFill>
            <p:spPr>
              <a:xfrm>
                <a:off x="4381560" y="3360600"/>
                <a:ext cx="314280" cy="317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1" name=""/>
            <p:cNvGrpSpPr/>
            <p:nvPr/>
          </p:nvGrpSpPr>
          <p:grpSpPr>
            <a:xfrm>
              <a:off x="2314440" y="3871800"/>
              <a:ext cx="1632240" cy="882360"/>
              <a:chOff x="2314440" y="3871800"/>
              <a:chExt cx="1632240" cy="88236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2314440" y="4155840"/>
                <a:ext cx="1632240" cy="598320"/>
                <a:chOff x="2314440" y="4155840"/>
                <a:chExt cx="1632240" cy="59832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2393280" y="4195440"/>
                  <a:ext cx="1341000" cy="558720"/>
                </a:xfrm>
                <a:prstGeom prst="foldedCorner">
                  <a:avLst>
                    <a:gd name="adj" fmla="val 6138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64" name="onto_02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2432520" y="4399560"/>
                  <a:ext cx="27612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5" name=""/>
                <p:cNvSpPr/>
                <p:nvPr/>
              </p:nvSpPr>
              <p:spPr>
                <a:xfrm>
                  <a:off x="2314440" y="4155840"/>
                  <a:ext cx="749160" cy="2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odè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616120" y="4355280"/>
                  <a:ext cx="1330560" cy="3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Modèle d'entrepri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Profils d'utilisateur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667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117960" y="387180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8" name=""/>
            <p:cNvGrpSpPr/>
            <p:nvPr/>
          </p:nvGrpSpPr>
          <p:grpSpPr>
            <a:xfrm>
              <a:off x="3828960" y="4237200"/>
              <a:ext cx="1065240" cy="357120"/>
              <a:chOff x="3828960" y="4237200"/>
              <a:chExt cx="1065240" cy="357120"/>
            </a:xfrm>
          </p:grpSpPr>
          <p:pic>
            <p:nvPicPr>
              <p:cNvPr id="669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3828960" y="431676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0" name="onto_02" descr=""/>
              <p:cNvPicPr/>
              <p:nvPr/>
            </p:nvPicPr>
            <p:blipFill>
              <a:blip r:embed="rId33"/>
              <a:stretch/>
            </p:blipFill>
            <p:spPr>
              <a:xfrm>
                <a:off x="4538520" y="4237200"/>
                <a:ext cx="35568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1" name=""/>
            <p:cNvGrpSpPr/>
            <p:nvPr/>
          </p:nvGrpSpPr>
          <p:grpSpPr>
            <a:xfrm>
              <a:off x="7497720" y="3025800"/>
              <a:ext cx="631800" cy="772920"/>
              <a:chOff x="7497720" y="3025800"/>
              <a:chExt cx="631800" cy="772920"/>
            </a:xfrm>
          </p:grpSpPr>
          <p:pic>
            <p:nvPicPr>
              <p:cNvPr id="672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7694640" y="3558960"/>
                <a:ext cx="236520" cy="2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3" name=""/>
              <p:cNvGrpSpPr/>
              <p:nvPr/>
            </p:nvGrpSpPr>
            <p:grpSpPr>
              <a:xfrm>
                <a:off x="7497720" y="3025800"/>
                <a:ext cx="631800" cy="490320"/>
                <a:chOff x="7497720" y="3025800"/>
                <a:chExt cx="631800" cy="49032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536960" y="3078000"/>
                  <a:ext cx="552960" cy="438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97720" y="3025800"/>
                  <a:ext cx="6318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Requête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76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7734600" y="3259080"/>
                  <a:ext cx="236880" cy="23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77" name=""/>
            <p:cNvGrpSpPr/>
            <p:nvPr/>
          </p:nvGrpSpPr>
          <p:grpSpPr>
            <a:xfrm>
              <a:off x="4262400" y="954000"/>
              <a:ext cx="1301760" cy="3565440"/>
              <a:chOff x="4262400" y="954000"/>
              <a:chExt cx="1301760" cy="3565440"/>
            </a:xfrm>
          </p:grpSpPr>
          <p:pic>
            <p:nvPicPr>
              <p:cNvPr id="678" name="doc_01" descr=""/>
              <p:cNvPicPr/>
              <p:nvPr/>
            </p:nvPicPr>
            <p:blipFill>
              <a:blip r:embed="rId36"/>
              <a:stretch/>
            </p:blipFill>
            <p:spPr>
              <a:xfrm>
                <a:off x="5170680" y="1568160"/>
                <a:ext cx="214200" cy="2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9" name="doc_01" descr=""/>
              <p:cNvPicPr/>
              <p:nvPr/>
            </p:nvPicPr>
            <p:blipFill>
              <a:blip r:embed="rId37"/>
              <a:stretch/>
            </p:blipFill>
            <p:spPr>
              <a:xfrm>
                <a:off x="5131080" y="148896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0" name="memory_01" descr=""/>
              <p:cNvPicPr/>
              <p:nvPr/>
            </p:nvPicPr>
            <p:blipFill>
              <a:blip r:embed="rId38"/>
              <a:stretch/>
            </p:blipFill>
            <p:spPr>
              <a:xfrm>
                <a:off x="4262400" y="954000"/>
                <a:ext cx="33192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1" name="doc_03" descr=""/>
              <p:cNvPicPr/>
              <p:nvPr/>
            </p:nvPicPr>
            <p:blipFill>
              <a:blip r:embed="rId39"/>
              <a:stretch/>
            </p:blipFill>
            <p:spPr>
              <a:xfrm>
                <a:off x="4419720" y="3724200"/>
                <a:ext cx="395280" cy="39672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682" name="doc_04" descr=""/>
              <p:cNvPicPr/>
              <p:nvPr/>
            </p:nvPicPr>
            <p:blipFill>
              <a:blip r:embed="rId40"/>
              <a:stretch/>
            </p:blipFill>
            <p:spPr>
              <a:xfrm>
                <a:off x="4341960" y="1449360"/>
                <a:ext cx="276120" cy="27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" name="doc_05gif" descr=""/>
              <p:cNvPicPr/>
              <p:nvPr/>
            </p:nvPicPr>
            <p:blipFill>
              <a:blip r:embed="rId41"/>
              <a:stretch/>
            </p:blipFill>
            <p:spPr>
              <a:xfrm>
                <a:off x="5011920" y="3643200"/>
                <a:ext cx="30456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4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4934160" y="3081240"/>
                <a:ext cx="41112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5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4759560" y="993600"/>
                <a:ext cx="3315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6" name="doc_01" descr=""/>
              <p:cNvPicPr/>
              <p:nvPr/>
            </p:nvPicPr>
            <p:blipFill>
              <a:blip r:embed="rId44"/>
              <a:stretch/>
            </p:blipFill>
            <p:spPr>
              <a:xfrm>
                <a:off x="5210280" y="160812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7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5248440" y="4201920"/>
                <a:ext cx="315720" cy="31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8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4735800" y="1608120"/>
                <a:ext cx="333360" cy="33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9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5248440" y="105084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0" name=""/>
            <p:cNvSpPr txBox="1"/>
            <p:nvPr/>
          </p:nvSpPr>
          <p:spPr>
            <a:xfrm>
              <a:off x="2408400" y="3878280"/>
              <a:ext cx="236520" cy="15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1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3078000" y="731880"/>
              <a:ext cx="238320" cy="16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2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692" name=""/>
            <p:cNvSpPr txBox="1"/>
            <p:nvPr/>
          </p:nvSpPr>
          <p:spPr>
            <a:xfrm>
              <a:off x="7261200" y="3997440"/>
              <a:ext cx="236520" cy="1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3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2448000" y="2843280"/>
              <a:ext cx="1971720" cy="1272600"/>
              <a:chOff x="2448000" y="2843280"/>
              <a:chExt cx="1971720" cy="1272600"/>
            </a:xfrm>
          </p:grpSpPr>
          <p:sp>
            <p:nvSpPr>
              <p:cNvPr id="694" name=""/>
              <p:cNvSpPr/>
              <p:nvPr/>
            </p:nvSpPr>
            <p:spPr>
              <a:xfrm>
                <a:off x="3749760" y="2843280"/>
                <a:ext cx="669960" cy="47772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2448000" y="2843280"/>
                <a:ext cx="512640" cy="47772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92440" y="2922480"/>
                <a:ext cx="117720" cy="119340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2013120" y="1847880"/>
              <a:ext cx="947160" cy="396720"/>
              <a:chOff x="2013120" y="1847880"/>
              <a:chExt cx="947160" cy="396720"/>
            </a:xfrm>
          </p:grpSpPr>
          <p:sp>
            <p:nvSpPr>
              <p:cNvPr id="698" name=""/>
              <p:cNvSpPr/>
              <p:nvPr/>
            </p:nvSpPr>
            <p:spPr>
              <a:xfrm>
                <a:off x="2013120" y="1952640"/>
                <a:ext cx="118800" cy="25236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2328480" y="1847880"/>
                <a:ext cx="631800" cy="39672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5562720" y="1294920"/>
              <a:ext cx="2247840" cy="2503800"/>
              <a:chOff x="5562720" y="1294920"/>
              <a:chExt cx="2247840" cy="2503800"/>
            </a:xfrm>
          </p:grpSpPr>
          <p:sp>
            <p:nvSpPr>
              <p:cNvPr id="701" name=""/>
              <p:cNvSpPr/>
              <p:nvPr/>
            </p:nvSpPr>
            <p:spPr>
              <a:xfrm flipH="1" flipV="1">
                <a:off x="5562720" y="1294920"/>
                <a:ext cx="137160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78920" y="2603520"/>
                <a:ext cx="431640" cy="44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6669000" y="2922480"/>
                <a:ext cx="355320" cy="79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261200" y="2922480"/>
                <a:ext cx="316080" cy="87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5366880" y="2803680"/>
              <a:ext cx="2130840" cy="1035000"/>
              <a:chOff x="5366880" y="2803680"/>
              <a:chExt cx="2130840" cy="1035000"/>
            </a:xfrm>
          </p:grpSpPr>
          <p:sp>
            <p:nvSpPr>
              <p:cNvPr id="706" name=""/>
              <p:cNvSpPr/>
              <p:nvPr/>
            </p:nvSpPr>
            <p:spPr>
              <a:xfrm flipH="1">
                <a:off x="5366880" y="2803680"/>
                <a:ext cx="552600" cy="39708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195960" y="2863800"/>
                <a:ext cx="0" cy="89532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51640" y="2922840"/>
                <a:ext cx="946080" cy="91584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9" name=""/>
          <p:cNvSpPr/>
          <p:nvPr/>
        </p:nvSpPr>
        <p:spPr>
          <a:xfrm>
            <a:off x="206280" y="5003640"/>
            <a:ext cx="9242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52560" indent="-285840">
              <a:lnSpc>
                <a:spcPct val="60000"/>
              </a:lnSpc>
              <a:spcBef>
                <a:spcPts val="726"/>
              </a:spcBef>
              <a:buSzPct val="102919"/>
              <a:buBlip>
                <a:blip r:embed="rId4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502b1a"/>
                </a:solidFill>
                <a:latin typeface="Bookman Old Style"/>
              </a:rPr>
              <a:t>Mémoire :</a:t>
            </a: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 monde annoté pour les ag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60000"/>
              </a:lnSpc>
              <a:spcBef>
                <a:spcPts val="726"/>
              </a:spcBef>
              <a:buSzPct val="102919"/>
              <a:buBlip>
                <a:blip r:embed="rId4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502b1a"/>
                </a:solidFill>
                <a:latin typeface="Bookman Old Style"/>
              </a:rPr>
              <a:t>Agent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228600">
              <a:lnSpc>
                <a:spcPct val="60000"/>
              </a:lnSpc>
              <a:spcBef>
                <a:spcPts val="649"/>
              </a:spcBef>
              <a:buClr>
                <a:srgbClr val="9933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502b1a"/>
                </a:solidFill>
                <a:latin typeface="Bookman Old Style"/>
              </a:rPr>
              <a:t>Collaborent </a:t>
            </a:r>
            <a:r>
              <a:rPr b="0" lang="fr-FR" sz="2100" spc="-1" strike="noStrike">
                <a:solidFill>
                  <a:srgbClr val="502b1a"/>
                </a:solidFill>
                <a:latin typeface="Wingdings"/>
                <a:ea typeface="Wingdings"/>
              </a:rPr>
              <a:t></a:t>
            </a:r>
            <a:r>
              <a:rPr b="0" lang="fr-FR" sz="2100" spc="-1" strike="noStrike">
                <a:solidFill>
                  <a:srgbClr val="502b1a"/>
                </a:solidFill>
                <a:latin typeface="Bookman Old Style"/>
              </a:rPr>
              <a:t> </a:t>
            </a:r>
            <a:r>
              <a:rPr b="0" lang="fr-FR" sz="2600" spc="-1" strike="noStrike">
                <a:solidFill>
                  <a:srgbClr val="502b1a"/>
                </a:solidFill>
                <a:latin typeface="Bookman Old Style"/>
              </a:rPr>
              <a:t>Capitalisation Glob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228600">
              <a:lnSpc>
                <a:spcPct val="60000"/>
              </a:lnSpc>
              <a:spcBef>
                <a:spcPts val="649"/>
              </a:spcBef>
              <a:buClr>
                <a:srgbClr val="9933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502b1a"/>
                </a:solidFill>
                <a:latin typeface="Bookman Old Style"/>
              </a:rPr>
              <a:t>Autonomes &amp; Individuels </a:t>
            </a:r>
            <a:r>
              <a:rPr b="0" lang="fr-FR" sz="2100" spc="-1" strike="noStrike">
                <a:solidFill>
                  <a:srgbClr val="502b1a"/>
                </a:solidFill>
                <a:latin typeface="Wingdings"/>
                <a:ea typeface="Wingdings"/>
              </a:rPr>
              <a:t></a:t>
            </a:r>
            <a:r>
              <a:rPr b="0" lang="fr-FR" sz="2100" spc="-1" strike="noStrike">
                <a:solidFill>
                  <a:srgbClr val="502b1a"/>
                </a:solidFill>
                <a:latin typeface="Bookman Old Style"/>
              </a:rPr>
              <a:t> </a:t>
            </a:r>
            <a:r>
              <a:rPr b="0" lang="fr-FR" sz="2600" spc="-1" strike="noStrike">
                <a:solidFill>
                  <a:srgbClr val="502b1a"/>
                </a:solidFill>
                <a:latin typeface="Bookman Old Style"/>
              </a:rPr>
              <a:t>Adaptation Loc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60000"/>
              </a:lnSpc>
              <a:spcBef>
                <a:spcPts val="726"/>
              </a:spcBef>
              <a:buSzPct val="102919"/>
              <a:buBlip>
                <a:blip r:embed="rId5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066680" y="533520"/>
            <a:ext cx="7797960" cy="4419360"/>
            <a:chOff x="1066680" y="533520"/>
            <a:chExt cx="7797960" cy="4419360"/>
          </a:xfrm>
        </p:grpSpPr>
        <p:sp>
          <p:nvSpPr>
            <p:cNvPr id="711" name=""/>
            <p:cNvSpPr/>
            <p:nvPr/>
          </p:nvSpPr>
          <p:spPr>
            <a:xfrm>
              <a:off x="1066680" y="533520"/>
              <a:ext cx="7797960" cy="1371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066680" y="2971800"/>
              <a:ext cx="7797960" cy="1981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66680" y="1905120"/>
              <a:ext cx="609840" cy="1066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483760" y="1905120"/>
              <a:ext cx="380880" cy="1066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676520" y="1905120"/>
              <a:ext cx="6781680" cy="10666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EB90-284D-4A2B-B23B-AEDE006EE8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"/>
          <p:cNvGrpSpPr/>
          <p:nvPr/>
        </p:nvGrpSpPr>
        <p:grpSpPr>
          <a:xfrm>
            <a:off x="1143000" y="1771560"/>
            <a:ext cx="3886200" cy="1371600"/>
            <a:chOff x="1143000" y="1771560"/>
            <a:chExt cx="3886200" cy="1371600"/>
          </a:xfrm>
        </p:grpSpPr>
        <p:sp>
          <p:nvSpPr>
            <p:cNvPr id="717" name=""/>
            <p:cNvSpPr/>
            <p:nvPr/>
          </p:nvSpPr>
          <p:spPr>
            <a:xfrm>
              <a:off x="1143000" y="1771560"/>
              <a:ext cx="3886200" cy="137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0200" y="177156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: ontologie et modè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9" name="onto_01" descr=""/>
            <p:cNvPicPr/>
            <p:nvPr/>
          </p:nvPicPr>
          <p:blipFill>
            <a:blip r:embed="rId2"/>
            <a:stretch/>
          </p:blipFill>
          <p:spPr>
            <a:xfrm>
              <a:off x="1336680" y="184788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720" name=""/>
          <p:cNvGrpSpPr/>
          <p:nvPr/>
        </p:nvGrpSpPr>
        <p:grpSpPr>
          <a:xfrm>
            <a:off x="5105520" y="1771560"/>
            <a:ext cx="3886200" cy="1371600"/>
            <a:chOff x="5105520" y="1771560"/>
            <a:chExt cx="3886200" cy="1371600"/>
          </a:xfrm>
        </p:grpSpPr>
        <p:sp>
          <p:nvSpPr>
            <p:cNvPr id="721" name=""/>
            <p:cNvSpPr/>
            <p:nvPr/>
          </p:nvSpPr>
          <p:spPr>
            <a:xfrm>
              <a:off x="5105520" y="1771560"/>
              <a:ext cx="3886200" cy="137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38680" y="177804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: annot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3" name="" descr=""/>
            <p:cNvPicPr/>
            <p:nvPr/>
          </p:nvPicPr>
          <p:blipFill>
            <a:blip r:embed="rId3"/>
            <a:stretch/>
          </p:blipFill>
          <p:spPr>
            <a:xfrm>
              <a:off x="5257800" y="186372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724" name=""/>
          <p:cNvGrpSpPr/>
          <p:nvPr/>
        </p:nvGrpSpPr>
        <p:grpSpPr>
          <a:xfrm>
            <a:off x="3048120" y="4896000"/>
            <a:ext cx="4190760" cy="1295280"/>
            <a:chOff x="3048120" y="4896000"/>
            <a:chExt cx="4190760" cy="1295280"/>
          </a:xfrm>
        </p:grpSpPr>
        <p:sp>
          <p:nvSpPr>
            <p:cNvPr id="725" name=""/>
            <p:cNvSpPr/>
            <p:nvPr/>
          </p:nvSpPr>
          <p:spPr>
            <a:xfrm>
              <a:off x="3048120" y="4896000"/>
              <a:ext cx="4190760" cy="1295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733920" y="4915080"/>
              <a:ext cx="297180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: utilis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3352680" y="4946760"/>
              <a:ext cx="354240" cy="550800"/>
              <a:chOff x="3352680" y="4946760"/>
              <a:chExt cx="354240" cy="550800"/>
            </a:xfrm>
          </p:grpSpPr>
          <p:sp>
            <p:nvSpPr>
              <p:cNvPr id="728" name=""/>
              <p:cNvSpPr/>
              <p:nvPr/>
            </p:nvSpPr>
            <p:spPr>
              <a:xfrm flipH="1">
                <a:off x="3454920" y="4977360"/>
                <a:ext cx="138600" cy="12024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3547080" y="4946760"/>
                <a:ext cx="159840" cy="19296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3473280" y="5106600"/>
                <a:ext cx="82800" cy="18072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3389760" y="5111640"/>
                <a:ext cx="127800" cy="13896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3352320" y="5268960"/>
                <a:ext cx="155160" cy="224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3500640" y="5268600"/>
                <a:ext cx="104040" cy="22896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048120" y="2990880"/>
            <a:ext cx="4267080" cy="2057400"/>
            <a:chOff x="3048120" y="2990880"/>
            <a:chExt cx="4267080" cy="2057400"/>
          </a:xfrm>
        </p:grpSpPr>
        <p:grpSp>
          <p:nvGrpSpPr>
            <p:cNvPr id="735" name=""/>
            <p:cNvGrpSpPr/>
            <p:nvPr/>
          </p:nvGrpSpPr>
          <p:grpSpPr>
            <a:xfrm>
              <a:off x="3048120" y="3219480"/>
              <a:ext cx="4267080" cy="1600200"/>
              <a:chOff x="3048120" y="3219480"/>
              <a:chExt cx="4267080" cy="1600200"/>
            </a:xfrm>
          </p:grpSpPr>
          <p:sp>
            <p:nvSpPr>
              <p:cNvPr id="736" name=""/>
              <p:cNvSpPr/>
              <p:nvPr/>
            </p:nvSpPr>
            <p:spPr>
              <a:xfrm>
                <a:off x="3048120" y="3219480"/>
                <a:ext cx="4190760" cy="16002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3321000"/>
                <a:ext cx="3657600" cy="55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Société: interconnex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3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200400" y="3371760"/>
                <a:ext cx="474840" cy="37944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</p:grpSp>
        <p:sp>
          <p:nvSpPr>
            <p:cNvPr id="739" name=""/>
            <p:cNvSpPr/>
            <p:nvPr/>
          </p:nvSpPr>
          <p:spPr>
            <a:xfrm>
              <a:off x="5410080" y="2990880"/>
              <a:ext cx="0" cy="32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800600" y="2990880"/>
              <a:ext cx="0" cy="32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934320" y="46674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02b1a"/>
                </a:solidFill>
                <a:latin typeface="Bookman Old Style"/>
              </a:rPr>
              <a:t>Architecture CoMMA : sous-sociétés</a:t>
            </a: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28240" y="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7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02b1a"/>
                </a:solidFill>
                <a:latin typeface="Bookman Old Style"/>
              </a:rPr>
              <a:t>Architecture:</a:t>
            </a: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  <a:p>
            <a:pPr lvl="1" marL="952560" indent="-285840">
              <a:lnSpc>
                <a:spcPct val="70000"/>
              </a:lnSpc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Macroscopique </a:t>
            </a:r>
            <a:r>
              <a:rPr b="0" lang="fr-FR" sz="2900" spc="-1" strike="noStrike">
                <a:solidFill>
                  <a:srgbClr val="502b1a"/>
                </a:solidFill>
                <a:latin typeface="Symbol"/>
                <a:ea typeface="Symbol"/>
              </a:rPr>
              <a:t></a:t>
            </a: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 Microscopique</a:t>
            </a:r>
            <a:endParaRPr b="0" lang="en-US" sz="2900" spc="-1" strike="noStrike">
              <a:solidFill>
                <a:srgbClr val="502b1a"/>
              </a:solidFill>
              <a:latin typeface="Bookman Old Style"/>
            </a:endParaRPr>
          </a:p>
          <a:p>
            <a:pPr lvl="1" marL="952560" indent="-285840">
              <a:lnSpc>
                <a:spcPct val="70000"/>
              </a:lnSpc>
              <a:spcBef>
                <a:spcPts val="726"/>
              </a:spcBef>
              <a:buSzPct val="10291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Sociétés (fonctions sociales)</a:t>
            </a:r>
            <a:endParaRPr b="0" lang="en-US" sz="2900" spc="-1" strike="noStrike">
              <a:solidFill>
                <a:srgbClr val="502b1a"/>
              </a:solidFill>
              <a:latin typeface="Bookman Old Style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1523880" y="2305080"/>
            <a:ext cx="3429000" cy="695160"/>
            <a:chOff x="1523880" y="2305080"/>
            <a:chExt cx="3429000" cy="695160"/>
          </a:xfrm>
        </p:grpSpPr>
        <p:sp>
          <p:nvSpPr>
            <p:cNvPr id="745" name=""/>
            <p:cNvSpPr/>
            <p:nvPr/>
          </p:nvSpPr>
          <p:spPr>
            <a:xfrm>
              <a:off x="2666880" y="2305080"/>
              <a:ext cx="2286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Agents ontologis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6" name="agent" descr=""/>
            <p:cNvPicPr/>
            <p:nvPr/>
          </p:nvPicPr>
          <p:blipFill>
            <a:blip r:embed="rId8"/>
            <a:stretch/>
          </p:blipFill>
          <p:spPr>
            <a:xfrm>
              <a:off x="2362320" y="2305080"/>
              <a:ext cx="31104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747" name="agent" descr=""/>
            <p:cNvPicPr/>
            <p:nvPr/>
          </p:nvPicPr>
          <p:blipFill>
            <a:blip r:embed="rId9"/>
            <a:stretch/>
          </p:blipFill>
          <p:spPr>
            <a:xfrm>
              <a:off x="1523880" y="2305080"/>
              <a:ext cx="31140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748" name="agent" descr=""/>
            <p:cNvPicPr/>
            <p:nvPr/>
          </p:nvPicPr>
          <p:blipFill>
            <a:blip r:embed="rId10"/>
            <a:stretch/>
          </p:blipFill>
          <p:spPr>
            <a:xfrm>
              <a:off x="2133720" y="2685960"/>
              <a:ext cx="31104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749" name="agent" descr=""/>
            <p:cNvPicPr/>
            <p:nvPr/>
          </p:nvPicPr>
          <p:blipFill>
            <a:blip r:embed="rId11"/>
            <a:stretch/>
          </p:blipFill>
          <p:spPr>
            <a:xfrm>
              <a:off x="2819520" y="2685960"/>
              <a:ext cx="31104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  <p:grpSp>
        <p:nvGrpSpPr>
          <p:cNvPr id="750" name=""/>
          <p:cNvGrpSpPr/>
          <p:nvPr/>
        </p:nvGrpSpPr>
        <p:grpSpPr>
          <a:xfrm>
            <a:off x="3276720" y="5343480"/>
            <a:ext cx="3962160" cy="924120"/>
            <a:chOff x="3276720" y="5343480"/>
            <a:chExt cx="3962160" cy="924120"/>
          </a:xfrm>
        </p:grpSpPr>
        <p:pic>
          <p:nvPicPr>
            <p:cNvPr id="751" name="agent" descr=""/>
            <p:cNvPicPr/>
            <p:nvPr/>
          </p:nvPicPr>
          <p:blipFill>
            <a:blip r:embed="rId12"/>
            <a:stretch/>
          </p:blipFill>
          <p:spPr>
            <a:xfrm>
              <a:off x="5181480" y="5353200"/>
              <a:ext cx="31140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752" name=""/>
            <p:cNvSpPr/>
            <p:nvPr/>
          </p:nvSpPr>
          <p:spPr>
            <a:xfrm>
              <a:off x="4495680" y="5657760"/>
              <a:ext cx="1600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Gestionnai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de profi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3" name="agent" descr=""/>
            <p:cNvPicPr/>
            <p:nvPr/>
          </p:nvPicPr>
          <p:blipFill>
            <a:blip r:embed="rId13"/>
            <a:stretch/>
          </p:blipFill>
          <p:spPr>
            <a:xfrm>
              <a:off x="6394320" y="5343480"/>
              <a:ext cx="31140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754" name=""/>
            <p:cNvSpPr/>
            <p:nvPr/>
          </p:nvSpPr>
          <p:spPr>
            <a:xfrm>
              <a:off x="5943600" y="5657760"/>
              <a:ext cx="1295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Archivis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de profi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5" name="agent" descr=""/>
            <p:cNvPicPr/>
            <p:nvPr/>
          </p:nvPicPr>
          <p:blipFill>
            <a:blip r:embed="rId14"/>
            <a:stretch/>
          </p:blipFill>
          <p:spPr>
            <a:xfrm>
              <a:off x="3809880" y="5353200"/>
              <a:ext cx="31140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756" name=""/>
            <p:cNvSpPr/>
            <p:nvPr/>
          </p:nvSpPr>
          <p:spPr>
            <a:xfrm>
              <a:off x="3276720" y="565776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Contrôl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d'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3048120" y="3676680"/>
            <a:ext cx="3968640" cy="1076400"/>
            <a:chOff x="3048120" y="3676680"/>
            <a:chExt cx="3968640" cy="1076400"/>
          </a:xfrm>
        </p:grpSpPr>
        <p:sp>
          <p:nvSpPr>
            <p:cNvPr id="758" name=""/>
            <p:cNvSpPr/>
            <p:nvPr/>
          </p:nvSpPr>
          <p:spPr>
            <a:xfrm flipV="1">
              <a:off x="4648320" y="390528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5257440" y="41335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486400" y="390528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5638680" y="4285800"/>
              <a:ext cx="3812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72000" y="436248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48120" y="382896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Appari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4" name="agent" descr=""/>
            <p:cNvPicPr/>
            <p:nvPr/>
          </p:nvPicPr>
          <p:blipFill>
            <a:blip r:embed="rId15"/>
            <a:stretch/>
          </p:blipFill>
          <p:spPr>
            <a:xfrm>
              <a:off x="4267080" y="3905280"/>
              <a:ext cx="31140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765" name="agent" descr=""/>
            <p:cNvPicPr/>
            <p:nvPr/>
          </p:nvPicPr>
          <p:blipFill>
            <a:blip r:embed="rId16"/>
            <a:stretch/>
          </p:blipFill>
          <p:spPr>
            <a:xfrm>
              <a:off x="5105520" y="3753000"/>
              <a:ext cx="31104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766" name="agent" descr=""/>
            <p:cNvPicPr/>
            <p:nvPr/>
          </p:nvPicPr>
          <p:blipFill>
            <a:blip r:embed="rId17"/>
            <a:stretch/>
          </p:blipFill>
          <p:spPr>
            <a:xfrm>
              <a:off x="6095880" y="3981600"/>
              <a:ext cx="31140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767" name="agent" descr=""/>
            <p:cNvPicPr/>
            <p:nvPr/>
          </p:nvPicPr>
          <p:blipFill>
            <a:blip r:embed="rId18"/>
            <a:stretch/>
          </p:blipFill>
          <p:spPr>
            <a:xfrm>
              <a:off x="5257800" y="4438800"/>
              <a:ext cx="31104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768" name="agent" descr=""/>
            <p:cNvPicPr/>
            <p:nvPr/>
          </p:nvPicPr>
          <p:blipFill>
            <a:blip r:embed="rId19"/>
            <a:stretch/>
          </p:blipFill>
          <p:spPr>
            <a:xfrm>
              <a:off x="6705720" y="3676680"/>
              <a:ext cx="31104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769" name=""/>
            <p:cNvSpPr/>
            <p:nvPr/>
          </p:nvSpPr>
          <p:spPr>
            <a:xfrm flipH="1">
              <a:off x="6476760" y="390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5562720" y="2152800"/>
            <a:ext cx="3352680" cy="977760"/>
            <a:chOff x="5562720" y="2152800"/>
            <a:chExt cx="3352680" cy="977760"/>
          </a:xfrm>
        </p:grpSpPr>
        <p:sp>
          <p:nvSpPr>
            <p:cNvPr id="771" name=""/>
            <p:cNvSpPr/>
            <p:nvPr/>
          </p:nvSpPr>
          <p:spPr>
            <a:xfrm>
              <a:off x="6172200" y="258444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6934320" y="248256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543800" y="267336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Médi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562720" y="215280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Archivis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5" name="agent" descr=""/>
            <p:cNvPicPr/>
            <p:nvPr/>
          </p:nvPicPr>
          <p:blipFill>
            <a:blip r:embed="rId20"/>
            <a:stretch/>
          </p:blipFill>
          <p:spPr>
            <a:xfrm>
              <a:off x="6858000" y="2152800"/>
              <a:ext cx="31104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776" name="agent" descr=""/>
            <p:cNvPicPr/>
            <p:nvPr/>
          </p:nvPicPr>
          <p:blipFill>
            <a:blip r:embed="rId21"/>
            <a:stretch/>
          </p:blipFill>
          <p:spPr>
            <a:xfrm>
              <a:off x="7238880" y="2152800"/>
              <a:ext cx="31140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777" name="agent" descr=""/>
            <p:cNvPicPr/>
            <p:nvPr/>
          </p:nvPicPr>
          <p:blipFill>
            <a:blip r:embed="rId22"/>
            <a:stretch/>
          </p:blipFill>
          <p:spPr>
            <a:xfrm>
              <a:off x="7620120" y="2152800"/>
              <a:ext cx="31104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778" name="agent" descr=""/>
            <p:cNvPicPr/>
            <p:nvPr/>
          </p:nvPicPr>
          <p:blipFill>
            <a:blip r:embed="rId23"/>
            <a:stretch/>
          </p:blipFill>
          <p:spPr>
            <a:xfrm>
              <a:off x="8001000" y="2152800"/>
              <a:ext cx="31104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779" name="agent" descr=""/>
            <p:cNvPicPr/>
            <p:nvPr/>
          </p:nvPicPr>
          <p:blipFill>
            <a:blip r:embed="rId24"/>
            <a:stretch/>
          </p:blipFill>
          <p:spPr>
            <a:xfrm>
              <a:off x="8381880" y="2152800"/>
              <a:ext cx="31140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780" name="agent" descr=""/>
            <p:cNvPicPr/>
            <p:nvPr/>
          </p:nvPicPr>
          <p:blipFill>
            <a:blip r:embed="rId25"/>
            <a:stretch/>
          </p:blipFill>
          <p:spPr>
            <a:xfrm>
              <a:off x="6858000" y="2749680"/>
              <a:ext cx="31104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781" name="agent" descr=""/>
            <p:cNvPicPr/>
            <p:nvPr/>
          </p:nvPicPr>
          <p:blipFill>
            <a:blip r:embed="rId26"/>
            <a:stretch/>
          </p:blipFill>
          <p:spPr>
            <a:xfrm>
              <a:off x="7238880" y="2749680"/>
              <a:ext cx="31140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782" name=""/>
            <p:cNvSpPr/>
            <p:nvPr/>
          </p:nvSpPr>
          <p:spPr>
            <a:xfrm flipV="1">
              <a:off x="7162920" y="2533320"/>
              <a:ext cx="12952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7010280" y="2533320"/>
              <a:ext cx="6098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228600" y="1219320"/>
            <a:ext cx="8839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52560" indent="-28584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2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Organisation société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9F21-A185-4261-8C88-D379DAB0C20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02b1a"/>
                </a:solidFill>
                <a:latin typeface="Bookman Old Style"/>
              </a:rPr>
              <a:t>Rôles Identifiés</a:t>
            </a: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786" name=""/>
          <p:cNvSpPr/>
          <p:nvPr/>
        </p:nvSpPr>
        <p:spPr>
          <a:xfrm>
            <a:off x="228600" y="-127080"/>
            <a:ext cx="883908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42800" indent="-44280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502b1a"/>
                </a:solidFill>
                <a:uFillTx/>
                <a:latin typeface="Bookman Old Style"/>
              </a:rPr>
              <a:t>Analyse des rôles identifiés</a:t>
            </a:r>
            <a:br>
              <a:rPr sz="3200"/>
            </a:br>
            <a:r>
              <a:rPr b="0" lang="fr-FR" sz="2600" spc="-1" strike="noStrike">
                <a:solidFill>
                  <a:srgbClr val="502b1a"/>
                </a:solidFill>
                <a:latin typeface="Bookman Old Style"/>
              </a:rPr>
              <a:t>Archiviste Ontologiste ; Archiviste Modèle d'Entreprise ; Archiviste d'Annotations ; Médiateur d'Annotations ; Apparieur Fédérable ; Contrôleur d'Interface ; Gestionnaire de profils ; Archiviste de profils</a:t>
            </a:r>
            <a:r>
              <a:rPr b="0" lang="en-US" sz="2600" spc="-1" strike="noStrike">
                <a:solidFill>
                  <a:srgbClr val="502b1a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4"/>
          <a:stretch/>
        </p:blipFill>
        <p:spPr>
          <a:xfrm>
            <a:off x="787320" y="2467080"/>
            <a:ext cx="8305920" cy="38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2BEB-9CE1-40D7-BA1A-D0542F4BEA2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"/>
          <p:cNvGrpSpPr/>
          <p:nvPr/>
        </p:nvGrpSpPr>
        <p:grpSpPr>
          <a:xfrm>
            <a:off x="863640" y="1752480"/>
            <a:ext cx="8204040" cy="4572000"/>
            <a:chOff x="863640" y="1752480"/>
            <a:chExt cx="8204040" cy="4572000"/>
          </a:xfrm>
        </p:grpSpPr>
        <p:sp>
          <p:nvSpPr>
            <p:cNvPr id="789" name=""/>
            <p:cNvSpPr/>
            <p:nvPr/>
          </p:nvSpPr>
          <p:spPr>
            <a:xfrm>
              <a:off x="863640" y="1752480"/>
              <a:ext cx="8204040" cy="457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914400" y="3218040"/>
              <a:ext cx="7881840" cy="1450800"/>
              <a:chOff x="914400" y="3218040"/>
              <a:chExt cx="7881840" cy="1450800"/>
            </a:xfrm>
          </p:grpSpPr>
          <p:sp>
            <p:nvSpPr>
              <p:cNvPr id="791" name=""/>
              <p:cNvSpPr/>
              <p:nvPr/>
            </p:nvSpPr>
            <p:spPr>
              <a:xfrm>
                <a:off x="914400" y="3218040"/>
                <a:ext cx="1641600" cy="379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AMLocal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urier New"/>
                  </a:rPr>
                  <a:t> : 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556000" y="3406680"/>
                <a:ext cx="203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591080" y="3218040"/>
                <a:ext cx="1050840" cy="379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urier New"/>
                  </a:rPr>
                  <a:t>* : 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745400" y="3218040"/>
                <a:ext cx="1050840" cy="379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urier New"/>
                  </a:rPr>
                  <a:t>* : A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641920" y="3406680"/>
                <a:ext cx="210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591080" y="4292640"/>
                <a:ext cx="1050840" cy="37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urier New"/>
                  </a:rPr>
                  <a:t>* : A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71760" y="4479840"/>
                <a:ext cx="30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1571760" y="3597120"/>
                <a:ext cx="0" cy="88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02b1a"/>
                </a:solidFill>
                <a:latin typeface="Bookman Old Style"/>
              </a:rPr>
              <a:t>Interactions entre agents (protocoles)</a:t>
            </a: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2286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52160" indent="-4521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502b1a"/>
                </a:solidFill>
                <a:uFillTx/>
                <a:latin typeface="Bookman Old Style"/>
              </a:rPr>
              <a:t>Protocoles des Interactions</a:t>
            </a: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  <a:p>
            <a:pPr lvl="1" marL="904680" indent="-27144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Graphe d'accointances</a:t>
            </a:r>
            <a:endParaRPr b="0" lang="en-US" sz="2900" spc="-1" strike="noStrike">
              <a:solidFill>
                <a:srgbClr val="502b1a"/>
              </a:solidFill>
              <a:latin typeface="Bookman Old Style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1571760" y="1828800"/>
            <a:ext cx="7419960" cy="4419720"/>
            <a:chOff x="1571760" y="1828800"/>
            <a:chExt cx="7419960" cy="4419720"/>
          </a:xfrm>
        </p:grpSpPr>
        <p:sp>
          <p:nvSpPr>
            <p:cNvPr id="802" name=""/>
            <p:cNvSpPr/>
            <p:nvPr/>
          </p:nvSpPr>
          <p:spPr>
            <a:xfrm>
              <a:off x="2622600" y="3343320"/>
              <a:ext cx="72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200400" y="3281400"/>
              <a:ext cx="14436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351160" y="2938320"/>
              <a:ext cx="11142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1: 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c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2368440" y="4349880"/>
              <a:ext cx="722520" cy="63360"/>
              <a:chOff x="2368440" y="4349880"/>
              <a:chExt cx="722520" cy="63360"/>
            </a:xfrm>
          </p:grpSpPr>
          <p:sp>
            <p:nvSpPr>
              <p:cNvPr id="806" name=""/>
              <p:cNvSpPr/>
              <p:nvPr/>
            </p:nvSpPr>
            <p:spPr>
              <a:xfrm>
                <a:off x="2368440" y="4413240"/>
                <a:ext cx="72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945520" y="4349880"/>
                <a:ext cx="145080" cy="4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8" name=""/>
            <p:cNvSpPr/>
            <p:nvPr/>
          </p:nvSpPr>
          <p:spPr>
            <a:xfrm>
              <a:off x="2098800" y="4037040"/>
              <a:ext cx="11127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2: 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c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5718240" y="3276720"/>
              <a:ext cx="722160" cy="63360"/>
              <a:chOff x="5718240" y="3276720"/>
              <a:chExt cx="722160" cy="6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5718240" y="3340080"/>
                <a:ext cx="72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295320" y="3276720"/>
                <a:ext cx="144720" cy="4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5446800" y="2963880"/>
              <a:ext cx="11142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2: 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c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561000" y="3411360"/>
              <a:ext cx="13129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3: prop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6889320" y="3475080"/>
              <a:ext cx="722520" cy="61920"/>
              <a:chOff x="6889320" y="3475080"/>
              <a:chExt cx="722520" cy="61920"/>
            </a:xfrm>
          </p:grpSpPr>
          <p:sp>
            <p:nvSpPr>
              <p:cNvPr id="815" name=""/>
              <p:cNvSpPr/>
              <p:nvPr/>
            </p:nvSpPr>
            <p:spPr>
              <a:xfrm flipH="1">
                <a:off x="6889320" y="3475080"/>
                <a:ext cx="72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 flipV="1">
                <a:off x="6889680" y="3489480"/>
                <a:ext cx="14508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3411360" y="4540320"/>
              <a:ext cx="13129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3: prop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3754440" y="4540320"/>
              <a:ext cx="722160" cy="63360"/>
              <a:chOff x="3754440" y="4540320"/>
              <a:chExt cx="722160" cy="63360"/>
            </a:xfrm>
          </p:grpSpPr>
          <p:sp>
            <p:nvSpPr>
              <p:cNvPr id="819" name=""/>
              <p:cNvSpPr/>
              <p:nvPr/>
            </p:nvSpPr>
            <p:spPr>
              <a:xfrm flipH="1">
                <a:off x="3754440" y="4540320"/>
                <a:ext cx="72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 flipV="1">
                <a:off x="3754800" y="4555080"/>
                <a:ext cx="145080" cy="4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1" name=""/>
            <p:cNvSpPr/>
            <p:nvPr/>
          </p:nvSpPr>
          <p:spPr>
            <a:xfrm flipV="1">
              <a:off x="3016080" y="2587320"/>
              <a:ext cx="395280" cy="439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 flipV="1">
              <a:off x="4986360" y="2587320"/>
              <a:ext cx="789120" cy="439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3016080" y="2587320"/>
              <a:ext cx="1051200" cy="157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3016080" y="1828440"/>
              <a:ext cx="2954520" cy="758880"/>
            </a:xfrm>
            <a:prstGeom prst="foldedCorner">
              <a:avLst>
                <a:gd name="adj" fmla="val 87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83040" y="1828800"/>
              <a:ext cx="28875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:protocol fipa contract 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:content &lt;RDF Annotation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:language CoMMA-RD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:ontology CoMMA Ont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949480" y="2838600"/>
              <a:ext cx="2168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5: accept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re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4591080" y="5238000"/>
              <a:ext cx="4400640" cy="1009800"/>
            </a:xfrm>
            <a:prstGeom prst="foldedCorner">
              <a:avLst>
                <a:gd name="adj" fmla="val 70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643280" y="5302080"/>
              <a:ext cx="42166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:protocol fipa contract 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:content &lt;propose bid = distance to current archive / refuse / not understoo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:language CoMMA-RD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:ontology CoMMA Ont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 flipV="1">
              <a:off x="7283160" y="3720960"/>
              <a:ext cx="855720" cy="1517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4525560" y="4859280"/>
              <a:ext cx="3019320" cy="37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11360" y="3406680"/>
              <a:ext cx="13129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4: prop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3738240" y="3470400"/>
              <a:ext cx="723960" cy="63360"/>
              <a:chOff x="3738240" y="3470400"/>
              <a:chExt cx="723960" cy="63360"/>
            </a:xfrm>
          </p:grpSpPr>
          <p:sp>
            <p:nvSpPr>
              <p:cNvPr id="833" name=""/>
              <p:cNvSpPr/>
              <p:nvPr/>
            </p:nvSpPr>
            <p:spPr>
              <a:xfrm flipH="1">
                <a:off x="3738240" y="3470400"/>
                <a:ext cx="72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 flipV="1">
                <a:off x="3738600" y="3485160"/>
                <a:ext cx="145440" cy="4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 flipH="1" flipV="1">
              <a:off x="4525560" y="3657600"/>
              <a:ext cx="3414600" cy="1581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" name=""/>
            <p:cNvGrpSpPr/>
            <p:nvPr/>
          </p:nvGrpSpPr>
          <p:grpSpPr>
            <a:xfrm>
              <a:off x="3673440" y="3281400"/>
              <a:ext cx="722520" cy="61920"/>
              <a:chOff x="3673440" y="3281400"/>
              <a:chExt cx="722520" cy="61920"/>
            </a:xfrm>
          </p:grpSpPr>
          <p:sp>
            <p:nvSpPr>
              <p:cNvPr id="837" name=""/>
              <p:cNvSpPr/>
              <p:nvPr/>
            </p:nvSpPr>
            <p:spPr>
              <a:xfrm>
                <a:off x="3673440" y="3343320"/>
                <a:ext cx="72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250520" y="3281400"/>
                <a:ext cx="145080" cy="4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>
              <a:off x="2884320" y="3913200"/>
              <a:ext cx="2168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6: accept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re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3606840" y="4352760"/>
              <a:ext cx="722160" cy="63720"/>
              <a:chOff x="3606840" y="4352760"/>
              <a:chExt cx="722160" cy="63720"/>
            </a:xfrm>
          </p:grpSpPr>
          <p:sp>
            <p:nvSpPr>
              <p:cNvPr id="841" name=""/>
              <p:cNvSpPr/>
              <p:nvPr/>
            </p:nvSpPr>
            <p:spPr>
              <a:xfrm>
                <a:off x="3606840" y="4416480"/>
                <a:ext cx="72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183560" y="4352760"/>
                <a:ext cx="145080" cy="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" name=""/>
            <p:cNvSpPr/>
            <p:nvPr/>
          </p:nvSpPr>
          <p:spPr>
            <a:xfrm>
              <a:off x="6167520" y="2838600"/>
              <a:ext cx="21668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6: accept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re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6889680" y="3281400"/>
              <a:ext cx="722520" cy="61920"/>
              <a:chOff x="6889680" y="3281400"/>
              <a:chExt cx="722520" cy="61920"/>
            </a:xfrm>
          </p:grpSpPr>
          <p:sp>
            <p:nvSpPr>
              <p:cNvPr id="845" name=""/>
              <p:cNvSpPr/>
              <p:nvPr/>
            </p:nvSpPr>
            <p:spPr>
              <a:xfrm>
                <a:off x="6889680" y="3343320"/>
                <a:ext cx="72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466760" y="3281400"/>
                <a:ext cx="145080" cy="4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" name=""/>
            <p:cNvSpPr/>
            <p:nvPr/>
          </p:nvSpPr>
          <p:spPr>
            <a:xfrm>
              <a:off x="2031840" y="4543560"/>
              <a:ext cx="13129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7: 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in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2374920" y="4543560"/>
              <a:ext cx="722160" cy="63360"/>
              <a:chOff x="2374920" y="4543560"/>
              <a:chExt cx="722160" cy="63360"/>
            </a:xfrm>
          </p:grpSpPr>
          <p:sp>
            <p:nvSpPr>
              <p:cNvPr id="849" name=""/>
              <p:cNvSpPr/>
              <p:nvPr/>
            </p:nvSpPr>
            <p:spPr>
              <a:xfrm flipH="1">
                <a:off x="2374920" y="4543560"/>
                <a:ext cx="72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flipV="1">
                <a:off x="2375280" y="4558320"/>
                <a:ext cx="145080" cy="4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5380200" y="3503520"/>
              <a:ext cx="13143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7: 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in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2" name=""/>
            <p:cNvGrpSpPr/>
            <p:nvPr/>
          </p:nvGrpSpPr>
          <p:grpSpPr>
            <a:xfrm>
              <a:off x="5722560" y="3503160"/>
              <a:ext cx="723960" cy="63720"/>
              <a:chOff x="5722560" y="3503160"/>
              <a:chExt cx="723960" cy="63720"/>
            </a:xfrm>
          </p:grpSpPr>
          <p:sp>
            <p:nvSpPr>
              <p:cNvPr id="853" name=""/>
              <p:cNvSpPr/>
              <p:nvPr/>
            </p:nvSpPr>
            <p:spPr>
              <a:xfrm flipH="1">
                <a:off x="5722560" y="3503160"/>
                <a:ext cx="72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 flipV="1">
                <a:off x="5722920" y="3517920"/>
                <a:ext cx="145440" cy="4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>
              <a:off x="2397240" y="3456000"/>
              <a:ext cx="1315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8: 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in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6" name=""/>
            <p:cNvGrpSpPr/>
            <p:nvPr/>
          </p:nvGrpSpPr>
          <p:grpSpPr>
            <a:xfrm>
              <a:off x="2637000" y="3470400"/>
              <a:ext cx="722160" cy="63360"/>
              <a:chOff x="2637000" y="3470400"/>
              <a:chExt cx="722160" cy="63360"/>
            </a:xfrm>
          </p:grpSpPr>
          <p:sp>
            <p:nvSpPr>
              <p:cNvPr id="857" name=""/>
              <p:cNvSpPr/>
              <p:nvPr/>
            </p:nvSpPr>
            <p:spPr>
              <a:xfrm flipH="1">
                <a:off x="2637000" y="3470400"/>
                <a:ext cx="72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 flipV="1">
                <a:off x="2637360" y="3485160"/>
                <a:ext cx="145080" cy="4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9" name=""/>
            <p:cNvSpPr/>
            <p:nvPr/>
          </p:nvSpPr>
          <p:spPr>
            <a:xfrm>
              <a:off x="1571760" y="2395440"/>
              <a:ext cx="0" cy="758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2832120" y="2819520"/>
            <a:ext cx="3809880" cy="1981080"/>
            <a:chOff x="2832120" y="2819520"/>
            <a:chExt cx="3809880" cy="1981080"/>
          </a:xfrm>
        </p:grpSpPr>
        <p:sp>
          <p:nvSpPr>
            <p:cNvPr id="861" name=""/>
            <p:cNvSpPr/>
            <p:nvPr/>
          </p:nvSpPr>
          <p:spPr>
            <a:xfrm>
              <a:off x="2832120" y="2971800"/>
              <a:ext cx="45720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517920" y="2819520"/>
              <a:ext cx="990360" cy="457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803920" y="3505320"/>
              <a:ext cx="8380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93880" y="4572000"/>
              <a:ext cx="99072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4610160" y="5245200"/>
            <a:ext cx="2806560" cy="1003320"/>
            <a:chOff x="4610160" y="5245200"/>
            <a:chExt cx="2806560" cy="1003320"/>
          </a:xfrm>
        </p:grpSpPr>
        <p:sp>
          <p:nvSpPr>
            <p:cNvPr id="866" name=""/>
            <p:cNvSpPr/>
            <p:nvPr/>
          </p:nvSpPr>
          <p:spPr>
            <a:xfrm>
              <a:off x="4610160" y="5245200"/>
              <a:ext cx="274320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73520" y="6019920"/>
              <a:ext cx="274320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228600" y="10666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942840" indent="-282960">
              <a:lnSpc>
                <a:spcPct val="100000"/>
              </a:lnSpc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Séquences de messag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3770-FBA2-478D-98CA-C0F7E0CBDF6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02b1a"/>
                </a:solidFill>
                <a:latin typeface="Bookman Old Style"/>
              </a:rPr>
              <a:t>message requête sur les mémo</a:t>
            </a: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837720" y="0"/>
            <a:ext cx="83948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(QUERY-REF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sender  ( agent-identifier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                      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name localUPM@fapollo:1099/JADE)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receiver  (set ( agent-identifier 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                      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name AM@fapollo:1099/JADE) )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content  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((all ?x (is-answer-for 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          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(query 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pattern "&lt;?xml version =\"1.0\"?&gt;  &lt;rdf:RDF xml:lang="en" xmlns:rdf= "http://www.w3.org/1999/02/22-rdf-syntax-ns#" xmlns:comma="http://www.inria.fr/acacia/comma#"&gt;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&lt;comma:Memo&gt;&lt;comma:Designation&gt;?&lt;/comma:Designation&gt;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&lt;/comma:Memo&gt;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&lt;/rdf:RDF&gt;" ) ?x ) ) )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reply-with  QuerylocalUPM987683105872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language  CoMMA-RDF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ontology  CoMMA-annotation-ontology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protocol  FIPA-Query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conversation-id  QuerylocalUPM987683105872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1AB1-3B68-48EF-B50B-40E657BBE01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02b1a"/>
                </a:solidFill>
                <a:latin typeface="Bookman Old Style"/>
              </a:rPr>
              <a:t>message : FIPA ACL</a:t>
            </a: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837720" y="0"/>
            <a:ext cx="83948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(QUERY-REF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:sender  ( agent-identifier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                           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:name localUPM@fapollo:1099/JADE)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:receiver  (set ( agent-identifier 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                           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:name AM@fapollo:1099/JADE) )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:content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((all ?x (is-answer-for 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          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(query 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pattern "&lt;?xml version =\"1.0\"?&gt;  &lt;rdf:RDF xml:lang="en" xmlns:rdf= "http://www.w3.org/1999/02/22-rdf-syntax-ns#" xmlns:comma="http://www.inria.fr/acacia/comma#"&gt;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&lt;comma:Memo&gt;&lt;comma:Designation&gt;?&lt;/comma:Designation&gt;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&lt;/comma:Memo&gt;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&lt;/rdf:RDF&gt;" ) ?x ) ) )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:reply-with  QuerylocalUPM987683105872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:language  CoMMA-RDF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:ontology  CoMMA-annotation-ontology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:protocol  FIPA-Query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:conversation-id  QuerylocalUPM987683105872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0F69-E72A-4F02-9AE0-F1F74FAE274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02b1a"/>
                </a:solidFill>
                <a:latin typeface="Bookman Old Style"/>
              </a:rPr>
              <a:t>message : CoMMA ACL</a:t>
            </a: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837720" y="0"/>
            <a:ext cx="83948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(QUERY-REF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sender  ( agent-identifier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                      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name localUPM@fapollo:1099/JADE)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receiver  (set ( agent-identifier 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                      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name AM@fapollo:1099/JADE) )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content  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((all ?x (is-answer-for 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               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(query 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:pattern "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&lt;?xml version =\"1.0\"?&gt;  &lt;rdf:RDF xml:lang="en" xmlns:rdf= "http://www.w3.org/1999/02/22-rdf-syntax-ns#" xmlns:comma="http://www.inria.fr/acacia/comma#"&gt;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&lt;comma:Memo&gt;&lt;comma:Designation&gt;?&lt;/comma:Designation&gt;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&lt;/comma:Memo&gt;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&lt;/rdf:RDF&gt;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" ) ?x ) ) )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reply-with  QuerylocalUPM987683105872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language  CoMMA-RDF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ontology  CoMMA-annotation-ontology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protocol  FIPA-Query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conversation-id  QuerylocalUPM987683105872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EE8A-ACB2-47F5-8F28-4AE2794D975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02b1a"/>
                </a:solidFill>
                <a:latin typeface="Bookman Old Style"/>
              </a:rPr>
              <a:t>message : CoMMA O'COMMA RDF(S) </a:t>
            </a: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37720" y="0"/>
            <a:ext cx="83948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(QUERY-REF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sender  ( agent-identifier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                      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name localUPM@fapollo:1099/JADE)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receiver  (set ( agent-identifier 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                      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name AM@fapollo:1099/JADE) )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content  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((all ?x (is-answer-for 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          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(query 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pattern "</a:t>
            </a:r>
            <a:r>
              <a:rPr b="0" lang="fr-FR" sz="1900" spc="-1" strike="noStrike">
                <a:solidFill>
                  <a:srgbClr val="cc0000"/>
                </a:solidFill>
                <a:latin typeface="Arial"/>
              </a:rPr>
              <a:t>&lt;?xml version =\"1.0\"?&gt;  &lt;rdf:RDF xml:lang="en" xmlns:rdf= "http://www.w3.org/1999/02/22-rdf-syntax-ns#" xmlns:comma="http://www.inria.fr/acacia/comma#"&gt;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cc0000"/>
                </a:solidFill>
                <a:latin typeface="Arial"/>
              </a:rPr>
              <a:t>&lt;comma:Memo&gt;&lt;comma:Designation&gt;?&lt;/comma:Designation&gt;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cc0000"/>
                </a:solidFill>
                <a:latin typeface="Arial"/>
              </a:rPr>
              <a:t>&lt;/comma:Memo&gt;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cc0000"/>
                </a:solidFill>
                <a:latin typeface="Arial"/>
              </a:rPr>
              <a:t>&lt;/rdf:RDF&gt;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"</a:t>
            </a:r>
            <a:r>
              <a:rPr b="0" lang="fr-FR" sz="19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) ?x ) ) )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reply-with  QuerylocalUPM987683105872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language  CoMMA-RDF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ontology  CoMMA-annotation-ontology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protocol  FIPA-Query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:conversation-id  QuerylocalUPM987683105872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02b1a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DDD2-6FD3-45D7-B359-442D24397D7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8600" y="0"/>
            <a:ext cx="89917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502b1a"/>
                </a:solidFill>
                <a:uFillTx/>
                <a:latin typeface="Bookman Old Style"/>
              </a:rPr>
              <a:t>Types d'agents</a:t>
            </a:r>
            <a:r>
              <a:rPr b="0" lang="fr-FR" sz="3200" spc="-1" strike="noStrike">
                <a:solidFill>
                  <a:srgbClr val="502b1a"/>
                </a:solidFill>
                <a:latin typeface="Bookman Old Style"/>
              </a:rPr>
              <a:t>, implantation des comportements et compé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Bookman Old Style"/>
              </a:rPr>
              <a:t>Architecture + Rôles + Protocoles + Comportements + Compétences = S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502b1a"/>
                </a:solidFill>
                <a:uFillTx/>
                <a:latin typeface="Bookman Old Style"/>
              </a:rPr>
              <a:t>Exemple</a:t>
            </a:r>
            <a:r>
              <a:rPr b="0" lang="fr-FR" sz="3200" spc="-1" strike="noStrike">
                <a:solidFill>
                  <a:srgbClr val="502b1a"/>
                </a:solidFill>
                <a:latin typeface="Bookman Old Style"/>
              </a:rPr>
              <a:t> société dédiée aux anno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02b1a"/>
                </a:solidFill>
                <a:latin typeface="Bookman Old Style"/>
              </a:rPr>
              <a:t>Types et comportements ; exemple société annotations</a:t>
            </a: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2895480" y="2800440"/>
            <a:ext cx="3886200" cy="1390680"/>
            <a:chOff x="2895480" y="2800440"/>
            <a:chExt cx="3886200" cy="1390680"/>
          </a:xfrm>
        </p:grpSpPr>
        <p:sp>
          <p:nvSpPr>
            <p:cNvPr id="880" name=""/>
            <p:cNvSpPr/>
            <p:nvPr/>
          </p:nvSpPr>
          <p:spPr>
            <a:xfrm>
              <a:off x="2895480" y="2819520"/>
              <a:ext cx="3886200" cy="137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29000" y="280044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: annot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62520" y="363204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4724280" y="353016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334120" y="372096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Médi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52680" y="3200400"/>
              <a:ext cx="1752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Archivis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6" name="agent" descr=""/>
            <p:cNvPicPr/>
            <p:nvPr/>
          </p:nvPicPr>
          <p:blipFill>
            <a:blip r:embed="rId5"/>
            <a:stretch/>
          </p:blipFill>
          <p:spPr>
            <a:xfrm>
              <a:off x="4648320" y="3200400"/>
              <a:ext cx="31104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887" name="agent" descr=""/>
            <p:cNvPicPr/>
            <p:nvPr/>
          </p:nvPicPr>
          <p:blipFill>
            <a:blip r:embed="rId6"/>
            <a:stretch/>
          </p:blipFill>
          <p:spPr>
            <a:xfrm>
              <a:off x="5029200" y="3200400"/>
              <a:ext cx="31104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888" name="agent" descr=""/>
            <p:cNvPicPr/>
            <p:nvPr/>
          </p:nvPicPr>
          <p:blipFill>
            <a:blip r:embed="rId7"/>
            <a:stretch/>
          </p:blipFill>
          <p:spPr>
            <a:xfrm>
              <a:off x="5410080" y="3200400"/>
              <a:ext cx="31140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889" name="agent" descr=""/>
            <p:cNvPicPr/>
            <p:nvPr/>
          </p:nvPicPr>
          <p:blipFill>
            <a:blip r:embed="rId8"/>
            <a:stretch/>
          </p:blipFill>
          <p:spPr>
            <a:xfrm>
              <a:off x="5791320" y="3200400"/>
              <a:ext cx="31104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890" name="agent" descr=""/>
            <p:cNvPicPr/>
            <p:nvPr/>
          </p:nvPicPr>
          <p:blipFill>
            <a:blip r:embed="rId9"/>
            <a:stretch/>
          </p:blipFill>
          <p:spPr>
            <a:xfrm>
              <a:off x="6172200" y="3200400"/>
              <a:ext cx="31104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891" name="agent" descr=""/>
            <p:cNvPicPr/>
            <p:nvPr/>
          </p:nvPicPr>
          <p:blipFill>
            <a:blip r:embed="rId10"/>
            <a:stretch/>
          </p:blipFill>
          <p:spPr>
            <a:xfrm>
              <a:off x="4648320" y="3797280"/>
              <a:ext cx="31104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892" name="agent" descr=""/>
            <p:cNvPicPr/>
            <p:nvPr/>
          </p:nvPicPr>
          <p:blipFill>
            <a:blip r:embed="rId11"/>
            <a:stretch/>
          </p:blipFill>
          <p:spPr>
            <a:xfrm>
              <a:off x="5029200" y="3797280"/>
              <a:ext cx="311040" cy="314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893" name="" descr=""/>
            <p:cNvPicPr/>
            <p:nvPr/>
          </p:nvPicPr>
          <p:blipFill>
            <a:blip r:embed="rId12"/>
            <a:stretch/>
          </p:blipFill>
          <p:spPr>
            <a:xfrm>
              <a:off x="3048120" y="291132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894" name=""/>
            <p:cNvSpPr/>
            <p:nvPr/>
          </p:nvSpPr>
          <p:spPr>
            <a:xfrm flipV="1">
              <a:off x="4952880" y="3581280"/>
              <a:ext cx="12956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4800600" y="3581280"/>
              <a:ext cx="6094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76320" y="4267080"/>
            <a:ext cx="89913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902160" indent="-28008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AM alloue les nouvelles annotations aux AA </a:t>
            </a:r>
            <a:r>
              <a:rPr b="0" lang="fr-FR" sz="2900" spc="-1" strike="noStrike">
                <a:solidFill>
                  <a:srgbClr val="502b1a"/>
                </a:solidFill>
                <a:latin typeface="Symbol"/>
                <a:ea typeface="Symbol"/>
              </a:rPr>
              <a:t></a:t>
            </a: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 critère alloc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02160" indent="-28008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AM résout les requêtes en tenant compte de la distribution entre AA </a:t>
            </a:r>
            <a:r>
              <a:rPr b="0" lang="fr-FR" sz="2900" spc="-1" strike="noStrike">
                <a:solidFill>
                  <a:srgbClr val="502b1a"/>
                </a:solidFill>
                <a:latin typeface="Symbol"/>
                <a:ea typeface="Symbol"/>
              </a:rPr>
              <a:t></a:t>
            </a: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 description de la distribu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1B82-1694-467D-874C-94F82991CA2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02b1a"/>
                </a:solidFill>
                <a:latin typeface="Bookman Old Style"/>
              </a:rPr>
              <a:t>Contrat allocation: distance utilisant hiérarchie ontologie</a:t>
            </a: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2"/>
          <a:stretch/>
        </p:blipFill>
        <p:spPr>
          <a:xfrm>
            <a:off x="1158840" y="141120"/>
            <a:ext cx="7680240" cy="610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B1C2-147A-49BE-A17C-F6609B31A95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642636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02b1a"/>
                </a:solidFill>
                <a:latin typeface="Bookman Old Style"/>
              </a:rPr>
              <a:t>Le contexte de CoMMA</a:t>
            </a: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5920" y="-76680"/>
            <a:ext cx="89377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02b1a"/>
                </a:solidFill>
                <a:latin typeface="Bookman Old Style"/>
              </a:rPr>
              <a:t>Contexte de CoMMA</a:t>
            </a: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6680" y="533520"/>
            <a:ext cx="7772400" cy="4418640"/>
            <a:chOff x="1066680" y="533520"/>
            <a:chExt cx="7772400" cy="4418640"/>
          </a:xfrm>
        </p:grpSpPr>
        <p:grpSp>
          <p:nvGrpSpPr>
            <p:cNvPr id="88" name=""/>
            <p:cNvGrpSpPr/>
            <p:nvPr/>
          </p:nvGrpSpPr>
          <p:grpSpPr>
            <a:xfrm>
              <a:off x="1066680" y="533520"/>
              <a:ext cx="7772400" cy="4379760"/>
              <a:chOff x="1066680" y="533520"/>
              <a:chExt cx="7772400" cy="4379760"/>
            </a:xfrm>
          </p:grpSpPr>
          <p:sp>
            <p:nvSpPr>
              <p:cNvPr id="89" name=""/>
              <p:cNvSpPr/>
              <p:nvPr/>
            </p:nvSpPr>
            <p:spPr>
              <a:xfrm>
                <a:off x="1066680" y="533520"/>
                <a:ext cx="7772400" cy="437976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4182840" y="612720"/>
                <a:ext cx="1657080" cy="4180680"/>
                <a:chOff x="4182840" y="612720"/>
                <a:chExt cx="1657080" cy="41806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4182840" y="771120"/>
                  <a:ext cx="1500120" cy="4022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341600" y="612720"/>
                  <a:ext cx="1498320" cy="239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0" bIns="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émoire d'entrepris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873080" y="1966680"/>
                <a:ext cx="6532560" cy="994680"/>
                <a:chOff x="1873080" y="1966680"/>
                <a:chExt cx="6532560" cy="9946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873080" y="2052000"/>
                  <a:ext cx="6392880" cy="9093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686640" y="1966680"/>
                  <a:ext cx="1719000" cy="237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10800" bIns="10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fr-FR" sz="900" spc="-1" strike="noStrike">
                      <a:solidFill>
                        <a:srgbClr val="000000"/>
                      </a:solidFill>
                      <a:latin typeface="Courier New"/>
                    </a:rPr>
                    <a:t>Système Multi-Ag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743440" y="2138040"/>
                  <a:ext cx="789120" cy="158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895400" y="2628360"/>
                  <a:ext cx="66996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289240" y="2188800"/>
                  <a:ext cx="828720" cy="1756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99" name="agen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62080" y="2279160"/>
                  <a:ext cx="31140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100" name=""/>
                <p:cNvGrpSpPr/>
                <p:nvPr/>
              </p:nvGrpSpPr>
              <p:grpSpPr>
                <a:xfrm>
                  <a:off x="5840280" y="2285640"/>
                  <a:ext cx="908280" cy="636120"/>
                  <a:chOff x="5840280" y="2285640"/>
                  <a:chExt cx="908280" cy="63612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5840280" y="2645640"/>
                    <a:ext cx="908280" cy="27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group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d'intérêt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2" name="agent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6400" y="2285640"/>
                    <a:ext cx="311760" cy="31392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grpSp>
            <p:sp>
              <p:nvSpPr>
                <p:cNvPr id="103" name=""/>
                <p:cNvSpPr/>
                <p:nvPr/>
              </p:nvSpPr>
              <p:spPr>
                <a:xfrm>
                  <a:off x="4183200" y="2053800"/>
                  <a:ext cx="1500120" cy="9075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4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201840" y="2329920"/>
                  <a:ext cx="31140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>
                  <a:off x="2921040" y="2684160"/>
                  <a:ext cx="907920" cy="2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Ontologie et Modèle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748560" y="2680920"/>
                  <a:ext cx="828720" cy="2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221600" y="2241000"/>
                  <a:ext cx="828720" cy="1630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8" name="agent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994440" y="2331720"/>
                  <a:ext cx="31140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109" name=""/>
                <p:cNvGrpSpPr/>
                <p:nvPr/>
              </p:nvGrpSpPr>
              <p:grpSpPr>
                <a:xfrm>
                  <a:off x="3710160" y="2098080"/>
                  <a:ext cx="907920" cy="634680"/>
                  <a:chOff x="3710160" y="2098080"/>
                  <a:chExt cx="907920" cy="634680"/>
                </a:xfrm>
              </p:grpSpPr>
              <p:pic>
                <p:nvPicPr>
                  <p:cNvPr id="110" name="agent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86280" y="2098080"/>
                    <a:ext cx="311760" cy="3142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  <p:sp>
                <p:nvSpPr>
                  <p:cNvPr id="111" name=""/>
                  <p:cNvSpPr/>
                  <p:nvPr/>
                </p:nvSpPr>
                <p:spPr>
                  <a:xfrm>
                    <a:off x="3710160" y="2456280"/>
                    <a:ext cx="907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d'inter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connexi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2" name=""/>
            <p:cNvGrpSpPr/>
            <p:nvPr/>
          </p:nvGrpSpPr>
          <p:grpSpPr>
            <a:xfrm>
              <a:off x="1223640" y="3001680"/>
              <a:ext cx="1101240" cy="1551960"/>
              <a:chOff x="1223640" y="3001680"/>
              <a:chExt cx="1101240" cy="1551960"/>
            </a:xfrm>
          </p:grpSpPr>
          <p:sp>
            <p:nvSpPr>
              <p:cNvPr id="113" name=""/>
              <p:cNvSpPr/>
              <p:nvPr/>
            </p:nvSpPr>
            <p:spPr>
              <a:xfrm>
                <a:off x="1223640" y="3957120"/>
                <a:ext cx="1074600" cy="59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Ingénieur d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la connaiss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1895040" y="3001680"/>
                <a:ext cx="429840" cy="1180800"/>
                <a:chOff x="1895040" y="3001680"/>
                <a:chExt cx="429840" cy="1180800"/>
              </a:xfrm>
            </p:grpSpPr>
            <p:grpSp>
              <p:nvGrpSpPr>
                <p:cNvPr id="115" name=""/>
                <p:cNvGrpSpPr/>
                <p:nvPr/>
              </p:nvGrpSpPr>
              <p:grpSpPr>
                <a:xfrm>
                  <a:off x="1895040" y="3001680"/>
                  <a:ext cx="210960" cy="97920"/>
                  <a:chOff x="1895040" y="3001680"/>
                  <a:chExt cx="210960" cy="9792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1895040" y="3075480"/>
                    <a:ext cx="518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69">
                        <a:moveTo>
                          <a:pt x="149" y="69"/>
                        </a:moveTo>
                        <a:lnTo>
                          <a:pt x="25" y="48"/>
                        </a:lnTo>
                        <a:lnTo>
                          <a:pt x="0" y="23"/>
                        </a:lnTo>
                        <a:lnTo>
                          <a:pt x="10" y="2"/>
                        </a:lnTo>
                        <a:lnTo>
                          <a:pt x="39" y="0"/>
                        </a:lnTo>
                        <a:lnTo>
                          <a:pt x="149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1946880" y="3012120"/>
                    <a:ext cx="2268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5">
                        <a:moveTo>
                          <a:pt x="66" y="115"/>
                        </a:moveTo>
                        <a:lnTo>
                          <a:pt x="0" y="42"/>
                        </a:lnTo>
                        <a:lnTo>
                          <a:pt x="7" y="11"/>
                        </a:lnTo>
                        <a:lnTo>
                          <a:pt x="39" y="0"/>
                        </a:lnTo>
                        <a:lnTo>
                          <a:pt x="57" y="22"/>
                        </a:lnTo>
                        <a:lnTo>
                          <a:pt x="66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2019600" y="3001680"/>
                    <a:ext cx="194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8">
                        <a:moveTo>
                          <a:pt x="9" y="138"/>
                        </a:moveTo>
                        <a:lnTo>
                          <a:pt x="0" y="35"/>
                        </a:lnTo>
                        <a:lnTo>
                          <a:pt x="30" y="0"/>
                        </a:lnTo>
                        <a:lnTo>
                          <a:pt x="56" y="15"/>
                        </a:lnTo>
                        <a:lnTo>
                          <a:pt x="52" y="42"/>
                        </a:lnTo>
                        <a:lnTo>
                          <a:pt x="9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2059920" y="3039120"/>
                    <a:ext cx="46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6">
                        <a:moveTo>
                          <a:pt x="0" y="86"/>
                        </a:moveTo>
                        <a:lnTo>
                          <a:pt x="100" y="0"/>
                        </a:lnTo>
                        <a:lnTo>
                          <a:pt x="135" y="17"/>
                        </a:lnTo>
                        <a:lnTo>
                          <a:pt x="132" y="45"/>
                        </a:lnTo>
                        <a:lnTo>
                          <a:pt x="114" y="59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1969560" y="3071520"/>
                  <a:ext cx="355320" cy="1110960"/>
                  <a:chOff x="1969560" y="3071520"/>
                  <a:chExt cx="355320" cy="111096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2033640" y="3254400"/>
                    <a:ext cx="17856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54">
                        <a:moveTo>
                          <a:pt x="366" y="160"/>
                        </a:moveTo>
                        <a:lnTo>
                          <a:pt x="297" y="56"/>
                        </a:lnTo>
                        <a:lnTo>
                          <a:pt x="228" y="0"/>
                        </a:lnTo>
                        <a:lnTo>
                          <a:pt x="145" y="0"/>
                        </a:lnTo>
                        <a:lnTo>
                          <a:pt x="55" y="36"/>
                        </a:lnTo>
                        <a:lnTo>
                          <a:pt x="14" y="97"/>
                        </a:lnTo>
                        <a:lnTo>
                          <a:pt x="0" y="181"/>
                        </a:lnTo>
                        <a:lnTo>
                          <a:pt x="14" y="291"/>
                        </a:lnTo>
                        <a:lnTo>
                          <a:pt x="69" y="416"/>
                        </a:lnTo>
                        <a:lnTo>
                          <a:pt x="166" y="499"/>
                        </a:lnTo>
                        <a:lnTo>
                          <a:pt x="241" y="540"/>
                        </a:lnTo>
                        <a:lnTo>
                          <a:pt x="318" y="554"/>
                        </a:lnTo>
                        <a:lnTo>
                          <a:pt x="380" y="533"/>
                        </a:lnTo>
                        <a:lnTo>
                          <a:pt x="414" y="499"/>
                        </a:lnTo>
                        <a:lnTo>
                          <a:pt x="436" y="416"/>
                        </a:lnTo>
                        <a:lnTo>
                          <a:pt x="429" y="319"/>
                        </a:lnTo>
                        <a:lnTo>
                          <a:pt x="407" y="237"/>
                        </a:lnTo>
                        <a:lnTo>
                          <a:pt x="545" y="160"/>
                        </a:lnTo>
                        <a:lnTo>
                          <a:pt x="560" y="126"/>
                        </a:lnTo>
                        <a:lnTo>
                          <a:pt x="545" y="111"/>
                        </a:lnTo>
                        <a:lnTo>
                          <a:pt x="393" y="201"/>
                        </a:lnTo>
                        <a:lnTo>
                          <a:pt x="366" y="1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2161440" y="3071520"/>
                    <a:ext cx="158760" cy="43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1238">
                        <a:moveTo>
                          <a:pt x="138" y="1045"/>
                        </a:moveTo>
                        <a:lnTo>
                          <a:pt x="47" y="1113"/>
                        </a:lnTo>
                        <a:lnTo>
                          <a:pt x="20" y="1135"/>
                        </a:lnTo>
                        <a:lnTo>
                          <a:pt x="0" y="1183"/>
                        </a:lnTo>
                        <a:lnTo>
                          <a:pt x="27" y="1231"/>
                        </a:lnTo>
                        <a:lnTo>
                          <a:pt x="54" y="1238"/>
                        </a:lnTo>
                        <a:lnTo>
                          <a:pt x="138" y="1210"/>
                        </a:lnTo>
                        <a:lnTo>
                          <a:pt x="262" y="1113"/>
                        </a:lnTo>
                        <a:lnTo>
                          <a:pt x="373" y="997"/>
                        </a:lnTo>
                        <a:lnTo>
                          <a:pt x="491" y="864"/>
                        </a:lnTo>
                        <a:lnTo>
                          <a:pt x="498" y="809"/>
                        </a:lnTo>
                        <a:lnTo>
                          <a:pt x="498" y="658"/>
                        </a:lnTo>
                        <a:lnTo>
                          <a:pt x="464" y="422"/>
                        </a:lnTo>
                        <a:lnTo>
                          <a:pt x="484" y="284"/>
                        </a:lnTo>
                        <a:lnTo>
                          <a:pt x="498" y="228"/>
                        </a:lnTo>
                        <a:lnTo>
                          <a:pt x="477" y="201"/>
                        </a:lnTo>
                        <a:lnTo>
                          <a:pt x="428" y="173"/>
                        </a:lnTo>
                        <a:lnTo>
                          <a:pt x="394" y="153"/>
                        </a:lnTo>
                        <a:lnTo>
                          <a:pt x="414" y="28"/>
                        </a:lnTo>
                        <a:lnTo>
                          <a:pt x="401" y="0"/>
                        </a:lnTo>
                        <a:lnTo>
                          <a:pt x="373" y="8"/>
                        </a:lnTo>
                        <a:lnTo>
                          <a:pt x="360" y="167"/>
                        </a:lnTo>
                        <a:lnTo>
                          <a:pt x="346" y="208"/>
                        </a:lnTo>
                        <a:lnTo>
                          <a:pt x="339" y="235"/>
                        </a:lnTo>
                        <a:lnTo>
                          <a:pt x="283" y="214"/>
                        </a:lnTo>
                        <a:lnTo>
                          <a:pt x="242" y="214"/>
                        </a:lnTo>
                        <a:lnTo>
                          <a:pt x="242" y="242"/>
                        </a:lnTo>
                        <a:lnTo>
                          <a:pt x="269" y="264"/>
                        </a:lnTo>
                        <a:lnTo>
                          <a:pt x="319" y="264"/>
                        </a:lnTo>
                        <a:lnTo>
                          <a:pt x="353" y="291"/>
                        </a:lnTo>
                        <a:lnTo>
                          <a:pt x="380" y="339"/>
                        </a:lnTo>
                        <a:lnTo>
                          <a:pt x="408" y="416"/>
                        </a:lnTo>
                        <a:lnTo>
                          <a:pt x="428" y="567"/>
                        </a:lnTo>
                        <a:lnTo>
                          <a:pt x="428" y="706"/>
                        </a:lnTo>
                        <a:lnTo>
                          <a:pt x="414" y="816"/>
                        </a:lnTo>
                        <a:lnTo>
                          <a:pt x="387" y="864"/>
                        </a:lnTo>
                        <a:lnTo>
                          <a:pt x="290" y="934"/>
                        </a:lnTo>
                        <a:lnTo>
                          <a:pt x="186" y="997"/>
                        </a:lnTo>
                        <a:lnTo>
                          <a:pt x="138" y="10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1969560" y="3470040"/>
                    <a:ext cx="143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47">
                        <a:moveTo>
                          <a:pt x="451" y="20"/>
                        </a:moveTo>
                        <a:lnTo>
                          <a:pt x="401" y="0"/>
                        </a:lnTo>
                        <a:lnTo>
                          <a:pt x="297" y="7"/>
                        </a:lnTo>
                        <a:lnTo>
                          <a:pt x="207" y="76"/>
                        </a:lnTo>
                        <a:lnTo>
                          <a:pt x="75" y="221"/>
                        </a:lnTo>
                        <a:lnTo>
                          <a:pt x="7" y="339"/>
                        </a:lnTo>
                        <a:lnTo>
                          <a:pt x="0" y="380"/>
                        </a:lnTo>
                        <a:lnTo>
                          <a:pt x="34" y="457"/>
                        </a:lnTo>
                        <a:lnTo>
                          <a:pt x="110" y="491"/>
                        </a:lnTo>
                        <a:lnTo>
                          <a:pt x="207" y="532"/>
                        </a:lnTo>
                        <a:lnTo>
                          <a:pt x="283" y="552"/>
                        </a:lnTo>
                        <a:lnTo>
                          <a:pt x="318" y="588"/>
                        </a:lnTo>
                        <a:lnTo>
                          <a:pt x="297" y="636"/>
                        </a:lnTo>
                        <a:lnTo>
                          <a:pt x="242" y="692"/>
                        </a:lnTo>
                        <a:lnTo>
                          <a:pt x="173" y="699"/>
                        </a:lnTo>
                        <a:lnTo>
                          <a:pt x="125" y="677"/>
                        </a:lnTo>
                        <a:lnTo>
                          <a:pt x="96" y="699"/>
                        </a:lnTo>
                        <a:lnTo>
                          <a:pt x="103" y="726"/>
                        </a:lnTo>
                        <a:lnTo>
                          <a:pt x="159" y="747"/>
                        </a:lnTo>
                        <a:lnTo>
                          <a:pt x="242" y="747"/>
                        </a:lnTo>
                        <a:lnTo>
                          <a:pt x="318" y="726"/>
                        </a:lnTo>
                        <a:lnTo>
                          <a:pt x="360" y="699"/>
                        </a:lnTo>
                        <a:lnTo>
                          <a:pt x="388" y="650"/>
                        </a:lnTo>
                        <a:lnTo>
                          <a:pt x="401" y="595"/>
                        </a:lnTo>
                        <a:lnTo>
                          <a:pt x="367" y="546"/>
                        </a:lnTo>
                        <a:lnTo>
                          <a:pt x="283" y="511"/>
                        </a:lnTo>
                        <a:lnTo>
                          <a:pt x="186" y="484"/>
                        </a:lnTo>
                        <a:lnTo>
                          <a:pt x="103" y="436"/>
                        </a:lnTo>
                        <a:lnTo>
                          <a:pt x="82" y="394"/>
                        </a:lnTo>
                        <a:lnTo>
                          <a:pt x="96" y="319"/>
                        </a:lnTo>
                        <a:lnTo>
                          <a:pt x="159" y="221"/>
                        </a:lnTo>
                        <a:lnTo>
                          <a:pt x="236" y="165"/>
                        </a:lnTo>
                        <a:lnTo>
                          <a:pt x="353" y="124"/>
                        </a:lnTo>
                        <a:lnTo>
                          <a:pt x="451" y="104"/>
                        </a:lnTo>
                        <a:lnTo>
                          <a:pt x="451" y="48"/>
                        </a:lnTo>
                        <a:lnTo>
                          <a:pt x="45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2086200" y="3458160"/>
                    <a:ext cx="13428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919">
                        <a:moveTo>
                          <a:pt x="367" y="290"/>
                        </a:moveTo>
                        <a:lnTo>
                          <a:pt x="325" y="117"/>
                        </a:lnTo>
                        <a:lnTo>
                          <a:pt x="277" y="34"/>
                        </a:lnTo>
                        <a:lnTo>
                          <a:pt x="173" y="0"/>
                        </a:lnTo>
                        <a:lnTo>
                          <a:pt x="68" y="13"/>
                        </a:lnTo>
                        <a:lnTo>
                          <a:pt x="21" y="104"/>
                        </a:lnTo>
                        <a:lnTo>
                          <a:pt x="27" y="214"/>
                        </a:lnTo>
                        <a:lnTo>
                          <a:pt x="55" y="394"/>
                        </a:lnTo>
                        <a:lnTo>
                          <a:pt x="55" y="552"/>
                        </a:lnTo>
                        <a:lnTo>
                          <a:pt x="21" y="690"/>
                        </a:lnTo>
                        <a:lnTo>
                          <a:pt x="0" y="767"/>
                        </a:lnTo>
                        <a:lnTo>
                          <a:pt x="14" y="835"/>
                        </a:lnTo>
                        <a:lnTo>
                          <a:pt x="62" y="871"/>
                        </a:lnTo>
                        <a:lnTo>
                          <a:pt x="125" y="905"/>
                        </a:lnTo>
                        <a:lnTo>
                          <a:pt x="186" y="919"/>
                        </a:lnTo>
                        <a:lnTo>
                          <a:pt x="263" y="919"/>
                        </a:lnTo>
                        <a:lnTo>
                          <a:pt x="353" y="849"/>
                        </a:lnTo>
                        <a:lnTo>
                          <a:pt x="422" y="704"/>
                        </a:lnTo>
                        <a:lnTo>
                          <a:pt x="415" y="573"/>
                        </a:lnTo>
                        <a:lnTo>
                          <a:pt x="374" y="421"/>
                        </a:lnTo>
                        <a:lnTo>
                          <a:pt x="367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2046600" y="3718800"/>
                    <a:ext cx="10188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329">
                        <a:moveTo>
                          <a:pt x="305" y="21"/>
                        </a:moveTo>
                        <a:lnTo>
                          <a:pt x="223" y="0"/>
                        </a:lnTo>
                        <a:lnTo>
                          <a:pt x="174" y="21"/>
                        </a:lnTo>
                        <a:lnTo>
                          <a:pt x="153" y="89"/>
                        </a:lnTo>
                        <a:lnTo>
                          <a:pt x="174" y="470"/>
                        </a:lnTo>
                        <a:lnTo>
                          <a:pt x="174" y="560"/>
                        </a:lnTo>
                        <a:lnTo>
                          <a:pt x="147" y="727"/>
                        </a:lnTo>
                        <a:lnTo>
                          <a:pt x="140" y="920"/>
                        </a:lnTo>
                        <a:lnTo>
                          <a:pt x="153" y="1017"/>
                        </a:lnTo>
                        <a:lnTo>
                          <a:pt x="140" y="1071"/>
                        </a:lnTo>
                        <a:lnTo>
                          <a:pt x="42" y="1155"/>
                        </a:lnTo>
                        <a:lnTo>
                          <a:pt x="0" y="1259"/>
                        </a:lnTo>
                        <a:lnTo>
                          <a:pt x="8" y="1293"/>
                        </a:lnTo>
                        <a:lnTo>
                          <a:pt x="84" y="1329"/>
                        </a:lnTo>
                        <a:lnTo>
                          <a:pt x="104" y="1314"/>
                        </a:lnTo>
                        <a:lnTo>
                          <a:pt x="112" y="1252"/>
                        </a:lnTo>
                        <a:lnTo>
                          <a:pt x="133" y="1162"/>
                        </a:lnTo>
                        <a:lnTo>
                          <a:pt x="167" y="1121"/>
                        </a:lnTo>
                        <a:lnTo>
                          <a:pt x="208" y="1093"/>
                        </a:lnTo>
                        <a:lnTo>
                          <a:pt x="244" y="1058"/>
                        </a:lnTo>
                        <a:lnTo>
                          <a:pt x="251" y="1030"/>
                        </a:lnTo>
                        <a:lnTo>
                          <a:pt x="230" y="996"/>
                        </a:lnTo>
                        <a:lnTo>
                          <a:pt x="208" y="976"/>
                        </a:lnTo>
                        <a:lnTo>
                          <a:pt x="194" y="892"/>
                        </a:lnTo>
                        <a:lnTo>
                          <a:pt x="208" y="719"/>
                        </a:lnTo>
                        <a:lnTo>
                          <a:pt x="257" y="519"/>
                        </a:lnTo>
                        <a:lnTo>
                          <a:pt x="305" y="359"/>
                        </a:lnTo>
                        <a:lnTo>
                          <a:pt x="320" y="166"/>
                        </a:lnTo>
                        <a:lnTo>
                          <a:pt x="30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2157120" y="3718800"/>
                    <a:ext cx="16776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1121">
                        <a:moveTo>
                          <a:pt x="172" y="166"/>
                        </a:moveTo>
                        <a:lnTo>
                          <a:pt x="159" y="55"/>
                        </a:lnTo>
                        <a:lnTo>
                          <a:pt x="97" y="0"/>
                        </a:lnTo>
                        <a:lnTo>
                          <a:pt x="7" y="7"/>
                        </a:lnTo>
                        <a:lnTo>
                          <a:pt x="0" y="55"/>
                        </a:lnTo>
                        <a:lnTo>
                          <a:pt x="7" y="159"/>
                        </a:lnTo>
                        <a:lnTo>
                          <a:pt x="55" y="318"/>
                        </a:lnTo>
                        <a:lnTo>
                          <a:pt x="90" y="435"/>
                        </a:lnTo>
                        <a:lnTo>
                          <a:pt x="131" y="594"/>
                        </a:lnTo>
                        <a:lnTo>
                          <a:pt x="145" y="732"/>
                        </a:lnTo>
                        <a:lnTo>
                          <a:pt x="145" y="843"/>
                        </a:lnTo>
                        <a:lnTo>
                          <a:pt x="124" y="926"/>
                        </a:lnTo>
                        <a:lnTo>
                          <a:pt x="104" y="954"/>
                        </a:lnTo>
                        <a:lnTo>
                          <a:pt x="104" y="981"/>
                        </a:lnTo>
                        <a:lnTo>
                          <a:pt x="131" y="1024"/>
                        </a:lnTo>
                        <a:lnTo>
                          <a:pt x="179" y="1037"/>
                        </a:lnTo>
                        <a:lnTo>
                          <a:pt x="256" y="1037"/>
                        </a:lnTo>
                        <a:lnTo>
                          <a:pt x="394" y="1071"/>
                        </a:lnTo>
                        <a:lnTo>
                          <a:pt x="435" y="1121"/>
                        </a:lnTo>
                        <a:lnTo>
                          <a:pt x="498" y="1092"/>
                        </a:lnTo>
                        <a:lnTo>
                          <a:pt x="526" y="1024"/>
                        </a:lnTo>
                        <a:lnTo>
                          <a:pt x="498" y="996"/>
                        </a:lnTo>
                        <a:lnTo>
                          <a:pt x="380" y="981"/>
                        </a:lnTo>
                        <a:lnTo>
                          <a:pt x="249" y="981"/>
                        </a:lnTo>
                        <a:lnTo>
                          <a:pt x="193" y="974"/>
                        </a:lnTo>
                        <a:lnTo>
                          <a:pt x="179" y="933"/>
                        </a:lnTo>
                        <a:lnTo>
                          <a:pt x="193" y="857"/>
                        </a:lnTo>
                        <a:lnTo>
                          <a:pt x="201" y="725"/>
                        </a:lnTo>
                        <a:lnTo>
                          <a:pt x="186" y="580"/>
                        </a:lnTo>
                        <a:lnTo>
                          <a:pt x="165" y="388"/>
                        </a:lnTo>
                        <a:lnTo>
                          <a:pt x="172" y="221"/>
                        </a:lnTo>
                        <a:lnTo>
                          <a:pt x="172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27" name="ampoule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934280" y="3062880"/>
                  <a:ext cx="13356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8" name=""/>
            <p:cNvGrpSpPr/>
            <p:nvPr/>
          </p:nvGrpSpPr>
          <p:grpSpPr>
            <a:xfrm>
              <a:off x="1145880" y="612720"/>
              <a:ext cx="1774800" cy="1432800"/>
              <a:chOff x="1145880" y="612720"/>
              <a:chExt cx="1774800" cy="1432800"/>
            </a:xfrm>
          </p:grpSpPr>
          <p:sp>
            <p:nvSpPr>
              <p:cNvPr id="129" name=""/>
              <p:cNvSpPr/>
              <p:nvPr/>
            </p:nvSpPr>
            <p:spPr>
              <a:xfrm>
                <a:off x="1145880" y="1686960"/>
                <a:ext cx="177480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uteur et/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nnotateur de 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1698120" y="612720"/>
                <a:ext cx="789120" cy="1231200"/>
                <a:chOff x="1698120" y="612720"/>
                <a:chExt cx="789120" cy="123120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1973520" y="1060560"/>
                  <a:ext cx="477360" cy="783360"/>
                  <a:chOff x="1973520" y="1060560"/>
                  <a:chExt cx="477360" cy="78336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2182680" y="1321200"/>
                    <a:ext cx="1112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1535">
                        <a:moveTo>
                          <a:pt x="182" y="123"/>
                        </a:moveTo>
                        <a:lnTo>
                          <a:pt x="265" y="33"/>
                        </a:lnTo>
                        <a:lnTo>
                          <a:pt x="423" y="0"/>
                        </a:lnTo>
                        <a:lnTo>
                          <a:pt x="558" y="33"/>
                        </a:lnTo>
                        <a:lnTo>
                          <a:pt x="633" y="83"/>
                        </a:lnTo>
                        <a:lnTo>
                          <a:pt x="693" y="183"/>
                        </a:lnTo>
                        <a:lnTo>
                          <a:pt x="746" y="361"/>
                        </a:lnTo>
                        <a:lnTo>
                          <a:pt x="771" y="554"/>
                        </a:lnTo>
                        <a:lnTo>
                          <a:pt x="771" y="899"/>
                        </a:lnTo>
                        <a:lnTo>
                          <a:pt x="693" y="1200"/>
                        </a:lnTo>
                        <a:lnTo>
                          <a:pt x="581" y="1370"/>
                        </a:lnTo>
                        <a:lnTo>
                          <a:pt x="468" y="1468"/>
                        </a:lnTo>
                        <a:lnTo>
                          <a:pt x="340" y="1535"/>
                        </a:lnTo>
                        <a:lnTo>
                          <a:pt x="160" y="1528"/>
                        </a:lnTo>
                        <a:lnTo>
                          <a:pt x="17" y="1425"/>
                        </a:lnTo>
                        <a:lnTo>
                          <a:pt x="0" y="1302"/>
                        </a:lnTo>
                        <a:lnTo>
                          <a:pt x="70" y="1119"/>
                        </a:lnTo>
                        <a:lnTo>
                          <a:pt x="130" y="914"/>
                        </a:lnTo>
                        <a:lnTo>
                          <a:pt x="152" y="649"/>
                        </a:lnTo>
                        <a:lnTo>
                          <a:pt x="115" y="423"/>
                        </a:lnTo>
                        <a:lnTo>
                          <a:pt x="115" y="258"/>
                        </a:lnTo>
                        <a:lnTo>
                          <a:pt x="182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2225880" y="1567440"/>
                    <a:ext cx="12708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1512">
                        <a:moveTo>
                          <a:pt x="293" y="63"/>
                        </a:moveTo>
                        <a:lnTo>
                          <a:pt x="187" y="0"/>
                        </a:lnTo>
                        <a:lnTo>
                          <a:pt x="52" y="0"/>
                        </a:lnTo>
                        <a:lnTo>
                          <a:pt x="0" y="83"/>
                        </a:lnTo>
                        <a:lnTo>
                          <a:pt x="22" y="205"/>
                        </a:lnTo>
                        <a:lnTo>
                          <a:pt x="142" y="325"/>
                        </a:lnTo>
                        <a:lnTo>
                          <a:pt x="390" y="436"/>
                        </a:lnTo>
                        <a:lnTo>
                          <a:pt x="676" y="671"/>
                        </a:lnTo>
                        <a:lnTo>
                          <a:pt x="721" y="774"/>
                        </a:lnTo>
                        <a:lnTo>
                          <a:pt x="698" y="821"/>
                        </a:lnTo>
                        <a:lnTo>
                          <a:pt x="480" y="977"/>
                        </a:lnTo>
                        <a:lnTo>
                          <a:pt x="225" y="1162"/>
                        </a:lnTo>
                        <a:lnTo>
                          <a:pt x="165" y="1242"/>
                        </a:lnTo>
                        <a:lnTo>
                          <a:pt x="165" y="1325"/>
                        </a:lnTo>
                        <a:lnTo>
                          <a:pt x="360" y="1412"/>
                        </a:lnTo>
                        <a:lnTo>
                          <a:pt x="661" y="1512"/>
                        </a:lnTo>
                        <a:lnTo>
                          <a:pt x="766" y="1512"/>
                        </a:lnTo>
                        <a:lnTo>
                          <a:pt x="881" y="1445"/>
                        </a:lnTo>
                        <a:lnTo>
                          <a:pt x="881" y="1392"/>
                        </a:lnTo>
                        <a:lnTo>
                          <a:pt x="796" y="1365"/>
                        </a:lnTo>
                        <a:lnTo>
                          <a:pt x="413" y="1325"/>
                        </a:lnTo>
                        <a:lnTo>
                          <a:pt x="270" y="1290"/>
                        </a:lnTo>
                        <a:lnTo>
                          <a:pt x="255" y="1229"/>
                        </a:lnTo>
                        <a:lnTo>
                          <a:pt x="503" y="1059"/>
                        </a:lnTo>
                        <a:lnTo>
                          <a:pt x="773" y="896"/>
                        </a:lnTo>
                        <a:lnTo>
                          <a:pt x="833" y="836"/>
                        </a:lnTo>
                        <a:lnTo>
                          <a:pt x="856" y="754"/>
                        </a:lnTo>
                        <a:lnTo>
                          <a:pt x="833" y="638"/>
                        </a:lnTo>
                        <a:lnTo>
                          <a:pt x="751" y="551"/>
                        </a:lnTo>
                        <a:lnTo>
                          <a:pt x="480" y="253"/>
                        </a:lnTo>
                        <a:lnTo>
                          <a:pt x="293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2058120" y="1553760"/>
                    <a:ext cx="158400" cy="29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7" h="1610">
                        <a:moveTo>
                          <a:pt x="596" y="218"/>
                        </a:moveTo>
                        <a:lnTo>
                          <a:pt x="771" y="80"/>
                        </a:lnTo>
                        <a:lnTo>
                          <a:pt x="937" y="0"/>
                        </a:lnTo>
                        <a:lnTo>
                          <a:pt x="1042" y="12"/>
                        </a:lnTo>
                        <a:lnTo>
                          <a:pt x="1097" y="80"/>
                        </a:lnTo>
                        <a:lnTo>
                          <a:pt x="1097" y="155"/>
                        </a:lnTo>
                        <a:lnTo>
                          <a:pt x="1064" y="238"/>
                        </a:lnTo>
                        <a:lnTo>
                          <a:pt x="952" y="285"/>
                        </a:lnTo>
                        <a:lnTo>
                          <a:pt x="724" y="400"/>
                        </a:lnTo>
                        <a:lnTo>
                          <a:pt x="589" y="543"/>
                        </a:lnTo>
                        <a:lnTo>
                          <a:pt x="499" y="713"/>
                        </a:lnTo>
                        <a:lnTo>
                          <a:pt x="476" y="814"/>
                        </a:lnTo>
                        <a:lnTo>
                          <a:pt x="596" y="936"/>
                        </a:lnTo>
                        <a:lnTo>
                          <a:pt x="724" y="1114"/>
                        </a:lnTo>
                        <a:lnTo>
                          <a:pt x="817" y="1277"/>
                        </a:lnTo>
                        <a:lnTo>
                          <a:pt x="839" y="1380"/>
                        </a:lnTo>
                        <a:lnTo>
                          <a:pt x="839" y="1440"/>
                        </a:lnTo>
                        <a:lnTo>
                          <a:pt x="779" y="1480"/>
                        </a:lnTo>
                        <a:lnTo>
                          <a:pt x="589" y="1487"/>
                        </a:lnTo>
                        <a:lnTo>
                          <a:pt x="301" y="1547"/>
                        </a:lnTo>
                        <a:lnTo>
                          <a:pt x="248" y="1602"/>
                        </a:lnTo>
                        <a:lnTo>
                          <a:pt x="203" y="1610"/>
                        </a:lnTo>
                        <a:lnTo>
                          <a:pt x="0" y="1547"/>
                        </a:lnTo>
                        <a:lnTo>
                          <a:pt x="0" y="1487"/>
                        </a:lnTo>
                        <a:lnTo>
                          <a:pt x="90" y="1440"/>
                        </a:lnTo>
                        <a:lnTo>
                          <a:pt x="453" y="1380"/>
                        </a:lnTo>
                        <a:lnTo>
                          <a:pt x="641" y="1400"/>
                        </a:lnTo>
                        <a:lnTo>
                          <a:pt x="734" y="1400"/>
                        </a:lnTo>
                        <a:lnTo>
                          <a:pt x="756" y="1365"/>
                        </a:lnTo>
                        <a:lnTo>
                          <a:pt x="679" y="1214"/>
                        </a:lnTo>
                        <a:lnTo>
                          <a:pt x="521" y="1019"/>
                        </a:lnTo>
                        <a:lnTo>
                          <a:pt x="408" y="876"/>
                        </a:lnTo>
                        <a:lnTo>
                          <a:pt x="363" y="794"/>
                        </a:lnTo>
                        <a:lnTo>
                          <a:pt x="363" y="671"/>
                        </a:lnTo>
                        <a:lnTo>
                          <a:pt x="438" y="468"/>
                        </a:lnTo>
                        <a:lnTo>
                          <a:pt x="506" y="340"/>
                        </a:lnTo>
                        <a:lnTo>
                          <a:pt x="596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1973520" y="1321560"/>
                    <a:ext cx="21384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2" h="1202">
                        <a:moveTo>
                          <a:pt x="889" y="1202"/>
                        </a:moveTo>
                        <a:lnTo>
                          <a:pt x="981" y="1192"/>
                        </a:lnTo>
                        <a:lnTo>
                          <a:pt x="1009" y="1124"/>
                        </a:lnTo>
                        <a:lnTo>
                          <a:pt x="1034" y="881"/>
                        </a:lnTo>
                        <a:lnTo>
                          <a:pt x="1172" y="596"/>
                        </a:lnTo>
                        <a:lnTo>
                          <a:pt x="1314" y="465"/>
                        </a:lnTo>
                        <a:lnTo>
                          <a:pt x="1482" y="330"/>
                        </a:lnTo>
                        <a:lnTo>
                          <a:pt x="1467" y="235"/>
                        </a:lnTo>
                        <a:lnTo>
                          <a:pt x="1367" y="185"/>
                        </a:lnTo>
                        <a:lnTo>
                          <a:pt x="1242" y="235"/>
                        </a:lnTo>
                        <a:lnTo>
                          <a:pt x="1104" y="373"/>
                        </a:lnTo>
                        <a:lnTo>
                          <a:pt x="976" y="673"/>
                        </a:lnTo>
                        <a:lnTo>
                          <a:pt x="921" y="906"/>
                        </a:lnTo>
                        <a:lnTo>
                          <a:pt x="884" y="1029"/>
                        </a:lnTo>
                        <a:lnTo>
                          <a:pt x="779" y="984"/>
                        </a:lnTo>
                        <a:lnTo>
                          <a:pt x="661" y="783"/>
                        </a:lnTo>
                        <a:lnTo>
                          <a:pt x="563" y="505"/>
                        </a:lnTo>
                        <a:lnTo>
                          <a:pt x="581" y="380"/>
                        </a:lnTo>
                        <a:lnTo>
                          <a:pt x="636" y="248"/>
                        </a:lnTo>
                        <a:lnTo>
                          <a:pt x="658" y="150"/>
                        </a:lnTo>
                        <a:lnTo>
                          <a:pt x="418" y="145"/>
                        </a:lnTo>
                        <a:lnTo>
                          <a:pt x="178" y="105"/>
                        </a:lnTo>
                        <a:lnTo>
                          <a:pt x="65" y="0"/>
                        </a:lnTo>
                        <a:lnTo>
                          <a:pt x="0" y="50"/>
                        </a:lnTo>
                        <a:lnTo>
                          <a:pt x="88" y="230"/>
                        </a:lnTo>
                        <a:lnTo>
                          <a:pt x="280" y="250"/>
                        </a:lnTo>
                        <a:lnTo>
                          <a:pt x="488" y="270"/>
                        </a:lnTo>
                        <a:lnTo>
                          <a:pt x="493" y="428"/>
                        </a:lnTo>
                        <a:lnTo>
                          <a:pt x="513" y="611"/>
                        </a:lnTo>
                        <a:lnTo>
                          <a:pt x="583" y="816"/>
                        </a:lnTo>
                        <a:lnTo>
                          <a:pt x="671" y="1019"/>
                        </a:lnTo>
                        <a:lnTo>
                          <a:pt x="804" y="1154"/>
                        </a:lnTo>
                        <a:lnTo>
                          <a:pt x="889" y="12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2293560" y="1060560"/>
                    <a:ext cx="15732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1625">
                        <a:moveTo>
                          <a:pt x="0" y="1610"/>
                        </a:moveTo>
                        <a:lnTo>
                          <a:pt x="0" y="1503"/>
                        </a:lnTo>
                        <a:lnTo>
                          <a:pt x="67" y="1420"/>
                        </a:lnTo>
                        <a:lnTo>
                          <a:pt x="363" y="1325"/>
                        </a:lnTo>
                        <a:lnTo>
                          <a:pt x="728" y="1245"/>
                        </a:lnTo>
                        <a:lnTo>
                          <a:pt x="939" y="1197"/>
                        </a:lnTo>
                        <a:lnTo>
                          <a:pt x="964" y="1155"/>
                        </a:lnTo>
                        <a:lnTo>
                          <a:pt x="864" y="1034"/>
                        </a:lnTo>
                        <a:lnTo>
                          <a:pt x="666" y="857"/>
                        </a:lnTo>
                        <a:lnTo>
                          <a:pt x="463" y="706"/>
                        </a:lnTo>
                        <a:lnTo>
                          <a:pt x="303" y="626"/>
                        </a:lnTo>
                        <a:lnTo>
                          <a:pt x="213" y="544"/>
                        </a:lnTo>
                        <a:lnTo>
                          <a:pt x="205" y="483"/>
                        </a:lnTo>
                        <a:lnTo>
                          <a:pt x="258" y="428"/>
                        </a:lnTo>
                        <a:lnTo>
                          <a:pt x="385" y="401"/>
                        </a:lnTo>
                        <a:lnTo>
                          <a:pt x="546" y="298"/>
                        </a:lnTo>
                        <a:lnTo>
                          <a:pt x="568" y="198"/>
                        </a:lnTo>
                        <a:lnTo>
                          <a:pt x="568" y="55"/>
                        </a:lnTo>
                        <a:lnTo>
                          <a:pt x="553" y="0"/>
                        </a:lnTo>
                        <a:lnTo>
                          <a:pt x="613" y="13"/>
                        </a:lnTo>
                        <a:lnTo>
                          <a:pt x="698" y="135"/>
                        </a:lnTo>
                        <a:lnTo>
                          <a:pt x="728" y="266"/>
                        </a:lnTo>
                        <a:lnTo>
                          <a:pt x="636" y="361"/>
                        </a:lnTo>
                        <a:lnTo>
                          <a:pt x="553" y="388"/>
                        </a:lnTo>
                        <a:lnTo>
                          <a:pt x="393" y="463"/>
                        </a:lnTo>
                        <a:lnTo>
                          <a:pt x="363" y="504"/>
                        </a:lnTo>
                        <a:lnTo>
                          <a:pt x="385" y="544"/>
                        </a:lnTo>
                        <a:lnTo>
                          <a:pt x="531" y="654"/>
                        </a:lnTo>
                        <a:lnTo>
                          <a:pt x="683" y="714"/>
                        </a:lnTo>
                        <a:lnTo>
                          <a:pt x="886" y="869"/>
                        </a:lnTo>
                        <a:lnTo>
                          <a:pt x="1024" y="1054"/>
                        </a:lnTo>
                        <a:lnTo>
                          <a:pt x="1091" y="1197"/>
                        </a:lnTo>
                        <a:lnTo>
                          <a:pt x="1069" y="1245"/>
                        </a:lnTo>
                        <a:lnTo>
                          <a:pt x="1024" y="1277"/>
                        </a:lnTo>
                        <a:lnTo>
                          <a:pt x="849" y="1340"/>
                        </a:lnTo>
                        <a:lnTo>
                          <a:pt x="501" y="1443"/>
                        </a:lnTo>
                        <a:lnTo>
                          <a:pt x="280" y="1530"/>
                        </a:lnTo>
                        <a:lnTo>
                          <a:pt x="138" y="1605"/>
                        </a:lnTo>
                        <a:lnTo>
                          <a:pt x="45" y="1625"/>
                        </a:lnTo>
                        <a:lnTo>
                          <a:pt x="0" y="16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2138760" y="1104120"/>
                    <a:ext cx="122760" cy="208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157">
                        <a:moveTo>
                          <a:pt x="173" y="939"/>
                        </a:moveTo>
                        <a:lnTo>
                          <a:pt x="271" y="1042"/>
                        </a:lnTo>
                        <a:lnTo>
                          <a:pt x="431" y="1137"/>
                        </a:lnTo>
                        <a:lnTo>
                          <a:pt x="566" y="1157"/>
                        </a:lnTo>
                        <a:lnTo>
                          <a:pt x="669" y="1137"/>
                        </a:lnTo>
                        <a:lnTo>
                          <a:pt x="791" y="1057"/>
                        </a:lnTo>
                        <a:lnTo>
                          <a:pt x="836" y="892"/>
                        </a:lnTo>
                        <a:lnTo>
                          <a:pt x="851" y="769"/>
                        </a:lnTo>
                        <a:lnTo>
                          <a:pt x="814" y="654"/>
                        </a:lnTo>
                        <a:lnTo>
                          <a:pt x="744" y="511"/>
                        </a:lnTo>
                        <a:lnTo>
                          <a:pt x="679" y="388"/>
                        </a:lnTo>
                        <a:lnTo>
                          <a:pt x="669" y="361"/>
                        </a:lnTo>
                        <a:lnTo>
                          <a:pt x="699" y="218"/>
                        </a:lnTo>
                        <a:lnTo>
                          <a:pt x="791" y="75"/>
                        </a:lnTo>
                        <a:lnTo>
                          <a:pt x="806" y="33"/>
                        </a:lnTo>
                        <a:lnTo>
                          <a:pt x="759" y="0"/>
                        </a:lnTo>
                        <a:lnTo>
                          <a:pt x="699" y="0"/>
                        </a:lnTo>
                        <a:lnTo>
                          <a:pt x="634" y="185"/>
                        </a:lnTo>
                        <a:lnTo>
                          <a:pt x="604" y="306"/>
                        </a:lnTo>
                        <a:lnTo>
                          <a:pt x="521" y="225"/>
                        </a:lnTo>
                        <a:lnTo>
                          <a:pt x="451" y="163"/>
                        </a:lnTo>
                        <a:lnTo>
                          <a:pt x="308" y="115"/>
                        </a:lnTo>
                        <a:lnTo>
                          <a:pt x="203" y="115"/>
                        </a:lnTo>
                        <a:lnTo>
                          <a:pt x="45" y="185"/>
                        </a:lnTo>
                        <a:lnTo>
                          <a:pt x="0" y="381"/>
                        </a:lnTo>
                        <a:lnTo>
                          <a:pt x="38" y="634"/>
                        </a:lnTo>
                        <a:lnTo>
                          <a:pt x="105" y="872"/>
                        </a:lnTo>
                        <a:lnTo>
                          <a:pt x="173" y="9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1984320" y="612720"/>
                  <a:ext cx="236520" cy="239040"/>
                  <a:chOff x="1984320" y="612720"/>
                  <a:chExt cx="236520" cy="23904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1984320" y="612720"/>
                    <a:ext cx="236520" cy="2390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0" name="doc_0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11320" y="634320"/>
                    <a:ext cx="197280" cy="19908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1698120" y="736200"/>
                  <a:ext cx="255240" cy="278640"/>
                  <a:chOff x="1698120" y="736200"/>
                  <a:chExt cx="255240" cy="27864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1698120" y="736200"/>
                    <a:ext cx="25524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3" name="doc_0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06400" y="754920"/>
                    <a:ext cx="236520" cy="2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1855800" y="1054800"/>
                  <a:ext cx="204120" cy="245160"/>
                  <a:chOff x="1855800" y="1054800"/>
                  <a:chExt cx="204120" cy="24516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1855800" y="1054800"/>
                    <a:ext cx="204120" cy="2451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6" name="doc_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76320" y="1071360"/>
                    <a:ext cx="1666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2250360" y="776160"/>
                  <a:ext cx="236880" cy="278640"/>
                  <a:chOff x="2250360" y="776160"/>
                  <a:chExt cx="236880" cy="27864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2250360" y="776160"/>
                    <a:ext cx="23688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9" name="doc_05gif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55760" y="809640"/>
                    <a:ext cx="22500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150" name=""/>
            <p:cNvGrpSpPr/>
            <p:nvPr/>
          </p:nvGrpSpPr>
          <p:grpSpPr>
            <a:xfrm>
              <a:off x="7418160" y="3759120"/>
              <a:ext cx="1106280" cy="1193040"/>
              <a:chOff x="7418160" y="3759120"/>
              <a:chExt cx="1106280" cy="1193040"/>
            </a:xfrm>
          </p:grpSpPr>
          <p:sp>
            <p:nvSpPr>
              <p:cNvPr id="151" name=""/>
              <p:cNvSpPr/>
              <p:nvPr/>
            </p:nvSpPr>
            <p:spPr>
              <a:xfrm>
                <a:off x="7418160" y="4704840"/>
                <a:ext cx="11062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Utilisateur fin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7576560" y="3837960"/>
                <a:ext cx="430200" cy="903240"/>
                <a:chOff x="7576560" y="3837960"/>
                <a:chExt cx="430200" cy="903240"/>
              </a:xfrm>
            </p:grpSpPr>
            <p:sp>
              <p:nvSpPr>
                <p:cNvPr id="153" name=""/>
                <p:cNvSpPr/>
                <p:nvPr/>
              </p:nvSpPr>
              <p:spPr>
                <a:xfrm flipH="1">
                  <a:off x="7701120" y="3888360"/>
                  <a:ext cx="168120" cy="19692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7812360" y="3837960"/>
                  <a:ext cx="194040" cy="31644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7722720" y="4100040"/>
                  <a:ext cx="100800" cy="29664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7621560" y="4108320"/>
                  <a:ext cx="155160" cy="22788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7576200" y="4366440"/>
                  <a:ext cx="188280" cy="36828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7756200" y="4365720"/>
                  <a:ext cx="126360" cy="37548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8010000" y="3759120"/>
                <a:ext cx="473400" cy="396360"/>
                <a:chOff x="8010000" y="3759120"/>
                <a:chExt cx="473400" cy="3963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8010000" y="3759120"/>
                  <a:ext cx="473400" cy="396360"/>
                </a:xfrm>
                <a:prstGeom prst="cloudCallout">
                  <a:avLst>
                    <a:gd name="adj1" fmla="val -75731"/>
                    <a:gd name="adj2" fmla="val 15087"/>
                  </a:avLst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1" name="inter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26280" y="3829320"/>
                  <a:ext cx="2365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62" name=""/>
            <p:cNvGrpSpPr/>
            <p:nvPr/>
          </p:nvGrpSpPr>
          <p:grpSpPr>
            <a:xfrm>
              <a:off x="2487240" y="1023840"/>
              <a:ext cx="1617840" cy="902880"/>
              <a:chOff x="2487240" y="1023840"/>
              <a:chExt cx="1617840" cy="902880"/>
            </a:xfrm>
          </p:grpSpPr>
          <p:pic>
            <p:nvPicPr>
              <p:cNvPr id="16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487240" y="1499760"/>
                <a:ext cx="236520" cy="237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4" name=""/>
              <p:cNvGrpSpPr/>
              <p:nvPr/>
            </p:nvGrpSpPr>
            <p:grpSpPr>
              <a:xfrm>
                <a:off x="2763360" y="1023840"/>
                <a:ext cx="1025640" cy="902880"/>
                <a:chOff x="2763360" y="1023840"/>
                <a:chExt cx="1025640" cy="9028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763360" y="1289880"/>
                  <a:ext cx="102564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763360" y="1023840"/>
                  <a:ext cx="102564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781000" y="1292400"/>
                  <a:ext cx="100764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157560" y="1525320"/>
                  <a:ext cx="31536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840040" y="1054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70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868200" y="1488600"/>
                <a:ext cx="236880" cy="23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1" name=""/>
            <p:cNvGrpSpPr/>
            <p:nvPr/>
          </p:nvGrpSpPr>
          <p:grpSpPr>
            <a:xfrm>
              <a:off x="5760720" y="3798720"/>
              <a:ext cx="1697040" cy="995040"/>
              <a:chOff x="5760720" y="3798720"/>
              <a:chExt cx="1697040" cy="995040"/>
            </a:xfrm>
          </p:grpSpPr>
          <p:pic>
            <p:nvPicPr>
              <p:cNvPr id="17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760720" y="4276080"/>
                <a:ext cx="23796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7221240" y="427608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4" name=""/>
              <p:cNvGrpSpPr/>
              <p:nvPr/>
            </p:nvGrpSpPr>
            <p:grpSpPr>
              <a:xfrm>
                <a:off x="6036840" y="3798720"/>
                <a:ext cx="1104840" cy="995040"/>
                <a:chOff x="6036840" y="3798720"/>
                <a:chExt cx="1104840" cy="995040"/>
              </a:xfrm>
            </p:grpSpPr>
            <p:grpSp>
              <p:nvGrpSpPr>
                <p:cNvPr id="175" name=""/>
                <p:cNvGrpSpPr/>
                <p:nvPr/>
              </p:nvGrpSpPr>
              <p:grpSpPr>
                <a:xfrm>
                  <a:off x="6036840" y="3798720"/>
                  <a:ext cx="1026000" cy="902880"/>
                  <a:chOff x="6036840" y="3798720"/>
                  <a:chExt cx="1026000" cy="902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6036840" y="406476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6036840" y="37987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6054480" y="406728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31400" y="43002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113520" y="38293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6076080" y="3838320"/>
                  <a:ext cx="1026000" cy="902880"/>
                  <a:chOff x="6076080" y="3838320"/>
                  <a:chExt cx="1026000" cy="9028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6076080" y="410436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6076080" y="38383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6093720" y="410688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8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70640" y="43398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6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152760" y="38689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6115680" y="3890880"/>
                  <a:ext cx="1026000" cy="902880"/>
                  <a:chOff x="6115680" y="3890880"/>
                  <a:chExt cx="1026000" cy="9028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6115680" y="415692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6115680" y="389088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133320" y="415944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510240" y="439236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92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192360" y="392148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193" name=""/>
            <p:cNvGrpSpPr/>
            <p:nvPr/>
          </p:nvGrpSpPr>
          <p:grpSpPr>
            <a:xfrm>
              <a:off x="2527200" y="3120840"/>
              <a:ext cx="2167920" cy="677160"/>
              <a:chOff x="2527200" y="3120840"/>
              <a:chExt cx="2167920" cy="677160"/>
            </a:xfrm>
          </p:grpSpPr>
          <p:pic>
            <p:nvPicPr>
              <p:cNvPr id="194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2527200" y="3399840"/>
                <a:ext cx="23616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828600" y="3399840"/>
                <a:ext cx="23616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6" name=""/>
              <p:cNvGrpSpPr/>
              <p:nvPr/>
            </p:nvGrpSpPr>
            <p:grpSpPr>
              <a:xfrm>
                <a:off x="2723760" y="3120840"/>
                <a:ext cx="1007640" cy="677160"/>
                <a:chOff x="2723760" y="3120840"/>
                <a:chExt cx="1007640" cy="6771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2881440" y="3160440"/>
                  <a:ext cx="670680" cy="6375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98" name="onto_0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3039120" y="3394080"/>
                  <a:ext cx="315360" cy="31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9" name=""/>
                <p:cNvSpPr/>
                <p:nvPr/>
              </p:nvSpPr>
              <p:spPr>
                <a:xfrm>
                  <a:off x="2723760" y="3120840"/>
                  <a:ext cx="100764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Ontologi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0" name="onto_01" descr=""/>
              <p:cNvPicPr/>
              <p:nvPr/>
            </p:nvPicPr>
            <p:blipFill>
              <a:blip r:embed="rId29"/>
              <a:stretch/>
            </p:blipFill>
            <p:spPr>
              <a:xfrm>
                <a:off x="4381200" y="3360240"/>
                <a:ext cx="313920" cy="317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1" name=""/>
            <p:cNvGrpSpPr/>
            <p:nvPr/>
          </p:nvGrpSpPr>
          <p:grpSpPr>
            <a:xfrm>
              <a:off x="2314440" y="3871800"/>
              <a:ext cx="1631880" cy="881640"/>
              <a:chOff x="2314440" y="3871800"/>
              <a:chExt cx="1631880" cy="8816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2314440" y="4155480"/>
                <a:ext cx="1631880" cy="597960"/>
                <a:chOff x="2314440" y="4155480"/>
                <a:chExt cx="1631880" cy="5979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393280" y="4195080"/>
                  <a:ext cx="1340640" cy="558360"/>
                </a:xfrm>
                <a:prstGeom prst="foldedCorner">
                  <a:avLst>
                    <a:gd name="adj" fmla="val 6138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4" name="onto_02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2432520" y="4398840"/>
                  <a:ext cx="27576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5" name=""/>
                <p:cNvSpPr/>
                <p:nvPr/>
              </p:nvSpPr>
              <p:spPr>
                <a:xfrm>
                  <a:off x="2314440" y="4155480"/>
                  <a:ext cx="749160" cy="25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odè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616120" y="4354920"/>
                  <a:ext cx="1330200" cy="3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Modèle d'entrepri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Profils d'utilisateur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7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117600" y="3871800"/>
                <a:ext cx="236160" cy="23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8" name=""/>
            <p:cNvGrpSpPr/>
            <p:nvPr/>
          </p:nvGrpSpPr>
          <p:grpSpPr>
            <a:xfrm>
              <a:off x="3828960" y="4236840"/>
              <a:ext cx="1065240" cy="356760"/>
              <a:chOff x="3828960" y="4236840"/>
              <a:chExt cx="1065240" cy="356760"/>
            </a:xfrm>
          </p:grpSpPr>
          <p:pic>
            <p:nvPicPr>
              <p:cNvPr id="209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3828960" y="4316040"/>
                <a:ext cx="236520" cy="23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onto_02" descr=""/>
              <p:cNvPicPr/>
              <p:nvPr/>
            </p:nvPicPr>
            <p:blipFill>
              <a:blip r:embed="rId33"/>
              <a:stretch/>
            </p:blipFill>
            <p:spPr>
              <a:xfrm>
                <a:off x="4538520" y="4236840"/>
                <a:ext cx="355680" cy="35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1" name=""/>
            <p:cNvGrpSpPr/>
            <p:nvPr/>
          </p:nvGrpSpPr>
          <p:grpSpPr>
            <a:xfrm>
              <a:off x="7497360" y="3025800"/>
              <a:ext cx="631800" cy="772200"/>
              <a:chOff x="7497360" y="3025800"/>
              <a:chExt cx="631800" cy="772200"/>
            </a:xfrm>
          </p:grpSpPr>
          <p:pic>
            <p:nvPicPr>
              <p:cNvPr id="212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7694280" y="3558600"/>
                <a:ext cx="236520" cy="239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3" name=""/>
              <p:cNvGrpSpPr/>
              <p:nvPr/>
            </p:nvGrpSpPr>
            <p:grpSpPr>
              <a:xfrm>
                <a:off x="7497360" y="3025800"/>
                <a:ext cx="631800" cy="489960"/>
                <a:chOff x="7497360" y="3025800"/>
                <a:chExt cx="631800" cy="4899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7536600" y="3078000"/>
                  <a:ext cx="552960" cy="437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497360" y="3025800"/>
                  <a:ext cx="631800" cy="34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Requête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6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7734240" y="3259080"/>
                  <a:ext cx="236880" cy="23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17" name=""/>
            <p:cNvGrpSpPr/>
            <p:nvPr/>
          </p:nvGrpSpPr>
          <p:grpSpPr>
            <a:xfrm>
              <a:off x="4262040" y="954000"/>
              <a:ext cx="1301760" cy="3564720"/>
              <a:chOff x="4262040" y="954000"/>
              <a:chExt cx="1301760" cy="3564720"/>
            </a:xfrm>
          </p:grpSpPr>
          <p:pic>
            <p:nvPicPr>
              <p:cNvPr id="218" name="doc_01" descr=""/>
              <p:cNvPicPr/>
              <p:nvPr/>
            </p:nvPicPr>
            <p:blipFill>
              <a:blip r:embed="rId36"/>
              <a:stretch/>
            </p:blipFill>
            <p:spPr>
              <a:xfrm>
                <a:off x="5170320" y="156780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doc_01" descr=""/>
              <p:cNvPicPr/>
              <p:nvPr/>
            </p:nvPicPr>
            <p:blipFill>
              <a:blip r:embed="rId37"/>
              <a:stretch/>
            </p:blipFill>
            <p:spPr>
              <a:xfrm>
                <a:off x="5130720" y="1488600"/>
                <a:ext cx="214200" cy="27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memory_01" descr=""/>
              <p:cNvPicPr/>
              <p:nvPr/>
            </p:nvPicPr>
            <p:blipFill>
              <a:blip r:embed="rId38"/>
              <a:stretch/>
            </p:blipFill>
            <p:spPr>
              <a:xfrm>
                <a:off x="4262040" y="954000"/>
                <a:ext cx="331920" cy="33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doc_03" descr=""/>
              <p:cNvPicPr/>
              <p:nvPr/>
            </p:nvPicPr>
            <p:blipFill>
              <a:blip r:embed="rId39"/>
              <a:stretch/>
            </p:blipFill>
            <p:spPr>
              <a:xfrm>
                <a:off x="4419360" y="3723840"/>
                <a:ext cx="395280" cy="39636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222" name="doc_04" descr=""/>
              <p:cNvPicPr/>
              <p:nvPr/>
            </p:nvPicPr>
            <p:blipFill>
              <a:blip r:embed="rId40"/>
              <a:stretch/>
            </p:blipFill>
            <p:spPr>
              <a:xfrm>
                <a:off x="4341600" y="1449000"/>
                <a:ext cx="276120" cy="27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doc_05gif" descr=""/>
              <p:cNvPicPr/>
              <p:nvPr/>
            </p:nvPicPr>
            <p:blipFill>
              <a:blip r:embed="rId41"/>
              <a:stretch/>
            </p:blipFill>
            <p:spPr>
              <a:xfrm>
                <a:off x="5011560" y="3642840"/>
                <a:ext cx="304560" cy="29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4933800" y="3080880"/>
                <a:ext cx="4111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4759200" y="993240"/>
                <a:ext cx="331560" cy="33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doc_01" descr=""/>
              <p:cNvPicPr/>
              <p:nvPr/>
            </p:nvPicPr>
            <p:blipFill>
              <a:blip r:embed="rId44"/>
              <a:stretch/>
            </p:blipFill>
            <p:spPr>
              <a:xfrm>
                <a:off x="5209920" y="1607760"/>
                <a:ext cx="214200" cy="27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5248080" y="4201560"/>
                <a:ext cx="31572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4735440" y="1607760"/>
                <a:ext cx="333360" cy="33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5248080" y="1050480"/>
                <a:ext cx="315720" cy="31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0" name=""/>
            <p:cNvSpPr txBox="1"/>
            <p:nvPr/>
          </p:nvSpPr>
          <p:spPr>
            <a:xfrm>
              <a:off x="2408040" y="3878280"/>
              <a:ext cx="23652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1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3078000" y="731880"/>
              <a:ext cx="237960" cy="16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2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7260840" y="3997080"/>
              <a:ext cx="23652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3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447640" y="2842920"/>
              <a:ext cx="1971720" cy="1272600"/>
              <a:chOff x="2447640" y="2842920"/>
              <a:chExt cx="1971720" cy="1272600"/>
            </a:xfrm>
          </p:grpSpPr>
          <p:sp>
            <p:nvSpPr>
              <p:cNvPr id="234" name=""/>
              <p:cNvSpPr/>
              <p:nvPr/>
            </p:nvSpPr>
            <p:spPr>
              <a:xfrm>
                <a:off x="3749400" y="2842920"/>
                <a:ext cx="669960" cy="47772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2447640" y="2842920"/>
                <a:ext cx="512640" cy="47772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592080" y="2922120"/>
                <a:ext cx="117720" cy="119340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012760" y="1847880"/>
              <a:ext cx="947160" cy="396360"/>
              <a:chOff x="2012760" y="1847880"/>
              <a:chExt cx="947160" cy="396360"/>
            </a:xfrm>
          </p:grpSpPr>
          <p:sp>
            <p:nvSpPr>
              <p:cNvPr id="238" name=""/>
              <p:cNvSpPr/>
              <p:nvPr/>
            </p:nvSpPr>
            <p:spPr>
              <a:xfrm>
                <a:off x="2012760" y="1952280"/>
                <a:ext cx="118800" cy="25200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2328120" y="1847880"/>
                <a:ext cx="631800" cy="39636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562360" y="1295280"/>
              <a:ext cx="2247840" cy="2502720"/>
              <a:chOff x="5562360" y="1295280"/>
              <a:chExt cx="2247840" cy="2502720"/>
            </a:xfrm>
          </p:grpSpPr>
          <p:sp>
            <p:nvSpPr>
              <p:cNvPr id="241" name=""/>
              <p:cNvSpPr/>
              <p:nvPr/>
            </p:nvSpPr>
            <p:spPr>
              <a:xfrm flipH="1" flipV="1">
                <a:off x="5562360" y="1295280"/>
                <a:ext cx="1371600" cy="11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378560" y="2603160"/>
                <a:ext cx="431640" cy="44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668640" y="2922120"/>
                <a:ext cx="355320" cy="794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260840" y="2922120"/>
                <a:ext cx="316080" cy="87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367240" y="2803320"/>
              <a:ext cx="2129760" cy="1034280"/>
              <a:chOff x="5367240" y="2803320"/>
              <a:chExt cx="2129760" cy="1034280"/>
            </a:xfrm>
          </p:grpSpPr>
          <p:sp>
            <p:nvSpPr>
              <p:cNvPr id="246" name=""/>
              <p:cNvSpPr/>
              <p:nvPr/>
            </p:nvSpPr>
            <p:spPr>
              <a:xfrm flipH="1">
                <a:off x="5367240" y="2803320"/>
                <a:ext cx="552240" cy="39672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6195600" y="2863440"/>
                <a:ext cx="0" cy="89496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551280" y="2922120"/>
                <a:ext cx="945720" cy="91548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9" name=""/>
          <p:cNvGrpSpPr/>
          <p:nvPr/>
        </p:nvGrpSpPr>
        <p:grpSpPr>
          <a:xfrm>
            <a:off x="1066680" y="533520"/>
            <a:ext cx="7797960" cy="4419360"/>
            <a:chOff x="1066680" y="533520"/>
            <a:chExt cx="7797960" cy="4419360"/>
          </a:xfrm>
        </p:grpSpPr>
        <p:sp>
          <p:nvSpPr>
            <p:cNvPr id="250" name=""/>
            <p:cNvSpPr/>
            <p:nvPr/>
          </p:nvSpPr>
          <p:spPr>
            <a:xfrm>
              <a:off x="1066680" y="533520"/>
              <a:ext cx="1752840" cy="4419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02120" y="533520"/>
              <a:ext cx="3962520" cy="4419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14600" y="533520"/>
              <a:ext cx="4114800" cy="2615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0" y="3911400"/>
              <a:ext cx="4114800" cy="102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19520" y="3124080"/>
              <a:ext cx="2057400" cy="7869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06280" y="4991040"/>
            <a:ext cx="8937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933480" indent="-280080">
              <a:lnSpc>
                <a:spcPct val="60000"/>
              </a:lnSpc>
              <a:spcBef>
                <a:spcPts val="726"/>
              </a:spcBef>
              <a:buSzPct val="102919"/>
              <a:buBlip>
                <a:blip r:embed="rId4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place de O'CoMMA dans CoMM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60000"/>
              </a:lnSpc>
              <a:spcBef>
                <a:spcPts val="799"/>
              </a:spcBef>
              <a:buSzPct val="100000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02b1a"/>
                </a:solidFill>
                <a:latin typeface="Bookman Old Style"/>
              </a:rPr>
              <a:t>Deux scénar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280080">
              <a:lnSpc>
                <a:spcPct val="60000"/>
              </a:lnSpc>
              <a:spcBef>
                <a:spcPts val="726"/>
              </a:spcBef>
              <a:buSzPct val="102919"/>
              <a:buBlip>
                <a:blip r:embed="rId5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insertion d'un nouvel employé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280080">
              <a:lnSpc>
                <a:spcPct val="60000"/>
              </a:lnSpc>
              <a:spcBef>
                <a:spcPts val="726"/>
              </a:spcBef>
              <a:buSzPct val="102919"/>
              <a:buBlip>
                <a:blip r:embed="rId5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aide à la veille technologiqu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781680" y="5600880"/>
            <a:ext cx="2362320" cy="904320"/>
            <a:chOff x="6781680" y="5600880"/>
            <a:chExt cx="2362320" cy="904320"/>
          </a:xfrm>
        </p:grpSpPr>
        <p:sp>
          <p:nvSpPr>
            <p:cNvPr id="257" name=""/>
            <p:cNvSpPr/>
            <p:nvPr/>
          </p:nvSpPr>
          <p:spPr>
            <a:xfrm>
              <a:off x="6781680" y="5651640"/>
              <a:ext cx="76320" cy="76176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1680 h 761760"/>
                <a:gd name="textAreaBottom" fmla="*/ 73008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04080" y="5600880"/>
              <a:ext cx="223992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993300"/>
                  </a:solidFill>
                  <a:latin typeface="Times New Roman"/>
                </a:rPr>
                <a:t>index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993300"/>
                  </a:solidFill>
                  <a:latin typeface="Times New Roman"/>
                </a:rPr>
                <a:t>recher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993300"/>
                  </a:solidFill>
                  <a:latin typeface="Times New Roman"/>
                </a:rPr>
                <a:t>diffu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3DD6-F9DB-4673-BCDE-8FFBD5FC32C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02b1a"/>
                </a:solidFill>
                <a:latin typeface="Bookman Old Style"/>
              </a:rPr>
              <a:t>Résolution distribuée utilisant contributions / primitives</a:t>
            </a: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2"/>
          <a:stretch/>
        </p:blipFill>
        <p:spPr>
          <a:xfrm>
            <a:off x="1158840" y="141120"/>
            <a:ext cx="7680240" cy="610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B10C-0C0A-4F72-A798-1B422919D6A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02b1a"/>
                </a:solidFill>
                <a:latin typeface="Bookman Old Style"/>
              </a:rPr>
              <a:t>Conclusion (ouf !)</a:t>
            </a: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205920" y="-38160"/>
            <a:ext cx="89377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47124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502b1a"/>
                </a:solidFill>
                <a:uFillTx/>
                <a:latin typeface="Bookman Old Style"/>
              </a:rPr>
              <a:t>Agents + Ontologie</a:t>
            </a: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  <a:p>
            <a:pPr lvl="1" marL="942840" indent="-28296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Prototype implanté et testé : réellement un nouveau paradigme utilisable</a:t>
            </a:r>
            <a:endParaRPr b="0" lang="en-US" sz="2900" spc="-1" strike="noStrike">
              <a:solidFill>
                <a:srgbClr val="502b1a"/>
              </a:solidFill>
              <a:latin typeface="Bookman Old Style"/>
            </a:endParaRPr>
          </a:p>
          <a:p>
            <a:pPr lvl="1" marL="942840" indent="-28296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Complémentaires (apports dans 2 sens)</a:t>
            </a:r>
            <a:endParaRPr b="0" lang="en-US" sz="2900" spc="-1" strike="noStrike">
              <a:solidFill>
                <a:srgbClr val="502b1a"/>
              </a:solidFill>
              <a:latin typeface="Bookman Old Style"/>
            </a:endParaRPr>
          </a:p>
          <a:p>
            <a:pPr marL="471240" indent="-47124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502b1a"/>
                </a:solidFill>
                <a:uFillTx/>
                <a:latin typeface="Bookman Old Style"/>
              </a:rPr>
              <a:t>Utilité de l'ontologie</a:t>
            </a: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  <a:p>
            <a:pPr lvl="1" marL="942840" indent="-28296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Composant de la mémoire</a:t>
            </a:r>
            <a:endParaRPr b="0" lang="en-US" sz="2900" spc="-1" strike="noStrike">
              <a:solidFill>
                <a:srgbClr val="502b1a"/>
              </a:solidFill>
              <a:latin typeface="Bookman Old Style"/>
            </a:endParaRPr>
          </a:p>
          <a:p>
            <a:pPr lvl="1" marL="942840" indent="-28296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7"/>
              </a:buBlip>
              <a:tabLst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Annotations et modèles</a:t>
            </a:r>
            <a:endParaRPr b="0" lang="en-US" sz="2900" spc="-1" strike="noStrike">
              <a:solidFill>
                <a:srgbClr val="502b1a"/>
              </a:solidFill>
              <a:latin typeface="Bookman Old Style"/>
            </a:endParaRPr>
          </a:p>
          <a:p>
            <a:pPr lvl="1" marL="942840" indent="-28296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8"/>
              </a:buBlip>
              <a:tabLst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Base pour d'autres consensus ex:</a:t>
            </a:r>
            <a:endParaRPr b="0" lang="en-US" sz="2900" spc="-1" strike="noStrike">
              <a:solidFill>
                <a:srgbClr val="502b1a"/>
              </a:solidFill>
              <a:latin typeface="Bookman Old Style"/>
            </a:endParaRPr>
          </a:p>
          <a:p>
            <a:pPr lvl="2" marL="1357560" indent="-226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Font typeface="Bookman Old Style"/>
              <a:buChar char="•"/>
              <a:tabLst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502b1a"/>
                </a:solidFill>
                <a:latin typeface="Bookman Old Style"/>
              </a:rPr>
              <a:t>protocoles communication   (faible couplage)</a:t>
            </a:r>
            <a:endParaRPr b="0" lang="en-US" sz="2600" spc="-1" strike="noStrike">
              <a:solidFill>
                <a:srgbClr val="502b1a"/>
              </a:solidFill>
              <a:latin typeface="Bookman Old Style"/>
            </a:endParaRPr>
          </a:p>
          <a:p>
            <a:pPr lvl="2" marL="1357560" indent="-226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Font typeface="Bookman Old Style"/>
              <a:buChar char="•"/>
              <a:tabLst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502b1a"/>
                </a:solidFill>
                <a:latin typeface="Bookman Old Style"/>
              </a:rPr>
              <a:t>distances, etc.            (consensus inférentiel)</a:t>
            </a:r>
            <a:endParaRPr b="0" lang="en-US" sz="2600" spc="-1" strike="noStrike">
              <a:solidFill>
                <a:srgbClr val="502b1a"/>
              </a:solidFill>
              <a:latin typeface="Bookman Old Style"/>
            </a:endParaRPr>
          </a:p>
          <a:p>
            <a:pPr lvl="2" marL="1357560" indent="-226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Font typeface="Bookman Old Style"/>
              <a:buChar char="•"/>
              <a:tabLst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502b1a"/>
                </a:solidFill>
                <a:latin typeface="Bookman Old Style"/>
              </a:rPr>
              <a:t>résolution distribuée, etc.        (coop. sociale)</a:t>
            </a:r>
            <a:endParaRPr b="0" lang="en-US" sz="2600" spc="-1" strike="noStrike">
              <a:solidFill>
                <a:srgbClr val="502b1a"/>
              </a:solidFill>
              <a:latin typeface="Bookman Old Style"/>
            </a:endParaRPr>
          </a:p>
          <a:p>
            <a:pPr marL="471240" indent="-47124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502b1a"/>
                </a:solidFill>
                <a:uFillTx/>
                <a:latin typeface="Bookman Old Style"/>
              </a:rPr>
              <a:t>Ontologie: clef de voûte du système</a:t>
            </a: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  <a:p>
            <a:pPr lvl="1" marL="942840" indent="-28296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10"/>
              </a:buBlip>
              <a:tabLst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Objet puissant et fédérateur</a:t>
            </a:r>
            <a:endParaRPr b="0" lang="en-US" sz="2900" spc="-1" strike="noStrike">
              <a:solidFill>
                <a:srgbClr val="502b1a"/>
              </a:solidFill>
              <a:latin typeface="Bookman Old Style"/>
            </a:endParaRPr>
          </a:p>
          <a:p>
            <a:pPr lvl="1" marL="942840" indent="-28296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11"/>
              </a:buBlip>
              <a:tabLst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Complexité et évolution (interne &amp; externe)</a:t>
            </a:r>
            <a:endParaRPr b="0" lang="en-US" sz="2900" spc="-1" strike="noStrike">
              <a:solidFill>
                <a:srgbClr val="502b1a"/>
              </a:solidFill>
              <a:latin typeface="Bookman Old Style"/>
            </a:endParaRPr>
          </a:p>
          <a:p>
            <a:pPr lvl="1" marL="942840" indent="-28296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12"/>
              </a:buBlip>
              <a:tabLst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Cycle de vie à étudier complètement</a:t>
            </a:r>
            <a:endParaRPr b="0" lang="en-US" sz="29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CA65-B675-4467-8C19-F6DA9A866E2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02b1a"/>
                </a:solidFill>
                <a:latin typeface="Bookman Old Style"/>
              </a:rPr>
              <a:t>Avez-vous des questions ? ...   non ? ... vous êtes certains ?</a:t>
            </a: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1752480" y="2286000"/>
            <a:ext cx="6477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7dfd3"/>
                  </a:outerShdw>
                </a:effectLst>
                <a:latin typeface="Times New Roman"/>
              </a:rPr>
              <a:t>Merci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277EE-99DC-4FB7-873E-996B0A2F6330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02b1a"/>
                </a:solidFill>
                <a:latin typeface="Bookman Old Style"/>
              </a:rPr>
              <a:t>Les principes derrière l'approche de CoMMA</a:t>
            </a: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05920" y="-76320"/>
            <a:ext cx="8937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02b1a"/>
                </a:solidFill>
                <a:latin typeface="Bookman Old Style"/>
              </a:rPr>
              <a:t>Approche choisie:</a:t>
            </a: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066680" y="533520"/>
            <a:ext cx="7772400" cy="4379760"/>
            <a:chOff x="1066680" y="533520"/>
            <a:chExt cx="7772400" cy="4379760"/>
          </a:xfrm>
        </p:grpSpPr>
        <p:sp>
          <p:nvSpPr>
            <p:cNvPr id="262" name=""/>
            <p:cNvSpPr/>
            <p:nvPr/>
          </p:nvSpPr>
          <p:spPr>
            <a:xfrm>
              <a:off x="1066680" y="533520"/>
              <a:ext cx="7772400" cy="437976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4182840" y="612720"/>
              <a:ext cx="1657080" cy="4180680"/>
              <a:chOff x="4182840" y="612720"/>
              <a:chExt cx="1657080" cy="4180680"/>
            </a:xfrm>
          </p:grpSpPr>
          <p:sp>
            <p:nvSpPr>
              <p:cNvPr id="264" name=""/>
              <p:cNvSpPr/>
              <p:nvPr/>
            </p:nvSpPr>
            <p:spPr>
              <a:xfrm>
                <a:off x="4182840" y="771120"/>
                <a:ext cx="1500120" cy="402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341600" y="612720"/>
                <a:ext cx="1498320" cy="239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Mémoire d'entrepris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873080" y="1966680"/>
              <a:ext cx="6532560" cy="994680"/>
              <a:chOff x="1873080" y="1966680"/>
              <a:chExt cx="6532560" cy="994680"/>
            </a:xfrm>
          </p:grpSpPr>
          <p:sp>
            <p:nvSpPr>
              <p:cNvPr id="267" name=""/>
              <p:cNvSpPr/>
              <p:nvPr/>
            </p:nvSpPr>
            <p:spPr>
              <a:xfrm>
                <a:off x="1873080" y="2052000"/>
                <a:ext cx="6392880" cy="909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686640" y="1966680"/>
                <a:ext cx="1719000" cy="237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FR" sz="900" spc="-1" strike="noStrike">
                    <a:solidFill>
                      <a:srgbClr val="000000"/>
                    </a:solidFill>
                    <a:latin typeface="Courier New"/>
                  </a:rPr>
                  <a:t>Système Multi-Ag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43440" y="2138040"/>
                <a:ext cx="789120" cy="158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Apprentiss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95400" y="2628360"/>
                <a:ext cx="66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Agent Utilisate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289240" y="2188800"/>
                <a:ext cx="828720" cy="175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Apprentiss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2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062080" y="227916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73" name=""/>
              <p:cNvGrpSpPr/>
              <p:nvPr/>
            </p:nvGrpSpPr>
            <p:grpSpPr>
              <a:xfrm>
                <a:off x="5840280" y="2285640"/>
                <a:ext cx="908280" cy="636120"/>
                <a:chOff x="5840280" y="2285640"/>
                <a:chExt cx="908280" cy="6361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840280" y="264564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group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d'intérêt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75" name="agen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16400" y="228564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276" name=""/>
              <p:cNvSpPr/>
              <p:nvPr/>
            </p:nvSpPr>
            <p:spPr>
              <a:xfrm>
                <a:off x="4183200" y="2053800"/>
                <a:ext cx="1500120" cy="9075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7" name="agent" descr=""/>
              <p:cNvPicPr/>
              <p:nvPr/>
            </p:nvPicPr>
            <p:blipFill>
              <a:blip r:embed="rId5"/>
              <a:stretch/>
            </p:blipFill>
            <p:spPr>
              <a:xfrm>
                <a:off x="3201840" y="232992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2921040" y="2684160"/>
                <a:ext cx="9079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Agent Ontologie et Modèl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748560" y="2680920"/>
                <a:ext cx="8287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Agent Utilisate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221600" y="2241000"/>
                <a:ext cx="828720" cy="163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Apprentiss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1" name="agent" descr=""/>
              <p:cNvPicPr/>
              <p:nvPr/>
            </p:nvPicPr>
            <p:blipFill>
              <a:blip r:embed="rId6"/>
              <a:stretch/>
            </p:blipFill>
            <p:spPr>
              <a:xfrm>
                <a:off x="6994440" y="233172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82" name=""/>
              <p:cNvGrpSpPr/>
              <p:nvPr/>
            </p:nvGrpSpPr>
            <p:grpSpPr>
              <a:xfrm>
                <a:off x="3710160" y="2098080"/>
                <a:ext cx="907920" cy="634680"/>
                <a:chOff x="3710160" y="2098080"/>
                <a:chExt cx="907920" cy="634680"/>
              </a:xfrm>
            </p:grpSpPr>
            <p:pic>
              <p:nvPicPr>
                <p:cNvPr id="283" name="agent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986280" y="209808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3710160" y="245628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d'inter-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connex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5" name=""/>
          <p:cNvGrpSpPr/>
          <p:nvPr/>
        </p:nvGrpSpPr>
        <p:grpSpPr>
          <a:xfrm>
            <a:off x="1224000" y="3002040"/>
            <a:ext cx="1101240" cy="1551960"/>
            <a:chOff x="1224000" y="3002040"/>
            <a:chExt cx="1101240" cy="1551960"/>
          </a:xfrm>
        </p:grpSpPr>
        <p:sp>
          <p:nvSpPr>
            <p:cNvPr id="286" name=""/>
            <p:cNvSpPr/>
            <p:nvPr/>
          </p:nvSpPr>
          <p:spPr>
            <a:xfrm>
              <a:off x="1224000" y="3957480"/>
              <a:ext cx="10746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Ingénieur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la connaiss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895400" y="3002040"/>
              <a:ext cx="429840" cy="1180800"/>
              <a:chOff x="1895400" y="3002040"/>
              <a:chExt cx="429840" cy="118080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1895400" y="3002040"/>
                <a:ext cx="210960" cy="97920"/>
                <a:chOff x="1895400" y="3002040"/>
                <a:chExt cx="210960" cy="979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895400" y="307584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947240" y="301248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019960" y="300204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060280" y="303948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969920" y="3071880"/>
                <a:ext cx="355320" cy="1110960"/>
                <a:chOff x="1969920" y="3071880"/>
                <a:chExt cx="355320" cy="11109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2034000" y="325476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161800" y="307188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969920" y="347040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86560" y="345852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046960" y="371916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157480" y="371916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00" name="ampoule" descr=""/>
              <p:cNvPicPr/>
              <p:nvPr/>
            </p:nvPicPr>
            <p:blipFill>
              <a:blip r:embed="rId8"/>
              <a:stretch/>
            </p:blipFill>
            <p:spPr>
              <a:xfrm>
                <a:off x="1934640" y="306324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01" name=""/>
          <p:cNvGrpSpPr/>
          <p:nvPr/>
        </p:nvGrpSpPr>
        <p:grpSpPr>
          <a:xfrm>
            <a:off x="1146240" y="612720"/>
            <a:ext cx="1774800" cy="1433520"/>
            <a:chOff x="1146240" y="612720"/>
            <a:chExt cx="1774800" cy="1433520"/>
          </a:xfrm>
        </p:grpSpPr>
        <p:sp>
          <p:nvSpPr>
            <p:cNvPr id="302" name=""/>
            <p:cNvSpPr/>
            <p:nvPr/>
          </p:nvSpPr>
          <p:spPr>
            <a:xfrm>
              <a:off x="1146240" y="168732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Auteur et/o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Annotateur de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1698480" y="612720"/>
              <a:ext cx="789120" cy="1231920"/>
              <a:chOff x="1698480" y="612720"/>
              <a:chExt cx="789120" cy="123192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1973880" y="1060560"/>
                <a:ext cx="477360" cy="784080"/>
                <a:chOff x="1973880" y="1060560"/>
                <a:chExt cx="477360" cy="7840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2183040" y="132120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226240" y="156780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058480" y="155412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973880" y="132192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293920" y="106056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139120" y="110412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1984680" y="612720"/>
                <a:ext cx="236520" cy="239040"/>
                <a:chOff x="1984680" y="612720"/>
                <a:chExt cx="236520" cy="2390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1984680" y="61272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13" name="doc_0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11680" y="63432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314" name=""/>
              <p:cNvGrpSpPr/>
              <p:nvPr/>
            </p:nvGrpSpPr>
            <p:grpSpPr>
              <a:xfrm>
                <a:off x="1698480" y="736200"/>
                <a:ext cx="255240" cy="278640"/>
                <a:chOff x="1698480" y="736200"/>
                <a:chExt cx="255240" cy="27864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1698480" y="73620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16" name="doc_0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706760" y="75492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7" name=""/>
              <p:cNvGrpSpPr/>
              <p:nvPr/>
            </p:nvGrpSpPr>
            <p:grpSpPr>
              <a:xfrm>
                <a:off x="1856160" y="1055160"/>
                <a:ext cx="204120" cy="245160"/>
                <a:chOff x="1856160" y="1055160"/>
                <a:chExt cx="204120" cy="24516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856160" y="105516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19" name="doc_0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876680" y="107172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0" name=""/>
              <p:cNvGrpSpPr/>
              <p:nvPr/>
            </p:nvGrpSpPr>
            <p:grpSpPr>
              <a:xfrm>
                <a:off x="2250720" y="776160"/>
                <a:ext cx="236880" cy="278640"/>
                <a:chOff x="2250720" y="776160"/>
                <a:chExt cx="236880" cy="2786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2250720" y="77616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2" name="doc_05gif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256120" y="80964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323" name=""/>
          <p:cNvGrpSpPr/>
          <p:nvPr/>
        </p:nvGrpSpPr>
        <p:grpSpPr>
          <a:xfrm>
            <a:off x="7418520" y="3759120"/>
            <a:ext cx="1106280" cy="1193760"/>
            <a:chOff x="7418520" y="3759120"/>
            <a:chExt cx="1106280" cy="1193760"/>
          </a:xfrm>
        </p:grpSpPr>
        <p:sp>
          <p:nvSpPr>
            <p:cNvPr id="324" name=""/>
            <p:cNvSpPr/>
            <p:nvPr/>
          </p:nvSpPr>
          <p:spPr>
            <a:xfrm>
              <a:off x="7418520" y="470520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Utilisateur fi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7576920" y="3838320"/>
              <a:ext cx="430200" cy="903600"/>
              <a:chOff x="7576920" y="3838320"/>
              <a:chExt cx="430200" cy="903600"/>
            </a:xfrm>
          </p:grpSpPr>
          <p:sp>
            <p:nvSpPr>
              <p:cNvPr id="326" name=""/>
              <p:cNvSpPr/>
              <p:nvPr/>
            </p:nvSpPr>
            <p:spPr>
              <a:xfrm flipH="1">
                <a:off x="7701480" y="388872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7812720" y="383832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7723080" y="410040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7621920" y="410868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7576560" y="436716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7756560" y="436644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8010360" y="3759120"/>
              <a:ext cx="473400" cy="396720"/>
              <a:chOff x="8010360" y="3759120"/>
              <a:chExt cx="473400" cy="396720"/>
            </a:xfrm>
          </p:grpSpPr>
          <p:sp>
            <p:nvSpPr>
              <p:cNvPr id="333" name=""/>
              <p:cNvSpPr/>
              <p:nvPr/>
            </p:nvSpPr>
            <p:spPr>
              <a:xfrm>
                <a:off x="8010360" y="375912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34" name="inter" descr=""/>
              <p:cNvPicPr/>
              <p:nvPr/>
            </p:nvPicPr>
            <p:blipFill>
              <a:blip r:embed="rId13"/>
              <a:stretch/>
            </p:blipFill>
            <p:spPr>
              <a:xfrm>
                <a:off x="8126640" y="382932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35" name=""/>
          <p:cNvGrpSpPr/>
          <p:nvPr/>
        </p:nvGrpSpPr>
        <p:grpSpPr>
          <a:xfrm>
            <a:off x="2487600" y="1023840"/>
            <a:ext cx="1617840" cy="903240"/>
            <a:chOff x="2487600" y="1023840"/>
            <a:chExt cx="1617840" cy="903240"/>
          </a:xfrm>
        </p:grpSpPr>
        <p:pic>
          <p:nvPicPr>
            <p:cNvPr id="336" name="" descr=""/>
            <p:cNvPicPr/>
            <p:nvPr/>
          </p:nvPicPr>
          <p:blipFill>
            <a:blip r:embed="rId14"/>
            <a:stretch/>
          </p:blipFill>
          <p:spPr>
            <a:xfrm>
              <a:off x="2487600" y="15001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7" name=""/>
            <p:cNvGrpSpPr/>
            <p:nvPr/>
          </p:nvGrpSpPr>
          <p:grpSpPr>
            <a:xfrm>
              <a:off x="2763720" y="1023840"/>
              <a:ext cx="1025640" cy="903240"/>
              <a:chOff x="2763720" y="1023840"/>
              <a:chExt cx="1025640" cy="903240"/>
            </a:xfrm>
          </p:grpSpPr>
          <p:sp>
            <p:nvSpPr>
              <p:cNvPr id="338" name=""/>
              <p:cNvSpPr/>
              <p:nvPr/>
            </p:nvSpPr>
            <p:spPr>
              <a:xfrm>
                <a:off x="2763720" y="1289880"/>
                <a:ext cx="102564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763720" y="1023840"/>
                <a:ext cx="102564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781360" y="1292760"/>
                <a:ext cx="10076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4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157920" y="152532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840400" y="105444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43" name="" descr=""/>
            <p:cNvPicPr/>
            <p:nvPr/>
          </p:nvPicPr>
          <p:blipFill>
            <a:blip r:embed="rId17"/>
            <a:stretch/>
          </p:blipFill>
          <p:spPr>
            <a:xfrm>
              <a:off x="3868560" y="1488960"/>
              <a:ext cx="23688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5761080" y="3798720"/>
            <a:ext cx="1697040" cy="995400"/>
            <a:chOff x="5761080" y="3798720"/>
            <a:chExt cx="1697040" cy="995400"/>
          </a:xfrm>
        </p:grpSpPr>
        <p:pic>
          <p:nvPicPr>
            <p:cNvPr id="345" name="" descr=""/>
            <p:cNvPicPr/>
            <p:nvPr/>
          </p:nvPicPr>
          <p:blipFill>
            <a:blip r:embed="rId18"/>
            <a:stretch/>
          </p:blipFill>
          <p:spPr>
            <a:xfrm>
              <a:off x="5761080" y="427644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9"/>
            <a:stretch/>
          </p:blipFill>
          <p:spPr>
            <a:xfrm>
              <a:off x="7221600" y="427644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7" name=""/>
            <p:cNvGrpSpPr/>
            <p:nvPr/>
          </p:nvGrpSpPr>
          <p:grpSpPr>
            <a:xfrm>
              <a:off x="6037200" y="3798720"/>
              <a:ext cx="1104840" cy="995400"/>
              <a:chOff x="6037200" y="3798720"/>
              <a:chExt cx="1104840" cy="99540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6037200" y="3798720"/>
                <a:ext cx="1026000" cy="902880"/>
                <a:chOff x="6037200" y="3798720"/>
                <a:chExt cx="1026000" cy="9028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6037200" y="406476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037200" y="379872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054840" y="406728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5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431760" y="430020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6113880" y="382932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54" name=""/>
              <p:cNvGrpSpPr/>
              <p:nvPr/>
            </p:nvGrpSpPr>
            <p:grpSpPr>
              <a:xfrm>
                <a:off x="6076440" y="3838320"/>
                <a:ext cx="1026000" cy="903240"/>
                <a:chOff x="6076440" y="3838320"/>
                <a:chExt cx="1026000" cy="90324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6076440" y="410436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076440" y="383832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094080" y="410724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5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471000" y="433980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6153120" y="386892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0" name=""/>
              <p:cNvGrpSpPr/>
              <p:nvPr/>
            </p:nvGrpSpPr>
            <p:grpSpPr>
              <a:xfrm>
                <a:off x="6116040" y="3890880"/>
                <a:ext cx="1026000" cy="903240"/>
                <a:chOff x="6116040" y="3890880"/>
                <a:chExt cx="1026000" cy="9032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6116040" y="415692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116040" y="389088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133680" y="41598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6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6510600" y="439236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6192720" y="392148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366" name=""/>
          <p:cNvGrpSpPr/>
          <p:nvPr/>
        </p:nvGrpSpPr>
        <p:grpSpPr>
          <a:xfrm>
            <a:off x="2527200" y="3121200"/>
            <a:ext cx="2168640" cy="677160"/>
            <a:chOff x="2527200" y="3121200"/>
            <a:chExt cx="2168640" cy="677160"/>
          </a:xfrm>
        </p:grpSpPr>
        <p:pic>
          <p:nvPicPr>
            <p:cNvPr id="367" name="" descr=""/>
            <p:cNvPicPr/>
            <p:nvPr/>
          </p:nvPicPr>
          <p:blipFill>
            <a:blip r:embed="rId26"/>
            <a:stretch/>
          </p:blipFill>
          <p:spPr>
            <a:xfrm>
              <a:off x="2527200" y="340020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27"/>
            <a:stretch/>
          </p:blipFill>
          <p:spPr>
            <a:xfrm>
              <a:off x="3828960" y="340020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9" name=""/>
            <p:cNvGrpSpPr/>
            <p:nvPr/>
          </p:nvGrpSpPr>
          <p:grpSpPr>
            <a:xfrm>
              <a:off x="2724120" y="3121200"/>
              <a:ext cx="1008000" cy="677160"/>
              <a:chOff x="2724120" y="3121200"/>
              <a:chExt cx="1008000" cy="677160"/>
            </a:xfrm>
          </p:grpSpPr>
          <p:sp>
            <p:nvSpPr>
              <p:cNvPr id="370" name=""/>
              <p:cNvSpPr/>
              <p:nvPr/>
            </p:nvSpPr>
            <p:spPr>
              <a:xfrm>
                <a:off x="2881800" y="3160800"/>
                <a:ext cx="670680" cy="6375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1" name="onto_01" descr=""/>
              <p:cNvPicPr/>
              <p:nvPr/>
            </p:nvPicPr>
            <p:blipFill>
              <a:blip r:embed="rId28"/>
              <a:stretch/>
            </p:blipFill>
            <p:spPr>
              <a:xfrm>
                <a:off x="3039840" y="3394440"/>
                <a:ext cx="315720" cy="31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"/>
              <p:cNvSpPr/>
              <p:nvPr/>
            </p:nvSpPr>
            <p:spPr>
              <a:xfrm>
                <a:off x="2724120" y="3121200"/>
                <a:ext cx="10080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Ontologi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3" name="onto_01" descr=""/>
            <p:cNvPicPr/>
            <p:nvPr/>
          </p:nvPicPr>
          <p:blipFill>
            <a:blip r:embed="rId29"/>
            <a:stretch/>
          </p:blipFill>
          <p:spPr>
            <a:xfrm>
              <a:off x="4381560" y="3360600"/>
              <a:ext cx="314280" cy="31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4" name=""/>
          <p:cNvGrpSpPr/>
          <p:nvPr/>
        </p:nvGrpSpPr>
        <p:grpSpPr>
          <a:xfrm>
            <a:off x="2314440" y="3871800"/>
            <a:ext cx="1632240" cy="882360"/>
            <a:chOff x="2314440" y="3871800"/>
            <a:chExt cx="1632240" cy="882360"/>
          </a:xfrm>
        </p:grpSpPr>
        <p:grpSp>
          <p:nvGrpSpPr>
            <p:cNvPr id="375" name=""/>
            <p:cNvGrpSpPr/>
            <p:nvPr/>
          </p:nvGrpSpPr>
          <p:grpSpPr>
            <a:xfrm>
              <a:off x="2314440" y="4155840"/>
              <a:ext cx="1632240" cy="598320"/>
              <a:chOff x="2314440" y="4155840"/>
              <a:chExt cx="1632240" cy="598320"/>
            </a:xfrm>
          </p:grpSpPr>
          <p:sp>
            <p:nvSpPr>
              <p:cNvPr id="376" name=""/>
              <p:cNvSpPr/>
              <p:nvPr/>
            </p:nvSpPr>
            <p:spPr>
              <a:xfrm>
                <a:off x="2393280" y="4195440"/>
                <a:ext cx="134100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7" name="onto_02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32520" y="4399560"/>
                <a:ext cx="27612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2314440" y="415584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Modèl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616120" y="4355280"/>
                <a:ext cx="133056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Times New Roman"/>
                  </a:rPr>
                  <a:t>- Modèle d'entrepri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Times New Roman"/>
                  </a:rPr>
                  <a:t>- Profils d'utilisateu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80" name="" descr=""/>
            <p:cNvPicPr/>
            <p:nvPr/>
          </p:nvPicPr>
          <p:blipFill>
            <a:blip r:embed="rId31"/>
            <a:stretch/>
          </p:blipFill>
          <p:spPr>
            <a:xfrm>
              <a:off x="3117960" y="3871800"/>
              <a:ext cx="23652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"/>
          <p:cNvGrpSpPr/>
          <p:nvPr/>
        </p:nvGrpSpPr>
        <p:grpSpPr>
          <a:xfrm>
            <a:off x="3828960" y="4237200"/>
            <a:ext cx="1065240" cy="357120"/>
            <a:chOff x="3828960" y="4237200"/>
            <a:chExt cx="1065240" cy="357120"/>
          </a:xfrm>
        </p:grpSpPr>
        <p:pic>
          <p:nvPicPr>
            <p:cNvPr id="382" name="" descr=""/>
            <p:cNvPicPr/>
            <p:nvPr/>
          </p:nvPicPr>
          <p:blipFill>
            <a:blip r:embed="rId32"/>
            <a:stretch/>
          </p:blipFill>
          <p:spPr>
            <a:xfrm>
              <a:off x="3828960" y="431676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onto_02" descr=""/>
            <p:cNvPicPr/>
            <p:nvPr/>
          </p:nvPicPr>
          <p:blipFill>
            <a:blip r:embed="rId33"/>
            <a:stretch/>
          </p:blipFill>
          <p:spPr>
            <a:xfrm>
              <a:off x="4538520" y="423720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4" name=""/>
          <p:cNvGrpSpPr/>
          <p:nvPr/>
        </p:nvGrpSpPr>
        <p:grpSpPr>
          <a:xfrm>
            <a:off x="7497720" y="3025800"/>
            <a:ext cx="631800" cy="772920"/>
            <a:chOff x="7497720" y="3025800"/>
            <a:chExt cx="631800" cy="772920"/>
          </a:xfrm>
        </p:grpSpPr>
        <p:pic>
          <p:nvPicPr>
            <p:cNvPr id="385" name="" descr=""/>
            <p:cNvPicPr/>
            <p:nvPr/>
          </p:nvPicPr>
          <p:blipFill>
            <a:blip r:embed="rId34"/>
            <a:stretch/>
          </p:blipFill>
          <p:spPr>
            <a:xfrm>
              <a:off x="7694640" y="355896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6" name=""/>
            <p:cNvGrpSpPr/>
            <p:nvPr/>
          </p:nvGrpSpPr>
          <p:grpSpPr>
            <a:xfrm>
              <a:off x="7497720" y="3025800"/>
              <a:ext cx="631800" cy="490320"/>
              <a:chOff x="7497720" y="3025800"/>
              <a:chExt cx="631800" cy="490320"/>
            </a:xfrm>
          </p:grpSpPr>
          <p:sp>
            <p:nvSpPr>
              <p:cNvPr id="387" name=""/>
              <p:cNvSpPr/>
              <p:nvPr/>
            </p:nvSpPr>
            <p:spPr>
              <a:xfrm>
                <a:off x="7536960" y="307800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497720" y="302580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Requête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89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734600" y="325908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90" name=""/>
          <p:cNvGrpSpPr/>
          <p:nvPr/>
        </p:nvGrpSpPr>
        <p:grpSpPr>
          <a:xfrm>
            <a:off x="4262400" y="954000"/>
            <a:ext cx="1301760" cy="3565440"/>
            <a:chOff x="4262400" y="954000"/>
            <a:chExt cx="1301760" cy="3565440"/>
          </a:xfrm>
        </p:grpSpPr>
        <p:pic>
          <p:nvPicPr>
            <p:cNvPr id="391" name="doc_01" descr=""/>
            <p:cNvPicPr/>
            <p:nvPr/>
          </p:nvPicPr>
          <p:blipFill>
            <a:blip r:embed="rId36"/>
            <a:stretch/>
          </p:blipFill>
          <p:spPr>
            <a:xfrm>
              <a:off x="5170680" y="1568160"/>
              <a:ext cx="21420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doc_01" descr=""/>
            <p:cNvPicPr/>
            <p:nvPr/>
          </p:nvPicPr>
          <p:blipFill>
            <a:blip r:embed="rId37"/>
            <a:stretch/>
          </p:blipFill>
          <p:spPr>
            <a:xfrm>
              <a:off x="5131080" y="1488960"/>
              <a:ext cx="21420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memory_01" descr=""/>
            <p:cNvPicPr/>
            <p:nvPr/>
          </p:nvPicPr>
          <p:blipFill>
            <a:blip r:embed="rId38"/>
            <a:stretch/>
          </p:blipFill>
          <p:spPr>
            <a:xfrm>
              <a:off x="4262400" y="954000"/>
              <a:ext cx="3319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doc_03" descr=""/>
            <p:cNvPicPr/>
            <p:nvPr/>
          </p:nvPicPr>
          <p:blipFill>
            <a:blip r:embed="rId39"/>
            <a:stretch/>
          </p:blipFill>
          <p:spPr>
            <a:xfrm>
              <a:off x="4419720" y="3724200"/>
              <a:ext cx="39528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395" name="doc_04" descr=""/>
            <p:cNvPicPr/>
            <p:nvPr/>
          </p:nvPicPr>
          <p:blipFill>
            <a:blip r:embed="rId40"/>
            <a:stretch/>
          </p:blipFill>
          <p:spPr>
            <a:xfrm>
              <a:off x="4341960" y="1449360"/>
              <a:ext cx="27612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doc_05gif" descr=""/>
            <p:cNvPicPr/>
            <p:nvPr/>
          </p:nvPicPr>
          <p:blipFill>
            <a:blip r:embed="rId41"/>
            <a:stretch/>
          </p:blipFill>
          <p:spPr>
            <a:xfrm>
              <a:off x="5011920" y="3643200"/>
              <a:ext cx="3045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42"/>
            <a:stretch/>
          </p:blipFill>
          <p:spPr>
            <a:xfrm>
              <a:off x="4934160" y="3081240"/>
              <a:ext cx="4111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43"/>
            <a:stretch/>
          </p:blipFill>
          <p:spPr>
            <a:xfrm>
              <a:off x="4759560" y="993600"/>
              <a:ext cx="33156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doc_01" descr=""/>
            <p:cNvPicPr/>
            <p:nvPr/>
          </p:nvPicPr>
          <p:blipFill>
            <a:blip r:embed="rId44"/>
            <a:stretch/>
          </p:blipFill>
          <p:spPr>
            <a:xfrm>
              <a:off x="5210280" y="1608120"/>
              <a:ext cx="21420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" descr=""/>
            <p:cNvPicPr/>
            <p:nvPr/>
          </p:nvPicPr>
          <p:blipFill>
            <a:blip r:embed="rId45"/>
            <a:stretch/>
          </p:blipFill>
          <p:spPr>
            <a:xfrm>
              <a:off x="5248440" y="4201920"/>
              <a:ext cx="315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46"/>
            <a:stretch/>
          </p:blipFill>
          <p:spPr>
            <a:xfrm>
              <a:off x="4735800" y="1608120"/>
              <a:ext cx="33336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47"/>
            <a:stretch/>
          </p:blipFill>
          <p:spPr>
            <a:xfrm>
              <a:off x="5248440" y="1050840"/>
              <a:ext cx="315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"/>
          <p:cNvSpPr txBox="1"/>
          <p:nvPr/>
        </p:nvSpPr>
        <p:spPr>
          <a:xfrm>
            <a:off x="2408400" y="387828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78000" y="731880"/>
            <a:ext cx="23832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261200" y="399744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06" name=""/>
          <p:cNvSpPr/>
          <p:nvPr/>
        </p:nvSpPr>
        <p:spPr>
          <a:xfrm>
            <a:off x="206280" y="4965840"/>
            <a:ext cx="8937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52560" indent="-285840">
              <a:lnSpc>
                <a:spcPct val="70000"/>
              </a:lnSpc>
              <a:spcBef>
                <a:spcPts val="726"/>
              </a:spcBef>
              <a:buSzPct val="102919"/>
              <a:buBlip>
                <a:blip r:embed="rId4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502b1a"/>
                </a:solidFill>
                <a:latin typeface="Bookman Old Style"/>
              </a:rPr>
              <a:t>Mémoire :</a:t>
            </a: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 web sémantique d'entrepris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70000"/>
              </a:lnSpc>
              <a:spcBef>
                <a:spcPts val="726"/>
              </a:spcBef>
              <a:buSzPct val="102919"/>
              <a:buBlip>
                <a:blip r:embed="rId4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502b1a"/>
                </a:solidFill>
                <a:latin typeface="Bookman Old Style"/>
              </a:rPr>
              <a:t>Gestion :</a:t>
            </a: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 système multi-ag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70000"/>
              </a:lnSpc>
              <a:spcBef>
                <a:spcPts val="726"/>
              </a:spcBef>
              <a:buSzPct val="102919"/>
              <a:buBlip>
                <a:blip r:embed="rId5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502b1a"/>
                </a:solidFill>
                <a:latin typeface="Bookman Old Style"/>
              </a:rPr>
              <a:t>Ontologie</a:t>
            </a: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 = base commune transversale</a:t>
            </a:r>
            <a:br>
              <a:rPr sz="2900"/>
            </a:b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primitives annotation w.s. &amp; com. ag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066680" y="533520"/>
            <a:ext cx="7797960" cy="4419360"/>
            <a:chOff x="1066680" y="533520"/>
            <a:chExt cx="7797960" cy="4419360"/>
          </a:xfrm>
        </p:grpSpPr>
        <p:sp>
          <p:nvSpPr>
            <p:cNvPr id="408" name=""/>
            <p:cNvSpPr/>
            <p:nvPr/>
          </p:nvSpPr>
          <p:spPr>
            <a:xfrm>
              <a:off x="1066680" y="533520"/>
              <a:ext cx="3048120" cy="4419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892840" y="533520"/>
              <a:ext cx="2971800" cy="4419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27400" y="533520"/>
              <a:ext cx="1752840" cy="4419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367C-9F9D-4387-880C-8FADF5E5382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02b1a"/>
                </a:solidFill>
                <a:latin typeface="Bookman Old Style"/>
              </a:rPr>
              <a:t>RDF(S) = RDF &amp; RDFS</a:t>
            </a: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05920" y="0"/>
            <a:ext cx="8937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02b1a"/>
                </a:solidFill>
                <a:latin typeface="Bookman Old Style"/>
              </a:rPr>
              <a:t>RDF(S) : </a:t>
            </a:r>
            <a:r>
              <a:rPr b="0" lang="fr-FR" sz="3200" spc="-1" strike="noStrike">
                <a:solidFill>
                  <a:srgbClr val="502b1a"/>
                </a:solidFill>
                <a:latin typeface="Bookman Old Style"/>
              </a:rPr>
              <a:t> (et sa syntaxe XML)</a:t>
            </a: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  <a:p>
            <a:pPr lvl="1" marL="952560" indent="-28584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RDF : </a:t>
            </a:r>
            <a:r>
              <a:rPr b="0" lang="fr-FR" sz="2900" spc="-1" strike="noStrike" u="sng">
                <a:solidFill>
                  <a:srgbClr val="502b1a"/>
                </a:solidFill>
                <a:uFillTx/>
                <a:latin typeface="Bookman Old Style"/>
              </a:rPr>
              <a:t>annoter ressources Web</a:t>
            </a: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      (interne)</a:t>
            </a:r>
            <a:endParaRPr b="0" lang="en-US" sz="2900" spc="-1" strike="noStrike">
              <a:solidFill>
                <a:srgbClr val="502b1a"/>
              </a:solidFill>
              <a:latin typeface="Bookman Old Style"/>
            </a:endParaRPr>
          </a:p>
          <a:p>
            <a:pPr lvl="1" marL="952560" indent="-28584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RDFS (Schema) : formaliser l'</a:t>
            </a:r>
            <a:r>
              <a:rPr b="0" lang="fr-FR" sz="2900" spc="-1" strike="noStrike" u="sng">
                <a:solidFill>
                  <a:srgbClr val="502b1a"/>
                </a:solidFill>
                <a:uFillTx/>
                <a:latin typeface="Bookman Old Style"/>
              </a:rPr>
              <a:t>ontologie</a:t>
            </a:r>
            <a:endParaRPr b="0" lang="en-US" sz="2900" spc="-1" strike="noStrike">
              <a:solidFill>
                <a:srgbClr val="502b1a"/>
              </a:solidFill>
              <a:latin typeface="Bookman Old Style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02b1a"/>
                </a:solidFill>
                <a:latin typeface="Bookman Old Style"/>
              </a:rPr>
              <a:t>O'CoMMA </a:t>
            </a:r>
            <a:r>
              <a:rPr b="0" lang="fr-FR" sz="3200" spc="-1" strike="noStrike">
                <a:solidFill>
                  <a:srgbClr val="502b1a"/>
                </a:solidFill>
                <a:latin typeface="Bookman Old Style"/>
              </a:rPr>
              <a:t>(en RDFS) :</a:t>
            </a: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  <a:p>
            <a:pPr lvl="1" marL="952560" indent="-28584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470 Concepts (13) + 79 Relations (2)</a:t>
            </a:r>
            <a:endParaRPr b="0" lang="en-US" sz="2900" spc="-1" strike="noStrike">
              <a:solidFill>
                <a:srgbClr val="502b1a"/>
              </a:solidFill>
              <a:latin typeface="Bookman Old Style"/>
            </a:endParaRPr>
          </a:p>
          <a:p>
            <a:pPr lvl="1" marL="952560" indent="-28584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~700 termes</a:t>
            </a:r>
            <a:endParaRPr b="0" lang="en-US" sz="2900" spc="-1" strike="noStrike">
              <a:solidFill>
                <a:srgbClr val="502b1a"/>
              </a:solidFill>
              <a:latin typeface="Bookman Old Style"/>
            </a:endParaRPr>
          </a:p>
          <a:p>
            <a:pPr lvl="1" marL="952560" indent="-28584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~540 définitions</a:t>
            </a:r>
            <a:endParaRPr b="0" lang="en-US" sz="2900" spc="-1" strike="noStrike">
              <a:solidFill>
                <a:srgbClr val="502b1a"/>
              </a:solidFill>
              <a:latin typeface="Bookman Old Style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447920" y="3200400"/>
            <a:ext cx="7848360" cy="2514240"/>
            <a:chOff x="1447920" y="3200400"/>
            <a:chExt cx="7848360" cy="2514240"/>
          </a:xfrm>
        </p:grpSpPr>
        <p:sp>
          <p:nvSpPr>
            <p:cNvPr id="414" name=""/>
            <p:cNvSpPr/>
            <p:nvPr/>
          </p:nvSpPr>
          <p:spPr>
            <a:xfrm>
              <a:off x="5638680" y="3200400"/>
              <a:ext cx="2278080" cy="36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8805" y="29960"/>
                  </a:moveTo>
                  <a:lnTo>
                    <a:pt x="-723" y="5476"/>
                  </a:lnTo>
                </a:path>
                <a:path w="21600" h="21600">
                  <a:moveTo>
                    <a:pt x="-723" y="0"/>
                  </a:moveTo>
                  <a:lnTo>
                    <a:pt x="-723" y="21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Haut : abstra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53080" y="3855960"/>
              <a:ext cx="2552760" cy="36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582" y="25059"/>
                  </a:moveTo>
                  <a:lnTo>
                    <a:pt x="-645" y="5476"/>
                  </a:lnTo>
                </a:path>
                <a:path w="21600" h="21600">
                  <a:moveTo>
                    <a:pt x="-645" y="0"/>
                  </a:moveTo>
                  <a:lnTo>
                    <a:pt x="-645" y="21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Milieu : comm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683480" y="4730760"/>
              <a:ext cx="1612800" cy="73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9968" y="14007"/>
                  </a:moveTo>
                  <a:lnTo>
                    <a:pt x="-1020" y="3337"/>
                  </a:lnTo>
                </a:path>
                <a:path w="21600" h="21600">
                  <a:moveTo>
                    <a:pt x="-1020" y="0"/>
                  </a:moveTo>
                  <a:lnTo>
                    <a:pt x="-1020" y="21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Extension: Spécif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1447920" y="3200400"/>
              <a:ext cx="6113160" cy="2514240"/>
              <a:chOff x="1447920" y="3200400"/>
              <a:chExt cx="6113160" cy="2514240"/>
            </a:xfrm>
          </p:grpSpPr>
          <p:sp>
            <p:nvSpPr>
              <p:cNvPr id="418" name=""/>
              <p:cNvSpPr/>
              <p:nvPr/>
            </p:nvSpPr>
            <p:spPr>
              <a:xfrm>
                <a:off x="2452680" y="4743360"/>
                <a:ext cx="4075560" cy="171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513960" y="3943440"/>
                <a:ext cx="1952640" cy="1713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513960" y="3200400"/>
                <a:ext cx="1952640" cy="743040"/>
              </a:xfrm>
              <a:prstGeom prst="triangle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2452680" y="4000320"/>
                <a:ext cx="4075560" cy="743040"/>
              </a:xfrm>
              <a:custGeom>
                <a:avLst/>
                <a:gdLst>
                  <a:gd name="textAreaLeft" fmla="*/ 896040 w 4075560"/>
                  <a:gd name="textAreaRight" fmla="*/ 3179520 w 4075560"/>
                  <a:gd name="textAreaTop" fmla="*/ 163440 h 743040"/>
                  <a:gd name="textAreaBottom" fmla="*/ 579600 h 743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1447920" y="4808880"/>
                <a:ext cx="6113160" cy="685800"/>
              </a:xfrm>
              <a:custGeom>
                <a:avLst/>
                <a:gdLst>
                  <a:gd name="textAreaLeft" fmla="*/ 1030680 w 6113160"/>
                  <a:gd name="textAreaRight" fmla="*/ 5082480 w 6113160"/>
                  <a:gd name="textAreaTop" fmla="*/ 115560 h 685800"/>
                  <a:gd name="textAreaBottom" fmla="*/ 5702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194" y="21600"/>
                    </a:lnTo>
                    <a:lnTo>
                      <a:pt x="3406" y="2160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447920" y="5486400"/>
                <a:ext cx="6113160" cy="2282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4" name=""/>
          <p:cNvGrpSpPr/>
          <p:nvPr/>
        </p:nvGrpSpPr>
        <p:grpSpPr>
          <a:xfrm>
            <a:off x="1677240" y="4038120"/>
            <a:ext cx="5768640" cy="1758240"/>
            <a:chOff x="1677240" y="4038120"/>
            <a:chExt cx="5768640" cy="1758240"/>
          </a:xfrm>
        </p:grpSpPr>
        <p:sp>
          <p:nvSpPr>
            <p:cNvPr id="425" name=""/>
            <p:cNvSpPr/>
            <p:nvPr/>
          </p:nvSpPr>
          <p:spPr>
            <a:xfrm>
              <a:off x="2887560" y="548640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83080" y="548640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84720" y="548640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2887560" y="4038120"/>
              <a:ext cx="1074960" cy="1460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5029200" y="4038120"/>
              <a:ext cx="1055520" cy="1460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4483080" y="4038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677240" y="5396040"/>
              <a:ext cx="11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Enterpr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7400" y="5397480"/>
              <a:ext cx="12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53360" y="5397480"/>
              <a:ext cx="121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erson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330960" y="539748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Doma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206280" y="6019920"/>
            <a:ext cx="893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52560" indent="-28584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XSLT et navigation HTM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00240" y="3174840"/>
            <a:ext cx="7924680" cy="283284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&lt;rdfs:</a:t>
            </a:r>
            <a:r>
              <a:rPr b="1" sz="15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 rdf:ID="</a:t>
            </a:r>
            <a:r>
              <a:rPr b="1" sz="1500" spc="-1" strike="noStrike">
                <a:solidFill>
                  <a:srgbClr val="000000"/>
                </a:solidFill>
                <a:latin typeface="Courier New"/>
              </a:rPr>
              <a:t>Executive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&lt;rdfs:</a:t>
            </a:r>
            <a:r>
              <a:rPr b="1" sz="1500" spc="-1" strike="noStrike">
                <a:solidFill>
                  <a:srgbClr val="000000"/>
                </a:solidFill>
                <a:latin typeface="Courier New"/>
              </a:rPr>
              <a:t>subClassOf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 rdf:resource="#</a:t>
            </a:r>
            <a:r>
              <a:rPr b="1" sz="1500" spc="-1" strike="noStrike">
                <a:solidFill>
                  <a:srgbClr val="000000"/>
                </a:solidFill>
                <a:latin typeface="Courier New"/>
              </a:rPr>
              <a:t>Professional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&lt;rdfs:</a:t>
            </a:r>
            <a:r>
              <a:rPr b="1" sz="1500" spc="-1" strike="noStrike">
                <a:solidFill>
                  <a:srgbClr val="000000"/>
                </a:solidFill>
                <a:latin typeface="Courier New"/>
              </a:rPr>
              <a:t>comment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 xml:lang="</a:t>
            </a:r>
            <a:r>
              <a:rPr b="1" sz="1500" spc="-1" strike="noStrike">
                <a:solidFill>
                  <a:srgbClr val="000000"/>
                </a:solidFill>
                <a:latin typeface="Courier New"/>
              </a:rPr>
              <a:t>en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1" sz="1500" spc="-1" strike="noStrike">
                <a:solidFill>
                  <a:srgbClr val="000000"/>
                </a:solidFill>
                <a:latin typeface="Courier New"/>
              </a:rPr>
              <a:t>Professional who holds a high position in some Organization, makes decisions and puts them into action.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&lt;/rdfs:comment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&lt;rdfs:</a:t>
            </a:r>
            <a:r>
              <a:rPr b="1" sz="1500" spc="-1" strike="noStrike">
                <a:solidFill>
                  <a:srgbClr val="000000"/>
                </a:solidFill>
                <a:latin typeface="Courier New"/>
              </a:rPr>
              <a:t>comment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 xml:lang="</a:t>
            </a:r>
            <a:r>
              <a:rPr b="1" sz="1500" spc="-1" strike="noStrike">
                <a:solidFill>
                  <a:srgbClr val="000000"/>
                </a:solidFill>
                <a:latin typeface="Courier New"/>
              </a:rPr>
              <a:t>fr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1" sz="1500" spc="-1" strike="noStrike">
                <a:solidFill>
                  <a:srgbClr val="000000"/>
                </a:solidFill>
                <a:latin typeface="Courier New"/>
              </a:rPr>
              <a:t>Professionnel qui est à une position élevée dans une organisation, prend des décisions et les met en action.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&lt;/rdfs:comment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&lt;rdfs:</a:t>
            </a:r>
            <a:r>
              <a:rPr b="1" sz="1500" spc="-1" strike="noStrike">
                <a:solidFill>
                  <a:srgbClr val="000000"/>
                </a:solidFill>
                <a:latin typeface="Courier New"/>
              </a:rPr>
              <a:t>label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 xml:lang="</a:t>
            </a:r>
            <a:r>
              <a:rPr b="1" sz="1500" spc="-1" strike="noStrike">
                <a:solidFill>
                  <a:srgbClr val="000000"/>
                </a:solidFill>
                <a:latin typeface="Courier New"/>
              </a:rPr>
              <a:t>en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"&gt;executive&lt;/rdfs:label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&lt;rdfs:</a:t>
            </a:r>
            <a:r>
              <a:rPr b="1" sz="1500" spc="-1" strike="noStrike">
                <a:solidFill>
                  <a:srgbClr val="000000"/>
                </a:solidFill>
                <a:latin typeface="Courier New"/>
              </a:rPr>
              <a:t>label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 xml:lang="</a:t>
            </a:r>
            <a:r>
              <a:rPr b="1" sz="1500" spc="-1" strike="noStrike">
                <a:solidFill>
                  <a:srgbClr val="000000"/>
                </a:solidFill>
                <a:latin typeface="Courier New"/>
              </a:rPr>
              <a:t>fr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"&gt;cadre&lt;/rdfs:label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&lt;rdfs:</a:t>
            </a:r>
            <a:r>
              <a:rPr b="1" sz="1500" spc="-1" strike="noStrike">
                <a:solidFill>
                  <a:srgbClr val="000000"/>
                </a:solidFill>
                <a:latin typeface="Courier New"/>
              </a:rPr>
              <a:t>label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 xml:lang="</a:t>
            </a:r>
            <a:r>
              <a:rPr b="1" sz="1500" spc="-1" strike="noStrike">
                <a:solidFill>
                  <a:srgbClr val="000000"/>
                </a:solidFill>
                <a:latin typeface="Courier New"/>
              </a:rPr>
              <a:t>fr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"&gt;executif&lt;/rdfs:label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5B9C-22D4-4D4C-B46C-BFA84A17660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02b1a"/>
                </a:solidFill>
                <a:latin typeface="Bookman Old Style"/>
              </a:rPr>
              <a:t>Intraweb sémantique : ontologie et modèle </a:t>
            </a: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05920" y="0"/>
            <a:ext cx="893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02b1a"/>
                </a:solidFill>
                <a:latin typeface="Bookman Old Style"/>
              </a:rPr>
              <a:t>Intraweb basé sur un modèle :</a:t>
            </a:r>
            <a:endParaRPr b="0" lang="en-US" sz="3200" spc="-1" strike="noStrike">
              <a:solidFill>
                <a:srgbClr val="502b1a"/>
              </a:solidFill>
              <a:latin typeface="Bookman Old Style"/>
            </a:endParaRPr>
          </a:p>
          <a:p>
            <a:pPr lvl="1" marL="952560" indent="-28584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502b1a"/>
                </a:solidFill>
                <a:latin typeface="Bookman Old Style"/>
              </a:rPr>
              <a:t>O</a:t>
            </a: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ntologie: élément mémoire &amp; primitives</a:t>
            </a:r>
            <a:endParaRPr b="0" lang="en-US" sz="2900" spc="-1" strike="noStrike">
              <a:solidFill>
                <a:srgbClr val="502b1a"/>
              </a:solidFill>
              <a:latin typeface="Bookman Old Style"/>
            </a:endParaRPr>
          </a:p>
          <a:p>
            <a:pPr lvl="1" marL="952560" indent="-28584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Description </a:t>
            </a:r>
            <a:r>
              <a:rPr b="1" lang="fr-FR" sz="2900" spc="-1" strike="noStrike">
                <a:solidFill>
                  <a:srgbClr val="502b1a"/>
                </a:solidFill>
                <a:latin typeface="Bookman Old Style"/>
              </a:rPr>
              <a:t>S</a:t>
            </a: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ituation:</a:t>
            </a:r>
            <a:endParaRPr b="0" lang="en-US" sz="2900" spc="-1" strike="noStrike">
              <a:solidFill>
                <a:srgbClr val="502b1a"/>
              </a:solidFill>
              <a:latin typeface="Bookman Old Style"/>
            </a:endParaRPr>
          </a:p>
          <a:p>
            <a:pPr lvl="2" marL="1371600" indent="-22860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502b1a"/>
                </a:solidFill>
                <a:latin typeface="Bookman Old Style"/>
              </a:rPr>
              <a:t>profils utilisateurs = annotations préférences, position, historique &amp; réactions</a:t>
            </a:r>
            <a:endParaRPr b="0" lang="en-US" sz="2600" spc="-1" strike="noStrike">
              <a:solidFill>
                <a:srgbClr val="502b1a"/>
              </a:solidFill>
              <a:latin typeface="Bookman Old Style"/>
            </a:endParaRPr>
          </a:p>
          <a:p>
            <a:pPr lvl="2" marL="1371600" indent="-22860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502b1a"/>
                </a:solidFill>
                <a:latin typeface="Bookman Old Style"/>
              </a:rPr>
              <a:t>structure organisation = annotations entités, activités, relations</a:t>
            </a:r>
            <a:endParaRPr b="0" lang="en-US" sz="2600" spc="-1" strike="noStrike">
              <a:solidFill>
                <a:srgbClr val="502b1a"/>
              </a:solidFill>
              <a:latin typeface="Bookman Old Style"/>
            </a:endParaRPr>
          </a:p>
          <a:p>
            <a:pPr lvl="1" marL="952560" indent="-28584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502b1a"/>
                </a:solidFill>
                <a:latin typeface="Bookman Old Style"/>
              </a:rPr>
              <a:t>D</a:t>
            </a: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ocuments = ressources intraweb + URI</a:t>
            </a:r>
            <a:endParaRPr b="0" lang="en-US" sz="2900" spc="-1" strike="noStrike">
              <a:solidFill>
                <a:srgbClr val="502b1a"/>
              </a:solidFill>
              <a:latin typeface="Bookman Old Style"/>
            </a:endParaRPr>
          </a:p>
          <a:p>
            <a:pPr lvl="1" marL="952560" indent="-28584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502b1a"/>
                </a:solidFill>
                <a:latin typeface="Bookman Old Style"/>
              </a:rPr>
              <a:t>A</a:t>
            </a: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nnotations = descriptions sémantiques des documents </a:t>
            </a:r>
            <a:endParaRPr b="0" lang="en-US" sz="2900" spc="-1" strike="noStrike">
              <a:solidFill>
                <a:srgbClr val="502b1a"/>
              </a:solidFill>
              <a:latin typeface="Bookman Old Style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781680" y="4191120"/>
            <a:ext cx="2158920" cy="2158920"/>
            <a:chOff x="6781680" y="4191120"/>
            <a:chExt cx="2158920" cy="2158920"/>
          </a:xfrm>
        </p:grpSpPr>
        <p:sp>
          <p:nvSpPr>
            <p:cNvPr id="440" name=""/>
            <p:cNvSpPr/>
            <p:nvPr/>
          </p:nvSpPr>
          <p:spPr>
            <a:xfrm>
              <a:off x="6781680" y="4191120"/>
              <a:ext cx="2158920" cy="2158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57640" y="4267080"/>
              <a:ext cx="457200" cy="503280"/>
            </a:xfrm>
            <a:custGeom>
              <a:avLst/>
              <a:gdLst>
                <a:gd name="textAreaLeft" fmla="*/ 21960 w 457200"/>
                <a:gd name="textAreaRight" fmla="*/ 435240 w 457200"/>
                <a:gd name="textAreaTop" fmla="*/ 21960 h 503280"/>
                <a:gd name="textAreaBottom" fmla="*/ 481320 h 503280"/>
              </a:gdLst>
              <a:ahLst/>
              <a:rect l="textAreaLeft" t="textAreaTop" r="textAreaRight" b="textAreaBottom"/>
              <a:pathLst>
                <a:path w="21600" h="23775">
                  <a:moveTo>
                    <a:pt x="3562" y="0"/>
                  </a:moveTo>
                  <a:arcTo wR="3562" hR="3562" stAng="16200000" swAng="-5400000"/>
                  <a:lnTo>
                    <a:pt x="0" y="20213"/>
                  </a:lnTo>
                  <a:arcTo wR="3562" hR="3562" stAng="10800000" swAng="-5400000"/>
                  <a:lnTo>
                    <a:pt x="18038" y="23775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1880" y="4267080"/>
              <a:ext cx="490320" cy="503280"/>
            </a:xfrm>
            <a:custGeom>
              <a:avLst/>
              <a:gdLst>
                <a:gd name="textAreaLeft" fmla="*/ 23400 w 490320"/>
                <a:gd name="textAreaRight" fmla="*/ 466920 w 490320"/>
                <a:gd name="textAreaTop" fmla="*/ 23400 h 503280"/>
                <a:gd name="textAreaBottom" fmla="*/ 479880 h 503280"/>
              </a:gdLst>
              <a:ahLst/>
              <a:rect l="textAreaLeft" t="textAreaTop" r="textAreaRight" b="textAreaBottom"/>
              <a:pathLst>
                <a:path w="21600" h="22171">
                  <a:moveTo>
                    <a:pt x="3562" y="0"/>
                  </a:moveTo>
                  <a:arcTo wR="3562" hR="3562" stAng="16200000" swAng="-5400000"/>
                  <a:lnTo>
                    <a:pt x="0" y="18609"/>
                  </a:lnTo>
                  <a:arcTo wR="3562" hR="3562" stAng="10800000" swAng="-5400000"/>
                  <a:lnTo>
                    <a:pt x="18038" y="22171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381880" y="5740560"/>
              <a:ext cx="490320" cy="502920"/>
            </a:xfrm>
            <a:custGeom>
              <a:avLst/>
              <a:gdLst>
                <a:gd name="textAreaLeft" fmla="*/ 23400 w 490320"/>
                <a:gd name="textAreaRight" fmla="*/ 466920 w 490320"/>
                <a:gd name="textAreaTop" fmla="*/ 23400 h 502920"/>
                <a:gd name="textAreaBottom" fmla="*/ 479520 h 502920"/>
              </a:gdLst>
              <a:ahLst/>
              <a:rect l="textAreaLeft" t="textAreaTop" r="textAreaRight" b="textAreaBottom"/>
              <a:pathLst>
                <a:path w="21600" h="22155">
                  <a:moveTo>
                    <a:pt x="3562" y="0"/>
                  </a:moveTo>
                  <a:arcTo wR="3562" hR="3562" stAng="16200000" swAng="-5400000"/>
                  <a:lnTo>
                    <a:pt x="0" y="18593"/>
                  </a:lnTo>
                  <a:arcTo wR="3562" hR="3562" stAng="10800000" swAng="-5400000"/>
                  <a:lnTo>
                    <a:pt x="18038" y="22155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57640" y="5740560"/>
              <a:ext cx="457200" cy="502920"/>
            </a:xfrm>
            <a:custGeom>
              <a:avLst/>
              <a:gdLst>
                <a:gd name="textAreaLeft" fmla="*/ 21960 w 457200"/>
                <a:gd name="textAreaRight" fmla="*/ 435240 w 457200"/>
                <a:gd name="textAreaTop" fmla="*/ 21960 h 502920"/>
                <a:gd name="textAreaBottom" fmla="*/ 480960 h 502920"/>
              </a:gdLst>
              <a:ahLst/>
              <a:rect l="textAreaLeft" t="textAreaTop" r="textAreaRight" b="textAreaBottom"/>
              <a:pathLst>
                <a:path w="21600" h="23758">
                  <a:moveTo>
                    <a:pt x="3562" y="0"/>
                  </a:moveTo>
                  <a:arcTo wR="3562" hR="3562" stAng="16200000" swAng="-5400000"/>
                  <a:lnTo>
                    <a:pt x="0" y="20196"/>
                  </a:lnTo>
                  <a:arcTo wR="3562" hR="3562" stAng="10800000" swAng="-5400000"/>
                  <a:lnTo>
                    <a:pt x="18038" y="23758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894360" y="4313160"/>
              <a:ext cx="3985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26160" y="4313160"/>
              <a:ext cx="3985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451720" y="5786280"/>
              <a:ext cx="3985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94360" y="5786280"/>
              <a:ext cx="3985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65960" y="4533840"/>
              <a:ext cx="990360" cy="0"/>
            </a:xfrm>
            <a:prstGeom prst="line">
              <a:avLst/>
            </a:prstGeom>
            <a:ln w="38160">
              <a:solidFill>
                <a:srgbClr val="d69b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45080" y="4870440"/>
              <a:ext cx="1036800" cy="870120"/>
            </a:xfrm>
            <a:prstGeom prst="line">
              <a:avLst/>
            </a:prstGeom>
            <a:ln w="38160">
              <a:solidFill>
                <a:srgbClr val="d69b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635680" y="4826160"/>
              <a:ext cx="0" cy="76176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53000" y="5994360"/>
              <a:ext cx="914400" cy="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4038480" y="4191120"/>
            <a:ext cx="2158920" cy="2158920"/>
            <a:chOff x="4038480" y="4191120"/>
            <a:chExt cx="2158920" cy="2158920"/>
          </a:xfrm>
        </p:grpSpPr>
        <p:sp>
          <p:nvSpPr>
            <p:cNvPr id="454" name=""/>
            <p:cNvSpPr/>
            <p:nvPr/>
          </p:nvSpPr>
          <p:spPr>
            <a:xfrm>
              <a:off x="4038480" y="5318280"/>
              <a:ext cx="2158920" cy="1031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38480" y="4191120"/>
              <a:ext cx="2158920" cy="1031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28840" y="4284720"/>
              <a:ext cx="449280" cy="469800"/>
            </a:xfrm>
            <a:custGeom>
              <a:avLst/>
              <a:gdLst>
                <a:gd name="textAreaLeft" fmla="*/ 21600 w 449280"/>
                <a:gd name="textAreaRight" fmla="*/ 427680 w 449280"/>
                <a:gd name="textAreaTop" fmla="*/ 21600 h 469800"/>
                <a:gd name="textAreaBottom" fmla="*/ 448200 h 469800"/>
              </a:gdLst>
              <a:ahLst/>
              <a:rect l="textAreaLeft" t="textAreaTop" r="textAreaRight" b="textAreaBottom"/>
              <a:pathLst>
                <a:path w="21600" h="22586">
                  <a:moveTo>
                    <a:pt x="3562" y="0"/>
                  </a:moveTo>
                  <a:arcTo wR="3562" hR="3562" stAng="16200000" swAng="-5400000"/>
                  <a:lnTo>
                    <a:pt x="0" y="19024"/>
                  </a:lnTo>
                  <a:arcTo wR="3562" hR="3562" stAng="10800000" swAng="-5400000"/>
                  <a:lnTo>
                    <a:pt x="18038" y="22586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57760" y="4284720"/>
              <a:ext cx="449280" cy="469800"/>
            </a:xfrm>
            <a:custGeom>
              <a:avLst/>
              <a:gdLst>
                <a:gd name="textAreaLeft" fmla="*/ 21600 w 449280"/>
                <a:gd name="textAreaRight" fmla="*/ 427680 w 449280"/>
                <a:gd name="textAreaTop" fmla="*/ 21600 h 469800"/>
                <a:gd name="textAreaBottom" fmla="*/ 448200 h 469800"/>
              </a:gdLst>
              <a:ahLst/>
              <a:rect l="textAreaLeft" t="textAreaTop" r="textAreaRight" b="textAreaBottom"/>
              <a:pathLst>
                <a:path w="21600" h="22586">
                  <a:moveTo>
                    <a:pt x="3562" y="0"/>
                  </a:moveTo>
                  <a:arcTo wR="3562" hR="3562" stAng="16200000" swAng="-5400000"/>
                  <a:lnTo>
                    <a:pt x="0" y="19024"/>
                  </a:lnTo>
                  <a:arcTo wR="3562" hR="3562" stAng="10800000" swAng="-5400000"/>
                  <a:lnTo>
                    <a:pt x="18038" y="22586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657760" y="5786280"/>
              <a:ext cx="449280" cy="470160"/>
            </a:xfrm>
            <a:custGeom>
              <a:avLst/>
              <a:gdLst>
                <a:gd name="textAreaLeft" fmla="*/ 21600 w 449280"/>
                <a:gd name="textAreaRight" fmla="*/ 427680 w 449280"/>
                <a:gd name="textAreaTop" fmla="*/ 21600 h 470160"/>
                <a:gd name="textAreaBottom" fmla="*/ 448560 h 470160"/>
              </a:gdLst>
              <a:ahLst/>
              <a:rect l="textAreaLeft" t="textAreaTop" r="textAreaRight" b="textAreaBottom"/>
              <a:pathLst>
                <a:path w="21600" h="22603">
                  <a:moveTo>
                    <a:pt x="3562" y="0"/>
                  </a:moveTo>
                  <a:arcTo wR="3562" hR="3562" stAng="16200000" swAng="-5400000"/>
                  <a:lnTo>
                    <a:pt x="0" y="19041"/>
                  </a:lnTo>
                  <a:arcTo wR="3562" hR="3562" stAng="10800000" swAng="-5400000"/>
                  <a:lnTo>
                    <a:pt x="18038" y="22603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28840" y="5786280"/>
              <a:ext cx="449280" cy="470160"/>
            </a:xfrm>
            <a:custGeom>
              <a:avLst/>
              <a:gdLst>
                <a:gd name="textAreaLeft" fmla="*/ 21600 w 449280"/>
                <a:gd name="textAreaRight" fmla="*/ 427680 w 449280"/>
                <a:gd name="textAreaTop" fmla="*/ 21600 h 470160"/>
                <a:gd name="textAreaBottom" fmla="*/ 448560 h 470160"/>
              </a:gdLst>
              <a:ahLst/>
              <a:rect l="textAreaLeft" t="textAreaTop" r="textAreaRight" b="textAreaBottom"/>
              <a:pathLst>
                <a:path w="21600" h="22603">
                  <a:moveTo>
                    <a:pt x="3562" y="0"/>
                  </a:moveTo>
                  <a:arcTo wR="3562" hR="3562" stAng="16200000" swAng="-5400000"/>
                  <a:lnTo>
                    <a:pt x="0" y="19041"/>
                  </a:lnTo>
                  <a:arcTo wR="3562" hR="3562" stAng="10800000" swAng="-5400000"/>
                  <a:lnTo>
                    <a:pt x="18038" y="22603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92560" y="4327560"/>
              <a:ext cx="3650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22560" y="4327560"/>
              <a:ext cx="3636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22560" y="5829480"/>
              <a:ext cx="3636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2560" y="5829480"/>
              <a:ext cx="3650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38480" y="5218200"/>
              <a:ext cx="2158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Archives Annoté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38480" y="4660920"/>
              <a:ext cx="215892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Modè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295280" y="4191120"/>
            <a:ext cx="2158920" cy="2158920"/>
            <a:chOff x="1295280" y="4191120"/>
            <a:chExt cx="2158920" cy="2158920"/>
          </a:xfrm>
        </p:grpSpPr>
        <p:sp>
          <p:nvSpPr>
            <p:cNvPr id="467" name=""/>
            <p:cNvSpPr/>
            <p:nvPr/>
          </p:nvSpPr>
          <p:spPr>
            <a:xfrm>
              <a:off x="1295280" y="4191120"/>
              <a:ext cx="2158920" cy="2158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385640" y="4286160"/>
              <a:ext cx="449280" cy="468360"/>
            </a:xfrm>
            <a:custGeom>
              <a:avLst/>
              <a:gdLst>
                <a:gd name="textAreaLeft" fmla="*/ 21600 w 449280"/>
                <a:gd name="textAreaRight" fmla="*/ 427680 w 449280"/>
                <a:gd name="textAreaTop" fmla="*/ 21600 h 468360"/>
                <a:gd name="textAreaBottom" fmla="*/ 446760 h 468360"/>
              </a:gdLst>
              <a:ahLst/>
              <a:rect l="textAreaLeft" t="textAreaTop" r="textAreaRight" b="textAreaBottom"/>
              <a:pathLst>
                <a:path w="21600" h="22517">
                  <a:moveTo>
                    <a:pt x="3562" y="0"/>
                  </a:moveTo>
                  <a:arcTo wR="3562" hR="3562" stAng="16200000" swAng="-5400000"/>
                  <a:lnTo>
                    <a:pt x="0" y="18955"/>
                  </a:lnTo>
                  <a:arcTo wR="3562" hR="3562" stAng="10800000" swAng="-5400000"/>
                  <a:lnTo>
                    <a:pt x="18038" y="22517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914560" y="4286160"/>
              <a:ext cx="449280" cy="468360"/>
            </a:xfrm>
            <a:custGeom>
              <a:avLst/>
              <a:gdLst>
                <a:gd name="textAreaLeft" fmla="*/ 21600 w 449280"/>
                <a:gd name="textAreaRight" fmla="*/ 427680 w 449280"/>
                <a:gd name="textAreaTop" fmla="*/ 21600 h 468360"/>
                <a:gd name="textAreaBottom" fmla="*/ 446760 h 468360"/>
              </a:gdLst>
              <a:ahLst/>
              <a:rect l="textAreaLeft" t="textAreaTop" r="textAreaRight" b="textAreaBottom"/>
              <a:pathLst>
                <a:path w="21600" h="22517">
                  <a:moveTo>
                    <a:pt x="3562" y="0"/>
                  </a:moveTo>
                  <a:arcTo wR="3562" hR="3562" stAng="16200000" swAng="-5400000"/>
                  <a:lnTo>
                    <a:pt x="0" y="18955"/>
                  </a:lnTo>
                  <a:arcTo wR="3562" hR="3562" stAng="10800000" swAng="-5400000"/>
                  <a:lnTo>
                    <a:pt x="18038" y="22517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14560" y="5789520"/>
              <a:ext cx="449280" cy="470160"/>
            </a:xfrm>
            <a:custGeom>
              <a:avLst/>
              <a:gdLst>
                <a:gd name="textAreaLeft" fmla="*/ 21600 w 449280"/>
                <a:gd name="textAreaRight" fmla="*/ 427680 w 449280"/>
                <a:gd name="textAreaTop" fmla="*/ 21600 h 470160"/>
                <a:gd name="textAreaBottom" fmla="*/ 448560 h 470160"/>
              </a:gdLst>
              <a:ahLst/>
              <a:rect l="textAreaLeft" t="textAreaTop" r="textAreaRight" b="textAreaBottom"/>
              <a:pathLst>
                <a:path w="21600" h="22603">
                  <a:moveTo>
                    <a:pt x="3562" y="0"/>
                  </a:moveTo>
                  <a:arcTo wR="3562" hR="3562" stAng="16200000" swAng="-5400000"/>
                  <a:lnTo>
                    <a:pt x="0" y="19041"/>
                  </a:lnTo>
                  <a:arcTo wR="3562" hR="3562" stAng="10800000" swAng="-5400000"/>
                  <a:lnTo>
                    <a:pt x="18038" y="22603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85640" y="5789520"/>
              <a:ext cx="449280" cy="470160"/>
            </a:xfrm>
            <a:custGeom>
              <a:avLst/>
              <a:gdLst>
                <a:gd name="textAreaLeft" fmla="*/ 21600 w 449280"/>
                <a:gd name="textAreaRight" fmla="*/ 427680 w 449280"/>
                <a:gd name="textAreaTop" fmla="*/ 21600 h 470160"/>
                <a:gd name="textAreaBottom" fmla="*/ 448560 h 470160"/>
              </a:gdLst>
              <a:ahLst/>
              <a:rect l="textAreaLeft" t="textAreaTop" r="textAreaRight" b="textAreaBottom"/>
              <a:pathLst>
                <a:path w="21600" h="22603">
                  <a:moveTo>
                    <a:pt x="3562" y="0"/>
                  </a:moveTo>
                  <a:arcTo wR="3562" hR="3562" stAng="16200000" swAng="-5400000"/>
                  <a:lnTo>
                    <a:pt x="0" y="19041"/>
                  </a:lnTo>
                  <a:arcTo wR="3562" hR="3562" stAng="10800000" swAng="-5400000"/>
                  <a:lnTo>
                    <a:pt x="18038" y="22603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49360" y="4325760"/>
              <a:ext cx="36648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979360" y="4325760"/>
              <a:ext cx="36360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979360" y="5830920"/>
              <a:ext cx="3636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49360" y="5830920"/>
              <a:ext cx="3664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385640" y="5130720"/>
              <a:ext cx="3636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192040" y="5880240"/>
              <a:ext cx="3621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195280" y="4379760"/>
              <a:ext cx="36216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03480" y="5130720"/>
              <a:ext cx="368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2577000">
              <a:off x="1911240" y="4825800"/>
              <a:ext cx="898560" cy="9396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99" y="10800"/>
                  </a:moveTo>
                  <a:arcTo wR="-6101" hR="-6101" stAng="-10800000" swAng="-18761082"/>
                  <a:lnTo>
                    <a:pt x="18122" y="18739"/>
                  </a:lnTo>
                  <a:arcTo wR="10800" hR="10800" stAng="2838918" swAng="18761082"/>
                  <a:lnTo>
                    <a:pt x="24300" y="10800"/>
                  </a:lnTo>
                  <a:lnTo>
                    <a:pt x="19251" y="15850"/>
                  </a:lnTo>
                  <a:lnTo>
                    <a:pt x="14201" y="10800"/>
                  </a:lnTo>
                  <a:close/>
                </a:path>
              </a:pathLst>
            </a:custGeom>
            <a:solidFill>
              <a:srgbClr val="d69b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95280" y="4941720"/>
              <a:ext cx="215892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Mémo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3894120" y="1650960"/>
            <a:ext cx="5171760" cy="2390040"/>
            <a:chOff x="3894120" y="1650960"/>
            <a:chExt cx="5171760" cy="2390040"/>
          </a:xfrm>
        </p:grpSpPr>
        <p:sp>
          <p:nvSpPr>
            <p:cNvPr id="483" name=""/>
            <p:cNvSpPr/>
            <p:nvPr/>
          </p:nvSpPr>
          <p:spPr>
            <a:xfrm>
              <a:off x="5634360" y="3581280"/>
              <a:ext cx="343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Times New Roman"/>
                </a:rPr>
                <a:t>(*primitives ontologiqu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726240" y="165096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00"/>
                  </a:solidFill>
                  <a:latin typeface="Times New Roman"/>
                </a:rPr>
                <a:t>(*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73440" y="236232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00"/>
                  </a:solidFill>
                  <a:latin typeface="Times New Roman"/>
                </a:rPr>
                <a:t>(*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94120" y="359568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00"/>
                  </a:solidFill>
                  <a:latin typeface="Times New Roman"/>
                </a:rPr>
                <a:t>(*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C96D-B8FD-4126-8497-A9A8EDF04CE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02b1a"/>
                </a:solidFill>
                <a:latin typeface="Bookman Old Style"/>
              </a:rPr>
              <a:t>CORESE</a:t>
            </a: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751040" y="177840"/>
            <a:ext cx="1501920" cy="2293920"/>
            <a:chOff x="1751040" y="177840"/>
            <a:chExt cx="1501920" cy="2293920"/>
          </a:xfrm>
        </p:grpSpPr>
        <p:sp>
          <p:nvSpPr>
            <p:cNvPr id="489" name=""/>
            <p:cNvSpPr/>
            <p:nvPr/>
          </p:nvSpPr>
          <p:spPr>
            <a:xfrm>
              <a:off x="1805040" y="177840"/>
              <a:ext cx="1447920" cy="693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11680" y="218880"/>
              <a:ext cx="98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R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Sche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05040" y="977760"/>
              <a:ext cx="1447920" cy="693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51040" y="961920"/>
              <a:ext cx="142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R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Annot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05040" y="1778040"/>
              <a:ext cx="1447920" cy="693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33640" y="1739880"/>
              <a:ext cx="819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R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Qu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084480" y="139680"/>
            <a:ext cx="1762200" cy="2364120"/>
            <a:chOff x="3084480" y="139680"/>
            <a:chExt cx="1762200" cy="2364120"/>
          </a:xfrm>
        </p:grpSpPr>
        <p:sp>
          <p:nvSpPr>
            <p:cNvPr id="496" name=""/>
            <p:cNvSpPr/>
            <p:nvPr/>
          </p:nvSpPr>
          <p:spPr>
            <a:xfrm>
              <a:off x="3627360" y="177840"/>
              <a:ext cx="1219320" cy="693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05840" y="139680"/>
              <a:ext cx="99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C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094200" y="330120"/>
              <a:ext cx="838080" cy="228600"/>
            </a:xfrm>
            <a:custGeom>
              <a:avLst/>
              <a:gdLst>
                <a:gd name="textAreaLeft" fmla="*/ 130680 w 838080"/>
                <a:gd name="textAreaRight" fmla="*/ 733320 w 83808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40320" y="987120"/>
              <a:ext cx="1182600" cy="694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46440" y="977760"/>
              <a:ext cx="1181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C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Fact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094200" y="1092240"/>
              <a:ext cx="838080" cy="228600"/>
            </a:xfrm>
            <a:custGeom>
              <a:avLst/>
              <a:gdLst>
                <a:gd name="textAreaLeft" fmla="*/ 130680 w 838080"/>
                <a:gd name="textAreaRight" fmla="*/ 733320 w 83808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45000" y="1778040"/>
              <a:ext cx="1182600" cy="693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62440" y="1800000"/>
              <a:ext cx="819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Qu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Gra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84480" y="2054160"/>
              <a:ext cx="838440" cy="228600"/>
            </a:xfrm>
            <a:custGeom>
              <a:avLst/>
              <a:gdLst>
                <a:gd name="textAreaLeft" fmla="*/ 131040 w 838440"/>
                <a:gd name="textAreaRight" fmla="*/ 733680 w 83844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4484520" y="368280"/>
            <a:ext cx="2008080" cy="1933200"/>
            <a:chOff x="4484520" y="368280"/>
            <a:chExt cx="2008080" cy="1933200"/>
          </a:xfrm>
        </p:grpSpPr>
        <p:sp>
          <p:nvSpPr>
            <p:cNvPr id="506" name=""/>
            <p:cNvSpPr/>
            <p:nvPr/>
          </p:nvSpPr>
          <p:spPr>
            <a:xfrm>
              <a:off x="5016240" y="987120"/>
              <a:ext cx="1476360" cy="694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46640" y="977760"/>
              <a:ext cx="92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C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5400000">
              <a:off x="4731840" y="406080"/>
              <a:ext cx="685800" cy="609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167" stAng="10800000" swAng="5400000"/>
                  <a:lnTo>
                    <a:pt x="14849" y="3993"/>
                  </a:lnTo>
                  <a:lnTo>
                    <a:pt x="14849" y="0"/>
                  </a:lnTo>
                  <a:lnTo>
                    <a:pt x="21600" y="6079"/>
                  </a:lnTo>
                  <a:lnTo>
                    <a:pt x="14849" y="12158"/>
                  </a:lnTo>
                  <a:lnTo>
                    <a:pt x="14849" y="8165"/>
                  </a:lnTo>
                  <a:lnTo>
                    <a:pt x="12427" y="8165"/>
                  </a:lnTo>
                  <a:arcTo wR="8255" hR="3995" stAng="16200000" swAng="-5400000"/>
                  <a:lnTo>
                    <a:pt x="4172" y="216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 rot="16200000">
              <a:off x="4717440" y="1638720"/>
              <a:ext cx="714600" cy="60984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360 h 609840"/>
                <a:gd name="textAreaBottom" fmla="*/ 6105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167" stAng="10800000" swAng="5400000"/>
                  <a:lnTo>
                    <a:pt x="14688" y="3993"/>
                  </a:lnTo>
                  <a:lnTo>
                    <a:pt x="14688" y="0"/>
                  </a:lnTo>
                  <a:lnTo>
                    <a:pt x="21600" y="6079"/>
                  </a:lnTo>
                  <a:lnTo>
                    <a:pt x="14688" y="12158"/>
                  </a:lnTo>
                  <a:lnTo>
                    <a:pt x="14688" y="8165"/>
                  </a:lnTo>
                  <a:lnTo>
                    <a:pt x="12427" y="8165"/>
                  </a:lnTo>
                  <a:arcTo wR="8255" hR="3995" stAng="16200000" swAng="-5400000"/>
                  <a:lnTo>
                    <a:pt x="4172" y="216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84520" y="1082520"/>
              <a:ext cx="596880" cy="276120"/>
            </a:xfrm>
            <a:prstGeom prst="rightArrow">
              <a:avLst>
                <a:gd name="adj1" fmla="val 50000"/>
                <a:gd name="adj2" fmla="val 54042"/>
              </a:avLst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294600" y="977760"/>
            <a:ext cx="1898640" cy="703800"/>
            <a:chOff x="6294600" y="977760"/>
            <a:chExt cx="1898640" cy="703800"/>
          </a:xfrm>
        </p:grpSpPr>
        <p:sp>
          <p:nvSpPr>
            <p:cNvPr id="512" name=""/>
            <p:cNvSpPr/>
            <p:nvPr/>
          </p:nvSpPr>
          <p:spPr>
            <a:xfrm>
              <a:off x="6939000" y="987120"/>
              <a:ext cx="1254240" cy="694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10720" y="977760"/>
              <a:ext cx="92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R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94600" y="1244520"/>
              <a:ext cx="914400" cy="22860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241200" y="2666880"/>
            <a:ext cx="8902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04280" indent="-404280">
              <a:lnSpc>
                <a:spcPct val="6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02b1a"/>
                </a:solidFill>
                <a:latin typeface="Bookman Old Style"/>
              </a:rPr>
              <a:t>COR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7720" indent="-259920">
              <a:lnSpc>
                <a:spcPct val="60000"/>
              </a:lnSpc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Moteur de recherche sémantique + API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3398760" y="76320"/>
            <a:ext cx="4337280" cy="2603520"/>
            <a:chOff x="3398760" y="76320"/>
            <a:chExt cx="4337280" cy="2603520"/>
          </a:xfrm>
        </p:grpSpPr>
        <p:sp>
          <p:nvSpPr>
            <p:cNvPr id="517" name=""/>
            <p:cNvSpPr/>
            <p:nvPr/>
          </p:nvSpPr>
          <p:spPr>
            <a:xfrm>
              <a:off x="3398760" y="76320"/>
              <a:ext cx="3276720" cy="252432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11800" y="2222640"/>
              <a:ext cx="15242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6249960" y="2270520"/>
              <a:ext cx="380880" cy="383760"/>
              <a:chOff x="6249960" y="2270520"/>
              <a:chExt cx="380880" cy="383760"/>
            </a:xfrm>
          </p:grpSpPr>
          <p:sp>
            <p:nvSpPr>
              <p:cNvPr id="520" name=""/>
              <p:cNvSpPr/>
              <p:nvPr/>
            </p:nvSpPr>
            <p:spPr>
              <a:xfrm>
                <a:off x="6439320" y="2270520"/>
                <a:ext cx="191520" cy="286560"/>
              </a:xfrm>
              <a:prstGeom prst="can">
                <a:avLst>
                  <a:gd name="adj" fmla="val 25000"/>
                </a:avLst>
              </a:prstGeom>
              <a:solidFill>
                <a:srgbClr val="cc33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1" name=""/>
              <p:cNvGrpSpPr/>
              <p:nvPr/>
            </p:nvGrpSpPr>
            <p:grpSpPr>
              <a:xfrm>
                <a:off x="6249960" y="2325960"/>
                <a:ext cx="335160" cy="328320"/>
                <a:chOff x="6249960" y="2325960"/>
                <a:chExt cx="335160" cy="328320"/>
              </a:xfrm>
            </p:grpSpPr>
            <p:grpSp>
              <p:nvGrpSpPr>
                <p:cNvPr id="522" name=""/>
                <p:cNvGrpSpPr/>
                <p:nvPr/>
              </p:nvGrpSpPr>
              <p:grpSpPr>
                <a:xfrm>
                  <a:off x="6441480" y="2501280"/>
                  <a:ext cx="143640" cy="153000"/>
                  <a:chOff x="6441480" y="2501280"/>
                  <a:chExt cx="143640" cy="15300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>
                    <a:off x="6441480" y="2501280"/>
                    <a:ext cx="143640" cy="153000"/>
                  </a:xfrm>
                  <a:custGeom>
                    <a:avLst/>
                    <a:gdLst>
                      <a:gd name="textAreaLeft" fmla="*/ 38160 w 143640"/>
                      <a:gd name="textAreaRight" fmla="*/ 105480 w 143640"/>
                      <a:gd name="textAreaTop" fmla="*/ 40680 h 153000"/>
                      <a:gd name="textAreaBottom" fmla="*/ 112320 h 153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3791" y="12162"/>
                        </a:lnTo>
                        <a:lnTo>
                          <a:pt x="786" y="14846"/>
                        </a:lnTo>
                        <a:lnTo>
                          <a:pt x="4812" y="14689"/>
                        </a:lnTo>
                        <a:lnTo>
                          <a:pt x="3163" y="18437"/>
                        </a:lnTo>
                        <a:lnTo>
                          <a:pt x="6807" y="16719"/>
                        </a:lnTo>
                        <a:lnTo>
                          <a:pt x="6580" y="20741"/>
                        </a:lnTo>
                        <a:lnTo>
                          <a:pt x="9316" y="17784"/>
                        </a:lnTo>
                        <a:lnTo>
                          <a:pt x="10800" y="21600"/>
                        </a:lnTo>
                        <a:lnTo>
                          <a:pt x="12162" y="17809"/>
                        </a:lnTo>
                        <a:lnTo>
                          <a:pt x="14846" y="20814"/>
                        </a:lnTo>
                        <a:lnTo>
                          <a:pt x="14689" y="16788"/>
                        </a:lnTo>
                        <a:lnTo>
                          <a:pt x="18437" y="18437"/>
                        </a:lnTo>
                        <a:lnTo>
                          <a:pt x="16719" y="14793"/>
                        </a:lnTo>
                        <a:lnTo>
                          <a:pt x="20741" y="15020"/>
                        </a:lnTo>
                        <a:lnTo>
                          <a:pt x="17784" y="12284"/>
                        </a:lnTo>
                        <a:lnTo>
                          <a:pt x="21600" y="10800"/>
                        </a:lnTo>
                        <a:lnTo>
                          <a:pt x="17809" y="9438"/>
                        </a:lnTo>
                        <a:lnTo>
                          <a:pt x="20814" y="6754"/>
                        </a:lnTo>
                        <a:lnTo>
                          <a:pt x="16788" y="6911"/>
                        </a:lnTo>
                        <a:lnTo>
                          <a:pt x="18437" y="3163"/>
                        </a:lnTo>
                        <a:lnTo>
                          <a:pt x="14793" y="4881"/>
                        </a:lnTo>
                        <a:lnTo>
                          <a:pt x="15020" y="859"/>
                        </a:lnTo>
                        <a:lnTo>
                          <a:pt x="12284" y="3816"/>
                        </a:lnTo>
                        <a:lnTo>
                          <a:pt x="10800" y="0"/>
                        </a:lnTo>
                        <a:lnTo>
                          <a:pt x="9438" y="3791"/>
                        </a:lnTo>
                        <a:lnTo>
                          <a:pt x="6754" y="786"/>
                        </a:lnTo>
                        <a:lnTo>
                          <a:pt x="6911" y="4812"/>
                        </a:lnTo>
                        <a:lnTo>
                          <a:pt x="3163" y="3163"/>
                        </a:lnTo>
                        <a:lnTo>
                          <a:pt x="4881" y="6807"/>
                        </a:lnTo>
                        <a:lnTo>
                          <a:pt x="859" y="6580"/>
                        </a:lnTo>
                        <a:lnTo>
                          <a:pt x="3816" y="9316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6498720" y="2563560"/>
                    <a:ext cx="28440" cy="28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5" name=""/>
                <p:cNvGrpSpPr/>
                <p:nvPr/>
              </p:nvGrpSpPr>
              <p:grpSpPr>
                <a:xfrm>
                  <a:off x="6249960" y="2325960"/>
                  <a:ext cx="250560" cy="258120"/>
                  <a:chOff x="6249960" y="2325960"/>
                  <a:chExt cx="250560" cy="25812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>
                    <a:off x="6249960" y="2325960"/>
                    <a:ext cx="250560" cy="258120"/>
                  </a:xfrm>
                  <a:custGeom>
                    <a:avLst/>
                    <a:gdLst>
                      <a:gd name="textAreaLeft" fmla="*/ 57240 w 250560"/>
                      <a:gd name="textAreaRight" fmla="*/ 193320 w 250560"/>
                      <a:gd name="textAreaTop" fmla="*/ 58680 h 258120"/>
                      <a:gd name="textAreaBottom" fmla="*/ 199440 h 258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562" y="11812"/>
                        </a:lnTo>
                        <a:lnTo>
                          <a:pt x="368" y="13595"/>
                        </a:lnTo>
                        <a:lnTo>
                          <a:pt x="3104" y="13909"/>
                        </a:lnTo>
                        <a:lnTo>
                          <a:pt x="1447" y="16200"/>
                        </a:lnTo>
                        <a:lnTo>
                          <a:pt x="4171" y="15795"/>
                        </a:lnTo>
                        <a:lnTo>
                          <a:pt x="3163" y="18437"/>
                        </a:lnTo>
                        <a:lnTo>
                          <a:pt x="5690" y="17340"/>
                        </a:lnTo>
                        <a:lnTo>
                          <a:pt x="5400" y="20153"/>
                        </a:lnTo>
                        <a:lnTo>
                          <a:pt x="7557" y="18440"/>
                        </a:lnTo>
                        <a:lnTo>
                          <a:pt x="8005" y="21232"/>
                        </a:lnTo>
                        <a:lnTo>
                          <a:pt x="9645" y="19019"/>
                        </a:lnTo>
                        <a:lnTo>
                          <a:pt x="10800" y="21600"/>
                        </a:lnTo>
                        <a:lnTo>
                          <a:pt x="11812" y="19038"/>
                        </a:lnTo>
                        <a:lnTo>
                          <a:pt x="13595" y="21232"/>
                        </a:lnTo>
                        <a:lnTo>
                          <a:pt x="13909" y="18496"/>
                        </a:lnTo>
                        <a:lnTo>
                          <a:pt x="16200" y="20153"/>
                        </a:lnTo>
                        <a:lnTo>
                          <a:pt x="15795" y="17429"/>
                        </a:lnTo>
                        <a:lnTo>
                          <a:pt x="18437" y="18437"/>
                        </a:lnTo>
                        <a:lnTo>
                          <a:pt x="17340" y="15910"/>
                        </a:lnTo>
                        <a:lnTo>
                          <a:pt x="20153" y="16200"/>
                        </a:lnTo>
                        <a:lnTo>
                          <a:pt x="18440" y="14043"/>
                        </a:lnTo>
                        <a:lnTo>
                          <a:pt x="21232" y="13595"/>
                        </a:lnTo>
                        <a:lnTo>
                          <a:pt x="19019" y="11955"/>
                        </a:lnTo>
                        <a:lnTo>
                          <a:pt x="21600" y="10800"/>
                        </a:lnTo>
                        <a:lnTo>
                          <a:pt x="19038" y="9788"/>
                        </a:lnTo>
                        <a:lnTo>
                          <a:pt x="21232" y="8005"/>
                        </a:lnTo>
                        <a:lnTo>
                          <a:pt x="18496" y="7691"/>
                        </a:lnTo>
                        <a:lnTo>
                          <a:pt x="20153" y="5400"/>
                        </a:lnTo>
                        <a:lnTo>
                          <a:pt x="17429" y="5805"/>
                        </a:lnTo>
                        <a:lnTo>
                          <a:pt x="18437" y="3163"/>
                        </a:lnTo>
                        <a:lnTo>
                          <a:pt x="15910" y="4260"/>
                        </a:lnTo>
                        <a:lnTo>
                          <a:pt x="16200" y="1447"/>
                        </a:lnTo>
                        <a:lnTo>
                          <a:pt x="14043" y="3160"/>
                        </a:lnTo>
                        <a:lnTo>
                          <a:pt x="13595" y="368"/>
                        </a:lnTo>
                        <a:lnTo>
                          <a:pt x="11955" y="2581"/>
                        </a:lnTo>
                        <a:lnTo>
                          <a:pt x="10800" y="0"/>
                        </a:lnTo>
                        <a:lnTo>
                          <a:pt x="9788" y="2562"/>
                        </a:lnTo>
                        <a:lnTo>
                          <a:pt x="8005" y="368"/>
                        </a:lnTo>
                        <a:lnTo>
                          <a:pt x="7691" y="3104"/>
                        </a:lnTo>
                        <a:lnTo>
                          <a:pt x="5400" y="1447"/>
                        </a:lnTo>
                        <a:lnTo>
                          <a:pt x="5805" y="4171"/>
                        </a:lnTo>
                        <a:lnTo>
                          <a:pt x="3163" y="3163"/>
                        </a:lnTo>
                        <a:lnTo>
                          <a:pt x="4260" y="5690"/>
                        </a:lnTo>
                        <a:lnTo>
                          <a:pt x="1447" y="5400"/>
                        </a:lnTo>
                        <a:lnTo>
                          <a:pt x="3160" y="7557"/>
                        </a:lnTo>
                        <a:lnTo>
                          <a:pt x="368" y="8005"/>
                        </a:lnTo>
                        <a:lnTo>
                          <a:pt x="2581" y="9645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6356160" y="2435760"/>
                    <a:ext cx="38160" cy="38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28" name=""/>
            <p:cNvSpPr/>
            <p:nvPr/>
          </p:nvSpPr>
          <p:spPr>
            <a:xfrm>
              <a:off x="6501600" y="2244960"/>
              <a:ext cx="121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Georgia"/>
                </a:rPr>
                <a:t>COR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235160" y="3746520"/>
            <a:ext cx="7527960" cy="21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lt;cos:ru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lt;cos: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lt;rdf:RD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OrganizationalEntity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Include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gt; &lt;CoMMA: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rdf:about="?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"/&gt; &lt;/CoMMA:Includ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Include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gt; &lt;CoMMA: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rdf:about="?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"/&gt; &lt;/CoMMA:Includ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lt;/CoMMA:OrganizationalEnt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lt;/rdf:RD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lt;/cos:i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lt;/cos:ru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371600" y="3886200"/>
            <a:ext cx="7543800" cy="21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lt;cos:ru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lt;cos: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lt;rdf:RD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rdf:about="?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league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gt; &lt;CoMMA: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rdf:about="?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"/&gt;&lt;/CoMMA:Colleagu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lt;/CoMMA:Pers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lt;/rdf:RD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lt;/cos:the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lt;/cos:ru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41200" y="3352680"/>
            <a:ext cx="8902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856080" indent="-265680">
              <a:lnSpc>
                <a:spcPct val="70000"/>
              </a:lnSpc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Règles    (ex. extension pour def. collègue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952880" y="76320"/>
            <a:ext cx="4119120" cy="2999520"/>
            <a:chOff x="4952880" y="76320"/>
            <a:chExt cx="4119120" cy="2999520"/>
          </a:xfrm>
        </p:grpSpPr>
        <p:sp>
          <p:nvSpPr>
            <p:cNvPr id="533" name=""/>
            <p:cNvSpPr/>
            <p:nvPr/>
          </p:nvSpPr>
          <p:spPr>
            <a:xfrm>
              <a:off x="4952880" y="76320"/>
              <a:ext cx="0" cy="2971800"/>
            </a:xfrm>
            <a:prstGeom prst="line">
              <a:avLst/>
            </a:prstGeom>
            <a:ln w="28440">
              <a:solidFill>
                <a:srgbClr val="7f442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77720" y="2616120"/>
              <a:ext cx="409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7f4429"/>
                  </a:solidFill>
                  <a:latin typeface="Times New Roman"/>
                </a:rPr>
                <a:t>projection (hiérarchie + règl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241200" y="6019920"/>
            <a:ext cx="8902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856080" indent="-265680">
              <a:lnSpc>
                <a:spcPct val="70000"/>
              </a:lnSpc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Transitivité, symétrie, réflexivité, etc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0E15-2899-46FB-8C6B-F93FF6332B3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02b1a"/>
                </a:solidFill>
                <a:latin typeface="Bookman Old Style"/>
              </a:rPr>
              <a:t>Interface terminologique</a:t>
            </a: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1260360" y="2854440"/>
            <a:ext cx="7274160" cy="3546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38" name=""/>
          <p:cNvSpPr/>
          <p:nvPr/>
        </p:nvSpPr>
        <p:spPr>
          <a:xfrm>
            <a:off x="206280" y="0"/>
            <a:ext cx="9090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52160" indent="-45216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02b1a"/>
                </a:solidFill>
                <a:latin typeface="Bookman Old Style"/>
              </a:rPr>
              <a:t>Ontologie = puissant objet conceptu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4680" indent="-27144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complexité </a:t>
            </a:r>
            <a:r>
              <a:rPr b="0" lang="fr-FR" sz="2900" spc="-1" strike="noStrike">
                <a:solidFill>
                  <a:srgbClr val="502b1a"/>
                </a:solidFill>
                <a:latin typeface="Symbol"/>
                <a:ea typeface="Symbol"/>
              </a:rPr>
              <a:t></a:t>
            </a: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 outils construction &amp; mani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04680" indent="-27144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complexité </a:t>
            </a:r>
            <a:r>
              <a:rPr b="0" lang="fr-FR" sz="2900" spc="-1" strike="noStrike">
                <a:solidFill>
                  <a:srgbClr val="502b1a"/>
                </a:solidFill>
                <a:latin typeface="Symbol"/>
                <a:ea typeface="Symbol"/>
              </a:rPr>
              <a:t></a:t>
            </a: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 complexité solutions</a:t>
            </a:r>
            <a:br>
              <a:rPr sz="2900"/>
            </a:b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écart models conceptuels et préoccupations utilisateur lambda au quotidi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04680" indent="-271440">
              <a:lnSpc>
                <a:spcPct val="60000"/>
              </a:lnSpc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02b1a"/>
                </a:solidFill>
                <a:latin typeface="Bookman Old Style"/>
              </a:rPr>
              <a:t>nécessité interfa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04680" indent="-271440">
              <a:lnSpc>
                <a:spcPct val="60000"/>
              </a:lnSpc>
              <a:spcBef>
                <a:spcPts val="726"/>
              </a:spcBef>
              <a:buSzPct val="10291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502b1a"/>
                </a:solidFill>
                <a:latin typeface="Bookman Old Style"/>
              </a:rPr>
              <a:t>Exemple 1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643D-F32B-40DF-BDA7-2949CF17B67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02b1a"/>
                </a:solidFill>
                <a:latin typeface="Bookman Old Style"/>
              </a:rPr>
              <a:t>Interface Expert</a:t>
            </a: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1279440" y="654120"/>
            <a:ext cx="7255080" cy="5441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41" name=""/>
          <p:cNvSpPr/>
          <p:nvPr/>
        </p:nvSpPr>
        <p:spPr>
          <a:xfrm>
            <a:off x="206280" y="0"/>
            <a:ext cx="8937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52560" indent="-28584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502b1a"/>
                </a:solidFill>
                <a:latin typeface="Bookman Old Style"/>
              </a:rPr>
              <a:t>Exemple 2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87ED-7DDB-4BAB-A810-57534EC9197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42636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02b1a"/>
                </a:solidFill>
                <a:latin typeface="Bookman Old Style"/>
              </a:rPr>
              <a:t>Interface CoMMA: parcours en Z (terme - notion - requête)</a:t>
            </a:r>
            <a:endParaRPr b="1" lang="en-US" sz="2000" spc="-1" strike="noStrike">
              <a:solidFill>
                <a:srgbClr val="502b1a"/>
              </a:solidFill>
              <a:latin typeface="Bookman Old Style"/>
            </a:endParaRPr>
          </a:p>
        </p:txBody>
      </p:sp>
      <p:sp>
        <p:nvSpPr>
          <p:cNvPr id="543" name=""/>
          <p:cNvSpPr/>
          <p:nvPr/>
        </p:nvSpPr>
        <p:spPr>
          <a:xfrm>
            <a:off x="206280" y="0"/>
            <a:ext cx="8937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52560" indent="-28584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502b1a"/>
                </a:solidFill>
                <a:latin typeface="Bookman Old Style"/>
              </a:rPr>
              <a:t>Fusion pour CoMMA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1131840" y="573120"/>
            <a:ext cx="7935840" cy="55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27F2-739D-4A32-8C47-606E5F8FDC4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1:48:11Z</dcterms:created>
  <dc:creator>Fabien GANDON</dc:creator>
  <dc:description/>
  <dc:language>en-US</dc:language>
  <cp:lastModifiedBy>Fabien GANDON</cp:lastModifiedBy>
  <cp:lastPrinted>2002-05-27T07:45:53Z</cp:lastPrinted>
  <dcterms:modified xsi:type="dcterms:W3CDTF">2002-05-28T06:36:07Z</dcterms:modified>
  <cp:revision>21</cp:revision>
  <dc:subject>CoMMA</dc:subject>
  <dc:title>Présentation IC 2002</dc:title>
</cp:coreProperties>
</file>