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0.wmf" ContentType="image/x-wmf"/>
  <Override PartName="/ppt/media/image47.wmf" ContentType="image/x-wmf"/>
  <Override PartName="/ppt/media/image11.png" ContentType="image/png"/>
  <Override PartName="/ppt/media/image51.wmf" ContentType="image/x-wmf"/>
  <Override PartName="/ppt/media/image6.wmf" ContentType="image/x-wmf"/>
  <Override PartName="/ppt/media/image45.wmf" ContentType="image/x-wmf"/>
  <Override PartName="/ppt/media/image46.png" ContentType="image/png"/>
  <Override PartName="/ppt/media/image48.wmf" ContentType="image/x-wmf"/>
  <Override PartName="/ppt/media/image30.png" ContentType="image/png"/>
  <Override PartName="/ppt/media/image1.jpeg" ContentType="image/jpeg"/>
  <Override PartName="/ppt/media/image50.wmf" ContentType="image/x-wmf"/>
  <Override PartName="/ppt/media/image49.wmf" ContentType="image/x-wmf"/>
  <Override PartName="/ppt/media/image3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37.wmf" ContentType="image/x-wmf"/>
  <Override PartName="/ppt/media/image42.wmf" ContentType="image/x-wmf"/>
  <Override PartName="/ppt/media/image55.png" ContentType="image/png"/>
  <Override PartName="/ppt/media/image40.png" ContentType="image/png"/>
  <Override PartName="/ppt/media/image38.wmf" ContentType="image/x-wmf"/>
  <Override PartName="/ppt/media/image43.wmf" ContentType="image/x-wmf"/>
  <Override PartName="/ppt/media/image44.png" ContentType="image/png"/>
  <Override PartName="/ppt/media/image56.png" ContentType="image/png"/>
  <Override PartName="/ppt/media/image36.png" ContentType="image/png"/>
  <Override PartName="/ppt/media/image35.png" ContentType="image/png"/>
  <Override PartName="/ppt/media/image33.wmf" ContentType="image/x-wmf"/>
  <Override PartName="/ppt/media/image13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41.wmf" ContentType="image/x-wmf"/>
  <Override PartName="/ppt/media/image8.png" ContentType="image/png"/>
  <Override PartName="/ppt/media/image12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B7E-B5B9-4E13-BF10-EDE6E29C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240" y="368100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2EB-6EB6-4D5A-BB57-407A4CC3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72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0199-22C6-453A-9B55-430F0A18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700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140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24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700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140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E22C-93BA-4859-80F5-15867A49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160" y="-63360"/>
            <a:ext cx="91058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A3B-D3FF-4BBF-83B2-28D1C969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172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240" y="368100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172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700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6140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24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700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6140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12B1-0E65-4EB8-927A-5C79753C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7A1-46C2-4686-A819-38E4A243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306-5F43-4DA2-B677-99CDEC90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160" y="-63360"/>
            <a:ext cx="91058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F6FC-B27F-4DF2-9A73-5FD262E4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A56-7FF2-409F-B1DC-1A9A5D23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72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787-2165-41C3-B4D8-1CC6FB50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857-B136-4E9A-B2B9-71877495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corner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-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428840" indent="-1904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–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809720" indent="-1904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»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809720" indent="-190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809720" indent="-190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d649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d6497"/>
                </a:solidFill>
                <a:latin typeface="Times New Roman"/>
              </a:rPr>
              <a:t>&lt;date/time&gt;</a:t>
            </a:r>
            <a:r>
              <a:rPr b="0" lang="fr-FR" sz="1400" spc="-1" strike="noStrike">
                <a:solidFill>
                  <a:srgbClr val="5d6497"/>
                </a:solidFill>
                <a:latin typeface="Times New Roman"/>
              </a:rPr>
              <a:t> </a:t>
            </a:r>
            <a:fld id="{94074CA8-B3F2-4281-9E61-1FBB1D3CAF4C}" type="datetime11">
              <a:rPr b="0" lang="fr-FR" sz="1400" spc="-1" strike="noStrike">
                <a:solidFill>
                  <a:srgbClr val="5d6497"/>
                </a:solidFill>
                <a:latin typeface="Times New Roman"/>
              </a:rPr>
              <a:t>05:05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0" y="6629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36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d649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d649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00720" y="-12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27FE-5D38-4FB7-834C-B7120386969D}" type="slidenum">
              <a:rPr b="1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60" y="282600"/>
            <a:ext cx="7810560" cy="0"/>
          </a:xfrm>
          <a:prstGeom prst="line">
            <a:avLst/>
          </a:prstGeom>
          <a:ln w="19080">
            <a:solidFill>
              <a:srgbClr val="5d64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rner" descr=""/>
          <p:cNvPicPr/>
          <p:nvPr/>
        </p:nvPicPr>
        <p:blipFill>
          <a:blip r:embed="rId2"/>
          <a:stretch/>
        </p:blipFill>
        <p:spPr>
          <a:xfrm>
            <a:off x="7112160" y="0"/>
            <a:ext cx="203184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160" y="-3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61718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d649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d649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160" y="282600"/>
            <a:ext cx="7810560" cy="0"/>
          </a:xfrm>
          <a:prstGeom prst="line">
            <a:avLst/>
          </a:prstGeom>
          <a:ln w="19080">
            <a:solidFill>
              <a:srgbClr val="5d64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001000" cy="175284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_sophia" descr=""/>
          <p:cNvPicPr/>
          <p:nvPr/>
        </p:nvPicPr>
        <p:blipFill>
          <a:blip r:embed="rId3"/>
          <a:stretch/>
        </p:blipFill>
        <p:spPr>
          <a:xfrm>
            <a:off x="7924680" y="250920"/>
            <a:ext cx="1219320" cy="333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857160" algn="ctr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238400" algn="ctr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619280" algn="ctr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  <a:tab algn="l" pos="79246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619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619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png"/><Relationship Id="rId8" Type="http://schemas.openxmlformats.org/officeDocument/2006/relationships/image" Target="../media/image41.wmf"/><Relationship Id="rId9" Type="http://schemas.openxmlformats.org/officeDocument/2006/relationships/image" Target="../media/image42.wmf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44.png"/><Relationship Id="rId13" Type="http://schemas.openxmlformats.org/officeDocument/2006/relationships/image" Target="../media/image45.wmf"/><Relationship Id="rId14" Type="http://schemas.openxmlformats.org/officeDocument/2006/relationships/image" Target="../media/image46.png"/><Relationship Id="rId15" Type="http://schemas.openxmlformats.org/officeDocument/2006/relationships/image" Target="../media/image47.wmf"/><Relationship Id="rId1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30.png"/><Relationship Id="rId12" Type="http://schemas.openxmlformats.org/officeDocument/2006/relationships/image" Target="../media/image14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17.png"/><Relationship Id="rId30" Type="http://schemas.openxmlformats.org/officeDocument/2006/relationships/image" Target="../media/image14.png"/><Relationship Id="rId31" Type="http://schemas.openxmlformats.org/officeDocument/2006/relationships/image" Target="../media/image16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20.png"/><Relationship Id="rId35" Type="http://schemas.openxmlformats.org/officeDocument/2006/relationships/image" Target="../media/image20.png"/><Relationship Id="rId36" Type="http://schemas.openxmlformats.org/officeDocument/2006/relationships/image" Target="../media/image24.png"/><Relationship Id="rId37" Type="http://schemas.openxmlformats.org/officeDocument/2006/relationships/image" Target="../media/image18.png"/><Relationship Id="rId38" Type="http://schemas.openxmlformats.org/officeDocument/2006/relationships/image" Target="../media/image19.png"/><Relationship Id="rId39" Type="http://schemas.openxmlformats.org/officeDocument/2006/relationships/image" Target="../media/image21.png"/><Relationship Id="rId40" Type="http://schemas.openxmlformats.org/officeDocument/2006/relationships/image" Target="../media/image25.png"/><Relationship Id="rId41" Type="http://schemas.openxmlformats.org/officeDocument/2006/relationships/image" Target="../media/image26.png"/><Relationship Id="rId42" Type="http://schemas.openxmlformats.org/officeDocument/2006/relationships/image" Target="../media/image20.png"/><Relationship Id="rId43" Type="http://schemas.openxmlformats.org/officeDocument/2006/relationships/image" Target="../media/image27.png"/><Relationship Id="rId44" Type="http://schemas.openxmlformats.org/officeDocument/2006/relationships/image" Target="../media/image28.png"/><Relationship Id="rId45" Type="http://schemas.openxmlformats.org/officeDocument/2006/relationships/image" Target="../media/image29.png"/><Relationship Id="rId4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48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48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4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14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14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24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1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0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15.png"/><Relationship Id="rId27" Type="http://schemas.openxmlformats.org/officeDocument/2006/relationships/image" Target="../media/image16.png"/><Relationship Id="rId2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30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4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image" Target="../media/image21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0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30.png"/><Relationship Id="rId12" Type="http://schemas.openxmlformats.org/officeDocument/2006/relationships/image" Target="../media/image14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17.png"/><Relationship Id="rId30" Type="http://schemas.openxmlformats.org/officeDocument/2006/relationships/image" Target="../media/image14.png"/><Relationship Id="rId31" Type="http://schemas.openxmlformats.org/officeDocument/2006/relationships/image" Target="../media/image16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20.png"/><Relationship Id="rId35" Type="http://schemas.openxmlformats.org/officeDocument/2006/relationships/image" Target="../media/image20.png"/><Relationship Id="rId36" Type="http://schemas.openxmlformats.org/officeDocument/2006/relationships/image" Target="../media/image24.png"/><Relationship Id="rId37" Type="http://schemas.openxmlformats.org/officeDocument/2006/relationships/image" Target="../media/image18.png"/><Relationship Id="rId38" Type="http://schemas.openxmlformats.org/officeDocument/2006/relationships/image" Target="../media/image19.png"/><Relationship Id="rId39" Type="http://schemas.openxmlformats.org/officeDocument/2006/relationships/image" Target="../media/image21.png"/><Relationship Id="rId40" Type="http://schemas.openxmlformats.org/officeDocument/2006/relationships/image" Target="../media/image25.png"/><Relationship Id="rId41" Type="http://schemas.openxmlformats.org/officeDocument/2006/relationships/image" Target="../media/image26.png"/><Relationship Id="rId42" Type="http://schemas.openxmlformats.org/officeDocument/2006/relationships/image" Target="../media/image20.png"/><Relationship Id="rId43" Type="http://schemas.openxmlformats.org/officeDocument/2006/relationships/image" Target="../media/image27.png"/><Relationship Id="rId44" Type="http://schemas.openxmlformats.org/officeDocument/2006/relationships/image" Target="../media/image28.png"/><Relationship Id="rId45" Type="http://schemas.openxmlformats.org/officeDocument/2006/relationships/image" Target="../media/image29.png"/><Relationship Id="rId4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30.png"/><Relationship Id="rId12" Type="http://schemas.openxmlformats.org/officeDocument/2006/relationships/image" Target="../media/image14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17.png"/><Relationship Id="rId30" Type="http://schemas.openxmlformats.org/officeDocument/2006/relationships/image" Target="../media/image14.png"/><Relationship Id="rId31" Type="http://schemas.openxmlformats.org/officeDocument/2006/relationships/image" Target="../media/image16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20.png"/><Relationship Id="rId35" Type="http://schemas.openxmlformats.org/officeDocument/2006/relationships/image" Target="../media/image20.png"/><Relationship Id="rId36" Type="http://schemas.openxmlformats.org/officeDocument/2006/relationships/image" Target="../media/image24.png"/><Relationship Id="rId37" Type="http://schemas.openxmlformats.org/officeDocument/2006/relationships/image" Target="../media/image18.png"/><Relationship Id="rId38" Type="http://schemas.openxmlformats.org/officeDocument/2006/relationships/image" Target="../media/image19.png"/><Relationship Id="rId39" Type="http://schemas.openxmlformats.org/officeDocument/2006/relationships/image" Target="../media/image21.png"/><Relationship Id="rId40" Type="http://schemas.openxmlformats.org/officeDocument/2006/relationships/image" Target="../media/image25.png"/><Relationship Id="rId41" Type="http://schemas.openxmlformats.org/officeDocument/2006/relationships/image" Target="../media/image26.png"/><Relationship Id="rId42" Type="http://schemas.openxmlformats.org/officeDocument/2006/relationships/image" Target="../media/image20.png"/><Relationship Id="rId43" Type="http://schemas.openxmlformats.org/officeDocument/2006/relationships/image" Target="../media/image27.png"/><Relationship Id="rId44" Type="http://schemas.openxmlformats.org/officeDocument/2006/relationships/image" Target="../media/image28.png"/><Relationship Id="rId45" Type="http://schemas.openxmlformats.org/officeDocument/2006/relationships/image" Target="../media/image29.png"/><Relationship Id="rId4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Winner" descr=""/>
          <p:cNvPicPr/>
          <p:nvPr/>
        </p:nvPicPr>
        <p:blipFill>
          <a:blip r:embed="rId1"/>
          <a:stretch/>
        </p:blipFill>
        <p:spPr>
          <a:xfrm>
            <a:off x="1905120" y="3921120"/>
            <a:ext cx="5029200" cy="1612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160" y="-3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Fabien Gandon, Rose Dieng-Kuntz, Olivier Corby, Alain Giboin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Semantic Web and Multi-Agent Approach to Corporate Memory Managemen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3240" y="3581280"/>
            <a:ext cx="6945480" cy="2362320"/>
          </a:xfrm>
          <a:prstGeom prst="ellipse">
            <a:avLst/>
          </a:prstGeom>
          <a:noFill/>
          <a:ln w="52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24280" y="3276720"/>
            <a:ext cx="1811520" cy="6015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3822840" y="5410080"/>
            <a:ext cx="1390320" cy="1371240"/>
            <a:chOff x="3822840" y="5410080"/>
            <a:chExt cx="1390320" cy="137124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3822840" y="5410080"/>
              <a:ext cx="1390320" cy="13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3822840" y="5410080"/>
              <a:ext cx="1390320" cy="137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921360" y="4114800"/>
            <a:ext cx="1613160" cy="7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457200" y="5073480"/>
            <a:ext cx="1523880" cy="94644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1371600" y="3289320"/>
            <a:ext cx="1752120" cy="990360"/>
            <a:chOff x="1371600" y="3289320"/>
            <a:chExt cx="1752120" cy="990360"/>
          </a:xfrm>
        </p:grpSpPr>
        <p:pic>
          <p:nvPicPr>
            <p:cNvPr id="97" name="" descr=""/>
            <p:cNvPicPr/>
            <p:nvPr/>
          </p:nvPicPr>
          <p:blipFill>
            <a:blip r:embed="rId7"/>
            <a:stretch/>
          </p:blipFill>
          <p:spPr>
            <a:xfrm>
              <a:off x="1371600" y="3289320"/>
              <a:ext cx="175212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8"/>
            <a:stretch/>
          </p:blipFill>
          <p:spPr>
            <a:xfrm>
              <a:off x="1371600" y="3289320"/>
              <a:ext cx="1752120" cy="99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6172200" y="5410080"/>
            <a:ext cx="1752480" cy="757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60720" y="3657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abien.Gandon@sophia.inria.f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A Corporate Semantic Web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53800" y="38088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marL="208440" indent="-2084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RDF: 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Resource Description Framework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486360" indent="-13896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escribe Web resources through semantic annotation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08440" indent="-2084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RDFS: 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RDF Schema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486360" indent="-138960">
              <a:lnSpc>
                <a:spcPct val="6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escribe ontology used for annotation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486360" indent="-13896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inimalist and extensions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iff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necessar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6934320" y="2286000"/>
            <a:ext cx="1981080" cy="1981080"/>
            <a:chOff x="6934320" y="2286000"/>
            <a:chExt cx="1981080" cy="1981080"/>
          </a:xfrm>
        </p:grpSpPr>
        <p:sp>
          <p:nvSpPr>
            <p:cNvPr id="758" name=""/>
            <p:cNvSpPr/>
            <p:nvPr/>
          </p:nvSpPr>
          <p:spPr>
            <a:xfrm>
              <a:off x="6934320" y="2286000"/>
              <a:ext cx="19810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016760" y="2373120"/>
              <a:ext cx="412920" cy="429840"/>
            </a:xfrm>
            <a:custGeom>
              <a:avLst/>
              <a:gdLst>
                <a:gd name="textAreaLeft" fmla="*/ 19800 w 412920"/>
                <a:gd name="textAreaRight" fmla="*/ 393120 w 412920"/>
                <a:gd name="textAreaTop" fmla="*/ 19800 h 429840"/>
                <a:gd name="textAreaBottom" fmla="*/ 410040 h 429840"/>
              </a:gdLst>
              <a:ahLst/>
              <a:rect l="textAreaLeft" t="textAreaTop" r="textAreaRight" b="textAreaBottom"/>
              <a:pathLst>
                <a:path w="21600" h="22484">
                  <a:moveTo>
                    <a:pt x="3562" y="0"/>
                  </a:moveTo>
                  <a:arcTo wR="3562" hR="3562" stAng="16200000" swAng="-5400000"/>
                  <a:lnTo>
                    <a:pt x="0" y="18922"/>
                  </a:lnTo>
                  <a:arcTo wR="3562" hR="3562" stAng="10800000" swAng="-5400000"/>
                  <a:lnTo>
                    <a:pt x="18038" y="22484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420040" y="2373120"/>
              <a:ext cx="412920" cy="429840"/>
            </a:xfrm>
            <a:custGeom>
              <a:avLst/>
              <a:gdLst>
                <a:gd name="textAreaLeft" fmla="*/ 19800 w 412920"/>
                <a:gd name="textAreaRight" fmla="*/ 393120 w 412920"/>
                <a:gd name="textAreaTop" fmla="*/ 19800 h 429840"/>
                <a:gd name="textAreaBottom" fmla="*/ 410040 h 429840"/>
              </a:gdLst>
              <a:ahLst/>
              <a:rect l="textAreaLeft" t="textAreaTop" r="textAreaRight" b="textAreaBottom"/>
              <a:pathLst>
                <a:path w="21600" h="22484">
                  <a:moveTo>
                    <a:pt x="3562" y="0"/>
                  </a:moveTo>
                  <a:arcTo wR="3562" hR="3562" stAng="16200000" swAng="-5400000"/>
                  <a:lnTo>
                    <a:pt x="0" y="18922"/>
                  </a:lnTo>
                  <a:arcTo wR="3562" hR="3562" stAng="10800000" swAng="-5400000"/>
                  <a:lnTo>
                    <a:pt x="18038" y="22484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420040" y="3752640"/>
              <a:ext cx="412920" cy="431280"/>
            </a:xfrm>
            <a:custGeom>
              <a:avLst/>
              <a:gdLst>
                <a:gd name="textAreaLeft" fmla="*/ 19800 w 412920"/>
                <a:gd name="textAreaRight" fmla="*/ 393120 w 412920"/>
                <a:gd name="textAreaTop" fmla="*/ 19800 h 431280"/>
                <a:gd name="textAreaBottom" fmla="*/ 411480 h 431280"/>
              </a:gdLst>
              <a:ahLst/>
              <a:rect l="textAreaLeft" t="textAreaTop" r="textAreaRight" b="textAreaBottom"/>
              <a:pathLst>
                <a:path w="21600" h="22560">
                  <a:moveTo>
                    <a:pt x="3562" y="0"/>
                  </a:moveTo>
                  <a:arcTo wR="3562" hR="3562" stAng="16200000" swAng="-5400000"/>
                  <a:lnTo>
                    <a:pt x="0" y="18998"/>
                  </a:lnTo>
                  <a:arcTo wR="3562" hR="3562" stAng="10800000" swAng="-5400000"/>
                  <a:lnTo>
                    <a:pt x="18038" y="22560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016760" y="3752640"/>
              <a:ext cx="412920" cy="431280"/>
            </a:xfrm>
            <a:custGeom>
              <a:avLst/>
              <a:gdLst>
                <a:gd name="textAreaLeft" fmla="*/ 19800 w 412920"/>
                <a:gd name="textAreaRight" fmla="*/ 393120 w 412920"/>
                <a:gd name="textAreaTop" fmla="*/ 19800 h 431280"/>
                <a:gd name="textAreaBottom" fmla="*/ 411480 h 431280"/>
              </a:gdLst>
              <a:ahLst/>
              <a:rect l="textAreaLeft" t="textAreaTop" r="textAreaRight" b="textAreaBottom"/>
              <a:pathLst>
                <a:path w="21600" h="22560">
                  <a:moveTo>
                    <a:pt x="3562" y="0"/>
                  </a:moveTo>
                  <a:arcTo wR="3562" hR="3562" stAng="16200000" swAng="-5400000"/>
                  <a:lnTo>
                    <a:pt x="0" y="18998"/>
                  </a:lnTo>
                  <a:arcTo wR="3562" hR="3562" stAng="10800000" swAng="-5400000"/>
                  <a:lnTo>
                    <a:pt x="18038" y="22560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75440" y="2409480"/>
              <a:ext cx="3366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480520" y="2409480"/>
              <a:ext cx="333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480520" y="3790800"/>
              <a:ext cx="33336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075440" y="3790800"/>
              <a:ext cx="3366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016760" y="3147840"/>
              <a:ext cx="333360" cy="4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756560" y="3835080"/>
              <a:ext cx="333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759800" y="2458800"/>
              <a:ext cx="33336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501040" y="3147840"/>
              <a:ext cx="338040" cy="4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2577000">
              <a:off x="7499520" y="2868120"/>
              <a:ext cx="823680" cy="861480"/>
            </a:xfrm>
            <a:custGeom>
              <a:avLst/>
              <a:gdLst>
                <a:gd name="textAreaLeft" fmla="*/ 0 w 823680"/>
                <a:gd name="textAreaRight" fmla="*/ 824040 w 823680"/>
                <a:gd name="textAreaTop" fmla="*/ 0 h 861480"/>
                <a:gd name="textAreaBottom" fmla="*/ 861840 h 86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99" y="10800"/>
                  </a:moveTo>
                  <a:arcTo wR="-6101" hR="-6101" stAng="-10800000" swAng="-18761082"/>
                  <a:lnTo>
                    <a:pt x="18122" y="18739"/>
                  </a:lnTo>
                  <a:arcTo wR="10800" hR="10800" stAng="2838918" swAng="18761082"/>
                  <a:lnTo>
                    <a:pt x="24300" y="10800"/>
                  </a:lnTo>
                  <a:lnTo>
                    <a:pt x="19251" y="15850"/>
                  </a:lnTo>
                  <a:lnTo>
                    <a:pt x="14201" y="108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934320" y="2974680"/>
              <a:ext cx="1981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152280" y="2158920"/>
            <a:ext cx="883944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0" spc="-1" strike="noStrike" u="sng">
                <a:solidFill>
                  <a:srgbClr val="000066"/>
                </a:solidFill>
                <a:uFillTx/>
                <a:latin typeface="Arial"/>
              </a:rPr>
              <a:t>Memory componen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US" sz="2600" spc="-1" strike="noStrike" u="sng">
                <a:solidFill>
                  <a:srgbClr val="000066"/>
                </a:solidFill>
                <a:uFillTx/>
                <a:latin typeface="Arial"/>
              </a:rPr>
              <a:t>O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ntology in RDFS     (O'CoMM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escription the </a:t>
            </a:r>
            <a:r>
              <a:rPr b="1" lang="en-US" sz="2600" spc="-1" strike="noStrike" u="sng">
                <a:solidFill>
                  <a:srgbClr val="000066"/>
                </a:solidFill>
                <a:uFillTx/>
                <a:latin typeface="Arial"/>
              </a:rPr>
              <a:t>S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tuation in RD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6800" indent="-188280">
              <a:lnSpc>
                <a:spcPct val="7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r Profiles (annotate per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6800" indent="-188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ganization model (annotate grou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US" sz="26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nnotations in RDF describing </a:t>
            </a:r>
            <a:r>
              <a:rPr b="1" lang="en-US" sz="2600" spc="-1" strike="noStrike" u="sng">
                <a:solidFill>
                  <a:srgbClr val="000066"/>
                </a:solidFill>
                <a:uFillTx/>
                <a:latin typeface="Arial"/>
              </a:rPr>
              <a:t>D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ocu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Toward a </a:t>
            </a:r>
            <a:r>
              <a:rPr b="0" lang="en-US" sz="3000" spc="-1" strike="noStrike" u="sng">
                <a:solidFill>
                  <a:srgbClr val="000066"/>
                </a:solidFill>
                <a:uFillTx/>
                <a:latin typeface="Arial"/>
              </a:rPr>
              <a:t>corporate semantic we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US" sz="2600" spc="-1" strike="noStrike" u="sng">
                <a:solidFill>
                  <a:srgbClr val="000066"/>
                </a:solidFill>
                <a:uFillTx/>
                <a:latin typeface="Arial"/>
              </a:rPr>
              <a:t>Annotated world for agents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(quickly intellige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nnotated documents (manipulation at semantic level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-18828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nnotated persons &amp; organizational entities</a:t>
            </a:r>
            <a:br>
              <a:rPr sz="2600"/>
            </a:b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 context aware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B31-345F-4570-8C94-7A0A53A5D2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"/>
          <p:cNvGrpSpPr/>
          <p:nvPr/>
        </p:nvGrpSpPr>
        <p:grpSpPr>
          <a:xfrm>
            <a:off x="482760" y="5773680"/>
            <a:ext cx="7791120" cy="322200"/>
            <a:chOff x="482760" y="5773680"/>
            <a:chExt cx="7791120" cy="322200"/>
          </a:xfrm>
        </p:grpSpPr>
        <p:sp>
          <p:nvSpPr>
            <p:cNvPr id="775" name=""/>
            <p:cNvSpPr/>
            <p:nvPr/>
          </p:nvSpPr>
          <p:spPr>
            <a:xfrm>
              <a:off x="482760" y="5773680"/>
              <a:ext cx="779112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898720" y="5773680"/>
              <a:ext cx="3017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Use &amp; Us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482760" y="3335400"/>
            <a:ext cx="3862080" cy="2592360"/>
            <a:chOff x="482760" y="3335400"/>
            <a:chExt cx="3862080" cy="2592360"/>
          </a:xfrm>
        </p:grpSpPr>
        <p:grpSp>
          <p:nvGrpSpPr>
            <p:cNvPr id="778" name=""/>
            <p:cNvGrpSpPr/>
            <p:nvPr/>
          </p:nvGrpSpPr>
          <p:grpSpPr>
            <a:xfrm>
              <a:off x="482760" y="3335400"/>
              <a:ext cx="3862080" cy="2278080"/>
              <a:chOff x="482760" y="3335400"/>
              <a:chExt cx="3862080" cy="2278080"/>
            </a:xfrm>
          </p:grpSpPr>
          <p:sp>
            <p:nvSpPr>
              <p:cNvPr id="779" name=""/>
              <p:cNvSpPr/>
              <p:nvPr/>
            </p:nvSpPr>
            <p:spPr>
              <a:xfrm>
                <a:off x="482760" y="3335400"/>
                <a:ext cx="3862080" cy="20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920520" y="5374080"/>
                <a:ext cx="301752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(1) Scenarios and Data colle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 rot="16200000">
              <a:off x="267840" y="5442120"/>
              <a:ext cx="768240" cy="202680"/>
            </a:xfrm>
            <a:custGeom>
              <a:avLst/>
              <a:gdLst>
                <a:gd name="textAreaLeft" fmla="*/ 119880 w 768240"/>
                <a:gd name="textAreaRight" fmla="*/ 693000 w 768240"/>
                <a:gd name="textAreaTop" fmla="*/ 50760 h 202680"/>
                <a:gd name="textAreaBottom" fmla="*/ 151920 h 20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16"/>
                  </a:moveTo>
                  <a:lnTo>
                    <a:pt x="17349" y="5416"/>
                  </a:lnTo>
                  <a:lnTo>
                    <a:pt x="17349" y="0"/>
                  </a:lnTo>
                  <a:lnTo>
                    <a:pt x="21600" y="10800"/>
                  </a:lnTo>
                  <a:lnTo>
                    <a:pt x="17349" y="21600"/>
                  </a:lnTo>
                  <a:lnTo>
                    <a:pt x="17349" y="16184"/>
                  </a:lnTo>
                  <a:lnTo>
                    <a:pt x="3375" y="16184"/>
                  </a:lnTo>
                  <a:close/>
                </a:path>
                <a:path w="21600" h="21600">
                  <a:moveTo>
                    <a:pt x="0" y="5416"/>
                  </a:moveTo>
                  <a:lnTo>
                    <a:pt x="675" y="5416"/>
                  </a:lnTo>
                  <a:lnTo>
                    <a:pt x="675" y="16184"/>
                  </a:lnTo>
                  <a:lnTo>
                    <a:pt x="0" y="16184"/>
                  </a:lnTo>
                  <a:close/>
                </a:path>
                <a:path w="21600" h="21600">
                  <a:moveTo>
                    <a:pt x="1350" y="5416"/>
                  </a:moveTo>
                  <a:lnTo>
                    <a:pt x="2700" y="5416"/>
                  </a:lnTo>
                  <a:lnTo>
                    <a:pt x="2700" y="16184"/>
                  </a:lnTo>
                  <a:lnTo>
                    <a:pt x="1350" y="16184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Building the O'CoMMA ontology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1100160" y="3429000"/>
            <a:ext cx="3249000" cy="1228680"/>
            <a:chOff x="1100160" y="3429000"/>
            <a:chExt cx="3249000" cy="1228680"/>
          </a:xfrm>
        </p:grpSpPr>
        <p:sp>
          <p:nvSpPr>
            <p:cNvPr id="784" name=""/>
            <p:cNvSpPr/>
            <p:nvPr/>
          </p:nvSpPr>
          <p:spPr>
            <a:xfrm>
              <a:off x="1303200" y="4181400"/>
              <a:ext cx="12700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100160" y="4300560"/>
              <a:ext cx="339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71600" y="4479840"/>
              <a:ext cx="2973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5400000">
              <a:off x="3699000" y="3747240"/>
              <a:ext cx="9684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ntern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8" name="" descr=""/>
            <p:cNvPicPr/>
            <p:nvPr/>
          </p:nvPicPr>
          <p:blipFill>
            <a:blip r:embed="rId1"/>
            <a:stretch/>
          </p:blipFill>
          <p:spPr>
            <a:xfrm>
              <a:off x="1396800" y="3438360"/>
              <a:ext cx="990720" cy="598680"/>
            </a:xfrm>
            <a:prstGeom prst="rect">
              <a:avLst/>
            </a:prstGeom>
            <a:ln w="12600">
              <a:solidFill>
                <a:srgbClr val="b2b2b2"/>
              </a:solidFill>
              <a:miter/>
            </a:ln>
          </p:spPr>
        </p:pic>
        <p:grpSp>
          <p:nvGrpSpPr>
            <p:cNvPr id="789" name=""/>
            <p:cNvGrpSpPr/>
            <p:nvPr/>
          </p:nvGrpSpPr>
          <p:grpSpPr>
            <a:xfrm>
              <a:off x="1820880" y="3772080"/>
              <a:ext cx="718920" cy="494640"/>
              <a:chOff x="1820880" y="3772080"/>
              <a:chExt cx="718920" cy="494640"/>
            </a:xfrm>
          </p:grpSpPr>
          <p:sp>
            <p:nvSpPr>
              <p:cNvPr id="790" name=""/>
              <p:cNvSpPr/>
              <p:nvPr/>
            </p:nvSpPr>
            <p:spPr>
              <a:xfrm>
                <a:off x="1820880" y="3779640"/>
                <a:ext cx="160200" cy="50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930320" y="3772080"/>
                <a:ext cx="593640" cy="73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820880" y="3830040"/>
                <a:ext cx="91800" cy="436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3863880"/>
                <a:ext cx="618840" cy="397440"/>
              </a:xfrm>
              <a:prstGeom prst="rect">
                <a:avLst/>
              </a:prstGeom>
              <a:ln w="12600">
                <a:solidFill>
                  <a:srgbClr val="b2b2b2"/>
                </a:solidFill>
                <a:miter/>
              </a:ln>
            </p:spPr>
          </p:pic>
        </p:grpSp>
        <p:grpSp>
          <p:nvGrpSpPr>
            <p:cNvPr id="794" name=""/>
            <p:cNvGrpSpPr/>
            <p:nvPr/>
          </p:nvGrpSpPr>
          <p:grpSpPr>
            <a:xfrm>
              <a:off x="2538360" y="3440160"/>
              <a:ext cx="744480" cy="984240"/>
              <a:chOff x="2538360" y="3440160"/>
              <a:chExt cx="744480" cy="984240"/>
            </a:xfrm>
          </p:grpSpPr>
          <p:sp>
            <p:nvSpPr>
              <p:cNvPr id="795" name=""/>
              <p:cNvSpPr/>
              <p:nvPr/>
            </p:nvSpPr>
            <p:spPr>
              <a:xfrm>
                <a:off x="2538360" y="4184640"/>
                <a:ext cx="74448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Interview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6" name=""/>
              <p:cNvGrpSpPr/>
              <p:nvPr/>
            </p:nvGrpSpPr>
            <p:grpSpPr>
              <a:xfrm>
                <a:off x="2614680" y="3440160"/>
                <a:ext cx="591840" cy="785520"/>
                <a:chOff x="2614680" y="3440160"/>
                <a:chExt cx="591840" cy="7855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2614680" y="3440160"/>
                  <a:ext cx="591840" cy="785520"/>
                </a:xfrm>
                <a:prstGeom prst="foldedCorner">
                  <a:avLst>
                    <a:gd name="adj" fmla="val 5273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633760" y="3476520"/>
                  <a:ext cx="54432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99" name=""/>
                <p:cNvGrpSpPr/>
                <p:nvPr/>
              </p:nvGrpSpPr>
              <p:grpSpPr>
                <a:xfrm>
                  <a:off x="2654280" y="3943080"/>
                  <a:ext cx="517320" cy="27000"/>
                  <a:chOff x="2654280" y="3943080"/>
                  <a:chExt cx="517320" cy="2700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>
                    <a:off x="2829600" y="3943080"/>
                    <a:ext cx="342000" cy="0"/>
                  </a:xfrm>
                  <a:prstGeom prst="line">
                    <a:avLst/>
                  </a:prstGeom>
                  <a:ln w="32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2654280" y="3970080"/>
                    <a:ext cx="212400" cy="0"/>
                  </a:xfrm>
                  <a:prstGeom prst="line">
                    <a:avLst/>
                  </a:prstGeom>
                  <a:ln w="32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2" name=""/>
                <p:cNvGrpSpPr/>
                <p:nvPr/>
              </p:nvGrpSpPr>
              <p:grpSpPr>
                <a:xfrm>
                  <a:off x="2654280" y="3695760"/>
                  <a:ext cx="517320" cy="31680"/>
                  <a:chOff x="2654280" y="3695760"/>
                  <a:chExt cx="517320" cy="31680"/>
                </a:xfrm>
              </p:grpSpPr>
              <p:sp>
                <p:nvSpPr>
                  <p:cNvPr id="803" name=""/>
                  <p:cNvSpPr/>
                  <p:nvPr/>
                </p:nvSpPr>
                <p:spPr>
                  <a:xfrm>
                    <a:off x="2838960" y="3695760"/>
                    <a:ext cx="258480" cy="0"/>
                  </a:xfrm>
                  <a:prstGeom prst="line">
                    <a:avLst/>
                  </a:prstGeom>
                  <a:ln w="3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3153240" y="3695760"/>
                    <a:ext cx="18360" cy="0"/>
                  </a:xfrm>
                  <a:prstGeom prst="line">
                    <a:avLst/>
                  </a:prstGeom>
                  <a:ln w="3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2654280" y="3727440"/>
                    <a:ext cx="240120" cy="0"/>
                  </a:xfrm>
                  <a:prstGeom prst="line">
                    <a:avLst/>
                  </a:prstGeom>
                  <a:ln w="3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6" name=""/>
                <p:cNvGrpSpPr/>
                <p:nvPr/>
              </p:nvGrpSpPr>
              <p:grpSpPr>
                <a:xfrm>
                  <a:off x="2654280" y="3571920"/>
                  <a:ext cx="517320" cy="554040"/>
                  <a:chOff x="2654280" y="3571920"/>
                  <a:chExt cx="517320" cy="554040"/>
                </a:xfrm>
              </p:grpSpPr>
              <p:sp>
                <p:nvSpPr>
                  <p:cNvPr id="807" name=""/>
                  <p:cNvSpPr/>
                  <p:nvPr/>
                </p:nvSpPr>
                <p:spPr>
                  <a:xfrm>
                    <a:off x="3120840" y="3571920"/>
                    <a:ext cx="4608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2654280" y="3599640"/>
                    <a:ext cx="24948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3033000" y="3599640"/>
                    <a:ext cx="12924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2654280" y="3631320"/>
                    <a:ext cx="6444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2896920" y="3787920"/>
                    <a:ext cx="26784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2657520" y="3817080"/>
                    <a:ext cx="11088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2715480" y="3847680"/>
                    <a:ext cx="14760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2866680" y="4034520"/>
                    <a:ext cx="30492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2660040" y="4063680"/>
                    <a:ext cx="50832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2663280" y="4094280"/>
                    <a:ext cx="25848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2828520" y="4125960"/>
                    <a:ext cx="14760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18" name=""/>
            <p:cNvGrpSpPr/>
            <p:nvPr/>
          </p:nvGrpSpPr>
          <p:grpSpPr>
            <a:xfrm>
              <a:off x="3235320" y="3429000"/>
              <a:ext cx="828720" cy="987480"/>
              <a:chOff x="3235320" y="3429000"/>
              <a:chExt cx="828720" cy="987480"/>
            </a:xfrm>
          </p:grpSpPr>
          <p:sp>
            <p:nvSpPr>
              <p:cNvPr id="819" name=""/>
              <p:cNvSpPr/>
              <p:nvPr/>
            </p:nvSpPr>
            <p:spPr>
              <a:xfrm>
                <a:off x="3235320" y="4176720"/>
                <a:ext cx="82872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ocumen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255840" y="3429000"/>
                <a:ext cx="773280" cy="838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21" name=""/>
          <p:cNvGrpSpPr/>
          <p:nvPr/>
        </p:nvGrpSpPr>
        <p:grpSpPr>
          <a:xfrm>
            <a:off x="1303200" y="4495680"/>
            <a:ext cx="3022200" cy="847800"/>
            <a:chOff x="1303200" y="4495680"/>
            <a:chExt cx="3022200" cy="847800"/>
          </a:xfrm>
        </p:grpSpPr>
        <p:sp>
          <p:nvSpPr>
            <p:cNvPr id="822" name=""/>
            <p:cNvSpPr/>
            <p:nvPr/>
          </p:nvSpPr>
          <p:spPr>
            <a:xfrm>
              <a:off x="1303200" y="5062680"/>
              <a:ext cx="115272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u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1303200" y="4730400"/>
              <a:ext cx="1152720" cy="357480"/>
              <a:chOff x="1303200" y="4730400"/>
              <a:chExt cx="1152720" cy="357480"/>
            </a:xfrm>
          </p:grpSpPr>
          <p:sp>
            <p:nvSpPr>
              <p:cNvPr id="824" name=""/>
              <p:cNvSpPr/>
              <p:nvPr/>
            </p:nvSpPr>
            <p:spPr>
              <a:xfrm>
                <a:off x="1438560" y="473076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303200" y="483768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574280" y="483768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1370880" y="4766400"/>
                <a:ext cx="13536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506600" y="4766400"/>
                <a:ext cx="13536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303200" y="494496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370880" y="487332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472760" y="494496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676160" y="494496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1540440" y="4873320"/>
                <a:ext cx="10152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641960" y="4873320"/>
                <a:ext cx="10152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303200" y="505224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472760" y="505224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676160" y="505224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1370520" y="4980600"/>
                <a:ext cx="16956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40440" y="498060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540440" y="4980600"/>
                <a:ext cx="20340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1" name=""/>
              <p:cNvGrpSpPr/>
              <p:nvPr/>
            </p:nvGrpSpPr>
            <p:grpSpPr>
              <a:xfrm>
                <a:off x="2049120" y="4730760"/>
                <a:ext cx="271080" cy="35640"/>
                <a:chOff x="2049120" y="4730760"/>
                <a:chExt cx="271080" cy="3564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2049120" y="473076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2250720" y="473076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2118600" y="4748400"/>
                  <a:ext cx="1317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2142000" y="4730760"/>
                  <a:ext cx="84960" cy="356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1879560" y="4873320"/>
                <a:ext cx="271080" cy="35640"/>
                <a:chOff x="1879560" y="4873320"/>
                <a:chExt cx="271080" cy="3564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1879560" y="487332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2081160" y="487332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1949040" y="4890960"/>
                  <a:ext cx="1317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1972440" y="4873320"/>
                  <a:ext cx="84960" cy="356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2184840" y="4873320"/>
                <a:ext cx="271080" cy="35640"/>
                <a:chOff x="2184840" y="4873320"/>
                <a:chExt cx="271080" cy="3564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2184840" y="487332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2386440" y="487332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2254320" y="4890960"/>
                  <a:ext cx="1317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2277720" y="4873320"/>
                  <a:ext cx="84960" cy="356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1879560" y="5016600"/>
                <a:ext cx="271080" cy="35640"/>
                <a:chOff x="1879560" y="5016600"/>
                <a:chExt cx="271080" cy="3564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1879560" y="501660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2081160" y="501660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949040" y="5034240"/>
                  <a:ext cx="1317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972440" y="5016600"/>
                  <a:ext cx="84960" cy="356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2184840" y="5016600"/>
                <a:ext cx="271080" cy="35640"/>
                <a:chOff x="2184840" y="5016600"/>
                <a:chExt cx="271080" cy="3564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2184840" y="501660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386440" y="501660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254320" y="5034240"/>
                  <a:ext cx="1317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277720" y="5016600"/>
                  <a:ext cx="84960" cy="356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6" name=""/>
              <p:cNvSpPr/>
              <p:nvPr/>
            </p:nvSpPr>
            <p:spPr>
              <a:xfrm>
                <a:off x="2184840" y="4766400"/>
                <a:ext cx="13536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2014560" y="4766400"/>
                <a:ext cx="16956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2014560" y="4909320"/>
                <a:ext cx="30492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320200" y="490932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879560" y="4730760"/>
                <a:ext cx="135360" cy="321480"/>
              </a:xfrm>
              <a:custGeom>
                <a:avLst/>
                <a:gdLst>
                  <a:gd name="textAreaLeft" fmla="*/ 18000 w 135360"/>
                  <a:gd name="textAreaRight" fmla="*/ 117360 w 135360"/>
                  <a:gd name="textAreaTop" fmla="*/ 56160 h 321480"/>
                  <a:gd name="textAreaBottom" fmla="*/ 233280 h 321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flipV="1">
                <a:off x="1710000" y="4730040"/>
                <a:ext cx="135360" cy="321480"/>
              </a:xfrm>
              <a:custGeom>
                <a:avLst/>
                <a:gdLst>
                  <a:gd name="textAreaLeft" fmla="*/ 18000 w 135360"/>
                  <a:gd name="textAreaRight" fmla="*/ 117360 w 135360"/>
                  <a:gd name="textAreaTop" fmla="*/ 55800 h 321480"/>
                  <a:gd name="textAreaBottom" fmla="*/ 232920 h 321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 rot="5400000">
              <a:off x="3770640" y="4788720"/>
              <a:ext cx="8478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xtern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2590560" y="4648320"/>
              <a:ext cx="677880" cy="647280"/>
              <a:chOff x="2590560" y="4648320"/>
              <a:chExt cx="677880" cy="647280"/>
            </a:xfrm>
          </p:grpSpPr>
          <p:grpSp>
            <p:nvGrpSpPr>
              <p:cNvPr id="874" name=""/>
              <p:cNvGrpSpPr/>
              <p:nvPr/>
            </p:nvGrpSpPr>
            <p:grpSpPr>
              <a:xfrm>
                <a:off x="2930400" y="4648320"/>
                <a:ext cx="295200" cy="331560"/>
                <a:chOff x="2930400" y="4648320"/>
                <a:chExt cx="295200" cy="331560"/>
              </a:xfrm>
            </p:grpSpPr>
            <p:grpSp>
              <p:nvGrpSpPr>
                <p:cNvPr id="875" name=""/>
                <p:cNvGrpSpPr/>
                <p:nvPr/>
              </p:nvGrpSpPr>
              <p:grpSpPr>
                <a:xfrm>
                  <a:off x="2930400" y="4648320"/>
                  <a:ext cx="295200" cy="331560"/>
                  <a:chOff x="2930400" y="4648320"/>
                  <a:chExt cx="295200" cy="33156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2930400" y="4648320"/>
                    <a:ext cx="295200" cy="33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90" h="2249">
                        <a:moveTo>
                          <a:pt x="22" y="2249"/>
                        </a:moveTo>
                        <a:lnTo>
                          <a:pt x="18" y="2247"/>
                        </a:lnTo>
                        <a:lnTo>
                          <a:pt x="15" y="2245"/>
                        </a:lnTo>
                        <a:lnTo>
                          <a:pt x="13" y="2243"/>
                        </a:lnTo>
                        <a:lnTo>
                          <a:pt x="10" y="2242"/>
                        </a:lnTo>
                        <a:lnTo>
                          <a:pt x="15" y="2195"/>
                        </a:lnTo>
                        <a:lnTo>
                          <a:pt x="27" y="2150"/>
                        </a:lnTo>
                        <a:lnTo>
                          <a:pt x="39" y="2105"/>
                        </a:lnTo>
                        <a:lnTo>
                          <a:pt x="44" y="2062"/>
                        </a:lnTo>
                        <a:lnTo>
                          <a:pt x="61" y="2002"/>
                        </a:lnTo>
                        <a:lnTo>
                          <a:pt x="79" y="1941"/>
                        </a:lnTo>
                        <a:lnTo>
                          <a:pt x="96" y="1879"/>
                        </a:lnTo>
                        <a:lnTo>
                          <a:pt x="111" y="1819"/>
                        </a:lnTo>
                        <a:lnTo>
                          <a:pt x="127" y="1757"/>
                        </a:lnTo>
                        <a:lnTo>
                          <a:pt x="140" y="1697"/>
                        </a:lnTo>
                        <a:lnTo>
                          <a:pt x="152" y="1635"/>
                        </a:lnTo>
                        <a:lnTo>
                          <a:pt x="161" y="1574"/>
                        </a:lnTo>
                        <a:lnTo>
                          <a:pt x="170" y="1524"/>
                        </a:lnTo>
                        <a:lnTo>
                          <a:pt x="173" y="1485"/>
                        </a:lnTo>
                        <a:lnTo>
                          <a:pt x="172" y="1445"/>
                        </a:lnTo>
                        <a:lnTo>
                          <a:pt x="164" y="1399"/>
                        </a:lnTo>
                        <a:lnTo>
                          <a:pt x="155" y="1373"/>
                        </a:lnTo>
                        <a:lnTo>
                          <a:pt x="146" y="1342"/>
                        </a:lnTo>
                        <a:lnTo>
                          <a:pt x="134" y="1302"/>
                        </a:lnTo>
                        <a:lnTo>
                          <a:pt x="118" y="1252"/>
                        </a:lnTo>
                        <a:lnTo>
                          <a:pt x="98" y="1189"/>
                        </a:lnTo>
                        <a:lnTo>
                          <a:pt x="72" y="1109"/>
                        </a:lnTo>
                        <a:lnTo>
                          <a:pt x="40" y="1009"/>
                        </a:lnTo>
                        <a:lnTo>
                          <a:pt x="0" y="885"/>
                        </a:lnTo>
                        <a:lnTo>
                          <a:pt x="0" y="881"/>
                        </a:lnTo>
                        <a:lnTo>
                          <a:pt x="0" y="877"/>
                        </a:lnTo>
                        <a:lnTo>
                          <a:pt x="0" y="873"/>
                        </a:lnTo>
                        <a:lnTo>
                          <a:pt x="0" y="871"/>
                        </a:lnTo>
                        <a:lnTo>
                          <a:pt x="10" y="856"/>
                        </a:lnTo>
                        <a:lnTo>
                          <a:pt x="19" y="837"/>
                        </a:lnTo>
                        <a:lnTo>
                          <a:pt x="27" y="814"/>
                        </a:lnTo>
                        <a:lnTo>
                          <a:pt x="34" y="791"/>
                        </a:lnTo>
                        <a:lnTo>
                          <a:pt x="39" y="767"/>
                        </a:lnTo>
                        <a:lnTo>
                          <a:pt x="43" y="745"/>
                        </a:lnTo>
                        <a:lnTo>
                          <a:pt x="47" y="725"/>
                        </a:lnTo>
                        <a:lnTo>
                          <a:pt x="50" y="709"/>
                        </a:lnTo>
                        <a:lnTo>
                          <a:pt x="72" y="632"/>
                        </a:lnTo>
                        <a:lnTo>
                          <a:pt x="94" y="553"/>
                        </a:lnTo>
                        <a:lnTo>
                          <a:pt x="117" y="475"/>
                        </a:lnTo>
                        <a:lnTo>
                          <a:pt x="138" y="398"/>
                        </a:lnTo>
                        <a:lnTo>
                          <a:pt x="157" y="320"/>
                        </a:lnTo>
                        <a:lnTo>
                          <a:pt x="174" y="241"/>
                        </a:lnTo>
                        <a:lnTo>
                          <a:pt x="188" y="164"/>
                        </a:lnTo>
                        <a:lnTo>
                          <a:pt x="197" y="85"/>
                        </a:lnTo>
                        <a:lnTo>
                          <a:pt x="199" y="79"/>
                        </a:lnTo>
                        <a:lnTo>
                          <a:pt x="202" y="75"/>
                        </a:lnTo>
                        <a:lnTo>
                          <a:pt x="205" y="70"/>
                        </a:lnTo>
                        <a:lnTo>
                          <a:pt x="207" y="66"/>
                        </a:lnTo>
                        <a:lnTo>
                          <a:pt x="260" y="56"/>
                        </a:lnTo>
                        <a:lnTo>
                          <a:pt x="311" y="48"/>
                        </a:lnTo>
                        <a:lnTo>
                          <a:pt x="364" y="41"/>
                        </a:lnTo>
                        <a:lnTo>
                          <a:pt x="416" y="35"/>
                        </a:lnTo>
                        <a:lnTo>
                          <a:pt x="469" y="31"/>
                        </a:lnTo>
                        <a:lnTo>
                          <a:pt x="521" y="27"/>
                        </a:lnTo>
                        <a:lnTo>
                          <a:pt x="574" y="24"/>
                        </a:lnTo>
                        <a:lnTo>
                          <a:pt x="628" y="23"/>
                        </a:lnTo>
                        <a:lnTo>
                          <a:pt x="680" y="20"/>
                        </a:lnTo>
                        <a:lnTo>
                          <a:pt x="734" y="19"/>
                        </a:lnTo>
                        <a:lnTo>
                          <a:pt x="787" y="18"/>
                        </a:lnTo>
                        <a:lnTo>
                          <a:pt x="841" y="15"/>
                        </a:lnTo>
                        <a:lnTo>
                          <a:pt x="893" y="12"/>
                        </a:lnTo>
                        <a:lnTo>
                          <a:pt x="947" y="10"/>
                        </a:lnTo>
                        <a:lnTo>
                          <a:pt x="1000" y="6"/>
                        </a:lnTo>
                        <a:lnTo>
                          <a:pt x="1053" y="0"/>
                        </a:lnTo>
                        <a:lnTo>
                          <a:pt x="1097" y="0"/>
                        </a:lnTo>
                        <a:lnTo>
                          <a:pt x="1140" y="2"/>
                        </a:lnTo>
                        <a:lnTo>
                          <a:pt x="1185" y="4"/>
                        </a:lnTo>
                        <a:lnTo>
                          <a:pt x="1228" y="7"/>
                        </a:lnTo>
                        <a:lnTo>
                          <a:pt x="1273" y="11"/>
                        </a:lnTo>
                        <a:lnTo>
                          <a:pt x="1316" y="15"/>
                        </a:lnTo>
                        <a:lnTo>
                          <a:pt x="1361" y="20"/>
                        </a:lnTo>
                        <a:lnTo>
                          <a:pt x="1406" y="25"/>
                        </a:lnTo>
                        <a:lnTo>
                          <a:pt x="1449" y="31"/>
                        </a:lnTo>
                        <a:lnTo>
                          <a:pt x="1494" y="37"/>
                        </a:lnTo>
                        <a:lnTo>
                          <a:pt x="1538" y="44"/>
                        </a:lnTo>
                        <a:lnTo>
                          <a:pt x="1583" y="52"/>
                        </a:lnTo>
                        <a:lnTo>
                          <a:pt x="1628" y="60"/>
                        </a:lnTo>
                        <a:lnTo>
                          <a:pt x="1672" y="68"/>
                        </a:lnTo>
                        <a:lnTo>
                          <a:pt x="1717" y="75"/>
                        </a:lnTo>
                        <a:lnTo>
                          <a:pt x="1762" y="83"/>
                        </a:lnTo>
                        <a:lnTo>
                          <a:pt x="1772" y="85"/>
                        </a:lnTo>
                        <a:lnTo>
                          <a:pt x="1785" y="86"/>
                        </a:lnTo>
                        <a:lnTo>
                          <a:pt x="1800" y="87"/>
                        </a:lnTo>
                        <a:lnTo>
                          <a:pt x="1817" y="90"/>
                        </a:lnTo>
                        <a:lnTo>
                          <a:pt x="1833" y="91"/>
                        </a:lnTo>
                        <a:lnTo>
                          <a:pt x="1851" y="94"/>
                        </a:lnTo>
                        <a:lnTo>
                          <a:pt x="1868" y="98"/>
                        </a:lnTo>
                        <a:lnTo>
                          <a:pt x="1886" y="102"/>
                        </a:lnTo>
                        <a:lnTo>
                          <a:pt x="1903" y="106"/>
                        </a:lnTo>
                        <a:lnTo>
                          <a:pt x="1921" y="111"/>
                        </a:lnTo>
                        <a:lnTo>
                          <a:pt x="1936" y="116"/>
                        </a:lnTo>
                        <a:lnTo>
                          <a:pt x="1951" y="123"/>
                        </a:lnTo>
                        <a:lnTo>
                          <a:pt x="1964" y="129"/>
                        </a:lnTo>
                        <a:lnTo>
                          <a:pt x="1974" y="137"/>
                        </a:lnTo>
                        <a:lnTo>
                          <a:pt x="1984" y="146"/>
                        </a:lnTo>
                        <a:lnTo>
                          <a:pt x="1990" y="156"/>
                        </a:lnTo>
                        <a:lnTo>
                          <a:pt x="1986" y="170"/>
                        </a:lnTo>
                        <a:lnTo>
                          <a:pt x="1981" y="186"/>
                        </a:lnTo>
                        <a:lnTo>
                          <a:pt x="1974" y="200"/>
                        </a:lnTo>
                        <a:lnTo>
                          <a:pt x="1967" y="215"/>
                        </a:lnTo>
                        <a:lnTo>
                          <a:pt x="1959" y="231"/>
                        </a:lnTo>
                        <a:lnTo>
                          <a:pt x="1951" y="245"/>
                        </a:lnTo>
                        <a:lnTo>
                          <a:pt x="1942" y="260"/>
                        </a:lnTo>
                        <a:lnTo>
                          <a:pt x="1934" y="274"/>
                        </a:lnTo>
                        <a:lnTo>
                          <a:pt x="1901" y="346"/>
                        </a:lnTo>
                        <a:lnTo>
                          <a:pt x="1868" y="420"/>
                        </a:lnTo>
                        <a:lnTo>
                          <a:pt x="1835" y="494"/>
                        </a:lnTo>
                        <a:lnTo>
                          <a:pt x="1806" y="567"/>
                        </a:lnTo>
                        <a:lnTo>
                          <a:pt x="1779" y="642"/>
                        </a:lnTo>
                        <a:lnTo>
                          <a:pt x="1758" y="720"/>
                        </a:lnTo>
                        <a:lnTo>
                          <a:pt x="1742" y="799"/>
                        </a:lnTo>
                        <a:lnTo>
                          <a:pt x="1734" y="880"/>
                        </a:lnTo>
                        <a:lnTo>
                          <a:pt x="1735" y="909"/>
                        </a:lnTo>
                        <a:lnTo>
                          <a:pt x="1737" y="937"/>
                        </a:lnTo>
                        <a:lnTo>
                          <a:pt x="1738" y="966"/>
                        </a:lnTo>
                        <a:lnTo>
                          <a:pt x="1739" y="994"/>
                        </a:lnTo>
                        <a:lnTo>
                          <a:pt x="1733" y="1018"/>
                        </a:lnTo>
                        <a:lnTo>
                          <a:pt x="1734" y="1054"/>
                        </a:lnTo>
                        <a:lnTo>
                          <a:pt x="1741" y="1097"/>
                        </a:lnTo>
                        <a:lnTo>
                          <a:pt x="1752" y="1146"/>
                        </a:lnTo>
                        <a:lnTo>
                          <a:pt x="1767" y="1197"/>
                        </a:lnTo>
                        <a:lnTo>
                          <a:pt x="1781" y="1246"/>
                        </a:lnTo>
                        <a:lnTo>
                          <a:pt x="1796" y="1289"/>
                        </a:lnTo>
                        <a:lnTo>
                          <a:pt x="1808" y="1323"/>
                        </a:lnTo>
                        <a:lnTo>
                          <a:pt x="1818" y="1339"/>
                        </a:lnTo>
                        <a:lnTo>
                          <a:pt x="1831" y="1360"/>
                        </a:lnTo>
                        <a:lnTo>
                          <a:pt x="1846" y="1384"/>
                        </a:lnTo>
                        <a:lnTo>
                          <a:pt x="1859" y="1410"/>
                        </a:lnTo>
                        <a:lnTo>
                          <a:pt x="1871" y="1436"/>
                        </a:lnTo>
                        <a:lnTo>
                          <a:pt x="1877" y="1464"/>
                        </a:lnTo>
                        <a:lnTo>
                          <a:pt x="1878" y="1489"/>
                        </a:lnTo>
                        <a:lnTo>
                          <a:pt x="1872" y="1512"/>
                        </a:lnTo>
                        <a:lnTo>
                          <a:pt x="1875" y="1547"/>
                        </a:lnTo>
                        <a:lnTo>
                          <a:pt x="1877" y="1581"/>
                        </a:lnTo>
                        <a:lnTo>
                          <a:pt x="1881" y="1614"/>
                        </a:lnTo>
                        <a:lnTo>
                          <a:pt x="1884" y="1648"/>
                        </a:lnTo>
                        <a:lnTo>
                          <a:pt x="1882" y="1707"/>
                        </a:lnTo>
                        <a:lnTo>
                          <a:pt x="1878" y="1766"/>
                        </a:lnTo>
                        <a:lnTo>
                          <a:pt x="1873" y="1827"/>
                        </a:lnTo>
                        <a:lnTo>
                          <a:pt x="1867" y="1887"/>
                        </a:lnTo>
                        <a:lnTo>
                          <a:pt x="1857" y="1949"/>
                        </a:lnTo>
                        <a:lnTo>
                          <a:pt x="1848" y="2009"/>
                        </a:lnTo>
                        <a:lnTo>
                          <a:pt x="1838" y="2070"/>
                        </a:lnTo>
                        <a:lnTo>
                          <a:pt x="1827" y="2130"/>
                        </a:lnTo>
                        <a:lnTo>
                          <a:pt x="1810" y="2195"/>
                        </a:lnTo>
                        <a:lnTo>
                          <a:pt x="1801" y="2229"/>
                        </a:lnTo>
                        <a:lnTo>
                          <a:pt x="1797" y="2242"/>
                        </a:lnTo>
                        <a:lnTo>
                          <a:pt x="1793" y="2246"/>
                        </a:lnTo>
                        <a:lnTo>
                          <a:pt x="1785" y="2247"/>
                        </a:lnTo>
                        <a:lnTo>
                          <a:pt x="1777" y="2247"/>
                        </a:lnTo>
                        <a:lnTo>
                          <a:pt x="1769" y="2249"/>
                        </a:lnTo>
                        <a:lnTo>
                          <a:pt x="1762" y="2249"/>
                        </a:lnTo>
                        <a:lnTo>
                          <a:pt x="1733" y="2245"/>
                        </a:lnTo>
                        <a:lnTo>
                          <a:pt x="1704" y="2240"/>
                        </a:lnTo>
                        <a:lnTo>
                          <a:pt x="1675" y="2236"/>
                        </a:lnTo>
                        <a:lnTo>
                          <a:pt x="1646" y="2232"/>
                        </a:lnTo>
                        <a:lnTo>
                          <a:pt x="1617" y="2228"/>
                        </a:lnTo>
                        <a:lnTo>
                          <a:pt x="1588" y="2224"/>
                        </a:lnTo>
                        <a:lnTo>
                          <a:pt x="1559" y="2220"/>
                        </a:lnTo>
                        <a:lnTo>
                          <a:pt x="1530" y="2216"/>
                        </a:lnTo>
                        <a:lnTo>
                          <a:pt x="1501" y="2213"/>
                        </a:lnTo>
                        <a:lnTo>
                          <a:pt x="1474" y="2209"/>
                        </a:lnTo>
                        <a:lnTo>
                          <a:pt x="1445" y="2205"/>
                        </a:lnTo>
                        <a:lnTo>
                          <a:pt x="1416" y="2203"/>
                        </a:lnTo>
                        <a:lnTo>
                          <a:pt x="1387" y="2199"/>
                        </a:lnTo>
                        <a:lnTo>
                          <a:pt x="1358" y="2195"/>
                        </a:lnTo>
                        <a:lnTo>
                          <a:pt x="1329" y="2192"/>
                        </a:lnTo>
                        <a:lnTo>
                          <a:pt x="1300" y="2188"/>
                        </a:lnTo>
                        <a:lnTo>
                          <a:pt x="1271" y="2186"/>
                        </a:lnTo>
                        <a:lnTo>
                          <a:pt x="1243" y="2182"/>
                        </a:lnTo>
                        <a:lnTo>
                          <a:pt x="1215" y="2179"/>
                        </a:lnTo>
                        <a:lnTo>
                          <a:pt x="1186" y="2175"/>
                        </a:lnTo>
                        <a:lnTo>
                          <a:pt x="1157" y="2172"/>
                        </a:lnTo>
                        <a:lnTo>
                          <a:pt x="1128" y="2169"/>
                        </a:lnTo>
                        <a:lnTo>
                          <a:pt x="1099" y="2166"/>
                        </a:lnTo>
                        <a:lnTo>
                          <a:pt x="1072" y="2162"/>
                        </a:lnTo>
                        <a:lnTo>
                          <a:pt x="1043" y="2158"/>
                        </a:lnTo>
                        <a:lnTo>
                          <a:pt x="1014" y="2155"/>
                        </a:lnTo>
                        <a:lnTo>
                          <a:pt x="986" y="2151"/>
                        </a:lnTo>
                        <a:lnTo>
                          <a:pt x="957" y="2147"/>
                        </a:lnTo>
                        <a:lnTo>
                          <a:pt x="930" y="2144"/>
                        </a:lnTo>
                        <a:lnTo>
                          <a:pt x="901" y="2140"/>
                        </a:lnTo>
                        <a:lnTo>
                          <a:pt x="872" y="2136"/>
                        </a:lnTo>
                        <a:lnTo>
                          <a:pt x="844" y="2132"/>
                        </a:lnTo>
                        <a:lnTo>
                          <a:pt x="793" y="2134"/>
                        </a:lnTo>
                        <a:lnTo>
                          <a:pt x="741" y="2140"/>
                        </a:lnTo>
                        <a:lnTo>
                          <a:pt x="689" y="2145"/>
                        </a:lnTo>
                        <a:lnTo>
                          <a:pt x="637" y="2153"/>
                        </a:lnTo>
                        <a:lnTo>
                          <a:pt x="586" y="2162"/>
                        </a:lnTo>
                        <a:lnTo>
                          <a:pt x="533" y="2172"/>
                        </a:lnTo>
                        <a:lnTo>
                          <a:pt x="482" y="2183"/>
                        </a:lnTo>
                        <a:lnTo>
                          <a:pt x="429" y="2194"/>
                        </a:lnTo>
                        <a:lnTo>
                          <a:pt x="378" y="2204"/>
                        </a:lnTo>
                        <a:lnTo>
                          <a:pt x="327" y="2213"/>
                        </a:lnTo>
                        <a:lnTo>
                          <a:pt x="276" y="2224"/>
                        </a:lnTo>
                        <a:lnTo>
                          <a:pt x="224" y="2232"/>
                        </a:lnTo>
                        <a:lnTo>
                          <a:pt x="173" y="2238"/>
                        </a:lnTo>
                        <a:lnTo>
                          <a:pt x="122" y="2243"/>
                        </a:lnTo>
                        <a:lnTo>
                          <a:pt x="72" y="2247"/>
                        </a:lnTo>
                        <a:lnTo>
                          <a:pt x="22" y="22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2940840" y="4654800"/>
                    <a:ext cx="270360" cy="31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0" h="2126">
                        <a:moveTo>
                          <a:pt x="44" y="2126"/>
                        </a:moveTo>
                        <a:lnTo>
                          <a:pt x="45" y="2098"/>
                        </a:lnTo>
                        <a:lnTo>
                          <a:pt x="49" y="2069"/>
                        </a:lnTo>
                        <a:lnTo>
                          <a:pt x="53" y="2043"/>
                        </a:lnTo>
                        <a:lnTo>
                          <a:pt x="59" y="2015"/>
                        </a:lnTo>
                        <a:lnTo>
                          <a:pt x="66" y="1989"/>
                        </a:lnTo>
                        <a:lnTo>
                          <a:pt x="74" y="1963"/>
                        </a:lnTo>
                        <a:lnTo>
                          <a:pt x="80" y="1937"/>
                        </a:lnTo>
                        <a:lnTo>
                          <a:pt x="86" y="1909"/>
                        </a:lnTo>
                        <a:lnTo>
                          <a:pt x="88" y="1904"/>
                        </a:lnTo>
                        <a:lnTo>
                          <a:pt x="90" y="1898"/>
                        </a:lnTo>
                        <a:lnTo>
                          <a:pt x="92" y="1893"/>
                        </a:lnTo>
                        <a:lnTo>
                          <a:pt x="95" y="1888"/>
                        </a:lnTo>
                        <a:lnTo>
                          <a:pt x="105" y="1831"/>
                        </a:lnTo>
                        <a:lnTo>
                          <a:pt x="116" y="1773"/>
                        </a:lnTo>
                        <a:lnTo>
                          <a:pt x="126" y="1717"/>
                        </a:lnTo>
                        <a:lnTo>
                          <a:pt x="137" y="1659"/>
                        </a:lnTo>
                        <a:lnTo>
                          <a:pt x="146" y="1601"/>
                        </a:lnTo>
                        <a:lnTo>
                          <a:pt x="153" y="1545"/>
                        </a:lnTo>
                        <a:lnTo>
                          <a:pt x="158" y="1488"/>
                        </a:lnTo>
                        <a:lnTo>
                          <a:pt x="159" y="1433"/>
                        </a:lnTo>
                        <a:lnTo>
                          <a:pt x="133" y="1397"/>
                        </a:lnTo>
                        <a:lnTo>
                          <a:pt x="115" y="1357"/>
                        </a:lnTo>
                        <a:lnTo>
                          <a:pt x="101" y="1311"/>
                        </a:lnTo>
                        <a:lnTo>
                          <a:pt x="94" y="1263"/>
                        </a:lnTo>
                        <a:lnTo>
                          <a:pt x="87" y="1215"/>
                        </a:lnTo>
                        <a:lnTo>
                          <a:pt x="80" y="1166"/>
                        </a:lnTo>
                        <a:lnTo>
                          <a:pt x="70" y="1120"/>
                        </a:lnTo>
                        <a:lnTo>
                          <a:pt x="55" y="1078"/>
                        </a:lnTo>
                        <a:lnTo>
                          <a:pt x="50" y="1040"/>
                        </a:lnTo>
                        <a:lnTo>
                          <a:pt x="42" y="1002"/>
                        </a:lnTo>
                        <a:lnTo>
                          <a:pt x="34" y="964"/>
                        </a:lnTo>
                        <a:lnTo>
                          <a:pt x="27" y="927"/>
                        </a:lnTo>
                        <a:lnTo>
                          <a:pt x="17" y="890"/>
                        </a:lnTo>
                        <a:lnTo>
                          <a:pt x="9" y="853"/>
                        </a:lnTo>
                        <a:lnTo>
                          <a:pt x="4" y="816"/>
                        </a:lnTo>
                        <a:lnTo>
                          <a:pt x="0" y="780"/>
                        </a:lnTo>
                        <a:lnTo>
                          <a:pt x="3" y="769"/>
                        </a:lnTo>
                        <a:lnTo>
                          <a:pt x="6" y="756"/>
                        </a:lnTo>
                        <a:lnTo>
                          <a:pt x="9" y="737"/>
                        </a:lnTo>
                        <a:lnTo>
                          <a:pt x="15" y="711"/>
                        </a:lnTo>
                        <a:lnTo>
                          <a:pt x="21" y="678"/>
                        </a:lnTo>
                        <a:lnTo>
                          <a:pt x="30" y="635"/>
                        </a:lnTo>
                        <a:lnTo>
                          <a:pt x="44" y="581"/>
                        </a:lnTo>
                        <a:lnTo>
                          <a:pt x="59" y="514"/>
                        </a:lnTo>
                        <a:lnTo>
                          <a:pt x="76" y="456"/>
                        </a:lnTo>
                        <a:lnTo>
                          <a:pt x="94" y="400"/>
                        </a:lnTo>
                        <a:lnTo>
                          <a:pt x="112" y="343"/>
                        </a:lnTo>
                        <a:lnTo>
                          <a:pt x="132" y="286"/>
                        </a:lnTo>
                        <a:lnTo>
                          <a:pt x="151" y="231"/>
                        </a:lnTo>
                        <a:lnTo>
                          <a:pt x="174" y="176"/>
                        </a:lnTo>
                        <a:lnTo>
                          <a:pt x="196" y="122"/>
                        </a:lnTo>
                        <a:lnTo>
                          <a:pt x="220" y="68"/>
                        </a:lnTo>
                        <a:lnTo>
                          <a:pt x="272" y="60"/>
                        </a:lnTo>
                        <a:lnTo>
                          <a:pt x="323" y="52"/>
                        </a:lnTo>
                        <a:lnTo>
                          <a:pt x="375" y="46"/>
                        </a:lnTo>
                        <a:lnTo>
                          <a:pt x="427" y="39"/>
                        </a:lnTo>
                        <a:lnTo>
                          <a:pt x="479" y="34"/>
                        </a:lnTo>
                        <a:lnTo>
                          <a:pt x="530" y="29"/>
                        </a:lnTo>
                        <a:lnTo>
                          <a:pt x="582" y="25"/>
                        </a:lnTo>
                        <a:lnTo>
                          <a:pt x="634" y="20"/>
                        </a:lnTo>
                        <a:lnTo>
                          <a:pt x="686" y="17"/>
                        </a:lnTo>
                        <a:lnTo>
                          <a:pt x="737" y="13"/>
                        </a:lnTo>
                        <a:lnTo>
                          <a:pt x="790" y="10"/>
                        </a:lnTo>
                        <a:lnTo>
                          <a:pt x="842" y="8"/>
                        </a:lnTo>
                        <a:lnTo>
                          <a:pt x="895" y="5"/>
                        </a:lnTo>
                        <a:lnTo>
                          <a:pt x="948" y="4"/>
                        </a:lnTo>
                        <a:lnTo>
                          <a:pt x="1000" y="1"/>
                        </a:lnTo>
                        <a:lnTo>
                          <a:pt x="1054" y="0"/>
                        </a:lnTo>
                        <a:lnTo>
                          <a:pt x="1066" y="1"/>
                        </a:lnTo>
                        <a:lnTo>
                          <a:pt x="1076" y="3"/>
                        </a:lnTo>
                        <a:lnTo>
                          <a:pt x="1088" y="4"/>
                        </a:lnTo>
                        <a:lnTo>
                          <a:pt x="1099" y="5"/>
                        </a:lnTo>
                        <a:lnTo>
                          <a:pt x="1109" y="6"/>
                        </a:lnTo>
                        <a:lnTo>
                          <a:pt x="1121" y="8"/>
                        </a:lnTo>
                        <a:lnTo>
                          <a:pt x="1134" y="10"/>
                        </a:lnTo>
                        <a:lnTo>
                          <a:pt x="1149" y="12"/>
                        </a:lnTo>
                        <a:lnTo>
                          <a:pt x="1163" y="14"/>
                        </a:lnTo>
                        <a:lnTo>
                          <a:pt x="1180" y="16"/>
                        </a:lnTo>
                        <a:lnTo>
                          <a:pt x="1200" y="18"/>
                        </a:lnTo>
                        <a:lnTo>
                          <a:pt x="1222" y="21"/>
                        </a:lnTo>
                        <a:lnTo>
                          <a:pt x="1247" y="25"/>
                        </a:lnTo>
                        <a:lnTo>
                          <a:pt x="1275" y="27"/>
                        </a:lnTo>
                        <a:lnTo>
                          <a:pt x="1306" y="31"/>
                        </a:lnTo>
                        <a:lnTo>
                          <a:pt x="1340" y="35"/>
                        </a:lnTo>
                        <a:lnTo>
                          <a:pt x="1422" y="51"/>
                        </a:lnTo>
                        <a:lnTo>
                          <a:pt x="1494" y="64"/>
                        </a:lnTo>
                        <a:lnTo>
                          <a:pt x="1557" y="77"/>
                        </a:lnTo>
                        <a:lnTo>
                          <a:pt x="1610" y="87"/>
                        </a:lnTo>
                        <a:lnTo>
                          <a:pt x="1656" y="96"/>
                        </a:lnTo>
                        <a:lnTo>
                          <a:pt x="1694" y="104"/>
                        </a:lnTo>
                        <a:lnTo>
                          <a:pt x="1725" y="109"/>
                        </a:lnTo>
                        <a:lnTo>
                          <a:pt x="1750" y="114"/>
                        </a:lnTo>
                        <a:lnTo>
                          <a:pt x="1770" y="118"/>
                        </a:lnTo>
                        <a:lnTo>
                          <a:pt x="1786" y="121"/>
                        </a:lnTo>
                        <a:lnTo>
                          <a:pt x="1796" y="123"/>
                        </a:lnTo>
                        <a:lnTo>
                          <a:pt x="1805" y="126"/>
                        </a:lnTo>
                        <a:lnTo>
                          <a:pt x="1811" y="127"/>
                        </a:lnTo>
                        <a:lnTo>
                          <a:pt x="1815" y="129"/>
                        </a:lnTo>
                        <a:lnTo>
                          <a:pt x="1817" y="129"/>
                        </a:lnTo>
                        <a:lnTo>
                          <a:pt x="1820" y="130"/>
                        </a:lnTo>
                        <a:lnTo>
                          <a:pt x="1820" y="133"/>
                        </a:lnTo>
                        <a:lnTo>
                          <a:pt x="1820" y="135"/>
                        </a:lnTo>
                        <a:lnTo>
                          <a:pt x="1820" y="138"/>
                        </a:lnTo>
                        <a:lnTo>
                          <a:pt x="1820" y="142"/>
                        </a:lnTo>
                        <a:lnTo>
                          <a:pt x="1802" y="180"/>
                        </a:lnTo>
                        <a:lnTo>
                          <a:pt x="1783" y="218"/>
                        </a:lnTo>
                        <a:lnTo>
                          <a:pt x="1766" y="258"/>
                        </a:lnTo>
                        <a:lnTo>
                          <a:pt x="1749" y="298"/>
                        </a:lnTo>
                        <a:lnTo>
                          <a:pt x="1733" y="338"/>
                        </a:lnTo>
                        <a:lnTo>
                          <a:pt x="1717" y="380"/>
                        </a:lnTo>
                        <a:lnTo>
                          <a:pt x="1703" y="421"/>
                        </a:lnTo>
                        <a:lnTo>
                          <a:pt x="1689" y="461"/>
                        </a:lnTo>
                        <a:lnTo>
                          <a:pt x="1675" y="503"/>
                        </a:lnTo>
                        <a:lnTo>
                          <a:pt x="1662" y="546"/>
                        </a:lnTo>
                        <a:lnTo>
                          <a:pt x="1649" y="588"/>
                        </a:lnTo>
                        <a:lnTo>
                          <a:pt x="1636" y="630"/>
                        </a:lnTo>
                        <a:lnTo>
                          <a:pt x="1624" y="672"/>
                        </a:lnTo>
                        <a:lnTo>
                          <a:pt x="1612" y="714"/>
                        </a:lnTo>
                        <a:lnTo>
                          <a:pt x="1602" y="756"/>
                        </a:lnTo>
                        <a:lnTo>
                          <a:pt x="1590" y="798"/>
                        </a:lnTo>
                        <a:lnTo>
                          <a:pt x="1603" y="874"/>
                        </a:lnTo>
                        <a:lnTo>
                          <a:pt x="1615" y="949"/>
                        </a:lnTo>
                        <a:lnTo>
                          <a:pt x="1628" y="1025"/>
                        </a:lnTo>
                        <a:lnTo>
                          <a:pt x="1644" y="1102"/>
                        </a:lnTo>
                        <a:lnTo>
                          <a:pt x="1660" y="1178"/>
                        </a:lnTo>
                        <a:lnTo>
                          <a:pt x="1679" y="1253"/>
                        </a:lnTo>
                        <a:lnTo>
                          <a:pt x="1703" y="1329"/>
                        </a:lnTo>
                        <a:lnTo>
                          <a:pt x="1732" y="1404"/>
                        </a:lnTo>
                        <a:lnTo>
                          <a:pt x="1738" y="1453"/>
                        </a:lnTo>
                        <a:lnTo>
                          <a:pt x="1742" y="1487"/>
                        </a:lnTo>
                        <a:lnTo>
                          <a:pt x="1745" y="1520"/>
                        </a:lnTo>
                        <a:lnTo>
                          <a:pt x="1749" y="1568"/>
                        </a:lnTo>
                        <a:lnTo>
                          <a:pt x="1749" y="1620"/>
                        </a:lnTo>
                        <a:lnTo>
                          <a:pt x="1749" y="1689"/>
                        </a:lnTo>
                        <a:lnTo>
                          <a:pt x="1748" y="1772"/>
                        </a:lnTo>
                        <a:lnTo>
                          <a:pt x="1742" y="1860"/>
                        </a:lnTo>
                        <a:lnTo>
                          <a:pt x="1733" y="1947"/>
                        </a:lnTo>
                        <a:lnTo>
                          <a:pt x="1717" y="2025"/>
                        </a:lnTo>
                        <a:lnTo>
                          <a:pt x="1695" y="2085"/>
                        </a:lnTo>
                        <a:lnTo>
                          <a:pt x="1665" y="2123"/>
                        </a:lnTo>
                        <a:lnTo>
                          <a:pt x="1640" y="2123"/>
                        </a:lnTo>
                        <a:lnTo>
                          <a:pt x="1616" y="2122"/>
                        </a:lnTo>
                        <a:lnTo>
                          <a:pt x="1591" y="2122"/>
                        </a:lnTo>
                        <a:lnTo>
                          <a:pt x="1568" y="2122"/>
                        </a:lnTo>
                        <a:lnTo>
                          <a:pt x="1543" y="2121"/>
                        </a:lnTo>
                        <a:lnTo>
                          <a:pt x="1519" y="2121"/>
                        </a:lnTo>
                        <a:lnTo>
                          <a:pt x="1494" y="2121"/>
                        </a:lnTo>
                        <a:lnTo>
                          <a:pt x="1470" y="2121"/>
                        </a:lnTo>
                        <a:lnTo>
                          <a:pt x="1440" y="2118"/>
                        </a:lnTo>
                        <a:lnTo>
                          <a:pt x="1410" y="2114"/>
                        </a:lnTo>
                        <a:lnTo>
                          <a:pt x="1380" y="2110"/>
                        </a:lnTo>
                        <a:lnTo>
                          <a:pt x="1350" y="2106"/>
                        </a:lnTo>
                        <a:lnTo>
                          <a:pt x="1319" y="2102"/>
                        </a:lnTo>
                        <a:lnTo>
                          <a:pt x="1289" y="2098"/>
                        </a:lnTo>
                        <a:lnTo>
                          <a:pt x="1258" y="2094"/>
                        </a:lnTo>
                        <a:lnTo>
                          <a:pt x="1227" y="2090"/>
                        </a:lnTo>
                        <a:lnTo>
                          <a:pt x="1196" y="2086"/>
                        </a:lnTo>
                        <a:lnTo>
                          <a:pt x="1166" y="2084"/>
                        </a:lnTo>
                        <a:lnTo>
                          <a:pt x="1135" y="2080"/>
                        </a:lnTo>
                        <a:lnTo>
                          <a:pt x="1105" y="2077"/>
                        </a:lnTo>
                        <a:lnTo>
                          <a:pt x="1076" y="2075"/>
                        </a:lnTo>
                        <a:lnTo>
                          <a:pt x="1047" y="2073"/>
                        </a:lnTo>
                        <a:lnTo>
                          <a:pt x="1018" y="2072"/>
                        </a:lnTo>
                        <a:lnTo>
                          <a:pt x="990" y="2072"/>
                        </a:lnTo>
                        <a:lnTo>
                          <a:pt x="973" y="2071"/>
                        </a:lnTo>
                        <a:lnTo>
                          <a:pt x="957" y="2068"/>
                        </a:lnTo>
                        <a:lnTo>
                          <a:pt x="940" y="2067"/>
                        </a:lnTo>
                        <a:lnTo>
                          <a:pt x="924" y="2065"/>
                        </a:lnTo>
                        <a:lnTo>
                          <a:pt x="907" y="2063"/>
                        </a:lnTo>
                        <a:lnTo>
                          <a:pt x="891" y="2061"/>
                        </a:lnTo>
                        <a:lnTo>
                          <a:pt x="874" y="2059"/>
                        </a:lnTo>
                        <a:lnTo>
                          <a:pt x="858" y="2057"/>
                        </a:lnTo>
                        <a:lnTo>
                          <a:pt x="842" y="2056"/>
                        </a:lnTo>
                        <a:lnTo>
                          <a:pt x="825" y="2054"/>
                        </a:lnTo>
                        <a:lnTo>
                          <a:pt x="810" y="2052"/>
                        </a:lnTo>
                        <a:lnTo>
                          <a:pt x="793" y="2050"/>
                        </a:lnTo>
                        <a:lnTo>
                          <a:pt x="777" y="2048"/>
                        </a:lnTo>
                        <a:lnTo>
                          <a:pt x="760" y="2047"/>
                        </a:lnTo>
                        <a:lnTo>
                          <a:pt x="744" y="2044"/>
                        </a:lnTo>
                        <a:lnTo>
                          <a:pt x="727" y="2043"/>
                        </a:lnTo>
                        <a:lnTo>
                          <a:pt x="683" y="2048"/>
                        </a:lnTo>
                        <a:lnTo>
                          <a:pt x="640" y="2054"/>
                        </a:lnTo>
                        <a:lnTo>
                          <a:pt x="597" y="2060"/>
                        </a:lnTo>
                        <a:lnTo>
                          <a:pt x="553" y="2067"/>
                        </a:lnTo>
                        <a:lnTo>
                          <a:pt x="511" y="2073"/>
                        </a:lnTo>
                        <a:lnTo>
                          <a:pt x="468" y="2080"/>
                        </a:lnTo>
                        <a:lnTo>
                          <a:pt x="426" y="2086"/>
                        </a:lnTo>
                        <a:lnTo>
                          <a:pt x="384" y="2092"/>
                        </a:lnTo>
                        <a:lnTo>
                          <a:pt x="341" y="2098"/>
                        </a:lnTo>
                        <a:lnTo>
                          <a:pt x="299" y="2105"/>
                        </a:lnTo>
                        <a:lnTo>
                          <a:pt x="256" y="2110"/>
                        </a:lnTo>
                        <a:lnTo>
                          <a:pt x="213" y="2114"/>
                        </a:lnTo>
                        <a:lnTo>
                          <a:pt x="171" y="2118"/>
                        </a:lnTo>
                        <a:lnTo>
                          <a:pt x="129" y="2122"/>
                        </a:lnTo>
                        <a:lnTo>
                          <a:pt x="86" y="2125"/>
                        </a:lnTo>
                        <a:lnTo>
                          <a:pt x="44" y="2126"/>
                        </a:lnTo>
                        <a:close/>
                      </a:path>
                    </a:pathLst>
                  </a:custGeom>
                  <a:solidFill>
                    <a:srgbClr val="edea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3065760" y="4888080"/>
                    <a:ext cx="1299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5" h="449">
                        <a:moveTo>
                          <a:pt x="528" y="449"/>
                        </a:moveTo>
                        <a:lnTo>
                          <a:pt x="520" y="445"/>
                        </a:lnTo>
                        <a:lnTo>
                          <a:pt x="514" y="440"/>
                        </a:lnTo>
                        <a:lnTo>
                          <a:pt x="506" y="436"/>
                        </a:lnTo>
                        <a:lnTo>
                          <a:pt x="499" y="432"/>
                        </a:lnTo>
                        <a:lnTo>
                          <a:pt x="482" y="435"/>
                        </a:lnTo>
                        <a:lnTo>
                          <a:pt x="469" y="437"/>
                        </a:lnTo>
                        <a:lnTo>
                          <a:pt x="459" y="439"/>
                        </a:lnTo>
                        <a:lnTo>
                          <a:pt x="452" y="439"/>
                        </a:lnTo>
                        <a:lnTo>
                          <a:pt x="446" y="437"/>
                        </a:lnTo>
                        <a:lnTo>
                          <a:pt x="440" y="432"/>
                        </a:lnTo>
                        <a:lnTo>
                          <a:pt x="434" y="426"/>
                        </a:lnTo>
                        <a:lnTo>
                          <a:pt x="426" y="414"/>
                        </a:lnTo>
                        <a:lnTo>
                          <a:pt x="406" y="416"/>
                        </a:lnTo>
                        <a:lnTo>
                          <a:pt x="392" y="419"/>
                        </a:lnTo>
                        <a:lnTo>
                          <a:pt x="381" y="422"/>
                        </a:lnTo>
                        <a:lnTo>
                          <a:pt x="373" y="422"/>
                        </a:lnTo>
                        <a:lnTo>
                          <a:pt x="368" y="420"/>
                        </a:lnTo>
                        <a:lnTo>
                          <a:pt x="363" y="415"/>
                        </a:lnTo>
                        <a:lnTo>
                          <a:pt x="359" y="406"/>
                        </a:lnTo>
                        <a:lnTo>
                          <a:pt x="355" y="391"/>
                        </a:lnTo>
                        <a:lnTo>
                          <a:pt x="347" y="393"/>
                        </a:lnTo>
                        <a:lnTo>
                          <a:pt x="340" y="394"/>
                        </a:lnTo>
                        <a:lnTo>
                          <a:pt x="335" y="395"/>
                        </a:lnTo>
                        <a:lnTo>
                          <a:pt x="331" y="395"/>
                        </a:lnTo>
                        <a:lnTo>
                          <a:pt x="326" y="397"/>
                        </a:lnTo>
                        <a:lnTo>
                          <a:pt x="322" y="397"/>
                        </a:lnTo>
                        <a:lnTo>
                          <a:pt x="317" y="397"/>
                        </a:lnTo>
                        <a:lnTo>
                          <a:pt x="310" y="397"/>
                        </a:lnTo>
                        <a:lnTo>
                          <a:pt x="300" y="381"/>
                        </a:lnTo>
                        <a:lnTo>
                          <a:pt x="297" y="364"/>
                        </a:lnTo>
                        <a:lnTo>
                          <a:pt x="300" y="348"/>
                        </a:lnTo>
                        <a:lnTo>
                          <a:pt x="304" y="332"/>
                        </a:lnTo>
                        <a:lnTo>
                          <a:pt x="288" y="337"/>
                        </a:lnTo>
                        <a:lnTo>
                          <a:pt x="271" y="343"/>
                        </a:lnTo>
                        <a:lnTo>
                          <a:pt x="255" y="349"/>
                        </a:lnTo>
                        <a:lnTo>
                          <a:pt x="239" y="356"/>
                        </a:lnTo>
                        <a:lnTo>
                          <a:pt x="223" y="362"/>
                        </a:lnTo>
                        <a:lnTo>
                          <a:pt x="208" y="369"/>
                        </a:lnTo>
                        <a:lnTo>
                          <a:pt x="192" y="376"/>
                        </a:lnTo>
                        <a:lnTo>
                          <a:pt x="176" y="383"/>
                        </a:lnTo>
                        <a:lnTo>
                          <a:pt x="160" y="390"/>
                        </a:lnTo>
                        <a:lnTo>
                          <a:pt x="146" y="398"/>
                        </a:lnTo>
                        <a:lnTo>
                          <a:pt x="130" y="406"/>
                        </a:lnTo>
                        <a:lnTo>
                          <a:pt x="116" y="414"/>
                        </a:lnTo>
                        <a:lnTo>
                          <a:pt x="100" y="420"/>
                        </a:lnTo>
                        <a:lnTo>
                          <a:pt x="86" y="428"/>
                        </a:lnTo>
                        <a:lnTo>
                          <a:pt x="70" y="436"/>
                        </a:lnTo>
                        <a:lnTo>
                          <a:pt x="55" y="444"/>
                        </a:lnTo>
                        <a:lnTo>
                          <a:pt x="50" y="444"/>
                        </a:lnTo>
                        <a:lnTo>
                          <a:pt x="46" y="443"/>
                        </a:lnTo>
                        <a:lnTo>
                          <a:pt x="40" y="440"/>
                        </a:lnTo>
                        <a:lnTo>
                          <a:pt x="29" y="433"/>
                        </a:lnTo>
                        <a:lnTo>
                          <a:pt x="32" y="415"/>
                        </a:lnTo>
                        <a:lnTo>
                          <a:pt x="40" y="394"/>
                        </a:lnTo>
                        <a:lnTo>
                          <a:pt x="51" y="373"/>
                        </a:lnTo>
                        <a:lnTo>
                          <a:pt x="65" y="351"/>
                        </a:lnTo>
                        <a:lnTo>
                          <a:pt x="80" y="330"/>
                        </a:lnTo>
                        <a:lnTo>
                          <a:pt x="96" y="309"/>
                        </a:lnTo>
                        <a:lnTo>
                          <a:pt x="110" y="289"/>
                        </a:lnTo>
                        <a:lnTo>
                          <a:pt x="124" y="273"/>
                        </a:lnTo>
                        <a:lnTo>
                          <a:pt x="105" y="273"/>
                        </a:lnTo>
                        <a:lnTo>
                          <a:pt x="91" y="274"/>
                        </a:lnTo>
                        <a:lnTo>
                          <a:pt x="79" y="274"/>
                        </a:lnTo>
                        <a:lnTo>
                          <a:pt x="70" y="274"/>
                        </a:lnTo>
                        <a:lnTo>
                          <a:pt x="59" y="276"/>
                        </a:lnTo>
                        <a:lnTo>
                          <a:pt x="49" y="277"/>
                        </a:lnTo>
                        <a:lnTo>
                          <a:pt x="36" y="278"/>
                        </a:lnTo>
                        <a:lnTo>
                          <a:pt x="19" y="281"/>
                        </a:lnTo>
                        <a:lnTo>
                          <a:pt x="8" y="272"/>
                        </a:lnTo>
                        <a:lnTo>
                          <a:pt x="3" y="265"/>
                        </a:lnTo>
                        <a:lnTo>
                          <a:pt x="1" y="260"/>
                        </a:lnTo>
                        <a:lnTo>
                          <a:pt x="0" y="253"/>
                        </a:lnTo>
                        <a:lnTo>
                          <a:pt x="19" y="241"/>
                        </a:lnTo>
                        <a:lnTo>
                          <a:pt x="36" y="230"/>
                        </a:lnTo>
                        <a:lnTo>
                          <a:pt x="51" y="219"/>
                        </a:lnTo>
                        <a:lnTo>
                          <a:pt x="68" y="209"/>
                        </a:lnTo>
                        <a:lnTo>
                          <a:pt x="84" y="199"/>
                        </a:lnTo>
                        <a:lnTo>
                          <a:pt x="100" y="190"/>
                        </a:lnTo>
                        <a:lnTo>
                          <a:pt x="116" y="182"/>
                        </a:lnTo>
                        <a:lnTo>
                          <a:pt x="132" y="174"/>
                        </a:lnTo>
                        <a:lnTo>
                          <a:pt x="147" y="168"/>
                        </a:lnTo>
                        <a:lnTo>
                          <a:pt x="163" y="161"/>
                        </a:lnTo>
                        <a:lnTo>
                          <a:pt x="180" y="156"/>
                        </a:lnTo>
                        <a:lnTo>
                          <a:pt x="199" y="149"/>
                        </a:lnTo>
                        <a:lnTo>
                          <a:pt x="217" y="144"/>
                        </a:lnTo>
                        <a:lnTo>
                          <a:pt x="238" y="140"/>
                        </a:lnTo>
                        <a:lnTo>
                          <a:pt x="259" y="135"/>
                        </a:lnTo>
                        <a:lnTo>
                          <a:pt x="281" y="131"/>
                        </a:lnTo>
                        <a:lnTo>
                          <a:pt x="287" y="126"/>
                        </a:lnTo>
                        <a:lnTo>
                          <a:pt x="293" y="122"/>
                        </a:lnTo>
                        <a:lnTo>
                          <a:pt x="300" y="118"/>
                        </a:lnTo>
                        <a:lnTo>
                          <a:pt x="305" y="115"/>
                        </a:lnTo>
                        <a:lnTo>
                          <a:pt x="312" y="111"/>
                        </a:lnTo>
                        <a:lnTo>
                          <a:pt x="319" y="109"/>
                        </a:lnTo>
                        <a:lnTo>
                          <a:pt x="327" y="106"/>
                        </a:lnTo>
                        <a:lnTo>
                          <a:pt x="335" y="102"/>
                        </a:lnTo>
                        <a:lnTo>
                          <a:pt x="338" y="82"/>
                        </a:lnTo>
                        <a:lnTo>
                          <a:pt x="340" y="69"/>
                        </a:lnTo>
                        <a:lnTo>
                          <a:pt x="344" y="61"/>
                        </a:lnTo>
                        <a:lnTo>
                          <a:pt x="351" y="56"/>
                        </a:lnTo>
                        <a:lnTo>
                          <a:pt x="360" y="55"/>
                        </a:lnTo>
                        <a:lnTo>
                          <a:pt x="372" y="53"/>
                        </a:lnTo>
                        <a:lnTo>
                          <a:pt x="389" y="52"/>
                        </a:lnTo>
                        <a:lnTo>
                          <a:pt x="410" y="47"/>
                        </a:lnTo>
                        <a:lnTo>
                          <a:pt x="414" y="35"/>
                        </a:lnTo>
                        <a:lnTo>
                          <a:pt x="418" y="26"/>
                        </a:lnTo>
                        <a:lnTo>
                          <a:pt x="423" y="19"/>
                        </a:lnTo>
                        <a:lnTo>
                          <a:pt x="431" y="11"/>
                        </a:lnTo>
                        <a:lnTo>
                          <a:pt x="439" y="17"/>
                        </a:lnTo>
                        <a:lnTo>
                          <a:pt x="447" y="23"/>
                        </a:lnTo>
                        <a:lnTo>
                          <a:pt x="455" y="28"/>
                        </a:lnTo>
                        <a:lnTo>
                          <a:pt x="464" y="35"/>
                        </a:lnTo>
                        <a:lnTo>
                          <a:pt x="470" y="31"/>
                        </a:lnTo>
                        <a:lnTo>
                          <a:pt x="477" y="25"/>
                        </a:lnTo>
                        <a:lnTo>
                          <a:pt x="484" y="19"/>
                        </a:lnTo>
                        <a:lnTo>
                          <a:pt x="490" y="13"/>
                        </a:lnTo>
                        <a:lnTo>
                          <a:pt x="498" y="7"/>
                        </a:lnTo>
                        <a:lnTo>
                          <a:pt x="505" y="3"/>
                        </a:lnTo>
                        <a:lnTo>
                          <a:pt x="513" y="1"/>
                        </a:lnTo>
                        <a:lnTo>
                          <a:pt x="520" y="0"/>
                        </a:lnTo>
                        <a:lnTo>
                          <a:pt x="527" y="10"/>
                        </a:lnTo>
                        <a:lnTo>
                          <a:pt x="535" y="21"/>
                        </a:lnTo>
                        <a:lnTo>
                          <a:pt x="543" y="32"/>
                        </a:lnTo>
                        <a:lnTo>
                          <a:pt x="549" y="43"/>
                        </a:lnTo>
                        <a:lnTo>
                          <a:pt x="557" y="39"/>
                        </a:lnTo>
                        <a:lnTo>
                          <a:pt x="564" y="35"/>
                        </a:lnTo>
                        <a:lnTo>
                          <a:pt x="572" y="32"/>
                        </a:lnTo>
                        <a:lnTo>
                          <a:pt x="585" y="30"/>
                        </a:lnTo>
                        <a:lnTo>
                          <a:pt x="589" y="40"/>
                        </a:lnTo>
                        <a:lnTo>
                          <a:pt x="591" y="52"/>
                        </a:lnTo>
                        <a:lnTo>
                          <a:pt x="597" y="65"/>
                        </a:lnTo>
                        <a:lnTo>
                          <a:pt x="607" y="78"/>
                        </a:lnTo>
                        <a:lnTo>
                          <a:pt x="615" y="76"/>
                        </a:lnTo>
                        <a:lnTo>
                          <a:pt x="622" y="73"/>
                        </a:lnTo>
                        <a:lnTo>
                          <a:pt x="629" y="72"/>
                        </a:lnTo>
                        <a:lnTo>
                          <a:pt x="644" y="71"/>
                        </a:lnTo>
                        <a:lnTo>
                          <a:pt x="648" y="78"/>
                        </a:lnTo>
                        <a:lnTo>
                          <a:pt x="650" y="90"/>
                        </a:lnTo>
                        <a:lnTo>
                          <a:pt x="653" y="105"/>
                        </a:lnTo>
                        <a:lnTo>
                          <a:pt x="654" y="119"/>
                        </a:lnTo>
                        <a:lnTo>
                          <a:pt x="665" y="123"/>
                        </a:lnTo>
                        <a:lnTo>
                          <a:pt x="678" y="128"/>
                        </a:lnTo>
                        <a:lnTo>
                          <a:pt x="694" y="134"/>
                        </a:lnTo>
                        <a:lnTo>
                          <a:pt x="712" y="139"/>
                        </a:lnTo>
                        <a:lnTo>
                          <a:pt x="731" y="145"/>
                        </a:lnTo>
                        <a:lnTo>
                          <a:pt x="750" y="153"/>
                        </a:lnTo>
                        <a:lnTo>
                          <a:pt x="771" y="161"/>
                        </a:lnTo>
                        <a:lnTo>
                          <a:pt x="791" y="170"/>
                        </a:lnTo>
                        <a:lnTo>
                          <a:pt x="811" y="180"/>
                        </a:lnTo>
                        <a:lnTo>
                          <a:pt x="828" y="189"/>
                        </a:lnTo>
                        <a:lnTo>
                          <a:pt x="844" y="199"/>
                        </a:lnTo>
                        <a:lnTo>
                          <a:pt x="857" y="211"/>
                        </a:lnTo>
                        <a:lnTo>
                          <a:pt x="866" y="223"/>
                        </a:lnTo>
                        <a:lnTo>
                          <a:pt x="873" y="235"/>
                        </a:lnTo>
                        <a:lnTo>
                          <a:pt x="875" y="248"/>
                        </a:lnTo>
                        <a:lnTo>
                          <a:pt x="873" y="261"/>
                        </a:lnTo>
                        <a:lnTo>
                          <a:pt x="865" y="262"/>
                        </a:lnTo>
                        <a:lnTo>
                          <a:pt x="855" y="264"/>
                        </a:lnTo>
                        <a:lnTo>
                          <a:pt x="848" y="265"/>
                        </a:lnTo>
                        <a:lnTo>
                          <a:pt x="838" y="268"/>
                        </a:lnTo>
                        <a:lnTo>
                          <a:pt x="829" y="269"/>
                        </a:lnTo>
                        <a:lnTo>
                          <a:pt x="820" y="270"/>
                        </a:lnTo>
                        <a:lnTo>
                          <a:pt x="812" y="273"/>
                        </a:lnTo>
                        <a:lnTo>
                          <a:pt x="803" y="274"/>
                        </a:lnTo>
                        <a:lnTo>
                          <a:pt x="815" y="309"/>
                        </a:lnTo>
                        <a:lnTo>
                          <a:pt x="823" y="341"/>
                        </a:lnTo>
                        <a:lnTo>
                          <a:pt x="828" y="377"/>
                        </a:lnTo>
                        <a:lnTo>
                          <a:pt x="830" y="419"/>
                        </a:lnTo>
                        <a:lnTo>
                          <a:pt x="816" y="426"/>
                        </a:lnTo>
                        <a:lnTo>
                          <a:pt x="798" y="423"/>
                        </a:lnTo>
                        <a:lnTo>
                          <a:pt x="777" y="415"/>
                        </a:lnTo>
                        <a:lnTo>
                          <a:pt x="754" y="403"/>
                        </a:lnTo>
                        <a:lnTo>
                          <a:pt x="731" y="389"/>
                        </a:lnTo>
                        <a:lnTo>
                          <a:pt x="707" y="377"/>
                        </a:lnTo>
                        <a:lnTo>
                          <a:pt x="687" y="368"/>
                        </a:lnTo>
                        <a:lnTo>
                          <a:pt x="670" y="364"/>
                        </a:lnTo>
                        <a:lnTo>
                          <a:pt x="665" y="368"/>
                        </a:lnTo>
                        <a:lnTo>
                          <a:pt x="660" y="372"/>
                        </a:lnTo>
                        <a:lnTo>
                          <a:pt x="654" y="373"/>
                        </a:lnTo>
                        <a:lnTo>
                          <a:pt x="649" y="374"/>
                        </a:lnTo>
                        <a:lnTo>
                          <a:pt x="643" y="376"/>
                        </a:lnTo>
                        <a:lnTo>
                          <a:pt x="637" y="377"/>
                        </a:lnTo>
                        <a:lnTo>
                          <a:pt x="632" y="377"/>
                        </a:lnTo>
                        <a:lnTo>
                          <a:pt x="627" y="378"/>
                        </a:lnTo>
                        <a:lnTo>
                          <a:pt x="622" y="395"/>
                        </a:lnTo>
                        <a:lnTo>
                          <a:pt x="618" y="406"/>
                        </a:lnTo>
                        <a:lnTo>
                          <a:pt x="612" y="414"/>
                        </a:lnTo>
                        <a:lnTo>
                          <a:pt x="607" y="418"/>
                        </a:lnTo>
                        <a:lnTo>
                          <a:pt x="599" y="420"/>
                        </a:lnTo>
                        <a:lnTo>
                          <a:pt x="590" y="420"/>
                        </a:lnTo>
                        <a:lnTo>
                          <a:pt x="577" y="422"/>
                        </a:lnTo>
                        <a:lnTo>
                          <a:pt x="561" y="422"/>
                        </a:lnTo>
                        <a:lnTo>
                          <a:pt x="556" y="428"/>
                        </a:lnTo>
                        <a:lnTo>
                          <a:pt x="549" y="435"/>
                        </a:lnTo>
                        <a:lnTo>
                          <a:pt x="544" y="443"/>
                        </a:lnTo>
                        <a:lnTo>
                          <a:pt x="537" y="449"/>
                        </a:lnTo>
                        <a:lnTo>
                          <a:pt x="535" y="449"/>
                        </a:lnTo>
                        <a:lnTo>
                          <a:pt x="532" y="449"/>
                        </a:lnTo>
                        <a:lnTo>
                          <a:pt x="531" y="449"/>
                        </a:lnTo>
                        <a:lnTo>
                          <a:pt x="528" y="4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2983680" y="4910400"/>
                    <a:ext cx="74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503" h="49">
                        <a:moveTo>
                          <a:pt x="8" y="49"/>
                        </a:moveTo>
                        <a:lnTo>
                          <a:pt x="7" y="47"/>
                        </a:lnTo>
                        <a:lnTo>
                          <a:pt x="4" y="46"/>
                        </a:lnTo>
                        <a:lnTo>
                          <a:pt x="3" y="45"/>
                        </a:lnTo>
                        <a:lnTo>
                          <a:pt x="0" y="43"/>
                        </a:lnTo>
                        <a:lnTo>
                          <a:pt x="0" y="41"/>
                        </a:lnTo>
                        <a:lnTo>
                          <a:pt x="0" y="38"/>
                        </a:lnTo>
                        <a:lnTo>
                          <a:pt x="0" y="36"/>
                        </a:lnTo>
                        <a:lnTo>
                          <a:pt x="1" y="33"/>
                        </a:lnTo>
                        <a:lnTo>
                          <a:pt x="30" y="26"/>
                        </a:lnTo>
                        <a:lnTo>
                          <a:pt x="60" y="20"/>
                        </a:lnTo>
                        <a:lnTo>
                          <a:pt x="91" y="15"/>
                        </a:lnTo>
                        <a:lnTo>
                          <a:pt x="122" y="11"/>
                        </a:lnTo>
                        <a:lnTo>
                          <a:pt x="154" y="7"/>
                        </a:lnTo>
                        <a:lnTo>
                          <a:pt x="185" y="4"/>
                        </a:lnTo>
                        <a:lnTo>
                          <a:pt x="217" y="3"/>
                        </a:lnTo>
                        <a:lnTo>
                          <a:pt x="250" y="1"/>
                        </a:lnTo>
                        <a:lnTo>
                          <a:pt x="281" y="0"/>
                        </a:lnTo>
                        <a:lnTo>
                          <a:pt x="314" y="0"/>
                        </a:lnTo>
                        <a:lnTo>
                          <a:pt x="346" y="0"/>
                        </a:lnTo>
                        <a:lnTo>
                          <a:pt x="377" y="0"/>
                        </a:lnTo>
                        <a:lnTo>
                          <a:pt x="410" y="0"/>
                        </a:lnTo>
                        <a:lnTo>
                          <a:pt x="440" y="1"/>
                        </a:lnTo>
                        <a:lnTo>
                          <a:pt x="472" y="1"/>
                        </a:lnTo>
                        <a:lnTo>
                          <a:pt x="502" y="3"/>
                        </a:lnTo>
                        <a:lnTo>
                          <a:pt x="503" y="8"/>
                        </a:lnTo>
                        <a:lnTo>
                          <a:pt x="502" y="12"/>
                        </a:lnTo>
                        <a:lnTo>
                          <a:pt x="501" y="15"/>
                        </a:lnTo>
                        <a:lnTo>
                          <a:pt x="498" y="17"/>
                        </a:lnTo>
                        <a:lnTo>
                          <a:pt x="466" y="18"/>
                        </a:lnTo>
                        <a:lnTo>
                          <a:pt x="435" y="20"/>
                        </a:lnTo>
                        <a:lnTo>
                          <a:pt x="405" y="21"/>
                        </a:lnTo>
                        <a:lnTo>
                          <a:pt x="373" y="22"/>
                        </a:lnTo>
                        <a:lnTo>
                          <a:pt x="343" y="24"/>
                        </a:lnTo>
                        <a:lnTo>
                          <a:pt x="311" y="25"/>
                        </a:lnTo>
                        <a:lnTo>
                          <a:pt x="281" y="26"/>
                        </a:lnTo>
                        <a:lnTo>
                          <a:pt x="251" y="29"/>
                        </a:lnTo>
                        <a:lnTo>
                          <a:pt x="219" y="30"/>
                        </a:lnTo>
                        <a:lnTo>
                          <a:pt x="189" y="32"/>
                        </a:lnTo>
                        <a:lnTo>
                          <a:pt x="159" y="34"/>
                        </a:lnTo>
                        <a:lnTo>
                          <a:pt x="129" y="37"/>
                        </a:lnTo>
                        <a:lnTo>
                          <a:pt x="99" y="39"/>
                        </a:lnTo>
                        <a:lnTo>
                          <a:pt x="68" y="42"/>
                        </a:lnTo>
                        <a:lnTo>
                          <a:pt x="38" y="45"/>
                        </a:lnTo>
                        <a:lnTo>
                          <a:pt x="8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3108960" y="4892400"/>
                    <a:ext cx="6084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11" h="398">
                        <a:moveTo>
                          <a:pt x="234" y="398"/>
                        </a:moveTo>
                        <a:lnTo>
                          <a:pt x="221" y="386"/>
                        </a:lnTo>
                        <a:lnTo>
                          <a:pt x="210" y="381"/>
                        </a:lnTo>
                        <a:lnTo>
                          <a:pt x="203" y="380"/>
                        </a:lnTo>
                        <a:lnTo>
                          <a:pt x="197" y="381"/>
                        </a:lnTo>
                        <a:lnTo>
                          <a:pt x="191" y="385"/>
                        </a:lnTo>
                        <a:lnTo>
                          <a:pt x="183" y="389"/>
                        </a:lnTo>
                        <a:lnTo>
                          <a:pt x="175" y="393"/>
                        </a:lnTo>
                        <a:lnTo>
                          <a:pt x="163" y="396"/>
                        </a:lnTo>
                        <a:lnTo>
                          <a:pt x="151" y="378"/>
                        </a:lnTo>
                        <a:lnTo>
                          <a:pt x="142" y="368"/>
                        </a:lnTo>
                        <a:lnTo>
                          <a:pt x="136" y="361"/>
                        </a:lnTo>
                        <a:lnTo>
                          <a:pt x="130" y="360"/>
                        </a:lnTo>
                        <a:lnTo>
                          <a:pt x="124" y="363"/>
                        </a:lnTo>
                        <a:lnTo>
                          <a:pt x="114" y="367"/>
                        </a:lnTo>
                        <a:lnTo>
                          <a:pt x="103" y="372"/>
                        </a:lnTo>
                        <a:lnTo>
                          <a:pt x="86" y="377"/>
                        </a:lnTo>
                        <a:lnTo>
                          <a:pt x="83" y="356"/>
                        </a:lnTo>
                        <a:lnTo>
                          <a:pt x="79" y="343"/>
                        </a:lnTo>
                        <a:lnTo>
                          <a:pt x="74" y="336"/>
                        </a:lnTo>
                        <a:lnTo>
                          <a:pt x="68" y="336"/>
                        </a:lnTo>
                        <a:lnTo>
                          <a:pt x="61" y="339"/>
                        </a:lnTo>
                        <a:lnTo>
                          <a:pt x="51" y="343"/>
                        </a:lnTo>
                        <a:lnTo>
                          <a:pt x="41" y="348"/>
                        </a:lnTo>
                        <a:lnTo>
                          <a:pt x="28" y="351"/>
                        </a:lnTo>
                        <a:lnTo>
                          <a:pt x="30" y="335"/>
                        </a:lnTo>
                        <a:lnTo>
                          <a:pt x="33" y="319"/>
                        </a:lnTo>
                        <a:lnTo>
                          <a:pt x="37" y="303"/>
                        </a:lnTo>
                        <a:lnTo>
                          <a:pt x="40" y="288"/>
                        </a:lnTo>
                        <a:lnTo>
                          <a:pt x="34" y="284"/>
                        </a:lnTo>
                        <a:lnTo>
                          <a:pt x="30" y="282"/>
                        </a:lnTo>
                        <a:lnTo>
                          <a:pt x="24" y="281"/>
                        </a:lnTo>
                        <a:lnTo>
                          <a:pt x="19" y="281"/>
                        </a:lnTo>
                        <a:lnTo>
                          <a:pt x="13" y="281"/>
                        </a:lnTo>
                        <a:lnTo>
                          <a:pt x="8" y="281"/>
                        </a:lnTo>
                        <a:lnTo>
                          <a:pt x="4" y="282"/>
                        </a:lnTo>
                        <a:lnTo>
                          <a:pt x="0" y="282"/>
                        </a:lnTo>
                        <a:lnTo>
                          <a:pt x="4" y="268"/>
                        </a:lnTo>
                        <a:lnTo>
                          <a:pt x="11" y="255"/>
                        </a:lnTo>
                        <a:lnTo>
                          <a:pt x="17" y="242"/>
                        </a:lnTo>
                        <a:lnTo>
                          <a:pt x="24" y="231"/>
                        </a:lnTo>
                        <a:lnTo>
                          <a:pt x="26" y="221"/>
                        </a:lnTo>
                        <a:lnTo>
                          <a:pt x="24" y="211"/>
                        </a:lnTo>
                        <a:lnTo>
                          <a:pt x="16" y="204"/>
                        </a:lnTo>
                        <a:lnTo>
                          <a:pt x="0" y="196"/>
                        </a:lnTo>
                        <a:lnTo>
                          <a:pt x="4" y="181"/>
                        </a:lnTo>
                        <a:lnTo>
                          <a:pt x="12" y="171"/>
                        </a:lnTo>
                        <a:lnTo>
                          <a:pt x="21" y="163"/>
                        </a:lnTo>
                        <a:lnTo>
                          <a:pt x="30" y="152"/>
                        </a:lnTo>
                        <a:lnTo>
                          <a:pt x="26" y="131"/>
                        </a:lnTo>
                        <a:lnTo>
                          <a:pt x="24" y="119"/>
                        </a:lnTo>
                        <a:lnTo>
                          <a:pt x="23" y="112"/>
                        </a:lnTo>
                        <a:lnTo>
                          <a:pt x="23" y="102"/>
                        </a:lnTo>
                        <a:lnTo>
                          <a:pt x="33" y="93"/>
                        </a:lnTo>
                        <a:lnTo>
                          <a:pt x="42" y="89"/>
                        </a:lnTo>
                        <a:lnTo>
                          <a:pt x="50" y="87"/>
                        </a:lnTo>
                        <a:lnTo>
                          <a:pt x="57" y="85"/>
                        </a:lnTo>
                        <a:lnTo>
                          <a:pt x="62" y="83"/>
                        </a:lnTo>
                        <a:lnTo>
                          <a:pt x="66" y="76"/>
                        </a:lnTo>
                        <a:lnTo>
                          <a:pt x="68" y="64"/>
                        </a:lnTo>
                        <a:lnTo>
                          <a:pt x="71" y="46"/>
                        </a:lnTo>
                        <a:lnTo>
                          <a:pt x="75" y="44"/>
                        </a:lnTo>
                        <a:lnTo>
                          <a:pt x="79" y="43"/>
                        </a:lnTo>
                        <a:lnTo>
                          <a:pt x="83" y="42"/>
                        </a:lnTo>
                        <a:lnTo>
                          <a:pt x="88" y="41"/>
                        </a:lnTo>
                        <a:lnTo>
                          <a:pt x="95" y="41"/>
                        </a:lnTo>
                        <a:lnTo>
                          <a:pt x="104" y="39"/>
                        </a:lnTo>
                        <a:lnTo>
                          <a:pt x="117" y="39"/>
                        </a:lnTo>
                        <a:lnTo>
                          <a:pt x="134" y="38"/>
                        </a:lnTo>
                        <a:lnTo>
                          <a:pt x="137" y="31"/>
                        </a:lnTo>
                        <a:lnTo>
                          <a:pt x="138" y="23"/>
                        </a:lnTo>
                        <a:lnTo>
                          <a:pt x="141" y="17"/>
                        </a:lnTo>
                        <a:lnTo>
                          <a:pt x="143" y="10"/>
                        </a:lnTo>
                        <a:lnTo>
                          <a:pt x="153" y="12"/>
                        </a:lnTo>
                        <a:lnTo>
                          <a:pt x="162" y="13"/>
                        </a:lnTo>
                        <a:lnTo>
                          <a:pt x="170" y="16"/>
                        </a:lnTo>
                        <a:lnTo>
                          <a:pt x="178" y="17"/>
                        </a:lnTo>
                        <a:lnTo>
                          <a:pt x="187" y="17"/>
                        </a:lnTo>
                        <a:lnTo>
                          <a:pt x="196" y="14"/>
                        </a:lnTo>
                        <a:lnTo>
                          <a:pt x="206" y="9"/>
                        </a:lnTo>
                        <a:lnTo>
                          <a:pt x="218" y="0"/>
                        </a:lnTo>
                        <a:lnTo>
                          <a:pt x="221" y="0"/>
                        </a:lnTo>
                        <a:lnTo>
                          <a:pt x="225" y="0"/>
                        </a:lnTo>
                        <a:lnTo>
                          <a:pt x="227" y="0"/>
                        </a:lnTo>
                        <a:lnTo>
                          <a:pt x="231" y="0"/>
                        </a:lnTo>
                        <a:lnTo>
                          <a:pt x="238" y="13"/>
                        </a:lnTo>
                        <a:lnTo>
                          <a:pt x="245" y="22"/>
                        </a:lnTo>
                        <a:lnTo>
                          <a:pt x="250" y="26"/>
                        </a:lnTo>
                        <a:lnTo>
                          <a:pt x="255" y="27"/>
                        </a:lnTo>
                        <a:lnTo>
                          <a:pt x="262" y="27"/>
                        </a:lnTo>
                        <a:lnTo>
                          <a:pt x="268" y="26"/>
                        </a:lnTo>
                        <a:lnTo>
                          <a:pt x="276" y="26"/>
                        </a:lnTo>
                        <a:lnTo>
                          <a:pt x="287" y="27"/>
                        </a:lnTo>
                        <a:lnTo>
                          <a:pt x="291" y="38"/>
                        </a:lnTo>
                        <a:lnTo>
                          <a:pt x="293" y="46"/>
                        </a:lnTo>
                        <a:lnTo>
                          <a:pt x="297" y="52"/>
                        </a:lnTo>
                        <a:lnTo>
                          <a:pt x="302" y="58"/>
                        </a:lnTo>
                        <a:lnTo>
                          <a:pt x="309" y="62"/>
                        </a:lnTo>
                        <a:lnTo>
                          <a:pt x="317" y="64"/>
                        </a:lnTo>
                        <a:lnTo>
                          <a:pt x="329" y="67"/>
                        </a:lnTo>
                        <a:lnTo>
                          <a:pt x="343" y="67"/>
                        </a:lnTo>
                        <a:lnTo>
                          <a:pt x="344" y="77"/>
                        </a:lnTo>
                        <a:lnTo>
                          <a:pt x="346" y="89"/>
                        </a:lnTo>
                        <a:lnTo>
                          <a:pt x="348" y="100"/>
                        </a:lnTo>
                        <a:lnTo>
                          <a:pt x="350" y="112"/>
                        </a:lnTo>
                        <a:lnTo>
                          <a:pt x="355" y="113"/>
                        </a:lnTo>
                        <a:lnTo>
                          <a:pt x="359" y="114"/>
                        </a:lnTo>
                        <a:lnTo>
                          <a:pt x="367" y="114"/>
                        </a:lnTo>
                        <a:lnTo>
                          <a:pt x="379" y="114"/>
                        </a:lnTo>
                        <a:lnTo>
                          <a:pt x="380" y="123"/>
                        </a:lnTo>
                        <a:lnTo>
                          <a:pt x="379" y="131"/>
                        </a:lnTo>
                        <a:lnTo>
                          <a:pt x="377" y="143"/>
                        </a:lnTo>
                        <a:lnTo>
                          <a:pt x="373" y="164"/>
                        </a:lnTo>
                        <a:lnTo>
                          <a:pt x="394" y="173"/>
                        </a:lnTo>
                        <a:lnTo>
                          <a:pt x="405" y="179"/>
                        </a:lnTo>
                        <a:lnTo>
                          <a:pt x="409" y="181"/>
                        </a:lnTo>
                        <a:lnTo>
                          <a:pt x="411" y="185"/>
                        </a:lnTo>
                        <a:lnTo>
                          <a:pt x="398" y="198"/>
                        </a:lnTo>
                        <a:lnTo>
                          <a:pt x="390" y="208"/>
                        </a:lnTo>
                        <a:lnTo>
                          <a:pt x="390" y="218"/>
                        </a:lnTo>
                        <a:lnTo>
                          <a:pt x="404" y="238"/>
                        </a:lnTo>
                        <a:lnTo>
                          <a:pt x="404" y="243"/>
                        </a:lnTo>
                        <a:lnTo>
                          <a:pt x="404" y="248"/>
                        </a:lnTo>
                        <a:lnTo>
                          <a:pt x="404" y="254"/>
                        </a:lnTo>
                        <a:lnTo>
                          <a:pt x="404" y="259"/>
                        </a:lnTo>
                        <a:lnTo>
                          <a:pt x="397" y="264"/>
                        </a:lnTo>
                        <a:lnTo>
                          <a:pt x="390" y="268"/>
                        </a:lnTo>
                        <a:lnTo>
                          <a:pt x="385" y="271"/>
                        </a:lnTo>
                        <a:lnTo>
                          <a:pt x="380" y="273"/>
                        </a:lnTo>
                        <a:lnTo>
                          <a:pt x="373" y="275"/>
                        </a:lnTo>
                        <a:lnTo>
                          <a:pt x="368" y="276"/>
                        </a:lnTo>
                        <a:lnTo>
                          <a:pt x="361" y="279"/>
                        </a:lnTo>
                        <a:lnTo>
                          <a:pt x="355" y="280"/>
                        </a:lnTo>
                        <a:lnTo>
                          <a:pt x="356" y="290"/>
                        </a:lnTo>
                        <a:lnTo>
                          <a:pt x="358" y="300"/>
                        </a:lnTo>
                        <a:lnTo>
                          <a:pt x="360" y="310"/>
                        </a:lnTo>
                        <a:lnTo>
                          <a:pt x="361" y="321"/>
                        </a:lnTo>
                        <a:lnTo>
                          <a:pt x="355" y="322"/>
                        </a:lnTo>
                        <a:lnTo>
                          <a:pt x="350" y="323"/>
                        </a:lnTo>
                        <a:lnTo>
                          <a:pt x="343" y="326"/>
                        </a:lnTo>
                        <a:lnTo>
                          <a:pt x="338" y="327"/>
                        </a:lnTo>
                        <a:lnTo>
                          <a:pt x="331" y="330"/>
                        </a:lnTo>
                        <a:lnTo>
                          <a:pt x="326" y="331"/>
                        </a:lnTo>
                        <a:lnTo>
                          <a:pt x="319" y="334"/>
                        </a:lnTo>
                        <a:lnTo>
                          <a:pt x="313" y="335"/>
                        </a:lnTo>
                        <a:lnTo>
                          <a:pt x="313" y="344"/>
                        </a:lnTo>
                        <a:lnTo>
                          <a:pt x="313" y="352"/>
                        </a:lnTo>
                        <a:lnTo>
                          <a:pt x="312" y="361"/>
                        </a:lnTo>
                        <a:lnTo>
                          <a:pt x="312" y="371"/>
                        </a:lnTo>
                        <a:lnTo>
                          <a:pt x="298" y="371"/>
                        </a:lnTo>
                        <a:lnTo>
                          <a:pt x="288" y="369"/>
                        </a:lnTo>
                        <a:lnTo>
                          <a:pt x="279" y="368"/>
                        </a:lnTo>
                        <a:lnTo>
                          <a:pt x="272" y="368"/>
                        </a:lnTo>
                        <a:lnTo>
                          <a:pt x="267" y="368"/>
                        </a:lnTo>
                        <a:lnTo>
                          <a:pt x="262" y="372"/>
                        </a:lnTo>
                        <a:lnTo>
                          <a:pt x="256" y="378"/>
                        </a:lnTo>
                        <a:lnTo>
                          <a:pt x="250" y="389"/>
                        </a:lnTo>
                        <a:lnTo>
                          <a:pt x="242" y="396"/>
                        </a:lnTo>
                        <a:lnTo>
                          <a:pt x="238" y="398"/>
                        </a:lnTo>
                        <a:lnTo>
                          <a:pt x="235" y="398"/>
                        </a:lnTo>
                        <a:lnTo>
                          <a:pt x="234" y="398"/>
                        </a:lnTo>
                        <a:close/>
                      </a:path>
                    </a:pathLst>
                  </a:cu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3073320" y="4910400"/>
                    <a:ext cx="363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6" h="249">
                        <a:moveTo>
                          <a:pt x="18" y="249"/>
                        </a:moveTo>
                        <a:lnTo>
                          <a:pt x="24" y="230"/>
                        </a:lnTo>
                        <a:lnTo>
                          <a:pt x="32" y="212"/>
                        </a:lnTo>
                        <a:lnTo>
                          <a:pt x="43" y="192"/>
                        </a:lnTo>
                        <a:lnTo>
                          <a:pt x="57" y="174"/>
                        </a:lnTo>
                        <a:lnTo>
                          <a:pt x="71" y="157"/>
                        </a:lnTo>
                        <a:lnTo>
                          <a:pt x="85" y="141"/>
                        </a:lnTo>
                        <a:lnTo>
                          <a:pt x="100" y="126"/>
                        </a:lnTo>
                        <a:lnTo>
                          <a:pt x="114" y="113"/>
                        </a:lnTo>
                        <a:lnTo>
                          <a:pt x="113" y="110"/>
                        </a:lnTo>
                        <a:lnTo>
                          <a:pt x="113" y="107"/>
                        </a:lnTo>
                        <a:lnTo>
                          <a:pt x="112" y="104"/>
                        </a:lnTo>
                        <a:lnTo>
                          <a:pt x="112" y="101"/>
                        </a:lnTo>
                        <a:lnTo>
                          <a:pt x="105" y="100"/>
                        </a:lnTo>
                        <a:lnTo>
                          <a:pt x="99" y="99"/>
                        </a:lnTo>
                        <a:lnTo>
                          <a:pt x="92" y="97"/>
                        </a:lnTo>
                        <a:lnTo>
                          <a:pt x="83" y="96"/>
                        </a:lnTo>
                        <a:lnTo>
                          <a:pt x="71" y="95"/>
                        </a:lnTo>
                        <a:lnTo>
                          <a:pt x="54" y="95"/>
                        </a:lnTo>
                        <a:lnTo>
                          <a:pt x="30" y="93"/>
                        </a:lnTo>
                        <a:lnTo>
                          <a:pt x="0" y="92"/>
                        </a:lnTo>
                        <a:lnTo>
                          <a:pt x="0" y="89"/>
                        </a:lnTo>
                        <a:lnTo>
                          <a:pt x="0" y="87"/>
                        </a:lnTo>
                        <a:lnTo>
                          <a:pt x="0" y="86"/>
                        </a:lnTo>
                        <a:lnTo>
                          <a:pt x="1" y="83"/>
                        </a:lnTo>
                        <a:lnTo>
                          <a:pt x="15" y="75"/>
                        </a:lnTo>
                        <a:lnTo>
                          <a:pt x="28" y="67"/>
                        </a:lnTo>
                        <a:lnTo>
                          <a:pt x="42" y="61"/>
                        </a:lnTo>
                        <a:lnTo>
                          <a:pt x="55" y="53"/>
                        </a:lnTo>
                        <a:lnTo>
                          <a:pt x="70" y="45"/>
                        </a:lnTo>
                        <a:lnTo>
                          <a:pt x="84" y="38"/>
                        </a:lnTo>
                        <a:lnTo>
                          <a:pt x="99" y="30"/>
                        </a:lnTo>
                        <a:lnTo>
                          <a:pt x="113" y="24"/>
                        </a:lnTo>
                        <a:lnTo>
                          <a:pt x="129" y="18"/>
                        </a:lnTo>
                        <a:lnTo>
                          <a:pt x="143" y="13"/>
                        </a:lnTo>
                        <a:lnTo>
                          <a:pt x="159" y="8"/>
                        </a:lnTo>
                        <a:lnTo>
                          <a:pt x="175" y="5"/>
                        </a:lnTo>
                        <a:lnTo>
                          <a:pt x="191" y="1"/>
                        </a:lnTo>
                        <a:lnTo>
                          <a:pt x="206" y="0"/>
                        </a:lnTo>
                        <a:lnTo>
                          <a:pt x="223" y="0"/>
                        </a:lnTo>
                        <a:lnTo>
                          <a:pt x="239" y="0"/>
                        </a:lnTo>
                        <a:lnTo>
                          <a:pt x="243" y="9"/>
                        </a:lnTo>
                        <a:lnTo>
                          <a:pt x="246" y="15"/>
                        </a:lnTo>
                        <a:lnTo>
                          <a:pt x="246" y="18"/>
                        </a:lnTo>
                        <a:lnTo>
                          <a:pt x="244" y="22"/>
                        </a:lnTo>
                        <a:lnTo>
                          <a:pt x="233" y="26"/>
                        </a:lnTo>
                        <a:lnTo>
                          <a:pt x="219" y="29"/>
                        </a:lnTo>
                        <a:lnTo>
                          <a:pt x="208" y="33"/>
                        </a:lnTo>
                        <a:lnTo>
                          <a:pt x="195" y="36"/>
                        </a:lnTo>
                        <a:lnTo>
                          <a:pt x="181" y="39"/>
                        </a:lnTo>
                        <a:lnTo>
                          <a:pt x="170" y="43"/>
                        </a:lnTo>
                        <a:lnTo>
                          <a:pt x="156" y="46"/>
                        </a:lnTo>
                        <a:lnTo>
                          <a:pt x="145" y="50"/>
                        </a:lnTo>
                        <a:lnTo>
                          <a:pt x="151" y="50"/>
                        </a:lnTo>
                        <a:lnTo>
                          <a:pt x="158" y="50"/>
                        </a:lnTo>
                        <a:lnTo>
                          <a:pt x="166" y="50"/>
                        </a:lnTo>
                        <a:lnTo>
                          <a:pt x="175" y="49"/>
                        </a:lnTo>
                        <a:lnTo>
                          <a:pt x="185" y="47"/>
                        </a:lnTo>
                        <a:lnTo>
                          <a:pt x="197" y="47"/>
                        </a:lnTo>
                        <a:lnTo>
                          <a:pt x="210" y="46"/>
                        </a:lnTo>
                        <a:lnTo>
                          <a:pt x="225" y="46"/>
                        </a:lnTo>
                        <a:lnTo>
                          <a:pt x="216" y="53"/>
                        </a:lnTo>
                        <a:lnTo>
                          <a:pt x="205" y="57"/>
                        </a:lnTo>
                        <a:lnTo>
                          <a:pt x="195" y="61"/>
                        </a:lnTo>
                        <a:lnTo>
                          <a:pt x="184" y="62"/>
                        </a:lnTo>
                        <a:lnTo>
                          <a:pt x="173" y="63"/>
                        </a:lnTo>
                        <a:lnTo>
                          <a:pt x="163" y="66"/>
                        </a:lnTo>
                        <a:lnTo>
                          <a:pt x="156" y="68"/>
                        </a:lnTo>
                        <a:lnTo>
                          <a:pt x="151" y="74"/>
                        </a:lnTo>
                        <a:lnTo>
                          <a:pt x="154" y="75"/>
                        </a:lnTo>
                        <a:lnTo>
                          <a:pt x="158" y="75"/>
                        </a:lnTo>
                        <a:lnTo>
                          <a:pt x="162" y="75"/>
                        </a:lnTo>
                        <a:lnTo>
                          <a:pt x="167" y="74"/>
                        </a:lnTo>
                        <a:lnTo>
                          <a:pt x="175" y="74"/>
                        </a:lnTo>
                        <a:lnTo>
                          <a:pt x="184" y="72"/>
                        </a:lnTo>
                        <a:lnTo>
                          <a:pt x="198" y="71"/>
                        </a:lnTo>
                        <a:lnTo>
                          <a:pt x="216" y="71"/>
                        </a:lnTo>
                        <a:lnTo>
                          <a:pt x="217" y="75"/>
                        </a:lnTo>
                        <a:lnTo>
                          <a:pt x="218" y="79"/>
                        </a:lnTo>
                        <a:lnTo>
                          <a:pt x="219" y="83"/>
                        </a:lnTo>
                        <a:lnTo>
                          <a:pt x="221" y="87"/>
                        </a:lnTo>
                        <a:lnTo>
                          <a:pt x="212" y="88"/>
                        </a:lnTo>
                        <a:lnTo>
                          <a:pt x="201" y="91"/>
                        </a:lnTo>
                        <a:lnTo>
                          <a:pt x="191" y="93"/>
                        </a:lnTo>
                        <a:lnTo>
                          <a:pt x="180" y="95"/>
                        </a:lnTo>
                        <a:lnTo>
                          <a:pt x="171" y="99"/>
                        </a:lnTo>
                        <a:lnTo>
                          <a:pt x="162" y="103"/>
                        </a:lnTo>
                        <a:lnTo>
                          <a:pt x="154" y="107"/>
                        </a:lnTo>
                        <a:lnTo>
                          <a:pt x="147" y="112"/>
                        </a:lnTo>
                        <a:lnTo>
                          <a:pt x="150" y="113"/>
                        </a:lnTo>
                        <a:lnTo>
                          <a:pt x="154" y="113"/>
                        </a:lnTo>
                        <a:lnTo>
                          <a:pt x="159" y="113"/>
                        </a:lnTo>
                        <a:lnTo>
                          <a:pt x="166" y="112"/>
                        </a:lnTo>
                        <a:lnTo>
                          <a:pt x="177" y="110"/>
                        </a:lnTo>
                        <a:lnTo>
                          <a:pt x="192" y="108"/>
                        </a:lnTo>
                        <a:lnTo>
                          <a:pt x="214" y="104"/>
                        </a:lnTo>
                        <a:lnTo>
                          <a:pt x="242" y="99"/>
                        </a:lnTo>
                        <a:lnTo>
                          <a:pt x="240" y="101"/>
                        </a:lnTo>
                        <a:lnTo>
                          <a:pt x="240" y="105"/>
                        </a:lnTo>
                        <a:lnTo>
                          <a:pt x="239" y="109"/>
                        </a:lnTo>
                        <a:lnTo>
                          <a:pt x="238" y="113"/>
                        </a:lnTo>
                        <a:lnTo>
                          <a:pt x="227" y="117"/>
                        </a:lnTo>
                        <a:lnTo>
                          <a:pt x="217" y="122"/>
                        </a:lnTo>
                        <a:lnTo>
                          <a:pt x="205" y="126"/>
                        </a:lnTo>
                        <a:lnTo>
                          <a:pt x="195" y="130"/>
                        </a:lnTo>
                        <a:lnTo>
                          <a:pt x="184" y="135"/>
                        </a:lnTo>
                        <a:lnTo>
                          <a:pt x="173" y="139"/>
                        </a:lnTo>
                        <a:lnTo>
                          <a:pt x="162" y="143"/>
                        </a:lnTo>
                        <a:lnTo>
                          <a:pt x="151" y="147"/>
                        </a:lnTo>
                        <a:lnTo>
                          <a:pt x="159" y="147"/>
                        </a:lnTo>
                        <a:lnTo>
                          <a:pt x="167" y="146"/>
                        </a:lnTo>
                        <a:lnTo>
                          <a:pt x="176" y="146"/>
                        </a:lnTo>
                        <a:lnTo>
                          <a:pt x="185" y="145"/>
                        </a:lnTo>
                        <a:lnTo>
                          <a:pt x="193" y="143"/>
                        </a:lnTo>
                        <a:lnTo>
                          <a:pt x="202" y="142"/>
                        </a:lnTo>
                        <a:lnTo>
                          <a:pt x="213" y="141"/>
                        </a:lnTo>
                        <a:lnTo>
                          <a:pt x="222" y="139"/>
                        </a:lnTo>
                        <a:lnTo>
                          <a:pt x="217" y="150"/>
                        </a:lnTo>
                        <a:lnTo>
                          <a:pt x="209" y="158"/>
                        </a:lnTo>
                        <a:lnTo>
                          <a:pt x="201" y="166"/>
                        </a:lnTo>
                        <a:lnTo>
                          <a:pt x="191" y="170"/>
                        </a:lnTo>
                        <a:lnTo>
                          <a:pt x="180" y="175"/>
                        </a:lnTo>
                        <a:lnTo>
                          <a:pt x="170" y="179"/>
                        </a:lnTo>
                        <a:lnTo>
                          <a:pt x="158" y="181"/>
                        </a:lnTo>
                        <a:lnTo>
                          <a:pt x="147" y="185"/>
                        </a:lnTo>
                        <a:lnTo>
                          <a:pt x="131" y="193"/>
                        </a:lnTo>
                        <a:lnTo>
                          <a:pt x="114" y="201"/>
                        </a:lnTo>
                        <a:lnTo>
                          <a:pt x="99" y="209"/>
                        </a:lnTo>
                        <a:lnTo>
                          <a:pt x="83" y="217"/>
                        </a:lnTo>
                        <a:lnTo>
                          <a:pt x="66" y="225"/>
                        </a:lnTo>
                        <a:lnTo>
                          <a:pt x="50" y="233"/>
                        </a:lnTo>
                        <a:lnTo>
                          <a:pt x="34" y="241"/>
                        </a:lnTo>
                        <a:lnTo>
                          <a:pt x="18" y="249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3170520" y="4923360"/>
                    <a:ext cx="15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152">
                        <a:moveTo>
                          <a:pt x="97" y="152"/>
                        </a:moveTo>
                        <a:lnTo>
                          <a:pt x="89" y="146"/>
                        </a:lnTo>
                        <a:lnTo>
                          <a:pt x="83" y="141"/>
                        </a:lnTo>
                        <a:lnTo>
                          <a:pt x="79" y="139"/>
                        </a:lnTo>
                        <a:lnTo>
                          <a:pt x="75" y="136"/>
                        </a:lnTo>
                        <a:lnTo>
                          <a:pt x="71" y="133"/>
                        </a:lnTo>
                        <a:lnTo>
                          <a:pt x="66" y="131"/>
                        </a:lnTo>
                        <a:lnTo>
                          <a:pt x="62" y="128"/>
                        </a:lnTo>
                        <a:lnTo>
                          <a:pt x="55" y="124"/>
                        </a:lnTo>
                        <a:lnTo>
                          <a:pt x="53" y="112"/>
                        </a:lnTo>
                        <a:lnTo>
                          <a:pt x="49" y="103"/>
                        </a:lnTo>
                        <a:lnTo>
                          <a:pt x="42" y="95"/>
                        </a:lnTo>
                        <a:lnTo>
                          <a:pt x="37" y="89"/>
                        </a:lnTo>
                        <a:lnTo>
                          <a:pt x="29" y="82"/>
                        </a:lnTo>
                        <a:lnTo>
                          <a:pt x="22" y="77"/>
                        </a:lnTo>
                        <a:lnTo>
                          <a:pt x="14" y="73"/>
                        </a:lnTo>
                        <a:lnTo>
                          <a:pt x="7" y="69"/>
                        </a:lnTo>
                        <a:lnTo>
                          <a:pt x="7" y="64"/>
                        </a:lnTo>
                        <a:lnTo>
                          <a:pt x="8" y="60"/>
                        </a:lnTo>
                        <a:lnTo>
                          <a:pt x="8" y="54"/>
                        </a:lnTo>
                        <a:lnTo>
                          <a:pt x="8" y="50"/>
                        </a:lnTo>
                        <a:lnTo>
                          <a:pt x="21" y="53"/>
                        </a:lnTo>
                        <a:lnTo>
                          <a:pt x="30" y="56"/>
                        </a:lnTo>
                        <a:lnTo>
                          <a:pt x="36" y="58"/>
                        </a:lnTo>
                        <a:lnTo>
                          <a:pt x="41" y="60"/>
                        </a:lnTo>
                        <a:lnTo>
                          <a:pt x="36" y="49"/>
                        </a:lnTo>
                        <a:lnTo>
                          <a:pt x="25" y="39"/>
                        </a:lnTo>
                        <a:lnTo>
                          <a:pt x="13" y="29"/>
                        </a:lnTo>
                        <a:lnTo>
                          <a:pt x="7" y="24"/>
                        </a:lnTo>
                        <a:lnTo>
                          <a:pt x="5" y="18"/>
                        </a:lnTo>
                        <a:lnTo>
                          <a:pt x="3" y="12"/>
                        </a:lnTo>
                        <a:lnTo>
                          <a:pt x="1" y="6"/>
                        </a:lnTo>
                        <a:lnTo>
                          <a:pt x="0" y="0"/>
                        </a:lnTo>
                        <a:lnTo>
                          <a:pt x="26" y="6"/>
                        </a:lnTo>
                        <a:lnTo>
                          <a:pt x="49" y="15"/>
                        </a:lnTo>
                        <a:lnTo>
                          <a:pt x="67" y="29"/>
                        </a:lnTo>
                        <a:lnTo>
                          <a:pt x="83" y="48"/>
                        </a:lnTo>
                        <a:lnTo>
                          <a:pt x="95" y="70"/>
                        </a:lnTo>
                        <a:lnTo>
                          <a:pt x="103" y="95"/>
                        </a:lnTo>
                        <a:lnTo>
                          <a:pt x="106" y="121"/>
                        </a:lnTo>
                        <a:lnTo>
                          <a:pt x="106" y="152"/>
                        </a:lnTo>
                        <a:lnTo>
                          <a:pt x="104" y="152"/>
                        </a:lnTo>
                        <a:lnTo>
                          <a:pt x="101" y="152"/>
                        </a:lnTo>
                        <a:lnTo>
                          <a:pt x="100" y="152"/>
                        </a:lnTo>
                        <a:lnTo>
                          <a:pt x="97" y="15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3117600" y="4902480"/>
                    <a:ext cx="428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2" h="275">
                        <a:moveTo>
                          <a:pt x="141" y="275"/>
                        </a:moveTo>
                        <a:lnTo>
                          <a:pt x="116" y="270"/>
                        </a:lnTo>
                        <a:lnTo>
                          <a:pt x="93" y="264"/>
                        </a:lnTo>
                        <a:lnTo>
                          <a:pt x="74" y="258"/>
                        </a:lnTo>
                        <a:lnTo>
                          <a:pt x="56" y="249"/>
                        </a:lnTo>
                        <a:lnTo>
                          <a:pt x="41" y="238"/>
                        </a:lnTo>
                        <a:lnTo>
                          <a:pt x="26" y="225"/>
                        </a:lnTo>
                        <a:lnTo>
                          <a:pt x="14" y="208"/>
                        </a:lnTo>
                        <a:lnTo>
                          <a:pt x="3" y="188"/>
                        </a:lnTo>
                        <a:lnTo>
                          <a:pt x="0" y="151"/>
                        </a:lnTo>
                        <a:lnTo>
                          <a:pt x="3" y="117"/>
                        </a:lnTo>
                        <a:lnTo>
                          <a:pt x="12" y="88"/>
                        </a:lnTo>
                        <a:lnTo>
                          <a:pt x="26" y="62"/>
                        </a:lnTo>
                        <a:lnTo>
                          <a:pt x="46" y="41"/>
                        </a:lnTo>
                        <a:lnTo>
                          <a:pt x="67" y="24"/>
                        </a:lnTo>
                        <a:lnTo>
                          <a:pt x="92" y="11"/>
                        </a:lnTo>
                        <a:lnTo>
                          <a:pt x="118" y="3"/>
                        </a:lnTo>
                        <a:lnTo>
                          <a:pt x="146" y="0"/>
                        </a:lnTo>
                        <a:lnTo>
                          <a:pt x="173" y="1"/>
                        </a:lnTo>
                        <a:lnTo>
                          <a:pt x="200" y="8"/>
                        </a:lnTo>
                        <a:lnTo>
                          <a:pt x="225" y="20"/>
                        </a:lnTo>
                        <a:lnTo>
                          <a:pt x="247" y="38"/>
                        </a:lnTo>
                        <a:lnTo>
                          <a:pt x="267" y="61"/>
                        </a:lnTo>
                        <a:lnTo>
                          <a:pt x="281" y="90"/>
                        </a:lnTo>
                        <a:lnTo>
                          <a:pt x="292" y="125"/>
                        </a:lnTo>
                        <a:lnTo>
                          <a:pt x="288" y="155"/>
                        </a:lnTo>
                        <a:lnTo>
                          <a:pt x="279" y="183"/>
                        </a:lnTo>
                        <a:lnTo>
                          <a:pt x="264" y="208"/>
                        </a:lnTo>
                        <a:lnTo>
                          <a:pt x="247" y="230"/>
                        </a:lnTo>
                        <a:lnTo>
                          <a:pt x="225" y="249"/>
                        </a:lnTo>
                        <a:lnTo>
                          <a:pt x="200" y="263"/>
                        </a:lnTo>
                        <a:lnTo>
                          <a:pt x="172" y="272"/>
                        </a:lnTo>
                        <a:lnTo>
                          <a:pt x="141" y="2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2978640" y="4871880"/>
                    <a:ext cx="871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90" h="227">
                        <a:moveTo>
                          <a:pt x="26" y="227"/>
                        </a:moveTo>
                        <a:lnTo>
                          <a:pt x="8" y="213"/>
                        </a:lnTo>
                        <a:lnTo>
                          <a:pt x="0" y="192"/>
                        </a:lnTo>
                        <a:lnTo>
                          <a:pt x="2" y="166"/>
                        </a:lnTo>
                        <a:lnTo>
                          <a:pt x="12" y="138"/>
                        </a:lnTo>
                        <a:lnTo>
                          <a:pt x="25" y="109"/>
                        </a:lnTo>
                        <a:lnTo>
                          <a:pt x="41" y="84"/>
                        </a:lnTo>
                        <a:lnTo>
                          <a:pt x="55" y="62"/>
                        </a:lnTo>
                        <a:lnTo>
                          <a:pt x="67" y="46"/>
                        </a:lnTo>
                        <a:lnTo>
                          <a:pt x="79" y="36"/>
                        </a:lnTo>
                        <a:lnTo>
                          <a:pt x="93" y="22"/>
                        </a:lnTo>
                        <a:lnTo>
                          <a:pt x="109" y="12"/>
                        </a:lnTo>
                        <a:lnTo>
                          <a:pt x="125" y="4"/>
                        </a:lnTo>
                        <a:lnTo>
                          <a:pt x="140" y="0"/>
                        </a:lnTo>
                        <a:lnTo>
                          <a:pt x="154" y="3"/>
                        </a:lnTo>
                        <a:lnTo>
                          <a:pt x="164" y="15"/>
                        </a:lnTo>
                        <a:lnTo>
                          <a:pt x="169" y="37"/>
                        </a:lnTo>
                        <a:lnTo>
                          <a:pt x="167" y="39"/>
                        </a:lnTo>
                        <a:lnTo>
                          <a:pt x="164" y="42"/>
                        </a:lnTo>
                        <a:lnTo>
                          <a:pt x="160" y="42"/>
                        </a:lnTo>
                        <a:lnTo>
                          <a:pt x="154" y="43"/>
                        </a:lnTo>
                        <a:lnTo>
                          <a:pt x="152" y="38"/>
                        </a:lnTo>
                        <a:lnTo>
                          <a:pt x="152" y="32"/>
                        </a:lnTo>
                        <a:lnTo>
                          <a:pt x="151" y="26"/>
                        </a:lnTo>
                        <a:lnTo>
                          <a:pt x="151" y="21"/>
                        </a:lnTo>
                        <a:lnTo>
                          <a:pt x="121" y="26"/>
                        </a:lnTo>
                        <a:lnTo>
                          <a:pt x="96" y="41"/>
                        </a:lnTo>
                        <a:lnTo>
                          <a:pt x="73" y="62"/>
                        </a:lnTo>
                        <a:lnTo>
                          <a:pt x="55" y="88"/>
                        </a:lnTo>
                        <a:lnTo>
                          <a:pt x="42" y="118"/>
                        </a:lnTo>
                        <a:lnTo>
                          <a:pt x="33" y="150"/>
                        </a:lnTo>
                        <a:lnTo>
                          <a:pt x="27" y="181"/>
                        </a:lnTo>
                        <a:lnTo>
                          <a:pt x="26" y="210"/>
                        </a:lnTo>
                        <a:lnTo>
                          <a:pt x="45" y="206"/>
                        </a:lnTo>
                        <a:lnTo>
                          <a:pt x="62" y="196"/>
                        </a:lnTo>
                        <a:lnTo>
                          <a:pt x="79" y="181"/>
                        </a:lnTo>
                        <a:lnTo>
                          <a:pt x="94" y="164"/>
                        </a:lnTo>
                        <a:lnTo>
                          <a:pt x="113" y="147"/>
                        </a:lnTo>
                        <a:lnTo>
                          <a:pt x="131" y="134"/>
                        </a:lnTo>
                        <a:lnTo>
                          <a:pt x="151" y="125"/>
                        </a:lnTo>
                        <a:lnTo>
                          <a:pt x="175" y="124"/>
                        </a:lnTo>
                        <a:lnTo>
                          <a:pt x="175" y="133"/>
                        </a:lnTo>
                        <a:lnTo>
                          <a:pt x="175" y="142"/>
                        </a:lnTo>
                        <a:lnTo>
                          <a:pt x="175" y="153"/>
                        </a:lnTo>
                        <a:lnTo>
                          <a:pt x="175" y="162"/>
                        </a:lnTo>
                        <a:lnTo>
                          <a:pt x="185" y="158"/>
                        </a:lnTo>
                        <a:lnTo>
                          <a:pt x="190" y="155"/>
                        </a:lnTo>
                        <a:lnTo>
                          <a:pt x="196" y="154"/>
                        </a:lnTo>
                        <a:lnTo>
                          <a:pt x="201" y="154"/>
                        </a:lnTo>
                        <a:lnTo>
                          <a:pt x="203" y="159"/>
                        </a:lnTo>
                        <a:lnTo>
                          <a:pt x="206" y="163"/>
                        </a:lnTo>
                        <a:lnTo>
                          <a:pt x="209" y="168"/>
                        </a:lnTo>
                        <a:lnTo>
                          <a:pt x="213" y="174"/>
                        </a:lnTo>
                        <a:lnTo>
                          <a:pt x="228" y="149"/>
                        </a:lnTo>
                        <a:lnTo>
                          <a:pt x="244" y="126"/>
                        </a:lnTo>
                        <a:lnTo>
                          <a:pt x="261" y="104"/>
                        </a:lnTo>
                        <a:lnTo>
                          <a:pt x="278" y="84"/>
                        </a:lnTo>
                        <a:lnTo>
                          <a:pt x="298" y="67"/>
                        </a:lnTo>
                        <a:lnTo>
                          <a:pt x="320" y="54"/>
                        </a:lnTo>
                        <a:lnTo>
                          <a:pt x="345" y="45"/>
                        </a:lnTo>
                        <a:lnTo>
                          <a:pt x="376" y="39"/>
                        </a:lnTo>
                        <a:lnTo>
                          <a:pt x="383" y="57"/>
                        </a:lnTo>
                        <a:lnTo>
                          <a:pt x="383" y="75"/>
                        </a:lnTo>
                        <a:lnTo>
                          <a:pt x="378" y="92"/>
                        </a:lnTo>
                        <a:lnTo>
                          <a:pt x="368" y="110"/>
                        </a:lnTo>
                        <a:lnTo>
                          <a:pt x="356" y="129"/>
                        </a:lnTo>
                        <a:lnTo>
                          <a:pt x="345" y="149"/>
                        </a:lnTo>
                        <a:lnTo>
                          <a:pt x="336" y="168"/>
                        </a:lnTo>
                        <a:lnTo>
                          <a:pt x="331" y="188"/>
                        </a:lnTo>
                        <a:lnTo>
                          <a:pt x="340" y="185"/>
                        </a:lnTo>
                        <a:lnTo>
                          <a:pt x="349" y="180"/>
                        </a:lnTo>
                        <a:lnTo>
                          <a:pt x="359" y="175"/>
                        </a:lnTo>
                        <a:lnTo>
                          <a:pt x="368" y="171"/>
                        </a:lnTo>
                        <a:lnTo>
                          <a:pt x="376" y="170"/>
                        </a:lnTo>
                        <a:lnTo>
                          <a:pt x="383" y="172"/>
                        </a:lnTo>
                        <a:lnTo>
                          <a:pt x="389" y="179"/>
                        </a:lnTo>
                        <a:lnTo>
                          <a:pt x="393" y="191"/>
                        </a:lnTo>
                        <a:lnTo>
                          <a:pt x="403" y="187"/>
                        </a:lnTo>
                        <a:lnTo>
                          <a:pt x="414" y="184"/>
                        </a:lnTo>
                        <a:lnTo>
                          <a:pt x="422" y="181"/>
                        </a:lnTo>
                        <a:lnTo>
                          <a:pt x="431" y="180"/>
                        </a:lnTo>
                        <a:lnTo>
                          <a:pt x="440" y="179"/>
                        </a:lnTo>
                        <a:lnTo>
                          <a:pt x="450" y="179"/>
                        </a:lnTo>
                        <a:lnTo>
                          <a:pt x="462" y="179"/>
                        </a:lnTo>
                        <a:lnTo>
                          <a:pt x="477" y="180"/>
                        </a:lnTo>
                        <a:lnTo>
                          <a:pt x="478" y="183"/>
                        </a:lnTo>
                        <a:lnTo>
                          <a:pt x="479" y="184"/>
                        </a:lnTo>
                        <a:lnTo>
                          <a:pt x="482" y="187"/>
                        </a:lnTo>
                        <a:lnTo>
                          <a:pt x="483" y="189"/>
                        </a:lnTo>
                        <a:lnTo>
                          <a:pt x="494" y="188"/>
                        </a:lnTo>
                        <a:lnTo>
                          <a:pt x="506" y="187"/>
                        </a:lnTo>
                        <a:lnTo>
                          <a:pt x="521" y="185"/>
                        </a:lnTo>
                        <a:lnTo>
                          <a:pt x="537" y="184"/>
                        </a:lnTo>
                        <a:lnTo>
                          <a:pt x="552" y="183"/>
                        </a:lnTo>
                        <a:lnTo>
                          <a:pt x="567" y="184"/>
                        </a:lnTo>
                        <a:lnTo>
                          <a:pt x="579" y="187"/>
                        </a:lnTo>
                        <a:lnTo>
                          <a:pt x="590" y="191"/>
                        </a:lnTo>
                        <a:lnTo>
                          <a:pt x="585" y="197"/>
                        </a:lnTo>
                        <a:lnTo>
                          <a:pt x="571" y="201"/>
                        </a:lnTo>
                        <a:lnTo>
                          <a:pt x="552" y="205"/>
                        </a:lnTo>
                        <a:lnTo>
                          <a:pt x="529" y="208"/>
                        </a:lnTo>
                        <a:lnTo>
                          <a:pt x="507" y="209"/>
                        </a:lnTo>
                        <a:lnTo>
                          <a:pt x="487" y="209"/>
                        </a:lnTo>
                        <a:lnTo>
                          <a:pt x="473" y="209"/>
                        </a:lnTo>
                        <a:lnTo>
                          <a:pt x="466" y="209"/>
                        </a:lnTo>
                        <a:lnTo>
                          <a:pt x="465" y="205"/>
                        </a:lnTo>
                        <a:lnTo>
                          <a:pt x="465" y="201"/>
                        </a:lnTo>
                        <a:lnTo>
                          <a:pt x="464" y="199"/>
                        </a:lnTo>
                        <a:lnTo>
                          <a:pt x="462" y="195"/>
                        </a:lnTo>
                        <a:lnTo>
                          <a:pt x="449" y="196"/>
                        </a:lnTo>
                        <a:lnTo>
                          <a:pt x="436" y="199"/>
                        </a:lnTo>
                        <a:lnTo>
                          <a:pt x="423" y="203"/>
                        </a:lnTo>
                        <a:lnTo>
                          <a:pt x="411" y="208"/>
                        </a:lnTo>
                        <a:lnTo>
                          <a:pt x="401" y="212"/>
                        </a:lnTo>
                        <a:lnTo>
                          <a:pt x="389" y="216"/>
                        </a:lnTo>
                        <a:lnTo>
                          <a:pt x="380" y="218"/>
                        </a:lnTo>
                        <a:lnTo>
                          <a:pt x="370" y="218"/>
                        </a:lnTo>
                        <a:lnTo>
                          <a:pt x="370" y="212"/>
                        </a:lnTo>
                        <a:lnTo>
                          <a:pt x="370" y="204"/>
                        </a:lnTo>
                        <a:lnTo>
                          <a:pt x="370" y="197"/>
                        </a:lnTo>
                        <a:lnTo>
                          <a:pt x="372" y="191"/>
                        </a:lnTo>
                        <a:lnTo>
                          <a:pt x="361" y="195"/>
                        </a:lnTo>
                        <a:lnTo>
                          <a:pt x="352" y="199"/>
                        </a:lnTo>
                        <a:lnTo>
                          <a:pt x="343" y="201"/>
                        </a:lnTo>
                        <a:lnTo>
                          <a:pt x="335" y="204"/>
                        </a:lnTo>
                        <a:lnTo>
                          <a:pt x="326" y="206"/>
                        </a:lnTo>
                        <a:lnTo>
                          <a:pt x="318" y="208"/>
                        </a:lnTo>
                        <a:lnTo>
                          <a:pt x="309" y="209"/>
                        </a:lnTo>
                        <a:lnTo>
                          <a:pt x="301" y="210"/>
                        </a:lnTo>
                        <a:lnTo>
                          <a:pt x="301" y="209"/>
                        </a:lnTo>
                        <a:lnTo>
                          <a:pt x="299" y="208"/>
                        </a:lnTo>
                        <a:lnTo>
                          <a:pt x="299" y="206"/>
                        </a:lnTo>
                        <a:lnTo>
                          <a:pt x="298" y="205"/>
                        </a:lnTo>
                        <a:lnTo>
                          <a:pt x="306" y="193"/>
                        </a:lnTo>
                        <a:lnTo>
                          <a:pt x="315" y="176"/>
                        </a:lnTo>
                        <a:lnTo>
                          <a:pt x="327" y="155"/>
                        </a:lnTo>
                        <a:lnTo>
                          <a:pt x="339" y="133"/>
                        </a:lnTo>
                        <a:lnTo>
                          <a:pt x="351" y="110"/>
                        </a:lnTo>
                        <a:lnTo>
                          <a:pt x="360" y="89"/>
                        </a:lnTo>
                        <a:lnTo>
                          <a:pt x="365" y="71"/>
                        </a:lnTo>
                        <a:lnTo>
                          <a:pt x="366" y="57"/>
                        </a:lnTo>
                        <a:lnTo>
                          <a:pt x="337" y="66"/>
                        </a:lnTo>
                        <a:lnTo>
                          <a:pt x="313" y="78"/>
                        </a:lnTo>
                        <a:lnTo>
                          <a:pt x="292" y="93"/>
                        </a:lnTo>
                        <a:lnTo>
                          <a:pt x="273" y="112"/>
                        </a:lnTo>
                        <a:lnTo>
                          <a:pt x="256" y="133"/>
                        </a:lnTo>
                        <a:lnTo>
                          <a:pt x="242" y="156"/>
                        </a:lnTo>
                        <a:lnTo>
                          <a:pt x="227" y="181"/>
                        </a:lnTo>
                        <a:lnTo>
                          <a:pt x="214" y="209"/>
                        </a:lnTo>
                        <a:lnTo>
                          <a:pt x="209" y="212"/>
                        </a:lnTo>
                        <a:lnTo>
                          <a:pt x="203" y="213"/>
                        </a:lnTo>
                        <a:lnTo>
                          <a:pt x="197" y="216"/>
                        </a:lnTo>
                        <a:lnTo>
                          <a:pt x="192" y="218"/>
                        </a:lnTo>
                        <a:lnTo>
                          <a:pt x="193" y="208"/>
                        </a:lnTo>
                        <a:lnTo>
                          <a:pt x="193" y="197"/>
                        </a:lnTo>
                        <a:lnTo>
                          <a:pt x="194" y="187"/>
                        </a:lnTo>
                        <a:lnTo>
                          <a:pt x="194" y="176"/>
                        </a:lnTo>
                        <a:lnTo>
                          <a:pt x="186" y="176"/>
                        </a:lnTo>
                        <a:lnTo>
                          <a:pt x="180" y="179"/>
                        </a:lnTo>
                        <a:lnTo>
                          <a:pt x="175" y="181"/>
                        </a:lnTo>
                        <a:lnTo>
                          <a:pt x="169" y="184"/>
                        </a:lnTo>
                        <a:lnTo>
                          <a:pt x="164" y="187"/>
                        </a:lnTo>
                        <a:lnTo>
                          <a:pt x="159" y="191"/>
                        </a:lnTo>
                        <a:lnTo>
                          <a:pt x="154" y="193"/>
                        </a:lnTo>
                        <a:lnTo>
                          <a:pt x="148" y="195"/>
                        </a:lnTo>
                        <a:lnTo>
                          <a:pt x="148" y="183"/>
                        </a:lnTo>
                        <a:lnTo>
                          <a:pt x="150" y="174"/>
                        </a:lnTo>
                        <a:lnTo>
                          <a:pt x="152" y="162"/>
                        </a:lnTo>
                        <a:lnTo>
                          <a:pt x="159" y="141"/>
                        </a:lnTo>
                        <a:lnTo>
                          <a:pt x="140" y="146"/>
                        </a:lnTo>
                        <a:lnTo>
                          <a:pt x="123" y="156"/>
                        </a:lnTo>
                        <a:lnTo>
                          <a:pt x="106" y="171"/>
                        </a:lnTo>
                        <a:lnTo>
                          <a:pt x="90" y="187"/>
                        </a:lnTo>
                        <a:lnTo>
                          <a:pt x="76" y="201"/>
                        </a:lnTo>
                        <a:lnTo>
                          <a:pt x="60" y="214"/>
                        </a:lnTo>
                        <a:lnTo>
                          <a:pt x="43" y="224"/>
                        </a:lnTo>
                        <a:lnTo>
                          <a:pt x="26" y="2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3120120" y="4905360"/>
                    <a:ext cx="3744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234">
                        <a:moveTo>
                          <a:pt x="103" y="234"/>
                        </a:moveTo>
                        <a:lnTo>
                          <a:pt x="67" y="217"/>
                        </a:lnTo>
                        <a:lnTo>
                          <a:pt x="38" y="200"/>
                        </a:lnTo>
                        <a:lnTo>
                          <a:pt x="18" y="181"/>
                        </a:lnTo>
                        <a:lnTo>
                          <a:pt x="5" y="160"/>
                        </a:lnTo>
                        <a:lnTo>
                          <a:pt x="0" y="137"/>
                        </a:lnTo>
                        <a:lnTo>
                          <a:pt x="3" y="109"/>
                        </a:lnTo>
                        <a:lnTo>
                          <a:pt x="15" y="79"/>
                        </a:lnTo>
                        <a:lnTo>
                          <a:pt x="33" y="43"/>
                        </a:lnTo>
                        <a:lnTo>
                          <a:pt x="50" y="29"/>
                        </a:lnTo>
                        <a:lnTo>
                          <a:pt x="67" y="17"/>
                        </a:lnTo>
                        <a:lnTo>
                          <a:pt x="85" y="9"/>
                        </a:lnTo>
                        <a:lnTo>
                          <a:pt x="104" y="2"/>
                        </a:lnTo>
                        <a:lnTo>
                          <a:pt x="122" y="0"/>
                        </a:lnTo>
                        <a:lnTo>
                          <a:pt x="139" y="0"/>
                        </a:lnTo>
                        <a:lnTo>
                          <a:pt x="158" y="2"/>
                        </a:lnTo>
                        <a:lnTo>
                          <a:pt x="175" y="8"/>
                        </a:lnTo>
                        <a:lnTo>
                          <a:pt x="191" y="16"/>
                        </a:lnTo>
                        <a:lnTo>
                          <a:pt x="205" y="26"/>
                        </a:lnTo>
                        <a:lnTo>
                          <a:pt x="218" y="39"/>
                        </a:lnTo>
                        <a:lnTo>
                          <a:pt x="230" y="54"/>
                        </a:lnTo>
                        <a:lnTo>
                          <a:pt x="239" y="72"/>
                        </a:lnTo>
                        <a:lnTo>
                          <a:pt x="246" y="92"/>
                        </a:lnTo>
                        <a:lnTo>
                          <a:pt x="251" y="114"/>
                        </a:lnTo>
                        <a:lnTo>
                          <a:pt x="252" y="138"/>
                        </a:lnTo>
                        <a:lnTo>
                          <a:pt x="243" y="164"/>
                        </a:lnTo>
                        <a:lnTo>
                          <a:pt x="230" y="184"/>
                        </a:lnTo>
                        <a:lnTo>
                          <a:pt x="214" y="201"/>
                        </a:lnTo>
                        <a:lnTo>
                          <a:pt x="196" y="214"/>
                        </a:lnTo>
                        <a:lnTo>
                          <a:pt x="175" y="223"/>
                        </a:lnTo>
                        <a:lnTo>
                          <a:pt x="151" y="230"/>
                        </a:lnTo>
                        <a:lnTo>
                          <a:pt x="128" y="233"/>
                        </a:lnTo>
                        <a:lnTo>
                          <a:pt x="103" y="234"/>
                        </a:lnTo>
                        <a:close/>
                      </a:path>
                    </a:pathLst>
                  </a:custGeom>
                  <a:solidFill>
                    <a:srgbClr val="cc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3167640" y="4935240"/>
                    <a:ext cx="75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5">
                        <a:moveTo>
                          <a:pt x="39" y="25"/>
                        </a:moveTo>
                        <a:lnTo>
                          <a:pt x="35" y="23"/>
                        </a:lnTo>
                        <a:lnTo>
                          <a:pt x="31" y="20"/>
                        </a:lnTo>
                        <a:lnTo>
                          <a:pt x="25" y="17"/>
                        </a:lnTo>
                        <a:lnTo>
                          <a:pt x="18" y="15"/>
                        </a:lnTo>
                        <a:lnTo>
                          <a:pt x="11" y="11"/>
                        </a:lnTo>
                        <a:lnTo>
                          <a:pt x="6" y="8"/>
                        </a:lnTo>
                        <a:lnTo>
                          <a:pt x="2" y="6"/>
                        </a:lnTo>
                        <a:lnTo>
                          <a:pt x="0" y="4"/>
                        </a:lnTo>
                        <a:lnTo>
                          <a:pt x="5" y="2"/>
                        </a:lnTo>
                        <a:lnTo>
                          <a:pt x="10" y="0"/>
                        </a:lnTo>
                        <a:lnTo>
                          <a:pt x="15" y="2"/>
                        </a:lnTo>
                        <a:lnTo>
                          <a:pt x="22" y="4"/>
                        </a:lnTo>
                        <a:lnTo>
                          <a:pt x="29" y="8"/>
                        </a:lnTo>
                        <a:lnTo>
                          <a:pt x="35" y="12"/>
                        </a:lnTo>
                        <a:lnTo>
                          <a:pt x="43" y="17"/>
                        </a:lnTo>
                        <a:lnTo>
                          <a:pt x="51" y="23"/>
                        </a:lnTo>
                        <a:lnTo>
                          <a:pt x="50" y="24"/>
                        </a:lnTo>
                        <a:lnTo>
                          <a:pt x="47" y="25"/>
                        </a:lnTo>
                        <a:lnTo>
                          <a:pt x="44" y="25"/>
                        </a:lnTo>
                        <a:lnTo>
                          <a:pt x="39" y="25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3168000" y="4911480"/>
                    <a:ext cx="226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89">
                        <a:moveTo>
                          <a:pt x="71" y="89"/>
                        </a:moveTo>
                        <a:lnTo>
                          <a:pt x="61" y="82"/>
                        </a:lnTo>
                        <a:lnTo>
                          <a:pt x="55" y="77"/>
                        </a:lnTo>
                        <a:lnTo>
                          <a:pt x="48" y="75"/>
                        </a:lnTo>
                        <a:lnTo>
                          <a:pt x="38" y="71"/>
                        </a:lnTo>
                        <a:lnTo>
                          <a:pt x="38" y="61"/>
                        </a:lnTo>
                        <a:lnTo>
                          <a:pt x="39" y="54"/>
                        </a:lnTo>
                        <a:lnTo>
                          <a:pt x="39" y="46"/>
                        </a:lnTo>
                        <a:lnTo>
                          <a:pt x="40" y="38"/>
                        </a:lnTo>
                        <a:lnTo>
                          <a:pt x="34" y="35"/>
                        </a:lnTo>
                        <a:lnTo>
                          <a:pt x="28" y="32"/>
                        </a:lnTo>
                        <a:lnTo>
                          <a:pt x="22" y="31"/>
                        </a:lnTo>
                        <a:lnTo>
                          <a:pt x="17" y="30"/>
                        </a:lnTo>
                        <a:lnTo>
                          <a:pt x="11" y="29"/>
                        </a:lnTo>
                        <a:lnTo>
                          <a:pt x="7" y="27"/>
                        </a:lnTo>
                        <a:lnTo>
                          <a:pt x="4" y="26"/>
                        </a:lnTo>
                        <a:lnTo>
                          <a:pt x="0" y="26"/>
                        </a:lnTo>
                        <a:lnTo>
                          <a:pt x="0" y="19"/>
                        </a:lnTo>
                        <a:lnTo>
                          <a:pt x="0" y="13"/>
                        </a:lnTo>
                        <a:lnTo>
                          <a:pt x="0" y="6"/>
                        </a:lnTo>
                        <a:lnTo>
                          <a:pt x="0" y="0"/>
                        </a:lnTo>
                        <a:lnTo>
                          <a:pt x="18" y="2"/>
                        </a:lnTo>
                        <a:lnTo>
                          <a:pt x="38" y="6"/>
                        </a:lnTo>
                        <a:lnTo>
                          <a:pt x="57" y="13"/>
                        </a:lnTo>
                        <a:lnTo>
                          <a:pt x="77" y="19"/>
                        </a:lnTo>
                        <a:lnTo>
                          <a:pt x="97" y="29"/>
                        </a:lnTo>
                        <a:lnTo>
                          <a:pt x="115" y="40"/>
                        </a:lnTo>
                        <a:lnTo>
                          <a:pt x="135" y="52"/>
                        </a:lnTo>
                        <a:lnTo>
                          <a:pt x="152" y="67"/>
                        </a:lnTo>
                        <a:lnTo>
                          <a:pt x="151" y="68"/>
                        </a:lnTo>
                        <a:lnTo>
                          <a:pt x="149" y="71"/>
                        </a:lnTo>
                        <a:lnTo>
                          <a:pt x="145" y="72"/>
                        </a:lnTo>
                        <a:lnTo>
                          <a:pt x="140" y="73"/>
                        </a:lnTo>
                        <a:lnTo>
                          <a:pt x="130" y="76"/>
                        </a:lnTo>
                        <a:lnTo>
                          <a:pt x="117" y="79"/>
                        </a:lnTo>
                        <a:lnTo>
                          <a:pt x="97" y="84"/>
                        </a:lnTo>
                        <a:lnTo>
                          <a:pt x="71" y="89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8" name=""/>
                <p:cNvSpPr txBox="1"/>
                <p:nvPr/>
              </p:nvSpPr>
              <p:spPr>
                <a:xfrm>
                  <a:off x="2988000" y="4752720"/>
                  <a:ext cx="147960" cy="18540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1068683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</a:rPr>
                    <a:t>MIME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889" name=""/>
              <p:cNvSpPr/>
              <p:nvPr/>
            </p:nvSpPr>
            <p:spPr>
              <a:xfrm>
                <a:off x="2590560" y="4916520"/>
                <a:ext cx="677880" cy="37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Experti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9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616120" y="4648320"/>
                <a:ext cx="252360" cy="252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1" name=""/>
            <p:cNvGrpSpPr/>
            <p:nvPr/>
          </p:nvGrpSpPr>
          <p:grpSpPr>
            <a:xfrm>
              <a:off x="3235320" y="4648320"/>
              <a:ext cx="812880" cy="639720"/>
              <a:chOff x="3235320" y="4648320"/>
              <a:chExt cx="812880" cy="639720"/>
            </a:xfrm>
          </p:grpSpPr>
          <p:sp>
            <p:nvSpPr>
              <p:cNvPr id="892" name=""/>
              <p:cNvSpPr/>
              <p:nvPr/>
            </p:nvSpPr>
            <p:spPr>
              <a:xfrm>
                <a:off x="3235320" y="4908960"/>
                <a:ext cx="812880" cy="37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(Meta-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ictionari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9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73280" y="464832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94" name=""/>
          <p:cNvGrpSpPr/>
          <p:nvPr/>
        </p:nvGrpSpPr>
        <p:grpSpPr>
          <a:xfrm>
            <a:off x="558720" y="3975120"/>
            <a:ext cx="685800" cy="1001520"/>
            <a:chOff x="558720" y="3975120"/>
            <a:chExt cx="685800" cy="1001520"/>
          </a:xfrm>
        </p:grpSpPr>
        <p:grpSp>
          <p:nvGrpSpPr>
            <p:cNvPr id="895" name=""/>
            <p:cNvGrpSpPr/>
            <p:nvPr/>
          </p:nvGrpSpPr>
          <p:grpSpPr>
            <a:xfrm>
              <a:off x="569880" y="3975120"/>
              <a:ext cx="565200" cy="809640"/>
              <a:chOff x="569880" y="3975120"/>
              <a:chExt cx="565200" cy="809640"/>
            </a:xfrm>
          </p:grpSpPr>
          <p:sp>
            <p:nvSpPr>
              <p:cNvPr id="896" name=""/>
              <p:cNvSpPr/>
              <p:nvPr/>
            </p:nvSpPr>
            <p:spPr>
              <a:xfrm>
                <a:off x="612360" y="4030560"/>
                <a:ext cx="522720" cy="75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03720" y="4017960"/>
                <a:ext cx="522720" cy="75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94360" y="4004640"/>
                <a:ext cx="522720" cy="75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85360" y="3992400"/>
                <a:ext cx="522720" cy="75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69880" y="3975120"/>
                <a:ext cx="528840" cy="7545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>
              <a:off x="558720" y="4748040"/>
              <a:ext cx="68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cenari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2" name="" descr=""/>
            <p:cNvPicPr/>
            <p:nvPr/>
          </p:nvPicPr>
          <p:blipFill>
            <a:blip r:embed="rId7"/>
            <a:stretch/>
          </p:blipFill>
          <p:spPr>
            <a:xfrm>
              <a:off x="587160" y="4000680"/>
              <a:ext cx="4572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3" name=""/>
          <p:cNvGrpSpPr/>
          <p:nvPr/>
        </p:nvGrpSpPr>
        <p:grpSpPr>
          <a:xfrm>
            <a:off x="482760" y="914400"/>
            <a:ext cx="3862080" cy="2590920"/>
            <a:chOff x="482760" y="914400"/>
            <a:chExt cx="3862080" cy="2590920"/>
          </a:xfrm>
        </p:grpSpPr>
        <p:grpSp>
          <p:nvGrpSpPr>
            <p:cNvPr id="904" name=""/>
            <p:cNvGrpSpPr/>
            <p:nvPr/>
          </p:nvGrpSpPr>
          <p:grpSpPr>
            <a:xfrm>
              <a:off x="482760" y="914400"/>
              <a:ext cx="3862080" cy="2276640"/>
              <a:chOff x="482760" y="914400"/>
              <a:chExt cx="3862080" cy="2276640"/>
            </a:xfrm>
          </p:grpSpPr>
          <p:sp>
            <p:nvSpPr>
              <p:cNvPr id="905" name=""/>
              <p:cNvSpPr/>
              <p:nvPr/>
            </p:nvSpPr>
            <p:spPr>
              <a:xfrm>
                <a:off x="482760" y="914400"/>
                <a:ext cx="3862080" cy="20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39640" y="2952720"/>
                <a:ext cx="365724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(2) From semi-informal to semi-form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520560" y="990720"/>
              <a:ext cx="3809880" cy="1877760"/>
              <a:chOff x="520560" y="990720"/>
              <a:chExt cx="3809880" cy="1877760"/>
            </a:xfrm>
          </p:grpSpPr>
          <p:pic>
            <p:nvPicPr>
              <p:cNvPr id="90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58360" y="990720"/>
                <a:ext cx="371448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72840" y="1295280"/>
                <a:ext cx="3619080" cy="125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20560" y="1685880"/>
                <a:ext cx="3809880" cy="1182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1" name=""/>
            <p:cNvGrpSpPr/>
            <p:nvPr/>
          </p:nvGrpSpPr>
          <p:grpSpPr>
            <a:xfrm>
              <a:off x="550800" y="2800440"/>
              <a:ext cx="167760" cy="704880"/>
              <a:chOff x="550800" y="2800440"/>
              <a:chExt cx="167760" cy="704880"/>
            </a:xfrm>
          </p:grpSpPr>
          <p:sp>
            <p:nvSpPr>
              <p:cNvPr id="912" name=""/>
              <p:cNvSpPr/>
              <p:nvPr/>
            </p:nvSpPr>
            <p:spPr>
              <a:xfrm>
                <a:off x="550800" y="2800440"/>
                <a:ext cx="167760" cy="571320"/>
              </a:xfrm>
              <a:prstGeom prst="upArrow">
                <a:avLst>
                  <a:gd name="adj1" fmla="val 50000"/>
                  <a:gd name="adj2" fmla="val 85139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83920" y="3398760"/>
                <a:ext cx="101160" cy="1065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4140360" y="852480"/>
            <a:ext cx="4165200" cy="2338560"/>
            <a:chOff x="4140360" y="852480"/>
            <a:chExt cx="4165200" cy="2338560"/>
          </a:xfrm>
        </p:grpSpPr>
        <p:grpSp>
          <p:nvGrpSpPr>
            <p:cNvPr id="915" name=""/>
            <p:cNvGrpSpPr/>
            <p:nvPr/>
          </p:nvGrpSpPr>
          <p:grpSpPr>
            <a:xfrm>
              <a:off x="4140360" y="852480"/>
              <a:ext cx="4165200" cy="2338560"/>
              <a:chOff x="4140360" y="852480"/>
              <a:chExt cx="4165200" cy="2338560"/>
            </a:xfrm>
          </p:grpSpPr>
          <p:grpSp>
            <p:nvGrpSpPr>
              <p:cNvPr id="916" name=""/>
              <p:cNvGrpSpPr/>
              <p:nvPr/>
            </p:nvGrpSpPr>
            <p:grpSpPr>
              <a:xfrm>
                <a:off x="4411800" y="914400"/>
                <a:ext cx="3862440" cy="2276640"/>
                <a:chOff x="4411800" y="914400"/>
                <a:chExt cx="3862440" cy="227664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4411800" y="914400"/>
                  <a:ext cx="3862440" cy="207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4955040" y="2952720"/>
                  <a:ext cx="30175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3) RDF(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4140360" y="1057320"/>
                <a:ext cx="687600" cy="179280"/>
                <a:chOff x="4140360" y="1057320"/>
                <a:chExt cx="687600" cy="179280"/>
              </a:xfrm>
            </p:grpSpPr>
            <p:sp>
              <p:nvSpPr>
                <p:cNvPr id="920" name=""/>
                <p:cNvSpPr/>
                <p:nvPr/>
              </p:nvSpPr>
              <p:spPr>
                <a:xfrm rot="5400000">
                  <a:off x="4466880" y="875520"/>
                  <a:ext cx="179280" cy="542880"/>
                </a:xfrm>
                <a:prstGeom prst="upArrow">
                  <a:avLst>
                    <a:gd name="adj1" fmla="val 50000"/>
                    <a:gd name="adj2" fmla="val 75703"/>
                  </a:avLst>
                </a:prstGeom>
                <a:solidFill>
                  <a:srgbClr val="33333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140360" y="1093680"/>
                  <a:ext cx="101880" cy="10656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2" name=""/>
              <p:cNvSpPr/>
              <p:nvPr/>
            </p:nvSpPr>
            <p:spPr>
              <a:xfrm>
                <a:off x="5893560" y="852480"/>
                <a:ext cx="24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Conceptual Vocabula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4356000" y="1752480"/>
              <a:ext cx="3885840" cy="587160"/>
              <a:chOff x="4356000" y="1752480"/>
              <a:chExt cx="3885840" cy="587160"/>
            </a:xfrm>
          </p:grpSpPr>
          <p:sp>
            <p:nvSpPr>
              <p:cNvPr id="924" name=""/>
              <p:cNvSpPr/>
              <p:nvPr/>
            </p:nvSpPr>
            <p:spPr>
              <a:xfrm>
                <a:off x="4356000" y="1752480"/>
                <a:ext cx="373392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3300"/>
                    </a:solidFill>
                    <a:latin typeface="Times New Roman"/>
                  </a:rPr>
                  <a:t>Relations - signature &amp; sub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x: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ers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(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uthor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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ocu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5" name=""/>
              <p:cNvGrpSpPr/>
              <p:nvPr/>
            </p:nvGrpSpPr>
            <p:grpSpPr>
              <a:xfrm>
                <a:off x="7327800" y="1905120"/>
                <a:ext cx="914040" cy="152280"/>
                <a:chOff x="7327800" y="1905120"/>
                <a:chExt cx="914040" cy="15228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7400520" y="1981080"/>
                  <a:ext cx="74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327800" y="1930320"/>
                  <a:ext cx="249120" cy="11448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649640" y="1905120"/>
                  <a:ext cx="249480" cy="152280"/>
                </a:xfrm>
                <a:prstGeom prst="ellipse">
                  <a:avLst/>
                </a:prstGeom>
                <a:solidFill>
                  <a:srgbClr val="00cc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992720" y="1930320"/>
                  <a:ext cx="249120" cy="11448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0" name=""/>
            <p:cNvGrpSpPr/>
            <p:nvPr/>
          </p:nvGrpSpPr>
          <p:grpSpPr>
            <a:xfrm>
              <a:off x="4356000" y="2308320"/>
              <a:ext cx="3873600" cy="587160"/>
              <a:chOff x="4356000" y="2308320"/>
              <a:chExt cx="3873600" cy="587160"/>
            </a:xfrm>
          </p:grpSpPr>
          <p:sp>
            <p:nvSpPr>
              <p:cNvPr id="931" name=""/>
              <p:cNvSpPr/>
              <p:nvPr/>
            </p:nvSpPr>
            <p:spPr>
              <a:xfrm>
                <a:off x="4356000" y="2308320"/>
                <a:ext cx="373392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3300"/>
                    </a:solidFill>
                    <a:latin typeface="Times New Roman"/>
                  </a:rPr>
                  <a:t>Terms &amp; natural language definition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x: 'bike', 'cycle', bicycle' - (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icyc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924680" y="2438280"/>
                <a:ext cx="304920" cy="152640"/>
              </a:xfrm>
              <a:prstGeom prst="foldedCorner">
                <a:avLst>
                  <a:gd name="adj" fmla="val 41666"/>
                </a:avLst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4356000" y="1219320"/>
              <a:ext cx="3886200" cy="535320"/>
              <a:chOff x="4356000" y="1219320"/>
              <a:chExt cx="3886200" cy="535320"/>
            </a:xfrm>
          </p:grpSpPr>
          <p:sp>
            <p:nvSpPr>
              <p:cNvPr id="934" name=""/>
              <p:cNvSpPr/>
              <p:nvPr/>
            </p:nvSpPr>
            <p:spPr>
              <a:xfrm>
                <a:off x="4356000" y="1222200"/>
                <a:ext cx="370224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3300"/>
                    </a:solidFill>
                    <a:latin typeface="Times New Roman"/>
                  </a:rPr>
                  <a:t>Concepts - subsum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x: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ocumen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repor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5" name=""/>
              <p:cNvGrpSpPr/>
              <p:nvPr/>
            </p:nvGrpSpPr>
            <p:grpSpPr>
              <a:xfrm>
                <a:off x="7251840" y="1219320"/>
                <a:ext cx="990360" cy="533160"/>
                <a:chOff x="7251840" y="1219320"/>
                <a:chExt cx="990360" cy="53316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7632720" y="1219320"/>
                  <a:ext cx="228600" cy="7596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7251840" y="1447920"/>
                  <a:ext cx="228600" cy="7596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632720" y="1447920"/>
                  <a:ext cx="228600" cy="7596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8013600" y="1447920"/>
                  <a:ext cx="228600" cy="7596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8013600" y="1676520"/>
                  <a:ext cx="228600" cy="7596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7632720" y="1676520"/>
                  <a:ext cx="228600" cy="7596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251840" y="1676520"/>
                  <a:ext cx="228600" cy="7596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>
                  <a:off x="7327440" y="1295280"/>
                  <a:ext cx="38124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747200" y="1295280"/>
                  <a:ext cx="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7785000" y="1295280"/>
                  <a:ext cx="38124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8140680" y="1523880"/>
                  <a:ext cx="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>
                  <a:off x="7734240" y="1523880"/>
                  <a:ext cx="43200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353360" y="1523880"/>
                  <a:ext cx="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49" name=""/>
          <p:cNvGrpSpPr/>
          <p:nvPr/>
        </p:nvGrpSpPr>
        <p:grpSpPr>
          <a:xfrm>
            <a:off x="4411800" y="2743200"/>
            <a:ext cx="3862080" cy="2870280"/>
            <a:chOff x="4411800" y="2743200"/>
            <a:chExt cx="3862080" cy="2870280"/>
          </a:xfrm>
        </p:grpSpPr>
        <p:grpSp>
          <p:nvGrpSpPr>
            <p:cNvPr id="950" name=""/>
            <p:cNvGrpSpPr/>
            <p:nvPr/>
          </p:nvGrpSpPr>
          <p:grpSpPr>
            <a:xfrm>
              <a:off x="4411800" y="2743200"/>
              <a:ext cx="3862080" cy="2870280"/>
              <a:chOff x="4411800" y="2743200"/>
              <a:chExt cx="3862080" cy="2870280"/>
            </a:xfrm>
          </p:grpSpPr>
          <p:grpSp>
            <p:nvGrpSpPr>
              <p:cNvPr id="951" name=""/>
              <p:cNvGrpSpPr/>
              <p:nvPr/>
            </p:nvGrpSpPr>
            <p:grpSpPr>
              <a:xfrm>
                <a:off x="4411800" y="3335400"/>
                <a:ext cx="3862080" cy="2278080"/>
                <a:chOff x="4411800" y="3335400"/>
                <a:chExt cx="3862080" cy="227808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4411800" y="3335400"/>
                  <a:ext cx="3862080" cy="2073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87800" y="5374080"/>
                  <a:ext cx="3017520" cy="23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4) Navigation and Use</a:t>
                  </a: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8075520" y="2743200"/>
                <a:ext cx="167760" cy="750240"/>
                <a:chOff x="8075520" y="2743200"/>
                <a:chExt cx="167760" cy="750240"/>
              </a:xfrm>
            </p:grpSpPr>
            <p:sp>
              <p:nvSpPr>
                <p:cNvPr id="955" name=""/>
                <p:cNvSpPr/>
                <p:nvPr/>
              </p:nvSpPr>
              <p:spPr>
                <a:xfrm rot="10800000">
                  <a:off x="8075520" y="2922120"/>
                  <a:ext cx="167760" cy="571320"/>
                </a:xfrm>
                <a:prstGeom prst="upArrow">
                  <a:avLst>
                    <a:gd name="adj1" fmla="val 50000"/>
                    <a:gd name="adj2" fmla="val 85139"/>
                  </a:avLst>
                </a:prstGeom>
                <a:solidFill>
                  <a:srgbClr val="33333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8108640" y="2743200"/>
                  <a:ext cx="100800" cy="1076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957" name=""/>
            <p:cNvGraphicFramePr/>
            <p:nvPr/>
          </p:nvGraphicFramePr>
          <p:xfrm>
            <a:off x="4479840" y="3443400"/>
            <a:ext cx="1970280" cy="1179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5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479840" y="3443400"/>
                      <a:ext cx="1970280" cy="11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59" name="" descr=""/>
            <p:cNvPicPr/>
            <p:nvPr/>
          </p:nvPicPr>
          <p:blipFill>
            <a:blip r:embed="rId13"/>
            <a:stretch/>
          </p:blipFill>
          <p:spPr>
            <a:xfrm>
              <a:off x="6350040" y="3429000"/>
              <a:ext cx="1739880" cy="1657440"/>
            </a:xfrm>
            <a:prstGeom prst="rect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pic>
        <p:pic>
          <p:nvPicPr>
            <p:cNvPr id="960" name="" descr=""/>
            <p:cNvPicPr/>
            <p:nvPr/>
          </p:nvPicPr>
          <p:blipFill>
            <a:blip r:embed="rId14"/>
            <a:stretch/>
          </p:blipFill>
          <p:spPr>
            <a:xfrm>
              <a:off x="5511960" y="4800600"/>
              <a:ext cx="2495520" cy="430200"/>
            </a:xfrm>
            <a:prstGeom prst="rect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pic>
        <p:pic>
          <p:nvPicPr>
            <p:cNvPr id="961" name="" descr=""/>
            <p:cNvPicPr/>
            <p:nvPr/>
          </p:nvPicPr>
          <p:blipFill>
            <a:blip r:embed="rId15"/>
            <a:stretch/>
          </p:blipFill>
          <p:spPr>
            <a:xfrm>
              <a:off x="4444920" y="4267080"/>
              <a:ext cx="1952640" cy="1086120"/>
            </a:xfrm>
            <a:prstGeom prst="rect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pic>
      </p:grpSp>
      <p:grpSp>
        <p:nvGrpSpPr>
          <p:cNvPr id="962" name=""/>
          <p:cNvGrpSpPr/>
          <p:nvPr/>
        </p:nvGrpSpPr>
        <p:grpSpPr>
          <a:xfrm>
            <a:off x="3983760" y="2727000"/>
            <a:ext cx="4271040" cy="3200760"/>
            <a:chOff x="3983760" y="2727000"/>
            <a:chExt cx="4271040" cy="3200760"/>
          </a:xfrm>
        </p:grpSpPr>
        <p:sp>
          <p:nvSpPr>
            <p:cNvPr id="963" name=""/>
            <p:cNvSpPr/>
            <p:nvPr/>
          </p:nvSpPr>
          <p:spPr>
            <a:xfrm flipV="1" rot="5400000">
              <a:off x="7769160" y="5442120"/>
              <a:ext cx="768240" cy="203040"/>
            </a:xfrm>
            <a:custGeom>
              <a:avLst/>
              <a:gdLst>
                <a:gd name="textAreaLeft" fmla="*/ 119880 w 768240"/>
                <a:gd name="textAreaRight" fmla="*/ 693000 w 768240"/>
                <a:gd name="textAreaTop" fmla="*/ 50760 h 203040"/>
                <a:gd name="textAreaBottom" fmla="*/ 15228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16"/>
                  </a:moveTo>
                  <a:lnTo>
                    <a:pt x="17349" y="5416"/>
                  </a:lnTo>
                  <a:lnTo>
                    <a:pt x="17349" y="0"/>
                  </a:lnTo>
                  <a:lnTo>
                    <a:pt x="21600" y="10800"/>
                  </a:lnTo>
                  <a:lnTo>
                    <a:pt x="17349" y="21600"/>
                  </a:lnTo>
                  <a:lnTo>
                    <a:pt x="17349" y="16184"/>
                  </a:lnTo>
                  <a:lnTo>
                    <a:pt x="3375" y="16184"/>
                  </a:lnTo>
                  <a:close/>
                </a:path>
                <a:path w="21600" h="21600">
                  <a:moveTo>
                    <a:pt x="0" y="5416"/>
                  </a:moveTo>
                  <a:lnTo>
                    <a:pt x="675" y="5416"/>
                  </a:lnTo>
                  <a:lnTo>
                    <a:pt x="675" y="16184"/>
                  </a:lnTo>
                  <a:lnTo>
                    <a:pt x="0" y="16184"/>
                  </a:lnTo>
                  <a:close/>
                </a:path>
                <a:path w="21600" h="21600">
                  <a:moveTo>
                    <a:pt x="1350" y="5416"/>
                  </a:moveTo>
                  <a:lnTo>
                    <a:pt x="2700" y="5416"/>
                  </a:lnTo>
                  <a:lnTo>
                    <a:pt x="2700" y="16184"/>
                  </a:lnTo>
                  <a:lnTo>
                    <a:pt x="1350" y="16184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rot="2847600">
              <a:off x="4088520" y="2859480"/>
              <a:ext cx="601920" cy="549360"/>
            </a:xfrm>
            <a:custGeom>
              <a:avLst/>
              <a:gdLst>
                <a:gd name="textAreaLeft" fmla="*/ 0 w 601920"/>
                <a:gd name="textAreaRight" fmla="*/ 602280 w 6019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707" y="10800"/>
                  </a:moveTo>
                  <a:arcTo wR="-6093" hR="-6093" stAng="-10800000" swAng="-19318940"/>
                  <a:lnTo>
                    <a:pt x="19308" y="17452"/>
                  </a:lnTo>
                  <a:arcTo wR="10800" hR="10800" stAng="2281060" swAng="19318940"/>
                  <a:lnTo>
                    <a:pt x="24300" y="10800"/>
                  </a:lnTo>
                  <a:lnTo>
                    <a:pt x="19247" y="15854"/>
                  </a:lnTo>
                  <a:lnTo>
                    <a:pt x="14193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762-4D0F-4380-B090-4A1418DD2C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158400" y="5167440"/>
            <a:ext cx="3110400" cy="855360"/>
            <a:chOff x="158400" y="5167440"/>
            <a:chExt cx="3110400" cy="855360"/>
          </a:xfrm>
        </p:grpSpPr>
        <p:sp>
          <p:nvSpPr>
            <p:cNvPr id="966" name=""/>
            <p:cNvSpPr/>
            <p:nvPr/>
          </p:nvSpPr>
          <p:spPr>
            <a:xfrm>
              <a:off x="1449360" y="5211720"/>
              <a:ext cx="1819440" cy="811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807200" y="5172120"/>
              <a:ext cx="101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8" name=""/>
            <p:cNvGrpSpPr/>
            <p:nvPr/>
          </p:nvGrpSpPr>
          <p:grpSpPr>
            <a:xfrm>
              <a:off x="158400" y="5246640"/>
              <a:ext cx="430200" cy="758880"/>
              <a:chOff x="158400" y="5246640"/>
              <a:chExt cx="430200" cy="758880"/>
            </a:xfrm>
          </p:grpSpPr>
          <p:sp>
            <p:nvSpPr>
              <p:cNvPr id="969" name=""/>
              <p:cNvSpPr/>
              <p:nvPr/>
            </p:nvSpPr>
            <p:spPr>
              <a:xfrm flipH="1">
                <a:off x="282960" y="5288760"/>
                <a:ext cx="168120" cy="16560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394200" y="5246640"/>
                <a:ext cx="194040" cy="26568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304560" y="5466600"/>
                <a:ext cx="100800" cy="24912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203400" y="5473800"/>
                <a:ext cx="155160" cy="19152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158040" y="5690880"/>
                <a:ext cx="188280" cy="30960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338040" y="5690160"/>
                <a:ext cx="126360" cy="31536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592200" y="5167440"/>
              <a:ext cx="473040" cy="396720"/>
              <a:chOff x="592200" y="5167440"/>
              <a:chExt cx="473040" cy="396720"/>
            </a:xfrm>
          </p:grpSpPr>
          <p:sp>
            <p:nvSpPr>
              <p:cNvPr id="976" name=""/>
              <p:cNvSpPr/>
              <p:nvPr/>
            </p:nvSpPr>
            <p:spPr>
              <a:xfrm>
                <a:off x="592200" y="5167440"/>
                <a:ext cx="47304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77" name="inter" descr=""/>
              <p:cNvPicPr/>
              <p:nvPr/>
            </p:nvPicPr>
            <p:blipFill>
              <a:blip r:embed="rId1"/>
              <a:stretch/>
            </p:blipFill>
            <p:spPr>
              <a:xfrm>
                <a:off x="708120" y="52376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78" name=""/>
            <p:cNvSpPr/>
            <p:nvPr/>
          </p:nvSpPr>
          <p:spPr>
            <a:xfrm>
              <a:off x="380880" y="5638680"/>
              <a:ext cx="609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38080" y="5791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76320" y="4178160"/>
            <a:ext cx="3193920" cy="917640"/>
            <a:chOff x="76320" y="4178160"/>
            <a:chExt cx="3193920" cy="917640"/>
          </a:xfrm>
        </p:grpSpPr>
        <p:sp>
          <p:nvSpPr>
            <p:cNvPr id="981" name=""/>
            <p:cNvSpPr/>
            <p:nvPr/>
          </p:nvSpPr>
          <p:spPr>
            <a:xfrm>
              <a:off x="1452600" y="4260960"/>
              <a:ext cx="1817640" cy="811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871640" y="4270320"/>
              <a:ext cx="912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80880" y="4495680"/>
              <a:ext cx="1143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76320" y="4178160"/>
              <a:ext cx="380520" cy="876600"/>
              <a:chOff x="76320" y="4178160"/>
              <a:chExt cx="380520" cy="87660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76320" y="4178160"/>
                <a:ext cx="187200" cy="73080"/>
                <a:chOff x="76320" y="4178160"/>
                <a:chExt cx="187200" cy="7308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76320" y="4233240"/>
                  <a:ext cx="46080" cy="1800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122400" y="4185720"/>
                  <a:ext cx="20160" cy="2988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186840" y="4178160"/>
                  <a:ext cx="16920" cy="3564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22480" y="4206240"/>
                  <a:ext cx="41040" cy="2196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142560" y="4230000"/>
                <a:ext cx="314280" cy="824760"/>
                <a:chOff x="142560" y="4230000"/>
                <a:chExt cx="314280" cy="82476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199440" y="4365720"/>
                  <a:ext cx="158040" cy="14328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12480" y="4230000"/>
                  <a:ext cx="140760" cy="3207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142560" y="4525920"/>
                  <a:ext cx="127080" cy="19332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245880" y="4516920"/>
                  <a:ext cx="119160" cy="23796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210960" y="4710600"/>
                  <a:ext cx="90360" cy="34416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08520" y="4710600"/>
                  <a:ext cx="148320" cy="2901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97" name="ampoule" descr=""/>
              <p:cNvPicPr/>
              <p:nvPr/>
            </p:nvPicPr>
            <p:blipFill>
              <a:blip r:embed="rId2"/>
              <a:stretch/>
            </p:blipFill>
            <p:spPr>
              <a:xfrm>
                <a:off x="111240" y="4223520"/>
                <a:ext cx="118440" cy="16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8" name=""/>
            <p:cNvSpPr/>
            <p:nvPr/>
          </p:nvSpPr>
          <p:spPr>
            <a:xfrm>
              <a:off x="1168560" y="4826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60480" y="2917800"/>
            <a:ext cx="3205080" cy="968400"/>
            <a:chOff x="60480" y="2917800"/>
            <a:chExt cx="3205080" cy="968400"/>
          </a:xfrm>
        </p:grpSpPr>
        <p:sp>
          <p:nvSpPr>
            <p:cNvPr id="1000" name=""/>
            <p:cNvSpPr/>
            <p:nvPr/>
          </p:nvSpPr>
          <p:spPr>
            <a:xfrm>
              <a:off x="1447920" y="2943360"/>
              <a:ext cx="1817640" cy="8776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24520" y="2917800"/>
              <a:ext cx="177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nnot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2" name=""/>
            <p:cNvGrpSpPr/>
            <p:nvPr/>
          </p:nvGrpSpPr>
          <p:grpSpPr>
            <a:xfrm>
              <a:off x="177840" y="3255840"/>
              <a:ext cx="430200" cy="630360"/>
              <a:chOff x="177840" y="3255840"/>
              <a:chExt cx="430200" cy="630360"/>
            </a:xfrm>
          </p:grpSpPr>
          <p:sp>
            <p:nvSpPr>
              <p:cNvPr id="1003" name=""/>
              <p:cNvSpPr/>
              <p:nvPr/>
            </p:nvSpPr>
            <p:spPr>
              <a:xfrm>
                <a:off x="366480" y="3465360"/>
                <a:ext cx="100080" cy="222480"/>
              </a:xfrm>
              <a:custGeom>
                <a:avLst/>
                <a:gdLst/>
                <a:ahLst/>
                <a:rect l="l" t="t" r="r" b="b"/>
                <a:pathLst>
                  <a:path w="771" h="1535">
                    <a:moveTo>
                      <a:pt x="182" y="123"/>
                    </a:moveTo>
                    <a:lnTo>
                      <a:pt x="265" y="33"/>
                    </a:lnTo>
                    <a:lnTo>
                      <a:pt x="423" y="0"/>
                    </a:lnTo>
                    <a:lnTo>
                      <a:pt x="558" y="33"/>
                    </a:lnTo>
                    <a:lnTo>
                      <a:pt x="633" y="83"/>
                    </a:lnTo>
                    <a:lnTo>
                      <a:pt x="693" y="183"/>
                    </a:lnTo>
                    <a:lnTo>
                      <a:pt x="746" y="361"/>
                    </a:lnTo>
                    <a:lnTo>
                      <a:pt x="771" y="554"/>
                    </a:lnTo>
                    <a:lnTo>
                      <a:pt x="771" y="899"/>
                    </a:lnTo>
                    <a:lnTo>
                      <a:pt x="693" y="1200"/>
                    </a:lnTo>
                    <a:lnTo>
                      <a:pt x="581" y="1370"/>
                    </a:lnTo>
                    <a:lnTo>
                      <a:pt x="468" y="1468"/>
                    </a:lnTo>
                    <a:lnTo>
                      <a:pt x="340" y="1535"/>
                    </a:lnTo>
                    <a:lnTo>
                      <a:pt x="160" y="1528"/>
                    </a:lnTo>
                    <a:lnTo>
                      <a:pt x="17" y="1425"/>
                    </a:lnTo>
                    <a:lnTo>
                      <a:pt x="0" y="1302"/>
                    </a:lnTo>
                    <a:lnTo>
                      <a:pt x="70" y="1119"/>
                    </a:lnTo>
                    <a:lnTo>
                      <a:pt x="130" y="914"/>
                    </a:lnTo>
                    <a:lnTo>
                      <a:pt x="152" y="649"/>
                    </a:lnTo>
                    <a:lnTo>
                      <a:pt x="115" y="423"/>
                    </a:lnTo>
                    <a:lnTo>
                      <a:pt x="115" y="258"/>
                    </a:lnTo>
                    <a:lnTo>
                      <a:pt x="182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05360" y="3663720"/>
                <a:ext cx="114480" cy="219240"/>
              </a:xfrm>
              <a:custGeom>
                <a:avLst/>
                <a:gdLst/>
                <a:ahLst/>
                <a:rect l="l" t="t" r="r" b="b"/>
                <a:pathLst>
                  <a:path w="881" h="1512">
                    <a:moveTo>
                      <a:pt x="293" y="63"/>
                    </a:moveTo>
                    <a:lnTo>
                      <a:pt x="187" y="0"/>
                    </a:lnTo>
                    <a:lnTo>
                      <a:pt x="52" y="0"/>
                    </a:lnTo>
                    <a:lnTo>
                      <a:pt x="0" y="83"/>
                    </a:lnTo>
                    <a:lnTo>
                      <a:pt x="22" y="205"/>
                    </a:lnTo>
                    <a:lnTo>
                      <a:pt x="142" y="325"/>
                    </a:lnTo>
                    <a:lnTo>
                      <a:pt x="390" y="436"/>
                    </a:lnTo>
                    <a:lnTo>
                      <a:pt x="676" y="671"/>
                    </a:lnTo>
                    <a:lnTo>
                      <a:pt x="721" y="774"/>
                    </a:lnTo>
                    <a:lnTo>
                      <a:pt x="698" y="821"/>
                    </a:lnTo>
                    <a:lnTo>
                      <a:pt x="480" y="977"/>
                    </a:lnTo>
                    <a:lnTo>
                      <a:pt x="225" y="1162"/>
                    </a:lnTo>
                    <a:lnTo>
                      <a:pt x="165" y="1242"/>
                    </a:lnTo>
                    <a:lnTo>
                      <a:pt x="165" y="1325"/>
                    </a:lnTo>
                    <a:lnTo>
                      <a:pt x="360" y="1412"/>
                    </a:lnTo>
                    <a:lnTo>
                      <a:pt x="661" y="1512"/>
                    </a:lnTo>
                    <a:lnTo>
                      <a:pt x="766" y="1512"/>
                    </a:lnTo>
                    <a:lnTo>
                      <a:pt x="881" y="1445"/>
                    </a:lnTo>
                    <a:lnTo>
                      <a:pt x="881" y="1392"/>
                    </a:lnTo>
                    <a:lnTo>
                      <a:pt x="796" y="1365"/>
                    </a:lnTo>
                    <a:lnTo>
                      <a:pt x="413" y="1325"/>
                    </a:lnTo>
                    <a:lnTo>
                      <a:pt x="270" y="1290"/>
                    </a:lnTo>
                    <a:lnTo>
                      <a:pt x="255" y="1229"/>
                    </a:lnTo>
                    <a:lnTo>
                      <a:pt x="503" y="1059"/>
                    </a:lnTo>
                    <a:lnTo>
                      <a:pt x="773" y="896"/>
                    </a:lnTo>
                    <a:lnTo>
                      <a:pt x="833" y="836"/>
                    </a:lnTo>
                    <a:lnTo>
                      <a:pt x="856" y="754"/>
                    </a:lnTo>
                    <a:lnTo>
                      <a:pt x="833" y="638"/>
                    </a:lnTo>
                    <a:lnTo>
                      <a:pt x="751" y="551"/>
                    </a:lnTo>
                    <a:lnTo>
                      <a:pt x="480" y="253"/>
                    </a:lnTo>
                    <a:lnTo>
                      <a:pt x="29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54160" y="3652560"/>
                <a:ext cx="142560" cy="233640"/>
              </a:xfrm>
              <a:custGeom>
                <a:avLst/>
                <a:gdLst/>
                <a:ahLst/>
                <a:rect l="l" t="t" r="r" b="b"/>
                <a:pathLst>
                  <a:path w="1097" h="1610">
                    <a:moveTo>
                      <a:pt x="596" y="218"/>
                    </a:moveTo>
                    <a:lnTo>
                      <a:pt x="771" y="80"/>
                    </a:lnTo>
                    <a:lnTo>
                      <a:pt x="937" y="0"/>
                    </a:lnTo>
                    <a:lnTo>
                      <a:pt x="1042" y="12"/>
                    </a:lnTo>
                    <a:lnTo>
                      <a:pt x="1097" y="80"/>
                    </a:lnTo>
                    <a:lnTo>
                      <a:pt x="1097" y="155"/>
                    </a:lnTo>
                    <a:lnTo>
                      <a:pt x="1064" y="238"/>
                    </a:lnTo>
                    <a:lnTo>
                      <a:pt x="952" y="285"/>
                    </a:lnTo>
                    <a:lnTo>
                      <a:pt x="724" y="400"/>
                    </a:lnTo>
                    <a:lnTo>
                      <a:pt x="589" y="543"/>
                    </a:lnTo>
                    <a:lnTo>
                      <a:pt x="499" y="713"/>
                    </a:lnTo>
                    <a:lnTo>
                      <a:pt x="476" y="814"/>
                    </a:lnTo>
                    <a:lnTo>
                      <a:pt x="596" y="936"/>
                    </a:lnTo>
                    <a:lnTo>
                      <a:pt x="724" y="1114"/>
                    </a:lnTo>
                    <a:lnTo>
                      <a:pt x="817" y="1277"/>
                    </a:lnTo>
                    <a:lnTo>
                      <a:pt x="839" y="1380"/>
                    </a:lnTo>
                    <a:lnTo>
                      <a:pt x="839" y="1440"/>
                    </a:lnTo>
                    <a:lnTo>
                      <a:pt x="779" y="1480"/>
                    </a:lnTo>
                    <a:lnTo>
                      <a:pt x="589" y="1487"/>
                    </a:lnTo>
                    <a:lnTo>
                      <a:pt x="301" y="1547"/>
                    </a:lnTo>
                    <a:lnTo>
                      <a:pt x="248" y="1602"/>
                    </a:lnTo>
                    <a:lnTo>
                      <a:pt x="203" y="1610"/>
                    </a:lnTo>
                    <a:lnTo>
                      <a:pt x="0" y="1547"/>
                    </a:lnTo>
                    <a:lnTo>
                      <a:pt x="0" y="1487"/>
                    </a:lnTo>
                    <a:lnTo>
                      <a:pt x="90" y="1440"/>
                    </a:lnTo>
                    <a:lnTo>
                      <a:pt x="453" y="1380"/>
                    </a:lnTo>
                    <a:lnTo>
                      <a:pt x="641" y="1400"/>
                    </a:lnTo>
                    <a:lnTo>
                      <a:pt x="734" y="1400"/>
                    </a:lnTo>
                    <a:lnTo>
                      <a:pt x="756" y="1365"/>
                    </a:lnTo>
                    <a:lnTo>
                      <a:pt x="679" y="1214"/>
                    </a:lnTo>
                    <a:lnTo>
                      <a:pt x="521" y="1019"/>
                    </a:lnTo>
                    <a:lnTo>
                      <a:pt x="408" y="876"/>
                    </a:lnTo>
                    <a:lnTo>
                      <a:pt x="363" y="794"/>
                    </a:lnTo>
                    <a:lnTo>
                      <a:pt x="363" y="671"/>
                    </a:lnTo>
                    <a:lnTo>
                      <a:pt x="438" y="468"/>
                    </a:lnTo>
                    <a:lnTo>
                      <a:pt x="506" y="340"/>
                    </a:lnTo>
                    <a:lnTo>
                      <a:pt x="596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77840" y="3465720"/>
                <a:ext cx="192960" cy="174240"/>
              </a:xfrm>
              <a:custGeom>
                <a:avLst/>
                <a:gdLst/>
                <a:ahLst/>
                <a:rect l="l" t="t" r="r" b="b"/>
                <a:pathLst>
                  <a:path w="1482" h="1202">
                    <a:moveTo>
                      <a:pt x="889" y="1202"/>
                    </a:moveTo>
                    <a:lnTo>
                      <a:pt x="981" y="1192"/>
                    </a:lnTo>
                    <a:lnTo>
                      <a:pt x="1009" y="1124"/>
                    </a:lnTo>
                    <a:lnTo>
                      <a:pt x="1034" y="881"/>
                    </a:lnTo>
                    <a:lnTo>
                      <a:pt x="1172" y="596"/>
                    </a:lnTo>
                    <a:lnTo>
                      <a:pt x="1314" y="465"/>
                    </a:lnTo>
                    <a:lnTo>
                      <a:pt x="1482" y="330"/>
                    </a:lnTo>
                    <a:lnTo>
                      <a:pt x="1467" y="235"/>
                    </a:lnTo>
                    <a:lnTo>
                      <a:pt x="1367" y="185"/>
                    </a:lnTo>
                    <a:lnTo>
                      <a:pt x="1242" y="235"/>
                    </a:lnTo>
                    <a:lnTo>
                      <a:pt x="1104" y="373"/>
                    </a:lnTo>
                    <a:lnTo>
                      <a:pt x="976" y="673"/>
                    </a:lnTo>
                    <a:lnTo>
                      <a:pt x="921" y="906"/>
                    </a:lnTo>
                    <a:lnTo>
                      <a:pt x="884" y="1029"/>
                    </a:lnTo>
                    <a:lnTo>
                      <a:pt x="779" y="984"/>
                    </a:lnTo>
                    <a:lnTo>
                      <a:pt x="661" y="783"/>
                    </a:lnTo>
                    <a:lnTo>
                      <a:pt x="563" y="505"/>
                    </a:lnTo>
                    <a:lnTo>
                      <a:pt x="581" y="380"/>
                    </a:lnTo>
                    <a:lnTo>
                      <a:pt x="636" y="248"/>
                    </a:lnTo>
                    <a:lnTo>
                      <a:pt x="658" y="150"/>
                    </a:lnTo>
                    <a:lnTo>
                      <a:pt x="418" y="145"/>
                    </a:lnTo>
                    <a:lnTo>
                      <a:pt x="178" y="105"/>
                    </a:lnTo>
                    <a:lnTo>
                      <a:pt x="65" y="0"/>
                    </a:lnTo>
                    <a:lnTo>
                      <a:pt x="0" y="50"/>
                    </a:lnTo>
                    <a:lnTo>
                      <a:pt x="88" y="230"/>
                    </a:lnTo>
                    <a:lnTo>
                      <a:pt x="280" y="250"/>
                    </a:lnTo>
                    <a:lnTo>
                      <a:pt x="488" y="270"/>
                    </a:lnTo>
                    <a:lnTo>
                      <a:pt x="493" y="428"/>
                    </a:lnTo>
                    <a:lnTo>
                      <a:pt x="513" y="611"/>
                    </a:lnTo>
                    <a:lnTo>
                      <a:pt x="583" y="816"/>
                    </a:lnTo>
                    <a:lnTo>
                      <a:pt x="671" y="1019"/>
                    </a:lnTo>
                    <a:lnTo>
                      <a:pt x="804" y="1154"/>
                    </a:lnTo>
                    <a:lnTo>
                      <a:pt x="889" y="1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66200" y="3255840"/>
                <a:ext cx="141840" cy="235800"/>
              </a:xfrm>
              <a:custGeom>
                <a:avLst/>
                <a:gdLst/>
                <a:ahLst/>
                <a:rect l="l" t="t" r="r" b="b"/>
                <a:pathLst>
                  <a:path w="1091" h="1625">
                    <a:moveTo>
                      <a:pt x="0" y="1610"/>
                    </a:moveTo>
                    <a:lnTo>
                      <a:pt x="0" y="1503"/>
                    </a:lnTo>
                    <a:lnTo>
                      <a:pt x="67" y="1420"/>
                    </a:lnTo>
                    <a:lnTo>
                      <a:pt x="363" y="1325"/>
                    </a:lnTo>
                    <a:lnTo>
                      <a:pt x="728" y="1245"/>
                    </a:lnTo>
                    <a:lnTo>
                      <a:pt x="939" y="1197"/>
                    </a:lnTo>
                    <a:lnTo>
                      <a:pt x="964" y="1155"/>
                    </a:lnTo>
                    <a:lnTo>
                      <a:pt x="864" y="1034"/>
                    </a:lnTo>
                    <a:lnTo>
                      <a:pt x="666" y="857"/>
                    </a:lnTo>
                    <a:lnTo>
                      <a:pt x="463" y="706"/>
                    </a:lnTo>
                    <a:lnTo>
                      <a:pt x="303" y="626"/>
                    </a:lnTo>
                    <a:lnTo>
                      <a:pt x="213" y="544"/>
                    </a:lnTo>
                    <a:lnTo>
                      <a:pt x="205" y="483"/>
                    </a:lnTo>
                    <a:lnTo>
                      <a:pt x="258" y="428"/>
                    </a:lnTo>
                    <a:lnTo>
                      <a:pt x="385" y="401"/>
                    </a:lnTo>
                    <a:lnTo>
                      <a:pt x="546" y="298"/>
                    </a:lnTo>
                    <a:lnTo>
                      <a:pt x="568" y="198"/>
                    </a:lnTo>
                    <a:lnTo>
                      <a:pt x="568" y="55"/>
                    </a:lnTo>
                    <a:lnTo>
                      <a:pt x="553" y="0"/>
                    </a:lnTo>
                    <a:lnTo>
                      <a:pt x="613" y="13"/>
                    </a:lnTo>
                    <a:lnTo>
                      <a:pt x="698" y="135"/>
                    </a:lnTo>
                    <a:lnTo>
                      <a:pt x="728" y="266"/>
                    </a:lnTo>
                    <a:lnTo>
                      <a:pt x="636" y="361"/>
                    </a:lnTo>
                    <a:lnTo>
                      <a:pt x="553" y="388"/>
                    </a:lnTo>
                    <a:lnTo>
                      <a:pt x="393" y="463"/>
                    </a:lnTo>
                    <a:lnTo>
                      <a:pt x="363" y="504"/>
                    </a:lnTo>
                    <a:lnTo>
                      <a:pt x="385" y="544"/>
                    </a:lnTo>
                    <a:lnTo>
                      <a:pt x="531" y="654"/>
                    </a:lnTo>
                    <a:lnTo>
                      <a:pt x="683" y="714"/>
                    </a:lnTo>
                    <a:lnTo>
                      <a:pt x="886" y="869"/>
                    </a:lnTo>
                    <a:lnTo>
                      <a:pt x="1024" y="1054"/>
                    </a:lnTo>
                    <a:lnTo>
                      <a:pt x="1091" y="1197"/>
                    </a:lnTo>
                    <a:lnTo>
                      <a:pt x="1069" y="1245"/>
                    </a:lnTo>
                    <a:lnTo>
                      <a:pt x="1024" y="1277"/>
                    </a:lnTo>
                    <a:lnTo>
                      <a:pt x="849" y="1340"/>
                    </a:lnTo>
                    <a:lnTo>
                      <a:pt x="501" y="1443"/>
                    </a:lnTo>
                    <a:lnTo>
                      <a:pt x="280" y="1530"/>
                    </a:lnTo>
                    <a:lnTo>
                      <a:pt x="138" y="1605"/>
                    </a:lnTo>
                    <a:lnTo>
                      <a:pt x="45" y="1625"/>
                    </a:lnTo>
                    <a:lnTo>
                      <a:pt x="0" y="16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26520" y="3291120"/>
                <a:ext cx="110520" cy="167760"/>
              </a:xfrm>
              <a:custGeom>
                <a:avLst/>
                <a:gdLst/>
                <a:ahLst/>
                <a:rect l="l" t="t" r="r" b="b"/>
                <a:pathLst>
                  <a:path w="851" h="1157">
                    <a:moveTo>
                      <a:pt x="173" y="939"/>
                    </a:moveTo>
                    <a:lnTo>
                      <a:pt x="271" y="1042"/>
                    </a:lnTo>
                    <a:lnTo>
                      <a:pt x="431" y="1137"/>
                    </a:lnTo>
                    <a:lnTo>
                      <a:pt x="566" y="1157"/>
                    </a:lnTo>
                    <a:lnTo>
                      <a:pt x="669" y="1137"/>
                    </a:lnTo>
                    <a:lnTo>
                      <a:pt x="791" y="1057"/>
                    </a:lnTo>
                    <a:lnTo>
                      <a:pt x="836" y="892"/>
                    </a:lnTo>
                    <a:lnTo>
                      <a:pt x="851" y="769"/>
                    </a:lnTo>
                    <a:lnTo>
                      <a:pt x="814" y="654"/>
                    </a:lnTo>
                    <a:lnTo>
                      <a:pt x="744" y="511"/>
                    </a:lnTo>
                    <a:lnTo>
                      <a:pt x="679" y="388"/>
                    </a:lnTo>
                    <a:lnTo>
                      <a:pt x="669" y="361"/>
                    </a:lnTo>
                    <a:lnTo>
                      <a:pt x="699" y="218"/>
                    </a:lnTo>
                    <a:lnTo>
                      <a:pt x="791" y="75"/>
                    </a:lnTo>
                    <a:lnTo>
                      <a:pt x="806" y="33"/>
                    </a:lnTo>
                    <a:lnTo>
                      <a:pt x="759" y="0"/>
                    </a:lnTo>
                    <a:lnTo>
                      <a:pt x="699" y="0"/>
                    </a:lnTo>
                    <a:lnTo>
                      <a:pt x="634" y="185"/>
                    </a:lnTo>
                    <a:lnTo>
                      <a:pt x="604" y="306"/>
                    </a:lnTo>
                    <a:lnTo>
                      <a:pt x="521" y="225"/>
                    </a:lnTo>
                    <a:lnTo>
                      <a:pt x="451" y="163"/>
                    </a:lnTo>
                    <a:lnTo>
                      <a:pt x="308" y="115"/>
                    </a:lnTo>
                    <a:lnTo>
                      <a:pt x="203" y="115"/>
                    </a:lnTo>
                    <a:lnTo>
                      <a:pt x="45" y="185"/>
                    </a:lnTo>
                    <a:lnTo>
                      <a:pt x="0" y="381"/>
                    </a:lnTo>
                    <a:lnTo>
                      <a:pt x="38" y="634"/>
                    </a:lnTo>
                    <a:lnTo>
                      <a:pt x="105" y="872"/>
                    </a:lnTo>
                    <a:lnTo>
                      <a:pt x="173" y="9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457200" y="2971800"/>
              <a:ext cx="237960" cy="239760"/>
              <a:chOff x="457200" y="2971800"/>
              <a:chExt cx="237960" cy="239760"/>
            </a:xfrm>
          </p:grpSpPr>
          <p:sp>
            <p:nvSpPr>
              <p:cNvPr id="1010" name=""/>
              <p:cNvSpPr/>
              <p:nvPr/>
            </p:nvSpPr>
            <p:spPr>
              <a:xfrm>
                <a:off x="457200" y="2971800"/>
                <a:ext cx="237960" cy="2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1" name="doc_03" descr=""/>
              <p:cNvPicPr/>
              <p:nvPr/>
            </p:nvPicPr>
            <p:blipFill>
              <a:blip r:embed="rId3"/>
              <a:stretch/>
            </p:blipFill>
            <p:spPr>
              <a:xfrm>
                <a:off x="484200" y="2993400"/>
                <a:ext cx="198360" cy="19980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</p:grpSp>
        <p:grpSp>
          <p:nvGrpSpPr>
            <p:cNvPr id="1012" name=""/>
            <p:cNvGrpSpPr/>
            <p:nvPr/>
          </p:nvGrpSpPr>
          <p:grpSpPr>
            <a:xfrm>
              <a:off x="125280" y="2932200"/>
              <a:ext cx="255600" cy="279360"/>
              <a:chOff x="125280" y="2932200"/>
              <a:chExt cx="255600" cy="279360"/>
            </a:xfrm>
          </p:grpSpPr>
          <p:sp>
            <p:nvSpPr>
              <p:cNvPr id="1013" name=""/>
              <p:cNvSpPr/>
              <p:nvPr/>
            </p:nvSpPr>
            <p:spPr>
              <a:xfrm>
                <a:off x="125280" y="2932200"/>
                <a:ext cx="255600" cy="27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4" name="doc_04" descr=""/>
              <p:cNvPicPr/>
              <p:nvPr/>
            </p:nvPicPr>
            <p:blipFill>
              <a:blip r:embed="rId4"/>
              <a:stretch/>
            </p:blipFill>
            <p:spPr>
              <a:xfrm>
                <a:off x="133560" y="2950920"/>
                <a:ext cx="236880" cy="23940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</p:grpSp>
        <p:grpSp>
          <p:nvGrpSpPr>
            <p:cNvPr id="1015" name=""/>
            <p:cNvGrpSpPr/>
            <p:nvPr/>
          </p:nvGrpSpPr>
          <p:grpSpPr>
            <a:xfrm>
              <a:off x="60480" y="3251160"/>
              <a:ext cx="204480" cy="244440"/>
              <a:chOff x="60480" y="3251160"/>
              <a:chExt cx="204480" cy="244440"/>
            </a:xfrm>
          </p:grpSpPr>
          <p:sp>
            <p:nvSpPr>
              <p:cNvPr id="1016" name=""/>
              <p:cNvSpPr/>
              <p:nvPr/>
            </p:nvSpPr>
            <p:spPr>
              <a:xfrm>
                <a:off x="60480" y="3251160"/>
                <a:ext cx="204480" cy="244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7" name="doc_01" descr=""/>
              <p:cNvPicPr/>
              <p:nvPr/>
            </p:nvPicPr>
            <p:blipFill>
              <a:blip r:embed="rId5"/>
              <a:stretch/>
            </p:blipFill>
            <p:spPr>
              <a:xfrm>
                <a:off x="81000" y="3267720"/>
                <a:ext cx="167040" cy="2152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</p:grpSp>
        <p:sp>
          <p:nvSpPr>
            <p:cNvPr id="1018" name=""/>
            <p:cNvSpPr/>
            <p:nvPr/>
          </p:nvSpPr>
          <p:spPr>
            <a:xfrm>
              <a:off x="444600" y="3465360"/>
              <a:ext cx="6094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88840" y="3606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76320" y="1905120"/>
            <a:ext cx="3189240" cy="950760"/>
            <a:chOff x="76320" y="1905120"/>
            <a:chExt cx="3189240" cy="950760"/>
          </a:xfrm>
        </p:grpSpPr>
        <p:sp>
          <p:nvSpPr>
            <p:cNvPr id="1021" name=""/>
            <p:cNvSpPr/>
            <p:nvPr/>
          </p:nvSpPr>
          <p:spPr>
            <a:xfrm>
              <a:off x="1447920" y="1995480"/>
              <a:ext cx="1817640" cy="860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609560" y="1992240"/>
              <a:ext cx="1197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che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80880" y="2222640"/>
              <a:ext cx="1143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"/>
            <p:cNvGrpSpPr/>
            <p:nvPr/>
          </p:nvGrpSpPr>
          <p:grpSpPr>
            <a:xfrm>
              <a:off x="76320" y="1905120"/>
              <a:ext cx="380520" cy="875520"/>
              <a:chOff x="76320" y="1905120"/>
              <a:chExt cx="380520" cy="875520"/>
            </a:xfrm>
          </p:grpSpPr>
          <p:grpSp>
            <p:nvGrpSpPr>
              <p:cNvPr id="1025" name=""/>
              <p:cNvGrpSpPr/>
              <p:nvPr/>
            </p:nvGrpSpPr>
            <p:grpSpPr>
              <a:xfrm>
                <a:off x="76320" y="1905120"/>
                <a:ext cx="187200" cy="73080"/>
                <a:chOff x="76320" y="1905120"/>
                <a:chExt cx="187200" cy="7308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76320" y="1960200"/>
                  <a:ext cx="46080" cy="1800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122400" y="1912680"/>
                  <a:ext cx="20160" cy="2988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186840" y="1905120"/>
                  <a:ext cx="16920" cy="3564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222480" y="1933200"/>
                  <a:ext cx="41040" cy="2196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142560" y="1956600"/>
                <a:ext cx="314280" cy="824040"/>
                <a:chOff x="142560" y="1956600"/>
                <a:chExt cx="314280" cy="82404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199440" y="2092320"/>
                  <a:ext cx="158040" cy="14328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312480" y="1956600"/>
                  <a:ext cx="140760" cy="3207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142560" y="2252520"/>
                  <a:ext cx="127080" cy="19332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245880" y="2243520"/>
                  <a:ext cx="119160" cy="2376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210960" y="2436840"/>
                  <a:ext cx="90360" cy="34380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308520" y="2436840"/>
                  <a:ext cx="148320" cy="2901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037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240" y="1950480"/>
                <a:ext cx="118440" cy="16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8" name=""/>
            <p:cNvSpPr/>
            <p:nvPr/>
          </p:nvSpPr>
          <p:spPr>
            <a:xfrm>
              <a:off x="1168560" y="2552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Operationalise the corporate semantic web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2240" y="457200"/>
            <a:ext cx="9131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25720" indent="-22572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CORESE: CO</a:t>
            </a:r>
            <a:r>
              <a:rPr b="0" lang="en-GB" sz="3000" spc="-1" strike="noStrike">
                <a:solidFill>
                  <a:srgbClr val="000066"/>
                </a:solidFill>
                <a:latin typeface="Arial"/>
              </a:rPr>
              <a:t>nceptual</a:t>
            </a: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 RE</a:t>
            </a:r>
            <a:r>
              <a:rPr b="0" lang="en-GB" sz="3000" spc="-1" strike="noStrike">
                <a:solidFill>
                  <a:srgbClr val="000066"/>
                </a:solidFill>
                <a:latin typeface="Arial"/>
              </a:rPr>
              <a:t>sources</a:t>
            </a: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 S</a:t>
            </a:r>
            <a:r>
              <a:rPr b="0" lang="en-GB" sz="3000" spc="-1" strike="noStrike">
                <a:solidFill>
                  <a:srgbClr val="000066"/>
                </a:solidFill>
                <a:latin typeface="Arial"/>
              </a:rPr>
              <a:t>earch</a:t>
            </a: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 E</a:t>
            </a:r>
            <a:r>
              <a:rPr b="0" lang="en-GB" sz="3000" spc="-1" strike="noStrike">
                <a:solidFill>
                  <a:srgbClr val="000066"/>
                </a:solidFill>
                <a:latin typeface="Arial"/>
              </a:rPr>
              <a:t>ngine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526680" indent="-15012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RDF(S) for schema, annotations, rules</a:t>
            </a:r>
            <a:r>
              <a:rPr b="0" lang="en-GB" sz="2600" spc="-1" strike="noStrike" baseline="30000">
                <a:solidFill>
                  <a:srgbClr val="000066"/>
                </a:solidFill>
                <a:latin typeface="Arial"/>
              </a:rPr>
              <a:t>(+) 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, queries</a:t>
            </a:r>
            <a:r>
              <a:rPr b="0" lang="en-GB" sz="2600" spc="-1" strike="noStrike" baseline="30000">
                <a:solidFill>
                  <a:srgbClr val="000066"/>
                </a:solidFill>
                <a:latin typeface="Arial"/>
              </a:rPr>
              <a:t>(+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26680" indent="-15012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Light weight component &amp; API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3354480" y="1925640"/>
            <a:ext cx="3167280" cy="4262760"/>
            <a:chOff x="3354480" y="1925640"/>
            <a:chExt cx="3167280" cy="4262760"/>
          </a:xfrm>
        </p:grpSpPr>
        <p:sp>
          <p:nvSpPr>
            <p:cNvPr id="1042" name=""/>
            <p:cNvSpPr/>
            <p:nvPr/>
          </p:nvSpPr>
          <p:spPr>
            <a:xfrm>
              <a:off x="3354480" y="1925640"/>
              <a:ext cx="3090600" cy="4191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294160" y="5789520"/>
              <a:ext cx="122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R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526120" y="1917720"/>
            <a:ext cx="2274480" cy="4841280"/>
            <a:chOff x="2526120" y="1917720"/>
            <a:chExt cx="2274480" cy="4841280"/>
          </a:xfrm>
        </p:grpSpPr>
        <p:grpSp>
          <p:nvGrpSpPr>
            <p:cNvPr id="1045" name=""/>
            <p:cNvGrpSpPr/>
            <p:nvPr/>
          </p:nvGrpSpPr>
          <p:grpSpPr>
            <a:xfrm>
              <a:off x="2526120" y="1917720"/>
              <a:ext cx="1572120" cy="4841280"/>
              <a:chOff x="2526120" y="1917720"/>
              <a:chExt cx="1572120" cy="4841280"/>
            </a:xfrm>
          </p:grpSpPr>
          <p:sp>
            <p:nvSpPr>
              <p:cNvPr id="1046" name=""/>
              <p:cNvSpPr/>
              <p:nvPr/>
            </p:nvSpPr>
            <p:spPr>
              <a:xfrm>
                <a:off x="3354480" y="1917720"/>
                <a:ext cx="0" cy="4481640"/>
              </a:xfrm>
              <a:prstGeom prst="line">
                <a:avLst/>
              </a:prstGeom>
              <a:ln w="2844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526120" y="6299280"/>
                <a:ext cx="157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Transl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2808360" y="1936800"/>
              <a:ext cx="1992240" cy="4116240"/>
              <a:chOff x="2808360" y="1936800"/>
              <a:chExt cx="1992240" cy="4116240"/>
            </a:xfrm>
          </p:grpSpPr>
          <p:sp>
            <p:nvSpPr>
              <p:cNvPr id="1049" name=""/>
              <p:cNvSpPr/>
              <p:nvPr/>
            </p:nvSpPr>
            <p:spPr>
              <a:xfrm>
                <a:off x="3516480" y="2009880"/>
                <a:ext cx="1250640" cy="8460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484080" y="1936800"/>
                <a:ext cx="1247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Suppor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in C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530520" y="2940120"/>
                <a:ext cx="1212840" cy="8460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563640" y="2868480"/>
                <a:ext cx="1087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of C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519360" y="4255920"/>
                <a:ext cx="1214640" cy="8463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505320" y="4267080"/>
                <a:ext cx="1295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CGs Ru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808360" y="2225520"/>
                <a:ext cx="861840" cy="430200"/>
              </a:xfrm>
              <a:custGeom>
                <a:avLst/>
                <a:gdLst>
                  <a:gd name="textAreaLeft" fmla="*/ 134640 w 861840"/>
                  <a:gd name="textAreaRight" fmla="*/ 754200 w 861840"/>
                  <a:gd name="textAreaTop" fmla="*/ 107640 h 430200"/>
                  <a:gd name="textAreaBottom" fmla="*/ 32292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808360" y="3041640"/>
                <a:ext cx="861840" cy="426960"/>
              </a:xfrm>
              <a:custGeom>
                <a:avLst/>
                <a:gdLst>
                  <a:gd name="textAreaLeft" fmla="*/ 134640 w 861840"/>
                  <a:gd name="textAreaRight" fmla="*/ 754200 w 861840"/>
                  <a:gd name="textAreaTop" fmla="*/ 106560 h 426960"/>
                  <a:gd name="textAreaBottom" fmla="*/ 320400 h 42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813040" y="4438800"/>
                <a:ext cx="853920" cy="430200"/>
              </a:xfrm>
              <a:custGeom>
                <a:avLst/>
                <a:gdLst>
                  <a:gd name="textAreaLeft" fmla="*/ 133200 w 853920"/>
                  <a:gd name="textAreaRight" fmla="*/ 747360 w 853920"/>
                  <a:gd name="textAreaTop" fmla="*/ 107640 h 430200"/>
                  <a:gd name="textAreaBottom" fmla="*/ 32292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517920" y="5207040"/>
                <a:ext cx="1214280" cy="8460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588480" y="5106960"/>
                <a:ext cx="1011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C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Que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811600" y="5375160"/>
                <a:ext cx="853920" cy="430200"/>
              </a:xfrm>
              <a:custGeom>
                <a:avLst/>
                <a:gdLst>
                  <a:gd name="textAreaLeft" fmla="*/ 133200 w 853920"/>
                  <a:gd name="textAreaRight" fmla="*/ 747360 w 853920"/>
                  <a:gd name="textAreaTop" fmla="*/ 107640 h 430200"/>
                  <a:gd name="textAreaBottom" fmla="*/ 32292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1" name=""/>
          <p:cNvGrpSpPr/>
          <p:nvPr/>
        </p:nvGrpSpPr>
        <p:grpSpPr>
          <a:xfrm>
            <a:off x="3313080" y="3619440"/>
            <a:ext cx="1649160" cy="758880"/>
            <a:chOff x="3313080" y="3619440"/>
            <a:chExt cx="1649160" cy="758880"/>
          </a:xfrm>
        </p:grpSpPr>
        <p:sp>
          <p:nvSpPr>
            <p:cNvPr id="1062" name=""/>
            <p:cNvSpPr/>
            <p:nvPr/>
          </p:nvSpPr>
          <p:spPr>
            <a:xfrm flipH="1">
              <a:off x="3354120" y="3905280"/>
              <a:ext cx="160812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13080" y="3833640"/>
              <a:ext cx="12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3300"/>
                  </a:solidFill>
                  <a:latin typeface="Times New Roman"/>
                </a:rPr>
                <a:t>Infer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16200000">
              <a:off x="4268520" y="3865320"/>
              <a:ext cx="758880" cy="266760"/>
            </a:xfrm>
            <a:prstGeom prst="rightArrow">
              <a:avLst>
                <a:gd name="adj1" fmla="val 50000"/>
                <a:gd name="adj2" fmla="val 71120"/>
              </a:avLst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4146120" y="1917720"/>
            <a:ext cx="2122920" cy="4841280"/>
            <a:chOff x="4146120" y="1917720"/>
            <a:chExt cx="2122920" cy="4841280"/>
          </a:xfrm>
        </p:grpSpPr>
        <p:sp>
          <p:nvSpPr>
            <p:cNvPr id="1066" name=""/>
            <p:cNvSpPr/>
            <p:nvPr/>
          </p:nvSpPr>
          <p:spPr>
            <a:xfrm>
              <a:off x="5051520" y="2944800"/>
              <a:ext cx="1217520" cy="8413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153040" y="2928960"/>
              <a:ext cx="108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es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in C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952880" y="1917720"/>
              <a:ext cx="0" cy="448308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146120" y="629928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Proj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5400000">
              <a:off x="4709880" y="2144520"/>
              <a:ext cx="716040" cy="95400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439" stAng="10800000" swAng="5400000"/>
                  <a:lnTo>
                    <a:pt x="14846" y="3721"/>
                  </a:lnTo>
                  <a:lnTo>
                    <a:pt x="14846" y="0"/>
                  </a:lnTo>
                  <a:lnTo>
                    <a:pt x="21600" y="6079"/>
                  </a:lnTo>
                  <a:lnTo>
                    <a:pt x="14846" y="12158"/>
                  </a:lnTo>
                  <a:lnTo>
                    <a:pt x="14846" y="8437"/>
                  </a:lnTo>
                  <a:lnTo>
                    <a:pt x="12427" y="8437"/>
                  </a:lnTo>
                  <a:arcTo wR="7711" hR="3723" stAng="16200000" swAng="-5400000"/>
                  <a:lnTo>
                    <a:pt x="4716" y="216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591080" y="3110040"/>
              <a:ext cx="706320" cy="460080"/>
            </a:xfrm>
            <a:prstGeom prst="rightArrow">
              <a:avLst>
                <a:gd name="adj1" fmla="val 50000"/>
                <a:gd name="adj2" fmla="val 38380"/>
              </a:avLst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 rot="16200000">
              <a:off x="4170960" y="4165560"/>
              <a:ext cx="1792440" cy="955440"/>
            </a:xfrm>
            <a:custGeom>
              <a:avLst/>
              <a:gdLst>
                <a:gd name="textAreaLeft" fmla="*/ 0 w 1792440"/>
                <a:gd name="textAreaRight" fmla="*/ 1792800 w 1792440"/>
                <a:gd name="textAreaTop" fmla="*/ 360 h 955440"/>
                <a:gd name="textAreaBottom" fmla="*/ 9561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783" stAng="10800000" swAng="5400000"/>
                  <a:lnTo>
                    <a:pt x="18347" y="4377"/>
                  </a:lnTo>
                  <a:lnTo>
                    <a:pt x="18347" y="0"/>
                  </a:lnTo>
                  <a:lnTo>
                    <a:pt x="21600" y="6079"/>
                  </a:lnTo>
                  <a:lnTo>
                    <a:pt x="18347" y="12158"/>
                  </a:lnTo>
                  <a:lnTo>
                    <a:pt x="18347" y="7781"/>
                  </a:lnTo>
                  <a:lnTo>
                    <a:pt x="12427" y="7781"/>
                  </a:lnTo>
                  <a:arcTo wR="9023" hR="4379" stAng="16200000" swAng="-5400000"/>
                  <a:lnTo>
                    <a:pt x="3404" y="216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5620320" y="1917720"/>
            <a:ext cx="3496320" cy="4841280"/>
            <a:chOff x="5620320" y="1917720"/>
            <a:chExt cx="3496320" cy="4841280"/>
          </a:xfrm>
        </p:grpSpPr>
        <p:grpSp>
          <p:nvGrpSpPr>
            <p:cNvPr id="1074" name=""/>
            <p:cNvGrpSpPr/>
            <p:nvPr/>
          </p:nvGrpSpPr>
          <p:grpSpPr>
            <a:xfrm>
              <a:off x="6576480" y="2940120"/>
              <a:ext cx="2540160" cy="847800"/>
              <a:chOff x="6576480" y="2940120"/>
              <a:chExt cx="2540160" cy="847800"/>
            </a:xfrm>
          </p:grpSpPr>
          <p:sp>
            <p:nvSpPr>
              <p:cNvPr id="1075" name=""/>
              <p:cNvSpPr/>
              <p:nvPr/>
            </p:nvSpPr>
            <p:spPr>
              <a:xfrm>
                <a:off x="6605640" y="2940120"/>
                <a:ext cx="1446120" cy="8460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576480" y="2962440"/>
                <a:ext cx="1418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esult 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D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7" name=""/>
              <p:cNvGrpSpPr/>
              <p:nvPr/>
            </p:nvGrpSpPr>
            <p:grpSpPr>
              <a:xfrm>
                <a:off x="8686440" y="2971800"/>
                <a:ext cx="430200" cy="758880"/>
                <a:chOff x="8686440" y="2971800"/>
                <a:chExt cx="430200" cy="758880"/>
              </a:xfrm>
            </p:grpSpPr>
            <p:sp>
              <p:nvSpPr>
                <p:cNvPr id="1078" name=""/>
                <p:cNvSpPr/>
                <p:nvPr/>
              </p:nvSpPr>
              <p:spPr>
                <a:xfrm flipH="1">
                  <a:off x="8811000" y="3013920"/>
                  <a:ext cx="168120" cy="16560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H="1">
                  <a:off x="8922240" y="2971800"/>
                  <a:ext cx="194040" cy="26568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H="1">
                  <a:off x="8832600" y="3191760"/>
                  <a:ext cx="100800" cy="2491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H="1">
                  <a:off x="8731440" y="3198960"/>
                  <a:ext cx="155160" cy="19152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H="1">
                  <a:off x="8686080" y="3416040"/>
                  <a:ext cx="188280" cy="30960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H="1">
                  <a:off x="8866080" y="3415320"/>
                  <a:ext cx="126360" cy="3153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4" name=""/>
              <p:cNvSpPr/>
              <p:nvPr/>
            </p:nvSpPr>
            <p:spPr>
              <a:xfrm>
                <a:off x="8229600" y="3429000"/>
                <a:ext cx="609480" cy="3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8153280" y="34290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6" name=""/>
            <p:cNvSpPr/>
            <p:nvPr/>
          </p:nvSpPr>
          <p:spPr>
            <a:xfrm>
              <a:off x="6451560" y="1917720"/>
              <a:ext cx="0" cy="448164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620320" y="6299280"/>
              <a:ext cx="157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Trans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110280" y="3170160"/>
              <a:ext cx="696960" cy="426960"/>
            </a:xfrm>
            <a:custGeom>
              <a:avLst/>
              <a:gdLst>
                <a:gd name="textAreaLeft" fmla="*/ 108720 w 696960"/>
                <a:gd name="textAreaRight" fmla="*/ 586080 w 696960"/>
                <a:gd name="textAreaTop" fmla="*/ 118800 h 426960"/>
                <a:gd name="textAreaBottom" fmla="*/ 308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022"/>
                  </a:moveTo>
                  <a:lnTo>
                    <a:pt x="13826" y="6022"/>
                  </a:lnTo>
                  <a:lnTo>
                    <a:pt x="13826" y="0"/>
                  </a:lnTo>
                  <a:lnTo>
                    <a:pt x="21600" y="10800"/>
                  </a:lnTo>
                  <a:lnTo>
                    <a:pt x="13826" y="21600"/>
                  </a:lnTo>
                  <a:lnTo>
                    <a:pt x="13826" y="15578"/>
                  </a:lnTo>
                  <a:lnTo>
                    <a:pt x="3375" y="15578"/>
                  </a:lnTo>
                  <a:close/>
                </a:path>
                <a:path w="21600" h="21600">
                  <a:moveTo>
                    <a:pt x="0" y="6022"/>
                  </a:moveTo>
                  <a:lnTo>
                    <a:pt x="675" y="6022"/>
                  </a:lnTo>
                  <a:lnTo>
                    <a:pt x="675" y="15578"/>
                  </a:lnTo>
                  <a:lnTo>
                    <a:pt x="0" y="15578"/>
                  </a:lnTo>
                  <a:close/>
                </a:path>
                <a:path w="21600" h="21600">
                  <a:moveTo>
                    <a:pt x="1350" y="6022"/>
                  </a:moveTo>
                  <a:lnTo>
                    <a:pt x="2700" y="6022"/>
                  </a:lnTo>
                  <a:lnTo>
                    <a:pt x="2700" y="15578"/>
                  </a:lnTo>
                  <a:lnTo>
                    <a:pt x="1350" y="15578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CEBB-1DDA-4BD3-B544-101F2C5FE5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MAS Architecture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1219320" y="965160"/>
            <a:ext cx="7772400" cy="4419720"/>
            <a:chOff x="1219320" y="965160"/>
            <a:chExt cx="7772400" cy="4419720"/>
          </a:xfrm>
        </p:grpSpPr>
        <p:grpSp>
          <p:nvGrpSpPr>
            <p:cNvPr id="1091" name=""/>
            <p:cNvGrpSpPr/>
            <p:nvPr/>
          </p:nvGrpSpPr>
          <p:grpSpPr>
            <a:xfrm>
              <a:off x="1219320" y="965160"/>
              <a:ext cx="7772400" cy="4380120"/>
              <a:chOff x="1219320" y="965160"/>
              <a:chExt cx="7772400" cy="4380120"/>
            </a:xfrm>
          </p:grpSpPr>
          <p:sp>
            <p:nvSpPr>
              <p:cNvPr id="1092" name=""/>
              <p:cNvSpPr/>
              <p:nvPr/>
            </p:nvSpPr>
            <p:spPr>
              <a:xfrm>
                <a:off x="1219320" y="965160"/>
                <a:ext cx="7772400" cy="438012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3" name=""/>
              <p:cNvGrpSpPr/>
              <p:nvPr/>
            </p:nvGrpSpPr>
            <p:grpSpPr>
              <a:xfrm>
                <a:off x="4335480" y="1044720"/>
                <a:ext cx="1657080" cy="4181400"/>
                <a:chOff x="4335480" y="1044720"/>
                <a:chExt cx="1657080" cy="4181400"/>
              </a:xfrm>
            </p:grpSpPr>
            <p:sp>
              <p:nvSpPr>
                <p:cNvPr id="1094" name=""/>
                <p:cNvSpPr/>
                <p:nvPr/>
              </p:nvSpPr>
              <p:spPr>
                <a:xfrm>
                  <a:off x="4335480" y="1203480"/>
                  <a:ext cx="1500120" cy="4022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494240" y="1044720"/>
                  <a:ext cx="1498320" cy="239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0" bIns="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Mémoire d'entrepris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2025720" y="2398680"/>
                <a:ext cx="6532560" cy="995400"/>
                <a:chOff x="2025720" y="2398680"/>
                <a:chExt cx="6532560" cy="99540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2025720" y="2484360"/>
                  <a:ext cx="6392880" cy="90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6839280" y="2398680"/>
                  <a:ext cx="1719000" cy="238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10800" bIns="10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Courier New"/>
                    </a:rPr>
                    <a:t>Système Multi-Ag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5896080" y="2570400"/>
                  <a:ext cx="789120" cy="1587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2048040" y="3060720"/>
                  <a:ext cx="66996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2441880" y="2621160"/>
                  <a:ext cx="828720" cy="1760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02" name="agent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14720" y="271152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1103" name=""/>
                <p:cNvGrpSpPr/>
                <p:nvPr/>
              </p:nvGrpSpPr>
              <p:grpSpPr>
                <a:xfrm>
                  <a:off x="5992920" y="2718000"/>
                  <a:ext cx="908280" cy="636120"/>
                  <a:chOff x="5992920" y="2718000"/>
                  <a:chExt cx="908280" cy="636120"/>
                </a:xfrm>
              </p:grpSpPr>
              <p:sp>
                <p:nvSpPr>
                  <p:cNvPr id="1104" name=""/>
                  <p:cNvSpPr/>
                  <p:nvPr/>
                </p:nvSpPr>
                <p:spPr>
                  <a:xfrm>
                    <a:off x="5992920" y="3078000"/>
                    <a:ext cx="908280" cy="27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group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d'intérêt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05" name="agen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69040" y="2718000"/>
                    <a:ext cx="311760" cy="31392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grpSp>
            <p:sp>
              <p:nvSpPr>
                <p:cNvPr id="1106" name=""/>
                <p:cNvSpPr/>
                <p:nvPr/>
              </p:nvSpPr>
              <p:spPr>
                <a:xfrm>
                  <a:off x="4335840" y="2486160"/>
                  <a:ext cx="1500120" cy="9079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07" name="agent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54480" y="27622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108" name=""/>
                <p:cNvSpPr/>
                <p:nvPr/>
              </p:nvSpPr>
              <p:spPr>
                <a:xfrm>
                  <a:off x="3073680" y="3116520"/>
                  <a:ext cx="9079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 Ontologie et Modèle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6901200" y="3113280"/>
                  <a:ext cx="8287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7374240" y="2673360"/>
                  <a:ext cx="828720" cy="1634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11" name="agen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47080" y="27640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1112" name=""/>
                <p:cNvGrpSpPr/>
                <p:nvPr/>
              </p:nvGrpSpPr>
              <p:grpSpPr>
                <a:xfrm>
                  <a:off x="3862800" y="2530440"/>
                  <a:ext cx="907920" cy="635040"/>
                  <a:chOff x="3862800" y="2530440"/>
                  <a:chExt cx="907920" cy="635040"/>
                </a:xfrm>
              </p:grpSpPr>
              <p:pic>
                <p:nvPicPr>
                  <p:cNvPr id="1113" name="agent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38920" y="2530440"/>
                    <a:ext cx="311760" cy="3142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  <p:sp>
                <p:nvSpPr>
                  <p:cNvPr id="1114" name=""/>
                  <p:cNvSpPr/>
                  <p:nvPr/>
                </p:nvSpPr>
                <p:spPr>
                  <a:xfrm>
                    <a:off x="3862800" y="2889000"/>
                    <a:ext cx="907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d'inter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connexio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5" name=""/>
            <p:cNvGrpSpPr/>
            <p:nvPr/>
          </p:nvGrpSpPr>
          <p:grpSpPr>
            <a:xfrm>
              <a:off x="1376280" y="3433680"/>
              <a:ext cx="1101240" cy="1552680"/>
              <a:chOff x="1376280" y="3433680"/>
              <a:chExt cx="1101240" cy="1552680"/>
            </a:xfrm>
          </p:grpSpPr>
          <p:sp>
            <p:nvSpPr>
              <p:cNvPr id="1116" name=""/>
              <p:cNvSpPr/>
              <p:nvPr/>
            </p:nvSpPr>
            <p:spPr>
              <a:xfrm>
                <a:off x="1376280" y="4389480"/>
                <a:ext cx="107460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ngénieur d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a connaiss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7" name=""/>
              <p:cNvGrpSpPr/>
              <p:nvPr/>
            </p:nvGrpSpPr>
            <p:grpSpPr>
              <a:xfrm>
                <a:off x="2047680" y="3433680"/>
                <a:ext cx="429840" cy="1181160"/>
                <a:chOff x="2047680" y="3433680"/>
                <a:chExt cx="429840" cy="1181160"/>
              </a:xfrm>
            </p:grpSpPr>
            <p:grpSp>
              <p:nvGrpSpPr>
                <p:cNvPr id="1118" name=""/>
                <p:cNvGrpSpPr/>
                <p:nvPr/>
              </p:nvGrpSpPr>
              <p:grpSpPr>
                <a:xfrm>
                  <a:off x="2047680" y="3433680"/>
                  <a:ext cx="210960" cy="97920"/>
                  <a:chOff x="2047680" y="3433680"/>
                  <a:chExt cx="210960" cy="97920"/>
                </a:xfrm>
              </p:grpSpPr>
              <p:sp>
                <p:nvSpPr>
                  <p:cNvPr id="1119" name=""/>
                  <p:cNvSpPr/>
                  <p:nvPr/>
                </p:nvSpPr>
                <p:spPr>
                  <a:xfrm>
                    <a:off x="2047680" y="3507480"/>
                    <a:ext cx="518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69">
                        <a:moveTo>
                          <a:pt x="149" y="69"/>
                        </a:moveTo>
                        <a:lnTo>
                          <a:pt x="25" y="48"/>
                        </a:lnTo>
                        <a:lnTo>
                          <a:pt x="0" y="23"/>
                        </a:lnTo>
                        <a:lnTo>
                          <a:pt x="10" y="2"/>
                        </a:lnTo>
                        <a:lnTo>
                          <a:pt x="39" y="0"/>
                        </a:lnTo>
                        <a:lnTo>
                          <a:pt x="149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2099520" y="3444120"/>
                    <a:ext cx="2268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15">
                        <a:moveTo>
                          <a:pt x="66" y="115"/>
                        </a:moveTo>
                        <a:lnTo>
                          <a:pt x="0" y="42"/>
                        </a:lnTo>
                        <a:lnTo>
                          <a:pt x="7" y="11"/>
                        </a:lnTo>
                        <a:lnTo>
                          <a:pt x="39" y="0"/>
                        </a:lnTo>
                        <a:lnTo>
                          <a:pt x="57" y="22"/>
                        </a:lnTo>
                        <a:lnTo>
                          <a:pt x="66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2172240" y="3433680"/>
                    <a:ext cx="194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38">
                        <a:moveTo>
                          <a:pt x="9" y="138"/>
                        </a:moveTo>
                        <a:lnTo>
                          <a:pt x="0" y="35"/>
                        </a:lnTo>
                        <a:lnTo>
                          <a:pt x="30" y="0"/>
                        </a:lnTo>
                        <a:lnTo>
                          <a:pt x="56" y="15"/>
                        </a:lnTo>
                        <a:lnTo>
                          <a:pt x="52" y="42"/>
                        </a:lnTo>
                        <a:lnTo>
                          <a:pt x="9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2212560" y="3471120"/>
                    <a:ext cx="46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86">
                        <a:moveTo>
                          <a:pt x="0" y="86"/>
                        </a:moveTo>
                        <a:lnTo>
                          <a:pt x="100" y="0"/>
                        </a:lnTo>
                        <a:lnTo>
                          <a:pt x="135" y="17"/>
                        </a:lnTo>
                        <a:lnTo>
                          <a:pt x="132" y="45"/>
                        </a:lnTo>
                        <a:lnTo>
                          <a:pt x="114" y="59"/>
                        </a:lnTo>
                        <a:lnTo>
                          <a:pt x="0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3" name=""/>
                <p:cNvGrpSpPr/>
                <p:nvPr/>
              </p:nvGrpSpPr>
              <p:grpSpPr>
                <a:xfrm>
                  <a:off x="2122200" y="3503520"/>
                  <a:ext cx="355320" cy="1111320"/>
                  <a:chOff x="2122200" y="3503520"/>
                  <a:chExt cx="355320" cy="1111320"/>
                </a:xfrm>
              </p:grpSpPr>
              <p:sp>
                <p:nvSpPr>
                  <p:cNvPr id="1124" name=""/>
                  <p:cNvSpPr/>
                  <p:nvPr/>
                </p:nvSpPr>
                <p:spPr>
                  <a:xfrm>
                    <a:off x="2186280" y="3686400"/>
                    <a:ext cx="17856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54">
                        <a:moveTo>
                          <a:pt x="366" y="160"/>
                        </a:moveTo>
                        <a:lnTo>
                          <a:pt x="297" y="56"/>
                        </a:lnTo>
                        <a:lnTo>
                          <a:pt x="228" y="0"/>
                        </a:lnTo>
                        <a:lnTo>
                          <a:pt x="145" y="0"/>
                        </a:lnTo>
                        <a:lnTo>
                          <a:pt x="55" y="36"/>
                        </a:lnTo>
                        <a:lnTo>
                          <a:pt x="14" y="97"/>
                        </a:lnTo>
                        <a:lnTo>
                          <a:pt x="0" y="181"/>
                        </a:lnTo>
                        <a:lnTo>
                          <a:pt x="14" y="291"/>
                        </a:lnTo>
                        <a:lnTo>
                          <a:pt x="69" y="416"/>
                        </a:lnTo>
                        <a:lnTo>
                          <a:pt x="166" y="499"/>
                        </a:lnTo>
                        <a:lnTo>
                          <a:pt x="241" y="540"/>
                        </a:lnTo>
                        <a:lnTo>
                          <a:pt x="318" y="554"/>
                        </a:lnTo>
                        <a:lnTo>
                          <a:pt x="380" y="533"/>
                        </a:lnTo>
                        <a:lnTo>
                          <a:pt x="414" y="499"/>
                        </a:lnTo>
                        <a:lnTo>
                          <a:pt x="436" y="416"/>
                        </a:lnTo>
                        <a:lnTo>
                          <a:pt x="429" y="319"/>
                        </a:lnTo>
                        <a:lnTo>
                          <a:pt x="407" y="237"/>
                        </a:lnTo>
                        <a:lnTo>
                          <a:pt x="545" y="160"/>
                        </a:lnTo>
                        <a:lnTo>
                          <a:pt x="560" y="126"/>
                        </a:lnTo>
                        <a:lnTo>
                          <a:pt x="545" y="111"/>
                        </a:lnTo>
                        <a:lnTo>
                          <a:pt x="393" y="201"/>
                        </a:lnTo>
                        <a:lnTo>
                          <a:pt x="366" y="1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314080" y="3503520"/>
                    <a:ext cx="158760" cy="43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1238">
                        <a:moveTo>
                          <a:pt x="138" y="1045"/>
                        </a:moveTo>
                        <a:lnTo>
                          <a:pt x="47" y="1113"/>
                        </a:lnTo>
                        <a:lnTo>
                          <a:pt x="20" y="1135"/>
                        </a:lnTo>
                        <a:lnTo>
                          <a:pt x="0" y="1183"/>
                        </a:lnTo>
                        <a:lnTo>
                          <a:pt x="27" y="1231"/>
                        </a:lnTo>
                        <a:lnTo>
                          <a:pt x="54" y="1238"/>
                        </a:lnTo>
                        <a:lnTo>
                          <a:pt x="138" y="1210"/>
                        </a:lnTo>
                        <a:lnTo>
                          <a:pt x="262" y="1113"/>
                        </a:lnTo>
                        <a:lnTo>
                          <a:pt x="373" y="997"/>
                        </a:lnTo>
                        <a:lnTo>
                          <a:pt x="491" y="864"/>
                        </a:lnTo>
                        <a:lnTo>
                          <a:pt x="498" y="809"/>
                        </a:lnTo>
                        <a:lnTo>
                          <a:pt x="498" y="658"/>
                        </a:lnTo>
                        <a:lnTo>
                          <a:pt x="464" y="422"/>
                        </a:lnTo>
                        <a:lnTo>
                          <a:pt x="484" y="284"/>
                        </a:lnTo>
                        <a:lnTo>
                          <a:pt x="498" y="228"/>
                        </a:lnTo>
                        <a:lnTo>
                          <a:pt x="477" y="201"/>
                        </a:lnTo>
                        <a:lnTo>
                          <a:pt x="428" y="173"/>
                        </a:lnTo>
                        <a:lnTo>
                          <a:pt x="394" y="153"/>
                        </a:lnTo>
                        <a:lnTo>
                          <a:pt x="414" y="28"/>
                        </a:lnTo>
                        <a:lnTo>
                          <a:pt x="401" y="0"/>
                        </a:lnTo>
                        <a:lnTo>
                          <a:pt x="373" y="8"/>
                        </a:lnTo>
                        <a:lnTo>
                          <a:pt x="360" y="167"/>
                        </a:lnTo>
                        <a:lnTo>
                          <a:pt x="346" y="208"/>
                        </a:lnTo>
                        <a:lnTo>
                          <a:pt x="339" y="235"/>
                        </a:lnTo>
                        <a:lnTo>
                          <a:pt x="283" y="214"/>
                        </a:lnTo>
                        <a:lnTo>
                          <a:pt x="242" y="214"/>
                        </a:lnTo>
                        <a:lnTo>
                          <a:pt x="242" y="242"/>
                        </a:lnTo>
                        <a:lnTo>
                          <a:pt x="269" y="264"/>
                        </a:lnTo>
                        <a:lnTo>
                          <a:pt x="319" y="264"/>
                        </a:lnTo>
                        <a:lnTo>
                          <a:pt x="353" y="291"/>
                        </a:lnTo>
                        <a:lnTo>
                          <a:pt x="380" y="339"/>
                        </a:lnTo>
                        <a:lnTo>
                          <a:pt x="408" y="416"/>
                        </a:lnTo>
                        <a:lnTo>
                          <a:pt x="428" y="567"/>
                        </a:lnTo>
                        <a:lnTo>
                          <a:pt x="428" y="706"/>
                        </a:lnTo>
                        <a:lnTo>
                          <a:pt x="414" y="816"/>
                        </a:lnTo>
                        <a:lnTo>
                          <a:pt x="387" y="864"/>
                        </a:lnTo>
                        <a:lnTo>
                          <a:pt x="290" y="934"/>
                        </a:lnTo>
                        <a:lnTo>
                          <a:pt x="186" y="997"/>
                        </a:lnTo>
                        <a:lnTo>
                          <a:pt x="138" y="10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2122200" y="3902400"/>
                    <a:ext cx="14328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47">
                        <a:moveTo>
                          <a:pt x="451" y="20"/>
                        </a:moveTo>
                        <a:lnTo>
                          <a:pt x="401" y="0"/>
                        </a:lnTo>
                        <a:lnTo>
                          <a:pt x="297" y="7"/>
                        </a:lnTo>
                        <a:lnTo>
                          <a:pt x="207" y="76"/>
                        </a:lnTo>
                        <a:lnTo>
                          <a:pt x="75" y="221"/>
                        </a:lnTo>
                        <a:lnTo>
                          <a:pt x="7" y="339"/>
                        </a:lnTo>
                        <a:lnTo>
                          <a:pt x="0" y="380"/>
                        </a:lnTo>
                        <a:lnTo>
                          <a:pt x="34" y="457"/>
                        </a:lnTo>
                        <a:lnTo>
                          <a:pt x="110" y="491"/>
                        </a:lnTo>
                        <a:lnTo>
                          <a:pt x="207" y="532"/>
                        </a:lnTo>
                        <a:lnTo>
                          <a:pt x="283" y="552"/>
                        </a:lnTo>
                        <a:lnTo>
                          <a:pt x="318" y="588"/>
                        </a:lnTo>
                        <a:lnTo>
                          <a:pt x="297" y="636"/>
                        </a:lnTo>
                        <a:lnTo>
                          <a:pt x="242" y="692"/>
                        </a:lnTo>
                        <a:lnTo>
                          <a:pt x="173" y="699"/>
                        </a:lnTo>
                        <a:lnTo>
                          <a:pt x="125" y="677"/>
                        </a:lnTo>
                        <a:lnTo>
                          <a:pt x="96" y="699"/>
                        </a:lnTo>
                        <a:lnTo>
                          <a:pt x="103" y="726"/>
                        </a:lnTo>
                        <a:lnTo>
                          <a:pt x="159" y="747"/>
                        </a:lnTo>
                        <a:lnTo>
                          <a:pt x="242" y="747"/>
                        </a:lnTo>
                        <a:lnTo>
                          <a:pt x="318" y="726"/>
                        </a:lnTo>
                        <a:lnTo>
                          <a:pt x="360" y="699"/>
                        </a:lnTo>
                        <a:lnTo>
                          <a:pt x="388" y="650"/>
                        </a:lnTo>
                        <a:lnTo>
                          <a:pt x="401" y="595"/>
                        </a:lnTo>
                        <a:lnTo>
                          <a:pt x="367" y="546"/>
                        </a:lnTo>
                        <a:lnTo>
                          <a:pt x="283" y="511"/>
                        </a:lnTo>
                        <a:lnTo>
                          <a:pt x="186" y="484"/>
                        </a:lnTo>
                        <a:lnTo>
                          <a:pt x="103" y="436"/>
                        </a:lnTo>
                        <a:lnTo>
                          <a:pt x="82" y="394"/>
                        </a:lnTo>
                        <a:lnTo>
                          <a:pt x="96" y="319"/>
                        </a:lnTo>
                        <a:lnTo>
                          <a:pt x="159" y="221"/>
                        </a:lnTo>
                        <a:lnTo>
                          <a:pt x="236" y="165"/>
                        </a:lnTo>
                        <a:lnTo>
                          <a:pt x="353" y="124"/>
                        </a:lnTo>
                        <a:lnTo>
                          <a:pt x="451" y="104"/>
                        </a:lnTo>
                        <a:lnTo>
                          <a:pt x="451" y="48"/>
                        </a:lnTo>
                        <a:lnTo>
                          <a:pt x="45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2238840" y="3890520"/>
                    <a:ext cx="13428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919">
                        <a:moveTo>
                          <a:pt x="367" y="290"/>
                        </a:moveTo>
                        <a:lnTo>
                          <a:pt x="325" y="117"/>
                        </a:lnTo>
                        <a:lnTo>
                          <a:pt x="277" y="34"/>
                        </a:lnTo>
                        <a:lnTo>
                          <a:pt x="173" y="0"/>
                        </a:lnTo>
                        <a:lnTo>
                          <a:pt x="68" y="13"/>
                        </a:lnTo>
                        <a:lnTo>
                          <a:pt x="21" y="104"/>
                        </a:lnTo>
                        <a:lnTo>
                          <a:pt x="27" y="214"/>
                        </a:lnTo>
                        <a:lnTo>
                          <a:pt x="55" y="394"/>
                        </a:lnTo>
                        <a:lnTo>
                          <a:pt x="55" y="552"/>
                        </a:lnTo>
                        <a:lnTo>
                          <a:pt x="21" y="690"/>
                        </a:lnTo>
                        <a:lnTo>
                          <a:pt x="0" y="767"/>
                        </a:lnTo>
                        <a:lnTo>
                          <a:pt x="14" y="835"/>
                        </a:lnTo>
                        <a:lnTo>
                          <a:pt x="62" y="871"/>
                        </a:lnTo>
                        <a:lnTo>
                          <a:pt x="125" y="905"/>
                        </a:lnTo>
                        <a:lnTo>
                          <a:pt x="186" y="919"/>
                        </a:lnTo>
                        <a:lnTo>
                          <a:pt x="263" y="919"/>
                        </a:lnTo>
                        <a:lnTo>
                          <a:pt x="353" y="849"/>
                        </a:lnTo>
                        <a:lnTo>
                          <a:pt x="422" y="704"/>
                        </a:lnTo>
                        <a:lnTo>
                          <a:pt x="415" y="573"/>
                        </a:lnTo>
                        <a:lnTo>
                          <a:pt x="374" y="421"/>
                        </a:lnTo>
                        <a:lnTo>
                          <a:pt x="367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2199240" y="4151160"/>
                    <a:ext cx="10188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1329">
                        <a:moveTo>
                          <a:pt x="305" y="21"/>
                        </a:moveTo>
                        <a:lnTo>
                          <a:pt x="223" y="0"/>
                        </a:lnTo>
                        <a:lnTo>
                          <a:pt x="174" y="21"/>
                        </a:lnTo>
                        <a:lnTo>
                          <a:pt x="153" y="89"/>
                        </a:lnTo>
                        <a:lnTo>
                          <a:pt x="174" y="470"/>
                        </a:lnTo>
                        <a:lnTo>
                          <a:pt x="174" y="560"/>
                        </a:lnTo>
                        <a:lnTo>
                          <a:pt x="147" y="727"/>
                        </a:lnTo>
                        <a:lnTo>
                          <a:pt x="140" y="920"/>
                        </a:lnTo>
                        <a:lnTo>
                          <a:pt x="153" y="1017"/>
                        </a:lnTo>
                        <a:lnTo>
                          <a:pt x="140" y="1071"/>
                        </a:lnTo>
                        <a:lnTo>
                          <a:pt x="42" y="1155"/>
                        </a:lnTo>
                        <a:lnTo>
                          <a:pt x="0" y="1259"/>
                        </a:lnTo>
                        <a:lnTo>
                          <a:pt x="8" y="1293"/>
                        </a:lnTo>
                        <a:lnTo>
                          <a:pt x="84" y="1329"/>
                        </a:lnTo>
                        <a:lnTo>
                          <a:pt x="104" y="1314"/>
                        </a:lnTo>
                        <a:lnTo>
                          <a:pt x="112" y="1252"/>
                        </a:lnTo>
                        <a:lnTo>
                          <a:pt x="133" y="1162"/>
                        </a:lnTo>
                        <a:lnTo>
                          <a:pt x="167" y="1121"/>
                        </a:lnTo>
                        <a:lnTo>
                          <a:pt x="208" y="1093"/>
                        </a:lnTo>
                        <a:lnTo>
                          <a:pt x="244" y="1058"/>
                        </a:lnTo>
                        <a:lnTo>
                          <a:pt x="251" y="1030"/>
                        </a:lnTo>
                        <a:lnTo>
                          <a:pt x="230" y="996"/>
                        </a:lnTo>
                        <a:lnTo>
                          <a:pt x="208" y="976"/>
                        </a:lnTo>
                        <a:lnTo>
                          <a:pt x="194" y="892"/>
                        </a:lnTo>
                        <a:lnTo>
                          <a:pt x="208" y="719"/>
                        </a:lnTo>
                        <a:lnTo>
                          <a:pt x="257" y="519"/>
                        </a:lnTo>
                        <a:lnTo>
                          <a:pt x="305" y="359"/>
                        </a:lnTo>
                        <a:lnTo>
                          <a:pt x="320" y="166"/>
                        </a:lnTo>
                        <a:lnTo>
                          <a:pt x="30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2309760" y="4151160"/>
                    <a:ext cx="16776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1121">
                        <a:moveTo>
                          <a:pt x="172" y="166"/>
                        </a:moveTo>
                        <a:lnTo>
                          <a:pt x="159" y="55"/>
                        </a:lnTo>
                        <a:lnTo>
                          <a:pt x="97" y="0"/>
                        </a:lnTo>
                        <a:lnTo>
                          <a:pt x="7" y="7"/>
                        </a:lnTo>
                        <a:lnTo>
                          <a:pt x="0" y="55"/>
                        </a:lnTo>
                        <a:lnTo>
                          <a:pt x="7" y="159"/>
                        </a:lnTo>
                        <a:lnTo>
                          <a:pt x="55" y="318"/>
                        </a:lnTo>
                        <a:lnTo>
                          <a:pt x="90" y="435"/>
                        </a:lnTo>
                        <a:lnTo>
                          <a:pt x="131" y="594"/>
                        </a:lnTo>
                        <a:lnTo>
                          <a:pt x="145" y="732"/>
                        </a:lnTo>
                        <a:lnTo>
                          <a:pt x="145" y="843"/>
                        </a:lnTo>
                        <a:lnTo>
                          <a:pt x="124" y="926"/>
                        </a:lnTo>
                        <a:lnTo>
                          <a:pt x="104" y="954"/>
                        </a:lnTo>
                        <a:lnTo>
                          <a:pt x="104" y="981"/>
                        </a:lnTo>
                        <a:lnTo>
                          <a:pt x="131" y="1024"/>
                        </a:lnTo>
                        <a:lnTo>
                          <a:pt x="179" y="1037"/>
                        </a:lnTo>
                        <a:lnTo>
                          <a:pt x="256" y="1037"/>
                        </a:lnTo>
                        <a:lnTo>
                          <a:pt x="394" y="1071"/>
                        </a:lnTo>
                        <a:lnTo>
                          <a:pt x="435" y="1121"/>
                        </a:lnTo>
                        <a:lnTo>
                          <a:pt x="498" y="1092"/>
                        </a:lnTo>
                        <a:lnTo>
                          <a:pt x="526" y="1024"/>
                        </a:lnTo>
                        <a:lnTo>
                          <a:pt x="498" y="996"/>
                        </a:lnTo>
                        <a:lnTo>
                          <a:pt x="380" y="981"/>
                        </a:lnTo>
                        <a:lnTo>
                          <a:pt x="249" y="981"/>
                        </a:lnTo>
                        <a:lnTo>
                          <a:pt x="193" y="974"/>
                        </a:lnTo>
                        <a:lnTo>
                          <a:pt x="179" y="933"/>
                        </a:lnTo>
                        <a:lnTo>
                          <a:pt x="193" y="857"/>
                        </a:lnTo>
                        <a:lnTo>
                          <a:pt x="201" y="725"/>
                        </a:lnTo>
                        <a:lnTo>
                          <a:pt x="186" y="580"/>
                        </a:lnTo>
                        <a:lnTo>
                          <a:pt x="165" y="388"/>
                        </a:lnTo>
                        <a:lnTo>
                          <a:pt x="172" y="221"/>
                        </a:lnTo>
                        <a:lnTo>
                          <a:pt x="172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30" name="ampoule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086920" y="3494880"/>
                  <a:ext cx="13356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131" name=""/>
            <p:cNvGrpSpPr/>
            <p:nvPr/>
          </p:nvGrpSpPr>
          <p:grpSpPr>
            <a:xfrm>
              <a:off x="1298520" y="1044720"/>
              <a:ext cx="1774800" cy="1433520"/>
              <a:chOff x="1298520" y="1044720"/>
              <a:chExt cx="1774800" cy="1433520"/>
            </a:xfrm>
          </p:grpSpPr>
          <p:sp>
            <p:nvSpPr>
              <p:cNvPr id="1132" name=""/>
              <p:cNvSpPr/>
              <p:nvPr/>
            </p:nvSpPr>
            <p:spPr>
              <a:xfrm>
                <a:off x="1298520" y="2119320"/>
                <a:ext cx="17748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uteur et/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nnotateur de 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3" name=""/>
              <p:cNvGrpSpPr/>
              <p:nvPr/>
            </p:nvGrpSpPr>
            <p:grpSpPr>
              <a:xfrm>
                <a:off x="1850760" y="1044720"/>
                <a:ext cx="789120" cy="1231920"/>
                <a:chOff x="1850760" y="1044720"/>
                <a:chExt cx="789120" cy="1231920"/>
              </a:xfrm>
            </p:grpSpPr>
            <p:grpSp>
              <p:nvGrpSpPr>
                <p:cNvPr id="1134" name=""/>
                <p:cNvGrpSpPr/>
                <p:nvPr/>
              </p:nvGrpSpPr>
              <p:grpSpPr>
                <a:xfrm>
                  <a:off x="2126160" y="1492560"/>
                  <a:ext cx="477360" cy="784080"/>
                  <a:chOff x="2126160" y="1492560"/>
                  <a:chExt cx="477360" cy="784080"/>
                </a:xfrm>
              </p:grpSpPr>
              <p:sp>
                <p:nvSpPr>
                  <p:cNvPr id="1135" name=""/>
                  <p:cNvSpPr/>
                  <p:nvPr/>
                </p:nvSpPr>
                <p:spPr>
                  <a:xfrm>
                    <a:off x="2335320" y="1753200"/>
                    <a:ext cx="1112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1535">
                        <a:moveTo>
                          <a:pt x="182" y="123"/>
                        </a:moveTo>
                        <a:lnTo>
                          <a:pt x="265" y="33"/>
                        </a:lnTo>
                        <a:lnTo>
                          <a:pt x="423" y="0"/>
                        </a:lnTo>
                        <a:lnTo>
                          <a:pt x="558" y="33"/>
                        </a:lnTo>
                        <a:lnTo>
                          <a:pt x="633" y="83"/>
                        </a:lnTo>
                        <a:lnTo>
                          <a:pt x="693" y="183"/>
                        </a:lnTo>
                        <a:lnTo>
                          <a:pt x="746" y="361"/>
                        </a:lnTo>
                        <a:lnTo>
                          <a:pt x="771" y="554"/>
                        </a:lnTo>
                        <a:lnTo>
                          <a:pt x="771" y="899"/>
                        </a:lnTo>
                        <a:lnTo>
                          <a:pt x="693" y="1200"/>
                        </a:lnTo>
                        <a:lnTo>
                          <a:pt x="581" y="1370"/>
                        </a:lnTo>
                        <a:lnTo>
                          <a:pt x="468" y="1468"/>
                        </a:lnTo>
                        <a:lnTo>
                          <a:pt x="340" y="1535"/>
                        </a:lnTo>
                        <a:lnTo>
                          <a:pt x="160" y="1528"/>
                        </a:lnTo>
                        <a:lnTo>
                          <a:pt x="17" y="1425"/>
                        </a:lnTo>
                        <a:lnTo>
                          <a:pt x="0" y="1302"/>
                        </a:lnTo>
                        <a:lnTo>
                          <a:pt x="70" y="1119"/>
                        </a:lnTo>
                        <a:lnTo>
                          <a:pt x="130" y="914"/>
                        </a:lnTo>
                        <a:lnTo>
                          <a:pt x="152" y="649"/>
                        </a:lnTo>
                        <a:lnTo>
                          <a:pt x="115" y="423"/>
                        </a:lnTo>
                        <a:lnTo>
                          <a:pt x="115" y="258"/>
                        </a:lnTo>
                        <a:lnTo>
                          <a:pt x="182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2378520" y="1999800"/>
                    <a:ext cx="12708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1512">
                        <a:moveTo>
                          <a:pt x="293" y="63"/>
                        </a:moveTo>
                        <a:lnTo>
                          <a:pt x="187" y="0"/>
                        </a:lnTo>
                        <a:lnTo>
                          <a:pt x="52" y="0"/>
                        </a:lnTo>
                        <a:lnTo>
                          <a:pt x="0" y="83"/>
                        </a:lnTo>
                        <a:lnTo>
                          <a:pt x="22" y="205"/>
                        </a:lnTo>
                        <a:lnTo>
                          <a:pt x="142" y="325"/>
                        </a:lnTo>
                        <a:lnTo>
                          <a:pt x="390" y="436"/>
                        </a:lnTo>
                        <a:lnTo>
                          <a:pt x="676" y="671"/>
                        </a:lnTo>
                        <a:lnTo>
                          <a:pt x="721" y="774"/>
                        </a:lnTo>
                        <a:lnTo>
                          <a:pt x="698" y="821"/>
                        </a:lnTo>
                        <a:lnTo>
                          <a:pt x="480" y="977"/>
                        </a:lnTo>
                        <a:lnTo>
                          <a:pt x="225" y="1162"/>
                        </a:lnTo>
                        <a:lnTo>
                          <a:pt x="165" y="1242"/>
                        </a:lnTo>
                        <a:lnTo>
                          <a:pt x="165" y="1325"/>
                        </a:lnTo>
                        <a:lnTo>
                          <a:pt x="360" y="1412"/>
                        </a:lnTo>
                        <a:lnTo>
                          <a:pt x="661" y="1512"/>
                        </a:lnTo>
                        <a:lnTo>
                          <a:pt x="766" y="1512"/>
                        </a:lnTo>
                        <a:lnTo>
                          <a:pt x="881" y="1445"/>
                        </a:lnTo>
                        <a:lnTo>
                          <a:pt x="881" y="1392"/>
                        </a:lnTo>
                        <a:lnTo>
                          <a:pt x="796" y="1365"/>
                        </a:lnTo>
                        <a:lnTo>
                          <a:pt x="413" y="1325"/>
                        </a:lnTo>
                        <a:lnTo>
                          <a:pt x="270" y="1290"/>
                        </a:lnTo>
                        <a:lnTo>
                          <a:pt x="255" y="1229"/>
                        </a:lnTo>
                        <a:lnTo>
                          <a:pt x="503" y="1059"/>
                        </a:lnTo>
                        <a:lnTo>
                          <a:pt x="773" y="896"/>
                        </a:lnTo>
                        <a:lnTo>
                          <a:pt x="833" y="836"/>
                        </a:lnTo>
                        <a:lnTo>
                          <a:pt x="856" y="754"/>
                        </a:lnTo>
                        <a:lnTo>
                          <a:pt x="833" y="638"/>
                        </a:lnTo>
                        <a:lnTo>
                          <a:pt x="751" y="551"/>
                        </a:lnTo>
                        <a:lnTo>
                          <a:pt x="480" y="253"/>
                        </a:lnTo>
                        <a:lnTo>
                          <a:pt x="293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2210760" y="1986120"/>
                    <a:ext cx="15840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7" h="1610">
                        <a:moveTo>
                          <a:pt x="596" y="218"/>
                        </a:moveTo>
                        <a:lnTo>
                          <a:pt x="771" y="80"/>
                        </a:lnTo>
                        <a:lnTo>
                          <a:pt x="937" y="0"/>
                        </a:lnTo>
                        <a:lnTo>
                          <a:pt x="1042" y="12"/>
                        </a:lnTo>
                        <a:lnTo>
                          <a:pt x="1097" y="80"/>
                        </a:lnTo>
                        <a:lnTo>
                          <a:pt x="1097" y="155"/>
                        </a:lnTo>
                        <a:lnTo>
                          <a:pt x="1064" y="238"/>
                        </a:lnTo>
                        <a:lnTo>
                          <a:pt x="952" y="285"/>
                        </a:lnTo>
                        <a:lnTo>
                          <a:pt x="724" y="400"/>
                        </a:lnTo>
                        <a:lnTo>
                          <a:pt x="589" y="543"/>
                        </a:lnTo>
                        <a:lnTo>
                          <a:pt x="499" y="713"/>
                        </a:lnTo>
                        <a:lnTo>
                          <a:pt x="476" y="814"/>
                        </a:lnTo>
                        <a:lnTo>
                          <a:pt x="596" y="936"/>
                        </a:lnTo>
                        <a:lnTo>
                          <a:pt x="724" y="1114"/>
                        </a:lnTo>
                        <a:lnTo>
                          <a:pt x="817" y="1277"/>
                        </a:lnTo>
                        <a:lnTo>
                          <a:pt x="839" y="1380"/>
                        </a:lnTo>
                        <a:lnTo>
                          <a:pt x="839" y="1440"/>
                        </a:lnTo>
                        <a:lnTo>
                          <a:pt x="779" y="1480"/>
                        </a:lnTo>
                        <a:lnTo>
                          <a:pt x="589" y="1487"/>
                        </a:lnTo>
                        <a:lnTo>
                          <a:pt x="301" y="1547"/>
                        </a:lnTo>
                        <a:lnTo>
                          <a:pt x="248" y="1602"/>
                        </a:lnTo>
                        <a:lnTo>
                          <a:pt x="203" y="1610"/>
                        </a:lnTo>
                        <a:lnTo>
                          <a:pt x="0" y="1547"/>
                        </a:lnTo>
                        <a:lnTo>
                          <a:pt x="0" y="1487"/>
                        </a:lnTo>
                        <a:lnTo>
                          <a:pt x="90" y="1440"/>
                        </a:lnTo>
                        <a:lnTo>
                          <a:pt x="453" y="1380"/>
                        </a:lnTo>
                        <a:lnTo>
                          <a:pt x="641" y="1400"/>
                        </a:lnTo>
                        <a:lnTo>
                          <a:pt x="734" y="1400"/>
                        </a:lnTo>
                        <a:lnTo>
                          <a:pt x="756" y="1365"/>
                        </a:lnTo>
                        <a:lnTo>
                          <a:pt x="679" y="1214"/>
                        </a:lnTo>
                        <a:lnTo>
                          <a:pt x="521" y="1019"/>
                        </a:lnTo>
                        <a:lnTo>
                          <a:pt x="408" y="876"/>
                        </a:lnTo>
                        <a:lnTo>
                          <a:pt x="363" y="794"/>
                        </a:lnTo>
                        <a:lnTo>
                          <a:pt x="363" y="671"/>
                        </a:lnTo>
                        <a:lnTo>
                          <a:pt x="438" y="468"/>
                        </a:lnTo>
                        <a:lnTo>
                          <a:pt x="506" y="340"/>
                        </a:lnTo>
                        <a:lnTo>
                          <a:pt x="596" y="2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2126160" y="1753920"/>
                    <a:ext cx="21384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2" h="1202">
                        <a:moveTo>
                          <a:pt x="889" y="1202"/>
                        </a:moveTo>
                        <a:lnTo>
                          <a:pt x="981" y="1192"/>
                        </a:lnTo>
                        <a:lnTo>
                          <a:pt x="1009" y="1124"/>
                        </a:lnTo>
                        <a:lnTo>
                          <a:pt x="1034" y="881"/>
                        </a:lnTo>
                        <a:lnTo>
                          <a:pt x="1172" y="596"/>
                        </a:lnTo>
                        <a:lnTo>
                          <a:pt x="1314" y="465"/>
                        </a:lnTo>
                        <a:lnTo>
                          <a:pt x="1482" y="330"/>
                        </a:lnTo>
                        <a:lnTo>
                          <a:pt x="1467" y="235"/>
                        </a:lnTo>
                        <a:lnTo>
                          <a:pt x="1367" y="185"/>
                        </a:lnTo>
                        <a:lnTo>
                          <a:pt x="1242" y="235"/>
                        </a:lnTo>
                        <a:lnTo>
                          <a:pt x="1104" y="373"/>
                        </a:lnTo>
                        <a:lnTo>
                          <a:pt x="976" y="673"/>
                        </a:lnTo>
                        <a:lnTo>
                          <a:pt x="921" y="906"/>
                        </a:lnTo>
                        <a:lnTo>
                          <a:pt x="884" y="1029"/>
                        </a:lnTo>
                        <a:lnTo>
                          <a:pt x="779" y="984"/>
                        </a:lnTo>
                        <a:lnTo>
                          <a:pt x="661" y="783"/>
                        </a:lnTo>
                        <a:lnTo>
                          <a:pt x="563" y="505"/>
                        </a:lnTo>
                        <a:lnTo>
                          <a:pt x="581" y="380"/>
                        </a:lnTo>
                        <a:lnTo>
                          <a:pt x="636" y="248"/>
                        </a:lnTo>
                        <a:lnTo>
                          <a:pt x="658" y="150"/>
                        </a:lnTo>
                        <a:lnTo>
                          <a:pt x="418" y="145"/>
                        </a:lnTo>
                        <a:lnTo>
                          <a:pt x="178" y="105"/>
                        </a:lnTo>
                        <a:lnTo>
                          <a:pt x="65" y="0"/>
                        </a:lnTo>
                        <a:lnTo>
                          <a:pt x="0" y="50"/>
                        </a:lnTo>
                        <a:lnTo>
                          <a:pt x="88" y="230"/>
                        </a:lnTo>
                        <a:lnTo>
                          <a:pt x="280" y="250"/>
                        </a:lnTo>
                        <a:lnTo>
                          <a:pt x="488" y="270"/>
                        </a:lnTo>
                        <a:lnTo>
                          <a:pt x="493" y="428"/>
                        </a:lnTo>
                        <a:lnTo>
                          <a:pt x="513" y="611"/>
                        </a:lnTo>
                        <a:lnTo>
                          <a:pt x="583" y="816"/>
                        </a:lnTo>
                        <a:lnTo>
                          <a:pt x="671" y="1019"/>
                        </a:lnTo>
                        <a:lnTo>
                          <a:pt x="804" y="1154"/>
                        </a:lnTo>
                        <a:lnTo>
                          <a:pt x="889" y="12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2446200" y="1492560"/>
                    <a:ext cx="15732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1625">
                        <a:moveTo>
                          <a:pt x="0" y="1610"/>
                        </a:moveTo>
                        <a:lnTo>
                          <a:pt x="0" y="1503"/>
                        </a:lnTo>
                        <a:lnTo>
                          <a:pt x="67" y="1420"/>
                        </a:lnTo>
                        <a:lnTo>
                          <a:pt x="363" y="1325"/>
                        </a:lnTo>
                        <a:lnTo>
                          <a:pt x="728" y="1245"/>
                        </a:lnTo>
                        <a:lnTo>
                          <a:pt x="939" y="1197"/>
                        </a:lnTo>
                        <a:lnTo>
                          <a:pt x="964" y="1155"/>
                        </a:lnTo>
                        <a:lnTo>
                          <a:pt x="864" y="1034"/>
                        </a:lnTo>
                        <a:lnTo>
                          <a:pt x="666" y="857"/>
                        </a:lnTo>
                        <a:lnTo>
                          <a:pt x="463" y="706"/>
                        </a:lnTo>
                        <a:lnTo>
                          <a:pt x="303" y="626"/>
                        </a:lnTo>
                        <a:lnTo>
                          <a:pt x="213" y="544"/>
                        </a:lnTo>
                        <a:lnTo>
                          <a:pt x="205" y="483"/>
                        </a:lnTo>
                        <a:lnTo>
                          <a:pt x="258" y="428"/>
                        </a:lnTo>
                        <a:lnTo>
                          <a:pt x="385" y="401"/>
                        </a:lnTo>
                        <a:lnTo>
                          <a:pt x="546" y="298"/>
                        </a:lnTo>
                        <a:lnTo>
                          <a:pt x="568" y="198"/>
                        </a:lnTo>
                        <a:lnTo>
                          <a:pt x="568" y="55"/>
                        </a:lnTo>
                        <a:lnTo>
                          <a:pt x="553" y="0"/>
                        </a:lnTo>
                        <a:lnTo>
                          <a:pt x="613" y="13"/>
                        </a:lnTo>
                        <a:lnTo>
                          <a:pt x="698" y="135"/>
                        </a:lnTo>
                        <a:lnTo>
                          <a:pt x="728" y="266"/>
                        </a:lnTo>
                        <a:lnTo>
                          <a:pt x="636" y="361"/>
                        </a:lnTo>
                        <a:lnTo>
                          <a:pt x="553" y="388"/>
                        </a:lnTo>
                        <a:lnTo>
                          <a:pt x="393" y="463"/>
                        </a:lnTo>
                        <a:lnTo>
                          <a:pt x="363" y="504"/>
                        </a:lnTo>
                        <a:lnTo>
                          <a:pt x="385" y="544"/>
                        </a:lnTo>
                        <a:lnTo>
                          <a:pt x="531" y="654"/>
                        </a:lnTo>
                        <a:lnTo>
                          <a:pt x="683" y="714"/>
                        </a:lnTo>
                        <a:lnTo>
                          <a:pt x="886" y="869"/>
                        </a:lnTo>
                        <a:lnTo>
                          <a:pt x="1024" y="1054"/>
                        </a:lnTo>
                        <a:lnTo>
                          <a:pt x="1091" y="1197"/>
                        </a:lnTo>
                        <a:lnTo>
                          <a:pt x="1069" y="1245"/>
                        </a:lnTo>
                        <a:lnTo>
                          <a:pt x="1024" y="1277"/>
                        </a:lnTo>
                        <a:lnTo>
                          <a:pt x="849" y="1340"/>
                        </a:lnTo>
                        <a:lnTo>
                          <a:pt x="501" y="1443"/>
                        </a:lnTo>
                        <a:lnTo>
                          <a:pt x="280" y="1530"/>
                        </a:lnTo>
                        <a:lnTo>
                          <a:pt x="138" y="1605"/>
                        </a:lnTo>
                        <a:lnTo>
                          <a:pt x="45" y="1625"/>
                        </a:lnTo>
                        <a:lnTo>
                          <a:pt x="0" y="16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2291400" y="1536120"/>
                    <a:ext cx="1227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1157">
                        <a:moveTo>
                          <a:pt x="173" y="939"/>
                        </a:moveTo>
                        <a:lnTo>
                          <a:pt x="271" y="1042"/>
                        </a:lnTo>
                        <a:lnTo>
                          <a:pt x="431" y="1137"/>
                        </a:lnTo>
                        <a:lnTo>
                          <a:pt x="566" y="1157"/>
                        </a:lnTo>
                        <a:lnTo>
                          <a:pt x="669" y="1137"/>
                        </a:lnTo>
                        <a:lnTo>
                          <a:pt x="791" y="1057"/>
                        </a:lnTo>
                        <a:lnTo>
                          <a:pt x="836" y="892"/>
                        </a:lnTo>
                        <a:lnTo>
                          <a:pt x="851" y="769"/>
                        </a:lnTo>
                        <a:lnTo>
                          <a:pt x="814" y="654"/>
                        </a:lnTo>
                        <a:lnTo>
                          <a:pt x="744" y="511"/>
                        </a:lnTo>
                        <a:lnTo>
                          <a:pt x="679" y="388"/>
                        </a:lnTo>
                        <a:lnTo>
                          <a:pt x="669" y="361"/>
                        </a:lnTo>
                        <a:lnTo>
                          <a:pt x="699" y="218"/>
                        </a:lnTo>
                        <a:lnTo>
                          <a:pt x="791" y="75"/>
                        </a:lnTo>
                        <a:lnTo>
                          <a:pt x="806" y="33"/>
                        </a:lnTo>
                        <a:lnTo>
                          <a:pt x="759" y="0"/>
                        </a:lnTo>
                        <a:lnTo>
                          <a:pt x="699" y="0"/>
                        </a:lnTo>
                        <a:lnTo>
                          <a:pt x="634" y="185"/>
                        </a:lnTo>
                        <a:lnTo>
                          <a:pt x="604" y="306"/>
                        </a:lnTo>
                        <a:lnTo>
                          <a:pt x="521" y="225"/>
                        </a:lnTo>
                        <a:lnTo>
                          <a:pt x="451" y="163"/>
                        </a:lnTo>
                        <a:lnTo>
                          <a:pt x="308" y="115"/>
                        </a:lnTo>
                        <a:lnTo>
                          <a:pt x="203" y="115"/>
                        </a:lnTo>
                        <a:lnTo>
                          <a:pt x="45" y="185"/>
                        </a:lnTo>
                        <a:lnTo>
                          <a:pt x="0" y="381"/>
                        </a:lnTo>
                        <a:lnTo>
                          <a:pt x="38" y="634"/>
                        </a:lnTo>
                        <a:lnTo>
                          <a:pt x="105" y="872"/>
                        </a:lnTo>
                        <a:lnTo>
                          <a:pt x="173" y="9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1" name=""/>
                <p:cNvGrpSpPr/>
                <p:nvPr/>
              </p:nvGrpSpPr>
              <p:grpSpPr>
                <a:xfrm>
                  <a:off x="2136960" y="1044720"/>
                  <a:ext cx="236520" cy="239040"/>
                  <a:chOff x="2136960" y="1044720"/>
                  <a:chExt cx="236520" cy="23904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2136960" y="1044720"/>
                    <a:ext cx="236520" cy="2390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43" name="doc_0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63960" y="1066320"/>
                    <a:ext cx="197280" cy="19908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1850760" y="1168200"/>
                  <a:ext cx="255240" cy="278640"/>
                  <a:chOff x="1850760" y="1168200"/>
                  <a:chExt cx="255240" cy="27864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>
                    <a:off x="1850760" y="1168200"/>
                    <a:ext cx="25524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46" name="doc_0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9040" y="1186920"/>
                    <a:ext cx="236520" cy="2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147" name=""/>
                <p:cNvGrpSpPr/>
                <p:nvPr/>
              </p:nvGrpSpPr>
              <p:grpSpPr>
                <a:xfrm>
                  <a:off x="2008440" y="1487160"/>
                  <a:ext cx="204120" cy="245160"/>
                  <a:chOff x="2008440" y="1487160"/>
                  <a:chExt cx="204120" cy="24516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>
                    <a:off x="2008440" y="1487160"/>
                    <a:ext cx="204120" cy="2451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49" name="doc_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28960" y="1503720"/>
                    <a:ext cx="1666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150" name=""/>
                <p:cNvGrpSpPr/>
                <p:nvPr/>
              </p:nvGrpSpPr>
              <p:grpSpPr>
                <a:xfrm>
                  <a:off x="2403000" y="1208160"/>
                  <a:ext cx="236880" cy="278640"/>
                  <a:chOff x="2403000" y="1208160"/>
                  <a:chExt cx="236880" cy="27864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>
                    <a:off x="2403000" y="1208160"/>
                    <a:ext cx="23688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52" name="doc_05gif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1241640"/>
                    <a:ext cx="22500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1153" name=""/>
            <p:cNvGrpSpPr/>
            <p:nvPr/>
          </p:nvGrpSpPr>
          <p:grpSpPr>
            <a:xfrm>
              <a:off x="7570800" y="4191120"/>
              <a:ext cx="1106280" cy="1193760"/>
              <a:chOff x="7570800" y="4191120"/>
              <a:chExt cx="1106280" cy="1193760"/>
            </a:xfrm>
          </p:grpSpPr>
          <p:sp>
            <p:nvSpPr>
              <p:cNvPr id="1154" name=""/>
              <p:cNvSpPr/>
              <p:nvPr/>
            </p:nvSpPr>
            <p:spPr>
              <a:xfrm>
                <a:off x="7570800" y="5137200"/>
                <a:ext cx="1106280" cy="2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Utilisateur fin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5" name=""/>
              <p:cNvGrpSpPr/>
              <p:nvPr/>
            </p:nvGrpSpPr>
            <p:grpSpPr>
              <a:xfrm>
                <a:off x="7729200" y="4270320"/>
                <a:ext cx="430200" cy="903600"/>
                <a:chOff x="7729200" y="4270320"/>
                <a:chExt cx="430200" cy="903600"/>
              </a:xfrm>
            </p:grpSpPr>
            <p:sp>
              <p:nvSpPr>
                <p:cNvPr id="1156" name=""/>
                <p:cNvSpPr/>
                <p:nvPr/>
              </p:nvSpPr>
              <p:spPr>
                <a:xfrm flipH="1">
                  <a:off x="7853760" y="4320720"/>
                  <a:ext cx="168120" cy="19692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flipH="1">
                  <a:off x="7965000" y="4270320"/>
                  <a:ext cx="194040" cy="31644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H="1">
                  <a:off x="7875360" y="4532400"/>
                  <a:ext cx="100800" cy="29664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>
                  <a:off x="7774200" y="4540680"/>
                  <a:ext cx="155160" cy="22788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flipH="1">
                  <a:off x="7728840" y="4799160"/>
                  <a:ext cx="188280" cy="368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H="1">
                  <a:off x="7908840" y="4798440"/>
                  <a:ext cx="126360" cy="37548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2" name=""/>
              <p:cNvGrpSpPr/>
              <p:nvPr/>
            </p:nvGrpSpPr>
            <p:grpSpPr>
              <a:xfrm>
                <a:off x="8162640" y="4191120"/>
                <a:ext cx="473400" cy="396720"/>
                <a:chOff x="8162640" y="4191120"/>
                <a:chExt cx="473400" cy="39672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8162640" y="4191120"/>
                  <a:ext cx="473400" cy="396720"/>
                </a:xfrm>
                <a:prstGeom prst="cloudCallout">
                  <a:avLst>
                    <a:gd name="adj1" fmla="val -75731"/>
                    <a:gd name="adj2" fmla="val 15087"/>
                  </a:avLst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64" name="inter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78920" y="4261320"/>
                  <a:ext cx="2365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165" name=""/>
            <p:cNvGrpSpPr/>
            <p:nvPr/>
          </p:nvGrpSpPr>
          <p:grpSpPr>
            <a:xfrm>
              <a:off x="2639880" y="1455840"/>
              <a:ext cx="1617840" cy="903240"/>
              <a:chOff x="2639880" y="1455840"/>
              <a:chExt cx="1617840" cy="903240"/>
            </a:xfrm>
          </p:grpSpPr>
          <p:pic>
            <p:nvPicPr>
              <p:cNvPr id="116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639880" y="193212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7" name=""/>
              <p:cNvGrpSpPr/>
              <p:nvPr/>
            </p:nvGrpSpPr>
            <p:grpSpPr>
              <a:xfrm>
                <a:off x="2916000" y="1455840"/>
                <a:ext cx="1025640" cy="903240"/>
                <a:chOff x="2916000" y="1455840"/>
                <a:chExt cx="1025640" cy="90324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2916000" y="1721880"/>
                  <a:ext cx="102564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916000" y="1455840"/>
                  <a:ext cx="102564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933640" y="1724760"/>
                  <a:ext cx="100764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7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310200" y="1957320"/>
                  <a:ext cx="31536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992680" y="1486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17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020840" y="1920960"/>
                <a:ext cx="23688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"/>
            <p:cNvGrpSpPr/>
            <p:nvPr/>
          </p:nvGrpSpPr>
          <p:grpSpPr>
            <a:xfrm>
              <a:off x="5913360" y="4230720"/>
              <a:ext cx="1697040" cy="995400"/>
              <a:chOff x="5913360" y="4230720"/>
              <a:chExt cx="1697040" cy="995400"/>
            </a:xfrm>
          </p:grpSpPr>
          <p:pic>
            <p:nvPicPr>
              <p:cNvPr id="1175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13360" y="4708440"/>
                <a:ext cx="2379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373880" y="4708440"/>
                <a:ext cx="23652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7" name=""/>
              <p:cNvGrpSpPr/>
              <p:nvPr/>
            </p:nvGrpSpPr>
            <p:grpSpPr>
              <a:xfrm>
                <a:off x="6189480" y="4230720"/>
                <a:ext cx="1104840" cy="995400"/>
                <a:chOff x="6189480" y="4230720"/>
                <a:chExt cx="1104840" cy="995400"/>
              </a:xfrm>
            </p:grpSpPr>
            <p:grpSp>
              <p:nvGrpSpPr>
                <p:cNvPr id="1178" name=""/>
                <p:cNvGrpSpPr/>
                <p:nvPr/>
              </p:nvGrpSpPr>
              <p:grpSpPr>
                <a:xfrm>
                  <a:off x="6189480" y="4230720"/>
                  <a:ext cx="1026000" cy="902880"/>
                  <a:chOff x="6189480" y="4230720"/>
                  <a:chExt cx="1026000" cy="902880"/>
                </a:xfrm>
              </p:grpSpPr>
              <p:sp>
                <p:nvSpPr>
                  <p:cNvPr id="1179" name=""/>
                  <p:cNvSpPr/>
                  <p:nvPr/>
                </p:nvSpPr>
                <p:spPr>
                  <a:xfrm>
                    <a:off x="6189480" y="449676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6189480" y="42307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6207120" y="449928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8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84040" y="47322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18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266160" y="42613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184" name=""/>
                <p:cNvGrpSpPr/>
                <p:nvPr/>
              </p:nvGrpSpPr>
              <p:grpSpPr>
                <a:xfrm>
                  <a:off x="6228720" y="4270320"/>
                  <a:ext cx="1026000" cy="903240"/>
                  <a:chOff x="6228720" y="4270320"/>
                  <a:chExt cx="1026000" cy="90324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>
                    <a:off x="6228720" y="453636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6228720" y="42703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6246360" y="453924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8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3280" y="47718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18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05400" y="43009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190" name=""/>
                <p:cNvGrpSpPr/>
                <p:nvPr/>
              </p:nvGrpSpPr>
              <p:grpSpPr>
                <a:xfrm>
                  <a:off x="6268320" y="4322880"/>
                  <a:ext cx="1026000" cy="903240"/>
                  <a:chOff x="6268320" y="4322880"/>
                  <a:chExt cx="1026000" cy="903240"/>
                </a:xfrm>
              </p:grpSpPr>
              <p:sp>
                <p:nvSpPr>
                  <p:cNvPr id="1191" name=""/>
                  <p:cNvSpPr/>
                  <p:nvPr/>
                </p:nvSpPr>
                <p:spPr>
                  <a:xfrm>
                    <a:off x="6268320" y="458892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6268320" y="432288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6285960" y="459180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9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662880" y="482436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195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345000" y="435348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1196" name=""/>
            <p:cNvGrpSpPr/>
            <p:nvPr/>
          </p:nvGrpSpPr>
          <p:grpSpPr>
            <a:xfrm>
              <a:off x="2679840" y="3552840"/>
              <a:ext cx="2167920" cy="677520"/>
              <a:chOff x="2679840" y="3552840"/>
              <a:chExt cx="2167920" cy="677520"/>
            </a:xfrm>
          </p:grpSpPr>
          <p:pic>
            <p:nvPicPr>
              <p:cNvPr id="1197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679840" y="38322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8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981240" y="38322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99" name=""/>
              <p:cNvGrpSpPr/>
              <p:nvPr/>
            </p:nvGrpSpPr>
            <p:grpSpPr>
              <a:xfrm>
                <a:off x="2876400" y="3552840"/>
                <a:ext cx="1007640" cy="677520"/>
                <a:chOff x="2876400" y="3552840"/>
                <a:chExt cx="1007640" cy="67752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3034080" y="3592440"/>
                  <a:ext cx="670680" cy="63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1" name="onto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191760" y="3826080"/>
                  <a:ext cx="315360" cy="31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2" name=""/>
                <p:cNvSpPr/>
                <p:nvPr/>
              </p:nvSpPr>
              <p:spPr>
                <a:xfrm>
                  <a:off x="2876400" y="3552840"/>
                  <a:ext cx="100764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Ontologi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203" name="onto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4533840" y="3792600"/>
                <a:ext cx="313920" cy="317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04" name=""/>
            <p:cNvGrpSpPr/>
            <p:nvPr/>
          </p:nvGrpSpPr>
          <p:grpSpPr>
            <a:xfrm>
              <a:off x="2467080" y="4303800"/>
              <a:ext cx="1631880" cy="882360"/>
              <a:chOff x="2467080" y="4303800"/>
              <a:chExt cx="1631880" cy="882360"/>
            </a:xfrm>
          </p:grpSpPr>
          <p:grpSp>
            <p:nvGrpSpPr>
              <p:cNvPr id="1205" name=""/>
              <p:cNvGrpSpPr/>
              <p:nvPr/>
            </p:nvGrpSpPr>
            <p:grpSpPr>
              <a:xfrm>
                <a:off x="2467080" y="4587840"/>
                <a:ext cx="1631880" cy="598320"/>
                <a:chOff x="2467080" y="4587840"/>
                <a:chExt cx="1631880" cy="59832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2545920" y="4627440"/>
                  <a:ext cx="1340640" cy="558720"/>
                </a:xfrm>
                <a:prstGeom prst="foldedCorner">
                  <a:avLst>
                    <a:gd name="adj" fmla="val 6138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onto_02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585160" y="4831560"/>
                  <a:ext cx="27576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2467080" y="4587840"/>
                  <a:ext cx="749160" cy="2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Modè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2768760" y="4787280"/>
                  <a:ext cx="1330200" cy="3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- Modèle d'entrepri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- Profils d'utilisateur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210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3270240" y="4303800"/>
                <a:ext cx="23616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1" name=""/>
            <p:cNvGrpSpPr/>
            <p:nvPr/>
          </p:nvGrpSpPr>
          <p:grpSpPr>
            <a:xfrm>
              <a:off x="3981600" y="4668840"/>
              <a:ext cx="1065240" cy="357120"/>
              <a:chOff x="3981600" y="4668840"/>
              <a:chExt cx="1065240" cy="357120"/>
            </a:xfrm>
          </p:grpSpPr>
          <p:pic>
            <p:nvPicPr>
              <p:cNvPr id="1212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3981600" y="474840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3" name="onto_02" descr=""/>
              <p:cNvPicPr/>
              <p:nvPr/>
            </p:nvPicPr>
            <p:blipFill>
              <a:blip r:embed="rId31"/>
              <a:stretch/>
            </p:blipFill>
            <p:spPr>
              <a:xfrm>
                <a:off x="4691160" y="4668840"/>
                <a:ext cx="35568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4" name=""/>
            <p:cNvGrpSpPr/>
            <p:nvPr/>
          </p:nvGrpSpPr>
          <p:grpSpPr>
            <a:xfrm>
              <a:off x="7650000" y="3457800"/>
              <a:ext cx="631800" cy="772920"/>
              <a:chOff x="7650000" y="3457800"/>
              <a:chExt cx="631800" cy="772920"/>
            </a:xfrm>
          </p:grpSpPr>
          <p:pic>
            <p:nvPicPr>
              <p:cNvPr id="1215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7846920" y="3990960"/>
                <a:ext cx="236520" cy="23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6" name=""/>
              <p:cNvGrpSpPr/>
              <p:nvPr/>
            </p:nvGrpSpPr>
            <p:grpSpPr>
              <a:xfrm>
                <a:off x="7650000" y="3457800"/>
                <a:ext cx="631800" cy="490320"/>
                <a:chOff x="7650000" y="3457800"/>
                <a:chExt cx="631800" cy="49032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7689240" y="3510000"/>
                  <a:ext cx="552960" cy="438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7650000" y="3457800"/>
                  <a:ext cx="6318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Requête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19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7886880" y="3691080"/>
                  <a:ext cx="236880" cy="23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20" name=""/>
            <p:cNvGrpSpPr/>
            <p:nvPr/>
          </p:nvGrpSpPr>
          <p:grpSpPr>
            <a:xfrm>
              <a:off x="4414680" y="1386000"/>
              <a:ext cx="1301760" cy="3565440"/>
              <a:chOff x="4414680" y="1386000"/>
              <a:chExt cx="1301760" cy="3565440"/>
            </a:xfrm>
          </p:grpSpPr>
          <p:pic>
            <p:nvPicPr>
              <p:cNvPr id="1221" name="doc_01" descr=""/>
              <p:cNvPicPr/>
              <p:nvPr/>
            </p:nvPicPr>
            <p:blipFill>
              <a:blip r:embed="rId34"/>
              <a:stretch/>
            </p:blipFill>
            <p:spPr>
              <a:xfrm>
                <a:off x="5322960" y="2000160"/>
                <a:ext cx="214200" cy="2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2" name="doc_01" descr=""/>
              <p:cNvPicPr/>
              <p:nvPr/>
            </p:nvPicPr>
            <p:blipFill>
              <a:blip r:embed="rId35"/>
              <a:stretch/>
            </p:blipFill>
            <p:spPr>
              <a:xfrm>
                <a:off x="5283360" y="192096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3" name="memory_01" descr=""/>
              <p:cNvPicPr/>
              <p:nvPr/>
            </p:nvPicPr>
            <p:blipFill>
              <a:blip r:embed="rId36"/>
              <a:stretch/>
            </p:blipFill>
            <p:spPr>
              <a:xfrm>
                <a:off x="4414680" y="1386000"/>
                <a:ext cx="33192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4" name="doc_03" descr=""/>
              <p:cNvPicPr/>
              <p:nvPr/>
            </p:nvPicPr>
            <p:blipFill>
              <a:blip r:embed="rId37"/>
              <a:stretch/>
            </p:blipFill>
            <p:spPr>
              <a:xfrm>
                <a:off x="4572000" y="4156200"/>
                <a:ext cx="395280" cy="39672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1225" name="doc_04" descr=""/>
              <p:cNvPicPr/>
              <p:nvPr/>
            </p:nvPicPr>
            <p:blipFill>
              <a:blip r:embed="rId38"/>
              <a:stretch/>
            </p:blipFill>
            <p:spPr>
              <a:xfrm>
                <a:off x="4494240" y="1881360"/>
                <a:ext cx="276120" cy="27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6" name="doc_05gif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64200" y="4075200"/>
                <a:ext cx="30456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7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5086440" y="3513240"/>
                <a:ext cx="41112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8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4911840" y="1425600"/>
                <a:ext cx="3315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9" name="doc_01" descr=""/>
              <p:cNvPicPr/>
              <p:nvPr/>
            </p:nvPicPr>
            <p:blipFill>
              <a:blip r:embed="rId42"/>
              <a:stretch/>
            </p:blipFill>
            <p:spPr>
              <a:xfrm>
                <a:off x="5362560" y="204012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0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5400720" y="4633920"/>
                <a:ext cx="315720" cy="31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1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4888080" y="2040120"/>
                <a:ext cx="333360" cy="33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2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5400720" y="148284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33" name=""/>
            <p:cNvSpPr txBox="1"/>
            <p:nvPr/>
          </p:nvSpPr>
          <p:spPr>
            <a:xfrm>
              <a:off x="2560680" y="4310280"/>
              <a:ext cx="236520" cy="15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1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34" name=""/>
            <p:cNvSpPr txBox="1"/>
            <p:nvPr/>
          </p:nvSpPr>
          <p:spPr>
            <a:xfrm>
              <a:off x="3230640" y="1163880"/>
              <a:ext cx="237960" cy="16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2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35" name=""/>
            <p:cNvSpPr txBox="1"/>
            <p:nvPr/>
          </p:nvSpPr>
          <p:spPr>
            <a:xfrm>
              <a:off x="7413480" y="4429080"/>
              <a:ext cx="236520" cy="1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3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grpSp>
          <p:nvGrpSpPr>
            <p:cNvPr id="1236" name=""/>
            <p:cNvGrpSpPr/>
            <p:nvPr/>
          </p:nvGrpSpPr>
          <p:grpSpPr>
            <a:xfrm>
              <a:off x="2600280" y="3274920"/>
              <a:ext cx="1971720" cy="1273320"/>
              <a:chOff x="2600280" y="3274920"/>
              <a:chExt cx="1971720" cy="1273320"/>
            </a:xfrm>
          </p:grpSpPr>
          <p:sp>
            <p:nvSpPr>
              <p:cNvPr id="1237" name=""/>
              <p:cNvSpPr/>
              <p:nvPr/>
            </p:nvSpPr>
            <p:spPr>
              <a:xfrm>
                <a:off x="3902040" y="3274920"/>
                <a:ext cx="66996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H="1">
                <a:off x="2600280" y="3274920"/>
                <a:ext cx="51264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744720" y="3354480"/>
                <a:ext cx="117720" cy="119376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2165400" y="2279880"/>
              <a:ext cx="947160" cy="396720"/>
              <a:chOff x="2165400" y="2279880"/>
              <a:chExt cx="947160" cy="396720"/>
            </a:xfrm>
          </p:grpSpPr>
          <p:sp>
            <p:nvSpPr>
              <p:cNvPr id="1241" name=""/>
              <p:cNvSpPr/>
              <p:nvPr/>
            </p:nvSpPr>
            <p:spPr>
              <a:xfrm>
                <a:off x="2165400" y="2384640"/>
                <a:ext cx="118800" cy="25236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H="1">
                <a:off x="2480760" y="2279880"/>
                <a:ext cx="631800" cy="39672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5715000" y="1726920"/>
              <a:ext cx="2247840" cy="2503800"/>
              <a:chOff x="5715000" y="1726920"/>
              <a:chExt cx="2247840" cy="2503800"/>
            </a:xfrm>
          </p:grpSpPr>
          <p:sp>
            <p:nvSpPr>
              <p:cNvPr id="1244" name=""/>
              <p:cNvSpPr/>
              <p:nvPr/>
            </p:nvSpPr>
            <p:spPr>
              <a:xfrm flipH="1" flipV="1">
                <a:off x="5715000" y="1726920"/>
                <a:ext cx="137160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531200" y="3035520"/>
                <a:ext cx="431640" cy="44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6821280" y="3354480"/>
                <a:ext cx="355320" cy="79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413480" y="3354480"/>
                <a:ext cx="316080" cy="87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5519880" y="3235320"/>
              <a:ext cx="2129760" cy="1035000"/>
              <a:chOff x="5519880" y="3235320"/>
              <a:chExt cx="2129760" cy="1035000"/>
            </a:xfrm>
          </p:grpSpPr>
          <p:sp>
            <p:nvSpPr>
              <p:cNvPr id="1249" name=""/>
              <p:cNvSpPr/>
              <p:nvPr/>
            </p:nvSpPr>
            <p:spPr>
              <a:xfrm flipH="1">
                <a:off x="5519880" y="3235320"/>
                <a:ext cx="552240" cy="39708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V="1">
                <a:off x="6348240" y="3295440"/>
                <a:ext cx="0" cy="89532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703920" y="3354480"/>
                <a:ext cx="945720" cy="91584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2" name=""/>
          <p:cNvGrpSpPr/>
          <p:nvPr/>
        </p:nvGrpSpPr>
        <p:grpSpPr>
          <a:xfrm>
            <a:off x="1143000" y="838080"/>
            <a:ext cx="8001000" cy="4724640"/>
            <a:chOff x="1143000" y="838080"/>
            <a:chExt cx="8001000" cy="4724640"/>
          </a:xfrm>
        </p:grpSpPr>
        <p:sp>
          <p:nvSpPr>
            <p:cNvPr id="1253" name=""/>
            <p:cNvSpPr/>
            <p:nvPr/>
          </p:nvSpPr>
          <p:spPr>
            <a:xfrm>
              <a:off x="1143000" y="838080"/>
              <a:ext cx="8001000" cy="1524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143000" y="3505320"/>
              <a:ext cx="8001000" cy="2057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219320" y="2362320"/>
              <a:ext cx="7772400" cy="11430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5FE-4D05-41D8-A5C0-90DF97CC52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Multi-agents information system for the CM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76320" y="3808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4600" indent="-4446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Agent paradigm adequacy:  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920880" indent="-2858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gent collaboration </a:t>
            </a:r>
            <a:r>
              <a:rPr b="0" lang="en-US" sz="2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Global capitaliz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920880" indent="-2858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gent autonomy &amp; individuality </a:t>
            </a:r>
            <a:r>
              <a:rPr b="0" lang="en-US" sz="2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Local adapt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oMMA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is an heterogeneous multi-agents information system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rom 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Macroscopic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Microscopic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920880" indent="-285840">
              <a:lnSpc>
                <a:spcPct val="6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Functional analysis for high level functions: societie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92088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Four aspects in our scenarios: ontology and model availability, annotation management, user management and yellow pages services.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990720" y="4191120"/>
            <a:ext cx="8076960" cy="2457360"/>
            <a:chOff x="990720" y="4191120"/>
            <a:chExt cx="8076960" cy="2457360"/>
          </a:xfrm>
        </p:grpSpPr>
        <p:grpSp>
          <p:nvGrpSpPr>
            <p:cNvPr id="1259" name=""/>
            <p:cNvGrpSpPr/>
            <p:nvPr/>
          </p:nvGrpSpPr>
          <p:grpSpPr>
            <a:xfrm>
              <a:off x="2895480" y="5886360"/>
              <a:ext cx="4419720" cy="762120"/>
              <a:chOff x="2895480" y="5886360"/>
              <a:chExt cx="4419720" cy="762120"/>
            </a:xfrm>
          </p:grpSpPr>
          <p:sp>
            <p:nvSpPr>
              <p:cNvPr id="1260" name=""/>
              <p:cNvSpPr/>
              <p:nvPr/>
            </p:nvSpPr>
            <p:spPr>
              <a:xfrm>
                <a:off x="2895480" y="5886360"/>
                <a:ext cx="4191120" cy="711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2844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581280" y="5943600"/>
                <a:ext cx="3733920" cy="70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Users' socie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2" name=""/>
              <p:cNvGrpSpPr/>
              <p:nvPr/>
            </p:nvGrpSpPr>
            <p:grpSpPr>
              <a:xfrm>
                <a:off x="3174840" y="5911560"/>
                <a:ext cx="444600" cy="609480"/>
                <a:chOff x="3174840" y="5911560"/>
                <a:chExt cx="444600" cy="60948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3174840" y="5911560"/>
                  <a:ext cx="444600" cy="6094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4" name=""/>
                <p:cNvGrpSpPr/>
                <p:nvPr/>
              </p:nvGrpSpPr>
              <p:grpSpPr>
                <a:xfrm>
                  <a:off x="3225240" y="5937120"/>
                  <a:ext cx="353880" cy="550800"/>
                  <a:chOff x="3225240" y="5937120"/>
                  <a:chExt cx="353880" cy="550800"/>
                </a:xfrm>
              </p:grpSpPr>
              <p:sp>
                <p:nvSpPr>
                  <p:cNvPr id="1265" name=""/>
                  <p:cNvSpPr/>
                  <p:nvPr/>
                </p:nvSpPr>
                <p:spPr>
                  <a:xfrm flipH="1">
                    <a:off x="3327840" y="5967720"/>
                    <a:ext cx="13824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522">
                        <a:moveTo>
                          <a:pt x="245" y="120"/>
                        </a:moveTo>
                        <a:lnTo>
                          <a:pt x="204" y="67"/>
                        </a:lnTo>
                        <a:lnTo>
                          <a:pt x="146" y="26"/>
                        </a:lnTo>
                        <a:lnTo>
                          <a:pt x="94" y="0"/>
                        </a:lnTo>
                        <a:lnTo>
                          <a:pt x="53" y="7"/>
                        </a:lnTo>
                        <a:lnTo>
                          <a:pt x="23" y="37"/>
                        </a:lnTo>
                        <a:lnTo>
                          <a:pt x="0" y="127"/>
                        </a:lnTo>
                        <a:lnTo>
                          <a:pt x="9" y="231"/>
                        </a:lnTo>
                        <a:lnTo>
                          <a:pt x="34" y="331"/>
                        </a:lnTo>
                        <a:lnTo>
                          <a:pt x="60" y="409"/>
                        </a:lnTo>
                        <a:lnTo>
                          <a:pt x="112" y="489"/>
                        </a:lnTo>
                        <a:lnTo>
                          <a:pt x="156" y="522"/>
                        </a:lnTo>
                        <a:lnTo>
                          <a:pt x="217" y="522"/>
                        </a:lnTo>
                        <a:lnTo>
                          <a:pt x="279" y="499"/>
                        </a:lnTo>
                        <a:lnTo>
                          <a:pt x="310" y="441"/>
                        </a:lnTo>
                        <a:lnTo>
                          <a:pt x="326" y="368"/>
                        </a:lnTo>
                        <a:lnTo>
                          <a:pt x="320" y="278"/>
                        </a:lnTo>
                        <a:lnTo>
                          <a:pt x="463" y="288"/>
                        </a:lnTo>
                        <a:lnTo>
                          <a:pt x="471" y="248"/>
                        </a:lnTo>
                        <a:lnTo>
                          <a:pt x="307" y="231"/>
                        </a:lnTo>
                        <a:lnTo>
                          <a:pt x="265" y="138"/>
                        </a:lnTo>
                        <a:lnTo>
                          <a:pt x="245" y="1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 flipH="1">
                    <a:off x="3419280" y="5937120"/>
                    <a:ext cx="15948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837">
                        <a:moveTo>
                          <a:pt x="317" y="19"/>
                        </a:moveTo>
                        <a:lnTo>
                          <a:pt x="385" y="0"/>
                        </a:lnTo>
                        <a:lnTo>
                          <a:pt x="439" y="3"/>
                        </a:lnTo>
                        <a:lnTo>
                          <a:pt x="480" y="33"/>
                        </a:lnTo>
                        <a:lnTo>
                          <a:pt x="508" y="80"/>
                        </a:lnTo>
                        <a:lnTo>
                          <a:pt x="498" y="130"/>
                        </a:lnTo>
                        <a:lnTo>
                          <a:pt x="460" y="130"/>
                        </a:lnTo>
                        <a:lnTo>
                          <a:pt x="470" y="89"/>
                        </a:lnTo>
                        <a:lnTo>
                          <a:pt x="439" y="53"/>
                        </a:lnTo>
                        <a:lnTo>
                          <a:pt x="409" y="40"/>
                        </a:lnTo>
                        <a:lnTo>
                          <a:pt x="358" y="53"/>
                        </a:lnTo>
                        <a:lnTo>
                          <a:pt x="378" y="94"/>
                        </a:lnTo>
                        <a:lnTo>
                          <a:pt x="385" y="130"/>
                        </a:lnTo>
                        <a:lnTo>
                          <a:pt x="378" y="160"/>
                        </a:lnTo>
                        <a:lnTo>
                          <a:pt x="327" y="174"/>
                        </a:lnTo>
                        <a:lnTo>
                          <a:pt x="272" y="164"/>
                        </a:lnTo>
                        <a:lnTo>
                          <a:pt x="262" y="140"/>
                        </a:lnTo>
                        <a:lnTo>
                          <a:pt x="204" y="204"/>
                        </a:lnTo>
                        <a:lnTo>
                          <a:pt x="170" y="274"/>
                        </a:lnTo>
                        <a:lnTo>
                          <a:pt x="123" y="364"/>
                        </a:lnTo>
                        <a:lnTo>
                          <a:pt x="92" y="445"/>
                        </a:lnTo>
                        <a:lnTo>
                          <a:pt x="78" y="522"/>
                        </a:lnTo>
                        <a:lnTo>
                          <a:pt x="89" y="562"/>
                        </a:lnTo>
                        <a:lnTo>
                          <a:pt x="143" y="613"/>
                        </a:lnTo>
                        <a:lnTo>
                          <a:pt x="256" y="656"/>
                        </a:lnTo>
                        <a:lnTo>
                          <a:pt x="317" y="675"/>
                        </a:lnTo>
                        <a:lnTo>
                          <a:pt x="378" y="686"/>
                        </a:lnTo>
                        <a:lnTo>
                          <a:pt x="470" y="723"/>
                        </a:lnTo>
                        <a:lnTo>
                          <a:pt x="538" y="746"/>
                        </a:lnTo>
                        <a:lnTo>
                          <a:pt x="542" y="793"/>
                        </a:lnTo>
                        <a:lnTo>
                          <a:pt x="508" y="827"/>
                        </a:lnTo>
                        <a:lnTo>
                          <a:pt x="467" y="837"/>
                        </a:lnTo>
                        <a:lnTo>
                          <a:pt x="405" y="806"/>
                        </a:lnTo>
                        <a:lnTo>
                          <a:pt x="262" y="733"/>
                        </a:lnTo>
                        <a:lnTo>
                          <a:pt x="143" y="683"/>
                        </a:lnTo>
                        <a:lnTo>
                          <a:pt x="61" y="626"/>
                        </a:lnTo>
                        <a:lnTo>
                          <a:pt x="6" y="575"/>
                        </a:lnTo>
                        <a:lnTo>
                          <a:pt x="0" y="515"/>
                        </a:lnTo>
                        <a:lnTo>
                          <a:pt x="30" y="434"/>
                        </a:lnTo>
                        <a:lnTo>
                          <a:pt x="92" y="314"/>
                        </a:lnTo>
                        <a:lnTo>
                          <a:pt x="150" y="214"/>
                        </a:lnTo>
                        <a:lnTo>
                          <a:pt x="222" y="110"/>
                        </a:lnTo>
                        <a:lnTo>
                          <a:pt x="276" y="49"/>
                        </a:lnTo>
                        <a:lnTo>
                          <a:pt x="344" y="19"/>
                        </a:lnTo>
                        <a:lnTo>
                          <a:pt x="317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 flipH="1">
                    <a:off x="3345480" y="6096960"/>
                    <a:ext cx="8280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6">
                        <a:moveTo>
                          <a:pt x="18" y="61"/>
                        </a:moveTo>
                        <a:lnTo>
                          <a:pt x="28" y="20"/>
                        </a:lnTo>
                        <a:lnTo>
                          <a:pt x="72" y="0"/>
                        </a:lnTo>
                        <a:lnTo>
                          <a:pt x="113" y="0"/>
                        </a:lnTo>
                        <a:lnTo>
                          <a:pt x="164" y="30"/>
                        </a:lnTo>
                        <a:lnTo>
                          <a:pt x="213" y="101"/>
                        </a:lnTo>
                        <a:lnTo>
                          <a:pt x="247" y="174"/>
                        </a:lnTo>
                        <a:lnTo>
                          <a:pt x="263" y="274"/>
                        </a:lnTo>
                        <a:lnTo>
                          <a:pt x="278" y="391"/>
                        </a:lnTo>
                        <a:lnTo>
                          <a:pt x="284" y="504"/>
                        </a:lnTo>
                        <a:lnTo>
                          <a:pt x="284" y="652"/>
                        </a:lnTo>
                        <a:lnTo>
                          <a:pt x="263" y="742"/>
                        </a:lnTo>
                        <a:lnTo>
                          <a:pt x="226" y="775"/>
                        </a:lnTo>
                        <a:lnTo>
                          <a:pt x="161" y="786"/>
                        </a:lnTo>
                        <a:lnTo>
                          <a:pt x="93" y="783"/>
                        </a:lnTo>
                        <a:lnTo>
                          <a:pt x="58" y="742"/>
                        </a:lnTo>
                        <a:lnTo>
                          <a:pt x="38" y="672"/>
                        </a:lnTo>
                        <a:lnTo>
                          <a:pt x="21" y="602"/>
                        </a:lnTo>
                        <a:lnTo>
                          <a:pt x="8" y="475"/>
                        </a:lnTo>
                        <a:lnTo>
                          <a:pt x="0" y="331"/>
                        </a:lnTo>
                        <a:lnTo>
                          <a:pt x="0" y="164"/>
                        </a:lnTo>
                        <a:lnTo>
                          <a:pt x="18" y="91"/>
                        </a:lnTo>
                        <a:lnTo>
                          <a:pt x="18" y="6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 flipH="1">
                    <a:off x="3261960" y="6102000"/>
                    <a:ext cx="127800" cy="1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603">
                        <a:moveTo>
                          <a:pt x="24" y="0"/>
                        </a:moveTo>
                        <a:lnTo>
                          <a:pt x="113" y="10"/>
                        </a:lnTo>
                        <a:lnTo>
                          <a:pt x="204" y="26"/>
                        </a:lnTo>
                        <a:lnTo>
                          <a:pt x="300" y="80"/>
                        </a:lnTo>
                        <a:lnTo>
                          <a:pt x="368" y="120"/>
                        </a:lnTo>
                        <a:lnTo>
                          <a:pt x="413" y="178"/>
                        </a:lnTo>
                        <a:lnTo>
                          <a:pt x="433" y="211"/>
                        </a:lnTo>
                        <a:lnTo>
                          <a:pt x="392" y="308"/>
                        </a:lnTo>
                        <a:lnTo>
                          <a:pt x="327" y="368"/>
                        </a:lnTo>
                        <a:lnTo>
                          <a:pt x="249" y="411"/>
                        </a:lnTo>
                        <a:lnTo>
                          <a:pt x="207" y="438"/>
                        </a:lnTo>
                        <a:lnTo>
                          <a:pt x="136" y="452"/>
                        </a:lnTo>
                        <a:lnTo>
                          <a:pt x="133" y="478"/>
                        </a:lnTo>
                        <a:lnTo>
                          <a:pt x="188" y="502"/>
                        </a:lnTo>
                        <a:lnTo>
                          <a:pt x="266" y="523"/>
                        </a:lnTo>
                        <a:lnTo>
                          <a:pt x="340" y="563"/>
                        </a:lnTo>
                        <a:lnTo>
                          <a:pt x="310" y="593"/>
                        </a:lnTo>
                        <a:lnTo>
                          <a:pt x="280" y="603"/>
                        </a:lnTo>
                        <a:lnTo>
                          <a:pt x="235" y="559"/>
                        </a:lnTo>
                        <a:lnTo>
                          <a:pt x="167" y="532"/>
                        </a:lnTo>
                        <a:lnTo>
                          <a:pt x="113" y="512"/>
                        </a:lnTo>
                        <a:lnTo>
                          <a:pt x="113" y="472"/>
                        </a:lnTo>
                        <a:lnTo>
                          <a:pt x="123" y="429"/>
                        </a:lnTo>
                        <a:lnTo>
                          <a:pt x="157" y="411"/>
                        </a:lnTo>
                        <a:lnTo>
                          <a:pt x="266" y="368"/>
                        </a:lnTo>
                        <a:lnTo>
                          <a:pt x="327" y="301"/>
                        </a:lnTo>
                        <a:lnTo>
                          <a:pt x="371" y="231"/>
                        </a:lnTo>
                        <a:lnTo>
                          <a:pt x="361" y="197"/>
                        </a:lnTo>
                        <a:lnTo>
                          <a:pt x="327" y="157"/>
                        </a:lnTo>
                        <a:lnTo>
                          <a:pt x="246" y="100"/>
                        </a:lnTo>
                        <a:lnTo>
                          <a:pt x="147" y="80"/>
                        </a:lnTo>
                        <a:lnTo>
                          <a:pt x="82" y="77"/>
                        </a:lnTo>
                        <a:lnTo>
                          <a:pt x="24" y="77"/>
                        </a:lnTo>
                        <a:lnTo>
                          <a:pt x="0" y="4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 flipH="1">
                    <a:off x="3225240" y="6259320"/>
                    <a:ext cx="15480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7" h="976">
                        <a:moveTo>
                          <a:pt x="61" y="0"/>
                        </a:moveTo>
                        <a:lnTo>
                          <a:pt x="14" y="0"/>
                        </a:lnTo>
                        <a:lnTo>
                          <a:pt x="0" y="70"/>
                        </a:lnTo>
                        <a:lnTo>
                          <a:pt x="34" y="112"/>
                        </a:lnTo>
                        <a:lnTo>
                          <a:pt x="144" y="208"/>
                        </a:lnTo>
                        <a:lnTo>
                          <a:pt x="239" y="332"/>
                        </a:lnTo>
                        <a:lnTo>
                          <a:pt x="301" y="460"/>
                        </a:lnTo>
                        <a:lnTo>
                          <a:pt x="311" y="543"/>
                        </a:lnTo>
                        <a:lnTo>
                          <a:pt x="307" y="604"/>
                        </a:lnTo>
                        <a:lnTo>
                          <a:pt x="281" y="741"/>
                        </a:lnTo>
                        <a:lnTo>
                          <a:pt x="246" y="852"/>
                        </a:lnTo>
                        <a:lnTo>
                          <a:pt x="216" y="916"/>
                        </a:lnTo>
                        <a:lnTo>
                          <a:pt x="208" y="956"/>
                        </a:lnTo>
                        <a:lnTo>
                          <a:pt x="239" y="956"/>
                        </a:lnTo>
                        <a:lnTo>
                          <a:pt x="287" y="943"/>
                        </a:lnTo>
                        <a:lnTo>
                          <a:pt x="301" y="946"/>
                        </a:lnTo>
                        <a:lnTo>
                          <a:pt x="400" y="952"/>
                        </a:lnTo>
                        <a:lnTo>
                          <a:pt x="475" y="976"/>
                        </a:lnTo>
                        <a:lnTo>
                          <a:pt x="502" y="962"/>
                        </a:lnTo>
                        <a:lnTo>
                          <a:pt x="527" y="912"/>
                        </a:lnTo>
                        <a:lnTo>
                          <a:pt x="502" y="885"/>
                        </a:lnTo>
                        <a:lnTo>
                          <a:pt x="390" y="882"/>
                        </a:lnTo>
                        <a:lnTo>
                          <a:pt x="311" y="892"/>
                        </a:lnTo>
                        <a:lnTo>
                          <a:pt x="270" y="912"/>
                        </a:lnTo>
                        <a:lnTo>
                          <a:pt x="276" y="865"/>
                        </a:lnTo>
                        <a:lnTo>
                          <a:pt x="318" y="794"/>
                        </a:lnTo>
                        <a:lnTo>
                          <a:pt x="352" y="684"/>
                        </a:lnTo>
                        <a:lnTo>
                          <a:pt x="380" y="590"/>
                        </a:lnTo>
                        <a:lnTo>
                          <a:pt x="359" y="483"/>
                        </a:lnTo>
                        <a:lnTo>
                          <a:pt x="328" y="369"/>
                        </a:lnTo>
                        <a:lnTo>
                          <a:pt x="266" y="238"/>
                        </a:lnTo>
                        <a:lnTo>
                          <a:pt x="178" y="118"/>
                        </a:lnTo>
                        <a:lnTo>
                          <a:pt x="102" y="30"/>
                        </a:lnTo>
                        <a:lnTo>
                          <a:pt x="6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 flipH="1">
                    <a:off x="3372840" y="6258960"/>
                    <a:ext cx="104040" cy="22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994">
                        <a:moveTo>
                          <a:pt x="246" y="0"/>
                        </a:moveTo>
                        <a:lnTo>
                          <a:pt x="201" y="94"/>
                        </a:lnTo>
                        <a:lnTo>
                          <a:pt x="170" y="231"/>
                        </a:lnTo>
                        <a:lnTo>
                          <a:pt x="133" y="382"/>
                        </a:lnTo>
                        <a:lnTo>
                          <a:pt x="99" y="536"/>
                        </a:lnTo>
                        <a:lnTo>
                          <a:pt x="99" y="592"/>
                        </a:lnTo>
                        <a:lnTo>
                          <a:pt x="133" y="693"/>
                        </a:lnTo>
                        <a:lnTo>
                          <a:pt x="181" y="747"/>
                        </a:lnTo>
                        <a:lnTo>
                          <a:pt x="225" y="814"/>
                        </a:lnTo>
                        <a:lnTo>
                          <a:pt x="256" y="863"/>
                        </a:lnTo>
                        <a:lnTo>
                          <a:pt x="243" y="887"/>
                        </a:lnTo>
                        <a:lnTo>
                          <a:pt x="164" y="897"/>
                        </a:lnTo>
                        <a:lnTo>
                          <a:pt x="37" y="917"/>
                        </a:lnTo>
                        <a:lnTo>
                          <a:pt x="0" y="948"/>
                        </a:lnTo>
                        <a:lnTo>
                          <a:pt x="31" y="974"/>
                        </a:lnTo>
                        <a:lnTo>
                          <a:pt x="102" y="994"/>
                        </a:lnTo>
                        <a:lnTo>
                          <a:pt x="185" y="954"/>
                        </a:lnTo>
                        <a:lnTo>
                          <a:pt x="246" y="927"/>
                        </a:lnTo>
                        <a:lnTo>
                          <a:pt x="324" y="917"/>
                        </a:lnTo>
                        <a:lnTo>
                          <a:pt x="355" y="907"/>
                        </a:lnTo>
                        <a:lnTo>
                          <a:pt x="345" y="874"/>
                        </a:lnTo>
                        <a:lnTo>
                          <a:pt x="256" y="787"/>
                        </a:lnTo>
                        <a:lnTo>
                          <a:pt x="204" y="696"/>
                        </a:lnTo>
                        <a:lnTo>
                          <a:pt x="160" y="636"/>
                        </a:lnTo>
                        <a:lnTo>
                          <a:pt x="154" y="576"/>
                        </a:lnTo>
                        <a:lnTo>
                          <a:pt x="175" y="476"/>
                        </a:lnTo>
                        <a:lnTo>
                          <a:pt x="222" y="372"/>
                        </a:lnTo>
                        <a:lnTo>
                          <a:pt x="274" y="195"/>
                        </a:lnTo>
                        <a:lnTo>
                          <a:pt x="318" y="91"/>
                        </a:lnTo>
                        <a:lnTo>
                          <a:pt x="314" y="30"/>
                        </a:lnTo>
                        <a:lnTo>
                          <a:pt x="274" y="0"/>
                        </a:lnTo>
                        <a:lnTo>
                          <a:pt x="2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71" name=""/>
            <p:cNvGrpSpPr/>
            <p:nvPr/>
          </p:nvGrpSpPr>
          <p:grpSpPr>
            <a:xfrm>
              <a:off x="5181480" y="4191120"/>
              <a:ext cx="3886200" cy="711000"/>
              <a:chOff x="5181480" y="4191120"/>
              <a:chExt cx="3886200" cy="711000"/>
            </a:xfrm>
          </p:grpSpPr>
          <p:sp>
            <p:nvSpPr>
              <p:cNvPr id="1272" name=""/>
              <p:cNvSpPr/>
              <p:nvPr/>
            </p:nvSpPr>
            <p:spPr>
              <a:xfrm>
                <a:off x="5181480" y="4191120"/>
                <a:ext cx="3886200" cy="711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2844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715000" y="4267080"/>
                <a:ext cx="3200400" cy="47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nnotations Socie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7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4120" y="4343400"/>
                <a:ext cx="380880" cy="2883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</p:grpSp>
        <p:grpSp>
          <p:nvGrpSpPr>
            <p:cNvPr id="1275" name=""/>
            <p:cNvGrpSpPr/>
            <p:nvPr/>
          </p:nvGrpSpPr>
          <p:grpSpPr>
            <a:xfrm>
              <a:off x="990720" y="4191120"/>
              <a:ext cx="3886200" cy="780480"/>
              <a:chOff x="990720" y="4191120"/>
              <a:chExt cx="3886200" cy="780480"/>
            </a:xfrm>
          </p:grpSpPr>
          <p:sp>
            <p:nvSpPr>
              <p:cNvPr id="1276" name=""/>
              <p:cNvSpPr/>
              <p:nvPr/>
            </p:nvSpPr>
            <p:spPr>
              <a:xfrm>
                <a:off x="990720" y="4191120"/>
                <a:ext cx="3886200" cy="711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2844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447920" y="4267080"/>
                <a:ext cx="3352680" cy="70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ntology and Model Socie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78" name="onto_01" descr=""/>
              <p:cNvPicPr/>
              <p:nvPr/>
            </p:nvPicPr>
            <p:blipFill>
              <a:blip r:embed="rId2"/>
              <a:stretch/>
            </p:blipFill>
            <p:spPr>
              <a:xfrm>
                <a:off x="1133640" y="4343400"/>
                <a:ext cx="314280" cy="3171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</p:grpSp>
        <p:grpSp>
          <p:nvGrpSpPr>
            <p:cNvPr id="1279" name=""/>
            <p:cNvGrpSpPr/>
            <p:nvPr/>
          </p:nvGrpSpPr>
          <p:grpSpPr>
            <a:xfrm>
              <a:off x="2895480" y="4743360"/>
              <a:ext cx="4343400" cy="1371600"/>
              <a:chOff x="2895480" y="4743360"/>
              <a:chExt cx="4343400" cy="1371600"/>
            </a:xfrm>
          </p:grpSpPr>
          <p:sp>
            <p:nvSpPr>
              <p:cNvPr id="1280" name=""/>
              <p:cNvSpPr/>
              <p:nvPr/>
            </p:nvSpPr>
            <p:spPr>
              <a:xfrm>
                <a:off x="2895480" y="5022720"/>
                <a:ext cx="4191120" cy="71136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2844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505320" y="5175000"/>
                <a:ext cx="3657600" cy="55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connection Socie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495680" y="4743360"/>
                <a:ext cx="21337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781680" y="542916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H="1">
                <a:off x="6781680" y="4743360"/>
                <a:ext cx="45720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8120" y="5175000"/>
                <a:ext cx="474480" cy="37944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776-CBDB-4C8F-A2F8-10626CBBCCE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Organizing resource-dedicated sub-societie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716040" y="3200400"/>
            <a:ext cx="358128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92000" y="329400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op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urc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d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2697120" y="3720960"/>
            <a:ext cx="228600" cy="15264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H="1" flipV="1">
            <a:off x="3002040" y="3720600"/>
            <a:ext cx="503280" cy="16524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 flipV="1">
            <a:off x="3077640" y="3522240"/>
            <a:ext cx="427320" cy="5868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2773440" y="2722680"/>
            <a:ext cx="380880" cy="545760"/>
            <a:chOff x="2773440" y="2722680"/>
            <a:chExt cx="380880" cy="545760"/>
          </a:xfrm>
        </p:grpSpPr>
        <p:sp>
          <p:nvSpPr>
            <p:cNvPr id="1293" name=""/>
            <p:cNvSpPr/>
            <p:nvPr/>
          </p:nvSpPr>
          <p:spPr>
            <a:xfrm flipV="1">
              <a:off x="2773440" y="2739960"/>
              <a:ext cx="203040" cy="528480"/>
            </a:xfrm>
            <a:prstGeom prst="upArrow">
              <a:avLst>
                <a:gd name="adj1" fmla="val 50000"/>
                <a:gd name="adj2" fmla="val 65071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951280" y="2722680"/>
              <a:ext cx="203040" cy="528840"/>
            </a:xfrm>
            <a:prstGeom prst="upArrow">
              <a:avLst>
                <a:gd name="adj1" fmla="val 50000"/>
                <a:gd name="adj2" fmla="val 65115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5" name=""/>
          <p:cNvSpPr/>
          <p:nvPr/>
        </p:nvSpPr>
        <p:spPr>
          <a:xfrm>
            <a:off x="455760" y="27432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eer-to-P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16040" y="1143000"/>
            <a:ext cx="358128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16040" y="1701720"/>
            <a:ext cx="3581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76520" y="119376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resen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92000" y="1662120"/>
            <a:ext cx="12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urc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d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2590920" y="1663200"/>
            <a:ext cx="334800" cy="16524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 flipV="1">
            <a:off x="3002040" y="1663200"/>
            <a:ext cx="350640" cy="16524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2773440" y="647640"/>
            <a:ext cx="380880" cy="545760"/>
            <a:chOff x="2773440" y="647640"/>
            <a:chExt cx="380880" cy="545760"/>
          </a:xfrm>
        </p:grpSpPr>
        <p:sp>
          <p:nvSpPr>
            <p:cNvPr id="1303" name=""/>
            <p:cNvSpPr/>
            <p:nvPr/>
          </p:nvSpPr>
          <p:spPr>
            <a:xfrm flipV="1">
              <a:off x="2773440" y="664920"/>
              <a:ext cx="203040" cy="528480"/>
            </a:xfrm>
            <a:prstGeom prst="upArrow">
              <a:avLst>
                <a:gd name="adj1" fmla="val 50000"/>
                <a:gd name="adj2" fmla="val 65071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951280" y="647640"/>
              <a:ext cx="203040" cy="528840"/>
            </a:xfrm>
            <a:prstGeom prst="upArrow">
              <a:avLst>
                <a:gd name="adj1" fmla="val 50000"/>
                <a:gd name="adj2" fmla="val 65115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456840" y="6858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16040" y="5257800"/>
            <a:ext cx="358128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92000" y="53514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urc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d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2773440" y="4762440"/>
            <a:ext cx="380880" cy="545760"/>
            <a:chOff x="2773440" y="4762440"/>
            <a:chExt cx="380880" cy="545760"/>
          </a:xfrm>
        </p:grpSpPr>
        <p:sp>
          <p:nvSpPr>
            <p:cNvPr id="1309" name=""/>
            <p:cNvSpPr/>
            <p:nvPr/>
          </p:nvSpPr>
          <p:spPr>
            <a:xfrm flipV="1">
              <a:off x="2773440" y="4779720"/>
              <a:ext cx="203040" cy="528480"/>
            </a:xfrm>
            <a:prstGeom prst="upArrow">
              <a:avLst>
                <a:gd name="adj1" fmla="val 50000"/>
                <a:gd name="adj2" fmla="val 65071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951280" y="4762440"/>
              <a:ext cx="203040" cy="528840"/>
            </a:xfrm>
            <a:prstGeom prst="upArrow">
              <a:avLst>
                <a:gd name="adj1" fmla="val 50000"/>
                <a:gd name="adj2" fmla="val 65115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1" name=""/>
          <p:cNvSpPr/>
          <p:nvPr/>
        </p:nvSpPr>
        <p:spPr>
          <a:xfrm>
            <a:off x="457560" y="4800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4191120" y="1066680"/>
            <a:ext cx="4572000" cy="5562720"/>
            <a:chOff x="4191120" y="1066680"/>
            <a:chExt cx="4572000" cy="5562720"/>
          </a:xfrm>
        </p:grpSpPr>
        <p:sp>
          <p:nvSpPr>
            <p:cNvPr id="1313" name=""/>
            <p:cNvSpPr/>
            <p:nvPr/>
          </p:nvSpPr>
          <p:spPr>
            <a:xfrm>
              <a:off x="4191120" y="3124080"/>
              <a:ext cx="45720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666720" indent="-190440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  <a:tab algn="l" pos="6934320"/>
                  <a:tab algn="l" pos="7264440"/>
                </a:tabLst>
              </a:pP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Distribute only conte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6720" indent="-190440">
                <a:lnSpc>
                  <a:spcPct val="80000"/>
                </a:lnSpc>
                <a:spcBef>
                  <a:spcPts val="649"/>
                </a:spcBef>
                <a:buClr>
                  <a:srgbClr val="000066"/>
                </a:buClr>
                <a:buFont typeface="Wingdings" charset="2"/>
                <a:buChar char=""/>
                <a:tabLst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  <a:tab algn="l" pos="6934320"/>
                  <a:tab algn="l" pos="726444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WL &amp; N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6720" indent="-190440">
                <a:lnSpc>
                  <a:spcPct val="80000"/>
                </a:lnSpc>
                <a:spcBef>
                  <a:spcPts val="649"/>
                </a:spcBef>
                <a:buClr>
                  <a:srgbClr val="000066"/>
                </a:buClr>
                <a:buFont typeface="Wingdings" charset="2"/>
                <a:buChar char=""/>
                <a:tabLst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  <a:tab algn="l" pos="6934320"/>
                  <a:tab algn="l" pos="726444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Redundanc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191120" y="5181480"/>
              <a:ext cx="45720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666720" indent="-190440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  <a:tab algn="l" pos="6934320"/>
                  <a:tab algn="l" pos="7264440"/>
                </a:tabLst>
              </a:pP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Complete replica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6720" indent="-190440">
                <a:lnSpc>
                  <a:spcPct val="80000"/>
                </a:lnSpc>
                <a:spcBef>
                  <a:spcPts val="649"/>
                </a:spcBef>
                <a:buClr>
                  <a:srgbClr val="000066"/>
                </a:buClr>
                <a:buFont typeface="Wingdings" charset="2"/>
                <a:buChar char=""/>
                <a:tabLst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  <a:tab algn="l" pos="6934320"/>
                  <a:tab algn="l" pos="726444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Redundant &amp; less N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6720" indent="-190440">
                <a:lnSpc>
                  <a:spcPct val="80000"/>
                </a:lnSpc>
                <a:spcBef>
                  <a:spcPts val="649"/>
                </a:spcBef>
                <a:buClr>
                  <a:srgbClr val="000066"/>
                </a:buClr>
                <a:buFont typeface="Wingdings" charset="2"/>
                <a:buChar char=""/>
                <a:tabLst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  <a:tab algn="l" pos="6934320"/>
                  <a:tab algn="l" pos="726444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Content replicate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91120" y="1066680"/>
              <a:ext cx="45720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666720" indent="-190440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  <a:tab algn="l" pos="6934320"/>
                  <a:tab algn="l" pos="7264440"/>
                </a:tabLst>
              </a:pP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Distribute rol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6720" indent="-190440">
                <a:lnSpc>
                  <a:spcPct val="80000"/>
                </a:lnSpc>
                <a:spcBef>
                  <a:spcPts val="649"/>
                </a:spcBef>
                <a:buClr>
                  <a:srgbClr val="000066"/>
                </a:buClr>
                <a:buFont typeface="Wingdings" charset="2"/>
                <a:buChar char=""/>
                <a:tabLst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  <a:tab algn="l" pos="6934320"/>
                  <a:tab algn="l" pos="726444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Distribute W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6720" indent="-190440">
                <a:lnSpc>
                  <a:spcPct val="80000"/>
                </a:lnSpc>
                <a:spcBef>
                  <a:spcPts val="649"/>
                </a:spcBef>
                <a:buClr>
                  <a:srgbClr val="000066"/>
                </a:buClr>
                <a:buFont typeface="Wingdings" charset="2"/>
                <a:buChar char=""/>
                <a:tabLst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  <a:tab algn="l" pos="6934320"/>
                  <a:tab algn="l" pos="726444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Increase N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6" name="agent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11040" cy="3142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317" name="agent" descr=""/>
          <p:cNvPicPr/>
          <p:nvPr/>
        </p:nvPicPr>
        <p:blipFill>
          <a:blip r:embed="rId2"/>
          <a:stretch/>
        </p:blipFill>
        <p:spPr>
          <a:xfrm>
            <a:off x="2362320" y="1905120"/>
            <a:ext cx="311040" cy="314280"/>
          </a:xfrm>
          <a:prstGeom prst="rect">
            <a:avLst/>
          </a:prstGeom>
          <a:ln w="28440">
            <a:solidFill>
              <a:srgbClr val="339933"/>
            </a:solidFill>
            <a:miter/>
          </a:ln>
        </p:spPr>
      </p:pic>
      <p:pic>
        <p:nvPicPr>
          <p:cNvPr id="1318" name="agent" descr=""/>
          <p:cNvPicPr/>
          <p:nvPr/>
        </p:nvPicPr>
        <p:blipFill>
          <a:blip r:embed="rId3"/>
          <a:stretch/>
        </p:blipFill>
        <p:spPr>
          <a:xfrm>
            <a:off x="2743200" y="1905120"/>
            <a:ext cx="311040" cy="314280"/>
          </a:xfrm>
          <a:prstGeom prst="rect">
            <a:avLst/>
          </a:prstGeom>
          <a:ln w="28440">
            <a:solidFill>
              <a:srgbClr val="339933"/>
            </a:solidFill>
            <a:miter/>
          </a:ln>
        </p:spPr>
      </p:pic>
      <p:pic>
        <p:nvPicPr>
          <p:cNvPr id="1319" name="agent" descr=""/>
          <p:cNvPicPr/>
          <p:nvPr/>
        </p:nvPicPr>
        <p:blipFill>
          <a:blip r:embed="rId4"/>
          <a:stretch/>
        </p:blipFill>
        <p:spPr>
          <a:xfrm>
            <a:off x="3124080" y="1905120"/>
            <a:ext cx="311400" cy="314280"/>
          </a:xfrm>
          <a:prstGeom prst="rect">
            <a:avLst/>
          </a:prstGeom>
          <a:ln w="28440">
            <a:solidFill>
              <a:srgbClr val="339933"/>
            </a:solidFill>
            <a:miter/>
          </a:ln>
        </p:spPr>
      </p:pic>
      <p:pic>
        <p:nvPicPr>
          <p:cNvPr id="1320" name="agent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311040" cy="314280"/>
          </a:xfrm>
          <a:prstGeom prst="rect">
            <a:avLst/>
          </a:prstGeom>
          <a:ln w="28440">
            <a:solidFill>
              <a:srgbClr val="339933"/>
            </a:solidFill>
            <a:miter/>
          </a:ln>
        </p:spPr>
      </p:pic>
      <p:pic>
        <p:nvPicPr>
          <p:cNvPr id="1321" name="agent" descr=""/>
          <p:cNvPicPr/>
          <p:nvPr/>
        </p:nvPicPr>
        <p:blipFill>
          <a:blip r:embed="rId6"/>
          <a:stretch/>
        </p:blipFill>
        <p:spPr>
          <a:xfrm>
            <a:off x="3886200" y="1905120"/>
            <a:ext cx="311040" cy="314280"/>
          </a:xfrm>
          <a:prstGeom prst="rect">
            <a:avLst/>
          </a:prstGeom>
          <a:ln w="28440">
            <a:solidFill>
              <a:srgbClr val="339933"/>
            </a:solidFill>
            <a:miter/>
          </a:ln>
        </p:spPr>
      </p:pic>
      <p:sp>
        <p:nvSpPr>
          <p:cNvPr id="1322" name=""/>
          <p:cNvSpPr/>
          <p:nvPr/>
        </p:nvSpPr>
        <p:spPr>
          <a:xfrm flipH="1" flipV="1">
            <a:off x="3200400" y="1676160"/>
            <a:ext cx="457200" cy="15228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3" name="agent" descr=""/>
          <p:cNvPicPr/>
          <p:nvPr/>
        </p:nvPicPr>
        <p:blipFill>
          <a:blip r:embed="rId7"/>
          <a:stretch/>
        </p:blipFill>
        <p:spPr>
          <a:xfrm>
            <a:off x="2692440" y="3352680"/>
            <a:ext cx="311040" cy="314280"/>
          </a:xfrm>
          <a:prstGeom prst="rect">
            <a:avLst/>
          </a:prstGeom>
          <a:ln w="28440">
            <a:solidFill>
              <a:srgbClr val="505682"/>
            </a:solidFill>
            <a:miter/>
          </a:ln>
        </p:spPr>
      </p:pic>
      <p:pic>
        <p:nvPicPr>
          <p:cNvPr id="1324" name="agent" descr=""/>
          <p:cNvPicPr/>
          <p:nvPr/>
        </p:nvPicPr>
        <p:blipFill>
          <a:blip r:embed="rId8"/>
          <a:stretch/>
        </p:blipFill>
        <p:spPr>
          <a:xfrm>
            <a:off x="2438280" y="3962520"/>
            <a:ext cx="311400" cy="314280"/>
          </a:xfrm>
          <a:prstGeom prst="rect">
            <a:avLst/>
          </a:prstGeom>
          <a:ln w="28440">
            <a:solidFill>
              <a:srgbClr val="505682"/>
            </a:solidFill>
            <a:miter/>
          </a:ln>
        </p:spPr>
      </p:pic>
      <p:pic>
        <p:nvPicPr>
          <p:cNvPr id="1325" name="agent" descr=""/>
          <p:cNvPicPr/>
          <p:nvPr/>
        </p:nvPicPr>
        <p:blipFill>
          <a:blip r:embed="rId9"/>
          <a:stretch/>
        </p:blipFill>
        <p:spPr>
          <a:xfrm>
            <a:off x="2889360" y="3886200"/>
            <a:ext cx="311040" cy="314280"/>
          </a:xfrm>
          <a:prstGeom prst="rect">
            <a:avLst/>
          </a:prstGeom>
          <a:ln w="28440">
            <a:solidFill>
              <a:srgbClr val="505682"/>
            </a:solidFill>
            <a:miter/>
          </a:ln>
        </p:spPr>
      </p:pic>
      <p:pic>
        <p:nvPicPr>
          <p:cNvPr id="1326" name="agent" descr=""/>
          <p:cNvPicPr/>
          <p:nvPr/>
        </p:nvPicPr>
        <p:blipFill>
          <a:blip r:embed="rId10"/>
          <a:stretch/>
        </p:blipFill>
        <p:spPr>
          <a:xfrm>
            <a:off x="3429000" y="3962520"/>
            <a:ext cx="311040" cy="314280"/>
          </a:xfrm>
          <a:prstGeom prst="rect">
            <a:avLst/>
          </a:prstGeom>
          <a:ln w="28440">
            <a:solidFill>
              <a:srgbClr val="505682"/>
            </a:solidFill>
            <a:miter/>
          </a:ln>
        </p:spPr>
      </p:pic>
      <p:pic>
        <p:nvPicPr>
          <p:cNvPr id="1327" name="agent" descr=""/>
          <p:cNvPicPr/>
          <p:nvPr/>
        </p:nvPicPr>
        <p:blipFill>
          <a:blip r:embed="rId11"/>
          <a:stretch/>
        </p:blipFill>
        <p:spPr>
          <a:xfrm>
            <a:off x="3581280" y="3505320"/>
            <a:ext cx="311400" cy="314280"/>
          </a:xfrm>
          <a:prstGeom prst="rect">
            <a:avLst/>
          </a:prstGeom>
          <a:ln w="28440">
            <a:solidFill>
              <a:srgbClr val="505682"/>
            </a:solidFill>
            <a:miter/>
          </a:ln>
        </p:spPr>
      </p:pic>
      <p:pic>
        <p:nvPicPr>
          <p:cNvPr id="1328" name="agent" descr=""/>
          <p:cNvPicPr/>
          <p:nvPr/>
        </p:nvPicPr>
        <p:blipFill>
          <a:blip r:embed="rId12"/>
          <a:stretch/>
        </p:blipFill>
        <p:spPr>
          <a:xfrm>
            <a:off x="2438280" y="5486400"/>
            <a:ext cx="311400" cy="3142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1329" name="agent" descr=""/>
          <p:cNvPicPr/>
          <p:nvPr/>
        </p:nvPicPr>
        <p:blipFill>
          <a:blip r:embed="rId13"/>
          <a:stretch/>
        </p:blipFill>
        <p:spPr>
          <a:xfrm>
            <a:off x="2590920" y="5943600"/>
            <a:ext cx="311040" cy="3142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1330" name="agent" descr=""/>
          <p:cNvPicPr/>
          <p:nvPr/>
        </p:nvPicPr>
        <p:blipFill>
          <a:blip r:embed="rId14"/>
          <a:stretch/>
        </p:blipFill>
        <p:spPr>
          <a:xfrm>
            <a:off x="3048120" y="5410080"/>
            <a:ext cx="311040" cy="3142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1331" name="agent" descr=""/>
          <p:cNvPicPr/>
          <p:nvPr/>
        </p:nvPicPr>
        <p:blipFill>
          <a:blip r:embed="rId15"/>
          <a:stretch/>
        </p:blipFill>
        <p:spPr>
          <a:xfrm>
            <a:off x="3124080" y="5943600"/>
            <a:ext cx="311400" cy="3142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1332" name="agent" descr=""/>
          <p:cNvPicPr/>
          <p:nvPr/>
        </p:nvPicPr>
        <p:blipFill>
          <a:blip r:embed="rId16"/>
          <a:stretch/>
        </p:blipFill>
        <p:spPr>
          <a:xfrm>
            <a:off x="3581280" y="5715000"/>
            <a:ext cx="311400" cy="3142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41A-3A3F-410D-8249-7AF92ADEEBF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oMMA Society Sub-societies and Role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2057400" y="4851360"/>
            <a:ext cx="4419360" cy="1944720"/>
            <a:chOff x="2057400" y="4851360"/>
            <a:chExt cx="4419360" cy="1944720"/>
          </a:xfrm>
        </p:grpSpPr>
        <p:sp>
          <p:nvSpPr>
            <p:cNvPr id="1335" name=""/>
            <p:cNvSpPr/>
            <p:nvPr/>
          </p:nvSpPr>
          <p:spPr>
            <a:xfrm>
              <a:off x="2057400" y="485136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743200" y="490860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2336760" y="4876920"/>
              <a:ext cx="444600" cy="609480"/>
              <a:chOff x="2336760" y="4876920"/>
              <a:chExt cx="444600" cy="609480"/>
            </a:xfrm>
          </p:grpSpPr>
          <p:sp>
            <p:nvSpPr>
              <p:cNvPr id="1338" name=""/>
              <p:cNvSpPr/>
              <p:nvPr/>
            </p:nvSpPr>
            <p:spPr>
              <a:xfrm>
                <a:off x="2336760" y="487692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9" name=""/>
              <p:cNvGrpSpPr/>
              <p:nvPr/>
            </p:nvGrpSpPr>
            <p:grpSpPr>
              <a:xfrm>
                <a:off x="2387160" y="4902480"/>
                <a:ext cx="353880" cy="550800"/>
                <a:chOff x="2387160" y="4902480"/>
                <a:chExt cx="353880" cy="550800"/>
              </a:xfrm>
            </p:grpSpPr>
            <p:sp>
              <p:nvSpPr>
                <p:cNvPr id="1340" name=""/>
                <p:cNvSpPr/>
                <p:nvPr/>
              </p:nvSpPr>
              <p:spPr>
                <a:xfrm flipH="1">
                  <a:off x="2489760" y="493308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 flipH="1">
                  <a:off x="2581200" y="490248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 flipH="1">
                  <a:off x="2507400" y="506232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 flipH="1">
                  <a:off x="2423880" y="506736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 flipH="1">
                  <a:off x="2387160" y="522468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flipH="1">
                  <a:off x="2534760" y="522432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46" name=""/>
          <p:cNvGrpSpPr/>
          <p:nvPr/>
        </p:nvGrpSpPr>
        <p:grpSpPr>
          <a:xfrm>
            <a:off x="4343400" y="355680"/>
            <a:ext cx="3886200" cy="1944720"/>
            <a:chOff x="4343400" y="355680"/>
            <a:chExt cx="3886200" cy="1944720"/>
          </a:xfrm>
        </p:grpSpPr>
        <p:sp>
          <p:nvSpPr>
            <p:cNvPr id="1347" name=""/>
            <p:cNvSpPr/>
            <p:nvPr/>
          </p:nvSpPr>
          <p:spPr>
            <a:xfrm>
              <a:off x="4343400" y="35568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876560" y="43200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9" name="" descr=""/>
            <p:cNvPicPr/>
            <p:nvPr/>
          </p:nvPicPr>
          <p:blipFill>
            <a:blip r:embed="rId1"/>
            <a:stretch/>
          </p:blipFill>
          <p:spPr>
            <a:xfrm>
              <a:off x="4495680" y="50796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350" name=""/>
          <p:cNvGrpSpPr/>
          <p:nvPr/>
        </p:nvGrpSpPr>
        <p:grpSpPr>
          <a:xfrm>
            <a:off x="152280" y="355680"/>
            <a:ext cx="3886200" cy="1944720"/>
            <a:chOff x="152280" y="355680"/>
            <a:chExt cx="3886200" cy="1944720"/>
          </a:xfrm>
        </p:grpSpPr>
        <p:sp>
          <p:nvSpPr>
            <p:cNvPr id="1351" name=""/>
            <p:cNvSpPr/>
            <p:nvPr/>
          </p:nvSpPr>
          <p:spPr>
            <a:xfrm>
              <a:off x="152280" y="35568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09480" y="43200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3" name="onto_01" descr=""/>
            <p:cNvPicPr/>
            <p:nvPr/>
          </p:nvPicPr>
          <p:blipFill>
            <a:blip r:embed="rId2"/>
            <a:stretch/>
          </p:blipFill>
          <p:spPr>
            <a:xfrm>
              <a:off x="295200" y="50796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354" name=""/>
          <p:cNvGrpSpPr/>
          <p:nvPr/>
        </p:nvGrpSpPr>
        <p:grpSpPr>
          <a:xfrm>
            <a:off x="2057400" y="2184480"/>
            <a:ext cx="4267080" cy="2971800"/>
            <a:chOff x="2057400" y="2184480"/>
            <a:chExt cx="4267080" cy="2971800"/>
          </a:xfrm>
        </p:grpSpPr>
        <p:sp>
          <p:nvSpPr>
            <p:cNvPr id="1355" name=""/>
            <p:cNvSpPr/>
            <p:nvPr/>
          </p:nvSpPr>
          <p:spPr>
            <a:xfrm>
              <a:off x="2057400" y="264168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666880" y="279396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connection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209680" y="218448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943600" y="4318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5562360" y="218448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0" name="" descr=""/>
            <p:cNvPicPr/>
            <p:nvPr/>
          </p:nvPicPr>
          <p:blipFill>
            <a:blip r:embed="rId3"/>
            <a:stretch/>
          </p:blipFill>
          <p:spPr>
            <a:xfrm>
              <a:off x="2209680" y="279396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361" name=""/>
          <p:cNvGrpSpPr/>
          <p:nvPr/>
        </p:nvGrpSpPr>
        <p:grpSpPr>
          <a:xfrm>
            <a:off x="457200" y="965160"/>
            <a:ext cx="3276360" cy="999720"/>
            <a:chOff x="457200" y="965160"/>
            <a:chExt cx="3276360" cy="999720"/>
          </a:xfrm>
        </p:grpSpPr>
        <p:sp>
          <p:nvSpPr>
            <p:cNvPr id="1362" name=""/>
            <p:cNvSpPr/>
            <p:nvPr/>
          </p:nvSpPr>
          <p:spPr>
            <a:xfrm>
              <a:off x="1447560" y="104112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3" name="agent" descr=""/>
            <p:cNvPicPr/>
            <p:nvPr/>
          </p:nvPicPr>
          <p:blipFill>
            <a:blip r:embed="rId4"/>
            <a:stretch/>
          </p:blipFill>
          <p:spPr>
            <a:xfrm>
              <a:off x="1066680" y="96516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64" name="agent" descr=""/>
            <p:cNvPicPr/>
            <p:nvPr/>
          </p:nvPicPr>
          <p:blipFill>
            <a:blip r:embed="rId5"/>
            <a:stretch/>
          </p:blipFill>
          <p:spPr>
            <a:xfrm>
              <a:off x="457200" y="126972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65" name="agent" descr=""/>
            <p:cNvPicPr/>
            <p:nvPr/>
          </p:nvPicPr>
          <p:blipFill>
            <a:blip r:embed="rId6"/>
            <a:stretch/>
          </p:blipFill>
          <p:spPr>
            <a:xfrm>
              <a:off x="990360" y="165060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66" name="agent" descr=""/>
            <p:cNvPicPr/>
            <p:nvPr/>
          </p:nvPicPr>
          <p:blipFill>
            <a:blip r:embed="rId7"/>
            <a:stretch/>
          </p:blipFill>
          <p:spPr>
            <a:xfrm>
              <a:off x="1523880" y="149832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1367" name=""/>
          <p:cNvGrpSpPr/>
          <p:nvPr/>
        </p:nvGrpSpPr>
        <p:grpSpPr>
          <a:xfrm>
            <a:off x="4495680" y="965160"/>
            <a:ext cx="3657600" cy="1219320"/>
            <a:chOff x="4495680" y="965160"/>
            <a:chExt cx="3657600" cy="1219320"/>
          </a:xfrm>
        </p:grpSpPr>
        <p:sp>
          <p:nvSpPr>
            <p:cNvPr id="1368" name=""/>
            <p:cNvSpPr/>
            <p:nvPr/>
          </p:nvSpPr>
          <p:spPr>
            <a:xfrm>
              <a:off x="5410080" y="1498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724280" y="172728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495680" y="96516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1" name="agent" descr=""/>
            <p:cNvPicPr/>
            <p:nvPr/>
          </p:nvPicPr>
          <p:blipFill>
            <a:blip r:embed="rId8"/>
            <a:stretch/>
          </p:blipFill>
          <p:spPr>
            <a:xfrm>
              <a:off x="5715000" y="96516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72" name="agent" descr=""/>
            <p:cNvPicPr/>
            <p:nvPr/>
          </p:nvPicPr>
          <p:blipFill>
            <a:blip r:embed="rId9"/>
            <a:stretch/>
          </p:blipFill>
          <p:spPr>
            <a:xfrm>
              <a:off x="6095880" y="96516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73" name="agent" descr=""/>
            <p:cNvPicPr/>
            <p:nvPr/>
          </p:nvPicPr>
          <p:blipFill>
            <a:blip r:embed="rId10"/>
            <a:stretch/>
          </p:blipFill>
          <p:spPr>
            <a:xfrm>
              <a:off x="6476760" y="96516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74" name="agent" descr=""/>
            <p:cNvPicPr/>
            <p:nvPr/>
          </p:nvPicPr>
          <p:blipFill>
            <a:blip r:embed="rId11"/>
            <a:stretch/>
          </p:blipFill>
          <p:spPr>
            <a:xfrm>
              <a:off x="6858000" y="96516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75" name="agent" descr=""/>
            <p:cNvPicPr/>
            <p:nvPr/>
          </p:nvPicPr>
          <p:blipFill>
            <a:blip r:embed="rId12"/>
            <a:stretch/>
          </p:blipFill>
          <p:spPr>
            <a:xfrm>
              <a:off x="7238880" y="96516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76" name="agent" descr=""/>
            <p:cNvPicPr/>
            <p:nvPr/>
          </p:nvPicPr>
          <p:blipFill>
            <a:blip r:embed="rId13"/>
            <a:stretch/>
          </p:blipFill>
          <p:spPr>
            <a:xfrm>
              <a:off x="7619760" y="96516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77" name="agent" descr=""/>
            <p:cNvPicPr/>
            <p:nvPr/>
          </p:nvPicPr>
          <p:blipFill>
            <a:blip r:embed="rId14"/>
            <a:stretch/>
          </p:blipFill>
          <p:spPr>
            <a:xfrm>
              <a:off x="6095880" y="172728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1378" name="agent" descr=""/>
            <p:cNvPicPr/>
            <p:nvPr/>
          </p:nvPicPr>
          <p:blipFill>
            <a:blip r:embed="rId15"/>
            <a:stretch/>
          </p:blipFill>
          <p:spPr>
            <a:xfrm>
              <a:off x="6476760" y="172728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1379" name=""/>
          <p:cNvGrpSpPr/>
          <p:nvPr/>
        </p:nvGrpSpPr>
        <p:grpSpPr>
          <a:xfrm>
            <a:off x="2209680" y="5451480"/>
            <a:ext cx="3962520" cy="1000080"/>
            <a:chOff x="2209680" y="5451480"/>
            <a:chExt cx="3962520" cy="1000080"/>
          </a:xfrm>
        </p:grpSpPr>
        <p:grpSp>
          <p:nvGrpSpPr>
            <p:cNvPr id="1380" name=""/>
            <p:cNvGrpSpPr/>
            <p:nvPr/>
          </p:nvGrpSpPr>
          <p:grpSpPr>
            <a:xfrm>
              <a:off x="3504960" y="5689800"/>
              <a:ext cx="1371600" cy="761760"/>
              <a:chOff x="3504960" y="5689800"/>
              <a:chExt cx="1371600" cy="761760"/>
            </a:xfrm>
          </p:grpSpPr>
          <p:pic>
            <p:nvPicPr>
              <p:cNvPr id="1381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38480" y="568980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1382" name=""/>
              <p:cNvSpPr/>
              <p:nvPr/>
            </p:nvSpPr>
            <p:spPr>
              <a:xfrm>
                <a:off x="3504960" y="599436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4572000" y="5451480"/>
              <a:ext cx="1600200" cy="924120"/>
              <a:chOff x="4572000" y="5451480"/>
              <a:chExt cx="1600200" cy="924120"/>
            </a:xfrm>
          </p:grpSpPr>
          <p:pic>
            <p:nvPicPr>
              <p:cNvPr id="1384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75000" y="545148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1385" name=""/>
              <p:cNvSpPr/>
              <p:nvPr/>
            </p:nvSpPr>
            <p:spPr>
              <a:xfrm>
                <a:off x="4572000" y="576576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2209680" y="5613480"/>
              <a:ext cx="1371600" cy="762120"/>
              <a:chOff x="2209680" y="5613480"/>
              <a:chExt cx="1371600" cy="762120"/>
            </a:xfrm>
          </p:grpSpPr>
          <p:pic>
            <p:nvPicPr>
              <p:cNvPr id="1387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561348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1388" name=""/>
              <p:cNvSpPr/>
              <p:nvPr/>
            </p:nvSpPr>
            <p:spPr>
              <a:xfrm>
                <a:off x="2209680" y="591840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9" name=""/>
          <p:cNvGrpSpPr/>
          <p:nvPr/>
        </p:nvGrpSpPr>
        <p:grpSpPr>
          <a:xfrm>
            <a:off x="2057400" y="3251160"/>
            <a:ext cx="3968640" cy="1219320"/>
            <a:chOff x="2057400" y="3251160"/>
            <a:chExt cx="3968640" cy="1219320"/>
          </a:xfrm>
        </p:grpSpPr>
        <p:sp>
          <p:nvSpPr>
            <p:cNvPr id="1390" name=""/>
            <p:cNvSpPr/>
            <p:nvPr/>
          </p:nvSpPr>
          <p:spPr>
            <a:xfrm>
              <a:off x="2057400" y="37846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1" name="agent" descr=""/>
            <p:cNvPicPr/>
            <p:nvPr/>
          </p:nvPicPr>
          <p:blipFill>
            <a:blip r:embed="rId19"/>
            <a:stretch/>
          </p:blipFill>
          <p:spPr>
            <a:xfrm>
              <a:off x="3276360" y="347976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392" name="agent" descr=""/>
            <p:cNvPicPr/>
            <p:nvPr/>
          </p:nvPicPr>
          <p:blipFill>
            <a:blip r:embed="rId20"/>
            <a:stretch/>
          </p:blipFill>
          <p:spPr>
            <a:xfrm>
              <a:off x="4114800" y="33274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393" name="agent" descr=""/>
            <p:cNvPicPr/>
            <p:nvPr/>
          </p:nvPicPr>
          <p:blipFill>
            <a:blip r:embed="rId21"/>
            <a:stretch/>
          </p:blipFill>
          <p:spPr>
            <a:xfrm>
              <a:off x="5105160" y="355608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394" name="agent" descr=""/>
            <p:cNvPicPr/>
            <p:nvPr/>
          </p:nvPicPr>
          <p:blipFill>
            <a:blip r:embed="rId22"/>
            <a:stretch/>
          </p:blipFill>
          <p:spPr>
            <a:xfrm>
              <a:off x="4267080" y="40132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395" name="agent" descr=""/>
            <p:cNvPicPr/>
            <p:nvPr/>
          </p:nvPicPr>
          <p:blipFill>
            <a:blip r:embed="rId23"/>
            <a:stretch/>
          </p:blipFill>
          <p:spPr>
            <a:xfrm>
              <a:off x="5715000" y="325116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grpSp>
        <p:nvGrpSpPr>
          <p:cNvPr id="1396" name=""/>
          <p:cNvGrpSpPr/>
          <p:nvPr/>
        </p:nvGrpSpPr>
        <p:grpSpPr>
          <a:xfrm>
            <a:off x="0" y="299880"/>
            <a:ext cx="8839080" cy="6558120"/>
            <a:chOff x="0" y="299880"/>
            <a:chExt cx="8839080" cy="6558120"/>
          </a:xfrm>
        </p:grpSpPr>
        <p:grpSp>
          <p:nvGrpSpPr>
            <p:cNvPr id="1397" name=""/>
            <p:cNvGrpSpPr/>
            <p:nvPr/>
          </p:nvGrpSpPr>
          <p:grpSpPr>
            <a:xfrm>
              <a:off x="0" y="299880"/>
              <a:ext cx="8839080" cy="6558120"/>
              <a:chOff x="0" y="299880"/>
              <a:chExt cx="8839080" cy="6558120"/>
            </a:xfrm>
          </p:grpSpPr>
          <p:sp>
            <p:nvSpPr>
              <p:cNvPr id="1398" name=""/>
              <p:cNvSpPr/>
              <p:nvPr/>
            </p:nvSpPr>
            <p:spPr>
              <a:xfrm>
                <a:off x="0" y="299880"/>
                <a:ext cx="4191120" cy="65534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400800" y="2370240"/>
                <a:ext cx="2438280" cy="42717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038480" y="2362320"/>
                <a:ext cx="2438640" cy="44956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4178160" y="299880"/>
              <a:ext cx="4191120" cy="207036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20C-89A3-46E5-99F3-F2641491C4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ase of the annotation-dedicated sub-societie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4343400" y="355680"/>
            <a:ext cx="3886200" cy="1944720"/>
            <a:chOff x="4343400" y="355680"/>
            <a:chExt cx="3886200" cy="1944720"/>
          </a:xfrm>
        </p:grpSpPr>
        <p:grpSp>
          <p:nvGrpSpPr>
            <p:cNvPr id="1404" name=""/>
            <p:cNvGrpSpPr/>
            <p:nvPr/>
          </p:nvGrpSpPr>
          <p:grpSpPr>
            <a:xfrm>
              <a:off x="4343400" y="355680"/>
              <a:ext cx="3886200" cy="1944720"/>
              <a:chOff x="4343400" y="355680"/>
              <a:chExt cx="3886200" cy="1944720"/>
            </a:xfrm>
          </p:grpSpPr>
          <p:sp>
            <p:nvSpPr>
              <p:cNvPr id="1405" name=""/>
              <p:cNvSpPr/>
              <p:nvPr/>
            </p:nvSpPr>
            <p:spPr>
              <a:xfrm>
                <a:off x="4343400" y="355680"/>
                <a:ext cx="3886200" cy="19447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2844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876560" y="432000"/>
                <a:ext cx="3200400" cy="47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nnotations Socie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95680" y="507960"/>
                <a:ext cx="380880" cy="28908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</p:grpSp>
        <p:sp>
          <p:nvSpPr>
            <p:cNvPr id="1408" name=""/>
            <p:cNvSpPr/>
            <p:nvPr/>
          </p:nvSpPr>
          <p:spPr>
            <a:xfrm>
              <a:off x="5410080" y="1498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724280" y="172728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495680" y="965160"/>
              <a:ext cx="1752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1" name="agent" descr=""/>
            <p:cNvPicPr/>
            <p:nvPr/>
          </p:nvPicPr>
          <p:blipFill>
            <a:blip r:embed="rId2"/>
            <a:stretch/>
          </p:blipFill>
          <p:spPr>
            <a:xfrm>
              <a:off x="5715000" y="96516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12" name="agent" descr=""/>
            <p:cNvPicPr/>
            <p:nvPr/>
          </p:nvPicPr>
          <p:blipFill>
            <a:blip r:embed="rId3"/>
            <a:stretch/>
          </p:blipFill>
          <p:spPr>
            <a:xfrm>
              <a:off x="6095880" y="965160"/>
              <a:ext cx="31140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13" name="agent" descr=""/>
            <p:cNvPicPr/>
            <p:nvPr/>
          </p:nvPicPr>
          <p:blipFill>
            <a:blip r:embed="rId4"/>
            <a:stretch/>
          </p:blipFill>
          <p:spPr>
            <a:xfrm>
              <a:off x="6477120" y="96516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14" name="agent" descr=""/>
            <p:cNvPicPr/>
            <p:nvPr/>
          </p:nvPicPr>
          <p:blipFill>
            <a:blip r:embed="rId5"/>
            <a:stretch/>
          </p:blipFill>
          <p:spPr>
            <a:xfrm>
              <a:off x="6858000" y="96516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15" name="agent" descr=""/>
            <p:cNvPicPr/>
            <p:nvPr/>
          </p:nvPicPr>
          <p:blipFill>
            <a:blip r:embed="rId6"/>
            <a:stretch/>
          </p:blipFill>
          <p:spPr>
            <a:xfrm>
              <a:off x="7238880" y="965160"/>
              <a:ext cx="31140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16" name="agent" descr=""/>
            <p:cNvPicPr/>
            <p:nvPr/>
          </p:nvPicPr>
          <p:blipFill>
            <a:blip r:embed="rId7"/>
            <a:stretch/>
          </p:blipFill>
          <p:spPr>
            <a:xfrm>
              <a:off x="7620120" y="96516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17" name="agent" descr=""/>
            <p:cNvPicPr/>
            <p:nvPr/>
          </p:nvPicPr>
          <p:blipFill>
            <a:blip r:embed="rId8"/>
            <a:stretch/>
          </p:blipFill>
          <p:spPr>
            <a:xfrm>
              <a:off x="6095880" y="172728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1418" name="agent" descr=""/>
            <p:cNvPicPr/>
            <p:nvPr/>
          </p:nvPicPr>
          <p:blipFill>
            <a:blip r:embed="rId9"/>
            <a:stretch/>
          </p:blipFill>
          <p:spPr>
            <a:xfrm>
              <a:off x="6477120" y="172728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sp>
          <p:nvSpPr>
            <p:cNvPr id="1419" name=""/>
            <p:cNvSpPr/>
            <p:nvPr/>
          </p:nvSpPr>
          <p:spPr>
            <a:xfrm flipV="1">
              <a:off x="6248520" y="1341000"/>
              <a:ext cx="0" cy="304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6477120" y="1341000"/>
              <a:ext cx="1295280" cy="304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 flipV="1">
              <a:off x="5943240" y="1341000"/>
              <a:ext cx="228600" cy="304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6324480" y="1341000"/>
              <a:ext cx="685800" cy="304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3" name=""/>
          <p:cNvSpPr/>
          <p:nvPr/>
        </p:nvSpPr>
        <p:spPr>
          <a:xfrm>
            <a:off x="39600" y="304920"/>
            <a:ext cx="4354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7000"/>
          </a:bodyPr>
          <a:p>
            <a:pPr marL="191160" indent="-19116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e annotation-dedicated sub-socie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400" indent="-12744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istributed local sour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400" indent="-12744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rchive annotations on documents of the O.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-25560" y="251460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646560" indent="-18468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earch &amp; retrieve references matching 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Hierarchy: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to federate two aspects of the socie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18468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ediator role (manage social behavior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920" indent="-184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ervising distributed query solv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920" indent="-184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aging allocation of new 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920" indent="-184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nitoring new annotations to trigger push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18468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rchivist role (manage local behavior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920" indent="-184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tached to &amp; exploits local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920" indent="-184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swers to query &amp; proposes archiving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CD0-7191-46D8-B161-EFF262F59A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Role card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12240" y="457200"/>
            <a:ext cx="90932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Role cards </a:t>
            </a:r>
            <a:r>
              <a:rPr b="0" lang="en-GB" sz="3000" spc="-1" strike="noStrike">
                <a:solidFill>
                  <a:srgbClr val="000066"/>
                </a:solidFill>
                <a:latin typeface="Arial"/>
              </a:rPr>
              <a:t>of E. Kendall for object oriented software engineering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27" name=""/>
          <p:cNvGraphicFramePr/>
          <p:nvPr/>
        </p:nvGraphicFramePr>
        <p:xfrm>
          <a:off x="0" y="1457280"/>
          <a:ext cx="9144000" cy="29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57280"/>
                    <a:ext cx="914400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9" name=""/>
          <p:cNvGraphicFramePr/>
          <p:nvPr/>
        </p:nvGraphicFramePr>
        <p:xfrm>
          <a:off x="0" y="4348080"/>
          <a:ext cx="9177480" cy="2497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348080"/>
                    <a:ext cx="9177480" cy="24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BFF-C255-4D89-AADD-1AE78AFDED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1" name=""/>
          <p:cNvGrpSpPr/>
          <p:nvPr/>
        </p:nvGrpSpPr>
        <p:grpSpPr>
          <a:xfrm>
            <a:off x="152280" y="533520"/>
            <a:ext cx="8991720" cy="4343400"/>
            <a:chOff x="152280" y="533520"/>
            <a:chExt cx="8991720" cy="4343400"/>
          </a:xfrm>
        </p:grpSpPr>
        <p:graphicFrame>
          <p:nvGraphicFramePr>
            <p:cNvPr id="1432" name=""/>
            <p:cNvGraphicFramePr/>
            <p:nvPr/>
          </p:nvGraphicFramePr>
          <p:xfrm>
            <a:off x="457200" y="990720"/>
            <a:ext cx="86868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4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990720"/>
                      <a:ext cx="8686800" cy="38862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434" name=""/>
            <p:cNvSpPr/>
            <p:nvPr/>
          </p:nvSpPr>
          <p:spPr>
            <a:xfrm>
              <a:off x="152280" y="533520"/>
              <a:ext cx="8839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80000"/>
                </a:lnSpc>
                <a:spcBef>
                  <a:spcPts val="751"/>
                </a:spcBef>
                <a:buClr>
                  <a:srgbClr val="000066"/>
                </a:buClr>
                <a:buSzPct val="105000"/>
                <a:buFont typeface="Wingdings" charset="2"/>
                <a:buChar char=""/>
                <a:tabLst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1" lang="en-US" sz="3000" spc="-1" strike="noStrike">
                  <a:solidFill>
                    <a:srgbClr val="000066"/>
                  </a:solidFill>
                  <a:latin typeface="Arial"/>
                </a:rPr>
                <a:t>Roles </a:t>
              </a:r>
              <a:r>
                <a:rPr b="0" lang="en-US" sz="3000" spc="-1" strike="noStrike" u="sng">
                  <a:solidFill>
                    <a:srgbClr val="000066"/>
                  </a:solidFill>
                  <a:uFillTx/>
                  <a:latin typeface="Arial"/>
                </a:rPr>
                <a:t>characteristics</a:t>
              </a:r>
              <a:r>
                <a:rPr b="1" lang="en-US" sz="3000" spc="-1" strike="noStrike">
                  <a:solidFill>
                    <a:srgbClr val="000066"/>
                  </a:solidFill>
                  <a:latin typeface="Arial"/>
                </a:rPr>
                <a:t> 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Analysis of role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152280" y="4800600"/>
            <a:ext cx="8991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To summarize: Architec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cietal level functionalities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Functional sub-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unctional sub-societies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Functional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80000"/>
              </a:lnSpc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ext step : role interactions supporting the chosen organizational structures</a:t>
            </a:r>
            <a:r>
              <a:rPr b="0" i="1" lang="en-US" sz="2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E8E-4435-4771-A810-5925D3586BF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160" y="-3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Fabien Gandon, Rose Dieng-Kuntz, Olivier Corby, Alain Giboin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Semantic Web and Multi-Agent Approach to Corporate Memory Managemen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3080" y="3429000"/>
            <a:ext cx="8724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1960" indent="-2919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Corporate semantic We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RDF(S) framework and its XML synta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y-based annotated memo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Multi-agent management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op-down organisational function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Roles and inter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Agent types implementation and configu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abien.Gandon@sophia.inria.f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Roles interactions to support organisational structure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2057400" y="4846680"/>
            <a:ext cx="4419360" cy="1944720"/>
            <a:chOff x="2057400" y="4846680"/>
            <a:chExt cx="4419360" cy="1944720"/>
          </a:xfrm>
        </p:grpSpPr>
        <p:sp>
          <p:nvSpPr>
            <p:cNvPr id="1439" name=""/>
            <p:cNvSpPr/>
            <p:nvPr/>
          </p:nvSpPr>
          <p:spPr>
            <a:xfrm>
              <a:off x="2057400" y="484668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743200" y="490392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1" name=""/>
            <p:cNvGrpSpPr/>
            <p:nvPr/>
          </p:nvGrpSpPr>
          <p:grpSpPr>
            <a:xfrm>
              <a:off x="2336760" y="4872240"/>
              <a:ext cx="444600" cy="609480"/>
              <a:chOff x="2336760" y="4872240"/>
              <a:chExt cx="444600" cy="609480"/>
            </a:xfrm>
          </p:grpSpPr>
          <p:sp>
            <p:nvSpPr>
              <p:cNvPr id="1442" name=""/>
              <p:cNvSpPr/>
              <p:nvPr/>
            </p:nvSpPr>
            <p:spPr>
              <a:xfrm>
                <a:off x="2336760" y="487224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3" name=""/>
              <p:cNvGrpSpPr/>
              <p:nvPr/>
            </p:nvGrpSpPr>
            <p:grpSpPr>
              <a:xfrm>
                <a:off x="2387160" y="4897800"/>
                <a:ext cx="353880" cy="550800"/>
                <a:chOff x="2387160" y="4897800"/>
                <a:chExt cx="353880" cy="550800"/>
              </a:xfrm>
            </p:grpSpPr>
            <p:sp>
              <p:nvSpPr>
                <p:cNvPr id="1444" name=""/>
                <p:cNvSpPr/>
                <p:nvPr/>
              </p:nvSpPr>
              <p:spPr>
                <a:xfrm flipH="1">
                  <a:off x="2489760" y="492840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 flipH="1">
                  <a:off x="2581200" y="489780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 flipH="1">
                  <a:off x="2507400" y="505764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 flipH="1">
                  <a:off x="2423880" y="506268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 flipH="1">
                  <a:off x="2387160" y="522000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 flipH="1">
                  <a:off x="2534760" y="521964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50" name=""/>
          <p:cNvGrpSpPr/>
          <p:nvPr/>
        </p:nvGrpSpPr>
        <p:grpSpPr>
          <a:xfrm>
            <a:off x="4343400" y="351000"/>
            <a:ext cx="3886200" cy="1944360"/>
            <a:chOff x="4343400" y="351000"/>
            <a:chExt cx="3886200" cy="1944360"/>
          </a:xfrm>
        </p:grpSpPr>
        <p:sp>
          <p:nvSpPr>
            <p:cNvPr id="1451" name=""/>
            <p:cNvSpPr/>
            <p:nvPr/>
          </p:nvSpPr>
          <p:spPr>
            <a:xfrm>
              <a:off x="4343400" y="351000"/>
              <a:ext cx="3886200" cy="1944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876560" y="426960"/>
              <a:ext cx="32004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3" name="" descr=""/>
            <p:cNvPicPr/>
            <p:nvPr/>
          </p:nvPicPr>
          <p:blipFill>
            <a:blip r:embed="rId1"/>
            <a:stretch/>
          </p:blipFill>
          <p:spPr>
            <a:xfrm>
              <a:off x="4495680" y="502920"/>
              <a:ext cx="380880" cy="288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454" name=""/>
          <p:cNvGrpSpPr/>
          <p:nvPr/>
        </p:nvGrpSpPr>
        <p:grpSpPr>
          <a:xfrm>
            <a:off x="152280" y="351000"/>
            <a:ext cx="3886200" cy="1944360"/>
            <a:chOff x="152280" y="351000"/>
            <a:chExt cx="3886200" cy="1944360"/>
          </a:xfrm>
        </p:grpSpPr>
        <p:sp>
          <p:nvSpPr>
            <p:cNvPr id="1455" name=""/>
            <p:cNvSpPr/>
            <p:nvPr/>
          </p:nvSpPr>
          <p:spPr>
            <a:xfrm>
              <a:off x="152280" y="351000"/>
              <a:ext cx="3886200" cy="1944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09480" y="426960"/>
              <a:ext cx="335268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7" name="onto_01" descr=""/>
            <p:cNvPicPr/>
            <p:nvPr/>
          </p:nvPicPr>
          <p:blipFill>
            <a:blip r:embed="rId2"/>
            <a:stretch/>
          </p:blipFill>
          <p:spPr>
            <a:xfrm>
              <a:off x="295200" y="502920"/>
              <a:ext cx="314280" cy="3171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sp>
        <p:nvSpPr>
          <p:cNvPr id="1458" name=""/>
          <p:cNvSpPr/>
          <p:nvPr/>
        </p:nvSpPr>
        <p:spPr>
          <a:xfrm>
            <a:off x="2057400" y="2637000"/>
            <a:ext cx="4191120" cy="194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666880" y="2789280"/>
            <a:ext cx="3657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connection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" descr=""/>
          <p:cNvPicPr/>
          <p:nvPr/>
        </p:nvPicPr>
        <p:blipFill>
          <a:blip r:embed="rId3"/>
          <a:stretch/>
        </p:blipFill>
        <p:spPr>
          <a:xfrm>
            <a:off x="2209680" y="2789280"/>
            <a:ext cx="474840" cy="3794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1461" name=""/>
          <p:cNvGrpSpPr/>
          <p:nvPr/>
        </p:nvGrpSpPr>
        <p:grpSpPr>
          <a:xfrm>
            <a:off x="457200" y="960480"/>
            <a:ext cx="3276360" cy="999720"/>
            <a:chOff x="457200" y="960480"/>
            <a:chExt cx="3276360" cy="999720"/>
          </a:xfrm>
        </p:grpSpPr>
        <p:sp>
          <p:nvSpPr>
            <p:cNvPr id="1462" name=""/>
            <p:cNvSpPr/>
            <p:nvPr/>
          </p:nvSpPr>
          <p:spPr>
            <a:xfrm>
              <a:off x="1447560" y="103644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63" name="agent" descr=""/>
            <p:cNvPicPr/>
            <p:nvPr/>
          </p:nvPicPr>
          <p:blipFill>
            <a:blip r:embed="rId4"/>
            <a:stretch/>
          </p:blipFill>
          <p:spPr>
            <a:xfrm>
              <a:off x="1066680" y="96048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464" name="agent" descr=""/>
            <p:cNvPicPr/>
            <p:nvPr/>
          </p:nvPicPr>
          <p:blipFill>
            <a:blip r:embed="rId5"/>
            <a:stretch/>
          </p:blipFill>
          <p:spPr>
            <a:xfrm>
              <a:off x="457200" y="126504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465" name="agent" descr=""/>
            <p:cNvPicPr/>
            <p:nvPr/>
          </p:nvPicPr>
          <p:blipFill>
            <a:blip r:embed="rId6"/>
            <a:stretch/>
          </p:blipFill>
          <p:spPr>
            <a:xfrm>
              <a:off x="990360" y="164592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466" name="agent" descr=""/>
            <p:cNvPicPr/>
            <p:nvPr/>
          </p:nvPicPr>
          <p:blipFill>
            <a:blip r:embed="rId7"/>
            <a:stretch/>
          </p:blipFill>
          <p:spPr>
            <a:xfrm>
              <a:off x="1523880" y="149364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1467" name=""/>
          <p:cNvGrpSpPr/>
          <p:nvPr/>
        </p:nvGrpSpPr>
        <p:grpSpPr>
          <a:xfrm>
            <a:off x="4495680" y="960480"/>
            <a:ext cx="3657600" cy="1219320"/>
            <a:chOff x="4495680" y="960480"/>
            <a:chExt cx="3657600" cy="1219320"/>
          </a:xfrm>
        </p:grpSpPr>
        <p:sp>
          <p:nvSpPr>
            <p:cNvPr id="1468" name=""/>
            <p:cNvSpPr/>
            <p:nvPr/>
          </p:nvSpPr>
          <p:spPr>
            <a:xfrm>
              <a:off x="5410080" y="14940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724280" y="17226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495680" y="96048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1" name="agent" descr=""/>
            <p:cNvPicPr/>
            <p:nvPr/>
          </p:nvPicPr>
          <p:blipFill>
            <a:blip r:embed="rId8"/>
            <a:stretch/>
          </p:blipFill>
          <p:spPr>
            <a:xfrm>
              <a:off x="5715000" y="9604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2" name="agent" descr=""/>
            <p:cNvPicPr/>
            <p:nvPr/>
          </p:nvPicPr>
          <p:blipFill>
            <a:blip r:embed="rId9"/>
            <a:stretch/>
          </p:blipFill>
          <p:spPr>
            <a:xfrm>
              <a:off x="6095880" y="9604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3" name="agent" descr=""/>
            <p:cNvPicPr/>
            <p:nvPr/>
          </p:nvPicPr>
          <p:blipFill>
            <a:blip r:embed="rId10"/>
            <a:stretch/>
          </p:blipFill>
          <p:spPr>
            <a:xfrm>
              <a:off x="6476760" y="9604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4" name="agent" descr=""/>
            <p:cNvPicPr/>
            <p:nvPr/>
          </p:nvPicPr>
          <p:blipFill>
            <a:blip r:embed="rId11"/>
            <a:stretch/>
          </p:blipFill>
          <p:spPr>
            <a:xfrm>
              <a:off x="6858000" y="9604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5" name="agent" descr=""/>
            <p:cNvPicPr/>
            <p:nvPr/>
          </p:nvPicPr>
          <p:blipFill>
            <a:blip r:embed="rId12"/>
            <a:stretch/>
          </p:blipFill>
          <p:spPr>
            <a:xfrm>
              <a:off x="7238880" y="9604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6" name="agent" descr=""/>
            <p:cNvPicPr/>
            <p:nvPr/>
          </p:nvPicPr>
          <p:blipFill>
            <a:blip r:embed="rId13"/>
            <a:stretch/>
          </p:blipFill>
          <p:spPr>
            <a:xfrm>
              <a:off x="7619760" y="9604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7" name="agent" descr=""/>
            <p:cNvPicPr/>
            <p:nvPr/>
          </p:nvPicPr>
          <p:blipFill>
            <a:blip r:embed="rId14"/>
            <a:stretch/>
          </p:blipFill>
          <p:spPr>
            <a:xfrm>
              <a:off x="6095880" y="172260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1478" name="agent" descr=""/>
            <p:cNvPicPr/>
            <p:nvPr/>
          </p:nvPicPr>
          <p:blipFill>
            <a:blip r:embed="rId15"/>
            <a:stretch/>
          </p:blipFill>
          <p:spPr>
            <a:xfrm>
              <a:off x="6476760" y="172260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1479" name=""/>
          <p:cNvGrpSpPr/>
          <p:nvPr/>
        </p:nvGrpSpPr>
        <p:grpSpPr>
          <a:xfrm>
            <a:off x="2209680" y="5446800"/>
            <a:ext cx="3962520" cy="1000080"/>
            <a:chOff x="2209680" y="5446800"/>
            <a:chExt cx="3962520" cy="1000080"/>
          </a:xfrm>
        </p:grpSpPr>
        <p:grpSp>
          <p:nvGrpSpPr>
            <p:cNvPr id="1480" name=""/>
            <p:cNvGrpSpPr/>
            <p:nvPr/>
          </p:nvGrpSpPr>
          <p:grpSpPr>
            <a:xfrm>
              <a:off x="3504960" y="5685120"/>
              <a:ext cx="1371600" cy="761760"/>
              <a:chOff x="3504960" y="5685120"/>
              <a:chExt cx="1371600" cy="761760"/>
            </a:xfrm>
          </p:grpSpPr>
          <p:pic>
            <p:nvPicPr>
              <p:cNvPr id="1481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38480" y="568512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1482" name=""/>
              <p:cNvSpPr/>
              <p:nvPr/>
            </p:nvSpPr>
            <p:spPr>
              <a:xfrm>
                <a:off x="3504960" y="598968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4572000" y="5446800"/>
              <a:ext cx="1600200" cy="924120"/>
              <a:chOff x="4572000" y="5446800"/>
              <a:chExt cx="1600200" cy="924120"/>
            </a:xfrm>
          </p:grpSpPr>
          <p:pic>
            <p:nvPicPr>
              <p:cNvPr id="1484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75000" y="544680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1485" name=""/>
              <p:cNvSpPr/>
              <p:nvPr/>
            </p:nvSpPr>
            <p:spPr>
              <a:xfrm>
                <a:off x="4572000" y="576108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"/>
            <p:cNvGrpSpPr/>
            <p:nvPr/>
          </p:nvGrpSpPr>
          <p:grpSpPr>
            <a:xfrm>
              <a:off x="2209680" y="5608800"/>
              <a:ext cx="1371600" cy="762120"/>
              <a:chOff x="2209680" y="5608800"/>
              <a:chExt cx="1371600" cy="762120"/>
            </a:xfrm>
          </p:grpSpPr>
          <p:pic>
            <p:nvPicPr>
              <p:cNvPr id="1487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560880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1488" name=""/>
              <p:cNvSpPr/>
              <p:nvPr/>
            </p:nvSpPr>
            <p:spPr>
              <a:xfrm>
                <a:off x="2209680" y="591372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9" name=""/>
          <p:cNvGrpSpPr/>
          <p:nvPr/>
        </p:nvGrpSpPr>
        <p:grpSpPr>
          <a:xfrm>
            <a:off x="2057400" y="3246480"/>
            <a:ext cx="3968640" cy="1219320"/>
            <a:chOff x="2057400" y="3246480"/>
            <a:chExt cx="3968640" cy="1219320"/>
          </a:xfrm>
        </p:grpSpPr>
        <p:sp>
          <p:nvSpPr>
            <p:cNvPr id="1490" name=""/>
            <p:cNvSpPr/>
            <p:nvPr/>
          </p:nvSpPr>
          <p:spPr>
            <a:xfrm>
              <a:off x="2057400" y="378000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1" name="agent" descr=""/>
            <p:cNvPicPr/>
            <p:nvPr/>
          </p:nvPicPr>
          <p:blipFill>
            <a:blip r:embed="rId19"/>
            <a:stretch/>
          </p:blipFill>
          <p:spPr>
            <a:xfrm>
              <a:off x="3276360" y="347508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92" name="agent" descr=""/>
            <p:cNvPicPr/>
            <p:nvPr/>
          </p:nvPicPr>
          <p:blipFill>
            <a:blip r:embed="rId20"/>
            <a:stretch/>
          </p:blipFill>
          <p:spPr>
            <a:xfrm>
              <a:off x="4114800" y="332280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93" name="agent" descr=""/>
            <p:cNvPicPr/>
            <p:nvPr/>
          </p:nvPicPr>
          <p:blipFill>
            <a:blip r:embed="rId21"/>
            <a:stretch/>
          </p:blipFill>
          <p:spPr>
            <a:xfrm>
              <a:off x="5105160" y="355140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94" name="agent" descr=""/>
            <p:cNvPicPr/>
            <p:nvPr/>
          </p:nvPicPr>
          <p:blipFill>
            <a:blip r:embed="rId22"/>
            <a:stretch/>
          </p:blipFill>
          <p:spPr>
            <a:xfrm>
              <a:off x="4267080" y="400860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95" name="agent" descr=""/>
            <p:cNvPicPr/>
            <p:nvPr/>
          </p:nvPicPr>
          <p:blipFill>
            <a:blip r:embed="rId23"/>
            <a:stretch/>
          </p:blipFill>
          <p:spPr>
            <a:xfrm>
              <a:off x="5715000" y="324648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sp>
        <p:nvSpPr>
          <p:cNvPr id="1496" name=""/>
          <p:cNvSpPr/>
          <p:nvPr/>
        </p:nvSpPr>
        <p:spPr>
          <a:xfrm flipV="1">
            <a:off x="6248520" y="1341000"/>
            <a:ext cx="0" cy="30492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6477120" y="1341000"/>
            <a:ext cx="1295280" cy="30492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H="1" flipV="1">
            <a:off x="5943240" y="1341000"/>
            <a:ext cx="228600" cy="30492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6324480" y="1341000"/>
            <a:ext cx="685800" cy="30492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3657600" y="3475080"/>
            <a:ext cx="304920" cy="7632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495680" y="3475080"/>
            <a:ext cx="457200" cy="15228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4648320" y="3855600"/>
            <a:ext cx="380880" cy="30492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3581280" y="3932280"/>
            <a:ext cx="533520" cy="22860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5486040" y="3475080"/>
            <a:ext cx="152280" cy="22860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124080" y="5786280"/>
            <a:ext cx="838440" cy="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4419720" y="5633640"/>
            <a:ext cx="609480" cy="15228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400800" y="2433600"/>
            <a:ext cx="838080" cy="914400"/>
          </a:xfrm>
          <a:custGeom>
            <a:avLst/>
            <a:gdLst>
              <a:gd name="textAreaLeft" fmla="*/ 240120 w 838080"/>
              <a:gd name="textAreaRight" fmla="*/ 733320 w 838080"/>
              <a:gd name="textAreaTop" fmla="*/ 56448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6118"/>
                </a:moveTo>
                <a:lnTo>
                  <a:pt x="6188" y="10636"/>
                </a:lnTo>
                <a:lnTo>
                  <a:pt x="6188" y="13336"/>
                </a:lnTo>
                <a:lnTo>
                  <a:pt x="13336" y="13336"/>
                </a:lnTo>
                <a:lnTo>
                  <a:pt x="13336" y="6188"/>
                </a:lnTo>
                <a:lnTo>
                  <a:pt x="10636" y="6188"/>
                </a:lnTo>
                <a:lnTo>
                  <a:pt x="16118" y="0"/>
                </a:lnTo>
                <a:lnTo>
                  <a:pt x="21600" y="6188"/>
                </a:lnTo>
                <a:lnTo>
                  <a:pt x="18900" y="6188"/>
                </a:lnTo>
                <a:lnTo>
                  <a:pt x="18900" y="18900"/>
                </a:lnTo>
                <a:lnTo>
                  <a:pt x="6188" y="18900"/>
                </a:lnTo>
                <a:lnTo>
                  <a:pt x="6188" y="216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1065960" y="2433600"/>
            <a:ext cx="838440" cy="914400"/>
          </a:xfrm>
          <a:custGeom>
            <a:avLst/>
            <a:gdLst>
              <a:gd name="textAreaLeft" fmla="*/ 240120 w 838440"/>
              <a:gd name="textAreaRight" fmla="*/ 733680 w 838440"/>
              <a:gd name="textAreaTop" fmla="*/ 56448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6118"/>
                </a:moveTo>
                <a:lnTo>
                  <a:pt x="6188" y="10636"/>
                </a:lnTo>
                <a:lnTo>
                  <a:pt x="6188" y="13336"/>
                </a:lnTo>
                <a:lnTo>
                  <a:pt x="13336" y="13336"/>
                </a:lnTo>
                <a:lnTo>
                  <a:pt x="13336" y="6188"/>
                </a:lnTo>
                <a:lnTo>
                  <a:pt x="10636" y="6188"/>
                </a:lnTo>
                <a:lnTo>
                  <a:pt x="16118" y="0"/>
                </a:lnTo>
                <a:lnTo>
                  <a:pt x="21600" y="6188"/>
                </a:lnTo>
                <a:lnTo>
                  <a:pt x="18900" y="6188"/>
                </a:lnTo>
                <a:lnTo>
                  <a:pt x="18900" y="18900"/>
                </a:lnTo>
                <a:lnTo>
                  <a:pt x="6188" y="18900"/>
                </a:lnTo>
                <a:lnTo>
                  <a:pt x="6188" y="216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486400" y="4262400"/>
            <a:ext cx="457200" cy="9144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0" y="299880"/>
            <a:ext cx="8381880" cy="6553080"/>
            <a:chOff x="0" y="299880"/>
            <a:chExt cx="8381880" cy="6553080"/>
          </a:xfrm>
        </p:grpSpPr>
        <p:grpSp>
          <p:nvGrpSpPr>
            <p:cNvPr id="1511" name=""/>
            <p:cNvGrpSpPr/>
            <p:nvPr/>
          </p:nvGrpSpPr>
          <p:grpSpPr>
            <a:xfrm>
              <a:off x="0" y="299880"/>
              <a:ext cx="8381880" cy="6553080"/>
              <a:chOff x="0" y="299880"/>
              <a:chExt cx="8381880" cy="6553080"/>
            </a:xfrm>
          </p:grpSpPr>
          <p:sp>
            <p:nvSpPr>
              <p:cNvPr id="1512" name=""/>
              <p:cNvSpPr/>
              <p:nvPr/>
            </p:nvSpPr>
            <p:spPr>
              <a:xfrm>
                <a:off x="0" y="299880"/>
                <a:ext cx="4190760" cy="655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4190760" y="2357280"/>
                <a:ext cx="4191120" cy="44956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4" name=""/>
            <p:cNvSpPr/>
            <p:nvPr/>
          </p:nvSpPr>
          <p:spPr>
            <a:xfrm>
              <a:off x="4178160" y="299880"/>
              <a:ext cx="4191120" cy="207000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5" name=""/>
          <p:cNvSpPr/>
          <p:nvPr/>
        </p:nvSpPr>
        <p:spPr>
          <a:xfrm>
            <a:off x="4038480" y="3200400"/>
            <a:ext cx="502920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0" spc="-1" strike="noStrike" u="sng">
                <a:solidFill>
                  <a:srgbClr val="000066"/>
                </a:solidFill>
                <a:uFillTx/>
                <a:latin typeface="Arial"/>
              </a:rPr>
              <a:t>Interactions specific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040" indent="-18648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Langu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6360" indent="-186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yntax: XML + RDF + 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6360" indent="-186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mantic: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040" indent="-18648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Protoc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6360" indent="-186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quaintanc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6360" indent="-186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ssages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6360" indent="-186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ased on scenarios and derived use-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2F46-BCB4-447C-AB6C-06A00E58F0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Interactions AA-AM in allocating an annotation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0" y="342720"/>
            <a:ext cx="86868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4600" indent="-4446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66"/>
                </a:solidFill>
                <a:uFillTx/>
                <a:latin typeface="Arial"/>
              </a:rPr>
              <a:t>C-Net : Annotation allocation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920880" indent="-2858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Mediator &amp; Archivists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iscuss best place to archiv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920880" indent="-2858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ntract-net 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(CfP, Proposal, Accept/Reject)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939960" y="1523880"/>
            <a:ext cx="8001000" cy="4648320"/>
            <a:chOff x="939960" y="1523880"/>
            <a:chExt cx="8001000" cy="4648320"/>
          </a:xfrm>
        </p:grpSpPr>
        <p:sp>
          <p:nvSpPr>
            <p:cNvPr id="1519" name=""/>
            <p:cNvSpPr/>
            <p:nvPr/>
          </p:nvSpPr>
          <p:spPr>
            <a:xfrm>
              <a:off x="939960" y="1523880"/>
              <a:ext cx="8001000" cy="46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0" name=""/>
            <p:cNvGrpSpPr/>
            <p:nvPr/>
          </p:nvGrpSpPr>
          <p:grpSpPr>
            <a:xfrm>
              <a:off x="1044720" y="2973240"/>
              <a:ext cx="7826400" cy="1405080"/>
              <a:chOff x="1044720" y="2973240"/>
              <a:chExt cx="7826400" cy="1405080"/>
            </a:xfrm>
          </p:grpSpPr>
          <p:sp>
            <p:nvSpPr>
              <p:cNvPr id="1521" name=""/>
              <p:cNvSpPr/>
              <p:nvPr/>
            </p:nvSpPr>
            <p:spPr>
              <a:xfrm>
                <a:off x="1044720" y="3000240"/>
                <a:ext cx="1635120" cy="358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AMLocal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: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679840" y="3179520"/>
                <a:ext cx="240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062680" y="3000240"/>
                <a:ext cx="746280" cy="358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*: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8124840" y="2973240"/>
                <a:ext cx="746280" cy="358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*:A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828040" y="3179520"/>
                <a:ext cx="229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062680" y="4019400"/>
                <a:ext cx="830160" cy="358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*:A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725840" y="4198680"/>
                <a:ext cx="333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1725840" y="3359160"/>
                <a:ext cx="0" cy="83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9" name=""/>
          <p:cNvGrpSpPr/>
          <p:nvPr/>
        </p:nvGrpSpPr>
        <p:grpSpPr>
          <a:xfrm>
            <a:off x="1725480" y="1562040"/>
            <a:ext cx="7145280" cy="4494240"/>
            <a:chOff x="1725480" y="1562040"/>
            <a:chExt cx="7145280" cy="4494240"/>
          </a:xfrm>
        </p:grpSpPr>
        <p:sp>
          <p:nvSpPr>
            <p:cNvPr id="1530" name=""/>
            <p:cNvSpPr/>
            <p:nvPr/>
          </p:nvSpPr>
          <p:spPr>
            <a:xfrm>
              <a:off x="2765160" y="3119400"/>
              <a:ext cx="93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512880" y="3060720"/>
              <a:ext cx="18756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412720" y="2790720"/>
              <a:ext cx="1446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urier New"/>
                </a:rPr>
                <a:t>1: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c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2180880" y="4074840"/>
              <a:ext cx="936720" cy="59040"/>
              <a:chOff x="2180880" y="4074840"/>
              <a:chExt cx="936720" cy="59040"/>
            </a:xfrm>
          </p:grpSpPr>
          <p:sp>
            <p:nvSpPr>
              <p:cNvPr id="1534" name=""/>
              <p:cNvSpPr/>
              <p:nvPr/>
            </p:nvSpPr>
            <p:spPr>
              <a:xfrm>
                <a:off x="2180880" y="4133880"/>
                <a:ext cx="93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928960" y="4074840"/>
                <a:ext cx="18828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6" name=""/>
            <p:cNvSpPr/>
            <p:nvPr/>
          </p:nvSpPr>
          <p:spPr>
            <a:xfrm>
              <a:off x="1830240" y="3805200"/>
              <a:ext cx="14446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urier New"/>
                </a:rPr>
                <a:t>2: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c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7" name=""/>
            <p:cNvGrpSpPr/>
            <p:nvPr/>
          </p:nvGrpSpPr>
          <p:grpSpPr>
            <a:xfrm>
              <a:off x="5924520" y="3070080"/>
              <a:ext cx="936360" cy="58680"/>
              <a:chOff x="5924520" y="3070080"/>
              <a:chExt cx="936360" cy="58680"/>
            </a:xfrm>
          </p:grpSpPr>
          <p:sp>
            <p:nvSpPr>
              <p:cNvPr id="1538" name=""/>
              <p:cNvSpPr/>
              <p:nvPr/>
            </p:nvSpPr>
            <p:spPr>
              <a:xfrm>
                <a:off x="5924520" y="3128760"/>
                <a:ext cx="9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6672600" y="3070080"/>
                <a:ext cx="187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0" name=""/>
            <p:cNvSpPr/>
            <p:nvPr/>
          </p:nvSpPr>
          <p:spPr>
            <a:xfrm>
              <a:off x="5572080" y="2827080"/>
              <a:ext cx="1446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urier New"/>
                </a:rPr>
                <a:t>2: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c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89600" y="3240000"/>
              <a:ext cx="1995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urier New"/>
                </a:rPr>
                <a:t>3:prop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2" name=""/>
            <p:cNvGrpSpPr/>
            <p:nvPr/>
          </p:nvGrpSpPr>
          <p:grpSpPr>
            <a:xfrm>
              <a:off x="7103520" y="3244320"/>
              <a:ext cx="934920" cy="58680"/>
              <a:chOff x="7103520" y="3244320"/>
              <a:chExt cx="934920" cy="58680"/>
            </a:xfrm>
          </p:grpSpPr>
          <p:sp>
            <p:nvSpPr>
              <p:cNvPr id="1543" name=""/>
              <p:cNvSpPr/>
              <p:nvPr/>
            </p:nvSpPr>
            <p:spPr>
              <a:xfrm flipH="1">
                <a:off x="7103520" y="3244320"/>
                <a:ext cx="9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 flipV="1">
                <a:off x="7103880" y="3258000"/>
                <a:ext cx="187920" cy="4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5" name=""/>
            <p:cNvSpPr/>
            <p:nvPr/>
          </p:nvSpPr>
          <p:spPr>
            <a:xfrm>
              <a:off x="3433680" y="4230720"/>
              <a:ext cx="18525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urier New"/>
                </a:rPr>
                <a:t>3:prop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3974760" y="4257360"/>
              <a:ext cx="936720" cy="60120"/>
              <a:chOff x="3974760" y="4257360"/>
              <a:chExt cx="936720" cy="60120"/>
            </a:xfrm>
          </p:grpSpPr>
          <p:sp>
            <p:nvSpPr>
              <p:cNvPr id="1547" name=""/>
              <p:cNvSpPr/>
              <p:nvPr/>
            </p:nvSpPr>
            <p:spPr>
              <a:xfrm flipH="1">
                <a:off x="3974760" y="4257360"/>
                <a:ext cx="93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 flipV="1">
                <a:off x="3975120" y="4271400"/>
                <a:ext cx="18828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9" name=""/>
            <p:cNvSpPr/>
            <p:nvPr/>
          </p:nvSpPr>
          <p:spPr>
            <a:xfrm flipH="1" flipV="1">
              <a:off x="3255480" y="2399760"/>
              <a:ext cx="19080" cy="420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 flipV="1">
              <a:off x="3255840" y="2400120"/>
              <a:ext cx="2977920" cy="479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3020760" y="1561680"/>
              <a:ext cx="4064040" cy="838080"/>
            </a:xfrm>
            <a:prstGeom prst="foldedCorner">
              <a:avLst>
                <a:gd name="adj" fmla="val 1417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105000" y="1697040"/>
              <a:ext cx="423396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protocol fipa contract 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content &lt;RDF Annotation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language CoMMA-RD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ontology CoMMA Ont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447720" y="2693880"/>
              <a:ext cx="18716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5:accept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re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2490480" y="4917600"/>
              <a:ext cx="6380280" cy="1138320"/>
            </a:xfrm>
            <a:prstGeom prst="foldedCorner">
              <a:avLst>
                <a:gd name="adj" fmla="val 1365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660400" y="4978440"/>
              <a:ext cx="621036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protocol fipa contract 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content &lt;propose bid = distance to current archive / refuse / not understood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language CoMMA-RD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ontology CoMMA Ont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7850160" y="3539880"/>
              <a:ext cx="0" cy="1317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 flipV="1">
              <a:off x="4976640" y="4557240"/>
              <a:ext cx="2959200" cy="360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686040" y="3235320"/>
              <a:ext cx="18399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urier New"/>
                </a:rPr>
                <a:t>4:prop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9" name=""/>
            <p:cNvGrpSpPr/>
            <p:nvPr/>
          </p:nvGrpSpPr>
          <p:grpSpPr>
            <a:xfrm>
              <a:off x="3955680" y="3240000"/>
              <a:ext cx="936720" cy="60480"/>
              <a:chOff x="3955680" y="3240000"/>
              <a:chExt cx="936720" cy="60480"/>
            </a:xfrm>
          </p:grpSpPr>
          <p:sp>
            <p:nvSpPr>
              <p:cNvPr id="1560" name=""/>
              <p:cNvSpPr/>
              <p:nvPr/>
            </p:nvSpPr>
            <p:spPr>
              <a:xfrm flipH="1">
                <a:off x="3955680" y="3240000"/>
                <a:ext cx="93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 flipV="1">
                <a:off x="3956040" y="3254040"/>
                <a:ext cx="18828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2" name=""/>
            <p:cNvSpPr/>
            <p:nvPr/>
          </p:nvSpPr>
          <p:spPr>
            <a:xfrm flipH="1" flipV="1">
              <a:off x="5127120" y="3539880"/>
              <a:ext cx="2722680" cy="1378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3" name=""/>
            <p:cNvGrpSpPr/>
            <p:nvPr/>
          </p:nvGrpSpPr>
          <p:grpSpPr>
            <a:xfrm>
              <a:off x="3909960" y="3060720"/>
              <a:ext cx="934920" cy="58680"/>
              <a:chOff x="3909960" y="3060720"/>
              <a:chExt cx="934920" cy="58680"/>
            </a:xfrm>
          </p:grpSpPr>
          <p:sp>
            <p:nvSpPr>
              <p:cNvPr id="1564" name=""/>
              <p:cNvSpPr/>
              <p:nvPr/>
            </p:nvSpPr>
            <p:spPr>
              <a:xfrm>
                <a:off x="3909960" y="3119400"/>
                <a:ext cx="9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656600" y="3060720"/>
                <a:ext cx="187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6" name=""/>
            <p:cNvSpPr/>
            <p:nvPr/>
          </p:nvSpPr>
          <p:spPr>
            <a:xfrm>
              <a:off x="2850840" y="3714480"/>
              <a:ext cx="280692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6:accept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re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7" name=""/>
            <p:cNvGrpSpPr/>
            <p:nvPr/>
          </p:nvGrpSpPr>
          <p:grpSpPr>
            <a:xfrm>
              <a:off x="3786120" y="4078080"/>
              <a:ext cx="934920" cy="60480"/>
              <a:chOff x="3786120" y="4078080"/>
              <a:chExt cx="934920" cy="60480"/>
            </a:xfrm>
          </p:grpSpPr>
          <p:sp>
            <p:nvSpPr>
              <p:cNvPr id="1568" name=""/>
              <p:cNvSpPr/>
              <p:nvPr/>
            </p:nvSpPr>
            <p:spPr>
              <a:xfrm>
                <a:off x="3786120" y="4138560"/>
                <a:ext cx="9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532760" y="4078080"/>
                <a:ext cx="187920" cy="4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0" name=""/>
            <p:cNvSpPr/>
            <p:nvPr/>
          </p:nvSpPr>
          <p:spPr>
            <a:xfrm>
              <a:off x="6527520" y="2708280"/>
              <a:ext cx="193680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6:accept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re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1" name=""/>
            <p:cNvGrpSpPr/>
            <p:nvPr/>
          </p:nvGrpSpPr>
          <p:grpSpPr>
            <a:xfrm>
              <a:off x="7103880" y="3073320"/>
              <a:ext cx="934920" cy="60480"/>
              <a:chOff x="7103880" y="3073320"/>
              <a:chExt cx="934920" cy="60480"/>
            </a:xfrm>
          </p:grpSpPr>
          <p:sp>
            <p:nvSpPr>
              <p:cNvPr id="1572" name=""/>
              <p:cNvSpPr/>
              <p:nvPr/>
            </p:nvSpPr>
            <p:spPr>
              <a:xfrm>
                <a:off x="7103880" y="3133800"/>
                <a:ext cx="9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850520" y="3073320"/>
                <a:ext cx="187920" cy="4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4" name=""/>
            <p:cNvSpPr/>
            <p:nvPr/>
          </p:nvSpPr>
          <p:spPr>
            <a:xfrm>
              <a:off x="1744560" y="4230720"/>
              <a:ext cx="1701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urier New"/>
                </a:rPr>
                <a:t>7: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in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2188800" y="4258800"/>
              <a:ext cx="936720" cy="58680"/>
              <a:chOff x="2188800" y="4258800"/>
              <a:chExt cx="936720" cy="58680"/>
            </a:xfrm>
          </p:grpSpPr>
          <p:sp>
            <p:nvSpPr>
              <p:cNvPr id="1576" name=""/>
              <p:cNvSpPr/>
              <p:nvPr/>
            </p:nvSpPr>
            <p:spPr>
              <a:xfrm flipH="1">
                <a:off x="2188800" y="4258800"/>
                <a:ext cx="93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 flipV="1">
                <a:off x="2189160" y="4272480"/>
                <a:ext cx="188280" cy="4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8" name=""/>
            <p:cNvSpPr/>
            <p:nvPr/>
          </p:nvSpPr>
          <p:spPr>
            <a:xfrm>
              <a:off x="5578200" y="3244680"/>
              <a:ext cx="1701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urier New"/>
                </a:rPr>
                <a:t>7: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in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9" name=""/>
            <p:cNvGrpSpPr/>
            <p:nvPr/>
          </p:nvGrpSpPr>
          <p:grpSpPr>
            <a:xfrm>
              <a:off x="5951160" y="3242880"/>
              <a:ext cx="936720" cy="60120"/>
              <a:chOff x="5951160" y="3242880"/>
              <a:chExt cx="936720" cy="60120"/>
            </a:xfrm>
          </p:grpSpPr>
          <p:sp>
            <p:nvSpPr>
              <p:cNvPr id="1580" name=""/>
              <p:cNvSpPr/>
              <p:nvPr/>
            </p:nvSpPr>
            <p:spPr>
              <a:xfrm flipH="1">
                <a:off x="5951160" y="3242880"/>
                <a:ext cx="93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H="1" flipV="1">
                <a:off x="5951520" y="3256920"/>
                <a:ext cx="18828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2" name=""/>
            <p:cNvSpPr/>
            <p:nvPr/>
          </p:nvSpPr>
          <p:spPr>
            <a:xfrm>
              <a:off x="2377800" y="3240000"/>
              <a:ext cx="1701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urier New"/>
                </a:rPr>
                <a:t>8: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in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3" name=""/>
            <p:cNvGrpSpPr/>
            <p:nvPr/>
          </p:nvGrpSpPr>
          <p:grpSpPr>
            <a:xfrm>
              <a:off x="2784240" y="3240000"/>
              <a:ext cx="936720" cy="60480"/>
              <a:chOff x="2784240" y="3240000"/>
              <a:chExt cx="936720" cy="60480"/>
            </a:xfrm>
          </p:grpSpPr>
          <p:sp>
            <p:nvSpPr>
              <p:cNvPr id="1584" name=""/>
              <p:cNvSpPr/>
              <p:nvPr/>
            </p:nvSpPr>
            <p:spPr>
              <a:xfrm flipH="1">
                <a:off x="2784240" y="3240000"/>
                <a:ext cx="93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H="1" flipV="1">
                <a:off x="2784600" y="3254040"/>
                <a:ext cx="18828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6" name=""/>
            <p:cNvSpPr/>
            <p:nvPr/>
          </p:nvSpPr>
          <p:spPr>
            <a:xfrm>
              <a:off x="1725480" y="2220840"/>
              <a:ext cx="0" cy="719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7" name=""/>
          <p:cNvSpPr/>
          <p:nvPr/>
        </p:nvSpPr>
        <p:spPr>
          <a:xfrm>
            <a:off x="0" y="62485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lvl="1" marL="690480" indent="-21420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Proposals are based on pseudo semantic distance over ontology sp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9D97-97C3-418A-B872-E58C85ECCF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/>
          <p:nvPr/>
        </p:nvSpPr>
        <p:spPr>
          <a:xfrm>
            <a:off x="0" y="38088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>
              <a:lnSpc>
                <a:spcPct val="130000"/>
              </a:lnSpc>
              <a:spcBef>
                <a:spcPts val="575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66"/>
                </a:solidFill>
                <a:uFillTx/>
                <a:latin typeface="Arial"/>
              </a:rPr>
              <a:t>Types &amp; Behaviors of Agents</a:t>
            </a:r>
            <a:br>
              <a:rPr sz="3000"/>
            </a:b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Ontology Archivist</a:t>
            </a:r>
            <a:br>
              <a:rPr sz="2300"/>
            </a:b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Enterprise Model Archivist</a:t>
            </a:r>
            <a:br>
              <a:rPr sz="2300"/>
            </a:b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Annotation Archivist</a:t>
            </a:r>
            <a:br>
              <a:rPr sz="2300"/>
            </a:b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Annotation Mediator</a:t>
            </a:r>
            <a:br>
              <a:rPr sz="2300"/>
            </a:b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Federable DF</a:t>
            </a:r>
            <a:br>
              <a:rPr sz="2300"/>
            </a:b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Interface Controller</a:t>
            </a:r>
            <a:br>
              <a:rPr sz="2300"/>
            </a:b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User Profile Manager </a:t>
            </a:r>
            <a:br>
              <a:rPr sz="2300"/>
            </a:b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User Profile Archivist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130000"/>
              </a:lnSpc>
              <a:spcBef>
                <a:spcPts val="575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Types and behaviors of agent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590" name=""/>
          <p:cNvGrpSpPr/>
          <p:nvPr/>
        </p:nvGrpSpPr>
        <p:grpSpPr>
          <a:xfrm>
            <a:off x="3619440" y="1066680"/>
            <a:ext cx="2787480" cy="4189320"/>
            <a:chOff x="3619440" y="1066680"/>
            <a:chExt cx="2787480" cy="4189320"/>
          </a:xfrm>
        </p:grpSpPr>
        <p:grpSp>
          <p:nvGrpSpPr>
            <p:cNvPr id="1591" name=""/>
            <p:cNvGrpSpPr/>
            <p:nvPr/>
          </p:nvGrpSpPr>
          <p:grpSpPr>
            <a:xfrm>
              <a:off x="5143320" y="1066680"/>
              <a:ext cx="1038600" cy="761760"/>
              <a:chOff x="5143320" y="1066680"/>
              <a:chExt cx="1038600" cy="761760"/>
            </a:xfrm>
          </p:grpSpPr>
          <p:sp>
            <p:nvSpPr>
              <p:cNvPr id="1592" name=""/>
              <p:cNvSpPr/>
              <p:nvPr/>
            </p:nvSpPr>
            <p:spPr>
              <a:xfrm>
                <a:off x="5143320" y="1066680"/>
                <a:ext cx="76320" cy="76176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9800 h 761760"/>
                  <a:gd name="textAreaBottom" fmla="*/ 74196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219640" y="1447560"/>
                <a:ext cx="3045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531760" y="1218960"/>
                <a:ext cx="65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Georgia"/>
                  </a:rPr>
                  <a:t>O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4228920" y="1981080"/>
              <a:ext cx="1939680" cy="459720"/>
              <a:chOff x="4228920" y="1981080"/>
              <a:chExt cx="1939680" cy="459720"/>
            </a:xfrm>
          </p:grpSpPr>
          <p:sp>
            <p:nvSpPr>
              <p:cNvPr id="1596" name=""/>
              <p:cNvSpPr/>
              <p:nvPr/>
            </p:nvSpPr>
            <p:spPr>
              <a:xfrm>
                <a:off x="4228920" y="2209680"/>
                <a:ext cx="129528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527800" y="1981080"/>
                <a:ext cx="64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Georgia"/>
                  </a:rPr>
                  <a:t>A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4228920" y="2438280"/>
              <a:ext cx="2009880" cy="459720"/>
              <a:chOff x="4228920" y="2438280"/>
              <a:chExt cx="2009880" cy="459720"/>
            </a:xfrm>
          </p:grpSpPr>
          <p:sp>
            <p:nvSpPr>
              <p:cNvPr id="1599" name=""/>
              <p:cNvSpPr/>
              <p:nvPr/>
            </p:nvSpPr>
            <p:spPr>
              <a:xfrm>
                <a:off x="4228920" y="2666880"/>
                <a:ext cx="129528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538240" y="2438280"/>
                <a:ext cx="70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Georgia"/>
                  </a:rPr>
                  <a:t>A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1" name=""/>
            <p:cNvGrpSpPr/>
            <p:nvPr/>
          </p:nvGrpSpPr>
          <p:grpSpPr>
            <a:xfrm>
              <a:off x="3619440" y="2895480"/>
              <a:ext cx="2548440" cy="459720"/>
              <a:chOff x="3619440" y="2895480"/>
              <a:chExt cx="2548440" cy="459720"/>
            </a:xfrm>
          </p:grpSpPr>
          <p:sp>
            <p:nvSpPr>
              <p:cNvPr id="1602" name=""/>
              <p:cNvSpPr/>
              <p:nvPr/>
            </p:nvSpPr>
            <p:spPr>
              <a:xfrm>
                <a:off x="3619440" y="3124080"/>
                <a:ext cx="19047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564880" y="2895480"/>
                <a:ext cx="60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Georgia"/>
                  </a:rPr>
                  <a:t>D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4" name=""/>
            <p:cNvGrpSpPr/>
            <p:nvPr/>
          </p:nvGrpSpPr>
          <p:grpSpPr>
            <a:xfrm>
              <a:off x="3848040" y="3352680"/>
              <a:ext cx="2198520" cy="459720"/>
              <a:chOff x="3848040" y="3352680"/>
              <a:chExt cx="2198520" cy="459720"/>
            </a:xfrm>
          </p:grpSpPr>
          <p:sp>
            <p:nvSpPr>
              <p:cNvPr id="1605" name=""/>
              <p:cNvSpPr/>
              <p:nvPr/>
            </p:nvSpPr>
            <p:spPr>
              <a:xfrm>
                <a:off x="3848040" y="3581280"/>
                <a:ext cx="16761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539680" y="3352680"/>
                <a:ext cx="50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Georgia"/>
                  </a:rPr>
                  <a:t>I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7" name=""/>
            <p:cNvGrpSpPr/>
            <p:nvPr/>
          </p:nvGrpSpPr>
          <p:grpSpPr>
            <a:xfrm>
              <a:off x="3924000" y="3835080"/>
              <a:ext cx="2473560" cy="459720"/>
              <a:chOff x="3924000" y="3835080"/>
              <a:chExt cx="2473560" cy="459720"/>
            </a:xfrm>
          </p:grpSpPr>
          <p:sp>
            <p:nvSpPr>
              <p:cNvPr id="1608" name=""/>
              <p:cNvSpPr/>
              <p:nvPr/>
            </p:nvSpPr>
            <p:spPr>
              <a:xfrm>
                <a:off x="3924000" y="4063680"/>
                <a:ext cx="160020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505120" y="383508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Georgia"/>
                  </a:rPr>
                  <a:t>UP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0" name=""/>
            <p:cNvGrpSpPr/>
            <p:nvPr/>
          </p:nvGrpSpPr>
          <p:grpSpPr>
            <a:xfrm>
              <a:off x="3695400" y="4284360"/>
              <a:ext cx="2711520" cy="971640"/>
              <a:chOff x="3695400" y="4284360"/>
              <a:chExt cx="2711520" cy="971640"/>
            </a:xfrm>
          </p:grpSpPr>
          <p:sp>
            <p:nvSpPr>
              <p:cNvPr id="1611" name=""/>
              <p:cNvSpPr/>
              <p:nvPr/>
            </p:nvSpPr>
            <p:spPr>
              <a:xfrm>
                <a:off x="3695400" y="4571640"/>
                <a:ext cx="1685160" cy="20340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5494680" y="4284360"/>
                <a:ext cx="91224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Georgia"/>
                  </a:rPr>
                  <a:t>UPA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Georgia"/>
                  </a:rPr>
                  <a:t>A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5427360" y="4444920"/>
                <a:ext cx="70200" cy="685800"/>
              </a:xfrm>
              <a:custGeom>
                <a:avLst/>
                <a:gdLst>
                  <a:gd name="textAreaLeft" fmla="*/ 45000 w 70200"/>
                  <a:gd name="textAreaRight" fmla="*/ 70560 w 70200"/>
                  <a:gd name="textAreaTop" fmla="*/ 17640 h 685800"/>
                  <a:gd name="textAreaBottom" fmla="*/ 668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4" name=""/>
          <p:cNvSpPr/>
          <p:nvPr/>
        </p:nvSpPr>
        <p:spPr>
          <a:xfrm>
            <a:off x="38160" y="5562720"/>
            <a:ext cx="8877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Organization + Roles + Protocols + Behaviors + Competencies = Multi-Agent Architec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5" name=""/>
          <p:cNvGrpSpPr/>
          <p:nvPr/>
        </p:nvGrpSpPr>
        <p:grpSpPr>
          <a:xfrm>
            <a:off x="6058080" y="1257480"/>
            <a:ext cx="3084840" cy="4000320"/>
            <a:chOff x="6058080" y="1257480"/>
            <a:chExt cx="3084840" cy="4000320"/>
          </a:xfrm>
        </p:grpSpPr>
        <p:grpSp>
          <p:nvGrpSpPr>
            <p:cNvPr id="1616" name=""/>
            <p:cNvGrpSpPr/>
            <p:nvPr/>
          </p:nvGrpSpPr>
          <p:grpSpPr>
            <a:xfrm>
              <a:off x="6209640" y="1994040"/>
              <a:ext cx="2552400" cy="457200"/>
              <a:chOff x="6209640" y="1994040"/>
              <a:chExt cx="2552400" cy="457200"/>
            </a:xfrm>
          </p:grpSpPr>
          <p:grpSp>
            <p:nvGrpSpPr>
              <p:cNvPr id="1617" name=""/>
              <p:cNvGrpSpPr/>
              <p:nvPr/>
            </p:nvGrpSpPr>
            <p:grpSpPr>
              <a:xfrm>
                <a:off x="7238520" y="1994040"/>
                <a:ext cx="1523520" cy="457200"/>
                <a:chOff x="7238520" y="1994040"/>
                <a:chExt cx="1523520" cy="457200"/>
              </a:xfrm>
            </p:grpSpPr>
            <p:sp>
              <p:nvSpPr>
                <p:cNvPr id="1618" name=""/>
                <p:cNvSpPr/>
                <p:nvPr/>
              </p:nvSpPr>
              <p:spPr>
                <a:xfrm>
                  <a:off x="7238520" y="1994040"/>
                  <a:ext cx="152352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9" name=""/>
                <p:cNvGrpSpPr/>
                <p:nvPr/>
              </p:nvGrpSpPr>
              <p:grpSpPr>
                <a:xfrm>
                  <a:off x="7276320" y="2054520"/>
                  <a:ext cx="380160" cy="383760"/>
                  <a:chOff x="7276320" y="2054520"/>
                  <a:chExt cx="380160" cy="383760"/>
                </a:xfrm>
              </p:grpSpPr>
              <p:sp>
                <p:nvSpPr>
                  <p:cNvPr id="1620" name=""/>
                  <p:cNvSpPr/>
                  <p:nvPr/>
                </p:nvSpPr>
                <p:spPr>
                  <a:xfrm>
                    <a:off x="7465320" y="2054520"/>
                    <a:ext cx="191160" cy="286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cc33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21" name=""/>
                  <p:cNvGrpSpPr/>
                  <p:nvPr/>
                </p:nvGrpSpPr>
                <p:grpSpPr>
                  <a:xfrm>
                    <a:off x="7276320" y="2109960"/>
                    <a:ext cx="334440" cy="328320"/>
                    <a:chOff x="7276320" y="2109960"/>
                    <a:chExt cx="334440" cy="328320"/>
                  </a:xfrm>
                </p:grpSpPr>
                <p:grpSp>
                  <p:nvGrpSpPr>
                    <p:cNvPr id="1622" name=""/>
                    <p:cNvGrpSpPr/>
                    <p:nvPr/>
                  </p:nvGrpSpPr>
                  <p:grpSpPr>
                    <a:xfrm>
                      <a:off x="7467480" y="2285280"/>
                      <a:ext cx="143280" cy="153000"/>
                      <a:chOff x="7467480" y="2285280"/>
                      <a:chExt cx="143280" cy="153000"/>
                    </a:xfrm>
                  </p:grpSpPr>
                  <p:sp>
                    <p:nvSpPr>
                      <p:cNvPr id="1623" name=""/>
                      <p:cNvSpPr/>
                      <p:nvPr/>
                    </p:nvSpPr>
                    <p:spPr>
                      <a:xfrm>
                        <a:off x="7467480" y="2285280"/>
                        <a:ext cx="143280" cy="153000"/>
                      </a:xfrm>
                      <a:custGeom>
                        <a:avLst/>
                        <a:gdLst>
                          <a:gd name="textAreaLeft" fmla="*/ 38160 w 143280"/>
                          <a:gd name="textAreaRight" fmla="*/ 105120 w 143280"/>
                          <a:gd name="textAreaTop" fmla="*/ 40680 h 153000"/>
                          <a:gd name="textAreaBottom" fmla="*/ 112320 h 1530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3791" y="12162"/>
                            </a:lnTo>
                            <a:lnTo>
                              <a:pt x="786" y="14846"/>
                            </a:lnTo>
                            <a:lnTo>
                              <a:pt x="4812" y="14689"/>
                            </a:lnTo>
                            <a:lnTo>
                              <a:pt x="3163" y="18437"/>
                            </a:lnTo>
                            <a:lnTo>
                              <a:pt x="6807" y="16719"/>
                            </a:lnTo>
                            <a:lnTo>
                              <a:pt x="6580" y="20741"/>
                            </a:lnTo>
                            <a:lnTo>
                              <a:pt x="9316" y="17784"/>
                            </a:lnTo>
                            <a:lnTo>
                              <a:pt x="10800" y="21600"/>
                            </a:lnTo>
                            <a:lnTo>
                              <a:pt x="12162" y="17809"/>
                            </a:lnTo>
                            <a:lnTo>
                              <a:pt x="14846" y="20814"/>
                            </a:lnTo>
                            <a:lnTo>
                              <a:pt x="14689" y="16788"/>
                            </a:lnTo>
                            <a:lnTo>
                              <a:pt x="18437" y="18437"/>
                            </a:lnTo>
                            <a:lnTo>
                              <a:pt x="16719" y="14793"/>
                            </a:lnTo>
                            <a:lnTo>
                              <a:pt x="20741" y="15020"/>
                            </a:lnTo>
                            <a:lnTo>
                              <a:pt x="17784" y="12284"/>
                            </a:lnTo>
                            <a:lnTo>
                              <a:pt x="21600" y="10800"/>
                            </a:lnTo>
                            <a:lnTo>
                              <a:pt x="17809" y="9438"/>
                            </a:lnTo>
                            <a:lnTo>
                              <a:pt x="20814" y="6754"/>
                            </a:lnTo>
                            <a:lnTo>
                              <a:pt x="16788" y="6911"/>
                            </a:lnTo>
                            <a:lnTo>
                              <a:pt x="18437" y="3163"/>
                            </a:lnTo>
                            <a:lnTo>
                              <a:pt x="14793" y="4881"/>
                            </a:lnTo>
                            <a:lnTo>
                              <a:pt x="15020" y="859"/>
                            </a:lnTo>
                            <a:lnTo>
                              <a:pt x="12284" y="3816"/>
                            </a:lnTo>
                            <a:lnTo>
                              <a:pt x="10800" y="0"/>
                            </a:lnTo>
                            <a:lnTo>
                              <a:pt x="9438" y="3791"/>
                            </a:lnTo>
                            <a:lnTo>
                              <a:pt x="6754" y="786"/>
                            </a:lnTo>
                            <a:lnTo>
                              <a:pt x="6911" y="4812"/>
                            </a:lnTo>
                            <a:lnTo>
                              <a:pt x="3163" y="3163"/>
                            </a:lnTo>
                            <a:lnTo>
                              <a:pt x="4881" y="6807"/>
                            </a:lnTo>
                            <a:lnTo>
                              <a:pt x="859" y="6580"/>
                            </a:lnTo>
                            <a:lnTo>
                              <a:pt x="3816" y="9316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840" bIns="24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4" name=""/>
                      <p:cNvSpPr/>
                      <p:nvPr/>
                    </p:nvSpPr>
                    <p:spPr>
                      <a:xfrm>
                        <a:off x="7524720" y="2347560"/>
                        <a:ext cx="28440" cy="284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6280" bIns="-26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25" name=""/>
                    <p:cNvGrpSpPr/>
                    <p:nvPr/>
                  </p:nvGrpSpPr>
                  <p:grpSpPr>
                    <a:xfrm>
                      <a:off x="7276320" y="2109960"/>
                      <a:ext cx="250200" cy="258120"/>
                      <a:chOff x="7276320" y="2109960"/>
                      <a:chExt cx="250200" cy="258120"/>
                    </a:xfrm>
                  </p:grpSpPr>
                  <p:sp>
                    <p:nvSpPr>
                      <p:cNvPr id="1626" name=""/>
                      <p:cNvSpPr/>
                      <p:nvPr/>
                    </p:nvSpPr>
                    <p:spPr>
                      <a:xfrm>
                        <a:off x="7276320" y="2109960"/>
                        <a:ext cx="250200" cy="258120"/>
                      </a:xfrm>
                      <a:custGeom>
                        <a:avLst/>
                        <a:gdLst>
                          <a:gd name="textAreaLeft" fmla="*/ 56880 w 250200"/>
                          <a:gd name="textAreaRight" fmla="*/ 193320 w 250200"/>
                          <a:gd name="textAreaTop" fmla="*/ 58680 h 258120"/>
                          <a:gd name="textAreaBottom" fmla="*/ 199440 h 2581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2562" y="11812"/>
                            </a:lnTo>
                            <a:lnTo>
                              <a:pt x="368" y="13595"/>
                            </a:lnTo>
                            <a:lnTo>
                              <a:pt x="3104" y="13909"/>
                            </a:lnTo>
                            <a:lnTo>
                              <a:pt x="1447" y="16200"/>
                            </a:lnTo>
                            <a:lnTo>
                              <a:pt x="4171" y="15795"/>
                            </a:lnTo>
                            <a:lnTo>
                              <a:pt x="3163" y="18437"/>
                            </a:lnTo>
                            <a:lnTo>
                              <a:pt x="5690" y="17340"/>
                            </a:lnTo>
                            <a:lnTo>
                              <a:pt x="5400" y="20153"/>
                            </a:lnTo>
                            <a:lnTo>
                              <a:pt x="7557" y="18440"/>
                            </a:lnTo>
                            <a:lnTo>
                              <a:pt x="8005" y="21232"/>
                            </a:lnTo>
                            <a:lnTo>
                              <a:pt x="9645" y="19019"/>
                            </a:lnTo>
                            <a:lnTo>
                              <a:pt x="10800" y="21600"/>
                            </a:lnTo>
                            <a:lnTo>
                              <a:pt x="11812" y="19038"/>
                            </a:lnTo>
                            <a:lnTo>
                              <a:pt x="13595" y="21232"/>
                            </a:lnTo>
                            <a:lnTo>
                              <a:pt x="13909" y="18496"/>
                            </a:lnTo>
                            <a:lnTo>
                              <a:pt x="16200" y="20153"/>
                            </a:lnTo>
                            <a:lnTo>
                              <a:pt x="15795" y="17429"/>
                            </a:lnTo>
                            <a:lnTo>
                              <a:pt x="18437" y="18437"/>
                            </a:lnTo>
                            <a:lnTo>
                              <a:pt x="17340" y="15910"/>
                            </a:lnTo>
                            <a:lnTo>
                              <a:pt x="20153" y="16200"/>
                            </a:lnTo>
                            <a:lnTo>
                              <a:pt x="18440" y="14043"/>
                            </a:lnTo>
                            <a:lnTo>
                              <a:pt x="21232" y="13595"/>
                            </a:lnTo>
                            <a:lnTo>
                              <a:pt x="19019" y="11955"/>
                            </a:lnTo>
                            <a:lnTo>
                              <a:pt x="21600" y="10800"/>
                            </a:lnTo>
                            <a:lnTo>
                              <a:pt x="19038" y="9788"/>
                            </a:lnTo>
                            <a:lnTo>
                              <a:pt x="21232" y="8005"/>
                            </a:lnTo>
                            <a:lnTo>
                              <a:pt x="18496" y="7691"/>
                            </a:lnTo>
                            <a:lnTo>
                              <a:pt x="20153" y="5400"/>
                            </a:lnTo>
                            <a:lnTo>
                              <a:pt x="17429" y="5805"/>
                            </a:lnTo>
                            <a:lnTo>
                              <a:pt x="18437" y="3163"/>
                            </a:lnTo>
                            <a:lnTo>
                              <a:pt x="15910" y="4260"/>
                            </a:lnTo>
                            <a:lnTo>
                              <a:pt x="16200" y="1447"/>
                            </a:lnTo>
                            <a:lnTo>
                              <a:pt x="14043" y="3160"/>
                            </a:lnTo>
                            <a:lnTo>
                              <a:pt x="13595" y="368"/>
                            </a:lnTo>
                            <a:lnTo>
                              <a:pt x="11955" y="2581"/>
                            </a:lnTo>
                            <a:lnTo>
                              <a:pt x="10800" y="0"/>
                            </a:lnTo>
                            <a:lnTo>
                              <a:pt x="9788" y="2562"/>
                            </a:lnTo>
                            <a:lnTo>
                              <a:pt x="8005" y="368"/>
                            </a:lnTo>
                            <a:lnTo>
                              <a:pt x="7691" y="3104"/>
                            </a:lnTo>
                            <a:lnTo>
                              <a:pt x="5400" y="1447"/>
                            </a:lnTo>
                            <a:lnTo>
                              <a:pt x="5805" y="4171"/>
                            </a:lnTo>
                            <a:lnTo>
                              <a:pt x="3163" y="3163"/>
                            </a:lnTo>
                            <a:lnTo>
                              <a:pt x="4260" y="5690"/>
                            </a:lnTo>
                            <a:lnTo>
                              <a:pt x="1447" y="5400"/>
                            </a:lnTo>
                            <a:lnTo>
                              <a:pt x="3160" y="7557"/>
                            </a:lnTo>
                            <a:lnTo>
                              <a:pt x="368" y="8005"/>
                            </a:lnTo>
                            <a:lnTo>
                              <a:pt x="2581" y="9645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7" name=""/>
                      <p:cNvSpPr/>
                      <p:nvPr/>
                    </p:nvSpPr>
                    <p:spPr>
                      <a:xfrm>
                        <a:off x="7382160" y="2219760"/>
                        <a:ext cx="38160" cy="38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440" bIns="-19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28" name=""/>
                <p:cNvSpPr/>
                <p:nvPr/>
              </p:nvSpPr>
              <p:spPr>
                <a:xfrm>
                  <a:off x="7527960" y="2028960"/>
                  <a:ext cx="12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Georgia"/>
                    </a:rPr>
                    <a:t>CORE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9" name=""/>
              <p:cNvSpPr/>
              <p:nvPr/>
            </p:nvSpPr>
            <p:spPr>
              <a:xfrm flipH="1">
                <a:off x="6209640" y="2210040"/>
                <a:ext cx="914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6209640" y="2451240"/>
              <a:ext cx="2552400" cy="457200"/>
              <a:chOff x="6209640" y="2451240"/>
              <a:chExt cx="2552400" cy="457200"/>
            </a:xfrm>
          </p:grpSpPr>
          <p:grpSp>
            <p:nvGrpSpPr>
              <p:cNvPr id="1631" name=""/>
              <p:cNvGrpSpPr/>
              <p:nvPr/>
            </p:nvGrpSpPr>
            <p:grpSpPr>
              <a:xfrm>
                <a:off x="7238520" y="2451240"/>
                <a:ext cx="1523520" cy="457200"/>
                <a:chOff x="7238520" y="2451240"/>
                <a:chExt cx="1523520" cy="457200"/>
              </a:xfrm>
            </p:grpSpPr>
            <p:sp>
              <p:nvSpPr>
                <p:cNvPr id="1632" name=""/>
                <p:cNvSpPr/>
                <p:nvPr/>
              </p:nvSpPr>
              <p:spPr>
                <a:xfrm>
                  <a:off x="7238520" y="2451240"/>
                  <a:ext cx="152352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3" name=""/>
                <p:cNvGrpSpPr/>
                <p:nvPr/>
              </p:nvGrpSpPr>
              <p:grpSpPr>
                <a:xfrm>
                  <a:off x="7288920" y="2511720"/>
                  <a:ext cx="380160" cy="383760"/>
                  <a:chOff x="7288920" y="2511720"/>
                  <a:chExt cx="380160" cy="383760"/>
                </a:xfrm>
              </p:grpSpPr>
              <p:sp>
                <p:nvSpPr>
                  <p:cNvPr id="1634" name=""/>
                  <p:cNvSpPr/>
                  <p:nvPr/>
                </p:nvSpPr>
                <p:spPr>
                  <a:xfrm>
                    <a:off x="7477920" y="2511720"/>
                    <a:ext cx="191160" cy="286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cc33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35" name=""/>
                  <p:cNvGrpSpPr/>
                  <p:nvPr/>
                </p:nvGrpSpPr>
                <p:grpSpPr>
                  <a:xfrm>
                    <a:off x="7288920" y="2567160"/>
                    <a:ext cx="334440" cy="328320"/>
                    <a:chOff x="7288920" y="2567160"/>
                    <a:chExt cx="334440" cy="328320"/>
                  </a:xfrm>
                </p:grpSpPr>
                <p:grpSp>
                  <p:nvGrpSpPr>
                    <p:cNvPr id="1636" name=""/>
                    <p:cNvGrpSpPr/>
                    <p:nvPr/>
                  </p:nvGrpSpPr>
                  <p:grpSpPr>
                    <a:xfrm>
                      <a:off x="7480080" y="2742480"/>
                      <a:ext cx="143280" cy="153000"/>
                      <a:chOff x="7480080" y="2742480"/>
                      <a:chExt cx="143280" cy="153000"/>
                    </a:xfrm>
                  </p:grpSpPr>
                  <p:sp>
                    <p:nvSpPr>
                      <p:cNvPr id="1637" name=""/>
                      <p:cNvSpPr/>
                      <p:nvPr/>
                    </p:nvSpPr>
                    <p:spPr>
                      <a:xfrm>
                        <a:off x="7480080" y="2742480"/>
                        <a:ext cx="143280" cy="153000"/>
                      </a:xfrm>
                      <a:custGeom>
                        <a:avLst/>
                        <a:gdLst>
                          <a:gd name="textAreaLeft" fmla="*/ 38160 w 143280"/>
                          <a:gd name="textAreaRight" fmla="*/ 105120 w 143280"/>
                          <a:gd name="textAreaTop" fmla="*/ 40680 h 153000"/>
                          <a:gd name="textAreaBottom" fmla="*/ 112320 h 1530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3791" y="12162"/>
                            </a:lnTo>
                            <a:lnTo>
                              <a:pt x="786" y="14846"/>
                            </a:lnTo>
                            <a:lnTo>
                              <a:pt x="4812" y="14689"/>
                            </a:lnTo>
                            <a:lnTo>
                              <a:pt x="3163" y="18437"/>
                            </a:lnTo>
                            <a:lnTo>
                              <a:pt x="6807" y="16719"/>
                            </a:lnTo>
                            <a:lnTo>
                              <a:pt x="6580" y="20741"/>
                            </a:lnTo>
                            <a:lnTo>
                              <a:pt x="9316" y="17784"/>
                            </a:lnTo>
                            <a:lnTo>
                              <a:pt x="10800" y="21600"/>
                            </a:lnTo>
                            <a:lnTo>
                              <a:pt x="12162" y="17809"/>
                            </a:lnTo>
                            <a:lnTo>
                              <a:pt x="14846" y="20814"/>
                            </a:lnTo>
                            <a:lnTo>
                              <a:pt x="14689" y="16788"/>
                            </a:lnTo>
                            <a:lnTo>
                              <a:pt x="18437" y="18437"/>
                            </a:lnTo>
                            <a:lnTo>
                              <a:pt x="16719" y="14793"/>
                            </a:lnTo>
                            <a:lnTo>
                              <a:pt x="20741" y="15020"/>
                            </a:lnTo>
                            <a:lnTo>
                              <a:pt x="17784" y="12284"/>
                            </a:lnTo>
                            <a:lnTo>
                              <a:pt x="21600" y="10800"/>
                            </a:lnTo>
                            <a:lnTo>
                              <a:pt x="17809" y="9438"/>
                            </a:lnTo>
                            <a:lnTo>
                              <a:pt x="20814" y="6754"/>
                            </a:lnTo>
                            <a:lnTo>
                              <a:pt x="16788" y="6911"/>
                            </a:lnTo>
                            <a:lnTo>
                              <a:pt x="18437" y="3163"/>
                            </a:lnTo>
                            <a:lnTo>
                              <a:pt x="14793" y="4881"/>
                            </a:lnTo>
                            <a:lnTo>
                              <a:pt x="15020" y="859"/>
                            </a:lnTo>
                            <a:lnTo>
                              <a:pt x="12284" y="3816"/>
                            </a:lnTo>
                            <a:lnTo>
                              <a:pt x="10800" y="0"/>
                            </a:lnTo>
                            <a:lnTo>
                              <a:pt x="9438" y="3791"/>
                            </a:lnTo>
                            <a:lnTo>
                              <a:pt x="6754" y="786"/>
                            </a:lnTo>
                            <a:lnTo>
                              <a:pt x="6911" y="4812"/>
                            </a:lnTo>
                            <a:lnTo>
                              <a:pt x="3163" y="3163"/>
                            </a:lnTo>
                            <a:lnTo>
                              <a:pt x="4881" y="6807"/>
                            </a:lnTo>
                            <a:lnTo>
                              <a:pt x="859" y="6580"/>
                            </a:lnTo>
                            <a:lnTo>
                              <a:pt x="3816" y="9316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840" bIns="24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8" name=""/>
                      <p:cNvSpPr/>
                      <p:nvPr/>
                    </p:nvSpPr>
                    <p:spPr>
                      <a:xfrm>
                        <a:off x="7537320" y="2804760"/>
                        <a:ext cx="28440" cy="284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6280" bIns="-26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39" name=""/>
                    <p:cNvGrpSpPr/>
                    <p:nvPr/>
                  </p:nvGrpSpPr>
                  <p:grpSpPr>
                    <a:xfrm>
                      <a:off x="7288920" y="2567160"/>
                      <a:ext cx="250200" cy="258120"/>
                      <a:chOff x="7288920" y="2567160"/>
                      <a:chExt cx="250200" cy="258120"/>
                    </a:xfrm>
                  </p:grpSpPr>
                  <p:sp>
                    <p:nvSpPr>
                      <p:cNvPr id="1640" name=""/>
                      <p:cNvSpPr/>
                      <p:nvPr/>
                    </p:nvSpPr>
                    <p:spPr>
                      <a:xfrm>
                        <a:off x="7288920" y="2567160"/>
                        <a:ext cx="250200" cy="258120"/>
                      </a:xfrm>
                      <a:custGeom>
                        <a:avLst/>
                        <a:gdLst>
                          <a:gd name="textAreaLeft" fmla="*/ 56880 w 250200"/>
                          <a:gd name="textAreaRight" fmla="*/ 193320 w 250200"/>
                          <a:gd name="textAreaTop" fmla="*/ 58680 h 258120"/>
                          <a:gd name="textAreaBottom" fmla="*/ 199440 h 2581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2562" y="11812"/>
                            </a:lnTo>
                            <a:lnTo>
                              <a:pt x="368" y="13595"/>
                            </a:lnTo>
                            <a:lnTo>
                              <a:pt x="3104" y="13909"/>
                            </a:lnTo>
                            <a:lnTo>
                              <a:pt x="1447" y="16200"/>
                            </a:lnTo>
                            <a:lnTo>
                              <a:pt x="4171" y="15795"/>
                            </a:lnTo>
                            <a:lnTo>
                              <a:pt x="3163" y="18437"/>
                            </a:lnTo>
                            <a:lnTo>
                              <a:pt x="5690" y="17340"/>
                            </a:lnTo>
                            <a:lnTo>
                              <a:pt x="5400" y="20153"/>
                            </a:lnTo>
                            <a:lnTo>
                              <a:pt x="7557" y="18440"/>
                            </a:lnTo>
                            <a:lnTo>
                              <a:pt x="8005" y="21232"/>
                            </a:lnTo>
                            <a:lnTo>
                              <a:pt x="9645" y="19019"/>
                            </a:lnTo>
                            <a:lnTo>
                              <a:pt x="10800" y="21600"/>
                            </a:lnTo>
                            <a:lnTo>
                              <a:pt x="11812" y="19038"/>
                            </a:lnTo>
                            <a:lnTo>
                              <a:pt x="13595" y="21232"/>
                            </a:lnTo>
                            <a:lnTo>
                              <a:pt x="13909" y="18496"/>
                            </a:lnTo>
                            <a:lnTo>
                              <a:pt x="16200" y="20153"/>
                            </a:lnTo>
                            <a:lnTo>
                              <a:pt x="15795" y="17429"/>
                            </a:lnTo>
                            <a:lnTo>
                              <a:pt x="18437" y="18437"/>
                            </a:lnTo>
                            <a:lnTo>
                              <a:pt x="17340" y="15910"/>
                            </a:lnTo>
                            <a:lnTo>
                              <a:pt x="20153" y="16200"/>
                            </a:lnTo>
                            <a:lnTo>
                              <a:pt x="18440" y="14043"/>
                            </a:lnTo>
                            <a:lnTo>
                              <a:pt x="21232" y="13595"/>
                            </a:lnTo>
                            <a:lnTo>
                              <a:pt x="19019" y="11955"/>
                            </a:lnTo>
                            <a:lnTo>
                              <a:pt x="21600" y="10800"/>
                            </a:lnTo>
                            <a:lnTo>
                              <a:pt x="19038" y="9788"/>
                            </a:lnTo>
                            <a:lnTo>
                              <a:pt x="21232" y="8005"/>
                            </a:lnTo>
                            <a:lnTo>
                              <a:pt x="18496" y="7691"/>
                            </a:lnTo>
                            <a:lnTo>
                              <a:pt x="20153" y="5400"/>
                            </a:lnTo>
                            <a:lnTo>
                              <a:pt x="17429" y="5805"/>
                            </a:lnTo>
                            <a:lnTo>
                              <a:pt x="18437" y="3163"/>
                            </a:lnTo>
                            <a:lnTo>
                              <a:pt x="15910" y="4260"/>
                            </a:lnTo>
                            <a:lnTo>
                              <a:pt x="16200" y="1447"/>
                            </a:lnTo>
                            <a:lnTo>
                              <a:pt x="14043" y="3160"/>
                            </a:lnTo>
                            <a:lnTo>
                              <a:pt x="13595" y="368"/>
                            </a:lnTo>
                            <a:lnTo>
                              <a:pt x="11955" y="2581"/>
                            </a:lnTo>
                            <a:lnTo>
                              <a:pt x="10800" y="0"/>
                            </a:lnTo>
                            <a:lnTo>
                              <a:pt x="9788" y="2562"/>
                            </a:lnTo>
                            <a:lnTo>
                              <a:pt x="8005" y="368"/>
                            </a:lnTo>
                            <a:lnTo>
                              <a:pt x="7691" y="3104"/>
                            </a:lnTo>
                            <a:lnTo>
                              <a:pt x="5400" y="1447"/>
                            </a:lnTo>
                            <a:lnTo>
                              <a:pt x="5805" y="4171"/>
                            </a:lnTo>
                            <a:lnTo>
                              <a:pt x="3163" y="3163"/>
                            </a:lnTo>
                            <a:lnTo>
                              <a:pt x="4260" y="5690"/>
                            </a:lnTo>
                            <a:lnTo>
                              <a:pt x="1447" y="5400"/>
                            </a:lnTo>
                            <a:lnTo>
                              <a:pt x="3160" y="7557"/>
                            </a:lnTo>
                            <a:lnTo>
                              <a:pt x="368" y="8005"/>
                            </a:lnTo>
                            <a:lnTo>
                              <a:pt x="2581" y="9645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1" name=""/>
                      <p:cNvSpPr/>
                      <p:nvPr/>
                    </p:nvSpPr>
                    <p:spPr>
                      <a:xfrm>
                        <a:off x="7394760" y="2676960"/>
                        <a:ext cx="38160" cy="38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440" bIns="-19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42" name=""/>
                <p:cNvSpPr/>
                <p:nvPr/>
              </p:nvSpPr>
              <p:spPr>
                <a:xfrm>
                  <a:off x="7540560" y="2486160"/>
                  <a:ext cx="12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Georgia"/>
                    </a:rPr>
                    <a:t>CORE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3" name=""/>
              <p:cNvSpPr/>
              <p:nvPr/>
            </p:nvSpPr>
            <p:spPr>
              <a:xfrm flipH="1">
                <a:off x="6209640" y="2667240"/>
                <a:ext cx="914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6209640" y="2895840"/>
              <a:ext cx="2552400" cy="461880"/>
              <a:chOff x="6209640" y="2895840"/>
              <a:chExt cx="2552400" cy="461880"/>
            </a:xfrm>
          </p:grpSpPr>
          <p:grpSp>
            <p:nvGrpSpPr>
              <p:cNvPr id="1645" name=""/>
              <p:cNvGrpSpPr/>
              <p:nvPr/>
            </p:nvGrpSpPr>
            <p:grpSpPr>
              <a:xfrm>
                <a:off x="7238520" y="2895840"/>
                <a:ext cx="1523520" cy="461880"/>
                <a:chOff x="7238520" y="2895840"/>
                <a:chExt cx="1523520" cy="461880"/>
              </a:xfrm>
            </p:grpSpPr>
            <p:sp>
              <p:nvSpPr>
                <p:cNvPr id="1646" name=""/>
                <p:cNvSpPr/>
                <p:nvPr/>
              </p:nvSpPr>
              <p:spPr>
                <a:xfrm>
                  <a:off x="7238520" y="2895840"/>
                  <a:ext cx="152352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47" name="JADElogo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314480" y="2925720"/>
                  <a:ext cx="1396440" cy="432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48" name=""/>
              <p:cNvSpPr/>
              <p:nvPr/>
            </p:nvSpPr>
            <p:spPr>
              <a:xfrm flipH="1">
                <a:off x="6209640" y="3124440"/>
                <a:ext cx="914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9" name=""/>
            <p:cNvGrpSpPr/>
            <p:nvPr/>
          </p:nvGrpSpPr>
          <p:grpSpPr>
            <a:xfrm>
              <a:off x="6209640" y="3353040"/>
              <a:ext cx="2933280" cy="468720"/>
              <a:chOff x="6209640" y="3353040"/>
              <a:chExt cx="2933280" cy="468720"/>
            </a:xfrm>
          </p:grpSpPr>
          <p:grpSp>
            <p:nvGrpSpPr>
              <p:cNvPr id="1650" name=""/>
              <p:cNvGrpSpPr/>
              <p:nvPr/>
            </p:nvGrpSpPr>
            <p:grpSpPr>
              <a:xfrm>
                <a:off x="7238520" y="3353040"/>
                <a:ext cx="1904400" cy="468720"/>
                <a:chOff x="7238520" y="3353040"/>
                <a:chExt cx="1904400" cy="46872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7238520" y="3353040"/>
                  <a:ext cx="152352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5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76320" y="3365640"/>
                  <a:ext cx="375840" cy="43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53" name=""/>
                <p:cNvSpPr/>
                <p:nvPr/>
              </p:nvSpPr>
              <p:spPr>
                <a:xfrm>
                  <a:off x="7619040" y="3365640"/>
                  <a:ext cx="1523880" cy="45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00"/>
                      </a:solidFill>
                      <a:latin typeface="Times New Roman"/>
                    </a:rPr>
                    <a:t>J</a:t>
                  </a: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AV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Swing </a:t>
                  </a:r>
                  <a:r>
                    <a:rPr b="1" lang="en-US" sz="1400" spc="-1" strike="noStrike">
                      <a:solidFill>
                        <a:srgbClr val="990000"/>
                      </a:solidFill>
                      <a:latin typeface="Times New Roman"/>
                    </a:rPr>
                    <a:t>MV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4" name=""/>
              <p:cNvSpPr/>
              <p:nvPr/>
            </p:nvSpPr>
            <p:spPr>
              <a:xfrm flipH="1">
                <a:off x="6209640" y="3581640"/>
                <a:ext cx="914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5" name=""/>
            <p:cNvGrpSpPr/>
            <p:nvPr/>
          </p:nvGrpSpPr>
          <p:grpSpPr>
            <a:xfrm>
              <a:off x="6438600" y="3810240"/>
              <a:ext cx="2323080" cy="472320"/>
              <a:chOff x="6438600" y="3810240"/>
              <a:chExt cx="2323080" cy="472320"/>
            </a:xfrm>
          </p:grpSpPr>
          <p:grpSp>
            <p:nvGrpSpPr>
              <p:cNvPr id="1656" name=""/>
              <p:cNvGrpSpPr/>
              <p:nvPr/>
            </p:nvGrpSpPr>
            <p:grpSpPr>
              <a:xfrm>
                <a:off x="7222320" y="3810240"/>
                <a:ext cx="1539360" cy="472320"/>
                <a:chOff x="7222320" y="3810240"/>
                <a:chExt cx="1539360" cy="472320"/>
              </a:xfrm>
            </p:grpSpPr>
            <p:sp>
              <p:nvSpPr>
                <p:cNvPr id="1657" name=""/>
                <p:cNvSpPr/>
                <p:nvPr/>
              </p:nvSpPr>
              <p:spPr>
                <a:xfrm>
                  <a:off x="7238160" y="3810240"/>
                  <a:ext cx="152352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7222320" y="3822840"/>
                  <a:ext cx="1245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0000"/>
                      </a:solidFill>
                      <a:latin typeface="Webdings"/>
                      <a:ea typeface="Webdings"/>
                    </a:rPr>
                    <a:t>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Georgia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Garamond"/>
                    </a:rPr>
                    <a:t>Wek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9" name=""/>
              <p:cNvSpPr/>
              <p:nvPr/>
            </p:nvSpPr>
            <p:spPr>
              <a:xfrm flipH="1">
                <a:off x="6438600" y="4077000"/>
                <a:ext cx="68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0" name=""/>
            <p:cNvGrpSpPr/>
            <p:nvPr/>
          </p:nvGrpSpPr>
          <p:grpSpPr>
            <a:xfrm>
              <a:off x="6209640" y="1257480"/>
              <a:ext cx="2552400" cy="457200"/>
              <a:chOff x="6209640" y="1257480"/>
              <a:chExt cx="2552400" cy="457200"/>
            </a:xfrm>
          </p:grpSpPr>
          <p:grpSp>
            <p:nvGrpSpPr>
              <p:cNvPr id="1661" name=""/>
              <p:cNvGrpSpPr/>
              <p:nvPr/>
            </p:nvGrpSpPr>
            <p:grpSpPr>
              <a:xfrm>
                <a:off x="7238520" y="1257480"/>
                <a:ext cx="1523520" cy="457200"/>
                <a:chOff x="7238520" y="1257480"/>
                <a:chExt cx="1523520" cy="457200"/>
              </a:xfrm>
            </p:grpSpPr>
            <p:sp>
              <p:nvSpPr>
                <p:cNvPr id="1662" name=""/>
                <p:cNvSpPr/>
                <p:nvPr/>
              </p:nvSpPr>
              <p:spPr>
                <a:xfrm>
                  <a:off x="7238520" y="1257480"/>
                  <a:ext cx="152352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3" name=""/>
                <p:cNvGrpSpPr/>
                <p:nvPr/>
              </p:nvGrpSpPr>
              <p:grpSpPr>
                <a:xfrm>
                  <a:off x="7263360" y="1295640"/>
                  <a:ext cx="380880" cy="383760"/>
                  <a:chOff x="7263360" y="1295640"/>
                  <a:chExt cx="380880" cy="383760"/>
                </a:xfrm>
              </p:grpSpPr>
              <p:sp>
                <p:nvSpPr>
                  <p:cNvPr id="1664" name=""/>
                  <p:cNvSpPr/>
                  <p:nvPr/>
                </p:nvSpPr>
                <p:spPr>
                  <a:xfrm>
                    <a:off x="7452720" y="1295640"/>
                    <a:ext cx="191520" cy="286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cc33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65" name=""/>
                  <p:cNvGrpSpPr/>
                  <p:nvPr/>
                </p:nvGrpSpPr>
                <p:grpSpPr>
                  <a:xfrm>
                    <a:off x="7263360" y="1351080"/>
                    <a:ext cx="334440" cy="328320"/>
                    <a:chOff x="7263360" y="1351080"/>
                    <a:chExt cx="334440" cy="328320"/>
                  </a:xfrm>
                </p:grpSpPr>
                <p:grpSp>
                  <p:nvGrpSpPr>
                    <p:cNvPr id="1666" name=""/>
                    <p:cNvGrpSpPr/>
                    <p:nvPr/>
                  </p:nvGrpSpPr>
                  <p:grpSpPr>
                    <a:xfrm>
                      <a:off x="7454520" y="1526400"/>
                      <a:ext cx="143280" cy="153000"/>
                      <a:chOff x="7454520" y="1526400"/>
                      <a:chExt cx="143280" cy="153000"/>
                    </a:xfrm>
                  </p:grpSpPr>
                  <p:sp>
                    <p:nvSpPr>
                      <p:cNvPr id="1667" name=""/>
                      <p:cNvSpPr/>
                      <p:nvPr/>
                    </p:nvSpPr>
                    <p:spPr>
                      <a:xfrm>
                        <a:off x="7454520" y="1526400"/>
                        <a:ext cx="143280" cy="153000"/>
                      </a:xfrm>
                      <a:custGeom>
                        <a:avLst/>
                        <a:gdLst>
                          <a:gd name="textAreaLeft" fmla="*/ 38160 w 143280"/>
                          <a:gd name="textAreaRight" fmla="*/ 105120 w 143280"/>
                          <a:gd name="textAreaTop" fmla="*/ 40680 h 153000"/>
                          <a:gd name="textAreaBottom" fmla="*/ 112320 h 1530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3791" y="12162"/>
                            </a:lnTo>
                            <a:lnTo>
                              <a:pt x="786" y="14846"/>
                            </a:lnTo>
                            <a:lnTo>
                              <a:pt x="4812" y="14689"/>
                            </a:lnTo>
                            <a:lnTo>
                              <a:pt x="3163" y="18437"/>
                            </a:lnTo>
                            <a:lnTo>
                              <a:pt x="6807" y="16719"/>
                            </a:lnTo>
                            <a:lnTo>
                              <a:pt x="6580" y="20741"/>
                            </a:lnTo>
                            <a:lnTo>
                              <a:pt x="9316" y="17784"/>
                            </a:lnTo>
                            <a:lnTo>
                              <a:pt x="10800" y="21600"/>
                            </a:lnTo>
                            <a:lnTo>
                              <a:pt x="12162" y="17809"/>
                            </a:lnTo>
                            <a:lnTo>
                              <a:pt x="14846" y="20814"/>
                            </a:lnTo>
                            <a:lnTo>
                              <a:pt x="14689" y="16788"/>
                            </a:lnTo>
                            <a:lnTo>
                              <a:pt x="18437" y="18437"/>
                            </a:lnTo>
                            <a:lnTo>
                              <a:pt x="16719" y="14793"/>
                            </a:lnTo>
                            <a:lnTo>
                              <a:pt x="20741" y="15020"/>
                            </a:lnTo>
                            <a:lnTo>
                              <a:pt x="17784" y="12284"/>
                            </a:lnTo>
                            <a:lnTo>
                              <a:pt x="21600" y="10800"/>
                            </a:lnTo>
                            <a:lnTo>
                              <a:pt x="17809" y="9438"/>
                            </a:lnTo>
                            <a:lnTo>
                              <a:pt x="20814" y="6754"/>
                            </a:lnTo>
                            <a:lnTo>
                              <a:pt x="16788" y="6911"/>
                            </a:lnTo>
                            <a:lnTo>
                              <a:pt x="18437" y="3163"/>
                            </a:lnTo>
                            <a:lnTo>
                              <a:pt x="14793" y="4881"/>
                            </a:lnTo>
                            <a:lnTo>
                              <a:pt x="15020" y="859"/>
                            </a:lnTo>
                            <a:lnTo>
                              <a:pt x="12284" y="3816"/>
                            </a:lnTo>
                            <a:lnTo>
                              <a:pt x="10800" y="0"/>
                            </a:lnTo>
                            <a:lnTo>
                              <a:pt x="9438" y="3791"/>
                            </a:lnTo>
                            <a:lnTo>
                              <a:pt x="6754" y="786"/>
                            </a:lnTo>
                            <a:lnTo>
                              <a:pt x="6911" y="4812"/>
                            </a:lnTo>
                            <a:lnTo>
                              <a:pt x="3163" y="3163"/>
                            </a:lnTo>
                            <a:lnTo>
                              <a:pt x="4881" y="6807"/>
                            </a:lnTo>
                            <a:lnTo>
                              <a:pt x="859" y="6580"/>
                            </a:lnTo>
                            <a:lnTo>
                              <a:pt x="3816" y="9316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840" bIns="24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8" name=""/>
                      <p:cNvSpPr/>
                      <p:nvPr/>
                    </p:nvSpPr>
                    <p:spPr>
                      <a:xfrm>
                        <a:off x="7511760" y="1588680"/>
                        <a:ext cx="28440" cy="284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6280" bIns="-26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69" name=""/>
                    <p:cNvGrpSpPr/>
                    <p:nvPr/>
                  </p:nvGrpSpPr>
                  <p:grpSpPr>
                    <a:xfrm>
                      <a:off x="7263360" y="1351080"/>
                      <a:ext cx="250200" cy="258120"/>
                      <a:chOff x="7263360" y="1351080"/>
                      <a:chExt cx="250200" cy="258120"/>
                    </a:xfrm>
                  </p:grpSpPr>
                  <p:sp>
                    <p:nvSpPr>
                      <p:cNvPr id="1670" name=""/>
                      <p:cNvSpPr/>
                      <p:nvPr/>
                    </p:nvSpPr>
                    <p:spPr>
                      <a:xfrm>
                        <a:off x="7263360" y="1351080"/>
                        <a:ext cx="250200" cy="258120"/>
                      </a:xfrm>
                      <a:custGeom>
                        <a:avLst/>
                        <a:gdLst>
                          <a:gd name="textAreaLeft" fmla="*/ 56880 w 250200"/>
                          <a:gd name="textAreaRight" fmla="*/ 193320 w 250200"/>
                          <a:gd name="textAreaTop" fmla="*/ 58680 h 258120"/>
                          <a:gd name="textAreaBottom" fmla="*/ 199440 h 2581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2562" y="11812"/>
                            </a:lnTo>
                            <a:lnTo>
                              <a:pt x="368" y="13595"/>
                            </a:lnTo>
                            <a:lnTo>
                              <a:pt x="3104" y="13909"/>
                            </a:lnTo>
                            <a:lnTo>
                              <a:pt x="1447" y="16200"/>
                            </a:lnTo>
                            <a:lnTo>
                              <a:pt x="4171" y="15795"/>
                            </a:lnTo>
                            <a:lnTo>
                              <a:pt x="3163" y="18437"/>
                            </a:lnTo>
                            <a:lnTo>
                              <a:pt x="5690" y="17340"/>
                            </a:lnTo>
                            <a:lnTo>
                              <a:pt x="5400" y="20153"/>
                            </a:lnTo>
                            <a:lnTo>
                              <a:pt x="7557" y="18440"/>
                            </a:lnTo>
                            <a:lnTo>
                              <a:pt x="8005" y="21232"/>
                            </a:lnTo>
                            <a:lnTo>
                              <a:pt x="9645" y="19019"/>
                            </a:lnTo>
                            <a:lnTo>
                              <a:pt x="10800" y="21600"/>
                            </a:lnTo>
                            <a:lnTo>
                              <a:pt x="11812" y="19038"/>
                            </a:lnTo>
                            <a:lnTo>
                              <a:pt x="13595" y="21232"/>
                            </a:lnTo>
                            <a:lnTo>
                              <a:pt x="13909" y="18496"/>
                            </a:lnTo>
                            <a:lnTo>
                              <a:pt x="16200" y="20153"/>
                            </a:lnTo>
                            <a:lnTo>
                              <a:pt x="15795" y="17429"/>
                            </a:lnTo>
                            <a:lnTo>
                              <a:pt x="18437" y="18437"/>
                            </a:lnTo>
                            <a:lnTo>
                              <a:pt x="17340" y="15910"/>
                            </a:lnTo>
                            <a:lnTo>
                              <a:pt x="20153" y="16200"/>
                            </a:lnTo>
                            <a:lnTo>
                              <a:pt x="18440" y="14043"/>
                            </a:lnTo>
                            <a:lnTo>
                              <a:pt x="21232" y="13595"/>
                            </a:lnTo>
                            <a:lnTo>
                              <a:pt x="19019" y="11955"/>
                            </a:lnTo>
                            <a:lnTo>
                              <a:pt x="21600" y="10800"/>
                            </a:lnTo>
                            <a:lnTo>
                              <a:pt x="19038" y="9788"/>
                            </a:lnTo>
                            <a:lnTo>
                              <a:pt x="21232" y="8005"/>
                            </a:lnTo>
                            <a:lnTo>
                              <a:pt x="18496" y="7691"/>
                            </a:lnTo>
                            <a:lnTo>
                              <a:pt x="20153" y="5400"/>
                            </a:lnTo>
                            <a:lnTo>
                              <a:pt x="17429" y="5805"/>
                            </a:lnTo>
                            <a:lnTo>
                              <a:pt x="18437" y="3163"/>
                            </a:lnTo>
                            <a:lnTo>
                              <a:pt x="15910" y="4260"/>
                            </a:lnTo>
                            <a:lnTo>
                              <a:pt x="16200" y="1447"/>
                            </a:lnTo>
                            <a:lnTo>
                              <a:pt x="14043" y="3160"/>
                            </a:lnTo>
                            <a:lnTo>
                              <a:pt x="13595" y="368"/>
                            </a:lnTo>
                            <a:lnTo>
                              <a:pt x="11955" y="2581"/>
                            </a:lnTo>
                            <a:lnTo>
                              <a:pt x="10800" y="0"/>
                            </a:lnTo>
                            <a:lnTo>
                              <a:pt x="9788" y="2562"/>
                            </a:lnTo>
                            <a:lnTo>
                              <a:pt x="8005" y="368"/>
                            </a:lnTo>
                            <a:lnTo>
                              <a:pt x="7691" y="3104"/>
                            </a:lnTo>
                            <a:lnTo>
                              <a:pt x="5400" y="1447"/>
                            </a:lnTo>
                            <a:lnTo>
                              <a:pt x="5805" y="4171"/>
                            </a:lnTo>
                            <a:lnTo>
                              <a:pt x="3163" y="3163"/>
                            </a:lnTo>
                            <a:lnTo>
                              <a:pt x="4260" y="5690"/>
                            </a:lnTo>
                            <a:lnTo>
                              <a:pt x="1447" y="5400"/>
                            </a:lnTo>
                            <a:lnTo>
                              <a:pt x="3160" y="7557"/>
                            </a:lnTo>
                            <a:lnTo>
                              <a:pt x="368" y="8005"/>
                            </a:lnTo>
                            <a:lnTo>
                              <a:pt x="2581" y="9645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1" name=""/>
                      <p:cNvSpPr/>
                      <p:nvPr/>
                    </p:nvSpPr>
                    <p:spPr>
                      <a:xfrm>
                        <a:off x="7369200" y="1460880"/>
                        <a:ext cx="38160" cy="38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440" bIns="-19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72" name=""/>
                <p:cNvSpPr/>
                <p:nvPr/>
              </p:nvSpPr>
              <p:spPr>
                <a:xfrm>
                  <a:off x="7515000" y="1270080"/>
                  <a:ext cx="12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Georgia"/>
                    </a:rPr>
                    <a:t>CORE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3" name=""/>
              <p:cNvSpPr/>
              <p:nvPr/>
            </p:nvSpPr>
            <p:spPr>
              <a:xfrm flipH="1">
                <a:off x="6209640" y="1447920"/>
                <a:ext cx="914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4" name=""/>
            <p:cNvGrpSpPr/>
            <p:nvPr/>
          </p:nvGrpSpPr>
          <p:grpSpPr>
            <a:xfrm>
              <a:off x="6285960" y="4343400"/>
              <a:ext cx="2476080" cy="457200"/>
              <a:chOff x="6285960" y="4343400"/>
              <a:chExt cx="2476080" cy="457200"/>
            </a:xfrm>
          </p:grpSpPr>
          <p:grpSp>
            <p:nvGrpSpPr>
              <p:cNvPr id="1675" name=""/>
              <p:cNvGrpSpPr/>
              <p:nvPr/>
            </p:nvGrpSpPr>
            <p:grpSpPr>
              <a:xfrm>
                <a:off x="7238520" y="4343400"/>
                <a:ext cx="1523520" cy="457200"/>
                <a:chOff x="7238520" y="4343400"/>
                <a:chExt cx="1523520" cy="45720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7238520" y="4343400"/>
                  <a:ext cx="152352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7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276320" y="4356000"/>
                  <a:ext cx="375840" cy="43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8" name=""/>
                <p:cNvSpPr/>
                <p:nvPr/>
              </p:nvSpPr>
              <p:spPr>
                <a:xfrm>
                  <a:off x="7682760" y="4470120"/>
                  <a:ext cx="951840" cy="28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00"/>
                      </a:solidFill>
                      <a:latin typeface="Times New Roman"/>
                    </a:rPr>
                    <a:t>J</a:t>
                  </a: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AV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9" name=""/>
              <p:cNvSpPr/>
              <p:nvPr/>
            </p:nvSpPr>
            <p:spPr>
              <a:xfrm flipH="1">
                <a:off x="6285960" y="4572000"/>
                <a:ext cx="83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6058080" y="4800600"/>
              <a:ext cx="2704320" cy="457200"/>
              <a:chOff x="6058080" y="4800600"/>
              <a:chExt cx="2704320" cy="457200"/>
            </a:xfrm>
          </p:grpSpPr>
          <p:grpSp>
            <p:nvGrpSpPr>
              <p:cNvPr id="1681" name=""/>
              <p:cNvGrpSpPr/>
              <p:nvPr/>
            </p:nvGrpSpPr>
            <p:grpSpPr>
              <a:xfrm>
                <a:off x="7238880" y="4800600"/>
                <a:ext cx="1523520" cy="457200"/>
                <a:chOff x="7238880" y="4800600"/>
                <a:chExt cx="1523520" cy="457200"/>
              </a:xfrm>
            </p:grpSpPr>
            <p:sp>
              <p:nvSpPr>
                <p:cNvPr id="1682" name=""/>
                <p:cNvSpPr/>
                <p:nvPr/>
              </p:nvSpPr>
              <p:spPr>
                <a:xfrm>
                  <a:off x="7238880" y="4800600"/>
                  <a:ext cx="152352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3" name=""/>
                <p:cNvGrpSpPr/>
                <p:nvPr/>
              </p:nvGrpSpPr>
              <p:grpSpPr>
                <a:xfrm>
                  <a:off x="7289280" y="4848120"/>
                  <a:ext cx="380160" cy="383760"/>
                  <a:chOff x="7289280" y="4848120"/>
                  <a:chExt cx="380160" cy="383760"/>
                </a:xfrm>
              </p:grpSpPr>
              <p:sp>
                <p:nvSpPr>
                  <p:cNvPr id="1684" name=""/>
                  <p:cNvSpPr/>
                  <p:nvPr/>
                </p:nvSpPr>
                <p:spPr>
                  <a:xfrm>
                    <a:off x="7478280" y="4848120"/>
                    <a:ext cx="191160" cy="286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cc33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85" name=""/>
                  <p:cNvGrpSpPr/>
                  <p:nvPr/>
                </p:nvGrpSpPr>
                <p:grpSpPr>
                  <a:xfrm>
                    <a:off x="7289280" y="4903560"/>
                    <a:ext cx="334440" cy="328320"/>
                    <a:chOff x="7289280" y="4903560"/>
                    <a:chExt cx="334440" cy="328320"/>
                  </a:xfrm>
                </p:grpSpPr>
                <p:grpSp>
                  <p:nvGrpSpPr>
                    <p:cNvPr id="1686" name=""/>
                    <p:cNvGrpSpPr/>
                    <p:nvPr/>
                  </p:nvGrpSpPr>
                  <p:grpSpPr>
                    <a:xfrm>
                      <a:off x="7480440" y="5078880"/>
                      <a:ext cx="143280" cy="153000"/>
                      <a:chOff x="7480440" y="5078880"/>
                      <a:chExt cx="143280" cy="153000"/>
                    </a:xfrm>
                  </p:grpSpPr>
                  <p:sp>
                    <p:nvSpPr>
                      <p:cNvPr id="1687" name=""/>
                      <p:cNvSpPr/>
                      <p:nvPr/>
                    </p:nvSpPr>
                    <p:spPr>
                      <a:xfrm>
                        <a:off x="7480440" y="5078880"/>
                        <a:ext cx="143280" cy="153000"/>
                      </a:xfrm>
                      <a:custGeom>
                        <a:avLst/>
                        <a:gdLst>
                          <a:gd name="textAreaLeft" fmla="*/ 38160 w 143280"/>
                          <a:gd name="textAreaRight" fmla="*/ 105120 w 143280"/>
                          <a:gd name="textAreaTop" fmla="*/ 40680 h 153000"/>
                          <a:gd name="textAreaBottom" fmla="*/ 112320 h 1530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3791" y="12162"/>
                            </a:lnTo>
                            <a:lnTo>
                              <a:pt x="786" y="14846"/>
                            </a:lnTo>
                            <a:lnTo>
                              <a:pt x="4812" y="14689"/>
                            </a:lnTo>
                            <a:lnTo>
                              <a:pt x="3163" y="18437"/>
                            </a:lnTo>
                            <a:lnTo>
                              <a:pt x="6807" y="16719"/>
                            </a:lnTo>
                            <a:lnTo>
                              <a:pt x="6580" y="20741"/>
                            </a:lnTo>
                            <a:lnTo>
                              <a:pt x="9316" y="17784"/>
                            </a:lnTo>
                            <a:lnTo>
                              <a:pt x="10800" y="21600"/>
                            </a:lnTo>
                            <a:lnTo>
                              <a:pt x="12162" y="17809"/>
                            </a:lnTo>
                            <a:lnTo>
                              <a:pt x="14846" y="20814"/>
                            </a:lnTo>
                            <a:lnTo>
                              <a:pt x="14689" y="16788"/>
                            </a:lnTo>
                            <a:lnTo>
                              <a:pt x="18437" y="18437"/>
                            </a:lnTo>
                            <a:lnTo>
                              <a:pt x="16719" y="14793"/>
                            </a:lnTo>
                            <a:lnTo>
                              <a:pt x="20741" y="15020"/>
                            </a:lnTo>
                            <a:lnTo>
                              <a:pt x="17784" y="12284"/>
                            </a:lnTo>
                            <a:lnTo>
                              <a:pt x="21600" y="10800"/>
                            </a:lnTo>
                            <a:lnTo>
                              <a:pt x="17809" y="9438"/>
                            </a:lnTo>
                            <a:lnTo>
                              <a:pt x="20814" y="6754"/>
                            </a:lnTo>
                            <a:lnTo>
                              <a:pt x="16788" y="6911"/>
                            </a:lnTo>
                            <a:lnTo>
                              <a:pt x="18437" y="3163"/>
                            </a:lnTo>
                            <a:lnTo>
                              <a:pt x="14793" y="4881"/>
                            </a:lnTo>
                            <a:lnTo>
                              <a:pt x="15020" y="859"/>
                            </a:lnTo>
                            <a:lnTo>
                              <a:pt x="12284" y="3816"/>
                            </a:lnTo>
                            <a:lnTo>
                              <a:pt x="10800" y="0"/>
                            </a:lnTo>
                            <a:lnTo>
                              <a:pt x="9438" y="3791"/>
                            </a:lnTo>
                            <a:lnTo>
                              <a:pt x="6754" y="786"/>
                            </a:lnTo>
                            <a:lnTo>
                              <a:pt x="6911" y="4812"/>
                            </a:lnTo>
                            <a:lnTo>
                              <a:pt x="3163" y="3163"/>
                            </a:lnTo>
                            <a:lnTo>
                              <a:pt x="4881" y="6807"/>
                            </a:lnTo>
                            <a:lnTo>
                              <a:pt x="859" y="6580"/>
                            </a:lnTo>
                            <a:lnTo>
                              <a:pt x="3816" y="9316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840" bIns="24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8" name=""/>
                      <p:cNvSpPr/>
                      <p:nvPr/>
                    </p:nvSpPr>
                    <p:spPr>
                      <a:xfrm>
                        <a:off x="7537680" y="5141160"/>
                        <a:ext cx="28440" cy="284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6280" bIns="-26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89" name=""/>
                    <p:cNvGrpSpPr/>
                    <p:nvPr/>
                  </p:nvGrpSpPr>
                  <p:grpSpPr>
                    <a:xfrm>
                      <a:off x="7289280" y="4903560"/>
                      <a:ext cx="250200" cy="258120"/>
                      <a:chOff x="7289280" y="4903560"/>
                      <a:chExt cx="250200" cy="258120"/>
                    </a:xfrm>
                  </p:grpSpPr>
                  <p:sp>
                    <p:nvSpPr>
                      <p:cNvPr id="1690" name=""/>
                      <p:cNvSpPr/>
                      <p:nvPr/>
                    </p:nvSpPr>
                    <p:spPr>
                      <a:xfrm>
                        <a:off x="7289280" y="4903560"/>
                        <a:ext cx="250200" cy="258120"/>
                      </a:xfrm>
                      <a:custGeom>
                        <a:avLst/>
                        <a:gdLst>
                          <a:gd name="textAreaLeft" fmla="*/ 56880 w 250200"/>
                          <a:gd name="textAreaRight" fmla="*/ 193320 w 250200"/>
                          <a:gd name="textAreaTop" fmla="*/ 58680 h 258120"/>
                          <a:gd name="textAreaBottom" fmla="*/ 199440 h 2581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2562" y="11812"/>
                            </a:lnTo>
                            <a:lnTo>
                              <a:pt x="368" y="13595"/>
                            </a:lnTo>
                            <a:lnTo>
                              <a:pt x="3104" y="13909"/>
                            </a:lnTo>
                            <a:lnTo>
                              <a:pt x="1447" y="16200"/>
                            </a:lnTo>
                            <a:lnTo>
                              <a:pt x="4171" y="15795"/>
                            </a:lnTo>
                            <a:lnTo>
                              <a:pt x="3163" y="18437"/>
                            </a:lnTo>
                            <a:lnTo>
                              <a:pt x="5690" y="17340"/>
                            </a:lnTo>
                            <a:lnTo>
                              <a:pt x="5400" y="20153"/>
                            </a:lnTo>
                            <a:lnTo>
                              <a:pt x="7557" y="18440"/>
                            </a:lnTo>
                            <a:lnTo>
                              <a:pt x="8005" y="21232"/>
                            </a:lnTo>
                            <a:lnTo>
                              <a:pt x="9645" y="19019"/>
                            </a:lnTo>
                            <a:lnTo>
                              <a:pt x="10800" y="21600"/>
                            </a:lnTo>
                            <a:lnTo>
                              <a:pt x="11812" y="19038"/>
                            </a:lnTo>
                            <a:lnTo>
                              <a:pt x="13595" y="21232"/>
                            </a:lnTo>
                            <a:lnTo>
                              <a:pt x="13909" y="18496"/>
                            </a:lnTo>
                            <a:lnTo>
                              <a:pt x="16200" y="20153"/>
                            </a:lnTo>
                            <a:lnTo>
                              <a:pt x="15795" y="17429"/>
                            </a:lnTo>
                            <a:lnTo>
                              <a:pt x="18437" y="18437"/>
                            </a:lnTo>
                            <a:lnTo>
                              <a:pt x="17340" y="15910"/>
                            </a:lnTo>
                            <a:lnTo>
                              <a:pt x="20153" y="16200"/>
                            </a:lnTo>
                            <a:lnTo>
                              <a:pt x="18440" y="14043"/>
                            </a:lnTo>
                            <a:lnTo>
                              <a:pt x="21232" y="13595"/>
                            </a:lnTo>
                            <a:lnTo>
                              <a:pt x="19019" y="11955"/>
                            </a:lnTo>
                            <a:lnTo>
                              <a:pt x="21600" y="10800"/>
                            </a:lnTo>
                            <a:lnTo>
                              <a:pt x="19038" y="9788"/>
                            </a:lnTo>
                            <a:lnTo>
                              <a:pt x="21232" y="8005"/>
                            </a:lnTo>
                            <a:lnTo>
                              <a:pt x="18496" y="7691"/>
                            </a:lnTo>
                            <a:lnTo>
                              <a:pt x="20153" y="5400"/>
                            </a:lnTo>
                            <a:lnTo>
                              <a:pt x="17429" y="5805"/>
                            </a:lnTo>
                            <a:lnTo>
                              <a:pt x="18437" y="3163"/>
                            </a:lnTo>
                            <a:lnTo>
                              <a:pt x="15910" y="4260"/>
                            </a:lnTo>
                            <a:lnTo>
                              <a:pt x="16200" y="1447"/>
                            </a:lnTo>
                            <a:lnTo>
                              <a:pt x="14043" y="3160"/>
                            </a:lnTo>
                            <a:lnTo>
                              <a:pt x="13595" y="368"/>
                            </a:lnTo>
                            <a:lnTo>
                              <a:pt x="11955" y="2581"/>
                            </a:lnTo>
                            <a:lnTo>
                              <a:pt x="10800" y="0"/>
                            </a:lnTo>
                            <a:lnTo>
                              <a:pt x="9788" y="2562"/>
                            </a:lnTo>
                            <a:lnTo>
                              <a:pt x="8005" y="368"/>
                            </a:lnTo>
                            <a:lnTo>
                              <a:pt x="7691" y="3104"/>
                            </a:lnTo>
                            <a:lnTo>
                              <a:pt x="5400" y="1447"/>
                            </a:lnTo>
                            <a:lnTo>
                              <a:pt x="5805" y="4171"/>
                            </a:lnTo>
                            <a:lnTo>
                              <a:pt x="3163" y="3163"/>
                            </a:lnTo>
                            <a:lnTo>
                              <a:pt x="4260" y="5690"/>
                            </a:lnTo>
                            <a:lnTo>
                              <a:pt x="1447" y="5400"/>
                            </a:lnTo>
                            <a:lnTo>
                              <a:pt x="3160" y="7557"/>
                            </a:lnTo>
                            <a:lnTo>
                              <a:pt x="368" y="8005"/>
                            </a:lnTo>
                            <a:lnTo>
                              <a:pt x="2581" y="9645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1" name=""/>
                      <p:cNvSpPr/>
                      <p:nvPr/>
                    </p:nvSpPr>
                    <p:spPr>
                      <a:xfrm>
                        <a:off x="7395120" y="5013360"/>
                        <a:ext cx="38160" cy="38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440" bIns="-19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92" name=""/>
                <p:cNvSpPr/>
                <p:nvPr/>
              </p:nvSpPr>
              <p:spPr>
                <a:xfrm>
                  <a:off x="7540920" y="4822560"/>
                  <a:ext cx="12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Georgia"/>
                    </a:rPr>
                    <a:t>CORE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3" name=""/>
              <p:cNvSpPr/>
              <p:nvPr/>
            </p:nvSpPr>
            <p:spPr>
              <a:xfrm flipH="1">
                <a:off x="6058080" y="5029200"/>
                <a:ext cx="106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D86F-131D-4ECD-B9B4-615871E33E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Last step: configuration </a:t>
            </a:r>
            <a:r>
              <a:rPr b="0" i="1" lang="en-GB" sz="1800" spc="-1" strike="noStrike">
                <a:solidFill>
                  <a:srgbClr val="5d6497"/>
                </a:solidFill>
                <a:latin typeface="Arial"/>
              </a:rPr>
              <a:t>vs.</a:t>
            </a: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 architecture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695" name=""/>
          <p:cNvGrpSpPr/>
          <p:nvPr/>
        </p:nvGrpSpPr>
        <p:grpSpPr>
          <a:xfrm>
            <a:off x="130320" y="1981080"/>
            <a:ext cx="7260840" cy="4849200"/>
            <a:chOff x="130320" y="1981080"/>
            <a:chExt cx="7260840" cy="4849200"/>
          </a:xfrm>
        </p:grpSpPr>
        <p:sp>
          <p:nvSpPr>
            <p:cNvPr id="1696" name=""/>
            <p:cNvSpPr/>
            <p:nvPr/>
          </p:nvSpPr>
          <p:spPr>
            <a:xfrm>
              <a:off x="565200" y="5411520"/>
              <a:ext cx="366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</a:rPr>
                <a:t>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7" name=""/>
            <p:cNvGrpSpPr/>
            <p:nvPr/>
          </p:nvGrpSpPr>
          <p:grpSpPr>
            <a:xfrm>
              <a:off x="403200" y="5369760"/>
              <a:ext cx="173160" cy="366840"/>
              <a:chOff x="403200" y="5369760"/>
              <a:chExt cx="173160" cy="366840"/>
            </a:xfrm>
          </p:grpSpPr>
          <p:sp>
            <p:nvSpPr>
              <p:cNvPr id="1698" name=""/>
              <p:cNvSpPr/>
              <p:nvPr/>
            </p:nvSpPr>
            <p:spPr>
              <a:xfrm>
                <a:off x="403200" y="5553360"/>
                <a:ext cx="1731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V="1">
                <a:off x="403200" y="5369400"/>
                <a:ext cx="1731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2712960" y="1981080"/>
              <a:ext cx="2193840" cy="1842120"/>
              <a:chOff x="2712960" y="1981080"/>
              <a:chExt cx="2193840" cy="1842120"/>
            </a:xfrm>
          </p:grpSpPr>
          <p:sp>
            <p:nvSpPr>
              <p:cNvPr id="1701" name=""/>
              <p:cNvSpPr/>
              <p:nvPr/>
            </p:nvSpPr>
            <p:spPr>
              <a:xfrm>
                <a:off x="2712960" y="2284560"/>
                <a:ext cx="1578960" cy="1538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712960" y="1981080"/>
                <a:ext cx="2193840" cy="303480"/>
              </a:xfrm>
              <a:custGeom>
                <a:avLst/>
                <a:gdLst/>
                <a:ahLst/>
                <a:rect l="l" t="t" r="r" b="b"/>
                <a:pathLst>
                  <a:path w="599" h="93">
                    <a:moveTo>
                      <a:pt x="0" y="93"/>
                    </a:moveTo>
                    <a:lnTo>
                      <a:pt x="239" y="0"/>
                    </a:lnTo>
                    <a:lnTo>
                      <a:pt x="599" y="0"/>
                    </a:lnTo>
                    <a:lnTo>
                      <a:pt x="428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282920" y="1981080"/>
                <a:ext cx="623880" cy="1833840"/>
              </a:xfrm>
              <a:custGeom>
                <a:avLst/>
                <a:gdLst/>
                <a:ahLst/>
                <a:rect l="l" t="t" r="r" b="b"/>
                <a:pathLst>
                  <a:path w="171" h="562">
                    <a:moveTo>
                      <a:pt x="0" y="93"/>
                    </a:moveTo>
                    <a:lnTo>
                      <a:pt x="171" y="0"/>
                    </a:lnTo>
                    <a:lnTo>
                      <a:pt x="171" y="421"/>
                    </a:lnTo>
                    <a:lnTo>
                      <a:pt x="0" y="562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4" name=""/>
            <p:cNvGrpSpPr/>
            <p:nvPr/>
          </p:nvGrpSpPr>
          <p:grpSpPr>
            <a:xfrm>
              <a:off x="130320" y="4960800"/>
              <a:ext cx="1802880" cy="1137600"/>
              <a:chOff x="130320" y="4960800"/>
              <a:chExt cx="1802880" cy="1137600"/>
            </a:xfrm>
          </p:grpSpPr>
          <p:sp>
            <p:nvSpPr>
              <p:cNvPr id="1705" name=""/>
              <p:cNvSpPr/>
              <p:nvPr/>
            </p:nvSpPr>
            <p:spPr>
              <a:xfrm>
                <a:off x="130320" y="5148360"/>
                <a:ext cx="1297800" cy="950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130320" y="4960800"/>
                <a:ext cx="1802880" cy="187560"/>
              </a:xfrm>
              <a:custGeom>
                <a:avLst/>
                <a:gdLst/>
                <a:ahLst/>
                <a:rect l="l" t="t" r="r" b="b"/>
                <a:pathLst>
                  <a:path w="599" h="93">
                    <a:moveTo>
                      <a:pt x="0" y="93"/>
                    </a:moveTo>
                    <a:lnTo>
                      <a:pt x="239" y="0"/>
                    </a:lnTo>
                    <a:lnTo>
                      <a:pt x="599" y="0"/>
                    </a:lnTo>
                    <a:lnTo>
                      <a:pt x="428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420560" y="4960800"/>
                <a:ext cx="512640" cy="1132560"/>
              </a:xfrm>
              <a:custGeom>
                <a:avLst/>
                <a:gdLst/>
                <a:ahLst/>
                <a:rect l="l" t="t" r="r" b="b"/>
                <a:pathLst>
                  <a:path w="171" h="562">
                    <a:moveTo>
                      <a:pt x="0" y="93"/>
                    </a:moveTo>
                    <a:lnTo>
                      <a:pt x="171" y="0"/>
                    </a:lnTo>
                    <a:lnTo>
                      <a:pt x="171" y="421"/>
                    </a:lnTo>
                    <a:lnTo>
                      <a:pt x="0" y="562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8" name=""/>
            <p:cNvGrpSpPr/>
            <p:nvPr/>
          </p:nvGrpSpPr>
          <p:grpSpPr>
            <a:xfrm>
              <a:off x="5248440" y="4852800"/>
              <a:ext cx="2142720" cy="1732680"/>
              <a:chOff x="5248440" y="4852800"/>
              <a:chExt cx="2142720" cy="1732680"/>
            </a:xfrm>
          </p:grpSpPr>
          <p:sp>
            <p:nvSpPr>
              <p:cNvPr id="1709" name=""/>
              <p:cNvSpPr/>
              <p:nvPr/>
            </p:nvSpPr>
            <p:spPr>
              <a:xfrm>
                <a:off x="5248440" y="5138280"/>
                <a:ext cx="1542240" cy="144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248440" y="4852800"/>
                <a:ext cx="2142720" cy="285480"/>
              </a:xfrm>
              <a:custGeom>
                <a:avLst/>
                <a:gdLst/>
                <a:ahLst/>
                <a:rect l="l" t="t" r="r" b="b"/>
                <a:pathLst>
                  <a:path w="599" h="93">
                    <a:moveTo>
                      <a:pt x="0" y="93"/>
                    </a:moveTo>
                    <a:lnTo>
                      <a:pt x="239" y="0"/>
                    </a:lnTo>
                    <a:lnTo>
                      <a:pt x="599" y="0"/>
                    </a:lnTo>
                    <a:lnTo>
                      <a:pt x="428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6781680" y="4852800"/>
                <a:ext cx="609120" cy="1724760"/>
              </a:xfrm>
              <a:custGeom>
                <a:avLst/>
                <a:gdLst/>
                <a:ahLst/>
                <a:rect l="l" t="t" r="r" b="b"/>
                <a:pathLst>
                  <a:path w="171" h="562">
                    <a:moveTo>
                      <a:pt x="0" y="93"/>
                    </a:moveTo>
                    <a:lnTo>
                      <a:pt x="171" y="0"/>
                    </a:lnTo>
                    <a:lnTo>
                      <a:pt x="171" y="421"/>
                    </a:lnTo>
                    <a:lnTo>
                      <a:pt x="0" y="562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2" name=""/>
            <p:cNvSpPr/>
            <p:nvPr/>
          </p:nvSpPr>
          <p:spPr>
            <a:xfrm>
              <a:off x="3541680" y="3877920"/>
              <a:ext cx="155916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trial plat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457440" y="3823920"/>
              <a:ext cx="0" cy="59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514680" y="3335040"/>
              <a:ext cx="368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</a:rPr>
                <a:t>D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5" name=""/>
            <p:cNvGrpSpPr/>
            <p:nvPr/>
          </p:nvGrpSpPr>
          <p:grpSpPr>
            <a:xfrm>
              <a:off x="3354480" y="3293280"/>
              <a:ext cx="171360" cy="366840"/>
              <a:chOff x="3354480" y="3293280"/>
              <a:chExt cx="171360" cy="366840"/>
            </a:xfrm>
          </p:grpSpPr>
          <p:sp>
            <p:nvSpPr>
              <p:cNvPr id="1716" name=""/>
              <p:cNvSpPr/>
              <p:nvPr/>
            </p:nvSpPr>
            <p:spPr>
              <a:xfrm>
                <a:off x="3354480" y="3476880"/>
                <a:ext cx="1713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3354480" y="3292920"/>
                <a:ext cx="1713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8" name=""/>
            <p:cNvSpPr/>
            <p:nvPr/>
          </p:nvSpPr>
          <p:spPr>
            <a:xfrm>
              <a:off x="2924280" y="2674800"/>
              <a:ext cx="342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</a:rPr>
                <a:t>O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9" name=""/>
            <p:cNvGrpSpPr/>
            <p:nvPr/>
          </p:nvGrpSpPr>
          <p:grpSpPr>
            <a:xfrm>
              <a:off x="2762280" y="2534760"/>
              <a:ext cx="162000" cy="366840"/>
              <a:chOff x="2762280" y="2534760"/>
              <a:chExt cx="162000" cy="366840"/>
            </a:xfrm>
          </p:grpSpPr>
          <p:sp>
            <p:nvSpPr>
              <p:cNvPr id="1720" name=""/>
              <p:cNvSpPr/>
              <p:nvPr/>
            </p:nvSpPr>
            <p:spPr>
              <a:xfrm>
                <a:off x="2762280" y="2718360"/>
                <a:ext cx="16200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V="1">
                <a:off x="2762280" y="2534400"/>
                <a:ext cx="16200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2" name=""/>
            <p:cNvSpPr/>
            <p:nvPr/>
          </p:nvSpPr>
          <p:spPr>
            <a:xfrm>
              <a:off x="3483000" y="2598480"/>
              <a:ext cx="368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</a:rPr>
                <a:t>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3" name=""/>
            <p:cNvGrpSpPr/>
            <p:nvPr/>
          </p:nvGrpSpPr>
          <p:grpSpPr>
            <a:xfrm>
              <a:off x="3346560" y="2534760"/>
              <a:ext cx="172800" cy="366840"/>
              <a:chOff x="3346560" y="2534760"/>
              <a:chExt cx="172800" cy="366840"/>
            </a:xfrm>
          </p:grpSpPr>
          <p:sp>
            <p:nvSpPr>
              <p:cNvPr id="1724" name=""/>
              <p:cNvSpPr/>
              <p:nvPr/>
            </p:nvSpPr>
            <p:spPr>
              <a:xfrm>
                <a:off x="3346560" y="2718360"/>
                <a:ext cx="17280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V="1">
                <a:off x="3346560" y="2534400"/>
                <a:ext cx="17280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6" name=""/>
            <p:cNvSpPr/>
            <p:nvPr/>
          </p:nvSpPr>
          <p:spPr>
            <a:xfrm>
              <a:off x="1077840" y="5419440"/>
              <a:ext cx="368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</a:rPr>
                <a:t>U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7" name=""/>
            <p:cNvGrpSpPr/>
            <p:nvPr/>
          </p:nvGrpSpPr>
          <p:grpSpPr>
            <a:xfrm>
              <a:off x="917640" y="5377680"/>
              <a:ext cx="171360" cy="366840"/>
              <a:chOff x="917640" y="5377680"/>
              <a:chExt cx="171360" cy="366840"/>
            </a:xfrm>
          </p:grpSpPr>
          <p:sp>
            <p:nvSpPr>
              <p:cNvPr id="1728" name=""/>
              <p:cNvSpPr/>
              <p:nvPr/>
            </p:nvSpPr>
            <p:spPr>
              <a:xfrm>
                <a:off x="917640" y="5561280"/>
                <a:ext cx="1713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V="1">
                <a:off x="917640" y="5377320"/>
                <a:ext cx="1713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0" name=""/>
            <p:cNvSpPr/>
            <p:nvPr/>
          </p:nvSpPr>
          <p:spPr>
            <a:xfrm>
              <a:off x="5610240" y="5544720"/>
              <a:ext cx="368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</a:rPr>
                <a:t>UP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1" name=""/>
            <p:cNvGrpSpPr/>
            <p:nvPr/>
          </p:nvGrpSpPr>
          <p:grpSpPr>
            <a:xfrm>
              <a:off x="5450040" y="5503320"/>
              <a:ext cx="171360" cy="366840"/>
              <a:chOff x="5450040" y="5503320"/>
              <a:chExt cx="171360" cy="366840"/>
            </a:xfrm>
          </p:grpSpPr>
          <p:sp>
            <p:nvSpPr>
              <p:cNvPr id="1732" name=""/>
              <p:cNvSpPr/>
              <p:nvPr/>
            </p:nvSpPr>
            <p:spPr>
              <a:xfrm>
                <a:off x="5450040" y="5686920"/>
                <a:ext cx="1713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V="1">
                <a:off x="5450040" y="5502960"/>
                <a:ext cx="1713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4" name=""/>
            <p:cNvSpPr/>
            <p:nvPr/>
          </p:nvSpPr>
          <p:spPr>
            <a:xfrm>
              <a:off x="6195960" y="5557680"/>
              <a:ext cx="3668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</a:rPr>
                <a:t>AA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5" name=""/>
            <p:cNvGrpSpPr/>
            <p:nvPr/>
          </p:nvGrpSpPr>
          <p:grpSpPr>
            <a:xfrm>
              <a:off x="6033960" y="5514480"/>
              <a:ext cx="173160" cy="368280"/>
              <a:chOff x="6033960" y="5514480"/>
              <a:chExt cx="173160" cy="368280"/>
            </a:xfrm>
          </p:grpSpPr>
          <p:sp>
            <p:nvSpPr>
              <p:cNvPr id="1736" name=""/>
              <p:cNvSpPr/>
              <p:nvPr/>
            </p:nvSpPr>
            <p:spPr>
              <a:xfrm>
                <a:off x="6033960" y="5698800"/>
                <a:ext cx="173160" cy="183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6033960" y="5514120"/>
                <a:ext cx="173160" cy="183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8" name=""/>
            <p:cNvSpPr/>
            <p:nvPr/>
          </p:nvSpPr>
          <p:spPr>
            <a:xfrm>
              <a:off x="4016520" y="2565000"/>
              <a:ext cx="3682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urier New"/>
                </a:rPr>
                <a:t>AA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9" name=""/>
            <p:cNvGrpSpPr/>
            <p:nvPr/>
          </p:nvGrpSpPr>
          <p:grpSpPr>
            <a:xfrm>
              <a:off x="3863880" y="2521800"/>
              <a:ext cx="173160" cy="366840"/>
              <a:chOff x="3863880" y="2521800"/>
              <a:chExt cx="173160" cy="366840"/>
            </a:xfrm>
          </p:grpSpPr>
          <p:sp>
            <p:nvSpPr>
              <p:cNvPr id="1740" name=""/>
              <p:cNvSpPr/>
              <p:nvPr/>
            </p:nvSpPr>
            <p:spPr>
              <a:xfrm>
                <a:off x="3863880" y="2705400"/>
                <a:ext cx="1731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V="1">
                <a:off x="3863880" y="2521440"/>
                <a:ext cx="1731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2" name=""/>
            <p:cNvSpPr/>
            <p:nvPr/>
          </p:nvSpPr>
          <p:spPr>
            <a:xfrm>
              <a:off x="959040" y="4419360"/>
              <a:ext cx="50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027840" y="4419360"/>
              <a:ext cx="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959040" y="4419360"/>
              <a:ext cx="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617400" y="5393880"/>
              <a:ext cx="24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H="1">
              <a:off x="471600" y="3606480"/>
              <a:ext cx="2874960" cy="167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>
              <a:off x="1104480" y="3768480"/>
              <a:ext cx="2241720" cy="157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541680" y="3714480"/>
              <a:ext cx="1900440" cy="17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154160" y="5719320"/>
              <a:ext cx="424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541680" y="2901600"/>
              <a:ext cx="2436840" cy="260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V="1">
              <a:off x="3619440" y="2793600"/>
              <a:ext cx="244440" cy="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957400" y="2955600"/>
              <a:ext cx="341280" cy="2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444840" y="2955600"/>
              <a:ext cx="0" cy="2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029120" y="3011040"/>
              <a:ext cx="195120" cy="3240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979800" y="2830320"/>
              <a:ext cx="146160" cy="2174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162840" y="6003720"/>
              <a:ext cx="195120" cy="3236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113520" y="5822640"/>
              <a:ext cx="146160" cy="2174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554800" y="6003720"/>
              <a:ext cx="195120" cy="3236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540400" y="5811480"/>
              <a:ext cx="96840" cy="233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5637240" y="5827320"/>
              <a:ext cx="487440" cy="2174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006880" y="3428640"/>
              <a:ext cx="2212920" cy="56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Laptop used with video projector to show message exchang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Here runs the main plat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65840" y="3333600"/>
              <a:ext cx="2279520" cy="706320"/>
            </a:xfrm>
            <a:custGeom>
              <a:avLst/>
              <a:gdLst/>
              <a:ahLst/>
              <a:rect l="l" t="t" r="r" b="b"/>
              <a:pathLst>
                <a:path w="178" h="52">
                  <a:moveTo>
                    <a:pt x="0" y="0"/>
                  </a:moveTo>
                  <a:lnTo>
                    <a:pt x="169" y="0"/>
                  </a:lnTo>
                  <a:lnTo>
                    <a:pt x="178" y="9"/>
                  </a:lnTo>
                  <a:lnTo>
                    <a:pt x="178" y="52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140600" y="3333600"/>
              <a:ext cx="104760" cy="1332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9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613400" y="3168360"/>
              <a:ext cx="341280" cy="438120"/>
            </a:xfrm>
            <a:prstGeom prst="line">
              <a:avLst/>
            </a:prstGeom>
            <a:ln w="1260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751120" y="2319120"/>
              <a:ext cx="731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Times New Roman"/>
                </a:rPr>
                <a:t>lapto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79280" y="5844960"/>
              <a:ext cx="730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Times New Roman"/>
                </a:rPr>
                <a:t>lapto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226200" y="5178240"/>
              <a:ext cx="731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Times New Roman"/>
                </a:rPr>
                <a:t>laptop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959040" y="6259320"/>
              <a:ext cx="1304640" cy="56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User laptop for open day visi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920880" y="6264000"/>
              <a:ext cx="1403280" cy="431640"/>
            </a:xfrm>
            <a:custGeom>
              <a:avLst/>
              <a:gdLst/>
              <a:ahLst/>
              <a:rect l="l" t="t" r="r" b="b"/>
              <a:pathLst>
                <a:path w="178" h="52">
                  <a:moveTo>
                    <a:pt x="0" y="0"/>
                  </a:moveTo>
                  <a:lnTo>
                    <a:pt x="169" y="0"/>
                  </a:lnTo>
                  <a:lnTo>
                    <a:pt x="178" y="9"/>
                  </a:lnTo>
                  <a:lnTo>
                    <a:pt x="178" y="52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225880" y="6262560"/>
              <a:ext cx="98280" cy="1094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9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68440" y="6098760"/>
              <a:ext cx="341280" cy="271440"/>
            </a:xfrm>
            <a:prstGeom prst="line">
              <a:avLst/>
            </a:prstGeom>
            <a:ln w="1260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365800" y="6316560"/>
              <a:ext cx="6127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08080"/>
                  </a:solidFill>
                  <a:latin typeface="Times New Roman"/>
                </a:rPr>
                <a:t>profi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965920" y="6283080"/>
              <a:ext cx="8776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08080"/>
                  </a:solidFill>
                  <a:latin typeface="Times New Roman"/>
                </a:rPr>
                <a:t>annot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330720" y="6260760"/>
              <a:ext cx="1676160" cy="56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rchive Laptop with profiles and annot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178080" y="6264000"/>
              <a:ext cx="1729080" cy="415800"/>
            </a:xfrm>
            <a:custGeom>
              <a:avLst/>
              <a:gdLst/>
              <a:ahLst/>
              <a:rect l="l" t="t" r="r" b="b"/>
              <a:pathLst>
                <a:path w="178" h="52">
                  <a:moveTo>
                    <a:pt x="0" y="0"/>
                  </a:moveTo>
                  <a:lnTo>
                    <a:pt x="169" y="0"/>
                  </a:lnTo>
                  <a:lnTo>
                    <a:pt x="178" y="9"/>
                  </a:lnTo>
                  <a:lnTo>
                    <a:pt x="178" y="52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819680" y="6262560"/>
              <a:ext cx="87480" cy="107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9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4907160" y="6316200"/>
              <a:ext cx="341280" cy="161640"/>
            </a:xfrm>
            <a:prstGeom prst="line">
              <a:avLst/>
            </a:prstGeom>
            <a:ln w="1260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0" y="34308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35600" indent="-435600">
              <a:lnSpc>
                <a:spcPct val="70000"/>
              </a:lnSpc>
              <a:spcBef>
                <a:spcPts val="60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Architecture: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gent kinds and their relationships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0" i="1" lang="en-GB" sz="2400" spc="-1" strike="noStrike">
                <a:solidFill>
                  <a:srgbClr val="cc3300"/>
                </a:solidFill>
                <a:latin typeface="Arial"/>
              </a:rPr>
              <a:t>Fixed at desig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5600" indent="-435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Configuration: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Exact topography of a given MAS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i="1" lang="en-GB" sz="2400" spc="-1" strike="noStrike">
                <a:solidFill>
                  <a:srgbClr val="cc3300"/>
                </a:solidFill>
                <a:latin typeface="Arial"/>
              </a:rPr>
              <a:t>Fixed at deploy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5600" indent="-435600">
              <a:lnSpc>
                <a:spcPct val="70000"/>
              </a:lnSpc>
              <a:spcBef>
                <a:spcPts val="60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n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rchitecture </a:t>
            </a:r>
            <a:r>
              <a:rPr b="0" lang="en-US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everal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onfiguration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dapt to </a:t>
            </a:r>
            <a:r>
              <a:rPr b="0" i="1" lang="en-GB" sz="2400" spc="-1" strike="noStrike">
                <a:solidFill>
                  <a:srgbClr val="cc3300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2160" indent="-280080">
              <a:lnSpc>
                <a:spcPct val="7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9CA-C129-4F9F-8705-489E22E24C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-360" y="304560"/>
            <a:ext cx="909324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Results of CoMMA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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rgonomics probl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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Not a complete solu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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onolithic solution evaluation problem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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No large-scale evaluation (groups of 4/6 users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Font typeface="Wingdings" charset="2"/>
              <a:buChar char="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Usability and usefulness recogniz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Font typeface="Wingdings" charset="2"/>
              <a:buChar char="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Not a formal approach but running proof of concept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Font typeface="Wingdings" charset="2"/>
              <a:buChar char="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evelopers appreciation of ontology-agent approac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Font typeface="Wingdings" charset="2"/>
              <a:buChar char="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ndustrial interest in the development of the prototyp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Results </a:t>
            </a:r>
            <a:r>
              <a:rPr b="1" lang="en-GB" sz="30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 Ph.D. to be defended end of October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On going improvements in the team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pseudo distance &amp; decomposition algorith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Web mining wrappers: semi-automatic annot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y mapping: connect 2 corporate semantic web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y reuse and integration and NLP tool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81" name="Winner" descr=""/>
          <p:cNvPicPr/>
          <p:nvPr/>
        </p:nvPicPr>
        <p:blipFill>
          <a:blip r:embed="rId1"/>
          <a:stretch/>
        </p:blipFill>
        <p:spPr>
          <a:xfrm>
            <a:off x="4495680" y="-76320"/>
            <a:ext cx="4648320" cy="1563840"/>
          </a:xfrm>
          <a:prstGeom prst="rect">
            <a:avLst/>
          </a:prstGeom>
          <a:ln w="0">
            <a:noFill/>
          </a:ln>
        </p:spPr>
      </p:pic>
      <p:sp>
        <p:nvSpPr>
          <p:cNvPr id="1782" name=""/>
          <p:cNvSpPr/>
          <p:nvPr/>
        </p:nvSpPr>
        <p:spPr>
          <a:xfrm rot="19264200">
            <a:off x="5646240" y="405720"/>
            <a:ext cx="166716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0CAF-E9B4-4A94-86F2-4528480D84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Browsing the ontology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784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5251320" cy="543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11A0-5CE8-4E7B-929E-2E93F2EF2F2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Interface Agent: ontology-guided annotation submission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786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481960" cy="54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FF6-E268-4CE1-A7EC-D38213B0E9A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Annotation allocation: </a:t>
            </a:r>
            <a:r>
              <a:rPr b="1" lang="en-US" sz="1600" spc="-1" strike="noStrike">
                <a:solidFill>
                  <a:srgbClr val="5d6497"/>
                </a:solidFill>
                <a:latin typeface="Arial"/>
              </a:rPr>
              <a:t>contract-net</a:t>
            </a: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 based on </a:t>
            </a:r>
            <a:r>
              <a:rPr b="1" lang="en-US" sz="1600" spc="-1" strike="noStrike">
                <a:solidFill>
                  <a:srgbClr val="5d6497"/>
                </a:solidFill>
                <a:latin typeface="Arial"/>
              </a:rPr>
              <a:t>pseudo-semantic distance bids</a:t>
            </a:r>
            <a:endParaRPr b="0" lang="en-US" sz="16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788" name="" descr=""/>
          <p:cNvPicPr/>
          <p:nvPr/>
        </p:nvPicPr>
        <p:blipFill>
          <a:blip r:embed="rId1"/>
          <a:stretch/>
        </p:blipFill>
        <p:spPr>
          <a:xfrm>
            <a:off x="244440" y="457200"/>
            <a:ext cx="7680240" cy="61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B2B2-355D-4385-8783-B17BB67738B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Interface Agent: Ontology-guided query on the corporate semantic web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790" name="" descr=""/>
          <p:cNvPicPr/>
          <p:nvPr/>
        </p:nvPicPr>
        <p:blipFill>
          <a:blip r:embed="rId1"/>
          <a:stretch/>
        </p:blipFill>
        <p:spPr>
          <a:xfrm>
            <a:off x="228600" y="801720"/>
            <a:ext cx="7935840" cy="55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305D-F86B-4073-BF1F-413EE0AB02D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Query solving: multi-stage query-ref based on URI cut/join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792" name="" descr=""/>
          <p:cNvPicPr/>
          <p:nvPr/>
        </p:nvPicPr>
        <p:blipFill>
          <a:blip r:embed="rId1"/>
          <a:stretch/>
        </p:blipFill>
        <p:spPr>
          <a:xfrm>
            <a:off x="152280" y="446040"/>
            <a:ext cx="7680600" cy="61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F307-F687-4341-A698-825308EBB21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Introduction: issues and motivation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240" y="329760"/>
            <a:ext cx="90932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Knowledge and information management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Needs: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improve reaction time &amp; address turnover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7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Persistent memory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store and/or index knowle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7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Nervous system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capture and diffuse knowle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O.M.: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n explicit and persistent representation and/or indexing of knowledge in an organization, in order to facilitate its access and reuse by members of the organization, for their individual and collective tasks.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Current trend: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reuse internet and web technologies to build intranets and intraweb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Same advantag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standardised technology, browser unique access means, distributed architecture, 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Same drawback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human-understandable but only machine readable; problem of retrieval, automation,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Co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porate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mory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agement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rough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A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ents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ssist new employee integr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upport technology monitoring activitie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035F-8B63-4013-88B2-55A55D78CA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Presenting and documenting results with the ontology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794" name="" descr=""/>
          <p:cNvPicPr/>
          <p:nvPr/>
        </p:nvPicPr>
        <p:blipFill>
          <a:blip r:embed="rId1"/>
          <a:stretch/>
        </p:blipFill>
        <p:spPr>
          <a:xfrm>
            <a:off x="1447920" y="628560"/>
            <a:ext cx="5999040" cy="5376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DB9-B7C4-4FDE-A6FF-219D12055CF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"/>
          <p:cNvSpPr txBox="1"/>
          <p:nvPr/>
        </p:nvSpPr>
        <p:spPr>
          <a:xfrm>
            <a:off x="2819520" y="2895480"/>
            <a:ext cx="4497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505682"/>
                  </a:solidFill>
                  <a:miter/>
                </a:ln>
                <a:solidFill>
                  <a:srgbClr val="7278a8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hank you !</a:t>
            </a:r>
            <a:endParaRPr b="0" i="1" lang="en-US" sz="2400" spc="1" strike="noStrike">
              <a:ln w="9360">
                <a:solidFill>
                  <a:srgbClr val="505682"/>
                </a:solidFill>
                <a:miter/>
              </a:ln>
              <a:solidFill>
                <a:srgbClr val="7278a8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F40D-78E6-448E-8EC8-7229D3172AE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Overall Sche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62120" y="1295280"/>
            <a:ext cx="7772400" cy="4380120"/>
            <a:chOff x="762120" y="1295280"/>
            <a:chExt cx="7772400" cy="4380120"/>
          </a:xfrm>
        </p:grpSpPr>
        <p:sp>
          <p:nvSpPr>
            <p:cNvPr id="108" name=""/>
            <p:cNvSpPr/>
            <p:nvPr/>
          </p:nvSpPr>
          <p:spPr>
            <a:xfrm>
              <a:off x="76212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878280" y="1374840"/>
              <a:ext cx="1657080" cy="4181400"/>
              <a:chOff x="3878280" y="1374840"/>
              <a:chExt cx="1657080" cy="4181400"/>
            </a:xfrm>
          </p:grpSpPr>
          <p:sp>
            <p:nvSpPr>
              <p:cNvPr id="110" name=""/>
              <p:cNvSpPr/>
              <p:nvPr/>
            </p:nvSpPr>
            <p:spPr>
              <a:xfrm>
                <a:off x="387828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3704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1568520" y="2728800"/>
              <a:ext cx="6532560" cy="995400"/>
              <a:chOff x="1568520" y="2728800"/>
              <a:chExt cx="6532560" cy="995400"/>
            </a:xfrm>
          </p:grpSpPr>
          <p:sp>
            <p:nvSpPr>
              <p:cNvPr id="113" name=""/>
              <p:cNvSpPr/>
              <p:nvPr/>
            </p:nvSpPr>
            <p:spPr>
              <a:xfrm>
                <a:off x="156852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8208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3888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9084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8468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8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5752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19" name=""/>
              <p:cNvGrpSpPr/>
              <p:nvPr/>
            </p:nvGrpSpPr>
            <p:grpSpPr>
              <a:xfrm>
                <a:off x="5535720" y="3048120"/>
                <a:ext cx="908280" cy="636120"/>
                <a:chOff x="5535720" y="3048120"/>
                <a:chExt cx="908280" cy="6361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553572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1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184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122" name=""/>
              <p:cNvSpPr/>
              <p:nvPr/>
            </p:nvSpPr>
            <p:spPr>
              <a:xfrm>
                <a:off x="387864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3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89728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261648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44400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1704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7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8988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28" name=""/>
              <p:cNvGrpSpPr/>
              <p:nvPr/>
            </p:nvGrpSpPr>
            <p:grpSpPr>
              <a:xfrm>
                <a:off x="3405600" y="2860560"/>
                <a:ext cx="907920" cy="635040"/>
                <a:chOff x="3405600" y="2860560"/>
                <a:chExt cx="907920" cy="635040"/>
              </a:xfrm>
            </p:grpSpPr>
            <p:pic>
              <p:nvPicPr>
                <p:cNvPr id="129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172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>
                  <a:off x="340560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1" name=""/>
          <p:cNvGrpSpPr/>
          <p:nvPr/>
        </p:nvGrpSpPr>
        <p:grpSpPr>
          <a:xfrm>
            <a:off x="919080" y="3763800"/>
            <a:ext cx="1101240" cy="1552680"/>
            <a:chOff x="919080" y="3763800"/>
            <a:chExt cx="1101240" cy="1552680"/>
          </a:xfrm>
        </p:grpSpPr>
        <p:sp>
          <p:nvSpPr>
            <p:cNvPr id="132" name=""/>
            <p:cNvSpPr/>
            <p:nvPr/>
          </p:nvSpPr>
          <p:spPr>
            <a:xfrm>
              <a:off x="919080" y="471960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590480" y="3763800"/>
              <a:ext cx="429840" cy="1181160"/>
              <a:chOff x="1590480" y="3763800"/>
              <a:chExt cx="429840" cy="11811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1590480" y="3763800"/>
                <a:ext cx="210960" cy="97920"/>
                <a:chOff x="1590480" y="3763800"/>
                <a:chExt cx="210960" cy="979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590480" y="383760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642320" y="377424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715040" y="376380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755360" y="38012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1665000" y="3833640"/>
                <a:ext cx="355320" cy="1111320"/>
                <a:chOff x="1665000" y="3833640"/>
                <a:chExt cx="355320" cy="11113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729080" y="401652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856880" y="383364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665000" y="423252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781640" y="422064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742040" y="448128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52560" y="448128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46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629720" y="382500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7" name=""/>
          <p:cNvGrpSpPr/>
          <p:nvPr/>
        </p:nvGrpSpPr>
        <p:grpSpPr>
          <a:xfrm>
            <a:off x="2222640" y="3882960"/>
            <a:ext cx="2167920" cy="677520"/>
            <a:chOff x="2222640" y="3882960"/>
            <a:chExt cx="2167920" cy="677520"/>
          </a:xfrm>
        </p:grpSpPr>
        <p:pic>
          <p:nvPicPr>
            <p:cNvPr id="148" name="" descr=""/>
            <p:cNvPicPr/>
            <p:nvPr/>
          </p:nvPicPr>
          <p:blipFill>
            <a:blip r:embed="rId7"/>
            <a:stretch/>
          </p:blipFill>
          <p:spPr>
            <a:xfrm>
              <a:off x="2222640" y="4162320"/>
              <a:ext cx="2361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8"/>
            <a:stretch/>
          </p:blipFill>
          <p:spPr>
            <a:xfrm>
              <a:off x="3524040" y="4162320"/>
              <a:ext cx="23616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"/>
            <p:cNvGrpSpPr/>
            <p:nvPr/>
          </p:nvGrpSpPr>
          <p:grpSpPr>
            <a:xfrm>
              <a:off x="2419200" y="3882960"/>
              <a:ext cx="1007640" cy="677520"/>
              <a:chOff x="2419200" y="3882960"/>
              <a:chExt cx="1007640" cy="677520"/>
            </a:xfrm>
          </p:grpSpPr>
          <p:sp>
            <p:nvSpPr>
              <p:cNvPr id="151" name=""/>
              <p:cNvSpPr/>
              <p:nvPr/>
            </p:nvSpPr>
            <p:spPr>
              <a:xfrm>
                <a:off x="2576880" y="392256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2" name="onto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560" y="4156200"/>
                <a:ext cx="31536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2419200" y="3882960"/>
                <a:ext cx="100764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4" name="onto_01" descr=""/>
            <p:cNvPicPr/>
            <p:nvPr/>
          </p:nvPicPr>
          <p:blipFill>
            <a:blip r:embed="rId10"/>
            <a:stretch/>
          </p:blipFill>
          <p:spPr>
            <a:xfrm>
              <a:off x="4076640" y="4122720"/>
              <a:ext cx="31392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"/>
          <p:cNvGrpSpPr/>
          <p:nvPr/>
        </p:nvGrpSpPr>
        <p:grpSpPr>
          <a:xfrm>
            <a:off x="2009880" y="4633920"/>
            <a:ext cx="1631880" cy="882360"/>
            <a:chOff x="2009880" y="4633920"/>
            <a:chExt cx="1631880" cy="882360"/>
          </a:xfrm>
        </p:grpSpPr>
        <p:grpSp>
          <p:nvGrpSpPr>
            <p:cNvPr id="156" name=""/>
            <p:cNvGrpSpPr/>
            <p:nvPr/>
          </p:nvGrpSpPr>
          <p:grpSpPr>
            <a:xfrm>
              <a:off x="2009880" y="4917960"/>
              <a:ext cx="1631880" cy="598320"/>
              <a:chOff x="2009880" y="4917960"/>
              <a:chExt cx="1631880" cy="598320"/>
            </a:xfrm>
          </p:grpSpPr>
          <p:sp>
            <p:nvSpPr>
              <p:cNvPr id="157" name=""/>
              <p:cNvSpPr/>
              <p:nvPr/>
            </p:nvSpPr>
            <p:spPr>
              <a:xfrm>
                <a:off x="2088720" y="495756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8" name="onto_02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27960" y="516168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2009880" y="491796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11560" y="511740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1" name="" descr=""/>
            <p:cNvPicPr/>
            <p:nvPr/>
          </p:nvPicPr>
          <p:blipFill>
            <a:blip r:embed="rId12"/>
            <a:stretch/>
          </p:blipFill>
          <p:spPr>
            <a:xfrm>
              <a:off x="2813040" y="463392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3524400" y="4998960"/>
            <a:ext cx="1065240" cy="357120"/>
            <a:chOff x="3524400" y="4998960"/>
            <a:chExt cx="1065240" cy="357120"/>
          </a:xfrm>
        </p:grpSpPr>
        <p:pic>
          <p:nvPicPr>
            <p:cNvPr id="163" name="" descr=""/>
            <p:cNvPicPr/>
            <p:nvPr/>
          </p:nvPicPr>
          <p:blipFill>
            <a:blip r:embed="rId13"/>
            <a:stretch/>
          </p:blipFill>
          <p:spPr>
            <a:xfrm>
              <a:off x="3524400" y="50785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onto_02" descr=""/>
            <p:cNvPicPr/>
            <p:nvPr/>
          </p:nvPicPr>
          <p:blipFill>
            <a:blip r:embed="rId14"/>
            <a:stretch/>
          </p:blipFill>
          <p:spPr>
            <a:xfrm>
              <a:off x="4233960" y="499896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 txBox="1"/>
          <p:nvPr/>
        </p:nvSpPr>
        <p:spPr>
          <a:xfrm>
            <a:off x="2103480" y="464040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143080" y="3605040"/>
            <a:ext cx="1971720" cy="1273320"/>
            <a:chOff x="2143080" y="3605040"/>
            <a:chExt cx="1971720" cy="1273320"/>
          </a:xfrm>
        </p:grpSpPr>
        <p:sp>
          <p:nvSpPr>
            <p:cNvPr id="167" name=""/>
            <p:cNvSpPr/>
            <p:nvPr/>
          </p:nvSpPr>
          <p:spPr>
            <a:xfrm>
              <a:off x="3444840" y="360504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143080" y="360504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87520" y="368460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362-0220-4291-A8A2-E4FA4C93FD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Overall Sche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62120" y="1295280"/>
            <a:ext cx="7772400" cy="4380120"/>
            <a:chOff x="762120" y="1295280"/>
            <a:chExt cx="7772400" cy="4380120"/>
          </a:xfrm>
        </p:grpSpPr>
        <p:sp>
          <p:nvSpPr>
            <p:cNvPr id="172" name=""/>
            <p:cNvSpPr/>
            <p:nvPr/>
          </p:nvSpPr>
          <p:spPr>
            <a:xfrm>
              <a:off x="76212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3878280" y="1374840"/>
              <a:ext cx="1657080" cy="4181400"/>
              <a:chOff x="3878280" y="1374840"/>
              <a:chExt cx="1657080" cy="4181400"/>
            </a:xfrm>
          </p:grpSpPr>
          <p:sp>
            <p:nvSpPr>
              <p:cNvPr id="174" name=""/>
              <p:cNvSpPr/>
              <p:nvPr/>
            </p:nvSpPr>
            <p:spPr>
              <a:xfrm>
                <a:off x="387828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03704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1568520" y="2728800"/>
              <a:ext cx="6532560" cy="995400"/>
              <a:chOff x="1568520" y="2728800"/>
              <a:chExt cx="6532560" cy="995400"/>
            </a:xfrm>
          </p:grpSpPr>
          <p:sp>
            <p:nvSpPr>
              <p:cNvPr id="177" name=""/>
              <p:cNvSpPr/>
              <p:nvPr/>
            </p:nvSpPr>
            <p:spPr>
              <a:xfrm>
                <a:off x="156852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38208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43888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9084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8468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2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5752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83" name=""/>
              <p:cNvGrpSpPr/>
              <p:nvPr/>
            </p:nvGrpSpPr>
            <p:grpSpPr>
              <a:xfrm>
                <a:off x="5535720" y="3048120"/>
                <a:ext cx="908280" cy="636120"/>
                <a:chOff x="5535720" y="3048120"/>
                <a:chExt cx="908280" cy="636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53572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5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184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186" name=""/>
              <p:cNvSpPr/>
              <p:nvPr/>
            </p:nvSpPr>
            <p:spPr>
              <a:xfrm>
                <a:off x="387864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7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89728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261648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44400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1704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1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8988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92" name=""/>
              <p:cNvGrpSpPr/>
              <p:nvPr/>
            </p:nvGrpSpPr>
            <p:grpSpPr>
              <a:xfrm>
                <a:off x="3405600" y="2860560"/>
                <a:ext cx="907920" cy="635040"/>
                <a:chOff x="3405600" y="2860560"/>
                <a:chExt cx="907920" cy="635040"/>
              </a:xfrm>
            </p:grpSpPr>
            <p:pic>
              <p:nvPicPr>
                <p:cNvPr id="193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172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94" name=""/>
                <p:cNvSpPr/>
                <p:nvPr/>
              </p:nvSpPr>
              <p:spPr>
                <a:xfrm>
                  <a:off x="340560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5" name=""/>
          <p:cNvGrpSpPr/>
          <p:nvPr/>
        </p:nvGrpSpPr>
        <p:grpSpPr>
          <a:xfrm>
            <a:off x="841320" y="1374840"/>
            <a:ext cx="1774800" cy="1433520"/>
            <a:chOff x="841320" y="1374840"/>
            <a:chExt cx="1774800" cy="1433520"/>
          </a:xfrm>
        </p:grpSpPr>
        <p:sp>
          <p:nvSpPr>
            <p:cNvPr id="196" name=""/>
            <p:cNvSpPr/>
            <p:nvPr/>
          </p:nvSpPr>
          <p:spPr>
            <a:xfrm>
              <a:off x="841320" y="244944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393560" y="1374840"/>
              <a:ext cx="789120" cy="1231920"/>
              <a:chOff x="1393560" y="1374840"/>
              <a:chExt cx="789120" cy="123192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1668960" y="1822680"/>
                <a:ext cx="477360" cy="784080"/>
                <a:chOff x="1668960" y="1822680"/>
                <a:chExt cx="477360" cy="784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878120" y="208332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21320" y="232992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753560" y="231624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668960" y="208404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989000" y="182268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834200" y="186624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679760" y="1374840"/>
                <a:ext cx="236520" cy="239040"/>
                <a:chOff x="1679760" y="1374840"/>
                <a:chExt cx="236520" cy="2390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679760" y="137484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7" name="doc_0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706760" y="139644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208" name=""/>
              <p:cNvGrpSpPr/>
              <p:nvPr/>
            </p:nvGrpSpPr>
            <p:grpSpPr>
              <a:xfrm>
                <a:off x="1393560" y="1498320"/>
                <a:ext cx="255240" cy="278640"/>
                <a:chOff x="1393560" y="1498320"/>
                <a:chExt cx="255240" cy="27864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393560" y="149832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0" name="doc_0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01840" y="151704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1" name=""/>
              <p:cNvGrpSpPr/>
              <p:nvPr/>
            </p:nvGrpSpPr>
            <p:grpSpPr>
              <a:xfrm>
                <a:off x="1551240" y="1817280"/>
                <a:ext cx="204120" cy="245160"/>
                <a:chOff x="1551240" y="1817280"/>
                <a:chExt cx="204120" cy="2451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551240" y="181728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3" name="doc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71760" y="183384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4" name=""/>
              <p:cNvGrpSpPr/>
              <p:nvPr/>
            </p:nvGrpSpPr>
            <p:grpSpPr>
              <a:xfrm>
                <a:off x="1945800" y="1538280"/>
                <a:ext cx="236880" cy="278640"/>
                <a:chOff x="1945800" y="1538280"/>
                <a:chExt cx="236880" cy="2786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1945800" y="153828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6" name="doc_05gif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951200" y="157176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17" name=""/>
          <p:cNvGrpSpPr/>
          <p:nvPr/>
        </p:nvGrpSpPr>
        <p:grpSpPr>
          <a:xfrm>
            <a:off x="2182680" y="1785960"/>
            <a:ext cx="1617840" cy="903240"/>
            <a:chOff x="2182680" y="1785960"/>
            <a:chExt cx="1617840" cy="903240"/>
          </a:xfrm>
        </p:grpSpPr>
        <p:pic>
          <p:nvPicPr>
            <p:cNvPr id="218" name="" descr=""/>
            <p:cNvPicPr/>
            <p:nvPr/>
          </p:nvPicPr>
          <p:blipFill>
            <a:blip r:embed="rId10"/>
            <a:stretch/>
          </p:blipFill>
          <p:spPr>
            <a:xfrm>
              <a:off x="2182680" y="226224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9" name=""/>
            <p:cNvGrpSpPr/>
            <p:nvPr/>
          </p:nvGrpSpPr>
          <p:grpSpPr>
            <a:xfrm>
              <a:off x="2458800" y="1785960"/>
              <a:ext cx="1025640" cy="903240"/>
              <a:chOff x="2458800" y="1785960"/>
              <a:chExt cx="1025640" cy="903240"/>
            </a:xfrm>
          </p:grpSpPr>
          <p:sp>
            <p:nvSpPr>
              <p:cNvPr id="220" name=""/>
              <p:cNvSpPr/>
              <p:nvPr/>
            </p:nvSpPr>
            <p:spPr>
              <a:xfrm>
                <a:off x="2458800" y="2052000"/>
                <a:ext cx="102564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458800" y="1785960"/>
                <a:ext cx="102564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476440" y="2054880"/>
                <a:ext cx="10076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853000" y="228744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35480" y="181656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5" name="" descr=""/>
            <p:cNvPicPr/>
            <p:nvPr/>
          </p:nvPicPr>
          <p:blipFill>
            <a:blip r:embed="rId13"/>
            <a:stretch/>
          </p:blipFill>
          <p:spPr>
            <a:xfrm>
              <a:off x="3563640" y="2251080"/>
              <a:ext cx="23688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"/>
          <p:cNvGrpSpPr/>
          <p:nvPr/>
        </p:nvGrpSpPr>
        <p:grpSpPr>
          <a:xfrm>
            <a:off x="3933720" y="1697040"/>
            <a:ext cx="1376280" cy="3565440"/>
            <a:chOff x="3933720" y="1697040"/>
            <a:chExt cx="1376280" cy="3565440"/>
          </a:xfrm>
        </p:grpSpPr>
        <p:pic>
          <p:nvPicPr>
            <p:cNvPr id="227" name="doc_01" descr=""/>
            <p:cNvPicPr/>
            <p:nvPr/>
          </p:nvPicPr>
          <p:blipFill>
            <a:blip r:embed="rId14"/>
            <a:stretch/>
          </p:blipFill>
          <p:spPr>
            <a:xfrm>
              <a:off x="4894200" y="231120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doc_01" descr=""/>
            <p:cNvPicPr/>
            <p:nvPr/>
          </p:nvPicPr>
          <p:blipFill>
            <a:blip r:embed="rId15"/>
            <a:stretch/>
          </p:blipFill>
          <p:spPr>
            <a:xfrm>
              <a:off x="4852080" y="223200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memory_01" descr=""/>
            <p:cNvPicPr/>
            <p:nvPr/>
          </p:nvPicPr>
          <p:blipFill>
            <a:blip r:embed="rId16"/>
            <a:stretch/>
          </p:blipFill>
          <p:spPr>
            <a:xfrm>
              <a:off x="3933720" y="1697040"/>
              <a:ext cx="35100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doc_03" descr=""/>
            <p:cNvPicPr/>
            <p:nvPr/>
          </p:nvPicPr>
          <p:blipFill>
            <a:blip r:embed="rId17"/>
            <a:stretch/>
          </p:blipFill>
          <p:spPr>
            <a:xfrm>
              <a:off x="4100040" y="4467240"/>
              <a:ext cx="41796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231" name="doc_04" descr=""/>
            <p:cNvPicPr/>
            <p:nvPr/>
          </p:nvPicPr>
          <p:blipFill>
            <a:blip r:embed="rId18"/>
            <a:stretch/>
          </p:blipFill>
          <p:spPr>
            <a:xfrm>
              <a:off x="4017600" y="2192400"/>
              <a:ext cx="2919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doc_05gif" descr=""/>
            <p:cNvPicPr/>
            <p:nvPr/>
          </p:nvPicPr>
          <p:blipFill>
            <a:blip r:embed="rId19"/>
            <a:stretch/>
          </p:blipFill>
          <p:spPr>
            <a:xfrm>
              <a:off x="4726080" y="438624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20"/>
            <a:stretch/>
          </p:blipFill>
          <p:spPr>
            <a:xfrm>
              <a:off x="4644000" y="382428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21"/>
            <a:stretch/>
          </p:blipFill>
          <p:spPr>
            <a:xfrm>
              <a:off x="4459320" y="173664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doc_01" descr=""/>
            <p:cNvPicPr/>
            <p:nvPr/>
          </p:nvPicPr>
          <p:blipFill>
            <a:blip r:embed="rId22"/>
            <a:stretch/>
          </p:blipFill>
          <p:spPr>
            <a:xfrm>
              <a:off x="4935960" y="235116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3"/>
            <a:stretch/>
          </p:blipFill>
          <p:spPr>
            <a:xfrm>
              <a:off x="4976280" y="494496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4"/>
            <a:stretch/>
          </p:blipFill>
          <p:spPr>
            <a:xfrm>
              <a:off x="4434120" y="2351160"/>
              <a:ext cx="3524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25"/>
            <a:stretch/>
          </p:blipFill>
          <p:spPr>
            <a:xfrm>
              <a:off x="4976280" y="179388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"/>
          <p:cNvSpPr txBox="1"/>
          <p:nvPr/>
        </p:nvSpPr>
        <p:spPr>
          <a:xfrm>
            <a:off x="2773440" y="1494000"/>
            <a:ext cx="2379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08200" y="2610000"/>
            <a:ext cx="947160" cy="396720"/>
            <a:chOff x="1708200" y="2610000"/>
            <a:chExt cx="947160" cy="396720"/>
          </a:xfrm>
        </p:grpSpPr>
        <p:sp>
          <p:nvSpPr>
            <p:cNvPr id="241" name=""/>
            <p:cNvSpPr/>
            <p:nvPr/>
          </p:nvSpPr>
          <p:spPr>
            <a:xfrm>
              <a:off x="1708200" y="271476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023560" y="261000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3" name="onto_01" descr=""/>
          <p:cNvPicPr/>
          <p:nvPr/>
        </p:nvPicPr>
        <p:blipFill>
          <a:blip r:embed="rId26"/>
          <a:stretch/>
        </p:blipFill>
        <p:spPr>
          <a:xfrm>
            <a:off x="4076640" y="4122720"/>
            <a:ext cx="314280" cy="317520"/>
          </a:xfrm>
          <a:prstGeom prst="rect">
            <a:avLst/>
          </a:prstGeom>
          <a:ln w="0">
            <a:noFill/>
          </a:ln>
        </p:spPr>
      </p:pic>
      <p:pic>
        <p:nvPicPr>
          <p:cNvPr id="244" name="onto_02" descr=""/>
          <p:cNvPicPr/>
          <p:nvPr/>
        </p:nvPicPr>
        <p:blipFill>
          <a:blip r:embed="rId27"/>
          <a:stretch/>
        </p:blipFill>
        <p:spPr>
          <a:xfrm>
            <a:off x="4233960" y="4998960"/>
            <a:ext cx="355680" cy="35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E634-EBEC-424E-B7AE-E4755C4F12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Overall Sche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2120" y="1295280"/>
            <a:ext cx="7772400" cy="4380120"/>
            <a:chOff x="762120" y="1295280"/>
            <a:chExt cx="7772400" cy="4380120"/>
          </a:xfrm>
        </p:grpSpPr>
        <p:sp>
          <p:nvSpPr>
            <p:cNvPr id="247" name=""/>
            <p:cNvSpPr/>
            <p:nvPr/>
          </p:nvSpPr>
          <p:spPr>
            <a:xfrm>
              <a:off x="76212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3878280" y="1374840"/>
              <a:ext cx="1657080" cy="4181400"/>
              <a:chOff x="3878280" y="1374840"/>
              <a:chExt cx="1657080" cy="4181400"/>
            </a:xfrm>
          </p:grpSpPr>
          <p:sp>
            <p:nvSpPr>
              <p:cNvPr id="249" name=""/>
              <p:cNvSpPr/>
              <p:nvPr/>
            </p:nvSpPr>
            <p:spPr>
              <a:xfrm>
                <a:off x="387828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03704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1568520" y="2728800"/>
              <a:ext cx="6532560" cy="995400"/>
              <a:chOff x="1568520" y="2728800"/>
              <a:chExt cx="6532560" cy="995400"/>
            </a:xfrm>
          </p:grpSpPr>
          <p:sp>
            <p:nvSpPr>
              <p:cNvPr id="252" name=""/>
              <p:cNvSpPr/>
              <p:nvPr/>
            </p:nvSpPr>
            <p:spPr>
              <a:xfrm>
                <a:off x="156852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38208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43888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59084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8468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7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5752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58" name=""/>
              <p:cNvGrpSpPr/>
              <p:nvPr/>
            </p:nvGrpSpPr>
            <p:grpSpPr>
              <a:xfrm>
                <a:off x="5535720" y="3048120"/>
                <a:ext cx="908280" cy="636120"/>
                <a:chOff x="5535720" y="3048120"/>
                <a:chExt cx="908280" cy="6361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53572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60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184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261" name=""/>
              <p:cNvSpPr/>
              <p:nvPr/>
            </p:nvSpPr>
            <p:spPr>
              <a:xfrm>
                <a:off x="387864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2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89728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261648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44400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91704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6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8988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67" name=""/>
              <p:cNvGrpSpPr/>
              <p:nvPr/>
            </p:nvGrpSpPr>
            <p:grpSpPr>
              <a:xfrm>
                <a:off x="3405600" y="2860560"/>
                <a:ext cx="907920" cy="635040"/>
                <a:chOff x="3405600" y="2860560"/>
                <a:chExt cx="907920" cy="635040"/>
              </a:xfrm>
            </p:grpSpPr>
            <p:pic>
              <p:nvPicPr>
                <p:cNvPr id="268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172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269" name=""/>
                <p:cNvSpPr/>
                <p:nvPr/>
              </p:nvSpPr>
              <p:spPr>
                <a:xfrm>
                  <a:off x="340560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0" name=""/>
          <p:cNvGrpSpPr/>
          <p:nvPr/>
        </p:nvGrpSpPr>
        <p:grpSpPr>
          <a:xfrm>
            <a:off x="7113600" y="4521240"/>
            <a:ext cx="1106280" cy="1193760"/>
            <a:chOff x="7113600" y="4521240"/>
            <a:chExt cx="1106280" cy="1193760"/>
          </a:xfrm>
        </p:grpSpPr>
        <p:sp>
          <p:nvSpPr>
            <p:cNvPr id="271" name=""/>
            <p:cNvSpPr/>
            <p:nvPr/>
          </p:nvSpPr>
          <p:spPr>
            <a:xfrm>
              <a:off x="7113600" y="546732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272000" y="4600440"/>
              <a:ext cx="430200" cy="903600"/>
              <a:chOff x="7272000" y="4600440"/>
              <a:chExt cx="430200" cy="903600"/>
            </a:xfrm>
          </p:grpSpPr>
          <p:sp>
            <p:nvSpPr>
              <p:cNvPr id="273" name=""/>
              <p:cNvSpPr/>
              <p:nvPr/>
            </p:nvSpPr>
            <p:spPr>
              <a:xfrm flipH="1">
                <a:off x="7396560" y="465084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7507800" y="460044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7418160" y="486252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7317000" y="487080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7271640" y="512928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7451640" y="512856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7705440" y="4521240"/>
              <a:ext cx="473400" cy="396720"/>
              <a:chOff x="7705440" y="4521240"/>
              <a:chExt cx="473400" cy="39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7705440" y="452124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1" name="inter" descr=""/>
              <p:cNvPicPr/>
              <p:nvPr/>
            </p:nvPicPr>
            <p:blipFill>
              <a:blip r:embed="rId6"/>
              <a:stretch/>
            </p:blipFill>
            <p:spPr>
              <a:xfrm>
                <a:off x="7821720" y="45914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82" name=""/>
          <p:cNvGrpSpPr/>
          <p:nvPr/>
        </p:nvGrpSpPr>
        <p:grpSpPr>
          <a:xfrm>
            <a:off x="5456160" y="4560840"/>
            <a:ext cx="1697040" cy="995400"/>
            <a:chOff x="5456160" y="4560840"/>
            <a:chExt cx="1697040" cy="995400"/>
          </a:xfrm>
        </p:grpSpPr>
        <p:pic>
          <p:nvPicPr>
            <p:cNvPr id="283" name="" descr=""/>
            <p:cNvPicPr/>
            <p:nvPr/>
          </p:nvPicPr>
          <p:blipFill>
            <a:blip r:embed="rId7"/>
            <a:stretch/>
          </p:blipFill>
          <p:spPr>
            <a:xfrm>
              <a:off x="5456160" y="50385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8"/>
            <a:stretch/>
          </p:blipFill>
          <p:spPr>
            <a:xfrm>
              <a:off x="6916680" y="503856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5" name=""/>
            <p:cNvGrpSpPr/>
            <p:nvPr/>
          </p:nvGrpSpPr>
          <p:grpSpPr>
            <a:xfrm>
              <a:off x="5732280" y="4560840"/>
              <a:ext cx="1104840" cy="995400"/>
              <a:chOff x="5732280" y="4560840"/>
              <a:chExt cx="1104840" cy="995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5732280" y="4560840"/>
                <a:ext cx="1026000" cy="902880"/>
                <a:chOff x="5732280" y="4560840"/>
                <a:chExt cx="1026000" cy="902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5732280" y="482688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732280" y="45608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749920" y="48294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9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126840" y="50623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808960" y="4591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92" name=""/>
              <p:cNvGrpSpPr/>
              <p:nvPr/>
            </p:nvGrpSpPr>
            <p:grpSpPr>
              <a:xfrm>
                <a:off x="5771520" y="4600440"/>
                <a:ext cx="1026000" cy="903240"/>
                <a:chOff x="5771520" y="4600440"/>
                <a:chExt cx="1026000" cy="90324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771520" y="486648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771520" y="46004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789160" y="486936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9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66080" y="51019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848200" y="4631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98" name=""/>
              <p:cNvGrpSpPr/>
              <p:nvPr/>
            </p:nvGrpSpPr>
            <p:grpSpPr>
              <a:xfrm>
                <a:off x="5811120" y="4653000"/>
                <a:ext cx="1026000" cy="903240"/>
                <a:chOff x="5811120" y="4653000"/>
                <a:chExt cx="1026000" cy="90324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5811120" y="491904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811120" y="465300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828760" y="49219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0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205680" y="515448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5887800" y="46836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304" name="onto_01" descr=""/>
          <p:cNvPicPr/>
          <p:nvPr/>
        </p:nvPicPr>
        <p:blipFill>
          <a:blip r:embed="rId15"/>
          <a:stretch/>
        </p:blipFill>
        <p:spPr>
          <a:xfrm>
            <a:off x="4076640" y="4122720"/>
            <a:ext cx="314280" cy="317520"/>
          </a:xfrm>
          <a:prstGeom prst="rect">
            <a:avLst/>
          </a:prstGeom>
          <a:ln w="0">
            <a:noFill/>
          </a:ln>
        </p:spPr>
      </p:pic>
      <p:pic>
        <p:nvPicPr>
          <p:cNvPr id="305" name="onto_02" descr=""/>
          <p:cNvPicPr/>
          <p:nvPr/>
        </p:nvPicPr>
        <p:blipFill>
          <a:blip r:embed="rId16"/>
          <a:stretch/>
        </p:blipFill>
        <p:spPr>
          <a:xfrm>
            <a:off x="4233960" y="4998960"/>
            <a:ext cx="355680" cy="35712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7192800" y="3787920"/>
            <a:ext cx="631800" cy="772920"/>
            <a:chOff x="7192800" y="3787920"/>
            <a:chExt cx="631800" cy="772920"/>
          </a:xfrm>
        </p:grpSpPr>
        <p:pic>
          <p:nvPicPr>
            <p:cNvPr id="307" name="" descr=""/>
            <p:cNvPicPr/>
            <p:nvPr/>
          </p:nvPicPr>
          <p:blipFill>
            <a:blip r:embed="rId17"/>
            <a:stretch/>
          </p:blipFill>
          <p:spPr>
            <a:xfrm>
              <a:off x="7389720" y="432108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8" name=""/>
            <p:cNvGrpSpPr/>
            <p:nvPr/>
          </p:nvGrpSpPr>
          <p:grpSpPr>
            <a:xfrm>
              <a:off x="7192800" y="3787920"/>
              <a:ext cx="631800" cy="490320"/>
              <a:chOff x="7192800" y="3787920"/>
              <a:chExt cx="631800" cy="490320"/>
            </a:xfrm>
          </p:grpSpPr>
          <p:sp>
            <p:nvSpPr>
              <p:cNvPr id="309" name=""/>
              <p:cNvSpPr/>
              <p:nvPr/>
            </p:nvSpPr>
            <p:spPr>
              <a:xfrm>
                <a:off x="7232040" y="384012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192800" y="378792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11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429680" y="402120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12" name="doc_01" descr=""/>
          <p:cNvPicPr/>
          <p:nvPr/>
        </p:nvPicPr>
        <p:blipFill>
          <a:blip r:embed="rId19"/>
          <a:stretch/>
        </p:blipFill>
        <p:spPr>
          <a:xfrm>
            <a:off x="4894200" y="2311560"/>
            <a:ext cx="227160" cy="279360"/>
          </a:xfrm>
          <a:prstGeom prst="rect">
            <a:avLst/>
          </a:prstGeom>
          <a:ln w="0">
            <a:noFill/>
          </a:ln>
        </p:spPr>
      </p:pic>
      <p:pic>
        <p:nvPicPr>
          <p:cNvPr id="313" name="doc_01" descr=""/>
          <p:cNvPicPr/>
          <p:nvPr/>
        </p:nvPicPr>
        <p:blipFill>
          <a:blip r:embed="rId20"/>
          <a:stretch/>
        </p:blipFill>
        <p:spPr>
          <a:xfrm>
            <a:off x="4851360" y="2232000"/>
            <a:ext cx="227160" cy="279360"/>
          </a:xfrm>
          <a:prstGeom prst="rect">
            <a:avLst/>
          </a:prstGeom>
          <a:ln w="0">
            <a:noFill/>
          </a:ln>
        </p:spPr>
      </p:pic>
      <p:pic>
        <p:nvPicPr>
          <p:cNvPr id="314" name="memory_01" descr=""/>
          <p:cNvPicPr/>
          <p:nvPr/>
        </p:nvPicPr>
        <p:blipFill>
          <a:blip r:embed="rId21"/>
          <a:stretch/>
        </p:blipFill>
        <p:spPr>
          <a:xfrm>
            <a:off x="3933720" y="1697040"/>
            <a:ext cx="351000" cy="336600"/>
          </a:xfrm>
          <a:prstGeom prst="rect">
            <a:avLst/>
          </a:prstGeom>
          <a:ln w="0">
            <a:noFill/>
          </a:ln>
        </p:spPr>
      </p:pic>
      <p:pic>
        <p:nvPicPr>
          <p:cNvPr id="315" name="doc_03" descr=""/>
          <p:cNvPicPr/>
          <p:nvPr/>
        </p:nvPicPr>
        <p:blipFill>
          <a:blip r:embed="rId22"/>
          <a:stretch/>
        </p:blipFill>
        <p:spPr>
          <a:xfrm>
            <a:off x="4100400" y="4467240"/>
            <a:ext cx="417600" cy="396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316" name="doc_04" descr=""/>
          <p:cNvPicPr/>
          <p:nvPr/>
        </p:nvPicPr>
        <p:blipFill>
          <a:blip r:embed="rId23"/>
          <a:stretch/>
        </p:blipFill>
        <p:spPr>
          <a:xfrm>
            <a:off x="4017960" y="2192400"/>
            <a:ext cx="291960" cy="277920"/>
          </a:xfrm>
          <a:prstGeom prst="rect">
            <a:avLst/>
          </a:prstGeom>
          <a:ln w="0">
            <a:noFill/>
          </a:ln>
        </p:spPr>
      </p:pic>
      <p:pic>
        <p:nvPicPr>
          <p:cNvPr id="317" name="doc_05gif" descr=""/>
          <p:cNvPicPr/>
          <p:nvPr/>
        </p:nvPicPr>
        <p:blipFill>
          <a:blip r:embed="rId24"/>
          <a:stretch/>
        </p:blipFill>
        <p:spPr>
          <a:xfrm>
            <a:off x="4726080" y="4386240"/>
            <a:ext cx="322200" cy="2919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5"/>
          <a:stretch/>
        </p:blipFill>
        <p:spPr>
          <a:xfrm>
            <a:off x="4643280" y="3824280"/>
            <a:ext cx="435240" cy="4158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6"/>
          <a:stretch/>
        </p:blipFill>
        <p:spPr>
          <a:xfrm>
            <a:off x="4459320" y="1736640"/>
            <a:ext cx="350640" cy="336600"/>
          </a:xfrm>
          <a:prstGeom prst="rect">
            <a:avLst/>
          </a:prstGeom>
          <a:ln w="0">
            <a:noFill/>
          </a:ln>
        </p:spPr>
      </p:pic>
      <p:pic>
        <p:nvPicPr>
          <p:cNvPr id="320" name="doc_01" descr=""/>
          <p:cNvPicPr/>
          <p:nvPr/>
        </p:nvPicPr>
        <p:blipFill>
          <a:blip r:embed="rId27"/>
          <a:stretch/>
        </p:blipFill>
        <p:spPr>
          <a:xfrm>
            <a:off x="4935600" y="2351160"/>
            <a:ext cx="226800" cy="2793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8"/>
          <a:stretch/>
        </p:blipFill>
        <p:spPr>
          <a:xfrm>
            <a:off x="4976640" y="4944960"/>
            <a:ext cx="333720" cy="3175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9"/>
          <a:stretch/>
        </p:blipFill>
        <p:spPr>
          <a:xfrm>
            <a:off x="4433760" y="2351160"/>
            <a:ext cx="352440" cy="3348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0"/>
          <a:stretch/>
        </p:blipFill>
        <p:spPr>
          <a:xfrm>
            <a:off x="4976640" y="1793880"/>
            <a:ext cx="333720" cy="318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6956280" y="475920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257800" y="2057040"/>
            <a:ext cx="2247840" cy="2503800"/>
            <a:chOff x="5257800" y="2057040"/>
            <a:chExt cx="2247840" cy="2503800"/>
          </a:xfrm>
        </p:grpSpPr>
        <p:sp>
          <p:nvSpPr>
            <p:cNvPr id="326" name=""/>
            <p:cNvSpPr/>
            <p:nvPr/>
          </p:nvSpPr>
          <p:spPr>
            <a:xfrm flipH="1" flipV="1">
              <a:off x="5257800" y="205704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74000" y="336564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364080" y="368460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956280" y="368460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62680" y="3565440"/>
            <a:ext cx="2129760" cy="1035000"/>
            <a:chOff x="5062680" y="3565440"/>
            <a:chExt cx="2129760" cy="1035000"/>
          </a:xfrm>
        </p:grpSpPr>
        <p:sp>
          <p:nvSpPr>
            <p:cNvPr id="331" name=""/>
            <p:cNvSpPr/>
            <p:nvPr/>
          </p:nvSpPr>
          <p:spPr>
            <a:xfrm flipH="1">
              <a:off x="5062680" y="3565440"/>
              <a:ext cx="55224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891040" y="362556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46720" y="3684600"/>
              <a:ext cx="94572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F69E-C0DF-4E02-BB1F-C63EA4FBAF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Functionalities studied in CoMMA: Annotate, Pull and Push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766800" y="1295280"/>
            <a:ext cx="7772400" cy="4380120"/>
            <a:chOff x="766800" y="1295280"/>
            <a:chExt cx="7772400" cy="4380120"/>
          </a:xfrm>
        </p:grpSpPr>
        <p:sp>
          <p:nvSpPr>
            <p:cNvPr id="336" name=""/>
            <p:cNvSpPr/>
            <p:nvPr/>
          </p:nvSpPr>
          <p:spPr>
            <a:xfrm>
              <a:off x="76680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3882960" y="1374840"/>
              <a:ext cx="1657080" cy="4181400"/>
              <a:chOff x="3882960" y="1374840"/>
              <a:chExt cx="1657080" cy="4181400"/>
            </a:xfrm>
          </p:grpSpPr>
          <p:sp>
            <p:nvSpPr>
              <p:cNvPr id="338" name=""/>
              <p:cNvSpPr/>
              <p:nvPr/>
            </p:nvSpPr>
            <p:spPr>
              <a:xfrm>
                <a:off x="388296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04172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1573200" y="2728800"/>
              <a:ext cx="6532560" cy="995400"/>
              <a:chOff x="1573200" y="2728800"/>
              <a:chExt cx="6532560" cy="995400"/>
            </a:xfrm>
          </p:grpSpPr>
          <p:sp>
            <p:nvSpPr>
              <p:cNvPr id="341" name=""/>
              <p:cNvSpPr/>
              <p:nvPr/>
            </p:nvSpPr>
            <p:spPr>
              <a:xfrm>
                <a:off x="157320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8676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4356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9552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98936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46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220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347" name=""/>
              <p:cNvGrpSpPr/>
              <p:nvPr/>
            </p:nvGrpSpPr>
            <p:grpSpPr>
              <a:xfrm>
                <a:off x="5540400" y="3048120"/>
                <a:ext cx="908280" cy="636120"/>
                <a:chOff x="5540400" y="3048120"/>
                <a:chExt cx="908280" cy="6361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554040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49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652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350" name=""/>
              <p:cNvSpPr/>
              <p:nvPr/>
            </p:nvSpPr>
            <p:spPr>
              <a:xfrm>
                <a:off x="388332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1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96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352" name=""/>
              <p:cNvSpPr/>
              <p:nvPr/>
            </p:nvSpPr>
            <p:spPr>
              <a:xfrm>
                <a:off x="262116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44868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92172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5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9456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356" name=""/>
              <p:cNvGrpSpPr/>
              <p:nvPr/>
            </p:nvGrpSpPr>
            <p:grpSpPr>
              <a:xfrm>
                <a:off x="3410280" y="2860560"/>
                <a:ext cx="907920" cy="635040"/>
                <a:chOff x="3410280" y="2860560"/>
                <a:chExt cx="907920" cy="635040"/>
              </a:xfrm>
            </p:grpSpPr>
            <p:pic>
              <p:nvPicPr>
                <p:cNvPr id="357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640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358" name=""/>
                <p:cNvSpPr/>
                <p:nvPr/>
              </p:nvSpPr>
              <p:spPr>
                <a:xfrm>
                  <a:off x="341028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9" name=""/>
          <p:cNvGrpSpPr/>
          <p:nvPr/>
        </p:nvGrpSpPr>
        <p:grpSpPr>
          <a:xfrm>
            <a:off x="923760" y="3763800"/>
            <a:ext cx="1101240" cy="1552680"/>
            <a:chOff x="923760" y="3763800"/>
            <a:chExt cx="1101240" cy="1552680"/>
          </a:xfrm>
        </p:grpSpPr>
        <p:sp>
          <p:nvSpPr>
            <p:cNvPr id="360" name=""/>
            <p:cNvSpPr/>
            <p:nvPr/>
          </p:nvSpPr>
          <p:spPr>
            <a:xfrm>
              <a:off x="923760" y="471960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1595160" y="3763800"/>
              <a:ext cx="429840" cy="1181160"/>
              <a:chOff x="1595160" y="3763800"/>
              <a:chExt cx="429840" cy="1181160"/>
            </a:xfrm>
          </p:grpSpPr>
          <p:grpSp>
            <p:nvGrpSpPr>
              <p:cNvPr id="362" name=""/>
              <p:cNvGrpSpPr/>
              <p:nvPr/>
            </p:nvGrpSpPr>
            <p:grpSpPr>
              <a:xfrm>
                <a:off x="1595160" y="3763800"/>
                <a:ext cx="210960" cy="97920"/>
                <a:chOff x="1595160" y="3763800"/>
                <a:chExt cx="210960" cy="9792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595160" y="383760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647000" y="377424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719720" y="376380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760040" y="38012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1669680" y="3833640"/>
                <a:ext cx="355320" cy="1111320"/>
                <a:chOff x="1669680" y="3833640"/>
                <a:chExt cx="355320" cy="11113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1733760" y="401652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61560" y="383364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669680" y="423252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86320" y="422064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46720" y="448128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57240" y="448128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74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634400" y="382500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75" name=""/>
          <p:cNvGrpSpPr/>
          <p:nvPr/>
        </p:nvGrpSpPr>
        <p:grpSpPr>
          <a:xfrm>
            <a:off x="846000" y="1374840"/>
            <a:ext cx="1774800" cy="1433520"/>
            <a:chOff x="846000" y="1374840"/>
            <a:chExt cx="1774800" cy="1433520"/>
          </a:xfrm>
        </p:grpSpPr>
        <p:sp>
          <p:nvSpPr>
            <p:cNvPr id="376" name=""/>
            <p:cNvSpPr/>
            <p:nvPr/>
          </p:nvSpPr>
          <p:spPr>
            <a:xfrm>
              <a:off x="846000" y="244944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1398240" y="1374840"/>
              <a:ext cx="789120" cy="1231920"/>
              <a:chOff x="1398240" y="1374840"/>
              <a:chExt cx="789120" cy="123192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1673640" y="1822680"/>
                <a:ext cx="477360" cy="784080"/>
                <a:chOff x="1673640" y="1822680"/>
                <a:chExt cx="477360" cy="78408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882800" y="208332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26000" y="232992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758240" y="231624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673640" y="208404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993680" y="182268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838880" y="186624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1684440" y="1374840"/>
                <a:ext cx="236520" cy="239040"/>
                <a:chOff x="1684440" y="1374840"/>
                <a:chExt cx="236520" cy="23904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1684440" y="137484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87" name="doc_0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11440" y="139644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388" name=""/>
              <p:cNvGrpSpPr/>
              <p:nvPr/>
            </p:nvGrpSpPr>
            <p:grpSpPr>
              <a:xfrm>
                <a:off x="1398240" y="1498320"/>
                <a:ext cx="255240" cy="278640"/>
                <a:chOff x="1398240" y="1498320"/>
                <a:chExt cx="255240" cy="27864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1398240" y="149832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90" name="doc_0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06520" y="151704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91" name=""/>
              <p:cNvGrpSpPr/>
              <p:nvPr/>
            </p:nvGrpSpPr>
            <p:grpSpPr>
              <a:xfrm>
                <a:off x="1555920" y="1817280"/>
                <a:ext cx="204120" cy="245160"/>
                <a:chOff x="1555920" y="1817280"/>
                <a:chExt cx="204120" cy="24516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1555920" y="181728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93" name="doc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76440" y="183384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94" name=""/>
              <p:cNvGrpSpPr/>
              <p:nvPr/>
            </p:nvGrpSpPr>
            <p:grpSpPr>
              <a:xfrm>
                <a:off x="1950480" y="1538280"/>
                <a:ext cx="236880" cy="278640"/>
                <a:chOff x="1950480" y="1538280"/>
                <a:chExt cx="236880" cy="2786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1950480" y="153828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96" name="doc_05gif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955880" y="157176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397" name=""/>
          <p:cNvGrpSpPr/>
          <p:nvPr/>
        </p:nvGrpSpPr>
        <p:grpSpPr>
          <a:xfrm>
            <a:off x="7118280" y="4521240"/>
            <a:ext cx="1106280" cy="1193760"/>
            <a:chOff x="7118280" y="4521240"/>
            <a:chExt cx="1106280" cy="1193760"/>
          </a:xfrm>
        </p:grpSpPr>
        <p:sp>
          <p:nvSpPr>
            <p:cNvPr id="398" name=""/>
            <p:cNvSpPr/>
            <p:nvPr/>
          </p:nvSpPr>
          <p:spPr>
            <a:xfrm>
              <a:off x="7118280" y="546732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7276680" y="4600440"/>
              <a:ext cx="430200" cy="903600"/>
              <a:chOff x="7276680" y="4600440"/>
              <a:chExt cx="430200" cy="903600"/>
            </a:xfrm>
          </p:grpSpPr>
          <p:sp>
            <p:nvSpPr>
              <p:cNvPr id="400" name=""/>
              <p:cNvSpPr/>
              <p:nvPr/>
            </p:nvSpPr>
            <p:spPr>
              <a:xfrm flipH="1">
                <a:off x="7401240" y="465084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7512480" y="460044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7422840" y="486252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7321680" y="487080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7276320" y="512928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7456320" y="512856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7710120" y="4521240"/>
              <a:ext cx="473400" cy="396720"/>
              <a:chOff x="7710120" y="4521240"/>
              <a:chExt cx="473400" cy="396720"/>
            </a:xfrm>
          </p:grpSpPr>
          <p:sp>
            <p:nvSpPr>
              <p:cNvPr id="407" name=""/>
              <p:cNvSpPr/>
              <p:nvPr/>
            </p:nvSpPr>
            <p:spPr>
              <a:xfrm>
                <a:off x="7710120" y="452124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08" name="inter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26400" y="45914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09" name=""/>
          <p:cNvGrpSpPr/>
          <p:nvPr/>
        </p:nvGrpSpPr>
        <p:grpSpPr>
          <a:xfrm>
            <a:off x="2187720" y="1785960"/>
            <a:ext cx="1617120" cy="903240"/>
            <a:chOff x="2187720" y="1785960"/>
            <a:chExt cx="1617120" cy="903240"/>
          </a:xfrm>
        </p:grpSpPr>
        <p:pic>
          <p:nvPicPr>
            <p:cNvPr id="410" name="" descr=""/>
            <p:cNvPicPr/>
            <p:nvPr/>
          </p:nvPicPr>
          <p:blipFill>
            <a:blip r:embed="rId12"/>
            <a:stretch/>
          </p:blipFill>
          <p:spPr>
            <a:xfrm>
              <a:off x="2187720" y="2262240"/>
              <a:ext cx="23616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1" name=""/>
            <p:cNvGrpSpPr/>
            <p:nvPr/>
          </p:nvGrpSpPr>
          <p:grpSpPr>
            <a:xfrm>
              <a:off x="2463480" y="1785960"/>
              <a:ext cx="1025280" cy="903240"/>
              <a:chOff x="2463480" y="1785960"/>
              <a:chExt cx="1025280" cy="903240"/>
            </a:xfrm>
          </p:grpSpPr>
          <p:sp>
            <p:nvSpPr>
              <p:cNvPr id="412" name=""/>
              <p:cNvSpPr/>
              <p:nvPr/>
            </p:nvSpPr>
            <p:spPr>
              <a:xfrm>
                <a:off x="2463480" y="2052000"/>
                <a:ext cx="102528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63480" y="1785960"/>
                <a:ext cx="102528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481120" y="2054880"/>
                <a:ext cx="10072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1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857680" y="228744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40160" y="181656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7" name="" descr=""/>
            <p:cNvPicPr/>
            <p:nvPr/>
          </p:nvPicPr>
          <p:blipFill>
            <a:blip r:embed="rId15"/>
            <a:stretch/>
          </p:blipFill>
          <p:spPr>
            <a:xfrm>
              <a:off x="3568320" y="2251080"/>
              <a:ext cx="23652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8" name=""/>
          <p:cNvGrpSpPr/>
          <p:nvPr/>
        </p:nvGrpSpPr>
        <p:grpSpPr>
          <a:xfrm>
            <a:off x="5460840" y="4560840"/>
            <a:ext cx="1697040" cy="995400"/>
            <a:chOff x="5460840" y="4560840"/>
            <a:chExt cx="1697040" cy="995400"/>
          </a:xfrm>
        </p:grpSpPr>
        <p:pic>
          <p:nvPicPr>
            <p:cNvPr id="419" name="" descr=""/>
            <p:cNvPicPr/>
            <p:nvPr/>
          </p:nvPicPr>
          <p:blipFill>
            <a:blip r:embed="rId16"/>
            <a:stretch/>
          </p:blipFill>
          <p:spPr>
            <a:xfrm>
              <a:off x="5460840" y="50385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17"/>
            <a:stretch/>
          </p:blipFill>
          <p:spPr>
            <a:xfrm>
              <a:off x="6921360" y="503856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1" name=""/>
            <p:cNvGrpSpPr/>
            <p:nvPr/>
          </p:nvGrpSpPr>
          <p:grpSpPr>
            <a:xfrm>
              <a:off x="5736960" y="4560840"/>
              <a:ext cx="1104840" cy="995400"/>
              <a:chOff x="5736960" y="4560840"/>
              <a:chExt cx="1104840" cy="995400"/>
            </a:xfrm>
          </p:grpSpPr>
          <p:grpSp>
            <p:nvGrpSpPr>
              <p:cNvPr id="422" name=""/>
              <p:cNvGrpSpPr/>
              <p:nvPr/>
            </p:nvGrpSpPr>
            <p:grpSpPr>
              <a:xfrm>
                <a:off x="5736960" y="4560840"/>
                <a:ext cx="1026000" cy="902880"/>
                <a:chOff x="5736960" y="4560840"/>
                <a:chExt cx="1026000" cy="9028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5736960" y="482688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736960" y="45608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5754600" y="48294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2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131520" y="50623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5813640" y="4591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28" name=""/>
              <p:cNvGrpSpPr/>
              <p:nvPr/>
            </p:nvGrpSpPr>
            <p:grpSpPr>
              <a:xfrm>
                <a:off x="5776200" y="4600440"/>
                <a:ext cx="1026000" cy="903240"/>
                <a:chOff x="5776200" y="4600440"/>
                <a:chExt cx="1026000" cy="9032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5776200" y="486648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776200" y="46004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793840" y="486936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3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170760" y="51019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5852880" y="4631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34" name=""/>
              <p:cNvGrpSpPr/>
              <p:nvPr/>
            </p:nvGrpSpPr>
            <p:grpSpPr>
              <a:xfrm>
                <a:off x="5815800" y="4653000"/>
                <a:ext cx="1026000" cy="903240"/>
                <a:chOff x="5815800" y="4653000"/>
                <a:chExt cx="1026000" cy="90324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815800" y="491904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815800" y="465300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833440" y="49219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3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210360" y="515448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892480" y="46836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440" name=""/>
          <p:cNvGrpSpPr/>
          <p:nvPr/>
        </p:nvGrpSpPr>
        <p:grpSpPr>
          <a:xfrm>
            <a:off x="2227320" y="3882960"/>
            <a:ext cx="2168640" cy="677520"/>
            <a:chOff x="2227320" y="3882960"/>
            <a:chExt cx="2168640" cy="677520"/>
          </a:xfrm>
        </p:grpSpPr>
        <p:pic>
          <p:nvPicPr>
            <p:cNvPr id="441" name="" descr=""/>
            <p:cNvPicPr/>
            <p:nvPr/>
          </p:nvPicPr>
          <p:blipFill>
            <a:blip r:embed="rId24"/>
            <a:stretch/>
          </p:blipFill>
          <p:spPr>
            <a:xfrm>
              <a:off x="222732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25"/>
            <a:stretch/>
          </p:blipFill>
          <p:spPr>
            <a:xfrm>
              <a:off x="352908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3" name=""/>
            <p:cNvGrpSpPr/>
            <p:nvPr/>
          </p:nvGrpSpPr>
          <p:grpSpPr>
            <a:xfrm>
              <a:off x="2424240" y="3882960"/>
              <a:ext cx="1008000" cy="677520"/>
              <a:chOff x="2424240" y="3882960"/>
              <a:chExt cx="1008000" cy="677520"/>
            </a:xfrm>
          </p:grpSpPr>
          <p:sp>
            <p:nvSpPr>
              <p:cNvPr id="444" name=""/>
              <p:cNvSpPr/>
              <p:nvPr/>
            </p:nvSpPr>
            <p:spPr>
              <a:xfrm>
                <a:off x="2581920" y="392256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45" name="onto_01" descr=""/>
              <p:cNvPicPr/>
              <p:nvPr/>
            </p:nvPicPr>
            <p:blipFill>
              <a:blip r:embed="rId26"/>
              <a:stretch/>
            </p:blipFill>
            <p:spPr>
              <a:xfrm>
                <a:off x="2739960" y="415620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>
                <a:off x="2424240" y="3882960"/>
                <a:ext cx="100800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47" name="onto_01" descr=""/>
            <p:cNvPicPr/>
            <p:nvPr/>
          </p:nvPicPr>
          <p:blipFill>
            <a:blip r:embed="rId27"/>
            <a:stretch/>
          </p:blipFill>
          <p:spPr>
            <a:xfrm>
              <a:off x="4081680" y="4122720"/>
              <a:ext cx="31428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8" name=""/>
          <p:cNvGrpSpPr/>
          <p:nvPr/>
        </p:nvGrpSpPr>
        <p:grpSpPr>
          <a:xfrm>
            <a:off x="2014560" y="4633920"/>
            <a:ext cx="1631880" cy="882360"/>
            <a:chOff x="2014560" y="4633920"/>
            <a:chExt cx="1631880" cy="882360"/>
          </a:xfrm>
        </p:grpSpPr>
        <p:grpSp>
          <p:nvGrpSpPr>
            <p:cNvPr id="449" name=""/>
            <p:cNvGrpSpPr/>
            <p:nvPr/>
          </p:nvGrpSpPr>
          <p:grpSpPr>
            <a:xfrm>
              <a:off x="2014560" y="4917960"/>
              <a:ext cx="1631880" cy="598320"/>
              <a:chOff x="2014560" y="4917960"/>
              <a:chExt cx="1631880" cy="598320"/>
            </a:xfrm>
          </p:grpSpPr>
          <p:sp>
            <p:nvSpPr>
              <p:cNvPr id="450" name=""/>
              <p:cNvSpPr/>
              <p:nvPr/>
            </p:nvSpPr>
            <p:spPr>
              <a:xfrm>
                <a:off x="2093400" y="495756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51" name="onto_02" descr=""/>
              <p:cNvPicPr/>
              <p:nvPr/>
            </p:nvPicPr>
            <p:blipFill>
              <a:blip r:embed="rId28"/>
              <a:stretch/>
            </p:blipFill>
            <p:spPr>
              <a:xfrm>
                <a:off x="2132640" y="516168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>
                <a:off x="2014560" y="491796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316240" y="511740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54" name="" descr=""/>
            <p:cNvPicPr/>
            <p:nvPr/>
          </p:nvPicPr>
          <p:blipFill>
            <a:blip r:embed="rId29"/>
            <a:stretch/>
          </p:blipFill>
          <p:spPr>
            <a:xfrm>
              <a:off x="2817720" y="463392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5" name=""/>
          <p:cNvGrpSpPr/>
          <p:nvPr/>
        </p:nvGrpSpPr>
        <p:grpSpPr>
          <a:xfrm>
            <a:off x="3529080" y="4998960"/>
            <a:ext cx="1065240" cy="357120"/>
            <a:chOff x="3529080" y="4998960"/>
            <a:chExt cx="1065240" cy="357120"/>
          </a:xfrm>
        </p:grpSpPr>
        <p:pic>
          <p:nvPicPr>
            <p:cNvPr id="456" name="" descr=""/>
            <p:cNvPicPr/>
            <p:nvPr/>
          </p:nvPicPr>
          <p:blipFill>
            <a:blip r:embed="rId30"/>
            <a:stretch/>
          </p:blipFill>
          <p:spPr>
            <a:xfrm>
              <a:off x="3529080" y="50785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onto_02" descr=""/>
            <p:cNvPicPr/>
            <p:nvPr/>
          </p:nvPicPr>
          <p:blipFill>
            <a:blip r:embed="rId31"/>
            <a:stretch/>
          </p:blipFill>
          <p:spPr>
            <a:xfrm>
              <a:off x="4238640" y="499896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8" name=""/>
          <p:cNvGrpSpPr/>
          <p:nvPr/>
        </p:nvGrpSpPr>
        <p:grpSpPr>
          <a:xfrm>
            <a:off x="7197840" y="3787920"/>
            <a:ext cx="631800" cy="772920"/>
            <a:chOff x="7197840" y="3787920"/>
            <a:chExt cx="631800" cy="772920"/>
          </a:xfrm>
        </p:grpSpPr>
        <p:pic>
          <p:nvPicPr>
            <p:cNvPr id="459" name="" descr=""/>
            <p:cNvPicPr/>
            <p:nvPr/>
          </p:nvPicPr>
          <p:blipFill>
            <a:blip r:embed="rId32"/>
            <a:stretch/>
          </p:blipFill>
          <p:spPr>
            <a:xfrm>
              <a:off x="7394760" y="432108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0" name=""/>
            <p:cNvGrpSpPr/>
            <p:nvPr/>
          </p:nvGrpSpPr>
          <p:grpSpPr>
            <a:xfrm>
              <a:off x="7197840" y="3787920"/>
              <a:ext cx="631800" cy="490320"/>
              <a:chOff x="7197840" y="3787920"/>
              <a:chExt cx="631800" cy="490320"/>
            </a:xfrm>
          </p:grpSpPr>
          <p:sp>
            <p:nvSpPr>
              <p:cNvPr id="461" name=""/>
              <p:cNvSpPr/>
              <p:nvPr/>
            </p:nvSpPr>
            <p:spPr>
              <a:xfrm>
                <a:off x="7237080" y="384012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197840" y="378792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63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434720" y="402120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64" name=""/>
          <p:cNvGrpSpPr/>
          <p:nvPr/>
        </p:nvGrpSpPr>
        <p:grpSpPr>
          <a:xfrm>
            <a:off x="3938760" y="1697040"/>
            <a:ext cx="1375920" cy="3565440"/>
            <a:chOff x="3938760" y="1697040"/>
            <a:chExt cx="1375920" cy="3565440"/>
          </a:xfrm>
        </p:grpSpPr>
        <p:pic>
          <p:nvPicPr>
            <p:cNvPr id="465" name="doc_01" descr=""/>
            <p:cNvPicPr/>
            <p:nvPr/>
          </p:nvPicPr>
          <p:blipFill>
            <a:blip r:embed="rId34"/>
            <a:stretch/>
          </p:blipFill>
          <p:spPr>
            <a:xfrm>
              <a:off x="4898880" y="231120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doc_01" descr=""/>
            <p:cNvPicPr/>
            <p:nvPr/>
          </p:nvPicPr>
          <p:blipFill>
            <a:blip r:embed="rId35"/>
            <a:stretch/>
          </p:blipFill>
          <p:spPr>
            <a:xfrm>
              <a:off x="4857120" y="223200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memory_01" descr=""/>
            <p:cNvPicPr/>
            <p:nvPr/>
          </p:nvPicPr>
          <p:blipFill>
            <a:blip r:embed="rId36"/>
            <a:stretch/>
          </p:blipFill>
          <p:spPr>
            <a:xfrm>
              <a:off x="3938760" y="1697040"/>
              <a:ext cx="35064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doc_03" descr=""/>
            <p:cNvPicPr/>
            <p:nvPr/>
          </p:nvPicPr>
          <p:blipFill>
            <a:blip r:embed="rId37"/>
            <a:stretch/>
          </p:blipFill>
          <p:spPr>
            <a:xfrm>
              <a:off x="4105080" y="4467240"/>
              <a:ext cx="41760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469" name="doc_04" descr=""/>
            <p:cNvPicPr/>
            <p:nvPr/>
          </p:nvPicPr>
          <p:blipFill>
            <a:blip r:embed="rId38"/>
            <a:stretch/>
          </p:blipFill>
          <p:spPr>
            <a:xfrm>
              <a:off x="4022640" y="2192400"/>
              <a:ext cx="2916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doc_05gif" descr=""/>
            <p:cNvPicPr/>
            <p:nvPr/>
          </p:nvPicPr>
          <p:blipFill>
            <a:blip r:embed="rId39"/>
            <a:stretch/>
          </p:blipFill>
          <p:spPr>
            <a:xfrm>
              <a:off x="4731120" y="438624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40"/>
            <a:stretch/>
          </p:blipFill>
          <p:spPr>
            <a:xfrm>
              <a:off x="4648680" y="382428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41"/>
            <a:stretch/>
          </p:blipFill>
          <p:spPr>
            <a:xfrm>
              <a:off x="4464360" y="173664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doc_01" descr=""/>
            <p:cNvPicPr/>
            <p:nvPr/>
          </p:nvPicPr>
          <p:blipFill>
            <a:blip r:embed="rId42"/>
            <a:stretch/>
          </p:blipFill>
          <p:spPr>
            <a:xfrm>
              <a:off x="4940640" y="235116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43"/>
            <a:stretch/>
          </p:blipFill>
          <p:spPr>
            <a:xfrm>
              <a:off x="4980960" y="494496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44"/>
            <a:stretch/>
          </p:blipFill>
          <p:spPr>
            <a:xfrm>
              <a:off x="4439160" y="2351160"/>
              <a:ext cx="35208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45"/>
            <a:stretch/>
          </p:blipFill>
          <p:spPr>
            <a:xfrm>
              <a:off x="4980960" y="179388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"/>
          <p:cNvSpPr txBox="1"/>
          <p:nvPr/>
        </p:nvSpPr>
        <p:spPr>
          <a:xfrm>
            <a:off x="2108160" y="464040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2778120" y="1494000"/>
            <a:ext cx="2379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961320" y="475920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147760" y="3605040"/>
            <a:ext cx="1971720" cy="1273320"/>
            <a:chOff x="2147760" y="3605040"/>
            <a:chExt cx="1971720" cy="1273320"/>
          </a:xfrm>
        </p:grpSpPr>
        <p:sp>
          <p:nvSpPr>
            <p:cNvPr id="481" name=""/>
            <p:cNvSpPr/>
            <p:nvPr/>
          </p:nvSpPr>
          <p:spPr>
            <a:xfrm>
              <a:off x="3449520" y="360504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2147760" y="360504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92200" y="368460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1712880" y="2610000"/>
            <a:ext cx="947160" cy="396720"/>
            <a:chOff x="1712880" y="2610000"/>
            <a:chExt cx="947160" cy="396720"/>
          </a:xfrm>
        </p:grpSpPr>
        <p:sp>
          <p:nvSpPr>
            <p:cNvPr id="485" name=""/>
            <p:cNvSpPr/>
            <p:nvPr/>
          </p:nvSpPr>
          <p:spPr>
            <a:xfrm>
              <a:off x="1712880" y="271476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2028240" y="261000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5262480" y="2057040"/>
            <a:ext cx="2247840" cy="2503800"/>
            <a:chOff x="5262480" y="2057040"/>
            <a:chExt cx="2247840" cy="2503800"/>
          </a:xfrm>
        </p:grpSpPr>
        <p:sp>
          <p:nvSpPr>
            <p:cNvPr id="488" name=""/>
            <p:cNvSpPr/>
            <p:nvPr/>
          </p:nvSpPr>
          <p:spPr>
            <a:xfrm flipH="1" flipV="1">
              <a:off x="5262480" y="205704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78680" y="336564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6368760" y="368460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960960" y="368460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067000" y="3565440"/>
            <a:ext cx="2130840" cy="1035000"/>
            <a:chOff x="5067000" y="3565440"/>
            <a:chExt cx="2130840" cy="1035000"/>
          </a:xfrm>
        </p:grpSpPr>
        <p:sp>
          <p:nvSpPr>
            <p:cNvPr id="493" name=""/>
            <p:cNvSpPr/>
            <p:nvPr/>
          </p:nvSpPr>
          <p:spPr>
            <a:xfrm flipH="1">
              <a:off x="5067000" y="3565440"/>
              <a:ext cx="55260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5896080" y="362556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51760" y="3684600"/>
              <a:ext cx="94608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711360" y="1295280"/>
            <a:ext cx="8001000" cy="4496040"/>
            <a:chOff x="711360" y="1295280"/>
            <a:chExt cx="8001000" cy="4496040"/>
          </a:xfrm>
        </p:grpSpPr>
        <p:sp>
          <p:nvSpPr>
            <p:cNvPr id="497" name=""/>
            <p:cNvSpPr/>
            <p:nvPr/>
          </p:nvSpPr>
          <p:spPr>
            <a:xfrm>
              <a:off x="711360" y="2819520"/>
              <a:ext cx="3174840" cy="2971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86400" y="1295280"/>
              <a:ext cx="3225960" cy="243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09880" y="1295280"/>
              <a:ext cx="1676520" cy="441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2120" y="1295280"/>
              <a:ext cx="3047760" cy="152424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486400" y="3733920"/>
              <a:ext cx="3048120" cy="198108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6D37-5A46-4168-A416-158554C9BA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Overall Sche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766800" y="1295280"/>
            <a:ext cx="7772400" cy="4380120"/>
            <a:chOff x="766800" y="1295280"/>
            <a:chExt cx="7772400" cy="4380120"/>
          </a:xfrm>
        </p:grpSpPr>
        <p:sp>
          <p:nvSpPr>
            <p:cNvPr id="504" name=""/>
            <p:cNvSpPr/>
            <p:nvPr/>
          </p:nvSpPr>
          <p:spPr>
            <a:xfrm>
              <a:off x="76680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3882960" y="1374840"/>
              <a:ext cx="1657080" cy="4181400"/>
              <a:chOff x="3882960" y="1374840"/>
              <a:chExt cx="1657080" cy="4181400"/>
            </a:xfrm>
          </p:grpSpPr>
          <p:sp>
            <p:nvSpPr>
              <p:cNvPr id="506" name=""/>
              <p:cNvSpPr/>
              <p:nvPr/>
            </p:nvSpPr>
            <p:spPr>
              <a:xfrm>
                <a:off x="388296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04172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1573200" y="2728800"/>
              <a:ext cx="6532560" cy="995400"/>
              <a:chOff x="1573200" y="2728800"/>
              <a:chExt cx="6532560" cy="995400"/>
            </a:xfrm>
          </p:grpSpPr>
          <p:sp>
            <p:nvSpPr>
              <p:cNvPr id="509" name=""/>
              <p:cNvSpPr/>
              <p:nvPr/>
            </p:nvSpPr>
            <p:spPr>
              <a:xfrm>
                <a:off x="157320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38676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4356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59552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98936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4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220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515" name=""/>
              <p:cNvGrpSpPr/>
              <p:nvPr/>
            </p:nvGrpSpPr>
            <p:grpSpPr>
              <a:xfrm>
                <a:off x="5540400" y="3048120"/>
                <a:ext cx="908280" cy="636120"/>
                <a:chOff x="5540400" y="3048120"/>
                <a:chExt cx="908280" cy="6361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554040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17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652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518" name=""/>
              <p:cNvSpPr/>
              <p:nvPr/>
            </p:nvSpPr>
            <p:spPr>
              <a:xfrm>
                <a:off x="388332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9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96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520" name=""/>
              <p:cNvSpPr/>
              <p:nvPr/>
            </p:nvSpPr>
            <p:spPr>
              <a:xfrm>
                <a:off x="262116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4868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92172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3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9456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524" name=""/>
              <p:cNvGrpSpPr/>
              <p:nvPr/>
            </p:nvGrpSpPr>
            <p:grpSpPr>
              <a:xfrm>
                <a:off x="3410280" y="2860560"/>
                <a:ext cx="907920" cy="635040"/>
                <a:chOff x="3410280" y="2860560"/>
                <a:chExt cx="907920" cy="635040"/>
              </a:xfrm>
            </p:grpSpPr>
            <p:pic>
              <p:nvPicPr>
                <p:cNvPr id="525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640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526" name=""/>
                <p:cNvSpPr/>
                <p:nvPr/>
              </p:nvSpPr>
              <p:spPr>
                <a:xfrm>
                  <a:off x="341028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27" name=""/>
          <p:cNvGrpSpPr/>
          <p:nvPr/>
        </p:nvGrpSpPr>
        <p:grpSpPr>
          <a:xfrm>
            <a:off x="923760" y="3763800"/>
            <a:ext cx="1101240" cy="1552680"/>
            <a:chOff x="923760" y="3763800"/>
            <a:chExt cx="1101240" cy="1552680"/>
          </a:xfrm>
        </p:grpSpPr>
        <p:sp>
          <p:nvSpPr>
            <p:cNvPr id="528" name=""/>
            <p:cNvSpPr/>
            <p:nvPr/>
          </p:nvSpPr>
          <p:spPr>
            <a:xfrm>
              <a:off x="923760" y="471960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1595160" y="3763800"/>
              <a:ext cx="429840" cy="1181160"/>
              <a:chOff x="1595160" y="3763800"/>
              <a:chExt cx="429840" cy="118116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1595160" y="3763800"/>
                <a:ext cx="210960" cy="97920"/>
                <a:chOff x="1595160" y="3763800"/>
                <a:chExt cx="210960" cy="979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1595160" y="383760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647000" y="377424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1719720" y="376380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760040" y="38012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1669680" y="3833640"/>
                <a:ext cx="355320" cy="1111320"/>
                <a:chOff x="1669680" y="3833640"/>
                <a:chExt cx="355320" cy="111132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733760" y="401652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861560" y="383364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1669680" y="423252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1786320" y="422064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1746720" y="448128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857240" y="448128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42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634400" y="382500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43" name=""/>
          <p:cNvGrpSpPr/>
          <p:nvPr/>
        </p:nvGrpSpPr>
        <p:grpSpPr>
          <a:xfrm>
            <a:off x="846000" y="1374840"/>
            <a:ext cx="1774800" cy="1433520"/>
            <a:chOff x="846000" y="1374840"/>
            <a:chExt cx="1774800" cy="1433520"/>
          </a:xfrm>
        </p:grpSpPr>
        <p:sp>
          <p:nvSpPr>
            <p:cNvPr id="544" name=""/>
            <p:cNvSpPr/>
            <p:nvPr/>
          </p:nvSpPr>
          <p:spPr>
            <a:xfrm>
              <a:off x="846000" y="244944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1398240" y="1374840"/>
              <a:ext cx="789120" cy="1231920"/>
              <a:chOff x="1398240" y="1374840"/>
              <a:chExt cx="789120" cy="123192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1673640" y="1822680"/>
                <a:ext cx="477360" cy="784080"/>
                <a:chOff x="1673640" y="1822680"/>
                <a:chExt cx="477360" cy="78408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882800" y="208332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926000" y="232992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758240" y="231624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673640" y="208404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993680" y="182268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838880" y="186624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1684440" y="1374840"/>
                <a:ext cx="236520" cy="239040"/>
                <a:chOff x="1684440" y="1374840"/>
                <a:chExt cx="236520" cy="2390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1684440" y="137484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55" name="doc_0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11440" y="139644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556" name=""/>
              <p:cNvGrpSpPr/>
              <p:nvPr/>
            </p:nvGrpSpPr>
            <p:grpSpPr>
              <a:xfrm>
                <a:off x="1398240" y="1498320"/>
                <a:ext cx="255240" cy="278640"/>
                <a:chOff x="1398240" y="1498320"/>
                <a:chExt cx="255240" cy="27864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1398240" y="149832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58" name="doc_0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06520" y="151704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59" name=""/>
              <p:cNvGrpSpPr/>
              <p:nvPr/>
            </p:nvGrpSpPr>
            <p:grpSpPr>
              <a:xfrm>
                <a:off x="1555920" y="1817280"/>
                <a:ext cx="204120" cy="245160"/>
                <a:chOff x="1555920" y="1817280"/>
                <a:chExt cx="204120" cy="24516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1555920" y="181728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61" name="doc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76440" y="183384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62" name=""/>
              <p:cNvGrpSpPr/>
              <p:nvPr/>
            </p:nvGrpSpPr>
            <p:grpSpPr>
              <a:xfrm>
                <a:off x="1950480" y="1538280"/>
                <a:ext cx="236880" cy="278640"/>
                <a:chOff x="1950480" y="1538280"/>
                <a:chExt cx="236880" cy="2786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1950480" y="153828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64" name="doc_05gif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955880" y="157176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565" name=""/>
          <p:cNvGrpSpPr/>
          <p:nvPr/>
        </p:nvGrpSpPr>
        <p:grpSpPr>
          <a:xfrm>
            <a:off x="7118280" y="4521240"/>
            <a:ext cx="1106280" cy="1193760"/>
            <a:chOff x="7118280" y="4521240"/>
            <a:chExt cx="1106280" cy="1193760"/>
          </a:xfrm>
        </p:grpSpPr>
        <p:sp>
          <p:nvSpPr>
            <p:cNvPr id="566" name=""/>
            <p:cNvSpPr/>
            <p:nvPr/>
          </p:nvSpPr>
          <p:spPr>
            <a:xfrm>
              <a:off x="7118280" y="546732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7276680" y="4600440"/>
              <a:ext cx="430200" cy="903600"/>
              <a:chOff x="7276680" y="4600440"/>
              <a:chExt cx="430200" cy="903600"/>
            </a:xfrm>
          </p:grpSpPr>
          <p:sp>
            <p:nvSpPr>
              <p:cNvPr id="568" name=""/>
              <p:cNvSpPr/>
              <p:nvPr/>
            </p:nvSpPr>
            <p:spPr>
              <a:xfrm flipH="1">
                <a:off x="7401240" y="465084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7512480" y="460044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7422840" y="486252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7321680" y="487080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7276320" y="512928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7456320" y="512856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710120" y="4521240"/>
              <a:ext cx="473400" cy="396720"/>
              <a:chOff x="7710120" y="4521240"/>
              <a:chExt cx="473400" cy="396720"/>
            </a:xfrm>
          </p:grpSpPr>
          <p:sp>
            <p:nvSpPr>
              <p:cNvPr id="575" name=""/>
              <p:cNvSpPr/>
              <p:nvPr/>
            </p:nvSpPr>
            <p:spPr>
              <a:xfrm>
                <a:off x="7710120" y="452124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76" name="inter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26400" y="45914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77" name=""/>
          <p:cNvGrpSpPr/>
          <p:nvPr/>
        </p:nvGrpSpPr>
        <p:grpSpPr>
          <a:xfrm>
            <a:off x="2187720" y="1785960"/>
            <a:ext cx="1617120" cy="903240"/>
            <a:chOff x="2187720" y="1785960"/>
            <a:chExt cx="1617120" cy="903240"/>
          </a:xfrm>
        </p:grpSpPr>
        <p:pic>
          <p:nvPicPr>
            <p:cNvPr id="578" name="" descr=""/>
            <p:cNvPicPr/>
            <p:nvPr/>
          </p:nvPicPr>
          <p:blipFill>
            <a:blip r:embed="rId12"/>
            <a:stretch/>
          </p:blipFill>
          <p:spPr>
            <a:xfrm>
              <a:off x="2187720" y="2262240"/>
              <a:ext cx="23616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9" name=""/>
            <p:cNvGrpSpPr/>
            <p:nvPr/>
          </p:nvGrpSpPr>
          <p:grpSpPr>
            <a:xfrm>
              <a:off x="2463480" y="1785960"/>
              <a:ext cx="1025280" cy="903240"/>
              <a:chOff x="2463480" y="1785960"/>
              <a:chExt cx="1025280" cy="903240"/>
            </a:xfrm>
          </p:grpSpPr>
          <p:sp>
            <p:nvSpPr>
              <p:cNvPr id="580" name=""/>
              <p:cNvSpPr/>
              <p:nvPr/>
            </p:nvSpPr>
            <p:spPr>
              <a:xfrm>
                <a:off x="2463480" y="2052000"/>
                <a:ext cx="102528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463480" y="1785960"/>
                <a:ext cx="102528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81120" y="2054880"/>
                <a:ext cx="10072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8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857680" y="228744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40160" y="181656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85" name="" descr=""/>
            <p:cNvPicPr/>
            <p:nvPr/>
          </p:nvPicPr>
          <p:blipFill>
            <a:blip r:embed="rId15"/>
            <a:stretch/>
          </p:blipFill>
          <p:spPr>
            <a:xfrm>
              <a:off x="3568320" y="2251080"/>
              <a:ext cx="23652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6" name=""/>
          <p:cNvGrpSpPr/>
          <p:nvPr/>
        </p:nvGrpSpPr>
        <p:grpSpPr>
          <a:xfrm>
            <a:off x="5460840" y="4560840"/>
            <a:ext cx="1697040" cy="995400"/>
            <a:chOff x="5460840" y="4560840"/>
            <a:chExt cx="1697040" cy="995400"/>
          </a:xfrm>
        </p:grpSpPr>
        <p:pic>
          <p:nvPicPr>
            <p:cNvPr id="587" name="" descr=""/>
            <p:cNvPicPr/>
            <p:nvPr/>
          </p:nvPicPr>
          <p:blipFill>
            <a:blip r:embed="rId16"/>
            <a:stretch/>
          </p:blipFill>
          <p:spPr>
            <a:xfrm>
              <a:off x="5460840" y="50385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17"/>
            <a:stretch/>
          </p:blipFill>
          <p:spPr>
            <a:xfrm>
              <a:off x="6921360" y="503856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9" name=""/>
            <p:cNvGrpSpPr/>
            <p:nvPr/>
          </p:nvGrpSpPr>
          <p:grpSpPr>
            <a:xfrm>
              <a:off x="5736960" y="4560840"/>
              <a:ext cx="1104840" cy="995400"/>
              <a:chOff x="5736960" y="4560840"/>
              <a:chExt cx="1104840" cy="99540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5736960" y="4560840"/>
                <a:ext cx="1026000" cy="902880"/>
                <a:chOff x="5736960" y="4560840"/>
                <a:chExt cx="1026000" cy="90288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736960" y="482688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736960" y="45608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754600" y="48294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9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131520" y="50623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5813640" y="4591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6" name=""/>
              <p:cNvGrpSpPr/>
              <p:nvPr/>
            </p:nvGrpSpPr>
            <p:grpSpPr>
              <a:xfrm>
                <a:off x="5776200" y="4600440"/>
                <a:ext cx="1026000" cy="903240"/>
                <a:chOff x="5776200" y="4600440"/>
                <a:chExt cx="1026000" cy="90324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5776200" y="486648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776200" y="46004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793840" y="486936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0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170760" y="51019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5852880" y="4631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02" name=""/>
              <p:cNvGrpSpPr/>
              <p:nvPr/>
            </p:nvGrpSpPr>
            <p:grpSpPr>
              <a:xfrm>
                <a:off x="5815800" y="4653000"/>
                <a:ext cx="1026000" cy="903240"/>
                <a:chOff x="5815800" y="4653000"/>
                <a:chExt cx="1026000" cy="90324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5815800" y="491904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815800" y="465300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833440" y="49219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0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210360" y="515448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892480" y="46836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608" name=""/>
          <p:cNvGrpSpPr/>
          <p:nvPr/>
        </p:nvGrpSpPr>
        <p:grpSpPr>
          <a:xfrm>
            <a:off x="2227320" y="3882960"/>
            <a:ext cx="2168640" cy="677520"/>
            <a:chOff x="2227320" y="3882960"/>
            <a:chExt cx="2168640" cy="677520"/>
          </a:xfrm>
        </p:grpSpPr>
        <p:pic>
          <p:nvPicPr>
            <p:cNvPr id="609" name="" descr=""/>
            <p:cNvPicPr/>
            <p:nvPr/>
          </p:nvPicPr>
          <p:blipFill>
            <a:blip r:embed="rId24"/>
            <a:stretch/>
          </p:blipFill>
          <p:spPr>
            <a:xfrm>
              <a:off x="222732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" descr=""/>
            <p:cNvPicPr/>
            <p:nvPr/>
          </p:nvPicPr>
          <p:blipFill>
            <a:blip r:embed="rId25"/>
            <a:stretch/>
          </p:blipFill>
          <p:spPr>
            <a:xfrm>
              <a:off x="352908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1" name=""/>
            <p:cNvGrpSpPr/>
            <p:nvPr/>
          </p:nvGrpSpPr>
          <p:grpSpPr>
            <a:xfrm>
              <a:off x="2424240" y="3882960"/>
              <a:ext cx="1008000" cy="677520"/>
              <a:chOff x="2424240" y="3882960"/>
              <a:chExt cx="1008000" cy="677520"/>
            </a:xfrm>
          </p:grpSpPr>
          <p:sp>
            <p:nvSpPr>
              <p:cNvPr id="612" name=""/>
              <p:cNvSpPr/>
              <p:nvPr/>
            </p:nvSpPr>
            <p:spPr>
              <a:xfrm>
                <a:off x="2581920" y="392256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13" name="onto_01" descr=""/>
              <p:cNvPicPr/>
              <p:nvPr/>
            </p:nvPicPr>
            <p:blipFill>
              <a:blip r:embed="rId26"/>
              <a:stretch/>
            </p:blipFill>
            <p:spPr>
              <a:xfrm>
                <a:off x="2739960" y="415620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"/>
              <p:cNvSpPr/>
              <p:nvPr/>
            </p:nvSpPr>
            <p:spPr>
              <a:xfrm>
                <a:off x="2424240" y="3882960"/>
                <a:ext cx="100800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15" name="onto_01" descr=""/>
            <p:cNvPicPr/>
            <p:nvPr/>
          </p:nvPicPr>
          <p:blipFill>
            <a:blip r:embed="rId27"/>
            <a:stretch/>
          </p:blipFill>
          <p:spPr>
            <a:xfrm>
              <a:off x="4081680" y="4122720"/>
              <a:ext cx="31428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6" name=""/>
          <p:cNvGrpSpPr/>
          <p:nvPr/>
        </p:nvGrpSpPr>
        <p:grpSpPr>
          <a:xfrm>
            <a:off x="2014560" y="4633920"/>
            <a:ext cx="1631880" cy="882360"/>
            <a:chOff x="2014560" y="4633920"/>
            <a:chExt cx="1631880" cy="882360"/>
          </a:xfrm>
        </p:grpSpPr>
        <p:grpSp>
          <p:nvGrpSpPr>
            <p:cNvPr id="617" name=""/>
            <p:cNvGrpSpPr/>
            <p:nvPr/>
          </p:nvGrpSpPr>
          <p:grpSpPr>
            <a:xfrm>
              <a:off x="2014560" y="4917960"/>
              <a:ext cx="1631880" cy="598320"/>
              <a:chOff x="2014560" y="4917960"/>
              <a:chExt cx="1631880" cy="598320"/>
            </a:xfrm>
          </p:grpSpPr>
          <p:sp>
            <p:nvSpPr>
              <p:cNvPr id="618" name=""/>
              <p:cNvSpPr/>
              <p:nvPr/>
            </p:nvSpPr>
            <p:spPr>
              <a:xfrm>
                <a:off x="2093400" y="495756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19" name="onto_02" descr=""/>
              <p:cNvPicPr/>
              <p:nvPr/>
            </p:nvPicPr>
            <p:blipFill>
              <a:blip r:embed="rId28"/>
              <a:stretch/>
            </p:blipFill>
            <p:spPr>
              <a:xfrm>
                <a:off x="2132640" y="516168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0" name=""/>
              <p:cNvSpPr/>
              <p:nvPr/>
            </p:nvSpPr>
            <p:spPr>
              <a:xfrm>
                <a:off x="2014560" y="491796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316240" y="511740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22" name="" descr=""/>
            <p:cNvPicPr/>
            <p:nvPr/>
          </p:nvPicPr>
          <p:blipFill>
            <a:blip r:embed="rId29"/>
            <a:stretch/>
          </p:blipFill>
          <p:spPr>
            <a:xfrm>
              <a:off x="2817720" y="463392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"/>
          <p:cNvGrpSpPr/>
          <p:nvPr/>
        </p:nvGrpSpPr>
        <p:grpSpPr>
          <a:xfrm>
            <a:off x="3529080" y="4998960"/>
            <a:ext cx="1065240" cy="357120"/>
            <a:chOff x="3529080" y="4998960"/>
            <a:chExt cx="1065240" cy="357120"/>
          </a:xfrm>
        </p:grpSpPr>
        <p:pic>
          <p:nvPicPr>
            <p:cNvPr id="624" name="" descr=""/>
            <p:cNvPicPr/>
            <p:nvPr/>
          </p:nvPicPr>
          <p:blipFill>
            <a:blip r:embed="rId30"/>
            <a:stretch/>
          </p:blipFill>
          <p:spPr>
            <a:xfrm>
              <a:off x="3529080" y="50785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onto_02" descr=""/>
            <p:cNvPicPr/>
            <p:nvPr/>
          </p:nvPicPr>
          <p:blipFill>
            <a:blip r:embed="rId31"/>
            <a:stretch/>
          </p:blipFill>
          <p:spPr>
            <a:xfrm>
              <a:off x="4238640" y="499896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6" name=""/>
          <p:cNvGrpSpPr/>
          <p:nvPr/>
        </p:nvGrpSpPr>
        <p:grpSpPr>
          <a:xfrm>
            <a:off x="7197840" y="3787920"/>
            <a:ext cx="631800" cy="772920"/>
            <a:chOff x="7197840" y="3787920"/>
            <a:chExt cx="631800" cy="772920"/>
          </a:xfrm>
        </p:grpSpPr>
        <p:pic>
          <p:nvPicPr>
            <p:cNvPr id="627" name="" descr=""/>
            <p:cNvPicPr/>
            <p:nvPr/>
          </p:nvPicPr>
          <p:blipFill>
            <a:blip r:embed="rId32"/>
            <a:stretch/>
          </p:blipFill>
          <p:spPr>
            <a:xfrm>
              <a:off x="7394760" y="432108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8" name=""/>
            <p:cNvGrpSpPr/>
            <p:nvPr/>
          </p:nvGrpSpPr>
          <p:grpSpPr>
            <a:xfrm>
              <a:off x="7197840" y="3787920"/>
              <a:ext cx="631800" cy="490320"/>
              <a:chOff x="7197840" y="3787920"/>
              <a:chExt cx="631800" cy="490320"/>
            </a:xfrm>
          </p:grpSpPr>
          <p:sp>
            <p:nvSpPr>
              <p:cNvPr id="629" name=""/>
              <p:cNvSpPr/>
              <p:nvPr/>
            </p:nvSpPr>
            <p:spPr>
              <a:xfrm>
                <a:off x="7237080" y="384012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197840" y="378792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1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434720" y="402120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32" name=""/>
          <p:cNvGrpSpPr/>
          <p:nvPr/>
        </p:nvGrpSpPr>
        <p:grpSpPr>
          <a:xfrm>
            <a:off x="3938760" y="1697040"/>
            <a:ext cx="1375920" cy="3565440"/>
            <a:chOff x="3938760" y="1697040"/>
            <a:chExt cx="1375920" cy="3565440"/>
          </a:xfrm>
        </p:grpSpPr>
        <p:pic>
          <p:nvPicPr>
            <p:cNvPr id="633" name="doc_01" descr=""/>
            <p:cNvPicPr/>
            <p:nvPr/>
          </p:nvPicPr>
          <p:blipFill>
            <a:blip r:embed="rId34"/>
            <a:stretch/>
          </p:blipFill>
          <p:spPr>
            <a:xfrm>
              <a:off x="4898880" y="231120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doc_01" descr=""/>
            <p:cNvPicPr/>
            <p:nvPr/>
          </p:nvPicPr>
          <p:blipFill>
            <a:blip r:embed="rId35"/>
            <a:stretch/>
          </p:blipFill>
          <p:spPr>
            <a:xfrm>
              <a:off x="4857120" y="223200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memory_01" descr=""/>
            <p:cNvPicPr/>
            <p:nvPr/>
          </p:nvPicPr>
          <p:blipFill>
            <a:blip r:embed="rId36"/>
            <a:stretch/>
          </p:blipFill>
          <p:spPr>
            <a:xfrm>
              <a:off x="3938760" y="1697040"/>
              <a:ext cx="35064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doc_03" descr=""/>
            <p:cNvPicPr/>
            <p:nvPr/>
          </p:nvPicPr>
          <p:blipFill>
            <a:blip r:embed="rId37"/>
            <a:stretch/>
          </p:blipFill>
          <p:spPr>
            <a:xfrm>
              <a:off x="4105080" y="4467240"/>
              <a:ext cx="41760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637" name="doc_04" descr=""/>
            <p:cNvPicPr/>
            <p:nvPr/>
          </p:nvPicPr>
          <p:blipFill>
            <a:blip r:embed="rId38"/>
            <a:stretch/>
          </p:blipFill>
          <p:spPr>
            <a:xfrm>
              <a:off x="4022640" y="2192400"/>
              <a:ext cx="2916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doc_05gif" descr=""/>
            <p:cNvPicPr/>
            <p:nvPr/>
          </p:nvPicPr>
          <p:blipFill>
            <a:blip r:embed="rId39"/>
            <a:stretch/>
          </p:blipFill>
          <p:spPr>
            <a:xfrm>
              <a:off x="4731120" y="438624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40"/>
            <a:stretch/>
          </p:blipFill>
          <p:spPr>
            <a:xfrm>
              <a:off x="4648680" y="382428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41"/>
            <a:stretch/>
          </p:blipFill>
          <p:spPr>
            <a:xfrm>
              <a:off x="4464360" y="173664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doc_01" descr=""/>
            <p:cNvPicPr/>
            <p:nvPr/>
          </p:nvPicPr>
          <p:blipFill>
            <a:blip r:embed="rId42"/>
            <a:stretch/>
          </p:blipFill>
          <p:spPr>
            <a:xfrm>
              <a:off x="4940640" y="235116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43"/>
            <a:stretch/>
          </p:blipFill>
          <p:spPr>
            <a:xfrm>
              <a:off x="4980960" y="494496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" descr=""/>
            <p:cNvPicPr/>
            <p:nvPr/>
          </p:nvPicPr>
          <p:blipFill>
            <a:blip r:embed="rId44"/>
            <a:stretch/>
          </p:blipFill>
          <p:spPr>
            <a:xfrm>
              <a:off x="4439160" y="2351160"/>
              <a:ext cx="35208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" descr=""/>
            <p:cNvPicPr/>
            <p:nvPr/>
          </p:nvPicPr>
          <p:blipFill>
            <a:blip r:embed="rId45"/>
            <a:stretch/>
          </p:blipFill>
          <p:spPr>
            <a:xfrm>
              <a:off x="4980960" y="179388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/>
          <p:cNvSpPr txBox="1"/>
          <p:nvPr/>
        </p:nvSpPr>
        <p:spPr>
          <a:xfrm>
            <a:off x="2108160" y="464040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2778120" y="1494000"/>
            <a:ext cx="2379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961320" y="475920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2147760" y="3605040"/>
            <a:ext cx="1971720" cy="1273320"/>
            <a:chOff x="2147760" y="3605040"/>
            <a:chExt cx="1971720" cy="1273320"/>
          </a:xfrm>
        </p:grpSpPr>
        <p:sp>
          <p:nvSpPr>
            <p:cNvPr id="649" name=""/>
            <p:cNvSpPr/>
            <p:nvPr/>
          </p:nvSpPr>
          <p:spPr>
            <a:xfrm>
              <a:off x="3449520" y="360504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2147760" y="360504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92200" y="368460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1712880" y="2610000"/>
            <a:ext cx="947160" cy="396720"/>
            <a:chOff x="1712880" y="2610000"/>
            <a:chExt cx="947160" cy="396720"/>
          </a:xfrm>
        </p:grpSpPr>
        <p:sp>
          <p:nvSpPr>
            <p:cNvPr id="653" name=""/>
            <p:cNvSpPr/>
            <p:nvPr/>
          </p:nvSpPr>
          <p:spPr>
            <a:xfrm>
              <a:off x="1712880" y="271476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2028240" y="261000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262480" y="2057040"/>
            <a:ext cx="2247840" cy="2503800"/>
            <a:chOff x="5262480" y="2057040"/>
            <a:chExt cx="2247840" cy="2503800"/>
          </a:xfrm>
        </p:grpSpPr>
        <p:sp>
          <p:nvSpPr>
            <p:cNvPr id="656" name=""/>
            <p:cNvSpPr/>
            <p:nvPr/>
          </p:nvSpPr>
          <p:spPr>
            <a:xfrm flipH="1" flipV="1">
              <a:off x="5262480" y="205704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078680" y="336564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368760" y="368460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960960" y="368460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5067000" y="3565440"/>
            <a:ext cx="2130840" cy="1035000"/>
            <a:chOff x="5067000" y="3565440"/>
            <a:chExt cx="2130840" cy="1035000"/>
          </a:xfrm>
        </p:grpSpPr>
        <p:sp>
          <p:nvSpPr>
            <p:cNvPr id="661" name=""/>
            <p:cNvSpPr/>
            <p:nvPr/>
          </p:nvSpPr>
          <p:spPr>
            <a:xfrm flipH="1">
              <a:off x="5067000" y="3565440"/>
              <a:ext cx="55260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5896080" y="362556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251760" y="3684600"/>
              <a:ext cx="94608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698400" y="1143000"/>
            <a:ext cx="8013600" cy="4647960"/>
            <a:chOff x="698400" y="1143000"/>
            <a:chExt cx="8013600" cy="4647960"/>
          </a:xfrm>
        </p:grpSpPr>
        <p:sp>
          <p:nvSpPr>
            <p:cNvPr id="665" name=""/>
            <p:cNvSpPr/>
            <p:nvPr/>
          </p:nvSpPr>
          <p:spPr>
            <a:xfrm>
              <a:off x="711000" y="1143000"/>
              <a:ext cx="312444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1000" y="5562360"/>
              <a:ext cx="8001000" cy="228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11000" y="3886200"/>
              <a:ext cx="1828800" cy="990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587920" y="1295280"/>
              <a:ext cx="3124080" cy="4267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98400" y="4572000"/>
              <a:ext cx="1384200" cy="990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082600" y="5562360"/>
              <a:ext cx="35053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35440" y="1295280"/>
              <a:ext cx="17524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39800" y="3886200"/>
              <a:ext cx="1295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082600" y="4876560"/>
              <a:ext cx="457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082600" y="4876560"/>
              <a:ext cx="0" cy="68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35440" y="1295280"/>
              <a:ext cx="0" cy="2590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587920" y="1295280"/>
              <a:ext cx="0" cy="4267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39800" y="3886200"/>
              <a:ext cx="0" cy="99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2E1-5199-4227-9524-E3145BEA48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Illustration of the cycle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304920" y="1346040"/>
            <a:ext cx="2514600" cy="4999320"/>
            <a:chOff x="304920" y="1346040"/>
            <a:chExt cx="2514600" cy="4999320"/>
          </a:xfrm>
        </p:grpSpPr>
        <p:sp>
          <p:nvSpPr>
            <p:cNvPr id="680" name=""/>
            <p:cNvSpPr/>
            <p:nvPr/>
          </p:nvSpPr>
          <p:spPr>
            <a:xfrm>
              <a:off x="304920" y="1346040"/>
              <a:ext cx="2514600" cy="4496040"/>
            </a:xfrm>
            <a:prstGeom prst="rect">
              <a:avLst/>
            </a:prstGeom>
            <a:solidFill>
              <a:srgbClr val="e3e4ed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7200" y="6070680"/>
              <a:ext cx="190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 - Re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330120" y="1739880"/>
              <a:ext cx="2438280" cy="520560"/>
              <a:chOff x="330120" y="1739880"/>
              <a:chExt cx="2438280" cy="520560"/>
            </a:xfrm>
          </p:grpSpPr>
          <p:sp>
            <p:nvSpPr>
              <p:cNvPr id="683" name=""/>
              <p:cNvSpPr/>
              <p:nvPr/>
            </p:nvSpPr>
            <p:spPr>
              <a:xfrm>
                <a:off x="2158920" y="173988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387520" y="173988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34680" y="1869840"/>
                <a:ext cx="381240" cy="130320"/>
              </a:xfrm>
              <a:prstGeom prst="parallelogram">
                <a:avLst>
                  <a:gd name="adj" fmla="val 121892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82400" y="200016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30120" y="2130120"/>
                <a:ext cx="380880" cy="130320"/>
              </a:xfrm>
              <a:prstGeom prst="parallelogram">
                <a:avLst>
                  <a:gd name="adj" fmla="val 121777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015920" y="173988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244520" y="173988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473120" y="173988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701720" y="173988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930320" y="173988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63280" y="1869840"/>
                <a:ext cx="381240" cy="130320"/>
              </a:xfrm>
              <a:prstGeom prst="parallelogram">
                <a:avLst>
                  <a:gd name="adj" fmla="val 121892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091880" y="1869840"/>
                <a:ext cx="381240" cy="130320"/>
              </a:xfrm>
              <a:prstGeom prst="parallelogram">
                <a:avLst>
                  <a:gd name="adj" fmla="val 121892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20480" y="1869840"/>
                <a:ext cx="381240" cy="130320"/>
              </a:xfrm>
              <a:prstGeom prst="parallelogram">
                <a:avLst>
                  <a:gd name="adj" fmla="val 121892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549080" y="1869840"/>
                <a:ext cx="381240" cy="130320"/>
              </a:xfrm>
              <a:prstGeom prst="parallelogram">
                <a:avLst>
                  <a:gd name="adj" fmla="val 121892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777680" y="1869840"/>
                <a:ext cx="381240" cy="130320"/>
              </a:xfrm>
              <a:prstGeom prst="parallelogram">
                <a:avLst>
                  <a:gd name="adj" fmla="val 121892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006280" y="1869840"/>
                <a:ext cx="381240" cy="130320"/>
              </a:xfrm>
              <a:prstGeom prst="parallelogram">
                <a:avLst>
                  <a:gd name="adj" fmla="val 121892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234880" y="1869840"/>
                <a:ext cx="381240" cy="130320"/>
              </a:xfrm>
              <a:prstGeom prst="parallelogram">
                <a:avLst>
                  <a:gd name="adj" fmla="val 121892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11000" y="200016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39600" y="200016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168200" y="200016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96800" y="200016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625400" y="200016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54000" y="200016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082600" y="200016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58720" y="2130120"/>
                <a:ext cx="380880" cy="130320"/>
              </a:xfrm>
              <a:prstGeom prst="parallelogram">
                <a:avLst>
                  <a:gd name="adj" fmla="val 121777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87320" y="2130120"/>
                <a:ext cx="380880" cy="130320"/>
              </a:xfrm>
              <a:prstGeom prst="parallelogram">
                <a:avLst>
                  <a:gd name="adj" fmla="val 121777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015920" y="2130120"/>
                <a:ext cx="380880" cy="130320"/>
              </a:xfrm>
              <a:prstGeom prst="parallelogram">
                <a:avLst>
                  <a:gd name="adj" fmla="val 121777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44520" y="2130120"/>
                <a:ext cx="380880" cy="130320"/>
              </a:xfrm>
              <a:prstGeom prst="parallelogram">
                <a:avLst>
                  <a:gd name="adj" fmla="val 121777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473120" y="2130120"/>
                <a:ext cx="380880" cy="130320"/>
              </a:xfrm>
              <a:prstGeom prst="parallelogram">
                <a:avLst>
                  <a:gd name="adj" fmla="val 121777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701720" y="2130120"/>
                <a:ext cx="380880" cy="130320"/>
              </a:xfrm>
              <a:prstGeom prst="parallelogram">
                <a:avLst>
                  <a:gd name="adj" fmla="val 121777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930320" y="2130120"/>
                <a:ext cx="380880" cy="130320"/>
              </a:xfrm>
              <a:prstGeom prst="parallelogram">
                <a:avLst>
                  <a:gd name="adj" fmla="val 121777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87320" y="173988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"/>
            <p:cNvSpPr/>
            <p:nvPr/>
          </p:nvSpPr>
          <p:spPr>
            <a:xfrm>
              <a:off x="736560" y="1638360"/>
              <a:ext cx="1511280" cy="457200"/>
            </a:xfrm>
            <a:custGeom>
              <a:avLst/>
              <a:gdLst/>
              <a:ahLst/>
              <a:rect l="l" t="t" r="r" b="b"/>
              <a:pathLst>
                <a:path w="2166" h="1311">
                  <a:moveTo>
                    <a:pt x="0" y="0"/>
                  </a:moveTo>
                  <a:lnTo>
                    <a:pt x="0" y="1311"/>
                  </a:lnTo>
                  <a:lnTo>
                    <a:pt x="2166" y="1311"/>
                  </a:lnTo>
                  <a:lnTo>
                    <a:pt x="2166" y="342"/>
                  </a:lnTo>
                  <a:lnTo>
                    <a:pt x="1938" y="570"/>
                  </a:lnTo>
                  <a:lnTo>
                    <a:pt x="1938" y="342"/>
                  </a:lnTo>
                  <a:lnTo>
                    <a:pt x="1710" y="570"/>
                  </a:lnTo>
                  <a:lnTo>
                    <a:pt x="1710" y="342"/>
                  </a:lnTo>
                  <a:lnTo>
                    <a:pt x="1482" y="570"/>
                  </a:lnTo>
                  <a:lnTo>
                    <a:pt x="1482" y="342"/>
                  </a:lnTo>
                  <a:lnTo>
                    <a:pt x="1254" y="570"/>
                  </a:lnTo>
                  <a:lnTo>
                    <a:pt x="1254" y="342"/>
                  </a:lnTo>
                  <a:lnTo>
                    <a:pt x="1026" y="570"/>
                  </a:lnTo>
                  <a:lnTo>
                    <a:pt x="1026" y="342"/>
                  </a:lnTo>
                  <a:lnTo>
                    <a:pt x="798" y="570"/>
                  </a:lnTo>
                  <a:lnTo>
                    <a:pt x="798" y="342"/>
                  </a:lnTo>
                  <a:lnTo>
                    <a:pt x="570" y="570"/>
                  </a:lnTo>
                  <a:lnTo>
                    <a:pt x="570" y="342"/>
                  </a:lnTo>
                  <a:lnTo>
                    <a:pt x="342" y="570"/>
                  </a:lnTo>
                  <a:lnTo>
                    <a:pt x="3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457200" y="2336760"/>
              <a:ext cx="1980720" cy="685440"/>
              <a:chOff x="457200" y="2336760"/>
              <a:chExt cx="1980720" cy="685440"/>
            </a:xfrm>
          </p:grpSpPr>
          <p:sp>
            <p:nvSpPr>
              <p:cNvPr id="717" name=""/>
              <p:cNvSpPr/>
              <p:nvPr/>
            </p:nvSpPr>
            <p:spPr>
              <a:xfrm>
                <a:off x="457200" y="2336760"/>
                <a:ext cx="1980720" cy="6854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14800" y="2483280"/>
                <a:ext cx="290880" cy="48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65080" y="2483280"/>
                <a:ext cx="699120" cy="48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621800" y="2483280"/>
                <a:ext cx="758520" cy="48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922680" y="2532240"/>
                <a:ext cx="233280" cy="3916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213560" y="2532240"/>
                <a:ext cx="290880" cy="3916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680840" y="2532240"/>
                <a:ext cx="174240" cy="39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913040" y="2532240"/>
                <a:ext cx="176040" cy="39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146680" y="2532240"/>
                <a:ext cx="174240" cy="39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73840" y="2532240"/>
                <a:ext cx="173880" cy="975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73840" y="2679120"/>
                <a:ext cx="173880" cy="982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73840" y="2826360"/>
                <a:ext cx="173880" cy="975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914400" y="4707000"/>
              <a:ext cx="1752480" cy="10587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730" name="" descr=""/>
            <p:cNvPicPr/>
            <p:nvPr/>
          </p:nvPicPr>
          <p:blipFill>
            <a:blip r:embed="rId2"/>
            <a:stretch/>
          </p:blipFill>
          <p:spPr>
            <a:xfrm>
              <a:off x="609480" y="3249720"/>
              <a:ext cx="2057400" cy="12207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731" name=""/>
            <p:cNvSpPr/>
            <p:nvPr/>
          </p:nvSpPr>
          <p:spPr>
            <a:xfrm>
              <a:off x="457200" y="5892840"/>
              <a:ext cx="2133720" cy="228600"/>
            </a:xfrm>
            <a:custGeom>
              <a:avLst/>
              <a:gdLst>
                <a:gd name="textAreaLeft" fmla="*/ 333360 w 2133720"/>
                <a:gd name="textAreaRight" fmla="*/ 1846800 w 2133720"/>
                <a:gd name="textAreaTop" fmla="*/ 44280 h 228600"/>
                <a:gd name="textAreaBottom" fmla="*/ 1843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200"/>
                  </a:moveTo>
                  <a:lnTo>
                    <a:pt x="16843" y="4200"/>
                  </a:lnTo>
                  <a:lnTo>
                    <a:pt x="16843" y="0"/>
                  </a:lnTo>
                  <a:lnTo>
                    <a:pt x="21600" y="10800"/>
                  </a:lnTo>
                  <a:lnTo>
                    <a:pt x="16843" y="21600"/>
                  </a:lnTo>
                  <a:lnTo>
                    <a:pt x="16843" y="17400"/>
                  </a:lnTo>
                  <a:lnTo>
                    <a:pt x="3375" y="17400"/>
                  </a:lnTo>
                  <a:close/>
                </a:path>
                <a:path w="21600" h="21600">
                  <a:moveTo>
                    <a:pt x="0" y="4200"/>
                  </a:moveTo>
                  <a:lnTo>
                    <a:pt x="675" y="4200"/>
                  </a:lnTo>
                  <a:lnTo>
                    <a:pt x="675" y="17400"/>
                  </a:lnTo>
                  <a:lnTo>
                    <a:pt x="0" y="17400"/>
                  </a:lnTo>
                  <a:close/>
                </a:path>
                <a:path w="21600" h="21600">
                  <a:moveTo>
                    <a:pt x="1350" y="4200"/>
                  </a:moveTo>
                  <a:lnTo>
                    <a:pt x="2700" y="4200"/>
                  </a:lnTo>
                  <a:lnTo>
                    <a:pt x="2700" y="17400"/>
                  </a:lnTo>
                  <a:lnTo>
                    <a:pt x="1350" y="17400"/>
                  </a:lnTo>
                  <a:close/>
                </a:path>
              </a:pathLst>
            </a:custGeom>
            <a:solidFill>
              <a:srgbClr val="e3e4ed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533520" y="4013280"/>
              <a:ext cx="1218960" cy="794880"/>
              <a:chOff x="533520" y="4013280"/>
              <a:chExt cx="1218960" cy="794880"/>
            </a:xfrm>
          </p:grpSpPr>
          <p:sp>
            <p:nvSpPr>
              <p:cNvPr id="733" name=""/>
              <p:cNvSpPr/>
              <p:nvPr/>
            </p:nvSpPr>
            <p:spPr>
              <a:xfrm>
                <a:off x="939600" y="401328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35040" y="433152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193760" y="433152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990360" y="464940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447560" y="4649400"/>
                <a:ext cx="30492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33520" y="464940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888840" y="4172040"/>
                <a:ext cx="101520" cy="1591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685800" y="4490280"/>
                <a:ext cx="101520" cy="1587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1142640" y="4490280"/>
                <a:ext cx="101520" cy="1587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193760" y="4172040"/>
                <a:ext cx="101160" cy="1591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447560" y="4490280"/>
                <a:ext cx="101520" cy="1587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2240" y="457200"/>
            <a:ext cx="9131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"/>
              </a:rPr>
              <a:t>Ontology</a:t>
            </a: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: explicit partial account of concepts used in the corporate memory management scenarios and their relations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2781360" y="1320840"/>
            <a:ext cx="3124080" cy="5054400"/>
            <a:chOff x="2781360" y="1320840"/>
            <a:chExt cx="3124080" cy="5054400"/>
          </a:xfrm>
        </p:grpSpPr>
        <p:sp>
          <p:nvSpPr>
            <p:cNvPr id="746" name=""/>
            <p:cNvSpPr/>
            <p:nvPr/>
          </p:nvSpPr>
          <p:spPr>
            <a:xfrm>
              <a:off x="2819520" y="1346040"/>
              <a:ext cx="2971800" cy="4496040"/>
            </a:xfrm>
            <a:prstGeom prst="rect">
              <a:avLst/>
            </a:prstGeom>
            <a:solidFill>
              <a:srgbClr val="c4c7da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81360" y="1320840"/>
              <a:ext cx="3124080" cy="45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rganizational Entity (X) :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The entity X is or is a sub-part of an organization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 (X):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The entity X is living being pertaining to the human rac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 (Organizational Entity: X, Organizational Entity / Person Y)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the organizational entity X includes Y as one of its member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Manage (Person: X, Organizational Entity: Y) :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The person X watches and directs the organizational entity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38560" y="6075360"/>
              <a:ext cx="21715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- Ont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19520" y="5892840"/>
              <a:ext cx="2895480" cy="228600"/>
            </a:xfrm>
            <a:custGeom>
              <a:avLst/>
              <a:gdLst>
                <a:gd name="textAreaLeft" fmla="*/ 452160 w 2895480"/>
                <a:gd name="textAreaRight" fmla="*/ 2608560 w 2895480"/>
                <a:gd name="textAreaTop" fmla="*/ 44280 h 228600"/>
                <a:gd name="textAreaBottom" fmla="*/ 1843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200"/>
                  </a:moveTo>
                  <a:lnTo>
                    <a:pt x="18095" y="4200"/>
                  </a:lnTo>
                  <a:lnTo>
                    <a:pt x="18095" y="0"/>
                  </a:lnTo>
                  <a:lnTo>
                    <a:pt x="21600" y="10800"/>
                  </a:lnTo>
                  <a:lnTo>
                    <a:pt x="18095" y="21600"/>
                  </a:lnTo>
                  <a:lnTo>
                    <a:pt x="18095" y="17400"/>
                  </a:lnTo>
                  <a:lnTo>
                    <a:pt x="3375" y="17400"/>
                  </a:lnTo>
                  <a:close/>
                </a:path>
                <a:path w="21600" h="21600">
                  <a:moveTo>
                    <a:pt x="0" y="4200"/>
                  </a:moveTo>
                  <a:lnTo>
                    <a:pt x="675" y="4200"/>
                  </a:lnTo>
                  <a:lnTo>
                    <a:pt x="675" y="17400"/>
                  </a:lnTo>
                  <a:lnTo>
                    <a:pt x="0" y="17400"/>
                  </a:lnTo>
                  <a:close/>
                </a:path>
                <a:path w="21600" h="21600">
                  <a:moveTo>
                    <a:pt x="1350" y="4200"/>
                  </a:moveTo>
                  <a:lnTo>
                    <a:pt x="2700" y="4200"/>
                  </a:lnTo>
                  <a:lnTo>
                    <a:pt x="2700" y="17400"/>
                  </a:lnTo>
                  <a:lnTo>
                    <a:pt x="1350" y="17400"/>
                  </a:lnTo>
                  <a:close/>
                </a:path>
              </a:pathLst>
            </a:custGeom>
            <a:solidFill>
              <a:srgbClr val="c4c7da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715000" y="1346040"/>
            <a:ext cx="2973240" cy="5131080"/>
            <a:chOff x="5715000" y="1346040"/>
            <a:chExt cx="2973240" cy="5131080"/>
          </a:xfrm>
        </p:grpSpPr>
        <p:sp>
          <p:nvSpPr>
            <p:cNvPr id="751" name=""/>
            <p:cNvSpPr/>
            <p:nvPr/>
          </p:nvSpPr>
          <p:spPr>
            <a:xfrm>
              <a:off x="5791320" y="1346040"/>
              <a:ext cx="2895480" cy="4496040"/>
            </a:xfrm>
            <a:prstGeom prst="rect">
              <a:avLst/>
            </a:prstGeom>
            <a:solidFill>
              <a:srgbClr val="adb1c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67280" y="1346040"/>
              <a:ext cx="2819520" cy="44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Rose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Fabien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Olivier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lain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rganizational Entity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INRIA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rganizational Entity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INRIA, Acacia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Manag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Rose, Acacia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, Rose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, Fabien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, Olivier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, Alain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15000" y="6146640"/>
              <a:ext cx="29732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 - Situation &amp; Anno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67280" y="5892840"/>
              <a:ext cx="2667240" cy="228600"/>
            </a:xfrm>
            <a:custGeom>
              <a:avLst/>
              <a:gdLst>
                <a:gd name="textAreaLeft" fmla="*/ 416520 w 2667240"/>
                <a:gd name="textAreaRight" fmla="*/ 2403000 w 2667240"/>
                <a:gd name="textAreaTop" fmla="*/ 44280 h 228600"/>
                <a:gd name="textAreaBottom" fmla="*/ 1843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200"/>
                  </a:moveTo>
                  <a:lnTo>
                    <a:pt x="18095" y="4200"/>
                  </a:lnTo>
                  <a:lnTo>
                    <a:pt x="18095" y="0"/>
                  </a:lnTo>
                  <a:lnTo>
                    <a:pt x="21600" y="10800"/>
                  </a:lnTo>
                  <a:lnTo>
                    <a:pt x="18095" y="21600"/>
                  </a:lnTo>
                  <a:lnTo>
                    <a:pt x="18095" y="17400"/>
                  </a:lnTo>
                  <a:lnTo>
                    <a:pt x="3375" y="17400"/>
                  </a:lnTo>
                  <a:close/>
                </a:path>
                <a:path w="21600" h="21600">
                  <a:moveTo>
                    <a:pt x="0" y="4200"/>
                  </a:moveTo>
                  <a:lnTo>
                    <a:pt x="675" y="4200"/>
                  </a:lnTo>
                  <a:lnTo>
                    <a:pt x="675" y="17400"/>
                  </a:lnTo>
                  <a:lnTo>
                    <a:pt x="0" y="17400"/>
                  </a:lnTo>
                  <a:close/>
                </a:path>
                <a:path w="21600" h="21600">
                  <a:moveTo>
                    <a:pt x="1350" y="4200"/>
                  </a:moveTo>
                  <a:lnTo>
                    <a:pt x="2700" y="4200"/>
                  </a:lnTo>
                  <a:lnTo>
                    <a:pt x="2700" y="17400"/>
                  </a:lnTo>
                  <a:lnTo>
                    <a:pt x="1350" y="17400"/>
                  </a:lnTo>
                  <a:close/>
                </a:path>
              </a:pathLst>
            </a:custGeom>
            <a:solidFill>
              <a:srgbClr val="adb1c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C0B-B622-42D7-A774-4D01DA761E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9T18:56:05Z</dcterms:created>
  <dc:creator>Fabien GANDON</dc:creator>
  <dc:description/>
  <dc:language>en-US</dc:language>
  <cp:lastModifiedBy>Fabien GANDON</cp:lastModifiedBy>
  <dcterms:modified xsi:type="dcterms:W3CDTF">2002-08-27T16:56:35Z</dcterms:modified>
  <cp:revision>31</cp:revision>
  <dc:subject/>
  <dc:title>Trying the title of the slides</dc:title>
</cp:coreProperties>
</file>