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AD4A-E5C6-43BC-A813-9FDD08D8D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985A-DE53-4E43-A0AE-C433AB34A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9343-C5D7-4C48-8A0B-B5E41AE25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444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132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444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132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90F0-FD69-4E26-B7CB-E440F1309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B2BB-6372-4420-A89D-CE422584A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444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3132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444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3132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72B2-6828-4081-BEFE-8936108B9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62A4-784B-4CE4-AC4C-DB0B39C1F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B270-5C90-49D1-AC55-D9979D3A1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8A50-192C-4AFF-88FC-B95AF36AE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354C-1ED1-4A1A-95BD-1931FDC99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BE3E-2DA6-4253-A5F1-99F72AF66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0E10-E96F-4FA5-8FAC-620F2657B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pty" descr=""/>
          <p:cNvPicPr/>
          <p:nvPr/>
        </p:nvPicPr>
        <p:blipFill>
          <a:blip r:embed="rId2"/>
          <a:stretch/>
        </p:blipFill>
        <p:spPr>
          <a:xfrm>
            <a:off x="7620120" y="6264360"/>
            <a:ext cx="1523880" cy="593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0"/>
            <a:ext cx="762120" cy="6858000"/>
            <a:chOff x="0" y="0"/>
            <a:chExt cx="76212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5080" y="0"/>
              <a:ext cx="5270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56204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98108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146720" y="6370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337C-AF94-40F0-9005-84340A988B61}" type="slidenum"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&lt;number&gt;</a:t>
            </a:fld>
            <a:r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/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90120" y="6410160"/>
            <a:ext cx="72392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762120" cy="6858000"/>
            <a:chOff x="0" y="0"/>
            <a:chExt cx="76212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5080" y="0"/>
              <a:ext cx="5270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33344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75248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18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7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3.png"/><Relationship Id="rId4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64008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ISMICK 2001 - Fabien GANDON - ACACIA Project INRIA Sophia Antipolis (FR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7365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Experience in Ontology Engineering for a Multi-Agents Corporate Memory System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87" name="Winner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Grid for Scenario Description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295280" y="228600"/>
          <a:ext cx="784872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308240" y="860400"/>
            <a:ext cx="1180800" cy="3808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55627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End-Users </a:t>
            </a:r>
            <a:r>
              <a:rPr b="1" lang="en-US" sz="3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 Report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789F-7CF1-4A9C-B160-18632CBC83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Extract from Scenario Repor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65" name=""/>
          <p:cNvSpPr/>
          <p:nvPr/>
        </p:nvSpPr>
        <p:spPr>
          <a:xfrm>
            <a:off x="1701720" y="152280"/>
            <a:ext cx="6782040" cy="52578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762200" y="228600"/>
            <a:ext cx="6619680" cy="409428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1914480" y="236520"/>
            <a:ext cx="2352600" cy="5785920"/>
            <a:chOff x="1914480" y="236520"/>
            <a:chExt cx="2352600" cy="5785920"/>
          </a:xfrm>
        </p:grpSpPr>
        <p:sp>
          <p:nvSpPr>
            <p:cNvPr id="368" name=""/>
            <p:cNvSpPr/>
            <p:nvPr/>
          </p:nvSpPr>
          <p:spPr>
            <a:xfrm>
              <a:off x="2133720" y="236520"/>
              <a:ext cx="2133360" cy="190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1448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cc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133720" y="1027080"/>
            <a:ext cx="3057480" cy="4995360"/>
            <a:chOff x="2133720" y="1027080"/>
            <a:chExt cx="3057480" cy="4995360"/>
          </a:xfrm>
        </p:grpSpPr>
        <p:sp>
          <p:nvSpPr>
            <p:cNvPr id="371" name=""/>
            <p:cNvSpPr/>
            <p:nvPr/>
          </p:nvSpPr>
          <p:spPr>
            <a:xfrm>
              <a:off x="2133720" y="1027080"/>
              <a:ext cx="144756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1000" y="5562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cc0000"/>
                  </a:solidFill>
                  <a:latin typeface="Times New Roman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676600" y="3408480"/>
            <a:ext cx="3254400" cy="2613960"/>
            <a:chOff x="2676600" y="3408480"/>
            <a:chExt cx="3254400" cy="2613960"/>
          </a:xfrm>
        </p:grpSpPr>
        <p:sp>
          <p:nvSpPr>
            <p:cNvPr id="374" name=""/>
            <p:cNvSpPr/>
            <p:nvPr/>
          </p:nvSpPr>
          <p:spPr>
            <a:xfrm>
              <a:off x="2676600" y="3408480"/>
              <a:ext cx="113328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00600" y="556272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514600" y="569880"/>
            <a:ext cx="5857920" cy="5452560"/>
            <a:chOff x="2514600" y="569880"/>
            <a:chExt cx="5857920" cy="5452560"/>
          </a:xfrm>
        </p:grpSpPr>
        <p:sp>
          <p:nvSpPr>
            <p:cNvPr id="377" name=""/>
            <p:cNvSpPr/>
            <p:nvPr/>
          </p:nvSpPr>
          <p:spPr>
            <a:xfrm>
              <a:off x="7629480" y="5562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20000" y="56988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14600" y="2398680"/>
              <a:ext cx="274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91280" y="3598920"/>
              <a:ext cx="99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86600" y="297972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67280" y="297972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14800" y="396072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27417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53200" y="378000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124080" y="4122720"/>
            <a:ext cx="4496760" cy="1899720"/>
            <a:chOff x="3124080" y="4122720"/>
            <a:chExt cx="4496760" cy="1899720"/>
          </a:xfrm>
        </p:grpSpPr>
        <p:sp>
          <p:nvSpPr>
            <p:cNvPr id="387" name=""/>
            <p:cNvSpPr/>
            <p:nvPr/>
          </p:nvSpPr>
          <p:spPr>
            <a:xfrm>
              <a:off x="3124080" y="4122720"/>
              <a:ext cx="1305000" cy="220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27240" y="556272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29EC-D245-49C1-A8C9-FF579C561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Data-Collection : Interview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394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3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404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405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7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309D-AB85-4145-AEDF-7711EFFEC7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Semi-structured Interview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mi-structured (individual / group)</a:t>
            </a:r>
            <a:br>
              <a:rPr sz="3000"/>
            </a:b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guide for end-user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371600" y="1371600"/>
            <a:ext cx="3730680" cy="4800600"/>
            <a:chOff x="1371600" y="1371600"/>
            <a:chExt cx="3730680" cy="4800600"/>
          </a:xfrm>
        </p:grpSpPr>
        <p:sp>
          <p:nvSpPr>
            <p:cNvPr id="432" name=""/>
            <p:cNvSpPr/>
            <p:nvPr/>
          </p:nvSpPr>
          <p:spPr>
            <a:xfrm>
              <a:off x="1371600" y="137160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429920" y="143640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"/>
          <p:cNvGrpSpPr/>
          <p:nvPr/>
        </p:nvGrpSpPr>
        <p:grpSpPr>
          <a:xfrm>
            <a:off x="1662120" y="2014560"/>
            <a:ext cx="7215480" cy="3549600"/>
            <a:chOff x="1662120" y="2014560"/>
            <a:chExt cx="7215480" cy="3549600"/>
          </a:xfrm>
        </p:grpSpPr>
        <p:grpSp>
          <p:nvGrpSpPr>
            <p:cNvPr id="435" name=""/>
            <p:cNvGrpSpPr/>
            <p:nvPr/>
          </p:nvGrpSpPr>
          <p:grpSpPr>
            <a:xfrm>
              <a:off x="1662120" y="2175120"/>
              <a:ext cx="3263040" cy="3389040"/>
              <a:chOff x="1662120" y="2175120"/>
              <a:chExt cx="3263040" cy="3389040"/>
            </a:xfrm>
          </p:grpSpPr>
          <p:sp>
            <p:nvSpPr>
              <p:cNvPr id="436" name=""/>
              <p:cNvSpPr/>
              <p:nvPr/>
            </p:nvSpPr>
            <p:spPr>
              <a:xfrm>
                <a:off x="4604760" y="2175120"/>
                <a:ext cx="291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662120" y="2345400"/>
                <a:ext cx="1573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51080" y="2345400"/>
                <a:ext cx="815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662120" y="2539800"/>
                <a:ext cx="407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91760" y="3496680"/>
                <a:ext cx="16894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684080" y="3674880"/>
                <a:ext cx="699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48040" y="38613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02400" y="5004360"/>
                <a:ext cx="1922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98480" y="5182920"/>
                <a:ext cx="3204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20440" y="5369400"/>
                <a:ext cx="1631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61920" y="55641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5127840" y="2014560"/>
              <a:ext cx="37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6600"/>
                  </a:solidFill>
                  <a:uFillTx/>
                  <a:latin typeface="Times New Roman"/>
                </a:rPr>
                <a:t>Definition of role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(</a:t>
              </a:r>
              <a:r>
                <a:rPr b="0" lang="en-US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 baseline="30000">
                  <a:solidFill>
                    <a:srgbClr val="ff6600"/>
                  </a:solidFill>
                  <a:latin typeface="Times New Roman"/>
                </a:rPr>
                <a:t>nt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tas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662120" y="4160880"/>
            <a:ext cx="6567480" cy="1191240"/>
            <a:chOff x="1662120" y="4160880"/>
            <a:chExt cx="6567480" cy="1191240"/>
          </a:xfrm>
        </p:grpSpPr>
        <p:grpSp>
          <p:nvGrpSpPr>
            <p:cNvPr id="449" name=""/>
            <p:cNvGrpSpPr/>
            <p:nvPr/>
          </p:nvGrpSpPr>
          <p:grpSpPr>
            <a:xfrm>
              <a:off x="1662120" y="4444920"/>
              <a:ext cx="3265200" cy="169920"/>
              <a:chOff x="1662120" y="4444920"/>
              <a:chExt cx="3265200" cy="169920"/>
            </a:xfrm>
          </p:grpSpPr>
          <p:sp>
            <p:nvSpPr>
              <p:cNvPr id="450" name=""/>
              <p:cNvSpPr/>
              <p:nvPr/>
            </p:nvSpPr>
            <p:spPr>
              <a:xfrm>
                <a:off x="2769840" y="4444920"/>
                <a:ext cx="215748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662120" y="461484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159520" y="4160880"/>
              <a:ext cx="30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9933"/>
                  </a:solidFill>
                  <a:uFillTx/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Personal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Official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E545-DDBD-411A-B4FA-FC8A1B9A2B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Data-Collection : Observation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458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7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468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469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1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0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492" name="Atos-Laet-bureau-3" descr=""/>
            <p:cNvPicPr/>
            <p:nvPr/>
          </p:nvPicPr>
          <p:blipFill>
            <a:blip r:embed="rId3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4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498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E95D-2387-45CE-B180-691B5A2FF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Example of Observ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501" name="Atos-Laet-bureau-3" descr=""/>
          <p:cNvPicPr/>
          <p:nvPr/>
        </p:nvPicPr>
        <p:blipFill>
          <a:blip r:embed="rId1"/>
          <a:stretch/>
        </p:blipFill>
        <p:spPr>
          <a:xfrm>
            <a:off x="1676520" y="771480"/>
            <a:ext cx="4713120" cy="340992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1676520" y="771480"/>
            <a:ext cx="4724280" cy="3414600"/>
            <a:chOff x="1676520" y="771480"/>
            <a:chExt cx="4724280" cy="3414600"/>
          </a:xfrm>
        </p:grpSpPr>
        <p:sp>
          <p:nvSpPr>
            <p:cNvPr id="503" name=""/>
            <p:cNvSpPr/>
            <p:nvPr/>
          </p:nvSpPr>
          <p:spPr>
            <a:xfrm>
              <a:off x="1676520" y="771480"/>
              <a:ext cx="4713120" cy="12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76520" y="1706400"/>
              <a:ext cx="1195200" cy="935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19720" y="1600200"/>
              <a:ext cx="1981080" cy="1241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71720" y="1979640"/>
              <a:ext cx="1525680" cy="268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71720" y="2241720"/>
              <a:ext cx="463680" cy="399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0520" y="2006640"/>
              <a:ext cx="695160" cy="52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35400" y="2514600"/>
              <a:ext cx="1527120" cy="66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62520" y="2708280"/>
              <a:ext cx="1527120" cy="1025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76520" y="3110040"/>
              <a:ext cx="3651120" cy="600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6520" y="3651120"/>
              <a:ext cx="4713120" cy="534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32240" y="2575080"/>
              <a:ext cx="730440" cy="66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76520" y="2774880"/>
              <a:ext cx="2655720" cy="66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76520" y="2575080"/>
              <a:ext cx="2057400" cy="66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733920" y="2565360"/>
            <a:ext cx="4409640" cy="3126960"/>
            <a:chOff x="3733920" y="2565360"/>
            <a:chExt cx="4409640" cy="3126960"/>
          </a:xfrm>
        </p:grpSpPr>
        <p:sp>
          <p:nvSpPr>
            <p:cNvPr id="517" name=""/>
            <p:cNvSpPr/>
            <p:nvPr/>
          </p:nvSpPr>
          <p:spPr>
            <a:xfrm>
              <a:off x="3733920" y="2565360"/>
              <a:ext cx="597240" cy="200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5725440" y="3966840"/>
              <a:ext cx="2418120" cy="172548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3336840" y="762120"/>
            <a:ext cx="5001840" cy="1736280"/>
            <a:chOff x="3336840" y="762120"/>
            <a:chExt cx="5001840" cy="1736280"/>
          </a:xfrm>
        </p:grpSpPr>
        <p:sp>
          <p:nvSpPr>
            <p:cNvPr id="520" name=""/>
            <p:cNvSpPr/>
            <p:nvPr/>
          </p:nvSpPr>
          <p:spPr>
            <a:xfrm>
              <a:off x="3336840" y="2231280"/>
              <a:ext cx="464760" cy="267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5195520" y="762120"/>
              <a:ext cx="3143160" cy="144000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3A7E-A242-492D-B7FA-8123039E0F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Data-Collection : Documen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527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36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537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8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540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541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3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2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564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570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9ADE-BCFE-4520-A52A-B5F8E3228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New Employee Route Card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4863960" cy="57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6045120" y="127080"/>
            <a:ext cx="34038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What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Where to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Who to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How to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In what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19920" y="4952880"/>
            <a:ext cx="3047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Multi-ling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NLP and G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CB55-EB39-4208-B4CB-D9DE987C49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Data-Collection : Reuse and other sourc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581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90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2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594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595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6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618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624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66996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')Reuse &amp;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43200" y="622440"/>
            <a:ext cx="609480" cy="609480"/>
          </a:xfrm>
          <a:custGeom>
            <a:avLst/>
            <a:gdLst>
              <a:gd name="textAreaLeft" fmla="*/ 184680 w 609480"/>
              <a:gd name="textAreaRight" fmla="*/ 543240 w 609480"/>
              <a:gd name="textAreaTop" fmla="*/ 419400 h 609480"/>
              <a:gd name="textAreaBottom" fmla="*/ 543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7055"/>
                </a:moveTo>
                <a:lnTo>
                  <a:pt x="6550" y="12510"/>
                </a:lnTo>
                <a:lnTo>
                  <a:pt x="6550" y="14860"/>
                </a:lnTo>
                <a:lnTo>
                  <a:pt x="14860" y="14860"/>
                </a:lnTo>
                <a:lnTo>
                  <a:pt x="14860" y="6550"/>
                </a:lnTo>
                <a:lnTo>
                  <a:pt x="12510" y="6550"/>
                </a:lnTo>
                <a:lnTo>
                  <a:pt x="17055" y="0"/>
                </a:lnTo>
                <a:lnTo>
                  <a:pt x="21600" y="6550"/>
                </a:lnTo>
                <a:lnTo>
                  <a:pt x="19250" y="6550"/>
                </a:lnTo>
                <a:lnTo>
                  <a:pt x="19250" y="19250"/>
                </a:lnTo>
                <a:lnTo>
                  <a:pt x="6550" y="19250"/>
                </a:lnTo>
                <a:lnTo>
                  <a:pt x="655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CB0D-BC75-4775-A341-2064D7C327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euse and other sourc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-10476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State of the Art and Reuse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nterprise Ontology (AIAI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OVE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yc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PME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GKAT &amp; WebKB top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Not automatically included (NLP Tools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Other source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Using Language” H.H. Clark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xpertise in semiotic (not in data-col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MIME: list electronic forma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Dublin Core: Initial global prop. of doc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Scenarios to prune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(r. ownership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Meta-dictionari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7008-79BA-4BFE-8642-A61CAF3B49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MMA : What is it ? What for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hat is it ?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IST Project - Funded by E. C.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ho ? &amp; Where ?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TOS - Origin (FR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SELT - Telecom Italia (IT) </a:t>
            </a:r>
            <a:r>
              <a:rPr b="0" i="1" lang="en-US" sz="2800" spc="-1" strike="noStrike">
                <a:solidFill>
                  <a:srgbClr val="000066"/>
                </a:solidFill>
                <a:latin typeface="Bookman Old Style"/>
              </a:rPr>
              <a:t>leaving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STB - (FR) </a:t>
            </a:r>
            <a:r>
              <a:rPr b="0" i="1" lang="en-US" sz="2800" spc="-1" strike="noStrike">
                <a:solidFill>
                  <a:srgbClr val="000066"/>
                </a:solidFill>
                <a:latin typeface="Bookman Old Style"/>
              </a:rPr>
              <a:t>joining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LIRMM - University of Montpellier (FR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-Nova - Deutsch Telekom (G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University of Parma (IT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CACIA Project- INRIA Sophia Antipolis (FR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hen ?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 February 2000 - February 2002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943E-A732-452F-990C-AA17C9A76C2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Formalizing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635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4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645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6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648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649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1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0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672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7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678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b) From semi-informal to semi-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682" name="" descr=""/>
            <p:cNvPicPr/>
            <p:nvPr/>
          </p:nvPicPr>
          <p:blipFill>
            <a:blip r:embed="rId6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83" name="" descr=""/>
            <p:cNvPicPr/>
            <p:nvPr/>
          </p:nvPicPr>
          <p:blipFill>
            <a:blip r:embed="rId7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84" name="" descr=""/>
            <p:cNvPicPr/>
            <p:nvPr/>
          </p:nvPicPr>
          <p:blipFill>
            <a:blip r:embed="rId8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686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2124000" y="1057320"/>
            <a:ext cx="619200" cy="466560"/>
            <a:chOff x="2124000" y="1057320"/>
            <a:chExt cx="619200" cy="466560"/>
          </a:xfrm>
        </p:grpSpPr>
        <p:sp>
          <p:nvSpPr>
            <p:cNvPr id="689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762120" y="69516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')Reuse &amp;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84C1-7091-4541-AACF-203BFD230E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andidate term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Proposition definitions (ac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Proposition extensions (in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Start &amp; Itera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erms and notion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Work on terms: synonymous/ambiguou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Formal Label (// Uschold &amp; Gruninger 96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Need for tools (NLP) &amp; terminological level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hree approache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op-Down / Bottom-Up / Middle-Ou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Level/Granularity &amp; interac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Three complementary perspectiv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59E6-A110-4616-8CCF-6C282E3C2D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440" y="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Structuring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xtended Aristotelian Principle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(Bachimont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Genus/Differentia/Semantic Axi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(Kassel et al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ttributes &amp; Constraint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(Guarino et Welty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Very good for the top / impossible on the whole ontology without assisting tool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ntinuum Informal </a:t>
            </a:r>
            <a:r>
              <a:rPr b="1" lang="en-US" sz="30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 Formal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extual (Informa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ables (semi-informal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semi-forma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RDF-RDFS (formal, use taxonomy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Process of enriching (terms &amp; Nat. Lang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802D-75D9-4B76-BC8B-7EC6A8F1D7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esult in RDF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701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0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711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12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714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715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7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6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738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744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b) From semi-informal to semi-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c) RD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750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1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2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3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754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757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124000" y="1057320"/>
            <a:ext cx="619200" cy="466560"/>
            <a:chOff x="2124000" y="1057320"/>
            <a:chExt cx="619200" cy="466560"/>
          </a:xfrm>
        </p:grpSpPr>
        <p:sp>
          <p:nvSpPr>
            <p:cNvPr id="760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762120" y="69516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')Reuse &amp;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9182-4328-4B64-8D4E-FF9E446E3E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esul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12520" y="-89280"/>
            <a:ext cx="83055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hree Layer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371600" y="914400"/>
            <a:ext cx="7772400" cy="3352680"/>
            <a:chOff x="1371600" y="914400"/>
            <a:chExt cx="7772400" cy="3352680"/>
          </a:xfrm>
        </p:grpSpPr>
        <p:sp>
          <p:nvSpPr>
            <p:cNvPr id="766" name=""/>
            <p:cNvSpPr/>
            <p:nvPr/>
          </p:nvSpPr>
          <p:spPr>
            <a:xfrm>
              <a:off x="5664240" y="914400"/>
              <a:ext cx="255276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811" y="36092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 : abs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97760" y="1903320"/>
              <a:ext cx="255240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768" y="29048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 : comm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08760" y="2887560"/>
              <a:ext cx="2235240" cy="73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136" y="14050"/>
                  </a:moveTo>
                  <a:lnTo>
                    <a:pt x="-736" y="3337"/>
                  </a:lnTo>
                </a:path>
                <a:path w="21600" h="21600">
                  <a:moveTo>
                    <a:pt x="-736" y="0"/>
                  </a:moveTo>
                  <a:lnTo>
                    <a:pt x="-736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ension: Speci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1371600" y="914400"/>
              <a:ext cx="5486400" cy="3352680"/>
              <a:chOff x="1371600" y="914400"/>
              <a:chExt cx="5486400" cy="3352680"/>
            </a:xfrm>
          </p:grpSpPr>
          <p:sp>
            <p:nvSpPr>
              <p:cNvPr id="770" name=""/>
              <p:cNvSpPr/>
              <p:nvPr/>
            </p:nvSpPr>
            <p:spPr>
              <a:xfrm>
                <a:off x="2273400" y="2971800"/>
                <a:ext cx="3657600" cy="228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225960" y="1905120"/>
                <a:ext cx="1752480" cy="228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225960" y="914400"/>
                <a:ext cx="1752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2273400" y="1980720"/>
                <a:ext cx="3657600" cy="990720"/>
              </a:xfrm>
              <a:custGeom>
                <a:avLst/>
                <a:gdLst>
                  <a:gd name="textAreaLeft" fmla="*/ 804240 w 3657600"/>
                  <a:gd name="textAreaRight" fmla="*/ 2853360 w 3657600"/>
                  <a:gd name="textAreaTop" fmla="*/ 217800 h 990720"/>
                  <a:gd name="textAreaBottom" fmla="*/ 7729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1371600" y="3060360"/>
                <a:ext cx="5486400" cy="914400"/>
              </a:xfrm>
              <a:custGeom>
                <a:avLst/>
                <a:gdLst>
                  <a:gd name="textAreaLeft" fmla="*/ 924840 w 5486400"/>
                  <a:gd name="textAreaRight" fmla="*/ 4561560 w 5486400"/>
                  <a:gd name="textAreaTop" fmla="*/ 154080 h 914400"/>
                  <a:gd name="textAreaBottom" fmla="*/ 7603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94" y="21600"/>
                    </a:lnTo>
                    <a:lnTo>
                      <a:pt x="3406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71600" y="3962520"/>
                <a:ext cx="548640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1478520" y="1981080"/>
            <a:ext cx="5303520" cy="2316600"/>
            <a:chOff x="1478520" y="1981080"/>
            <a:chExt cx="5303520" cy="2316600"/>
          </a:xfrm>
        </p:grpSpPr>
        <p:sp>
          <p:nvSpPr>
            <p:cNvPr id="777" name=""/>
            <p:cNvSpPr/>
            <p:nvPr/>
          </p:nvSpPr>
          <p:spPr>
            <a:xfrm>
              <a:off x="274320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3848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6272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743200" y="1981080"/>
              <a:ext cx="99072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495680" y="1981080"/>
              <a:ext cx="106704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038480" y="1981080"/>
              <a:ext cx="7632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78520" y="38988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86760" y="389880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18360" y="3898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79800" y="3898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380880" y="4267080"/>
            <a:ext cx="8763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op : reusable/not really usable ; co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Middle lay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Documentary corporate memory (r.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Domain Topics (r.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xtensions : usable/not really reu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92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~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400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concepts, ~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50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relations, 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12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04EB-02C8-4A98-8220-190C2491F5D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"/>
          <p:cNvGrpSpPr/>
          <p:nvPr/>
        </p:nvGrpSpPr>
        <p:grpSpPr>
          <a:xfrm>
            <a:off x="3517920" y="3089160"/>
            <a:ext cx="790560" cy="1273320"/>
            <a:chOff x="3517920" y="3089160"/>
            <a:chExt cx="790560" cy="1273320"/>
          </a:xfrm>
        </p:grpSpPr>
        <p:grpSp>
          <p:nvGrpSpPr>
            <p:cNvPr id="790" name=""/>
            <p:cNvGrpSpPr/>
            <p:nvPr/>
          </p:nvGrpSpPr>
          <p:grpSpPr>
            <a:xfrm>
              <a:off x="3517920" y="3089160"/>
              <a:ext cx="790560" cy="1122480"/>
              <a:chOff x="3517920" y="3089160"/>
              <a:chExt cx="790560" cy="1122480"/>
            </a:xfrm>
          </p:grpSpPr>
          <p:sp>
            <p:nvSpPr>
              <p:cNvPr id="791" name=""/>
              <p:cNvSpPr/>
              <p:nvPr/>
            </p:nvSpPr>
            <p:spPr>
              <a:xfrm>
                <a:off x="3517920" y="3668400"/>
                <a:ext cx="790560" cy="543240"/>
              </a:xfrm>
              <a:prstGeom prst="parallelogram">
                <a:avLst>
                  <a:gd name="adj" fmla="val 56385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3699000" y="3342600"/>
                <a:ext cx="289440" cy="5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4169520" y="3342600"/>
                <a:ext cx="72360" cy="57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3988800" y="3089160"/>
                <a:ext cx="14472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4242240" y="3089160"/>
                <a:ext cx="3600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4041720" y="4232160"/>
              <a:ext cx="19980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10040" y="4213080"/>
              <a:ext cx="3492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1962000" y="3103560"/>
            <a:ext cx="1003320" cy="1325520"/>
            <a:chOff x="1962000" y="3103560"/>
            <a:chExt cx="1003320" cy="1325520"/>
          </a:xfrm>
        </p:grpSpPr>
        <p:sp>
          <p:nvSpPr>
            <p:cNvPr id="799" name=""/>
            <p:cNvSpPr/>
            <p:nvPr/>
          </p:nvSpPr>
          <p:spPr>
            <a:xfrm>
              <a:off x="1962000" y="3646440"/>
              <a:ext cx="978120" cy="687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470320" y="3161880"/>
              <a:ext cx="180720" cy="18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831760" y="3103560"/>
              <a:ext cx="34920" cy="2541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65520" y="4299120"/>
              <a:ext cx="1998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22680" y="4284720"/>
              <a:ext cx="363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035080" y="3343320"/>
              <a:ext cx="435240" cy="47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66680" y="3357360"/>
              <a:ext cx="73080" cy="57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614680" y="3683160"/>
            <a:ext cx="2531520" cy="532800"/>
            <a:chOff x="2614680" y="3683160"/>
            <a:chExt cx="2531520" cy="532800"/>
          </a:xfrm>
        </p:grpSpPr>
        <p:grpSp>
          <p:nvGrpSpPr>
            <p:cNvPr id="807" name=""/>
            <p:cNvGrpSpPr/>
            <p:nvPr/>
          </p:nvGrpSpPr>
          <p:grpSpPr>
            <a:xfrm>
              <a:off x="2722320" y="4081320"/>
              <a:ext cx="647640" cy="129960"/>
              <a:chOff x="2722320" y="4081320"/>
              <a:chExt cx="647640" cy="12996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2722320" y="4089240"/>
                <a:ext cx="647640" cy="108360"/>
                <a:chOff x="2722320" y="4089240"/>
                <a:chExt cx="647640" cy="10836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2722320" y="4144320"/>
                  <a:ext cx="6476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908800" y="4089240"/>
                  <a:ext cx="25308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1" name=""/>
              <p:cNvSpPr/>
              <p:nvPr/>
            </p:nvSpPr>
            <p:spPr>
              <a:xfrm>
                <a:off x="2977920" y="4081320"/>
                <a:ext cx="174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3295440" y="4086000"/>
              <a:ext cx="253800" cy="129960"/>
              <a:chOff x="3295440" y="4086000"/>
              <a:chExt cx="253800" cy="129960"/>
            </a:xfrm>
          </p:grpSpPr>
          <p:sp>
            <p:nvSpPr>
              <p:cNvPr id="813" name=""/>
              <p:cNvSpPr/>
              <p:nvPr/>
            </p:nvSpPr>
            <p:spPr>
              <a:xfrm>
                <a:off x="3295440" y="4094640"/>
                <a:ext cx="253800" cy="100800"/>
              </a:xfrm>
              <a:prstGeom prst="parallelogram">
                <a:avLst>
                  <a:gd name="adj" fmla="val 6294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365280" y="4086000"/>
                <a:ext cx="183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060800" y="4081320"/>
              <a:ext cx="253440" cy="129960"/>
              <a:chOff x="4060800" y="4081320"/>
              <a:chExt cx="253440" cy="129960"/>
            </a:xfrm>
          </p:grpSpPr>
          <p:sp>
            <p:nvSpPr>
              <p:cNvPr id="816" name=""/>
              <p:cNvSpPr/>
              <p:nvPr/>
            </p:nvSpPr>
            <p:spPr>
              <a:xfrm>
                <a:off x="4060800" y="4089960"/>
                <a:ext cx="253440" cy="100800"/>
              </a:xfrm>
              <a:prstGeom prst="parallelogram">
                <a:avLst>
                  <a:gd name="adj" fmla="val 6285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130640" y="4081320"/>
                <a:ext cx="18360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3483000" y="4081320"/>
              <a:ext cx="647280" cy="129960"/>
              <a:chOff x="3483000" y="4081320"/>
              <a:chExt cx="647280" cy="1299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3483000" y="4089240"/>
                <a:ext cx="647280" cy="108360"/>
                <a:chOff x="3483000" y="4089240"/>
                <a:chExt cx="647280" cy="10836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483000" y="4144320"/>
                  <a:ext cx="647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669480" y="4089240"/>
                  <a:ext cx="25308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2" name=""/>
              <p:cNvSpPr/>
              <p:nvPr/>
            </p:nvSpPr>
            <p:spPr>
              <a:xfrm>
                <a:off x="3738600" y="4081320"/>
                <a:ext cx="174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614680" y="3873600"/>
              <a:ext cx="1012680" cy="129600"/>
              <a:chOff x="2614680" y="3873600"/>
              <a:chExt cx="1012680" cy="1296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614680" y="3881520"/>
                <a:ext cx="1012680" cy="108000"/>
                <a:chOff x="2614680" y="3881520"/>
                <a:chExt cx="1012680" cy="1080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2614680" y="3940200"/>
                  <a:ext cx="10126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981880" y="3881520"/>
                  <a:ext cx="25308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>
                <a:off x="3051000" y="3873600"/>
                <a:ext cx="17496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3413160" y="3878280"/>
              <a:ext cx="252000" cy="129600"/>
              <a:chOff x="3413160" y="3878280"/>
              <a:chExt cx="252000" cy="129600"/>
            </a:xfrm>
          </p:grpSpPr>
          <p:sp>
            <p:nvSpPr>
              <p:cNvPr id="829" name=""/>
              <p:cNvSpPr/>
              <p:nvPr/>
            </p:nvSpPr>
            <p:spPr>
              <a:xfrm>
                <a:off x="3413160" y="3886920"/>
                <a:ext cx="252000" cy="100440"/>
              </a:xfrm>
              <a:prstGeom prst="parallelogram">
                <a:avLst>
                  <a:gd name="adj" fmla="val 62724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82640" y="3878280"/>
                <a:ext cx="18252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4165560" y="3884400"/>
              <a:ext cx="252000" cy="129960"/>
              <a:chOff x="4165560" y="3884400"/>
              <a:chExt cx="252000" cy="129960"/>
            </a:xfrm>
          </p:grpSpPr>
          <p:sp>
            <p:nvSpPr>
              <p:cNvPr id="832" name=""/>
              <p:cNvSpPr/>
              <p:nvPr/>
            </p:nvSpPr>
            <p:spPr>
              <a:xfrm>
                <a:off x="4165560" y="3893040"/>
                <a:ext cx="252000" cy="100800"/>
              </a:xfrm>
              <a:prstGeom prst="parallelogram">
                <a:avLst>
                  <a:gd name="adj" fmla="val 625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235040" y="3884400"/>
                <a:ext cx="1825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3590640" y="3878280"/>
              <a:ext cx="647640" cy="129600"/>
              <a:chOff x="3590640" y="3878280"/>
              <a:chExt cx="647640" cy="12960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3590640" y="3886200"/>
                <a:ext cx="647640" cy="108000"/>
                <a:chOff x="3590640" y="3886200"/>
                <a:chExt cx="647640" cy="1080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590640" y="3941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777120" y="3886200"/>
                  <a:ext cx="25308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8" name=""/>
              <p:cNvSpPr/>
              <p:nvPr/>
            </p:nvSpPr>
            <p:spPr>
              <a:xfrm>
                <a:off x="3846240" y="3878280"/>
                <a:ext cx="17496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590640" y="3683160"/>
              <a:ext cx="924840" cy="225000"/>
              <a:chOff x="3590640" y="3683160"/>
              <a:chExt cx="924840" cy="22500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4262400" y="3687840"/>
                <a:ext cx="253080" cy="129600"/>
                <a:chOff x="4262400" y="3687840"/>
                <a:chExt cx="253080" cy="12960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4262400" y="3696480"/>
                  <a:ext cx="253080" cy="100440"/>
                </a:xfrm>
                <a:prstGeom prst="parallelogram">
                  <a:avLst>
                    <a:gd name="adj" fmla="val 62993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332240" y="3687840"/>
                  <a:ext cx="18324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3590640" y="3683160"/>
                <a:ext cx="757440" cy="225000"/>
                <a:chOff x="3590640" y="3683160"/>
                <a:chExt cx="757440" cy="2250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3880080" y="3683160"/>
                  <a:ext cx="17496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3590640" y="3691080"/>
                  <a:ext cx="757440" cy="217080"/>
                  <a:chOff x="3590640" y="3691080"/>
                  <a:chExt cx="757440" cy="21708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V="1">
                    <a:off x="3590640" y="3718800"/>
                    <a:ext cx="289440" cy="18936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810600" y="3691080"/>
                    <a:ext cx="253080" cy="108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4022640" y="3749760"/>
                    <a:ext cx="3254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49" name=""/>
            <p:cNvGrpSpPr/>
            <p:nvPr/>
          </p:nvGrpSpPr>
          <p:grpSpPr>
            <a:xfrm>
              <a:off x="4894200" y="3878280"/>
              <a:ext cx="252000" cy="129600"/>
              <a:chOff x="4894200" y="3878280"/>
              <a:chExt cx="252000" cy="129600"/>
            </a:xfrm>
          </p:grpSpPr>
          <p:sp>
            <p:nvSpPr>
              <p:cNvPr id="850" name=""/>
              <p:cNvSpPr/>
              <p:nvPr/>
            </p:nvSpPr>
            <p:spPr>
              <a:xfrm>
                <a:off x="4894200" y="3886920"/>
                <a:ext cx="252000" cy="100440"/>
              </a:xfrm>
              <a:prstGeom prst="parallelogram">
                <a:avLst>
                  <a:gd name="adj" fmla="val 62724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63680" y="3878280"/>
                <a:ext cx="18252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314600" y="3878280"/>
              <a:ext cx="647280" cy="129600"/>
              <a:chOff x="4314600" y="3878280"/>
              <a:chExt cx="647280" cy="12960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4314600" y="3886200"/>
                <a:ext cx="647280" cy="108000"/>
                <a:chOff x="4314600" y="3886200"/>
                <a:chExt cx="647280" cy="1080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314600" y="3941280"/>
                  <a:ext cx="647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501080" y="3886200"/>
                  <a:ext cx="25308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4570200" y="3878280"/>
                <a:ext cx="17496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1419120" y="3697200"/>
            <a:ext cx="1376640" cy="550800"/>
            <a:chOff x="1419120" y="3697200"/>
            <a:chExt cx="1376640" cy="550800"/>
          </a:xfrm>
        </p:grpSpPr>
        <p:grpSp>
          <p:nvGrpSpPr>
            <p:cNvPr id="858" name=""/>
            <p:cNvGrpSpPr/>
            <p:nvPr/>
          </p:nvGrpSpPr>
          <p:grpSpPr>
            <a:xfrm>
              <a:off x="1419120" y="3827520"/>
              <a:ext cx="254160" cy="129960"/>
              <a:chOff x="1419120" y="3827520"/>
              <a:chExt cx="254160" cy="129960"/>
            </a:xfrm>
          </p:grpSpPr>
          <p:sp>
            <p:nvSpPr>
              <p:cNvPr id="859" name=""/>
              <p:cNvSpPr/>
              <p:nvPr/>
            </p:nvSpPr>
            <p:spPr>
              <a:xfrm>
                <a:off x="1419120" y="3836160"/>
                <a:ext cx="254160" cy="100800"/>
              </a:xfrm>
              <a:prstGeom prst="parallelogram">
                <a:avLst>
                  <a:gd name="adj" fmla="val 6303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488960" y="3827520"/>
                <a:ext cx="183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2360520" y="3697200"/>
              <a:ext cx="254160" cy="130320"/>
              <a:chOff x="2360520" y="3697200"/>
              <a:chExt cx="254160" cy="130320"/>
            </a:xfrm>
          </p:grpSpPr>
          <p:sp>
            <p:nvSpPr>
              <p:cNvPr id="862" name=""/>
              <p:cNvSpPr/>
              <p:nvPr/>
            </p:nvSpPr>
            <p:spPr>
              <a:xfrm>
                <a:off x="2360520" y="3705840"/>
                <a:ext cx="254160" cy="101160"/>
              </a:xfrm>
              <a:prstGeom prst="parallelogram">
                <a:avLst>
                  <a:gd name="adj" fmla="val 62811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30360" y="3697200"/>
                <a:ext cx="1839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2179800" y="4118040"/>
              <a:ext cx="253800" cy="129960"/>
              <a:chOff x="2179800" y="4118040"/>
              <a:chExt cx="253800" cy="129960"/>
            </a:xfrm>
          </p:grpSpPr>
          <p:sp>
            <p:nvSpPr>
              <p:cNvPr id="865" name=""/>
              <p:cNvSpPr/>
              <p:nvPr/>
            </p:nvSpPr>
            <p:spPr>
              <a:xfrm>
                <a:off x="2179800" y="4126680"/>
                <a:ext cx="253800" cy="100800"/>
              </a:xfrm>
              <a:prstGeom prst="parallelogram">
                <a:avLst>
                  <a:gd name="adj" fmla="val 6294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49640" y="4118040"/>
                <a:ext cx="183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035080" y="3827520"/>
              <a:ext cx="252360" cy="129960"/>
              <a:chOff x="2035080" y="3827520"/>
              <a:chExt cx="252360" cy="129960"/>
            </a:xfrm>
          </p:grpSpPr>
          <p:sp>
            <p:nvSpPr>
              <p:cNvPr id="868" name=""/>
              <p:cNvSpPr/>
              <p:nvPr/>
            </p:nvSpPr>
            <p:spPr>
              <a:xfrm>
                <a:off x="2035080" y="3836160"/>
                <a:ext cx="252360" cy="100800"/>
              </a:xfrm>
              <a:prstGeom prst="parallelogram">
                <a:avLst>
                  <a:gd name="adj" fmla="val 62589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104560" y="3827520"/>
                <a:ext cx="1828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2541600" y="4081320"/>
              <a:ext cx="254160" cy="130320"/>
              <a:chOff x="2541600" y="4081320"/>
              <a:chExt cx="254160" cy="130320"/>
            </a:xfrm>
          </p:grpSpPr>
          <p:sp>
            <p:nvSpPr>
              <p:cNvPr id="871" name=""/>
              <p:cNvSpPr/>
              <p:nvPr/>
            </p:nvSpPr>
            <p:spPr>
              <a:xfrm>
                <a:off x="2541600" y="4089960"/>
                <a:ext cx="254160" cy="101160"/>
              </a:xfrm>
              <a:prstGeom prst="parallelogram">
                <a:avLst>
                  <a:gd name="adj" fmla="val 62811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11440" y="4081320"/>
                <a:ext cx="1839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2433600" y="3878280"/>
              <a:ext cx="252360" cy="130320"/>
              <a:chOff x="2433600" y="3878280"/>
              <a:chExt cx="252360" cy="130320"/>
            </a:xfrm>
          </p:grpSpPr>
          <p:sp>
            <p:nvSpPr>
              <p:cNvPr id="874" name=""/>
              <p:cNvSpPr/>
              <p:nvPr/>
            </p:nvSpPr>
            <p:spPr>
              <a:xfrm>
                <a:off x="2433600" y="3886920"/>
                <a:ext cx="252360" cy="101160"/>
              </a:xfrm>
              <a:prstGeom prst="parallelogram">
                <a:avLst>
                  <a:gd name="adj" fmla="val 6236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503080" y="3878280"/>
                <a:ext cx="1828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hree-Layer Sche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762120" y="3610080"/>
            <a:ext cx="4333680" cy="1658880"/>
            <a:chOff x="762120" y="3610080"/>
            <a:chExt cx="4333680" cy="1658880"/>
          </a:xfrm>
        </p:grpSpPr>
        <p:sp>
          <p:nvSpPr>
            <p:cNvPr id="878" name=""/>
            <p:cNvSpPr/>
            <p:nvPr/>
          </p:nvSpPr>
          <p:spPr>
            <a:xfrm>
              <a:off x="762120" y="4797360"/>
              <a:ext cx="43336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Memo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E-Mail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995400" y="3610080"/>
              <a:ext cx="1653480" cy="1446120"/>
              <a:chOff x="995400" y="3610080"/>
              <a:chExt cx="1653480" cy="1446120"/>
            </a:xfrm>
          </p:grpSpPr>
          <p:grpSp>
            <p:nvGrpSpPr>
              <p:cNvPr id="880" name=""/>
              <p:cNvGrpSpPr/>
              <p:nvPr/>
            </p:nvGrpSpPr>
            <p:grpSpPr>
              <a:xfrm>
                <a:off x="1600200" y="3610080"/>
                <a:ext cx="1048680" cy="1446120"/>
                <a:chOff x="1600200" y="3610080"/>
                <a:chExt cx="1048680" cy="1446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1600200" y="3610080"/>
                  <a:ext cx="288720" cy="10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790640" y="3717720"/>
                  <a:ext cx="63360" cy="32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1853640" y="4041720"/>
                  <a:ext cx="795240" cy="79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854000" y="4041720"/>
                  <a:ext cx="650880" cy="10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995400" y="4614840"/>
                <a:ext cx="15192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Multi-Instanci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762120" y="5408640"/>
            <a:ext cx="822312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870120" y="5445000"/>
            <a:ext cx="6116400" cy="579600"/>
            <a:chOff x="870120" y="5445000"/>
            <a:chExt cx="6116400" cy="579600"/>
          </a:xfrm>
        </p:grpSpPr>
        <p:grpSp>
          <p:nvGrpSpPr>
            <p:cNvPr id="888" name=""/>
            <p:cNvGrpSpPr/>
            <p:nvPr/>
          </p:nvGrpSpPr>
          <p:grpSpPr>
            <a:xfrm>
              <a:off x="870120" y="5445000"/>
              <a:ext cx="869400" cy="288720"/>
              <a:chOff x="870120" y="5445000"/>
              <a:chExt cx="869400" cy="28872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870120" y="5516280"/>
                <a:ext cx="253800" cy="141840"/>
                <a:chOff x="870120" y="5516280"/>
                <a:chExt cx="253800" cy="14184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870120" y="5525640"/>
                  <a:ext cx="253800" cy="132480"/>
                  <a:chOff x="870120" y="5525640"/>
                  <a:chExt cx="253800" cy="13248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976680" y="5548680"/>
                    <a:ext cx="104400" cy="76680"/>
                  </a:xfrm>
                  <a:prstGeom prst="foldedCorner">
                    <a:avLst>
                      <a:gd name="adj" fmla="val 4460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067760" y="5530680"/>
                    <a:ext cx="2196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970560" y="5529960"/>
                    <a:ext cx="11700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942480" y="5581080"/>
                    <a:ext cx="78120" cy="4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870120" y="5525640"/>
                    <a:ext cx="253800" cy="98640"/>
                  </a:xfrm>
                  <a:prstGeom prst="parallelogram">
                    <a:avLst>
                      <a:gd name="adj" fmla="val 64325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1037880" y="562320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076040" y="559728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rot="19207200">
                    <a:off x="1037520" y="5603760"/>
                    <a:ext cx="78120" cy="32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9" name=""/>
                <p:cNvSpPr/>
                <p:nvPr/>
              </p:nvSpPr>
              <p:spPr>
                <a:xfrm>
                  <a:off x="923400" y="5516280"/>
                  <a:ext cx="200520" cy="13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>
                <a:off x="1087200" y="5445000"/>
                <a:ext cx="652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A te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2933640" y="5445000"/>
              <a:ext cx="1773000" cy="217440"/>
              <a:chOff x="2933640" y="5445000"/>
              <a:chExt cx="1773000" cy="21744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2933640" y="5526000"/>
                <a:ext cx="252360" cy="129960"/>
                <a:chOff x="2933640" y="5526000"/>
                <a:chExt cx="252360" cy="1299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2933640" y="5532840"/>
                  <a:ext cx="252360" cy="100800"/>
                </a:xfrm>
                <a:prstGeom prst="parallelogram">
                  <a:avLst>
                    <a:gd name="adj" fmla="val 62589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995560" y="5526000"/>
                  <a:ext cx="184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>
                <a:off x="3151080" y="544500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of the concept C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2897280" y="5807160"/>
              <a:ext cx="1809720" cy="217440"/>
              <a:chOff x="2897280" y="5807160"/>
              <a:chExt cx="1809720" cy="217440"/>
            </a:xfrm>
          </p:grpSpPr>
          <p:grpSp>
            <p:nvGrpSpPr>
              <p:cNvPr id="907" name=""/>
              <p:cNvGrpSpPr/>
              <p:nvPr/>
            </p:nvGrpSpPr>
            <p:grpSpPr>
              <a:xfrm>
                <a:off x="2897280" y="5864400"/>
                <a:ext cx="254160" cy="129960"/>
                <a:chOff x="2897280" y="5864400"/>
                <a:chExt cx="254160" cy="12996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2897280" y="5873040"/>
                  <a:ext cx="254160" cy="100800"/>
                </a:xfrm>
                <a:prstGeom prst="parallelogram">
                  <a:avLst>
                    <a:gd name="adj" fmla="val 63036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967120" y="5864400"/>
                  <a:ext cx="183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>
                <a:off x="3151440" y="580716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concep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19680" y="5445000"/>
              <a:ext cx="2166840" cy="217440"/>
              <a:chOff x="4819680" y="5445000"/>
              <a:chExt cx="2166840" cy="21744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19680" y="5516280"/>
                <a:ext cx="642600" cy="130320"/>
                <a:chOff x="4819680" y="5516280"/>
                <a:chExt cx="642600" cy="13032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4819680" y="5522400"/>
                  <a:ext cx="642600" cy="108720"/>
                  <a:chOff x="4819680" y="5522400"/>
                  <a:chExt cx="642600" cy="10872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4896720" y="5577840"/>
                    <a:ext cx="4698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819680" y="553752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013000" y="5522400"/>
                    <a:ext cx="252720" cy="10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5281920" y="5537520"/>
                    <a:ext cx="180360" cy="72360"/>
                  </a:xfrm>
                  <a:prstGeom prst="parallelogram">
                    <a:avLst>
                      <a:gd name="adj" fmla="val 6231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8" name=""/>
                <p:cNvSpPr/>
                <p:nvPr/>
              </p:nvSpPr>
              <p:spPr>
                <a:xfrm>
                  <a:off x="5086080" y="551628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" name=""/>
              <p:cNvSpPr/>
              <p:nvPr/>
            </p:nvSpPr>
            <p:spPr>
              <a:xfrm>
                <a:off x="5430600" y="544500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of the relation R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4819680" y="5807160"/>
              <a:ext cx="2166840" cy="217440"/>
              <a:chOff x="4819680" y="5807160"/>
              <a:chExt cx="2166840" cy="21744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4819680" y="5880240"/>
                <a:ext cx="647640" cy="130320"/>
                <a:chOff x="4819680" y="5880240"/>
                <a:chExt cx="647640" cy="130320"/>
              </a:xfrm>
            </p:grpSpPr>
            <p:grpSp>
              <p:nvGrpSpPr>
                <p:cNvPr id="922" name=""/>
                <p:cNvGrpSpPr/>
                <p:nvPr/>
              </p:nvGrpSpPr>
              <p:grpSpPr>
                <a:xfrm>
                  <a:off x="4819680" y="5888160"/>
                  <a:ext cx="647640" cy="108720"/>
                  <a:chOff x="4819680" y="5888160"/>
                  <a:chExt cx="647640" cy="10872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>
                    <a:off x="4819680" y="5943600"/>
                    <a:ext cx="6476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006160" y="5888160"/>
                    <a:ext cx="253080" cy="1087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>
                  <a:off x="5075280" y="588024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>
                <a:off x="5430600" y="580716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7" name=""/>
          <p:cNvGrpSpPr/>
          <p:nvPr/>
        </p:nvGrpSpPr>
        <p:grpSpPr>
          <a:xfrm>
            <a:off x="7240680" y="5445000"/>
            <a:ext cx="1751040" cy="252360"/>
            <a:chOff x="7240680" y="5445000"/>
            <a:chExt cx="1751040" cy="252360"/>
          </a:xfrm>
        </p:grpSpPr>
        <p:sp>
          <p:nvSpPr>
            <p:cNvPr id="928" name=""/>
            <p:cNvSpPr/>
            <p:nvPr/>
          </p:nvSpPr>
          <p:spPr>
            <a:xfrm>
              <a:off x="7240680" y="5629320"/>
              <a:ext cx="127080" cy="52200"/>
            </a:xfrm>
            <a:prstGeom prst="parallelogram">
              <a:avLst>
                <a:gd name="adj" fmla="val 60862"/>
              </a:avLst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05840" y="55022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50040" y="5484960"/>
              <a:ext cx="127080" cy="54000"/>
            </a:xfrm>
            <a:prstGeom prst="parallelogram">
              <a:avLst>
                <a:gd name="adj" fmla="val 58833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86560" y="5626080"/>
              <a:ext cx="144720" cy="7128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58200" y="55022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86560" y="5481720"/>
              <a:ext cx="1447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37400" y="5445000"/>
              <a:ext cx="1354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Instanciation lin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7167600" y="5726160"/>
            <a:ext cx="1900080" cy="446040"/>
            <a:chOff x="7167600" y="5726160"/>
            <a:chExt cx="1900080" cy="446040"/>
          </a:xfrm>
        </p:grpSpPr>
        <p:sp>
          <p:nvSpPr>
            <p:cNvPr id="936" name=""/>
            <p:cNvSpPr/>
            <p:nvPr/>
          </p:nvSpPr>
          <p:spPr>
            <a:xfrm>
              <a:off x="7643880" y="5726160"/>
              <a:ext cx="142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Extension of concept C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or relation R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7167600" y="5824440"/>
              <a:ext cx="417240" cy="252360"/>
              <a:chOff x="7167600" y="5824440"/>
              <a:chExt cx="417240" cy="252360"/>
            </a:xfrm>
          </p:grpSpPr>
          <p:sp>
            <p:nvSpPr>
              <p:cNvPr id="938" name=""/>
              <p:cNvSpPr/>
              <p:nvPr/>
            </p:nvSpPr>
            <p:spPr>
              <a:xfrm>
                <a:off x="7329240" y="5946480"/>
                <a:ext cx="2001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286400" y="5932080"/>
                <a:ext cx="3672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167600" y="5824440"/>
                <a:ext cx="144360" cy="1378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48480" y="5946480"/>
                <a:ext cx="3636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7456320" y="5821200"/>
              <a:ext cx="325440" cy="274680"/>
              <a:chOff x="7456320" y="5821200"/>
              <a:chExt cx="325440" cy="274680"/>
            </a:xfrm>
          </p:grpSpPr>
          <p:sp>
            <p:nvSpPr>
              <p:cNvPr id="943" name=""/>
              <p:cNvSpPr/>
              <p:nvPr/>
            </p:nvSpPr>
            <p:spPr>
              <a:xfrm>
                <a:off x="7581960" y="5965560"/>
                <a:ext cx="1998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456320" y="5821200"/>
                <a:ext cx="181080" cy="144360"/>
              </a:xfrm>
              <a:prstGeom prst="parallelogram">
                <a:avLst>
                  <a:gd name="adj" fmla="val 48601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1709640" y="1479600"/>
            <a:ext cx="2387520" cy="556560"/>
            <a:chOff x="1709640" y="1479600"/>
            <a:chExt cx="2387520" cy="556560"/>
          </a:xfrm>
        </p:grpSpPr>
        <p:grpSp>
          <p:nvGrpSpPr>
            <p:cNvPr id="946" name=""/>
            <p:cNvGrpSpPr/>
            <p:nvPr/>
          </p:nvGrpSpPr>
          <p:grpSpPr>
            <a:xfrm>
              <a:off x="1709640" y="1690560"/>
              <a:ext cx="252360" cy="141840"/>
              <a:chOff x="1709640" y="1690560"/>
              <a:chExt cx="252360" cy="14184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1709640" y="1699920"/>
                <a:ext cx="252360" cy="132480"/>
                <a:chOff x="1709640" y="1699920"/>
                <a:chExt cx="252360" cy="13248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1815840" y="1722960"/>
                  <a:ext cx="10368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906200" y="170496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809360" y="170424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781640" y="1755360"/>
                  <a:ext cx="777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709640" y="1699920"/>
                  <a:ext cx="252360" cy="98640"/>
                </a:xfrm>
                <a:prstGeom prst="parallelogram">
                  <a:avLst>
                    <a:gd name="adj" fmla="val 63960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876680" y="179748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914480" y="177156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19207200">
                  <a:off x="1876680" y="177840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" name=""/>
              <p:cNvSpPr/>
              <p:nvPr/>
            </p:nvSpPr>
            <p:spPr>
              <a:xfrm>
                <a:off x="1762560" y="1690560"/>
                <a:ext cx="19944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2216160" y="1479600"/>
              <a:ext cx="252360" cy="141840"/>
              <a:chOff x="2216160" y="1479600"/>
              <a:chExt cx="252360" cy="141840"/>
            </a:xfrm>
          </p:grpSpPr>
          <p:grpSp>
            <p:nvGrpSpPr>
              <p:cNvPr id="958" name=""/>
              <p:cNvGrpSpPr/>
              <p:nvPr/>
            </p:nvGrpSpPr>
            <p:grpSpPr>
              <a:xfrm>
                <a:off x="2216160" y="1488960"/>
                <a:ext cx="252360" cy="132480"/>
                <a:chOff x="2216160" y="1488960"/>
                <a:chExt cx="252360" cy="13248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2322360" y="1512000"/>
                  <a:ext cx="10368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412720" y="149400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315880" y="149328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288160" y="1544400"/>
                  <a:ext cx="777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216160" y="1488960"/>
                  <a:ext cx="252360" cy="98640"/>
                </a:xfrm>
                <a:prstGeom prst="parallelogram">
                  <a:avLst>
                    <a:gd name="adj" fmla="val 63960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383200" y="158652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421000" y="156060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19207200">
                  <a:off x="2383200" y="156744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9080" y="1479600"/>
                <a:ext cx="19944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844800" y="1509480"/>
              <a:ext cx="252360" cy="142560"/>
              <a:chOff x="3844800" y="1509480"/>
              <a:chExt cx="252360" cy="14256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844800" y="1519200"/>
                <a:ext cx="252360" cy="132840"/>
                <a:chOff x="3844800" y="1519200"/>
                <a:chExt cx="252360" cy="13284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951000" y="1542240"/>
                  <a:ext cx="103680" cy="7704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041360" y="1524240"/>
                  <a:ext cx="21960" cy="5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944520" y="152352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916800" y="1574640"/>
                  <a:ext cx="77760" cy="4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844800" y="1519200"/>
                  <a:ext cx="252360" cy="99000"/>
                </a:xfrm>
                <a:prstGeom prst="parallelogram">
                  <a:avLst>
                    <a:gd name="adj" fmla="val 6372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4011840" y="161712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4049640" y="159084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19207200">
                  <a:off x="4011840" y="159804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3897720" y="1509480"/>
                <a:ext cx="199440" cy="1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2360520" y="1871640"/>
              <a:ext cx="253800" cy="141840"/>
              <a:chOff x="2360520" y="1871640"/>
              <a:chExt cx="253800" cy="14184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2360520" y="1881000"/>
                <a:ext cx="253800" cy="132480"/>
                <a:chOff x="2360520" y="1881000"/>
                <a:chExt cx="253800" cy="1324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2467080" y="1904040"/>
                  <a:ext cx="10440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558160" y="188604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460960" y="1885320"/>
                  <a:ext cx="11700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432880" y="1936440"/>
                  <a:ext cx="7812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360520" y="1881000"/>
                  <a:ext cx="253800" cy="98640"/>
                </a:xfrm>
                <a:prstGeom prst="parallelogram">
                  <a:avLst>
                    <a:gd name="adj" fmla="val 64325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528280" y="197856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566440" y="195264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9207200">
                  <a:off x="2527920" y="1959120"/>
                  <a:ext cx="7812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>
                <a:off x="2413800" y="1871640"/>
                <a:ext cx="20052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3735360" y="1895400"/>
              <a:ext cx="253800" cy="140760"/>
              <a:chOff x="3735360" y="1895400"/>
              <a:chExt cx="253800" cy="14076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735360" y="1904760"/>
                <a:ext cx="253800" cy="131400"/>
                <a:chOff x="3735360" y="1904760"/>
                <a:chExt cx="253800" cy="1314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841920" y="1927440"/>
                  <a:ext cx="104400" cy="7596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933000" y="1909800"/>
                  <a:ext cx="2196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835800" y="1909080"/>
                  <a:ext cx="11700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07720" y="1959480"/>
                  <a:ext cx="7812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735360" y="1904760"/>
                  <a:ext cx="253800" cy="97560"/>
                </a:xfrm>
                <a:prstGeom prst="parallelogram">
                  <a:avLst>
                    <a:gd name="adj" fmla="val 6503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903120" y="2001240"/>
                  <a:ext cx="417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941280" y="1975680"/>
                  <a:ext cx="417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19207200">
                  <a:off x="3902760" y="1982160"/>
                  <a:ext cx="7812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3788640" y="1895400"/>
                <a:ext cx="2005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579960" y="1085040"/>
            <a:ext cx="4964760" cy="3358080"/>
            <a:chOff x="579960" y="1085040"/>
            <a:chExt cx="4964760" cy="3358080"/>
          </a:xfrm>
        </p:grpSpPr>
        <p:grpSp>
          <p:nvGrpSpPr>
            <p:cNvPr id="1002" name=""/>
            <p:cNvGrpSpPr/>
            <p:nvPr/>
          </p:nvGrpSpPr>
          <p:grpSpPr>
            <a:xfrm>
              <a:off x="768240" y="2342880"/>
              <a:ext cx="4740120" cy="1014480"/>
              <a:chOff x="768240" y="2342880"/>
              <a:chExt cx="4740120" cy="1014480"/>
            </a:xfrm>
          </p:grpSpPr>
          <p:sp>
            <p:nvSpPr>
              <p:cNvPr id="1003" name=""/>
              <p:cNvSpPr/>
              <p:nvPr/>
            </p:nvSpPr>
            <p:spPr>
              <a:xfrm flipH="1">
                <a:off x="768240" y="2523960"/>
                <a:ext cx="54288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1310760" y="234288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768240" y="3357360"/>
                <a:ext cx="4595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5291280" y="335736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768240" y="1184040"/>
              <a:ext cx="4740120" cy="1014480"/>
              <a:chOff x="768240" y="1184040"/>
              <a:chExt cx="4740120" cy="1014480"/>
            </a:xfrm>
          </p:grpSpPr>
          <p:sp>
            <p:nvSpPr>
              <p:cNvPr id="1008" name=""/>
              <p:cNvSpPr/>
              <p:nvPr/>
            </p:nvSpPr>
            <p:spPr>
              <a:xfrm flipH="1">
                <a:off x="768240" y="1365120"/>
                <a:ext cx="54288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1310760" y="118404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768240" y="2198520"/>
                <a:ext cx="4595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5291280" y="219852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804600" y="3429000"/>
              <a:ext cx="4740120" cy="1014120"/>
              <a:chOff x="804600" y="3429000"/>
              <a:chExt cx="4740120" cy="1014120"/>
            </a:xfrm>
          </p:grpSpPr>
          <p:sp>
            <p:nvSpPr>
              <p:cNvPr id="1013" name=""/>
              <p:cNvSpPr/>
              <p:nvPr/>
            </p:nvSpPr>
            <p:spPr>
              <a:xfrm flipH="1">
                <a:off x="804600" y="3610080"/>
                <a:ext cx="542520" cy="833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1347120" y="342900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804600" y="4443120"/>
                <a:ext cx="4595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5327640" y="444312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 txBox="1"/>
            <p:nvPr/>
          </p:nvSpPr>
          <p:spPr>
            <a:xfrm rot="18167400">
              <a:off x="386640" y="1546560"/>
              <a:ext cx="120636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erminologic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 rot="18167400">
              <a:off x="430920" y="2750040"/>
              <a:ext cx="11109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In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 rot="18167400">
              <a:off x="452520" y="3828600"/>
              <a:ext cx="1152360" cy="12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Ex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533520" y="-76320"/>
            <a:ext cx="4952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Appropriateness</a:t>
            </a:r>
            <a:br>
              <a:rPr sz="3000"/>
            </a:b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of RDFS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564920" y="3103560"/>
            <a:ext cx="2641680" cy="1085760"/>
            <a:chOff x="1564920" y="3103560"/>
            <a:chExt cx="2641680" cy="1085760"/>
          </a:xfrm>
        </p:grpSpPr>
        <p:sp>
          <p:nvSpPr>
            <p:cNvPr id="1022" name=""/>
            <p:cNvSpPr/>
            <p:nvPr/>
          </p:nvSpPr>
          <p:spPr>
            <a:xfrm flipH="1">
              <a:off x="2181240" y="3352680"/>
              <a:ext cx="40968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87680" y="3124080"/>
              <a:ext cx="155520" cy="23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469960" y="3357720"/>
              <a:ext cx="215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685600" y="3139920"/>
              <a:ext cx="10980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323800" y="3357720"/>
              <a:ext cx="39852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2722680" y="3103560"/>
              <a:ext cx="109440" cy="254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577600" y="3357720"/>
              <a:ext cx="1810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758680" y="3139920"/>
              <a:ext cx="7308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651040" y="3357720"/>
              <a:ext cx="14472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2795400" y="3139920"/>
              <a:ext cx="3636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3373560" y="3139920"/>
              <a:ext cx="10944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1565280" y="3355920"/>
              <a:ext cx="3254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1890720" y="3174840"/>
              <a:ext cx="10800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1564920" y="3355920"/>
              <a:ext cx="6145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2179800" y="3174840"/>
              <a:ext cx="21744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3952440" y="3355920"/>
              <a:ext cx="144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096800" y="3174840"/>
              <a:ext cx="730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3916440" y="3343320"/>
              <a:ext cx="21744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4133520" y="3162240"/>
              <a:ext cx="730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3772080" y="3379680"/>
              <a:ext cx="28872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4060440" y="3162240"/>
              <a:ext cx="73080" cy="217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120840" y="3357720"/>
              <a:ext cx="252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093680" y="2451240"/>
            <a:ext cx="4407120" cy="745560"/>
            <a:chOff x="1093680" y="2451240"/>
            <a:chExt cx="4407120" cy="745560"/>
          </a:xfrm>
        </p:grpSpPr>
        <p:grpSp>
          <p:nvGrpSpPr>
            <p:cNvPr id="1045" name=""/>
            <p:cNvGrpSpPr/>
            <p:nvPr/>
          </p:nvGrpSpPr>
          <p:grpSpPr>
            <a:xfrm>
              <a:off x="1093680" y="2523960"/>
              <a:ext cx="1809360" cy="658440"/>
              <a:chOff x="1093680" y="2523960"/>
              <a:chExt cx="1809360" cy="65844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2396520" y="2835000"/>
                <a:ext cx="14472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 flipV="1">
                <a:off x="2541240" y="2835000"/>
                <a:ext cx="2894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179440" y="2545200"/>
                <a:ext cx="43416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1600200" y="2835000"/>
                <a:ext cx="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2034720" y="2871000"/>
                <a:ext cx="5065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1202040" y="2835000"/>
                <a:ext cx="43416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1636560" y="2581560"/>
                <a:ext cx="50652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1491840" y="2777400"/>
                <a:ext cx="253440" cy="129960"/>
                <a:chOff x="1491840" y="2777400"/>
                <a:chExt cx="253440" cy="1299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1491840" y="278424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553760" y="277740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2071080" y="2523960"/>
                <a:ext cx="253080" cy="129960"/>
                <a:chOff x="2071080" y="2523960"/>
                <a:chExt cx="253080" cy="12996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2071080" y="253080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133000" y="252396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2432880" y="2799000"/>
                <a:ext cx="253440" cy="129960"/>
                <a:chOff x="2432880" y="2799000"/>
                <a:chExt cx="253440" cy="12996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2432880" y="280584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494800" y="279900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1093680" y="3052440"/>
                <a:ext cx="253440" cy="129960"/>
                <a:chOff x="1093680" y="3052440"/>
                <a:chExt cx="253440" cy="12996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1093680" y="305928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155600" y="305244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1455480" y="3052440"/>
                <a:ext cx="253080" cy="129960"/>
                <a:chOff x="1455480" y="3052440"/>
                <a:chExt cx="253080" cy="12996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145548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51740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1926000" y="3052440"/>
                <a:ext cx="253440" cy="129960"/>
                <a:chOff x="1926000" y="3052440"/>
                <a:chExt cx="253440" cy="12996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1926000" y="305928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987920" y="305244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2288160" y="3052440"/>
                <a:ext cx="253080" cy="129960"/>
                <a:chOff x="2288160" y="3052440"/>
                <a:chExt cx="253080" cy="1299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228816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235008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2649960" y="3052440"/>
                <a:ext cx="253080" cy="129960"/>
                <a:chOff x="2649960" y="3052440"/>
                <a:chExt cx="253080" cy="12996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264996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271188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7" name=""/>
            <p:cNvGrpSpPr/>
            <p:nvPr/>
          </p:nvGrpSpPr>
          <p:grpSpPr>
            <a:xfrm>
              <a:off x="3157560" y="2451240"/>
              <a:ext cx="2343240" cy="745560"/>
              <a:chOff x="3157560" y="2451240"/>
              <a:chExt cx="2343240" cy="745560"/>
            </a:xfrm>
          </p:grpSpPr>
          <p:sp>
            <p:nvSpPr>
              <p:cNvPr id="1078" name=""/>
              <p:cNvSpPr/>
              <p:nvPr/>
            </p:nvSpPr>
            <p:spPr>
              <a:xfrm flipH="1">
                <a:off x="4205880" y="2523600"/>
                <a:ext cx="28908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3482640" y="2813400"/>
                <a:ext cx="867960" cy="3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495680" y="2523600"/>
                <a:ext cx="6872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350960" y="2849400"/>
                <a:ext cx="6872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2" name=""/>
              <p:cNvGrpSpPr/>
              <p:nvPr/>
            </p:nvGrpSpPr>
            <p:grpSpPr>
              <a:xfrm>
                <a:off x="4170240" y="2451240"/>
                <a:ext cx="643320" cy="129960"/>
                <a:chOff x="4170240" y="2451240"/>
                <a:chExt cx="643320" cy="129960"/>
              </a:xfrm>
            </p:grpSpPr>
            <p:grpSp>
              <p:nvGrpSpPr>
                <p:cNvPr id="1083" name=""/>
                <p:cNvGrpSpPr/>
                <p:nvPr/>
              </p:nvGrpSpPr>
              <p:grpSpPr>
                <a:xfrm>
                  <a:off x="4170240" y="2457360"/>
                  <a:ext cx="643320" cy="108360"/>
                  <a:chOff x="4170240" y="2457360"/>
                  <a:chExt cx="643320" cy="10836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4247640" y="25124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170240" y="24724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4363560" y="24573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4632840" y="24724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8" name=""/>
                <p:cNvSpPr/>
                <p:nvPr/>
              </p:nvSpPr>
              <p:spPr>
                <a:xfrm>
                  <a:off x="4436640" y="24512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4025520" y="2755440"/>
                <a:ext cx="643320" cy="129960"/>
                <a:chOff x="4025520" y="2755440"/>
                <a:chExt cx="643320" cy="129960"/>
              </a:xfrm>
            </p:grpSpPr>
            <p:grpSp>
              <p:nvGrpSpPr>
                <p:cNvPr id="1090" name=""/>
                <p:cNvGrpSpPr/>
                <p:nvPr/>
              </p:nvGrpSpPr>
              <p:grpSpPr>
                <a:xfrm>
                  <a:off x="4025520" y="2761560"/>
                  <a:ext cx="643320" cy="108360"/>
                  <a:chOff x="4025520" y="2761560"/>
                  <a:chExt cx="643320" cy="10836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4102920" y="28166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4025520" y="27766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218840" y="27615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488120" y="27766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5" name=""/>
                <p:cNvSpPr/>
                <p:nvPr/>
              </p:nvSpPr>
              <p:spPr>
                <a:xfrm>
                  <a:off x="4291920" y="27554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3157560" y="3066840"/>
                <a:ext cx="643320" cy="129960"/>
                <a:chOff x="3157560" y="3066840"/>
                <a:chExt cx="643320" cy="1299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3157560" y="3072960"/>
                  <a:ext cx="643320" cy="108360"/>
                  <a:chOff x="3157560" y="3072960"/>
                  <a:chExt cx="643320" cy="1083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23496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1575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35088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6201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2" name=""/>
                <p:cNvSpPr/>
                <p:nvPr/>
              </p:nvSpPr>
              <p:spPr>
                <a:xfrm>
                  <a:off x="342396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3880800" y="3066840"/>
                <a:ext cx="643320" cy="129960"/>
                <a:chOff x="3880800" y="3066840"/>
                <a:chExt cx="643320" cy="129960"/>
              </a:xfrm>
            </p:grpSpPr>
            <p:grpSp>
              <p:nvGrpSpPr>
                <p:cNvPr id="1104" name=""/>
                <p:cNvGrpSpPr/>
                <p:nvPr/>
              </p:nvGrpSpPr>
              <p:grpSpPr>
                <a:xfrm>
                  <a:off x="3880800" y="3072960"/>
                  <a:ext cx="643320" cy="108360"/>
                  <a:chOff x="3880800" y="3072960"/>
                  <a:chExt cx="643320" cy="1083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395820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88080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07412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34340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9" name=""/>
                <p:cNvSpPr/>
                <p:nvPr/>
              </p:nvSpPr>
              <p:spPr>
                <a:xfrm>
                  <a:off x="414720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4611960" y="3066840"/>
                <a:ext cx="643320" cy="129960"/>
                <a:chOff x="4611960" y="3066840"/>
                <a:chExt cx="643320" cy="129960"/>
              </a:xfrm>
            </p:grpSpPr>
            <p:grpSp>
              <p:nvGrpSpPr>
                <p:cNvPr id="1111" name=""/>
                <p:cNvGrpSpPr/>
                <p:nvPr/>
              </p:nvGrpSpPr>
              <p:grpSpPr>
                <a:xfrm>
                  <a:off x="4611960" y="3072960"/>
                  <a:ext cx="643320" cy="108360"/>
                  <a:chOff x="4611960" y="3072960"/>
                  <a:chExt cx="643320" cy="1083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468936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6119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80528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50745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6" name=""/>
                <p:cNvSpPr/>
                <p:nvPr/>
              </p:nvSpPr>
              <p:spPr>
                <a:xfrm>
                  <a:off x="487836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4857480" y="2751120"/>
                <a:ext cx="643320" cy="129960"/>
                <a:chOff x="4857480" y="2751120"/>
                <a:chExt cx="643320" cy="129960"/>
              </a:xfrm>
            </p:grpSpPr>
            <p:grpSp>
              <p:nvGrpSpPr>
                <p:cNvPr id="1118" name=""/>
                <p:cNvGrpSpPr/>
                <p:nvPr/>
              </p:nvGrpSpPr>
              <p:grpSpPr>
                <a:xfrm>
                  <a:off x="4857480" y="2757240"/>
                  <a:ext cx="643320" cy="108360"/>
                  <a:chOff x="4857480" y="2757240"/>
                  <a:chExt cx="643320" cy="10836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4934880" y="281232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857480" y="277236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5050800" y="275724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5320080" y="277236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3" name=""/>
                <p:cNvSpPr/>
                <p:nvPr/>
              </p:nvSpPr>
              <p:spPr>
                <a:xfrm>
                  <a:off x="5123880" y="275112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24" name=""/>
          <p:cNvGrpSpPr/>
          <p:nvPr/>
        </p:nvGrpSpPr>
        <p:grpSpPr>
          <a:xfrm>
            <a:off x="1238400" y="1619280"/>
            <a:ext cx="3184200" cy="1484280"/>
            <a:chOff x="1238400" y="1619280"/>
            <a:chExt cx="3184200" cy="1484280"/>
          </a:xfrm>
        </p:grpSpPr>
        <p:sp>
          <p:nvSpPr>
            <p:cNvPr id="1125" name=""/>
            <p:cNvSpPr/>
            <p:nvPr/>
          </p:nvSpPr>
          <p:spPr>
            <a:xfrm flipH="1">
              <a:off x="1238400" y="2198520"/>
              <a:ext cx="39816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1636200" y="1800360"/>
              <a:ext cx="181080" cy="39816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238400" y="2198520"/>
              <a:ext cx="6523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1890720" y="1619280"/>
              <a:ext cx="39672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142720" y="2198520"/>
              <a:ext cx="2905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2468520" y="2198520"/>
              <a:ext cx="367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2433240" y="1981080"/>
              <a:ext cx="7164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05240" y="1981080"/>
              <a:ext cx="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25880" y="1619280"/>
              <a:ext cx="25236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41640" y="2003400"/>
              <a:ext cx="73080" cy="1810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78240" y="2198520"/>
              <a:ext cx="14436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19400" y="2189160"/>
              <a:ext cx="263520" cy="615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479600" y="114480"/>
            <a:ext cx="7969320" cy="2255760"/>
            <a:chOff x="1479600" y="114480"/>
            <a:chExt cx="7969320" cy="2255760"/>
          </a:xfrm>
        </p:grpSpPr>
        <p:sp>
          <p:nvSpPr>
            <p:cNvPr id="1138" name=""/>
            <p:cNvSpPr/>
            <p:nvPr/>
          </p:nvSpPr>
          <p:spPr>
            <a:xfrm>
              <a:off x="5272200" y="114480"/>
              <a:ext cx="417672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Departmen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OrganizationPar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Organization part which is a sub division of of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Research Direction, corresponding to sub inter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field e.g mobile 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epartment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ivision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479600" y="1206360"/>
              <a:ext cx="3854160" cy="1163880"/>
              <a:chOff x="1479600" y="1206360"/>
              <a:chExt cx="3854160" cy="1163880"/>
            </a:xfrm>
          </p:grpSpPr>
          <p:grpSp>
            <p:nvGrpSpPr>
              <p:cNvPr id="1140" name=""/>
              <p:cNvGrpSpPr/>
              <p:nvPr/>
            </p:nvGrpSpPr>
            <p:grpSpPr>
              <a:xfrm>
                <a:off x="1479600" y="1282680"/>
                <a:ext cx="3854160" cy="1087560"/>
                <a:chOff x="1479600" y="1282680"/>
                <a:chExt cx="3854160" cy="108756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1479600" y="2262240"/>
                  <a:ext cx="43488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1923840" y="1365120"/>
                  <a:ext cx="833400" cy="9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757240" y="1365120"/>
                  <a:ext cx="250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297400" y="1282680"/>
                  <a:ext cx="36360" cy="181080"/>
                </a:xfrm>
                <a:custGeom>
                  <a:avLst/>
                  <a:gdLst>
                    <a:gd name="textAreaLeft" fmla="*/ 23400 w 36360"/>
                    <a:gd name="textAreaRight" fmla="*/ 36720 w 36360"/>
                    <a:gd name="textAreaTop" fmla="*/ 4680 h 181080"/>
                    <a:gd name="textAreaBottom" fmla="*/ 176400 h 1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" name=""/>
              <p:cNvSpPr/>
              <p:nvPr/>
            </p:nvSpPr>
            <p:spPr>
              <a:xfrm>
                <a:off x="2685960" y="1206360"/>
                <a:ext cx="8319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Synonym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6" name=""/>
          <p:cNvGrpSpPr/>
          <p:nvPr/>
        </p:nvGrpSpPr>
        <p:grpSpPr>
          <a:xfrm>
            <a:off x="2287440" y="2082960"/>
            <a:ext cx="7008840" cy="2884320"/>
            <a:chOff x="2287440" y="2082960"/>
            <a:chExt cx="7008840" cy="2884320"/>
          </a:xfrm>
        </p:grpSpPr>
        <p:sp>
          <p:nvSpPr>
            <p:cNvPr id="1147" name=""/>
            <p:cNvSpPr/>
            <p:nvPr/>
          </p:nvSpPr>
          <p:spPr>
            <a:xfrm>
              <a:off x="5656320" y="2082960"/>
              <a:ext cx="363996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E-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sent in electronic format over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computerized world-wide communication syst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-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lectronic m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                        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Post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transmitted via the post off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post 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2287440" y="2278080"/>
              <a:ext cx="3579480" cy="2331720"/>
              <a:chOff x="2287440" y="2278080"/>
              <a:chExt cx="3579480" cy="2331720"/>
            </a:xfrm>
          </p:grpSpPr>
          <p:grpSp>
            <p:nvGrpSpPr>
              <p:cNvPr id="1149" name=""/>
              <p:cNvGrpSpPr/>
              <p:nvPr/>
            </p:nvGrpSpPr>
            <p:grpSpPr>
              <a:xfrm>
                <a:off x="2287440" y="2379600"/>
                <a:ext cx="3579480" cy="2230200"/>
                <a:chOff x="2287440" y="2379600"/>
                <a:chExt cx="3579480" cy="22302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2287440" y="2379600"/>
                  <a:ext cx="28908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585880" y="2436840"/>
                  <a:ext cx="304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5638320" y="2436840"/>
                  <a:ext cx="228600" cy="103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 flipV="1">
                  <a:off x="5638320" y="2476080"/>
                  <a:ext cx="1522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4" name=""/>
              <p:cNvSpPr/>
              <p:nvPr/>
            </p:nvSpPr>
            <p:spPr>
              <a:xfrm>
                <a:off x="2516040" y="2278080"/>
                <a:ext cx="108576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Ambigu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5" name=""/>
          <p:cNvGrpSpPr/>
          <p:nvPr/>
        </p:nvGrpSpPr>
        <p:grpSpPr>
          <a:xfrm>
            <a:off x="857160" y="5807160"/>
            <a:ext cx="1932120" cy="288720"/>
            <a:chOff x="857160" y="5807160"/>
            <a:chExt cx="1932120" cy="288720"/>
          </a:xfrm>
        </p:grpSpPr>
        <p:sp>
          <p:nvSpPr>
            <p:cNvPr id="1156" name=""/>
            <p:cNvSpPr/>
            <p:nvPr/>
          </p:nvSpPr>
          <p:spPr>
            <a:xfrm>
              <a:off x="868320" y="6006960"/>
              <a:ext cx="128520" cy="54000"/>
            </a:xfrm>
            <a:prstGeom prst="parallelogram">
              <a:avLst>
                <a:gd name="adj" fmla="val 595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33480" y="588024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857160" y="5827680"/>
              <a:ext cx="139680" cy="87480"/>
              <a:chOff x="857160" y="5827680"/>
              <a:chExt cx="139680" cy="87480"/>
            </a:xfrm>
          </p:grpSpPr>
          <p:sp>
            <p:nvSpPr>
              <p:cNvPr id="1159" name=""/>
              <p:cNvSpPr/>
              <p:nvPr/>
            </p:nvSpPr>
            <p:spPr>
              <a:xfrm>
                <a:off x="915840" y="584316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966240" y="583092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912240" y="583056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96760" y="586476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57160" y="582768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949680" y="589356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70560" y="58759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9207200">
                <a:off x="949320" y="588024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1087560" y="5807160"/>
              <a:ext cx="17017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Term used to label a conc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14480" y="5996160"/>
              <a:ext cx="14436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090440" y="588024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1014480" y="5827680"/>
              <a:ext cx="139680" cy="87480"/>
              <a:chOff x="1014480" y="5827680"/>
              <a:chExt cx="139680" cy="87480"/>
            </a:xfrm>
          </p:grpSpPr>
          <p:sp>
            <p:nvSpPr>
              <p:cNvPr id="1171" name=""/>
              <p:cNvSpPr/>
              <p:nvPr/>
            </p:nvSpPr>
            <p:spPr>
              <a:xfrm>
                <a:off x="1073160" y="584316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123560" y="583092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069560" y="583056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054080" y="586476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014480" y="582768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107000" y="589356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127880" y="58759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19207200">
                <a:off x="1106640" y="588024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1B0C-3977-4200-9262-C503D8D400D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DF Extensions and Interfac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eed for extension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ormal definitions for concepts / properti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Multi-modal (redundancy / common know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Newcomer (fuzzy / tunabl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lleague (term, concept, property, defined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XML Rules for CORES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eed for interface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Hide top: not interest. &amp; p.b. of commitment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low levels = day-to-day consensu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Profiles and terminology in browsing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erminology &amp; several languages/jarg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F14D-A4DA-4C95-A99B-B7DA1FC35F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Visualization: Web techniqu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186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188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5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196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97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199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200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2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1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223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8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1229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b) From semi-informal to semi-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c) RD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37160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d) Browsing an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1236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37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38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9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1240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060720" y="4114800"/>
            <a:ext cx="228600" cy="1409760"/>
            <a:chOff x="3060720" y="4114800"/>
            <a:chExt cx="228600" cy="1409760"/>
          </a:xfrm>
        </p:grpSpPr>
        <p:sp>
          <p:nvSpPr>
            <p:cNvPr id="1243" name=""/>
            <p:cNvSpPr/>
            <p:nvPr/>
          </p:nvSpPr>
          <p:spPr>
            <a:xfrm>
              <a:off x="3085920" y="411480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60720" y="4343400"/>
              <a:ext cx="228600" cy="1181160"/>
            </a:xfrm>
            <a:prstGeom prst="downArrow">
              <a:avLst>
                <a:gd name="adj1" fmla="val 50000"/>
                <a:gd name="adj2" fmla="val 9290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246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2124000" y="1057320"/>
            <a:ext cx="619200" cy="466560"/>
            <a:chOff x="2124000" y="1057320"/>
            <a:chExt cx="619200" cy="466560"/>
          </a:xfrm>
        </p:grpSpPr>
        <p:sp>
          <p:nvSpPr>
            <p:cNvPr id="1249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762120" y="69516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')Reuse &amp;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2" name="" descr=""/>
          <p:cNvPicPr/>
          <p:nvPr/>
        </p:nvPicPr>
        <p:blipFill>
          <a:blip r:embed="rId10"/>
          <a:stretch/>
        </p:blipFill>
        <p:spPr>
          <a:xfrm>
            <a:off x="3638520" y="5591160"/>
            <a:ext cx="5353200" cy="6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C232-A6DC-4682-9D4F-25B2C23B06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Overview of XSLT capabiliti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1371600" y="117360"/>
            <a:ext cx="7313760" cy="613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20CF-55AE-40D4-AF38-6094A49565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Browsing the ontology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2521080" y="609480"/>
            <a:ext cx="5251320" cy="543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7" name=""/>
          <p:cNvSpPr/>
          <p:nvPr/>
        </p:nvSpPr>
        <p:spPr>
          <a:xfrm>
            <a:off x="457200" y="-763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avigating the ontology through Style sheets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3AE9-CFDE-4572-BD13-278C9686FF9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MMA : Who ? Where ? When ? 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hat for ?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  Provide a corporate memory management framework (2 scenarios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ssist integration of newcomer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upport technology monitoring proces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Corporate Memory: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n explicit, disembodied and persistent representation of knowledge and information in an organization, in order to facilitate their access and reuse by members of the organization, for their tasks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Management Framework: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 supporting structure around which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one can build a system insuring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herent integration and exploitatio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of the dispersed knowledg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589B-B983-4BB7-9396-F66947D05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Query on Annotation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1981080" y="777960"/>
            <a:ext cx="5934240" cy="53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0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Querying annotation bases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3253-3683-483E-B5C5-72729AA42C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Extensions of CORES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828800" y="851040"/>
            <a:ext cx="5791320" cy="53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3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Examples of extensions of RDFS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E846-3DCD-482E-804E-E142458EDF0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Profiles for ontology browsing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2209680" y="852480"/>
            <a:ext cx="5899320" cy="53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6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Using profiles to filter an ontology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7627-1FB4-425C-93FC-160BFBC595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Interface of APROBATIOM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240760" cy="531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9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APROBATIOM : Web-Based Query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1988-C2BD-46EE-B464-76B54636C6F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erminological interfac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273800" cy="3546720"/>
          </a:xfrm>
          <a:prstGeom prst="rect">
            <a:avLst/>
          </a:prstGeom>
          <a:ln w="0">
            <a:noFill/>
          </a:ln>
        </p:spPr>
      </p:pic>
      <p:sp>
        <p:nvSpPr>
          <p:cNvPr id="1272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Shopping metaphor : Using a 'notion cart' for query bui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B1E8-5B52-42C7-BFB4-3F059E631D6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mplex interfac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1371600" y="741240"/>
            <a:ext cx="7240680" cy="543096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mplex queries : expert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817F-D7FE-436E-B8D9-515954724D5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430960" cy="4199040"/>
          </a:xfrm>
          <a:prstGeom prst="rect">
            <a:avLst/>
          </a:prstGeom>
          <a:ln w="0">
            <a:noFill/>
          </a:ln>
        </p:spPr>
      </p:pic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Integration in CoM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278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Integration in CoMMA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 identify the us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192D-3DE5-4277-9D5F-067EED467C3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Integration in CoM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661080" cy="398124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Integration in CoMMA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 express a qu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BC7-4C1A-49F3-B03F-A421E3AD74F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Integration in CoM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913440" cy="398160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45720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Integration in CoMMA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 agent collabo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BF3E-7572-4109-BD3C-E7D1E48F07B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Winner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858000" cy="3240000"/>
          </a:xfrm>
          <a:prstGeom prst="rect">
            <a:avLst/>
          </a:prstGeom>
          <a:ln w="0">
            <a:noFill/>
          </a:ln>
        </p:spPr>
      </p:pic>
      <p:sp>
        <p:nvSpPr>
          <p:cNvPr id="1286" name=""/>
          <p:cNvSpPr/>
          <p:nvPr/>
        </p:nvSpPr>
        <p:spPr>
          <a:xfrm>
            <a:off x="6172200" y="41911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FC4B-5A18-488C-B059-CCE797744B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How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How ?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rporate memories are </a:t>
            </a:r>
            <a:r>
              <a:rPr b="0" i="1" lang="en-US" sz="2800" spc="-1" strike="noStrike">
                <a:solidFill>
                  <a:srgbClr val="000066"/>
                </a:solidFill>
                <a:latin typeface="Bookman Old Style"/>
              </a:rPr>
              <a:t>heterogeneous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Bookman Old Style"/>
              </a:rPr>
              <a:t>and distributed information landscap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takeholders are an </a:t>
            </a:r>
            <a:r>
              <a:rPr b="0" i="1" lang="en-US" sz="2800" spc="-1" strike="noStrike">
                <a:solidFill>
                  <a:srgbClr val="000066"/>
                </a:solidFill>
                <a:latin typeface="Bookman Old Style"/>
              </a:rPr>
              <a:t>heterogeneous and distributed popula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xploitation of CM involves </a:t>
            </a:r>
            <a:r>
              <a:rPr b="0" i="1" lang="en-US" sz="2800" spc="-1" strike="noStrike">
                <a:solidFill>
                  <a:srgbClr val="000066"/>
                </a:solidFill>
                <a:latin typeface="Bookman Old Style"/>
              </a:rPr>
              <a:t>heterogeneous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Bookman Old Style"/>
              </a:rPr>
              <a:t>and distributed task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85920" y="3352680"/>
            <a:ext cx="7468920" cy="609480"/>
            <a:chOff x="1285920" y="3352680"/>
            <a:chExt cx="7468920" cy="609480"/>
          </a:xfrm>
        </p:grpSpPr>
        <p:grpSp>
          <p:nvGrpSpPr>
            <p:cNvPr id="95" name=""/>
            <p:cNvGrpSpPr/>
            <p:nvPr/>
          </p:nvGrpSpPr>
          <p:grpSpPr>
            <a:xfrm>
              <a:off x="1295280" y="3390840"/>
              <a:ext cx="7459560" cy="495360"/>
              <a:chOff x="1295280" y="3390840"/>
              <a:chExt cx="7459560" cy="495360"/>
            </a:xfrm>
          </p:grpSpPr>
          <p:sp>
            <p:nvSpPr>
              <p:cNvPr id="96" name=""/>
              <p:cNvSpPr/>
              <p:nvPr/>
            </p:nvSpPr>
            <p:spPr>
              <a:xfrm>
                <a:off x="1295280" y="3390840"/>
                <a:ext cx="3448440" cy="495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43720" y="3390840"/>
                <a:ext cx="4011120" cy="495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285920" y="3352680"/>
              <a:ext cx="3429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000066"/>
                  </a:solidFill>
                  <a:uFillTx/>
                  <a:latin typeface="Bookman Old Style"/>
                </a:rPr>
                <a:t>CM Materializa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2280" y="3352680"/>
              <a:ext cx="3252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000066"/>
                  </a:solidFill>
                  <a:uFillTx/>
                  <a:latin typeface="Bookman Old Style"/>
                </a:rPr>
                <a:t>CM Exploita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95280" y="3886200"/>
            <a:ext cx="7459560" cy="2057400"/>
            <a:chOff x="1295280" y="3886200"/>
            <a:chExt cx="7459560" cy="2057400"/>
          </a:xfrm>
        </p:grpSpPr>
        <p:sp>
          <p:nvSpPr>
            <p:cNvPr id="101" name=""/>
            <p:cNvSpPr/>
            <p:nvPr/>
          </p:nvSpPr>
          <p:spPr>
            <a:xfrm>
              <a:off x="1295280" y="3886200"/>
              <a:ext cx="3448800" cy="2057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44080" y="3886200"/>
              <a:ext cx="4010760" cy="2057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295280" y="3898800"/>
            <a:ext cx="36068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</a:rPr>
              <a:t>XML:</a:t>
            </a:r>
            <a:r>
              <a:rPr b="0" lang="en-US" sz="2300" spc="-1" strike="noStrike">
                <a:solidFill>
                  <a:srgbClr val="000066"/>
                </a:solidFill>
                <a:latin typeface="Bookman Old Style"/>
              </a:rPr>
              <a:t> Standard, Structure, Extend, Validation, Transfor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</a:rPr>
              <a:t>RDF:</a:t>
            </a:r>
            <a:r>
              <a:rPr b="0" lang="en-US" sz="2300" spc="-1" strike="noStrike">
                <a:solidFill>
                  <a:srgbClr val="000066"/>
                </a:solidFill>
                <a:latin typeface="Bookman Old Style"/>
              </a:rPr>
              <a:t> Annotation, Schemas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70360" y="3898800"/>
            <a:ext cx="41450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</a:rPr>
              <a:t>Multi-Agent System:</a:t>
            </a:r>
            <a:r>
              <a:rPr b="0" lang="en-US" sz="2300" spc="-1" strike="noStrike">
                <a:solidFill>
                  <a:srgbClr val="000066"/>
                </a:solidFill>
                <a:latin typeface="Bookman Old Style"/>
              </a:rPr>
              <a:t> Modularity, Distributed, Collabo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</a:rPr>
              <a:t>Machine Learning:</a:t>
            </a:r>
            <a:r>
              <a:rPr b="0" lang="en-US" sz="2300" spc="-1" strike="noStrike">
                <a:solidFill>
                  <a:srgbClr val="000066"/>
                </a:solidFill>
                <a:latin typeface="Bookman Old Style"/>
              </a:rPr>
              <a:t> Adaptability, Emerg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5855-5599-4215-B77C-65F09F5521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Overall Sche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762120"/>
            <a:ext cx="7772400" cy="4379760"/>
            <a:chOff x="1219320" y="762120"/>
            <a:chExt cx="7772400" cy="4379760"/>
          </a:xfrm>
        </p:grpSpPr>
        <p:sp>
          <p:nvSpPr>
            <p:cNvPr id="107" name=""/>
            <p:cNvSpPr/>
            <p:nvPr/>
          </p:nvSpPr>
          <p:spPr>
            <a:xfrm>
              <a:off x="1219320" y="76212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335480" y="841320"/>
              <a:ext cx="1657080" cy="4180680"/>
              <a:chOff x="4335480" y="841320"/>
              <a:chExt cx="1657080" cy="418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4335480" y="99972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4240" y="84132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025720" y="2195280"/>
              <a:ext cx="6532560" cy="994680"/>
              <a:chOff x="2025720" y="2195280"/>
              <a:chExt cx="6532560" cy="994680"/>
            </a:xfrm>
          </p:grpSpPr>
          <p:sp>
            <p:nvSpPr>
              <p:cNvPr id="112" name=""/>
              <p:cNvSpPr/>
              <p:nvPr/>
            </p:nvSpPr>
            <p:spPr>
              <a:xfrm>
                <a:off x="2025720" y="228060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39280" y="219528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96080" y="236664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48040" y="285696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41880" y="241740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2214720" y="250776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5992920" y="2514240"/>
                <a:ext cx="908280" cy="636120"/>
                <a:chOff x="5992920" y="2514240"/>
                <a:chExt cx="908280" cy="6361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992920" y="287424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est Group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69040" y="251424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21" name=""/>
              <p:cNvSpPr/>
              <p:nvPr/>
            </p:nvSpPr>
            <p:spPr>
              <a:xfrm>
                <a:off x="4335840" y="228240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4480" y="255852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073680" y="291276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01200" y="290952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74240" y="246960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7147080" y="256032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7" name=""/>
              <p:cNvGrpSpPr/>
              <p:nvPr/>
            </p:nvGrpSpPr>
            <p:grpSpPr>
              <a:xfrm>
                <a:off x="3862800" y="2326680"/>
                <a:ext cx="907920" cy="634680"/>
                <a:chOff x="3862800" y="2326680"/>
                <a:chExt cx="907920" cy="634680"/>
              </a:xfrm>
            </p:grpSpPr>
            <p:pic>
              <p:nvPicPr>
                <p:cNvPr id="12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38920" y="232668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3862800" y="268488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"/>
          <p:cNvGrpSpPr/>
          <p:nvPr/>
        </p:nvGrpSpPr>
        <p:grpSpPr>
          <a:xfrm>
            <a:off x="1376280" y="3230640"/>
            <a:ext cx="1101240" cy="1551960"/>
            <a:chOff x="1376280" y="3230640"/>
            <a:chExt cx="1101240" cy="1551960"/>
          </a:xfrm>
        </p:grpSpPr>
        <p:sp>
          <p:nvSpPr>
            <p:cNvPr id="131" name=""/>
            <p:cNvSpPr/>
            <p:nvPr/>
          </p:nvSpPr>
          <p:spPr>
            <a:xfrm>
              <a:off x="1376280" y="4186080"/>
              <a:ext cx="10746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047680" y="3230640"/>
              <a:ext cx="429840" cy="1180800"/>
              <a:chOff x="2047680" y="3230640"/>
              <a:chExt cx="429840" cy="11808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2047680" y="3230640"/>
                <a:ext cx="210960" cy="97920"/>
                <a:chOff x="2047680" y="3230640"/>
                <a:chExt cx="210960" cy="979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047680" y="330444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099520" y="324108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72240" y="323064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212560" y="326808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122200" y="3300480"/>
                <a:ext cx="355320" cy="1110960"/>
                <a:chOff x="2122200" y="3300480"/>
                <a:chExt cx="355320" cy="11109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186280" y="348336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314080" y="330048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122200" y="369900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238840" y="368712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99240" y="394776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09760" y="394776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4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86920" y="329184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6" name=""/>
          <p:cNvGrpSpPr/>
          <p:nvPr/>
        </p:nvGrpSpPr>
        <p:grpSpPr>
          <a:xfrm>
            <a:off x="1298520" y="841320"/>
            <a:ext cx="1774800" cy="1433520"/>
            <a:chOff x="1298520" y="841320"/>
            <a:chExt cx="1774800" cy="1433520"/>
          </a:xfrm>
        </p:grpSpPr>
        <p:sp>
          <p:nvSpPr>
            <p:cNvPr id="147" name=""/>
            <p:cNvSpPr/>
            <p:nvPr/>
          </p:nvSpPr>
          <p:spPr>
            <a:xfrm>
              <a:off x="1298520" y="191592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850760" y="841320"/>
              <a:ext cx="789120" cy="1231920"/>
              <a:chOff x="1850760" y="841320"/>
              <a:chExt cx="789120" cy="12319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126160" y="1289160"/>
                <a:ext cx="477360" cy="784080"/>
                <a:chOff x="2126160" y="1289160"/>
                <a:chExt cx="477360" cy="7840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335320" y="154980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78520" y="179640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10760" y="178272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126160" y="155052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46200" y="128916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291400" y="133272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36960" y="841320"/>
                <a:ext cx="236520" cy="239040"/>
                <a:chOff x="2136960" y="841320"/>
                <a:chExt cx="236520" cy="239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136960" y="84132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8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163960" y="86292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59" name=""/>
              <p:cNvGrpSpPr/>
              <p:nvPr/>
            </p:nvGrpSpPr>
            <p:grpSpPr>
              <a:xfrm>
                <a:off x="1850760" y="964800"/>
                <a:ext cx="255240" cy="278640"/>
                <a:chOff x="1850760" y="964800"/>
                <a:chExt cx="255240" cy="2786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850760" y="96480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1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59040" y="98352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2" name=""/>
              <p:cNvGrpSpPr/>
              <p:nvPr/>
            </p:nvGrpSpPr>
            <p:grpSpPr>
              <a:xfrm>
                <a:off x="2008440" y="1283760"/>
                <a:ext cx="204120" cy="245160"/>
                <a:chOff x="2008440" y="1283760"/>
                <a:chExt cx="204120" cy="245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08440" y="128376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4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28960" y="130032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2403000" y="1004760"/>
                <a:ext cx="236880" cy="278640"/>
                <a:chOff x="2403000" y="1004760"/>
                <a:chExt cx="236880" cy="278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403000" y="100476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7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408400" y="103824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8" name=""/>
          <p:cNvGrpSpPr/>
          <p:nvPr/>
        </p:nvGrpSpPr>
        <p:grpSpPr>
          <a:xfrm>
            <a:off x="7570800" y="3987720"/>
            <a:ext cx="1106280" cy="1193760"/>
            <a:chOff x="7570800" y="3987720"/>
            <a:chExt cx="1106280" cy="1193760"/>
          </a:xfrm>
        </p:grpSpPr>
        <p:sp>
          <p:nvSpPr>
            <p:cNvPr id="169" name=""/>
            <p:cNvSpPr/>
            <p:nvPr/>
          </p:nvSpPr>
          <p:spPr>
            <a:xfrm>
              <a:off x="7570800" y="493380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729200" y="4066920"/>
              <a:ext cx="430200" cy="903600"/>
              <a:chOff x="7729200" y="4066920"/>
              <a:chExt cx="430200" cy="90360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7853760" y="411732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7965000" y="406692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7875360" y="432900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774200" y="433728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7728840" y="459576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7908840" y="459504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8162640" y="3987720"/>
              <a:ext cx="473400" cy="396720"/>
              <a:chOff x="8162640" y="3987720"/>
              <a:chExt cx="473400" cy="396720"/>
            </a:xfrm>
          </p:grpSpPr>
          <p:sp>
            <p:nvSpPr>
              <p:cNvPr id="178" name=""/>
              <p:cNvSpPr/>
              <p:nvPr/>
            </p:nvSpPr>
            <p:spPr>
              <a:xfrm>
                <a:off x="8162640" y="398772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8920" y="40579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0" name=""/>
          <p:cNvGrpSpPr/>
          <p:nvPr/>
        </p:nvGrpSpPr>
        <p:grpSpPr>
          <a:xfrm>
            <a:off x="2639880" y="1252440"/>
            <a:ext cx="1617840" cy="903240"/>
            <a:chOff x="2639880" y="1252440"/>
            <a:chExt cx="1617840" cy="903240"/>
          </a:xfrm>
        </p:grpSpPr>
        <p:pic>
          <p:nvPicPr>
            <p:cNvPr id="181" name="" descr=""/>
            <p:cNvPicPr/>
            <p:nvPr/>
          </p:nvPicPr>
          <p:blipFill>
            <a:blip r:embed="rId12"/>
            <a:stretch/>
          </p:blipFill>
          <p:spPr>
            <a:xfrm>
              <a:off x="2639880" y="17287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2916000" y="1252440"/>
              <a:ext cx="1025640" cy="903240"/>
              <a:chOff x="2916000" y="1252440"/>
              <a:chExt cx="1025640" cy="903240"/>
            </a:xfrm>
          </p:grpSpPr>
          <p:sp>
            <p:nvSpPr>
              <p:cNvPr id="183" name=""/>
              <p:cNvSpPr/>
              <p:nvPr/>
            </p:nvSpPr>
            <p:spPr>
              <a:xfrm>
                <a:off x="2916000" y="151848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16000" y="125244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33640" y="152136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0200" y="175392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2680" y="128304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8" name="" descr=""/>
            <p:cNvPicPr/>
            <p:nvPr/>
          </p:nvPicPr>
          <p:blipFill>
            <a:blip r:embed="rId15"/>
            <a:stretch/>
          </p:blipFill>
          <p:spPr>
            <a:xfrm>
              <a:off x="4020840" y="171756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5913360" y="4027320"/>
            <a:ext cx="1697040" cy="995400"/>
            <a:chOff x="5913360" y="4027320"/>
            <a:chExt cx="1697040" cy="995400"/>
          </a:xfrm>
        </p:grpSpPr>
        <p:pic>
          <p:nvPicPr>
            <p:cNvPr id="190" name="" descr=""/>
            <p:cNvPicPr/>
            <p:nvPr/>
          </p:nvPicPr>
          <p:blipFill>
            <a:blip r:embed="rId16"/>
            <a:stretch/>
          </p:blipFill>
          <p:spPr>
            <a:xfrm>
              <a:off x="5913360" y="45050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7"/>
            <a:stretch/>
          </p:blipFill>
          <p:spPr>
            <a:xfrm>
              <a:off x="7373880" y="45050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6189480" y="4027320"/>
              <a:ext cx="1104840" cy="995400"/>
              <a:chOff x="6189480" y="4027320"/>
              <a:chExt cx="1104840" cy="9954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189480" y="4027320"/>
                <a:ext cx="1026000" cy="902880"/>
                <a:chOff x="6189480" y="4027320"/>
                <a:chExt cx="1026000" cy="902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89480" y="429336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189480" y="40273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207120" y="429588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584040" y="45288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266160" y="40579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9" name=""/>
              <p:cNvGrpSpPr/>
              <p:nvPr/>
            </p:nvGrpSpPr>
            <p:grpSpPr>
              <a:xfrm>
                <a:off x="6228720" y="4066920"/>
                <a:ext cx="1026000" cy="903240"/>
                <a:chOff x="6228720" y="4066920"/>
                <a:chExt cx="1026000" cy="903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228720" y="433296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228720" y="40669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46360" y="433584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623280" y="45684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305400" y="40975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6268320" y="4119480"/>
                <a:ext cx="1026000" cy="903240"/>
                <a:chOff x="6268320" y="4119480"/>
                <a:chExt cx="1026000" cy="903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268320" y="438552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68320" y="411948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285960" y="4388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662880" y="462096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345000" y="415008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1" name=""/>
          <p:cNvGrpSpPr/>
          <p:nvPr/>
        </p:nvGrpSpPr>
        <p:grpSpPr>
          <a:xfrm>
            <a:off x="2679840" y="3349800"/>
            <a:ext cx="2167920" cy="677160"/>
            <a:chOff x="2679840" y="3349800"/>
            <a:chExt cx="2167920" cy="677160"/>
          </a:xfrm>
        </p:grpSpPr>
        <p:pic>
          <p:nvPicPr>
            <p:cNvPr id="212" name="" descr=""/>
            <p:cNvPicPr/>
            <p:nvPr/>
          </p:nvPicPr>
          <p:blipFill>
            <a:blip r:embed="rId24"/>
            <a:stretch/>
          </p:blipFill>
          <p:spPr>
            <a:xfrm>
              <a:off x="2679840" y="362880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5"/>
            <a:stretch/>
          </p:blipFill>
          <p:spPr>
            <a:xfrm>
              <a:off x="3981240" y="362880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"/>
            <p:cNvGrpSpPr/>
            <p:nvPr/>
          </p:nvGrpSpPr>
          <p:grpSpPr>
            <a:xfrm>
              <a:off x="2876400" y="3349800"/>
              <a:ext cx="1007640" cy="677160"/>
              <a:chOff x="2876400" y="3349800"/>
              <a:chExt cx="1007640" cy="677160"/>
            </a:xfrm>
          </p:grpSpPr>
          <p:sp>
            <p:nvSpPr>
              <p:cNvPr id="215" name=""/>
              <p:cNvSpPr/>
              <p:nvPr/>
            </p:nvSpPr>
            <p:spPr>
              <a:xfrm>
                <a:off x="3034080" y="3389400"/>
                <a:ext cx="670680" cy="6375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6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191760" y="3623040"/>
                <a:ext cx="315360" cy="31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2876400" y="334980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8" name="onto_01" descr=""/>
            <p:cNvPicPr/>
            <p:nvPr/>
          </p:nvPicPr>
          <p:blipFill>
            <a:blip r:embed="rId27"/>
            <a:stretch/>
          </p:blipFill>
          <p:spPr>
            <a:xfrm>
              <a:off x="4533840" y="3589200"/>
              <a:ext cx="313920" cy="31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2467080" y="4100400"/>
            <a:ext cx="1631880" cy="882360"/>
            <a:chOff x="2467080" y="4100400"/>
            <a:chExt cx="1631880" cy="882360"/>
          </a:xfrm>
        </p:grpSpPr>
        <p:grpSp>
          <p:nvGrpSpPr>
            <p:cNvPr id="220" name=""/>
            <p:cNvGrpSpPr/>
            <p:nvPr/>
          </p:nvGrpSpPr>
          <p:grpSpPr>
            <a:xfrm>
              <a:off x="2467080" y="4384440"/>
              <a:ext cx="1631880" cy="598320"/>
              <a:chOff x="2467080" y="4384440"/>
              <a:chExt cx="1631880" cy="598320"/>
            </a:xfrm>
          </p:grpSpPr>
          <p:sp>
            <p:nvSpPr>
              <p:cNvPr id="221" name=""/>
              <p:cNvSpPr/>
              <p:nvPr/>
            </p:nvSpPr>
            <p:spPr>
              <a:xfrm>
                <a:off x="2545920" y="442404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585160" y="462816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2467080" y="438444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68760" y="458388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5" name="" descr=""/>
            <p:cNvPicPr/>
            <p:nvPr/>
          </p:nvPicPr>
          <p:blipFill>
            <a:blip r:embed="rId29"/>
            <a:stretch/>
          </p:blipFill>
          <p:spPr>
            <a:xfrm>
              <a:off x="3270240" y="410040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3981600" y="4465800"/>
            <a:ext cx="1065240" cy="357120"/>
            <a:chOff x="3981600" y="4465800"/>
            <a:chExt cx="1065240" cy="357120"/>
          </a:xfrm>
        </p:grpSpPr>
        <p:pic>
          <p:nvPicPr>
            <p:cNvPr id="227" name="" descr=""/>
            <p:cNvPicPr/>
            <p:nvPr/>
          </p:nvPicPr>
          <p:blipFill>
            <a:blip r:embed="rId30"/>
            <a:stretch/>
          </p:blipFill>
          <p:spPr>
            <a:xfrm>
              <a:off x="3981600" y="454536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nto_02" descr=""/>
            <p:cNvPicPr/>
            <p:nvPr/>
          </p:nvPicPr>
          <p:blipFill>
            <a:blip r:embed="rId31"/>
            <a:stretch/>
          </p:blipFill>
          <p:spPr>
            <a:xfrm>
              <a:off x="4691160" y="446580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650000" y="3254400"/>
            <a:ext cx="631800" cy="772920"/>
            <a:chOff x="7650000" y="3254400"/>
            <a:chExt cx="631800" cy="772920"/>
          </a:xfrm>
        </p:grpSpPr>
        <p:pic>
          <p:nvPicPr>
            <p:cNvPr id="230" name="" descr=""/>
            <p:cNvPicPr/>
            <p:nvPr/>
          </p:nvPicPr>
          <p:blipFill>
            <a:blip r:embed="rId32"/>
            <a:stretch/>
          </p:blipFill>
          <p:spPr>
            <a:xfrm>
              <a:off x="7846920" y="378756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1" name=""/>
            <p:cNvGrpSpPr/>
            <p:nvPr/>
          </p:nvGrpSpPr>
          <p:grpSpPr>
            <a:xfrm>
              <a:off x="7650000" y="3254400"/>
              <a:ext cx="631800" cy="490320"/>
              <a:chOff x="7650000" y="3254400"/>
              <a:chExt cx="631800" cy="490320"/>
            </a:xfrm>
          </p:grpSpPr>
          <p:sp>
            <p:nvSpPr>
              <p:cNvPr id="232" name=""/>
              <p:cNvSpPr/>
              <p:nvPr/>
            </p:nvSpPr>
            <p:spPr>
              <a:xfrm>
                <a:off x="7689240" y="330660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50000" y="325440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86880" y="348768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5" name=""/>
          <p:cNvGrpSpPr/>
          <p:nvPr/>
        </p:nvGrpSpPr>
        <p:grpSpPr>
          <a:xfrm>
            <a:off x="4390920" y="1163520"/>
            <a:ext cx="1376280" cy="3565440"/>
            <a:chOff x="4390920" y="1163520"/>
            <a:chExt cx="1376280" cy="3565440"/>
          </a:xfrm>
        </p:grpSpPr>
        <p:pic>
          <p:nvPicPr>
            <p:cNvPr id="236" name="doc_01" descr=""/>
            <p:cNvPicPr/>
            <p:nvPr/>
          </p:nvPicPr>
          <p:blipFill>
            <a:blip r:embed="rId34"/>
            <a:stretch/>
          </p:blipFill>
          <p:spPr>
            <a:xfrm>
              <a:off x="5351400" y="177768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doc_01" descr=""/>
            <p:cNvPicPr/>
            <p:nvPr/>
          </p:nvPicPr>
          <p:blipFill>
            <a:blip r:embed="rId35"/>
            <a:stretch/>
          </p:blipFill>
          <p:spPr>
            <a:xfrm>
              <a:off x="5309280" y="169848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memory_01" descr=""/>
            <p:cNvPicPr/>
            <p:nvPr/>
          </p:nvPicPr>
          <p:blipFill>
            <a:blip r:embed="rId36"/>
            <a:stretch/>
          </p:blipFill>
          <p:spPr>
            <a:xfrm>
              <a:off x="4390920" y="1163520"/>
              <a:ext cx="35100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doc_03" descr=""/>
            <p:cNvPicPr/>
            <p:nvPr/>
          </p:nvPicPr>
          <p:blipFill>
            <a:blip r:embed="rId37"/>
            <a:stretch/>
          </p:blipFill>
          <p:spPr>
            <a:xfrm>
              <a:off x="4557240" y="3933720"/>
              <a:ext cx="41796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40" name="doc_04" descr=""/>
            <p:cNvPicPr/>
            <p:nvPr/>
          </p:nvPicPr>
          <p:blipFill>
            <a:blip r:embed="rId38"/>
            <a:stretch/>
          </p:blipFill>
          <p:spPr>
            <a:xfrm>
              <a:off x="4474800" y="1658880"/>
              <a:ext cx="2919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doc_05gif" descr=""/>
            <p:cNvPicPr/>
            <p:nvPr/>
          </p:nvPicPr>
          <p:blipFill>
            <a:blip r:embed="rId39"/>
            <a:stretch/>
          </p:blipFill>
          <p:spPr>
            <a:xfrm>
              <a:off x="5183280" y="385272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0"/>
            <a:stretch/>
          </p:blipFill>
          <p:spPr>
            <a:xfrm>
              <a:off x="5101200" y="329076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1"/>
            <a:stretch/>
          </p:blipFill>
          <p:spPr>
            <a:xfrm>
              <a:off x="4916520" y="120312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doc_01" descr=""/>
            <p:cNvPicPr/>
            <p:nvPr/>
          </p:nvPicPr>
          <p:blipFill>
            <a:blip r:embed="rId42"/>
            <a:stretch/>
          </p:blipFill>
          <p:spPr>
            <a:xfrm>
              <a:off x="5393160" y="181764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3"/>
            <a:stretch/>
          </p:blipFill>
          <p:spPr>
            <a:xfrm>
              <a:off x="5433480" y="441144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4"/>
            <a:stretch/>
          </p:blipFill>
          <p:spPr>
            <a:xfrm>
              <a:off x="4891320" y="1817640"/>
              <a:ext cx="3524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5"/>
            <a:stretch/>
          </p:blipFill>
          <p:spPr>
            <a:xfrm>
              <a:off x="5433480" y="126036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 txBox="1"/>
          <p:nvPr/>
        </p:nvSpPr>
        <p:spPr>
          <a:xfrm>
            <a:off x="2560680" y="410688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30640" y="96048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413480" y="422604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00280" y="3071880"/>
            <a:ext cx="1971720" cy="1272600"/>
            <a:chOff x="2600280" y="3071880"/>
            <a:chExt cx="1971720" cy="1272600"/>
          </a:xfrm>
        </p:grpSpPr>
        <p:sp>
          <p:nvSpPr>
            <p:cNvPr id="252" name=""/>
            <p:cNvSpPr/>
            <p:nvPr/>
          </p:nvSpPr>
          <p:spPr>
            <a:xfrm>
              <a:off x="3902040" y="3071880"/>
              <a:ext cx="669960" cy="47772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600280" y="3071880"/>
              <a:ext cx="512640" cy="47772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44720" y="3151080"/>
              <a:ext cx="117720" cy="119340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165400" y="2076480"/>
            <a:ext cx="947160" cy="396720"/>
            <a:chOff x="2165400" y="2076480"/>
            <a:chExt cx="947160" cy="396720"/>
          </a:xfrm>
        </p:grpSpPr>
        <p:sp>
          <p:nvSpPr>
            <p:cNvPr id="256" name=""/>
            <p:cNvSpPr/>
            <p:nvPr/>
          </p:nvSpPr>
          <p:spPr>
            <a:xfrm>
              <a:off x="2165400" y="218124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480760" y="207648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715000" y="1523520"/>
            <a:ext cx="2247840" cy="2503800"/>
            <a:chOff x="5715000" y="1523520"/>
            <a:chExt cx="2247840" cy="2503800"/>
          </a:xfrm>
        </p:grpSpPr>
        <p:sp>
          <p:nvSpPr>
            <p:cNvPr id="259" name=""/>
            <p:cNvSpPr/>
            <p:nvPr/>
          </p:nvSpPr>
          <p:spPr>
            <a:xfrm flipH="1" flipV="1">
              <a:off x="5715000" y="152352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31200" y="283212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821280" y="315108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13480" y="315108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519880" y="3032280"/>
            <a:ext cx="2129760" cy="1035000"/>
            <a:chOff x="5519880" y="3032280"/>
            <a:chExt cx="2129760" cy="1035000"/>
          </a:xfrm>
        </p:grpSpPr>
        <p:sp>
          <p:nvSpPr>
            <p:cNvPr id="264" name=""/>
            <p:cNvSpPr/>
            <p:nvPr/>
          </p:nvSpPr>
          <p:spPr>
            <a:xfrm flipH="1">
              <a:off x="5519880" y="303228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348240" y="309240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03920" y="315144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138320" y="609480"/>
            <a:ext cx="8001000" cy="4648320"/>
            <a:chOff x="1138320" y="609480"/>
            <a:chExt cx="8001000" cy="4648320"/>
          </a:xfrm>
        </p:grpSpPr>
        <p:sp>
          <p:nvSpPr>
            <p:cNvPr id="268" name=""/>
            <p:cNvSpPr/>
            <p:nvPr/>
          </p:nvSpPr>
          <p:spPr>
            <a:xfrm>
              <a:off x="1138320" y="609480"/>
              <a:ext cx="800100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38320" y="4064040"/>
              <a:ext cx="8001000" cy="1193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38320" y="3352680"/>
              <a:ext cx="1828800" cy="76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29240" y="3352680"/>
              <a:ext cx="5410080" cy="76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92680" y="3352680"/>
              <a:ext cx="749160" cy="71136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9F11-D547-470E-9728-F6D4CED2C2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Use, feasibility and RDF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MMA Ontology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explicit partial specification of corporate-memory-relevant concepts carefully defined with their corresponding terms and relationships.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ntext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 = </a:t>
            </a: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Enterpris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Delimited scope &amp; Community identit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Ontology &amp; Ontological commitmen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RDF :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Resource Description Framework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Describe Web resources and their rela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Internal/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external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annotation of docum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RDF Schema (to formalize the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ontology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RDFS is Limited - Extension 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iff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necessar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oward a </a:t>
            </a: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rporate Semantic Web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A48C-79D8-4A51-9099-3717243917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5486400" y="1905120"/>
            <a:ext cx="3668040" cy="4401000"/>
            <a:chOff x="5486400" y="1905120"/>
            <a:chExt cx="3668040" cy="4401000"/>
          </a:xfrm>
        </p:grpSpPr>
        <p:sp>
          <p:nvSpPr>
            <p:cNvPr id="276" name=""/>
            <p:cNvSpPr/>
            <p:nvPr/>
          </p:nvSpPr>
          <p:spPr>
            <a:xfrm>
              <a:off x="5486400" y="1905120"/>
              <a:ext cx="3530520" cy="4343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70080" y="596880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Garamond"/>
                </a:rPr>
                <a:t>Schéma O.S.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264000" y="3772440"/>
            <a:ext cx="725040" cy="774000"/>
            <a:chOff x="6264000" y="3772440"/>
            <a:chExt cx="725040" cy="774000"/>
          </a:xfrm>
        </p:grpSpPr>
        <p:sp>
          <p:nvSpPr>
            <p:cNvPr id="279" name=""/>
            <p:cNvSpPr/>
            <p:nvPr/>
          </p:nvSpPr>
          <p:spPr>
            <a:xfrm rot="5233800">
              <a:off x="6260760" y="3814200"/>
              <a:ext cx="730080" cy="67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rot="5233200">
              <a:off x="6269040" y="3819960"/>
              <a:ext cx="729360" cy="67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5233200">
              <a:off x="6256800" y="3819240"/>
              <a:ext cx="730080" cy="68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 rot="5233800">
              <a:off x="6215760" y="3876120"/>
              <a:ext cx="729360" cy="5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7240">
              <a:solidFill>
                <a:srgbClr val="003399"/>
              </a:solidFill>
              <a:custDash>
                <a:ds d="100000" sp="1000"/>
              </a:custDash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Model-based annotated corporate memory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964120" y="3089160"/>
            <a:ext cx="239760" cy="2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269040" y="3289320"/>
            <a:ext cx="1371600" cy="939600"/>
            <a:chOff x="6269040" y="3289320"/>
            <a:chExt cx="1371600" cy="939600"/>
          </a:xfrm>
        </p:grpSpPr>
        <p:sp>
          <p:nvSpPr>
            <p:cNvPr id="286" name=""/>
            <p:cNvSpPr txBox="1"/>
            <p:nvPr/>
          </p:nvSpPr>
          <p:spPr>
            <a:xfrm>
              <a:off x="7410240" y="4000320"/>
              <a:ext cx="2304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69040" y="328932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56200" y="3470400"/>
            <a:ext cx="1413000" cy="1620360"/>
            <a:chOff x="5956200" y="3470400"/>
            <a:chExt cx="1413000" cy="1620360"/>
          </a:xfrm>
        </p:grpSpPr>
        <p:sp>
          <p:nvSpPr>
            <p:cNvPr id="289" name=""/>
            <p:cNvSpPr txBox="1"/>
            <p:nvPr/>
          </p:nvSpPr>
          <p:spPr>
            <a:xfrm>
              <a:off x="5956200" y="4863960"/>
              <a:ext cx="236520" cy="22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78600" y="3470400"/>
              <a:ext cx="0" cy="1328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269040" y="4279680"/>
              <a:ext cx="1100160" cy="660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811840" y="2655720"/>
            <a:ext cx="2390760" cy="3058560"/>
            <a:chOff x="5811840" y="2655720"/>
            <a:chExt cx="2390760" cy="3058560"/>
          </a:xfrm>
        </p:grpSpPr>
        <p:sp>
          <p:nvSpPr>
            <p:cNvPr id="293" name=""/>
            <p:cNvSpPr/>
            <p:nvPr/>
          </p:nvSpPr>
          <p:spPr>
            <a:xfrm>
              <a:off x="5811840" y="3638520"/>
              <a:ext cx="1451160" cy="9284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5499720" y="2981880"/>
              <a:ext cx="2847960" cy="2195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 rot="19683600">
              <a:off x="7357680" y="4322160"/>
              <a:ext cx="841320" cy="2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9933"/>
                    </a:solidFill>
                    <a:miter/>
                  </a:ln>
                  <a:solidFill>
                    <a:srgbClr val="339933"/>
                  </a:solidFill>
                  <a:latin typeface="Times New Roman"/>
                </a:rPr>
                <a:t>Model</a:t>
              </a:r>
              <a:endPara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 rot="19646400">
              <a:off x="5840280" y="5073120"/>
              <a:ext cx="15177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9933"/>
                    </a:solidFill>
                    <a:miter/>
                  </a:ln>
                  <a:solidFill>
                    <a:srgbClr val="339933"/>
                  </a:solidFill>
                  <a:latin typeface="Times New Roman"/>
                </a:rPr>
                <a:t>Annotations</a:t>
              </a:r>
              <a:endPara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339933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594400" y="1962360"/>
            <a:ext cx="3411000" cy="4184280"/>
            <a:chOff x="5594400" y="1962360"/>
            <a:chExt cx="3411000" cy="4184280"/>
          </a:xfrm>
        </p:grpSpPr>
        <p:sp>
          <p:nvSpPr>
            <p:cNvPr id="298" name=""/>
            <p:cNvSpPr/>
            <p:nvPr/>
          </p:nvSpPr>
          <p:spPr>
            <a:xfrm flipV="1">
              <a:off x="5594400" y="3441600"/>
              <a:ext cx="1974960" cy="13017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5146560" y="2612880"/>
              <a:ext cx="3987720" cy="30794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 rot="1945200">
              <a:off x="7592760" y="3414600"/>
              <a:ext cx="1442880" cy="30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3300"/>
                    </a:solidFill>
                    <a:miter/>
                  </a:ln>
                  <a:solidFill>
                    <a:srgbClr val="cc3300"/>
                  </a:solidFill>
                  <a:latin typeface="Times New Roman"/>
                </a:rPr>
                <a:t>Extensional</a:t>
              </a:r>
              <a:endParaRPr b="0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 rot="1947000">
              <a:off x="5874840" y="2387160"/>
              <a:ext cx="1673280" cy="30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3300"/>
                    </a:solidFill>
                    <a:miter/>
                  </a:ln>
                  <a:solidFill>
                    <a:srgbClr val="cc3300"/>
                  </a:solidFill>
                  <a:latin typeface="Times New Roman"/>
                </a:rPr>
                <a:t>Intensional</a:t>
              </a:r>
              <a:endParaRPr b="0" lang="en-US" sz="24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33520" y="19810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O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ntology in RDF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2578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A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nnotations in RDF to describe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12408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tate of affairs in RD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Users'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rpor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-5076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Use of an ontology in CoMMA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mponent of th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Models, annotations an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gent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F979-0DD4-4A00-AB1F-B11B078FD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Illustration the cycl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17640" y="457200"/>
            <a:ext cx="3493800" cy="4952880"/>
            <a:chOff x="2717640" y="457200"/>
            <a:chExt cx="3493800" cy="4952880"/>
          </a:xfrm>
        </p:grpSpPr>
        <p:sp>
          <p:nvSpPr>
            <p:cNvPr id="308" name=""/>
            <p:cNvSpPr/>
            <p:nvPr/>
          </p:nvSpPr>
          <p:spPr>
            <a:xfrm>
              <a:off x="2717640" y="457200"/>
              <a:ext cx="3493800" cy="46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rganizational Entity (X) :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The entity X is or is a sub-part of an organiza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erson (X):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The entity X is living being pertaining to the human r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ude (Organizational Entity: X, Organizational Entity / Person Y)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the organizational entity X includes Y as one of its me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nage (Person: X, Organizational Entity: Y)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The person X watches and directs the organizational entity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66680" y="5135400"/>
              <a:ext cx="242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- 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159600" y="914400"/>
            <a:ext cx="3123720" cy="4495680"/>
            <a:chOff x="6159600" y="914400"/>
            <a:chExt cx="3123720" cy="4495680"/>
          </a:xfrm>
        </p:grpSpPr>
        <p:sp>
          <p:nvSpPr>
            <p:cNvPr id="311" name=""/>
            <p:cNvSpPr/>
            <p:nvPr/>
          </p:nvSpPr>
          <p:spPr>
            <a:xfrm>
              <a:off x="6159600" y="914400"/>
              <a:ext cx="31237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os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abie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Olivier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lai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NRIA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cacia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NRIA, Acacia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nage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ose, Acacia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cacia, Ros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cacia, Fabie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cacia, Olivier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cacia, Alai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41680" y="5135400"/>
              <a:ext cx="287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- State of Affai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51055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6120" y="1066680"/>
            <a:ext cx="1876320" cy="4343400"/>
            <a:chOff x="546120" y="1066680"/>
            <a:chExt cx="1876320" cy="4343400"/>
          </a:xfrm>
        </p:grpSpPr>
        <p:sp>
          <p:nvSpPr>
            <p:cNvPr id="315" name=""/>
            <p:cNvSpPr/>
            <p:nvPr/>
          </p:nvSpPr>
          <p:spPr>
            <a:xfrm>
              <a:off x="927000" y="5135400"/>
              <a:ext cx="149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- Re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6120" y="1066680"/>
              <a:ext cx="1695600" cy="685800"/>
            </a:xfrm>
            <a:custGeom>
              <a:avLst/>
              <a:gdLst/>
              <a:ahLst/>
              <a:rect l="l" t="t" r="r" b="b"/>
              <a:pathLst>
                <a:path w="2166" h="1311">
                  <a:moveTo>
                    <a:pt x="0" y="0"/>
                  </a:moveTo>
                  <a:lnTo>
                    <a:pt x="0" y="1311"/>
                  </a:lnTo>
                  <a:lnTo>
                    <a:pt x="2166" y="1311"/>
                  </a:lnTo>
                  <a:lnTo>
                    <a:pt x="2166" y="342"/>
                  </a:lnTo>
                  <a:lnTo>
                    <a:pt x="1938" y="570"/>
                  </a:lnTo>
                  <a:lnTo>
                    <a:pt x="1938" y="342"/>
                  </a:lnTo>
                  <a:lnTo>
                    <a:pt x="1710" y="570"/>
                  </a:lnTo>
                  <a:lnTo>
                    <a:pt x="1710" y="342"/>
                  </a:lnTo>
                  <a:lnTo>
                    <a:pt x="1482" y="570"/>
                  </a:lnTo>
                  <a:lnTo>
                    <a:pt x="1482" y="342"/>
                  </a:lnTo>
                  <a:lnTo>
                    <a:pt x="1254" y="570"/>
                  </a:lnTo>
                  <a:lnTo>
                    <a:pt x="1254" y="342"/>
                  </a:lnTo>
                  <a:lnTo>
                    <a:pt x="1026" y="570"/>
                  </a:lnTo>
                  <a:lnTo>
                    <a:pt x="1026" y="342"/>
                  </a:lnTo>
                  <a:lnTo>
                    <a:pt x="798" y="570"/>
                  </a:lnTo>
                  <a:lnTo>
                    <a:pt x="798" y="342"/>
                  </a:lnTo>
                  <a:lnTo>
                    <a:pt x="570" y="570"/>
                  </a:lnTo>
                  <a:lnTo>
                    <a:pt x="570" y="342"/>
                  </a:lnTo>
                  <a:lnTo>
                    <a:pt x="342" y="570"/>
                  </a:lnTo>
                  <a:lnTo>
                    <a:pt x="3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698400" y="3590640"/>
              <a:ext cx="1695600" cy="98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18" name=""/>
            <p:cNvGrpSpPr/>
            <p:nvPr/>
          </p:nvGrpSpPr>
          <p:grpSpPr>
            <a:xfrm>
              <a:off x="698400" y="2057400"/>
              <a:ext cx="1695600" cy="600120"/>
              <a:chOff x="698400" y="2057400"/>
              <a:chExt cx="1695600" cy="600120"/>
            </a:xfrm>
          </p:grpSpPr>
          <p:sp>
            <p:nvSpPr>
              <p:cNvPr id="319" name=""/>
              <p:cNvSpPr/>
              <p:nvPr/>
            </p:nvSpPr>
            <p:spPr>
              <a:xfrm>
                <a:off x="698400" y="2057400"/>
                <a:ext cx="1695600" cy="60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8080" y="2185920"/>
                <a:ext cx="249120" cy="42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47240" y="2185920"/>
                <a:ext cx="598320" cy="42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95600" y="2185920"/>
                <a:ext cx="648360" cy="42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97280" y="2228760"/>
                <a:ext cx="199080" cy="3427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346760" y="2228760"/>
                <a:ext cx="249120" cy="3427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45640" y="2228760"/>
                <a:ext cx="149400" cy="3427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945080" y="2228760"/>
                <a:ext cx="149400" cy="3427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144520" y="2228760"/>
                <a:ext cx="149400" cy="3427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98120" y="2228760"/>
                <a:ext cx="149400" cy="85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8120" y="2357640"/>
                <a:ext cx="149400" cy="85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8120" y="2486160"/>
                <a:ext cx="149400" cy="85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155600" y="2819160"/>
              <a:ext cx="1196640" cy="642960"/>
              <a:chOff x="1155600" y="2819160"/>
              <a:chExt cx="1196640" cy="642960"/>
            </a:xfrm>
          </p:grpSpPr>
          <p:sp>
            <p:nvSpPr>
              <p:cNvPr id="332" name=""/>
              <p:cNvSpPr/>
              <p:nvPr/>
            </p:nvSpPr>
            <p:spPr>
              <a:xfrm>
                <a:off x="1554480" y="2819160"/>
                <a:ext cx="29916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55320" y="3076200"/>
                <a:ext cx="29916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03960" y="3076200"/>
                <a:ext cx="29916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04160" y="3333600"/>
                <a:ext cx="29916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53080" y="3333600"/>
                <a:ext cx="29916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55600" y="3333600"/>
                <a:ext cx="29916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1504080" y="2947680"/>
                <a:ext cx="9972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304640" y="3205080"/>
                <a:ext cx="9972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1753560" y="3205080"/>
                <a:ext cx="9972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803960" y="2947680"/>
                <a:ext cx="9936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53080" y="3205080"/>
                <a:ext cx="9972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C8CF-E25A-4F50-B38D-44EDA553E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Data-Collection : Scenario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348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7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FF50-DE59-4829-A293-E10B2FDF0A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10:27:51Z</dcterms:created>
  <dc:creator>Fabien GANDON</dc:creator>
  <dc:description/>
  <dc:language>en-US</dc:language>
  <cp:lastModifiedBy>Fabien GANDON</cp:lastModifiedBy>
  <dcterms:modified xsi:type="dcterms:W3CDTF">2002-01-06T12:18:08Z</dcterms:modified>
  <cp:revision>130</cp:revision>
  <dc:subject/>
  <dc:title>Essai de titre</dc:title>
</cp:coreProperties>
</file>