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34.wmf" ContentType="image/x-wmf"/>
  <Override PartName="/ppt/media/image5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7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7B2-E5F7-4913-B3E5-D6FBE7541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482F-A4D8-46B8-8CD3-870EF41D4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0C16-CD14-4C19-A587-B16D591A8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80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516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80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516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7183-A336-4747-81EB-02C5F0213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9B5A-A2C4-4586-8515-80EEA0F4E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4680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5160" y="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4680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5160" y="3383280"/>
            <a:ext cx="26744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12CA-A157-4A5B-A1FC-2FBB0CA67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9EC8-EA7A-4A43-B945-E0DCD24C4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5DE2-4905-4F8B-BB0B-DBE2147F0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6248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6ADF-C8BD-41D6-8321-902E0D456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DA66-4D74-4C47-80CD-DC6FCF30C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4360" y="338328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350F-A442-46D4-89B2-97BBA1104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4360" y="0"/>
            <a:ext cx="405324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383280"/>
            <a:ext cx="83059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57F1-24B2-4D1F-8C39-30B17A3AB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pty" descr=""/>
          <p:cNvPicPr/>
          <p:nvPr/>
        </p:nvPicPr>
        <p:blipFill>
          <a:blip r:embed="rId2"/>
          <a:stretch/>
        </p:blipFill>
        <p:spPr>
          <a:xfrm>
            <a:off x="7620120" y="6264360"/>
            <a:ext cx="1523880" cy="593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6204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981080" indent="-228600">
              <a:spcBef>
                <a:spcPts val="751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6720" y="6370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994-AABC-40C2-BA79-7782434E5640}" type="slidenum"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&lt;number&gt;</a:t>
            </a:fld>
            <a:r>
              <a:rPr b="0" lang="fr-FR" sz="1400" spc="-1" strike="noStrike">
                <a:solidFill>
                  <a:srgbClr val="808080"/>
                </a:solidFill>
                <a:latin typeface="Bookman Old Style"/>
              </a:rPr>
              <a:t>/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38080" y="6413400"/>
            <a:ext cx="7010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Click to edit the title text forma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33344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4" marL="1752480" algn="ctr">
              <a:spcBef>
                <a:spcPts val="499"/>
              </a:spcBef>
              <a:buClr>
                <a:srgbClr val="000066"/>
              </a:buClr>
              <a:buFont typeface="Bookman Old Styl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4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34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0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18.png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7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3.png"/><Relationship Id="rId4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400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66"/>
                </a:solidFill>
                <a:latin typeface="Garamond"/>
              </a:rPr>
              <a:t>Présentation MEMENTO - Fabien Gandon - Equipe ACACI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66"/>
                </a:solidFill>
                <a:latin typeface="Arial"/>
              </a:rPr>
              <a:t>Ontologie et Système Multi-Agents pour une </a:t>
            </a:r>
            <a:endParaRPr b="0" lang="en-US" sz="3600" spc="-1" strike="noStrike">
              <a:solidFill>
                <a:srgbClr val="000066"/>
              </a:solidFill>
              <a:latin typeface="Bookman Old Style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66"/>
                </a:solidFill>
                <a:latin typeface="Arial"/>
              </a:rPr>
              <a:t>Mémoire d'Entreprise Distribuée</a:t>
            </a:r>
            <a:endParaRPr b="0" lang="en-US" sz="36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87" name="Winner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7315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Les quatre grandes étapes de la conception 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19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52A2-0271-44CD-89A6-A88FDAC623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é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629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6879-E02D-4055-8CD2-3739184FBA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Tableau d'étude des scénario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066680" y="641520"/>
          <a:ext cx="777240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41520"/>
                    <a:ext cx="7772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117440" y="1216080"/>
            <a:ext cx="1181160" cy="3808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92840" y="1038240"/>
            <a:ext cx="1168200" cy="711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spects à consid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Les utilisateurs finaux </a:t>
            </a:r>
            <a:r>
              <a:rPr b="0" lang="fr-FR" sz="2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Ra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Analyse par scénarios textu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05AA-F229-4360-B1B9-2F1BA223C2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de contenu de rapport de scénario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51" name=""/>
          <p:cNvSpPr/>
          <p:nvPr/>
        </p:nvSpPr>
        <p:spPr>
          <a:xfrm>
            <a:off x="1701720" y="152280"/>
            <a:ext cx="6782040" cy="52578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762200" y="228600"/>
            <a:ext cx="6619680" cy="409428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1914480" y="236520"/>
            <a:ext cx="2352600" cy="5785920"/>
            <a:chOff x="1914480" y="236520"/>
            <a:chExt cx="2352600" cy="5785920"/>
          </a:xfrm>
        </p:grpSpPr>
        <p:sp>
          <p:nvSpPr>
            <p:cNvPr id="654" name=""/>
            <p:cNvSpPr/>
            <p:nvPr/>
          </p:nvSpPr>
          <p:spPr>
            <a:xfrm>
              <a:off x="2133720" y="236520"/>
              <a:ext cx="213336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1448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133720" y="1027080"/>
            <a:ext cx="3057480" cy="4995360"/>
            <a:chOff x="2133720" y="1027080"/>
            <a:chExt cx="3057480" cy="4995360"/>
          </a:xfrm>
        </p:grpSpPr>
        <p:sp>
          <p:nvSpPr>
            <p:cNvPr id="657" name=""/>
            <p:cNvSpPr/>
            <p:nvPr/>
          </p:nvSpPr>
          <p:spPr>
            <a:xfrm>
              <a:off x="2133720" y="1027080"/>
              <a:ext cx="14475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910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Evé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676600" y="3408480"/>
            <a:ext cx="3720960" cy="2613960"/>
            <a:chOff x="2676600" y="3408480"/>
            <a:chExt cx="3720960" cy="2613960"/>
          </a:xfrm>
        </p:grpSpPr>
        <p:sp>
          <p:nvSpPr>
            <p:cNvPr id="660" name=""/>
            <p:cNvSpPr/>
            <p:nvPr/>
          </p:nvSpPr>
          <p:spPr>
            <a:xfrm>
              <a:off x="2676600" y="3408480"/>
              <a:ext cx="113328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67160" y="556272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Rô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514600" y="569880"/>
            <a:ext cx="5857920" cy="5452560"/>
            <a:chOff x="2514600" y="569880"/>
            <a:chExt cx="5857920" cy="5452560"/>
          </a:xfrm>
        </p:grpSpPr>
        <p:sp>
          <p:nvSpPr>
            <p:cNvPr id="663" name=""/>
            <p:cNvSpPr/>
            <p:nvPr/>
          </p:nvSpPr>
          <p:spPr>
            <a:xfrm>
              <a:off x="7629480" y="5562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20000" y="5698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14600" y="239868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91280" y="359892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86600" y="297972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67280" y="297972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14800" y="396072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81680" y="27417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53200" y="37800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124080" y="4122720"/>
            <a:ext cx="4340160" cy="1899720"/>
            <a:chOff x="3124080" y="4122720"/>
            <a:chExt cx="4340160" cy="1899720"/>
          </a:xfrm>
        </p:grpSpPr>
        <p:sp>
          <p:nvSpPr>
            <p:cNvPr id="673" name=""/>
            <p:cNvSpPr/>
            <p:nvPr/>
          </p:nvSpPr>
          <p:spPr>
            <a:xfrm>
              <a:off x="3124080" y="4122720"/>
              <a:ext cx="1305000" cy="220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81560" y="5562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Fo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D199-076C-49D0-81CB-52725970C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Les entretie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680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9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690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691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2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504B-2B6D-4C1C-B50F-8E6737368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ntretien semi-structuré &amp; exempl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Guide et conseils pour l'entretie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Semi-structuré (individuel / groupe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295280" y="1371600"/>
            <a:ext cx="3730680" cy="4800600"/>
            <a:chOff x="1295280" y="1371600"/>
            <a:chExt cx="3730680" cy="4800600"/>
          </a:xfrm>
        </p:grpSpPr>
        <p:sp>
          <p:nvSpPr>
            <p:cNvPr id="721" name=""/>
            <p:cNvSpPr/>
            <p:nvPr/>
          </p:nvSpPr>
          <p:spPr>
            <a:xfrm>
              <a:off x="1295280" y="13716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1"/>
            <a:stretch/>
          </p:blipFill>
          <p:spPr>
            <a:xfrm>
              <a:off x="1353600" y="14364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"/>
          <p:cNvGrpSpPr/>
          <p:nvPr/>
        </p:nvGrpSpPr>
        <p:grpSpPr>
          <a:xfrm>
            <a:off x="1585800" y="2014560"/>
            <a:ext cx="7491600" cy="3549600"/>
            <a:chOff x="1585800" y="2014560"/>
            <a:chExt cx="7491600" cy="3549600"/>
          </a:xfrm>
        </p:grpSpPr>
        <p:grpSp>
          <p:nvGrpSpPr>
            <p:cNvPr id="724" name=""/>
            <p:cNvGrpSpPr/>
            <p:nvPr/>
          </p:nvGrpSpPr>
          <p:grpSpPr>
            <a:xfrm>
              <a:off x="1585800" y="2175120"/>
              <a:ext cx="3263040" cy="3389040"/>
              <a:chOff x="1585800" y="2175120"/>
              <a:chExt cx="3263040" cy="3389040"/>
            </a:xfrm>
          </p:grpSpPr>
          <p:sp>
            <p:nvSpPr>
              <p:cNvPr id="725" name=""/>
              <p:cNvSpPr/>
              <p:nvPr/>
            </p:nvSpPr>
            <p:spPr>
              <a:xfrm>
                <a:off x="4528800" y="21751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85800" y="23454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75120" y="23454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585800" y="25398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15440" y="34966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07760" y="36748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971720" y="38613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26080" y="50043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22160" y="5182920"/>
                <a:ext cx="3204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44120" y="53694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685600" y="55641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5062680" y="201456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Définition du rôle (</a:t>
              </a:r>
              <a:r>
                <a:rPr b="0" lang="fr-FR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 baseline="30000">
                  <a:solidFill>
                    <a:srgbClr val="ff6600"/>
                  </a:solidFill>
                  <a:latin typeface="Times New Roman"/>
                </a:rPr>
                <a:t>ntes</a:t>
              </a: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 tâ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585800" y="4160880"/>
            <a:ext cx="6567480" cy="1191240"/>
            <a:chOff x="1585800" y="4160880"/>
            <a:chExt cx="6567480" cy="1191240"/>
          </a:xfrm>
        </p:grpSpPr>
        <p:grpSp>
          <p:nvGrpSpPr>
            <p:cNvPr id="738" name=""/>
            <p:cNvGrpSpPr/>
            <p:nvPr/>
          </p:nvGrpSpPr>
          <p:grpSpPr>
            <a:xfrm>
              <a:off x="1585800" y="4444920"/>
              <a:ext cx="3265200" cy="169920"/>
              <a:chOff x="1585800" y="4444920"/>
              <a:chExt cx="3265200" cy="169920"/>
            </a:xfrm>
          </p:grpSpPr>
          <p:sp>
            <p:nvSpPr>
              <p:cNvPr id="739" name=""/>
              <p:cNvSpPr/>
              <p:nvPr/>
            </p:nvSpPr>
            <p:spPr>
              <a:xfrm>
                <a:off x="2693520" y="44449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85800" y="46148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5083200" y="41608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339933"/>
                  </a:solidFill>
                  <a:uFillTx/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1585800" y="2668680"/>
            <a:ext cx="5407560" cy="825480"/>
            <a:chOff x="1585800" y="2668680"/>
            <a:chExt cx="5407560" cy="825480"/>
          </a:xfrm>
        </p:grpSpPr>
        <p:grpSp>
          <p:nvGrpSpPr>
            <p:cNvPr id="743" name=""/>
            <p:cNvGrpSpPr/>
            <p:nvPr/>
          </p:nvGrpSpPr>
          <p:grpSpPr>
            <a:xfrm>
              <a:off x="1585800" y="2928240"/>
              <a:ext cx="3263760" cy="194760"/>
              <a:chOff x="1585800" y="2928240"/>
              <a:chExt cx="3263760" cy="194760"/>
            </a:xfrm>
          </p:grpSpPr>
          <p:sp>
            <p:nvSpPr>
              <p:cNvPr id="744" name=""/>
              <p:cNvSpPr/>
              <p:nvPr/>
            </p:nvSpPr>
            <p:spPr>
              <a:xfrm>
                <a:off x="2751480" y="2928240"/>
                <a:ext cx="1631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732920" y="2928240"/>
                <a:ext cx="1166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85800" y="3123000"/>
                <a:ext cx="15156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082840" y="2668680"/>
              <a:ext cx="191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Réseau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connaissa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8A89-73C8-4871-83DF-DB2CB5BB20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Observation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75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2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763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764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6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5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787" name="Atos-Laet-bureau-3" descr=""/>
            <p:cNvPicPr/>
            <p:nvPr/>
          </p:nvPicPr>
          <p:blipFill>
            <a:blip r:embed="rId3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" descr=""/>
            <p:cNvPicPr/>
            <p:nvPr/>
          </p:nvPicPr>
          <p:blipFill>
            <a:blip r:embed="rId4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79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E873-4C10-44B5-AEB2-CA7D37A58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emple observ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799" name="Atos-Laet-bureau-3" descr=""/>
          <p:cNvPicPr/>
          <p:nvPr/>
        </p:nvPicPr>
        <p:blipFill>
          <a:blip r:embed="rId1"/>
          <a:stretch/>
        </p:blipFill>
        <p:spPr>
          <a:xfrm>
            <a:off x="1143000" y="847800"/>
            <a:ext cx="4713120" cy="3409920"/>
          </a:xfrm>
          <a:prstGeom prst="rect">
            <a:avLst/>
          </a:prstGeom>
          <a:ln w="0">
            <a:noFill/>
          </a:ln>
        </p:spPr>
      </p:pic>
      <p:grpSp>
        <p:nvGrpSpPr>
          <p:cNvPr id="800" name=""/>
          <p:cNvGrpSpPr/>
          <p:nvPr/>
        </p:nvGrpSpPr>
        <p:grpSpPr>
          <a:xfrm>
            <a:off x="1143000" y="847800"/>
            <a:ext cx="4724280" cy="3414600"/>
            <a:chOff x="1143000" y="847800"/>
            <a:chExt cx="4724280" cy="3414600"/>
          </a:xfrm>
        </p:grpSpPr>
        <p:sp>
          <p:nvSpPr>
            <p:cNvPr id="801" name=""/>
            <p:cNvSpPr/>
            <p:nvPr/>
          </p:nvSpPr>
          <p:spPr>
            <a:xfrm>
              <a:off x="1143000" y="847800"/>
              <a:ext cx="4713120" cy="12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3000" y="1782720"/>
              <a:ext cx="1195560" cy="93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1782720"/>
              <a:ext cx="2057400" cy="2027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38560" y="2049480"/>
              <a:ext cx="1525320" cy="26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38560" y="2286000"/>
              <a:ext cx="463320" cy="43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67000" y="2182680"/>
              <a:ext cx="596880" cy="40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01880" y="2576520"/>
              <a:ext cx="1527120" cy="7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43000" y="3186000"/>
              <a:ext cx="3651120" cy="60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43000" y="3727440"/>
              <a:ext cx="4713120" cy="534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43000" y="2851200"/>
              <a:ext cx="265572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43000" y="2651040"/>
              <a:ext cx="2057400" cy="66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200400" y="2641680"/>
            <a:ext cx="4409640" cy="3126960"/>
            <a:chOff x="3200400" y="2641680"/>
            <a:chExt cx="4409640" cy="3126960"/>
          </a:xfrm>
        </p:grpSpPr>
        <p:sp>
          <p:nvSpPr>
            <p:cNvPr id="813" name=""/>
            <p:cNvSpPr/>
            <p:nvPr/>
          </p:nvSpPr>
          <p:spPr>
            <a:xfrm>
              <a:off x="3200400" y="2641680"/>
              <a:ext cx="59724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4" name="" descr=""/>
            <p:cNvPicPr/>
            <p:nvPr/>
          </p:nvPicPr>
          <p:blipFill>
            <a:blip r:embed="rId2"/>
            <a:stretch/>
          </p:blipFill>
          <p:spPr>
            <a:xfrm>
              <a:off x="5191920" y="404316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815" name=""/>
          <p:cNvGrpSpPr/>
          <p:nvPr/>
        </p:nvGrpSpPr>
        <p:grpSpPr>
          <a:xfrm>
            <a:off x="2803680" y="838080"/>
            <a:ext cx="5001840" cy="1736640"/>
            <a:chOff x="2803680" y="838080"/>
            <a:chExt cx="5001840" cy="1736640"/>
          </a:xfrm>
        </p:grpSpPr>
        <p:sp>
          <p:nvSpPr>
            <p:cNvPr id="816" name=""/>
            <p:cNvSpPr/>
            <p:nvPr/>
          </p:nvSpPr>
          <p:spPr>
            <a:xfrm>
              <a:off x="2803680" y="230760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4662360" y="838080"/>
              <a:ext cx="3143160" cy="14403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1EF1-016F-4D35-A0B6-AC19A9D5E4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Docum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82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2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833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34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836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39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8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860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5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866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872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378D-E98D-4147-AE37-FCF2EF2BF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arte d'itinéraire du nouvel employé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4864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6" name=""/>
          <p:cNvSpPr/>
          <p:nvPr/>
        </p:nvSpPr>
        <p:spPr>
          <a:xfrm>
            <a:off x="6121440" y="-25560"/>
            <a:ext cx="30481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Que f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Où 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Qui 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Moyen de cont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Dans quel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95880" y="4038480"/>
            <a:ext cx="3048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Bookman Old Style"/>
              </a:rPr>
              <a:t>Exemple  problème: Langue et accessibilité</a:t>
            </a:r>
            <a:br>
              <a:rPr sz="2800"/>
            </a:br>
            <a:r>
              <a:rPr b="1" lang="fr-FR" sz="2800" spc="-1" strike="noStrike">
                <a:solidFill>
                  <a:srgbClr val="990000"/>
                </a:solidFill>
                <a:latin typeface="Bookman Old Style"/>
              </a:rPr>
              <a:t>&amp; T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7111-B201-430D-B086-8FDEBD8EF7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MMA c'est quoi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oi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Projet IST - Communauté Européenne Environnement de gestion d'une mémoire organisationnelle.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Mémoire organisationnell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:  Représentation persistante, explicite, désincarnée des connaissances et des informations dans une organisation, afin de faciliter leur accès, leur partage et leur réutilisation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nvironnement de gestion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: Infrastructure logicielle permettant l'intégration cohérente et la capitalisation des connaissances distribuées dans l'organisation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F4B-3E44-442E-8FD2-84B260A0F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utilisation et Autres sources d'experti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88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92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893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896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897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9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8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920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5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926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932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935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A804-74D1-4F1E-AFC2-2DF4780108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utilisation et Autres sources d'experti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-10476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Etat de l'art et réutilisation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nterprise Ontology (AIAI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OVE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yc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Ontologie PM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GKAT &amp; WebKB top ontology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Bookman Old Style"/>
              </a:rPr>
              <a:t>Pas d'inclusion automat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Autres sources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pertise en sémiotique (pas dans recueil)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“Using Language” H.H. Clark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IME: énumération formats électroniqu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ublin Core: Init. propriétés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Scénarios pour l'élagage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(r. propriétaire)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39480" indent="-3394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Méta-dictionnair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D70A-C910-4726-8C67-C1B0207ED5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ur le continuum de la formalis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945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4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955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56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958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959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61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0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982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7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98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994" name="" descr=""/>
            <p:cNvPicPr/>
            <p:nvPr/>
          </p:nvPicPr>
          <p:blipFill>
            <a:blip r:embed="rId6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5" name="" descr=""/>
            <p:cNvPicPr/>
            <p:nvPr/>
          </p:nvPicPr>
          <p:blipFill>
            <a:blip r:embed="rId7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96" name="" descr=""/>
            <p:cNvPicPr/>
            <p:nvPr/>
          </p:nvPicPr>
          <p:blipFill>
            <a:blip r:embed="rId8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7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998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001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0B64-B332-4CB9-A337-CD1667E7FB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ermes candidat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position définitions (ac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position extensions (in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Amorçage &amp; itér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affinage termes et notion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ravail sur termes: synonymes/ambigu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Label formel (Uschold &amp; Gruninger 96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Nécessité outils LN &amp; nv terminologiqu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Trois approches identifié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op-Down / Bottom-Up / Middle-Ou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Trois perspectives complémentaires</a:t>
            </a:r>
            <a:br>
              <a:rPr sz="2800"/>
            </a:b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niveau/granularité &amp; interac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4D14-B62E-4A7A-A115-8029772C0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nstruc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tructurat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incipes aristotéliciens étendus (Bachimont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enus/Differentia/Axe sémantique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(Kassel et al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ttributs et contraintes pour subsomption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(Guarino et Welty, 2000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Très bien pour le top / lourd sans les outils pour une large ontologi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inuum: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 Informel </a:t>
            </a:r>
            <a:r>
              <a:rPr b="1" lang="fr-FR" sz="3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 Formel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extuel (Informe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ableaux (semi-informel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emi-formel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-RDFS (formel, utilisation hiérarchi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Bookman Old Style"/>
              </a:rPr>
              <a:t>Processus d'augmentation (termes &amp; LN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8CD5-DC4A-45EA-B65A-CFD088137A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ésultat de la formalis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013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22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023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24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026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027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9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8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050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5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056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063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4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5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6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067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070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073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2639-CE0A-4C65-B88A-9D965A1AD6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esul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812520" y="-89280"/>
            <a:ext cx="83055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Ontologie en trois couches :</a:t>
            </a:r>
            <a:br>
              <a:rPr sz="3000"/>
            </a:b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~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400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concepts, ~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50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relations, </a:t>
            </a:r>
            <a:r>
              <a:rPr b="1" lang="en-US" sz="3000" spc="-1" strike="noStrike">
                <a:solidFill>
                  <a:srgbClr val="000066"/>
                </a:solidFill>
                <a:latin typeface="Bookman Old Style"/>
              </a:rPr>
              <a:t>12</a:t>
            </a:r>
            <a:r>
              <a:rPr b="0" lang="en-US" sz="3000" spc="-1" strike="noStrike">
                <a:solidFill>
                  <a:srgbClr val="000066"/>
                </a:solidFill>
                <a:latin typeface="Bookman Old Style"/>
              </a:rPr>
              <a:t> hop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1371600" y="914400"/>
            <a:ext cx="7772400" cy="3352680"/>
            <a:chOff x="1371600" y="914400"/>
            <a:chExt cx="7772400" cy="3352680"/>
          </a:xfrm>
        </p:grpSpPr>
        <p:sp>
          <p:nvSpPr>
            <p:cNvPr id="1079" name=""/>
            <p:cNvSpPr/>
            <p:nvPr/>
          </p:nvSpPr>
          <p:spPr>
            <a:xfrm>
              <a:off x="5664240" y="914400"/>
              <a:ext cx="255276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11" y="36092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aut : abstr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197760" y="1903320"/>
              <a:ext cx="255240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68" y="29048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ilieu : comm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08760" y="2887560"/>
              <a:ext cx="223524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136" y="14050"/>
                  </a:moveTo>
                  <a:lnTo>
                    <a:pt x="-736" y="3337"/>
                  </a:lnTo>
                </a:path>
                <a:path w="21600" h="21600">
                  <a:moveTo>
                    <a:pt x="-736" y="0"/>
                  </a:moveTo>
                  <a:lnTo>
                    <a:pt x="-736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xtension: Spéc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1371600" y="914400"/>
              <a:ext cx="5486400" cy="3352680"/>
              <a:chOff x="1371600" y="914400"/>
              <a:chExt cx="5486400" cy="3352680"/>
            </a:xfrm>
          </p:grpSpPr>
          <p:sp>
            <p:nvSpPr>
              <p:cNvPr id="1083" name=""/>
              <p:cNvSpPr/>
              <p:nvPr/>
            </p:nvSpPr>
            <p:spPr>
              <a:xfrm>
                <a:off x="2273400" y="2971800"/>
                <a:ext cx="365760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25960" y="1905120"/>
                <a:ext cx="1752480" cy="228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25960" y="914400"/>
                <a:ext cx="1752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2273400" y="1980720"/>
                <a:ext cx="3657600" cy="990720"/>
              </a:xfrm>
              <a:custGeom>
                <a:avLst/>
                <a:gdLst>
                  <a:gd name="textAreaLeft" fmla="*/ 804240 w 3657600"/>
                  <a:gd name="textAreaRight" fmla="*/ 2853360 w 3657600"/>
                  <a:gd name="textAreaTop" fmla="*/ 217800 h 990720"/>
                  <a:gd name="textAreaBottom" fmla="*/ 7729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1371600" y="3060360"/>
                <a:ext cx="5486400" cy="914400"/>
              </a:xfrm>
              <a:custGeom>
                <a:avLst/>
                <a:gdLst>
                  <a:gd name="textAreaLeft" fmla="*/ 924840 w 5486400"/>
                  <a:gd name="textAreaRight" fmla="*/ 4561560 w 5486400"/>
                  <a:gd name="textAreaTop" fmla="*/ 154080 h 914400"/>
                  <a:gd name="textAreaBottom" fmla="*/ 7603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71600" y="3962520"/>
                <a:ext cx="548640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9" name=""/>
          <p:cNvGrpSpPr/>
          <p:nvPr/>
        </p:nvGrpSpPr>
        <p:grpSpPr>
          <a:xfrm>
            <a:off x="1478520" y="1981080"/>
            <a:ext cx="5303520" cy="2316600"/>
            <a:chOff x="1478520" y="1981080"/>
            <a:chExt cx="5303520" cy="2316600"/>
          </a:xfrm>
        </p:grpSpPr>
        <p:sp>
          <p:nvSpPr>
            <p:cNvPr id="1090" name=""/>
            <p:cNvSpPr/>
            <p:nvPr/>
          </p:nvSpPr>
          <p:spPr>
            <a:xfrm>
              <a:off x="274320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3848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743200" y="1981080"/>
              <a:ext cx="99072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4495680" y="1981080"/>
              <a:ext cx="106704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038480" y="1981080"/>
              <a:ext cx="76320" cy="198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478520" y="38988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786760" y="389880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18360" y="38988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79800" y="3898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380880" y="4343400"/>
            <a:ext cx="8763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Haut: réutilisable/peu uti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uche centr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Mémoire d'entreprise (r. mémo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Sujets du domaine (r. doma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xtensions: utilisables/peu réutili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0492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957C-072D-478D-B6C5-B842F7D2D3A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"/>
          <p:cNvGrpSpPr/>
          <p:nvPr/>
        </p:nvGrpSpPr>
        <p:grpSpPr>
          <a:xfrm>
            <a:off x="3517920" y="3089160"/>
            <a:ext cx="790560" cy="1273320"/>
            <a:chOff x="3517920" y="3089160"/>
            <a:chExt cx="790560" cy="1273320"/>
          </a:xfrm>
        </p:grpSpPr>
        <p:grpSp>
          <p:nvGrpSpPr>
            <p:cNvPr id="1103" name=""/>
            <p:cNvGrpSpPr/>
            <p:nvPr/>
          </p:nvGrpSpPr>
          <p:grpSpPr>
            <a:xfrm>
              <a:off x="3517920" y="3089160"/>
              <a:ext cx="790560" cy="1122480"/>
              <a:chOff x="3517920" y="3089160"/>
              <a:chExt cx="790560" cy="1122480"/>
            </a:xfrm>
          </p:grpSpPr>
          <p:sp>
            <p:nvSpPr>
              <p:cNvPr id="1104" name=""/>
              <p:cNvSpPr/>
              <p:nvPr/>
            </p:nvSpPr>
            <p:spPr>
              <a:xfrm>
                <a:off x="3517920" y="3668400"/>
                <a:ext cx="790560" cy="543240"/>
              </a:xfrm>
              <a:prstGeom prst="parallelogram">
                <a:avLst>
                  <a:gd name="adj" fmla="val 5638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3699000" y="3342600"/>
                <a:ext cx="289440" cy="5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169520" y="3342600"/>
                <a:ext cx="72360" cy="57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988800" y="3089160"/>
                <a:ext cx="14472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4242240" y="3089160"/>
                <a:ext cx="3600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4041720" y="4232160"/>
              <a:ext cx="1998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10040" y="4213080"/>
              <a:ext cx="3492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962000" y="3103560"/>
            <a:ext cx="1003320" cy="1325520"/>
            <a:chOff x="1962000" y="3103560"/>
            <a:chExt cx="1003320" cy="1325520"/>
          </a:xfrm>
        </p:grpSpPr>
        <p:sp>
          <p:nvSpPr>
            <p:cNvPr id="1112" name=""/>
            <p:cNvSpPr/>
            <p:nvPr/>
          </p:nvSpPr>
          <p:spPr>
            <a:xfrm>
              <a:off x="1962000" y="3646440"/>
              <a:ext cx="978120" cy="687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470320" y="3161880"/>
              <a:ext cx="180720" cy="18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2831760" y="3103560"/>
              <a:ext cx="34920" cy="254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65520" y="4299120"/>
              <a:ext cx="1998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22680" y="4284720"/>
              <a:ext cx="363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035080" y="3343320"/>
              <a:ext cx="435240" cy="47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2866680" y="3357360"/>
              <a:ext cx="7308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2614680" y="3683160"/>
            <a:ext cx="2531520" cy="532800"/>
            <a:chOff x="2614680" y="3683160"/>
            <a:chExt cx="2531520" cy="532800"/>
          </a:xfrm>
        </p:grpSpPr>
        <p:grpSp>
          <p:nvGrpSpPr>
            <p:cNvPr id="1120" name=""/>
            <p:cNvGrpSpPr/>
            <p:nvPr/>
          </p:nvGrpSpPr>
          <p:grpSpPr>
            <a:xfrm>
              <a:off x="2722320" y="4081320"/>
              <a:ext cx="647640" cy="129960"/>
              <a:chOff x="2722320" y="4081320"/>
              <a:chExt cx="647640" cy="12996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2722320" y="4089240"/>
                <a:ext cx="647640" cy="108360"/>
                <a:chOff x="2722320" y="4089240"/>
                <a:chExt cx="647640" cy="1083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722320" y="4144320"/>
                  <a:ext cx="6476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908800" y="4089240"/>
                  <a:ext cx="25308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" name=""/>
              <p:cNvSpPr/>
              <p:nvPr/>
            </p:nvSpPr>
            <p:spPr>
              <a:xfrm>
                <a:off x="2977920" y="408132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3295440" y="4086000"/>
              <a:ext cx="253800" cy="129960"/>
              <a:chOff x="3295440" y="4086000"/>
              <a:chExt cx="253800" cy="129960"/>
            </a:xfrm>
          </p:grpSpPr>
          <p:sp>
            <p:nvSpPr>
              <p:cNvPr id="1126" name=""/>
              <p:cNvSpPr/>
              <p:nvPr/>
            </p:nvSpPr>
            <p:spPr>
              <a:xfrm>
                <a:off x="3295440" y="4094640"/>
                <a:ext cx="253800" cy="100800"/>
              </a:xfrm>
              <a:prstGeom prst="parallelogram">
                <a:avLst>
                  <a:gd name="adj" fmla="val 6294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365280" y="408600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060800" y="4081320"/>
              <a:ext cx="253440" cy="129960"/>
              <a:chOff x="4060800" y="4081320"/>
              <a:chExt cx="253440" cy="129960"/>
            </a:xfrm>
          </p:grpSpPr>
          <p:sp>
            <p:nvSpPr>
              <p:cNvPr id="1129" name=""/>
              <p:cNvSpPr/>
              <p:nvPr/>
            </p:nvSpPr>
            <p:spPr>
              <a:xfrm>
                <a:off x="4060800" y="4089960"/>
                <a:ext cx="253440" cy="100800"/>
              </a:xfrm>
              <a:prstGeom prst="parallelogram">
                <a:avLst>
                  <a:gd name="adj" fmla="val 6285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130640" y="4081320"/>
                <a:ext cx="18360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3483000" y="4081320"/>
              <a:ext cx="647280" cy="129960"/>
              <a:chOff x="3483000" y="4081320"/>
              <a:chExt cx="647280" cy="12996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3483000" y="4089240"/>
                <a:ext cx="647280" cy="108360"/>
                <a:chOff x="3483000" y="4089240"/>
                <a:chExt cx="647280" cy="10836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483000" y="4144320"/>
                  <a:ext cx="647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669480" y="4089240"/>
                  <a:ext cx="25308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3738600" y="408132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2614680" y="3873600"/>
              <a:ext cx="1012680" cy="129600"/>
              <a:chOff x="2614680" y="3873600"/>
              <a:chExt cx="1012680" cy="12960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2614680" y="3881520"/>
                <a:ext cx="1012680" cy="108000"/>
                <a:chOff x="2614680" y="3881520"/>
                <a:chExt cx="1012680" cy="1080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2614680" y="3940200"/>
                  <a:ext cx="10126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81880" y="388152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3051000" y="387360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3413160" y="3878280"/>
              <a:ext cx="252000" cy="129600"/>
              <a:chOff x="3413160" y="3878280"/>
              <a:chExt cx="252000" cy="129600"/>
            </a:xfrm>
          </p:grpSpPr>
          <p:sp>
            <p:nvSpPr>
              <p:cNvPr id="1142" name=""/>
              <p:cNvSpPr/>
              <p:nvPr/>
            </p:nvSpPr>
            <p:spPr>
              <a:xfrm>
                <a:off x="3413160" y="3886920"/>
                <a:ext cx="252000" cy="100440"/>
              </a:xfrm>
              <a:prstGeom prst="parallelogram">
                <a:avLst>
                  <a:gd name="adj" fmla="val 6272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482640" y="3878280"/>
                <a:ext cx="18252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4165560" y="3884400"/>
              <a:ext cx="252000" cy="129960"/>
              <a:chOff x="4165560" y="3884400"/>
              <a:chExt cx="252000" cy="129960"/>
            </a:xfrm>
          </p:grpSpPr>
          <p:sp>
            <p:nvSpPr>
              <p:cNvPr id="1145" name=""/>
              <p:cNvSpPr/>
              <p:nvPr/>
            </p:nvSpPr>
            <p:spPr>
              <a:xfrm>
                <a:off x="4165560" y="3893040"/>
                <a:ext cx="252000" cy="100800"/>
              </a:xfrm>
              <a:prstGeom prst="parallelogram">
                <a:avLst>
                  <a:gd name="adj" fmla="val 625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235040" y="3884400"/>
                <a:ext cx="1825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3590640" y="3878280"/>
              <a:ext cx="647640" cy="129600"/>
              <a:chOff x="3590640" y="3878280"/>
              <a:chExt cx="647640" cy="129600"/>
            </a:xfrm>
          </p:grpSpPr>
          <p:grpSp>
            <p:nvGrpSpPr>
              <p:cNvPr id="1148" name=""/>
              <p:cNvGrpSpPr/>
              <p:nvPr/>
            </p:nvGrpSpPr>
            <p:grpSpPr>
              <a:xfrm>
                <a:off x="3590640" y="3886200"/>
                <a:ext cx="647640" cy="108000"/>
                <a:chOff x="3590640" y="3886200"/>
                <a:chExt cx="647640" cy="10800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590640" y="3941280"/>
                  <a:ext cx="64764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777120" y="388620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1" name=""/>
              <p:cNvSpPr/>
              <p:nvPr/>
            </p:nvSpPr>
            <p:spPr>
              <a:xfrm>
                <a:off x="3846240" y="387828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3590640" y="3683160"/>
              <a:ext cx="924840" cy="225000"/>
              <a:chOff x="3590640" y="3683160"/>
              <a:chExt cx="924840" cy="22500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4262400" y="3687840"/>
                <a:ext cx="253080" cy="129600"/>
                <a:chOff x="4262400" y="3687840"/>
                <a:chExt cx="253080" cy="12960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4262400" y="3696480"/>
                  <a:ext cx="253080" cy="100440"/>
                </a:xfrm>
                <a:prstGeom prst="parallelogram">
                  <a:avLst>
                    <a:gd name="adj" fmla="val 62993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332240" y="3687840"/>
                  <a:ext cx="18324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3590640" y="3683160"/>
                <a:ext cx="757440" cy="225000"/>
                <a:chOff x="3590640" y="3683160"/>
                <a:chExt cx="757440" cy="22500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3880080" y="368316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8" name=""/>
                <p:cNvGrpSpPr/>
                <p:nvPr/>
              </p:nvGrpSpPr>
              <p:grpSpPr>
                <a:xfrm>
                  <a:off x="3590640" y="3691080"/>
                  <a:ext cx="757440" cy="217080"/>
                  <a:chOff x="3590640" y="3691080"/>
                  <a:chExt cx="757440" cy="21708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 flipV="1">
                    <a:off x="3590640" y="3718800"/>
                    <a:ext cx="289440" cy="18936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810600" y="3691080"/>
                    <a:ext cx="25308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022640" y="3749760"/>
                    <a:ext cx="3254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62" name=""/>
            <p:cNvGrpSpPr/>
            <p:nvPr/>
          </p:nvGrpSpPr>
          <p:grpSpPr>
            <a:xfrm>
              <a:off x="4894200" y="3878280"/>
              <a:ext cx="252000" cy="129600"/>
              <a:chOff x="4894200" y="3878280"/>
              <a:chExt cx="252000" cy="129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4894200" y="3886920"/>
                <a:ext cx="252000" cy="100440"/>
              </a:xfrm>
              <a:prstGeom prst="parallelogram">
                <a:avLst>
                  <a:gd name="adj" fmla="val 6272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63680" y="3878280"/>
                <a:ext cx="18252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4314600" y="3878280"/>
              <a:ext cx="647280" cy="129600"/>
              <a:chOff x="4314600" y="3878280"/>
              <a:chExt cx="647280" cy="12960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4314600" y="3886200"/>
                <a:ext cx="647280" cy="108000"/>
                <a:chOff x="4314600" y="3886200"/>
                <a:chExt cx="647280" cy="10800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4314600" y="3941280"/>
                  <a:ext cx="6472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501080" y="3886200"/>
                  <a:ext cx="25308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9" name=""/>
              <p:cNvSpPr/>
              <p:nvPr/>
            </p:nvSpPr>
            <p:spPr>
              <a:xfrm>
                <a:off x="4570200" y="3878280"/>
                <a:ext cx="17496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0" name=""/>
          <p:cNvGrpSpPr/>
          <p:nvPr/>
        </p:nvGrpSpPr>
        <p:grpSpPr>
          <a:xfrm>
            <a:off x="1419120" y="3697200"/>
            <a:ext cx="1376640" cy="550800"/>
            <a:chOff x="1419120" y="3697200"/>
            <a:chExt cx="1376640" cy="550800"/>
          </a:xfrm>
        </p:grpSpPr>
        <p:grpSp>
          <p:nvGrpSpPr>
            <p:cNvPr id="1171" name=""/>
            <p:cNvGrpSpPr/>
            <p:nvPr/>
          </p:nvGrpSpPr>
          <p:grpSpPr>
            <a:xfrm>
              <a:off x="1419120" y="3827520"/>
              <a:ext cx="254160" cy="129960"/>
              <a:chOff x="1419120" y="3827520"/>
              <a:chExt cx="254160" cy="129960"/>
            </a:xfrm>
          </p:grpSpPr>
          <p:sp>
            <p:nvSpPr>
              <p:cNvPr id="1172" name=""/>
              <p:cNvSpPr/>
              <p:nvPr/>
            </p:nvSpPr>
            <p:spPr>
              <a:xfrm>
                <a:off x="1419120" y="3836160"/>
                <a:ext cx="254160" cy="100800"/>
              </a:xfrm>
              <a:prstGeom prst="parallelogram">
                <a:avLst>
                  <a:gd name="adj" fmla="val 6303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88960" y="382752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2360520" y="3697200"/>
              <a:ext cx="254160" cy="130320"/>
              <a:chOff x="2360520" y="3697200"/>
              <a:chExt cx="254160" cy="130320"/>
            </a:xfrm>
          </p:grpSpPr>
          <p:sp>
            <p:nvSpPr>
              <p:cNvPr id="1175" name=""/>
              <p:cNvSpPr/>
              <p:nvPr/>
            </p:nvSpPr>
            <p:spPr>
              <a:xfrm>
                <a:off x="2360520" y="3705840"/>
                <a:ext cx="254160" cy="101160"/>
              </a:xfrm>
              <a:prstGeom prst="parallelogram">
                <a:avLst>
                  <a:gd name="adj" fmla="val 628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430360" y="3697200"/>
                <a:ext cx="1839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2179800" y="4118040"/>
              <a:ext cx="253800" cy="129960"/>
              <a:chOff x="2179800" y="4118040"/>
              <a:chExt cx="253800" cy="129960"/>
            </a:xfrm>
          </p:grpSpPr>
          <p:sp>
            <p:nvSpPr>
              <p:cNvPr id="1178" name=""/>
              <p:cNvSpPr/>
              <p:nvPr/>
            </p:nvSpPr>
            <p:spPr>
              <a:xfrm>
                <a:off x="2179800" y="4126680"/>
                <a:ext cx="253800" cy="100800"/>
              </a:xfrm>
              <a:prstGeom prst="parallelogram">
                <a:avLst>
                  <a:gd name="adj" fmla="val 6294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249640" y="4118040"/>
                <a:ext cx="183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2035080" y="3827520"/>
              <a:ext cx="252360" cy="129960"/>
              <a:chOff x="2035080" y="3827520"/>
              <a:chExt cx="252360" cy="129960"/>
            </a:xfrm>
          </p:grpSpPr>
          <p:sp>
            <p:nvSpPr>
              <p:cNvPr id="1181" name=""/>
              <p:cNvSpPr/>
              <p:nvPr/>
            </p:nvSpPr>
            <p:spPr>
              <a:xfrm>
                <a:off x="2035080" y="3836160"/>
                <a:ext cx="252360" cy="100800"/>
              </a:xfrm>
              <a:prstGeom prst="parallelogram">
                <a:avLst>
                  <a:gd name="adj" fmla="val 62589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104560" y="3827520"/>
                <a:ext cx="1828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2541600" y="4081320"/>
              <a:ext cx="254160" cy="130320"/>
              <a:chOff x="2541600" y="4081320"/>
              <a:chExt cx="254160" cy="13032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41600" y="4089960"/>
                <a:ext cx="254160" cy="101160"/>
              </a:xfrm>
              <a:prstGeom prst="parallelogram">
                <a:avLst>
                  <a:gd name="adj" fmla="val 628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611440" y="4081320"/>
                <a:ext cx="1839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2433600" y="3878280"/>
              <a:ext cx="252360" cy="130320"/>
              <a:chOff x="2433600" y="3878280"/>
              <a:chExt cx="252360" cy="130320"/>
            </a:xfrm>
          </p:grpSpPr>
          <p:sp>
            <p:nvSpPr>
              <p:cNvPr id="1187" name=""/>
              <p:cNvSpPr/>
              <p:nvPr/>
            </p:nvSpPr>
            <p:spPr>
              <a:xfrm>
                <a:off x="2433600" y="3886920"/>
                <a:ext cx="252360" cy="101160"/>
              </a:xfrm>
              <a:prstGeom prst="parallelogram">
                <a:avLst>
                  <a:gd name="adj" fmla="val 623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503080" y="3878280"/>
                <a:ext cx="1828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Three-Layer Schema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762120" y="3610080"/>
            <a:ext cx="4333680" cy="1658880"/>
            <a:chOff x="762120" y="3610080"/>
            <a:chExt cx="4333680" cy="1658880"/>
          </a:xfrm>
        </p:grpSpPr>
        <p:sp>
          <p:nvSpPr>
            <p:cNvPr id="1191" name=""/>
            <p:cNvSpPr/>
            <p:nvPr/>
          </p:nvSpPr>
          <p:spPr>
            <a:xfrm>
              <a:off x="762120" y="4797360"/>
              <a:ext cx="4333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Memo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E-Mail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995400" y="3610080"/>
              <a:ext cx="1653480" cy="1446120"/>
              <a:chOff x="995400" y="3610080"/>
              <a:chExt cx="1653480" cy="144612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1600200" y="3610080"/>
                <a:ext cx="1048680" cy="1446120"/>
                <a:chOff x="1600200" y="3610080"/>
                <a:chExt cx="1048680" cy="14461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600200" y="3610080"/>
                  <a:ext cx="288720" cy="10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790640" y="3717720"/>
                  <a:ext cx="63360" cy="32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 flipV="1">
                  <a:off x="1853640" y="4041720"/>
                  <a:ext cx="795240" cy="79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54000" y="4041720"/>
                  <a:ext cx="650880" cy="10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"/>
              <p:cNvSpPr/>
              <p:nvPr/>
            </p:nvSpPr>
            <p:spPr>
              <a:xfrm>
                <a:off x="995400" y="4614840"/>
                <a:ext cx="15192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Multi-Instan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762120" y="5408640"/>
            <a:ext cx="822312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870120" y="5445000"/>
            <a:ext cx="6116400" cy="579600"/>
            <a:chOff x="870120" y="5445000"/>
            <a:chExt cx="6116400" cy="579600"/>
          </a:xfrm>
        </p:grpSpPr>
        <p:grpSp>
          <p:nvGrpSpPr>
            <p:cNvPr id="1201" name=""/>
            <p:cNvGrpSpPr/>
            <p:nvPr/>
          </p:nvGrpSpPr>
          <p:grpSpPr>
            <a:xfrm>
              <a:off x="870120" y="5445000"/>
              <a:ext cx="869400" cy="288720"/>
              <a:chOff x="870120" y="5445000"/>
              <a:chExt cx="869400" cy="288720"/>
            </a:xfrm>
          </p:grpSpPr>
          <p:grpSp>
            <p:nvGrpSpPr>
              <p:cNvPr id="1202" name=""/>
              <p:cNvGrpSpPr/>
              <p:nvPr/>
            </p:nvGrpSpPr>
            <p:grpSpPr>
              <a:xfrm>
                <a:off x="870120" y="5516280"/>
                <a:ext cx="253800" cy="141840"/>
                <a:chOff x="870120" y="5516280"/>
                <a:chExt cx="253800" cy="141840"/>
              </a:xfrm>
            </p:grpSpPr>
            <p:grpSp>
              <p:nvGrpSpPr>
                <p:cNvPr id="1203" name=""/>
                <p:cNvGrpSpPr/>
                <p:nvPr/>
              </p:nvGrpSpPr>
              <p:grpSpPr>
                <a:xfrm>
                  <a:off x="870120" y="5525640"/>
                  <a:ext cx="253800" cy="132480"/>
                  <a:chOff x="870120" y="5525640"/>
                  <a:chExt cx="253800" cy="13248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976680" y="5548680"/>
                    <a:ext cx="104400" cy="76680"/>
                  </a:xfrm>
                  <a:prstGeom prst="foldedCorner">
                    <a:avLst>
                      <a:gd name="adj" fmla="val 4460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067760" y="5530680"/>
                    <a:ext cx="2196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970560" y="5529960"/>
                    <a:ext cx="11700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942480" y="5581080"/>
                    <a:ext cx="78120" cy="4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870120" y="5525640"/>
                    <a:ext cx="253800" cy="98640"/>
                  </a:xfrm>
                  <a:prstGeom prst="parallelogram">
                    <a:avLst>
                      <a:gd name="adj" fmla="val 64325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037880" y="562320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1076040" y="559728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rot="19207200">
                    <a:off x="1037520" y="5603760"/>
                    <a:ext cx="78120" cy="3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2" name=""/>
                <p:cNvSpPr/>
                <p:nvPr/>
              </p:nvSpPr>
              <p:spPr>
                <a:xfrm>
                  <a:off x="923400" y="5516280"/>
                  <a:ext cx="200520" cy="1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3" name=""/>
              <p:cNvSpPr/>
              <p:nvPr/>
            </p:nvSpPr>
            <p:spPr>
              <a:xfrm>
                <a:off x="1087200" y="5445000"/>
                <a:ext cx="652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2933640" y="5445000"/>
              <a:ext cx="1773000" cy="217440"/>
              <a:chOff x="2933640" y="5445000"/>
              <a:chExt cx="1773000" cy="2174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2933640" y="5526000"/>
                <a:ext cx="252360" cy="129960"/>
                <a:chOff x="2933640" y="5526000"/>
                <a:chExt cx="252360" cy="1299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933640" y="5532840"/>
                  <a:ext cx="252360" cy="100800"/>
                </a:xfrm>
                <a:prstGeom prst="parallelogram">
                  <a:avLst>
                    <a:gd name="adj" fmla="val 62589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995560" y="5526000"/>
                  <a:ext cx="184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8" name=""/>
              <p:cNvSpPr/>
              <p:nvPr/>
            </p:nvSpPr>
            <p:spPr>
              <a:xfrm>
                <a:off x="3151080" y="544500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u concept C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2897280" y="5807160"/>
              <a:ext cx="1809720" cy="217440"/>
              <a:chOff x="2897280" y="5807160"/>
              <a:chExt cx="1809720" cy="2174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2897280" y="5864400"/>
                <a:ext cx="254160" cy="129960"/>
                <a:chOff x="2897280" y="5864400"/>
                <a:chExt cx="254160" cy="1299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897280" y="5873040"/>
                  <a:ext cx="254160" cy="100800"/>
                </a:xfrm>
                <a:prstGeom prst="parallelogram">
                  <a:avLst>
                    <a:gd name="adj" fmla="val 6303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967120" y="586440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3151440" y="580716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4819680" y="5445000"/>
              <a:ext cx="2166840" cy="217440"/>
              <a:chOff x="4819680" y="5445000"/>
              <a:chExt cx="2166840" cy="21744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4819680" y="5516280"/>
                <a:ext cx="642600" cy="130320"/>
                <a:chOff x="4819680" y="5516280"/>
                <a:chExt cx="642600" cy="130320"/>
              </a:xfrm>
            </p:grpSpPr>
            <p:grpSp>
              <p:nvGrpSpPr>
                <p:cNvPr id="1226" name=""/>
                <p:cNvGrpSpPr/>
                <p:nvPr/>
              </p:nvGrpSpPr>
              <p:grpSpPr>
                <a:xfrm>
                  <a:off x="4819680" y="5522400"/>
                  <a:ext cx="642600" cy="108720"/>
                  <a:chOff x="4819680" y="5522400"/>
                  <a:chExt cx="642600" cy="108720"/>
                </a:xfrm>
              </p:grpSpPr>
              <p:sp>
                <p:nvSpPr>
                  <p:cNvPr id="1227" name=""/>
                  <p:cNvSpPr/>
                  <p:nvPr/>
                </p:nvSpPr>
                <p:spPr>
                  <a:xfrm>
                    <a:off x="4896720" y="5577840"/>
                    <a:ext cx="4698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4819680" y="553752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013000" y="5522400"/>
                    <a:ext cx="252720" cy="10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281920" y="5537520"/>
                    <a:ext cx="180360" cy="72360"/>
                  </a:xfrm>
                  <a:prstGeom prst="parallelogram">
                    <a:avLst>
                      <a:gd name="adj" fmla="val 6231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>
                  <a:off x="5086080" y="551628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5430600" y="544500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e la relation R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4819680" y="5807160"/>
              <a:ext cx="2166840" cy="217440"/>
              <a:chOff x="4819680" y="5807160"/>
              <a:chExt cx="2166840" cy="21744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819680" y="5880240"/>
                <a:ext cx="647640" cy="130320"/>
                <a:chOff x="4819680" y="5880240"/>
                <a:chExt cx="647640" cy="130320"/>
              </a:xfrm>
            </p:grpSpPr>
            <p:grpSp>
              <p:nvGrpSpPr>
                <p:cNvPr id="1235" name=""/>
                <p:cNvGrpSpPr/>
                <p:nvPr/>
              </p:nvGrpSpPr>
              <p:grpSpPr>
                <a:xfrm>
                  <a:off x="4819680" y="5888160"/>
                  <a:ext cx="647640" cy="108720"/>
                  <a:chOff x="4819680" y="5888160"/>
                  <a:chExt cx="647640" cy="10872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>
                    <a:off x="4819680" y="594360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5006160" y="5888160"/>
                    <a:ext cx="253080" cy="108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8" name=""/>
                <p:cNvSpPr/>
                <p:nvPr/>
              </p:nvSpPr>
              <p:spPr>
                <a:xfrm>
                  <a:off x="5075280" y="588024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5430600" y="580716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0" name=""/>
          <p:cNvGrpSpPr/>
          <p:nvPr/>
        </p:nvGrpSpPr>
        <p:grpSpPr>
          <a:xfrm>
            <a:off x="7240680" y="5445000"/>
            <a:ext cx="1751040" cy="252360"/>
            <a:chOff x="7240680" y="5445000"/>
            <a:chExt cx="1751040" cy="252360"/>
          </a:xfrm>
        </p:grpSpPr>
        <p:sp>
          <p:nvSpPr>
            <p:cNvPr id="1241" name=""/>
            <p:cNvSpPr/>
            <p:nvPr/>
          </p:nvSpPr>
          <p:spPr>
            <a:xfrm>
              <a:off x="7240680" y="5629320"/>
              <a:ext cx="127080" cy="52200"/>
            </a:xfrm>
            <a:prstGeom prst="parallelogram">
              <a:avLst>
                <a:gd name="adj" fmla="val 60862"/>
              </a:avLst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305840" y="5502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50040" y="5484960"/>
              <a:ext cx="127080" cy="54000"/>
            </a:xfrm>
            <a:prstGeom prst="parallelogram">
              <a:avLst>
                <a:gd name="adj" fmla="val 5883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486560" y="5626080"/>
              <a:ext cx="144720" cy="7128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58200" y="5502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86560" y="5481720"/>
              <a:ext cx="1447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37400" y="5445000"/>
              <a:ext cx="1354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Lien d'instan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7167600" y="5726160"/>
            <a:ext cx="1900080" cy="446040"/>
            <a:chOff x="7167600" y="5726160"/>
            <a:chExt cx="1900080" cy="446040"/>
          </a:xfrm>
        </p:grpSpPr>
        <p:sp>
          <p:nvSpPr>
            <p:cNvPr id="1249" name=""/>
            <p:cNvSpPr/>
            <p:nvPr/>
          </p:nvSpPr>
          <p:spPr>
            <a:xfrm>
              <a:off x="7643880" y="5726160"/>
              <a:ext cx="142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Extension of concept C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r relation R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7167600" y="5824440"/>
              <a:ext cx="417240" cy="252360"/>
              <a:chOff x="7167600" y="5824440"/>
              <a:chExt cx="417240" cy="252360"/>
            </a:xfrm>
          </p:grpSpPr>
          <p:sp>
            <p:nvSpPr>
              <p:cNvPr id="1251" name=""/>
              <p:cNvSpPr/>
              <p:nvPr/>
            </p:nvSpPr>
            <p:spPr>
              <a:xfrm>
                <a:off x="7329240" y="5946480"/>
                <a:ext cx="2001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286400" y="5932080"/>
                <a:ext cx="3672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67600" y="5824440"/>
                <a:ext cx="144360" cy="1378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48480" y="5946480"/>
                <a:ext cx="3636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7456320" y="5821200"/>
              <a:ext cx="325440" cy="274680"/>
              <a:chOff x="7456320" y="5821200"/>
              <a:chExt cx="325440" cy="274680"/>
            </a:xfrm>
          </p:grpSpPr>
          <p:sp>
            <p:nvSpPr>
              <p:cNvPr id="1256" name=""/>
              <p:cNvSpPr/>
              <p:nvPr/>
            </p:nvSpPr>
            <p:spPr>
              <a:xfrm>
                <a:off x="7581960" y="5965560"/>
                <a:ext cx="1998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56320" y="5821200"/>
                <a:ext cx="181080" cy="144360"/>
              </a:xfrm>
              <a:prstGeom prst="parallelogram">
                <a:avLst>
                  <a:gd name="adj" fmla="val 48601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8" name=""/>
          <p:cNvGrpSpPr/>
          <p:nvPr/>
        </p:nvGrpSpPr>
        <p:grpSpPr>
          <a:xfrm>
            <a:off x="1709640" y="1479600"/>
            <a:ext cx="2387520" cy="556560"/>
            <a:chOff x="1709640" y="1479600"/>
            <a:chExt cx="2387520" cy="556560"/>
          </a:xfrm>
        </p:grpSpPr>
        <p:grpSp>
          <p:nvGrpSpPr>
            <p:cNvPr id="1259" name=""/>
            <p:cNvGrpSpPr/>
            <p:nvPr/>
          </p:nvGrpSpPr>
          <p:grpSpPr>
            <a:xfrm>
              <a:off x="1709640" y="1690560"/>
              <a:ext cx="252360" cy="141840"/>
              <a:chOff x="1709640" y="1690560"/>
              <a:chExt cx="252360" cy="14184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1709640" y="1699920"/>
                <a:ext cx="252360" cy="132480"/>
                <a:chOff x="1709640" y="1699920"/>
                <a:chExt cx="252360" cy="132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815840" y="172296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06200" y="170496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809360" y="170424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1781640" y="175536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709640" y="169992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876680" y="179748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4480" y="1771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rot="19207200">
                  <a:off x="1876680" y="177840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"/>
              <p:cNvSpPr/>
              <p:nvPr/>
            </p:nvSpPr>
            <p:spPr>
              <a:xfrm>
                <a:off x="1762560" y="169056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2216160" y="1479600"/>
              <a:ext cx="252360" cy="141840"/>
              <a:chOff x="2216160" y="1479600"/>
              <a:chExt cx="252360" cy="141840"/>
            </a:xfrm>
          </p:grpSpPr>
          <p:grpSp>
            <p:nvGrpSpPr>
              <p:cNvPr id="1271" name=""/>
              <p:cNvGrpSpPr/>
              <p:nvPr/>
            </p:nvGrpSpPr>
            <p:grpSpPr>
              <a:xfrm>
                <a:off x="2216160" y="1488960"/>
                <a:ext cx="252360" cy="132480"/>
                <a:chOff x="2216160" y="1488960"/>
                <a:chExt cx="252360" cy="1324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2322360" y="1512000"/>
                  <a:ext cx="10368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412720" y="149400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315880" y="149328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288160" y="1544400"/>
                  <a:ext cx="777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216160" y="1488960"/>
                  <a:ext cx="252360" cy="98640"/>
                </a:xfrm>
                <a:prstGeom prst="parallelogram">
                  <a:avLst>
                    <a:gd name="adj" fmla="val 63960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83200" y="15865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421000" y="156060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rot="19207200">
                  <a:off x="2383200" y="15674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0" name=""/>
              <p:cNvSpPr/>
              <p:nvPr/>
            </p:nvSpPr>
            <p:spPr>
              <a:xfrm>
                <a:off x="2269080" y="1479600"/>
                <a:ext cx="19944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3844800" y="1509480"/>
              <a:ext cx="252360" cy="142560"/>
              <a:chOff x="3844800" y="1509480"/>
              <a:chExt cx="252360" cy="1425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3844800" y="1519200"/>
                <a:ext cx="252360" cy="132840"/>
                <a:chOff x="3844800" y="1519200"/>
                <a:chExt cx="252360" cy="1328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3951000" y="1542240"/>
                  <a:ext cx="103680" cy="7704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041360" y="1524240"/>
                  <a:ext cx="21960" cy="5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944520" y="1523520"/>
                  <a:ext cx="1162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916800" y="1574640"/>
                  <a:ext cx="77760" cy="4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844800" y="1519200"/>
                  <a:ext cx="252360" cy="99000"/>
                </a:xfrm>
                <a:prstGeom prst="parallelogram">
                  <a:avLst>
                    <a:gd name="adj" fmla="val 6372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011840" y="161712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049640" y="15908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19207200">
                  <a:off x="4011840" y="1598040"/>
                  <a:ext cx="777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3897720" y="1509480"/>
                <a:ext cx="19944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2360520" y="1871640"/>
              <a:ext cx="253800" cy="141840"/>
              <a:chOff x="2360520" y="1871640"/>
              <a:chExt cx="253800" cy="141840"/>
            </a:xfrm>
          </p:grpSpPr>
          <p:grpSp>
            <p:nvGrpSpPr>
              <p:cNvPr id="1293" name=""/>
              <p:cNvGrpSpPr/>
              <p:nvPr/>
            </p:nvGrpSpPr>
            <p:grpSpPr>
              <a:xfrm>
                <a:off x="2360520" y="1881000"/>
                <a:ext cx="253800" cy="132480"/>
                <a:chOff x="2360520" y="1881000"/>
                <a:chExt cx="253800" cy="132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2467080" y="1904040"/>
                  <a:ext cx="1044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558160" y="1886040"/>
                  <a:ext cx="2196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460960" y="1885320"/>
                  <a:ext cx="11700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432880" y="1936440"/>
                  <a:ext cx="7812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360520" y="1881000"/>
                  <a:ext cx="253800" cy="98640"/>
                </a:xfrm>
                <a:prstGeom prst="parallelogram">
                  <a:avLst>
                    <a:gd name="adj" fmla="val 64325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528280" y="197856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566440" y="1952640"/>
                  <a:ext cx="417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19207200">
                  <a:off x="2527920" y="1959120"/>
                  <a:ext cx="7812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2" name=""/>
              <p:cNvSpPr/>
              <p:nvPr/>
            </p:nvSpPr>
            <p:spPr>
              <a:xfrm>
                <a:off x="2413800" y="1871640"/>
                <a:ext cx="2005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3735360" y="1895400"/>
              <a:ext cx="253800" cy="140760"/>
              <a:chOff x="3735360" y="1895400"/>
              <a:chExt cx="253800" cy="14076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3735360" y="1904760"/>
                <a:ext cx="253800" cy="131400"/>
                <a:chOff x="3735360" y="1904760"/>
                <a:chExt cx="253800" cy="13140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3841920" y="1927440"/>
                  <a:ext cx="104400" cy="7596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933000" y="1909800"/>
                  <a:ext cx="2196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835800" y="1909080"/>
                  <a:ext cx="11700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807720" y="1959480"/>
                  <a:ext cx="7812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3735360" y="1904760"/>
                  <a:ext cx="253800" cy="97560"/>
                </a:xfrm>
                <a:prstGeom prst="parallelogram">
                  <a:avLst>
                    <a:gd name="adj" fmla="val 6503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903120" y="200124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941280" y="1975680"/>
                  <a:ext cx="417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19207200">
                  <a:off x="3902760" y="1982160"/>
                  <a:ext cx="7812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3788640" y="1895400"/>
                <a:ext cx="2005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579960" y="1085040"/>
            <a:ext cx="4964760" cy="3358080"/>
            <a:chOff x="579960" y="1085040"/>
            <a:chExt cx="4964760" cy="3358080"/>
          </a:xfrm>
        </p:grpSpPr>
        <p:grpSp>
          <p:nvGrpSpPr>
            <p:cNvPr id="1315" name=""/>
            <p:cNvGrpSpPr/>
            <p:nvPr/>
          </p:nvGrpSpPr>
          <p:grpSpPr>
            <a:xfrm>
              <a:off x="768240" y="2342880"/>
              <a:ext cx="4740120" cy="1014480"/>
              <a:chOff x="768240" y="2342880"/>
              <a:chExt cx="4740120" cy="1014480"/>
            </a:xfrm>
          </p:grpSpPr>
          <p:sp>
            <p:nvSpPr>
              <p:cNvPr id="1316" name=""/>
              <p:cNvSpPr/>
              <p:nvPr/>
            </p:nvSpPr>
            <p:spPr>
              <a:xfrm flipH="1">
                <a:off x="768240" y="252396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1310760" y="234288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68240" y="335736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5291280" y="335736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768240" y="1184040"/>
              <a:ext cx="4740120" cy="1014480"/>
              <a:chOff x="768240" y="1184040"/>
              <a:chExt cx="4740120" cy="1014480"/>
            </a:xfrm>
          </p:grpSpPr>
          <p:sp>
            <p:nvSpPr>
              <p:cNvPr id="1321" name=""/>
              <p:cNvSpPr/>
              <p:nvPr/>
            </p:nvSpPr>
            <p:spPr>
              <a:xfrm flipH="1">
                <a:off x="768240" y="1365120"/>
                <a:ext cx="54288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1310760" y="118404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768240" y="2198520"/>
                <a:ext cx="4595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5291280" y="21985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804600" y="3429000"/>
              <a:ext cx="4740120" cy="1014120"/>
              <a:chOff x="804600" y="3429000"/>
              <a:chExt cx="4740120" cy="1014120"/>
            </a:xfrm>
          </p:grpSpPr>
          <p:sp>
            <p:nvSpPr>
              <p:cNvPr id="1326" name=""/>
              <p:cNvSpPr/>
              <p:nvPr/>
            </p:nvSpPr>
            <p:spPr>
              <a:xfrm flipH="1">
                <a:off x="804600" y="3610080"/>
                <a:ext cx="542520" cy="83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1347120" y="3429000"/>
                <a:ext cx="10836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804600" y="4443120"/>
                <a:ext cx="45954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5327640" y="4443120"/>
                <a:ext cx="217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"/>
            <p:cNvSpPr txBox="1"/>
            <p:nvPr/>
          </p:nvSpPr>
          <p:spPr>
            <a:xfrm rot="18167400">
              <a:off x="386640" y="1546560"/>
              <a:ext cx="120636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erminologic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31" name=""/>
            <p:cNvSpPr txBox="1"/>
            <p:nvPr/>
          </p:nvSpPr>
          <p:spPr>
            <a:xfrm rot="18167400">
              <a:off x="430920" y="2750040"/>
              <a:ext cx="11109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 rot="18167400">
              <a:off x="452520" y="3828600"/>
              <a:ext cx="115236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Ex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533520" y="-76320"/>
            <a:ext cx="4952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Utilisation de RDFS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564920" y="3103560"/>
            <a:ext cx="2641680" cy="1085760"/>
            <a:chOff x="1564920" y="3103560"/>
            <a:chExt cx="2641680" cy="1085760"/>
          </a:xfrm>
        </p:grpSpPr>
        <p:sp>
          <p:nvSpPr>
            <p:cNvPr id="1335" name=""/>
            <p:cNvSpPr/>
            <p:nvPr/>
          </p:nvSpPr>
          <p:spPr>
            <a:xfrm flipH="1">
              <a:off x="2181240" y="3352680"/>
              <a:ext cx="40968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2587680" y="3124080"/>
              <a:ext cx="155520" cy="23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469960" y="3357720"/>
              <a:ext cx="215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2685600" y="3139920"/>
              <a:ext cx="10980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323800" y="3357720"/>
              <a:ext cx="39852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722680" y="3103560"/>
              <a:ext cx="109440" cy="25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2577600" y="3357720"/>
              <a:ext cx="1810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758680" y="3139920"/>
              <a:ext cx="7308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2651040" y="3357720"/>
              <a:ext cx="14472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2795400" y="3139920"/>
              <a:ext cx="3636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3373560" y="3139920"/>
              <a:ext cx="10944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1565280" y="3355920"/>
              <a:ext cx="325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1890720" y="3174840"/>
              <a:ext cx="1080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1564920" y="3355920"/>
              <a:ext cx="61452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179800" y="3174840"/>
              <a:ext cx="21744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952440" y="3355920"/>
              <a:ext cx="144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4096800" y="31748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3916440" y="3343320"/>
              <a:ext cx="21744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133520" y="3162240"/>
              <a:ext cx="730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772080" y="3379680"/>
              <a:ext cx="28872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4060440" y="3162240"/>
              <a:ext cx="7308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3120840" y="3357720"/>
              <a:ext cx="252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1093680" y="2451240"/>
            <a:ext cx="4407120" cy="745560"/>
            <a:chOff x="1093680" y="2451240"/>
            <a:chExt cx="4407120" cy="745560"/>
          </a:xfrm>
        </p:grpSpPr>
        <p:grpSp>
          <p:nvGrpSpPr>
            <p:cNvPr id="1358" name=""/>
            <p:cNvGrpSpPr/>
            <p:nvPr/>
          </p:nvGrpSpPr>
          <p:grpSpPr>
            <a:xfrm>
              <a:off x="1093680" y="2523960"/>
              <a:ext cx="1809360" cy="658440"/>
              <a:chOff x="1093680" y="2523960"/>
              <a:chExt cx="1809360" cy="658440"/>
            </a:xfrm>
          </p:grpSpPr>
          <p:sp>
            <p:nvSpPr>
              <p:cNvPr id="1359" name=""/>
              <p:cNvSpPr/>
              <p:nvPr/>
            </p:nvSpPr>
            <p:spPr>
              <a:xfrm flipV="1">
                <a:off x="2396520" y="2835000"/>
                <a:ext cx="14472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flipV="1">
                <a:off x="2541240" y="2835000"/>
                <a:ext cx="2894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flipV="1">
                <a:off x="2179440" y="25452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1600200" y="2835000"/>
                <a:ext cx="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2034720" y="2871000"/>
                <a:ext cx="5065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202040" y="2835000"/>
                <a:ext cx="43416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636560" y="2581560"/>
                <a:ext cx="50652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1491840" y="2777400"/>
                <a:ext cx="253440" cy="129960"/>
                <a:chOff x="1491840" y="2777400"/>
                <a:chExt cx="253440" cy="12996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1491840" y="27842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553760" y="27774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2071080" y="2523960"/>
                <a:ext cx="253080" cy="129960"/>
                <a:chOff x="2071080" y="2523960"/>
                <a:chExt cx="253080" cy="1299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2071080" y="253080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133000" y="252396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2432880" y="2799000"/>
                <a:ext cx="253440" cy="129960"/>
                <a:chOff x="2432880" y="2799000"/>
                <a:chExt cx="253440" cy="12996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2432880" y="280584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494800" y="279900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1093680" y="3052440"/>
                <a:ext cx="253440" cy="129960"/>
                <a:chOff x="1093680" y="3052440"/>
                <a:chExt cx="253440" cy="12996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109368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15560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1455480" y="3052440"/>
                <a:ext cx="253080" cy="129960"/>
                <a:chOff x="1455480" y="3052440"/>
                <a:chExt cx="253080" cy="12996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145548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51740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1926000" y="3052440"/>
                <a:ext cx="253440" cy="129960"/>
                <a:chOff x="1926000" y="3052440"/>
                <a:chExt cx="253440" cy="1299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1926000" y="3059280"/>
                  <a:ext cx="253440" cy="100800"/>
                </a:xfrm>
                <a:prstGeom prst="parallelogram">
                  <a:avLst>
                    <a:gd name="adj" fmla="val 6285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1987920" y="3052440"/>
                  <a:ext cx="185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2288160" y="3052440"/>
                <a:ext cx="253080" cy="129960"/>
                <a:chOff x="2288160" y="3052440"/>
                <a:chExt cx="253080" cy="12996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22881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3500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2649960" y="3052440"/>
                <a:ext cx="253080" cy="129960"/>
                <a:chOff x="2649960" y="3052440"/>
                <a:chExt cx="253080" cy="12996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2649960" y="3059280"/>
                  <a:ext cx="253080" cy="100800"/>
                </a:xfrm>
                <a:prstGeom prst="parallelogram">
                  <a:avLst>
                    <a:gd name="adj" fmla="val 627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711880" y="3052440"/>
                  <a:ext cx="18504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3157560" y="2451240"/>
              <a:ext cx="2343240" cy="745560"/>
              <a:chOff x="3157560" y="2451240"/>
              <a:chExt cx="2343240" cy="745560"/>
            </a:xfrm>
          </p:grpSpPr>
          <p:sp>
            <p:nvSpPr>
              <p:cNvPr id="1391" name=""/>
              <p:cNvSpPr/>
              <p:nvPr/>
            </p:nvSpPr>
            <p:spPr>
              <a:xfrm flipH="1">
                <a:off x="4205880" y="2523600"/>
                <a:ext cx="28908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3482640" y="2813400"/>
                <a:ext cx="86796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95680" y="25236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350960" y="2849400"/>
                <a:ext cx="68724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5" name=""/>
              <p:cNvGrpSpPr/>
              <p:nvPr/>
            </p:nvGrpSpPr>
            <p:grpSpPr>
              <a:xfrm>
                <a:off x="4170240" y="2451240"/>
                <a:ext cx="643320" cy="129960"/>
                <a:chOff x="4170240" y="2451240"/>
                <a:chExt cx="643320" cy="12996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4170240" y="2457360"/>
                  <a:ext cx="643320" cy="108360"/>
                  <a:chOff x="4170240" y="2457360"/>
                  <a:chExt cx="643320" cy="10836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4247640" y="25124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1702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363560" y="24573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632840" y="24724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1" name=""/>
                <p:cNvSpPr/>
                <p:nvPr/>
              </p:nvSpPr>
              <p:spPr>
                <a:xfrm>
                  <a:off x="4436640" y="24512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025520" y="2755440"/>
                <a:ext cx="643320" cy="129960"/>
                <a:chOff x="4025520" y="2755440"/>
                <a:chExt cx="643320" cy="129960"/>
              </a:xfrm>
            </p:grpSpPr>
            <p:grpSp>
              <p:nvGrpSpPr>
                <p:cNvPr id="1403" name=""/>
                <p:cNvGrpSpPr/>
                <p:nvPr/>
              </p:nvGrpSpPr>
              <p:grpSpPr>
                <a:xfrm>
                  <a:off x="4025520" y="2761560"/>
                  <a:ext cx="643320" cy="108360"/>
                  <a:chOff x="4025520" y="2761560"/>
                  <a:chExt cx="643320" cy="10836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4102920" y="28166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40255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4218840" y="27615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488120" y="27766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8" name=""/>
                <p:cNvSpPr/>
                <p:nvPr/>
              </p:nvSpPr>
              <p:spPr>
                <a:xfrm>
                  <a:off x="4291920" y="27554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3157560" y="3066840"/>
                <a:ext cx="643320" cy="129960"/>
                <a:chOff x="3157560" y="3066840"/>
                <a:chExt cx="643320" cy="1299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3157560" y="3072960"/>
                  <a:ext cx="643320" cy="108360"/>
                  <a:chOff x="3157560" y="3072960"/>
                  <a:chExt cx="643320" cy="1083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32349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3157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33508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6201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5" name=""/>
                <p:cNvSpPr/>
                <p:nvPr/>
              </p:nvSpPr>
              <p:spPr>
                <a:xfrm>
                  <a:off x="34239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3880800" y="3066840"/>
                <a:ext cx="643320" cy="129960"/>
                <a:chOff x="3880800" y="3066840"/>
                <a:chExt cx="643320" cy="129960"/>
              </a:xfrm>
            </p:grpSpPr>
            <p:grpSp>
              <p:nvGrpSpPr>
                <p:cNvPr id="1417" name=""/>
                <p:cNvGrpSpPr/>
                <p:nvPr/>
              </p:nvGrpSpPr>
              <p:grpSpPr>
                <a:xfrm>
                  <a:off x="3880800" y="3072960"/>
                  <a:ext cx="643320" cy="108360"/>
                  <a:chOff x="3880800" y="3072960"/>
                  <a:chExt cx="643320" cy="10836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395820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38808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07412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434340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2" name=""/>
                <p:cNvSpPr/>
                <p:nvPr/>
              </p:nvSpPr>
              <p:spPr>
                <a:xfrm>
                  <a:off x="414720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4611960" y="3066840"/>
                <a:ext cx="643320" cy="129960"/>
                <a:chOff x="4611960" y="3066840"/>
                <a:chExt cx="643320" cy="129960"/>
              </a:xfrm>
            </p:grpSpPr>
            <p:grpSp>
              <p:nvGrpSpPr>
                <p:cNvPr id="1424" name=""/>
                <p:cNvGrpSpPr/>
                <p:nvPr/>
              </p:nvGrpSpPr>
              <p:grpSpPr>
                <a:xfrm>
                  <a:off x="4611960" y="3072960"/>
                  <a:ext cx="643320" cy="108360"/>
                  <a:chOff x="4611960" y="3072960"/>
                  <a:chExt cx="643320" cy="108360"/>
                </a:xfrm>
              </p:grpSpPr>
              <p:sp>
                <p:nvSpPr>
                  <p:cNvPr id="1425" name=""/>
                  <p:cNvSpPr/>
                  <p:nvPr/>
                </p:nvSpPr>
                <p:spPr>
                  <a:xfrm>
                    <a:off x="4689360" y="312804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46119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4805280" y="307296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5074560" y="308808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"/>
                <p:cNvSpPr/>
                <p:nvPr/>
              </p:nvSpPr>
              <p:spPr>
                <a:xfrm>
                  <a:off x="4878360" y="306684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4857480" y="2751120"/>
                <a:ext cx="643320" cy="129960"/>
                <a:chOff x="4857480" y="2751120"/>
                <a:chExt cx="643320" cy="129960"/>
              </a:xfrm>
            </p:grpSpPr>
            <p:grpSp>
              <p:nvGrpSpPr>
                <p:cNvPr id="1431" name=""/>
                <p:cNvGrpSpPr/>
                <p:nvPr/>
              </p:nvGrpSpPr>
              <p:grpSpPr>
                <a:xfrm>
                  <a:off x="4857480" y="2757240"/>
                  <a:ext cx="643320" cy="108360"/>
                  <a:chOff x="4857480" y="2757240"/>
                  <a:chExt cx="643320" cy="108360"/>
                </a:xfrm>
              </p:grpSpPr>
              <p:sp>
                <p:nvSpPr>
                  <p:cNvPr id="1432" name=""/>
                  <p:cNvSpPr/>
                  <p:nvPr/>
                </p:nvSpPr>
                <p:spPr>
                  <a:xfrm>
                    <a:off x="4934880" y="2812320"/>
                    <a:ext cx="4701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48574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5050800" y="2757240"/>
                    <a:ext cx="25308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320080" y="2772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6" name=""/>
                <p:cNvSpPr/>
                <p:nvPr/>
              </p:nvSpPr>
              <p:spPr>
                <a:xfrm>
                  <a:off x="5123880" y="27511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7" name=""/>
          <p:cNvGrpSpPr/>
          <p:nvPr/>
        </p:nvGrpSpPr>
        <p:grpSpPr>
          <a:xfrm>
            <a:off x="1238400" y="1619280"/>
            <a:ext cx="3184200" cy="1484280"/>
            <a:chOff x="1238400" y="1619280"/>
            <a:chExt cx="3184200" cy="1484280"/>
          </a:xfrm>
        </p:grpSpPr>
        <p:sp>
          <p:nvSpPr>
            <p:cNvPr id="1438" name=""/>
            <p:cNvSpPr/>
            <p:nvPr/>
          </p:nvSpPr>
          <p:spPr>
            <a:xfrm flipH="1">
              <a:off x="1238400" y="2198520"/>
              <a:ext cx="39816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1636200" y="1800360"/>
              <a:ext cx="181080" cy="39816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1238400" y="2198520"/>
              <a:ext cx="6523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890720" y="1619280"/>
              <a:ext cx="39672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2142720" y="2198520"/>
              <a:ext cx="2905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2468520" y="2198520"/>
              <a:ext cx="367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2433240" y="1981080"/>
              <a:ext cx="7164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05240" y="1981080"/>
              <a:ext cx="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25880" y="1619280"/>
              <a:ext cx="25236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941640" y="2003400"/>
              <a:ext cx="73080" cy="1810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278240" y="2198520"/>
              <a:ext cx="14436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19400" y="2189160"/>
              <a:ext cx="263520" cy="61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1479600" y="114480"/>
            <a:ext cx="7969320" cy="2255760"/>
            <a:chOff x="1479600" y="114480"/>
            <a:chExt cx="7969320" cy="2255760"/>
          </a:xfrm>
        </p:grpSpPr>
        <p:sp>
          <p:nvSpPr>
            <p:cNvPr id="1451" name=""/>
            <p:cNvSpPr/>
            <p:nvPr/>
          </p:nvSpPr>
          <p:spPr>
            <a:xfrm>
              <a:off x="5272200" y="114480"/>
              <a:ext cx="41767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epartment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ivision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1479600" y="1206360"/>
              <a:ext cx="3854160" cy="1163880"/>
              <a:chOff x="1479600" y="1206360"/>
              <a:chExt cx="3854160" cy="116388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1479600" y="1282680"/>
                <a:ext cx="3854160" cy="1087560"/>
                <a:chOff x="1479600" y="1282680"/>
                <a:chExt cx="3854160" cy="1087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1479600" y="2262240"/>
                  <a:ext cx="4348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1923840" y="1365120"/>
                  <a:ext cx="833400" cy="9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2757240" y="1365120"/>
                  <a:ext cx="250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5297400" y="1282680"/>
                  <a:ext cx="36360" cy="181080"/>
                </a:xfrm>
                <a:custGeom>
                  <a:avLst/>
                  <a:gdLst>
                    <a:gd name="textAreaLeft" fmla="*/ 23400 w 36360"/>
                    <a:gd name="textAreaRight" fmla="*/ 36720 w 36360"/>
                    <a:gd name="textAreaTop" fmla="*/ 4680 h 181080"/>
                    <a:gd name="textAreaBottom" fmla="*/ 176400 h 1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2685960" y="1206360"/>
                <a:ext cx="8319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Synony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9" name=""/>
          <p:cNvGrpSpPr/>
          <p:nvPr/>
        </p:nvGrpSpPr>
        <p:grpSpPr>
          <a:xfrm>
            <a:off x="2287440" y="2082960"/>
            <a:ext cx="7008840" cy="2884320"/>
            <a:chOff x="2287440" y="2082960"/>
            <a:chExt cx="7008840" cy="2884320"/>
          </a:xfrm>
        </p:grpSpPr>
        <p:sp>
          <p:nvSpPr>
            <p:cNvPr id="1460" name=""/>
            <p:cNvSpPr/>
            <p:nvPr/>
          </p:nvSpPr>
          <p:spPr>
            <a:xfrm>
              <a:off x="5656320" y="2082960"/>
              <a:ext cx="363996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sent in electronic format over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computerized world-wide communication 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                        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1" name=""/>
            <p:cNvGrpSpPr/>
            <p:nvPr/>
          </p:nvGrpSpPr>
          <p:grpSpPr>
            <a:xfrm>
              <a:off x="2287440" y="2278080"/>
              <a:ext cx="3579480" cy="2331720"/>
              <a:chOff x="2287440" y="2278080"/>
              <a:chExt cx="3579480" cy="2331720"/>
            </a:xfrm>
          </p:grpSpPr>
          <p:grpSp>
            <p:nvGrpSpPr>
              <p:cNvPr id="1462" name=""/>
              <p:cNvGrpSpPr/>
              <p:nvPr/>
            </p:nvGrpSpPr>
            <p:grpSpPr>
              <a:xfrm>
                <a:off x="2287440" y="2379600"/>
                <a:ext cx="3579480" cy="2230200"/>
                <a:chOff x="2287440" y="2379600"/>
                <a:chExt cx="3579480" cy="223020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2287440" y="2379600"/>
                  <a:ext cx="28908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2585880" y="2436840"/>
                  <a:ext cx="304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H="1" flipV="1">
                  <a:off x="5638320" y="2436840"/>
                  <a:ext cx="228600" cy="10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 flipV="1">
                  <a:off x="5638320" y="2476080"/>
                  <a:ext cx="1522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7" name=""/>
              <p:cNvSpPr/>
              <p:nvPr/>
            </p:nvSpPr>
            <p:spPr>
              <a:xfrm>
                <a:off x="2516040" y="2278080"/>
                <a:ext cx="108576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Ambiguïté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8" name=""/>
          <p:cNvGrpSpPr/>
          <p:nvPr/>
        </p:nvGrpSpPr>
        <p:grpSpPr>
          <a:xfrm>
            <a:off x="857160" y="5807160"/>
            <a:ext cx="1932120" cy="288720"/>
            <a:chOff x="857160" y="5807160"/>
            <a:chExt cx="1932120" cy="288720"/>
          </a:xfrm>
        </p:grpSpPr>
        <p:sp>
          <p:nvSpPr>
            <p:cNvPr id="1469" name=""/>
            <p:cNvSpPr/>
            <p:nvPr/>
          </p:nvSpPr>
          <p:spPr>
            <a:xfrm>
              <a:off x="868320" y="6006960"/>
              <a:ext cx="128520" cy="54000"/>
            </a:xfrm>
            <a:prstGeom prst="parallelogram">
              <a:avLst>
                <a:gd name="adj" fmla="val 59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33480" y="588024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857160" y="5827680"/>
              <a:ext cx="139680" cy="87480"/>
              <a:chOff x="857160" y="5827680"/>
              <a:chExt cx="139680" cy="87480"/>
            </a:xfrm>
          </p:grpSpPr>
          <p:sp>
            <p:nvSpPr>
              <p:cNvPr id="1472" name=""/>
              <p:cNvSpPr/>
              <p:nvPr/>
            </p:nvSpPr>
            <p:spPr>
              <a:xfrm>
                <a:off x="915840" y="584316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966240" y="583092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912240" y="583056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96760" y="586476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57160" y="582768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49680" y="58935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70560" y="5875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9207200">
                <a:off x="949320" y="588024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>
              <a:off x="1087560" y="5807160"/>
              <a:ext cx="1701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Terme utilisé comme label d'un concept / d'une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14480" y="5996160"/>
              <a:ext cx="14436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090440" y="588024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1014480" y="5827680"/>
              <a:ext cx="139680" cy="87480"/>
              <a:chOff x="1014480" y="5827680"/>
              <a:chExt cx="139680" cy="87480"/>
            </a:xfrm>
          </p:grpSpPr>
          <p:sp>
            <p:nvSpPr>
              <p:cNvPr id="1484" name=""/>
              <p:cNvSpPr/>
              <p:nvPr/>
            </p:nvSpPr>
            <p:spPr>
              <a:xfrm>
                <a:off x="1073160" y="584316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123560" y="583092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69560" y="583056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54080" y="586476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014480" y="582768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107000" y="58935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127880" y="5875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9207200">
                <a:off x="1106640" y="588024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F08B-5AAC-4B99-8BAA-B48343FAE6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Garamond"/>
              </a:rPr>
              <a:t>RDF Extensions and Interfac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61760" y="0"/>
            <a:ext cx="838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écessité d'extension</a:t>
            </a:r>
            <a:r>
              <a:rPr b="0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 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: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définition formelle des concepts / propriété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anager (redondance /sens commun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Newcomer (instabl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lleague (terme, concept, propriété, définition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Besoin d'interfaces :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aché le haut: pas intéressant &amp; pb de consensu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niveau bas = consensus de tous les jour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fils pour la naviga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erminologie pour langues / jarg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DD6A-82F0-443C-B6E7-8955295C83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Visualisation: techniques du Web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499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8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10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512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513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15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4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536" name="Atos-Laet-bureau-3" descr=""/>
            <p:cNvPicPr/>
            <p:nvPr/>
          </p:nvPicPr>
          <p:blipFill>
            <a:blip r:embed="rId4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7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1" name="" descr=""/>
            <p:cNvPicPr/>
            <p:nvPr/>
          </p:nvPicPr>
          <p:blipFill>
            <a:blip r:embed="rId5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542" name="" descr=""/>
          <p:cNvPicPr/>
          <p:nvPr/>
        </p:nvPicPr>
        <p:blipFill>
          <a:blip r:embed="rId6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549" name="" descr=""/>
            <p:cNvPicPr/>
            <p:nvPr/>
          </p:nvPicPr>
          <p:blipFill>
            <a:blip r:embed="rId7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50" name="" descr=""/>
            <p:cNvPicPr/>
            <p:nvPr/>
          </p:nvPicPr>
          <p:blipFill>
            <a:blip r:embed="rId8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551" name="" descr=""/>
            <p:cNvPicPr/>
            <p:nvPr/>
          </p:nvPicPr>
          <p:blipFill>
            <a:blip r:embed="rId9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2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553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060720" y="4114800"/>
            <a:ext cx="228600" cy="1409760"/>
            <a:chOff x="3060720" y="4114800"/>
            <a:chExt cx="228600" cy="1409760"/>
          </a:xfrm>
        </p:grpSpPr>
        <p:sp>
          <p:nvSpPr>
            <p:cNvPr id="1556" name=""/>
            <p:cNvSpPr/>
            <p:nvPr/>
          </p:nvSpPr>
          <p:spPr>
            <a:xfrm>
              <a:off x="3085920" y="411480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720" y="4343400"/>
              <a:ext cx="228600" cy="1181160"/>
            </a:xfrm>
            <a:prstGeom prst="downArrow">
              <a:avLst>
                <a:gd name="adj1" fmla="val 50000"/>
                <a:gd name="adj2" fmla="val 929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559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562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5" name="" descr=""/>
          <p:cNvPicPr/>
          <p:nvPr/>
        </p:nvPicPr>
        <p:blipFill>
          <a:blip r:embed="rId10"/>
          <a:stretch/>
        </p:blipFill>
        <p:spPr>
          <a:xfrm>
            <a:off x="3638520" y="5591160"/>
            <a:ext cx="53532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10B9-EA71-40CE-9296-B7BA11A017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Pourquoi ? Qui ? Où ? Quand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Pourquoi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ide à l'insertion d'un nouvel employé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upport de la veille technolog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i ?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 &amp;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Où ?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TOS - Origin (Franc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SELT - Telecom Italia (Italie)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quitt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STB (France)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arriv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LIRMM - Université de Montpellier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T-Nova - Deutsch Telekom (Allemagn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Université de Parme (Italie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ojet ACACIA - INRIA Sophia Antipoli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Quand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De Février 2000 à Février 2002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8484-2CED-4C51-9646-1AB34ECA7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Vue d'ensemble des interfaces et de XSLT 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67" name="" descr=""/>
          <p:cNvPicPr/>
          <p:nvPr/>
        </p:nvPicPr>
        <p:blipFill>
          <a:blip r:embed="rId1"/>
          <a:stretch/>
        </p:blipFill>
        <p:spPr>
          <a:xfrm>
            <a:off x="1371600" y="117360"/>
            <a:ext cx="7313760" cy="613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AA7A-F486-4CA2-9711-3FB304A23F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Naviguer dans l'ontologi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48496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BC8D-3145-4FF5-BFC3-DD44B741DBF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equête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934240" cy="53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E614-FE01-4FB6-8BF5-97C1B914A0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Extensions pour CORES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913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48A9-01F0-42F4-9C72-E82E31F4015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Profils pour la navigation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899320" cy="53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E3DD-07F4-41AD-A447-186CD4446C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erface d'APROBATIOM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1"/>
          <a:stretch/>
        </p:blipFill>
        <p:spPr>
          <a:xfrm>
            <a:off x="903240" y="457200"/>
            <a:ext cx="8240760" cy="53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196F-077D-49F2-9173-33C99ECB3E8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erface terminologiqu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7283520" cy="1195560"/>
          </a:xfrm>
          <a:prstGeom prst="rect">
            <a:avLst/>
          </a:prstGeom>
          <a:ln w="0">
            <a:noFill/>
          </a:ln>
        </p:spPr>
      </p:pic>
      <p:pic>
        <p:nvPicPr>
          <p:cNvPr id="1580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7273800" cy="35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CDD3-D8AE-42B6-AC25-43048C17677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erface Expert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1"/>
          <a:stretch/>
        </p:blipFill>
        <p:spPr>
          <a:xfrm>
            <a:off x="1355760" y="425520"/>
            <a:ext cx="7254720" cy="54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F7C4-0902-4085-A1D5-1C11361560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héma général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1585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1586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96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597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599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600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01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602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05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606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1607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608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09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1610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1612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24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25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1626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1628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37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0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3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46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647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1648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9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1650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58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659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166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1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6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8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16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1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1672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78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684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690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169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3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95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6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97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8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1699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01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2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0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5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170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7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8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10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13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714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1715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6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7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8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1719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1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2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3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4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5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7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728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729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1731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1735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1738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1743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1747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A923-B8F8-4925-B42D-D24D2BF580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MAS : Une société pour la mémoir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Leitmotiv</a:t>
            </a:r>
            <a:r>
              <a:rPr b="0" lang="fr-FR" sz="3200" spc="-1" strike="noStrike">
                <a:solidFill>
                  <a:srgbClr val="cc3300"/>
                </a:solidFill>
                <a:latin typeface="Bookman Old Style"/>
              </a:rPr>
              <a:t>: Une architecture fonctionnelle pour plusieurs configurations possibles afin de s'adapter au panel d'environnements que l'on trouve au sein d'une entreprise.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762120" y="1752480"/>
            <a:ext cx="8229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Une Société pour la Mémoire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ADB5-A2B3-4301-8F0E-E6E4BC6056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omment ?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mment ?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Repartir des constats de départ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Mémoire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estion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opulation d'utilisateurs distribuée et hétérogèn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73120" y="3048120"/>
            <a:ext cx="7314840" cy="609480"/>
            <a:chOff x="1473120" y="3048120"/>
            <a:chExt cx="7314840" cy="609480"/>
          </a:xfrm>
        </p:grpSpPr>
        <p:grpSp>
          <p:nvGrpSpPr>
            <p:cNvPr id="95" name=""/>
            <p:cNvGrpSpPr/>
            <p:nvPr/>
          </p:nvGrpSpPr>
          <p:grpSpPr>
            <a:xfrm>
              <a:off x="1473120" y="3048120"/>
              <a:ext cx="7314840" cy="533160"/>
              <a:chOff x="1473120" y="3048120"/>
              <a:chExt cx="7314840" cy="533160"/>
            </a:xfrm>
          </p:grpSpPr>
          <p:sp>
            <p:nvSpPr>
              <p:cNvPr id="96" name=""/>
              <p:cNvSpPr/>
              <p:nvPr/>
            </p:nvSpPr>
            <p:spPr>
              <a:xfrm>
                <a:off x="1473120" y="304812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31440" y="304812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625760" y="304812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Matérialis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1240" y="304812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66"/>
                  </a:solidFill>
                  <a:uFillTx/>
                  <a:latin typeface="Bookman Old Style"/>
                </a:rPr>
                <a:t>Exploit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73120" y="3581280"/>
            <a:ext cx="7315200" cy="2132640"/>
            <a:chOff x="1473120" y="3581280"/>
            <a:chExt cx="7315200" cy="2132640"/>
          </a:xfrm>
        </p:grpSpPr>
        <p:sp>
          <p:nvSpPr>
            <p:cNvPr id="101" name=""/>
            <p:cNvSpPr/>
            <p:nvPr/>
          </p:nvSpPr>
          <p:spPr>
            <a:xfrm>
              <a:off x="1473120" y="3581280"/>
              <a:ext cx="3657600" cy="2132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0720" y="3581280"/>
              <a:ext cx="3657600" cy="2132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447920" y="3556080"/>
            <a:ext cx="3606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XML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Standard, Structure, Etendre, Valider,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RDF:            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nnotation,   Sché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543480"/>
            <a:ext cx="38098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Système multiagents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Modularité, Distribué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Bookman Old Style"/>
              </a:rPr>
              <a:t>Apprentissage :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Adaptation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73120" y="5715000"/>
            <a:ext cx="7391520" cy="380880"/>
            <a:chOff x="1473120" y="5715000"/>
            <a:chExt cx="7391520" cy="380880"/>
          </a:xfrm>
        </p:grpSpPr>
        <p:grpSp>
          <p:nvGrpSpPr>
            <p:cNvPr id="106" name=""/>
            <p:cNvGrpSpPr/>
            <p:nvPr/>
          </p:nvGrpSpPr>
          <p:grpSpPr>
            <a:xfrm>
              <a:off x="1473120" y="5715000"/>
              <a:ext cx="7314840" cy="380880"/>
              <a:chOff x="1473120" y="5715000"/>
              <a:chExt cx="731484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473120" y="5715000"/>
                <a:ext cx="365760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30720" y="5715000"/>
                <a:ext cx="36572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919160" y="5715000"/>
              <a:ext cx="32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Co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rporate </a:t>
              </a: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M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6720" y="5715000"/>
              <a:ext cx="3787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M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anagement through </a:t>
              </a:r>
              <a:r>
                <a:rPr b="1" lang="fr-FR" sz="1800" spc="-1" strike="noStrike">
                  <a:solidFill>
                    <a:srgbClr val="cc3300"/>
                  </a:solidFill>
                  <a:latin typeface="Bookman Old Style"/>
                </a:rPr>
                <a:t>A</a:t>
              </a:r>
              <a:r>
                <a:rPr b="1" lang="fr-FR" sz="1800" spc="-1" strike="noStrike">
                  <a:solidFill>
                    <a:srgbClr val="000066"/>
                  </a:solidFill>
                  <a:latin typeface="Bookman Old Style"/>
                </a:rPr>
                <a:t>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4435-DC46-42B7-8591-8D1F0637A8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Caractéristiques des MA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761760" y="-7668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Systèmes d'Information Multi-Agent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opulation des ag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gents fournisseurs</a:t>
            </a:r>
            <a:r>
              <a:rPr b="0" lang="fr-FR" sz="2400" spc="-1" strike="noStrike">
                <a:solidFill>
                  <a:srgbClr val="cc3300"/>
                </a:solidFill>
                <a:latin typeface="Bookman Old Style"/>
              </a:rPr>
              <a:t>*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gents demandeurs</a:t>
            </a:r>
            <a:r>
              <a:rPr b="0" lang="fr-FR" sz="2400" spc="-1" strike="noStrike">
                <a:solidFill>
                  <a:srgbClr val="cc3300"/>
                </a:solidFill>
                <a:latin typeface="Bookman Old Style"/>
              </a:rPr>
              <a:t>*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gents médiateurs</a:t>
            </a:r>
            <a:r>
              <a:rPr b="0" lang="fr-FR" sz="2400" spc="-1" strike="noStrike">
                <a:solidFill>
                  <a:srgbClr val="cc3300"/>
                </a:solidFill>
                <a:latin typeface="Bookman Old Style"/>
              </a:rPr>
              <a:t>*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Bookman Old Style"/>
              </a:rPr>
              <a:t>(*roles)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istribués à travers le réseau &amp; assignés aux différentes ressourc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changent &amp; exploitent l'information grâce à l'ontologie partagé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touts des agent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istribution flexible grâce à des composants logiciels faiblement couplé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Echange de messages au niveau sémantique, naturel et adapté à un problème d'IC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D21B-2D08-4B48-8AE6-C7B2A7D1C8E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Vue d'Ensemble de l'Architectur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433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rchitecture / Configurat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Architecture: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Types d'agents and leurs relations           </a:t>
            </a:r>
            <a:r>
              <a:rPr b="0" i="1" lang="fr-FR" sz="2800" spc="-1" strike="noStrike">
                <a:solidFill>
                  <a:srgbClr val="cc3300"/>
                </a:solidFill>
                <a:latin typeface="Bookman Old Style"/>
              </a:rPr>
              <a:t>Fixée lors de la conception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Configuration: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Topographie exacte d'un MAS                  </a:t>
            </a:r>
            <a:r>
              <a:rPr b="0" i="1" lang="fr-FR" sz="2800" spc="-1" strike="noStrike">
                <a:solidFill>
                  <a:srgbClr val="cc3300"/>
                </a:solidFill>
                <a:latin typeface="Bookman Old Style"/>
              </a:rPr>
              <a:t>Fixée lors du déploiemen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U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architecture fonctionnelle 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br>
              <a:rPr sz="2400"/>
            </a:b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Plusieurs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onfigurations possibles</a:t>
            </a:r>
            <a:br>
              <a:rPr sz="2800"/>
            </a:b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                     </a:t>
            </a:r>
            <a:r>
              <a:rPr b="0" i="1" lang="fr-FR" sz="2800" spc="-1" strike="noStrike">
                <a:solidFill>
                  <a:srgbClr val="cc3300"/>
                </a:solidFill>
                <a:latin typeface="Bookman Old Style"/>
              </a:rPr>
              <a:t>S'adapter à l'environnement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  <a:ea typeface="Times New Roman"/>
              </a:rPr>
              <a:t>Choix de déploiement motivés par la topographie du paysage d'informat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tructure organisation (organigramme, géographie..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éseau Intranet (topographie, sécurité..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Intéressés (fournisseurs, demandeurs...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7EF7-46DD-49CD-9037-07AE9DC548C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Architecture niveau macroscopiqu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85800" y="-7632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Niveau macroscopiqu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Problèm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: Ingénierie des interactions &amp; organisation du MAS pour satisfaire le le cahier des charg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alyse descendante des tâch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remier niveau: 4 sous-société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1600200" y="3117960"/>
            <a:ext cx="3060720" cy="725400"/>
            <a:chOff x="1600200" y="3117960"/>
            <a:chExt cx="3060720" cy="725400"/>
          </a:xfrm>
        </p:grpSpPr>
        <p:sp>
          <p:nvSpPr>
            <p:cNvPr id="1760" name=""/>
            <p:cNvSpPr/>
            <p:nvPr/>
          </p:nvSpPr>
          <p:spPr>
            <a:xfrm>
              <a:off x="1600200" y="311796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1684440" y="3244320"/>
              <a:ext cx="429480" cy="475200"/>
              <a:chOff x="1684440" y="3244320"/>
              <a:chExt cx="429480" cy="475200"/>
            </a:xfrm>
          </p:grpSpPr>
          <p:grpSp>
            <p:nvGrpSpPr>
              <p:cNvPr id="1762" name=""/>
              <p:cNvGrpSpPr/>
              <p:nvPr/>
            </p:nvGrpSpPr>
            <p:grpSpPr>
              <a:xfrm>
                <a:off x="1830600" y="3244320"/>
                <a:ext cx="283320" cy="389880"/>
                <a:chOff x="1830600" y="3244320"/>
                <a:chExt cx="283320" cy="38988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1830600" y="343944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V="1">
                  <a:off x="1830600" y="324396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1778760" y="3272760"/>
                <a:ext cx="283320" cy="389880"/>
                <a:chOff x="1778760" y="3272760"/>
                <a:chExt cx="283320" cy="38988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1778760" y="346788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V="1">
                  <a:off x="1778760" y="327240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1735920" y="3300840"/>
                <a:ext cx="283320" cy="389880"/>
                <a:chOff x="1735920" y="3300840"/>
                <a:chExt cx="283320" cy="38988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1735920" y="349596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V="1">
                  <a:off x="1735920" y="330048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1684440" y="3329640"/>
                <a:ext cx="283320" cy="389880"/>
                <a:chOff x="1684440" y="3329640"/>
                <a:chExt cx="283320" cy="38988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1684440" y="352476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1684440" y="332928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4" name=""/>
            <p:cNvSpPr/>
            <p:nvPr/>
          </p:nvSpPr>
          <p:spPr>
            <a:xfrm>
              <a:off x="2168640" y="3135240"/>
              <a:ext cx="249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492360" y="5284800"/>
            <a:ext cx="3060720" cy="735120"/>
            <a:chOff x="3492360" y="5284800"/>
            <a:chExt cx="3060720" cy="735120"/>
          </a:xfrm>
        </p:grpSpPr>
        <p:sp>
          <p:nvSpPr>
            <p:cNvPr id="1776" name=""/>
            <p:cNvSpPr/>
            <p:nvPr/>
          </p:nvSpPr>
          <p:spPr>
            <a:xfrm>
              <a:off x="3492360" y="5284800"/>
              <a:ext cx="306072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3701520" y="5422680"/>
              <a:ext cx="392760" cy="473400"/>
              <a:chOff x="3701520" y="5422680"/>
              <a:chExt cx="392760" cy="47340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3835080" y="5422680"/>
                <a:ext cx="259200" cy="388440"/>
                <a:chOff x="3835080" y="5422680"/>
                <a:chExt cx="259200" cy="3884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835080" y="561708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V="1">
                  <a:off x="3835080" y="542232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3787920" y="5451120"/>
                <a:ext cx="259200" cy="388440"/>
                <a:chOff x="3787920" y="5451120"/>
                <a:chExt cx="259200" cy="38844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3787920" y="564552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V="1">
                  <a:off x="3787920" y="545076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3748680" y="5479200"/>
                <a:ext cx="259200" cy="388440"/>
                <a:chOff x="3748680" y="5479200"/>
                <a:chExt cx="259200" cy="38844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3748680" y="567360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3748680" y="547884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3701520" y="5507640"/>
                <a:ext cx="259200" cy="388440"/>
                <a:chOff x="3701520" y="5507640"/>
                <a:chExt cx="259200" cy="38844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3701520" y="570204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V="1">
                  <a:off x="3701520" y="5507280"/>
                  <a:ext cx="25920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0" name=""/>
            <p:cNvSpPr/>
            <p:nvPr/>
          </p:nvSpPr>
          <p:spPr>
            <a:xfrm>
              <a:off x="4203360" y="5315040"/>
              <a:ext cx="2312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5319720" y="3117960"/>
            <a:ext cx="3062160" cy="725400"/>
            <a:chOff x="5319720" y="3117960"/>
            <a:chExt cx="3062160" cy="725400"/>
          </a:xfrm>
        </p:grpSpPr>
        <p:sp>
          <p:nvSpPr>
            <p:cNvPr id="1792" name=""/>
            <p:cNvSpPr/>
            <p:nvPr/>
          </p:nvSpPr>
          <p:spPr>
            <a:xfrm>
              <a:off x="5319720" y="311796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5530680" y="3231720"/>
              <a:ext cx="396720" cy="475200"/>
              <a:chOff x="5530680" y="3231720"/>
              <a:chExt cx="396720" cy="475200"/>
            </a:xfrm>
          </p:grpSpPr>
          <p:grpSp>
            <p:nvGrpSpPr>
              <p:cNvPr id="1794" name=""/>
              <p:cNvGrpSpPr/>
              <p:nvPr/>
            </p:nvGrpSpPr>
            <p:grpSpPr>
              <a:xfrm>
                <a:off x="5665680" y="3231720"/>
                <a:ext cx="261720" cy="389880"/>
                <a:chOff x="5665680" y="3231720"/>
                <a:chExt cx="261720" cy="389880"/>
              </a:xfrm>
            </p:grpSpPr>
            <p:sp>
              <p:nvSpPr>
                <p:cNvPr id="1795" name=""/>
                <p:cNvSpPr/>
                <p:nvPr/>
              </p:nvSpPr>
              <p:spPr>
                <a:xfrm>
                  <a:off x="5665680" y="342684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V="1">
                  <a:off x="5665680" y="323136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5617800" y="3260160"/>
                <a:ext cx="261720" cy="389880"/>
                <a:chOff x="5617800" y="3260160"/>
                <a:chExt cx="261720" cy="38988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5617800" y="345528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5617800" y="325980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578200" y="3288240"/>
                <a:ext cx="261720" cy="389880"/>
                <a:chOff x="5578200" y="3288240"/>
                <a:chExt cx="261720" cy="3898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578200" y="348336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V="1">
                  <a:off x="5578200" y="328788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3" name=""/>
              <p:cNvGrpSpPr/>
              <p:nvPr/>
            </p:nvGrpSpPr>
            <p:grpSpPr>
              <a:xfrm>
                <a:off x="5530680" y="3317040"/>
                <a:ext cx="261720" cy="389880"/>
                <a:chOff x="5530680" y="3317040"/>
                <a:chExt cx="261720" cy="389880"/>
              </a:xfrm>
            </p:grpSpPr>
            <p:sp>
              <p:nvSpPr>
                <p:cNvPr id="1804" name=""/>
                <p:cNvSpPr/>
                <p:nvPr/>
              </p:nvSpPr>
              <p:spPr>
                <a:xfrm>
                  <a:off x="5530680" y="351216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V="1">
                  <a:off x="5530680" y="331668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6" name=""/>
            <p:cNvSpPr/>
            <p:nvPr/>
          </p:nvSpPr>
          <p:spPr>
            <a:xfrm>
              <a:off x="5778360" y="3130560"/>
              <a:ext cx="25927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4437000" y="2641680"/>
            <a:ext cx="1099800" cy="990000"/>
            <a:chOff x="4437000" y="2641680"/>
            <a:chExt cx="1099800" cy="990000"/>
          </a:xfrm>
        </p:grpSpPr>
        <p:grpSp>
          <p:nvGrpSpPr>
            <p:cNvPr id="1808" name=""/>
            <p:cNvGrpSpPr/>
            <p:nvPr/>
          </p:nvGrpSpPr>
          <p:grpSpPr>
            <a:xfrm>
              <a:off x="4437000" y="2869920"/>
              <a:ext cx="1099800" cy="761760"/>
              <a:chOff x="4437000" y="2869920"/>
              <a:chExt cx="1099800" cy="761760"/>
            </a:xfrm>
          </p:grpSpPr>
          <p:sp>
            <p:nvSpPr>
              <p:cNvPr id="1809" name=""/>
              <p:cNvSpPr/>
              <p:nvPr/>
            </p:nvSpPr>
            <p:spPr>
              <a:xfrm flipH="1">
                <a:off x="4437000" y="2869920"/>
                <a:ext cx="562320" cy="761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999320" y="2869920"/>
                <a:ext cx="537480" cy="761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656960" y="2641680"/>
              <a:ext cx="583200" cy="611640"/>
              <a:chOff x="4656960" y="2641680"/>
              <a:chExt cx="583200" cy="611640"/>
            </a:xfrm>
          </p:grpSpPr>
          <p:sp>
            <p:nvSpPr>
              <p:cNvPr id="1812" name=""/>
              <p:cNvSpPr/>
              <p:nvPr/>
            </p:nvSpPr>
            <p:spPr>
              <a:xfrm>
                <a:off x="4947120" y="2641680"/>
                <a:ext cx="293040" cy="45684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3" name=""/>
              <p:cNvGrpSpPr/>
              <p:nvPr/>
            </p:nvGrpSpPr>
            <p:grpSpPr>
              <a:xfrm>
                <a:off x="4656960" y="2730240"/>
                <a:ext cx="513000" cy="523080"/>
                <a:chOff x="4656960" y="2730240"/>
                <a:chExt cx="513000" cy="523080"/>
              </a:xfrm>
            </p:grpSpPr>
            <p:grpSp>
              <p:nvGrpSpPr>
                <p:cNvPr id="1814" name=""/>
                <p:cNvGrpSpPr/>
                <p:nvPr/>
              </p:nvGrpSpPr>
              <p:grpSpPr>
                <a:xfrm>
                  <a:off x="4950000" y="3009600"/>
                  <a:ext cx="219960" cy="243720"/>
                  <a:chOff x="4950000" y="3009600"/>
                  <a:chExt cx="219960" cy="24372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>
                    <a:off x="4950000" y="3009600"/>
                    <a:ext cx="219960" cy="243720"/>
                  </a:xfrm>
                  <a:custGeom>
                    <a:avLst/>
                    <a:gdLst>
                      <a:gd name="textAreaLeft" fmla="*/ 58320 w 219960"/>
                      <a:gd name="textAreaRight" fmla="*/ 161640 w 219960"/>
                      <a:gd name="textAreaTop" fmla="*/ 64800 h 243720"/>
                      <a:gd name="textAreaBottom" fmla="*/ 178920 h 24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5037840" y="3108600"/>
                    <a:ext cx="43920" cy="4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7" name=""/>
                <p:cNvGrpSpPr/>
                <p:nvPr/>
              </p:nvGrpSpPr>
              <p:grpSpPr>
                <a:xfrm>
                  <a:off x="4656960" y="2730240"/>
                  <a:ext cx="383400" cy="411480"/>
                  <a:chOff x="4656960" y="2730240"/>
                  <a:chExt cx="383400" cy="411480"/>
                </a:xfrm>
              </p:grpSpPr>
              <p:sp>
                <p:nvSpPr>
                  <p:cNvPr id="1818" name=""/>
                  <p:cNvSpPr/>
                  <p:nvPr/>
                </p:nvSpPr>
                <p:spPr>
                  <a:xfrm>
                    <a:off x="4656960" y="2730240"/>
                    <a:ext cx="383400" cy="411480"/>
                  </a:xfrm>
                  <a:custGeom>
                    <a:avLst/>
                    <a:gdLst>
                      <a:gd name="textAreaLeft" fmla="*/ 87480 w 383400"/>
                      <a:gd name="textAreaRight" fmla="*/ 295920 w 383400"/>
                      <a:gd name="textAreaTop" fmla="*/ 93960 h 411480"/>
                      <a:gd name="textAreaBottom" fmla="*/ 317520 h 411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4819320" y="2905560"/>
                    <a:ext cx="5832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0" name=""/>
          <p:cNvGrpSpPr/>
          <p:nvPr/>
        </p:nvGrpSpPr>
        <p:grpSpPr>
          <a:xfrm>
            <a:off x="3492360" y="3695760"/>
            <a:ext cx="3344760" cy="1660320"/>
            <a:chOff x="3492360" y="3695760"/>
            <a:chExt cx="3344760" cy="1660320"/>
          </a:xfrm>
        </p:grpSpPr>
        <p:sp>
          <p:nvSpPr>
            <p:cNvPr id="1821" name=""/>
            <p:cNvSpPr/>
            <p:nvPr/>
          </p:nvSpPr>
          <p:spPr>
            <a:xfrm>
              <a:off x="3492360" y="419904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3689280" y="4335120"/>
              <a:ext cx="405000" cy="473400"/>
              <a:chOff x="3689280" y="4335120"/>
              <a:chExt cx="405000" cy="473400"/>
            </a:xfrm>
          </p:grpSpPr>
          <p:grpSp>
            <p:nvGrpSpPr>
              <p:cNvPr id="1823" name=""/>
              <p:cNvGrpSpPr/>
              <p:nvPr/>
            </p:nvGrpSpPr>
            <p:grpSpPr>
              <a:xfrm>
                <a:off x="3827160" y="4335120"/>
                <a:ext cx="267120" cy="388440"/>
                <a:chOff x="3827160" y="4335120"/>
                <a:chExt cx="267120" cy="3884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3827160" y="452952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V="1">
                  <a:off x="3827160" y="433476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3778200" y="4363560"/>
                <a:ext cx="267120" cy="388440"/>
                <a:chOff x="3778200" y="4363560"/>
                <a:chExt cx="267120" cy="38844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3778200" y="455796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V="1">
                  <a:off x="3778200" y="436320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3737880" y="4391640"/>
                <a:ext cx="267120" cy="388440"/>
                <a:chOff x="3737880" y="4391640"/>
                <a:chExt cx="267120" cy="38844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3737880" y="458604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V="1">
                  <a:off x="3737880" y="439128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3689280" y="4420080"/>
                <a:ext cx="267120" cy="388440"/>
                <a:chOff x="3689280" y="4420080"/>
                <a:chExt cx="267120" cy="38844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3689280" y="461448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V="1">
                  <a:off x="3689280" y="441972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5" name=""/>
            <p:cNvSpPr/>
            <p:nvPr/>
          </p:nvSpPr>
          <p:spPr>
            <a:xfrm>
              <a:off x="4132800" y="4228920"/>
              <a:ext cx="27043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776400" y="3695760"/>
              <a:ext cx="711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46880" y="479592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5912280" y="3695760"/>
              <a:ext cx="71208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8392-BB88-400B-A4ED-087D6488721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Organisation des sous-société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1293480" y="2151000"/>
            <a:ext cx="3841920" cy="1620720"/>
            <a:chOff x="1293480" y="2151000"/>
            <a:chExt cx="3841920" cy="1620720"/>
          </a:xfrm>
        </p:grpSpPr>
        <p:grpSp>
          <p:nvGrpSpPr>
            <p:cNvPr id="1841" name=""/>
            <p:cNvGrpSpPr/>
            <p:nvPr/>
          </p:nvGrpSpPr>
          <p:grpSpPr>
            <a:xfrm>
              <a:off x="1554120" y="2151000"/>
              <a:ext cx="3581280" cy="1620720"/>
              <a:chOff x="1554120" y="2151000"/>
              <a:chExt cx="3581280" cy="1620720"/>
            </a:xfrm>
          </p:grpSpPr>
          <p:sp>
            <p:nvSpPr>
              <p:cNvPr id="1842" name=""/>
              <p:cNvSpPr/>
              <p:nvPr/>
            </p:nvSpPr>
            <p:spPr>
              <a:xfrm>
                <a:off x="1554120" y="262872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3" name=""/>
              <p:cNvGrpSpPr/>
              <p:nvPr/>
            </p:nvGrpSpPr>
            <p:grpSpPr>
              <a:xfrm>
                <a:off x="3255840" y="3225600"/>
                <a:ext cx="228600" cy="388800"/>
                <a:chOff x="3255840" y="3225600"/>
                <a:chExt cx="228600" cy="38880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3255840" y="34200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3255840" y="3225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3687840" y="2722320"/>
                <a:ext cx="228600" cy="388800"/>
                <a:chOff x="3687840" y="2722320"/>
                <a:chExt cx="228600" cy="38880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3687840" y="29167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V="1">
                  <a:off x="3687840" y="2722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4221000" y="3314520"/>
                <a:ext cx="228600" cy="388800"/>
                <a:chOff x="4221000" y="3314520"/>
                <a:chExt cx="228600" cy="38880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4221000" y="3508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V="1">
                  <a:off x="4221000" y="3314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4678200" y="3332160"/>
                <a:ext cx="228600" cy="388800"/>
                <a:chOff x="4678200" y="3332160"/>
                <a:chExt cx="228600" cy="38880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4678200" y="3526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V="1">
                  <a:off x="4678200" y="33321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5" name=""/>
              <p:cNvSpPr/>
              <p:nvPr/>
            </p:nvSpPr>
            <p:spPr>
              <a:xfrm>
                <a:off x="1630440" y="272232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 Coopérat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3535200" y="314928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 flipV="1">
                <a:off x="3840120" y="3149640"/>
                <a:ext cx="380880" cy="304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4449600" y="2798640"/>
                <a:ext cx="228600" cy="388800"/>
                <a:chOff x="4449600" y="2798640"/>
                <a:chExt cx="228600" cy="38880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4449600" y="29930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V="1">
                  <a:off x="4449600" y="2798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1" name=""/>
              <p:cNvSpPr/>
              <p:nvPr/>
            </p:nvSpPr>
            <p:spPr>
              <a:xfrm flipH="1" flipV="1">
                <a:off x="3916080" y="2950920"/>
                <a:ext cx="533160" cy="763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3687840" y="3332160"/>
                <a:ext cx="228600" cy="388800"/>
                <a:chOff x="3687840" y="3332160"/>
                <a:chExt cx="228600" cy="3888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687840" y="3526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V="1">
                  <a:off x="3687840" y="33321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319560" y="2689200"/>
                <a:ext cx="228600" cy="388800"/>
                <a:chOff x="3319560" y="2689200"/>
                <a:chExt cx="228600" cy="38880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3319560" y="2883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V="1">
                  <a:off x="3319560" y="26892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3611520" y="2151000"/>
                <a:ext cx="380880" cy="545760"/>
                <a:chOff x="3611520" y="2151000"/>
                <a:chExt cx="380880" cy="545760"/>
              </a:xfrm>
            </p:grpSpPr>
            <p:sp>
              <p:nvSpPr>
                <p:cNvPr id="1869" name=""/>
                <p:cNvSpPr/>
                <p:nvPr/>
              </p:nvSpPr>
              <p:spPr>
                <a:xfrm flipV="1">
                  <a:off x="3611520" y="216828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789360" y="215100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>
              <a:off x="1293480" y="217188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Egalit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94560" y="76320"/>
            <a:ext cx="3840840" cy="1657080"/>
            <a:chOff x="1294560" y="76320"/>
            <a:chExt cx="3840840" cy="1657080"/>
          </a:xfrm>
        </p:grpSpPr>
        <p:grpSp>
          <p:nvGrpSpPr>
            <p:cNvPr id="1873" name=""/>
            <p:cNvGrpSpPr/>
            <p:nvPr/>
          </p:nvGrpSpPr>
          <p:grpSpPr>
            <a:xfrm>
              <a:off x="1554120" y="76320"/>
              <a:ext cx="3581280" cy="1657080"/>
              <a:chOff x="1554120" y="76320"/>
              <a:chExt cx="3581280" cy="1657080"/>
            </a:xfrm>
          </p:grpSpPr>
          <p:sp>
            <p:nvSpPr>
              <p:cNvPr id="1874" name=""/>
              <p:cNvSpPr/>
              <p:nvPr/>
            </p:nvSpPr>
            <p:spPr>
              <a:xfrm>
                <a:off x="1554120" y="57168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5" name=""/>
              <p:cNvGrpSpPr/>
              <p:nvPr/>
            </p:nvGrpSpPr>
            <p:grpSpPr>
              <a:xfrm>
                <a:off x="4373640" y="660600"/>
                <a:ext cx="228600" cy="388800"/>
                <a:chOff x="4373640" y="660600"/>
                <a:chExt cx="228600" cy="38880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4373640" y="8550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V="1">
                  <a:off x="4373640" y="660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8" name=""/>
              <p:cNvGrpSpPr/>
              <p:nvPr/>
            </p:nvGrpSpPr>
            <p:grpSpPr>
              <a:xfrm>
                <a:off x="3230640" y="1257480"/>
                <a:ext cx="228600" cy="388800"/>
                <a:chOff x="3230640" y="1257480"/>
                <a:chExt cx="228600" cy="388800"/>
              </a:xfrm>
            </p:grpSpPr>
            <p:sp>
              <p:nvSpPr>
                <p:cNvPr id="1879" name=""/>
                <p:cNvSpPr/>
                <p:nvPr/>
              </p:nvSpPr>
              <p:spPr>
                <a:xfrm>
                  <a:off x="3230640" y="1451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3230640" y="1257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1" name=""/>
              <p:cNvGrpSpPr/>
              <p:nvPr/>
            </p:nvGrpSpPr>
            <p:grpSpPr>
              <a:xfrm>
                <a:off x="3687840" y="660600"/>
                <a:ext cx="228600" cy="388800"/>
                <a:chOff x="3687840" y="660600"/>
                <a:chExt cx="228600" cy="38880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687840" y="8550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3687840" y="6606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3687840" y="1257480"/>
                <a:ext cx="228600" cy="388800"/>
                <a:chOff x="3687840" y="1257480"/>
                <a:chExt cx="228600" cy="388800"/>
              </a:xfrm>
            </p:grpSpPr>
            <p:sp>
              <p:nvSpPr>
                <p:cNvPr id="1885" name=""/>
                <p:cNvSpPr/>
                <p:nvPr/>
              </p:nvSpPr>
              <p:spPr>
                <a:xfrm>
                  <a:off x="3687840" y="1451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V="1">
                  <a:off x="3687840" y="1257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7" name=""/>
              <p:cNvGrpSpPr/>
              <p:nvPr/>
            </p:nvGrpSpPr>
            <p:grpSpPr>
              <a:xfrm>
                <a:off x="4221000" y="1257480"/>
                <a:ext cx="228600" cy="388800"/>
                <a:chOff x="4221000" y="1257480"/>
                <a:chExt cx="228600" cy="38880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4221000" y="1451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4221000" y="1257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4678200" y="1257480"/>
                <a:ext cx="228600" cy="388800"/>
                <a:chOff x="4678200" y="1257480"/>
                <a:chExt cx="228600" cy="38880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4678200" y="1451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V="1">
                  <a:off x="4678200" y="1257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3" name=""/>
              <p:cNvSpPr/>
              <p:nvPr/>
            </p:nvSpPr>
            <p:spPr>
              <a:xfrm>
                <a:off x="1554120" y="1130400"/>
                <a:ext cx="3581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615320" y="622440"/>
                <a:ext cx="15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présen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630080" y="1090800"/>
                <a:ext cx="122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3535200" y="109188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 flipV="1">
                <a:off x="3840120" y="1091880"/>
                <a:ext cx="380880" cy="304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8" name=""/>
              <p:cNvGrpSpPr/>
              <p:nvPr/>
            </p:nvGrpSpPr>
            <p:grpSpPr>
              <a:xfrm>
                <a:off x="3611520" y="76320"/>
                <a:ext cx="380880" cy="545760"/>
                <a:chOff x="3611520" y="76320"/>
                <a:chExt cx="380880" cy="545760"/>
              </a:xfrm>
            </p:grpSpPr>
            <p:sp>
              <p:nvSpPr>
                <p:cNvPr id="1899" name=""/>
                <p:cNvSpPr/>
                <p:nvPr/>
              </p:nvSpPr>
              <p:spPr>
                <a:xfrm flipV="1">
                  <a:off x="3611520" y="9324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3789360" y="7632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1" name=""/>
            <p:cNvSpPr/>
            <p:nvPr/>
          </p:nvSpPr>
          <p:spPr>
            <a:xfrm>
              <a:off x="1294560" y="1144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Hiérarch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1293840" y="4191120"/>
            <a:ext cx="3841560" cy="1638360"/>
            <a:chOff x="1293840" y="4191120"/>
            <a:chExt cx="3841560" cy="1638360"/>
          </a:xfrm>
        </p:grpSpPr>
        <p:grpSp>
          <p:nvGrpSpPr>
            <p:cNvPr id="1903" name=""/>
            <p:cNvGrpSpPr/>
            <p:nvPr/>
          </p:nvGrpSpPr>
          <p:grpSpPr>
            <a:xfrm>
              <a:off x="1554120" y="4191120"/>
              <a:ext cx="3581280" cy="1638360"/>
              <a:chOff x="1554120" y="4191120"/>
              <a:chExt cx="3581280" cy="1638360"/>
            </a:xfrm>
          </p:grpSpPr>
          <p:sp>
            <p:nvSpPr>
              <p:cNvPr id="1904" name=""/>
              <p:cNvSpPr/>
              <p:nvPr/>
            </p:nvSpPr>
            <p:spPr>
              <a:xfrm>
                <a:off x="1554120" y="468648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5" name=""/>
              <p:cNvGrpSpPr/>
              <p:nvPr/>
            </p:nvGrpSpPr>
            <p:grpSpPr>
              <a:xfrm>
                <a:off x="3230640" y="5067360"/>
                <a:ext cx="228600" cy="388800"/>
                <a:chOff x="3230640" y="5067360"/>
                <a:chExt cx="228600" cy="3888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3230640" y="52617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V="1">
                  <a:off x="3230640" y="50673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4068720" y="4762440"/>
                <a:ext cx="228600" cy="388800"/>
                <a:chOff x="4068720" y="4762440"/>
                <a:chExt cx="228600" cy="38880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4068720" y="4956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V="1">
                  <a:off x="4068720" y="4762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1" name=""/>
              <p:cNvGrpSpPr/>
              <p:nvPr/>
            </p:nvGrpSpPr>
            <p:grpSpPr>
              <a:xfrm>
                <a:off x="3992400" y="5295960"/>
                <a:ext cx="228600" cy="388800"/>
                <a:chOff x="3992400" y="5295960"/>
                <a:chExt cx="228600" cy="38880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3992400" y="54903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V="1">
                  <a:off x="3992400" y="5295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4678200" y="5389560"/>
                <a:ext cx="228600" cy="388800"/>
                <a:chOff x="4678200" y="5389560"/>
                <a:chExt cx="228600" cy="38880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4678200" y="5583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V="1">
                  <a:off x="4678200" y="5389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"/>
              <p:cNvSpPr/>
              <p:nvPr/>
            </p:nvSpPr>
            <p:spPr>
              <a:xfrm>
                <a:off x="1630440" y="478008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 Ré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4373640" y="5143680"/>
                <a:ext cx="228600" cy="388800"/>
                <a:chOff x="4373640" y="5143680"/>
                <a:chExt cx="228600" cy="38880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4373640" y="53380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flipV="1">
                  <a:off x="4373640" y="51436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3535200" y="5372280"/>
                <a:ext cx="228600" cy="388800"/>
                <a:chOff x="3535200" y="5372280"/>
                <a:chExt cx="228600" cy="3888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3535200" y="55666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V="1">
                  <a:off x="3535200" y="53722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4" name=""/>
              <p:cNvGrpSpPr/>
              <p:nvPr/>
            </p:nvGrpSpPr>
            <p:grpSpPr>
              <a:xfrm>
                <a:off x="3687840" y="4762440"/>
                <a:ext cx="228600" cy="388800"/>
                <a:chOff x="3687840" y="4762440"/>
                <a:chExt cx="228600" cy="38880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3687840" y="4956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3687840" y="4762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"/>
              <p:cNvGrpSpPr/>
              <p:nvPr/>
            </p:nvGrpSpPr>
            <p:grpSpPr>
              <a:xfrm>
                <a:off x="3611520" y="4191120"/>
                <a:ext cx="380880" cy="545760"/>
                <a:chOff x="3611520" y="4191120"/>
                <a:chExt cx="380880" cy="545760"/>
              </a:xfrm>
            </p:grpSpPr>
            <p:sp>
              <p:nvSpPr>
                <p:cNvPr id="1928" name=""/>
                <p:cNvSpPr/>
                <p:nvPr/>
              </p:nvSpPr>
              <p:spPr>
                <a:xfrm flipV="1">
                  <a:off x="3611520" y="420840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3789360" y="419112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0" name=""/>
            <p:cNvSpPr/>
            <p:nvPr/>
          </p:nvSpPr>
          <p:spPr>
            <a:xfrm>
              <a:off x="1293840" y="422928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976640" y="546120"/>
            <a:ext cx="41529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istribuer les rôl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istribue Ch. Tvl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ugmente Ch. R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932" name=""/>
          <p:cNvSpPr/>
          <p:nvPr/>
        </p:nvSpPr>
        <p:spPr>
          <a:xfrm>
            <a:off x="5029200" y="2527200"/>
            <a:ext cx="4267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istribuer cont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h. Tvl.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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h.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dondance 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952880" y="4343400"/>
            <a:ext cx="447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éplication complè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dond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h Tvl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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h.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ntenu répl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D101-3572-4613-A244-A2C64FDD19D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ontologie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76212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es ontologist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819000" indent="-28548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quête hiérarchie concepts &amp; rela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819000" indent="-28548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quête termes, synonymes, vues..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1936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1937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8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8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1949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1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1955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1959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1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4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67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5091120" y="1828800"/>
              <a:ext cx="3062160" cy="725400"/>
              <a:chOff x="5091120" y="1828800"/>
              <a:chExt cx="3062160" cy="725400"/>
            </a:xfrm>
          </p:grpSpPr>
          <p:sp>
            <p:nvSpPr>
              <p:cNvPr id="1969" name=""/>
              <p:cNvSpPr/>
              <p:nvPr/>
            </p:nvSpPr>
            <p:spPr>
              <a:xfrm>
                <a:off x="5091120" y="1828800"/>
                <a:ext cx="306216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0" name=""/>
              <p:cNvGrpSpPr/>
              <p:nvPr/>
            </p:nvGrpSpPr>
            <p:grpSpPr>
              <a:xfrm>
                <a:off x="5302080" y="1942560"/>
                <a:ext cx="396720" cy="475200"/>
                <a:chOff x="5302080" y="1942560"/>
                <a:chExt cx="396720" cy="475200"/>
              </a:xfrm>
            </p:grpSpPr>
            <p:grpSp>
              <p:nvGrpSpPr>
                <p:cNvPr id="1971" name=""/>
                <p:cNvGrpSpPr/>
                <p:nvPr/>
              </p:nvGrpSpPr>
              <p:grpSpPr>
                <a:xfrm>
                  <a:off x="5437080" y="1942560"/>
                  <a:ext cx="261720" cy="389880"/>
                  <a:chOff x="5437080" y="1942560"/>
                  <a:chExt cx="261720" cy="38988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5437080" y="213768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flipV="1">
                    <a:off x="5437080" y="19422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4" name=""/>
                <p:cNvGrpSpPr/>
                <p:nvPr/>
              </p:nvGrpSpPr>
              <p:grpSpPr>
                <a:xfrm>
                  <a:off x="5389200" y="1971000"/>
                  <a:ext cx="261720" cy="389880"/>
                  <a:chOff x="5389200" y="1971000"/>
                  <a:chExt cx="261720" cy="38988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5389200" y="21661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V="1">
                    <a:off x="5389200" y="197064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7" name=""/>
                <p:cNvGrpSpPr/>
                <p:nvPr/>
              </p:nvGrpSpPr>
              <p:grpSpPr>
                <a:xfrm>
                  <a:off x="5349600" y="1999080"/>
                  <a:ext cx="261720" cy="389880"/>
                  <a:chOff x="5349600" y="1999080"/>
                  <a:chExt cx="261720" cy="38988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>
                    <a:off x="5349600" y="21942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V="1">
                    <a:off x="5349600" y="19987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0" name=""/>
                <p:cNvGrpSpPr/>
                <p:nvPr/>
              </p:nvGrpSpPr>
              <p:grpSpPr>
                <a:xfrm>
                  <a:off x="5302080" y="2027880"/>
                  <a:ext cx="261720" cy="389880"/>
                  <a:chOff x="5302080" y="2027880"/>
                  <a:chExt cx="261720" cy="389880"/>
                </a:xfrm>
              </p:grpSpPr>
              <p:sp>
                <p:nvSpPr>
                  <p:cNvPr id="1981" name=""/>
                  <p:cNvSpPr/>
                  <p:nvPr/>
                </p:nvSpPr>
                <p:spPr>
                  <a:xfrm>
                    <a:off x="5302080" y="22230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flipV="1">
                    <a:off x="5302080" y="20275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83" name=""/>
              <p:cNvSpPr/>
              <p:nvPr/>
            </p:nvSpPr>
            <p:spPr>
              <a:xfrm>
                <a:off x="5549760" y="1841400"/>
                <a:ext cx="25927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docu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1986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2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8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9081-54FB-447D-B3FD-CA7BD0E5E8C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ontologie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003" name=""/>
          <p:cNvSpPr/>
          <p:nvPr/>
        </p:nvSpPr>
        <p:spPr>
          <a:xfrm>
            <a:off x="838080" y="50292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hoix  actuel car ‘ontology stab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utres choix pour maintenance et assistance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76212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es ontologist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819000" indent="-28548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quête hiérarchie concepts &amp; relation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819000" indent="-28548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equête termes, synonymes, vues...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05" name=""/>
          <p:cNvSpPr/>
          <p:nvPr/>
        </p:nvSpPr>
        <p:spPr>
          <a:xfrm>
            <a:off x="1371600" y="1828800"/>
            <a:ext cx="3060720" cy="72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1447920" y="1955880"/>
            <a:ext cx="429840" cy="474120"/>
            <a:chOff x="1447920" y="1955880"/>
            <a:chExt cx="429840" cy="474120"/>
          </a:xfrm>
        </p:grpSpPr>
        <p:grpSp>
          <p:nvGrpSpPr>
            <p:cNvPr id="2007" name=""/>
            <p:cNvGrpSpPr/>
            <p:nvPr/>
          </p:nvGrpSpPr>
          <p:grpSpPr>
            <a:xfrm>
              <a:off x="1594080" y="1955880"/>
              <a:ext cx="283680" cy="388800"/>
              <a:chOff x="1594080" y="1955880"/>
              <a:chExt cx="283680" cy="388800"/>
            </a:xfrm>
          </p:grpSpPr>
          <p:sp>
            <p:nvSpPr>
              <p:cNvPr id="2008" name=""/>
              <p:cNvSpPr/>
              <p:nvPr/>
            </p:nvSpPr>
            <p:spPr>
              <a:xfrm>
                <a:off x="1594080" y="215028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94080" y="195588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1542240" y="1984320"/>
              <a:ext cx="283680" cy="388800"/>
              <a:chOff x="1542240" y="1984320"/>
              <a:chExt cx="283680" cy="388800"/>
            </a:xfrm>
          </p:grpSpPr>
          <p:sp>
            <p:nvSpPr>
              <p:cNvPr id="2011" name=""/>
              <p:cNvSpPr/>
              <p:nvPr/>
            </p:nvSpPr>
            <p:spPr>
              <a:xfrm>
                <a:off x="1542240" y="217872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1542240" y="198432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1499760" y="2012400"/>
              <a:ext cx="283680" cy="388800"/>
              <a:chOff x="1499760" y="2012400"/>
              <a:chExt cx="283680" cy="388800"/>
            </a:xfrm>
          </p:grpSpPr>
          <p:sp>
            <p:nvSpPr>
              <p:cNvPr id="2014" name=""/>
              <p:cNvSpPr/>
              <p:nvPr/>
            </p:nvSpPr>
            <p:spPr>
              <a:xfrm>
                <a:off x="1499760" y="22068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1499760" y="20124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1447920" y="2041200"/>
              <a:ext cx="283680" cy="388800"/>
              <a:chOff x="1447920" y="2041200"/>
              <a:chExt cx="283680" cy="388800"/>
            </a:xfrm>
          </p:grpSpPr>
          <p:sp>
            <p:nvSpPr>
              <p:cNvPr id="2017" name=""/>
              <p:cNvSpPr/>
              <p:nvPr/>
            </p:nvSpPr>
            <p:spPr>
              <a:xfrm>
                <a:off x="1447920" y="22356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1447920" y="20412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9" name=""/>
          <p:cNvSpPr/>
          <p:nvPr/>
        </p:nvSpPr>
        <p:spPr>
          <a:xfrm>
            <a:off x="1927080" y="1846440"/>
            <a:ext cx="24926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imes New Roman"/>
              </a:rPr>
              <a:t>Sous-société déd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imes New Roman"/>
              </a:rPr>
              <a:t>à l'on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"/>
          <p:cNvGrpSpPr/>
          <p:nvPr/>
        </p:nvGrpSpPr>
        <p:grpSpPr>
          <a:xfrm>
            <a:off x="1371600" y="2387160"/>
            <a:ext cx="6659640" cy="2654640"/>
            <a:chOff x="1371600" y="2387160"/>
            <a:chExt cx="6659640" cy="2654640"/>
          </a:xfrm>
        </p:grpSpPr>
        <p:grpSp>
          <p:nvGrpSpPr>
            <p:cNvPr id="2021" name=""/>
            <p:cNvGrpSpPr/>
            <p:nvPr/>
          </p:nvGrpSpPr>
          <p:grpSpPr>
            <a:xfrm>
              <a:off x="1371600" y="2387160"/>
              <a:ext cx="3423600" cy="1468800"/>
              <a:chOff x="1371600" y="2387160"/>
              <a:chExt cx="3423600" cy="1468800"/>
            </a:xfrm>
          </p:grpSpPr>
          <p:sp>
            <p:nvSpPr>
              <p:cNvPr id="2022" name=""/>
              <p:cNvSpPr/>
              <p:nvPr/>
            </p:nvSpPr>
            <p:spPr>
              <a:xfrm rot="2148000">
                <a:off x="3568320" y="257760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40040" y="2822400"/>
                <a:ext cx="5000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4" name=""/>
              <p:cNvSpPr/>
              <p:nvPr/>
            </p:nvSpPr>
            <p:spPr>
              <a:xfrm>
                <a:off x="1371600" y="313200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4449600" y="3898800"/>
              <a:ext cx="358164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6" name=""/>
            <p:cNvGrpSpPr/>
            <p:nvPr/>
          </p:nvGrpSpPr>
          <p:grpSpPr>
            <a:xfrm>
              <a:off x="6126120" y="4280040"/>
              <a:ext cx="228600" cy="388800"/>
              <a:chOff x="6126120" y="4280040"/>
              <a:chExt cx="228600" cy="388800"/>
            </a:xfrm>
          </p:grpSpPr>
          <p:sp>
            <p:nvSpPr>
              <p:cNvPr id="2027" name=""/>
              <p:cNvSpPr/>
              <p:nvPr/>
            </p:nvSpPr>
            <p:spPr>
              <a:xfrm>
                <a:off x="6126120" y="44744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6126120" y="42800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6964200" y="3975120"/>
              <a:ext cx="228600" cy="388800"/>
              <a:chOff x="6964200" y="3975120"/>
              <a:chExt cx="228600" cy="388800"/>
            </a:xfrm>
          </p:grpSpPr>
          <p:sp>
            <p:nvSpPr>
              <p:cNvPr id="2030" name=""/>
              <p:cNvSpPr/>
              <p:nvPr/>
            </p:nvSpPr>
            <p:spPr>
              <a:xfrm>
                <a:off x="6964200" y="41695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6964200" y="39751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6888240" y="4508640"/>
              <a:ext cx="228600" cy="388800"/>
              <a:chOff x="6888240" y="4508640"/>
              <a:chExt cx="228600" cy="388800"/>
            </a:xfrm>
          </p:grpSpPr>
          <p:sp>
            <p:nvSpPr>
              <p:cNvPr id="2033" name=""/>
              <p:cNvSpPr/>
              <p:nvPr/>
            </p:nvSpPr>
            <p:spPr>
              <a:xfrm>
                <a:off x="6888240" y="47030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6888240" y="45086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7574040" y="4602240"/>
              <a:ext cx="228600" cy="388800"/>
              <a:chOff x="7574040" y="4602240"/>
              <a:chExt cx="228600" cy="388800"/>
            </a:xfrm>
          </p:grpSpPr>
          <p:sp>
            <p:nvSpPr>
              <p:cNvPr id="2036" name=""/>
              <p:cNvSpPr/>
              <p:nvPr/>
            </p:nvSpPr>
            <p:spPr>
              <a:xfrm>
                <a:off x="7574040" y="47966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7574040" y="46022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8" name=""/>
            <p:cNvSpPr/>
            <p:nvPr/>
          </p:nvSpPr>
          <p:spPr>
            <a:xfrm>
              <a:off x="4525920" y="3992400"/>
              <a:ext cx="15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Ontologistes Ré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7269120" y="4356000"/>
              <a:ext cx="228600" cy="388800"/>
              <a:chOff x="7269120" y="4356000"/>
              <a:chExt cx="228600" cy="388800"/>
            </a:xfrm>
          </p:grpSpPr>
          <p:sp>
            <p:nvSpPr>
              <p:cNvPr id="2040" name=""/>
              <p:cNvSpPr/>
              <p:nvPr/>
            </p:nvSpPr>
            <p:spPr>
              <a:xfrm>
                <a:off x="7269120" y="45504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7269120" y="43560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6431040" y="4584600"/>
              <a:ext cx="228600" cy="388800"/>
              <a:chOff x="6431040" y="4584600"/>
              <a:chExt cx="228600" cy="388800"/>
            </a:xfrm>
          </p:grpSpPr>
          <p:sp>
            <p:nvSpPr>
              <p:cNvPr id="2043" name=""/>
              <p:cNvSpPr/>
              <p:nvPr/>
            </p:nvSpPr>
            <p:spPr>
              <a:xfrm>
                <a:off x="6431040" y="47790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6431040" y="45846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5" name=""/>
            <p:cNvGrpSpPr/>
            <p:nvPr/>
          </p:nvGrpSpPr>
          <p:grpSpPr>
            <a:xfrm>
              <a:off x="6583320" y="3975120"/>
              <a:ext cx="228600" cy="388800"/>
              <a:chOff x="6583320" y="3975120"/>
              <a:chExt cx="228600" cy="388800"/>
            </a:xfrm>
          </p:grpSpPr>
          <p:sp>
            <p:nvSpPr>
              <p:cNvPr id="2046" name=""/>
              <p:cNvSpPr/>
              <p:nvPr/>
            </p:nvSpPr>
            <p:spPr>
              <a:xfrm>
                <a:off x="6583320" y="41695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6583320" y="39751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"/>
            <p:cNvGrpSpPr/>
            <p:nvPr/>
          </p:nvGrpSpPr>
          <p:grpSpPr>
            <a:xfrm>
              <a:off x="6507000" y="3403440"/>
              <a:ext cx="380880" cy="545760"/>
              <a:chOff x="6507000" y="3403440"/>
              <a:chExt cx="380880" cy="545760"/>
            </a:xfrm>
          </p:grpSpPr>
          <p:sp>
            <p:nvSpPr>
              <p:cNvPr id="2049" name=""/>
              <p:cNvSpPr/>
              <p:nvPr/>
            </p:nvSpPr>
            <p:spPr>
              <a:xfrm flipV="1">
                <a:off x="6507000" y="3420720"/>
                <a:ext cx="203040" cy="528480"/>
              </a:xfrm>
              <a:prstGeom prst="upArrow">
                <a:avLst>
                  <a:gd name="adj1" fmla="val 50000"/>
                  <a:gd name="adj2" fmla="val 65071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684840" y="3403440"/>
                <a:ext cx="203040" cy="528840"/>
              </a:xfrm>
              <a:prstGeom prst="upArrow">
                <a:avLst>
                  <a:gd name="adj1" fmla="val 50000"/>
                  <a:gd name="adj2" fmla="val 65115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4189680" y="344160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B0C3-5C49-4698-8509-CD512CDA3BE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document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76212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es documentalist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rchiver les annotations de la mémo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ésoudre les requêt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054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055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6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057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6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9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0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2071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2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2073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2074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6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9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85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088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0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5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BFD19-F41E-4881-B528-A6216E40C2E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document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120" name=""/>
          <p:cNvSpPr/>
          <p:nvPr/>
        </p:nvSpPr>
        <p:spPr>
          <a:xfrm>
            <a:off x="838080" y="482616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rchivistes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: assignation &amp; exploi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Médiateur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: distribuer requête &amp; combiner résultats parti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761760" y="763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es documentalist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rchiver les annotations de la mémo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ésoudre les requêt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091120" y="1828800"/>
            <a:ext cx="3062160" cy="725400"/>
            <a:chOff x="5091120" y="1828800"/>
            <a:chExt cx="3062160" cy="725400"/>
          </a:xfrm>
        </p:grpSpPr>
        <p:sp>
          <p:nvSpPr>
            <p:cNvPr id="2123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125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8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1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4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135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7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1218600" y="2400120"/>
            <a:ext cx="7011000" cy="2381040"/>
            <a:chOff x="1218600" y="2400120"/>
            <a:chExt cx="7011000" cy="2381040"/>
          </a:xfrm>
        </p:grpSpPr>
        <p:grpSp>
          <p:nvGrpSpPr>
            <p:cNvPr id="2139" name=""/>
            <p:cNvGrpSpPr/>
            <p:nvPr/>
          </p:nvGrpSpPr>
          <p:grpSpPr>
            <a:xfrm>
              <a:off x="4564440" y="2400120"/>
              <a:ext cx="3665160" cy="1468800"/>
              <a:chOff x="4564440" y="2400120"/>
              <a:chExt cx="3665160" cy="1468800"/>
            </a:xfrm>
          </p:grpSpPr>
          <p:sp>
            <p:nvSpPr>
              <p:cNvPr id="2140" name=""/>
              <p:cNvSpPr/>
              <p:nvPr/>
            </p:nvSpPr>
            <p:spPr>
              <a:xfrm flipH="1" rot="19452000">
                <a:off x="4786920" y="259056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1" name=""/>
              <p:cNvGrpSpPr/>
              <p:nvPr/>
            </p:nvGrpSpPr>
            <p:grpSpPr>
              <a:xfrm>
                <a:off x="5132880" y="2819160"/>
                <a:ext cx="429480" cy="673560"/>
                <a:chOff x="5132880" y="2819160"/>
                <a:chExt cx="429480" cy="673560"/>
              </a:xfrm>
            </p:grpSpPr>
            <p:grpSp>
              <p:nvGrpSpPr>
                <p:cNvPr id="2142" name=""/>
                <p:cNvGrpSpPr/>
                <p:nvPr/>
              </p:nvGrpSpPr>
              <p:grpSpPr>
                <a:xfrm>
                  <a:off x="5148000" y="2819160"/>
                  <a:ext cx="414360" cy="411840"/>
                  <a:chOff x="5148000" y="2819160"/>
                  <a:chExt cx="414360" cy="411840"/>
                </a:xfrm>
              </p:grpSpPr>
              <p:grpSp>
                <p:nvGrpSpPr>
                  <p:cNvPr id="2143" name=""/>
                  <p:cNvGrpSpPr/>
                  <p:nvPr/>
                </p:nvGrpSpPr>
                <p:grpSpPr>
                  <a:xfrm>
                    <a:off x="5148000" y="2825280"/>
                    <a:ext cx="406440" cy="403920"/>
                    <a:chOff x="5148000" y="2825280"/>
                    <a:chExt cx="406440" cy="403920"/>
                  </a:xfrm>
                </p:grpSpPr>
                <p:grpSp>
                  <p:nvGrpSpPr>
                    <p:cNvPr id="2144" name=""/>
                    <p:cNvGrpSpPr/>
                    <p:nvPr/>
                  </p:nvGrpSpPr>
                  <p:grpSpPr>
                    <a:xfrm>
                      <a:off x="5148000" y="2825280"/>
                      <a:ext cx="406440" cy="403920"/>
                      <a:chOff x="5148000" y="2825280"/>
                      <a:chExt cx="406440" cy="403920"/>
                    </a:xfrm>
                  </p:grpSpPr>
                  <p:sp>
                    <p:nvSpPr>
                      <p:cNvPr id="2145" name=""/>
                      <p:cNvSpPr/>
                      <p:nvPr/>
                    </p:nvSpPr>
                    <p:spPr>
                      <a:xfrm flipH="1">
                        <a:off x="5209560" y="2825280"/>
                        <a:ext cx="344520" cy="23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6" name=""/>
                      <p:cNvSpPr/>
                      <p:nvPr/>
                    </p:nvSpPr>
                    <p:spPr>
                      <a:xfrm flipH="1">
                        <a:off x="5148000" y="2940840"/>
                        <a:ext cx="38088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7" name=""/>
                    <p:cNvGrpSpPr/>
                    <p:nvPr/>
                  </p:nvGrpSpPr>
                  <p:grpSpPr>
                    <a:xfrm>
                      <a:off x="5149440" y="2831400"/>
                      <a:ext cx="401760" cy="379800"/>
                      <a:chOff x="5149440" y="2831400"/>
                      <a:chExt cx="401760" cy="379800"/>
                    </a:xfrm>
                  </p:grpSpPr>
                  <p:sp>
                    <p:nvSpPr>
                      <p:cNvPr id="2148" name=""/>
                      <p:cNvSpPr/>
                      <p:nvPr/>
                    </p:nvSpPr>
                    <p:spPr>
                      <a:xfrm flipH="1">
                        <a:off x="5430240" y="311616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9" name=""/>
                      <p:cNvSpPr/>
                      <p:nvPr/>
                    </p:nvSpPr>
                    <p:spPr>
                      <a:xfrm flipH="1">
                        <a:off x="5149080" y="293904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0" name=""/>
                      <p:cNvSpPr/>
                      <p:nvPr/>
                    </p:nvSpPr>
                    <p:spPr>
                      <a:xfrm flipH="1">
                        <a:off x="5229000" y="283140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1" name=""/>
                      <p:cNvSpPr/>
                      <p:nvPr/>
                    </p:nvSpPr>
                    <p:spPr>
                      <a:xfrm flipH="1">
                        <a:off x="5506560" y="291024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52" name=""/>
                  <p:cNvSpPr/>
                  <p:nvPr/>
                </p:nvSpPr>
                <p:spPr>
                  <a:xfrm flipH="1">
                    <a:off x="5147640" y="2850840"/>
                    <a:ext cx="398520" cy="38016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53" name=""/>
                  <p:cNvGrpSpPr/>
                  <p:nvPr/>
                </p:nvGrpSpPr>
                <p:grpSpPr>
                  <a:xfrm>
                    <a:off x="5163840" y="2819160"/>
                    <a:ext cx="398520" cy="380520"/>
                    <a:chOff x="5163840" y="2819160"/>
                    <a:chExt cx="398520" cy="380520"/>
                  </a:xfrm>
                </p:grpSpPr>
                <p:sp>
                  <p:nvSpPr>
                    <p:cNvPr id="2154" name=""/>
                    <p:cNvSpPr/>
                    <p:nvPr/>
                  </p:nvSpPr>
                  <p:spPr>
                    <a:xfrm flipH="1">
                      <a:off x="5170320" y="2825280"/>
                      <a:ext cx="387360" cy="36936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5" name=""/>
                    <p:cNvSpPr/>
                    <p:nvPr/>
                  </p:nvSpPr>
                  <p:spPr>
                    <a:xfrm flipH="1">
                      <a:off x="5163480" y="2819160"/>
                      <a:ext cx="398520" cy="380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/>
                    <p:nvPr/>
                  </p:nvSpPr>
                  <p:spPr>
                    <a:xfrm flipH="1">
                      <a:off x="5176080" y="2831760"/>
                      <a:ext cx="374760" cy="35640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57" name=""/>
                <p:cNvGrpSpPr/>
                <p:nvPr/>
              </p:nvGrpSpPr>
              <p:grpSpPr>
                <a:xfrm>
                  <a:off x="5132880" y="3177360"/>
                  <a:ext cx="202680" cy="315360"/>
                  <a:chOff x="5132880" y="3177360"/>
                  <a:chExt cx="202680" cy="315360"/>
                </a:xfrm>
              </p:grpSpPr>
              <p:sp>
                <p:nvSpPr>
                  <p:cNvPr id="2158" name=""/>
                  <p:cNvSpPr/>
                  <p:nvPr/>
                </p:nvSpPr>
                <p:spPr>
                  <a:xfrm flipH="1">
                    <a:off x="5139000" y="319284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 flipH="1">
                    <a:off x="5275800" y="317736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 flipH="1">
                    <a:off x="5272920" y="318168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H="1">
                    <a:off x="5298840" y="318168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 flipH="1">
                    <a:off x="5274360" y="317844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H="1">
                    <a:off x="5253840" y="321660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64" name=""/>
                  <p:cNvGrpSpPr/>
                  <p:nvPr/>
                </p:nvGrpSpPr>
                <p:grpSpPr>
                  <a:xfrm>
                    <a:off x="5249880" y="3221280"/>
                    <a:ext cx="61920" cy="61920"/>
                    <a:chOff x="5249880" y="3221280"/>
                    <a:chExt cx="61920" cy="61920"/>
                  </a:xfrm>
                </p:grpSpPr>
                <p:grpSp>
                  <p:nvGrpSpPr>
                    <p:cNvPr id="2165" name=""/>
                    <p:cNvGrpSpPr/>
                    <p:nvPr/>
                  </p:nvGrpSpPr>
                  <p:grpSpPr>
                    <a:xfrm>
                      <a:off x="5252760" y="3221280"/>
                      <a:ext cx="59040" cy="55800"/>
                      <a:chOff x="5252760" y="3221280"/>
                      <a:chExt cx="59040" cy="55800"/>
                    </a:xfrm>
                  </p:grpSpPr>
                  <p:sp>
                    <p:nvSpPr>
                      <p:cNvPr id="2166" name=""/>
                      <p:cNvSpPr/>
                      <p:nvPr/>
                    </p:nvSpPr>
                    <p:spPr>
                      <a:xfrm flipH="1">
                        <a:off x="5252760" y="322128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7" name=""/>
                      <p:cNvSpPr/>
                      <p:nvPr/>
                    </p:nvSpPr>
                    <p:spPr>
                      <a:xfrm flipH="1">
                        <a:off x="5252760" y="322128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8" name=""/>
                      <p:cNvSpPr/>
                      <p:nvPr/>
                    </p:nvSpPr>
                    <p:spPr>
                      <a:xfrm flipH="1">
                        <a:off x="5253120" y="322128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69" name=""/>
                    <p:cNvSpPr/>
                    <p:nvPr/>
                  </p:nvSpPr>
                  <p:spPr>
                    <a:xfrm flipH="1">
                      <a:off x="5249880" y="322740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0" name=""/>
                  <p:cNvGrpSpPr/>
                  <p:nvPr/>
                </p:nvGrpSpPr>
                <p:grpSpPr>
                  <a:xfrm>
                    <a:off x="5244120" y="3231720"/>
                    <a:ext cx="61560" cy="62280"/>
                    <a:chOff x="5244120" y="3231720"/>
                    <a:chExt cx="61560" cy="62280"/>
                  </a:xfrm>
                </p:grpSpPr>
                <p:grpSp>
                  <p:nvGrpSpPr>
                    <p:cNvPr id="2171" name=""/>
                    <p:cNvGrpSpPr/>
                    <p:nvPr/>
                  </p:nvGrpSpPr>
                  <p:grpSpPr>
                    <a:xfrm>
                      <a:off x="5246280" y="3231720"/>
                      <a:ext cx="59400" cy="57240"/>
                      <a:chOff x="5246280" y="3231720"/>
                      <a:chExt cx="59400" cy="57240"/>
                    </a:xfrm>
                  </p:grpSpPr>
                  <p:sp>
                    <p:nvSpPr>
                      <p:cNvPr id="2172" name=""/>
                      <p:cNvSpPr/>
                      <p:nvPr/>
                    </p:nvSpPr>
                    <p:spPr>
                      <a:xfrm flipH="1">
                        <a:off x="5246640" y="32324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3" name=""/>
                      <p:cNvSpPr/>
                      <p:nvPr/>
                    </p:nvSpPr>
                    <p:spPr>
                      <a:xfrm flipH="1">
                        <a:off x="5245920" y="323172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4" name=""/>
                      <p:cNvSpPr/>
                      <p:nvPr/>
                    </p:nvSpPr>
                    <p:spPr>
                      <a:xfrm flipH="1">
                        <a:off x="5247360" y="323244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5" name=""/>
                    <p:cNvSpPr/>
                    <p:nvPr/>
                  </p:nvSpPr>
                  <p:spPr>
                    <a:xfrm flipH="1">
                      <a:off x="5243760" y="323856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6" name=""/>
                  <p:cNvGrpSpPr/>
                  <p:nvPr/>
                </p:nvGrpSpPr>
                <p:grpSpPr>
                  <a:xfrm>
                    <a:off x="5239800" y="3242880"/>
                    <a:ext cx="59400" cy="56880"/>
                    <a:chOff x="5239800" y="3242880"/>
                    <a:chExt cx="59400" cy="56880"/>
                  </a:xfrm>
                </p:grpSpPr>
                <p:sp>
                  <p:nvSpPr>
                    <p:cNvPr id="2177" name=""/>
                    <p:cNvSpPr/>
                    <p:nvPr/>
                  </p:nvSpPr>
                  <p:spPr>
                    <a:xfrm flipH="1">
                      <a:off x="5240160" y="32436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/>
                    <p:nvPr/>
                  </p:nvSpPr>
                  <p:spPr>
                    <a:xfrm flipH="1">
                      <a:off x="5239440" y="324288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5237640" y="3243600"/>
                    <a:ext cx="61560" cy="61200"/>
                    <a:chOff x="5237640" y="3243600"/>
                    <a:chExt cx="61560" cy="61200"/>
                  </a:xfrm>
                </p:grpSpPr>
                <p:sp>
                  <p:nvSpPr>
                    <p:cNvPr id="2180" name=""/>
                    <p:cNvSpPr/>
                    <p:nvPr/>
                  </p:nvSpPr>
                  <p:spPr>
                    <a:xfrm flipH="1">
                      <a:off x="5240160" y="32436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"/>
                    <p:cNvSpPr/>
                    <p:nvPr/>
                  </p:nvSpPr>
                  <p:spPr>
                    <a:xfrm flipH="1">
                      <a:off x="5237280" y="324972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2" name=""/>
                  <p:cNvGrpSpPr/>
                  <p:nvPr/>
                </p:nvGrpSpPr>
                <p:grpSpPr>
                  <a:xfrm>
                    <a:off x="5139720" y="3194640"/>
                    <a:ext cx="192960" cy="276840"/>
                    <a:chOff x="5139720" y="3194640"/>
                    <a:chExt cx="192960" cy="276840"/>
                  </a:xfrm>
                </p:grpSpPr>
                <p:sp>
                  <p:nvSpPr>
                    <p:cNvPr id="2183" name=""/>
                    <p:cNvSpPr/>
                    <p:nvPr/>
                  </p:nvSpPr>
                  <p:spPr>
                    <a:xfrm flipH="1">
                      <a:off x="5139720" y="319464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4" name=""/>
                    <p:cNvSpPr/>
                    <p:nvPr/>
                  </p:nvSpPr>
                  <p:spPr>
                    <a:xfrm flipH="1">
                      <a:off x="5194800" y="321300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5" name=""/>
                  <p:cNvGrpSpPr/>
                  <p:nvPr/>
                </p:nvGrpSpPr>
                <p:grpSpPr>
                  <a:xfrm>
                    <a:off x="5231520" y="3254040"/>
                    <a:ext cx="61200" cy="60840"/>
                    <a:chOff x="5231520" y="3254040"/>
                    <a:chExt cx="61200" cy="60840"/>
                  </a:xfrm>
                </p:grpSpPr>
                <p:grpSp>
                  <p:nvGrpSpPr>
                    <p:cNvPr id="2186" name=""/>
                    <p:cNvGrpSpPr/>
                    <p:nvPr/>
                  </p:nvGrpSpPr>
                  <p:grpSpPr>
                    <a:xfrm>
                      <a:off x="5234040" y="3254040"/>
                      <a:ext cx="58680" cy="56880"/>
                      <a:chOff x="5234040" y="3254040"/>
                      <a:chExt cx="58680" cy="56880"/>
                    </a:xfrm>
                  </p:grpSpPr>
                  <p:sp>
                    <p:nvSpPr>
                      <p:cNvPr id="2187" name=""/>
                      <p:cNvSpPr/>
                      <p:nvPr/>
                    </p:nvSpPr>
                    <p:spPr>
                      <a:xfrm flipH="1">
                        <a:off x="5233680" y="325476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8" name=""/>
                      <p:cNvSpPr/>
                      <p:nvPr/>
                    </p:nvSpPr>
                    <p:spPr>
                      <a:xfrm flipH="1">
                        <a:off x="5233680" y="325404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89" name=""/>
                    <p:cNvSpPr/>
                    <p:nvPr/>
                  </p:nvSpPr>
                  <p:spPr>
                    <a:xfrm flipH="1">
                      <a:off x="5233680" y="32547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0" name=""/>
                    <p:cNvSpPr/>
                    <p:nvPr/>
                  </p:nvSpPr>
                  <p:spPr>
                    <a:xfrm flipH="1">
                      <a:off x="5231160" y="32590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1" name=""/>
                  <p:cNvSpPr/>
                  <p:nvPr/>
                </p:nvSpPr>
                <p:spPr>
                  <a:xfrm flipH="1">
                    <a:off x="5172480" y="326124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 flipH="1">
                    <a:off x="5132880" y="343116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93" name=""/>
              <p:cNvSpPr/>
              <p:nvPr/>
            </p:nvSpPr>
            <p:spPr>
              <a:xfrm>
                <a:off x="5562720" y="327636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1218600" y="3124080"/>
              <a:ext cx="3840840" cy="1657080"/>
              <a:chOff x="1218600" y="3124080"/>
              <a:chExt cx="3840840" cy="165708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1478160" y="3124080"/>
                <a:ext cx="3581280" cy="1657080"/>
                <a:chOff x="1478160" y="3124080"/>
                <a:chExt cx="3581280" cy="165708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1478160" y="361944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4297680" y="3708360"/>
                  <a:ext cx="228600" cy="388800"/>
                  <a:chOff x="4297680" y="3708360"/>
                  <a:chExt cx="228600" cy="38880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4297680" y="390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V="1">
                    <a:off x="4297680" y="3708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0" name=""/>
                <p:cNvGrpSpPr/>
                <p:nvPr/>
              </p:nvGrpSpPr>
              <p:grpSpPr>
                <a:xfrm>
                  <a:off x="3154680" y="4305240"/>
                  <a:ext cx="228600" cy="388800"/>
                  <a:chOff x="3154680" y="4305240"/>
                  <a:chExt cx="228600" cy="388800"/>
                </a:xfrm>
              </p:grpSpPr>
              <p:sp>
                <p:nvSpPr>
                  <p:cNvPr id="2201" name=""/>
                  <p:cNvSpPr/>
                  <p:nvPr/>
                </p:nvSpPr>
                <p:spPr>
                  <a:xfrm>
                    <a:off x="315468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 flipV="1">
                    <a:off x="315468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3" name=""/>
                <p:cNvGrpSpPr/>
                <p:nvPr/>
              </p:nvGrpSpPr>
              <p:grpSpPr>
                <a:xfrm>
                  <a:off x="3611880" y="3708360"/>
                  <a:ext cx="228600" cy="388800"/>
                  <a:chOff x="3611880" y="3708360"/>
                  <a:chExt cx="228600" cy="388800"/>
                </a:xfrm>
              </p:grpSpPr>
              <p:sp>
                <p:nvSpPr>
                  <p:cNvPr id="2204" name=""/>
                  <p:cNvSpPr/>
                  <p:nvPr/>
                </p:nvSpPr>
                <p:spPr>
                  <a:xfrm>
                    <a:off x="3611880" y="390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 flipV="1">
                    <a:off x="3611880" y="3708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6" name=""/>
                <p:cNvGrpSpPr/>
                <p:nvPr/>
              </p:nvGrpSpPr>
              <p:grpSpPr>
                <a:xfrm>
                  <a:off x="3611880" y="4305240"/>
                  <a:ext cx="228600" cy="388800"/>
                  <a:chOff x="3611880" y="4305240"/>
                  <a:chExt cx="228600" cy="388800"/>
                </a:xfrm>
              </p:grpSpPr>
              <p:sp>
                <p:nvSpPr>
                  <p:cNvPr id="2207" name=""/>
                  <p:cNvSpPr/>
                  <p:nvPr/>
                </p:nvSpPr>
                <p:spPr>
                  <a:xfrm>
                    <a:off x="361188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 flipV="1">
                    <a:off x="361188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9" name=""/>
                <p:cNvGrpSpPr/>
                <p:nvPr/>
              </p:nvGrpSpPr>
              <p:grpSpPr>
                <a:xfrm>
                  <a:off x="4145040" y="4305240"/>
                  <a:ext cx="228600" cy="388800"/>
                  <a:chOff x="4145040" y="4305240"/>
                  <a:chExt cx="228600" cy="388800"/>
                </a:xfrm>
              </p:grpSpPr>
              <p:sp>
                <p:nvSpPr>
                  <p:cNvPr id="2210" name=""/>
                  <p:cNvSpPr/>
                  <p:nvPr/>
                </p:nvSpPr>
                <p:spPr>
                  <a:xfrm>
                    <a:off x="414504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 flipV="1">
                    <a:off x="414504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2" name=""/>
                <p:cNvGrpSpPr/>
                <p:nvPr/>
              </p:nvGrpSpPr>
              <p:grpSpPr>
                <a:xfrm>
                  <a:off x="4602240" y="4305240"/>
                  <a:ext cx="228600" cy="388800"/>
                  <a:chOff x="4602240" y="4305240"/>
                  <a:chExt cx="228600" cy="388800"/>
                </a:xfrm>
              </p:grpSpPr>
              <p:sp>
                <p:nvSpPr>
                  <p:cNvPr id="2213" name=""/>
                  <p:cNvSpPr/>
                  <p:nvPr/>
                </p:nvSpPr>
                <p:spPr>
                  <a:xfrm>
                    <a:off x="460224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V="1">
                    <a:off x="460224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5" name=""/>
                <p:cNvSpPr/>
                <p:nvPr/>
              </p:nvSpPr>
              <p:spPr>
                <a:xfrm>
                  <a:off x="1478160" y="4178160"/>
                  <a:ext cx="3581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539720" y="3670200"/>
                  <a:ext cx="122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Médiate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553760" y="4138560"/>
                  <a:ext cx="1241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rchivis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ssign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V="1">
                  <a:off x="3459240" y="413964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 flipV="1">
                  <a:off x="3764160" y="4139640"/>
                  <a:ext cx="380880" cy="3049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0" name=""/>
                <p:cNvGrpSpPr/>
                <p:nvPr/>
              </p:nvGrpSpPr>
              <p:grpSpPr>
                <a:xfrm>
                  <a:off x="3535560" y="3124080"/>
                  <a:ext cx="380880" cy="545760"/>
                  <a:chOff x="3535560" y="3124080"/>
                  <a:chExt cx="380880" cy="545760"/>
                </a:xfrm>
              </p:grpSpPr>
              <p:sp>
                <p:nvSpPr>
                  <p:cNvPr id="2221" name=""/>
                  <p:cNvSpPr/>
                  <p:nvPr/>
                </p:nvSpPr>
                <p:spPr>
                  <a:xfrm flipV="1">
                    <a:off x="3535560" y="31413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3713400" y="31240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23" name=""/>
              <p:cNvSpPr/>
              <p:nvPr/>
            </p:nvSpPr>
            <p:spPr>
              <a:xfrm>
                <a:off x="1218600" y="3162240"/>
                <a:ext cx="14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cc3300"/>
                    </a:solidFill>
                    <a:latin typeface="Times New Roman"/>
                  </a:rPr>
                  <a:t>Hiérarch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E4CE-9B50-4320-993D-F5ADADE4A78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interconnexion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837720" y="-360"/>
            <a:ext cx="8124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'interconnex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ages jaunes des servic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Fédération des agents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onfiguration 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227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229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1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2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2243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4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2245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2246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8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2249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1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2252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4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7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8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9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260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267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9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2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275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276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8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1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282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4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285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7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984A-FA7C-4EB6-A27F-10651A16DDC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interconnexion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292" name=""/>
          <p:cNvSpPr/>
          <p:nvPr/>
        </p:nvSpPr>
        <p:spPr>
          <a:xfrm>
            <a:off x="838080" y="1600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pparieurs coop. pages jaunes. Fournis par J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837720" y="-360"/>
            <a:ext cx="8124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'interconnexion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ages jaunes des servic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Fédération des agents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configuration 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3263760" y="2908440"/>
            <a:ext cx="3344760" cy="734400"/>
            <a:chOff x="3263760" y="2908440"/>
            <a:chExt cx="3344760" cy="734400"/>
          </a:xfrm>
        </p:grpSpPr>
        <p:sp>
          <p:nvSpPr>
            <p:cNvPr id="2295" name=""/>
            <p:cNvSpPr/>
            <p:nvPr/>
          </p:nvSpPr>
          <p:spPr>
            <a:xfrm>
              <a:off x="3263760" y="2908440"/>
              <a:ext cx="3060720" cy="725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6" name=""/>
            <p:cNvGrpSpPr/>
            <p:nvPr/>
          </p:nvGrpSpPr>
          <p:grpSpPr>
            <a:xfrm>
              <a:off x="3460680" y="3044520"/>
              <a:ext cx="404280" cy="472320"/>
              <a:chOff x="3460680" y="3044520"/>
              <a:chExt cx="404280" cy="472320"/>
            </a:xfrm>
          </p:grpSpPr>
          <p:grpSp>
            <p:nvGrpSpPr>
              <p:cNvPr id="2297" name=""/>
              <p:cNvGrpSpPr/>
              <p:nvPr/>
            </p:nvGrpSpPr>
            <p:grpSpPr>
              <a:xfrm>
                <a:off x="3598200" y="3044520"/>
                <a:ext cx="266760" cy="387360"/>
                <a:chOff x="3598200" y="3044520"/>
                <a:chExt cx="266760" cy="38736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3598200" y="323820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V="1">
                  <a:off x="3598200" y="304452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0" name=""/>
              <p:cNvGrpSpPr/>
              <p:nvPr/>
            </p:nvGrpSpPr>
            <p:grpSpPr>
              <a:xfrm>
                <a:off x="3549600" y="3072960"/>
                <a:ext cx="266760" cy="387360"/>
                <a:chOff x="3549600" y="3072960"/>
                <a:chExt cx="266760" cy="38736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3549600" y="326664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V="1">
                  <a:off x="3549600" y="307296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3509280" y="3101040"/>
                <a:ext cx="266760" cy="387360"/>
                <a:chOff x="3509280" y="3101040"/>
                <a:chExt cx="266760" cy="38736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3509280" y="329472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V="1">
                  <a:off x="3509280" y="310104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3460680" y="3129480"/>
                <a:ext cx="266760" cy="387360"/>
                <a:chOff x="3460680" y="3129480"/>
                <a:chExt cx="266760" cy="38736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3460680" y="332316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V="1">
                  <a:off x="3460680" y="312948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9" name=""/>
            <p:cNvSpPr/>
            <p:nvPr/>
          </p:nvSpPr>
          <p:spPr>
            <a:xfrm>
              <a:off x="3903480" y="2938320"/>
              <a:ext cx="27050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1365120" y="3619080"/>
            <a:ext cx="4110840" cy="2573640"/>
            <a:chOff x="1365120" y="3619080"/>
            <a:chExt cx="4110840" cy="2573640"/>
          </a:xfrm>
        </p:grpSpPr>
        <p:grpSp>
          <p:nvGrpSpPr>
            <p:cNvPr id="2311" name=""/>
            <p:cNvGrpSpPr/>
            <p:nvPr/>
          </p:nvGrpSpPr>
          <p:grpSpPr>
            <a:xfrm>
              <a:off x="2281320" y="3619080"/>
              <a:ext cx="3194640" cy="1469160"/>
              <a:chOff x="2281320" y="3619080"/>
              <a:chExt cx="3194640" cy="1469160"/>
            </a:xfrm>
          </p:grpSpPr>
          <p:sp>
            <p:nvSpPr>
              <p:cNvPr id="2312" name=""/>
              <p:cNvSpPr/>
              <p:nvPr/>
            </p:nvSpPr>
            <p:spPr>
              <a:xfrm flipH="1" rot="19452000">
                <a:off x="4248720" y="3809520"/>
                <a:ext cx="1003320" cy="10875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3" name=""/>
              <p:cNvGrpSpPr/>
              <p:nvPr/>
            </p:nvGrpSpPr>
            <p:grpSpPr>
              <a:xfrm>
                <a:off x="4594680" y="4038480"/>
                <a:ext cx="429480" cy="673920"/>
                <a:chOff x="4594680" y="4038480"/>
                <a:chExt cx="429480" cy="673920"/>
              </a:xfrm>
            </p:grpSpPr>
            <p:grpSp>
              <p:nvGrpSpPr>
                <p:cNvPr id="2314" name=""/>
                <p:cNvGrpSpPr/>
                <p:nvPr/>
              </p:nvGrpSpPr>
              <p:grpSpPr>
                <a:xfrm>
                  <a:off x="4609800" y="4038480"/>
                  <a:ext cx="414360" cy="412200"/>
                  <a:chOff x="4609800" y="4038480"/>
                  <a:chExt cx="414360" cy="412200"/>
                </a:xfrm>
              </p:grpSpPr>
              <p:grpSp>
                <p:nvGrpSpPr>
                  <p:cNvPr id="2315" name=""/>
                  <p:cNvGrpSpPr/>
                  <p:nvPr/>
                </p:nvGrpSpPr>
                <p:grpSpPr>
                  <a:xfrm>
                    <a:off x="4609800" y="4044600"/>
                    <a:ext cx="406440" cy="404280"/>
                    <a:chOff x="4609800" y="4044600"/>
                    <a:chExt cx="406440" cy="404280"/>
                  </a:xfrm>
                </p:grpSpPr>
                <p:grpSp>
                  <p:nvGrpSpPr>
                    <p:cNvPr id="2316" name=""/>
                    <p:cNvGrpSpPr/>
                    <p:nvPr/>
                  </p:nvGrpSpPr>
                  <p:grpSpPr>
                    <a:xfrm>
                      <a:off x="4609800" y="4044600"/>
                      <a:ext cx="406440" cy="404280"/>
                      <a:chOff x="4609800" y="4044600"/>
                      <a:chExt cx="406440" cy="404280"/>
                    </a:xfrm>
                  </p:grpSpPr>
                  <p:sp>
                    <p:nvSpPr>
                      <p:cNvPr id="2317" name=""/>
                      <p:cNvSpPr/>
                      <p:nvPr/>
                    </p:nvSpPr>
                    <p:spPr>
                      <a:xfrm flipH="1">
                        <a:off x="4671360" y="4044600"/>
                        <a:ext cx="3445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8" name=""/>
                      <p:cNvSpPr/>
                      <p:nvPr/>
                    </p:nvSpPr>
                    <p:spPr>
                      <a:xfrm flipH="1">
                        <a:off x="4609800" y="4160160"/>
                        <a:ext cx="380880" cy="28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19" name=""/>
                    <p:cNvGrpSpPr/>
                    <p:nvPr/>
                  </p:nvGrpSpPr>
                  <p:grpSpPr>
                    <a:xfrm>
                      <a:off x="4611240" y="4050720"/>
                      <a:ext cx="401760" cy="380160"/>
                      <a:chOff x="4611240" y="4050720"/>
                      <a:chExt cx="401760" cy="380160"/>
                    </a:xfrm>
                  </p:grpSpPr>
                  <p:sp>
                    <p:nvSpPr>
                      <p:cNvPr id="2320" name=""/>
                      <p:cNvSpPr/>
                      <p:nvPr/>
                    </p:nvSpPr>
                    <p:spPr>
                      <a:xfrm flipH="1">
                        <a:off x="4892040" y="433584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1" name=""/>
                      <p:cNvSpPr/>
                      <p:nvPr/>
                    </p:nvSpPr>
                    <p:spPr>
                      <a:xfrm flipH="1">
                        <a:off x="4610880" y="415836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 flipH="1">
                        <a:off x="4690800" y="405072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3" name=""/>
                      <p:cNvSpPr/>
                      <p:nvPr/>
                    </p:nvSpPr>
                    <p:spPr>
                      <a:xfrm flipH="1">
                        <a:off x="4968360" y="412956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24" name=""/>
                  <p:cNvSpPr/>
                  <p:nvPr/>
                </p:nvSpPr>
                <p:spPr>
                  <a:xfrm flipH="1">
                    <a:off x="4609440" y="4070160"/>
                    <a:ext cx="398520" cy="38052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5" name=""/>
                  <p:cNvGrpSpPr/>
                  <p:nvPr/>
                </p:nvGrpSpPr>
                <p:grpSpPr>
                  <a:xfrm>
                    <a:off x="4625640" y="4038480"/>
                    <a:ext cx="398520" cy="380880"/>
                    <a:chOff x="4625640" y="4038480"/>
                    <a:chExt cx="398520" cy="380880"/>
                  </a:xfrm>
                </p:grpSpPr>
                <p:sp>
                  <p:nvSpPr>
                    <p:cNvPr id="2326" name=""/>
                    <p:cNvSpPr/>
                    <p:nvPr/>
                  </p:nvSpPr>
                  <p:spPr>
                    <a:xfrm flipH="1">
                      <a:off x="4632120" y="4044600"/>
                      <a:ext cx="387360" cy="36972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7" name=""/>
                    <p:cNvSpPr/>
                    <p:nvPr/>
                  </p:nvSpPr>
                  <p:spPr>
                    <a:xfrm flipH="1">
                      <a:off x="4625280" y="4038480"/>
                      <a:ext cx="398520" cy="3808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8" name=""/>
                    <p:cNvSpPr/>
                    <p:nvPr/>
                  </p:nvSpPr>
                  <p:spPr>
                    <a:xfrm flipH="1">
                      <a:off x="4637880" y="4051080"/>
                      <a:ext cx="374760" cy="35676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29" name=""/>
                <p:cNvGrpSpPr/>
                <p:nvPr/>
              </p:nvGrpSpPr>
              <p:grpSpPr>
                <a:xfrm>
                  <a:off x="4594680" y="4397040"/>
                  <a:ext cx="202680" cy="315360"/>
                  <a:chOff x="4594680" y="4397040"/>
                  <a:chExt cx="202680" cy="315360"/>
                </a:xfrm>
              </p:grpSpPr>
              <p:sp>
                <p:nvSpPr>
                  <p:cNvPr id="2330" name=""/>
                  <p:cNvSpPr/>
                  <p:nvPr/>
                </p:nvSpPr>
                <p:spPr>
                  <a:xfrm flipH="1">
                    <a:off x="4600800" y="441252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>
                    <a:off x="4737600" y="4397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 flipH="1">
                    <a:off x="4734720" y="440136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 flipH="1">
                    <a:off x="4760640" y="440136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H="1">
                    <a:off x="4736160" y="439812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H="1">
                    <a:off x="4715640" y="443628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6" name=""/>
                  <p:cNvGrpSpPr/>
                  <p:nvPr/>
                </p:nvGrpSpPr>
                <p:grpSpPr>
                  <a:xfrm>
                    <a:off x="4711680" y="4440960"/>
                    <a:ext cx="61920" cy="61920"/>
                    <a:chOff x="4711680" y="4440960"/>
                    <a:chExt cx="61920" cy="61920"/>
                  </a:xfrm>
                </p:grpSpPr>
                <p:grpSp>
                  <p:nvGrpSpPr>
                    <p:cNvPr id="2337" name=""/>
                    <p:cNvGrpSpPr/>
                    <p:nvPr/>
                  </p:nvGrpSpPr>
                  <p:grpSpPr>
                    <a:xfrm>
                      <a:off x="4714560" y="4440960"/>
                      <a:ext cx="59040" cy="55800"/>
                      <a:chOff x="4714560" y="4440960"/>
                      <a:chExt cx="59040" cy="55800"/>
                    </a:xfrm>
                  </p:grpSpPr>
                  <p:sp>
                    <p:nvSpPr>
                      <p:cNvPr id="2338" name=""/>
                      <p:cNvSpPr/>
                      <p:nvPr/>
                    </p:nvSpPr>
                    <p:spPr>
                      <a:xfrm flipH="1">
                        <a:off x="4714560" y="444096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9" name=""/>
                      <p:cNvSpPr/>
                      <p:nvPr/>
                    </p:nvSpPr>
                    <p:spPr>
                      <a:xfrm flipH="1">
                        <a:off x="4714560" y="444096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0" name=""/>
                      <p:cNvSpPr/>
                      <p:nvPr/>
                    </p:nvSpPr>
                    <p:spPr>
                      <a:xfrm flipH="1">
                        <a:off x="4714920" y="444096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41" name=""/>
                    <p:cNvSpPr/>
                    <p:nvPr/>
                  </p:nvSpPr>
                  <p:spPr>
                    <a:xfrm flipH="1">
                      <a:off x="4711680" y="444708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2" name=""/>
                  <p:cNvGrpSpPr/>
                  <p:nvPr/>
                </p:nvGrpSpPr>
                <p:grpSpPr>
                  <a:xfrm>
                    <a:off x="4705920" y="4451400"/>
                    <a:ext cx="61560" cy="62280"/>
                    <a:chOff x="4705920" y="4451400"/>
                    <a:chExt cx="61560" cy="62280"/>
                  </a:xfrm>
                </p:grpSpPr>
                <p:grpSp>
                  <p:nvGrpSpPr>
                    <p:cNvPr id="2343" name=""/>
                    <p:cNvGrpSpPr/>
                    <p:nvPr/>
                  </p:nvGrpSpPr>
                  <p:grpSpPr>
                    <a:xfrm>
                      <a:off x="4708080" y="4451400"/>
                      <a:ext cx="59400" cy="57240"/>
                      <a:chOff x="4708080" y="4451400"/>
                      <a:chExt cx="59400" cy="57240"/>
                    </a:xfrm>
                  </p:grpSpPr>
                  <p:sp>
                    <p:nvSpPr>
                      <p:cNvPr id="2344" name=""/>
                      <p:cNvSpPr/>
                      <p:nvPr/>
                    </p:nvSpPr>
                    <p:spPr>
                      <a:xfrm flipH="1">
                        <a:off x="4708440" y="445212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5" name=""/>
                      <p:cNvSpPr/>
                      <p:nvPr/>
                    </p:nvSpPr>
                    <p:spPr>
                      <a:xfrm flipH="1">
                        <a:off x="4707720" y="445140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6" name=""/>
                      <p:cNvSpPr/>
                      <p:nvPr/>
                    </p:nvSpPr>
                    <p:spPr>
                      <a:xfrm flipH="1">
                        <a:off x="4709160" y="445212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47" name=""/>
                    <p:cNvSpPr/>
                    <p:nvPr/>
                  </p:nvSpPr>
                  <p:spPr>
                    <a:xfrm flipH="1">
                      <a:off x="4705560" y="445824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8" name=""/>
                  <p:cNvGrpSpPr/>
                  <p:nvPr/>
                </p:nvGrpSpPr>
                <p:grpSpPr>
                  <a:xfrm>
                    <a:off x="4701600" y="4462560"/>
                    <a:ext cx="59400" cy="56880"/>
                    <a:chOff x="4701600" y="4462560"/>
                    <a:chExt cx="59400" cy="56880"/>
                  </a:xfrm>
                </p:grpSpPr>
                <p:sp>
                  <p:nvSpPr>
                    <p:cNvPr id="2349" name=""/>
                    <p:cNvSpPr/>
                    <p:nvPr/>
                  </p:nvSpPr>
                  <p:spPr>
                    <a:xfrm flipH="1">
                      <a:off x="4701960" y="4463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0" name=""/>
                    <p:cNvSpPr/>
                    <p:nvPr/>
                  </p:nvSpPr>
                  <p:spPr>
                    <a:xfrm flipH="1">
                      <a:off x="4701240" y="446256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1" name=""/>
                  <p:cNvGrpSpPr/>
                  <p:nvPr/>
                </p:nvGrpSpPr>
                <p:grpSpPr>
                  <a:xfrm>
                    <a:off x="4699440" y="4463280"/>
                    <a:ext cx="61560" cy="61200"/>
                    <a:chOff x="4699440" y="4463280"/>
                    <a:chExt cx="61560" cy="61200"/>
                  </a:xfrm>
                </p:grpSpPr>
                <p:sp>
                  <p:nvSpPr>
                    <p:cNvPr id="2352" name=""/>
                    <p:cNvSpPr/>
                    <p:nvPr/>
                  </p:nvSpPr>
                  <p:spPr>
                    <a:xfrm flipH="1">
                      <a:off x="4701960" y="4463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 flipH="1">
                      <a:off x="4699080" y="446940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4" name=""/>
                  <p:cNvGrpSpPr/>
                  <p:nvPr/>
                </p:nvGrpSpPr>
                <p:grpSpPr>
                  <a:xfrm>
                    <a:off x="4601520" y="4414320"/>
                    <a:ext cx="192960" cy="276840"/>
                    <a:chOff x="4601520" y="4414320"/>
                    <a:chExt cx="192960" cy="276840"/>
                  </a:xfrm>
                </p:grpSpPr>
                <p:sp>
                  <p:nvSpPr>
                    <p:cNvPr id="2355" name=""/>
                    <p:cNvSpPr/>
                    <p:nvPr/>
                  </p:nvSpPr>
                  <p:spPr>
                    <a:xfrm flipH="1">
                      <a:off x="4601520" y="441432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/>
                    <p:nvPr/>
                  </p:nvSpPr>
                  <p:spPr>
                    <a:xfrm flipH="1">
                      <a:off x="4656600" y="443268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7" name=""/>
                  <p:cNvGrpSpPr/>
                  <p:nvPr/>
                </p:nvGrpSpPr>
                <p:grpSpPr>
                  <a:xfrm>
                    <a:off x="4693320" y="4473720"/>
                    <a:ext cx="61200" cy="60840"/>
                    <a:chOff x="4693320" y="4473720"/>
                    <a:chExt cx="61200" cy="60840"/>
                  </a:xfrm>
                </p:grpSpPr>
                <p:grpSp>
                  <p:nvGrpSpPr>
                    <p:cNvPr id="2358" name=""/>
                    <p:cNvGrpSpPr/>
                    <p:nvPr/>
                  </p:nvGrpSpPr>
                  <p:grpSpPr>
                    <a:xfrm>
                      <a:off x="4695840" y="4473720"/>
                      <a:ext cx="58680" cy="56880"/>
                      <a:chOff x="4695840" y="4473720"/>
                      <a:chExt cx="58680" cy="56880"/>
                    </a:xfrm>
                  </p:grpSpPr>
                  <p:sp>
                    <p:nvSpPr>
                      <p:cNvPr id="2359" name=""/>
                      <p:cNvSpPr/>
                      <p:nvPr/>
                    </p:nvSpPr>
                    <p:spPr>
                      <a:xfrm flipH="1">
                        <a:off x="4695480" y="44744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0" name=""/>
                      <p:cNvSpPr/>
                      <p:nvPr/>
                    </p:nvSpPr>
                    <p:spPr>
                      <a:xfrm flipH="1">
                        <a:off x="4695480" y="447372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61" name=""/>
                    <p:cNvSpPr/>
                    <p:nvPr/>
                  </p:nvSpPr>
                  <p:spPr>
                    <a:xfrm flipH="1">
                      <a:off x="4695480" y="447444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/>
                    <p:nvPr/>
                  </p:nvSpPr>
                  <p:spPr>
                    <a:xfrm flipH="1">
                      <a:off x="4692960" y="44787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3" name=""/>
                  <p:cNvSpPr/>
                  <p:nvPr/>
                </p:nvSpPr>
                <p:spPr>
                  <a:xfrm flipH="1">
                    <a:off x="4634280" y="448092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 flipH="1">
                    <a:off x="4594680" y="465084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65" name=""/>
              <p:cNvSpPr/>
              <p:nvPr/>
            </p:nvSpPr>
            <p:spPr>
              <a:xfrm>
                <a:off x="2281320" y="3751200"/>
                <a:ext cx="190512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6" name=""/>
            <p:cNvGrpSpPr/>
            <p:nvPr/>
          </p:nvGrpSpPr>
          <p:grpSpPr>
            <a:xfrm>
              <a:off x="1365120" y="4572000"/>
              <a:ext cx="3841920" cy="1620720"/>
              <a:chOff x="1365120" y="4572000"/>
              <a:chExt cx="3841920" cy="1620720"/>
            </a:xfrm>
          </p:grpSpPr>
          <p:grpSp>
            <p:nvGrpSpPr>
              <p:cNvPr id="2367" name=""/>
              <p:cNvGrpSpPr/>
              <p:nvPr/>
            </p:nvGrpSpPr>
            <p:grpSpPr>
              <a:xfrm>
                <a:off x="1625760" y="4572000"/>
                <a:ext cx="3581280" cy="1620720"/>
                <a:chOff x="1625760" y="4572000"/>
                <a:chExt cx="3581280" cy="162072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1625760" y="504972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9" name=""/>
                <p:cNvGrpSpPr/>
                <p:nvPr/>
              </p:nvGrpSpPr>
              <p:grpSpPr>
                <a:xfrm>
                  <a:off x="3327480" y="5646600"/>
                  <a:ext cx="228600" cy="388800"/>
                  <a:chOff x="3327480" y="5646600"/>
                  <a:chExt cx="228600" cy="388800"/>
                </a:xfrm>
              </p:grpSpPr>
              <p:sp>
                <p:nvSpPr>
                  <p:cNvPr id="2370" name=""/>
                  <p:cNvSpPr/>
                  <p:nvPr/>
                </p:nvSpPr>
                <p:spPr>
                  <a:xfrm>
                    <a:off x="3327480" y="5841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 flipV="1">
                    <a:off x="3327480" y="5646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2" name=""/>
                <p:cNvGrpSpPr/>
                <p:nvPr/>
              </p:nvGrpSpPr>
              <p:grpSpPr>
                <a:xfrm>
                  <a:off x="3759480" y="5143320"/>
                  <a:ext cx="228600" cy="388800"/>
                  <a:chOff x="3759480" y="5143320"/>
                  <a:chExt cx="228600" cy="388800"/>
                </a:xfrm>
              </p:grpSpPr>
              <p:sp>
                <p:nvSpPr>
                  <p:cNvPr id="2373" name=""/>
                  <p:cNvSpPr/>
                  <p:nvPr/>
                </p:nvSpPr>
                <p:spPr>
                  <a:xfrm>
                    <a:off x="3759480" y="5337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 flipV="1">
                    <a:off x="3759480" y="51433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5" name=""/>
                <p:cNvGrpSpPr/>
                <p:nvPr/>
              </p:nvGrpSpPr>
              <p:grpSpPr>
                <a:xfrm>
                  <a:off x="4292640" y="5735520"/>
                  <a:ext cx="228600" cy="388800"/>
                  <a:chOff x="4292640" y="5735520"/>
                  <a:chExt cx="228600" cy="388800"/>
                </a:xfrm>
              </p:grpSpPr>
              <p:sp>
                <p:nvSpPr>
                  <p:cNvPr id="2376" name=""/>
                  <p:cNvSpPr/>
                  <p:nvPr/>
                </p:nvSpPr>
                <p:spPr>
                  <a:xfrm>
                    <a:off x="4292640" y="59299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V="1">
                    <a:off x="4292640" y="57355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8" name=""/>
                <p:cNvGrpSpPr/>
                <p:nvPr/>
              </p:nvGrpSpPr>
              <p:grpSpPr>
                <a:xfrm>
                  <a:off x="4749840" y="5753160"/>
                  <a:ext cx="228600" cy="388800"/>
                  <a:chOff x="4749840" y="5753160"/>
                  <a:chExt cx="228600" cy="388800"/>
                </a:xfrm>
              </p:grpSpPr>
              <p:sp>
                <p:nvSpPr>
                  <p:cNvPr id="2379" name=""/>
                  <p:cNvSpPr/>
                  <p:nvPr/>
                </p:nvSpPr>
                <p:spPr>
                  <a:xfrm>
                    <a:off x="4749840" y="5947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 flipV="1">
                    <a:off x="4749840" y="5753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1" name=""/>
                <p:cNvSpPr/>
                <p:nvPr/>
              </p:nvSpPr>
              <p:spPr>
                <a:xfrm>
                  <a:off x="1702080" y="514332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ssign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source Coopérat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V="1">
                  <a:off x="3606840" y="557028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3911760" y="5570640"/>
                  <a:ext cx="380880" cy="3045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4" name=""/>
                <p:cNvGrpSpPr/>
                <p:nvPr/>
              </p:nvGrpSpPr>
              <p:grpSpPr>
                <a:xfrm>
                  <a:off x="4521240" y="5219640"/>
                  <a:ext cx="228600" cy="388800"/>
                  <a:chOff x="4521240" y="5219640"/>
                  <a:chExt cx="228600" cy="388800"/>
                </a:xfrm>
              </p:grpSpPr>
              <p:sp>
                <p:nvSpPr>
                  <p:cNvPr id="2385" name=""/>
                  <p:cNvSpPr/>
                  <p:nvPr/>
                </p:nvSpPr>
                <p:spPr>
                  <a:xfrm>
                    <a:off x="4521240" y="54140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 flipV="1">
                    <a:off x="4521240" y="521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7" name=""/>
                <p:cNvSpPr/>
                <p:nvPr/>
              </p:nvSpPr>
              <p:spPr>
                <a:xfrm flipH="1" flipV="1">
                  <a:off x="3987720" y="5371920"/>
                  <a:ext cx="533160" cy="763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8" name=""/>
                <p:cNvGrpSpPr/>
                <p:nvPr/>
              </p:nvGrpSpPr>
              <p:grpSpPr>
                <a:xfrm>
                  <a:off x="3759480" y="5753160"/>
                  <a:ext cx="228600" cy="388800"/>
                  <a:chOff x="3759480" y="5753160"/>
                  <a:chExt cx="228600" cy="38880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>
                    <a:off x="3759480" y="5947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flipV="1">
                    <a:off x="3759480" y="5753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3391200" y="5110200"/>
                  <a:ext cx="228600" cy="388800"/>
                  <a:chOff x="3391200" y="5110200"/>
                  <a:chExt cx="228600" cy="38880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>
                    <a:off x="3391200" y="5304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flipV="1">
                    <a:off x="3391200" y="5110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3683160" y="4572000"/>
                  <a:ext cx="380880" cy="545760"/>
                  <a:chOff x="3683160" y="4572000"/>
                  <a:chExt cx="380880" cy="5457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flipV="1">
                    <a:off x="3683160" y="458928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3861000" y="457200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7" name=""/>
              <p:cNvSpPr/>
              <p:nvPr/>
            </p:nvSpPr>
            <p:spPr>
              <a:xfrm>
                <a:off x="1365120" y="4592520"/>
                <a:ext cx="136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cc3300"/>
                    </a:solidFill>
                    <a:latin typeface="Times New Roman"/>
                  </a:rPr>
                  <a:t>Egalita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4DC2-CB0C-4B47-8E31-58F17499662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219320" y="152280"/>
            <a:ext cx="7772400" cy="4380120"/>
            <a:chOff x="1219320" y="152280"/>
            <a:chExt cx="7772400" cy="4380120"/>
          </a:xfrm>
        </p:grpSpPr>
        <p:sp>
          <p:nvSpPr>
            <p:cNvPr id="112" name=""/>
            <p:cNvSpPr/>
            <p:nvPr/>
          </p:nvSpPr>
          <p:spPr>
            <a:xfrm>
              <a:off x="1219320" y="152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335480" y="231840"/>
              <a:ext cx="1657080" cy="4181400"/>
              <a:chOff x="4335480" y="231840"/>
              <a:chExt cx="1657080" cy="41814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35480" y="390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4240" y="231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25720" y="1585800"/>
              <a:ext cx="6532560" cy="995400"/>
              <a:chOff x="2025720" y="1585800"/>
              <a:chExt cx="6532560" cy="99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2025720" y="1671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39280" y="1585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96080" y="1757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48040" y="2247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1880" y="1808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2214720" y="1898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3" name=""/>
              <p:cNvGrpSpPr/>
              <p:nvPr/>
            </p:nvGrpSpPr>
            <p:grpSpPr>
              <a:xfrm>
                <a:off x="5992920" y="1905120"/>
                <a:ext cx="908280" cy="636120"/>
                <a:chOff x="5992920" y="1905120"/>
                <a:chExt cx="908280" cy="6361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992920" y="226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5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269040" y="190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26" name=""/>
              <p:cNvSpPr/>
              <p:nvPr/>
            </p:nvSpPr>
            <p:spPr>
              <a:xfrm>
                <a:off x="4335840" y="1673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4480" y="1949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073680" y="2303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01200" y="2300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74240" y="1860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7080" y="1951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2" name=""/>
              <p:cNvGrpSpPr/>
              <p:nvPr/>
            </p:nvGrpSpPr>
            <p:grpSpPr>
              <a:xfrm>
                <a:off x="3862800" y="1717560"/>
                <a:ext cx="907920" cy="635040"/>
                <a:chOff x="3862800" y="1717560"/>
                <a:chExt cx="907920" cy="635040"/>
              </a:xfrm>
            </p:grpSpPr>
            <p:pic>
              <p:nvPicPr>
                <p:cNvPr id="133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38920" y="171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3862800" y="2076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héma général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76280" y="2620800"/>
            <a:ext cx="1101240" cy="1552680"/>
            <a:chOff x="1376280" y="2620800"/>
            <a:chExt cx="1101240" cy="1552680"/>
          </a:xfrm>
        </p:grpSpPr>
        <p:sp>
          <p:nvSpPr>
            <p:cNvPr id="137" name=""/>
            <p:cNvSpPr/>
            <p:nvPr/>
          </p:nvSpPr>
          <p:spPr>
            <a:xfrm>
              <a:off x="1376280" y="3576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génieur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la connaiss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47680" y="2620800"/>
              <a:ext cx="429840" cy="1181160"/>
              <a:chOff x="2047680" y="2620800"/>
              <a:chExt cx="429840" cy="11811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047680" y="2620800"/>
                <a:ext cx="210960" cy="97920"/>
                <a:chOff x="2047680" y="2620800"/>
                <a:chExt cx="210960" cy="9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47680" y="2694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099520" y="2631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72240" y="2620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12560" y="2658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22200" y="2690640"/>
                <a:ext cx="355320" cy="1111320"/>
                <a:chOff x="2122200" y="2690640"/>
                <a:chExt cx="355320" cy="1111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186280" y="2873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314080" y="2690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22200" y="3089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238840" y="3077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199240" y="3338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09760" y="3338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2086920" y="2682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2" name=""/>
          <p:cNvGrpSpPr/>
          <p:nvPr/>
        </p:nvGrpSpPr>
        <p:grpSpPr>
          <a:xfrm>
            <a:off x="1298520" y="231840"/>
            <a:ext cx="1774800" cy="1433520"/>
            <a:chOff x="1298520" y="231840"/>
            <a:chExt cx="1774800" cy="1433520"/>
          </a:xfrm>
        </p:grpSpPr>
        <p:sp>
          <p:nvSpPr>
            <p:cNvPr id="153" name=""/>
            <p:cNvSpPr/>
            <p:nvPr/>
          </p:nvSpPr>
          <p:spPr>
            <a:xfrm>
              <a:off x="1298520" y="1306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uteur et/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nnotateur de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850760" y="231840"/>
              <a:ext cx="789120" cy="1231920"/>
              <a:chOff x="1850760" y="231840"/>
              <a:chExt cx="789120" cy="12319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2126160" y="679680"/>
                <a:ext cx="477360" cy="784080"/>
                <a:chOff x="2126160" y="679680"/>
                <a:chExt cx="477360" cy="78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335320" y="940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378520" y="1186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210760" y="1173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126160" y="941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46200" y="679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91400" y="723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36960" y="231840"/>
                <a:ext cx="236520" cy="239040"/>
                <a:chOff x="2136960" y="231840"/>
                <a:chExt cx="236520" cy="239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6960" y="231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4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163960" y="253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1850760" y="355320"/>
                <a:ext cx="255240" cy="278640"/>
                <a:chOff x="1850760" y="355320"/>
                <a:chExt cx="255240" cy="278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850760" y="355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7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59040" y="374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8" name=""/>
              <p:cNvGrpSpPr/>
              <p:nvPr/>
            </p:nvGrpSpPr>
            <p:grpSpPr>
              <a:xfrm>
                <a:off x="2008440" y="674280"/>
                <a:ext cx="204120" cy="245160"/>
                <a:chOff x="2008440" y="674280"/>
                <a:chExt cx="204120" cy="245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008440" y="674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0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28960" y="690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"/>
              <p:cNvGrpSpPr/>
              <p:nvPr/>
            </p:nvGrpSpPr>
            <p:grpSpPr>
              <a:xfrm>
                <a:off x="2403000" y="395280"/>
                <a:ext cx="236880" cy="278640"/>
                <a:chOff x="2403000" y="395280"/>
                <a:chExt cx="236880" cy="278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03000" y="395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3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408400" y="428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74" name=""/>
          <p:cNvGrpSpPr/>
          <p:nvPr/>
        </p:nvGrpSpPr>
        <p:grpSpPr>
          <a:xfrm>
            <a:off x="7570800" y="3378240"/>
            <a:ext cx="1106280" cy="1193760"/>
            <a:chOff x="7570800" y="3378240"/>
            <a:chExt cx="1106280" cy="1193760"/>
          </a:xfrm>
        </p:grpSpPr>
        <p:sp>
          <p:nvSpPr>
            <p:cNvPr id="175" name=""/>
            <p:cNvSpPr/>
            <p:nvPr/>
          </p:nvSpPr>
          <p:spPr>
            <a:xfrm>
              <a:off x="7570800" y="4324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tilisateur fi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7729200" y="3457440"/>
              <a:ext cx="430200" cy="903600"/>
              <a:chOff x="7729200" y="3457440"/>
              <a:chExt cx="430200" cy="903600"/>
            </a:xfrm>
          </p:grpSpPr>
          <p:sp>
            <p:nvSpPr>
              <p:cNvPr id="177" name=""/>
              <p:cNvSpPr/>
              <p:nvPr/>
            </p:nvSpPr>
            <p:spPr>
              <a:xfrm flipH="1">
                <a:off x="7853760" y="3507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965000" y="3457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875360" y="3719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774200" y="3727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728840" y="3986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908840" y="3985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162640" y="3378240"/>
              <a:ext cx="473400" cy="396720"/>
              <a:chOff x="8162640" y="3378240"/>
              <a:chExt cx="473400" cy="396720"/>
            </a:xfrm>
          </p:grpSpPr>
          <p:sp>
            <p:nvSpPr>
              <p:cNvPr id="184" name=""/>
              <p:cNvSpPr/>
              <p:nvPr/>
            </p:nvSpPr>
            <p:spPr>
              <a:xfrm>
                <a:off x="8162640" y="3378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5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8920" y="3448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"/>
          <p:cNvGrpSpPr/>
          <p:nvPr/>
        </p:nvGrpSpPr>
        <p:grpSpPr>
          <a:xfrm>
            <a:off x="2639880" y="642960"/>
            <a:ext cx="1617840" cy="903240"/>
            <a:chOff x="2639880" y="642960"/>
            <a:chExt cx="1617840" cy="903240"/>
          </a:xfrm>
        </p:grpSpPr>
        <p:pic>
          <p:nvPicPr>
            <p:cNvPr id="187" name="" descr=""/>
            <p:cNvPicPr/>
            <p:nvPr/>
          </p:nvPicPr>
          <p:blipFill>
            <a:blip r:embed="rId12"/>
            <a:stretch/>
          </p:blipFill>
          <p:spPr>
            <a:xfrm>
              <a:off x="2639880" y="1119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2916000" y="642960"/>
              <a:ext cx="1025640" cy="903240"/>
              <a:chOff x="2916000" y="642960"/>
              <a:chExt cx="10256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916000" y="909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16000" y="642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3640" y="911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0200" y="1144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2680" y="673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4" name="" descr=""/>
            <p:cNvPicPr/>
            <p:nvPr/>
          </p:nvPicPr>
          <p:blipFill>
            <a:blip r:embed="rId15"/>
            <a:stretch/>
          </p:blipFill>
          <p:spPr>
            <a:xfrm>
              <a:off x="4020840" y="1108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5913360" y="3417840"/>
            <a:ext cx="1697040" cy="995400"/>
            <a:chOff x="5913360" y="3417840"/>
            <a:chExt cx="1697040" cy="995400"/>
          </a:xfrm>
        </p:grpSpPr>
        <p:pic>
          <p:nvPicPr>
            <p:cNvPr id="196" name="" descr=""/>
            <p:cNvPicPr/>
            <p:nvPr/>
          </p:nvPicPr>
          <p:blipFill>
            <a:blip r:embed="rId16"/>
            <a:stretch/>
          </p:blipFill>
          <p:spPr>
            <a:xfrm>
              <a:off x="5913360" y="3895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7"/>
            <a:stretch/>
          </p:blipFill>
          <p:spPr>
            <a:xfrm>
              <a:off x="7373880" y="3895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"/>
            <p:cNvGrpSpPr/>
            <p:nvPr/>
          </p:nvGrpSpPr>
          <p:grpSpPr>
            <a:xfrm>
              <a:off x="6189480" y="3417840"/>
              <a:ext cx="1104840" cy="995400"/>
              <a:chOff x="6189480" y="3417840"/>
              <a:chExt cx="1104840" cy="9954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189480" y="3417840"/>
                <a:ext cx="1026000" cy="902880"/>
                <a:chOff x="6189480" y="3417840"/>
                <a:chExt cx="1026000" cy="902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189480" y="3683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89480" y="3417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207120" y="3686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584040" y="3919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266160" y="3448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6228720" y="3457440"/>
                <a:ext cx="1026000" cy="903240"/>
                <a:chOff x="6228720" y="3457440"/>
                <a:chExt cx="1026000" cy="903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228720" y="3723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28720" y="3457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46360" y="3726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623280" y="3958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05400" y="3488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1" name=""/>
              <p:cNvGrpSpPr/>
              <p:nvPr/>
            </p:nvGrpSpPr>
            <p:grpSpPr>
              <a:xfrm>
                <a:off x="6268320" y="3510000"/>
                <a:ext cx="1026000" cy="903240"/>
                <a:chOff x="6268320" y="3510000"/>
                <a:chExt cx="1026000" cy="903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68320" y="3776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68320" y="3510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85960" y="3778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662880" y="4011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345000" y="3540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7" name=""/>
          <p:cNvGrpSpPr/>
          <p:nvPr/>
        </p:nvGrpSpPr>
        <p:grpSpPr>
          <a:xfrm>
            <a:off x="2679840" y="2739960"/>
            <a:ext cx="2167920" cy="677520"/>
            <a:chOff x="2679840" y="2739960"/>
            <a:chExt cx="2167920" cy="677520"/>
          </a:xfrm>
        </p:grpSpPr>
        <p:pic>
          <p:nvPicPr>
            <p:cNvPr id="218" name="" descr=""/>
            <p:cNvPicPr/>
            <p:nvPr/>
          </p:nvPicPr>
          <p:blipFill>
            <a:blip r:embed="rId24"/>
            <a:stretch/>
          </p:blipFill>
          <p:spPr>
            <a:xfrm>
              <a:off x="26798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5"/>
            <a:stretch/>
          </p:blipFill>
          <p:spPr>
            <a:xfrm>
              <a:off x="39812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2876400" y="2739960"/>
              <a:ext cx="1007640" cy="677520"/>
              <a:chOff x="2876400" y="2739960"/>
              <a:chExt cx="1007640" cy="677520"/>
            </a:xfrm>
          </p:grpSpPr>
          <p:sp>
            <p:nvSpPr>
              <p:cNvPr id="221" name=""/>
              <p:cNvSpPr/>
              <p:nvPr/>
            </p:nvSpPr>
            <p:spPr>
              <a:xfrm>
                <a:off x="3034080" y="2779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91760" y="3013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876400" y="2739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Ontologi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4" name="onto_01" descr=""/>
            <p:cNvPicPr/>
            <p:nvPr/>
          </p:nvPicPr>
          <p:blipFill>
            <a:blip r:embed="rId27"/>
            <a:stretch/>
          </p:blipFill>
          <p:spPr>
            <a:xfrm>
              <a:off x="4533840" y="2979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2467080" y="3490920"/>
            <a:ext cx="1631880" cy="882360"/>
            <a:chOff x="2467080" y="3490920"/>
            <a:chExt cx="1631880" cy="882360"/>
          </a:xfrm>
        </p:grpSpPr>
        <p:grpSp>
          <p:nvGrpSpPr>
            <p:cNvPr id="226" name=""/>
            <p:cNvGrpSpPr/>
            <p:nvPr/>
          </p:nvGrpSpPr>
          <p:grpSpPr>
            <a:xfrm>
              <a:off x="2467080" y="3774960"/>
              <a:ext cx="1631880" cy="598320"/>
              <a:chOff x="2467080" y="3774960"/>
              <a:chExt cx="1631880" cy="598320"/>
            </a:xfrm>
          </p:grpSpPr>
          <p:sp>
            <p:nvSpPr>
              <p:cNvPr id="227" name=""/>
              <p:cNvSpPr/>
              <p:nvPr/>
            </p:nvSpPr>
            <p:spPr>
              <a:xfrm>
                <a:off x="2545920" y="3814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585160" y="4018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2467080" y="3774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odèl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8760" y="3974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Modèle d'entre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Profils d'utilisateu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9"/>
            <a:stretch/>
          </p:blipFill>
          <p:spPr>
            <a:xfrm>
              <a:off x="3270240" y="3490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3981600" y="3855960"/>
            <a:ext cx="1065240" cy="357120"/>
            <a:chOff x="3981600" y="3855960"/>
            <a:chExt cx="1065240" cy="357120"/>
          </a:xfrm>
        </p:grpSpPr>
        <p:pic>
          <p:nvPicPr>
            <p:cNvPr id="233" name="" descr=""/>
            <p:cNvPicPr/>
            <p:nvPr/>
          </p:nvPicPr>
          <p:blipFill>
            <a:blip r:embed="rId30"/>
            <a:stretch/>
          </p:blipFill>
          <p:spPr>
            <a:xfrm>
              <a:off x="3981600" y="3935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nto_02" descr=""/>
            <p:cNvPicPr/>
            <p:nvPr/>
          </p:nvPicPr>
          <p:blipFill>
            <a:blip r:embed="rId31"/>
            <a:stretch/>
          </p:blipFill>
          <p:spPr>
            <a:xfrm>
              <a:off x="4691160" y="3855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7650000" y="2644920"/>
            <a:ext cx="631800" cy="772920"/>
            <a:chOff x="7650000" y="2644920"/>
            <a:chExt cx="631800" cy="772920"/>
          </a:xfrm>
        </p:grpSpPr>
        <p:pic>
          <p:nvPicPr>
            <p:cNvPr id="236" name="" descr=""/>
            <p:cNvPicPr/>
            <p:nvPr/>
          </p:nvPicPr>
          <p:blipFill>
            <a:blip r:embed="rId32"/>
            <a:stretch/>
          </p:blipFill>
          <p:spPr>
            <a:xfrm>
              <a:off x="7846920" y="3178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7650000" y="2644920"/>
              <a:ext cx="631800" cy="490320"/>
              <a:chOff x="7650000" y="2644920"/>
              <a:chExt cx="631800" cy="490320"/>
            </a:xfrm>
          </p:grpSpPr>
          <p:sp>
            <p:nvSpPr>
              <p:cNvPr id="238" name=""/>
              <p:cNvSpPr/>
              <p:nvPr/>
            </p:nvSpPr>
            <p:spPr>
              <a:xfrm>
                <a:off x="7689240" y="2697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50000" y="2644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Requê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86880" y="2878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1" name=""/>
          <p:cNvGrpSpPr/>
          <p:nvPr/>
        </p:nvGrpSpPr>
        <p:grpSpPr>
          <a:xfrm>
            <a:off x="4414680" y="573120"/>
            <a:ext cx="1301760" cy="3565440"/>
            <a:chOff x="4414680" y="573120"/>
            <a:chExt cx="1301760" cy="3565440"/>
          </a:xfrm>
        </p:grpSpPr>
        <p:pic>
          <p:nvPicPr>
            <p:cNvPr id="242" name="doc_01" descr=""/>
            <p:cNvPicPr/>
            <p:nvPr/>
          </p:nvPicPr>
          <p:blipFill>
            <a:blip r:embed="rId34"/>
            <a:stretch/>
          </p:blipFill>
          <p:spPr>
            <a:xfrm>
              <a:off x="5322960" y="1187280"/>
              <a:ext cx="21420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doc_01" descr=""/>
            <p:cNvPicPr/>
            <p:nvPr/>
          </p:nvPicPr>
          <p:blipFill>
            <a:blip r:embed="rId35"/>
            <a:stretch/>
          </p:blipFill>
          <p:spPr>
            <a:xfrm>
              <a:off x="5283360" y="110808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memory_01" descr=""/>
            <p:cNvPicPr/>
            <p:nvPr/>
          </p:nvPicPr>
          <p:blipFill>
            <a:blip r:embed="rId36"/>
            <a:stretch/>
          </p:blipFill>
          <p:spPr>
            <a:xfrm>
              <a:off x="4414680" y="57312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doc_03" descr=""/>
            <p:cNvPicPr/>
            <p:nvPr/>
          </p:nvPicPr>
          <p:blipFill>
            <a:blip r:embed="rId37"/>
            <a:stretch/>
          </p:blipFill>
          <p:spPr>
            <a:xfrm>
              <a:off x="4572000" y="334332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46" name="doc_04" descr=""/>
            <p:cNvPicPr/>
            <p:nvPr/>
          </p:nvPicPr>
          <p:blipFill>
            <a:blip r:embed="rId38"/>
            <a:stretch/>
          </p:blipFill>
          <p:spPr>
            <a:xfrm>
              <a:off x="4494240" y="1068480"/>
              <a:ext cx="2761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doc_05gif" descr=""/>
            <p:cNvPicPr/>
            <p:nvPr/>
          </p:nvPicPr>
          <p:blipFill>
            <a:blip r:embed="rId39"/>
            <a:stretch/>
          </p:blipFill>
          <p:spPr>
            <a:xfrm>
              <a:off x="5164200" y="3262320"/>
              <a:ext cx="3045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0"/>
            <a:stretch/>
          </p:blipFill>
          <p:spPr>
            <a:xfrm>
              <a:off x="5086440" y="2700360"/>
              <a:ext cx="411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1"/>
            <a:stretch/>
          </p:blipFill>
          <p:spPr>
            <a:xfrm>
              <a:off x="4911840" y="612720"/>
              <a:ext cx="3315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doc_01" descr=""/>
            <p:cNvPicPr/>
            <p:nvPr/>
          </p:nvPicPr>
          <p:blipFill>
            <a:blip r:embed="rId42"/>
            <a:stretch/>
          </p:blipFill>
          <p:spPr>
            <a:xfrm>
              <a:off x="5362560" y="122724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3"/>
            <a:stretch/>
          </p:blipFill>
          <p:spPr>
            <a:xfrm>
              <a:off x="5400720" y="382104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4"/>
            <a:stretch/>
          </p:blipFill>
          <p:spPr>
            <a:xfrm>
              <a:off x="4888080" y="1227240"/>
              <a:ext cx="3333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5"/>
            <a:stretch/>
          </p:blipFill>
          <p:spPr>
            <a:xfrm>
              <a:off x="5400720" y="66996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 txBox="1"/>
          <p:nvPr/>
        </p:nvSpPr>
        <p:spPr>
          <a:xfrm>
            <a:off x="2560680" y="3497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0640" y="351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413480" y="3616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600280" y="2462040"/>
            <a:ext cx="1971720" cy="1273320"/>
            <a:chOff x="2600280" y="2462040"/>
            <a:chExt cx="1971720" cy="1273320"/>
          </a:xfrm>
        </p:grpSpPr>
        <p:sp>
          <p:nvSpPr>
            <p:cNvPr id="258" name=""/>
            <p:cNvSpPr/>
            <p:nvPr/>
          </p:nvSpPr>
          <p:spPr>
            <a:xfrm>
              <a:off x="3902040" y="2462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600280" y="2462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44720" y="2541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165400" y="1467000"/>
            <a:ext cx="947160" cy="396720"/>
            <a:chOff x="2165400" y="1467000"/>
            <a:chExt cx="947160" cy="396720"/>
          </a:xfrm>
        </p:grpSpPr>
        <p:sp>
          <p:nvSpPr>
            <p:cNvPr id="262" name=""/>
            <p:cNvSpPr/>
            <p:nvPr/>
          </p:nvSpPr>
          <p:spPr>
            <a:xfrm>
              <a:off x="2165400" y="1571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480760" y="1467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15000" y="914040"/>
            <a:ext cx="2247840" cy="2503800"/>
            <a:chOff x="5715000" y="914040"/>
            <a:chExt cx="2247840" cy="2503800"/>
          </a:xfrm>
        </p:grpSpPr>
        <p:sp>
          <p:nvSpPr>
            <p:cNvPr id="265" name=""/>
            <p:cNvSpPr/>
            <p:nvPr/>
          </p:nvSpPr>
          <p:spPr>
            <a:xfrm flipH="1" flipV="1">
              <a:off x="5715000" y="914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31200" y="2222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21280" y="2541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13480" y="2541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519880" y="2422440"/>
            <a:ext cx="2129760" cy="1035000"/>
            <a:chOff x="5519880" y="2422440"/>
            <a:chExt cx="2129760" cy="1035000"/>
          </a:xfrm>
        </p:grpSpPr>
        <p:sp>
          <p:nvSpPr>
            <p:cNvPr id="270" name=""/>
            <p:cNvSpPr/>
            <p:nvPr/>
          </p:nvSpPr>
          <p:spPr>
            <a:xfrm flipH="1">
              <a:off x="5519880" y="2422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48240" y="2482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03920" y="2541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219320" y="46483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Collaboration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Capitalisation Glob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Autonomie &amp; Individualité </a:t>
            </a:r>
            <a:r>
              <a:rPr b="0" lang="fr-FR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                                Adaptation Loca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46DC-F256-4C0C-807E-E16637701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utilisateurs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édiée aux utilisateur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emandeurs &amp;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 baseline="30000">
                <a:solidFill>
                  <a:srgbClr val="000066"/>
                </a:solidFill>
                <a:latin typeface="Bookman Old Style"/>
              </a:rPr>
              <a:t>nt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ociétés ressourc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UI &amp; gestion exploitation profil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401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2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403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5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263760" y="3995640"/>
              <a:ext cx="306072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7" name=""/>
            <p:cNvGrpSpPr/>
            <p:nvPr/>
          </p:nvGrpSpPr>
          <p:grpSpPr>
            <a:xfrm>
              <a:off x="3473280" y="4133520"/>
              <a:ext cx="391680" cy="473400"/>
              <a:chOff x="3473280" y="4133520"/>
              <a:chExt cx="391680" cy="473400"/>
            </a:xfrm>
          </p:grpSpPr>
          <p:grpSp>
            <p:nvGrpSpPr>
              <p:cNvPr id="2418" name=""/>
              <p:cNvGrpSpPr/>
              <p:nvPr/>
            </p:nvGrpSpPr>
            <p:grpSpPr>
              <a:xfrm>
                <a:off x="3606480" y="4133520"/>
                <a:ext cx="258480" cy="388440"/>
                <a:chOff x="3606480" y="4133520"/>
                <a:chExt cx="258480" cy="38844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3606480" y="43279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V="1">
                  <a:off x="3606480" y="41331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3559320" y="4161960"/>
                <a:ext cx="258480" cy="388440"/>
                <a:chOff x="3559320" y="4161960"/>
                <a:chExt cx="258480" cy="38844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3559320" y="43563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V="1">
                  <a:off x="3559320" y="416160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3520440" y="4190040"/>
                <a:ext cx="258480" cy="388440"/>
                <a:chOff x="3520440" y="4190040"/>
                <a:chExt cx="258480" cy="38844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3520440" y="438444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V="1">
                  <a:off x="3520440" y="41896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3473280" y="4218480"/>
                <a:ext cx="258480" cy="388440"/>
                <a:chOff x="3473280" y="4218480"/>
                <a:chExt cx="258480" cy="38844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3473280" y="44128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V="1">
                  <a:off x="3473280" y="42181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0" name=""/>
            <p:cNvSpPr/>
            <p:nvPr/>
          </p:nvSpPr>
          <p:spPr>
            <a:xfrm>
              <a:off x="3975120" y="4025880"/>
              <a:ext cx="2312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2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433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5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7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448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0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3351-1054-443F-A0DC-2B541D14B59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us-sociétés dédiées (utilisateurs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465" name=""/>
          <p:cNvSpPr/>
          <p:nvPr/>
        </p:nvSpPr>
        <p:spPr>
          <a:xfrm>
            <a:off x="9144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Société complètement diffé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pprentissage symbolique &amp; pro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Filtrage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"/>
          <p:cNvGrpSpPr/>
          <p:nvPr/>
        </p:nvGrpSpPr>
        <p:grpSpPr>
          <a:xfrm>
            <a:off x="3263760" y="3995640"/>
            <a:ext cx="3060720" cy="735120"/>
            <a:chOff x="3263760" y="3995640"/>
            <a:chExt cx="3060720" cy="735120"/>
          </a:xfrm>
        </p:grpSpPr>
        <p:sp>
          <p:nvSpPr>
            <p:cNvPr id="2467" name=""/>
            <p:cNvSpPr/>
            <p:nvPr/>
          </p:nvSpPr>
          <p:spPr>
            <a:xfrm>
              <a:off x="3263760" y="3995640"/>
              <a:ext cx="306072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8" name=""/>
            <p:cNvGrpSpPr/>
            <p:nvPr/>
          </p:nvGrpSpPr>
          <p:grpSpPr>
            <a:xfrm>
              <a:off x="3473280" y="4133520"/>
              <a:ext cx="391680" cy="473400"/>
              <a:chOff x="3473280" y="4133520"/>
              <a:chExt cx="391680" cy="473400"/>
            </a:xfrm>
          </p:grpSpPr>
          <p:grpSp>
            <p:nvGrpSpPr>
              <p:cNvPr id="2469" name=""/>
              <p:cNvGrpSpPr/>
              <p:nvPr/>
            </p:nvGrpSpPr>
            <p:grpSpPr>
              <a:xfrm>
                <a:off x="3606480" y="4133520"/>
                <a:ext cx="258480" cy="388440"/>
                <a:chOff x="3606480" y="4133520"/>
                <a:chExt cx="258480" cy="38844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3606480" y="43279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flipV="1">
                  <a:off x="3606480" y="41331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3559320" y="4161960"/>
                <a:ext cx="258480" cy="388440"/>
                <a:chOff x="3559320" y="4161960"/>
                <a:chExt cx="258480" cy="38844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3559320" y="43563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V="1">
                  <a:off x="3559320" y="416160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3520440" y="4190040"/>
                <a:ext cx="258480" cy="388440"/>
                <a:chOff x="3520440" y="4190040"/>
                <a:chExt cx="258480" cy="38844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3520440" y="438444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V="1">
                  <a:off x="3520440" y="41896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3473280" y="4218480"/>
                <a:ext cx="258480" cy="388440"/>
                <a:chOff x="3473280" y="4218480"/>
                <a:chExt cx="258480" cy="38844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3473280" y="44128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V="1">
                  <a:off x="3473280" y="42181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1" name=""/>
            <p:cNvSpPr/>
            <p:nvPr/>
          </p:nvSpPr>
          <p:spPr>
            <a:xfrm>
              <a:off x="3975120" y="4025880"/>
              <a:ext cx="2312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977760" y="4800600"/>
            <a:ext cx="6934320" cy="1828800"/>
            <a:chOff x="977760" y="4800600"/>
            <a:chExt cx="6934320" cy="1828800"/>
          </a:xfrm>
        </p:grpSpPr>
        <p:sp>
          <p:nvSpPr>
            <p:cNvPr id="2483" name=""/>
            <p:cNvSpPr/>
            <p:nvPr/>
          </p:nvSpPr>
          <p:spPr>
            <a:xfrm>
              <a:off x="977760" y="5867280"/>
              <a:ext cx="693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0066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Bookman Old Style"/>
                </a:rPr>
                <a:t>IC, UPM, UPA, PIGM, EID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4" name=""/>
            <p:cNvGrpSpPr/>
            <p:nvPr/>
          </p:nvGrpSpPr>
          <p:grpSpPr>
            <a:xfrm>
              <a:off x="2577960" y="4800600"/>
              <a:ext cx="3505320" cy="914400"/>
              <a:chOff x="2577960" y="4800600"/>
              <a:chExt cx="3505320" cy="914400"/>
            </a:xfrm>
          </p:grpSpPr>
          <p:sp>
            <p:nvSpPr>
              <p:cNvPr id="2485" name=""/>
              <p:cNvSpPr/>
              <p:nvPr/>
            </p:nvSpPr>
            <p:spPr>
              <a:xfrm>
                <a:off x="2577960" y="502920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940280" y="4800600"/>
                <a:ext cx="1143000" cy="9144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7" name=""/>
              <p:cNvGrpSpPr/>
              <p:nvPr/>
            </p:nvGrpSpPr>
            <p:grpSpPr>
              <a:xfrm>
                <a:off x="5310360" y="4900320"/>
                <a:ext cx="429480" cy="675000"/>
                <a:chOff x="5310360" y="4900320"/>
                <a:chExt cx="429480" cy="675000"/>
              </a:xfrm>
            </p:grpSpPr>
            <p:grpSp>
              <p:nvGrpSpPr>
                <p:cNvPr id="2488" name=""/>
                <p:cNvGrpSpPr/>
                <p:nvPr/>
              </p:nvGrpSpPr>
              <p:grpSpPr>
                <a:xfrm>
                  <a:off x="5325480" y="4900320"/>
                  <a:ext cx="414360" cy="412920"/>
                  <a:chOff x="5325480" y="4900320"/>
                  <a:chExt cx="414360" cy="412920"/>
                </a:xfrm>
              </p:grpSpPr>
              <p:grpSp>
                <p:nvGrpSpPr>
                  <p:cNvPr id="2489" name=""/>
                  <p:cNvGrpSpPr/>
                  <p:nvPr/>
                </p:nvGrpSpPr>
                <p:grpSpPr>
                  <a:xfrm>
                    <a:off x="5325480" y="4906800"/>
                    <a:ext cx="406440" cy="405000"/>
                    <a:chOff x="5325480" y="4906800"/>
                    <a:chExt cx="406440" cy="405000"/>
                  </a:xfrm>
                </p:grpSpPr>
                <p:grpSp>
                  <p:nvGrpSpPr>
                    <p:cNvPr id="2490" name=""/>
                    <p:cNvGrpSpPr/>
                    <p:nvPr/>
                  </p:nvGrpSpPr>
                  <p:grpSpPr>
                    <a:xfrm>
                      <a:off x="5325480" y="4906800"/>
                      <a:ext cx="406440" cy="405000"/>
                      <a:chOff x="5325480" y="4906800"/>
                      <a:chExt cx="406440" cy="405000"/>
                    </a:xfrm>
                  </p:grpSpPr>
                  <p:sp>
                    <p:nvSpPr>
                      <p:cNvPr id="2491" name=""/>
                      <p:cNvSpPr/>
                      <p:nvPr/>
                    </p:nvSpPr>
                    <p:spPr>
                      <a:xfrm flipH="1">
                        <a:off x="5387040" y="4906800"/>
                        <a:ext cx="34452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2" name=""/>
                      <p:cNvSpPr/>
                      <p:nvPr/>
                    </p:nvSpPr>
                    <p:spPr>
                      <a:xfrm flipH="1">
                        <a:off x="5325480" y="5022720"/>
                        <a:ext cx="380880" cy="28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3" name=""/>
                    <p:cNvGrpSpPr/>
                    <p:nvPr/>
                  </p:nvGrpSpPr>
                  <p:grpSpPr>
                    <a:xfrm>
                      <a:off x="5326920" y="4913280"/>
                      <a:ext cx="401760" cy="380880"/>
                      <a:chOff x="5326920" y="4913280"/>
                      <a:chExt cx="401760" cy="380880"/>
                    </a:xfrm>
                  </p:grpSpPr>
                  <p:sp>
                    <p:nvSpPr>
                      <p:cNvPr id="2494" name=""/>
                      <p:cNvSpPr/>
                      <p:nvPr/>
                    </p:nvSpPr>
                    <p:spPr>
                      <a:xfrm flipH="1">
                        <a:off x="5607720" y="5198760"/>
                        <a:ext cx="9828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5" name=""/>
                      <p:cNvSpPr/>
                      <p:nvPr/>
                    </p:nvSpPr>
                    <p:spPr>
                      <a:xfrm flipH="1">
                        <a:off x="5326560" y="5021280"/>
                        <a:ext cx="34920" cy="18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6" name=""/>
                      <p:cNvSpPr/>
                      <p:nvPr/>
                    </p:nvSpPr>
                    <p:spPr>
                      <a:xfrm flipH="1">
                        <a:off x="5406480" y="4913280"/>
                        <a:ext cx="139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7" name=""/>
                      <p:cNvSpPr/>
                      <p:nvPr/>
                    </p:nvSpPr>
                    <p:spPr>
                      <a:xfrm flipH="1">
                        <a:off x="5684040" y="4992480"/>
                        <a:ext cx="442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98" name=""/>
                  <p:cNvSpPr/>
                  <p:nvPr/>
                </p:nvSpPr>
                <p:spPr>
                  <a:xfrm flipH="1">
                    <a:off x="5325120" y="4932360"/>
                    <a:ext cx="398520" cy="38088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99" name=""/>
                  <p:cNvGrpSpPr/>
                  <p:nvPr/>
                </p:nvGrpSpPr>
                <p:grpSpPr>
                  <a:xfrm>
                    <a:off x="5341320" y="4900320"/>
                    <a:ext cx="398520" cy="381240"/>
                    <a:chOff x="5341320" y="4900320"/>
                    <a:chExt cx="398520" cy="381240"/>
                  </a:xfrm>
                </p:grpSpPr>
                <p:sp>
                  <p:nvSpPr>
                    <p:cNvPr id="2500" name=""/>
                    <p:cNvSpPr/>
                    <p:nvPr/>
                  </p:nvSpPr>
                  <p:spPr>
                    <a:xfrm flipH="1">
                      <a:off x="5347800" y="4906800"/>
                      <a:ext cx="387360" cy="37008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 flipH="1">
                      <a:off x="5340960" y="4900320"/>
                      <a:ext cx="398520" cy="38124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 flipH="1">
                      <a:off x="5353560" y="4913280"/>
                      <a:ext cx="374760" cy="35712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03" name=""/>
                <p:cNvGrpSpPr/>
                <p:nvPr/>
              </p:nvGrpSpPr>
              <p:grpSpPr>
                <a:xfrm>
                  <a:off x="5310360" y="5259240"/>
                  <a:ext cx="202680" cy="316080"/>
                  <a:chOff x="5310360" y="5259240"/>
                  <a:chExt cx="202680" cy="316080"/>
                </a:xfrm>
              </p:grpSpPr>
              <p:sp>
                <p:nvSpPr>
                  <p:cNvPr id="2504" name=""/>
                  <p:cNvSpPr/>
                  <p:nvPr/>
                </p:nvSpPr>
                <p:spPr>
                  <a:xfrm flipH="1">
                    <a:off x="5316480" y="5275080"/>
                    <a:ext cx="194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 flipH="1">
                    <a:off x="5453280" y="5259240"/>
                    <a:ext cx="583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 flipH="1">
                    <a:off x="5450400" y="5263920"/>
                    <a:ext cx="594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 flipH="1">
                    <a:off x="5476320" y="5263920"/>
                    <a:ext cx="36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>
                    <a:off x="5451840" y="5260680"/>
                    <a:ext cx="59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 flipH="1">
                    <a:off x="5431320" y="5298840"/>
                    <a:ext cx="594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0" name=""/>
                  <p:cNvGrpSpPr/>
                  <p:nvPr/>
                </p:nvGrpSpPr>
                <p:grpSpPr>
                  <a:xfrm>
                    <a:off x="5427360" y="5303520"/>
                    <a:ext cx="61920" cy="62640"/>
                    <a:chOff x="5427360" y="5303520"/>
                    <a:chExt cx="61920" cy="62640"/>
                  </a:xfrm>
                </p:grpSpPr>
                <p:grpSp>
                  <p:nvGrpSpPr>
                    <p:cNvPr id="2511" name=""/>
                    <p:cNvGrpSpPr/>
                    <p:nvPr/>
                  </p:nvGrpSpPr>
                  <p:grpSpPr>
                    <a:xfrm>
                      <a:off x="5430240" y="5303520"/>
                      <a:ext cx="59040" cy="56160"/>
                      <a:chOff x="5430240" y="5303520"/>
                      <a:chExt cx="59040" cy="56160"/>
                    </a:xfrm>
                  </p:grpSpPr>
                  <p:sp>
                    <p:nvSpPr>
                      <p:cNvPr id="2512" name=""/>
                      <p:cNvSpPr/>
                      <p:nvPr/>
                    </p:nvSpPr>
                    <p:spPr>
                      <a:xfrm flipH="1">
                        <a:off x="5430240" y="5303520"/>
                        <a:ext cx="5904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3" name=""/>
                      <p:cNvSpPr/>
                      <p:nvPr/>
                    </p:nvSpPr>
                    <p:spPr>
                      <a:xfrm flipH="1">
                        <a:off x="5430240" y="530388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4" name=""/>
                      <p:cNvSpPr/>
                      <p:nvPr/>
                    </p:nvSpPr>
                    <p:spPr>
                      <a:xfrm flipH="1">
                        <a:off x="5430600" y="5303520"/>
                        <a:ext cx="5760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15" name=""/>
                    <p:cNvSpPr/>
                    <p:nvPr/>
                  </p:nvSpPr>
                  <p:spPr>
                    <a:xfrm flipH="1">
                      <a:off x="5427360" y="5310000"/>
                      <a:ext cx="5760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6" name=""/>
                  <p:cNvGrpSpPr/>
                  <p:nvPr/>
                </p:nvGrpSpPr>
                <p:grpSpPr>
                  <a:xfrm>
                    <a:off x="5421600" y="5314320"/>
                    <a:ext cx="61560" cy="63000"/>
                    <a:chOff x="5421600" y="5314320"/>
                    <a:chExt cx="61560" cy="63000"/>
                  </a:xfrm>
                </p:grpSpPr>
                <p:grpSp>
                  <p:nvGrpSpPr>
                    <p:cNvPr id="2517" name=""/>
                    <p:cNvGrpSpPr/>
                    <p:nvPr/>
                  </p:nvGrpSpPr>
                  <p:grpSpPr>
                    <a:xfrm>
                      <a:off x="5423760" y="5314320"/>
                      <a:ext cx="59400" cy="57600"/>
                      <a:chOff x="5423760" y="5314320"/>
                      <a:chExt cx="59400" cy="57600"/>
                    </a:xfrm>
                  </p:grpSpPr>
                  <p:sp>
                    <p:nvSpPr>
                      <p:cNvPr id="2518" name=""/>
                      <p:cNvSpPr/>
                      <p:nvPr/>
                    </p:nvSpPr>
                    <p:spPr>
                      <a:xfrm flipH="1">
                        <a:off x="5424120" y="5314680"/>
                        <a:ext cx="5868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9" name=""/>
                      <p:cNvSpPr/>
                      <p:nvPr/>
                    </p:nvSpPr>
                    <p:spPr>
                      <a:xfrm flipH="1">
                        <a:off x="5423400" y="5314320"/>
                        <a:ext cx="59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0" name=""/>
                      <p:cNvSpPr/>
                      <p:nvPr/>
                    </p:nvSpPr>
                    <p:spPr>
                      <a:xfrm flipH="1">
                        <a:off x="5424840" y="5314680"/>
                        <a:ext cx="5688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21" name=""/>
                    <p:cNvSpPr/>
                    <p:nvPr/>
                  </p:nvSpPr>
                  <p:spPr>
                    <a:xfrm flipH="1">
                      <a:off x="5421240" y="532116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2" name=""/>
                  <p:cNvGrpSpPr/>
                  <p:nvPr/>
                </p:nvGrpSpPr>
                <p:grpSpPr>
                  <a:xfrm>
                    <a:off x="5417280" y="5325480"/>
                    <a:ext cx="59400" cy="57600"/>
                    <a:chOff x="5417280" y="5325480"/>
                    <a:chExt cx="59400" cy="57600"/>
                  </a:xfrm>
                </p:grpSpPr>
                <p:sp>
                  <p:nvSpPr>
                    <p:cNvPr id="2523" name=""/>
                    <p:cNvSpPr/>
                    <p:nvPr/>
                  </p:nvSpPr>
                  <p:spPr>
                    <a:xfrm flipH="1">
                      <a:off x="5417640" y="5325840"/>
                      <a:ext cx="5868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4" name=""/>
                    <p:cNvSpPr/>
                    <p:nvPr/>
                  </p:nvSpPr>
                  <p:spPr>
                    <a:xfrm flipH="1">
                      <a:off x="5416920" y="5325480"/>
                      <a:ext cx="5940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5" name=""/>
                  <p:cNvGrpSpPr/>
                  <p:nvPr/>
                </p:nvGrpSpPr>
                <p:grpSpPr>
                  <a:xfrm>
                    <a:off x="5415120" y="5325840"/>
                    <a:ext cx="61560" cy="62280"/>
                    <a:chOff x="5415120" y="5325840"/>
                    <a:chExt cx="61560" cy="62280"/>
                  </a:xfrm>
                </p:grpSpPr>
                <p:sp>
                  <p:nvSpPr>
                    <p:cNvPr id="2526" name=""/>
                    <p:cNvSpPr/>
                    <p:nvPr/>
                  </p:nvSpPr>
                  <p:spPr>
                    <a:xfrm flipH="1">
                      <a:off x="5417640" y="532584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7" name=""/>
                    <p:cNvSpPr/>
                    <p:nvPr/>
                  </p:nvSpPr>
                  <p:spPr>
                    <a:xfrm flipH="1">
                      <a:off x="5414760" y="533232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8" name=""/>
                  <p:cNvGrpSpPr/>
                  <p:nvPr/>
                </p:nvGrpSpPr>
                <p:grpSpPr>
                  <a:xfrm>
                    <a:off x="5317200" y="5276880"/>
                    <a:ext cx="192960" cy="277560"/>
                    <a:chOff x="5317200" y="5276880"/>
                    <a:chExt cx="192960" cy="277560"/>
                  </a:xfrm>
                </p:grpSpPr>
                <p:sp>
                  <p:nvSpPr>
                    <p:cNvPr id="2529" name=""/>
                    <p:cNvSpPr/>
                    <p:nvPr/>
                  </p:nvSpPr>
                  <p:spPr>
                    <a:xfrm flipH="1">
                      <a:off x="5317200" y="5276880"/>
                      <a:ext cx="137520" cy="2473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 flipH="1">
                      <a:off x="5372280" y="5295600"/>
                      <a:ext cx="137880" cy="2588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1" name=""/>
                  <p:cNvGrpSpPr/>
                  <p:nvPr/>
                </p:nvGrpSpPr>
                <p:grpSpPr>
                  <a:xfrm>
                    <a:off x="5409000" y="5336640"/>
                    <a:ext cx="61200" cy="61200"/>
                    <a:chOff x="5409000" y="5336640"/>
                    <a:chExt cx="61200" cy="61200"/>
                  </a:xfrm>
                </p:grpSpPr>
                <p:grpSp>
                  <p:nvGrpSpPr>
                    <p:cNvPr id="2532" name=""/>
                    <p:cNvGrpSpPr/>
                    <p:nvPr/>
                  </p:nvGrpSpPr>
                  <p:grpSpPr>
                    <a:xfrm>
                      <a:off x="5411520" y="5336640"/>
                      <a:ext cx="58680" cy="57600"/>
                      <a:chOff x="5411520" y="5336640"/>
                      <a:chExt cx="58680" cy="57600"/>
                    </a:xfrm>
                  </p:grpSpPr>
                  <p:sp>
                    <p:nvSpPr>
                      <p:cNvPr id="2533" name=""/>
                      <p:cNvSpPr/>
                      <p:nvPr/>
                    </p:nvSpPr>
                    <p:spPr>
                      <a:xfrm flipH="1">
                        <a:off x="5411160" y="5337000"/>
                        <a:ext cx="586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4" name=""/>
                      <p:cNvSpPr/>
                      <p:nvPr/>
                    </p:nvSpPr>
                    <p:spPr>
                      <a:xfrm flipH="1">
                        <a:off x="5411160" y="5336640"/>
                        <a:ext cx="5868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35" name=""/>
                    <p:cNvSpPr/>
                    <p:nvPr/>
                  </p:nvSpPr>
                  <p:spPr>
                    <a:xfrm flipH="1">
                      <a:off x="5411160" y="533700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6" name=""/>
                    <p:cNvSpPr/>
                    <p:nvPr/>
                  </p:nvSpPr>
                  <p:spPr>
                    <a:xfrm flipH="1">
                      <a:off x="5408640" y="534168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7" name=""/>
                  <p:cNvSpPr/>
                  <p:nvPr/>
                </p:nvSpPr>
                <p:spPr>
                  <a:xfrm flipH="1">
                    <a:off x="5349960" y="5343480"/>
                    <a:ext cx="1188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flipH="1">
                    <a:off x="5310360" y="5513400"/>
                    <a:ext cx="64800" cy="6192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539" name=""/>
          <p:cNvSpPr/>
          <p:nvPr/>
        </p:nvSpPr>
        <p:spPr>
          <a:xfrm>
            <a:off x="1765440" y="5931000"/>
            <a:ext cx="257796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914400" y="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La société dédiée aux utilisateu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Demandeurs &amp; </a:t>
            </a:r>
            <a:r>
              <a:rPr b="0" lang="fr-FR" sz="28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 baseline="30000">
                <a:solidFill>
                  <a:srgbClr val="000066"/>
                </a:solidFill>
                <a:latin typeface="Bookman Old Style"/>
              </a:rPr>
              <a:t>nt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sociétés res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GUI &amp; gestion exploitation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B646-15E2-43C9-AE26-AA4958F6940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Rôles Identifié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542" name=""/>
          <p:cNvSpPr/>
          <p:nvPr/>
        </p:nvSpPr>
        <p:spPr>
          <a:xfrm>
            <a:off x="914400" y="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Analyse des rôles identifiés</a:t>
            </a:r>
            <a:br>
              <a:rPr sz="3000"/>
            </a:br>
            <a:r>
              <a:rPr b="0" lang="fr-FR" sz="2400" spc="-1" strike="noStrike">
                <a:solidFill>
                  <a:srgbClr val="000066"/>
                </a:solidFill>
                <a:latin typeface="Bookman Old Style"/>
              </a:rPr>
              <a:t>Archiviste Ontologiste ; Archiviste Modèle d'Entreprise ; Archiviste d'Annotations ; Médiateur d'Annotations ; Apparieur Fédérable ; Contrôleur d'Interface ; Gestionnaire de profils ; Archiviste de profils</a:t>
            </a: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3" name="" descr=""/>
          <p:cNvPicPr/>
          <p:nvPr/>
        </p:nvPicPr>
        <p:blipFill>
          <a:blip r:embed="rId1"/>
          <a:stretch/>
        </p:blipFill>
        <p:spPr>
          <a:xfrm>
            <a:off x="1066680" y="2303640"/>
            <a:ext cx="807732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CCF7-F445-4E72-8582-D4B434B3E7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eractions entre agents (use cases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Interactions entres les rôle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alyse des scénario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Use cas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pic>
        <p:nvPicPr>
          <p:cNvPr id="254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D30-9D04-4881-B1CD-6C8B6EE85E1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eractions entre agents (protocoles)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838080" y="-7668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Protocoles des Interactions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</p:txBody>
      </p:sp>
      <p:grpSp>
        <p:nvGrpSpPr>
          <p:cNvPr id="2549" name=""/>
          <p:cNvGrpSpPr/>
          <p:nvPr/>
        </p:nvGrpSpPr>
        <p:grpSpPr>
          <a:xfrm>
            <a:off x="1295280" y="457200"/>
            <a:ext cx="7162560" cy="4648320"/>
            <a:chOff x="1295280" y="457200"/>
            <a:chExt cx="7162560" cy="4648320"/>
          </a:xfrm>
        </p:grpSpPr>
        <p:sp>
          <p:nvSpPr>
            <p:cNvPr id="2550" name=""/>
            <p:cNvSpPr/>
            <p:nvPr/>
          </p:nvSpPr>
          <p:spPr>
            <a:xfrm>
              <a:off x="1295280" y="457200"/>
              <a:ext cx="716256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1" name="" descr=""/>
            <p:cNvPicPr/>
            <p:nvPr/>
          </p:nvPicPr>
          <p:blipFill>
            <a:blip r:embed="rId1"/>
            <a:srcRect l="-553" t="-974" r="-553" b="-974"/>
            <a:stretch/>
          </p:blipFill>
          <p:spPr>
            <a:xfrm>
              <a:off x="1371240" y="533520"/>
              <a:ext cx="685800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2" name=""/>
          <p:cNvSpPr/>
          <p:nvPr/>
        </p:nvSpPr>
        <p:spPr>
          <a:xfrm>
            <a:off x="838080" y="51055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Dériver le comportement (soc. &amp; int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3300"/>
                </a:solidFill>
                <a:latin typeface="Bookman Old Style"/>
              </a:rPr>
              <a:t>Architecture + Rôles + Protocoles + Comportements + Compétences = S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5E35-DAF4-485E-BA2C-92F0467DF96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égration à CoMMA: Login et Ag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255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913800" cy="40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C7F0-851A-4F49-8972-238024EC245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égration à CoMMA: Requête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255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801036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1C1E-0E31-4620-BD5B-61485990843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Intégration à CoMMA: Echanges des Agents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pic>
        <p:nvPicPr>
          <p:cNvPr id="2558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7654680" cy="36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000D-B71F-4CB0-B915-8C388BBAC7C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9" name="Winner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2BE2-98BE-4A3A-B328-963068792C0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héma général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276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277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7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288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0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291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2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93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6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297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298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299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0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301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15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16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319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28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1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4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7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38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339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9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0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35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2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5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9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36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2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81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38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4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6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7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8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9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6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39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40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1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5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406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10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8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422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429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434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168560" y="838080"/>
            <a:ext cx="7975440" cy="4648320"/>
            <a:chOff x="1168560" y="838080"/>
            <a:chExt cx="7975440" cy="4648320"/>
          </a:xfrm>
        </p:grpSpPr>
        <p:sp>
          <p:nvSpPr>
            <p:cNvPr id="438" name=""/>
            <p:cNvSpPr/>
            <p:nvPr/>
          </p:nvSpPr>
          <p:spPr>
            <a:xfrm>
              <a:off x="1168560" y="838080"/>
              <a:ext cx="3124080" cy="464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45120" y="838080"/>
              <a:ext cx="309888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92640" y="990720"/>
              <a:ext cx="1752480" cy="4343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C6DC-9C2C-4671-ABA0-9CB6F5655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chéma général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443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444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4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455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57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458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9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3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464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465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466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67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468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82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83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484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5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8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1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4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505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506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508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6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17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5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9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6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52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9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548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1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3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4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55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6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9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56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56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8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1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72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573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577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5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589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593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596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1168560" y="838080"/>
            <a:ext cx="7975440" cy="4648320"/>
            <a:chOff x="1168560" y="838080"/>
            <a:chExt cx="7975440" cy="4648320"/>
          </a:xfrm>
        </p:grpSpPr>
        <p:sp>
          <p:nvSpPr>
            <p:cNvPr id="605" name=""/>
            <p:cNvSpPr/>
            <p:nvPr/>
          </p:nvSpPr>
          <p:spPr>
            <a:xfrm>
              <a:off x="1168560" y="838080"/>
              <a:ext cx="1803240" cy="464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29200" y="838080"/>
              <a:ext cx="411480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66880" y="914400"/>
              <a:ext cx="4114800" cy="2590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4343400"/>
              <a:ext cx="4114800" cy="1066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3505320"/>
              <a:ext cx="205740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C5AA-B176-4F19-A793-8908CA6F1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Solution technique: XML &amp; RDF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c3300"/>
                </a:solidFill>
                <a:uFillTx/>
                <a:latin typeface="Bookman Old Style"/>
              </a:rPr>
              <a:t>Leitmotiv</a:t>
            </a:r>
            <a:r>
              <a:rPr b="0" lang="fr-FR" sz="3200" spc="-1" strike="noStrike">
                <a:solidFill>
                  <a:srgbClr val="cc3300"/>
                </a:solidFill>
                <a:latin typeface="Bookman Old Style"/>
              </a:rPr>
              <a:t>: Si la mémoire devient un monde annoté (Web sémantique d'entreprise), les agents peuvent utiliser la sémantique des annotations et par des inférences aider son exploitation.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676520"/>
            <a:ext cx="7620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térialiser la mémoire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1855-C90B-42CD-B59D-F07C8CC5F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360" y="6248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808080"/>
                </a:solidFill>
                <a:latin typeface="Garamond"/>
              </a:rPr>
              <a:t>Faisabilité Ontologie &amp; atouts de RDF</a:t>
            </a:r>
            <a:endParaRPr b="1" i="1" lang="en-US" sz="1600" spc="-1" strike="noStrike">
              <a:solidFill>
                <a:srgbClr val="808080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RDF :</a:t>
            </a: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 Resource Description Framework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Décrire les ressources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du Web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notation interne/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extern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de docum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 Schema (pour formaliser l'</a:t>
            </a:r>
            <a:r>
              <a:rPr b="0" lang="fr-FR" sz="2800" spc="-1" strike="noStrike" u="sng">
                <a:solidFill>
                  <a:srgbClr val="000066"/>
                </a:solidFill>
                <a:uFillTx/>
                <a:latin typeface="Bookman Old Style"/>
              </a:rPr>
              <a:t>ontologie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RDFS Limité - Etendre </a:t>
            </a:r>
            <a:r>
              <a:rPr b="0" i="1" lang="fr-FR" sz="2800" spc="-1" strike="noStrike">
                <a:solidFill>
                  <a:srgbClr val="000066"/>
                </a:solidFill>
                <a:latin typeface="Bookman Old Style"/>
              </a:rPr>
              <a:t>ssi</a:t>
            </a: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 nécessa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Vers un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Web sémantique d'entreprise</a:t>
            </a:r>
            <a:br>
              <a:rPr sz="3000"/>
            </a:br>
            <a:r>
              <a:rPr b="0" lang="fr-FR" sz="3000" spc="-1" strike="noStrike">
                <a:solidFill>
                  <a:srgbClr val="000066"/>
                </a:solidFill>
                <a:latin typeface="Bookman Old Style"/>
              </a:rPr>
              <a:t>mémoire annotée, basée sur un modèl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3 sources de besoin d'une ontologi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mposant de la mémoir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Annotations et modèle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Communication entre agents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Contexte</a:t>
            </a:r>
            <a:r>
              <a:rPr b="1" lang="fr-FR" sz="3000" spc="-1" strike="noStrike">
                <a:solidFill>
                  <a:srgbClr val="000066"/>
                </a:solidFill>
                <a:latin typeface="Bookman Old Style"/>
              </a:rPr>
              <a:t> = </a:t>
            </a:r>
            <a:r>
              <a:rPr b="1" lang="fr-FR" sz="3000" spc="-1" strike="noStrike" u="sng">
                <a:solidFill>
                  <a:srgbClr val="000066"/>
                </a:solidFill>
                <a:uFillTx/>
                <a:latin typeface="Bookman Old Style"/>
              </a:rPr>
              <a:t>Entreprise</a:t>
            </a:r>
            <a:endParaRPr b="0" lang="en-US" sz="3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Porté limité &amp; Existence communauté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Bookman Old Style"/>
              </a:rPr>
              <a:t>Ontologie &amp; Engagement ontologique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0B4D-FEBF-49E2-9DD6-4C6DDFA8D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10:27:51Z</dcterms:created>
  <dc:creator>Fabien GANDON</dc:creator>
  <dc:description/>
  <dc:language>en-US</dc:language>
  <cp:lastModifiedBy>Fabien GANDON</cp:lastModifiedBy>
  <dcterms:modified xsi:type="dcterms:W3CDTF">2001-11-15T12:43:23Z</dcterms:modified>
  <cp:revision>66</cp:revision>
  <dc:subject/>
  <dc:title>Essai de titre</dc:title>
</cp:coreProperties>
</file>