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19E1E-04B8-4376-8D21-B37E98B15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693432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5280" y="4113360"/>
            <a:ext cx="693432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88A9B-1AC6-4B85-987C-D9E41B83DF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33836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48480" y="2361960"/>
            <a:ext cx="33836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113360"/>
            <a:ext cx="33836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48480" y="4113360"/>
            <a:ext cx="33836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727A4-DCA3-4D2F-A295-B6FB0A7FB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223272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39960" y="2361960"/>
            <a:ext cx="223272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84640" y="2361960"/>
            <a:ext cx="223272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5280" y="4113360"/>
            <a:ext cx="223272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39960" y="4113360"/>
            <a:ext cx="223272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84640" y="4113360"/>
            <a:ext cx="223272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87334-4BA7-4989-A1D5-DE70C20CD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2361960"/>
            <a:ext cx="6934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693432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338364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48480" y="2361960"/>
            <a:ext cx="338364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33836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48480" y="2361960"/>
            <a:ext cx="338364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95280" y="4113360"/>
            <a:ext cx="33836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5280" y="2361960"/>
            <a:ext cx="6934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20061-5EC5-4410-8B10-C42DAAAA8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338364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48480" y="2361960"/>
            <a:ext cx="33836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48480" y="4113360"/>
            <a:ext cx="33836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33836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48480" y="2361960"/>
            <a:ext cx="33836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5280" y="4113360"/>
            <a:ext cx="693432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693432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95280" y="4113360"/>
            <a:ext cx="693432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33836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48480" y="2361960"/>
            <a:ext cx="33836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95280" y="4113360"/>
            <a:ext cx="33836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48480" y="4113360"/>
            <a:ext cx="33836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223272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39960" y="2361960"/>
            <a:ext cx="223272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4640" y="2361960"/>
            <a:ext cx="223272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95280" y="4113360"/>
            <a:ext cx="223272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39960" y="4113360"/>
            <a:ext cx="223272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4640" y="4113360"/>
            <a:ext cx="223272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693432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B14B-9EE8-40C7-973D-5C093261E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338364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48480" y="2361960"/>
            <a:ext cx="338364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D7784-DFA8-4AA1-83F8-A54E3E9A0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0630E-192B-4441-B5D4-3EB265E8E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54B96-A84F-465E-B09A-77387562E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33836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8480" y="2361960"/>
            <a:ext cx="338364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5280" y="4113360"/>
            <a:ext cx="33836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89BC-4176-4804-BEEE-D56C8FD73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338364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8480" y="2361960"/>
            <a:ext cx="33836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48480" y="4113360"/>
            <a:ext cx="33836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7810-4DA2-4F93-83DC-D15390254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33836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48480" y="2361960"/>
            <a:ext cx="338364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113360"/>
            <a:ext cx="6934320" cy="15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CCC0C-4CCB-4CA0-A668-5E3E06D07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5943600" y="0"/>
              <a:ext cx="320040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105520" y="0"/>
              <a:ext cx="2743200" cy="6858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7696080" cy="609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-360" y="685440"/>
            <a:ext cx="7620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3366"/>
              </a:buClr>
              <a:buSzPct val="65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" name="Empty" descr=""/>
          <p:cNvPicPr/>
          <p:nvPr/>
        </p:nvPicPr>
        <p:blipFill>
          <a:blip r:embed="rId3"/>
          <a:stretch/>
        </p:blipFill>
        <p:spPr>
          <a:xfrm>
            <a:off x="7162920" y="6095880"/>
            <a:ext cx="1981080" cy="770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706104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F7B5-5C83-4757-87A1-3959465CDADC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mouse" descr=""/>
          <p:cNvPicPr/>
          <p:nvPr/>
        </p:nvPicPr>
        <p:blipFill>
          <a:blip r:embed="rId4"/>
          <a:stretch/>
        </p:blipFill>
        <p:spPr>
          <a:xfrm>
            <a:off x="-685800" y="304920"/>
            <a:ext cx="9753480" cy="3045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38160" y="-12960"/>
            <a:ext cx="910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46" name="Winner" descr=""/>
          <p:cNvPicPr/>
          <p:nvPr/>
        </p:nvPicPr>
        <p:blipFill>
          <a:blip r:embed="rId3"/>
          <a:stretch/>
        </p:blipFill>
        <p:spPr>
          <a:xfrm>
            <a:off x="152280" y="65160"/>
            <a:ext cx="4343400" cy="1687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c3300"/>
                </a:solidFill>
                <a:latin typeface="Times New Roman"/>
              </a:rPr>
              <a:t>Click to edit the outline text format</a:t>
            </a:r>
            <a:endParaRPr b="1" lang="en-US" sz="4300" spc="-1" strike="noStrike">
              <a:solidFill>
                <a:srgbClr val="cc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 algn="ctr">
              <a:spcBef>
                <a:spcPts val="649"/>
              </a:spcBef>
              <a:buClr>
                <a:srgbClr val="003366"/>
              </a:buClr>
              <a:buSzPct val="65000"/>
              <a:buFont typeface="Webdings" charset="2"/>
              <a:buChar char="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resentation PAKM 2000 - Basel - Fabien GANDON - INRIA (fr)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90720" y="1447920"/>
            <a:ext cx="86868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0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orporate</a:t>
            </a:r>
            <a:endParaRPr b="0" lang="en-US" sz="24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Memory</a:t>
            </a:r>
            <a:endParaRPr b="0" lang="en-US" sz="24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Management</a:t>
            </a:r>
            <a:endParaRPr b="0" lang="en-US" sz="24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through</a:t>
            </a:r>
            <a:endParaRPr b="0" lang="en-US" sz="24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gents</a:t>
            </a:r>
            <a:endParaRPr b="0" lang="en-US" sz="24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160" y="-12960"/>
            <a:ext cx="910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Overall Architecture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152280" y="6854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Architecture / Configuration: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3366"/>
                </a:solidFill>
                <a:uFillTx/>
                <a:latin typeface="Times New Roman"/>
              </a:rPr>
              <a:t>Architecture: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Agent kinds and their relationships </a:t>
            </a: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Fixed at design ti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3366"/>
                </a:solidFill>
                <a:uFillTx/>
                <a:latin typeface="Times New Roman"/>
              </a:rPr>
              <a:t>Configuration: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Exact topography of a given MAS  </a:t>
            </a: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Fixed at deployment ti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On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functional architecture </a:t>
            </a:r>
            <a:r>
              <a:rPr b="0" lang="en-US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Several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possible configurations : adapt to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corporate environ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eployment choices driven by the corporate information landscape topography: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rganization layout (org. charts, locations..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tranet network (topography, security..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terest area (providers, requesters..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809640"/>
            <a:ext cx="1523880" cy="52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porate mem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RD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G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E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rganizatio. approa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950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Times New Roman"/>
              </a:rPr>
              <a:t>Architectu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b-societies organiz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ntology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Document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nnection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User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mma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253FF-09A3-434A-BBC5-F08FB6073DF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457200" y="3753000"/>
            <a:ext cx="3178080" cy="725400"/>
            <a:chOff x="457200" y="3753000"/>
            <a:chExt cx="3178080" cy="725400"/>
          </a:xfrm>
        </p:grpSpPr>
        <p:sp>
          <p:nvSpPr>
            <p:cNvPr id="248" name=""/>
            <p:cNvSpPr/>
            <p:nvPr/>
          </p:nvSpPr>
          <p:spPr>
            <a:xfrm>
              <a:off x="457200" y="3753000"/>
              <a:ext cx="317808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544680" y="3879360"/>
              <a:ext cx="445680" cy="475200"/>
              <a:chOff x="544680" y="3879360"/>
              <a:chExt cx="445680" cy="47520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696240" y="3879360"/>
                <a:ext cx="294120" cy="389880"/>
                <a:chOff x="696240" y="3879360"/>
                <a:chExt cx="294120" cy="38988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696240" y="4074480"/>
                  <a:ext cx="2941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V="1">
                  <a:off x="696240" y="3879000"/>
                  <a:ext cx="2941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642600" y="3907800"/>
                <a:ext cx="294120" cy="389880"/>
                <a:chOff x="642600" y="3907800"/>
                <a:chExt cx="294120" cy="38988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642600" y="4102920"/>
                  <a:ext cx="2941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V="1">
                  <a:off x="642600" y="3907440"/>
                  <a:ext cx="2941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598320" y="3935880"/>
                <a:ext cx="294120" cy="389880"/>
                <a:chOff x="598320" y="3935880"/>
                <a:chExt cx="294120" cy="3898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598320" y="4131000"/>
                  <a:ext cx="2941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V="1">
                  <a:off x="598320" y="3935520"/>
                  <a:ext cx="2941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44680" y="3964680"/>
                <a:ext cx="294120" cy="389880"/>
                <a:chOff x="544680" y="3964680"/>
                <a:chExt cx="294120" cy="3898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544680" y="4159800"/>
                  <a:ext cx="2941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544680" y="3964320"/>
                  <a:ext cx="2941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2" name=""/>
            <p:cNvSpPr/>
            <p:nvPr/>
          </p:nvSpPr>
          <p:spPr>
            <a:xfrm>
              <a:off x="1047600" y="3770280"/>
              <a:ext cx="2587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ntology 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160" y="-12960"/>
            <a:ext cx="910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Overall Architecture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-152280" y="68580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Macroscopic-Level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blem: Engineering interaction &amp; organization of the MAS to match the requiremen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tarted from the tasks to be perform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ole analysis first level: 4 dedicated sub-societ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422440" y="5894280"/>
            <a:ext cx="3178440" cy="735120"/>
            <a:chOff x="2422440" y="5894280"/>
            <a:chExt cx="3178440" cy="735120"/>
          </a:xfrm>
        </p:grpSpPr>
        <p:sp>
          <p:nvSpPr>
            <p:cNvPr id="266" name=""/>
            <p:cNvSpPr/>
            <p:nvPr/>
          </p:nvSpPr>
          <p:spPr>
            <a:xfrm>
              <a:off x="2422440" y="5894280"/>
              <a:ext cx="3178440" cy="72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2639880" y="6032160"/>
              <a:ext cx="408240" cy="473400"/>
              <a:chOff x="2639880" y="6032160"/>
              <a:chExt cx="408240" cy="47340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2778840" y="6032160"/>
                <a:ext cx="269280" cy="388440"/>
                <a:chOff x="2778840" y="6032160"/>
                <a:chExt cx="269280" cy="38844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2778840" y="622656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V="1">
                  <a:off x="2778840" y="603180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2729520" y="6060600"/>
                <a:ext cx="269280" cy="388440"/>
                <a:chOff x="2729520" y="6060600"/>
                <a:chExt cx="269280" cy="3884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2729520" y="625500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V="1">
                  <a:off x="2729520" y="606024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2688840" y="6088680"/>
                <a:ext cx="269280" cy="388440"/>
                <a:chOff x="2688840" y="6088680"/>
                <a:chExt cx="269280" cy="388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2688840" y="628308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V="1">
                  <a:off x="2688840" y="608832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2639880" y="6117120"/>
                <a:ext cx="269280" cy="388440"/>
                <a:chOff x="2639880" y="6117120"/>
                <a:chExt cx="269280" cy="3884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639880" y="631152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2639880" y="611676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0" name=""/>
            <p:cNvSpPr/>
            <p:nvPr/>
          </p:nvSpPr>
          <p:spPr>
            <a:xfrm>
              <a:off x="3160800" y="5924520"/>
              <a:ext cx="24019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 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321080" y="3753000"/>
            <a:ext cx="3179880" cy="725400"/>
            <a:chOff x="4321080" y="3753000"/>
            <a:chExt cx="3179880" cy="725400"/>
          </a:xfrm>
        </p:grpSpPr>
        <p:sp>
          <p:nvSpPr>
            <p:cNvPr id="282" name=""/>
            <p:cNvSpPr/>
            <p:nvPr/>
          </p:nvSpPr>
          <p:spPr>
            <a:xfrm>
              <a:off x="4321080" y="3753000"/>
              <a:ext cx="317988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4540320" y="3866760"/>
              <a:ext cx="412560" cy="475200"/>
              <a:chOff x="4540320" y="3866760"/>
              <a:chExt cx="412560" cy="47520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4680720" y="3866760"/>
                <a:ext cx="272160" cy="389880"/>
                <a:chOff x="4680720" y="3866760"/>
                <a:chExt cx="272160" cy="38988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4680720" y="4061880"/>
                  <a:ext cx="27216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V="1">
                  <a:off x="4680720" y="3866400"/>
                  <a:ext cx="27216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4631040" y="3895200"/>
                <a:ext cx="272160" cy="389880"/>
                <a:chOff x="4631040" y="3895200"/>
                <a:chExt cx="272160" cy="38988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4631040" y="4090320"/>
                  <a:ext cx="27216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4631040" y="3894840"/>
                  <a:ext cx="27216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4590000" y="3923280"/>
                <a:ext cx="272160" cy="389880"/>
                <a:chOff x="4590000" y="3923280"/>
                <a:chExt cx="272160" cy="38988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4590000" y="4118400"/>
                  <a:ext cx="27216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4590000" y="3922920"/>
                  <a:ext cx="27216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4540320" y="3952080"/>
                <a:ext cx="272160" cy="389880"/>
                <a:chOff x="4540320" y="3952080"/>
                <a:chExt cx="272160" cy="38988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4540320" y="4147200"/>
                  <a:ext cx="27216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V="1">
                  <a:off x="4540320" y="3951720"/>
                  <a:ext cx="27216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6" name=""/>
            <p:cNvSpPr/>
            <p:nvPr/>
          </p:nvSpPr>
          <p:spPr>
            <a:xfrm>
              <a:off x="4797360" y="3765600"/>
              <a:ext cx="26924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cument 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3403080" y="3276720"/>
            <a:ext cx="1143360" cy="990000"/>
            <a:chOff x="3403080" y="3276720"/>
            <a:chExt cx="1143360" cy="990000"/>
          </a:xfrm>
        </p:grpSpPr>
        <p:grpSp>
          <p:nvGrpSpPr>
            <p:cNvPr id="298" name=""/>
            <p:cNvGrpSpPr/>
            <p:nvPr/>
          </p:nvGrpSpPr>
          <p:grpSpPr>
            <a:xfrm>
              <a:off x="3403080" y="3504960"/>
              <a:ext cx="1143360" cy="761760"/>
              <a:chOff x="3403080" y="3504960"/>
              <a:chExt cx="1143360" cy="761760"/>
            </a:xfrm>
          </p:grpSpPr>
          <p:sp>
            <p:nvSpPr>
              <p:cNvPr id="299" name=""/>
              <p:cNvSpPr/>
              <p:nvPr/>
            </p:nvSpPr>
            <p:spPr>
              <a:xfrm flipH="1">
                <a:off x="3403080" y="3504960"/>
                <a:ext cx="584280" cy="76176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987720" y="3504960"/>
                <a:ext cx="558720" cy="76176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3632040" y="3276720"/>
              <a:ext cx="606600" cy="611640"/>
              <a:chOff x="3632040" y="3276720"/>
              <a:chExt cx="606600" cy="611640"/>
            </a:xfrm>
          </p:grpSpPr>
          <p:sp>
            <p:nvSpPr>
              <p:cNvPr id="302" name=""/>
              <p:cNvSpPr/>
              <p:nvPr/>
            </p:nvSpPr>
            <p:spPr>
              <a:xfrm>
                <a:off x="3933720" y="3276720"/>
                <a:ext cx="304920" cy="456840"/>
              </a:xfrm>
              <a:prstGeom prst="can">
                <a:avLst>
                  <a:gd name="adj" fmla="val 25000"/>
                </a:avLst>
              </a:prstGeom>
              <a:solidFill>
                <a:srgbClr val="cc33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3632040" y="3365280"/>
                <a:ext cx="533520" cy="523080"/>
                <a:chOff x="3632040" y="3365280"/>
                <a:chExt cx="533520" cy="523080"/>
              </a:xfrm>
            </p:grpSpPr>
            <p:grpSp>
              <p:nvGrpSpPr>
                <p:cNvPr id="304" name=""/>
                <p:cNvGrpSpPr/>
                <p:nvPr/>
              </p:nvGrpSpPr>
              <p:grpSpPr>
                <a:xfrm>
                  <a:off x="3936960" y="3644640"/>
                  <a:ext cx="228600" cy="243720"/>
                  <a:chOff x="3936960" y="3644640"/>
                  <a:chExt cx="228600" cy="24372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3936960" y="3644640"/>
                    <a:ext cx="228600" cy="243720"/>
                  </a:xfrm>
                  <a:custGeom>
                    <a:avLst/>
                    <a:gdLst>
                      <a:gd name="textAreaLeft" fmla="*/ 60840 w 228600"/>
                      <a:gd name="textAreaRight" fmla="*/ 167760 w 228600"/>
                      <a:gd name="textAreaTop" fmla="*/ 64800 h 243720"/>
                      <a:gd name="textAreaBottom" fmla="*/ 178920 h 2437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3791" y="12162"/>
                        </a:lnTo>
                        <a:lnTo>
                          <a:pt x="786" y="14846"/>
                        </a:lnTo>
                        <a:lnTo>
                          <a:pt x="4812" y="14689"/>
                        </a:lnTo>
                        <a:lnTo>
                          <a:pt x="3163" y="18437"/>
                        </a:lnTo>
                        <a:lnTo>
                          <a:pt x="6807" y="16719"/>
                        </a:lnTo>
                        <a:lnTo>
                          <a:pt x="6580" y="20741"/>
                        </a:lnTo>
                        <a:lnTo>
                          <a:pt x="9316" y="17784"/>
                        </a:lnTo>
                        <a:lnTo>
                          <a:pt x="10800" y="21600"/>
                        </a:lnTo>
                        <a:lnTo>
                          <a:pt x="12162" y="17809"/>
                        </a:lnTo>
                        <a:lnTo>
                          <a:pt x="14846" y="20814"/>
                        </a:lnTo>
                        <a:lnTo>
                          <a:pt x="14689" y="16788"/>
                        </a:lnTo>
                        <a:lnTo>
                          <a:pt x="18437" y="18437"/>
                        </a:lnTo>
                        <a:lnTo>
                          <a:pt x="16719" y="14793"/>
                        </a:lnTo>
                        <a:lnTo>
                          <a:pt x="20741" y="15020"/>
                        </a:lnTo>
                        <a:lnTo>
                          <a:pt x="17784" y="12284"/>
                        </a:lnTo>
                        <a:lnTo>
                          <a:pt x="21600" y="10800"/>
                        </a:lnTo>
                        <a:lnTo>
                          <a:pt x="17809" y="9438"/>
                        </a:lnTo>
                        <a:lnTo>
                          <a:pt x="20814" y="6754"/>
                        </a:lnTo>
                        <a:lnTo>
                          <a:pt x="16788" y="6911"/>
                        </a:lnTo>
                        <a:lnTo>
                          <a:pt x="18437" y="3163"/>
                        </a:lnTo>
                        <a:lnTo>
                          <a:pt x="14793" y="4881"/>
                        </a:lnTo>
                        <a:lnTo>
                          <a:pt x="15020" y="859"/>
                        </a:lnTo>
                        <a:lnTo>
                          <a:pt x="12284" y="3816"/>
                        </a:lnTo>
                        <a:lnTo>
                          <a:pt x="10800" y="0"/>
                        </a:lnTo>
                        <a:lnTo>
                          <a:pt x="9438" y="3791"/>
                        </a:lnTo>
                        <a:lnTo>
                          <a:pt x="6754" y="786"/>
                        </a:lnTo>
                        <a:lnTo>
                          <a:pt x="6911" y="4812"/>
                        </a:lnTo>
                        <a:lnTo>
                          <a:pt x="3163" y="3163"/>
                        </a:lnTo>
                        <a:lnTo>
                          <a:pt x="4881" y="6807"/>
                        </a:lnTo>
                        <a:lnTo>
                          <a:pt x="859" y="6580"/>
                        </a:lnTo>
                        <a:lnTo>
                          <a:pt x="3816" y="9316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4028400" y="3743640"/>
                    <a:ext cx="45720" cy="45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3632040" y="3365280"/>
                  <a:ext cx="398880" cy="411480"/>
                  <a:chOff x="3632040" y="3365280"/>
                  <a:chExt cx="398880" cy="41148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3632040" y="3365280"/>
                    <a:ext cx="398880" cy="411480"/>
                  </a:xfrm>
                  <a:custGeom>
                    <a:avLst/>
                    <a:gdLst>
                      <a:gd name="textAreaLeft" fmla="*/ 91080 w 398880"/>
                      <a:gd name="textAreaRight" fmla="*/ 307800 w 398880"/>
                      <a:gd name="textAreaTop" fmla="*/ 93960 h 411480"/>
                      <a:gd name="textAreaBottom" fmla="*/ 317520 h 411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562" y="11812"/>
                        </a:lnTo>
                        <a:lnTo>
                          <a:pt x="368" y="13595"/>
                        </a:lnTo>
                        <a:lnTo>
                          <a:pt x="3104" y="13909"/>
                        </a:lnTo>
                        <a:lnTo>
                          <a:pt x="1447" y="16200"/>
                        </a:lnTo>
                        <a:lnTo>
                          <a:pt x="4171" y="15795"/>
                        </a:lnTo>
                        <a:lnTo>
                          <a:pt x="3163" y="18437"/>
                        </a:lnTo>
                        <a:lnTo>
                          <a:pt x="5690" y="17340"/>
                        </a:lnTo>
                        <a:lnTo>
                          <a:pt x="5400" y="20153"/>
                        </a:lnTo>
                        <a:lnTo>
                          <a:pt x="7557" y="18440"/>
                        </a:lnTo>
                        <a:lnTo>
                          <a:pt x="8005" y="21232"/>
                        </a:lnTo>
                        <a:lnTo>
                          <a:pt x="9645" y="19019"/>
                        </a:lnTo>
                        <a:lnTo>
                          <a:pt x="10800" y="21600"/>
                        </a:lnTo>
                        <a:lnTo>
                          <a:pt x="11812" y="19038"/>
                        </a:lnTo>
                        <a:lnTo>
                          <a:pt x="13595" y="21232"/>
                        </a:lnTo>
                        <a:lnTo>
                          <a:pt x="13909" y="18496"/>
                        </a:lnTo>
                        <a:lnTo>
                          <a:pt x="16200" y="20153"/>
                        </a:lnTo>
                        <a:lnTo>
                          <a:pt x="15795" y="17429"/>
                        </a:lnTo>
                        <a:lnTo>
                          <a:pt x="18437" y="18437"/>
                        </a:lnTo>
                        <a:lnTo>
                          <a:pt x="17340" y="15910"/>
                        </a:lnTo>
                        <a:lnTo>
                          <a:pt x="20153" y="16200"/>
                        </a:lnTo>
                        <a:lnTo>
                          <a:pt x="18440" y="14043"/>
                        </a:lnTo>
                        <a:lnTo>
                          <a:pt x="21232" y="13595"/>
                        </a:lnTo>
                        <a:lnTo>
                          <a:pt x="19019" y="11955"/>
                        </a:lnTo>
                        <a:lnTo>
                          <a:pt x="21600" y="10800"/>
                        </a:lnTo>
                        <a:lnTo>
                          <a:pt x="19038" y="9788"/>
                        </a:lnTo>
                        <a:lnTo>
                          <a:pt x="21232" y="8005"/>
                        </a:lnTo>
                        <a:lnTo>
                          <a:pt x="18496" y="7691"/>
                        </a:lnTo>
                        <a:lnTo>
                          <a:pt x="20153" y="5400"/>
                        </a:lnTo>
                        <a:lnTo>
                          <a:pt x="17429" y="5805"/>
                        </a:lnTo>
                        <a:lnTo>
                          <a:pt x="18437" y="3163"/>
                        </a:lnTo>
                        <a:lnTo>
                          <a:pt x="15910" y="4260"/>
                        </a:lnTo>
                        <a:lnTo>
                          <a:pt x="16200" y="1447"/>
                        </a:lnTo>
                        <a:lnTo>
                          <a:pt x="14043" y="3160"/>
                        </a:lnTo>
                        <a:lnTo>
                          <a:pt x="13595" y="368"/>
                        </a:lnTo>
                        <a:lnTo>
                          <a:pt x="11955" y="2581"/>
                        </a:lnTo>
                        <a:lnTo>
                          <a:pt x="10800" y="0"/>
                        </a:lnTo>
                        <a:lnTo>
                          <a:pt x="9788" y="2562"/>
                        </a:lnTo>
                        <a:lnTo>
                          <a:pt x="8005" y="368"/>
                        </a:lnTo>
                        <a:lnTo>
                          <a:pt x="7691" y="3104"/>
                        </a:lnTo>
                        <a:lnTo>
                          <a:pt x="5400" y="1447"/>
                        </a:lnTo>
                        <a:lnTo>
                          <a:pt x="5805" y="4171"/>
                        </a:lnTo>
                        <a:lnTo>
                          <a:pt x="3163" y="3163"/>
                        </a:lnTo>
                        <a:lnTo>
                          <a:pt x="4260" y="5690"/>
                        </a:lnTo>
                        <a:lnTo>
                          <a:pt x="1447" y="5400"/>
                        </a:lnTo>
                        <a:lnTo>
                          <a:pt x="3160" y="7557"/>
                        </a:lnTo>
                        <a:lnTo>
                          <a:pt x="368" y="8005"/>
                        </a:lnTo>
                        <a:lnTo>
                          <a:pt x="2581" y="9645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3800880" y="3540600"/>
                    <a:ext cx="60840" cy="60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" bIns="-3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310" name=""/>
          <p:cNvGrpSpPr/>
          <p:nvPr/>
        </p:nvGrpSpPr>
        <p:grpSpPr>
          <a:xfrm>
            <a:off x="2422440" y="4330800"/>
            <a:ext cx="3473640" cy="1660320"/>
            <a:chOff x="2422440" y="4330800"/>
            <a:chExt cx="3473640" cy="1660320"/>
          </a:xfrm>
        </p:grpSpPr>
        <p:sp>
          <p:nvSpPr>
            <p:cNvPr id="311" name=""/>
            <p:cNvSpPr/>
            <p:nvPr/>
          </p:nvSpPr>
          <p:spPr>
            <a:xfrm>
              <a:off x="2422440" y="4834080"/>
              <a:ext cx="317844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2627280" y="4970160"/>
              <a:ext cx="420840" cy="473400"/>
              <a:chOff x="2627280" y="4970160"/>
              <a:chExt cx="420840" cy="47340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70560" y="4970160"/>
                <a:ext cx="277560" cy="388440"/>
                <a:chOff x="2770560" y="4970160"/>
                <a:chExt cx="277560" cy="38844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2770560" y="516456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2770560" y="496980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2719800" y="4998600"/>
                <a:ext cx="277560" cy="388440"/>
                <a:chOff x="2719800" y="4998600"/>
                <a:chExt cx="277560" cy="38844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2719800" y="519300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2719800" y="499824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677680" y="5026680"/>
                <a:ext cx="277560" cy="388440"/>
                <a:chOff x="2677680" y="5026680"/>
                <a:chExt cx="277560" cy="38844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677680" y="522108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V="1">
                  <a:off x="2677680" y="502632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2627280" y="5055120"/>
                <a:ext cx="277560" cy="388440"/>
                <a:chOff x="2627280" y="5055120"/>
                <a:chExt cx="277560" cy="3884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2627280" y="524952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V="1">
                  <a:off x="2627280" y="505476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5" name=""/>
            <p:cNvSpPr/>
            <p:nvPr/>
          </p:nvSpPr>
          <p:spPr>
            <a:xfrm>
              <a:off x="3087720" y="4863960"/>
              <a:ext cx="28083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nection 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17640" y="4330800"/>
              <a:ext cx="738360" cy="614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56160" y="5430960"/>
              <a:ext cx="0" cy="560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4935240" y="4330800"/>
              <a:ext cx="739800" cy="614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7620120" y="809640"/>
            <a:ext cx="1523880" cy="52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porate mem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RD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G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E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rganizatio. approa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950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Times New Roman"/>
              </a:rPr>
              <a:t>Architectu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b-societies organiz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ntology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Document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nnection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User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mma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210D-3847-48C1-B562-C0C59ABA417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160" y="-12960"/>
            <a:ext cx="910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Organizing sub-societies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-30600" y="2798640"/>
            <a:ext cx="3840480" cy="1620720"/>
            <a:chOff x="-30600" y="2798640"/>
            <a:chExt cx="3840480" cy="1620720"/>
          </a:xfrm>
        </p:grpSpPr>
        <p:grpSp>
          <p:nvGrpSpPr>
            <p:cNvPr id="332" name=""/>
            <p:cNvGrpSpPr/>
            <p:nvPr/>
          </p:nvGrpSpPr>
          <p:grpSpPr>
            <a:xfrm>
              <a:off x="228600" y="2798640"/>
              <a:ext cx="3581280" cy="1620720"/>
              <a:chOff x="228600" y="2798640"/>
              <a:chExt cx="3581280" cy="162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228600" y="3276360"/>
                <a:ext cx="358128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1930320" y="3873240"/>
                <a:ext cx="228600" cy="388800"/>
                <a:chOff x="1930320" y="3873240"/>
                <a:chExt cx="228600" cy="38880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1930320" y="406764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V="1">
                  <a:off x="1930320" y="387324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2362320" y="3369960"/>
                <a:ext cx="228600" cy="388800"/>
                <a:chOff x="2362320" y="3369960"/>
                <a:chExt cx="228600" cy="38880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2362320" y="356436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V="1">
                  <a:off x="2362320" y="336996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2895480" y="3962160"/>
                <a:ext cx="228600" cy="388800"/>
                <a:chOff x="2895480" y="3962160"/>
                <a:chExt cx="228600" cy="38880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2895480" y="415656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2895480" y="396216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3352680" y="3979800"/>
                <a:ext cx="228600" cy="388800"/>
                <a:chOff x="3352680" y="3979800"/>
                <a:chExt cx="228600" cy="38880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3352680" y="417420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3352680" y="397980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304920" y="3369960"/>
                <a:ext cx="1447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operati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sour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dicat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2209680" y="3796920"/>
                <a:ext cx="228600" cy="1522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2514600" y="3797280"/>
                <a:ext cx="380880" cy="3045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9" name=""/>
              <p:cNvGrpSpPr/>
              <p:nvPr/>
            </p:nvGrpSpPr>
            <p:grpSpPr>
              <a:xfrm>
                <a:off x="3124080" y="3446280"/>
                <a:ext cx="228600" cy="388800"/>
                <a:chOff x="3124080" y="3446280"/>
                <a:chExt cx="228600" cy="38880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3124080" y="364068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V="1">
                  <a:off x="3124080" y="344628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 flipH="1" flipV="1">
                <a:off x="2590560" y="3598560"/>
                <a:ext cx="533160" cy="763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3" name=""/>
              <p:cNvGrpSpPr/>
              <p:nvPr/>
            </p:nvGrpSpPr>
            <p:grpSpPr>
              <a:xfrm>
                <a:off x="2362320" y="3979800"/>
                <a:ext cx="228600" cy="388800"/>
                <a:chOff x="2362320" y="3979800"/>
                <a:chExt cx="228600" cy="38880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2362320" y="417420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V="1">
                  <a:off x="2362320" y="397980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994040" y="3336840"/>
                <a:ext cx="228600" cy="388800"/>
                <a:chOff x="1994040" y="3336840"/>
                <a:chExt cx="228600" cy="38880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994040" y="353124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V="1">
                  <a:off x="1994040" y="333684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2286000" y="2798640"/>
                <a:ext cx="380880" cy="545760"/>
                <a:chOff x="2286000" y="2798640"/>
                <a:chExt cx="380880" cy="545760"/>
              </a:xfrm>
            </p:grpSpPr>
            <p:sp>
              <p:nvSpPr>
                <p:cNvPr id="360" name=""/>
                <p:cNvSpPr/>
                <p:nvPr/>
              </p:nvSpPr>
              <p:spPr>
                <a:xfrm flipV="1">
                  <a:off x="2286000" y="2815920"/>
                  <a:ext cx="203040" cy="528480"/>
                </a:xfrm>
                <a:prstGeom prst="upArrow">
                  <a:avLst>
                    <a:gd name="adj1" fmla="val 50000"/>
                    <a:gd name="adj2" fmla="val 65071"/>
                  </a:avLst>
                </a:prstGeom>
                <a:solidFill>
                  <a:srgbClr val="0033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463840" y="2798640"/>
                  <a:ext cx="203040" cy="528840"/>
                </a:xfrm>
                <a:prstGeom prst="upArrow">
                  <a:avLst>
                    <a:gd name="adj1" fmla="val 50000"/>
                    <a:gd name="adj2" fmla="val 65115"/>
                  </a:avLst>
                </a:prstGeom>
                <a:solidFill>
                  <a:srgbClr val="0033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2" name=""/>
            <p:cNvSpPr/>
            <p:nvPr/>
          </p:nvSpPr>
          <p:spPr>
            <a:xfrm>
              <a:off x="-30600" y="2819520"/>
              <a:ext cx="170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Peer-to-Pe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-30240" y="723960"/>
            <a:ext cx="3840120" cy="1657080"/>
            <a:chOff x="-30240" y="723960"/>
            <a:chExt cx="3840120" cy="1657080"/>
          </a:xfrm>
        </p:grpSpPr>
        <p:grpSp>
          <p:nvGrpSpPr>
            <p:cNvPr id="364" name=""/>
            <p:cNvGrpSpPr/>
            <p:nvPr/>
          </p:nvGrpSpPr>
          <p:grpSpPr>
            <a:xfrm>
              <a:off x="228600" y="723960"/>
              <a:ext cx="3581280" cy="1657080"/>
              <a:chOff x="228600" y="723960"/>
              <a:chExt cx="3581280" cy="1657080"/>
            </a:xfrm>
          </p:grpSpPr>
          <p:sp>
            <p:nvSpPr>
              <p:cNvPr id="365" name=""/>
              <p:cNvSpPr/>
              <p:nvPr/>
            </p:nvSpPr>
            <p:spPr>
              <a:xfrm>
                <a:off x="228600" y="1219320"/>
                <a:ext cx="358128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6" name=""/>
              <p:cNvGrpSpPr/>
              <p:nvPr/>
            </p:nvGrpSpPr>
            <p:grpSpPr>
              <a:xfrm>
                <a:off x="3048120" y="1308240"/>
                <a:ext cx="228600" cy="388800"/>
                <a:chOff x="3048120" y="1308240"/>
                <a:chExt cx="228600" cy="3888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3048120" y="150264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3366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V="1">
                  <a:off x="3048120" y="130824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3366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1905120" y="1905120"/>
                <a:ext cx="228600" cy="388800"/>
                <a:chOff x="1905120" y="1905120"/>
                <a:chExt cx="228600" cy="3888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1905120" y="209952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1905120" y="190512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2362320" y="1308240"/>
                <a:ext cx="228600" cy="388800"/>
                <a:chOff x="2362320" y="1308240"/>
                <a:chExt cx="228600" cy="38880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2362320" y="150264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3366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V="1">
                  <a:off x="2362320" y="130824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3366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2362320" y="1905120"/>
                <a:ext cx="228600" cy="388800"/>
                <a:chOff x="2362320" y="1905120"/>
                <a:chExt cx="228600" cy="38880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2362320" y="209952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2362320" y="190512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2895480" y="1905120"/>
                <a:ext cx="228600" cy="388800"/>
                <a:chOff x="2895480" y="1905120"/>
                <a:chExt cx="228600" cy="38880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2895480" y="209952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V="1">
                  <a:off x="2895480" y="190512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3352680" y="1905120"/>
                <a:ext cx="228600" cy="388800"/>
                <a:chOff x="3352680" y="1905120"/>
                <a:chExt cx="228600" cy="38880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3352680" y="209952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V="1">
                  <a:off x="3352680" y="190512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4" name=""/>
              <p:cNvSpPr/>
              <p:nvPr/>
            </p:nvSpPr>
            <p:spPr>
              <a:xfrm>
                <a:off x="228600" y="1778040"/>
                <a:ext cx="35812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89800" y="1270080"/>
                <a:ext cx="169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presentati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1738440"/>
                <a:ext cx="1212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sour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dicat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2209680" y="1739520"/>
                <a:ext cx="228600" cy="1522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 flipV="1">
                <a:off x="2514600" y="1739520"/>
                <a:ext cx="380880" cy="3049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2286000" y="723960"/>
                <a:ext cx="380880" cy="545760"/>
                <a:chOff x="2286000" y="723960"/>
                <a:chExt cx="380880" cy="545760"/>
              </a:xfrm>
            </p:grpSpPr>
            <p:sp>
              <p:nvSpPr>
                <p:cNvPr id="390" name=""/>
                <p:cNvSpPr/>
                <p:nvPr/>
              </p:nvSpPr>
              <p:spPr>
                <a:xfrm flipV="1">
                  <a:off x="2286000" y="741240"/>
                  <a:ext cx="203040" cy="528480"/>
                </a:xfrm>
                <a:prstGeom prst="upArrow">
                  <a:avLst>
                    <a:gd name="adj1" fmla="val 50000"/>
                    <a:gd name="adj2" fmla="val 65071"/>
                  </a:avLst>
                </a:prstGeom>
                <a:solidFill>
                  <a:srgbClr val="0033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463840" y="723960"/>
                  <a:ext cx="203040" cy="528840"/>
                </a:xfrm>
                <a:prstGeom prst="upArrow">
                  <a:avLst>
                    <a:gd name="adj1" fmla="val 50000"/>
                    <a:gd name="adj2" fmla="val 65115"/>
                  </a:avLst>
                </a:prstGeom>
                <a:solidFill>
                  <a:srgbClr val="0033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2" name=""/>
            <p:cNvSpPr/>
            <p:nvPr/>
          </p:nvSpPr>
          <p:spPr>
            <a:xfrm>
              <a:off x="-30240" y="762120"/>
              <a:ext cx="140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Hierarch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-31680" y="4838760"/>
            <a:ext cx="3841560" cy="1638360"/>
            <a:chOff x="-31680" y="4838760"/>
            <a:chExt cx="3841560" cy="1638360"/>
          </a:xfrm>
        </p:grpSpPr>
        <p:grpSp>
          <p:nvGrpSpPr>
            <p:cNvPr id="394" name=""/>
            <p:cNvGrpSpPr/>
            <p:nvPr/>
          </p:nvGrpSpPr>
          <p:grpSpPr>
            <a:xfrm>
              <a:off x="228600" y="4838760"/>
              <a:ext cx="3581280" cy="1638360"/>
              <a:chOff x="228600" y="4838760"/>
              <a:chExt cx="3581280" cy="1638360"/>
            </a:xfrm>
          </p:grpSpPr>
          <p:sp>
            <p:nvSpPr>
              <p:cNvPr id="395" name=""/>
              <p:cNvSpPr/>
              <p:nvPr/>
            </p:nvSpPr>
            <p:spPr>
              <a:xfrm>
                <a:off x="228600" y="5334120"/>
                <a:ext cx="358128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1905120" y="5715000"/>
                <a:ext cx="228600" cy="388800"/>
                <a:chOff x="1905120" y="5715000"/>
                <a:chExt cx="228600" cy="38880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905120" y="590940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>
                  <a:off x="1905120" y="571500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2743200" y="5410080"/>
                <a:ext cx="228600" cy="388800"/>
                <a:chOff x="2743200" y="5410080"/>
                <a:chExt cx="228600" cy="3888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2743200" y="560448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V="1">
                  <a:off x="2743200" y="541008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2666880" y="5943600"/>
                <a:ext cx="228600" cy="388800"/>
                <a:chOff x="2666880" y="5943600"/>
                <a:chExt cx="228600" cy="38880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2666880" y="613800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V="1">
                  <a:off x="2666880" y="594360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3352680" y="6037200"/>
                <a:ext cx="228600" cy="388800"/>
                <a:chOff x="3352680" y="6037200"/>
                <a:chExt cx="228600" cy="3888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3352680" y="623160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3352680" y="603720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" name=""/>
              <p:cNvSpPr/>
              <p:nvPr/>
            </p:nvSpPr>
            <p:spPr>
              <a:xfrm>
                <a:off x="304920" y="5427720"/>
                <a:ext cx="1447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plic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sour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dicat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3048120" y="5791320"/>
                <a:ext cx="228600" cy="388800"/>
                <a:chOff x="3048120" y="5791320"/>
                <a:chExt cx="228600" cy="38880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048120" y="598572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3048120" y="579132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2209680" y="6019920"/>
                <a:ext cx="228600" cy="388800"/>
                <a:chOff x="2209680" y="6019920"/>
                <a:chExt cx="228600" cy="38880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2209680" y="621432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2209680" y="601992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2362320" y="5410080"/>
                <a:ext cx="228600" cy="388800"/>
                <a:chOff x="2362320" y="5410080"/>
                <a:chExt cx="228600" cy="3888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2362320" y="560448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2362320" y="541008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2286000" y="4838760"/>
                <a:ext cx="380880" cy="545760"/>
                <a:chOff x="2286000" y="4838760"/>
                <a:chExt cx="380880" cy="545760"/>
              </a:xfrm>
            </p:grpSpPr>
            <p:sp>
              <p:nvSpPr>
                <p:cNvPr id="419" name=""/>
                <p:cNvSpPr/>
                <p:nvPr/>
              </p:nvSpPr>
              <p:spPr>
                <a:xfrm flipV="1">
                  <a:off x="2286000" y="4856040"/>
                  <a:ext cx="203040" cy="528480"/>
                </a:xfrm>
                <a:prstGeom prst="upArrow">
                  <a:avLst>
                    <a:gd name="adj1" fmla="val 50000"/>
                    <a:gd name="adj2" fmla="val 65071"/>
                  </a:avLst>
                </a:prstGeom>
                <a:solidFill>
                  <a:srgbClr val="0033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463840" y="4838760"/>
                  <a:ext cx="203040" cy="528840"/>
                </a:xfrm>
                <a:prstGeom prst="upArrow">
                  <a:avLst>
                    <a:gd name="adj1" fmla="val 50000"/>
                    <a:gd name="adj2" fmla="val 65115"/>
                  </a:avLst>
                </a:prstGeom>
                <a:solidFill>
                  <a:srgbClr val="0033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1" name=""/>
            <p:cNvSpPr/>
            <p:nvPr/>
          </p:nvSpPr>
          <p:spPr>
            <a:xfrm>
              <a:off x="-31680" y="4876920"/>
              <a:ext cx="158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Re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504960" y="1143000"/>
            <a:ext cx="3809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istribute ro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istribute W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crease N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3200400"/>
            <a:ext cx="4267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istribute only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L&amp; 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dund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257800"/>
            <a:ext cx="4038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mplete re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dundant &amp; less 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ntent repli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620120" y="809640"/>
            <a:ext cx="1523880" cy="52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porate mem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RD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G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E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rganizatio. approa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950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Architectu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Times New Roman"/>
              </a:rPr>
              <a:t>Sub-societies organiz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ntology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Document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nnection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User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mma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DC2E9-B75A-40AA-A278-A08B8C796FB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160" y="-12960"/>
            <a:ext cx="910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Dedicated sub-societies (ontology)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-152640" y="609120"/>
            <a:ext cx="87627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The Ontology dedicated sub-society :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Queries on hierarchy of concepts &amp; rel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Queries on terms, synonyms, possible view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00040" y="2362320"/>
            <a:ext cx="7043760" cy="2876400"/>
            <a:chOff x="500040" y="2362320"/>
            <a:chExt cx="7043760" cy="2876400"/>
          </a:xfrm>
        </p:grpSpPr>
        <p:sp>
          <p:nvSpPr>
            <p:cNvPr id="429" name=""/>
            <p:cNvSpPr/>
            <p:nvPr/>
          </p:nvSpPr>
          <p:spPr>
            <a:xfrm>
              <a:off x="500040" y="2362320"/>
              <a:ext cx="317808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87520" y="2489040"/>
              <a:ext cx="446040" cy="474840"/>
              <a:chOff x="587520" y="2489040"/>
              <a:chExt cx="446040" cy="47484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739800" y="2489040"/>
                <a:ext cx="293760" cy="388800"/>
                <a:chOff x="739800" y="2489040"/>
                <a:chExt cx="293760" cy="38880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739800" y="268344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V="1">
                  <a:off x="739800" y="248904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685800" y="2517840"/>
                <a:ext cx="293760" cy="388800"/>
                <a:chOff x="685800" y="2517840"/>
                <a:chExt cx="293760" cy="38880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685800" y="271224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V="1">
                  <a:off x="685800" y="251784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641520" y="2546280"/>
                <a:ext cx="293400" cy="388800"/>
                <a:chOff x="641520" y="2546280"/>
                <a:chExt cx="293400" cy="38880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641520" y="274068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V="1">
                  <a:off x="641520" y="254628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587520" y="2575080"/>
                <a:ext cx="293400" cy="388800"/>
                <a:chOff x="587520" y="2575080"/>
                <a:chExt cx="293400" cy="38880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587520" y="276948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flipV="1">
                  <a:off x="587520" y="257508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3" name=""/>
            <p:cNvSpPr/>
            <p:nvPr/>
          </p:nvSpPr>
          <p:spPr>
            <a:xfrm>
              <a:off x="1090440" y="2379600"/>
              <a:ext cx="2587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Ontology 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465280" y="4503600"/>
              <a:ext cx="3178440" cy="72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2682720" y="4641480"/>
              <a:ext cx="408240" cy="473400"/>
              <a:chOff x="2682720" y="4641480"/>
              <a:chExt cx="408240" cy="473400"/>
            </a:xfrm>
          </p:grpSpPr>
          <p:grpSp>
            <p:nvGrpSpPr>
              <p:cNvPr id="446" name=""/>
              <p:cNvGrpSpPr/>
              <p:nvPr/>
            </p:nvGrpSpPr>
            <p:grpSpPr>
              <a:xfrm>
                <a:off x="2821680" y="4641480"/>
                <a:ext cx="269280" cy="388440"/>
                <a:chOff x="2821680" y="4641480"/>
                <a:chExt cx="269280" cy="38844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2821680" y="483588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V="1">
                  <a:off x="2821680" y="464112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2772360" y="4669920"/>
                <a:ext cx="269280" cy="388440"/>
                <a:chOff x="2772360" y="4669920"/>
                <a:chExt cx="269280" cy="38844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2772360" y="486432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V="1">
                  <a:off x="2772360" y="466956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2731680" y="4698000"/>
                <a:ext cx="269280" cy="388440"/>
                <a:chOff x="2731680" y="4698000"/>
                <a:chExt cx="269280" cy="3884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2731680" y="489240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V="1">
                  <a:off x="2731680" y="469764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2682720" y="4726440"/>
                <a:ext cx="269280" cy="388440"/>
                <a:chOff x="2682720" y="4726440"/>
                <a:chExt cx="269280" cy="38844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2682720" y="492084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V="1">
                  <a:off x="2682720" y="472608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8" name=""/>
            <p:cNvSpPr/>
            <p:nvPr/>
          </p:nvSpPr>
          <p:spPr>
            <a:xfrm>
              <a:off x="3203640" y="4533840"/>
              <a:ext cx="24019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 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63920" y="2362320"/>
              <a:ext cx="317988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4583160" y="2476440"/>
              <a:ext cx="412560" cy="474480"/>
              <a:chOff x="4583160" y="2476440"/>
              <a:chExt cx="412560" cy="47448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4724280" y="2476440"/>
                <a:ext cx="271440" cy="388800"/>
                <a:chOff x="4724280" y="2476440"/>
                <a:chExt cx="271440" cy="38880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4724280" y="267084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V="1">
                  <a:off x="4724280" y="247644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4673520" y="2505240"/>
                <a:ext cx="273240" cy="388800"/>
                <a:chOff x="4673520" y="2505240"/>
                <a:chExt cx="273240" cy="38880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4673520" y="2699640"/>
                  <a:ext cx="2732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V="1">
                  <a:off x="4673520" y="2505240"/>
                  <a:ext cx="2732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4632480" y="2533680"/>
                <a:ext cx="272880" cy="388800"/>
                <a:chOff x="4632480" y="2533680"/>
                <a:chExt cx="272880" cy="38880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4632480" y="2728080"/>
                  <a:ext cx="2728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V="1">
                  <a:off x="4632480" y="2533680"/>
                  <a:ext cx="2728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4583160" y="2562120"/>
                <a:ext cx="271440" cy="388800"/>
                <a:chOff x="4583160" y="2562120"/>
                <a:chExt cx="271440" cy="38880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4583160" y="275652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V="1">
                  <a:off x="4583160" y="256212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3" name=""/>
            <p:cNvSpPr/>
            <p:nvPr/>
          </p:nvSpPr>
          <p:spPr>
            <a:xfrm>
              <a:off x="4840200" y="2374920"/>
              <a:ext cx="26924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cument 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465280" y="3443400"/>
              <a:ext cx="317844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2670120" y="3579480"/>
              <a:ext cx="420840" cy="473400"/>
              <a:chOff x="2670120" y="3579480"/>
              <a:chExt cx="420840" cy="47340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2813400" y="3579480"/>
                <a:ext cx="277560" cy="388440"/>
                <a:chOff x="2813400" y="3579480"/>
                <a:chExt cx="277560" cy="38844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2813400" y="377388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V="1">
                  <a:off x="2813400" y="357912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2762640" y="3607920"/>
                <a:ext cx="277560" cy="388440"/>
                <a:chOff x="2762640" y="3607920"/>
                <a:chExt cx="277560" cy="38844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2762640" y="380232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V="1">
                  <a:off x="2762640" y="360756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2720520" y="3636000"/>
                <a:ext cx="277560" cy="388440"/>
                <a:chOff x="2720520" y="3636000"/>
                <a:chExt cx="277560" cy="38844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2720520" y="383040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V="1">
                  <a:off x="2720520" y="363564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2670120" y="3664440"/>
                <a:ext cx="277560" cy="388440"/>
                <a:chOff x="2670120" y="3664440"/>
                <a:chExt cx="277560" cy="38844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2670120" y="385884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V="1">
                  <a:off x="2670120" y="366408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8" name=""/>
            <p:cNvSpPr/>
            <p:nvPr/>
          </p:nvSpPr>
          <p:spPr>
            <a:xfrm>
              <a:off x="3130560" y="3473280"/>
              <a:ext cx="28083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nection 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60840" y="2940120"/>
              <a:ext cx="738000" cy="614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99000" y="4040280"/>
              <a:ext cx="0" cy="560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4978080" y="2940120"/>
              <a:ext cx="739800" cy="614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7620120" y="809640"/>
            <a:ext cx="1523880" cy="52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porate mem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RD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G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E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rganizatio. approa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950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Architectu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b-societies organiz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Times New Roman"/>
              </a:rPr>
              <a:t>Ontology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Document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nnection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User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mma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6FE08-E4AF-4674-B0FD-8A55CA09A03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160" y="-12960"/>
            <a:ext cx="910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Dedicated sub-societies (ontology)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-152640" y="609120"/>
            <a:ext cx="87627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The Ontology dedicated sub-society :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Queries on hierarchy of concepts &amp; rel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Queries on terms, synonyms, possible view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500040" y="2362320"/>
            <a:ext cx="3178080" cy="725400"/>
            <a:chOff x="500040" y="2362320"/>
            <a:chExt cx="3178080" cy="725400"/>
          </a:xfrm>
        </p:grpSpPr>
        <p:sp>
          <p:nvSpPr>
            <p:cNvPr id="496" name=""/>
            <p:cNvSpPr/>
            <p:nvPr/>
          </p:nvSpPr>
          <p:spPr>
            <a:xfrm>
              <a:off x="500040" y="2362320"/>
              <a:ext cx="317808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587520" y="2489040"/>
              <a:ext cx="446040" cy="474840"/>
              <a:chOff x="587520" y="2489040"/>
              <a:chExt cx="446040" cy="47484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739800" y="2489040"/>
                <a:ext cx="293760" cy="388800"/>
                <a:chOff x="739800" y="2489040"/>
                <a:chExt cx="293760" cy="38880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739800" y="268344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V="1">
                  <a:off x="739800" y="248904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685800" y="2517840"/>
                <a:ext cx="293760" cy="388800"/>
                <a:chOff x="685800" y="2517840"/>
                <a:chExt cx="293760" cy="38880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685800" y="271224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V="1">
                  <a:off x="685800" y="251784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641520" y="2546280"/>
                <a:ext cx="293400" cy="388800"/>
                <a:chOff x="641520" y="2546280"/>
                <a:chExt cx="293400" cy="38880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641520" y="274068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V="1">
                  <a:off x="641520" y="254628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587520" y="2575080"/>
                <a:ext cx="293400" cy="388800"/>
                <a:chOff x="587520" y="2575080"/>
                <a:chExt cx="293400" cy="38880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587520" y="276948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V="1">
                  <a:off x="587520" y="257508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0" name=""/>
            <p:cNvSpPr/>
            <p:nvPr/>
          </p:nvSpPr>
          <p:spPr>
            <a:xfrm>
              <a:off x="1090440" y="2379600"/>
              <a:ext cx="2587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Ontology 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838080" y="2628720"/>
            <a:ext cx="6782040" cy="2590920"/>
            <a:chOff x="838080" y="2628720"/>
            <a:chExt cx="6782040" cy="2590920"/>
          </a:xfrm>
        </p:grpSpPr>
        <p:grpSp>
          <p:nvGrpSpPr>
            <p:cNvPr id="512" name=""/>
            <p:cNvGrpSpPr/>
            <p:nvPr/>
          </p:nvGrpSpPr>
          <p:grpSpPr>
            <a:xfrm>
              <a:off x="838080" y="2628720"/>
              <a:ext cx="3423600" cy="1468800"/>
              <a:chOff x="838080" y="2628720"/>
              <a:chExt cx="3423600" cy="1468800"/>
            </a:xfrm>
          </p:grpSpPr>
          <p:sp>
            <p:nvSpPr>
              <p:cNvPr id="513" name=""/>
              <p:cNvSpPr/>
              <p:nvPr/>
            </p:nvSpPr>
            <p:spPr>
              <a:xfrm rot="2148000">
                <a:off x="3034800" y="2819160"/>
                <a:ext cx="1003320" cy="10872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6520" y="3063960"/>
                <a:ext cx="50004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5" name=""/>
              <p:cNvSpPr/>
              <p:nvPr/>
            </p:nvSpPr>
            <p:spPr>
              <a:xfrm>
                <a:off x="838080" y="3373560"/>
                <a:ext cx="2666880" cy="43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imes New Roman"/>
                  </a:rPr>
                  <a:t>Zoom on actual choi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3778560" y="3581280"/>
              <a:ext cx="3841560" cy="1638360"/>
              <a:chOff x="3778560" y="3581280"/>
              <a:chExt cx="3841560" cy="1638360"/>
            </a:xfrm>
          </p:grpSpPr>
          <p:grpSp>
            <p:nvGrpSpPr>
              <p:cNvPr id="517" name=""/>
              <p:cNvGrpSpPr/>
              <p:nvPr/>
            </p:nvGrpSpPr>
            <p:grpSpPr>
              <a:xfrm>
                <a:off x="4038840" y="3581280"/>
                <a:ext cx="3581280" cy="1638360"/>
                <a:chOff x="4038840" y="3581280"/>
                <a:chExt cx="3581280" cy="163836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4038840" y="4076640"/>
                  <a:ext cx="3581280" cy="1143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9" name=""/>
                <p:cNvGrpSpPr/>
                <p:nvPr/>
              </p:nvGrpSpPr>
              <p:grpSpPr>
                <a:xfrm>
                  <a:off x="5715360" y="4457520"/>
                  <a:ext cx="228600" cy="388800"/>
                  <a:chOff x="5715360" y="4457520"/>
                  <a:chExt cx="228600" cy="388800"/>
                </a:xfrm>
              </p:grpSpPr>
              <p:sp>
                <p:nvSpPr>
                  <p:cNvPr id="520" name=""/>
                  <p:cNvSpPr/>
                  <p:nvPr/>
                </p:nvSpPr>
                <p:spPr>
                  <a:xfrm>
                    <a:off x="5715360" y="465192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flipV="1">
                    <a:off x="5715360" y="445752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2" name=""/>
                <p:cNvGrpSpPr/>
                <p:nvPr/>
              </p:nvGrpSpPr>
              <p:grpSpPr>
                <a:xfrm>
                  <a:off x="6553440" y="4152600"/>
                  <a:ext cx="228600" cy="388800"/>
                  <a:chOff x="6553440" y="4152600"/>
                  <a:chExt cx="228600" cy="38880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>
                    <a:off x="6553440" y="43470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V="1">
                    <a:off x="6553440" y="41526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5" name=""/>
                <p:cNvGrpSpPr/>
                <p:nvPr/>
              </p:nvGrpSpPr>
              <p:grpSpPr>
                <a:xfrm>
                  <a:off x="6477120" y="4686120"/>
                  <a:ext cx="228600" cy="388800"/>
                  <a:chOff x="6477120" y="4686120"/>
                  <a:chExt cx="228600" cy="38880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>
                    <a:off x="6477120" y="488052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flipV="1">
                    <a:off x="6477120" y="468612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8" name=""/>
                <p:cNvGrpSpPr/>
                <p:nvPr/>
              </p:nvGrpSpPr>
              <p:grpSpPr>
                <a:xfrm>
                  <a:off x="7162920" y="4779720"/>
                  <a:ext cx="228600" cy="388800"/>
                  <a:chOff x="7162920" y="4779720"/>
                  <a:chExt cx="228600" cy="38880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>
                    <a:off x="7162920" y="497412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flipV="1">
                    <a:off x="7162920" y="477972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1" name=""/>
                <p:cNvSpPr/>
                <p:nvPr/>
              </p:nvSpPr>
              <p:spPr>
                <a:xfrm>
                  <a:off x="4115160" y="4170240"/>
                  <a:ext cx="14475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eplicat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esour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edicat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2" name=""/>
                <p:cNvGrpSpPr/>
                <p:nvPr/>
              </p:nvGrpSpPr>
              <p:grpSpPr>
                <a:xfrm>
                  <a:off x="6858360" y="4533840"/>
                  <a:ext cx="228600" cy="388800"/>
                  <a:chOff x="6858360" y="4533840"/>
                  <a:chExt cx="228600" cy="38880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>
                    <a:off x="6858360" y="47282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flipV="1">
                    <a:off x="6858360" y="45338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5" name=""/>
                <p:cNvGrpSpPr/>
                <p:nvPr/>
              </p:nvGrpSpPr>
              <p:grpSpPr>
                <a:xfrm>
                  <a:off x="6019920" y="4762440"/>
                  <a:ext cx="228600" cy="388800"/>
                  <a:chOff x="6019920" y="4762440"/>
                  <a:chExt cx="228600" cy="38880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>
                    <a:off x="6019920" y="49568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flipV="1">
                    <a:off x="6019920" y="47624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6172560" y="4152600"/>
                  <a:ext cx="228600" cy="388800"/>
                  <a:chOff x="6172560" y="4152600"/>
                  <a:chExt cx="228600" cy="38880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6172560" y="43470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flipV="1">
                    <a:off x="6172560" y="41526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1" name=""/>
                <p:cNvGrpSpPr/>
                <p:nvPr/>
              </p:nvGrpSpPr>
              <p:grpSpPr>
                <a:xfrm>
                  <a:off x="6096240" y="3581280"/>
                  <a:ext cx="380880" cy="545760"/>
                  <a:chOff x="6096240" y="3581280"/>
                  <a:chExt cx="380880" cy="545760"/>
                </a:xfrm>
              </p:grpSpPr>
              <p:sp>
                <p:nvSpPr>
                  <p:cNvPr id="542" name=""/>
                  <p:cNvSpPr/>
                  <p:nvPr/>
                </p:nvSpPr>
                <p:spPr>
                  <a:xfrm flipV="1">
                    <a:off x="6096240" y="3598560"/>
                    <a:ext cx="203040" cy="528480"/>
                  </a:xfrm>
                  <a:prstGeom prst="upArrow">
                    <a:avLst>
                      <a:gd name="adj1" fmla="val 50000"/>
                      <a:gd name="adj2" fmla="val 65071"/>
                    </a:avLst>
                  </a:prstGeom>
                  <a:solidFill>
                    <a:srgbClr val="003366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6274080" y="3581280"/>
                    <a:ext cx="203040" cy="528840"/>
                  </a:xfrm>
                  <a:prstGeom prst="upArrow">
                    <a:avLst>
                      <a:gd name="adj1" fmla="val 50000"/>
                      <a:gd name="adj2" fmla="val 65115"/>
                    </a:avLst>
                  </a:prstGeom>
                  <a:solidFill>
                    <a:srgbClr val="003366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44" name=""/>
              <p:cNvSpPr/>
              <p:nvPr/>
            </p:nvSpPr>
            <p:spPr>
              <a:xfrm>
                <a:off x="3778560" y="3619440"/>
                <a:ext cx="1589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Replic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5" name=""/>
          <p:cNvSpPr/>
          <p:nvPr/>
        </p:nvSpPr>
        <p:spPr>
          <a:xfrm>
            <a:off x="-152280" y="5334120"/>
            <a:ext cx="76197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First trial choice because ‘ontology stable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Other choices to maintain and support the ontology consensu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620120" y="809640"/>
            <a:ext cx="1523880" cy="52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porate mem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RD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G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E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rganizatio. approa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950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Architectu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b-societies organiz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Times New Roman"/>
              </a:rPr>
              <a:t>Ontology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Document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nnection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User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mma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341AA-7A44-4C67-80B5-1CDF7CA8CA0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160" y="-12960"/>
            <a:ext cx="910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Dedicated sub-societies (document)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-152640" y="609120"/>
            <a:ext cx="87627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The Document dedicated sub-society :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rchive documents &amp; annotations of the O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arch &amp; retrieve references matching the quer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500040" y="2362320"/>
            <a:ext cx="7043760" cy="2876400"/>
            <a:chOff x="500040" y="2362320"/>
            <a:chExt cx="7043760" cy="2876400"/>
          </a:xfrm>
        </p:grpSpPr>
        <p:sp>
          <p:nvSpPr>
            <p:cNvPr id="550" name=""/>
            <p:cNvSpPr/>
            <p:nvPr/>
          </p:nvSpPr>
          <p:spPr>
            <a:xfrm>
              <a:off x="500040" y="2362320"/>
              <a:ext cx="317808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587520" y="2489040"/>
              <a:ext cx="446040" cy="474840"/>
              <a:chOff x="587520" y="2489040"/>
              <a:chExt cx="446040" cy="474840"/>
            </a:xfrm>
          </p:grpSpPr>
          <p:grpSp>
            <p:nvGrpSpPr>
              <p:cNvPr id="552" name=""/>
              <p:cNvGrpSpPr/>
              <p:nvPr/>
            </p:nvGrpSpPr>
            <p:grpSpPr>
              <a:xfrm>
                <a:off x="739800" y="2489040"/>
                <a:ext cx="293760" cy="388800"/>
                <a:chOff x="739800" y="2489040"/>
                <a:chExt cx="293760" cy="38880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739800" y="268344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V="1">
                  <a:off x="739800" y="248904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685800" y="2517840"/>
                <a:ext cx="293760" cy="388800"/>
                <a:chOff x="685800" y="2517840"/>
                <a:chExt cx="293760" cy="38880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685800" y="271224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 flipV="1">
                  <a:off x="685800" y="251784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641520" y="2546280"/>
                <a:ext cx="293400" cy="388800"/>
                <a:chOff x="641520" y="2546280"/>
                <a:chExt cx="293400" cy="38880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641520" y="274068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 flipV="1">
                  <a:off x="641520" y="254628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587520" y="2575080"/>
                <a:ext cx="293400" cy="388800"/>
                <a:chOff x="587520" y="2575080"/>
                <a:chExt cx="293400" cy="38880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587520" y="276948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flipV="1">
                  <a:off x="587520" y="257508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4" name=""/>
            <p:cNvSpPr/>
            <p:nvPr/>
          </p:nvSpPr>
          <p:spPr>
            <a:xfrm>
              <a:off x="1090440" y="2379600"/>
              <a:ext cx="2587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Ontology 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465280" y="4503600"/>
              <a:ext cx="3178440" cy="72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2682720" y="4641480"/>
              <a:ext cx="408240" cy="473400"/>
              <a:chOff x="2682720" y="4641480"/>
              <a:chExt cx="408240" cy="473400"/>
            </a:xfrm>
          </p:grpSpPr>
          <p:grpSp>
            <p:nvGrpSpPr>
              <p:cNvPr id="567" name=""/>
              <p:cNvGrpSpPr/>
              <p:nvPr/>
            </p:nvGrpSpPr>
            <p:grpSpPr>
              <a:xfrm>
                <a:off x="2821680" y="4641480"/>
                <a:ext cx="269280" cy="388440"/>
                <a:chOff x="2821680" y="4641480"/>
                <a:chExt cx="269280" cy="38844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2821680" y="483588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flipV="1">
                  <a:off x="2821680" y="464112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2772360" y="4669920"/>
                <a:ext cx="269280" cy="388440"/>
                <a:chOff x="2772360" y="4669920"/>
                <a:chExt cx="269280" cy="38844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2772360" y="486432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flipV="1">
                  <a:off x="2772360" y="466956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2731680" y="4698000"/>
                <a:ext cx="269280" cy="388440"/>
                <a:chOff x="2731680" y="4698000"/>
                <a:chExt cx="269280" cy="38844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2731680" y="489240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flipV="1">
                  <a:off x="2731680" y="469764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2682720" y="4726440"/>
                <a:ext cx="269280" cy="388440"/>
                <a:chOff x="2682720" y="4726440"/>
                <a:chExt cx="269280" cy="38844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2682720" y="492084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flipV="1">
                  <a:off x="2682720" y="472608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9" name=""/>
            <p:cNvSpPr/>
            <p:nvPr/>
          </p:nvSpPr>
          <p:spPr>
            <a:xfrm>
              <a:off x="3203640" y="4533840"/>
              <a:ext cx="24019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 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63920" y="2362320"/>
              <a:ext cx="317988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4583160" y="2476440"/>
              <a:ext cx="412560" cy="474480"/>
              <a:chOff x="4583160" y="2476440"/>
              <a:chExt cx="412560" cy="474480"/>
            </a:xfrm>
          </p:grpSpPr>
          <p:grpSp>
            <p:nvGrpSpPr>
              <p:cNvPr id="582" name=""/>
              <p:cNvGrpSpPr/>
              <p:nvPr/>
            </p:nvGrpSpPr>
            <p:grpSpPr>
              <a:xfrm>
                <a:off x="4724280" y="2476440"/>
                <a:ext cx="271440" cy="388800"/>
                <a:chOff x="4724280" y="2476440"/>
                <a:chExt cx="271440" cy="38880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4724280" y="267084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flipV="1">
                  <a:off x="4724280" y="247644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4673520" y="2505240"/>
                <a:ext cx="273240" cy="388800"/>
                <a:chOff x="4673520" y="2505240"/>
                <a:chExt cx="273240" cy="38880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4673520" y="2699640"/>
                  <a:ext cx="2732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flipV="1">
                  <a:off x="4673520" y="2505240"/>
                  <a:ext cx="2732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4632480" y="2533680"/>
                <a:ext cx="272880" cy="388800"/>
                <a:chOff x="4632480" y="2533680"/>
                <a:chExt cx="272880" cy="38880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4632480" y="2728080"/>
                  <a:ext cx="2728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flipV="1">
                  <a:off x="4632480" y="2533680"/>
                  <a:ext cx="2728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4583160" y="2562120"/>
                <a:ext cx="271440" cy="388800"/>
                <a:chOff x="4583160" y="2562120"/>
                <a:chExt cx="271440" cy="38880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4583160" y="275652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V="1">
                  <a:off x="4583160" y="256212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4" name=""/>
            <p:cNvSpPr/>
            <p:nvPr/>
          </p:nvSpPr>
          <p:spPr>
            <a:xfrm>
              <a:off x="4840200" y="2374920"/>
              <a:ext cx="26924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Document 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465280" y="3443400"/>
              <a:ext cx="317844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2670120" y="3579480"/>
              <a:ext cx="420840" cy="473400"/>
              <a:chOff x="2670120" y="3579480"/>
              <a:chExt cx="420840" cy="473400"/>
            </a:xfrm>
          </p:grpSpPr>
          <p:grpSp>
            <p:nvGrpSpPr>
              <p:cNvPr id="597" name=""/>
              <p:cNvGrpSpPr/>
              <p:nvPr/>
            </p:nvGrpSpPr>
            <p:grpSpPr>
              <a:xfrm>
                <a:off x="2813400" y="3579480"/>
                <a:ext cx="277560" cy="388440"/>
                <a:chOff x="2813400" y="3579480"/>
                <a:chExt cx="277560" cy="38844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2813400" y="377388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V="1">
                  <a:off x="2813400" y="357912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2762640" y="3607920"/>
                <a:ext cx="277560" cy="388440"/>
                <a:chOff x="2762640" y="3607920"/>
                <a:chExt cx="277560" cy="38844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2762640" y="380232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V="1">
                  <a:off x="2762640" y="360756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2720520" y="3636000"/>
                <a:ext cx="277560" cy="388440"/>
                <a:chOff x="2720520" y="3636000"/>
                <a:chExt cx="277560" cy="38844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2720520" y="383040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flipV="1">
                  <a:off x="2720520" y="363564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2670120" y="3664440"/>
                <a:ext cx="277560" cy="388440"/>
                <a:chOff x="2670120" y="3664440"/>
                <a:chExt cx="277560" cy="38844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2670120" y="385884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V="1">
                  <a:off x="2670120" y="366408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9" name=""/>
            <p:cNvSpPr/>
            <p:nvPr/>
          </p:nvSpPr>
          <p:spPr>
            <a:xfrm>
              <a:off x="3130560" y="3473280"/>
              <a:ext cx="28083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nection 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760840" y="2940120"/>
              <a:ext cx="738000" cy="614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99000" y="4040280"/>
              <a:ext cx="0" cy="560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4978080" y="2940120"/>
              <a:ext cx="739800" cy="614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7620120" y="809640"/>
            <a:ext cx="1523880" cy="52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porate mem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RD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G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E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rganizatio. approa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950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Architectu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b-societies organiz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ntology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Times New Roman"/>
              </a:rPr>
              <a:t>Document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nnection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User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mma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382E-914F-4A4B-A713-56A077646E1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160" y="-12960"/>
            <a:ext cx="910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Dedicated sub-societies (document)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-152640" y="609120"/>
            <a:ext cx="87627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The Document dedicated sub-society :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rchive documents &amp; annotations of the O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arch &amp; retrieve references matching the quer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4363920" y="2362320"/>
            <a:ext cx="3179880" cy="725400"/>
            <a:chOff x="4363920" y="2362320"/>
            <a:chExt cx="3179880" cy="725400"/>
          </a:xfrm>
        </p:grpSpPr>
        <p:sp>
          <p:nvSpPr>
            <p:cNvPr id="617" name=""/>
            <p:cNvSpPr/>
            <p:nvPr/>
          </p:nvSpPr>
          <p:spPr>
            <a:xfrm>
              <a:off x="4363920" y="2362320"/>
              <a:ext cx="317988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4583160" y="2476440"/>
              <a:ext cx="412560" cy="474480"/>
              <a:chOff x="4583160" y="2476440"/>
              <a:chExt cx="412560" cy="474480"/>
            </a:xfrm>
          </p:grpSpPr>
          <p:grpSp>
            <p:nvGrpSpPr>
              <p:cNvPr id="619" name=""/>
              <p:cNvGrpSpPr/>
              <p:nvPr/>
            </p:nvGrpSpPr>
            <p:grpSpPr>
              <a:xfrm>
                <a:off x="4724280" y="2476440"/>
                <a:ext cx="271440" cy="388800"/>
                <a:chOff x="4724280" y="2476440"/>
                <a:chExt cx="271440" cy="38880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4724280" y="267084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V="1">
                  <a:off x="4724280" y="247644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4673520" y="2505240"/>
                <a:ext cx="273240" cy="388800"/>
                <a:chOff x="4673520" y="2505240"/>
                <a:chExt cx="273240" cy="38880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4673520" y="2699640"/>
                  <a:ext cx="2732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flipV="1">
                  <a:off x="4673520" y="2505240"/>
                  <a:ext cx="2732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4632480" y="2533680"/>
                <a:ext cx="272880" cy="388800"/>
                <a:chOff x="4632480" y="2533680"/>
                <a:chExt cx="272880" cy="38880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4632480" y="2728080"/>
                  <a:ext cx="2728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flipV="1">
                  <a:off x="4632480" y="2533680"/>
                  <a:ext cx="2728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4583160" y="2562120"/>
                <a:ext cx="271440" cy="388800"/>
                <a:chOff x="4583160" y="2562120"/>
                <a:chExt cx="271440" cy="38880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4583160" y="275652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flipV="1">
                  <a:off x="4583160" y="256212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1" name=""/>
            <p:cNvSpPr/>
            <p:nvPr/>
          </p:nvSpPr>
          <p:spPr>
            <a:xfrm>
              <a:off x="4840200" y="2374920"/>
              <a:ext cx="26924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Document 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46080" y="2798640"/>
            <a:ext cx="7345080" cy="2079360"/>
            <a:chOff x="46080" y="2798640"/>
            <a:chExt cx="7345080" cy="2079360"/>
          </a:xfrm>
        </p:grpSpPr>
        <p:grpSp>
          <p:nvGrpSpPr>
            <p:cNvPr id="633" name=""/>
            <p:cNvGrpSpPr/>
            <p:nvPr/>
          </p:nvGrpSpPr>
          <p:grpSpPr>
            <a:xfrm>
              <a:off x="46080" y="3220920"/>
              <a:ext cx="3840120" cy="1657080"/>
              <a:chOff x="46080" y="3220920"/>
              <a:chExt cx="3840120" cy="1657080"/>
            </a:xfrm>
          </p:grpSpPr>
          <p:grpSp>
            <p:nvGrpSpPr>
              <p:cNvPr id="634" name=""/>
              <p:cNvGrpSpPr/>
              <p:nvPr/>
            </p:nvGrpSpPr>
            <p:grpSpPr>
              <a:xfrm>
                <a:off x="304920" y="3220920"/>
                <a:ext cx="3581280" cy="1657080"/>
                <a:chOff x="304920" y="3220920"/>
                <a:chExt cx="3581280" cy="165708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304920" y="3716280"/>
                  <a:ext cx="3581280" cy="1143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6" name=""/>
                <p:cNvGrpSpPr/>
                <p:nvPr/>
              </p:nvGrpSpPr>
              <p:grpSpPr>
                <a:xfrm>
                  <a:off x="3124440" y="3805200"/>
                  <a:ext cx="228600" cy="388800"/>
                  <a:chOff x="3124440" y="3805200"/>
                  <a:chExt cx="228600" cy="38880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>
                    <a:off x="3124440" y="39996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3366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V="1">
                    <a:off x="3124440" y="38052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3366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9" name=""/>
                <p:cNvGrpSpPr/>
                <p:nvPr/>
              </p:nvGrpSpPr>
              <p:grpSpPr>
                <a:xfrm>
                  <a:off x="1981440" y="4402080"/>
                  <a:ext cx="228600" cy="388800"/>
                  <a:chOff x="1981440" y="4402080"/>
                  <a:chExt cx="228600" cy="38880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>
                    <a:off x="1981440" y="459648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V="1">
                    <a:off x="1981440" y="440208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2" name=""/>
                <p:cNvGrpSpPr/>
                <p:nvPr/>
              </p:nvGrpSpPr>
              <p:grpSpPr>
                <a:xfrm>
                  <a:off x="2438640" y="3805200"/>
                  <a:ext cx="228600" cy="388800"/>
                  <a:chOff x="2438640" y="3805200"/>
                  <a:chExt cx="228600" cy="388800"/>
                </a:xfrm>
              </p:grpSpPr>
              <p:sp>
                <p:nvSpPr>
                  <p:cNvPr id="643" name=""/>
                  <p:cNvSpPr/>
                  <p:nvPr/>
                </p:nvSpPr>
                <p:spPr>
                  <a:xfrm>
                    <a:off x="2438640" y="39996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3366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flipV="1">
                    <a:off x="2438640" y="38052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3366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2438640" y="4402080"/>
                  <a:ext cx="228600" cy="388800"/>
                  <a:chOff x="2438640" y="4402080"/>
                  <a:chExt cx="228600" cy="38880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>
                    <a:off x="2438640" y="459648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flipV="1">
                    <a:off x="2438640" y="440208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8" name=""/>
                <p:cNvGrpSpPr/>
                <p:nvPr/>
              </p:nvGrpSpPr>
              <p:grpSpPr>
                <a:xfrm>
                  <a:off x="2971800" y="4402080"/>
                  <a:ext cx="228600" cy="388800"/>
                  <a:chOff x="2971800" y="4402080"/>
                  <a:chExt cx="228600" cy="38880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>
                    <a:off x="2971800" y="459648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flipV="1">
                    <a:off x="2971800" y="440208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1" name=""/>
                <p:cNvGrpSpPr/>
                <p:nvPr/>
              </p:nvGrpSpPr>
              <p:grpSpPr>
                <a:xfrm>
                  <a:off x="3429000" y="4402080"/>
                  <a:ext cx="228600" cy="388800"/>
                  <a:chOff x="3429000" y="4402080"/>
                  <a:chExt cx="228600" cy="388800"/>
                </a:xfrm>
              </p:grpSpPr>
              <p:sp>
                <p:nvSpPr>
                  <p:cNvPr id="652" name=""/>
                  <p:cNvSpPr/>
                  <p:nvPr/>
                </p:nvSpPr>
                <p:spPr>
                  <a:xfrm>
                    <a:off x="3429000" y="459648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 flipV="1">
                    <a:off x="3429000" y="440208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4" name=""/>
                <p:cNvSpPr/>
                <p:nvPr/>
              </p:nvSpPr>
              <p:spPr>
                <a:xfrm>
                  <a:off x="304920" y="4275000"/>
                  <a:ext cx="358128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66120" y="3767040"/>
                  <a:ext cx="169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epresentativ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81240" y="4235400"/>
                  <a:ext cx="12124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esour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edicat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>
                  <a:off x="2286000" y="4236480"/>
                  <a:ext cx="228600" cy="1522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 flipV="1">
                  <a:off x="2590920" y="4236480"/>
                  <a:ext cx="380880" cy="30492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9" name=""/>
                <p:cNvGrpSpPr/>
                <p:nvPr/>
              </p:nvGrpSpPr>
              <p:grpSpPr>
                <a:xfrm>
                  <a:off x="2362320" y="3220920"/>
                  <a:ext cx="380880" cy="545760"/>
                  <a:chOff x="2362320" y="3220920"/>
                  <a:chExt cx="380880" cy="545760"/>
                </a:xfrm>
              </p:grpSpPr>
              <p:sp>
                <p:nvSpPr>
                  <p:cNvPr id="660" name=""/>
                  <p:cNvSpPr/>
                  <p:nvPr/>
                </p:nvSpPr>
                <p:spPr>
                  <a:xfrm flipV="1">
                    <a:off x="2362320" y="3238200"/>
                    <a:ext cx="203040" cy="528480"/>
                  </a:xfrm>
                  <a:prstGeom prst="upArrow">
                    <a:avLst>
                      <a:gd name="adj1" fmla="val 50000"/>
                      <a:gd name="adj2" fmla="val 65071"/>
                    </a:avLst>
                  </a:prstGeom>
                  <a:solidFill>
                    <a:srgbClr val="003366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2540160" y="3220920"/>
                    <a:ext cx="203040" cy="528840"/>
                  </a:xfrm>
                  <a:prstGeom prst="upArrow">
                    <a:avLst>
                      <a:gd name="adj1" fmla="val 50000"/>
                      <a:gd name="adj2" fmla="val 65115"/>
                    </a:avLst>
                  </a:prstGeom>
                  <a:solidFill>
                    <a:srgbClr val="003366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62" name=""/>
              <p:cNvSpPr/>
              <p:nvPr/>
            </p:nvSpPr>
            <p:spPr>
              <a:xfrm>
                <a:off x="46080" y="3259080"/>
                <a:ext cx="140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Hierarch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3726000" y="2798640"/>
              <a:ext cx="3665160" cy="1468800"/>
              <a:chOff x="3726000" y="2798640"/>
              <a:chExt cx="3665160" cy="1468800"/>
            </a:xfrm>
          </p:grpSpPr>
          <p:sp>
            <p:nvSpPr>
              <p:cNvPr id="664" name=""/>
              <p:cNvSpPr/>
              <p:nvPr/>
            </p:nvSpPr>
            <p:spPr>
              <a:xfrm flipH="1" rot="19452000">
                <a:off x="3948480" y="2989080"/>
                <a:ext cx="1003320" cy="10872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5" name=""/>
              <p:cNvGrpSpPr/>
              <p:nvPr/>
            </p:nvGrpSpPr>
            <p:grpSpPr>
              <a:xfrm>
                <a:off x="4294440" y="3217680"/>
                <a:ext cx="429480" cy="673560"/>
                <a:chOff x="4294440" y="3217680"/>
                <a:chExt cx="429480" cy="673560"/>
              </a:xfrm>
            </p:grpSpPr>
            <p:grpSp>
              <p:nvGrpSpPr>
                <p:cNvPr id="666" name=""/>
                <p:cNvGrpSpPr/>
                <p:nvPr/>
              </p:nvGrpSpPr>
              <p:grpSpPr>
                <a:xfrm>
                  <a:off x="4309560" y="3217680"/>
                  <a:ext cx="414360" cy="411840"/>
                  <a:chOff x="4309560" y="3217680"/>
                  <a:chExt cx="414360" cy="411840"/>
                </a:xfrm>
              </p:grpSpPr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4309560" y="3223800"/>
                    <a:ext cx="406440" cy="403920"/>
                    <a:chOff x="4309560" y="3223800"/>
                    <a:chExt cx="406440" cy="403920"/>
                  </a:xfrm>
                </p:grpSpPr>
                <p:grpSp>
                  <p:nvGrpSpPr>
                    <p:cNvPr id="668" name=""/>
                    <p:cNvGrpSpPr/>
                    <p:nvPr/>
                  </p:nvGrpSpPr>
                  <p:grpSpPr>
                    <a:xfrm>
                      <a:off x="4309560" y="3223800"/>
                      <a:ext cx="406440" cy="403920"/>
                      <a:chOff x="4309560" y="3223800"/>
                      <a:chExt cx="406440" cy="403920"/>
                    </a:xfrm>
                  </p:grpSpPr>
                  <p:sp>
                    <p:nvSpPr>
                      <p:cNvPr id="669" name=""/>
                      <p:cNvSpPr/>
                      <p:nvPr/>
                    </p:nvSpPr>
                    <p:spPr>
                      <a:xfrm flipH="1">
                        <a:off x="4371120" y="3223800"/>
                        <a:ext cx="344520" cy="234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6" h="739">
                            <a:moveTo>
                              <a:pt x="23" y="739"/>
                            </a:moveTo>
                            <a:lnTo>
                              <a:pt x="7" y="652"/>
                            </a:lnTo>
                            <a:lnTo>
                              <a:pt x="0" y="568"/>
                            </a:lnTo>
                            <a:lnTo>
                              <a:pt x="3" y="510"/>
                            </a:lnTo>
                            <a:lnTo>
                              <a:pt x="13" y="457"/>
                            </a:lnTo>
                            <a:lnTo>
                              <a:pt x="29" y="398"/>
                            </a:lnTo>
                            <a:lnTo>
                              <a:pt x="55" y="340"/>
                            </a:lnTo>
                            <a:lnTo>
                              <a:pt x="88" y="279"/>
                            </a:lnTo>
                            <a:lnTo>
                              <a:pt x="120" y="230"/>
                            </a:lnTo>
                            <a:lnTo>
                              <a:pt x="159" y="181"/>
                            </a:lnTo>
                            <a:lnTo>
                              <a:pt x="205" y="139"/>
                            </a:lnTo>
                            <a:lnTo>
                              <a:pt x="250" y="104"/>
                            </a:lnTo>
                            <a:lnTo>
                              <a:pt x="299" y="75"/>
                            </a:lnTo>
                            <a:lnTo>
                              <a:pt x="359" y="49"/>
                            </a:lnTo>
                            <a:lnTo>
                              <a:pt x="427" y="26"/>
                            </a:lnTo>
                            <a:lnTo>
                              <a:pt x="485" y="10"/>
                            </a:lnTo>
                            <a:lnTo>
                              <a:pt x="557" y="0"/>
                            </a:lnTo>
                            <a:lnTo>
                              <a:pt x="648" y="0"/>
                            </a:lnTo>
                            <a:lnTo>
                              <a:pt x="716" y="13"/>
                            </a:lnTo>
                            <a:lnTo>
                              <a:pt x="797" y="32"/>
                            </a:lnTo>
                            <a:lnTo>
                              <a:pt x="878" y="68"/>
                            </a:lnTo>
                            <a:lnTo>
                              <a:pt x="950" y="110"/>
                            </a:lnTo>
                            <a:lnTo>
                              <a:pt x="998" y="152"/>
                            </a:lnTo>
                            <a:lnTo>
                              <a:pt x="1047" y="201"/>
                            </a:lnTo>
                            <a:lnTo>
                              <a:pt x="1086" y="249"/>
                            </a:lnTo>
                            <a:lnTo>
                              <a:pt x="982" y="172"/>
                            </a:lnTo>
                            <a:lnTo>
                              <a:pt x="927" y="139"/>
                            </a:lnTo>
                            <a:lnTo>
                              <a:pt x="868" y="117"/>
                            </a:lnTo>
                            <a:lnTo>
                              <a:pt x="794" y="94"/>
                            </a:lnTo>
                            <a:lnTo>
                              <a:pt x="722" y="84"/>
                            </a:lnTo>
                            <a:lnTo>
                              <a:pt x="644" y="81"/>
                            </a:lnTo>
                            <a:lnTo>
                              <a:pt x="586" y="84"/>
                            </a:lnTo>
                            <a:lnTo>
                              <a:pt x="524" y="94"/>
                            </a:lnTo>
                            <a:lnTo>
                              <a:pt x="462" y="110"/>
                            </a:lnTo>
                            <a:lnTo>
                              <a:pt x="404" y="130"/>
                            </a:lnTo>
                            <a:lnTo>
                              <a:pt x="339" y="162"/>
                            </a:lnTo>
                            <a:lnTo>
                              <a:pt x="289" y="191"/>
                            </a:lnTo>
                            <a:lnTo>
                              <a:pt x="247" y="227"/>
                            </a:lnTo>
                            <a:lnTo>
                              <a:pt x="198" y="266"/>
                            </a:lnTo>
                            <a:lnTo>
                              <a:pt x="159" y="308"/>
                            </a:lnTo>
                            <a:lnTo>
                              <a:pt x="120" y="366"/>
                            </a:lnTo>
                            <a:lnTo>
                              <a:pt x="85" y="427"/>
                            </a:lnTo>
                            <a:lnTo>
                              <a:pt x="62" y="486"/>
                            </a:lnTo>
                            <a:lnTo>
                              <a:pt x="42" y="555"/>
                            </a:lnTo>
                            <a:lnTo>
                              <a:pt x="29" y="639"/>
                            </a:lnTo>
                            <a:lnTo>
                              <a:pt x="23" y="739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0" name=""/>
                      <p:cNvSpPr/>
                      <p:nvPr/>
                    </p:nvSpPr>
                    <p:spPr>
                      <a:xfrm flipH="1">
                        <a:off x="4309560" y="3339360"/>
                        <a:ext cx="380880" cy="288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98" h="908">
                            <a:moveTo>
                              <a:pt x="0" y="552"/>
                            </a:moveTo>
                            <a:lnTo>
                              <a:pt x="69" y="629"/>
                            </a:lnTo>
                            <a:lnTo>
                              <a:pt x="143" y="697"/>
                            </a:lnTo>
                            <a:lnTo>
                              <a:pt x="211" y="736"/>
                            </a:lnTo>
                            <a:lnTo>
                              <a:pt x="310" y="778"/>
                            </a:lnTo>
                            <a:lnTo>
                              <a:pt x="388" y="801"/>
                            </a:lnTo>
                            <a:lnTo>
                              <a:pt x="459" y="811"/>
                            </a:lnTo>
                            <a:lnTo>
                              <a:pt x="544" y="811"/>
                            </a:lnTo>
                            <a:lnTo>
                              <a:pt x="605" y="804"/>
                            </a:lnTo>
                            <a:lnTo>
                              <a:pt x="680" y="791"/>
                            </a:lnTo>
                            <a:lnTo>
                              <a:pt x="755" y="769"/>
                            </a:lnTo>
                            <a:lnTo>
                              <a:pt x="817" y="736"/>
                            </a:lnTo>
                            <a:lnTo>
                              <a:pt x="875" y="701"/>
                            </a:lnTo>
                            <a:lnTo>
                              <a:pt x="927" y="665"/>
                            </a:lnTo>
                            <a:lnTo>
                              <a:pt x="979" y="613"/>
                            </a:lnTo>
                            <a:lnTo>
                              <a:pt x="1031" y="555"/>
                            </a:lnTo>
                            <a:lnTo>
                              <a:pt x="1071" y="500"/>
                            </a:lnTo>
                            <a:lnTo>
                              <a:pt x="1094" y="445"/>
                            </a:lnTo>
                            <a:lnTo>
                              <a:pt x="1123" y="357"/>
                            </a:lnTo>
                            <a:lnTo>
                              <a:pt x="1142" y="267"/>
                            </a:lnTo>
                            <a:lnTo>
                              <a:pt x="1146" y="186"/>
                            </a:lnTo>
                            <a:lnTo>
                              <a:pt x="1133" y="97"/>
                            </a:lnTo>
                            <a:lnTo>
                              <a:pt x="1103" y="0"/>
                            </a:lnTo>
                            <a:lnTo>
                              <a:pt x="1133" y="52"/>
                            </a:lnTo>
                            <a:lnTo>
                              <a:pt x="1165" y="126"/>
                            </a:lnTo>
                            <a:lnTo>
                              <a:pt x="1181" y="195"/>
                            </a:lnTo>
                            <a:lnTo>
                              <a:pt x="1198" y="260"/>
                            </a:lnTo>
                            <a:lnTo>
                              <a:pt x="1194" y="315"/>
                            </a:lnTo>
                            <a:lnTo>
                              <a:pt x="1191" y="390"/>
                            </a:lnTo>
                            <a:lnTo>
                              <a:pt x="1152" y="532"/>
                            </a:lnTo>
                            <a:lnTo>
                              <a:pt x="1113" y="610"/>
                            </a:lnTo>
                            <a:lnTo>
                              <a:pt x="1064" y="678"/>
                            </a:lnTo>
                            <a:lnTo>
                              <a:pt x="1011" y="736"/>
                            </a:lnTo>
                            <a:lnTo>
                              <a:pt x="959" y="778"/>
                            </a:lnTo>
                            <a:lnTo>
                              <a:pt x="888" y="827"/>
                            </a:lnTo>
                            <a:lnTo>
                              <a:pt x="817" y="859"/>
                            </a:lnTo>
                            <a:lnTo>
                              <a:pt x="748" y="882"/>
                            </a:lnTo>
                            <a:lnTo>
                              <a:pt x="661" y="905"/>
                            </a:lnTo>
                            <a:lnTo>
                              <a:pt x="596" y="908"/>
                            </a:lnTo>
                            <a:lnTo>
                              <a:pt x="524" y="908"/>
                            </a:lnTo>
                            <a:lnTo>
                              <a:pt x="453" y="895"/>
                            </a:lnTo>
                            <a:lnTo>
                              <a:pt x="375" y="879"/>
                            </a:lnTo>
                            <a:lnTo>
                              <a:pt x="323" y="859"/>
                            </a:lnTo>
                            <a:lnTo>
                              <a:pt x="254" y="824"/>
                            </a:lnTo>
                            <a:lnTo>
                              <a:pt x="195" y="791"/>
                            </a:lnTo>
                            <a:lnTo>
                              <a:pt x="140" y="746"/>
                            </a:lnTo>
                            <a:lnTo>
                              <a:pt x="82" y="684"/>
                            </a:lnTo>
                            <a:lnTo>
                              <a:pt x="26" y="607"/>
                            </a:lnTo>
                            <a:lnTo>
                              <a:pt x="0" y="552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71" name=""/>
                    <p:cNvGrpSpPr/>
                    <p:nvPr/>
                  </p:nvGrpSpPr>
                  <p:grpSpPr>
                    <a:xfrm>
                      <a:off x="4311000" y="3229920"/>
                      <a:ext cx="401760" cy="379800"/>
                      <a:chOff x="4311000" y="3229920"/>
                      <a:chExt cx="401760" cy="379800"/>
                    </a:xfrm>
                  </p:grpSpPr>
                  <p:sp>
                    <p:nvSpPr>
                      <p:cNvPr id="672" name=""/>
                      <p:cNvSpPr/>
                      <p:nvPr/>
                    </p:nvSpPr>
                    <p:spPr>
                      <a:xfrm flipH="1">
                        <a:off x="4591800" y="3514680"/>
                        <a:ext cx="98280" cy="9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1" h="300">
                            <a:moveTo>
                              <a:pt x="0" y="0"/>
                            </a:moveTo>
                            <a:lnTo>
                              <a:pt x="33" y="60"/>
                            </a:lnTo>
                            <a:lnTo>
                              <a:pt x="64" y="107"/>
                            </a:lnTo>
                            <a:lnTo>
                              <a:pt x="98" y="149"/>
                            </a:lnTo>
                            <a:lnTo>
                              <a:pt x="150" y="199"/>
                            </a:lnTo>
                            <a:lnTo>
                              <a:pt x="189" y="232"/>
                            </a:lnTo>
                            <a:lnTo>
                              <a:pt x="238" y="263"/>
                            </a:lnTo>
                            <a:lnTo>
                              <a:pt x="311" y="300"/>
                            </a:lnTo>
                            <a:lnTo>
                              <a:pt x="230" y="190"/>
                            </a:lnTo>
                            <a:lnTo>
                              <a:pt x="184" y="164"/>
                            </a:lnTo>
                            <a:lnTo>
                              <a:pt x="152" y="141"/>
                            </a:lnTo>
                            <a:lnTo>
                              <a:pt x="104" y="109"/>
                            </a:lnTo>
                            <a:lnTo>
                              <a:pt x="67" y="74"/>
                            </a:lnTo>
                            <a:lnTo>
                              <a:pt x="38" y="45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3" name=""/>
                      <p:cNvSpPr/>
                      <p:nvPr/>
                    </p:nvSpPr>
                    <p:spPr>
                      <a:xfrm flipH="1">
                        <a:off x="4310640" y="3337560"/>
                        <a:ext cx="34920" cy="18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590">
                            <a:moveTo>
                              <a:pt x="21" y="0"/>
                            </a:moveTo>
                            <a:lnTo>
                              <a:pt x="42" y="40"/>
                            </a:lnTo>
                            <a:lnTo>
                              <a:pt x="56" y="75"/>
                            </a:lnTo>
                            <a:lnTo>
                              <a:pt x="71" y="111"/>
                            </a:lnTo>
                            <a:lnTo>
                              <a:pt x="82" y="145"/>
                            </a:lnTo>
                            <a:lnTo>
                              <a:pt x="91" y="178"/>
                            </a:lnTo>
                            <a:lnTo>
                              <a:pt x="107" y="235"/>
                            </a:lnTo>
                            <a:lnTo>
                              <a:pt x="111" y="291"/>
                            </a:lnTo>
                            <a:lnTo>
                              <a:pt x="108" y="377"/>
                            </a:lnTo>
                            <a:lnTo>
                              <a:pt x="101" y="436"/>
                            </a:lnTo>
                            <a:lnTo>
                              <a:pt x="89" y="483"/>
                            </a:lnTo>
                            <a:lnTo>
                              <a:pt x="70" y="533"/>
                            </a:lnTo>
                            <a:lnTo>
                              <a:pt x="45" y="590"/>
                            </a:lnTo>
                            <a:lnTo>
                              <a:pt x="0" y="479"/>
                            </a:lnTo>
                            <a:lnTo>
                              <a:pt x="21" y="430"/>
                            </a:lnTo>
                            <a:lnTo>
                              <a:pt x="30" y="404"/>
                            </a:lnTo>
                            <a:lnTo>
                              <a:pt x="42" y="371"/>
                            </a:lnTo>
                            <a:lnTo>
                              <a:pt x="50" y="336"/>
                            </a:lnTo>
                            <a:lnTo>
                              <a:pt x="56" y="283"/>
                            </a:lnTo>
                            <a:lnTo>
                              <a:pt x="59" y="239"/>
                            </a:lnTo>
                            <a:lnTo>
                              <a:pt x="59" y="173"/>
                            </a:lnTo>
                            <a:lnTo>
                              <a:pt x="50" y="114"/>
                            </a:lnTo>
                            <a:lnTo>
                              <a:pt x="39" y="65"/>
                            </a:lnTo>
                            <a:lnTo>
                              <a:pt x="32" y="39"/>
                            </a:lnTo>
                            <a:lnTo>
                              <a:pt x="2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4" name=""/>
                      <p:cNvSpPr/>
                      <p:nvPr/>
                    </p:nvSpPr>
                    <p:spPr>
                      <a:xfrm flipH="1">
                        <a:off x="4390560" y="3229920"/>
                        <a:ext cx="13968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1" h="178">
                            <a:moveTo>
                              <a:pt x="0" y="0"/>
                            </a:moveTo>
                            <a:lnTo>
                              <a:pt x="33" y="65"/>
                            </a:lnTo>
                            <a:lnTo>
                              <a:pt x="85" y="62"/>
                            </a:lnTo>
                            <a:lnTo>
                              <a:pt x="133" y="65"/>
                            </a:lnTo>
                            <a:lnTo>
                              <a:pt x="177" y="72"/>
                            </a:lnTo>
                            <a:lnTo>
                              <a:pt x="218" y="79"/>
                            </a:lnTo>
                            <a:lnTo>
                              <a:pt x="259" y="90"/>
                            </a:lnTo>
                            <a:lnTo>
                              <a:pt x="288" y="99"/>
                            </a:lnTo>
                            <a:lnTo>
                              <a:pt x="324" y="114"/>
                            </a:lnTo>
                            <a:lnTo>
                              <a:pt x="367" y="134"/>
                            </a:lnTo>
                            <a:lnTo>
                              <a:pt x="441" y="178"/>
                            </a:lnTo>
                            <a:lnTo>
                              <a:pt x="398" y="133"/>
                            </a:lnTo>
                            <a:lnTo>
                              <a:pt x="368" y="110"/>
                            </a:lnTo>
                            <a:lnTo>
                              <a:pt x="328" y="84"/>
                            </a:lnTo>
                            <a:lnTo>
                              <a:pt x="303" y="69"/>
                            </a:lnTo>
                            <a:lnTo>
                              <a:pt x="247" y="43"/>
                            </a:lnTo>
                            <a:lnTo>
                              <a:pt x="212" y="31"/>
                            </a:lnTo>
                            <a:lnTo>
                              <a:pt x="183" y="21"/>
                            </a:lnTo>
                            <a:lnTo>
                              <a:pt x="155" y="14"/>
                            </a:lnTo>
                            <a:lnTo>
                              <a:pt x="113" y="7"/>
                            </a:lnTo>
                            <a:lnTo>
                              <a:pt x="69" y="1"/>
                            </a:lnTo>
                            <a:lnTo>
                              <a:pt x="19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5" name=""/>
                      <p:cNvSpPr/>
                      <p:nvPr/>
                    </p:nvSpPr>
                    <p:spPr>
                      <a:xfrm flipH="1">
                        <a:off x="4668120" y="3308760"/>
                        <a:ext cx="44280" cy="13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1" h="417">
                            <a:moveTo>
                              <a:pt x="0" y="320"/>
                            </a:moveTo>
                            <a:lnTo>
                              <a:pt x="3" y="288"/>
                            </a:lnTo>
                            <a:lnTo>
                              <a:pt x="5" y="252"/>
                            </a:lnTo>
                            <a:lnTo>
                              <a:pt x="15" y="195"/>
                            </a:lnTo>
                            <a:lnTo>
                              <a:pt x="26" y="150"/>
                            </a:lnTo>
                            <a:lnTo>
                              <a:pt x="41" y="109"/>
                            </a:lnTo>
                            <a:lnTo>
                              <a:pt x="60" y="67"/>
                            </a:lnTo>
                            <a:lnTo>
                              <a:pt x="78" y="34"/>
                            </a:lnTo>
                            <a:lnTo>
                              <a:pt x="99" y="0"/>
                            </a:lnTo>
                            <a:lnTo>
                              <a:pt x="141" y="54"/>
                            </a:lnTo>
                            <a:lnTo>
                              <a:pt x="117" y="86"/>
                            </a:lnTo>
                            <a:lnTo>
                              <a:pt x="99" y="115"/>
                            </a:lnTo>
                            <a:lnTo>
                              <a:pt x="85" y="142"/>
                            </a:lnTo>
                            <a:lnTo>
                              <a:pt x="65" y="180"/>
                            </a:lnTo>
                            <a:lnTo>
                              <a:pt x="52" y="213"/>
                            </a:lnTo>
                            <a:lnTo>
                              <a:pt x="44" y="246"/>
                            </a:lnTo>
                            <a:lnTo>
                              <a:pt x="34" y="278"/>
                            </a:lnTo>
                            <a:lnTo>
                              <a:pt x="28" y="314"/>
                            </a:lnTo>
                            <a:lnTo>
                              <a:pt x="23" y="357"/>
                            </a:lnTo>
                            <a:lnTo>
                              <a:pt x="18" y="400"/>
                            </a:lnTo>
                            <a:lnTo>
                              <a:pt x="11" y="417"/>
                            </a:lnTo>
                            <a:lnTo>
                              <a:pt x="0" y="32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676" name=""/>
                  <p:cNvSpPr/>
                  <p:nvPr/>
                </p:nvSpPr>
                <p:spPr>
                  <a:xfrm flipH="1">
                    <a:off x="4309200" y="3249360"/>
                    <a:ext cx="398520" cy="380160"/>
                  </a:xfrm>
                  <a:prstGeom prst="ellipse">
                    <a:avLst/>
                  </a:prstGeom>
                  <a:noFill/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77" name=""/>
                  <p:cNvGrpSpPr/>
                  <p:nvPr/>
                </p:nvGrpSpPr>
                <p:grpSpPr>
                  <a:xfrm>
                    <a:off x="4325400" y="3217680"/>
                    <a:ext cx="398520" cy="380520"/>
                    <a:chOff x="4325400" y="3217680"/>
                    <a:chExt cx="398520" cy="380520"/>
                  </a:xfrm>
                </p:grpSpPr>
                <p:sp>
                  <p:nvSpPr>
                    <p:cNvPr id="678" name=""/>
                    <p:cNvSpPr/>
                    <p:nvPr/>
                  </p:nvSpPr>
                  <p:spPr>
                    <a:xfrm flipH="1">
                      <a:off x="4331880" y="3223800"/>
                      <a:ext cx="387360" cy="369360"/>
                    </a:xfrm>
                    <a:prstGeom prst="ellipse">
                      <a:avLst/>
                    </a:prstGeom>
                    <a:noFill/>
                    <a:ln w="14400">
                      <a:solidFill>
                        <a:srgbClr val="9f9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 flipH="1">
                      <a:off x="4325040" y="3217680"/>
                      <a:ext cx="398520" cy="380520"/>
                    </a:xfrm>
                    <a:prstGeom prst="ellipse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 flipH="1">
                      <a:off x="4337640" y="3230280"/>
                      <a:ext cx="374760" cy="356400"/>
                    </a:xfrm>
                    <a:prstGeom prst="ellipse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81" name=""/>
                <p:cNvGrpSpPr/>
                <p:nvPr/>
              </p:nvGrpSpPr>
              <p:grpSpPr>
                <a:xfrm>
                  <a:off x="4294440" y="3575880"/>
                  <a:ext cx="202680" cy="315360"/>
                  <a:chOff x="4294440" y="3575880"/>
                  <a:chExt cx="202680" cy="315360"/>
                </a:xfrm>
              </p:grpSpPr>
              <p:sp>
                <p:nvSpPr>
                  <p:cNvPr id="682" name=""/>
                  <p:cNvSpPr/>
                  <p:nvPr/>
                </p:nvSpPr>
                <p:spPr>
                  <a:xfrm flipH="1">
                    <a:off x="4300560" y="3591360"/>
                    <a:ext cx="19476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11" h="873">
                        <a:moveTo>
                          <a:pt x="0" y="65"/>
                        </a:moveTo>
                        <a:lnTo>
                          <a:pt x="433" y="873"/>
                        </a:lnTo>
                        <a:lnTo>
                          <a:pt x="611" y="783"/>
                        </a:lnTo>
                        <a:lnTo>
                          <a:pt x="175" y="0"/>
                        </a:lnTo>
                        <a:lnTo>
                          <a:pt x="0" y="65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 flipH="1">
                    <a:off x="4437360" y="3575880"/>
                    <a:ext cx="5832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38" y="13843"/>
                        </a:moveTo>
                        <a:arcTo wR="10800" hR="10800" stAng="9818105" swAng="1055423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38" y="13843"/>
                        </a:moveTo>
                        <a:arcTo wR="10800" hR="10800" stAng="9818105" swAng="10554234"/>
                      </a:path>
                    </a:pathLst>
                  </a:custGeom>
                  <a:solidFill>
                    <a:srgbClr val="5f3f1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 flipH="1">
                    <a:off x="4434480" y="3580200"/>
                    <a:ext cx="5940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59" y="11931"/>
                        </a:moveTo>
                        <a:arcTo wR="10800" hR="10800" stAng="10439460" swAng="1005444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59" y="11931"/>
                        </a:moveTo>
                        <a:arcTo wR="10800" hR="10800" stAng="10439460" swAng="10054443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 flipH="1">
                    <a:off x="4460400" y="3580200"/>
                    <a:ext cx="3636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223">
                        <a:moveTo>
                          <a:pt x="3" y="103"/>
                        </a:moveTo>
                        <a:lnTo>
                          <a:pt x="0" y="88"/>
                        </a:lnTo>
                        <a:lnTo>
                          <a:pt x="0" y="74"/>
                        </a:lnTo>
                        <a:lnTo>
                          <a:pt x="2" y="62"/>
                        </a:lnTo>
                        <a:lnTo>
                          <a:pt x="6" y="45"/>
                        </a:lnTo>
                        <a:lnTo>
                          <a:pt x="13" y="31"/>
                        </a:lnTo>
                        <a:lnTo>
                          <a:pt x="22" y="18"/>
                        </a:lnTo>
                        <a:lnTo>
                          <a:pt x="33" y="7"/>
                        </a:lnTo>
                        <a:lnTo>
                          <a:pt x="44" y="0"/>
                        </a:lnTo>
                        <a:lnTo>
                          <a:pt x="115" y="121"/>
                        </a:lnTo>
                        <a:lnTo>
                          <a:pt x="102" y="128"/>
                        </a:lnTo>
                        <a:lnTo>
                          <a:pt x="94" y="137"/>
                        </a:lnTo>
                        <a:lnTo>
                          <a:pt x="85" y="145"/>
                        </a:lnTo>
                        <a:lnTo>
                          <a:pt x="79" y="156"/>
                        </a:lnTo>
                        <a:lnTo>
                          <a:pt x="71" y="176"/>
                        </a:lnTo>
                        <a:lnTo>
                          <a:pt x="67" y="202"/>
                        </a:lnTo>
                        <a:lnTo>
                          <a:pt x="67" y="223"/>
                        </a:lnTo>
                        <a:lnTo>
                          <a:pt x="3" y="103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H="1">
                    <a:off x="4435920" y="3576960"/>
                    <a:ext cx="594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58" y="13146"/>
                        </a:moveTo>
                        <a:arcTo wR="10800" hR="10800" stAng="10047177" swAng="48759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58" y="13146"/>
                        </a:moveTo>
                        <a:arcTo wR="10800" hR="10800" stAng="10047177" swAng="4875948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flipH="1">
                    <a:off x="4415400" y="3615120"/>
                    <a:ext cx="594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3"/>
                        </a:moveTo>
                        <a:arcTo wR="10800" hR="10800" stAng="9986129" swAng="1042014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3"/>
                        </a:moveTo>
                        <a:arcTo wR="10800" hR="10800" stAng="9986129" swAng="10420145"/>
                      </a:path>
                    </a:pathLst>
                  </a:custGeom>
                  <a:solidFill>
                    <a:srgbClr val="7f3f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4411440" y="3619800"/>
                    <a:ext cx="61920" cy="61920"/>
                    <a:chOff x="4411440" y="3619800"/>
                    <a:chExt cx="61920" cy="61920"/>
                  </a:xfrm>
                </p:grpSpPr>
                <p:grpSp>
                  <p:nvGrpSpPr>
                    <p:cNvPr id="689" name=""/>
                    <p:cNvGrpSpPr/>
                    <p:nvPr/>
                  </p:nvGrpSpPr>
                  <p:grpSpPr>
                    <a:xfrm>
                      <a:off x="4414320" y="3619800"/>
                      <a:ext cx="59040" cy="55800"/>
                      <a:chOff x="4414320" y="3619800"/>
                      <a:chExt cx="59040" cy="55800"/>
                    </a:xfrm>
                  </p:grpSpPr>
                  <p:sp>
                    <p:nvSpPr>
                      <p:cNvPr id="690" name=""/>
                      <p:cNvSpPr/>
                      <p:nvPr/>
                    </p:nvSpPr>
                    <p:spPr>
                      <a:xfrm flipH="1">
                        <a:off x="4414320" y="3619800"/>
                        <a:ext cx="5904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301" y="13333"/>
                            </a:moveTo>
                            <a:arcTo wR="10800" hR="10800" stAng="9986129" swAng="10606913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301" y="13333"/>
                            </a:moveTo>
                            <a:arcTo wR="10800" hR="10800" stAng="9986129" swAng="10606913"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1" name=""/>
                      <p:cNvSpPr/>
                      <p:nvPr/>
                    </p:nvSpPr>
                    <p:spPr>
                      <a:xfrm flipH="1">
                        <a:off x="4414320" y="3619800"/>
                        <a:ext cx="5868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301" y="13333"/>
                            </a:moveTo>
                            <a:arcTo wR="10800" hR="10800" stAng="9986129" swAng="4570572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301" y="13333"/>
                            </a:moveTo>
                            <a:arcTo wR="10800" hR="10800" stAng="9986129" swAng="4570572"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2" name=""/>
                      <p:cNvSpPr/>
                      <p:nvPr/>
                    </p:nvSpPr>
                    <p:spPr>
                      <a:xfrm flipH="1">
                        <a:off x="4414680" y="3619800"/>
                        <a:ext cx="5760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6" y="13270"/>
                            </a:moveTo>
                            <a:arcTo wR="10800" hR="10800" stAng="10006785" swAng="1061132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6" y="13270"/>
                            </a:moveTo>
                            <a:arcTo wR="10800" hR="10800" stAng="10006785" swAng="10611320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93" name=""/>
                    <p:cNvSpPr/>
                    <p:nvPr/>
                  </p:nvSpPr>
                  <p:spPr>
                    <a:xfrm flipH="1">
                      <a:off x="4411440" y="3625920"/>
                      <a:ext cx="5760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6" y="13270"/>
                          </a:moveTo>
                          <a:arcTo wR="10800" hR="10800" stAng="10006785" swAng="1061132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6" y="13270"/>
                          </a:moveTo>
                          <a:arcTo wR="10800" hR="10800" stAng="10006785" swAng="10611320"/>
                        </a:path>
                      </a:pathLst>
                    </a:custGeom>
                    <a:solidFill>
                      <a:srgbClr val="7f3f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4405680" y="3630240"/>
                    <a:ext cx="61560" cy="62280"/>
                    <a:chOff x="4405680" y="3630240"/>
                    <a:chExt cx="61560" cy="62280"/>
                  </a:xfrm>
                </p:grpSpPr>
                <p:grpSp>
                  <p:nvGrpSpPr>
                    <p:cNvPr id="695" name=""/>
                    <p:cNvGrpSpPr/>
                    <p:nvPr/>
                  </p:nvGrpSpPr>
                  <p:grpSpPr>
                    <a:xfrm>
                      <a:off x="4407840" y="3630240"/>
                      <a:ext cx="59400" cy="57240"/>
                      <a:chOff x="4407840" y="3630240"/>
                      <a:chExt cx="59400" cy="57240"/>
                    </a:xfrm>
                  </p:grpSpPr>
                  <p:sp>
                    <p:nvSpPr>
                      <p:cNvPr id="696" name=""/>
                      <p:cNvSpPr/>
                      <p:nvPr/>
                    </p:nvSpPr>
                    <p:spPr>
                      <a:xfrm flipH="1">
                        <a:off x="4408200" y="3630960"/>
                        <a:ext cx="5868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5" y="13266"/>
                            </a:moveTo>
                            <a:arcTo wR="10800" hR="10800" stAng="10007935" swAng="108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5" y="13266"/>
                            </a:moveTo>
                            <a:arcTo wR="10800" hR="10800" stAng="10007935" swAng="10800000"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7" name=""/>
                      <p:cNvSpPr/>
                      <p:nvPr/>
                    </p:nvSpPr>
                    <p:spPr>
                      <a:xfrm flipH="1">
                        <a:off x="4407480" y="3630240"/>
                        <a:ext cx="59400" cy="5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5" y="13266"/>
                            </a:moveTo>
                            <a:arcTo wR="10800" hR="10800" stAng="10007935" swAng="4415176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5" y="13266"/>
                            </a:moveTo>
                            <a:arcTo wR="10800" hR="10800" stAng="10007935" swAng="4415176"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8" name=""/>
                      <p:cNvSpPr/>
                      <p:nvPr/>
                    </p:nvSpPr>
                    <p:spPr>
                      <a:xfrm flipH="1">
                        <a:off x="4408920" y="3630960"/>
                        <a:ext cx="56880" cy="5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44" y="13084"/>
                            </a:moveTo>
                            <a:arcTo wR="10800" hR="10800" stAng="10067453" swAng="1071685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44" y="13084"/>
                            </a:moveTo>
                            <a:arcTo wR="10800" hR="10800" stAng="10067453" swAng="10716857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99" name=""/>
                    <p:cNvSpPr/>
                    <p:nvPr/>
                  </p:nvSpPr>
                  <p:spPr>
                    <a:xfrm flipH="1">
                      <a:off x="4405320" y="3637080"/>
                      <a:ext cx="5868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301" y="13333"/>
                          </a:moveTo>
                          <a:arcTo wR="10800" hR="10800" stAng="9986129" swAng="108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301" y="13333"/>
                          </a:moveTo>
                          <a:arcTo wR="10800" hR="10800" stAng="9986129" swAng="10800000"/>
                        </a:path>
                      </a:pathLst>
                    </a:custGeom>
                    <a:solidFill>
                      <a:srgbClr val="7f3f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0" name=""/>
                  <p:cNvGrpSpPr/>
                  <p:nvPr/>
                </p:nvGrpSpPr>
                <p:grpSpPr>
                  <a:xfrm>
                    <a:off x="4401360" y="3641400"/>
                    <a:ext cx="59400" cy="56880"/>
                    <a:chOff x="4401360" y="3641400"/>
                    <a:chExt cx="59400" cy="56880"/>
                  </a:xfrm>
                </p:grpSpPr>
                <p:sp>
                  <p:nvSpPr>
                    <p:cNvPr id="701" name=""/>
                    <p:cNvSpPr/>
                    <p:nvPr/>
                  </p:nvSpPr>
                  <p:spPr>
                    <a:xfrm flipH="1">
                      <a:off x="4401720" y="3642120"/>
                      <a:ext cx="586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3" y="12671"/>
                          </a:moveTo>
                          <a:arcTo wR="10800" hR="10800" stAng="10201338" swAng="1060659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3" y="12671"/>
                          </a:moveTo>
                          <a:arcTo wR="10800" hR="10800" stAng="10201338" swAng="10606598"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 flipH="1">
                      <a:off x="4401000" y="3641400"/>
                      <a:ext cx="59400" cy="5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3" y="12671"/>
                          </a:moveTo>
                          <a:arcTo wR="10800" hR="10800" stAng="10201338" swAng="422177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3" y="12671"/>
                          </a:moveTo>
                          <a:arcTo wR="10800" hR="10800" stAng="10201338" swAng="4221774"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3" name=""/>
                  <p:cNvGrpSpPr/>
                  <p:nvPr/>
                </p:nvGrpSpPr>
                <p:grpSpPr>
                  <a:xfrm>
                    <a:off x="4399200" y="3642120"/>
                    <a:ext cx="61560" cy="61200"/>
                    <a:chOff x="4399200" y="3642120"/>
                    <a:chExt cx="61560" cy="61200"/>
                  </a:xfrm>
                </p:grpSpPr>
                <p:sp>
                  <p:nvSpPr>
                    <p:cNvPr id="704" name=""/>
                    <p:cNvSpPr/>
                    <p:nvPr/>
                  </p:nvSpPr>
                  <p:spPr>
                    <a:xfrm flipH="1">
                      <a:off x="4401720" y="3642120"/>
                      <a:ext cx="586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5" y="13266"/>
                          </a:moveTo>
                          <a:arcTo wR="10800" hR="10800" stAng="10007935" swAng="108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5" y="13266"/>
                          </a:moveTo>
                          <a:arcTo wR="10800" hR="10800" stAng="10007935" swAng="10800000"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 flipH="1">
                      <a:off x="4398840" y="3648240"/>
                      <a:ext cx="5868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73" y="12723"/>
                          </a:moveTo>
                          <a:arcTo wR="10800" hR="10800" stAng="10184591" swAng="106015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73" y="12723"/>
                          </a:moveTo>
                          <a:arcTo wR="10800" hR="10800" stAng="10184591" swAng="10601538"/>
                        </a:path>
                      </a:pathLst>
                    </a:custGeom>
                    <a:solidFill>
                      <a:srgbClr val="7f3f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6" name=""/>
                  <p:cNvGrpSpPr/>
                  <p:nvPr/>
                </p:nvGrpSpPr>
                <p:grpSpPr>
                  <a:xfrm>
                    <a:off x="4301280" y="3593160"/>
                    <a:ext cx="192960" cy="276840"/>
                    <a:chOff x="4301280" y="3593160"/>
                    <a:chExt cx="192960" cy="276840"/>
                  </a:xfrm>
                </p:grpSpPr>
                <p:sp>
                  <p:nvSpPr>
                    <p:cNvPr id="707" name=""/>
                    <p:cNvSpPr/>
                    <p:nvPr/>
                  </p:nvSpPr>
                  <p:spPr>
                    <a:xfrm flipH="1">
                      <a:off x="4301280" y="3593160"/>
                      <a:ext cx="137520" cy="2469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 flipH="1">
                      <a:off x="4356360" y="3611520"/>
                      <a:ext cx="137880" cy="258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9" name=""/>
                  <p:cNvGrpSpPr/>
                  <p:nvPr/>
                </p:nvGrpSpPr>
                <p:grpSpPr>
                  <a:xfrm>
                    <a:off x="4393080" y="3652560"/>
                    <a:ext cx="61200" cy="60840"/>
                    <a:chOff x="4393080" y="3652560"/>
                    <a:chExt cx="61200" cy="60840"/>
                  </a:xfrm>
                </p:grpSpPr>
                <p:grpSp>
                  <p:nvGrpSpPr>
                    <p:cNvPr id="710" name=""/>
                    <p:cNvGrpSpPr/>
                    <p:nvPr/>
                  </p:nvGrpSpPr>
                  <p:grpSpPr>
                    <a:xfrm>
                      <a:off x="4395600" y="3652560"/>
                      <a:ext cx="58680" cy="56880"/>
                      <a:chOff x="4395600" y="3652560"/>
                      <a:chExt cx="58680" cy="56880"/>
                    </a:xfrm>
                  </p:grpSpPr>
                  <p:sp>
                    <p:nvSpPr>
                      <p:cNvPr id="711" name=""/>
                      <p:cNvSpPr/>
                      <p:nvPr/>
                    </p:nvSpPr>
                    <p:spPr>
                      <a:xfrm flipH="1">
                        <a:off x="4395240" y="3653280"/>
                        <a:ext cx="5868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3" y="12671"/>
                            </a:moveTo>
                            <a:arcTo wR="10800" hR="10800" stAng="10201338" swAng="10606598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3" y="12671"/>
                            </a:moveTo>
                            <a:arcTo wR="10800" hR="10800" stAng="10201338" swAng="10606598"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2" name=""/>
                      <p:cNvSpPr/>
                      <p:nvPr/>
                    </p:nvSpPr>
                    <p:spPr>
                      <a:xfrm flipH="1">
                        <a:off x="4395240" y="3652560"/>
                        <a:ext cx="58680" cy="5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3" y="12671"/>
                            </a:moveTo>
                            <a:arcTo wR="10800" hR="10800" stAng="10201338" swAng="422177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3" y="12671"/>
                            </a:moveTo>
                            <a:arcTo wR="10800" hR="10800" stAng="10201338" swAng="4221774"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080" bIns="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13" name=""/>
                    <p:cNvSpPr/>
                    <p:nvPr/>
                  </p:nvSpPr>
                  <p:spPr>
                    <a:xfrm flipH="1">
                      <a:off x="4395240" y="3653280"/>
                      <a:ext cx="586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73" y="12723"/>
                          </a:moveTo>
                          <a:arcTo wR="10800" hR="10800" stAng="10184591" swAng="106015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73" y="12723"/>
                          </a:moveTo>
                          <a:arcTo wR="10800" hR="10800" stAng="10184591" swAng="10601538"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 flipH="1">
                      <a:off x="4392720" y="3657600"/>
                      <a:ext cx="586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5" y="13266"/>
                          </a:moveTo>
                          <a:arcTo wR="10800" hR="10800" stAng="10007935" swAng="108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5" y="13266"/>
                          </a:moveTo>
                          <a:arcTo wR="10800" hR="10800" stAng="10007935" swAng="10800000"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15" name=""/>
                  <p:cNvSpPr/>
                  <p:nvPr/>
                </p:nvSpPr>
                <p:spPr>
                  <a:xfrm flipH="1">
                    <a:off x="4334040" y="3659760"/>
                    <a:ext cx="1188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7" h="645">
                        <a:moveTo>
                          <a:pt x="48" y="0"/>
                        </a:moveTo>
                        <a:lnTo>
                          <a:pt x="34" y="9"/>
                        </a:lnTo>
                        <a:lnTo>
                          <a:pt x="23" y="18"/>
                        </a:lnTo>
                        <a:lnTo>
                          <a:pt x="13" y="28"/>
                        </a:lnTo>
                        <a:lnTo>
                          <a:pt x="9" y="39"/>
                        </a:lnTo>
                        <a:lnTo>
                          <a:pt x="4" y="51"/>
                        </a:lnTo>
                        <a:lnTo>
                          <a:pt x="1" y="63"/>
                        </a:lnTo>
                        <a:lnTo>
                          <a:pt x="0" y="77"/>
                        </a:lnTo>
                        <a:lnTo>
                          <a:pt x="0" y="93"/>
                        </a:lnTo>
                        <a:lnTo>
                          <a:pt x="292" y="645"/>
                        </a:lnTo>
                        <a:lnTo>
                          <a:pt x="377" y="58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 flipH="1">
                    <a:off x="4294440" y="3829680"/>
                    <a:ext cx="64800" cy="61560"/>
                  </a:xfrm>
                  <a:prstGeom prst="ellipse">
                    <a:avLst/>
                  </a:prstGeom>
                  <a:solidFill>
                    <a:srgbClr val="7f5f3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17" name=""/>
              <p:cNvSpPr/>
              <p:nvPr/>
            </p:nvSpPr>
            <p:spPr>
              <a:xfrm>
                <a:off x="4724280" y="3674880"/>
                <a:ext cx="2666880" cy="43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imes New Roman"/>
                  </a:rPr>
                  <a:t>Zoom on actual choi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8" name=""/>
          <p:cNvSpPr/>
          <p:nvPr/>
        </p:nvSpPr>
        <p:spPr>
          <a:xfrm>
            <a:off x="-152280" y="5029200"/>
            <a:ext cx="80769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Archivist: attached to &amp; exploit local reposito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Mediator: distribute queries &amp; combine partial resul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620120" y="809640"/>
            <a:ext cx="1523880" cy="52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porate mem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RD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G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E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rganizatio. approa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950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Architectu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b-societies organiz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ntology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Times New Roman"/>
              </a:rPr>
              <a:t>Document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nnection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User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mma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E4400-024A-4925-8D77-E52BF5CFB2B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8160" y="-12960"/>
            <a:ext cx="910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Dedicated sub-societies (connection)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-152640" y="609120"/>
            <a:ext cx="87627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The Connection dedicated sub-society: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Yellow pages service for agent capabiliti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ederation allows configuring the MA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500040" y="2362320"/>
            <a:ext cx="7043760" cy="2876400"/>
            <a:chOff x="500040" y="2362320"/>
            <a:chExt cx="7043760" cy="2876400"/>
          </a:xfrm>
        </p:grpSpPr>
        <p:sp>
          <p:nvSpPr>
            <p:cNvPr id="723" name=""/>
            <p:cNvSpPr/>
            <p:nvPr/>
          </p:nvSpPr>
          <p:spPr>
            <a:xfrm>
              <a:off x="500040" y="2362320"/>
              <a:ext cx="317808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587520" y="2489040"/>
              <a:ext cx="446040" cy="474840"/>
              <a:chOff x="587520" y="2489040"/>
              <a:chExt cx="446040" cy="474840"/>
            </a:xfrm>
          </p:grpSpPr>
          <p:grpSp>
            <p:nvGrpSpPr>
              <p:cNvPr id="725" name=""/>
              <p:cNvGrpSpPr/>
              <p:nvPr/>
            </p:nvGrpSpPr>
            <p:grpSpPr>
              <a:xfrm>
                <a:off x="739800" y="2489040"/>
                <a:ext cx="293760" cy="388800"/>
                <a:chOff x="739800" y="2489040"/>
                <a:chExt cx="293760" cy="38880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739800" y="268344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 flipV="1">
                  <a:off x="739800" y="248904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" name=""/>
              <p:cNvGrpSpPr/>
              <p:nvPr/>
            </p:nvGrpSpPr>
            <p:grpSpPr>
              <a:xfrm>
                <a:off x="685800" y="2517840"/>
                <a:ext cx="293760" cy="388800"/>
                <a:chOff x="685800" y="2517840"/>
                <a:chExt cx="293760" cy="388800"/>
              </a:xfrm>
            </p:grpSpPr>
            <p:sp>
              <p:nvSpPr>
                <p:cNvPr id="729" name=""/>
                <p:cNvSpPr/>
                <p:nvPr/>
              </p:nvSpPr>
              <p:spPr>
                <a:xfrm>
                  <a:off x="685800" y="271224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flipV="1">
                  <a:off x="685800" y="251784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" name=""/>
              <p:cNvGrpSpPr/>
              <p:nvPr/>
            </p:nvGrpSpPr>
            <p:grpSpPr>
              <a:xfrm>
                <a:off x="641520" y="2546280"/>
                <a:ext cx="293400" cy="388800"/>
                <a:chOff x="641520" y="2546280"/>
                <a:chExt cx="293400" cy="38880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641520" y="274068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flipV="1">
                  <a:off x="641520" y="254628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4" name=""/>
              <p:cNvGrpSpPr/>
              <p:nvPr/>
            </p:nvGrpSpPr>
            <p:grpSpPr>
              <a:xfrm>
                <a:off x="587520" y="2575080"/>
                <a:ext cx="293400" cy="388800"/>
                <a:chOff x="587520" y="2575080"/>
                <a:chExt cx="293400" cy="388800"/>
              </a:xfrm>
            </p:grpSpPr>
            <p:sp>
              <p:nvSpPr>
                <p:cNvPr id="735" name=""/>
                <p:cNvSpPr/>
                <p:nvPr/>
              </p:nvSpPr>
              <p:spPr>
                <a:xfrm>
                  <a:off x="587520" y="276948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flipV="1">
                  <a:off x="587520" y="257508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37" name=""/>
            <p:cNvSpPr/>
            <p:nvPr/>
          </p:nvSpPr>
          <p:spPr>
            <a:xfrm>
              <a:off x="1090440" y="2379600"/>
              <a:ext cx="2587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Ontology 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465280" y="4503600"/>
              <a:ext cx="3178440" cy="72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2682720" y="4641480"/>
              <a:ext cx="408240" cy="473400"/>
              <a:chOff x="2682720" y="4641480"/>
              <a:chExt cx="408240" cy="473400"/>
            </a:xfrm>
          </p:grpSpPr>
          <p:grpSp>
            <p:nvGrpSpPr>
              <p:cNvPr id="740" name=""/>
              <p:cNvGrpSpPr/>
              <p:nvPr/>
            </p:nvGrpSpPr>
            <p:grpSpPr>
              <a:xfrm>
                <a:off x="2821680" y="4641480"/>
                <a:ext cx="269280" cy="388440"/>
                <a:chOff x="2821680" y="4641480"/>
                <a:chExt cx="269280" cy="388440"/>
              </a:xfrm>
            </p:grpSpPr>
            <p:sp>
              <p:nvSpPr>
                <p:cNvPr id="741" name=""/>
                <p:cNvSpPr/>
                <p:nvPr/>
              </p:nvSpPr>
              <p:spPr>
                <a:xfrm>
                  <a:off x="2821680" y="483588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V="1">
                  <a:off x="2821680" y="464112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3" name=""/>
              <p:cNvGrpSpPr/>
              <p:nvPr/>
            </p:nvGrpSpPr>
            <p:grpSpPr>
              <a:xfrm>
                <a:off x="2772360" y="4669920"/>
                <a:ext cx="269280" cy="388440"/>
                <a:chOff x="2772360" y="4669920"/>
                <a:chExt cx="269280" cy="388440"/>
              </a:xfrm>
            </p:grpSpPr>
            <p:sp>
              <p:nvSpPr>
                <p:cNvPr id="744" name=""/>
                <p:cNvSpPr/>
                <p:nvPr/>
              </p:nvSpPr>
              <p:spPr>
                <a:xfrm>
                  <a:off x="2772360" y="486432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 flipV="1">
                  <a:off x="2772360" y="466956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6" name=""/>
              <p:cNvGrpSpPr/>
              <p:nvPr/>
            </p:nvGrpSpPr>
            <p:grpSpPr>
              <a:xfrm>
                <a:off x="2731680" y="4698000"/>
                <a:ext cx="269280" cy="388440"/>
                <a:chOff x="2731680" y="4698000"/>
                <a:chExt cx="269280" cy="38844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2731680" y="489240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V="1">
                  <a:off x="2731680" y="469764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9" name=""/>
              <p:cNvGrpSpPr/>
              <p:nvPr/>
            </p:nvGrpSpPr>
            <p:grpSpPr>
              <a:xfrm>
                <a:off x="2682720" y="4726440"/>
                <a:ext cx="269280" cy="388440"/>
                <a:chOff x="2682720" y="4726440"/>
                <a:chExt cx="269280" cy="38844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2682720" y="492084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flipV="1">
                  <a:off x="2682720" y="472608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2" name=""/>
            <p:cNvSpPr/>
            <p:nvPr/>
          </p:nvSpPr>
          <p:spPr>
            <a:xfrm>
              <a:off x="3203640" y="4533840"/>
              <a:ext cx="24019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 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363920" y="2362320"/>
              <a:ext cx="317988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4583160" y="2476440"/>
              <a:ext cx="412560" cy="474480"/>
              <a:chOff x="4583160" y="2476440"/>
              <a:chExt cx="412560" cy="474480"/>
            </a:xfrm>
          </p:grpSpPr>
          <p:grpSp>
            <p:nvGrpSpPr>
              <p:cNvPr id="755" name=""/>
              <p:cNvGrpSpPr/>
              <p:nvPr/>
            </p:nvGrpSpPr>
            <p:grpSpPr>
              <a:xfrm>
                <a:off x="4724280" y="2476440"/>
                <a:ext cx="271440" cy="388800"/>
                <a:chOff x="4724280" y="2476440"/>
                <a:chExt cx="271440" cy="38880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4724280" y="267084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V="1">
                  <a:off x="4724280" y="247644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8" name=""/>
              <p:cNvGrpSpPr/>
              <p:nvPr/>
            </p:nvGrpSpPr>
            <p:grpSpPr>
              <a:xfrm>
                <a:off x="4673520" y="2505240"/>
                <a:ext cx="273240" cy="388800"/>
                <a:chOff x="4673520" y="2505240"/>
                <a:chExt cx="273240" cy="388800"/>
              </a:xfrm>
            </p:grpSpPr>
            <p:sp>
              <p:nvSpPr>
                <p:cNvPr id="759" name=""/>
                <p:cNvSpPr/>
                <p:nvPr/>
              </p:nvSpPr>
              <p:spPr>
                <a:xfrm>
                  <a:off x="4673520" y="2699640"/>
                  <a:ext cx="2732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flipV="1">
                  <a:off x="4673520" y="2505240"/>
                  <a:ext cx="2732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1" name=""/>
              <p:cNvGrpSpPr/>
              <p:nvPr/>
            </p:nvGrpSpPr>
            <p:grpSpPr>
              <a:xfrm>
                <a:off x="4632480" y="2533680"/>
                <a:ext cx="272880" cy="388800"/>
                <a:chOff x="4632480" y="2533680"/>
                <a:chExt cx="272880" cy="38880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4632480" y="2728080"/>
                  <a:ext cx="2728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flipV="1">
                  <a:off x="4632480" y="2533680"/>
                  <a:ext cx="2728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4" name=""/>
              <p:cNvGrpSpPr/>
              <p:nvPr/>
            </p:nvGrpSpPr>
            <p:grpSpPr>
              <a:xfrm>
                <a:off x="4583160" y="2562120"/>
                <a:ext cx="271440" cy="388800"/>
                <a:chOff x="4583160" y="2562120"/>
                <a:chExt cx="271440" cy="38880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4583160" y="275652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V="1">
                  <a:off x="4583160" y="256212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67" name=""/>
            <p:cNvSpPr/>
            <p:nvPr/>
          </p:nvSpPr>
          <p:spPr>
            <a:xfrm>
              <a:off x="4840200" y="2374920"/>
              <a:ext cx="26924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cument 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465280" y="3443400"/>
              <a:ext cx="317844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2670120" y="3579480"/>
              <a:ext cx="420840" cy="473400"/>
              <a:chOff x="2670120" y="3579480"/>
              <a:chExt cx="420840" cy="473400"/>
            </a:xfrm>
          </p:grpSpPr>
          <p:grpSp>
            <p:nvGrpSpPr>
              <p:cNvPr id="770" name=""/>
              <p:cNvGrpSpPr/>
              <p:nvPr/>
            </p:nvGrpSpPr>
            <p:grpSpPr>
              <a:xfrm>
                <a:off x="2813400" y="3579480"/>
                <a:ext cx="277560" cy="388440"/>
                <a:chOff x="2813400" y="3579480"/>
                <a:chExt cx="277560" cy="38844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2813400" y="377388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V="1">
                  <a:off x="2813400" y="357912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3" name=""/>
              <p:cNvGrpSpPr/>
              <p:nvPr/>
            </p:nvGrpSpPr>
            <p:grpSpPr>
              <a:xfrm>
                <a:off x="2762640" y="3607920"/>
                <a:ext cx="277560" cy="388440"/>
                <a:chOff x="2762640" y="3607920"/>
                <a:chExt cx="277560" cy="38844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2762640" y="380232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flipV="1">
                  <a:off x="2762640" y="360756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6" name=""/>
              <p:cNvGrpSpPr/>
              <p:nvPr/>
            </p:nvGrpSpPr>
            <p:grpSpPr>
              <a:xfrm>
                <a:off x="2720520" y="3636000"/>
                <a:ext cx="277560" cy="388440"/>
                <a:chOff x="2720520" y="3636000"/>
                <a:chExt cx="277560" cy="388440"/>
              </a:xfrm>
            </p:grpSpPr>
            <p:sp>
              <p:nvSpPr>
                <p:cNvPr id="777" name=""/>
                <p:cNvSpPr/>
                <p:nvPr/>
              </p:nvSpPr>
              <p:spPr>
                <a:xfrm>
                  <a:off x="2720520" y="383040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V="1">
                  <a:off x="2720520" y="363564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9" name=""/>
              <p:cNvGrpSpPr/>
              <p:nvPr/>
            </p:nvGrpSpPr>
            <p:grpSpPr>
              <a:xfrm>
                <a:off x="2670120" y="3664440"/>
                <a:ext cx="277560" cy="388440"/>
                <a:chOff x="2670120" y="3664440"/>
                <a:chExt cx="277560" cy="38844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2670120" y="385884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V="1">
                  <a:off x="2670120" y="366408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2" name=""/>
            <p:cNvSpPr/>
            <p:nvPr/>
          </p:nvSpPr>
          <p:spPr>
            <a:xfrm>
              <a:off x="3130560" y="3473280"/>
              <a:ext cx="28083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Connection 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760840" y="2940120"/>
              <a:ext cx="738000" cy="614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599000" y="4040280"/>
              <a:ext cx="0" cy="560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4978080" y="2940120"/>
              <a:ext cx="739800" cy="614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7620120" y="809640"/>
            <a:ext cx="1523880" cy="52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porate mem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RD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G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E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rganizatio. approa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950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Architectu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b-societies organiz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ntology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Document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Times New Roman"/>
              </a:rPr>
              <a:t>Connection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User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mma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8E4FE-CB2D-44BD-B75A-48A1D3C747C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8160" y="-12960"/>
            <a:ext cx="910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Dedicated sub-societies (connection)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-152640" y="609120"/>
            <a:ext cx="87627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The Connection dedicated sub-society: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Yellow pages service for agent capabiliti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ederation allows configuring the MA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2465280" y="3443400"/>
            <a:ext cx="3473640" cy="734760"/>
            <a:chOff x="2465280" y="3443400"/>
            <a:chExt cx="3473640" cy="734760"/>
          </a:xfrm>
        </p:grpSpPr>
        <p:sp>
          <p:nvSpPr>
            <p:cNvPr id="790" name=""/>
            <p:cNvSpPr/>
            <p:nvPr/>
          </p:nvSpPr>
          <p:spPr>
            <a:xfrm>
              <a:off x="2465280" y="3443400"/>
              <a:ext cx="317844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2670120" y="3579480"/>
              <a:ext cx="420840" cy="473400"/>
              <a:chOff x="2670120" y="3579480"/>
              <a:chExt cx="420840" cy="473400"/>
            </a:xfrm>
          </p:grpSpPr>
          <p:grpSp>
            <p:nvGrpSpPr>
              <p:cNvPr id="792" name=""/>
              <p:cNvGrpSpPr/>
              <p:nvPr/>
            </p:nvGrpSpPr>
            <p:grpSpPr>
              <a:xfrm>
                <a:off x="2813400" y="3579480"/>
                <a:ext cx="277560" cy="388440"/>
                <a:chOff x="2813400" y="3579480"/>
                <a:chExt cx="277560" cy="38844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2813400" y="377388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V="1">
                  <a:off x="2813400" y="357912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2762640" y="3607920"/>
                <a:ext cx="277560" cy="388440"/>
                <a:chOff x="2762640" y="3607920"/>
                <a:chExt cx="277560" cy="38844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2762640" y="380232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V="1">
                  <a:off x="2762640" y="360756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2720520" y="3636000"/>
                <a:ext cx="277560" cy="388440"/>
                <a:chOff x="2720520" y="3636000"/>
                <a:chExt cx="277560" cy="38844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2720520" y="383040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flipV="1">
                  <a:off x="2720520" y="363564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2670120" y="3664440"/>
                <a:ext cx="277560" cy="388440"/>
                <a:chOff x="2670120" y="3664440"/>
                <a:chExt cx="277560" cy="38844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2670120" y="385884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V="1">
                  <a:off x="2670120" y="366408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4" name=""/>
            <p:cNvSpPr/>
            <p:nvPr/>
          </p:nvSpPr>
          <p:spPr>
            <a:xfrm>
              <a:off x="3130560" y="3473280"/>
              <a:ext cx="28083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Connection 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75960" y="4076280"/>
            <a:ext cx="3956760" cy="2553120"/>
            <a:chOff x="75960" y="4076280"/>
            <a:chExt cx="3956760" cy="2553120"/>
          </a:xfrm>
        </p:grpSpPr>
        <p:grpSp>
          <p:nvGrpSpPr>
            <p:cNvPr id="806" name=""/>
            <p:cNvGrpSpPr/>
            <p:nvPr/>
          </p:nvGrpSpPr>
          <p:grpSpPr>
            <a:xfrm>
              <a:off x="75960" y="5008680"/>
              <a:ext cx="3840480" cy="1620720"/>
              <a:chOff x="75960" y="5008680"/>
              <a:chExt cx="3840480" cy="1620720"/>
            </a:xfrm>
          </p:grpSpPr>
          <p:grpSp>
            <p:nvGrpSpPr>
              <p:cNvPr id="807" name=""/>
              <p:cNvGrpSpPr/>
              <p:nvPr/>
            </p:nvGrpSpPr>
            <p:grpSpPr>
              <a:xfrm>
                <a:off x="335160" y="5008680"/>
                <a:ext cx="3581280" cy="1620720"/>
                <a:chOff x="335160" y="5008680"/>
                <a:chExt cx="3581280" cy="162072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335160" y="5486400"/>
                  <a:ext cx="3581280" cy="1143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9" name=""/>
                <p:cNvGrpSpPr/>
                <p:nvPr/>
              </p:nvGrpSpPr>
              <p:grpSpPr>
                <a:xfrm>
                  <a:off x="2036880" y="6083280"/>
                  <a:ext cx="228600" cy="388800"/>
                  <a:chOff x="2036880" y="6083280"/>
                  <a:chExt cx="228600" cy="388800"/>
                </a:xfrm>
              </p:grpSpPr>
              <p:sp>
                <p:nvSpPr>
                  <p:cNvPr id="810" name=""/>
                  <p:cNvSpPr/>
                  <p:nvPr/>
                </p:nvSpPr>
                <p:spPr>
                  <a:xfrm>
                    <a:off x="2036880" y="627768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flipV="1">
                    <a:off x="2036880" y="608328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2" name=""/>
                <p:cNvGrpSpPr/>
                <p:nvPr/>
              </p:nvGrpSpPr>
              <p:grpSpPr>
                <a:xfrm>
                  <a:off x="2468880" y="5580000"/>
                  <a:ext cx="228600" cy="388800"/>
                  <a:chOff x="2468880" y="5580000"/>
                  <a:chExt cx="228600" cy="38880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>
                    <a:off x="2468880" y="57744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 flipV="1">
                    <a:off x="2468880" y="55800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5" name=""/>
                <p:cNvGrpSpPr/>
                <p:nvPr/>
              </p:nvGrpSpPr>
              <p:grpSpPr>
                <a:xfrm>
                  <a:off x="3002040" y="6172200"/>
                  <a:ext cx="228600" cy="388800"/>
                  <a:chOff x="3002040" y="6172200"/>
                  <a:chExt cx="228600" cy="388800"/>
                </a:xfrm>
              </p:grpSpPr>
              <p:sp>
                <p:nvSpPr>
                  <p:cNvPr id="816" name=""/>
                  <p:cNvSpPr/>
                  <p:nvPr/>
                </p:nvSpPr>
                <p:spPr>
                  <a:xfrm>
                    <a:off x="3002040" y="63666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flipV="1">
                    <a:off x="3002040" y="61722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8" name=""/>
                <p:cNvGrpSpPr/>
                <p:nvPr/>
              </p:nvGrpSpPr>
              <p:grpSpPr>
                <a:xfrm>
                  <a:off x="3459240" y="6189840"/>
                  <a:ext cx="228600" cy="388800"/>
                  <a:chOff x="3459240" y="6189840"/>
                  <a:chExt cx="228600" cy="388800"/>
                </a:xfrm>
              </p:grpSpPr>
              <p:sp>
                <p:nvSpPr>
                  <p:cNvPr id="819" name=""/>
                  <p:cNvSpPr/>
                  <p:nvPr/>
                </p:nvSpPr>
                <p:spPr>
                  <a:xfrm>
                    <a:off x="3459240" y="63842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flipV="1">
                    <a:off x="3459240" y="61898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1" name=""/>
                <p:cNvSpPr/>
                <p:nvPr/>
              </p:nvSpPr>
              <p:spPr>
                <a:xfrm>
                  <a:off x="411480" y="5580000"/>
                  <a:ext cx="14475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ooperativ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esour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edicat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V="1">
                  <a:off x="2316240" y="6006960"/>
                  <a:ext cx="228600" cy="1522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 flipH="1" flipV="1">
                  <a:off x="2621160" y="6007320"/>
                  <a:ext cx="380880" cy="30456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4" name=""/>
                <p:cNvGrpSpPr/>
                <p:nvPr/>
              </p:nvGrpSpPr>
              <p:grpSpPr>
                <a:xfrm>
                  <a:off x="3230640" y="5656320"/>
                  <a:ext cx="228600" cy="388800"/>
                  <a:chOff x="3230640" y="5656320"/>
                  <a:chExt cx="228600" cy="388800"/>
                </a:xfrm>
              </p:grpSpPr>
              <p:sp>
                <p:nvSpPr>
                  <p:cNvPr id="825" name=""/>
                  <p:cNvSpPr/>
                  <p:nvPr/>
                </p:nvSpPr>
                <p:spPr>
                  <a:xfrm>
                    <a:off x="3230640" y="585072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 flipV="1">
                    <a:off x="3230640" y="565632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7" name=""/>
                <p:cNvSpPr/>
                <p:nvPr/>
              </p:nvSpPr>
              <p:spPr>
                <a:xfrm flipH="1" flipV="1">
                  <a:off x="2697120" y="5808600"/>
                  <a:ext cx="533160" cy="7632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8" name=""/>
                <p:cNvGrpSpPr/>
                <p:nvPr/>
              </p:nvGrpSpPr>
              <p:grpSpPr>
                <a:xfrm>
                  <a:off x="2468880" y="6189840"/>
                  <a:ext cx="228600" cy="388800"/>
                  <a:chOff x="2468880" y="6189840"/>
                  <a:chExt cx="228600" cy="388800"/>
                </a:xfrm>
              </p:grpSpPr>
              <p:sp>
                <p:nvSpPr>
                  <p:cNvPr id="829" name=""/>
                  <p:cNvSpPr/>
                  <p:nvPr/>
                </p:nvSpPr>
                <p:spPr>
                  <a:xfrm>
                    <a:off x="2468880" y="63842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flipV="1">
                    <a:off x="2468880" y="61898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1" name=""/>
                <p:cNvGrpSpPr/>
                <p:nvPr/>
              </p:nvGrpSpPr>
              <p:grpSpPr>
                <a:xfrm>
                  <a:off x="2100600" y="5546880"/>
                  <a:ext cx="228600" cy="388800"/>
                  <a:chOff x="2100600" y="5546880"/>
                  <a:chExt cx="228600" cy="388800"/>
                </a:xfrm>
              </p:grpSpPr>
              <p:sp>
                <p:nvSpPr>
                  <p:cNvPr id="832" name=""/>
                  <p:cNvSpPr/>
                  <p:nvPr/>
                </p:nvSpPr>
                <p:spPr>
                  <a:xfrm>
                    <a:off x="2100600" y="574128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 flipV="1">
                    <a:off x="2100600" y="554688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4" name=""/>
                <p:cNvGrpSpPr/>
                <p:nvPr/>
              </p:nvGrpSpPr>
              <p:grpSpPr>
                <a:xfrm>
                  <a:off x="2392560" y="5008680"/>
                  <a:ext cx="380880" cy="545760"/>
                  <a:chOff x="2392560" y="5008680"/>
                  <a:chExt cx="380880" cy="545760"/>
                </a:xfrm>
              </p:grpSpPr>
              <p:sp>
                <p:nvSpPr>
                  <p:cNvPr id="835" name=""/>
                  <p:cNvSpPr/>
                  <p:nvPr/>
                </p:nvSpPr>
                <p:spPr>
                  <a:xfrm flipV="1">
                    <a:off x="2392560" y="5025960"/>
                    <a:ext cx="203040" cy="528480"/>
                  </a:xfrm>
                  <a:prstGeom prst="upArrow">
                    <a:avLst>
                      <a:gd name="adj1" fmla="val 50000"/>
                      <a:gd name="adj2" fmla="val 65071"/>
                    </a:avLst>
                  </a:prstGeom>
                  <a:solidFill>
                    <a:srgbClr val="003366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2570400" y="5008680"/>
                    <a:ext cx="203040" cy="528840"/>
                  </a:xfrm>
                  <a:prstGeom prst="upArrow">
                    <a:avLst>
                      <a:gd name="adj1" fmla="val 50000"/>
                      <a:gd name="adj2" fmla="val 65115"/>
                    </a:avLst>
                  </a:prstGeom>
                  <a:solidFill>
                    <a:srgbClr val="003366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37" name=""/>
              <p:cNvSpPr/>
              <p:nvPr/>
            </p:nvSpPr>
            <p:spPr>
              <a:xfrm>
                <a:off x="75960" y="5029200"/>
                <a:ext cx="170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Times New Roman"/>
                  </a:rPr>
                  <a:t>Peer-to-Pe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838080" y="4076280"/>
              <a:ext cx="3194640" cy="1469160"/>
              <a:chOff x="838080" y="4076280"/>
              <a:chExt cx="3194640" cy="1469160"/>
            </a:xfrm>
          </p:grpSpPr>
          <p:sp>
            <p:nvSpPr>
              <p:cNvPr id="839" name=""/>
              <p:cNvSpPr/>
              <p:nvPr/>
            </p:nvSpPr>
            <p:spPr>
              <a:xfrm flipH="1" rot="19452000">
                <a:off x="2805480" y="4266720"/>
                <a:ext cx="1003320" cy="10875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0" name=""/>
              <p:cNvGrpSpPr/>
              <p:nvPr/>
            </p:nvGrpSpPr>
            <p:grpSpPr>
              <a:xfrm>
                <a:off x="3151440" y="4495680"/>
                <a:ext cx="429480" cy="673920"/>
                <a:chOff x="3151440" y="4495680"/>
                <a:chExt cx="429480" cy="673920"/>
              </a:xfrm>
            </p:grpSpPr>
            <p:grpSp>
              <p:nvGrpSpPr>
                <p:cNvPr id="841" name=""/>
                <p:cNvGrpSpPr/>
                <p:nvPr/>
              </p:nvGrpSpPr>
              <p:grpSpPr>
                <a:xfrm>
                  <a:off x="3166560" y="4495680"/>
                  <a:ext cx="414360" cy="412200"/>
                  <a:chOff x="3166560" y="4495680"/>
                  <a:chExt cx="414360" cy="412200"/>
                </a:xfrm>
              </p:grpSpPr>
              <p:grpSp>
                <p:nvGrpSpPr>
                  <p:cNvPr id="842" name=""/>
                  <p:cNvGrpSpPr/>
                  <p:nvPr/>
                </p:nvGrpSpPr>
                <p:grpSpPr>
                  <a:xfrm>
                    <a:off x="3166560" y="4501800"/>
                    <a:ext cx="406440" cy="404280"/>
                    <a:chOff x="3166560" y="4501800"/>
                    <a:chExt cx="406440" cy="404280"/>
                  </a:xfrm>
                </p:grpSpPr>
                <p:grpSp>
                  <p:nvGrpSpPr>
                    <p:cNvPr id="843" name=""/>
                    <p:cNvGrpSpPr/>
                    <p:nvPr/>
                  </p:nvGrpSpPr>
                  <p:grpSpPr>
                    <a:xfrm>
                      <a:off x="3166560" y="4501800"/>
                      <a:ext cx="406440" cy="404280"/>
                      <a:chOff x="3166560" y="4501800"/>
                      <a:chExt cx="406440" cy="404280"/>
                    </a:xfrm>
                  </p:grpSpPr>
                  <p:sp>
                    <p:nvSpPr>
                      <p:cNvPr id="844" name=""/>
                      <p:cNvSpPr/>
                      <p:nvPr/>
                    </p:nvSpPr>
                    <p:spPr>
                      <a:xfrm flipH="1">
                        <a:off x="3228120" y="4501800"/>
                        <a:ext cx="344520" cy="23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6" h="739">
                            <a:moveTo>
                              <a:pt x="23" y="739"/>
                            </a:moveTo>
                            <a:lnTo>
                              <a:pt x="7" y="652"/>
                            </a:lnTo>
                            <a:lnTo>
                              <a:pt x="0" y="568"/>
                            </a:lnTo>
                            <a:lnTo>
                              <a:pt x="3" y="510"/>
                            </a:lnTo>
                            <a:lnTo>
                              <a:pt x="13" y="457"/>
                            </a:lnTo>
                            <a:lnTo>
                              <a:pt x="29" y="398"/>
                            </a:lnTo>
                            <a:lnTo>
                              <a:pt x="55" y="340"/>
                            </a:lnTo>
                            <a:lnTo>
                              <a:pt x="88" y="279"/>
                            </a:lnTo>
                            <a:lnTo>
                              <a:pt x="120" y="230"/>
                            </a:lnTo>
                            <a:lnTo>
                              <a:pt x="159" y="181"/>
                            </a:lnTo>
                            <a:lnTo>
                              <a:pt x="205" y="139"/>
                            </a:lnTo>
                            <a:lnTo>
                              <a:pt x="250" y="104"/>
                            </a:lnTo>
                            <a:lnTo>
                              <a:pt x="299" y="75"/>
                            </a:lnTo>
                            <a:lnTo>
                              <a:pt x="359" y="49"/>
                            </a:lnTo>
                            <a:lnTo>
                              <a:pt x="427" y="26"/>
                            </a:lnTo>
                            <a:lnTo>
                              <a:pt x="485" y="10"/>
                            </a:lnTo>
                            <a:lnTo>
                              <a:pt x="557" y="0"/>
                            </a:lnTo>
                            <a:lnTo>
                              <a:pt x="648" y="0"/>
                            </a:lnTo>
                            <a:lnTo>
                              <a:pt x="716" y="13"/>
                            </a:lnTo>
                            <a:lnTo>
                              <a:pt x="797" y="32"/>
                            </a:lnTo>
                            <a:lnTo>
                              <a:pt x="878" y="68"/>
                            </a:lnTo>
                            <a:lnTo>
                              <a:pt x="950" y="110"/>
                            </a:lnTo>
                            <a:lnTo>
                              <a:pt x="998" y="152"/>
                            </a:lnTo>
                            <a:lnTo>
                              <a:pt x="1047" y="201"/>
                            </a:lnTo>
                            <a:lnTo>
                              <a:pt x="1086" y="249"/>
                            </a:lnTo>
                            <a:lnTo>
                              <a:pt x="982" y="172"/>
                            </a:lnTo>
                            <a:lnTo>
                              <a:pt x="927" y="139"/>
                            </a:lnTo>
                            <a:lnTo>
                              <a:pt x="868" y="117"/>
                            </a:lnTo>
                            <a:lnTo>
                              <a:pt x="794" y="94"/>
                            </a:lnTo>
                            <a:lnTo>
                              <a:pt x="722" y="84"/>
                            </a:lnTo>
                            <a:lnTo>
                              <a:pt x="644" y="81"/>
                            </a:lnTo>
                            <a:lnTo>
                              <a:pt x="586" y="84"/>
                            </a:lnTo>
                            <a:lnTo>
                              <a:pt x="524" y="94"/>
                            </a:lnTo>
                            <a:lnTo>
                              <a:pt x="462" y="110"/>
                            </a:lnTo>
                            <a:lnTo>
                              <a:pt x="404" y="130"/>
                            </a:lnTo>
                            <a:lnTo>
                              <a:pt x="339" y="162"/>
                            </a:lnTo>
                            <a:lnTo>
                              <a:pt x="289" y="191"/>
                            </a:lnTo>
                            <a:lnTo>
                              <a:pt x="247" y="227"/>
                            </a:lnTo>
                            <a:lnTo>
                              <a:pt x="198" y="266"/>
                            </a:lnTo>
                            <a:lnTo>
                              <a:pt x="159" y="308"/>
                            </a:lnTo>
                            <a:lnTo>
                              <a:pt x="120" y="366"/>
                            </a:lnTo>
                            <a:lnTo>
                              <a:pt x="85" y="427"/>
                            </a:lnTo>
                            <a:lnTo>
                              <a:pt x="62" y="486"/>
                            </a:lnTo>
                            <a:lnTo>
                              <a:pt x="42" y="555"/>
                            </a:lnTo>
                            <a:lnTo>
                              <a:pt x="29" y="639"/>
                            </a:lnTo>
                            <a:lnTo>
                              <a:pt x="23" y="739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5" name=""/>
                      <p:cNvSpPr/>
                      <p:nvPr/>
                    </p:nvSpPr>
                    <p:spPr>
                      <a:xfrm flipH="1">
                        <a:off x="3166560" y="4617360"/>
                        <a:ext cx="380880" cy="28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98" h="908">
                            <a:moveTo>
                              <a:pt x="0" y="552"/>
                            </a:moveTo>
                            <a:lnTo>
                              <a:pt x="69" y="629"/>
                            </a:lnTo>
                            <a:lnTo>
                              <a:pt x="143" y="697"/>
                            </a:lnTo>
                            <a:lnTo>
                              <a:pt x="211" y="736"/>
                            </a:lnTo>
                            <a:lnTo>
                              <a:pt x="310" y="778"/>
                            </a:lnTo>
                            <a:lnTo>
                              <a:pt x="388" y="801"/>
                            </a:lnTo>
                            <a:lnTo>
                              <a:pt x="459" y="811"/>
                            </a:lnTo>
                            <a:lnTo>
                              <a:pt x="544" y="811"/>
                            </a:lnTo>
                            <a:lnTo>
                              <a:pt x="605" y="804"/>
                            </a:lnTo>
                            <a:lnTo>
                              <a:pt x="680" y="791"/>
                            </a:lnTo>
                            <a:lnTo>
                              <a:pt x="755" y="769"/>
                            </a:lnTo>
                            <a:lnTo>
                              <a:pt x="817" y="736"/>
                            </a:lnTo>
                            <a:lnTo>
                              <a:pt x="875" y="701"/>
                            </a:lnTo>
                            <a:lnTo>
                              <a:pt x="927" y="665"/>
                            </a:lnTo>
                            <a:lnTo>
                              <a:pt x="979" y="613"/>
                            </a:lnTo>
                            <a:lnTo>
                              <a:pt x="1031" y="555"/>
                            </a:lnTo>
                            <a:lnTo>
                              <a:pt x="1071" y="500"/>
                            </a:lnTo>
                            <a:lnTo>
                              <a:pt x="1094" y="445"/>
                            </a:lnTo>
                            <a:lnTo>
                              <a:pt x="1123" y="357"/>
                            </a:lnTo>
                            <a:lnTo>
                              <a:pt x="1142" y="267"/>
                            </a:lnTo>
                            <a:lnTo>
                              <a:pt x="1146" y="186"/>
                            </a:lnTo>
                            <a:lnTo>
                              <a:pt x="1133" y="97"/>
                            </a:lnTo>
                            <a:lnTo>
                              <a:pt x="1103" y="0"/>
                            </a:lnTo>
                            <a:lnTo>
                              <a:pt x="1133" y="52"/>
                            </a:lnTo>
                            <a:lnTo>
                              <a:pt x="1165" y="126"/>
                            </a:lnTo>
                            <a:lnTo>
                              <a:pt x="1181" y="195"/>
                            </a:lnTo>
                            <a:lnTo>
                              <a:pt x="1198" y="260"/>
                            </a:lnTo>
                            <a:lnTo>
                              <a:pt x="1194" y="315"/>
                            </a:lnTo>
                            <a:lnTo>
                              <a:pt x="1191" y="390"/>
                            </a:lnTo>
                            <a:lnTo>
                              <a:pt x="1152" y="532"/>
                            </a:lnTo>
                            <a:lnTo>
                              <a:pt x="1113" y="610"/>
                            </a:lnTo>
                            <a:lnTo>
                              <a:pt x="1064" y="678"/>
                            </a:lnTo>
                            <a:lnTo>
                              <a:pt x="1011" y="736"/>
                            </a:lnTo>
                            <a:lnTo>
                              <a:pt x="959" y="778"/>
                            </a:lnTo>
                            <a:lnTo>
                              <a:pt x="888" y="827"/>
                            </a:lnTo>
                            <a:lnTo>
                              <a:pt x="817" y="859"/>
                            </a:lnTo>
                            <a:lnTo>
                              <a:pt x="748" y="882"/>
                            </a:lnTo>
                            <a:lnTo>
                              <a:pt x="661" y="905"/>
                            </a:lnTo>
                            <a:lnTo>
                              <a:pt x="596" y="908"/>
                            </a:lnTo>
                            <a:lnTo>
                              <a:pt x="524" y="908"/>
                            </a:lnTo>
                            <a:lnTo>
                              <a:pt x="453" y="895"/>
                            </a:lnTo>
                            <a:lnTo>
                              <a:pt x="375" y="879"/>
                            </a:lnTo>
                            <a:lnTo>
                              <a:pt x="323" y="859"/>
                            </a:lnTo>
                            <a:lnTo>
                              <a:pt x="254" y="824"/>
                            </a:lnTo>
                            <a:lnTo>
                              <a:pt x="195" y="791"/>
                            </a:lnTo>
                            <a:lnTo>
                              <a:pt x="140" y="746"/>
                            </a:lnTo>
                            <a:lnTo>
                              <a:pt x="82" y="684"/>
                            </a:lnTo>
                            <a:lnTo>
                              <a:pt x="26" y="607"/>
                            </a:lnTo>
                            <a:lnTo>
                              <a:pt x="0" y="552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6" name=""/>
                    <p:cNvGrpSpPr/>
                    <p:nvPr/>
                  </p:nvGrpSpPr>
                  <p:grpSpPr>
                    <a:xfrm>
                      <a:off x="3168000" y="4507920"/>
                      <a:ext cx="401760" cy="380160"/>
                      <a:chOff x="3168000" y="4507920"/>
                      <a:chExt cx="401760" cy="380160"/>
                    </a:xfrm>
                  </p:grpSpPr>
                  <p:sp>
                    <p:nvSpPr>
                      <p:cNvPr id="847" name=""/>
                      <p:cNvSpPr/>
                      <p:nvPr/>
                    </p:nvSpPr>
                    <p:spPr>
                      <a:xfrm flipH="1">
                        <a:off x="3448800" y="4793040"/>
                        <a:ext cx="98280" cy="9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1" h="300">
                            <a:moveTo>
                              <a:pt x="0" y="0"/>
                            </a:moveTo>
                            <a:lnTo>
                              <a:pt x="33" y="60"/>
                            </a:lnTo>
                            <a:lnTo>
                              <a:pt x="64" y="107"/>
                            </a:lnTo>
                            <a:lnTo>
                              <a:pt x="98" y="149"/>
                            </a:lnTo>
                            <a:lnTo>
                              <a:pt x="150" y="199"/>
                            </a:lnTo>
                            <a:lnTo>
                              <a:pt x="189" y="232"/>
                            </a:lnTo>
                            <a:lnTo>
                              <a:pt x="238" y="263"/>
                            </a:lnTo>
                            <a:lnTo>
                              <a:pt x="311" y="300"/>
                            </a:lnTo>
                            <a:lnTo>
                              <a:pt x="230" y="190"/>
                            </a:lnTo>
                            <a:lnTo>
                              <a:pt x="184" y="164"/>
                            </a:lnTo>
                            <a:lnTo>
                              <a:pt x="152" y="141"/>
                            </a:lnTo>
                            <a:lnTo>
                              <a:pt x="104" y="109"/>
                            </a:lnTo>
                            <a:lnTo>
                              <a:pt x="67" y="74"/>
                            </a:lnTo>
                            <a:lnTo>
                              <a:pt x="38" y="45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8" name=""/>
                      <p:cNvSpPr/>
                      <p:nvPr/>
                    </p:nvSpPr>
                    <p:spPr>
                      <a:xfrm flipH="1">
                        <a:off x="3167640" y="4615560"/>
                        <a:ext cx="34920" cy="18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590">
                            <a:moveTo>
                              <a:pt x="21" y="0"/>
                            </a:moveTo>
                            <a:lnTo>
                              <a:pt x="42" y="40"/>
                            </a:lnTo>
                            <a:lnTo>
                              <a:pt x="56" y="75"/>
                            </a:lnTo>
                            <a:lnTo>
                              <a:pt x="71" y="111"/>
                            </a:lnTo>
                            <a:lnTo>
                              <a:pt x="82" y="145"/>
                            </a:lnTo>
                            <a:lnTo>
                              <a:pt x="91" y="178"/>
                            </a:lnTo>
                            <a:lnTo>
                              <a:pt x="107" y="235"/>
                            </a:lnTo>
                            <a:lnTo>
                              <a:pt x="111" y="291"/>
                            </a:lnTo>
                            <a:lnTo>
                              <a:pt x="108" y="377"/>
                            </a:lnTo>
                            <a:lnTo>
                              <a:pt x="101" y="436"/>
                            </a:lnTo>
                            <a:lnTo>
                              <a:pt x="89" y="483"/>
                            </a:lnTo>
                            <a:lnTo>
                              <a:pt x="70" y="533"/>
                            </a:lnTo>
                            <a:lnTo>
                              <a:pt x="45" y="590"/>
                            </a:lnTo>
                            <a:lnTo>
                              <a:pt x="0" y="479"/>
                            </a:lnTo>
                            <a:lnTo>
                              <a:pt x="21" y="430"/>
                            </a:lnTo>
                            <a:lnTo>
                              <a:pt x="30" y="404"/>
                            </a:lnTo>
                            <a:lnTo>
                              <a:pt x="42" y="371"/>
                            </a:lnTo>
                            <a:lnTo>
                              <a:pt x="50" y="336"/>
                            </a:lnTo>
                            <a:lnTo>
                              <a:pt x="56" y="283"/>
                            </a:lnTo>
                            <a:lnTo>
                              <a:pt x="59" y="239"/>
                            </a:lnTo>
                            <a:lnTo>
                              <a:pt x="59" y="173"/>
                            </a:lnTo>
                            <a:lnTo>
                              <a:pt x="50" y="114"/>
                            </a:lnTo>
                            <a:lnTo>
                              <a:pt x="39" y="65"/>
                            </a:lnTo>
                            <a:lnTo>
                              <a:pt x="32" y="39"/>
                            </a:lnTo>
                            <a:lnTo>
                              <a:pt x="2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9" name=""/>
                      <p:cNvSpPr/>
                      <p:nvPr/>
                    </p:nvSpPr>
                    <p:spPr>
                      <a:xfrm flipH="1">
                        <a:off x="3247560" y="4507920"/>
                        <a:ext cx="13968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1" h="178">
                            <a:moveTo>
                              <a:pt x="0" y="0"/>
                            </a:moveTo>
                            <a:lnTo>
                              <a:pt x="33" y="65"/>
                            </a:lnTo>
                            <a:lnTo>
                              <a:pt x="85" y="62"/>
                            </a:lnTo>
                            <a:lnTo>
                              <a:pt x="133" y="65"/>
                            </a:lnTo>
                            <a:lnTo>
                              <a:pt x="177" y="72"/>
                            </a:lnTo>
                            <a:lnTo>
                              <a:pt x="218" y="79"/>
                            </a:lnTo>
                            <a:lnTo>
                              <a:pt x="259" y="90"/>
                            </a:lnTo>
                            <a:lnTo>
                              <a:pt x="288" y="99"/>
                            </a:lnTo>
                            <a:lnTo>
                              <a:pt x="324" y="114"/>
                            </a:lnTo>
                            <a:lnTo>
                              <a:pt x="367" y="134"/>
                            </a:lnTo>
                            <a:lnTo>
                              <a:pt x="441" y="178"/>
                            </a:lnTo>
                            <a:lnTo>
                              <a:pt x="398" y="133"/>
                            </a:lnTo>
                            <a:lnTo>
                              <a:pt x="368" y="110"/>
                            </a:lnTo>
                            <a:lnTo>
                              <a:pt x="328" y="84"/>
                            </a:lnTo>
                            <a:lnTo>
                              <a:pt x="303" y="69"/>
                            </a:lnTo>
                            <a:lnTo>
                              <a:pt x="247" y="43"/>
                            </a:lnTo>
                            <a:lnTo>
                              <a:pt x="212" y="31"/>
                            </a:lnTo>
                            <a:lnTo>
                              <a:pt x="183" y="21"/>
                            </a:lnTo>
                            <a:lnTo>
                              <a:pt x="155" y="14"/>
                            </a:lnTo>
                            <a:lnTo>
                              <a:pt x="113" y="7"/>
                            </a:lnTo>
                            <a:lnTo>
                              <a:pt x="69" y="1"/>
                            </a:lnTo>
                            <a:lnTo>
                              <a:pt x="19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0" name=""/>
                      <p:cNvSpPr/>
                      <p:nvPr/>
                    </p:nvSpPr>
                    <p:spPr>
                      <a:xfrm flipH="1">
                        <a:off x="3525120" y="4586760"/>
                        <a:ext cx="44280" cy="13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1" h="417">
                            <a:moveTo>
                              <a:pt x="0" y="320"/>
                            </a:moveTo>
                            <a:lnTo>
                              <a:pt x="3" y="288"/>
                            </a:lnTo>
                            <a:lnTo>
                              <a:pt x="5" y="252"/>
                            </a:lnTo>
                            <a:lnTo>
                              <a:pt x="15" y="195"/>
                            </a:lnTo>
                            <a:lnTo>
                              <a:pt x="26" y="150"/>
                            </a:lnTo>
                            <a:lnTo>
                              <a:pt x="41" y="109"/>
                            </a:lnTo>
                            <a:lnTo>
                              <a:pt x="60" y="67"/>
                            </a:lnTo>
                            <a:lnTo>
                              <a:pt x="78" y="34"/>
                            </a:lnTo>
                            <a:lnTo>
                              <a:pt x="99" y="0"/>
                            </a:lnTo>
                            <a:lnTo>
                              <a:pt x="141" y="54"/>
                            </a:lnTo>
                            <a:lnTo>
                              <a:pt x="117" y="86"/>
                            </a:lnTo>
                            <a:lnTo>
                              <a:pt x="99" y="115"/>
                            </a:lnTo>
                            <a:lnTo>
                              <a:pt x="85" y="142"/>
                            </a:lnTo>
                            <a:lnTo>
                              <a:pt x="65" y="180"/>
                            </a:lnTo>
                            <a:lnTo>
                              <a:pt x="52" y="213"/>
                            </a:lnTo>
                            <a:lnTo>
                              <a:pt x="44" y="246"/>
                            </a:lnTo>
                            <a:lnTo>
                              <a:pt x="34" y="278"/>
                            </a:lnTo>
                            <a:lnTo>
                              <a:pt x="28" y="314"/>
                            </a:lnTo>
                            <a:lnTo>
                              <a:pt x="23" y="357"/>
                            </a:lnTo>
                            <a:lnTo>
                              <a:pt x="18" y="400"/>
                            </a:lnTo>
                            <a:lnTo>
                              <a:pt x="11" y="417"/>
                            </a:lnTo>
                            <a:lnTo>
                              <a:pt x="0" y="32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51" name=""/>
                  <p:cNvSpPr/>
                  <p:nvPr/>
                </p:nvSpPr>
                <p:spPr>
                  <a:xfrm flipH="1">
                    <a:off x="3166200" y="4527360"/>
                    <a:ext cx="398520" cy="380520"/>
                  </a:xfrm>
                  <a:prstGeom prst="ellipse">
                    <a:avLst/>
                  </a:prstGeom>
                  <a:noFill/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52" name=""/>
                  <p:cNvGrpSpPr/>
                  <p:nvPr/>
                </p:nvGrpSpPr>
                <p:grpSpPr>
                  <a:xfrm>
                    <a:off x="3182400" y="4495680"/>
                    <a:ext cx="398520" cy="380880"/>
                    <a:chOff x="3182400" y="4495680"/>
                    <a:chExt cx="398520" cy="380880"/>
                  </a:xfrm>
                </p:grpSpPr>
                <p:sp>
                  <p:nvSpPr>
                    <p:cNvPr id="853" name=""/>
                    <p:cNvSpPr/>
                    <p:nvPr/>
                  </p:nvSpPr>
                  <p:spPr>
                    <a:xfrm flipH="1">
                      <a:off x="3188880" y="4501800"/>
                      <a:ext cx="387360" cy="369720"/>
                    </a:xfrm>
                    <a:prstGeom prst="ellipse">
                      <a:avLst/>
                    </a:prstGeom>
                    <a:noFill/>
                    <a:ln w="14400">
                      <a:solidFill>
                        <a:srgbClr val="9f9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4" name=""/>
                    <p:cNvSpPr/>
                    <p:nvPr/>
                  </p:nvSpPr>
                  <p:spPr>
                    <a:xfrm flipH="1">
                      <a:off x="3182040" y="4495680"/>
                      <a:ext cx="398520" cy="380880"/>
                    </a:xfrm>
                    <a:prstGeom prst="ellipse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5" name=""/>
                    <p:cNvSpPr/>
                    <p:nvPr/>
                  </p:nvSpPr>
                  <p:spPr>
                    <a:xfrm flipH="1">
                      <a:off x="3194640" y="4508280"/>
                      <a:ext cx="374760" cy="356760"/>
                    </a:xfrm>
                    <a:prstGeom prst="ellipse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56" name=""/>
                <p:cNvGrpSpPr/>
                <p:nvPr/>
              </p:nvGrpSpPr>
              <p:grpSpPr>
                <a:xfrm>
                  <a:off x="3151440" y="4854240"/>
                  <a:ext cx="202680" cy="315360"/>
                  <a:chOff x="3151440" y="4854240"/>
                  <a:chExt cx="202680" cy="315360"/>
                </a:xfrm>
              </p:grpSpPr>
              <p:sp>
                <p:nvSpPr>
                  <p:cNvPr id="857" name=""/>
                  <p:cNvSpPr/>
                  <p:nvPr/>
                </p:nvSpPr>
                <p:spPr>
                  <a:xfrm flipH="1">
                    <a:off x="3157560" y="4869720"/>
                    <a:ext cx="19476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11" h="873">
                        <a:moveTo>
                          <a:pt x="0" y="65"/>
                        </a:moveTo>
                        <a:lnTo>
                          <a:pt x="433" y="873"/>
                        </a:lnTo>
                        <a:lnTo>
                          <a:pt x="611" y="783"/>
                        </a:lnTo>
                        <a:lnTo>
                          <a:pt x="175" y="0"/>
                        </a:lnTo>
                        <a:lnTo>
                          <a:pt x="0" y="65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 flipH="1">
                    <a:off x="3294360" y="4854240"/>
                    <a:ext cx="5832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38" y="13843"/>
                        </a:moveTo>
                        <a:arcTo wR="10800" hR="10800" stAng="9818105" swAng="1055423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38" y="13843"/>
                        </a:moveTo>
                        <a:arcTo wR="10800" hR="10800" stAng="9818105" swAng="10554234"/>
                      </a:path>
                    </a:pathLst>
                  </a:custGeom>
                  <a:solidFill>
                    <a:srgbClr val="5f3f1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H="1">
                    <a:off x="3291480" y="4858560"/>
                    <a:ext cx="5940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59" y="11931"/>
                        </a:moveTo>
                        <a:arcTo wR="10800" hR="10800" stAng="10439460" swAng="1005444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59" y="11931"/>
                        </a:moveTo>
                        <a:arcTo wR="10800" hR="10800" stAng="10439460" swAng="10054443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flipH="1">
                    <a:off x="3317400" y="4858560"/>
                    <a:ext cx="3636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223">
                        <a:moveTo>
                          <a:pt x="3" y="103"/>
                        </a:moveTo>
                        <a:lnTo>
                          <a:pt x="0" y="88"/>
                        </a:lnTo>
                        <a:lnTo>
                          <a:pt x="0" y="74"/>
                        </a:lnTo>
                        <a:lnTo>
                          <a:pt x="2" y="62"/>
                        </a:lnTo>
                        <a:lnTo>
                          <a:pt x="6" y="45"/>
                        </a:lnTo>
                        <a:lnTo>
                          <a:pt x="13" y="31"/>
                        </a:lnTo>
                        <a:lnTo>
                          <a:pt x="22" y="18"/>
                        </a:lnTo>
                        <a:lnTo>
                          <a:pt x="33" y="7"/>
                        </a:lnTo>
                        <a:lnTo>
                          <a:pt x="44" y="0"/>
                        </a:lnTo>
                        <a:lnTo>
                          <a:pt x="115" y="121"/>
                        </a:lnTo>
                        <a:lnTo>
                          <a:pt x="102" y="128"/>
                        </a:lnTo>
                        <a:lnTo>
                          <a:pt x="94" y="137"/>
                        </a:lnTo>
                        <a:lnTo>
                          <a:pt x="85" y="145"/>
                        </a:lnTo>
                        <a:lnTo>
                          <a:pt x="79" y="156"/>
                        </a:lnTo>
                        <a:lnTo>
                          <a:pt x="71" y="176"/>
                        </a:lnTo>
                        <a:lnTo>
                          <a:pt x="67" y="202"/>
                        </a:lnTo>
                        <a:lnTo>
                          <a:pt x="67" y="223"/>
                        </a:lnTo>
                        <a:lnTo>
                          <a:pt x="3" y="103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 flipH="1">
                    <a:off x="3292920" y="4855320"/>
                    <a:ext cx="594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58" y="13146"/>
                        </a:moveTo>
                        <a:arcTo wR="10800" hR="10800" stAng="10047177" swAng="48759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58" y="13146"/>
                        </a:moveTo>
                        <a:arcTo wR="10800" hR="10800" stAng="10047177" swAng="4875948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H="1">
                    <a:off x="3272400" y="4893480"/>
                    <a:ext cx="594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3"/>
                        </a:moveTo>
                        <a:arcTo wR="10800" hR="10800" stAng="9986129" swAng="1042014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3"/>
                        </a:moveTo>
                        <a:arcTo wR="10800" hR="10800" stAng="9986129" swAng="10420145"/>
                      </a:path>
                    </a:pathLst>
                  </a:custGeom>
                  <a:solidFill>
                    <a:srgbClr val="7f3f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63" name=""/>
                  <p:cNvGrpSpPr/>
                  <p:nvPr/>
                </p:nvGrpSpPr>
                <p:grpSpPr>
                  <a:xfrm>
                    <a:off x="3268440" y="4898160"/>
                    <a:ext cx="61920" cy="61920"/>
                    <a:chOff x="3268440" y="4898160"/>
                    <a:chExt cx="61920" cy="61920"/>
                  </a:xfrm>
                </p:grpSpPr>
                <p:grpSp>
                  <p:nvGrpSpPr>
                    <p:cNvPr id="864" name=""/>
                    <p:cNvGrpSpPr/>
                    <p:nvPr/>
                  </p:nvGrpSpPr>
                  <p:grpSpPr>
                    <a:xfrm>
                      <a:off x="3271320" y="4898160"/>
                      <a:ext cx="59040" cy="55800"/>
                      <a:chOff x="3271320" y="4898160"/>
                      <a:chExt cx="59040" cy="55800"/>
                    </a:xfrm>
                  </p:grpSpPr>
                  <p:sp>
                    <p:nvSpPr>
                      <p:cNvPr id="865" name=""/>
                      <p:cNvSpPr/>
                      <p:nvPr/>
                    </p:nvSpPr>
                    <p:spPr>
                      <a:xfrm flipH="1">
                        <a:off x="3271320" y="4898160"/>
                        <a:ext cx="5904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301" y="13333"/>
                            </a:moveTo>
                            <a:arcTo wR="10800" hR="10800" stAng="9986129" swAng="10606913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301" y="13333"/>
                            </a:moveTo>
                            <a:arcTo wR="10800" hR="10800" stAng="9986129" swAng="10606913"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6" name=""/>
                      <p:cNvSpPr/>
                      <p:nvPr/>
                    </p:nvSpPr>
                    <p:spPr>
                      <a:xfrm flipH="1">
                        <a:off x="3271320" y="4898160"/>
                        <a:ext cx="5868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301" y="13333"/>
                            </a:moveTo>
                            <a:arcTo wR="10800" hR="10800" stAng="9986129" swAng="4570572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301" y="13333"/>
                            </a:moveTo>
                            <a:arcTo wR="10800" hR="10800" stAng="9986129" swAng="4570572"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7" name=""/>
                      <p:cNvSpPr/>
                      <p:nvPr/>
                    </p:nvSpPr>
                    <p:spPr>
                      <a:xfrm flipH="1">
                        <a:off x="3271680" y="4898160"/>
                        <a:ext cx="5760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6" y="13270"/>
                            </a:moveTo>
                            <a:arcTo wR="10800" hR="10800" stAng="10006785" swAng="1061132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6" y="13270"/>
                            </a:moveTo>
                            <a:arcTo wR="10800" hR="10800" stAng="10006785" swAng="10611320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68" name=""/>
                    <p:cNvSpPr/>
                    <p:nvPr/>
                  </p:nvSpPr>
                  <p:spPr>
                    <a:xfrm flipH="1">
                      <a:off x="3268440" y="4904280"/>
                      <a:ext cx="5760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6" y="13270"/>
                          </a:moveTo>
                          <a:arcTo wR="10800" hR="10800" stAng="10006785" swAng="1061132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6" y="13270"/>
                          </a:moveTo>
                          <a:arcTo wR="10800" hR="10800" stAng="10006785" swAng="10611320"/>
                        </a:path>
                      </a:pathLst>
                    </a:custGeom>
                    <a:solidFill>
                      <a:srgbClr val="7f3f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9" name=""/>
                  <p:cNvGrpSpPr/>
                  <p:nvPr/>
                </p:nvGrpSpPr>
                <p:grpSpPr>
                  <a:xfrm>
                    <a:off x="3262680" y="4908600"/>
                    <a:ext cx="61560" cy="62280"/>
                    <a:chOff x="3262680" y="4908600"/>
                    <a:chExt cx="61560" cy="62280"/>
                  </a:xfrm>
                </p:grpSpPr>
                <p:grpSp>
                  <p:nvGrpSpPr>
                    <p:cNvPr id="870" name=""/>
                    <p:cNvGrpSpPr/>
                    <p:nvPr/>
                  </p:nvGrpSpPr>
                  <p:grpSpPr>
                    <a:xfrm>
                      <a:off x="3264840" y="4908600"/>
                      <a:ext cx="59400" cy="57240"/>
                      <a:chOff x="3264840" y="4908600"/>
                      <a:chExt cx="59400" cy="57240"/>
                    </a:xfrm>
                  </p:grpSpPr>
                  <p:sp>
                    <p:nvSpPr>
                      <p:cNvPr id="871" name=""/>
                      <p:cNvSpPr/>
                      <p:nvPr/>
                    </p:nvSpPr>
                    <p:spPr>
                      <a:xfrm flipH="1">
                        <a:off x="3265200" y="4909320"/>
                        <a:ext cx="5868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5" y="13266"/>
                            </a:moveTo>
                            <a:arcTo wR="10800" hR="10800" stAng="10007935" swAng="108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5" y="13266"/>
                            </a:moveTo>
                            <a:arcTo wR="10800" hR="10800" stAng="10007935" swAng="10800000"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2" name=""/>
                      <p:cNvSpPr/>
                      <p:nvPr/>
                    </p:nvSpPr>
                    <p:spPr>
                      <a:xfrm flipH="1">
                        <a:off x="3264480" y="4908600"/>
                        <a:ext cx="59400" cy="5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5" y="13266"/>
                            </a:moveTo>
                            <a:arcTo wR="10800" hR="10800" stAng="10007935" swAng="4415176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5" y="13266"/>
                            </a:moveTo>
                            <a:arcTo wR="10800" hR="10800" stAng="10007935" swAng="4415176"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3" name=""/>
                      <p:cNvSpPr/>
                      <p:nvPr/>
                    </p:nvSpPr>
                    <p:spPr>
                      <a:xfrm flipH="1">
                        <a:off x="3265920" y="4909320"/>
                        <a:ext cx="56880" cy="5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44" y="13084"/>
                            </a:moveTo>
                            <a:arcTo wR="10800" hR="10800" stAng="10067453" swAng="1071685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44" y="13084"/>
                            </a:moveTo>
                            <a:arcTo wR="10800" hR="10800" stAng="10067453" swAng="10716857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4" name=""/>
                    <p:cNvSpPr/>
                    <p:nvPr/>
                  </p:nvSpPr>
                  <p:spPr>
                    <a:xfrm flipH="1">
                      <a:off x="3262320" y="4915440"/>
                      <a:ext cx="5868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301" y="13333"/>
                          </a:moveTo>
                          <a:arcTo wR="10800" hR="10800" stAng="9986129" swAng="108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301" y="13333"/>
                          </a:moveTo>
                          <a:arcTo wR="10800" hR="10800" stAng="9986129" swAng="10800000"/>
                        </a:path>
                      </a:pathLst>
                    </a:custGeom>
                    <a:solidFill>
                      <a:srgbClr val="7f3f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5" name=""/>
                  <p:cNvGrpSpPr/>
                  <p:nvPr/>
                </p:nvGrpSpPr>
                <p:grpSpPr>
                  <a:xfrm>
                    <a:off x="3258360" y="4919760"/>
                    <a:ext cx="59400" cy="56880"/>
                    <a:chOff x="3258360" y="4919760"/>
                    <a:chExt cx="59400" cy="56880"/>
                  </a:xfrm>
                </p:grpSpPr>
                <p:sp>
                  <p:nvSpPr>
                    <p:cNvPr id="876" name=""/>
                    <p:cNvSpPr/>
                    <p:nvPr/>
                  </p:nvSpPr>
                  <p:spPr>
                    <a:xfrm flipH="1">
                      <a:off x="3258720" y="4920480"/>
                      <a:ext cx="586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3" y="12671"/>
                          </a:moveTo>
                          <a:arcTo wR="10800" hR="10800" stAng="10201338" swAng="1060659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3" y="12671"/>
                          </a:moveTo>
                          <a:arcTo wR="10800" hR="10800" stAng="10201338" swAng="10606598"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7" name=""/>
                    <p:cNvSpPr/>
                    <p:nvPr/>
                  </p:nvSpPr>
                  <p:spPr>
                    <a:xfrm flipH="1">
                      <a:off x="3258000" y="4919760"/>
                      <a:ext cx="59400" cy="5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3" y="12671"/>
                          </a:moveTo>
                          <a:arcTo wR="10800" hR="10800" stAng="10201338" swAng="422177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3" y="12671"/>
                          </a:moveTo>
                          <a:arcTo wR="10800" hR="10800" stAng="10201338" swAng="4221774"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8" name=""/>
                  <p:cNvGrpSpPr/>
                  <p:nvPr/>
                </p:nvGrpSpPr>
                <p:grpSpPr>
                  <a:xfrm>
                    <a:off x="3256200" y="4920480"/>
                    <a:ext cx="61560" cy="61200"/>
                    <a:chOff x="3256200" y="4920480"/>
                    <a:chExt cx="61560" cy="61200"/>
                  </a:xfrm>
                </p:grpSpPr>
                <p:sp>
                  <p:nvSpPr>
                    <p:cNvPr id="879" name=""/>
                    <p:cNvSpPr/>
                    <p:nvPr/>
                  </p:nvSpPr>
                  <p:spPr>
                    <a:xfrm flipH="1">
                      <a:off x="3258720" y="4920480"/>
                      <a:ext cx="586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5" y="13266"/>
                          </a:moveTo>
                          <a:arcTo wR="10800" hR="10800" stAng="10007935" swAng="108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5" y="13266"/>
                          </a:moveTo>
                          <a:arcTo wR="10800" hR="10800" stAng="10007935" swAng="10800000"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" name=""/>
                    <p:cNvSpPr/>
                    <p:nvPr/>
                  </p:nvSpPr>
                  <p:spPr>
                    <a:xfrm flipH="1">
                      <a:off x="3255840" y="4926600"/>
                      <a:ext cx="5868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73" y="12723"/>
                          </a:moveTo>
                          <a:arcTo wR="10800" hR="10800" stAng="10184591" swAng="106015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73" y="12723"/>
                          </a:moveTo>
                          <a:arcTo wR="10800" hR="10800" stAng="10184591" swAng="10601538"/>
                        </a:path>
                      </a:pathLst>
                    </a:custGeom>
                    <a:solidFill>
                      <a:srgbClr val="7f3f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1" name=""/>
                  <p:cNvGrpSpPr/>
                  <p:nvPr/>
                </p:nvGrpSpPr>
                <p:grpSpPr>
                  <a:xfrm>
                    <a:off x="3158280" y="4871520"/>
                    <a:ext cx="192960" cy="276840"/>
                    <a:chOff x="3158280" y="4871520"/>
                    <a:chExt cx="192960" cy="276840"/>
                  </a:xfrm>
                </p:grpSpPr>
                <p:sp>
                  <p:nvSpPr>
                    <p:cNvPr id="882" name=""/>
                    <p:cNvSpPr/>
                    <p:nvPr/>
                  </p:nvSpPr>
                  <p:spPr>
                    <a:xfrm flipH="1">
                      <a:off x="3158280" y="4871520"/>
                      <a:ext cx="137520" cy="2469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3" name=""/>
                    <p:cNvSpPr/>
                    <p:nvPr/>
                  </p:nvSpPr>
                  <p:spPr>
                    <a:xfrm flipH="1">
                      <a:off x="3213360" y="4889880"/>
                      <a:ext cx="137880" cy="258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4" name=""/>
                  <p:cNvGrpSpPr/>
                  <p:nvPr/>
                </p:nvGrpSpPr>
                <p:grpSpPr>
                  <a:xfrm>
                    <a:off x="3250080" y="4930920"/>
                    <a:ext cx="61200" cy="60840"/>
                    <a:chOff x="3250080" y="4930920"/>
                    <a:chExt cx="61200" cy="60840"/>
                  </a:xfrm>
                </p:grpSpPr>
                <p:grpSp>
                  <p:nvGrpSpPr>
                    <p:cNvPr id="885" name=""/>
                    <p:cNvGrpSpPr/>
                    <p:nvPr/>
                  </p:nvGrpSpPr>
                  <p:grpSpPr>
                    <a:xfrm>
                      <a:off x="3252600" y="4930920"/>
                      <a:ext cx="58680" cy="56880"/>
                      <a:chOff x="3252600" y="4930920"/>
                      <a:chExt cx="58680" cy="56880"/>
                    </a:xfrm>
                  </p:grpSpPr>
                  <p:sp>
                    <p:nvSpPr>
                      <p:cNvPr id="886" name=""/>
                      <p:cNvSpPr/>
                      <p:nvPr/>
                    </p:nvSpPr>
                    <p:spPr>
                      <a:xfrm flipH="1">
                        <a:off x="3252240" y="4931640"/>
                        <a:ext cx="5868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3" y="12671"/>
                            </a:moveTo>
                            <a:arcTo wR="10800" hR="10800" stAng="10201338" swAng="10606598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3" y="12671"/>
                            </a:moveTo>
                            <a:arcTo wR="10800" hR="10800" stAng="10201338" swAng="10606598"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7" name=""/>
                      <p:cNvSpPr/>
                      <p:nvPr/>
                    </p:nvSpPr>
                    <p:spPr>
                      <a:xfrm flipH="1">
                        <a:off x="3252240" y="4930920"/>
                        <a:ext cx="58680" cy="5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3" y="12671"/>
                            </a:moveTo>
                            <a:arcTo wR="10800" hR="10800" stAng="10201338" swAng="422177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3" y="12671"/>
                            </a:moveTo>
                            <a:arcTo wR="10800" hR="10800" stAng="10201338" swAng="4221774"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080" bIns="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88" name=""/>
                    <p:cNvSpPr/>
                    <p:nvPr/>
                  </p:nvSpPr>
                  <p:spPr>
                    <a:xfrm flipH="1">
                      <a:off x="3252240" y="4931640"/>
                      <a:ext cx="586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73" y="12723"/>
                          </a:moveTo>
                          <a:arcTo wR="10800" hR="10800" stAng="10184591" swAng="106015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73" y="12723"/>
                          </a:moveTo>
                          <a:arcTo wR="10800" hR="10800" stAng="10184591" swAng="10601538"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9" name=""/>
                    <p:cNvSpPr/>
                    <p:nvPr/>
                  </p:nvSpPr>
                  <p:spPr>
                    <a:xfrm flipH="1">
                      <a:off x="3249720" y="4935960"/>
                      <a:ext cx="586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5" y="13266"/>
                          </a:moveTo>
                          <a:arcTo wR="10800" hR="10800" stAng="10007935" swAng="108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5" y="13266"/>
                          </a:moveTo>
                          <a:arcTo wR="10800" hR="10800" stAng="10007935" swAng="10800000"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0" name=""/>
                  <p:cNvSpPr/>
                  <p:nvPr/>
                </p:nvSpPr>
                <p:spPr>
                  <a:xfrm flipH="1">
                    <a:off x="3191040" y="4938120"/>
                    <a:ext cx="1188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7" h="645">
                        <a:moveTo>
                          <a:pt x="48" y="0"/>
                        </a:moveTo>
                        <a:lnTo>
                          <a:pt x="34" y="9"/>
                        </a:lnTo>
                        <a:lnTo>
                          <a:pt x="23" y="18"/>
                        </a:lnTo>
                        <a:lnTo>
                          <a:pt x="13" y="28"/>
                        </a:lnTo>
                        <a:lnTo>
                          <a:pt x="9" y="39"/>
                        </a:lnTo>
                        <a:lnTo>
                          <a:pt x="4" y="51"/>
                        </a:lnTo>
                        <a:lnTo>
                          <a:pt x="1" y="63"/>
                        </a:lnTo>
                        <a:lnTo>
                          <a:pt x="0" y="77"/>
                        </a:lnTo>
                        <a:lnTo>
                          <a:pt x="0" y="93"/>
                        </a:lnTo>
                        <a:lnTo>
                          <a:pt x="292" y="645"/>
                        </a:lnTo>
                        <a:lnTo>
                          <a:pt x="377" y="58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 flipH="1">
                    <a:off x="3151440" y="5108040"/>
                    <a:ext cx="64800" cy="61560"/>
                  </a:xfrm>
                  <a:prstGeom prst="ellipse">
                    <a:avLst/>
                  </a:prstGeom>
                  <a:solidFill>
                    <a:srgbClr val="7f5f3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92" name=""/>
              <p:cNvSpPr/>
              <p:nvPr/>
            </p:nvSpPr>
            <p:spPr>
              <a:xfrm>
                <a:off x="838080" y="4208400"/>
                <a:ext cx="1905120" cy="82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imes New Roman"/>
                  </a:rPr>
                  <a:t>Zoom on actual choi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3" name=""/>
          <p:cNvGrpSpPr/>
          <p:nvPr/>
        </p:nvGrpSpPr>
        <p:grpSpPr>
          <a:xfrm>
            <a:off x="25560" y="2413080"/>
            <a:ext cx="7721280" cy="850680"/>
            <a:chOff x="25560" y="2413080"/>
            <a:chExt cx="7721280" cy="850680"/>
          </a:xfrm>
        </p:grpSpPr>
        <p:grpSp>
          <p:nvGrpSpPr>
            <p:cNvPr id="894" name=""/>
            <p:cNvGrpSpPr/>
            <p:nvPr/>
          </p:nvGrpSpPr>
          <p:grpSpPr>
            <a:xfrm>
              <a:off x="25560" y="2438280"/>
              <a:ext cx="7670520" cy="685800"/>
              <a:chOff x="25560" y="2438280"/>
              <a:chExt cx="7670520" cy="685800"/>
            </a:xfrm>
          </p:grpSpPr>
          <p:sp>
            <p:nvSpPr>
              <p:cNvPr id="895" name=""/>
              <p:cNvSpPr/>
              <p:nvPr/>
            </p:nvSpPr>
            <p:spPr>
              <a:xfrm>
                <a:off x="914400" y="2438280"/>
                <a:ext cx="6781680" cy="685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5560" y="2438280"/>
                <a:ext cx="2108160" cy="685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7" name=""/>
              <p:cNvGrpSpPr/>
              <p:nvPr/>
            </p:nvGrpSpPr>
            <p:grpSpPr>
              <a:xfrm>
                <a:off x="98280" y="2514600"/>
                <a:ext cx="1108080" cy="542880"/>
                <a:chOff x="98280" y="2514600"/>
                <a:chExt cx="1108080" cy="542880"/>
              </a:xfrm>
            </p:grpSpPr>
            <p:pic>
              <p:nvPicPr>
                <p:cNvPr id="898" name="JADElogo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8280" y="2514600"/>
                  <a:ext cx="1108080" cy="542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9" name=""/>
                <p:cNvSpPr txBox="1"/>
                <p:nvPr/>
              </p:nvSpPr>
              <p:spPr>
                <a:xfrm>
                  <a:off x="98280" y="2514600"/>
                  <a:ext cx="1108080" cy="54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rmAutofit/>
                </a:bodyPr>
                <a:p>
                  <a:pPr marL="343080" indent="-343080">
                    <a:spcBef>
                      <a:spcPts val="524"/>
                    </a:spcBef>
                    <a:buClr>
                      <a:srgbClr val="000000"/>
                    </a:buClr>
                    <a:buSzPct val="75000"/>
                    <a:buFont typeface="Webdings" charset="2"/>
                    <a:buChar char="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900" name="fipa" descr=""/>
              <p:cNvPicPr/>
              <p:nvPr/>
            </p:nvPicPr>
            <p:blipFill>
              <a:blip r:embed="rId3"/>
              <a:stretch/>
            </p:blipFill>
            <p:spPr>
              <a:xfrm>
                <a:off x="1219320" y="2514600"/>
                <a:ext cx="838080" cy="577800"/>
              </a:xfrm>
              <a:prstGeom prst="rect">
                <a:avLst/>
              </a:prstGeom>
              <a:ln w="255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901" name=""/>
            <p:cNvSpPr/>
            <p:nvPr/>
          </p:nvSpPr>
          <p:spPr>
            <a:xfrm>
              <a:off x="1244520" y="2413080"/>
              <a:ext cx="650232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2" marL="1143000" indent="-228600">
                <a:lnSpc>
                  <a:spcPct val="70000"/>
                </a:lnSpc>
                <a:spcBef>
                  <a:spcPts val="64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3366"/>
                  </a:solidFill>
                  <a:latin typeface="Times New Roman"/>
                </a:rPr>
                <a:t>Java framework for MAS developme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143000" indent="-228600">
                <a:lnSpc>
                  <a:spcPct val="70000"/>
                </a:lnSpc>
                <a:spcBef>
                  <a:spcPts val="64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3366"/>
                  </a:solidFill>
                  <a:latin typeface="Times New Roman"/>
                </a:rPr>
                <a:t>An Open Source project, © CSEL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2" name=""/>
          <p:cNvSpPr/>
          <p:nvPr/>
        </p:nvSpPr>
        <p:spPr>
          <a:xfrm>
            <a:off x="4038480" y="5486400"/>
            <a:ext cx="297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Cooperating matchmaker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620120" y="809640"/>
            <a:ext cx="1523880" cy="52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porate mem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RD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G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E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rganizatio. approa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950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Architectu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b-societies organiz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ntology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Document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Times New Roman"/>
              </a:rPr>
              <a:t>Connection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User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mma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6CDB3-4310-4D41-9EE9-07EB52F506F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8160" y="-12960"/>
            <a:ext cx="910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Dedicated sub-societies (user)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-152640" y="609120"/>
            <a:ext cx="87627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User dedicated sub-society: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quester &amp; not related to one resource typ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wo main roles : GUI Mgnt &amp; User Profile Mg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500040" y="2362320"/>
            <a:ext cx="7043760" cy="2876400"/>
            <a:chOff x="500040" y="2362320"/>
            <a:chExt cx="7043760" cy="2876400"/>
          </a:xfrm>
        </p:grpSpPr>
        <p:sp>
          <p:nvSpPr>
            <p:cNvPr id="907" name=""/>
            <p:cNvSpPr/>
            <p:nvPr/>
          </p:nvSpPr>
          <p:spPr>
            <a:xfrm>
              <a:off x="500040" y="2362320"/>
              <a:ext cx="317808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587520" y="2489040"/>
              <a:ext cx="446040" cy="474840"/>
              <a:chOff x="587520" y="2489040"/>
              <a:chExt cx="446040" cy="474840"/>
            </a:xfrm>
          </p:grpSpPr>
          <p:grpSp>
            <p:nvGrpSpPr>
              <p:cNvPr id="909" name=""/>
              <p:cNvGrpSpPr/>
              <p:nvPr/>
            </p:nvGrpSpPr>
            <p:grpSpPr>
              <a:xfrm>
                <a:off x="739800" y="2489040"/>
                <a:ext cx="293760" cy="388800"/>
                <a:chOff x="739800" y="2489040"/>
                <a:chExt cx="293760" cy="388800"/>
              </a:xfrm>
            </p:grpSpPr>
            <p:sp>
              <p:nvSpPr>
                <p:cNvPr id="910" name=""/>
                <p:cNvSpPr/>
                <p:nvPr/>
              </p:nvSpPr>
              <p:spPr>
                <a:xfrm>
                  <a:off x="739800" y="268344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V="1">
                  <a:off x="739800" y="248904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2" name=""/>
              <p:cNvGrpSpPr/>
              <p:nvPr/>
            </p:nvGrpSpPr>
            <p:grpSpPr>
              <a:xfrm>
                <a:off x="685800" y="2517840"/>
                <a:ext cx="293760" cy="388800"/>
                <a:chOff x="685800" y="2517840"/>
                <a:chExt cx="293760" cy="38880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685800" y="271224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V="1">
                  <a:off x="685800" y="2517840"/>
                  <a:ext cx="2937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5" name=""/>
              <p:cNvGrpSpPr/>
              <p:nvPr/>
            </p:nvGrpSpPr>
            <p:grpSpPr>
              <a:xfrm>
                <a:off x="641520" y="2546280"/>
                <a:ext cx="293400" cy="388800"/>
                <a:chOff x="641520" y="2546280"/>
                <a:chExt cx="293400" cy="38880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641520" y="274068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flipV="1">
                  <a:off x="641520" y="254628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8" name=""/>
              <p:cNvGrpSpPr/>
              <p:nvPr/>
            </p:nvGrpSpPr>
            <p:grpSpPr>
              <a:xfrm>
                <a:off x="587520" y="2575080"/>
                <a:ext cx="293400" cy="388800"/>
                <a:chOff x="587520" y="2575080"/>
                <a:chExt cx="293400" cy="38880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587520" y="276948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V="1">
                  <a:off x="587520" y="2575080"/>
                  <a:ext cx="2934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21" name=""/>
            <p:cNvSpPr/>
            <p:nvPr/>
          </p:nvSpPr>
          <p:spPr>
            <a:xfrm>
              <a:off x="1090440" y="2379600"/>
              <a:ext cx="2587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Ontology 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465280" y="4503600"/>
              <a:ext cx="3178440" cy="72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3" name=""/>
            <p:cNvGrpSpPr/>
            <p:nvPr/>
          </p:nvGrpSpPr>
          <p:grpSpPr>
            <a:xfrm>
              <a:off x="2682720" y="4641480"/>
              <a:ext cx="408240" cy="473400"/>
              <a:chOff x="2682720" y="4641480"/>
              <a:chExt cx="408240" cy="473400"/>
            </a:xfrm>
          </p:grpSpPr>
          <p:grpSp>
            <p:nvGrpSpPr>
              <p:cNvPr id="924" name=""/>
              <p:cNvGrpSpPr/>
              <p:nvPr/>
            </p:nvGrpSpPr>
            <p:grpSpPr>
              <a:xfrm>
                <a:off x="2821680" y="4641480"/>
                <a:ext cx="269280" cy="388440"/>
                <a:chOff x="2821680" y="4641480"/>
                <a:chExt cx="269280" cy="38844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2821680" y="483588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flipV="1">
                  <a:off x="2821680" y="464112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2772360" y="4669920"/>
                <a:ext cx="269280" cy="388440"/>
                <a:chOff x="2772360" y="4669920"/>
                <a:chExt cx="269280" cy="38844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2772360" y="486432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 flipV="1">
                  <a:off x="2772360" y="466956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0" name=""/>
              <p:cNvGrpSpPr/>
              <p:nvPr/>
            </p:nvGrpSpPr>
            <p:grpSpPr>
              <a:xfrm>
                <a:off x="2731680" y="4698000"/>
                <a:ext cx="269280" cy="388440"/>
                <a:chOff x="2731680" y="4698000"/>
                <a:chExt cx="269280" cy="38844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2731680" y="489240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V="1">
                  <a:off x="2731680" y="469764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2682720" y="4726440"/>
                <a:ext cx="269280" cy="388440"/>
                <a:chOff x="2682720" y="4726440"/>
                <a:chExt cx="269280" cy="38844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2682720" y="492084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flipV="1">
                  <a:off x="2682720" y="472608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6" name=""/>
            <p:cNvSpPr/>
            <p:nvPr/>
          </p:nvSpPr>
          <p:spPr>
            <a:xfrm>
              <a:off x="3203640" y="4533840"/>
              <a:ext cx="24019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User 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63920" y="2362320"/>
              <a:ext cx="317988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4583160" y="2476440"/>
              <a:ext cx="412560" cy="474480"/>
              <a:chOff x="4583160" y="2476440"/>
              <a:chExt cx="412560" cy="474480"/>
            </a:xfrm>
          </p:grpSpPr>
          <p:grpSp>
            <p:nvGrpSpPr>
              <p:cNvPr id="939" name=""/>
              <p:cNvGrpSpPr/>
              <p:nvPr/>
            </p:nvGrpSpPr>
            <p:grpSpPr>
              <a:xfrm>
                <a:off x="4724280" y="2476440"/>
                <a:ext cx="271440" cy="388800"/>
                <a:chOff x="4724280" y="2476440"/>
                <a:chExt cx="271440" cy="388800"/>
              </a:xfrm>
            </p:grpSpPr>
            <p:sp>
              <p:nvSpPr>
                <p:cNvPr id="940" name=""/>
                <p:cNvSpPr/>
                <p:nvPr/>
              </p:nvSpPr>
              <p:spPr>
                <a:xfrm>
                  <a:off x="4724280" y="267084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flipV="1">
                  <a:off x="4724280" y="247644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2" name=""/>
              <p:cNvGrpSpPr/>
              <p:nvPr/>
            </p:nvGrpSpPr>
            <p:grpSpPr>
              <a:xfrm>
                <a:off x="4673520" y="2505240"/>
                <a:ext cx="273240" cy="388800"/>
                <a:chOff x="4673520" y="2505240"/>
                <a:chExt cx="273240" cy="38880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4673520" y="2699640"/>
                  <a:ext cx="2732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V="1">
                  <a:off x="4673520" y="2505240"/>
                  <a:ext cx="2732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4632480" y="2533680"/>
                <a:ext cx="272880" cy="388800"/>
                <a:chOff x="4632480" y="2533680"/>
                <a:chExt cx="272880" cy="38880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632480" y="2728080"/>
                  <a:ext cx="2728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V="1">
                  <a:off x="4632480" y="2533680"/>
                  <a:ext cx="2728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4583160" y="2562120"/>
                <a:ext cx="271440" cy="388800"/>
                <a:chOff x="4583160" y="2562120"/>
                <a:chExt cx="271440" cy="38880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4583160" y="275652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V="1">
                  <a:off x="4583160" y="2562120"/>
                  <a:ext cx="27144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1" name=""/>
            <p:cNvSpPr/>
            <p:nvPr/>
          </p:nvSpPr>
          <p:spPr>
            <a:xfrm>
              <a:off x="4840200" y="2374920"/>
              <a:ext cx="26924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cument 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65280" y="3443400"/>
              <a:ext cx="317844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3" name=""/>
            <p:cNvGrpSpPr/>
            <p:nvPr/>
          </p:nvGrpSpPr>
          <p:grpSpPr>
            <a:xfrm>
              <a:off x="2670120" y="3579480"/>
              <a:ext cx="420840" cy="473400"/>
              <a:chOff x="2670120" y="3579480"/>
              <a:chExt cx="420840" cy="473400"/>
            </a:xfrm>
          </p:grpSpPr>
          <p:grpSp>
            <p:nvGrpSpPr>
              <p:cNvPr id="954" name=""/>
              <p:cNvGrpSpPr/>
              <p:nvPr/>
            </p:nvGrpSpPr>
            <p:grpSpPr>
              <a:xfrm>
                <a:off x="2813400" y="3579480"/>
                <a:ext cx="277560" cy="388440"/>
                <a:chOff x="2813400" y="3579480"/>
                <a:chExt cx="277560" cy="38844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2813400" y="377388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V="1">
                  <a:off x="2813400" y="357912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2762640" y="3607920"/>
                <a:ext cx="277560" cy="388440"/>
                <a:chOff x="2762640" y="3607920"/>
                <a:chExt cx="277560" cy="38844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2762640" y="380232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flipV="1">
                  <a:off x="2762640" y="360756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2720520" y="3636000"/>
                <a:ext cx="277560" cy="388440"/>
                <a:chOff x="2720520" y="3636000"/>
                <a:chExt cx="277560" cy="38844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2720520" y="383040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V="1">
                  <a:off x="2720520" y="363564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2670120" y="3664440"/>
                <a:ext cx="277560" cy="388440"/>
                <a:chOff x="2670120" y="3664440"/>
                <a:chExt cx="277560" cy="38844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2670120" y="385884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flipV="1">
                  <a:off x="2670120" y="3664080"/>
                  <a:ext cx="2775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6" name=""/>
            <p:cNvSpPr/>
            <p:nvPr/>
          </p:nvSpPr>
          <p:spPr>
            <a:xfrm>
              <a:off x="3130560" y="3473280"/>
              <a:ext cx="28083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nection 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760840" y="2940120"/>
              <a:ext cx="738000" cy="614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599000" y="4040280"/>
              <a:ext cx="0" cy="560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4978080" y="2940120"/>
              <a:ext cx="739800" cy="614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7620120" y="809640"/>
            <a:ext cx="1523880" cy="52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porate mem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RD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G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E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rganizatio. approa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950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Architectu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b-societies organiz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ntology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Document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nnection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Times New Roman"/>
              </a:rPr>
              <a:t>User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mma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6425-E85A-4172-95FF-B0134176DE1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160" y="-12960"/>
            <a:ext cx="910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ntroduction to the CoMMA Project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101520" y="622080"/>
            <a:ext cx="80769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CoMMA </a:t>
            </a: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IST European project - February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Objective</a:t>
            </a: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 : Provide a corporate memory management framework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rporate Memory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: An explicit, disembodied and persistent representation of knowledge and information in an organization, in order to facilitate their access and reuse by members of the organization, for their task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nagement Framework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: A supporting structure around which one can build a system insuring coherent integration and exploitation of the dispersed knowled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Specificity: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ew Employee &amp; Technology Monitor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tegration of several emerging technolog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24E9C-ABF4-4BF5-9F3A-69A52E5EB1C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8160" y="-12960"/>
            <a:ext cx="910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Dedicated sub-societies (user)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-152640" y="609480"/>
            <a:ext cx="87627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User dedicated sub-society: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quester &amp; not related to one resource typ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wo main roles : GUI Mgnt &amp; User Profile Mg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ymbolic learning techniqu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2465280" y="4503600"/>
            <a:ext cx="3178440" cy="735120"/>
            <a:chOff x="2465280" y="4503600"/>
            <a:chExt cx="3178440" cy="735120"/>
          </a:xfrm>
        </p:grpSpPr>
        <p:sp>
          <p:nvSpPr>
            <p:cNvPr id="974" name=""/>
            <p:cNvSpPr/>
            <p:nvPr/>
          </p:nvSpPr>
          <p:spPr>
            <a:xfrm>
              <a:off x="2465280" y="4503600"/>
              <a:ext cx="3178440" cy="72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5" name=""/>
            <p:cNvGrpSpPr/>
            <p:nvPr/>
          </p:nvGrpSpPr>
          <p:grpSpPr>
            <a:xfrm>
              <a:off x="2682720" y="4641480"/>
              <a:ext cx="408240" cy="473400"/>
              <a:chOff x="2682720" y="4641480"/>
              <a:chExt cx="408240" cy="473400"/>
            </a:xfrm>
          </p:grpSpPr>
          <p:grpSp>
            <p:nvGrpSpPr>
              <p:cNvPr id="976" name=""/>
              <p:cNvGrpSpPr/>
              <p:nvPr/>
            </p:nvGrpSpPr>
            <p:grpSpPr>
              <a:xfrm>
                <a:off x="2821680" y="4641480"/>
                <a:ext cx="269280" cy="388440"/>
                <a:chOff x="2821680" y="4641480"/>
                <a:chExt cx="269280" cy="388440"/>
              </a:xfrm>
            </p:grpSpPr>
            <p:sp>
              <p:nvSpPr>
                <p:cNvPr id="977" name=""/>
                <p:cNvSpPr/>
                <p:nvPr/>
              </p:nvSpPr>
              <p:spPr>
                <a:xfrm>
                  <a:off x="2821680" y="483588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V="1">
                  <a:off x="2821680" y="464112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9" name=""/>
              <p:cNvGrpSpPr/>
              <p:nvPr/>
            </p:nvGrpSpPr>
            <p:grpSpPr>
              <a:xfrm>
                <a:off x="2772360" y="4669920"/>
                <a:ext cx="269280" cy="388440"/>
                <a:chOff x="2772360" y="4669920"/>
                <a:chExt cx="269280" cy="388440"/>
              </a:xfrm>
            </p:grpSpPr>
            <p:sp>
              <p:nvSpPr>
                <p:cNvPr id="980" name=""/>
                <p:cNvSpPr/>
                <p:nvPr/>
              </p:nvSpPr>
              <p:spPr>
                <a:xfrm>
                  <a:off x="2772360" y="486432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flipV="1">
                  <a:off x="2772360" y="466956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2" name=""/>
              <p:cNvGrpSpPr/>
              <p:nvPr/>
            </p:nvGrpSpPr>
            <p:grpSpPr>
              <a:xfrm>
                <a:off x="2731680" y="4698000"/>
                <a:ext cx="269280" cy="388440"/>
                <a:chOff x="2731680" y="4698000"/>
                <a:chExt cx="269280" cy="388440"/>
              </a:xfrm>
            </p:grpSpPr>
            <p:sp>
              <p:nvSpPr>
                <p:cNvPr id="983" name=""/>
                <p:cNvSpPr/>
                <p:nvPr/>
              </p:nvSpPr>
              <p:spPr>
                <a:xfrm>
                  <a:off x="2731680" y="489240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flipV="1">
                  <a:off x="2731680" y="469764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5" name=""/>
              <p:cNvGrpSpPr/>
              <p:nvPr/>
            </p:nvGrpSpPr>
            <p:grpSpPr>
              <a:xfrm>
                <a:off x="2682720" y="4726440"/>
                <a:ext cx="269280" cy="388440"/>
                <a:chOff x="2682720" y="4726440"/>
                <a:chExt cx="269280" cy="38844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2682720" y="492084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V="1">
                  <a:off x="2682720" y="4726080"/>
                  <a:ext cx="2692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8" name=""/>
            <p:cNvSpPr/>
            <p:nvPr/>
          </p:nvSpPr>
          <p:spPr>
            <a:xfrm>
              <a:off x="3203640" y="4533840"/>
              <a:ext cx="24019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User 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-152280" y="2514600"/>
            <a:ext cx="7924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mpletely different soc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troduce new roles for custo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65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Collaborative filt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65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Automatic annotation gene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286000" y="5105520"/>
            <a:ext cx="3505320" cy="914400"/>
            <a:chOff x="2286000" y="5105520"/>
            <a:chExt cx="3505320" cy="914400"/>
          </a:xfrm>
        </p:grpSpPr>
        <p:sp>
          <p:nvSpPr>
            <p:cNvPr id="991" name=""/>
            <p:cNvSpPr/>
            <p:nvPr/>
          </p:nvSpPr>
          <p:spPr>
            <a:xfrm>
              <a:off x="2286000" y="5334120"/>
              <a:ext cx="26668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Zoom on actual cho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648320" y="5105520"/>
              <a:ext cx="1143000" cy="9144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3" name=""/>
            <p:cNvGrpSpPr/>
            <p:nvPr/>
          </p:nvGrpSpPr>
          <p:grpSpPr>
            <a:xfrm>
              <a:off x="5018400" y="5205240"/>
              <a:ext cx="429480" cy="675000"/>
              <a:chOff x="5018400" y="5205240"/>
              <a:chExt cx="429480" cy="675000"/>
            </a:xfrm>
          </p:grpSpPr>
          <p:grpSp>
            <p:nvGrpSpPr>
              <p:cNvPr id="994" name=""/>
              <p:cNvGrpSpPr/>
              <p:nvPr/>
            </p:nvGrpSpPr>
            <p:grpSpPr>
              <a:xfrm>
                <a:off x="5033520" y="5205240"/>
                <a:ext cx="414360" cy="412920"/>
                <a:chOff x="5033520" y="5205240"/>
                <a:chExt cx="414360" cy="412920"/>
              </a:xfrm>
            </p:grpSpPr>
            <p:grpSp>
              <p:nvGrpSpPr>
                <p:cNvPr id="995" name=""/>
                <p:cNvGrpSpPr/>
                <p:nvPr/>
              </p:nvGrpSpPr>
              <p:grpSpPr>
                <a:xfrm>
                  <a:off x="5033520" y="5211720"/>
                  <a:ext cx="406440" cy="405000"/>
                  <a:chOff x="5033520" y="5211720"/>
                  <a:chExt cx="406440" cy="405000"/>
                </a:xfrm>
              </p:grpSpPr>
              <p:grpSp>
                <p:nvGrpSpPr>
                  <p:cNvPr id="996" name=""/>
                  <p:cNvGrpSpPr/>
                  <p:nvPr/>
                </p:nvGrpSpPr>
                <p:grpSpPr>
                  <a:xfrm>
                    <a:off x="5033520" y="5211720"/>
                    <a:ext cx="406440" cy="405000"/>
                    <a:chOff x="5033520" y="5211720"/>
                    <a:chExt cx="406440" cy="405000"/>
                  </a:xfrm>
                </p:grpSpPr>
                <p:sp>
                  <p:nvSpPr>
                    <p:cNvPr id="997" name=""/>
                    <p:cNvSpPr/>
                    <p:nvPr/>
                  </p:nvSpPr>
                  <p:spPr>
                    <a:xfrm flipH="1">
                      <a:off x="5095080" y="5211720"/>
                      <a:ext cx="344520" cy="23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6" h="739">
                          <a:moveTo>
                            <a:pt x="23" y="739"/>
                          </a:moveTo>
                          <a:lnTo>
                            <a:pt x="7" y="652"/>
                          </a:lnTo>
                          <a:lnTo>
                            <a:pt x="0" y="568"/>
                          </a:lnTo>
                          <a:lnTo>
                            <a:pt x="3" y="510"/>
                          </a:lnTo>
                          <a:lnTo>
                            <a:pt x="13" y="457"/>
                          </a:lnTo>
                          <a:lnTo>
                            <a:pt x="29" y="398"/>
                          </a:lnTo>
                          <a:lnTo>
                            <a:pt x="55" y="340"/>
                          </a:lnTo>
                          <a:lnTo>
                            <a:pt x="88" y="279"/>
                          </a:lnTo>
                          <a:lnTo>
                            <a:pt x="120" y="230"/>
                          </a:lnTo>
                          <a:lnTo>
                            <a:pt x="159" y="181"/>
                          </a:lnTo>
                          <a:lnTo>
                            <a:pt x="205" y="139"/>
                          </a:lnTo>
                          <a:lnTo>
                            <a:pt x="250" y="104"/>
                          </a:lnTo>
                          <a:lnTo>
                            <a:pt x="299" y="75"/>
                          </a:lnTo>
                          <a:lnTo>
                            <a:pt x="359" y="49"/>
                          </a:lnTo>
                          <a:lnTo>
                            <a:pt x="427" y="26"/>
                          </a:lnTo>
                          <a:lnTo>
                            <a:pt x="485" y="10"/>
                          </a:lnTo>
                          <a:lnTo>
                            <a:pt x="557" y="0"/>
                          </a:lnTo>
                          <a:lnTo>
                            <a:pt x="648" y="0"/>
                          </a:lnTo>
                          <a:lnTo>
                            <a:pt x="716" y="13"/>
                          </a:lnTo>
                          <a:lnTo>
                            <a:pt x="797" y="32"/>
                          </a:lnTo>
                          <a:lnTo>
                            <a:pt x="878" y="68"/>
                          </a:lnTo>
                          <a:lnTo>
                            <a:pt x="950" y="110"/>
                          </a:lnTo>
                          <a:lnTo>
                            <a:pt x="998" y="152"/>
                          </a:lnTo>
                          <a:lnTo>
                            <a:pt x="1047" y="201"/>
                          </a:lnTo>
                          <a:lnTo>
                            <a:pt x="1086" y="249"/>
                          </a:lnTo>
                          <a:lnTo>
                            <a:pt x="982" y="172"/>
                          </a:lnTo>
                          <a:lnTo>
                            <a:pt x="927" y="139"/>
                          </a:lnTo>
                          <a:lnTo>
                            <a:pt x="868" y="117"/>
                          </a:lnTo>
                          <a:lnTo>
                            <a:pt x="794" y="94"/>
                          </a:lnTo>
                          <a:lnTo>
                            <a:pt x="722" y="84"/>
                          </a:lnTo>
                          <a:lnTo>
                            <a:pt x="644" y="81"/>
                          </a:lnTo>
                          <a:lnTo>
                            <a:pt x="586" y="84"/>
                          </a:lnTo>
                          <a:lnTo>
                            <a:pt x="524" y="94"/>
                          </a:lnTo>
                          <a:lnTo>
                            <a:pt x="462" y="110"/>
                          </a:lnTo>
                          <a:lnTo>
                            <a:pt x="404" y="130"/>
                          </a:lnTo>
                          <a:lnTo>
                            <a:pt x="339" y="162"/>
                          </a:lnTo>
                          <a:lnTo>
                            <a:pt x="289" y="191"/>
                          </a:lnTo>
                          <a:lnTo>
                            <a:pt x="247" y="227"/>
                          </a:lnTo>
                          <a:lnTo>
                            <a:pt x="198" y="266"/>
                          </a:lnTo>
                          <a:lnTo>
                            <a:pt x="159" y="308"/>
                          </a:lnTo>
                          <a:lnTo>
                            <a:pt x="120" y="366"/>
                          </a:lnTo>
                          <a:lnTo>
                            <a:pt x="85" y="427"/>
                          </a:lnTo>
                          <a:lnTo>
                            <a:pt x="62" y="486"/>
                          </a:lnTo>
                          <a:lnTo>
                            <a:pt x="42" y="555"/>
                          </a:lnTo>
                          <a:lnTo>
                            <a:pt x="29" y="639"/>
                          </a:lnTo>
                          <a:lnTo>
                            <a:pt x="23" y="739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8" name=""/>
                    <p:cNvSpPr/>
                    <p:nvPr/>
                  </p:nvSpPr>
                  <p:spPr>
                    <a:xfrm flipH="1">
                      <a:off x="5033520" y="5327640"/>
                      <a:ext cx="380880" cy="28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8" h="908">
                          <a:moveTo>
                            <a:pt x="0" y="552"/>
                          </a:moveTo>
                          <a:lnTo>
                            <a:pt x="69" y="629"/>
                          </a:lnTo>
                          <a:lnTo>
                            <a:pt x="143" y="697"/>
                          </a:lnTo>
                          <a:lnTo>
                            <a:pt x="211" y="736"/>
                          </a:lnTo>
                          <a:lnTo>
                            <a:pt x="310" y="778"/>
                          </a:lnTo>
                          <a:lnTo>
                            <a:pt x="388" y="801"/>
                          </a:lnTo>
                          <a:lnTo>
                            <a:pt x="459" y="811"/>
                          </a:lnTo>
                          <a:lnTo>
                            <a:pt x="544" y="811"/>
                          </a:lnTo>
                          <a:lnTo>
                            <a:pt x="605" y="804"/>
                          </a:lnTo>
                          <a:lnTo>
                            <a:pt x="680" y="791"/>
                          </a:lnTo>
                          <a:lnTo>
                            <a:pt x="755" y="769"/>
                          </a:lnTo>
                          <a:lnTo>
                            <a:pt x="817" y="736"/>
                          </a:lnTo>
                          <a:lnTo>
                            <a:pt x="875" y="701"/>
                          </a:lnTo>
                          <a:lnTo>
                            <a:pt x="927" y="665"/>
                          </a:lnTo>
                          <a:lnTo>
                            <a:pt x="979" y="613"/>
                          </a:lnTo>
                          <a:lnTo>
                            <a:pt x="1031" y="555"/>
                          </a:lnTo>
                          <a:lnTo>
                            <a:pt x="1071" y="500"/>
                          </a:lnTo>
                          <a:lnTo>
                            <a:pt x="1094" y="445"/>
                          </a:lnTo>
                          <a:lnTo>
                            <a:pt x="1123" y="357"/>
                          </a:lnTo>
                          <a:lnTo>
                            <a:pt x="1142" y="267"/>
                          </a:lnTo>
                          <a:lnTo>
                            <a:pt x="1146" y="186"/>
                          </a:lnTo>
                          <a:lnTo>
                            <a:pt x="1133" y="97"/>
                          </a:lnTo>
                          <a:lnTo>
                            <a:pt x="1103" y="0"/>
                          </a:lnTo>
                          <a:lnTo>
                            <a:pt x="1133" y="52"/>
                          </a:lnTo>
                          <a:lnTo>
                            <a:pt x="1165" y="126"/>
                          </a:lnTo>
                          <a:lnTo>
                            <a:pt x="1181" y="195"/>
                          </a:lnTo>
                          <a:lnTo>
                            <a:pt x="1198" y="260"/>
                          </a:lnTo>
                          <a:lnTo>
                            <a:pt x="1194" y="315"/>
                          </a:lnTo>
                          <a:lnTo>
                            <a:pt x="1191" y="390"/>
                          </a:lnTo>
                          <a:lnTo>
                            <a:pt x="1152" y="532"/>
                          </a:lnTo>
                          <a:lnTo>
                            <a:pt x="1113" y="610"/>
                          </a:lnTo>
                          <a:lnTo>
                            <a:pt x="1064" y="678"/>
                          </a:lnTo>
                          <a:lnTo>
                            <a:pt x="1011" y="736"/>
                          </a:lnTo>
                          <a:lnTo>
                            <a:pt x="959" y="778"/>
                          </a:lnTo>
                          <a:lnTo>
                            <a:pt x="888" y="827"/>
                          </a:lnTo>
                          <a:lnTo>
                            <a:pt x="817" y="859"/>
                          </a:lnTo>
                          <a:lnTo>
                            <a:pt x="748" y="882"/>
                          </a:lnTo>
                          <a:lnTo>
                            <a:pt x="661" y="905"/>
                          </a:lnTo>
                          <a:lnTo>
                            <a:pt x="596" y="908"/>
                          </a:lnTo>
                          <a:lnTo>
                            <a:pt x="524" y="908"/>
                          </a:lnTo>
                          <a:lnTo>
                            <a:pt x="453" y="895"/>
                          </a:lnTo>
                          <a:lnTo>
                            <a:pt x="375" y="879"/>
                          </a:lnTo>
                          <a:lnTo>
                            <a:pt x="323" y="859"/>
                          </a:lnTo>
                          <a:lnTo>
                            <a:pt x="254" y="824"/>
                          </a:lnTo>
                          <a:lnTo>
                            <a:pt x="195" y="791"/>
                          </a:lnTo>
                          <a:lnTo>
                            <a:pt x="140" y="746"/>
                          </a:lnTo>
                          <a:lnTo>
                            <a:pt x="82" y="684"/>
                          </a:lnTo>
                          <a:lnTo>
                            <a:pt x="26" y="607"/>
                          </a:lnTo>
                          <a:lnTo>
                            <a:pt x="0" y="55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99" name=""/>
                  <p:cNvGrpSpPr/>
                  <p:nvPr/>
                </p:nvGrpSpPr>
                <p:grpSpPr>
                  <a:xfrm>
                    <a:off x="5034960" y="5218200"/>
                    <a:ext cx="401760" cy="380880"/>
                    <a:chOff x="5034960" y="5218200"/>
                    <a:chExt cx="401760" cy="380880"/>
                  </a:xfrm>
                </p:grpSpPr>
                <p:sp>
                  <p:nvSpPr>
                    <p:cNvPr id="1000" name=""/>
                    <p:cNvSpPr/>
                    <p:nvPr/>
                  </p:nvSpPr>
                  <p:spPr>
                    <a:xfrm flipH="1">
                      <a:off x="5315760" y="5503680"/>
                      <a:ext cx="98280" cy="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300">
                          <a:moveTo>
                            <a:pt x="0" y="0"/>
                          </a:moveTo>
                          <a:lnTo>
                            <a:pt x="33" y="60"/>
                          </a:lnTo>
                          <a:lnTo>
                            <a:pt x="64" y="107"/>
                          </a:lnTo>
                          <a:lnTo>
                            <a:pt x="98" y="149"/>
                          </a:lnTo>
                          <a:lnTo>
                            <a:pt x="150" y="199"/>
                          </a:lnTo>
                          <a:lnTo>
                            <a:pt x="189" y="232"/>
                          </a:lnTo>
                          <a:lnTo>
                            <a:pt x="238" y="263"/>
                          </a:lnTo>
                          <a:lnTo>
                            <a:pt x="311" y="300"/>
                          </a:lnTo>
                          <a:lnTo>
                            <a:pt x="230" y="190"/>
                          </a:lnTo>
                          <a:lnTo>
                            <a:pt x="184" y="164"/>
                          </a:lnTo>
                          <a:lnTo>
                            <a:pt x="152" y="141"/>
                          </a:lnTo>
                          <a:lnTo>
                            <a:pt x="104" y="109"/>
                          </a:lnTo>
                          <a:lnTo>
                            <a:pt x="67" y="74"/>
                          </a:lnTo>
                          <a:lnTo>
                            <a:pt x="38" y="4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1" name=""/>
                    <p:cNvSpPr/>
                    <p:nvPr/>
                  </p:nvSpPr>
                  <p:spPr>
                    <a:xfrm flipH="1">
                      <a:off x="5034600" y="5326200"/>
                      <a:ext cx="34920" cy="18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590">
                          <a:moveTo>
                            <a:pt x="21" y="0"/>
                          </a:moveTo>
                          <a:lnTo>
                            <a:pt x="42" y="40"/>
                          </a:lnTo>
                          <a:lnTo>
                            <a:pt x="56" y="75"/>
                          </a:lnTo>
                          <a:lnTo>
                            <a:pt x="71" y="111"/>
                          </a:lnTo>
                          <a:lnTo>
                            <a:pt x="82" y="145"/>
                          </a:lnTo>
                          <a:lnTo>
                            <a:pt x="91" y="178"/>
                          </a:lnTo>
                          <a:lnTo>
                            <a:pt x="107" y="235"/>
                          </a:lnTo>
                          <a:lnTo>
                            <a:pt x="111" y="291"/>
                          </a:lnTo>
                          <a:lnTo>
                            <a:pt x="108" y="377"/>
                          </a:lnTo>
                          <a:lnTo>
                            <a:pt x="101" y="436"/>
                          </a:lnTo>
                          <a:lnTo>
                            <a:pt x="89" y="483"/>
                          </a:lnTo>
                          <a:lnTo>
                            <a:pt x="70" y="533"/>
                          </a:lnTo>
                          <a:lnTo>
                            <a:pt x="45" y="590"/>
                          </a:lnTo>
                          <a:lnTo>
                            <a:pt x="0" y="479"/>
                          </a:lnTo>
                          <a:lnTo>
                            <a:pt x="21" y="430"/>
                          </a:lnTo>
                          <a:lnTo>
                            <a:pt x="30" y="404"/>
                          </a:lnTo>
                          <a:lnTo>
                            <a:pt x="42" y="371"/>
                          </a:lnTo>
                          <a:lnTo>
                            <a:pt x="50" y="336"/>
                          </a:lnTo>
                          <a:lnTo>
                            <a:pt x="56" y="283"/>
                          </a:lnTo>
                          <a:lnTo>
                            <a:pt x="59" y="239"/>
                          </a:lnTo>
                          <a:lnTo>
                            <a:pt x="59" y="173"/>
                          </a:lnTo>
                          <a:lnTo>
                            <a:pt x="50" y="114"/>
                          </a:lnTo>
                          <a:lnTo>
                            <a:pt x="39" y="65"/>
                          </a:lnTo>
                          <a:lnTo>
                            <a:pt x="32" y="39"/>
                          </a:lnTo>
                          <a:lnTo>
                            <a:pt x="21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2" name=""/>
                    <p:cNvSpPr/>
                    <p:nvPr/>
                  </p:nvSpPr>
                  <p:spPr>
                    <a:xfrm flipH="1">
                      <a:off x="5114520" y="5218200"/>
                      <a:ext cx="13968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1" h="178">
                          <a:moveTo>
                            <a:pt x="0" y="0"/>
                          </a:moveTo>
                          <a:lnTo>
                            <a:pt x="33" y="65"/>
                          </a:lnTo>
                          <a:lnTo>
                            <a:pt x="85" y="62"/>
                          </a:lnTo>
                          <a:lnTo>
                            <a:pt x="133" y="65"/>
                          </a:lnTo>
                          <a:lnTo>
                            <a:pt x="177" y="72"/>
                          </a:lnTo>
                          <a:lnTo>
                            <a:pt x="218" y="79"/>
                          </a:lnTo>
                          <a:lnTo>
                            <a:pt x="259" y="90"/>
                          </a:lnTo>
                          <a:lnTo>
                            <a:pt x="288" y="99"/>
                          </a:lnTo>
                          <a:lnTo>
                            <a:pt x="324" y="114"/>
                          </a:lnTo>
                          <a:lnTo>
                            <a:pt x="367" y="134"/>
                          </a:lnTo>
                          <a:lnTo>
                            <a:pt x="441" y="178"/>
                          </a:lnTo>
                          <a:lnTo>
                            <a:pt x="398" y="133"/>
                          </a:lnTo>
                          <a:lnTo>
                            <a:pt x="368" y="110"/>
                          </a:lnTo>
                          <a:lnTo>
                            <a:pt x="328" y="84"/>
                          </a:lnTo>
                          <a:lnTo>
                            <a:pt x="303" y="69"/>
                          </a:lnTo>
                          <a:lnTo>
                            <a:pt x="247" y="43"/>
                          </a:lnTo>
                          <a:lnTo>
                            <a:pt x="212" y="31"/>
                          </a:lnTo>
                          <a:lnTo>
                            <a:pt x="183" y="21"/>
                          </a:lnTo>
                          <a:lnTo>
                            <a:pt x="155" y="14"/>
                          </a:lnTo>
                          <a:lnTo>
                            <a:pt x="113" y="7"/>
                          </a:lnTo>
                          <a:lnTo>
                            <a:pt x="69" y="1"/>
                          </a:lnTo>
                          <a:lnTo>
                            <a:pt x="19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3" name=""/>
                    <p:cNvSpPr/>
                    <p:nvPr/>
                  </p:nvSpPr>
                  <p:spPr>
                    <a:xfrm flipH="1">
                      <a:off x="5392080" y="5297400"/>
                      <a:ext cx="4428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1" h="417">
                          <a:moveTo>
                            <a:pt x="0" y="320"/>
                          </a:moveTo>
                          <a:lnTo>
                            <a:pt x="3" y="288"/>
                          </a:lnTo>
                          <a:lnTo>
                            <a:pt x="5" y="252"/>
                          </a:lnTo>
                          <a:lnTo>
                            <a:pt x="15" y="195"/>
                          </a:lnTo>
                          <a:lnTo>
                            <a:pt x="26" y="150"/>
                          </a:lnTo>
                          <a:lnTo>
                            <a:pt x="41" y="109"/>
                          </a:lnTo>
                          <a:lnTo>
                            <a:pt x="60" y="67"/>
                          </a:lnTo>
                          <a:lnTo>
                            <a:pt x="78" y="34"/>
                          </a:lnTo>
                          <a:lnTo>
                            <a:pt x="99" y="0"/>
                          </a:lnTo>
                          <a:lnTo>
                            <a:pt x="141" y="54"/>
                          </a:lnTo>
                          <a:lnTo>
                            <a:pt x="117" y="86"/>
                          </a:lnTo>
                          <a:lnTo>
                            <a:pt x="99" y="115"/>
                          </a:lnTo>
                          <a:lnTo>
                            <a:pt x="85" y="142"/>
                          </a:lnTo>
                          <a:lnTo>
                            <a:pt x="65" y="180"/>
                          </a:lnTo>
                          <a:lnTo>
                            <a:pt x="52" y="213"/>
                          </a:lnTo>
                          <a:lnTo>
                            <a:pt x="44" y="246"/>
                          </a:lnTo>
                          <a:lnTo>
                            <a:pt x="34" y="278"/>
                          </a:lnTo>
                          <a:lnTo>
                            <a:pt x="28" y="314"/>
                          </a:lnTo>
                          <a:lnTo>
                            <a:pt x="23" y="357"/>
                          </a:lnTo>
                          <a:lnTo>
                            <a:pt x="18" y="400"/>
                          </a:lnTo>
                          <a:lnTo>
                            <a:pt x="11" y="417"/>
                          </a:lnTo>
                          <a:lnTo>
                            <a:pt x="0" y="32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04" name=""/>
                <p:cNvSpPr/>
                <p:nvPr/>
              </p:nvSpPr>
              <p:spPr>
                <a:xfrm flipH="1">
                  <a:off x="5033160" y="5237280"/>
                  <a:ext cx="398520" cy="380880"/>
                </a:xfrm>
                <a:prstGeom prst="ellipse">
                  <a:avLst/>
                </a:prstGeom>
                <a:noFill/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05" name=""/>
                <p:cNvGrpSpPr/>
                <p:nvPr/>
              </p:nvGrpSpPr>
              <p:grpSpPr>
                <a:xfrm>
                  <a:off x="5049360" y="5205240"/>
                  <a:ext cx="398520" cy="381240"/>
                  <a:chOff x="5049360" y="5205240"/>
                  <a:chExt cx="398520" cy="381240"/>
                </a:xfrm>
              </p:grpSpPr>
              <p:sp>
                <p:nvSpPr>
                  <p:cNvPr id="1006" name=""/>
                  <p:cNvSpPr/>
                  <p:nvPr/>
                </p:nvSpPr>
                <p:spPr>
                  <a:xfrm flipH="1">
                    <a:off x="5055840" y="5211720"/>
                    <a:ext cx="387360" cy="370080"/>
                  </a:xfrm>
                  <a:prstGeom prst="ellipse">
                    <a:avLst/>
                  </a:prstGeom>
                  <a:noFill/>
                  <a:ln w="14400">
                    <a:solidFill>
                      <a:srgbClr val="9f9f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 flipH="1">
                    <a:off x="5049000" y="5205240"/>
                    <a:ext cx="398520" cy="381240"/>
                  </a:xfrm>
                  <a:prstGeom prst="ellipse">
                    <a:avLst/>
                  </a:prstGeom>
                  <a:noFill/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 flipH="1">
                    <a:off x="5061600" y="5218200"/>
                    <a:ext cx="374760" cy="357120"/>
                  </a:xfrm>
                  <a:prstGeom prst="ellipse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9" name=""/>
              <p:cNvGrpSpPr/>
              <p:nvPr/>
            </p:nvGrpSpPr>
            <p:grpSpPr>
              <a:xfrm>
                <a:off x="5018400" y="5564160"/>
                <a:ext cx="202680" cy="316080"/>
                <a:chOff x="5018400" y="5564160"/>
                <a:chExt cx="202680" cy="316080"/>
              </a:xfrm>
            </p:grpSpPr>
            <p:sp>
              <p:nvSpPr>
                <p:cNvPr id="1010" name=""/>
                <p:cNvSpPr/>
                <p:nvPr/>
              </p:nvSpPr>
              <p:spPr>
                <a:xfrm flipH="1">
                  <a:off x="5024520" y="5580000"/>
                  <a:ext cx="194760" cy="277920"/>
                </a:xfrm>
                <a:custGeom>
                  <a:avLst/>
                  <a:gdLst/>
                  <a:ahLst/>
                  <a:rect l="l" t="t" r="r" b="b"/>
                  <a:pathLst>
                    <a:path w="611" h="873">
                      <a:moveTo>
                        <a:pt x="0" y="65"/>
                      </a:moveTo>
                      <a:lnTo>
                        <a:pt x="433" y="873"/>
                      </a:lnTo>
                      <a:lnTo>
                        <a:pt x="611" y="783"/>
                      </a:lnTo>
                      <a:lnTo>
                        <a:pt x="175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H="1">
                  <a:off x="5161320" y="5564160"/>
                  <a:ext cx="58320" cy="54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38" y="13843"/>
                      </a:moveTo>
                      <a:arcTo wR="10800" hR="10800" stAng="9818105" swAng="105542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38" y="13843"/>
                      </a:moveTo>
                      <a:arcTo wR="10800" hR="10800" stAng="9818105" swAng="10554234"/>
                    </a:path>
                  </a:pathLst>
                </a:custGeom>
                <a:solidFill>
                  <a:srgbClr val="5f3f1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H="1">
                  <a:off x="5158440" y="5568840"/>
                  <a:ext cx="59400" cy="60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9" y="11931"/>
                      </a:moveTo>
                      <a:arcTo wR="10800" hR="10800" stAng="10439460" swAng="1005444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9" y="11931"/>
                      </a:moveTo>
                      <a:arcTo wR="10800" hR="10800" stAng="10439460" swAng="10054443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flipH="1">
                  <a:off x="5184360" y="5568840"/>
                  <a:ext cx="36360" cy="69840"/>
                </a:xfrm>
                <a:custGeom>
                  <a:avLst/>
                  <a:gdLst/>
                  <a:ahLst/>
                  <a:rect l="l" t="t" r="r" b="b"/>
                  <a:pathLst>
                    <a:path w="115" h="223">
                      <a:moveTo>
                        <a:pt x="3" y="103"/>
                      </a:moveTo>
                      <a:lnTo>
                        <a:pt x="0" y="88"/>
                      </a:lnTo>
                      <a:lnTo>
                        <a:pt x="0" y="74"/>
                      </a:lnTo>
                      <a:lnTo>
                        <a:pt x="2" y="62"/>
                      </a:lnTo>
                      <a:lnTo>
                        <a:pt x="6" y="45"/>
                      </a:lnTo>
                      <a:lnTo>
                        <a:pt x="13" y="31"/>
                      </a:lnTo>
                      <a:lnTo>
                        <a:pt x="22" y="18"/>
                      </a:lnTo>
                      <a:lnTo>
                        <a:pt x="33" y="7"/>
                      </a:lnTo>
                      <a:lnTo>
                        <a:pt x="44" y="0"/>
                      </a:lnTo>
                      <a:lnTo>
                        <a:pt x="115" y="121"/>
                      </a:lnTo>
                      <a:lnTo>
                        <a:pt x="102" y="128"/>
                      </a:lnTo>
                      <a:lnTo>
                        <a:pt x="94" y="137"/>
                      </a:lnTo>
                      <a:lnTo>
                        <a:pt x="85" y="145"/>
                      </a:lnTo>
                      <a:lnTo>
                        <a:pt x="79" y="156"/>
                      </a:lnTo>
                      <a:lnTo>
                        <a:pt x="71" y="176"/>
                      </a:lnTo>
                      <a:lnTo>
                        <a:pt x="67" y="202"/>
                      </a:lnTo>
                      <a:lnTo>
                        <a:pt x="67" y="223"/>
                      </a:lnTo>
                      <a:lnTo>
                        <a:pt x="3" y="103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 flipH="1">
                  <a:off x="5159880" y="5565600"/>
                  <a:ext cx="59400" cy="54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58" y="13146"/>
                      </a:moveTo>
                      <a:arcTo wR="10800" hR="10800" stAng="10047177" swAng="487594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58" y="13146"/>
                      </a:moveTo>
                      <a:arcTo wR="10800" hR="10800" stAng="10047177" swAng="4875948"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 flipH="1">
                  <a:off x="5139360" y="5603760"/>
                  <a:ext cx="59400" cy="56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01" y="13333"/>
                      </a:moveTo>
                      <a:arcTo wR="10800" hR="10800" stAng="9986129" swAng="1042014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01" y="13333"/>
                      </a:moveTo>
                      <a:arcTo wR="10800" hR="10800" stAng="9986129" swAng="10420145"/>
                    </a:path>
                  </a:pathLst>
                </a:custGeom>
                <a:solidFill>
                  <a:srgbClr val="7f3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6" name=""/>
                <p:cNvGrpSpPr/>
                <p:nvPr/>
              </p:nvGrpSpPr>
              <p:grpSpPr>
                <a:xfrm>
                  <a:off x="5135400" y="5608440"/>
                  <a:ext cx="61920" cy="62640"/>
                  <a:chOff x="5135400" y="5608440"/>
                  <a:chExt cx="61920" cy="62640"/>
                </a:xfrm>
              </p:grpSpPr>
              <p:grpSp>
                <p:nvGrpSpPr>
                  <p:cNvPr id="1017" name=""/>
                  <p:cNvGrpSpPr/>
                  <p:nvPr/>
                </p:nvGrpSpPr>
                <p:grpSpPr>
                  <a:xfrm>
                    <a:off x="5138280" y="5608440"/>
                    <a:ext cx="59040" cy="56160"/>
                    <a:chOff x="5138280" y="5608440"/>
                    <a:chExt cx="59040" cy="56160"/>
                  </a:xfrm>
                </p:grpSpPr>
                <p:sp>
                  <p:nvSpPr>
                    <p:cNvPr id="1018" name=""/>
                    <p:cNvSpPr/>
                    <p:nvPr/>
                  </p:nvSpPr>
                  <p:spPr>
                    <a:xfrm flipH="1">
                      <a:off x="5138280" y="5608440"/>
                      <a:ext cx="5904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301" y="13333"/>
                          </a:moveTo>
                          <a:arcTo wR="10800" hR="10800" stAng="9986129" swAng="1060691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301" y="13333"/>
                          </a:moveTo>
                          <a:arcTo wR="10800" hR="10800" stAng="9986129" swAng="10606913"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9" name=""/>
                    <p:cNvSpPr/>
                    <p:nvPr/>
                  </p:nvSpPr>
                  <p:spPr>
                    <a:xfrm flipH="1">
                      <a:off x="5138280" y="5608800"/>
                      <a:ext cx="586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301" y="13333"/>
                          </a:moveTo>
                          <a:arcTo wR="10800" hR="10800" stAng="9986129" swAng="4570572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301" y="13333"/>
                          </a:moveTo>
                          <a:arcTo wR="10800" hR="10800" stAng="9986129" swAng="4570572"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 flipH="1">
                      <a:off x="5138640" y="5608440"/>
                      <a:ext cx="5760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6" y="13270"/>
                          </a:moveTo>
                          <a:arcTo wR="10800" hR="10800" stAng="10006785" swAng="1061132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6" y="13270"/>
                          </a:moveTo>
                          <a:arcTo wR="10800" hR="10800" stAng="10006785" swAng="10611320"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1" name=""/>
                  <p:cNvSpPr/>
                  <p:nvPr/>
                </p:nvSpPr>
                <p:spPr>
                  <a:xfrm flipH="1">
                    <a:off x="5135400" y="5614920"/>
                    <a:ext cx="57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86" y="13270"/>
                        </a:moveTo>
                        <a:arcTo wR="10800" hR="10800" stAng="10006785" swAng="1061132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86" y="13270"/>
                        </a:moveTo>
                        <a:arcTo wR="10800" hR="10800" stAng="10006785" swAng="10611320"/>
                      </a:path>
                    </a:pathLst>
                  </a:custGeom>
                  <a:solidFill>
                    <a:srgbClr val="7f3f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2" name=""/>
                <p:cNvGrpSpPr/>
                <p:nvPr/>
              </p:nvGrpSpPr>
              <p:grpSpPr>
                <a:xfrm>
                  <a:off x="5129640" y="5619240"/>
                  <a:ext cx="61560" cy="63000"/>
                  <a:chOff x="5129640" y="5619240"/>
                  <a:chExt cx="61560" cy="63000"/>
                </a:xfrm>
              </p:grpSpPr>
              <p:grpSp>
                <p:nvGrpSpPr>
                  <p:cNvPr id="1023" name=""/>
                  <p:cNvGrpSpPr/>
                  <p:nvPr/>
                </p:nvGrpSpPr>
                <p:grpSpPr>
                  <a:xfrm>
                    <a:off x="5131800" y="5619240"/>
                    <a:ext cx="59400" cy="57600"/>
                    <a:chOff x="5131800" y="5619240"/>
                    <a:chExt cx="59400" cy="57600"/>
                  </a:xfrm>
                </p:grpSpPr>
                <p:sp>
                  <p:nvSpPr>
                    <p:cNvPr id="1024" name=""/>
                    <p:cNvSpPr/>
                    <p:nvPr/>
                  </p:nvSpPr>
                  <p:spPr>
                    <a:xfrm flipH="1">
                      <a:off x="5132160" y="5619600"/>
                      <a:ext cx="5868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5" y="13266"/>
                          </a:moveTo>
                          <a:arcTo wR="10800" hR="10800" stAng="10007935" swAng="108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5" y="13266"/>
                          </a:moveTo>
                          <a:arcTo wR="10800" hR="10800" stAng="10007935" swAng="10800000"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5" name=""/>
                    <p:cNvSpPr/>
                    <p:nvPr/>
                  </p:nvSpPr>
                  <p:spPr>
                    <a:xfrm flipH="1">
                      <a:off x="5131440" y="5619240"/>
                      <a:ext cx="59400" cy="5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5" y="13266"/>
                          </a:moveTo>
                          <a:arcTo wR="10800" hR="10800" stAng="10007935" swAng="441517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5" y="13266"/>
                          </a:moveTo>
                          <a:arcTo wR="10800" hR="10800" stAng="10007935" swAng="4415176"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6" name=""/>
                    <p:cNvSpPr/>
                    <p:nvPr/>
                  </p:nvSpPr>
                  <p:spPr>
                    <a:xfrm flipH="1">
                      <a:off x="5132880" y="5619600"/>
                      <a:ext cx="56880" cy="5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44" y="13084"/>
                          </a:moveTo>
                          <a:arcTo wR="10800" hR="10800" stAng="10067453" swAng="10716857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44" y="13084"/>
                          </a:moveTo>
                          <a:arcTo wR="10800" hR="10800" stAng="10067453" swAng="10716857"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7" name=""/>
                  <p:cNvSpPr/>
                  <p:nvPr/>
                </p:nvSpPr>
                <p:spPr>
                  <a:xfrm flipH="1">
                    <a:off x="5129280" y="5626080"/>
                    <a:ext cx="5868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3"/>
                        </a:moveTo>
                        <a:arcTo wR="10800" hR="10800" stAng="9986129" swAng="108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3"/>
                        </a:moveTo>
                        <a:arcTo wR="10800" hR="10800" stAng="9986129" swAng="10800000"/>
                      </a:path>
                    </a:pathLst>
                  </a:custGeom>
                  <a:solidFill>
                    <a:srgbClr val="7f3f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8" name=""/>
                <p:cNvGrpSpPr/>
                <p:nvPr/>
              </p:nvGrpSpPr>
              <p:grpSpPr>
                <a:xfrm>
                  <a:off x="5125320" y="5630400"/>
                  <a:ext cx="59400" cy="57600"/>
                  <a:chOff x="5125320" y="5630400"/>
                  <a:chExt cx="59400" cy="57600"/>
                </a:xfrm>
              </p:grpSpPr>
              <p:sp>
                <p:nvSpPr>
                  <p:cNvPr id="1029" name=""/>
                  <p:cNvSpPr/>
                  <p:nvPr/>
                </p:nvSpPr>
                <p:spPr>
                  <a:xfrm flipH="1">
                    <a:off x="5125680" y="5630760"/>
                    <a:ext cx="58680" cy="56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3" y="12671"/>
                        </a:moveTo>
                        <a:arcTo wR="10800" hR="10800" stAng="10201338" swAng="106065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3" y="12671"/>
                        </a:moveTo>
                        <a:arcTo wR="10800" hR="10800" stAng="10201338" swAng="10606598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 flipH="1">
                    <a:off x="5124960" y="5630400"/>
                    <a:ext cx="5940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3" y="12671"/>
                        </a:moveTo>
                        <a:arcTo wR="10800" hR="10800" stAng="10201338" swAng="422177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3" y="12671"/>
                        </a:moveTo>
                        <a:arcTo wR="10800" hR="10800" stAng="10201338" swAng="4221774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1" name=""/>
                <p:cNvGrpSpPr/>
                <p:nvPr/>
              </p:nvGrpSpPr>
              <p:grpSpPr>
                <a:xfrm>
                  <a:off x="5123160" y="5630760"/>
                  <a:ext cx="61560" cy="62280"/>
                  <a:chOff x="5123160" y="5630760"/>
                  <a:chExt cx="61560" cy="6228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 flipH="1">
                    <a:off x="5125680" y="5630760"/>
                    <a:ext cx="5868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85" y="13266"/>
                        </a:moveTo>
                        <a:arcTo wR="10800" hR="10800" stAng="10007935" swAng="108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85" y="13266"/>
                        </a:moveTo>
                        <a:arcTo wR="10800" hR="10800" stAng="10007935" swAng="10800000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 flipH="1">
                    <a:off x="5122800" y="5637240"/>
                    <a:ext cx="5868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73" y="12723"/>
                        </a:moveTo>
                        <a:arcTo wR="10800" hR="10800" stAng="10184591" swAng="106015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73" y="12723"/>
                        </a:moveTo>
                        <a:arcTo wR="10800" hR="10800" stAng="10184591" swAng="10601538"/>
                      </a:path>
                    </a:pathLst>
                  </a:custGeom>
                  <a:solidFill>
                    <a:srgbClr val="7f3f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4" name=""/>
                <p:cNvGrpSpPr/>
                <p:nvPr/>
              </p:nvGrpSpPr>
              <p:grpSpPr>
                <a:xfrm>
                  <a:off x="5025240" y="5581800"/>
                  <a:ext cx="192960" cy="277560"/>
                  <a:chOff x="5025240" y="5581800"/>
                  <a:chExt cx="192960" cy="277560"/>
                </a:xfrm>
              </p:grpSpPr>
              <p:sp>
                <p:nvSpPr>
                  <p:cNvPr id="1035" name=""/>
                  <p:cNvSpPr/>
                  <p:nvPr/>
                </p:nvSpPr>
                <p:spPr>
                  <a:xfrm flipH="1">
                    <a:off x="5025240" y="5581800"/>
                    <a:ext cx="137520" cy="2473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 flipH="1">
                    <a:off x="5080320" y="5600520"/>
                    <a:ext cx="137880" cy="2588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7" name=""/>
                <p:cNvGrpSpPr/>
                <p:nvPr/>
              </p:nvGrpSpPr>
              <p:grpSpPr>
                <a:xfrm>
                  <a:off x="5117040" y="5641560"/>
                  <a:ext cx="61200" cy="61200"/>
                  <a:chOff x="5117040" y="5641560"/>
                  <a:chExt cx="61200" cy="61200"/>
                </a:xfrm>
              </p:grpSpPr>
              <p:grpSp>
                <p:nvGrpSpPr>
                  <p:cNvPr id="1038" name=""/>
                  <p:cNvGrpSpPr/>
                  <p:nvPr/>
                </p:nvGrpSpPr>
                <p:grpSpPr>
                  <a:xfrm>
                    <a:off x="5119560" y="5641560"/>
                    <a:ext cx="58680" cy="57600"/>
                    <a:chOff x="5119560" y="5641560"/>
                    <a:chExt cx="58680" cy="57600"/>
                  </a:xfrm>
                </p:grpSpPr>
                <p:sp>
                  <p:nvSpPr>
                    <p:cNvPr id="1039" name=""/>
                    <p:cNvSpPr/>
                    <p:nvPr/>
                  </p:nvSpPr>
                  <p:spPr>
                    <a:xfrm flipH="1">
                      <a:off x="5119200" y="5641920"/>
                      <a:ext cx="5868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3" y="12671"/>
                          </a:moveTo>
                          <a:arcTo wR="10800" hR="10800" stAng="10201338" swAng="1060659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3" y="12671"/>
                          </a:moveTo>
                          <a:arcTo wR="10800" hR="10800" stAng="10201338" swAng="10606598"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0" name=""/>
                    <p:cNvSpPr/>
                    <p:nvPr/>
                  </p:nvSpPr>
                  <p:spPr>
                    <a:xfrm flipH="1">
                      <a:off x="5119200" y="5641560"/>
                      <a:ext cx="58680" cy="5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3" y="12671"/>
                          </a:moveTo>
                          <a:arcTo wR="10800" hR="10800" stAng="10201338" swAng="422177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3" y="12671"/>
                          </a:moveTo>
                          <a:arcTo wR="10800" hR="10800" stAng="10201338" swAng="4221774"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1" name=""/>
                  <p:cNvSpPr/>
                  <p:nvPr/>
                </p:nvSpPr>
                <p:spPr>
                  <a:xfrm flipH="1">
                    <a:off x="5119200" y="5641920"/>
                    <a:ext cx="5868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73" y="12723"/>
                        </a:moveTo>
                        <a:arcTo wR="10800" hR="10800" stAng="10184591" swAng="106015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73" y="12723"/>
                        </a:moveTo>
                        <a:arcTo wR="10800" hR="10800" stAng="10184591" swAng="10601538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 flipH="1">
                    <a:off x="5116680" y="5646600"/>
                    <a:ext cx="5868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85" y="13266"/>
                        </a:moveTo>
                        <a:arcTo wR="10800" hR="10800" stAng="10007935" swAng="108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85" y="13266"/>
                        </a:moveTo>
                        <a:arcTo wR="10800" hR="10800" stAng="10007935" swAng="10800000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43" name=""/>
                <p:cNvSpPr/>
                <p:nvPr/>
              </p:nvSpPr>
              <p:spPr>
                <a:xfrm flipH="1">
                  <a:off x="5058000" y="5648400"/>
                  <a:ext cx="118800" cy="204840"/>
                </a:xfrm>
                <a:custGeom>
                  <a:avLst/>
                  <a:gdLst/>
                  <a:ahLst/>
                  <a:rect l="l" t="t" r="r" b="b"/>
                  <a:pathLst>
                    <a:path w="377" h="645">
                      <a:moveTo>
                        <a:pt x="48" y="0"/>
                      </a:moveTo>
                      <a:lnTo>
                        <a:pt x="34" y="9"/>
                      </a:lnTo>
                      <a:lnTo>
                        <a:pt x="23" y="18"/>
                      </a:lnTo>
                      <a:lnTo>
                        <a:pt x="13" y="28"/>
                      </a:lnTo>
                      <a:lnTo>
                        <a:pt x="9" y="39"/>
                      </a:lnTo>
                      <a:lnTo>
                        <a:pt x="4" y="51"/>
                      </a:lnTo>
                      <a:lnTo>
                        <a:pt x="1" y="63"/>
                      </a:lnTo>
                      <a:lnTo>
                        <a:pt x="0" y="77"/>
                      </a:lnTo>
                      <a:lnTo>
                        <a:pt x="0" y="93"/>
                      </a:lnTo>
                      <a:lnTo>
                        <a:pt x="292" y="645"/>
                      </a:lnTo>
                      <a:lnTo>
                        <a:pt x="377" y="58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 flipH="1">
                  <a:off x="5018400" y="5818320"/>
                  <a:ext cx="64800" cy="61920"/>
                </a:xfrm>
                <a:prstGeom prst="ellipse">
                  <a:avLst/>
                </a:prstGeom>
                <a:solidFill>
                  <a:srgbClr val="7f5f3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45" name=""/>
          <p:cNvSpPr/>
          <p:nvPr/>
        </p:nvSpPr>
        <p:spPr>
          <a:xfrm>
            <a:off x="-152280" y="6095880"/>
            <a:ext cx="693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UIM, UPM, PA, PIGM, EID...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.f.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620120" y="809640"/>
            <a:ext cx="1523880" cy="52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porate mem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RD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G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E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rganizatio. approa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950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Architectu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b-societies organiz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ntology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Document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nnection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Times New Roman"/>
              </a:rPr>
              <a:t>User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mma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13556-5F10-4B03-B3A6-B085AF747E6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8160" y="-12960"/>
            <a:ext cx="910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Summarizing the claims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-360" y="533520"/>
            <a:ext cx="7620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Corporate memories are heterogeneous and distributed information landscapes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Stakeholders are a heterogeneous and distributed population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Exploitation of CM involves heterogeneous and distributed tasks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0" y="3505320"/>
            <a:ext cx="7162920" cy="609480"/>
            <a:chOff x="0" y="3505320"/>
            <a:chExt cx="7162920" cy="609480"/>
          </a:xfrm>
        </p:grpSpPr>
        <p:sp>
          <p:nvSpPr>
            <p:cNvPr id="1050" name=""/>
            <p:cNvSpPr/>
            <p:nvPr/>
          </p:nvSpPr>
          <p:spPr>
            <a:xfrm>
              <a:off x="0" y="3505320"/>
              <a:ext cx="346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3366"/>
                  </a:solidFill>
                  <a:uFillTx/>
                  <a:latin typeface="Times New Roman"/>
                </a:rPr>
                <a:t>CM Materializ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691080" y="3505320"/>
              <a:ext cx="3090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3366"/>
                  </a:solidFill>
                  <a:uFillTx/>
                  <a:latin typeface="Times New Roman"/>
                </a:rPr>
                <a:t>CM Exploi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6320" y="3543480"/>
              <a:ext cx="3276360" cy="49500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352680" y="3543480"/>
              <a:ext cx="3810240" cy="49500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76320" y="4038480"/>
            <a:ext cx="7086600" cy="2057400"/>
            <a:chOff x="76320" y="4038480"/>
            <a:chExt cx="7086600" cy="2057400"/>
          </a:xfrm>
        </p:grpSpPr>
        <p:sp>
          <p:nvSpPr>
            <p:cNvPr id="1055" name=""/>
            <p:cNvSpPr/>
            <p:nvPr/>
          </p:nvSpPr>
          <p:spPr>
            <a:xfrm>
              <a:off x="76320" y="4038480"/>
              <a:ext cx="3276360" cy="205740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352680" y="4038480"/>
              <a:ext cx="3810240" cy="205740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" name=""/>
          <p:cNvSpPr/>
          <p:nvPr/>
        </p:nvSpPr>
        <p:spPr>
          <a:xfrm>
            <a:off x="76320" y="3962520"/>
            <a:ext cx="34290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171360" indent="-171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XML: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 Standard, Structure, Extend, Validation, Transfo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RDF: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 Annotation, Schemas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352680" y="3962520"/>
            <a:ext cx="3940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171360" indent="-171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Multi-Agent System: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 Modularity, Distributed, Collabo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Machine Learning: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 Adaptability, Emerg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76320" y="6058080"/>
            <a:ext cx="7388280" cy="533160"/>
            <a:chOff x="76320" y="6058080"/>
            <a:chExt cx="7388280" cy="533160"/>
          </a:xfrm>
        </p:grpSpPr>
        <p:sp>
          <p:nvSpPr>
            <p:cNvPr id="1060" name=""/>
            <p:cNvSpPr/>
            <p:nvPr/>
          </p:nvSpPr>
          <p:spPr>
            <a:xfrm>
              <a:off x="439560" y="6058080"/>
              <a:ext cx="2951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Co</a:t>
              </a: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rporate </a:t>
              </a: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6070680"/>
              <a:ext cx="418788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anagement through </a:t>
              </a: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g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6320" y="6095880"/>
              <a:ext cx="3276360" cy="40032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352680" y="6095880"/>
              <a:ext cx="3810240" cy="40032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"/>
          <p:cNvSpPr/>
          <p:nvPr/>
        </p:nvSpPr>
        <p:spPr>
          <a:xfrm>
            <a:off x="7620120" y="809640"/>
            <a:ext cx="1523880" cy="52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porate mem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RD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G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E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rganizatio. approa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950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Architectu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b-societies organiz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ntology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Document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nnection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User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Times New Roman"/>
              </a:rPr>
              <a:t>Summa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253F-F1DF-4D99-B684-0907A005731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5" name=""/>
          <p:cNvGrpSpPr/>
          <p:nvPr/>
        </p:nvGrpSpPr>
        <p:grpSpPr>
          <a:xfrm>
            <a:off x="31680" y="3003480"/>
            <a:ext cx="7791480" cy="1393560"/>
            <a:chOff x="31680" y="3003480"/>
            <a:chExt cx="7791480" cy="1393560"/>
          </a:xfrm>
        </p:grpSpPr>
        <p:sp>
          <p:nvSpPr>
            <p:cNvPr id="1066" name=""/>
            <p:cNvSpPr/>
            <p:nvPr/>
          </p:nvSpPr>
          <p:spPr>
            <a:xfrm>
              <a:off x="31680" y="3192120"/>
              <a:ext cx="7656480" cy="12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824440" y="3003480"/>
              <a:ext cx="1998720" cy="35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Multi-Agent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8" name=""/>
            <p:cNvGrpSpPr/>
            <p:nvPr/>
          </p:nvGrpSpPr>
          <p:grpSpPr>
            <a:xfrm>
              <a:off x="1482840" y="3284280"/>
              <a:ext cx="264960" cy="515520"/>
              <a:chOff x="1482840" y="3284280"/>
              <a:chExt cx="264960" cy="515520"/>
            </a:xfrm>
          </p:grpSpPr>
          <p:sp>
            <p:nvSpPr>
              <p:cNvPr id="1069" name=""/>
              <p:cNvSpPr/>
              <p:nvPr/>
            </p:nvSpPr>
            <p:spPr>
              <a:xfrm>
                <a:off x="1482840" y="3542040"/>
                <a:ext cx="264960" cy="25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V="1">
                <a:off x="1482840" y="3284280"/>
                <a:ext cx="264960" cy="25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7161120" y="3704760"/>
              <a:ext cx="265320" cy="519480"/>
              <a:chOff x="7161120" y="3704760"/>
              <a:chExt cx="265320" cy="519480"/>
            </a:xfrm>
          </p:grpSpPr>
          <p:sp>
            <p:nvSpPr>
              <p:cNvPr id="1072" name=""/>
              <p:cNvSpPr/>
              <p:nvPr/>
            </p:nvSpPr>
            <p:spPr>
              <a:xfrm>
                <a:off x="7161120" y="3964680"/>
                <a:ext cx="265320" cy="259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V="1">
                <a:off x="7161120" y="3704400"/>
                <a:ext cx="265320" cy="259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6369120" y="3535200"/>
              <a:ext cx="263520" cy="515520"/>
              <a:chOff x="6369120" y="3535200"/>
              <a:chExt cx="263520" cy="515520"/>
            </a:xfrm>
          </p:grpSpPr>
          <p:sp>
            <p:nvSpPr>
              <p:cNvPr id="1075" name=""/>
              <p:cNvSpPr/>
              <p:nvPr/>
            </p:nvSpPr>
            <p:spPr>
              <a:xfrm>
                <a:off x="6369120" y="3792960"/>
                <a:ext cx="263520" cy="25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V="1">
                <a:off x="6369120" y="3535200"/>
                <a:ext cx="263520" cy="25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4124160" y="3362040"/>
              <a:ext cx="265320" cy="515520"/>
              <a:chOff x="4124160" y="3362040"/>
              <a:chExt cx="265320" cy="515520"/>
            </a:xfrm>
          </p:grpSpPr>
          <p:sp>
            <p:nvSpPr>
              <p:cNvPr id="1078" name=""/>
              <p:cNvSpPr/>
              <p:nvPr/>
            </p:nvSpPr>
            <p:spPr>
              <a:xfrm>
                <a:off x="4124160" y="3619800"/>
                <a:ext cx="265320" cy="25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V="1">
                <a:off x="4124160" y="3362040"/>
                <a:ext cx="265320" cy="25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0" name=""/>
            <p:cNvGrpSpPr/>
            <p:nvPr/>
          </p:nvGrpSpPr>
          <p:grpSpPr>
            <a:xfrm>
              <a:off x="3463920" y="3704760"/>
              <a:ext cx="263520" cy="519480"/>
              <a:chOff x="3463920" y="3704760"/>
              <a:chExt cx="263520" cy="519480"/>
            </a:xfrm>
          </p:grpSpPr>
          <p:sp>
            <p:nvSpPr>
              <p:cNvPr id="1081" name=""/>
              <p:cNvSpPr/>
              <p:nvPr/>
            </p:nvSpPr>
            <p:spPr>
              <a:xfrm>
                <a:off x="3463920" y="3964680"/>
                <a:ext cx="263520" cy="259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V="1">
                <a:off x="3463920" y="3704400"/>
                <a:ext cx="263520" cy="259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3" name=""/>
          <p:cNvGrpSpPr/>
          <p:nvPr/>
        </p:nvGrpSpPr>
        <p:grpSpPr>
          <a:xfrm>
            <a:off x="824040" y="3408480"/>
            <a:ext cx="4884120" cy="356760"/>
            <a:chOff x="824040" y="3408480"/>
            <a:chExt cx="4884120" cy="356760"/>
          </a:xfrm>
        </p:grpSpPr>
        <p:sp>
          <p:nvSpPr>
            <p:cNvPr id="1084" name=""/>
            <p:cNvSpPr/>
            <p:nvPr/>
          </p:nvSpPr>
          <p:spPr>
            <a:xfrm>
              <a:off x="5181480" y="3535200"/>
              <a:ext cx="526680" cy="2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24040" y="3411360"/>
              <a:ext cx="528480" cy="27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346120" y="3408480"/>
              <a:ext cx="52812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38160" y="-12960"/>
            <a:ext cx="910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oMMA: Overview of the System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6146640" y="4527720"/>
            <a:ext cx="1382400" cy="1951920"/>
            <a:chOff x="6146640" y="4527720"/>
            <a:chExt cx="1382400" cy="1951920"/>
          </a:xfrm>
        </p:grpSpPr>
        <p:grpSp>
          <p:nvGrpSpPr>
            <p:cNvPr id="1089" name=""/>
            <p:cNvGrpSpPr/>
            <p:nvPr/>
          </p:nvGrpSpPr>
          <p:grpSpPr>
            <a:xfrm>
              <a:off x="7032600" y="4527720"/>
              <a:ext cx="132840" cy="129600"/>
              <a:chOff x="7032600" y="4527720"/>
              <a:chExt cx="132840" cy="129600"/>
            </a:xfrm>
          </p:grpSpPr>
          <p:sp>
            <p:nvSpPr>
              <p:cNvPr id="1090" name=""/>
              <p:cNvSpPr/>
              <p:nvPr/>
            </p:nvSpPr>
            <p:spPr>
              <a:xfrm rot="16200000">
                <a:off x="7026120" y="4533840"/>
                <a:ext cx="104760" cy="92160"/>
              </a:xfrm>
              <a:custGeom>
                <a:avLst/>
                <a:gdLst/>
                <a:ahLst/>
                <a:rect l="l" t="t" r="r" b="b"/>
                <a:pathLst>
                  <a:path w="175" h="204">
                    <a:moveTo>
                      <a:pt x="21" y="9"/>
                    </a:moveTo>
                    <a:lnTo>
                      <a:pt x="68" y="0"/>
                    </a:lnTo>
                    <a:lnTo>
                      <a:pt x="113" y="3"/>
                    </a:lnTo>
                    <a:lnTo>
                      <a:pt x="155" y="23"/>
                    </a:lnTo>
                    <a:lnTo>
                      <a:pt x="175" y="60"/>
                    </a:lnTo>
                    <a:lnTo>
                      <a:pt x="175" y="90"/>
                    </a:lnTo>
                    <a:lnTo>
                      <a:pt x="155" y="130"/>
                    </a:lnTo>
                    <a:lnTo>
                      <a:pt x="120" y="153"/>
                    </a:lnTo>
                    <a:lnTo>
                      <a:pt x="68" y="153"/>
                    </a:lnTo>
                    <a:lnTo>
                      <a:pt x="37" y="173"/>
                    </a:lnTo>
                    <a:lnTo>
                      <a:pt x="27" y="204"/>
                    </a:lnTo>
                    <a:lnTo>
                      <a:pt x="0" y="194"/>
                    </a:lnTo>
                    <a:lnTo>
                      <a:pt x="10" y="153"/>
                    </a:lnTo>
                    <a:lnTo>
                      <a:pt x="47" y="130"/>
                    </a:lnTo>
                    <a:lnTo>
                      <a:pt x="109" y="124"/>
                    </a:lnTo>
                    <a:lnTo>
                      <a:pt x="134" y="100"/>
                    </a:lnTo>
                    <a:lnTo>
                      <a:pt x="140" y="63"/>
                    </a:lnTo>
                    <a:lnTo>
                      <a:pt x="113" y="30"/>
                    </a:lnTo>
                    <a:lnTo>
                      <a:pt x="72" y="30"/>
                    </a:lnTo>
                    <a:lnTo>
                      <a:pt x="27" y="40"/>
                    </a:lnTo>
                    <a:lnTo>
                      <a:pt x="10" y="30"/>
                    </a:lnTo>
                    <a:lnTo>
                      <a:pt x="21" y="9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rot="16200000">
                <a:off x="7135920" y="462780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54" y="3"/>
                    </a:moveTo>
                    <a:lnTo>
                      <a:pt x="26" y="0"/>
                    </a:lnTo>
                    <a:lnTo>
                      <a:pt x="8" y="21"/>
                    </a:lnTo>
                    <a:lnTo>
                      <a:pt x="0" y="52"/>
                    </a:lnTo>
                    <a:lnTo>
                      <a:pt x="26" y="56"/>
                    </a:lnTo>
                    <a:lnTo>
                      <a:pt x="49" y="41"/>
                    </a:lnTo>
                    <a:lnTo>
                      <a:pt x="54" y="3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6922800" y="4527720"/>
              <a:ext cx="606240" cy="1548720"/>
              <a:chOff x="6922800" y="4527720"/>
              <a:chExt cx="606240" cy="1548720"/>
            </a:xfrm>
          </p:grpSpPr>
          <p:sp>
            <p:nvSpPr>
              <p:cNvPr id="1093" name=""/>
              <p:cNvSpPr/>
              <p:nvPr/>
            </p:nvSpPr>
            <p:spPr>
              <a:xfrm flipH="1">
                <a:off x="7097760" y="4614120"/>
                <a:ext cx="237240" cy="33804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>
                <a:off x="7255440" y="4527720"/>
                <a:ext cx="273600" cy="54252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>
                <a:off x="7128720" y="4977000"/>
                <a:ext cx="141840" cy="50868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6986520" y="4991400"/>
                <a:ext cx="218880" cy="39060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H="1">
                <a:off x="6922440" y="5434200"/>
                <a:ext cx="265320" cy="63180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H="1">
                <a:off x="7175880" y="5432760"/>
                <a:ext cx="178560" cy="64368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6146640" y="5964120"/>
              <a:ext cx="12477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Employ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-63360" y="762120"/>
            <a:ext cx="1333440" cy="2339640"/>
            <a:chOff x="-63360" y="762120"/>
            <a:chExt cx="1333440" cy="2339640"/>
          </a:xfrm>
        </p:grpSpPr>
        <p:sp>
          <p:nvSpPr>
            <p:cNvPr id="1101" name=""/>
            <p:cNvSpPr/>
            <p:nvPr/>
          </p:nvSpPr>
          <p:spPr>
            <a:xfrm>
              <a:off x="-63360" y="762120"/>
              <a:ext cx="133344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Docu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Auth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273240" y="1860840"/>
              <a:ext cx="622080" cy="1240920"/>
              <a:chOff x="273240" y="1860840"/>
              <a:chExt cx="622080" cy="1240920"/>
            </a:xfrm>
          </p:grpSpPr>
          <p:sp>
            <p:nvSpPr>
              <p:cNvPr id="1103" name=""/>
              <p:cNvSpPr/>
              <p:nvPr/>
            </p:nvSpPr>
            <p:spPr>
              <a:xfrm>
                <a:off x="546120" y="2273400"/>
                <a:ext cx="145080" cy="438480"/>
              </a:xfrm>
              <a:custGeom>
                <a:avLst/>
                <a:gdLst/>
                <a:ahLst/>
                <a:rect l="l" t="t" r="r" b="b"/>
                <a:pathLst>
                  <a:path w="771" h="1535">
                    <a:moveTo>
                      <a:pt x="182" y="123"/>
                    </a:moveTo>
                    <a:lnTo>
                      <a:pt x="265" y="33"/>
                    </a:lnTo>
                    <a:lnTo>
                      <a:pt x="423" y="0"/>
                    </a:lnTo>
                    <a:lnTo>
                      <a:pt x="558" y="33"/>
                    </a:lnTo>
                    <a:lnTo>
                      <a:pt x="633" y="83"/>
                    </a:lnTo>
                    <a:lnTo>
                      <a:pt x="693" y="183"/>
                    </a:lnTo>
                    <a:lnTo>
                      <a:pt x="746" y="361"/>
                    </a:lnTo>
                    <a:lnTo>
                      <a:pt x="771" y="554"/>
                    </a:lnTo>
                    <a:lnTo>
                      <a:pt x="771" y="899"/>
                    </a:lnTo>
                    <a:lnTo>
                      <a:pt x="693" y="1200"/>
                    </a:lnTo>
                    <a:lnTo>
                      <a:pt x="581" y="1370"/>
                    </a:lnTo>
                    <a:lnTo>
                      <a:pt x="468" y="1468"/>
                    </a:lnTo>
                    <a:lnTo>
                      <a:pt x="340" y="1535"/>
                    </a:lnTo>
                    <a:lnTo>
                      <a:pt x="160" y="1528"/>
                    </a:lnTo>
                    <a:lnTo>
                      <a:pt x="17" y="1425"/>
                    </a:lnTo>
                    <a:lnTo>
                      <a:pt x="0" y="1302"/>
                    </a:lnTo>
                    <a:lnTo>
                      <a:pt x="70" y="1119"/>
                    </a:lnTo>
                    <a:lnTo>
                      <a:pt x="130" y="914"/>
                    </a:lnTo>
                    <a:lnTo>
                      <a:pt x="152" y="649"/>
                    </a:lnTo>
                    <a:lnTo>
                      <a:pt x="115" y="423"/>
                    </a:lnTo>
                    <a:lnTo>
                      <a:pt x="115" y="258"/>
                    </a:lnTo>
                    <a:lnTo>
                      <a:pt x="182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01920" y="2663640"/>
                <a:ext cx="165600" cy="432000"/>
              </a:xfrm>
              <a:custGeom>
                <a:avLst/>
                <a:gdLst/>
                <a:ahLst/>
                <a:rect l="l" t="t" r="r" b="b"/>
                <a:pathLst>
                  <a:path w="881" h="1512">
                    <a:moveTo>
                      <a:pt x="293" y="63"/>
                    </a:moveTo>
                    <a:lnTo>
                      <a:pt x="187" y="0"/>
                    </a:lnTo>
                    <a:lnTo>
                      <a:pt x="52" y="0"/>
                    </a:lnTo>
                    <a:lnTo>
                      <a:pt x="0" y="83"/>
                    </a:lnTo>
                    <a:lnTo>
                      <a:pt x="22" y="205"/>
                    </a:lnTo>
                    <a:lnTo>
                      <a:pt x="142" y="325"/>
                    </a:lnTo>
                    <a:lnTo>
                      <a:pt x="390" y="436"/>
                    </a:lnTo>
                    <a:lnTo>
                      <a:pt x="676" y="671"/>
                    </a:lnTo>
                    <a:lnTo>
                      <a:pt x="721" y="774"/>
                    </a:lnTo>
                    <a:lnTo>
                      <a:pt x="698" y="821"/>
                    </a:lnTo>
                    <a:lnTo>
                      <a:pt x="480" y="977"/>
                    </a:lnTo>
                    <a:lnTo>
                      <a:pt x="225" y="1162"/>
                    </a:lnTo>
                    <a:lnTo>
                      <a:pt x="165" y="1242"/>
                    </a:lnTo>
                    <a:lnTo>
                      <a:pt x="165" y="1325"/>
                    </a:lnTo>
                    <a:lnTo>
                      <a:pt x="360" y="1412"/>
                    </a:lnTo>
                    <a:lnTo>
                      <a:pt x="661" y="1512"/>
                    </a:lnTo>
                    <a:lnTo>
                      <a:pt x="766" y="1512"/>
                    </a:lnTo>
                    <a:lnTo>
                      <a:pt x="881" y="1445"/>
                    </a:lnTo>
                    <a:lnTo>
                      <a:pt x="881" y="1392"/>
                    </a:lnTo>
                    <a:lnTo>
                      <a:pt x="796" y="1365"/>
                    </a:lnTo>
                    <a:lnTo>
                      <a:pt x="413" y="1325"/>
                    </a:lnTo>
                    <a:lnTo>
                      <a:pt x="270" y="1290"/>
                    </a:lnTo>
                    <a:lnTo>
                      <a:pt x="255" y="1229"/>
                    </a:lnTo>
                    <a:lnTo>
                      <a:pt x="503" y="1059"/>
                    </a:lnTo>
                    <a:lnTo>
                      <a:pt x="773" y="896"/>
                    </a:lnTo>
                    <a:lnTo>
                      <a:pt x="833" y="836"/>
                    </a:lnTo>
                    <a:lnTo>
                      <a:pt x="856" y="754"/>
                    </a:lnTo>
                    <a:lnTo>
                      <a:pt x="833" y="638"/>
                    </a:lnTo>
                    <a:lnTo>
                      <a:pt x="751" y="551"/>
                    </a:lnTo>
                    <a:lnTo>
                      <a:pt x="480" y="253"/>
                    </a:lnTo>
                    <a:lnTo>
                      <a:pt x="29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83760" y="2642040"/>
                <a:ext cx="206280" cy="459720"/>
              </a:xfrm>
              <a:custGeom>
                <a:avLst/>
                <a:gdLst/>
                <a:ahLst/>
                <a:rect l="l" t="t" r="r" b="b"/>
                <a:pathLst>
                  <a:path w="1097" h="1610">
                    <a:moveTo>
                      <a:pt x="596" y="218"/>
                    </a:moveTo>
                    <a:lnTo>
                      <a:pt x="771" y="80"/>
                    </a:lnTo>
                    <a:lnTo>
                      <a:pt x="937" y="0"/>
                    </a:lnTo>
                    <a:lnTo>
                      <a:pt x="1042" y="12"/>
                    </a:lnTo>
                    <a:lnTo>
                      <a:pt x="1097" y="80"/>
                    </a:lnTo>
                    <a:lnTo>
                      <a:pt x="1097" y="155"/>
                    </a:lnTo>
                    <a:lnTo>
                      <a:pt x="1064" y="238"/>
                    </a:lnTo>
                    <a:lnTo>
                      <a:pt x="952" y="285"/>
                    </a:lnTo>
                    <a:lnTo>
                      <a:pt x="724" y="400"/>
                    </a:lnTo>
                    <a:lnTo>
                      <a:pt x="589" y="543"/>
                    </a:lnTo>
                    <a:lnTo>
                      <a:pt x="499" y="713"/>
                    </a:lnTo>
                    <a:lnTo>
                      <a:pt x="476" y="814"/>
                    </a:lnTo>
                    <a:lnTo>
                      <a:pt x="596" y="936"/>
                    </a:lnTo>
                    <a:lnTo>
                      <a:pt x="724" y="1114"/>
                    </a:lnTo>
                    <a:lnTo>
                      <a:pt x="817" y="1277"/>
                    </a:lnTo>
                    <a:lnTo>
                      <a:pt x="839" y="1380"/>
                    </a:lnTo>
                    <a:lnTo>
                      <a:pt x="839" y="1440"/>
                    </a:lnTo>
                    <a:lnTo>
                      <a:pt x="779" y="1480"/>
                    </a:lnTo>
                    <a:lnTo>
                      <a:pt x="589" y="1487"/>
                    </a:lnTo>
                    <a:lnTo>
                      <a:pt x="301" y="1547"/>
                    </a:lnTo>
                    <a:lnTo>
                      <a:pt x="248" y="1602"/>
                    </a:lnTo>
                    <a:lnTo>
                      <a:pt x="203" y="1610"/>
                    </a:lnTo>
                    <a:lnTo>
                      <a:pt x="0" y="1547"/>
                    </a:lnTo>
                    <a:lnTo>
                      <a:pt x="0" y="1487"/>
                    </a:lnTo>
                    <a:lnTo>
                      <a:pt x="90" y="1440"/>
                    </a:lnTo>
                    <a:lnTo>
                      <a:pt x="453" y="1380"/>
                    </a:lnTo>
                    <a:lnTo>
                      <a:pt x="641" y="1400"/>
                    </a:lnTo>
                    <a:lnTo>
                      <a:pt x="734" y="1400"/>
                    </a:lnTo>
                    <a:lnTo>
                      <a:pt x="756" y="1365"/>
                    </a:lnTo>
                    <a:lnTo>
                      <a:pt x="679" y="1214"/>
                    </a:lnTo>
                    <a:lnTo>
                      <a:pt x="521" y="1019"/>
                    </a:lnTo>
                    <a:lnTo>
                      <a:pt x="408" y="876"/>
                    </a:lnTo>
                    <a:lnTo>
                      <a:pt x="363" y="794"/>
                    </a:lnTo>
                    <a:lnTo>
                      <a:pt x="363" y="671"/>
                    </a:lnTo>
                    <a:lnTo>
                      <a:pt x="438" y="468"/>
                    </a:lnTo>
                    <a:lnTo>
                      <a:pt x="506" y="340"/>
                    </a:lnTo>
                    <a:lnTo>
                      <a:pt x="596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73240" y="2274480"/>
                <a:ext cx="278640" cy="343440"/>
              </a:xfrm>
              <a:custGeom>
                <a:avLst/>
                <a:gdLst/>
                <a:ahLst/>
                <a:rect l="l" t="t" r="r" b="b"/>
                <a:pathLst>
                  <a:path w="1482" h="1202">
                    <a:moveTo>
                      <a:pt x="889" y="1202"/>
                    </a:moveTo>
                    <a:lnTo>
                      <a:pt x="981" y="1192"/>
                    </a:lnTo>
                    <a:lnTo>
                      <a:pt x="1009" y="1124"/>
                    </a:lnTo>
                    <a:lnTo>
                      <a:pt x="1034" y="881"/>
                    </a:lnTo>
                    <a:lnTo>
                      <a:pt x="1172" y="596"/>
                    </a:lnTo>
                    <a:lnTo>
                      <a:pt x="1314" y="465"/>
                    </a:lnTo>
                    <a:lnTo>
                      <a:pt x="1482" y="330"/>
                    </a:lnTo>
                    <a:lnTo>
                      <a:pt x="1467" y="235"/>
                    </a:lnTo>
                    <a:lnTo>
                      <a:pt x="1367" y="185"/>
                    </a:lnTo>
                    <a:lnTo>
                      <a:pt x="1242" y="235"/>
                    </a:lnTo>
                    <a:lnTo>
                      <a:pt x="1104" y="373"/>
                    </a:lnTo>
                    <a:lnTo>
                      <a:pt x="976" y="673"/>
                    </a:lnTo>
                    <a:lnTo>
                      <a:pt x="921" y="906"/>
                    </a:lnTo>
                    <a:lnTo>
                      <a:pt x="884" y="1029"/>
                    </a:lnTo>
                    <a:lnTo>
                      <a:pt x="779" y="984"/>
                    </a:lnTo>
                    <a:lnTo>
                      <a:pt x="661" y="783"/>
                    </a:lnTo>
                    <a:lnTo>
                      <a:pt x="563" y="505"/>
                    </a:lnTo>
                    <a:lnTo>
                      <a:pt x="581" y="380"/>
                    </a:lnTo>
                    <a:lnTo>
                      <a:pt x="636" y="248"/>
                    </a:lnTo>
                    <a:lnTo>
                      <a:pt x="658" y="150"/>
                    </a:lnTo>
                    <a:lnTo>
                      <a:pt x="418" y="145"/>
                    </a:lnTo>
                    <a:lnTo>
                      <a:pt x="178" y="105"/>
                    </a:lnTo>
                    <a:lnTo>
                      <a:pt x="65" y="0"/>
                    </a:lnTo>
                    <a:lnTo>
                      <a:pt x="0" y="50"/>
                    </a:lnTo>
                    <a:lnTo>
                      <a:pt x="88" y="230"/>
                    </a:lnTo>
                    <a:lnTo>
                      <a:pt x="280" y="250"/>
                    </a:lnTo>
                    <a:lnTo>
                      <a:pt x="488" y="270"/>
                    </a:lnTo>
                    <a:lnTo>
                      <a:pt x="493" y="428"/>
                    </a:lnTo>
                    <a:lnTo>
                      <a:pt x="513" y="611"/>
                    </a:lnTo>
                    <a:lnTo>
                      <a:pt x="583" y="816"/>
                    </a:lnTo>
                    <a:lnTo>
                      <a:pt x="671" y="1019"/>
                    </a:lnTo>
                    <a:lnTo>
                      <a:pt x="804" y="1154"/>
                    </a:lnTo>
                    <a:lnTo>
                      <a:pt x="889" y="1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90120" y="1860840"/>
                <a:ext cx="205200" cy="464040"/>
              </a:xfrm>
              <a:custGeom>
                <a:avLst/>
                <a:gdLst/>
                <a:ahLst/>
                <a:rect l="l" t="t" r="r" b="b"/>
                <a:pathLst>
                  <a:path w="1091" h="1625">
                    <a:moveTo>
                      <a:pt x="0" y="1610"/>
                    </a:moveTo>
                    <a:lnTo>
                      <a:pt x="0" y="1503"/>
                    </a:lnTo>
                    <a:lnTo>
                      <a:pt x="67" y="1420"/>
                    </a:lnTo>
                    <a:lnTo>
                      <a:pt x="363" y="1325"/>
                    </a:lnTo>
                    <a:lnTo>
                      <a:pt x="728" y="1245"/>
                    </a:lnTo>
                    <a:lnTo>
                      <a:pt x="939" y="1197"/>
                    </a:lnTo>
                    <a:lnTo>
                      <a:pt x="964" y="1155"/>
                    </a:lnTo>
                    <a:lnTo>
                      <a:pt x="864" y="1034"/>
                    </a:lnTo>
                    <a:lnTo>
                      <a:pt x="666" y="857"/>
                    </a:lnTo>
                    <a:lnTo>
                      <a:pt x="463" y="706"/>
                    </a:lnTo>
                    <a:lnTo>
                      <a:pt x="303" y="626"/>
                    </a:lnTo>
                    <a:lnTo>
                      <a:pt x="213" y="544"/>
                    </a:lnTo>
                    <a:lnTo>
                      <a:pt x="205" y="483"/>
                    </a:lnTo>
                    <a:lnTo>
                      <a:pt x="258" y="428"/>
                    </a:lnTo>
                    <a:lnTo>
                      <a:pt x="385" y="401"/>
                    </a:lnTo>
                    <a:lnTo>
                      <a:pt x="546" y="298"/>
                    </a:lnTo>
                    <a:lnTo>
                      <a:pt x="568" y="198"/>
                    </a:lnTo>
                    <a:lnTo>
                      <a:pt x="568" y="55"/>
                    </a:lnTo>
                    <a:lnTo>
                      <a:pt x="553" y="0"/>
                    </a:lnTo>
                    <a:lnTo>
                      <a:pt x="613" y="13"/>
                    </a:lnTo>
                    <a:lnTo>
                      <a:pt x="698" y="135"/>
                    </a:lnTo>
                    <a:lnTo>
                      <a:pt x="728" y="266"/>
                    </a:lnTo>
                    <a:lnTo>
                      <a:pt x="636" y="361"/>
                    </a:lnTo>
                    <a:lnTo>
                      <a:pt x="553" y="388"/>
                    </a:lnTo>
                    <a:lnTo>
                      <a:pt x="393" y="463"/>
                    </a:lnTo>
                    <a:lnTo>
                      <a:pt x="363" y="504"/>
                    </a:lnTo>
                    <a:lnTo>
                      <a:pt x="385" y="544"/>
                    </a:lnTo>
                    <a:lnTo>
                      <a:pt x="531" y="654"/>
                    </a:lnTo>
                    <a:lnTo>
                      <a:pt x="683" y="714"/>
                    </a:lnTo>
                    <a:lnTo>
                      <a:pt x="886" y="869"/>
                    </a:lnTo>
                    <a:lnTo>
                      <a:pt x="1024" y="1054"/>
                    </a:lnTo>
                    <a:lnTo>
                      <a:pt x="1091" y="1197"/>
                    </a:lnTo>
                    <a:lnTo>
                      <a:pt x="1069" y="1245"/>
                    </a:lnTo>
                    <a:lnTo>
                      <a:pt x="1024" y="1277"/>
                    </a:lnTo>
                    <a:lnTo>
                      <a:pt x="849" y="1340"/>
                    </a:lnTo>
                    <a:lnTo>
                      <a:pt x="501" y="1443"/>
                    </a:lnTo>
                    <a:lnTo>
                      <a:pt x="280" y="1530"/>
                    </a:lnTo>
                    <a:lnTo>
                      <a:pt x="138" y="1605"/>
                    </a:lnTo>
                    <a:lnTo>
                      <a:pt x="45" y="1625"/>
                    </a:lnTo>
                    <a:lnTo>
                      <a:pt x="0" y="16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88520" y="1929960"/>
                <a:ext cx="159840" cy="330480"/>
              </a:xfrm>
              <a:custGeom>
                <a:avLst/>
                <a:gdLst/>
                <a:ahLst/>
                <a:rect l="l" t="t" r="r" b="b"/>
                <a:pathLst>
                  <a:path w="851" h="1157">
                    <a:moveTo>
                      <a:pt x="173" y="939"/>
                    </a:moveTo>
                    <a:lnTo>
                      <a:pt x="271" y="1042"/>
                    </a:lnTo>
                    <a:lnTo>
                      <a:pt x="431" y="1137"/>
                    </a:lnTo>
                    <a:lnTo>
                      <a:pt x="566" y="1157"/>
                    </a:lnTo>
                    <a:lnTo>
                      <a:pt x="669" y="1137"/>
                    </a:lnTo>
                    <a:lnTo>
                      <a:pt x="791" y="1057"/>
                    </a:lnTo>
                    <a:lnTo>
                      <a:pt x="836" y="892"/>
                    </a:lnTo>
                    <a:lnTo>
                      <a:pt x="851" y="769"/>
                    </a:lnTo>
                    <a:lnTo>
                      <a:pt x="814" y="654"/>
                    </a:lnTo>
                    <a:lnTo>
                      <a:pt x="744" y="511"/>
                    </a:lnTo>
                    <a:lnTo>
                      <a:pt x="679" y="388"/>
                    </a:lnTo>
                    <a:lnTo>
                      <a:pt x="669" y="361"/>
                    </a:lnTo>
                    <a:lnTo>
                      <a:pt x="699" y="218"/>
                    </a:lnTo>
                    <a:lnTo>
                      <a:pt x="791" y="75"/>
                    </a:lnTo>
                    <a:lnTo>
                      <a:pt x="806" y="33"/>
                    </a:lnTo>
                    <a:lnTo>
                      <a:pt x="759" y="0"/>
                    </a:lnTo>
                    <a:lnTo>
                      <a:pt x="699" y="0"/>
                    </a:lnTo>
                    <a:lnTo>
                      <a:pt x="634" y="185"/>
                    </a:lnTo>
                    <a:lnTo>
                      <a:pt x="604" y="306"/>
                    </a:lnTo>
                    <a:lnTo>
                      <a:pt x="521" y="225"/>
                    </a:lnTo>
                    <a:lnTo>
                      <a:pt x="451" y="163"/>
                    </a:lnTo>
                    <a:lnTo>
                      <a:pt x="308" y="115"/>
                    </a:lnTo>
                    <a:lnTo>
                      <a:pt x="203" y="115"/>
                    </a:lnTo>
                    <a:lnTo>
                      <a:pt x="45" y="185"/>
                    </a:lnTo>
                    <a:lnTo>
                      <a:pt x="0" y="381"/>
                    </a:lnTo>
                    <a:lnTo>
                      <a:pt x="38" y="634"/>
                    </a:lnTo>
                    <a:lnTo>
                      <a:pt x="105" y="872"/>
                    </a:lnTo>
                    <a:lnTo>
                      <a:pt x="173" y="9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9" name=""/>
            <p:cNvSpPr/>
            <p:nvPr/>
          </p:nvSpPr>
          <p:spPr>
            <a:xfrm>
              <a:off x="511200" y="1403640"/>
              <a:ext cx="263520" cy="344520"/>
            </a:xfrm>
            <a:prstGeom prst="foldedCorner">
              <a:avLst>
                <a:gd name="adj" fmla="val 47916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87560" y="1467000"/>
              <a:ext cx="263520" cy="344520"/>
            </a:xfrm>
            <a:prstGeom prst="foldedCorner">
              <a:avLst>
                <a:gd name="adj" fmla="val 47916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03320" y="1889280"/>
              <a:ext cx="263520" cy="344520"/>
            </a:xfrm>
            <a:prstGeom prst="foldedCorner">
              <a:avLst>
                <a:gd name="adj" fmla="val 47916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38160" y="4491000"/>
            <a:ext cx="1334520" cy="2006640"/>
            <a:chOff x="38160" y="4491000"/>
            <a:chExt cx="1334520" cy="2006640"/>
          </a:xfrm>
        </p:grpSpPr>
        <p:sp>
          <p:nvSpPr>
            <p:cNvPr id="1113" name=""/>
            <p:cNvSpPr/>
            <p:nvPr/>
          </p:nvSpPr>
          <p:spPr>
            <a:xfrm>
              <a:off x="1109520" y="4929120"/>
              <a:ext cx="263160" cy="515880"/>
            </a:xfrm>
            <a:prstGeom prst="foldedCorner">
              <a:avLst>
                <a:gd name="adj" fmla="val 47916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4" name=""/>
            <p:cNvGrpSpPr/>
            <p:nvPr/>
          </p:nvGrpSpPr>
          <p:grpSpPr>
            <a:xfrm>
              <a:off x="102960" y="4491000"/>
              <a:ext cx="352080" cy="272520"/>
              <a:chOff x="102960" y="4491000"/>
              <a:chExt cx="352080" cy="272520"/>
            </a:xfrm>
          </p:grpSpPr>
          <p:sp>
            <p:nvSpPr>
              <p:cNvPr id="1115" name=""/>
              <p:cNvSpPr/>
              <p:nvPr/>
            </p:nvSpPr>
            <p:spPr>
              <a:xfrm>
                <a:off x="229320" y="4596840"/>
                <a:ext cx="118080" cy="166680"/>
              </a:xfrm>
              <a:custGeom>
                <a:avLst/>
                <a:gdLst/>
                <a:ahLst/>
                <a:rect l="l" t="t" r="r" b="b"/>
                <a:pathLst>
                  <a:path w="320" h="569">
                    <a:moveTo>
                      <a:pt x="103" y="515"/>
                    </a:moveTo>
                    <a:lnTo>
                      <a:pt x="108" y="423"/>
                    </a:lnTo>
                    <a:lnTo>
                      <a:pt x="86" y="352"/>
                    </a:lnTo>
                    <a:lnTo>
                      <a:pt x="47" y="292"/>
                    </a:lnTo>
                    <a:lnTo>
                      <a:pt x="0" y="200"/>
                    </a:lnTo>
                    <a:lnTo>
                      <a:pt x="4" y="140"/>
                    </a:lnTo>
                    <a:lnTo>
                      <a:pt x="37" y="65"/>
                    </a:lnTo>
                    <a:lnTo>
                      <a:pt x="97" y="15"/>
                    </a:lnTo>
                    <a:lnTo>
                      <a:pt x="151" y="0"/>
                    </a:lnTo>
                    <a:lnTo>
                      <a:pt x="206" y="11"/>
                    </a:lnTo>
                    <a:lnTo>
                      <a:pt x="243" y="33"/>
                    </a:lnTo>
                    <a:lnTo>
                      <a:pt x="292" y="76"/>
                    </a:lnTo>
                    <a:lnTo>
                      <a:pt x="320" y="140"/>
                    </a:lnTo>
                    <a:lnTo>
                      <a:pt x="310" y="206"/>
                    </a:lnTo>
                    <a:lnTo>
                      <a:pt x="271" y="264"/>
                    </a:lnTo>
                    <a:lnTo>
                      <a:pt x="217" y="357"/>
                    </a:lnTo>
                    <a:lnTo>
                      <a:pt x="206" y="423"/>
                    </a:lnTo>
                    <a:lnTo>
                      <a:pt x="211" y="477"/>
                    </a:lnTo>
                    <a:lnTo>
                      <a:pt x="185" y="530"/>
                    </a:lnTo>
                    <a:lnTo>
                      <a:pt x="157" y="569"/>
                    </a:lnTo>
                    <a:lnTo>
                      <a:pt x="103" y="515"/>
                    </a:lnTo>
                    <a:close/>
                  </a:path>
                </a:pathLst>
              </a:custGeom>
              <a:solidFill>
                <a:srgbClr val="cc3300"/>
              </a:solidFill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102960" y="4588560"/>
                <a:ext cx="87120" cy="32040"/>
              </a:xfrm>
              <a:custGeom>
                <a:avLst/>
                <a:gdLst/>
                <a:ahLst/>
                <a:rect l="l" t="t" r="r" b="b"/>
                <a:pathLst>
                  <a:path w="235" h="110">
                    <a:moveTo>
                      <a:pt x="235" y="110"/>
                    </a:moveTo>
                    <a:lnTo>
                      <a:pt x="39" y="76"/>
                    </a:lnTo>
                    <a:lnTo>
                      <a:pt x="0" y="37"/>
                    </a:lnTo>
                    <a:lnTo>
                      <a:pt x="15" y="5"/>
                    </a:lnTo>
                    <a:lnTo>
                      <a:pt x="61" y="0"/>
                    </a:lnTo>
                    <a:lnTo>
                      <a:pt x="235" y="11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190080" y="4503960"/>
                <a:ext cx="37440" cy="53280"/>
              </a:xfrm>
              <a:custGeom>
                <a:avLst/>
                <a:gdLst/>
                <a:ahLst/>
                <a:rect l="l" t="t" r="r" b="b"/>
                <a:pathLst>
                  <a:path w="103" h="180">
                    <a:moveTo>
                      <a:pt x="103" y="180"/>
                    </a:moveTo>
                    <a:lnTo>
                      <a:pt x="0" y="67"/>
                    </a:lnTo>
                    <a:lnTo>
                      <a:pt x="10" y="17"/>
                    </a:lnTo>
                    <a:lnTo>
                      <a:pt x="60" y="0"/>
                    </a:lnTo>
                    <a:lnTo>
                      <a:pt x="88" y="34"/>
                    </a:lnTo>
                    <a:lnTo>
                      <a:pt x="103" y="18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11040" y="4491000"/>
                <a:ext cx="32760" cy="63000"/>
              </a:xfrm>
              <a:custGeom>
                <a:avLst/>
                <a:gdLst/>
                <a:ahLst/>
                <a:rect l="l" t="t" r="r" b="b"/>
                <a:pathLst>
                  <a:path w="89" h="217">
                    <a:moveTo>
                      <a:pt x="13" y="217"/>
                    </a:moveTo>
                    <a:lnTo>
                      <a:pt x="0" y="56"/>
                    </a:lnTo>
                    <a:lnTo>
                      <a:pt x="48" y="0"/>
                    </a:lnTo>
                    <a:lnTo>
                      <a:pt x="89" y="23"/>
                    </a:lnTo>
                    <a:lnTo>
                      <a:pt x="82" y="66"/>
                    </a:lnTo>
                    <a:lnTo>
                      <a:pt x="13" y="217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377280" y="4539600"/>
                <a:ext cx="77760" cy="38880"/>
              </a:xfrm>
              <a:custGeom>
                <a:avLst/>
                <a:gdLst/>
                <a:ahLst/>
                <a:rect l="l" t="t" r="r" b="b"/>
                <a:pathLst>
                  <a:path w="210" h="135">
                    <a:moveTo>
                      <a:pt x="0" y="135"/>
                    </a:moveTo>
                    <a:lnTo>
                      <a:pt x="157" y="0"/>
                    </a:lnTo>
                    <a:lnTo>
                      <a:pt x="210" y="26"/>
                    </a:lnTo>
                    <a:lnTo>
                      <a:pt x="206" y="71"/>
                    </a:lnTo>
                    <a:lnTo>
                      <a:pt x="178" y="92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"/>
            <p:cNvGrpSpPr/>
            <p:nvPr/>
          </p:nvGrpSpPr>
          <p:grpSpPr>
            <a:xfrm>
              <a:off x="234720" y="4491000"/>
              <a:ext cx="529920" cy="1466280"/>
              <a:chOff x="234720" y="4491000"/>
              <a:chExt cx="529920" cy="1466280"/>
            </a:xfrm>
          </p:grpSpPr>
          <p:sp>
            <p:nvSpPr>
              <p:cNvPr id="1121" name=""/>
              <p:cNvSpPr/>
              <p:nvPr/>
            </p:nvSpPr>
            <p:spPr>
              <a:xfrm>
                <a:off x="330120" y="4732920"/>
                <a:ext cx="266400" cy="255240"/>
              </a:xfrm>
              <a:custGeom>
                <a:avLst/>
                <a:gdLst/>
                <a:ahLst/>
                <a:rect l="l" t="t" r="r" b="b"/>
                <a:pathLst>
                  <a:path w="879" h="869">
                    <a:moveTo>
                      <a:pt x="573" y="251"/>
                    </a:moveTo>
                    <a:lnTo>
                      <a:pt x="466" y="88"/>
                    </a:lnTo>
                    <a:lnTo>
                      <a:pt x="356" y="0"/>
                    </a:lnTo>
                    <a:lnTo>
                      <a:pt x="228" y="0"/>
                    </a:lnTo>
                    <a:lnTo>
                      <a:pt x="86" y="56"/>
                    </a:lnTo>
                    <a:lnTo>
                      <a:pt x="21" y="152"/>
                    </a:lnTo>
                    <a:lnTo>
                      <a:pt x="0" y="283"/>
                    </a:lnTo>
                    <a:lnTo>
                      <a:pt x="21" y="457"/>
                    </a:lnTo>
                    <a:lnTo>
                      <a:pt x="107" y="652"/>
                    </a:lnTo>
                    <a:lnTo>
                      <a:pt x="260" y="783"/>
                    </a:lnTo>
                    <a:lnTo>
                      <a:pt x="378" y="848"/>
                    </a:lnTo>
                    <a:lnTo>
                      <a:pt x="498" y="869"/>
                    </a:lnTo>
                    <a:lnTo>
                      <a:pt x="595" y="837"/>
                    </a:lnTo>
                    <a:lnTo>
                      <a:pt x="649" y="783"/>
                    </a:lnTo>
                    <a:lnTo>
                      <a:pt x="683" y="652"/>
                    </a:lnTo>
                    <a:lnTo>
                      <a:pt x="672" y="500"/>
                    </a:lnTo>
                    <a:lnTo>
                      <a:pt x="638" y="371"/>
                    </a:lnTo>
                    <a:lnTo>
                      <a:pt x="855" y="251"/>
                    </a:lnTo>
                    <a:lnTo>
                      <a:pt x="879" y="198"/>
                    </a:lnTo>
                    <a:lnTo>
                      <a:pt x="855" y="174"/>
                    </a:lnTo>
                    <a:lnTo>
                      <a:pt x="616" y="316"/>
                    </a:lnTo>
                    <a:lnTo>
                      <a:pt x="573" y="2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20920" y="4491000"/>
                <a:ext cx="236880" cy="570240"/>
              </a:xfrm>
              <a:custGeom>
                <a:avLst/>
                <a:gdLst/>
                <a:ahLst/>
                <a:rect l="l" t="t" r="r" b="b"/>
                <a:pathLst>
                  <a:path w="782" h="1942">
                    <a:moveTo>
                      <a:pt x="217" y="1639"/>
                    </a:moveTo>
                    <a:lnTo>
                      <a:pt x="76" y="1747"/>
                    </a:lnTo>
                    <a:lnTo>
                      <a:pt x="33" y="1781"/>
                    </a:lnTo>
                    <a:lnTo>
                      <a:pt x="0" y="1856"/>
                    </a:lnTo>
                    <a:lnTo>
                      <a:pt x="43" y="1931"/>
                    </a:lnTo>
                    <a:lnTo>
                      <a:pt x="86" y="1942"/>
                    </a:lnTo>
                    <a:lnTo>
                      <a:pt x="217" y="1899"/>
                    </a:lnTo>
                    <a:lnTo>
                      <a:pt x="413" y="1747"/>
                    </a:lnTo>
                    <a:lnTo>
                      <a:pt x="587" y="1564"/>
                    </a:lnTo>
                    <a:lnTo>
                      <a:pt x="772" y="1356"/>
                    </a:lnTo>
                    <a:lnTo>
                      <a:pt x="782" y="1270"/>
                    </a:lnTo>
                    <a:lnTo>
                      <a:pt x="782" y="1032"/>
                    </a:lnTo>
                    <a:lnTo>
                      <a:pt x="729" y="663"/>
                    </a:lnTo>
                    <a:lnTo>
                      <a:pt x="761" y="447"/>
                    </a:lnTo>
                    <a:lnTo>
                      <a:pt x="782" y="359"/>
                    </a:lnTo>
                    <a:lnTo>
                      <a:pt x="750" y="316"/>
                    </a:lnTo>
                    <a:lnTo>
                      <a:pt x="673" y="273"/>
                    </a:lnTo>
                    <a:lnTo>
                      <a:pt x="619" y="241"/>
                    </a:lnTo>
                    <a:lnTo>
                      <a:pt x="651" y="45"/>
                    </a:lnTo>
                    <a:lnTo>
                      <a:pt x="630" y="0"/>
                    </a:lnTo>
                    <a:lnTo>
                      <a:pt x="587" y="13"/>
                    </a:lnTo>
                    <a:lnTo>
                      <a:pt x="565" y="262"/>
                    </a:lnTo>
                    <a:lnTo>
                      <a:pt x="544" y="326"/>
                    </a:lnTo>
                    <a:lnTo>
                      <a:pt x="533" y="369"/>
                    </a:lnTo>
                    <a:lnTo>
                      <a:pt x="445" y="337"/>
                    </a:lnTo>
                    <a:lnTo>
                      <a:pt x="381" y="337"/>
                    </a:lnTo>
                    <a:lnTo>
                      <a:pt x="381" y="380"/>
                    </a:lnTo>
                    <a:lnTo>
                      <a:pt x="424" y="414"/>
                    </a:lnTo>
                    <a:lnTo>
                      <a:pt x="501" y="414"/>
                    </a:lnTo>
                    <a:lnTo>
                      <a:pt x="555" y="457"/>
                    </a:lnTo>
                    <a:lnTo>
                      <a:pt x="598" y="532"/>
                    </a:lnTo>
                    <a:lnTo>
                      <a:pt x="641" y="652"/>
                    </a:lnTo>
                    <a:lnTo>
                      <a:pt x="673" y="891"/>
                    </a:lnTo>
                    <a:lnTo>
                      <a:pt x="673" y="1107"/>
                    </a:lnTo>
                    <a:lnTo>
                      <a:pt x="651" y="1281"/>
                    </a:lnTo>
                    <a:lnTo>
                      <a:pt x="608" y="1356"/>
                    </a:lnTo>
                    <a:lnTo>
                      <a:pt x="456" y="1466"/>
                    </a:lnTo>
                    <a:lnTo>
                      <a:pt x="293" y="1564"/>
                    </a:lnTo>
                    <a:lnTo>
                      <a:pt x="217" y="16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34720" y="5017320"/>
                <a:ext cx="214200" cy="343800"/>
              </a:xfrm>
              <a:custGeom>
                <a:avLst/>
                <a:gdLst/>
                <a:ahLst/>
                <a:rect l="l" t="t" r="r" b="b"/>
                <a:pathLst>
                  <a:path w="707" h="1171">
                    <a:moveTo>
                      <a:pt x="707" y="32"/>
                    </a:moveTo>
                    <a:lnTo>
                      <a:pt x="630" y="0"/>
                    </a:lnTo>
                    <a:lnTo>
                      <a:pt x="466" y="10"/>
                    </a:lnTo>
                    <a:lnTo>
                      <a:pt x="324" y="120"/>
                    </a:lnTo>
                    <a:lnTo>
                      <a:pt x="118" y="347"/>
                    </a:lnTo>
                    <a:lnTo>
                      <a:pt x="11" y="532"/>
                    </a:lnTo>
                    <a:lnTo>
                      <a:pt x="0" y="596"/>
                    </a:lnTo>
                    <a:lnTo>
                      <a:pt x="54" y="716"/>
                    </a:lnTo>
                    <a:lnTo>
                      <a:pt x="172" y="770"/>
                    </a:lnTo>
                    <a:lnTo>
                      <a:pt x="324" y="834"/>
                    </a:lnTo>
                    <a:lnTo>
                      <a:pt x="445" y="867"/>
                    </a:lnTo>
                    <a:lnTo>
                      <a:pt x="498" y="922"/>
                    </a:lnTo>
                    <a:lnTo>
                      <a:pt x="466" y="997"/>
                    </a:lnTo>
                    <a:lnTo>
                      <a:pt x="380" y="1085"/>
                    </a:lnTo>
                    <a:lnTo>
                      <a:pt x="271" y="1096"/>
                    </a:lnTo>
                    <a:lnTo>
                      <a:pt x="196" y="1062"/>
                    </a:lnTo>
                    <a:lnTo>
                      <a:pt x="150" y="1096"/>
                    </a:lnTo>
                    <a:lnTo>
                      <a:pt x="161" y="1139"/>
                    </a:lnTo>
                    <a:lnTo>
                      <a:pt x="249" y="1171"/>
                    </a:lnTo>
                    <a:lnTo>
                      <a:pt x="380" y="1171"/>
                    </a:lnTo>
                    <a:lnTo>
                      <a:pt x="498" y="1139"/>
                    </a:lnTo>
                    <a:lnTo>
                      <a:pt x="565" y="1096"/>
                    </a:lnTo>
                    <a:lnTo>
                      <a:pt x="608" y="1019"/>
                    </a:lnTo>
                    <a:lnTo>
                      <a:pt x="630" y="933"/>
                    </a:lnTo>
                    <a:lnTo>
                      <a:pt x="576" y="856"/>
                    </a:lnTo>
                    <a:lnTo>
                      <a:pt x="445" y="802"/>
                    </a:lnTo>
                    <a:lnTo>
                      <a:pt x="292" y="759"/>
                    </a:lnTo>
                    <a:lnTo>
                      <a:pt x="161" y="684"/>
                    </a:lnTo>
                    <a:lnTo>
                      <a:pt x="129" y="618"/>
                    </a:lnTo>
                    <a:lnTo>
                      <a:pt x="150" y="500"/>
                    </a:lnTo>
                    <a:lnTo>
                      <a:pt x="249" y="347"/>
                    </a:lnTo>
                    <a:lnTo>
                      <a:pt x="370" y="259"/>
                    </a:lnTo>
                    <a:lnTo>
                      <a:pt x="554" y="195"/>
                    </a:lnTo>
                    <a:lnTo>
                      <a:pt x="707" y="163"/>
                    </a:lnTo>
                    <a:lnTo>
                      <a:pt x="707" y="75"/>
                    </a:lnTo>
                    <a:lnTo>
                      <a:pt x="707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09320" y="5001480"/>
                <a:ext cx="200520" cy="423360"/>
              </a:xfrm>
              <a:custGeom>
                <a:avLst/>
                <a:gdLst/>
                <a:ahLst/>
                <a:rect l="l" t="t" r="r" b="b"/>
                <a:pathLst>
                  <a:path w="662" h="1442">
                    <a:moveTo>
                      <a:pt x="576" y="455"/>
                    </a:moveTo>
                    <a:lnTo>
                      <a:pt x="509" y="185"/>
                    </a:lnTo>
                    <a:lnTo>
                      <a:pt x="434" y="54"/>
                    </a:lnTo>
                    <a:lnTo>
                      <a:pt x="270" y="0"/>
                    </a:lnTo>
                    <a:lnTo>
                      <a:pt x="107" y="22"/>
                    </a:lnTo>
                    <a:lnTo>
                      <a:pt x="32" y="163"/>
                    </a:lnTo>
                    <a:lnTo>
                      <a:pt x="43" y="337"/>
                    </a:lnTo>
                    <a:lnTo>
                      <a:pt x="86" y="618"/>
                    </a:lnTo>
                    <a:lnTo>
                      <a:pt x="86" y="867"/>
                    </a:lnTo>
                    <a:lnTo>
                      <a:pt x="32" y="1084"/>
                    </a:lnTo>
                    <a:lnTo>
                      <a:pt x="0" y="1204"/>
                    </a:lnTo>
                    <a:lnTo>
                      <a:pt x="21" y="1311"/>
                    </a:lnTo>
                    <a:lnTo>
                      <a:pt x="96" y="1367"/>
                    </a:lnTo>
                    <a:lnTo>
                      <a:pt x="195" y="1420"/>
                    </a:lnTo>
                    <a:lnTo>
                      <a:pt x="292" y="1442"/>
                    </a:lnTo>
                    <a:lnTo>
                      <a:pt x="412" y="1442"/>
                    </a:lnTo>
                    <a:lnTo>
                      <a:pt x="554" y="1332"/>
                    </a:lnTo>
                    <a:lnTo>
                      <a:pt x="662" y="1105"/>
                    </a:lnTo>
                    <a:lnTo>
                      <a:pt x="651" y="899"/>
                    </a:lnTo>
                    <a:lnTo>
                      <a:pt x="586" y="661"/>
                    </a:lnTo>
                    <a:lnTo>
                      <a:pt x="576" y="4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349200" y="5345640"/>
                <a:ext cx="152280" cy="611640"/>
              </a:xfrm>
              <a:custGeom>
                <a:avLst/>
                <a:gdLst/>
                <a:ahLst/>
                <a:rect l="l" t="t" r="r" b="b"/>
                <a:pathLst>
                  <a:path w="503" h="2083">
                    <a:moveTo>
                      <a:pt x="479" y="32"/>
                    </a:moveTo>
                    <a:lnTo>
                      <a:pt x="350" y="0"/>
                    </a:lnTo>
                    <a:lnTo>
                      <a:pt x="273" y="32"/>
                    </a:lnTo>
                    <a:lnTo>
                      <a:pt x="241" y="139"/>
                    </a:lnTo>
                    <a:lnTo>
                      <a:pt x="273" y="735"/>
                    </a:lnTo>
                    <a:lnTo>
                      <a:pt x="273" y="877"/>
                    </a:lnTo>
                    <a:lnTo>
                      <a:pt x="230" y="1139"/>
                    </a:lnTo>
                    <a:lnTo>
                      <a:pt x="219" y="1441"/>
                    </a:lnTo>
                    <a:lnTo>
                      <a:pt x="241" y="1594"/>
                    </a:lnTo>
                    <a:lnTo>
                      <a:pt x="219" y="1679"/>
                    </a:lnTo>
                    <a:lnTo>
                      <a:pt x="67" y="1810"/>
                    </a:lnTo>
                    <a:lnTo>
                      <a:pt x="0" y="1973"/>
                    </a:lnTo>
                    <a:lnTo>
                      <a:pt x="13" y="2027"/>
                    </a:lnTo>
                    <a:lnTo>
                      <a:pt x="131" y="2083"/>
                    </a:lnTo>
                    <a:lnTo>
                      <a:pt x="163" y="2059"/>
                    </a:lnTo>
                    <a:lnTo>
                      <a:pt x="176" y="1963"/>
                    </a:lnTo>
                    <a:lnTo>
                      <a:pt x="209" y="1821"/>
                    </a:lnTo>
                    <a:lnTo>
                      <a:pt x="262" y="1757"/>
                    </a:lnTo>
                    <a:lnTo>
                      <a:pt x="327" y="1714"/>
                    </a:lnTo>
                    <a:lnTo>
                      <a:pt x="383" y="1658"/>
                    </a:lnTo>
                    <a:lnTo>
                      <a:pt x="393" y="1615"/>
                    </a:lnTo>
                    <a:lnTo>
                      <a:pt x="361" y="1561"/>
                    </a:lnTo>
                    <a:lnTo>
                      <a:pt x="327" y="1529"/>
                    </a:lnTo>
                    <a:lnTo>
                      <a:pt x="305" y="1398"/>
                    </a:lnTo>
                    <a:lnTo>
                      <a:pt x="327" y="1126"/>
                    </a:lnTo>
                    <a:lnTo>
                      <a:pt x="404" y="813"/>
                    </a:lnTo>
                    <a:lnTo>
                      <a:pt x="479" y="562"/>
                    </a:lnTo>
                    <a:lnTo>
                      <a:pt x="503" y="259"/>
                    </a:lnTo>
                    <a:lnTo>
                      <a:pt x="4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14800" y="5345640"/>
                <a:ext cx="249840" cy="515880"/>
              </a:xfrm>
              <a:custGeom>
                <a:avLst/>
                <a:gdLst/>
                <a:ahLst/>
                <a:rect l="l" t="t" r="r" b="b"/>
                <a:pathLst>
                  <a:path w="825" h="1757">
                    <a:moveTo>
                      <a:pt x="271" y="259"/>
                    </a:moveTo>
                    <a:lnTo>
                      <a:pt x="249" y="85"/>
                    </a:lnTo>
                    <a:lnTo>
                      <a:pt x="152" y="0"/>
                    </a:lnTo>
                    <a:lnTo>
                      <a:pt x="11" y="10"/>
                    </a:lnTo>
                    <a:lnTo>
                      <a:pt x="0" y="85"/>
                    </a:lnTo>
                    <a:lnTo>
                      <a:pt x="11" y="248"/>
                    </a:lnTo>
                    <a:lnTo>
                      <a:pt x="86" y="497"/>
                    </a:lnTo>
                    <a:lnTo>
                      <a:pt x="142" y="682"/>
                    </a:lnTo>
                    <a:lnTo>
                      <a:pt x="206" y="931"/>
                    </a:lnTo>
                    <a:lnTo>
                      <a:pt x="228" y="1147"/>
                    </a:lnTo>
                    <a:lnTo>
                      <a:pt x="228" y="1321"/>
                    </a:lnTo>
                    <a:lnTo>
                      <a:pt x="195" y="1452"/>
                    </a:lnTo>
                    <a:lnTo>
                      <a:pt x="163" y="1495"/>
                    </a:lnTo>
                    <a:lnTo>
                      <a:pt x="163" y="1538"/>
                    </a:lnTo>
                    <a:lnTo>
                      <a:pt x="206" y="1604"/>
                    </a:lnTo>
                    <a:lnTo>
                      <a:pt x="281" y="1626"/>
                    </a:lnTo>
                    <a:lnTo>
                      <a:pt x="402" y="1626"/>
                    </a:lnTo>
                    <a:lnTo>
                      <a:pt x="619" y="1679"/>
                    </a:lnTo>
                    <a:lnTo>
                      <a:pt x="683" y="1757"/>
                    </a:lnTo>
                    <a:lnTo>
                      <a:pt x="782" y="1712"/>
                    </a:lnTo>
                    <a:lnTo>
                      <a:pt x="825" y="1604"/>
                    </a:lnTo>
                    <a:lnTo>
                      <a:pt x="782" y="1561"/>
                    </a:lnTo>
                    <a:lnTo>
                      <a:pt x="597" y="1538"/>
                    </a:lnTo>
                    <a:lnTo>
                      <a:pt x="391" y="1538"/>
                    </a:lnTo>
                    <a:lnTo>
                      <a:pt x="303" y="1527"/>
                    </a:lnTo>
                    <a:lnTo>
                      <a:pt x="281" y="1463"/>
                    </a:lnTo>
                    <a:lnTo>
                      <a:pt x="303" y="1343"/>
                    </a:lnTo>
                    <a:lnTo>
                      <a:pt x="316" y="1137"/>
                    </a:lnTo>
                    <a:lnTo>
                      <a:pt x="292" y="909"/>
                    </a:lnTo>
                    <a:lnTo>
                      <a:pt x="260" y="607"/>
                    </a:lnTo>
                    <a:lnTo>
                      <a:pt x="271" y="345"/>
                    </a:lnTo>
                    <a:lnTo>
                      <a:pt x="271" y="2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>
              <a:off x="38160" y="5887800"/>
              <a:ext cx="1168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Ontology Auth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77520" y="5099040"/>
              <a:ext cx="396720" cy="23976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1397160" y="4494240"/>
            <a:ext cx="3519360" cy="1457280"/>
            <a:chOff x="1397160" y="4494240"/>
            <a:chExt cx="3519360" cy="1457280"/>
          </a:xfrm>
        </p:grpSpPr>
        <p:sp>
          <p:nvSpPr>
            <p:cNvPr id="1130" name=""/>
            <p:cNvSpPr/>
            <p:nvPr/>
          </p:nvSpPr>
          <p:spPr>
            <a:xfrm>
              <a:off x="1497240" y="4494240"/>
              <a:ext cx="3419280" cy="14572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660680" y="4787640"/>
              <a:ext cx="299232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Knowledge models 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Enterprise Mod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User Model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301920" y="5297400"/>
              <a:ext cx="15591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RDF ont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397160" y="5105160"/>
              <a:ext cx="398520" cy="2397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1625760" y="3376080"/>
            <a:ext cx="1517400" cy="1383120"/>
            <a:chOff x="1625760" y="3376080"/>
            <a:chExt cx="1517400" cy="1383120"/>
          </a:xfrm>
        </p:grpSpPr>
        <p:sp>
          <p:nvSpPr>
            <p:cNvPr id="1135" name=""/>
            <p:cNvSpPr/>
            <p:nvPr/>
          </p:nvSpPr>
          <p:spPr>
            <a:xfrm>
              <a:off x="1625760" y="3690720"/>
              <a:ext cx="151740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oup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ests a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6" name=""/>
            <p:cNvGrpSpPr/>
            <p:nvPr/>
          </p:nvGrpSpPr>
          <p:grpSpPr>
            <a:xfrm>
              <a:off x="2071440" y="3376080"/>
              <a:ext cx="263160" cy="519480"/>
              <a:chOff x="2071440" y="3376080"/>
              <a:chExt cx="263160" cy="519480"/>
            </a:xfrm>
          </p:grpSpPr>
          <p:sp>
            <p:nvSpPr>
              <p:cNvPr id="1137" name=""/>
              <p:cNvSpPr/>
              <p:nvPr/>
            </p:nvSpPr>
            <p:spPr>
              <a:xfrm>
                <a:off x="2071440" y="3636000"/>
                <a:ext cx="263160" cy="259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V="1">
                <a:off x="2071440" y="3375720"/>
                <a:ext cx="263160" cy="259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9" name=""/>
            <p:cNvSpPr/>
            <p:nvPr/>
          </p:nvSpPr>
          <p:spPr>
            <a:xfrm flipV="1">
              <a:off x="2671560" y="4240080"/>
              <a:ext cx="0" cy="51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0" name=""/>
          <p:cNvGrpSpPr/>
          <p:nvPr/>
        </p:nvGrpSpPr>
        <p:grpSpPr>
          <a:xfrm>
            <a:off x="141120" y="1530360"/>
            <a:ext cx="2627280" cy="3210840"/>
            <a:chOff x="141120" y="1530360"/>
            <a:chExt cx="2627280" cy="3210840"/>
          </a:xfrm>
        </p:grpSpPr>
        <p:sp>
          <p:nvSpPr>
            <p:cNvPr id="1141" name=""/>
            <p:cNvSpPr/>
            <p:nvPr/>
          </p:nvSpPr>
          <p:spPr>
            <a:xfrm>
              <a:off x="1315800" y="2077920"/>
              <a:ext cx="1452600" cy="10335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315800" y="1530360"/>
              <a:ext cx="1452600" cy="515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DF anno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536400" y="3330360"/>
              <a:ext cx="263520" cy="515520"/>
              <a:chOff x="536400" y="3330360"/>
              <a:chExt cx="263520" cy="515520"/>
            </a:xfrm>
          </p:grpSpPr>
          <p:sp>
            <p:nvSpPr>
              <p:cNvPr id="1144" name=""/>
              <p:cNvSpPr/>
              <p:nvPr/>
            </p:nvSpPr>
            <p:spPr>
              <a:xfrm>
                <a:off x="536400" y="3588120"/>
                <a:ext cx="263520" cy="25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V="1">
                <a:off x="536400" y="3330360"/>
                <a:ext cx="263520" cy="25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6" name=""/>
            <p:cNvSpPr/>
            <p:nvPr/>
          </p:nvSpPr>
          <p:spPr>
            <a:xfrm>
              <a:off x="900000" y="2092320"/>
              <a:ext cx="395280" cy="23652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41120" y="3878280"/>
              <a:ext cx="117936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or a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83920" y="3003480"/>
              <a:ext cx="108000" cy="46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715680" y="2546280"/>
              <a:ext cx="528480" cy="861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 flipV="1">
              <a:off x="691560" y="4287240"/>
              <a:ext cx="1716120" cy="45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315800" y="2076480"/>
              <a:ext cx="1452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2936880" y="2687760"/>
            <a:ext cx="4092480" cy="3262320"/>
            <a:chOff x="2936880" y="2687760"/>
            <a:chExt cx="4092480" cy="3262320"/>
          </a:xfrm>
        </p:grpSpPr>
        <p:sp>
          <p:nvSpPr>
            <p:cNvPr id="1153" name=""/>
            <p:cNvSpPr/>
            <p:nvPr/>
          </p:nvSpPr>
          <p:spPr>
            <a:xfrm>
              <a:off x="5443560" y="5261040"/>
              <a:ext cx="1135080" cy="6890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4" name=""/>
            <p:cNvGrpSpPr/>
            <p:nvPr/>
          </p:nvGrpSpPr>
          <p:grpSpPr>
            <a:xfrm>
              <a:off x="4894200" y="3471840"/>
              <a:ext cx="262080" cy="515520"/>
              <a:chOff x="4894200" y="3471840"/>
              <a:chExt cx="262080" cy="515520"/>
            </a:xfrm>
          </p:grpSpPr>
          <p:sp>
            <p:nvSpPr>
              <p:cNvPr id="1155" name=""/>
              <p:cNvSpPr/>
              <p:nvPr/>
            </p:nvSpPr>
            <p:spPr>
              <a:xfrm>
                <a:off x="4894200" y="3729600"/>
                <a:ext cx="262080" cy="25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V="1">
                <a:off x="4894200" y="3471840"/>
                <a:ext cx="262080" cy="25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4618080" y="4003560"/>
              <a:ext cx="1198440" cy="33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 a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2936880" y="4317480"/>
              <a:ext cx="208764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443560" y="4816440"/>
              <a:ext cx="1135080" cy="406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notatio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435640" y="5227560"/>
              <a:ext cx="1322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443560" y="4286160"/>
              <a:ext cx="265320" cy="51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632640" y="5162400"/>
              <a:ext cx="396720" cy="2365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592960" y="2687760"/>
              <a:ext cx="0" cy="68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2803680" y="1403280"/>
            <a:ext cx="5019480" cy="2085840"/>
            <a:chOff x="2803680" y="1403280"/>
            <a:chExt cx="5019480" cy="2085840"/>
          </a:xfrm>
        </p:grpSpPr>
        <p:sp>
          <p:nvSpPr>
            <p:cNvPr id="1165" name=""/>
            <p:cNvSpPr/>
            <p:nvPr/>
          </p:nvSpPr>
          <p:spPr>
            <a:xfrm>
              <a:off x="4124520" y="1403280"/>
              <a:ext cx="3698640" cy="14572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103560" y="1931760"/>
              <a:ext cx="924120" cy="515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dex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803680" y="2060280"/>
              <a:ext cx="395280" cy="2397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932280" y="2073240"/>
              <a:ext cx="398520" cy="2397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048280" y="1496880"/>
              <a:ext cx="18493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Corporate 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653000" y="1919160"/>
              <a:ext cx="263520" cy="5176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443560" y="2208240"/>
              <a:ext cx="265320" cy="5158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237360" y="2092320"/>
              <a:ext cx="264960" cy="5173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029360" y="1919160"/>
              <a:ext cx="265320" cy="5176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597480" y="2280960"/>
              <a:ext cx="0" cy="120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5" name=""/>
          <p:cNvSpPr/>
          <p:nvPr/>
        </p:nvSpPr>
        <p:spPr>
          <a:xfrm>
            <a:off x="7620120" y="809640"/>
            <a:ext cx="1523880" cy="52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porate mem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RD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G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E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rganizatio. approa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950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Architectu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b-societies organiz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ntology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Document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nnection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User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mma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Times New Roman"/>
              </a:rPr>
              <a:t>Overvie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C872-D05C-439C-AA48-63683C723A3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-76680" y="6400800"/>
            <a:ext cx="8610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Acknowledgements to the CoMMA consortium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685800" y="2438280"/>
            <a:ext cx="807732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0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Thank</a:t>
            </a:r>
            <a:endParaRPr b="0" lang="en-US" sz="24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You !</a:t>
            </a:r>
            <a:endParaRPr b="0" lang="en-US" sz="24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160" y="-12960"/>
            <a:ext cx="910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lan of the presentation : 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12708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Corporate Memory Materialization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XML and MAS : Metadata approach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DF and MAS : Annotation approach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nceptual Graphs to handle RDF annot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MAS: Organizational approach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verall Architectu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rganizing sub-societ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dicated sub-societ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Summarize the claims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CoMMA: Overview of the System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6C2CA-3F47-4F32-BA6E-973AD3402C8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160" y="-12960"/>
            <a:ext cx="910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orporate Memory Materialization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152640" y="53316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Corporate Memory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limited scope &amp; Community identit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ntology &amp; Ontological commit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scribe user model &amp; enterprise mod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nnotate the corporate memor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CM Materialization quality: Keystone of MAIS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ntology quality </a:t>
            </a:r>
            <a:r>
              <a:rPr b="0" lang="en-US" sz="22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odel qualit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ntology &amp; Model quality </a:t>
            </a:r>
            <a:r>
              <a:rPr b="0" lang="en-US" sz="22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mmitment qualit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mmitment quality </a:t>
            </a:r>
            <a:r>
              <a:rPr b="0" lang="en-US" sz="22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nnotation qualit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nnotation quality </a:t>
            </a:r>
            <a:r>
              <a:rPr b="0" lang="en-US" sz="22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ference qualit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ference quality </a:t>
            </a:r>
            <a:r>
              <a:rPr b="0" lang="en-US" sz="22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Usability of the MAI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Here technical choices but DC techniques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18320" y="809640"/>
            <a:ext cx="1524240" cy="52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Times New Roman"/>
              </a:rPr>
              <a:t>Corporate mem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RD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G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E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rganizatio. approa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950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Architectu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b-societies organiz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ntology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Document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nnection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User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mma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AA8E4-670B-4ABA-A1D3-A176D1548CC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160" y="-12960"/>
            <a:ext cx="910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XML and MAS : Metadata approach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140040" y="647280"/>
            <a:ext cx="80643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XML: Extensible Markup Language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Nested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structure data and documen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xtensible (&lt;Tag&gt; &lt;/Tag&gt; ...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new tag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reate &amp; access via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internet-based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network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ext format &amp; Human understandab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achine understandable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distribut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worklo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TD &amp; XML Schema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formally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define docu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tyle sheets: documen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manipulatio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beyond styl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Other forthcoming interesting features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ddressing and link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Querying languag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Standard in industry </a:t>
            </a:r>
            <a:r>
              <a:rPr b="0" lang="en-US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 Good candidate 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809640"/>
            <a:ext cx="1523880" cy="52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orporate mem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Times New Roman"/>
              </a:rPr>
              <a:t>XM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RD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G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E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rganizatio. approa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950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Architectu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b-societies organiz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ntology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Document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nnection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User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mma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CFC7A-13B6-4815-83B9-859E564F156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160" y="-12960"/>
            <a:ext cx="910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RDF and MAS : Annotation approach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7620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3300"/>
                </a:solidFill>
                <a:uFillTx/>
                <a:latin typeface="Times New Roman"/>
              </a:rPr>
              <a:t>Idea</a:t>
            </a:r>
            <a:r>
              <a:rPr b="1" lang="en-US" sz="3000" spc="-1" strike="noStrike">
                <a:solidFill>
                  <a:srgbClr val="cc33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cc3300"/>
                </a:solidFill>
                <a:latin typeface="Times New Roman"/>
              </a:rPr>
              <a:t> If the corporate memory becomes an annotated world, agents can use the semantics of these annotations an through inferences help the users exploit the corporate memory.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RDF : Resource Description Framework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47628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scribe Web resources propert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7628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nnotation internal/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external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to documen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7628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DFS: RDF Schema (to formaliz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ontology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7628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XML syntax &amp; Close to object mode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Process :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47628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ntology of CM concepts &amp; relationship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7628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nnotation of CM resour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7628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nnotation-based CM exploit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809640"/>
            <a:ext cx="1523880" cy="52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porate mem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Times New Roman"/>
              </a:rPr>
              <a:t>RD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G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E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rganizatio. approa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950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Architectu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b-societies organiz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ntology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Document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nnection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User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mma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DB350-BD5A-4960-98EB-C37977D805A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160" y="-12960"/>
            <a:ext cx="910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onceptual Graphs to handle RDF annotations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152280" y="6854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Why RDF </a:t>
            </a:r>
            <a:r>
              <a:rPr b="0" lang="en-US" sz="3000" spc="-1" strike="noStrike">
                <a:solidFill>
                  <a:srgbClr val="cc3300"/>
                </a:solidFill>
                <a:latin typeface="Symbol"/>
                <a:ea typeface="Symbol"/>
              </a:rPr>
              <a:t></a:t>
            </a: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 Conceptual graphs?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mbine asse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3366"/>
              </a:buClr>
              <a:buSzPct val="65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RDF Standard for resource description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3366"/>
              </a:buClr>
              <a:buSzPct val="65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Conceptual graphs formal model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vailable query &amp; inference mechanisms for CG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dequacy between the two mode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31800" y="4000680"/>
            <a:ext cx="1501920" cy="2293920"/>
            <a:chOff x="631800" y="4000680"/>
            <a:chExt cx="1501920" cy="2293920"/>
          </a:xfrm>
        </p:grpSpPr>
        <p:sp>
          <p:nvSpPr>
            <p:cNvPr id="102" name=""/>
            <p:cNvSpPr/>
            <p:nvPr/>
          </p:nvSpPr>
          <p:spPr>
            <a:xfrm>
              <a:off x="685800" y="4000680"/>
              <a:ext cx="1447920" cy="693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92440" y="4041720"/>
              <a:ext cx="986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R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Sche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" y="4800600"/>
              <a:ext cx="1447920" cy="693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1800" y="4784760"/>
              <a:ext cx="142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R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Annot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5800" y="5600880"/>
              <a:ext cx="1447920" cy="693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14400" y="5562720"/>
              <a:ext cx="819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R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Qu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965240" y="3962520"/>
            <a:ext cx="1762200" cy="2364120"/>
            <a:chOff x="1965240" y="3962520"/>
            <a:chExt cx="1762200" cy="2364120"/>
          </a:xfrm>
        </p:grpSpPr>
        <p:sp>
          <p:nvSpPr>
            <p:cNvPr id="109" name=""/>
            <p:cNvSpPr/>
            <p:nvPr/>
          </p:nvSpPr>
          <p:spPr>
            <a:xfrm>
              <a:off x="2508120" y="4000680"/>
              <a:ext cx="1219320" cy="693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86600" y="3962520"/>
              <a:ext cx="99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C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Sup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74960" y="4152960"/>
              <a:ext cx="838080" cy="228600"/>
            </a:xfrm>
            <a:custGeom>
              <a:avLst/>
              <a:gdLst>
                <a:gd name="textAreaLeft" fmla="*/ 130680 w 838080"/>
                <a:gd name="textAreaRight" fmla="*/ 733320 w 83808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21080" y="4809960"/>
              <a:ext cx="1182600" cy="694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27200" y="4800600"/>
              <a:ext cx="1181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C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Fact 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74960" y="4915080"/>
              <a:ext cx="838080" cy="228600"/>
            </a:xfrm>
            <a:custGeom>
              <a:avLst/>
              <a:gdLst>
                <a:gd name="textAreaLeft" fmla="*/ 130680 w 838080"/>
                <a:gd name="textAreaRight" fmla="*/ 733320 w 83808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25760" y="5600880"/>
              <a:ext cx="1182600" cy="693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5622840"/>
              <a:ext cx="819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Qu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Grap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65240" y="5877000"/>
              <a:ext cx="838440" cy="228600"/>
            </a:xfrm>
            <a:custGeom>
              <a:avLst/>
              <a:gdLst>
                <a:gd name="textAreaLeft" fmla="*/ 131040 w 838440"/>
                <a:gd name="textAreaRight" fmla="*/ 733680 w 83844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365640" y="4191120"/>
            <a:ext cx="2008080" cy="1933200"/>
            <a:chOff x="3365640" y="4191120"/>
            <a:chExt cx="2008080" cy="1933200"/>
          </a:xfrm>
        </p:grpSpPr>
        <p:sp>
          <p:nvSpPr>
            <p:cNvPr id="119" name=""/>
            <p:cNvSpPr/>
            <p:nvPr/>
          </p:nvSpPr>
          <p:spPr>
            <a:xfrm>
              <a:off x="3897360" y="4809960"/>
              <a:ext cx="1476360" cy="694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27760" y="4800600"/>
              <a:ext cx="92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C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3612960" y="4228920"/>
              <a:ext cx="685800" cy="6098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167" stAng="10800000" swAng="5400000"/>
                  <a:lnTo>
                    <a:pt x="14849" y="3993"/>
                  </a:lnTo>
                  <a:lnTo>
                    <a:pt x="14849" y="0"/>
                  </a:lnTo>
                  <a:lnTo>
                    <a:pt x="21600" y="6079"/>
                  </a:lnTo>
                  <a:lnTo>
                    <a:pt x="14849" y="12158"/>
                  </a:lnTo>
                  <a:lnTo>
                    <a:pt x="14849" y="8165"/>
                  </a:lnTo>
                  <a:lnTo>
                    <a:pt x="12427" y="8165"/>
                  </a:lnTo>
                  <a:arcTo wR="8255" hR="3995" stAng="16200000" swAng="-5400000"/>
                  <a:lnTo>
                    <a:pt x="4172" y="2160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16200000">
              <a:off x="3598560" y="5461560"/>
              <a:ext cx="714600" cy="609840"/>
            </a:xfrm>
            <a:custGeom>
              <a:avLst/>
              <a:gdLst>
                <a:gd name="textAreaLeft" fmla="*/ 0 w 714600"/>
                <a:gd name="textAreaRight" fmla="*/ 714960 w 714600"/>
                <a:gd name="textAreaTop" fmla="*/ 360 h 609840"/>
                <a:gd name="textAreaBottom" fmla="*/ 6105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167" stAng="10800000" swAng="5400000"/>
                  <a:lnTo>
                    <a:pt x="14688" y="3993"/>
                  </a:lnTo>
                  <a:lnTo>
                    <a:pt x="14688" y="0"/>
                  </a:lnTo>
                  <a:lnTo>
                    <a:pt x="21600" y="6079"/>
                  </a:lnTo>
                  <a:lnTo>
                    <a:pt x="14688" y="12158"/>
                  </a:lnTo>
                  <a:lnTo>
                    <a:pt x="14688" y="8165"/>
                  </a:lnTo>
                  <a:lnTo>
                    <a:pt x="12427" y="8165"/>
                  </a:lnTo>
                  <a:arcTo wR="8255" hR="3995" stAng="16200000" swAng="-5400000"/>
                  <a:lnTo>
                    <a:pt x="4172" y="2160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65640" y="4905360"/>
              <a:ext cx="596880" cy="276120"/>
            </a:xfrm>
            <a:prstGeom prst="rightArrow">
              <a:avLst>
                <a:gd name="adj1" fmla="val 50000"/>
                <a:gd name="adj2" fmla="val 54042"/>
              </a:avLst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175360" y="4800600"/>
            <a:ext cx="1898640" cy="703800"/>
            <a:chOff x="5175360" y="4800600"/>
            <a:chExt cx="1898640" cy="703800"/>
          </a:xfrm>
        </p:grpSpPr>
        <p:sp>
          <p:nvSpPr>
            <p:cNvPr id="125" name=""/>
            <p:cNvSpPr/>
            <p:nvPr/>
          </p:nvSpPr>
          <p:spPr>
            <a:xfrm>
              <a:off x="5819760" y="4809960"/>
              <a:ext cx="1254240" cy="694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91480" y="4800600"/>
              <a:ext cx="92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R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75360" y="5067360"/>
              <a:ext cx="914400" cy="228600"/>
            </a:xfrm>
            <a:custGeom>
              <a:avLst/>
              <a:gdLst>
                <a:gd name="textAreaLeft" fmla="*/ 142920 w 914400"/>
                <a:gd name="textAreaRight" fmla="*/ 800280 w 91440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279520" y="3898800"/>
            <a:ext cx="3357000" cy="2579760"/>
            <a:chOff x="2279520" y="3898800"/>
            <a:chExt cx="3357000" cy="2579760"/>
          </a:xfrm>
        </p:grpSpPr>
        <p:sp>
          <p:nvSpPr>
            <p:cNvPr id="129" name=""/>
            <p:cNvSpPr/>
            <p:nvPr/>
          </p:nvSpPr>
          <p:spPr>
            <a:xfrm>
              <a:off x="2279520" y="3898800"/>
              <a:ext cx="3276720" cy="2524320"/>
            </a:xfrm>
            <a:prstGeom prst="rect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16920" y="6110280"/>
              <a:ext cx="111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Times New Roman"/>
                </a:rPr>
                <a:t>CORE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7620120" y="809640"/>
            <a:ext cx="1523880" cy="52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porate mem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RD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Times New Roman"/>
              </a:rPr>
              <a:t>CG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E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rganizatio. approa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950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Architectu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b-societies organiz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ntology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Document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nnection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User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mma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F9449-B1C9-4502-8078-75B4AF72C52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160" y="-12960"/>
            <a:ext cx="910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ORESE : Conceptual Resource Search Engine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152280" y="53316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Prototype of search engine (Notio + VRP)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91800" y="3657600"/>
            <a:ext cx="2499120" cy="2209320"/>
            <a:chOff x="91800" y="3657600"/>
            <a:chExt cx="2499120" cy="2209320"/>
          </a:xfrm>
        </p:grpSpPr>
        <p:sp>
          <p:nvSpPr>
            <p:cNvPr id="135" name=""/>
            <p:cNvSpPr/>
            <p:nvPr/>
          </p:nvSpPr>
          <p:spPr>
            <a:xfrm>
              <a:off x="1320840" y="5181480"/>
              <a:ext cx="1270080" cy="685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09680" y="5257440"/>
              <a:ext cx="304920" cy="456840"/>
            </a:xfrm>
            <a:prstGeom prst="can">
              <a:avLst>
                <a:gd name="adj" fmla="val 25000"/>
              </a:avLst>
            </a:prstGeom>
            <a:solidFill>
              <a:srgbClr val="cc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98520" y="525744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RD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4760" y="5181480"/>
              <a:ext cx="1143000" cy="685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6880" y="5257440"/>
              <a:ext cx="304560" cy="456840"/>
            </a:xfrm>
            <a:prstGeom prst="can">
              <a:avLst>
                <a:gd name="adj" fmla="val 25000"/>
              </a:avLst>
            </a:prstGeom>
            <a:solidFill>
              <a:srgbClr val="cc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1800" y="5257440"/>
              <a:ext cx="7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43000" y="3657600"/>
              <a:ext cx="0" cy="12189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5800" y="4876560"/>
              <a:ext cx="0" cy="3045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05120" y="4876560"/>
              <a:ext cx="0" cy="3045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617200" y="4876920"/>
            <a:ext cx="2107080" cy="990000"/>
            <a:chOff x="2617200" y="4876920"/>
            <a:chExt cx="2107080" cy="990000"/>
          </a:xfrm>
        </p:grpSpPr>
        <p:sp>
          <p:nvSpPr>
            <p:cNvPr id="145" name=""/>
            <p:cNvSpPr/>
            <p:nvPr/>
          </p:nvSpPr>
          <p:spPr>
            <a:xfrm>
              <a:off x="2666880" y="5181480"/>
              <a:ext cx="2057400" cy="685440"/>
            </a:xfrm>
            <a:prstGeom prst="foldedCorner">
              <a:avLst>
                <a:gd name="adj" fmla="val 10648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43400" y="5257440"/>
              <a:ext cx="304920" cy="456840"/>
            </a:xfrm>
            <a:prstGeom prst="can">
              <a:avLst>
                <a:gd name="adj" fmla="val 25000"/>
              </a:avLst>
            </a:prstGeom>
            <a:solidFill>
              <a:srgbClr val="cc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17200" y="5257440"/>
              <a:ext cx="174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Doc Arch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57600" y="4876920"/>
              <a:ext cx="0" cy="3045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952880" y="4876920"/>
            <a:ext cx="2438640" cy="990000"/>
            <a:chOff x="4952880" y="4876920"/>
            <a:chExt cx="2438640" cy="990000"/>
          </a:xfrm>
        </p:grpSpPr>
        <p:sp>
          <p:nvSpPr>
            <p:cNvPr id="150" name=""/>
            <p:cNvSpPr/>
            <p:nvPr/>
          </p:nvSpPr>
          <p:spPr>
            <a:xfrm>
              <a:off x="4952880" y="5181480"/>
              <a:ext cx="2438640" cy="685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6832440" y="5257440"/>
              <a:ext cx="533520" cy="523800"/>
              <a:chOff x="6832440" y="5257440"/>
              <a:chExt cx="533520" cy="52380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7137360" y="5537160"/>
                <a:ext cx="228600" cy="244080"/>
                <a:chOff x="7137360" y="5537160"/>
                <a:chExt cx="228600" cy="2440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7137360" y="5537160"/>
                  <a:ext cx="228600" cy="244080"/>
                </a:xfrm>
                <a:custGeom>
                  <a:avLst/>
                  <a:gdLst>
                    <a:gd name="textAreaLeft" fmla="*/ 60840 w 228600"/>
                    <a:gd name="textAreaRight" fmla="*/ 167760 w 228600"/>
                    <a:gd name="textAreaTop" fmla="*/ 64800 h 244080"/>
                    <a:gd name="textAreaBottom" fmla="*/ 179280 h 244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3791" y="12162"/>
                      </a:lnTo>
                      <a:lnTo>
                        <a:pt x="786" y="14846"/>
                      </a:lnTo>
                      <a:lnTo>
                        <a:pt x="4812" y="14689"/>
                      </a:lnTo>
                      <a:lnTo>
                        <a:pt x="3163" y="18437"/>
                      </a:lnTo>
                      <a:lnTo>
                        <a:pt x="6807" y="16719"/>
                      </a:lnTo>
                      <a:lnTo>
                        <a:pt x="6580" y="20741"/>
                      </a:lnTo>
                      <a:lnTo>
                        <a:pt x="9316" y="17784"/>
                      </a:lnTo>
                      <a:lnTo>
                        <a:pt x="10800" y="21600"/>
                      </a:lnTo>
                      <a:lnTo>
                        <a:pt x="12162" y="17809"/>
                      </a:lnTo>
                      <a:lnTo>
                        <a:pt x="14846" y="20814"/>
                      </a:lnTo>
                      <a:lnTo>
                        <a:pt x="14689" y="16788"/>
                      </a:lnTo>
                      <a:lnTo>
                        <a:pt x="18437" y="18437"/>
                      </a:lnTo>
                      <a:lnTo>
                        <a:pt x="16719" y="14793"/>
                      </a:lnTo>
                      <a:lnTo>
                        <a:pt x="20741" y="15020"/>
                      </a:lnTo>
                      <a:lnTo>
                        <a:pt x="17784" y="12284"/>
                      </a:lnTo>
                      <a:lnTo>
                        <a:pt x="21600" y="10800"/>
                      </a:lnTo>
                      <a:lnTo>
                        <a:pt x="17809" y="9438"/>
                      </a:lnTo>
                      <a:lnTo>
                        <a:pt x="20814" y="6754"/>
                      </a:lnTo>
                      <a:lnTo>
                        <a:pt x="16788" y="6911"/>
                      </a:lnTo>
                      <a:lnTo>
                        <a:pt x="18437" y="3163"/>
                      </a:lnTo>
                      <a:lnTo>
                        <a:pt x="14793" y="4881"/>
                      </a:lnTo>
                      <a:lnTo>
                        <a:pt x="15020" y="859"/>
                      </a:lnTo>
                      <a:lnTo>
                        <a:pt x="12284" y="3816"/>
                      </a:lnTo>
                      <a:lnTo>
                        <a:pt x="10800" y="0"/>
                      </a:lnTo>
                      <a:lnTo>
                        <a:pt x="9438" y="3791"/>
                      </a:lnTo>
                      <a:lnTo>
                        <a:pt x="6754" y="786"/>
                      </a:lnTo>
                      <a:lnTo>
                        <a:pt x="6911" y="4812"/>
                      </a:lnTo>
                      <a:lnTo>
                        <a:pt x="3163" y="3163"/>
                      </a:lnTo>
                      <a:lnTo>
                        <a:pt x="4881" y="6807"/>
                      </a:lnTo>
                      <a:lnTo>
                        <a:pt x="859" y="6580"/>
                      </a:lnTo>
                      <a:lnTo>
                        <a:pt x="3816" y="931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3366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228800" y="5636160"/>
                  <a:ext cx="45720" cy="45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6832440" y="5257440"/>
                <a:ext cx="398880" cy="411840"/>
                <a:chOff x="6832440" y="5257440"/>
                <a:chExt cx="398880" cy="4118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6832440" y="5257440"/>
                  <a:ext cx="398880" cy="411840"/>
                </a:xfrm>
                <a:custGeom>
                  <a:avLst/>
                  <a:gdLst>
                    <a:gd name="textAreaLeft" fmla="*/ 91080 w 398880"/>
                    <a:gd name="textAreaRight" fmla="*/ 307800 w 398880"/>
                    <a:gd name="textAreaTop" fmla="*/ 93960 h 411840"/>
                    <a:gd name="textAreaBottom" fmla="*/ 317880 h 411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562" y="11812"/>
                      </a:lnTo>
                      <a:lnTo>
                        <a:pt x="368" y="13595"/>
                      </a:lnTo>
                      <a:lnTo>
                        <a:pt x="3104" y="13909"/>
                      </a:lnTo>
                      <a:lnTo>
                        <a:pt x="1447" y="16200"/>
                      </a:lnTo>
                      <a:lnTo>
                        <a:pt x="4171" y="15795"/>
                      </a:lnTo>
                      <a:lnTo>
                        <a:pt x="3163" y="18437"/>
                      </a:lnTo>
                      <a:lnTo>
                        <a:pt x="5690" y="17340"/>
                      </a:lnTo>
                      <a:lnTo>
                        <a:pt x="5400" y="20153"/>
                      </a:lnTo>
                      <a:lnTo>
                        <a:pt x="7557" y="18440"/>
                      </a:lnTo>
                      <a:lnTo>
                        <a:pt x="8005" y="21232"/>
                      </a:lnTo>
                      <a:lnTo>
                        <a:pt x="9645" y="19019"/>
                      </a:lnTo>
                      <a:lnTo>
                        <a:pt x="10800" y="21600"/>
                      </a:lnTo>
                      <a:lnTo>
                        <a:pt x="11812" y="19038"/>
                      </a:lnTo>
                      <a:lnTo>
                        <a:pt x="13595" y="21232"/>
                      </a:lnTo>
                      <a:lnTo>
                        <a:pt x="13909" y="18496"/>
                      </a:lnTo>
                      <a:lnTo>
                        <a:pt x="16200" y="20153"/>
                      </a:lnTo>
                      <a:lnTo>
                        <a:pt x="15795" y="17429"/>
                      </a:lnTo>
                      <a:lnTo>
                        <a:pt x="18437" y="18437"/>
                      </a:lnTo>
                      <a:lnTo>
                        <a:pt x="17340" y="15910"/>
                      </a:lnTo>
                      <a:lnTo>
                        <a:pt x="20153" y="16200"/>
                      </a:lnTo>
                      <a:lnTo>
                        <a:pt x="18440" y="14043"/>
                      </a:lnTo>
                      <a:lnTo>
                        <a:pt x="21232" y="13595"/>
                      </a:lnTo>
                      <a:lnTo>
                        <a:pt x="19019" y="11955"/>
                      </a:lnTo>
                      <a:lnTo>
                        <a:pt x="21600" y="10800"/>
                      </a:lnTo>
                      <a:lnTo>
                        <a:pt x="19038" y="9788"/>
                      </a:lnTo>
                      <a:lnTo>
                        <a:pt x="21232" y="8005"/>
                      </a:lnTo>
                      <a:lnTo>
                        <a:pt x="18496" y="7691"/>
                      </a:lnTo>
                      <a:lnTo>
                        <a:pt x="20153" y="5400"/>
                      </a:lnTo>
                      <a:lnTo>
                        <a:pt x="17429" y="5805"/>
                      </a:lnTo>
                      <a:lnTo>
                        <a:pt x="18437" y="3163"/>
                      </a:lnTo>
                      <a:lnTo>
                        <a:pt x="15910" y="4260"/>
                      </a:lnTo>
                      <a:lnTo>
                        <a:pt x="16200" y="1447"/>
                      </a:lnTo>
                      <a:lnTo>
                        <a:pt x="14043" y="3160"/>
                      </a:lnTo>
                      <a:lnTo>
                        <a:pt x="13595" y="368"/>
                      </a:lnTo>
                      <a:lnTo>
                        <a:pt x="11955" y="2581"/>
                      </a:lnTo>
                      <a:lnTo>
                        <a:pt x="10800" y="0"/>
                      </a:lnTo>
                      <a:lnTo>
                        <a:pt x="9788" y="2562"/>
                      </a:lnTo>
                      <a:lnTo>
                        <a:pt x="8005" y="368"/>
                      </a:lnTo>
                      <a:lnTo>
                        <a:pt x="7691" y="3104"/>
                      </a:lnTo>
                      <a:lnTo>
                        <a:pt x="5400" y="1447"/>
                      </a:lnTo>
                      <a:lnTo>
                        <a:pt x="5805" y="4171"/>
                      </a:lnTo>
                      <a:lnTo>
                        <a:pt x="3163" y="3163"/>
                      </a:lnTo>
                      <a:lnTo>
                        <a:pt x="4260" y="5690"/>
                      </a:lnTo>
                      <a:lnTo>
                        <a:pt x="1447" y="5400"/>
                      </a:lnTo>
                      <a:lnTo>
                        <a:pt x="3160" y="7557"/>
                      </a:lnTo>
                      <a:lnTo>
                        <a:pt x="368" y="8005"/>
                      </a:lnTo>
                      <a:lnTo>
                        <a:pt x="2581" y="9645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3366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001280" y="5432760"/>
                  <a:ext cx="60840" cy="60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8" name=""/>
            <p:cNvSpPr/>
            <p:nvPr/>
          </p:nvSpPr>
          <p:spPr>
            <a:xfrm>
              <a:off x="4953960" y="5257440"/>
              <a:ext cx="186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Web Brow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43600" y="4876920"/>
              <a:ext cx="0" cy="3045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800" y="2971800"/>
            <a:ext cx="2512800" cy="914400"/>
            <a:chOff x="1800" y="2971800"/>
            <a:chExt cx="2512800" cy="914400"/>
          </a:xfrm>
        </p:grpSpPr>
        <p:sp>
          <p:nvSpPr>
            <p:cNvPr id="161" name=""/>
            <p:cNvSpPr/>
            <p:nvPr/>
          </p:nvSpPr>
          <p:spPr>
            <a:xfrm>
              <a:off x="76320" y="2971800"/>
              <a:ext cx="220968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727280" y="3048120"/>
              <a:ext cx="533160" cy="523800"/>
              <a:chOff x="1727280" y="3048120"/>
              <a:chExt cx="533160" cy="52380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2031840" y="3327840"/>
                <a:ext cx="228600" cy="244080"/>
                <a:chOff x="2031840" y="3327840"/>
                <a:chExt cx="228600" cy="2440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031840" y="3327840"/>
                  <a:ext cx="228600" cy="244080"/>
                </a:xfrm>
                <a:custGeom>
                  <a:avLst/>
                  <a:gdLst>
                    <a:gd name="textAreaLeft" fmla="*/ 60840 w 228600"/>
                    <a:gd name="textAreaRight" fmla="*/ 167760 w 228600"/>
                    <a:gd name="textAreaTop" fmla="*/ 64800 h 244080"/>
                    <a:gd name="textAreaBottom" fmla="*/ 179280 h 244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3791" y="12162"/>
                      </a:lnTo>
                      <a:lnTo>
                        <a:pt x="786" y="14846"/>
                      </a:lnTo>
                      <a:lnTo>
                        <a:pt x="4812" y="14689"/>
                      </a:lnTo>
                      <a:lnTo>
                        <a:pt x="3163" y="18437"/>
                      </a:lnTo>
                      <a:lnTo>
                        <a:pt x="6807" y="16719"/>
                      </a:lnTo>
                      <a:lnTo>
                        <a:pt x="6580" y="20741"/>
                      </a:lnTo>
                      <a:lnTo>
                        <a:pt x="9316" y="17784"/>
                      </a:lnTo>
                      <a:lnTo>
                        <a:pt x="10800" y="21600"/>
                      </a:lnTo>
                      <a:lnTo>
                        <a:pt x="12162" y="17809"/>
                      </a:lnTo>
                      <a:lnTo>
                        <a:pt x="14846" y="20814"/>
                      </a:lnTo>
                      <a:lnTo>
                        <a:pt x="14689" y="16788"/>
                      </a:lnTo>
                      <a:lnTo>
                        <a:pt x="18437" y="18437"/>
                      </a:lnTo>
                      <a:lnTo>
                        <a:pt x="16719" y="14793"/>
                      </a:lnTo>
                      <a:lnTo>
                        <a:pt x="20741" y="15020"/>
                      </a:lnTo>
                      <a:lnTo>
                        <a:pt x="17784" y="12284"/>
                      </a:lnTo>
                      <a:lnTo>
                        <a:pt x="21600" y="10800"/>
                      </a:lnTo>
                      <a:lnTo>
                        <a:pt x="17809" y="9438"/>
                      </a:lnTo>
                      <a:lnTo>
                        <a:pt x="20814" y="6754"/>
                      </a:lnTo>
                      <a:lnTo>
                        <a:pt x="16788" y="6911"/>
                      </a:lnTo>
                      <a:lnTo>
                        <a:pt x="18437" y="3163"/>
                      </a:lnTo>
                      <a:lnTo>
                        <a:pt x="14793" y="4881"/>
                      </a:lnTo>
                      <a:lnTo>
                        <a:pt x="15020" y="859"/>
                      </a:lnTo>
                      <a:lnTo>
                        <a:pt x="12284" y="3816"/>
                      </a:lnTo>
                      <a:lnTo>
                        <a:pt x="10800" y="0"/>
                      </a:lnTo>
                      <a:lnTo>
                        <a:pt x="9438" y="3791"/>
                      </a:lnTo>
                      <a:lnTo>
                        <a:pt x="6754" y="786"/>
                      </a:lnTo>
                      <a:lnTo>
                        <a:pt x="6911" y="4812"/>
                      </a:lnTo>
                      <a:lnTo>
                        <a:pt x="3163" y="3163"/>
                      </a:lnTo>
                      <a:lnTo>
                        <a:pt x="4881" y="6807"/>
                      </a:lnTo>
                      <a:lnTo>
                        <a:pt x="859" y="6580"/>
                      </a:lnTo>
                      <a:lnTo>
                        <a:pt x="3816" y="931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3366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123280" y="3426840"/>
                  <a:ext cx="45720" cy="45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1727280" y="3048120"/>
                <a:ext cx="398520" cy="411840"/>
                <a:chOff x="1727280" y="3048120"/>
                <a:chExt cx="398520" cy="4118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1727280" y="3048120"/>
                  <a:ext cx="398520" cy="411840"/>
                </a:xfrm>
                <a:custGeom>
                  <a:avLst/>
                  <a:gdLst>
                    <a:gd name="textAreaLeft" fmla="*/ 90720 w 398520"/>
                    <a:gd name="textAreaRight" fmla="*/ 307800 w 398520"/>
                    <a:gd name="textAreaTop" fmla="*/ 93960 h 411840"/>
                    <a:gd name="textAreaBottom" fmla="*/ 317880 h 411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562" y="11812"/>
                      </a:lnTo>
                      <a:lnTo>
                        <a:pt x="368" y="13595"/>
                      </a:lnTo>
                      <a:lnTo>
                        <a:pt x="3104" y="13909"/>
                      </a:lnTo>
                      <a:lnTo>
                        <a:pt x="1447" y="16200"/>
                      </a:lnTo>
                      <a:lnTo>
                        <a:pt x="4171" y="15795"/>
                      </a:lnTo>
                      <a:lnTo>
                        <a:pt x="3163" y="18437"/>
                      </a:lnTo>
                      <a:lnTo>
                        <a:pt x="5690" y="17340"/>
                      </a:lnTo>
                      <a:lnTo>
                        <a:pt x="5400" y="20153"/>
                      </a:lnTo>
                      <a:lnTo>
                        <a:pt x="7557" y="18440"/>
                      </a:lnTo>
                      <a:lnTo>
                        <a:pt x="8005" y="21232"/>
                      </a:lnTo>
                      <a:lnTo>
                        <a:pt x="9645" y="19019"/>
                      </a:lnTo>
                      <a:lnTo>
                        <a:pt x="10800" y="21600"/>
                      </a:lnTo>
                      <a:lnTo>
                        <a:pt x="11812" y="19038"/>
                      </a:lnTo>
                      <a:lnTo>
                        <a:pt x="13595" y="21232"/>
                      </a:lnTo>
                      <a:lnTo>
                        <a:pt x="13909" y="18496"/>
                      </a:lnTo>
                      <a:lnTo>
                        <a:pt x="16200" y="20153"/>
                      </a:lnTo>
                      <a:lnTo>
                        <a:pt x="15795" y="17429"/>
                      </a:lnTo>
                      <a:lnTo>
                        <a:pt x="18437" y="18437"/>
                      </a:lnTo>
                      <a:lnTo>
                        <a:pt x="17340" y="15910"/>
                      </a:lnTo>
                      <a:lnTo>
                        <a:pt x="20153" y="16200"/>
                      </a:lnTo>
                      <a:lnTo>
                        <a:pt x="18440" y="14043"/>
                      </a:lnTo>
                      <a:lnTo>
                        <a:pt x="21232" y="13595"/>
                      </a:lnTo>
                      <a:lnTo>
                        <a:pt x="19019" y="11955"/>
                      </a:lnTo>
                      <a:lnTo>
                        <a:pt x="21600" y="10800"/>
                      </a:lnTo>
                      <a:lnTo>
                        <a:pt x="19038" y="9788"/>
                      </a:lnTo>
                      <a:lnTo>
                        <a:pt x="21232" y="8005"/>
                      </a:lnTo>
                      <a:lnTo>
                        <a:pt x="18496" y="7691"/>
                      </a:lnTo>
                      <a:lnTo>
                        <a:pt x="20153" y="5400"/>
                      </a:lnTo>
                      <a:lnTo>
                        <a:pt x="17429" y="5805"/>
                      </a:lnTo>
                      <a:lnTo>
                        <a:pt x="18437" y="3163"/>
                      </a:lnTo>
                      <a:lnTo>
                        <a:pt x="15910" y="4260"/>
                      </a:lnTo>
                      <a:lnTo>
                        <a:pt x="16200" y="1447"/>
                      </a:lnTo>
                      <a:lnTo>
                        <a:pt x="14043" y="3160"/>
                      </a:lnTo>
                      <a:lnTo>
                        <a:pt x="13595" y="368"/>
                      </a:lnTo>
                      <a:lnTo>
                        <a:pt x="11955" y="2581"/>
                      </a:lnTo>
                      <a:lnTo>
                        <a:pt x="10800" y="0"/>
                      </a:lnTo>
                      <a:lnTo>
                        <a:pt x="9788" y="2562"/>
                      </a:lnTo>
                      <a:lnTo>
                        <a:pt x="8005" y="368"/>
                      </a:lnTo>
                      <a:lnTo>
                        <a:pt x="7691" y="3104"/>
                      </a:lnTo>
                      <a:lnTo>
                        <a:pt x="5400" y="1447"/>
                      </a:lnTo>
                      <a:lnTo>
                        <a:pt x="5805" y="4171"/>
                      </a:lnTo>
                      <a:lnTo>
                        <a:pt x="3163" y="3163"/>
                      </a:lnTo>
                      <a:lnTo>
                        <a:pt x="4260" y="5690"/>
                      </a:lnTo>
                      <a:lnTo>
                        <a:pt x="1447" y="5400"/>
                      </a:lnTo>
                      <a:lnTo>
                        <a:pt x="3160" y="7557"/>
                      </a:lnTo>
                      <a:lnTo>
                        <a:pt x="368" y="8005"/>
                      </a:lnTo>
                      <a:lnTo>
                        <a:pt x="2581" y="9645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3366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896120" y="3223440"/>
                  <a:ext cx="60840" cy="60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9" name=""/>
            <p:cNvSpPr/>
            <p:nvPr/>
          </p:nvSpPr>
          <p:spPr>
            <a:xfrm>
              <a:off x="1800" y="3048120"/>
              <a:ext cx="171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RDF Lo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23880" y="3657600"/>
              <a:ext cx="990720" cy="2286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489040" y="3886200"/>
            <a:ext cx="2616480" cy="990720"/>
            <a:chOff x="2489040" y="3886200"/>
            <a:chExt cx="2616480" cy="990720"/>
          </a:xfrm>
        </p:grpSpPr>
        <p:sp>
          <p:nvSpPr>
            <p:cNvPr id="172" name=""/>
            <p:cNvSpPr/>
            <p:nvPr/>
          </p:nvSpPr>
          <p:spPr>
            <a:xfrm>
              <a:off x="2489040" y="3886200"/>
              <a:ext cx="261648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4546440" y="3962520"/>
              <a:ext cx="533520" cy="523800"/>
              <a:chOff x="4546440" y="3962520"/>
              <a:chExt cx="533520" cy="52380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4851360" y="4242240"/>
                <a:ext cx="228600" cy="244080"/>
                <a:chOff x="4851360" y="4242240"/>
                <a:chExt cx="228600" cy="2440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851360" y="4242240"/>
                  <a:ext cx="228600" cy="244080"/>
                </a:xfrm>
                <a:custGeom>
                  <a:avLst/>
                  <a:gdLst>
                    <a:gd name="textAreaLeft" fmla="*/ 60840 w 228600"/>
                    <a:gd name="textAreaRight" fmla="*/ 167760 w 228600"/>
                    <a:gd name="textAreaTop" fmla="*/ 64800 h 244080"/>
                    <a:gd name="textAreaBottom" fmla="*/ 179280 h 244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3791" y="12162"/>
                      </a:lnTo>
                      <a:lnTo>
                        <a:pt x="786" y="14846"/>
                      </a:lnTo>
                      <a:lnTo>
                        <a:pt x="4812" y="14689"/>
                      </a:lnTo>
                      <a:lnTo>
                        <a:pt x="3163" y="18437"/>
                      </a:lnTo>
                      <a:lnTo>
                        <a:pt x="6807" y="16719"/>
                      </a:lnTo>
                      <a:lnTo>
                        <a:pt x="6580" y="20741"/>
                      </a:lnTo>
                      <a:lnTo>
                        <a:pt x="9316" y="17784"/>
                      </a:lnTo>
                      <a:lnTo>
                        <a:pt x="10800" y="21600"/>
                      </a:lnTo>
                      <a:lnTo>
                        <a:pt x="12162" y="17809"/>
                      </a:lnTo>
                      <a:lnTo>
                        <a:pt x="14846" y="20814"/>
                      </a:lnTo>
                      <a:lnTo>
                        <a:pt x="14689" y="16788"/>
                      </a:lnTo>
                      <a:lnTo>
                        <a:pt x="18437" y="18437"/>
                      </a:lnTo>
                      <a:lnTo>
                        <a:pt x="16719" y="14793"/>
                      </a:lnTo>
                      <a:lnTo>
                        <a:pt x="20741" y="15020"/>
                      </a:lnTo>
                      <a:lnTo>
                        <a:pt x="17784" y="12284"/>
                      </a:lnTo>
                      <a:lnTo>
                        <a:pt x="21600" y="10800"/>
                      </a:lnTo>
                      <a:lnTo>
                        <a:pt x="17809" y="9438"/>
                      </a:lnTo>
                      <a:lnTo>
                        <a:pt x="20814" y="6754"/>
                      </a:lnTo>
                      <a:lnTo>
                        <a:pt x="16788" y="6911"/>
                      </a:lnTo>
                      <a:lnTo>
                        <a:pt x="18437" y="3163"/>
                      </a:lnTo>
                      <a:lnTo>
                        <a:pt x="14793" y="4881"/>
                      </a:lnTo>
                      <a:lnTo>
                        <a:pt x="15020" y="859"/>
                      </a:lnTo>
                      <a:lnTo>
                        <a:pt x="12284" y="3816"/>
                      </a:lnTo>
                      <a:lnTo>
                        <a:pt x="10800" y="0"/>
                      </a:lnTo>
                      <a:lnTo>
                        <a:pt x="9438" y="3791"/>
                      </a:lnTo>
                      <a:lnTo>
                        <a:pt x="6754" y="786"/>
                      </a:lnTo>
                      <a:lnTo>
                        <a:pt x="6911" y="4812"/>
                      </a:lnTo>
                      <a:lnTo>
                        <a:pt x="3163" y="3163"/>
                      </a:lnTo>
                      <a:lnTo>
                        <a:pt x="4881" y="6807"/>
                      </a:lnTo>
                      <a:lnTo>
                        <a:pt x="859" y="6580"/>
                      </a:lnTo>
                      <a:lnTo>
                        <a:pt x="3816" y="931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3366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942800" y="4341240"/>
                  <a:ext cx="45720" cy="45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546440" y="3962520"/>
                <a:ext cx="398880" cy="411840"/>
                <a:chOff x="4546440" y="3962520"/>
                <a:chExt cx="398880" cy="4118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546440" y="3962520"/>
                  <a:ext cx="398880" cy="411840"/>
                </a:xfrm>
                <a:custGeom>
                  <a:avLst/>
                  <a:gdLst>
                    <a:gd name="textAreaLeft" fmla="*/ 91080 w 398880"/>
                    <a:gd name="textAreaRight" fmla="*/ 307800 w 398880"/>
                    <a:gd name="textAreaTop" fmla="*/ 93960 h 411840"/>
                    <a:gd name="textAreaBottom" fmla="*/ 317880 h 411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562" y="11812"/>
                      </a:lnTo>
                      <a:lnTo>
                        <a:pt x="368" y="13595"/>
                      </a:lnTo>
                      <a:lnTo>
                        <a:pt x="3104" y="13909"/>
                      </a:lnTo>
                      <a:lnTo>
                        <a:pt x="1447" y="16200"/>
                      </a:lnTo>
                      <a:lnTo>
                        <a:pt x="4171" y="15795"/>
                      </a:lnTo>
                      <a:lnTo>
                        <a:pt x="3163" y="18437"/>
                      </a:lnTo>
                      <a:lnTo>
                        <a:pt x="5690" y="17340"/>
                      </a:lnTo>
                      <a:lnTo>
                        <a:pt x="5400" y="20153"/>
                      </a:lnTo>
                      <a:lnTo>
                        <a:pt x="7557" y="18440"/>
                      </a:lnTo>
                      <a:lnTo>
                        <a:pt x="8005" y="21232"/>
                      </a:lnTo>
                      <a:lnTo>
                        <a:pt x="9645" y="19019"/>
                      </a:lnTo>
                      <a:lnTo>
                        <a:pt x="10800" y="21600"/>
                      </a:lnTo>
                      <a:lnTo>
                        <a:pt x="11812" y="19038"/>
                      </a:lnTo>
                      <a:lnTo>
                        <a:pt x="13595" y="21232"/>
                      </a:lnTo>
                      <a:lnTo>
                        <a:pt x="13909" y="18496"/>
                      </a:lnTo>
                      <a:lnTo>
                        <a:pt x="16200" y="20153"/>
                      </a:lnTo>
                      <a:lnTo>
                        <a:pt x="15795" y="17429"/>
                      </a:lnTo>
                      <a:lnTo>
                        <a:pt x="18437" y="18437"/>
                      </a:lnTo>
                      <a:lnTo>
                        <a:pt x="17340" y="15910"/>
                      </a:lnTo>
                      <a:lnTo>
                        <a:pt x="20153" y="16200"/>
                      </a:lnTo>
                      <a:lnTo>
                        <a:pt x="18440" y="14043"/>
                      </a:lnTo>
                      <a:lnTo>
                        <a:pt x="21232" y="13595"/>
                      </a:lnTo>
                      <a:lnTo>
                        <a:pt x="19019" y="11955"/>
                      </a:lnTo>
                      <a:lnTo>
                        <a:pt x="21600" y="10800"/>
                      </a:lnTo>
                      <a:lnTo>
                        <a:pt x="19038" y="9788"/>
                      </a:lnTo>
                      <a:lnTo>
                        <a:pt x="21232" y="8005"/>
                      </a:lnTo>
                      <a:lnTo>
                        <a:pt x="18496" y="7691"/>
                      </a:lnTo>
                      <a:lnTo>
                        <a:pt x="20153" y="5400"/>
                      </a:lnTo>
                      <a:lnTo>
                        <a:pt x="17429" y="5805"/>
                      </a:lnTo>
                      <a:lnTo>
                        <a:pt x="18437" y="3163"/>
                      </a:lnTo>
                      <a:lnTo>
                        <a:pt x="15910" y="4260"/>
                      </a:lnTo>
                      <a:lnTo>
                        <a:pt x="16200" y="1447"/>
                      </a:lnTo>
                      <a:lnTo>
                        <a:pt x="14043" y="3160"/>
                      </a:lnTo>
                      <a:lnTo>
                        <a:pt x="13595" y="368"/>
                      </a:lnTo>
                      <a:lnTo>
                        <a:pt x="11955" y="2581"/>
                      </a:lnTo>
                      <a:lnTo>
                        <a:pt x="10800" y="0"/>
                      </a:lnTo>
                      <a:lnTo>
                        <a:pt x="9788" y="2562"/>
                      </a:lnTo>
                      <a:lnTo>
                        <a:pt x="8005" y="368"/>
                      </a:lnTo>
                      <a:lnTo>
                        <a:pt x="7691" y="3104"/>
                      </a:lnTo>
                      <a:lnTo>
                        <a:pt x="5400" y="1447"/>
                      </a:lnTo>
                      <a:lnTo>
                        <a:pt x="5805" y="4171"/>
                      </a:lnTo>
                      <a:lnTo>
                        <a:pt x="3163" y="3163"/>
                      </a:lnTo>
                      <a:lnTo>
                        <a:pt x="4260" y="5690"/>
                      </a:lnTo>
                      <a:lnTo>
                        <a:pt x="1447" y="5400"/>
                      </a:lnTo>
                      <a:lnTo>
                        <a:pt x="3160" y="7557"/>
                      </a:lnTo>
                      <a:lnTo>
                        <a:pt x="368" y="8005"/>
                      </a:lnTo>
                      <a:lnTo>
                        <a:pt x="2581" y="9645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3366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715280" y="4137840"/>
                  <a:ext cx="60840" cy="60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0" name=""/>
            <p:cNvSpPr/>
            <p:nvPr/>
          </p:nvSpPr>
          <p:spPr>
            <a:xfrm>
              <a:off x="2552040" y="3962520"/>
              <a:ext cx="19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Servlet 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57600" y="4572000"/>
              <a:ext cx="0" cy="30492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523880" y="2133720"/>
            <a:ext cx="3581640" cy="837720"/>
            <a:chOff x="1523880" y="2133720"/>
            <a:chExt cx="3581640" cy="837720"/>
          </a:xfrm>
        </p:grpSpPr>
        <p:sp>
          <p:nvSpPr>
            <p:cNvPr id="183" name=""/>
            <p:cNvSpPr/>
            <p:nvPr/>
          </p:nvSpPr>
          <p:spPr>
            <a:xfrm>
              <a:off x="2476440" y="2133720"/>
              <a:ext cx="262908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546440" y="2210040"/>
              <a:ext cx="533520" cy="523800"/>
              <a:chOff x="4546440" y="2210040"/>
              <a:chExt cx="533520" cy="52380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4851360" y="2489760"/>
                <a:ext cx="228600" cy="244080"/>
                <a:chOff x="4851360" y="2489760"/>
                <a:chExt cx="228600" cy="244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4851360" y="2489760"/>
                  <a:ext cx="228600" cy="244080"/>
                </a:xfrm>
                <a:custGeom>
                  <a:avLst/>
                  <a:gdLst>
                    <a:gd name="textAreaLeft" fmla="*/ 60840 w 228600"/>
                    <a:gd name="textAreaRight" fmla="*/ 167760 w 228600"/>
                    <a:gd name="textAreaTop" fmla="*/ 64800 h 244080"/>
                    <a:gd name="textAreaBottom" fmla="*/ 179280 h 244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3791" y="12162"/>
                      </a:lnTo>
                      <a:lnTo>
                        <a:pt x="786" y="14846"/>
                      </a:lnTo>
                      <a:lnTo>
                        <a:pt x="4812" y="14689"/>
                      </a:lnTo>
                      <a:lnTo>
                        <a:pt x="3163" y="18437"/>
                      </a:lnTo>
                      <a:lnTo>
                        <a:pt x="6807" y="16719"/>
                      </a:lnTo>
                      <a:lnTo>
                        <a:pt x="6580" y="20741"/>
                      </a:lnTo>
                      <a:lnTo>
                        <a:pt x="9316" y="17784"/>
                      </a:lnTo>
                      <a:lnTo>
                        <a:pt x="10800" y="21600"/>
                      </a:lnTo>
                      <a:lnTo>
                        <a:pt x="12162" y="17809"/>
                      </a:lnTo>
                      <a:lnTo>
                        <a:pt x="14846" y="20814"/>
                      </a:lnTo>
                      <a:lnTo>
                        <a:pt x="14689" y="16788"/>
                      </a:lnTo>
                      <a:lnTo>
                        <a:pt x="18437" y="18437"/>
                      </a:lnTo>
                      <a:lnTo>
                        <a:pt x="16719" y="14793"/>
                      </a:lnTo>
                      <a:lnTo>
                        <a:pt x="20741" y="15020"/>
                      </a:lnTo>
                      <a:lnTo>
                        <a:pt x="17784" y="12284"/>
                      </a:lnTo>
                      <a:lnTo>
                        <a:pt x="21600" y="10800"/>
                      </a:lnTo>
                      <a:lnTo>
                        <a:pt x="17809" y="9438"/>
                      </a:lnTo>
                      <a:lnTo>
                        <a:pt x="20814" y="6754"/>
                      </a:lnTo>
                      <a:lnTo>
                        <a:pt x="16788" y="6911"/>
                      </a:lnTo>
                      <a:lnTo>
                        <a:pt x="18437" y="3163"/>
                      </a:lnTo>
                      <a:lnTo>
                        <a:pt x="14793" y="4881"/>
                      </a:lnTo>
                      <a:lnTo>
                        <a:pt x="15020" y="859"/>
                      </a:lnTo>
                      <a:lnTo>
                        <a:pt x="12284" y="3816"/>
                      </a:lnTo>
                      <a:lnTo>
                        <a:pt x="10800" y="0"/>
                      </a:lnTo>
                      <a:lnTo>
                        <a:pt x="9438" y="3791"/>
                      </a:lnTo>
                      <a:lnTo>
                        <a:pt x="6754" y="786"/>
                      </a:lnTo>
                      <a:lnTo>
                        <a:pt x="6911" y="4812"/>
                      </a:lnTo>
                      <a:lnTo>
                        <a:pt x="3163" y="3163"/>
                      </a:lnTo>
                      <a:lnTo>
                        <a:pt x="4881" y="6807"/>
                      </a:lnTo>
                      <a:lnTo>
                        <a:pt x="859" y="6580"/>
                      </a:lnTo>
                      <a:lnTo>
                        <a:pt x="3816" y="931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3366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942800" y="2588760"/>
                  <a:ext cx="45720" cy="45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4546440" y="2210040"/>
                <a:ext cx="398880" cy="411840"/>
                <a:chOff x="4546440" y="2210040"/>
                <a:chExt cx="398880" cy="41184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4546440" y="2210040"/>
                  <a:ext cx="398880" cy="411840"/>
                </a:xfrm>
                <a:custGeom>
                  <a:avLst/>
                  <a:gdLst>
                    <a:gd name="textAreaLeft" fmla="*/ 91080 w 398880"/>
                    <a:gd name="textAreaRight" fmla="*/ 307800 w 398880"/>
                    <a:gd name="textAreaTop" fmla="*/ 93960 h 411840"/>
                    <a:gd name="textAreaBottom" fmla="*/ 317880 h 411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562" y="11812"/>
                      </a:lnTo>
                      <a:lnTo>
                        <a:pt x="368" y="13595"/>
                      </a:lnTo>
                      <a:lnTo>
                        <a:pt x="3104" y="13909"/>
                      </a:lnTo>
                      <a:lnTo>
                        <a:pt x="1447" y="16200"/>
                      </a:lnTo>
                      <a:lnTo>
                        <a:pt x="4171" y="15795"/>
                      </a:lnTo>
                      <a:lnTo>
                        <a:pt x="3163" y="18437"/>
                      </a:lnTo>
                      <a:lnTo>
                        <a:pt x="5690" y="17340"/>
                      </a:lnTo>
                      <a:lnTo>
                        <a:pt x="5400" y="20153"/>
                      </a:lnTo>
                      <a:lnTo>
                        <a:pt x="7557" y="18440"/>
                      </a:lnTo>
                      <a:lnTo>
                        <a:pt x="8005" y="21232"/>
                      </a:lnTo>
                      <a:lnTo>
                        <a:pt x="9645" y="19019"/>
                      </a:lnTo>
                      <a:lnTo>
                        <a:pt x="10800" y="21600"/>
                      </a:lnTo>
                      <a:lnTo>
                        <a:pt x="11812" y="19038"/>
                      </a:lnTo>
                      <a:lnTo>
                        <a:pt x="13595" y="21232"/>
                      </a:lnTo>
                      <a:lnTo>
                        <a:pt x="13909" y="18496"/>
                      </a:lnTo>
                      <a:lnTo>
                        <a:pt x="16200" y="20153"/>
                      </a:lnTo>
                      <a:lnTo>
                        <a:pt x="15795" y="17429"/>
                      </a:lnTo>
                      <a:lnTo>
                        <a:pt x="18437" y="18437"/>
                      </a:lnTo>
                      <a:lnTo>
                        <a:pt x="17340" y="15910"/>
                      </a:lnTo>
                      <a:lnTo>
                        <a:pt x="20153" y="16200"/>
                      </a:lnTo>
                      <a:lnTo>
                        <a:pt x="18440" y="14043"/>
                      </a:lnTo>
                      <a:lnTo>
                        <a:pt x="21232" y="13595"/>
                      </a:lnTo>
                      <a:lnTo>
                        <a:pt x="19019" y="11955"/>
                      </a:lnTo>
                      <a:lnTo>
                        <a:pt x="21600" y="10800"/>
                      </a:lnTo>
                      <a:lnTo>
                        <a:pt x="19038" y="9788"/>
                      </a:lnTo>
                      <a:lnTo>
                        <a:pt x="21232" y="8005"/>
                      </a:lnTo>
                      <a:lnTo>
                        <a:pt x="18496" y="7691"/>
                      </a:lnTo>
                      <a:lnTo>
                        <a:pt x="20153" y="5400"/>
                      </a:lnTo>
                      <a:lnTo>
                        <a:pt x="17429" y="5805"/>
                      </a:lnTo>
                      <a:lnTo>
                        <a:pt x="18437" y="3163"/>
                      </a:lnTo>
                      <a:lnTo>
                        <a:pt x="15910" y="4260"/>
                      </a:lnTo>
                      <a:lnTo>
                        <a:pt x="16200" y="1447"/>
                      </a:lnTo>
                      <a:lnTo>
                        <a:pt x="14043" y="3160"/>
                      </a:lnTo>
                      <a:lnTo>
                        <a:pt x="13595" y="368"/>
                      </a:lnTo>
                      <a:lnTo>
                        <a:pt x="11955" y="2581"/>
                      </a:lnTo>
                      <a:lnTo>
                        <a:pt x="10800" y="0"/>
                      </a:lnTo>
                      <a:lnTo>
                        <a:pt x="9788" y="2562"/>
                      </a:lnTo>
                      <a:lnTo>
                        <a:pt x="8005" y="368"/>
                      </a:lnTo>
                      <a:lnTo>
                        <a:pt x="7691" y="3104"/>
                      </a:lnTo>
                      <a:lnTo>
                        <a:pt x="5400" y="1447"/>
                      </a:lnTo>
                      <a:lnTo>
                        <a:pt x="5805" y="4171"/>
                      </a:lnTo>
                      <a:lnTo>
                        <a:pt x="3163" y="3163"/>
                      </a:lnTo>
                      <a:lnTo>
                        <a:pt x="4260" y="5690"/>
                      </a:lnTo>
                      <a:lnTo>
                        <a:pt x="1447" y="5400"/>
                      </a:lnTo>
                      <a:lnTo>
                        <a:pt x="3160" y="7557"/>
                      </a:lnTo>
                      <a:lnTo>
                        <a:pt x="368" y="8005"/>
                      </a:lnTo>
                      <a:lnTo>
                        <a:pt x="2581" y="9645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3366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715280" y="2385360"/>
                  <a:ext cx="60840" cy="60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1" name=""/>
            <p:cNvSpPr/>
            <p:nvPr/>
          </p:nvSpPr>
          <p:spPr>
            <a:xfrm>
              <a:off x="2414520" y="2210040"/>
              <a:ext cx="17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CG Mana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1523880" y="2819160"/>
              <a:ext cx="990720" cy="15228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426760" y="2819520"/>
            <a:ext cx="2678760" cy="1066680"/>
            <a:chOff x="2426760" y="2819520"/>
            <a:chExt cx="2678760" cy="1066680"/>
          </a:xfrm>
        </p:grpSpPr>
        <p:sp>
          <p:nvSpPr>
            <p:cNvPr id="194" name=""/>
            <p:cNvSpPr/>
            <p:nvPr/>
          </p:nvSpPr>
          <p:spPr>
            <a:xfrm>
              <a:off x="2489040" y="2971800"/>
              <a:ext cx="261648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546440" y="3048120"/>
              <a:ext cx="533520" cy="523800"/>
              <a:chOff x="4546440" y="3048120"/>
              <a:chExt cx="533520" cy="523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4851360" y="3327840"/>
                <a:ext cx="228600" cy="244080"/>
                <a:chOff x="4851360" y="3327840"/>
                <a:chExt cx="228600" cy="2440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4851360" y="3327840"/>
                  <a:ext cx="228600" cy="244080"/>
                </a:xfrm>
                <a:custGeom>
                  <a:avLst/>
                  <a:gdLst>
                    <a:gd name="textAreaLeft" fmla="*/ 60840 w 228600"/>
                    <a:gd name="textAreaRight" fmla="*/ 167760 w 228600"/>
                    <a:gd name="textAreaTop" fmla="*/ 64800 h 244080"/>
                    <a:gd name="textAreaBottom" fmla="*/ 179280 h 244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3791" y="12162"/>
                      </a:lnTo>
                      <a:lnTo>
                        <a:pt x="786" y="14846"/>
                      </a:lnTo>
                      <a:lnTo>
                        <a:pt x="4812" y="14689"/>
                      </a:lnTo>
                      <a:lnTo>
                        <a:pt x="3163" y="18437"/>
                      </a:lnTo>
                      <a:lnTo>
                        <a:pt x="6807" y="16719"/>
                      </a:lnTo>
                      <a:lnTo>
                        <a:pt x="6580" y="20741"/>
                      </a:lnTo>
                      <a:lnTo>
                        <a:pt x="9316" y="17784"/>
                      </a:lnTo>
                      <a:lnTo>
                        <a:pt x="10800" y="21600"/>
                      </a:lnTo>
                      <a:lnTo>
                        <a:pt x="12162" y="17809"/>
                      </a:lnTo>
                      <a:lnTo>
                        <a:pt x="14846" y="20814"/>
                      </a:lnTo>
                      <a:lnTo>
                        <a:pt x="14689" y="16788"/>
                      </a:lnTo>
                      <a:lnTo>
                        <a:pt x="18437" y="18437"/>
                      </a:lnTo>
                      <a:lnTo>
                        <a:pt x="16719" y="14793"/>
                      </a:lnTo>
                      <a:lnTo>
                        <a:pt x="20741" y="15020"/>
                      </a:lnTo>
                      <a:lnTo>
                        <a:pt x="17784" y="12284"/>
                      </a:lnTo>
                      <a:lnTo>
                        <a:pt x="21600" y="10800"/>
                      </a:lnTo>
                      <a:lnTo>
                        <a:pt x="17809" y="9438"/>
                      </a:lnTo>
                      <a:lnTo>
                        <a:pt x="20814" y="6754"/>
                      </a:lnTo>
                      <a:lnTo>
                        <a:pt x="16788" y="6911"/>
                      </a:lnTo>
                      <a:lnTo>
                        <a:pt x="18437" y="3163"/>
                      </a:lnTo>
                      <a:lnTo>
                        <a:pt x="14793" y="4881"/>
                      </a:lnTo>
                      <a:lnTo>
                        <a:pt x="15020" y="859"/>
                      </a:lnTo>
                      <a:lnTo>
                        <a:pt x="12284" y="3816"/>
                      </a:lnTo>
                      <a:lnTo>
                        <a:pt x="10800" y="0"/>
                      </a:lnTo>
                      <a:lnTo>
                        <a:pt x="9438" y="3791"/>
                      </a:lnTo>
                      <a:lnTo>
                        <a:pt x="6754" y="786"/>
                      </a:lnTo>
                      <a:lnTo>
                        <a:pt x="6911" y="4812"/>
                      </a:lnTo>
                      <a:lnTo>
                        <a:pt x="3163" y="3163"/>
                      </a:lnTo>
                      <a:lnTo>
                        <a:pt x="4881" y="6807"/>
                      </a:lnTo>
                      <a:lnTo>
                        <a:pt x="859" y="6580"/>
                      </a:lnTo>
                      <a:lnTo>
                        <a:pt x="3816" y="931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3366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942800" y="3426840"/>
                  <a:ext cx="45720" cy="45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4546440" y="3048120"/>
                <a:ext cx="398880" cy="411840"/>
                <a:chOff x="4546440" y="3048120"/>
                <a:chExt cx="398880" cy="4118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4546440" y="3048120"/>
                  <a:ext cx="398880" cy="411840"/>
                </a:xfrm>
                <a:custGeom>
                  <a:avLst/>
                  <a:gdLst>
                    <a:gd name="textAreaLeft" fmla="*/ 91080 w 398880"/>
                    <a:gd name="textAreaRight" fmla="*/ 307800 w 398880"/>
                    <a:gd name="textAreaTop" fmla="*/ 93960 h 411840"/>
                    <a:gd name="textAreaBottom" fmla="*/ 317880 h 411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562" y="11812"/>
                      </a:lnTo>
                      <a:lnTo>
                        <a:pt x="368" y="13595"/>
                      </a:lnTo>
                      <a:lnTo>
                        <a:pt x="3104" y="13909"/>
                      </a:lnTo>
                      <a:lnTo>
                        <a:pt x="1447" y="16200"/>
                      </a:lnTo>
                      <a:lnTo>
                        <a:pt x="4171" y="15795"/>
                      </a:lnTo>
                      <a:lnTo>
                        <a:pt x="3163" y="18437"/>
                      </a:lnTo>
                      <a:lnTo>
                        <a:pt x="5690" y="17340"/>
                      </a:lnTo>
                      <a:lnTo>
                        <a:pt x="5400" y="20153"/>
                      </a:lnTo>
                      <a:lnTo>
                        <a:pt x="7557" y="18440"/>
                      </a:lnTo>
                      <a:lnTo>
                        <a:pt x="8005" y="21232"/>
                      </a:lnTo>
                      <a:lnTo>
                        <a:pt x="9645" y="19019"/>
                      </a:lnTo>
                      <a:lnTo>
                        <a:pt x="10800" y="21600"/>
                      </a:lnTo>
                      <a:lnTo>
                        <a:pt x="11812" y="19038"/>
                      </a:lnTo>
                      <a:lnTo>
                        <a:pt x="13595" y="21232"/>
                      </a:lnTo>
                      <a:lnTo>
                        <a:pt x="13909" y="18496"/>
                      </a:lnTo>
                      <a:lnTo>
                        <a:pt x="16200" y="20153"/>
                      </a:lnTo>
                      <a:lnTo>
                        <a:pt x="15795" y="17429"/>
                      </a:lnTo>
                      <a:lnTo>
                        <a:pt x="18437" y="18437"/>
                      </a:lnTo>
                      <a:lnTo>
                        <a:pt x="17340" y="15910"/>
                      </a:lnTo>
                      <a:lnTo>
                        <a:pt x="20153" y="16200"/>
                      </a:lnTo>
                      <a:lnTo>
                        <a:pt x="18440" y="14043"/>
                      </a:lnTo>
                      <a:lnTo>
                        <a:pt x="21232" y="13595"/>
                      </a:lnTo>
                      <a:lnTo>
                        <a:pt x="19019" y="11955"/>
                      </a:lnTo>
                      <a:lnTo>
                        <a:pt x="21600" y="10800"/>
                      </a:lnTo>
                      <a:lnTo>
                        <a:pt x="19038" y="9788"/>
                      </a:lnTo>
                      <a:lnTo>
                        <a:pt x="21232" y="8005"/>
                      </a:lnTo>
                      <a:lnTo>
                        <a:pt x="18496" y="7691"/>
                      </a:lnTo>
                      <a:lnTo>
                        <a:pt x="20153" y="5400"/>
                      </a:lnTo>
                      <a:lnTo>
                        <a:pt x="17429" y="5805"/>
                      </a:lnTo>
                      <a:lnTo>
                        <a:pt x="18437" y="3163"/>
                      </a:lnTo>
                      <a:lnTo>
                        <a:pt x="15910" y="4260"/>
                      </a:lnTo>
                      <a:lnTo>
                        <a:pt x="16200" y="1447"/>
                      </a:lnTo>
                      <a:lnTo>
                        <a:pt x="14043" y="3160"/>
                      </a:lnTo>
                      <a:lnTo>
                        <a:pt x="13595" y="368"/>
                      </a:lnTo>
                      <a:lnTo>
                        <a:pt x="11955" y="2581"/>
                      </a:lnTo>
                      <a:lnTo>
                        <a:pt x="10800" y="0"/>
                      </a:lnTo>
                      <a:lnTo>
                        <a:pt x="9788" y="2562"/>
                      </a:lnTo>
                      <a:lnTo>
                        <a:pt x="8005" y="368"/>
                      </a:lnTo>
                      <a:lnTo>
                        <a:pt x="7691" y="3104"/>
                      </a:lnTo>
                      <a:lnTo>
                        <a:pt x="5400" y="1447"/>
                      </a:lnTo>
                      <a:lnTo>
                        <a:pt x="5805" y="4171"/>
                      </a:lnTo>
                      <a:lnTo>
                        <a:pt x="3163" y="3163"/>
                      </a:lnTo>
                      <a:lnTo>
                        <a:pt x="4260" y="5690"/>
                      </a:lnTo>
                      <a:lnTo>
                        <a:pt x="1447" y="5400"/>
                      </a:lnTo>
                      <a:lnTo>
                        <a:pt x="3160" y="7557"/>
                      </a:lnTo>
                      <a:lnTo>
                        <a:pt x="368" y="8005"/>
                      </a:lnTo>
                      <a:lnTo>
                        <a:pt x="2581" y="9645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3366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715280" y="3223440"/>
                  <a:ext cx="60840" cy="60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2" name=""/>
            <p:cNvSpPr/>
            <p:nvPr/>
          </p:nvSpPr>
          <p:spPr>
            <a:xfrm>
              <a:off x="2426760" y="304812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Query Process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57600" y="3657600"/>
              <a:ext cx="0" cy="2286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7600" y="2819520"/>
              <a:ext cx="0" cy="15228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185560" y="1295280"/>
            <a:ext cx="3196080" cy="838080"/>
            <a:chOff x="2185560" y="1295280"/>
            <a:chExt cx="3196080" cy="838080"/>
          </a:xfrm>
        </p:grpSpPr>
        <p:sp>
          <p:nvSpPr>
            <p:cNvPr id="206" name=""/>
            <p:cNvSpPr/>
            <p:nvPr/>
          </p:nvSpPr>
          <p:spPr>
            <a:xfrm>
              <a:off x="2257560" y="1295280"/>
              <a:ext cx="3124080" cy="6858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24440" y="1371240"/>
              <a:ext cx="304920" cy="457200"/>
            </a:xfrm>
            <a:prstGeom prst="can">
              <a:avLst>
                <a:gd name="adj" fmla="val 25000"/>
              </a:avLst>
            </a:prstGeom>
            <a:solidFill>
              <a:srgbClr val="cc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85560" y="1371240"/>
              <a:ext cx="274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CGs Base &amp; 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57600" y="1981080"/>
              <a:ext cx="0" cy="15228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05520" y="3886200"/>
            <a:ext cx="2587680" cy="685800"/>
            <a:chOff x="5105520" y="3886200"/>
            <a:chExt cx="2587680" cy="685800"/>
          </a:xfrm>
        </p:grpSpPr>
        <p:sp>
          <p:nvSpPr>
            <p:cNvPr id="211" name=""/>
            <p:cNvSpPr/>
            <p:nvPr/>
          </p:nvSpPr>
          <p:spPr>
            <a:xfrm>
              <a:off x="5254560" y="3886200"/>
              <a:ext cx="243864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7134120" y="3962520"/>
              <a:ext cx="533520" cy="523800"/>
              <a:chOff x="7134120" y="3962520"/>
              <a:chExt cx="533520" cy="52380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7439040" y="4242240"/>
                <a:ext cx="228600" cy="244080"/>
                <a:chOff x="7439040" y="4242240"/>
                <a:chExt cx="228600" cy="2440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7439040" y="4242240"/>
                  <a:ext cx="228600" cy="244080"/>
                </a:xfrm>
                <a:custGeom>
                  <a:avLst/>
                  <a:gdLst>
                    <a:gd name="textAreaLeft" fmla="*/ 60840 w 228600"/>
                    <a:gd name="textAreaRight" fmla="*/ 167760 w 228600"/>
                    <a:gd name="textAreaTop" fmla="*/ 64800 h 244080"/>
                    <a:gd name="textAreaBottom" fmla="*/ 179280 h 244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3791" y="12162"/>
                      </a:lnTo>
                      <a:lnTo>
                        <a:pt x="786" y="14846"/>
                      </a:lnTo>
                      <a:lnTo>
                        <a:pt x="4812" y="14689"/>
                      </a:lnTo>
                      <a:lnTo>
                        <a:pt x="3163" y="18437"/>
                      </a:lnTo>
                      <a:lnTo>
                        <a:pt x="6807" y="16719"/>
                      </a:lnTo>
                      <a:lnTo>
                        <a:pt x="6580" y="20741"/>
                      </a:lnTo>
                      <a:lnTo>
                        <a:pt x="9316" y="17784"/>
                      </a:lnTo>
                      <a:lnTo>
                        <a:pt x="10800" y="21600"/>
                      </a:lnTo>
                      <a:lnTo>
                        <a:pt x="12162" y="17809"/>
                      </a:lnTo>
                      <a:lnTo>
                        <a:pt x="14846" y="20814"/>
                      </a:lnTo>
                      <a:lnTo>
                        <a:pt x="14689" y="16788"/>
                      </a:lnTo>
                      <a:lnTo>
                        <a:pt x="18437" y="18437"/>
                      </a:lnTo>
                      <a:lnTo>
                        <a:pt x="16719" y="14793"/>
                      </a:lnTo>
                      <a:lnTo>
                        <a:pt x="20741" y="15020"/>
                      </a:lnTo>
                      <a:lnTo>
                        <a:pt x="17784" y="12284"/>
                      </a:lnTo>
                      <a:lnTo>
                        <a:pt x="21600" y="10800"/>
                      </a:lnTo>
                      <a:lnTo>
                        <a:pt x="17809" y="9438"/>
                      </a:lnTo>
                      <a:lnTo>
                        <a:pt x="20814" y="6754"/>
                      </a:lnTo>
                      <a:lnTo>
                        <a:pt x="16788" y="6911"/>
                      </a:lnTo>
                      <a:lnTo>
                        <a:pt x="18437" y="3163"/>
                      </a:lnTo>
                      <a:lnTo>
                        <a:pt x="14793" y="4881"/>
                      </a:lnTo>
                      <a:lnTo>
                        <a:pt x="15020" y="859"/>
                      </a:lnTo>
                      <a:lnTo>
                        <a:pt x="12284" y="3816"/>
                      </a:lnTo>
                      <a:lnTo>
                        <a:pt x="10800" y="0"/>
                      </a:lnTo>
                      <a:lnTo>
                        <a:pt x="9438" y="3791"/>
                      </a:lnTo>
                      <a:lnTo>
                        <a:pt x="6754" y="786"/>
                      </a:lnTo>
                      <a:lnTo>
                        <a:pt x="6911" y="4812"/>
                      </a:lnTo>
                      <a:lnTo>
                        <a:pt x="3163" y="3163"/>
                      </a:lnTo>
                      <a:lnTo>
                        <a:pt x="4881" y="6807"/>
                      </a:lnTo>
                      <a:lnTo>
                        <a:pt x="859" y="6580"/>
                      </a:lnTo>
                      <a:lnTo>
                        <a:pt x="3816" y="931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3366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530480" y="4341240"/>
                  <a:ext cx="45720" cy="45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7134120" y="3962520"/>
                <a:ext cx="398880" cy="411840"/>
                <a:chOff x="7134120" y="3962520"/>
                <a:chExt cx="398880" cy="4118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7134120" y="3962520"/>
                  <a:ext cx="398880" cy="411840"/>
                </a:xfrm>
                <a:custGeom>
                  <a:avLst/>
                  <a:gdLst>
                    <a:gd name="textAreaLeft" fmla="*/ 91080 w 398880"/>
                    <a:gd name="textAreaRight" fmla="*/ 307800 w 398880"/>
                    <a:gd name="textAreaTop" fmla="*/ 93960 h 411840"/>
                    <a:gd name="textAreaBottom" fmla="*/ 317880 h 411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562" y="11812"/>
                      </a:lnTo>
                      <a:lnTo>
                        <a:pt x="368" y="13595"/>
                      </a:lnTo>
                      <a:lnTo>
                        <a:pt x="3104" y="13909"/>
                      </a:lnTo>
                      <a:lnTo>
                        <a:pt x="1447" y="16200"/>
                      </a:lnTo>
                      <a:lnTo>
                        <a:pt x="4171" y="15795"/>
                      </a:lnTo>
                      <a:lnTo>
                        <a:pt x="3163" y="18437"/>
                      </a:lnTo>
                      <a:lnTo>
                        <a:pt x="5690" y="17340"/>
                      </a:lnTo>
                      <a:lnTo>
                        <a:pt x="5400" y="20153"/>
                      </a:lnTo>
                      <a:lnTo>
                        <a:pt x="7557" y="18440"/>
                      </a:lnTo>
                      <a:lnTo>
                        <a:pt x="8005" y="21232"/>
                      </a:lnTo>
                      <a:lnTo>
                        <a:pt x="9645" y="19019"/>
                      </a:lnTo>
                      <a:lnTo>
                        <a:pt x="10800" y="21600"/>
                      </a:lnTo>
                      <a:lnTo>
                        <a:pt x="11812" y="19038"/>
                      </a:lnTo>
                      <a:lnTo>
                        <a:pt x="13595" y="21232"/>
                      </a:lnTo>
                      <a:lnTo>
                        <a:pt x="13909" y="18496"/>
                      </a:lnTo>
                      <a:lnTo>
                        <a:pt x="16200" y="20153"/>
                      </a:lnTo>
                      <a:lnTo>
                        <a:pt x="15795" y="17429"/>
                      </a:lnTo>
                      <a:lnTo>
                        <a:pt x="18437" y="18437"/>
                      </a:lnTo>
                      <a:lnTo>
                        <a:pt x="17340" y="15910"/>
                      </a:lnTo>
                      <a:lnTo>
                        <a:pt x="20153" y="16200"/>
                      </a:lnTo>
                      <a:lnTo>
                        <a:pt x="18440" y="14043"/>
                      </a:lnTo>
                      <a:lnTo>
                        <a:pt x="21232" y="13595"/>
                      </a:lnTo>
                      <a:lnTo>
                        <a:pt x="19019" y="11955"/>
                      </a:lnTo>
                      <a:lnTo>
                        <a:pt x="21600" y="10800"/>
                      </a:lnTo>
                      <a:lnTo>
                        <a:pt x="19038" y="9788"/>
                      </a:lnTo>
                      <a:lnTo>
                        <a:pt x="21232" y="8005"/>
                      </a:lnTo>
                      <a:lnTo>
                        <a:pt x="18496" y="7691"/>
                      </a:lnTo>
                      <a:lnTo>
                        <a:pt x="20153" y="5400"/>
                      </a:lnTo>
                      <a:lnTo>
                        <a:pt x="17429" y="5805"/>
                      </a:lnTo>
                      <a:lnTo>
                        <a:pt x="18437" y="3163"/>
                      </a:lnTo>
                      <a:lnTo>
                        <a:pt x="15910" y="4260"/>
                      </a:lnTo>
                      <a:lnTo>
                        <a:pt x="16200" y="1447"/>
                      </a:lnTo>
                      <a:lnTo>
                        <a:pt x="14043" y="3160"/>
                      </a:lnTo>
                      <a:lnTo>
                        <a:pt x="13595" y="368"/>
                      </a:lnTo>
                      <a:lnTo>
                        <a:pt x="11955" y="2581"/>
                      </a:lnTo>
                      <a:lnTo>
                        <a:pt x="10800" y="0"/>
                      </a:lnTo>
                      <a:lnTo>
                        <a:pt x="9788" y="2562"/>
                      </a:lnTo>
                      <a:lnTo>
                        <a:pt x="8005" y="368"/>
                      </a:lnTo>
                      <a:lnTo>
                        <a:pt x="7691" y="3104"/>
                      </a:lnTo>
                      <a:lnTo>
                        <a:pt x="5400" y="1447"/>
                      </a:lnTo>
                      <a:lnTo>
                        <a:pt x="5805" y="4171"/>
                      </a:lnTo>
                      <a:lnTo>
                        <a:pt x="3163" y="3163"/>
                      </a:lnTo>
                      <a:lnTo>
                        <a:pt x="4260" y="5690"/>
                      </a:lnTo>
                      <a:lnTo>
                        <a:pt x="1447" y="5400"/>
                      </a:lnTo>
                      <a:lnTo>
                        <a:pt x="3160" y="7557"/>
                      </a:lnTo>
                      <a:lnTo>
                        <a:pt x="368" y="8005"/>
                      </a:lnTo>
                      <a:lnTo>
                        <a:pt x="2581" y="9645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3366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302960" y="4137840"/>
                  <a:ext cx="60840" cy="60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" name=""/>
            <p:cNvSpPr/>
            <p:nvPr/>
          </p:nvSpPr>
          <p:spPr>
            <a:xfrm>
              <a:off x="5256000" y="3962520"/>
              <a:ext cx="188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XSLT Eng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05520" y="4267440"/>
              <a:ext cx="1522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105520" y="2971800"/>
            <a:ext cx="2590560" cy="685800"/>
            <a:chOff x="5105520" y="2971800"/>
            <a:chExt cx="2590560" cy="685800"/>
          </a:xfrm>
        </p:grpSpPr>
        <p:sp>
          <p:nvSpPr>
            <p:cNvPr id="222" name=""/>
            <p:cNvSpPr/>
            <p:nvPr/>
          </p:nvSpPr>
          <p:spPr>
            <a:xfrm>
              <a:off x="5257800" y="2971800"/>
              <a:ext cx="243828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7137360" y="3048120"/>
              <a:ext cx="533520" cy="523800"/>
              <a:chOff x="7137360" y="3048120"/>
              <a:chExt cx="533520" cy="523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7442280" y="3327840"/>
                <a:ext cx="228600" cy="244080"/>
                <a:chOff x="7442280" y="3327840"/>
                <a:chExt cx="228600" cy="2440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7442280" y="3327840"/>
                  <a:ext cx="228600" cy="244080"/>
                </a:xfrm>
                <a:custGeom>
                  <a:avLst/>
                  <a:gdLst>
                    <a:gd name="textAreaLeft" fmla="*/ 60840 w 228600"/>
                    <a:gd name="textAreaRight" fmla="*/ 167760 w 228600"/>
                    <a:gd name="textAreaTop" fmla="*/ 64800 h 244080"/>
                    <a:gd name="textAreaBottom" fmla="*/ 179280 h 244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3791" y="12162"/>
                      </a:lnTo>
                      <a:lnTo>
                        <a:pt x="786" y="14846"/>
                      </a:lnTo>
                      <a:lnTo>
                        <a:pt x="4812" y="14689"/>
                      </a:lnTo>
                      <a:lnTo>
                        <a:pt x="3163" y="18437"/>
                      </a:lnTo>
                      <a:lnTo>
                        <a:pt x="6807" y="16719"/>
                      </a:lnTo>
                      <a:lnTo>
                        <a:pt x="6580" y="20741"/>
                      </a:lnTo>
                      <a:lnTo>
                        <a:pt x="9316" y="17784"/>
                      </a:lnTo>
                      <a:lnTo>
                        <a:pt x="10800" y="21600"/>
                      </a:lnTo>
                      <a:lnTo>
                        <a:pt x="12162" y="17809"/>
                      </a:lnTo>
                      <a:lnTo>
                        <a:pt x="14846" y="20814"/>
                      </a:lnTo>
                      <a:lnTo>
                        <a:pt x="14689" y="16788"/>
                      </a:lnTo>
                      <a:lnTo>
                        <a:pt x="18437" y="18437"/>
                      </a:lnTo>
                      <a:lnTo>
                        <a:pt x="16719" y="14793"/>
                      </a:lnTo>
                      <a:lnTo>
                        <a:pt x="20741" y="15020"/>
                      </a:lnTo>
                      <a:lnTo>
                        <a:pt x="17784" y="12284"/>
                      </a:lnTo>
                      <a:lnTo>
                        <a:pt x="21600" y="10800"/>
                      </a:lnTo>
                      <a:lnTo>
                        <a:pt x="17809" y="9438"/>
                      </a:lnTo>
                      <a:lnTo>
                        <a:pt x="20814" y="6754"/>
                      </a:lnTo>
                      <a:lnTo>
                        <a:pt x="16788" y="6911"/>
                      </a:lnTo>
                      <a:lnTo>
                        <a:pt x="18437" y="3163"/>
                      </a:lnTo>
                      <a:lnTo>
                        <a:pt x="14793" y="4881"/>
                      </a:lnTo>
                      <a:lnTo>
                        <a:pt x="15020" y="859"/>
                      </a:lnTo>
                      <a:lnTo>
                        <a:pt x="12284" y="3816"/>
                      </a:lnTo>
                      <a:lnTo>
                        <a:pt x="10800" y="0"/>
                      </a:lnTo>
                      <a:lnTo>
                        <a:pt x="9438" y="3791"/>
                      </a:lnTo>
                      <a:lnTo>
                        <a:pt x="6754" y="786"/>
                      </a:lnTo>
                      <a:lnTo>
                        <a:pt x="6911" y="4812"/>
                      </a:lnTo>
                      <a:lnTo>
                        <a:pt x="3163" y="3163"/>
                      </a:lnTo>
                      <a:lnTo>
                        <a:pt x="4881" y="6807"/>
                      </a:lnTo>
                      <a:lnTo>
                        <a:pt x="859" y="6580"/>
                      </a:lnTo>
                      <a:lnTo>
                        <a:pt x="3816" y="931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3366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533720" y="3426840"/>
                  <a:ext cx="45720" cy="45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7137360" y="3048120"/>
                <a:ext cx="398880" cy="411840"/>
                <a:chOff x="7137360" y="3048120"/>
                <a:chExt cx="398880" cy="41184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7137360" y="3048120"/>
                  <a:ext cx="398880" cy="411840"/>
                </a:xfrm>
                <a:custGeom>
                  <a:avLst/>
                  <a:gdLst>
                    <a:gd name="textAreaLeft" fmla="*/ 91080 w 398880"/>
                    <a:gd name="textAreaRight" fmla="*/ 307800 w 398880"/>
                    <a:gd name="textAreaTop" fmla="*/ 93960 h 411840"/>
                    <a:gd name="textAreaBottom" fmla="*/ 317880 h 411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562" y="11812"/>
                      </a:lnTo>
                      <a:lnTo>
                        <a:pt x="368" y="13595"/>
                      </a:lnTo>
                      <a:lnTo>
                        <a:pt x="3104" y="13909"/>
                      </a:lnTo>
                      <a:lnTo>
                        <a:pt x="1447" y="16200"/>
                      </a:lnTo>
                      <a:lnTo>
                        <a:pt x="4171" y="15795"/>
                      </a:lnTo>
                      <a:lnTo>
                        <a:pt x="3163" y="18437"/>
                      </a:lnTo>
                      <a:lnTo>
                        <a:pt x="5690" y="17340"/>
                      </a:lnTo>
                      <a:lnTo>
                        <a:pt x="5400" y="20153"/>
                      </a:lnTo>
                      <a:lnTo>
                        <a:pt x="7557" y="18440"/>
                      </a:lnTo>
                      <a:lnTo>
                        <a:pt x="8005" y="21232"/>
                      </a:lnTo>
                      <a:lnTo>
                        <a:pt x="9645" y="19019"/>
                      </a:lnTo>
                      <a:lnTo>
                        <a:pt x="10800" y="21600"/>
                      </a:lnTo>
                      <a:lnTo>
                        <a:pt x="11812" y="19038"/>
                      </a:lnTo>
                      <a:lnTo>
                        <a:pt x="13595" y="21232"/>
                      </a:lnTo>
                      <a:lnTo>
                        <a:pt x="13909" y="18496"/>
                      </a:lnTo>
                      <a:lnTo>
                        <a:pt x="16200" y="20153"/>
                      </a:lnTo>
                      <a:lnTo>
                        <a:pt x="15795" y="17429"/>
                      </a:lnTo>
                      <a:lnTo>
                        <a:pt x="18437" y="18437"/>
                      </a:lnTo>
                      <a:lnTo>
                        <a:pt x="17340" y="15910"/>
                      </a:lnTo>
                      <a:lnTo>
                        <a:pt x="20153" y="16200"/>
                      </a:lnTo>
                      <a:lnTo>
                        <a:pt x="18440" y="14043"/>
                      </a:lnTo>
                      <a:lnTo>
                        <a:pt x="21232" y="13595"/>
                      </a:lnTo>
                      <a:lnTo>
                        <a:pt x="19019" y="11955"/>
                      </a:lnTo>
                      <a:lnTo>
                        <a:pt x="21600" y="10800"/>
                      </a:lnTo>
                      <a:lnTo>
                        <a:pt x="19038" y="9788"/>
                      </a:lnTo>
                      <a:lnTo>
                        <a:pt x="21232" y="8005"/>
                      </a:lnTo>
                      <a:lnTo>
                        <a:pt x="18496" y="7691"/>
                      </a:lnTo>
                      <a:lnTo>
                        <a:pt x="20153" y="5400"/>
                      </a:lnTo>
                      <a:lnTo>
                        <a:pt x="17429" y="5805"/>
                      </a:lnTo>
                      <a:lnTo>
                        <a:pt x="18437" y="3163"/>
                      </a:lnTo>
                      <a:lnTo>
                        <a:pt x="15910" y="4260"/>
                      </a:lnTo>
                      <a:lnTo>
                        <a:pt x="16200" y="1447"/>
                      </a:lnTo>
                      <a:lnTo>
                        <a:pt x="14043" y="3160"/>
                      </a:lnTo>
                      <a:lnTo>
                        <a:pt x="13595" y="368"/>
                      </a:lnTo>
                      <a:lnTo>
                        <a:pt x="11955" y="2581"/>
                      </a:lnTo>
                      <a:lnTo>
                        <a:pt x="10800" y="0"/>
                      </a:lnTo>
                      <a:lnTo>
                        <a:pt x="9788" y="2562"/>
                      </a:lnTo>
                      <a:lnTo>
                        <a:pt x="8005" y="368"/>
                      </a:lnTo>
                      <a:lnTo>
                        <a:pt x="7691" y="3104"/>
                      </a:lnTo>
                      <a:lnTo>
                        <a:pt x="5400" y="1447"/>
                      </a:lnTo>
                      <a:lnTo>
                        <a:pt x="5805" y="4171"/>
                      </a:lnTo>
                      <a:lnTo>
                        <a:pt x="3163" y="3163"/>
                      </a:lnTo>
                      <a:lnTo>
                        <a:pt x="4260" y="5690"/>
                      </a:lnTo>
                      <a:lnTo>
                        <a:pt x="1447" y="5400"/>
                      </a:lnTo>
                      <a:lnTo>
                        <a:pt x="3160" y="7557"/>
                      </a:lnTo>
                      <a:lnTo>
                        <a:pt x="368" y="8005"/>
                      </a:lnTo>
                      <a:lnTo>
                        <a:pt x="2581" y="9645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3366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306200" y="3223440"/>
                  <a:ext cx="60840" cy="60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0" name=""/>
            <p:cNvSpPr/>
            <p:nvPr/>
          </p:nvSpPr>
          <p:spPr>
            <a:xfrm>
              <a:off x="5252400" y="3048120"/>
              <a:ext cx="168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RDF Pr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05520" y="3353040"/>
              <a:ext cx="1522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0" y="4876920"/>
            <a:ext cx="7620120" cy="0"/>
            <a:chOff x="0" y="4876920"/>
            <a:chExt cx="7620120" cy="0"/>
          </a:xfrm>
        </p:grpSpPr>
        <p:sp>
          <p:nvSpPr>
            <p:cNvPr id="233" name=""/>
            <p:cNvSpPr/>
            <p:nvPr/>
          </p:nvSpPr>
          <p:spPr>
            <a:xfrm>
              <a:off x="380880" y="4876920"/>
              <a:ext cx="662940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10280" y="4876920"/>
              <a:ext cx="609840" cy="0"/>
            </a:xfrm>
            <a:prstGeom prst="line">
              <a:avLst/>
            </a:prstGeom>
            <a:ln w="3816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4876920"/>
              <a:ext cx="609480" cy="0"/>
            </a:xfrm>
            <a:prstGeom prst="line">
              <a:avLst/>
            </a:prstGeom>
            <a:ln w="3816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-10080" y="1143000"/>
            <a:ext cx="7743960" cy="2590920"/>
            <a:chOff x="-10080" y="1143000"/>
            <a:chExt cx="7743960" cy="2590920"/>
          </a:xfrm>
        </p:grpSpPr>
        <p:sp>
          <p:nvSpPr>
            <p:cNvPr id="237" name=""/>
            <p:cNvSpPr/>
            <p:nvPr/>
          </p:nvSpPr>
          <p:spPr>
            <a:xfrm>
              <a:off x="40680" y="1219320"/>
              <a:ext cx="7693200" cy="2514600"/>
            </a:xfrm>
            <a:prstGeom prst="rect">
              <a:avLst/>
            </a:prstGeom>
            <a:noFill/>
            <a:ln w="2844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-10080" y="114300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CORE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-152280" y="6095880"/>
            <a:ext cx="7619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CORESE modules to be integrated in ag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0120" y="809640"/>
            <a:ext cx="1523880" cy="52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porate mem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RD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G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Times New Roman"/>
              </a:rPr>
              <a:t>CORE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rganizatio. approa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950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Architectu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b-societies organiz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ntology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Document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nnection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User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mma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03A79-B6BC-4404-85BA-44627BE9E97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160" y="-12960"/>
            <a:ext cx="910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MAS: Organizational approach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-152280" y="533160"/>
            <a:ext cx="76197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Multi-Agent Information Systems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opulation of agen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65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Provider agents</a:t>
            </a:r>
            <a:r>
              <a:rPr b="0" lang="en-US" sz="2600" spc="-1" strike="noStrike">
                <a:solidFill>
                  <a:srgbClr val="cc33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65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Requester agents</a:t>
            </a:r>
            <a:r>
              <a:rPr b="0" lang="en-US" sz="2600" spc="-1" strike="noStrike">
                <a:solidFill>
                  <a:srgbClr val="cc33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65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Middle agents</a:t>
            </a:r>
            <a:r>
              <a:rPr b="0" lang="en-US" sz="2600" spc="-1" strike="noStrike">
                <a:solidFill>
                  <a:srgbClr val="cc33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3300"/>
                </a:solidFill>
                <a:latin typeface="Times New Roman"/>
              </a:rPr>
              <a:t>(*roles)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istant across the network &amp; allocated to different resour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xchange &amp; exploit information thanks to a shared ontolog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Agent assets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Flexible distribution through loosely-coupled software componen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Semantic-level message passing, natural in a KM environ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0120" y="809640"/>
            <a:ext cx="1523880" cy="52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porate mem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950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XM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RD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G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RE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3300"/>
                </a:solidFill>
                <a:latin typeface="Times New Roman"/>
              </a:rPr>
              <a:t>Organizatio. approa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950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Architectu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b-societies organiz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ntology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Document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Connection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User socie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Summa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1FA7D-F457-4959-91FE-B127585E3BB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17:38:22Z</dcterms:created>
  <dc:creator>Fabien GANDON</dc:creator>
  <dc:description/>
  <dc:language>en-US</dc:language>
  <cp:lastModifiedBy>fgandon</cp:lastModifiedBy>
  <dcterms:modified xsi:type="dcterms:W3CDTF">2000-10-30T14:38:41Z</dcterms:modified>
  <cp:revision>107</cp:revision>
  <dc:subject>Corporate Memory Management Through Agents</dc:subject>
  <dc:title>PAKM2000 Presentation of CoMMA</dc:title>
</cp:coreProperties>
</file>