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0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1.png" ContentType="image/png"/>
  <Override PartName="/ppt/media/image2.jpeg" ContentType="image/jpeg"/>
  <Override PartName="/ppt/media/image57.png" ContentType="image/png"/>
  <Override PartName="/ppt/media/image20.png" ContentType="image/png"/>
  <Override PartName="/ppt/media/image26.png" ContentType="image/png"/>
  <Override PartName="/ppt/media/image63.png" ContentType="image/png"/>
  <Override PartName="/ppt/media/image14.png" ContentType="image/png"/>
  <Override PartName="/ppt/media/image62.png" ContentType="image/png"/>
  <Override PartName="/ppt/media/image25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49.png" ContentType="image/png"/>
  <Override PartName="/ppt/media/image52.wmf" ContentType="image/x-wmf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2.png" ContentType="image/png"/>
  <Override PartName="/ppt/media/image36.wmf" ContentType="image/x-wmf"/>
  <Override PartName="/ppt/media/image37.wmf" ContentType="image/x-wmf"/>
  <Override PartName="/ppt/media/image38.wmf" ContentType="image/x-wmf"/>
  <Override PartName="/ppt/media/image40.png" ContentType="image/png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D4E6B-10C6-4904-A5E8-B736F112B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883908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53800" y="3422520"/>
            <a:ext cx="883908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0EDCC-4B6C-4E01-8862-01C0109750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2960" y="-36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53800" y="342252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2960" y="342252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0C428-FCEE-4CC7-AFB5-243DEB424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284580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2160" y="-360"/>
            <a:ext cx="284580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0880" y="-360"/>
            <a:ext cx="284580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53800" y="3422520"/>
            <a:ext cx="284580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2160" y="3422520"/>
            <a:ext cx="284580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0880" y="3422520"/>
            <a:ext cx="284580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BA84-BF0F-4E0F-8081-5752DBA0CB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5380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43131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2960" y="-360"/>
            <a:ext cx="43131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6552720"/>
            <a:ext cx="84582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2960" y="-360"/>
            <a:ext cx="43131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3800" y="342252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5380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729DF-7908-47F5-9E7E-5B4E524604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43131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2960" y="-36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2960" y="342252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2960" y="-36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3800" y="3422520"/>
            <a:ext cx="883908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883908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800" y="3422520"/>
            <a:ext cx="883908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2960" y="-36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53800" y="342252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2960" y="342252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284580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42160" y="-360"/>
            <a:ext cx="284580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30880" y="-360"/>
            <a:ext cx="284580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53800" y="3422520"/>
            <a:ext cx="284580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42160" y="3422520"/>
            <a:ext cx="284580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30880" y="3422520"/>
            <a:ext cx="284580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56C77-9322-4EDA-B0C3-3E1C672EB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43131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2960" y="-360"/>
            <a:ext cx="43131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CA779-1BD0-4258-AA73-DBB993E01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9C5EC-1721-4A34-A4F9-84BF8A6850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6552720"/>
            <a:ext cx="84582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92B2-01E0-49E7-B668-CC5016B18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2960" y="-360"/>
            <a:ext cx="43131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3800" y="342252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98960-2652-46F0-B49C-876C4EE01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431316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2960" y="-36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2960" y="342252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95513-B0D2-4F2C-A3EF-5CE152437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536520"/>
            <a:ext cx="84582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2960" y="-360"/>
            <a:ext cx="431316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53800" y="3422520"/>
            <a:ext cx="883908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011BE-4CEC-44C1-96F5-774BEE139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762120" cy="6858000"/>
          </a:xfrm>
          <a:prstGeom prst="bevel">
            <a:avLst>
              <a:gd name="adj" fmla="val 375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-360" y="6476760"/>
            <a:ext cx="6858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5f5f5f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B617-A0C2-4864-AC6E-5F03EC229491}" type="slidenum">
              <a:rPr b="0" lang="fr-FR" sz="1600" spc="-1" strike="noStrike">
                <a:solidFill>
                  <a:srgbClr val="5f5f5f"/>
                </a:solidFill>
                <a:latin typeface="Impact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65530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25380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44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378080" indent="-228600">
              <a:spcBef>
                <a:spcPts val="799"/>
              </a:spcBef>
              <a:buClr>
                <a:srgbClr val="777777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797120" indent="-22860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21616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21616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21616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" name="bleft1" descr=""/>
          <p:cNvPicPr/>
          <p:nvPr/>
        </p:nvPicPr>
        <p:blipFill>
          <a:blip r:embed="rId4"/>
          <a:stretch/>
        </p:blipFill>
        <p:spPr>
          <a:xfrm>
            <a:off x="596880" y="6705720"/>
            <a:ext cx="123840" cy="114120"/>
          </a:xfrm>
          <a:prstGeom prst="rect">
            <a:avLst/>
          </a:prstGeom>
          <a:ln w="0">
            <a:noFill/>
          </a:ln>
        </p:spPr>
      </p:pic>
      <p:pic>
        <p:nvPicPr>
          <p:cNvPr id="6" name="bright1" descr=""/>
          <p:cNvPicPr/>
          <p:nvPr/>
        </p:nvPicPr>
        <p:blipFill>
          <a:blip r:embed="rId5"/>
          <a:stretch/>
        </p:blipFill>
        <p:spPr>
          <a:xfrm>
            <a:off x="622440" y="3816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7" name="tleft1" descr=""/>
          <p:cNvPicPr/>
          <p:nvPr/>
        </p:nvPicPr>
        <p:blipFill>
          <a:blip r:embed="rId6"/>
          <a:stretch/>
        </p:blipFill>
        <p:spPr>
          <a:xfrm>
            <a:off x="38160" y="3816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8" name="tright1" descr=""/>
          <p:cNvPicPr/>
          <p:nvPr/>
        </p:nvPicPr>
        <p:blipFill>
          <a:blip r:embed="rId7"/>
          <a:stretch/>
        </p:blipFill>
        <p:spPr>
          <a:xfrm>
            <a:off x="25560" y="6705720"/>
            <a:ext cx="114120" cy="11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65527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990720"/>
            <a:ext cx="8534160" cy="3352680"/>
          </a:xfrm>
          <a:prstGeom prst="bevel">
            <a:avLst>
              <a:gd name="adj" fmla="val 1468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65530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bleft1" descr=""/>
          <p:cNvPicPr/>
          <p:nvPr/>
        </p:nvPicPr>
        <p:blipFill>
          <a:blip r:embed="rId4"/>
          <a:stretch/>
        </p:blipFill>
        <p:spPr>
          <a:xfrm>
            <a:off x="8651880" y="4152960"/>
            <a:ext cx="123840" cy="114120"/>
          </a:xfrm>
          <a:prstGeom prst="rect">
            <a:avLst/>
          </a:prstGeom>
          <a:ln w="0">
            <a:noFill/>
          </a:ln>
        </p:spPr>
      </p:pic>
      <p:pic>
        <p:nvPicPr>
          <p:cNvPr id="49" name="bright1" descr=""/>
          <p:cNvPicPr/>
          <p:nvPr/>
        </p:nvPicPr>
        <p:blipFill>
          <a:blip r:embed="rId5"/>
          <a:stretch/>
        </p:blipFill>
        <p:spPr>
          <a:xfrm>
            <a:off x="8658360" y="106668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50" name="tleft1" descr=""/>
          <p:cNvPicPr/>
          <p:nvPr/>
        </p:nvPicPr>
        <p:blipFill>
          <a:blip r:embed="rId6"/>
          <a:stretch/>
        </p:blipFill>
        <p:spPr>
          <a:xfrm>
            <a:off x="380880" y="106668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51" name="tright1" descr=""/>
          <p:cNvPicPr/>
          <p:nvPr/>
        </p:nvPicPr>
        <p:blipFill>
          <a:blip r:embed="rId7"/>
          <a:stretch/>
        </p:blipFill>
        <p:spPr>
          <a:xfrm>
            <a:off x="380880" y="4152960"/>
            <a:ext cx="114480" cy="1141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235080" algn="ctr">
              <a:spcBef>
                <a:spcPts val="60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1371600" indent="196920" algn="ctr"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828800" indent="158760" algn="ctr">
              <a:spcBef>
                <a:spcPts val="499"/>
              </a:spcBef>
              <a:buClr>
                <a:srgbClr val="000000"/>
              </a:buClr>
              <a:buFont typeface="Georgi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1828800" indent="158760">
              <a:spcBef>
                <a:spcPts val="4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1828800" indent="158760">
              <a:spcBef>
                <a:spcPts val="4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9.png"/><Relationship Id="rId5" Type="http://schemas.openxmlformats.org/officeDocument/2006/relationships/image" Target="../media/image2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9.png"/><Relationship Id="rId5" Type="http://schemas.openxmlformats.org/officeDocument/2006/relationships/image" Target="../media/image31.png"/><Relationship Id="rId6" Type="http://schemas.openxmlformats.org/officeDocument/2006/relationships/image" Target="../media/image2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9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2.jpe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9.png"/><Relationship Id="rId5" Type="http://schemas.openxmlformats.org/officeDocument/2006/relationships/image" Target="../media/image35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2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9.png"/><Relationship Id="rId5" Type="http://schemas.openxmlformats.org/officeDocument/2006/relationships/image" Target="../media/image35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2.jpe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image" Target="../media/image35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2.jpeg"/><Relationship Id="rId9" Type="http://schemas.openxmlformats.org/officeDocument/2006/relationships/image" Target="../media/image36.wmf"/><Relationship Id="rId10" Type="http://schemas.openxmlformats.org/officeDocument/2006/relationships/image" Target="../media/image37.wmf"/><Relationship Id="rId11" Type="http://schemas.openxmlformats.org/officeDocument/2006/relationships/image" Target="../media/image38.wmf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5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9.wmf"/><Relationship Id="rId8" Type="http://schemas.openxmlformats.org/officeDocument/2006/relationships/image" Target="../media/image2.jpeg"/><Relationship Id="rId9" Type="http://schemas.openxmlformats.org/officeDocument/2006/relationships/image" Target="../media/image36.wmf"/><Relationship Id="rId10" Type="http://schemas.openxmlformats.org/officeDocument/2006/relationships/image" Target="../media/image37.wmf"/><Relationship Id="rId11" Type="http://schemas.openxmlformats.org/officeDocument/2006/relationships/image" Target="../media/image38.wmf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5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9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42.png"/><Relationship Id="rId1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6.png"/><Relationship Id="rId22" Type="http://schemas.openxmlformats.org/officeDocument/2006/relationships/image" Target="../media/image17.png"/><Relationship Id="rId23" Type="http://schemas.openxmlformats.org/officeDocument/2006/relationships/image" Target="../media/image16.png"/><Relationship Id="rId24" Type="http://schemas.openxmlformats.org/officeDocument/2006/relationships/image" Target="../media/image17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8.png"/><Relationship Id="rId28" Type="http://schemas.openxmlformats.org/officeDocument/2006/relationships/image" Target="../media/image18.png"/><Relationship Id="rId29" Type="http://schemas.openxmlformats.org/officeDocument/2006/relationships/image" Target="../media/image19.png"/><Relationship Id="rId30" Type="http://schemas.openxmlformats.org/officeDocument/2006/relationships/image" Target="../media/image20.png"/><Relationship Id="rId31" Type="http://schemas.openxmlformats.org/officeDocument/2006/relationships/image" Target="../media/image15.png"/><Relationship Id="rId32" Type="http://schemas.openxmlformats.org/officeDocument/2006/relationships/image" Target="../media/image19.png"/><Relationship Id="rId33" Type="http://schemas.openxmlformats.org/officeDocument/2006/relationships/image" Target="../media/image21.png"/><Relationship Id="rId34" Type="http://schemas.openxmlformats.org/officeDocument/2006/relationships/image" Target="../media/image2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23.png"/><Relationship Id="rId38" Type="http://schemas.openxmlformats.org/officeDocument/2006/relationships/image" Target="../media/image10.png"/><Relationship Id="rId39" Type="http://schemas.openxmlformats.org/officeDocument/2006/relationships/image" Target="../media/image11.png"/><Relationship Id="rId40" Type="http://schemas.openxmlformats.org/officeDocument/2006/relationships/image" Target="../media/image13.png"/><Relationship Id="rId41" Type="http://schemas.openxmlformats.org/officeDocument/2006/relationships/image" Target="../media/image24.png"/><Relationship Id="rId42" Type="http://schemas.openxmlformats.org/officeDocument/2006/relationships/image" Target="../media/image25.png"/><Relationship Id="rId43" Type="http://schemas.openxmlformats.org/officeDocument/2006/relationships/image" Target="../media/image12.png"/><Relationship Id="rId44" Type="http://schemas.openxmlformats.org/officeDocument/2006/relationships/image" Target="../media/image26.png"/><Relationship Id="rId45" Type="http://schemas.openxmlformats.org/officeDocument/2006/relationships/image" Target="../media/image27.png"/><Relationship Id="rId46" Type="http://schemas.openxmlformats.org/officeDocument/2006/relationships/image" Target="../media/image28.png"/><Relationship Id="rId47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6.png"/><Relationship Id="rId22" Type="http://schemas.openxmlformats.org/officeDocument/2006/relationships/image" Target="../media/image17.png"/><Relationship Id="rId23" Type="http://schemas.openxmlformats.org/officeDocument/2006/relationships/image" Target="../media/image16.png"/><Relationship Id="rId24" Type="http://schemas.openxmlformats.org/officeDocument/2006/relationships/image" Target="../media/image17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8.png"/><Relationship Id="rId28" Type="http://schemas.openxmlformats.org/officeDocument/2006/relationships/image" Target="../media/image18.png"/><Relationship Id="rId29" Type="http://schemas.openxmlformats.org/officeDocument/2006/relationships/image" Target="../media/image19.png"/><Relationship Id="rId30" Type="http://schemas.openxmlformats.org/officeDocument/2006/relationships/image" Target="../media/image20.png"/><Relationship Id="rId31" Type="http://schemas.openxmlformats.org/officeDocument/2006/relationships/image" Target="../media/image15.png"/><Relationship Id="rId32" Type="http://schemas.openxmlformats.org/officeDocument/2006/relationships/image" Target="../media/image19.png"/><Relationship Id="rId33" Type="http://schemas.openxmlformats.org/officeDocument/2006/relationships/image" Target="../media/image21.png"/><Relationship Id="rId34" Type="http://schemas.openxmlformats.org/officeDocument/2006/relationships/image" Target="../media/image2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23.png"/><Relationship Id="rId38" Type="http://schemas.openxmlformats.org/officeDocument/2006/relationships/image" Target="../media/image10.png"/><Relationship Id="rId39" Type="http://schemas.openxmlformats.org/officeDocument/2006/relationships/image" Target="../media/image11.png"/><Relationship Id="rId40" Type="http://schemas.openxmlformats.org/officeDocument/2006/relationships/image" Target="../media/image13.png"/><Relationship Id="rId41" Type="http://schemas.openxmlformats.org/officeDocument/2006/relationships/image" Target="../media/image24.png"/><Relationship Id="rId42" Type="http://schemas.openxmlformats.org/officeDocument/2006/relationships/image" Target="../media/image25.png"/><Relationship Id="rId43" Type="http://schemas.openxmlformats.org/officeDocument/2006/relationships/image" Target="../media/image12.png"/><Relationship Id="rId44" Type="http://schemas.openxmlformats.org/officeDocument/2006/relationships/image" Target="../media/image26.png"/><Relationship Id="rId45" Type="http://schemas.openxmlformats.org/officeDocument/2006/relationships/image" Target="../media/image27.png"/><Relationship Id="rId46" Type="http://schemas.openxmlformats.org/officeDocument/2006/relationships/image" Target="../media/image28.png"/><Relationship Id="rId47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6.png"/><Relationship Id="rId22" Type="http://schemas.openxmlformats.org/officeDocument/2006/relationships/image" Target="../media/image17.png"/><Relationship Id="rId23" Type="http://schemas.openxmlformats.org/officeDocument/2006/relationships/image" Target="../media/image16.png"/><Relationship Id="rId24" Type="http://schemas.openxmlformats.org/officeDocument/2006/relationships/image" Target="../media/image17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8.png"/><Relationship Id="rId28" Type="http://schemas.openxmlformats.org/officeDocument/2006/relationships/image" Target="../media/image18.png"/><Relationship Id="rId29" Type="http://schemas.openxmlformats.org/officeDocument/2006/relationships/image" Target="../media/image19.png"/><Relationship Id="rId30" Type="http://schemas.openxmlformats.org/officeDocument/2006/relationships/image" Target="../media/image20.png"/><Relationship Id="rId31" Type="http://schemas.openxmlformats.org/officeDocument/2006/relationships/image" Target="../media/image15.png"/><Relationship Id="rId32" Type="http://schemas.openxmlformats.org/officeDocument/2006/relationships/image" Target="../media/image19.png"/><Relationship Id="rId33" Type="http://schemas.openxmlformats.org/officeDocument/2006/relationships/image" Target="../media/image21.png"/><Relationship Id="rId34" Type="http://schemas.openxmlformats.org/officeDocument/2006/relationships/image" Target="../media/image2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23.png"/><Relationship Id="rId38" Type="http://schemas.openxmlformats.org/officeDocument/2006/relationships/image" Target="../media/image10.png"/><Relationship Id="rId39" Type="http://schemas.openxmlformats.org/officeDocument/2006/relationships/image" Target="../media/image11.png"/><Relationship Id="rId40" Type="http://schemas.openxmlformats.org/officeDocument/2006/relationships/image" Target="../media/image13.png"/><Relationship Id="rId41" Type="http://schemas.openxmlformats.org/officeDocument/2006/relationships/image" Target="../media/image24.png"/><Relationship Id="rId42" Type="http://schemas.openxmlformats.org/officeDocument/2006/relationships/image" Target="../media/image25.png"/><Relationship Id="rId43" Type="http://schemas.openxmlformats.org/officeDocument/2006/relationships/image" Target="../media/image12.png"/><Relationship Id="rId44" Type="http://schemas.openxmlformats.org/officeDocument/2006/relationships/image" Target="../media/image26.png"/><Relationship Id="rId45" Type="http://schemas.openxmlformats.org/officeDocument/2006/relationships/image" Target="../media/image27.png"/><Relationship Id="rId46" Type="http://schemas.openxmlformats.org/officeDocument/2006/relationships/image" Target="../media/image28.png"/><Relationship Id="rId47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6.png"/><Relationship Id="rId22" Type="http://schemas.openxmlformats.org/officeDocument/2006/relationships/image" Target="../media/image17.png"/><Relationship Id="rId23" Type="http://schemas.openxmlformats.org/officeDocument/2006/relationships/image" Target="../media/image16.png"/><Relationship Id="rId24" Type="http://schemas.openxmlformats.org/officeDocument/2006/relationships/image" Target="../media/image17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8.png"/><Relationship Id="rId28" Type="http://schemas.openxmlformats.org/officeDocument/2006/relationships/image" Target="../media/image18.png"/><Relationship Id="rId29" Type="http://schemas.openxmlformats.org/officeDocument/2006/relationships/image" Target="../media/image19.png"/><Relationship Id="rId30" Type="http://schemas.openxmlformats.org/officeDocument/2006/relationships/image" Target="../media/image20.png"/><Relationship Id="rId31" Type="http://schemas.openxmlformats.org/officeDocument/2006/relationships/image" Target="../media/image15.png"/><Relationship Id="rId32" Type="http://schemas.openxmlformats.org/officeDocument/2006/relationships/image" Target="../media/image19.png"/><Relationship Id="rId33" Type="http://schemas.openxmlformats.org/officeDocument/2006/relationships/image" Target="../media/image21.png"/><Relationship Id="rId34" Type="http://schemas.openxmlformats.org/officeDocument/2006/relationships/image" Target="../media/image2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23.png"/><Relationship Id="rId38" Type="http://schemas.openxmlformats.org/officeDocument/2006/relationships/image" Target="../media/image10.png"/><Relationship Id="rId39" Type="http://schemas.openxmlformats.org/officeDocument/2006/relationships/image" Target="../media/image11.png"/><Relationship Id="rId40" Type="http://schemas.openxmlformats.org/officeDocument/2006/relationships/image" Target="../media/image13.png"/><Relationship Id="rId41" Type="http://schemas.openxmlformats.org/officeDocument/2006/relationships/image" Target="../media/image24.png"/><Relationship Id="rId42" Type="http://schemas.openxmlformats.org/officeDocument/2006/relationships/image" Target="../media/image25.png"/><Relationship Id="rId43" Type="http://schemas.openxmlformats.org/officeDocument/2006/relationships/image" Target="../media/image12.png"/><Relationship Id="rId44" Type="http://schemas.openxmlformats.org/officeDocument/2006/relationships/image" Target="../media/image26.png"/><Relationship Id="rId45" Type="http://schemas.openxmlformats.org/officeDocument/2006/relationships/image" Target="../media/image27.png"/><Relationship Id="rId46" Type="http://schemas.openxmlformats.org/officeDocument/2006/relationships/image" Target="../media/image28.png"/><Relationship Id="rId47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slide" Target="slide78.xm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6.png"/><Relationship Id="rId22" Type="http://schemas.openxmlformats.org/officeDocument/2006/relationships/image" Target="../media/image17.png"/><Relationship Id="rId23" Type="http://schemas.openxmlformats.org/officeDocument/2006/relationships/image" Target="../media/image16.png"/><Relationship Id="rId24" Type="http://schemas.openxmlformats.org/officeDocument/2006/relationships/image" Target="../media/image17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8.png"/><Relationship Id="rId28" Type="http://schemas.openxmlformats.org/officeDocument/2006/relationships/image" Target="../media/image18.png"/><Relationship Id="rId29" Type="http://schemas.openxmlformats.org/officeDocument/2006/relationships/image" Target="../media/image19.png"/><Relationship Id="rId30" Type="http://schemas.openxmlformats.org/officeDocument/2006/relationships/image" Target="../media/image20.png"/><Relationship Id="rId31" Type="http://schemas.openxmlformats.org/officeDocument/2006/relationships/image" Target="../media/image15.png"/><Relationship Id="rId32" Type="http://schemas.openxmlformats.org/officeDocument/2006/relationships/image" Target="../media/image19.png"/><Relationship Id="rId33" Type="http://schemas.openxmlformats.org/officeDocument/2006/relationships/image" Target="../media/image21.png"/><Relationship Id="rId34" Type="http://schemas.openxmlformats.org/officeDocument/2006/relationships/image" Target="../media/image2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23.png"/><Relationship Id="rId38" Type="http://schemas.openxmlformats.org/officeDocument/2006/relationships/image" Target="../media/image10.png"/><Relationship Id="rId39" Type="http://schemas.openxmlformats.org/officeDocument/2006/relationships/image" Target="../media/image11.png"/><Relationship Id="rId40" Type="http://schemas.openxmlformats.org/officeDocument/2006/relationships/image" Target="../media/image13.png"/><Relationship Id="rId41" Type="http://schemas.openxmlformats.org/officeDocument/2006/relationships/image" Target="../media/image24.png"/><Relationship Id="rId42" Type="http://schemas.openxmlformats.org/officeDocument/2006/relationships/image" Target="../media/image25.png"/><Relationship Id="rId43" Type="http://schemas.openxmlformats.org/officeDocument/2006/relationships/image" Target="../media/image12.png"/><Relationship Id="rId44" Type="http://schemas.openxmlformats.org/officeDocument/2006/relationships/image" Target="../media/image26.png"/><Relationship Id="rId45" Type="http://schemas.openxmlformats.org/officeDocument/2006/relationships/image" Target="../media/image27.png"/><Relationship Id="rId46" Type="http://schemas.openxmlformats.org/officeDocument/2006/relationships/image" Target="../media/image28.png"/><Relationship Id="rId47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8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5527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18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Séminaire du PSI - 20/12/2001 - Fabien Gandon projet ACACIA INRIA Sophia-Antipolis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90360" y="1447920"/>
            <a:ext cx="70102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Georgia"/>
              </a:rPr>
              <a:t>Ontologie et Système Multi-Agents pour un Web Sémantique d'Entreprise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1" name="Winner" descr=""/>
          <p:cNvPicPr/>
          <p:nvPr/>
        </p:nvPicPr>
        <p:blipFill>
          <a:blip r:embed="rId2"/>
          <a:stretch/>
        </p:blipFill>
        <p:spPr>
          <a:xfrm>
            <a:off x="2666880" y="4495680"/>
            <a:ext cx="464832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Faisabilité Ontologie &amp; atouts de RDF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7720" indent="-439920">
              <a:lnSpc>
                <a:spcPct val="9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RDF :</a:t>
            </a: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 Resource Description Framework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48960" indent="-28260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Georgia"/>
              </a:rPr>
              <a:t>Décrire les ressources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 du Web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48960" indent="-28260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Annotation interne/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Georgia"/>
              </a:rPr>
              <a:t>externe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 de docum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48960" indent="-28260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RDF Schema (pour formaliser l'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Georgia"/>
              </a:rPr>
              <a:t>ontologie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48960" indent="-28260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RDFS Limité - Etendre </a:t>
            </a:r>
            <a:r>
              <a:rPr b="0" i="1" lang="fr-FR" sz="2800" spc="-1" strike="noStrike">
                <a:solidFill>
                  <a:srgbClr val="000000"/>
                </a:solidFill>
                <a:latin typeface="Georgia"/>
              </a:rPr>
              <a:t>ssi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 nécessai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77720" indent="-439920">
              <a:lnSpc>
                <a:spcPct val="9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Vers un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Web sémantique d'entrepris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mémoire annotée, basée sur un modèl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77720" indent="-439920">
              <a:lnSpc>
                <a:spcPct val="9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eorgia"/>
              </a:rPr>
              <a:t>3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sources de besoin d'une ontologi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48960" indent="-28260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Composant de la mémoi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48960" indent="-28260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Annotations et modèl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48960" indent="-28260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Communication entre ag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77720" indent="-439920">
              <a:lnSpc>
                <a:spcPct val="8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Contexte</a:t>
            </a:r>
            <a:r>
              <a:rPr b="1" lang="fr-FR" sz="3200" spc="-1" strike="noStrike">
                <a:solidFill>
                  <a:srgbClr val="000000"/>
                </a:solidFill>
                <a:latin typeface="Georgia"/>
              </a:rPr>
              <a:t> =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Entrepris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48960" indent="-28260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Porté limité &amp; Existence communaut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48960" indent="-28260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Ontologie &amp; Engagement ontologiqu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46B74-4A73-4EB0-8784-74C65FDA0E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RDF(S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822240" y="0"/>
            <a:ext cx="8169480" cy="1523880"/>
            <a:chOff x="822240" y="0"/>
            <a:chExt cx="8169480" cy="1523880"/>
          </a:xfrm>
        </p:grpSpPr>
        <p:sp>
          <p:nvSpPr>
            <p:cNvPr id="623" name=""/>
            <p:cNvSpPr/>
            <p:nvPr/>
          </p:nvSpPr>
          <p:spPr>
            <a:xfrm>
              <a:off x="838080" y="76320"/>
              <a:ext cx="8153640" cy="14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278160" y="152280"/>
              <a:ext cx="91296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ntit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86000" y="990720"/>
              <a:ext cx="129528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rou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09880" y="990720"/>
              <a:ext cx="137160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Person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7" name=""/>
            <p:cNvGrpSpPr/>
            <p:nvPr/>
          </p:nvGrpSpPr>
          <p:grpSpPr>
            <a:xfrm>
              <a:off x="6324480" y="914400"/>
              <a:ext cx="1523880" cy="533160"/>
              <a:chOff x="6324480" y="914400"/>
              <a:chExt cx="1523880" cy="533160"/>
            </a:xfrm>
          </p:grpSpPr>
          <p:sp>
            <p:nvSpPr>
              <p:cNvPr id="628" name=""/>
              <p:cNvSpPr/>
              <p:nvPr/>
            </p:nvSpPr>
            <p:spPr>
              <a:xfrm>
                <a:off x="6324480" y="914400"/>
                <a:ext cx="1523880" cy="53316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451200" y="927000"/>
                <a:ext cx="128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Employ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2971440" y="609480"/>
              <a:ext cx="762120" cy="381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733920" y="609480"/>
              <a:ext cx="761760" cy="381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3429000" y="8380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3429000" y="83808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5181120" y="121932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001000" y="8380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7848360" y="1219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62720" y="152280"/>
              <a:ext cx="0" cy="12956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7302600" y="152280"/>
              <a:ext cx="1523880" cy="533160"/>
              <a:chOff x="7302600" y="152280"/>
              <a:chExt cx="1523880" cy="533160"/>
            </a:xfrm>
          </p:grpSpPr>
          <p:sp>
            <p:nvSpPr>
              <p:cNvPr id="639" name=""/>
              <p:cNvSpPr/>
              <p:nvPr/>
            </p:nvSpPr>
            <p:spPr>
              <a:xfrm>
                <a:off x="7302600" y="152280"/>
                <a:ext cx="1523880" cy="53316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429680" y="164880"/>
                <a:ext cx="121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Memb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 flipH="1">
              <a:off x="7314840" y="685800"/>
              <a:ext cx="60948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638320" y="96516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689800" y="57168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22240" y="0"/>
              <a:ext cx="1920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Hiérarchie de l'ontolog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822240" y="1447920"/>
            <a:ext cx="8169480" cy="2209680"/>
            <a:chOff x="822240" y="1447920"/>
            <a:chExt cx="8169480" cy="2209680"/>
          </a:xfrm>
        </p:grpSpPr>
        <p:sp>
          <p:nvSpPr>
            <p:cNvPr id="646" name=""/>
            <p:cNvSpPr/>
            <p:nvPr/>
          </p:nvSpPr>
          <p:spPr>
            <a:xfrm>
              <a:off x="838080" y="1523880"/>
              <a:ext cx="8153640" cy="21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18320" y="1541520"/>
              <a:ext cx="5789520" cy="20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sz="1600" spc="-1" strike="noStrike">
                  <a:solidFill>
                    <a:srgbClr val="0000ff"/>
                  </a:solidFill>
                  <a:latin typeface="Courier New"/>
                </a:rPr>
                <a:t>Class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rdf:ID=‘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Entité’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sz="1600" spc="-1" strike="noStrike">
                  <a:solidFill>
                    <a:srgbClr val="0000ff"/>
                  </a:solidFill>
                  <a:latin typeface="Courier New"/>
                </a:rPr>
                <a:t>Class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rdf:ID=‘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Groupe’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 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sz="1600" spc="-1" strike="noStrike">
                  <a:solidFill>
                    <a:srgbClr val="ff0000"/>
                  </a:solidFill>
                  <a:latin typeface="Courier New"/>
                </a:rPr>
                <a:t>subClassOf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Entité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’ 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/rdfs:Class&gt;    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rdf:</a:t>
              </a:r>
              <a:r>
                <a:rPr b="1" sz="1600" spc="-1" strike="noStrike">
                  <a:solidFill>
                    <a:srgbClr val="0000ff"/>
                  </a:solidFill>
                  <a:latin typeface="Courier New"/>
                </a:rPr>
                <a:t>Property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rdf:ID=‘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Employé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’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sz="1600" spc="-1" strike="noStrike">
                  <a:solidFill>
                    <a:srgbClr val="ff0000"/>
                  </a:solidFill>
                  <a:latin typeface="Courier New"/>
                </a:rPr>
                <a:t>subPropertyOf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Membre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’ 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 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domain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Groupe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 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range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Personne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’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/rdf:Property&gt;  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22240" y="1447920"/>
              <a:ext cx="1920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Ontologi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n RD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838080" y="3581280"/>
            <a:ext cx="8179560" cy="1524240"/>
            <a:chOff x="838080" y="3581280"/>
            <a:chExt cx="8179560" cy="1524240"/>
          </a:xfrm>
        </p:grpSpPr>
        <p:sp>
          <p:nvSpPr>
            <p:cNvPr id="650" name=""/>
            <p:cNvSpPr/>
            <p:nvPr/>
          </p:nvSpPr>
          <p:spPr>
            <a:xfrm>
              <a:off x="838080" y="3657600"/>
              <a:ext cx="8153640" cy="144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47920" y="4533840"/>
              <a:ext cx="228600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Groupe: Aca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4267080" y="4495680"/>
              <a:ext cx="1523880" cy="533160"/>
              <a:chOff x="4267080" y="4495680"/>
              <a:chExt cx="1523880" cy="533160"/>
            </a:xfrm>
          </p:grpSpPr>
          <p:sp>
            <p:nvSpPr>
              <p:cNvPr id="653" name=""/>
              <p:cNvSpPr/>
              <p:nvPr/>
            </p:nvSpPr>
            <p:spPr>
              <a:xfrm>
                <a:off x="4267080" y="4495680"/>
                <a:ext cx="1523880" cy="533160"/>
              </a:xfrm>
              <a:prstGeom prst="ellipse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393800" y="4508280"/>
                <a:ext cx="128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Employ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" name=""/>
            <p:cNvSpPr/>
            <p:nvPr/>
          </p:nvSpPr>
          <p:spPr>
            <a:xfrm flipH="1">
              <a:off x="3733560" y="476244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724000" y="449568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5790960" y="476244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734280" y="449568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r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77120" y="4533840"/>
              <a:ext cx="2438280" cy="45972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Personne: Fabi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38080" y="3581280"/>
              <a:ext cx="2438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Annotati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model de trip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264920" y="4038480"/>
              <a:ext cx="47527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Courier New"/>
                </a:rPr>
                <a:t>(Acacia, Employé, Fabi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822240" y="5045040"/>
            <a:ext cx="8169480" cy="1215360"/>
            <a:chOff x="822240" y="5045040"/>
            <a:chExt cx="8169480" cy="1215360"/>
          </a:xfrm>
        </p:grpSpPr>
        <p:sp>
          <p:nvSpPr>
            <p:cNvPr id="663" name=""/>
            <p:cNvSpPr/>
            <p:nvPr/>
          </p:nvSpPr>
          <p:spPr>
            <a:xfrm>
              <a:off x="838080" y="5105520"/>
              <a:ext cx="815364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728360" y="5194440"/>
              <a:ext cx="725220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Courier New"/>
                </a:rPr>
                <a:t>&lt;CoMMA:Groupe rdf:about=“http://www-sop.inria.fr/acacia/”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6600"/>
                  </a:solidFill>
                  <a:latin typeface="Courier New"/>
                </a:rPr>
                <a:t>&lt;CoMMA:Employé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6600"/>
                  </a:solidFill>
                  <a:latin typeface="Courier New"/>
                </a:rPr>
                <a:t>&lt;CoMMA:Personne rdf:about=“http://www.inria.fr/~fab/” 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6600"/>
                  </a:solidFill>
                  <a:latin typeface="Courier New"/>
                </a:rPr>
                <a:t>&lt;/CoMMA:Employé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00"/>
                  </a:solidFill>
                  <a:latin typeface="Courier New"/>
                </a:rPr>
                <a:t>&lt;/CoMMA:Groupe 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22240" y="5045040"/>
              <a:ext cx="1920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(XM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FC12-43AF-43CF-81DC-AD1BFE4F9F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émoire annotée et basée sur des modèles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04920" y="76320"/>
            <a:ext cx="5257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82760" indent="-444600">
              <a:lnSpc>
                <a:spcPct val="9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O</a:t>
            </a: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ntologie en RD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44600">
              <a:lnSpc>
                <a:spcPct val="9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Description de la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S</a:t>
            </a: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ituation en R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Profil utilisat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Modèle Organ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44600">
              <a:lnSpc>
                <a:spcPct val="9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A</a:t>
            </a: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nnotations en RDF description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D</a:t>
            </a: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3879720" y="4013280"/>
            <a:ext cx="2158920" cy="2022480"/>
            <a:chOff x="3879720" y="4013280"/>
            <a:chExt cx="2158920" cy="2022480"/>
          </a:xfrm>
        </p:grpSpPr>
        <p:sp>
          <p:nvSpPr>
            <p:cNvPr id="669" name=""/>
            <p:cNvSpPr/>
            <p:nvPr/>
          </p:nvSpPr>
          <p:spPr>
            <a:xfrm>
              <a:off x="3879720" y="4013280"/>
              <a:ext cx="490320" cy="503280"/>
            </a:xfrm>
            <a:custGeom>
              <a:avLst/>
              <a:gdLst>
                <a:gd name="textAreaLeft" fmla="*/ 23400 w 490320"/>
                <a:gd name="textAreaRight" fmla="*/ 466920 w 490320"/>
                <a:gd name="textAreaTop" fmla="*/ 23400 h 503280"/>
                <a:gd name="textAreaBottom" fmla="*/ 479880 h 503280"/>
              </a:gdLst>
              <a:ahLst/>
              <a:rect l="textAreaLeft" t="textAreaTop" r="textAreaRight" b="textAreaBottom"/>
              <a:pathLst>
                <a:path w="21600" h="22171">
                  <a:moveTo>
                    <a:pt x="3562" y="0"/>
                  </a:moveTo>
                  <a:arcTo wR="3562" hR="3562" stAng="16200000" swAng="-5400000"/>
                  <a:lnTo>
                    <a:pt x="0" y="18609"/>
                  </a:lnTo>
                  <a:arcTo wR="3562" hR="3562" stAng="10800000" swAng="-5400000"/>
                  <a:lnTo>
                    <a:pt x="18038" y="22171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547960" y="4013280"/>
              <a:ext cx="490680" cy="503280"/>
            </a:xfrm>
            <a:custGeom>
              <a:avLst/>
              <a:gdLst>
                <a:gd name="textAreaLeft" fmla="*/ 23400 w 490680"/>
                <a:gd name="textAreaRight" fmla="*/ 467280 w 490680"/>
                <a:gd name="textAreaTop" fmla="*/ 23400 h 503280"/>
                <a:gd name="textAreaBottom" fmla="*/ 479880 h 503280"/>
              </a:gdLst>
              <a:ahLst/>
              <a:rect l="textAreaLeft" t="textAreaTop" r="textAreaRight" b="textAreaBottom"/>
              <a:pathLst>
                <a:path w="21600" h="22154">
                  <a:moveTo>
                    <a:pt x="3562" y="0"/>
                  </a:moveTo>
                  <a:arcTo wR="3562" hR="3562" stAng="16200000" swAng="-5400000"/>
                  <a:lnTo>
                    <a:pt x="0" y="18592"/>
                  </a:lnTo>
                  <a:arcTo wR="3562" hR="3562" stAng="10800000" swAng="-5400000"/>
                  <a:lnTo>
                    <a:pt x="18038" y="22154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547960" y="5486400"/>
              <a:ext cx="490680" cy="503280"/>
            </a:xfrm>
            <a:custGeom>
              <a:avLst/>
              <a:gdLst>
                <a:gd name="textAreaLeft" fmla="*/ 23400 w 490680"/>
                <a:gd name="textAreaRight" fmla="*/ 467280 w 490680"/>
                <a:gd name="textAreaTop" fmla="*/ 23400 h 503280"/>
                <a:gd name="textAreaBottom" fmla="*/ 479880 h 503280"/>
              </a:gdLst>
              <a:ahLst/>
              <a:rect l="textAreaLeft" t="textAreaTop" r="textAreaRight" b="textAreaBottom"/>
              <a:pathLst>
                <a:path w="21600" h="22154">
                  <a:moveTo>
                    <a:pt x="3562" y="0"/>
                  </a:moveTo>
                  <a:arcTo wR="3562" hR="3562" stAng="16200000" swAng="-5400000"/>
                  <a:lnTo>
                    <a:pt x="0" y="18592"/>
                  </a:lnTo>
                  <a:arcTo wR="3562" hR="3562" stAng="10800000" swAng="-5400000"/>
                  <a:lnTo>
                    <a:pt x="18038" y="22154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879720" y="5486400"/>
              <a:ext cx="490320" cy="503280"/>
            </a:xfrm>
            <a:custGeom>
              <a:avLst/>
              <a:gdLst>
                <a:gd name="textAreaLeft" fmla="*/ 23400 w 490320"/>
                <a:gd name="textAreaRight" fmla="*/ 466920 w 490320"/>
                <a:gd name="textAreaTop" fmla="*/ 23400 h 503280"/>
                <a:gd name="textAreaBottom" fmla="*/ 479880 h 503280"/>
              </a:gdLst>
              <a:ahLst/>
              <a:rect l="textAreaLeft" t="textAreaTop" r="textAreaRight" b="textAreaBottom"/>
              <a:pathLst>
                <a:path w="21600" h="22171">
                  <a:moveTo>
                    <a:pt x="3562" y="0"/>
                  </a:moveTo>
                  <a:arcTo wR="3562" hR="3562" stAng="16200000" swAng="-5400000"/>
                  <a:lnTo>
                    <a:pt x="0" y="18609"/>
                  </a:lnTo>
                  <a:arcTo wR="3562" hR="3562" stAng="10800000" swAng="-5400000"/>
                  <a:lnTo>
                    <a:pt x="18038" y="22171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49560" y="4059360"/>
              <a:ext cx="3985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617800" y="4059360"/>
              <a:ext cx="3985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17800" y="5532480"/>
              <a:ext cx="3985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49560" y="5532480"/>
              <a:ext cx="3985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89200" y="428004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68680" y="4616280"/>
              <a:ext cx="1036440" cy="8701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810040" y="457200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4468680" y="5730480"/>
              <a:ext cx="96048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914400" y="3936960"/>
            <a:ext cx="2158920" cy="2158920"/>
            <a:chOff x="914400" y="3936960"/>
            <a:chExt cx="2158920" cy="2158920"/>
          </a:xfrm>
        </p:grpSpPr>
        <p:sp>
          <p:nvSpPr>
            <p:cNvPr id="682" name=""/>
            <p:cNvSpPr/>
            <p:nvPr/>
          </p:nvSpPr>
          <p:spPr>
            <a:xfrm>
              <a:off x="914400" y="5064120"/>
              <a:ext cx="2158920" cy="10317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914400" y="3936960"/>
              <a:ext cx="2158920" cy="10317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004760" y="4030560"/>
              <a:ext cx="449280" cy="470160"/>
            </a:xfrm>
            <a:custGeom>
              <a:avLst/>
              <a:gdLst>
                <a:gd name="textAreaLeft" fmla="*/ 21600 w 449280"/>
                <a:gd name="textAreaRight" fmla="*/ 427680 w 449280"/>
                <a:gd name="textAreaTop" fmla="*/ 21600 h 470160"/>
                <a:gd name="textAreaBottom" fmla="*/ 448560 h 470160"/>
              </a:gdLst>
              <a:ahLst/>
              <a:rect l="textAreaLeft" t="textAreaTop" r="textAreaRight" b="textAreaBottom"/>
              <a:pathLst>
                <a:path w="21600" h="22603">
                  <a:moveTo>
                    <a:pt x="3562" y="0"/>
                  </a:moveTo>
                  <a:arcTo wR="3562" hR="3562" stAng="16200000" swAng="-5400000"/>
                  <a:lnTo>
                    <a:pt x="0" y="19041"/>
                  </a:lnTo>
                  <a:arcTo wR="3562" hR="3562" stAng="10800000" swAng="-5400000"/>
                  <a:lnTo>
                    <a:pt x="18038" y="22603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533680" y="4030560"/>
              <a:ext cx="449280" cy="470160"/>
            </a:xfrm>
            <a:custGeom>
              <a:avLst/>
              <a:gdLst>
                <a:gd name="textAreaLeft" fmla="*/ 21600 w 449280"/>
                <a:gd name="textAreaRight" fmla="*/ 427680 w 449280"/>
                <a:gd name="textAreaTop" fmla="*/ 21600 h 470160"/>
                <a:gd name="textAreaBottom" fmla="*/ 448560 h 470160"/>
              </a:gdLst>
              <a:ahLst/>
              <a:rect l="textAreaLeft" t="textAreaTop" r="textAreaRight" b="textAreaBottom"/>
              <a:pathLst>
                <a:path w="21600" h="22603">
                  <a:moveTo>
                    <a:pt x="3562" y="0"/>
                  </a:moveTo>
                  <a:arcTo wR="3562" hR="3562" stAng="16200000" swAng="-5400000"/>
                  <a:lnTo>
                    <a:pt x="0" y="19041"/>
                  </a:lnTo>
                  <a:arcTo wR="3562" hR="3562" stAng="10800000" swAng="-5400000"/>
                  <a:lnTo>
                    <a:pt x="18038" y="22603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533680" y="5532480"/>
              <a:ext cx="449280" cy="469800"/>
            </a:xfrm>
            <a:custGeom>
              <a:avLst/>
              <a:gdLst>
                <a:gd name="textAreaLeft" fmla="*/ 21600 w 449280"/>
                <a:gd name="textAreaRight" fmla="*/ 427680 w 449280"/>
                <a:gd name="textAreaTop" fmla="*/ 21600 h 469800"/>
                <a:gd name="textAreaBottom" fmla="*/ 448200 h 469800"/>
              </a:gdLst>
              <a:ahLst/>
              <a:rect l="textAreaLeft" t="textAreaTop" r="textAreaRight" b="textAreaBottom"/>
              <a:pathLst>
                <a:path w="21600" h="22586">
                  <a:moveTo>
                    <a:pt x="3562" y="0"/>
                  </a:moveTo>
                  <a:arcTo wR="3562" hR="3562" stAng="16200000" swAng="-5400000"/>
                  <a:lnTo>
                    <a:pt x="0" y="19024"/>
                  </a:lnTo>
                  <a:arcTo wR="3562" hR="3562" stAng="10800000" swAng="-5400000"/>
                  <a:lnTo>
                    <a:pt x="18038" y="22586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004760" y="5532480"/>
              <a:ext cx="449280" cy="469800"/>
            </a:xfrm>
            <a:custGeom>
              <a:avLst/>
              <a:gdLst>
                <a:gd name="textAreaLeft" fmla="*/ 21600 w 449280"/>
                <a:gd name="textAreaRight" fmla="*/ 427680 w 449280"/>
                <a:gd name="textAreaTop" fmla="*/ 21600 h 469800"/>
                <a:gd name="textAreaBottom" fmla="*/ 448200 h 469800"/>
              </a:gdLst>
              <a:ahLst/>
              <a:rect l="textAreaLeft" t="textAreaTop" r="textAreaRight" b="textAreaBottom"/>
              <a:pathLst>
                <a:path w="21600" h="22586">
                  <a:moveTo>
                    <a:pt x="3562" y="0"/>
                  </a:moveTo>
                  <a:arcTo wR="3562" hR="3562" stAng="16200000" swAng="-5400000"/>
                  <a:lnTo>
                    <a:pt x="0" y="19024"/>
                  </a:lnTo>
                  <a:arcTo wR="3562" hR="3562" stAng="10800000" swAng="-5400000"/>
                  <a:lnTo>
                    <a:pt x="18038" y="22586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068480" y="4073400"/>
              <a:ext cx="36504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598840" y="4073400"/>
              <a:ext cx="363600" cy="4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598840" y="5575320"/>
              <a:ext cx="3636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68480" y="5575320"/>
              <a:ext cx="36504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914400" y="4964040"/>
              <a:ext cx="215892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Archives Annoté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914400" y="4406760"/>
              <a:ext cx="215892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Modè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6845400" y="3924360"/>
            <a:ext cx="2272680" cy="2158920"/>
            <a:chOff x="6845400" y="3924360"/>
            <a:chExt cx="2272680" cy="2158920"/>
          </a:xfrm>
        </p:grpSpPr>
        <p:sp>
          <p:nvSpPr>
            <p:cNvPr id="695" name=""/>
            <p:cNvSpPr/>
            <p:nvPr/>
          </p:nvSpPr>
          <p:spPr>
            <a:xfrm>
              <a:off x="6845400" y="3924360"/>
              <a:ext cx="1068120" cy="122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913520" y="3924360"/>
              <a:ext cx="1114200" cy="215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962760" y="4019400"/>
              <a:ext cx="445680" cy="468360"/>
            </a:xfrm>
            <a:custGeom>
              <a:avLst/>
              <a:gdLst>
                <a:gd name="textAreaLeft" fmla="*/ 21240 w 445680"/>
                <a:gd name="textAreaRight" fmla="*/ 424440 w 445680"/>
                <a:gd name="textAreaTop" fmla="*/ 21240 h 468360"/>
                <a:gd name="textAreaBottom" fmla="*/ 447120 h 468360"/>
              </a:gdLst>
              <a:ahLst/>
              <a:rect l="textAreaLeft" t="textAreaTop" r="textAreaRight" b="textAreaBottom"/>
              <a:pathLst>
                <a:path w="21600" h="22698">
                  <a:moveTo>
                    <a:pt x="3562" y="0"/>
                  </a:moveTo>
                  <a:arcTo wR="3562" hR="3562" stAng="16200000" swAng="-5400000"/>
                  <a:lnTo>
                    <a:pt x="0" y="19136"/>
                  </a:lnTo>
                  <a:arcTo wR="3562" hR="3562" stAng="10800000" swAng="-5400000"/>
                  <a:lnTo>
                    <a:pt x="18038" y="22698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476920" y="4019400"/>
              <a:ext cx="446040" cy="468360"/>
            </a:xfrm>
            <a:custGeom>
              <a:avLst/>
              <a:gdLst>
                <a:gd name="textAreaLeft" fmla="*/ 21240 w 446040"/>
                <a:gd name="textAreaRight" fmla="*/ 424800 w 446040"/>
                <a:gd name="textAreaTop" fmla="*/ 21240 h 468360"/>
                <a:gd name="textAreaBottom" fmla="*/ 447120 h 468360"/>
              </a:gdLst>
              <a:ahLst/>
              <a:rect l="textAreaLeft" t="textAreaTop" r="textAreaRight" b="textAreaBottom"/>
              <a:pathLst>
                <a:path w="21600" h="22680">
                  <a:moveTo>
                    <a:pt x="3562" y="0"/>
                  </a:moveTo>
                  <a:arcTo wR="3562" hR="3562" stAng="16200000" swAng="-5400000"/>
                  <a:lnTo>
                    <a:pt x="0" y="19118"/>
                  </a:lnTo>
                  <a:arcTo wR="3562" hR="3562" stAng="10800000" swAng="-5400000"/>
                  <a:lnTo>
                    <a:pt x="18038" y="22680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476920" y="5519880"/>
              <a:ext cx="446040" cy="468000"/>
            </a:xfrm>
            <a:custGeom>
              <a:avLst/>
              <a:gdLst>
                <a:gd name="textAreaLeft" fmla="*/ 21240 w 446040"/>
                <a:gd name="textAreaRight" fmla="*/ 424800 w 446040"/>
                <a:gd name="textAreaTop" fmla="*/ 21240 h 468000"/>
                <a:gd name="textAreaBottom" fmla="*/ 446760 h 468000"/>
              </a:gdLst>
              <a:ahLst/>
              <a:rect l="textAreaLeft" t="textAreaTop" r="textAreaRight" b="textAreaBottom"/>
              <a:pathLst>
                <a:path w="21600" h="22663">
                  <a:moveTo>
                    <a:pt x="3562" y="0"/>
                  </a:moveTo>
                  <a:arcTo wR="3562" hR="3562" stAng="16200000" swAng="-5400000"/>
                  <a:lnTo>
                    <a:pt x="0" y="19101"/>
                  </a:lnTo>
                  <a:arcTo wR="3562" hR="3562" stAng="10800000" swAng="-5400000"/>
                  <a:lnTo>
                    <a:pt x="18038" y="22663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962760" y="5519880"/>
              <a:ext cx="445680" cy="468000"/>
            </a:xfrm>
            <a:custGeom>
              <a:avLst/>
              <a:gdLst>
                <a:gd name="textAreaLeft" fmla="*/ 21240 w 445680"/>
                <a:gd name="textAreaRight" fmla="*/ 424440 w 445680"/>
                <a:gd name="textAreaTop" fmla="*/ 21240 h 468000"/>
                <a:gd name="textAreaBottom" fmla="*/ 446760 h 468000"/>
              </a:gdLst>
              <a:ahLst/>
              <a:rect l="textAreaLeft" t="textAreaTop" r="textAreaRight" b="textAreaBottom"/>
              <a:pathLst>
                <a:path w="21600" h="22681">
                  <a:moveTo>
                    <a:pt x="3562" y="0"/>
                  </a:moveTo>
                  <a:arcTo wR="3562" hR="3562" stAng="16200000" swAng="-5400000"/>
                  <a:lnTo>
                    <a:pt x="0" y="19119"/>
                  </a:lnTo>
                  <a:arcTo wR="3562" hR="3562" stAng="10800000" swAng="-5400000"/>
                  <a:lnTo>
                    <a:pt x="18038" y="22681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024680" y="4059360"/>
              <a:ext cx="36468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543880" y="4059360"/>
              <a:ext cx="358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543880" y="5560920"/>
              <a:ext cx="35820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024680" y="5560920"/>
              <a:ext cx="3646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80808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860880" y="4676760"/>
              <a:ext cx="10713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Times New Roman"/>
                </a:rPr>
                <a:t>Nivea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Times New Roman"/>
                </a:rPr>
                <a:t>Intension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870680" y="4676760"/>
              <a:ext cx="1247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Times New Roman"/>
                </a:rPr>
                <a:t>Nivea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Times New Roman"/>
                </a:rPr>
                <a:t>Extensionn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5715000" y="152280"/>
            <a:ext cx="3311280" cy="3311640"/>
            <a:chOff x="5715000" y="152280"/>
            <a:chExt cx="3311280" cy="3311640"/>
          </a:xfrm>
        </p:grpSpPr>
        <p:sp>
          <p:nvSpPr>
            <p:cNvPr id="708" name=""/>
            <p:cNvSpPr/>
            <p:nvPr/>
          </p:nvSpPr>
          <p:spPr>
            <a:xfrm>
              <a:off x="5715000" y="152280"/>
              <a:ext cx="3311280" cy="3311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80808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54680" y="298440"/>
              <a:ext cx="689040" cy="719280"/>
            </a:xfrm>
            <a:custGeom>
              <a:avLst/>
              <a:gdLst>
                <a:gd name="textAreaLeft" fmla="*/ 33120 w 689040"/>
                <a:gd name="textAreaRight" fmla="*/ 655920 w 689040"/>
                <a:gd name="textAreaTop" fmla="*/ 33120 h 719280"/>
                <a:gd name="textAreaBottom" fmla="*/ 686160 h 719280"/>
              </a:gdLst>
              <a:ahLst/>
              <a:rect l="textAreaLeft" t="textAreaTop" r="textAreaRight" b="textAreaBottom"/>
              <a:pathLst>
                <a:path w="21600" h="22547">
                  <a:moveTo>
                    <a:pt x="3562" y="0"/>
                  </a:moveTo>
                  <a:arcTo wR="3562" hR="3562" stAng="16200000" swAng="-5400000"/>
                  <a:lnTo>
                    <a:pt x="0" y="18985"/>
                  </a:lnTo>
                  <a:arcTo wR="3562" hR="3562" stAng="10800000" swAng="-5400000"/>
                  <a:lnTo>
                    <a:pt x="18038" y="22547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197920" y="298440"/>
              <a:ext cx="688680" cy="719280"/>
            </a:xfrm>
            <a:custGeom>
              <a:avLst/>
              <a:gdLst>
                <a:gd name="textAreaLeft" fmla="*/ 33120 w 688680"/>
                <a:gd name="textAreaRight" fmla="*/ 655560 w 688680"/>
                <a:gd name="textAreaTop" fmla="*/ 33120 h 719280"/>
                <a:gd name="textAreaBottom" fmla="*/ 686160 h 719280"/>
              </a:gdLst>
              <a:ahLst/>
              <a:rect l="textAreaLeft" t="textAreaTop" r="textAreaRight" b="textAreaBottom"/>
              <a:pathLst>
                <a:path w="21600" h="22559">
                  <a:moveTo>
                    <a:pt x="3562" y="0"/>
                  </a:moveTo>
                  <a:arcTo wR="3562" hR="3562" stAng="16200000" swAng="-5400000"/>
                  <a:lnTo>
                    <a:pt x="0" y="18997"/>
                  </a:lnTo>
                  <a:arcTo wR="3562" hR="3562" stAng="10800000" swAng="-5400000"/>
                  <a:lnTo>
                    <a:pt x="18038" y="22559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197920" y="2604960"/>
              <a:ext cx="688680" cy="719280"/>
            </a:xfrm>
            <a:custGeom>
              <a:avLst/>
              <a:gdLst>
                <a:gd name="textAreaLeft" fmla="*/ 33120 w 688680"/>
                <a:gd name="textAreaRight" fmla="*/ 655560 w 688680"/>
                <a:gd name="textAreaTop" fmla="*/ 33120 h 719280"/>
                <a:gd name="textAreaBottom" fmla="*/ 686160 h 719280"/>
              </a:gdLst>
              <a:ahLst/>
              <a:rect l="textAreaLeft" t="textAreaTop" r="textAreaRight" b="textAreaBottom"/>
              <a:pathLst>
                <a:path w="21600" h="22559">
                  <a:moveTo>
                    <a:pt x="3562" y="0"/>
                  </a:moveTo>
                  <a:arcTo wR="3562" hR="3562" stAng="16200000" swAng="-5400000"/>
                  <a:lnTo>
                    <a:pt x="0" y="18997"/>
                  </a:lnTo>
                  <a:arcTo wR="3562" hR="3562" stAng="10800000" swAng="-5400000"/>
                  <a:lnTo>
                    <a:pt x="18038" y="22559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854680" y="2604960"/>
              <a:ext cx="689040" cy="719280"/>
            </a:xfrm>
            <a:custGeom>
              <a:avLst/>
              <a:gdLst>
                <a:gd name="textAreaLeft" fmla="*/ 33120 w 689040"/>
                <a:gd name="textAreaRight" fmla="*/ 655920 w 689040"/>
                <a:gd name="textAreaTop" fmla="*/ 33120 h 719280"/>
                <a:gd name="textAreaBottom" fmla="*/ 686160 h 719280"/>
              </a:gdLst>
              <a:ahLst/>
              <a:rect l="textAreaLeft" t="textAreaTop" r="textAreaRight" b="textAreaBottom"/>
              <a:pathLst>
                <a:path w="21600" h="22547">
                  <a:moveTo>
                    <a:pt x="3562" y="0"/>
                  </a:moveTo>
                  <a:arcTo wR="3562" hR="3562" stAng="16200000" swAng="-5400000"/>
                  <a:lnTo>
                    <a:pt x="0" y="18985"/>
                  </a:lnTo>
                  <a:arcTo wR="3562" hR="3562" stAng="10800000" swAng="-5400000"/>
                  <a:lnTo>
                    <a:pt x="18038" y="22547"/>
                  </a:lnTo>
                  <a:arcTo wR="3562" hR="3562" stAng="5400000" swAng="-5400000"/>
                  <a:lnTo>
                    <a:pt x="21600" y="3562"/>
                  </a:lnTo>
                  <a:arcTo wR="3562" hR="3562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951520" y="360360"/>
              <a:ext cx="5619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299440" y="360360"/>
              <a:ext cx="5572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299440" y="2666880"/>
              <a:ext cx="5572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951520" y="2666880"/>
              <a:ext cx="5619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854680" y="1593720"/>
              <a:ext cx="5572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089840" y="2743200"/>
              <a:ext cx="5569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094520" y="442800"/>
              <a:ext cx="5572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335800" y="1593720"/>
              <a:ext cx="56376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2577000">
              <a:off x="6659640" y="1125360"/>
              <a:ext cx="1379520" cy="1441440"/>
            </a:xfrm>
            <a:custGeom>
              <a:avLst/>
              <a:gdLst>
                <a:gd name="textAreaLeft" fmla="*/ 0 w 1379520"/>
                <a:gd name="textAreaRight" fmla="*/ 1379880 w 1379520"/>
                <a:gd name="textAreaTop" fmla="*/ 0 h 1441440"/>
                <a:gd name="textAreaBottom" fmla="*/ 1441800 h 144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699" y="10800"/>
                  </a:moveTo>
                  <a:arcTo wR="-6101" hR="-6101" stAng="-10800000" swAng="-18761082"/>
                  <a:lnTo>
                    <a:pt x="18122" y="18739"/>
                  </a:lnTo>
                  <a:arcTo wR="10800" hR="10800" stAng="2838918" swAng="18761082"/>
                  <a:lnTo>
                    <a:pt x="24300" y="10800"/>
                  </a:lnTo>
                  <a:lnTo>
                    <a:pt x="19251" y="15850"/>
                  </a:lnTo>
                  <a:lnTo>
                    <a:pt x="14201" y="1080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715000" y="1303200"/>
              <a:ext cx="331128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800" spc="-1" strike="noStrike">
                  <a:solidFill>
                    <a:srgbClr val="000000"/>
                  </a:solidFill>
                  <a:latin typeface="Times New Roman"/>
                </a:rPr>
                <a:t>Mémoire</a:t>
              </a:r>
              <a:endParaRPr b="0" lang="en-US" sz="3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0318D-7B9C-49B7-ADED-35CCD705C2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Graphes Conceptuels pour la manipulation de RDF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4920" y="114480"/>
            <a:ext cx="8758080" cy="25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44600">
              <a:lnSpc>
                <a:spcPct val="8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eorgia"/>
              </a:rPr>
              <a:t>RDF </a:t>
            </a:r>
            <a:r>
              <a:rPr b="1" lang="fr-FR" sz="3200" spc="-1" strike="noStrike">
                <a:solidFill>
                  <a:srgbClr val="cc3300"/>
                </a:solidFill>
                <a:latin typeface="Symbol"/>
                <a:ea typeface="Symbol"/>
              </a:rPr>
              <a:t></a:t>
            </a:r>
            <a:r>
              <a:rPr b="1" lang="fr-FR" sz="32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Georgia"/>
              </a:rPr>
              <a:t>Graphes Conceptuel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Combiner les atou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378080" indent="-228600">
              <a:lnSpc>
                <a:spcPct val="80000"/>
              </a:lnSpc>
              <a:spcBef>
                <a:spcPts val="60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RDF Standard description de ressourc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378080" indent="-228600">
              <a:lnSpc>
                <a:spcPct val="80000"/>
              </a:lnSpc>
              <a:spcBef>
                <a:spcPts val="60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Langage de formalisation des GC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Existence d'outils pour les G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Correspondance entre les 2 modèl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1406520" y="2768760"/>
            <a:ext cx="1501920" cy="2293920"/>
            <a:chOff x="1406520" y="2768760"/>
            <a:chExt cx="1501920" cy="2293920"/>
          </a:xfrm>
        </p:grpSpPr>
        <p:sp>
          <p:nvSpPr>
            <p:cNvPr id="726" name=""/>
            <p:cNvSpPr/>
            <p:nvPr/>
          </p:nvSpPr>
          <p:spPr>
            <a:xfrm>
              <a:off x="1460520" y="2768760"/>
              <a:ext cx="1447920" cy="693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667160" y="2809800"/>
              <a:ext cx="986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R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Sche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460520" y="3568680"/>
              <a:ext cx="1447920" cy="693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406520" y="3552840"/>
              <a:ext cx="142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R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Annot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460520" y="4368960"/>
              <a:ext cx="1447920" cy="693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689120" y="4330800"/>
              <a:ext cx="819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R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Qu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739960" y="2730600"/>
            <a:ext cx="1762200" cy="2364120"/>
            <a:chOff x="2739960" y="2730600"/>
            <a:chExt cx="1762200" cy="2364120"/>
          </a:xfrm>
        </p:grpSpPr>
        <p:sp>
          <p:nvSpPr>
            <p:cNvPr id="733" name=""/>
            <p:cNvSpPr/>
            <p:nvPr/>
          </p:nvSpPr>
          <p:spPr>
            <a:xfrm>
              <a:off x="3282840" y="2768760"/>
              <a:ext cx="1219320" cy="693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361320" y="2730600"/>
              <a:ext cx="99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C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Sup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749680" y="2921040"/>
              <a:ext cx="838080" cy="228600"/>
            </a:xfrm>
            <a:custGeom>
              <a:avLst/>
              <a:gdLst>
                <a:gd name="textAreaLeft" fmla="*/ 130680 w 838080"/>
                <a:gd name="textAreaRight" fmla="*/ 733320 w 83808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295800" y="3578040"/>
              <a:ext cx="1182600" cy="694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301920" y="3568680"/>
              <a:ext cx="1181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C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Fact 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749680" y="3683160"/>
              <a:ext cx="838080" cy="228600"/>
            </a:xfrm>
            <a:custGeom>
              <a:avLst/>
              <a:gdLst>
                <a:gd name="textAreaLeft" fmla="*/ 130680 w 838080"/>
                <a:gd name="textAreaRight" fmla="*/ 733320 w 83808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300480" y="4368960"/>
              <a:ext cx="1182600" cy="693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517920" y="4390920"/>
              <a:ext cx="819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Qu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Grap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739960" y="4645080"/>
              <a:ext cx="838440" cy="228600"/>
            </a:xfrm>
            <a:custGeom>
              <a:avLst/>
              <a:gdLst>
                <a:gd name="textAreaLeft" fmla="*/ 131040 w 838440"/>
                <a:gd name="textAreaRight" fmla="*/ 733680 w 83844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4140360" y="2959200"/>
            <a:ext cx="2008080" cy="1933200"/>
            <a:chOff x="4140360" y="2959200"/>
            <a:chExt cx="2008080" cy="1933200"/>
          </a:xfrm>
        </p:grpSpPr>
        <p:sp>
          <p:nvSpPr>
            <p:cNvPr id="743" name=""/>
            <p:cNvSpPr/>
            <p:nvPr/>
          </p:nvSpPr>
          <p:spPr>
            <a:xfrm>
              <a:off x="4672080" y="3578040"/>
              <a:ext cx="1476360" cy="694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902480" y="3568680"/>
              <a:ext cx="92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C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5400000">
              <a:off x="4387680" y="2997000"/>
              <a:ext cx="685800" cy="6098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167" stAng="10800000" swAng="5400000"/>
                  <a:lnTo>
                    <a:pt x="14849" y="3993"/>
                  </a:lnTo>
                  <a:lnTo>
                    <a:pt x="14849" y="0"/>
                  </a:lnTo>
                  <a:lnTo>
                    <a:pt x="21600" y="6079"/>
                  </a:lnTo>
                  <a:lnTo>
                    <a:pt x="14849" y="12158"/>
                  </a:lnTo>
                  <a:lnTo>
                    <a:pt x="14849" y="8165"/>
                  </a:lnTo>
                  <a:lnTo>
                    <a:pt x="12427" y="8165"/>
                  </a:lnTo>
                  <a:arcTo wR="8255" hR="3995" stAng="16200000" swAng="-5400000"/>
                  <a:lnTo>
                    <a:pt x="4172" y="2160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 rot="16200000">
              <a:off x="4373280" y="4229640"/>
              <a:ext cx="714600" cy="609840"/>
            </a:xfrm>
            <a:custGeom>
              <a:avLst/>
              <a:gdLst>
                <a:gd name="textAreaLeft" fmla="*/ 0 w 714600"/>
                <a:gd name="textAreaRight" fmla="*/ 714960 w 714600"/>
                <a:gd name="textAreaTop" fmla="*/ 360 h 609840"/>
                <a:gd name="textAreaBottom" fmla="*/ 6105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167" stAng="10800000" swAng="5400000"/>
                  <a:lnTo>
                    <a:pt x="14688" y="3993"/>
                  </a:lnTo>
                  <a:lnTo>
                    <a:pt x="14688" y="0"/>
                  </a:lnTo>
                  <a:lnTo>
                    <a:pt x="21600" y="6079"/>
                  </a:lnTo>
                  <a:lnTo>
                    <a:pt x="14688" y="12158"/>
                  </a:lnTo>
                  <a:lnTo>
                    <a:pt x="14688" y="8165"/>
                  </a:lnTo>
                  <a:lnTo>
                    <a:pt x="12427" y="8165"/>
                  </a:lnTo>
                  <a:arcTo wR="8255" hR="3995" stAng="16200000" swAng="-5400000"/>
                  <a:lnTo>
                    <a:pt x="4172" y="2160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140360" y="3673440"/>
              <a:ext cx="596880" cy="276120"/>
            </a:xfrm>
            <a:prstGeom prst="rightArrow">
              <a:avLst>
                <a:gd name="adj1" fmla="val 50000"/>
                <a:gd name="adj2" fmla="val 54042"/>
              </a:avLst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5950080" y="3568680"/>
            <a:ext cx="1898640" cy="703800"/>
            <a:chOff x="5950080" y="3568680"/>
            <a:chExt cx="1898640" cy="703800"/>
          </a:xfrm>
        </p:grpSpPr>
        <p:sp>
          <p:nvSpPr>
            <p:cNvPr id="749" name=""/>
            <p:cNvSpPr/>
            <p:nvPr/>
          </p:nvSpPr>
          <p:spPr>
            <a:xfrm>
              <a:off x="6594480" y="3578040"/>
              <a:ext cx="1254240" cy="694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766200" y="3568680"/>
              <a:ext cx="92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R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950080" y="3835440"/>
              <a:ext cx="914400" cy="228600"/>
            </a:xfrm>
            <a:custGeom>
              <a:avLst/>
              <a:gdLst>
                <a:gd name="textAreaLeft" fmla="*/ 142920 w 914400"/>
                <a:gd name="textAreaRight" fmla="*/ 800280 w 91440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304920" y="5308560"/>
            <a:ext cx="9067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20880" indent="-28584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Prototype moteur de recherche sémant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Tests annotations et ont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API : Modules à intégrer (ex: dans les agent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3054240" y="2666880"/>
            <a:ext cx="4337280" cy="2603520"/>
            <a:chOff x="3054240" y="2666880"/>
            <a:chExt cx="4337280" cy="2603520"/>
          </a:xfrm>
        </p:grpSpPr>
        <p:sp>
          <p:nvSpPr>
            <p:cNvPr id="754" name=""/>
            <p:cNvSpPr/>
            <p:nvPr/>
          </p:nvSpPr>
          <p:spPr>
            <a:xfrm>
              <a:off x="3054240" y="2666880"/>
              <a:ext cx="3276720" cy="2524320"/>
            </a:xfrm>
            <a:prstGeom prst="rect">
              <a:avLst/>
            </a:pr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67280" y="4813200"/>
              <a:ext cx="15242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5905440" y="4861080"/>
              <a:ext cx="380880" cy="383760"/>
              <a:chOff x="5905440" y="4861080"/>
              <a:chExt cx="380880" cy="383760"/>
            </a:xfrm>
          </p:grpSpPr>
          <p:sp>
            <p:nvSpPr>
              <p:cNvPr id="757" name=""/>
              <p:cNvSpPr/>
              <p:nvPr/>
            </p:nvSpPr>
            <p:spPr>
              <a:xfrm>
                <a:off x="6094800" y="4861080"/>
                <a:ext cx="191520" cy="286560"/>
              </a:xfrm>
              <a:prstGeom prst="can">
                <a:avLst>
                  <a:gd name="adj" fmla="val 25000"/>
                </a:avLst>
              </a:prstGeom>
              <a:solidFill>
                <a:srgbClr val="cc33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8" name=""/>
              <p:cNvGrpSpPr/>
              <p:nvPr/>
            </p:nvGrpSpPr>
            <p:grpSpPr>
              <a:xfrm>
                <a:off x="5905440" y="4916520"/>
                <a:ext cx="335160" cy="328320"/>
                <a:chOff x="5905440" y="4916520"/>
                <a:chExt cx="335160" cy="328320"/>
              </a:xfrm>
            </p:grpSpPr>
            <p:grpSp>
              <p:nvGrpSpPr>
                <p:cNvPr id="759" name=""/>
                <p:cNvGrpSpPr/>
                <p:nvPr/>
              </p:nvGrpSpPr>
              <p:grpSpPr>
                <a:xfrm>
                  <a:off x="6096960" y="5091840"/>
                  <a:ext cx="143640" cy="153000"/>
                  <a:chOff x="6096960" y="5091840"/>
                  <a:chExt cx="143640" cy="153000"/>
                </a:xfrm>
              </p:grpSpPr>
              <p:sp>
                <p:nvSpPr>
                  <p:cNvPr id="760" name=""/>
                  <p:cNvSpPr/>
                  <p:nvPr/>
                </p:nvSpPr>
                <p:spPr>
                  <a:xfrm>
                    <a:off x="6096960" y="5091840"/>
                    <a:ext cx="143640" cy="153000"/>
                  </a:xfrm>
                  <a:custGeom>
                    <a:avLst/>
                    <a:gdLst>
                      <a:gd name="textAreaLeft" fmla="*/ 38160 w 143640"/>
                      <a:gd name="textAreaRight" fmla="*/ 105480 w 143640"/>
                      <a:gd name="textAreaTop" fmla="*/ 40680 h 153000"/>
                      <a:gd name="textAreaBottom" fmla="*/ 112320 h 1530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3791" y="12162"/>
                        </a:lnTo>
                        <a:lnTo>
                          <a:pt x="786" y="14846"/>
                        </a:lnTo>
                        <a:lnTo>
                          <a:pt x="4812" y="14689"/>
                        </a:lnTo>
                        <a:lnTo>
                          <a:pt x="3163" y="18437"/>
                        </a:lnTo>
                        <a:lnTo>
                          <a:pt x="6807" y="16719"/>
                        </a:lnTo>
                        <a:lnTo>
                          <a:pt x="6580" y="20741"/>
                        </a:lnTo>
                        <a:lnTo>
                          <a:pt x="9316" y="17784"/>
                        </a:lnTo>
                        <a:lnTo>
                          <a:pt x="10800" y="21600"/>
                        </a:lnTo>
                        <a:lnTo>
                          <a:pt x="12162" y="17809"/>
                        </a:lnTo>
                        <a:lnTo>
                          <a:pt x="14846" y="20814"/>
                        </a:lnTo>
                        <a:lnTo>
                          <a:pt x="14689" y="16788"/>
                        </a:lnTo>
                        <a:lnTo>
                          <a:pt x="18437" y="18437"/>
                        </a:lnTo>
                        <a:lnTo>
                          <a:pt x="16719" y="14793"/>
                        </a:lnTo>
                        <a:lnTo>
                          <a:pt x="20741" y="15020"/>
                        </a:lnTo>
                        <a:lnTo>
                          <a:pt x="17784" y="12284"/>
                        </a:lnTo>
                        <a:lnTo>
                          <a:pt x="21600" y="10800"/>
                        </a:lnTo>
                        <a:lnTo>
                          <a:pt x="17809" y="9438"/>
                        </a:lnTo>
                        <a:lnTo>
                          <a:pt x="20814" y="6754"/>
                        </a:lnTo>
                        <a:lnTo>
                          <a:pt x="16788" y="6911"/>
                        </a:lnTo>
                        <a:lnTo>
                          <a:pt x="18437" y="3163"/>
                        </a:lnTo>
                        <a:lnTo>
                          <a:pt x="14793" y="4881"/>
                        </a:lnTo>
                        <a:lnTo>
                          <a:pt x="15020" y="859"/>
                        </a:lnTo>
                        <a:lnTo>
                          <a:pt x="12284" y="3816"/>
                        </a:lnTo>
                        <a:lnTo>
                          <a:pt x="10800" y="0"/>
                        </a:lnTo>
                        <a:lnTo>
                          <a:pt x="9438" y="3791"/>
                        </a:lnTo>
                        <a:lnTo>
                          <a:pt x="6754" y="786"/>
                        </a:lnTo>
                        <a:lnTo>
                          <a:pt x="6911" y="4812"/>
                        </a:lnTo>
                        <a:lnTo>
                          <a:pt x="3163" y="3163"/>
                        </a:lnTo>
                        <a:lnTo>
                          <a:pt x="4881" y="6807"/>
                        </a:lnTo>
                        <a:lnTo>
                          <a:pt x="859" y="6580"/>
                        </a:lnTo>
                        <a:lnTo>
                          <a:pt x="3816" y="9316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6154200" y="5154120"/>
                    <a:ext cx="28440" cy="28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2" name=""/>
                <p:cNvGrpSpPr/>
                <p:nvPr/>
              </p:nvGrpSpPr>
              <p:grpSpPr>
                <a:xfrm>
                  <a:off x="5905440" y="4916520"/>
                  <a:ext cx="250560" cy="258120"/>
                  <a:chOff x="5905440" y="4916520"/>
                  <a:chExt cx="250560" cy="258120"/>
                </a:xfrm>
              </p:grpSpPr>
              <p:sp>
                <p:nvSpPr>
                  <p:cNvPr id="763" name=""/>
                  <p:cNvSpPr/>
                  <p:nvPr/>
                </p:nvSpPr>
                <p:spPr>
                  <a:xfrm>
                    <a:off x="5905440" y="4916520"/>
                    <a:ext cx="250560" cy="258120"/>
                  </a:xfrm>
                  <a:custGeom>
                    <a:avLst/>
                    <a:gdLst>
                      <a:gd name="textAreaLeft" fmla="*/ 57240 w 250560"/>
                      <a:gd name="textAreaRight" fmla="*/ 193320 w 250560"/>
                      <a:gd name="textAreaTop" fmla="*/ 58680 h 258120"/>
                      <a:gd name="textAreaBottom" fmla="*/ 199440 h 258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562" y="11812"/>
                        </a:lnTo>
                        <a:lnTo>
                          <a:pt x="368" y="13595"/>
                        </a:lnTo>
                        <a:lnTo>
                          <a:pt x="3104" y="13909"/>
                        </a:lnTo>
                        <a:lnTo>
                          <a:pt x="1447" y="16200"/>
                        </a:lnTo>
                        <a:lnTo>
                          <a:pt x="4171" y="15795"/>
                        </a:lnTo>
                        <a:lnTo>
                          <a:pt x="3163" y="18437"/>
                        </a:lnTo>
                        <a:lnTo>
                          <a:pt x="5690" y="17340"/>
                        </a:lnTo>
                        <a:lnTo>
                          <a:pt x="5400" y="20153"/>
                        </a:lnTo>
                        <a:lnTo>
                          <a:pt x="7557" y="18440"/>
                        </a:lnTo>
                        <a:lnTo>
                          <a:pt x="8005" y="21232"/>
                        </a:lnTo>
                        <a:lnTo>
                          <a:pt x="9645" y="19019"/>
                        </a:lnTo>
                        <a:lnTo>
                          <a:pt x="10800" y="21600"/>
                        </a:lnTo>
                        <a:lnTo>
                          <a:pt x="11812" y="19038"/>
                        </a:lnTo>
                        <a:lnTo>
                          <a:pt x="13595" y="21232"/>
                        </a:lnTo>
                        <a:lnTo>
                          <a:pt x="13909" y="18496"/>
                        </a:lnTo>
                        <a:lnTo>
                          <a:pt x="16200" y="20153"/>
                        </a:lnTo>
                        <a:lnTo>
                          <a:pt x="15795" y="17429"/>
                        </a:lnTo>
                        <a:lnTo>
                          <a:pt x="18437" y="18437"/>
                        </a:lnTo>
                        <a:lnTo>
                          <a:pt x="17340" y="15910"/>
                        </a:lnTo>
                        <a:lnTo>
                          <a:pt x="20153" y="16200"/>
                        </a:lnTo>
                        <a:lnTo>
                          <a:pt x="18440" y="14043"/>
                        </a:lnTo>
                        <a:lnTo>
                          <a:pt x="21232" y="13595"/>
                        </a:lnTo>
                        <a:lnTo>
                          <a:pt x="19019" y="11955"/>
                        </a:lnTo>
                        <a:lnTo>
                          <a:pt x="21600" y="10800"/>
                        </a:lnTo>
                        <a:lnTo>
                          <a:pt x="19038" y="9788"/>
                        </a:lnTo>
                        <a:lnTo>
                          <a:pt x="21232" y="8005"/>
                        </a:lnTo>
                        <a:lnTo>
                          <a:pt x="18496" y="7691"/>
                        </a:lnTo>
                        <a:lnTo>
                          <a:pt x="20153" y="5400"/>
                        </a:lnTo>
                        <a:lnTo>
                          <a:pt x="17429" y="5805"/>
                        </a:lnTo>
                        <a:lnTo>
                          <a:pt x="18437" y="3163"/>
                        </a:lnTo>
                        <a:lnTo>
                          <a:pt x="15910" y="4260"/>
                        </a:lnTo>
                        <a:lnTo>
                          <a:pt x="16200" y="1447"/>
                        </a:lnTo>
                        <a:lnTo>
                          <a:pt x="14043" y="3160"/>
                        </a:lnTo>
                        <a:lnTo>
                          <a:pt x="13595" y="368"/>
                        </a:lnTo>
                        <a:lnTo>
                          <a:pt x="11955" y="2581"/>
                        </a:lnTo>
                        <a:lnTo>
                          <a:pt x="10800" y="0"/>
                        </a:lnTo>
                        <a:lnTo>
                          <a:pt x="9788" y="2562"/>
                        </a:lnTo>
                        <a:lnTo>
                          <a:pt x="8005" y="368"/>
                        </a:lnTo>
                        <a:lnTo>
                          <a:pt x="7691" y="3104"/>
                        </a:lnTo>
                        <a:lnTo>
                          <a:pt x="5400" y="1447"/>
                        </a:lnTo>
                        <a:lnTo>
                          <a:pt x="5805" y="4171"/>
                        </a:lnTo>
                        <a:lnTo>
                          <a:pt x="3163" y="3163"/>
                        </a:lnTo>
                        <a:lnTo>
                          <a:pt x="4260" y="5690"/>
                        </a:lnTo>
                        <a:lnTo>
                          <a:pt x="1447" y="5400"/>
                        </a:lnTo>
                        <a:lnTo>
                          <a:pt x="3160" y="7557"/>
                        </a:lnTo>
                        <a:lnTo>
                          <a:pt x="368" y="8005"/>
                        </a:lnTo>
                        <a:lnTo>
                          <a:pt x="2581" y="9645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6011640" y="5026320"/>
                    <a:ext cx="38160" cy="381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765" name=""/>
            <p:cNvSpPr/>
            <p:nvPr/>
          </p:nvSpPr>
          <p:spPr>
            <a:xfrm>
              <a:off x="6157080" y="4835520"/>
              <a:ext cx="121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Georgia"/>
                </a:rPr>
                <a:t>CORE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7686-DDB0-485B-8F78-60819C5F83D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Les quatre grandes étapes de la conception 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371600" y="-126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a) Scénarios et Recue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b) Du semi-informel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au semi-form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39960" y="38098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c) R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371600" y="546084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d) Navigation et U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tleft1" descr=""/>
          <p:cNvPicPr/>
          <p:nvPr/>
        </p:nvPicPr>
        <p:blipFill>
          <a:blip r:embed="rId6"/>
          <a:stretch/>
        </p:blipFill>
        <p:spPr>
          <a:xfrm>
            <a:off x="3476520" y="4752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776" name="tright1" descr=""/>
          <p:cNvPicPr/>
          <p:nvPr/>
        </p:nvPicPr>
        <p:blipFill>
          <a:blip r:embed="rId7"/>
          <a:stretch/>
        </p:blipFill>
        <p:spPr>
          <a:xfrm>
            <a:off x="8953560" y="144792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777" name="tleft1" descr=""/>
          <p:cNvPicPr/>
          <p:nvPr/>
        </p:nvPicPr>
        <p:blipFill>
          <a:blip r:embed="rId8"/>
          <a:stretch/>
        </p:blipFill>
        <p:spPr>
          <a:xfrm>
            <a:off x="3476520" y="164772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778" name="tright1" descr=""/>
          <p:cNvPicPr/>
          <p:nvPr/>
        </p:nvPicPr>
        <p:blipFill>
          <a:blip r:embed="rId9"/>
          <a:stretch/>
        </p:blipFill>
        <p:spPr>
          <a:xfrm>
            <a:off x="8953560" y="377208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779" name="tleft1" descr=""/>
          <p:cNvPicPr/>
          <p:nvPr/>
        </p:nvPicPr>
        <p:blipFill>
          <a:blip r:embed="rId10"/>
          <a:stretch/>
        </p:blipFill>
        <p:spPr>
          <a:xfrm>
            <a:off x="3476520" y="393372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780" name="tright1" descr=""/>
          <p:cNvPicPr/>
          <p:nvPr/>
        </p:nvPicPr>
        <p:blipFill>
          <a:blip r:embed="rId11"/>
          <a:stretch/>
        </p:blipFill>
        <p:spPr>
          <a:xfrm>
            <a:off x="8953560" y="544824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781" name="tleft1" descr=""/>
          <p:cNvPicPr/>
          <p:nvPr/>
        </p:nvPicPr>
        <p:blipFill>
          <a:blip r:embed="rId12"/>
          <a:stretch/>
        </p:blipFill>
        <p:spPr>
          <a:xfrm>
            <a:off x="3476520" y="561024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782" name="tright1" descr=""/>
          <p:cNvPicPr/>
          <p:nvPr/>
        </p:nvPicPr>
        <p:blipFill>
          <a:blip r:embed="rId13"/>
          <a:stretch/>
        </p:blipFill>
        <p:spPr>
          <a:xfrm>
            <a:off x="8953560" y="6095880"/>
            <a:ext cx="114120" cy="11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BD936-47CA-488D-842C-92ED1236B1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Scénarios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788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Scénarios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9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790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7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97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371600" y="-126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a) Scénarios et Recue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b) Du semi-informel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au semi-form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939960" y="38098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c) R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371600" y="546084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d) Navigation et U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2" name="tleft1" descr=""/>
          <p:cNvPicPr/>
          <p:nvPr/>
        </p:nvPicPr>
        <p:blipFill>
          <a:blip r:embed="rId6"/>
          <a:stretch/>
        </p:blipFill>
        <p:spPr>
          <a:xfrm>
            <a:off x="3476520" y="164772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803" name="tright1" descr=""/>
          <p:cNvPicPr/>
          <p:nvPr/>
        </p:nvPicPr>
        <p:blipFill>
          <a:blip r:embed="rId7"/>
          <a:stretch/>
        </p:blipFill>
        <p:spPr>
          <a:xfrm>
            <a:off x="8953560" y="377208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804" name="tleft1" descr=""/>
          <p:cNvPicPr/>
          <p:nvPr/>
        </p:nvPicPr>
        <p:blipFill>
          <a:blip r:embed="rId8"/>
          <a:stretch/>
        </p:blipFill>
        <p:spPr>
          <a:xfrm>
            <a:off x="3476520" y="393372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805" name="tright1" descr=""/>
          <p:cNvPicPr/>
          <p:nvPr/>
        </p:nvPicPr>
        <p:blipFill>
          <a:blip r:embed="rId9"/>
          <a:stretch/>
        </p:blipFill>
        <p:spPr>
          <a:xfrm>
            <a:off x="8953560" y="544824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806" name="tleft1" descr=""/>
          <p:cNvPicPr/>
          <p:nvPr/>
        </p:nvPicPr>
        <p:blipFill>
          <a:blip r:embed="rId10"/>
          <a:stretch/>
        </p:blipFill>
        <p:spPr>
          <a:xfrm>
            <a:off x="3476520" y="561024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807" name="tright1" descr=""/>
          <p:cNvPicPr/>
          <p:nvPr/>
        </p:nvPicPr>
        <p:blipFill>
          <a:blip r:embed="rId11"/>
          <a:stretch/>
        </p:blipFill>
        <p:spPr>
          <a:xfrm>
            <a:off x="8953560" y="6095880"/>
            <a:ext cx="114120" cy="11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38A12-A133-4061-A458-842BA6D314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Tableau d'étude des scénarios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1066680" y="717480"/>
          <a:ext cx="7772400" cy="4921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717480"/>
                    <a:ext cx="777240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1" name=""/>
          <p:cNvSpPr/>
          <p:nvPr/>
        </p:nvSpPr>
        <p:spPr>
          <a:xfrm>
            <a:off x="1117440" y="1292400"/>
            <a:ext cx="1181160" cy="3808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892840" y="1114560"/>
            <a:ext cx="1168200" cy="7110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04920" y="548640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Aspects à considé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Les utilisateurs finaux </a:t>
            </a:r>
            <a:r>
              <a:rPr b="0" lang="fr-FR" sz="2800" spc="-1" strike="noStrike">
                <a:solidFill>
                  <a:srgbClr val="9900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 Rap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04920" y="1522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82760" indent="-444600">
              <a:lnSpc>
                <a:spcPct val="10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eorgia"/>
              </a:rPr>
              <a:t>Analyse par scénarios textu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5F577-652E-4263-8AA6-04A3257CEC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Exemple de contenu de rapport de scénario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701720" y="152280"/>
            <a:ext cx="6782040" cy="5257800"/>
          </a:xfrm>
          <a:prstGeom prst="flowChartDocumen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2"/>
          <a:stretch/>
        </p:blipFill>
        <p:spPr>
          <a:xfrm>
            <a:off x="1762200" y="228600"/>
            <a:ext cx="6619680" cy="4094280"/>
          </a:xfrm>
          <a:prstGeom prst="rect">
            <a:avLst/>
          </a:prstGeom>
          <a:ln w="0">
            <a:noFill/>
          </a:ln>
        </p:spPr>
      </p:pic>
      <p:grpSp>
        <p:nvGrpSpPr>
          <p:cNvPr id="818" name=""/>
          <p:cNvGrpSpPr/>
          <p:nvPr/>
        </p:nvGrpSpPr>
        <p:grpSpPr>
          <a:xfrm>
            <a:off x="1914480" y="236520"/>
            <a:ext cx="2352600" cy="5785920"/>
            <a:chOff x="1914480" y="236520"/>
            <a:chExt cx="2352600" cy="5785920"/>
          </a:xfrm>
        </p:grpSpPr>
        <p:sp>
          <p:nvSpPr>
            <p:cNvPr id="819" name=""/>
            <p:cNvSpPr/>
            <p:nvPr/>
          </p:nvSpPr>
          <p:spPr>
            <a:xfrm>
              <a:off x="2133720" y="236520"/>
              <a:ext cx="2133360" cy="190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914480" y="55627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990000"/>
                  </a:solidFill>
                  <a:latin typeface="Times New Roman"/>
                </a:rPr>
                <a:t>Docu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2133720" y="1027080"/>
            <a:ext cx="3057480" cy="4995360"/>
            <a:chOff x="2133720" y="1027080"/>
            <a:chExt cx="3057480" cy="4995360"/>
          </a:xfrm>
        </p:grpSpPr>
        <p:sp>
          <p:nvSpPr>
            <p:cNvPr id="822" name=""/>
            <p:cNvSpPr/>
            <p:nvPr/>
          </p:nvSpPr>
          <p:spPr>
            <a:xfrm>
              <a:off x="2133720" y="1027080"/>
              <a:ext cx="1447560" cy="228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591000" y="5562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990000"/>
                  </a:solidFill>
                  <a:latin typeface="Times New Roman"/>
                </a:rPr>
                <a:t>Evén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"/>
          <p:cNvGrpSpPr/>
          <p:nvPr/>
        </p:nvGrpSpPr>
        <p:grpSpPr>
          <a:xfrm>
            <a:off x="2676600" y="3408480"/>
            <a:ext cx="3720960" cy="2613960"/>
            <a:chOff x="2676600" y="3408480"/>
            <a:chExt cx="3720960" cy="2613960"/>
          </a:xfrm>
        </p:grpSpPr>
        <p:sp>
          <p:nvSpPr>
            <p:cNvPr id="825" name=""/>
            <p:cNvSpPr/>
            <p:nvPr/>
          </p:nvSpPr>
          <p:spPr>
            <a:xfrm>
              <a:off x="2676600" y="3408480"/>
              <a:ext cx="1133280" cy="2286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267160" y="5562720"/>
              <a:ext cx="113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990000"/>
                  </a:solidFill>
                  <a:latin typeface="Times New Roman"/>
                </a:rPr>
                <a:t>Rô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2514600" y="569880"/>
            <a:ext cx="5857920" cy="5452560"/>
            <a:chOff x="2514600" y="569880"/>
            <a:chExt cx="5857920" cy="5452560"/>
          </a:xfrm>
        </p:grpSpPr>
        <p:sp>
          <p:nvSpPr>
            <p:cNvPr id="828" name=""/>
            <p:cNvSpPr/>
            <p:nvPr/>
          </p:nvSpPr>
          <p:spPr>
            <a:xfrm>
              <a:off x="7629480" y="5562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66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020000" y="569880"/>
              <a:ext cx="1295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514600" y="2398680"/>
              <a:ext cx="2743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191280" y="3598920"/>
              <a:ext cx="990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6600" y="2979720"/>
              <a:ext cx="762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867280" y="2979720"/>
              <a:ext cx="9144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114800" y="3960720"/>
              <a:ext cx="13716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781680" y="2741760"/>
              <a:ext cx="1447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153200" y="3780000"/>
              <a:ext cx="1219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3124080" y="4122720"/>
            <a:ext cx="4340160" cy="1899720"/>
            <a:chOff x="3124080" y="4122720"/>
            <a:chExt cx="4340160" cy="1899720"/>
          </a:xfrm>
        </p:grpSpPr>
        <p:sp>
          <p:nvSpPr>
            <p:cNvPr id="838" name=""/>
            <p:cNvSpPr/>
            <p:nvPr/>
          </p:nvSpPr>
          <p:spPr>
            <a:xfrm>
              <a:off x="3124080" y="4122720"/>
              <a:ext cx="1305000" cy="220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181560" y="556272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990000"/>
                  </a:solidFill>
                  <a:latin typeface="Times New Roman"/>
                </a:rPr>
                <a:t>Fon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AAF9B-C1FB-4DC6-A25D-18347C9F07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3441600" y="12600"/>
            <a:ext cx="5639040" cy="158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Les entretiens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845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Scénarios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847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85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54" name=""/>
          <p:cNvGrpSpPr/>
          <p:nvPr/>
        </p:nvGrpSpPr>
        <p:grpSpPr>
          <a:xfrm>
            <a:off x="4597560" y="71280"/>
            <a:ext cx="1141200" cy="1555920"/>
            <a:chOff x="4597560" y="71280"/>
            <a:chExt cx="1141200" cy="1555920"/>
          </a:xfrm>
        </p:grpSpPr>
        <p:grpSp>
          <p:nvGrpSpPr>
            <p:cNvPr id="855" name=""/>
            <p:cNvGrpSpPr/>
            <p:nvPr/>
          </p:nvGrpSpPr>
          <p:grpSpPr>
            <a:xfrm>
              <a:off x="4707000" y="71280"/>
              <a:ext cx="950760" cy="1195560"/>
              <a:chOff x="4707000" y="71280"/>
              <a:chExt cx="950760" cy="1195560"/>
            </a:xfrm>
          </p:grpSpPr>
          <p:sp>
            <p:nvSpPr>
              <p:cNvPr id="856" name=""/>
              <p:cNvSpPr/>
              <p:nvPr/>
            </p:nvSpPr>
            <p:spPr>
              <a:xfrm>
                <a:off x="4707000" y="71280"/>
                <a:ext cx="950760" cy="1195560"/>
              </a:xfrm>
              <a:prstGeom prst="foldedCorner">
                <a:avLst>
                  <a:gd name="adj" fmla="val 527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5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721760" y="87120"/>
                <a:ext cx="894240" cy="113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58" name=""/>
              <p:cNvGrpSpPr/>
              <p:nvPr/>
            </p:nvGrpSpPr>
            <p:grpSpPr>
              <a:xfrm>
                <a:off x="4781160" y="271080"/>
                <a:ext cx="831960" cy="844200"/>
                <a:chOff x="4781160" y="271080"/>
                <a:chExt cx="831960" cy="844200"/>
              </a:xfrm>
            </p:grpSpPr>
            <p:sp>
              <p:nvSpPr>
                <p:cNvPr id="859" name=""/>
                <p:cNvSpPr/>
                <p:nvPr/>
              </p:nvSpPr>
              <p:spPr>
                <a:xfrm>
                  <a:off x="5531400" y="271080"/>
                  <a:ext cx="7416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4781160" y="313200"/>
                  <a:ext cx="401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5390280" y="313200"/>
                  <a:ext cx="2077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4781160" y="361800"/>
                  <a:ext cx="104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5171040" y="600120"/>
                  <a:ext cx="4309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4786560" y="644760"/>
                  <a:ext cx="178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4879440" y="69120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5122800" y="975960"/>
                  <a:ext cx="4903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4790160" y="1020240"/>
                  <a:ext cx="817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4795920" y="1067040"/>
                  <a:ext cx="4158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5061600" y="111528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0" name=""/>
              <p:cNvGrpSpPr/>
              <p:nvPr/>
            </p:nvGrpSpPr>
            <p:grpSpPr>
              <a:xfrm>
                <a:off x="4781160" y="836640"/>
                <a:ext cx="831960" cy="42480"/>
                <a:chOff x="4781160" y="836640"/>
                <a:chExt cx="831960" cy="4248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5063400" y="836640"/>
                  <a:ext cx="54972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4781160" y="879120"/>
                  <a:ext cx="34164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3" name=""/>
              <p:cNvGrpSpPr/>
              <p:nvPr/>
            </p:nvGrpSpPr>
            <p:grpSpPr>
              <a:xfrm>
                <a:off x="4781160" y="459000"/>
                <a:ext cx="831960" cy="48240"/>
                <a:chOff x="4781160" y="459000"/>
                <a:chExt cx="831960" cy="4824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5078160" y="459000"/>
                  <a:ext cx="41580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5583600" y="459000"/>
                  <a:ext cx="2952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4781160" y="507240"/>
                  <a:ext cx="38628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77" name=""/>
            <p:cNvSpPr/>
            <p:nvPr/>
          </p:nvSpPr>
          <p:spPr>
            <a:xfrm>
              <a:off x="4597560" y="1263600"/>
              <a:ext cx="114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Entreti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371600" y="-126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a) Scénarios et Recue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b) Du semi-informel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au semi-form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939960" y="38098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c) R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371600" y="546084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d) Navigation et U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3" name="tleft1" descr=""/>
          <p:cNvPicPr/>
          <p:nvPr/>
        </p:nvPicPr>
        <p:blipFill>
          <a:blip r:embed="rId7"/>
          <a:stretch/>
        </p:blipFill>
        <p:spPr>
          <a:xfrm>
            <a:off x="3476520" y="164772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884" name="tright1" descr=""/>
          <p:cNvPicPr/>
          <p:nvPr/>
        </p:nvPicPr>
        <p:blipFill>
          <a:blip r:embed="rId8"/>
          <a:stretch/>
        </p:blipFill>
        <p:spPr>
          <a:xfrm>
            <a:off x="8953560" y="377208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885" name="tleft1" descr=""/>
          <p:cNvPicPr/>
          <p:nvPr/>
        </p:nvPicPr>
        <p:blipFill>
          <a:blip r:embed="rId9"/>
          <a:stretch/>
        </p:blipFill>
        <p:spPr>
          <a:xfrm>
            <a:off x="3476520" y="393372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886" name="tright1" descr=""/>
          <p:cNvPicPr/>
          <p:nvPr/>
        </p:nvPicPr>
        <p:blipFill>
          <a:blip r:embed="rId10"/>
          <a:stretch/>
        </p:blipFill>
        <p:spPr>
          <a:xfrm>
            <a:off x="8953560" y="544824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887" name="tleft1" descr=""/>
          <p:cNvPicPr/>
          <p:nvPr/>
        </p:nvPicPr>
        <p:blipFill>
          <a:blip r:embed="rId11"/>
          <a:stretch/>
        </p:blipFill>
        <p:spPr>
          <a:xfrm>
            <a:off x="3476520" y="561024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888" name="tright1" descr=""/>
          <p:cNvPicPr/>
          <p:nvPr/>
        </p:nvPicPr>
        <p:blipFill>
          <a:blip r:embed="rId12"/>
          <a:stretch/>
        </p:blipFill>
        <p:spPr>
          <a:xfrm>
            <a:off x="8953560" y="6095880"/>
            <a:ext cx="114120" cy="11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1B392-62D7-4B62-8B79-4B535E83F2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Entretien semi-structuré &amp; exemple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253800" y="0"/>
            <a:ext cx="883908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73040" indent="-435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Guide et conseils pour l'entretie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73040" indent="-435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Semi-structuré (individuel / groupe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1295280" y="1371600"/>
            <a:ext cx="3730680" cy="4800600"/>
            <a:chOff x="1295280" y="1371600"/>
            <a:chExt cx="3730680" cy="4800600"/>
          </a:xfrm>
        </p:grpSpPr>
        <p:sp>
          <p:nvSpPr>
            <p:cNvPr id="892" name=""/>
            <p:cNvSpPr/>
            <p:nvPr/>
          </p:nvSpPr>
          <p:spPr>
            <a:xfrm>
              <a:off x="1295280" y="1371600"/>
              <a:ext cx="3730680" cy="4800600"/>
            </a:xfrm>
            <a:prstGeom prst="foldedCorner">
              <a:avLst>
                <a:gd name="adj" fmla="val 527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3" name="" descr=""/>
            <p:cNvPicPr/>
            <p:nvPr/>
          </p:nvPicPr>
          <p:blipFill>
            <a:blip r:embed="rId2"/>
            <a:stretch/>
          </p:blipFill>
          <p:spPr>
            <a:xfrm>
              <a:off x="1353600" y="1436400"/>
              <a:ext cx="3509280" cy="4541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4" name=""/>
          <p:cNvGrpSpPr/>
          <p:nvPr/>
        </p:nvGrpSpPr>
        <p:grpSpPr>
          <a:xfrm>
            <a:off x="1585800" y="2014560"/>
            <a:ext cx="7491600" cy="3549600"/>
            <a:chOff x="1585800" y="2014560"/>
            <a:chExt cx="7491600" cy="3549600"/>
          </a:xfrm>
        </p:grpSpPr>
        <p:grpSp>
          <p:nvGrpSpPr>
            <p:cNvPr id="895" name=""/>
            <p:cNvGrpSpPr/>
            <p:nvPr/>
          </p:nvGrpSpPr>
          <p:grpSpPr>
            <a:xfrm>
              <a:off x="1585800" y="2175120"/>
              <a:ext cx="3263040" cy="3389040"/>
              <a:chOff x="1585800" y="2175120"/>
              <a:chExt cx="3263040" cy="3389040"/>
            </a:xfrm>
          </p:grpSpPr>
          <p:sp>
            <p:nvSpPr>
              <p:cNvPr id="896" name=""/>
              <p:cNvSpPr/>
              <p:nvPr/>
            </p:nvSpPr>
            <p:spPr>
              <a:xfrm>
                <a:off x="4528800" y="2175120"/>
                <a:ext cx="2912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585800" y="2345400"/>
                <a:ext cx="15732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975120" y="2345400"/>
                <a:ext cx="8154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585800" y="2539800"/>
                <a:ext cx="4078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115440" y="3496680"/>
                <a:ext cx="16894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607760" y="3674880"/>
                <a:ext cx="6991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971720" y="3861360"/>
                <a:ext cx="9320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926080" y="5004360"/>
                <a:ext cx="19227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622160" y="5182920"/>
                <a:ext cx="32047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644120" y="5369400"/>
                <a:ext cx="16315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685600" y="5564160"/>
                <a:ext cx="9320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7" name=""/>
            <p:cNvSpPr/>
            <p:nvPr/>
          </p:nvSpPr>
          <p:spPr>
            <a:xfrm>
              <a:off x="5062680" y="2014560"/>
              <a:ext cx="401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6600"/>
                  </a:solidFill>
                  <a:latin typeface="Times New Roman"/>
                </a:rPr>
                <a:t>Définition du rôle (</a:t>
              </a:r>
              <a:r>
                <a:rPr b="0" lang="fr-FR" sz="24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</a:t>
              </a:r>
              <a:r>
                <a:rPr b="0" lang="fr-FR" sz="2400" spc="-1" strike="noStrike" baseline="30000">
                  <a:solidFill>
                    <a:srgbClr val="ff6600"/>
                  </a:solidFill>
                  <a:latin typeface="Times New Roman"/>
                </a:rPr>
                <a:t>ntes</a:t>
              </a:r>
              <a:r>
                <a:rPr b="0" lang="fr-FR" sz="2400" spc="-1" strike="noStrike">
                  <a:solidFill>
                    <a:srgbClr val="ff6600"/>
                  </a:solidFill>
                  <a:latin typeface="Times New Roman"/>
                </a:rPr>
                <a:t> tâche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1585800" y="4160880"/>
            <a:ext cx="6567480" cy="1191240"/>
            <a:chOff x="1585800" y="4160880"/>
            <a:chExt cx="6567480" cy="1191240"/>
          </a:xfrm>
        </p:grpSpPr>
        <p:grpSp>
          <p:nvGrpSpPr>
            <p:cNvPr id="909" name=""/>
            <p:cNvGrpSpPr/>
            <p:nvPr/>
          </p:nvGrpSpPr>
          <p:grpSpPr>
            <a:xfrm>
              <a:off x="1585800" y="4444920"/>
              <a:ext cx="3265200" cy="169920"/>
              <a:chOff x="1585800" y="4444920"/>
              <a:chExt cx="3265200" cy="169920"/>
            </a:xfrm>
          </p:grpSpPr>
          <p:sp>
            <p:nvSpPr>
              <p:cNvPr id="910" name=""/>
              <p:cNvSpPr/>
              <p:nvPr/>
            </p:nvSpPr>
            <p:spPr>
              <a:xfrm>
                <a:off x="2693520" y="4444920"/>
                <a:ext cx="2157480" cy="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85800" y="4614840"/>
                <a:ext cx="1341000" cy="0"/>
              </a:xfrm>
              <a:prstGeom prst="line">
                <a:avLst/>
              </a:prstGeom>
              <a:ln w="1908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5083200" y="4160880"/>
              <a:ext cx="3070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 u="sng">
                  <a:solidFill>
                    <a:srgbClr val="339933"/>
                  </a:solidFill>
                  <a:uFillTx/>
                  <a:latin typeface="Times New Roman"/>
                </a:rPr>
                <a:t>Position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9933"/>
                  </a:solidFill>
                  <a:latin typeface="Times New Roman"/>
                </a:rPr>
                <a:t>Définition personnel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</a:t>
              </a:r>
              <a:r>
                <a:rPr b="0" lang="fr-FR" sz="2400" spc="-1" strike="noStrike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0" lang="fr-FR" sz="2400" spc="-1" strike="noStrike">
                  <a:solidFill>
                    <a:srgbClr val="339933"/>
                  </a:solidFill>
                  <a:latin typeface="Times New Roman"/>
                </a:rPr>
                <a:t>définition officiel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1585800" y="2668680"/>
            <a:ext cx="5407560" cy="825480"/>
            <a:chOff x="1585800" y="2668680"/>
            <a:chExt cx="5407560" cy="825480"/>
          </a:xfrm>
        </p:grpSpPr>
        <p:grpSp>
          <p:nvGrpSpPr>
            <p:cNvPr id="914" name=""/>
            <p:cNvGrpSpPr/>
            <p:nvPr/>
          </p:nvGrpSpPr>
          <p:grpSpPr>
            <a:xfrm>
              <a:off x="1585800" y="2928240"/>
              <a:ext cx="3263760" cy="194760"/>
              <a:chOff x="1585800" y="2928240"/>
              <a:chExt cx="3263760" cy="194760"/>
            </a:xfrm>
          </p:grpSpPr>
          <p:sp>
            <p:nvSpPr>
              <p:cNvPr id="915" name=""/>
              <p:cNvSpPr/>
              <p:nvPr/>
            </p:nvSpPr>
            <p:spPr>
              <a:xfrm>
                <a:off x="2751480" y="2928240"/>
                <a:ext cx="1631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732920" y="2928240"/>
                <a:ext cx="11664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585800" y="3123000"/>
                <a:ext cx="151560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8" name=""/>
            <p:cNvSpPr/>
            <p:nvPr/>
          </p:nvSpPr>
          <p:spPr>
            <a:xfrm>
              <a:off x="5082840" y="2668680"/>
              <a:ext cx="1910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33cc"/>
                  </a:solidFill>
                  <a:latin typeface="Times New Roman"/>
                </a:rPr>
                <a:t>Réseau 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33cc"/>
                  </a:solidFill>
                  <a:latin typeface="Times New Roman"/>
                </a:rPr>
                <a:t>connaissan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12B3A-E333-4968-BA97-445CE3F94FB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CoMMA c'est quoi ?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1960" y="-360"/>
            <a:ext cx="883944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44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Quoi ?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Projet IST - Communauté Européenne Environnement de gestion d'une mémoire organisationnelle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Georgia"/>
              </a:rPr>
              <a:t>Mémoire organisationnelle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:  Représentation persistante, explicite, désincarnée des connaissances et des informations dans une organisation, afin de faciliter leur accès, leur partage et leur réutilisatio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Georgia"/>
              </a:rPr>
              <a:t>Environnement de gestion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: Infrastructure logicielle permettant l'intégration cohérente et la capitalisation des connaissances distribuées dans l'organisatio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1040-8544-4708-AAA9-701AF2339E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Observations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924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Scénarios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93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33" name=""/>
          <p:cNvGrpSpPr/>
          <p:nvPr/>
        </p:nvGrpSpPr>
        <p:grpSpPr>
          <a:xfrm>
            <a:off x="4597560" y="71280"/>
            <a:ext cx="1141200" cy="1555920"/>
            <a:chOff x="4597560" y="71280"/>
            <a:chExt cx="1141200" cy="1555920"/>
          </a:xfrm>
        </p:grpSpPr>
        <p:grpSp>
          <p:nvGrpSpPr>
            <p:cNvPr id="934" name=""/>
            <p:cNvGrpSpPr/>
            <p:nvPr/>
          </p:nvGrpSpPr>
          <p:grpSpPr>
            <a:xfrm>
              <a:off x="4707000" y="71280"/>
              <a:ext cx="950760" cy="1195560"/>
              <a:chOff x="4707000" y="71280"/>
              <a:chExt cx="950760" cy="1195560"/>
            </a:xfrm>
          </p:grpSpPr>
          <p:sp>
            <p:nvSpPr>
              <p:cNvPr id="935" name=""/>
              <p:cNvSpPr/>
              <p:nvPr/>
            </p:nvSpPr>
            <p:spPr>
              <a:xfrm>
                <a:off x="4707000" y="71280"/>
                <a:ext cx="950760" cy="1195560"/>
              </a:xfrm>
              <a:prstGeom prst="foldedCorner">
                <a:avLst>
                  <a:gd name="adj" fmla="val 527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3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721760" y="87120"/>
                <a:ext cx="894240" cy="113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37" name=""/>
              <p:cNvGrpSpPr/>
              <p:nvPr/>
            </p:nvGrpSpPr>
            <p:grpSpPr>
              <a:xfrm>
                <a:off x="4781160" y="271080"/>
                <a:ext cx="831960" cy="844200"/>
                <a:chOff x="4781160" y="271080"/>
                <a:chExt cx="831960" cy="844200"/>
              </a:xfrm>
            </p:grpSpPr>
            <p:sp>
              <p:nvSpPr>
                <p:cNvPr id="938" name=""/>
                <p:cNvSpPr/>
                <p:nvPr/>
              </p:nvSpPr>
              <p:spPr>
                <a:xfrm>
                  <a:off x="5531400" y="271080"/>
                  <a:ext cx="7416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4781160" y="313200"/>
                  <a:ext cx="401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5390280" y="313200"/>
                  <a:ext cx="2077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781160" y="361800"/>
                  <a:ext cx="104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5171040" y="600120"/>
                  <a:ext cx="4309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786560" y="644760"/>
                  <a:ext cx="178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879440" y="69120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5122800" y="975960"/>
                  <a:ext cx="4903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4790160" y="1020240"/>
                  <a:ext cx="817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4795920" y="1067040"/>
                  <a:ext cx="4158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5061600" y="111528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9" name=""/>
              <p:cNvGrpSpPr/>
              <p:nvPr/>
            </p:nvGrpSpPr>
            <p:grpSpPr>
              <a:xfrm>
                <a:off x="4781160" y="836640"/>
                <a:ext cx="831960" cy="42480"/>
                <a:chOff x="4781160" y="836640"/>
                <a:chExt cx="831960" cy="42480"/>
              </a:xfrm>
            </p:grpSpPr>
            <p:sp>
              <p:nvSpPr>
                <p:cNvPr id="950" name=""/>
                <p:cNvSpPr/>
                <p:nvPr/>
              </p:nvSpPr>
              <p:spPr>
                <a:xfrm>
                  <a:off x="5063400" y="836640"/>
                  <a:ext cx="54972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4781160" y="879120"/>
                  <a:ext cx="34164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2" name=""/>
              <p:cNvGrpSpPr/>
              <p:nvPr/>
            </p:nvGrpSpPr>
            <p:grpSpPr>
              <a:xfrm>
                <a:off x="4781160" y="459000"/>
                <a:ext cx="831960" cy="48240"/>
                <a:chOff x="4781160" y="459000"/>
                <a:chExt cx="831960" cy="4824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5078160" y="459000"/>
                  <a:ext cx="41580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5583600" y="459000"/>
                  <a:ext cx="2952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4781160" y="507240"/>
                  <a:ext cx="38628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6" name=""/>
            <p:cNvSpPr/>
            <p:nvPr/>
          </p:nvSpPr>
          <p:spPr>
            <a:xfrm>
              <a:off x="4597560" y="1263600"/>
              <a:ext cx="114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Entreti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5651640" y="71280"/>
            <a:ext cx="2158920" cy="1528920"/>
            <a:chOff x="5651640" y="71280"/>
            <a:chExt cx="2158920" cy="1528920"/>
          </a:xfrm>
        </p:grpSpPr>
        <p:pic>
          <p:nvPicPr>
            <p:cNvPr id="958" name="Atos-Laet-bureau-3" descr=""/>
            <p:cNvPicPr/>
            <p:nvPr/>
          </p:nvPicPr>
          <p:blipFill>
            <a:blip r:embed="rId6"/>
            <a:stretch/>
          </p:blipFill>
          <p:spPr>
            <a:xfrm>
              <a:off x="5800680" y="71280"/>
              <a:ext cx="19306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9" name=""/>
            <p:cNvSpPr/>
            <p:nvPr/>
          </p:nvSpPr>
          <p:spPr>
            <a:xfrm>
              <a:off x="6645240" y="639720"/>
              <a:ext cx="243000" cy="6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888240" y="639720"/>
              <a:ext cx="880920" cy="8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645240" y="703440"/>
              <a:ext cx="147600" cy="563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651640" y="1236600"/>
              <a:ext cx="20368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3" name="" descr=""/>
            <p:cNvPicPr/>
            <p:nvPr/>
          </p:nvPicPr>
          <p:blipFill>
            <a:blip r:embed="rId7"/>
            <a:stretch/>
          </p:blipFill>
          <p:spPr>
            <a:xfrm>
              <a:off x="6821640" y="723960"/>
              <a:ext cx="988920" cy="5443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964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371600" y="-126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a) Scénarios et Recue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b) Du semi-informel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au semi-form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939960" y="38098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c) R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371600" y="546084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d) Navigation et U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9" name="tleft1" descr=""/>
          <p:cNvPicPr/>
          <p:nvPr/>
        </p:nvPicPr>
        <p:blipFill>
          <a:blip r:embed="rId9"/>
          <a:stretch/>
        </p:blipFill>
        <p:spPr>
          <a:xfrm>
            <a:off x="3476520" y="164772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970" name="tright1" descr=""/>
          <p:cNvPicPr/>
          <p:nvPr/>
        </p:nvPicPr>
        <p:blipFill>
          <a:blip r:embed="rId10"/>
          <a:stretch/>
        </p:blipFill>
        <p:spPr>
          <a:xfrm>
            <a:off x="8953560" y="377208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971" name="tleft1" descr=""/>
          <p:cNvPicPr/>
          <p:nvPr/>
        </p:nvPicPr>
        <p:blipFill>
          <a:blip r:embed="rId11"/>
          <a:stretch/>
        </p:blipFill>
        <p:spPr>
          <a:xfrm>
            <a:off x="3476520" y="393372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972" name="tright1" descr=""/>
          <p:cNvPicPr/>
          <p:nvPr/>
        </p:nvPicPr>
        <p:blipFill>
          <a:blip r:embed="rId12"/>
          <a:stretch/>
        </p:blipFill>
        <p:spPr>
          <a:xfrm>
            <a:off x="8953560" y="544824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973" name="tleft1" descr=""/>
          <p:cNvPicPr/>
          <p:nvPr/>
        </p:nvPicPr>
        <p:blipFill>
          <a:blip r:embed="rId13"/>
          <a:stretch/>
        </p:blipFill>
        <p:spPr>
          <a:xfrm>
            <a:off x="3476520" y="561024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974" name="tright1" descr=""/>
          <p:cNvPicPr/>
          <p:nvPr/>
        </p:nvPicPr>
        <p:blipFill>
          <a:blip r:embed="rId14"/>
          <a:stretch/>
        </p:blipFill>
        <p:spPr>
          <a:xfrm>
            <a:off x="8953560" y="6095880"/>
            <a:ext cx="114120" cy="11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3119-BB0E-46AA-B1B0-193F091E2F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Exemple observation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76" name="Atos-Laet-bureau-3" descr=""/>
          <p:cNvPicPr/>
          <p:nvPr/>
        </p:nvPicPr>
        <p:blipFill>
          <a:blip r:embed="rId2"/>
          <a:stretch/>
        </p:blipFill>
        <p:spPr>
          <a:xfrm>
            <a:off x="1143000" y="847800"/>
            <a:ext cx="4713120" cy="3409920"/>
          </a:xfrm>
          <a:prstGeom prst="rect">
            <a:avLst/>
          </a:prstGeom>
          <a:ln w="0">
            <a:noFill/>
          </a:ln>
        </p:spPr>
      </p:pic>
      <p:grpSp>
        <p:nvGrpSpPr>
          <p:cNvPr id="977" name=""/>
          <p:cNvGrpSpPr/>
          <p:nvPr/>
        </p:nvGrpSpPr>
        <p:grpSpPr>
          <a:xfrm>
            <a:off x="1143000" y="847800"/>
            <a:ext cx="4724280" cy="3414600"/>
            <a:chOff x="1143000" y="847800"/>
            <a:chExt cx="4724280" cy="3414600"/>
          </a:xfrm>
        </p:grpSpPr>
        <p:sp>
          <p:nvSpPr>
            <p:cNvPr id="978" name=""/>
            <p:cNvSpPr/>
            <p:nvPr/>
          </p:nvSpPr>
          <p:spPr>
            <a:xfrm>
              <a:off x="1143000" y="847800"/>
              <a:ext cx="4713120" cy="1268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143000" y="1782720"/>
              <a:ext cx="1195560" cy="93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809880" y="1782720"/>
              <a:ext cx="2057400" cy="2027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338560" y="2049480"/>
              <a:ext cx="1525320" cy="268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338560" y="2286000"/>
              <a:ext cx="463320" cy="431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267000" y="2182680"/>
              <a:ext cx="596880" cy="401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801880" y="2576520"/>
              <a:ext cx="1527120" cy="74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143000" y="3186000"/>
              <a:ext cx="3651120" cy="600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143000" y="3727440"/>
              <a:ext cx="4713120" cy="534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143000" y="2851200"/>
              <a:ext cx="2655720" cy="668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143000" y="2651040"/>
              <a:ext cx="2057400" cy="66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3200400" y="2641680"/>
            <a:ext cx="4409640" cy="3126960"/>
            <a:chOff x="3200400" y="2641680"/>
            <a:chExt cx="4409640" cy="3126960"/>
          </a:xfrm>
        </p:grpSpPr>
        <p:sp>
          <p:nvSpPr>
            <p:cNvPr id="990" name=""/>
            <p:cNvSpPr/>
            <p:nvPr/>
          </p:nvSpPr>
          <p:spPr>
            <a:xfrm>
              <a:off x="3200400" y="2641680"/>
              <a:ext cx="597240" cy="2001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1" name="" descr=""/>
            <p:cNvPicPr/>
            <p:nvPr/>
          </p:nvPicPr>
          <p:blipFill>
            <a:blip r:embed="rId3"/>
            <a:stretch/>
          </p:blipFill>
          <p:spPr>
            <a:xfrm>
              <a:off x="5191920" y="4043160"/>
              <a:ext cx="2418120" cy="172548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grpSp>
        <p:nvGrpSpPr>
          <p:cNvPr id="992" name=""/>
          <p:cNvGrpSpPr/>
          <p:nvPr/>
        </p:nvGrpSpPr>
        <p:grpSpPr>
          <a:xfrm>
            <a:off x="2803680" y="838080"/>
            <a:ext cx="5001840" cy="1736640"/>
            <a:chOff x="2803680" y="838080"/>
            <a:chExt cx="5001840" cy="1736640"/>
          </a:xfrm>
        </p:grpSpPr>
        <p:sp>
          <p:nvSpPr>
            <p:cNvPr id="993" name=""/>
            <p:cNvSpPr/>
            <p:nvPr/>
          </p:nvSpPr>
          <p:spPr>
            <a:xfrm>
              <a:off x="2803680" y="2307600"/>
              <a:ext cx="464760" cy="2671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4" name="" descr=""/>
            <p:cNvPicPr/>
            <p:nvPr/>
          </p:nvPicPr>
          <p:blipFill>
            <a:blip r:embed="rId4"/>
            <a:stretch/>
          </p:blipFill>
          <p:spPr>
            <a:xfrm>
              <a:off x="4662360" y="838080"/>
              <a:ext cx="3143160" cy="144036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EEAC-1EA7-433D-85C5-F256F19385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Documents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1000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Scénarios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1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1002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00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09" name=""/>
          <p:cNvGrpSpPr/>
          <p:nvPr/>
        </p:nvGrpSpPr>
        <p:grpSpPr>
          <a:xfrm>
            <a:off x="7461360" y="71280"/>
            <a:ext cx="2036520" cy="1521000"/>
            <a:chOff x="7461360" y="71280"/>
            <a:chExt cx="2036520" cy="1521000"/>
          </a:xfrm>
        </p:grpSpPr>
        <p:pic>
          <p:nvPicPr>
            <p:cNvPr id="1010" name="" descr=""/>
            <p:cNvPicPr/>
            <p:nvPr/>
          </p:nvPicPr>
          <p:blipFill>
            <a:blip r:embed="rId5"/>
            <a:stretch/>
          </p:blipFill>
          <p:spPr>
            <a:xfrm>
              <a:off x="7923240" y="71280"/>
              <a:ext cx="1085760" cy="119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11" name=""/>
            <p:cNvSpPr/>
            <p:nvPr/>
          </p:nvSpPr>
          <p:spPr>
            <a:xfrm>
              <a:off x="7461360" y="1228680"/>
              <a:ext cx="20365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2" name=""/>
          <p:cNvGrpSpPr/>
          <p:nvPr/>
        </p:nvGrpSpPr>
        <p:grpSpPr>
          <a:xfrm>
            <a:off x="4597560" y="71280"/>
            <a:ext cx="1141200" cy="1555920"/>
            <a:chOff x="4597560" y="71280"/>
            <a:chExt cx="1141200" cy="1555920"/>
          </a:xfrm>
        </p:grpSpPr>
        <p:grpSp>
          <p:nvGrpSpPr>
            <p:cNvPr id="1013" name=""/>
            <p:cNvGrpSpPr/>
            <p:nvPr/>
          </p:nvGrpSpPr>
          <p:grpSpPr>
            <a:xfrm>
              <a:off x="4707000" y="71280"/>
              <a:ext cx="950760" cy="1195560"/>
              <a:chOff x="4707000" y="71280"/>
              <a:chExt cx="950760" cy="1195560"/>
            </a:xfrm>
          </p:grpSpPr>
          <p:sp>
            <p:nvSpPr>
              <p:cNvPr id="1014" name=""/>
              <p:cNvSpPr/>
              <p:nvPr/>
            </p:nvSpPr>
            <p:spPr>
              <a:xfrm>
                <a:off x="4707000" y="71280"/>
                <a:ext cx="950760" cy="1195560"/>
              </a:xfrm>
              <a:prstGeom prst="foldedCorner">
                <a:avLst>
                  <a:gd name="adj" fmla="val 527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1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721760" y="87120"/>
                <a:ext cx="894240" cy="113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16" name=""/>
              <p:cNvGrpSpPr/>
              <p:nvPr/>
            </p:nvGrpSpPr>
            <p:grpSpPr>
              <a:xfrm>
                <a:off x="4781160" y="271080"/>
                <a:ext cx="831960" cy="844200"/>
                <a:chOff x="4781160" y="271080"/>
                <a:chExt cx="831960" cy="844200"/>
              </a:xfrm>
            </p:grpSpPr>
            <p:sp>
              <p:nvSpPr>
                <p:cNvPr id="1017" name=""/>
                <p:cNvSpPr/>
                <p:nvPr/>
              </p:nvSpPr>
              <p:spPr>
                <a:xfrm>
                  <a:off x="5531400" y="271080"/>
                  <a:ext cx="7416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781160" y="313200"/>
                  <a:ext cx="401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5390280" y="313200"/>
                  <a:ext cx="2077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4781160" y="361800"/>
                  <a:ext cx="104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5171040" y="600120"/>
                  <a:ext cx="4309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786560" y="644760"/>
                  <a:ext cx="178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879440" y="69120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5122800" y="975960"/>
                  <a:ext cx="4903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790160" y="1020240"/>
                  <a:ext cx="817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795920" y="1067040"/>
                  <a:ext cx="4158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5061600" y="111528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4781160" y="836640"/>
                <a:ext cx="831960" cy="42480"/>
                <a:chOff x="4781160" y="836640"/>
                <a:chExt cx="831960" cy="4248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5063400" y="836640"/>
                  <a:ext cx="54972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781160" y="879120"/>
                  <a:ext cx="34164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1" name=""/>
              <p:cNvGrpSpPr/>
              <p:nvPr/>
            </p:nvGrpSpPr>
            <p:grpSpPr>
              <a:xfrm>
                <a:off x="4781160" y="459000"/>
                <a:ext cx="831960" cy="48240"/>
                <a:chOff x="4781160" y="459000"/>
                <a:chExt cx="831960" cy="48240"/>
              </a:xfrm>
            </p:grpSpPr>
            <p:sp>
              <p:nvSpPr>
                <p:cNvPr id="1032" name=""/>
                <p:cNvSpPr/>
                <p:nvPr/>
              </p:nvSpPr>
              <p:spPr>
                <a:xfrm>
                  <a:off x="5078160" y="459000"/>
                  <a:ext cx="41580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5583600" y="459000"/>
                  <a:ext cx="2952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781160" y="507240"/>
                  <a:ext cx="38628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35" name=""/>
            <p:cNvSpPr/>
            <p:nvPr/>
          </p:nvSpPr>
          <p:spPr>
            <a:xfrm>
              <a:off x="4597560" y="1263600"/>
              <a:ext cx="114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Entreti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5651640" y="71280"/>
            <a:ext cx="2158920" cy="1528920"/>
            <a:chOff x="5651640" y="71280"/>
            <a:chExt cx="2158920" cy="1528920"/>
          </a:xfrm>
        </p:grpSpPr>
        <p:pic>
          <p:nvPicPr>
            <p:cNvPr id="1037" name="Atos-Laet-bureau-3" descr=""/>
            <p:cNvPicPr/>
            <p:nvPr/>
          </p:nvPicPr>
          <p:blipFill>
            <a:blip r:embed="rId7"/>
            <a:stretch/>
          </p:blipFill>
          <p:spPr>
            <a:xfrm>
              <a:off x="5800680" y="71280"/>
              <a:ext cx="19306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8" name=""/>
            <p:cNvSpPr/>
            <p:nvPr/>
          </p:nvSpPr>
          <p:spPr>
            <a:xfrm>
              <a:off x="6645240" y="639720"/>
              <a:ext cx="243000" cy="6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888240" y="639720"/>
              <a:ext cx="880920" cy="8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645240" y="703440"/>
              <a:ext cx="147600" cy="563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651640" y="1236600"/>
              <a:ext cx="20368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2" name="" descr=""/>
            <p:cNvPicPr/>
            <p:nvPr/>
          </p:nvPicPr>
          <p:blipFill>
            <a:blip r:embed="rId8"/>
            <a:stretch/>
          </p:blipFill>
          <p:spPr>
            <a:xfrm>
              <a:off x="6821640" y="723960"/>
              <a:ext cx="988920" cy="5443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1043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371600" y="-126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a) Scénarios et Recue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b) Du semi-informel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au semi-form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939960" y="38098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c) R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371600" y="546084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d) Navigation et U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3035160" y="558720"/>
            <a:ext cx="228600" cy="965160"/>
            <a:chOff x="3035160" y="558720"/>
            <a:chExt cx="228600" cy="965160"/>
          </a:xfrm>
        </p:grpSpPr>
        <p:sp>
          <p:nvSpPr>
            <p:cNvPr id="1049" name=""/>
            <p:cNvSpPr/>
            <p:nvPr/>
          </p:nvSpPr>
          <p:spPr>
            <a:xfrm>
              <a:off x="3060720" y="558720"/>
              <a:ext cx="15228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035160" y="799920"/>
              <a:ext cx="228600" cy="723960"/>
            </a:xfrm>
            <a:prstGeom prst="downArrow">
              <a:avLst>
                <a:gd name="adj1" fmla="val 50000"/>
                <a:gd name="adj2" fmla="val 90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1" name="tleft1" descr=""/>
          <p:cNvPicPr/>
          <p:nvPr/>
        </p:nvPicPr>
        <p:blipFill>
          <a:blip r:embed="rId10"/>
          <a:stretch/>
        </p:blipFill>
        <p:spPr>
          <a:xfrm>
            <a:off x="3476520" y="164772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1052" name="tright1" descr=""/>
          <p:cNvPicPr/>
          <p:nvPr/>
        </p:nvPicPr>
        <p:blipFill>
          <a:blip r:embed="rId11"/>
          <a:stretch/>
        </p:blipFill>
        <p:spPr>
          <a:xfrm>
            <a:off x="8953560" y="377208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1053" name="tleft1" descr=""/>
          <p:cNvPicPr/>
          <p:nvPr/>
        </p:nvPicPr>
        <p:blipFill>
          <a:blip r:embed="rId12"/>
          <a:stretch/>
        </p:blipFill>
        <p:spPr>
          <a:xfrm>
            <a:off x="3476520" y="393372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1054" name="tright1" descr=""/>
          <p:cNvPicPr/>
          <p:nvPr/>
        </p:nvPicPr>
        <p:blipFill>
          <a:blip r:embed="rId13"/>
          <a:stretch/>
        </p:blipFill>
        <p:spPr>
          <a:xfrm>
            <a:off x="8953560" y="544824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1055" name="tleft1" descr=""/>
          <p:cNvPicPr/>
          <p:nvPr/>
        </p:nvPicPr>
        <p:blipFill>
          <a:blip r:embed="rId14"/>
          <a:stretch/>
        </p:blipFill>
        <p:spPr>
          <a:xfrm>
            <a:off x="3476520" y="561024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1056" name="tright1" descr=""/>
          <p:cNvPicPr/>
          <p:nvPr/>
        </p:nvPicPr>
        <p:blipFill>
          <a:blip r:embed="rId15"/>
          <a:stretch/>
        </p:blipFill>
        <p:spPr>
          <a:xfrm>
            <a:off x="8953560" y="6095880"/>
            <a:ext cx="114120" cy="11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1505D-635B-4619-89E0-E8963942A9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Carte d'itinéraire du nouvel employé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2"/>
          <a:stretch/>
        </p:blipFill>
        <p:spPr>
          <a:xfrm>
            <a:off x="1066680" y="152280"/>
            <a:ext cx="4864320" cy="579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9" name=""/>
          <p:cNvSpPr/>
          <p:nvPr/>
        </p:nvSpPr>
        <p:spPr>
          <a:xfrm>
            <a:off x="5943600" y="-25560"/>
            <a:ext cx="322596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73040" indent="-435600">
              <a:lnSpc>
                <a:spcPct val="10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Georgia"/>
              </a:rPr>
              <a:t>Que fai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35600">
              <a:lnSpc>
                <a:spcPct val="10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Georgia"/>
              </a:rPr>
              <a:t>Où al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35600">
              <a:lnSpc>
                <a:spcPct val="10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Georgia"/>
              </a:rPr>
              <a:t>Qui voi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35600">
              <a:lnSpc>
                <a:spcPct val="10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Georgia"/>
              </a:rPr>
              <a:t>Moyen de contac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73040" indent="-435600">
              <a:lnSpc>
                <a:spcPct val="100000"/>
              </a:lnSpc>
              <a:spcBef>
                <a:spcPts val="751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Georgia"/>
              </a:rPr>
              <a:t>Dans quel ord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943600" y="4038480"/>
            <a:ext cx="3200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29480" indent="-395640">
              <a:lnSpc>
                <a:spcPct val="100000"/>
              </a:lnSpc>
              <a:spcBef>
                <a:spcPts val="751"/>
              </a:spcBef>
              <a:buClr>
                <a:srgbClr val="990000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990000"/>
                </a:solidFill>
                <a:latin typeface="Georgia"/>
              </a:rPr>
              <a:t>Exemple  problème: Langue et accessibilité</a:t>
            </a:r>
            <a:br>
              <a:rPr sz="3000"/>
            </a:br>
            <a:r>
              <a:rPr b="1" lang="fr-FR" sz="3000" spc="-1" strike="noStrike">
                <a:solidFill>
                  <a:srgbClr val="990000"/>
                </a:solidFill>
                <a:latin typeface="Georgia"/>
              </a:rPr>
              <a:t>&amp; TL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B557F-0432-4982-AC8A-25F10985B5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Réutilisation et Autres sources d'expertise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1066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Scénarios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7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1068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07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75" name=""/>
          <p:cNvGrpSpPr/>
          <p:nvPr/>
        </p:nvGrpSpPr>
        <p:grpSpPr>
          <a:xfrm>
            <a:off x="7461360" y="71280"/>
            <a:ext cx="2036520" cy="1521000"/>
            <a:chOff x="7461360" y="71280"/>
            <a:chExt cx="2036520" cy="1521000"/>
          </a:xfrm>
        </p:grpSpPr>
        <p:pic>
          <p:nvPicPr>
            <p:cNvPr id="1076" name="" descr=""/>
            <p:cNvPicPr/>
            <p:nvPr/>
          </p:nvPicPr>
          <p:blipFill>
            <a:blip r:embed="rId5"/>
            <a:stretch/>
          </p:blipFill>
          <p:spPr>
            <a:xfrm>
              <a:off x="7923240" y="71280"/>
              <a:ext cx="1085760" cy="119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77" name=""/>
            <p:cNvSpPr/>
            <p:nvPr/>
          </p:nvSpPr>
          <p:spPr>
            <a:xfrm>
              <a:off x="7461360" y="1228680"/>
              <a:ext cx="20365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4597560" y="71280"/>
            <a:ext cx="1141200" cy="1555920"/>
            <a:chOff x="4597560" y="71280"/>
            <a:chExt cx="1141200" cy="1555920"/>
          </a:xfrm>
        </p:grpSpPr>
        <p:grpSp>
          <p:nvGrpSpPr>
            <p:cNvPr id="1079" name=""/>
            <p:cNvGrpSpPr/>
            <p:nvPr/>
          </p:nvGrpSpPr>
          <p:grpSpPr>
            <a:xfrm>
              <a:off x="4707000" y="71280"/>
              <a:ext cx="950760" cy="1195560"/>
              <a:chOff x="4707000" y="71280"/>
              <a:chExt cx="950760" cy="1195560"/>
            </a:xfrm>
          </p:grpSpPr>
          <p:sp>
            <p:nvSpPr>
              <p:cNvPr id="1080" name=""/>
              <p:cNvSpPr/>
              <p:nvPr/>
            </p:nvSpPr>
            <p:spPr>
              <a:xfrm>
                <a:off x="4707000" y="71280"/>
                <a:ext cx="950760" cy="1195560"/>
              </a:xfrm>
              <a:prstGeom prst="foldedCorner">
                <a:avLst>
                  <a:gd name="adj" fmla="val 527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8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721760" y="87120"/>
                <a:ext cx="894240" cy="113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82" name=""/>
              <p:cNvGrpSpPr/>
              <p:nvPr/>
            </p:nvGrpSpPr>
            <p:grpSpPr>
              <a:xfrm>
                <a:off x="4781160" y="271080"/>
                <a:ext cx="831960" cy="844200"/>
                <a:chOff x="4781160" y="271080"/>
                <a:chExt cx="831960" cy="844200"/>
              </a:xfrm>
            </p:grpSpPr>
            <p:sp>
              <p:nvSpPr>
                <p:cNvPr id="1083" name=""/>
                <p:cNvSpPr/>
                <p:nvPr/>
              </p:nvSpPr>
              <p:spPr>
                <a:xfrm>
                  <a:off x="5531400" y="271080"/>
                  <a:ext cx="7416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4781160" y="313200"/>
                  <a:ext cx="401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390280" y="313200"/>
                  <a:ext cx="2077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4781160" y="361800"/>
                  <a:ext cx="104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5171040" y="600120"/>
                  <a:ext cx="4309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4786560" y="644760"/>
                  <a:ext cx="178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4879440" y="69120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5122800" y="975960"/>
                  <a:ext cx="4903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4790160" y="1020240"/>
                  <a:ext cx="817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4795920" y="1067040"/>
                  <a:ext cx="4158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5061600" y="111528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4781160" y="836640"/>
                <a:ext cx="831960" cy="42480"/>
                <a:chOff x="4781160" y="836640"/>
                <a:chExt cx="831960" cy="4248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5063400" y="836640"/>
                  <a:ext cx="54972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4781160" y="879120"/>
                  <a:ext cx="34164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4781160" y="459000"/>
                <a:ext cx="831960" cy="48240"/>
                <a:chOff x="4781160" y="459000"/>
                <a:chExt cx="831960" cy="4824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5078160" y="459000"/>
                  <a:ext cx="41580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5583600" y="459000"/>
                  <a:ext cx="2952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781160" y="507240"/>
                  <a:ext cx="38628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1" name=""/>
            <p:cNvSpPr/>
            <p:nvPr/>
          </p:nvSpPr>
          <p:spPr>
            <a:xfrm>
              <a:off x="4597560" y="1263600"/>
              <a:ext cx="114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Entreti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5651640" y="71280"/>
            <a:ext cx="2158920" cy="1528920"/>
            <a:chOff x="5651640" y="71280"/>
            <a:chExt cx="2158920" cy="1528920"/>
          </a:xfrm>
        </p:grpSpPr>
        <p:pic>
          <p:nvPicPr>
            <p:cNvPr id="1103" name="Atos-Laet-bureau-3" descr=""/>
            <p:cNvPicPr/>
            <p:nvPr/>
          </p:nvPicPr>
          <p:blipFill>
            <a:blip r:embed="rId7"/>
            <a:stretch/>
          </p:blipFill>
          <p:spPr>
            <a:xfrm>
              <a:off x="5800680" y="71280"/>
              <a:ext cx="19306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4" name=""/>
            <p:cNvSpPr/>
            <p:nvPr/>
          </p:nvSpPr>
          <p:spPr>
            <a:xfrm>
              <a:off x="6645240" y="639720"/>
              <a:ext cx="243000" cy="6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888240" y="639720"/>
              <a:ext cx="880920" cy="8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645240" y="703440"/>
              <a:ext cx="147600" cy="563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651640" y="1236600"/>
              <a:ext cx="20368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8" name="" descr=""/>
            <p:cNvPicPr/>
            <p:nvPr/>
          </p:nvPicPr>
          <p:blipFill>
            <a:blip r:embed="rId8"/>
            <a:stretch/>
          </p:blipFill>
          <p:spPr>
            <a:xfrm>
              <a:off x="6821640" y="723960"/>
              <a:ext cx="988920" cy="5443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1109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371600" y="-126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a) Scénarios et Recue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b) Du semi-informel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au semi-form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939960" y="38098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c) R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371600" y="546084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d) Navigation et U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3035160" y="558720"/>
            <a:ext cx="228600" cy="965160"/>
            <a:chOff x="3035160" y="558720"/>
            <a:chExt cx="228600" cy="965160"/>
          </a:xfrm>
        </p:grpSpPr>
        <p:sp>
          <p:nvSpPr>
            <p:cNvPr id="1115" name=""/>
            <p:cNvSpPr/>
            <p:nvPr/>
          </p:nvSpPr>
          <p:spPr>
            <a:xfrm>
              <a:off x="3060720" y="558720"/>
              <a:ext cx="15228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035160" y="799920"/>
              <a:ext cx="228600" cy="723960"/>
            </a:xfrm>
            <a:prstGeom prst="downArrow">
              <a:avLst>
                <a:gd name="adj1" fmla="val 50000"/>
                <a:gd name="adj2" fmla="val 90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914400" y="695160"/>
            <a:ext cx="2057400" cy="828720"/>
            <a:chOff x="914400" y="695160"/>
            <a:chExt cx="2057400" cy="828720"/>
          </a:xfrm>
        </p:grpSpPr>
        <p:sp>
          <p:nvSpPr>
            <p:cNvPr id="1118" name=""/>
            <p:cNvSpPr/>
            <p:nvPr/>
          </p:nvSpPr>
          <p:spPr>
            <a:xfrm rot="5400000">
              <a:off x="2324160" y="1104840"/>
              <a:ext cx="457200" cy="3808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190" stAng="10800000" swAng="5400000"/>
                  <a:lnTo>
                    <a:pt x="12959" y="2970"/>
                  </a:lnTo>
                  <a:lnTo>
                    <a:pt x="12959" y="0"/>
                  </a:lnTo>
                  <a:lnTo>
                    <a:pt x="21600" y="6079"/>
                  </a:lnTo>
                  <a:lnTo>
                    <a:pt x="12959" y="12158"/>
                  </a:lnTo>
                  <a:lnTo>
                    <a:pt x="12959" y="9188"/>
                  </a:lnTo>
                  <a:lnTo>
                    <a:pt x="12427" y="9188"/>
                  </a:lnTo>
                  <a:arcTo wR="6209" hR="2972" stAng="16200000" swAng="-5400000"/>
                  <a:lnTo>
                    <a:pt x="6218" y="216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124000" y="1057320"/>
              <a:ext cx="15264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914400" y="695160"/>
              <a:ext cx="2057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Courier New"/>
                </a:rPr>
                <a:t>Réutilis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Courier New"/>
                </a:rPr>
                <a:t>&amp; aut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1" name="tleft1" descr=""/>
          <p:cNvPicPr/>
          <p:nvPr/>
        </p:nvPicPr>
        <p:blipFill>
          <a:blip r:embed="rId10"/>
          <a:stretch/>
        </p:blipFill>
        <p:spPr>
          <a:xfrm>
            <a:off x="3476520" y="164772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1122" name="tright1" descr=""/>
          <p:cNvPicPr/>
          <p:nvPr/>
        </p:nvPicPr>
        <p:blipFill>
          <a:blip r:embed="rId11"/>
          <a:stretch/>
        </p:blipFill>
        <p:spPr>
          <a:xfrm>
            <a:off x="8953560" y="377208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1123" name="tleft1" descr=""/>
          <p:cNvPicPr/>
          <p:nvPr/>
        </p:nvPicPr>
        <p:blipFill>
          <a:blip r:embed="rId12"/>
          <a:stretch/>
        </p:blipFill>
        <p:spPr>
          <a:xfrm>
            <a:off x="3476520" y="393372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1124" name="tright1" descr=""/>
          <p:cNvPicPr/>
          <p:nvPr/>
        </p:nvPicPr>
        <p:blipFill>
          <a:blip r:embed="rId13"/>
          <a:stretch/>
        </p:blipFill>
        <p:spPr>
          <a:xfrm>
            <a:off x="8953560" y="544824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1125" name="tleft1" descr=""/>
          <p:cNvPicPr/>
          <p:nvPr/>
        </p:nvPicPr>
        <p:blipFill>
          <a:blip r:embed="rId14"/>
          <a:stretch/>
        </p:blipFill>
        <p:spPr>
          <a:xfrm>
            <a:off x="3476520" y="561024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1126" name="tright1" descr=""/>
          <p:cNvPicPr/>
          <p:nvPr/>
        </p:nvPicPr>
        <p:blipFill>
          <a:blip r:embed="rId15"/>
          <a:stretch/>
        </p:blipFill>
        <p:spPr>
          <a:xfrm>
            <a:off x="8953560" y="6095880"/>
            <a:ext cx="114120" cy="11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0FD8F-6FE5-46C3-B3B7-1A016BF974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Réutilisation et Autres sources d'expertise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254160" y="0"/>
            <a:ext cx="88898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68000" indent="-43092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eorgia"/>
              </a:rPr>
              <a:t>Etat de l'art et réutilisation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29880" indent="-27684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Enterprise Ontology (AIAI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29880" indent="-27684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TOVE Ontolog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29880" indent="-27684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Cyc Ontolog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29880" indent="-27684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Ontologie PM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29880" indent="-27684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CGKAT &amp; WebKB top ontolog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29880" indent="-27684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eorgia"/>
              </a:rPr>
              <a:t>Pas d'inclusion automatiqu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68000" indent="-43092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eorgia"/>
              </a:rPr>
              <a:t>Autres sources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29880" indent="-27684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Expertise en sémiotique (pas dans recueil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“Using Language” H.H. Clar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29880" indent="-27684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MIME: énumération formats électroniqu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29880" indent="-27684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Dublin Core: Init. propriétés docum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68000" indent="-430920">
              <a:lnSpc>
                <a:spcPct val="9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eorgia"/>
              </a:rPr>
              <a:t>Scénarios pour l'élagage</a:t>
            </a: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 (r. propriétaire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68000" indent="-43092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eorgia"/>
              </a:rPr>
              <a:t>Méta-dictionnair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4D315-E54F-4C78-B223-896742A7E0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Sur le continuum de la formalisation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1134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Scénarios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5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1136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14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43" name=""/>
          <p:cNvGrpSpPr/>
          <p:nvPr/>
        </p:nvGrpSpPr>
        <p:grpSpPr>
          <a:xfrm>
            <a:off x="7461360" y="71280"/>
            <a:ext cx="2036520" cy="1521000"/>
            <a:chOff x="7461360" y="71280"/>
            <a:chExt cx="2036520" cy="1521000"/>
          </a:xfrm>
        </p:grpSpPr>
        <p:pic>
          <p:nvPicPr>
            <p:cNvPr id="1144" name="" descr=""/>
            <p:cNvPicPr/>
            <p:nvPr/>
          </p:nvPicPr>
          <p:blipFill>
            <a:blip r:embed="rId4"/>
            <a:stretch/>
          </p:blipFill>
          <p:spPr>
            <a:xfrm>
              <a:off x="7923240" y="71280"/>
              <a:ext cx="1085760" cy="119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45" name=""/>
            <p:cNvSpPr/>
            <p:nvPr/>
          </p:nvSpPr>
          <p:spPr>
            <a:xfrm>
              <a:off x="7461360" y="1228680"/>
              <a:ext cx="20365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6" name=""/>
          <p:cNvGrpSpPr/>
          <p:nvPr/>
        </p:nvGrpSpPr>
        <p:grpSpPr>
          <a:xfrm>
            <a:off x="4597560" y="71280"/>
            <a:ext cx="1141200" cy="1555920"/>
            <a:chOff x="4597560" y="71280"/>
            <a:chExt cx="1141200" cy="1555920"/>
          </a:xfrm>
        </p:grpSpPr>
        <p:grpSp>
          <p:nvGrpSpPr>
            <p:cNvPr id="1147" name=""/>
            <p:cNvGrpSpPr/>
            <p:nvPr/>
          </p:nvGrpSpPr>
          <p:grpSpPr>
            <a:xfrm>
              <a:off x="4707000" y="71280"/>
              <a:ext cx="950760" cy="1195560"/>
              <a:chOff x="4707000" y="71280"/>
              <a:chExt cx="950760" cy="1195560"/>
            </a:xfrm>
          </p:grpSpPr>
          <p:sp>
            <p:nvSpPr>
              <p:cNvPr id="1148" name=""/>
              <p:cNvSpPr/>
              <p:nvPr/>
            </p:nvSpPr>
            <p:spPr>
              <a:xfrm>
                <a:off x="4707000" y="71280"/>
                <a:ext cx="950760" cy="1195560"/>
              </a:xfrm>
              <a:prstGeom prst="foldedCorner">
                <a:avLst>
                  <a:gd name="adj" fmla="val 527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4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721760" y="87120"/>
                <a:ext cx="894240" cy="113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50" name=""/>
              <p:cNvGrpSpPr/>
              <p:nvPr/>
            </p:nvGrpSpPr>
            <p:grpSpPr>
              <a:xfrm>
                <a:off x="4781160" y="271080"/>
                <a:ext cx="831960" cy="844200"/>
                <a:chOff x="4781160" y="271080"/>
                <a:chExt cx="831960" cy="844200"/>
              </a:xfrm>
            </p:grpSpPr>
            <p:sp>
              <p:nvSpPr>
                <p:cNvPr id="1151" name=""/>
                <p:cNvSpPr/>
                <p:nvPr/>
              </p:nvSpPr>
              <p:spPr>
                <a:xfrm>
                  <a:off x="5531400" y="271080"/>
                  <a:ext cx="7416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4781160" y="313200"/>
                  <a:ext cx="401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5390280" y="313200"/>
                  <a:ext cx="2077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781160" y="361800"/>
                  <a:ext cx="104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5171040" y="600120"/>
                  <a:ext cx="4309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786560" y="644760"/>
                  <a:ext cx="178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4879440" y="69120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5122800" y="975960"/>
                  <a:ext cx="4903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4790160" y="1020240"/>
                  <a:ext cx="817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4795920" y="1067040"/>
                  <a:ext cx="4158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5061600" y="111528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2" name=""/>
              <p:cNvGrpSpPr/>
              <p:nvPr/>
            </p:nvGrpSpPr>
            <p:grpSpPr>
              <a:xfrm>
                <a:off x="4781160" y="836640"/>
                <a:ext cx="831960" cy="42480"/>
                <a:chOff x="4781160" y="836640"/>
                <a:chExt cx="831960" cy="4248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5063400" y="836640"/>
                  <a:ext cx="54972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4781160" y="879120"/>
                  <a:ext cx="34164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5" name=""/>
              <p:cNvGrpSpPr/>
              <p:nvPr/>
            </p:nvGrpSpPr>
            <p:grpSpPr>
              <a:xfrm>
                <a:off x="4781160" y="459000"/>
                <a:ext cx="831960" cy="48240"/>
                <a:chOff x="4781160" y="459000"/>
                <a:chExt cx="831960" cy="48240"/>
              </a:xfrm>
            </p:grpSpPr>
            <p:sp>
              <p:nvSpPr>
                <p:cNvPr id="1166" name=""/>
                <p:cNvSpPr/>
                <p:nvPr/>
              </p:nvSpPr>
              <p:spPr>
                <a:xfrm>
                  <a:off x="5078160" y="459000"/>
                  <a:ext cx="41580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5583600" y="459000"/>
                  <a:ext cx="2952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4781160" y="507240"/>
                  <a:ext cx="38628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9" name=""/>
            <p:cNvSpPr/>
            <p:nvPr/>
          </p:nvSpPr>
          <p:spPr>
            <a:xfrm>
              <a:off x="4597560" y="1263600"/>
              <a:ext cx="114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Entreti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5651640" y="71280"/>
            <a:ext cx="2158920" cy="1528920"/>
            <a:chOff x="5651640" y="71280"/>
            <a:chExt cx="2158920" cy="1528920"/>
          </a:xfrm>
        </p:grpSpPr>
        <p:pic>
          <p:nvPicPr>
            <p:cNvPr id="1171" name="Atos-Laet-bureau-3" descr=""/>
            <p:cNvPicPr/>
            <p:nvPr/>
          </p:nvPicPr>
          <p:blipFill>
            <a:blip r:embed="rId6"/>
            <a:stretch/>
          </p:blipFill>
          <p:spPr>
            <a:xfrm>
              <a:off x="5800680" y="71280"/>
              <a:ext cx="19306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2" name=""/>
            <p:cNvSpPr/>
            <p:nvPr/>
          </p:nvSpPr>
          <p:spPr>
            <a:xfrm>
              <a:off x="6645240" y="639720"/>
              <a:ext cx="243000" cy="6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888240" y="639720"/>
              <a:ext cx="880920" cy="8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645240" y="703440"/>
              <a:ext cx="147600" cy="563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651640" y="1236600"/>
              <a:ext cx="20368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6" name="" descr=""/>
            <p:cNvPicPr/>
            <p:nvPr/>
          </p:nvPicPr>
          <p:blipFill>
            <a:blip r:embed="rId7"/>
            <a:stretch/>
          </p:blipFill>
          <p:spPr>
            <a:xfrm>
              <a:off x="6821640" y="723960"/>
              <a:ext cx="988920" cy="5443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sp>
        <p:nvSpPr>
          <p:cNvPr id="1177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371600" y="-126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a) Scénarios et Recue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b) Du semi-informel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au semi-form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939960" y="38098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c) R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371600" y="546084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d) Navigation et U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2" name=""/>
          <p:cNvGrpSpPr/>
          <p:nvPr/>
        </p:nvGrpSpPr>
        <p:grpSpPr>
          <a:xfrm>
            <a:off x="3505320" y="1676520"/>
            <a:ext cx="5486400" cy="2133360"/>
            <a:chOff x="3505320" y="1676520"/>
            <a:chExt cx="5486400" cy="2133360"/>
          </a:xfrm>
        </p:grpSpPr>
        <p:pic>
          <p:nvPicPr>
            <p:cNvPr id="1183" name="" descr=""/>
            <p:cNvPicPr/>
            <p:nvPr/>
          </p:nvPicPr>
          <p:blipFill>
            <a:blip r:embed="rId9"/>
            <a:stretch/>
          </p:blipFill>
          <p:spPr>
            <a:xfrm>
              <a:off x="3505320" y="1676520"/>
              <a:ext cx="5486400" cy="1190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184" name="" descr=""/>
            <p:cNvPicPr/>
            <p:nvPr/>
          </p:nvPicPr>
          <p:blipFill>
            <a:blip r:embed="rId10"/>
            <a:stretch/>
          </p:blipFill>
          <p:spPr>
            <a:xfrm>
              <a:off x="3581280" y="2187720"/>
              <a:ext cx="5410440" cy="1317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185" name="" descr=""/>
            <p:cNvPicPr/>
            <p:nvPr/>
          </p:nvPicPr>
          <p:blipFill>
            <a:blip r:embed="rId11"/>
            <a:stretch/>
          </p:blipFill>
          <p:spPr>
            <a:xfrm>
              <a:off x="4343400" y="2368440"/>
              <a:ext cx="4648320" cy="14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6" name=""/>
          <p:cNvGrpSpPr/>
          <p:nvPr/>
        </p:nvGrpSpPr>
        <p:grpSpPr>
          <a:xfrm>
            <a:off x="3035160" y="558720"/>
            <a:ext cx="228600" cy="965160"/>
            <a:chOff x="3035160" y="558720"/>
            <a:chExt cx="228600" cy="965160"/>
          </a:xfrm>
        </p:grpSpPr>
        <p:sp>
          <p:nvSpPr>
            <p:cNvPr id="1187" name=""/>
            <p:cNvSpPr/>
            <p:nvPr/>
          </p:nvSpPr>
          <p:spPr>
            <a:xfrm>
              <a:off x="3060720" y="558720"/>
              <a:ext cx="15228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035160" y="799920"/>
              <a:ext cx="228600" cy="723960"/>
            </a:xfrm>
            <a:prstGeom prst="downArrow">
              <a:avLst>
                <a:gd name="adj1" fmla="val 50000"/>
                <a:gd name="adj2" fmla="val 90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914400" y="695160"/>
            <a:ext cx="2057400" cy="828720"/>
            <a:chOff x="914400" y="695160"/>
            <a:chExt cx="2057400" cy="828720"/>
          </a:xfrm>
        </p:grpSpPr>
        <p:sp>
          <p:nvSpPr>
            <p:cNvPr id="1190" name=""/>
            <p:cNvSpPr/>
            <p:nvPr/>
          </p:nvSpPr>
          <p:spPr>
            <a:xfrm rot="5400000">
              <a:off x="2324160" y="1104840"/>
              <a:ext cx="457200" cy="3808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190" stAng="10800000" swAng="5400000"/>
                  <a:lnTo>
                    <a:pt x="12959" y="2970"/>
                  </a:lnTo>
                  <a:lnTo>
                    <a:pt x="12959" y="0"/>
                  </a:lnTo>
                  <a:lnTo>
                    <a:pt x="21600" y="6079"/>
                  </a:lnTo>
                  <a:lnTo>
                    <a:pt x="12959" y="12158"/>
                  </a:lnTo>
                  <a:lnTo>
                    <a:pt x="12959" y="9188"/>
                  </a:lnTo>
                  <a:lnTo>
                    <a:pt x="12427" y="9188"/>
                  </a:lnTo>
                  <a:arcTo wR="6209" hR="2972" stAng="16200000" swAng="-5400000"/>
                  <a:lnTo>
                    <a:pt x="6218" y="216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124000" y="1057320"/>
              <a:ext cx="15264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914400" y="695160"/>
              <a:ext cx="2057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Courier New"/>
                </a:rPr>
                <a:t>Réutilis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Courier New"/>
                </a:rPr>
                <a:t>&amp; aut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3" name="tleft1" descr=""/>
          <p:cNvPicPr/>
          <p:nvPr/>
        </p:nvPicPr>
        <p:blipFill>
          <a:blip r:embed="rId12"/>
          <a:stretch/>
        </p:blipFill>
        <p:spPr>
          <a:xfrm>
            <a:off x="3476520" y="393372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1194" name="tright1" descr=""/>
          <p:cNvPicPr/>
          <p:nvPr/>
        </p:nvPicPr>
        <p:blipFill>
          <a:blip r:embed="rId13"/>
          <a:stretch/>
        </p:blipFill>
        <p:spPr>
          <a:xfrm>
            <a:off x="8953560" y="544824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1195" name="tleft1" descr=""/>
          <p:cNvPicPr/>
          <p:nvPr/>
        </p:nvPicPr>
        <p:blipFill>
          <a:blip r:embed="rId14"/>
          <a:stretch/>
        </p:blipFill>
        <p:spPr>
          <a:xfrm>
            <a:off x="3476520" y="561024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1196" name="tright1" descr=""/>
          <p:cNvPicPr/>
          <p:nvPr/>
        </p:nvPicPr>
        <p:blipFill>
          <a:blip r:embed="rId15"/>
          <a:stretch/>
        </p:blipFill>
        <p:spPr>
          <a:xfrm>
            <a:off x="8953560" y="6095880"/>
            <a:ext cx="114120" cy="11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6E81E-EABB-4932-9875-27105B52D5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Construction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253800" y="22824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44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Termes candidat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Proposition définitions (ac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Proposition extensions (in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eorgia"/>
              </a:rPr>
              <a:t>Amorçage &amp; itér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82760" indent="-444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Raffinage termes et notion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Travail sur termes: synonymes/ambigu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Label formel (Uschold &amp; Gruninger 96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990000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eorgia"/>
              </a:rPr>
              <a:t>Nécessité outils LN &amp; nv terminologiqu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82760" indent="-444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Trois approches identifié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Top-Down / Bottom-Up / Middle-Ou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eorgia"/>
              </a:rPr>
              <a:t>Trois perspectives complémentaires</a:t>
            </a:r>
            <a:br>
              <a:rPr sz="2800"/>
            </a:br>
            <a:r>
              <a:rPr b="0" lang="fr-FR" sz="2800" spc="-1" strike="noStrike">
                <a:solidFill>
                  <a:srgbClr val="990000"/>
                </a:solidFill>
                <a:latin typeface="Georgia"/>
              </a:rPr>
              <a:t>niveau/granularité &amp; interac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93796-92F6-46FC-87A6-AD030DC647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Construction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253800" y="759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44600">
              <a:lnSpc>
                <a:spcPct val="9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Structurat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Principes aristotéliciens étendus (Bachimont, 2000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Genus/Differentia/Axe sémantiqu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(Kassel et al, 2000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Attributs et contraintes pour subsomption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(Guarino et Welty, 2000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eorgia"/>
              </a:rPr>
              <a:t>Très bien pour le top / lourd sans les outils pour une large ontologi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82760" indent="-444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Continuum:</a:t>
            </a:r>
            <a:r>
              <a:rPr b="1" lang="fr-FR" sz="3200" spc="-1" strike="noStrike">
                <a:solidFill>
                  <a:srgbClr val="000000"/>
                </a:solidFill>
                <a:latin typeface="Georgia"/>
              </a:rPr>
              <a:t> Informel </a:t>
            </a: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fr-FR" sz="3200" spc="-1" strike="noStrike">
                <a:solidFill>
                  <a:srgbClr val="000000"/>
                </a:solidFill>
                <a:latin typeface="Georgia"/>
              </a:rPr>
              <a:t> Form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Textuel (Informel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Tableaux (semi-informel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 semi-formel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RDF-RDFS (formel, utilisation hiérarchi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eorgia"/>
              </a:rPr>
              <a:t>Processus d'augmentation (termes &amp; LN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84C4D-8927-4EBE-A0C5-2A3F348E734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Résultat de la formalisation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1206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Scénarios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7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1208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1209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2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15" name=""/>
          <p:cNvGrpSpPr/>
          <p:nvPr/>
        </p:nvGrpSpPr>
        <p:grpSpPr>
          <a:xfrm>
            <a:off x="7461360" y="71280"/>
            <a:ext cx="2036520" cy="1521000"/>
            <a:chOff x="7461360" y="71280"/>
            <a:chExt cx="2036520" cy="1521000"/>
          </a:xfrm>
        </p:grpSpPr>
        <p:pic>
          <p:nvPicPr>
            <p:cNvPr id="1216" name="" descr=""/>
            <p:cNvPicPr/>
            <p:nvPr/>
          </p:nvPicPr>
          <p:blipFill>
            <a:blip r:embed="rId3"/>
            <a:stretch/>
          </p:blipFill>
          <p:spPr>
            <a:xfrm>
              <a:off x="7923240" y="71280"/>
              <a:ext cx="1085760" cy="119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217" name=""/>
            <p:cNvSpPr/>
            <p:nvPr/>
          </p:nvSpPr>
          <p:spPr>
            <a:xfrm>
              <a:off x="7461360" y="1228680"/>
              <a:ext cx="20365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4597560" y="71280"/>
            <a:ext cx="1141200" cy="1555920"/>
            <a:chOff x="4597560" y="71280"/>
            <a:chExt cx="1141200" cy="1555920"/>
          </a:xfrm>
        </p:grpSpPr>
        <p:grpSp>
          <p:nvGrpSpPr>
            <p:cNvPr id="1219" name=""/>
            <p:cNvGrpSpPr/>
            <p:nvPr/>
          </p:nvGrpSpPr>
          <p:grpSpPr>
            <a:xfrm>
              <a:off x="4707000" y="71280"/>
              <a:ext cx="950760" cy="1195560"/>
              <a:chOff x="4707000" y="71280"/>
              <a:chExt cx="950760" cy="1195560"/>
            </a:xfrm>
          </p:grpSpPr>
          <p:sp>
            <p:nvSpPr>
              <p:cNvPr id="1220" name=""/>
              <p:cNvSpPr/>
              <p:nvPr/>
            </p:nvSpPr>
            <p:spPr>
              <a:xfrm>
                <a:off x="4707000" y="71280"/>
                <a:ext cx="950760" cy="1195560"/>
              </a:xfrm>
              <a:prstGeom prst="foldedCorner">
                <a:avLst>
                  <a:gd name="adj" fmla="val 527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2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721760" y="87120"/>
                <a:ext cx="894240" cy="113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22" name=""/>
              <p:cNvGrpSpPr/>
              <p:nvPr/>
            </p:nvGrpSpPr>
            <p:grpSpPr>
              <a:xfrm>
                <a:off x="4781160" y="271080"/>
                <a:ext cx="831960" cy="844200"/>
                <a:chOff x="4781160" y="271080"/>
                <a:chExt cx="831960" cy="84420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5531400" y="271080"/>
                  <a:ext cx="7416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4781160" y="313200"/>
                  <a:ext cx="401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5390280" y="313200"/>
                  <a:ext cx="2077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4781160" y="361800"/>
                  <a:ext cx="104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5171040" y="600120"/>
                  <a:ext cx="4309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4786560" y="644760"/>
                  <a:ext cx="178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4879440" y="69120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5122800" y="975960"/>
                  <a:ext cx="4903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4790160" y="1020240"/>
                  <a:ext cx="817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4795920" y="1067040"/>
                  <a:ext cx="4158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5061600" y="111528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"/>
              <p:cNvGrpSpPr/>
              <p:nvPr/>
            </p:nvGrpSpPr>
            <p:grpSpPr>
              <a:xfrm>
                <a:off x="4781160" y="836640"/>
                <a:ext cx="831960" cy="42480"/>
                <a:chOff x="4781160" y="836640"/>
                <a:chExt cx="831960" cy="4248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5063400" y="836640"/>
                  <a:ext cx="54972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4781160" y="879120"/>
                  <a:ext cx="34164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7" name=""/>
              <p:cNvGrpSpPr/>
              <p:nvPr/>
            </p:nvGrpSpPr>
            <p:grpSpPr>
              <a:xfrm>
                <a:off x="4781160" y="459000"/>
                <a:ext cx="831960" cy="48240"/>
                <a:chOff x="4781160" y="459000"/>
                <a:chExt cx="831960" cy="48240"/>
              </a:xfrm>
            </p:grpSpPr>
            <p:sp>
              <p:nvSpPr>
                <p:cNvPr id="1238" name=""/>
                <p:cNvSpPr/>
                <p:nvPr/>
              </p:nvSpPr>
              <p:spPr>
                <a:xfrm>
                  <a:off x="5078160" y="459000"/>
                  <a:ext cx="41580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5583600" y="459000"/>
                  <a:ext cx="2952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4781160" y="507240"/>
                  <a:ext cx="38628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41" name=""/>
            <p:cNvSpPr/>
            <p:nvPr/>
          </p:nvSpPr>
          <p:spPr>
            <a:xfrm>
              <a:off x="4597560" y="1263600"/>
              <a:ext cx="114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Entreti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651640" y="71280"/>
            <a:ext cx="2158920" cy="1528920"/>
            <a:chOff x="5651640" y="71280"/>
            <a:chExt cx="2158920" cy="1528920"/>
          </a:xfrm>
        </p:grpSpPr>
        <p:pic>
          <p:nvPicPr>
            <p:cNvPr id="1243" name="Atos-Laet-bureau-3" descr=""/>
            <p:cNvPicPr/>
            <p:nvPr/>
          </p:nvPicPr>
          <p:blipFill>
            <a:blip r:embed="rId5"/>
            <a:stretch/>
          </p:blipFill>
          <p:spPr>
            <a:xfrm>
              <a:off x="5800680" y="71280"/>
              <a:ext cx="19306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4" name=""/>
            <p:cNvSpPr/>
            <p:nvPr/>
          </p:nvSpPr>
          <p:spPr>
            <a:xfrm>
              <a:off x="6645240" y="639720"/>
              <a:ext cx="243000" cy="6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888240" y="639720"/>
              <a:ext cx="880920" cy="8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645240" y="703440"/>
              <a:ext cx="147600" cy="563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651640" y="1236600"/>
              <a:ext cx="20368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8" name="" descr=""/>
            <p:cNvPicPr/>
            <p:nvPr/>
          </p:nvPicPr>
          <p:blipFill>
            <a:blip r:embed="rId6"/>
            <a:stretch/>
          </p:blipFill>
          <p:spPr>
            <a:xfrm>
              <a:off x="6821640" y="723960"/>
              <a:ext cx="988920" cy="5443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pic>
        <p:nvPicPr>
          <p:cNvPr id="1249" name="" descr=""/>
          <p:cNvPicPr/>
          <p:nvPr/>
        </p:nvPicPr>
        <p:blipFill>
          <a:blip r:embed="rId7"/>
          <a:stretch/>
        </p:blipFill>
        <p:spPr>
          <a:xfrm>
            <a:off x="3651120" y="3949560"/>
            <a:ext cx="5340600" cy="1552680"/>
          </a:xfrm>
          <a:prstGeom prst="rect">
            <a:avLst/>
          </a:prstGeom>
          <a:ln w="0">
            <a:noFill/>
          </a:ln>
        </p:spPr>
      </p:pic>
      <p:sp>
        <p:nvSpPr>
          <p:cNvPr id="1250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371600" y="-126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a) Scénarios et Recue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b) Du semi-informel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au semi-form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939960" y="38098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c) R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371600" y="546084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d) Navigation et U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3505320" y="1676520"/>
            <a:ext cx="5486400" cy="2133360"/>
            <a:chOff x="3505320" y="1676520"/>
            <a:chExt cx="5486400" cy="2133360"/>
          </a:xfrm>
        </p:grpSpPr>
        <p:pic>
          <p:nvPicPr>
            <p:cNvPr id="1256" name="" descr=""/>
            <p:cNvPicPr/>
            <p:nvPr/>
          </p:nvPicPr>
          <p:blipFill>
            <a:blip r:embed="rId9"/>
            <a:stretch/>
          </p:blipFill>
          <p:spPr>
            <a:xfrm>
              <a:off x="3505320" y="1676520"/>
              <a:ext cx="5486400" cy="1190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257" name="" descr=""/>
            <p:cNvPicPr/>
            <p:nvPr/>
          </p:nvPicPr>
          <p:blipFill>
            <a:blip r:embed="rId10"/>
            <a:stretch/>
          </p:blipFill>
          <p:spPr>
            <a:xfrm>
              <a:off x="3581280" y="2187720"/>
              <a:ext cx="5410440" cy="1317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258" name="" descr=""/>
            <p:cNvPicPr/>
            <p:nvPr/>
          </p:nvPicPr>
          <p:blipFill>
            <a:blip r:embed="rId11"/>
            <a:stretch/>
          </p:blipFill>
          <p:spPr>
            <a:xfrm>
              <a:off x="4343400" y="2368440"/>
              <a:ext cx="4648320" cy="14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9" name=""/>
          <p:cNvGrpSpPr/>
          <p:nvPr/>
        </p:nvGrpSpPr>
        <p:grpSpPr>
          <a:xfrm>
            <a:off x="3048120" y="2095560"/>
            <a:ext cx="228600" cy="1714320"/>
            <a:chOff x="3048120" y="2095560"/>
            <a:chExt cx="228600" cy="1714320"/>
          </a:xfrm>
        </p:grpSpPr>
        <p:sp>
          <p:nvSpPr>
            <p:cNvPr id="1260" name=""/>
            <p:cNvSpPr/>
            <p:nvPr/>
          </p:nvSpPr>
          <p:spPr>
            <a:xfrm>
              <a:off x="3073320" y="2095560"/>
              <a:ext cx="15264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048120" y="2362320"/>
              <a:ext cx="228600" cy="1447560"/>
            </a:xfrm>
            <a:prstGeom prst="downArrow">
              <a:avLst>
                <a:gd name="adj1" fmla="val 50000"/>
                <a:gd name="adj2" fmla="val 11386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3035160" y="558720"/>
            <a:ext cx="228600" cy="965160"/>
            <a:chOff x="3035160" y="558720"/>
            <a:chExt cx="228600" cy="965160"/>
          </a:xfrm>
        </p:grpSpPr>
        <p:sp>
          <p:nvSpPr>
            <p:cNvPr id="1263" name=""/>
            <p:cNvSpPr/>
            <p:nvPr/>
          </p:nvSpPr>
          <p:spPr>
            <a:xfrm>
              <a:off x="3060720" y="558720"/>
              <a:ext cx="15228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035160" y="799920"/>
              <a:ext cx="228600" cy="723960"/>
            </a:xfrm>
            <a:prstGeom prst="downArrow">
              <a:avLst>
                <a:gd name="adj1" fmla="val 50000"/>
                <a:gd name="adj2" fmla="val 90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5" name=""/>
          <p:cNvGrpSpPr/>
          <p:nvPr/>
        </p:nvGrpSpPr>
        <p:grpSpPr>
          <a:xfrm>
            <a:off x="914400" y="695160"/>
            <a:ext cx="2057400" cy="828720"/>
            <a:chOff x="914400" y="695160"/>
            <a:chExt cx="2057400" cy="828720"/>
          </a:xfrm>
        </p:grpSpPr>
        <p:sp>
          <p:nvSpPr>
            <p:cNvPr id="1266" name=""/>
            <p:cNvSpPr/>
            <p:nvPr/>
          </p:nvSpPr>
          <p:spPr>
            <a:xfrm rot="5400000">
              <a:off x="2324160" y="1104840"/>
              <a:ext cx="457200" cy="3808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190" stAng="10800000" swAng="5400000"/>
                  <a:lnTo>
                    <a:pt x="12959" y="2970"/>
                  </a:lnTo>
                  <a:lnTo>
                    <a:pt x="12959" y="0"/>
                  </a:lnTo>
                  <a:lnTo>
                    <a:pt x="21600" y="6079"/>
                  </a:lnTo>
                  <a:lnTo>
                    <a:pt x="12959" y="12158"/>
                  </a:lnTo>
                  <a:lnTo>
                    <a:pt x="12959" y="9188"/>
                  </a:lnTo>
                  <a:lnTo>
                    <a:pt x="12427" y="9188"/>
                  </a:lnTo>
                  <a:arcTo wR="6209" hR="2972" stAng="16200000" swAng="-5400000"/>
                  <a:lnTo>
                    <a:pt x="6218" y="216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124000" y="1057320"/>
              <a:ext cx="15264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914400" y="695160"/>
              <a:ext cx="2057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Courier New"/>
                </a:rPr>
                <a:t>Réutilis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Courier New"/>
                </a:rPr>
                <a:t>&amp; aut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69" name="tleft1" descr=""/>
          <p:cNvPicPr/>
          <p:nvPr/>
        </p:nvPicPr>
        <p:blipFill>
          <a:blip r:embed="rId12"/>
          <a:stretch/>
        </p:blipFill>
        <p:spPr>
          <a:xfrm>
            <a:off x="3476520" y="561024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1270" name="tright1" descr=""/>
          <p:cNvPicPr/>
          <p:nvPr/>
        </p:nvPicPr>
        <p:blipFill>
          <a:blip r:embed="rId13"/>
          <a:stretch/>
        </p:blipFill>
        <p:spPr>
          <a:xfrm>
            <a:off x="8953560" y="6095880"/>
            <a:ext cx="114120" cy="11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8492-7E53-4A9C-B59A-1355C178395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Pourquoi ? Qui ? Où ? Quand ?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44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Pourquoi 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Aide à l'insertion d'un nouvel employ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Support de la veille technologiqu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82760" indent="-444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Qui ?</a:t>
            </a:r>
            <a:r>
              <a:rPr b="1" lang="fr-FR" sz="3200" spc="-1" strike="noStrike">
                <a:solidFill>
                  <a:srgbClr val="000000"/>
                </a:solidFill>
                <a:latin typeface="Georgia"/>
              </a:rPr>
              <a:t> &amp;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Où 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ATOS - Origin (Franc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CSELT - Telecom Italia (Italie) </a:t>
            </a:r>
            <a:r>
              <a:rPr b="0" i="1" lang="fr-FR" sz="2800" spc="-1" strike="noStrike">
                <a:solidFill>
                  <a:srgbClr val="000000"/>
                </a:solidFill>
                <a:latin typeface="Georgia"/>
              </a:rPr>
              <a:t>quit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CSTB (France) </a:t>
            </a:r>
            <a:r>
              <a:rPr b="0" i="1" lang="fr-FR" sz="2800" spc="-1" strike="noStrike">
                <a:solidFill>
                  <a:srgbClr val="000000"/>
                </a:solidFill>
                <a:latin typeface="Georgia"/>
              </a:rPr>
              <a:t>arriv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LIRMM - Université de Montpelli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T-Nova - Deutsch Telekom (Allemagn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Université de Parme (Itali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Projet ACACIA - INRIA Sophia Antipol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82760" indent="-444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Quand ?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De Février 2000 à Février 2002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ED142-3862-4B81-B70C-E041C4728C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esults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355320" y="-360"/>
            <a:ext cx="83055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Ontologie en trois couches 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470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concepts, ~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79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relations,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hop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3" name=""/>
          <p:cNvGrpSpPr/>
          <p:nvPr/>
        </p:nvGrpSpPr>
        <p:grpSpPr>
          <a:xfrm>
            <a:off x="1346040" y="1101600"/>
            <a:ext cx="7772400" cy="3352680"/>
            <a:chOff x="1346040" y="1101600"/>
            <a:chExt cx="7772400" cy="3352680"/>
          </a:xfrm>
        </p:grpSpPr>
        <p:sp>
          <p:nvSpPr>
            <p:cNvPr id="1274" name=""/>
            <p:cNvSpPr/>
            <p:nvPr/>
          </p:nvSpPr>
          <p:spPr>
            <a:xfrm>
              <a:off x="5638680" y="1101600"/>
              <a:ext cx="2552760" cy="36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8811" y="36092"/>
                  </a:moveTo>
                  <a:lnTo>
                    <a:pt x="-645" y="8272"/>
                  </a:lnTo>
                </a:path>
                <a:path w="21600" h="21600">
                  <a:moveTo>
                    <a:pt x="-645" y="0"/>
                  </a:moveTo>
                  <a:lnTo>
                    <a:pt x="-645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Haut : abstra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172200" y="2090520"/>
              <a:ext cx="2552400" cy="36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6768" y="29048"/>
                  </a:moveTo>
                  <a:lnTo>
                    <a:pt x="-645" y="8272"/>
                  </a:lnTo>
                </a:path>
                <a:path w="21600" h="21600">
                  <a:moveTo>
                    <a:pt x="-645" y="0"/>
                  </a:moveTo>
                  <a:lnTo>
                    <a:pt x="-645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Milieu : commu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883200" y="3074760"/>
              <a:ext cx="2235240" cy="73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6136" y="14050"/>
                  </a:moveTo>
                  <a:lnTo>
                    <a:pt x="-736" y="3337"/>
                  </a:lnTo>
                </a:path>
                <a:path w="21600" h="21600">
                  <a:moveTo>
                    <a:pt x="-736" y="0"/>
                  </a:moveTo>
                  <a:lnTo>
                    <a:pt x="-736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xtension: Spécif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7" name=""/>
            <p:cNvGrpSpPr/>
            <p:nvPr/>
          </p:nvGrpSpPr>
          <p:grpSpPr>
            <a:xfrm>
              <a:off x="1346040" y="1101600"/>
              <a:ext cx="5486400" cy="3352680"/>
              <a:chOff x="1346040" y="1101600"/>
              <a:chExt cx="5486400" cy="3352680"/>
            </a:xfrm>
          </p:grpSpPr>
          <p:sp>
            <p:nvSpPr>
              <p:cNvPr id="1278" name=""/>
              <p:cNvSpPr/>
              <p:nvPr/>
            </p:nvSpPr>
            <p:spPr>
              <a:xfrm>
                <a:off x="2247840" y="3159000"/>
                <a:ext cx="3657600" cy="2286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200400" y="2092320"/>
                <a:ext cx="1752480" cy="2286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3200400" y="1101600"/>
                <a:ext cx="17524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V="1">
                <a:off x="2247840" y="2167920"/>
                <a:ext cx="3657600" cy="990720"/>
              </a:xfrm>
              <a:custGeom>
                <a:avLst/>
                <a:gdLst>
                  <a:gd name="textAreaLeft" fmla="*/ 804240 w 3657600"/>
                  <a:gd name="textAreaRight" fmla="*/ 2853360 w 3657600"/>
                  <a:gd name="textAreaTop" fmla="*/ 217800 h 990720"/>
                  <a:gd name="textAreaBottom" fmla="*/ 77292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V="1">
                <a:off x="1346040" y="3247560"/>
                <a:ext cx="5486400" cy="914400"/>
              </a:xfrm>
              <a:custGeom>
                <a:avLst/>
                <a:gdLst>
                  <a:gd name="textAreaLeft" fmla="*/ 924840 w 5486400"/>
                  <a:gd name="textAreaRight" fmla="*/ 4561560 w 5486400"/>
                  <a:gd name="textAreaTop" fmla="*/ 154080 h 914400"/>
                  <a:gd name="textAreaBottom" fmla="*/ 76032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194" y="21600"/>
                    </a:lnTo>
                    <a:lnTo>
                      <a:pt x="3406" y="2160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346040" y="4149720"/>
                <a:ext cx="5486400" cy="30456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4" name=""/>
          <p:cNvGrpSpPr/>
          <p:nvPr/>
        </p:nvGrpSpPr>
        <p:grpSpPr>
          <a:xfrm>
            <a:off x="1452960" y="2168280"/>
            <a:ext cx="5303520" cy="2316600"/>
            <a:chOff x="1452960" y="2168280"/>
            <a:chExt cx="5303520" cy="2316600"/>
          </a:xfrm>
        </p:grpSpPr>
        <p:sp>
          <p:nvSpPr>
            <p:cNvPr id="1285" name=""/>
            <p:cNvSpPr/>
            <p:nvPr/>
          </p:nvSpPr>
          <p:spPr>
            <a:xfrm>
              <a:off x="2717640" y="414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012920" y="414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537160" y="414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V="1">
              <a:off x="2717640" y="2168280"/>
              <a:ext cx="990720" cy="198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 flipV="1">
              <a:off x="4470120" y="2168280"/>
              <a:ext cx="1067040" cy="198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4012920" y="216828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452960" y="4086000"/>
              <a:ext cx="122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Enterpr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761200" y="4086000"/>
              <a:ext cx="12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92800" y="408600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754240" y="408600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5" name=""/>
          <p:cNvSpPr/>
          <p:nvPr/>
        </p:nvSpPr>
        <p:spPr>
          <a:xfrm>
            <a:off x="380880" y="4495680"/>
            <a:ext cx="87631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Haut: réutilisable/peu utilis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Couche centra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80000"/>
              </a:lnSpc>
              <a:spcBef>
                <a:spcPts val="60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Mémoire d'entreprise (r. mémo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28600">
              <a:lnSpc>
                <a:spcPct val="80000"/>
              </a:lnSpc>
              <a:spcBef>
                <a:spcPts val="60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Sujets du domaine (r. doma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Extensions: utilisables/peu réutili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0492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55C9F-66B0-4F79-A28F-5C24B39DE87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7" name=""/>
          <p:cNvGrpSpPr/>
          <p:nvPr/>
        </p:nvGrpSpPr>
        <p:grpSpPr>
          <a:xfrm>
            <a:off x="3554280" y="3165480"/>
            <a:ext cx="754200" cy="1273320"/>
            <a:chOff x="3554280" y="3165480"/>
            <a:chExt cx="754200" cy="1273320"/>
          </a:xfrm>
        </p:grpSpPr>
        <p:grpSp>
          <p:nvGrpSpPr>
            <p:cNvPr id="1298" name=""/>
            <p:cNvGrpSpPr/>
            <p:nvPr/>
          </p:nvGrpSpPr>
          <p:grpSpPr>
            <a:xfrm>
              <a:off x="3554280" y="3165480"/>
              <a:ext cx="754200" cy="1122480"/>
              <a:chOff x="3554280" y="3165480"/>
              <a:chExt cx="754200" cy="1122480"/>
            </a:xfrm>
          </p:grpSpPr>
          <p:sp>
            <p:nvSpPr>
              <p:cNvPr id="1299" name=""/>
              <p:cNvSpPr/>
              <p:nvPr/>
            </p:nvSpPr>
            <p:spPr>
              <a:xfrm>
                <a:off x="3554280" y="3744720"/>
                <a:ext cx="754200" cy="543240"/>
              </a:xfrm>
              <a:prstGeom prst="parallelogram">
                <a:avLst>
                  <a:gd name="adj" fmla="val 53791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H="1">
                <a:off x="3726720" y="3418920"/>
                <a:ext cx="276120" cy="543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H="1">
                <a:off x="4176360" y="3418920"/>
                <a:ext cx="69120" cy="579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H="1">
                <a:off x="4003200" y="3165480"/>
                <a:ext cx="138240" cy="25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H="1">
                <a:off x="4245120" y="3165480"/>
                <a:ext cx="34200" cy="25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4" name=""/>
            <p:cNvSpPr/>
            <p:nvPr/>
          </p:nvSpPr>
          <p:spPr>
            <a:xfrm>
              <a:off x="4053960" y="4308480"/>
              <a:ext cx="190440" cy="1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800" spc="-1" strike="noStrike">
                  <a:solidFill>
                    <a:srgbClr val="000000"/>
                  </a:solidFill>
                  <a:latin typeface="Courier New"/>
                </a:rPr>
                <a:t>R</a:t>
              </a:r>
              <a:r>
                <a:rPr b="1" i="1" lang="fr-FR" sz="800" spc="-1" strike="noStrike" baseline="-25000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023720" y="4289400"/>
              <a:ext cx="3312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2008080" y="3179880"/>
            <a:ext cx="956880" cy="1325520"/>
            <a:chOff x="2008080" y="3179880"/>
            <a:chExt cx="956880" cy="1325520"/>
          </a:xfrm>
        </p:grpSpPr>
        <p:sp>
          <p:nvSpPr>
            <p:cNvPr id="1307" name=""/>
            <p:cNvSpPr/>
            <p:nvPr/>
          </p:nvSpPr>
          <p:spPr>
            <a:xfrm>
              <a:off x="2008080" y="3722760"/>
              <a:ext cx="933120" cy="6876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2493000" y="3238200"/>
              <a:ext cx="172080" cy="18108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 flipV="1">
              <a:off x="2838240" y="3179880"/>
              <a:ext cx="33120" cy="25416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774520" y="4375440"/>
              <a:ext cx="1904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8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r>
                <a:rPr b="1" i="1" lang="fr-FR" sz="800" spc="-1" strike="noStrike" baseline="-25000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733480" y="4361040"/>
              <a:ext cx="3456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2077560" y="3419640"/>
              <a:ext cx="415080" cy="47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 flipV="1">
              <a:off x="2871000" y="3433680"/>
              <a:ext cx="69480" cy="577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4" name=""/>
          <p:cNvGrpSpPr/>
          <p:nvPr/>
        </p:nvGrpSpPr>
        <p:grpSpPr>
          <a:xfrm>
            <a:off x="2732040" y="3759120"/>
            <a:ext cx="2414160" cy="533520"/>
            <a:chOff x="2732040" y="3759120"/>
            <a:chExt cx="2414160" cy="533520"/>
          </a:xfrm>
        </p:grpSpPr>
        <p:grpSp>
          <p:nvGrpSpPr>
            <p:cNvPr id="1315" name=""/>
            <p:cNvGrpSpPr/>
            <p:nvPr/>
          </p:nvGrpSpPr>
          <p:grpSpPr>
            <a:xfrm>
              <a:off x="2835000" y="4157640"/>
              <a:ext cx="617760" cy="130320"/>
              <a:chOff x="2835000" y="4157640"/>
              <a:chExt cx="617760" cy="130320"/>
            </a:xfrm>
          </p:grpSpPr>
          <p:grpSp>
            <p:nvGrpSpPr>
              <p:cNvPr id="1316" name=""/>
              <p:cNvGrpSpPr/>
              <p:nvPr/>
            </p:nvGrpSpPr>
            <p:grpSpPr>
              <a:xfrm>
                <a:off x="2835000" y="4165560"/>
                <a:ext cx="617760" cy="108720"/>
                <a:chOff x="2835000" y="4165560"/>
                <a:chExt cx="617760" cy="108720"/>
              </a:xfrm>
            </p:grpSpPr>
            <p:sp>
              <p:nvSpPr>
                <p:cNvPr id="1317" name=""/>
                <p:cNvSpPr/>
                <p:nvPr/>
              </p:nvSpPr>
              <p:spPr>
                <a:xfrm>
                  <a:off x="2835000" y="4221000"/>
                  <a:ext cx="6177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3012840" y="4165560"/>
                  <a:ext cx="241560" cy="108720"/>
                </a:xfrm>
                <a:prstGeom prst="ellipse">
                  <a:avLst/>
                </a:prstGeom>
                <a:solidFill>
                  <a:srgbClr val="80808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9" name=""/>
              <p:cNvSpPr/>
              <p:nvPr/>
            </p:nvSpPr>
            <p:spPr>
              <a:xfrm>
                <a:off x="3079080" y="4157640"/>
                <a:ext cx="16704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0" name=""/>
            <p:cNvGrpSpPr/>
            <p:nvPr/>
          </p:nvGrpSpPr>
          <p:grpSpPr>
            <a:xfrm>
              <a:off x="3381480" y="4162320"/>
              <a:ext cx="242280" cy="130320"/>
              <a:chOff x="3381480" y="4162320"/>
              <a:chExt cx="242280" cy="130320"/>
            </a:xfrm>
          </p:grpSpPr>
          <p:sp>
            <p:nvSpPr>
              <p:cNvPr id="1321" name=""/>
              <p:cNvSpPr/>
              <p:nvPr/>
            </p:nvSpPr>
            <p:spPr>
              <a:xfrm>
                <a:off x="3381480" y="4170960"/>
                <a:ext cx="242280" cy="101160"/>
              </a:xfrm>
              <a:prstGeom prst="parallelogram">
                <a:avLst>
                  <a:gd name="adj" fmla="val 59875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3448080" y="4162320"/>
                <a:ext cx="17532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3" name=""/>
            <p:cNvGrpSpPr/>
            <p:nvPr/>
          </p:nvGrpSpPr>
          <p:grpSpPr>
            <a:xfrm>
              <a:off x="4111200" y="4157640"/>
              <a:ext cx="241920" cy="130320"/>
              <a:chOff x="4111200" y="4157640"/>
              <a:chExt cx="241920" cy="130320"/>
            </a:xfrm>
          </p:grpSpPr>
          <p:sp>
            <p:nvSpPr>
              <p:cNvPr id="1324" name=""/>
              <p:cNvSpPr/>
              <p:nvPr/>
            </p:nvSpPr>
            <p:spPr>
              <a:xfrm>
                <a:off x="4111200" y="4166280"/>
                <a:ext cx="241920" cy="101160"/>
              </a:xfrm>
              <a:prstGeom prst="parallelogram">
                <a:avLst>
                  <a:gd name="adj" fmla="val 59786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177800" y="4157640"/>
                <a:ext cx="17532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3560040" y="4157640"/>
              <a:ext cx="617400" cy="130320"/>
              <a:chOff x="3560040" y="4157640"/>
              <a:chExt cx="617400" cy="130320"/>
            </a:xfrm>
          </p:grpSpPr>
          <p:grpSp>
            <p:nvGrpSpPr>
              <p:cNvPr id="1327" name=""/>
              <p:cNvGrpSpPr/>
              <p:nvPr/>
            </p:nvGrpSpPr>
            <p:grpSpPr>
              <a:xfrm>
                <a:off x="3560040" y="4165560"/>
                <a:ext cx="617400" cy="108720"/>
                <a:chOff x="3560040" y="4165560"/>
                <a:chExt cx="617400" cy="108720"/>
              </a:xfrm>
            </p:grpSpPr>
            <p:sp>
              <p:nvSpPr>
                <p:cNvPr id="1328" name=""/>
                <p:cNvSpPr/>
                <p:nvPr/>
              </p:nvSpPr>
              <p:spPr>
                <a:xfrm>
                  <a:off x="3560040" y="4221000"/>
                  <a:ext cx="6174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3737880" y="4165560"/>
                  <a:ext cx="241200" cy="108720"/>
                </a:xfrm>
                <a:prstGeom prst="ellipse">
                  <a:avLst/>
                </a:prstGeom>
                <a:solidFill>
                  <a:srgbClr val="80808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0" name=""/>
              <p:cNvSpPr/>
              <p:nvPr/>
            </p:nvSpPr>
            <p:spPr>
              <a:xfrm>
                <a:off x="3803760" y="4157640"/>
                <a:ext cx="16704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1" name=""/>
            <p:cNvGrpSpPr/>
            <p:nvPr/>
          </p:nvGrpSpPr>
          <p:grpSpPr>
            <a:xfrm>
              <a:off x="2732040" y="3949920"/>
              <a:ext cx="965880" cy="129960"/>
              <a:chOff x="2732040" y="3949920"/>
              <a:chExt cx="965880" cy="129960"/>
            </a:xfrm>
          </p:grpSpPr>
          <p:grpSp>
            <p:nvGrpSpPr>
              <p:cNvPr id="1332" name=""/>
              <p:cNvGrpSpPr/>
              <p:nvPr/>
            </p:nvGrpSpPr>
            <p:grpSpPr>
              <a:xfrm>
                <a:off x="2732040" y="3957840"/>
                <a:ext cx="965880" cy="108360"/>
                <a:chOff x="2732040" y="3957840"/>
                <a:chExt cx="965880" cy="108360"/>
              </a:xfrm>
            </p:grpSpPr>
            <p:sp>
              <p:nvSpPr>
                <p:cNvPr id="1333" name=""/>
                <p:cNvSpPr/>
                <p:nvPr/>
              </p:nvSpPr>
              <p:spPr>
                <a:xfrm>
                  <a:off x="2732040" y="4016880"/>
                  <a:ext cx="96588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3082320" y="3957840"/>
                  <a:ext cx="241560" cy="108360"/>
                </a:xfrm>
                <a:prstGeom prst="ellipse">
                  <a:avLst/>
                </a:prstGeom>
                <a:solidFill>
                  <a:srgbClr val="80808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5" name=""/>
              <p:cNvSpPr/>
              <p:nvPr/>
            </p:nvSpPr>
            <p:spPr>
              <a:xfrm>
                <a:off x="3148200" y="3949920"/>
                <a:ext cx="16704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6" name=""/>
            <p:cNvGrpSpPr/>
            <p:nvPr/>
          </p:nvGrpSpPr>
          <p:grpSpPr>
            <a:xfrm>
              <a:off x="3493440" y="3954600"/>
              <a:ext cx="240480" cy="129960"/>
              <a:chOff x="3493440" y="3954600"/>
              <a:chExt cx="240480" cy="129960"/>
            </a:xfrm>
          </p:grpSpPr>
          <p:sp>
            <p:nvSpPr>
              <p:cNvPr id="1337" name=""/>
              <p:cNvSpPr/>
              <p:nvPr/>
            </p:nvSpPr>
            <p:spPr>
              <a:xfrm>
                <a:off x="3493440" y="3963240"/>
                <a:ext cx="240480" cy="100800"/>
              </a:xfrm>
              <a:prstGeom prst="parallelogram">
                <a:avLst>
                  <a:gd name="adj" fmla="val 59643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3559680" y="3954600"/>
                <a:ext cx="17424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9" name=""/>
            <p:cNvGrpSpPr/>
            <p:nvPr/>
          </p:nvGrpSpPr>
          <p:grpSpPr>
            <a:xfrm>
              <a:off x="4210920" y="3960720"/>
              <a:ext cx="240480" cy="130320"/>
              <a:chOff x="4210920" y="3960720"/>
              <a:chExt cx="240480" cy="130320"/>
            </a:xfrm>
          </p:grpSpPr>
          <p:sp>
            <p:nvSpPr>
              <p:cNvPr id="1340" name=""/>
              <p:cNvSpPr/>
              <p:nvPr/>
            </p:nvSpPr>
            <p:spPr>
              <a:xfrm>
                <a:off x="4210920" y="3969360"/>
                <a:ext cx="240480" cy="101160"/>
              </a:xfrm>
              <a:prstGeom prst="parallelogram">
                <a:avLst>
                  <a:gd name="adj" fmla="val 59431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277160" y="3960720"/>
                <a:ext cx="17424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2" name=""/>
            <p:cNvGrpSpPr/>
            <p:nvPr/>
          </p:nvGrpSpPr>
          <p:grpSpPr>
            <a:xfrm>
              <a:off x="3662640" y="3954600"/>
              <a:ext cx="617760" cy="129960"/>
              <a:chOff x="3662640" y="3954600"/>
              <a:chExt cx="617760" cy="129960"/>
            </a:xfrm>
          </p:grpSpPr>
          <p:grpSp>
            <p:nvGrpSpPr>
              <p:cNvPr id="1343" name=""/>
              <p:cNvGrpSpPr/>
              <p:nvPr/>
            </p:nvGrpSpPr>
            <p:grpSpPr>
              <a:xfrm>
                <a:off x="3662640" y="3962520"/>
                <a:ext cx="617760" cy="108360"/>
                <a:chOff x="3662640" y="3962520"/>
                <a:chExt cx="617760" cy="10836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3662640" y="4017600"/>
                  <a:ext cx="61776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3840480" y="3962520"/>
                  <a:ext cx="241560" cy="108360"/>
                </a:xfrm>
                <a:prstGeom prst="ellipse">
                  <a:avLst/>
                </a:prstGeom>
                <a:solidFill>
                  <a:srgbClr val="80808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6" name=""/>
              <p:cNvSpPr/>
              <p:nvPr/>
            </p:nvSpPr>
            <p:spPr>
              <a:xfrm>
                <a:off x="3906720" y="3954600"/>
                <a:ext cx="16704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7" name=""/>
            <p:cNvGrpSpPr/>
            <p:nvPr/>
          </p:nvGrpSpPr>
          <p:grpSpPr>
            <a:xfrm>
              <a:off x="3662640" y="3759120"/>
              <a:ext cx="882360" cy="225000"/>
              <a:chOff x="3662640" y="3759120"/>
              <a:chExt cx="882360" cy="225000"/>
            </a:xfrm>
          </p:grpSpPr>
          <p:grpSp>
            <p:nvGrpSpPr>
              <p:cNvPr id="1348" name=""/>
              <p:cNvGrpSpPr/>
              <p:nvPr/>
            </p:nvGrpSpPr>
            <p:grpSpPr>
              <a:xfrm>
                <a:off x="4303440" y="3763800"/>
                <a:ext cx="241560" cy="129960"/>
                <a:chOff x="4303440" y="3763800"/>
                <a:chExt cx="241560" cy="129960"/>
              </a:xfrm>
            </p:grpSpPr>
            <p:sp>
              <p:nvSpPr>
                <p:cNvPr id="1349" name=""/>
                <p:cNvSpPr/>
                <p:nvPr/>
              </p:nvSpPr>
              <p:spPr>
                <a:xfrm>
                  <a:off x="4303440" y="3772440"/>
                  <a:ext cx="241560" cy="100800"/>
                </a:xfrm>
                <a:prstGeom prst="parallelogram">
                  <a:avLst>
                    <a:gd name="adj" fmla="val 59911"/>
                  </a:avLst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4370040" y="3763800"/>
                  <a:ext cx="1749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1" name=""/>
              <p:cNvGrpSpPr/>
              <p:nvPr/>
            </p:nvGrpSpPr>
            <p:grpSpPr>
              <a:xfrm>
                <a:off x="3662640" y="3759120"/>
                <a:ext cx="722160" cy="225000"/>
                <a:chOff x="3662640" y="3759120"/>
                <a:chExt cx="722160" cy="225000"/>
              </a:xfrm>
            </p:grpSpPr>
            <p:sp>
              <p:nvSpPr>
                <p:cNvPr id="1352" name=""/>
                <p:cNvSpPr/>
                <p:nvPr/>
              </p:nvSpPr>
              <p:spPr>
                <a:xfrm>
                  <a:off x="3938400" y="3759120"/>
                  <a:ext cx="16668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3" name=""/>
                <p:cNvGrpSpPr/>
                <p:nvPr/>
              </p:nvGrpSpPr>
              <p:grpSpPr>
                <a:xfrm>
                  <a:off x="3662640" y="3767040"/>
                  <a:ext cx="722160" cy="217080"/>
                  <a:chOff x="3662640" y="3767040"/>
                  <a:chExt cx="722160" cy="217080"/>
                </a:xfrm>
              </p:grpSpPr>
              <p:sp>
                <p:nvSpPr>
                  <p:cNvPr id="1354" name=""/>
                  <p:cNvSpPr/>
                  <p:nvPr/>
                </p:nvSpPr>
                <p:spPr>
                  <a:xfrm flipV="1">
                    <a:off x="3662640" y="3794400"/>
                    <a:ext cx="275760" cy="18972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5" name=""/>
                  <p:cNvSpPr/>
                  <p:nvPr/>
                </p:nvSpPr>
                <p:spPr>
                  <a:xfrm>
                    <a:off x="3872520" y="3767040"/>
                    <a:ext cx="241200" cy="1083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>
                    <a:off x="4074480" y="3825720"/>
                    <a:ext cx="310320" cy="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57" name=""/>
            <p:cNvGrpSpPr/>
            <p:nvPr/>
          </p:nvGrpSpPr>
          <p:grpSpPr>
            <a:xfrm>
              <a:off x="4905720" y="3954600"/>
              <a:ext cx="240480" cy="129960"/>
              <a:chOff x="4905720" y="3954600"/>
              <a:chExt cx="240480" cy="129960"/>
            </a:xfrm>
          </p:grpSpPr>
          <p:sp>
            <p:nvSpPr>
              <p:cNvPr id="1358" name=""/>
              <p:cNvSpPr/>
              <p:nvPr/>
            </p:nvSpPr>
            <p:spPr>
              <a:xfrm>
                <a:off x="4905720" y="3963240"/>
                <a:ext cx="240480" cy="100800"/>
              </a:xfrm>
              <a:prstGeom prst="parallelogram">
                <a:avLst>
                  <a:gd name="adj" fmla="val 59643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971960" y="3954600"/>
                <a:ext cx="17424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0" name=""/>
            <p:cNvGrpSpPr/>
            <p:nvPr/>
          </p:nvGrpSpPr>
          <p:grpSpPr>
            <a:xfrm>
              <a:off x="4353120" y="3954600"/>
              <a:ext cx="617400" cy="129960"/>
              <a:chOff x="4353120" y="3954600"/>
              <a:chExt cx="617400" cy="129960"/>
            </a:xfrm>
          </p:grpSpPr>
          <p:grpSp>
            <p:nvGrpSpPr>
              <p:cNvPr id="1361" name=""/>
              <p:cNvGrpSpPr/>
              <p:nvPr/>
            </p:nvGrpSpPr>
            <p:grpSpPr>
              <a:xfrm>
                <a:off x="4353120" y="3962520"/>
                <a:ext cx="617400" cy="108360"/>
                <a:chOff x="4353120" y="3962520"/>
                <a:chExt cx="617400" cy="10836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4353120" y="4017600"/>
                  <a:ext cx="617400" cy="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4530960" y="3962520"/>
                  <a:ext cx="241200" cy="108360"/>
                </a:xfrm>
                <a:prstGeom prst="ellipse">
                  <a:avLst/>
                </a:prstGeom>
                <a:solidFill>
                  <a:srgbClr val="80808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4" name=""/>
              <p:cNvSpPr/>
              <p:nvPr/>
            </p:nvSpPr>
            <p:spPr>
              <a:xfrm>
                <a:off x="4596840" y="3954600"/>
                <a:ext cx="16704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5" name=""/>
          <p:cNvGrpSpPr/>
          <p:nvPr/>
        </p:nvGrpSpPr>
        <p:grpSpPr>
          <a:xfrm>
            <a:off x="1484280" y="3773520"/>
            <a:ext cx="1311120" cy="550800"/>
            <a:chOff x="1484280" y="3773520"/>
            <a:chExt cx="1311120" cy="550800"/>
          </a:xfrm>
        </p:grpSpPr>
        <p:grpSp>
          <p:nvGrpSpPr>
            <p:cNvPr id="1366" name=""/>
            <p:cNvGrpSpPr/>
            <p:nvPr/>
          </p:nvGrpSpPr>
          <p:grpSpPr>
            <a:xfrm>
              <a:off x="1484280" y="3903840"/>
              <a:ext cx="241920" cy="129960"/>
              <a:chOff x="1484280" y="3903840"/>
              <a:chExt cx="241920" cy="129960"/>
            </a:xfrm>
          </p:grpSpPr>
          <p:sp>
            <p:nvSpPr>
              <p:cNvPr id="1367" name=""/>
              <p:cNvSpPr/>
              <p:nvPr/>
            </p:nvSpPr>
            <p:spPr>
              <a:xfrm>
                <a:off x="1484280" y="3912480"/>
                <a:ext cx="241920" cy="100800"/>
              </a:xfrm>
              <a:prstGeom prst="parallelogram">
                <a:avLst>
                  <a:gd name="adj" fmla="val 60000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1550880" y="3903840"/>
                <a:ext cx="17532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9" name=""/>
            <p:cNvGrpSpPr/>
            <p:nvPr/>
          </p:nvGrpSpPr>
          <p:grpSpPr>
            <a:xfrm>
              <a:off x="2381040" y="3773520"/>
              <a:ext cx="241920" cy="130320"/>
              <a:chOff x="2381040" y="3773520"/>
              <a:chExt cx="241920" cy="130320"/>
            </a:xfrm>
          </p:grpSpPr>
          <p:sp>
            <p:nvSpPr>
              <p:cNvPr id="1370" name=""/>
              <p:cNvSpPr/>
              <p:nvPr/>
            </p:nvSpPr>
            <p:spPr>
              <a:xfrm>
                <a:off x="2381040" y="3782160"/>
                <a:ext cx="241920" cy="101160"/>
              </a:xfrm>
              <a:prstGeom prst="parallelogram">
                <a:avLst>
                  <a:gd name="adj" fmla="val 59786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2447640" y="3773520"/>
                <a:ext cx="17532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2208960" y="4194360"/>
              <a:ext cx="241560" cy="129960"/>
              <a:chOff x="2208960" y="4194360"/>
              <a:chExt cx="241560" cy="129960"/>
            </a:xfrm>
          </p:grpSpPr>
          <p:sp>
            <p:nvSpPr>
              <p:cNvPr id="1373" name=""/>
              <p:cNvSpPr/>
              <p:nvPr/>
            </p:nvSpPr>
            <p:spPr>
              <a:xfrm>
                <a:off x="2208960" y="4203000"/>
                <a:ext cx="241560" cy="100800"/>
              </a:xfrm>
              <a:prstGeom prst="parallelogram">
                <a:avLst>
                  <a:gd name="adj" fmla="val 59911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275560" y="4194360"/>
                <a:ext cx="17496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5" name=""/>
            <p:cNvGrpSpPr/>
            <p:nvPr/>
          </p:nvGrpSpPr>
          <p:grpSpPr>
            <a:xfrm>
              <a:off x="2071080" y="3903840"/>
              <a:ext cx="240120" cy="129960"/>
              <a:chOff x="2071080" y="3903840"/>
              <a:chExt cx="240120" cy="129960"/>
            </a:xfrm>
          </p:grpSpPr>
          <p:sp>
            <p:nvSpPr>
              <p:cNvPr id="1376" name=""/>
              <p:cNvSpPr/>
              <p:nvPr/>
            </p:nvSpPr>
            <p:spPr>
              <a:xfrm>
                <a:off x="2071080" y="3912480"/>
                <a:ext cx="240120" cy="100800"/>
              </a:xfrm>
              <a:prstGeom prst="parallelogram">
                <a:avLst>
                  <a:gd name="adj" fmla="val 59554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137320" y="3903840"/>
                <a:ext cx="173880" cy="12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2553480" y="4157640"/>
              <a:ext cx="241920" cy="130320"/>
              <a:chOff x="2553480" y="4157640"/>
              <a:chExt cx="241920" cy="130320"/>
            </a:xfrm>
          </p:grpSpPr>
          <p:sp>
            <p:nvSpPr>
              <p:cNvPr id="1379" name=""/>
              <p:cNvSpPr/>
              <p:nvPr/>
            </p:nvSpPr>
            <p:spPr>
              <a:xfrm>
                <a:off x="2553480" y="4166280"/>
                <a:ext cx="241920" cy="101160"/>
              </a:xfrm>
              <a:prstGeom prst="parallelogram">
                <a:avLst>
                  <a:gd name="adj" fmla="val 59786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620080" y="4157640"/>
                <a:ext cx="17532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"/>
            <p:cNvGrpSpPr/>
            <p:nvPr/>
          </p:nvGrpSpPr>
          <p:grpSpPr>
            <a:xfrm>
              <a:off x="2450520" y="3954600"/>
              <a:ext cx="240120" cy="130320"/>
              <a:chOff x="2450520" y="3954600"/>
              <a:chExt cx="240120" cy="130320"/>
            </a:xfrm>
          </p:grpSpPr>
          <p:sp>
            <p:nvSpPr>
              <p:cNvPr id="1382" name=""/>
              <p:cNvSpPr/>
              <p:nvPr/>
            </p:nvSpPr>
            <p:spPr>
              <a:xfrm>
                <a:off x="2450520" y="3963240"/>
                <a:ext cx="240120" cy="101160"/>
              </a:xfrm>
              <a:prstGeom prst="parallelogram">
                <a:avLst>
                  <a:gd name="adj" fmla="val 59342"/>
                </a:avLst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2516760" y="3954600"/>
                <a:ext cx="17388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Three-Layer Schema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911160" y="3686040"/>
            <a:ext cx="4333680" cy="1658880"/>
            <a:chOff x="911160" y="3686040"/>
            <a:chExt cx="4333680" cy="1658880"/>
          </a:xfrm>
        </p:grpSpPr>
        <p:sp>
          <p:nvSpPr>
            <p:cNvPr id="1386" name=""/>
            <p:cNvSpPr/>
            <p:nvPr/>
          </p:nvSpPr>
          <p:spPr>
            <a:xfrm>
              <a:off x="911160" y="4873320"/>
              <a:ext cx="43336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CoMMA:Memo rdf:about="</a:t>
              </a: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http://www.inria.fr/comma.rtf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CoMMA:E-Mail rdf:about="</a:t>
              </a: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http://www.inria.fr/comma.rtf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7" name=""/>
            <p:cNvGrpSpPr/>
            <p:nvPr/>
          </p:nvGrpSpPr>
          <p:grpSpPr>
            <a:xfrm>
              <a:off x="1144440" y="3686040"/>
              <a:ext cx="1653480" cy="1446120"/>
              <a:chOff x="1144440" y="3686040"/>
              <a:chExt cx="1653480" cy="1446120"/>
            </a:xfrm>
          </p:grpSpPr>
          <p:grpSp>
            <p:nvGrpSpPr>
              <p:cNvPr id="1388" name=""/>
              <p:cNvGrpSpPr/>
              <p:nvPr/>
            </p:nvGrpSpPr>
            <p:grpSpPr>
              <a:xfrm>
                <a:off x="1749240" y="3686040"/>
                <a:ext cx="1048680" cy="1446120"/>
                <a:chOff x="1749240" y="3686040"/>
                <a:chExt cx="1048680" cy="1446120"/>
              </a:xfrm>
            </p:grpSpPr>
            <p:sp>
              <p:nvSpPr>
                <p:cNvPr id="1389" name=""/>
                <p:cNvSpPr/>
                <p:nvPr/>
              </p:nvSpPr>
              <p:spPr>
                <a:xfrm>
                  <a:off x="1749240" y="3686040"/>
                  <a:ext cx="288720" cy="10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1939680" y="3793680"/>
                  <a:ext cx="63360" cy="32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 flipH="1" flipV="1">
                  <a:off x="2002680" y="4117680"/>
                  <a:ext cx="795240" cy="797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2003040" y="4117680"/>
                  <a:ext cx="650880" cy="101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3" name=""/>
              <p:cNvSpPr/>
              <p:nvPr/>
            </p:nvSpPr>
            <p:spPr>
              <a:xfrm>
                <a:off x="1144440" y="4690800"/>
                <a:ext cx="151920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ourier New"/>
                  </a:rPr>
                  <a:t>Multi-Instanci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4" name=""/>
          <p:cNvSpPr/>
          <p:nvPr/>
        </p:nvSpPr>
        <p:spPr>
          <a:xfrm>
            <a:off x="838080" y="5484960"/>
            <a:ext cx="8223480" cy="76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946080" y="5521320"/>
            <a:ext cx="6116400" cy="579600"/>
            <a:chOff x="946080" y="5521320"/>
            <a:chExt cx="6116400" cy="579600"/>
          </a:xfrm>
        </p:grpSpPr>
        <p:grpSp>
          <p:nvGrpSpPr>
            <p:cNvPr id="1396" name=""/>
            <p:cNvGrpSpPr/>
            <p:nvPr/>
          </p:nvGrpSpPr>
          <p:grpSpPr>
            <a:xfrm>
              <a:off x="946080" y="5521320"/>
              <a:ext cx="869400" cy="288720"/>
              <a:chOff x="946080" y="5521320"/>
              <a:chExt cx="869400" cy="288720"/>
            </a:xfrm>
          </p:grpSpPr>
          <p:grpSp>
            <p:nvGrpSpPr>
              <p:cNvPr id="1397" name=""/>
              <p:cNvGrpSpPr/>
              <p:nvPr/>
            </p:nvGrpSpPr>
            <p:grpSpPr>
              <a:xfrm>
                <a:off x="946080" y="5592600"/>
                <a:ext cx="253800" cy="141840"/>
                <a:chOff x="946080" y="5592600"/>
                <a:chExt cx="253800" cy="141840"/>
              </a:xfrm>
            </p:grpSpPr>
            <p:grpSp>
              <p:nvGrpSpPr>
                <p:cNvPr id="1398" name=""/>
                <p:cNvGrpSpPr/>
                <p:nvPr/>
              </p:nvGrpSpPr>
              <p:grpSpPr>
                <a:xfrm>
                  <a:off x="946080" y="5601960"/>
                  <a:ext cx="253800" cy="132480"/>
                  <a:chOff x="946080" y="5601960"/>
                  <a:chExt cx="253800" cy="132480"/>
                </a:xfrm>
              </p:grpSpPr>
              <p:sp>
                <p:nvSpPr>
                  <p:cNvPr id="1399" name=""/>
                  <p:cNvSpPr/>
                  <p:nvPr/>
                </p:nvSpPr>
                <p:spPr>
                  <a:xfrm>
                    <a:off x="1052640" y="5625000"/>
                    <a:ext cx="104400" cy="76680"/>
                  </a:xfrm>
                  <a:prstGeom prst="foldedCorner">
                    <a:avLst>
                      <a:gd name="adj" fmla="val 44601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>
                    <a:off x="1143720" y="5607000"/>
                    <a:ext cx="21960" cy="58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1" name=""/>
                  <p:cNvSpPr/>
                  <p:nvPr/>
                </p:nvSpPr>
                <p:spPr>
                  <a:xfrm>
                    <a:off x="1046520" y="5606280"/>
                    <a:ext cx="117000" cy="58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2" name=""/>
                  <p:cNvSpPr/>
                  <p:nvPr/>
                </p:nvSpPr>
                <p:spPr>
                  <a:xfrm>
                    <a:off x="1018440" y="5657400"/>
                    <a:ext cx="78120" cy="42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946080" y="5601960"/>
                    <a:ext cx="253800" cy="98640"/>
                  </a:xfrm>
                  <a:prstGeom prst="parallelogram">
                    <a:avLst>
                      <a:gd name="adj" fmla="val 64325"/>
                    </a:avLst>
                  </a:pr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>
                    <a:off x="1113840" y="5699520"/>
                    <a:ext cx="41760" cy="32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>
                    <a:off x="1152000" y="5673600"/>
                    <a:ext cx="41760" cy="32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 rot="19207200">
                    <a:off x="1113480" y="5680080"/>
                    <a:ext cx="78120" cy="32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7" name=""/>
                <p:cNvSpPr/>
                <p:nvPr/>
              </p:nvSpPr>
              <p:spPr>
                <a:xfrm>
                  <a:off x="999360" y="5592600"/>
                  <a:ext cx="200520" cy="13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T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8" name=""/>
              <p:cNvSpPr/>
              <p:nvPr/>
            </p:nvSpPr>
            <p:spPr>
              <a:xfrm>
                <a:off x="1163160" y="5521320"/>
                <a:ext cx="65232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Ter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9" name=""/>
            <p:cNvGrpSpPr/>
            <p:nvPr/>
          </p:nvGrpSpPr>
          <p:grpSpPr>
            <a:xfrm>
              <a:off x="3009600" y="5521320"/>
              <a:ext cx="1773000" cy="217440"/>
              <a:chOff x="3009600" y="5521320"/>
              <a:chExt cx="1773000" cy="217440"/>
            </a:xfrm>
          </p:grpSpPr>
          <p:grpSp>
            <p:nvGrpSpPr>
              <p:cNvPr id="1410" name=""/>
              <p:cNvGrpSpPr/>
              <p:nvPr/>
            </p:nvGrpSpPr>
            <p:grpSpPr>
              <a:xfrm>
                <a:off x="3009600" y="5602320"/>
                <a:ext cx="252360" cy="129960"/>
                <a:chOff x="3009600" y="5602320"/>
                <a:chExt cx="252360" cy="12996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3009600" y="5609160"/>
                  <a:ext cx="252360" cy="100800"/>
                </a:xfrm>
                <a:prstGeom prst="parallelogram">
                  <a:avLst>
                    <a:gd name="adj" fmla="val 62589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3071520" y="5602320"/>
                  <a:ext cx="18468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3" name=""/>
              <p:cNvSpPr/>
              <p:nvPr/>
            </p:nvSpPr>
            <p:spPr>
              <a:xfrm>
                <a:off x="3227040" y="5521320"/>
                <a:ext cx="155556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Intension du concept C</a:t>
                </a:r>
                <a:r>
                  <a:rPr b="0" lang="fr-FR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2973240" y="5883480"/>
              <a:ext cx="1809720" cy="217440"/>
              <a:chOff x="2973240" y="5883480"/>
              <a:chExt cx="1809720" cy="217440"/>
            </a:xfrm>
          </p:grpSpPr>
          <p:grpSp>
            <p:nvGrpSpPr>
              <p:cNvPr id="1415" name=""/>
              <p:cNvGrpSpPr/>
              <p:nvPr/>
            </p:nvGrpSpPr>
            <p:grpSpPr>
              <a:xfrm>
                <a:off x="2973240" y="5940720"/>
                <a:ext cx="254160" cy="129960"/>
                <a:chOff x="2973240" y="5940720"/>
                <a:chExt cx="254160" cy="129960"/>
              </a:xfrm>
            </p:grpSpPr>
            <p:sp>
              <p:nvSpPr>
                <p:cNvPr id="1416" name=""/>
                <p:cNvSpPr/>
                <p:nvPr/>
              </p:nvSpPr>
              <p:spPr>
                <a:xfrm>
                  <a:off x="2973240" y="5949360"/>
                  <a:ext cx="254160" cy="100800"/>
                </a:xfrm>
                <a:prstGeom prst="parallelogram">
                  <a:avLst>
                    <a:gd name="adj" fmla="val 63036"/>
                  </a:avLst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3043080" y="5940720"/>
                  <a:ext cx="1839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8" name=""/>
              <p:cNvSpPr/>
              <p:nvPr/>
            </p:nvSpPr>
            <p:spPr>
              <a:xfrm>
                <a:off x="3227400" y="5883480"/>
                <a:ext cx="155556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Instance of a concep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9" name=""/>
            <p:cNvGrpSpPr/>
            <p:nvPr/>
          </p:nvGrpSpPr>
          <p:grpSpPr>
            <a:xfrm>
              <a:off x="4895640" y="5521320"/>
              <a:ext cx="2166840" cy="217440"/>
              <a:chOff x="4895640" y="5521320"/>
              <a:chExt cx="2166840" cy="217440"/>
            </a:xfrm>
          </p:grpSpPr>
          <p:grpSp>
            <p:nvGrpSpPr>
              <p:cNvPr id="1420" name=""/>
              <p:cNvGrpSpPr/>
              <p:nvPr/>
            </p:nvGrpSpPr>
            <p:grpSpPr>
              <a:xfrm>
                <a:off x="4895640" y="5592600"/>
                <a:ext cx="642600" cy="130320"/>
                <a:chOff x="4895640" y="5592600"/>
                <a:chExt cx="642600" cy="130320"/>
              </a:xfrm>
            </p:grpSpPr>
            <p:grpSp>
              <p:nvGrpSpPr>
                <p:cNvPr id="1421" name=""/>
                <p:cNvGrpSpPr/>
                <p:nvPr/>
              </p:nvGrpSpPr>
              <p:grpSpPr>
                <a:xfrm>
                  <a:off x="4895640" y="5598720"/>
                  <a:ext cx="642600" cy="108720"/>
                  <a:chOff x="4895640" y="5598720"/>
                  <a:chExt cx="642600" cy="108720"/>
                </a:xfrm>
              </p:grpSpPr>
              <p:sp>
                <p:nvSpPr>
                  <p:cNvPr id="1422" name=""/>
                  <p:cNvSpPr/>
                  <p:nvPr/>
                </p:nvSpPr>
                <p:spPr>
                  <a:xfrm>
                    <a:off x="4972680" y="5654160"/>
                    <a:ext cx="46980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4895640" y="5613840"/>
                    <a:ext cx="180720" cy="72360"/>
                  </a:xfrm>
                  <a:prstGeom prst="parallelogram">
                    <a:avLst>
                      <a:gd name="adj" fmla="val 62438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>
                    <a:off x="5088960" y="5598720"/>
                    <a:ext cx="252720" cy="108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5357880" y="5613840"/>
                    <a:ext cx="180360" cy="72360"/>
                  </a:xfrm>
                  <a:prstGeom prst="parallelogram">
                    <a:avLst>
                      <a:gd name="adj" fmla="val 62313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6" name=""/>
                <p:cNvSpPr/>
                <p:nvPr/>
              </p:nvSpPr>
              <p:spPr>
                <a:xfrm>
                  <a:off x="5162040" y="5592600"/>
                  <a:ext cx="174960" cy="13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i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7" name=""/>
              <p:cNvSpPr/>
              <p:nvPr/>
            </p:nvSpPr>
            <p:spPr>
              <a:xfrm>
                <a:off x="5506560" y="5521320"/>
                <a:ext cx="155592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Intension de la relation R</a:t>
                </a:r>
                <a:r>
                  <a:rPr b="0" lang="fr-FR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8" name=""/>
            <p:cNvGrpSpPr/>
            <p:nvPr/>
          </p:nvGrpSpPr>
          <p:grpSpPr>
            <a:xfrm>
              <a:off x="4895640" y="5883480"/>
              <a:ext cx="2166840" cy="217440"/>
              <a:chOff x="4895640" y="5883480"/>
              <a:chExt cx="2166840" cy="217440"/>
            </a:xfrm>
          </p:grpSpPr>
          <p:grpSp>
            <p:nvGrpSpPr>
              <p:cNvPr id="1429" name=""/>
              <p:cNvGrpSpPr/>
              <p:nvPr/>
            </p:nvGrpSpPr>
            <p:grpSpPr>
              <a:xfrm>
                <a:off x="4895640" y="5956560"/>
                <a:ext cx="647640" cy="130320"/>
                <a:chOff x="4895640" y="5956560"/>
                <a:chExt cx="647640" cy="130320"/>
              </a:xfrm>
            </p:grpSpPr>
            <p:grpSp>
              <p:nvGrpSpPr>
                <p:cNvPr id="1430" name=""/>
                <p:cNvGrpSpPr/>
                <p:nvPr/>
              </p:nvGrpSpPr>
              <p:grpSpPr>
                <a:xfrm>
                  <a:off x="4895640" y="5964480"/>
                  <a:ext cx="647640" cy="108720"/>
                  <a:chOff x="4895640" y="5964480"/>
                  <a:chExt cx="647640" cy="108720"/>
                </a:xfrm>
              </p:grpSpPr>
              <p:sp>
                <p:nvSpPr>
                  <p:cNvPr id="1431" name=""/>
                  <p:cNvSpPr/>
                  <p:nvPr/>
                </p:nvSpPr>
                <p:spPr>
                  <a:xfrm>
                    <a:off x="4895640" y="6019920"/>
                    <a:ext cx="647640" cy="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>
                    <a:off x="5082120" y="5964480"/>
                    <a:ext cx="253080" cy="1087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3" name=""/>
                <p:cNvSpPr/>
                <p:nvPr/>
              </p:nvSpPr>
              <p:spPr>
                <a:xfrm>
                  <a:off x="5151240" y="5956560"/>
                  <a:ext cx="174960" cy="13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4" name=""/>
              <p:cNvSpPr/>
              <p:nvPr/>
            </p:nvSpPr>
            <p:spPr>
              <a:xfrm>
                <a:off x="5506560" y="5883480"/>
                <a:ext cx="155592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Times New Roman"/>
                  </a:rPr>
                  <a:t>Instance of a rel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5" name=""/>
          <p:cNvGrpSpPr/>
          <p:nvPr/>
        </p:nvGrpSpPr>
        <p:grpSpPr>
          <a:xfrm>
            <a:off x="7316640" y="5521320"/>
            <a:ext cx="1751040" cy="252360"/>
            <a:chOff x="7316640" y="5521320"/>
            <a:chExt cx="1751040" cy="252360"/>
          </a:xfrm>
        </p:grpSpPr>
        <p:sp>
          <p:nvSpPr>
            <p:cNvPr id="1436" name=""/>
            <p:cNvSpPr/>
            <p:nvPr/>
          </p:nvSpPr>
          <p:spPr>
            <a:xfrm>
              <a:off x="7316640" y="5705640"/>
              <a:ext cx="127080" cy="52200"/>
            </a:xfrm>
            <a:prstGeom prst="parallelogram">
              <a:avLst>
                <a:gd name="adj" fmla="val 60862"/>
              </a:avLst>
            </a:prstGeom>
            <a:solidFill>
              <a:srgbClr val="969696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381800" y="55785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326000" y="5561280"/>
              <a:ext cx="127080" cy="54000"/>
            </a:xfrm>
            <a:prstGeom prst="parallelogram">
              <a:avLst>
                <a:gd name="adj" fmla="val 58833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562520" y="5702400"/>
              <a:ext cx="144720" cy="71280"/>
            </a:xfrm>
            <a:prstGeom prst="ellipse">
              <a:avLst/>
            </a:prstGeom>
            <a:solidFill>
              <a:srgbClr val="969696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634160" y="55785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562520" y="5558040"/>
              <a:ext cx="144720" cy="71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713360" y="5521320"/>
              <a:ext cx="13543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Lien d'instanci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3" name=""/>
          <p:cNvGrpSpPr/>
          <p:nvPr/>
        </p:nvGrpSpPr>
        <p:grpSpPr>
          <a:xfrm>
            <a:off x="7243920" y="5802480"/>
            <a:ext cx="1900080" cy="446040"/>
            <a:chOff x="7243920" y="5802480"/>
            <a:chExt cx="1900080" cy="446040"/>
          </a:xfrm>
        </p:grpSpPr>
        <p:sp>
          <p:nvSpPr>
            <p:cNvPr id="1444" name=""/>
            <p:cNvSpPr/>
            <p:nvPr/>
          </p:nvSpPr>
          <p:spPr>
            <a:xfrm>
              <a:off x="7720200" y="5802480"/>
              <a:ext cx="14238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Extension of concept C</a:t>
              </a:r>
              <a:r>
                <a:rPr b="0" lang="fr-FR" sz="1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or relation R</a:t>
              </a:r>
              <a:r>
                <a:rPr b="0" lang="fr-FR" sz="1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5" name=""/>
            <p:cNvGrpSpPr/>
            <p:nvPr/>
          </p:nvGrpSpPr>
          <p:grpSpPr>
            <a:xfrm>
              <a:off x="7243920" y="5900760"/>
              <a:ext cx="417240" cy="252360"/>
              <a:chOff x="7243920" y="5900760"/>
              <a:chExt cx="417240" cy="252360"/>
            </a:xfrm>
          </p:grpSpPr>
          <p:sp>
            <p:nvSpPr>
              <p:cNvPr id="1446" name=""/>
              <p:cNvSpPr/>
              <p:nvPr/>
            </p:nvSpPr>
            <p:spPr>
              <a:xfrm>
                <a:off x="7405560" y="6022800"/>
                <a:ext cx="20016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C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362720" y="6008400"/>
                <a:ext cx="3672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243920" y="5900760"/>
                <a:ext cx="144360" cy="13788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624800" y="6022800"/>
                <a:ext cx="36360" cy="36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0" name=""/>
            <p:cNvGrpSpPr/>
            <p:nvPr/>
          </p:nvGrpSpPr>
          <p:grpSpPr>
            <a:xfrm>
              <a:off x="7532640" y="5897520"/>
              <a:ext cx="325440" cy="274680"/>
              <a:chOff x="7532640" y="5897520"/>
              <a:chExt cx="325440" cy="274680"/>
            </a:xfrm>
          </p:grpSpPr>
          <p:sp>
            <p:nvSpPr>
              <p:cNvPr id="1451" name=""/>
              <p:cNvSpPr/>
              <p:nvPr/>
            </p:nvSpPr>
            <p:spPr>
              <a:xfrm>
                <a:off x="7658280" y="6041880"/>
                <a:ext cx="19980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R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i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532640" y="5897520"/>
                <a:ext cx="181080" cy="144360"/>
              </a:xfrm>
              <a:prstGeom prst="parallelogram">
                <a:avLst>
                  <a:gd name="adj" fmla="val 48601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3" name=""/>
          <p:cNvGrpSpPr/>
          <p:nvPr/>
        </p:nvGrpSpPr>
        <p:grpSpPr>
          <a:xfrm>
            <a:off x="1820880" y="1555920"/>
            <a:ext cx="2275920" cy="555480"/>
            <a:chOff x="1820880" y="1555920"/>
            <a:chExt cx="2275920" cy="555480"/>
          </a:xfrm>
        </p:grpSpPr>
        <p:grpSp>
          <p:nvGrpSpPr>
            <p:cNvPr id="1454" name=""/>
            <p:cNvGrpSpPr/>
            <p:nvPr/>
          </p:nvGrpSpPr>
          <p:grpSpPr>
            <a:xfrm>
              <a:off x="1820880" y="1766880"/>
              <a:ext cx="240480" cy="140760"/>
              <a:chOff x="1820880" y="1766880"/>
              <a:chExt cx="240480" cy="140760"/>
            </a:xfrm>
          </p:grpSpPr>
          <p:grpSp>
            <p:nvGrpSpPr>
              <p:cNvPr id="1455" name=""/>
              <p:cNvGrpSpPr/>
              <p:nvPr/>
            </p:nvGrpSpPr>
            <p:grpSpPr>
              <a:xfrm>
                <a:off x="1820880" y="1776240"/>
                <a:ext cx="240480" cy="131400"/>
                <a:chOff x="1820880" y="1776240"/>
                <a:chExt cx="240480" cy="131400"/>
              </a:xfrm>
            </p:grpSpPr>
            <p:sp>
              <p:nvSpPr>
                <p:cNvPr id="1456" name=""/>
                <p:cNvSpPr/>
                <p:nvPr/>
              </p:nvSpPr>
              <p:spPr>
                <a:xfrm>
                  <a:off x="1922040" y="1799280"/>
                  <a:ext cx="99000" cy="76680"/>
                </a:xfrm>
                <a:prstGeom prst="foldedCorner">
                  <a:avLst>
                    <a:gd name="adj" fmla="val 44601"/>
                  </a:avLst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2008440" y="1781280"/>
                  <a:ext cx="2088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1915920" y="1780560"/>
                  <a:ext cx="11088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1889280" y="1831680"/>
                  <a:ext cx="7416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1820880" y="1776240"/>
                  <a:ext cx="240480" cy="98640"/>
                </a:xfrm>
                <a:prstGeom prst="parallelogram">
                  <a:avLst>
                    <a:gd name="adj" fmla="val 60949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1980000" y="1873800"/>
                  <a:ext cx="3960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2016000" y="1847880"/>
                  <a:ext cx="3960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 rot="19207200">
                  <a:off x="1980000" y="1854720"/>
                  <a:ext cx="74160" cy="32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4" name=""/>
              <p:cNvSpPr/>
              <p:nvPr/>
            </p:nvSpPr>
            <p:spPr>
              <a:xfrm>
                <a:off x="1871280" y="1766880"/>
                <a:ext cx="189720" cy="13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5" name=""/>
            <p:cNvGrpSpPr/>
            <p:nvPr/>
          </p:nvGrpSpPr>
          <p:grpSpPr>
            <a:xfrm>
              <a:off x="2303640" y="1555920"/>
              <a:ext cx="240480" cy="140760"/>
              <a:chOff x="2303640" y="1555920"/>
              <a:chExt cx="240480" cy="140760"/>
            </a:xfrm>
          </p:grpSpPr>
          <p:grpSp>
            <p:nvGrpSpPr>
              <p:cNvPr id="1466" name=""/>
              <p:cNvGrpSpPr/>
              <p:nvPr/>
            </p:nvGrpSpPr>
            <p:grpSpPr>
              <a:xfrm>
                <a:off x="2303640" y="1565280"/>
                <a:ext cx="240480" cy="131400"/>
                <a:chOff x="2303640" y="1565280"/>
                <a:chExt cx="240480" cy="131400"/>
              </a:xfrm>
            </p:grpSpPr>
            <p:sp>
              <p:nvSpPr>
                <p:cNvPr id="1467" name=""/>
                <p:cNvSpPr/>
                <p:nvPr/>
              </p:nvSpPr>
              <p:spPr>
                <a:xfrm>
                  <a:off x="2404800" y="1588320"/>
                  <a:ext cx="99000" cy="76680"/>
                </a:xfrm>
                <a:prstGeom prst="foldedCorner">
                  <a:avLst>
                    <a:gd name="adj" fmla="val 44601"/>
                  </a:avLst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2491200" y="1570320"/>
                  <a:ext cx="2088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2398680" y="1569600"/>
                  <a:ext cx="11088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2372040" y="1620720"/>
                  <a:ext cx="7416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2303640" y="1565280"/>
                  <a:ext cx="240480" cy="98640"/>
                </a:xfrm>
                <a:prstGeom prst="parallelogram">
                  <a:avLst>
                    <a:gd name="adj" fmla="val 60949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2462760" y="1662840"/>
                  <a:ext cx="3960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2498760" y="1636920"/>
                  <a:ext cx="3960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 rot="19207200">
                  <a:off x="2462760" y="1643760"/>
                  <a:ext cx="74160" cy="32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5" name=""/>
              <p:cNvSpPr/>
              <p:nvPr/>
            </p:nvSpPr>
            <p:spPr>
              <a:xfrm>
                <a:off x="2354040" y="1555920"/>
                <a:ext cx="189720" cy="13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6" name=""/>
            <p:cNvGrpSpPr/>
            <p:nvPr/>
          </p:nvGrpSpPr>
          <p:grpSpPr>
            <a:xfrm>
              <a:off x="3856320" y="1585800"/>
              <a:ext cx="240480" cy="141480"/>
              <a:chOff x="3856320" y="1585800"/>
              <a:chExt cx="240480" cy="141480"/>
            </a:xfrm>
          </p:grpSpPr>
          <p:grpSp>
            <p:nvGrpSpPr>
              <p:cNvPr id="1477" name=""/>
              <p:cNvGrpSpPr/>
              <p:nvPr/>
            </p:nvGrpSpPr>
            <p:grpSpPr>
              <a:xfrm>
                <a:off x="3856320" y="1595520"/>
                <a:ext cx="240480" cy="131760"/>
                <a:chOff x="3856320" y="1595520"/>
                <a:chExt cx="240480" cy="131760"/>
              </a:xfrm>
            </p:grpSpPr>
            <p:sp>
              <p:nvSpPr>
                <p:cNvPr id="1478" name=""/>
                <p:cNvSpPr/>
                <p:nvPr/>
              </p:nvSpPr>
              <p:spPr>
                <a:xfrm>
                  <a:off x="3957480" y="1618560"/>
                  <a:ext cx="99000" cy="77040"/>
                </a:xfrm>
                <a:prstGeom prst="foldedCorner">
                  <a:avLst>
                    <a:gd name="adj" fmla="val 44601"/>
                  </a:avLst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4043880" y="1600560"/>
                  <a:ext cx="20880" cy="58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3951360" y="1599840"/>
                  <a:ext cx="11088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3924720" y="1650960"/>
                  <a:ext cx="74160" cy="42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3856320" y="1595520"/>
                  <a:ext cx="240480" cy="99000"/>
                </a:xfrm>
                <a:prstGeom prst="parallelogram">
                  <a:avLst>
                    <a:gd name="adj" fmla="val 60727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4015440" y="1693440"/>
                  <a:ext cx="3960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4051440" y="1667160"/>
                  <a:ext cx="3960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 rot="19207200">
                  <a:off x="4015440" y="1674360"/>
                  <a:ext cx="74160" cy="32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6" name=""/>
              <p:cNvSpPr/>
              <p:nvPr/>
            </p:nvSpPr>
            <p:spPr>
              <a:xfrm>
                <a:off x="3906720" y="1585800"/>
                <a:ext cx="189720" cy="13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7" name=""/>
            <p:cNvGrpSpPr/>
            <p:nvPr/>
          </p:nvGrpSpPr>
          <p:grpSpPr>
            <a:xfrm>
              <a:off x="2441160" y="1947960"/>
              <a:ext cx="241920" cy="140760"/>
              <a:chOff x="2441160" y="1947960"/>
              <a:chExt cx="241920" cy="140760"/>
            </a:xfrm>
          </p:grpSpPr>
          <p:grpSp>
            <p:nvGrpSpPr>
              <p:cNvPr id="1488" name=""/>
              <p:cNvGrpSpPr/>
              <p:nvPr/>
            </p:nvGrpSpPr>
            <p:grpSpPr>
              <a:xfrm>
                <a:off x="2441160" y="1957320"/>
                <a:ext cx="241920" cy="131400"/>
                <a:chOff x="2441160" y="1957320"/>
                <a:chExt cx="241920" cy="13140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2542680" y="1980360"/>
                  <a:ext cx="99360" cy="76680"/>
                </a:xfrm>
                <a:prstGeom prst="foldedCorner">
                  <a:avLst>
                    <a:gd name="adj" fmla="val 44601"/>
                  </a:avLst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2629800" y="1962360"/>
                  <a:ext cx="2088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2536920" y="1961640"/>
                  <a:ext cx="111600" cy="58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2509920" y="2012760"/>
                  <a:ext cx="74520" cy="42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2441160" y="1957320"/>
                  <a:ext cx="241920" cy="98640"/>
                </a:xfrm>
                <a:prstGeom prst="parallelogram">
                  <a:avLst>
                    <a:gd name="adj" fmla="val 61314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2601360" y="2054880"/>
                  <a:ext cx="3996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2637720" y="2028960"/>
                  <a:ext cx="3996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 rot="19207200">
                  <a:off x="2601360" y="2035800"/>
                  <a:ext cx="74520" cy="32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7" name=""/>
              <p:cNvSpPr/>
              <p:nvPr/>
            </p:nvSpPr>
            <p:spPr>
              <a:xfrm>
                <a:off x="2491920" y="1947960"/>
                <a:ext cx="191160" cy="13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8" name=""/>
            <p:cNvGrpSpPr/>
            <p:nvPr/>
          </p:nvGrpSpPr>
          <p:grpSpPr>
            <a:xfrm>
              <a:off x="3751920" y="1971720"/>
              <a:ext cx="241920" cy="139680"/>
              <a:chOff x="3751920" y="1971720"/>
              <a:chExt cx="241920" cy="139680"/>
            </a:xfrm>
          </p:grpSpPr>
          <p:grpSp>
            <p:nvGrpSpPr>
              <p:cNvPr id="1499" name=""/>
              <p:cNvGrpSpPr/>
              <p:nvPr/>
            </p:nvGrpSpPr>
            <p:grpSpPr>
              <a:xfrm>
                <a:off x="3751920" y="1981080"/>
                <a:ext cx="241920" cy="130320"/>
                <a:chOff x="3751920" y="1981080"/>
                <a:chExt cx="241920" cy="130320"/>
              </a:xfrm>
            </p:grpSpPr>
            <p:sp>
              <p:nvSpPr>
                <p:cNvPr id="1500" name=""/>
                <p:cNvSpPr/>
                <p:nvPr/>
              </p:nvSpPr>
              <p:spPr>
                <a:xfrm>
                  <a:off x="3853440" y="2003760"/>
                  <a:ext cx="99360" cy="75960"/>
                </a:xfrm>
                <a:prstGeom prst="foldedCorner">
                  <a:avLst>
                    <a:gd name="adj" fmla="val 44601"/>
                  </a:avLst>
                </a:prstGeom>
                <a:solidFill>
                  <a:srgbClr val="ffffff"/>
                </a:solidFill>
                <a:ln w="32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3940560" y="1986120"/>
                  <a:ext cx="20880" cy="57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3847680" y="1985400"/>
                  <a:ext cx="111600" cy="57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3820680" y="2035800"/>
                  <a:ext cx="74520" cy="42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3751920" y="1981080"/>
                  <a:ext cx="241920" cy="97560"/>
                </a:xfrm>
                <a:prstGeom prst="parallelogram">
                  <a:avLst>
                    <a:gd name="adj" fmla="val 61993"/>
                  </a:avLst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3912120" y="2077560"/>
                  <a:ext cx="39960" cy="32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3948480" y="2052000"/>
                  <a:ext cx="39960" cy="32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 rot="19207200">
                  <a:off x="3911760" y="2058840"/>
                  <a:ext cx="74520" cy="32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8" name=""/>
              <p:cNvSpPr/>
              <p:nvPr/>
            </p:nvSpPr>
            <p:spPr>
              <a:xfrm>
                <a:off x="3802680" y="1971720"/>
                <a:ext cx="191160" cy="12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800" spc="-1" strike="noStrike">
                    <a:solidFill>
                      <a:srgbClr val="000000"/>
                    </a:solidFill>
                    <a:latin typeface="Courier New"/>
                  </a:rPr>
                  <a:t>T</a:t>
                </a:r>
                <a:r>
                  <a:rPr b="1" i="1" lang="fr-FR" sz="800" spc="-1" strike="noStrike" baseline="-25000">
                    <a:solidFill>
                      <a:srgbClr val="000000"/>
                    </a:solidFill>
                    <a:latin typeface="Courier New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9" name=""/>
          <p:cNvGrpSpPr/>
          <p:nvPr/>
        </p:nvGrpSpPr>
        <p:grpSpPr>
          <a:xfrm>
            <a:off x="795960" y="1163880"/>
            <a:ext cx="4748400" cy="3355560"/>
            <a:chOff x="795960" y="1163880"/>
            <a:chExt cx="4748400" cy="3355560"/>
          </a:xfrm>
        </p:grpSpPr>
        <p:grpSp>
          <p:nvGrpSpPr>
            <p:cNvPr id="1510" name=""/>
            <p:cNvGrpSpPr/>
            <p:nvPr/>
          </p:nvGrpSpPr>
          <p:grpSpPr>
            <a:xfrm>
              <a:off x="990360" y="2419200"/>
              <a:ext cx="4519440" cy="1014480"/>
              <a:chOff x="990360" y="2419200"/>
              <a:chExt cx="4519440" cy="1014480"/>
            </a:xfrm>
          </p:grpSpPr>
          <p:sp>
            <p:nvSpPr>
              <p:cNvPr id="1511" name=""/>
              <p:cNvSpPr/>
              <p:nvPr/>
            </p:nvSpPr>
            <p:spPr>
              <a:xfrm flipH="1">
                <a:off x="990360" y="2600280"/>
                <a:ext cx="517320" cy="833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H="1">
                <a:off x="1507680" y="2419200"/>
                <a:ext cx="103320" cy="18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H="1">
                <a:off x="990360" y="3433680"/>
                <a:ext cx="43815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H="1">
                <a:off x="5303160" y="3433680"/>
                <a:ext cx="206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5" name=""/>
            <p:cNvGrpSpPr/>
            <p:nvPr/>
          </p:nvGrpSpPr>
          <p:grpSpPr>
            <a:xfrm>
              <a:off x="990360" y="1260360"/>
              <a:ext cx="4519440" cy="1014480"/>
              <a:chOff x="990360" y="1260360"/>
              <a:chExt cx="4519440" cy="1014480"/>
            </a:xfrm>
          </p:grpSpPr>
          <p:sp>
            <p:nvSpPr>
              <p:cNvPr id="1516" name=""/>
              <p:cNvSpPr/>
              <p:nvPr/>
            </p:nvSpPr>
            <p:spPr>
              <a:xfrm flipH="1">
                <a:off x="990360" y="1441440"/>
                <a:ext cx="517320" cy="833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H="1">
                <a:off x="1507680" y="1260360"/>
                <a:ext cx="103320" cy="18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H="1">
                <a:off x="990360" y="2274840"/>
                <a:ext cx="43815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H="1">
                <a:off x="5303160" y="2274840"/>
                <a:ext cx="206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0" name=""/>
            <p:cNvGrpSpPr/>
            <p:nvPr/>
          </p:nvGrpSpPr>
          <p:grpSpPr>
            <a:xfrm>
              <a:off x="1025280" y="3505320"/>
              <a:ext cx="4519080" cy="1014120"/>
              <a:chOff x="1025280" y="3505320"/>
              <a:chExt cx="4519080" cy="1014120"/>
            </a:xfrm>
          </p:grpSpPr>
          <p:sp>
            <p:nvSpPr>
              <p:cNvPr id="1521" name=""/>
              <p:cNvSpPr/>
              <p:nvPr/>
            </p:nvSpPr>
            <p:spPr>
              <a:xfrm flipH="1">
                <a:off x="1025280" y="3686400"/>
                <a:ext cx="517320" cy="833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H="1">
                <a:off x="1542600" y="3505320"/>
                <a:ext cx="103320" cy="18108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H="1">
                <a:off x="1025640" y="4519440"/>
                <a:ext cx="43812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H="1">
                <a:off x="5337720" y="4519440"/>
                <a:ext cx="206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5" name=""/>
            <p:cNvSpPr txBox="1"/>
            <p:nvPr/>
          </p:nvSpPr>
          <p:spPr>
            <a:xfrm rot="18167400">
              <a:off x="598680" y="1627560"/>
              <a:ext cx="1206360" cy="18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Terminological Leve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26" name=""/>
            <p:cNvSpPr txBox="1"/>
            <p:nvPr/>
          </p:nvSpPr>
          <p:spPr>
            <a:xfrm rot="18167400">
              <a:off x="643320" y="2829960"/>
              <a:ext cx="1110960" cy="13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Intensional Leve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527" name=""/>
            <p:cNvSpPr txBox="1"/>
            <p:nvPr/>
          </p:nvSpPr>
          <p:spPr>
            <a:xfrm rot="18167400">
              <a:off x="662400" y="3907800"/>
              <a:ext cx="1152360" cy="123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Extensional Leve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304920" y="76320"/>
            <a:ext cx="5257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82760" indent="-444600">
              <a:lnSpc>
                <a:spcPct val="10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Utilisation de RDF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9" name=""/>
          <p:cNvGrpSpPr/>
          <p:nvPr/>
        </p:nvGrpSpPr>
        <p:grpSpPr>
          <a:xfrm>
            <a:off x="1688760" y="3179880"/>
            <a:ext cx="2517480" cy="1085760"/>
            <a:chOff x="1688760" y="3179880"/>
            <a:chExt cx="2517480" cy="1085760"/>
          </a:xfrm>
        </p:grpSpPr>
        <p:sp>
          <p:nvSpPr>
            <p:cNvPr id="1530" name=""/>
            <p:cNvSpPr/>
            <p:nvPr/>
          </p:nvSpPr>
          <p:spPr>
            <a:xfrm flipH="1">
              <a:off x="2275920" y="3429000"/>
              <a:ext cx="390240" cy="5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2662920" y="3200400"/>
              <a:ext cx="147960" cy="233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2551680" y="3434040"/>
              <a:ext cx="20520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2757240" y="3216240"/>
              <a:ext cx="104400" cy="217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2412000" y="3434040"/>
              <a:ext cx="379800" cy="83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2791800" y="3179880"/>
              <a:ext cx="104040" cy="254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2653920" y="3434040"/>
              <a:ext cx="17244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2826360" y="3216240"/>
              <a:ext cx="69480" cy="217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>
              <a:off x="2723400" y="3434040"/>
              <a:ext cx="137880" cy="75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2861640" y="3216240"/>
              <a:ext cx="34560" cy="217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3412080" y="3216240"/>
              <a:ext cx="104040" cy="217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1688760" y="3432240"/>
              <a:ext cx="30996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1998720" y="3251160"/>
              <a:ext cx="102600" cy="18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H="1">
              <a:off x="1689120" y="3432240"/>
              <a:ext cx="58536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2274120" y="3251160"/>
              <a:ext cx="207000" cy="18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3964680" y="3432240"/>
              <a:ext cx="13752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4101840" y="3251160"/>
              <a:ext cx="69480" cy="18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H="1">
              <a:off x="3929400" y="3419640"/>
              <a:ext cx="207000" cy="61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>
              <a:off x="4136760" y="3238560"/>
              <a:ext cx="69480" cy="18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3792240" y="3456000"/>
              <a:ext cx="275040" cy="79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>
              <a:off x="4067280" y="3238560"/>
              <a:ext cx="69480" cy="217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3171960" y="3434040"/>
              <a:ext cx="24048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2" name=""/>
          <p:cNvGrpSpPr/>
          <p:nvPr/>
        </p:nvGrpSpPr>
        <p:grpSpPr>
          <a:xfrm>
            <a:off x="1298520" y="2527200"/>
            <a:ext cx="4201560" cy="745560"/>
            <a:chOff x="1298520" y="2527200"/>
            <a:chExt cx="4201560" cy="745560"/>
          </a:xfrm>
        </p:grpSpPr>
        <p:grpSp>
          <p:nvGrpSpPr>
            <p:cNvPr id="1553" name=""/>
            <p:cNvGrpSpPr/>
            <p:nvPr/>
          </p:nvGrpSpPr>
          <p:grpSpPr>
            <a:xfrm>
              <a:off x="1298520" y="2599920"/>
              <a:ext cx="1725120" cy="658440"/>
              <a:chOff x="1298520" y="2599920"/>
              <a:chExt cx="1725120" cy="658440"/>
            </a:xfrm>
          </p:grpSpPr>
          <p:sp>
            <p:nvSpPr>
              <p:cNvPr id="1554" name=""/>
              <p:cNvSpPr/>
              <p:nvPr/>
            </p:nvSpPr>
            <p:spPr>
              <a:xfrm flipV="1">
                <a:off x="2540880" y="2910960"/>
                <a:ext cx="13788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 flipV="1">
                <a:off x="2678400" y="2910960"/>
                <a:ext cx="27612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 flipV="1">
                <a:off x="2333880" y="2621160"/>
                <a:ext cx="41400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V="1">
                <a:off x="1781640" y="2910960"/>
                <a:ext cx="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V="1">
                <a:off x="2195640" y="2946960"/>
                <a:ext cx="482760" cy="21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V="1">
                <a:off x="1401840" y="2910960"/>
                <a:ext cx="41400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V="1">
                <a:off x="1816200" y="2657520"/>
                <a:ext cx="483120" cy="21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1" name=""/>
              <p:cNvGrpSpPr/>
              <p:nvPr/>
            </p:nvGrpSpPr>
            <p:grpSpPr>
              <a:xfrm>
                <a:off x="1677960" y="2853360"/>
                <a:ext cx="241560" cy="129960"/>
                <a:chOff x="1677960" y="2853360"/>
                <a:chExt cx="241560" cy="129960"/>
              </a:xfrm>
            </p:grpSpPr>
            <p:sp>
              <p:nvSpPr>
                <p:cNvPr id="1562" name=""/>
                <p:cNvSpPr/>
                <p:nvPr/>
              </p:nvSpPr>
              <p:spPr>
                <a:xfrm>
                  <a:off x="1677960" y="2860200"/>
                  <a:ext cx="241560" cy="100800"/>
                </a:xfrm>
                <a:prstGeom prst="parallelogram">
                  <a:avLst>
                    <a:gd name="adj" fmla="val 59911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1737000" y="2853360"/>
                  <a:ext cx="1767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4" name=""/>
              <p:cNvGrpSpPr/>
              <p:nvPr/>
            </p:nvGrpSpPr>
            <p:grpSpPr>
              <a:xfrm>
                <a:off x="2230200" y="2599920"/>
                <a:ext cx="241200" cy="129960"/>
                <a:chOff x="2230200" y="2599920"/>
                <a:chExt cx="241200" cy="129960"/>
              </a:xfrm>
            </p:grpSpPr>
            <p:sp>
              <p:nvSpPr>
                <p:cNvPr id="1565" name=""/>
                <p:cNvSpPr/>
                <p:nvPr/>
              </p:nvSpPr>
              <p:spPr>
                <a:xfrm>
                  <a:off x="2230200" y="2606760"/>
                  <a:ext cx="241200" cy="100800"/>
                </a:xfrm>
                <a:prstGeom prst="parallelogram">
                  <a:avLst>
                    <a:gd name="adj" fmla="val 59821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2289240" y="2599920"/>
                  <a:ext cx="17640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7" name=""/>
              <p:cNvGrpSpPr/>
              <p:nvPr/>
            </p:nvGrpSpPr>
            <p:grpSpPr>
              <a:xfrm>
                <a:off x="2575440" y="2874960"/>
                <a:ext cx="241560" cy="129960"/>
                <a:chOff x="2575440" y="2874960"/>
                <a:chExt cx="241560" cy="129960"/>
              </a:xfrm>
            </p:grpSpPr>
            <p:sp>
              <p:nvSpPr>
                <p:cNvPr id="1568" name=""/>
                <p:cNvSpPr/>
                <p:nvPr/>
              </p:nvSpPr>
              <p:spPr>
                <a:xfrm>
                  <a:off x="2575440" y="2881800"/>
                  <a:ext cx="241560" cy="100800"/>
                </a:xfrm>
                <a:prstGeom prst="parallelogram">
                  <a:avLst>
                    <a:gd name="adj" fmla="val 59911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2634480" y="2874960"/>
                  <a:ext cx="1767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0" name=""/>
              <p:cNvGrpSpPr/>
              <p:nvPr/>
            </p:nvGrpSpPr>
            <p:grpSpPr>
              <a:xfrm>
                <a:off x="1298520" y="3128400"/>
                <a:ext cx="241560" cy="129960"/>
                <a:chOff x="1298520" y="3128400"/>
                <a:chExt cx="241560" cy="129960"/>
              </a:xfrm>
            </p:grpSpPr>
            <p:sp>
              <p:nvSpPr>
                <p:cNvPr id="1571" name=""/>
                <p:cNvSpPr/>
                <p:nvPr/>
              </p:nvSpPr>
              <p:spPr>
                <a:xfrm>
                  <a:off x="1298520" y="3135240"/>
                  <a:ext cx="241560" cy="100800"/>
                </a:xfrm>
                <a:prstGeom prst="parallelogram">
                  <a:avLst>
                    <a:gd name="adj" fmla="val 59911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1357560" y="3128400"/>
                  <a:ext cx="1767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3" name=""/>
              <p:cNvGrpSpPr/>
              <p:nvPr/>
            </p:nvGrpSpPr>
            <p:grpSpPr>
              <a:xfrm>
                <a:off x="1643400" y="3128400"/>
                <a:ext cx="241200" cy="129960"/>
                <a:chOff x="1643400" y="3128400"/>
                <a:chExt cx="241200" cy="129960"/>
              </a:xfrm>
            </p:grpSpPr>
            <p:sp>
              <p:nvSpPr>
                <p:cNvPr id="1574" name=""/>
                <p:cNvSpPr/>
                <p:nvPr/>
              </p:nvSpPr>
              <p:spPr>
                <a:xfrm>
                  <a:off x="1643400" y="3135240"/>
                  <a:ext cx="241200" cy="100800"/>
                </a:xfrm>
                <a:prstGeom prst="parallelogram">
                  <a:avLst>
                    <a:gd name="adj" fmla="val 59821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1702440" y="3128400"/>
                  <a:ext cx="17640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6" name=""/>
              <p:cNvGrpSpPr/>
              <p:nvPr/>
            </p:nvGrpSpPr>
            <p:grpSpPr>
              <a:xfrm>
                <a:off x="2091960" y="3128400"/>
                <a:ext cx="241560" cy="129960"/>
                <a:chOff x="2091960" y="3128400"/>
                <a:chExt cx="241560" cy="129960"/>
              </a:xfrm>
            </p:grpSpPr>
            <p:sp>
              <p:nvSpPr>
                <p:cNvPr id="1577" name=""/>
                <p:cNvSpPr/>
                <p:nvPr/>
              </p:nvSpPr>
              <p:spPr>
                <a:xfrm>
                  <a:off x="2091960" y="3135240"/>
                  <a:ext cx="241560" cy="100800"/>
                </a:xfrm>
                <a:prstGeom prst="parallelogram">
                  <a:avLst>
                    <a:gd name="adj" fmla="val 59911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2151000" y="3128400"/>
                  <a:ext cx="17676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9" name=""/>
              <p:cNvGrpSpPr/>
              <p:nvPr/>
            </p:nvGrpSpPr>
            <p:grpSpPr>
              <a:xfrm>
                <a:off x="2437200" y="3128400"/>
                <a:ext cx="241200" cy="129960"/>
                <a:chOff x="2437200" y="3128400"/>
                <a:chExt cx="241200" cy="129960"/>
              </a:xfrm>
            </p:grpSpPr>
            <p:sp>
              <p:nvSpPr>
                <p:cNvPr id="1580" name=""/>
                <p:cNvSpPr/>
                <p:nvPr/>
              </p:nvSpPr>
              <p:spPr>
                <a:xfrm>
                  <a:off x="2437200" y="3135240"/>
                  <a:ext cx="241200" cy="100800"/>
                </a:xfrm>
                <a:prstGeom prst="parallelogram">
                  <a:avLst>
                    <a:gd name="adj" fmla="val 59821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2496240" y="3128400"/>
                  <a:ext cx="17640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7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2" name=""/>
              <p:cNvGrpSpPr/>
              <p:nvPr/>
            </p:nvGrpSpPr>
            <p:grpSpPr>
              <a:xfrm>
                <a:off x="2782440" y="3128400"/>
                <a:ext cx="241200" cy="129960"/>
                <a:chOff x="2782440" y="3128400"/>
                <a:chExt cx="241200" cy="129960"/>
              </a:xfrm>
            </p:grpSpPr>
            <p:sp>
              <p:nvSpPr>
                <p:cNvPr id="1583" name=""/>
                <p:cNvSpPr/>
                <p:nvPr/>
              </p:nvSpPr>
              <p:spPr>
                <a:xfrm>
                  <a:off x="2782440" y="3135240"/>
                  <a:ext cx="241200" cy="100800"/>
                </a:xfrm>
                <a:prstGeom prst="parallelogram">
                  <a:avLst>
                    <a:gd name="adj" fmla="val 59821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2841480" y="3128400"/>
                  <a:ext cx="17640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8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85" name=""/>
            <p:cNvGrpSpPr/>
            <p:nvPr/>
          </p:nvGrpSpPr>
          <p:grpSpPr>
            <a:xfrm>
              <a:off x="3266280" y="2527200"/>
              <a:ext cx="2233800" cy="745560"/>
              <a:chOff x="3266280" y="2527200"/>
              <a:chExt cx="2233800" cy="745560"/>
            </a:xfrm>
          </p:grpSpPr>
          <p:sp>
            <p:nvSpPr>
              <p:cNvPr id="1586" name=""/>
              <p:cNvSpPr/>
              <p:nvPr/>
            </p:nvSpPr>
            <p:spPr>
              <a:xfrm flipH="1">
                <a:off x="4266360" y="2599560"/>
                <a:ext cx="275760" cy="61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flipH="1">
                <a:off x="3576600" y="2889360"/>
                <a:ext cx="827280" cy="32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4542120" y="2599560"/>
                <a:ext cx="65520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404240" y="2925360"/>
                <a:ext cx="655200" cy="28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0" name=""/>
              <p:cNvGrpSpPr/>
              <p:nvPr/>
            </p:nvGrpSpPr>
            <p:grpSpPr>
              <a:xfrm>
                <a:off x="4231800" y="2527200"/>
                <a:ext cx="613080" cy="129960"/>
                <a:chOff x="4231800" y="2527200"/>
                <a:chExt cx="613080" cy="129960"/>
              </a:xfrm>
            </p:grpSpPr>
            <p:grpSp>
              <p:nvGrpSpPr>
                <p:cNvPr id="1591" name=""/>
                <p:cNvGrpSpPr/>
                <p:nvPr/>
              </p:nvGrpSpPr>
              <p:grpSpPr>
                <a:xfrm>
                  <a:off x="4231800" y="2533320"/>
                  <a:ext cx="613080" cy="108360"/>
                  <a:chOff x="4231800" y="2533320"/>
                  <a:chExt cx="613080" cy="108360"/>
                </a:xfrm>
              </p:grpSpPr>
              <p:sp>
                <p:nvSpPr>
                  <p:cNvPr id="1592" name=""/>
                  <p:cNvSpPr/>
                  <p:nvPr/>
                </p:nvSpPr>
                <p:spPr>
                  <a:xfrm>
                    <a:off x="4305600" y="2588400"/>
                    <a:ext cx="44820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3" name=""/>
                  <p:cNvSpPr/>
                  <p:nvPr/>
                </p:nvSpPr>
                <p:spPr>
                  <a:xfrm>
                    <a:off x="4231800" y="2548440"/>
                    <a:ext cx="172440" cy="72360"/>
                  </a:xfrm>
                  <a:prstGeom prst="parallelogram">
                    <a:avLst>
                      <a:gd name="adj" fmla="val 59577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4" name=""/>
                  <p:cNvSpPr/>
                  <p:nvPr/>
                </p:nvSpPr>
                <p:spPr>
                  <a:xfrm>
                    <a:off x="4416120" y="2533320"/>
                    <a:ext cx="241200" cy="10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5" name=""/>
                  <p:cNvSpPr/>
                  <p:nvPr/>
                </p:nvSpPr>
                <p:spPr>
                  <a:xfrm>
                    <a:off x="4672800" y="2548440"/>
                    <a:ext cx="172080" cy="72360"/>
                  </a:xfrm>
                  <a:prstGeom prst="parallelogram">
                    <a:avLst>
                      <a:gd name="adj" fmla="val 59453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96" name=""/>
                <p:cNvSpPr/>
                <p:nvPr/>
              </p:nvSpPr>
              <p:spPr>
                <a:xfrm>
                  <a:off x="4485960" y="2527200"/>
                  <a:ext cx="16668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7" name=""/>
              <p:cNvGrpSpPr/>
              <p:nvPr/>
            </p:nvGrpSpPr>
            <p:grpSpPr>
              <a:xfrm>
                <a:off x="4093560" y="2831400"/>
                <a:ext cx="613080" cy="129960"/>
                <a:chOff x="4093560" y="2831400"/>
                <a:chExt cx="613080" cy="129960"/>
              </a:xfrm>
            </p:grpSpPr>
            <p:grpSp>
              <p:nvGrpSpPr>
                <p:cNvPr id="1598" name=""/>
                <p:cNvGrpSpPr/>
                <p:nvPr/>
              </p:nvGrpSpPr>
              <p:grpSpPr>
                <a:xfrm>
                  <a:off x="4093560" y="2837520"/>
                  <a:ext cx="613080" cy="108360"/>
                  <a:chOff x="4093560" y="2837520"/>
                  <a:chExt cx="613080" cy="108360"/>
                </a:xfrm>
              </p:grpSpPr>
              <p:sp>
                <p:nvSpPr>
                  <p:cNvPr id="1599" name=""/>
                  <p:cNvSpPr/>
                  <p:nvPr/>
                </p:nvSpPr>
                <p:spPr>
                  <a:xfrm>
                    <a:off x="4167360" y="2892600"/>
                    <a:ext cx="44820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>
                    <a:off x="4093560" y="2852640"/>
                    <a:ext cx="172440" cy="72360"/>
                  </a:xfrm>
                  <a:prstGeom prst="parallelogram">
                    <a:avLst>
                      <a:gd name="adj" fmla="val 59577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>
                    <a:off x="4277880" y="2837520"/>
                    <a:ext cx="241200" cy="10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>
                    <a:off x="4534560" y="2852640"/>
                    <a:ext cx="172080" cy="72360"/>
                  </a:xfrm>
                  <a:prstGeom prst="parallelogram">
                    <a:avLst>
                      <a:gd name="adj" fmla="val 59453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3" name=""/>
                <p:cNvSpPr/>
                <p:nvPr/>
              </p:nvSpPr>
              <p:spPr>
                <a:xfrm>
                  <a:off x="4347720" y="2831400"/>
                  <a:ext cx="16668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4" name=""/>
              <p:cNvGrpSpPr/>
              <p:nvPr/>
            </p:nvGrpSpPr>
            <p:grpSpPr>
              <a:xfrm>
                <a:off x="3266280" y="3142800"/>
                <a:ext cx="613080" cy="129960"/>
                <a:chOff x="3266280" y="3142800"/>
                <a:chExt cx="613080" cy="129960"/>
              </a:xfrm>
            </p:grpSpPr>
            <p:grpSp>
              <p:nvGrpSpPr>
                <p:cNvPr id="1605" name=""/>
                <p:cNvGrpSpPr/>
                <p:nvPr/>
              </p:nvGrpSpPr>
              <p:grpSpPr>
                <a:xfrm>
                  <a:off x="3266280" y="3148920"/>
                  <a:ext cx="613080" cy="108360"/>
                  <a:chOff x="3266280" y="3148920"/>
                  <a:chExt cx="613080" cy="108360"/>
                </a:xfrm>
              </p:grpSpPr>
              <p:sp>
                <p:nvSpPr>
                  <p:cNvPr id="1606" name=""/>
                  <p:cNvSpPr/>
                  <p:nvPr/>
                </p:nvSpPr>
                <p:spPr>
                  <a:xfrm>
                    <a:off x="3340080" y="3204000"/>
                    <a:ext cx="44820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3266280" y="3164040"/>
                    <a:ext cx="172440" cy="72360"/>
                  </a:xfrm>
                  <a:prstGeom prst="parallelogram">
                    <a:avLst>
                      <a:gd name="adj" fmla="val 59577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>
                    <a:off x="3450600" y="3148920"/>
                    <a:ext cx="241200" cy="10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9" name=""/>
                  <p:cNvSpPr/>
                  <p:nvPr/>
                </p:nvSpPr>
                <p:spPr>
                  <a:xfrm>
                    <a:off x="3707280" y="3164040"/>
                    <a:ext cx="172080" cy="72360"/>
                  </a:xfrm>
                  <a:prstGeom prst="parallelogram">
                    <a:avLst>
                      <a:gd name="adj" fmla="val 59453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0" name=""/>
                <p:cNvSpPr/>
                <p:nvPr/>
              </p:nvSpPr>
              <p:spPr>
                <a:xfrm>
                  <a:off x="3520440" y="3142800"/>
                  <a:ext cx="16668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1" name=""/>
              <p:cNvGrpSpPr/>
              <p:nvPr/>
            </p:nvGrpSpPr>
            <p:grpSpPr>
              <a:xfrm>
                <a:off x="3955680" y="3142800"/>
                <a:ext cx="613080" cy="129960"/>
                <a:chOff x="3955680" y="3142800"/>
                <a:chExt cx="613080" cy="129960"/>
              </a:xfrm>
            </p:grpSpPr>
            <p:grpSp>
              <p:nvGrpSpPr>
                <p:cNvPr id="1612" name=""/>
                <p:cNvGrpSpPr/>
                <p:nvPr/>
              </p:nvGrpSpPr>
              <p:grpSpPr>
                <a:xfrm>
                  <a:off x="3955680" y="3148920"/>
                  <a:ext cx="613080" cy="108360"/>
                  <a:chOff x="3955680" y="3148920"/>
                  <a:chExt cx="613080" cy="108360"/>
                </a:xfrm>
              </p:grpSpPr>
              <p:sp>
                <p:nvSpPr>
                  <p:cNvPr id="1613" name=""/>
                  <p:cNvSpPr/>
                  <p:nvPr/>
                </p:nvSpPr>
                <p:spPr>
                  <a:xfrm>
                    <a:off x="4029480" y="3204000"/>
                    <a:ext cx="44820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4" name=""/>
                  <p:cNvSpPr/>
                  <p:nvPr/>
                </p:nvSpPr>
                <p:spPr>
                  <a:xfrm>
                    <a:off x="3955680" y="3164040"/>
                    <a:ext cx="172440" cy="72360"/>
                  </a:xfrm>
                  <a:prstGeom prst="parallelogram">
                    <a:avLst>
                      <a:gd name="adj" fmla="val 59577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5" name=""/>
                  <p:cNvSpPr/>
                  <p:nvPr/>
                </p:nvSpPr>
                <p:spPr>
                  <a:xfrm>
                    <a:off x="4140000" y="3148920"/>
                    <a:ext cx="241200" cy="10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>
                    <a:off x="4396680" y="3164040"/>
                    <a:ext cx="172080" cy="72360"/>
                  </a:xfrm>
                  <a:prstGeom prst="parallelogram">
                    <a:avLst>
                      <a:gd name="adj" fmla="val 59453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7" name=""/>
                <p:cNvSpPr/>
                <p:nvPr/>
              </p:nvSpPr>
              <p:spPr>
                <a:xfrm>
                  <a:off x="4209840" y="3142800"/>
                  <a:ext cx="16668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8" name=""/>
              <p:cNvGrpSpPr/>
              <p:nvPr/>
            </p:nvGrpSpPr>
            <p:grpSpPr>
              <a:xfrm>
                <a:off x="4653000" y="3142800"/>
                <a:ext cx="613080" cy="129960"/>
                <a:chOff x="4653000" y="3142800"/>
                <a:chExt cx="613080" cy="129960"/>
              </a:xfrm>
            </p:grpSpPr>
            <p:grpSp>
              <p:nvGrpSpPr>
                <p:cNvPr id="1619" name=""/>
                <p:cNvGrpSpPr/>
                <p:nvPr/>
              </p:nvGrpSpPr>
              <p:grpSpPr>
                <a:xfrm>
                  <a:off x="4653000" y="3148920"/>
                  <a:ext cx="613080" cy="108360"/>
                  <a:chOff x="4653000" y="3148920"/>
                  <a:chExt cx="613080" cy="108360"/>
                </a:xfrm>
              </p:grpSpPr>
              <p:sp>
                <p:nvSpPr>
                  <p:cNvPr id="1620" name=""/>
                  <p:cNvSpPr/>
                  <p:nvPr/>
                </p:nvSpPr>
                <p:spPr>
                  <a:xfrm>
                    <a:off x="4726800" y="3204000"/>
                    <a:ext cx="44820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>
                    <a:off x="4653000" y="3164040"/>
                    <a:ext cx="172440" cy="72360"/>
                  </a:xfrm>
                  <a:prstGeom prst="parallelogram">
                    <a:avLst>
                      <a:gd name="adj" fmla="val 59577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2" name=""/>
                  <p:cNvSpPr/>
                  <p:nvPr/>
                </p:nvSpPr>
                <p:spPr>
                  <a:xfrm>
                    <a:off x="4837320" y="3148920"/>
                    <a:ext cx="241200" cy="10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>
                    <a:off x="5094000" y="3164040"/>
                    <a:ext cx="172080" cy="72360"/>
                  </a:xfrm>
                  <a:prstGeom prst="parallelogram">
                    <a:avLst>
                      <a:gd name="adj" fmla="val 59453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24" name=""/>
                <p:cNvSpPr/>
                <p:nvPr/>
              </p:nvSpPr>
              <p:spPr>
                <a:xfrm>
                  <a:off x="4907160" y="3142800"/>
                  <a:ext cx="16668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5" name=""/>
              <p:cNvGrpSpPr/>
              <p:nvPr/>
            </p:nvGrpSpPr>
            <p:grpSpPr>
              <a:xfrm>
                <a:off x="4887000" y="2827080"/>
                <a:ext cx="613080" cy="129960"/>
                <a:chOff x="4887000" y="2827080"/>
                <a:chExt cx="613080" cy="129960"/>
              </a:xfrm>
            </p:grpSpPr>
            <p:grpSp>
              <p:nvGrpSpPr>
                <p:cNvPr id="1626" name=""/>
                <p:cNvGrpSpPr/>
                <p:nvPr/>
              </p:nvGrpSpPr>
              <p:grpSpPr>
                <a:xfrm>
                  <a:off x="4887000" y="2833200"/>
                  <a:ext cx="613080" cy="108360"/>
                  <a:chOff x="4887000" y="2833200"/>
                  <a:chExt cx="613080" cy="108360"/>
                </a:xfrm>
              </p:grpSpPr>
              <p:sp>
                <p:nvSpPr>
                  <p:cNvPr id="1627" name=""/>
                  <p:cNvSpPr/>
                  <p:nvPr/>
                </p:nvSpPr>
                <p:spPr>
                  <a:xfrm>
                    <a:off x="4960800" y="2888280"/>
                    <a:ext cx="44820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>
                    <a:off x="4887000" y="2848320"/>
                    <a:ext cx="172440" cy="72360"/>
                  </a:xfrm>
                  <a:prstGeom prst="parallelogram">
                    <a:avLst>
                      <a:gd name="adj" fmla="val 59577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9" name=""/>
                  <p:cNvSpPr/>
                  <p:nvPr/>
                </p:nvSpPr>
                <p:spPr>
                  <a:xfrm>
                    <a:off x="5071320" y="2833200"/>
                    <a:ext cx="241200" cy="108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0" name=""/>
                  <p:cNvSpPr/>
                  <p:nvPr/>
                </p:nvSpPr>
                <p:spPr>
                  <a:xfrm>
                    <a:off x="5328000" y="2848320"/>
                    <a:ext cx="172080" cy="72360"/>
                  </a:xfrm>
                  <a:prstGeom prst="parallelogram">
                    <a:avLst>
                      <a:gd name="adj" fmla="val 59453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31" name=""/>
                <p:cNvSpPr/>
                <p:nvPr/>
              </p:nvSpPr>
              <p:spPr>
                <a:xfrm>
                  <a:off x="5141160" y="2827080"/>
                  <a:ext cx="166680" cy="12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32" name=""/>
          <p:cNvGrpSpPr/>
          <p:nvPr/>
        </p:nvGrpSpPr>
        <p:grpSpPr>
          <a:xfrm>
            <a:off x="1386000" y="1695600"/>
            <a:ext cx="3036240" cy="1484280"/>
            <a:chOff x="1386000" y="1695600"/>
            <a:chExt cx="3036240" cy="1484280"/>
          </a:xfrm>
        </p:grpSpPr>
        <p:sp>
          <p:nvSpPr>
            <p:cNvPr id="1633" name=""/>
            <p:cNvSpPr/>
            <p:nvPr/>
          </p:nvSpPr>
          <p:spPr>
            <a:xfrm flipH="1">
              <a:off x="1386000" y="2274840"/>
              <a:ext cx="379440" cy="905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1765080" y="1876680"/>
              <a:ext cx="172440" cy="39816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1386000" y="2274840"/>
              <a:ext cx="622080" cy="905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2008080" y="1695600"/>
              <a:ext cx="378000" cy="57924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H="1">
              <a:off x="2248200" y="2274840"/>
              <a:ext cx="276840" cy="905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2558520" y="2274840"/>
              <a:ext cx="34920" cy="905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2525400" y="2057400"/>
              <a:ext cx="68040" cy="21744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593800" y="2057400"/>
              <a:ext cx="0" cy="21744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044240" y="1695600"/>
              <a:ext cx="240480" cy="57924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963600" y="2079720"/>
              <a:ext cx="69480" cy="18108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284720" y="2274840"/>
              <a:ext cx="137520" cy="311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037760" y="2265480"/>
              <a:ext cx="251280" cy="6159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5" name=""/>
          <p:cNvGrpSpPr/>
          <p:nvPr/>
        </p:nvGrpSpPr>
        <p:grpSpPr>
          <a:xfrm>
            <a:off x="1600200" y="190440"/>
            <a:ext cx="7848360" cy="2255760"/>
            <a:chOff x="1600200" y="190440"/>
            <a:chExt cx="7848360" cy="2255760"/>
          </a:xfrm>
        </p:grpSpPr>
        <p:sp>
          <p:nvSpPr>
            <p:cNvPr id="1646" name=""/>
            <p:cNvSpPr/>
            <p:nvPr/>
          </p:nvSpPr>
          <p:spPr>
            <a:xfrm>
              <a:off x="5335200" y="190440"/>
              <a:ext cx="4113360" cy="16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Class rdf:ID="Department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subClassOf rdf:resource="#OrganizationPart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comment xml:lang="en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Organization part which is a sub division of of 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Research Direction, corresponding to sub intere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field e.g mobile transmi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comment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department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division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Class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7" name=""/>
            <p:cNvGrpSpPr/>
            <p:nvPr/>
          </p:nvGrpSpPr>
          <p:grpSpPr>
            <a:xfrm>
              <a:off x="1600200" y="1282320"/>
              <a:ext cx="3795480" cy="1163880"/>
              <a:chOff x="1600200" y="1282320"/>
              <a:chExt cx="3795480" cy="1163880"/>
            </a:xfrm>
          </p:grpSpPr>
          <p:grpSp>
            <p:nvGrpSpPr>
              <p:cNvPr id="1648" name=""/>
              <p:cNvGrpSpPr/>
              <p:nvPr/>
            </p:nvGrpSpPr>
            <p:grpSpPr>
              <a:xfrm>
                <a:off x="1600200" y="1358640"/>
                <a:ext cx="3795480" cy="1087560"/>
                <a:chOff x="1600200" y="1358640"/>
                <a:chExt cx="3795480" cy="1087560"/>
              </a:xfrm>
            </p:grpSpPr>
            <p:sp>
              <p:nvSpPr>
                <p:cNvPr id="1649" name=""/>
                <p:cNvSpPr/>
                <p:nvPr/>
              </p:nvSpPr>
              <p:spPr>
                <a:xfrm>
                  <a:off x="1600200" y="2338200"/>
                  <a:ext cx="428040" cy="108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 flipV="1">
                  <a:off x="2037600" y="1441080"/>
                  <a:ext cx="820440" cy="9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2858400" y="1441080"/>
                  <a:ext cx="246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5360040" y="1358640"/>
                  <a:ext cx="35640" cy="181080"/>
                </a:xfrm>
                <a:custGeom>
                  <a:avLst/>
                  <a:gdLst>
                    <a:gd name="textAreaLeft" fmla="*/ 22680 w 35640"/>
                    <a:gd name="textAreaRight" fmla="*/ 36000 w 35640"/>
                    <a:gd name="textAreaTop" fmla="*/ 4680 h 181080"/>
                    <a:gd name="textAreaBottom" fmla="*/ 176400 h 181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3" name=""/>
              <p:cNvSpPr/>
              <p:nvPr/>
            </p:nvSpPr>
            <p:spPr>
              <a:xfrm>
                <a:off x="2788200" y="1282320"/>
                <a:ext cx="81936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Courier New"/>
                  </a:rPr>
                  <a:t>Synonym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54" name=""/>
          <p:cNvGrpSpPr/>
          <p:nvPr/>
        </p:nvGrpSpPr>
        <p:grpSpPr>
          <a:xfrm>
            <a:off x="2362320" y="2158920"/>
            <a:ext cx="6933600" cy="2884320"/>
            <a:chOff x="2362320" y="2158920"/>
            <a:chExt cx="6933600" cy="2884320"/>
          </a:xfrm>
        </p:grpSpPr>
        <p:sp>
          <p:nvSpPr>
            <p:cNvPr id="1655" name=""/>
            <p:cNvSpPr/>
            <p:nvPr/>
          </p:nvSpPr>
          <p:spPr>
            <a:xfrm>
              <a:off x="5695200" y="2158920"/>
              <a:ext cx="3600720" cy="28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Class rdf:ID="E-Mail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subClassOf rdf:resource="#Mail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comment xml:lang="en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Mail sent in electronic format over 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computerized world-wide communication syst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comment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e-mail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electronic mai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                            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mail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Class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Class rdf:ID="PostMail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subClassOf rdf:resource="#Mail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comment xml:lang="en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Mail transmitted via the post off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comment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mail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rdfs:label xml:lang="en"&gt;post mail&lt;/rdfs:label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&lt;/rdfs:Class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9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6" name=""/>
            <p:cNvGrpSpPr/>
            <p:nvPr/>
          </p:nvGrpSpPr>
          <p:grpSpPr>
            <a:xfrm>
              <a:off x="2362320" y="2354040"/>
              <a:ext cx="3540960" cy="2331720"/>
              <a:chOff x="2362320" y="2354040"/>
              <a:chExt cx="3540960" cy="2331720"/>
            </a:xfrm>
          </p:grpSpPr>
          <p:grpSp>
            <p:nvGrpSpPr>
              <p:cNvPr id="1657" name=""/>
              <p:cNvGrpSpPr/>
              <p:nvPr/>
            </p:nvGrpSpPr>
            <p:grpSpPr>
              <a:xfrm>
                <a:off x="2362320" y="2455560"/>
                <a:ext cx="3540960" cy="2230200"/>
                <a:chOff x="2362320" y="2455560"/>
                <a:chExt cx="3540960" cy="2230200"/>
              </a:xfrm>
            </p:grpSpPr>
            <p:sp>
              <p:nvSpPr>
                <p:cNvPr id="1658" name=""/>
                <p:cNvSpPr/>
                <p:nvPr/>
              </p:nvSpPr>
              <p:spPr>
                <a:xfrm>
                  <a:off x="2362320" y="2455560"/>
                  <a:ext cx="285840" cy="1080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2657520" y="2512800"/>
                  <a:ext cx="3008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 flipH="1" flipV="1">
                  <a:off x="5677200" y="2512800"/>
                  <a:ext cx="226080" cy="103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 flipH="1" flipV="1">
                  <a:off x="5677200" y="2552040"/>
                  <a:ext cx="150480" cy="213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2" name=""/>
              <p:cNvSpPr/>
              <p:nvPr/>
            </p:nvSpPr>
            <p:spPr>
              <a:xfrm>
                <a:off x="2588400" y="2354040"/>
                <a:ext cx="1073880" cy="25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Courier New"/>
                  </a:rPr>
                  <a:t>Ambiguïté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3" name=""/>
          <p:cNvGrpSpPr/>
          <p:nvPr/>
        </p:nvGrpSpPr>
        <p:grpSpPr>
          <a:xfrm>
            <a:off x="933480" y="5883120"/>
            <a:ext cx="1932120" cy="288720"/>
            <a:chOff x="933480" y="5883120"/>
            <a:chExt cx="1932120" cy="288720"/>
          </a:xfrm>
        </p:grpSpPr>
        <p:sp>
          <p:nvSpPr>
            <p:cNvPr id="1664" name=""/>
            <p:cNvSpPr/>
            <p:nvPr/>
          </p:nvSpPr>
          <p:spPr>
            <a:xfrm>
              <a:off x="944640" y="6082920"/>
              <a:ext cx="128520" cy="54000"/>
            </a:xfrm>
            <a:prstGeom prst="parallelogram">
              <a:avLst>
                <a:gd name="adj" fmla="val 595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009800" y="5956200"/>
              <a:ext cx="0" cy="144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6" name=""/>
            <p:cNvGrpSpPr/>
            <p:nvPr/>
          </p:nvGrpSpPr>
          <p:grpSpPr>
            <a:xfrm>
              <a:off x="933480" y="5903640"/>
              <a:ext cx="139680" cy="87480"/>
              <a:chOff x="933480" y="5903640"/>
              <a:chExt cx="139680" cy="87480"/>
            </a:xfrm>
          </p:grpSpPr>
          <p:sp>
            <p:nvSpPr>
              <p:cNvPr id="1667" name=""/>
              <p:cNvSpPr/>
              <p:nvPr/>
            </p:nvSpPr>
            <p:spPr>
              <a:xfrm>
                <a:off x="992160" y="5919120"/>
                <a:ext cx="57600" cy="51840"/>
              </a:xfrm>
              <a:prstGeom prst="foldedCorner">
                <a:avLst>
                  <a:gd name="adj" fmla="val 44601"/>
                </a:avLst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042560" y="5906880"/>
                <a:ext cx="12240" cy="39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988560" y="5906520"/>
                <a:ext cx="64440" cy="39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973080" y="5940720"/>
                <a:ext cx="4320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933480" y="5903640"/>
                <a:ext cx="139680" cy="66600"/>
              </a:xfrm>
              <a:prstGeom prst="parallelogram">
                <a:avLst>
                  <a:gd name="adj" fmla="val 52432"/>
                </a:avLst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026000" y="5969520"/>
                <a:ext cx="23040" cy="2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046880" y="5951880"/>
                <a:ext cx="23040" cy="2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rot="19207200">
                <a:off x="1025640" y="5956200"/>
                <a:ext cx="42840" cy="2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5" name=""/>
            <p:cNvSpPr/>
            <p:nvPr/>
          </p:nvSpPr>
          <p:spPr>
            <a:xfrm>
              <a:off x="1163880" y="5883120"/>
              <a:ext cx="17017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</a:rPr>
                <a:t>Terme utilisé comme label d'un concept / d'une re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090800" y="6072120"/>
              <a:ext cx="144360" cy="71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166760" y="5956200"/>
              <a:ext cx="0" cy="144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8" name=""/>
            <p:cNvGrpSpPr/>
            <p:nvPr/>
          </p:nvGrpSpPr>
          <p:grpSpPr>
            <a:xfrm>
              <a:off x="1090800" y="5903640"/>
              <a:ext cx="139680" cy="87480"/>
              <a:chOff x="1090800" y="5903640"/>
              <a:chExt cx="139680" cy="87480"/>
            </a:xfrm>
          </p:grpSpPr>
          <p:sp>
            <p:nvSpPr>
              <p:cNvPr id="1679" name=""/>
              <p:cNvSpPr/>
              <p:nvPr/>
            </p:nvSpPr>
            <p:spPr>
              <a:xfrm>
                <a:off x="1149480" y="5919120"/>
                <a:ext cx="57600" cy="51840"/>
              </a:xfrm>
              <a:prstGeom prst="foldedCorner">
                <a:avLst>
                  <a:gd name="adj" fmla="val 44601"/>
                </a:avLst>
              </a:prstGeom>
              <a:solidFill>
                <a:srgbClr val="ffffff"/>
              </a:solidFill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199880" y="5906880"/>
                <a:ext cx="12240" cy="39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1145880" y="5906520"/>
                <a:ext cx="64440" cy="39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1130400" y="5940720"/>
                <a:ext cx="43200" cy="2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1090800" y="5903640"/>
                <a:ext cx="139680" cy="66600"/>
              </a:xfrm>
              <a:prstGeom prst="parallelogram">
                <a:avLst>
                  <a:gd name="adj" fmla="val 52432"/>
                </a:avLst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1183320" y="5969520"/>
                <a:ext cx="23040" cy="2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204200" y="5951880"/>
                <a:ext cx="23040" cy="2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rot="19207200">
                <a:off x="1182960" y="5956200"/>
                <a:ext cx="42840" cy="2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A4E0A-31B1-452D-A135-733C5BDDBD0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DF Extensions and Interfaces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266400" y="22824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53600" indent="-417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Nécessité d'extension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: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définition formelle des concepts / propriété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01080" indent="-26820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Manager (redondance /sens commun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01080" indent="-26820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Newcomer (instabl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01080" indent="-26820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Colleague (terme, concept, propriété, définition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01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53600" indent="-417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Besoin d'interfaces 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01080" indent="-26820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Caché le haut: pas intéressant &amp; pb de consensu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niveau bas = consensus de tous les jou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01080" indent="-26820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Profils pour la navig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01080" indent="-26820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Terminologie pour langues / jarg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F589-BD7E-46C9-9F77-3CADC1FE0B7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"/>
          <p:cNvSpPr/>
          <p:nvPr/>
        </p:nvSpPr>
        <p:spPr>
          <a:xfrm>
            <a:off x="3441600" y="126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441600" y="1600200"/>
            <a:ext cx="563904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441600" y="3886200"/>
            <a:ext cx="563904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Visualisation: techniques du Web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93" name=""/>
          <p:cNvGrpSpPr/>
          <p:nvPr/>
        </p:nvGrpSpPr>
        <p:grpSpPr>
          <a:xfrm>
            <a:off x="3505320" y="63360"/>
            <a:ext cx="1164960" cy="1554120"/>
            <a:chOff x="3505320" y="63360"/>
            <a:chExt cx="1164960" cy="1554120"/>
          </a:xfrm>
        </p:grpSpPr>
        <p:sp>
          <p:nvSpPr>
            <p:cNvPr id="1694" name=""/>
            <p:cNvSpPr/>
            <p:nvPr/>
          </p:nvSpPr>
          <p:spPr>
            <a:xfrm>
              <a:off x="3505320" y="1253880"/>
              <a:ext cx="11649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Scénarios</a:t>
              </a: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5" name=""/>
            <p:cNvGrpSpPr/>
            <p:nvPr/>
          </p:nvGrpSpPr>
          <p:grpSpPr>
            <a:xfrm>
              <a:off x="3657600" y="63360"/>
              <a:ext cx="902880" cy="1228320"/>
              <a:chOff x="3657600" y="63360"/>
              <a:chExt cx="902880" cy="1228320"/>
            </a:xfrm>
          </p:grpSpPr>
          <p:grpSp>
            <p:nvGrpSpPr>
              <p:cNvPr id="1696" name=""/>
              <p:cNvGrpSpPr/>
              <p:nvPr/>
            </p:nvGrpSpPr>
            <p:grpSpPr>
              <a:xfrm>
                <a:off x="3657600" y="63360"/>
                <a:ext cx="902880" cy="1228320"/>
                <a:chOff x="3657600" y="63360"/>
                <a:chExt cx="902880" cy="1228320"/>
              </a:xfrm>
            </p:grpSpPr>
            <p:sp>
              <p:nvSpPr>
                <p:cNvPr id="1697" name=""/>
                <p:cNvSpPr/>
                <p:nvPr/>
              </p:nvSpPr>
              <p:spPr>
                <a:xfrm>
                  <a:off x="3725640" y="1472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3711960" y="128520"/>
                  <a:ext cx="834840" cy="1144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3696480" y="10836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3682800" y="89640"/>
                  <a:ext cx="834840" cy="1144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3657600" y="63360"/>
                  <a:ext cx="844560" cy="114516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7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76320" y="86040"/>
                <a:ext cx="800280" cy="9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03" name=""/>
          <p:cNvGrpSpPr/>
          <p:nvPr/>
        </p:nvGrpSpPr>
        <p:grpSpPr>
          <a:xfrm>
            <a:off x="7461360" y="71280"/>
            <a:ext cx="2036520" cy="1521000"/>
            <a:chOff x="7461360" y="71280"/>
            <a:chExt cx="2036520" cy="1521000"/>
          </a:xfrm>
        </p:grpSpPr>
        <p:pic>
          <p:nvPicPr>
            <p:cNvPr id="1704" name="" descr=""/>
            <p:cNvPicPr/>
            <p:nvPr/>
          </p:nvPicPr>
          <p:blipFill>
            <a:blip r:embed="rId3"/>
            <a:stretch/>
          </p:blipFill>
          <p:spPr>
            <a:xfrm>
              <a:off x="7923240" y="71280"/>
              <a:ext cx="1085760" cy="1195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705" name=""/>
            <p:cNvSpPr/>
            <p:nvPr/>
          </p:nvSpPr>
          <p:spPr>
            <a:xfrm>
              <a:off x="7461360" y="1228680"/>
              <a:ext cx="20365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4597560" y="71280"/>
            <a:ext cx="1141200" cy="1555920"/>
            <a:chOff x="4597560" y="71280"/>
            <a:chExt cx="1141200" cy="1555920"/>
          </a:xfrm>
        </p:grpSpPr>
        <p:grpSp>
          <p:nvGrpSpPr>
            <p:cNvPr id="1707" name=""/>
            <p:cNvGrpSpPr/>
            <p:nvPr/>
          </p:nvGrpSpPr>
          <p:grpSpPr>
            <a:xfrm>
              <a:off x="4707000" y="71280"/>
              <a:ext cx="950760" cy="1195560"/>
              <a:chOff x="4707000" y="71280"/>
              <a:chExt cx="950760" cy="1195560"/>
            </a:xfrm>
          </p:grpSpPr>
          <p:sp>
            <p:nvSpPr>
              <p:cNvPr id="1708" name=""/>
              <p:cNvSpPr/>
              <p:nvPr/>
            </p:nvSpPr>
            <p:spPr>
              <a:xfrm>
                <a:off x="4707000" y="71280"/>
                <a:ext cx="950760" cy="1195560"/>
              </a:xfrm>
              <a:prstGeom prst="foldedCorner">
                <a:avLst>
                  <a:gd name="adj" fmla="val 5273"/>
                </a:avLst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0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721760" y="87120"/>
                <a:ext cx="894240" cy="113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10" name=""/>
              <p:cNvGrpSpPr/>
              <p:nvPr/>
            </p:nvGrpSpPr>
            <p:grpSpPr>
              <a:xfrm>
                <a:off x="4781160" y="271080"/>
                <a:ext cx="831960" cy="844200"/>
                <a:chOff x="4781160" y="271080"/>
                <a:chExt cx="831960" cy="844200"/>
              </a:xfrm>
            </p:grpSpPr>
            <p:sp>
              <p:nvSpPr>
                <p:cNvPr id="1711" name=""/>
                <p:cNvSpPr/>
                <p:nvPr/>
              </p:nvSpPr>
              <p:spPr>
                <a:xfrm>
                  <a:off x="5531400" y="271080"/>
                  <a:ext cx="7416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4781160" y="313200"/>
                  <a:ext cx="401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5390280" y="313200"/>
                  <a:ext cx="2077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4781160" y="361800"/>
                  <a:ext cx="10404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5171040" y="600120"/>
                  <a:ext cx="4309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4786560" y="644760"/>
                  <a:ext cx="178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4879440" y="69120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5122800" y="975960"/>
                  <a:ext cx="49032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4790160" y="1020240"/>
                  <a:ext cx="8172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4795920" y="1067040"/>
                  <a:ext cx="4158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5061600" y="1115280"/>
                  <a:ext cx="237600" cy="0"/>
                </a:xfrm>
                <a:prstGeom prst="line">
                  <a:avLst/>
                </a:prstGeom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2" name=""/>
              <p:cNvGrpSpPr/>
              <p:nvPr/>
            </p:nvGrpSpPr>
            <p:grpSpPr>
              <a:xfrm>
                <a:off x="4781160" y="836640"/>
                <a:ext cx="831960" cy="42480"/>
                <a:chOff x="4781160" y="836640"/>
                <a:chExt cx="831960" cy="42480"/>
              </a:xfrm>
            </p:grpSpPr>
            <p:sp>
              <p:nvSpPr>
                <p:cNvPr id="1723" name=""/>
                <p:cNvSpPr/>
                <p:nvPr/>
              </p:nvSpPr>
              <p:spPr>
                <a:xfrm>
                  <a:off x="5063400" y="836640"/>
                  <a:ext cx="54972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4781160" y="879120"/>
                  <a:ext cx="341640" cy="0"/>
                </a:xfrm>
                <a:prstGeom prst="line">
                  <a:avLst/>
                </a:prstGeom>
                <a:ln w="3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5" name=""/>
              <p:cNvGrpSpPr/>
              <p:nvPr/>
            </p:nvGrpSpPr>
            <p:grpSpPr>
              <a:xfrm>
                <a:off x="4781160" y="459000"/>
                <a:ext cx="831960" cy="48240"/>
                <a:chOff x="4781160" y="459000"/>
                <a:chExt cx="831960" cy="48240"/>
              </a:xfrm>
            </p:grpSpPr>
            <p:sp>
              <p:nvSpPr>
                <p:cNvPr id="1726" name=""/>
                <p:cNvSpPr/>
                <p:nvPr/>
              </p:nvSpPr>
              <p:spPr>
                <a:xfrm>
                  <a:off x="5078160" y="459000"/>
                  <a:ext cx="41580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5583600" y="459000"/>
                  <a:ext cx="2952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4781160" y="507240"/>
                  <a:ext cx="386280" cy="0"/>
                </a:xfrm>
                <a:prstGeom prst="line">
                  <a:avLst/>
                </a:prstGeom>
                <a:ln w="3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9" name=""/>
            <p:cNvSpPr/>
            <p:nvPr/>
          </p:nvSpPr>
          <p:spPr>
            <a:xfrm>
              <a:off x="4597560" y="1263600"/>
              <a:ext cx="11412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Entreti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5651640" y="71280"/>
            <a:ext cx="2158920" cy="1528920"/>
            <a:chOff x="5651640" y="71280"/>
            <a:chExt cx="2158920" cy="1528920"/>
          </a:xfrm>
        </p:grpSpPr>
        <p:pic>
          <p:nvPicPr>
            <p:cNvPr id="1731" name="Atos-Laet-bureau-3" descr=""/>
            <p:cNvPicPr/>
            <p:nvPr/>
          </p:nvPicPr>
          <p:blipFill>
            <a:blip r:embed="rId5"/>
            <a:stretch/>
          </p:blipFill>
          <p:spPr>
            <a:xfrm>
              <a:off x="5800680" y="71280"/>
              <a:ext cx="1930680" cy="10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2" name=""/>
            <p:cNvSpPr/>
            <p:nvPr/>
          </p:nvSpPr>
          <p:spPr>
            <a:xfrm>
              <a:off x="6645240" y="639720"/>
              <a:ext cx="243000" cy="63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888240" y="639720"/>
              <a:ext cx="880920" cy="84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645240" y="703440"/>
              <a:ext cx="147600" cy="563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651640" y="1236600"/>
              <a:ext cx="20368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Observ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6" name="" descr=""/>
            <p:cNvPicPr/>
            <p:nvPr/>
          </p:nvPicPr>
          <p:blipFill>
            <a:blip r:embed="rId6"/>
            <a:stretch/>
          </p:blipFill>
          <p:spPr>
            <a:xfrm>
              <a:off x="6821640" y="723960"/>
              <a:ext cx="988920" cy="544320"/>
            </a:xfrm>
            <a:prstGeom prst="rect">
              <a:avLst/>
            </a:prstGeom>
            <a:ln w="9360">
              <a:solidFill>
                <a:srgbClr val="969696"/>
              </a:solidFill>
              <a:miter/>
            </a:ln>
          </p:spPr>
        </p:pic>
      </p:grpSp>
      <p:pic>
        <p:nvPicPr>
          <p:cNvPr id="1737" name="" descr=""/>
          <p:cNvPicPr/>
          <p:nvPr/>
        </p:nvPicPr>
        <p:blipFill>
          <a:blip r:embed="rId7"/>
          <a:stretch/>
        </p:blipFill>
        <p:spPr>
          <a:xfrm>
            <a:off x="3651120" y="3949560"/>
            <a:ext cx="5340600" cy="1552680"/>
          </a:xfrm>
          <a:prstGeom prst="rect">
            <a:avLst/>
          </a:prstGeom>
          <a:ln w="0">
            <a:noFill/>
          </a:ln>
        </p:spPr>
      </p:pic>
      <p:sp>
        <p:nvSpPr>
          <p:cNvPr id="1738" name=""/>
          <p:cNvSpPr/>
          <p:nvPr/>
        </p:nvSpPr>
        <p:spPr>
          <a:xfrm>
            <a:off x="3441600" y="5562720"/>
            <a:ext cx="5639040" cy="67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371600" y="-1260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a) Scénarios et Recue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33520" y="1542960"/>
            <a:ext cx="28954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b) Du semi-informel</a:t>
            </a:r>
            <a:br>
              <a:rPr sz="1600"/>
            </a:b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au semi-form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939960" y="38098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c) R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1371600" y="546084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Courier New"/>
              </a:rPr>
              <a:t>(d) Navigation et U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3" name=""/>
          <p:cNvGrpSpPr/>
          <p:nvPr/>
        </p:nvGrpSpPr>
        <p:grpSpPr>
          <a:xfrm>
            <a:off x="3505320" y="1676520"/>
            <a:ext cx="5486400" cy="2133360"/>
            <a:chOff x="3505320" y="1676520"/>
            <a:chExt cx="5486400" cy="2133360"/>
          </a:xfrm>
        </p:grpSpPr>
        <p:pic>
          <p:nvPicPr>
            <p:cNvPr id="1744" name="" descr=""/>
            <p:cNvPicPr/>
            <p:nvPr/>
          </p:nvPicPr>
          <p:blipFill>
            <a:blip r:embed="rId8"/>
            <a:stretch/>
          </p:blipFill>
          <p:spPr>
            <a:xfrm>
              <a:off x="3505320" y="1676520"/>
              <a:ext cx="5486400" cy="1190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745" name="" descr=""/>
            <p:cNvPicPr/>
            <p:nvPr/>
          </p:nvPicPr>
          <p:blipFill>
            <a:blip r:embed="rId9"/>
            <a:stretch/>
          </p:blipFill>
          <p:spPr>
            <a:xfrm>
              <a:off x="3581280" y="2187720"/>
              <a:ext cx="5410440" cy="1317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746" name="" descr=""/>
            <p:cNvPicPr/>
            <p:nvPr/>
          </p:nvPicPr>
          <p:blipFill>
            <a:blip r:embed="rId10"/>
            <a:stretch/>
          </p:blipFill>
          <p:spPr>
            <a:xfrm>
              <a:off x="4343400" y="2368440"/>
              <a:ext cx="4648320" cy="14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7" name=""/>
          <p:cNvGrpSpPr/>
          <p:nvPr/>
        </p:nvGrpSpPr>
        <p:grpSpPr>
          <a:xfrm>
            <a:off x="3048120" y="2095560"/>
            <a:ext cx="228600" cy="1714320"/>
            <a:chOff x="3048120" y="2095560"/>
            <a:chExt cx="228600" cy="1714320"/>
          </a:xfrm>
        </p:grpSpPr>
        <p:sp>
          <p:nvSpPr>
            <p:cNvPr id="1748" name=""/>
            <p:cNvSpPr/>
            <p:nvPr/>
          </p:nvSpPr>
          <p:spPr>
            <a:xfrm>
              <a:off x="3073320" y="2095560"/>
              <a:ext cx="15264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048120" y="2362320"/>
              <a:ext cx="228600" cy="1447560"/>
            </a:xfrm>
            <a:prstGeom prst="downArrow">
              <a:avLst>
                <a:gd name="adj1" fmla="val 50000"/>
                <a:gd name="adj2" fmla="val 11386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0" name=""/>
          <p:cNvGrpSpPr/>
          <p:nvPr/>
        </p:nvGrpSpPr>
        <p:grpSpPr>
          <a:xfrm>
            <a:off x="3060720" y="4114800"/>
            <a:ext cx="228600" cy="1409760"/>
            <a:chOff x="3060720" y="4114800"/>
            <a:chExt cx="228600" cy="1409760"/>
          </a:xfrm>
        </p:grpSpPr>
        <p:sp>
          <p:nvSpPr>
            <p:cNvPr id="1751" name=""/>
            <p:cNvSpPr/>
            <p:nvPr/>
          </p:nvSpPr>
          <p:spPr>
            <a:xfrm>
              <a:off x="3085920" y="4114800"/>
              <a:ext cx="15264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060720" y="4343400"/>
              <a:ext cx="228600" cy="1181160"/>
            </a:xfrm>
            <a:prstGeom prst="downArrow">
              <a:avLst>
                <a:gd name="adj1" fmla="val 50000"/>
                <a:gd name="adj2" fmla="val 9290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3" name=""/>
          <p:cNvGrpSpPr/>
          <p:nvPr/>
        </p:nvGrpSpPr>
        <p:grpSpPr>
          <a:xfrm>
            <a:off x="3035160" y="558720"/>
            <a:ext cx="228600" cy="965160"/>
            <a:chOff x="3035160" y="558720"/>
            <a:chExt cx="228600" cy="965160"/>
          </a:xfrm>
        </p:grpSpPr>
        <p:sp>
          <p:nvSpPr>
            <p:cNvPr id="1754" name=""/>
            <p:cNvSpPr/>
            <p:nvPr/>
          </p:nvSpPr>
          <p:spPr>
            <a:xfrm>
              <a:off x="3060720" y="558720"/>
              <a:ext cx="15228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035160" y="799920"/>
              <a:ext cx="228600" cy="723960"/>
            </a:xfrm>
            <a:prstGeom prst="downArrow">
              <a:avLst>
                <a:gd name="adj1" fmla="val 50000"/>
                <a:gd name="adj2" fmla="val 9028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6" name=""/>
          <p:cNvGrpSpPr/>
          <p:nvPr/>
        </p:nvGrpSpPr>
        <p:grpSpPr>
          <a:xfrm>
            <a:off x="914400" y="695160"/>
            <a:ext cx="2057400" cy="828720"/>
            <a:chOff x="914400" y="695160"/>
            <a:chExt cx="2057400" cy="828720"/>
          </a:xfrm>
        </p:grpSpPr>
        <p:sp>
          <p:nvSpPr>
            <p:cNvPr id="1757" name=""/>
            <p:cNvSpPr/>
            <p:nvPr/>
          </p:nvSpPr>
          <p:spPr>
            <a:xfrm rot="5400000">
              <a:off x="2324160" y="1104840"/>
              <a:ext cx="457200" cy="3808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190" stAng="10800000" swAng="5400000"/>
                  <a:lnTo>
                    <a:pt x="12959" y="2970"/>
                  </a:lnTo>
                  <a:lnTo>
                    <a:pt x="12959" y="0"/>
                  </a:lnTo>
                  <a:lnTo>
                    <a:pt x="21600" y="6079"/>
                  </a:lnTo>
                  <a:lnTo>
                    <a:pt x="12959" y="12158"/>
                  </a:lnTo>
                  <a:lnTo>
                    <a:pt x="12959" y="9188"/>
                  </a:lnTo>
                  <a:lnTo>
                    <a:pt x="12427" y="9188"/>
                  </a:lnTo>
                  <a:arcTo wR="6209" hR="2972" stAng="16200000" swAng="-5400000"/>
                  <a:lnTo>
                    <a:pt x="6218" y="216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124000" y="1057320"/>
              <a:ext cx="152640" cy="1522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914400" y="695160"/>
              <a:ext cx="20574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Courier New"/>
                </a:rPr>
                <a:t>Réutilis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Courier New"/>
                </a:rPr>
                <a:t>&amp; aut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60" name="" descr=""/>
          <p:cNvPicPr/>
          <p:nvPr/>
        </p:nvPicPr>
        <p:blipFill>
          <a:blip r:embed="rId11"/>
          <a:stretch/>
        </p:blipFill>
        <p:spPr>
          <a:xfrm>
            <a:off x="3638520" y="5591160"/>
            <a:ext cx="5353200" cy="62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4F6A6-43E9-4B87-A692-516C29B83FA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Vue d'ensemble des interfaces et de XSLT 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762" name="" descr=""/>
          <p:cNvPicPr/>
          <p:nvPr/>
        </p:nvPicPr>
        <p:blipFill>
          <a:blip r:embed="rId2"/>
          <a:stretch/>
        </p:blipFill>
        <p:spPr>
          <a:xfrm>
            <a:off x="1371600" y="117360"/>
            <a:ext cx="7313760" cy="613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6D5C3-2478-4EE9-9229-E4B4439FF25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Naviguer dans l'ontologie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76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5484600" cy="5410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76C74-E4B5-4019-9B18-B81CB9CA26C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Requêtes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766" name="" descr=""/>
          <p:cNvPicPr/>
          <p:nvPr/>
        </p:nvPicPr>
        <p:blipFill>
          <a:blip r:embed="rId2"/>
          <a:stretch/>
        </p:blipFill>
        <p:spPr>
          <a:xfrm>
            <a:off x="2209680" y="762120"/>
            <a:ext cx="5934240" cy="531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ECC7E-5E79-461F-B34D-B31040B543A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Extensions pour CORESE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768" name="" descr=""/>
          <p:cNvPicPr/>
          <p:nvPr/>
        </p:nvPicPr>
        <p:blipFill>
          <a:blip r:embed="rId2"/>
          <a:stretch/>
        </p:blipFill>
        <p:spPr>
          <a:xfrm>
            <a:off x="2133720" y="685800"/>
            <a:ext cx="5790960" cy="5321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25A51-3DA0-4C9D-8D33-5071A3ED0B0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Profils pour la navigation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770" name="" descr=""/>
          <p:cNvPicPr/>
          <p:nvPr/>
        </p:nvPicPr>
        <p:blipFill>
          <a:blip r:embed="rId2"/>
          <a:stretch/>
        </p:blipFill>
        <p:spPr>
          <a:xfrm>
            <a:off x="2209680" y="685800"/>
            <a:ext cx="5899320" cy="5319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1EF4-BC2B-4F1E-BD18-CE36F335F10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Interface d'APROBATIOM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772" name="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8240760" cy="5310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85556-7002-4641-B1A3-BF78B87A1DB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Comment ?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3800" y="0"/>
            <a:ext cx="883908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7720" indent="-43992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Comment ?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Repartir des constats de dépar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48960" indent="-28260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Mémoire distribuée et hétérogè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48960" indent="-28260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Gestion distribuée et hétérogè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48960" indent="-28260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Population d'utilisateurs distribuée et hétérogè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473120" y="3048120"/>
            <a:ext cx="7314840" cy="609480"/>
            <a:chOff x="1473120" y="3048120"/>
            <a:chExt cx="7314840" cy="609480"/>
          </a:xfrm>
        </p:grpSpPr>
        <p:grpSp>
          <p:nvGrpSpPr>
            <p:cNvPr id="99" name=""/>
            <p:cNvGrpSpPr/>
            <p:nvPr/>
          </p:nvGrpSpPr>
          <p:grpSpPr>
            <a:xfrm>
              <a:off x="1473120" y="3048120"/>
              <a:ext cx="7314840" cy="533160"/>
              <a:chOff x="1473120" y="3048120"/>
              <a:chExt cx="7314840" cy="533160"/>
            </a:xfrm>
          </p:grpSpPr>
          <p:sp>
            <p:nvSpPr>
              <p:cNvPr id="100" name=""/>
              <p:cNvSpPr/>
              <p:nvPr/>
            </p:nvSpPr>
            <p:spPr>
              <a:xfrm>
                <a:off x="1473120" y="3048120"/>
                <a:ext cx="3658320" cy="5331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131440" y="3048120"/>
                <a:ext cx="3656520" cy="5331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1625760" y="304812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 marL="482760" indent="-44460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 u="sng">
                  <a:solidFill>
                    <a:srgbClr val="000000"/>
                  </a:solidFill>
                  <a:uFillTx/>
                  <a:latin typeface="Georgia"/>
                </a:rPr>
                <a:t>Matérialisation MO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21240" y="3048120"/>
              <a:ext cx="3035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 marL="482760" indent="-44460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 u="sng">
                  <a:solidFill>
                    <a:srgbClr val="000000"/>
                  </a:solidFill>
                  <a:uFillTx/>
                  <a:latin typeface="Georgia"/>
                </a:rPr>
                <a:t>Exploitation MO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473120" y="3581280"/>
            <a:ext cx="7315200" cy="2132640"/>
            <a:chOff x="1473120" y="3581280"/>
            <a:chExt cx="7315200" cy="2132640"/>
          </a:xfrm>
        </p:grpSpPr>
        <p:sp>
          <p:nvSpPr>
            <p:cNvPr id="105" name=""/>
            <p:cNvSpPr/>
            <p:nvPr/>
          </p:nvSpPr>
          <p:spPr>
            <a:xfrm>
              <a:off x="1473120" y="3581280"/>
              <a:ext cx="3657600" cy="2132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66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30720" y="3581280"/>
              <a:ext cx="3657600" cy="2132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66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447920" y="3556080"/>
            <a:ext cx="36068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180720" indent="-1807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Georgia"/>
              </a:rPr>
              <a:t>XML:</a:t>
            </a:r>
            <a:r>
              <a:rPr b="0" lang="fr-FR" sz="2500" spc="-1" strike="noStrike">
                <a:solidFill>
                  <a:srgbClr val="000000"/>
                </a:solidFill>
                <a:latin typeface="Georgia"/>
              </a:rPr>
              <a:t> Standard, Structure, Etendre, Valider, Transform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-1807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-1807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Georgia"/>
              </a:rPr>
              <a:t>RDF:            </a:t>
            </a:r>
            <a:r>
              <a:rPr b="0" lang="fr-FR" sz="2500" spc="-1" strike="noStrike">
                <a:solidFill>
                  <a:srgbClr val="000000"/>
                </a:solidFill>
                <a:latin typeface="Georgia"/>
              </a:rPr>
              <a:t>Annotation,   Schémas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3543480"/>
            <a:ext cx="380988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180720" indent="-1807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Georgia"/>
              </a:rPr>
              <a:t>Système multiagents:</a:t>
            </a:r>
            <a:r>
              <a:rPr b="0" lang="fr-FR" sz="2500" spc="-1" strike="noStrike">
                <a:solidFill>
                  <a:srgbClr val="000000"/>
                </a:solidFill>
                <a:latin typeface="Georgia"/>
              </a:rPr>
              <a:t> Modularité, Distribué, Collabor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-1807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80720" indent="-18072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Georgia"/>
              </a:rPr>
              <a:t>Apprentissage :</a:t>
            </a:r>
            <a:r>
              <a:rPr b="0" lang="fr-FR" sz="2500" spc="-1" strike="noStrike">
                <a:solidFill>
                  <a:srgbClr val="000000"/>
                </a:solidFill>
                <a:latin typeface="Georgia"/>
              </a:rPr>
              <a:t> Adaptation, Emergen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473120" y="5715000"/>
            <a:ext cx="7391520" cy="380880"/>
            <a:chOff x="1473120" y="5715000"/>
            <a:chExt cx="7391520" cy="380880"/>
          </a:xfrm>
        </p:grpSpPr>
        <p:grpSp>
          <p:nvGrpSpPr>
            <p:cNvPr id="110" name=""/>
            <p:cNvGrpSpPr/>
            <p:nvPr/>
          </p:nvGrpSpPr>
          <p:grpSpPr>
            <a:xfrm>
              <a:off x="1473120" y="5715000"/>
              <a:ext cx="7314840" cy="380880"/>
              <a:chOff x="1473120" y="5715000"/>
              <a:chExt cx="7314840" cy="380880"/>
            </a:xfrm>
          </p:grpSpPr>
          <p:sp>
            <p:nvSpPr>
              <p:cNvPr id="111" name=""/>
              <p:cNvSpPr/>
              <p:nvPr/>
            </p:nvSpPr>
            <p:spPr>
              <a:xfrm>
                <a:off x="1473120" y="5715000"/>
                <a:ext cx="3657600" cy="3808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130720" y="5715000"/>
                <a:ext cx="3657240" cy="3808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336699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1919160" y="5715000"/>
              <a:ext cx="3262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82760" indent="-444600"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cc3300"/>
                  </a:solidFill>
                  <a:latin typeface="Georgia"/>
                </a:rPr>
                <a:t>Co</a:t>
              </a:r>
              <a:r>
                <a:rPr b="1" lang="fr-FR" sz="1800" spc="-1" strike="noStrike">
                  <a:solidFill>
                    <a:srgbClr val="000000"/>
                  </a:solidFill>
                  <a:latin typeface="Georgia"/>
                </a:rPr>
                <a:t>rporate </a:t>
              </a:r>
              <a:r>
                <a:rPr b="1" lang="fr-FR" sz="1800" spc="-1" strike="noStrike">
                  <a:solidFill>
                    <a:srgbClr val="cc3300"/>
                  </a:solidFill>
                  <a:latin typeface="Georgia"/>
                </a:rPr>
                <a:t>M</a:t>
              </a:r>
              <a:r>
                <a:rPr b="1" lang="fr-FR" sz="1800" spc="-1" strike="noStrike">
                  <a:solidFill>
                    <a:srgbClr val="000000"/>
                  </a:solidFill>
                  <a:latin typeface="Georgia"/>
                </a:rPr>
                <a:t>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76720" y="5715000"/>
              <a:ext cx="3787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482760" indent="-4446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cc3300"/>
                  </a:solidFill>
                  <a:latin typeface="Georgia"/>
                </a:rPr>
                <a:t>M</a:t>
              </a:r>
              <a:r>
                <a:rPr b="1" lang="fr-FR" sz="1800" spc="-1" strike="noStrike">
                  <a:solidFill>
                    <a:srgbClr val="000000"/>
                  </a:solidFill>
                  <a:latin typeface="Georgia"/>
                </a:rPr>
                <a:t>anagement through </a:t>
              </a:r>
              <a:r>
                <a:rPr b="1" lang="fr-FR" sz="1800" spc="-1" strike="noStrike">
                  <a:solidFill>
                    <a:srgbClr val="cc3300"/>
                  </a:solidFill>
                  <a:latin typeface="Georgia"/>
                </a:rPr>
                <a:t>A</a:t>
              </a:r>
              <a:r>
                <a:rPr b="1" lang="fr-FR" sz="1800" spc="-1" strike="noStrike">
                  <a:solidFill>
                    <a:srgbClr val="000000"/>
                  </a:solidFill>
                  <a:latin typeface="Georgia"/>
                </a:rPr>
                <a:t>g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1BD22-4030-4E4A-B0E7-C1D7EE15B0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Interface terminologique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774" name="" descr=""/>
          <p:cNvPicPr/>
          <p:nvPr/>
        </p:nvPicPr>
        <p:blipFill>
          <a:blip r:embed="rId2"/>
          <a:stretch/>
        </p:blipFill>
        <p:spPr>
          <a:xfrm>
            <a:off x="1371600" y="457200"/>
            <a:ext cx="7283520" cy="1195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775" name="" descr=""/>
          <p:cNvPicPr/>
          <p:nvPr/>
        </p:nvPicPr>
        <p:blipFill>
          <a:blip r:embed="rId3"/>
          <a:stretch/>
        </p:blipFill>
        <p:spPr>
          <a:xfrm>
            <a:off x="1371600" y="2057400"/>
            <a:ext cx="7273800" cy="3546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E137-70D4-4324-B987-F9182052EA9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Interface Expert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777" name="" descr=""/>
          <p:cNvPicPr/>
          <p:nvPr/>
        </p:nvPicPr>
        <p:blipFill>
          <a:blip r:embed="rId2"/>
          <a:stretch/>
        </p:blipFill>
        <p:spPr>
          <a:xfrm>
            <a:off x="1355760" y="425520"/>
            <a:ext cx="7254720" cy="5441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CE1AF-71F6-4587-B8EE-61817D10E06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Schéma général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779" name=""/>
          <p:cNvGrpSpPr/>
          <p:nvPr/>
        </p:nvGrpSpPr>
        <p:grpSpPr>
          <a:xfrm>
            <a:off x="1219320" y="965160"/>
            <a:ext cx="7772400" cy="4419720"/>
            <a:chOff x="1219320" y="965160"/>
            <a:chExt cx="7772400" cy="4419720"/>
          </a:xfrm>
        </p:grpSpPr>
        <p:grpSp>
          <p:nvGrpSpPr>
            <p:cNvPr id="1780" name=""/>
            <p:cNvGrpSpPr/>
            <p:nvPr/>
          </p:nvGrpSpPr>
          <p:grpSpPr>
            <a:xfrm>
              <a:off x="1219320" y="965160"/>
              <a:ext cx="7772400" cy="4380120"/>
              <a:chOff x="1219320" y="965160"/>
              <a:chExt cx="7772400" cy="4380120"/>
            </a:xfrm>
          </p:grpSpPr>
          <p:sp>
            <p:nvSpPr>
              <p:cNvPr id="1781" name=""/>
              <p:cNvSpPr/>
              <p:nvPr/>
            </p:nvSpPr>
            <p:spPr>
              <a:xfrm>
                <a:off x="1219320" y="965160"/>
                <a:ext cx="7772400" cy="4380120"/>
              </a:xfrm>
              <a:prstGeom prst="rect">
                <a:avLst/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2" name=""/>
              <p:cNvGrpSpPr/>
              <p:nvPr/>
            </p:nvGrpSpPr>
            <p:grpSpPr>
              <a:xfrm>
                <a:off x="4335480" y="1044720"/>
                <a:ext cx="1657080" cy="4181400"/>
                <a:chOff x="4335480" y="1044720"/>
                <a:chExt cx="1657080" cy="4181400"/>
              </a:xfrm>
            </p:grpSpPr>
            <p:sp>
              <p:nvSpPr>
                <p:cNvPr id="1783" name=""/>
                <p:cNvSpPr/>
                <p:nvPr/>
              </p:nvSpPr>
              <p:spPr>
                <a:xfrm>
                  <a:off x="4335480" y="1203480"/>
                  <a:ext cx="1500120" cy="4022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4494240" y="1044720"/>
                  <a:ext cx="1498320" cy="239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0" bIns="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Mémoire d'entrepris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5" name=""/>
              <p:cNvGrpSpPr/>
              <p:nvPr/>
            </p:nvGrpSpPr>
            <p:grpSpPr>
              <a:xfrm>
                <a:off x="2025720" y="2398680"/>
                <a:ext cx="6532560" cy="995400"/>
                <a:chOff x="2025720" y="2398680"/>
                <a:chExt cx="6532560" cy="995400"/>
              </a:xfrm>
            </p:grpSpPr>
            <p:sp>
              <p:nvSpPr>
                <p:cNvPr id="1786" name=""/>
                <p:cNvSpPr/>
                <p:nvPr/>
              </p:nvSpPr>
              <p:spPr>
                <a:xfrm>
                  <a:off x="2025720" y="2484360"/>
                  <a:ext cx="6392880" cy="90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6839280" y="2398680"/>
                  <a:ext cx="1719000" cy="2383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10800" bIns="10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fr-FR" sz="900" spc="-1" strike="noStrike">
                      <a:solidFill>
                        <a:srgbClr val="000000"/>
                      </a:solidFill>
                      <a:latin typeface="Courier New"/>
                    </a:rPr>
                    <a:t>Système Multi-Agen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5896080" y="2570400"/>
                  <a:ext cx="789120" cy="1587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2048040" y="3060720"/>
                  <a:ext cx="66996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2441880" y="2621160"/>
                  <a:ext cx="828720" cy="1760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791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214720" y="271152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1792" name=""/>
                <p:cNvGrpSpPr/>
                <p:nvPr/>
              </p:nvGrpSpPr>
              <p:grpSpPr>
                <a:xfrm>
                  <a:off x="5992920" y="2718000"/>
                  <a:ext cx="908280" cy="636120"/>
                  <a:chOff x="5992920" y="2718000"/>
                  <a:chExt cx="908280" cy="636120"/>
                </a:xfrm>
              </p:grpSpPr>
              <p:sp>
                <p:nvSpPr>
                  <p:cNvPr id="1793" name=""/>
                  <p:cNvSpPr/>
                  <p:nvPr/>
                </p:nvSpPr>
                <p:spPr>
                  <a:xfrm>
                    <a:off x="5992920" y="3078000"/>
                    <a:ext cx="908280" cy="27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group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d'intérêt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794" name="agen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69040" y="2718000"/>
                    <a:ext cx="311760" cy="31392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grpSp>
            <p:sp>
              <p:nvSpPr>
                <p:cNvPr id="1795" name=""/>
                <p:cNvSpPr/>
                <p:nvPr/>
              </p:nvSpPr>
              <p:spPr>
                <a:xfrm>
                  <a:off x="4335840" y="2486160"/>
                  <a:ext cx="1500120" cy="90792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796" name="agent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354480" y="276228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1797" name=""/>
                <p:cNvSpPr/>
                <p:nvPr/>
              </p:nvSpPr>
              <p:spPr>
                <a:xfrm>
                  <a:off x="3073680" y="3116520"/>
                  <a:ext cx="907920" cy="2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Ontologie et Modèle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6901200" y="3113280"/>
                  <a:ext cx="828720" cy="2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7374240" y="2673360"/>
                  <a:ext cx="828720" cy="1634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00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47080" y="276408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1801" name=""/>
                <p:cNvGrpSpPr/>
                <p:nvPr/>
              </p:nvGrpSpPr>
              <p:grpSpPr>
                <a:xfrm>
                  <a:off x="3862800" y="2530440"/>
                  <a:ext cx="907920" cy="635040"/>
                  <a:chOff x="3862800" y="2530440"/>
                  <a:chExt cx="907920" cy="635040"/>
                </a:xfrm>
              </p:grpSpPr>
              <p:pic>
                <p:nvPicPr>
                  <p:cNvPr id="1802" name="agent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38920" y="2530440"/>
                    <a:ext cx="311760" cy="31428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  <p:sp>
                <p:nvSpPr>
                  <p:cNvPr id="1803" name=""/>
                  <p:cNvSpPr/>
                  <p:nvPr/>
                </p:nvSpPr>
                <p:spPr>
                  <a:xfrm>
                    <a:off x="3862800" y="2889000"/>
                    <a:ext cx="9079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d'inter-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connexion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804" name=""/>
            <p:cNvGrpSpPr/>
            <p:nvPr/>
          </p:nvGrpSpPr>
          <p:grpSpPr>
            <a:xfrm>
              <a:off x="1376280" y="3433680"/>
              <a:ext cx="1101240" cy="1552680"/>
              <a:chOff x="1376280" y="3433680"/>
              <a:chExt cx="1101240" cy="1552680"/>
            </a:xfrm>
          </p:grpSpPr>
          <p:sp>
            <p:nvSpPr>
              <p:cNvPr id="1805" name=""/>
              <p:cNvSpPr/>
              <p:nvPr/>
            </p:nvSpPr>
            <p:spPr>
              <a:xfrm>
                <a:off x="1376280" y="4389480"/>
                <a:ext cx="1074600" cy="59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Ingénieur d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la connaissa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6" name=""/>
              <p:cNvGrpSpPr/>
              <p:nvPr/>
            </p:nvGrpSpPr>
            <p:grpSpPr>
              <a:xfrm>
                <a:off x="2047680" y="3433680"/>
                <a:ext cx="429840" cy="1181160"/>
                <a:chOff x="2047680" y="3433680"/>
                <a:chExt cx="429840" cy="1181160"/>
              </a:xfrm>
            </p:grpSpPr>
            <p:grpSp>
              <p:nvGrpSpPr>
                <p:cNvPr id="1807" name=""/>
                <p:cNvGrpSpPr/>
                <p:nvPr/>
              </p:nvGrpSpPr>
              <p:grpSpPr>
                <a:xfrm>
                  <a:off x="2047680" y="3433680"/>
                  <a:ext cx="210960" cy="97920"/>
                  <a:chOff x="2047680" y="3433680"/>
                  <a:chExt cx="210960" cy="97920"/>
                </a:xfrm>
              </p:grpSpPr>
              <p:sp>
                <p:nvSpPr>
                  <p:cNvPr id="1808" name=""/>
                  <p:cNvSpPr/>
                  <p:nvPr/>
                </p:nvSpPr>
                <p:spPr>
                  <a:xfrm>
                    <a:off x="2047680" y="3507480"/>
                    <a:ext cx="518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69">
                        <a:moveTo>
                          <a:pt x="149" y="69"/>
                        </a:moveTo>
                        <a:lnTo>
                          <a:pt x="25" y="48"/>
                        </a:lnTo>
                        <a:lnTo>
                          <a:pt x="0" y="23"/>
                        </a:lnTo>
                        <a:lnTo>
                          <a:pt x="10" y="2"/>
                        </a:lnTo>
                        <a:lnTo>
                          <a:pt x="39" y="0"/>
                        </a:lnTo>
                        <a:lnTo>
                          <a:pt x="149" y="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9" name=""/>
                  <p:cNvSpPr/>
                  <p:nvPr/>
                </p:nvSpPr>
                <p:spPr>
                  <a:xfrm>
                    <a:off x="2099520" y="3444120"/>
                    <a:ext cx="2268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15">
                        <a:moveTo>
                          <a:pt x="66" y="115"/>
                        </a:moveTo>
                        <a:lnTo>
                          <a:pt x="0" y="42"/>
                        </a:lnTo>
                        <a:lnTo>
                          <a:pt x="7" y="11"/>
                        </a:lnTo>
                        <a:lnTo>
                          <a:pt x="39" y="0"/>
                        </a:lnTo>
                        <a:lnTo>
                          <a:pt x="57" y="22"/>
                        </a:lnTo>
                        <a:lnTo>
                          <a:pt x="66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0" name=""/>
                  <p:cNvSpPr/>
                  <p:nvPr/>
                </p:nvSpPr>
                <p:spPr>
                  <a:xfrm>
                    <a:off x="2172240" y="3433680"/>
                    <a:ext cx="194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38">
                        <a:moveTo>
                          <a:pt x="9" y="138"/>
                        </a:moveTo>
                        <a:lnTo>
                          <a:pt x="0" y="35"/>
                        </a:lnTo>
                        <a:lnTo>
                          <a:pt x="30" y="0"/>
                        </a:lnTo>
                        <a:lnTo>
                          <a:pt x="56" y="15"/>
                        </a:lnTo>
                        <a:lnTo>
                          <a:pt x="52" y="42"/>
                        </a:lnTo>
                        <a:lnTo>
                          <a:pt x="9" y="1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1" name=""/>
                  <p:cNvSpPr/>
                  <p:nvPr/>
                </p:nvSpPr>
                <p:spPr>
                  <a:xfrm>
                    <a:off x="2212560" y="3471120"/>
                    <a:ext cx="460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86">
                        <a:moveTo>
                          <a:pt x="0" y="86"/>
                        </a:moveTo>
                        <a:lnTo>
                          <a:pt x="100" y="0"/>
                        </a:lnTo>
                        <a:lnTo>
                          <a:pt x="135" y="17"/>
                        </a:lnTo>
                        <a:lnTo>
                          <a:pt x="132" y="45"/>
                        </a:lnTo>
                        <a:lnTo>
                          <a:pt x="114" y="59"/>
                        </a:lnTo>
                        <a:lnTo>
                          <a:pt x="0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2" name=""/>
                <p:cNvGrpSpPr/>
                <p:nvPr/>
              </p:nvGrpSpPr>
              <p:grpSpPr>
                <a:xfrm>
                  <a:off x="2122200" y="3503520"/>
                  <a:ext cx="355320" cy="1111320"/>
                  <a:chOff x="2122200" y="3503520"/>
                  <a:chExt cx="355320" cy="1111320"/>
                </a:xfrm>
              </p:grpSpPr>
              <p:sp>
                <p:nvSpPr>
                  <p:cNvPr id="1813" name=""/>
                  <p:cNvSpPr/>
                  <p:nvPr/>
                </p:nvSpPr>
                <p:spPr>
                  <a:xfrm>
                    <a:off x="2186280" y="3686400"/>
                    <a:ext cx="17856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554">
                        <a:moveTo>
                          <a:pt x="366" y="160"/>
                        </a:moveTo>
                        <a:lnTo>
                          <a:pt x="297" y="56"/>
                        </a:lnTo>
                        <a:lnTo>
                          <a:pt x="228" y="0"/>
                        </a:lnTo>
                        <a:lnTo>
                          <a:pt x="145" y="0"/>
                        </a:lnTo>
                        <a:lnTo>
                          <a:pt x="55" y="36"/>
                        </a:lnTo>
                        <a:lnTo>
                          <a:pt x="14" y="97"/>
                        </a:lnTo>
                        <a:lnTo>
                          <a:pt x="0" y="181"/>
                        </a:lnTo>
                        <a:lnTo>
                          <a:pt x="14" y="291"/>
                        </a:lnTo>
                        <a:lnTo>
                          <a:pt x="69" y="416"/>
                        </a:lnTo>
                        <a:lnTo>
                          <a:pt x="166" y="499"/>
                        </a:lnTo>
                        <a:lnTo>
                          <a:pt x="241" y="540"/>
                        </a:lnTo>
                        <a:lnTo>
                          <a:pt x="318" y="554"/>
                        </a:lnTo>
                        <a:lnTo>
                          <a:pt x="380" y="533"/>
                        </a:lnTo>
                        <a:lnTo>
                          <a:pt x="414" y="499"/>
                        </a:lnTo>
                        <a:lnTo>
                          <a:pt x="436" y="416"/>
                        </a:lnTo>
                        <a:lnTo>
                          <a:pt x="429" y="319"/>
                        </a:lnTo>
                        <a:lnTo>
                          <a:pt x="407" y="237"/>
                        </a:lnTo>
                        <a:lnTo>
                          <a:pt x="545" y="160"/>
                        </a:lnTo>
                        <a:lnTo>
                          <a:pt x="560" y="126"/>
                        </a:lnTo>
                        <a:lnTo>
                          <a:pt x="545" y="111"/>
                        </a:lnTo>
                        <a:lnTo>
                          <a:pt x="393" y="201"/>
                        </a:lnTo>
                        <a:lnTo>
                          <a:pt x="366" y="1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4" name=""/>
                  <p:cNvSpPr/>
                  <p:nvPr/>
                </p:nvSpPr>
                <p:spPr>
                  <a:xfrm>
                    <a:off x="2314080" y="3503520"/>
                    <a:ext cx="158760" cy="432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8" h="1238">
                        <a:moveTo>
                          <a:pt x="138" y="1045"/>
                        </a:moveTo>
                        <a:lnTo>
                          <a:pt x="47" y="1113"/>
                        </a:lnTo>
                        <a:lnTo>
                          <a:pt x="20" y="1135"/>
                        </a:lnTo>
                        <a:lnTo>
                          <a:pt x="0" y="1183"/>
                        </a:lnTo>
                        <a:lnTo>
                          <a:pt x="27" y="1231"/>
                        </a:lnTo>
                        <a:lnTo>
                          <a:pt x="54" y="1238"/>
                        </a:lnTo>
                        <a:lnTo>
                          <a:pt x="138" y="1210"/>
                        </a:lnTo>
                        <a:lnTo>
                          <a:pt x="262" y="1113"/>
                        </a:lnTo>
                        <a:lnTo>
                          <a:pt x="373" y="997"/>
                        </a:lnTo>
                        <a:lnTo>
                          <a:pt x="491" y="864"/>
                        </a:lnTo>
                        <a:lnTo>
                          <a:pt x="498" y="809"/>
                        </a:lnTo>
                        <a:lnTo>
                          <a:pt x="498" y="658"/>
                        </a:lnTo>
                        <a:lnTo>
                          <a:pt x="464" y="422"/>
                        </a:lnTo>
                        <a:lnTo>
                          <a:pt x="484" y="284"/>
                        </a:lnTo>
                        <a:lnTo>
                          <a:pt x="498" y="228"/>
                        </a:lnTo>
                        <a:lnTo>
                          <a:pt x="477" y="201"/>
                        </a:lnTo>
                        <a:lnTo>
                          <a:pt x="428" y="173"/>
                        </a:lnTo>
                        <a:lnTo>
                          <a:pt x="394" y="153"/>
                        </a:lnTo>
                        <a:lnTo>
                          <a:pt x="414" y="28"/>
                        </a:lnTo>
                        <a:lnTo>
                          <a:pt x="401" y="0"/>
                        </a:lnTo>
                        <a:lnTo>
                          <a:pt x="373" y="8"/>
                        </a:lnTo>
                        <a:lnTo>
                          <a:pt x="360" y="167"/>
                        </a:lnTo>
                        <a:lnTo>
                          <a:pt x="346" y="208"/>
                        </a:lnTo>
                        <a:lnTo>
                          <a:pt x="339" y="235"/>
                        </a:lnTo>
                        <a:lnTo>
                          <a:pt x="283" y="214"/>
                        </a:lnTo>
                        <a:lnTo>
                          <a:pt x="242" y="214"/>
                        </a:lnTo>
                        <a:lnTo>
                          <a:pt x="242" y="242"/>
                        </a:lnTo>
                        <a:lnTo>
                          <a:pt x="269" y="264"/>
                        </a:lnTo>
                        <a:lnTo>
                          <a:pt x="319" y="264"/>
                        </a:lnTo>
                        <a:lnTo>
                          <a:pt x="353" y="291"/>
                        </a:lnTo>
                        <a:lnTo>
                          <a:pt x="380" y="339"/>
                        </a:lnTo>
                        <a:lnTo>
                          <a:pt x="408" y="416"/>
                        </a:lnTo>
                        <a:lnTo>
                          <a:pt x="428" y="567"/>
                        </a:lnTo>
                        <a:lnTo>
                          <a:pt x="428" y="706"/>
                        </a:lnTo>
                        <a:lnTo>
                          <a:pt x="414" y="816"/>
                        </a:lnTo>
                        <a:lnTo>
                          <a:pt x="387" y="864"/>
                        </a:lnTo>
                        <a:lnTo>
                          <a:pt x="290" y="934"/>
                        </a:lnTo>
                        <a:lnTo>
                          <a:pt x="186" y="997"/>
                        </a:lnTo>
                        <a:lnTo>
                          <a:pt x="138" y="10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5" name=""/>
                  <p:cNvSpPr/>
                  <p:nvPr/>
                </p:nvSpPr>
                <p:spPr>
                  <a:xfrm>
                    <a:off x="2122200" y="3902400"/>
                    <a:ext cx="143280" cy="2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47">
                        <a:moveTo>
                          <a:pt x="451" y="20"/>
                        </a:moveTo>
                        <a:lnTo>
                          <a:pt x="401" y="0"/>
                        </a:lnTo>
                        <a:lnTo>
                          <a:pt x="297" y="7"/>
                        </a:lnTo>
                        <a:lnTo>
                          <a:pt x="207" y="76"/>
                        </a:lnTo>
                        <a:lnTo>
                          <a:pt x="75" y="221"/>
                        </a:lnTo>
                        <a:lnTo>
                          <a:pt x="7" y="339"/>
                        </a:lnTo>
                        <a:lnTo>
                          <a:pt x="0" y="380"/>
                        </a:lnTo>
                        <a:lnTo>
                          <a:pt x="34" y="457"/>
                        </a:lnTo>
                        <a:lnTo>
                          <a:pt x="110" y="491"/>
                        </a:lnTo>
                        <a:lnTo>
                          <a:pt x="207" y="532"/>
                        </a:lnTo>
                        <a:lnTo>
                          <a:pt x="283" y="552"/>
                        </a:lnTo>
                        <a:lnTo>
                          <a:pt x="318" y="588"/>
                        </a:lnTo>
                        <a:lnTo>
                          <a:pt x="297" y="636"/>
                        </a:lnTo>
                        <a:lnTo>
                          <a:pt x="242" y="692"/>
                        </a:lnTo>
                        <a:lnTo>
                          <a:pt x="173" y="699"/>
                        </a:lnTo>
                        <a:lnTo>
                          <a:pt x="125" y="677"/>
                        </a:lnTo>
                        <a:lnTo>
                          <a:pt x="96" y="699"/>
                        </a:lnTo>
                        <a:lnTo>
                          <a:pt x="103" y="726"/>
                        </a:lnTo>
                        <a:lnTo>
                          <a:pt x="159" y="747"/>
                        </a:lnTo>
                        <a:lnTo>
                          <a:pt x="242" y="747"/>
                        </a:lnTo>
                        <a:lnTo>
                          <a:pt x="318" y="726"/>
                        </a:lnTo>
                        <a:lnTo>
                          <a:pt x="360" y="699"/>
                        </a:lnTo>
                        <a:lnTo>
                          <a:pt x="388" y="650"/>
                        </a:lnTo>
                        <a:lnTo>
                          <a:pt x="401" y="595"/>
                        </a:lnTo>
                        <a:lnTo>
                          <a:pt x="367" y="546"/>
                        </a:lnTo>
                        <a:lnTo>
                          <a:pt x="283" y="511"/>
                        </a:lnTo>
                        <a:lnTo>
                          <a:pt x="186" y="484"/>
                        </a:lnTo>
                        <a:lnTo>
                          <a:pt x="103" y="436"/>
                        </a:lnTo>
                        <a:lnTo>
                          <a:pt x="82" y="394"/>
                        </a:lnTo>
                        <a:lnTo>
                          <a:pt x="96" y="319"/>
                        </a:lnTo>
                        <a:lnTo>
                          <a:pt x="159" y="221"/>
                        </a:lnTo>
                        <a:lnTo>
                          <a:pt x="236" y="165"/>
                        </a:lnTo>
                        <a:lnTo>
                          <a:pt x="353" y="124"/>
                        </a:lnTo>
                        <a:lnTo>
                          <a:pt x="451" y="104"/>
                        </a:lnTo>
                        <a:lnTo>
                          <a:pt x="451" y="48"/>
                        </a:lnTo>
                        <a:lnTo>
                          <a:pt x="451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6" name=""/>
                  <p:cNvSpPr/>
                  <p:nvPr/>
                </p:nvSpPr>
                <p:spPr>
                  <a:xfrm>
                    <a:off x="2238840" y="3890520"/>
                    <a:ext cx="134280" cy="32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2" h="919">
                        <a:moveTo>
                          <a:pt x="367" y="290"/>
                        </a:moveTo>
                        <a:lnTo>
                          <a:pt x="325" y="117"/>
                        </a:lnTo>
                        <a:lnTo>
                          <a:pt x="277" y="34"/>
                        </a:lnTo>
                        <a:lnTo>
                          <a:pt x="173" y="0"/>
                        </a:lnTo>
                        <a:lnTo>
                          <a:pt x="68" y="13"/>
                        </a:lnTo>
                        <a:lnTo>
                          <a:pt x="21" y="104"/>
                        </a:lnTo>
                        <a:lnTo>
                          <a:pt x="27" y="214"/>
                        </a:lnTo>
                        <a:lnTo>
                          <a:pt x="55" y="394"/>
                        </a:lnTo>
                        <a:lnTo>
                          <a:pt x="55" y="552"/>
                        </a:lnTo>
                        <a:lnTo>
                          <a:pt x="21" y="690"/>
                        </a:lnTo>
                        <a:lnTo>
                          <a:pt x="0" y="767"/>
                        </a:lnTo>
                        <a:lnTo>
                          <a:pt x="14" y="835"/>
                        </a:lnTo>
                        <a:lnTo>
                          <a:pt x="62" y="871"/>
                        </a:lnTo>
                        <a:lnTo>
                          <a:pt x="125" y="905"/>
                        </a:lnTo>
                        <a:lnTo>
                          <a:pt x="186" y="919"/>
                        </a:lnTo>
                        <a:lnTo>
                          <a:pt x="263" y="919"/>
                        </a:lnTo>
                        <a:lnTo>
                          <a:pt x="353" y="849"/>
                        </a:lnTo>
                        <a:lnTo>
                          <a:pt x="422" y="704"/>
                        </a:lnTo>
                        <a:lnTo>
                          <a:pt x="415" y="573"/>
                        </a:lnTo>
                        <a:lnTo>
                          <a:pt x="374" y="421"/>
                        </a:lnTo>
                        <a:lnTo>
                          <a:pt x="367" y="2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7" name=""/>
                  <p:cNvSpPr/>
                  <p:nvPr/>
                </p:nvSpPr>
                <p:spPr>
                  <a:xfrm>
                    <a:off x="2199240" y="4151160"/>
                    <a:ext cx="10188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1329">
                        <a:moveTo>
                          <a:pt x="305" y="21"/>
                        </a:moveTo>
                        <a:lnTo>
                          <a:pt x="223" y="0"/>
                        </a:lnTo>
                        <a:lnTo>
                          <a:pt x="174" y="21"/>
                        </a:lnTo>
                        <a:lnTo>
                          <a:pt x="153" y="89"/>
                        </a:lnTo>
                        <a:lnTo>
                          <a:pt x="174" y="470"/>
                        </a:lnTo>
                        <a:lnTo>
                          <a:pt x="174" y="560"/>
                        </a:lnTo>
                        <a:lnTo>
                          <a:pt x="147" y="727"/>
                        </a:lnTo>
                        <a:lnTo>
                          <a:pt x="140" y="920"/>
                        </a:lnTo>
                        <a:lnTo>
                          <a:pt x="153" y="1017"/>
                        </a:lnTo>
                        <a:lnTo>
                          <a:pt x="140" y="1071"/>
                        </a:lnTo>
                        <a:lnTo>
                          <a:pt x="42" y="1155"/>
                        </a:lnTo>
                        <a:lnTo>
                          <a:pt x="0" y="1259"/>
                        </a:lnTo>
                        <a:lnTo>
                          <a:pt x="8" y="1293"/>
                        </a:lnTo>
                        <a:lnTo>
                          <a:pt x="84" y="1329"/>
                        </a:lnTo>
                        <a:lnTo>
                          <a:pt x="104" y="1314"/>
                        </a:lnTo>
                        <a:lnTo>
                          <a:pt x="112" y="1252"/>
                        </a:lnTo>
                        <a:lnTo>
                          <a:pt x="133" y="1162"/>
                        </a:lnTo>
                        <a:lnTo>
                          <a:pt x="167" y="1121"/>
                        </a:lnTo>
                        <a:lnTo>
                          <a:pt x="208" y="1093"/>
                        </a:lnTo>
                        <a:lnTo>
                          <a:pt x="244" y="1058"/>
                        </a:lnTo>
                        <a:lnTo>
                          <a:pt x="251" y="1030"/>
                        </a:lnTo>
                        <a:lnTo>
                          <a:pt x="230" y="996"/>
                        </a:lnTo>
                        <a:lnTo>
                          <a:pt x="208" y="976"/>
                        </a:lnTo>
                        <a:lnTo>
                          <a:pt x="194" y="892"/>
                        </a:lnTo>
                        <a:lnTo>
                          <a:pt x="208" y="719"/>
                        </a:lnTo>
                        <a:lnTo>
                          <a:pt x="257" y="519"/>
                        </a:lnTo>
                        <a:lnTo>
                          <a:pt x="305" y="359"/>
                        </a:lnTo>
                        <a:lnTo>
                          <a:pt x="320" y="166"/>
                        </a:lnTo>
                        <a:lnTo>
                          <a:pt x="305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8" name=""/>
                  <p:cNvSpPr/>
                  <p:nvPr/>
                </p:nvSpPr>
                <p:spPr>
                  <a:xfrm>
                    <a:off x="2309760" y="4151160"/>
                    <a:ext cx="16776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1121">
                        <a:moveTo>
                          <a:pt x="172" y="166"/>
                        </a:moveTo>
                        <a:lnTo>
                          <a:pt x="159" y="55"/>
                        </a:lnTo>
                        <a:lnTo>
                          <a:pt x="97" y="0"/>
                        </a:lnTo>
                        <a:lnTo>
                          <a:pt x="7" y="7"/>
                        </a:lnTo>
                        <a:lnTo>
                          <a:pt x="0" y="55"/>
                        </a:lnTo>
                        <a:lnTo>
                          <a:pt x="7" y="159"/>
                        </a:lnTo>
                        <a:lnTo>
                          <a:pt x="55" y="318"/>
                        </a:lnTo>
                        <a:lnTo>
                          <a:pt x="90" y="435"/>
                        </a:lnTo>
                        <a:lnTo>
                          <a:pt x="131" y="594"/>
                        </a:lnTo>
                        <a:lnTo>
                          <a:pt x="145" y="732"/>
                        </a:lnTo>
                        <a:lnTo>
                          <a:pt x="145" y="843"/>
                        </a:lnTo>
                        <a:lnTo>
                          <a:pt x="124" y="926"/>
                        </a:lnTo>
                        <a:lnTo>
                          <a:pt x="104" y="954"/>
                        </a:lnTo>
                        <a:lnTo>
                          <a:pt x="104" y="981"/>
                        </a:lnTo>
                        <a:lnTo>
                          <a:pt x="131" y="1024"/>
                        </a:lnTo>
                        <a:lnTo>
                          <a:pt x="179" y="1037"/>
                        </a:lnTo>
                        <a:lnTo>
                          <a:pt x="256" y="1037"/>
                        </a:lnTo>
                        <a:lnTo>
                          <a:pt x="394" y="1071"/>
                        </a:lnTo>
                        <a:lnTo>
                          <a:pt x="435" y="1121"/>
                        </a:lnTo>
                        <a:lnTo>
                          <a:pt x="498" y="1092"/>
                        </a:lnTo>
                        <a:lnTo>
                          <a:pt x="526" y="1024"/>
                        </a:lnTo>
                        <a:lnTo>
                          <a:pt x="498" y="996"/>
                        </a:lnTo>
                        <a:lnTo>
                          <a:pt x="380" y="981"/>
                        </a:lnTo>
                        <a:lnTo>
                          <a:pt x="249" y="981"/>
                        </a:lnTo>
                        <a:lnTo>
                          <a:pt x="193" y="974"/>
                        </a:lnTo>
                        <a:lnTo>
                          <a:pt x="179" y="933"/>
                        </a:lnTo>
                        <a:lnTo>
                          <a:pt x="193" y="857"/>
                        </a:lnTo>
                        <a:lnTo>
                          <a:pt x="201" y="725"/>
                        </a:lnTo>
                        <a:lnTo>
                          <a:pt x="186" y="580"/>
                        </a:lnTo>
                        <a:lnTo>
                          <a:pt x="165" y="388"/>
                        </a:lnTo>
                        <a:lnTo>
                          <a:pt x="172" y="221"/>
                        </a:lnTo>
                        <a:lnTo>
                          <a:pt x="172" y="1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819" name="ampoule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086920" y="3494880"/>
                  <a:ext cx="13356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820" name=""/>
            <p:cNvGrpSpPr/>
            <p:nvPr/>
          </p:nvGrpSpPr>
          <p:grpSpPr>
            <a:xfrm>
              <a:off x="1298520" y="1044720"/>
              <a:ext cx="1774800" cy="1433520"/>
              <a:chOff x="1298520" y="1044720"/>
              <a:chExt cx="1774800" cy="1433520"/>
            </a:xfrm>
          </p:grpSpPr>
          <p:sp>
            <p:nvSpPr>
              <p:cNvPr id="1821" name=""/>
              <p:cNvSpPr/>
              <p:nvPr/>
            </p:nvSpPr>
            <p:spPr>
              <a:xfrm>
                <a:off x="1298520" y="2119320"/>
                <a:ext cx="177480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Auteur et/o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Annotateur de 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2" name=""/>
              <p:cNvGrpSpPr/>
              <p:nvPr/>
            </p:nvGrpSpPr>
            <p:grpSpPr>
              <a:xfrm>
                <a:off x="1850760" y="1044720"/>
                <a:ext cx="789120" cy="1231920"/>
                <a:chOff x="1850760" y="1044720"/>
                <a:chExt cx="789120" cy="1231920"/>
              </a:xfrm>
            </p:grpSpPr>
            <p:grpSp>
              <p:nvGrpSpPr>
                <p:cNvPr id="1823" name=""/>
                <p:cNvGrpSpPr/>
                <p:nvPr/>
              </p:nvGrpSpPr>
              <p:grpSpPr>
                <a:xfrm>
                  <a:off x="2126160" y="1492560"/>
                  <a:ext cx="477360" cy="784080"/>
                  <a:chOff x="2126160" y="1492560"/>
                  <a:chExt cx="477360" cy="784080"/>
                </a:xfrm>
              </p:grpSpPr>
              <p:sp>
                <p:nvSpPr>
                  <p:cNvPr id="1824" name=""/>
                  <p:cNvSpPr/>
                  <p:nvPr/>
                </p:nvSpPr>
                <p:spPr>
                  <a:xfrm>
                    <a:off x="2335320" y="1753200"/>
                    <a:ext cx="11124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1" h="1535">
                        <a:moveTo>
                          <a:pt x="182" y="123"/>
                        </a:moveTo>
                        <a:lnTo>
                          <a:pt x="265" y="33"/>
                        </a:lnTo>
                        <a:lnTo>
                          <a:pt x="423" y="0"/>
                        </a:lnTo>
                        <a:lnTo>
                          <a:pt x="558" y="33"/>
                        </a:lnTo>
                        <a:lnTo>
                          <a:pt x="633" y="83"/>
                        </a:lnTo>
                        <a:lnTo>
                          <a:pt x="693" y="183"/>
                        </a:lnTo>
                        <a:lnTo>
                          <a:pt x="746" y="361"/>
                        </a:lnTo>
                        <a:lnTo>
                          <a:pt x="771" y="554"/>
                        </a:lnTo>
                        <a:lnTo>
                          <a:pt x="771" y="899"/>
                        </a:lnTo>
                        <a:lnTo>
                          <a:pt x="693" y="1200"/>
                        </a:lnTo>
                        <a:lnTo>
                          <a:pt x="581" y="1370"/>
                        </a:lnTo>
                        <a:lnTo>
                          <a:pt x="468" y="1468"/>
                        </a:lnTo>
                        <a:lnTo>
                          <a:pt x="340" y="1535"/>
                        </a:lnTo>
                        <a:lnTo>
                          <a:pt x="160" y="1528"/>
                        </a:lnTo>
                        <a:lnTo>
                          <a:pt x="17" y="1425"/>
                        </a:lnTo>
                        <a:lnTo>
                          <a:pt x="0" y="1302"/>
                        </a:lnTo>
                        <a:lnTo>
                          <a:pt x="70" y="1119"/>
                        </a:lnTo>
                        <a:lnTo>
                          <a:pt x="130" y="914"/>
                        </a:lnTo>
                        <a:lnTo>
                          <a:pt x="152" y="649"/>
                        </a:lnTo>
                        <a:lnTo>
                          <a:pt x="115" y="423"/>
                        </a:lnTo>
                        <a:lnTo>
                          <a:pt x="115" y="258"/>
                        </a:lnTo>
                        <a:lnTo>
                          <a:pt x="182" y="1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5" name=""/>
                  <p:cNvSpPr/>
                  <p:nvPr/>
                </p:nvSpPr>
                <p:spPr>
                  <a:xfrm>
                    <a:off x="2378520" y="1999800"/>
                    <a:ext cx="127080" cy="27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81" h="1512">
                        <a:moveTo>
                          <a:pt x="293" y="63"/>
                        </a:moveTo>
                        <a:lnTo>
                          <a:pt x="187" y="0"/>
                        </a:lnTo>
                        <a:lnTo>
                          <a:pt x="52" y="0"/>
                        </a:lnTo>
                        <a:lnTo>
                          <a:pt x="0" y="83"/>
                        </a:lnTo>
                        <a:lnTo>
                          <a:pt x="22" y="205"/>
                        </a:lnTo>
                        <a:lnTo>
                          <a:pt x="142" y="325"/>
                        </a:lnTo>
                        <a:lnTo>
                          <a:pt x="390" y="436"/>
                        </a:lnTo>
                        <a:lnTo>
                          <a:pt x="676" y="671"/>
                        </a:lnTo>
                        <a:lnTo>
                          <a:pt x="721" y="774"/>
                        </a:lnTo>
                        <a:lnTo>
                          <a:pt x="698" y="821"/>
                        </a:lnTo>
                        <a:lnTo>
                          <a:pt x="480" y="977"/>
                        </a:lnTo>
                        <a:lnTo>
                          <a:pt x="225" y="1162"/>
                        </a:lnTo>
                        <a:lnTo>
                          <a:pt x="165" y="1242"/>
                        </a:lnTo>
                        <a:lnTo>
                          <a:pt x="165" y="1325"/>
                        </a:lnTo>
                        <a:lnTo>
                          <a:pt x="360" y="1412"/>
                        </a:lnTo>
                        <a:lnTo>
                          <a:pt x="661" y="1512"/>
                        </a:lnTo>
                        <a:lnTo>
                          <a:pt x="766" y="1512"/>
                        </a:lnTo>
                        <a:lnTo>
                          <a:pt x="881" y="1445"/>
                        </a:lnTo>
                        <a:lnTo>
                          <a:pt x="881" y="1392"/>
                        </a:lnTo>
                        <a:lnTo>
                          <a:pt x="796" y="1365"/>
                        </a:lnTo>
                        <a:lnTo>
                          <a:pt x="413" y="1325"/>
                        </a:lnTo>
                        <a:lnTo>
                          <a:pt x="270" y="1290"/>
                        </a:lnTo>
                        <a:lnTo>
                          <a:pt x="255" y="1229"/>
                        </a:lnTo>
                        <a:lnTo>
                          <a:pt x="503" y="1059"/>
                        </a:lnTo>
                        <a:lnTo>
                          <a:pt x="773" y="896"/>
                        </a:lnTo>
                        <a:lnTo>
                          <a:pt x="833" y="836"/>
                        </a:lnTo>
                        <a:lnTo>
                          <a:pt x="856" y="754"/>
                        </a:lnTo>
                        <a:lnTo>
                          <a:pt x="833" y="638"/>
                        </a:lnTo>
                        <a:lnTo>
                          <a:pt x="751" y="551"/>
                        </a:lnTo>
                        <a:lnTo>
                          <a:pt x="480" y="253"/>
                        </a:lnTo>
                        <a:lnTo>
                          <a:pt x="293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6" name=""/>
                  <p:cNvSpPr/>
                  <p:nvPr/>
                </p:nvSpPr>
                <p:spPr>
                  <a:xfrm>
                    <a:off x="2210760" y="1986120"/>
                    <a:ext cx="158400" cy="29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7" h="1610">
                        <a:moveTo>
                          <a:pt x="596" y="218"/>
                        </a:moveTo>
                        <a:lnTo>
                          <a:pt x="771" y="80"/>
                        </a:lnTo>
                        <a:lnTo>
                          <a:pt x="937" y="0"/>
                        </a:lnTo>
                        <a:lnTo>
                          <a:pt x="1042" y="12"/>
                        </a:lnTo>
                        <a:lnTo>
                          <a:pt x="1097" y="80"/>
                        </a:lnTo>
                        <a:lnTo>
                          <a:pt x="1097" y="155"/>
                        </a:lnTo>
                        <a:lnTo>
                          <a:pt x="1064" y="238"/>
                        </a:lnTo>
                        <a:lnTo>
                          <a:pt x="952" y="285"/>
                        </a:lnTo>
                        <a:lnTo>
                          <a:pt x="724" y="400"/>
                        </a:lnTo>
                        <a:lnTo>
                          <a:pt x="589" y="543"/>
                        </a:lnTo>
                        <a:lnTo>
                          <a:pt x="499" y="713"/>
                        </a:lnTo>
                        <a:lnTo>
                          <a:pt x="476" y="814"/>
                        </a:lnTo>
                        <a:lnTo>
                          <a:pt x="596" y="936"/>
                        </a:lnTo>
                        <a:lnTo>
                          <a:pt x="724" y="1114"/>
                        </a:lnTo>
                        <a:lnTo>
                          <a:pt x="817" y="1277"/>
                        </a:lnTo>
                        <a:lnTo>
                          <a:pt x="839" y="1380"/>
                        </a:lnTo>
                        <a:lnTo>
                          <a:pt x="839" y="1440"/>
                        </a:lnTo>
                        <a:lnTo>
                          <a:pt x="779" y="1480"/>
                        </a:lnTo>
                        <a:lnTo>
                          <a:pt x="589" y="1487"/>
                        </a:lnTo>
                        <a:lnTo>
                          <a:pt x="301" y="1547"/>
                        </a:lnTo>
                        <a:lnTo>
                          <a:pt x="248" y="1602"/>
                        </a:lnTo>
                        <a:lnTo>
                          <a:pt x="203" y="1610"/>
                        </a:lnTo>
                        <a:lnTo>
                          <a:pt x="0" y="1547"/>
                        </a:lnTo>
                        <a:lnTo>
                          <a:pt x="0" y="1487"/>
                        </a:lnTo>
                        <a:lnTo>
                          <a:pt x="90" y="1440"/>
                        </a:lnTo>
                        <a:lnTo>
                          <a:pt x="453" y="1380"/>
                        </a:lnTo>
                        <a:lnTo>
                          <a:pt x="641" y="1400"/>
                        </a:lnTo>
                        <a:lnTo>
                          <a:pt x="734" y="1400"/>
                        </a:lnTo>
                        <a:lnTo>
                          <a:pt x="756" y="1365"/>
                        </a:lnTo>
                        <a:lnTo>
                          <a:pt x="679" y="1214"/>
                        </a:lnTo>
                        <a:lnTo>
                          <a:pt x="521" y="1019"/>
                        </a:lnTo>
                        <a:lnTo>
                          <a:pt x="408" y="876"/>
                        </a:lnTo>
                        <a:lnTo>
                          <a:pt x="363" y="794"/>
                        </a:lnTo>
                        <a:lnTo>
                          <a:pt x="363" y="671"/>
                        </a:lnTo>
                        <a:lnTo>
                          <a:pt x="438" y="468"/>
                        </a:lnTo>
                        <a:lnTo>
                          <a:pt x="506" y="340"/>
                        </a:lnTo>
                        <a:lnTo>
                          <a:pt x="596" y="2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7" name=""/>
                  <p:cNvSpPr/>
                  <p:nvPr/>
                </p:nvSpPr>
                <p:spPr>
                  <a:xfrm>
                    <a:off x="2126160" y="1753920"/>
                    <a:ext cx="21384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82" h="1202">
                        <a:moveTo>
                          <a:pt x="889" y="1202"/>
                        </a:moveTo>
                        <a:lnTo>
                          <a:pt x="981" y="1192"/>
                        </a:lnTo>
                        <a:lnTo>
                          <a:pt x="1009" y="1124"/>
                        </a:lnTo>
                        <a:lnTo>
                          <a:pt x="1034" y="881"/>
                        </a:lnTo>
                        <a:lnTo>
                          <a:pt x="1172" y="596"/>
                        </a:lnTo>
                        <a:lnTo>
                          <a:pt x="1314" y="465"/>
                        </a:lnTo>
                        <a:lnTo>
                          <a:pt x="1482" y="330"/>
                        </a:lnTo>
                        <a:lnTo>
                          <a:pt x="1467" y="235"/>
                        </a:lnTo>
                        <a:lnTo>
                          <a:pt x="1367" y="185"/>
                        </a:lnTo>
                        <a:lnTo>
                          <a:pt x="1242" y="235"/>
                        </a:lnTo>
                        <a:lnTo>
                          <a:pt x="1104" y="373"/>
                        </a:lnTo>
                        <a:lnTo>
                          <a:pt x="976" y="673"/>
                        </a:lnTo>
                        <a:lnTo>
                          <a:pt x="921" y="906"/>
                        </a:lnTo>
                        <a:lnTo>
                          <a:pt x="884" y="1029"/>
                        </a:lnTo>
                        <a:lnTo>
                          <a:pt x="779" y="984"/>
                        </a:lnTo>
                        <a:lnTo>
                          <a:pt x="661" y="783"/>
                        </a:lnTo>
                        <a:lnTo>
                          <a:pt x="563" y="505"/>
                        </a:lnTo>
                        <a:lnTo>
                          <a:pt x="581" y="380"/>
                        </a:lnTo>
                        <a:lnTo>
                          <a:pt x="636" y="248"/>
                        </a:lnTo>
                        <a:lnTo>
                          <a:pt x="658" y="150"/>
                        </a:lnTo>
                        <a:lnTo>
                          <a:pt x="418" y="145"/>
                        </a:lnTo>
                        <a:lnTo>
                          <a:pt x="178" y="105"/>
                        </a:lnTo>
                        <a:lnTo>
                          <a:pt x="65" y="0"/>
                        </a:lnTo>
                        <a:lnTo>
                          <a:pt x="0" y="50"/>
                        </a:lnTo>
                        <a:lnTo>
                          <a:pt x="88" y="230"/>
                        </a:lnTo>
                        <a:lnTo>
                          <a:pt x="280" y="250"/>
                        </a:lnTo>
                        <a:lnTo>
                          <a:pt x="488" y="270"/>
                        </a:lnTo>
                        <a:lnTo>
                          <a:pt x="493" y="428"/>
                        </a:lnTo>
                        <a:lnTo>
                          <a:pt x="513" y="611"/>
                        </a:lnTo>
                        <a:lnTo>
                          <a:pt x="583" y="816"/>
                        </a:lnTo>
                        <a:lnTo>
                          <a:pt x="671" y="1019"/>
                        </a:lnTo>
                        <a:lnTo>
                          <a:pt x="804" y="1154"/>
                        </a:lnTo>
                        <a:lnTo>
                          <a:pt x="889" y="12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8" name=""/>
                  <p:cNvSpPr/>
                  <p:nvPr/>
                </p:nvSpPr>
                <p:spPr>
                  <a:xfrm>
                    <a:off x="2446200" y="1492560"/>
                    <a:ext cx="157320" cy="29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1" h="1625">
                        <a:moveTo>
                          <a:pt x="0" y="1610"/>
                        </a:moveTo>
                        <a:lnTo>
                          <a:pt x="0" y="1503"/>
                        </a:lnTo>
                        <a:lnTo>
                          <a:pt x="67" y="1420"/>
                        </a:lnTo>
                        <a:lnTo>
                          <a:pt x="363" y="1325"/>
                        </a:lnTo>
                        <a:lnTo>
                          <a:pt x="728" y="1245"/>
                        </a:lnTo>
                        <a:lnTo>
                          <a:pt x="939" y="1197"/>
                        </a:lnTo>
                        <a:lnTo>
                          <a:pt x="964" y="1155"/>
                        </a:lnTo>
                        <a:lnTo>
                          <a:pt x="864" y="1034"/>
                        </a:lnTo>
                        <a:lnTo>
                          <a:pt x="666" y="857"/>
                        </a:lnTo>
                        <a:lnTo>
                          <a:pt x="463" y="706"/>
                        </a:lnTo>
                        <a:lnTo>
                          <a:pt x="303" y="626"/>
                        </a:lnTo>
                        <a:lnTo>
                          <a:pt x="213" y="544"/>
                        </a:lnTo>
                        <a:lnTo>
                          <a:pt x="205" y="483"/>
                        </a:lnTo>
                        <a:lnTo>
                          <a:pt x="258" y="428"/>
                        </a:lnTo>
                        <a:lnTo>
                          <a:pt x="385" y="401"/>
                        </a:lnTo>
                        <a:lnTo>
                          <a:pt x="546" y="298"/>
                        </a:lnTo>
                        <a:lnTo>
                          <a:pt x="568" y="198"/>
                        </a:lnTo>
                        <a:lnTo>
                          <a:pt x="568" y="55"/>
                        </a:lnTo>
                        <a:lnTo>
                          <a:pt x="553" y="0"/>
                        </a:lnTo>
                        <a:lnTo>
                          <a:pt x="613" y="13"/>
                        </a:lnTo>
                        <a:lnTo>
                          <a:pt x="698" y="135"/>
                        </a:lnTo>
                        <a:lnTo>
                          <a:pt x="728" y="266"/>
                        </a:lnTo>
                        <a:lnTo>
                          <a:pt x="636" y="361"/>
                        </a:lnTo>
                        <a:lnTo>
                          <a:pt x="553" y="388"/>
                        </a:lnTo>
                        <a:lnTo>
                          <a:pt x="393" y="463"/>
                        </a:lnTo>
                        <a:lnTo>
                          <a:pt x="363" y="504"/>
                        </a:lnTo>
                        <a:lnTo>
                          <a:pt x="385" y="544"/>
                        </a:lnTo>
                        <a:lnTo>
                          <a:pt x="531" y="654"/>
                        </a:lnTo>
                        <a:lnTo>
                          <a:pt x="683" y="714"/>
                        </a:lnTo>
                        <a:lnTo>
                          <a:pt x="886" y="869"/>
                        </a:lnTo>
                        <a:lnTo>
                          <a:pt x="1024" y="1054"/>
                        </a:lnTo>
                        <a:lnTo>
                          <a:pt x="1091" y="1197"/>
                        </a:lnTo>
                        <a:lnTo>
                          <a:pt x="1069" y="1245"/>
                        </a:lnTo>
                        <a:lnTo>
                          <a:pt x="1024" y="1277"/>
                        </a:lnTo>
                        <a:lnTo>
                          <a:pt x="849" y="1340"/>
                        </a:lnTo>
                        <a:lnTo>
                          <a:pt x="501" y="1443"/>
                        </a:lnTo>
                        <a:lnTo>
                          <a:pt x="280" y="1530"/>
                        </a:lnTo>
                        <a:lnTo>
                          <a:pt x="138" y="1605"/>
                        </a:lnTo>
                        <a:lnTo>
                          <a:pt x="45" y="1625"/>
                        </a:lnTo>
                        <a:lnTo>
                          <a:pt x="0" y="16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9" name=""/>
                  <p:cNvSpPr/>
                  <p:nvPr/>
                </p:nvSpPr>
                <p:spPr>
                  <a:xfrm>
                    <a:off x="2291400" y="1536120"/>
                    <a:ext cx="12276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w="851" h="1157">
                        <a:moveTo>
                          <a:pt x="173" y="939"/>
                        </a:moveTo>
                        <a:lnTo>
                          <a:pt x="271" y="1042"/>
                        </a:lnTo>
                        <a:lnTo>
                          <a:pt x="431" y="1137"/>
                        </a:lnTo>
                        <a:lnTo>
                          <a:pt x="566" y="1157"/>
                        </a:lnTo>
                        <a:lnTo>
                          <a:pt x="669" y="1137"/>
                        </a:lnTo>
                        <a:lnTo>
                          <a:pt x="791" y="1057"/>
                        </a:lnTo>
                        <a:lnTo>
                          <a:pt x="836" y="892"/>
                        </a:lnTo>
                        <a:lnTo>
                          <a:pt x="851" y="769"/>
                        </a:lnTo>
                        <a:lnTo>
                          <a:pt x="814" y="654"/>
                        </a:lnTo>
                        <a:lnTo>
                          <a:pt x="744" y="511"/>
                        </a:lnTo>
                        <a:lnTo>
                          <a:pt x="679" y="388"/>
                        </a:lnTo>
                        <a:lnTo>
                          <a:pt x="669" y="361"/>
                        </a:lnTo>
                        <a:lnTo>
                          <a:pt x="699" y="218"/>
                        </a:lnTo>
                        <a:lnTo>
                          <a:pt x="791" y="75"/>
                        </a:lnTo>
                        <a:lnTo>
                          <a:pt x="806" y="33"/>
                        </a:lnTo>
                        <a:lnTo>
                          <a:pt x="759" y="0"/>
                        </a:lnTo>
                        <a:lnTo>
                          <a:pt x="699" y="0"/>
                        </a:lnTo>
                        <a:lnTo>
                          <a:pt x="634" y="185"/>
                        </a:lnTo>
                        <a:lnTo>
                          <a:pt x="604" y="306"/>
                        </a:lnTo>
                        <a:lnTo>
                          <a:pt x="521" y="225"/>
                        </a:lnTo>
                        <a:lnTo>
                          <a:pt x="451" y="163"/>
                        </a:lnTo>
                        <a:lnTo>
                          <a:pt x="308" y="115"/>
                        </a:lnTo>
                        <a:lnTo>
                          <a:pt x="203" y="115"/>
                        </a:lnTo>
                        <a:lnTo>
                          <a:pt x="45" y="185"/>
                        </a:lnTo>
                        <a:lnTo>
                          <a:pt x="0" y="381"/>
                        </a:lnTo>
                        <a:lnTo>
                          <a:pt x="38" y="634"/>
                        </a:lnTo>
                        <a:lnTo>
                          <a:pt x="105" y="872"/>
                        </a:lnTo>
                        <a:lnTo>
                          <a:pt x="173" y="9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0" name=""/>
                <p:cNvGrpSpPr/>
                <p:nvPr/>
              </p:nvGrpSpPr>
              <p:grpSpPr>
                <a:xfrm>
                  <a:off x="2136960" y="1044720"/>
                  <a:ext cx="236520" cy="239040"/>
                  <a:chOff x="2136960" y="1044720"/>
                  <a:chExt cx="236520" cy="239040"/>
                </a:xfrm>
              </p:grpSpPr>
              <p:sp>
                <p:nvSpPr>
                  <p:cNvPr id="1831" name=""/>
                  <p:cNvSpPr/>
                  <p:nvPr/>
                </p:nvSpPr>
                <p:spPr>
                  <a:xfrm>
                    <a:off x="2136960" y="1044720"/>
                    <a:ext cx="236520" cy="2390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832" name="doc_0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63960" y="1066320"/>
                    <a:ext cx="197280" cy="199080"/>
                  </a:xfrm>
                  <a:prstGeom prst="rect">
                    <a:avLst/>
                  </a:prstGeom>
                  <a:ln w="9360">
                    <a:solidFill>
                      <a:srgbClr val="c0c0c0"/>
                    </a:solidFill>
                    <a:miter/>
                  </a:ln>
                </p:spPr>
              </p:pic>
            </p:grpSp>
            <p:grpSp>
              <p:nvGrpSpPr>
                <p:cNvPr id="1833" name=""/>
                <p:cNvGrpSpPr/>
                <p:nvPr/>
              </p:nvGrpSpPr>
              <p:grpSpPr>
                <a:xfrm>
                  <a:off x="1850760" y="1168200"/>
                  <a:ext cx="255240" cy="278640"/>
                  <a:chOff x="1850760" y="1168200"/>
                  <a:chExt cx="255240" cy="278640"/>
                </a:xfrm>
              </p:grpSpPr>
              <p:sp>
                <p:nvSpPr>
                  <p:cNvPr id="1834" name=""/>
                  <p:cNvSpPr/>
                  <p:nvPr/>
                </p:nvSpPr>
                <p:spPr>
                  <a:xfrm>
                    <a:off x="1850760" y="1168200"/>
                    <a:ext cx="25524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835" name="doc_0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59040" y="1186920"/>
                    <a:ext cx="236520" cy="2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836" name=""/>
                <p:cNvGrpSpPr/>
                <p:nvPr/>
              </p:nvGrpSpPr>
              <p:grpSpPr>
                <a:xfrm>
                  <a:off x="2008440" y="1487160"/>
                  <a:ext cx="204120" cy="245160"/>
                  <a:chOff x="2008440" y="1487160"/>
                  <a:chExt cx="204120" cy="245160"/>
                </a:xfrm>
              </p:grpSpPr>
              <p:sp>
                <p:nvSpPr>
                  <p:cNvPr id="1837" name=""/>
                  <p:cNvSpPr/>
                  <p:nvPr/>
                </p:nvSpPr>
                <p:spPr>
                  <a:xfrm>
                    <a:off x="2008440" y="1487160"/>
                    <a:ext cx="204120" cy="2451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838" name="doc_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28960" y="1503720"/>
                    <a:ext cx="1666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839" name=""/>
                <p:cNvGrpSpPr/>
                <p:nvPr/>
              </p:nvGrpSpPr>
              <p:grpSpPr>
                <a:xfrm>
                  <a:off x="2403000" y="1208160"/>
                  <a:ext cx="236880" cy="278640"/>
                  <a:chOff x="2403000" y="1208160"/>
                  <a:chExt cx="236880" cy="278640"/>
                </a:xfrm>
              </p:grpSpPr>
              <p:sp>
                <p:nvSpPr>
                  <p:cNvPr id="1840" name=""/>
                  <p:cNvSpPr/>
                  <p:nvPr/>
                </p:nvSpPr>
                <p:spPr>
                  <a:xfrm>
                    <a:off x="2403000" y="1208160"/>
                    <a:ext cx="23688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841" name="doc_05gif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08400" y="1241640"/>
                    <a:ext cx="22500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1842" name=""/>
            <p:cNvGrpSpPr/>
            <p:nvPr/>
          </p:nvGrpSpPr>
          <p:grpSpPr>
            <a:xfrm>
              <a:off x="7570800" y="4191120"/>
              <a:ext cx="1106280" cy="1193760"/>
              <a:chOff x="7570800" y="4191120"/>
              <a:chExt cx="1106280" cy="1193760"/>
            </a:xfrm>
          </p:grpSpPr>
          <p:sp>
            <p:nvSpPr>
              <p:cNvPr id="1843" name=""/>
              <p:cNvSpPr/>
              <p:nvPr/>
            </p:nvSpPr>
            <p:spPr>
              <a:xfrm>
                <a:off x="7570800" y="5137200"/>
                <a:ext cx="1106280" cy="24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Utilisateur fin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4" name=""/>
              <p:cNvGrpSpPr/>
              <p:nvPr/>
            </p:nvGrpSpPr>
            <p:grpSpPr>
              <a:xfrm>
                <a:off x="7729200" y="4270320"/>
                <a:ext cx="430200" cy="903600"/>
                <a:chOff x="7729200" y="4270320"/>
                <a:chExt cx="430200" cy="903600"/>
              </a:xfrm>
            </p:grpSpPr>
            <p:sp>
              <p:nvSpPr>
                <p:cNvPr id="1845" name=""/>
                <p:cNvSpPr/>
                <p:nvPr/>
              </p:nvSpPr>
              <p:spPr>
                <a:xfrm flipH="1">
                  <a:off x="7853760" y="4320720"/>
                  <a:ext cx="168120" cy="19692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 flipH="1">
                  <a:off x="7965000" y="4270320"/>
                  <a:ext cx="194040" cy="31644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 flipH="1">
                  <a:off x="7875360" y="4532400"/>
                  <a:ext cx="100800" cy="29664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 flipH="1">
                  <a:off x="7774200" y="4540680"/>
                  <a:ext cx="155160" cy="22788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 flipH="1">
                  <a:off x="7728840" y="4799160"/>
                  <a:ext cx="188280" cy="368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 flipH="1">
                  <a:off x="7908840" y="4798440"/>
                  <a:ext cx="126360" cy="37548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1" name=""/>
              <p:cNvGrpSpPr/>
              <p:nvPr/>
            </p:nvGrpSpPr>
            <p:grpSpPr>
              <a:xfrm>
                <a:off x="8162640" y="4191120"/>
                <a:ext cx="473400" cy="396720"/>
                <a:chOff x="8162640" y="4191120"/>
                <a:chExt cx="473400" cy="396720"/>
              </a:xfrm>
            </p:grpSpPr>
            <p:sp>
              <p:nvSpPr>
                <p:cNvPr id="1852" name=""/>
                <p:cNvSpPr/>
                <p:nvPr/>
              </p:nvSpPr>
              <p:spPr>
                <a:xfrm>
                  <a:off x="8162640" y="4191120"/>
                  <a:ext cx="473400" cy="396720"/>
                </a:xfrm>
                <a:prstGeom prst="cloudCallout">
                  <a:avLst>
                    <a:gd name="adj1" fmla="val -75731"/>
                    <a:gd name="adj2" fmla="val 15087"/>
                  </a:avLst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53" name="inter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78920" y="4261320"/>
                  <a:ext cx="2365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854" name=""/>
            <p:cNvGrpSpPr/>
            <p:nvPr/>
          </p:nvGrpSpPr>
          <p:grpSpPr>
            <a:xfrm>
              <a:off x="2639880" y="1455840"/>
              <a:ext cx="1617840" cy="903240"/>
              <a:chOff x="2639880" y="1455840"/>
              <a:chExt cx="1617840" cy="903240"/>
            </a:xfrm>
          </p:grpSpPr>
          <p:pic>
            <p:nvPicPr>
              <p:cNvPr id="185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639880" y="193212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56" name=""/>
              <p:cNvGrpSpPr/>
              <p:nvPr/>
            </p:nvGrpSpPr>
            <p:grpSpPr>
              <a:xfrm>
                <a:off x="2916000" y="1455840"/>
                <a:ext cx="1025640" cy="903240"/>
                <a:chOff x="2916000" y="1455840"/>
                <a:chExt cx="1025640" cy="903240"/>
              </a:xfrm>
            </p:grpSpPr>
            <p:sp>
              <p:nvSpPr>
                <p:cNvPr id="1857" name=""/>
                <p:cNvSpPr/>
                <p:nvPr/>
              </p:nvSpPr>
              <p:spPr>
                <a:xfrm>
                  <a:off x="2916000" y="1721880"/>
                  <a:ext cx="102564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2916000" y="1455840"/>
                  <a:ext cx="102564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2933640" y="1724760"/>
                  <a:ext cx="100764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6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310200" y="1957320"/>
                  <a:ext cx="31536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992680" y="1486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86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20840" y="1920960"/>
                <a:ext cx="23688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63" name=""/>
            <p:cNvGrpSpPr/>
            <p:nvPr/>
          </p:nvGrpSpPr>
          <p:grpSpPr>
            <a:xfrm>
              <a:off x="5913360" y="4230720"/>
              <a:ext cx="1697040" cy="995400"/>
              <a:chOff x="5913360" y="4230720"/>
              <a:chExt cx="1697040" cy="995400"/>
            </a:xfrm>
          </p:grpSpPr>
          <p:pic>
            <p:nvPicPr>
              <p:cNvPr id="1864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913360" y="4708440"/>
                <a:ext cx="23796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5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7373880" y="4708440"/>
                <a:ext cx="236520" cy="238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66" name=""/>
              <p:cNvGrpSpPr/>
              <p:nvPr/>
            </p:nvGrpSpPr>
            <p:grpSpPr>
              <a:xfrm>
                <a:off x="6189480" y="4230720"/>
                <a:ext cx="1104840" cy="995400"/>
                <a:chOff x="6189480" y="4230720"/>
                <a:chExt cx="1104840" cy="995400"/>
              </a:xfrm>
            </p:grpSpPr>
            <p:grpSp>
              <p:nvGrpSpPr>
                <p:cNvPr id="1867" name=""/>
                <p:cNvGrpSpPr/>
                <p:nvPr/>
              </p:nvGrpSpPr>
              <p:grpSpPr>
                <a:xfrm>
                  <a:off x="6189480" y="4230720"/>
                  <a:ext cx="1026000" cy="902880"/>
                  <a:chOff x="6189480" y="4230720"/>
                  <a:chExt cx="1026000" cy="902880"/>
                </a:xfrm>
              </p:grpSpPr>
              <p:sp>
                <p:nvSpPr>
                  <p:cNvPr id="1868" name=""/>
                  <p:cNvSpPr/>
                  <p:nvPr/>
                </p:nvSpPr>
                <p:spPr>
                  <a:xfrm>
                    <a:off x="6189480" y="4496760"/>
                    <a:ext cx="1026000" cy="63684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9" name=""/>
                  <p:cNvSpPr/>
                  <p:nvPr/>
                </p:nvSpPr>
                <p:spPr>
                  <a:xfrm>
                    <a:off x="6189480" y="423072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0" name=""/>
                  <p:cNvSpPr/>
                  <p:nvPr/>
                </p:nvSpPr>
                <p:spPr>
                  <a:xfrm>
                    <a:off x="6207120" y="449928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87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584040" y="473220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7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66160" y="426132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873" name=""/>
                <p:cNvGrpSpPr/>
                <p:nvPr/>
              </p:nvGrpSpPr>
              <p:grpSpPr>
                <a:xfrm>
                  <a:off x="6228720" y="4270320"/>
                  <a:ext cx="1026000" cy="903240"/>
                  <a:chOff x="6228720" y="4270320"/>
                  <a:chExt cx="1026000" cy="903240"/>
                </a:xfrm>
              </p:grpSpPr>
              <p:sp>
                <p:nvSpPr>
                  <p:cNvPr id="1874" name=""/>
                  <p:cNvSpPr/>
                  <p:nvPr/>
                </p:nvSpPr>
                <p:spPr>
                  <a:xfrm>
                    <a:off x="6228720" y="4536360"/>
                    <a:ext cx="1026000" cy="63720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5" name=""/>
                  <p:cNvSpPr/>
                  <p:nvPr/>
                </p:nvSpPr>
                <p:spPr>
                  <a:xfrm>
                    <a:off x="6228720" y="427032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6" name=""/>
                  <p:cNvSpPr/>
                  <p:nvPr/>
                </p:nvSpPr>
                <p:spPr>
                  <a:xfrm>
                    <a:off x="6246360" y="453924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87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623280" y="477180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7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05400" y="430092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879" name=""/>
                <p:cNvGrpSpPr/>
                <p:nvPr/>
              </p:nvGrpSpPr>
              <p:grpSpPr>
                <a:xfrm>
                  <a:off x="6268320" y="4322880"/>
                  <a:ext cx="1026000" cy="903240"/>
                  <a:chOff x="6268320" y="4322880"/>
                  <a:chExt cx="1026000" cy="903240"/>
                </a:xfrm>
              </p:grpSpPr>
              <p:sp>
                <p:nvSpPr>
                  <p:cNvPr id="1880" name=""/>
                  <p:cNvSpPr/>
                  <p:nvPr/>
                </p:nvSpPr>
                <p:spPr>
                  <a:xfrm>
                    <a:off x="6268320" y="4588920"/>
                    <a:ext cx="1026000" cy="63720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1" name=""/>
                  <p:cNvSpPr/>
                  <p:nvPr/>
                </p:nvSpPr>
                <p:spPr>
                  <a:xfrm>
                    <a:off x="6268320" y="432288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2" name=""/>
                  <p:cNvSpPr/>
                  <p:nvPr/>
                </p:nvSpPr>
                <p:spPr>
                  <a:xfrm>
                    <a:off x="6285960" y="459180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883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662880" y="482436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8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45000" y="435348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1885" name=""/>
            <p:cNvGrpSpPr/>
            <p:nvPr/>
          </p:nvGrpSpPr>
          <p:grpSpPr>
            <a:xfrm>
              <a:off x="2679840" y="3552840"/>
              <a:ext cx="2167920" cy="677520"/>
              <a:chOff x="2679840" y="3552840"/>
              <a:chExt cx="2167920" cy="677520"/>
            </a:xfrm>
          </p:grpSpPr>
          <p:pic>
            <p:nvPicPr>
              <p:cNvPr id="1886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2679840" y="3832200"/>
                <a:ext cx="23616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7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3981240" y="3832200"/>
                <a:ext cx="236160" cy="238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88" name=""/>
              <p:cNvGrpSpPr/>
              <p:nvPr/>
            </p:nvGrpSpPr>
            <p:grpSpPr>
              <a:xfrm>
                <a:off x="2876400" y="3552840"/>
                <a:ext cx="1007640" cy="677520"/>
                <a:chOff x="2876400" y="3552840"/>
                <a:chExt cx="1007640" cy="677520"/>
              </a:xfrm>
            </p:grpSpPr>
            <p:sp>
              <p:nvSpPr>
                <p:cNvPr id="1889" name=""/>
                <p:cNvSpPr/>
                <p:nvPr/>
              </p:nvSpPr>
              <p:spPr>
                <a:xfrm>
                  <a:off x="3034080" y="3592440"/>
                  <a:ext cx="670680" cy="6379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90" name="onto_01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3191760" y="3826080"/>
                  <a:ext cx="315360" cy="31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1" name=""/>
                <p:cNvSpPr/>
                <p:nvPr/>
              </p:nvSpPr>
              <p:spPr>
                <a:xfrm>
                  <a:off x="2876400" y="3552840"/>
                  <a:ext cx="100764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Ontologi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892" name="onto_01" descr=""/>
              <p:cNvPicPr/>
              <p:nvPr/>
            </p:nvPicPr>
            <p:blipFill>
              <a:blip r:embed="rId28"/>
              <a:stretch/>
            </p:blipFill>
            <p:spPr>
              <a:xfrm>
                <a:off x="4533840" y="3792600"/>
                <a:ext cx="313920" cy="317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93" name=""/>
            <p:cNvGrpSpPr/>
            <p:nvPr/>
          </p:nvGrpSpPr>
          <p:grpSpPr>
            <a:xfrm>
              <a:off x="2467080" y="4303800"/>
              <a:ext cx="1631880" cy="882360"/>
              <a:chOff x="2467080" y="4303800"/>
              <a:chExt cx="1631880" cy="882360"/>
            </a:xfrm>
          </p:grpSpPr>
          <p:grpSp>
            <p:nvGrpSpPr>
              <p:cNvPr id="1894" name=""/>
              <p:cNvGrpSpPr/>
              <p:nvPr/>
            </p:nvGrpSpPr>
            <p:grpSpPr>
              <a:xfrm>
                <a:off x="2467080" y="4587840"/>
                <a:ext cx="1631880" cy="598320"/>
                <a:chOff x="2467080" y="4587840"/>
                <a:chExt cx="1631880" cy="598320"/>
              </a:xfrm>
            </p:grpSpPr>
            <p:sp>
              <p:nvSpPr>
                <p:cNvPr id="1895" name=""/>
                <p:cNvSpPr/>
                <p:nvPr/>
              </p:nvSpPr>
              <p:spPr>
                <a:xfrm>
                  <a:off x="2545920" y="4627440"/>
                  <a:ext cx="1340640" cy="558720"/>
                </a:xfrm>
                <a:prstGeom prst="foldedCorner">
                  <a:avLst>
                    <a:gd name="adj" fmla="val 6138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96" name="onto_02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2585160" y="4831560"/>
                  <a:ext cx="275760" cy="27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7" name=""/>
                <p:cNvSpPr/>
                <p:nvPr/>
              </p:nvSpPr>
              <p:spPr>
                <a:xfrm>
                  <a:off x="2467080" y="4587840"/>
                  <a:ext cx="749160" cy="2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Modèle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2768760" y="4787280"/>
                  <a:ext cx="1330200" cy="35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- Modèle d'entrepris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- Profils d'utilisateur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899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3270240" y="4303800"/>
                <a:ext cx="23616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00" name=""/>
            <p:cNvGrpSpPr/>
            <p:nvPr/>
          </p:nvGrpSpPr>
          <p:grpSpPr>
            <a:xfrm>
              <a:off x="3981600" y="4668840"/>
              <a:ext cx="1065240" cy="357120"/>
              <a:chOff x="3981600" y="4668840"/>
              <a:chExt cx="1065240" cy="357120"/>
            </a:xfrm>
          </p:grpSpPr>
          <p:pic>
            <p:nvPicPr>
              <p:cNvPr id="1901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3981600" y="474840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2" name="onto_02" descr=""/>
              <p:cNvPicPr/>
              <p:nvPr/>
            </p:nvPicPr>
            <p:blipFill>
              <a:blip r:embed="rId32"/>
              <a:stretch/>
            </p:blipFill>
            <p:spPr>
              <a:xfrm>
                <a:off x="4691160" y="4668840"/>
                <a:ext cx="35568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03" name=""/>
            <p:cNvGrpSpPr/>
            <p:nvPr/>
          </p:nvGrpSpPr>
          <p:grpSpPr>
            <a:xfrm>
              <a:off x="7650000" y="3457800"/>
              <a:ext cx="631800" cy="772920"/>
              <a:chOff x="7650000" y="3457800"/>
              <a:chExt cx="631800" cy="772920"/>
            </a:xfrm>
          </p:grpSpPr>
          <p:pic>
            <p:nvPicPr>
              <p:cNvPr id="1904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846920" y="3990960"/>
                <a:ext cx="236520" cy="239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05" name=""/>
              <p:cNvGrpSpPr/>
              <p:nvPr/>
            </p:nvGrpSpPr>
            <p:grpSpPr>
              <a:xfrm>
                <a:off x="7650000" y="3457800"/>
                <a:ext cx="631800" cy="490320"/>
                <a:chOff x="7650000" y="3457800"/>
                <a:chExt cx="631800" cy="490320"/>
              </a:xfrm>
            </p:grpSpPr>
            <p:sp>
              <p:nvSpPr>
                <p:cNvPr id="1906" name=""/>
                <p:cNvSpPr/>
                <p:nvPr/>
              </p:nvSpPr>
              <p:spPr>
                <a:xfrm>
                  <a:off x="7689240" y="3510000"/>
                  <a:ext cx="552960" cy="4381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7650000" y="3457800"/>
                  <a:ext cx="6318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Requête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908" name="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7886880" y="3691080"/>
                  <a:ext cx="236880" cy="238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909" name=""/>
            <p:cNvGrpSpPr/>
            <p:nvPr/>
          </p:nvGrpSpPr>
          <p:grpSpPr>
            <a:xfrm>
              <a:off x="4414680" y="1386000"/>
              <a:ext cx="1301760" cy="3565440"/>
              <a:chOff x="4414680" y="1386000"/>
              <a:chExt cx="1301760" cy="3565440"/>
            </a:xfrm>
          </p:grpSpPr>
          <p:pic>
            <p:nvPicPr>
              <p:cNvPr id="1910" name="doc_01" descr=""/>
              <p:cNvPicPr/>
              <p:nvPr/>
            </p:nvPicPr>
            <p:blipFill>
              <a:blip r:embed="rId35"/>
              <a:stretch/>
            </p:blipFill>
            <p:spPr>
              <a:xfrm>
                <a:off x="5322960" y="2000160"/>
                <a:ext cx="214200" cy="2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1" name="doc_01" descr=""/>
              <p:cNvPicPr/>
              <p:nvPr/>
            </p:nvPicPr>
            <p:blipFill>
              <a:blip r:embed="rId36"/>
              <a:stretch/>
            </p:blipFill>
            <p:spPr>
              <a:xfrm>
                <a:off x="5283360" y="192096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2" name="memory_01" descr=""/>
              <p:cNvPicPr/>
              <p:nvPr/>
            </p:nvPicPr>
            <p:blipFill>
              <a:blip r:embed="rId37"/>
              <a:stretch/>
            </p:blipFill>
            <p:spPr>
              <a:xfrm>
                <a:off x="4414680" y="1386000"/>
                <a:ext cx="33192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3" name="doc_03" descr=""/>
              <p:cNvPicPr/>
              <p:nvPr/>
            </p:nvPicPr>
            <p:blipFill>
              <a:blip r:embed="rId38"/>
              <a:stretch/>
            </p:blipFill>
            <p:spPr>
              <a:xfrm>
                <a:off x="4572000" y="4156200"/>
                <a:ext cx="395280" cy="39672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1914" name="doc_04" descr=""/>
              <p:cNvPicPr/>
              <p:nvPr/>
            </p:nvPicPr>
            <p:blipFill>
              <a:blip r:embed="rId39"/>
              <a:stretch/>
            </p:blipFill>
            <p:spPr>
              <a:xfrm>
                <a:off x="4494240" y="1881360"/>
                <a:ext cx="276120" cy="27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5" name="doc_05gif" descr=""/>
              <p:cNvPicPr/>
              <p:nvPr/>
            </p:nvPicPr>
            <p:blipFill>
              <a:blip r:embed="rId40"/>
              <a:stretch/>
            </p:blipFill>
            <p:spPr>
              <a:xfrm>
                <a:off x="5164200" y="4075200"/>
                <a:ext cx="30456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6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5086440" y="3513240"/>
                <a:ext cx="41112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7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4911840" y="1425600"/>
                <a:ext cx="33156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8" name="doc_01" descr=""/>
              <p:cNvPicPr/>
              <p:nvPr/>
            </p:nvPicPr>
            <p:blipFill>
              <a:blip r:embed="rId43"/>
              <a:stretch/>
            </p:blipFill>
            <p:spPr>
              <a:xfrm>
                <a:off x="5362560" y="204012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9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5400720" y="4633920"/>
                <a:ext cx="315720" cy="31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0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4888080" y="2040120"/>
                <a:ext cx="333360" cy="33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1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5400720" y="148284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22" name=""/>
            <p:cNvSpPr txBox="1"/>
            <p:nvPr/>
          </p:nvSpPr>
          <p:spPr>
            <a:xfrm>
              <a:off x="2560680" y="4310280"/>
              <a:ext cx="236520" cy="15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1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923" name=""/>
            <p:cNvSpPr txBox="1"/>
            <p:nvPr/>
          </p:nvSpPr>
          <p:spPr>
            <a:xfrm>
              <a:off x="3230640" y="1163880"/>
              <a:ext cx="237960" cy="16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2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924" name=""/>
            <p:cNvSpPr txBox="1"/>
            <p:nvPr/>
          </p:nvSpPr>
          <p:spPr>
            <a:xfrm>
              <a:off x="7413480" y="4429080"/>
              <a:ext cx="236520" cy="1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3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grpSp>
          <p:nvGrpSpPr>
            <p:cNvPr id="1925" name=""/>
            <p:cNvGrpSpPr/>
            <p:nvPr/>
          </p:nvGrpSpPr>
          <p:grpSpPr>
            <a:xfrm>
              <a:off x="2600280" y="3274920"/>
              <a:ext cx="1971720" cy="1273320"/>
              <a:chOff x="2600280" y="3274920"/>
              <a:chExt cx="1971720" cy="1273320"/>
            </a:xfrm>
          </p:grpSpPr>
          <p:sp>
            <p:nvSpPr>
              <p:cNvPr id="1926" name=""/>
              <p:cNvSpPr/>
              <p:nvPr/>
            </p:nvSpPr>
            <p:spPr>
              <a:xfrm>
                <a:off x="3902040" y="3274920"/>
                <a:ext cx="669960" cy="47808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flipH="1">
                <a:off x="2600280" y="3274920"/>
                <a:ext cx="512640" cy="47808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3744720" y="3354480"/>
                <a:ext cx="117720" cy="119376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9" name=""/>
            <p:cNvGrpSpPr/>
            <p:nvPr/>
          </p:nvGrpSpPr>
          <p:grpSpPr>
            <a:xfrm>
              <a:off x="2165400" y="2279880"/>
              <a:ext cx="947160" cy="396720"/>
              <a:chOff x="2165400" y="2279880"/>
              <a:chExt cx="947160" cy="396720"/>
            </a:xfrm>
          </p:grpSpPr>
          <p:sp>
            <p:nvSpPr>
              <p:cNvPr id="1930" name=""/>
              <p:cNvSpPr/>
              <p:nvPr/>
            </p:nvSpPr>
            <p:spPr>
              <a:xfrm>
                <a:off x="2165400" y="2384640"/>
                <a:ext cx="118800" cy="25236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flipH="1">
                <a:off x="2480760" y="2279880"/>
                <a:ext cx="631800" cy="39672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2" name=""/>
            <p:cNvGrpSpPr/>
            <p:nvPr/>
          </p:nvGrpSpPr>
          <p:grpSpPr>
            <a:xfrm>
              <a:off x="5715000" y="1726920"/>
              <a:ext cx="2247840" cy="2503800"/>
              <a:chOff x="5715000" y="1726920"/>
              <a:chExt cx="2247840" cy="2503800"/>
            </a:xfrm>
          </p:grpSpPr>
          <p:sp>
            <p:nvSpPr>
              <p:cNvPr id="1933" name=""/>
              <p:cNvSpPr/>
              <p:nvPr/>
            </p:nvSpPr>
            <p:spPr>
              <a:xfrm flipH="1" flipV="1">
                <a:off x="5715000" y="1726920"/>
                <a:ext cx="137160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531200" y="3035520"/>
                <a:ext cx="431640" cy="44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flipH="1">
                <a:off x="6821280" y="3354480"/>
                <a:ext cx="355320" cy="795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7413480" y="3354480"/>
                <a:ext cx="316080" cy="87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7" name=""/>
            <p:cNvGrpSpPr/>
            <p:nvPr/>
          </p:nvGrpSpPr>
          <p:grpSpPr>
            <a:xfrm>
              <a:off x="5519880" y="3235320"/>
              <a:ext cx="2129760" cy="1035000"/>
              <a:chOff x="5519880" y="3235320"/>
              <a:chExt cx="2129760" cy="1035000"/>
            </a:xfrm>
          </p:grpSpPr>
          <p:sp>
            <p:nvSpPr>
              <p:cNvPr id="1938" name=""/>
              <p:cNvSpPr/>
              <p:nvPr/>
            </p:nvSpPr>
            <p:spPr>
              <a:xfrm flipH="1">
                <a:off x="5519880" y="3235320"/>
                <a:ext cx="552240" cy="39708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flipV="1">
                <a:off x="6348240" y="3295440"/>
                <a:ext cx="0" cy="89532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703920" y="3354480"/>
                <a:ext cx="945720" cy="91584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41" name=""/>
          <p:cNvGrpSpPr/>
          <p:nvPr/>
        </p:nvGrpSpPr>
        <p:grpSpPr>
          <a:xfrm>
            <a:off x="1143000" y="838080"/>
            <a:ext cx="8001000" cy="4876920"/>
            <a:chOff x="1143000" y="838080"/>
            <a:chExt cx="8001000" cy="4876920"/>
          </a:xfrm>
        </p:grpSpPr>
        <p:sp>
          <p:nvSpPr>
            <p:cNvPr id="1942" name=""/>
            <p:cNvSpPr/>
            <p:nvPr/>
          </p:nvSpPr>
          <p:spPr>
            <a:xfrm>
              <a:off x="2743200" y="838080"/>
              <a:ext cx="4724280" cy="46483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391520" y="838080"/>
              <a:ext cx="1752480" cy="3276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143000" y="2438280"/>
              <a:ext cx="1600200" cy="990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219320" y="990720"/>
              <a:ext cx="1523880" cy="14475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143000" y="4724280"/>
              <a:ext cx="1600200" cy="990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219320" y="3429000"/>
              <a:ext cx="1523880" cy="12952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467480" y="4127400"/>
              <a:ext cx="1524240" cy="12193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93F09-D17F-4FAC-AA55-A71A64C6E9D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Solution technique: Apprentissage symbolique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254160" y="2313000"/>
            <a:ext cx="85960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482760" indent="0" algn="ctr">
              <a:lnSpc>
                <a:spcPct val="90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 u="sng">
                <a:solidFill>
                  <a:srgbClr val="cc3300"/>
                </a:solidFill>
                <a:uFillTx/>
                <a:latin typeface="Georgia"/>
              </a:rPr>
              <a:t>Leitmotiv</a:t>
            </a:r>
            <a:r>
              <a:rPr b="0" lang="fr-FR" sz="3400" spc="-1" strike="noStrike">
                <a:solidFill>
                  <a:srgbClr val="cc3300"/>
                </a:solidFill>
                <a:latin typeface="Georgia"/>
              </a:rPr>
              <a:t>: Représenter, apprendre et comparer les profils d'utilisation actuels afin d'améliorer la qualité de l'utilisation future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1066680" y="1752480"/>
            <a:ext cx="7620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onnaître l'utilisateur</a:t>
            </a:r>
            <a:endParaRPr b="0" lang="en-US" sz="24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2458-4874-4246-9C57-BB1C83E8296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Profiles &amp; Communautés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44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eorgia"/>
              </a:rPr>
              <a:t>Profils utilisateur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Information Administrative (// SoA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Préférence Explicitement Donné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Caractéristiques Dérivé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82760" indent="-444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eorgia"/>
              </a:rPr>
              <a:t>Profils de groupes (idem)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82760" indent="-444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eorgia"/>
              </a:rPr>
              <a:t>Communautés d'intérê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Groupes d'intérêts publics (push new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Groupes émergents ('bouche à oreille'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82760" indent="-444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eorgia"/>
              </a:rPr>
              <a:t>Techniques d'apprentissag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Apprentissage au v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Apprentissage différ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Raisonnement à partir de ca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4C90B-6B01-4A92-B596-6330E03499D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Implantation Apprentissage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44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eorgia"/>
              </a:rPr>
              <a:t>Implantat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Profiles en RDF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WEKA </a:t>
            </a:r>
            <a:r>
              <a:rPr b="0" lang="fr-FR" sz="2800" spc="-1" strike="noStrike">
                <a:solidFill>
                  <a:srgbClr val="cc3300"/>
                </a:solidFill>
                <a:latin typeface="Webdings"/>
                <a:ea typeface="Webdings"/>
              </a:rPr>
              <a:t>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: bibliothèque d'apprentissa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Première étape : analyse individuel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82760" indent="-444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eorgia"/>
              </a:rPr>
              <a:t>Partie visible de l'Iceberg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Interface Utilisateu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XSL : Manipulation et présent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82760" indent="-444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eorgia"/>
              </a:rPr>
              <a:t>Partie cachée de l'Iceberg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Agents d'archivages (profiles, modèles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Agents d'analyse individuel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Agents d'analyse de group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EC79-809D-44A2-8D94-876CA134D23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Schéma général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57" name=""/>
          <p:cNvGrpSpPr/>
          <p:nvPr/>
        </p:nvGrpSpPr>
        <p:grpSpPr>
          <a:xfrm>
            <a:off x="1219320" y="965160"/>
            <a:ext cx="7772400" cy="4419720"/>
            <a:chOff x="1219320" y="965160"/>
            <a:chExt cx="7772400" cy="4419720"/>
          </a:xfrm>
        </p:grpSpPr>
        <p:grpSp>
          <p:nvGrpSpPr>
            <p:cNvPr id="1958" name=""/>
            <p:cNvGrpSpPr/>
            <p:nvPr/>
          </p:nvGrpSpPr>
          <p:grpSpPr>
            <a:xfrm>
              <a:off x="1219320" y="965160"/>
              <a:ext cx="7772400" cy="4380120"/>
              <a:chOff x="1219320" y="965160"/>
              <a:chExt cx="7772400" cy="4380120"/>
            </a:xfrm>
          </p:grpSpPr>
          <p:sp>
            <p:nvSpPr>
              <p:cNvPr id="1959" name=""/>
              <p:cNvSpPr/>
              <p:nvPr/>
            </p:nvSpPr>
            <p:spPr>
              <a:xfrm>
                <a:off x="1219320" y="965160"/>
                <a:ext cx="7772400" cy="4380120"/>
              </a:xfrm>
              <a:prstGeom prst="rect">
                <a:avLst/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0" name=""/>
              <p:cNvGrpSpPr/>
              <p:nvPr/>
            </p:nvGrpSpPr>
            <p:grpSpPr>
              <a:xfrm>
                <a:off x="4335480" y="1044720"/>
                <a:ext cx="1657080" cy="4181400"/>
                <a:chOff x="4335480" y="1044720"/>
                <a:chExt cx="1657080" cy="4181400"/>
              </a:xfrm>
            </p:grpSpPr>
            <p:sp>
              <p:nvSpPr>
                <p:cNvPr id="1961" name=""/>
                <p:cNvSpPr/>
                <p:nvPr/>
              </p:nvSpPr>
              <p:spPr>
                <a:xfrm>
                  <a:off x="4335480" y="1203480"/>
                  <a:ext cx="1500120" cy="4022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4494240" y="1044720"/>
                  <a:ext cx="1498320" cy="239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0" bIns="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Mémoire d'entrepris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3" name=""/>
              <p:cNvGrpSpPr/>
              <p:nvPr/>
            </p:nvGrpSpPr>
            <p:grpSpPr>
              <a:xfrm>
                <a:off x="2025720" y="2398680"/>
                <a:ext cx="6532560" cy="995400"/>
                <a:chOff x="2025720" y="2398680"/>
                <a:chExt cx="6532560" cy="995400"/>
              </a:xfrm>
            </p:grpSpPr>
            <p:sp>
              <p:nvSpPr>
                <p:cNvPr id="1964" name=""/>
                <p:cNvSpPr/>
                <p:nvPr/>
              </p:nvSpPr>
              <p:spPr>
                <a:xfrm>
                  <a:off x="2025720" y="2484360"/>
                  <a:ext cx="6392880" cy="90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6839280" y="2398680"/>
                  <a:ext cx="1719000" cy="2383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10800" bIns="10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fr-FR" sz="900" spc="-1" strike="noStrike">
                      <a:solidFill>
                        <a:srgbClr val="000000"/>
                      </a:solidFill>
                      <a:latin typeface="Courier New"/>
                    </a:rPr>
                    <a:t>Système Multi-Agen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5896080" y="2570400"/>
                  <a:ext cx="789120" cy="1587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2048040" y="3060720"/>
                  <a:ext cx="66996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2441880" y="2621160"/>
                  <a:ext cx="828720" cy="1760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969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214720" y="271152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1970" name=""/>
                <p:cNvGrpSpPr/>
                <p:nvPr/>
              </p:nvGrpSpPr>
              <p:grpSpPr>
                <a:xfrm>
                  <a:off x="5992920" y="2718000"/>
                  <a:ext cx="908280" cy="636120"/>
                  <a:chOff x="5992920" y="2718000"/>
                  <a:chExt cx="908280" cy="636120"/>
                </a:xfrm>
              </p:grpSpPr>
              <p:sp>
                <p:nvSpPr>
                  <p:cNvPr id="1971" name=""/>
                  <p:cNvSpPr/>
                  <p:nvPr/>
                </p:nvSpPr>
                <p:spPr>
                  <a:xfrm>
                    <a:off x="5992920" y="3078000"/>
                    <a:ext cx="908280" cy="27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group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d'intérêt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972" name="agen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69040" y="2718000"/>
                    <a:ext cx="311760" cy="31392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grpSp>
            <p:sp>
              <p:nvSpPr>
                <p:cNvPr id="1973" name=""/>
                <p:cNvSpPr/>
                <p:nvPr/>
              </p:nvSpPr>
              <p:spPr>
                <a:xfrm>
                  <a:off x="4335840" y="2486160"/>
                  <a:ext cx="1500120" cy="90792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974" name="agent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354480" y="276228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1975" name=""/>
                <p:cNvSpPr/>
                <p:nvPr/>
              </p:nvSpPr>
              <p:spPr>
                <a:xfrm>
                  <a:off x="3073680" y="3116520"/>
                  <a:ext cx="907920" cy="2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Ontologie et Modèle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6901200" y="3113280"/>
                  <a:ext cx="828720" cy="2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7374240" y="2673360"/>
                  <a:ext cx="828720" cy="1634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978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47080" y="276408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1979" name=""/>
                <p:cNvGrpSpPr/>
                <p:nvPr/>
              </p:nvGrpSpPr>
              <p:grpSpPr>
                <a:xfrm>
                  <a:off x="3862800" y="2530440"/>
                  <a:ext cx="907920" cy="635040"/>
                  <a:chOff x="3862800" y="2530440"/>
                  <a:chExt cx="907920" cy="635040"/>
                </a:xfrm>
              </p:grpSpPr>
              <p:pic>
                <p:nvPicPr>
                  <p:cNvPr id="1980" name="agent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38920" y="2530440"/>
                    <a:ext cx="311760" cy="31428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  <p:sp>
                <p:nvSpPr>
                  <p:cNvPr id="1981" name=""/>
                  <p:cNvSpPr/>
                  <p:nvPr/>
                </p:nvSpPr>
                <p:spPr>
                  <a:xfrm>
                    <a:off x="3862800" y="2889000"/>
                    <a:ext cx="9079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d'inter-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connexion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82" name=""/>
            <p:cNvGrpSpPr/>
            <p:nvPr/>
          </p:nvGrpSpPr>
          <p:grpSpPr>
            <a:xfrm>
              <a:off x="1376280" y="3433680"/>
              <a:ext cx="1101240" cy="1552680"/>
              <a:chOff x="1376280" y="3433680"/>
              <a:chExt cx="1101240" cy="1552680"/>
            </a:xfrm>
          </p:grpSpPr>
          <p:sp>
            <p:nvSpPr>
              <p:cNvPr id="1983" name=""/>
              <p:cNvSpPr/>
              <p:nvPr/>
            </p:nvSpPr>
            <p:spPr>
              <a:xfrm>
                <a:off x="1376280" y="4389480"/>
                <a:ext cx="1074600" cy="59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Ingénieur d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la connaissa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4" name=""/>
              <p:cNvGrpSpPr/>
              <p:nvPr/>
            </p:nvGrpSpPr>
            <p:grpSpPr>
              <a:xfrm>
                <a:off x="2047680" y="3433680"/>
                <a:ext cx="429840" cy="1181160"/>
                <a:chOff x="2047680" y="3433680"/>
                <a:chExt cx="429840" cy="1181160"/>
              </a:xfrm>
            </p:grpSpPr>
            <p:grpSp>
              <p:nvGrpSpPr>
                <p:cNvPr id="1985" name=""/>
                <p:cNvGrpSpPr/>
                <p:nvPr/>
              </p:nvGrpSpPr>
              <p:grpSpPr>
                <a:xfrm>
                  <a:off x="2047680" y="3433680"/>
                  <a:ext cx="210960" cy="97920"/>
                  <a:chOff x="2047680" y="3433680"/>
                  <a:chExt cx="210960" cy="97920"/>
                </a:xfrm>
              </p:grpSpPr>
              <p:sp>
                <p:nvSpPr>
                  <p:cNvPr id="1986" name=""/>
                  <p:cNvSpPr/>
                  <p:nvPr/>
                </p:nvSpPr>
                <p:spPr>
                  <a:xfrm>
                    <a:off x="2047680" y="3507480"/>
                    <a:ext cx="518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69">
                        <a:moveTo>
                          <a:pt x="149" y="69"/>
                        </a:moveTo>
                        <a:lnTo>
                          <a:pt x="25" y="48"/>
                        </a:lnTo>
                        <a:lnTo>
                          <a:pt x="0" y="23"/>
                        </a:lnTo>
                        <a:lnTo>
                          <a:pt x="10" y="2"/>
                        </a:lnTo>
                        <a:lnTo>
                          <a:pt x="39" y="0"/>
                        </a:lnTo>
                        <a:lnTo>
                          <a:pt x="149" y="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7" name=""/>
                  <p:cNvSpPr/>
                  <p:nvPr/>
                </p:nvSpPr>
                <p:spPr>
                  <a:xfrm>
                    <a:off x="2099520" y="3444120"/>
                    <a:ext cx="2268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15">
                        <a:moveTo>
                          <a:pt x="66" y="115"/>
                        </a:moveTo>
                        <a:lnTo>
                          <a:pt x="0" y="42"/>
                        </a:lnTo>
                        <a:lnTo>
                          <a:pt x="7" y="11"/>
                        </a:lnTo>
                        <a:lnTo>
                          <a:pt x="39" y="0"/>
                        </a:lnTo>
                        <a:lnTo>
                          <a:pt x="57" y="22"/>
                        </a:lnTo>
                        <a:lnTo>
                          <a:pt x="66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8" name=""/>
                  <p:cNvSpPr/>
                  <p:nvPr/>
                </p:nvSpPr>
                <p:spPr>
                  <a:xfrm>
                    <a:off x="2172240" y="3433680"/>
                    <a:ext cx="194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38">
                        <a:moveTo>
                          <a:pt x="9" y="138"/>
                        </a:moveTo>
                        <a:lnTo>
                          <a:pt x="0" y="35"/>
                        </a:lnTo>
                        <a:lnTo>
                          <a:pt x="30" y="0"/>
                        </a:lnTo>
                        <a:lnTo>
                          <a:pt x="56" y="15"/>
                        </a:lnTo>
                        <a:lnTo>
                          <a:pt x="52" y="42"/>
                        </a:lnTo>
                        <a:lnTo>
                          <a:pt x="9" y="1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>
                    <a:off x="2212560" y="3471120"/>
                    <a:ext cx="460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86">
                        <a:moveTo>
                          <a:pt x="0" y="86"/>
                        </a:moveTo>
                        <a:lnTo>
                          <a:pt x="100" y="0"/>
                        </a:lnTo>
                        <a:lnTo>
                          <a:pt x="135" y="17"/>
                        </a:lnTo>
                        <a:lnTo>
                          <a:pt x="132" y="45"/>
                        </a:lnTo>
                        <a:lnTo>
                          <a:pt x="114" y="59"/>
                        </a:lnTo>
                        <a:lnTo>
                          <a:pt x="0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0" name=""/>
                <p:cNvGrpSpPr/>
                <p:nvPr/>
              </p:nvGrpSpPr>
              <p:grpSpPr>
                <a:xfrm>
                  <a:off x="2122200" y="3503520"/>
                  <a:ext cx="355320" cy="1111320"/>
                  <a:chOff x="2122200" y="3503520"/>
                  <a:chExt cx="355320" cy="1111320"/>
                </a:xfrm>
              </p:grpSpPr>
              <p:sp>
                <p:nvSpPr>
                  <p:cNvPr id="1991" name=""/>
                  <p:cNvSpPr/>
                  <p:nvPr/>
                </p:nvSpPr>
                <p:spPr>
                  <a:xfrm>
                    <a:off x="2186280" y="3686400"/>
                    <a:ext cx="17856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554">
                        <a:moveTo>
                          <a:pt x="366" y="160"/>
                        </a:moveTo>
                        <a:lnTo>
                          <a:pt x="297" y="56"/>
                        </a:lnTo>
                        <a:lnTo>
                          <a:pt x="228" y="0"/>
                        </a:lnTo>
                        <a:lnTo>
                          <a:pt x="145" y="0"/>
                        </a:lnTo>
                        <a:lnTo>
                          <a:pt x="55" y="36"/>
                        </a:lnTo>
                        <a:lnTo>
                          <a:pt x="14" y="97"/>
                        </a:lnTo>
                        <a:lnTo>
                          <a:pt x="0" y="181"/>
                        </a:lnTo>
                        <a:lnTo>
                          <a:pt x="14" y="291"/>
                        </a:lnTo>
                        <a:lnTo>
                          <a:pt x="69" y="416"/>
                        </a:lnTo>
                        <a:lnTo>
                          <a:pt x="166" y="499"/>
                        </a:lnTo>
                        <a:lnTo>
                          <a:pt x="241" y="540"/>
                        </a:lnTo>
                        <a:lnTo>
                          <a:pt x="318" y="554"/>
                        </a:lnTo>
                        <a:lnTo>
                          <a:pt x="380" y="533"/>
                        </a:lnTo>
                        <a:lnTo>
                          <a:pt x="414" y="499"/>
                        </a:lnTo>
                        <a:lnTo>
                          <a:pt x="436" y="416"/>
                        </a:lnTo>
                        <a:lnTo>
                          <a:pt x="429" y="319"/>
                        </a:lnTo>
                        <a:lnTo>
                          <a:pt x="407" y="237"/>
                        </a:lnTo>
                        <a:lnTo>
                          <a:pt x="545" y="160"/>
                        </a:lnTo>
                        <a:lnTo>
                          <a:pt x="560" y="126"/>
                        </a:lnTo>
                        <a:lnTo>
                          <a:pt x="545" y="111"/>
                        </a:lnTo>
                        <a:lnTo>
                          <a:pt x="393" y="201"/>
                        </a:lnTo>
                        <a:lnTo>
                          <a:pt x="366" y="1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>
                    <a:off x="2314080" y="3503520"/>
                    <a:ext cx="158760" cy="432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8" h="1238">
                        <a:moveTo>
                          <a:pt x="138" y="1045"/>
                        </a:moveTo>
                        <a:lnTo>
                          <a:pt x="47" y="1113"/>
                        </a:lnTo>
                        <a:lnTo>
                          <a:pt x="20" y="1135"/>
                        </a:lnTo>
                        <a:lnTo>
                          <a:pt x="0" y="1183"/>
                        </a:lnTo>
                        <a:lnTo>
                          <a:pt x="27" y="1231"/>
                        </a:lnTo>
                        <a:lnTo>
                          <a:pt x="54" y="1238"/>
                        </a:lnTo>
                        <a:lnTo>
                          <a:pt x="138" y="1210"/>
                        </a:lnTo>
                        <a:lnTo>
                          <a:pt x="262" y="1113"/>
                        </a:lnTo>
                        <a:lnTo>
                          <a:pt x="373" y="997"/>
                        </a:lnTo>
                        <a:lnTo>
                          <a:pt x="491" y="864"/>
                        </a:lnTo>
                        <a:lnTo>
                          <a:pt x="498" y="809"/>
                        </a:lnTo>
                        <a:lnTo>
                          <a:pt x="498" y="658"/>
                        </a:lnTo>
                        <a:lnTo>
                          <a:pt x="464" y="422"/>
                        </a:lnTo>
                        <a:lnTo>
                          <a:pt x="484" y="284"/>
                        </a:lnTo>
                        <a:lnTo>
                          <a:pt x="498" y="228"/>
                        </a:lnTo>
                        <a:lnTo>
                          <a:pt x="477" y="201"/>
                        </a:lnTo>
                        <a:lnTo>
                          <a:pt x="428" y="173"/>
                        </a:lnTo>
                        <a:lnTo>
                          <a:pt x="394" y="153"/>
                        </a:lnTo>
                        <a:lnTo>
                          <a:pt x="414" y="28"/>
                        </a:lnTo>
                        <a:lnTo>
                          <a:pt x="401" y="0"/>
                        </a:lnTo>
                        <a:lnTo>
                          <a:pt x="373" y="8"/>
                        </a:lnTo>
                        <a:lnTo>
                          <a:pt x="360" y="167"/>
                        </a:lnTo>
                        <a:lnTo>
                          <a:pt x="346" y="208"/>
                        </a:lnTo>
                        <a:lnTo>
                          <a:pt x="339" y="235"/>
                        </a:lnTo>
                        <a:lnTo>
                          <a:pt x="283" y="214"/>
                        </a:lnTo>
                        <a:lnTo>
                          <a:pt x="242" y="214"/>
                        </a:lnTo>
                        <a:lnTo>
                          <a:pt x="242" y="242"/>
                        </a:lnTo>
                        <a:lnTo>
                          <a:pt x="269" y="264"/>
                        </a:lnTo>
                        <a:lnTo>
                          <a:pt x="319" y="264"/>
                        </a:lnTo>
                        <a:lnTo>
                          <a:pt x="353" y="291"/>
                        </a:lnTo>
                        <a:lnTo>
                          <a:pt x="380" y="339"/>
                        </a:lnTo>
                        <a:lnTo>
                          <a:pt x="408" y="416"/>
                        </a:lnTo>
                        <a:lnTo>
                          <a:pt x="428" y="567"/>
                        </a:lnTo>
                        <a:lnTo>
                          <a:pt x="428" y="706"/>
                        </a:lnTo>
                        <a:lnTo>
                          <a:pt x="414" y="816"/>
                        </a:lnTo>
                        <a:lnTo>
                          <a:pt x="387" y="864"/>
                        </a:lnTo>
                        <a:lnTo>
                          <a:pt x="290" y="934"/>
                        </a:lnTo>
                        <a:lnTo>
                          <a:pt x="186" y="997"/>
                        </a:lnTo>
                        <a:lnTo>
                          <a:pt x="138" y="10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3" name=""/>
                  <p:cNvSpPr/>
                  <p:nvPr/>
                </p:nvSpPr>
                <p:spPr>
                  <a:xfrm>
                    <a:off x="2122200" y="3902400"/>
                    <a:ext cx="143280" cy="2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47">
                        <a:moveTo>
                          <a:pt x="451" y="20"/>
                        </a:moveTo>
                        <a:lnTo>
                          <a:pt x="401" y="0"/>
                        </a:lnTo>
                        <a:lnTo>
                          <a:pt x="297" y="7"/>
                        </a:lnTo>
                        <a:lnTo>
                          <a:pt x="207" y="76"/>
                        </a:lnTo>
                        <a:lnTo>
                          <a:pt x="75" y="221"/>
                        </a:lnTo>
                        <a:lnTo>
                          <a:pt x="7" y="339"/>
                        </a:lnTo>
                        <a:lnTo>
                          <a:pt x="0" y="380"/>
                        </a:lnTo>
                        <a:lnTo>
                          <a:pt x="34" y="457"/>
                        </a:lnTo>
                        <a:lnTo>
                          <a:pt x="110" y="491"/>
                        </a:lnTo>
                        <a:lnTo>
                          <a:pt x="207" y="532"/>
                        </a:lnTo>
                        <a:lnTo>
                          <a:pt x="283" y="552"/>
                        </a:lnTo>
                        <a:lnTo>
                          <a:pt x="318" y="588"/>
                        </a:lnTo>
                        <a:lnTo>
                          <a:pt x="297" y="636"/>
                        </a:lnTo>
                        <a:lnTo>
                          <a:pt x="242" y="692"/>
                        </a:lnTo>
                        <a:lnTo>
                          <a:pt x="173" y="699"/>
                        </a:lnTo>
                        <a:lnTo>
                          <a:pt x="125" y="677"/>
                        </a:lnTo>
                        <a:lnTo>
                          <a:pt x="96" y="699"/>
                        </a:lnTo>
                        <a:lnTo>
                          <a:pt x="103" y="726"/>
                        </a:lnTo>
                        <a:lnTo>
                          <a:pt x="159" y="747"/>
                        </a:lnTo>
                        <a:lnTo>
                          <a:pt x="242" y="747"/>
                        </a:lnTo>
                        <a:lnTo>
                          <a:pt x="318" y="726"/>
                        </a:lnTo>
                        <a:lnTo>
                          <a:pt x="360" y="699"/>
                        </a:lnTo>
                        <a:lnTo>
                          <a:pt x="388" y="650"/>
                        </a:lnTo>
                        <a:lnTo>
                          <a:pt x="401" y="595"/>
                        </a:lnTo>
                        <a:lnTo>
                          <a:pt x="367" y="546"/>
                        </a:lnTo>
                        <a:lnTo>
                          <a:pt x="283" y="511"/>
                        </a:lnTo>
                        <a:lnTo>
                          <a:pt x="186" y="484"/>
                        </a:lnTo>
                        <a:lnTo>
                          <a:pt x="103" y="436"/>
                        </a:lnTo>
                        <a:lnTo>
                          <a:pt x="82" y="394"/>
                        </a:lnTo>
                        <a:lnTo>
                          <a:pt x="96" y="319"/>
                        </a:lnTo>
                        <a:lnTo>
                          <a:pt x="159" y="221"/>
                        </a:lnTo>
                        <a:lnTo>
                          <a:pt x="236" y="165"/>
                        </a:lnTo>
                        <a:lnTo>
                          <a:pt x="353" y="124"/>
                        </a:lnTo>
                        <a:lnTo>
                          <a:pt x="451" y="104"/>
                        </a:lnTo>
                        <a:lnTo>
                          <a:pt x="451" y="48"/>
                        </a:lnTo>
                        <a:lnTo>
                          <a:pt x="451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4" name=""/>
                  <p:cNvSpPr/>
                  <p:nvPr/>
                </p:nvSpPr>
                <p:spPr>
                  <a:xfrm>
                    <a:off x="2238840" y="3890520"/>
                    <a:ext cx="134280" cy="32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2" h="919">
                        <a:moveTo>
                          <a:pt x="367" y="290"/>
                        </a:moveTo>
                        <a:lnTo>
                          <a:pt x="325" y="117"/>
                        </a:lnTo>
                        <a:lnTo>
                          <a:pt x="277" y="34"/>
                        </a:lnTo>
                        <a:lnTo>
                          <a:pt x="173" y="0"/>
                        </a:lnTo>
                        <a:lnTo>
                          <a:pt x="68" y="13"/>
                        </a:lnTo>
                        <a:lnTo>
                          <a:pt x="21" y="104"/>
                        </a:lnTo>
                        <a:lnTo>
                          <a:pt x="27" y="214"/>
                        </a:lnTo>
                        <a:lnTo>
                          <a:pt x="55" y="394"/>
                        </a:lnTo>
                        <a:lnTo>
                          <a:pt x="55" y="552"/>
                        </a:lnTo>
                        <a:lnTo>
                          <a:pt x="21" y="690"/>
                        </a:lnTo>
                        <a:lnTo>
                          <a:pt x="0" y="767"/>
                        </a:lnTo>
                        <a:lnTo>
                          <a:pt x="14" y="835"/>
                        </a:lnTo>
                        <a:lnTo>
                          <a:pt x="62" y="871"/>
                        </a:lnTo>
                        <a:lnTo>
                          <a:pt x="125" y="905"/>
                        </a:lnTo>
                        <a:lnTo>
                          <a:pt x="186" y="919"/>
                        </a:lnTo>
                        <a:lnTo>
                          <a:pt x="263" y="919"/>
                        </a:lnTo>
                        <a:lnTo>
                          <a:pt x="353" y="849"/>
                        </a:lnTo>
                        <a:lnTo>
                          <a:pt x="422" y="704"/>
                        </a:lnTo>
                        <a:lnTo>
                          <a:pt x="415" y="573"/>
                        </a:lnTo>
                        <a:lnTo>
                          <a:pt x="374" y="421"/>
                        </a:lnTo>
                        <a:lnTo>
                          <a:pt x="367" y="2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2199240" y="4151160"/>
                    <a:ext cx="10188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1329">
                        <a:moveTo>
                          <a:pt x="305" y="21"/>
                        </a:moveTo>
                        <a:lnTo>
                          <a:pt x="223" y="0"/>
                        </a:lnTo>
                        <a:lnTo>
                          <a:pt x="174" y="21"/>
                        </a:lnTo>
                        <a:lnTo>
                          <a:pt x="153" y="89"/>
                        </a:lnTo>
                        <a:lnTo>
                          <a:pt x="174" y="470"/>
                        </a:lnTo>
                        <a:lnTo>
                          <a:pt x="174" y="560"/>
                        </a:lnTo>
                        <a:lnTo>
                          <a:pt x="147" y="727"/>
                        </a:lnTo>
                        <a:lnTo>
                          <a:pt x="140" y="920"/>
                        </a:lnTo>
                        <a:lnTo>
                          <a:pt x="153" y="1017"/>
                        </a:lnTo>
                        <a:lnTo>
                          <a:pt x="140" y="1071"/>
                        </a:lnTo>
                        <a:lnTo>
                          <a:pt x="42" y="1155"/>
                        </a:lnTo>
                        <a:lnTo>
                          <a:pt x="0" y="1259"/>
                        </a:lnTo>
                        <a:lnTo>
                          <a:pt x="8" y="1293"/>
                        </a:lnTo>
                        <a:lnTo>
                          <a:pt x="84" y="1329"/>
                        </a:lnTo>
                        <a:lnTo>
                          <a:pt x="104" y="1314"/>
                        </a:lnTo>
                        <a:lnTo>
                          <a:pt x="112" y="1252"/>
                        </a:lnTo>
                        <a:lnTo>
                          <a:pt x="133" y="1162"/>
                        </a:lnTo>
                        <a:lnTo>
                          <a:pt x="167" y="1121"/>
                        </a:lnTo>
                        <a:lnTo>
                          <a:pt x="208" y="1093"/>
                        </a:lnTo>
                        <a:lnTo>
                          <a:pt x="244" y="1058"/>
                        </a:lnTo>
                        <a:lnTo>
                          <a:pt x="251" y="1030"/>
                        </a:lnTo>
                        <a:lnTo>
                          <a:pt x="230" y="996"/>
                        </a:lnTo>
                        <a:lnTo>
                          <a:pt x="208" y="976"/>
                        </a:lnTo>
                        <a:lnTo>
                          <a:pt x="194" y="892"/>
                        </a:lnTo>
                        <a:lnTo>
                          <a:pt x="208" y="719"/>
                        </a:lnTo>
                        <a:lnTo>
                          <a:pt x="257" y="519"/>
                        </a:lnTo>
                        <a:lnTo>
                          <a:pt x="305" y="359"/>
                        </a:lnTo>
                        <a:lnTo>
                          <a:pt x="320" y="166"/>
                        </a:lnTo>
                        <a:lnTo>
                          <a:pt x="305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2309760" y="4151160"/>
                    <a:ext cx="16776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1121">
                        <a:moveTo>
                          <a:pt x="172" y="166"/>
                        </a:moveTo>
                        <a:lnTo>
                          <a:pt x="159" y="55"/>
                        </a:lnTo>
                        <a:lnTo>
                          <a:pt x="97" y="0"/>
                        </a:lnTo>
                        <a:lnTo>
                          <a:pt x="7" y="7"/>
                        </a:lnTo>
                        <a:lnTo>
                          <a:pt x="0" y="55"/>
                        </a:lnTo>
                        <a:lnTo>
                          <a:pt x="7" y="159"/>
                        </a:lnTo>
                        <a:lnTo>
                          <a:pt x="55" y="318"/>
                        </a:lnTo>
                        <a:lnTo>
                          <a:pt x="90" y="435"/>
                        </a:lnTo>
                        <a:lnTo>
                          <a:pt x="131" y="594"/>
                        </a:lnTo>
                        <a:lnTo>
                          <a:pt x="145" y="732"/>
                        </a:lnTo>
                        <a:lnTo>
                          <a:pt x="145" y="843"/>
                        </a:lnTo>
                        <a:lnTo>
                          <a:pt x="124" y="926"/>
                        </a:lnTo>
                        <a:lnTo>
                          <a:pt x="104" y="954"/>
                        </a:lnTo>
                        <a:lnTo>
                          <a:pt x="104" y="981"/>
                        </a:lnTo>
                        <a:lnTo>
                          <a:pt x="131" y="1024"/>
                        </a:lnTo>
                        <a:lnTo>
                          <a:pt x="179" y="1037"/>
                        </a:lnTo>
                        <a:lnTo>
                          <a:pt x="256" y="1037"/>
                        </a:lnTo>
                        <a:lnTo>
                          <a:pt x="394" y="1071"/>
                        </a:lnTo>
                        <a:lnTo>
                          <a:pt x="435" y="1121"/>
                        </a:lnTo>
                        <a:lnTo>
                          <a:pt x="498" y="1092"/>
                        </a:lnTo>
                        <a:lnTo>
                          <a:pt x="526" y="1024"/>
                        </a:lnTo>
                        <a:lnTo>
                          <a:pt x="498" y="996"/>
                        </a:lnTo>
                        <a:lnTo>
                          <a:pt x="380" y="981"/>
                        </a:lnTo>
                        <a:lnTo>
                          <a:pt x="249" y="981"/>
                        </a:lnTo>
                        <a:lnTo>
                          <a:pt x="193" y="974"/>
                        </a:lnTo>
                        <a:lnTo>
                          <a:pt x="179" y="933"/>
                        </a:lnTo>
                        <a:lnTo>
                          <a:pt x="193" y="857"/>
                        </a:lnTo>
                        <a:lnTo>
                          <a:pt x="201" y="725"/>
                        </a:lnTo>
                        <a:lnTo>
                          <a:pt x="186" y="580"/>
                        </a:lnTo>
                        <a:lnTo>
                          <a:pt x="165" y="388"/>
                        </a:lnTo>
                        <a:lnTo>
                          <a:pt x="172" y="221"/>
                        </a:lnTo>
                        <a:lnTo>
                          <a:pt x="172" y="1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997" name="ampoule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086920" y="3494880"/>
                  <a:ext cx="13356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998" name=""/>
            <p:cNvGrpSpPr/>
            <p:nvPr/>
          </p:nvGrpSpPr>
          <p:grpSpPr>
            <a:xfrm>
              <a:off x="1298520" y="1044720"/>
              <a:ext cx="1774800" cy="1433520"/>
              <a:chOff x="1298520" y="1044720"/>
              <a:chExt cx="1774800" cy="1433520"/>
            </a:xfrm>
          </p:grpSpPr>
          <p:sp>
            <p:nvSpPr>
              <p:cNvPr id="1999" name=""/>
              <p:cNvSpPr/>
              <p:nvPr/>
            </p:nvSpPr>
            <p:spPr>
              <a:xfrm>
                <a:off x="1298520" y="2119320"/>
                <a:ext cx="177480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Auteur et/o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Annotateur de 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0" name=""/>
              <p:cNvGrpSpPr/>
              <p:nvPr/>
            </p:nvGrpSpPr>
            <p:grpSpPr>
              <a:xfrm>
                <a:off x="1850760" y="1044720"/>
                <a:ext cx="789120" cy="1231920"/>
                <a:chOff x="1850760" y="1044720"/>
                <a:chExt cx="789120" cy="1231920"/>
              </a:xfrm>
            </p:grpSpPr>
            <p:grpSp>
              <p:nvGrpSpPr>
                <p:cNvPr id="2001" name=""/>
                <p:cNvGrpSpPr/>
                <p:nvPr/>
              </p:nvGrpSpPr>
              <p:grpSpPr>
                <a:xfrm>
                  <a:off x="2126160" y="1492560"/>
                  <a:ext cx="477360" cy="784080"/>
                  <a:chOff x="2126160" y="1492560"/>
                  <a:chExt cx="477360" cy="784080"/>
                </a:xfrm>
              </p:grpSpPr>
              <p:sp>
                <p:nvSpPr>
                  <p:cNvPr id="2002" name=""/>
                  <p:cNvSpPr/>
                  <p:nvPr/>
                </p:nvSpPr>
                <p:spPr>
                  <a:xfrm>
                    <a:off x="2335320" y="1753200"/>
                    <a:ext cx="11124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1" h="1535">
                        <a:moveTo>
                          <a:pt x="182" y="123"/>
                        </a:moveTo>
                        <a:lnTo>
                          <a:pt x="265" y="33"/>
                        </a:lnTo>
                        <a:lnTo>
                          <a:pt x="423" y="0"/>
                        </a:lnTo>
                        <a:lnTo>
                          <a:pt x="558" y="33"/>
                        </a:lnTo>
                        <a:lnTo>
                          <a:pt x="633" y="83"/>
                        </a:lnTo>
                        <a:lnTo>
                          <a:pt x="693" y="183"/>
                        </a:lnTo>
                        <a:lnTo>
                          <a:pt x="746" y="361"/>
                        </a:lnTo>
                        <a:lnTo>
                          <a:pt x="771" y="554"/>
                        </a:lnTo>
                        <a:lnTo>
                          <a:pt x="771" y="899"/>
                        </a:lnTo>
                        <a:lnTo>
                          <a:pt x="693" y="1200"/>
                        </a:lnTo>
                        <a:lnTo>
                          <a:pt x="581" y="1370"/>
                        </a:lnTo>
                        <a:lnTo>
                          <a:pt x="468" y="1468"/>
                        </a:lnTo>
                        <a:lnTo>
                          <a:pt x="340" y="1535"/>
                        </a:lnTo>
                        <a:lnTo>
                          <a:pt x="160" y="1528"/>
                        </a:lnTo>
                        <a:lnTo>
                          <a:pt x="17" y="1425"/>
                        </a:lnTo>
                        <a:lnTo>
                          <a:pt x="0" y="1302"/>
                        </a:lnTo>
                        <a:lnTo>
                          <a:pt x="70" y="1119"/>
                        </a:lnTo>
                        <a:lnTo>
                          <a:pt x="130" y="914"/>
                        </a:lnTo>
                        <a:lnTo>
                          <a:pt x="152" y="649"/>
                        </a:lnTo>
                        <a:lnTo>
                          <a:pt x="115" y="423"/>
                        </a:lnTo>
                        <a:lnTo>
                          <a:pt x="115" y="258"/>
                        </a:lnTo>
                        <a:lnTo>
                          <a:pt x="182" y="1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2378520" y="1999800"/>
                    <a:ext cx="127080" cy="27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81" h="1512">
                        <a:moveTo>
                          <a:pt x="293" y="63"/>
                        </a:moveTo>
                        <a:lnTo>
                          <a:pt x="187" y="0"/>
                        </a:lnTo>
                        <a:lnTo>
                          <a:pt x="52" y="0"/>
                        </a:lnTo>
                        <a:lnTo>
                          <a:pt x="0" y="83"/>
                        </a:lnTo>
                        <a:lnTo>
                          <a:pt x="22" y="205"/>
                        </a:lnTo>
                        <a:lnTo>
                          <a:pt x="142" y="325"/>
                        </a:lnTo>
                        <a:lnTo>
                          <a:pt x="390" y="436"/>
                        </a:lnTo>
                        <a:lnTo>
                          <a:pt x="676" y="671"/>
                        </a:lnTo>
                        <a:lnTo>
                          <a:pt x="721" y="774"/>
                        </a:lnTo>
                        <a:lnTo>
                          <a:pt x="698" y="821"/>
                        </a:lnTo>
                        <a:lnTo>
                          <a:pt x="480" y="977"/>
                        </a:lnTo>
                        <a:lnTo>
                          <a:pt x="225" y="1162"/>
                        </a:lnTo>
                        <a:lnTo>
                          <a:pt x="165" y="1242"/>
                        </a:lnTo>
                        <a:lnTo>
                          <a:pt x="165" y="1325"/>
                        </a:lnTo>
                        <a:lnTo>
                          <a:pt x="360" y="1412"/>
                        </a:lnTo>
                        <a:lnTo>
                          <a:pt x="661" y="1512"/>
                        </a:lnTo>
                        <a:lnTo>
                          <a:pt x="766" y="1512"/>
                        </a:lnTo>
                        <a:lnTo>
                          <a:pt x="881" y="1445"/>
                        </a:lnTo>
                        <a:lnTo>
                          <a:pt x="881" y="1392"/>
                        </a:lnTo>
                        <a:lnTo>
                          <a:pt x="796" y="1365"/>
                        </a:lnTo>
                        <a:lnTo>
                          <a:pt x="413" y="1325"/>
                        </a:lnTo>
                        <a:lnTo>
                          <a:pt x="270" y="1290"/>
                        </a:lnTo>
                        <a:lnTo>
                          <a:pt x="255" y="1229"/>
                        </a:lnTo>
                        <a:lnTo>
                          <a:pt x="503" y="1059"/>
                        </a:lnTo>
                        <a:lnTo>
                          <a:pt x="773" y="896"/>
                        </a:lnTo>
                        <a:lnTo>
                          <a:pt x="833" y="836"/>
                        </a:lnTo>
                        <a:lnTo>
                          <a:pt x="856" y="754"/>
                        </a:lnTo>
                        <a:lnTo>
                          <a:pt x="833" y="638"/>
                        </a:lnTo>
                        <a:lnTo>
                          <a:pt x="751" y="551"/>
                        </a:lnTo>
                        <a:lnTo>
                          <a:pt x="480" y="253"/>
                        </a:lnTo>
                        <a:lnTo>
                          <a:pt x="293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4" name=""/>
                  <p:cNvSpPr/>
                  <p:nvPr/>
                </p:nvSpPr>
                <p:spPr>
                  <a:xfrm>
                    <a:off x="2210760" y="1986120"/>
                    <a:ext cx="158400" cy="29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7" h="1610">
                        <a:moveTo>
                          <a:pt x="596" y="218"/>
                        </a:moveTo>
                        <a:lnTo>
                          <a:pt x="771" y="80"/>
                        </a:lnTo>
                        <a:lnTo>
                          <a:pt x="937" y="0"/>
                        </a:lnTo>
                        <a:lnTo>
                          <a:pt x="1042" y="12"/>
                        </a:lnTo>
                        <a:lnTo>
                          <a:pt x="1097" y="80"/>
                        </a:lnTo>
                        <a:lnTo>
                          <a:pt x="1097" y="155"/>
                        </a:lnTo>
                        <a:lnTo>
                          <a:pt x="1064" y="238"/>
                        </a:lnTo>
                        <a:lnTo>
                          <a:pt x="952" y="285"/>
                        </a:lnTo>
                        <a:lnTo>
                          <a:pt x="724" y="400"/>
                        </a:lnTo>
                        <a:lnTo>
                          <a:pt x="589" y="543"/>
                        </a:lnTo>
                        <a:lnTo>
                          <a:pt x="499" y="713"/>
                        </a:lnTo>
                        <a:lnTo>
                          <a:pt x="476" y="814"/>
                        </a:lnTo>
                        <a:lnTo>
                          <a:pt x="596" y="936"/>
                        </a:lnTo>
                        <a:lnTo>
                          <a:pt x="724" y="1114"/>
                        </a:lnTo>
                        <a:lnTo>
                          <a:pt x="817" y="1277"/>
                        </a:lnTo>
                        <a:lnTo>
                          <a:pt x="839" y="1380"/>
                        </a:lnTo>
                        <a:lnTo>
                          <a:pt x="839" y="1440"/>
                        </a:lnTo>
                        <a:lnTo>
                          <a:pt x="779" y="1480"/>
                        </a:lnTo>
                        <a:lnTo>
                          <a:pt x="589" y="1487"/>
                        </a:lnTo>
                        <a:lnTo>
                          <a:pt x="301" y="1547"/>
                        </a:lnTo>
                        <a:lnTo>
                          <a:pt x="248" y="1602"/>
                        </a:lnTo>
                        <a:lnTo>
                          <a:pt x="203" y="1610"/>
                        </a:lnTo>
                        <a:lnTo>
                          <a:pt x="0" y="1547"/>
                        </a:lnTo>
                        <a:lnTo>
                          <a:pt x="0" y="1487"/>
                        </a:lnTo>
                        <a:lnTo>
                          <a:pt x="90" y="1440"/>
                        </a:lnTo>
                        <a:lnTo>
                          <a:pt x="453" y="1380"/>
                        </a:lnTo>
                        <a:lnTo>
                          <a:pt x="641" y="1400"/>
                        </a:lnTo>
                        <a:lnTo>
                          <a:pt x="734" y="1400"/>
                        </a:lnTo>
                        <a:lnTo>
                          <a:pt x="756" y="1365"/>
                        </a:lnTo>
                        <a:lnTo>
                          <a:pt x="679" y="1214"/>
                        </a:lnTo>
                        <a:lnTo>
                          <a:pt x="521" y="1019"/>
                        </a:lnTo>
                        <a:lnTo>
                          <a:pt x="408" y="876"/>
                        </a:lnTo>
                        <a:lnTo>
                          <a:pt x="363" y="794"/>
                        </a:lnTo>
                        <a:lnTo>
                          <a:pt x="363" y="671"/>
                        </a:lnTo>
                        <a:lnTo>
                          <a:pt x="438" y="468"/>
                        </a:lnTo>
                        <a:lnTo>
                          <a:pt x="506" y="340"/>
                        </a:lnTo>
                        <a:lnTo>
                          <a:pt x="596" y="2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5" name=""/>
                  <p:cNvSpPr/>
                  <p:nvPr/>
                </p:nvSpPr>
                <p:spPr>
                  <a:xfrm>
                    <a:off x="2126160" y="1753920"/>
                    <a:ext cx="21384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82" h="1202">
                        <a:moveTo>
                          <a:pt x="889" y="1202"/>
                        </a:moveTo>
                        <a:lnTo>
                          <a:pt x="981" y="1192"/>
                        </a:lnTo>
                        <a:lnTo>
                          <a:pt x="1009" y="1124"/>
                        </a:lnTo>
                        <a:lnTo>
                          <a:pt x="1034" y="881"/>
                        </a:lnTo>
                        <a:lnTo>
                          <a:pt x="1172" y="596"/>
                        </a:lnTo>
                        <a:lnTo>
                          <a:pt x="1314" y="465"/>
                        </a:lnTo>
                        <a:lnTo>
                          <a:pt x="1482" y="330"/>
                        </a:lnTo>
                        <a:lnTo>
                          <a:pt x="1467" y="235"/>
                        </a:lnTo>
                        <a:lnTo>
                          <a:pt x="1367" y="185"/>
                        </a:lnTo>
                        <a:lnTo>
                          <a:pt x="1242" y="235"/>
                        </a:lnTo>
                        <a:lnTo>
                          <a:pt x="1104" y="373"/>
                        </a:lnTo>
                        <a:lnTo>
                          <a:pt x="976" y="673"/>
                        </a:lnTo>
                        <a:lnTo>
                          <a:pt x="921" y="906"/>
                        </a:lnTo>
                        <a:lnTo>
                          <a:pt x="884" y="1029"/>
                        </a:lnTo>
                        <a:lnTo>
                          <a:pt x="779" y="984"/>
                        </a:lnTo>
                        <a:lnTo>
                          <a:pt x="661" y="783"/>
                        </a:lnTo>
                        <a:lnTo>
                          <a:pt x="563" y="505"/>
                        </a:lnTo>
                        <a:lnTo>
                          <a:pt x="581" y="380"/>
                        </a:lnTo>
                        <a:lnTo>
                          <a:pt x="636" y="248"/>
                        </a:lnTo>
                        <a:lnTo>
                          <a:pt x="658" y="150"/>
                        </a:lnTo>
                        <a:lnTo>
                          <a:pt x="418" y="145"/>
                        </a:lnTo>
                        <a:lnTo>
                          <a:pt x="178" y="105"/>
                        </a:lnTo>
                        <a:lnTo>
                          <a:pt x="65" y="0"/>
                        </a:lnTo>
                        <a:lnTo>
                          <a:pt x="0" y="50"/>
                        </a:lnTo>
                        <a:lnTo>
                          <a:pt x="88" y="230"/>
                        </a:lnTo>
                        <a:lnTo>
                          <a:pt x="280" y="250"/>
                        </a:lnTo>
                        <a:lnTo>
                          <a:pt x="488" y="270"/>
                        </a:lnTo>
                        <a:lnTo>
                          <a:pt x="493" y="428"/>
                        </a:lnTo>
                        <a:lnTo>
                          <a:pt x="513" y="611"/>
                        </a:lnTo>
                        <a:lnTo>
                          <a:pt x="583" y="816"/>
                        </a:lnTo>
                        <a:lnTo>
                          <a:pt x="671" y="1019"/>
                        </a:lnTo>
                        <a:lnTo>
                          <a:pt x="804" y="1154"/>
                        </a:lnTo>
                        <a:lnTo>
                          <a:pt x="889" y="12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6" name=""/>
                  <p:cNvSpPr/>
                  <p:nvPr/>
                </p:nvSpPr>
                <p:spPr>
                  <a:xfrm>
                    <a:off x="2446200" y="1492560"/>
                    <a:ext cx="157320" cy="29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1" h="1625">
                        <a:moveTo>
                          <a:pt x="0" y="1610"/>
                        </a:moveTo>
                        <a:lnTo>
                          <a:pt x="0" y="1503"/>
                        </a:lnTo>
                        <a:lnTo>
                          <a:pt x="67" y="1420"/>
                        </a:lnTo>
                        <a:lnTo>
                          <a:pt x="363" y="1325"/>
                        </a:lnTo>
                        <a:lnTo>
                          <a:pt x="728" y="1245"/>
                        </a:lnTo>
                        <a:lnTo>
                          <a:pt x="939" y="1197"/>
                        </a:lnTo>
                        <a:lnTo>
                          <a:pt x="964" y="1155"/>
                        </a:lnTo>
                        <a:lnTo>
                          <a:pt x="864" y="1034"/>
                        </a:lnTo>
                        <a:lnTo>
                          <a:pt x="666" y="857"/>
                        </a:lnTo>
                        <a:lnTo>
                          <a:pt x="463" y="706"/>
                        </a:lnTo>
                        <a:lnTo>
                          <a:pt x="303" y="626"/>
                        </a:lnTo>
                        <a:lnTo>
                          <a:pt x="213" y="544"/>
                        </a:lnTo>
                        <a:lnTo>
                          <a:pt x="205" y="483"/>
                        </a:lnTo>
                        <a:lnTo>
                          <a:pt x="258" y="428"/>
                        </a:lnTo>
                        <a:lnTo>
                          <a:pt x="385" y="401"/>
                        </a:lnTo>
                        <a:lnTo>
                          <a:pt x="546" y="298"/>
                        </a:lnTo>
                        <a:lnTo>
                          <a:pt x="568" y="198"/>
                        </a:lnTo>
                        <a:lnTo>
                          <a:pt x="568" y="55"/>
                        </a:lnTo>
                        <a:lnTo>
                          <a:pt x="553" y="0"/>
                        </a:lnTo>
                        <a:lnTo>
                          <a:pt x="613" y="13"/>
                        </a:lnTo>
                        <a:lnTo>
                          <a:pt x="698" y="135"/>
                        </a:lnTo>
                        <a:lnTo>
                          <a:pt x="728" y="266"/>
                        </a:lnTo>
                        <a:lnTo>
                          <a:pt x="636" y="361"/>
                        </a:lnTo>
                        <a:lnTo>
                          <a:pt x="553" y="388"/>
                        </a:lnTo>
                        <a:lnTo>
                          <a:pt x="393" y="463"/>
                        </a:lnTo>
                        <a:lnTo>
                          <a:pt x="363" y="504"/>
                        </a:lnTo>
                        <a:lnTo>
                          <a:pt x="385" y="544"/>
                        </a:lnTo>
                        <a:lnTo>
                          <a:pt x="531" y="654"/>
                        </a:lnTo>
                        <a:lnTo>
                          <a:pt x="683" y="714"/>
                        </a:lnTo>
                        <a:lnTo>
                          <a:pt x="886" y="869"/>
                        </a:lnTo>
                        <a:lnTo>
                          <a:pt x="1024" y="1054"/>
                        </a:lnTo>
                        <a:lnTo>
                          <a:pt x="1091" y="1197"/>
                        </a:lnTo>
                        <a:lnTo>
                          <a:pt x="1069" y="1245"/>
                        </a:lnTo>
                        <a:lnTo>
                          <a:pt x="1024" y="1277"/>
                        </a:lnTo>
                        <a:lnTo>
                          <a:pt x="849" y="1340"/>
                        </a:lnTo>
                        <a:lnTo>
                          <a:pt x="501" y="1443"/>
                        </a:lnTo>
                        <a:lnTo>
                          <a:pt x="280" y="1530"/>
                        </a:lnTo>
                        <a:lnTo>
                          <a:pt x="138" y="1605"/>
                        </a:lnTo>
                        <a:lnTo>
                          <a:pt x="45" y="1625"/>
                        </a:lnTo>
                        <a:lnTo>
                          <a:pt x="0" y="16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7" name=""/>
                  <p:cNvSpPr/>
                  <p:nvPr/>
                </p:nvSpPr>
                <p:spPr>
                  <a:xfrm>
                    <a:off x="2291400" y="1536120"/>
                    <a:ext cx="12276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w="851" h="1157">
                        <a:moveTo>
                          <a:pt x="173" y="939"/>
                        </a:moveTo>
                        <a:lnTo>
                          <a:pt x="271" y="1042"/>
                        </a:lnTo>
                        <a:lnTo>
                          <a:pt x="431" y="1137"/>
                        </a:lnTo>
                        <a:lnTo>
                          <a:pt x="566" y="1157"/>
                        </a:lnTo>
                        <a:lnTo>
                          <a:pt x="669" y="1137"/>
                        </a:lnTo>
                        <a:lnTo>
                          <a:pt x="791" y="1057"/>
                        </a:lnTo>
                        <a:lnTo>
                          <a:pt x="836" y="892"/>
                        </a:lnTo>
                        <a:lnTo>
                          <a:pt x="851" y="769"/>
                        </a:lnTo>
                        <a:lnTo>
                          <a:pt x="814" y="654"/>
                        </a:lnTo>
                        <a:lnTo>
                          <a:pt x="744" y="511"/>
                        </a:lnTo>
                        <a:lnTo>
                          <a:pt x="679" y="388"/>
                        </a:lnTo>
                        <a:lnTo>
                          <a:pt x="669" y="361"/>
                        </a:lnTo>
                        <a:lnTo>
                          <a:pt x="699" y="218"/>
                        </a:lnTo>
                        <a:lnTo>
                          <a:pt x="791" y="75"/>
                        </a:lnTo>
                        <a:lnTo>
                          <a:pt x="806" y="33"/>
                        </a:lnTo>
                        <a:lnTo>
                          <a:pt x="759" y="0"/>
                        </a:lnTo>
                        <a:lnTo>
                          <a:pt x="699" y="0"/>
                        </a:lnTo>
                        <a:lnTo>
                          <a:pt x="634" y="185"/>
                        </a:lnTo>
                        <a:lnTo>
                          <a:pt x="604" y="306"/>
                        </a:lnTo>
                        <a:lnTo>
                          <a:pt x="521" y="225"/>
                        </a:lnTo>
                        <a:lnTo>
                          <a:pt x="451" y="163"/>
                        </a:lnTo>
                        <a:lnTo>
                          <a:pt x="308" y="115"/>
                        </a:lnTo>
                        <a:lnTo>
                          <a:pt x="203" y="115"/>
                        </a:lnTo>
                        <a:lnTo>
                          <a:pt x="45" y="185"/>
                        </a:lnTo>
                        <a:lnTo>
                          <a:pt x="0" y="381"/>
                        </a:lnTo>
                        <a:lnTo>
                          <a:pt x="38" y="634"/>
                        </a:lnTo>
                        <a:lnTo>
                          <a:pt x="105" y="872"/>
                        </a:lnTo>
                        <a:lnTo>
                          <a:pt x="173" y="9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8" name=""/>
                <p:cNvGrpSpPr/>
                <p:nvPr/>
              </p:nvGrpSpPr>
              <p:grpSpPr>
                <a:xfrm>
                  <a:off x="2136960" y="1044720"/>
                  <a:ext cx="236520" cy="239040"/>
                  <a:chOff x="2136960" y="1044720"/>
                  <a:chExt cx="236520" cy="239040"/>
                </a:xfrm>
              </p:grpSpPr>
              <p:sp>
                <p:nvSpPr>
                  <p:cNvPr id="2009" name=""/>
                  <p:cNvSpPr/>
                  <p:nvPr/>
                </p:nvSpPr>
                <p:spPr>
                  <a:xfrm>
                    <a:off x="2136960" y="1044720"/>
                    <a:ext cx="236520" cy="2390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10" name="doc_0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63960" y="1066320"/>
                    <a:ext cx="197280" cy="199080"/>
                  </a:xfrm>
                  <a:prstGeom prst="rect">
                    <a:avLst/>
                  </a:prstGeom>
                  <a:ln w="9360">
                    <a:solidFill>
                      <a:srgbClr val="c0c0c0"/>
                    </a:solidFill>
                    <a:miter/>
                  </a:ln>
                </p:spPr>
              </p:pic>
            </p:grpSp>
            <p:grpSp>
              <p:nvGrpSpPr>
                <p:cNvPr id="2011" name=""/>
                <p:cNvGrpSpPr/>
                <p:nvPr/>
              </p:nvGrpSpPr>
              <p:grpSpPr>
                <a:xfrm>
                  <a:off x="1850760" y="1168200"/>
                  <a:ext cx="255240" cy="278640"/>
                  <a:chOff x="1850760" y="1168200"/>
                  <a:chExt cx="255240" cy="278640"/>
                </a:xfrm>
              </p:grpSpPr>
              <p:sp>
                <p:nvSpPr>
                  <p:cNvPr id="2012" name=""/>
                  <p:cNvSpPr/>
                  <p:nvPr/>
                </p:nvSpPr>
                <p:spPr>
                  <a:xfrm>
                    <a:off x="1850760" y="1168200"/>
                    <a:ext cx="25524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13" name="doc_0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59040" y="1186920"/>
                    <a:ext cx="236520" cy="2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2014" name=""/>
                <p:cNvGrpSpPr/>
                <p:nvPr/>
              </p:nvGrpSpPr>
              <p:grpSpPr>
                <a:xfrm>
                  <a:off x="2008440" y="1487160"/>
                  <a:ext cx="204120" cy="245160"/>
                  <a:chOff x="2008440" y="1487160"/>
                  <a:chExt cx="204120" cy="245160"/>
                </a:xfrm>
              </p:grpSpPr>
              <p:sp>
                <p:nvSpPr>
                  <p:cNvPr id="2015" name=""/>
                  <p:cNvSpPr/>
                  <p:nvPr/>
                </p:nvSpPr>
                <p:spPr>
                  <a:xfrm>
                    <a:off x="2008440" y="1487160"/>
                    <a:ext cx="204120" cy="2451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16" name="doc_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28960" y="1503720"/>
                    <a:ext cx="1666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2017" name=""/>
                <p:cNvGrpSpPr/>
                <p:nvPr/>
              </p:nvGrpSpPr>
              <p:grpSpPr>
                <a:xfrm>
                  <a:off x="2403000" y="1208160"/>
                  <a:ext cx="236880" cy="278640"/>
                  <a:chOff x="2403000" y="1208160"/>
                  <a:chExt cx="236880" cy="278640"/>
                </a:xfrm>
              </p:grpSpPr>
              <p:sp>
                <p:nvSpPr>
                  <p:cNvPr id="2018" name=""/>
                  <p:cNvSpPr/>
                  <p:nvPr/>
                </p:nvSpPr>
                <p:spPr>
                  <a:xfrm>
                    <a:off x="2403000" y="1208160"/>
                    <a:ext cx="23688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19" name="doc_05gif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08400" y="1241640"/>
                    <a:ext cx="22500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2020" name=""/>
            <p:cNvGrpSpPr/>
            <p:nvPr/>
          </p:nvGrpSpPr>
          <p:grpSpPr>
            <a:xfrm>
              <a:off x="7570800" y="4191120"/>
              <a:ext cx="1106280" cy="1193760"/>
              <a:chOff x="7570800" y="4191120"/>
              <a:chExt cx="1106280" cy="1193760"/>
            </a:xfrm>
          </p:grpSpPr>
          <p:sp>
            <p:nvSpPr>
              <p:cNvPr id="2021" name=""/>
              <p:cNvSpPr/>
              <p:nvPr/>
            </p:nvSpPr>
            <p:spPr>
              <a:xfrm>
                <a:off x="7570800" y="5137200"/>
                <a:ext cx="1106280" cy="24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Utilisateur fin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22" name=""/>
              <p:cNvGrpSpPr/>
              <p:nvPr/>
            </p:nvGrpSpPr>
            <p:grpSpPr>
              <a:xfrm>
                <a:off x="7729200" y="4270320"/>
                <a:ext cx="430200" cy="903600"/>
                <a:chOff x="7729200" y="4270320"/>
                <a:chExt cx="430200" cy="903600"/>
              </a:xfrm>
            </p:grpSpPr>
            <p:sp>
              <p:nvSpPr>
                <p:cNvPr id="2023" name=""/>
                <p:cNvSpPr/>
                <p:nvPr/>
              </p:nvSpPr>
              <p:spPr>
                <a:xfrm flipH="1">
                  <a:off x="7853760" y="4320720"/>
                  <a:ext cx="168120" cy="19692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 flipH="1">
                  <a:off x="7965000" y="4270320"/>
                  <a:ext cx="194040" cy="31644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 flipH="1">
                  <a:off x="7875360" y="4532400"/>
                  <a:ext cx="100800" cy="29664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 flipH="1">
                  <a:off x="7774200" y="4540680"/>
                  <a:ext cx="155160" cy="22788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 flipH="1">
                  <a:off x="7728840" y="4799160"/>
                  <a:ext cx="188280" cy="368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 flipH="1">
                  <a:off x="7908840" y="4798440"/>
                  <a:ext cx="126360" cy="37548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9" name=""/>
              <p:cNvGrpSpPr/>
              <p:nvPr/>
            </p:nvGrpSpPr>
            <p:grpSpPr>
              <a:xfrm>
                <a:off x="8162640" y="4191120"/>
                <a:ext cx="473400" cy="396720"/>
                <a:chOff x="8162640" y="4191120"/>
                <a:chExt cx="473400" cy="396720"/>
              </a:xfrm>
            </p:grpSpPr>
            <p:sp>
              <p:nvSpPr>
                <p:cNvPr id="2030" name=""/>
                <p:cNvSpPr/>
                <p:nvPr/>
              </p:nvSpPr>
              <p:spPr>
                <a:xfrm>
                  <a:off x="8162640" y="4191120"/>
                  <a:ext cx="473400" cy="396720"/>
                </a:xfrm>
                <a:prstGeom prst="cloudCallout">
                  <a:avLst>
                    <a:gd name="adj1" fmla="val -75731"/>
                    <a:gd name="adj2" fmla="val 15087"/>
                  </a:avLst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31" name="inter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78920" y="4261320"/>
                  <a:ext cx="2365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032" name=""/>
            <p:cNvGrpSpPr/>
            <p:nvPr/>
          </p:nvGrpSpPr>
          <p:grpSpPr>
            <a:xfrm>
              <a:off x="2639880" y="1455840"/>
              <a:ext cx="1617840" cy="903240"/>
              <a:chOff x="2639880" y="1455840"/>
              <a:chExt cx="1617840" cy="903240"/>
            </a:xfrm>
          </p:grpSpPr>
          <p:pic>
            <p:nvPicPr>
              <p:cNvPr id="203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639880" y="193212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34" name=""/>
              <p:cNvGrpSpPr/>
              <p:nvPr/>
            </p:nvGrpSpPr>
            <p:grpSpPr>
              <a:xfrm>
                <a:off x="2916000" y="1455840"/>
                <a:ext cx="1025640" cy="903240"/>
                <a:chOff x="2916000" y="1455840"/>
                <a:chExt cx="1025640" cy="903240"/>
              </a:xfrm>
            </p:grpSpPr>
            <p:sp>
              <p:nvSpPr>
                <p:cNvPr id="2035" name=""/>
                <p:cNvSpPr/>
                <p:nvPr/>
              </p:nvSpPr>
              <p:spPr>
                <a:xfrm>
                  <a:off x="2916000" y="1721880"/>
                  <a:ext cx="102564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2916000" y="1455840"/>
                  <a:ext cx="102564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2933640" y="1724760"/>
                  <a:ext cx="100764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3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310200" y="1957320"/>
                  <a:ext cx="31536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3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992680" y="1486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204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20840" y="1920960"/>
                <a:ext cx="23688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41" name=""/>
            <p:cNvGrpSpPr/>
            <p:nvPr/>
          </p:nvGrpSpPr>
          <p:grpSpPr>
            <a:xfrm>
              <a:off x="5913360" y="4230720"/>
              <a:ext cx="1697040" cy="995400"/>
              <a:chOff x="5913360" y="4230720"/>
              <a:chExt cx="1697040" cy="995400"/>
            </a:xfrm>
          </p:grpSpPr>
          <p:pic>
            <p:nvPicPr>
              <p:cNvPr id="204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913360" y="4708440"/>
                <a:ext cx="23796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4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7373880" y="4708440"/>
                <a:ext cx="236520" cy="238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44" name=""/>
              <p:cNvGrpSpPr/>
              <p:nvPr/>
            </p:nvGrpSpPr>
            <p:grpSpPr>
              <a:xfrm>
                <a:off x="6189480" y="4230720"/>
                <a:ext cx="1104840" cy="995400"/>
                <a:chOff x="6189480" y="4230720"/>
                <a:chExt cx="1104840" cy="995400"/>
              </a:xfrm>
            </p:grpSpPr>
            <p:grpSp>
              <p:nvGrpSpPr>
                <p:cNvPr id="2045" name=""/>
                <p:cNvGrpSpPr/>
                <p:nvPr/>
              </p:nvGrpSpPr>
              <p:grpSpPr>
                <a:xfrm>
                  <a:off x="6189480" y="4230720"/>
                  <a:ext cx="1026000" cy="902880"/>
                  <a:chOff x="6189480" y="4230720"/>
                  <a:chExt cx="1026000" cy="902880"/>
                </a:xfrm>
              </p:grpSpPr>
              <p:sp>
                <p:nvSpPr>
                  <p:cNvPr id="2046" name=""/>
                  <p:cNvSpPr/>
                  <p:nvPr/>
                </p:nvSpPr>
                <p:spPr>
                  <a:xfrm>
                    <a:off x="6189480" y="4496760"/>
                    <a:ext cx="1026000" cy="63684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7" name=""/>
                  <p:cNvSpPr/>
                  <p:nvPr/>
                </p:nvSpPr>
                <p:spPr>
                  <a:xfrm>
                    <a:off x="6189480" y="423072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8" name=""/>
                  <p:cNvSpPr/>
                  <p:nvPr/>
                </p:nvSpPr>
                <p:spPr>
                  <a:xfrm>
                    <a:off x="6207120" y="449928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4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584040" y="473220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66160" y="426132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2051" name=""/>
                <p:cNvGrpSpPr/>
                <p:nvPr/>
              </p:nvGrpSpPr>
              <p:grpSpPr>
                <a:xfrm>
                  <a:off x="6228720" y="4270320"/>
                  <a:ext cx="1026000" cy="903240"/>
                  <a:chOff x="6228720" y="4270320"/>
                  <a:chExt cx="1026000" cy="903240"/>
                </a:xfrm>
              </p:grpSpPr>
              <p:sp>
                <p:nvSpPr>
                  <p:cNvPr id="2052" name=""/>
                  <p:cNvSpPr/>
                  <p:nvPr/>
                </p:nvSpPr>
                <p:spPr>
                  <a:xfrm>
                    <a:off x="6228720" y="4536360"/>
                    <a:ext cx="1026000" cy="63720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3" name=""/>
                  <p:cNvSpPr/>
                  <p:nvPr/>
                </p:nvSpPr>
                <p:spPr>
                  <a:xfrm>
                    <a:off x="6228720" y="427032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4" name=""/>
                  <p:cNvSpPr/>
                  <p:nvPr/>
                </p:nvSpPr>
                <p:spPr>
                  <a:xfrm>
                    <a:off x="6246360" y="453924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55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623280" y="477180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5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05400" y="430092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2057" name=""/>
                <p:cNvGrpSpPr/>
                <p:nvPr/>
              </p:nvGrpSpPr>
              <p:grpSpPr>
                <a:xfrm>
                  <a:off x="6268320" y="4322880"/>
                  <a:ext cx="1026000" cy="903240"/>
                  <a:chOff x="6268320" y="4322880"/>
                  <a:chExt cx="1026000" cy="903240"/>
                </a:xfrm>
              </p:grpSpPr>
              <p:sp>
                <p:nvSpPr>
                  <p:cNvPr id="2058" name=""/>
                  <p:cNvSpPr/>
                  <p:nvPr/>
                </p:nvSpPr>
                <p:spPr>
                  <a:xfrm>
                    <a:off x="6268320" y="4588920"/>
                    <a:ext cx="1026000" cy="63720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9" name=""/>
                  <p:cNvSpPr/>
                  <p:nvPr/>
                </p:nvSpPr>
                <p:spPr>
                  <a:xfrm>
                    <a:off x="6268320" y="432288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0" name=""/>
                  <p:cNvSpPr/>
                  <p:nvPr/>
                </p:nvSpPr>
                <p:spPr>
                  <a:xfrm>
                    <a:off x="6285960" y="459180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061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662880" y="482436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6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45000" y="435348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2063" name=""/>
            <p:cNvGrpSpPr/>
            <p:nvPr/>
          </p:nvGrpSpPr>
          <p:grpSpPr>
            <a:xfrm>
              <a:off x="2679840" y="3552840"/>
              <a:ext cx="2167920" cy="677520"/>
              <a:chOff x="2679840" y="3552840"/>
              <a:chExt cx="2167920" cy="677520"/>
            </a:xfrm>
          </p:grpSpPr>
          <p:pic>
            <p:nvPicPr>
              <p:cNvPr id="2064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2679840" y="3832200"/>
                <a:ext cx="23616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5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3981240" y="3832200"/>
                <a:ext cx="236160" cy="238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66" name=""/>
              <p:cNvGrpSpPr/>
              <p:nvPr/>
            </p:nvGrpSpPr>
            <p:grpSpPr>
              <a:xfrm>
                <a:off x="2876400" y="3552840"/>
                <a:ext cx="1007640" cy="677520"/>
                <a:chOff x="2876400" y="3552840"/>
                <a:chExt cx="1007640" cy="677520"/>
              </a:xfrm>
            </p:grpSpPr>
            <p:sp>
              <p:nvSpPr>
                <p:cNvPr id="2067" name=""/>
                <p:cNvSpPr/>
                <p:nvPr/>
              </p:nvSpPr>
              <p:spPr>
                <a:xfrm>
                  <a:off x="3034080" y="3592440"/>
                  <a:ext cx="670680" cy="6379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68" name="onto_01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3191760" y="3826080"/>
                  <a:ext cx="315360" cy="31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69" name=""/>
                <p:cNvSpPr/>
                <p:nvPr/>
              </p:nvSpPr>
              <p:spPr>
                <a:xfrm>
                  <a:off x="2876400" y="3552840"/>
                  <a:ext cx="100764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Ontologi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070" name="onto_01" descr=""/>
              <p:cNvPicPr/>
              <p:nvPr/>
            </p:nvPicPr>
            <p:blipFill>
              <a:blip r:embed="rId28"/>
              <a:stretch/>
            </p:blipFill>
            <p:spPr>
              <a:xfrm>
                <a:off x="4533840" y="3792600"/>
                <a:ext cx="313920" cy="317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1" name=""/>
            <p:cNvGrpSpPr/>
            <p:nvPr/>
          </p:nvGrpSpPr>
          <p:grpSpPr>
            <a:xfrm>
              <a:off x="2467080" y="4303800"/>
              <a:ext cx="1631880" cy="882360"/>
              <a:chOff x="2467080" y="4303800"/>
              <a:chExt cx="1631880" cy="882360"/>
            </a:xfrm>
          </p:grpSpPr>
          <p:grpSp>
            <p:nvGrpSpPr>
              <p:cNvPr id="2072" name=""/>
              <p:cNvGrpSpPr/>
              <p:nvPr/>
            </p:nvGrpSpPr>
            <p:grpSpPr>
              <a:xfrm>
                <a:off x="2467080" y="4587840"/>
                <a:ext cx="1631880" cy="598320"/>
                <a:chOff x="2467080" y="4587840"/>
                <a:chExt cx="1631880" cy="598320"/>
              </a:xfrm>
            </p:grpSpPr>
            <p:sp>
              <p:nvSpPr>
                <p:cNvPr id="2073" name=""/>
                <p:cNvSpPr/>
                <p:nvPr/>
              </p:nvSpPr>
              <p:spPr>
                <a:xfrm>
                  <a:off x="2545920" y="4627440"/>
                  <a:ext cx="1340640" cy="558720"/>
                </a:xfrm>
                <a:prstGeom prst="foldedCorner">
                  <a:avLst>
                    <a:gd name="adj" fmla="val 6138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74" name="onto_02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2585160" y="4831560"/>
                  <a:ext cx="275760" cy="27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5" name=""/>
                <p:cNvSpPr/>
                <p:nvPr/>
              </p:nvSpPr>
              <p:spPr>
                <a:xfrm>
                  <a:off x="2467080" y="4587840"/>
                  <a:ext cx="749160" cy="2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Modèle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2768760" y="4787280"/>
                  <a:ext cx="1330200" cy="35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- Modèle d'entrepris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- Profils d'utilisateur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07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3270240" y="4303800"/>
                <a:ext cx="23616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8" name=""/>
            <p:cNvGrpSpPr/>
            <p:nvPr/>
          </p:nvGrpSpPr>
          <p:grpSpPr>
            <a:xfrm>
              <a:off x="3981600" y="4668840"/>
              <a:ext cx="1065240" cy="357120"/>
              <a:chOff x="3981600" y="4668840"/>
              <a:chExt cx="1065240" cy="357120"/>
            </a:xfrm>
          </p:grpSpPr>
          <p:pic>
            <p:nvPicPr>
              <p:cNvPr id="2079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3981600" y="474840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80" name="onto_02" descr=""/>
              <p:cNvPicPr/>
              <p:nvPr/>
            </p:nvPicPr>
            <p:blipFill>
              <a:blip r:embed="rId32"/>
              <a:stretch/>
            </p:blipFill>
            <p:spPr>
              <a:xfrm>
                <a:off x="4691160" y="4668840"/>
                <a:ext cx="35568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81" name=""/>
            <p:cNvGrpSpPr/>
            <p:nvPr/>
          </p:nvGrpSpPr>
          <p:grpSpPr>
            <a:xfrm>
              <a:off x="7650000" y="3457800"/>
              <a:ext cx="631800" cy="772920"/>
              <a:chOff x="7650000" y="3457800"/>
              <a:chExt cx="631800" cy="772920"/>
            </a:xfrm>
          </p:grpSpPr>
          <p:pic>
            <p:nvPicPr>
              <p:cNvPr id="2082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846920" y="3990960"/>
                <a:ext cx="236520" cy="239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83" name=""/>
              <p:cNvGrpSpPr/>
              <p:nvPr/>
            </p:nvGrpSpPr>
            <p:grpSpPr>
              <a:xfrm>
                <a:off x="7650000" y="3457800"/>
                <a:ext cx="631800" cy="490320"/>
                <a:chOff x="7650000" y="3457800"/>
                <a:chExt cx="631800" cy="490320"/>
              </a:xfrm>
            </p:grpSpPr>
            <p:sp>
              <p:nvSpPr>
                <p:cNvPr id="2084" name=""/>
                <p:cNvSpPr/>
                <p:nvPr/>
              </p:nvSpPr>
              <p:spPr>
                <a:xfrm>
                  <a:off x="7689240" y="3510000"/>
                  <a:ext cx="552960" cy="4381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7650000" y="3457800"/>
                  <a:ext cx="6318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Requête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86" name="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7886880" y="3691080"/>
                  <a:ext cx="236880" cy="238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087" name=""/>
            <p:cNvGrpSpPr/>
            <p:nvPr/>
          </p:nvGrpSpPr>
          <p:grpSpPr>
            <a:xfrm>
              <a:off x="4414680" y="1386000"/>
              <a:ext cx="1301760" cy="3565440"/>
              <a:chOff x="4414680" y="1386000"/>
              <a:chExt cx="1301760" cy="3565440"/>
            </a:xfrm>
          </p:grpSpPr>
          <p:pic>
            <p:nvPicPr>
              <p:cNvPr id="2088" name="doc_01" descr=""/>
              <p:cNvPicPr/>
              <p:nvPr/>
            </p:nvPicPr>
            <p:blipFill>
              <a:blip r:embed="rId35"/>
              <a:stretch/>
            </p:blipFill>
            <p:spPr>
              <a:xfrm>
                <a:off x="5322960" y="2000160"/>
                <a:ext cx="214200" cy="2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89" name="doc_01" descr=""/>
              <p:cNvPicPr/>
              <p:nvPr/>
            </p:nvPicPr>
            <p:blipFill>
              <a:blip r:embed="rId36"/>
              <a:stretch/>
            </p:blipFill>
            <p:spPr>
              <a:xfrm>
                <a:off x="5283360" y="192096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0" name="memory_01" descr=""/>
              <p:cNvPicPr/>
              <p:nvPr/>
            </p:nvPicPr>
            <p:blipFill>
              <a:blip r:embed="rId37"/>
              <a:stretch/>
            </p:blipFill>
            <p:spPr>
              <a:xfrm>
                <a:off x="4414680" y="1386000"/>
                <a:ext cx="33192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1" name="doc_03" descr=""/>
              <p:cNvPicPr/>
              <p:nvPr/>
            </p:nvPicPr>
            <p:blipFill>
              <a:blip r:embed="rId38"/>
              <a:stretch/>
            </p:blipFill>
            <p:spPr>
              <a:xfrm>
                <a:off x="4572000" y="4156200"/>
                <a:ext cx="395280" cy="39672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2092" name="doc_04" descr=""/>
              <p:cNvPicPr/>
              <p:nvPr/>
            </p:nvPicPr>
            <p:blipFill>
              <a:blip r:embed="rId39"/>
              <a:stretch/>
            </p:blipFill>
            <p:spPr>
              <a:xfrm>
                <a:off x="4494240" y="1881360"/>
                <a:ext cx="276120" cy="27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3" name="doc_05gif" descr=""/>
              <p:cNvPicPr/>
              <p:nvPr/>
            </p:nvPicPr>
            <p:blipFill>
              <a:blip r:embed="rId40"/>
              <a:stretch/>
            </p:blipFill>
            <p:spPr>
              <a:xfrm>
                <a:off x="5164200" y="4075200"/>
                <a:ext cx="30456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4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5086440" y="3513240"/>
                <a:ext cx="41112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5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4911840" y="1425600"/>
                <a:ext cx="33156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6" name="doc_01" descr=""/>
              <p:cNvPicPr/>
              <p:nvPr/>
            </p:nvPicPr>
            <p:blipFill>
              <a:blip r:embed="rId43"/>
              <a:stretch/>
            </p:blipFill>
            <p:spPr>
              <a:xfrm>
                <a:off x="5362560" y="204012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7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5400720" y="4633920"/>
                <a:ext cx="315720" cy="31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8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4888080" y="2040120"/>
                <a:ext cx="333360" cy="33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9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5400720" y="148284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00" name=""/>
            <p:cNvSpPr txBox="1"/>
            <p:nvPr/>
          </p:nvSpPr>
          <p:spPr>
            <a:xfrm>
              <a:off x="2560680" y="4310280"/>
              <a:ext cx="236520" cy="15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1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2101" name=""/>
            <p:cNvSpPr txBox="1"/>
            <p:nvPr/>
          </p:nvSpPr>
          <p:spPr>
            <a:xfrm>
              <a:off x="3230640" y="1163880"/>
              <a:ext cx="237960" cy="16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2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2102" name=""/>
            <p:cNvSpPr txBox="1"/>
            <p:nvPr/>
          </p:nvSpPr>
          <p:spPr>
            <a:xfrm>
              <a:off x="7413480" y="4429080"/>
              <a:ext cx="236520" cy="1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3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grpSp>
          <p:nvGrpSpPr>
            <p:cNvPr id="2103" name=""/>
            <p:cNvGrpSpPr/>
            <p:nvPr/>
          </p:nvGrpSpPr>
          <p:grpSpPr>
            <a:xfrm>
              <a:off x="2600280" y="3274920"/>
              <a:ext cx="1971720" cy="1273320"/>
              <a:chOff x="2600280" y="3274920"/>
              <a:chExt cx="1971720" cy="1273320"/>
            </a:xfrm>
          </p:grpSpPr>
          <p:sp>
            <p:nvSpPr>
              <p:cNvPr id="2104" name=""/>
              <p:cNvSpPr/>
              <p:nvPr/>
            </p:nvSpPr>
            <p:spPr>
              <a:xfrm>
                <a:off x="3902040" y="3274920"/>
                <a:ext cx="669960" cy="47808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H="1">
                <a:off x="2600280" y="3274920"/>
                <a:ext cx="512640" cy="47808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3744720" y="3354480"/>
                <a:ext cx="117720" cy="119376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7" name=""/>
            <p:cNvGrpSpPr/>
            <p:nvPr/>
          </p:nvGrpSpPr>
          <p:grpSpPr>
            <a:xfrm>
              <a:off x="2165400" y="2279880"/>
              <a:ext cx="947160" cy="396720"/>
              <a:chOff x="2165400" y="2279880"/>
              <a:chExt cx="947160" cy="396720"/>
            </a:xfrm>
          </p:grpSpPr>
          <p:sp>
            <p:nvSpPr>
              <p:cNvPr id="2108" name=""/>
              <p:cNvSpPr/>
              <p:nvPr/>
            </p:nvSpPr>
            <p:spPr>
              <a:xfrm>
                <a:off x="2165400" y="2384640"/>
                <a:ext cx="118800" cy="25236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 flipH="1">
                <a:off x="2480760" y="2279880"/>
                <a:ext cx="631800" cy="39672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0" name=""/>
            <p:cNvGrpSpPr/>
            <p:nvPr/>
          </p:nvGrpSpPr>
          <p:grpSpPr>
            <a:xfrm>
              <a:off x="5715000" y="1726920"/>
              <a:ext cx="2247840" cy="2503800"/>
              <a:chOff x="5715000" y="1726920"/>
              <a:chExt cx="2247840" cy="2503800"/>
            </a:xfrm>
          </p:grpSpPr>
          <p:sp>
            <p:nvSpPr>
              <p:cNvPr id="2111" name=""/>
              <p:cNvSpPr/>
              <p:nvPr/>
            </p:nvSpPr>
            <p:spPr>
              <a:xfrm flipH="1" flipV="1">
                <a:off x="5715000" y="1726920"/>
                <a:ext cx="137160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7531200" y="3035520"/>
                <a:ext cx="431640" cy="44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 flipH="1">
                <a:off x="6821280" y="3354480"/>
                <a:ext cx="355320" cy="795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7413480" y="3354480"/>
                <a:ext cx="316080" cy="87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5" name=""/>
            <p:cNvGrpSpPr/>
            <p:nvPr/>
          </p:nvGrpSpPr>
          <p:grpSpPr>
            <a:xfrm>
              <a:off x="5519880" y="3235320"/>
              <a:ext cx="2129760" cy="1035000"/>
              <a:chOff x="5519880" y="3235320"/>
              <a:chExt cx="2129760" cy="1035000"/>
            </a:xfrm>
          </p:grpSpPr>
          <p:sp>
            <p:nvSpPr>
              <p:cNvPr id="2116" name=""/>
              <p:cNvSpPr/>
              <p:nvPr/>
            </p:nvSpPr>
            <p:spPr>
              <a:xfrm flipH="1">
                <a:off x="5519880" y="3235320"/>
                <a:ext cx="552240" cy="39708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flipV="1">
                <a:off x="6348240" y="3295440"/>
                <a:ext cx="0" cy="89532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6703920" y="3354480"/>
                <a:ext cx="945720" cy="91584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9" name=""/>
          <p:cNvGrpSpPr/>
          <p:nvPr/>
        </p:nvGrpSpPr>
        <p:grpSpPr>
          <a:xfrm>
            <a:off x="1143000" y="838080"/>
            <a:ext cx="8001000" cy="4724640"/>
            <a:chOff x="1143000" y="838080"/>
            <a:chExt cx="8001000" cy="4724640"/>
          </a:xfrm>
        </p:grpSpPr>
        <p:sp>
          <p:nvSpPr>
            <p:cNvPr id="2120" name=""/>
            <p:cNvSpPr/>
            <p:nvPr/>
          </p:nvSpPr>
          <p:spPr>
            <a:xfrm>
              <a:off x="1143000" y="838080"/>
              <a:ext cx="8001000" cy="15242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143000" y="3505320"/>
              <a:ext cx="8001000" cy="2057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219320" y="2362320"/>
              <a:ext cx="7772400" cy="1143000"/>
            </a:xfrm>
            <a:prstGeom prst="rect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CB65A-CC54-4C9F-8A7F-97A10778994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AS : Une société pour la mémoire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482760" indent="0" algn="ctr">
              <a:lnSpc>
                <a:spcPct val="90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 u="sng">
                <a:solidFill>
                  <a:srgbClr val="cc3300"/>
                </a:solidFill>
                <a:uFillTx/>
                <a:latin typeface="Georgia"/>
              </a:rPr>
              <a:t>Leitmotiv</a:t>
            </a:r>
            <a:r>
              <a:rPr b="0" lang="fr-FR" sz="3400" spc="-1" strike="noStrike">
                <a:solidFill>
                  <a:srgbClr val="cc3300"/>
                </a:solidFill>
                <a:latin typeface="Georgia"/>
              </a:rPr>
              <a:t>: Une architecture fonctionnelle pour plusieurs configurations possibles afin de s'adapter au panel d'environnements que l'on trouve au sein d'une entreprise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5" name=""/>
          <p:cNvSpPr txBox="1"/>
          <p:nvPr/>
        </p:nvSpPr>
        <p:spPr>
          <a:xfrm>
            <a:off x="838080" y="1752480"/>
            <a:ext cx="8153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Une Société pour la Mémoire</a:t>
            </a:r>
            <a:endParaRPr b="0" lang="en-US" sz="24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F4BED-7FE6-4A4A-8300-82943BB4FF4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Caractéristiques des MAS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304560" y="152280"/>
            <a:ext cx="88390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63320" indent="-426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Systèmes d'Information Multi-Agent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20160" indent="-27396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Population des ag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322640" indent="-219240">
              <a:lnSpc>
                <a:spcPct val="80000"/>
              </a:lnSpc>
              <a:spcBef>
                <a:spcPts val="60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Agents fournisseurs</a:t>
            </a:r>
            <a:r>
              <a:rPr b="0" lang="fr-FR" sz="2400" spc="-1" strike="noStrike">
                <a:solidFill>
                  <a:srgbClr val="cc3300"/>
                </a:solidFill>
                <a:latin typeface="Georgi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322640" indent="-219240">
              <a:lnSpc>
                <a:spcPct val="80000"/>
              </a:lnSpc>
              <a:spcBef>
                <a:spcPts val="60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Agents demandeurs</a:t>
            </a:r>
            <a:r>
              <a:rPr b="0" lang="fr-FR" sz="2400" spc="-1" strike="noStrike">
                <a:solidFill>
                  <a:srgbClr val="cc3300"/>
                </a:solidFill>
                <a:latin typeface="Georgi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322640" indent="-219240">
              <a:lnSpc>
                <a:spcPct val="80000"/>
              </a:lnSpc>
              <a:spcBef>
                <a:spcPts val="601"/>
              </a:spcBef>
              <a:buClr>
                <a:srgbClr val="777777"/>
              </a:buClr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Agents médiateurs</a:t>
            </a:r>
            <a:r>
              <a:rPr b="0" lang="fr-FR" sz="2400" spc="-1" strike="noStrike">
                <a:solidFill>
                  <a:srgbClr val="cc3300"/>
                </a:solidFill>
                <a:latin typeface="Georgia"/>
              </a:rPr>
              <a:t>*</a:t>
            </a: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fr-FR" sz="2400" spc="-1" strike="noStrike">
                <a:solidFill>
                  <a:srgbClr val="cc3300"/>
                </a:solidFill>
                <a:latin typeface="Georgia"/>
              </a:rPr>
              <a:t>(*roles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920160" indent="-27396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Distribués à travers le réseau &amp; assignés aux différentes ressourc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20160" indent="-27396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Echangent &amp; exploitent l'information grâce à l'ontologie partagé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63320" indent="-426600">
              <a:lnSpc>
                <a:spcPct val="9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Atouts des agent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20160" indent="-27396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Composants logiciels faiblement couplés (conception, intégration, déploiement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20160" indent="-27396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Echange de messages au niveau sémantique, naturel et adapté à un problème d'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E30F1-4BEF-4DC1-8BB9-B0A3457E06C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Vue d'Ensemble de l'Architecture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304920" y="151920"/>
            <a:ext cx="89661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7720" indent="-439920">
              <a:lnSpc>
                <a:spcPct val="9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Architecture / Configurat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48960" indent="-28260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Georgia"/>
              </a:rPr>
              <a:t>Architecture: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 Types d'agents and leurs relations           </a:t>
            </a:r>
            <a:r>
              <a:rPr b="0" i="1" lang="fr-FR" sz="2800" spc="-1" strike="noStrike">
                <a:solidFill>
                  <a:srgbClr val="cc3300"/>
                </a:solidFill>
                <a:latin typeface="Georgia"/>
              </a:rPr>
              <a:t>Fixée lors de la concep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48960" indent="-28260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Georgia"/>
              </a:rPr>
              <a:t>Configuration: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 Topographie exacte d'un MAS                  </a:t>
            </a:r>
            <a:r>
              <a:rPr b="0" i="1" lang="fr-FR" sz="2800" spc="-1" strike="noStrike">
                <a:solidFill>
                  <a:srgbClr val="cc3300"/>
                </a:solidFill>
                <a:latin typeface="Georgia"/>
              </a:rPr>
              <a:t>Fixée lors du déploie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48960" indent="-28260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Georgia"/>
              </a:rPr>
              <a:t>Une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 architecture fonctionnelle </a:t>
            </a:r>
            <a:r>
              <a:rPr b="0" lang="fr-FR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br>
              <a:rPr sz="2400"/>
            </a:br>
            <a:r>
              <a:rPr b="0" lang="fr-FR" sz="2800" spc="-1" strike="noStrike" u="sng">
                <a:solidFill>
                  <a:srgbClr val="000000"/>
                </a:solidFill>
                <a:uFillTx/>
                <a:latin typeface="Georgia"/>
              </a:rPr>
              <a:t>Plusieurs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 configurations possible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                      </a:t>
            </a:r>
            <a:r>
              <a:rPr b="0" i="1" lang="fr-FR" sz="2800" spc="-1" strike="noStrike">
                <a:solidFill>
                  <a:srgbClr val="cc3300"/>
                </a:solidFill>
                <a:latin typeface="Georgia"/>
              </a:rPr>
              <a:t>S'adapter à l'environne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77720" indent="-439920">
              <a:lnSpc>
                <a:spcPct val="9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Choix de déploiement motivés par la topographie du paysage d'informat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48960" indent="-28260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Structure organisation (organigramme, géographie..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48960" indent="-28260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Réseau Intranet (topographie, sécurité..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48960" indent="-28260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Intéressés (fournisseurs, demandeurs..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F458A-B312-458E-9460-1EA85ECA273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219320" y="152280"/>
            <a:ext cx="7772400" cy="4380120"/>
            <a:chOff x="1219320" y="152280"/>
            <a:chExt cx="7772400" cy="4380120"/>
          </a:xfrm>
        </p:grpSpPr>
        <p:sp>
          <p:nvSpPr>
            <p:cNvPr id="116" name=""/>
            <p:cNvSpPr/>
            <p:nvPr/>
          </p:nvSpPr>
          <p:spPr>
            <a:xfrm>
              <a:off x="1219320" y="152280"/>
              <a:ext cx="7772400" cy="4380120"/>
            </a:xfrm>
            <a:prstGeom prst="rect">
              <a:avLst/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4335480" y="231840"/>
              <a:ext cx="1657080" cy="4181400"/>
              <a:chOff x="4335480" y="231840"/>
              <a:chExt cx="1657080" cy="4181400"/>
            </a:xfrm>
          </p:grpSpPr>
          <p:sp>
            <p:nvSpPr>
              <p:cNvPr id="118" name=""/>
              <p:cNvSpPr/>
              <p:nvPr/>
            </p:nvSpPr>
            <p:spPr>
              <a:xfrm>
                <a:off x="4335480" y="390600"/>
                <a:ext cx="1500120" cy="4022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494240" y="231840"/>
                <a:ext cx="1498320" cy="2397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900" spc="-1" strike="noStrike">
                    <a:solidFill>
                      <a:srgbClr val="000000"/>
                    </a:solidFill>
                    <a:latin typeface="Bookman Old Style"/>
                  </a:rPr>
                  <a:t>Mémoire d'entrepris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025720" y="1585800"/>
              <a:ext cx="6532560" cy="995400"/>
              <a:chOff x="2025720" y="1585800"/>
              <a:chExt cx="6532560" cy="995400"/>
            </a:xfrm>
          </p:grpSpPr>
          <p:sp>
            <p:nvSpPr>
              <p:cNvPr id="121" name=""/>
              <p:cNvSpPr/>
              <p:nvPr/>
            </p:nvSpPr>
            <p:spPr>
              <a:xfrm>
                <a:off x="2025720" y="1671480"/>
                <a:ext cx="6392880" cy="90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839280" y="1585800"/>
                <a:ext cx="1719000" cy="238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10800" bIns="10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fr-FR" sz="900" spc="-1" strike="noStrike">
                    <a:solidFill>
                      <a:srgbClr val="000000"/>
                    </a:solidFill>
                    <a:latin typeface="Courier New"/>
                  </a:rPr>
                  <a:t>Système Multi-Ag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896080" y="1757520"/>
                <a:ext cx="789120" cy="1587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Apprentissa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048040" y="2247840"/>
                <a:ext cx="669960" cy="23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Courier New"/>
                  </a:rPr>
                  <a:t>Agent Utilisateu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441880" y="1808280"/>
                <a:ext cx="828720" cy="176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Apprentissa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" name="agent" descr=""/>
              <p:cNvPicPr/>
              <p:nvPr/>
            </p:nvPicPr>
            <p:blipFill>
              <a:blip r:embed="rId2"/>
              <a:stretch/>
            </p:blipFill>
            <p:spPr>
              <a:xfrm>
                <a:off x="2214720" y="189864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27" name=""/>
              <p:cNvGrpSpPr/>
              <p:nvPr/>
            </p:nvGrpSpPr>
            <p:grpSpPr>
              <a:xfrm>
                <a:off x="5992920" y="1905120"/>
                <a:ext cx="908280" cy="636120"/>
                <a:chOff x="5992920" y="1905120"/>
                <a:chExt cx="908280" cy="6361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992920" y="2265120"/>
                  <a:ext cx="9082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group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d'intérêt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9" name="agent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269040" y="1905120"/>
                  <a:ext cx="311760" cy="31392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</p:grpSp>
          <p:sp>
            <p:nvSpPr>
              <p:cNvPr id="130" name=""/>
              <p:cNvSpPr/>
              <p:nvPr/>
            </p:nvSpPr>
            <p:spPr>
              <a:xfrm>
                <a:off x="4335840" y="1673280"/>
                <a:ext cx="1500120" cy="9079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1" name="agent" descr=""/>
              <p:cNvPicPr/>
              <p:nvPr/>
            </p:nvPicPr>
            <p:blipFill>
              <a:blip r:embed="rId4"/>
              <a:stretch/>
            </p:blipFill>
            <p:spPr>
              <a:xfrm>
                <a:off x="3354480" y="19494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sp>
            <p:nvSpPr>
              <p:cNvPr id="132" name=""/>
              <p:cNvSpPr/>
              <p:nvPr/>
            </p:nvSpPr>
            <p:spPr>
              <a:xfrm>
                <a:off x="3073680" y="2303640"/>
                <a:ext cx="9079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Courier New"/>
                  </a:rPr>
                  <a:t>Agent Ontologie et Modèl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901200" y="2300400"/>
                <a:ext cx="82872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Courier New"/>
                  </a:rPr>
                  <a:t>Agent Utilisateu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374240" y="1860480"/>
                <a:ext cx="828720" cy="1634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700" spc="-1" strike="noStrike">
                    <a:solidFill>
                      <a:srgbClr val="000000"/>
                    </a:solidFill>
                    <a:latin typeface="Times New Roman"/>
                  </a:rPr>
                  <a:t>Apprentissag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5" name="agent" descr=""/>
              <p:cNvPicPr/>
              <p:nvPr/>
            </p:nvPicPr>
            <p:blipFill>
              <a:blip r:embed="rId5"/>
              <a:stretch/>
            </p:blipFill>
            <p:spPr>
              <a:xfrm>
                <a:off x="7147080" y="1951200"/>
                <a:ext cx="311400" cy="31428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36" name=""/>
              <p:cNvGrpSpPr/>
              <p:nvPr/>
            </p:nvGrpSpPr>
            <p:grpSpPr>
              <a:xfrm>
                <a:off x="3862800" y="1717560"/>
                <a:ext cx="907920" cy="635040"/>
                <a:chOff x="3862800" y="1717560"/>
                <a:chExt cx="907920" cy="635040"/>
              </a:xfrm>
            </p:grpSpPr>
            <p:pic>
              <p:nvPicPr>
                <p:cNvPr id="137" name="agent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138920" y="1717560"/>
                  <a:ext cx="31176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138" name=""/>
                <p:cNvSpPr/>
                <p:nvPr/>
              </p:nvSpPr>
              <p:spPr>
                <a:xfrm>
                  <a:off x="3862800" y="2076120"/>
                  <a:ext cx="90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d'inter-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connexion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Schéma général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376280" y="2620800"/>
            <a:ext cx="1101240" cy="1552680"/>
            <a:chOff x="1376280" y="2620800"/>
            <a:chExt cx="1101240" cy="1552680"/>
          </a:xfrm>
        </p:grpSpPr>
        <p:sp>
          <p:nvSpPr>
            <p:cNvPr id="141" name=""/>
            <p:cNvSpPr/>
            <p:nvPr/>
          </p:nvSpPr>
          <p:spPr>
            <a:xfrm>
              <a:off x="1376280" y="3576600"/>
              <a:ext cx="107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Ingénieur 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la connaissa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2047680" y="2620800"/>
              <a:ext cx="429840" cy="1181160"/>
              <a:chOff x="2047680" y="2620800"/>
              <a:chExt cx="429840" cy="118116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2047680" y="2620800"/>
                <a:ext cx="210960" cy="97920"/>
                <a:chOff x="2047680" y="2620800"/>
                <a:chExt cx="210960" cy="979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2047680" y="2694600"/>
                  <a:ext cx="51840" cy="2412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099520" y="2631240"/>
                  <a:ext cx="22680" cy="4032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72240" y="2620800"/>
                  <a:ext cx="19440" cy="4788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212560" y="2658240"/>
                  <a:ext cx="46080" cy="2988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2122200" y="2690640"/>
                <a:ext cx="355320" cy="1111320"/>
                <a:chOff x="2122200" y="2690640"/>
                <a:chExt cx="355320" cy="11113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186280" y="2873520"/>
                  <a:ext cx="178560" cy="19332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14080" y="2690640"/>
                  <a:ext cx="158760" cy="4323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122200" y="3089520"/>
                  <a:ext cx="143280" cy="26028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238840" y="3077640"/>
                  <a:ext cx="134280" cy="3204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199240" y="3338280"/>
                  <a:ext cx="101880" cy="46368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309760" y="3338280"/>
                  <a:ext cx="167760" cy="3909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5" name="ampoule" descr=""/>
              <p:cNvPicPr/>
              <p:nvPr/>
            </p:nvPicPr>
            <p:blipFill>
              <a:blip r:embed="rId7"/>
              <a:stretch/>
            </p:blipFill>
            <p:spPr>
              <a:xfrm>
                <a:off x="2086920" y="2682000"/>
                <a:ext cx="133560" cy="2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6" name=""/>
          <p:cNvGrpSpPr/>
          <p:nvPr/>
        </p:nvGrpSpPr>
        <p:grpSpPr>
          <a:xfrm>
            <a:off x="1298520" y="231840"/>
            <a:ext cx="1774800" cy="1433520"/>
            <a:chOff x="1298520" y="231840"/>
            <a:chExt cx="1774800" cy="1433520"/>
          </a:xfrm>
        </p:grpSpPr>
        <p:sp>
          <p:nvSpPr>
            <p:cNvPr id="157" name=""/>
            <p:cNvSpPr/>
            <p:nvPr/>
          </p:nvSpPr>
          <p:spPr>
            <a:xfrm>
              <a:off x="1298520" y="1306440"/>
              <a:ext cx="1774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Auteur et/o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Annotateur de docu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1850760" y="231840"/>
              <a:ext cx="789120" cy="1231920"/>
              <a:chOff x="1850760" y="231840"/>
              <a:chExt cx="789120" cy="123192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2126160" y="679680"/>
                <a:ext cx="477360" cy="784080"/>
                <a:chOff x="2126160" y="679680"/>
                <a:chExt cx="477360" cy="7840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2335320" y="940320"/>
                  <a:ext cx="111240" cy="276840"/>
                </a:xfrm>
                <a:custGeom>
                  <a:avLst/>
                  <a:gdLst/>
                  <a:ahLst/>
                  <a:rect l="l" t="t" r="r" b="b"/>
                  <a:pathLst>
                    <a:path w="771" h="1535">
                      <a:moveTo>
                        <a:pt x="182" y="123"/>
                      </a:moveTo>
                      <a:lnTo>
                        <a:pt x="265" y="33"/>
                      </a:lnTo>
                      <a:lnTo>
                        <a:pt x="423" y="0"/>
                      </a:lnTo>
                      <a:lnTo>
                        <a:pt x="558" y="33"/>
                      </a:lnTo>
                      <a:lnTo>
                        <a:pt x="633" y="83"/>
                      </a:lnTo>
                      <a:lnTo>
                        <a:pt x="693" y="183"/>
                      </a:lnTo>
                      <a:lnTo>
                        <a:pt x="746" y="361"/>
                      </a:lnTo>
                      <a:lnTo>
                        <a:pt x="771" y="554"/>
                      </a:lnTo>
                      <a:lnTo>
                        <a:pt x="771" y="899"/>
                      </a:lnTo>
                      <a:lnTo>
                        <a:pt x="693" y="1200"/>
                      </a:lnTo>
                      <a:lnTo>
                        <a:pt x="581" y="1370"/>
                      </a:lnTo>
                      <a:lnTo>
                        <a:pt x="468" y="1468"/>
                      </a:lnTo>
                      <a:lnTo>
                        <a:pt x="340" y="1535"/>
                      </a:lnTo>
                      <a:lnTo>
                        <a:pt x="160" y="1528"/>
                      </a:lnTo>
                      <a:lnTo>
                        <a:pt x="17" y="1425"/>
                      </a:lnTo>
                      <a:lnTo>
                        <a:pt x="0" y="1302"/>
                      </a:lnTo>
                      <a:lnTo>
                        <a:pt x="70" y="1119"/>
                      </a:lnTo>
                      <a:lnTo>
                        <a:pt x="130" y="914"/>
                      </a:lnTo>
                      <a:lnTo>
                        <a:pt x="152" y="649"/>
                      </a:lnTo>
                      <a:lnTo>
                        <a:pt x="115" y="423"/>
                      </a:lnTo>
                      <a:lnTo>
                        <a:pt x="115" y="258"/>
                      </a:lnTo>
                      <a:lnTo>
                        <a:pt x="182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378520" y="1186920"/>
                  <a:ext cx="127080" cy="272880"/>
                </a:xfrm>
                <a:custGeom>
                  <a:avLst/>
                  <a:gdLst/>
                  <a:ahLst/>
                  <a:rect l="l" t="t" r="r" b="b"/>
                  <a:pathLst>
                    <a:path w="881" h="1512">
                      <a:moveTo>
                        <a:pt x="293" y="63"/>
                      </a:moveTo>
                      <a:lnTo>
                        <a:pt x="187" y="0"/>
                      </a:lnTo>
                      <a:lnTo>
                        <a:pt x="52" y="0"/>
                      </a:lnTo>
                      <a:lnTo>
                        <a:pt x="0" y="83"/>
                      </a:lnTo>
                      <a:lnTo>
                        <a:pt x="22" y="205"/>
                      </a:lnTo>
                      <a:lnTo>
                        <a:pt x="142" y="325"/>
                      </a:lnTo>
                      <a:lnTo>
                        <a:pt x="390" y="436"/>
                      </a:lnTo>
                      <a:lnTo>
                        <a:pt x="676" y="671"/>
                      </a:lnTo>
                      <a:lnTo>
                        <a:pt x="721" y="774"/>
                      </a:lnTo>
                      <a:lnTo>
                        <a:pt x="698" y="821"/>
                      </a:lnTo>
                      <a:lnTo>
                        <a:pt x="480" y="977"/>
                      </a:lnTo>
                      <a:lnTo>
                        <a:pt x="225" y="1162"/>
                      </a:lnTo>
                      <a:lnTo>
                        <a:pt x="165" y="1242"/>
                      </a:lnTo>
                      <a:lnTo>
                        <a:pt x="165" y="1325"/>
                      </a:lnTo>
                      <a:lnTo>
                        <a:pt x="360" y="1412"/>
                      </a:lnTo>
                      <a:lnTo>
                        <a:pt x="661" y="1512"/>
                      </a:lnTo>
                      <a:lnTo>
                        <a:pt x="766" y="1512"/>
                      </a:lnTo>
                      <a:lnTo>
                        <a:pt x="881" y="1445"/>
                      </a:lnTo>
                      <a:lnTo>
                        <a:pt x="881" y="1392"/>
                      </a:lnTo>
                      <a:lnTo>
                        <a:pt x="796" y="1365"/>
                      </a:lnTo>
                      <a:lnTo>
                        <a:pt x="413" y="1325"/>
                      </a:lnTo>
                      <a:lnTo>
                        <a:pt x="270" y="1290"/>
                      </a:lnTo>
                      <a:lnTo>
                        <a:pt x="255" y="1229"/>
                      </a:lnTo>
                      <a:lnTo>
                        <a:pt x="503" y="1059"/>
                      </a:lnTo>
                      <a:lnTo>
                        <a:pt x="773" y="896"/>
                      </a:lnTo>
                      <a:lnTo>
                        <a:pt x="833" y="836"/>
                      </a:lnTo>
                      <a:lnTo>
                        <a:pt x="856" y="754"/>
                      </a:lnTo>
                      <a:lnTo>
                        <a:pt x="833" y="638"/>
                      </a:lnTo>
                      <a:lnTo>
                        <a:pt x="751" y="551"/>
                      </a:lnTo>
                      <a:lnTo>
                        <a:pt x="480" y="253"/>
                      </a:lnTo>
                      <a:lnTo>
                        <a:pt x="293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210760" y="1173240"/>
                  <a:ext cx="158400" cy="290520"/>
                </a:xfrm>
                <a:custGeom>
                  <a:avLst/>
                  <a:gdLst/>
                  <a:ahLst/>
                  <a:rect l="l" t="t" r="r" b="b"/>
                  <a:pathLst>
                    <a:path w="1097" h="1610">
                      <a:moveTo>
                        <a:pt x="596" y="218"/>
                      </a:moveTo>
                      <a:lnTo>
                        <a:pt x="771" y="80"/>
                      </a:lnTo>
                      <a:lnTo>
                        <a:pt x="937" y="0"/>
                      </a:lnTo>
                      <a:lnTo>
                        <a:pt x="1042" y="12"/>
                      </a:lnTo>
                      <a:lnTo>
                        <a:pt x="1097" y="80"/>
                      </a:lnTo>
                      <a:lnTo>
                        <a:pt x="1097" y="155"/>
                      </a:lnTo>
                      <a:lnTo>
                        <a:pt x="1064" y="238"/>
                      </a:lnTo>
                      <a:lnTo>
                        <a:pt x="952" y="285"/>
                      </a:lnTo>
                      <a:lnTo>
                        <a:pt x="724" y="400"/>
                      </a:lnTo>
                      <a:lnTo>
                        <a:pt x="589" y="543"/>
                      </a:lnTo>
                      <a:lnTo>
                        <a:pt x="499" y="713"/>
                      </a:lnTo>
                      <a:lnTo>
                        <a:pt x="476" y="814"/>
                      </a:lnTo>
                      <a:lnTo>
                        <a:pt x="596" y="936"/>
                      </a:lnTo>
                      <a:lnTo>
                        <a:pt x="724" y="1114"/>
                      </a:lnTo>
                      <a:lnTo>
                        <a:pt x="817" y="1277"/>
                      </a:lnTo>
                      <a:lnTo>
                        <a:pt x="839" y="1380"/>
                      </a:lnTo>
                      <a:lnTo>
                        <a:pt x="839" y="1440"/>
                      </a:lnTo>
                      <a:lnTo>
                        <a:pt x="779" y="1480"/>
                      </a:lnTo>
                      <a:lnTo>
                        <a:pt x="589" y="1487"/>
                      </a:lnTo>
                      <a:lnTo>
                        <a:pt x="301" y="1547"/>
                      </a:lnTo>
                      <a:lnTo>
                        <a:pt x="248" y="1602"/>
                      </a:lnTo>
                      <a:lnTo>
                        <a:pt x="203" y="1610"/>
                      </a:lnTo>
                      <a:lnTo>
                        <a:pt x="0" y="1547"/>
                      </a:lnTo>
                      <a:lnTo>
                        <a:pt x="0" y="1487"/>
                      </a:lnTo>
                      <a:lnTo>
                        <a:pt x="90" y="1440"/>
                      </a:lnTo>
                      <a:lnTo>
                        <a:pt x="453" y="1380"/>
                      </a:lnTo>
                      <a:lnTo>
                        <a:pt x="641" y="1400"/>
                      </a:lnTo>
                      <a:lnTo>
                        <a:pt x="734" y="1400"/>
                      </a:lnTo>
                      <a:lnTo>
                        <a:pt x="756" y="1365"/>
                      </a:lnTo>
                      <a:lnTo>
                        <a:pt x="679" y="1214"/>
                      </a:lnTo>
                      <a:lnTo>
                        <a:pt x="521" y="1019"/>
                      </a:lnTo>
                      <a:lnTo>
                        <a:pt x="408" y="876"/>
                      </a:lnTo>
                      <a:lnTo>
                        <a:pt x="363" y="794"/>
                      </a:lnTo>
                      <a:lnTo>
                        <a:pt x="363" y="671"/>
                      </a:lnTo>
                      <a:lnTo>
                        <a:pt x="438" y="468"/>
                      </a:lnTo>
                      <a:lnTo>
                        <a:pt x="506" y="340"/>
                      </a:lnTo>
                      <a:lnTo>
                        <a:pt x="596" y="2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126160" y="941040"/>
                  <a:ext cx="213840" cy="216720"/>
                </a:xfrm>
                <a:custGeom>
                  <a:avLst/>
                  <a:gdLst/>
                  <a:ahLst/>
                  <a:rect l="l" t="t" r="r" b="b"/>
                  <a:pathLst>
                    <a:path w="1482" h="1202">
                      <a:moveTo>
                        <a:pt x="889" y="1202"/>
                      </a:moveTo>
                      <a:lnTo>
                        <a:pt x="981" y="1192"/>
                      </a:lnTo>
                      <a:lnTo>
                        <a:pt x="1009" y="1124"/>
                      </a:lnTo>
                      <a:lnTo>
                        <a:pt x="1034" y="881"/>
                      </a:lnTo>
                      <a:lnTo>
                        <a:pt x="1172" y="596"/>
                      </a:lnTo>
                      <a:lnTo>
                        <a:pt x="1314" y="465"/>
                      </a:lnTo>
                      <a:lnTo>
                        <a:pt x="1482" y="330"/>
                      </a:lnTo>
                      <a:lnTo>
                        <a:pt x="1467" y="235"/>
                      </a:lnTo>
                      <a:lnTo>
                        <a:pt x="1367" y="185"/>
                      </a:lnTo>
                      <a:lnTo>
                        <a:pt x="1242" y="235"/>
                      </a:lnTo>
                      <a:lnTo>
                        <a:pt x="1104" y="373"/>
                      </a:lnTo>
                      <a:lnTo>
                        <a:pt x="976" y="673"/>
                      </a:lnTo>
                      <a:lnTo>
                        <a:pt x="921" y="906"/>
                      </a:lnTo>
                      <a:lnTo>
                        <a:pt x="884" y="1029"/>
                      </a:lnTo>
                      <a:lnTo>
                        <a:pt x="779" y="984"/>
                      </a:lnTo>
                      <a:lnTo>
                        <a:pt x="661" y="783"/>
                      </a:lnTo>
                      <a:lnTo>
                        <a:pt x="563" y="505"/>
                      </a:lnTo>
                      <a:lnTo>
                        <a:pt x="581" y="380"/>
                      </a:lnTo>
                      <a:lnTo>
                        <a:pt x="636" y="248"/>
                      </a:lnTo>
                      <a:lnTo>
                        <a:pt x="658" y="150"/>
                      </a:lnTo>
                      <a:lnTo>
                        <a:pt x="418" y="145"/>
                      </a:lnTo>
                      <a:lnTo>
                        <a:pt x="178" y="105"/>
                      </a:lnTo>
                      <a:lnTo>
                        <a:pt x="65" y="0"/>
                      </a:lnTo>
                      <a:lnTo>
                        <a:pt x="0" y="50"/>
                      </a:lnTo>
                      <a:lnTo>
                        <a:pt x="88" y="230"/>
                      </a:lnTo>
                      <a:lnTo>
                        <a:pt x="280" y="250"/>
                      </a:lnTo>
                      <a:lnTo>
                        <a:pt x="488" y="270"/>
                      </a:lnTo>
                      <a:lnTo>
                        <a:pt x="493" y="428"/>
                      </a:lnTo>
                      <a:lnTo>
                        <a:pt x="513" y="611"/>
                      </a:lnTo>
                      <a:lnTo>
                        <a:pt x="583" y="816"/>
                      </a:lnTo>
                      <a:lnTo>
                        <a:pt x="671" y="1019"/>
                      </a:lnTo>
                      <a:lnTo>
                        <a:pt x="804" y="1154"/>
                      </a:lnTo>
                      <a:lnTo>
                        <a:pt x="889" y="12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446200" y="679680"/>
                  <a:ext cx="157320" cy="293040"/>
                </a:xfrm>
                <a:custGeom>
                  <a:avLst/>
                  <a:gdLst/>
                  <a:ahLst/>
                  <a:rect l="l" t="t" r="r" b="b"/>
                  <a:pathLst>
                    <a:path w="1091" h="1625">
                      <a:moveTo>
                        <a:pt x="0" y="1610"/>
                      </a:moveTo>
                      <a:lnTo>
                        <a:pt x="0" y="1503"/>
                      </a:lnTo>
                      <a:lnTo>
                        <a:pt x="67" y="1420"/>
                      </a:lnTo>
                      <a:lnTo>
                        <a:pt x="363" y="1325"/>
                      </a:lnTo>
                      <a:lnTo>
                        <a:pt x="728" y="1245"/>
                      </a:lnTo>
                      <a:lnTo>
                        <a:pt x="939" y="1197"/>
                      </a:lnTo>
                      <a:lnTo>
                        <a:pt x="964" y="1155"/>
                      </a:lnTo>
                      <a:lnTo>
                        <a:pt x="864" y="1034"/>
                      </a:lnTo>
                      <a:lnTo>
                        <a:pt x="666" y="857"/>
                      </a:lnTo>
                      <a:lnTo>
                        <a:pt x="463" y="706"/>
                      </a:lnTo>
                      <a:lnTo>
                        <a:pt x="303" y="626"/>
                      </a:lnTo>
                      <a:lnTo>
                        <a:pt x="213" y="544"/>
                      </a:lnTo>
                      <a:lnTo>
                        <a:pt x="205" y="483"/>
                      </a:lnTo>
                      <a:lnTo>
                        <a:pt x="258" y="428"/>
                      </a:lnTo>
                      <a:lnTo>
                        <a:pt x="385" y="401"/>
                      </a:lnTo>
                      <a:lnTo>
                        <a:pt x="546" y="298"/>
                      </a:lnTo>
                      <a:lnTo>
                        <a:pt x="568" y="198"/>
                      </a:lnTo>
                      <a:lnTo>
                        <a:pt x="568" y="55"/>
                      </a:lnTo>
                      <a:lnTo>
                        <a:pt x="553" y="0"/>
                      </a:lnTo>
                      <a:lnTo>
                        <a:pt x="613" y="13"/>
                      </a:lnTo>
                      <a:lnTo>
                        <a:pt x="698" y="135"/>
                      </a:lnTo>
                      <a:lnTo>
                        <a:pt x="728" y="266"/>
                      </a:lnTo>
                      <a:lnTo>
                        <a:pt x="636" y="361"/>
                      </a:lnTo>
                      <a:lnTo>
                        <a:pt x="553" y="388"/>
                      </a:lnTo>
                      <a:lnTo>
                        <a:pt x="393" y="463"/>
                      </a:lnTo>
                      <a:lnTo>
                        <a:pt x="363" y="504"/>
                      </a:lnTo>
                      <a:lnTo>
                        <a:pt x="385" y="544"/>
                      </a:lnTo>
                      <a:lnTo>
                        <a:pt x="531" y="654"/>
                      </a:lnTo>
                      <a:lnTo>
                        <a:pt x="683" y="714"/>
                      </a:lnTo>
                      <a:lnTo>
                        <a:pt x="886" y="869"/>
                      </a:lnTo>
                      <a:lnTo>
                        <a:pt x="1024" y="1054"/>
                      </a:lnTo>
                      <a:lnTo>
                        <a:pt x="1091" y="1197"/>
                      </a:lnTo>
                      <a:lnTo>
                        <a:pt x="1069" y="1245"/>
                      </a:lnTo>
                      <a:lnTo>
                        <a:pt x="1024" y="1277"/>
                      </a:lnTo>
                      <a:lnTo>
                        <a:pt x="849" y="1340"/>
                      </a:lnTo>
                      <a:lnTo>
                        <a:pt x="501" y="1443"/>
                      </a:lnTo>
                      <a:lnTo>
                        <a:pt x="280" y="1530"/>
                      </a:lnTo>
                      <a:lnTo>
                        <a:pt x="138" y="1605"/>
                      </a:lnTo>
                      <a:lnTo>
                        <a:pt x="45" y="1625"/>
                      </a:lnTo>
                      <a:lnTo>
                        <a:pt x="0" y="16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291400" y="723240"/>
                  <a:ext cx="122760" cy="208800"/>
                </a:xfrm>
                <a:custGeom>
                  <a:avLst/>
                  <a:gdLst/>
                  <a:ahLst/>
                  <a:rect l="l" t="t" r="r" b="b"/>
                  <a:pathLst>
                    <a:path w="851" h="1157">
                      <a:moveTo>
                        <a:pt x="173" y="939"/>
                      </a:moveTo>
                      <a:lnTo>
                        <a:pt x="271" y="1042"/>
                      </a:lnTo>
                      <a:lnTo>
                        <a:pt x="431" y="1137"/>
                      </a:lnTo>
                      <a:lnTo>
                        <a:pt x="566" y="1157"/>
                      </a:lnTo>
                      <a:lnTo>
                        <a:pt x="669" y="1137"/>
                      </a:lnTo>
                      <a:lnTo>
                        <a:pt x="791" y="1057"/>
                      </a:lnTo>
                      <a:lnTo>
                        <a:pt x="836" y="892"/>
                      </a:lnTo>
                      <a:lnTo>
                        <a:pt x="851" y="769"/>
                      </a:lnTo>
                      <a:lnTo>
                        <a:pt x="814" y="654"/>
                      </a:lnTo>
                      <a:lnTo>
                        <a:pt x="744" y="511"/>
                      </a:lnTo>
                      <a:lnTo>
                        <a:pt x="679" y="388"/>
                      </a:lnTo>
                      <a:lnTo>
                        <a:pt x="669" y="361"/>
                      </a:lnTo>
                      <a:lnTo>
                        <a:pt x="699" y="218"/>
                      </a:lnTo>
                      <a:lnTo>
                        <a:pt x="791" y="75"/>
                      </a:lnTo>
                      <a:lnTo>
                        <a:pt x="806" y="33"/>
                      </a:lnTo>
                      <a:lnTo>
                        <a:pt x="759" y="0"/>
                      </a:lnTo>
                      <a:lnTo>
                        <a:pt x="699" y="0"/>
                      </a:lnTo>
                      <a:lnTo>
                        <a:pt x="634" y="185"/>
                      </a:lnTo>
                      <a:lnTo>
                        <a:pt x="604" y="306"/>
                      </a:lnTo>
                      <a:lnTo>
                        <a:pt x="521" y="225"/>
                      </a:lnTo>
                      <a:lnTo>
                        <a:pt x="451" y="163"/>
                      </a:lnTo>
                      <a:lnTo>
                        <a:pt x="308" y="115"/>
                      </a:lnTo>
                      <a:lnTo>
                        <a:pt x="203" y="115"/>
                      </a:lnTo>
                      <a:lnTo>
                        <a:pt x="45" y="185"/>
                      </a:lnTo>
                      <a:lnTo>
                        <a:pt x="0" y="381"/>
                      </a:lnTo>
                      <a:lnTo>
                        <a:pt x="38" y="634"/>
                      </a:lnTo>
                      <a:lnTo>
                        <a:pt x="105" y="872"/>
                      </a:lnTo>
                      <a:lnTo>
                        <a:pt x="173" y="9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2136960" y="231840"/>
                <a:ext cx="236520" cy="239040"/>
                <a:chOff x="2136960" y="231840"/>
                <a:chExt cx="236520" cy="2390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136960" y="231840"/>
                  <a:ext cx="236520" cy="2390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8" name="doc_0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163960" y="253440"/>
                  <a:ext cx="197280" cy="199080"/>
                </a:xfrm>
                <a:prstGeom prst="rect">
                  <a:avLst/>
                </a:prstGeom>
                <a:ln w="9360">
                  <a:solidFill>
                    <a:srgbClr val="c0c0c0"/>
                  </a:solidFill>
                  <a:miter/>
                </a:ln>
              </p:spPr>
            </p:pic>
          </p:grpSp>
          <p:grpSp>
            <p:nvGrpSpPr>
              <p:cNvPr id="169" name=""/>
              <p:cNvGrpSpPr/>
              <p:nvPr/>
            </p:nvGrpSpPr>
            <p:grpSpPr>
              <a:xfrm>
                <a:off x="1850760" y="355320"/>
                <a:ext cx="255240" cy="278640"/>
                <a:chOff x="1850760" y="355320"/>
                <a:chExt cx="255240" cy="278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850760" y="355320"/>
                  <a:ext cx="25524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71" name="doc_0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859040" y="374040"/>
                  <a:ext cx="236520" cy="239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2" name=""/>
              <p:cNvGrpSpPr/>
              <p:nvPr/>
            </p:nvGrpSpPr>
            <p:grpSpPr>
              <a:xfrm>
                <a:off x="2008440" y="674280"/>
                <a:ext cx="204120" cy="245160"/>
                <a:chOff x="2008440" y="674280"/>
                <a:chExt cx="204120" cy="245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2008440" y="674280"/>
                  <a:ext cx="204120" cy="2451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74" name="doc_0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28960" y="690840"/>
                  <a:ext cx="16668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5" name=""/>
              <p:cNvGrpSpPr/>
              <p:nvPr/>
            </p:nvGrpSpPr>
            <p:grpSpPr>
              <a:xfrm>
                <a:off x="2403000" y="395280"/>
                <a:ext cx="236880" cy="278640"/>
                <a:chOff x="2403000" y="395280"/>
                <a:chExt cx="236880" cy="278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2403000" y="395280"/>
                  <a:ext cx="236880" cy="278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77" name="doc_05gif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408400" y="428760"/>
                  <a:ext cx="22500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78" name=""/>
          <p:cNvGrpSpPr/>
          <p:nvPr/>
        </p:nvGrpSpPr>
        <p:grpSpPr>
          <a:xfrm>
            <a:off x="7570800" y="3378240"/>
            <a:ext cx="1106280" cy="1193760"/>
            <a:chOff x="7570800" y="3378240"/>
            <a:chExt cx="1106280" cy="1193760"/>
          </a:xfrm>
        </p:grpSpPr>
        <p:sp>
          <p:nvSpPr>
            <p:cNvPr id="179" name=""/>
            <p:cNvSpPr/>
            <p:nvPr/>
          </p:nvSpPr>
          <p:spPr>
            <a:xfrm>
              <a:off x="7570800" y="4324320"/>
              <a:ext cx="1106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Utilisateur fi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7729200" y="3457440"/>
              <a:ext cx="430200" cy="903600"/>
              <a:chOff x="7729200" y="3457440"/>
              <a:chExt cx="430200" cy="903600"/>
            </a:xfrm>
          </p:grpSpPr>
          <p:sp>
            <p:nvSpPr>
              <p:cNvPr id="181" name=""/>
              <p:cNvSpPr/>
              <p:nvPr/>
            </p:nvSpPr>
            <p:spPr>
              <a:xfrm flipH="1">
                <a:off x="7853760" y="3507840"/>
                <a:ext cx="168120" cy="19692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7965000" y="3457440"/>
                <a:ext cx="194040" cy="31644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7875360" y="3719520"/>
                <a:ext cx="100800" cy="29664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7774200" y="3727800"/>
                <a:ext cx="155160" cy="22788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7728840" y="3986280"/>
                <a:ext cx="188280" cy="36864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7908840" y="3985560"/>
                <a:ext cx="126360" cy="37548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8162640" y="3378240"/>
              <a:ext cx="473400" cy="396720"/>
              <a:chOff x="8162640" y="3378240"/>
              <a:chExt cx="473400" cy="396720"/>
            </a:xfrm>
          </p:grpSpPr>
          <p:sp>
            <p:nvSpPr>
              <p:cNvPr id="188" name=""/>
              <p:cNvSpPr/>
              <p:nvPr/>
            </p:nvSpPr>
            <p:spPr>
              <a:xfrm>
                <a:off x="8162640" y="3378240"/>
                <a:ext cx="47340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9" name="inter" descr=""/>
              <p:cNvPicPr/>
              <p:nvPr/>
            </p:nvPicPr>
            <p:blipFill>
              <a:blip r:embed="rId12"/>
              <a:stretch/>
            </p:blipFill>
            <p:spPr>
              <a:xfrm>
                <a:off x="8278920" y="344844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90" name=""/>
          <p:cNvGrpSpPr/>
          <p:nvPr/>
        </p:nvGrpSpPr>
        <p:grpSpPr>
          <a:xfrm>
            <a:off x="2639880" y="642960"/>
            <a:ext cx="1617840" cy="903240"/>
            <a:chOff x="2639880" y="642960"/>
            <a:chExt cx="1617840" cy="903240"/>
          </a:xfrm>
        </p:grpSpPr>
        <p:pic>
          <p:nvPicPr>
            <p:cNvPr id="191" name="" descr=""/>
            <p:cNvPicPr/>
            <p:nvPr/>
          </p:nvPicPr>
          <p:blipFill>
            <a:blip r:embed="rId13"/>
            <a:stretch/>
          </p:blipFill>
          <p:spPr>
            <a:xfrm>
              <a:off x="2639880" y="111924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2" name=""/>
            <p:cNvGrpSpPr/>
            <p:nvPr/>
          </p:nvGrpSpPr>
          <p:grpSpPr>
            <a:xfrm>
              <a:off x="2916000" y="642960"/>
              <a:ext cx="1025640" cy="903240"/>
              <a:chOff x="2916000" y="642960"/>
              <a:chExt cx="1025640" cy="903240"/>
            </a:xfrm>
          </p:grpSpPr>
          <p:sp>
            <p:nvSpPr>
              <p:cNvPr id="193" name=""/>
              <p:cNvSpPr/>
              <p:nvPr/>
            </p:nvSpPr>
            <p:spPr>
              <a:xfrm>
                <a:off x="2916000" y="909000"/>
                <a:ext cx="1025640" cy="637200"/>
              </a:xfrm>
              <a:prstGeom prst="foldedCorner">
                <a:avLst>
                  <a:gd name="adj" fmla="val 10726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916000" y="642960"/>
                <a:ext cx="1025640" cy="23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36000" bIns="360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800" spc="-1" strike="noStrike">
                    <a:solidFill>
                      <a:srgbClr val="000000"/>
                    </a:solidFill>
                    <a:latin typeface="Bookman Old Style"/>
                  </a:rPr>
                  <a:t>Annotation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Bookman Old Style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933640" y="911880"/>
                <a:ext cx="10076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900" spc="-1" strike="noStrike">
                    <a:solidFill>
                      <a:srgbClr val="000000"/>
                    </a:solidFill>
                    <a:latin typeface="Bookman Old Style"/>
                  </a:rPr>
                  <a:t>Docu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6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10200" y="1144440"/>
                <a:ext cx="315360" cy="33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92680" y="673560"/>
                <a:ext cx="263520" cy="198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8" name="" descr=""/>
            <p:cNvPicPr/>
            <p:nvPr/>
          </p:nvPicPr>
          <p:blipFill>
            <a:blip r:embed="rId16"/>
            <a:stretch/>
          </p:blipFill>
          <p:spPr>
            <a:xfrm>
              <a:off x="4020840" y="1108080"/>
              <a:ext cx="23688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"/>
          <p:cNvGrpSpPr/>
          <p:nvPr/>
        </p:nvGrpSpPr>
        <p:grpSpPr>
          <a:xfrm>
            <a:off x="5913360" y="3417840"/>
            <a:ext cx="1697040" cy="995400"/>
            <a:chOff x="5913360" y="3417840"/>
            <a:chExt cx="1697040" cy="995400"/>
          </a:xfrm>
        </p:grpSpPr>
        <p:pic>
          <p:nvPicPr>
            <p:cNvPr id="200" name="" descr=""/>
            <p:cNvPicPr/>
            <p:nvPr/>
          </p:nvPicPr>
          <p:blipFill>
            <a:blip r:embed="rId17"/>
            <a:stretch/>
          </p:blipFill>
          <p:spPr>
            <a:xfrm>
              <a:off x="5913360" y="3895560"/>
              <a:ext cx="2379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8"/>
            <a:stretch/>
          </p:blipFill>
          <p:spPr>
            <a:xfrm>
              <a:off x="7373880" y="3895560"/>
              <a:ext cx="23652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2" name=""/>
            <p:cNvGrpSpPr/>
            <p:nvPr/>
          </p:nvGrpSpPr>
          <p:grpSpPr>
            <a:xfrm>
              <a:off x="6189480" y="3417840"/>
              <a:ext cx="1104840" cy="995400"/>
              <a:chOff x="6189480" y="3417840"/>
              <a:chExt cx="1104840" cy="99540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6189480" y="3417840"/>
                <a:ext cx="1026000" cy="902880"/>
                <a:chOff x="6189480" y="3417840"/>
                <a:chExt cx="1026000" cy="9028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6189480" y="3683880"/>
                  <a:ext cx="1026000" cy="6368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189480" y="34178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207120" y="368640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7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6584040" y="39193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8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6266160" y="3448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9" name=""/>
              <p:cNvGrpSpPr/>
              <p:nvPr/>
            </p:nvGrpSpPr>
            <p:grpSpPr>
              <a:xfrm>
                <a:off x="6228720" y="3457440"/>
                <a:ext cx="1026000" cy="903240"/>
                <a:chOff x="6228720" y="3457440"/>
                <a:chExt cx="1026000" cy="90324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6228720" y="372348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228720" y="345744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246360" y="372636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1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6623280" y="395892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6305400" y="34880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5" name=""/>
              <p:cNvGrpSpPr/>
              <p:nvPr/>
            </p:nvGrpSpPr>
            <p:grpSpPr>
              <a:xfrm>
                <a:off x="6268320" y="3510000"/>
                <a:ext cx="1026000" cy="903240"/>
                <a:chOff x="6268320" y="3510000"/>
                <a:chExt cx="1026000" cy="9032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268320" y="3776040"/>
                  <a:ext cx="102600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268320" y="3510000"/>
                  <a:ext cx="102600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285960" y="3778920"/>
                  <a:ext cx="10080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1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6662880" y="4011480"/>
                  <a:ext cx="31572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6345000" y="354060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221" name=""/>
          <p:cNvGrpSpPr/>
          <p:nvPr/>
        </p:nvGrpSpPr>
        <p:grpSpPr>
          <a:xfrm>
            <a:off x="2679840" y="2739960"/>
            <a:ext cx="2167920" cy="677520"/>
            <a:chOff x="2679840" y="2739960"/>
            <a:chExt cx="2167920" cy="677520"/>
          </a:xfrm>
        </p:grpSpPr>
        <p:pic>
          <p:nvPicPr>
            <p:cNvPr id="222" name="" descr=""/>
            <p:cNvPicPr/>
            <p:nvPr/>
          </p:nvPicPr>
          <p:blipFill>
            <a:blip r:embed="rId25"/>
            <a:stretch/>
          </p:blipFill>
          <p:spPr>
            <a:xfrm>
              <a:off x="2679840" y="3019320"/>
              <a:ext cx="23616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6"/>
            <a:stretch/>
          </p:blipFill>
          <p:spPr>
            <a:xfrm>
              <a:off x="3981240" y="3019320"/>
              <a:ext cx="236160" cy="23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4" name=""/>
            <p:cNvGrpSpPr/>
            <p:nvPr/>
          </p:nvGrpSpPr>
          <p:grpSpPr>
            <a:xfrm>
              <a:off x="2876400" y="2739960"/>
              <a:ext cx="1007640" cy="677520"/>
              <a:chOff x="2876400" y="2739960"/>
              <a:chExt cx="1007640" cy="677520"/>
            </a:xfrm>
          </p:grpSpPr>
          <p:sp>
            <p:nvSpPr>
              <p:cNvPr id="225" name=""/>
              <p:cNvSpPr/>
              <p:nvPr/>
            </p:nvSpPr>
            <p:spPr>
              <a:xfrm>
                <a:off x="3034080" y="2779560"/>
                <a:ext cx="670680" cy="637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6" name="onto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3191760" y="3013200"/>
                <a:ext cx="31536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>
                <a:off x="2876400" y="2739960"/>
                <a:ext cx="1007640" cy="34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900" spc="-1" strike="noStrike">
                    <a:solidFill>
                      <a:srgbClr val="000000"/>
                    </a:solidFill>
                    <a:latin typeface="Bookman Old Style"/>
                  </a:rPr>
                  <a:t>Ontologi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8" name="onto_01" descr=""/>
            <p:cNvPicPr/>
            <p:nvPr/>
          </p:nvPicPr>
          <p:blipFill>
            <a:blip r:embed="rId28"/>
            <a:stretch/>
          </p:blipFill>
          <p:spPr>
            <a:xfrm>
              <a:off x="4533840" y="2979720"/>
              <a:ext cx="313920" cy="31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"/>
          <p:cNvGrpSpPr/>
          <p:nvPr/>
        </p:nvGrpSpPr>
        <p:grpSpPr>
          <a:xfrm>
            <a:off x="2467080" y="3490920"/>
            <a:ext cx="1631880" cy="882360"/>
            <a:chOff x="2467080" y="3490920"/>
            <a:chExt cx="1631880" cy="882360"/>
          </a:xfrm>
        </p:grpSpPr>
        <p:grpSp>
          <p:nvGrpSpPr>
            <p:cNvPr id="230" name=""/>
            <p:cNvGrpSpPr/>
            <p:nvPr/>
          </p:nvGrpSpPr>
          <p:grpSpPr>
            <a:xfrm>
              <a:off x="2467080" y="3774960"/>
              <a:ext cx="1631880" cy="598320"/>
              <a:chOff x="2467080" y="3774960"/>
              <a:chExt cx="1631880" cy="598320"/>
            </a:xfrm>
          </p:grpSpPr>
          <p:sp>
            <p:nvSpPr>
              <p:cNvPr id="231" name=""/>
              <p:cNvSpPr/>
              <p:nvPr/>
            </p:nvSpPr>
            <p:spPr>
              <a:xfrm>
                <a:off x="2545920" y="3814560"/>
                <a:ext cx="1340640" cy="558720"/>
              </a:xfrm>
              <a:prstGeom prst="foldedCorner">
                <a:avLst>
                  <a:gd name="adj" fmla="val 61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2" name="onto_02" descr=""/>
              <p:cNvPicPr/>
              <p:nvPr/>
            </p:nvPicPr>
            <p:blipFill>
              <a:blip r:embed="rId29"/>
              <a:stretch/>
            </p:blipFill>
            <p:spPr>
              <a:xfrm>
                <a:off x="2585160" y="4018680"/>
                <a:ext cx="2757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3" name=""/>
              <p:cNvSpPr/>
              <p:nvPr/>
            </p:nvSpPr>
            <p:spPr>
              <a:xfrm>
                <a:off x="2467080" y="3774960"/>
                <a:ext cx="749160" cy="25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900" spc="-1" strike="noStrike">
                    <a:solidFill>
                      <a:srgbClr val="000000"/>
                    </a:solidFill>
                    <a:latin typeface="Bookman Old Style"/>
                  </a:rPr>
                  <a:t>Modèl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768760" y="3974400"/>
                <a:ext cx="1330200" cy="35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fr-FR" sz="800" spc="-1" strike="noStrike">
                    <a:solidFill>
                      <a:srgbClr val="000000"/>
                    </a:solidFill>
                    <a:latin typeface="Times New Roman"/>
                  </a:rPr>
                  <a:t>- Modèle d'entrepris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fr-FR" sz="800" spc="-1" strike="noStrike">
                    <a:solidFill>
                      <a:srgbClr val="000000"/>
                    </a:solidFill>
                    <a:latin typeface="Times New Roman"/>
                  </a:rPr>
                  <a:t>- Profils d'utilisateu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35" name="" descr=""/>
            <p:cNvPicPr/>
            <p:nvPr/>
          </p:nvPicPr>
          <p:blipFill>
            <a:blip r:embed="rId30"/>
            <a:stretch/>
          </p:blipFill>
          <p:spPr>
            <a:xfrm>
              <a:off x="3270240" y="3490920"/>
              <a:ext cx="236160" cy="23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6" name=""/>
          <p:cNvGrpSpPr/>
          <p:nvPr/>
        </p:nvGrpSpPr>
        <p:grpSpPr>
          <a:xfrm>
            <a:off x="3981600" y="3855960"/>
            <a:ext cx="1065240" cy="357120"/>
            <a:chOff x="3981600" y="3855960"/>
            <a:chExt cx="1065240" cy="357120"/>
          </a:xfrm>
        </p:grpSpPr>
        <p:pic>
          <p:nvPicPr>
            <p:cNvPr id="237" name="" descr=""/>
            <p:cNvPicPr/>
            <p:nvPr/>
          </p:nvPicPr>
          <p:blipFill>
            <a:blip r:embed="rId31"/>
            <a:stretch/>
          </p:blipFill>
          <p:spPr>
            <a:xfrm>
              <a:off x="3981600" y="3935520"/>
              <a:ext cx="2365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onto_02" descr=""/>
            <p:cNvPicPr/>
            <p:nvPr/>
          </p:nvPicPr>
          <p:blipFill>
            <a:blip r:embed="rId32"/>
            <a:stretch/>
          </p:blipFill>
          <p:spPr>
            <a:xfrm>
              <a:off x="4691160" y="3855960"/>
              <a:ext cx="35568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9" name=""/>
          <p:cNvGrpSpPr/>
          <p:nvPr/>
        </p:nvGrpSpPr>
        <p:grpSpPr>
          <a:xfrm>
            <a:off x="7650000" y="2644920"/>
            <a:ext cx="631800" cy="772920"/>
            <a:chOff x="7650000" y="2644920"/>
            <a:chExt cx="631800" cy="772920"/>
          </a:xfrm>
        </p:grpSpPr>
        <p:pic>
          <p:nvPicPr>
            <p:cNvPr id="240" name="" descr=""/>
            <p:cNvPicPr/>
            <p:nvPr/>
          </p:nvPicPr>
          <p:blipFill>
            <a:blip r:embed="rId33"/>
            <a:stretch/>
          </p:blipFill>
          <p:spPr>
            <a:xfrm>
              <a:off x="7846920" y="3178080"/>
              <a:ext cx="236520" cy="239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1" name=""/>
            <p:cNvGrpSpPr/>
            <p:nvPr/>
          </p:nvGrpSpPr>
          <p:grpSpPr>
            <a:xfrm>
              <a:off x="7650000" y="2644920"/>
              <a:ext cx="631800" cy="490320"/>
              <a:chOff x="7650000" y="2644920"/>
              <a:chExt cx="631800" cy="490320"/>
            </a:xfrm>
          </p:grpSpPr>
          <p:sp>
            <p:nvSpPr>
              <p:cNvPr id="242" name=""/>
              <p:cNvSpPr/>
              <p:nvPr/>
            </p:nvSpPr>
            <p:spPr>
              <a:xfrm>
                <a:off x="7689240" y="2697120"/>
                <a:ext cx="552960" cy="4381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650000" y="2644920"/>
                <a:ext cx="6318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900" spc="-1" strike="noStrike">
                    <a:solidFill>
                      <a:srgbClr val="000000"/>
                    </a:solidFill>
                    <a:latin typeface="Bookman Old Style"/>
                  </a:rPr>
                  <a:t>Requête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4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7886880" y="2878200"/>
                <a:ext cx="236880" cy="23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5" name=""/>
          <p:cNvGrpSpPr/>
          <p:nvPr/>
        </p:nvGrpSpPr>
        <p:grpSpPr>
          <a:xfrm>
            <a:off x="4414680" y="573120"/>
            <a:ext cx="1301760" cy="3565440"/>
            <a:chOff x="4414680" y="573120"/>
            <a:chExt cx="1301760" cy="3565440"/>
          </a:xfrm>
        </p:grpSpPr>
        <p:pic>
          <p:nvPicPr>
            <p:cNvPr id="246" name="doc_01" descr=""/>
            <p:cNvPicPr/>
            <p:nvPr/>
          </p:nvPicPr>
          <p:blipFill>
            <a:blip r:embed="rId35"/>
            <a:stretch/>
          </p:blipFill>
          <p:spPr>
            <a:xfrm>
              <a:off x="5322960" y="1187280"/>
              <a:ext cx="214200" cy="2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doc_01" descr=""/>
            <p:cNvPicPr/>
            <p:nvPr/>
          </p:nvPicPr>
          <p:blipFill>
            <a:blip r:embed="rId36"/>
            <a:stretch/>
          </p:blipFill>
          <p:spPr>
            <a:xfrm>
              <a:off x="5283360" y="1108080"/>
              <a:ext cx="21420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memory_01" descr=""/>
            <p:cNvPicPr/>
            <p:nvPr/>
          </p:nvPicPr>
          <p:blipFill>
            <a:blip r:embed="rId37"/>
            <a:stretch/>
          </p:blipFill>
          <p:spPr>
            <a:xfrm>
              <a:off x="4414680" y="573120"/>
              <a:ext cx="3319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doc_03" descr=""/>
            <p:cNvPicPr/>
            <p:nvPr/>
          </p:nvPicPr>
          <p:blipFill>
            <a:blip r:embed="rId38"/>
            <a:stretch/>
          </p:blipFill>
          <p:spPr>
            <a:xfrm>
              <a:off x="4572000" y="3343320"/>
              <a:ext cx="395280" cy="39672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  <p:pic>
          <p:nvPicPr>
            <p:cNvPr id="250" name="doc_04" descr=""/>
            <p:cNvPicPr/>
            <p:nvPr/>
          </p:nvPicPr>
          <p:blipFill>
            <a:blip r:embed="rId39"/>
            <a:stretch/>
          </p:blipFill>
          <p:spPr>
            <a:xfrm>
              <a:off x="4494240" y="1068480"/>
              <a:ext cx="27612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doc_05gif" descr=""/>
            <p:cNvPicPr/>
            <p:nvPr/>
          </p:nvPicPr>
          <p:blipFill>
            <a:blip r:embed="rId40"/>
            <a:stretch/>
          </p:blipFill>
          <p:spPr>
            <a:xfrm>
              <a:off x="5164200" y="3262320"/>
              <a:ext cx="304560" cy="29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41"/>
            <a:stretch/>
          </p:blipFill>
          <p:spPr>
            <a:xfrm>
              <a:off x="5086440" y="2700360"/>
              <a:ext cx="4111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42"/>
            <a:stretch/>
          </p:blipFill>
          <p:spPr>
            <a:xfrm>
              <a:off x="4911840" y="612720"/>
              <a:ext cx="33156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doc_01" descr=""/>
            <p:cNvPicPr/>
            <p:nvPr/>
          </p:nvPicPr>
          <p:blipFill>
            <a:blip r:embed="rId43"/>
            <a:stretch/>
          </p:blipFill>
          <p:spPr>
            <a:xfrm>
              <a:off x="5362560" y="1227240"/>
              <a:ext cx="214200" cy="2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44"/>
            <a:stretch/>
          </p:blipFill>
          <p:spPr>
            <a:xfrm>
              <a:off x="5400720" y="3821040"/>
              <a:ext cx="315720" cy="3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45"/>
            <a:stretch/>
          </p:blipFill>
          <p:spPr>
            <a:xfrm>
              <a:off x="4888080" y="1227240"/>
              <a:ext cx="33336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46"/>
            <a:stretch/>
          </p:blipFill>
          <p:spPr>
            <a:xfrm>
              <a:off x="5400720" y="669960"/>
              <a:ext cx="315720" cy="31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"/>
          <p:cNvSpPr txBox="1"/>
          <p:nvPr/>
        </p:nvSpPr>
        <p:spPr>
          <a:xfrm>
            <a:off x="2560680" y="3497400"/>
            <a:ext cx="23652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1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0640" y="351000"/>
            <a:ext cx="237960" cy="16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2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7413480" y="3616200"/>
            <a:ext cx="236520" cy="1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(3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08080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600280" y="2462040"/>
            <a:ext cx="1971720" cy="1273320"/>
            <a:chOff x="2600280" y="2462040"/>
            <a:chExt cx="1971720" cy="1273320"/>
          </a:xfrm>
        </p:grpSpPr>
        <p:sp>
          <p:nvSpPr>
            <p:cNvPr id="262" name=""/>
            <p:cNvSpPr/>
            <p:nvPr/>
          </p:nvSpPr>
          <p:spPr>
            <a:xfrm>
              <a:off x="3902040" y="2462040"/>
              <a:ext cx="66996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600280" y="2462040"/>
              <a:ext cx="512640" cy="47808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44720" y="2541600"/>
              <a:ext cx="117720" cy="119376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165400" y="1467000"/>
            <a:ext cx="947160" cy="396720"/>
            <a:chOff x="2165400" y="1467000"/>
            <a:chExt cx="947160" cy="396720"/>
          </a:xfrm>
        </p:grpSpPr>
        <p:sp>
          <p:nvSpPr>
            <p:cNvPr id="266" name=""/>
            <p:cNvSpPr/>
            <p:nvPr/>
          </p:nvSpPr>
          <p:spPr>
            <a:xfrm>
              <a:off x="2165400" y="1571760"/>
              <a:ext cx="118800" cy="25236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480760" y="1467000"/>
              <a:ext cx="631800" cy="396720"/>
            </a:xfrm>
            <a:prstGeom prst="line">
              <a:avLst/>
            </a:prstGeom>
            <a:ln w="19080">
              <a:solidFill>
                <a:srgbClr val="00808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715000" y="914040"/>
            <a:ext cx="2247840" cy="2503800"/>
            <a:chOff x="5715000" y="914040"/>
            <a:chExt cx="2247840" cy="2503800"/>
          </a:xfrm>
        </p:grpSpPr>
        <p:sp>
          <p:nvSpPr>
            <p:cNvPr id="269" name=""/>
            <p:cNvSpPr/>
            <p:nvPr/>
          </p:nvSpPr>
          <p:spPr>
            <a:xfrm flipH="1" flipV="1">
              <a:off x="5715000" y="914040"/>
              <a:ext cx="13716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31200" y="2222640"/>
              <a:ext cx="431640" cy="447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6821280" y="2541600"/>
              <a:ext cx="355320" cy="79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13480" y="2541600"/>
              <a:ext cx="316080" cy="87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519880" y="2422440"/>
            <a:ext cx="2129760" cy="1035000"/>
            <a:chOff x="5519880" y="2422440"/>
            <a:chExt cx="2129760" cy="1035000"/>
          </a:xfrm>
        </p:grpSpPr>
        <p:sp>
          <p:nvSpPr>
            <p:cNvPr id="274" name=""/>
            <p:cNvSpPr/>
            <p:nvPr/>
          </p:nvSpPr>
          <p:spPr>
            <a:xfrm flipH="1">
              <a:off x="5519880" y="2422440"/>
              <a:ext cx="552240" cy="39708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348240" y="2482560"/>
              <a:ext cx="0" cy="89532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703920" y="2541600"/>
              <a:ext cx="945720" cy="915840"/>
            </a:xfrm>
            <a:prstGeom prst="line">
              <a:avLst/>
            </a:prstGeom>
            <a:ln w="19080">
              <a:solidFill>
                <a:srgbClr val="808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990720" y="4648320"/>
            <a:ext cx="8153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82760" indent="-444600">
              <a:lnSpc>
                <a:spcPct val="10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Collaboration </a:t>
            </a: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 Capitalisation Glob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44600">
              <a:lnSpc>
                <a:spcPct val="9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Autonomie &amp; Individualité </a:t>
            </a: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Georgia"/>
              </a:rPr>
              <a:t>                                 Adaptation Loca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1B771-3714-4192-93C3-DF35A51A74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Architecture niveau macroscopique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304920" y="152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44600">
              <a:lnSpc>
                <a:spcPct val="9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Niveau macroscopiqu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Georgia"/>
              </a:rPr>
              <a:t>Problème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: Ingénierie des interactions &amp; organisation du MAS pour satisfaire le le cahier des charg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Analyse descendante des tâch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Premier niveau: 4 sous-société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132" name=""/>
          <p:cNvGrpSpPr/>
          <p:nvPr/>
        </p:nvGrpSpPr>
        <p:grpSpPr>
          <a:xfrm>
            <a:off x="1600200" y="3422520"/>
            <a:ext cx="3060720" cy="725400"/>
            <a:chOff x="1600200" y="3422520"/>
            <a:chExt cx="3060720" cy="725400"/>
          </a:xfrm>
        </p:grpSpPr>
        <p:sp>
          <p:nvSpPr>
            <p:cNvPr id="2133" name=""/>
            <p:cNvSpPr/>
            <p:nvPr/>
          </p:nvSpPr>
          <p:spPr>
            <a:xfrm>
              <a:off x="1600200" y="3422520"/>
              <a:ext cx="306072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4" name=""/>
            <p:cNvGrpSpPr/>
            <p:nvPr/>
          </p:nvGrpSpPr>
          <p:grpSpPr>
            <a:xfrm>
              <a:off x="1684440" y="3548880"/>
              <a:ext cx="429480" cy="475200"/>
              <a:chOff x="1684440" y="3548880"/>
              <a:chExt cx="429480" cy="475200"/>
            </a:xfrm>
          </p:grpSpPr>
          <p:grpSp>
            <p:nvGrpSpPr>
              <p:cNvPr id="2135" name=""/>
              <p:cNvGrpSpPr/>
              <p:nvPr/>
            </p:nvGrpSpPr>
            <p:grpSpPr>
              <a:xfrm>
                <a:off x="1830600" y="3548880"/>
                <a:ext cx="283320" cy="389880"/>
                <a:chOff x="1830600" y="3548880"/>
                <a:chExt cx="283320" cy="389880"/>
              </a:xfrm>
            </p:grpSpPr>
            <p:sp>
              <p:nvSpPr>
                <p:cNvPr id="2136" name=""/>
                <p:cNvSpPr/>
                <p:nvPr/>
              </p:nvSpPr>
              <p:spPr>
                <a:xfrm>
                  <a:off x="1830600" y="3744000"/>
                  <a:ext cx="2833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 flipV="1">
                  <a:off x="1830600" y="3548520"/>
                  <a:ext cx="2833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8" name=""/>
              <p:cNvGrpSpPr/>
              <p:nvPr/>
            </p:nvGrpSpPr>
            <p:grpSpPr>
              <a:xfrm>
                <a:off x="1778760" y="3577320"/>
                <a:ext cx="283320" cy="389880"/>
                <a:chOff x="1778760" y="3577320"/>
                <a:chExt cx="283320" cy="389880"/>
              </a:xfrm>
            </p:grpSpPr>
            <p:sp>
              <p:nvSpPr>
                <p:cNvPr id="2139" name=""/>
                <p:cNvSpPr/>
                <p:nvPr/>
              </p:nvSpPr>
              <p:spPr>
                <a:xfrm>
                  <a:off x="1778760" y="3772440"/>
                  <a:ext cx="2833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 flipV="1">
                  <a:off x="1778760" y="3576960"/>
                  <a:ext cx="2833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1" name=""/>
              <p:cNvGrpSpPr/>
              <p:nvPr/>
            </p:nvGrpSpPr>
            <p:grpSpPr>
              <a:xfrm>
                <a:off x="1735920" y="3605400"/>
                <a:ext cx="283320" cy="389880"/>
                <a:chOff x="1735920" y="3605400"/>
                <a:chExt cx="283320" cy="389880"/>
              </a:xfrm>
            </p:grpSpPr>
            <p:sp>
              <p:nvSpPr>
                <p:cNvPr id="2142" name=""/>
                <p:cNvSpPr/>
                <p:nvPr/>
              </p:nvSpPr>
              <p:spPr>
                <a:xfrm>
                  <a:off x="1735920" y="3800520"/>
                  <a:ext cx="2833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 flipV="1">
                  <a:off x="1735920" y="3605040"/>
                  <a:ext cx="2833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4" name=""/>
              <p:cNvGrpSpPr/>
              <p:nvPr/>
            </p:nvGrpSpPr>
            <p:grpSpPr>
              <a:xfrm>
                <a:off x="1684440" y="3634200"/>
                <a:ext cx="283320" cy="389880"/>
                <a:chOff x="1684440" y="3634200"/>
                <a:chExt cx="283320" cy="389880"/>
              </a:xfrm>
            </p:grpSpPr>
            <p:sp>
              <p:nvSpPr>
                <p:cNvPr id="2145" name=""/>
                <p:cNvSpPr/>
                <p:nvPr/>
              </p:nvSpPr>
              <p:spPr>
                <a:xfrm>
                  <a:off x="1684440" y="3829320"/>
                  <a:ext cx="2833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 flipV="1">
                  <a:off x="1684440" y="3633840"/>
                  <a:ext cx="2833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47" name=""/>
            <p:cNvSpPr/>
            <p:nvPr/>
          </p:nvSpPr>
          <p:spPr>
            <a:xfrm>
              <a:off x="2168640" y="3439800"/>
              <a:ext cx="24919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Sous-société dédi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à l'ontolog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8" name=""/>
          <p:cNvGrpSpPr/>
          <p:nvPr/>
        </p:nvGrpSpPr>
        <p:grpSpPr>
          <a:xfrm>
            <a:off x="3492360" y="5589720"/>
            <a:ext cx="3060720" cy="734400"/>
            <a:chOff x="3492360" y="5589720"/>
            <a:chExt cx="3060720" cy="734400"/>
          </a:xfrm>
        </p:grpSpPr>
        <p:sp>
          <p:nvSpPr>
            <p:cNvPr id="2149" name=""/>
            <p:cNvSpPr/>
            <p:nvPr/>
          </p:nvSpPr>
          <p:spPr>
            <a:xfrm>
              <a:off x="3492360" y="5589720"/>
              <a:ext cx="306072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0" name=""/>
            <p:cNvGrpSpPr/>
            <p:nvPr/>
          </p:nvGrpSpPr>
          <p:grpSpPr>
            <a:xfrm>
              <a:off x="3701520" y="5727600"/>
              <a:ext cx="392760" cy="472320"/>
              <a:chOff x="3701520" y="5727600"/>
              <a:chExt cx="392760" cy="472320"/>
            </a:xfrm>
          </p:grpSpPr>
          <p:grpSp>
            <p:nvGrpSpPr>
              <p:cNvPr id="2151" name=""/>
              <p:cNvGrpSpPr/>
              <p:nvPr/>
            </p:nvGrpSpPr>
            <p:grpSpPr>
              <a:xfrm>
                <a:off x="3835080" y="5727600"/>
                <a:ext cx="259200" cy="387360"/>
                <a:chOff x="3835080" y="5727600"/>
                <a:chExt cx="259200" cy="387360"/>
              </a:xfrm>
            </p:grpSpPr>
            <p:sp>
              <p:nvSpPr>
                <p:cNvPr id="2152" name=""/>
                <p:cNvSpPr/>
                <p:nvPr/>
              </p:nvSpPr>
              <p:spPr>
                <a:xfrm>
                  <a:off x="3835080" y="5921280"/>
                  <a:ext cx="259200" cy="19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 flipV="1">
                  <a:off x="3835080" y="5727600"/>
                  <a:ext cx="259200" cy="19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4" name=""/>
              <p:cNvGrpSpPr/>
              <p:nvPr/>
            </p:nvGrpSpPr>
            <p:grpSpPr>
              <a:xfrm>
                <a:off x="3787920" y="5756040"/>
                <a:ext cx="259200" cy="387360"/>
                <a:chOff x="3787920" y="5756040"/>
                <a:chExt cx="259200" cy="387360"/>
              </a:xfrm>
            </p:grpSpPr>
            <p:sp>
              <p:nvSpPr>
                <p:cNvPr id="2155" name=""/>
                <p:cNvSpPr/>
                <p:nvPr/>
              </p:nvSpPr>
              <p:spPr>
                <a:xfrm>
                  <a:off x="3787920" y="5949720"/>
                  <a:ext cx="259200" cy="19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 flipV="1">
                  <a:off x="3787920" y="5756040"/>
                  <a:ext cx="259200" cy="19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7" name=""/>
              <p:cNvGrpSpPr/>
              <p:nvPr/>
            </p:nvGrpSpPr>
            <p:grpSpPr>
              <a:xfrm>
                <a:off x="3748680" y="5784120"/>
                <a:ext cx="259200" cy="387360"/>
                <a:chOff x="3748680" y="5784120"/>
                <a:chExt cx="259200" cy="387360"/>
              </a:xfrm>
            </p:grpSpPr>
            <p:sp>
              <p:nvSpPr>
                <p:cNvPr id="2158" name=""/>
                <p:cNvSpPr/>
                <p:nvPr/>
              </p:nvSpPr>
              <p:spPr>
                <a:xfrm>
                  <a:off x="3748680" y="5977800"/>
                  <a:ext cx="259200" cy="19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 flipV="1">
                  <a:off x="3748680" y="5784120"/>
                  <a:ext cx="259200" cy="19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0" name=""/>
              <p:cNvGrpSpPr/>
              <p:nvPr/>
            </p:nvGrpSpPr>
            <p:grpSpPr>
              <a:xfrm>
                <a:off x="3701520" y="5812560"/>
                <a:ext cx="259200" cy="387360"/>
                <a:chOff x="3701520" y="5812560"/>
                <a:chExt cx="259200" cy="387360"/>
              </a:xfrm>
            </p:grpSpPr>
            <p:sp>
              <p:nvSpPr>
                <p:cNvPr id="2161" name=""/>
                <p:cNvSpPr/>
                <p:nvPr/>
              </p:nvSpPr>
              <p:spPr>
                <a:xfrm>
                  <a:off x="3701520" y="6006240"/>
                  <a:ext cx="259200" cy="19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 flipV="1">
                  <a:off x="3701520" y="5812560"/>
                  <a:ext cx="259200" cy="19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63" name=""/>
            <p:cNvSpPr/>
            <p:nvPr/>
          </p:nvSpPr>
          <p:spPr>
            <a:xfrm>
              <a:off x="4203360" y="5619600"/>
              <a:ext cx="23126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Sous-société dédi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aux utilisat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4" name=""/>
          <p:cNvGrpSpPr/>
          <p:nvPr/>
        </p:nvGrpSpPr>
        <p:grpSpPr>
          <a:xfrm>
            <a:off x="5319720" y="3422520"/>
            <a:ext cx="3062160" cy="725400"/>
            <a:chOff x="5319720" y="3422520"/>
            <a:chExt cx="3062160" cy="725400"/>
          </a:xfrm>
        </p:grpSpPr>
        <p:sp>
          <p:nvSpPr>
            <p:cNvPr id="2165" name=""/>
            <p:cNvSpPr/>
            <p:nvPr/>
          </p:nvSpPr>
          <p:spPr>
            <a:xfrm>
              <a:off x="5319720" y="3422520"/>
              <a:ext cx="306216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6" name=""/>
            <p:cNvGrpSpPr/>
            <p:nvPr/>
          </p:nvGrpSpPr>
          <p:grpSpPr>
            <a:xfrm>
              <a:off x="5530680" y="3536280"/>
              <a:ext cx="396720" cy="475200"/>
              <a:chOff x="5530680" y="3536280"/>
              <a:chExt cx="396720" cy="475200"/>
            </a:xfrm>
          </p:grpSpPr>
          <p:grpSp>
            <p:nvGrpSpPr>
              <p:cNvPr id="2167" name=""/>
              <p:cNvGrpSpPr/>
              <p:nvPr/>
            </p:nvGrpSpPr>
            <p:grpSpPr>
              <a:xfrm>
                <a:off x="5665680" y="3536280"/>
                <a:ext cx="261720" cy="389880"/>
                <a:chOff x="5665680" y="3536280"/>
                <a:chExt cx="261720" cy="389880"/>
              </a:xfrm>
            </p:grpSpPr>
            <p:sp>
              <p:nvSpPr>
                <p:cNvPr id="2168" name=""/>
                <p:cNvSpPr/>
                <p:nvPr/>
              </p:nvSpPr>
              <p:spPr>
                <a:xfrm>
                  <a:off x="5665680" y="3731400"/>
                  <a:ext cx="2617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 flipV="1">
                  <a:off x="5665680" y="3535920"/>
                  <a:ext cx="2617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0" name=""/>
              <p:cNvGrpSpPr/>
              <p:nvPr/>
            </p:nvGrpSpPr>
            <p:grpSpPr>
              <a:xfrm>
                <a:off x="5617800" y="3564720"/>
                <a:ext cx="261720" cy="389880"/>
                <a:chOff x="5617800" y="3564720"/>
                <a:chExt cx="261720" cy="389880"/>
              </a:xfrm>
            </p:grpSpPr>
            <p:sp>
              <p:nvSpPr>
                <p:cNvPr id="2171" name=""/>
                <p:cNvSpPr/>
                <p:nvPr/>
              </p:nvSpPr>
              <p:spPr>
                <a:xfrm>
                  <a:off x="5617800" y="3759840"/>
                  <a:ext cx="2617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 flipV="1">
                  <a:off x="5617800" y="3564360"/>
                  <a:ext cx="2617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3" name=""/>
              <p:cNvGrpSpPr/>
              <p:nvPr/>
            </p:nvGrpSpPr>
            <p:grpSpPr>
              <a:xfrm>
                <a:off x="5578200" y="3592800"/>
                <a:ext cx="261720" cy="389880"/>
                <a:chOff x="5578200" y="3592800"/>
                <a:chExt cx="261720" cy="389880"/>
              </a:xfrm>
            </p:grpSpPr>
            <p:sp>
              <p:nvSpPr>
                <p:cNvPr id="2174" name=""/>
                <p:cNvSpPr/>
                <p:nvPr/>
              </p:nvSpPr>
              <p:spPr>
                <a:xfrm>
                  <a:off x="5578200" y="3787920"/>
                  <a:ext cx="2617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 flipV="1">
                  <a:off x="5578200" y="3592440"/>
                  <a:ext cx="2617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6" name=""/>
              <p:cNvGrpSpPr/>
              <p:nvPr/>
            </p:nvGrpSpPr>
            <p:grpSpPr>
              <a:xfrm>
                <a:off x="5530680" y="3621600"/>
                <a:ext cx="261720" cy="389880"/>
                <a:chOff x="5530680" y="3621600"/>
                <a:chExt cx="261720" cy="389880"/>
              </a:xfrm>
            </p:grpSpPr>
            <p:sp>
              <p:nvSpPr>
                <p:cNvPr id="2177" name=""/>
                <p:cNvSpPr/>
                <p:nvPr/>
              </p:nvSpPr>
              <p:spPr>
                <a:xfrm>
                  <a:off x="5530680" y="3816720"/>
                  <a:ext cx="2617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 flipV="1">
                  <a:off x="5530680" y="3621240"/>
                  <a:ext cx="261720" cy="194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79" name=""/>
            <p:cNvSpPr/>
            <p:nvPr/>
          </p:nvSpPr>
          <p:spPr>
            <a:xfrm>
              <a:off x="5778360" y="3435120"/>
              <a:ext cx="25927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Sous-société dédi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aux 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0" name=""/>
          <p:cNvGrpSpPr/>
          <p:nvPr/>
        </p:nvGrpSpPr>
        <p:grpSpPr>
          <a:xfrm>
            <a:off x="4437000" y="2946240"/>
            <a:ext cx="1099800" cy="990720"/>
            <a:chOff x="4437000" y="2946240"/>
            <a:chExt cx="1099800" cy="990720"/>
          </a:xfrm>
        </p:grpSpPr>
        <p:grpSp>
          <p:nvGrpSpPr>
            <p:cNvPr id="2181" name=""/>
            <p:cNvGrpSpPr/>
            <p:nvPr/>
          </p:nvGrpSpPr>
          <p:grpSpPr>
            <a:xfrm>
              <a:off x="4437000" y="3174840"/>
              <a:ext cx="1099800" cy="762120"/>
              <a:chOff x="4437000" y="3174840"/>
              <a:chExt cx="1099800" cy="762120"/>
            </a:xfrm>
          </p:grpSpPr>
          <p:sp>
            <p:nvSpPr>
              <p:cNvPr id="2182" name=""/>
              <p:cNvSpPr/>
              <p:nvPr/>
            </p:nvSpPr>
            <p:spPr>
              <a:xfrm flipH="1">
                <a:off x="4437000" y="3174840"/>
                <a:ext cx="562320" cy="76212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4999320" y="3174840"/>
                <a:ext cx="537480" cy="76212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4" name=""/>
            <p:cNvGrpSpPr/>
            <p:nvPr/>
          </p:nvGrpSpPr>
          <p:grpSpPr>
            <a:xfrm>
              <a:off x="4656960" y="2946240"/>
              <a:ext cx="583200" cy="612720"/>
              <a:chOff x="4656960" y="2946240"/>
              <a:chExt cx="583200" cy="612720"/>
            </a:xfrm>
          </p:grpSpPr>
          <p:sp>
            <p:nvSpPr>
              <p:cNvPr id="2185" name=""/>
              <p:cNvSpPr/>
              <p:nvPr/>
            </p:nvSpPr>
            <p:spPr>
              <a:xfrm>
                <a:off x="4947120" y="2946240"/>
                <a:ext cx="293040" cy="457200"/>
              </a:xfrm>
              <a:prstGeom prst="can">
                <a:avLst>
                  <a:gd name="adj" fmla="val 25000"/>
                </a:avLst>
              </a:prstGeom>
              <a:solidFill>
                <a:srgbClr val="cc33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6" name=""/>
              <p:cNvGrpSpPr/>
              <p:nvPr/>
            </p:nvGrpSpPr>
            <p:grpSpPr>
              <a:xfrm>
                <a:off x="4656960" y="3035160"/>
                <a:ext cx="513000" cy="523800"/>
                <a:chOff x="4656960" y="3035160"/>
                <a:chExt cx="513000" cy="523800"/>
              </a:xfrm>
            </p:grpSpPr>
            <p:grpSp>
              <p:nvGrpSpPr>
                <p:cNvPr id="2187" name=""/>
                <p:cNvGrpSpPr/>
                <p:nvPr/>
              </p:nvGrpSpPr>
              <p:grpSpPr>
                <a:xfrm>
                  <a:off x="4950000" y="3314880"/>
                  <a:ext cx="219960" cy="244080"/>
                  <a:chOff x="4950000" y="3314880"/>
                  <a:chExt cx="219960" cy="244080"/>
                </a:xfrm>
              </p:grpSpPr>
              <p:sp>
                <p:nvSpPr>
                  <p:cNvPr id="2188" name=""/>
                  <p:cNvSpPr/>
                  <p:nvPr/>
                </p:nvSpPr>
                <p:spPr>
                  <a:xfrm>
                    <a:off x="4950000" y="3314880"/>
                    <a:ext cx="219960" cy="244080"/>
                  </a:xfrm>
                  <a:custGeom>
                    <a:avLst/>
                    <a:gdLst>
                      <a:gd name="textAreaLeft" fmla="*/ 58320 w 219960"/>
                      <a:gd name="textAreaRight" fmla="*/ 161640 w 219960"/>
                      <a:gd name="textAreaTop" fmla="*/ 64800 h 244080"/>
                      <a:gd name="textAreaBottom" fmla="*/ 179280 h 2440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3791" y="12162"/>
                        </a:lnTo>
                        <a:lnTo>
                          <a:pt x="786" y="14846"/>
                        </a:lnTo>
                        <a:lnTo>
                          <a:pt x="4812" y="14689"/>
                        </a:lnTo>
                        <a:lnTo>
                          <a:pt x="3163" y="18437"/>
                        </a:lnTo>
                        <a:lnTo>
                          <a:pt x="6807" y="16719"/>
                        </a:lnTo>
                        <a:lnTo>
                          <a:pt x="6580" y="20741"/>
                        </a:lnTo>
                        <a:lnTo>
                          <a:pt x="9316" y="17784"/>
                        </a:lnTo>
                        <a:lnTo>
                          <a:pt x="10800" y="21600"/>
                        </a:lnTo>
                        <a:lnTo>
                          <a:pt x="12162" y="17809"/>
                        </a:lnTo>
                        <a:lnTo>
                          <a:pt x="14846" y="20814"/>
                        </a:lnTo>
                        <a:lnTo>
                          <a:pt x="14689" y="16788"/>
                        </a:lnTo>
                        <a:lnTo>
                          <a:pt x="18437" y="18437"/>
                        </a:lnTo>
                        <a:lnTo>
                          <a:pt x="16719" y="14793"/>
                        </a:lnTo>
                        <a:lnTo>
                          <a:pt x="20741" y="15020"/>
                        </a:lnTo>
                        <a:lnTo>
                          <a:pt x="17784" y="12284"/>
                        </a:lnTo>
                        <a:lnTo>
                          <a:pt x="21600" y="10800"/>
                        </a:lnTo>
                        <a:lnTo>
                          <a:pt x="17809" y="9438"/>
                        </a:lnTo>
                        <a:lnTo>
                          <a:pt x="20814" y="6754"/>
                        </a:lnTo>
                        <a:lnTo>
                          <a:pt x="16788" y="6911"/>
                        </a:lnTo>
                        <a:lnTo>
                          <a:pt x="18437" y="3163"/>
                        </a:lnTo>
                        <a:lnTo>
                          <a:pt x="14793" y="4881"/>
                        </a:lnTo>
                        <a:lnTo>
                          <a:pt x="15020" y="859"/>
                        </a:lnTo>
                        <a:lnTo>
                          <a:pt x="12284" y="3816"/>
                        </a:lnTo>
                        <a:lnTo>
                          <a:pt x="10800" y="0"/>
                        </a:lnTo>
                        <a:lnTo>
                          <a:pt x="9438" y="3791"/>
                        </a:lnTo>
                        <a:lnTo>
                          <a:pt x="6754" y="786"/>
                        </a:lnTo>
                        <a:lnTo>
                          <a:pt x="6911" y="4812"/>
                        </a:lnTo>
                        <a:lnTo>
                          <a:pt x="3163" y="3163"/>
                        </a:lnTo>
                        <a:lnTo>
                          <a:pt x="4881" y="6807"/>
                        </a:lnTo>
                        <a:lnTo>
                          <a:pt x="859" y="6580"/>
                        </a:lnTo>
                        <a:lnTo>
                          <a:pt x="3816" y="9316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9" name=""/>
                  <p:cNvSpPr/>
                  <p:nvPr/>
                </p:nvSpPr>
                <p:spPr>
                  <a:xfrm>
                    <a:off x="5037840" y="3413880"/>
                    <a:ext cx="43920" cy="45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90" name=""/>
                <p:cNvGrpSpPr/>
                <p:nvPr/>
              </p:nvGrpSpPr>
              <p:grpSpPr>
                <a:xfrm>
                  <a:off x="4656960" y="3035160"/>
                  <a:ext cx="383400" cy="411840"/>
                  <a:chOff x="4656960" y="3035160"/>
                  <a:chExt cx="383400" cy="411840"/>
                </a:xfrm>
              </p:grpSpPr>
              <p:sp>
                <p:nvSpPr>
                  <p:cNvPr id="2191" name=""/>
                  <p:cNvSpPr/>
                  <p:nvPr/>
                </p:nvSpPr>
                <p:spPr>
                  <a:xfrm>
                    <a:off x="4656960" y="3035160"/>
                    <a:ext cx="383400" cy="411840"/>
                  </a:xfrm>
                  <a:custGeom>
                    <a:avLst/>
                    <a:gdLst>
                      <a:gd name="textAreaLeft" fmla="*/ 87480 w 383400"/>
                      <a:gd name="textAreaRight" fmla="*/ 295920 w 383400"/>
                      <a:gd name="textAreaTop" fmla="*/ 93960 h 411840"/>
                      <a:gd name="textAreaBottom" fmla="*/ 317880 h 411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10800"/>
                        </a:moveTo>
                        <a:lnTo>
                          <a:pt x="2562" y="11812"/>
                        </a:lnTo>
                        <a:lnTo>
                          <a:pt x="368" y="13595"/>
                        </a:lnTo>
                        <a:lnTo>
                          <a:pt x="3104" y="13909"/>
                        </a:lnTo>
                        <a:lnTo>
                          <a:pt x="1447" y="16200"/>
                        </a:lnTo>
                        <a:lnTo>
                          <a:pt x="4171" y="15795"/>
                        </a:lnTo>
                        <a:lnTo>
                          <a:pt x="3163" y="18437"/>
                        </a:lnTo>
                        <a:lnTo>
                          <a:pt x="5690" y="17340"/>
                        </a:lnTo>
                        <a:lnTo>
                          <a:pt x="5400" y="20153"/>
                        </a:lnTo>
                        <a:lnTo>
                          <a:pt x="7557" y="18440"/>
                        </a:lnTo>
                        <a:lnTo>
                          <a:pt x="8005" y="21232"/>
                        </a:lnTo>
                        <a:lnTo>
                          <a:pt x="9645" y="19019"/>
                        </a:lnTo>
                        <a:lnTo>
                          <a:pt x="10800" y="21600"/>
                        </a:lnTo>
                        <a:lnTo>
                          <a:pt x="11812" y="19038"/>
                        </a:lnTo>
                        <a:lnTo>
                          <a:pt x="13595" y="21232"/>
                        </a:lnTo>
                        <a:lnTo>
                          <a:pt x="13909" y="18496"/>
                        </a:lnTo>
                        <a:lnTo>
                          <a:pt x="16200" y="20153"/>
                        </a:lnTo>
                        <a:lnTo>
                          <a:pt x="15795" y="17429"/>
                        </a:lnTo>
                        <a:lnTo>
                          <a:pt x="18437" y="18437"/>
                        </a:lnTo>
                        <a:lnTo>
                          <a:pt x="17340" y="15910"/>
                        </a:lnTo>
                        <a:lnTo>
                          <a:pt x="20153" y="16200"/>
                        </a:lnTo>
                        <a:lnTo>
                          <a:pt x="18440" y="14043"/>
                        </a:lnTo>
                        <a:lnTo>
                          <a:pt x="21232" y="13595"/>
                        </a:lnTo>
                        <a:lnTo>
                          <a:pt x="19019" y="11955"/>
                        </a:lnTo>
                        <a:lnTo>
                          <a:pt x="21600" y="10800"/>
                        </a:lnTo>
                        <a:lnTo>
                          <a:pt x="19038" y="9788"/>
                        </a:lnTo>
                        <a:lnTo>
                          <a:pt x="21232" y="8005"/>
                        </a:lnTo>
                        <a:lnTo>
                          <a:pt x="18496" y="7691"/>
                        </a:lnTo>
                        <a:lnTo>
                          <a:pt x="20153" y="5400"/>
                        </a:lnTo>
                        <a:lnTo>
                          <a:pt x="17429" y="5805"/>
                        </a:lnTo>
                        <a:lnTo>
                          <a:pt x="18437" y="3163"/>
                        </a:lnTo>
                        <a:lnTo>
                          <a:pt x="15910" y="4260"/>
                        </a:lnTo>
                        <a:lnTo>
                          <a:pt x="16200" y="1447"/>
                        </a:lnTo>
                        <a:lnTo>
                          <a:pt x="14043" y="3160"/>
                        </a:lnTo>
                        <a:lnTo>
                          <a:pt x="13595" y="368"/>
                        </a:lnTo>
                        <a:lnTo>
                          <a:pt x="11955" y="2581"/>
                        </a:lnTo>
                        <a:lnTo>
                          <a:pt x="10800" y="0"/>
                        </a:lnTo>
                        <a:lnTo>
                          <a:pt x="9788" y="2562"/>
                        </a:lnTo>
                        <a:lnTo>
                          <a:pt x="8005" y="368"/>
                        </a:lnTo>
                        <a:lnTo>
                          <a:pt x="7691" y="3104"/>
                        </a:lnTo>
                        <a:lnTo>
                          <a:pt x="5400" y="1447"/>
                        </a:lnTo>
                        <a:lnTo>
                          <a:pt x="5805" y="4171"/>
                        </a:lnTo>
                        <a:lnTo>
                          <a:pt x="3163" y="3163"/>
                        </a:lnTo>
                        <a:lnTo>
                          <a:pt x="4260" y="5690"/>
                        </a:lnTo>
                        <a:lnTo>
                          <a:pt x="1447" y="5400"/>
                        </a:lnTo>
                        <a:lnTo>
                          <a:pt x="3160" y="7557"/>
                        </a:lnTo>
                        <a:lnTo>
                          <a:pt x="368" y="8005"/>
                        </a:lnTo>
                        <a:lnTo>
                          <a:pt x="2581" y="9645"/>
                        </a:lnTo>
                        <a:lnTo>
                          <a:pt x="0" y="10800"/>
                        </a:lnTo>
                        <a:close/>
                      </a:path>
                    </a:pathLst>
                  </a:custGeom>
                  <a:solidFill>
                    <a:srgbClr val="003366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2" name=""/>
                  <p:cNvSpPr/>
                  <p:nvPr/>
                </p:nvSpPr>
                <p:spPr>
                  <a:xfrm>
                    <a:off x="4819320" y="3210480"/>
                    <a:ext cx="58320" cy="60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" bIns="-3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193" name=""/>
          <p:cNvGrpSpPr/>
          <p:nvPr/>
        </p:nvGrpSpPr>
        <p:grpSpPr>
          <a:xfrm>
            <a:off x="3492360" y="4000680"/>
            <a:ext cx="3344760" cy="1660320"/>
            <a:chOff x="3492360" y="4000680"/>
            <a:chExt cx="3344760" cy="1660320"/>
          </a:xfrm>
        </p:grpSpPr>
        <p:sp>
          <p:nvSpPr>
            <p:cNvPr id="2194" name=""/>
            <p:cNvSpPr/>
            <p:nvPr/>
          </p:nvSpPr>
          <p:spPr>
            <a:xfrm>
              <a:off x="3492360" y="4503960"/>
              <a:ext cx="306072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5" name=""/>
            <p:cNvGrpSpPr/>
            <p:nvPr/>
          </p:nvGrpSpPr>
          <p:grpSpPr>
            <a:xfrm>
              <a:off x="3689280" y="4640040"/>
              <a:ext cx="405000" cy="473400"/>
              <a:chOff x="3689280" y="4640040"/>
              <a:chExt cx="405000" cy="473400"/>
            </a:xfrm>
          </p:grpSpPr>
          <p:grpSp>
            <p:nvGrpSpPr>
              <p:cNvPr id="2196" name=""/>
              <p:cNvGrpSpPr/>
              <p:nvPr/>
            </p:nvGrpSpPr>
            <p:grpSpPr>
              <a:xfrm>
                <a:off x="3827160" y="4640040"/>
                <a:ext cx="267120" cy="388440"/>
                <a:chOff x="3827160" y="4640040"/>
                <a:chExt cx="267120" cy="388440"/>
              </a:xfrm>
            </p:grpSpPr>
            <p:sp>
              <p:nvSpPr>
                <p:cNvPr id="2197" name=""/>
                <p:cNvSpPr/>
                <p:nvPr/>
              </p:nvSpPr>
              <p:spPr>
                <a:xfrm>
                  <a:off x="3827160" y="4834440"/>
                  <a:ext cx="26712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 flipV="1">
                  <a:off x="3827160" y="4639680"/>
                  <a:ext cx="26712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9" name=""/>
              <p:cNvGrpSpPr/>
              <p:nvPr/>
            </p:nvGrpSpPr>
            <p:grpSpPr>
              <a:xfrm>
                <a:off x="3778200" y="4668480"/>
                <a:ext cx="267120" cy="388440"/>
                <a:chOff x="3778200" y="4668480"/>
                <a:chExt cx="267120" cy="388440"/>
              </a:xfrm>
            </p:grpSpPr>
            <p:sp>
              <p:nvSpPr>
                <p:cNvPr id="2200" name=""/>
                <p:cNvSpPr/>
                <p:nvPr/>
              </p:nvSpPr>
              <p:spPr>
                <a:xfrm>
                  <a:off x="3778200" y="4862880"/>
                  <a:ext cx="26712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 flipV="1">
                  <a:off x="3778200" y="4668120"/>
                  <a:ext cx="26712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2" name=""/>
              <p:cNvGrpSpPr/>
              <p:nvPr/>
            </p:nvGrpSpPr>
            <p:grpSpPr>
              <a:xfrm>
                <a:off x="3737880" y="4696560"/>
                <a:ext cx="267120" cy="388440"/>
                <a:chOff x="3737880" y="4696560"/>
                <a:chExt cx="267120" cy="388440"/>
              </a:xfrm>
            </p:grpSpPr>
            <p:sp>
              <p:nvSpPr>
                <p:cNvPr id="2203" name=""/>
                <p:cNvSpPr/>
                <p:nvPr/>
              </p:nvSpPr>
              <p:spPr>
                <a:xfrm>
                  <a:off x="3737880" y="4890960"/>
                  <a:ext cx="26712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 flipV="1">
                  <a:off x="3737880" y="4696200"/>
                  <a:ext cx="26712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5" name=""/>
              <p:cNvGrpSpPr/>
              <p:nvPr/>
            </p:nvGrpSpPr>
            <p:grpSpPr>
              <a:xfrm>
                <a:off x="3689280" y="4725000"/>
                <a:ext cx="267120" cy="388440"/>
                <a:chOff x="3689280" y="4725000"/>
                <a:chExt cx="267120" cy="388440"/>
              </a:xfrm>
            </p:grpSpPr>
            <p:sp>
              <p:nvSpPr>
                <p:cNvPr id="2206" name=""/>
                <p:cNvSpPr/>
                <p:nvPr/>
              </p:nvSpPr>
              <p:spPr>
                <a:xfrm>
                  <a:off x="3689280" y="4919400"/>
                  <a:ext cx="26712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 flipV="1">
                  <a:off x="3689280" y="4724640"/>
                  <a:ext cx="26712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08" name=""/>
            <p:cNvSpPr/>
            <p:nvPr/>
          </p:nvSpPr>
          <p:spPr>
            <a:xfrm>
              <a:off x="4132800" y="4533840"/>
              <a:ext cx="270432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Sous société d'inter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connex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776400" y="4000680"/>
              <a:ext cx="711000" cy="614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546880" y="5100840"/>
              <a:ext cx="0" cy="560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 flipH="1">
              <a:off x="5912280" y="4000680"/>
              <a:ext cx="712080" cy="6141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2" name=""/>
          <p:cNvGrpSpPr/>
          <p:nvPr/>
        </p:nvGrpSpPr>
        <p:grpSpPr>
          <a:xfrm>
            <a:off x="2425680" y="4673520"/>
            <a:ext cx="1307880" cy="1104840"/>
            <a:chOff x="2425680" y="4673520"/>
            <a:chExt cx="1307880" cy="1104840"/>
          </a:xfrm>
        </p:grpSpPr>
        <p:sp>
          <p:nvSpPr>
            <p:cNvPr id="2213" name=""/>
            <p:cNvSpPr/>
            <p:nvPr/>
          </p:nvSpPr>
          <p:spPr>
            <a:xfrm>
              <a:off x="2971800" y="5244840"/>
              <a:ext cx="761760" cy="53352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425680" y="4673520"/>
              <a:ext cx="685800" cy="642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cc3300"/>
                  </a:solidFill>
                  <a:latin typeface="Webdings"/>
                  <a:ea typeface="Webdings"/>
                </a:rPr>
                <a:t>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FCDEE-BE51-4D90-A7FD-04E52BF3D047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Organisation des sous-sociétés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1141200" y="2227320"/>
            <a:ext cx="3841920" cy="1620720"/>
            <a:chOff x="1141200" y="2227320"/>
            <a:chExt cx="3841920" cy="1620720"/>
          </a:xfrm>
        </p:grpSpPr>
        <p:grpSp>
          <p:nvGrpSpPr>
            <p:cNvPr id="2217" name=""/>
            <p:cNvGrpSpPr/>
            <p:nvPr/>
          </p:nvGrpSpPr>
          <p:grpSpPr>
            <a:xfrm>
              <a:off x="1401840" y="2227320"/>
              <a:ext cx="3581280" cy="1620720"/>
              <a:chOff x="1401840" y="2227320"/>
              <a:chExt cx="3581280" cy="1620720"/>
            </a:xfrm>
          </p:grpSpPr>
          <p:sp>
            <p:nvSpPr>
              <p:cNvPr id="2218" name=""/>
              <p:cNvSpPr/>
              <p:nvPr/>
            </p:nvSpPr>
            <p:spPr>
              <a:xfrm>
                <a:off x="1401840" y="2705040"/>
                <a:ext cx="358128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9" name=""/>
              <p:cNvGrpSpPr/>
              <p:nvPr/>
            </p:nvGrpSpPr>
            <p:grpSpPr>
              <a:xfrm>
                <a:off x="3103560" y="3301920"/>
                <a:ext cx="228600" cy="388800"/>
                <a:chOff x="3103560" y="3301920"/>
                <a:chExt cx="228600" cy="388800"/>
              </a:xfrm>
            </p:grpSpPr>
            <p:sp>
              <p:nvSpPr>
                <p:cNvPr id="2220" name=""/>
                <p:cNvSpPr/>
                <p:nvPr/>
              </p:nvSpPr>
              <p:spPr>
                <a:xfrm>
                  <a:off x="3103560" y="349632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 flipV="1">
                  <a:off x="3103560" y="330192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2" name=""/>
              <p:cNvGrpSpPr/>
              <p:nvPr/>
            </p:nvGrpSpPr>
            <p:grpSpPr>
              <a:xfrm>
                <a:off x="3535560" y="2798640"/>
                <a:ext cx="228600" cy="388800"/>
                <a:chOff x="3535560" y="2798640"/>
                <a:chExt cx="228600" cy="388800"/>
              </a:xfrm>
            </p:grpSpPr>
            <p:sp>
              <p:nvSpPr>
                <p:cNvPr id="2223" name=""/>
                <p:cNvSpPr/>
                <p:nvPr/>
              </p:nvSpPr>
              <p:spPr>
                <a:xfrm>
                  <a:off x="3535560" y="299304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 flipV="1">
                  <a:off x="3535560" y="279864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5" name=""/>
              <p:cNvGrpSpPr/>
              <p:nvPr/>
            </p:nvGrpSpPr>
            <p:grpSpPr>
              <a:xfrm>
                <a:off x="4068720" y="3390840"/>
                <a:ext cx="228600" cy="388800"/>
                <a:chOff x="4068720" y="3390840"/>
                <a:chExt cx="228600" cy="388800"/>
              </a:xfrm>
            </p:grpSpPr>
            <p:sp>
              <p:nvSpPr>
                <p:cNvPr id="2226" name=""/>
                <p:cNvSpPr/>
                <p:nvPr/>
              </p:nvSpPr>
              <p:spPr>
                <a:xfrm>
                  <a:off x="4068720" y="358524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 flipV="1">
                  <a:off x="4068720" y="339084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8" name=""/>
              <p:cNvGrpSpPr/>
              <p:nvPr/>
            </p:nvGrpSpPr>
            <p:grpSpPr>
              <a:xfrm>
                <a:off x="4525920" y="3408480"/>
                <a:ext cx="228600" cy="388800"/>
                <a:chOff x="4525920" y="3408480"/>
                <a:chExt cx="228600" cy="388800"/>
              </a:xfrm>
            </p:grpSpPr>
            <p:sp>
              <p:nvSpPr>
                <p:cNvPr id="2229" name=""/>
                <p:cNvSpPr/>
                <p:nvPr/>
              </p:nvSpPr>
              <p:spPr>
                <a:xfrm>
                  <a:off x="4525920" y="360288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 flipV="1">
                  <a:off x="4525920" y="340848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1" name=""/>
              <p:cNvSpPr/>
              <p:nvPr/>
            </p:nvSpPr>
            <p:spPr>
              <a:xfrm>
                <a:off x="1478160" y="2798640"/>
                <a:ext cx="1447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Assign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Ressource Coopérati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 flipV="1">
                <a:off x="3382920" y="3225600"/>
                <a:ext cx="228600" cy="1522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 flipH="1" flipV="1">
                <a:off x="3687840" y="3225960"/>
                <a:ext cx="380880" cy="30456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34" name=""/>
              <p:cNvGrpSpPr/>
              <p:nvPr/>
            </p:nvGrpSpPr>
            <p:grpSpPr>
              <a:xfrm>
                <a:off x="4297320" y="2874960"/>
                <a:ext cx="228600" cy="388800"/>
                <a:chOff x="4297320" y="2874960"/>
                <a:chExt cx="228600" cy="388800"/>
              </a:xfrm>
            </p:grpSpPr>
            <p:sp>
              <p:nvSpPr>
                <p:cNvPr id="2235" name=""/>
                <p:cNvSpPr/>
                <p:nvPr/>
              </p:nvSpPr>
              <p:spPr>
                <a:xfrm>
                  <a:off x="4297320" y="306936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 flipV="1">
                  <a:off x="4297320" y="287496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37" name=""/>
              <p:cNvSpPr/>
              <p:nvPr/>
            </p:nvSpPr>
            <p:spPr>
              <a:xfrm flipH="1" flipV="1">
                <a:off x="3763800" y="3027240"/>
                <a:ext cx="533160" cy="763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38" name=""/>
              <p:cNvGrpSpPr/>
              <p:nvPr/>
            </p:nvGrpSpPr>
            <p:grpSpPr>
              <a:xfrm>
                <a:off x="3535560" y="3408480"/>
                <a:ext cx="228600" cy="388800"/>
                <a:chOff x="3535560" y="3408480"/>
                <a:chExt cx="228600" cy="388800"/>
              </a:xfrm>
            </p:grpSpPr>
            <p:sp>
              <p:nvSpPr>
                <p:cNvPr id="2239" name=""/>
                <p:cNvSpPr/>
                <p:nvPr/>
              </p:nvSpPr>
              <p:spPr>
                <a:xfrm>
                  <a:off x="3535560" y="360288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 flipV="1">
                  <a:off x="3535560" y="340848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1" name=""/>
              <p:cNvGrpSpPr/>
              <p:nvPr/>
            </p:nvGrpSpPr>
            <p:grpSpPr>
              <a:xfrm>
                <a:off x="3167280" y="2765520"/>
                <a:ext cx="228600" cy="388800"/>
                <a:chOff x="3167280" y="2765520"/>
                <a:chExt cx="228600" cy="388800"/>
              </a:xfrm>
            </p:grpSpPr>
            <p:sp>
              <p:nvSpPr>
                <p:cNvPr id="2242" name=""/>
                <p:cNvSpPr/>
                <p:nvPr/>
              </p:nvSpPr>
              <p:spPr>
                <a:xfrm>
                  <a:off x="3167280" y="295992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 flipV="1">
                  <a:off x="3167280" y="276552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4" name=""/>
              <p:cNvGrpSpPr/>
              <p:nvPr/>
            </p:nvGrpSpPr>
            <p:grpSpPr>
              <a:xfrm>
                <a:off x="3459240" y="2227320"/>
                <a:ext cx="380880" cy="545760"/>
                <a:chOff x="3459240" y="2227320"/>
                <a:chExt cx="380880" cy="545760"/>
              </a:xfrm>
            </p:grpSpPr>
            <p:sp>
              <p:nvSpPr>
                <p:cNvPr id="2245" name=""/>
                <p:cNvSpPr/>
                <p:nvPr/>
              </p:nvSpPr>
              <p:spPr>
                <a:xfrm flipV="1">
                  <a:off x="3459240" y="2244600"/>
                  <a:ext cx="203040" cy="528480"/>
                </a:xfrm>
                <a:prstGeom prst="upArrow">
                  <a:avLst>
                    <a:gd name="adj1" fmla="val 50000"/>
                    <a:gd name="adj2" fmla="val 65071"/>
                  </a:avLst>
                </a:prstGeom>
                <a:solidFill>
                  <a:srgbClr val="0033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3637080" y="2227320"/>
                  <a:ext cx="203040" cy="528840"/>
                </a:xfrm>
                <a:prstGeom prst="upArrow">
                  <a:avLst>
                    <a:gd name="adj1" fmla="val 50000"/>
                    <a:gd name="adj2" fmla="val 65115"/>
                  </a:avLst>
                </a:prstGeom>
                <a:solidFill>
                  <a:srgbClr val="0033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47" name=""/>
            <p:cNvSpPr/>
            <p:nvPr/>
          </p:nvSpPr>
          <p:spPr>
            <a:xfrm>
              <a:off x="1141200" y="2247840"/>
              <a:ext cx="136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cc3300"/>
                  </a:solidFill>
                  <a:latin typeface="Times New Roman"/>
                </a:rPr>
                <a:t>Egalita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1142280" y="152280"/>
            <a:ext cx="3840840" cy="1657080"/>
            <a:chOff x="1142280" y="152280"/>
            <a:chExt cx="3840840" cy="1657080"/>
          </a:xfrm>
        </p:grpSpPr>
        <p:grpSp>
          <p:nvGrpSpPr>
            <p:cNvPr id="2249" name=""/>
            <p:cNvGrpSpPr/>
            <p:nvPr/>
          </p:nvGrpSpPr>
          <p:grpSpPr>
            <a:xfrm>
              <a:off x="1401840" y="152280"/>
              <a:ext cx="3581280" cy="1657080"/>
              <a:chOff x="1401840" y="152280"/>
              <a:chExt cx="3581280" cy="1657080"/>
            </a:xfrm>
          </p:grpSpPr>
          <p:sp>
            <p:nvSpPr>
              <p:cNvPr id="2250" name=""/>
              <p:cNvSpPr/>
              <p:nvPr/>
            </p:nvSpPr>
            <p:spPr>
              <a:xfrm>
                <a:off x="1401840" y="647640"/>
                <a:ext cx="358128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1" name=""/>
              <p:cNvGrpSpPr/>
              <p:nvPr/>
            </p:nvGrpSpPr>
            <p:grpSpPr>
              <a:xfrm>
                <a:off x="4221360" y="736560"/>
                <a:ext cx="228600" cy="388800"/>
                <a:chOff x="4221360" y="736560"/>
                <a:chExt cx="228600" cy="388800"/>
              </a:xfrm>
            </p:grpSpPr>
            <p:sp>
              <p:nvSpPr>
                <p:cNvPr id="2252" name=""/>
                <p:cNvSpPr/>
                <p:nvPr/>
              </p:nvSpPr>
              <p:spPr>
                <a:xfrm>
                  <a:off x="4221360" y="93096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3366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 flipV="1">
                  <a:off x="4221360" y="73656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3366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4" name=""/>
              <p:cNvGrpSpPr/>
              <p:nvPr/>
            </p:nvGrpSpPr>
            <p:grpSpPr>
              <a:xfrm>
                <a:off x="3078360" y="1333440"/>
                <a:ext cx="228600" cy="388800"/>
                <a:chOff x="3078360" y="1333440"/>
                <a:chExt cx="228600" cy="388800"/>
              </a:xfrm>
            </p:grpSpPr>
            <p:sp>
              <p:nvSpPr>
                <p:cNvPr id="2255" name=""/>
                <p:cNvSpPr/>
                <p:nvPr/>
              </p:nvSpPr>
              <p:spPr>
                <a:xfrm>
                  <a:off x="3078360" y="152784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 flipV="1">
                  <a:off x="3078360" y="133344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7" name=""/>
              <p:cNvGrpSpPr/>
              <p:nvPr/>
            </p:nvGrpSpPr>
            <p:grpSpPr>
              <a:xfrm>
                <a:off x="3535560" y="736560"/>
                <a:ext cx="228600" cy="388800"/>
                <a:chOff x="3535560" y="736560"/>
                <a:chExt cx="228600" cy="388800"/>
              </a:xfrm>
            </p:grpSpPr>
            <p:sp>
              <p:nvSpPr>
                <p:cNvPr id="2258" name=""/>
                <p:cNvSpPr/>
                <p:nvPr/>
              </p:nvSpPr>
              <p:spPr>
                <a:xfrm>
                  <a:off x="3535560" y="93096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3366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 flipV="1">
                  <a:off x="3535560" y="73656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3366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0" name=""/>
              <p:cNvGrpSpPr/>
              <p:nvPr/>
            </p:nvGrpSpPr>
            <p:grpSpPr>
              <a:xfrm>
                <a:off x="3535560" y="1333440"/>
                <a:ext cx="228600" cy="388800"/>
                <a:chOff x="3535560" y="1333440"/>
                <a:chExt cx="228600" cy="388800"/>
              </a:xfrm>
            </p:grpSpPr>
            <p:sp>
              <p:nvSpPr>
                <p:cNvPr id="2261" name=""/>
                <p:cNvSpPr/>
                <p:nvPr/>
              </p:nvSpPr>
              <p:spPr>
                <a:xfrm>
                  <a:off x="3535560" y="152784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 flipV="1">
                  <a:off x="3535560" y="133344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3" name=""/>
              <p:cNvGrpSpPr/>
              <p:nvPr/>
            </p:nvGrpSpPr>
            <p:grpSpPr>
              <a:xfrm>
                <a:off x="4068720" y="1333440"/>
                <a:ext cx="228600" cy="388800"/>
                <a:chOff x="4068720" y="1333440"/>
                <a:chExt cx="228600" cy="388800"/>
              </a:xfrm>
            </p:grpSpPr>
            <p:sp>
              <p:nvSpPr>
                <p:cNvPr id="2264" name=""/>
                <p:cNvSpPr/>
                <p:nvPr/>
              </p:nvSpPr>
              <p:spPr>
                <a:xfrm>
                  <a:off x="4068720" y="152784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 flipV="1">
                  <a:off x="4068720" y="133344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6" name=""/>
              <p:cNvGrpSpPr/>
              <p:nvPr/>
            </p:nvGrpSpPr>
            <p:grpSpPr>
              <a:xfrm>
                <a:off x="4525920" y="1333440"/>
                <a:ext cx="228600" cy="388800"/>
                <a:chOff x="4525920" y="1333440"/>
                <a:chExt cx="228600" cy="388800"/>
              </a:xfrm>
            </p:grpSpPr>
            <p:sp>
              <p:nvSpPr>
                <p:cNvPr id="2267" name=""/>
                <p:cNvSpPr/>
                <p:nvPr/>
              </p:nvSpPr>
              <p:spPr>
                <a:xfrm>
                  <a:off x="4525920" y="152784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 flipV="1">
                  <a:off x="4525920" y="133344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9" name=""/>
              <p:cNvSpPr/>
              <p:nvPr/>
            </p:nvSpPr>
            <p:spPr>
              <a:xfrm>
                <a:off x="1401840" y="1206360"/>
                <a:ext cx="35812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463040" y="698400"/>
                <a:ext cx="15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Représenta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1477800" y="1166760"/>
                <a:ext cx="1227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Assign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Ressour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V="1">
                <a:off x="3382920" y="1167840"/>
                <a:ext cx="228600" cy="15228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flipH="1" flipV="1">
                <a:off x="3687840" y="1167840"/>
                <a:ext cx="380880" cy="30492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4" name=""/>
              <p:cNvGrpSpPr/>
              <p:nvPr/>
            </p:nvGrpSpPr>
            <p:grpSpPr>
              <a:xfrm>
                <a:off x="3459240" y="152280"/>
                <a:ext cx="380880" cy="545760"/>
                <a:chOff x="3459240" y="152280"/>
                <a:chExt cx="380880" cy="545760"/>
              </a:xfrm>
            </p:grpSpPr>
            <p:sp>
              <p:nvSpPr>
                <p:cNvPr id="2275" name=""/>
                <p:cNvSpPr/>
                <p:nvPr/>
              </p:nvSpPr>
              <p:spPr>
                <a:xfrm flipV="1">
                  <a:off x="3459240" y="169200"/>
                  <a:ext cx="203040" cy="528480"/>
                </a:xfrm>
                <a:prstGeom prst="upArrow">
                  <a:avLst>
                    <a:gd name="adj1" fmla="val 50000"/>
                    <a:gd name="adj2" fmla="val 65071"/>
                  </a:avLst>
                </a:prstGeom>
                <a:solidFill>
                  <a:srgbClr val="0033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3637080" y="152280"/>
                  <a:ext cx="203040" cy="528840"/>
                </a:xfrm>
                <a:prstGeom prst="upArrow">
                  <a:avLst>
                    <a:gd name="adj1" fmla="val 50000"/>
                    <a:gd name="adj2" fmla="val 65115"/>
                  </a:avLst>
                </a:prstGeom>
                <a:solidFill>
                  <a:srgbClr val="0033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77" name=""/>
            <p:cNvSpPr/>
            <p:nvPr/>
          </p:nvSpPr>
          <p:spPr>
            <a:xfrm>
              <a:off x="1142280" y="19044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cc3300"/>
                  </a:solidFill>
                  <a:latin typeface="Times New Roman"/>
                </a:rPr>
                <a:t>Hiérarch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8" name=""/>
          <p:cNvGrpSpPr/>
          <p:nvPr/>
        </p:nvGrpSpPr>
        <p:grpSpPr>
          <a:xfrm>
            <a:off x="1141560" y="4267080"/>
            <a:ext cx="3841560" cy="1638360"/>
            <a:chOff x="1141560" y="4267080"/>
            <a:chExt cx="3841560" cy="1638360"/>
          </a:xfrm>
        </p:grpSpPr>
        <p:grpSp>
          <p:nvGrpSpPr>
            <p:cNvPr id="2279" name=""/>
            <p:cNvGrpSpPr/>
            <p:nvPr/>
          </p:nvGrpSpPr>
          <p:grpSpPr>
            <a:xfrm>
              <a:off x="1401840" y="4267080"/>
              <a:ext cx="3581280" cy="1638360"/>
              <a:chOff x="1401840" y="4267080"/>
              <a:chExt cx="3581280" cy="1638360"/>
            </a:xfrm>
          </p:grpSpPr>
          <p:sp>
            <p:nvSpPr>
              <p:cNvPr id="2280" name=""/>
              <p:cNvSpPr/>
              <p:nvPr/>
            </p:nvSpPr>
            <p:spPr>
              <a:xfrm>
                <a:off x="1401840" y="4762440"/>
                <a:ext cx="358128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81" name=""/>
              <p:cNvGrpSpPr/>
              <p:nvPr/>
            </p:nvGrpSpPr>
            <p:grpSpPr>
              <a:xfrm>
                <a:off x="3078360" y="5143320"/>
                <a:ext cx="228600" cy="388800"/>
                <a:chOff x="3078360" y="5143320"/>
                <a:chExt cx="228600" cy="388800"/>
              </a:xfrm>
            </p:grpSpPr>
            <p:sp>
              <p:nvSpPr>
                <p:cNvPr id="2282" name=""/>
                <p:cNvSpPr/>
                <p:nvPr/>
              </p:nvSpPr>
              <p:spPr>
                <a:xfrm>
                  <a:off x="3078360" y="533772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 flipV="1">
                  <a:off x="3078360" y="514332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4" name=""/>
              <p:cNvGrpSpPr/>
              <p:nvPr/>
            </p:nvGrpSpPr>
            <p:grpSpPr>
              <a:xfrm>
                <a:off x="3916440" y="4838400"/>
                <a:ext cx="228600" cy="388800"/>
                <a:chOff x="3916440" y="4838400"/>
                <a:chExt cx="228600" cy="388800"/>
              </a:xfrm>
            </p:grpSpPr>
            <p:sp>
              <p:nvSpPr>
                <p:cNvPr id="2285" name=""/>
                <p:cNvSpPr/>
                <p:nvPr/>
              </p:nvSpPr>
              <p:spPr>
                <a:xfrm>
                  <a:off x="3916440" y="503280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 flipV="1">
                  <a:off x="3916440" y="483840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7" name=""/>
              <p:cNvGrpSpPr/>
              <p:nvPr/>
            </p:nvGrpSpPr>
            <p:grpSpPr>
              <a:xfrm>
                <a:off x="3840120" y="5371920"/>
                <a:ext cx="228600" cy="388800"/>
                <a:chOff x="3840120" y="5371920"/>
                <a:chExt cx="228600" cy="388800"/>
              </a:xfrm>
            </p:grpSpPr>
            <p:sp>
              <p:nvSpPr>
                <p:cNvPr id="2288" name=""/>
                <p:cNvSpPr/>
                <p:nvPr/>
              </p:nvSpPr>
              <p:spPr>
                <a:xfrm>
                  <a:off x="3840120" y="556632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 flipV="1">
                  <a:off x="3840120" y="537192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0" name=""/>
              <p:cNvGrpSpPr/>
              <p:nvPr/>
            </p:nvGrpSpPr>
            <p:grpSpPr>
              <a:xfrm>
                <a:off x="4525920" y="5465520"/>
                <a:ext cx="228600" cy="388800"/>
                <a:chOff x="4525920" y="5465520"/>
                <a:chExt cx="228600" cy="388800"/>
              </a:xfrm>
            </p:grpSpPr>
            <p:sp>
              <p:nvSpPr>
                <p:cNvPr id="2291" name=""/>
                <p:cNvSpPr/>
                <p:nvPr/>
              </p:nvSpPr>
              <p:spPr>
                <a:xfrm>
                  <a:off x="4525920" y="565992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 flipV="1">
                  <a:off x="4525920" y="546552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3" name=""/>
              <p:cNvSpPr/>
              <p:nvPr/>
            </p:nvSpPr>
            <p:spPr>
              <a:xfrm>
                <a:off x="1478160" y="4856040"/>
                <a:ext cx="1447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Assign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Ressource Réplic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94" name=""/>
              <p:cNvGrpSpPr/>
              <p:nvPr/>
            </p:nvGrpSpPr>
            <p:grpSpPr>
              <a:xfrm>
                <a:off x="4221360" y="5219640"/>
                <a:ext cx="228600" cy="388800"/>
                <a:chOff x="4221360" y="5219640"/>
                <a:chExt cx="228600" cy="388800"/>
              </a:xfrm>
            </p:grpSpPr>
            <p:sp>
              <p:nvSpPr>
                <p:cNvPr id="2295" name=""/>
                <p:cNvSpPr/>
                <p:nvPr/>
              </p:nvSpPr>
              <p:spPr>
                <a:xfrm>
                  <a:off x="4221360" y="541404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 flipV="1">
                  <a:off x="4221360" y="521964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7" name=""/>
              <p:cNvGrpSpPr/>
              <p:nvPr/>
            </p:nvGrpSpPr>
            <p:grpSpPr>
              <a:xfrm>
                <a:off x="3382920" y="5448240"/>
                <a:ext cx="228600" cy="388800"/>
                <a:chOff x="3382920" y="5448240"/>
                <a:chExt cx="228600" cy="388800"/>
              </a:xfrm>
            </p:grpSpPr>
            <p:sp>
              <p:nvSpPr>
                <p:cNvPr id="2298" name=""/>
                <p:cNvSpPr/>
                <p:nvPr/>
              </p:nvSpPr>
              <p:spPr>
                <a:xfrm>
                  <a:off x="3382920" y="564264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 flipV="1">
                  <a:off x="3382920" y="544824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0" name=""/>
              <p:cNvGrpSpPr/>
              <p:nvPr/>
            </p:nvGrpSpPr>
            <p:grpSpPr>
              <a:xfrm>
                <a:off x="3535560" y="4838400"/>
                <a:ext cx="228600" cy="388800"/>
                <a:chOff x="3535560" y="4838400"/>
                <a:chExt cx="228600" cy="388800"/>
              </a:xfrm>
            </p:grpSpPr>
            <p:sp>
              <p:nvSpPr>
                <p:cNvPr id="2301" name=""/>
                <p:cNvSpPr/>
                <p:nvPr/>
              </p:nvSpPr>
              <p:spPr>
                <a:xfrm>
                  <a:off x="3535560" y="503280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 flipV="1">
                  <a:off x="3535560" y="4838400"/>
                  <a:ext cx="22860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3" name=""/>
              <p:cNvGrpSpPr/>
              <p:nvPr/>
            </p:nvGrpSpPr>
            <p:grpSpPr>
              <a:xfrm>
                <a:off x="3459240" y="4267080"/>
                <a:ext cx="380880" cy="545760"/>
                <a:chOff x="3459240" y="4267080"/>
                <a:chExt cx="380880" cy="545760"/>
              </a:xfrm>
            </p:grpSpPr>
            <p:sp>
              <p:nvSpPr>
                <p:cNvPr id="2304" name=""/>
                <p:cNvSpPr/>
                <p:nvPr/>
              </p:nvSpPr>
              <p:spPr>
                <a:xfrm flipV="1">
                  <a:off x="3459240" y="4284360"/>
                  <a:ext cx="203040" cy="528480"/>
                </a:xfrm>
                <a:prstGeom prst="upArrow">
                  <a:avLst>
                    <a:gd name="adj1" fmla="val 50000"/>
                    <a:gd name="adj2" fmla="val 65071"/>
                  </a:avLst>
                </a:prstGeom>
                <a:solidFill>
                  <a:srgbClr val="0033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3637080" y="4267080"/>
                  <a:ext cx="203040" cy="528840"/>
                </a:xfrm>
                <a:prstGeom prst="upArrow">
                  <a:avLst>
                    <a:gd name="adj1" fmla="val 50000"/>
                    <a:gd name="adj2" fmla="val 65115"/>
                  </a:avLst>
                </a:prstGeom>
                <a:solidFill>
                  <a:srgbClr val="00336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06" name=""/>
            <p:cNvSpPr/>
            <p:nvPr/>
          </p:nvSpPr>
          <p:spPr>
            <a:xfrm>
              <a:off x="1141560" y="4305240"/>
              <a:ext cx="158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cc3300"/>
                  </a:solidFill>
                  <a:latin typeface="Times New Roman"/>
                </a:rPr>
                <a:t>Ré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05400" y="628200"/>
            <a:ext cx="4419360" cy="15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58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Distribuer les rôl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Distribue Ch. Tv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Augmente Ch. 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8" name=""/>
          <p:cNvSpPr/>
          <p:nvPr/>
        </p:nvSpPr>
        <p:spPr>
          <a:xfrm>
            <a:off x="4508640" y="2590920"/>
            <a:ext cx="4267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58680" indent="-285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Distribuer conte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ingdings" charset="2"/>
              <a:buChar char="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Ch. Tvl.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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 Ch. 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ingdings" charset="2"/>
              <a:buChar char="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Redondance Rô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4508640" y="4419720"/>
            <a:ext cx="4470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58680" indent="-285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Réplication complè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Redond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ingdings" charset="2"/>
              <a:buChar char="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Ch Tvl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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 Ch. 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ingdings" charset="2"/>
              <a:buChar char="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Contenu répliqu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AF563-42BC-4B93-ACB3-9CF2BE2D6583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Sous-sociétés dédiées (ontologie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343080" y="7632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La société des ontologist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81900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Requête hiérarchie concepts &amp; rela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1900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Requête termes, synonymes, vues..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312" name=""/>
          <p:cNvGrpSpPr/>
          <p:nvPr/>
        </p:nvGrpSpPr>
        <p:grpSpPr>
          <a:xfrm>
            <a:off x="1371600" y="1828800"/>
            <a:ext cx="6781680" cy="2901960"/>
            <a:chOff x="1371600" y="1828800"/>
            <a:chExt cx="6781680" cy="2901960"/>
          </a:xfrm>
        </p:grpSpPr>
        <p:sp>
          <p:nvSpPr>
            <p:cNvPr id="2313" name=""/>
            <p:cNvSpPr/>
            <p:nvPr/>
          </p:nvSpPr>
          <p:spPr>
            <a:xfrm>
              <a:off x="1371600" y="1828800"/>
              <a:ext cx="306072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4" name=""/>
            <p:cNvGrpSpPr/>
            <p:nvPr/>
          </p:nvGrpSpPr>
          <p:grpSpPr>
            <a:xfrm>
              <a:off x="1455480" y="1955880"/>
              <a:ext cx="429840" cy="474120"/>
              <a:chOff x="1455480" y="1955880"/>
              <a:chExt cx="429840" cy="474120"/>
            </a:xfrm>
          </p:grpSpPr>
          <p:grpSp>
            <p:nvGrpSpPr>
              <p:cNvPr id="2315" name=""/>
              <p:cNvGrpSpPr/>
              <p:nvPr/>
            </p:nvGrpSpPr>
            <p:grpSpPr>
              <a:xfrm>
                <a:off x="1601640" y="1955880"/>
                <a:ext cx="283680" cy="388800"/>
                <a:chOff x="1601640" y="1955880"/>
                <a:chExt cx="283680" cy="388800"/>
              </a:xfrm>
            </p:grpSpPr>
            <p:sp>
              <p:nvSpPr>
                <p:cNvPr id="2316" name=""/>
                <p:cNvSpPr/>
                <p:nvPr/>
              </p:nvSpPr>
              <p:spPr>
                <a:xfrm>
                  <a:off x="1601640" y="215028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 flipV="1">
                  <a:off x="1601640" y="195588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8" name=""/>
              <p:cNvGrpSpPr/>
              <p:nvPr/>
            </p:nvGrpSpPr>
            <p:grpSpPr>
              <a:xfrm>
                <a:off x="1549800" y="1984320"/>
                <a:ext cx="283680" cy="388800"/>
                <a:chOff x="1549800" y="1984320"/>
                <a:chExt cx="283680" cy="388800"/>
              </a:xfrm>
            </p:grpSpPr>
            <p:sp>
              <p:nvSpPr>
                <p:cNvPr id="2319" name=""/>
                <p:cNvSpPr/>
                <p:nvPr/>
              </p:nvSpPr>
              <p:spPr>
                <a:xfrm>
                  <a:off x="1549800" y="217872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 flipV="1">
                  <a:off x="1549800" y="198432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1" name=""/>
              <p:cNvGrpSpPr/>
              <p:nvPr/>
            </p:nvGrpSpPr>
            <p:grpSpPr>
              <a:xfrm>
                <a:off x="1507320" y="2012400"/>
                <a:ext cx="283680" cy="388800"/>
                <a:chOff x="1507320" y="2012400"/>
                <a:chExt cx="283680" cy="388800"/>
              </a:xfrm>
            </p:grpSpPr>
            <p:sp>
              <p:nvSpPr>
                <p:cNvPr id="2322" name=""/>
                <p:cNvSpPr/>
                <p:nvPr/>
              </p:nvSpPr>
              <p:spPr>
                <a:xfrm>
                  <a:off x="1507320" y="220680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 flipV="1">
                  <a:off x="1507320" y="201240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4" name=""/>
              <p:cNvGrpSpPr/>
              <p:nvPr/>
            </p:nvGrpSpPr>
            <p:grpSpPr>
              <a:xfrm>
                <a:off x="1455480" y="2041200"/>
                <a:ext cx="283680" cy="388800"/>
                <a:chOff x="1455480" y="2041200"/>
                <a:chExt cx="283680" cy="388800"/>
              </a:xfrm>
            </p:grpSpPr>
            <p:sp>
              <p:nvSpPr>
                <p:cNvPr id="2325" name=""/>
                <p:cNvSpPr/>
                <p:nvPr/>
              </p:nvSpPr>
              <p:spPr>
                <a:xfrm>
                  <a:off x="1455480" y="223560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 flipV="1">
                  <a:off x="1455480" y="204120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27" name=""/>
            <p:cNvSpPr/>
            <p:nvPr/>
          </p:nvSpPr>
          <p:spPr>
            <a:xfrm>
              <a:off x="1939680" y="1846440"/>
              <a:ext cx="24926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3300"/>
                  </a:solidFill>
                  <a:latin typeface="Times New Roman"/>
                </a:rPr>
                <a:t>Sous-société dédi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3300"/>
                  </a:solidFill>
                  <a:latin typeface="Times New Roman"/>
                </a:rPr>
                <a:t>à l'ontolog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8" name=""/>
            <p:cNvGrpSpPr/>
            <p:nvPr/>
          </p:nvGrpSpPr>
          <p:grpSpPr>
            <a:xfrm>
              <a:off x="3263760" y="3995640"/>
              <a:ext cx="3060720" cy="735120"/>
              <a:chOff x="3263760" y="3995640"/>
              <a:chExt cx="3060720" cy="735120"/>
            </a:xfrm>
          </p:grpSpPr>
          <p:sp>
            <p:nvSpPr>
              <p:cNvPr id="2329" name=""/>
              <p:cNvSpPr/>
              <p:nvPr/>
            </p:nvSpPr>
            <p:spPr>
              <a:xfrm>
                <a:off x="3263760" y="3995640"/>
                <a:ext cx="3060720" cy="7257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0" name=""/>
              <p:cNvGrpSpPr/>
              <p:nvPr/>
            </p:nvGrpSpPr>
            <p:grpSpPr>
              <a:xfrm>
                <a:off x="3472920" y="4133520"/>
                <a:ext cx="392760" cy="473400"/>
                <a:chOff x="3472920" y="4133520"/>
                <a:chExt cx="392760" cy="473400"/>
              </a:xfrm>
            </p:grpSpPr>
            <p:grpSp>
              <p:nvGrpSpPr>
                <p:cNvPr id="2331" name=""/>
                <p:cNvGrpSpPr/>
                <p:nvPr/>
              </p:nvGrpSpPr>
              <p:grpSpPr>
                <a:xfrm>
                  <a:off x="3606480" y="4133520"/>
                  <a:ext cx="259200" cy="388440"/>
                  <a:chOff x="3606480" y="4133520"/>
                  <a:chExt cx="259200" cy="388440"/>
                </a:xfrm>
              </p:grpSpPr>
              <p:sp>
                <p:nvSpPr>
                  <p:cNvPr id="2332" name=""/>
                  <p:cNvSpPr/>
                  <p:nvPr/>
                </p:nvSpPr>
                <p:spPr>
                  <a:xfrm>
                    <a:off x="3606480" y="432792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3" name=""/>
                  <p:cNvSpPr/>
                  <p:nvPr/>
                </p:nvSpPr>
                <p:spPr>
                  <a:xfrm flipV="1">
                    <a:off x="3606480" y="413316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34" name=""/>
                <p:cNvGrpSpPr/>
                <p:nvPr/>
              </p:nvGrpSpPr>
              <p:grpSpPr>
                <a:xfrm>
                  <a:off x="3559320" y="4161960"/>
                  <a:ext cx="259200" cy="388440"/>
                  <a:chOff x="3559320" y="4161960"/>
                  <a:chExt cx="259200" cy="388440"/>
                </a:xfrm>
              </p:grpSpPr>
              <p:sp>
                <p:nvSpPr>
                  <p:cNvPr id="2335" name=""/>
                  <p:cNvSpPr/>
                  <p:nvPr/>
                </p:nvSpPr>
                <p:spPr>
                  <a:xfrm>
                    <a:off x="3559320" y="435636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6" name=""/>
                  <p:cNvSpPr/>
                  <p:nvPr/>
                </p:nvSpPr>
                <p:spPr>
                  <a:xfrm flipV="1">
                    <a:off x="3559320" y="416160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37" name=""/>
                <p:cNvGrpSpPr/>
                <p:nvPr/>
              </p:nvGrpSpPr>
              <p:grpSpPr>
                <a:xfrm>
                  <a:off x="3520080" y="4190040"/>
                  <a:ext cx="259200" cy="388440"/>
                  <a:chOff x="3520080" y="4190040"/>
                  <a:chExt cx="259200" cy="388440"/>
                </a:xfrm>
              </p:grpSpPr>
              <p:sp>
                <p:nvSpPr>
                  <p:cNvPr id="2338" name=""/>
                  <p:cNvSpPr/>
                  <p:nvPr/>
                </p:nvSpPr>
                <p:spPr>
                  <a:xfrm>
                    <a:off x="3520080" y="438444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9" name=""/>
                  <p:cNvSpPr/>
                  <p:nvPr/>
                </p:nvSpPr>
                <p:spPr>
                  <a:xfrm flipV="1">
                    <a:off x="3520080" y="418968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0" name=""/>
                <p:cNvGrpSpPr/>
                <p:nvPr/>
              </p:nvGrpSpPr>
              <p:grpSpPr>
                <a:xfrm>
                  <a:off x="3472920" y="4218480"/>
                  <a:ext cx="259200" cy="388440"/>
                  <a:chOff x="3472920" y="4218480"/>
                  <a:chExt cx="259200" cy="388440"/>
                </a:xfrm>
              </p:grpSpPr>
              <p:sp>
                <p:nvSpPr>
                  <p:cNvPr id="2341" name=""/>
                  <p:cNvSpPr/>
                  <p:nvPr/>
                </p:nvSpPr>
                <p:spPr>
                  <a:xfrm>
                    <a:off x="3472920" y="441288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2" name=""/>
                  <p:cNvSpPr/>
                  <p:nvPr/>
                </p:nvSpPr>
                <p:spPr>
                  <a:xfrm flipV="1">
                    <a:off x="3472920" y="421812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43" name=""/>
              <p:cNvSpPr/>
              <p:nvPr/>
            </p:nvSpPr>
            <p:spPr>
              <a:xfrm>
                <a:off x="3974760" y="4025880"/>
                <a:ext cx="2312640" cy="70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Sous-société dédié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aux utilisateu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4" name=""/>
            <p:cNvGrpSpPr/>
            <p:nvPr/>
          </p:nvGrpSpPr>
          <p:grpSpPr>
            <a:xfrm>
              <a:off x="5091120" y="1828800"/>
              <a:ext cx="3062160" cy="725400"/>
              <a:chOff x="5091120" y="1828800"/>
              <a:chExt cx="3062160" cy="725400"/>
            </a:xfrm>
          </p:grpSpPr>
          <p:sp>
            <p:nvSpPr>
              <p:cNvPr id="2345" name=""/>
              <p:cNvSpPr/>
              <p:nvPr/>
            </p:nvSpPr>
            <p:spPr>
              <a:xfrm>
                <a:off x="5091120" y="1828800"/>
                <a:ext cx="3062160" cy="725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46" name=""/>
              <p:cNvGrpSpPr/>
              <p:nvPr/>
            </p:nvGrpSpPr>
            <p:grpSpPr>
              <a:xfrm>
                <a:off x="5302080" y="1942560"/>
                <a:ext cx="396720" cy="475200"/>
                <a:chOff x="5302080" y="1942560"/>
                <a:chExt cx="396720" cy="475200"/>
              </a:xfrm>
            </p:grpSpPr>
            <p:grpSp>
              <p:nvGrpSpPr>
                <p:cNvPr id="2347" name=""/>
                <p:cNvGrpSpPr/>
                <p:nvPr/>
              </p:nvGrpSpPr>
              <p:grpSpPr>
                <a:xfrm>
                  <a:off x="5437080" y="1942560"/>
                  <a:ext cx="261720" cy="389880"/>
                  <a:chOff x="5437080" y="1942560"/>
                  <a:chExt cx="261720" cy="389880"/>
                </a:xfrm>
              </p:grpSpPr>
              <p:sp>
                <p:nvSpPr>
                  <p:cNvPr id="2348" name=""/>
                  <p:cNvSpPr/>
                  <p:nvPr/>
                </p:nvSpPr>
                <p:spPr>
                  <a:xfrm>
                    <a:off x="5437080" y="2137680"/>
                    <a:ext cx="261720" cy="194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9" name=""/>
                  <p:cNvSpPr/>
                  <p:nvPr/>
                </p:nvSpPr>
                <p:spPr>
                  <a:xfrm flipV="1">
                    <a:off x="5437080" y="1942200"/>
                    <a:ext cx="261720" cy="194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50" name=""/>
                <p:cNvGrpSpPr/>
                <p:nvPr/>
              </p:nvGrpSpPr>
              <p:grpSpPr>
                <a:xfrm>
                  <a:off x="5389200" y="1971000"/>
                  <a:ext cx="261720" cy="389880"/>
                  <a:chOff x="5389200" y="1971000"/>
                  <a:chExt cx="261720" cy="389880"/>
                </a:xfrm>
              </p:grpSpPr>
              <p:sp>
                <p:nvSpPr>
                  <p:cNvPr id="2351" name=""/>
                  <p:cNvSpPr/>
                  <p:nvPr/>
                </p:nvSpPr>
                <p:spPr>
                  <a:xfrm>
                    <a:off x="5389200" y="2166120"/>
                    <a:ext cx="261720" cy="194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2" name=""/>
                  <p:cNvSpPr/>
                  <p:nvPr/>
                </p:nvSpPr>
                <p:spPr>
                  <a:xfrm flipV="1">
                    <a:off x="5389200" y="1970640"/>
                    <a:ext cx="261720" cy="194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53" name=""/>
                <p:cNvGrpSpPr/>
                <p:nvPr/>
              </p:nvGrpSpPr>
              <p:grpSpPr>
                <a:xfrm>
                  <a:off x="5349600" y="1999080"/>
                  <a:ext cx="261720" cy="389880"/>
                  <a:chOff x="5349600" y="1999080"/>
                  <a:chExt cx="261720" cy="389880"/>
                </a:xfrm>
              </p:grpSpPr>
              <p:sp>
                <p:nvSpPr>
                  <p:cNvPr id="2354" name=""/>
                  <p:cNvSpPr/>
                  <p:nvPr/>
                </p:nvSpPr>
                <p:spPr>
                  <a:xfrm>
                    <a:off x="5349600" y="2194200"/>
                    <a:ext cx="261720" cy="194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5" name=""/>
                  <p:cNvSpPr/>
                  <p:nvPr/>
                </p:nvSpPr>
                <p:spPr>
                  <a:xfrm flipV="1">
                    <a:off x="5349600" y="1998720"/>
                    <a:ext cx="261720" cy="194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56" name=""/>
                <p:cNvGrpSpPr/>
                <p:nvPr/>
              </p:nvGrpSpPr>
              <p:grpSpPr>
                <a:xfrm>
                  <a:off x="5302080" y="2027880"/>
                  <a:ext cx="261720" cy="389880"/>
                  <a:chOff x="5302080" y="2027880"/>
                  <a:chExt cx="261720" cy="389880"/>
                </a:xfrm>
              </p:grpSpPr>
              <p:sp>
                <p:nvSpPr>
                  <p:cNvPr id="2357" name=""/>
                  <p:cNvSpPr/>
                  <p:nvPr/>
                </p:nvSpPr>
                <p:spPr>
                  <a:xfrm>
                    <a:off x="5302080" y="2223000"/>
                    <a:ext cx="261720" cy="194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8" name=""/>
                  <p:cNvSpPr/>
                  <p:nvPr/>
                </p:nvSpPr>
                <p:spPr>
                  <a:xfrm flipV="1">
                    <a:off x="5302080" y="2027520"/>
                    <a:ext cx="261720" cy="194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59" name=""/>
              <p:cNvSpPr/>
              <p:nvPr/>
            </p:nvSpPr>
            <p:spPr>
              <a:xfrm>
                <a:off x="5549760" y="1841400"/>
                <a:ext cx="2592720" cy="70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Sous-société dédié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aux docu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0" name=""/>
            <p:cNvSpPr/>
            <p:nvPr/>
          </p:nvSpPr>
          <p:spPr>
            <a:xfrm>
              <a:off x="3263760" y="2909880"/>
              <a:ext cx="306072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1" name=""/>
            <p:cNvGrpSpPr/>
            <p:nvPr/>
          </p:nvGrpSpPr>
          <p:grpSpPr>
            <a:xfrm>
              <a:off x="3460680" y="3045960"/>
              <a:ext cx="404280" cy="473400"/>
              <a:chOff x="3460680" y="3045960"/>
              <a:chExt cx="404280" cy="473400"/>
            </a:xfrm>
          </p:grpSpPr>
          <p:grpSp>
            <p:nvGrpSpPr>
              <p:cNvPr id="2362" name=""/>
              <p:cNvGrpSpPr/>
              <p:nvPr/>
            </p:nvGrpSpPr>
            <p:grpSpPr>
              <a:xfrm>
                <a:off x="3598200" y="3045960"/>
                <a:ext cx="266760" cy="388440"/>
                <a:chOff x="3598200" y="3045960"/>
                <a:chExt cx="266760" cy="388440"/>
              </a:xfrm>
            </p:grpSpPr>
            <p:sp>
              <p:nvSpPr>
                <p:cNvPr id="2363" name=""/>
                <p:cNvSpPr/>
                <p:nvPr/>
              </p:nvSpPr>
              <p:spPr>
                <a:xfrm>
                  <a:off x="3598200" y="324036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 flipV="1">
                  <a:off x="3598200" y="304560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5" name=""/>
              <p:cNvGrpSpPr/>
              <p:nvPr/>
            </p:nvGrpSpPr>
            <p:grpSpPr>
              <a:xfrm>
                <a:off x="3549600" y="3074400"/>
                <a:ext cx="266760" cy="388440"/>
                <a:chOff x="3549600" y="3074400"/>
                <a:chExt cx="266760" cy="388440"/>
              </a:xfrm>
            </p:grpSpPr>
            <p:sp>
              <p:nvSpPr>
                <p:cNvPr id="2366" name=""/>
                <p:cNvSpPr/>
                <p:nvPr/>
              </p:nvSpPr>
              <p:spPr>
                <a:xfrm>
                  <a:off x="3549600" y="326880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 flipV="1">
                  <a:off x="3549600" y="307404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8" name=""/>
              <p:cNvGrpSpPr/>
              <p:nvPr/>
            </p:nvGrpSpPr>
            <p:grpSpPr>
              <a:xfrm>
                <a:off x="3509280" y="3102480"/>
                <a:ext cx="266760" cy="388440"/>
                <a:chOff x="3509280" y="3102480"/>
                <a:chExt cx="266760" cy="388440"/>
              </a:xfrm>
            </p:grpSpPr>
            <p:sp>
              <p:nvSpPr>
                <p:cNvPr id="2369" name=""/>
                <p:cNvSpPr/>
                <p:nvPr/>
              </p:nvSpPr>
              <p:spPr>
                <a:xfrm>
                  <a:off x="3509280" y="329688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 flipV="1">
                  <a:off x="3509280" y="310212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1" name=""/>
              <p:cNvGrpSpPr/>
              <p:nvPr/>
            </p:nvGrpSpPr>
            <p:grpSpPr>
              <a:xfrm>
                <a:off x="3460680" y="3130920"/>
                <a:ext cx="266760" cy="388440"/>
                <a:chOff x="3460680" y="3130920"/>
                <a:chExt cx="266760" cy="388440"/>
              </a:xfrm>
            </p:grpSpPr>
            <p:sp>
              <p:nvSpPr>
                <p:cNvPr id="2372" name=""/>
                <p:cNvSpPr/>
                <p:nvPr/>
              </p:nvSpPr>
              <p:spPr>
                <a:xfrm>
                  <a:off x="3460680" y="332532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 flipV="1">
                  <a:off x="3460680" y="313056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4" name=""/>
            <p:cNvSpPr/>
            <p:nvPr/>
          </p:nvSpPr>
          <p:spPr>
            <a:xfrm>
              <a:off x="3903480" y="2940120"/>
              <a:ext cx="27050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Sous société d'inter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connex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3547800" y="2406600"/>
              <a:ext cx="711360" cy="614520"/>
            </a:xfrm>
            <a:prstGeom prst="line">
              <a:avLst/>
            </a:prstGeom>
            <a:ln w="28440">
              <a:solidFill>
                <a:srgbClr val="003366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317920" y="3506760"/>
              <a:ext cx="0" cy="560520"/>
            </a:xfrm>
            <a:prstGeom prst="line">
              <a:avLst/>
            </a:prstGeom>
            <a:ln w="28440">
              <a:solidFill>
                <a:srgbClr val="003366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>
              <a:off x="5682960" y="2406600"/>
              <a:ext cx="712800" cy="614520"/>
            </a:xfrm>
            <a:prstGeom prst="line">
              <a:avLst/>
            </a:prstGeom>
            <a:ln w="28440">
              <a:solidFill>
                <a:srgbClr val="003366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438C5-9969-4B28-9DD4-D659539ED8CB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Sous-sociétés dédiées (ontologie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203040" y="5105520"/>
            <a:ext cx="8305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948960" indent="-28260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Choix  actuel car ‘ontology stabl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8960" indent="-28260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Autres choix pour maintenance et assistance consen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343080" y="7632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La société des ontologist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81900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Requête hiérarchie concepts &amp; rela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1900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Requête termes, synonymes, vues..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1" name=""/>
          <p:cNvSpPr/>
          <p:nvPr/>
        </p:nvSpPr>
        <p:spPr>
          <a:xfrm>
            <a:off x="1371600" y="1828800"/>
            <a:ext cx="3060720" cy="72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2" name=""/>
          <p:cNvGrpSpPr/>
          <p:nvPr/>
        </p:nvGrpSpPr>
        <p:grpSpPr>
          <a:xfrm>
            <a:off x="1460520" y="1955880"/>
            <a:ext cx="429840" cy="474120"/>
            <a:chOff x="1460520" y="1955880"/>
            <a:chExt cx="429840" cy="474120"/>
          </a:xfrm>
        </p:grpSpPr>
        <p:grpSp>
          <p:nvGrpSpPr>
            <p:cNvPr id="2383" name=""/>
            <p:cNvGrpSpPr/>
            <p:nvPr/>
          </p:nvGrpSpPr>
          <p:grpSpPr>
            <a:xfrm>
              <a:off x="1606680" y="1955880"/>
              <a:ext cx="283680" cy="388800"/>
              <a:chOff x="1606680" y="1955880"/>
              <a:chExt cx="283680" cy="388800"/>
            </a:xfrm>
          </p:grpSpPr>
          <p:sp>
            <p:nvSpPr>
              <p:cNvPr id="2384" name=""/>
              <p:cNvSpPr/>
              <p:nvPr/>
            </p:nvSpPr>
            <p:spPr>
              <a:xfrm>
                <a:off x="1606680" y="2150280"/>
                <a:ext cx="28368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V="1">
                <a:off x="1606680" y="1955880"/>
                <a:ext cx="28368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6" name=""/>
            <p:cNvGrpSpPr/>
            <p:nvPr/>
          </p:nvGrpSpPr>
          <p:grpSpPr>
            <a:xfrm>
              <a:off x="1554840" y="1984320"/>
              <a:ext cx="283680" cy="388800"/>
              <a:chOff x="1554840" y="1984320"/>
              <a:chExt cx="283680" cy="388800"/>
            </a:xfrm>
          </p:grpSpPr>
          <p:sp>
            <p:nvSpPr>
              <p:cNvPr id="2387" name=""/>
              <p:cNvSpPr/>
              <p:nvPr/>
            </p:nvSpPr>
            <p:spPr>
              <a:xfrm>
                <a:off x="1554840" y="2178720"/>
                <a:ext cx="28368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V="1">
                <a:off x="1554840" y="1984320"/>
                <a:ext cx="28368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9" name=""/>
            <p:cNvGrpSpPr/>
            <p:nvPr/>
          </p:nvGrpSpPr>
          <p:grpSpPr>
            <a:xfrm>
              <a:off x="1512360" y="2012400"/>
              <a:ext cx="283680" cy="388800"/>
              <a:chOff x="1512360" y="2012400"/>
              <a:chExt cx="283680" cy="388800"/>
            </a:xfrm>
          </p:grpSpPr>
          <p:sp>
            <p:nvSpPr>
              <p:cNvPr id="2390" name=""/>
              <p:cNvSpPr/>
              <p:nvPr/>
            </p:nvSpPr>
            <p:spPr>
              <a:xfrm>
                <a:off x="1512360" y="2206800"/>
                <a:ext cx="28368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V="1">
                <a:off x="1512360" y="2012400"/>
                <a:ext cx="28368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2" name=""/>
            <p:cNvGrpSpPr/>
            <p:nvPr/>
          </p:nvGrpSpPr>
          <p:grpSpPr>
            <a:xfrm>
              <a:off x="1460520" y="2041200"/>
              <a:ext cx="283680" cy="388800"/>
              <a:chOff x="1460520" y="2041200"/>
              <a:chExt cx="283680" cy="388800"/>
            </a:xfrm>
          </p:grpSpPr>
          <p:sp>
            <p:nvSpPr>
              <p:cNvPr id="2393" name=""/>
              <p:cNvSpPr/>
              <p:nvPr/>
            </p:nvSpPr>
            <p:spPr>
              <a:xfrm>
                <a:off x="1460520" y="2235600"/>
                <a:ext cx="28368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 flipV="1">
                <a:off x="1460520" y="2041200"/>
                <a:ext cx="28368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908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5" name=""/>
          <p:cNvSpPr/>
          <p:nvPr/>
        </p:nvSpPr>
        <p:spPr>
          <a:xfrm>
            <a:off x="1943280" y="1846440"/>
            <a:ext cx="249228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Times New Roman"/>
              </a:rPr>
              <a:t>Sous-société dédi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3300"/>
                </a:solidFill>
                <a:latin typeface="Times New Roman"/>
              </a:rPr>
              <a:t>à l'ontolo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6" name=""/>
          <p:cNvGrpSpPr/>
          <p:nvPr/>
        </p:nvGrpSpPr>
        <p:grpSpPr>
          <a:xfrm>
            <a:off x="1371600" y="2387160"/>
            <a:ext cx="6659640" cy="2654640"/>
            <a:chOff x="1371600" y="2387160"/>
            <a:chExt cx="6659640" cy="2654640"/>
          </a:xfrm>
        </p:grpSpPr>
        <p:grpSp>
          <p:nvGrpSpPr>
            <p:cNvPr id="2397" name=""/>
            <p:cNvGrpSpPr/>
            <p:nvPr/>
          </p:nvGrpSpPr>
          <p:grpSpPr>
            <a:xfrm>
              <a:off x="1371600" y="2387160"/>
              <a:ext cx="3423600" cy="1468800"/>
              <a:chOff x="1371600" y="2387160"/>
              <a:chExt cx="3423600" cy="1468800"/>
            </a:xfrm>
          </p:grpSpPr>
          <p:sp>
            <p:nvSpPr>
              <p:cNvPr id="2398" name=""/>
              <p:cNvSpPr/>
              <p:nvPr/>
            </p:nvSpPr>
            <p:spPr>
              <a:xfrm rot="2148000">
                <a:off x="3568320" y="2577600"/>
                <a:ext cx="1003320" cy="10872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9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740040" y="2822400"/>
                <a:ext cx="500040" cy="68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0" name=""/>
              <p:cNvSpPr/>
              <p:nvPr/>
            </p:nvSpPr>
            <p:spPr>
              <a:xfrm>
                <a:off x="1371600" y="3132000"/>
                <a:ext cx="2666880" cy="43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cc3300"/>
                    </a:solidFill>
                    <a:latin typeface="Times New Roman"/>
                  </a:rPr>
                  <a:t>Zoom choix actu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1" name=""/>
            <p:cNvSpPr/>
            <p:nvPr/>
          </p:nvSpPr>
          <p:spPr>
            <a:xfrm>
              <a:off x="4449600" y="3898800"/>
              <a:ext cx="3581640" cy="1143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2" name=""/>
            <p:cNvGrpSpPr/>
            <p:nvPr/>
          </p:nvGrpSpPr>
          <p:grpSpPr>
            <a:xfrm>
              <a:off x="6126120" y="4280040"/>
              <a:ext cx="228600" cy="388800"/>
              <a:chOff x="6126120" y="4280040"/>
              <a:chExt cx="228600" cy="388800"/>
            </a:xfrm>
          </p:grpSpPr>
          <p:sp>
            <p:nvSpPr>
              <p:cNvPr id="2403" name=""/>
              <p:cNvSpPr/>
              <p:nvPr/>
            </p:nvSpPr>
            <p:spPr>
              <a:xfrm>
                <a:off x="6126120" y="4474440"/>
                <a:ext cx="22860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V="1">
                <a:off x="6126120" y="4280040"/>
                <a:ext cx="22860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5" name=""/>
            <p:cNvGrpSpPr/>
            <p:nvPr/>
          </p:nvGrpSpPr>
          <p:grpSpPr>
            <a:xfrm>
              <a:off x="6964200" y="3975120"/>
              <a:ext cx="228600" cy="388800"/>
              <a:chOff x="6964200" y="3975120"/>
              <a:chExt cx="228600" cy="388800"/>
            </a:xfrm>
          </p:grpSpPr>
          <p:sp>
            <p:nvSpPr>
              <p:cNvPr id="2406" name=""/>
              <p:cNvSpPr/>
              <p:nvPr/>
            </p:nvSpPr>
            <p:spPr>
              <a:xfrm>
                <a:off x="6964200" y="4169520"/>
                <a:ext cx="22860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flipV="1">
                <a:off x="6964200" y="3975120"/>
                <a:ext cx="22860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8" name=""/>
            <p:cNvGrpSpPr/>
            <p:nvPr/>
          </p:nvGrpSpPr>
          <p:grpSpPr>
            <a:xfrm>
              <a:off x="6888240" y="4508640"/>
              <a:ext cx="228600" cy="388800"/>
              <a:chOff x="6888240" y="4508640"/>
              <a:chExt cx="228600" cy="388800"/>
            </a:xfrm>
          </p:grpSpPr>
          <p:sp>
            <p:nvSpPr>
              <p:cNvPr id="2409" name=""/>
              <p:cNvSpPr/>
              <p:nvPr/>
            </p:nvSpPr>
            <p:spPr>
              <a:xfrm>
                <a:off x="6888240" y="4703040"/>
                <a:ext cx="22860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 flipV="1">
                <a:off x="6888240" y="4508640"/>
                <a:ext cx="22860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1" name=""/>
            <p:cNvGrpSpPr/>
            <p:nvPr/>
          </p:nvGrpSpPr>
          <p:grpSpPr>
            <a:xfrm>
              <a:off x="7574040" y="4602240"/>
              <a:ext cx="228600" cy="388800"/>
              <a:chOff x="7574040" y="4602240"/>
              <a:chExt cx="228600" cy="388800"/>
            </a:xfrm>
          </p:grpSpPr>
          <p:sp>
            <p:nvSpPr>
              <p:cNvPr id="2412" name=""/>
              <p:cNvSpPr/>
              <p:nvPr/>
            </p:nvSpPr>
            <p:spPr>
              <a:xfrm>
                <a:off x="7574040" y="4796640"/>
                <a:ext cx="22860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 flipV="1">
                <a:off x="7574040" y="4602240"/>
                <a:ext cx="22860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4" name=""/>
            <p:cNvSpPr/>
            <p:nvPr/>
          </p:nvSpPr>
          <p:spPr>
            <a:xfrm>
              <a:off x="4525920" y="3992400"/>
              <a:ext cx="156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Ontologistes Ré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5" name=""/>
            <p:cNvGrpSpPr/>
            <p:nvPr/>
          </p:nvGrpSpPr>
          <p:grpSpPr>
            <a:xfrm>
              <a:off x="7269120" y="4356000"/>
              <a:ext cx="228600" cy="388800"/>
              <a:chOff x="7269120" y="4356000"/>
              <a:chExt cx="228600" cy="388800"/>
            </a:xfrm>
          </p:grpSpPr>
          <p:sp>
            <p:nvSpPr>
              <p:cNvPr id="2416" name=""/>
              <p:cNvSpPr/>
              <p:nvPr/>
            </p:nvSpPr>
            <p:spPr>
              <a:xfrm>
                <a:off x="7269120" y="4550400"/>
                <a:ext cx="22860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 flipV="1">
                <a:off x="7269120" y="4356000"/>
                <a:ext cx="22860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8" name=""/>
            <p:cNvGrpSpPr/>
            <p:nvPr/>
          </p:nvGrpSpPr>
          <p:grpSpPr>
            <a:xfrm>
              <a:off x="6431040" y="4584600"/>
              <a:ext cx="228600" cy="388800"/>
              <a:chOff x="6431040" y="4584600"/>
              <a:chExt cx="228600" cy="388800"/>
            </a:xfrm>
          </p:grpSpPr>
          <p:sp>
            <p:nvSpPr>
              <p:cNvPr id="2419" name=""/>
              <p:cNvSpPr/>
              <p:nvPr/>
            </p:nvSpPr>
            <p:spPr>
              <a:xfrm>
                <a:off x="6431040" y="4779000"/>
                <a:ext cx="22860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 flipV="1">
                <a:off x="6431040" y="4584600"/>
                <a:ext cx="22860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1" name=""/>
            <p:cNvGrpSpPr/>
            <p:nvPr/>
          </p:nvGrpSpPr>
          <p:grpSpPr>
            <a:xfrm>
              <a:off x="6583320" y="3975120"/>
              <a:ext cx="228600" cy="388800"/>
              <a:chOff x="6583320" y="3975120"/>
              <a:chExt cx="228600" cy="388800"/>
            </a:xfrm>
          </p:grpSpPr>
          <p:sp>
            <p:nvSpPr>
              <p:cNvPr id="2422" name=""/>
              <p:cNvSpPr/>
              <p:nvPr/>
            </p:nvSpPr>
            <p:spPr>
              <a:xfrm>
                <a:off x="6583320" y="4169520"/>
                <a:ext cx="22860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flipV="1">
                <a:off x="6583320" y="3975120"/>
                <a:ext cx="228600" cy="1944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4" name=""/>
            <p:cNvGrpSpPr/>
            <p:nvPr/>
          </p:nvGrpSpPr>
          <p:grpSpPr>
            <a:xfrm>
              <a:off x="6507000" y="3403440"/>
              <a:ext cx="380880" cy="545760"/>
              <a:chOff x="6507000" y="3403440"/>
              <a:chExt cx="380880" cy="545760"/>
            </a:xfrm>
          </p:grpSpPr>
          <p:sp>
            <p:nvSpPr>
              <p:cNvPr id="2425" name=""/>
              <p:cNvSpPr/>
              <p:nvPr/>
            </p:nvSpPr>
            <p:spPr>
              <a:xfrm flipV="1">
                <a:off x="6507000" y="3420720"/>
                <a:ext cx="203040" cy="528480"/>
              </a:xfrm>
              <a:prstGeom prst="upArrow">
                <a:avLst>
                  <a:gd name="adj1" fmla="val 50000"/>
                  <a:gd name="adj2" fmla="val 65071"/>
                </a:avLst>
              </a:prstGeom>
              <a:solidFill>
                <a:srgbClr val="00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684840" y="3403440"/>
                <a:ext cx="203040" cy="528840"/>
              </a:xfrm>
              <a:prstGeom prst="upArrow">
                <a:avLst>
                  <a:gd name="adj1" fmla="val 50000"/>
                  <a:gd name="adj2" fmla="val 65115"/>
                </a:avLst>
              </a:prstGeom>
              <a:solidFill>
                <a:srgbClr val="0033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7" name=""/>
            <p:cNvSpPr/>
            <p:nvPr/>
          </p:nvSpPr>
          <p:spPr>
            <a:xfrm>
              <a:off x="4189680" y="3441600"/>
              <a:ext cx="158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cc3300"/>
                  </a:solidFill>
                  <a:latin typeface="Times New Roman"/>
                </a:rPr>
                <a:t>Ré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F4189-5F14-44CE-B756-5ACD4ABAFA1F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Sous-sociétés dédiées (document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266760" y="76320"/>
            <a:ext cx="87631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44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La société des documentalist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Archiver les annotations de la mémoi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Résoudre les requê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430" name=""/>
          <p:cNvGrpSpPr/>
          <p:nvPr/>
        </p:nvGrpSpPr>
        <p:grpSpPr>
          <a:xfrm>
            <a:off x="1371600" y="1828800"/>
            <a:ext cx="6781680" cy="2901960"/>
            <a:chOff x="1371600" y="1828800"/>
            <a:chExt cx="6781680" cy="2901960"/>
          </a:xfrm>
        </p:grpSpPr>
        <p:sp>
          <p:nvSpPr>
            <p:cNvPr id="2431" name=""/>
            <p:cNvSpPr/>
            <p:nvPr/>
          </p:nvSpPr>
          <p:spPr>
            <a:xfrm>
              <a:off x="1371600" y="1828800"/>
              <a:ext cx="306072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2" name=""/>
            <p:cNvGrpSpPr/>
            <p:nvPr/>
          </p:nvGrpSpPr>
          <p:grpSpPr>
            <a:xfrm>
              <a:off x="1455480" y="1955880"/>
              <a:ext cx="429840" cy="474120"/>
              <a:chOff x="1455480" y="1955880"/>
              <a:chExt cx="429840" cy="474120"/>
            </a:xfrm>
          </p:grpSpPr>
          <p:grpSp>
            <p:nvGrpSpPr>
              <p:cNvPr id="2433" name=""/>
              <p:cNvGrpSpPr/>
              <p:nvPr/>
            </p:nvGrpSpPr>
            <p:grpSpPr>
              <a:xfrm>
                <a:off x="1601640" y="1955880"/>
                <a:ext cx="283680" cy="388800"/>
                <a:chOff x="1601640" y="1955880"/>
                <a:chExt cx="283680" cy="388800"/>
              </a:xfrm>
            </p:grpSpPr>
            <p:sp>
              <p:nvSpPr>
                <p:cNvPr id="2434" name=""/>
                <p:cNvSpPr/>
                <p:nvPr/>
              </p:nvSpPr>
              <p:spPr>
                <a:xfrm>
                  <a:off x="1601640" y="215028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 flipV="1">
                  <a:off x="1601640" y="195588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6" name=""/>
              <p:cNvGrpSpPr/>
              <p:nvPr/>
            </p:nvGrpSpPr>
            <p:grpSpPr>
              <a:xfrm>
                <a:off x="1549800" y="1984320"/>
                <a:ext cx="283680" cy="388800"/>
                <a:chOff x="1549800" y="1984320"/>
                <a:chExt cx="283680" cy="388800"/>
              </a:xfrm>
            </p:grpSpPr>
            <p:sp>
              <p:nvSpPr>
                <p:cNvPr id="2437" name=""/>
                <p:cNvSpPr/>
                <p:nvPr/>
              </p:nvSpPr>
              <p:spPr>
                <a:xfrm>
                  <a:off x="1549800" y="217872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 flipV="1">
                  <a:off x="1549800" y="198432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9" name=""/>
              <p:cNvGrpSpPr/>
              <p:nvPr/>
            </p:nvGrpSpPr>
            <p:grpSpPr>
              <a:xfrm>
                <a:off x="1507320" y="2012400"/>
                <a:ext cx="283680" cy="388800"/>
                <a:chOff x="1507320" y="2012400"/>
                <a:chExt cx="283680" cy="388800"/>
              </a:xfrm>
            </p:grpSpPr>
            <p:sp>
              <p:nvSpPr>
                <p:cNvPr id="2440" name=""/>
                <p:cNvSpPr/>
                <p:nvPr/>
              </p:nvSpPr>
              <p:spPr>
                <a:xfrm>
                  <a:off x="1507320" y="220680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 flipV="1">
                  <a:off x="1507320" y="201240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2" name=""/>
              <p:cNvGrpSpPr/>
              <p:nvPr/>
            </p:nvGrpSpPr>
            <p:grpSpPr>
              <a:xfrm>
                <a:off x="1455480" y="2041200"/>
                <a:ext cx="283680" cy="388800"/>
                <a:chOff x="1455480" y="2041200"/>
                <a:chExt cx="283680" cy="388800"/>
              </a:xfrm>
            </p:grpSpPr>
            <p:sp>
              <p:nvSpPr>
                <p:cNvPr id="2443" name=""/>
                <p:cNvSpPr/>
                <p:nvPr/>
              </p:nvSpPr>
              <p:spPr>
                <a:xfrm>
                  <a:off x="1455480" y="223560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 flipV="1">
                  <a:off x="1455480" y="204120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45" name=""/>
            <p:cNvSpPr/>
            <p:nvPr/>
          </p:nvSpPr>
          <p:spPr>
            <a:xfrm>
              <a:off x="1939680" y="1846440"/>
              <a:ext cx="24926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66"/>
                  </a:solidFill>
                  <a:latin typeface="Times New Roman"/>
                </a:rPr>
                <a:t>Sous-société dédi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66"/>
                  </a:solidFill>
                  <a:latin typeface="Times New Roman"/>
                </a:rPr>
                <a:t>à l'ontolog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6" name=""/>
            <p:cNvGrpSpPr/>
            <p:nvPr/>
          </p:nvGrpSpPr>
          <p:grpSpPr>
            <a:xfrm>
              <a:off x="3263760" y="3995640"/>
              <a:ext cx="3060720" cy="735120"/>
              <a:chOff x="3263760" y="3995640"/>
              <a:chExt cx="3060720" cy="735120"/>
            </a:xfrm>
          </p:grpSpPr>
          <p:sp>
            <p:nvSpPr>
              <p:cNvPr id="2447" name=""/>
              <p:cNvSpPr/>
              <p:nvPr/>
            </p:nvSpPr>
            <p:spPr>
              <a:xfrm>
                <a:off x="3263760" y="3995640"/>
                <a:ext cx="3060720" cy="7257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8" name=""/>
              <p:cNvGrpSpPr/>
              <p:nvPr/>
            </p:nvGrpSpPr>
            <p:grpSpPr>
              <a:xfrm>
                <a:off x="3472920" y="4133520"/>
                <a:ext cx="392760" cy="473400"/>
                <a:chOff x="3472920" y="4133520"/>
                <a:chExt cx="392760" cy="473400"/>
              </a:xfrm>
            </p:grpSpPr>
            <p:grpSp>
              <p:nvGrpSpPr>
                <p:cNvPr id="2449" name=""/>
                <p:cNvGrpSpPr/>
                <p:nvPr/>
              </p:nvGrpSpPr>
              <p:grpSpPr>
                <a:xfrm>
                  <a:off x="3606480" y="4133520"/>
                  <a:ext cx="259200" cy="388440"/>
                  <a:chOff x="3606480" y="4133520"/>
                  <a:chExt cx="259200" cy="388440"/>
                </a:xfrm>
              </p:grpSpPr>
              <p:sp>
                <p:nvSpPr>
                  <p:cNvPr id="2450" name=""/>
                  <p:cNvSpPr/>
                  <p:nvPr/>
                </p:nvSpPr>
                <p:spPr>
                  <a:xfrm>
                    <a:off x="3606480" y="432792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1" name=""/>
                  <p:cNvSpPr/>
                  <p:nvPr/>
                </p:nvSpPr>
                <p:spPr>
                  <a:xfrm flipV="1">
                    <a:off x="3606480" y="413316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2" name=""/>
                <p:cNvGrpSpPr/>
                <p:nvPr/>
              </p:nvGrpSpPr>
              <p:grpSpPr>
                <a:xfrm>
                  <a:off x="3559320" y="4161960"/>
                  <a:ext cx="259200" cy="388440"/>
                  <a:chOff x="3559320" y="4161960"/>
                  <a:chExt cx="259200" cy="388440"/>
                </a:xfrm>
              </p:grpSpPr>
              <p:sp>
                <p:nvSpPr>
                  <p:cNvPr id="2453" name=""/>
                  <p:cNvSpPr/>
                  <p:nvPr/>
                </p:nvSpPr>
                <p:spPr>
                  <a:xfrm>
                    <a:off x="3559320" y="435636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4" name=""/>
                  <p:cNvSpPr/>
                  <p:nvPr/>
                </p:nvSpPr>
                <p:spPr>
                  <a:xfrm flipV="1">
                    <a:off x="3559320" y="416160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5" name=""/>
                <p:cNvGrpSpPr/>
                <p:nvPr/>
              </p:nvGrpSpPr>
              <p:grpSpPr>
                <a:xfrm>
                  <a:off x="3520080" y="4190040"/>
                  <a:ext cx="259200" cy="388440"/>
                  <a:chOff x="3520080" y="4190040"/>
                  <a:chExt cx="259200" cy="388440"/>
                </a:xfrm>
              </p:grpSpPr>
              <p:sp>
                <p:nvSpPr>
                  <p:cNvPr id="2456" name=""/>
                  <p:cNvSpPr/>
                  <p:nvPr/>
                </p:nvSpPr>
                <p:spPr>
                  <a:xfrm>
                    <a:off x="3520080" y="438444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7" name=""/>
                  <p:cNvSpPr/>
                  <p:nvPr/>
                </p:nvSpPr>
                <p:spPr>
                  <a:xfrm flipV="1">
                    <a:off x="3520080" y="418968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8" name=""/>
                <p:cNvGrpSpPr/>
                <p:nvPr/>
              </p:nvGrpSpPr>
              <p:grpSpPr>
                <a:xfrm>
                  <a:off x="3472920" y="4218480"/>
                  <a:ext cx="259200" cy="388440"/>
                  <a:chOff x="3472920" y="4218480"/>
                  <a:chExt cx="259200" cy="388440"/>
                </a:xfrm>
              </p:grpSpPr>
              <p:sp>
                <p:nvSpPr>
                  <p:cNvPr id="2459" name=""/>
                  <p:cNvSpPr/>
                  <p:nvPr/>
                </p:nvSpPr>
                <p:spPr>
                  <a:xfrm>
                    <a:off x="3472920" y="441288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0" name=""/>
                  <p:cNvSpPr/>
                  <p:nvPr/>
                </p:nvSpPr>
                <p:spPr>
                  <a:xfrm flipV="1">
                    <a:off x="3472920" y="421812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61" name=""/>
              <p:cNvSpPr/>
              <p:nvPr/>
            </p:nvSpPr>
            <p:spPr>
              <a:xfrm>
                <a:off x="3974760" y="4025880"/>
                <a:ext cx="2312640" cy="70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Sous-société dédié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aux utilisateu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2" name=""/>
            <p:cNvSpPr/>
            <p:nvPr/>
          </p:nvSpPr>
          <p:spPr>
            <a:xfrm>
              <a:off x="5091120" y="1828800"/>
              <a:ext cx="306216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3" name=""/>
            <p:cNvGrpSpPr/>
            <p:nvPr/>
          </p:nvGrpSpPr>
          <p:grpSpPr>
            <a:xfrm>
              <a:off x="5302080" y="1943280"/>
              <a:ext cx="396720" cy="474120"/>
              <a:chOff x="5302080" y="1943280"/>
              <a:chExt cx="396720" cy="474120"/>
            </a:xfrm>
          </p:grpSpPr>
          <p:grpSp>
            <p:nvGrpSpPr>
              <p:cNvPr id="2464" name=""/>
              <p:cNvGrpSpPr/>
              <p:nvPr/>
            </p:nvGrpSpPr>
            <p:grpSpPr>
              <a:xfrm>
                <a:off x="5437080" y="1943280"/>
                <a:ext cx="261720" cy="388800"/>
                <a:chOff x="5437080" y="1943280"/>
                <a:chExt cx="261720" cy="388800"/>
              </a:xfrm>
            </p:grpSpPr>
            <p:sp>
              <p:nvSpPr>
                <p:cNvPr id="2465" name=""/>
                <p:cNvSpPr/>
                <p:nvPr/>
              </p:nvSpPr>
              <p:spPr>
                <a:xfrm>
                  <a:off x="5437080" y="213768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 flipV="1">
                  <a:off x="5437080" y="194328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7" name=""/>
              <p:cNvGrpSpPr/>
              <p:nvPr/>
            </p:nvGrpSpPr>
            <p:grpSpPr>
              <a:xfrm>
                <a:off x="5389200" y="1971720"/>
                <a:ext cx="261720" cy="388800"/>
                <a:chOff x="5389200" y="1971720"/>
                <a:chExt cx="261720" cy="388800"/>
              </a:xfrm>
            </p:grpSpPr>
            <p:sp>
              <p:nvSpPr>
                <p:cNvPr id="2468" name=""/>
                <p:cNvSpPr/>
                <p:nvPr/>
              </p:nvSpPr>
              <p:spPr>
                <a:xfrm>
                  <a:off x="5389200" y="216612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 flipV="1">
                  <a:off x="5389200" y="197172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0" name=""/>
              <p:cNvGrpSpPr/>
              <p:nvPr/>
            </p:nvGrpSpPr>
            <p:grpSpPr>
              <a:xfrm>
                <a:off x="5349600" y="1999800"/>
                <a:ext cx="261720" cy="388800"/>
                <a:chOff x="5349600" y="1999800"/>
                <a:chExt cx="261720" cy="388800"/>
              </a:xfrm>
            </p:grpSpPr>
            <p:sp>
              <p:nvSpPr>
                <p:cNvPr id="2471" name=""/>
                <p:cNvSpPr/>
                <p:nvPr/>
              </p:nvSpPr>
              <p:spPr>
                <a:xfrm>
                  <a:off x="5349600" y="219420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 flipV="1">
                  <a:off x="5349600" y="199980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3" name=""/>
              <p:cNvGrpSpPr/>
              <p:nvPr/>
            </p:nvGrpSpPr>
            <p:grpSpPr>
              <a:xfrm>
                <a:off x="5302080" y="2028600"/>
                <a:ext cx="261720" cy="388800"/>
                <a:chOff x="5302080" y="2028600"/>
                <a:chExt cx="261720" cy="388800"/>
              </a:xfrm>
            </p:grpSpPr>
            <p:sp>
              <p:nvSpPr>
                <p:cNvPr id="2474" name=""/>
                <p:cNvSpPr/>
                <p:nvPr/>
              </p:nvSpPr>
              <p:spPr>
                <a:xfrm>
                  <a:off x="5302080" y="222300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 flipV="1">
                  <a:off x="5302080" y="202860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76" name=""/>
            <p:cNvSpPr/>
            <p:nvPr/>
          </p:nvSpPr>
          <p:spPr>
            <a:xfrm>
              <a:off x="5549760" y="1841400"/>
              <a:ext cx="25923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3300"/>
                  </a:solidFill>
                  <a:latin typeface="Times New Roman"/>
                </a:rPr>
                <a:t>Sous-société dédi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3300"/>
                  </a:solidFill>
                  <a:latin typeface="Times New Roman"/>
                </a:rPr>
                <a:t>aux 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3263760" y="2909880"/>
              <a:ext cx="306072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8" name=""/>
            <p:cNvGrpSpPr/>
            <p:nvPr/>
          </p:nvGrpSpPr>
          <p:grpSpPr>
            <a:xfrm>
              <a:off x="3460680" y="3045960"/>
              <a:ext cx="404280" cy="473400"/>
              <a:chOff x="3460680" y="3045960"/>
              <a:chExt cx="404280" cy="473400"/>
            </a:xfrm>
          </p:grpSpPr>
          <p:grpSp>
            <p:nvGrpSpPr>
              <p:cNvPr id="2479" name=""/>
              <p:cNvGrpSpPr/>
              <p:nvPr/>
            </p:nvGrpSpPr>
            <p:grpSpPr>
              <a:xfrm>
                <a:off x="3598200" y="3045960"/>
                <a:ext cx="266760" cy="388440"/>
                <a:chOff x="3598200" y="3045960"/>
                <a:chExt cx="266760" cy="388440"/>
              </a:xfrm>
            </p:grpSpPr>
            <p:sp>
              <p:nvSpPr>
                <p:cNvPr id="2480" name=""/>
                <p:cNvSpPr/>
                <p:nvPr/>
              </p:nvSpPr>
              <p:spPr>
                <a:xfrm>
                  <a:off x="3598200" y="324036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 flipV="1">
                  <a:off x="3598200" y="304560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2" name=""/>
              <p:cNvGrpSpPr/>
              <p:nvPr/>
            </p:nvGrpSpPr>
            <p:grpSpPr>
              <a:xfrm>
                <a:off x="3549600" y="3074400"/>
                <a:ext cx="266760" cy="388440"/>
                <a:chOff x="3549600" y="3074400"/>
                <a:chExt cx="266760" cy="388440"/>
              </a:xfrm>
            </p:grpSpPr>
            <p:sp>
              <p:nvSpPr>
                <p:cNvPr id="2483" name=""/>
                <p:cNvSpPr/>
                <p:nvPr/>
              </p:nvSpPr>
              <p:spPr>
                <a:xfrm>
                  <a:off x="3549600" y="326880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 flipV="1">
                  <a:off x="3549600" y="307404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5" name=""/>
              <p:cNvGrpSpPr/>
              <p:nvPr/>
            </p:nvGrpSpPr>
            <p:grpSpPr>
              <a:xfrm>
                <a:off x="3509280" y="3102480"/>
                <a:ext cx="266760" cy="388440"/>
                <a:chOff x="3509280" y="3102480"/>
                <a:chExt cx="266760" cy="388440"/>
              </a:xfrm>
            </p:grpSpPr>
            <p:sp>
              <p:nvSpPr>
                <p:cNvPr id="2486" name=""/>
                <p:cNvSpPr/>
                <p:nvPr/>
              </p:nvSpPr>
              <p:spPr>
                <a:xfrm>
                  <a:off x="3509280" y="329688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 flipV="1">
                  <a:off x="3509280" y="310212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8" name=""/>
              <p:cNvGrpSpPr/>
              <p:nvPr/>
            </p:nvGrpSpPr>
            <p:grpSpPr>
              <a:xfrm>
                <a:off x="3460680" y="3130920"/>
                <a:ext cx="266760" cy="388440"/>
                <a:chOff x="3460680" y="3130920"/>
                <a:chExt cx="266760" cy="388440"/>
              </a:xfrm>
            </p:grpSpPr>
            <p:sp>
              <p:nvSpPr>
                <p:cNvPr id="2489" name=""/>
                <p:cNvSpPr/>
                <p:nvPr/>
              </p:nvSpPr>
              <p:spPr>
                <a:xfrm>
                  <a:off x="3460680" y="332532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 flipV="1">
                  <a:off x="3460680" y="313056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91" name=""/>
            <p:cNvSpPr/>
            <p:nvPr/>
          </p:nvSpPr>
          <p:spPr>
            <a:xfrm>
              <a:off x="3903480" y="2940120"/>
              <a:ext cx="27050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Sous société d'inter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connex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3547800" y="2406600"/>
              <a:ext cx="711360" cy="614520"/>
            </a:xfrm>
            <a:prstGeom prst="line">
              <a:avLst/>
            </a:prstGeom>
            <a:ln w="28440">
              <a:solidFill>
                <a:srgbClr val="003366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5317920" y="3506760"/>
              <a:ext cx="0" cy="560520"/>
            </a:xfrm>
            <a:prstGeom prst="line">
              <a:avLst/>
            </a:prstGeom>
            <a:ln w="28440">
              <a:solidFill>
                <a:srgbClr val="003366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 flipH="1">
              <a:off x="5682960" y="2406600"/>
              <a:ext cx="712800" cy="614520"/>
            </a:xfrm>
            <a:prstGeom prst="line">
              <a:avLst/>
            </a:prstGeom>
            <a:ln w="28440">
              <a:solidFill>
                <a:srgbClr val="003366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A359-B954-481B-B78C-D7788D504C84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Sous-sociétés dédiées (document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266760" y="5029200"/>
            <a:ext cx="8305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58680" indent="-2854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Georgia"/>
              </a:rPr>
              <a:t>Archivistes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: assignation &amp; explo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Georgia"/>
              </a:rPr>
              <a:t>Médiateur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: distribuer requête &amp; combiner résultats parti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266400" y="76320"/>
            <a:ext cx="8915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44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La société des documentalist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Archiver les annotations de la mémoi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Résoudre les requêt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498" name=""/>
          <p:cNvGrpSpPr/>
          <p:nvPr/>
        </p:nvGrpSpPr>
        <p:grpSpPr>
          <a:xfrm>
            <a:off x="5091120" y="1828800"/>
            <a:ext cx="3062160" cy="725400"/>
            <a:chOff x="5091120" y="1828800"/>
            <a:chExt cx="3062160" cy="725400"/>
          </a:xfrm>
        </p:grpSpPr>
        <p:sp>
          <p:nvSpPr>
            <p:cNvPr id="2499" name=""/>
            <p:cNvSpPr/>
            <p:nvPr/>
          </p:nvSpPr>
          <p:spPr>
            <a:xfrm>
              <a:off x="5091120" y="1828800"/>
              <a:ext cx="306216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0" name=""/>
            <p:cNvGrpSpPr/>
            <p:nvPr/>
          </p:nvGrpSpPr>
          <p:grpSpPr>
            <a:xfrm>
              <a:off x="5302080" y="1943280"/>
              <a:ext cx="396720" cy="474120"/>
              <a:chOff x="5302080" y="1943280"/>
              <a:chExt cx="396720" cy="474120"/>
            </a:xfrm>
          </p:grpSpPr>
          <p:grpSp>
            <p:nvGrpSpPr>
              <p:cNvPr id="2501" name=""/>
              <p:cNvGrpSpPr/>
              <p:nvPr/>
            </p:nvGrpSpPr>
            <p:grpSpPr>
              <a:xfrm>
                <a:off x="5437080" y="1943280"/>
                <a:ext cx="261720" cy="388800"/>
                <a:chOff x="5437080" y="1943280"/>
                <a:chExt cx="261720" cy="388800"/>
              </a:xfrm>
            </p:grpSpPr>
            <p:sp>
              <p:nvSpPr>
                <p:cNvPr id="2502" name=""/>
                <p:cNvSpPr/>
                <p:nvPr/>
              </p:nvSpPr>
              <p:spPr>
                <a:xfrm>
                  <a:off x="5437080" y="213768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 flipV="1">
                  <a:off x="5437080" y="194328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4" name=""/>
              <p:cNvGrpSpPr/>
              <p:nvPr/>
            </p:nvGrpSpPr>
            <p:grpSpPr>
              <a:xfrm>
                <a:off x="5389200" y="1971720"/>
                <a:ext cx="261720" cy="388800"/>
                <a:chOff x="5389200" y="1971720"/>
                <a:chExt cx="261720" cy="388800"/>
              </a:xfrm>
            </p:grpSpPr>
            <p:sp>
              <p:nvSpPr>
                <p:cNvPr id="2505" name=""/>
                <p:cNvSpPr/>
                <p:nvPr/>
              </p:nvSpPr>
              <p:spPr>
                <a:xfrm>
                  <a:off x="5389200" y="216612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 flipV="1">
                  <a:off x="5389200" y="197172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7" name=""/>
              <p:cNvGrpSpPr/>
              <p:nvPr/>
            </p:nvGrpSpPr>
            <p:grpSpPr>
              <a:xfrm>
                <a:off x="5349600" y="1999800"/>
                <a:ext cx="261720" cy="388800"/>
                <a:chOff x="5349600" y="1999800"/>
                <a:chExt cx="261720" cy="388800"/>
              </a:xfrm>
            </p:grpSpPr>
            <p:sp>
              <p:nvSpPr>
                <p:cNvPr id="2508" name=""/>
                <p:cNvSpPr/>
                <p:nvPr/>
              </p:nvSpPr>
              <p:spPr>
                <a:xfrm>
                  <a:off x="5349600" y="219420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 flipV="1">
                  <a:off x="5349600" y="199980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0" name=""/>
              <p:cNvGrpSpPr/>
              <p:nvPr/>
            </p:nvGrpSpPr>
            <p:grpSpPr>
              <a:xfrm>
                <a:off x="5302080" y="2028600"/>
                <a:ext cx="261720" cy="388800"/>
                <a:chOff x="5302080" y="2028600"/>
                <a:chExt cx="261720" cy="388800"/>
              </a:xfrm>
            </p:grpSpPr>
            <p:sp>
              <p:nvSpPr>
                <p:cNvPr id="2511" name=""/>
                <p:cNvSpPr/>
                <p:nvPr/>
              </p:nvSpPr>
              <p:spPr>
                <a:xfrm>
                  <a:off x="5302080" y="222300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 flipV="1">
                  <a:off x="5302080" y="202860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13" name=""/>
            <p:cNvSpPr/>
            <p:nvPr/>
          </p:nvSpPr>
          <p:spPr>
            <a:xfrm>
              <a:off x="5549760" y="1841400"/>
              <a:ext cx="25923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3300"/>
                  </a:solidFill>
                  <a:latin typeface="Times New Roman"/>
                </a:rPr>
                <a:t>Sous-société dédi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3300"/>
                  </a:solidFill>
                  <a:latin typeface="Times New Roman"/>
                </a:rPr>
                <a:t>aux 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4" name=""/>
          <p:cNvGrpSpPr/>
          <p:nvPr/>
        </p:nvGrpSpPr>
        <p:grpSpPr>
          <a:xfrm>
            <a:off x="1218600" y="2400120"/>
            <a:ext cx="7011000" cy="2381040"/>
            <a:chOff x="1218600" y="2400120"/>
            <a:chExt cx="7011000" cy="2381040"/>
          </a:xfrm>
        </p:grpSpPr>
        <p:grpSp>
          <p:nvGrpSpPr>
            <p:cNvPr id="2515" name=""/>
            <p:cNvGrpSpPr/>
            <p:nvPr/>
          </p:nvGrpSpPr>
          <p:grpSpPr>
            <a:xfrm>
              <a:off x="4564440" y="2400120"/>
              <a:ext cx="3665160" cy="1468800"/>
              <a:chOff x="4564440" y="2400120"/>
              <a:chExt cx="3665160" cy="1468800"/>
            </a:xfrm>
          </p:grpSpPr>
          <p:sp>
            <p:nvSpPr>
              <p:cNvPr id="2516" name=""/>
              <p:cNvSpPr/>
              <p:nvPr/>
            </p:nvSpPr>
            <p:spPr>
              <a:xfrm flipH="1" rot="19452000">
                <a:off x="4786920" y="2590560"/>
                <a:ext cx="1003320" cy="10872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17" name=""/>
              <p:cNvGrpSpPr/>
              <p:nvPr/>
            </p:nvGrpSpPr>
            <p:grpSpPr>
              <a:xfrm>
                <a:off x="5132880" y="2819160"/>
                <a:ext cx="429480" cy="673560"/>
                <a:chOff x="5132880" y="2819160"/>
                <a:chExt cx="429480" cy="673560"/>
              </a:xfrm>
            </p:grpSpPr>
            <p:grpSp>
              <p:nvGrpSpPr>
                <p:cNvPr id="2518" name=""/>
                <p:cNvGrpSpPr/>
                <p:nvPr/>
              </p:nvGrpSpPr>
              <p:grpSpPr>
                <a:xfrm>
                  <a:off x="5148000" y="2819160"/>
                  <a:ext cx="414360" cy="411840"/>
                  <a:chOff x="5148000" y="2819160"/>
                  <a:chExt cx="414360" cy="411840"/>
                </a:xfrm>
              </p:grpSpPr>
              <p:grpSp>
                <p:nvGrpSpPr>
                  <p:cNvPr id="2519" name=""/>
                  <p:cNvGrpSpPr/>
                  <p:nvPr/>
                </p:nvGrpSpPr>
                <p:grpSpPr>
                  <a:xfrm>
                    <a:off x="5148000" y="2825280"/>
                    <a:ext cx="406440" cy="403920"/>
                    <a:chOff x="5148000" y="2825280"/>
                    <a:chExt cx="406440" cy="403920"/>
                  </a:xfrm>
                </p:grpSpPr>
                <p:grpSp>
                  <p:nvGrpSpPr>
                    <p:cNvPr id="2520" name=""/>
                    <p:cNvGrpSpPr/>
                    <p:nvPr/>
                  </p:nvGrpSpPr>
                  <p:grpSpPr>
                    <a:xfrm>
                      <a:off x="5148000" y="2825280"/>
                      <a:ext cx="406440" cy="403920"/>
                      <a:chOff x="5148000" y="2825280"/>
                      <a:chExt cx="406440" cy="403920"/>
                    </a:xfrm>
                  </p:grpSpPr>
                  <p:sp>
                    <p:nvSpPr>
                      <p:cNvPr id="2521" name=""/>
                      <p:cNvSpPr/>
                      <p:nvPr/>
                    </p:nvSpPr>
                    <p:spPr>
                      <a:xfrm flipH="1">
                        <a:off x="5209560" y="2825280"/>
                        <a:ext cx="344520" cy="234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6" h="739">
                            <a:moveTo>
                              <a:pt x="23" y="739"/>
                            </a:moveTo>
                            <a:lnTo>
                              <a:pt x="7" y="652"/>
                            </a:lnTo>
                            <a:lnTo>
                              <a:pt x="0" y="568"/>
                            </a:lnTo>
                            <a:lnTo>
                              <a:pt x="3" y="510"/>
                            </a:lnTo>
                            <a:lnTo>
                              <a:pt x="13" y="457"/>
                            </a:lnTo>
                            <a:lnTo>
                              <a:pt x="29" y="398"/>
                            </a:lnTo>
                            <a:lnTo>
                              <a:pt x="55" y="340"/>
                            </a:lnTo>
                            <a:lnTo>
                              <a:pt x="88" y="279"/>
                            </a:lnTo>
                            <a:lnTo>
                              <a:pt x="120" y="230"/>
                            </a:lnTo>
                            <a:lnTo>
                              <a:pt x="159" y="181"/>
                            </a:lnTo>
                            <a:lnTo>
                              <a:pt x="205" y="139"/>
                            </a:lnTo>
                            <a:lnTo>
                              <a:pt x="250" y="104"/>
                            </a:lnTo>
                            <a:lnTo>
                              <a:pt x="299" y="75"/>
                            </a:lnTo>
                            <a:lnTo>
                              <a:pt x="359" y="49"/>
                            </a:lnTo>
                            <a:lnTo>
                              <a:pt x="427" y="26"/>
                            </a:lnTo>
                            <a:lnTo>
                              <a:pt x="485" y="10"/>
                            </a:lnTo>
                            <a:lnTo>
                              <a:pt x="557" y="0"/>
                            </a:lnTo>
                            <a:lnTo>
                              <a:pt x="648" y="0"/>
                            </a:lnTo>
                            <a:lnTo>
                              <a:pt x="716" y="13"/>
                            </a:lnTo>
                            <a:lnTo>
                              <a:pt x="797" y="32"/>
                            </a:lnTo>
                            <a:lnTo>
                              <a:pt x="878" y="68"/>
                            </a:lnTo>
                            <a:lnTo>
                              <a:pt x="950" y="110"/>
                            </a:lnTo>
                            <a:lnTo>
                              <a:pt x="998" y="152"/>
                            </a:lnTo>
                            <a:lnTo>
                              <a:pt x="1047" y="201"/>
                            </a:lnTo>
                            <a:lnTo>
                              <a:pt x="1086" y="249"/>
                            </a:lnTo>
                            <a:lnTo>
                              <a:pt x="982" y="172"/>
                            </a:lnTo>
                            <a:lnTo>
                              <a:pt x="927" y="139"/>
                            </a:lnTo>
                            <a:lnTo>
                              <a:pt x="868" y="117"/>
                            </a:lnTo>
                            <a:lnTo>
                              <a:pt x="794" y="94"/>
                            </a:lnTo>
                            <a:lnTo>
                              <a:pt x="722" y="84"/>
                            </a:lnTo>
                            <a:lnTo>
                              <a:pt x="644" y="81"/>
                            </a:lnTo>
                            <a:lnTo>
                              <a:pt x="586" y="84"/>
                            </a:lnTo>
                            <a:lnTo>
                              <a:pt x="524" y="94"/>
                            </a:lnTo>
                            <a:lnTo>
                              <a:pt x="462" y="110"/>
                            </a:lnTo>
                            <a:lnTo>
                              <a:pt x="404" y="130"/>
                            </a:lnTo>
                            <a:lnTo>
                              <a:pt x="339" y="162"/>
                            </a:lnTo>
                            <a:lnTo>
                              <a:pt x="289" y="191"/>
                            </a:lnTo>
                            <a:lnTo>
                              <a:pt x="247" y="227"/>
                            </a:lnTo>
                            <a:lnTo>
                              <a:pt x="198" y="266"/>
                            </a:lnTo>
                            <a:lnTo>
                              <a:pt x="159" y="308"/>
                            </a:lnTo>
                            <a:lnTo>
                              <a:pt x="120" y="366"/>
                            </a:lnTo>
                            <a:lnTo>
                              <a:pt x="85" y="427"/>
                            </a:lnTo>
                            <a:lnTo>
                              <a:pt x="62" y="486"/>
                            </a:lnTo>
                            <a:lnTo>
                              <a:pt x="42" y="555"/>
                            </a:lnTo>
                            <a:lnTo>
                              <a:pt x="29" y="639"/>
                            </a:lnTo>
                            <a:lnTo>
                              <a:pt x="23" y="739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2" name=""/>
                      <p:cNvSpPr/>
                      <p:nvPr/>
                    </p:nvSpPr>
                    <p:spPr>
                      <a:xfrm flipH="1">
                        <a:off x="5148000" y="2940840"/>
                        <a:ext cx="380880" cy="288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98" h="908">
                            <a:moveTo>
                              <a:pt x="0" y="552"/>
                            </a:moveTo>
                            <a:lnTo>
                              <a:pt x="69" y="629"/>
                            </a:lnTo>
                            <a:lnTo>
                              <a:pt x="143" y="697"/>
                            </a:lnTo>
                            <a:lnTo>
                              <a:pt x="211" y="736"/>
                            </a:lnTo>
                            <a:lnTo>
                              <a:pt x="310" y="778"/>
                            </a:lnTo>
                            <a:lnTo>
                              <a:pt x="388" y="801"/>
                            </a:lnTo>
                            <a:lnTo>
                              <a:pt x="459" y="811"/>
                            </a:lnTo>
                            <a:lnTo>
                              <a:pt x="544" y="811"/>
                            </a:lnTo>
                            <a:lnTo>
                              <a:pt x="605" y="804"/>
                            </a:lnTo>
                            <a:lnTo>
                              <a:pt x="680" y="791"/>
                            </a:lnTo>
                            <a:lnTo>
                              <a:pt x="755" y="769"/>
                            </a:lnTo>
                            <a:lnTo>
                              <a:pt x="817" y="736"/>
                            </a:lnTo>
                            <a:lnTo>
                              <a:pt x="875" y="701"/>
                            </a:lnTo>
                            <a:lnTo>
                              <a:pt x="927" y="665"/>
                            </a:lnTo>
                            <a:lnTo>
                              <a:pt x="979" y="613"/>
                            </a:lnTo>
                            <a:lnTo>
                              <a:pt x="1031" y="555"/>
                            </a:lnTo>
                            <a:lnTo>
                              <a:pt x="1071" y="500"/>
                            </a:lnTo>
                            <a:lnTo>
                              <a:pt x="1094" y="445"/>
                            </a:lnTo>
                            <a:lnTo>
                              <a:pt x="1123" y="357"/>
                            </a:lnTo>
                            <a:lnTo>
                              <a:pt x="1142" y="267"/>
                            </a:lnTo>
                            <a:lnTo>
                              <a:pt x="1146" y="186"/>
                            </a:lnTo>
                            <a:lnTo>
                              <a:pt x="1133" y="97"/>
                            </a:lnTo>
                            <a:lnTo>
                              <a:pt x="1103" y="0"/>
                            </a:lnTo>
                            <a:lnTo>
                              <a:pt x="1133" y="52"/>
                            </a:lnTo>
                            <a:lnTo>
                              <a:pt x="1165" y="126"/>
                            </a:lnTo>
                            <a:lnTo>
                              <a:pt x="1181" y="195"/>
                            </a:lnTo>
                            <a:lnTo>
                              <a:pt x="1198" y="260"/>
                            </a:lnTo>
                            <a:lnTo>
                              <a:pt x="1194" y="315"/>
                            </a:lnTo>
                            <a:lnTo>
                              <a:pt x="1191" y="390"/>
                            </a:lnTo>
                            <a:lnTo>
                              <a:pt x="1152" y="532"/>
                            </a:lnTo>
                            <a:lnTo>
                              <a:pt x="1113" y="610"/>
                            </a:lnTo>
                            <a:lnTo>
                              <a:pt x="1064" y="678"/>
                            </a:lnTo>
                            <a:lnTo>
                              <a:pt x="1011" y="736"/>
                            </a:lnTo>
                            <a:lnTo>
                              <a:pt x="959" y="778"/>
                            </a:lnTo>
                            <a:lnTo>
                              <a:pt x="888" y="827"/>
                            </a:lnTo>
                            <a:lnTo>
                              <a:pt x="817" y="859"/>
                            </a:lnTo>
                            <a:lnTo>
                              <a:pt x="748" y="882"/>
                            </a:lnTo>
                            <a:lnTo>
                              <a:pt x="661" y="905"/>
                            </a:lnTo>
                            <a:lnTo>
                              <a:pt x="596" y="908"/>
                            </a:lnTo>
                            <a:lnTo>
                              <a:pt x="524" y="908"/>
                            </a:lnTo>
                            <a:lnTo>
                              <a:pt x="453" y="895"/>
                            </a:lnTo>
                            <a:lnTo>
                              <a:pt x="375" y="879"/>
                            </a:lnTo>
                            <a:lnTo>
                              <a:pt x="323" y="859"/>
                            </a:lnTo>
                            <a:lnTo>
                              <a:pt x="254" y="824"/>
                            </a:lnTo>
                            <a:lnTo>
                              <a:pt x="195" y="791"/>
                            </a:lnTo>
                            <a:lnTo>
                              <a:pt x="140" y="746"/>
                            </a:lnTo>
                            <a:lnTo>
                              <a:pt x="82" y="684"/>
                            </a:lnTo>
                            <a:lnTo>
                              <a:pt x="26" y="607"/>
                            </a:lnTo>
                            <a:lnTo>
                              <a:pt x="0" y="552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23" name=""/>
                    <p:cNvGrpSpPr/>
                    <p:nvPr/>
                  </p:nvGrpSpPr>
                  <p:grpSpPr>
                    <a:xfrm>
                      <a:off x="5149440" y="2831400"/>
                      <a:ext cx="401760" cy="379800"/>
                      <a:chOff x="5149440" y="2831400"/>
                      <a:chExt cx="401760" cy="379800"/>
                    </a:xfrm>
                  </p:grpSpPr>
                  <p:sp>
                    <p:nvSpPr>
                      <p:cNvPr id="2524" name=""/>
                      <p:cNvSpPr/>
                      <p:nvPr/>
                    </p:nvSpPr>
                    <p:spPr>
                      <a:xfrm flipH="1">
                        <a:off x="5430240" y="3116160"/>
                        <a:ext cx="98280" cy="9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1" h="300">
                            <a:moveTo>
                              <a:pt x="0" y="0"/>
                            </a:moveTo>
                            <a:lnTo>
                              <a:pt x="33" y="60"/>
                            </a:lnTo>
                            <a:lnTo>
                              <a:pt x="64" y="107"/>
                            </a:lnTo>
                            <a:lnTo>
                              <a:pt x="98" y="149"/>
                            </a:lnTo>
                            <a:lnTo>
                              <a:pt x="150" y="199"/>
                            </a:lnTo>
                            <a:lnTo>
                              <a:pt x="189" y="232"/>
                            </a:lnTo>
                            <a:lnTo>
                              <a:pt x="238" y="263"/>
                            </a:lnTo>
                            <a:lnTo>
                              <a:pt x="311" y="300"/>
                            </a:lnTo>
                            <a:lnTo>
                              <a:pt x="230" y="190"/>
                            </a:lnTo>
                            <a:lnTo>
                              <a:pt x="184" y="164"/>
                            </a:lnTo>
                            <a:lnTo>
                              <a:pt x="152" y="141"/>
                            </a:lnTo>
                            <a:lnTo>
                              <a:pt x="104" y="109"/>
                            </a:lnTo>
                            <a:lnTo>
                              <a:pt x="67" y="74"/>
                            </a:lnTo>
                            <a:lnTo>
                              <a:pt x="38" y="45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5" name=""/>
                      <p:cNvSpPr/>
                      <p:nvPr/>
                    </p:nvSpPr>
                    <p:spPr>
                      <a:xfrm flipH="1">
                        <a:off x="5149080" y="2939040"/>
                        <a:ext cx="34920" cy="18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590">
                            <a:moveTo>
                              <a:pt x="21" y="0"/>
                            </a:moveTo>
                            <a:lnTo>
                              <a:pt x="42" y="40"/>
                            </a:lnTo>
                            <a:lnTo>
                              <a:pt x="56" y="75"/>
                            </a:lnTo>
                            <a:lnTo>
                              <a:pt x="71" y="111"/>
                            </a:lnTo>
                            <a:lnTo>
                              <a:pt x="82" y="145"/>
                            </a:lnTo>
                            <a:lnTo>
                              <a:pt x="91" y="178"/>
                            </a:lnTo>
                            <a:lnTo>
                              <a:pt x="107" y="235"/>
                            </a:lnTo>
                            <a:lnTo>
                              <a:pt x="111" y="291"/>
                            </a:lnTo>
                            <a:lnTo>
                              <a:pt x="108" y="377"/>
                            </a:lnTo>
                            <a:lnTo>
                              <a:pt x="101" y="436"/>
                            </a:lnTo>
                            <a:lnTo>
                              <a:pt x="89" y="483"/>
                            </a:lnTo>
                            <a:lnTo>
                              <a:pt x="70" y="533"/>
                            </a:lnTo>
                            <a:lnTo>
                              <a:pt x="45" y="590"/>
                            </a:lnTo>
                            <a:lnTo>
                              <a:pt x="0" y="479"/>
                            </a:lnTo>
                            <a:lnTo>
                              <a:pt x="21" y="430"/>
                            </a:lnTo>
                            <a:lnTo>
                              <a:pt x="30" y="404"/>
                            </a:lnTo>
                            <a:lnTo>
                              <a:pt x="42" y="371"/>
                            </a:lnTo>
                            <a:lnTo>
                              <a:pt x="50" y="336"/>
                            </a:lnTo>
                            <a:lnTo>
                              <a:pt x="56" y="283"/>
                            </a:lnTo>
                            <a:lnTo>
                              <a:pt x="59" y="239"/>
                            </a:lnTo>
                            <a:lnTo>
                              <a:pt x="59" y="173"/>
                            </a:lnTo>
                            <a:lnTo>
                              <a:pt x="50" y="114"/>
                            </a:lnTo>
                            <a:lnTo>
                              <a:pt x="39" y="65"/>
                            </a:lnTo>
                            <a:lnTo>
                              <a:pt x="32" y="39"/>
                            </a:lnTo>
                            <a:lnTo>
                              <a:pt x="2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6" name=""/>
                      <p:cNvSpPr/>
                      <p:nvPr/>
                    </p:nvSpPr>
                    <p:spPr>
                      <a:xfrm flipH="1">
                        <a:off x="5229000" y="2831400"/>
                        <a:ext cx="13968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1" h="178">
                            <a:moveTo>
                              <a:pt x="0" y="0"/>
                            </a:moveTo>
                            <a:lnTo>
                              <a:pt x="33" y="65"/>
                            </a:lnTo>
                            <a:lnTo>
                              <a:pt x="85" y="62"/>
                            </a:lnTo>
                            <a:lnTo>
                              <a:pt x="133" y="65"/>
                            </a:lnTo>
                            <a:lnTo>
                              <a:pt x="177" y="72"/>
                            </a:lnTo>
                            <a:lnTo>
                              <a:pt x="218" y="79"/>
                            </a:lnTo>
                            <a:lnTo>
                              <a:pt x="259" y="90"/>
                            </a:lnTo>
                            <a:lnTo>
                              <a:pt x="288" y="99"/>
                            </a:lnTo>
                            <a:lnTo>
                              <a:pt x="324" y="114"/>
                            </a:lnTo>
                            <a:lnTo>
                              <a:pt x="367" y="134"/>
                            </a:lnTo>
                            <a:lnTo>
                              <a:pt x="441" y="178"/>
                            </a:lnTo>
                            <a:lnTo>
                              <a:pt x="398" y="133"/>
                            </a:lnTo>
                            <a:lnTo>
                              <a:pt x="368" y="110"/>
                            </a:lnTo>
                            <a:lnTo>
                              <a:pt x="328" y="84"/>
                            </a:lnTo>
                            <a:lnTo>
                              <a:pt x="303" y="69"/>
                            </a:lnTo>
                            <a:lnTo>
                              <a:pt x="247" y="43"/>
                            </a:lnTo>
                            <a:lnTo>
                              <a:pt x="212" y="31"/>
                            </a:lnTo>
                            <a:lnTo>
                              <a:pt x="183" y="21"/>
                            </a:lnTo>
                            <a:lnTo>
                              <a:pt x="155" y="14"/>
                            </a:lnTo>
                            <a:lnTo>
                              <a:pt x="113" y="7"/>
                            </a:lnTo>
                            <a:lnTo>
                              <a:pt x="69" y="1"/>
                            </a:lnTo>
                            <a:lnTo>
                              <a:pt x="19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7" name=""/>
                      <p:cNvSpPr/>
                      <p:nvPr/>
                    </p:nvSpPr>
                    <p:spPr>
                      <a:xfrm flipH="1">
                        <a:off x="5506560" y="2910240"/>
                        <a:ext cx="44280" cy="13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1" h="417">
                            <a:moveTo>
                              <a:pt x="0" y="320"/>
                            </a:moveTo>
                            <a:lnTo>
                              <a:pt x="3" y="288"/>
                            </a:lnTo>
                            <a:lnTo>
                              <a:pt x="5" y="252"/>
                            </a:lnTo>
                            <a:lnTo>
                              <a:pt x="15" y="195"/>
                            </a:lnTo>
                            <a:lnTo>
                              <a:pt x="26" y="150"/>
                            </a:lnTo>
                            <a:lnTo>
                              <a:pt x="41" y="109"/>
                            </a:lnTo>
                            <a:lnTo>
                              <a:pt x="60" y="67"/>
                            </a:lnTo>
                            <a:lnTo>
                              <a:pt x="78" y="34"/>
                            </a:lnTo>
                            <a:lnTo>
                              <a:pt x="99" y="0"/>
                            </a:lnTo>
                            <a:lnTo>
                              <a:pt x="141" y="54"/>
                            </a:lnTo>
                            <a:lnTo>
                              <a:pt x="117" y="86"/>
                            </a:lnTo>
                            <a:lnTo>
                              <a:pt x="99" y="115"/>
                            </a:lnTo>
                            <a:lnTo>
                              <a:pt x="85" y="142"/>
                            </a:lnTo>
                            <a:lnTo>
                              <a:pt x="65" y="180"/>
                            </a:lnTo>
                            <a:lnTo>
                              <a:pt x="52" y="213"/>
                            </a:lnTo>
                            <a:lnTo>
                              <a:pt x="44" y="246"/>
                            </a:lnTo>
                            <a:lnTo>
                              <a:pt x="34" y="278"/>
                            </a:lnTo>
                            <a:lnTo>
                              <a:pt x="28" y="314"/>
                            </a:lnTo>
                            <a:lnTo>
                              <a:pt x="23" y="357"/>
                            </a:lnTo>
                            <a:lnTo>
                              <a:pt x="18" y="400"/>
                            </a:lnTo>
                            <a:lnTo>
                              <a:pt x="11" y="417"/>
                            </a:lnTo>
                            <a:lnTo>
                              <a:pt x="0" y="32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528" name=""/>
                  <p:cNvSpPr/>
                  <p:nvPr/>
                </p:nvSpPr>
                <p:spPr>
                  <a:xfrm flipH="1">
                    <a:off x="5147640" y="2850840"/>
                    <a:ext cx="398520" cy="380160"/>
                  </a:xfrm>
                  <a:prstGeom prst="ellipse">
                    <a:avLst/>
                  </a:prstGeom>
                  <a:noFill/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29" name=""/>
                  <p:cNvGrpSpPr/>
                  <p:nvPr/>
                </p:nvGrpSpPr>
                <p:grpSpPr>
                  <a:xfrm>
                    <a:off x="5163840" y="2819160"/>
                    <a:ext cx="398520" cy="380520"/>
                    <a:chOff x="5163840" y="2819160"/>
                    <a:chExt cx="398520" cy="380520"/>
                  </a:xfrm>
                </p:grpSpPr>
                <p:sp>
                  <p:nvSpPr>
                    <p:cNvPr id="2530" name=""/>
                    <p:cNvSpPr/>
                    <p:nvPr/>
                  </p:nvSpPr>
                  <p:spPr>
                    <a:xfrm flipH="1">
                      <a:off x="5170320" y="2825280"/>
                      <a:ext cx="387360" cy="369360"/>
                    </a:xfrm>
                    <a:prstGeom prst="ellipse">
                      <a:avLst/>
                    </a:prstGeom>
                    <a:noFill/>
                    <a:ln w="14400">
                      <a:solidFill>
                        <a:srgbClr val="9f9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1" name=""/>
                    <p:cNvSpPr/>
                    <p:nvPr/>
                  </p:nvSpPr>
                  <p:spPr>
                    <a:xfrm flipH="1">
                      <a:off x="5163480" y="2819160"/>
                      <a:ext cx="398520" cy="380520"/>
                    </a:xfrm>
                    <a:prstGeom prst="ellipse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2" name=""/>
                    <p:cNvSpPr/>
                    <p:nvPr/>
                  </p:nvSpPr>
                  <p:spPr>
                    <a:xfrm flipH="1">
                      <a:off x="5176080" y="2831760"/>
                      <a:ext cx="374760" cy="356400"/>
                    </a:xfrm>
                    <a:prstGeom prst="ellipse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33" name=""/>
                <p:cNvGrpSpPr/>
                <p:nvPr/>
              </p:nvGrpSpPr>
              <p:grpSpPr>
                <a:xfrm>
                  <a:off x="5132880" y="3177360"/>
                  <a:ext cx="202680" cy="315360"/>
                  <a:chOff x="5132880" y="3177360"/>
                  <a:chExt cx="202680" cy="315360"/>
                </a:xfrm>
              </p:grpSpPr>
              <p:sp>
                <p:nvSpPr>
                  <p:cNvPr id="2534" name=""/>
                  <p:cNvSpPr/>
                  <p:nvPr/>
                </p:nvSpPr>
                <p:spPr>
                  <a:xfrm flipH="1">
                    <a:off x="5139000" y="3192840"/>
                    <a:ext cx="19476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11" h="873">
                        <a:moveTo>
                          <a:pt x="0" y="65"/>
                        </a:moveTo>
                        <a:lnTo>
                          <a:pt x="433" y="873"/>
                        </a:lnTo>
                        <a:lnTo>
                          <a:pt x="611" y="783"/>
                        </a:lnTo>
                        <a:lnTo>
                          <a:pt x="175" y="0"/>
                        </a:lnTo>
                        <a:lnTo>
                          <a:pt x="0" y="65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5" name=""/>
                  <p:cNvSpPr/>
                  <p:nvPr/>
                </p:nvSpPr>
                <p:spPr>
                  <a:xfrm flipH="1">
                    <a:off x="5275800" y="3177360"/>
                    <a:ext cx="5832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38" y="13843"/>
                        </a:moveTo>
                        <a:arcTo wR="10800" hR="10800" stAng="9818105" swAng="1055423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38" y="13843"/>
                        </a:moveTo>
                        <a:arcTo wR="10800" hR="10800" stAng="9818105" swAng="10554234"/>
                      </a:path>
                    </a:pathLst>
                  </a:custGeom>
                  <a:solidFill>
                    <a:srgbClr val="5f3f1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6" name=""/>
                  <p:cNvSpPr/>
                  <p:nvPr/>
                </p:nvSpPr>
                <p:spPr>
                  <a:xfrm flipH="1">
                    <a:off x="5272920" y="3181680"/>
                    <a:ext cx="5940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59" y="11931"/>
                        </a:moveTo>
                        <a:arcTo wR="10800" hR="10800" stAng="10439460" swAng="1005444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59" y="11931"/>
                        </a:moveTo>
                        <a:arcTo wR="10800" hR="10800" stAng="10439460" swAng="10054443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7" name=""/>
                  <p:cNvSpPr/>
                  <p:nvPr/>
                </p:nvSpPr>
                <p:spPr>
                  <a:xfrm flipH="1">
                    <a:off x="5298840" y="3181680"/>
                    <a:ext cx="3636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223">
                        <a:moveTo>
                          <a:pt x="3" y="103"/>
                        </a:moveTo>
                        <a:lnTo>
                          <a:pt x="0" y="88"/>
                        </a:lnTo>
                        <a:lnTo>
                          <a:pt x="0" y="74"/>
                        </a:lnTo>
                        <a:lnTo>
                          <a:pt x="2" y="62"/>
                        </a:lnTo>
                        <a:lnTo>
                          <a:pt x="6" y="45"/>
                        </a:lnTo>
                        <a:lnTo>
                          <a:pt x="13" y="31"/>
                        </a:lnTo>
                        <a:lnTo>
                          <a:pt x="22" y="18"/>
                        </a:lnTo>
                        <a:lnTo>
                          <a:pt x="33" y="7"/>
                        </a:lnTo>
                        <a:lnTo>
                          <a:pt x="44" y="0"/>
                        </a:lnTo>
                        <a:lnTo>
                          <a:pt x="115" y="121"/>
                        </a:lnTo>
                        <a:lnTo>
                          <a:pt x="102" y="128"/>
                        </a:lnTo>
                        <a:lnTo>
                          <a:pt x="94" y="137"/>
                        </a:lnTo>
                        <a:lnTo>
                          <a:pt x="85" y="145"/>
                        </a:lnTo>
                        <a:lnTo>
                          <a:pt x="79" y="156"/>
                        </a:lnTo>
                        <a:lnTo>
                          <a:pt x="71" y="176"/>
                        </a:lnTo>
                        <a:lnTo>
                          <a:pt x="67" y="202"/>
                        </a:lnTo>
                        <a:lnTo>
                          <a:pt x="67" y="223"/>
                        </a:lnTo>
                        <a:lnTo>
                          <a:pt x="3" y="103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8" name=""/>
                  <p:cNvSpPr/>
                  <p:nvPr/>
                </p:nvSpPr>
                <p:spPr>
                  <a:xfrm flipH="1">
                    <a:off x="5274360" y="3178440"/>
                    <a:ext cx="594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58" y="13146"/>
                        </a:moveTo>
                        <a:arcTo wR="10800" hR="10800" stAng="10047177" swAng="48759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58" y="13146"/>
                        </a:moveTo>
                        <a:arcTo wR="10800" hR="10800" stAng="10047177" swAng="4875948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9" name=""/>
                  <p:cNvSpPr/>
                  <p:nvPr/>
                </p:nvSpPr>
                <p:spPr>
                  <a:xfrm flipH="1">
                    <a:off x="5253840" y="3216600"/>
                    <a:ext cx="594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3"/>
                        </a:moveTo>
                        <a:arcTo wR="10800" hR="10800" stAng="9986129" swAng="1042014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3"/>
                        </a:moveTo>
                        <a:arcTo wR="10800" hR="10800" stAng="9986129" swAng="10420145"/>
                      </a:path>
                    </a:pathLst>
                  </a:custGeom>
                  <a:solidFill>
                    <a:srgbClr val="7f3f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40" name=""/>
                  <p:cNvGrpSpPr/>
                  <p:nvPr/>
                </p:nvGrpSpPr>
                <p:grpSpPr>
                  <a:xfrm>
                    <a:off x="5249880" y="3221280"/>
                    <a:ext cx="61920" cy="61920"/>
                    <a:chOff x="5249880" y="3221280"/>
                    <a:chExt cx="61920" cy="61920"/>
                  </a:xfrm>
                </p:grpSpPr>
                <p:grpSp>
                  <p:nvGrpSpPr>
                    <p:cNvPr id="2541" name=""/>
                    <p:cNvGrpSpPr/>
                    <p:nvPr/>
                  </p:nvGrpSpPr>
                  <p:grpSpPr>
                    <a:xfrm>
                      <a:off x="5252760" y="3221280"/>
                      <a:ext cx="59040" cy="55800"/>
                      <a:chOff x="5252760" y="3221280"/>
                      <a:chExt cx="59040" cy="55800"/>
                    </a:xfrm>
                  </p:grpSpPr>
                  <p:sp>
                    <p:nvSpPr>
                      <p:cNvPr id="2542" name=""/>
                      <p:cNvSpPr/>
                      <p:nvPr/>
                    </p:nvSpPr>
                    <p:spPr>
                      <a:xfrm flipH="1">
                        <a:off x="5252760" y="3221280"/>
                        <a:ext cx="5904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301" y="13333"/>
                            </a:moveTo>
                            <a:arcTo wR="10800" hR="10800" stAng="9986129" swAng="10606913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301" y="13333"/>
                            </a:moveTo>
                            <a:arcTo wR="10800" hR="10800" stAng="9986129" swAng="10606913"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3" name=""/>
                      <p:cNvSpPr/>
                      <p:nvPr/>
                    </p:nvSpPr>
                    <p:spPr>
                      <a:xfrm flipH="1">
                        <a:off x="5252760" y="3221280"/>
                        <a:ext cx="5868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301" y="13333"/>
                            </a:moveTo>
                            <a:arcTo wR="10800" hR="10800" stAng="9986129" swAng="4570572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301" y="13333"/>
                            </a:moveTo>
                            <a:arcTo wR="10800" hR="10800" stAng="9986129" swAng="4570572"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4" name=""/>
                      <p:cNvSpPr/>
                      <p:nvPr/>
                    </p:nvSpPr>
                    <p:spPr>
                      <a:xfrm flipH="1">
                        <a:off x="5253120" y="3221280"/>
                        <a:ext cx="5760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6" y="13270"/>
                            </a:moveTo>
                            <a:arcTo wR="10800" hR="10800" stAng="10006785" swAng="1061132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6" y="13270"/>
                            </a:moveTo>
                            <a:arcTo wR="10800" hR="10800" stAng="10006785" swAng="10611320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545" name=""/>
                    <p:cNvSpPr/>
                    <p:nvPr/>
                  </p:nvSpPr>
                  <p:spPr>
                    <a:xfrm flipH="1">
                      <a:off x="5249880" y="3227400"/>
                      <a:ext cx="5760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6" y="13270"/>
                          </a:moveTo>
                          <a:arcTo wR="10800" hR="10800" stAng="10006785" swAng="1061132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6" y="13270"/>
                          </a:moveTo>
                          <a:arcTo wR="10800" hR="10800" stAng="10006785" swAng="10611320"/>
                        </a:path>
                      </a:pathLst>
                    </a:custGeom>
                    <a:solidFill>
                      <a:srgbClr val="7f3f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6" name=""/>
                  <p:cNvGrpSpPr/>
                  <p:nvPr/>
                </p:nvGrpSpPr>
                <p:grpSpPr>
                  <a:xfrm>
                    <a:off x="5244120" y="3231720"/>
                    <a:ext cx="61560" cy="62280"/>
                    <a:chOff x="5244120" y="3231720"/>
                    <a:chExt cx="61560" cy="62280"/>
                  </a:xfrm>
                </p:grpSpPr>
                <p:grpSp>
                  <p:nvGrpSpPr>
                    <p:cNvPr id="2547" name=""/>
                    <p:cNvGrpSpPr/>
                    <p:nvPr/>
                  </p:nvGrpSpPr>
                  <p:grpSpPr>
                    <a:xfrm>
                      <a:off x="5246280" y="3231720"/>
                      <a:ext cx="59400" cy="57240"/>
                      <a:chOff x="5246280" y="3231720"/>
                      <a:chExt cx="59400" cy="57240"/>
                    </a:xfrm>
                  </p:grpSpPr>
                  <p:sp>
                    <p:nvSpPr>
                      <p:cNvPr id="2548" name=""/>
                      <p:cNvSpPr/>
                      <p:nvPr/>
                    </p:nvSpPr>
                    <p:spPr>
                      <a:xfrm flipH="1">
                        <a:off x="5246640" y="3232440"/>
                        <a:ext cx="5868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5" y="13266"/>
                            </a:moveTo>
                            <a:arcTo wR="10800" hR="10800" stAng="10007935" swAng="108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5" y="13266"/>
                            </a:moveTo>
                            <a:arcTo wR="10800" hR="10800" stAng="10007935" swAng="10800000"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9" name=""/>
                      <p:cNvSpPr/>
                      <p:nvPr/>
                    </p:nvSpPr>
                    <p:spPr>
                      <a:xfrm flipH="1">
                        <a:off x="5245920" y="3231720"/>
                        <a:ext cx="59400" cy="5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5" y="13266"/>
                            </a:moveTo>
                            <a:arcTo wR="10800" hR="10800" stAng="10007935" swAng="4415176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5" y="13266"/>
                            </a:moveTo>
                            <a:arcTo wR="10800" hR="10800" stAng="10007935" swAng="4415176"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0" name=""/>
                      <p:cNvSpPr/>
                      <p:nvPr/>
                    </p:nvSpPr>
                    <p:spPr>
                      <a:xfrm flipH="1">
                        <a:off x="5247360" y="3232440"/>
                        <a:ext cx="56880" cy="5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44" y="13084"/>
                            </a:moveTo>
                            <a:arcTo wR="10800" hR="10800" stAng="10067453" swAng="1071685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44" y="13084"/>
                            </a:moveTo>
                            <a:arcTo wR="10800" hR="10800" stAng="10067453" swAng="10716857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551" name=""/>
                    <p:cNvSpPr/>
                    <p:nvPr/>
                  </p:nvSpPr>
                  <p:spPr>
                    <a:xfrm flipH="1">
                      <a:off x="5243760" y="3238560"/>
                      <a:ext cx="5868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301" y="13333"/>
                          </a:moveTo>
                          <a:arcTo wR="10800" hR="10800" stAng="9986129" swAng="108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301" y="13333"/>
                          </a:moveTo>
                          <a:arcTo wR="10800" hR="10800" stAng="9986129" swAng="10800000"/>
                        </a:path>
                      </a:pathLst>
                    </a:custGeom>
                    <a:solidFill>
                      <a:srgbClr val="7f3f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52" name=""/>
                  <p:cNvGrpSpPr/>
                  <p:nvPr/>
                </p:nvGrpSpPr>
                <p:grpSpPr>
                  <a:xfrm>
                    <a:off x="5239800" y="3242880"/>
                    <a:ext cx="59400" cy="56880"/>
                    <a:chOff x="5239800" y="3242880"/>
                    <a:chExt cx="59400" cy="56880"/>
                  </a:xfrm>
                </p:grpSpPr>
                <p:sp>
                  <p:nvSpPr>
                    <p:cNvPr id="2553" name=""/>
                    <p:cNvSpPr/>
                    <p:nvPr/>
                  </p:nvSpPr>
                  <p:spPr>
                    <a:xfrm flipH="1">
                      <a:off x="5240160" y="3243600"/>
                      <a:ext cx="586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3" y="12671"/>
                          </a:moveTo>
                          <a:arcTo wR="10800" hR="10800" stAng="10201338" swAng="1060659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3" y="12671"/>
                          </a:moveTo>
                          <a:arcTo wR="10800" hR="10800" stAng="10201338" swAng="10606598"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4" name=""/>
                    <p:cNvSpPr/>
                    <p:nvPr/>
                  </p:nvSpPr>
                  <p:spPr>
                    <a:xfrm flipH="1">
                      <a:off x="5239440" y="3242880"/>
                      <a:ext cx="59400" cy="5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3" y="12671"/>
                          </a:moveTo>
                          <a:arcTo wR="10800" hR="10800" stAng="10201338" swAng="422177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3" y="12671"/>
                          </a:moveTo>
                          <a:arcTo wR="10800" hR="10800" stAng="10201338" swAng="4221774"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55" name=""/>
                  <p:cNvGrpSpPr/>
                  <p:nvPr/>
                </p:nvGrpSpPr>
                <p:grpSpPr>
                  <a:xfrm>
                    <a:off x="5237640" y="3243600"/>
                    <a:ext cx="61560" cy="61200"/>
                    <a:chOff x="5237640" y="3243600"/>
                    <a:chExt cx="61560" cy="61200"/>
                  </a:xfrm>
                </p:grpSpPr>
                <p:sp>
                  <p:nvSpPr>
                    <p:cNvPr id="2556" name=""/>
                    <p:cNvSpPr/>
                    <p:nvPr/>
                  </p:nvSpPr>
                  <p:spPr>
                    <a:xfrm flipH="1">
                      <a:off x="5240160" y="3243600"/>
                      <a:ext cx="586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5" y="13266"/>
                          </a:moveTo>
                          <a:arcTo wR="10800" hR="10800" stAng="10007935" swAng="108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5" y="13266"/>
                          </a:moveTo>
                          <a:arcTo wR="10800" hR="10800" stAng="10007935" swAng="10800000"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7" name=""/>
                    <p:cNvSpPr/>
                    <p:nvPr/>
                  </p:nvSpPr>
                  <p:spPr>
                    <a:xfrm flipH="1">
                      <a:off x="5237280" y="3249720"/>
                      <a:ext cx="5868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73" y="12723"/>
                          </a:moveTo>
                          <a:arcTo wR="10800" hR="10800" stAng="10184591" swAng="106015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73" y="12723"/>
                          </a:moveTo>
                          <a:arcTo wR="10800" hR="10800" stAng="10184591" swAng="10601538"/>
                        </a:path>
                      </a:pathLst>
                    </a:custGeom>
                    <a:solidFill>
                      <a:srgbClr val="7f3f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58" name=""/>
                  <p:cNvGrpSpPr/>
                  <p:nvPr/>
                </p:nvGrpSpPr>
                <p:grpSpPr>
                  <a:xfrm>
                    <a:off x="5139720" y="3194640"/>
                    <a:ext cx="192960" cy="276840"/>
                    <a:chOff x="5139720" y="3194640"/>
                    <a:chExt cx="192960" cy="276840"/>
                  </a:xfrm>
                </p:grpSpPr>
                <p:sp>
                  <p:nvSpPr>
                    <p:cNvPr id="2559" name=""/>
                    <p:cNvSpPr/>
                    <p:nvPr/>
                  </p:nvSpPr>
                  <p:spPr>
                    <a:xfrm flipH="1">
                      <a:off x="5139720" y="3194640"/>
                      <a:ext cx="137520" cy="2469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0" name=""/>
                    <p:cNvSpPr/>
                    <p:nvPr/>
                  </p:nvSpPr>
                  <p:spPr>
                    <a:xfrm flipH="1">
                      <a:off x="5194800" y="3213000"/>
                      <a:ext cx="137880" cy="258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61" name=""/>
                  <p:cNvGrpSpPr/>
                  <p:nvPr/>
                </p:nvGrpSpPr>
                <p:grpSpPr>
                  <a:xfrm>
                    <a:off x="5231520" y="3254040"/>
                    <a:ext cx="61200" cy="60840"/>
                    <a:chOff x="5231520" y="3254040"/>
                    <a:chExt cx="61200" cy="60840"/>
                  </a:xfrm>
                </p:grpSpPr>
                <p:grpSp>
                  <p:nvGrpSpPr>
                    <p:cNvPr id="2562" name=""/>
                    <p:cNvGrpSpPr/>
                    <p:nvPr/>
                  </p:nvGrpSpPr>
                  <p:grpSpPr>
                    <a:xfrm>
                      <a:off x="5234040" y="3254040"/>
                      <a:ext cx="58680" cy="56880"/>
                      <a:chOff x="5234040" y="3254040"/>
                      <a:chExt cx="58680" cy="56880"/>
                    </a:xfrm>
                  </p:grpSpPr>
                  <p:sp>
                    <p:nvSpPr>
                      <p:cNvPr id="2563" name=""/>
                      <p:cNvSpPr/>
                      <p:nvPr/>
                    </p:nvSpPr>
                    <p:spPr>
                      <a:xfrm flipH="1">
                        <a:off x="5233680" y="3254760"/>
                        <a:ext cx="5868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3" y="12671"/>
                            </a:moveTo>
                            <a:arcTo wR="10800" hR="10800" stAng="10201338" swAng="10606598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3" y="12671"/>
                            </a:moveTo>
                            <a:arcTo wR="10800" hR="10800" stAng="10201338" swAng="10606598"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4" name=""/>
                      <p:cNvSpPr/>
                      <p:nvPr/>
                    </p:nvSpPr>
                    <p:spPr>
                      <a:xfrm flipH="1">
                        <a:off x="5233680" y="3254040"/>
                        <a:ext cx="58680" cy="5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3" y="12671"/>
                            </a:moveTo>
                            <a:arcTo wR="10800" hR="10800" stAng="10201338" swAng="422177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3" y="12671"/>
                            </a:moveTo>
                            <a:arcTo wR="10800" hR="10800" stAng="10201338" swAng="4221774"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080" bIns="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565" name=""/>
                    <p:cNvSpPr/>
                    <p:nvPr/>
                  </p:nvSpPr>
                  <p:spPr>
                    <a:xfrm flipH="1">
                      <a:off x="5233680" y="3254760"/>
                      <a:ext cx="586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73" y="12723"/>
                          </a:moveTo>
                          <a:arcTo wR="10800" hR="10800" stAng="10184591" swAng="106015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73" y="12723"/>
                          </a:moveTo>
                          <a:arcTo wR="10800" hR="10800" stAng="10184591" swAng="10601538"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6" name=""/>
                    <p:cNvSpPr/>
                    <p:nvPr/>
                  </p:nvSpPr>
                  <p:spPr>
                    <a:xfrm flipH="1">
                      <a:off x="5231160" y="3259080"/>
                      <a:ext cx="586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5" y="13266"/>
                          </a:moveTo>
                          <a:arcTo wR="10800" hR="10800" stAng="10007935" swAng="108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5" y="13266"/>
                          </a:moveTo>
                          <a:arcTo wR="10800" hR="10800" stAng="10007935" swAng="10800000"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67" name=""/>
                  <p:cNvSpPr/>
                  <p:nvPr/>
                </p:nvSpPr>
                <p:spPr>
                  <a:xfrm flipH="1">
                    <a:off x="5172480" y="3261240"/>
                    <a:ext cx="1188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7" h="645">
                        <a:moveTo>
                          <a:pt x="48" y="0"/>
                        </a:moveTo>
                        <a:lnTo>
                          <a:pt x="34" y="9"/>
                        </a:lnTo>
                        <a:lnTo>
                          <a:pt x="23" y="18"/>
                        </a:lnTo>
                        <a:lnTo>
                          <a:pt x="13" y="28"/>
                        </a:lnTo>
                        <a:lnTo>
                          <a:pt x="9" y="39"/>
                        </a:lnTo>
                        <a:lnTo>
                          <a:pt x="4" y="51"/>
                        </a:lnTo>
                        <a:lnTo>
                          <a:pt x="1" y="63"/>
                        </a:lnTo>
                        <a:lnTo>
                          <a:pt x="0" y="77"/>
                        </a:lnTo>
                        <a:lnTo>
                          <a:pt x="0" y="93"/>
                        </a:lnTo>
                        <a:lnTo>
                          <a:pt x="292" y="645"/>
                        </a:lnTo>
                        <a:lnTo>
                          <a:pt x="377" y="58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8" name=""/>
                  <p:cNvSpPr/>
                  <p:nvPr/>
                </p:nvSpPr>
                <p:spPr>
                  <a:xfrm flipH="1">
                    <a:off x="5132880" y="3431160"/>
                    <a:ext cx="64800" cy="61560"/>
                  </a:xfrm>
                  <a:prstGeom prst="ellipse">
                    <a:avLst/>
                  </a:prstGeom>
                  <a:solidFill>
                    <a:srgbClr val="7f5f3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69" name=""/>
              <p:cNvSpPr/>
              <p:nvPr/>
            </p:nvSpPr>
            <p:spPr>
              <a:xfrm>
                <a:off x="5562720" y="3276360"/>
                <a:ext cx="2666880" cy="43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cc3300"/>
                    </a:solidFill>
                    <a:latin typeface="Times New Roman"/>
                  </a:rPr>
                  <a:t>Zoom choix actu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0" name=""/>
            <p:cNvGrpSpPr/>
            <p:nvPr/>
          </p:nvGrpSpPr>
          <p:grpSpPr>
            <a:xfrm>
              <a:off x="1218600" y="3124080"/>
              <a:ext cx="3840840" cy="1657080"/>
              <a:chOff x="1218600" y="3124080"/>
              <a:chExt cx="3840840" cy="1657080"/>
            </a:xfrm>
          </p:grpSpPr>
          <p:grpSp>
            <p:nvGrpSpPr>
              <p:cNvPr id="2571" name=""/>
              <p:cNvGrpSpPr/>
              <p:nvPr/>
            </p:nvGrpSpPr>
            <p:grpSpPr>
              <a:xfrm>
                <a:off x="1478160" y="3124080"/>
                <a:ext cx="3581280" cy="1657080"/>
                <a:chOff x="1478160" y="3124080"/>
                <a:chExt cx="3581280" cy="1657080"/>
              </a:xfrm>
            </p:grpSpPr>
            <p:sp>
              <p:nvSpPr>
                <p:cNvPr id="2572" name=""/>
                <p:cNvSpPr/>
                <p:nvPr/>
              </p:nvSpPr>
              <p:spPr>
                <a:xfrm>
                  <a:off x="1478160" y="3619440"/>
                  <a:ext cx="3581280" cy="1143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73" name=""/>
                <p:cNvGrpSpPr/>
                <p:nvPr/>
              </p:nvGrpSpPr>
              <p:grpSpPr>
                <a:xfrm>
                  <a:off x="4297680" y="3708360"/>
                  <a:ext cx="228600" cy="388800"/>
                  <a:chOff x="4297680" y="3708360"/>
                  <a:chExt cx="228600" cy="388800"/>
                </a:xfrm>
              </p:grpSpPr>
              <p:sp>
                <p:nvSpPr>
                  <p:cNvPr id="2574" name=""/>
                  <p:cNvSpPr/>
                  <p:nvPr/>
                </p:nvSpPr>
                <p:spPr>
                  <a:xfrm>
                    <a:off x="4297680" y="390276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3366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5" name=""/>
                  <p:cNvSpPr/>
                  <p:nvPr/>
                </p:nvSpPr>
                <p:spPr>
                  <a:xfrm flipV="1">
                    <a:off x="4297680" y="370836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3366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6" name=""/>
                <p:cNvGrpSpPr/>
                <p:nvPr/>
              </p:nvGrpSpPr>
              <p:grpSpPr>
                <a:xfrm>
                  <a:off x="3154680" y="4305240"/>
                  <a:ext cx="228600" cy="388800"/>
                  <a:chOff x="3154680" y="4305240"/>
                  <a:chExt cx="228600" cy="388800"/>
                </a:xfrm>
              </p:grpSpPr>
              <p:sp>
                <p:nvSpPr>
                  <p:cNvPr id="2577" name=""/>
                  <p:cNvSpPr/>
                  <p:nvPr/>
                </p:nvSpPr>
                <p:spPr>
                  <a:xfrm>
                    <a:off x="3154680" y="44996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8" name=""/>
                  <p:cNvSpPr/>
                  <p:nvPr/>
                </p:nvSpPr>
                <p:spPr>
                  <a:xfrm flipV="1">
                    <a:off x="3154680" y="43052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9" name=""/>
                <p:cNvGrpSpPr/>
                <p:nvPr/>
              </p:nvGrpSpPr>
              <p:grpSpPr>
                <a:xfrm>
                  <a:off x="3611880" y="3708360"/>
                  <a:ext cx="228600" cy="388800"/>
                  <a:chOff x="3611880" y="3708360"/>
                  <a:chExt cx="228600" cy="388800"/>
                </a:xfrm>
              </p:grpSpPr>
              <p:sp>
                <p:nvSpPr>
                  <p:cNvPr id="2580" name=""/>
                  <p:cNvSpPr/>
                  <p:nvPr/>
                </p:nvSpPr>
                <p:spPr>
                  <a:xfrm>
                    <a:off x="3611880" y="390276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3366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1" name=""/>
                  <p:cNvSpPr/>
                  <p:nvPr/>
                </p:nvSpPr>
                <p:spPr>
                  <a:xfrm flipV="1">
                    <a:off x="3611880" y="370836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3366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82" name=""/>
                <p:cNvGrpSpPr/>
                <p:nvPr/>
              </p:nvGrpSpPr>
              <p:grpSpPr>
                <a:xfrm>
                  <a:off x="3611880" y="4305240"/>
                  <a:ext cx="228600" cy="388800"/>
                  <a:chOff x="3611880" y="4305240"/>
                  <a:chExt cx="228600" cy="388800"/>
                </a:xfrm>
              </p:grpSpPr>
              <p:sp>
                <p:nvSpPr>
                  <p:cNvPr id="2583" name=""/>
                  <p:cNvSpPr/>
                  <p:nvPr/>
                </p:nvSpPr>
                <p:spPr>
                  <a:xfrm>
                    <a:off x="3611880" y="44996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4" name=""/>
                  <p:cNvSpPr/>
                  <p:nvPr/>
                </p:nvSpPr>
                <p:spPr>
                  <a:xfrm flipV="1">
                    <a:off x="3611880" y="43052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85" name=""/>
                <p:cNvGrpSpPr/>
                <p:nvPr/>
              </p:nvGrpSpPr>
              <p:grpSpPr>
                <a:xfrm>
                  <a:off x="4145040" y="4305240"/>
                  <a:ext cx="228600" cy="388800"/>
                  <a:chOff x="4145040" y="4305240"/>
                  <a:chExt cx="228600" cy="388800"/>
                </a:xfrm>
              </p:grpSpPr>
              <p:sp>
                <p:nvSpPr>
                  <p:cNvPr id="2586" name=""/>
                  <p:cNvSpPr/>
                  <p:nvPr/>
                </p:nvSpPr>
                <p:spPr>
                  <a:xfrm>
                    <a:off x="4145040" y="44996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7" name=""/>
                  <p:cNvSpPr/>
                  <p:nvPr/>
                </p:nvSpPr>
                <p:spPr>
                  <a:xfrm flipV="1">
                    <a:off x="4145040" y="43052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88" name=""/>
                <p:cNvGrpSpPr/>
                <p:nvPr/>
              </p:nvGrpSpPr>
              <p:grpSpPr>
                <a:xfrm>
                  <a:off x="4602240" y="4305240"/>
                  <a:ext cx="228600" cy="388800"/>
                  <a:chOff x="4602240" y="4305240"/>
                  <a:chExt cx="228600" cy="388800"/>
                </a:xfrm>
              </p:grpSpPr>
              <p:sp>
                <p:nvSpPr>
                  <p:cNvPr id="2589" name=""/>
                  <p:cNvSpPr/>
                  <p:nvPr/>
                </p:nvSpPr>
                <p:spPr>
                  <a:xfrm>
                    <a:off x="4602240" y="44996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0" name=""/>
                  <p:cNvSpPr/>
                  <p:nvPr/>
                </p:nvSpPr>
                <p:spPr>
                  <a:xfrm flipV="1">
                    <a:off x="4602240" y="43052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91" name=""/>
                <p:cNvSpPr/>
                <p:nvPr/>
              </p:nvSpPr>
              <p:spPr>
                <a:xfrm>
                  <a:off x="1478160" y="4178160"/>
                  <a:ext cx="3581280" cy="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1539720" y="3670200"/>
                  <a:ext cx="1226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Médiateu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1553760" y="4138560"/>
                  <a:ext cx="12412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Archivist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Assign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 flipV="1">
                  <a:off x="3459240" y="4139640"/>
                  <a:ext cx="228600" cy="1522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 flipH="1" flipV="1">
                  <a:off x="3764160" y="4139640"/>
                  <a:ext cx="380880" cy="30492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6" name=""/>
                <p:cNvGrpSpPr/>
                <p:nvPr/>
              </p:nvGrpSpPr>
              <p:grpSpPr>
                <a:xfrm>
                  <a:off x="3535560" y="3124080"/>
                  <a:ext cx="380880" cy="545760"/>
                  <a:chOff x="3535560" y="3124080"/>
                  <a:chExt cx="380880" cy="545760"/>
                </a:xfrm>
              </p:grpSpPr>
              <p:sp>
                <p:nvSpPr>
                  <p:cNvPr id="2597" name=""/>
                  <p:cNvSpPr/>
                  <p:nvPr/>
                </p:nvSpPr>
                <p:spPr>
                  <a:xfrm flipV="1">
                    <a:off x="3535560" y="3141360"/>
                    <a:ext cx="203040" cy="528480"/>
                  </a:xfrm>
                  <a:prstGeom prst="upArrow">
                    <a:avLst>
                      <a:gd name="adj1" fmla="val 50000"/>
                      <a:gd name="adj2" fmla="val 65071"/>
                    </a:avLst>
                  </a:prstGeom>
                  <a:solidFill>
                    <a:srgbClr val="003366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8" name=""/>
                  <p:cNvSpPr/>
                  <p:nvPr/>
                </p:nvSpPr>
                <p:spPr>
                  <a:xfrm>
                    <a:off x="3713400" y="3124080"/>
                    <a:ext cx="203040" cy="528840"/>
                  </a:xfrm>
                  <a:prstGeom prst="upArrow">
                    <a:avLst>
                      <a:gd name="adj1" fmla="val 50000"/>
                      <a:gd name="adj2" fmla="val 65115"/>
                    </a:avLst>
                  </a:prstGeom>
                  <a:solidFill>
                    <a:srgbClr val="003366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99" name=""/>
              <p:cNvSpPr/>
              <p:nvPr/>
            </p:nvSpPr>
            <p:spPr>
              <a:xfrm>
                <a:off x="1218600" y="3162240"/>
                <a:ext cx="1469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cc3300"/>
                    </a:solidFill>
                    <a:latin typeface="Times New Roman"/>
                  </a:rPr>
                  <a:t>Hiérarchi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64193-8A13-453E-9D71-BA2B9CC48057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Sous-sociétés dédiées (interconnexion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253800" y="0"/>
            <a:ext cx="864684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44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La société d'interconnex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Pages jaunes des servic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Fédération des agents </a:t>
            </a:r>
            <a:r>
              <a:rPr b="0" lang="fr-FR" sz="28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 configuratio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602" name=""/>
          <p:cNvGrpSpPr/>
          <p:nvPr/>
        </p:nvGrpSpPr>
        <p:grpSpPr>
          <a:xfrm>
            <a:off x="1371600" y="1828800"/>
            <a:ext cx="6781680" cy="2901960"/>
            <a:chOff x="1371600" y="1828800"/>
            <a:chExt cx="6781680" cy="2901960"/>
          </a:xfrm>
        </p:grpSpPr>
        <p:sp>
          <p:nvSpPr>
            <p:cNvPr id="2603" name=""/>
            <p:cNvSpPr/>
            <p:nvPr/>
          </p:nvSpPr>
          <p:spPr>
            <a:xfrm>
              <a:off x="1371600" y="1828800"/>
              <a:ext cx="306072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4" name=""/>
            <p:cNvGrpSpPr/>
            <p:nvPr/>
          </p:nvGrpSpPr>
          <p:grpSpPr>
            <a:xfrm>
              <a:off x="1455480" y="1955880"/>
              <a:ext cx="429840" cy="474120"/>
              <a:chOff x="1455480" y="1955880"/>
              <a:chExt cx="429840" cy="474120"/>
            </a:xfrm>
          </p:grpSpPr>
          <p:grpSp>
            <p:nvGrpSpPr>
              <p:cNvPr id="2605" name=""/>
              <p:cNvGrpSpPr/>
              <p:nvPr/>
            </p:nvGrpSpPr>
            <p:grpSpPr>
              <a:xfrm>
                <a:off x="1601640" y="1955880"/>
                <a:ext cx="283680" cy="388800"/>
                <a:chOff x="1601640" y="1955880"/>
                <a:chExt cx="283680" cy="388800"/>
              </a:xfrm>
            </p:grpSpPr>
            <p:sp>
              <p:nvSpPr>
                <p:cNvPr id="2606" name=""/>
                <p:cNvSpPr/>
                <p:nvPr/>
              </p:nvSpPr>
              <p:spPr>
                <a:xfrm>
                  <a:off x="1601640" y="215028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 flipV="1">
                  <a:off x="1601640" y="195588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8" name=""/>
              <p:cNvGrpSpPr/>
              <p:nvPr/>
            </p:nvGrpSpPr>
            <p:grpSpPr>
              <a:xfrm>
                <a:off x="1549800" y="1984320"/>
                <a:ext cx="283680" cy="388800"/>
                <a:chOff x="1549800" y="1984320"/>
                <a:chExt cx="283680" cy="388800"/>
              </a:xfrm>
            </p:grpSpPr>
            <p:sp>
              <p:nvSpPr>
                <p:cNvPr id="2609" name=""/>
                <p:cNvSpPr/>
                <p:nvPr/>
              </p:nvSpPr>
              <p:spPr>
                <a:xfrm>
                  <a:off x="1549800" y="217872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 flipV="1">
                  <a:off x="1549800" y="198432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1" name=""/>
              <p:cNvGrpSpPr/>
              <p:nvPr/>
            </p:nvGrpSpPr>
            <p:grpSpPr>
              <a:xfrm>
                <a:off x="1507320" y="2012400"/>
                <a:ext cx="283680" cy="388800"/>
                <a:chOff x="1507320" y="2012400"/>
                <a:chExt cx="283680" cy="388800"/>
              </a:xfrm>
            </p:grpSpPr>
            <p:sp>
              <p:nvSpPr>
                <p:cNvPr id="2612" name=""/>
                <p:cNvSpPr/>
                <p:nvPr/>
              </p:nvSpPr>
              <p:spPr>
                <a:xfrm>
                  <a:off x="1507320" y="220680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 flipV="1">
                  <a:off x="1507320" y="201240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4" name=""/>
              <p:cNvGrpSpPr/>
              <p:nvPr/>
            </p:nvGrpSpPr>
            <p:grpSpPr>
              <a:xfrm>
                <a:off x="1455480" y="2041200"/>
                <a:ext cx="283680" cy="388800"/>
                <a:chOff x="1455480" y="2041200"/>
                <a:chExt cx="283680" cy="388800"/>
              </a:xfrm>
            </p:grpSpPr>
            <p:sp>
              <p:nvSpPr>
                <p:cNvPr id="2615" name=""/>
                <p:cNvSpPr/>
                <p:nvPr/>
              </p:nvSpPr>
              <p:spPr>
                <a:xfrm>
                  <a:off x="1455480" y="223560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 flipV="1">
                  <a:off x="1455480" y="204120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17" name=""/>
            <p:cNvSpPr/>
            <p:nvPr/>
          </p:nvSpPr>
          <p:spPr>
            <a:xfrm>
              <a:off x="1939680" y="1846440"/>
              <a:ext cx="24926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66"/>
                  </a:solidFill>
                  <a:latin typeface="Times New Roman"/>
                </a:rPr>
                <a:t>Sous-société dédi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66"/>
                  </a:solidFill>
                  <a:latin typeface="Times New Roman"/>
                </a:rPr>
                <a:t>à l'ontolog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8" name=""/>
            <p:cNvGrpSpPr/>
            <p:nvPr/>
          </p:nvGrpSpPr>
          <p:grpSpPr>
            <a:xfrm>
              <a:off x="3263760" y="3995640"/>
              <a:ext cx="3060720" cy="735120"/>
              <a:chOff x="3263760" y="3995640"/>
              <a:chExt cx="3060720" cy="735120"/>
            </a:xfrm>
          </p:grpSpPr>
          <p:sp>
            <p:nvSpPr>
              <p:cNvPr id="2619" name=""/>
              <p:cNvSpPr/>
              <p:nvPr/>
            </p:nvSpPr>
            <p:spPr>
              <a:xfrm>
                <a:off x="3263760" y="3995640"/>
                <a:ext cx="3060720" cy="7257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0" name=""/>
              <p:cNvGrpSpPr/>
              <p:nvPr/>
            </p:nvGrpSpPr>
            <p:grpSpPr>
              <a:xfrm>
                <a:off x="3472920" y="4133520"/>
                <a:ext cx="392760" cy="473400"/>
                <a:chOff x="3472920" y="4133520"/>
                <a:chExt cx="392760" cy="473400"/>
              </a:xfrm>
            </p:grpSpPr>
            <p:grpSp>
              <p:nvGrpSpPr>
                <p:cNvPr id="2621" name=""/>
                <p:cNvGrpSpPr/>
                <p:nvPr/>
              </p:nvGrpSpPr>
              <p:grpSpPr>
                <a:xfrm>
                  <a:off x="3606480" y="4133520"/>
                  <a:ext cx="259200" cy="388440"/>
                  <a:chOff x="3606480" y="4133520"/>
                  <a:chExt cx="259200" cy="388440"/>
                </a:xfrm>
              </p:grpSpPr>
              <p:sp>
                <p:nvSpPr>
                  <p:cNvPr id="2622" name=""/>
                  <p:cNvSpPr/>
                  <p:nvPr/>
                </p:nvSpPr>
                <p:spPr>
                  <a:xfrm>
                    <a:off x="3606480" y="432792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3" name=""/>
                  <p:cNvSpPr/>
                  <p:nvPr/>
                </p:nvSpPr>
                <p:spPr>
                  <a:xfrm flipV="1">
                    <a:off x="3606480" y="413316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24" name=""/>
                <p:cNvGrpSpPr/>
                <p:nvPr/>
              </p:nvGrpSpPr>
              <p:grpSpPr>
                <a:xfrm>
                  <a:off x="3559320" y="4161960"/>
                  <a:ext cx="259200" cy="388440"/>
                  <a:chOff x="3559320" y="4161960"/>
                  <a:chExt cx="259200" cy="388440"/>
                </a:xfrm>
              </p:grpSpPr>
              <p:sp>
                <p:nvSpPr>
                  <p:cNvPr id="2625" name=""/>
                  <p:cNvSpPr/>
                  <p:nvPr/>
                </p:nvSpPr>
                <p:spPr>
                  <a:xfrm>
                    <a:off x="3559320" y="435636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6" name=""/>
                  <p:cNvSpPr/>
                  <p:nvPr/>
                </p:nvSpPr>
                <p:spPr>
                  <a:xfrm flipV="1">
                    <a:off x="3559320" y="416160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27" name=""/>
                <p:cNvGrpSpPr/>
                <p:nvPr/>
              </p:nvGrpSpPr>
              <p:grpSpPr>
                <a:xfrm>
                  <a:off x="3520080" y="4190040"/>
                  <a:ext cx="259200" cy="388440"/>
                  <a:chOff x="3520080" y="4190040"/>
                  <a:chExt cx="259200" cy="388440"/>
                </a:xfrm>
              </p:grpSpPr>
              <p:sp>
                <p:nvSpPr>
                  <p:cNvPr id="2628" name=""/>
                  <p:cNvSpPr/>
                  <p:nvPr/>
                </p:nvSpPr>
                <p:spPr>
                  <a:xfrm>
                    <a:off x="3520080" y="438444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9" name=""/>
                  <p:cNvSpPr/>
                  <p:nvPr/>
                </p:nvSpPr>
                <p:spPr>
                  <a:xfrm flipV="1">
                    <a:off x="3520080" y="418968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0" name=""/>
                <p:cNvGrpSpPr/>
                <p:nvPr/>
              </p:nvGrpSpPr>
              <p:grpSpPr>
                <a:xfrm>
                  <a:off x="3472920" y="4218480"/>
                  <a:ext cx="259200" cy="388440"/>
                  <a:chOff x="3472920" y="4218480"/>
                  <a:chExt cx="259200" cy="388440"/>
                </a:xfrm>
              </p:grpSpPr>
              <p:sp>
                <p:nvSpPr>
                  <p:cNvPr id="2631" name=""/>
                  <p:cNvSpPr/>
                  <p:nvPr/>
                </p:nvSpPr>
                <p:spPr>
                  <a:xfrm>
                    <a:off x="3472920" y="441288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2" name=""/>
                  <p:cNvSpPr/>
                  <p:nvPr/>
                </p:nvSpPr>
                <p:spPr>
                  <a:xfrm flipV="1">
                    <a:off x="3472920" y="4218120"/>
                    <a:ext cx="259200" cy="194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908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633" name=""/>
              <p:cNvSpPr/>
              <p:nvPr/>
            </p:nvSpPr>
            <p:spPr>
              <a:xfrm>
                <a:off x="3974760" y="4025880"/>
                <a:ext cx="2312640" cy="70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Sous-société dédié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aux utilisateu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4" name=""/>
            <p:cNvSpPr/>
            <p:nvPr/>
          </p:nvSpPr>
          <p:spPr>
            <a:xfrm>
              <a:off x="5091120" y="1828800"/>
              <a:ext cx="306216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5" name=""/>
            <p:cNvGrpSpPr/>
            <p:nvPr/>
          </p:nvGrpSpPr>
          <p:grpSpPr>
            <a:xfrm>
              <a:off x="5302080" y="1943280"/>
              <a:ext cx="396720" cy="474120"/>
              <a:chOff x="5302080" y="1943280"/>
              <a:chExt cx="396720" cy="474120"/>
            </a:xfrm>
          </p:grpSpPr>
          <p:grpSp>
            <p:nvGrpSpPr>
              <p:cNvPr id="2636" name=""/>
              <p:cNvGrpSpPr/>
              <p:nvPr/>
            </p:nvGrpSpPr>
            <p:grpSpPr>
              <a:xfrm>
                <a:off x="5437080" y="1943280"/>
                <a:ext cx="261720" cy="388800"/>
                <a:chOff x="5437080" y="1943280"/>
                <a:chExt cx="261720" cy="388800"/>
              </a:xfrm>
            </p:grpSpPr>
            <p:sp>
              <p:nvSpPr>
                <p:cNvPr id="2637" name=""/>
                <p:cNvSpPr/>
                <p:nvPr/>
              </p:nvSpPr>
              <p:spPr>
                <a:xfrm>
                  <a:off x="5437080" y="213768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 flipV="1">
                  <a:off x="5437080" y="194328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9" name=""/>
              <p:cNvGrpSpPr/>
              <p:nvPr/>
            </p:nvGrpSpPr>
            <p:grpSpPr>
              <a:xfrm>
                <a:off x="5389200" y="1971720"/>
                <a:ext cx="261720" cy="388800"/>
                <a:chOff x="5389200" y="1971720"/>
                <a:chExt cx="261720" cy="388800"/>
              </a:xfrm>
            </p:grpSpPr>
            <p:sp>
              <p:nvSpPr>
                <p:cNvPr id="2640" name=""/>
                <p:cNvSpPr/>
                <p:nvPr/>
              </p:nvSpPr>
              <p:spPr>
                <a:xfrm>
                  <a:off x="5389200" y="216612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 flipV="1">
                  <a:off x="5389200" y="197172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2" name=""/>
              <p:cNvGrpSpPr/>
              <p:nvPr/>
            </p:nvGrpSpPr>
            <p:grpSpPr>
              <a:xfrm>
                <a:off x="5349600" y="1999800"/>
                <a:ext cx="261720" cy="388800"/>
                <a:chOff x="5349600" y="1999800"/>
                <a:chExt cx="261720" cy="388800"/>
              </a:xfrm>
            </p:grpSpPr>
            <p:sp>
              <p:nvSpPr>
                <p:cNvPr id="2643" name=""/>
                <p:cNvSpPr/>
                <p:nvPr/>
              </p:nvSpPr>
              <p:spPr>
                <a:xfrm>
                  <a:off x="5349600" y="219420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 flipV="1">
                  <a:off x="5349600" y="199980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5" name=""/>
              <p:cNvGrpSpPr/>
              <p:nvPr/>
            </p:nvGrpSpPr>
            <p:grpSpPr>
              <a:xfrm>
                <a:off x="5302080" y="2028600"/>
                <a:ext cx="261720" cy="388800"/>
                <a:chOff x="5302080" y="2028600"/>
                <a:chExt cx="261720" cy="388800"/>
              </a:xfrm>
            </p:grpSpPr>
            <p:sp>
              <p:nvSpPr>
                <p:cNvPr id="2646" name=""/>
                <p:cNvSpPr/>
                <p:nvPr/>
              </p:nvSpPr>
              <p:spPr>
                <a:xfrm>
                  <a:off x="5302080" y="222300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 flipV="1">
                  <a:off x="5302080" y="202860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48" name=""/>
            <p:cNvSpPr/>
            <p:nvPr/>
          </p:nvSpPr>
          <p:spPr>
            <a:xfrm>
              <a:off x="5549760" y="1841400"/>
              <a:ext cx="25923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66"/>
                  </a:solidFill>
                  <a:latin typeface="Times New Roman"/>
                </a:rPr>
                <a:t>Sous-société dédi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66"/>
                  </a:solidFill>
                  <a:latin typeface="Times New Roman"/>
                </a:rPr>
                <a:t>aux 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3263760" y="2909880"/>
              <a:ext cx="306072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0" name=""/>
            <p:cNvGrpSpPr/>
            <p:nvPr/>
          </p:nvGrpSpPr>
          <p:grpSpPr>
            <a:xfrm>
              <a:off x="3460680" y="3045960"/>
              <a:ext cx="404280" cy="473400"/>
              <a:chOff x="3460680" y="3045960"/>
              <a:chExt cx="404280" cy="473400"/>
            </a:xfrm>
          </p:grpSpPr>
          <p:grpSp>
            <p:nvGrpSpPr>
              <p:cNvPr id="2651" name=""/>
              <p:cNvGrpSpPr/>
              <p:nvPr/>
            </p:nvGrpSpPr>
            <p:grpSpPr>
              <a:xfrm>
                <a:off x="3598200" y="3045960"/>
                <a:ext cx="266760" cy="388440"/>
                <a:chOff x="3598200" y="3045960"/>
                <a:chExt cx="266760" cy="388440"/>
              </a:xfrm>
            </p:grpSpPr>
            <p:sp>
              <p:nvSpPr>
                <p:cNvPr id="2652" name=""/>
                <p:cNvSpPr/>
                <p:nvPr/>
              </p:nvSpPr>
              <p:spPr>
                <a:xfrm>
                  <a:off x="3598200" y="324036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 flipV="1">
                  <a:off x="3598200" y="304560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4" name=""/>
              <p:cNvGrpSpPr/>
              <p:nvPr/>
            </p:nvGrpSpPr>
            <p:grpSpPr>
              <a:xfrm>
                <a:off x="3549600" y="3074400"/>
                <a:ext cx="266760" cy="388440"/>
                <a:chOff x="3549600" y="3074400"/>
                <a:chExt cx="266760" cy="388440"/>
              </a:xfrm>
            </p:grpSpPr>
            <p:sp>
              <p:nvSpPr>
                <p:cNvPr id="2655" name=""/>
                <p:cNvSpPr/>
                <p:nvPr/>
              </p:nvSpPr>
              <p:spPr>
                <a:xfrm>
                  <a:off x="3549600" y="326880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 flipV="1">
                  <a:off x="3549600" y="307404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7" name=""/>
              <p:cNvGrpSpPr/>
              <p:nvPr/>
            </p:nvGrpSpPr>
            <p:grpSpPr>
              <a:xfrm>
                <a:off x="3509280" y="3102480"/>
                <a:ext cx="266760" cy="388440"/>
                <a:chOff x="3509280" y="3102480"/>
                <a:chExt cx="266760" cy="388440"/>
              </a:xfrm>
            </p:grpSpPr>
            <p:sp>
              <p:nvSpPr>
                <p:cNvPr id="2658" name=""/>
                <p:cNvSpPr/>
                <p:nvPr/>
              </p:nvSpPr>
              <p:spPr>
                <a:xfrm>
                  <a:off x="3509280" y="329688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 flipV="1">
                  <a:off x="3509280" y="310212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0" name=""/>
              <p:cNvGrpSpPr/>
              <p:nvPr/>
            </p:nvGrpSpPr>
            <p:grpSpPr>
              <a:xfrm>
                <a:off x="3460680" y="3130920"/>
                <a:ext cx="266760" cy="388440"/>
                <a:chOff x="3460680" y="3130920"/>
                <a:chExt cx="266760" cy="388440"/>
              </a:xfrm>
            </p:grpSpPr>
            <p:sp>
              <p:nvSpPr>
                <p:cNvPr id="2661" name=""/>
                <p:cNvSpPr/>
                <p:nvPr/>
              </p:nvSpPr>
              <p:spPr>
                <a:xfrm>
                  <a:off x="3460680" y="332532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 flipV="1">
                  <a:off x="3460680" y="313056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63" name=""/>
            <p:cNvSpPr/>
            <p:nvPr/>
          </p:nvSpPr>
          <p:spPr>
            <a:xfrm>
              <a:off x="3903480" y="2940120"/>
              <a:ext cx="27050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3300"/>
                  </a:solidFill>
                  <a:latin typeface="Times New Roman"/>
                </a:rPr>
                <a:t>Sous société d'inter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3300"/>
                  </a:solidFill>
                  <a:latin typeface="Times New Roman"/>
                </a:rPr>
                <a:t>connex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3547800" y="2406600"/>
              <a:ext cx="711360" cy="614520"/>
            </a:xfrm>
            <a:prstGeom prst="line">
              <a:avLst/>
            </a:prstGeom>
            <a:ln w="28440">
              <a:solidFill>
                <a:srgbClr val="003366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317920" y="3506760"/>
              <a:ext cx="0" cy="560520"/>
            </a:xfrm>
            <a:prstGeom prst="line">
              <a:avLst/>
            </a:prstGeom>
            <a:ln w="28440">
              <a:solidFill>
                <a:srgbClr val="003366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 flipH="1">
              <a:off x="5682960" y="2406600"/>
              <a:ext cx="712800" cy="614520"/>
            </a:xfrm>
            <a:prstGeom prst="line">
              <a:avLst/>
            </a:prstGeom>
            <a:ln w="28440">
              <a:solidFill>
                <a:srgbClr val="003366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8EA83-40FC-4A95-9FB7-A4393F0B8733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Sous-sociétés dédiées (interconnexion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254160" y="1676520"/>
            <a:ext cx="6858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58680" indent="-285480">
              <a:lnSpc>
                <a:spcPct val="10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Apparieurs coop. pages jaunes. Fournis par J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PlaceHolder 2"/>
          <p:cNvSpPr>
            <a:spLocks noGrp="1"/>
          </p:cNvSpPr>
          <p:nvPr>
            <p:ph/>
          </p:nvPr>
        </p:nvSpPr>
        <p:spPr>
          <a:xfrm>
            <a:off x="253800" y="0"/>
            <a:ext cx="864684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44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La société d'interconnex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Pages jaunes des servic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Fédération des agents </a:t>
            </a:r>
            <a:r>
              <a:rPr b="0" lang="fr-FR" sz="28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 configuratio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670" name=""/>
          <p:cNvGrpSpPr/>
          <p:nvPr/>
        </p:nvGrpSpPr>
        <p:grpSpPr>
          <a:xfrm>
            <a:off x="3263760" y="2908440"/>
            <a:ext cx="3344760" cy="734400"/>
            <a:chOff x="3263760" y="2908440"/>
            <a:chExt cx="3344760" cy="734400"/>
          </a:xfrm>
        </p:grpSpPr>
        <p:sp>
          <p:nvSpPr>
            <p:cNvPr id="2671" name=""/>
            <p:cNvSpPr/>
            <p:nvPr/>
          </p:nvSpPr>
          <p:spPr>
            <a:xfrm>
              <a:off x="3263760" y="2908440"/>
              <a:ext cx="3060720" cy="725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2" name=""/>
            <p:cNvGrpSpPr/>
            <p:nvPr/>
          </p:nvGrpSpPr>
          <p:grpSpPr>
            <a:xfrm>
              <a:off x="3460680" y="3044520"/>
              <a:ext cx="404280" cy="472320"/>
              <a:chOff x="3460680" y="3044520"/>
              <a:chExt cx="404280" cy="472320"/>
            </a:xfrm>
          </p:grpSpPr>
          <p:grpSp>
            <p:nvGrpSpPr>
              <p:cNvPr id="2673" name=""/>
              <p:cNvGrpSpPr/>
              <p:nvPr/>
            </p:nvGrpSpPr>
            <p:grpSpPr>
              <a:xfrm>
                <a:off x="3598200" y="3044520"/>
                <a:ext cx="266760" cy="387360"/>
                <a:chOff x="3598200" y="3044520"/>
                <a:chExt cx="266760" cy="387360"/>
              </a:xfrm>
            </p:grpSpPr>
            <p:sp>
              <p:nvSpPr>
                <p:cNvPr id="2674" name=""/>
                <p:cNvSpPr/>
                <p:nvPr/>
              </p:nvSpPr>
              <p:spPr>
                <a:xfrm>
                  <a:off x="3598200" y="3238200"/>
                  <a:ext cx="266760" cy="19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 flipV="1">
                  <a:off x="3598200" y="3044520"/>
                  <a:ext cx="266760" cy="19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6" name=""/>
              <p:cNvGrpSpPr/>
              <p:nvPr/>
            </p:nvGrpSpPr>
            <p:grpSpPr>
              <a:xfrm>
                <a:off x="3549600" y="3072960"/>
                <a:ext cx="266760" cy="387360"/>
                <a:chOff x="3549600" y="3072960"/>
                <a:chExt cx="266760" cy="387360"/>
              </a:xfrm>
            </p:grpSpPr>
            <p:sp>
              <p:nvSpPr>
                <p:cNvPr id="2677" name=""/>
                <p:cNvSpPr/>
                <p:nvPr/>
              </p:nvSpPr>
              <p:spPr>
                <a:xfrm>
                  <a:off x="3549600" y="3266640"/>
                  <a:ext cx="266760" cy="19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 flipV="1">
                  <a:off x="3549600" y="3072960"/>
                  <a:ext cx="266760" cy="19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9" name=""/>
              <p:cNvGrpSpPr/>
              <p:nvPr/>
            </p:nvGrpSpPr>
            <p:grpSpPr>
              <a:xfrm>
                <a:off x="3509280" y="3101040"/>
                <a:ext cx="266760" cy="387360"/>
                <a:chOff x="3509280" y="3101040"/>
                <a:chExt cx="266760" cy="387360"/>
              </a:xfrm>
            </p:grpSpPr>
            <p:sp>
              <p:nvSpPr>
                <p:cNvPr id="2680" name=""/>
                <p:cNvSpPr/>
                <p:nvPr/>
              </p:nvSpPr>
              <p:spPr>
                <a:xfrm>
                  <a:off x="3509280" y="3294720"/>
                  <a:ext cx="266760" cy="19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 flipV="1">
                  <a:off x="3509280" y="3101040"/>
                  <a:ext cx="266760" cy="19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2" name=""/>
              <p:cNvGrpSpPr/>
              <p:nvPr/>
            </p:nvGrpSpPr>
            <p:grpSpPr>
              <a:xfrm>
                <a:off x="3460680" y="3129480"/>
                <a:ext cx="266760" cy="387360"/>
                <a:chOff x="3460680" y="3129480"/>
                <a:chExt cx="266760" cy="387360"/>
              </a:xfrm>
            </p:grpSpPr>
            <p:sp>
              <p:nvSpPr>
                <p:cNvPr id="2683" name=""/>
                <p:cNvSpPr/>
                <p:nvPr/>
              </p:nvSpPr>
              <p:spPr>
                <a:xfrm>
                  <a:off x="3460680" y="3323160"/>
                  <a:ext cx="266760" cy="19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 flipV="1">
                  <a:off x="3460680" y="3129480"/>
                  <a:ext cx="266760" cy="193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85" name=""/>
            <p:cNvSpPr/>
            <p:nvPr/>
          </p:nvSpPr>
          <p:spPr>
            <a:xfrm>
              <a:off x="3903480" y="2938320"/>
              <a:ext cx="27050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3300"/>
                  </a:solidFill>
                  <a:latin typeface="Times New Roman"/>
                </a:rPr>
                <a:t>Sous société d'inter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3300"/>
                  </a:solidFill>
                  <a:latin typeface="Times New Roman"/>
                </a:rPr>
                <a:t>connex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6" name=""/>
          <p:cNvGrpSpPr/>
          <p:nvPr/>
        </p:nvGrpSpPr>
        <p:grpSpPr>
          <a:xfrm>
            <a:off x="1365120" y="3619080"/>
            <a:ext cx="4110840" cy="2573640"/>
            <a:chOff x="1365120" y="3619080"/>
            <a:chExt cx="4110840" cy="2573640"/>
          </a:xfrm>
        </p:grpSpPr>
        <p:grpSp>
          <p:nvGrpSpPr>
            <p:cNvPr id="2687" name=""/>
            <p:cNvGrpSpPr/>
            <p:nvPr/>
          </p:nvGrpSpPr>
          <p:grpSpPr>
            <a:xfrm>
              <a:off x="2281320" y="3619080"/>
              <a:ext cx="3194640" cy="1469160"/>
              <a:chOff x="2281320" y="3619080"/>
              <a:chExt cx="3194640" cy="1469160"/>
            </a:xfrm>
          </p:grpSpPr>
          <p:sp>
            <p:nvSpPr>
              <p:cNvPr id="2688" name=""/>
              <p:cNvSpPr/>
              <p:nvPr/>
            </p:nvSpPr>
            <p:spPr>
              <a:xfrm flipH="1" rot="19452000">
                <a:off x="4248720" y="3809520"/>
                <a:ext cx="1003320" cy="10875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89" name=""/>
              <p:cNvGrpSpPr/>
              <p:nvPr/>
            </p:nvGrpSpPr>
            <p:grpSpPr>
              <a:xfrm>
                <a:off x="4594680" y="4038480"/>
                <a:ext cx="429480" cy="673920"/>
                <a:chOff x="4594680" y="4038480"/>
                <a:chExt cx="429480" cy="673920"/>
              </a:xfrm>
            </p:grpSpPr>
            <p:grpSp>
              <p:nvGrpSpPr>
                <p:cNvPr id="2690" name=""/>
                <p:cNvGrpSpPr/>
                <p:nvPr/>
              </p:nvGrpSpPr>
              <p:grpSpPr>
                <a:xfrm>
                  <a:off x="4609800" y="4038480"/>
                  <a:ext cx="414360" cy="412200"/>
                  <a:chOff x="4609800" y="4038480"/>
                  <a:chExt cx="414360" cy="412200"/>
                </a:xfrm>
              </p:grpSpPr>
              <p:grpSp>
                <p:nvGrpSpPr>
                  <p:cNvPr id="2691" name=""/>
                  <p:cNvGrpSpPr/>
                  <p:nvPr/>
                </p:nvGrpSpPr>
                <p:grpSpPr>
                  <a:xfrm>
                    <a:off x="4609800" y="4044600"/>
                    <a:ext cx="406440" cy="404280"/>
                    <a:chOff x="4609800" y="4044600"/>
                    <a:chExt cx="406440" cy="404280"/>
                  </a:xfrm>
                </p:grpSpPr>
                <p:grpSp>
                  <p:nvGrpSpPr>
                    <p:cNvPr id="2692" name=""/>
                    <p:cNvGrpSpPr/>
                    <p:nvPr/>
                  </p:nvGrpSpPr>
                  <p:grpSpPr>
                    <a:xfrm>
                      <a:off x="4609800" y="4044600"/>
                      <a:ext cx="406440" cy="404280"/>
                      <a:chOff x="4609800" y="4044600"/>
                      <a:chExt cx="406440" cy="404280"/>
                    </a:xfrm>
                  </p:grpSpPr>
                  <p:sp>
                    <p:nvSpPr>
                      <p:cNvPr id="2693" name=""/>
                      <p:cNvSpPr/>
                      <p:nvPr/>
                    </p:nvSpPr>
                    <p:spPr>
                      <a:xfrm flipH="1">
                        <a:off x="4671360" y="4044600"/>
                        <a:ext cx="344520" cy="234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6" h="739">
                            <a:moveTo>
                              <a:pt x="23" y="739"/>
                            </a:moveTo>
                            <a:lnTo>
                              <a:pt x="7" y="652"/>
                            </a:lnTo>
                            <a:lnTo>
                              <a:pt x="0" y="568"/>
                            </a:lnTo>
                            <a:lnTo>
                              <a:pt x="3" y="510"/>
                            </a:lnTo>
                            <a:lnTo>
                              <a:pt x="13" y="457"/>
                            </a:lnTo>
                            <a:lnTo>
                              <a:pt x="29" y="398"/>
                            </a:lnTo>
                            <a:lnTo>
                              <a:pt x="55" y="340"/>
                            </a:lnTo>
                            <a:lnTo>
                              <a:pt x="88" y="279"/>
                            </a:lnTo>
                            <a:lnTo>
                              <a:pt x="120" y="230"/>
                            </a:lnTo>
                            <a:lnTo>
                              <a:pt x="159" y="181"/>
                            </a:lnTo>
                            <a:lnTo>
                              <a:pt x="205" y="139"/>
                            </a:lnTo>
                            <a:lnTo>
                              <a:pt x="250" y="104"/>
                            </a:lnTo>
                            <a:lnTo>
                              <a:pt x="299" y="75"/>
                            </a:lnTo>
                            <a:lnTo>
                              <a:pt x="359" y="49"/>
                            </a:lnTo>
                            <a:lnTo>
                              <a:pt x="427" y="26"/>
                            </a:lnTo>
                            <a:lnTo>
                              <a:pt x="485" y="10"/>
                            </a:lnTo>
                            <a:lnTo>
                              <a:pt x="557" y="0"/>
                            </a:lnTo>
                            <a:lnTo>
                              <a:pt x="648" y="0"/>
                            </a:lnTo>
                            <a:lnTo>
                              <a:pt x="716" y="13"/>
                            </a:lnTo>
                            <a:lnTo>
                              <a:pt x="797" y="32"/>
                            </a:lnTo>
                            <a:lnTo>
                              <a:pt x="878" y="68"/>
                            </a:lnTo>
                            <a:lnTo>
                              <a:pt x="950" y="110"/>
                            </a:lnTo>
                            <a:lnTo>
                              <a:pt x="998" y="152"/>
                            </a:lnTo>
                            <a:lnTo>
                              <a:pt x="1047" y="201"/>
                            </a:lnTo>
                            <a:lnTo>
                              <a:pt x="1086" y="249"/>
                            </a:lnTo>
                            <a:lnTo>
                              <a:pt x="982" y="172"/>
                            </a:lnTo>
                            <a:lnTo>
                              <a:pt x="927" y="139"/>
                            </a:lnTo>
                            <a:lnTo>
                              <a:pt x="868" y="117"/>
                            </a:lnTo>
                            <a:lnTo>
                              <a:pt x="794" y="94"/>
                            </a:lnTo>
                            <a:lnTo>
                              <a:pt x="722" y="84"/>
                            </a:lnTo>
                            <a:lnTo>
                              <a:pt x="644" y="81"/>
                            </a:lnTo>
                            <a:lnTo>
                              <a:pt x="586" y="84"/>
                            </a:lnTo>
                            <a:lnTo>
                              <a:pt x="524" y="94"/>
                            </a:lnTo>
                            <a:lnTo>
                              <a:pt x="462" y="110"/>
                            </a:lnTo>
                            <a:lnTo>
                              <a:pt x="404" y="130"/>
                            </a:lnTo>
                            <a:lnTo>
                              <a:pt x="339" y="162"/>
                            </a:lnTo>
                            <a:lnTo>
                              <a:pt x="289" y="191"/>
                            </a:lnTo>
                            <a:lnTo>
                              <a:pt x="247" y="227"/>
                            </a:lnTo>
                            <a:lnTo>
                              <a:pt x="198" y="266"/>
                            </a:lnTo>
                            <a:lnTo>
                              <a:pt x="159" y="308"/>
                            </a:lnTo>
                            <a:lnTo>
                              <a:pt x="120" y="366"/>
                            </a:lnTo>
                            <a:lnTo>
                              <a:pt x="85" y="427"/>
                            </a:lnTo>
                            <a:lnTo>
                              <a:pt x="62" y="486"/>
                            </a:lnTo>
                            <a:lnTo>
                              <a:pt x="42" y="555"/>
                            </a:lnTo>
                            <a:lnTo>
                              <a:pt x="29" y="639"/>
                            </a:lnTo>
                            <a:lnTo>
                              <a:pt x="23" y="739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94" name=""/>
                      <p:cNvSpPr/>
                      <p:nvPr/>
                    </p:nvSpPr>
                    <p:spPr>
                      <a:xfrm flipH="1">
                        <a:off x="4609800" y="4160160"/>
                        <a:ext cx="380880" cy="288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98" h="908">
                            <a:moveTo>
                              <a:pt x="0" y="552"/>
                            </a:moveTo>
                            <a:lnTo>
                              <a:pt x="69" y="629"/>
                            </a:lnTo>
                            <a:lnTo>
                              <a:pt x="143" y="697"/>
                            </a:lnTo>
                            <a:lnTo>
                              <a:pt x="211" y="736"/>
                            </a:lnTo>
                            <a:lnTo>
                              <a:pt x="310" y="778"/>
                            </a:lnTo>
                            <a:lnTo>
                              <a:pt x="388" y="801"/>
                            </a:lnTo>
                            <a:lnTo>
                              <a:pt x="459" y="811"/>
                            </a:lnTo>
                            <a:lnTo>
                              <a:pt x="544" y="811"/>
                            </a:lnTo>
                            <a:lnTo>
                              <a:pt x="605" y="804"/>
                            </a:lnTo>
                            <a:lnTo>
                              <a:pt x="680" y="791"/>
                            </a:lnTo>
                            <a:lnTo>
                              <a:pt x="755" y="769"/>
                            </a:lnTo>
                            <a:lnTo>
                              <a:pt x="817" y="736"/>
                            </a:lnTo>
                            <a:lnTo>
                              <a:pt x="875" y="701"/>
                            </a:lnTo>
                            <a:lnTo>
                              <a:pt x="927" y="665"/>
                            </a:lnTo>
                            <a:lnTo>
                              <a:pt x="979" y="613"/>
                            </a:lnTo>
                            <a:lnTo>
                              <a:pt x="1031" y="555"/>
                            </a:lnTo>
                            <a:lnTo>
                              <a:pt x="1071" y="500"/>
                            </a:lnTo>
                            <a:lnTo>
                              <a:pt x="1094" y="445"/>
                            </a:lnTo>
                            <a:lnTo>
                              <a:pt x="1123" y="357"/>
                            </a:lnTo>
                            <a:lnTo>
                              <a:pt x="1142" y="267"/>
                            </a:lnTo>
                            <a:lnTo>
                              <a:pt x="1146" y="186"/>
                            </a:lnTo>
                            <a:lnTo>
                              <a:pt x="1133" y="97"/>
                            </a:lnTo>
                            <a:lnTo>
                              <a:pt x="1103" y="0"/>
                            </a:lnTo>
                            <a:lnTo>
                              <a:pt x="1133" y="52"/>
                            </a:lnTo>
                            <a:lnTo>
                              <a:pt x="1165" y="126"/>
                            </a:lnTo>
                            <a:lnTo>
                              <a:pt x="1181" y="195"/>
                            </a:lnTo>
                            <a:lnTo>
                              <a:pt x="1198" y="260"/>
                            </a:lnTo>
                            <a:lnTo>
                              <a:pt x="1194" y="315"/>
                            </a:lnTo>
                            <a:lnTo>
                              <a:pt x="1191" y="390"/>
                            </a:lnTo>
                            <a:lnTo>
                              <a:pt x="1152" y="532"/>
                            </a:lnTo>
                            <a:lnTo>
                              <a:pt x="1113" y="610"/>
                            </a:lnTo>
                            <a:lnTo>
                              <a:pt x="1064" y="678"/>
                            </a:lnTo>
                            <a:lnTo>
                              <a:pt x="1011" y="736"/>
                            </a:lnTo>
                            <a:lnTo>
                              <a:pt x="959" y="778"/>
                            </a:lnTo>
                            <a:lnTo>
                              <a:pt x="888" y="827"/>
                            </a:lnTo>
                            <a:lnTo>
                              <a:pt x="817" y="859"/>
                            </a:lnTo>
                            <a:lnTo>
                              <a:pt x="748" y="882"/>
                            </a:lnTo>
                            <a:lnTo>
                              <a:pt x="661" y="905"/>
                            </a:lnTo>
                            <a:lnTo>
                              <a:pt x="596" y="908"/>
                            </a:lnTo>
                            <a:lnTo>
                              <a:pt x="524" y="908"/>
                            </a:lnTo>
                            <a:lnTo>
                              <a:pt x="453" y="895"/>
                            </a:lnTo>
                            <a:lnTo>
                              <a:pt x="375" y="879"/>
                            </a:lnTo>
                            <a:lnTo>
                              <a:pt x="323" y="859"/>
                            </a:lnTo>
                            <a:lnTo>
                              <a:pt x="254" y="824"/>
                            </a:lnTo>
                            <a:lnTo>
                              <a:pt x="195" y="791"/>
                            </a:lnTo>
                            <a:lnTo>
                              <a:pt x="140" y="746"/>
                            </a:lnTo>
                            <a:lnTo>
                              <a:pt x="82" y="684"/>
                            </a:lnTo>
                            <a:lnTo>
                              <a:pt x="26" y="607"/>
                            </a:lnTo>
                            <a:lnTo>
                              <a:pt x="0" y="552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95" name=""/>
                    <p:cNvGrpSpPr/>
                    <p:nvPr/>
                  </p:nvGrpSpPr>
                  <p:grpSpPr>
                    <a:xfrm>
                      <a:off x="4611240" y="4050720"/>
                      <a:ext cx="401760" cy="380160"/>
                      <a:chOff x="4611240" y="4050720"/>
                      <a:chExt cx="401760" cy="380160"/>
                    </a:xfrm>
                  </p:grpSpPr>
                  <p:sp>
                    <p:nvSpPr>
                      <p:cNvPr id="2696" name=""/>
                      <p:cNvSpPr/>
                      <p:nvPr/>
                    </p:nvSpPr>
                    <p:spPr>
                      <a:xfrm flipH="1">
                        <a:off x="4892040" y="4335840"/>
                        <a:ext cx="98280" cy="9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1" h="300">
                            <a:moveTo>
                              <a:pt x="0" y="0"/>
                            </a:moveTo>
                            <a:lnTo>
                              <a:pt x="33" y="60"/>
                            </a:lnTo>
                            <a:lnTo>
                              <a:pt x="64" y="107"/>
                            </a:lnTo>
                            <a:lnTo>
                              <a:pt x="98" y="149"/>
                            </a:lnTo>
                            <a:lnTo>
                              <a:pt x="150" y="199"/>
                            </a:lnTo>
                            <a:lnTo>
                              <a:pt x="189" y="232"/>
                            </a:lnTo>
                            <a:lnTo>
                              <a:pt x="238" y="263"/>
                            </a:lnTo>
                            <a:lnTo>
                              <a:pt x="311" y="300"/>
                            </a:lnTo>
                            <a:lnTo>
                              <a:pt x="230" y="190"/>
                            </a:lnTo>
                            <a:lnTo>
                              <a:pt x="184" y="164"/>
                            </a:lnTo>
                            <a:lnTo>
                              <a:pt x="152" y="141"/>
                            </a:lnTo>
                            <a:lnTo>
                              <a:pt x="104" y="109"/>
                            </a:lnTo>
                            <a:lnTo>
                              <a:pt x="67" y="74"/>
                            </a:lnTo>
                            <a:lnTo>
                              <a:pt x="38" y="45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97" name=""/>
                      <p:cNvSpPr/>
                      <p:nvPr/>
                    </p:nvSpPr>
                    <p:spPr>
                      <a:xfrm flipH="1">
                        <a:off x="4610880" y="4158360"/>
                        <a:ext cx="34920" cy="18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590">
                            <a:moveTo>
                              <a:pt x="21" y="0"/>
                            </a:moveTo>
                            <a:lnTo>
                              <a:pt x="42" y="40"/>
                            </a:lnTo>
                            <a:lnTo>
                              <a:pt x="56" y="75"/>
                            </a:lnTo>
                            <a:lnTo>
                              <a:pt x="71" y="111"/>
                            </a:lnTo>
                            <a:lnTo>
                              <a:pt x="82" y="145"/>
                            </a:lnTo>
                            <a:lnTo>
                              <a:pt x="91" y="178"/>
                            </a:lnTo>
                            <a:lnTo>
                              <a:pt x="107" y="235"/>
                            </a:lnTo>
                            <a:lnTo>
                              <a:pt x="111" y="291"/>
                            </a:lnTo>
                            <a:lnTo>
                              <a:pt x="108" y="377"/>
                            </a:lnTo>
                            <a:lnTo>
                              <a:pt x="101" y="436"/>
                            </a:lnTo>
                            <a:lnTo>
                              <a:pt x="89" y="483"/>
                            </a:lnTo>
                            <a:lnTo>
                              <a:pt x="70" y="533"/>
                            </a:lnTo>
                            <a:lnTo>
                              <a:pt x="45" y="590"/>
                            </a:lnTo>
                            <a:lnTo>
                              <a:pt x="0" y="479"/>
                            </a:lnTo>
                            <a:lnTo>
                              <a:pt x="21" y="430"/>
                            </a:lnTo>
                            <a:lnTo>
                              <a:pt x="30" y="404"/>
                            </a:lnTo>
                            <a:lnTo>
                              <a:pt x="42" y="371"/>
                            </a:lnTo>
                            <a:lnTo>
                              <a:pt x="50" y="336"/>
                            </a:lnTo>
                            <a:lnTo>
                              <a:pt x="56" y="283"/>
                            </a:lnTo>
                            <a:lnTo>
                              <a:pt x="59" y="239"/>
                            </a:lnTo>
                            <a:lnTo>
                              <a:pt x="59" y="173"/>
                            </a:lnTo>
                            <a:lnTo>
                              <a:pt x="50" y="114"/>
                            </a:lnTo>
                            <a:lnTo>
                              <a:pt x="39" y="65"/>
                            </a:lnTo>
                            <a:lnTo>
                              <a:pt x="32" y="39"/>
                            </a:lnTo>
                            <a:lnTo>
                              <a:pt x="2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98" name=""/>
                      <p:cNvSpPr/>
                      <p:nvPr/>
                    </p:nvSpPr>
                    <p:spPr>
                      <a:xfrm flipH="1">
                        <a:off x="4690800" y="4050720"/>
                        <a:ext cx="13968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1" h="178">
                            <a:moveTo>
                              <a:pt x="0" y="0"/>
                            </a:moveTo>
                            <a:lnTo>
                              <a:pt x="33" y="65"/>
                            </a:lnTo>
                            <a:lnTo>
                              <a:pt x="85" y="62"/>
                            </a:lnTo>
                            <a:lnTo>
                              <a:pt x="133" y="65"/>
                            </a:lnTo>
                            <a:lnTo>
                              <a:pt x="177" y="72"/>
                            </a:lnTo>
                            <a:lnTo>
                              <a:pt x="218" y="79"/>
                            </a:lnTo>
                            <a:lnTo>
                              <a:pt x="259" y="90"/>
                            </a:lnTo>
                            <a:lnTo>
                              <a:pt x="288" y="99"/>
                            </a:lnTo>
                            <a:lnTo>
                              <a:pt x="324" y="114"/>
                            </a:lnTo>
                            <a:lnTo>
                              <a:pt x="367" y="134"/>
                            </a:lnTo>
                            <a:lnTo>
                              <a:pt x="441" y="178"/>
                            </a:lnTo>
                            <a:lnTo>
                              <a:pt x="398" y="133"/>
                            </a:lnTo>
                            <a:lnTo>
                              <a:pt x="368" y="110"/>
                            </a:lnTo>
                            <a:lnTo>
                              <a:pt x="328" y="84"/>
                            </a:lnTo>
                            <a:lnTo>
                              <a:pt x="303" y="69"/>
                            </a:lnTo>
                            <a:lnTo>
                              <a:pt x="247" y="43"/>
                            </a:lnTo>
                            <a:lnTo>
                              <a:pt x="212" y="31"/>
                            </a:lnTo>
                            <a:lnTo>
                              <a:pt x="183" y="21"/>
                            </a:lnTo>
                            <a:lnTo>
                              <a:pt x="155" y="14"/>
                            </a:lnTo>
                            <a:lnTo>
                              <a:pt x="113" y="7"/>
                            </a:lnTo>
                            <a:lnTo>
                              <a:pt x="69" y="1"/>
                            </a:lnTo>
                            <a:lnTo>
                              <a:pt x="19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99" name=""/>
                      <p:cNvSpPr/>
                      <p:nvPr/>
                    </p:nvSpPr>
                    <p:spPr>
                      <a:xfrm flipH="1">
                        <a:off x="4968360" y="4129560"/>
                        <a:ext cx="44280" cy="13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1" h="417">
                            <a:moveTo>
                              <a:pt x="0" y="320"/>
                            </a:moveTo>
                            <a:lnTo>
                              <a:pt x="3" y="288"/>
                            </a:lnTo>
                            <a:lnTo>
                              <a:pt x="5" y="252"/>
                            </a:lnTo>
                            <a:lnTo>
                              <a:pt x="15" y="195"/>
                            </a:lnTo>
                            <a:lnTo>
                              <a:pt x="26" y="150"/>
                            </a:lnTo>
                            <a:lnTo>
                              <a:pt x="41" y="109"/>
                            </a:lnTo>
                            <a:lnTo>
                              <a:pt x="60" y="67"/>
                            </a:lnTo>
                            <a:lnTo>
                              <a:pt x="78" y="34"/>
                            </a:lnTo>
                            <a:lnTo>
                              <a:pt x="99" y="0"/>
                            </a:lnTo>
                            <a:lnTo>
                              <a:pt x="141" y="54"/>
                            </a:lnTo>
                            <a:lnTo>
                              <a:pt x="117" y="86"/>
                            </a:lnTo>
                            <a:lnTo>
                              <a:pt x="99" y="115"/>
                            </a:lnTo>
                            <a:lnTo>
                              <a:pt x="85" y="142"/>
                            </a:lnTo>
                            <a:lnTo>
                              <a:pt x="65" y="180"/>
                            </a:lnTo>
                            <a:lnTo>
                              <a:pt x="52" y="213"/>
                            </a:lnTo>
                            <a:lnTo>
                              <a:pt x="44" y="246"/>
                            </a:lnTo>
                            <a:lnTo>
                              <a:pt x="34" y="278"/>
                            </a:lnTo>
                            <a:lnTo>
                              <a:pt x="28" y="314"/>
                            </a:lnTo>
                            <a:lnTo>
                              <a:pt x="23" y="357"/>
                            </a:lnTo>
                            <a:lnTo>
                              <a:pt x="18" y="400"/>
                            </a:lnTo>
                            <a:lnTo>
                              <a:pt x="11" y="417"/>
                            </a:lnTo>
                            <a:lnTo>
                              <a:pt x="0" y="32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700" name=""/>
                  <p:cNvSpPr/>
                  <p:nvPr/>
                </p:nvSpPr>
                <p:spPr>
                  <a:xfrm flipH="1">
                    <a:off x="4609440" y="4070160"/>
                    <a:ext cx="398520" cy="380520"/>
                  </a:xfrm>
                  <a:prstGeom prst="ellipse">
                    <a:avLst/>
                  </a:prstGeom>
                  <a:noFill/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01" name=""/>
                  <p:cNvGrpSpPr/>
                  <p:nvPr/>
                </p:nvGrpSpPr>
                <p:grpSpPr>
                  <a:xfrm>
                    <a:off x="4625640" y="4038480"/>
                    <a:ext cx="398520" cy="380880"/>
                    <a:chOff x="4625640" y="4038480"/>
                    <a:chExt cx="398520" cy="380880"/>
                  </a:xfrm>
                </p:grpSpPr>
                <p:sp>
                  <p:nvSpPr>
                    <p:cNvPr id="2702" name=""/>
                    <p:cNvSpPr/>
                    <p:nvPr/>
                  </p:nvSpPr>
                  <p:spPr>
                    <a:xfrm flipH="1">
                      <a:off x="4632120" y="4044600"/>
                      <a:ext cx="387360" cy="369720"/>
                    </a:xfrm>
                    <a:prstGeom prst="ellipse">
                      <a:avLst/>
                    </a:prstGeom>
                    <a:noFill/>
                    <a:ln w="14400">
                      <a:solidFill>
                        <a:srgbClr val="9f9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3" name=""/>
                    <p:cNvSpPr/>
                    <p:nvPr/>
                  </p:nvSpPr>
                  <p:spPr>
                    <a:xfrm flipH="1">
                      <a:off x="4625280" y="4038480"/>
                      <a:ext cx="398520" cy="380880"/>
                    </a:xfrm>
                    <a:prstGeom prst="ellipse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4" name=""/>
                    <p:cNvSpPr/>
                    <p:nvPr/>
                  </p:nvSpPr>
                  <p:spPr>
                    <a:xfrm flipH="1">
                      <a:off x="4637880" y="4051080"/>
                      <a:ext cx="374760" cy="356760"/>
                    </a:xfrm>
                    <a:prstGeom prst="ellipse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705" name=""/>
                <p:cNvGrpSpPr/>
                <p:nvPr/>
              </p:nvGrpSpPr>
              <p:grpSpPr>
                <a:xfrm>
                  <a:off x="4594680" y="4397040"/>
                  <a:ext cx="202680" cy="315360"/>
                  <a:chOff x="4594680" y="4397040"/>
                  <a:chExt cx="202680" cy="315360"/>
                </a:xfrm>
              </p:grpSpPr>
              <p:sp>
                <p:nvSpPr>
                  <p:cNvPr id="2706" name=""/>
                  <p:cNvSpPr/>
                  <p:nvPr/>
                </p:nvSpPr>
                <p:spPr>
                  <a:xfrm flipH="1">
                    <a:off x="4600800" y="4412520"/>
                    <a:ext cx="19476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11" h="873">
                        <a:moveTo>
                          <a:pt x="0" y="65"/>
                        </a:moveTo>
                        <a:lnTo>
                          <a:pt x="433" y="873"/>
                        </a:lnTo>
                        <a:lnTo>
                          <a:pt x="611" y="783"/>
                        </a:lnTo>
                        <a:lnTo>
                          <a:pt x="175" y="0"/>
                        </a:lnTo>
                        <a:lnTo>
                          <a:pt x="0" y="65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7" name=""/>
                  <p:cNvSpPr/>
                  <p:nvPr/>
                </p:nvSpPr>
                <p:spPr>
                  <a:xfrm flipH="1">
                    <a:off x="4737600" y="4397040"/>
                    <a:ext cx="5832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38" y="13843"/>
                        </a:moveTo>
                        <a:arcTo wR="10800" hR="10800" stAng="9818105" swAng="1055423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38" y="13843"/>
                        </a:moveTo>
                        <a:arcTo wR="10800" hR="10800" stAng="9818105" swAng="10554234"/>
                      </a:path>
                    </a:pathLst>
                  </a:custGeom>
                  <a:solidFill>
                    <a:srgbClr val="5f3f1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8" name=""/>
                  <p:cNvSpPr/>
                  <p:nvPr/>
                </p:nvSpPr>
                <p:spPr>
                  <a:xfrm flipH="1">
                    <a:off x="4734720" y="4401360"/>
                    <a:ext cx="5940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59" y="11931"/>
                        </a:moveTo>
                        <a:arcTo wR="10800" hR="10800" stAng="10439460" swAng="1005444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59" y="11931"/>
                        </a:moveTo>
                        <a:arcTo wR="10800" hR="10800" stAng="10439460" swAng="10054443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9" name=""/>
                  <p:cNvSpPr/>
                  <p:nvPr/>
                </p:nvSpPr>
                <p:spPr>
                  <a:xfrm flipH="1">
                    <a:off x="4760640" y="4401360"/>
                    <a:ext cx="3636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223">
                        <a:moveTo>
                          <a:pt x="3" y="103"/>
                        </a:moveTo>
                        <a:lnTo>
                          <a:pt x="0" y="88"/>
                        </a:lnTo>
                        <a:lnTo>
                          <a:pt x="0" y="74"/>
                        </a:lnTo>
                        <a:lnTo>
                          <a:pt x="2" y="62"/>
                        </a:lnTo>
                        <a:lnTo>
                          <a:pt x="6" y="45"/>
                        </a:lnTo>
                        <a:lnTo>
                          <a:pt x="13" y="31"/>
                        </a:lnTo>
                        <a:lnTo>
                          <a:pt x="22" y="18"/>
                        </a:lnTo>
                        <a:lnTo>
                          <a:pt x="33" y="7"/>
                        </a:lnTo>
                        <a:lnTo>
                          <a:pt x="44" y="0"/>
                        </a:lnTo>
                        <a:lnTo>
                          <a:pt x="115" y="121"/>
                        </a:lnTo>
                        <a:lnTo>
                          <a:pt x="102" y="128"/>
                        </a:lnTo>
                        <a:lnTo>
                          <a:pt x="94" y="137"/>
                        </a:lnTo>
                        <a:lnTo>
                          <a:pt x="85" y="145"/>
                        </a:lnTo>
                        <a:lnTo>
                          <a:pt x="79" y="156"/>
                        </a:lnTo>
                        <a:lnTo>
                          <a:pt x="71" y="176"/>
                        </a:lnTo>
                        <a:lnTo>
                          <a:pt x="67" y="202"/>
                        </a:lnTo>
                        <a:lnTo>
                          <a:pt x="67" y="223"/>
                        </a:lnTo>
                        <a:lnTo>
                          <a:pt x="3" y="103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0" name=""/>
                  <p:cNvSpPr/>
                  <p:nvPr/>
                </p:nvSpPr>
                <p:spPr>
                  <a:xfrm flipH="1">
                    <a:off x="4736160" y="4398120"/>
                    <a:ext cx="594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58" y="13146"/>
                        </a:moveTo>
                        <a:arcTo wR="10800" hR="10800" stAng="10047177" swAng="48759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58" y="13146"/>
                        </a:moveTo>
                        <a:arcTo wR="10800" hR="10800" stAng="10047177" swAng="4875948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1" name=""/>
                  <p:cNvSpPr/>
                  <p:nvPr/>
                </p:nvSpPr>
                <p:spPr>
                  <a:xfrm flipH="1">
                    <a:off x="4715640" y="4436280"/>
                    <a:ext cx="594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3"/>
                        </a:moveTo>
                        <a:arcTo wR="10800" hR="10800" stAng="9986129" swAng="1042014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3"/>
                        </a:moveTo>
                        <a:arcTo wR="10800" hR="10800" stAng="9986129" swAng="10420145"/>
                      </a:path>
                    </a:pathLst>
                  </a:custGeom>
                  <a:solidFill>
                    <a:srgbClr val="7f3f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12" name=""/>
                  <p:cNvGrpSpPr/>
                  <p:nvPr/>
                </p:nvGrpSpPr>
                <p:grpSpPr>
                  <a:xfrm>
                    <a:off x="4711680" y="4440960"/>
                    <a:ext cx="61920" cy="61920"/>
                    <a:chOff x="4711680" y="4440960"/>
                    <a:chExt cx="61920" cy="61920"/>
                  </a:xfrm>
                </p:grpSpPr>
                <p:grpSp>
                  <p:nvGrpSpPr>
                    <p:cNvPr id="2713" name=""/>
                    <p:cNvGrpSpPr/>
                    <p:nvPr/>
                  </p:nvGrpSpPr>
                  <p:grpSpPr>
                    <a:xfrm>
                      <a:off x="4714560" y="4440960"/>
                      <a:ext cx="59040" cy="55800"/>
                      <a:chOff x="4714560" y="4440960"/>
                      <a:chExt cx="59040" cy="55800"/>
                    </a:xfrm>
                  </p:grpSpPr>
                  <p:sp>
                    <p:nvSpPr>
                      <p:cNvPr id="2714" name=""/>
                      <p:cNvSpPr/>
                      <p:nvPr/>
                    </p:nvSpPr>
                    <p:spPr>
                      <a:xfrm flipH="1">
                        <a:off x="4714560" y="4440960"/>
                        <a:ext cx="5904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301" y="13333"/>
                            </a:moveTo>
                            <a:arcTo wR="10800" hR="10800" stAng="9986129" swAng="10606913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301" y="13333"/>
                            </a:moveTo>
                            <a:arcTo wR="10800" hR="10800" stAng="9986129" swAng="10606913"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15" name=""/>
                      <p:cNvSpPr/>
                      <p:nvPr/>
                    </p:nvSpPr>
                    <p:spPr>
                      <a:xfrm flipH="1">
                        <a:off x="4714560" y="4440960"/>
                        <a:ext cx="5868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301" y="13333"/>
                            </a:moveTo>
                            <a:arcTo wR="10800" hR="10800" stAng="9986129" swAng="4570572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301" y="13333"/>
                            </a:moveTo>
                            <a:arcTo wR="10800" hR="10800" stAng="9986129" swAng="4570572"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16" name=""/>
                      <p:cNvSpPr/>
                      <p:nvPr/>
                    </p:nvSpPr>
                    <p:spPr>
                      <a:xfrm flipH="1">
                        <a:off x="4714920" y="4440960"/>
                        <a:ext cx="5760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6" y="13270"/>
                            </a:moveTo>
                            <a:arcTo wR="10800" hR="10800" stAng="10006785" swAng="1061132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6" y="13270"/>
                            </a:moveTo>
                            <a:arcTo wR="10800" hR="10800" stAng="10006785" swAng="10611320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717" name=""/>
                    <p:cNvSpPr/>
                    <p:nvPr/>
                  </p:nvSpPr>
                  <p:spPr>
                    <a:xfrm flipH="1">
                      <a:off x="4711680" y="4447080"/>
                      <a:ext cx="5760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6" y="13270"/>
                          </a:moveTo>
                          <a:arcTo wR="10800" hR="10800" stAng="10006785" swAng="1061132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6" y="13270"/>
                          </a:moveTo>
                          <a:arcTo wR="10800" hR="10800" stAng="10006785" swAng="10611320"/>
                        </a:path>
                      </a:pathLst>
                    </a:custGeom>
                    <a:solidFill>
                      <a:srgbClr val="7f3f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18" name=""/>
                  <p:cNvGrpSpPr/>
                  <p:nvPr/>
                </p:nvGrpSpPr>
                <p:grpSpPr>
                  <a:xfrm>
                    <a:off x="4705920" y="4451400"/>
                    <a:ext cx="61560" cy="62280"/>
                    <a:chOff x="4705920" y="4451400"/>
                    <a:chExt cx="61560" cy="62280"/>
                  </a:xfrm>
                </p:grpSpPr>
                <p:grpSp>
                  <p:nvGrpSpPr>
                    <p:cNvPr id="2719" name=""/>
                    <p:cNvGrpSpPr/>
                    <p:nvPr/>
                  </p:nvGrpSpPr>
                  <p:grpSpPr>
                    <a:xfrm>
                      <a:off x="4708080" y="4451400"/>
                      <a:ext cx="59400" cy="57240"/>
                      <a:chOff x="4708080" y="4451400"/>
                      <a:chExt cx="59400" cy="57240"/>
                    </a:xfrm>
                  </p:grpSpPr>
                  <p:sp>
                    <p:nvSpPr>
                      <p:cNvPr id="2720" name=""/>
                      <p:cNvSpPr/>
                      <p:nvPr/>
                    </p:nvSpPr>
                    <p:spPr>
                      <a:xfrm flipH="1">
                        <a:off x="4708440" y="4452120"/>
                        <a:ext cx="5868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5" y="13266"/>
                            </a:moveTo>
                            <a:arcTo wR="10800" hR="10800" stAng="10007935" swAng="108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5" y="13266"/>
                            </a:moveTo>
                            <a:arcTo wR="10800" hR="10800" stAng="10007935" swAng="10800000"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21" name=""/>
                      <p:cNvSpPr/>
                      <p:nvPr/>
                    </p:nvSpPr>
                    <p:spPr>
                      <a:xfrm flipH="1">
                        <a:off x="4707720" y="4451400"/>
                        <a:ext cx="59400" cy="5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5" y="13266"/>
                            </a:moveTo>
                            <a:arcTo wR="10800" hR="10800" stAng="10007935" swAng="4415176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5" y="13266"/>
                            </a:moveTo>
                            <a:arcTo wR="10800" hR="10800" stAng="10007935" swAng="4415176"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22" name=""/>
                      <p:cNvSpPr/>
                      <p:nvPr/>
                    </p:nvSpPr>
                    <p:spPr>
                      <a:xfrm flipH="1">
                        <a:off x="4709160" y="4452120"/>
                        <a:ext cx="56880" cy="5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44" y="13084"/>
                            </a:moveTo>
                            <a:arcTo wR="10800" hR="10800" stAng="10067453" swAng="1071685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44" y="13084"/>
                            </a:moveTo>
                            <a:arcTo wR="10800" hR="10800" stAng="10067453" swAng="10716857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723" name=""/>
                    <p:cNvSpPr/>
                    <p:nvPr/>
                  </p:nvSpPr>
                  <p:spPr>
                    <a:xfrm flipH="1">
                      <a:off x="4705560" y="4458240"/>
                      <a:ext cx="5868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301" y="13333"/>
                          </a:moveTo>
                          <a:arcTo wR="10800" hR="10800" stAng="9986129" swAng="108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301" y="13333"/>
                          </a:moveTo>
                          <a:arcTo wR="10800" hR="10800" stAng="9986129" swAng="10800000"/>
                        </a:path>
                      </a:pathLst>
                    </a:custGeom>
                    <a:solidFill>
                      <a:srgbClr val="7f3f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4" name=""/>
                  <p:cNvGrpSpPr/>
                  <p:nvPr/>
                </p:nvGrpSpPr>
                <p:grpSpPr>
                  <a:xfrm>
                    <a:off x="4701600" y="4462560"/>
                    <a:ext cx="59400" cy="56880"/>
                    <a:chOff x="4701600" y="4462560"/>
                    <a:chExt cx="59400" cy="56880"/>
                  </a:xfrm>
                </p:grpSpPr>
                <p:sp>
                  <p:nvSpPr>
                    <p:cNvPr id="2725" name=""/>
                    <p:cNvSpPr/>
                    <p:nvPr/>
                  </p:nvSpPr>
                  <p:spPr>
                    <a:xfrm flipH="1">
                      <a:off x="4701960" y="4463280"/>
                      <a:ext cx="586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3" y="12671"/>
                          </a:moveTo>
                          <a:arcTo wR="10800" hR="10800" stAng="10201338" swAng="1060659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3" y="12671"/>
                          </a:moveTo>
                          <a:arcTo wR="10800" hR="10800" stAng="10201338" swAng="10606598"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6" name=""/>
                    <p:cNvSpPr/>
                    <p:nvPr/>
                  </p:nvSpPr>
                  <p:spPr>
                    <a:xfrm flipH="1">
                      <a:off x="4701240" y="4462560"/>
                      <a:ext cx="59400" cy="5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3" y="12671"/>
                          </a:moveTo>
                          <a:arcTo wR="10800" hR="10800" stAng="10201338" swAng="422177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3" y="12671"/>
                          </a:moveTo>
                          <a:arcTo wR="10800" hR="10800" stAng="10201338" swAng="4221774"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080" bIns="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7" name=""/>
                  <p:cNvGrpSpPr/>
                  <p:nvPr/>
                </p:nvGrpSpPr>
                <p:grpSpPr>
                  <a:xfrm>
                    <a:off x="4699440" y="4463280"/>
                    <a:ext cx="61560" cy="61200"/>
                    <a:chOff x="4699440" y="4463280"/>
                    <a:chExt cx="61560" cy="61200"/>
                  </a:xfrm>
                </p:grpSpPr>
                <p:sp>
                  <p:nvSpPr>
                    <p:cNvPr id="2728" name=""/>
                    <p:cNvSpPr/>
                    <p:nvPr/>
                  </p:nvSpPr>
                  <p:spPr>
                    <a:xfrm flipH="1">
                      <a:off x="4701960" y="4463280"/>
                      <a:ext cx="586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5" y="13266"/>
                          </a:moveTo>
                          <a:arcTo wR="10800" hR="10800" stAng="10007935" swAng="108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5" y="13266"/>
                          </a:moveTo>
                          <a:arcTo wR="10800" hR="10800" stAng="10007935" swAng="10800000"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9" name=""/>
                    <p:cNvSpPr/>
                    <p:nvPr/>
                  </p:nvSpPr>
                  <p:spPr>
                    <a:xfrm flipH="1">
                      <a:off x="4699080" y="4469400"/>
                      <a:ext cx="5868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73" y="12723"/>
                          </a:moveTo>
                          <a:arcTo wR="10800" hR="10800" stAng="10184591" swAng="106015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73" y="12723"/>
                          </a:moveTo>
                          <a:arcTo wR="10800" hR="10800" stAng="10184591" swAng="10601538"/>
                        </a:path>
                      </a:pathLst>
                    </a:custGeom>
                    <a:solidFill>
                      <a:srgbClr val="7f3f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30" name=""/>
                  <p:cNvGrpSpPr/>
                  <p:nvPr/>
                </p:nvGrpSpPr>
                <p:grpSpPr>
                  <a:xfrm>
                    <a:off x="4601520" y="4414320"/>
                    <a:ext cx="192960" cy="276840"/>
                    <a:chOff x="4601520" y="4414320"/>
                    <a:chExt cx="192960" cy="276840"/>
                  </a:xfrm>
                </p:grpSpPr>
                <p:sp>
                  <p:nvSpPr>
                    <p:cNvPr id="2731" name=""/>
                    <p:cNvSpPr/>
                    <p:nvPr/>
                  </p:nvSpPr>
                  <p:spPr>
                    <a:xfrm flipH="1">
                      <a:off x="4601520" y="4414320"/>
                      <a:ext cx="137520" cy="2469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2" name=""/>
                    <p:cNvSpPr/>
                    <p:nvPr/>
                  </p:nvSpPr>
                  <p:spPr>
                    <a:xfrm flipH="1">
                      <a:off x="4656600" y="4432680"/>
                      <a:ext cx="137880" cy="258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33" name=""/>
                  <p:cNvGrpSpPr/>
                  <p:nvPr/>
                </p:nvGrpSpPr>
                <p:grpSpPr>
                  <a:xfrm>
                    <a:off x="4693320" y="4473720"/>
                    <a:ext cx="61200" cy="60840"/>
                    <a:chOff x="4693320" y="4473720"/>
                    <a:chExt cx="61200" cy="60840"/>
                  </a:xfrm>
                </p:grpSpPr>
                <p:grpSp>
                  <p:nvGrpSpPr>
                    <p:cNvPr id="2734" name=""/>
                    <p:cNvGrpSpPr/>
                    <p:nvPr/>
                  </p:nvGrpSpPr>
                  <p:grpSpPr>
                    <a:xfrm>
                      <a:off x="4695840" y="4473720"/>
                      <a:ext cx="58680" cy="56880"/>
                      <a:chOff x="4695840" y="4473720"/>
                      <a:chExt cx="58680" cy="56880"/>
                    </a:xfrm>
                  </p:grpSpPr>
                  <p:sp>
                    <p:nvSpPr>
                      <p:cNvPr id="2735" name=""/>
                      <p:cNvSpPr/>
                      <p:nvPr/>
                    </p:nvSpPr>
                    <p:spPr>
                      <a:xfrm flipH="1">
                        <a:off x="4695480" y="4474440"/>
                        <a:ext cx="5868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3" y="12671"/>
                            </a:moveTo>
                            <a:arcTo wR="10800" hR="10800" stAng="10201338" swAng="10606598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3" y="12671"/>
                            </a:moveTo>
                            <a:arcTo wR="10800" hR="10800" stAng="10201338" swAng="10606598"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36" name=""/>
                      <p:cNvSpPr/>
                      <p:nvPr/>
                    </p:nvSpPr>
                    <p:spPr>
                      <a:xfrm flipH="1">
                        <a:off x="4695480" y="4473720"/>
                        <a:ext cx="58680" cy="5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3" y="12671"/>
                            </a:moveTo>
                            <a:arcTo wR="10800" hR="10800" stAng="10201338" swAng="422177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3" y="12671"/>
                            </a:moveTo>
                            <a:arcTo wR="10800" hR="10800" stAng="10201338" swAng="4221774"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080" bIns="10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737" name=""/>
                    <p:cNvSpPr/>
                    <p:nvPr/>
                  </p:nvSpPr>
                  <p:spPr>
                    <a:xfrm flipH="1">
                      <a:off x="4695480" y="4474440"/>
                      <a:ext cx="586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73" y="12723"/>
                          </a:moveTo>
                          <a:arcTo wR="10800" hR="10800" stAng="10184591" swAng="106015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73" y="12723"/>
                          </a:moveTo>
                          <a:arcTo wR="10800" hR="10800" stAng="10184591" swAng="10601538"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8" name=""/>
                    <p:cNvSpPr/>
                    <p:nvPr/>
                  </p:nvSpPr>
                  <p:spPr>
                    <a:xfrm flipH="1">
                      <a:off x="4692960" y="4478760"/>
                      <a:ext cx="586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5" y="13266"/>
                          </a:moveTo>
                          <a:arcTo wR="10800" hR="10800" stAng="10007935" swAng="108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5" y="13266"/>
                          </a:moveTo>
                          <a:arcTo wR="10800" hR="10800" stAng="10007935" swAng="10800000"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39" name=""/>
                  <p:cNvSpPr/>
                  <p:nvPr/>
                </p:nvSpPr>
                <p:spPr>
                  <a:xfrm flipH="1">
                    <a:off x="4634280" y="4480920"/>
                    <a:ext cx="1188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7" h="645">
                        <a:moveTo>
                          <a:pt x="48" y="0"/>
                        </a:moveTo>
                        <a:lnTo>
                          <a:pt x="34" y="9"/>
                        </a:lnTo>
                        <a:lnTo>
                          <a:pt x="23" y="18"/>
                        </a:lnTo>
                        <a:lnTo>
                          <a:pt x="13" y="28"/>
                        </a:lnTo>
                        <a:lnTo>
                          <a:pt x="9" y="39"/>
                        </a:lnTo>
                        <a:lnTo>
                          <a:pt x="4" y="51"/>
                        </a:lnTo>
                        <a:lnTo>
                          <a:pt x="1" y="63"/>
                        </a:lnTo>
                        <a:lnTo>
                          <a:pt x="0" y="77"/>
                        </a:lnTo>
                        <a:lnTo>
                          <a:pt x="0" y="93"/>
                        </a:lnTo>
                        <a:lnTo>
                          <a:pt x="292" y="645"/>
                        </a:lnTo>
                        <a:lnTo>
                          <a:pt x="377" y="58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0" name=""/>
                  <p:cNvSpPr/>
                  <p:nvPr/>
                </p:nvSpPr>
                <p:spPr>
                  <a:xfrm flipH="1">
                    <a:off x="4594680" y="4650840"/>
                    <a:ext cx="64800" cy="61560"/>
                  </a:xfrm>
                  <a:prstGeom prst="ellipse">
                    <a:avLst/>
                  </a:prstGeom>
                  <a:solidFill>
                    <a:srgbClr val="7f5f3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41" name=""/>
              <p:cNvSpPr/>
              <p:nvPr/>
            </p:nvSpPr>
            <p:spPr>
              <a:xfrm>
                <a:off x="2281320" y="3751200"/>
                <a:ext cx="1905120" cy="82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cc3300"/>
                    </a:solidFill>
                    <a:latin typeface="Times New Roman"/>
                  </a:rPr>
                  <a:t>Zoom choix actu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2" name=""/>
            <p:cNvGrpSpPr/>
            <p:nvPr/>
          </p:nvGrpSpPr>
          <p:grpSpPr>
            <a:xfrm>
              <a:off x="1365120" y="4572000"/>
              <a:ext cx="3841920" cy="1620720"/>
              <a:chOff x="1365120" y="4572000"/>
              <a:chExt cx="3841920" cy="1620720"/>
            </a:xfrm>
          </p:grpSpPr>
          <p:grpSp>
            <p:nvGrpSpPr>
              <p:cNvPr id="2743" name=""/>
              <p:cNvGrpSpPr/>
              <p:nvPr/>
            </p:nvGrpSpPr>
            <p:grpSpPr>
              <a:xfrm>
                <a:off x="1625760" y="4572000"/>
                <a:ext cx="3581280" cy="1620720"/>
                <a:chOff x="1625760" y="4572000"/>
                <a:chExt cx="3581280" cy="1620720"/>
              </a:xfrm>
            </p:grpSpPr>
            <p:sp>
              <p:nvSpPr>
                <p:cNvPr id="2744" name=""/>
                <p:cNvSpPr/>
                <p:nvPr/>
              </p:nvSpPr>
              <p:spPr>
                <a:xfrm>
                  <a:off x="1625760" y="5049720"/>
                  <a:ext cx="3581280" cy="1143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5" name=""/>
                <p:cNvGrpSpPr/>
                <p:nvPr/>
              </p:nvGrpSpPr>
              <p:grpSpPr>
                <a:xfrm>
                  <a:off x="3327480" y="5646600"/>
                  <a:ext cx="228600" cy="388800"/>
                  <a:chOff x="3327480" y="5646600"/>
                  <a:chExt cx="228600" cy="388800"/>
                </a:xfrm>
              </p:grpSpPr>
              <p:sp>
                <p:nvSpPr>
                  <p:cNvPr id="2746" name=""/>
                  <p:cNvSpPr/>
                  <p:nvPr/>
                </p:nvSpPr>
                <p:spPr>
                  <a:xfrm>
                    <a:off x="3327480" y="58410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7" name=""/>
                  <p:cNvSpPr/>
                  <p:nvPr/>
                </p:nvSpPr>
                <p:spPr>
                  <a:xfrm flipV="1">
                    <a:off x="3327480" y="56466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8" name=""/>
                <p:cNvGrpSpPr/>
                <p:nvPr/>
              </p:nvGrpSpPr>
              <p:grpSpPr>
                <a:xfrm>
                  <a:off x="3759480" y="5143320"/>
                  <a:ext cx="228600" cy="388800"/>
                  <a:chOff x="3759480" y="5143320"/>
                  <a:chExt cx="228600" cy="388800"/>
                </a:xfrm>
              </p:grpSpPr>
              <p:sp>
                <p:nvSpPr>
                  <p:cNvPr id="2749" name=""/>
                  <p:cNvSpPr/>
                  <p:nvPr/>
                </p:nvSpPr>
                <p:spPr>
                  <a:xfrm>
                    <a:off x="3759480" y="533772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0" name=""/>
                  <p:cNvSpPr/>
                  <p:nvPr/>
                </p:nvSpPr>
                <p:spPr>
                  <a:xfrm flipV="1">
                    <a:off x="3759480" y="514332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1" name=""/>
                <p:cNvGrpSpPr/>
                <p:nvPr/>
              </p:nvGrpSpPr>
              <p:grpSpPr>
                <a:xfrm>
                  <a:off x="4292640" y="5735520"/>
                  <a:ext cx="228600" cy="388800"/>
                  <a:chOff x="4292640" y="5735520"/>
                  <a:chExt cx="228600" cy="388800"/>
                </a:xfrm>
              </p:grpSpPr>
              <p:sp>
                <p:nvSpPr>
                  <p:cNvPr id="2752" name=""/>
                  <p:cNvSpPr/>
                  <p:nvPr/>
                </p:nvSpPr>
                <p:spPr>
                  <a:xfrm>
                    <a:off x="4292640" y="592992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3" name=""/>
                  <p:cNvSpPr/>
                  <p:nvPr/>
                </p:nvSpPr>
                <p:spPr>
                  <a:xfrm flipV="1">
                    <a:off x="4292640" y="573552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4" name=""/>
                <p:cNvGrpSpPr/>
                <p:nvPr/>
              </p:nvGrpSpPr>
              <p:grpSpPr>
                <a:xfrm>
                  <a:off x="4749840" y="5753160"/>
                  <a:ext cx="228600" cy="388800"/>
                  <a:chOff x="4749840" y="5753160"/>
                  <a:chExt cx="228600" cy="388800"/>
                </a:xfrm>
              </p:grpSpPr>
              <p:sp>
                <p:nvSpPr>
                  <p:cNvPr id="2755" name=""/>
                  <p:cNvSpPr/>
                  <p:nvPr/>
                </p:nvSpPr>
                <p:spPr>
                  <a:xfrm>
                    <a:off x="4749840" y="594756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6" name=""/>
                  <p:cNvSpPr/>
                  <p:nvPr/>
                </p:nvSpPr>
                <p:spPr>
                  <a:xfrm flipV="1">
                    <a:off x="4749840" y="575316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57" name=""/>
                <p:cNvSpPr/>
                <p:nvPr/>
              </p:nvSpPr>
              <p:spPr>
                <a:xfrm>
                  <a:off x="1702080" y="5143320"/>
                  <a:ext cx="14475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Assign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00"/>
                      </a:solidFill>
                      <a:latin typeface="Times New Roman"/>
                    </a:rPr>
                    <a:t>Ressource Coopératif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 flipV="1">
                  <a:off x="3606840" y="5570280"/>
                  <a:ext cx="228600" cy="15228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 flipH="1" flipV="1">
                  <a:off x="3911760" y="5570640"/>
                  <a:ext cx="380880" cy="30456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60" name=""/>
                <p:cNvGrpSpPr/>
                <p:nvPr/>
              </p:nvGrpSpPr>
              <p:grpSpPr>
                <a:xfrm>
                  <a:off x="4521240" y="5219640"/>
                  <a:ext cx="228600" cy="388800"/>
                  <a:chOff x="4521240" y="5219640"/>
                  <a:chExt cx="228600" cy="388800"/>
                </a:xfrm>
              </p:grpSpPr>
              <p:sp>
                <p:nvSpPr>
                  <p:cNvPr id="2761" name=""/>
                  <p:cNvSpPr/>
                  <p:nvPr/>
                </p:nvSpPr>
                <p:spPr>
                  <a:xfrm>
                    <a:off x="4521240" y="54140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2" name=""/>
                  <p:cNvSpPr/>
                  <p:nvPr/>
                </p:nvSpPr>
                <p:spPr>
                  <a:xfrm flipV="1">
                    <a:off x="4521240" y="521964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63" name=""/>
                <p:cNvSpPr/>
                <p:nvPr/>
              </p:nvSpPr>
              <p:spPr>
                <a:xfrm flipH="1" flipV="1">
                  <a:off x="3987720" y="5371920"/>
                  <a:ext cx="533160" cy="76320"/>
                </a:xfrm>
                <a:prstGeom prst="line">
                  <a:avLst/>
                </a:prstGeom>
                <a:ln w="9360">
                  <a:solidFill>
                    <a:srgbClr val="003366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64" name=""/>
                <p:cNvGrpSpPr/>
                <p:nvPr/>
              </p:nvGrpSpPr>
              <p:grpSpPr>
                <a:xfrm>
                  <a:off x="3759480" y="5753160"/>
                  <a:ext cx="228600" cy="388800"/>
                  <a:chOff x="3759480" y="5753160"/>
                  <a:chExt cx="228600" cy="388800"/>
                </a:xfrm>
              </p:grpSpPr>
              <p:sp>
                <p:nvSpPr>
                  <p:cNvPr id="2765" name=""/>
                  <p:cNvSpPr/>
                  <p:nvPr/>
                </p:nvSpPr>
                <p:spPr>
                  <a:xfrm>
                    <a:off x="3759480" y="594756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6" name=""/>
                  <p:cNvSpPr/>
                  <p:nvPr/>
                </p:nvSpPr>
                <p:spPr>
                  <a:xfrm flipV="1">
                    <a:off x="3759480" y="575316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67" name=""/>
                <p:cNvGrpSpPr/>
                <p:nvPr/>
              </p:nvGrpSpPr>
              <p:grpSpPr>
                <a:xfrm>
                  <a:off x="3391200" y="5110200"/>
                  <a:ext cx="228600" cy="388800"/>
                  <a:chOff x="3391200" y="5110200"/>
                  <a:chExt cx="228600" cy="388800"/>
                </a:xfrm>
              </p:grpSpPr>
              <p:sp>
                <p:nvSpPr>
                  <p:cNvPr id="2768" name=""/>
                  <p:cNvSpPr/>
                  <p:nvPr/>
                </p:nvSpPr>
                <p:spPr>
                  <a:xfrm>
                    <a:off x="3391200" y="53046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9" name=""/>
                  <p:cNvSpPr/>
                  <p:nvPr/>
                </p:nvSpPr>
                <p:spPr>
                  <a:xfrm flipV="1">
                    <a:off x="3391200" y="5110200"/>
                    <a:ext cx="228600" cy="194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70" name=""/>
                <p:cNvGrpSpPr/>
                <p:nvPr/>
              </p:nvGrpSpPr>
              <p:grpSpPr>
                <a:xfrm>
                  <a:off x="3683160" y="4572000"/>
                  <a:ext cx="380880" cy="545760"/>
                  <a:chOff x="3683160" y="4572000"/>
                  <a:chExt cx="380880" cy="545760"/>
                </a:xfrm>
              </p:grpSpPr>
              <p:sp>
                <p:nvSpPr>
                  <p:cNvPr id="2771" name=""/>
                  <p:cNvSpPr/>
                  <p:nvPr/>
                </p:nvSpPr>
                <p:spPr>
                  <a:xfrm flipV="1">
                    <a:off x="3683160" y="4589280"/>
                    <a:ext cx="203040" cy="528480"/>
                  </a:xfrm>
                  <a:prstGeom prst="upArrow">
                    <a:avLst>
                      <a:gd name="adj1" fmla="val 50000"/>
                      <a:gd name="adj2" fmla="val 65071"/>
                    </a:avLst>
                  </a:prstGeom>
                  <a:solidFill>
                    <a:srgbClr val="003366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2" name=""/>
                  <p:cNvSpPr/>
                  <p:nvPr/>
                </p:nvSpPr>
                <p:spPr>
                  <a:xfrm>
                    <a:off x="3861000" y="4572000"/>
                    <a:ext cx="203040" cy="528840"/>
                  </a:xfrm>
                  <a:prstGeom prst="upArrow">
                    <a:avLst>
                      <a:gd name="adj1" fmla="val 50000"/>
                      <a:gd name="adj2" fmla="val 65115"/>
                    </a:avLst>
                  </a:prstGeom>
                  <a:solidFill>
                    <a:srgbClr val="003366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73" name=""/>
              <p:cNvSpPr/>
              <p:nvPr/>
            </p:nvSpPr>
            <p:spPr>
              <a:xfrm>
                <a:off x="1365120" y="4592520"/>
                <a:ext cx="136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cc3300"/>
                    </a:solidFill>
                    <a:latin typeface="Times New Roman"/>
                  </a:rPr>
                  <a:t>Egalitai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6044C-85FB-47A6-81E2-08362C52FFCF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Sous-sociétés dédiées (utilisateurs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228600" y="0"/>
            <a:ext cx="886464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44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La société dédiée aux utilisateur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Demandeurs &amp;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fr-FR" sz="2800" spc="-1" strike="noStrike" baseline="30000">
                <a:solidFill>
                  <a:srgbClr val="000000"/>
                </a:solidFill>
                <a:latin typeface="Georgia"/>
              </a:rPr>
              <a:t>nt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 sociétés ressourc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GUI &amp; gestion exploitation profil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776" name=""/>
          <p:cNvGrpSpPr/>
          <p:nvPr/>
        </p:nvGrpSpPr>
        <p:grpSpPr>
          <a:xfrm>
            <a:off x="1371600" y="1828800"/>
            <a:ext cx="6781680" cy="2901960"/>
            <a:chOff x="1371600" y="1828800"/>
            <a:chExt cx="6781680" cy="2901960"/>
          </a:xfrm>
        </p:grpSpPr>
        <p:sp>
          <p:nvSpPr>
            <p:cNvPr id="2777" name=""/>
            <p:cNvSpPr/>
            <p:nvPr/>
          </p:nvSpPr>
          <p:spPr>
            <a:xfrm>
              <a:off x="1371600" y="1828800"/>
              <a:ext cx="306072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8" name=""/>
            <p:cNvGrpSpPr/>
            <p:nvPr/>
          </p:nvGrpSpPr>
          <p:grpSpPr>
            <a:xfrm>
              <a:off x="1455480" y="1955880"/>
              <a:ext cx="429840" cy="474120"/>
              <a:chOff x="1455480" y="1955880"/>
              <a:chExt cx="429840" cy="474120"/>
            </a:xfrm>
          </p:grpSpPr>
          <p:grpSp>
            <p:nvGrpSpPr>
              <p:cNvPr id="2779" name=""/>
              <p:cNvGrpSpPr/>
              <p:nvPr/>
            </p:nvGrpSpPr>
            <p:grpSpPr>
              <a:xfrm>
                <a:off x="1601640" y="1955880"/>
                <a:ext cx="283680" cy="388800"/>
                <a:chOff x="1601640" y="1955880"/>
                <a:chExt cx="283680" cy="388800"/>
              </a:xfrm>
            </p:grpSpPr>
            <p:sp>
              <p:nvSpPr>
                <p:cNvPr id="2780" name=""/>
                <p:cNvSpPr/>
                <p:nvPr/>
              </p:nvSpPr>
              <p:spPr>
                <a:xfrm>
                  <a:off x="1601640" y="215028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 flipV="1">
                  <a:off x="1601640" y="195588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2" name=""/>
              <p:cNvGrpSpPr/>
              <p:nvPr/>
            </p:nvGrpSpPr>
            <p:grpSpPr>
              <a:xfrm>
                <a:off x="1549800" y="1984320"/>
                <a:ext cx="283680" cy="388800"/>
                <a:chOff x="1549800" y="1984320"/>
                <a:chExt cx="283680" cy="388800"/>
              </a:xfrm>
            </p:grpSpPr>
            <p:sp>
              <p:nvSpPr>
                <p:cNvPr id="2783" name=""/>
                <p:cNvSpPr/>
                <p:nvPr/>
              </p:nvSpPr>
              <p:spPr>
                <a:xfrm>
                  <a:off x="1549800" y="217872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 flipV="1">
                  <a:off x="1549800" y="198432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5" name=""/>
              <p:cNvGrpSpPr/>
              <p:nvPr/>
            </p:nvGrpSpPr>
            <p:grpSpPr>
              <a:xfrm>
                <a:off x="1507320" y="2012400"/>
                <a:ext cx="283680" cy="388800"/>
                <a:chOff x="1507320" y="2012400"/>
                <a:chExt cx="283680" cy="388800"/>
              </a:xfrm>
            </p:grpSpPr>
            <p:sp>
              <p:nvSpPr>
                <p:cNvPr id="2786" name=""/>
                <p:cNvSpPr/>
                <p:nvPr/>
              </p:nvSpPr>
              <p:spPr>
                <a:xfrm>
                  <a:off x="1507320" y="220680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 flipV="1">
                  <a:off x="1507320" y="201240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8" name=""/>
              <p:cNvGrpSpPr/>
              <p:nvPr/>
            </p:nvGrpSpPr>
            <p:grpSpPr>
              <a:xfrm>
                <a:off x="1455480" y="2041200"/>
                <a:ext cx="283680" cy="388800"/>
                <a:chOff x="1455480" y="2041200"/>
                <a:chExt cx="283680" cy="388800"/>
              </a:xfrm>
            </p:grpSpPr>
            <p:sp>
              <p:nvSpPr>
                <p:cNvPr id="2789" name=""/>
                <p:cNvSpPr/>
                <p:nvPr/>
              </p:nvSpPr>
              <p:spPr>
                <a:xfrm>
                  <a:off x="1455480" y="223560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 flipV="1">
                  <a:off x="1455480" y="2041200"/>
                  <a:ext cx="28368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91" name=""/>
            <p:cNvSpPr/>
            <p:nvPr/>
          </p:nvSpPr>
          <p:spPr>
            <a:xfrm>
              <a:off x="1939680" y="1846440"/>
              <a:ext cx="2492640" cy="7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66"/>
                  </a:solidFill>
                  <a:latin typeface="Times New Roman"/>
                </a:rPr>
                <a:t>Sous-société dédi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66"/>
                  </a:solidFill>
                  <a:latin typeface="Times New Roman"/>
                </a:rPr>
                <a:t>à l'ontolog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3263760" y="3995640"/>
              <a:ext cx="3060720" cy="72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3" name=""/>
            <p:cNvGrpSpPr/>
            <p:nvPr/>
          </p:nvGrpSpPr>
          <p:grpSpPr>
            <a:xfrm>
              <a:off x="3473280" y="4133520"/>
              <a:ext cx="391680" cy="473400"/>
              <a:chOff x="3473280" y="4133520"/>
              <a:chExt cx="391680" cy="473400"/>
            </a:xfrm>
          </p:grpSpPr>
          <p:grpSp>
            <p:nvGrpSpPr>
              <p:cNvPr id="2794" name=""/>
              <p:cNvGrpSpPr/>
              <p:nvPr/>
            </p:nvGrpSpPr>
            <p:grpSpPr>
              <a:xfrm>
                <a:off x="3606480" y="4133520"/>
                <a:ext cx="258480" cy="388440"/>
                <a:chOff x="3606480" y="4133520"/>
                <a:chExt cx="258480" cy="388440"/>
              </a:xfrm>
            </p:grpSpPr>
            <p:sp>
              <p:nvSpPr>
                <p:cNvPr id="2795" name=""/>
                <p:cNvSpPr/>
                <p:nvPr/>
              </p:nvSpPr>
              <p:spPr>
                <a:xfrm>
                  <a:off x="3606480" y="4327920"/>
                  <a:ext cx="2584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 flipV="1">
                  <a:off x="3606480" y="4133160"/>
                  <a:ext cx="2584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7" name=""/>
              <p:cNvGrpSpPr/>
              <p:nvPr/>
            </p:nvGrpSpPr>
            <p:grpSpPr>
              <a:xfrm>
                <a:off x="3559320" y="4161960"/>
                <a:ext cx="258480" cy="388440"/>
                <a:chOff x="3559320" y="4161960"/>
                <a:chExt cx="258480" cy="388440"/>
              </a:xfrm>
            </p:grpSpPr>
            <p:sp>
              <p:nvSpPr>
                <p:cNvPr id="2798" name=""/>
                <p:cNvSpPr/>
                <p:nvPr/>
              </p:nvSpPr>
              <p:spPr>
                <a:xfrm>
                  <a:off x="3559320" y="4356360"/>
                  <a:ext cx="2584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 flipV="1">
                  <a:off x="3559320" y="4161600"/>
                  <a:ext cx="2584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0" name=""/>
              <p:cNvGrpSpPr/>
              <p:nvPr/>
            </p:nvGrpSpPr>
            <p:grpSpPr>
              <a:xfrm>
                <a:off x="3520440" y="4190040"/>
                <a:ext cx="258480" cy="388440"/>
                <a:chOff x="3520440" y="4190040"/>
                <a:chExt cx="258480" cy="388440"/>
              </a:xfrm>
            </p:grpSpPr>
            <p:sp>
              <p:nvSpPr>
                <p:cNvPr id="2801" name=""/>
                <p:cNvSpPr/>
                <p:nvPr/>
              </p:nvSpPr>
              <p:spPr>
                <a:xfrm>
                  <a:off x="3520440" y="4384440"/>
                  <a:ext cx="2584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 flipV="1">
                  <a:off x="3520440" y="4189680"/>
                  <a:ext cx="2584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3" name=""/>
              <p:cNvGrpSpPr/>
              <p:nvPr/>
            </p:nvGrpSpPr>
            <p:grpSpPr>
              <a:xfrm>
                <a:off x="3473280" y="4218480"/>
                <a:ext cx="258480" cy="388440"/>
                <a:chOff x="3473280" y="4218480"/>
                <a:chExt cx="258480" cy="388440"/>
              </a:xfrm>
            </p:grpSpPr>
            <p:sp>
              <p:nvSpPr>
                <p:cNvPr id="2804" name=""/>
                <p:cNvSpPr/>
                <p:nvPr/>
              </p:nvSpPr>
              <p:spPr>
                <a:xfrm>
                  <a:off x="3473280" y="4412880"/>
                  <a:ext cx="2584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 flipV="1">
                  <a:off x="3473280" y="4218120"/>
                  <a:ext cx="2584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06" name=""/>
            <p:cNvSpPr/>
            <p:nvPr/>
          </p:nvSpPr>
          <p:spPr>
            <a:xfrm>
              <a:off x="3975120" y="4025880"/>
              <a:ext cx="23126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3300"/>
                  </a:solidFill>
                  <a:latin typeface="Times New Roman"/>
                </a:rPr>
                <a:t>Sous-société dédi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3300"/>
                  </a:solidFill>
                  <a:latin typeface="Times New Roman"/>
                </a:rPr>
                <a:t>aux utilisat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5091120" y="1828800"/>
              <a:ext cx="306216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8" name=""/>
            <p:cNvGrpSpPr/>
            <p:nvPr/>
          </p:nvGrpSpPr>
          <p:grpSpPr>
            <a:xfrm>
              <a:off x="5302080" y="1943280"/>
              <a:ext cx="396720" cy="474120"/>
              <a:chOff x="5302080" y="1943280"/>
              <a:chExt cx="396720" cy="474120"/>
            </a:xfrm>
          </p:grpSpPr>
          <p:grpSp>
            <p:nvGrpSpPr>
              <p:cNvPr id="2809" name=""/>
              <p:cNvGrpSpPr/>
              <p:nvPr/>
            </p:nvGrpSpPr>
            <p:grpSpPr>
              <a:xfrm>
                <a:off x="5437080" y="1943280"/>
                <a:ext cx="261720" cy="388800"/>
                <a:chOff x="5437080" y="1943280"/>
                <a:chExt cx="261720" cy="388800"/>
              </a:xfrm>
            </p:grpSpPr>
            <p:sp>
              <p:nvSpPr>
                <p:cNvPr id="2810" name=""/>
                <p:cNvSpPr/>
                <p:nvPr/>
              </p:nvSpPr>
              <p:spPr>
                <a:xfrm>
                  <a:off x="5437080" y="213768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 flipV="1">
                  <a:off x="5437080" y="194328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2" name=""/>
              <p:cNvGrpSpPr/>
              <p:nvPr/>
            </p:nvGrpSpPr>
            <p:grpSpPr>
              <a:xfrm>
                <a:off x="5389200" y="1971720"/>
                <a:ext cx="261720" cy="388800"/>
                <a:chOff x="5389200" y="1971720"/>
                <a:chExt cx="261720" cy="388800"/>
              </a:xfrm>
            </p:grpSpPr>
            <p:sp>
              <p:nvSpPr>
                <p:cNvPr id="2813" name=""/>
                <p:cNvSpPr/>
                <p:nvPr/>
              </p:nvSpPr>
              <p:spPr>
                <a:xfrm>
                  <a:off x="5389200" y="216612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 flipV="1">
                  <a:off x="5389200" y="197172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5" name=""/>
              <p:cNvGrpSpPr/>
              <p:nvPr/>
            </p:nvGrpSpPr>
            <p:grpSpPr>
              <a:xfrm>
                <a:off x="5349600" y="1999800"/>
                <a:ext cx="261720" cy="388800"/>
                <a:chOff x="5349600" y="1999800"/>
                <a:chExt cx="261720" cy="388800"/>
              </a:xfrm>
            </p:grpSpPr>
            <p:sp>
              <p:nvSpPr>
                <p:cNvPr id="2816" name=""/>
                <p:cNvSpPr/>
                <p:nvPr/>
              </p:nvSpPr>
              <p:spPr>
                <a:xfrm>
                  <a:off x="5349600" y="219420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 flipV="1">
                  <a:off x="5349600" y="199980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8" name=""/>
              <p:cNvGrpSpPr/>
              <p:nvPr/>
            </p:nvGrpSpPr>
            <p:grpSpPr>
              <a:xfrm>
                <a:off x="5302080" y="2028600"/>
                <a:ext cx="261720" cy="388800"/>
                <a:chOff x="5302080" y="2028600"/>
                <a:chExt cx="261720" cy="388800"/>
              </a:xfrm>
            </p:grpSpPr>
            <p:sp>
              <p:nvSpPr>
                <p:cNvPr id="2819" name=""/>
                <p:cNvSpPr/>
                <p:nvPr/>
              </p:nvSpPr>
              <p:spPr>
                <a:xfrm>
                  <a:off x="5302080" y="222300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 flipV="1">
                  <a:off x="5302080" y="2028600"/>
                  <a:ext cx="261720" cy="19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21" name=""/>
            <p:cNvSpPr/>
            <p:nvPr/>
          </p:nvSpPr>
          <p:spPr>
            <a:xfrm>
              <a:off x="5549760" y="1841400"/>
              <a:ext cx="259236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66"/>
                  </a:solidFill>
                  <a:latin typeface="Times New Roman"/>
                </a:rPr>
                <a:t>Sous-société dédi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66"/>
                  </a:solidFill>
                  <a:latin typeface="Times New Roman"/>
                </a:rPr>
                <a:t>aux 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3263760" y="2909880"/>
              <a:ext cx="3060720" cy="725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3" name=""/>
            <p:cNvGrpSpPr/>
            <p:nvPr/>
          </p:nvGrpSpPr>
          <p:grpSpPr>
            <a:xfrm>
              <a:off x="3460680" y="3045960"/>
              <a:ext cx="404280" cy="473400"/>
              <a:chOff x="3460680" y="3045960"/>
              <a:chExt cx="404280" cy="473400"/>
            </a:xfrm>
          </p:grpSpPr>
          <p:grpSp>
            <p:nvGrpSpPr>
              <p:cNvPr id="2824" name=""/>
              <p:cNvGrpSpPr/>
              <p:nvPr/>
            </p:nvGrpSpPr>
            <p:grpSpPr>
              <a:xfrm>
                <a:off x="3598200" y="3045960"/>
                <a:ext cx="266760" cy="388440"/>
                <a:chOff x="3598200" y="3045960"/>
                <a:chExt cx="266760" cy="388440"/>
              </a:xfrm>
            </p:grpSpPr>
            <p:sp>
              <p:nvSpPr>
                <p:cNvPr id="2825" name=""/>
                <p:cNvSpPr/>
                <p:nvPr/>
              </p:nvSpPr>
              <p:spPr>
                <a:xfrm>
                  <a:off x="3598200" y="324036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 flipV="1">
                  <a:off x="3598200" y="304560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7" name=""/>
              <p:cNvGrpSpPr/>
              <p:nvPr/>
            </p:nvGrpSpPr>
            <p:grpSpPr>
              <a:xfrm>
                <a:off x="3549600" y="3074400"/>
                <a:ext cx="266760" cy="388440"/>
                <a:chOff x="3549600" y="3074400"/>
                <a:chExt cx="266760" cy="388440"/>
              </a:xfrm>
            </p:grpSpPr>
            <p:sp>
              <p:nvSpPr>
                <p:cNvPr id="2828" name=""/>
                <p:cNvSpPr/>
                <p:nvPr/>
              </p:nvSpPr>
              <p:spPr>
                <a:xfrm>
                  <a:off x="3549600" y="326880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 flipV="1">
                  <a:off x="3549600" y="307404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0" name=""/>
              <p:cNvGrpSpPr/>
              <p:nvPr/>
            </p:nvGrpSpPr>
            <p:grpSpPr>
              <a:xfrm>
                <a:off x="3509280" y="3102480"/>
                <a:ext cx="266760" cy="388440"/>
                <a:chOff x="3509280" y="3102480"/>
                <a:chExt cx="266760" cy="388440"/>
              </a:xfrm>
            </p:grpSpPr>
            <p:sp>
              <p:nvSpPr>
                <p:cNvPr id="2831" name=""/>
                <p:cNvSpPr/>
                <p:nvPr/>
              </p:nvSpPr>
              <p:spPr>
                <a:xfrm>
                  <a:off x="3509280" y="329688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 flipV="1">
                  <a:off x="3509280" y="310212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3" name=""/>
              <p:cNvGrpSpPr/>
              <p:nvPr/>
            </p:nvGrpSpPr>
            <p:grpSpPr>
              <a:xfrm>
                <a:off x="3460680" y="3130920"/>
                <a:ext cx="266760" cy="388440"/>
                <a:chOff x="3460680" y="3130920"/>
                <a:chExt cx="266760" cy="388440"/>
              </a:xfrm>
            </p:grpSpPr>
            <p:sp>
              <p:nvSpPr>
                <p:cNvPr id="2834" name=""/>
                <p:cNvSpPr/>
                <p:nvPr/>
              </p:nvSpPr>
              <p:spPr>
                <a:xfrm>
                  <a:off x="3460680" y="332532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 flipV="1">
                  <a:off x="3460680" y="3130560"/>
                  <a:ext cx="26676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36" name=""/>
            <p:cNvSpPr/>
            <p:nvPr/>
          </p:nvSpPr>
          <p:spPr>
            <a:xfrm>
              <a:off x="3903480" y="2940120"/>
              <a:ext cx="27050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66"/>
                  </a:solidFill>
                  <a:latin typeface="Times New Roman"/>
                </a:rPr>
                <a:t>Sous société d'inter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66"/>
                  </a:solidFill>
                  <a:latin typeface="Times New Roman"/>
                </a:rPr>
                <a:t>connex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3547800" y="2406600"/>
              <a:ext cx="711360" cy="614520"/>
            </a:xfrm>
            <a:prstGeom prst="line">
              <a:avLst/>
            </a:prstGeom>
            <a:ln w="28440">
              <a:solidFill>
                <a:srgbClr val="003366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5317920" y="3506760"/>
              <a:ext cx="0" cy="560520"/>
            </a:xfrm>
            <a:prstGeom prst="line">
              <a:avLst/>
            </a:prstGeom>
            <a:ln w="28440">
              <a:solidFill>
                <a:srgbClr val="003366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 flipH="1">
              <a:off x="5682960" y="2406600"/>
              <a:ext cx="712800" cy="614520"/>
            </a:xfrm>
            <a:prstGeom prst="line">
              <a:avLst/>
            </a:prstGeom>
            <a:ln w="28440">
              <a:solidFill>
                <a:srgbClr val="003366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8F9D3-DBCF-4C53-A026-0B718200F5BB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Sous-sociétés dédiées (utilisateurs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228600" y="146052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Société complètement diffé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Apprentissage symbolique &amp; proactiv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Filtrage collaborat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2" name=""/>
          <p:cNvGrpSpPr/>
          <p:nvPr/>
        </p:nvGrpSpPr>
        <p:grpSpPr>
          <a:xfrm>
            <a:off x="3263760" y="3995640"/>
            <a:ext cx="3060720" cy="735120"/>
            <a:chOff x="3263760" y="3995640"/>
            <a:chExt cx="3060720" cy="735120"/>
          </a:xfrm>
        </p:grpSpPr>
        <p:sp>
          <p:nvSpPr>
            <p:cNvPr id="2843" name=""/>
            <p:cNvSpPr/>
            <p:nvPr/>
          </p:nvSpPr>
          <p:spPr>
            <a:xfrm>
              <a:off x="3263760" y="3995640"/>
              <a:ext cx="3060720" cy="72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4" name=""/>
            <p:cNvGrpSpPr/>
            <p:nvPr/>
          </p:nvGrpSpPr>
          <p:grpSpPr>
            <a:xfrm>
              <a:off x="3473280" y="4133520"/>
              <a:ext cx="391680" cy="473400"/>
              <a:chOff x="3473280" y="4133520"/>
              <a:chExt cx="391680" cy="473400"/>
            </a:xfrm>
          </p:grpSpPr>
          <p:grpSp>
            <p:nvGrpSpPr>
              <p:cNvPr id="2845" name=""/>
              <p:cNvGrpSpPr/>
              <p:nvPr/>
            </p:nvGrpSpPr>
            <p:grpSpPr>
              <a:xfrm>
                <a:off x="3606480" y="4133520"/>
                <a:ext cx="258480" cy="388440"/>
                <a:chOff x="3606480" y="4133520"/>
                <a:chExt cx="258480" cy="388440"/>
              </a:xfrm>
            </p:grpSpPr>
            <p:sp>
              <p:nvSpPr>
                <p:cNvPr id="2846" name=""/>
                <p:cNvSpPr/>
                <p:nvPr/>
              </p:nvSpPr>
              <p:spPr>
                <a:xfrm>
                  <a:off x="3606480" y="4327920"/>
                  <a:ext cx="2584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 flipV="1">
                  <a:off x="3606480" y="4133160"/>
                  <a:ext cx="2584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8" name=""/>
              <p:cNvGrpSpPr/>
              <p:nvPr/>
            </p:nvGrpSpPr>
            <p:grpSpPr>
              <a:xfrm>
                <a:off x="3559320" y="4161960"/>
                <a:ext cx="258480" cy="388440"/>
                <a:chOff x="3559320" y="4161960"/>
                <a:chExt cx="258480" cy="388440"/>
              </a:xfrm>
            </p:grpSpPr>
            <p:sp>
              <p:nvSpPr>
                <p:cNvPr id="2849" name=""/>
                <p:cNvSpPr/>
                <p:nvPr/>
              </p:nvSpPr>
              <p:spPr>
                <a:xfrm>
                  <a:off x="3559320" y="4356360"/>
                  <a:ext cx="2584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 flipV="1">
                  <a:off x="3559320" y="4161600"/>
                  <a:ext cx="2584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1" name=""/>
              <p:cNvGrpSpPr/>
              <p:nvPr/>
            </p:nvGrpSpPr>
            <p:grpSpPr>
              <a:xfrm>
                <a:off x="3520440" y="4190040"/>
                <a:ext cx="258480" cy="388440"/>
                <a:chOff x="3520440" y="4190040"/>
                <a:chExt cx="258480" cy="388440"/>
              </a:xfrm>
            </p:grpSpPr>
            <p:sp>
              <p:nvSpPr>
                <p:cNvPr id="2852" name=""/>
                <p:cNvSpPr/>
                <p:nvPr/>
              </p:nvSpPr>
              <p:spPr>
                <a:xfrm>
                  <a:off x="3520440" y="4384440"/>
                  <a:ext cx="2584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 flipV="1">
                  <a:off x="3520440" y="4189680"/>
                  <a:ext cx="2584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4" name=""/>
              <p:cNvGrpSpPr/>
              <p:nvPr/>
            </p:nvGrpSpPr>
            <p:grpSpPr>
              <a:xfrm>
                <a:off x="3473280" y="4218480"/>
                <a:ext cx="258480" cy="388440"/>
                <a:chOff x="3473280" y="4218480"/>
                <a:chExt cx="258480" cy="388440"/>
              </a:xfrm>
            </p:grpSpPr>
            <p:sp>
              <p:nvSpPr>
                <p:cNvPr id="2855" name=""/>
                <p:cNvSpPr/>
                <p:nvPr/>
              </p:nvSpPr>
              <p:spPr>
                <a:xfrm>
                  <a:off x="3473280" y="4412880"/>
                  <a:ext cx="2584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 flipV="1">
                  <a:off x="3473280" y="4218120"/>
                  <a:ext cx="258480" cy="194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908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57" name=""/>
            <p:cNvSpPr/>
            <p:nvPr/>
          </p:nvSpPr>
          <p:spPr>
            <a:xfrm>
              <a:off x="3975120" y="4025880"/>
              <a:ext cx="231264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3300"/>
                  </a:solidFill>
                  <a:latin typeface="Times New Roman"/>
                </a:rPr>
                <a:t>Sous-société dédié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cc3300"/>
                  </a:solidFill>
                  <a:latin typeface="Times New Roman"/>
                </a:rPr>
                <a:t>aux utilisateu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8" name=""/>
          <p:cNvGrpSpPr/>
          <p:nvPr/>
        </p:nvGrpSpPr>
        <p:grpSpPr>
          <a:xfrm>
            <a:off x="977760" y="4800600"/>
            <a:ext cx="6934320" cy="1828800"/>
            <a:chOff x="977760" y="4800600"/>
            <a:chExt cx="6934320" cy="1828800"/>
          </a:xfrm>
        </p:grpSpPr>
        <p:sp>
          <p:nvSpPr>
            <p:cNvPr id="2859" name=""/>
            <p:cNvSpPr/>
            <p:nvPr/>
          </p:nvSpPr>
          <p:spPr>
            <a:xfrm>
              <a:off x="977760" y="5867280"/>
              <a:ext cx="6934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958680" indent="-285480">
                <a:lnSpc>
                  <a:spcPct val="100000"/>
                </a:lnSpc>
                <a:spcBef>
                  <a:spcPts val="700"/>
                </a:spcBef>
                <a:buClr>
                  <a:srgbClr val="777777"/>
                </a:buClr>
                <a:buSzPct val="90000"/>
                <a:buFont typeface="Webdings" charset="2"/>
                <a:buChar char="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IC, UPM, UPA, PIGM, EID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0" name=""/>
            <p:cNvGrpSpPr/>
            <p:nvPr/>
          </p:nvGrpSpPr>
          <p:grpSpPr>
            <a:xfrm>
              <a:off x="2577960" y="4800600"/>
              <a:ext cx="3505320" cy="914400"/>
              <a:chOff x="2577960" y="4800600"/>
              <a:chExt cx="3505320" cy="914400"/>
            </a:xfrm>
          </p:grpSpPr>
          <p:sp>
            <p:nvSpPr>
              <p:cNvPr id="2861" name=""/>
              <p:cNvSpPr/>
              <p:nvPr/>
            </p:nvSpPr>
            <p:spPr>
              <a:xfrm>
                <a:off x="2577960" y="5029200"/>
                <a:ext cx="2666880" cy="43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imes New Roman"/>
                  </a:rPr>
                  <a:t>Zoom on actual choi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4940280" y="4800600"/>
                <a:ext cx="1143000" cy="91440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63" name=""/>
              <p:cNvGrpSpPr/>
              <p:nvPr/>
            </p:nvGrpSpPr>
            <p:grpSpPr>
              <a:xfrm>
                <a:off x="5310360" y="4900320"/>
                <a:ext cx="429480" cy="675000"/>
                <a:chOff x="5310360" y="4900320"/>
                <a:chExt cx="429480" cy="675000"/>
              </a:xfrm>
            </p:grpSpPr>
            <p:grpSp>
              <p:nvGrpSpPr>
                <p:cNvPr id="2864" name=""/>
                <p:cNvGrpSpPr/>
                <p:nvPr/>
              </p:nvGrpSpPr>
              <p:grpSpPr>
                <a:xfrm>
                  <a:off x="5325480" y="4900320"/>
                  <a:ext cx="414360" cy="412920"/>
                  <a:chOff x="5325480" y="4900320"/>
                  <a:chExt cx="414360" cy="412920"/>
                </a:xfrm>
              </p:grpSpPr>
              <p:grpSp>
                <p:nvGrpSpPr>
                  <p:cNvPr id="2865" name=""/>
                  <p:cNvGrpSpPr/>
                  <p:nvPr/>
                </p:nvGrpSpPr>
                <p:grpSpPr>
                  <a:xfrm>
                    <a:off x="5325480" y="4906800"/>
                    <a:ext cx="406440" cy="405000"/>
                    <a:chOff x="5325480" y="4906800"/>
                    <a:chExt cx="406440" cy="405000"/>
                  </a:xfrm>
                </p:grpSpPr>
                <p:grpSp>
                  <p:nvGrpSpPr>
                    <p:cNvPr id="2866" name=""/>
                    <p:cNvGrpSpPr/>
                    <p:nvPr/>
                  </p:nvGrpSpPr>
                  <p:grpSpPr>
                    <a:xfrm>
                      <a:off x="5325480" y="4906800"/>
                      <a:ext cx="406440" cy="405000"/>
                      <a:chOff x="5325480" y="4906800"/>
                      <a:chExt cx="406440" cy="405000"/>
                    </a:xfrm>
                  </p:grpSpPr>
                  <p:sp>
                    <p:nvSpPr>
                      <p:cNvPr id="2867" name=""/>
                      <p:cNvSpPr/>
                      <p:nvPr/>
                    </p:nvSpPr>
                    <p:spPr>
                      <a:xfrm flipH="1">
                        <a:off x="5387040" y="4906800"/>
                        <a:ext cx="344520" cy="23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6" h="739">
                            <a:moveTo>
                              <a:pt x="23" y="739"/>
                            </a:moveTo>
                            <a:lnTo>
                              <a:pt x="7" y="652"/>
                            </a:lnTo>
                            <a:lnTo>
                              <a:pt x="0" y="568"/>
                            </a:lnTo>
                            <a:lnTo>
                              <a:pt x="3" y="510"/>
                            </a:lnTo>
                            <a:lnTo>
                              <a:pt x="13" y="457"/>
                            </a:lnTo>
                            <a:lnTo>
                              <a:pt x="29" y="398"/>
                            </a:lnTo>
                            <a:lnTo>
                              <a:pt x="55" y="340"/>
                            </a:lnTo>
                            <a:lnTo>
                              <a:pt x="88" y="279"/>
                            </a:lnTo>
                            <a:lnTo>
                              <a:pt x="120" y="230"/>
                            </a:lnTo>
                            <a:lnTo>
                              <a:pt x="159" y="181"/>
                            </a:lnTo>
                            <a:lnTo>
                              <a:pt x="205" y="139"/>
                            </a:lnTo>
                            <a:lnTo>
                              <a:pt x="250" y="104"/>
                            </a:lnTo>
                            <a:lnTo>
                              <a:pt x="299" y="75"/>
                            </a:lnTo>
                            <a:lnTo>
                              <a:pt x="359" y="49"/>
                            </a:lnTo>
                            <a:lnTo>
                              <a:pt x="427" y="26"/>
                            </a:lnTo>
                            <a:lnTo>
                              <a:pt x="485" y="10"/>
                            </a:lnTo>
                            <a:lnTo>
                              <a:pt x="557" y="0"/>
                            </a:lnTo>
                            <a:lnTo>
                              <a:pt x="648" y="0"/>
                            </a:lnTo>
                            <a:lnTo>
                              <a:pt x="716" y="13"/>
                            </a:lnTo>
                            <a:lnTo>
                              <a:pt x="797" y="32"/>
                            </a:lnTo>
                            <a:lnTo>
                              <a:pt x="878" y="68"/>
                            </a:lnTo>
                            <a:lnTo>
                              <a:pt x="950" y="110"/>
                            </a:lnTo>
                            <a:lnTo>
                              <a:pt x="998" y="152"/>
                            </a:lnTo>
                            <a:lnTo>
                              <a:pt x="1047" y="201"/>
                            </a:lnTo>
                            <a:lnTo>
                              <a:pt x="1086" y="249"/>
                            </a:lnTo>
                            <a:lnTo>
                              <a:pt x="982" y="172"/>
                            </a:lnTo>
                            <a:lnTo>
                              <a:pt x="927" y="139"/>
                            </a:lnTo>
                            <a:lnTo>
                              <a:pt x="868" y="117"/>
                            </a:lnTo>
                            <a:lnTo>
                              <a:pt x="794" y="94"/>
                            </a:lnTo>
                            <a:lnTo>
                              <a:pt x="722" y="84"/>
                            </a:lnTo>
                            <a:lnTo>
                              <a:pt x="644" y="81"/>
                            </a:lnTo>
                            <a:lnTo>
                              <a:pt x="586" y="84"/>
                            </a:lnTo>
                            <a:lnTo>
                              <a:pt x="524" y="94"/>
                            </a:lnTo>
                            <a:lnTo>
                              <a:pt x="462" y="110"/>
                            </a:lnTo>
                            <a:lnTo>
                              <a:pt x="404" y="130"/>
                            </a:lnTo>
                            <a:lnTo>
                              <a:pt x="339" y="162"/>
                            </a:lnTo>
                            <a:lnTo>
                              <a:pt x="289" y="191"/>
                            </a:lnTo>
                            <a:lnTo>
                              <a:pt x="247" y="227"/>
                            </a:lnTo>
                            <a:lnTo>
                              <a:pt x="198" y="266"/>
                            </a:lnTo>
                            <a:lnTo>
                              <a:pt x="159" y="308"/>
                            </a:lnTo>
                            <a:lnTo>
                              <a:pt x="120" y="366"/>
                            </a:lnTo>
                            <a:lnTo>
                              <a:pt x="85" y="427"/>
                            </a:lnTo>
                            <a:lnTo>
                              <a:pt x="62" y="486"/>
                            </a:lnTo>
                            <a:lnTo>
                              <a:pt x="42" y="555"/>
                            </a:lnTo>
                            <a:lnTo>
                              <a:pt x="29" y="639"/>
                            </a:lnTo>
                            <a:lnTo>
                              <a:pt x="23" y="739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68" name=""/>
                      <p:cNvSpPr/>
                      <p:nvPr/>
                    </p:nvSpPr>
                    <p:spPr>
                      <a:xfrm flipH="1">
                        <a:off x="5325480" y="5022720"/>
                        <a:ext cx="380880" cy="28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98" h="908">
                            <a:moveTo>
                              <a:pt x="0" y="552"/>
                            </a:moveTo>
                            <a:lnTo>
                              <a:pt x="69" y="629"/>
                            </a:lnTo>
                            <a:lnTo>
                              <a:pt x="143" y="697"/>
                            </a:lnTo>
                            <a:lnTo>
                              <a:pt x="211" y="736"/>
                            </a:lnTo>
                            <a:lnTo>
                              <a:pt x="310" y="778"/>
                            </a:lnTo>
                            <a:lnTo>
                              <a:pt x="388" y="801"/>
                            </a:lnTo>
                            <a:lnTo>
                              <a:pt x="459" y="811"/>
                            </a:lnTo>
                            <a:lnTo>
                              <a:pt x="544" y="811"/>
                            </a:lnTo>
                            <a:lnTo>
                              <a:pt x="605" y="804"/>
                            </a:lnTo>
                            <a:lnTo>
                              <a:pt x="680" y="791"/>
                            </a:lnTo>
                            <a:lnTo>
                              <a:pt x="755" y="769"/>
                            </a:lnTo>
                            <a:lnTo>
                              <a:pt x="817" y="736"/>
                            </a:lnTo>
                            <a:lnTo>
                              <a:pt x="875" y="701"/>
                            </a:lnTo>
                            <a:lnTo>
                              <a:pt x="927" y="665"/>
                            </a:lnTo>
                            <a:lnTo>
                              <a:pt x="979" y="613"/>
                            </a:lnTo>
                            <a:lnTo>
                              <a:pt x="1031" y="555"/>
                            </a:lnTo>
                            <a:lnTo>
                              <a:pt x="1071" y="500"/>
                            </a:lnTo>
                            <a:lnTo>
                              <a:pt x="1094" y="445"/>
                            </a:lnTo>
                            <a:lnTo>
                              <a:pt x="1123" y="357"/>
                            </a:lnTo>
                            <a:lnTo>
                              <a:pt x="1142" y="267"/>
                            </a:lnTo>
                            <a:lnTo>
                              <a:pt x="1146" y="186"/>
                            </a:lnTo>
                            <a:lnTo>
                              <a:pt x="1133" y="97"/>
                            </a:lnTo>
                            <a:lnTo>
                              <a:pt x="1103" y="0"/>
                            </a:lnTo>
                            <a:lnTo>
                              <a:pt x="1133" y="52"/>
                            </a:lnTo>
                            <a:lnTo>
                              <a:pt x="1165" y="126"/>
                            </a:lnTo>
                            <a:lnTo>
                              <a:pt x="1181" y="195"/>
                            </a:lnTo>
                            <a:lnTo>
                              <a:pt x="1198" y="260"/>
                            </a:lnTo>
                            <a:lnTo>
                              <a:pt x="1194" y="315"/>
                            </a:lnTo>
                            <a:lnTo>
                              <a:pt x="1191" y="390"/>
                            </a:lnTo>
                            <a:lnTo>
                              <a:pt x="1152" y="532"/>
                            </a:lnTo>
                            <a:lnTo>
                              <a:pt x="1113" y="610"/>
                            </a:lnTo>
                            <a:lnTo>
                              <a:pt x="1064" y="678"/>
                            </a:lnTo>
                            <a:lnTo>
                              <a:pt x="1011" y="736"/>
                            </a:lnTo>
                            <a:lnTo>
                              <a:pt x="959" y="778"/>
                            </a:lnTo>
                            <a:lnTo>
                              <a:pt x="888" y="827"/>
                            </a:lnTo>
                            <a:lnTo>
                              <a:pt x="817" y="859"/>
                            </a:lnTo>
                            <a:lnTo>
                              <a:pt x="748" y="882"/>
                            </a:lnTo>
                            <a:lnTo>
                              <a:pt x="661" y="905"/>
                            </a:lnTo>
                            <a:lnTo>
                              <a:pt x="596" y="908"/>
                            </a:lnTo>
                            <a:lnTo>
                              <a:pt x="524" y="908"/>
                            </a:lnTo>
                            <a:lnTo>
                              <a:pt x="453" y="895"/>
                            </a:lnTo>
                            <a:lnTo>
                              <a:pt x="375" y="879"/>
                            </a:lnTo>
                            <a:lnTo>
                              <a:pt x="323" y="859"/>
                            </a:lnTo>
                            <a:lnTo>
                              <a:pt x="254" y="824"/>
                            </a:lnTo>
                            <a:lnTo>
                              <a:pt x="195" y="791"/>
                            </a:lnTo>
                            <a:lnTo>
                              <a:pt x="140" y="746"/>
                            </a:lnTo>
                            <a:lnTo>
                              <a:pt x="82" y="684"/>
                            </a:lnTo>
                            <a:lnTo>
                              <a:pt x="26" y="607"/>
                            </a:lnTo>
                            <a:lnTo>
                              <a:pt x="0" y="552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869" name=""/>
                    <p:cNvGrpSpPr/>
                    <p:nvPr/>
                  </p:nvGrpSpPr>
                  <p:grpSpPr>
                    <a:xfrm>
                      <a:off x="5326920" y="4913280"/>
                      <a:ext cx="401760" cy="380880"/>
                      <a:chOff x="5326920" y="4913280"/>
                      <a:chExt cx="401760" cy="380880"/>
                    </a:xfrm>
                  </p:grpSpPr>
                  <p:sp>
                    <p:nvSpPr>
                      <p:cNvPr id="2870" name=""/>
                      <p:cNvSpPr/>
                      <p:nvPr/>
                    </p:nvSpPr>
                    <p:spPr>
                      <a:xfrm flipH="1">
                        <a:off x="5607720" y="5198760"/>
                        <a:ext cx="9828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1" h="300">
                            <a:moveTo>
                              <a:pt x="0" y="0"/>
                            </a:moveTo>
                            <a:lnTo>
                              <a:pt x="33" y="60"/>
                            </a:lnTo>
                            <a:lnTo>
                              <a:pt x="64" y="107"/>
                            </a:lnTo>
                            <a:lnTo>
                              <a:pt x="98" y="149"/>
                            </a:lnTo>
                            <a:lnTo>
                              <a:pt x="150" y="199"/>
                            </a:lnTo>
                            <a:lnTo>
                              <a:pt x="189" y="232"/>
                            </a:lnTo>
                            <a:lnTo>
                              <a:pt x="238" y="263"/>
                            </a:lnTo>
                            <a:lnTo>
                              <a:pt x="311" y="300"/>
                            </a:lnTo>
                            <a:lnTo>
                              <a:pt x="230" y="190"/>
                            </a:lnTo>
                            <a:lnTo>
                              <a:pt x="184" y="164"/>
                            </a:lnTo>
                            <a:lnTo>
                              <a:pt x="152" y="141"/>
                            </a:lnTo>
                            <a:lnTo>
                              <a:pt x="104" y="109"/>
                            </a:lnTo>
                            <a:lnTo>
                              <a:pt x="67" y="74"/>
                            </a:lnTo>
                            <a:lnTo>
                              <a:pt x="38" y="45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71" name=""/>
                      <p:cNvSpPr/>
                      <p:nvPr/>
                    </p:nvSpPr>
                    <p:spPr>
                      <a:xfrm flipH="1">
                        <a:off x="5326560" y="5021280"/>
                        <a:ext cx="34920" cy="18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590">
                            <a:moveTo>
                              <a:pt x="21" y="0"/>
                            </a:moveTo>
                            <a:lnTo>
                              <a:pt x="42" y="40"/>
                            </a:lnTo>
                            <a:lnTo>
                              <a:pt x="56" y="75"/>
                            </a:lnTo>
                            <a:lnTo>
                              <a:pt x="71" y="111"/>
                            </a:lnTo>
                            <a:lnTo>
                              <a:pt x="82" y="145"/>
                            </a:lnTo>
                            <a:lnTo>
                              <a:pt x="91" y="178"/>
                            </a:lnTo>
                            <a:lnTo>
                              <a:pt x="107" y="235"/>
                            </a:lnTo>
                            <a:lnTo>
                              <a:pt x="111" y="291"/>
                            </a:lnTo>
                            <a:lnTo>
                              <a:pt x="108" y="377"/>
                            </a:lnTo>
                            <a:lnTo>
                              <a:pt x="101" y="436"/>
                            </a:lnTo>
                            <a:lnTo>
                              <a:pt x="89" y="483"/>
                            </a:lnTo>
                            <a:lnTo>
                              <a:pt x="70" y="533"/>
                            </a:lnTo>
                            <a:lnTo>
                              <a:pt x="45" y="590"/>
                            </a:lnTo>
                            <a:lnTo>
                              <a:pt x="0" y="479"/>
                            </a:lnTo>
                            <a:lnTo>
                              <a:pt x="21" y="430"/>
                            </a:lnTo>
                            <a:lnTo>
                              <a:pt x="30" y="404"/>
                            </a:lnTo>
                            <a:lnTo>
                              <a:pt x="42" y="371"/>
                            </a:lnTo>
                            <a:lnTo>
                              <a:pt x="50" y="336"/>
                            </a:lnTo>
                            <a:lnTo>
                              <a:pt x="56" y="283"/>
                            </a:lnTo>
                            <a:lnTo>
                              <a:pt x="59" y="239"/>
                            </a:lnTo>
                            <a:lnTo>
                              <a:pt x="59" y="173"/>
                            </a:lnTo>
                            <a:lnTo>
                              <a:pt x="50" y="114"/>
                            </a:lnTo>
                            <a:lnTo>
                              <a:pt x="39" y="65"/>
                            </a:lnTo>
                            <a:lnTo>
                              <a:pt x="32" y="39"/>
                            </a:lnTo>
                            <a:lnTo>
                              <a:pt x="2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72" name=""/>
                      <p:cNvSpPr/>
                      <p:nvPr/>
                    </p:nvSpPr>
                    <p:spPr>
                      <a:xfrm flipH="1">
                        <a:off x="5406480" y="4913280"/>
                        <a:ext cx="13968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41" h="178">
                            <a:moveTo>
                              <a:pt x="0" y="0"/>
                            </a:moveTo>
                            <a:lnTo>
                              <a:pt x="33" y="65"/>
                            </a:lnTo>
                            <a:lnTo>
                              <a:pt x="85" y="62"/>
                            </a:lnTo>
                            <a:lnTo>
                              <a:pt x="133" y="65"/>
                            </a:lnTo>
                            <a:lnTo>
                              <a:pt x="177" y="72"/>
                            </a:lnTo>
                            <a:lnTo>
                              <a:pt x="218" y="79"/>
                            </a:lnTo>
                            <a:lnTo>
                              <a:pt x="259" y="90"/>
                            </a:lnTo>
                            <a:lnTo>
                              <a:pt x="288" y="99"/>
                            </a:lnTo>
                            <a:lnTo>
                              <a:pt x="324" y="114"/>
                            </a:lnTo>
                            <a:lnTo>
                              <a:pt x="367" y="134"/>
                            </a:lnTo>
                            <a:lnTo>
                              <a:pt x="441" y="178"/>
                            </a:lnTo>
                            <a:lnTo>
                              <a:pt x="398" y="133"/>
                            </a:lnTo>
                            <a:lnTo>
                              <a:pt x="368" y="110"/>
                            </a:lnTo>
                            <a:lnTo>
                              <a:pt x="328" y="84"/>
                            </a:lnTo>
                            <a:lnTo>
                              <a:pt x="303" y="69"/>
                            </a:lnTo>
                            <a:lnTo>
                              <a:pt x="247" y="43"/>
                            </a:lnTo>
                            <a:lnTo>
                              <a:pt x="212" y="31"/>
                            </a:lnTo>
                            <a:lnTo>
                              <a:pt x="183" y="21"/>
                            </a:lnTo>
                            <a:lnTo>
                              <a:pt x="155" y="14"/>
                            </a:lnTo>
                            <a:lnTo>
                              <a:pt x="113" y="7"/>
                            </a:lnTo>
                            <a:lnTo>
                              <a:pt x="69" y="1"/>
                            </a:lnTo>
                            <a:lnTo>
                              <a:pt x="19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73" name=""/>
                      <p:cNvSpPr/>
                      <p:nvPr/>
                    </p:nvSpPr>
                    <p:spPr>
                      <a:xfrm flipH="1">
                        <a:off x="5684040" y="4992480"/>
                        <a:ext cx="4428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1" h="417">
                            <a:moveTo>
                              <a:pt x="0" y="320"/>
                            </a:moveTo>
                            <a:lnTo>
                              <a:pt x="3" y="288"/>
                            </a:lnTo>
                            <a:lnTo>
                              <a:pt x="5" y="252"/>
                            </a:lnTo>
                            <a:lnTo>
                              <a:pt x="15" y="195"/>
                            </a:lnTo>
                            <a:lnTo>
                              <a:pt x="26" y="150"/>
                            </a:lnTo>
                            <a:lnTo>
                              <a:pt x="41" y="109"/>
                            </a:lnTo>
                            <a:lnTo>
                              <a:pt x="60" y="67"/>
                            </a:lnTo>
                            <a:lnTo>
                              <a:pt x="78" y="34"/>
                            </a:lnTo>
                            <a:lnTo>
                              <a:pt x="99" y="0"/>
                            </a:lnTo>
                            <a:lnTo>
                              <a:pt x="141" y="54"/>
                            </a:lnTo>
                            <a:lnTo>
                              <a:pt x="117" y="86"/>
                            </a:lnTo>
                            <a:lnTo>
                              <a:pt x="99" y="115"/>
                            </a:lnTo>
                            <a:lnTo>
                              <a:pt x="85" y="142"/>
                            </a:lnTo>
                            <a:lnTo>
                              <a:pt x="65" y="180"/>
                            </a:lnTo>
                            <a:lnTo>
                              <a:pt x="52" y="213"/>
                            </a:lnTo>
                            <a:lnTo>
                              <a:pt x="44" y="246"/>
                            </a:lnTo>
                            <a:lnTo>
                              <a:pt x="34" y="278"/>
                            </a:lnTo>
                            <a:lnTo>
                              <a:pt x="28" y="314"/>
                            </a:lnTo>
                            <a:lnTo>
                              <a:pt x="23" y="357"/>
                            </a:lnTo>
                            <a:lnTo>
                              <a:pt x="18" y="400"/>
                            </a:lnTo>
                            <a:lnTo>
                              <a:pt x="11" y="417"/>
                            </a:lnTo>
                            <a:lnTo>
                              <a:pt x="0" y="32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874" name=""/>
                  <p:cNvSpPr/>
                  <p:nvPr/>
                </p:nvSpPr>
                <p:spPr>
                  <a:xfrm flipH="1">
                    <a:off x="5325120" y="4932360"/>
                    <a:ext cx="398520" cy="380880"/>
                  </a:xfrm>
                  <a:prstGeom prst="ellipse">
                    <a:avLst/>
                  </a:prstGeom>
                  <a:noFill/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75" name=""/>
                  <p:cNvGrpSpPr/>
                  <p:nvPr/>
                </p:nvGrpSpPr>
                <p:grpSpPr>
                  <a:xfrm>
                    <a:off x="5341320" y="4900320"/>
                    <a:ext cx="398520" cy="381240"/>
                    <a:chOff x="5341320" y="4900320"/>
                    <a:chExt cx="398520" cy="381240"/>
                  </a:xfrm>
                </p:grpSpPr>
                <p:sp>
                  <p:nvSpPr>
                    <p:cNvPr id="2876" name=""/>
                    <p:cNvSpPr/>
                    <p:nvPr/>
                  </p:nvSpPr>
                  <p:spPr>
                    <a:xfrm flipH="1">
                      <a:off x="5347800" y="4906800"/>
                      <a:ext cx="387360" cy="370080"/>
                    </a:xfrm>
                    <a:prstGeom prst="ellipse">
                      <a:avLst/>
                    </a:prstGeom>
                    <a:noFill/>
                    <a:ln w="14400">
                      <a:solidFill>
                        <a:srgbClr val="9f9f9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7" name=""/>
                    <p:cNvSpPr/>
                    <p:nvPr/>
                  </p:nvSpPr>
                  <p:spPr>
                    <a:xfrm flipH="1">
                      <a:off x="5340960" y="4900320"/>
                      <a:ext cx="398520" cy="381240"/>
                    </a:xfrm>
                    <a:prstGeom prst="ellipse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8" name=""/>
                    <p:cNvSpPr/>
                    <p:nvPr/>
                  </p:nvSpPr>
                  <p:spPr>
                    <a:xfrm flipH="1">
                      <a:off x="5353560" y="4913280"/>
                      <a:ext cx="374760" cy="357120"/>
                    </a:xfrm>
                    <a:prstGeom prst="ellipse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879" name=""/>
                <p:cNvGrpSpPr/>
                <p:nvPr/>
              </p:nvGrpSpPr>
              <p:grpSpPr>
                <a:xfrm>
                  <a:off x="5310360" y="5259240"/>
                  <a:ext cx="202680" cy="316080"/>
                  <a:chOff x="5310360" y="5259240"/>
                  <a:chExt cx="202680" cy="316080"/>
                </a:xfrm>
              </p:grpSpPr>
              <p:sp>
                <p:nvSpPr>
                  <p:cNvPr id="2880" name=""/>
                  <p:cNvSpPr/>
                  <p:nvPr/>
                </p:nvSpPr>
                <p:spPr>
                  <a:xfrm flipH="1">
                    <a:off x="5316480" y="5275080"/>
                    <a:ext cx="194760" cy="27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11" h="873">
                        <a:moveTo>
                          <a:pt x="0" y="65"/>
                        </a:moveTo>
                        <a:lnTo>
                          <a:pt x="433" y="873"/>
                        </a:lnTo>
                        <a:lnTo>
                          <a:pt x="611" y="783"/>
                        </a:lnTo>
                        <a:lnTo>
                          <a:pt x="175" y="0"/>
                        </a:lnTo>
                        <a:lnTo>
                          <a:pt x="0" y="65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1" name=""/>
                  <p:cNvSpPr/>
                  <p:nvPr/>
                </p:nvSpPr>
                <p:spPr>
                  <a:xfrm flipH="1">
                    <a:off x="5453280" y="5259240"/>
                    <a:ext cx="5832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38" y="13843"/>
                        </a:moveTo>
                        <a:arcTo wR="10800" hR="10800" stAng="9818105" swAng="1055423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38" y="13843"/>
                        </a:moveTo>
                        <a:arcTo wR="10800" hR="10800" stAng="9818105" swAng="10554234"/>
                      </a:path>
                    </a:pathLst>
                  </a:custGeom>
                  <a:solidFill>
                    <a:srgbClr val="5f3f1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2" name=""/>
                  <p:cNvSpPr/>
                  <p:nvPr/>
                </p:nvSpPr>
                <p:spPr>
                  <a:xfrm flipH="1">
                    <a:off x="5450400" y="5263920"/>
                    <a:ext cx="5940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59" y="11931"/>
                        </a:moveTo>
                        <a:arcTo wR="10800" hR="10800" stAng="10439460" swAng="1005444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59" y="11931"/>
                        </a:moveTo>
                        <a:arcTo wR="10800" hR="10800" stAng="10439460" swAng="10054443"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3" name=""/>
                  <p:cNvSpPr/>
                  <p:nvPr/>
                </p:nvSpPr>
                <p:spPr>
                  <a:xfrm flipH="1">
                    <a:off x="5476320" y="5263920"/>
                    <a:ext cx="3636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223">
                        <a:moveTo>
                          <a:pt x="3" y="103"/>
                        </a:moveTo>
                        <a:lnTo>
                          <a:pt x="0" y="88"/>
                        </a:lnTo>
                        <a:lnTo>
                          <a:pt x="0" y="74"/>
                        </a:lnTo>
                        <a:lnTo>
                          <a:pt x="2" y="62"/>
                        </a:lnTo>
                        <a:lnTo>
                          <a:pt x="6" y="45"/>
                        </a:lnTo>
                        <a:lnTo>
                          <a:pt x="13" y="31"/>
                        </a:lnTo>
                        <a:lnTo>
                          <a:pt x="22" y="18"/>
                        </a:lnTo>
                        <a:lnTo>
                          <a:pt x="33" y="7"/>
                        </a:lnTo>
                        <a:lnTo>
                          <a:pt x="44" y="0"/>
                        </a:lnTo>
                        <a:lnTo>
                          <a:pt x="115" y="121"/>
                        </a:lnTo>
                        <a:lnTo>
                          <a:pt x="102" y="128"/>
                        </a:lnTo>
                        <a:lnTo>
                          <a:pt x="94" y="137"/>
                        </a:lnTo>
                        <a:lnTo>
                          <a:pt x="85" y="145"/>
                        </a:lnTo>
                        <a:lnTo>
                          <a:pt x="79" y="156"/>
                        </a:lnTo>
                        <a:lnTo>
                          <a:pt x="71" y="176"/>
                        </a:lnTo>
                        <a:lnTo>
                          <a:pt x="67" y="202"/>
                        </a:lnTo>
                        <a:lnTo>
                          <a:pt x="67" y="223"/>
                        </a:lnTo>
                        <a:lnTo>
                          <a:pt x="3" y="103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4" name=""/>
                  <p:cNvSpPr/>
                  <p:nvPr/>
                </p:nvSpPr>
                <p:spPr>
                  <a:xfrm flipH="1">
                    <a:off x="5451840" y="5260680"/>
                    <a:ext cx="59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58" y="13146"/>
                        </a:moveTo>
                        <a:arcTo wR="10800" hR="10800" stAng="10047177" swAng="48759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58" y="13146"/>
                        </a:moveTo>
                        <a:arcTo wR="10800" hR="10800" stAng="10047177" swAng="4875948"/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5" name=""/>
                  <p:cNvSpPr/>
                  <p:nvPr/>
                </p:nvSpPr>
                <p:spPr>
                  <a:xfrm flipH="1">
                    <a:off x="5431320" y="5298840"/>
                    <a:ext cx="594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01" y="13333"/>
                        </a:moveTo>
                        <a:arcTo wR="10800" hR="10800" stAng="9986129" swAng="1042014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01" y="13333"/>
                        </a:moveTo>
                        <a:arcTo wR="10800" hR="10800" stAng="9986129" swAng="10420145"/>
                      </a:path>
                    </a:pathLst>
                  </a:custGeom>
                  <a:solidFill>
                    <a:srgbClr val="7f3f0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86" name=""/>
                  <p:cNvGrpSpPr/>
                  <p:nvPr/>
                </p:nvGrpSpPr>
                <p:grpSpPr>
                  <a:xfrm>
                    <a:off x="5427360" y="5303520"/>
                    <a:ext cx="61920" cy="62640"/>
                    <a:chOff x="5427360" y="5303520"/>
                    <a:chExt cx="61920" cy="62640"/>
                  </a:xfrm>
                </p:grpSpPr>
                <p:grpSp>
                  <p:nvGrpSpPr>
                    <p:cNvPr id="2887" name=""/>
                    <p:cNvGrpSpPr/>
                    <p:nvPr/>
                  </p:nvGrpSpPr>
                  <p:grpSpPr>
                    <a:xfrm>
                      <a:off x="5430240" y="5303520"/>
                      <a:ext cx="59040" cy="56160"/>
                      <a:chOff x="5430240" y="5303520"/>
                      <a:chExt cx="59040" cy="56160"/>
                    </a:xfrm>
                  </p:grpSpPr>
                  <p:sp>
                    <p:nvSpPr>
                      <p:cNvPr id="2888" name=""/>
                      <p:cNvSpPr/>
                      <p:nvPr/>
                    </p:nvSpPr>
                    <p:spPr>
                      <a:xfrm flipH="1">
                        <a:off x="5430240" y="5303520"/>
                        <a:ext cx="59040" cy="56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301" y="13333"/>
                            </a:moveTo>
                            <a:arcTo wR="10800" hR="10800" stAng="9986129" swAng="10606913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301" y="13333"/>
                            </a:moveTo>
                            <a:arcTo wR="10800" hR="10800" stAng="9986129" swAng="10606913"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360" bIns="9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89" name=""/>
                      <p:cNvSpPr/>
                      <p:nvPr/>
                    </p:nvSpPr>
                    <p:spPr>
                      <a:xfrm flipH="1">
                        <a:off x="5430240" y="5303880"/>
                        <a:ext cx="58680" cy="5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301" y="13333"/>
                            </a:moveTo>
                            <a:arcTo wR="10800" hR="10800" stAng="9986129" swAng="4570572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301" y="13333"/>
                            </a:moveTo>
                            <a:arcTo wR="10800" hR="10800" stAng="9986129" swAng="4570572"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90" name=""/>
                      <p:cNvSpPr/>
                      <p:nvPr/>
                    </p:nvSpPr>
                    <p:spPr>
                      <a:xfrm flipH="1">
                        <a:off x="5430600" y="5303520"/>
                        <a:ext cx="57600" cy="56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6" y="13270"/>
                            </a:moveTo>
                            <a:arcTo wR="10800" hR="10800" stAng="10006785" swAng="1061132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6" y="13270"/>
                            </a:moveTo>
                            <a:arcTo wR="10800" hR="10800" stAng="10006785" swAng="10611320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360" bIns="9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891" name=""/>
                    <p:cNvSpPr/>
                    <p:nvPr/>
                  </p:nvSpPr>
                  <p:spPr>
                    <a:xfrm flipH="1">
                      <a:off x="5427360" y="5310000"/>
                      <a:ext cx="5760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6" y="13270"/>
                          </a:moveTo>
                          <a:arcTo wR="10800" hR="10800" stAng="10006785" swAng="1061132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6" y="13270"/>
                          </a:moveTo>
                          <a:arcTo wR="10800" hR="10800" stAng="10006785" swAng="10611320"/>
                        </a:path>
                      </a:pathLst>
                    </a:custGeom>
                    <a:solidFill>
                      <a:srgbClr val="7f3f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92" name=""/>
                  <p:cNvGrpSpPr/>
                  <p:nvPr/>
                </p:nvGrpSpPr>
                <p:grpSpPr>
                  <a:xfrm>
                    <a:off x="5421600" y="5314320"/>
                    <a:ext cx="61560" cy="63000"/>
                    <a:chOff x="5421600" y="5314320"/>
                    <a:chExt cx="61560" cy="63000"/>
                  </a:xfrm>
                </p:grpSpPr>
                <p:grpSp>
                  <p:nvGrpSpPr>
                    <p:cNvPr id="2893" name=""/>
                    <p:cNvGrpSpPr/>
                    <p:nvPr/>
                  </p:nvGrpSpPr>
                  <p:grpSpPr>
                    <a:xfrm>
                      <a:off x="5423760" y="5314320"/>
                      <a:ext cx="59400" cy="57600"/>
                      <a:chOff x="5423760" y="5314320"/>
                      <a:chExt cx="59400" cy="57600"/>
                    </a:xfrm>
                  </p:grpSpPr>
                  <p:sp>
                    <p:nvSpPr>
                      <p:cNvPr id="2894" name=""/>
                      <p:cNvSpPr/>
                      <p:nvPr/>
                    </p:nvSpPr>
                    <p:spPr>
                      <a:xfrm flipH="1">
                        <a:off x="5424120" y="5314680"/>
                        <a:ext cx="58680" cy="56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5" y="13266"/>
                            </a:moveTo>
                            <a:arcTo wR="10800" hR="10800" stAng="10007935" swAng="10800000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5" y="13266"/>
                            </a:moveTo>
                            <a:arcTo wR="10800" hR="10800" stAng="10007935" swAng="10800000"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360" bIns="9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95" name=""/>
                      <p:cNvSpPr/>
                      <p:nvPr/>
                    </p:nvSpPr>
                    <p:spPr>
                      <a:xfrm flipH="1">
                        <a:off x="5423400" y="5314320"/>
                        <a:ext cx="59400" cy="57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85" y="13266"/>
                            </a:moveTo>
                            <a:arcTo wR="10800" hR="10800" stAng="10007935" swAng="4415176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85" y="13266"/>
                            </a:moveTo>
                            <a:arcTo wR="10800" hR="10800" stAng="10007935" swAng="4415176"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96" name=""/>
                      <p:cNvSpPr/>
                      <p:nvPr/>
                    </p:nvSpPr>
                    <p:spPr>
                      <a:xfrm flipH="1">
                        <a:off x="5424840" y="5314680"/>
                        <a:ext cx="56880" cy="57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244" y="13084"/>
                            </a:moveTo>
                            <a:arcTo wR="10800" hR="10800" stAng="10067453" swAng="1071685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244" y="13084"/>
                            </a:moveTo>
                            <a:arcTo wR="10800" hR="10800" stAng="10067453" swAng="10716857"/>
                          </a:path>
                        </a:pathLst>
                      </a:custGeom>
                      <a:noFill/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897" name=""/>
                    <p:cNvSpPr/>
                    <p:nvPr/>
                  </p:nvSpPr>
                  <p:spPr>
                    <a:xfrm flipH="1">
                      <a:off x="5421240" y="5321160"/>
                      <a:ext cx="5868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301" y="13333"/>
                          </a:moveTo>
                          <a:arcTo wR="10800" hR="10800" stAng="9986129" swAng="108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301" y="13333"/>
                          </a:moveTo>
                          <a:arcTo wR="10800" hR="10800" stAng="9986129" swAng="10800000"/>
                        </a:path>
                      </a:pathLst>
                    </a:custGeom>
                    <a:solidFill>
                      <a:srgbClr val="7f3f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98" name=""/>
                  <p:cNvGrpSpPr/>
                  <p:nvPr/>
                </p:nvGrpSpPr>
                <p:grpSpPr>
                  <a:xfrm>
                    <a:off x="5417280" y="5325480"/>
                    <a:ext cx="59400" cy="57600"/>
                    <a:chOff x="5417280" y="5325480"/>
                    <a:chExt cx="59400" cy="57600"/>
                  </a:xfrm>
                </p:grpSpPr>
                <p:sp>
                  <p:nvSpPr>
                    <p:cNvPr id="2899" name=""/>
                    <p:cNvSpPr/>
                    <p:nvPr/>
                  </p:nvSpPr>
                  <p:spPr>
                    <a:xfrm flipH="1">
                      <a:off x="5417640" y="5325840"/>
                      <a:ext cx="5868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3" y="12671"/>
                          </a:moveTo>
                          <a:arcTo wR="10800" hR="10800" stAng="10201338" swAng="1060659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3" y="12671"/>
                          </a:moveTo>
                          <a:arcTo wR="10800" hR="10800" stAng="10201338" swAng="10606598"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0" name=""/>
                    <p:cNvSpPr/>
                    <p:nvPr/>
                  </p:nvSpPr>
                  <p:spPr>
                    <a:xfrm flipH="1">
                      <a:off x="5416920" y="5325480"/>
                      <a:ext cx="59400" cy="5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63" y="12671"/>
                          </a:moveTo>
                          <a:arcTo wR="10800" hR="10800" stAng="10201338" swAng="4221774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63" y="12671"/>
                          </a:moveTo>
                          <a:arcTo wR="10800" hR="10800" stAng="10201338" swAng="4221774"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01" name=""/>
                  <p:cNvGrpSpPr/>
                  <p:nvPr/>
                </p:nvGrpSpPr>
                <p:grpSpPr>
                  <a:xfrm>
                    <a:off x="5415120" y="5325840"/>
                    <a:ext cx="61560" cy="62280"/>
                    <a:chOff x="5415120" y="5325840"/>
                    <a:chExt cx="61560" cy="62280"/>
                  </a:xfrm>
                </p:grpSpPr>
                <p:sp>
                  <p:nvSpPr>
                    <p:cNvPr id="2902" name=""/>
                    <p:cNvSpPr/>
                    <p:nvPr/>
                  </p:nvSpPr>
                  <p:spPr>
                    <a:xfrm flipH="1">
                      <a:off x="5417640" y="5325840"/>
                      <a:ext cx="5868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5" y="13266"/>
                          </a:moveTo>
                          <a:arcTo wR="10800" hR="10800" stAng="10007935" swAng="108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5" y="13266"/>
                          </a:moveTo>
                          <a:arcTo wR="10800" hR="10800" stAng="10007935" swAng="10800000"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3" name=""/>
                    <p:cNvSpPr/>
                    <p:nvPr/>
                  </p:nvSpPr>
                  <p:spPr>
                    <a:xfrm flipH="1">
                      <a:off x="5414760" y="5332320"/>
                      <a:ext cx="586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73" y="12723"/>
                          </a:moveTo>
                          <a:arcTo wR="10800" hR="10800" stAng="10184591" swAng="106015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73" y="12723"/>
                          </a:moveTo>
                          <a:arcTo wR="10800" hR="10800" stAng="10184591" swAng="10601538"/>
                        </a:path>
                      </a:pathLst>
                    </a:custGeom>
                    <a:solidFill>
                      <a:srgbClr val="7f3f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04" name=""/>
                  <p:cNvGrpSpPr/>
                  <p:nvPr/>
                </p:nvGrpSpPr>
                <p:grpSpPr>
                  <a:xfrm>
                    <a:off x="5317200" y="5276880"/>
                    <a:ext cx="192960" cy="277560"/>
                    <a:chOff x="5317200" y="5276880"/>
                    <a:chExt cx="192960" cy="277560"/>
                  </a:xfrm>
                </p:grpSpPr>
                <p:sp>
                  <p:nvSpPr>
                    <p:cNvPr id="2905" name=""/>
                    <p:cNvSpPr/>
                    <p:nvPr/>
                  </p:nvSpPr>
                  <p:spPr>
                    <a:xfrm flipH="1">
                      <a:off x="5317200" y="5276880"/>
                      <a:ext cx="137520" cy="2473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6" name=""/>
                    <p:cNvSpPr/>
                    <p:nvPr/>
                  </p:nvSpPr>
                  <p:spPr>
                    <a:xfrm flipH="1">
                      <a:off x="5372280" y="5295600"/>
                      <a:ext cx="137880" cy="2588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07" name=""/>
                  <p:cNvGrpSpPr/>
                  <p:nvPr/>
                </p:nvGrpSpPr>
                <p:grpSpPr>
                  <a:xfrm>
                    <a:off x="5409000" y="5336640"/>
                    <a:ext cx="61200" cy="61200"/>
                    <a:chOff x="5409000" y="5336640"/>
                    <a:chExt cx="61200" cy="61200"/>
                  </a:xfrm>
                </p:grpSpPr>
                <p:grpSp>
                  <p:nvGrpSpPr>
                    <p:cNvPr id="2908" name=""/>
                    <p:cNvGrpSpPr/>
                    <p:nvPr/>
                  </p:nvGrpSpPr>
                  <p:grpSpPr>
                    <a:xfrm>
                      <a:off x="5411520" y="5336640"/>
                      <a:ext cx="58680" cy="57600"/>
                      <a:chOff x="5411520" y="5336640"/>
                      <a:chExt cx="58680" cy="57600"/>
                    </a:xfrm>
                  </p:grpSpPr>
                  <p:sp>
                    <p:nvSpPr>
                      <p:cNvPr id="2909" name=""/>
                      <p:cNvSpPr/>
                      <p:nvPr/>
                    </p:nvSpPr>
                    <p:spPr>
                      <a:xfrm flipH="1">
                        <a:off x="5411160" y="5337000"/>
                        <a:ext cx="58680" cy="5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3" y="12671"/>
                            </a:moveTo>
                            <a:arcTo wR="10800" hR="10800" stAng="10201338" swAng="10606598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3" y="12671"/>
                            </a:moveTo>
                            <a:arcTo wR="10800" hR="10800" stAng="10201338" swAng="10606598"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10" name=""/>
                      <p:cNvSpPr/>
                      <p:nvPr/>
                    </p:nvSpPr>
                    <p:spPr>
                      <a:xfrm flipH="1">
                        <a:off x="5411160" y="5336640"/>
                        <a:ext cx="58680" cy="57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163" y="12671"/>
                            </a:moveTo>
                            <a:arcTo wR="10800" hR="10800" stAng="10201338" swAng="4221774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163" y="12671"/>
                            </a:moveTo>
                            <a:arcTo wR="10800" hR="10800" stAng="10201338" swAng="4221774"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0" bIns="10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911" name=""/>
                    <p:cNvSpPr/>
                    <p:nvPr/>
                  </p:nvSpPr>
                  <p:spPr>
                    <a:xfrm flipH="1">
                      <a:off x="5411160" y="5337000"/>
                      <a:ext cx="5868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73" y="12723"/>
                          </a:moveTo>
                          <a:arcTo wR="10800" hR="10800" stAng="10184591" swAng="10601538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73" y="12723"/>
                          </a:moveTo>
                          <a:arcTo wR="10800" hR="10800" stAng="10184591" swAng="10601538"/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2" name=""/>
                    <p:cNvSpPr/>
                    <p:nvPr/>
                  </p:nvSpPr>
                  <p:spPr>
                    <a:xfrm flipH="1">
                      <a:off x="5408640" y="5341680"/>
                      <a:ext cx="5868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85" y="13266"/>
                          </a:moveTo>
                          <a:arcTo wR="10800" hR="10800" stAng="10007935" swAng="108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85" y="13266"/>
                          </a:moveTo>
                          <a:arcTo wR="10800" hR="10800" stAng="10007935" swAng="10800000"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13" name=""/>
                  <p:cNvSpPr/>
                  <p:nvPr/>
                </p:nvSpPr>
                <p:spPr>
                  <a:xfrm flipH="1">
                    <a:off x="5349960" y="5343480"/>
                    <a:ext cx="11880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77" h="645">
                        <a:moveTo>
                          <a:pt x="48" y="0"/>
                        </a:moveTo>
                        <a:lnTo>
                          <a:pt x="34" y="9"/>
                        </a:lnTo>
                        <a:lnTo>
                          <a:pt x="23" y="18"/>
                        </a:lnTo>
                        <a:lnTo>
                          <a:pt x="13" y="28"/>
                        </a:lnTo>
                        <a:lnTo>
                          <a:pt x="9" y="39"/>
                        </a:lnTo>
                        <a:lnTo>
                          <a:pt x="4" y="51"/>
                        </a:lnTo>
                        <a:lnTo>
                          <a:pt x="1" y="63"/>
                        </a:lnTo>
                        <a:lnTo>
                          <a:pt x="0" y="77"/>
                        </a:lnTo>
                        <a:lnTo>
                          <a:pt x="0" y="93"/>
                        </a:lnTo>
                        <a:lnTo>
                          <a:pt x="292" y="645"/>
                        </a:lnTo>
                        <a:lnTo>
                          <a:pt x="377" y="58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4" name=""/>
                  <p:cNvSpPr/>
                  <p:nvPr/>
                </p:nvSpPr>
                <p:spPr>
                  <a:xfrm flipH="1">
                    <a:off x="5310360" y="5513400"/>
                    <a:ext cx="64800" cy="61920"/>
                  </a:xfrm>
                  <a:prstGeom prst="ellipse">
                    <a:avLst/>
                  </a:prstGeom>
                  <a:solidFill>
                    <a:srgbClr val="7f5f3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915" name=""/>
          <p:cNvSpPr/>
          <p:nvPr/>
        </p:nvSpPr>
        <p:spPr>
          <a:xfrm>
            <a:off x="1765440" y="5931000"/>
            <a:ext cx="2577960" cy="38088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228600" y="0"/>
            <a:ext cx="8915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82760" indent="-444600">
              <a:lnSpc>
                <a:spcPct val="10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La société dédiée aux utilisate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Demandeurs &amp;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fr-FR" sz="2800" spc="-1" strike="noStrike" baseline="30000">
                <a:solidFill>
                  <a:srgbClr val="000000"/>
                </a:solidFill>
                <a:latin typeface="Georgia"/>
              </a:rPr>
              <a:t>nt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 sociétés res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GUI &amp; gestion exploitation pro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0D0B-407C-4D4A-BD6A-389274C01B33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Schéma général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219320" y="965160"/>
            <a:ext cx="7772400" cy="4419720"/>
            <a:chOff x="1219320" y="965160"/>
            <a:chExt cx="7772400" cy="4419720"/>
          </a:xfrm>
        </p:grpSpPr>
        <p:grpSp>
          <p:nvGrpSpPr>
            <p:cNvPr id="280" name=""/>
            <p:cNvGrpSpPr/>
            <p:nvPr/>
          </p:nvGrpSpPr>
          <p:grpSpPr>
            <a:xfrm>
              <a:off x="1219320" y="965160"/>
              <a:ext cx="7772400" cy="4380120"/>
              <a:chOff x="1219320" y="965160"/>
              <a:chExt cx="7772400" cy="438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1219320" y="965160"/>
                <a:ext cx="7772400" cy="4380120"/>
              </a:xfrm>
              <a:prstGeom prst="rect">
                <a:avLst/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335480" y="1044720"/>
                <a:ext cx="1657080" cy="4181400"/>
                <a:chOff x="4335480" y="1044720"/>
                <a:chExt cx="1657080" cy="41814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4335480" y="1203480"/>
                  <a:ext cx="1500120" cy="4022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494240" y="1044720"/>
                  <a:ext cx="1498320" cy="239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0" bIns="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Mémoire d'entrepris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025720" y="2398680"/>
                <a:ext cx="6532560" cy="995400"/>
                <a:chOff x="2025720" y="2398680"/>
                <a:chExt cx="6532560" cy="9954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025720" y="2484360"/>
                  <a:ext cx="6392880" cy="90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839280" y="2398680"/>
                  <a:ext cx="1719000" cy="2383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10800" bIns="10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fr-FR" sz="900" spc="-1" strike="noStrike">
                      <a:solidFill>
                        <a:srgbClr val="000000"/>
                      </a:solidFill>
                      <a:latin typeface="Courier New"/>
                    </a:rPr>
                    <a:t>Système Multi-Agen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96080" y="2570400"/>
                  <a:ext cx="789120" cy="1587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048040" y="3060720"/>
                  <a:ext cx="66996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441880" y="2621160"/>
                  <a:ext cx="828720" cy="1760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91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214720" y="271152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292" name=""/>
                <p:cNvGrpSpPr/>
                <p:nvPr/>
              </p:nvGrpSpPr>
              <p:grpSpPr>
                <a:xfrm>
                  <a:off x="5992920" y="2718000"/>
                  <a:ext cx="908280" cy="636120"/>
                  <a:chOff x="5992920" y="2718000"/>
                  <a:chExt cx="908280" cy="63612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5992920" y="3078000"/>
                    <a:ext cx="908280" cy="27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group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d'intérêt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294" name="agen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69040" y="2718000"/>
                    <a:ext cx="311760" cy="31392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grpSp>
            <p:sp>
              <p:nvSpPr>
                <p:cNvPr id="295" name=""/>
                <p:cNvSpPr/>
                <p:nvPr/>
              </p:nvSpPr>
              <p:spPr>
                <a:xfrm>
                  <a:off x="4335840" y="2486160"/>
                  <a:ext cx="1500120" cy="90792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96" name="agent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354480" y="276228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297" name=""/>
                <p:cNvSpPr/>
                <p:nvPr/>
              </p:nvSpPr>
              <p:spPr>
                <a:xfrm>
                  <a:off x="3073680" y="3116520"/>
                  <a:ext cx="907920" cy="2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Ontologie et Modèle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901200" y="3113280"/>
                  <a:ext cx="828720" cy="2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374240" y="2673360"/>
                  <a:ext cx="828720" cy="1634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00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47080" y="276408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301" name=""/>
                <p:cNvGrpSpPr/>
                <p:nvPr/>
              </p:nvGrpSpPr>
              <p:grpSpPr>
                <a:xfrm>
                  <a:off x="3862800" y="2530440"/>
                  <a:ext cx="907920" cy="635040"/>
                  <a:chOff x="3862800" y="2530440"/>
                  <a:chExt cx="907920" cy="635040"/>
                </a:xfrm>
              </p:grpSpPr>
              <p:pic>
                <p:nvPicPr>
                  <p:cNvPr id="302" name="agent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38920" y="2530440"/>
                    <a:ext cx="311760" cy="31428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  <p:sp>
                <p:nvSpPr>
                  <p:cNvPr id="303" name=""/>
                  <p:cNvSpPr/>
                  <p:nvPr/>
                </p:nvSpPr>
                <p:spPr>
                  <a:xfrm>
                    <a:off x="3862800" y="2889000"/>
                    <a:ext cx="9079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d'inter-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connexion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04" name=""/>
            <p:cNvGrpSpPr/>
            <p:nvPr/>
          </p:nvGrpSpPr>
          <p:grpSpPr>
            <a:xfrm>
              <a:off x="1376280" y="3433680"/>
              <a:ext cx="1101240" cy="1552680"/>
              <a:chOff x="1376280" y="3433680"/>
              <a:chExt cx="1101240" cy="1552680"/>
            </a:xfrm>
          </p:grpSpPr>
          <p:sp>
            <p:nvSpPr>
              <p:cNvPr id="305" name=""/>
              <p:cNvSpPr/>
              <p:nvPr/>
            </p:nvSpPr>
            <p:spPr>
              <a:xfrm>
                <a:off x="1376280" y="4389480"/>
                <a:ext cx="1074600" cy="59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Ingénieur d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la connaissa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2047680" y="3433680"/>
                <a:ext cx="429840" cy="1181160"/>
                <a:chOff x="2047680" y="3433680"/>
                <a:chExt cx="429840" cy="1181160"/>
              </a:xfrm>
            </p:grpSpPr>
            <p:grpSp>
              <p:nvGrpSpPr>
                <p:cNvPr id="307" name=""/>
                <p:cNvGrpSpPr/>
                <p:nvPr/>
              </p:nvGrpSpPr>
              <p:grpSpPr>
                <a:xfrm>
                  <a:off x="2047680" y="3433680"/>
                  <a:ext cx="210960" cy="97920"/>
                  <a:chOff x="2047680" y="3433680"/>
                  <a:chExt cx="210960" cy="9792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2047680" y="3507480"/>
                    <a:ext cx="518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69">
                        <a:moveTo>
                          <a:pt x="149" y="69"/>
                        </a:moveTo>
                        <a:lnTo>
                          <a:pt x="25" y="48"/>
                        </a:lnTo>
                        <a:lnTo>
                          <a:pt x="0" y="23"/>
                        </a:lnTo>
                        <a:lnTo>
                          <a:pt x="10" y="2"/>
                        </a:lnTo>
                        <a:lnTo>
                          <a:pt x="39" y="0"/>
                        </a:lnTo>
                        <a:lnTo>
                          <a:pt x="149" y="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2099520" y="3444120"/>
                    <a:ext cx="2268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15">
                        <a:moveTo>
                          <a:pt x="66" y="115"/>
                        </a:moveTo>
                        <a:lnTo>
                          <a:pt x="0" y="42"/>
                        </a:lnTo>
                        <a:lnTo>
                          <a:pt x="7" y="11"/>
                        </a:lnTo>
                        <a:lnTo>
                          <a:pt x="39" y="0"/>
                        </a:lnTo>
                        <a:lnTo>
                          <a:pt x="57" y="22"/>
                        </a:lnTo>
                        <a:lnTo>
                          <a:pt x="66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172240" y="3433680"/>
                    <a:ext cx="194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38">
                        <a:moveTo>
                          <a:pt x="9" y="138"/>
                        </a:moveTo>
                        <a:lnTo>
                          <a:pt x="0" y="35"/>
                        </a:lnTo>
                        <a:lnTo>
                          <a:pt x="30" y="0"/>
                        </a:lnTo>
                        <a:lnTo>
                          <a:pt x="56" y="15"/>
                        </a:lnTo>
                        <a:lnTo>
                          <a:pt x="52" y="42"/>
                        </a:lnTo>
                        <a:lnTo>
                          <a:pt x="9" y="1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212560" y="3471120"/>
                    <a:ext cx="460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86">
                        <a:moveTo>
                          <a:pt x="0" y="86"/>
                        </a:moveTo>
                        <a:lnTo>
                          <a:pt x="100" y="0"/>
                        </a:lnTo>
                        <a:lnTo>
                          <a:pt x="135" y="17"/>
                        </a:lnTo>
                        <a:lnTo>
                          <a:pt x="132" y="45"/>
                        </a:lnTo>
                        <a:lnTo>
                          <a:pt x="114" y="59"/>
                        </a:lnTo>
                        <a:lnTo>
                          <a:pt x="0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2122200" y="3503520"/>
                  <a:ext cx="355320" cy="1111320"/>
                  <a:chOff x="2122200" y="3503520"/>
                  <a:chExt cx="355320" cy="111132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>
                    <a:off x="2186280" y="3686400"/>
                    <a:ext cx="17856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554">
                        <a:moveTo>
                          <a:pt x="366" y="160"/>
                        </a:moveTo>
                        <a:lnTo>
                          <a:pt x="297" y="56"/>
                        </a:lnTo>
                        <a:lnTo>
                          <a:pt x="228" y="0"/>
                        </a:lnTo>
                        <a:lnTo>
                          <a:pt x="145" y="0"/>
                        </a:lnTo>
                        <a:lnTo>
                          <a:pt x="55" y="36"/>
                        </a:lnTo>
                        <a:lnTo>
                          <a:pt x="14" y="97"/>
                        </a:lnTo>
                        <a:lnTo>
                          <a:pt x="0" y="181"/>
                        </a:lnTo>
                        <a:lnTo>
                          <a:pt x="14" y="291"/>
                        </a:lnTo>
                        <a:lnTo>
                          <a:pt x="69" y="416"/>
                        </a:lnTo>
                        <a:lnTo>
                          <a:pt x="166" y="499"/>
                        </a:lnTo>
                        <a:lnTo>
                          <a:pt x="241" y="540"/>
                        </a:lnTo>
                        <a:lnTo>
                          <a:pt x="318" y="554"/>
                        </a:lnTo>
                        <a:lnTo>
                          <a:pt x="380" y="533"/>
                        </a:lnTo>
                        <a:lnTo>
                          <a:pt x="414" y="499"/>
                        </a:lnTo>
                        <a:lnTo>
                          <a:pt x="436" y="416"/>
                        </a:lnTo>
                        <a:lnTo>
                          <a:pt x="429" y="319"/>
                        </a:lnTo>
                        <a:lnTo>
                          <a:pt x="407" y="237"/>
                        </a:lnTo>
                        <a:lnTo>
                          <a:pt x="545" y="160"/>
                        </a:lnTo>
                        <a:lnTo>
                          <a:pt x="560" y="126"/>
                        </a:lnTo>
                        <a:lnTo>
                          <a:pt x="545" y="111"/>
                        </a:lnTo>
                        <a:lnTo>
                          <a:pt x="393" y="201"/>
                        </a:lnTo>
                        <a:lnTo>
                          <a:pt x="366" y="1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2314080" y="3503520"/>
                    <a:ext cx="158760" cy="432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8" h="1238">
                        <a:moveTo>
                          <a:pt x="138" y="1045"/>
                        </a:moveTo>
                        <a:lnTo>
                          <a:pt x="47" y="1113"/>
                        </a:lnTo>
                        <a:lnTo>
                          <a:pt x="20" y="1135"/>
                        </a:lnTo>
                        <a:lnTo>
                          <a:pt x="0" y="1183"/>
                        </a:lnTo>
                        <a:lnTo>
                          <a:pt x="27" y="1231"/>
                        </a:lnTo>
                        <a:lnTo>
                          <a:pt x="54" y="1238"/>
                        </a:lnTo>
                        <a:lnTo>
                          <a:pt x="138" y="1210"/>
                        </a:lnTo>
                        <a:lnTo>
                          <a:pt x="262" y="1113"/>
                        </a:lnTo>
                        <a:lnTo>
                          <a:pt x="373" y="997"/>
                        </a:lnTo>
                        <a:lnTo>
                          <a:pt x="491" y="864"/>
                        </a:lnTo>
                        <a:lnTo>
                          <a:pt x="498" y="809"/>
                        </a:lnTo>
                        <a:lnTo>
                          <a:pt x="498" y="658"/>
                        </a:lnTo>
                        <a:lnTo>
                          <a:pt x="464" y="422"/>
                        </a:lnTo>
                        <a:lnTo>
                          <a:pt x="484" y="284"/>
                        </a:lnTo>
                        <a:lnTo>
                          <a:pt x="498" y="228"/>
                        </a:lnTo>
                        <a:lnTo>
                          <a:pt x="477" y="201"/>
                        </a:lnTo>
                        <a:lnTo>
                          <a:pt x="428" y="173"/>
                        </a:lnTo>
                        <a:lnTo>
                          <a:pt x="394" y="153"/>
                        </a:lnTo>
                        <a:lnTo>
                          <a:pt x="414" y="28"/>
                        </a:lnTo>
                        <a:lnTo>
                          <a:pt x="401" y="0"/>
                        </a:lnTo>
                        <a:lnTo>
                          <a:pt x="373" y="8"/>
                        </a:lnTo>
                        <a:lnTo>
                          <a:pt x="360" y="167"/>
                        </a:lnTo>
                        <a:lnTo>
                          <a:pt x="346" y="208"/>
                        </a:lnTo>
                        <a:lnTo>
                          <a:pt x="339" y="235"/>
                        </a:lnTo>
                        <a:lnTo>
                          <a:pt x="283" y="214"/>
                        </a:lnTo>
                        <a:lnTo>
                          <a:pt x="242" y="214"/>
                        </a:lnTo>
                        <a:lnTo>
                          <a:pt x="242" y="242"/>
                        </a:lnTo>
                        <a:lnTo>
                          <a:pt x="269" y="264"/>
                        </a:lnTo>
                        <a:lnTo>
                          <a:pt x="319" y="264"/>
                        </a:lnTo>
                        <a:lnTo>
                          <a:pt x="353" y="291"/>
                        </a:lnTo>
                        <a:lnTo>
                          <a:pt x="380" y="339"/>
                        </a:lnTo>
                        <a:lnTo>
                          <a:pt x="408" y="416"/>
                        </a:lnTo>
                        <a:lnTo>
                          <a:pt x="428" y="567"/>
                        </a:lnTo>
                        <a:lnTo>
                          <a:pt x="428" y="706"/>
                        </a:lnTo>
                        <a:lnTo>
                          <a:pt x="414" y="816"/>
                        </a:lnTo>
                        <a:lnTo>
                          <a:pt x="387" y="864"/>
                        </a:lnTo>
                        <a:lnTo>
                          <a:pt x="290" y="934"/>
                        </a:lnTo>
                        <a:lnTo>
                          <a:pt x="186" y="997"/>
                        </a:lnTo>
                        <a:lnTo>
                          <a:pt x="138" y="10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2122200" y="3902400"/>
                    <a:ext cx="143280" cy="2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47">
                        <a:moveTo>
                          <a:pt x="451" y="20"/>
                        </a:moveTo>
                        <a:lnTo>
                          <a:pt x="401" y="0"/>
                        </a:lnTo>
                        <a:lnTo>
                          <a:pt x="297" y="7"/>
                        </a:lnTo>
                        <a:lnTo>
                          <a:pt x="207" y="76"/>
                        </a:lnTo>
                        <a:lnTo>
                          <a:pt x="75" y="221"/>
                        </a:lnTo>
                        <a:lnTo>
                          <a:pt x="7" y="339"/>
                        </a:lnTo>
                        <a:lnTo>
                          <a:pt x="0" y="380"/>
                        </a:lnTo>
                        <a:lnTo>
                          <a:pt x="34" y="457"/>
                        </a:lnTo>
                        <a:lnTo>
                          <a:pt x="110" y="491"/>
                        </a:lnTo>
                        <a:lnTo>
                          <a:pt x="207" y="532"/>
                        </a:lnTo>
                        <a:lnTo>
                          <a:pt x="283" y="552"/>
                        </a:lnTo>
                        <a:lnTo>
                          <a:pt x="318" y="588"/>
                        </a:lnTo>
                        <a:lnTo>
                          <a:pt x="297" y="636"/>
                        </a:lnTo>
                        <a:lnTo>
                          <a:pt x="242" y="692"/>
                        </a:lnTo>
                        <a:lnTo>
                          <a:pt x="173" y="699"/>
                        </a:lnTo>
                        <a:lnTo>
                          <a:pt x="125" y="677"/>
                        </a:lnTo>
                        <a:lnTo>
                          <a:pt x="96" y="699"/>
                        </a:lnTo>
                        <a:lnTo>
                          <a:pt x="103" y="726"/>
                        </a:lnTo>
                        <a:lnTo>
                          <a:pt x="159" y="747"/>
                        </a:lnTo>
                        <a:lnTo>
                          <a:pt x="242" y="747"/>
                        </a:lnTo>
                        <a:lnTo>
                          <a:pt x="318" y="726"/>
                        </a:lnTo>
                        <a:lnTo>
                          <a:pt x="360" y="699"/>
                        </a:lnTo>
                        <a:lnTo>
                          <a:pt x="388" y="650"/>
                        </a:lnTo>
                        <a:lnTo>
                          <a:pt x="401" y="595"/>
                        </a:lnTo>
                        <a:lnTo>
                          <a:pt x="367" y="546"/>
                        </a:lnTo>
                        <a:lnTo>
                          <a:pt x="283" y="511"/>
                        </a:lnTo>
                        <a:lnTo>
                          <a:pt x="186" y="484"/>
                        </a:lnTo>
                        <a:lnTo>
                          <a:pt x="103" y="436"/>
                        </a:lnTo>
                        <a:lnTo>
                          <a:pt x="82" y="394"/>
                        </a:lnTo>
                        <a:lnTo>
                          <a:pt x="96" y="319"/>
                        </a:lnTo>
                        <a:lnTo>
                          <a:pt x="159" y="221"/>
                        </a:lnTo>
                        <a:lnTo>
                          <a:pt x="236" y="165"/>
                        </a:lnTo>
                        <a:lnTo>
                          <a:pt x="353" y="124"/>
                        </a:lnTo>
                        <a:lnTo>
                          <a:pt x="451" y="104"/>
                        </a:lnTo>
                        <a:lnTo>
                          <a:pt x="451" y="48"/>
                        </a:lnTo>
                        <a:lnTo>
                          <a:pt x="451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238840" y="3890520"/>
                    <a:ext cx="134280" cy="32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2" h="919">
                        <a:moveTo>
                          <a:pt x="367" y="290"/>
                        </a:moveTo>
                        <a:lnTo>
                          <a:pt x="325" y="117"/>
                        </a:lnTo>
                        <a:lnTo>
                          <a:pt x="277" y="34"/>
                        </a:lnTo>
                        <a:lnTo>
                          <a:pt x="173" y="0"/>
                        </a:lnTo>
                        <a:lnTo>
                          <a:pt x="68" y="13"/>
                        </a:lnTo>
                        <a:lnTo>
                          <a:pt x="21" y="104"/>
                        </a:lnTo>
                        <a:lnTo>
                          <a:pt x="27" y="214"/>
                        </a:lnTo>
                        <a:lnTo>
                          <a:pt x="55" y="394"/>
                        </a:lnTo>
                        <a:lnTo>
                          <a:pt x="55" y="552"/>
                        </a:lnTo>
                        <a:lnTo>
                          <a:pt x="21" y="690"/>
                        </a:lnTo>
                        <a:lnTo>
                          <a:pt x="0" y="767"/>
                        </a:lnTo>
                        <a:lnTo>
                          <a:pt x="14" y="835"/>
                        </a:lnTo>
                        <a:lnTo>
                          <a:pt x="62" y="871"/>
                        </a:lnTo>
                        <a:lnTo>
                          <a:pt x="125" y="905"/>
                        </a:lnTo>
                        <a:lnTo>
                          <a:pt x="186" y="919"/>
                        </a:lnTo>
                        <a:lnTo>
                          <a:pt x="263" y="919"/>
                        </a:lnTo>
                        <a:lnTo>
                          <a:pt x="353" y="849"/>
                        </a:lnTo>
                        <a:lnTo>
                          <a:pt x="422" y="704"/>
                        </a:lnTo>
                        <a:lnTo>
                          <a:pt x="415" y="573"/>
                        </a:lnTo>
                        <a:lnTo>
                          <a:pt x="374" y="421"/>
                        </a:lnTo>
                        <a:lnTo>
                          <a:pt x="367" y="2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199240" y="4151160"/>
                    <a:ext cx="10188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1329">
                        <a:moveTo>
                          <a:pt x="305" y="21"/>
                        </a:moveTo>
                        <a:lnTo>
                          <a:pt x="223" y="0"/>
                        </a:lnTo>
                        <a:lnTo>
                          <a:pt x="174" y="21"/>
                        </a:lnTo>
                        <a:lnTo>
                          <a:pt x="153" y="89"/>
                        </a:lnTo>
                        <a:lnTo>
                          <a:pt x="174" y="470"/>
                        </a:lnTo>
                        <a:lnTo>
                          <a:pt x="174" y="560"/>
                        </a:lnTo>
                        <a:lnTo>
                          <a:pt x="147" y="727"/>
                        </a:lnTo>
                        <a:lnTo>
                          <a:pt x="140" y="920"/>
                        </a:lnTo>
                        <a:lnTo>
                          <a:pt x="153" y="1017"/>
                        </a:lnTo>
                        <a:lnTo>
                          <a:pt x="140" y="1071"/>
                        </a:lnTo>
                        <a:lnTo>
                          <a:pt x="42" y="1155"/>
                        </a:lnTo>
                        <a:lnTo>
                          <a:pt x="0" y="1259"/>
                        </a:lnTo>
                        <a:lnTo>
                          <a:pt x="8" y="1293"/>
                        </a:lnTo>
                        <a:lnTo>
                          <a:pt x="84" y="1329"/>
                        </a:lnTo>
                        <a:lnTo>
                          <a:pt x="104" y="1314"/>
                        </a:lnTo>
                        <a:lnTo>
                          <a:pt x="112" y="1252"/>
                        </a:lnTo>
                        <a:lnTo>
                          <a:pt x="133" y="1162"/>
                        </a:lnTo>
                        <a:lnTo>
                          <a:pt x="167" y="1121"/>
                        </a:lnTo>
                        <a:lnTo>
                          <a:pt x="208" y="1093"/>
                        </a:lnTo>
                        <a:lnTo>
                          <a:pt x="244" y="1058"/>
                        </a:lnTo>
                        <a:lnTo>
                          <a:pt x="251" y="1030"/>
                        </a:lnTo>
                        <a:lnTo>
                          <a:pt x="230" y="996"/>
                        </a:lnTo>
                        <a:lnTo>
                          <a:pt x="208" y="976"/>
                        </a:lnTo>
                        <a:lnTo>
                          <a:pt x="194" y="892"/>
                        </a:lnTo>
                        <a:lnTo>
                          <a:pt x="208" y="719"/>
                        </a:lnTo>
                        <a:lnTo>
                          <a:pt x="257" y="519"/>
                        </a:lnTo>
                        <a:lnTo>
                          <a:pt x="305" y="359"/>
                        </a:lnTo>
                        <a:lnTo>
                          <a:pt x="320" y="166"/>
                        </a:lnTo>
                        <a:lnTo>
                          <a:pt x="305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309760" y="4151160"/>
                    <a:ext cx="16776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1121">
                        <a:moveTo>
                          <a:pt x="172" y="166"/>
                        </a:moveTo>
                        <a:lnTo>
                          <a:pt x="159" y="55"/>
                        </a:lnTo>
                        <a:lnTo>
                          <a:pt x="97" y="0"/>
                        </a:lnTo>
                        <a:lnTo>
                          <a:pt x="7" y="7"/>
                        </a:lnTo>
                        <a:lnTo>
                          <a:pt x="0" y="55"/>
                        </a:lnTo>
                        <a:lnTo>
                          <a:pt x="7" y="159"/>
                        </a:lnTo>
                        <a:lnTo>
                          <a:pt x="55" y="318"/>
                        </a:lnTo>
                        <a:lnTo>
                          <a:pt x="90" y="435"/>
                        </a:lnTo>
                        <a:lnTo>
                          <a:pt x="131" y="594"/>
                        </a:lnTo>
                        <a:lnTo>
                          <a:pt x="145" y="732"/>
                        </a:lnTo>
                        <a:lnTo>
                          <a:pt x="145" y="843"/>
                        </a:lnTo>
                        <a:lnTo>
                          <a:pt x="124" y="926"/>
                        </a:lnTo>
                        <a:lnTo>
                          <a:pt x="104" y="954"/>
                        </a:lnTo>
                        <a:lnTo>
                          <a:pt x="104" y="981"/>
                        </a:lnTo>
                        <a:lnTo>
                          <a:pt x="131" y="1024"/>
                        </a:lnTo>
                        <a:lnTo>
                          <a:pt x="179" y="1037"/>
                        </a:lnTo>
                        <a:lnTo>
                          <a:pt x="256" y="1037"/>
                        </a:lnTo>
                        <a:lnTo>
                          <a:pt x="394" y="1071"/>
                        </a:lnTo>
                        <a:lnTo>
                          <a:pt x="435" y="1121"/>
                        </a:lnTo>
                        <a:lnTo>
                          <a:pt x="498" y="1092"/>
                        </a:lnTo>
                        <a:lnTo>
                          <a:pt x="526" y="1024"/>
                        </a:lnTo>
                        <a:lnTo>
                          <a:pt x="498" y="996"/>
                        </a:lnTo>
                        <a:lnTo>
                          <a:pt x="380" y="981"/>
                        </a:lnTo>
                        <a:lnTo>
                          <a:pt x="249" y="981"/>
                        </a:lnTo>
                        <a:lnTo>
                          <a:pt x="193" y="974"/>
                        </a:lnTo>
                        <a:lnTo>
                          <a:pt x="179" y="933"/>
                        </a:lnTo>
                        <a:lnTo>
                          <a:pt x="193" y="857"/>
                        </a:lnTo>
                        <a:lnTo>
                          <a:pt x="201" y="725"/>
                        </a:lnTo>
                        <a:lnTo>
                          <a:pt x="186" y="580"/>
                        </a:lnTo>
                        <a:lnTo>
                          <a:pt x="165" y="388"/>
                        </a:lnTo>
                        <a:lnTo>
                          <a:pt x="172" y="221"/>
                        </a:lnTo>
                        <a:lnTo>
                          <a:pt x="172" y="1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319" name="ampoule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086920" y="3494880"/>
                  <a:ext cx="13356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20" name=""/>
            <p:cNvGrpSpPr/>
            <p:nvPr/>
          </p:nvGrpSpPr>
          <p:grpSpPr>
            <a:xfrm>
              <a:off x="1298520" y="1044720"/>
              <a:ext cx="1774800" cy="1433520"/>
              <a:chOff x="1298520" y="1044720"/>
              <a:chExt cx="1774800" cy="1433520"/>
            </a:xfrm>
          </p:grpSpPr>
          <p:sp>
            <p:nvSpPr>
              <p:cNvPr id="321" name=""/>
              <p:cNvSpPr/>
              <p:nvPr/>
            </p:nvSpPr>
            <p:spPr>
              <a:xfrm>
                <a:off x="1298520" y="2119320"/>
                <a:ext cx="177480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Auteur et/o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Annotateur de 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1850760" y="1044720"/>
                <a:ext cx="789120" cy="1231920"/>
                <a:chOff x="1850760" y="1044720"/>
                <a:chExt cx="789120" cy="1231920"/>
              </a:xfrm>
            </p:grpSpPr>
            <p:grpSp>
              <p:nvGrpSpPr>
                <p:cNvPr id="323" name=""/>
                <p:cNvGrpSpPr/>
                <p:nvPr/>
              </p:nvGrpSpPr>
              <p:grpSpPr>
                <a:xfrm>
                  <a:off x="2126160" y="1492560"/>
                  <a:ext cx="477360" cy="784080"/>
                  <a:chOff x="2126160" y="1492560"/>
                  <a:chExt cx="477360" cy="78408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>
                    <a:off x="2335320" y="1753200"/>
                    <a:ext cx="11124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1" h="1535">
                        <a:moveTo>
                          <a:pt x="182" y="123"/>
                        </a:moveTo>
                        <a:lnTo>
                          <a:pt x="265" y="33"/>
                        </a:lnTo>
                        <a:lnTo>
                          <a:pt x="423" y="0"/>
                        </a:lnTo>
                        <a:lnTo>
                          <a:pt x="558" y="33"/>
                        </a:lnTo>
                        <a:lnTo>
                          <a:pt x="633" y="83"/>
                        </a:lnTo>
                        <a:lnTo>
                          <a:pt x="693" y="183"/>
                        </a:lnTo>
                        <a:lnTo>
                          <a:pt x="746" y="361"/>
                        </a:lnTo>
                        <a:lnTo>
                          <a:pt x="771" y="554"/>
                        </a:lnTo>
                        <a:lnTo>
                          <a:pt x="771" y="899"/>
                        </a:lnTo>
                        <a:lnTo>
                          <a:pt x="693" y="1200"/>
                        </a:lnTo>
                        <a:lnTo>
                          <a:pt x="581" y="1370"/>
                        </a:lnTo>
                        <a:lnTo>
                          <a:pt x="468" y="1468"/>
                        </a:lnTo>
                        <a:lnTo>
                          <a:pt x="340" y="1535"/>
                        </a:lnTo>
                        <a:lnTo>
                          <a:pt x="160" y="1528"/>
                        </a:lnTo>
                        <a:lnTo>
                          <a:pt x="17" y="1425"/>
                        </a:lnTo>
                        <a:lnTo>
                          <a:pt x="0" y="1302"/>
                        </a:lnTo>
                        <a:lnTo>
                          <a:pt x="70" y="1119"/>
                        </a:lnTo>
                        <a:lnTo>
                          <a:pt x="130" y="914"/>
                        </a:lnTo>
                        <a:lnTo>
                          <a:pt x="152" y="649"/>
                        </a:lnTo>
                        <a:lnTo>
                          <a:pt x="115" y="423"/>
                        </a:lnTo>
                        <a:lnTo>
                          <a:pt x="115" y="258"/>
                        </a:lnTo>
                        <a:lnTo>
                          <a:pt x="182" y="1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2378520" y="1999800"/>
                    <a:ext cx="127080" cy="27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81" h="1512">
                        <a:moveTo>
                          <a:pt x="293" y="63"/>
                        </a:moveTo>
                        <a:lnTo>
                          <a:pt x="187" y="0"/>
                        </a:lnTo>
                        <a:lnTo>
                          <a:pt x="52" y="0"/>
                        </a:lnTo>
                        <a:lnTo>
                          <a:pt x="0" y="83"/>
                        </a:lnTo>
                        <a:lnTo>
                          <a:pt x="22" y="205"/>
                        </a:lnTo>
                        <a:lnTo>
                          <a:pt x="142" y="325"/>
                        </a:lnTo>
                        <a:lnTo>
                          <a:pt x="390" y="436"/>
                        </a:lnTo>
                        <a:lnTo>
                          <a:pt x="676" y="671"/>
                        </a:lnTo>
                        <a:lnTo>
                          <a:pt x="721" y="774"/>
                        </a:lnTo>
                        <a:lnTo>
                          <a:pt x="698" y="821"/>
                        </a:lnTo>
                        <a:lnTo>
                          <a:pt x="480" y="977"/>
                        </a:lnTo>
                        <a:lnTo>
                          <a:pt x="225" y="1162"/>
                        </a:lnTo>
                        <a:lnTo>
                          <a:pt x="165" y="1242"/>
                        </a:lnTo>
                        <a:lnTo>
                          <a:pt x="165" y="1325"/>
                        </a:lnTo>
                        <a:lnTo>
                          <a:pt x="360" y="1412"/>
                        </a:lnTo>
                        <a:lnTo>
                          <a:pt x="661" y="1512"/>
                        </a:lnTo>
                        <a:lnTo>
                          <a:pt x="766" y="1512"/>
                        </a:lnTo>
                        <a:lnTo>
                          <a:pt x="881" y="1445"/>
                        </a:lnTo>
                        <a:lnTo>
                          <a:pt x="881" y="1392"/>
                        </a:lnTo>
                        <a:lnTo>
                          <a:pt x="796" y="1365"/>
                        </a:lnTo>
                        <a:lnTo>
                          <a:pt x="413" y="1325"/>
                        </a:lnTo>
                        <a:lnTo>
                          <a:pt x="270" y="1290"/>
                        </a:lnTo>
                        <a:lnTo>
                          <a:pt x="255" y="1229"/>
                        </a:lnTo>
                        <a:lnTo>
                          <a:pt x="503" y="1059"/>
                        </a:lnTo>
                        <a:lnTo>
                          <a:pt x="773" y="896"/>
                        </a:lnTo>
                        <a:lnTo>
                          <a:pt x="833" y="836"/>
                        </a:lnTo>
                        <a:lnTo>
                          <a:pt x="856" y="754"/>
                        </a:lnTo>
                        <a:lnTo>
                          <a:pt x="833" y="638"/>
                        </a:lnTo>
                        <a:lnTo>
                          <a:pt x="751" y="551"/>
                        </a:lnTo>
                        <a:lnTo>
                          <a:pt x="480" y="253"/>
                        </a:lnTo>
                        <a:lnTo>
                          <a:pt x="293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2210760" y="1986120"/>
                    <a:ext cx="158400" cy="29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7" h="1610">
                        <a:moveTo>
                          <a:pt x="596" y="218"/>
                        </a:moveTo>
                        <a:lnTo>
                          <a:pt x="771" y="80"/>
                        </a:lnTo>
                        <a:lnTo>
                          <a:pt x="937" y="0"/>
                        </a:lnTo>
                        <a:lnTo>
                          <a:pt x="1042" y="12"/>
                        </a:lnTo>
                        <a:lnTo>
                          <a:pt x="1097" y="80"/>
                        </a:lnTo>
                        <a:lnTo>
                          <a:pt x="1097" y="155"/>
                        </a:lnTo>
                        <a:lnTo>
                          <a:pt x="1064" y="238"/>
                        </a:lnTo>
                        <a:lnTo>
                          <a:pt x="952" y="285"/>
                        </a:lnTo>
                        <a:lnTo>
                          <a:pt x="724" y="400"/>
                        </a:lnTo>
                        <a:lnTo>
                          <a:pt x="589" y="543"/>
                        </a:lnTo>
                        <a:lnTo>
                          <a:pt x="499" y="713"/>
                        </a:lnTo>
                        <a:lnTo>
                          <a:pt x="476" y="814"/>
                        </a:lnTo>
                        <a:lnTo>
                          <a:pt x="596" y="936"/>
                        </a:lnTo>
                        <a:lnTo>
                          <a:pt x="724" y="1114"/>
                        </a:lnTo>
                        <a:lnTo>
                          <a:pt x="817" y="1277"/>
                        </a:lnTo>
                        <a:lnTo>
                          <a:pt x="839" y="1380"/>
                        </a:lnTo>
                        <a:lnTo>
                          <a:pt x="839" y="1440"/>
                        </a:lnTo>
                        <a:lnTo>
                          <a:pt x="779" y="1480"/>
                        </a:lnTo>
                        <a:lnTo>
                          <a:pt x="589" y="1487"/>
                        </a:lnTo>
                        <a:lnTo>
                          <a:pt x="301" y="1547"/>
                        </a:lnTo>
                        <a:lnTo>
                          <a:pt x="248" y="1602"/>
                        </a:lnTo>
                        <a:lnTo>
                          <a:pt x="203" y="1610"/>
                        </a:lnTo>
                        <a:lnTo>
                          <a:pt x="0" y="1547"/>
                        </a:lnTo>
                        <a:lnTo>
                          <a:pt x="0" y="1487"/>
                        </a:lnTo>
                        <a:lnTo>
                          <a:pt x="90" y="1440"/>
                        </a:lnTo>
                        <a:lnTo>
                          <a:pt x="453" y="1380"/>
                        </a:lnTo>
                        <a:lnTo>
                          <a:pt x="641" y="1400"/>
                        </a:lnTo>
                        <a:lnTo>
                          <a:pt x="734" y="1400"/>
                        </a:lnTo>
                        <a:lnTo>
                          <a:pt x="756" y="1365"/>
                        </a:lnTo>
                        <a:lnTo>
                          <a:pt x="679" y="1214"/>
                        </a:lnTo>
                        <a:lnTo>
                          <a:pt x="521" y="1019"/>
                        </a:lnTo>
                        <a:lnTo>
                          <a:pt x="408" y="876"/>
                        </a:lnTo>
                        <a:lnTo>
                          <a:pt x="363" y="794"/>
                        </a:lnTo>
                        <a:lnTo>
                          <a:pt x="363" y="671"/>
                        </a:lnTo>
                        <a:lnTo>
                          <a:pt x="438" y="468"/>
                        </a:lnTo>
                        <a:lnTo>
                          <a:pt x="506" y="340"/>
                        </a:lnTo>
                        <a:lnTo>
                          <a:pt x="596" y="2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2126160" y="1753920"/>
                    <a:ext cx="21384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82" h="1202">
                        <a:moveTo>
                          <a:pt x="889" y="1202"/>
                        </a:moveTo>
                        <a:lnTo>
                          <a:pt x="981" y="1192"/>
                        </a:lnTo>
                        <a:lnTo>
                          <a:pt x="1009" y="1124"/>
                        </a:lnTo>
                        <a:lnTo>
                          <a:pt x="1034" y="881"/>
                        </a:lnTo>
                        <a:lnTo>
                          <a:pt x="1172" y="596"/>
                        </a:lnTo>
                        <a:lnTo>
                          <a:pt x="1314" y="465"/>
                        </a:lnTo>
                        <a:lnTo>
                          <a:pt x="1482" y="330"/>
                        </a:lnTo>
                        <a:lnTo>
                          <a:pt x="1467" y="235"/>
                        </a:lnTo>
                        <a:lnTo>
                          <a:pt x="1367" y="185"/>
                        </a:lnTo>
                        <a:lnTo>
                          <a:pt x="1242" y="235"/>
                        </a:lnTo>
                        <a:lnTo>
                          <a:pt x="1104" y="373"/>
                        </a:lnTo>
                        <a:lnTo>
                          <a:pt x="976" y="673"/>
                        </a:lnTo>
                        <a:lnTo>
                          <a:pt x="921" y="906"/>
                        </a:lnTo>
                        <a:lnTo>
                          <a:pt x="884" y="1029"/>
                        </a:lnTo>
                        <a:lnTo>
                          <a:pt x="779" y="984"/>
                        </a:lnTo>
                        <a:lnTo>
                          <a:pt x="661" y="783"/>
                        </a:lnTo>
                        <a:lnTo>
                          <a:pt x="563" y="505"/>
                        </a:lnTo>
                        <a:lnTo>
                          <a:pt x="581" y="380"/>
                        </a:lnTo>
                        <a:lnTo>
                          <a:pt x="636" y="248"/>
                        </a:lnTo>
                        <a:lnTo>
                          <a:pt x="658" y="150"/>
                        </a:lnTo>
                        <a:lnTo>
                          <a:pt x="418" y="145"/>
                        </a:lnTo>
                        <a:lnTo>
                          <a:pt x="178" y="105"/>
                        </a:lnTo>
                        <a:lnTo>
                          <a:pt x="65" y="0"/>
                        </a:lnTo>
                        <a:lnTo>
                          <a:pt x="0" y="50"/>
                        </a:lnTo>
                        <a:lnTo>
                          <a:pt x="88" y="230"/>
                        </a:lnTo>
                        <a:lnTo>
                          <a:pt x="280" y="250"/>
                        </a:lnTo>
                        <a:lnTo>
                          <a:pt x="488" y="270"/>
                        </a:lnTo>
                        <a:lnTo>
                          <a:pt x="493" y="428"/>
                        </a:lnTo>
                        <a:lnTo>
                          <a:pt x="513" y="611"/>
                        </a:lnTo>
                        <a:lnTo>
                          <a:pt x="583" y="816"/>
                        </a:lnTo>
                        <a:lnTo>
                          <a:pt x="671" y="1019"/>
                        </a:lnTo>
                        <a:lnTo>
                          <a:pt x="804" y="1154"/>
                        </a:lnTo>
                        <a:lnTo>
                          <a:pt x="889" y="12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2446200" y="1492560"/>
                    <a:ext cx="157320" cy="29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1" h="1625">
                        <a:moveTo>
                          <a:pt x="0" y="1610"/>
                        </a:moveTo>
                        <a:lnTo>
                          <a:pt x="0" y="1503"/>
                        </a:lnTo>
                        <a:lnTo>
                          <a:pt x="67" y="1420"/>
                        </a:lnTo>
                        <a:lnTo>
                          <a:pt x="363" y="1325"/>
                        </a:lnTo>
                        <a:lnTo>
                          <a:pt x="728" y="1245"/>
                        </a:lnTo>
                        <a:lnTo>
                          <a:pt x="939" y="1197"/>
                        </a:lnTo>
                        <a:lnTo>
                          <a:pt x="964" y="1155"/>
                        </a:lnTo>
                        <a:lnTo>
                          <a:pt x="864" y="1034"/>
                        </a:lnTo>
                        <a:lnTo>
                          <a:pt x="666" y="857"/>
                        </a:lnTo>
                        <a:lnTo>
                          <a:pt x="463" y="706"/>
                        </a:lnTo>
                        <a:lnTo>
                          <a:pt x="303" y="626"/>
                        </a:lnTo>
                        <a:lnTo>
                          <a:pt x="213" y="544"/>
                        </a:lnTo>
                        <a:lnTo>
                          <a:pt x="205" y="483"/>
                        </a:lnTo>
                        <a:lnTo>
                          <a:pt x="258" y="428"/>
                        </a:lnTo>
                        <a:lnTo>
                          <a:pt x="385" y="401"/>
                        </a:lnTo>
                        <a:lnTo>
                          <a:pt x="546" y="298"/>
                        </a:lnTo>
                        <a:lnTo>
                          <a:pt x="568" y="198"/>
                        </a:lnTo>
                        <a:lnTo>
                          <a:pt x="568" y="55"/>
                        </a:lnTo>
                        <a:lnTo>
                          <a:pt x="553" y="0"/>
                        </a:lnTo>
                        <a:lnTo>
                          <a:pt x="613" y="13"/>
                        </a:lnTo>
                        <a:lnTo>
                          <a:pt x="698" y="135"/>
                        </a:lnTo>
                        <a:lnTo>
                          <a:pt x="728" y="266"/>
                        </a:lnTo>
                        <a:lnTo>
                          <a:pt x="636" y="361"/>
                        </a:lnTo>
                        <a:lnTo>
                          <a:pt x="553" y="388"/>
                        </a:lnTo>
                        <a:lnTo>
                          <a:pt x="393" y="463"/>
                        </a:lnTo>
                        <a:lnTo>
                          <a:pt x="363" y="504"/>
                        </a:lnTo>
                        <a:lnTo>
                          <a:pt x="385" y="544"/>
                        </a:lnTo>
                        <a:lnTo>
                          <a:pt x="531" y="654"/>
                        </a:lnTo>
                        <a:lnTo>
                          <a:pt x="683" y="714"/>
                        </a:lnTo>
                        <a:lnTo>
                          <a:pt x="886" y="869"/>
                        </a:lnTo>
                        <a:lnTo>
                          <a:pt x="1024" y="1054"/>
                        </a:lnTo>
                        <a:lnTo>
                          <a:pt x="1091" y="1197"/>
                        </a:lnTo>
                        <a:lnTo>
                          <a:pt x="1069" y="1245"/>
                        </a:lnTo>
                        <a:lnTo>
                          <a:pt x="1024" y="1277"/>
                        </a:lnTo>
                        <a:lnTo>
                          <a:pt x="849" y="1340"/>
                        </a:lnTo>
                        <a:lnTo>
                          <a:pt x="501" y="1443"/>
                        </a:lnTo>
                        <a:lnTo>
                          <a:pt x="280" y="1530"/>
                        </a:lnTo>
                        <a:lnTo>
                          <a:pt x="138" y="1605"/>
                        </a:lnTo>
                        <a:lnTo>
                          <a:pt x="45" y="1625"/>
                        </a:lnTo>
                        <a:lnTo>
                          <a:pt x="0" y="16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2291400" y="1536120"/>
                    <a:ext cx="12276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w="851" h="1157">
                        <a:moveTo>
                          <a:pt x="173" y="939"/>
                        </a:moveTo>
                        <a:lnTo>
                          <a:pt x="271" y="1042"/>
                        </a:lnTo>
                        <a:lnTo>
                          <a:pt x="431" y="1137"/>
                        </a:lnTo>
                        <a:lnTo>
                          <a:pt x="566" y="1157"/>
                        </a:lnTo>
                        <a:lnTo>
                          <a:pt x="669" y="1137"/>
                        </a:lnTo>
                        <a:lnTo>
                          <a:pt x="791" y="1057"/>
                        </a:lnTo>
                        <a:lnTo>
                          <a:pt x="836" y="892"/>
                        </a:lnTo>
                        <a:lnTo>
                          <a:pt x="851" y="769"/>
                        </a:lnTo>
                        <a:lnTo>
                          <a:pt x="814" y="654"/>
                        </a:lnTo>
                        <a:lnTo>
                          <a:pt x="744" y="511"/>
                        </a:lnTo>
                        <a:lnTo>
                          <a:pt x="679" y="388"/>
                        </a:lnTo>
                        <a:lnTo>
                          <a:pt x="669" y="361"/>
                        </a:lnTo>
                        <a:lnTo>
                          <a:pt x="699" y="218"/>
                        </a:lnTo>
                        <a:lnTo>
                          <a:pt x="791" y="75"/>
                        </a:lnTo>
                        <a:lnTo>
                          <a:pt x="806" y="33"/>
                        </a:lnTo>
                        <a:lnTo>
                          <a:pt x="759" y="0"/>
                        </a:lnTo>
                        <a:lnTo>
                          <a:pt x="699" y="0"/>
                        </a:lnTo>
                        <a:lnTo>
                          <a:pt x="634" y="185"/>
                        </a:lnTo>
                        <a:lnTo>
                          <a:pt x="604" y="306"/>
                        </a:lnTo>
                        <a:lnTo>
                          <a:pt x="521" y="225"/>
                        </a:lnTo>
                        <a:lnTo>
                          <a:pt x="451" y="163"/>
                        </a:lnTo>
                        <a:lnTo>
                          <a:pt x="308" y="115"/>
                        </a:lnTo>
                        <a:lnTo>
                          <a:pt x="203" y="115"/>
                        </a:lnTo>
                        <a:lnTo>
                          <a:pt x="45" y="185"/>
                        </a:lnTo>
                        <a:lnTo>
                          <a:pt x="0" y="381"/>
                        </a:lnTo>
                        <a:lnTo>
                          <a:pt x="38" y="634"/>
                        </a:lnTo>
                        <a:lnTo>
                          <a:pt x="105" y="872"/>
                        </a:lnTo>
                        <a:lnTo>
                          <a:pt x="173" y="9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2136960" y="1044720"/>
                  <a:ext cx="236520" cy="239040"/>
                  <a:chOff x="2136960" y="1044720"/>
                  <a:chExt cx="236520" cy="23904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>
                    <a:off x="2136960" y="1044720"/>
                    <a:ext cx="236520" cy="2390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2" name="doc_0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63960" y="1066320"/>
                    <a:ext cx="197280" cy="199080"/>
                  </a:xfrm>
                  <a:prstGeom prst="rect">
                    <a:avLst/>
                  </a:prstGeom>
                  <a:ln w="9360">
                    <a:solidFill>
                      <a:srgbClr val="c0c0c0"/>
                    </a:solidFill>
                    <a:miter/>
                  </a:ln>
                </p:spPr>
              </p:pic>
            </p:grpSp>
            <p:grpSp>
              <p:nvGrpSpPr>
                <p:cNvPr id="333" name=""/>
                <p:cNvGrpSpPr/>
                <p:nvPr/>
              </p:nvGrpSpPr>
              <p:grpSpPr>
                <a:xfrm>
                  <a:off x="1850760" y="1168200"/>
                  <a:ext cx="255240" cy="278640"/>
                  <a:chOff x="1850760" y="1168200"/>
                  <a:chExt cx="255240" cy="27864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>
                    <a:off x="1850760" y="1168200"/>
                    <a:ext cx="25524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5" name="doc_0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59040" y="1186920"/>
                    <a:ext cx="236520" cy="2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2008440" y="1487160"/>
                  <a:ext cx="204120" cy="245160"/>
                  <a:chOff x="2008440" y="1487160"/>
                  <a:chExt cx="204120" cy="24516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2008440" y="1487160"/>
                    <a:ext cx="204120" cy="2451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38" name="doc_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28960" y="1503720"/>
                    <a:ext cx="1666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2403000" y="1208160"/>
                  <a:ext cx="236880" cy="278640"/>
                  <a:chOff x="2403000" y="1208160"/>
                  <a:chExt cx="236880" cy="27864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2403000" y="1208160"/>
                    <a:ext cx="23688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41" name="doc_05gif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08400" y="1241640"/>
                    <a:ext cx="22500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342" name=""/>
            <p:cNvGrpSpPr/>
            <p:nvPr/>
          </p:nvGrpSpPr>
          <p:grpSpPr>
            <a:xfrm>
              <a:off x="7570800" y="4191120"/>
              <a:ext cx="1106280" cy="1193760"/>
              <a:chOff x="7570800" y="4191120"/>
              <a:chExt cx="1106280" cy="1193760"/>
            </a:xfrm>
          </p:grpSpPr>
          <p:sp>
            <p:nvSpPr>
              <p:cNvPr id="343" name=""/>
              <p:cNvSpPr/>
              <p:nvPr/>
            </p:nvSpPr>
            <p:spPr>
              <a:xfrm>
                <a:off x="7570800" y="5137200"/>
                <a:ext cx="1106280" cy="24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Utilisateur fin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7729200" y="4270320"/>
                <a:ext cx="430200" cy="903600"/>
                <a:chOff x="7729200" y="4270320"/>
                <a:chExt cx="430200" cy="903600"/>
              </a:xfrm>
            </p:grpSpPr>
            <p:sp>
              <p:nvSpPr>
                <p:cNvPr id="345" name=""/>
                <p:cNvSpPr/>
                <p:nvPr/>
              </p:nvSpPr>
              <p:spPr>
                <a:xfrm flipH="1">
                  <a:off x="7853760" y="4320720"/>
                  <a:ext cx="168120" cy="19692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>
                  <a:off x="7965000" y="4270320"/>
                  <a:ext cx="194040" cy="31644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H="1">
                  <a:off x="7875360" y="4532400"/>
                  <a:ext cx="100800" cy="29664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>
                  <a:off x="7774200" y="4540680"/>
                  <a:ext cx="155160" cy="22788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>
                  <a:off x="7728840" y="4799160"/>
                  <a:ext cx="188280" cy="368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>
                  <a:off x="7908840" y="4798440"/>
                  <a:ext cx="126360" cy="37548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8162640" y="4191120"/>
                <a:ext cx="473400" cy="396720"/>
                <a:chOff x="8162640" y="4191120"/>
                <a:chExt cx="473400" cy="3967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8162640" y="4191120"/>
                  <a:ext cx="473400" cy="396720"/>
                </a:xfrm>
                <a:prstGeom prst="cloudCallout">
                  <a:avLst>
                    <a:gd name="adj1" fmla="val -75731"/>
                    <a:gd name="adj2" fmla="val 15087"/>
                  </a:avLst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53" name="inter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78920" y="4261320"/>
                  <a:ext cx="2365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54" name=""/>
            <p:cNvGrpSpPr/>
            <p:nvPr/>
          </p:nvGrpSpPr>
          <p:grpSpPr>
            <a:xfrm>
              <a:off x="2639880" y="1455840"/>
              <a:ext cx="1617840" cy="903240"/>
              <a:chOff x="2639880" y="1455840"/>
              <a:chExt cx="1617840" cy="903240"/>
            </a:xfrm>
          </p:grpSpPr>
          <p:pic>
            <p:nvPicPr>
              <p:cNvPr id="35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639880" y="193212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6" name=""/>
              <p:cNvGrpSpPr/>
              <p:nvPr/>
            </p:nvGrpSpPr>
            <p:grpSpPr>
              <a:xfrm>
                <a:off x="2916000" y="1455840"/>
                <a:ext cx="1025640" cy="903240"/>
                <a:chOff x="2916000" y="1455840"/>
                <a:chExt cx="1025640" cy="9032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916000" y="1721880"/>
                  <a:ext cx="102564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916000" y="1455840"/>
                  <a:ext cx="102564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933640" y="1724760"/>
                  <a:ext cx="100764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6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310200" y="1957320"/>
                  <a:ext cx="31536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992680" y="1486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6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20840" y="1920960"/>
                <a:ext cx="23688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3" name=""/>
            <p:cNvGrpSpPr/>
            <p:nvPr/>
          </p:nvGrpSpPr>
          <p:grpSpPr>
            <a:xfrm>
              <a:off x="5913360" y="4230720"/>
              <a:ext cx="1697040" cy="995400"/>
              <a:chOff x="5913360" y="4230720"/>
              <a:chExt cx="1697040" cy="995400"/>
            </a:xfrm>
          </p:grpSpPr>
          <p:pic>
            <p:nvPicPr>
              <p:cNvPr id="364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913360" y="4708440"/>
                <a:ext cx="23796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5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7373880" y="4708440"/>
                <a:ext cx="236520" cy="238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66" name=""/>
              <p:cNvGrpSpPr/>
              <p:nvPr/>
            </p:nvGrpSpPr>
            <p:grpSpPr>
              <a:xfrm>
                <a:off x="6189480" y="4230720"/>
                <a:ext cx="1104840" cy="995400"/>
                <a:chOff x="6189480" y="4230720"/>
                <a:chExt cx="1104840" cy="995400"/>
              </a:xfrm>
            </p:grpSpPr>
            <p:grpSp>
              <p:nvGrpSpPr>
                <p:cNvPr id="367" name=""/>
                <p:cNvGrpSpPr/>
                <p:nvPr/>
              </p:nvGrpSpPr>
              <p:grpSpPr>
                <a:xfrm>
                  <a:off x="6189480" y="4230720"/>
                  <a:ext cx="1026000" cy="902880"/>
                  <a:chOff x="6189480" y="4230720"/>
                  <a:chExt cx="1026000" cy="90288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>
                    <a:off x="6189480" y="4496760"/>
                    <a:ext cx="1026000" cy="63684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6189480" y="423072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6207120" y="449928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1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584040" y="473220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7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66160" y="426132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6228720" y="4270320"/>
                  <a:ext cx="1026000" cy="903240"/>
                  <a:chOff x="6228720" y="4270320"/>
                  <a:chExt cx="1026000" cy="90324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>
                    <a:off x="6228720" y="4536360"/>
                    <a:ext cx="1026000" cy="63720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6228720" y="427032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246360" y="453924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7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623280" y="477180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7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05400" y="430092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6268320" y="4322880"/>
                  <a:ext cx="1026000" cy="903240"/>
                  <a:chOff x="6268320" y="4322880"/>
                  <a:chExt cx="1026000" cy="90324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>
                    <a:off x="6268320" y="4588920"/>
                    <a:ext cx="1026000" cy="63720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6268320" y="432288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6285960" y="459180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3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662880" y="482436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8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45000" y="435348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385" name=""/>
            <p:cNvGrpSpPr/>
            <p:nvPr/>
          </p:nvGrpSpPr>
          <p:grpSpPr>
            <a:xfrm>
              <a:off x="2679840" y="3552840"/>
              <a:ext cx="2167920" cy="677520"/>
              <a:chOff x="2679840" y="3552840"/>
              <a:chExt cx="2167920" cy="677520"/>
            </a:xfrm>
          </p:grpSpPr>
          <p:pic>
            <p:nvPicPr>
              <p:cNvPr id="386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2679840" y="3832200"/>
                <a:ext cx="23616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7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3981240" y="3832200"/>
                <a:ext cx="236160" cy="238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88" name=""/>
              <p:cNvGrpSpPr/>
              <p:nvPr/>
            </p:nvGrpSpPr>
            <p:grpSpPr>
              <a:xfrm>
                <a:off x="2876400" y="3552840"/>
                <a:ext cx="1007640" cy="677520"/>
                <a:chOff x="2876400" y="3552840"/>
                <a:chExt cx="1007640" cy="6775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3034080" y="3592440"/>
                  <a:ext cx="670680" cy="6379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90" name="onto_01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3191760" y="3826080"/>
                  <a:ext cx="315360" cy="31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1" name=""/>
                <p:cNvSpPr/>
                <p:nvPr/>
              </p:nvSpPr>
              <p:spPr>
                <a:xfrm>
                  <a:off x="2876400" y="3552840"/>
                  <a:ext cx="100764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Ontologi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92" name="onto_01" descr=""/>
              <p:cNvPicPr/>
              <p:nvPr/>
            </p:nvPicPr>
            <p:blipFill>
              <a:blip r:embed="rId28"/>
              <a:stretch/>
            </p:blipFill>
            <p:spPr>
              <a:xfrm>
                <a:off x="4533840" y="3792600"/>
                <a:ext cx="313920" cy="317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3" name=""/>
            <p:cNvGrpSpPr/>
            <p:nvPr/>
          </p:nvGrpSpPr>
          <p:grpSpPr>
            <a:xfrm>
              <a:off x="2467080" y="4303800"/>
              <a:ext cx="1631880" cy="882360"/>
              <a:chOff x="2467080" y="4303800"/>
              <a:chExt cx="1631880" cy="88236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2467080" y="4587840"/>
                <a:ext cx="1631880" cy="598320"/>
                <a:chOff x="2467080" y="4587840"/>
                <a:chExt cx="1631880" cy="5983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2545920" y="4627440"/>
                  <a:ext cx="1340640" cy="558720"/>
                </a:xfrm>
                <a:prstGeom prst="foldedCorner">
                  <a:avLst>
                    <a:gd name="adj" fmla="val 6138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96" name="onto_02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2585160" y="4831560"/>
                  <a:ext cx="275760" cy="27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7" name=""/>
                <p:cNvSpPr/>
                <p:nvPr/>
              </p:nvSpPr>
              <p:spPr>
                <a:xfrm>
                  <a:off x="2467080" y="4587840"/>
                  <a:ext cx="749160" cy="2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Modèle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768760" y="4787280"/>
                  <a:ext cx="1330200" cy="35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- Modèle d'entrepris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- Profils d'utilisateur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99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3270240" y="4303800"/>
                <a:ext cx="23616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00" name=""/>
            <p:cNvGrpSpPr/>
            <p:nvPr/>
          </p:nvGrpSpPr>
          <p:grpSpPr>
            <a:xfrm>
              <a:off x="3981600" y="4668840"/>
              <a:ext cx="1065240" cy="357120"/>
              <a:chOff x="3981600" y="4668840"/>
              <a:chExt cx="1065240" cy="357120"/>
            </a:xfrm>
          </p:grpSpPr>
          <p:pic>
            <p:nvPicPr>
              <p:cNvPr id="401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3981600" y="474840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2" name="onto_02" descr=""/>
              <p:cNvPicPr/>
              <p:nvPr/>
            </p:nvPicPr>
            <p:blipFill>
              <a:blip r:embed="rId32"/>
              <a:stretch/>
            </p:blipFill>
            <p:spPr>
              <a:xfrm>
                <a:off x="4691160" y="4668840"/>
                <a:ext cx="35568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03" name=""/>
            <p:cNvGrpSpPr/>
            <p:nvPr/>
          </p:nvGrpSpPr>
          <p:grpSpPr>
            <a:xfrm>
              <a:off x="7650000" y="3457800"/>
              <a:ext cx="631800" cy="772920"/>
              <a:chOff x="7650000" y="3457800"/>
              <a:chExt cx="631800" cy="772920"/>
            </a:xfrm>
          </p:grpSpPr>
          <p:pic>
            <p:nvPicPr>
              <p:cNvPr id="404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846920" y="3990960"/>
                <a:ext cx="236520" cy="239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05" name=""/>
              <p:cNvGrpSpPr/>
              <p:nvPr/>
            </p:nvGrpSpPr>
            <p:grpSpPr>
              <a:xfrm>
                <a:off x="7650000" y="3457800"/>
                <a:ext cx="631800" cy="490320"/>
                <a:chOff x="7650000" y="3457800"/>
                <a:chExt cx="631800" cy="4903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7689240" y="3510000"/>
                  <a:ext cx="552960" cy="4381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650000" y="3457800"/>
                  <a:ext cx="6318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Requête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08" name="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7886880" y="3691080"/>
                  <a:ext cx="236880" cy="238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09" name=""/>
            <p:cNvGrpSpPr/>
            <p:nvPr/>
          </p:nvGrpSpPr>
          <p:grpSpPr>
            <a:xfrm>
              <a:off x="4414680" y="1386000"/>
              <a:ext cx="1301760" cy="3565440"/>
              <a:chOff x="4414680" y="1386000"/>
              <a:chExt cx="1301760" cy="3565440"/>
            </a:xfrm>
          </p:grpSpPr>
          <p:pic>
            <p:nvPicPr>
              <p:cNvPr id="410" name="doc_01" descr=""/>
              <p:cNvPicPr/>
              <p:nvPr/>
            </p:nvPicPr>
            <p:blipFill>
              <a:blip r:embed="rId35"/>
              <a:stretch/>
            </p:blipFill>
            <p:spPr>
              <a:xfrm>
                <a:off x="5322960" y="2000160"/>
                <a:ext cx="214200" cy="2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1" name="doc_01" descr=""/>
              <p:cNvPicPr/>
              <p:nvPr/>
            </p:nvPicPr>
            <p:blipFill>
              <a:blip r:embed="rId36"/>
              <a:stretch/>
            </p:blipFill>
            <p:spPr>
              <a:xfrm>
                <a:off x="5283360" y="192096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" name="memory_01" descr=""/>
              <p:cNvPicPr/>
              <p:nvPr/>
            </p:nvPicPr>
            <p:blipFill>
              <a:blip r:embed="rId37"/>
              <a:stretch/>
            </p:blipFill>
            <p:spPr>
              <a:xfrm>
                <a:off x="4414680" y="1386000"/>
                <a:ext cx="33192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" name="doc_03" descr=""/>
              <p:cNvPicPr/>
              <p:nvPr/>
            </p:nvPicPr>
            <p:blipFill>
              <a:blip r:embed="rId38"/>
              <a:stretch/>
            </p:blipFill>
            <p:spPr>
              <a:xfrm>
                <a:off x="4572000" y="4156200"/>
                <a:ext cx="395280" cy="39672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414" name="doc_04" descr=""/>
              <p:cNvPicPr/>
              <p:nvPr/>
            </p:nvPicPr>
            <p:blipFill>
              <a:blip r:embed="rId39"/>
              <a:stretch/>
            </p:blipFill>
            <p:spPr>
              <a:xfrm>
                <a:off x="4494240" y="1881360"/>
                <a:ext cx="276120" cy="27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5" name="doc_05gif" descr=""/>
              <p:cNvPicPr/>
              <p:nvPr/>
            </p:nvPicPr>
            <p:blipFill>
              <a:blip r:embed="rId40"/>
              <a:stretch/>
            </p:blipFill>
            <p:spPr>
              <a:xfrm>
                <a:off x="5164200" y="4075200"/>
                <a:ext cx="30456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6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5086440" y="3513240"/>
                <a:ext cx="41112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7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4911840" y="1425600"/>
                <a:ext cx="33156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8" name="doc_01" descr=""/>
              <p:cNvPicPr/>
              <p:nvPr/>
            </p:nvPicPr>
            <p:blipFill>
              <a:blip r:embed="rId43"/>
              <a:stretch/>
            </p:blipFill>
            <p:spPr>
              <a:xfrm>
                <a:off x="5362560" y="204012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9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5400720" y="4633920"/>
                <a:ext cx="315720" cy="31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0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4888080" y="2040120"/>
                <a:ext cx="333360" cy="33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5400720" y="148284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2" name=""/>
            <p:cNvSpPr txBox="1"/>
            <p:nvPr/>
          </p:nvSpPr>
          <p:spPr>
            <a:xfrm>
              <a:off x="2560680" y="4310280"/>
              <a:ext cx="236520" cy="15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1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3230640" y="1163880"/>
              <a:ext cx="237960" cy="16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2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7413480" y="4429080"/>
              <a:ext cx="236520" cy="1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3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2600280" y="3274920"/>
              <a:ext cx="1971720" cy="1273320"/>
              <a:chOff x="2600280" y="3274920"/>
              <a:chExt cx="1971720" cy="1273320"/>
            </a:xfrm>
          </p:grpSpPr>
          <p:sp>
            <p:nvSpPr>
              <p:cNvPr id="426" name=""/>
              <p:cNvSpPr/>
              <p:nvPr/>
            </p:nvSpPr>
            <p:spPr>
              <a:xfrm>
                <a:off x="3902040" y="3274920"/>
                <a:ext cx="669960" cy="47808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2600280" y="3274920"/>
                <a:ext cx="512640" cy="47808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44720" y="3354480"/>
                <a:ext cx="117720" cy="119376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2165400" y="2279880"/>
              <a:ext cx="947160" cy="396720"/>
              <a:chOff x="2165400" y="2279880"/>
              <a:chExt cx="947160" cy="396720"/>
            </a:xfrm>
          </p:grpSpPr>
          <p:sp>
            <p:nvSpPr>
              <p:cNvPr id="430" name=""/>
              <p:cNvSpPr/>
              <p:nvPr/>
            </p:nvSpPr>
            <p:spPr>
              <a:xfrm>
                <a:off x="2165400" y="2384640"/>
                <a:ext cx="118800" cy="25236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2480760" y="2279880"/>
                <a:ext cx="631800" cy="39672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5715000" y="1726920"/>
              <a:ext cx="2247840" cy="2503800"/>
              <a:chOff x="5715000" y="1726920"/>
              <a:chExt cx="2247840" cy="2503800"/>
            </a:xfrm>
          </p:grpSpPr>
          <p:sp>
            <p:nvSpPr>
              <p:cNvPr id="433" name=""/>
              <p:cNvSpPr/>
              <p:nvPr/>
            </p:nvSpPr>
            <p:spPr>
              <a:xfrm flipH="1" flipV="1">
                <a:off x="5715000" y="1726920"/>
                <a:ext cx="137160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531200" y="3035520"/>
                <a:ext cx="431640" cy="44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6821280" y="3354480"/>
                <a:ext cx="355320" cy="795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413480" y="3354480"/>
                <a:ext cx="316080" cy="87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5519880" y="3235320"/>
              <a:ext cx="2129760" cy="1035000"/>
              <a:chOff x="5519880" y="3235320"/>
              <a:chExt cx="2129760" cy="1035000"/>
            </a:xfrm>
          </p:grpSpPr>
          <p:sp>
            <p:nvSpPr>
              <p:cNvPr id="438" name=""/>
              <p:cNvSpPr/>
              <p:nvPr/>
            </p:nvSpPr>
            <p:spPr>
              <a:xfrm flipH="1">
                <a:off x="5519880" y="3235320"/>
                <a:ext cx="552240" cy="39708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6348240" y="3295440"/>
                <a:ext cx="0" cy="89532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703920" y="3354480"/>
                <a:ext cx="945720" cy="91584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1" name=""/>
          <p:cNvGrpSpPr/>
          <p:nvPr/>
        </p:nvGrpSpPr>
        <p:grpSpPr>
          <a:xfrm>
            <a:off x="1168560" y="838080"/>
            <a:ext cx="7975440" cy="4648320"/>
            <a:chOff x="1168560" y="838080"/>
            <a:chExt cx="7975440" cy="4648320"/>
          </a:xfrm>
        </p:grpSpPr>
        <p:sp>
          <p:nvSpPr>
            <p:cNvPr id="442" name=""/>
            <p:cNvSpPr/>
            <p:nvPr/>
          </p:nvSpPr>
          <p:spPr>
            <a:xfrm>
              <a:off x="1168560" y="838080"/>
              <a:ext cx="3124080" cy="46483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045120" y="838080"/>
              <a:ext cx="3098880" cy="4572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92640" y="990720"/>
              <a:ext cx="1752480" cy="43434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A057A-FDA6-4F22-BD40-BC42C0242B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Rôles Identifiés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304920" y="177840"/>
            <a:ext cx="883908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48920" indent="-413280">
              <a:lnSpc>
                <a:spcPct val="10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Analyse des rôles identifiés</a:t>
            </a:r>
            <a:br>
              <a:rPr sz="3200"/>
            </a:b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Archiviste Ontologiste ; Archiviste Modèle d'Entreprise ; Archiviste d'Annotations ; Médiateur d'Annotations ; Apparieur Fédérable ; Contrôleur d'Interface ; Gestionnaire de profils ; Archiviste de profils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91360" indent="-265320">
              <a:lnSpc>
                <a:spcPct val="9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9" name="" descr=""/>
          <p:cNvPicPr/>
          <p:nvPr/>
        </p:nvPicPr>
        <p:blipFill>
          <a:blip r:embed="rId2"/>
          <a:stretch/>
        </p:blipFill>
        <p:spPr>
          <a:xfrm>
            <a:off x="914400" y="2514600"/>
            <a:ext cx="8077320" cy="3639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67B6C-9172-4EE2-A756-791ADA024BF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Interactions entre agents (use cases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253800" y="0"/>
            <a:ext cx="883908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39200" indent="-404280">
              <a:lnSpc>
                <a:spcPct val="8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Interactions entres les rôle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872280" indent="-25956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Analyse des scénari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72280" indent="-25956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22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754380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D04E4-E4B4-4A85-B2BD-C2361DB8A19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Interactions entre agents (protocoles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2286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7720" indent="-43992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Protocoles des Interaction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48960" indent="-28260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Graphe d'accointanc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48960" indent="-28260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Séquences de messag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925" name=""/>
          <p:cNvGrpSpPr/>
          <p:nvPr/>
        </p:nvGrpSpPr>
        <p:grpSpPr>
          <a:xfrm>
            <a:off x="863640" y="1752480"/>
            <a:ext cx="8204040" cy="4572000"/>
            <a:chOff x="863640" y="1752480"/>
            <a:chExt cx="8204040" cy="4572000"/>
          </a:xfrm>
        </p:grpSpPr>
        <p:sp>
          <p:nvSpPr>
            <p:cNvPr id="2926" name=""/>
            <p:cNvSpPr/>
            <p:nvPr/>
          </p:nvSpPr>
          <p:spPr>
            <a:xfrm>
              <a:off x="863640" y="1752480"/>
              <a:ext cx="8204040" cy="4572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7" name=""/>
            <p:cNvGrpSpPr/>
            <p:nvPr/>
          </p:nvGrpSpPr>
          <p:grpSpPr>
            <a:xfrm>
              <a:off x="914400" y="1828440"/>
              <a:ext cx="8076960" cy="4419360"/>
              <a:chOff x="914400" y="1828440"/>
              <a:chExt cx="8076960" cy="4419360"/>
            </a:xfrm>
          </p:grpSpPr>
          <p:sp>
            <p:nvSpPr>
              <p:cNvPr id="2928" name=""/>
              <p:cNvSpPr/>
              <p:nvPr/>
            </p:nvSpPr>
            <p:spPr>
              <a:xfrm>
                <a:off x="914400" y="3218040"/>
                <a:ext cx="1641240" cy="37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Courier New"/>
                  </a:rPr>
                  <a:t>AMLocal</a:t>
                </a:r>
                <a:r>
                  <a:rPr b="0" lang="fr-FR" sz="1200" spc="-1" strike="noStrike">
                    <a:solidFill>
                      <a:srgbClr val="000000"/>
                    </a:solidFill>
                    <a:latin typeface="Courier New"/>
                  </a:rPr>
                  <a:t> : 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2555640" y="3406320"/>
                <a:ext cx="203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4591800" y="3218040"/>
                <a:ext cx="1050480" cy="37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urier New"/>
                  </a:rPr>
                  <a:t>* : 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7743960" y="3218040"/>
                <a:ext cx="1051200" cy="37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urier New"/>
                  </a:rPr>
                  <a:t>* : A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5642280" y="3406320"/>
                <a:ext cx="210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4591800" y="4291560"/>
                <a:ext cx="1050480" cy="376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urier New"/>
                  </a:rPr>
                  <a:t>* : A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1571040" y="4479840"/>
                <a:ext cx="302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V="1">
                <a:off x="1571040" y="3596760"/>
                <a:ext cx="0" cy="88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2621520" y="3342240"/>
                <a:ext cx="72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3200760" y="3281400"/>
                <a:ext cx="143640" cy="4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2351520" y="2938680"/>
                <a:ext cx="111384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urier New"/>
                  </a:rPr>
                  <a:t>1: </a:t>
                </a:r>
                <a:r>
                  <a:rPr b="0" sz="1200" spc="-1" strike="noStrike">
                    <a:solidFill>
                      <a:srgbClr val="000000"/>
                    </a:solidFill>
                    <a:latin typeface="Courier New"/>
                  </a:rPr>
                  <a:t>cf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9" name=""/>
              <p:cNvGrpSpPr/>
              <p:nvPr/>
            </p:nvGrpSpPr>
            <p:grpSpPr>
              <a:xfrm>
                <a:off x="2368440" y="4349880"/>
                <a:ext cx="722520" cy="63360"/>
                <a:chOff x="2368440" y="4349880"/>
                <a:chExt cx="722520" cy="63360"/>
              </a:xfrm>
            </p:grpSpPr>
            <p:sp>
              <p:nvSpPr>
                <p:cNvPr id="2940" name=""/>
                <p:cNvSpPr/>
                <p:nvPr/>
              </p:nvSpPr>
              <p:spPr>
                <a:xfrm>
                  <a:off x="2368440" y="4413240"/>
                  <a:ext cx="722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>
                  <a:off x="2945520" y="4349880"/>
                  <a:ext cx="145080" cy="4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2" name=""/>
              <p:cNvSpPr/>
              <p:nvPr/>
            </p:nvSpPr>
            <p:spPr>
              <a:xfrm>
                <a:off x="2098080" y="4036680"/>
                <a:ext cx="111384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urier New"/>
                  </a:rPr>
                  <a:t>2: </a:t>
                </a:r>
                <a:r>
                  <a:rPr b="0" sz="1200" spc="-1" strike="noStrike">
                    <a:solidFill>
                      <a:srgbClr val="000000"/>
                    </a:solidFill>
                    <a:latin typeface="Courier New"/>
                  </a:rPr>
                  <a:t>cf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3" name=""/>
              <p:cNvGrpSpPr/>
              <p:nvPr/>
            </p:nvGrpSpPr>
            <p:grpSpPr>
              <a:xfrm>
                <a:off x="5717520" y="3276360"/>
                <a:ext cx="722520" cy="63360"/>
                <a:chOff x="5717520" y="3276360"/>
                <a:chExt cx="722520" cy="63360"/>
              </a:xfrm>
            </p:grpSpPr>
            <p:sp>
              <p:nvSpPr>
                <p:cNvPr id="2944" name=""/>
                <p:cNvSpPr/>
                <p:nvPr/>
              </p:nvSpPr>
              <p:spPr>
                <a:xfrm>
                  <a:off x="5717520" y="3339720"/>
                  <a:ext cx="722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>
                  <a:off x="6294960" y="3276360"/>
                  <a:ext cx="144720" cy="4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6" name=""/>
              <p:cNvSpPr/>
              <p:nvPr/>
            </p:nvSpPr>
            <p:spPr>
              <a:xfrm>
                <a:off x="5446440" y="2963160"/>
                <a:ext cx="111456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urier New"/>
                  </a:rPr>
                  <a:t>2: </a:t>
                </a:r>
                <a:r>
                  <a:rPr b="0" sz="1200" spc="-1" strike="noStrike">
                    <a:solidFill>
                      <a:srgbClr val="000000"/>
                    </a:solidFill>
                    <a:latin typeface="Courier New"/>
                  </a:rPr>
                  <a:t>cf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6561000" y="3411720"/>
                <a:ext cx="131292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urier New"/>
                  </a:rPr>
                  <a:t>3: propo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8" name=""/>
              <p:cNvGrpSpPr/>
              <p:nvPr/>
            </p:nvGrpSpPr>
            <p:grpSpPr>
              <a:xfrm>
                <a:off x="6889320" y="3474720"/>
                <a:ext cx="722160" cy="60840"/>
                <a:chOff x="6889320" y="3474720"/>
                <a:chExt cx="722160" cy="60840"/>
              </a:xfrm>
            </p:grpSpPr>
            <p:sp>
              <p:nvSpPr>
                <p:cNvPr id="2949" name=""/>
                <p:cNvSpPr/>
                <p:nvPr/>
              </p:nvSpPr>
              <p:spPr>
                <a:xfrm flipH="1">
                  <a:off x="6889320" y="3474720"/>
                  <a:ext cx="72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 flipH="1" flipV="1">
                  <a:off x="6889680" y="3488760"/>
                  <a:ext cx="145080" cy="4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51" name=""/>
              <p:cNvSpPr/>
              <p:nvPr/>
            </p:nvSpPr>
            <p:spPr>
              <a:xfrm>
                <a:off x="3411000" y="4540680"/>
                <a:ext cx="131220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urier New"/>
                  </a:rPr>
                  <a:t>3: propo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52" name=""/>
              <p:cNvGrpSpPr/>
              <p:nvPr/>
            </p:nvGrpSpPr>
            <p:grpSpPr>
              <a:xfrm>
                <a:off x="3753000" y="4540680"/>
                <a:ext cx="722520" cy="63360"/>
                <a:chOff x="3753000" y="4540680"/>
                <a:chExt cx="722520" cy="63360"/>
              </a:xfrm>
            </p:grpSpPr>
            <p:sp>
              <p:nvSpPr>
                <p:cNvPr id="2953" name=""/>
                <p:cNvSpPr/>
                <p:nvPr/>
              </p:nvSpPr>
              <p:spPr>
                <a:xfrm flipH="1">
                  <a:off x="3753000" y="4540680"/>
                  <a:ext cx="722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 flipH="1" flipV="1">
                  <a:off x="3753360" y="4555440"/>
                  <a:ext cx="145080" cy="4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55" name=""/>
              <p:cNvSpPr/>
              <p:nvPr/>
            </p:nvSpPr>
            <p:spPr>
              <a:xfrm flipV="1">
                <a:off x="3016080" y="2586960"/>
                <a:ext cx="394920" cy="43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H="1" flipV="1">
                <a:off x="4985640" y="2586960"/>
                <a:ext cx="788760" cy="43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3016080" y="2587320"/>
                <a:ext cx="1051200" cy="157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3016080" y="1827720"/>
                <a:ext cx="2954520" cy="758520"/>
              </a:xfrm>
              <a:prstGeom prst="foldedCorner">
                <a:avLst>
                  <a:gd name="adj" fmla="val 874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3082680" y="1828800"/>
                <a:ext cx="2887920" cy="75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Courier New"/>
                  </a:rPr>
                  <a:t>:protocol fipa contract 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Courier New"/>
                  </a:rPr>
                  <a:t>:content &lt;RDF Annotation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Courier New"/>
                  </a:rPr>
                  <a:t>:language CoMMA-RD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Courier New"/>
                  </a:rPr>
                  <a:t>:ontology CoMMA Ontolo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2950200" y="2838960"/>
                <a:ext cx="21682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Courier New"/>
                  </a:rPr>
                  <a:t>5: accept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Courier New"/>
                  </a:rPr>
                  <a:t>re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 flipV="1">
                <a:off x="4591800" y="5237640"/>
                <a:ext cx="4399560" cy="1010160"/>
              </a:xfrm>
              <a:prstGeom prst="foldedCorner">
                <a:avLst>
                  <a:gd name="adj" fmla="val 707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4643280" y="5301720"/>
                <a:ext cx="4215240" cy="9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Courier New"/>
                  </a:rPr>
                  <a:t>:protocol fipa contract 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Courier New"/>
                  </a:rPr>
                  <a:t>:content &lt;propose bid = distance to current archive / refuse / not understood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Courier New"/>
                  </a:rPr>
                  <a:t>:language CoMMA-RD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Courier New"/>
                  </a:rPr>
                  <a:t>:ontology CoMMA Ontolo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flipH="1" flipV="1">
                <a:off x="7283880" y="3721320"/>
                <a:ext cx="854640" cy="151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 flipH="1" flipV="1">
                <a:off x="4525200" y="4858920"/>
                <a:ext cx="3020400" cy="37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3411000" y="3406320"/>
                <a:ext cx="131220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urier New"/>
                  </a:rPr>
                  <a:t>4: propo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6" name=""/>
              <p:cNvGrpSpPr/>
              <p:nvPr/>
            </p:nvGrpSpPr>
            <p:grpSpPr>
              <a:xfrm>
                <a:off x="3738600" y="3469320"/>
                <a:ext cx="722520" cy="63720"/>
                <a:chOff x="3738600" y="3469320"/>
                <a:chExt cx="722520" cy="63720"/>
              </a:xfrm>
            </p:grpSpPr>
            <p:sp>
              <p:nvSpPr>
                <p:cNvPr id="2967" name=""/>
                <p:cNvSpPr/>
                <p:nvPr/>
              </p:nvSpPr>
              <p:spPr>
                <a:xfrm flipH="1">
                  <a:off x="3738600" y="3469320"/>
                  <a:ext cx="722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 flipH="1" flipV="1">
                  <a:off x="3738960" y="3484080"/>
                  <a:ext cx="145080" cy="4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9" name=""/>
              <p:cNvSpPr/>
              <p:nvPr/>
            </p:nvSpPr>
            <p:spPr>
              <a:xfrm flipH="1" flipV="1">
                <a:off x="4524840" y="3657600"/>
                <a:ext cx="3414600" cy="157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0" name=""/>
              <p:cNvGrpSpPr/>
              <p:nvPr/>
            </p:nvGrpSpPr>
            <p:grpSpPr>
              <a:xfrm>
                <a:off x="3673080" y="3281400"/>
                <a:ext cx="722520" cy="60840"/>
                <a:chOff x="3673080" y="3281400"/>
                <a:chExt cx="722520" cy="60840"/>
              </a:xfrm>
            </p:grpSpPr>
            <p:sp>
              <p:nvSpPr>
                <p:cNvPr id="2971" name=""/>
                <p:cNvSpPr/>
                <p:nvPr/>
              </p:nvSpPr>
              <p:spPr>
                <a:xfrm>
                  <a:off x="3673080" y="3342240"/>
                  <a:ext cx="722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4250160" y="3281400"/>
                  <a:ext cx="145080" cy="4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3" name=""/>
              <p:cNvSpPr/>
              <p:nvPr/>
            </p:nvSpPr>
            <p:spPr>
              <a:xfrm>
                <a:off x="2884320" y="3912480"/>
                <a:ext cx="216756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Courier New"/>
                  </a:rPr>
                  <a:t>6: accept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Courier New"/>
                  </a:rPr>
                  <a:t>re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4" name=""/>
              <p:cNvGrpSpPr/>
              <p:nvPr/>
            </p:nvGrpSpPr>
            <p:grpSpPr>
              <a:xfrm>
                <a:off x="3606480" y="4352400"/>
                <a:ext cx="722520" cy="63360"/>
                <a:chOff x="3606480" y="4352400"/>
                <a:chExt cx="722520" cy="63360"/>
              </a:xfrm>
            </p:grpSpPr>
            <p:sp>
              <p:nvSpPr>
                <p:cNvPr id="2975" name=""/>
                <p:cNvSpPr/>
                <p:nvPr/>
              </p:nvSpPr>
              <p:spPr>
                <a:xfrm>
                  <a:off x="3606480" y="4415760"/>
                  <a:ext cx="722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>
                  <a:off x="4183560" y="4352400"/>
                  <a:ext cx="145080" cy="4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7" name=""/>
              <p:cNvSpPr/>
              <p:nvPr/>
            </p:nvSpPr>
            <p:spPr>
              <a:xfrm>
                <a:off x="6166440" y="2838960"/>
                <a:ext cx="216756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Courier New"/>
                  </a:rPr>
                  <a:t>6: accept/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Courier New"/>
                  </a:rPr>
                  <a:t>re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8" name=""/>
              <p:cNvGrpSpPr/>
              <p:nvPr/>
            </p:nvGrpSpPr>
            <p:grpSpPr>
              <a:xfrm>
                <a:off x="6889320" y="3281400"/>
                <a:ext cx="722160" cy="60840"/>
                <a:chOff x="6889320" y="3281400"/>
                <a:chExt cx="722160" cy="60840"/>
              </a:xfrm>
            </p:grpSpPr>
            <p:sp>
              <p:nvSpPr>
                <p:cNvPr id="2979" name=""/>
                <p:cNvSpPr/>
                <p:nvPr/>
              </p:nvSpPr>
              <p:spPr>
                <a:xfrm>
                  <a:off x="6889320" y="3342240"/>
                  <a:ext cx="72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>
                  <a:off x="7466040" y="3281400"/>
                  <a:ext cx="145080" cy="4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1" name=""/>
              <p:cNvSpPr/>
              <p:nvPr/>
            </p:nvSpPr>
            <p:spPr>
              <a:xfrm>
                <a:off x="2031480" y="4543200"/>
                <a:ext cx="131292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urier New"/>
                  </a:rPr>
                  <a:t>7: </a:t>
                </a:r>
                <a:r>
                  <a:rPr b="0" sz="1200" spc="-1" strike="noStrike">
                    <a:solidFill>
                      <a:srgbClr val="000000"/>
                    </a:solidFill>
                    <a:latin typeface="Courier New"/>
                  </a:rPr>
                  <a:t>infor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82" name=""/>
              <p:cNvGrpSpPr/>
              <p:nvPr/>
            </p:nvGrpSpPr>
            <p:grpSpPr>
              <a:xfrm>
                <a:off x="2373840" y="4542840"/>
                <a:ext cx="722520" cy="63720"/>
                <a:chOff x="2373840" y="4542840"/>
                <a:chExt cx="722520" cy="63720"/>
              </a:xfrm>
            </p:grpSpPr>
            <p:sp>
              <p:nvSpPr>
                <p:cNvPr id="2983" name=""/>
                <p:cNvSpPr/>
                <p:nvPr/>
              </p:nvSpPr>
              <p:spPr>
                <a:xfrm flipH="1">
                  <a:off x="2373840" y="4542840"/>
                  <a:ext cx="722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 flipH="1" flipV="1">
                  <a:off x="2374200" y="4557600"/>
                  <a:ext cx="145080" cy="4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5" name=""/>
              <p:cNvSpPr/>
              <p:nvPr/>
            </p:nvSpPr>
            <p:spPr>
              <a:xfrm>
                <a:off x="5380560" y="3502800"/>
                <a:ext cx="131292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urier New"/>
                  </a:rPr>
                  <a:t>7: </a:t>
                </a:r>
                <a:r>
                  <a:rPr b="0" sz="1200" spc="-1" strike="noStrike">
                    <a:solidFill>
                      <a:srgbClr val="000000"/>
                    </a:solidFill>
                    <a:latin typeface="Courier New"/>
                  </a:rPr>
                  <a:t>infor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86" name=""/>
              <p:cNvGrpSpPr/>
              <p:nvPr/>
            </p:nvGrpSpPr>
            <p:grpSpPr>
              <a:xfrm>
                <a:off x="5723280" y="3502440"/>
                <a:ext cx="722160" cy="63720"/>
                <a:chOff x="5723280" y="3502440"/>
                <a:chExt cx="722160" cy="63720"/>
              </a:xfrm>
            </p:grpSpPr>
            <p:sp>
              <p:nvSpPr>
                <p:cNvPr id="2987" name=""/>
                <p:cNvSpPr/>
                <p:nvPr/>
              </p:nvSpPr>
              <p:spPr>
                <a:xfrm flipH="1">
                  <a:off x="5723280" y="3502440"/>
                  <a:ext cx="722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 flipH="1" flipV="1">
                  <a:off x="5723640" y="3517200"/>
                  <a:ext cx="145080" cy="4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9" name=""/>
              <p:cNvSpPr/>
              <p:nvPr/>
            </p:nvSpPr>
            <p:spPr>
              <a:xfrm>
                <a:off x="2397240" y="3455640"/>
                <a:ext cx="131616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urier New"/>
                  </a:rPr>
                  <a:t>8: </a:t>
                </a:r>
                <a:r>
                  <a:rPr b="0" sz="1200" spc="-1" strike="noStrike">
                    <a:solidFill>
                      <a:srgbClr val="000000"/>
                    </a:solidFill>
                    <a:latin typeface="Courier New"/>
                  </a:rPr>
                  <a:t>infor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0" name=""/>
              <p:cNvGrpSpPr/>
              <p:nvPr/>
            </p:nvGrpSpPr>
            <p:grpSpPr>
              <a:xfrm>
                <a:off x="2635560" y="3469320"/>
                <a:ext cx="722520" cy="63720"/>
                <a:chOff x="2635560" y="3469320"/>
                <a:chExt cx="722520" cy="63720"/>
              </a:xfrm>
            </p:grpSpPr>
            <p:sp>
              <p:nvSpPr>
                <p:cNvPr id="2991" name=""/>
                <p:cNvSpPr/>
                <p:nvPr/>
              </p:nvSpPr>
              <p:spPr>
                <a:xfrm flipH="1">
                  <a:off x="2635560" y="3469320"/>
                  <a:ext cx="722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 flipH="1" flipV="1">
                  <a:off x="2635920" y="3484080"/>
                  <a:ext cx="145080" cy="48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3" name=""/>
              <p:cNvSpPr/>
              <p:nvPr/>
            </p:nvSpPr>
            <p:spPr>
              <a:xfrm>
                <a:off x="1571040" y="2395800"/>
                <a:ext cx="0" cy="75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6DDC8-A5ED-4B06-8BDA-92E59E13D98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Niveaux &amp; Besoins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253800" y="-360"/>
            <a:ext cx="88390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7720" indent="-439920">
              <a:lnSpc>
                <a:spcPct val="9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Trois couches de communication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77720" indent="-43992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Trois niveaux d'intervention des ontologies 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48960" indent="-28260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eorgia"/>
              </a:rPr>
              <a:t>Niveau FIPA ACL :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 Actes du langage fixés dans la norme FIPA pour les protocoles d'interaction de haut niveau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fr-FR" sz="28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L0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48960" indent="-28260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eorgia"/>
              </a:rPr>
              <a:t>Niveau CoMMA ACL :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 premier niveau du slot content des messages, actes fixés par les concepteurs pour les protocoles d'interaction spécifiques à CoMMA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fr-FR" sz="28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L1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48960" indent="-282600"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eorgia"/>
              </a:rPr>
              <a:t>Niveau des annotations et leurs requêtes 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fr-FR" sz="2800" spc="-1" strike="noStrike">
                <a:solidFill>
                  <a:srgbClr val="cc33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 RDF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2996" name=""/>
          <p:cNvGrpSpPr/>
          <p:nvPr/>
        </p:nvGrpSpPr>
        <p:grpSpPr>
          <a:xfrm>
            <a:off x="3019680" y="2908440"/>
            <a:ext cx="1063080" cy="2682000"/>
            <a:chOff x="3019680" y="2908440"/>
            <a:chExt cx="1063080" cy="2682000"/>
          </a:xfrm>
        </p:grpSpPr>
        <p:sp>
          <p:nvSpPr>
            <p:cNvPr id="2997" name=""/>
            <p:cNvSpPr/>
            <p:nvPr/>
          </p:nvSpPr>
          <p:spPr>
            <a:xfrm>
              <a:off x="3019680" y="29084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400" spc="-1" strike="noStrike">
                  <a:solidFill>
                    <a:srgbClr val="990000"/>
                  </a:solidFill>
                  <a:latin typeface="Georgia"/>
                </a:rPr>
                <a:t>(RDF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3019680" y="513072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400" spc="-1" strike="noStrike">
                  <a:solidFill>
                    <a:srgbClr val="990000"/>
                  </a:solidFill>
                  <a:latin typeface="Georgia"/>
                </a:rPr>
                <a:t>(RDF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FD5DC-B3B7-4E55-A8A2-F8D188C1804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essage requête sur les mémo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837720" y="0"/>
            <a:ext cx="83948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(QUERY-REF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sender  ( agent-identifier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name localUPM@fapollo:1099/JADE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receiver  (set ( agent-identifier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name AM@fapollo:1099/JADE) 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content 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((all ?x (is-answer-for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(query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pattern "&lt;?xml version =\"1.0\"?&gt;  &lt;rdf:RDF xml:lang="en" xmlns:rdf= "http://www.w3.org/1999/02/22-rdf-syntax-ns#" xmlns:comma="http://www.inria.fr/acacia/comma#"&gt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&lt;comma:Memo&gt;&lt;comma:Designation&gt;?&lt;/comma:Designation&gt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&lt;/comma:Memo&gt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&lt;/rdf:RDF&gt;" ) ?x ) ) 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reply-with  QuerylocalUPM987683105872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language  CoMMA-RDF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ontology  CoMMA-annotation-ontology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protocol  FIPA-Query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conversation-id  QuerylocalUPM987683105872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8FDEF-8870-4333-B779-514E641B579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1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essage : FIPA ACL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02" name="PlaceHolder 2"/>
          <p:cNvSpPr>
            <a:spLocks noGrp="1"/>
          </p:cNvSpPr>
          <p:nvPr>
            <p:ph/>
          </p:nvPr>
        </p:nvSpPr>
        <p:spPr>
          <a:xfrm>
            <a:off x="837720" y="0"/>
            <a:ext cx="83948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(QUERY-REF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:sender  ( agent-identifier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                            </a:t>
            </a: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:name localUPM@fapollo:1099/JADE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:receiver  (set ( agent-identifier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                            </a:t>
            </a: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:name AM@fapollo:1099/JADE) 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:content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((all ?x (is-answer-for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(query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pattern "&lt;?xml version =\"1.0\"?&gt;  &lt;rdf:RDF xml:lang="en" xmlns:rdf= "http://www.w3.org/1999/02/22-rdf-syntax-ns#" xmlns:comma="http://www.inria.fr/acacia/comma#"&gt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&lt;comma:Memo&gt;&lt;comma:Designation&gt;?&lt;/comma:Designation&gt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&lt;/comma:Memo&gt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&lt;/rdf:RDF&gt;" ) ?x ) ) 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:reply-with  QuerylocalUPM987683105872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:language  CoMMA-RDF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:ontology  CoMMA-annotation-ontology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:protocol  FIPA-Query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:conversation-id  QuerylocalUPM987683105872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AEF41-4677-4A32-8C58-7164081CA9F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essage : CoMMA ACL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04" name="PlaceHolder 2"/>
          <p:cNvSpPr>
            <a:spLocks noGrp="1"/>
          </p:cNvSpPr>
          <p:nvPr>
            <p:ph/>
          </p:nvPr>
        </p:nvSpPr>
        <p:spPr>
          <a:xfrm>
            <a:off x="837720" y="0"/>
            <a:ext cx="83948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(QUERY-REF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sender  ( agent-identifier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name localUPM@fapollo:1099/JADE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receiver  (set ( agent-identifier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name AM@fapollo:1099/JADE) 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content 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((all ?x (is-answer-for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                </a:t>
            </a: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(query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:pattern "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&lt;?xml version =\"1.0\"?&gt;  &lt;rdf:RDF xml:lang="en" xmlns:rdf= "http://www.w3.org/1999/02/22-rdf-syntax-ns#" xmlns:comma="http://www.inria.fr/acacia/comma#"&gt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&lt;comma:Memo&gt;&lt;comma:Designation&gt;?&lt;/comma:Designation&gt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&lt;/comma:Memo&gt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&lt;/rdf:RDF&gt;</a:t>
            </a:r>
            <a:r>
              <a:rPr b="0" lang="fr-FR" sz="1900" spc="-1" strike="noStrike">
                <a:solidFill>
                  <a:srgbClr val="cc3300"/>
                </a:solidFill>
                <a:latin typeface="Arial"/>
              </a:rPr>
              <a:t>" ) ?x ) ) 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reply-with  QuerylocalUPM987683105872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language  CoMMA-RDF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ontology  CoMMA-annotation-ontology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protocol  FIPA-Query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conversation-id  QuerylocalUPM987683105872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3D234-A1F8-4A62-B986-BE2B096C0C0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essage : CoMMA O'COMMA RDF(S) 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837720" y="0"/>
            <a:ext cx="83948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(QUERY-REF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sender  ( agent-identifier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name localUPM@fapollo:1099/JADE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receiver  (set ( agent-identifier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name AM@fapollo:1099/JADE) 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content 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((all ?x (is-answer-for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(query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pattern "</a:t>
            </a:r>
            <a:r>
              <a:rPr b="0" lang="fr-FR" sz="1900" spc="-1" strike="noStrike">
                <a:solidFill>
                  <a:srgbClr val="cc0000"/>
                </a:solidFill>
                <a:latin typeface="Arial"/>
              </a:rPr>
              <a:t>&lt;?xml version =\"1.0\"?&gt;  &lt;rdf:RDF xml:lang="en" xmlns:rdf= "http://www.w3.org/1999/02/22-rdf-syntax-ns#" xmlns:comma="http://www.inria.fr/acacia/comma#"&gt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fr-FR" sz="1900" spc="-1" strike="noStrike">
                <a:solidFill>
                  <a:srgbClr val="cc0000"/>
                </a:solidFill>
                <a:latin typeface="Arial"/>
              </a:rPr>
              <a:t>&lt;comma:Memo&gt;&lt;comma:Designation&gt;?&lt;/comma:Designation&gt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fr-FR" sz="1900" spc="-1" strike="noStrike">
                <a:solidFill>
                  <a:srgbClr val="cc0000"/>
                </a:solidFill>
                <a:latin typeface="Arial"/>
              </a:rPr>
              <a:t>&lt;/comma:Memo&gt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fr-FR" sz="1900" spc="-1" strike="noStrike">
                <a:solidFill>
                  <a:srgbClr val="cc0000"/>
                </a:solidFill>
                <a:latin typeface="Arial"/>
              </a:rPr>
              <a:t>&lt;/rdf:RDF&gt;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9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) ?x ) ) 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reply-with  QuerylocalUPM987683105872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language  CoMMA-RDF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ontology  CoMMA-annotation-ontology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protocol  FIPA-Query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:conversation-id  QuerylocalUPM987683105872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BBB4D-E2A1-44D3-BD24-5D663ED6003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"/>
          <p:cNvSpPr/>
          <p:nvPr/>
        </p:nvSpPr>
        <p:spPr>
          <a:xfrm>
            <a:off x="304920" y="0"/>
            <a:ext cx="8458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>
              <a:lnSpc>
                <a:spcPct val="12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Types &amp; Comportements d'Agents</a:t>
            </a:r>
            <a:br>
              <a:rPr sz="3200"/>
            </a:b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Archiviste Ontologiste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Archiviste Modèle d'Entreprise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Archiviste d'Annotations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Médiateur d'Annotations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Apparieur Fédérable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Contrôleur d'Interface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Gestionnaire de profils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Georgia"/>
              </a:rPr>
              <a:t>Archiviste de profils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90000"/>
              </a:lnSpc>
              <a:spcBef>
                <a:spcPts val="649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Types et comportements d'agents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009" name=""/>
          <p:cNvGrpSpPr/>
          <p:nvPr/>
        </p:nvGrpSpPr>
        <p:grpSpPr>
          <a:xfrm>
            <a:off x="5486400" y="762120"/>
            <a:ext cx="1038600" cy="761760"/>
            <a:chOff x="5486400" y="762120"/>
            <a:chExt cx="1038600" cy="761760"/>
          </a:xfrm>
        </p:grpSpPr>
        <p:sp>
          <p:nvSpPr>
            <p:cNvPr id="3010" name=""/>
            <p:cNvSpPr/>
            <p:nvPr/>
          </p:nvSpPr>
          <p:spPr>
            <a:xfrm>
              <a:off x="5486400" y="762120"/>
              <a:ext cx="76320" cy="76176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5562720" y="1143000"/>
              <a:ext cx="304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5874840" y="914400"/>
              <a:ext cx="65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990000"/>
                  </a:solidFill>
                  <a:latin typeface="Georgia"/>
                </a:rPr>
                <a:t>O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3" name=""/>
          <p:cNvGrpSpPr/>
          <p:nvPr/>
        </p:nvGrpSpPr>
        <p:grpSpPr>
          <a:xfrm>
            <a:off x="4572000" y="1676520"/>
            <a:ext cx="1939680" cy="459720"/>
            <a:chOff x="4572000" y="1676520"/>
            <a:chExt cx="1939680" cy="459720"/>
          </a:xfrm>
        </p:grpSpPr>
        <p:sp>
          <p:nvSpPr>
            <p:cNvPr id="3014" name=""/>
            <p:cNvSpPr/>
            <p:nvPr/>
          </p:nvSpPr>
          <p:spPr>
            <a:xfrm>
              <a:off x="4572000" y="1905120"/>
              <a:ext cx="12952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5870880" y="1676520"/>
              <a:ext cx="64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990000"/>
                  </a:solidFill>
                  <a:latin typeface="Georgia"/>
                </a:rPr>
                <a:t>A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6" name=""/>
          <p:cNvGrpSpPr/>
          <p:nvPr/>
        </p:nvGrpSpPr>
        <p:grpSpPr>
          <a:xfrm>
            <a:off x="4572000" y="2133720"/>
            <a:ext cx="2009880" cy="459720"/>
            <a:chOff x="4572000" y="2133720"/>
            <a:chExt cx="2009880" cy="459720"/>
          </a:xfrm>
        </p:grpSpPr>
        <p:sp>
          <p:nvSpPr>
            <p:cNvPr id="3017" name=""/>
            <p:cNvSpPr/>
            <p:nvPr/>
          </p:nvSpPr>
          <p:spPr>
            <a:xfrm>
              <a:off x="4572000" y="2362320"/>
              <a:ext cx="12952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5881320" y="2133720"/>
              <a:ext cx="70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990000"/>
                  </a:solidFill>
                  <a:latin typeface="Georgia"/>
                </a:rPr>
                <a:t>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9" name=""/>
          <p:cNvGrpSpPr/>
          <p:nvPr/>
        </p:nvGrpSpPr>
        <p:grpSpPr>
          <a:xfrm>
            <a:off x="3962520" y="2590920"/>
            <a:ext cx="2548440" cy="459720"/>
            <a:chOff x="3962520" y="2590920"/>
            <a:chExt cx="2548440" cy="459720"/>
          </a:xfrm>
        </p:grpSpPr>
        <p:sp>
          <p:nvSpPr>
            <p:cNvPr id="3020" name=""/>
            <p:cNvSpPr/>
            <p:nvPr/>
          </p:nvSpPr>
          <p:spPr>
            <a:xfrm>
              <a:off x="3962520" y="2819520"/>
              <a:ext cx="19047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5907960" y="259092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990000"/>
                  </a:solidFill>
                  <a:latin typeface="Georgia"/>
                </a:rPr>
                <a:t>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2" name=""/>
          <p:cNvGrpSpPr/>
          <p:nvPr/>
        </p:nvGrpSpPr>
        <p:grpSpPr>
          <a:xfrm>
            <a:off x="4191120" y="3048120"/>
            <a:ext cx="2198520" cy="459720"/>
            <a:chOff x="4191120" y="3048120"/>
            <a:chExt cx="2198520" cy="459720"/>
          </a:xfrm>
        </p:grpSpPr>
        <p:sp>
          <p:nvSpPr>
            <p:cNvPr id="3023" name=""/>
            <p:cNvSpPr/>
            <p:nvPr/>
          </p:nvSpPr>
          <p:spPr>
            <a:xfrm>
              <a:off x="4191120" y="3276720"/>
              <a:ext cx="1676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5882760" y="3048120"/>
              <a:ext cx="50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990000"/>
                  </a:solidFill>
                  <a:latin typeface="Georgia"/>
                </a:rPr>
                <a:t>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5" name=""/>
          <p:cNvGrpSpPr/>
          <p:nvPr/>
        </p:nvGrpSpPr>
        <p:grpSpPr>
          <a:xfrm>
            <a:off x="4267080" y="3530520"/>
            <a:ext cx="2473560" cy="459720"/>
            <a:chOff x="4267080" y="3530520"/>
            <a:chExt cx="2473560" cy="459720"/>
          </a:xfrm>
        </p:grpSpPr>
        <p:sp>
          <p:nvSpPr>
            <p:cNvPr id="3026" name=""/>
            <p:cNvSpPr/>
            <p:nvPr/>
          </p:nvSpPr>
          <p:spPr>
            <a:xfrm>
              <a:off x="4267080" y="3759120"/>
              <a:ext cx="160020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5848200" y="353052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990000"/>
                  </a:solidFill>
                  <a:latin typeface="Georgia"/>
                </a:rPr>
                <a:t>UP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8" name=""/>
          <p:cNvGrpSpPr/>
          <p:nvPr/>
        </p:nvGrpSpPr>
        <p:grpSpPr>
          <a:xfrm>
            <a:off x="3886200" y="3979800"/>
            <a:ext cx="2862720" cy="971640"/>
            <a:chOff x="3886200" y="3979800"/>
            <a:chExt cx="2862720" cy="971640"/>
          </a:xfrm>
        </p:grpSpPr>
        <p:sp>
          <p:nvSpPr>
            <p:cNvPr id="3029" name=""/>
            <p:cNvSpPr/>
            <p:nvPr/>
          </p:nvSpPr>
          <p:spPr>
            <a:xfrm>
              <a:off x="3886200" y="4267080"/>
              <a:ext cx="1828800" cy="2034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5836680" y="3979800"/>
              <a:ext cx="9122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990000"/>
                  </a:solidFill>
                  <a:latin typeface="Georgia"/>
                </a:rPr>
                <a:t>UP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990000"/>
                  </a:solidFill>
                  <a:latin typeface="Georgia"/>
                </a:rPr>
                <a:t>A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5765760" y="41403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2" name=""/>
          <p:cNvSpPr/>
          <p:nvPr/>
        </p:nvSpPr>
        <p:spPr>
          <a:xfrm>
            <a:off x="266760" y="4876920"/>
            <a:ext cx="887724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82760" indent="-444600">
              <a:lnSpc>
                <a:spcPct val="12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Implantation: AF, Classes imbriqué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446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eorgia"/>
              </a:rPr>
              <a:t>Architecture + Rôles + Protocoles + Comportements + Compétences = S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3" name=""/>
          <p:cNvGrpSpPr/>
          <p:nvPr/>
        </p:nvGrpSpPr>
        <p:grpSpPr>
          <a:xfrm>
            <a:off x="6553080" y="1689120"/>
            <a:ext cx="2552760" cy="457200"/>
            <a:chOff x="6553080" y="1689120"/>
            <a:chExt cx="2552760" cy="457200"/>
          </a:xfrm>
        </p:grpSpPr>
        <p:grpSp>
          <p:nvGrpSpPr>
            <p:cNvPr id="3034" name=""/>
            <p:cNvGrpSpPr/>
            <p:nvPr/>
          </p:nvGrpSpPr>
          <p:grpSpPr>
            <a:xfrm>
              <a:off x="7581960" y="1689120"/>
              <a:ext cx="1523880" cy="457200"/>
              <a:chOff x="7581960" y="1689120"/>
              <a:chExt cx="1523880" cy="457200"/>
            </a:xfrm>
          </p:grpSpPr>
          <p:sp>
            <p:nvSpPr>
              <p:cNvPr id="3035" name=""/>
              <p:cNvSpPr/>
              <p:nvPr/>
            </p:nvSpPr>
            <p:spPr>
              <a:xfrm>
                <a:off x="7581960" y="1689120"/>
                <a:ext cx="15238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36" name=""/>
              <p:cNvGrpSpPr/>
              <p:nvPr/>
            </p:nvGrpSpPr>
            <p:grpSpPr>
              <a:xfrm>
                <a:off x="7620120" y="1749600"/>
                <a:ext cx="380880" cy="383760"/>
                <a:chOff x="7620120" y="1749600"/>
                <a:chExt cx="380880" cy="383760"/>
              </a:xfrm>
            </p:grpSpPr>
            <p:sp>
              <p:nvSpPr>
                <p:cNvPr id="3037" name=""/>
                <p:cNvSpPr/>
                <p:nvPr/>
              </p:nvSpPr>
              <p:spPr>
                <a:xfrm>
                  <a:off x="7809480" y="1749600"/>
                  <a:ext cx="191520" cy="28656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33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38" name=""/>
                <p:cNvGrpSpPr/>
                <p:nvPr/>
              </p:nvGrpSpPr>
              <p:grpSpPr>
                <a:xfrm>
                  <a:off x="7620120" y="1805040"/>
                  <a:ext cx="334440" cy="328320"/>
                  <a:chOff x="7620120" y="1805040"/>
                  <a:chExt cx="334440" cy="328320"/>
                </a:xfrm>
              </p:grpSpPr>
              <p:grpSp>
                <p:nvGrpSpPr>
                  <p:cNvPr id="3039" name=""/>
                  <p:cNvGrpSpPr/>
                  <p:nvPr/>
                </p:nvGrpSpPr>
                <p:grpSpPr>
                  <a:xfrm>
                    <a:off x="7811280" y="1980360"/>
                    <a:ext cx="143280" cy="153000"/>
                    <a:chOff x="7811280" y="1980360"/>
                    <a:chExt cx="143280" cy="153000"/>
                  </a:xfrm>
                </p:grpSpPr>
                <p:sp>
                  <p:nvSpPr>
                    <p:cNvPr id="3040" name=""/>
                    <p:cNvSpPr/>
                    <p:nvPr/>
                  </p:nvSpPr>
                  <p:spPr>
                    <a:xfrm>
                      <a:off x="7811280" y="1980360"/>
                      <a:ext cx="143280" cy="153000"/>
                    </a:xfrm>
                    <a:custGeom>
                      <a:avLst/>
                      <a:gdLst>
                        <a:gd name="textAreaLeft" fmla="*/ 38160 w 143280"/>
                        <a:gd name="textAreaRight" fmla="*/ 105120 w 143280"/>
                        <a:gd name="textAreaTop" fmla="*/ 40680 h 153000"/>
                        <a:gd name="textAreaBottom" fmla="*/ 112320 h 1530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10800"/>
                          </a:moveTo>
                          <a:lnTo>
                            <a:pt x="3791" y="12162"/>
                          </a:lnTo>
                          <a:lnTo>
                            <a:pt x="786" y="14846"/>
                          </a:lnTo>
                          <a:lnTo>
                            <a:pt x="4812" y="14689"/>
                          </a:lnTo>
                          <a:lnTo>
                            <a:pt x="3163" y="18437"/>
                          </a:lnTo>
                          <a:lnTo>
                            <a:pt x="6807" y="16719"/>
                          </a:lnTo>
                          <a:lnTo>
                            <a:pt x="6580" y="20741"/>
                          </a:lnTo>
                          <a:lnTo>
                            <a:pt x="9316" y="17784"/>
                          </a:lnTo>
                          <a:lnTo>
                            <a:pt x="10800" y="21600"/>
                          </a:lnTo>
                          <a:lnTo>
                            <a:pt x="12162" y="17809"/>
                          </a:lnTo>
                          <a:lnTo>
                            <a:pt x="14846" y="20814"/>
                          </a:lnTo>
                          <a:lnTo>
                            <a:pt x="14689" y="16788"/>
                          </a:lnTo>
                          <a:lnTo>
                            <a:pt x="18437" y="18437"/>
                          </a:lnTo>
                          <a:lnTo>
                            <a:pt x="16719" y="14793"/>
                          </a:lnTo>
                          <a:lnTo>
                            <a:pt x="20741" y="15020"/>
                          </a:lnTo>
                          <a:lnTo>
                            <a:pt x="17784" y="12284"/>
                          </a:lnTo>
                          <a:lnTo>
                            <a:pt x="21600" y="10800"/>
                          </a:lnTo>
                          <a:lnTo>
                            <a:pt x="17809" y="9438"/>
                          </a:lnTo>
                          <a:lnTo>
                            <a:pt x="20814" y="6754"/>
                          </a:lnTo>
                          <a:lnTo>
                            <a:pt x="16788" y="6911"/>
                          </a:lnTo>
                          <a:lnTo>
                            <a:pt x="18437" y="3163"/>
                          </a:lnTo>
                          <a:lnTo>
                            <a:pt x="14793" y="4881"/>
                          </a:lnTo>
                          <a:lnTo>
                            <a:pt x="15020" y="859"/>
                          </a:lnTo>
                          <a:lnTo>
                            <a:pt x="12284" y="3816"/>
                          </a:lnTo>
                          <a:lnTo>
                            <a:pt x="10800" y="0"/>
                          </a:lnTo>
                          <a:lnTo>
                            <a:pt x="9438" y="3791"/>
                          </a:lnTo>
                          <a:lnTo>
                            <a:pt x="6754" y="786"/>
                          </a:lnTo>
                          <a:lnTo>
                            <a:pt x="6911" y="4812"/>
                          </a:lnTo>
                          <a:lnTo>
                            <a:pt x="3163" y="3163"/>
                          </a:lnTo>
                          <a:lnTo>
                            <a:pt x="4881" y="6807"/>
                          </a:lnTo>
                          <a:lnTo>
                            <a:pt x="859" y="6580"/>
                          </a:lnTo>
                          <a:lnTo>
                            <a:pt x="3816" y="9316"/>
                          </a:lnTo>
                          <a:lnTo>
                            <a:pt x="0" y="10800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9360">
                      <a:solidFill>
                        <a:srgbClr val="0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4840" bIns="24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1" name=""/>
                    <p:cNvSpPr/>
                    <p:nvPr/>
                  </p:nvSpPr>
                  <p:spPr>
                    <a:xfrm>
                      <a:off x="7868520" y="2042640"/>
                      <a:ext cx="28440" cy="28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42" name=""/>
                  <p:cNvGrpSpPr/>
                  <p:nvPr/>
                </p:nvGrpSpPr>
                <p:grpSpPr>
                  <a:xfrm>
                    <a:off x="7620120" y="1805040"/>
                    <a:ext cx="250200" cy="258120"/>
                    <a:chOff x="7620120" y="1805040"/>
                    <a:chExt cx="250200" cy="258120"/>
                  </a:xfrm>
                </p:grpSpPr>
                <p:sp>
                  <p:nvSpPr>
                    <p:cNvPr id="3043" name=""/>
                    <p:cNvSpPr/>
                    <p:nvPr/>
                  </p:nvSpPr>
                  <p:spPr>
                    <a:xfrm>
                      <a:off x="7620120" y="1805040"/>
                      <a:ext cx="250200" cy="258120"/>
                    </a:xfrm>
                    <a:custGeom>
                      <a:avLst/>
                      <a:gdLst>
                        <a:gd name="textAreaLeft" fmla="*/ 56880 w 250200"/>
                        <a:gd name="textAreaRight" fmla="*/ 193320 w 250200"/>
                        <a:gd name="textAreaTop" fmla="*/ 58680 h 258120"/>
                        <a:gd name="textAreaBottom" fmla="*/ 199440 h 2581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10800"/>
                          </a:moveTo>
                          <a:lnTo>
                            <a:pt x="2562" y="11812"/>
                          </a:lnTo>
                          <a:lnTo>
                            <a:pt x="368" y="13595"/>
                          </a:lnTo>
                          <a:lnTo>
                            <a:pt x="3104" y="13909"/>
                          </a:lnTo>
                          <a:lnTo>
                            <a:pt x="1447" y="16200"/>
                          </a:lnTo>
                          <a:lnTo>
                            <a:pt x="4171" y="15795"/>
                          </a:lnTo>
                          <a:lnTo>
                            <a:pt x="3163" y="18437"/>
                          </a:lnTo>
                          <a:lnTo>
                            <a:pt x="5690" y="17340"/>
                          </a:lnTo>
                          <a:lnTo>
                            <a:pt x="5400" y="20153"/>
                          </a:lnTo>
                          <a:lnTo>
                            <a:pt x="7557" y="18440"/>
                          </a:lnTo>
                          <a:lnTo>
                            <a:pt x="8005" y="21232"/>
                          </a:lnTo>
                          <a:lnTo>
                            <a:pt x="9645" y="19019"/>
                          </a:lnTo>
                          <a:lnTo>
                            <a:pt x="10800" y="21600"/>
                          </a:lnTo>
                          <a:lnTo>
                            <a:pt x="11812" y="19038"/>
                          </a:lnTo>
                          <a:lnTo>
                            <a:pt x="13595" y="21232"/>
                          </a:lnTo>
                          <a:lnTo>
                            <a:pt x="13909" y="18496"/>
                          </a:lnTo>
                          <a:lnTo>
                            <a:pt x="16200" y="20153"/>
                          </a:lnTo>
                          <a:lnTo>
                            <a:pt x="15795" y="17429"/>
                          </a:lnTo>
                          <a:lnTo>
                            <a:pt x="18437" y="18437"/>
                          </a:lnTo>
                          <a:lnTo>
                            <a:pt x="17340" y="15910"/>
                          </a:lnTo>
                          <a:lnTo>
                            <a:pt x="20153" y="16200"/>
                          </a:lnTo>
                          <a:lnTo>
                            <a:pt x="18440" y="14043"/>
                          </a:lnTo>
                          <a:lnTo>
                            <a:pt x="21232" y="13595"/>
                          </a:lnTo>
                          <a:lnTo>
                            <a:pt x="19019" y="11955"/>
                          </a:lnTo>
                          <a:lnTo>
                            <a:pt x="21600" y="10800"/>
                          </a:lnTo>
                          <a:lnTo>
                            <a:pt x="19038" y="9788"/>
                          </a:lnTo>
                          <a:lnTo>
                            <a:pt x="21232" y="8005"/>
                          </a:lnTo>
                          <a:lnTo>
                            <a:pt x="18496" y="7691"/>
                          </a:lnTo>
                          <a:lnTo>
                            <a:pt x="20153" y="5400"/>
                          </a:lnTo>
                          <a:lnTo>
                            <a:pt x="17429" y="5805"/>
                          </a:lnTo>
                          <a:lnTo>
                            <a:pt x="18437" y="3163"/>
                          </a:lnTo>
                          <a:lnTo>
                            <a:pt x="15910" y="4260"/>
                          </a:lnTo>
                          <a:lnTo>
                            <a:pt x="16200" y="1447"/>
                          </a:lnTo>
                          <a:lnTo>
                            <a:pt x="14043" y="3160"/>
                          </a:lnTo>
                          <a:lnTo>
                            <a:pt x="13595" y="368"/>
                          </a:lnTo>
                          <a:lnTo>
                            <a:pt x="11955" y="2581"/>
                          </a:lnTo>
                          <a:lnTo>
                            <a:pt x="10800" y="0"/>
                          </a:lnTo>
                          <a:lnTo>
                            <a:pt x="9788" y="2562"/>
                          </a:lnTo>
                          <a:lnTo>
                            <a:pt x="8005" y="368"/>
                          </a:lnTo>
                          <a:lnTo>
                            <a:pt x="7691" y="3104"/>
                          </a:lnTo>
                          <a:lnTo>
                            <a:pt x="5400" y="1447"/>
                          </a:lnTo>
                          <a:lnTo>
                            <a:pt x="5805" y="4171"/>
                          </a:lnTo>
                          <a:lnTo>
                            <a:pt x="3163" y="3163"/>
                          </a:lnTo>
                          <a:lnTo>
                            <a:pt x="4260" y="5690"/>
                          </a:lnTo>
                          <a:lnTo>
                            <a:pt x="1447" y="5400"/>
                          </a:lnTo>
                          <a:lnTo>
                            <a:pt x="3160" y="7557"/>
                          </a:lnTo>
                          <a:lnTo>
                            <a:pt x="368" y="8005"/>
                          </a:lnTo>
                          <a:lnTo>
                            <a:pt x="2581" y="9645"/>
                          </a:lnTo>
                          <a:lnTo>
                            <a:pt x="0" y="10800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9360">
                      <a:solidFill>
                        <a:srgbClr val="0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44" name=""/>
                    <p:cNvSpPr/>
                    <p:nvPr/>
                  </p:nvSpPr>
                  <p:spPr>
                    <a:xfrm>
                      <a:off x="7725960" y="1914840"/>
                      <a:ext cx="38160" cy="381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440" bIns="-19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045" name=""/>
              <p:cNvSpPr/>
              <p:nvPr/>
            </p:nvSpPr>
            <p:spPr>
              <a:xfrm>
                <a:off x="7871760" y="1724040"/>
                <a:ext cx="12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Georgia"/>
                  </a:rPr>
                  <a:t>CORE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6" name=""/>
            <p:cNvSpPr/>
            <p:nvPr/>
          </p:nvSpPr>
          <p:spPr>
            <a:xfrm flipH="1">
              <a:off x="6553080" y="190512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7" name=""/>
          <p:cNvGrpSpPr/>
          <p:nvPr/>
        </p:nvGrpSpPr>
        <p:grpSpPr>
          <a:xfrm>
            <a:off x="6553080" y="2146320"/>
            <a:ext cx="2552760" cy="457200"/>
            <a:chOff x="6553080" y="2146320"/>
            <a:chExt cx="2552760" cy="457200"/>
          </a:xfrm>
        </p:grpSpPr>
        <p:grpSp>
          <p:nvGrpSpPr>
            <p:cNvPr id="3048" name=""/>
            <p:cNvGrpSpPr/>
            <p:nvPr/>
          </p:nvGrpSpPr>
          <p:grpSpPr>
            <a:xfrm>
              <a:off x="7581960" y="2146320"/>
              <a:ext cx="1523880" cy="457200"/>
              <a:chOff x="7581960" y="2146320"/>
              <a:chExt cx="1523880" cy="457200"/>
            </a:xfrm>
          </p:grpSpPr>
          <p:sp>
            <p:nvSpPr>
              <p:cNvPr id="3049" name=""/>
              <p:cNvSpPr/>
              <p:nvPr/>
            </p:nvSpPr>
            <p:spPr>
              <a:xfrm>
                <a:off x="7581960" y="2146320"/>
                <a:ext cx="15238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50" name=""/>
              <p:cNvGrpSpPr/>
              <p:nvPr/>
            </p:nvGrpSpPr>
            <p:grpSpPr>
              <a:xfrm>
                <a:off x="7632720" y="2206800"/>
                <a:ext cx="380880" cy="383760"/>
                <a:chOff x="7632720" y="2206800"/>
                <a:chExt cx="380880" cy="383760"/>
              </a:xfrm>
            </p:grpSpPr>
            <p:sp>
              <p:nvSpPr>
                <p:cNvPr id="3051" name=""/>
                <p:cNvSpPr/>
                <p:nvPr/>
              </p:nvSpPr>
              <p:spPr>
                <a:xfrm>
                  <a:off x="7822080" y="2206800"/>
                  <a:ext cx="191520" cy="28656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33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52" name=""/>
                <p:cNvGrpSpPr/>
                <p:nvPr/>
              </p:nvGrpSpPr>
              <p:grpSpPr>
                <a:xfrm>
                  <a:off x="7632720" y="2262240"/>
                  <a:ext cx="334440" cy="328320"/>
                  <a:chOff x="7632720" y="2262240"/>
                  <a:chExt cx="334440" cy="328320"/>
                </a:xfrm>
              </p:grpSpPr>
              <p:grpSp>
                <p:nvGrpSpPr>
                  <p:cNvPr id="3053" name=""/>
                  <p:cNvGrpSpPr/>
                  <p:nvPr/>
                </p:nvGrpSpPr>
                <p:grpSpPr>
                  <a:xfrm>
                    <a:off x="7823880" y="2437560"/>
                    <a:ext cx="143280" cy="153000"/>
                    <a:chOff x="7823880" y="2437560"/>
                    <a:chExt cx="143280" cy="153000"/>
                  </a:xfrm>
                </p:grpSpPr>
                <p:sp>
                  <p:nvSpPr>
                    <p:cNvPr id="3054" name=""/>
                    <p:cNvSpPr/>
                    <p:nvPr/>
                  </p:nvSpPr>
                  <p:spPr>
                    <a:xfrm>
                      <a:off x="7823880" y="2437560"/>
                      <a:ext cx="143280" cy="153000"/>
                    </a:xfrm>
                    <a:custGeom>
                      <a:avLst/>
                      <a:gdLst>
                        <a:gd name="textAreaLeft" fmla="*/ 38160 w 143280"/>
                        <a:gd name="textAreaRight" fmla="*/ 105120 w 143280"/>
                        <a:gd name="textAreaTop" fmla="*/ 40680 h 153000"/>
                        <a:gd name="textAreaBottom" fmla="*/ 112320 h 1530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10800"/>
                          </a:moveTo>
                          <a:lnTo>
                            <a:pt x="3791" y="12162"/>
                          </a:lnTo>
                          <a:lnTo>
                            <a:pt x="786" y="14846"/>
                          </a:lnTo>
                          <a:lnTo>
                            <a:pt x="4812" y="14689"/>
                          </a:lnTo>
                          <a:lnTo>
                            <a:pt x="3163" y="18437"/>
                          </a:lnTo>
                          <a:lnTo>
                            <a:pt x="6807" y="16719"/>
                          </a:lnTo>
                          <a:lnTo>
                            <a:pt x="6580" y="20741"/>
                          </a:lnTo>
                          <a:lnTo>
                            <a:pt x="9316" y="17784"/>
                          </a:lnTo>
                          <a:lnTo>
                            <a:pt x="10800" y="21600"/>
                          </a:lnTo>
                          <a:lnTo>
                            <a:pt x="12162" y="17809"/>
                          </a:lnTo>
                          <a:lnTo>
                            <a:pt x="14846" y="20814"/>
                          </a:lnTo>
                          <a:lnTo>
                            <a:pt x="14689" y="16788"/>
                          </a:lnTo>
                          <a:lnTo>
                            <a:pt x="18437" y="18437"/>
                          </a:lnTo>
                          <a:lnTo>
                            <a:pt x="16719" y="14793"/>
                          </a:lnTo>
                          <a:lnTo>
                            <a:pt x="20741" y="15020"/>
                          </a:lnTo>
                          <a:lnTo>
                            <a:pt x="17784" y="12284"/>
                          </a:lnTo>
                          <a:lnTo>
                            <a:pt x="21600" y="10800"/>
                          </a:lnTo>
                          <a:lnTo>
                            <a:pt x="17809" y="9438"/>
                          </a:lnTo>
                          <a:lnTo>
                            <a:pt x="20814" y="6754"/>
                          </a:lnTo>
                          <a:lnTo>
                            <a:pt x="16788" y="6911"/>
                          </a:lnTo>
                          <a:lnTo>
                            <a:pt x="18437" y="3163"/>
                          </a:lnTo>
                          <a:lnTo>
                            <a:pt x="14793" y="4881"/>
                          </a:lnTo>
                          <a:lnTo>
                            <a:pt x="15020" y="859"/>
                          </a:lnTo>
                          <a:lnTo>
                            <a:pt x="12284" y="3816"/>
                          </a:lnTo>
                          <a:lnTo>
                            <a:pt x="10800" y="0"/>
                          </a:lnTo>
                          <a:lnTo>
                            <a:pt x="9438" y="3791"/>
                          </a:lnTo>
                          <a:lnTo>
                            <a:pt x="6754" y="786"/>
                          </a:lnTo>
                          <a:lnTo>
                            <a:pt x="6911" y="4812"/>
                          </a:lnTo>
                          <a:lnTo>
                            <a:pt x="3163" y="3163"/>
                          </a:lnTo>
                          <a:lnTo>
                            <a:pt x="4881" y="6807"/>
                          </a:lnTo>
                          <a:lnTo>
                            <a:pt x="859" y="6580"/>
                          </a:lnTo>
                          <a:lnTo>
                            <a:pt x="3816" y="9316"/>
                          </a:lnTo>
                          <a:lnTo>
                            <a:pt x="0" y="10800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9360">
                      <a:solidFill>
                        <a:srgbClr val="0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4840" bIns="24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5" name=""/>
                    <p:cNvSpPr/>
                    <p:nvPr/>
                  </p:nvSpPr>
                  <p:spPr>
                    <a:xfrm>
                      <a:off x="7881120" y="2499840"/>
                      <a:ext cx="28440" cy="28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56" name=""/>
                  <p:cNvGrpSpPr/>
                  <p:nvPr/>
                </p:nvGrpSpPr>
                <p:grpSpPr>
                  <a:xfrm>
                    <a:off x="7632720" y="2262240"/>
                    <a:ext cx="250200" cy="258120"/>
                    <a:chOff x="7632720" y="2262240"/>
                    <a:chExt cx="250200" cy="258120"/>
                  </a:xfrm>
                </p:grpSpPr>
                <p:sp>
                  <p:nvSpPr>
                    <p:cNvPr id="3057" name=""/>
                    <p:cNvSpPr/>
                    <p:nvPr/>
                  </p:nvSpPr>
                  <p:spPr>
                    <a:xfrm>
                      <a:off x="7632720" y="2262240"/>
                      <a:ext cx="250200" cy="258120"/>
                    </a:xfrm>
                    <a:custGeom>
                      <a:avLst/>
                      <a:gdLst>
                        <a:gd name="textAreaLeft" fmla="*/ 56880 w 250200"/>
                        <a:gd name="textAreaRight" fmla="*/ 193320 w 250200"/>
                        <a:gd name="textAreaTop" fmla="*/ 58680 h 258120"/>
                        <a:gd name="textAreaBottom" fmla="*/ 199440 h 2581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10800"/>
                          </a:moveTo>
                          <a:lnTo>
                            <a:pt x="2562" y="11812"/>
                          </a:lnTo>
                          <a:lnTo>
                            <a:pt x="368" y="13595"/>
                          </a:lnTo>
                          <a:lnTo>
                            <a:pt x="3104" y="13909"/>
                          </a:lnTo>
                          <a:lnTo>
                            <a:pt x="1447" y="16200"/>
                          </a:lnTo>
                          <a:lnTo>
                            <a:pt x="4171" y="15795"/>
                          </a:lnTo>
                          <a:lnTo>
                            <a:pt x="3163" y="18437"/>
                          </a:lnTo>
                          <a:lnTo>
                            <a:pt x="5690" y="17340"/>
                          </a:lnTo>
                          <a:lnTo>
                            <a:pt x="5400" y="20153"/>
                          </a:lnTo>
                          <a:lnTo>
                            <a:pt x="7557" y="18440"/>
                          </a:lnTo>
                          <a:lnTo>
                            <a:pt x="8005" y="21232"/>
                          </a:lnTo>
                          <a:lnTo>
                            <a:pt x="9645" y="19019"/>
                          </a:lnTo>
                          <a:lnTo>
                            <a:pt x="10800" y="21600"/>
                          </a:lnTo>
                          <a:lnTo>
                            <a:pt x="11812" y="19038"/>
                          </a:lnTo>
                          <a:lnTo>
                            <a:pt x="13595" y="21232"/>
                          </a:lnTo>
                          <a:lnTo>
                            <a:pt x="13909" y="18496"/>
                          </a:lnTo>
                          <a:lnTo>
                            <a:pt x="16200" y="20153"/>
                          </a:lnTo>
                          <a:lnTo>
                            <a:pt x="15795" y="17429"/>
                          </a:lnTo>
                          <a:lnTo>
                            <a:pt x="18437" y="18437"/>
                          </a:lnTo>
                          <a:lnTo>
                            <a:pt x="17340" y="15910"/>
                          </a:lnTo>
                          <a:lnTo>
                            <a:pt x="20153" y="16200"/>
                          </a:lnTo>
                          <a:lnTo>
                            <a:pt x="18440" y="14043"/>
                          </a:lnTo>
                          <a:lnTo>
                            <a:pt x="21232" y="13595"/>
                          </a:lnTo>
                          <a:lnTo>
                            <a:pt x="19019" y="11955"/>
                          </a:lnTo>
                          <a:lnTo>
                            <a:pt x="21600" y="10800"/>
                          </a:lnTo>
                          <a:lnTo>
                            <a:pt x="19038" y="9788"/>
                          </a:lnTo>
                          <a:lnTo>
                            <a:pt x="21232" y="8005"/>
                          </a:lnTo>
                          <a:lnTo>
                            <a:pt x="18496" y="7691"/>
                          </a:lnTo>
                          <a:lnTo>
                            <a:pt x="20153" y="5400"/>
                          </a:lnTo>
                          <a:lnTo>
                            <a:pt x="17429" y="5805"/>
                          </a:lnTo>
                          <a:lnTo>
                            <a:pt x="18437" y="3163"/>
                          </a:lnTo>
                          <a:lnTo>
                            <a:pt x="15910" y="4260"/>
                          </a:lnTo>
                          <a:lnTo>
                            <a:pt x="16200" y="1447"/>
                          </a:lnTo>
                          <a:lnTo>
                            <a:pt x="14043" y="3160"/>
                          </a:lnTo>
                          <a:lnTo>
                            <a:pt x="13595" y="368"/>
                          </a:lnTo>
                          <a:lnTo>
                            <a:pt x="11955" y="2581"/>
                          </a:lnTo>
                          <a:lnTo>
                            <a:pt x="10800" y="0"/>
                          </a:lnTo>
                          <a:lnTo>
                            <a:pt x="9788" y="2562"/>
                          </a:lnTo>
                          <a:lnTo>
                            <a:pt x="8005" y="368"/>
                          </a:lnTo>
                          <a:lnTo>
                            <a:pt x="7691" y="3104"/>
                          </a:lnTo>
                          <a:lnTo>
                            <a:pt x="5400" y="1447"/>
                          </a:lnTo>
                          <a:lnTo>
                            <a:pt x="5805" y="4171"/>
                          </a:lnTo>
                          <a:lnTo>
                            <a:pt x="3163" y="3163"/>
                          </a:lnTo>
                          <a:lnTo>
                            <a:pt x="4260" y="5690"/>
                          </a:lnTo>
                          <a:lnTo>
                            <a:pt x="1447" y="5400"/>
                          </a:lnTo>
                          <a:lnTo>
                            <a:pt x="3160" y="7557"/>
                          </a:lnTo>
                          <a:lnTo>
                            <a:pt x="368" y="8005"/>
                          </a:lnTo>
                          <a:lnTo>
                            <a:pt x="2581" y="9645"/>
                          </a:lnTo>
                          <a:lnTo>
                            <a:pt x="0" y="10800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9360">
                      <a:solidFill>
                        <a:srgbClr val="0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8" name=""/>
                    <p:cNvSpPr/>
                    <p:nvPr/>
                  </p:nvSpPr>
                  <p:spPr>
                    <a:xfrm>
                      <a:off x="7738560" y="2372040"/>
                      <a:ext cx="38160" cy="381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440" bIns="-19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059" name=""/>
              <p:cNvSpPr/>
              <p:nvPr/>
            </p:nvSpPr>
            <p:spPr>
              <a:xfrm>
                <a:off x="7884360" y="2181240"/>
                <a:ext cx="12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Georgia"/>
                  </a:rPr>
                  <a:t>CORE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0" name=""/>
            <p:cNvSpPr/>
            <p:nvPr/>
          </p:nvSpPr>
          <p:spPr>
            <a:xfrm flipH="1">
              <a:off x="6553080" y="236232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1" name=""/>
          <p:cNvGrpSpPr/>
          <p:nvPr/>
        </p:nvGrpSpPr>
        <p:grpSpPr>
          <a:xfrm>
            <a:off x="6553080" y="2590920"/>
            <a:ext cx="2552760" cy="461880"/>
            <a:chOff x="6553080" y="2590920"/>
            <a:chExt cx="2552760" cy="461880"/>
          </a:xfrm>
        </p:grpSpPr>
        <p:grpSp>
          <p:nvGrpSpPr>
            <p:cNvPr id="3062" name=""/>
            <p:cNvGrpSpPr/>
            <p:nvPr/>
          </p:nvGrpSpPr>
          <p:grpSpPr>
            <a:xfrm>
              <a:off x="7581960" y="2590920"/>
              <a:ext cx="1523880" cy="461880"/>
              <a:chOff x="7581960" y="2590920"/>
              <a:chExt cx="1523880" cy="461880"/>
            </a:xfrm>
          </p:grpSpPr>
          <p:sp>
            <p:nvSpPr>
              <p:cNvPr id="3063" name=""/>
              <p:cNvSpPr/>
              <p:nvPr/>
            </p:nvSpPr>
            <p:spPr>
              <a:xfrm>
                <a:off x="7581960" y="2590920"/>
                <a:ext cx="15238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064" name="JADElogo" descr=""/>
              <p:cNvPicPr/>
              <p:nvPr/>
            </p:nvPicPr>
            <p:blipFill>
              <a:blip r:embed="rId2"/>
              <a:stretch/>
            </p:blipFill>
            <p:spPr>
              <a:xfrm>
                <a:off x="7658280" y="2620800"/>
                <a:ext cx="1396800" cy="432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65" name=""/>
            <p:cNvSpPr/>
            <p:nvPr/>
          </p:nvSpPr>
          <p:spPr>
            <a:xfrm flipH="1">
              <a:off x="6553080" y="281952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6" name=""/>
          <p:cNvGrpSpPr/>
          <p:nvPr/>
        </p:nvGrpSpPr>
        <p:grpSpPr>
          <a:xfrm>
            <a:off x="6553080" y="3048120"/>
            <a:ext cx="2934000" cy="468720"/>
            <a:chOff x="6553080" y="3048120"/>
            <a:chExt cx="2934000" cy="468720"/>
          </a:xfrm>
        </p:grpSpPr>
        <p:grpSp>
          <p:nvGrpSpPr>
            <p:cNvPr id="3067" name=""/>
            <p:cNvGrpSpPr/>
            <p:nvPr/>
          </p:nvGrpSpPr>
          <p:grpSpPr>
            <a:xfrm>
              <a:off x="7581960" y="3048120"/>
              <a:ext cx="1905120" cy="468720"/>
              <a:chOff x="7581960" y="3048120"/>
              <a:chExt cx="1905120" cy="468720"/>
            </a:xfrm>
          </p:grpSpPr>
          <p:sp>
            <p:nvSpPr>
              <p:cNvPr id="3068" name=""/>
              <p:cNvSpPr/>
              <p:nvPr/>
            </p:nvSpPr>
            <p:spPr>
              <a:xfrm>
                <a:off x="7581960" y="3048120"/>
                <a:ext cx="15238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0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20120" y="3060720"/>
                <a:ext cx="376200" cy="4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0" name=""/>
              <p:cNvSpPr/>
              <p:nvPr/>
            </p:nvSpPr>
            <p:spPr>
              <a:xfrm>
                <a:off x="7962840" y="3060720"/>
                <a:ext cx="152424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990000"/>
                    </a:solidFill>
                    <a:latin typeface="Times New Roman"/>
                  </a:rPr>
                  <a:t>J</a:t>
                </a:r>
                <a:r>
                  <a:rPr b="1" lang="fr-FR" sz="1600" spc="-1" strike="noStrike">
                    <a:solidFill>
                      <a:srgbClr val="990000"/>
                    </a:solidFill>
                    <a:latin typeface="Times New Roman"/>
                  </a:rPr>
                  <a:t>AV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990000"/>
                    </a:solidFill>
                    <a:latin typeface="Times New Roman"/>
                  </a:rPr>
                  <a:t>Swing MV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1" name=""/>
            <p:cNvSpPr/>
            <p:nvPr/>
          </p:nvSpPr>
          <p:spPr>
            <a:xfrm flipH="1">
              <a:off x="6553080" y="327672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2" name=""/>
          <p:cNvGrpSpPr/>
          <p:nvPr/>
        </p:nvGrpSpPr>
        <p:grpSpPr>
          <a:xfrm>
            <a:off x="6781320" y="3505320"/>
            <a:ext cx="2324520" cy="472320"/>
            <a:chOff x="6781320" y="3505320"/>
            <a:chExt cx="2324520" cy="472320"/>
          </a:xfrm>
        </p:grpSpPr>
        <p:grpSp>
          <p:nvGrpSpPr>
            <p:cNvPr id="3073" name=""/>
            <p:cNvGrpSpPr/>
            <p:nvPr/>
          </p:nvGrpSpPr>
          <p:grpSpPr>
            <a:xfrm>
              <a:off x="7566120" y="3505320"/>
              <a:ext cx="1539720" cy="472320"/>
              <a:chOff x="7566120" y="3505320"/>
              <a:chExt cx="1539720" cy="472320"/>
            </a:xfrm>
          </p:grpSpPr>
          <p:sp>
            <p:nvSpPr>
              <p:cNvPr id="3074" name=""/>
              <p:cNvSpPr/>
              <p:nvPr/>
            </p:nvSpPr>
            <p:spPr>
              <a:xfrm>
                <a:off x="7581960" y="3505320"/>
                <a:ext cx="15238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7566120" y="3517920"/>
                <a:ext cx="1245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990000"/>
                    </a:solidFill>
                    <a:latin typeface="Webdings"/>
                    <a:ea typeface="Webdings"/>
                  </a:rPr>
                  <a:t>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Georgia"/>
                  </a:rPr>
                  <a:t>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Garamond"/>
                  </a:rPr>
                  <a:t>Wek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6" name=""/>
            <p:cNvSpPr/>
            <p:nvPr/>
          </p:nvSpPr>
          <p:spPr>
            <a:xfrm flipH="1">
              <a:off x="6781320" y="37720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7" name=""/>
          <p:cNvGrpSpPr/>
          <p:nvPr/>
        </p:nvGrpSpPr>
        <p:grpSpPr>
          <a:xfrm>
            <a:off x="6553080" y="952560"/>
            <a:ext cx="2552760" cy="457200"/>
            <a:chOff x="6553080" y="952560"/>
            <a:chExt cx="2552760" cy="457200"/>
          </a:xfrm>
        </p:grpSpPr>
        <p:grpSp>
          <p:nvGrpSpPr>
            <p:cNvPr id="3078" name=""/>
            <p:cNvGrpSpPr/>
            <p:nvPr/>
          </p:nvGrpSpPr>
          <p:grpSpPr>
            <a:xfrm>
              <a:off x="7581960" y="952560"/>
              <a:ext cx="1523880" cy="457200"/>
              <a:chOff x="7581960" y="952560"/>
              <a:chExt cx="1523880" cy="457200"/>
            </a:xfrm>
          </p:grpSpPr>
          <p:sp>
            <p:nvSpPr>
              <p:cNvPr id="3079" name=""/>
              <p:cNvSpPr/>
              <p:nvPr/>
            </p:nvSpPr>
            <p:spPr>
              <a:xfrm>
                <a:off x="7581960" y="952560"/>
                <a:ext cx="15238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80" name=""/>
              <p:cNvGrpSpPr/>
              <p:nvPr/>
            </p:nvGrpSpPr>
            <p:grpSpPr>
              <a:xfrm>
                <a:off x="7607160" y="990720"/>
                <a:ext cx="380880" cy="383760"/>
                <a:chOff x="7607160" y="990720"/>
                <a:chExt cx="380880" cy="383760"/>
              </a:xfrm>
            </p:grpSpPr>
            <p:sp>
              <p:nvSpPr>
                <p:cNvPr id="3081" name=""/>
                <p:cNvSpPr/>
                <p:nvPr/>
              </p:nvSpPr>
              <p:spPr>
                <a:xfrm>
                  <a:off x="7796520" y="990720"/>
                  <a:ext cx="191520" cy="28656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33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82" name=""/>
                <p:cNvGrpSpPr/>
                <p:nvPr/>
              </p:nvGrpSpPr>
              <p:grpSpPr>
                <a:xfrm>
                  <a:off x="7607160" y="1046160"/>
                  <a:ext cx="335160" cy="328320"/>
                  <a:chOff x="7607160" y="1046160"/>
                  <a:chExt cx="335160" cy="328320"/>
                </a:xfrm>
              </p:grpSpPr>
              <p:grpSp>
                <p:nvGrpSpPr>
                  <p:cNvPr id="3083" name=""/>
                  <p:cNvGrpSpPr/>
                  <p:nvPr/>
                </p:nvGrpSpPr>
                <p:grpSpPr>
                  <a:xfrm>
                    <a:off x="7798680" y="1221480"/>
                    <a:ext cx="143640" cy="153000"/>
                    <a:chOff x="7798680" y="1221480"/>
                    <a:chExt cx="143640" cy="153000"/>
                  </a:xfrm>
                </p:grpSpPr>
                <p:sp>
                  <p:nvSpPr>
                    <p:cNvPr id="3084" name=""/>
                    <p:cNvSpPr/>
                    <p:nvPr/>
                  </p:nvSpPr>
                  <p:spPr>
                    <a:xfrm>
                      <a:off x="7798680" y="1221480"/>
                      <a:ext cx="143640" cy="153000"/>
                    </a:xfrm>
                    <a:custGeom>
                      <a:avLst/>
                      <a:gdLst>
                        <a:gd name="textAreaLeft" fmla="*/ 38160 w 143640"/>
                        <a:gd name="textAreaRight" fmla="*/ 105480 w 143640"/>
                        <a:gd name="textAreaTop" fmla="*/ 40680 h 153000"/>
                        <a:gd name="textAreaBottom" fmla="*/ 112320 h 1530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10800"/>
                          </a:moveTo>
                          <a:lnTo>
                            <a:pt x="3791" y="12162"/>
                          </a:lnTo>
                          <a:lnTo>
                            <a:pt x="786" y="14846"/>
                          </a:lnTo>
                          <a:lnTo>
                            <a:pt x="4812" y="14689"/>
                          </a:lnTo>
                          <a:lnTo>
                            <a:pt x="3163" y="18437"/>
                          </a:lnTo>
                          <a:lnTo>
                            <a:pt x="6807" y="16719"/>
                          </a:lnTo>
                          <a:lnTo>
                            <a:pt x="6580" y="20741"/>
                          </a:lnTo>
                          <a:lnTo>
                            <a:pt x="9316" y="17784"/>
                          </a:lnTo>
                          <a:lnTo>
                            <a:pt x="10800" y="21600"/>
                          </a:lnTo>
                          <a:lnTo>
                            <a:pt x="12162" y="17809"/>
                          </a:lnTo>
                          <a:lnTo>
                            <a:pt x="14846" y="20814"/>
                          </a:lnTo>
                          <a:lnTo>
                            <a:pt x="14689" y="16788"/>
                          </a:lnTo>
                          <a:lnTo>
                            <a:pt x="18437" y="18437"/>
                          </a:lnTo>
                          <a:lnTo>
                            <a:pt x="16719" y="14793"/>
                          </a:lnTo>
                          <a:lnTo>
                            <a:pt x="20741" y="15020"/>
                          </a:lnTo>
                          <a:lnTo>
                            <a:pt x="17784" y="12284"/>
                          </a:lnTo>
                          <a:lnTo>
                            <a:pt x="21600" y="10800"/>
                          </a:lnTo>
                          <a:lnTo>
                            <a:pt x="17809" y="9438"/>
                          </a:lnTo>
                          <a:lnTo>
                            <a:pt x="20814" y="6754"/>
                          </a:lnTo>
                          <a:lnTo>
                            <a:pt x="16788" y="6911"/>
                          </a:lnTo>
                          <a:lnTo>
                            <a:pt x="18437" y="3163"/>
                          </a:lnTo>
                          <a:lnTo>
                            <a:pt x="14793" y="4881"/>
                          </a:lnTo>
                          <a:lnTo>
                            <a:pt x="15020" y="859"/>
                          </a:lnTo>
                          <a:lnTo>
                            <a:pt x="12284" y="3816"/>
                          </a:lnTo>
                          <a:lnTo>
                            <a:pt x="10800" y="0"/>
                          </a:lnTo>
                          <a:lnTo>
                            <a:pt x="9438" y="3791"/>
                          </a:lnTo>
                          <a:lnTo>
                            <a:pt x="6754" y="786"/>
                          </a:lnTo>
                          <a:lnTo>
                            <a:pt x="6911" y="4812"/>
                          </a:lnTo>
                          <a:lnTo>
                            <a:pt x="3163" y="3163"/>
                          </a:lnTo>
                          <a:lnTo>
                            <a:pt x="4881" y="6807"/>
                          </a:lnTo>
                          <a:lnTo>
                            <a:pt x="859" y="6580"/>
                          </a:lnTo>
                          <a:lnTo>
                            <a:pt x="3816" y="9316"/>
                          </a:lnTo>
                          <a:lnTo>
                            <a:pt x="0" y="10800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9360">
                      <a:solidFill>
                        <a:srgbClr val="0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4840" bIns="24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5" name=""/>
                    <p:cNvSpPr/>
                    <p:nvPr/>
                  </p:nvSpPr>
                  <p:spPr>
                    <a:xfrm>
                      <a:off x="7855920" y="1283760"/>
                      <a:ext cx="28440" cy="28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86" name=""/>
                  <p:cNvGrpSpPr/>
                  <p:nvPr/>
                </p:nvGrpSpPr>
                <p:grpSpPr>
                  <a:xfrm>
                    <a:off x="7607160" y="1046160"/>
                    <a:ext cx="250560" cy="258120"/>
                    <a:chOff x="7607160" y="1046160"/>
                    <a:chExt cx="250560" cy="258120"/>
                  </a:xfrm>
                </p:grpSpPr>
                <p:sp>
                  <p:nvSpPr>
                    <p:cNvPr id="3087" name=""/>
                    <p:cNvSpPr/>
                    <p:nvPr/>
                  </p:nvSpPr>
                  <p:spPr>
                    <a:xfrm>
                      <a:off x="7607160" y="1046160"/>
                      <a:ext cx="250560" cy="258120"/>
                    </a:xfrm>
                    <a:custGeom>
                      <a:avLst/>
                      <a:gdLst>
                        <a:gd name="textAreaLeft" fmla="*/ 57240 w 250560"/>
                        <a:gd name="textAreaRight" fmla="*/ 193320 w 250560"/>
                        <a:gd name="textAreaTop" fmla="*/ 58680 h 258120"/>
                        <a:gd name="textAreaBottom" fmla="*/ 199440 h 2581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10800"/>
                          </a:moveTo>
                          <a:lnTo>
                            <a:pt x="2562" y="11812"/>
                          </a:lnTo>
                          <a:lnTo>
                            <a:pt x="368" y="13595"/>
                          </a:lnTo>
                          <a:lnTo>
                            <a:pt x="3104" y="13909"/>
                          </a:lnTo>
                          <a:lnTo>
                            <a:pt x="1447" y="16200"/>
                          </a:lnTo>
                          <a:lnTo>
                            <a:pt x="4171" y="15795"/>
                          </a:lnTo>
                          <a:lnTo>
                            <a:pt x="3163" y="18437"/>
                          </a:lnTo>
                          <a:lnTo>
                            <a:pt x="5690" y="17340"/>
                          </a:lnTo>
                          <a:lnTo>
                            <a:pt x="5400" y="20153"/>
                          </a:lnTo>
                          <a:lnTo>
                            <a:pt x="7557" y="18440"/>
                          </a:lnTo>
                          <a:lnTo>
                            <a:pt x="8005" y="21232"/>
                          </a:lnTo>
                          <a:lnTo>
                            <a:pt x="9645" y="19019"/>
                          </a:lnTo>
                          <a:lnTo>
                            <a:pt x="10800" y="21600"/>
                          </a:lnTo>
                          <a:lnTo>
                            <a:pt x="11812" y="19038"/>
                          </a:lnTo>
                          <a:lnTo>
                            <a:pt x="13595" y="21232"/>
                          </a:lnTo>
                          <a:lnTo>
                            <a:pt x="13909" y="18496"/>
                          </a:lnTo>
                          <a:lnTo>
                            <a:pt x="16200" y="20153"/>
                          </a:lnTo>
                          <a:lnTo>
                            <a:pt x="15795" y="17429"/>
                          </a:lnTo>
                          <a:lnTo>
                            <a:pt x="18437" y="18437"/>
                          </a:lnTo>
                          <a:lnTo>
                            <a:pt x="17340" y="15910"/>
                          </a:lnTo>
                          <a:lnTo>
                            <a:pt x="20153" y="16200"/>
                          </a:lnTo>
                          <a:lnTo>
                            <a:pt x="18440" y="14043"/>
                          </a:lnTo>
                          <a:lnTo>
                            <a:pt x="21232" y="13595"/>
                          </a:lnTo>
                          <a:lnTo>
                            <a:pt x="19019" y="11955"/>
                          </a:lnTo>
                          <a:lnTo>
                            <a:pt x="21600" y="10800"/>
                          </a:lnTo>
                          <a:lnTo>
                            <a:pt x="19038" y="9788"/>
                          </a:lnTo>
                          <a:lnTo>
                            <a:pt x="21232" y="8005"/>
                          </a:lnTo>
                          <a:lnTo>
                            <a:pt x="18496" y="7691"/>
                          </a:lnTo>
                          <a:lnTo>
                            <a:pt x="20153" y="5400"/>
                          </a:lnTo>
                          <a:lnTo>
                            <a:pt x="17429" y="5805"/>
                          </a:lnTo>
                          <a:lnTo>
                            <a:pt x="18437" y="3163"/>
                          </a:lnTo>
                          <a:lnTo>
                            <a:pt x="15910" y="4260"/>
                          </a:lnTo>
                          <a:lnTo>
                            <a:pt x="16200" y="1447"/>
                          </a:lnTo>
                          <a:lnTo>
                            <a:pt x="14043" y="3160"/>
                          </a:lnTo>
                          <a:lnTo>
                            <a:pt x="13595" y="368"/>
                          </a:lnTo>
                          <a:lnTo>
                            <a:pt x="11955" y="2581"/>
                          </a:lnTo>
                          <a:lnTo>
                            <a:pt x="10800" y="0"/>
                          </a:lnTo>
                          <a:lnTo>
                            <a:pt x="9788" y="2562"/>
                          </a:lnTo>
                          <a:lnTo>
                            <a:pt x="8005" y="368"/>
                          </a:lnTo>
                          <a:lnTo>
                            <a:pt x="7691" y="3104"/>
                          </a:lnTo>
                          <a:lnTo>
                            <a:pt x="5400" y="1447"/>
                          </a:lnTo>
                          <a:lnTo>
                            <a:pt x="5805" y="4171"/>
                          </a:lnTo>
                          <a:lnTo>
                            <a:pt x="3163" y="3163"/>
                          </a:lnTo>
                          <a:lnTo>
                            <a:pt x="4260" y="5690"/>
                          </a:lnTo>
                          <a:lnTo>
                            <a:pt x="1447" y="5400"/>
                          </a:lnTo>
                          <a:lnTo>
                            <a:pt x="3160" y="7557"/>
                          </a:lnTo>
                          <a:lnTo>
                            <a:pt x="368" y="8005"/>
                          </a:lnTo>
                          <a:lnTo>
                            <a:pt x="2581" y="9645"/>
                          </a:lnTo>
                          <a:lnTo>
                            <a:pt x="0" y="10800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9360">
                      <a:solidFill>
                        <a:srgbClr val="0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8" name=""/>
                    <p:cNvSpPr/>
                    <p:nvPr/>
                  </p:nvSpPr>
                  <p:spPr>
                    <a:xfrm>
                      <a:off x="7713360" y="1155960"/>
                      <a:ext cx="38160" cy="381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440" bIns="-19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089" name=""/>
              <p:cNvSpPr/>
              <p:nvPr/>
            </p:nvSpPr>
            <p:spPr>
              <a:xfrm>
                <a:off x="7858800" y="965160"/>
                <a:ext cx="12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Georgia"/>
                  </a:rPr>
                  <a:t>CORE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0" name=""/>
            <p:cNvSpPr/>
            <p:nvPr/>
          </p:nvSpPr>
          <p:spPr>
            <a:xfrm flipH="1">
              <a:off x="6553080" y="114300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1" name=""/>
          <p:cNvGrpSpPr/>
          <p:nvPr/>
        </p:nvGrpSpPr>
        <p:grpSpPr>
          <a:xfrm>
            <a:off x="6629400" y="4038480"/>
            <a:ext cx="2476440" cy="457200"/>
            <a:chOff x="6629400" y="4038480"/>
            <a:chExt cx="2476440" cy="457200"/>
          </a:xfrm>
        </p:grpSpPr>
        <p:grpSp>
          <p:nvGrpSpPr>
            <p:cNvPr id="3092" name=""/>
            <p:cNvGrpSpPr/>
            <p:nvPr/>
          </p:nvGrpSpPr>
          <p:grpSpPr>
            <a:xfrm>
              <a:off x="7581960" y="4038480"/>
              <a:ext cx="1523880" cy="457200"/>
              <a:chOff x="7581960" y="4038480"/>
              <a:chExt cx="1523880" cy="457200"/>
            </a:xfrm>
          </p:grpSpPr>
          <p:sp>
            <p:nvSpPr>
              <p:cNvPr id="3093" name=""/>
              <p:cNvSpPr/>
              <p:nvPr/>
            </p:nvSpPr>
            <p:spPr>
              <a:xfrm>
                <a:off x="7581960" y="4038480"/>
                <a:ext cx="15238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0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620120" y="4051080"/>
                <a:ext cx="376200" cy="4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5" name=""/>
              <p:cNvSpPr/>
              <p:nvPr/>
            </p:nvSpPr>
            <p:spPr>
              <a:xfrm>
                <a:off x="8026560" y="4165200"/>
                <a:ext cx="95220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990000"/>
                    </a:solidFill>
                    <a:latin typeface="Times New Roman"/>
                  </a:rPr>
                  <a:t>J</a:t>
                </a:r>
                <a:r>
                  <a:rPr b="1" lang="fr-FR" sz="1600" spc="-1" strike="noStrike">
                    <a:solidFill>
                      <a:srgbClr val="990000"/>
                    </a:solidFill>
                    <a:latin typeface="Times New Roman"/>
                  </a:rPr>
                  <a:t>AV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6" name=""/>
            <p:cNvSpPr/>
            <p:nvPr/>
          </p:nvSpPr>
          <p:spPr>
            <a:xfrm flipH="1">
              <a:off x="6629400" y="426708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7" name=""/>
          <p:cNvGrpSpPr/>
          <p:nvPr/>
        </p:nvGrpSpPr>
        <p:grpSpPr>
          <a:xfrm>
            <a:off x="6400440" y="4495680"/>
            <a:ext cx="2705400" cy="457200"/>
            <a:chOff x="6400440" y="4495680"/>
            <a:chExt cx="2705400" cy="457200"/>
          </a:xfrm>
        </p:grpSpPr>
        <p:grpSp>
          <p:nvGrpSpPr>
            <p:cNvPr id="3098" name=""/>
            <p:cNvGrpSpPr/>
            <p:nvPr/>
          </p:nvGrpSpPr>
          <p:grpSpPr>
            <a:xfrm>
              <a:off x="7581960" y="4495680"/>
              <a:ext cx="1523880" cy="457200"/>
              <a:chOff x="7581960" y="4495680"/>
              <a:chExt cx="1523880" cy="457200"/>
            </a:xfrm>
          </p:grpSpPr>
          <p:sp>
            <p:nvSpPr>
              <p:cNvPr id="3099" name=""/>
              <p:cNvSpPr/>
              <p:nvPr/>
            </p:nvSpPr>
            <p:spPr>
              <a:xfrm>
                <a:off x="7581960" y="4495680"/>
                <a:ext cx="15238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00" name=""/>
              <p:cNvGrpSpPr/>
              <p:nvPr/>
            </p:nvGrpSpPr>
            <p:grpSpPr>
              <a:xfrm>
                <a:off x="7632720" y="4543200"/>
                <a:ext cx="380880" cy="383760"/>
                <a:chOff x="7632720" y="4543200"/>
                <a:chExt cx="380880" cy="383760"/>
              </a:xfrm>
            </p:grpSpPr>
            <p:sp>
              <p:nvSpPr>
                <p:cNvPr id="3101" name=""/>
                <p:cNvSpPr/>
                <p:nvPr/>
              </p:nvSpPr>
              <p:spPr>
                <a:xfrm>
                  <a:off x="7822080" y="4543200"/>
                  <a:ext cx="191520" cy="28656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3300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02" name=""/>
                <p:cNvGrpSpPr/>
                <p:nvPr/>
              </p:nvGrpSpPr>
              <p:grpSpPr>
                <a:xfrm>
                  <a:off x="7632720" y="4598640"/>
                  <a:ext cx="334440" cy="328320"/>
                  <a:chOff x="7632720" y="4598640"/>
                  <a:chExt cx="334440" cy="328320"/>
                </a:xfrm>
              </p:grpSpPr>
              <p:grpSp>
                <p:nvGrpSpPr>
                  <p:cNvPr id="3103" name=""/>
                  <p:cNvGrpSpPr/>
                  <p:nvPr/>
                </p:nvGrpSpPr>
                <p:grpSpPr>
                  <a:xfrm>
                    <a:off x="7823880" y="4773960"/>
                    <a:ext cx="143280" cy="153000"/>
                    <a:chOff x="7823880" y="4773960"/>
                    <a:chExt cx="143280" cy="153000"/>
                  </a:xfrm>
                </p:grpSpPr>
                <p:sp>
                  <p:nvSpPr>
                    <p:cNvPr id="3104" name=""/>
                    <p:cNvSpPr/>
                    <p:nvPr/>
                  </p:nvSpPr>
                  <p:spPr>
                    <a:xfrm>
                      <a:off x="7823880" y="4773960"/>
                      <a:ext cx="143280" cy="153000"/>
                    </a:xfrm>
                    <a:custGeom>
                      <a:avLst/>
                      <a:gdLst>
                        <a:gd name="textAreaLeft" fmla="*/ 38160 w 143280"/>
                        <a:gd name="textAreaRight" fmla="*/ 105120 w 143280"/>
                        <a:gd name="textAreaTop" fmla="*/ 40680 h 153000"/>
                        <a:gd name="textAreaBottom" fmla="*/ 112320 h 15300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10800"/>
                          </a:moveTo>
                          <a:lnTo>
                            <a:pt x="3791" y="12162"/>
                          </a:lnTo>
                          <a:lnTo>
                            <a:pt x="786" y="14846"/>
                          </a:lnTo>
                          <a:lnTo>
                            <a:pt x="4812" y="14689"/>
                          </a:lnTo>
                          <a:lnTo>
                            <a:pt x="3163" y="18437"/>
                          </a:lnTo>
                          <a:lnTo>
                            <a:pt x="6807" y="16719"/>
                          </a:lnTo>
                          <a:lnTo>
                            <a:pt x="6580" y="20741"/>
                          </a:lnTo>
                          <a:lnTo>
                            <a:pt x="9316" y="17784"/>
                          </a:lnTo>
                          <a:lnTo>
                            <a:pt x="10800" y="21600"/>
                          </a:lnTo>
                          <a:lnTo>
                            <a:pt x="12162" y="17809"/>
                          </a:lnTo>
                          <a:lnTo>
                            <a:pt x="14846" y="20814"/>
                          </a:lnTo>
                          <a:lnTo>
                            <a:pt x="14689" y="16788"/>
                          </a:lnTo>
                          <a:lnTo>
                            <a:pt x="18437" y="18437"/>
                          </a:lnTo>
                          <a:lnTo>
                            <a:pt x="16719" y="14793"/>
                          </a:lnTo>
                          <a:lnTo>
                            <a:pt x="20741" y="15020"/>
                          </a:lnTo>
                          <a:lnTo>
                            <a:pt x="17784" y="12284"/>
                          </a:lnTo>
                          <a:lnTo>
                            <a:pt x="21600" y="10800"/>
                          </a:lnTo>
                          <a:lnTo>
                            <a:pt x="17809" y="9438"/>
                          </a:lnTo>
                          <a:lnTo>
                            <a:pt x="20814" y="6754"/>
                          </a:lnTo>
                          <a:lnTo>
                            <a:pt x="16788" y="6911"/>
                          </a:lnTo>
                          <a:lnTo>
                            <a:pt x="18437" y="3163"/>
                          </a:lnTo>
                          <a:lnTo>
                            <a:pt x="14793" y="4881"/>
                          </a:lnTo>
                          <a:lnTo>
                            <a:pt x="15020" y="859"/>
                          </a:lnTo>
                          <a:lnTo>
                            <a:pt x="12284" y="3816"/>
                          </a:lnTo>
                          <a:lnTo>
                            <a:pt x="10800" y="0"/>
                          </a:lnTo>
                          <a:lnTo>
                            <a:pt x="9438" y="3791"/>
                          </a:lnTo>
                          <a:lnTo>
                            <a:pt x="6754" y="786"/>
                          </a:lnTo>
                          <a:lnTo>
                            <a:pt x="6911" y="4812"/>
                          </a:lnTo>
                          <a:lnTo>
                            <a:pt x="3163" y="3163"/>
                          </a:lnTo>
                          <a:lnTo>
                            <a:pt x="4881" y="6807"/>
                          </a:lnTo>
                          <a:lnTo>
                            <a:pt x="859" y="6580"/>
                          </a:lnTo>
                          <a:lnTo>
                            <a:pt x="3816" y="9316"/>
                          </a:lnTo>
                          <a:lnTo>
                            <a:pt x="0" y="10800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9360">
                      <a:solidFill>
                        <a:srgbClr val="0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4840" bIns="24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5" name=""/>
                    <p:cNvSpPr/>
                    <p:nvPr/>
                  </p:nvSpPr>
                  <p:spPr>
                    <a:xfrm>
                      <a:off x="7881120" y="4836240"/>
                      <a:ext cx="28440" cy="28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6280" bIns="-26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06" name=""/>
                  <p:cNvGrpSpPr/>
                  <p:nvPr/>
                </p:nvGrpSpPr>
                <p:grpSpPr>
                  <a:xfrm>
                    <a:off x="7632720" y="4598640"/>
                    <a:ext cx="250200" cy="258120"/>
                    <a:chOff x="7632720" y="4598640"/>
                    <a:chExt cx="250200" cy="258120"/>
                  </a:xfrm>
                </p:grpSpPr>
                <p:sp>
                  <p:nvSpPr>
                    <p:cNvPr id="3107" name=""/>
                    <p:cNvSpPr/>
                    <p:nvPr/>
                  </p:nvSpPr>
                  <p:spPr>
                    <a:xfrm>
                      <a:off x="7632720" y="4598640"/>
                      <a:ext cx="250200" cy="258120"/>
                    </a:xfrm>
                    <a:custGeom>
                      <a:avLst/>
                      <a:gdLst>
                        <a:gd name="textAreaLeft" fmla="*/ 56880 w 250200"/>
                        <a:gd name="textAreaRight" fmla="*/ 193320 w 250200"/>
                        <a:gd name="textAreaTop" fmla="*/ 58680 h 258120"/>
                        <a:gd name="textAreaBottom" fmla="*/ 199440 h 25812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10800"/>
                          </a:moveTo>
                          <a:lnTo>
                            <a:pt x="2562" y="11812"/>
                          </a:lnTo>
                          <a:lnTo>
                            <a:pt x="368" y="13595"/>
                          </a:lnTo>
                          <a:lnTo>
                            <a:pt x="3104" y="13909"/>
                          </a:lnTo>
                          <a:lnTo>
                            <a:pt x="1447" y="16200"/>
                          </a:lnTo>
                          <a:lnTo>
                            <a:pt x="4171" y="15795"/>
                          </a:lnTo>
                          <a:lnTo>
                            <a:pt x="3163" y="18437"/>
                          </a:lnTo>
                          <a:lnTo>
                            <a:pt x="5690" y="17340"/>
                          </a:lnTo>
                          <a:lnTo>
                            <a:pt x="5400" y="20153"/>
                          </a:lnTo>
                          <a:lnTo>
                            <a:pt x="7557" y="18440"/>
                          </a:lnTo>
                          <a:lnTo>
                            <a:pt x="8005" y="21232"/>
                          </a:lnTo>
                          <a:lnTo>
                            <a:pt x="9645" y="19019"/>
                          </a:lnTo>
                          <a:lnTo>
                            <a:pt x="10800" y="21600"/>
                          </a:lnTo>
                          <a:lnTo>
                            <a:pt x="11812" y="19038"/>
                          </a:lnTo>
                          <a:lnTo>
                            <a:pt x="13595" y="21232"/>
                          </a:lnTo>
                          <a:lnTo>
                            <a:pt x="13909" y="18496"/>
                          </a:lnTo>
                          <a:lnTo>
                            <a:pt x="16200" y="20153"/>
                          </a:lnTo>
                          <a:lnTo>
                            <a:pt x="15795" y="17429"/>
                          </a:lnTo>
                          <a:lnTo>
                            <a:pt x="18437" y="18437"/>
                          </a:lnTo>
                          <a:lnTo>
                            <a:pt x="17340" y="15910"/>
                          </a:lnTo>
                          <a:lnTo>
                            <a:pt x="20153" y="16200"/>
                          </a:lnTo>
                          <a:lnTo>
                            <a:pt x="18440" y="14043"/>
                          </a:lnTo>
                          <a:lnTo>
                            <a:pt x="21232" y="13595"/>
                          </a:lnTo>
                          <a:lnTo>
                            <a:pt x="19019" y="11955"/>
                          </a:lnTo>
                          <a:lnTo>
                            <a:pt x="21600" y="10800"/>
                          </a:lnTo>
                          <a:lnTo>
                            <a:pt x="19038" y="9788"/>
                          </a:lnTo>
                          <a:lnTo>
                            <a:pt x="21232" y="8005"/>
                          </a:lnTo>
                          <a:lnTo>
                            <a:pt x="18496" y="7691"/>
                          </a:lnTo>
                          <a:lnTo>
                            <a:pt x="20153" y="5400"/>
                          </a:lnTo>
                          <a:lnTo>
                            <a:pt x="17429" y="5805"/>
                          </a:lnTo>
                          <a:lnTo>
                            <a:pt x="18437" y="3163"/>
                          </a:lnTo>
                          <a:lnTo>
                            <a:pt x="15910" y="4260"/>
                          </a:lnTo>
                          <a:lnTo>
                            <a:pt x="16200" y="1447"/>
                          </a:lnTo>
                          <a:lnTo>
                            <a:pt x="14043" y="3160"/>
                          </a:lnTo>
                          <a:lnTo>
                            <a:pt x="13595" y="368"/>
                          </a:lnTo>
                          <a:lnTo>
                            <a:pt x="11955" y="2581"/>
                          </a:lnTo>
                          <a:lnTo>
                            <a:pt x="10800" y="0"/>
                          </a:lnTo>
                          <a:lnTo>
                            <a:pt x="9788" y="2562"/>
                          </a:lnTo>
                          <a:lnTo>
                            <a:pt x="8005" y="368"/>
                          </a:lnTo>
                          <a:lnTo>
                            <a:pt x="7691" y="3104"/>
                          </a:lnTo>
                          <a:lnTo>
                            <a:pt x="5400" y="1447"/>
                          </a:lnTo>
                          <a:lnTo>
                            <a:pt x="5805" y="4171"/>
                          </a:lnTo>
                          <a:lnTo>
                            <a:pt x="3163" y="3163"/>
                          </a:lnTo>
                          <a:lnTo>
                            <a:pt x="4260" y="5690"/>
                          </a:lnTo>
                          <a:lnTo>
                            <a:pt x="1447" y="5400"/>
                          </a:lnTo>
                          <a:lnTo>
                            <a:pt x="3160" y="7557"/>
                          </a:lnTo>
                          <a:lnTo>
                            <a:pt x="368" y="8005"/>
                          </a:lnTo>
                          <a:lnTo>
                            <a:pt x="2581" y="9645"/>
                          </a:lnTo>
                          <a:lnTo>
                            <a:pt x="0" y="10800"/>
                          </a:lnTo>
                          <a:close/>
                        </a:path>
                      </a:pathLst>
                    </a:custGeom>
                    <a:solidFill>
                      <a:srgbClr val="003366"/>
                    </a:solidFill>
                    <a:ln w="9360">
                      <a:solidFill>
                        <a:srgbClr val="0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8" name=""/>
                    <p:cNvSpPr/>
                    <p:nvPr/>
                  </p:nvSpPr>
                  <p:spPr>
                    <a:xfrm>
                      <a:off x="7738560" y="4708440"/>
                      <a:ext cx="38160" cy="381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440" bIns="-19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109" name=""/>
              <p:cNvSpPr/>
              <p:nvPr/>
            </p:nvSpPr>
            <p:spPr>
              <a:xfrm>
                <a:off x="7884360" y="4517640"/>
                <a:ext cx="1212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Georgia"/>
                  </a:rPr>
                  <a:t>CORE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0" name=""/>
            <p:cNvSpPr/>
            <p:nvPr/>
          </p:nvSpPr>
          <p:spPr>
            <a:xfrm flipH="1">
              <a:off x="6400440" y="47242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1" name="">
            <a:hlinkClick r:id="rId5" action="ppaction://hlinksldjump"/>
          </p:cNvPr>
          <p:cNvSpPr/>
          <p:nvPr/>
        </p:nvSpPr>
        <p:spPr>
          <a:xfrm>
            <a:off x="63360" y="5778360"/>
            <a:ext cx="609840" cy="546120"/>
          </a:xfrm>
          <a:custGeom>
            <a:avLst/>
            <a:gdLst>
              <a:gd name="textAreaLeft" fmla="*/ 35280 w 609840"/>
              <a:gd name="textAreaRight" fmla="*/ 574560 w 609840"/>
              <a:gd name="textAreaTop" fmla="*/ 35280 h 546120"/>
              <a:gd name="textAreaBottom" fmla="*/ 510840 h 546120"/>
            </a:gdLst>
            <a:ahLst/>
            <a:rect l="textAreaLeft" t="textAreaTop" r="textAreaRight" b="textAreaBottom"/>
            <a:pathLst>
              <a:path w="24119" h="21600">
                <a:moveTo>
                  <a:pt x="0" y="0"/>
                </a:moveTo>
                <a:lnTo>
                  <a:pt x="24119" y="0"/>
                </a:lnTo>
                <a:lnTo>
                  <a:pt x="24119" y="21600"/>
                </a:lnTo>
                <a:lnTo>
                  <a:pt x="0" y="21600"/>
                </a:lnTo>
                <a:close/>
              </a:path>
              <a:path fill="lightenLess" w="24119" h="21600">
                <a:moveTo>
                  <a:pt x="0" y="0"/>
                </a:moveTo>
                <a:lnTo>
                  <a:pt x="24119" y="0"/>
                </a:lnTo>
                <a:lnTo>
                  <a:pt x="22719" y="1400"/>
                </a:lnTo>
                <a:lnTo>
                  <a:pt x="1400" y="1400"/>
                </a:lnTo>
                <a:close/>
              </a:path>
              <a:path fill="darken" w="24119" h="21600">
                <a:moveTo>
                  <a:pt x="24119" y="0"/>
                </a:moveTo>
                <a:lnTo>
                  <a:pt x="24119" y="21600"/>
                </a:lnTo>
                <a:lnTo>
                  <a:pt x="22719" y="20200"/>
                </a:lnTo>
                <a:lnTo>
                  <a:pt x="22719" y="1400"/>
                </a:lnTo>
                <a:close/>
              </a:path>
              <a:path fill="darkenLess" w="24119" h="21600">
                <a:moveTo>
                  <a:pt x="24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19" y="20200"/>
                </a:lnTo>
                <a:close/>
              </a:path>
              <a:path fill="lighten" w="24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19" h="21600">
                <a:moveTo>
                  <a:pt x="5053" y="7301"/>
                </a:moveTo>
                <a:lnTo>
                  <a:pt x="5967" y="7301"/>
                </a:lnTo>
                <a:lnTo>
                  <a:pt x="6350" y="7667"/>
                </a:lnTo>
                <a:lnTo>
                  <a:pt x="15558" y="7667"/>
                </a:lnTo>
                <a:lnTo>
                  <a:pt x="16115" y="8224"/>
                </a:lnTo>
                <a:lnTo>
                  <a:pt x="16115" y="8772"/>
                </a:lnTo>
                <a:lnTo>
                  <a:pt x="17960" y="8772"/>
                </a:lnTo>
                <a:lnTo>
                  <a:pt x="18326" y="8224"/>
                </a:lnTo>
                <a:lnTo>
                  <a:pt x="19066" y="8224"/>
                </a:lnTo>
                <a:lnTo>
                  <a:pt x="19066" y="13376"/>
                </a:lnTo>
                <a:lnTo>
                  <a:pt x="18326" y="13376"/>
                </a:lnTo>
                <a:lnTo>
                  <a:pt x="17960" y="12828"/>
                </a:lnTo>
                <a:lnTo>
                  <a:pt x="16115" y="12828"/>
                </a:lnTo>
                <a:lnTo>
                  <a:pt x="16115" y="14107"/>
                </a:lnTo>
                <a:lnTo>
                  <a:pt x="6532" y="14107"/>
                </a:lnTo>
                <a:lnTo>
                  <a:pt x="6532" y="9877"/>
                </a:lnTo>
                <a:lnTo>
                  <a:pt x="6350" y="9877"/>
                </a:lnTo>
                <a:lnTo>
                  <a:pt x="5967" y="10243"/>
                </a:lnTo>
                <a:lnTo>
                  <a:pt x="5053" y="10243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BACF-3F85-451A-B938-E565024721E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Interactions entre agents (Soumission d'une annotation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13" name="PlaceHolder 2"/>
          <p:cNvSpPr>
            <a:spLocks noGrp="1"/>
          </p:cNvSpPr>
          <p:nvPr>
            <p:ph/>
          </p:nvPr>
        </p:nvSpPr>
        <p:spPr>
          <a:xfrm>
            <a:off x="304920" y="-36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C-Net : allocation d'annotation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20880" indent="-28584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AM - AA (AàP, Propale, Accepté/Refusé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20880" indent="-28584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Critère d'allocation (charge, volume..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20880" indent="-28584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Similarité: spécialiser le contenu des bas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114" name=""/>
          <p:cNvGrpSpPr/>
          <p:nvPr/>
        </p:nvGrpSpPr>
        <p:grpSpPr>
          <a:xfrm>
            <a:off x="914400" y="4876920"/>
            <a:ext cx="8077320" cy="1523880"/>
            <a:chOff x="914400" y="4876920"/>
            <a:chExt cx="8077320" cy="1523880"/>
          </a:xfrm>
        </p:grpSpPr>
        <p:sp>
          <p:nvSpPr>
            <p:cNvPr id="3115" name=""/>
            <p:cNvSpPr/>
            <p:nvPr/>
          </p:nvSpPr>
          <p:spPr>
            <a:xfrm>
              <a:off x="914400" y="4876920"/>
              <a:ext cx="8077320" cy="152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2743200" y="5334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6934320" y="5334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990720" y="4952880"/>
              <a:ext cx="380988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5105520" y="4952880"/>
              <a:ext cx="380988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5105520" y="5943600"/>
              <a:ext cx="380988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990720" y="5943600"/>
              <a:ext cx="380988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2286000" y="5410080"/>
              <a:ext cx="914400" cy="381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477120" y="5410080"/>
              <a:ext cx="914400" cy="381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364480" y="495288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9933"/>
                  </a:solidFill>
                  <a:latin typeface="Arial"/>
                </a:rPr>
                <a:t>Arti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440080" y="54244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Tit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1371600" y="5958000"/>
              <a:ext cx="33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Littéral:</a:t>
              </a:r>
              <a:r>
                <a:rPr b="0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0" sz="1800" spc="-1" strike="noStrike">
                  <a:solidFill>
                    <a:srgbClr val="777777"/>
                  </a:solidFill>
                  <a:latin typeface="Arial"/>
                </a:rPr>
                <a:t>Analyse CfP UMTS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6555240" y="495288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9933"/>
                  </a:solidFill>
                  <a:latin typeface="Arial"/>
                </a:rPr>
                <a:t>Arti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6530040" y="541008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Au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6403680" y="5958000"/>
              <a:ext cx="115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339933"/>
                  </a:solidFill>
                  <a:latin typeface="Arial"/>
                </a:rPr>
                <a:t>Person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0" name=""/>
          <p:cNvGrpSpPr/>
          <p:nvPr/>
        </p:nvGrpSpPr>
        <p:grpSpPr>
          <a:xfrm>
            <a:off x="914400" y="1886040"/>
            <a:ext cx="8229600" cy="2837160"/>
            <a:chOff x="914400" y="1886040"/>
            <a:chExt cx="8229600" cy="2837160"/>
          </a:xfrm>
        </p:grpSpPr>
        <p:sp>
          <p:nvSpPr>
            <p:cNvPr id="3131" name=""/>
            <p:cNvSpPr/>
            <p:nvPr/>
          </p:nvSpPr>
          <p:spPr>
            <a:xfrm>
              <a:off x="914400" y="1892160"/>
              <a:ext cx="8077320" cy="2819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914400" y="1886040"/>
              <a:ext cx="82296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&lt;rdf:RDF xmlns:rdf="http://www.w3.org/1999/02/22-rdf-syntax-ns#"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xmlns:rdfs="http://www.w3.org/TR/1999/PR-rdf-schema-19990303#"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xmlns:CoMMA="http://www.inria.fr/acacia/comma#"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&lt;CoMMA:</a:t>
              </a:r>
              <a:r>
                <a:rPr b="0" sz="1800" spc="-1" strike="noStrike">
                  <a:solidFill>
                    <a:srgbClr val="339933"/>
                  </a:solidFill>
                  <a:latin typeface="Arial"/>
                </a:rPr>
                <a:t>Article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 rdf:about="</a:t>
              </a:r>
              <a:r>
                <a:rPr b="0" i="1" sz="1800" spc="-1" strike="noStrike">
                  <a:solidFill>
                    <a:srgbClr val="3333cc"/>
                  </a:solidFill>
                  <a:latin typeface="Arial"/>
                </a:rPr>
                <a:t>http://intranet/reports/R3029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"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&lt;CoMMA:</a:t>
              </a:r>
              <a:r>
                <a:rPr b="0" sz="1800" spc="-1" strike="noStrike">
                  <a:solidFill>
                    <a:srgbClr val="ff3300"/>
                  </a:solidFill>
                  <a:latin typeface="Arial"/>
                </a:rPr>
                <a:t>Titre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r>
                <a:rPr b="0" sz="1800" spc="-1" strike="noStrike">
                  <a:solidFill>
                    <a:srgbClr val="777777"/>
                  </a:solidFill>
                  <a:latin typeface="Arial"/>
                </a:rPr>
                <a:t>Analyse CfP UMTS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&lt;/CoMMA:</a:t>
              </a:r>
              <a:r>
                <a:rPr b="0" sz="1800" spc="-1" strike="noStrike">
                  <a:solidFill>
                    <a:srgbClr val="ff3300"/>
                  </a:solidFill>
                  <a:latin typeface="Arial"/>
                </a:rPr>
                <a:t>Titre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&lt;CoMMA:</a:t>
              </a:r>
              <a:r>
                <a:rPr b="0" sz="1800" spc="-1" strike="noStrike">
                  <a:solidFill>
                    <a:srgbClr val="ff3300"/>
                  </a:solidFill>
                  <a:latin typeface="Arial"/>
                </a:rPr>
                <a:t>Auteur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&lt;CoMMA:</a:t>
              </a:r>
              <a:r>
                <a:rPr b="0" sz="1800" spc="-1" strike="noStrike">
                  <a:solidFill>
                    <a:srgbClr val="339933"/>
                  </a:solidFill>
                  <a:latin typeface="Arial"/>
                </a:rPr>
                <a:t>Personne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 rdf:about="</a:t>
              </a:r>
              <a:r>
                <a:rPr b="0" i="1" sz="1800" spc="-1" strike="noStrike">
                  <a:solidFill>
                    <a:srgbClr val="3333cc"/>
                  </a:solidFill>
                  <a:latin typeface="Arial"/>
                </a:rPr>
                <a:t>http://www.mycorp.com/~fab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" /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&lt;/CoMMA:</a:t>
              </a:r>
              <a:r>
                <a:rPr b="0" sz="1800" spc="-1" strike="noStrike">
                  <a:solidFill>
                    <a:srgbClr val="ff3300"/>
                  </a:solidFill>
                  <a:latin typeface="Arial"/>
                </a:rPr>
                <a:t>Auteur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&lt;/CoMMA:</a:t>
              </a:r>
              <a:r>
                <a:rPr b="0" sz="1800" spc="-1" strike="noStrike">
                  <a:solidFill>
                    <a:srgbClr val="339933"/>
                  </a:solidFill>
                  <a:latin typeface="Arial"/>
                </a:rPr>
                <a:t>Article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&lt;/rdf:RDF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CB80-B0F9-45DE-BE15-6122E95B854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Schéma général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1219320" y="965160"/>
            <a:ext cx="7772400" cy="4419720"/>
            <a:chOff x="1219320" y="965160"/>
            <a:chExt cx="7772400" cy="4419720"/>
          </a:xfrm>
        </p:grpSpPr>
        <p:grpSp>
          <p:nvGrpSpPr>
            <p:cNvPr id="447" name=""/>
            <p:cNvGrpSpPr/>
            <p:nvPr/>
          </p:nvGrpSpPr>
          <p:grpSpPr>
            <a:xfrm>
              <a:off x="1219320" y="965160"/>
              <a:ext cx="7772400" cy="4380120"/>
              <a:chOff x="1219320" y="965160"/>
              <a:chExt cx="7772400" cy="4380120"/>
            </a:xfrm>
          </p:grpSpPr>
          <p:sp>
            <p:nvSpPr>
              <p:cNvPr id="448" name=""/>
              <p:cNvSpPr/>
              <p:nvPr/>
            </p:nvSpPr>
            <p:spPr>
              <a:xfrm>
                <a:off x="1219320" y="965160"/>
                <a:ext cx="7772400" cy="4380120"/>
              </a:xfrm>
              <a:prstGeom prst="rect">
                <a:avLst/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4335480" y="1044720"/>
                <a:ext cx="1657080" cy="4181400"/>
                <a:chOff x="4335480" y="1044720"/>
                <a:chExt cx="1657080" cy="418140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4335480" y="1203480"/>
                  <a:ext cx="1500120" cy="40226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494240" y="1044720"/>
                  <a:ext cx="1498320" cy="239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0" bIns="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Mémoire d'entrepris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2025720" y="2398680"/>
                <a:ext cx="6532560" cy="995400"/>
                <a:chOff x="2025720" y="2398680"/>
                <a:chExt cx="6532560" cy="99540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2025720" y="2484360"/>
                  <a:ext cx="6392880" cy="9097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839280" y="2398680"/>
                  <a:ext cx="1719000" cy="2383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10800" bIns="10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fr-FR" sz="900" spc="-1" strike="noStrike">
                      <a:solidFill>
                        <a:srgbClr val="000000"/>
                      </a:solidFill>
                      <a:latin typeface="Courier New"/>
                    </a:rPr>
                    <a:t>Système Multi-Agen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896080" y="2570400"/>
                  <a:ext cx="789120" cy="15876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048040" y="3060720"/>
                  <a:ext cx="66996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441880" y="2621160"/>
                  <a:ext cx="828720" cy="1760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58" name="agen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214720" y="271152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459" name=""/>
                <p:cNvGrpSpPr/>
                <p:nvPr/>
              </p:nvGrpSpPr>
              <p:grpSpPr>
                <a:xfrm>
                  <a:off x="5992920" y="2718000"/>
                  <a:ext cx="908280" cy="636120"/>
                  <a:chOff x="5992920" y="2718000"/>
                  <a:chExt cx="908280" cy="63612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5992920" y="3078000"/>
                    <a:ext cx="908280" cy="27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groupe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d'intérêts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61" name="agent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69040" y="2718000"/>
                    <a:ext cx="311760" cy="31392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grpSp>
            <p:sp>
              <p:nvSpPr>
                <p:cNvPr id="462" name=""/>
                <p:cNvSpPr/>
                <p:nvPr/>
              </p:nvSpPr>
              <p:spPr>
                <a:xfrm>
                  <a:off x="4335840" y="2486160"/>
                  <a:ext cx="1500120" cy="90792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63" name="agent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354480" y="276228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464" name=""/>
                <p:cNvSpPr/>
                <p:nvPr/>
              </p:nvSpPr>
              <p:spPr>
                <a:xfrm>
                  <a:off x="3073680" y="3116520"/>
                  <a:ext cx="907920" cy="2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Ontologie et Modèles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901200" y="3113280"/>
                  <a:ext cx="828720" cy="23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Courier New"/>
                    </a:rPr>
                    <a:t>Agent Utilisateur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374240" y="2673360"/>
                  <a:ext cx="828720" cy="1634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700" spc="-1" strike="noStrike">
                      <a:solidFill>
                        <a:srgbClr val="000000"/>
                      </a:solidFill>
                      <a:latin typeface="Times New Roman"/>
                    </a:rPr>
                    <a:t>Apprentissage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67" name="agen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147080" y="2764080"/>
                  <a:ext cx="311400" cy="3142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468" name=""/>
                <p:cNvGrpSpPr/>
                <p:nvPr/>
              </p:nvGrpSpPr>
              <p:grpSpPr>
                <a:xfrm>
                  <a:off x="3862800" y="2530440"/>
                  <a:ext cx="907920" cy="635040"/>
                  <a:chOff x="3862800" y="2530440"/>
                  <a:chExt cx="907920" cy="635040"/>
                </a:xfrm>
              </p:grpSpPr>
              <p:pic>
                <p:nvPicPr>
                  <p:cNvPr id="469" name="agent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38920" y="2530440"/>
                    <a:ext cx="311760" cy="31428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  <p:sp>
                <p:nvSpPr>
                  <p:cNvPr id="470" name=""/>
                  <p:cNvSpPr/>
                  <p:nvPr/>
                </p:nvSpPr>
                <p:spPr>
                  <a:xfrm>
                    <a:off x="3862800" y="2889000"/>
                    <a:ext cx="9079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 d'inter-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700" spc="-1" strike="noStrike">
                        <a:solidFill>
                          <a:srgbClr val="000000"/>
                        </a:solidFill>
                        <a:latin typeface="Courier New"/>
                      </a:rPr>
                      <a:t>connexion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71" name=""/>
            <p:cNvGrpSpPr/>
            <p:nvPr/>
          </p:nvGrpSpPr>
          <p:grpSpPr>
            <a:xfrm>
              <a:off x="1376280" y="3433680"/>
              <a:ext cx="1101240" cy="1552680"/>
              <a:chOff x="1376280" y="3433680"/>
              <a:chExt cx="1101240" cy="1552680"/>
            </a:xfrm>
          </p:grpSpPr>
          <p:sp>
            <p:nvSpPr>
              <p:cNvPr id="472" name=""/>
              <p:cNvSpPr/>
              <p:nvPr/>
            </p:nvSpPr>
            <p:spPr>
              <a:xfrm>
                <a:off x="1376280" y="4389480"/>
                <a:ext cx="1074600" cy="59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Ingénieur d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la connaissanc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2047680" y="3433680"/>
                <a:ext cx="429840" cy="1181160"/>
                <a:chOff x="2047680" y="3433680"/>
                <a:chExt cx="429840" cy="1181160"/>
              </a:xfrm>
            </p:grpSpPr>
            <p:grpSp>
              <p:nvGrpSpPr>
                <p:cNvPr id="474" name=""/>
                <p:cNvGrpSpPr/>
                <p:nvPr/>
              </p:nvGrpSpPr>
              <p:grpSpPr>
                <a:xfrm>
                  <a:off x="2047680" y="3433680"/>
                  <a:ext cx="210960" cy="97920"/>
                  <a:chOff x="2047680" y="3433680"/>
                  <a:chExt cx="210960" cy="9792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>
                    <a:off x="2047680" y="3507480"/>
                    <a:ext cx="5184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69">
                        <a:moveTo>
                          <a:pt x="149" y="69"/>
                        </a:moveTo>
                        <a:lnTo>
                          <a:pt x="25" y="48"/>
                        </a:lnTo>
                        <a:lnTo>
                          <a:pt x="0" y="23"/>
                        </a:lnTo>
                        <a:lnTo>
                          <a:pt x="10" y="2"/>
                        </a:lnTo>
                        <a:lnTo>
                          <a:pt x="39" y="0"/>
                        </a:lnTo>
                        <a:lnTo>
                          <a:pt x="149" y="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2099520" y="3444120"/>
                    <a:ext cx="2268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15">
                        <a:moveTo>
                          <a:pt x="66" y="115"/>
                        </a:moveTo>
                        <a:lnTo>
                          <a:pt x="0" y="42"/>
                        </a:lnTo>
                        <a:lnTo>
                          <a:pt x="7" y="11"/>
                        </a:lnTo>
                        <a:lnTo>
                          <a:pt x="39" y="0"/>
                        </a:lnTo>
                        <a:lnTo>
                          <a:pt x="57" y="22"/>
                        </a:lnTo>
                        <a:lnTo>
                          <a:pt x="66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2172240" y="3433680"/>
                    <a:ext cx="1944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38">
                        <a:moveTo>
                          <a:pt x="9" y="138"/>
                        </a:moveTo>
                        <a:lnTo>
                          <a:pt x="0" y="35"/>
                        </a:lnTo>
                        <a:lnTo>
                          <a:pt x="30" y="0"/>
                        </a:lnTo>
                        <a:lnTo>
                          <a:pt x="56" y="15"/>
                        </a:lnTo>
                        <a:lnTo>
                          <a:pt x="52" y="42"/>
                        </a:lnTo>
                        <a:lnTo>
                          <a:pt x="9" y="1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2212560" y="3471120"/>
                    <a:ext cx="460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86">
                        <a:moveTo>
                          <a:pt x="0" y="86"/>
                        </a:moveTo>
                        <a:lnTo>
                          <a:pt x="100" y="0"/>
                        </a:lnTo>
                        <a:lnTo>
                          <a:pt x="135" y="17"/>
                        </a:lnTo>
                        <a:lnTo>
                          <a:pt x="132" y="45"/>
                        </a:lnTo>
                        <a:lnTo>
                          <a:pt x="114" y="59"/>
                        </a:lnTo>
                        <a:lnTo>
                          <a:pt x="0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9" name=""/>
                <p:cNvGrpSpPr/>
                <p:nvPr/>
              </p:nvGrpSpPr>
              <p:grpSpPr>
                <a:xfrm>
                  <a:off x="2122200" y="3503520"/>
                  <a:ext cx="355320" cy="1111320"/>
                  <a:chOff x="2122200" y="3503520"/>
                  <a:chExt cx="355320" cy="111132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>
                    <a:off x="2186280" y="3686400"/>
                    <a:ext cx="17856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554">
                        <a:moveTo>
                          <a:pt x="366" y="160"/>
                        </a:moveTo>
                        <a:lnTo>
                          <a:pt x="297" y="56"/>
                        </a:lnTo>
                        <a:lnTo>
                          <a:pt x="228" y="0"/>
                        </a:lnTo>
                        <a:lnTo>
                          <a:pt x="145" y="0"/>
                        </a:lnTo>
                        <a:lnTo>
                          <a:pt x="55" y="36"/>
                        </a:lnTo>
                        <a:lnTo>
                          <a:pt x="14" y="97"/>
                        </a:lnTo>
                        <a:lnTo>
                          <a:pt x="0" y="181"/>
                        </a:lnTo>
                        <a:lnTo>
                          <a:pt x="14" y="291"/>
                        </a:lnTo>
                        <a:lnTo>
                          <a:pt x="69" y="416"/>
                        </a:lnTo>
                        <a:lnTo>
                          <a:pt x="166" y="499"/>
                        </a:lnTo>
                        <a:lnTo>
                          <a:pt x="241" y="540"/>
                        </a:lnTo>
                        <a:lnTo>
                          <a:pt x="318" y="554"/>
                        </a:lnTo>
                        <a:lnTo>
                          <a:pt x="380" y="533"/>
                        </a:lnTo>
                        <a:lnTo>
                          <a:pt x="414" y="499"/>
                        </a:lnTo>
                        <a:lnTo>
                          <a:pt x="436" y="416"/>
                        </a:lnTo>
                        <a:lnTo>
                          <a:pt x="429" y="319"/>
                        </a:lnTo>
                        <a:lnTo>
                          <a:pt x="407" y="237"/>
                        </a:lnTo>
                        <a:lnTo>
                          <a:pt x="545" y="160"/>
                        </a:lnTo>
                        <a:lnTo>
                          <a:pt x="560" y="126"/>
                        </a:lnTo>
                        <a:lnTo>
                          <a:pt x="545" y="111"/>
                        </a:lnTo>
                        <a:lnTo>
                          <a:pt x="393" y="201"/>
                        </a:lnTo>
                        <a:lnTo>
                          <a:pt x="366" y="1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2314080" y="3503520"/>
                    <a:ext cx="158760" cy="432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8" h="1238">
                        <a:moveTo>
                          <a:pt x="138" y="1045"/>
                        </a:moveTo>
                        <a:lnTo>
                          <a:pt x="47" y="1113"/>
                        </a:lnTo>
                        <a:lnTo>
                          <a:pt x="20" y="1135"/>
                        </a:lnTo>
                        <a:lnTo>
                          <a:pt x="0" y="1183"/>
                        </a:lnTo>
                        <a:lnTo>
                          <a:pt x="27" y="1231"/>
                        </a:lnTo>
                        <a:lnTo>
                          <a:pt x="54" y="1238"/>
                        </a:lnTo>
                        <a:lnTo>
                          <a:pt x="138" y="1210"/>
                        </a:lnTo>
                        <a:lnTo>
                          <a:pt x="262" y="1113"/>
                        </a:lnTo>
                        <a:lnTo>
                          <a:pt x="373" y="997"/>
                        </a:lnTo>
                        <a:lnTo>
                          <a:pt x="491" y="864"/>
                        </a:lnTo>
                        <a:lnTo>
                          <a:pt x="498" y="809"/>
                        </a:lnTo>
                        <a:lnTo>
                          <a:pt x="498" y="658"/>
                        </a:lnTo>
                        <a:lnTo>
                          <a:pt x="464" y="422"/>
                        </a:lnTo>
                        <a:lnTo>
                          <a:pt x="484" y="284"/>
                        </a:lnTo>
                        <a:lnTo>
                          <a:pt x="498" y="228"/>
                        </a:lnTo>
                        <a:lnTo>
                          <a:pt x="477" y="201"/>
                        </a:lnTo>
                        <a:lnTo>
                          <a:pt x="428" y="173"/>
                        </a:lnTo>
                        <a:lnTo>
                          <a:pt x="394" y="153"/>
                        </a:lnTo>
                        <a:lnTo>
                          <a:pt x="414" y="28"/>
                        </a:lnTo>
                        <a:lnTo>
                          <a:pt x="401" y="0"/>
                        </a:lnTo>
                        <a:lnTo>
                          <a:pt x="373" y="8"/>
                        </a:lnTo>
                        <a:lnTo>
                          <a:pt x="360" y="167"/>
                        </a:lnTo>
                        <a:lnTo>
                          <a:pt x="346" y="208"/>
                        </a:lnTo>
                        <a:lnTo>
                          <a:pt x="339" y="235"/>
                        </a:lnTo>
                        <a:lnTo>
                          <a:pt x="283" y="214"/>
                        </a:lnTo>
                        <a:lnTo>
                          <a:pt x="242" y="214"/>
                        </a:lnTo>
                        <a:lnTo>
                          <a:pt x="242" y="242"/>
                        </a:lnTo>
                        <a:lnTo>
                          <a:pt x="269" y="264"/>
                        </a:lnTo>
                        <a:lnTo>
                          <a:pt x="319" y="264"/>
                        </a:lnTo>
                        <a:lnTo>
                          <a:pt x="353" y="291"/>
                        </a:lnTo>
                        <a:lnTo>
                          <a:pt x="380" y="339"/>
                        </a:lnTo>
                        <a:lnTo>
                          <a:pt x="408" y="416"/>
                        </a:lnTo>
                        <a:lnTo>
                          <a:pt x="428" y="567"/>
                        </a:lnTo>
                        <a:lnTo>
                          <a:pt x="428" y="706"/>
                        </a:lnTo>
                        <a:lnTo>
                          <a:pt x="414" y="816"/>
                        </a:lnTo>
                        <a:lnTo>
                          <a:pt x="387" y="864"/>
                        </a:lnTo>
                        <a:lnTo>
                          <a:pt x="290" y="934"/>
                        </a:lnTo>
                        <a:lnTo>
                          <a:pt x="186" y="997"/>
                        </a:lnTo>
                        <a:lnTo>
                          <a:pt x="138" y="10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2122200" y="3902400"/>
                    <a:ext cx="143280" cy="2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47">
                        <a:moveTo>
                          <a:pt x="451" y="20"/>
                        </a:moveTo>
                        <a:lnTo>
                          <a:pt x="401" y="0"/>
                        </a:lnTo>
                        <a:lnTo>
                          <a:pt x="297" y="7"/>
                        </a:lnTo>
                        <a:lnTo>
                          <a:pt x="207" y="76"/>
                        </a:lnTo>
                        <a:lnTo>
                          <a:pt x="75" y="221"/>
                        </a:lnTo>
                        <a:lnTo>
                          <a:pt x="7" y="339"/>
                        </a:lnTo>
                        <a:lnTo>
                          <a:pt x="0" y="380"/>
                        </a:lnTo>
                        <a:lnTo>
                          <a:pt x="34" y="457"/>
                        </a:lnTo>
                        <a:lnTo>
                          <a:pt x="110" y="491"/>
                        </a:lnTo>
                        <a:lnTo>
                          <a:pt x="207" y="532"/>
                        </a:lnTo>
                        <a:lnTo>
                          <a:pt x="283" y="552"/>
                        </a:lnTo>
                        <a:lnTo>
                          <a:pt x="318" y="588"/>
                        </a:lnTo>
                        <a:lnTo>
                          <a:pt x="297" y="636"/>
                        </a:lnTo>
                        <a:lnTo>
                          <a:pt x="242" y="692"/>
                        </a:lnTo>
                        <a:lnTo>
                          <a:pt x="173" y="699"/>
                        </a:lnTo>
                        <a:lnTo>
                          <a:pt x="125" y="677"/>
                        </a:lnTo>
                        <a:lnTo>
                          <a:pt x="96" y="699"/>
                        </a:lnTo>
                        <a:lnTo>
                          <a:pt x="103" y="726"/>
                        </a:lnTo>
                        <a:lnTo>
                          <a:pt x="159" y="747"/>
                        </a:lnTo>
                        <a:lnTo>
                          <a:pt x="242" y="747"/>
                        </a:lnTo>
                        <a:lnTo>
                          <a:pt x="318" y="726"/>
                        </a:lnTo>
                        <a:lnTo>
                          <a:pt x="360" y="699"/>
                        </a:lnTo>
                        <a:lnTo>
                          <a:pt x="388" y="650"/>
                        </a:lnTo>
                        <a:lnTo>
                          <a:pt x="401" y="595"/>
                        </a:lnTo>
                        <a:lnTo>
                          <a:pt x="367" y="546"/>
                        </a:lnTo>
                        <a:lnTo>
                          <a:pt x="283" y="511"/>
                        </a:lnTo>
                        <a:lnTo>
                          <a:pt x="186" y="484"/>
                        </a:lnTo>
                        <a:lnTo>
                          <a:pt x="103" y="436"/>
                        </a:lnTo>
                        <a:lnTo>
                          <a:pt x="82" y="394"/>
                        </a:lnTo>
                        <a:lnTo>
                          <a:pt x="96" y="319"/>
                        </a:lnTo>
                        <a:lnTo>
                          <a:pt x="159" y="221"/>
                        </a:lnTo>
                        <a:lnTo>
                          <a:pt x="236" y="165"/>
                        </a:lnTo>
                        <a:lnTo>
                          <a:pt x="353" y="124"/>
                        </a:lnTo>
                        <a:lnTo>
                          <a:pt x="451" y="104"/>
                        </a:lnTo>
                        <a:lnTo>
                          <a:pt x="451" y="48"/>
                        </a:lnTo>
                        <a:lnTo>
                          <a:pt x="451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2238840" y="3890520"/>
                    <a:ext cx="134280" cy="32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2" h="919">
                        <a:moveTo>
                          <a:pt x="367" y="290"/>
                        </a:moveTo>
                        <a:lnTo>
                          <a:pt x="325" y="117"/>
                        </a:lnTo>
                        <a:lnTo>
                          <a:pt x="277" y="34"/>
                        </a:lnTo>
                        <a:lnTo>
                          <a:pt x="173" y="0"/>
                        </a:lnTo>
                        <a:lnTo>
                          <a:pt x="68" y="13"/>
                        </a:lnTo>
                        <a:lnTo>
                          <a:pt x="21" y="104"/>
                        </a:lnTo>
                        <a:lnTo>
                          <a:pt x="27" y="214"/>
                        </a:lnTo>
                        <a:lnTo>
                          <a:pt x="55" y="394"/>
                        </a:lnTo>
                        <a:lnTo>
                          <a:pt x="55" y="552"/>
                        </a:lnTo>
                        <a:lnTo>
                          <a:pt x="21" y="690"/>
                        </a:lnTo>
                        <a:lnTo>
                          <a:pt x="0" y="767"/>
                        </a:lnTo>
                        <a:lnTo>
                          <a:pt x="14" y="835"/>
                        </a:lnTo>
                        <a:lnTo>
                          <a:pt x="62" y="871"/>
                        </a:lnTo>
                        <a:lnTo>
                          <a:pt x="125" y="905"/>
                        </a:lnTo>
                        <a:lnTo>
                          <a:pt x="186" y="919"/>
                        </a:lnTo>
                        <a:lnTo>
                          <a:pt x="263" y="919"/>
                        </a:lnTo>
                        <a:lnTo>
                          <a:pt x="353" y="849"/>
                        </a:lnTo>
                        <a:lnTo>
                          <a:pt x="422" y="704"/>
                        </a:lnTo>
                        <a:lnTo>
                          <a:pt x="415" y="573"/>
                        </a:lnTo>
                        <a:lnTo>
                          <a:pt x="374" y="421"/>
                        </a:lnTo>
                        <a:lnTo>
                          <a:pt x="367" y="2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2199240" y="4151160"/>
                    <a:ext cx="10188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1329">
                        <a:moveTo>
                          <a:pt x="305" y="21"/>
                        </a:moveTo>
                        <a:lnTo>
                          <a:pt x="223" y="0"/>
                        </a:lnTo>
                        <a:lnTo>
                          <a:pt x="174" y="21"/>
                        </a:lnTo>
                        <a:lnTo>
                          <a:pt x="153" y="89"/>
                        </a:lnTo>
                        <a:lnTo>
                          <a:pt x="174" y="470"/>
                        </a:lnTo>
                        <a:lnTo>
                          <a:pt x="174" y="560"/>
                        </a:lnTo>
                        <a:lnTo>
                          <a:pt x="147" y="727"/>
                        </a:lnTo>
                        <a:lnTo>
                          <a:pt x="140" y="920"/>
                        </a:lnTo>
                        <a:lnTo>
                          <a:pt x="153" y="1017"/>
                        </a:lnTo>
                        <a:lnTo>
                          <a:pt x="140" y="1071"/>
                        </a:lnTo>
                        <a:lnTo>
                          <a:pt x="42" y="1155"/>
                        </a:lnTo>
                        <a:lnTo>
                          <a:pt x="0" y="1259"/>
                        </a:lnTo>
                        <a:lnTo>
                          <a:pt x="8" y="1293"/>
                        </a:lnTo>
                        <a:lnTo>
                          <a:pt x="84" y="1329"/>
                        </a:lnTo>
                        <a:lnTo>
                          <a:pt x="104" y="1314"/>
                        </a:lnTo>
                        <a:lnTo>
                          <a:pt x="112" y="1252"/>
                        </a:lnTo>
                        <a:lnTo>
                          <a:pt x="133" y="1162"/>
                        </a:lnTo>
                        <a:lnTo>
                          <a:pt x="167" y="1121"/>
                        </a:lnTo>
                        <a:lnTo>
                          <a:pt x="208" y="1093"/>
                        </a:lnTo>
                        <a:lnTo>
                          <a:pt x="244" y="1058"/>
                        </a:lnTo>
                        <a:lnTo>
                          <a:pt x="251" y="1030"/>
                        </a:lnTo>
                        <a:lnTo>
                          <a:pt x="230" y="996"/>
                        </a:lnTo>
                        <a:lnTo>
                          <a:pt x="208" y="976"/>
                        </a:lnTo>
                        <a:lnTo>
                          <a:pt x="194" y="892"/>
                        </a:lnTo>
                        <a:lnTo>
                          <a:pt x="208" y="719"/>
                        </a:lnTo>
                        <a:lnTo>
                          <a:pt x="257" y="519"/>
                        </a:lnTo>
                        <a:lnTo>
                          <a:pt x="305" y="359"/>
                        </a:lnTo>
                        <a:lnTo>
                          <a:pt x="320" y="166"/>
                        </a:lnTo>
                        <a:lnTo>
                          <a:pt x="305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2309760" y="4151160"/>
                    <a:ext cx="167760" cy="39096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1121">
                        <a:moveTo>
                          <a:pt x="172" y="166"/>
                        </a:moveTo>
                        <a:lnTo>
                          <a:pt x="159" y="55"/>
                        </a:lnTo>
                        <a:lnTo>
                          <a:pt x="97" y="0"/>
                        </a:lnTo>
                        <a:lnTo>
                          <a:pt x="7" y="7"/>
                        </a:lnTo>
                        <a:lnTo>
                          <a:pt x="0" y="55"/>
                        </a:lnTo>
                        <a:lnTo>
                          <a:pt x="7" y="159"/>
                        </a:lnTo>
                        <a:lnTo>
                          <a:pt x="55" y="318"/>
                        </a:lnTo>
                        <a:lnTo>
                          <a:pt x="90" y="435"/>
                        </a:lnTo>
                        <a:lnTo>
                          <a:pt x="131" y="594"/>
                        </a:lnTo>
                        <a:lnTo>
                          <a:pt x="145" y="732"/>
                        </a:lnTo>
                        <a:lnTo>
                          <a:pt x="145" y="843"/>
                        </a:lnTo>
                        <a:lnTo>
                          <a:pt x="124" y="926"/>
                        </a:lnTo>
                        <a:lnTo>
                          <a:pt x="104" y="954"/>
                        </a:lnTo>
                        <a:lnTo>
                          <a:pt x="104" y="981"/>
                        </a:lnTo>
                        <a:lnTo>
                          <a:pt x="131" y="1024"/>
                        </a:lnTo>
                        <a:lnTo>
                          <a:pt x="179" y="1037"/>
                        </a:lnTo>
                        <a:lnTo>
                          <a:pt x="256" y="1037"/>
                        </a:lnTo>
                        <a:lnTo>
                          <a:pt x="394" y="1071"/>
                        </a:lnTo>
                        <a:lnTo>
                          <a:pt x="435" y="1121"/>
                        </a:lnTo>
                        <a:lnTo>
                          <a:pt x="498" y="1092"/>
                        </a:lnTo>
                        <a:lnTo>
                          <a:pt x="526" y="1024"/>
                        </a:lnTo>
                        <a:lnTo>
                          <a:pt x="498" y="996"/>
                        </a:lnTo>
                        <a:lnTo>
                          <a:pt x="380" y="981"/>
                        </a:lnTo>
                        <a:lnTo>
                          <a:pt x="249" y="981"/>
                        </a:lnTo>
                        <a:lnTo>
                          <a:pt x="193" y="974"/>
                        </a:lnTo>
                        <a:lnTo>
                          <a:pt x="179" y="933"/>
                        </a:lnTo>
                        <a:lnTo>
                          <a:pt x="193" y="857"/>
                        </a:lnTo>
                        <a:lnTo>
                          <a:pt x="201" y="725"/>
                        </a:lnTo>
                        <a:lnTo>
                          <a:pt x="186" y="580"/>
                        </a:lnTo>
                        <a:lnTo>
                          <a:pt x="165" y="388"/>
                        </a:lnTo>
                        <a:lnTo>
                          <a:pt x="172" y="221"/>
                        </a:lnTo>
                        <a:lnTo>
                          <a:pt x="172" y="1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486" name="ampoule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086920" y="3494880"/>
                  <a:ext cx="133560" cy="21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87" name=""/>
            <p:cNvGrpSpPr/>
            <p:nvPr/>
          </p:nvGrpSpPr>
          <p:grpSpPr>
            <a:xfrm>
              <a:off x="1298520" y="1044720"/>
              <a:ext cx="1774800" cy="1433520"/>
              <a:chOff x="1298520" y="1044720"/>
              <a:chExt cx="1774800" cy="1433520"/>
            </a:xfrm>
          </p:grpSpPr>
          <p:sp>
            <p:nvSpPr>
              <p:cNvPr id="488" name=""/>
              <p:cNvSpPr/>
              <p:nvPr/>
            </p:nvSpPr>
            <p:spPr>
              <a:xfrm>
                <a:off x="1298520" y="2119320"/>
                <a:ext cx="177480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Auteur et/o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Annotateur de docu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1850760" y="1044720"/>
                <a:ext cx="789120" cy="1231920"/>
                <a:chOff x="1850760" y="1044720"/>
                <a:chExt cx="789120" cy="1231920"/>
              </a:xfrm>
            </p:grpSpPr>
            <p:grpSp>
              <p:nvGrpSpPr>
                <p:cNvPr id="490" name=""/>
                <p:cNvGrpSpPr/>
                <p:nvPr/>
              </p:nvGrpSpPr>
              <p:grpSpPr>
                <a:xfrm>
                  <a:off x="2126160" y="1492560"/>
                  <a:ext cx="477360" cy="784080"/>
                  <a:chOff x="2126160" y="1492560"/>
                  <a:chExt cx="477360" cy="78408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>
                    <a:off x="2335320" y="1753200"/>
                    <a:ext cx="11124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771" h="1535">
                        <a:moveTo>
                          <a:pt x="182" y="123"/>
                        </a:moveTo>
                        <a:lnTo>
                          <a:pt x="265" y="33"/>
                        </a:lnTo>
                        <a:lnTo>
                          <a:pt x="423" y="0"/>
                        </a:lnTo>
                        <a:lnTo>
                          <a:pt x="558" y="33"/>
                        </a:lnTo>
                        <a:lnTo>
                          <a:pt x="633" y="83"/>
                        </a:lnTo>
                        <a:lnTo>
                          <a:pt x="693" y="183"/>
                        </a:lnTo>
                        <a:lnTo>
                          <a:pt x="746" y="361"/>
                        </a:lnTo>
                        <a:lnTo>
                          <a:pt x="771" y="554"/>
                        </a:lnTo>
                        <a:lnTo>
                          <a:pt x="771" y="899"/>
                        </a:lnTo>
                        <a:lnTo>
                          <a:pt x="693" y="1200"/>
                        </a:lnTo>
                        <a:lnTo>
                          <a:pt x="581" y="1370"/>
                        </a:lnTo>
                        <a:lnTo>
                          <a:pt x="468" y="1468"/>
                        </a:lnTo>
                        <a:lnTo>
                          <a:pt x="340" y="1535"/>
                        </a:lnTo>
                        <a:lnTo>
                          <a:pt x="160" y="1528"/>
                        </a:lnTo>
                        <a:lnTo>
                          <a:pt x="17" y="1425"/>
                        </a:lnTo>
                        <a:lnTo>
                          <a:pt x="0" y="1302"/>
                        </a:lnTo>
                        <a:lnTo>
                          <a:pt x="70" y="1119"/>
                        </a:lnTo>
                        <a:lnTo>
                          <a:pt x="130" y="914"/>
                        </a:lnTo>
                        <a:lnTo>
                          <a:pt x="152" y="649"/>
                        </a:lnTo>
                        <a:lnTo>
                          <a:pt x="115" y="423"/>
                        </a:lnTo>
                        <a:lnTo>
                          <a:pt x="115" y="258"/>
                        </a:lnTo>
                        <a:lnTo>
                          <a:pt x="182" y="1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2378520" y="1999800"/>
                    <a:ext cx="127080" cy="272880"/>
                  </a:xfrm>
                  <a:custGeom>
                    <a:avLst/>
                    <a:gdLst/>
                    <a:ahLst/>
                    <a:rect l="l" t="t" r="r" b="b"/>
                    <a:pathLst>
                      <a:path w="881" h="1512">
                        <a:moveTo>
                          <a:pt x="293" y="63"/>
                        </a:moveTo>
                        <a:lnTo>
                          <a:pt x="187" y="0"/>
                        </a:lnTo>
                        <a:lnTo>
                          <a:pt x="52" y="0"/>
                        </a:lnTo>
                        <a:lnTo>
                          <a:pt x="0" y="83"/>
                        </a:lnTo>
                        <a:lnTo>
                          <a:pt x="22" y="205"/>
                        </a:lnTo>
                        <a:lnTo>
                          <a:pt x="142" y="325"/>
                        </a:lnTo>
                        <a:lnTo>
                          <a:pt x="390" y="436"/>
                        </a:lnTo>
                        <a:lnTo>
                          <a:pt x="676" y="671"/>
                        </a:lnTo>
                        <a:lnTo>
                          <a:pt x="721" y="774"/>
                        </a:lnTo>
                        <a:lnTo>
                          <a:pt x="698" y="821"/>
                        </a:lnTo>
                        <a:lnTo>
                          <a:pt x="480" y="977"/>
                        </a:lnTo>
                        <a:lnTo>
                          <a:pt x="225" y="1162"/>
                        </a:lnTo>
                        <a:lnTo>
                          <a:pt x="165" y="1242"/>
                        </a:lnTo>
                        <a:lnTo>
                          <a:pt x="165" y="1325"/>
                        </a:lnTo>
                        <a:lnTo>
                          <a:pt x="360" y="1412"/>
                        </a:lnTo>
                        <a:lnTo>
                          <a:pt x="661" y="1512"/>
                        </a:lnTo>
                        <a:lnTo>
                          <a:pt x="766" y="1512"/>
                        </a:lnTo>
                        <a:lnTo>
                          <a:pt x="881" y="1445"/>
                        </a:lnTo>
                        <a:lnTo>
                          <a:pt x="881" y="1392"/>
                        </a:lnTo>
                        <a:lnTo>
                          <a:pt x="796" y="1365"/>
                        </a:lnTo>
                        <a:lnTo>
                          <a:pt x="413" y="1325"/>
                        </a:lnTo>
                        <a:lnTo>
                          <a:pt x="270" y="1290"/>
                        </a:lnTo>
                        <a:lnTo>
                          <a:pt x="255" y="1229"/>
                        </a:lnTo>
                        <a:lnTo>
                          <a:pt x="503" y="1059"/>
                        </a:lnTo>
                        <a:lnTo>
                          <a:pt x="773" y="896"/>
                        </a:lnTo>
                        <a:lnTo>
                          <a:pt x="833" y="836"/>
                        </a:lnTo>
                        <a:lnTo>
                          <a:pt x="856" y="754"/>
                        </a:lnTo>
                        <a:lnTo>
                          <a:pt x="833" y="638"/>
                        </a:lnTo>
                        <a:lnTo>
                          <a:pt x="751" y="551"/>
                        </a:lnTo>
                        <a:lnTo>
                          <a:pt x="480" y="253"/>
                        </a:lnTo>
                        <a:lnTo>
                          <a:pt x="293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2210760" y="1986120"/>
                    <a:ext cx="158400" cy="29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7" h="1610">
                        <a:moveTo>
                          <a:pt x="596" y="218"/>
                        </a:moveTo>
                        <a:lnTo>
                          <a:pt x="771" y="80"/>
                        </a:lnTo>
                        <a:lnTo>
                          <a:pt x="937" y="0"/>
                        </a:lnTo>
                        <a:lnTo>
                          <a:pt x="1042" y="12"/>
                        </a:lnTo>
                        <a:lnTo>
                          <a:pt x="1097" y="80"/>
                        </a:lnTo>
                        <a:lnTo>
                          <a:pt x="1097" y="155"/>
                        </a:lnTo>
                        <a:lnTo>
                          <a:pt x="1064" y="238"/>
                        </a:lnTo>
                        <a:lnTo>
                          <a:pt x="952" y="285"/>
                        </a:lnTo>
                        <a:lnTo>
                          <a:pt x="724" y="400"/>
                        </a:lnTo>
                        <a:lnTo>
                          <a:pt x="589" y="543"/>
                        </a:lnTo>
                        <a:lnTo>
                          <a:pt x="499" y="713"/>
                        </a:lnTo>
                        <a:lnTo>
                          <a:pt x="476" y="814"/>
                        </a:lnTo>
                        <a:lnTo>
                          <a:pt x="596" y="936"/>
                        </a:lnTo>
                        <a:lnTo>
                          <a:pt x="724" y="1114"/>
                        </a:lnTo>
                        <a:lnTo>
                          <a:pt x="817" y="1277"/>
                        </a:lnTo>
                        <a:lnTo>
                          <a:pt x="839" y="1380"/>
                        </a:lnTo>
                        <a:lnTo>
                          <a:pt x="839" y="1440"/>
                        </a:lnTo>
                        <a:lnTo>
                          <a:pt x="779" y="1480"/>
                        </a:lnTo>
                        <a:lnTo>
                          <a:pt x="589" y="1487"/>
                        </a:lnTo>
                        <a:lnTo>
                          <a:pt x="301" y="1547"/>
                        </a:lnTo>
                        <a:lnTo>
                          <a:pt x="248" y="1602"/>
                        </a:lnTo>
                        <a:lnTo>
                          <a:pt x="203" y="1610"/>
                        </a:lnTo>
                        <a:lnTo>
                          <a:pt x="0" y="1547"/>
                        </a:lnTo>
                        <a:lnTo>
                          <a:pt x="0" y="1487"/>
                        </a:lnTo>
                        <a:lnTo>
                          <a:pt x="90" y="1440"/>
                        </a:lnTo>
                        <a:lnTo>
                          <a:pt x="453" y="1380"/>
                        </a:lnTo>
                        <a:lnTo>
                          <a:pt x="641" y="1400"/>
                        </a:lnTo>
                        <a:lnTo>
                          <a:pt x="734" y="1400"/>
                        </a:lnTo>
                        <a:lnTo>
                          <a:pt x="756" y="1365"/>
                        </a:lnTo>
                        <a:lnTo>
                          <a:pt x="679" y="1214"/>
                        </a:lnTo>
                        <a:lnTo>
                          <a:pt x="521" y="1019"/>
                        </a:lnTo>
                        <a:lnTo>
                          <a:pt x="408" y="876"/>
                        </a:lnTo>
                        <a:lnTo>
                          <a:pt x="363" y="794"/>
                        </a:lnTo>
                        <a:lnTo>
                          <a:pt x="363" y="671"/>
                        </a:lnTo>
                        <a:lnTo>
                          <a:pt x="438" y="468"/>
                        </a:lnTo>
                        <a:lnTo>
                          <a:pt x="506" y="340"/>
                        </a:lnTo>
                        <a:lnTo>
                          <a:pt x="596" y="2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2126160" y="1753920"/>
                    <a:ext cx="21384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82" h="1202">
                        <a:moveTo>
                          <a:pt x="889" y="1202"/>
                        </a:moveTo>
                        <a:lnTo>
                          <a:pt x="981" y="1192"/>
                        </a:lnTo>
                        <a:lnTo>
                          <a:pt x="1009" y="1124"/>
                        </a:lnTo>
                        <a:lnTo>
                          <a:pt x="1034" y="881"/>
                        </a:lnTo>
                        <a:lnTo>
                          <a:pt x="1172" y="596"/>
                        </a:lnTo>
                        <a:lnTo>
                          <a:pt x="1314" y="465"/>
                        </a:lnTo>
                        <a:lnTo>
                          <a:pt x="1482" y="330"/>
                        </a:lnTo>
                        <a:lnTo>
                          <a:pt x="1467" y="235"/>
                        </a:lnTo>
                        <a:lnTo>
                          <a:pt x="1367" y="185"/>
                        </a:lnTo>
                        <a:lnTo>
                          <a:pt x="1242" y="235"/>
                        </a:lnTo>
                        <a:lnTo>
                          <a:pt x="1104" y="373"/>
                        </a:lnTo>
                        <a:lnTo>
                          <a:pt x="976" y="673"/>
                        </a:lnTo>
                        <a:lnTo>
                          <a:pt x="921" y="906"/>
                        </a:lnTo>
                        <a:lnTo>
                          <a:pt x="884" y="1029"/>
                        </a:lnTo>
                        <a:lnTo>
                          <a:pt x="779" y="984"/>
                        </a:lnTo>
                        <a:lnTo>
                          <a:pt x="661" y="783"/>
                        </a:lnTo>
                        <a:lnTo>
                          <a:pt x="563" y="505"/>
                        </a:lnTo>
                        <a:lnTo>
                          <a:pt x="581" y="380"/>
                        </a:lnTo>
                        <a:lnTo>
                          <a:pt x="636" y="248"/>
                        </a:lnTo>
                        <a:lnTo>
                          <a:pt x="658" y="150"/>
                        </a:lnTo>
                        <a:lnTo>
                          <a:pt x="418" y="145"/>
                        </a:lnTo>
                        <a:lnTo>
                          <a:pt x="178" y="105"/>
                        </a:lnTo>
                        <a:lnTo>
                          <a:pt x="65" y="0"/>
                        </a:lnTo>
                        <a:lnTo>
                          <a:pt x="0" y="50"/>
                        </a:lnTo>
                        <a:lnTo>
                          <a:pt x="88" y="230"/>
                        </a:lnTo>
                        <a:lnTo>
                          <a:pt x="280" y="250"/>
                        </a:lnTo>
                        <a:lnTo>
                          <a:pt x="488" y="270"/>
                        </a:lnTo>
                        <a:lnTo>
                          <a:pt x="493" y="428"/>
                        </a:lnTo>
                        <a:lnTo>
                          <a:pt x="513" y="611"/>
                        </a:lnTo>
                        <a:lnTo>
                          <a:pt x="583" y="816"/>
                        </a:lnTo>
                        <a:lnTo>
                          <a:pt x="671" y="1019"/>
                        </a:lnTo>
                        <a:lnTo>
                          <a:pt x="804" y="1154"/>
                        </a:lnTo>
                        <a:lnTo>
                          <a:pt x="889" y="12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446200" y="1492560"/>
                    <a:ext cx="157320" cy="29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1" h="1625">
                        <a:moveTo>
                          <a:pt x="0" y="1610"/>
                        </a:moveTo>
                        <a:lnTo>
                          <a:pt x="0" y="1503"/>
                        </a:lnTo>
                        <a:lnTo>
                          <a:pt x="67" y="1420"/>
                        </a:lnTo>
                        <a:lnTo>
                          <a:pt x="363" y="1325"/>
                        </a:lnTo>
                        <a:lnTo>
                          <a:pt x="728" y="1245"/>
                        </a:lnTo>
                        <a:lnTo>
                          <a:pt x="939" y="1197"/>
                        </a:lnTo>
                        <a:lnTo>
                          <a:pt x="964" y="1155"/>
                        </a:lnTo>
                        <a:lnTo>
                          <a:pt x="864" y="1034"/>
                        </a:lnTo>
                        <a:lnTo>
                          <a:pt x="666" y="857"/>
                        </a:lnTo>
                        <a:lnTo>
                          <a:pt x="463" y="706"/>
                        </a:lnTo>
                        <a:lnTo>
                          <a:pt x="303" y="626"/>
                        </a:lnTo>
                        <a:lnTo>
                          <a:pt x="213" y="544"/>
                        </a:lnTo>
                        <a:lnTo>
                          <a:pt x="205" y="483"/>
                        </a:lnTo>
                        <a:lnTo>
                          <a:pt x="258" y="428"/>
                        </a:lnTo>
                        <a:lnTo>
                          <a:pt x="385" y="401"/>
                        </a:lnTo>
                        <a:lnTo>
                          <a:pt x="546" y="298"/>
                        </a:lnTo>
                        <a:lnTo>
                          <a:pt x="568" y="198"/>
                        </a:lnTo>
                        <a:lnTo>
                          <a:pt x="568" y="55"/>
                        </a:lnTo>
                        <a:lnTo>
                          <a:pt x="553" y="0"/>
                        </a:lnTo>
                        <a:lnTo>
                          <a:pt x="613" y="13"/>
                        </a:lnTo>
                        <a:lnTo>
                          <a:pt x="698" y="135"/>
                        </a:lnTo>
                        <a:lnTo>
                          <a:pt x="728" y="266"/>
                        </a:lnTo>
                        <a:lnTo>
                          <a:pt x="636" y="361"/>
                        </a:lnTo>
                        <a:lnTo>
                          <a:pt x="553" y="388"/>
                        </a:lnTo>
                        <a:lnTo>
                          <a:pt x="393" y="463"/>
                        </a:lnTo>
                        <a:lnTo>
                          <a:pt x="363" y="504"/>
                        </a:lnTo>
                        <a:lnTo>
                          <a:pt x="385" y="544"/>
                        </a:lnTo>
                        <a:lnTo>
                          <a:pt x="531" y="654"/>
                        </a:lnTo>
                        <a:lnTo>
                          <a:pt x="683" y="714"/>
                        </a:lnTo>
                        <a:lnTo>
                          <a:pt x="886" y="869"/>
                        </a:lnTo>
                        <a:lnTo>
                          <a:pt x="1024" y="1054"/>
                        </a:lnTo>
                        <a:lnTo>
                          <a:pt x="1091" y="1197"/>
                        </a:lnTo>
                        <a:lnTo>
                          <a:pt x="1069" y="1245"/>
                        </a:lnTo>
                        <a:lnTo>
                          <a:pt x="1024" y="1277"/>
                        </a:lnTo>
                        <a:lnTo>
                          <a:pt x="849" y="1340"/>
                        </a:lnTo>
                        <a:lnTo>
                          <a:pt x="501" y="1443"/>
                        </a:lnTo>
                        <a:lnTo>
                          <a:pt x="280" y="1530"/>
                        </a:lnTo>
                        <a:lnTo>
                          <a:pt x="138" y="1605"/>
                        </a:lnTo>
                        <a:lnTo>
                          <a:pt x="45" y="1625"/>
                        </a:lnTo>
                        <a:lnTo>
                          <a:pt x="0" y="16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2291400" y="1536120"/>
                    <a:ext cx="12276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w="851" h="1157">
                        <a:moveTo>
                          <a:pt x="173" y="939"/>
                        </a:moveTo>
                        <a:lnTo>
                          <a:pt x="271" y="1042"/>
                        </a:lnTo>
                        <a:lnTo>
                          <a:pt x="431" y="1137"/>
                        </a:lnTo>
                        <a:lnTo>
                          <a:pt x="566" y="1157"/>
                        </a:lnTo>
                        <a:lnTo>
                          <a:pt x="669" y="1137"/>
                        </a:lnTo>
                        <a:lnTo>
                          <a:pt x="791" y="1057"/>
                        </a:lnTo>
                        <a:lnTo>
                          <a:pt x="836" y="892"/>
                        </a:lnTo>
                        <a:lnTo>
                          <a:pt x="851" y="769"/>
                        </a:lnTo>
                        <a:lnTo>
                          <a:pt x="814" y="654"/>
                        </a:lnTo>
                        <a:lnTo>
                          <a:pt x="744" y="511"/>
                        </a:lnTo>
                        <a:lnTo>
                          <a:pt x="679" y="388"/>
                        </a:lnTo>
                        <a:lnTo>
                          <a:pt x="669" y="361"/>
                        </a:lnTo>
                        <a:lnTo>
                          <a:pt x="699" y="218"/>
                        </a:lnTo>
                        <a:lnTo>
                          <a:pt x="791" y="75"/>
                        </a:lnTo>
                        <a:lnTo>
                          <a:pt x="806" y="33"/>
                        </a:lnTo>
                        <a:lnTo>
                          <a:pt x="759" y="0"/>
                        </a:lnTo>
                        <a:lnTo>
                          <a:pt x="699" y="0"/>
                        </a:lnTo>
                        <a:lnTo>
                          <a:pt x="634" y="185"/>
                        </a:lnTo>
                        <a:lnTo>
                          <a:pt x="604" y="306"/>
                        </a:lnTo>
                        <a:lnTo>
                          <a:pt x="521" y="225"/>
                        </a:lnTo>
                        <a:lnTo>
                          <a:pt x="451" y="163"/>
                        </a:lnTo>
                        <a:lnTo>
                          <a:pt x="308" y="115"/>
                        </a:lnTo>
                        <a:lnTo>
                          <a:pt x="203" y="115"/>
                        </a:lnTo>
                        <a:lnTo>
                          <a:pt x="45" y="185"/>
                        </a:lnTo>
                        <a:lnTo>
                          <a:pt x="0" y="381"/>
                        </a:lnTo>
                        <a:lnTo>
                          <a:pt x="38" y="634"/>
                        </a:lnTo>
                        <a:lnTo>
                          <a:pt x="105" y="872"/>
                        </a:lnTo>
                        <a:lnTo>
                          <a:pt x="173" y="9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7" name=""/>
                <p:cNvGrpSpPr/>
                <p:nvPr/>
              </p:nvGrpSpPr>
              <p:grpSpPr>
                <a:xfrm>
                  <a:off x="2136960" y="1044720"/>
                  <a:ext cx="236520" cy="239040"/>
                  <a:chOff x="2136960" y="1044720"/>
                  <a:chExt cx="236520" cy="239040"/>
                </a:xfrm>
              </p:grpSpPr>
              <p:sp>
                <p:nvSpPr>
                  <p:cNvPr id="498" name=""/>
                  <p:cNvSpPr/>
                  <p:nvPr/>
                </p:nvSpPr>
                <p:spPr>
                  <a:xfrm>
                    <a:off x="2136960" y="1044720"/>
                    <a:ext cx="236520" cy="2390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99" name="doc_0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63960" y="1066320"/>
                    <a:ext cx="197280" cy="199080"/>
                  </a:xfrm>
                  <a:prstGeom prst="rect">
                    <a:avLst/>
                  </a:prstGeom>
                  <a:ln w="9360">
                    <a:solidFill>
                      <a:srgbClr val="c0c0c0"/>
                    </a:solidFill>
                    <a:miter/>
                  </a:ln>
                </p:spPr>
              </p:pic>
            </p:grpSp>
            <p:grpSp>
              <p:nvGrpSpPr>
                <p:cNvPr id="500" name=""/>
                <p:cNvGrpSpPr/>
                <p:nvPr/>
              </p:nvGrpSpPr>
              <p:grpSpPr>
                <a:xfrm>
                  <a:off x="1850760" y="1168200"/>
                  <a:ext cx="255240" cy="278640"/>
                  <a:chOff x="1850760" y="1168200"/>
                  <a:chExt cx="255240" cy="27864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>
                    <a:off x="1850760" y="1168200"/>
                    <a:ext cx="25524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02" name="doc_0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59040" y="1186920"/>
                    <a:ext cx="236520" cy="2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03" name=""/>
                <p:cNvGrpSpPr/>
                <p:nvPr/>
              </p:nvGrpSpPr>
              <p:grpSpPr>
                <a:xfrm>
                  <a:off x="2008440" y="1487160"/>
                  <a:ext cx="204120" cy="245160"/>
                  <a:chOff x="2008440" y="1487160"/>
                  <a:chExt cx="204120" cy="24516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2008440" y="1487160"/>
                    <a:ext cx="204120" cy="2451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05" name="doc_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28960" y="1503720"/>
                    <a:ext cx="1666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06" name=""/>
                <p:cNvGrpSpPr/>
                <p:nvPr/>
              </p:nvGrpSpPr>
              <p:grpSpPr>
                <a:xfrm>
                  <a:off x="2403000" y="1208160"/>
                  <a:ext cx="236880" cy="278640"/>
                  <a:chOff x="2403000" y="1208160"/>
                  <a:chExt cx="236880" cy="27864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>
                    <a:off x="2403000" y="1208160"/>
                    <a:ext cx="236880" cy="27864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08" name="doc_05gif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08400" y="1241640"/>
                    <a:ext cx="22500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509" name=""/>
            <p:cNvGrpSpPr/>
            <p:nvPr/>
          </p:nvGrpSpPr>
          <p:grpSpPr>
            <a:xfrm>
              <a:off x="7570800" y="4191120"/>
              <a:ext cx="1106280" cy="1193760"/>
              <a:chOff x="7570800" y="4191120"/>
              <a:chExt cx="1106280" cy="1193760"/>
            </a:xfrm>
          </p:grpSpPr>
          <p:sp>
            <p:nvSpPr>
              <p:cNvPr id="510" name=""/>
              <p:cNvSpPr/>
              <p:nvPr/>
            </p:nvSpPr>
            <p:spPr>
              <a:xfrm>
                <a:off x="7570800" y="5137200"/>
                <a:ext cx="1106280" cy="24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800" spc="-1" strike="noStrike">
                    <a:solidFill>
                      <a:srgbClr val="000000"/>
                    </a:solidFill>
                    <a:latin typeface="Arial"/>
                  </a:rPr>
                  <a:t>Utilisateur fina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1" name=""/>
              <p:cNvGrpSpPr/>
              <p:nvPr/>
            </p:nvGrpSpPr>
            <p:grpSpPr>
              <a:xfrm>
                <a:off x="7729200" y="4270320"/>
                <a:ext cx="430200" cy="903600"/>
                <a:chOff x="7729200" y="4270320"/>
                <a:chExt cx="430200" cy="903600"/>
              </a:xfrm>
            </p:grpSpPr>
            <p:sp>
              <p:nvSpPr>
                <p:cNvPr id="512" name=""/>
                <p:cNvSpPr/>
                <p:nvPr/>
              </p:nvSpPr>
              <p:spPr>
                <a:xfrm flipH="1">
                  <a:off x="7853760" y="4320720"/>
                  <a:ext cx="168120" cy="19692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H="1">
                  <a:off x="7965000" y="4270320"/>
                  <a:ext cx="194040" cy="31644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H="1">
                  <a:off x="7875360" y="4532400"/>
                  <a:ext cx="100800" cy="29664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H="1">
                  <a:off x="7774200" y="4540680"/>
                  <a:ext cx="155160" cy="22788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H="1">
                  <a:off x="7728840" y="4799160"/>
                  <a:ext cx="188280" cy="3686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>
                  <a:off x="7908840" y="4798440"/>
                  <a:ext cx="126360" cy="37548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8162640" y="4191120"/>
                <a:ext cx="473400" cy="396720"/>
                <a:chOff x="8162640" y="4191120"/>
                <a:chExt cx="473400" cy="3967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8162640" y="4191120"/>
                  <a:ext cx="473400" cy="396720"/>
                </a:xfrm>
                <a:prstGeom prst="cloudCallout">
                  <a:avLst>
                    <a:gd name="adj1" fmla="val -75731"/>
                    <a:gd name="adj2" fmla="val 15087"/>
                  </a:avLst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20" name="inter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278920" y="4261320"/>
                  <a:ext cx="2365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21" name=""/>
            <p:cNvGrpSpPr/>
            <p:nvPr/>
          </p:nvGrpSpPr>
          <p:grpSpPr>
            <a:xfrm>
              <a:off x="2639880" y="1455840"/>
              <a:ext cx="1617840" cy="903240"/>
              <a:chOff x="2639880" y="1455840"/>
              <a:chExt cx="1617840" cy="903240"/>
            </a:xfrm>
          </p:grpSpPr>
          <p:pic>
            <p:nvPicPr>
              <p:cNvPr id="52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639880" y="193212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23" name=""/>
              <p:cNvGrpSpPr/>
              <p:nvPr/>
            </p:nvGrpSpPr>
            <p:grpSpPr>
              <a:xfrm>
                <a:off x="2916000" y="1455840"/>
                <a:ext cx="1025640" cy="903240"/>
                <a:chOff x="2916000" y="1455840"/>
                <a:chExt cx="1025640" cy="90324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2916000" y="1721880"/>
                  <a:ext cx="1025640" cy="63720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916000" y="1455840"/>
                  <a:ext cx="1025640" cy="238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933640" y="1724760"/>
                  <a:ext cx="100764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2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310200" y="1957320"/>
                  <a:ext cx="31536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992680" y="1486440"/>
                  <a:ext cx="263520" cy="198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29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020840" y="1920960"/>
                <a:ext cx="23688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0" name=""/>
            <p:cNvGrpSpPr/>
            <p:nvPr/>
          </p:nvGrpSpPr>
          <p:grpSpPr>
            <a:xfrm>
              <a:off x="5913360" y="4230720"/>
              <a:ext cx="1697040" cy="995400"/>
              <a:chOff x="5913360" y="4230720"/>
              <a:chExt cx="1697040" cy="995400"/>
            </a:xfrm>
          </p:grpSpPr>
          <p:pic>
            <p:nvPicPr>
              <p:cNvPr id="53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913360" y="4708440"/>
                <a:ext cx="23796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7373880" y="4708440"/>
                <a:ext cx="236520" cy="238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33" name=""/>
              <p:cNvGrpSpPr/>
              <p:nvPr/>
            </p:nvGrpSpPr>
            <p:grpSpPr>
              <a:xfrm>
                <a:off x="6189480" y="4230720"/>
                <a:ext cx="1104840" cy="995400"/>
                <a:chOff x="6189480" y="4230720"/>
                <a:chExt cx="1104840" cy="995400"/>
              </a:xfrm>
            </p:grpSpPr>
            <p:grpSp>
              <p:nvGrpSpPr>
                <p:cNvPr id="534" name=""/>
                <p:cNvGrpSpPr/>
                <p:nvPr/>
              </p:nvGrpSpPr>
              <p:grpSpPr>
                <a:xfrm>
                  <a:off x="6189480" y="4230720"/>
                  <a:ext cx="1026000" cy="902880"/>
                  <a:chOff x="6189480" y="4230720"/>
                  <a:chExt cx="1026000" cy="90288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>
                    <a:off x="6189480" y="4496760"/>
                    <a:ext cx="1026000" cy="63684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6189480" y="423072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6207120" y="449928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3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584040" y="473220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3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66160" y="426132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228720" y="4270320"/>
                  <a:ext cx="1026000" cy="903240"/>
                  <a:chOff x="6228720" y="4270320"/>
                  <a:chExt cx="1026000" cy="90324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228720" y="4536360"/>
                    <a:ext cx="1026000" cy="63720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228720" y="427032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6246360" y="453924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44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623280" y="477180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4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05400" y="430092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6268320" y="4322880"/>
                  <a:ext cx="1026000" cy="903240"/>
                  <a:chOff x="6268320" y="4322880"/>
                  <a:chExt cx="1026000" cy="90324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>
                    <a:off x="6268320" y="4588920"/>
                    <a:ext cx="1026000" cy="63720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268320" y="4322880"/>
                    <a:ext cx="1026000" cy="238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285960" y="4591800"/>
                    <a:ext cx="1008000" cy="34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fr-FR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550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662880" y="4824360"/>
                    <a:ext cx="31572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5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45000" y="4353480"/>
                    <a:ext cx="26352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552" name=""/>
            <p:cNvGrpSpPr/>
            <p:nvPr/>
          </p:nvGrpSpPr>
          <p:grpSpPr>
            <a:xfrm>
              <a:off x="2679840" y="3552840"/>
              <a:ext cx="2167920" cy="677520"/>
              <a:chOff x="2679840" y="3552840"/>
              <a:chExt cx="2167920" cy="677520"/>
            </a:xfrm>
          </p:grpSpPr>
          <p:pic>
            <p:nvPicPr>
              <p:cNvPr id="553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2679840" y="3832200"/>
                <a:ext cx="23616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4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3981240" y="3832200"/>
                <a:ext cx="236160" cy="238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55" name=""/>
              <p:cNvGrpSpPr/>
              <p:nvPr/>
            </p:nvGrpSpPr>
            <p:grpSpPr>
              <a:xfrm>
                <a:off x="2876400" y="3552840"/>
                <a:ext cx="1007640" cy="677520"/>
                <a:chOff x="2876400" y="3552840"/>
                <a:chExt cx="1007640" cy="67752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3034080" y="3592440"/>
                  <a:ext cx="670680" cy="6379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57" name="onto_01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3191760" y="3826080"/>
                  <a:ext cx="315360" cy="31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8" name=""/>
                <p:cNvSpPr/>
                <p:nvPr/>
              </p:nvSpPr>
              <p:spPr>
                <a:xfrm>
                  <a:off x="2876400" y="3552840"/>
                  <a:ext cx="100764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Ontologi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559" name="onto_01" descr=""/>
              <p:cNvPicPr/>
              <p:nvPr/>
            </p:nvPicPr>
            <p:blipFill>
              <a:blip r:embed="rId28"/>
              <a:stretch/>
            </p:blipFill>
            <p:spPr>
              <a:xfrm>
                <a:off x="4533840" y="3792600"/>
                <a:ext cx="313920" cy="317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0" name=""/>
            <p:cNvGrpSpPr/>
            <p:nvPr/>
          </p:nvGrpSpPr>
          <p:grpSpPr>
            <a:xfrm>
              <a:off x="2467080" y="4303800"/>
              <a:ext cx="1631880" cy="882360"/>
              <a:chOff x="2467080" y="4303800"/>
              <a:chExt cx="1631880" cy="882360"/>
            </a:xfrm>
          </p:grpSpPr>
          <p:grpSp>
            <p:nvGrpSpPr>
              <p:cNvPr id="561" name=""/>
              <p:cNvGrpSpPr/>
              <p:nvPr/>
            </p:nvGrpSpPr>
            <p:grpSpPr>
              <a:xfrm>
                <a:off x="2467080" y="4587840"/>
                <a:ext cx="1631880" cy="598320"/>
                <a:chOff x="2467080" y="4587840"/>
                <a:chExt cx="1631880" cy="59832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2545920" y="4627440"/>
                  <a:ext cx="1340640" cy="558720"/>
                </a:xfrm>
                <a:prstGeom prst="foldedCorner">
                  <a:avLst>
                    <a:gd name="adj" fmla="val 6138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63" name="onto_02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2585160" y="4831560"/>
                  <a:ext cx="275760" cy="27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4" name=""/>
                <p:cNvSpPr/>
                <p:nvPr/>
              </p:nvSpPr>
              <p:spPr>
                <a:xfrm>
                  <a:off x="2467080" y="4587840"/>
                  <a:ext cx="749160" cy="2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Modèle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768760" y="4787280"/>
                  <a:ext cx="1330200" cy="35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- Modèle d'entrepris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fr-FR" sz="800" spc="-1" strike="noStrike">
                      <a:solidFill>
                        <a:srgbClr val="000000"/>
                      </a:solidFill>
                      <a:latin typeface="Times New Roman"/>
                    </a:rPr>
                    <a:t>- Profils d'utilisateur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566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3270240" y="4303800"/>
                <a:ext cx="23616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7" name=""/>
            <p:cNvGrpSpPr/>
            <p:nvPr/>
          </p:nvGrpSpPr>
          <p:grpSpPr>
            <a:xfrm>
              <a:off x="3981600" y="4668840"/>
              <a:ext cx="1065240" cy="357120"/>
              <a:chOff x="3981600" y="4668840"/>
              <a:chExt cx="1065240" cy="357120"/>
            </a:xfrm>
          </p:grpSpPr>
          <p:pic>
            <p:nvPicPr>
              <p:cNvPr id="56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3981600" y="4748400"/>
                <a:ext cx="236520" cy="23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9" name="onto_02" descr=""/>
              <p:cNvPicPr/>
              <p:nvPr/>
            </p:nvPicPr>
            <p:blipFill>
              <a:blip r:embed="rId32"/>
              <a:stretch/>
            </p:blipFill>
            <p:spPr>
              <a:xfrm>
                <a:off x="4691160" y="4668840"/>
                <a:ext cx="35568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0" name=""/>
            <p:cNvGrpSpPr/>
            <p:nvPr/>
          </p:nvGrpSpPr>
          <p:grpSpPr>
            <a:xfrm>
              <a:off x="7650000" y="3457800"/>
              <a:ext cx="631800" cy="772920"/>
              <a:chOff x="7650000" y="3457800"/>
              <a:chExt cx="631800" cy="772920"/>
            </a:xfrm>
          </p:grpSpPr>
          <p:pic>
            <p:nvPicPr>
              <p:cNvPr id="571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7846920" y="3990960"/>
                <a:ext cx="236520" cy="239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72" name=""/>
              <p:cNvGrpSpPr/>
              <p:nvPr/>
            </p:nvGrpSpPr>
            <p:grpSpPr>
              <a:xfrm>
                <a:off x="7650000" y="3457800"/>
                <a:ext cx="631800" cy="490320"/>
                <a:chOff x="7650000" y="3457800"/>
                <a:chExt cx="631800" cy="49032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7689240" y="3510000"/>
                  <a:ext cx="552960" cy="4381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650000" y="3457800"/>
                  <a:ext cx="631800" cy="34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Bookman Old Style"/>
                    </a:rPr>
                    <a:t>Requête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575" name="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7886880" y="3691080"/>
                  <a:ext cx="236880" cy="238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576" name=""/>
            <p:cNvGrpSpPr/>
            <p:nvPr/>
          </p:nvGrpSpPr>
          <p:grpSpPr>
            <a:xfrm>
              <a:off x="4414680" y="1386000"/>
              <a:ext cx="1301760" cy="3565440"/>
              <a:chOff x="4414680" y="1386000"/>
              <a:chExt cx="1301760" cy="3565440"/>
            </a:xfrm>
          </p:grpSpPr>
          <p:pic>
            <p:nvPicPr>
              <p:cNvPr id="577" name="doc_01" descr=""/>
              <p:cNvPicPr/>
              <p:nvPr/>
            </p:nvPicPr>
            <p:blipFill>
              <a:blip r:embed="rId35"/>
              <a:stretch/>
            </p:blipFill>
            <p:spPr>
              <a:xfrm>
                <a:off x="5322960" y="2000160"/>
                <a:ext cx="214200" cy="27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8" name="doc_01" descr=""/>
              <p:cNvPicPr/>
              <p:nvPr/>
            </p:nvPicPr>
            <p:blipFill>
              <a:blip r:embed="rId36"/>
              <a:stretch/>
            </p:blipFill>
            <p:spPr>
              <a:xfrm>
                <a:off x="5283360" y="192096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9" name="memory_01" descr=""/>
              <p:cNvPicPr/>
              <p:nvPr/>
            </p:nvPicPr>
            <p:blipFill>
              <a:blip r:embed="rId37"/>
              <a:stretch/>
            </p:blipFill>
            <p:spPr>
              <a:xfrm>
                <a:off x="4414680" y="1386000"/>
                <a:ext cx="33192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0" name="doc_03" descr=""/>
              <p:cNvPicPr/>
              <p:nvPr/>
            </p:nvPicPr>
            <p:blipFill>
              <a:blip r:embed="rId38"/>
              <a:stretch/>
            </p:blipFill>
            <p:spPr>
              <a:xfrm>
                <a:off x="4572000" y="4156200"/>
                <a:ext cx="395280" cy="39672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581" name="doc_04" descr=""/>
              <p:cNvPicPr/>
              <p:nvPr/>
            </p:nvPicPr>
            <p:blipFill>
              <a:blip r:embed="rId39"/>
              <a:stretch/>
            </p:blipFill>
            <p:spPr>
              <a:xfrm>
                <a:off x="4494240" y="1881360"/>
                <a:ext cx="276120" cy="277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2" name="doc_05gif" descr=""/>
              <p:cNvPicPr/>
              <p:nvPr/>
            </p:nvPicPr>
            <p:blipFill>
              <a:blip r:embed="rId40"/>
              <a:stretch/>
            </p:blipFill>
            <p:spPr>
              <a:xfrm>
                <a:off x="5164200" y="4075200"/>
                <a:ext cx="30456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3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5086440" y="3513240"/>
                <a:ext cx="411120" cy="41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4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4911840" y="1425600"/>
                <a:ext cx="331560" cy="33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5" name="doc_01" descr=""/>
              <p:cNvPicPr/>
              <p:nvPr/>
            </p:nvPicPr>
            <p:blipFill>
              <a:blip r:embed="rId43"/>
              <a:stretch/>
            </p:blipFill>
            <p:spPr>
              <a:xfrm>
                <a:off x="5362560" y="2040120"/>
                <a:ext cx="214200" cy="27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6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5400720" y="4633920"/>
                <a:ext cx="315720" cy="31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7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4888080" y="2040120"/>
                <a:ext cx="333360" cy="33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8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5400720" y="1482840"/>
                <a:ext cx="315720" cy="318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9" name=""/>
            <p:cNvSpPr txBox="1"/>
            <p:nvPr/>
          </p:nvSpPr>
          <p:spPr>
            <a:xfrm>
              <a:off x="2560680" y="4310280"/>
              <a:ext cx="236520" cy="15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1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590" name=""/>
            <p:cNvSpPr txBox="1"/>
            <p:nvPr/>
          </p:nvSpPr>
          <p:spPr>
            <a:xfrm>
              <a:off x="3230640" y="1163880"/>
              <a:ext cx="237960" cy="168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2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591" name=""/>
            <p:cNvSpPr txBox="1"/>
            <p:nvPr/>
          </p:nvSpPr>
          <p:spPr>
            <a:xfrm>
              <a:off x="7413480" y="4429080"/>
              <a:ext cx="236520" cy="1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3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grpSp>
          <p:nvGrpSpPr>
            <p:cNvPr id="592" name=""/>
            <p:cNvGrpSpPr/>
            <p:nvPr/>
          </p:nvGrpSpPr>
          <p:grpSpPr>
            <a:xfrm>
              <a:off x="2600280" y="3274920"/>
              <a:ext cx="1971720" cy="1273320"/>
              <a:chOff x="2600280" y="3274920"/>
              <a:chExt cx="1971720" cy="1273320"/>
            </a:xfrm>
          </p:grpSpPr>
          <p:sp>
            <p:nvSpPr>
              <p:cNvPr id="593" name=""/>
              <p:cNvSpPr/>
              <p:nvPr/>
            </p:nvSpPr>
            <p:spPr>
              <a:xfrm>
                <a:off x="3902040" y="3274920"/>
                <a:ext cx="669960" cy="47808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2600280" y="3274920"/>
                <a:ext cx="512640" cy="47808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744720" y="3354480"/>
                <a:ext cx="117720" cy="119376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2165400" y="2279880"/>
              <a:ext cx="947160" cy="396720"/>
              <a:chOff x="2165400" y="2279880"/>
              <a:chExt cx="947160" cy="396720"/>
            </a:xfrm>
          </p:grpSpPr>
          <p:sp>
            <p:nvSpPr>
              <p:cNvPr id="597" name=""/>
              <p:cNvSpPr/>
              <p:nvPr/>
            </p:nvSpPr>
            <p:spPr>
              <a:xfrm>
                <a:off x="2165400" y="2384640"/>
                <a:ext cx="118800" cy="25236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2480760" y="2279880"/>
                <a:ext cx="631800" cy="39672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5715000" y="1726920"/>
              <a:ext cx="2247840" cy="2503800"/>
              <a:chOff x="5715000" y="1726920"/>
              <a:chExt cx="2247840" cy="2503800"/>
            </a:xfrm>
          </p:grpSpPr>
          <p:sp>
            <p:nvSpPr>
              <p:cNvPr id="600" name=""/>
              <p:cNvSpPr/>
              <p:nvPr/>
            </p:nvSpPr>
            <p:spPr>
              <a:xfrm flipH="1" flipV="1">
                <a:off x="5715000" y="1726920"/>
                <a:ext cx="137160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531200" y="3035520"/>
                <a:ext cx="431640" cy="44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6821280" y="3354480"/>
                <a:ext cx="355320" cy="795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413480" y="3354480"/>
                <a:ext cx="316080" cy="87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5519880" y="3235320"/>
              <a:ext cx="2129760" cy="1035000"/>
              <a:chOff x="5519880" y="3235320"/>
              <a:chExt cx="2129760" cy="1035000"/>
            </a:xfrm>
          </p:grpSpPr>
          <p:sp>
            <p:nvSpPr>
              <p:cNvPr id="605" name=""/>
              <p:cNvSpPr/>
              <p:nvPr/>
            </p:nvSpPr>
            <p:spPr>
              <a:xfrm flipH="1">
                <a:off x="5519880" y="3235320"/>
                <a:ext cx="552240" cy="39708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6348240" y="3295440"/>
                <a:ext cx="0" cy="89532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703920" y="3354480"/>
                <a:ext cx="945720" cy="91584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8" name=""/>
          <p:cNvGrpSpPr/>
          <p:nvPr/>
        </p:nvGrpSpPr>
        <p:grpSpPr>
          <a:xfrm>
            <a:off x="1168560" y="838080"/>
            <a:ext cx="7975440" cy="4648320"/>
            <a:chOff x="1168560" y="838080"/>
            <a:chExt cx="7975440" cy="4648320"/>
          </a:xfrm>
        </p:grpSpPr>
        <p:sp>
          <p:nvSpPr>
            <p:cNvPr id="609" name=""/>
            <p:cNvSpPr/>
            <p:nvPr/>
          </p:nvSpPr>
          <p:spPr>
            <a:xfrm>
              <a:off x="1168560" y="838080"/>
              <a:ext cx="1803240" cy="46483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029200" y="838080"/>
              <a:ext cx="4114800" cy="4572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666880" y="914400"/>
              <a:ext cx="4114800" cy="2590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438280" y="4343400"/>
              <a:ext cx="4114800" cy="10666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971800" y="3505320"/>
              <a:ext cx="2057400" cy="8380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AB12F-4E2F-47F2-A11F-892D16FF69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3" name=""/>
          <p:cNvGrpSpPr/>
          <p:nvPr/>
        </p:nvGrpSpPr>
        <p:grpSpPr>
          <a:xfrm>
            <a:off x="875160" y="1752480"/>
            <a:ext cx="8116560" cy="4724640"/>
            <a:chOff x="875160" y="1752480"/>
            <a:chExt cx="8116560" cy="4724640"/>
          </a:xfrm>
        </p:grpSpPr>
        <p:sp>
          <p:nvSpPr>
            <p:cNvPr id="3134" name=""/>
            <p:cNvSpPr/>
            <p:nvPr/>
          </p:nvSpPr>
          <p:spPr>
            <a:xfrm>
              <a:off x="914400" y="1752480"/>
              <a:ext cx="8077320" cy="4724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35" name="" descr=""/>
            <p:cNvPicPr/>
            <p:nvPr/>
          </p:nvPicPr>
          <p:blipFill>
            <a:blip r:embed="rId2"/>
            <a:stretch/>
          </p:blipFill>
          <p:spPr>
            <a:xfrm>
              <a:off x="990720" y="5867280"/>
              <a:ext cx="52848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6" name=""/>
            <p:cNvSpPr/>
            <p:nvPr/>
          </p:nvSpPr>
          <p:spPr>
            <a:xfrm>
              <a:off x="875160" y="556272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Arch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1473120" y="5918040"/>
              <a:ext cx="94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(ABI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Interactions entre agents (Soumission d'une annotation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139" name=""/>
          <p:cNvGrpSpPr/>
          <p:nvPr/>
        </p:nvGrpSpPr>
        <p:grpSpPr>
          <a:xfrm>
            <a:off x="2359080" y="1905120"/>
            <a:ext cx="3127320" cy="1906560"/>
            <a:chOff x="2359080" y="1905120"/>
            <a:chExt cx="3127320" cy="1906560"/>
          </a:xfrm>
        </p:grpSpPr>
        <p:sp>
          <p:nvSpPr>
            <p:cNvPr id="3140" name=""/>
            <p:cNvSpPr/>
            <p:nvPr/>
          </p:nvSpPr>
          <p:spPr>
            <a:xfrm>
              <a:off x="3886200" y="22860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362320" y="1905120"/>
              <a:ext cx="312408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359080" y="2895480"/>
              <a:ext cx="312408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3429000" y="2362320"/>
              <a:ext cx="914400" cy="380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3507480" y="190512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9933"/>
                  </a:solidFill>
                  <a:latin typeface="Arial"/>
                </a:rPr>
                <a:t>Re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3583080" y="237636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Tit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363400" y="2909880"/>
              <a:ext cx="301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Littéral:</a:t>
              </a:r>
              <a:r>
                <a:rPr b="0" lang="fr-FR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0" lang="fr-FR" sz="1800" spc="-1" strike="noStrike">
                  <a:solidFill>
                    <a:srgbClr val="777777"/>
                  </a:solidFill>
                  <a:latin typeface="Arial"/>
                </a:rPr>
                <a:t>Négociation C-Net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362320" y="3429000"/>
              <a:ext cx="312408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364840" y="3443400"/>
              <a:ext cx="239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Littéral:</a:t>
              </a:r>
              <a:r>
                <a:rPr b="0" lang="fr-FR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0" lang="fr-FR" sz="1800" spc="-1" strike="noStrike">
                  <a:solidFill>
                    <a:srgbClr val="777777"/>
                  </a:solidFill>
                  <a:latin typeface="Arial"/>
                </a:rPr>
                <a:t>Xerces V3.4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3703680" y="304812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4465440" y="22860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1" name=""/>
          <p:cNvGrpSpPr/>
          <p:nvPr/>
        </p:nvGrpSpPr>
        <p:grpSpPr>
          <a:xfrm>
            <a:off x="853920" y="125280"/>
            <a:ext cx="8137800" cy="1551240"/>
            <a:chOff x="853920" y="125280"/>
            <a:chExt cx="8137800" cy="1551240"/>
          </a:xfrm>
        </p:grpSpPr>
        <p:sp>
          <p:nvSpPr>
            <p:cNvPr id="3152" name=""/>
            <p:cNvSpPr/>
            <p:nvPr/>
          </p:nvSpPr>
          <p:spPr>
            <a:xfrm>
              <a:off x="914400" y="152280"/>
              <a:ext cx="8077320" cy="152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3886200" y="6094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7162920" y="6094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362320" y="228600"/>
              <a:ext cx="312408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5638680" y="228600"/>
              <a:ext cx="327672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5638680" y="1219320"/>
              <a:ext cx="327672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359080" y="1219320"/>
              <a:ext cx="312408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3429000" y="685800"/>
              <a:ext cx="914400" cy="380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6705720" y="685800"/>
              <a:ext cx="914400" cy="380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3507480" y="22860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9933"/>
                  </a:solidFill>
                  <a:latin typeface="Arial"/>
                </a:rPr>
                <a:t>Arti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3583080" y="700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Tit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361600" y="1233360"/>
              <a:ext cx="312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Littéral:</a:t>
              </a:r>
              <a:r>
                <a:rPr b="0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0" sz="1800" spc="-1" strike="noStrike">
                  <a:solidFill>
                    <a:srgbClr val="777777"/>
                  </a:solidFill>
                  <a:latin typeface="Arial"/>
                </a:rPr>
                <a:t>Analyse CfP UMTS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6783840" y="22860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9933"/>
                  </a:solidFill>
                  <a:latin typeface="Arial"/>
                </a:rPr>
                <a:t>Arti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6758640" y="68580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Au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6632280" y="1233360"/>
              <a:ext cx="115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339933"/>
                  </a:solidFill>
                  <a:latin typeface="Arial"/>
                </a:rPr>
                <a:t>Person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67" name="" descr=""/>
            <p:cNvPicPr/>
            <p:nvPr/>
          </p:nvPicPr>
          <p:blipFill>
            <a:blip r:embed="rId3"/>
            <a:stretch/>
          </p:blipFill>
          <p:spPr>
            <a:xfrm>
              <a:off x="927000" y="380880"/>
              <a:ext cx="838440" cy="6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8" name=""/>
            <p:cNvSpPr/>
            <p:nvPr/>
          </p:nvSpPr>
          <p:spPr>
            <a:xfrm>
              <a:off x="853920" y="125280"/>
              <a:ext cx="141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Anno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9" name=""/>
          <p:cNvGrpSpPr/>
          <p:nvPr/>
        </p:nvGrpSpPr>
        <p:grpSpPr>
          <a:xfrm>
            <a:off x="5638680" y="1905120"/>
            <a:ext cx="3276720" cy="1373040"/>
            <a:chOff x="5638680" y="1905120"/>
            <a:chExt cx="3276720" cy="1373040"/>
          </a:xfrm>
        </p:grpSpPr>
        <p:sp>
          <p:nvSpPr>
            <p:cNvPr id="3170" name=""/>
            <p:cNvSpPr/>
            <p:nvPr/>
          </p:nvSpPr>
          <p:spPr>
            <a:xfrm>
              <a:off x="7162920" y="22860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5638680" y="1905120"/>
              <a:ext cx="327672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5638680" y="2895480"/>
              <a:ext cx="327672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6705720" y="2362320"/>
              <a:ext cx="914400" cy="380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6784200" y="190512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9933"/>
                  </a:solidFill>
                  <a:latin typeface="Arial"/>
                </a:rPr>
                <a:t>Re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6758640" y="236232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Au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6632280" y="2909880"/>
              <a:ext cx="115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339933"/>
                  </a:solidFill>
                  <a:latin typeface="Arial"/>
                </a:rPr>
                <a:t>Person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7697880" y="22860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8" name=""/>
          <p:cNvGrpSpPr/>
          <p:nvPr/>
        </p:nvGrpSpPr>
        <p:grpSpPr>
          <a:xfrm>
            <a:off x="1066680" y="990720"/>
            <a:ext cx="609840" cy="4572000"/>
            <a:chOff x="1066680" y="990720"/>
            <a:chExt cx="609840" cy="4572000"/>
          </a:xfrm>
        </p:grpSpPr>
        <p:sp>
          <p:nvSpPr>
            <p:cNvPr id="3179" name=""/>
            <p:cNvSpPr/>
            <p:nvPr/>
          </p:nvSpPr>
          <p:spPr>
            <a:xfrm>
              <a:off x="1066680" y="990720"/>
              <a:ext cx="609840" cy="4572000"/>
            </a:xfrm>
            <a:prstGeom prst="upDownArrow">
              <a:avLst>
                <a:gd name="adj1" fmla="val 58333"/>
                <a:gd name="adj2" fmla="val 58067"/>
              </a:avLst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 rot="16200000">
              <a:off x="573120" y="3081240"/>
              <a:ext cx="159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990000"/>
                  </a:solidFill>
                  <a:latin typeface="Times New Roman"/>
                </a:rPr>
                <a:t>Similarité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1" name=""/>
          <p:cNvGrpSpPr/>
          <p:nvPr/>
        </p:nvGrpSpPr>
        <p:grpSpPr>
          <a:xfrm>
            <a:off x="2209680" y="1828800"/>
            <a:ext cx="6705720" cy="4497480"/>
            <a:chOff x="2209680" y="1828800"/>
            <a:chExt cx="6705720" cy="4497480"/>
          </a:xfrm>
        </p:grpSpPr>
        <p:sp>
          <p:nvSpPr>
            <p:cNvPr id="3182" name=""/>
            <p:cNvSpPr/>
            <p:nvPr/>
          </p:nvSpPr>
          <p:spPr>
            <a:xfrm>
              <a:off x="7162920" y="38098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5638680" y="3429000"/>
              <a:ext cx="327672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5638680" y="4419720"/>
              <a:ext cx="327672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6705720" y="3886200"/>
              <a:ext cx="914400" cy="380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6784200" y="34290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9933"/>
                  </a:solidFill>
                  <a:latin typeface="Arial"/>
                </a:rPr>
                <a:t>Re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6758640" y="388620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Au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6631560" y="443376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339933"/>
                  </a:solidFill>
                  <a:latin typeface="Arial"/>
                </a:rPr>
                <a:t>Comit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7697880" y="3809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7162920" y="5334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638680" y="4952880"/>
              <a:ext cx="327672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5638680" y="5943600"/>
              <a:ext cx="327672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6705720" y="5410080"/>
              <a:ext cx="914400" cy="381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784200" y="4952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9933"/>
                  </a:solidFill>
                  <a:latin typeface="Arial"/>
                </a:rPr>
                <a:t>Liv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6758640" y="541008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Au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6632280" y="5958000"/>
              <a:ext cx="115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339933"/>
                  </a:solidFill>
                  <a:latin typeface="Arial"/>
                </a:rPr>
                <a:t>Person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7697880" y="53341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8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3886200" y="48006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362320" y="4419720"/>
              <a:ext cx="312408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359080" y="5410080"/>
              <a:ext cx="312408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3429000" y="4876920"/>
              <a:ext cx="914400" cy="380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3507480" y="441972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9933"/>
                  </a:solidFill>
                  <a:latin typeface="Arial"/>
                </a:rPr>
                <a:t>Liv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3583080" y="489096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Tit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2361960" y="5424480"/>
              <a:ext cx="295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Littéral:</a:t>
              </a:r>
              <a:r>
                <a:rPr b="0" lang="fr-FR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0" lang="fr-FR" sz="1800" spc="-1" strike="noStrike">
                  <a:solidFill>
                    <a:srgbClr val="777777"/>
                  </a:solidFill>
                  <a:latin typeface="Arial"/>
                </a:rPr>
                <a:t>Access en 2 jours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362320" y="5943600"/>
              <a:ext cx="312408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364480" y="5958000"/>
              <a:ext cx="27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Littéral:</a:t>
              </a:r>
              <a:r>
                <a:rPr b="0" lang="fr-FR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0" lang="fr-FR" sz="1800" spc="-1" strike="noStrike">
                  <a:solidFill>
                    <a:srgbClr val="777777"/>
                  </a:solidFill>
                  <a:latin typeface="Arial"/>
                </a:rPr>
                <a:t>Francs et Euros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3703680" y="556272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4465440" y="48006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4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209680" y="4114800"/>
              <a:ext cx="33530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5562720" y="1828800"/>
              <a:ext cx="0" cy="44956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5562720" y="3352680"/>
              <a:ext cx="33526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562720" y="4876920"/>
              <a:ext cx="33526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5511960" y="407664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5511960" y="3314880"/>
              <a:ext cx="7596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5511960" y="4838760"/>
              <a:ext cx="75960" cy="76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4B7BF-5F12-403E-ABF1-8335B4C3175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"/>
          <p:cNvSpPr/>
          <p:nvPr/>
        </p:nvSpPr>
        <p:spPr>
          <a:xfrm>
            <a:off x="914400" y="2438280"/>
            <a:ext cx="8077320" cy="396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Interactions entre agents (Soumission d'une annotation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8" name=""/>
              <p:cNvSpPr txBox="1"/>
              <p:nvPr/>
            </p:nvSpPr>
            <p:spPr>
              <a:xfrm>
                <a:off x="990720" y="2606760"/>
                <a:ext cx="449568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scisse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t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l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,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nary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9" name=""/>
          <p:cNvSpPr/>
          <p:nvPr/>
        </p:nvSpPr>
        <p:spPr>
          <a:xfrm>
            <a:off x="949680" y="3886200"/>
            <a:ext cx="648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im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Lit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Lit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= | Abscisse(Lit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- Abscisse(Lit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975240" y="4876920"/>
            <a:ext cx="687276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im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Lit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low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u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Lit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[B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low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u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= Min(Sim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(Lit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low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, Sim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(Lit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u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1" name=""/>
          <p:cNvGrpSpPr/>
          <p:nvPr/>
        </p:nvGrpSpPr>
        <p:grpSpPr>
          <a:xfrm>
            <a:off x="914400" y="76320"/>
            <a:ext cx="8077320" cy="2286000"/>
            <a:chOff x="914400" y="76320"/>
            <a:chExt cx="8077320" cy="2286000"/>
          </a:xfrm>
        </p:grpSpPr>
        <p:sp>
          <p:nvSpPr>
            <p:cNvPr id="3222" name=""/>
            <p:cNvSpPr/>
            <p:nvPr/>
          </p:nvSpPr>
          <p:spPr>
            <a:xfrm>
              <a:off x="914400" y="76320"/>
              <a:ext cx="8077320" cy="228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23" name="" descr=""/>
            <p:cNvPicPr/>
            <p:nvPr/>
          </p:nvPicPr>
          <p:blipFill>
            <a:blip r:embed="rId2"/>
            <a:stretch/>
          </p:blipFill>
          <p:spPr>
            <a:xfrm>
              <a:off x="927000" y="609480"/>
              <a:ext cx="838440" cy="6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4" name=""/>
            <p:cNvSpPr/>
            <p:nvPr/>
          </p:nvSpPr>
          <p:spPr>
            <a:xfrm>
              <a:off x="2743200" y="6094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1219320" y="228600"/>
              <a:ext cx="312408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1216080" y="1219320"/>
              <a:ext cx="312408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2286000" y="685800"/>
              <a:ext cx="914400" cy="380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2364480" y="22860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9933"/>
                  </a:solidFill>
                  <a:latin typeface="Arial"/>
                </a:rPr>
                <a:t>Arti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2440080" y="700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Tit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1218600" y="1233360"/>
              <a:ext cx="312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Littéral:</a:t>
              </a:r>
              <a:r>
                <a:rPr b="0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0" sz="1800" spc="-1" strike="noStrike">
                  <a:solidFill>
                    <a:srgbClr val="777777"/>
                  </a:solidFill>
                  <a:latin typeface="Arial"/>
                </a:rPr>
                <a:t>Analyse CfP UMTS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7089840" y="6094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5565600" y="228600"/>
              <a:ext cx="312444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5562720" y="1219320"/>
              <a:ext cx="312408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6632640" y="685800"/>
              <a:ext cx="914400" cy="380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6711120" y="2286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9933"/>
                  </a:solidFill>
                  <a:latin typeface="Arial"/>
                </a:rPr>
                <a:t>Re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6786720" y="700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Tit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5567040" y="1233360"/>
              <a:ext cx="301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Littéral:</a:t>
              </a:r>
              <a:r>
                <a:rPr b="0" lang="fr-FR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0" lang="fr-FR" sz="1800" spc="-1" strike="noStrike">
                  <a:solidFill>
                    <a:srgbClr val="777777"/>
                  </a:solidFill>
                  <a:latin typeface="Arial"/>
                </a:rPr>
                <a:t>Négociation C-Net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5565600" y="1752480"/>
              <a:ext cx="3124440" cy="381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5568480" y="1766880"/>
              <a:ext cx="239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Littéral:</a:t>
              </a:r>
              <a:r>
                <a:rPr b="0" lang="fr-FR" sz="18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r>
                <a:rPr b="0" lang="fr-FR" sz="1800" spc="-1" strike="noStrike">
                  <a:solidFill>
                    <a:srgbClr val="777777"/>
                  </a:solidFill>
                  <a:latin typeface="Arial"/>
                </a:rPr>
                <a:t>Xerces V3.4</a:t>
              </a: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"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6907320" y="13716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41" name="" descr=""/>
            <p:cNvPicPr/>
            <p:nvPr/>
          </p:nvPicPr>
          <p:blipFill>
            <a:blip r:embed="rId3"/>
            <a:stretch/>
          </p:blipFill>
          <p:spPr>
            <a:xfrm>
              <a:off x="8435880" y="647640"/>
              <a:ext cx="5288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2" name=""/>
            <p:cNvSpPr/>
            <p:nvPr/>
          </p:nvSpPr>
          <p:spPr>
            <a:xfrm>
              <a:off x="5029200" y="121932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sz="1800" spc="-1" strike="noStrike" baseline="-25000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5105520" y="169056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sz="1800" spc="-1" strike="noStrike" baseline="-25000">
                  <a:solidFill>
                    <a:srgbClr val="000000"/>
                  </a:solidFill>
                  <a:latin typeface="Arial"/>
                </a:rPr>
                <a:t>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4800600" y="152280"/>
              <a:ext cx="0" cy="2133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4533840" y="1371600"/>
              <a:ext cx="5335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B3AE2-3D0A-42D1-825D-3EE15CC5C3A0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"/>
          <p:cNvSpPr/>
          <p:nvPr/>
        </p:nvSpPr>
        <p:spPr>
          <a:xfrm>
            <a:off x="914400" y="1752480"/>
            <a:ext cx="8077320" cy="464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Interactions entre agents (Soumission d'une annotation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248" name=""/>
          <p:cNvGrpSpPr/>
          <p:nvPr/>
        </p:nvGrpSpPr>
        <p:grpSpPr>
          <a:xfrm>
            <a:off x="914400" y="76320"/>
            <a:ext cx="8077320" cy="1600200"/>
            <a:chOff x="914400" y="76320"/>
            <a:chExt cx="8077320" cy="1600200"/>
          </a:xfrm>
        </p:grpSpPr>
        <p:sp>
          <p:nvSpPr>
            <p:cNvPr id="3249" name=""/>
            <p:cNvSpPr/>
            <p:nvPr/>
          </p:nvSpPr>
          <p:spPr>
            <a:xfrm>
              <a:off x="914400" y="76320"/>
              <a:ext cx="8077320" cy="160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50" name="" descr=""/>
            <p:cNvPicPr/>
            <p:nvPr/>
          </p:nvPicPr>
          <p:blipFill>
            <a:blip r:embed="rId2"/>
            <a:stretch/>
          </p:blipFill>
          <p:spPr>
            <a:xfrm>
              <a:off x="927000" y="609480"/>
              <a:ext cx="838440" cy="6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1" name="" descr=""/>
            <p:cNvPicPr/>
            <p:nvPr/>
          </p:nvPicPr>
          <p:blipFill>
            <a:blip r:embed="rId3"/>
            <a:stretch/>
          </p:blipFill>
          <p:spPr>
            <a:xfrm>
              <a:off x="8435880" y="647640"/>
              <a:ext cx="5288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2" name=""/>
            <p:cNvSpPr/>
            <p:nvPr/>
          </p:nvSpPr>
          <p:spPr>
            <a:xfrm>
              <a:off x="5003640" y="15228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2743200" y="6094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1219320" y="228600"/>
              <a:ext cx="327636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1219320" y="1219320"/>
              <a:ext cx="327636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2286000" y="685800"/>
              <a:ext cx="914400" cy="380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2364480" y="22860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9933"/>
                  </a:solidFill>
                  <a:latin typeface="Arial"/>
                </a:rPr>
                <a:t>Arti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2338920" y="68580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Au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2212560" y="1233360"/>
              <a:ext cx="115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339933"/>
                  </a:solidFill>
                  <a:latin typeface="Arial"/>
                </a:rPr>
                <a:t>Person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7010280" y="6094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5486400" y="228600"/>
              <a:ext cx="327672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5486400" y="1219320"/>
              <a:ext cx="3276720" cy="380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6324480" y="685800"/>
              <a:ext cx="1371600" cy="380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6631920" y="2286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9933"/>
                  </a:solidFill>
                  <a:latin typeface="Arial"/>
                </a:rPr>
                <a:t>Re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6419880" y="685800"/>
              <a:ext cx="14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3300"/>
                  </a:solidFill>
                  <a:latin typeface="Arial"/>
                </a:rPr>
                <a:t>Co-Au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6479280" y="1233360"/>
              <a:ext cx="90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339933"/>
                  </a:solidFill>
                  <a:latin typeface="Arial"/>
                </a:rPr>
                <a:t>Comit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505320" y="914400"/>
              <a:ext cx="26668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4724280" y="1371600"/>
              <a:ext cx="5335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4724280" y="380880"/>
              <a:ext cx="5335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0" name=""/>
          <p:cNvGrpSpPr/>
          <p:nvPr/>
        </p:nvGrpSpPr>
        <p:grpSpPr>
          <a:xfrm>
            <a:off x="1143000" y="1676520"/>
            <a:ext cx="7619760" cy="1161000"/>
            <a:chOff x="1143000" y="1676520"/>
            <a:chExt cx="7619760" cy="1161000"/>
          </a:xfrm>
        </p:grpSpPr>
        <p:sp>
          <p:nvSpPr>
            <p:cNvPr id="3271" name=""/>
            <p:cNvSpPr/>
            <p:nvPr/>
          </p:nvSpPr>
          <p:spPr>
            <a:xfrm>
              <a:off x="3124080" y="1676520"/>
              <a:ext cx="327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Hiérarch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2" name=""/>
            <p:cNvGrpSpPr/>
            <p:nvPr/>
          </p:nvGrpSpPr>
          <p:grpSpPr>
            <a:xfrm>
              <a:off x="1143000" y="1981080"/>
              <a:ext cx="1782720" cy="728640"/>
              <a:chOff x="1143000" y="1981080"/>
              <a:chExt cx="1782720" cy="728640"/>
            </a:xfrm>
          </p:grpSpPr>
          <p:sp>
            <p:nvSpPr>
              <p:cNvPr id="3273" name=""/>
              <p:cNvSpPr/>
              <p:nvPr/>
            </p:nvSpPr>
            <p:spPr>
              <a:xfrm flipV="1">
                <a:off x="2426400" y="2325240"/>
                <a:ext cx="142560" cy="32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 flipH="1" flipV="1">
                <a:off x="2568960" y="2325240"/>
                <a:ext cx="285120" cy="32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 flipH="1" flipV="1">
                <a:off x="2212560" y="2004840"/>
                <a:ext cx="427680" cy="32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 flipV="1">
                <a:off x="1641960" y="2325240"/>
                <a:ext cx="0" cy="32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 flipV="1">
                <a:off x="2070000" y="2364840"/>
                <a:ext cx="498960" cy="24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 flipV="1">
                <a:off x="1249920" y="2325240"/>
                <a:ext cx="427680" cy="32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 flipV="1">
                <a:off x="1677960" y="2044800"/>
                <a:ext cx="498960" cy="24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80" name=""/>
              <p:cNvGrpSpPr/>
              <p:nvPr/>
            </p:nvGrpSpPr>
            <p:grpSpPr>
              <a:xfrm>
                <a:off x="1535040" y="2261520"/>
                <a:ext cx="249480" cy="144000"/>
                <a:chOff x="1535040" y="2261520"/>
                <a:chExt cx="249480" cy="144000"/>
              </a:xfrm>
            </p:grpSpPr>
            <p:sp>
              <p:nvSpPr>
                <p:cNvPr id="3281" name=""/>
                <p:cNvSpPr/>
                <p:nvPr/>
              </p:nvSpPr>
              <p:spPr>
                <a:xfrm>
                  <a:off x="1535040" y="2269080"/>
                  <a:ext cx="249480" cy="111600"/>
                </a:xfrm>
                <a:prstGeom prst="parallelogram">
                  <a:avLst>
                    <a:gd name="adj" fmla="val 55887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2" name=""/>
                <p:cNvSpPr/>
                <p:nvPr/>
              </p:nvSpPr>
              <p:spPr>
                <a:xfrm>
                  <a:off x="1596240" y="2261520"/>
                  <a:ext cx="18252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3" name=""/>
              <p:cNvGrpSpPr/>
              <p:nvPr/>
            </p:nvGrpSpPr>
            <p:grpSpPr>
              <a:xfrm>
                <a:off x="2105640" y="1981080"/>
                <a:ext cx="249480" cy="144000"/>
                <a:chOff x="2105640" y="1981080"/>
                <a:chExt cx="249480" cy="144000"/>
              </a:xfrm>
            </p:grpSpPr>
            <p:sp>
              <p:nvSpPr>
                <p:cNvPr id="3284" name=""/>
                <p:cNvSpPr/>
                <p:nvPr/>
              </p:nvSpPr>
              <p:spPr>
                <a:xfrm>
                  <a:off x="2105640" y="1988640"/>
                  <a:ext cx="249480" cy="111600"/>
                </a:xfrm>
                <a:prstGeom prst="parallelogram">
                  <a:avLst>
                    <a:gd name="adj" fmla="val 55887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>
                  <a:off x="2166840" y="1981080"/>
                  <a:ext cx="18252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6" name=""/>
              <p:cNvGrpSpPr/>
              <p:nvPr/>
            </p:nvGrpSpPr>
            <p:grpSpPr>
              <a:xfrm>
                <a:off x="2462040" y="2285280"/>
                <a:ext cx="249480" cy="143640"/>
                <a:chOff x="2462040" y="2285280"/>
                <a:chExt cx="249480" cy="143640"/>
              </a:xfrm>
            </p:grpSpPr>
            <p:sp>
              <p:nvSpPr>
                <p:cNvPr id="3287" name=""/>
                <p:cNvSpPr/>
                <p:nvPr/>
              </p:nvSpPr>
              <p:spPr>
                <a:xfrm>
                  <a:off x="2462040" y="2292840"/>
                  <a:ext cx="249480" cy="111240"/>
                </a:xfrm>
                <a:prstGeom prst="parallelogram">
                  <a:avLst>
                    <a:gd name="adj" fmla="val 56068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>
                  <a:off x="2523240" y="2285280"/>
                  <a:ext cx="182520" cy="14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9" name=""/>
              <p:cNvGrpSpPr/>
              <p:nvPr/>
            </p:nvGrpSpPr>
            <p:grpSpPr>
              <a:xfrm>
                <a:off x="1143000" y="2565720"/>
                <a:ext cx="249480" cy="144000"/>
                <a:chOff x="1143000" y="2565720"/>
                <a:chExt cx="249480" cy="144000"/>
              </a:xfrm>
            </p:grpSpPr>
            <p:sp>
              <p:nvSpPr>
                <p:cNvPr id="3290" name=""/>
                <p:cNvSpPr/>
                <p:nvPr/>
              </p:nvSpPr>
              <p:spPr>
                <a:xfrm>
                  <a:off x="1143000" y="2573280"/>
                  <a:ext cx="249480" cy="111600"/>
                </a:xfrm>
                <a:prstGeom prst="parallelogram">
                  <a:avLst>
                    <a:gd name="adj" fmla="val 55887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1" name=""/>
                <p:cNvSpPr/>
                <p:nvPr/>
              </p:nvSpPr>
              <p:spPr>
                <a:xfrm>
                  <a:off x="1204200" y="2565720"/>
                  <a:ext cx="18252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2" name=""/>
              <p:cNvGrpSpPr/>
              <p:nvPr/>
            </p:nvGrpSpPr>
            <p:grpSpPr>
              <a:xfrm>
                <a:off x="1499400" y="2565720"/>
                <a:ext cx="249480" cy="144000"/>
                <a:chOff x="1499400" y="2565720"/>
                <a:chExt cx="249480" cy="144000"/>
              </a:xfrm>
            </p:grpSpPr>
            <p:sp>
              <p:nvSpPr>
                <p:cNvPr id="3293" name=""/>
                <p:cNvSpPr/>
                <p:nvPr/>
              </p:nvSpPr>
              <p:spPr>
                <a:xfrm>
                  <a:off x="1499400" y="2573280"/>
                  <a:ext cx="249480" cy="111600"/>
                </a:xfrm>
                <a:prstGeom prst="parallelogram">
                  <a:avLst>
                    <a:gd name="adj" fmla="val 55887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>
                  <a:off x="1560600" y="2565720"/>
                  <a:ext cx="18252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5" name=""/>
              <p:cNvGrpSpPr/>
              <p:nvPr/>
            </p:nvGrpSpPr>
            <p:grpSpPr>
              <a:xfrm>
                <a:off x="1963080" y="2565720"/>
                <a:ext cx="249480" cy="144000"/>
                <a:chOff x="1963080" y="2565720"/>
                <a:chExt cx="249480" cy="144000"/>
              </a:xfrm>
            </p:grpSpPr>
            <p:sp>
              <p:nvSpPr>
                <p:cNvPr id="3296" name=""/>
                <p:cNvSpPr/>
                <p:nvPr/>
              </p:nvSpPr>
              <p:spPr>
                <a:xfrm>
                  <a:off x="1963080" y="2573280"/>
                  <a:ext cx="249480" cy="111600"/>
                </a:xfrm>
                <a:prstGeom prst="parallelogram">
                  <a:avLst>
                    <a:gd name="adj" fmla="val 55887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7" name=""/>
                <p:cNvSpPr/>
                <p:nvPr/>
              </p:nvSpPr>
              <p:spPr>
                <a:xfrm>
                  <a:off x="2024280" y="2565720"/>
                  <a:ext cx="18252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8" name=""/>
              <p:cNvGrpSpPr/>
              <p:nvPr/>
            </p:nvGrpSpPr>
            <p:grpSpPr>
              <a:xfrm>
                <a:off x="2319480" y="2565720"/>
                <a:ext cx="249480" cy="144000"/>
                <a:chOff x="2319480" y="2565720"/>
                <a:chExt cx="249480" cy="144000"/>
              </a:xfrm>
            </p:grpSpPr>
            <p:sp>
              <p:nvSpPr>
                <p:cNvPr id="3299" name=""/>
                <p:cNvSpPr/>
                <p:nvPr/>
              </p:nvSpPr>
              <p:spPr>
                <a:xfrm>
                  <a:off x="2319480" y="2573280"/>
                  <a:ext cx="249480" cy="111600"/>
                </a:xfrm>
                <a:prstGeom prst="parallelogram">
                  <a:avLst>
                    <a:gd name="adj" fmla="val 55887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>
                  <a:off x="2380680" y="2565720"/>
                  <a:ext cx="18252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7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1" name=""/>
              <p:cNvGrpSpPr/>
              <p:nvPr/>
            </p:nvGrpSpPr>
            <p:grpSpPr>
              <a:xfrm>
                <a:off x="2676240" y="2565720"/>
                <a:ext cx="249480" cy="144000"/>
                <a:chOff x="2676240" y="2565720"/>
                <a:chExt cx="249480" cy="144000"/>
              </a:xfrm>
            </p:grpSpPr>
            <p:sp>
              <p:nvSpPr>
                <p:cNvPr id="3302" name=""/>
                <p:cNvSpPr/>
                <p:nvPr/>
              </p:nvSpPr>
              <p:spPr>
                <a:xfrm>
                  <a:off x="2676240" y="2573280"/>
                  <a:ext cx="249480" cy="111600"/>
                </a:xfrm>
                <a:prstGeom prst="parallelogram">
                  <a:avLst>
                    <a:gd name="adj" fmla="val 55887"/>
                  </a:avLst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3" name=""/>
                <p:cNvSpPr/>
                <p:nvPr/>
              </p:nvSpPr>
              <p:spPr>
                <a:xfrm>
                  <a:off x="2737440" y="2565720"/>
                  <a:ext cx="18252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C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8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04" name=""/>
            <p:cNvGrpSpPr/>
            <p:nvPr/>
          </p:nvGrpSpPr>
          <p:grpSpPr>
            <a:xfrm>
              <a:off x="6454800" y="1905120"/>
              <a:ext cx="2307960" cy="825480"/>
              <a:chOff x="6454800" y="1905120"/>
              <a:chExt cx="2307960" cy="825480"/>
            </a:xfrm>
          </p:grpSpPr>
          <p:sp>
            <p:nvSpPr>
              <p:cNvPr id="3305" name=""/>
              <p:cNvSpPr/>
              <p:nvPr/>
            </p:nvSpPr>
            <p:spPr>
              <a:xfrm flipH="1">
                <a:off x="7487640" y="1985040"/>
                <a:ext cx="284760" cy="68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 flipH="1">
                <a:off x="6774840" y="2305800"/>
                <a:ext cx="855000" cy="36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7773120" y="1985040"/>
                <a:ext cx="676800" cy="32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7630200" y="2345760"/>
                <a:ext cx="676800" cy="32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09" name=""/>
              <p:cNvGrpSpPr/>
              <p:nvPr/>
            </p:nvGrpSpPr>
            <p:grpSpPr>
              <a:xfrm>
                <a:off x="7452360" y="1905120"/>
                <a:ext cx="633600" cy="144000"/>
                <a:chOff x="7452360" y="1905120"/>
                <a:chExt cx="633600" cy="144000"/>
              </a:xfrm>
            </p:grpSpPr>
            <p:grpSp>
              <p:nvGrpSpPr>
                <p:cNvPr id="3310" name=""/>
                <p:cNvGrpSpPr/>
                <p:nvPr/>
              </p:nvGrpSpPr>
              <p:grpSpPr>
                <a:xfrm>
                  <a:off x="7452360" y="1911960"/>
                  <a:ext cx="633600" cy="120240"/>
                  <a:chOff x="7452360" y="1911960"/>
                  <a:chExt cx="633600" cy="120240"/>
                </a:xfrm>
              </p:grpSpPr>
              <p:sp>
                <p:nvSpPr>
                  <p:cNvPr id="3311" name=""/>
                  <p:cNvSpPr/>
                  <p:nvPr/>
                </p:nvSpPr>
                <p:spPr>
                  <a:xfrm>
                    <a:off x="7528320" y="1973160"/>
                    <a:ext cx="4629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2" name=""/>
                  <p:cNvSpPr/>
                  <p:nvPr/>
                </p:nvSpPr>
                <p:spPr>
                  <a:xfrm>
                    <a:off x="7452360" y="1928880"/>
                    <a:ext cx="177840" cy="80280"/>
                  </a:xfrm>
                  <a:prstGeom prst="parallelogram">
                    <a:avLst>
                      <a:gd name="adj" fmla="val 55381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3" name=""/>
                  <p:cNvSpPr/>
                  <p:nvPr/>
                </p:nvSpPr>
                <p:spPr>
                  <a:xfrm>
                    <a:off x="7642800" y="1911960"/>
                    <a:ext cx="249120" cy="120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4" name=""/>
                  <p:cNvSpPr/>
                  <p:nvPr/>
                </p:nvSpPr>
                <p:spPr>
                  <a:xfrm>
                    <a:off x="7908120" y="1928880"/>
                    <a:ext cx="177840" cy="80280"/>
                  </a:xfrm>
                  <a:prstGeom prst="parallelogram">
                    <a:avLst>
                      <a:gd name="adj" fmla="val 55381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15" name=""/>
                <p:cNvSpPr/>
                <p:nvPr/>
              </p:nvSpPr>
              <p:spPr>
                <a:xfrm>
                  <a:off x="7714800" y="1905120"/>
                  <a:ext cx="17244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6" name=""/>
              <p:cNvGrpSpPr/>
              <p:nvPr/>
            </p:nvGrpSpPr>
            <p:grpSpPr>
              <a:xfrm>
                <a:off x="7309800" y="2241720"/>
                <a:ext cx="633600" cy="144000"/>
                <a:chOff x="7309800" y="2241720"/>
                <a:chExt cx="633600" cy="144000"/>
              </a:xfrm>
            </p:grpSpPr>
            <p:grpSp>
              <p:nvGrpSpPr>
                <p:cNvPr id="3317" name=""/>
                <p:cNvGrpSpPr/>
                <p:nvPr/>
              </p:nvGrpSpPr>
              <p:grpSpPr>
                <a:xfrm>
                  <a:off x="7309800" y="2248560"/>
                  <a:ext cx="633600" cy="120240"/>
                  <a:chOff x="7309800" y="2248560"/>
                  <a:chExt cx="633600" cy="120240"/>
                </a:xfrm>
              </p:grpSpPr>
              <p:sp>
                <p:nvSpPr>
                  <p:cNvPr id="3318" name=""/>
                  <p:cNvSpPr/>
                  <p:nvPr/>
                </p:nvSpPr>
                <p:spPr>
                  <a:xfrm>
                    <a:off x="7385760" y="2309760"/>
                    <a:ext cx="4629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9" name=""/>
                  <p:cNvSpPr/>
                  <p:nvPr/>
                </p:nvSpPr>
                <p:spPr>
                  <a:xfrm>
                    <a:off x="7309800" y="2265480"/>
                    <a:ext cx="177840" cy="80280"/>
                  </a:xfrm>
                  <a:prstGeom prst="parallelogram">
                    <a:avLst>
                      <a:gd name="adj" fmla="val 55381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0" name=""/>
                  <p:cNvSpPr/>
                  <p:nvPr/>
                </p:nvSpPr>
                <p:spPr>
                  <a:xfrm>
                    <a:off x="7500240" y="2248560"/>
                    <a:ext cx="249120" cy="120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1" name=""/>
                  <p:cNvSpPr/>
                  <p:nvPr/>
                </p:nvSpPr>
                <p:spPr>
                  <a:xfrm>
                    <a:off x="7765560" y="2265480"/>
                    <a:ext cx="177840" cy="80280"/>
                  </a:xfrm>
                  <a:prstGeom prst="parallelogram">
                    <a:avLst>
                      <a:gd name="adj" fmla="val 55381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22" name=""/>
                <p:cNvSpPr/>
                <p:nvPr/>
              </p:nvSpPr>
              <p:spPr>
                <a:xfrm>
                  <a:off x="7572240" y="2241720"/>
                  <a:ext cx="17244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3" name=""/>
              <p:cNvGrpSpPr/>
              <p:nvPr/>
            </p:nvGrpSpPr>
            <p:grpSpPr>
              <a:xfrm>
                <a:off x="6454800" y="2586600"/>
                <a:ext cx="633600" cy="144000"/>
                <a:chOff x="6454800" y="2586600"/>
                <a:chExt cx="633600" cy="144000"/>
              </a:xfrm>
            </p:grpSpPr>
            <p:grpSp>
              <p:nvGrpSpPr>
                <p:cNvPr id="3324" name=""/>
                <p:cNvGrpSpPr/>
                <p:nvPr/>
              </p:nvGrpSpPr>
              <p:grpSpPr>
                <a:xfrm>
                  <a:off x="6454800" y="2593440"/>
                  <a:ext cx="633600" cy="120240"/>
                  <a:chOff x="6454800" y="2593440"/>
                  <a:chExt cx="633600" cy="120240"/>
                </a:xfrm>
              </p:grpSpPr>
              <p:sp>
                <p:nvSpPr>
                  <p:cNvPr id="3325" name=""/>
                  <p:cNvSpPr/>
                  <p:nvPr/>
                </p:nvSpPr>
                <p:spPr>
                  <a:xfrm>
                    <a:off x="6530760" y="2654640"/>
                    <a:ext cx="4629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6" name=""/>
                  <p:cNvSpPr/>
                  <p:nvPr/>
                </p:nvSpPr>
                <p:spPr>
                  <a:xfrm>
                    <a:off x="6454800" y="2610360"/>
                    <a:ext cx="177840" cy="80280"/>
                  </a:xfrm>
                  <a:prstGeom prst="parallelogram">
                    <a:avLst>
                      <a:gd name="adj" fmla="val 55381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7" name=""/>
                  <p:cNvSpPr/>
                  <p:nvPr/>
                </p:nvSpPr>
                <p:spPr>
                  <a:xfrm>
                    <a:off x="6645240" y="2593440"/>
                    <a:ext cx="249120" cy="120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8" name=""/>
                  <p:cNvSpPr/>
                  <p:nvPr/>
                </p:nvSpPr>
                <p:spPr>
                  <a:xfrm>
                    <a:off x="6910560" y="2610360"/>
                    <a:ext cx="177840" cy="80280"/>
                  </a:xfrm>
                  <a:prstGeom prst="parallelogram">
                    <a:avLst>
                      <a:gd name="adj" fmla="val 55381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29" name=""/>
                <p:cNvSpPr/>
                <p:nvPr/>
              </p:nvSpPr>
              <p:spPr>
                <a:xfrm>
                  <a:off x="6717240" y="2586600"/>
                  <a:ext cx="17244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0" name=""/>
              <p:cNvGrpSpPr/>
              <p:nvPr/>
            </p:nvGrpSpPr>
            <p:grpSpPr>
              <a:xfrm>
                <a:off x="7167240" y="2586600"/>
                <a:ext cx="633600" cy="144000"/>
                <a:chOff x="7167240" y="2586600"/>
                <a:chExt cx="633600" cy="144000"/>
              </a:xfrm>
            </p:grpSpPr>
            <p:grpSp>
              <p:nvGrpSpPr>
                <p:cNvPr id="3331" name=""/>
                <p:cNvGrpSpPr/>
                <p:nvPr/>
              </p:nvGrpSpPr>
              <p:grpSpPr>
                <a:xfrm>
                  <a:off x="7167240" y="2593440"/>
                  <a:ext cx="633600" cy="120240"/>
                  <a:chOff x="7167240" y="2593440"/>
                  <a:chExt cx="633600" cy="120240"/>
                </a:xfrm>
              </p:grpSpPr>
              <p:sp>
                <p:nvSpPr>
                  <p:cNvPr id="3332" name=""/>
                  <p:cNvSpPr/>
                  <p:nvPr/>
                </p:nvSpPr>
                <p:spPr>
                  <a:xfrm>
                    <a:off x="7243200" y="2654640"/>
                    <a:ext cx="4629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3" name=""/>
                  <p:cNvSpPr/>
                  <p:nvPr/>
                </p:nvSpPr>
                <p:spPr>
                  <a:xfrm>
                    <a:off x="7167240" y="2610360"/>
                    <a:ext cx="177840" cy="80280"/>
                  </a:xfrm>
                  <a:prstGeom prst="parallelogram">
                    <a:avLst>
                      <a:gd name="adj" fmla="val 55381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4" name=""/>
                  <p:cNvSpPr/>
                  <p:nvPr/>
                </p:nvSpPr>
                <p:spPr>
                  <a:xfrm>
                    <a:off x="7357680" y="2593440"/>
                    <a:ext cx="249120" cy="120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5" name=""/>
                  <p:cNvSpPr/>
                  <p:nvPr/>
                </p:nvSpPr>
                <p:spPr>
                  <a:xfrm>
                    <a:off x="7623000" y="2610360"/>
                    <a:ext cx="177840" cy="80280"/>
                  </a:xfrm>
                  <a:prstGeom prst="parallelogram">
                    <a:avLst>
                      <a:gd name="adj" fmla="val 55381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36" name=""/>
                <p:cNvSpPr/>
                <p:nvPr/>
              </p:nvSpPr>
              <p:spPr>
                <a:xfrm>
                  <a:off x="7429680" y="2586600"/>
                  <a:ext cx="17244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7" name=""/>
              <p:cNvGrpSpPr/>
              <p:nvPr/>
            </p:nvGrpSpPr>
            <p:grpSpPr>
              <a:xfrm>
                <a:off x="7887240" y="2586600"/>
                <a:ext cx="633600" cy="144000"/>
                <a:chOff x="7887240" y="2586600"/>
                <a:chExt cx="633600" cy="144000"/>
              </a:xfrm>
            </p:grpSpPr>
            <p:grpSp>
              <p:nvGrpSpPr>
                <p:cNvPr id="3338" name=""/>
                <p:cNvGrpSpPr/>
                <p:nvPr/>
              </p:nvGrpSpPr>
              <p:grpSpPr>
                <a:xfrm>
                  <a:off x="7887240" y="2593440"/>
                  <a:ext cx="633600" cy="120240"/>
                  <a:chOff x="7887240" y="2593440"/>
                  <a:chExt cx="633600" cy="120240"/>
                </a:xfrm>
              </p:grpSpPr>
              <p:sp>
                <p:nvSpPr>
                  <p:cNvPr id="3339" name=""/>
                  <p:cNvSpPr/>
                  <p:nvPr/>
                </p:nvSpPr>
                <p:spPr>
                  <a:xfrm>
                    <a:off x="7963200" y="2654640"/>
                    <a:ext cx="4629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0" name=""/>
                  <p:cNvSpPr/>
                  <p:nvPr/>
                </p:nvSpPr>
                <p:spPr>
                  <a:xfrm>
                    <a:off x="7887240" y="2610360"/>
                    <a:ext cx="177840" cy="80280"/>
                  </a:xfrm>
                  <a:prstGeom prst="parallelogram">
                    <a:avLst>
                      <a:gd name="adj" fmla="val 55381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1" name=""/>
                  <p:cNvSpPr/>
                  <p:nvPr/>
                </p:nvSpPr>
                <p:spPr>
                  <a:xfrm>
                    <a:off x="8077680" y="2593440"/>
                    <a:ext cx="249120" cy="120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2" name=""/>
                  <p:cNvSpPr/>
                  <p:nvPr/>
                </p:nvSpPr>
                <p:spPr>
                  <a:xfrm>
                    <a:off x="8343000" y="2610360"/>
                    <a:ext cx="177840" cy="80280"/>
                  </a:xfrm>
                  <a:prstGeom prst="parallelogram">
                    <a:avLst>
                      <a:gd name="adj" fmla="val 55381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43" name=""/>
                <p:cNvSpPr/>
                <p:nvPr/>
              </p:nvSpPr>
              <p:spPr>
                <a:xfrm>
                  <a:off x="8149680" y="2586600"/>
                  <a:ext cx="17244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4" name=""/>
              <p:cNvGrpSpPr/>
              <p:nvPr/>
            </p:nvGrpSpPr>
            <p:grpSpPr>
              <a:xfrm>
                <a:off x="8129160" y="2236680"/>
                <a:ext cx="633600" cy="144000"/>
                <a:chOff x="8129160" y="2236680"/>
                <a:chExt cx="633600" cy="144000"/>
              </a:xfrm>
            </p:grpSpPr>
            <p:grpSp>
              <p:nvGrpSpPr>
                <p:cNvPr id="3345" name=""/>
                <p:cNvGrpSpPr/>
                <p:nvPr/>
              </p:nvGrpSpPr>
              <p:grpSpPr>
                <a:xfrm>
                  <a:off x="8129160" y="2243520"/>
                  <a:ext cx="633600" cy="120240"/>
                  <a:chOff x="8129160" y="2243520"/>
                  <a:chExt cx="633600" cy="120240"/>
                </a:xfrm>
              </p:grpSpPr>
              <p:sp>
                <p:nvSpPr>
                  <p:cNvPr id="3346" name=""/>
                  <p:cNvSpPr/>
                  <p:nvPr/>
                </p:nvSpPr>
                <p:spPr>
                  <a:xfrm>
                    <a:off x="8205120" y="2304720"/>
                    <a:ext cx="462960" cy="0"/>
                  </a:xfrm>
                  <a:prstGeom prst="line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7" name=""/>
                  <p:cNvSpPr/>
                  <p:nvPr/>
                </p:nvSpPr>
                <p:spPr>
                  <a:xfrm>
                    <a:off x="8129160" y="2260440"/>
                    <a:ext cx="177840" cy="80280"/>
                  </a:xfrm>
                  <a:prstGeom prst="parallelogram">
                    <a:avLst>
                      <a:gd name="adj" fmla="val 55381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8" name=""/>
                  <p:cNvSpPr/>
                  <p:nvPr/>
                </p:nvSpPr>
                <p:spPr>
                  <a:xfrm>
                    <a:off x="8319600" y="2243520"/>
                    <a:ext cx="249120" cy="120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9" name=""/>
                  <p:cNvSpPr/>
                  <p:nvPr/>
                </p:nvSpPr>
                <p:spPr>
                  <a:xfrm>
                    <a:off x="8584920" y="2260440"/>
                    <a:ext cx="177840" cy="80280"/>
                  </a:xfrm>
                  <a:prstGeom prst="parallelogram">
                    <a:avLst>
                      <a:gd name="adj" fmla="val 55381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50" name=""/>
                <p:cNvSpPr/>
                <p:nvPr/>
              </p:nvSpPr>
              <p:spPr>
                <a:xfrm>
                  <a:off x="8391600" y="2236680"/>
                  <a:ext cx="17244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800" spc="-1" strike="noStrike">
                      <a:solidFill>
                        <a:srgbClr val="000000"/>
                      </a:solidFill>
                      <a:latin typeface="Courier New"/>
                    </a:rPr>
                    <a:t>R</a:t>
                  </a:r>
                  <a:r>
                    <a:rPr b="1" i="1" lang="fr-FR" sz="800" spc="-1" strike="noStrike" baseline="-25000">
                      <a:solidFill>
                        <a:srgbClr val="000000"/>
                      </a:solidFill>
                      <a:latin typeface="Courier New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51" name=""/>
            <p:cNvSpPr/>
            <p:nvPr/>
          </p:nvSpPr>
          <p:spPr>
            <a:xfrm>
              <a:off x="2895480" y="211788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Types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Concep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5029200" y="213372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Types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Rel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3" name=""/>
          <p:cNvGrpSpPr/>
          <p:nvPr/>
        </p:nvGrpSpPr>
        <p:grpSpPr>
          <a:xfrm>
            <a:off x="1022040" y="2819520"/>
            <a:ext cx="8121960" cy="967320"/>
            <a:chOff x="1022040" y="2819520"/>
            <a:chExt cx="8121960" cy="967320"/>
          </a:xfrm>
        </p:grpSpPr>
        <p:sp>
          <p:nvSpPr>
            <p:cNvPr id="3354" name=""/>
            <p:cNvSpPr/>
            <p:nvPr/>
          </p:nvSpPr>
          <p:spPr>
            <a:xfrm>
              <a:off x="1022040" y="2819520"/>
              <a:ext cx="6963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Sim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(Type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,Type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) = Longueur P.C.C de Type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à Type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3276720" y="3276720"/>
              <a:ext cx="5867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Non connectés: (Max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*2+1) ou (Max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*2+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6" name=""/>
          <p:cNvSpPr/>
          <p:nvPr/>
        </p:nvSpPr>
        <p:spPr>
          <a:xfrm>
            <a:off x="990720" y="3733920"/>
            <a:ext cx="670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im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TL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Type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Lit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= (Max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*2+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990720" y="4267080"/>
            <a:ext cx="7619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Sim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(Triple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, Triple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) =  Sim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+ Sim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+ Sim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990720" y="4800600"/>
            <a:ext cx="800100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im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Ci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* Sim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Type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Type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ou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* Sim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Type,L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ou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* N * Sim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Lit,B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low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u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N = Max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*2/ Max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2FE3C-C345-46F6-982D-AB49F9E5668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9" name=""/>
          <p:cNvGrpSpPr/>
          <p:nvPr/>
        </p:nvGrpSpPr>
        <p:grpSpPr>
          <a:xfrm>
            <a:off x="873000" y="76320"/>
            <a:ext cx="8118720" cy="3809880"/>
            <a:chOff x="873000" y="76320"/>
            <a:chExt cx="8118720" cy="3809880"/>
          </a:xfrm>
        </p:grpSpPr>
        <p:sp>
          <p:nvSpPr>
            <p:cNvPr id="3360" name=""/>
            <p:cNvSpPr/>
            <p:nvPr/>
          </p:nvSpPr>
          <p:spPr>
            <a:xfrm>
              <a:off x="914400" y="76320"/>
              <a:ext cx="8077320" cy="3809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61" name="" descr=""/>
            <p:cNvPicPr/>
            <p:nvPr/>
          </p:nvPicPr>
          <p:blipFill>
            <a:blip r:embed="rId2"/>
            <a:stretch/>
          </p:blipFill>
          <p:spPr>
            <a:xfrm>
              <a:off x="2266920" y="88920"/>
              <a:ext cx="838080" cy="63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2" name="" descr=""/>
            <p:cNvPicPr/>
            <p:nvPr/>
          </p:nvPicPr>
          <p:blipFill>
            <a:blip r:embed="rId3"/>
            <a:stretch/>
          </p:blipFill>
          <p:spPr>
            <a:xfrm>
              <a:off x="3778200" y="152280"/>
              <a:ext cx="5288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3" name=""/>
            <p:cNvSpPr/>
            <p:nvPr/>
          </p:nvSpPr>
          <p:spPr>
            <a:xfrm>
              <a:off x="3168720" y="393840"/>
              <a:ext cx="5331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4275000" y="17784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AB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873000" y="152280"/>
              <a:ext cx="141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Anno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Interactions entre agents (Soumission d'une annotation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367" name=""/>
          <p:cNvGrpSpPr/>
          <p:nvPr/>
        </p:nvGrpSpPr>
        <p:grpSpPr>
          <a:xfrm>
            <a:off x="990720" y="838080"/>
            <a:ext cx="7924680" cy="914400"/>
            <a:chOff x="990720" y="838080"/>
            <a:chExt cx="7924680" cy="914400"/>
          </a:xfrm>
        </p:grpSpPr>
        <p:sp>
          <p:nvSpPr>
            <p:cNvPr id="3368" name=""/>
            <p:cNvSpPr/>
            <p:nvPr/>
          </p:nvSpPr>
          <p:spPr>
            <a:xfrm>
              <a:off x="990720" y="838080"/>
              <a:ext cx="79246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Sim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ABIS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(Triple,ABIS) = Min(Sim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(Triple,Triple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3352680" y="1143000"/>
              <a:ext cx="2133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Triplet</a:t>
              </a:r>
              <a:r>
                <a:rPr b="0" sz="2400" spc="-1" strike="noStrike" baseline="-25000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0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 AB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70" name=""/>
              <p:cNvSpPr txBox="1"/>
              <p:nvPr/>
            </p:nvSpPr>
            <p:spPr>
              <a:xfrm>
                <a:off x="1066680" y="1762200"/>
                <a:ext cx="57150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m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 ABI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ipl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ipl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ABI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71" name=""/>
          <p:cNvSpPr/>
          <p:nvPr/>
        </p:nvSpPr>
        <p:spPr>
          <a:xfrm>
            <a:off x="1046520" y="3352680"/>
            <a:ext cx="701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Sim(An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, AA</a:t>
            </a:r>
            <a:r>
              <a:rPr b="1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= Sim(An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ABIS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+ Sim(An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CAP</a:t>
            </a:r>
            <a:r>
              <a:rPr b="0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2" name=""/>
          <p:cNvGrpSpPr/>
          <p:nvPr/>
        </p:nvGrpSpPr>
        <p:grpSpPr>
          <a:xfrm>
            <a:off x="1066680" y="2514600"/>
            <a:ext cx="7805880" cy="840600"/>
            <a:chOff x="1066680" y="2514600"/>
            <a:chExt cx="7805880" cy="840600"/>
          </a:xfrm>
        </p:grpSpPr>
        <mc:AlternateContent>
          <mc:Choice xmlns:a14="http://schemas.microsoft.com/office/drawing/2010/main" Requires="a14">
            <p:sp>
              <p:nvSpPr>
                <p:cNvPr id="3373" name=""/>
                <p:cNvSpPr txBox="1"/>
                <p:nvPr/>
              </p:nvSpPr>
              <p:spPr>
                <a:xfrm>
                  <a:off x="1066680" y="2514600"/>
                  <a:ext cx="556272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m</m:t>
                      </m:r>
                      <m:r>
                        <m:t xml:space="preserve">(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An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, CAP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iple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∈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sub>
                        <m:sup/>
                        <m:e>
                          <m:r>
                            <m:rPr>
                              <m:lit/>
                              <m:nor/>
                            </m:rPr>
                            <m:t xml:space="preserve">Sim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iple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,CAP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374" name=""/>
            <p:cNvSpPr/>
            <p:nvPr/>
          </p:nvSpPr>
          <p:spPr>
            <a:xfrm>
              <a:off x="6095880" y="2895480"/>
              <a:ext cx="277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sous-type </a:t>
              </a:r>
              <a:r>
                <a:rPr b="0" lang="fr-FR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Sim =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5" name="PlaceHolder 2"/>
          <p:cNvSpPr>
            <a:spLocks noGrp="1"/>
          </p:cNvSpPr>
          <p:nvPr>
            <p:ph/>
          </p:nvPr>
        </p:nvSpPr>
        <p:spPr>
          <a:xfrm>
            <a:off x="343080" y="3962520"/>
            <a:ext cx="85341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2280" indent="-422280">
              <a:lnSpc>
                <a:spcPct val="8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Critère d'allocation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874800" indent="-27144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AA ayant la similarité la plus petite : rassemble les annotations ayant des contributions proches (au sens de l'ontologi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22280" indent="-422280">
              <a:lnSpc>
                <a:spcPct val="8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Parallèle avec BD distribuées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874800" indent="-27144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Fragmentation horizontale et vertica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F7871-BFFE-4576-BF24-AB84A31CFE6B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Interactions entre agents (Résolution d'une requête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77" name=""/>
          <p:cNvSpPr/>
          <p:nvPr/>
        </p:nvSpPr>
        <p:spPr>
          <a:xfrm>
            <a:off x="279360" y="0"/>
            <a:ext cx="8686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>
              <a:lnSpc>
                <a:spcPct val="10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Fragmentation et requêtes distribué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Query-Ref complex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Décomposition des requê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Répartition pertinente des sous-requê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8" name=""/>
          <p:cNvGrpSpPr/>
          <p:nvPr/>
        </p:nvGrpSpPr>
        <p:grpSpPr>
          <a:xfrm>
            <a:off x="990720" y="2057400"/>
            <a:ext cx="3657600" cy="914400"/>
            <a:chOff x="990720" y="2057400"/>
            <a:chExt cx="3657600" cy="914400"/>
          </a:xfrm>
        </p:grpSpPr>
        <p:sp>
          <p:nvSpPr>
            <p:cNvPr id="3379" name=""/>
            <p:cNvSpPr/>
            <p:nvPr/>
          </p:nvSpPr>
          <p:spPr>
            <a:xfrm>
              <a:off x="990720" y="2057400"/>
              <a:ext cx="36576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80" name="inter" descr=""/>
            <p:cNvPicPr/>
            <p:nvPr/>
          </p:nvPicPr>
          <p:blipFill>
            <a:blip r:embed="rId2"/>
            <a:stretch/>
          </p:blipFill>
          <p:spPr>
            <a:xfrm>
              <a:off x="1066680" y="2133720"/>
              <a:ext cx="462240" cy="466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81" name=""/>
            <p:cNvGrpSpPr/>
            <p:nvPr/>
          </p:nvGrpSpPr>
          <p:grpSpPr>
            <a:xfrm>
              <a:off x="2514600" y="2209680"/>
              <a:ext cx="609480" cy="533160"/>
              <a:chOff x="2514600" y="2209680"/>
              <a:chExt cx="609480" cy="533160"/>
            </a:xfrm>
          </p:grpSpPr>
          <p:sp>
            <p:nvSpPr>
              <p:cNvPr id="3382" name=""/>
              <p:cNvSpPr/>
              <p:nvPr/>
            </p:nvSpPr>
            <p:spPr>
              <a:xfrm>
                <a:off x="2797920" y="235764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2514600" y="2209680"/>
                <a:ext cx="609480" cy="147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2514600" y="259524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2712960" y="2396160"/>
                <a:ext cx="169560" cy="147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6" name=""/>
            <p:cNvGrpSpPr/>
            <p:nvPr/>
          </p:nvGrpSpPr>
          <p:grpSpPr>
            <a:xfrm>
              <a:off x="1828800" y="2209680"/>
              <a:ext cx="609480" cy="533160"/>
              <a:chOff x="1828800" y="2209680"/>
              <a:chExt cx="609480" cy="533160"/>
            </a:xfrm>
          </p:grpSpPr>
          <p:sp>
            <p:nvSpPr>
              <p:cNvPr id="3387" name=""/>
              <p:cNvSpPr/>
              <p:nvPr/>
            </p:nvSpPr>
            <p:spPr>
              <a:xfrm>
                <a:off x="2112120" y="235764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1828800" y="2209680"/>
                <a:ext cx="609480" cy="147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1828800" y="259524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2027160" y="2396160"/>
                <a:ext cx="169560" cy="147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1" name=""/>
            <p:cNvGrpSpPr/>
            <p:nvPr/>
          </p:nvGrpSpPr>
          <p:grpSpPr>
            <a:xfrm>
              <a:off x="3200400" y="2209680"/>
              <a:ext cx="609480" cy="533160"/>
              <a:chOff x="3200400" y="2209680"/>
              <a:chExt cx="609480" cy="533160"/>
            </a:xfrm>
          </p:grpSpPr>
          <p:sp>
            <p:nvSpPr>
              <p:cNvPr id="3392" name=""/>
              <p:cNvSpPr/>
              <p:nvPr/>
            </p:nvSpPr>
            <p:spPr>
              <a:xfrm>
                <a:off x="3483720" y="235764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3200400" y="2209680"/>
                <a:ext cx="609480" cy="147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3200400" y="259524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3398760" y="2396160"/>
                <a:ext cx="169560" cy="147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6" name=""/>
            <p:cNvGrpSpPr/>
            <p:nvPr/>
          </p:nvGrpSpPr>
          <p:grpSpPr>
            <a:xfrm>
              <a:off x="3886200" y="2209680"/>
              <a:ext cx="609480" cy="533160"/>
              <a:chOff x="3886200" y="2209680"/>
              <a:chExt cx="609480" cy="533160"/>
            </a:xfrm>
          </p:grpSpPr>
          <p:sp>
            <p:nvSpPr>
              <p:cNvPr id="3397" name=""/>
              <p:cNvSpPr/>
              <p:nvPr/>
            </p:nvSpPr>
            <p:spPr>
              <a:xfrm>
                <a:off x="4169520" y="235764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3886200" y="2209680"/>
                <a:ext cx="609480" cy="147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3886200" y="259524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4084560" y="2396160"/>
                <a:ext cx="169560" cy="147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01" name=""/>
          <p:cNvGrpSpPr/>
          <p:nvPr/>
        </p:nvGrpSpPr>
        <p:grpSpPr>
          <a:xfrm>
            <a:off x="5410080" y="2057400"/>
            <a:ext cx="3657600" cy="914400"/>
            <a:chOff x="5410080" y="2057400"/>
            <a:chExt cx="3657600" cy="914400"/>
          </a:xfrm>
        </p:grpSpPr>
        <p:sp>
          <p:nvSpPr>
            <p:cNvPr id="3402" name=""/>
            <p:cNvSpPr/>
            <p:nvPr/>
          </p:nvSpPr>
          <p:spPr>
            <a:xfrm>
              <a:off x="5410080" y="2057400"/>
              <a:ext cx="36576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03" name="" descr=""/>
            <p:cNvPicPr/>
            <p:nvPr/>
          </p:nvPicPr>
          <p:blipFill>
            <a:blip r:embed="rId3"/>
            <a:stretch/>
          </p:blipFill>
          <p:spPr>
            <a:xfrm>
              <a:off x="5486400" y="2133720"/>
              <a:ext cx="378000" cy="380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04" name=""/>
            <p:cNvGrpSpPr/>
            <p:nvPr/>
          </p:nvGrpSpPr>
          <p:grpSpPr>
            <a:xfrm>
              <a:off x="6095880" y="2209680"/>
              <a:ext cx="609840" cy="533160"/>
              <a:chOff x="6095880" y="2209680"/>
              <a:chExt cx="609840" cy="533160"/>
            </a:xfrm>
          </p:grpSpPr>
          <p:sp>
            <p:nvSpPr>
              <p:cNvPr id="3405" name=""/>
              <p:cNvSpPr/>
              <p:nvPr/>
            </p:nvSpPr>
            <p:spPr>
              <a:xfrm>
                <a:off x="6379200" y="235764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6095880" y="2209680"/>
                <a:ext cx="609840" cy="147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6095880" y="2595240"/>
                <a:ext cx="60984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6294240" y="2396160"/>
                <a:ext cx="169560" cy="147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9" name=""/>
            <p:cNvGrpSpPr/>
            <p:nvPr/>
          </p:nvGrpSpPr>
          <p:grpSpPr>
            <a:xfrm>
              <a:off x="7467480" y="2209680"/>
              <a:ext cx="609840" cy="533160"/>
              <a:chOff x="7467480" y="2209680"/>
              <a:chExt cx="609840" cy="533160"/>
            </a:xfrm>
          </p:grpSpPr>
          <p:sp>
            <p:nvSpPr>
              <p:cNvPr id="3410" name=""/>
              <p:cNvSpPr/>
              <p:nvPr/>
            </p:nvSpPr>
            <p:spPr>
              <a:xfrm>
                <a:off x="7750800" y="235764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7467480" y="2209680"/>
                <a:ext cx="609840" cy="1479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7467480" y="2595240"/>
                <a:ext cx="60984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7665840" y="2396160"/>
                <a:ext cx="169560" cy="147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4" name=""/>
            <p:cNvGrpSpPr/>
            <p:nvPr/>
          </p:nvGrpSpPr>
          <p:grpSpPr>
            <a:xfrm>
              <a:off x="6781680" y="2209680"/>
              <a:ext cx="609840" cy="723960"/>
              <a:chOff x="6781680" y="2209680"/>
              <a:chExt cx="609840" cy="723960"/>
            </a:xfrm>
          </p:grpSpPr>
          <p:sp>
            <p:nvSpPr>
              <p:cNvPr id="3415" name=""/>
              <p:cNvSpPr/>
              <p:nvPr/>
            </p:nvSpPr>
            <p:spPr>
              <a:xfrm>
                <a:off x="7066080" y="2357280"/>
                <a:ext cx="0" cy="23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6781680" y="2209680"/>
                <a:ext cx="60984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6781680" y="2595600"/>
                <a:ext cx="60984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6980400" y="2397240"/>
                <a:ext cx="169560" cy="147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6781680" y="2786040"/>
                <a:ext cx="60984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0" name=""/>
            <p:cNvGrpSpPr/>
            <p:nvPr/>
          </p:nvGrpSpPr>
          <p:grpSpPr>
            <a:xfrm>
              <a:off x="8153280" y="2209680"/>
              <a:ext cx="609840" cy="719280"/>
              <a:chOff x="8153280" y="2209680"/>
              <a:chExt cx="609840" cy="719280"/>
            </a:xfrm>
          </p:grpSpPr>
          <p:grpSp>
            <p:nvGrpSpPr>
              <p:cNvPr id="3421" name=""/>
              <p:cNvGrpSpPr/>
              <p:nvPr/>
            </p:nvGrpSpPr>
            <p:grpSpPr>
              <a:xfrm>
                <a:off x="8153280" y="2209680"/>
                <a:ext cx="609840" cy="533160"/>
                <a:chOff x="8153280" y="2209680"/>
                <a:chExt cx="609840" cy="533160"/>
              </a:xfrm>
            </p:grpSpPr>
            <p:sp>
              <p:nvSpPr>
                <p:cNvPr id="3422" name=""/>
                <p:cNvSpPr/>
                <p:nvPr/>
              </p:nvSpPr>
              <p:spPr>
                <a:xfrm>
                  <a:off x="8436600" y="2357640"/>
                  <a:ext cx="0" cy="23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3" name=""/>
                <p:cNvSpPr/>
                <p:nvPr/>
              </p:nvSpPr>
              <p:spPr>
                <a:xfrm>
                  <a:off x="8153280" y="2209680"/>
                  <a:ext cx="609840" cy="14796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4" name=""/>
                <p:cNvSpPr/>
                <p:nvPr/>
              </p:nvSpPr>
              <p:spPr>
                <a:xfrm>
                  <a:off x="8153280" y="2595240"/>
                  <a:ext cx="609840" cy="14760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5" name=""/>
                <p:cNvSpPr/>
                <p:nvPr/>
              </p:nvSpPr>
              <p:spPr>
                <a:xfrm>
                  <a:off x="8351640" y="2396160"/>
                  <a:ext cx="169560" cy="147960"/>
                </a:xfrm>
                <a:prstGeom prst="ellipse">
                  <a:avLst/>
                </a:prstGeom>
                <a:solidFill>
                  <a:srgbClr val="cc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6" name=""/>
              <p:cNvSpPr/>
              <p:nvPr/>
            </p:nvSpPr>
            <p:spPr>
              <a:xfrm>
                <a:off x="8153280" y="2781360"/>
                <a:ext cx="60984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27" name=""/>
          <p:cNvGrpSpPr/>
          <p:nvPr/>
        </p:nvGrpSpPr>
        <p:grpSpPr>
          <a:xfrm>
            <a:off x="1066680" y="1981080"/>
            <a:ext cx="8001000" cy="2590920"/>
            <a:chOff x="1066680" y="1981080"/>
            <a:chExt cx="8001000" cy="2590920"/>
          </a:xfrm>
        </p:grpSpPr>
        <p:sp>
          <p:nvSpPr>
            <p:cNvPr id="3428" name=""/>
            <p:cNvSpPr/>
            <p:nvPr/>
          </p:nvSpPr>
          <p:spPr>
            <a:xfrm>
              <a:off x="1676520" y="3429000"/>
              <a:ext cx="670536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4764960" y="1981080"/>
              <a:ext cx="60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0" spc="-1" strike="noStrike">
                  <a:solidFill>
                    <a:srgbClr val="808080"/>
                  </a:solidFill>
                  <a:latin typeface="Times New Roman"/>
                </a:rPr>
                <a:t>&amp;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1066680" y="3238560"/>
              <a:ext cx="8001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31" name="" descr=""/>
            <p:cNvPicPr/>
            <p:nvPr/>
          </p:nvPicPr>
          <p:blipFill>
            <a:blip r:embed="rId4"/>
            <a:stretch/>
          </p:blipFill>
          <p:spPr>
            <a:xfrm>
              <a:off x="1752480" y="3505320"/>
              <a:ext cx="4557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2" name=""/>
            <p:cNvSpPr/>
            <p:nvPr/>
          </p:nvSpPr>
          <p:spPr>
            <a:xfrm>
              <a:off x="4851360" y="2603520"/>
              <a:ext cx="380880" cy="762120"/>
            </a:xfrm>
            <a:prstGeom prst="downArrow">
              <a:avLst>
                <a:gd name="adj1" fmla="val 50000"/>
                <a:gd name="adj2" fmla="val 50024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3" name=""/>
            <p:cNvGrpSpPr/>
            <p:nvPr/>
          </p:nvGrpSpPr>
          <p:grpSpPr>
            <a:xfrm>
              <a:off x="2971800" y="3733920"/>
              <a:ext cx="609480" cy="533160"/>
              <a:chOff x="2971800" y="3733920"/>
              <a:chExt cx="609480" cy="533160"/>
            </a:xfrm>
          </p:grpSpPr>
          <p:sp>
            <p:nvSpPr>
              <p:cNvPr id="3434" name=""/>
              <p:cNvSpPr/>
              <p:nvPr/>
            </p:nvSpPr>
            <p:spPr>
              <a:xfrm>
                <a:off x="3255120" y="388152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2971800" y="373392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2971800" y="411948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3170160" y="3920400"/>
                <a:ext cx="169560" cy="147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8" name=""/>
            <p:cNvGrpSpPr/>
            <p:nvPr/>
          </p:nvGrpSpPr>
          <p:grpSpPr>
            <a:xfrm>
              <a:off x="2286000" y="3733920"/>
              <a:ext cx="609480" cy="533160"/>
              <a:chOff x="2286000" y="3733920"/>
              <a:chExt cx="609480" cy="533160"/>
            </a:xfrm>
          </p:grpSpPr>
          <p:sp>
            <p:nvSpPr>
              <p:cNvPr id="3439" name=""/>
              <p:cNvSpPr/>
              <p:nvPr/>
            </p:nvSpPr>
            <p:spPr>
              <a:xfrm>
                <a:off x="2569320" y="388152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2286000" y="373392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2286000" y="411948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2484360" y="3920400"/>
                <a:ext cx="169560" cy="147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3" name=""/>
            <p:cNvGrpSpPr/>
            <p:nvPr/>
          </p:nvGrpSpPr>
          <p:grpSpPr>
            <a:xfrm>
              <a:off x="3657600" y="3733920"/>
              <a:ext cx="609480" cy="533160"/>
              <a:chOff x="3657600" y="3733920"/>
              <a:chExt cx="609480" cy="533160"/>
            </a:xfrm>
          </p:grpSpPr>
          <p:sp>
            <p:nvSpPr>
              <p:cNvPr id="3444" name=""/>
              <p:cNvSpPr/>
              <p:nvPr/>
            </p:nvSpPr>
            <p:spPr>
              <a:xfrm>
                <a:off x="3940920" y="388152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3657600" y="373392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3657600" y="411948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3855960" y="3920400"/>
                <a:ext cx="169560" cy="147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8" name=""/>
            <p:cNvGrpSpPr/>
            <p:nvPr/>
          </p:nvGrpSpPr>
          <p:grpSpPr>
            <a:xfrm>
              <a:off x="4343400" y="3733920"/>
              <a:ext cx="609480" cy="533160"/>
              <a:chOff x="4343400" y="3733920"/>
              <a:chExt cx="609480" cy="533160"/>
            </a:xfrm>
          </p:grpSpPr>
          <p:sp>
            <p:nvSpPr>
              <p:cNvPr id="3449" name=""/>
              <p:cNvSpPr/>
              <p:nvPr/>
            </p:nvSpPr>
            <p:spPr>
              <a:xfrm>
                <a:off x="4626720" y="3881520"/>
                <a:ext cx="0" cy="23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4343400" y="373392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4343400" y="4119480"/>
                <a:ext cx="609480" cy="14760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4541760" y="3920400"/>
                <a:ext cx="169560" cy="147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3" name=""/>
            <p:cNvSpPr/>
            <p:nvPr/>
          </p:nvSpPr>
          <p:spPr>
            <a:xfrm>
              <a:off x="2971800" y="3581280"/>
              <a:ext cx="1320840" cy="838440"/>
            </a:xfrm>
            <a:prstGeom prst="rect">
              <a:avLst/>
            </a:prstGeom>
            <a:solidFill>
              <a:srgbClr val="f8f8f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3048120" y="3594240"/>
              <a:ext cx="457200" cy="838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 flipH="1">
              <a:off x="3048120" y="3594240"/>
              <a:ext cx="380880" cy="838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3733920" y="3594240"/>
              <a:ext cx="457200" cy="838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 flipH="1">
              <a:off x="3733920" y="3594240"/>
              <a:ext cx="380880" cy="838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5181480" y="3809880"/>
              <a:ext cx="533520" cy="304920"/>
            </a:xfrm>
            <a:prstGeom prst="rightArrow">
              <a:avLst>
                <a:gd name="adj1" fmla="val 50000"/>
                <a:gd name="adj2" fmla="val 43743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5702400" y="3606840"/>
              <a:ext cx="289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Carte de recouvr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(OBSIQ) en X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0" name=""/>
          <p:cNvSpPr/>
          <p:nvPr/>
        </p:nvSpPr>
        <p:spPr>
          <a:xfrm>
            <a:off x="304920" y="4648320"/>
            <a:ext cx="86868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26600" indent="-426600">
              <a:lnSpc>
                <a:spcPct val="10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Carte de recouv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83800" indent="-27432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Affiner la description des services pour A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3800" indent="-27432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Cibler les communications multica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3800" indent="-27432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En tandem avec la répartition des anno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2BBA3-DEB4-4B98-A755-072305FC356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Arbre DOM d'une requête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62" name=""/>
          <p:cNvSpPr/>
          <p:nvPr/>
        </p:nvSpPr>
        <p:spPr>
          <a:xfrm>
            <a:off x="711360" y="-38160"/>
            <a:ext cx="84582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?xml version="1.0" encoding="UTF-8"?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rdf:RDF xmlns:rdf="http://www.w3.org/1999/02/22-rdf-syntax-ns#" xmlns:rdfs="http://www.w3.org/TR/1999/ PR-rdf-schema-19990303#" xmlns:CoMMA="http://www.inria.fr/acacia/comma#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Document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CreatedBy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FamilyNam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?AuthorNam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FamilyNa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FirstNam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?AuthorFirstNam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FirstNa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Person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CreatedBy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Titl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?DocTitl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Titl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Edited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Company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Designation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~smith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Designation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Situated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Location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City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Nic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City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Country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Franc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Country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Phon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?EditorPhon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Phon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Location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Situated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HasForActivity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Edition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HasForActivity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Company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Edited&gt;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CreationDat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200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CreationDat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ReviewedBy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FamilyNam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hofstadter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FamilyNa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FirstName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douglas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FirstNa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Person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ReviewedBy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Concern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CoMMA:</a:t>
            </a:r>
            <a:r>
              <a:rPr b="1" sz="1100" spc="-1" strike="noStrike">
                <a:solidFill>
                  <a:srgbClr val="000000"/>
                </a:solidFill>
                <a:latin typeface="Courier New"/>
              </a:rPr>
              <a:t>ComputerScienceTopic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Concern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CoMMA:Document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&lt;/rdf:RDF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3" name=""/>
          <p:cNvGrpSpPr/>
          <p:nvPr/>
        </p:nvGrpSpPr>
        <p:grpSpPr>
          <a:xfrm>
            <a:off x="5791320" y="990720"/>
            <a:ext cx="3276360" cy="5333760"/>
            <a:chOff x="5791320" y="990720"/>
            <a:chExt cx="3276360" cy="5333760"/>
          </a:xfrm>
        </p:grpSpPr>
        <p:sp>
          <p:nvSpPr>
            <p:cNvPr id="3464" name=""/>
            <p:cNvSpPr/>
            <p:nvPr/>
          </p:nvSpPr>
          <p:spPr>
            <a:xfrm>
              <a:off x="5791320" y="990720"/>
              <a:ext cx="3276360" cy="533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5872320" y="1155600"/>
              <a:ext cx="13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5867280" y="2382840"/>
              <a:ext cx="144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6012000" y="1278000"/>
              <a:ext cx="698400" cy="6192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 flipV="1">
              <a:off x="6012000" y="1339560"/>
              <a:ext cx="698400" cy="12204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5872320" y="136836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5872320" y="1830240"/>
              <a:ext cx="13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5872320" y="2873520"/>
              <a:ext cx="1425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5872320" y="3057480"/>
              <a:ext cx="1425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5872320" y="3241800"/>
              <a:ext cx="1425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Times New Roman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5872320" y="3854520"/>
              <a:ext cx="1425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5872320" y="4591080"/>
              <a:ext cx="1425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5872320" y="5081760"/>
              <a:ext cx="1425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5872320" y="5326200"/>
              <a:ext cx="1425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5872320" y="5938920"/>
              <a:ext cx="1425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3333cc"/>
                  </a:solidFill>
                  <a:latin typeface="Times New Roman"/>
                </a:rPr>
                <a:t>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6012000" y="2933640"/>
              <a:ext cx="371160" cy="18432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 flipV="1">
              <a:off x="6012000" y="3117600"/>
              <a:ext cx="371160" cy="24588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6012000" y="3117960"/>
              <a:ext cx="371160" cy="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6012000" y="5203800"/>
              <a:ext cx="698400" cy="6048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 flipV="1">
              <a:off x="6012000" y="5264280"/>
              <a:ext cx="698400" cy="12384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6383160" y="3117960"/>
              <a:ext cx="373320" cy="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6012000" y="2505240"/>
              <a:ext cx="744480" cy="61272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 flipV="1">
              <a:off x="6012000" y="3117960"/>
              <a:ext cx="744480" cy="73656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6756480" y="3117960"/>
              <a:ext cx="2235240" cy="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6012000" y="1952640"/>
              <a:ext cx="2979720" cy="116532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6710400" y="1339920"/>
              <a:ext cx="2281320" cy="177804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 flipV="1">
              <a:off x="6012000" y="3117600"/>
              <a:ext cx="2979720" cy="159516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 flipV="1">
              <a:off x="6012000" y="3117960"/>
              <a:ext cx="2979720" cy="288288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 flipV="1">
              <a:off x="6710400" y="3117960"/>
              <a:ext cx="2281320" cy="2146320"/>
            </a:xfrm>
            <a:prstGeom prst="line">
              <a:avLst/>
            </a:prstGeom>
            <a:ln w="1260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7920000" y="250524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7920000" y="287352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7920000" y="3424320"/>
              <a:ext cx="1396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7920000" y="207648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7920000" y="385452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7920000" y="4160880"/>
              <a:ext cx="1396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99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6456240" y="1155600"/>
              <a:ext cx="13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6456240" y="1373040"/>
              <a:ext cx="139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6488280" y="273672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6491160" y="2954160"/>
              <a:ext cx="139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6456240" y="5292720"/>
              <a:ext cx="13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6456240" y="508176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6491160" y="333072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99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6053040" y="2806560"/>
              <a:ext cx="1396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6053040" y="3103560"/>
              <a:ext cx="13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6053040" y="3268800"/>
              <a:ext cx="1396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99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46DFC-4EBD-4FA4-BA27-C3C6E3CB623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9" name=""/>
          <p:cNvGrpSpPr/>
          <p:nvPr/>
        </p:nvGrpSpPr>
        <p:grpSpPr>
          <a:xfrm>
            <a:off x="838080" y="2743200"/>
            <a:ext cx="8153640" cy="3352680"/>
            <a:chOff x="838080" y="2743200"/>
            <a:chExt cx="8153640" cy="3352680"/>
          </a:xfrm>
        </p:grpSpPr>
        <p:sp>
          <p:nvSpPr>
            <p:cNvPr id="3510" name=""/>
            <p:cNvSpPr/>
            <p:nvPr/>
          </p:nvSpPr>
          <p:spPr>
            <a:xfrm>
              <a:off x="838080" y="3352680"/>
              <a:ext cx="8153640" cy="274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 rot="5400000">
              <a:off x="7619400" y="2895480"/>
              <a:ext cx="457200" cy="15228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Décomposition (Contraintes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513" name=""/>
          <p:cNvGrpSpPr/>
          <p:nvPr/>
        </p:nvGrpSpPr>
        <p:grpSpPr>
          <a:xfrm>
            <a:off x="5562720" y="990720"/>
            <a:ext cx="3429000" cy="1600200"/>
            <a:chOff x="5562720" y="990720"/>
            <a:chExt cx="3429000" cy="1600200"/>
          </a:xfrm>
        </p:grpSpPr>
        <p:sp>
          <p:nvSpPr>
            <p:cNvPr id="3514" name=""/>
            <p:cNvSpPr/>
            <p:nvPr/>
          </p:nvSpPr>
          <p:spPr>
            <a:xfrm>
              <a:off x="5562720" y="990720"/>
              <a:ext cx="3429000" cy="160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 flipH="1">
              <a:off x="6582960" y="1143000"/>
              <a:ext cx="77796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 flipH="1">
              <a:off x="7083360" y="1143000"/>
              <a:ext cx="2779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 flipH="1">
              <a:off x="6027840" y="1143000"/>
              <a:ext cx="133344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7361280" y="1143000"/>
              <a:ext cx="77796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7361280" y="1143000"/>
              <a:ext cx="2779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7361280" y="1143000"/>
              <a:ext cx="133488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 flipH="1">
              <a:off x="7861320" y="1511280"/>
              <a:ext cx="277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8139240" y="1511280"/>
              <a:ext cx="27756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 flipH="1">
              <a:off x="5749920" y="1511280"/>
              <a:ext cx="277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6027840" y="1511280"/>
              <a:ext cx="27756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 flipH="1">
              <a:off x="6805440" y="1511280"/>
              <a:ext cx="277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7083360" y="1511280"/>
              <a:ext cx="277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 flipH="1">
              <a:off x="6805440" y="1882800"/>
              <a:ext cx="2779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7083360" y="1882800"/>
              <a:ext cx="2779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7083360" y="151128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8639280" y="151128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8361360" y="1882800"/>
              <a:ext cx="1681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7750080" y="188280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7585200" y="1511280"/>
              <a:ext cx="1648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305840" y="1882800"/>
              <a:ext cx="1681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7083360" y="1882800"/>
              <a:ext cx="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7026120" y="2251080"/>
              <a:ext cx="1684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6694560" y="225108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6694560" y="188280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6473880" y="1511280"/>
              <a:ext cx="1648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5638680" y="188280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6249960" y="1882800"/>
              <a:ext cx="1652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7305840" y="2251080"/>
              <a:ext cx="1681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3" name=""/>
          <p:cNvSpPr/>
          <p:nvPr/>
        </p:nvSpPr>
        <p:spPr>
          <a:xfrm rot="5400000">
            <a:off x="1427040" y="4680000"/>
            <a:ext cx="276480" cy="133200"/>
          </a:xfrm>
          <a:prstGeom prst="rightArrow">
            <a:avLst>
              <a:gd name="adj1" fmla="val 50000"/>
              <a:gd name="adj2" fmla="val 518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4" name=""/>
          <p:cNvGrpSpPr/>
          <p:nvPr/>
        </p:nvGrpSpPr>
        <p:grpSpPr>
          <a:xfrm>
            <a:off x="920880" y="3492360"/>
            <a:ext cx="8045280" cy="1204920"/>
            <a:chOff x="920880" y="3492360"/>
            <a:chExt cx="8045280" cy="1204920"/>
          </a:xfrm>
        </p:grpSpPr>
        <p:sp>
          <p:nvSpPr>
            <p:cNvPr id="3545" name=""/>
            <p:cNvSpPr/>
            <p:nvPr/>
          </p:nvSpPr>
          <p:spPr>
            <a:xfrm flipH="1">
              <a:off x="7443360" y="3492360"/>
              <a:ext cx="244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7688160" y="3492360"/>
              <a:ext cx="6890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7688160" y="3492360"/>
              <a:ext cx="246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7688160" y="3492360"/>
              <a:ext cx="117972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 flipH="1">
              <a:off x="8129520" y="3817800"/>
              <a:ext cx="24768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8377200" y="3817800"/>
              <a:ext cx="2444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 flipH="1">
              <a:off x="7197480" y="3817800"/>
              <a:ext cx="24588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443720" y="3817800"/>
              <a:ext cx="2444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 flipH="1">
              <a:off x="7197480" y="4140360"/>
              <a:ext cx="24588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7443720" y="3817800"/>
              <a:ext cx="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8818560" y="381780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8572680" y="4140360"/>
              <a:ext cx="1476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8032680" y="4140360"/>
              <a:ext cx="1461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7885080" y="381780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7640640" y="4140360"/>
              <a:ext cx="1461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7443720" y="4140360"/>
              <a:ext cx="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394400" y="4465800"/>
              <a:ext cx="1479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7101000" y="4465800"/>
              <a:ext cx="1458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7101000" y="4140360"/>
              <a:ext cx="1458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 flipH="1">
              <a:off x="5501880" y="3492360"/>
              <a:ext cx="244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5746680" y="3492360"/>
              <a:ext cx="6876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5746680" y="3492360"/>
              <a:ext cx="246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5746680" y="3492360"/>
              <a:ext cx="117972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 flipH="1">
              <a:off x="6188040" y="3817800"/>
              <a:ext cx="2462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6434280" y="3817800"/>
              <a:ext cx="2444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 flipH="1">
              <a:off x="5256000" y="3817800"/>
              <a:ext cx="24588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5502240" y="3817800"/>
              <a:ext cx="2444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 flipH="1">
              <a:off x="5256000" y="4140360"/>
              <a:ext cx="245880" cy="3254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5502240" y="3817800"/>
              <a:ext cx="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6877080" y="381780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6629400" y="4140360"/>
              <a:ext cx="1494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6091200" y="4140360"/>
              <a:ext cx="1461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5943600" y="381780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5699160" y="4140360"/>
              <a:ext cx="1461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5502240" y="4140360"/>
              <a:ext cx="0" cy="3254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5452920" y="4465800"/>
              <a:ext cx="147960" cy="231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5159520" y="4465800"/>
              <a:ext cx="145800" cy="231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5159520" y="4140360"/>
              <a:ext cx="1458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 flipH="1">
              <a:off x="3379680" y="3492360"/>
              <a:ext cx="246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3625920" y="3492360"/>
              <a:ext cx="687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3625920" y="3492360"/>
              <a:ext cx="244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3625920" y="3492360"/>
              <a:ext cx="117612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 flipH="1">
              <a:off x="4066920" y="3817800"/>
              <a:ext cx="24588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4313160" y="3817800"/>
              <a:ext cx="2444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 flipH="1">
              <a:off x="3133440" y="3817800"/>
              <a:ext cx="24588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3379680" y="3817800"/>
              <a:ext cx="2462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3379680" y="3817800"/>
              <a:ext cx="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4756320" y="3817800"/>
              <a:ext cx="1458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4508640" y="4140360"/>
              <a:ext cx="1476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3968640" y="4140360"/>
              <a:ext cx="1476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3821040" y="381780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3576600" y="4140360"/>
              <a:ext cx="1476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3035160" y="4140360"/>
              <a:ext cx="1494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3332160" y="4140360"/>
              <a:ext cx="1461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 flipH="1">
              <a:off x="1265040" y="3492360"/>
              <a:ext cx="244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1509840" y="3492360"/>
              <a:ext cx="68868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1509840" y="3492360"/>
              <a:ext cx="24768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1509840" y="3492360"/>
              <a:ext cx="117936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 flipH="1">
              <a:off x="1952280" y="3817800"/>
              <a:ext cx="24588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2198520" y="3817800"/>
              <a:ext cx="24480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 flipH="1">
              <a:off x="1019160" y="3817800"/>
              <a:ext cx="246240" cy="32256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1265400" y="3817800"/>
              <a:ext cx="244440" cy="32256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1265400" y="3817800"/>
              <a:ext cx="0" cy="32256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2639880" y="3817800"/>
              <a:ext cx="1461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2394000" y="4140360"/>
              <a:ext cx="1476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1855800" y="4140360"/>
              <a:ext cx="1461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1708200" y="381780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1460520" y="4140360"/>
              <a:ext cx="149040" cy="231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920880" y="4140360"/>
              <a:ext cx="147600" cy="231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1216080" y="4140360"/>
              <a:ext cx="146160" cy="231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 flipH="1">
              <a:off x="6877080" y="3538440"/>
              <a:ext cx="342720" cy="138240"/>
            </a:xfrm>
            <a:prstGeom prst="rightArrow">
              <a:avLst>
                <a:gd name="adj1" fmla="val 50000"/>
                <a:gd name="adj2" fmla="val 6197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 flipH="1">
              <a:off x="4926960" y="3541680"/>
              <a:ext cx="345960" cy="138240"/>
            </a:xfrm>
            <a:prstGeom prst="rightArrow">
              <a:avLst>
                <a:gd name="adj1" fmla="val 50000"/>
                <a:gd name="adj2" fmla="val 62565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 flipH="1">
              <a:off x="2752560" y="3538440"/>
              <a:ext cx="346320" cy="138240"/>
            </a:xfrm>
            <a:prstGeom prst="rightArrow">
              <a:avLst>
                <a:gd name="adj1" fmla="val 50000"/>
                <a:gd name="adj2" fmla="val 6263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5427720" y="4095720"/>
              <a:ext cx="135000" cy="13824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1200240" y="3762360"/>
              <a:ext cx="135000" cy="13824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0" name=""/>
          <p:cNvGrpSpPr/>
          <p:nvPr/>
        </p:nvGrpSpPr>
        <p:grpSpPr>
          <a:xfrm>
            <a:off x="920880" y="5078520"/>
            <a:ext cx="8045280" cy="901440"/>
            <a:chOff x="920880" y="5078520"/>
            <a:chExt cx="8045280" cy="901440"/>
          </a:xfrm>
        </p:grpSpPr>
        <p:sp>
          <p:nvSpPr>
            <p:cNvPr id="3621" name=""/>
            <p:cNvSpPr/>
            <p:nvPr/>
          </p:nvSpPr>
          <p:spPr>
            <a:xfrm flipH="1">
              <a:off x="1019160" y="5100480"/>
              <a:ext cx="246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1265400" y="5100480"/>
              <a:ext cx="687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1265400" y="5100480"/>
              <a:ext cx="244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1265400" y="5100480"/>
              <a:ext cx="117792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 flipH="1">
              <a:off x="1707840" y="5425920"/>
              <a:ext cx="24444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1952640" y="5425920"/>
              <a:ext cx="245880" cy="32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2394000" y="542592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2149560" y="5748480"/>
              <a:ext cx="1476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1609560" y="5748480"/>
              <a:ext cx="1479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1460520" y="5425920"/>
              <a:ext cx="1490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920880" y="542592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 flipH="1">
              <a:off x="3035160" y="5100480"/>
              <a:ext cx="24768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3282840" y="5100480"/>
              <a:ext cx="6858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3282840" y="5100480"/>
              <a:ext cx="2444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3282840" y="5100480"/>
              <a:ext cx="117648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 flipH="1">
              <a:off x="3723840" y="5425920"/>
              <a:ext cx="244440" cy="32256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3968640" y="5425920"/>
              <a:ext cx="246240" cy="32256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4410000" y="542592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4165560" y="5748480"/>
              <a:ext cx="147600" cy="231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625920" y="5748480"/>
              <a:ext cx="147600" cy="231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478320" y="542592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2936880" y="5425920"/>
              <a:ext cx="1476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 flipH="1">
              <a:off x="5106960" y="5146560"/>
              <a:ext cx="24768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5354640" y="5146560"/>
              <a:ext cx="687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5354640" y="5146560"/>
              <a:ext cx="24624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5354640" y="5146560"/>
              <a:ext cx="117936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6483240" y="5472000"/>
              <a:ext cx="1461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5551560" y="5472000"/>
              <a:ext cx="1458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5011560" y="5472000"/>
              <a:ext cx="147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6041880" y="5472000"/>
              <a:ext cx="1461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 flipH="1">
              <a:off x="7080120" y="5132520"/>
              <a:ext cx="246240" cy="3236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7326360" y="5132520"/>
              <a:ext cx="685800" cy="3236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7326360" y="5132520"/>
              <a:ext cx="244440" cy="3236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7326360" y="5132520"/>
              <a:ext cx="1176120" cy="3236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8453520" y="5456160"/>
              <a:ext cx="149040" cy="2318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7521480" y="5456160"/>
              <a:ext cx="147600" cy="2318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6980400" y="5456160"/>
              <a:ext cx="149040" cy="2318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8012160" y="5456160"/>
              <a:ext cx="147600" cy="2318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8820000" y="5146560"/>
              <a:ext cx="1461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2565360" y="5164200"/>
              <a:ext cx="343080" cy="137880"/>
            </a:xfrm>
            <a:prstGeom prst="rightArrow">
              <a:avLst>
                <a:gd name="adj1" fmla="val 50000"/>
                <a:gd name="adj2" fmla="val 6220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4665600" y="5164200"/>
              <a:ext cx="345960" cy="137880"/>
            </a:xfrm>
            <a:prstGeom prst="rightArrow">
              <a:avLst>
                <a:gd name="adj1" fmla="val 50000"/>
                <a:gd name="adj2" fmla="val 6272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6610320" y="5160960"/>
              <a:ext cx="344520" cy="141120"/>
            </a:xfrm>
            <a:prstGeom prst="rightArrow">
              <a:avLst>
                <a:gd name="adj1" fmla="val 50000"/>
                <a:gd name="adj2" fmla="val 61033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8354880" y="5160960"/>
              <a:ext cx="346320" cy="141120"/>
            </a:xfrm>
            <a:prstGeom prst="rightArrow">
              <a:avLst>
                <a:gd name="adj1" fmla="val 50000"/>
                <a:gd name="adj2" fmla="val 6135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3909960" y="5372280"/>
              <a:ext cx="133560" cy="13788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7259760" y="5078520"/>
              <a:ext cx="133200" cy="13788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6" name=""/>
          <p:cNvSpPr/>
          <p:nvPr/>
        </p:nvSpPr>
        <p:spPr>
          <a:xfrm>
            <a:off x="304920" y="0"/>
            <a:ext cx="8686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>
              <a:lnSpc>
                <a:spcPct val="10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Résolution / Dé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AM Décom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Résolution remontant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des contrai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Résolution descendant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des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DF250-95E9-4E95-871D-F90A752D018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"/>
          <p:cNvSpPr/>
          <p:nvPr/>
        </p:nvSpPr>
        <p:spPr>
          <a:xfrm>
            <a:off x="304920" y="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>
              <a:lnSpc>
                <a:spcPct val="10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Résolution / Dé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AM Décom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Résolution remontant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des contrai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-285840">
              <a:lnSpc>
                <a:spcPct val="8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Résolution descendant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des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Décomposition (Questions)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669" name=""/>
          <p:cNvGrpSpPr/>
          <p:nvPr/>
        </p:nvGrpSpPr>
        <p:grpSpPr>
          <a:xfrm>
            <a:off x="5562720" y="990720"/>
            <a:ext cx="3429000" cy="1600200"/>
            <a:chOff x="5562720" y="990720"/>
            <a:chExt cx="3429000" cy="1600200"/>
          </a:xfrm>
        </p:grpSpPr>
        <p:sp>
          <p:nvSpPr>
            <p:cNvPr id="3670" name=""/>
            <p:cNvSpPr/>
            <p:nvPr/>
          </p:nvSpPr>
          <p:spPr>
            <a:xfrm>
              <a:off x="5562720" y="990720"/>
              <a:ext cx="3429000" cy="160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 flipH="1">
              <a:off x="6582960" y="1143000"/>
              <a:ext cx="77796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 flipH="1">
              <a:off x="7083360" y="1143000"/>
              <a:ext cx="2779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 flipH="1">
              <a:off x="6027840" y="1143000"/>
              <a:ext cx="133344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7361280" y="1143000"/>
              <a:ext cx="77796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7361280" y="1143000"/>
              <a:ext cx="2779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7361280" y="1143000"/>
              <a:ext cx="133488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 flipH="1">
              <a:off x="7861320" y="1511280"/>
              <a:ext cx="277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8139240" y="1511280"/>
              <a:ext cx="27756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 flipH="1">
              <a:off x="5749920" y="1511280"/>
              <a:ext cx="277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6027840" y="1511280"/>
              <a:ext cx="27756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 flipH="1">
              <a:off x="6805440" y="1511280"/>
              <a:ext cx="277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7083360" y="1511280"/>
              <a:ext cx="27792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 flipH="1">
              <a:off x="6805440" y="1882800"/>
              <a:ext cx="2779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7083360" y="1882800"/>
              <a:ext cx="27792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7083360" y="151128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8639280" y="151128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8361360" y="1882800"/>
              <a:ext cx="1681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7750080" y="188280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7585200" y="1511280"/>
              <a:ext cx="1648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7305840" y="1882800"/>
              <a:ext cx="1681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7083360" y="1882800"/>
              <a:ext cx="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7026120" y="2251080"/>
              <a:ext cx="1684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6694560" y="225108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6694560" y="188280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6473880" y="1511280"/>
              <a:ext cx="1648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5638680" y="1882800"/>
              <a:ext cx="16668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6249960" y="1882800"/>
              <a:ext cx="1652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7305840" y="2251080"/>
              <a:ext cx="1681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9" name=""/>
          <p:cNvGrpSpPr/>
          <p:nvPr/>
        </p:nvGrpSpPr>
        <p:grpSpPr>
          <a:xfrm>
            <a:off x="838080" y="2666880"/>
            <a:ext cx="8153640" cy="2514600"/>
            <a:chOff x="838080" y="2666880"/>
            <a:chExt cx="8153640" cy="2514600"/>
          </a:xfrm>
        </p:grpSpPr>
        <p:sp>
          <p:nvSpPr>
            <p:cNvPr id="3700" name=""/>
            <p:cNvSpPr/>
            <p:nvPr/>
          </p:nvSpPr>
          <p:spPr>
            <a:xfrm>
              <a:off x="838080" y="3200400"/>
              <a:ext cx="8153640" cy="198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 rot="5400000">
              <a:off x="7619400" y="2819160"/>
              <a:ext cx="457200" cy="15228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2" name=""/>
          <p:cNvGrpSpPr/>
          <p:nvPr/>
        </p:nvGrpSpPr>
        <p:grpSpPr>
          <a:xfrm>
            <a:off x="990720" y="3352680"/>
            <a:ext cx="7924680" cy="1676520"/>
            <a:chOff x="990720" y="3352680"/>
            <a:chExt cx="7924680" cy="1676520"/>
          </a:xfrm>
        </p:grpSpPr>
        <p:sp>
          <p:nvSpPr>
            <p:cNvPr id="3703" name=""/>
            <p:cNvSpPr/>
            <p:nvPr/>
          </p:nvSpPr>
          <p:spPr>
            <a:xfrm flipH="1">
              <a:off x="8004240" y="3365640"/>
              <a:ext cx="79704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 flipH="1">
              <a:off x="8516880" y="3365640"/>
              <a:ext cx="28440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 flipH="1">
              <a:off x="7432560" y="3365640"/>
              <a:ext cx="136872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 flipH="1">
              <a:off x="7148160" y="3782880"/>
              <a:ext cx="28404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432560" y="3782880"/>
              <a:ext cx="28584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8516880" y="4203720"/>
              <a:ext cx="28440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8516880" y="378288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7889760" y="3782880"/>
              <a:ext cx="16992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7034040" y="4203720"/>
              <a:ext cx="1717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7661160" y="4203720"/>
              <a:ext cx="1717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8744040" y="4624560"/>
              <a:ext cx="171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 flipH="1">
              <a:off x="5951520" y="3365640"/>
              <a:ext cx="28584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6237360" y="3365640"/>
              <a:ext cx="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 flipH="1">
              <a:off x="5610240" y="3365640"/>
              <a:ext cx="62712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 flipH="1">
              <a:off x="5267160" y="3765600"/>
              <a:ext cx="285840" cy="42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5553000" y="3765600"/>
              <a:ext cx="284400" cy="42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6237360" y="426240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6237360" y="378288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5894280" y="3726000"/>
              <a:ext cx="1717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151600" y="4243320"/>
              <a:ext cx="17280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5780160" y="4243320"/>
              <a:ext cx="17136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6164280" y="4672080"/>
              <a:ext cx="171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5467320" y="3726000"/>
              <a:ext cx="17316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6176880" y="3726000"/>
              <a:ext cx="17316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6164280" y="4235400"/>
              <a:ext cx="171360" cy="30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 flipH="1">
              <a:off x="4125960" y="3425760"/>
              <a:ext cx="287280" cy="4190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4413240" y="34257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 flipH="1">
              <a:off x="3786120" y="3425760"/>
              <a:ext cx="62712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 flipH="1">
              <a:off x="3441600" y="3825720"/>
              <a:ext cx="28728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3728880" y="3825720"/>
              <a:ext cx="28260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4413240" y="4322880"/>
              <a:ext cx="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4413240" y="3844800"/>
              <a:ext cx="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4068720" y="3782880"/>
              <a:ext cx="173160" cy="30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3330720" y="4303800"/>
              <a:ext cx="16812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3957480" y="4303800"/>
              <a:ext cx="16848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4340160" y="4729320"/>
              <a:ext cx="1713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3643200" y="3782880"/>
              <a:ext cx="17172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4356000" y="3782880"/>
              <a:ext cx="168480" cy="30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4340160" y="4295880"/>
              <a:ext cx="17136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1063800" y="34257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1063800" y="4322880"/>
              <a:ext cx="0" cy="4172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1063800" y="3844800"/>
              <a:ext cx="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992160" y="4729320"/>
              <a:ext cx="173160" cy="2998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1006560" y="3782880"/>
              <a:ext cx="171360" cy="30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992160" y="4264200"/>
              <a:ext cx="17316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2760840" y="34257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H="1">
              <a:off x="2133720" y="3425760"/>
              <a:ext cx="62712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 flipH="1">
              <a:off x="1789200" y="3825720"/>
              <a:ext cx="285840" cy="4208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2075040" y="3825720"/>
              <a:ext cx="284040" cy="420840"/>
            </a:xfrm>
            <a:prstGeom prst="line">
              <a:avLst/>
            </a:prstGeom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2760840" y="4322880"/>
              <a:ext cx="0" cy="41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2760840" y="3844800"/>
              <a:ext cx="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1677960" y="4303800"/>
              <a:ext cx="168480" cy="2998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2305080" y="4303800"/>
              <a:ext cx="168120" cy="2998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2685960" y="4729320"/>
              <a:ext cx="17316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1990800" y="3782880"/>
              <a:ext cx="171360" cy="30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2703600" y="3782880"/>
              <a:ext cx="168120" cy="30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2685960" y="4295880"/>
              <a:ext cx="17316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 flipH="1">
              <a:off x="6577920" y="3843360"/>
              <a:ext cx="398520" cy="182520"/>
            </a:xfrm>
            <a:prstGeom prst="rightArrow">
              <a:avLst>
                <a:gd name="adj1" fmla="val 50000"/>
                <a:gd name="adj2" fmla="val 5458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 flipH="1">
              <a:off x="4638600" y="3844800"/>
              <a:ext cx="401760" cy="181080"/>
            </a:xfrm>
            <a:prstGeom prst="rightArrow">
              <a:avLst>
                <a:gd name="adj1" fmla="val 50000"/>
                <a:gd name="adj2" fmla="val 554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 flipH="1">
              <a:off x="2985480" y="3844800"/>
              <a:ext cx="401400" cy="181080"/>
            </a:xfrm>
            <a:prstGeom prst="rightArrow">
              <a:avLst>
                <a:gd name="adj1" fmla="val 50000"/>
                <a:gd name="adj2" fmla="val 5541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 flipH="1">
              <a:off x="1276200" y="3844800"/>
              <a:ext cx="401760" cy="181080"/>
            </a:xfrm>
            <a:prstGeom prst="rightArrow">
              <a:avLst>
                <a:gd name="adj1" fmla="val 50000"/>
                <a:gd name="adj2" fmla="val 554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4332240" y="3352680"/>
              <a:ext cx="155520" cy="17964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1981080" y="3809880"/>
              <a:ext cx="181080" cy="1764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990720" y="4295880"/>
              <a:ext cx="156960" cy="18072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7" name=""/>
          <p:cNvSpPr/>
          <p:nvPr/>
        </p:nvSpPr>
        <p:spPr>
          <a:xfrm>
            <a:off x="304920" y="5181480"/>
            <a:ext cx="86868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86640" indent="-386640">
              <a:lnSpc>
                <a:spcPct val="10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Résolution / Re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000" indent="-248400">
              <a:lnSpc>
                <a:spcPct val="7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Fusion des résultats parti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1000" indent="-248400">
              <a:lnSpc>
                <a:spcPct val="7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Résolution références croisé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E8B56-237E-41C9-B340-09614480CA0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8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Intégration à CoMMA: Login et Agents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769" name="" descr=""/>
          <p:cNvPicPr/>
          <p:nvPr/>
        </p:nvPicPr>
        <p:blipFill>
          <a:blip r:embed="rId2"/>
          <a:stretch/>
        </p:blipFill>
        <p:spPr>
          <a:xfrm>
            <a:off x="1295280" y="1066680"/>
            <a:ext cx="6913800" cy="4091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E24FD-7FA5-470F-8832-1AC5B4B8EF50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0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essages initiaux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771" name="" descr=""/>
          <p:cNvPicPr/>
          <p:nvPr/>
        </p:nvPicPr>
        <p:blipFill>
          <a:blip r:embed="rId2"/>
          <a:stretch/>
        </p:blipFill>
        <p:spPr>
          <a:xfrm>
            <a:off x="1371600" y="628560"/>
            <a:ext cx="7209000" cy="53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E02D8-A734-4FDD-9DB8-C58E5F155BCA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Solution technique: XML &amp; RDF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0252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482760" indent="0" algn="ctr">
              <a:lnSpc>
                <a:spcPct val="90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 u="sng">
                <a:solidFill>
                  <a:srgbClr val="cc3300"/>
                </a:solidFill>
                <a:uFillTx/>
                <a:latin typeface="Georgia"/>
              </a:rPr>
              <a:t>Leitmotiv</a:t>
            </a:r>
            <a:r>
              <a:rPr b="0" lang="fr-FR" sz="3400" spc="-1" strike="noStrike">
                <a:solidFill>
                  <a:srgbClr val="cc3300"/>
                </a:solidFill>
                <a:latin typeface="Georgia"/>
              </a:rPr>
              <a:t>: Si la mémoire devient un monde annoté (Web sémantique d'entreprise), les agents peuvent utiliser la sémantique des annotations et par des inférences aider son exploitation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371600" y="1676520"/>
            <a:ext cx="7620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Matérialiser la mémoire</a:t>
            </a:r>
            <a:endParaRPr b="0" lang="en-US" sz="24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1E0F5-B6C0-4619-87FB-12C6411C60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Faire une annotation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773" name="" descr=""/>
          <p:cNvPicPr/>
          <p:nvPr/>
        </p:nvPicPr>
        <p:blipFill>
          <a:blip r:embed="rId2"/>
          <a:stretch/>
        </p:blipFill>
        <p:spPr>
          <a:xfrm>
            <a:off x="647640" y="533520"/>
            <a:ext cx="8481960" cy="548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71BAA-363C-4F0D-B4B2-14FE703B60F1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essage annotation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775" name="" descr=""/>
          <p:cNvPicPr/>
          <p:nvPr/>
        </p:nvPicPr>
        <p:blipFill>
          <a:blip r:embed="rId2"/>
          <a:stretch/>
        </p:blipFill>
        <p:spPr>
          <a:xfrm>
            <a:off x="1066680" y="304920"/>
            <a:ext cx="7680600" cy="610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5A92-BC0E-451F-9817-9D41CAB950B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Faire une requête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777" name="" descr=""/>
          <p:cNvPicPr/>
          <p:nvPr/>
        </p:nvPicPr>
        <p:blipFill>
          <a:blip r:embed="rId2"/>
          <a:stretch/>
        </p:blipFill>
        <p:spPr>
          <a:xfrm>
            <a:off x="1055520" y="552600"/>
            <a:ext cx="7936200" cy="55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7322-D9D4-4F10-8355-037EC83F6F6E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Messages Requête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779" name="" descr=""/>
          <p:cNvPicPr/>
          <p:nvPr/>
        </p:nvPicPr>
        <p:blipFill>
          <a:blip r:embed="rId2"/>
          <a:stretch/>
        </p:blipFill>
        <p:spPr>
          <a:xfrm>
            <a:off x="990720" y="228600"/>
            <a:ext cx="7680240" cy="610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CD5B2-D96A-402D-BF15-12BEA72787C3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Résultat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781" name="" descr=""/>
          <p:cNvPicPr/>
          <p:nvPr/>
        </p:nvPicPr>
        <p:blipFill>
          <a:blip r:embed="rId2"/>
          <a:stretch/>
        </p:blipFill>
        <p:spPr>
          <a:xfrm>
            <a:off x="88920" y="2362320"/>
            <a:ext cx="9007560" cy="204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B6907-A677-4565-B57D-8E07B1CA6E11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2" name="Winner" descr=""/>
          <p:cNvPicPr/>
          <p:nvPr/>
        </p:nvPicPr>
        <p:blipFill>
          <a:blip r:embed="rId2"/>
          <a:stretch/>
        </p:blipFill>
        <p:spPr>
          <a:xfrm>
            <a:off x="1523880" y="1371600"/>
            <a:ext cx="6858000" cy="324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CB8E9-1BA0-4F70-9850-6A2BD0D53FEA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440" y="65527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f5f5f"/>
                </a:solidFill>
                <a:latin typeface="Arial"/>
              </a:rPr>
              <a:t>XML : Approche Metadata</a:t>
            </a:r>
            <a:endParaRPr b="1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4920" y="15192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44600">
              <a:lnSpc>
                <a:spcPct val="9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eorgia"/>
              </a:rPr>
              <a:t>XML: Extensible Markup Languag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Georgia"/>
              </a:rPr>
              <a:t>Structure 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documents &amp; donné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Georgia"/>
              </a:rPr>
              <a:t>Extensible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 (&lt;Balise&gt; &lt;/Balise&gt;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Créé pour le monde des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Georgia"/>
              </a:rPr>
              <a:t>réseaux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 intern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Format texte &amp; compréhensible à l'homm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Compréhensible machine :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Georgia"/>
              </a:rPr>
              <a:t>distribuer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 la la charge de travail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DTD &amp; XML Schema: permettre une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Georgia"/>
              </a:rPr>
              <a:t>définition formelle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 des structur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958680" indent="-285480">
              <a:lnSpc>
                <a:spcPct val="90000"/>
              </a:lnSpc>
              <a:spcBef>
                <a:spcPts val="700"/>
              </a:spcBef>
              <a:buClr>
                <a:srgbClr val="777777"/>
              </a:buClr>
              <a:buSzPct val="90000"/>
              <a:buFont typeface="Webdings" charset="2"/>
              <a:buChar char="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Style sheets: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Georgia"/>
              </a:rPr>
              <a:t>manipulation</a:t>
            </a:r>
            <a:r>
              <a:rPr b="0" lang="fr-FR" sz="2800" spc="-1" strike="noStrike">
                <a:solidFill>
                  <a:srgbClr val="000000"/>
                </a:solidFill>
                <a:latin typeface="Georgia"/>
              </a:rPr>
              <a:t> des documents au-delà des styl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8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482760" indent="-444600">
              <a:lnSpc>
                <a:spcPct val="90000"/>
              </a:lnSpc>
              <a:spcBef>
                <a:spcPts val="799"/>
              </a:spcBef>
              <a:buClr>
                <a:srgbClr val="777777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eorgia"/>
              </a:rPr>
              <a:t>Standard industrie </a:t>
            </a:r>
            <a:r>
              <a:rPr b="1" lang="fr-FR" sz="26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1" lang="fr-FR" sz="3200" spc="-1" strike="noStrike">
                <a:solidFill>
                  <a:srgbClr val="000000"/>
                </a:solidFill>
                <a:latin typeface="Georgia"/>
              </a:rPr>
              <a:t> Bon candidat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592A0-235D-4421-AD47-7493243C28E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13:44:36Z</dcterms:created>
  <dc:creator>Fabien GANDON</dc:creator>
  <dc:description/>
  <dc:language>en-US</dc:language>
  <cp:lastModifiedBy>Fabien GANDON</cp:lastModifiedBy>
  <dcterms:modified xsi:type="dcterms:W3CDTF">2001-12-20T09:18:44Z</dcterms:modified>
  <cp:revision>43</cp:revision>
  <dc:subject/>
  <dc:title>Séminaire du PSI - 20/12/2001 - Fabien Gandon projet ACACIA INRIA Sophia-Antipolis</dc:title>
</cp:coreProperties>
</file>