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9D01-D7FF-4602-B71B-81AA73E1C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33360" y="338328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C9F2-61BC-4199-956D-89F09655E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72544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51D1-32FC-498F-B66F-70BD22256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0396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420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3336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0396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7420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E445-F80C-4A21-BF32-317779941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6000" y="6477120"/>
            <a:ext cx="68580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0956-8E1A-44BA-904D-ADD35F780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72544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133360" y="338328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72544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0396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74200" y="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13336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50396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874200" y="3383280"/>
            <a:ext cx="225720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4587-77AE-4747-9144-FE75B4F74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C299-EA60-4AC3-ACAA-8BAAC6A41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3998-F144-429E-B720-CFD714877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0" y="6477120"/>
            <a:ext cx="68580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B15C-CD95-4DAA-886E-6FC22AAF2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63DA-4BD2-48EE-AC3E-63737E96C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25440" y="338328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FB44-507C-4D5E-BF08-E926D970F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0" y="6468120"/>
            <a:ext cx="6858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25440" y="0"/>
            <a:ext cx="342072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33360" y="3383280"/>
            <a:ext cx="7010280" cy="30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39B2-0958-4478-A08D-5CD26CE04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7120" y="6566040"/>
            <a:ext cx="175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CD28-3601-48B6-A5CB-149B2D71015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2320" y="632448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éminaire Systèmes Distribués et Connaiss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Winner" descr=""/>
          <p:cNvPicPr/>
          <p:nvPr/>
        </p:nvPicPr>
        <p:blipFill>
          <a:blip r:embed="rId2"/>
          <a:stretch/>
        </p:blipFill>
        <p:spPr>
          <a:xfrm>
            <a:off x="2448000" y="1557360"/>
            <a:ext cx="6543720" cy="3090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58440" y="37339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808080"/>
                </a:solidFill>
                <a:latin typeface="Arial"/>
              </a:rPr>
              <a:t>Fabien G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55800" y="67816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Entreti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133360" y="-7632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de recue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eti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362320" y="1523880"/>
            <a:ext cx="3730680" cy="4800600"/>
            <a:chOff x="2362320" y="1523880"/>
            <a:chExt cx="3730680" cy="4800600"/>
          </a:xfrm>
        </p:grpSpPr>
        <p:sp>
          <p:nvSpPr>
            <p:cNvPr id="318" name=""/>
            <p:cNvSpPr/>
            <p:nvPr/>
          </p:nvSpPr>
          <p:spPr>
            <a:xfrm>
              <a:off x="2362320" y="1523880"/>
              <a:ext cx="3730680" cy="4800600"/>
            </a:xfrm>
            <a:prstGeom prst="foldedCorner">
              <a:avLst>
                <a:gd name="adj" fmla="val 52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2420640" y="1588680"/>
              <a:ext cx="3509280" cy="454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2652840" y="2173320"/>
            <a:ext cx="6567480" cy="3542760"/>
            <a:chOff x="2652840" y="2173320"/>
            <a:chExt cx="6567480" cy="3542760"/>
          </a:xfrm>
        </p:grpSpPr>
        <p:grpSp>
          <p:nvGrpSpPr>
            <p:cNvPr id="321" name=""/>
            <p:cNvGrpSpPr/>
            <p:nvPr/>
          </p:nvGrpSpPr>
          <p:grpSpPr>
            <a:xfrm>
              <a:off x="2652840" y="2173320"/>
              <a:ext cx="5862600" cy="3542760"/>
              <a:chOff x="2652840" y="2173320"/>
              <a:chExt cx="5862600" cy="35427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2652840" y="2327040"/>
                <a:ext cx="3263400" cy="3389040"/>
                <a:chOff x="2652840" y="2327040"/>
                <a:chExt cx="3263400" cy="3389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595840" y="2327040"/>
                  <a:ext cx="2912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52840" y="2497320"/>
                  <a:ext cx="15732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042160" y="2497320"/>
                  <a:ext cx="8157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652840" y="2691720"/>
                  <a:ext cx="4078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82840" y="3648600"/>
                  <a:ext cx="168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674800" y="3826800"/>
                  <a:ext cx="6991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039120" y="4013280"/>
                  <a:ext cx="9320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993120" y="5156280"/>
                  <a:ext cx="19231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689200" y="5334840"/>
                  <a:ext cx="32050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711160" y="5521320"/>
                  <a:ext cx="16318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753000" y="5716080"/>
                  <a:ext cx="9320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>
                <a:off x="6146280" y="2173320"/>
                <a:ext cx="236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00"/>
                    </a:solidFill>
                    <a:latin typeface="Times New Roman"/>
                  </a:rPr>
                  <a:t>Définition du rô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2652840" y="4597560"/>
              <a:ext cx="3264840" cy="169560"/>
              <a:chOff x="2652840" y="4597560"/>
              <a:chExt cx="3264840" cy="169560"/>
            </a:xfrm>
          </p:grpSpPr>
          <p:sp>
            <p:nvSpPr>
              <p:cNvPr id="336" name=""/>
              <p:cNvSpPr/>
              <p:nvPr/>
            </p:nvSpPr>
            <p:spPr>
              <a:xfrm>
                <a:off x="3760560" y="4597560"/>
                <a:ext cx="215712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52840" y="4767120"/>
                <a:ext cx="134100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6149880" y="4313160"/>
              <a:ext cx="3070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Posi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Définition personn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9933"/>
                  </a:solidFill>
                  <a:latin typeface="Times New Roman"/>
                </a:rPr>
                <a:t>définition offici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2652840" y="2820960"/>
              <a:ext cx="5406840" cy="825480"/>
              <a:chOff x="2652840" y="2820960"/>
              <a:chExt cx="5406840" cy="82548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2652840" y="3080520"/>
                <a:ext cx="3263400" cy="194760"/>
                <a:chOff x="2652840" y="3080520"/>
                <a:chExt cx="3263400" cy="1947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818520" y="3080520"/>
                  <a:ext cx="1631520" cy="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799600" y="3080520"/>
                  <a:ext cx="116640" cy="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652840" y="3275280"/>
                  <a:ext cx="1515240" cy="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6149160" y="2820960"/>
                <a:ext cx="1910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Réseau d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connaissan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53F6-1EC8-4D95-84FE-A4AB697971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Obser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133360" y="-76680"/>
            <a:ext cx="7010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de recue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eti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Atos-Laet-bureau-3" descr=""/>
          <p:cNvPicPr/>
          <p:nvPr/>
        </p:nvPicPr>
        <p:blipFill>
          <a:blip r:embed="rId2"/>
          <a:stretch/>
        </p:blipFill>
        <p:spPr>
          <a:xfrm>
            <a:off x="2971800" y="2124000"/>
            <a:ext cx="5410080" cy="389088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2971800" y="2124000"/>
            <a:ext cx="5410080" cy="3895560"/>
            <a:chOff x="2971800" y="2124000"/>
            <a:chExt cx="5410080" cy="3895560"/>
          </a:xfrm>
        </p:grpSpPr>
        <p:grpSp>
          <p:nvGrpSpPr>
            <p:cNvPr id="350" name=""/>
            <p:cNvGrpSpPr/>
            <p:nvPr/>
          </p:nvGrpSpPr>
          <p:grpSpPr>
            <a:xfrm>
              <a:off x="2971800" y="2124000"/>
              <a:ext cx="5410080" cy="3895560"/>
              <a:chOff x="2971800" y="2124000"/>
              <a:chExt cx="5410080" cy="3895560"/>
            </a:xfrm>
          </p:grpSpPr>
          <p:sp>
            <p:nvSpPr>
              <p:cNvPr id="351" name=""/>
              <p:cNvSpPr/>
              <p:nvPr/>
            </p:nvSpPr>
            <p:spPr>
              <a:xfrm>
                <a:off x="2971800" y="2124000"/>
                <a:ext cx="5410080" cy="1447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71800" y="3190680"/>
                <a:ext cx="1371600" cy="1067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29400" y="3190680"/>
                <a:ext cx="1219320" cy="1295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343400" y="3495600"/>
                <a:ext cx="175248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43400" y="3800520"/>
                <a:ext cx="533520" cy="45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410080" y="3647880"/>
                <a:ext cx="685800" cy="45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76920" y="4105080"/>
                <a:ext cx="1752480" cy="76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96080" y="3571920"/>
                <a:ext cx="685800" cy="45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29400" y="4333680"/>
                <a:ext cx="1752480" cy="457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1800" y="4790880"/>
                <a:ext cx="4191120" cy="685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43800" y="4790880"/>
                <a:ext cx="838080" cy="762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71800" y="5410080"/>
                <a:ext cx="5410080" cy="609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4181400"/>
                <a:ext cx="838080" cy="762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71800" y="4410000"/>
                <a:ext cx="3048120" cy="762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71800" y="4181400"/>
                <a:ext cx="2362320" cy="762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7162920" y="4791240"/>
              <a:ext cx="3808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95880" y="3568680"/>
              <a:ext cx="533520" cy="53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6920" y="3797280"/>
              <a:ext cx="53316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4120" y="4178160"/>
              <a:ext cx="68580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48720" y="4025880"/>
              <a:ext cx="53316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E86A-909E-4AEA-AFC5-A236B735DB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Documents (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133360" y="-7632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de recue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eti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e d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971800" y="2514600"/>
            <a:ext cx="5798880" cy="3581280"/>
            <a:chOff x="2971800" y="2514600"/>
            <a:chExt cx="5798880" cy="3581280"/>
          </a:xfrm>
        </p:grpSpPr>
        <p:pic>
          <p:nvPicPr>
            <p:cNvPr id="375" name="agenda-Atos-2" descr=""/>
            <p:cNvPicPr/>
            <p:nvPr/>
          </p:nvPicPr>
          <p:blipFill>
            <a:blip r:embed="rId2"/>
            <a:stretch/>
          </p:blipFill>
          <p:spPr>
            <a:xfrm>
              <a:off x="2971800" y="2514600"/>
              <a:ext cx="4229280" cy="3581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53680" y="3121920"/>
              <a:ext cx="3673440" cy="1668960"/>
              <a:chOff x="5053680" y="3121920"/>
              <a:chExt cx="3673440" cy="166896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5053680" y="3121920"/>
                <a:ext cx="2407320" cy="1668960"/>
                <a:chOff x="5053680" y="3121920"/>
                <a:chExt cx="2407320" cy="166896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5053680" y="3501360"/>
                  <a:ext cx="2407320" cy="12895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6100200" y="3501000"/>
                  <a:ext cx="1360440" cy="151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047640" y="3121920"/>
                  <a:ext cx="1413000" cy="3794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7459920" y="3199320"/>
                <a:ext cx="126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ser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817800" y="3273480"/>
              <a:ext cx="4952880" cy="1896480"/>
              <a:chOff x="3817800" y="3273480"/>
              <a:chExt cx="4952880" cy="189648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3817800" y="3273480"/>
                <a:ext cx="3643560" cy="1896480"/>
                <a:chOff x="3817800" y="3273480"/>
                <a:chExt cx="3643560" cy="1896480"/>
              </a:xfrm>
            </p:grpSpPr>
            <p:sp>
              <p:nvSpPr>
                <p:cNvPr id="384" name=""/>
                <p:cNvSpPr/>
                <p:nvPr/>
              </p:nvSpPr>
              <p:spPr>
                <a:xfrm flipV="1">
                  <a:off x="4938840" y="4411440"/>
                  <a:ext cx="2522520" cy="75852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059880" y="3728520"/>
                  <a:ext cx="1401120" cy="682920"/>
                </a:xfrm>
                <a:prstGeom prst="line">
                  <a:avLst/>
                </a:prstGeom>
                <a:ln w="1908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882680" y="4335840"/>
                  <a:ext cx="2578320" cy="759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154040" y="3273480"/>
                  <a:ext cx="3306960" cy="1138320"/>
                </a:xfrm>
                <a:prstGeom prst="line">
                  <a:avLst/>
                </a:prstGeom>
                <a:ln w="1908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7800" y="3804480"/>
                  <a:ext cx="3643560" cy="607320"/>
                </a:xfrm>
                <a:prstGeom prst="line">
                  <a:avLst/>
                </a:prstGeom>
                <a:ln w="1908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3873600" y="4411440"/>
                  <a:ext cx="3587400" cy="75852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7463880" y="4136400"/>
                <a:ext cx="130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de 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uleu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1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4BD9-8D0D-4148-9323-3D30F8CAF2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Documents (I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133360" y="-7632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de recue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reti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e d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332748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5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6DE8-287D-4FF5-A9D7-6DE48D6AAE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Représ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eprésentation des connaissan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tologie pour la 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entification des concepts &amp;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roche cro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lisation en RD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odèles organisation &amp; utilisat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èles infor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lisation en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nnotations des ressources de la mémoire en R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ide à l'explo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férences de recher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férences de proactivité &amp; d'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cc3300"/>
                </a:solidFill>
                <a:latin typeface="Arial"/>
              </a:rPr>
              <a:t>Demo Time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76E1-FD2B-4A21-87E7-DFA5CFEA3A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: Motivations et Approche Envisagé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stats sur la nature même du problè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émoire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estion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pulation utilisateur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MA : Corporate Memory Management through Ag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nvironnement de gestion de la mémoire d'entrepri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nalyse par scénari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de à l'insertion d'un nouvel employ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pport de la veille techn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tégration de nouvelles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D299-41ED-4B41-85F4-D161632E24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: Motivations et Approche Envisagé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ts sur la nature même du problè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moire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stion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utilisateur distribuée et hétérogè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i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438280" y="3124080"/>
            <a:ext cx="6629040" cy="609480"/>
            <a:chOff x="2438280" y="3124080"/>
            <a:chExt cx="6629040" cy="609480"/>
          </a:xfrm>
        </p:grpSpPr>
        <p:sp>
          <p:nvSpPr>
            <p:cNvPr id="87" name=""/>
            <p:cNvSpPr/>
            <p:nvPr/>
          </p:nvSpPr>
          <p:spPr>
            <a:xfrm>
              <a:off x="2438280" y="3124080"/>
              <a:ext cx="3505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Matérialisation 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16760" y="3124080"/>
              <a:ext cx="27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Exploitation 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590920" y="3124080"/>
              <a:ext cx="6476400" cy="533160"/>
              <a:chOff x="2590920" y="3124080"/>
              <a:chExt cx="6476400" cy="533160"/>
            </a:xfrm>
          </p:grpSpPr>
          <p:sp>
            <p:nvSpPr>
              <p:cNvPr id="90" name=""/>
              <p:cNvSpPr/>
              <p:nvPr/>
            </p:nvSpPr>
            <p:spPr>
              <a:xfrm>
                <a:off x="2590920" y="3124080"/>
                <a:ext cx="3238200" cy="53316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29120" y="3124080"/>
                <a:ext cx="3238200" cy="53316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2590920" y="3657600"/>
            <a:ext cx="6476400" cy="2208600"/>
            <a:chOff x="2590920" y="3657600"/>
            <a:chExt cx="6476400" cy="2208600"/>
          </a:xfrm>
        </p:grpSpPr>
        <p:sp>
          <p:nvSpPr>
            <p:cNvPr id="93" name=""/>
            <p:cNvSpPr/>
            <p:nvPr/>
          </p:nvSpPr>
          <p:spPr>
            <a:xfrm>
              <a:off x="2590920" y="3657600"/>
              <a:ext cx="3238200" cy="22086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120" y="3657600"/>
              <a:ext cx="3238200" cy="22086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52760" y="3632040"/>
            <a:ext cx="32385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XML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tandard, Structure, Etendre, Valider, Trans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DF:    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otation,   Schém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3632040"/>
            <a:ext cx="33526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176760" indent="-176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ystème multiagents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odularité, Distribué,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760" indent="-176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pprentissage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daptation, Em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90920" y="5867280"/>
            <a:ext cx="6616440" cy="380880"/>
            <a:chOff x="2590920" y="5867280"/>
            <a:chExt cx="6616440" cy="380880"/>
          </a:xfrm>
        </p:grpSpPr>
        <p:sp>
          <p:nvSpPr>
            <p:cNvPr id="98" name=""/>
            <p:cNvSpPr/>
            <p:nvPr/>
          </p:nvSpPr>
          <p:spPr>
            <a:xfrm>
              <a:off x="2903400" y="5867280"/>
              <a:ext cx="2951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porate 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81600" y="5867280"/>
              <a:ext cx="3425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agement through </a:t>
              </a: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90920" y="5867280"/>
              <a:ext cx="6476760" cy="380880"/>
              <a:chOff x="2590920" y="5867280"/>
              <a:chExt cx="6476760" cy="380880"/>
            </a:xfrm>
          </p:grpSpPr>
          <p:sp>
            <p:nvSpPr>
              <p:cNvPr id="101" name=""/>
              <p:cNvSpPr/>
              <p:nvPr/>
            </p:nvSpPr>
            <p:spPr>
              <a:xfrm>
                <a:off x="2590920" y="5867280"/>
                <a:ext cx="3238560" cy="38088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29480" y="5867280"/>
                <a:ext cx="3238200" cy="38088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8895-0231-4804-8C17-CCD6C74A81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technique: XML &amp; R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ensible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tructuration &amp; format tex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réation et accès via réseaux intern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ers un standard dans l'indust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mpréhension Humain &amp;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TD: possibilité de définition form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euilles de style: manipulation formatag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source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nnotations internes/exter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DFS: RDF Schema (ontolog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0" lang="fr-FR" sz="2600" spc="-1" strike="noStrike">
                <a:solidFill>
                  <a:srgbClr val="cc3300"/>
                </a:solidFill>
                <a:latin typeface="Arial"/>
              </a:rPr>
              <a:t>: Si la mémoire devient un monde annoté, les agents peuvent utiliser la sémantique des annotations et par des inférences aider son exploi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RESE: GC &amp; RDF c.f. Dé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F5C1-0C9A-49D3-9BD8-E007A25227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ution technique: Systèmes Multi-Ag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touts des 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mposants logiciels faiblement coupl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changes: messages niveau séman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rchitecture/Configu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Architectur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types agents &amp; relations (Fixée lors de la concep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nfigura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topographie d'un SMA (Fixée lors du déploiem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0" lang="fr-FR" sz="2600" spc="-1" strike="noStrike">
                <a:solidFill>
                  <a:srgbClr val="cc3300"/>
                </a:solidFill>
                <a:latin typeface="Arial"/>
              </a:rPr>
              <a:t>: Une architecture fonctionnelle pour plusieurs configurations possibles afin de s'adapter au panel d'environnements que l'on trouve au sein d'une entrepr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hoix de déploiement sont motivés par: structure organisationnelle, topographie intranet, zones d'intérêt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3987-1EAE-4142-8FD8-707660B2C7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technique: Sociétés d'ag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-76320"/>
            <a:ext cx="7848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s-sociétés dédié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861160" y="457200"/>
            <a:ext cx="3206520" cy="761760"/>
            <a:chOff x="5861160" y="457200"/>
            <a:chExt cx="3206520" cy="761760"/>
          </a:xfrm>
        </p:grpSpPr>
        <p:sp>
          <p:nvSpPr>
            <p:cNvPr id="113" name=""/>
            <p:cNvSpPr/>
            <p:nvPr/>
          </p:nvSpPr>
          <p:spPr>
            <a:xfrm>
              <a:off x="5861160" y="457200"/>
              <a:ext cx="31795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6019920" y="609120"/>
              <a:ext cx="521640" cy="475200"/>
              <a:chOff x="6019920" y="609120"/>
              <a:chExt cx="521640" cy="47520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6197400" y="609120"/>
                <a:ext cx="344160" cy="389880"/>
                <a:chOff x="6197400" y="609120"/>
                <a:chExt cx="344160" cy="3898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197400" y="80424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6197400" y="60876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134400" y="637560"/>
                <a:ext cx="344160" cy="389880"/>
                <a:chOff x="6134400" y="637560"/>
                <a:chExt cx="344160" cy="3898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134400" y="83268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6134400" y="63720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082560" y="665640"/>
                <a:ext cx="344160" cy="389880"/>
                <a:chOff x="6082560" y="665640"/>
                <a:chExt cx="344160" cy="3898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082560" y="86076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6082560" y="66528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019920" y="694440"/>
                <a:ext cx="344160" cy="389880"/>
                <a:chOff x="6019920" y="694440"/>
                <a:chExt cx="344160" cy="3898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019920" y="88956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6019920" y="694080"/>
                  <a:ext cx="34416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" name=""/>
            <p:cNvSpPr/>
            <p:nvPr/>
          </p:nvSpPr>
          <p:spPr>
            <a:xfrm>
              <a:off x="6375240" y="514080"/>
              <a:ext cx="26924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ous-société dédiée aux       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36920" y="457200"/>
            <a:ext cx="3178080" cy="760320"/>
            <a:chOff x="2536920" y="457200"/>
            <a:chExt cx="3178080" cy="760320"/>
          </a:xfrm>
        </p:grpSpPr>
        <p:sp>
          <p:nvSpPr>
            <p:cNvPr id="129" name=""/>
            <p:cNvSpPr/>
            <p:nvPr/>
          </p:nvSpPr>
          <p:spPr>
            <a:xfrm>
              <a:off x="2536920" y="457200"/>
              <a:ext cx="317808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624040" y="609120"/>
              <a:ext cx="520560" cy="475200"/>
              <a:chOff x="2624040" y="609120"/>
              <a:chExt cx="520560" cy="47520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2801160" y="609120"/>
                <a:ext cx="343440" cy="389880"/>
                <a:chOff x="2801160" y="609120"/>
                <a:chExt cx="343440" cy="389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801160" y="80424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2801160" y="60876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738520" y="637560"/>
                <a:ext cx="343440" cy="389880"/>
                <a:chOff x="2738520" y="637560"/>
                <a:chExt cx="343440" cy="389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738520" y="83268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2738520" y="63720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686680" y="665640"/>
                <a:ext cx="343440" cy="389880"/>
                <a:chOff x="2686680" y="665640"/>
                <a:chExt cx="343440" cy="389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86680" y="86076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2686680" y="66528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624040" y="694440"/>
                <a:ext cx="343440" cy="389880"/>
                <a:chOff x="2624040" y="694440"/>
                <a:chExt cx="343440" cy="3898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624040" y="88956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2624040" y="694080"/>
                  <a:ext cx="34344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3127320" y="512640"/>
              <a:ext cx="2587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ous société dédiée 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419720" y="1549440"/>
            <a:ext cx="3472920" cy="760320"/>
            <a:chOff x="4419720" y="1549440"/>
            <a:chExt cx="3472920" cy="760320"/>
          </a:xfrm>
        </p:grpSpPr>
        <p:grpSp>
          <p:nvGrpSpPr>
            <p:cNvPr id="145" name=""/>
            <p:cNvGrpSpPr/>
            <p:nvPr/>
          </p:nvGrpSpPr>
          <p:grpSpPr>
            <a:xfrm>
              <a:off x="4419720" y="1549440"/>
              <a:ext cx="3178080" cy="725400"/>
              <a:chOff x="4419720" y="1549440"/>
              <a:chExt cx="3178080" cy="725400"/>
            </a:xfrm>
          </p:grpSpPr>
          <p:sp>
            <p:nvSpPr>
              <p:cNvPr id="146" name=""/>
              <p:cNvSpPr/>
              <p:nvPr/>
            </p:nvSpPr>
            <p:spPr>
              <a:xfrm>
                <a:off x="4419720" y="1549440"/>
                <a:ext cx="3178080" cy="725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4636800" y="1659960"/>
                <a:ext cx="520560" cy="473400"/>
                <a:chOff x="4636800" y="1659960"/>
                <a:chExt cx="520560" cy="47340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4813920" y="1659960"/>
                  <a:ext cx="343440" cy="388440"/>
                  <a:chOff x="4813920" y="1659960"/>
                  <a:chExt cx="343440" cy="3884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4813920" y="185436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4813920" y="165960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4751280" y="1688400"/>
                  <a:ext cx="343440" cy="388440"/>
                  <a:chOff x="4751280" y="1688400"/>
                  <a:chExt cx="343440" cy="38844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4751280" y="188280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>
                    <a:off x="4751280" y="168804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4699440" y="1716480"/>
                  <a:ext cx="343440" cy="388440"/>
                  <a:chOff x="4699440" y="1716480"/>
                  <a:chExt cx="343440" cy="3884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4699440" y="191088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4699440" y="171612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4636800" y="1744920"/>
                  <a:ext cx="343440" cy="388440"/>
                  <a:chOff x="4636800" y="1744920"/>
                  <a:chExt cx="343440" cy="3884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4636800" y="193932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V="1">
                    <a:off x="4636800" y="174456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0" name=""/>
            <p:cNvSpPr/>
            <p:nvPr/>
          </p:nvSpPr>
          <p:spPr>
            <a:xfrm>
              <a:off x="5084640" y="1604880"/>
              <a:ext cx="280800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ous-société dédiée à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 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425840" y="2598840"/>
            <a:ext cx="3727440" cy="759960"/>
            <a:chOff x="4425840" y="2598840"/>
            <a:chExt cx="3727440" cy="759960"/>
          </a:xfrm>
        </p:grpSpPr>
        <p:grpSp>
          <p:nvGrpSpPr>
            <p:cNvPr id="162" name=""/>
            <p:cNvGrpSpPr/>
            <p:nvPr/>
          </p:nvGrpSpPr>
          <p:grpSpPr>
            <a:xfrm>
              <a:off x="4425840" y="2598840"/>
              <a:ext cx="3178440" cy="725400"/>
              <a:chOff x="4425840" y="2598840"/>
              <a:chExt cx="3178440" cy="725400"/>
            </a:xfrm>
          </p:grpSpPr>
          <p:sp>
            <p:nvSpPr>
              <p:cNvPr id="163" name=""/>
              <p:cNvSpPr/>
              <p:nvPr/>
            </p:nvSpPr>
            <p:spPr>
              <a:xfrm>
                <a:off x="4425840" y="2598840"/>
                <a:ext cx="3178440" cy="725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643280" y="2710800"/>
                <a:ext cx="520560" cy="473400"/>
                <a:chOff x="4643280" y="2710800"/>
                <a:chExt cx="520560" cy="47340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4820400" y="2710800"/>
                  <a:ext cx="343440" cy="388440"/>
                  <a:chOff x="4820400" y="2710800"/>
                  <a:chExt cx="343440" cy="3884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4820400" y="290520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V="1">
                    <a:off x="4820400" y="271044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4757760" y="2739240"/>
                  <a:ext cx="343440" cy="388440"/>
                  <a:chOff x="4757760" y="2739240"/>
                  <a:chExt cx="343440" cy="3884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4757760" y="293364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4757760" y="273888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05920" y="2767320"/>
                  <a:ext cx="343440" cy="388440"/>
                  <a:chOff x="4705920" y="2767320"/>
                  <a:chExt cx="343440" cy="3884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4705920" y="296172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V="1">
                    <a:off x="4705920" y="276696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4643280" y="2795760"/>
                  <a:ext cx="343440" cy="388440"/>
                  <a:chOff x="4643280" y="2795760"/>
                  <a:chExt cx="343440" cy="3884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643280" y="299016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V="1">
                    <a:off x="4643280" y="2795400"/>
                    <a:ext cx="34344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7" name=""/>
            <p:cNvSpPr/>
            <p:nvPr/>
          </p:nvSpPr>
          <p:spPr>
            <a:xfrm>
              <a:off x="5164200" y="2654280"/>
              <a:ext cx="298908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ux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648320" y="1035000"/>
            <a:ext cx="2957040" cy="1658880"/>
            <a:chOff x="4648320" y="1035000"/>
            <a:chExt cx="2957040" cy="1658880"/>
          </a:xfrm>
        </p:grpSpPr>
        <p:sp>
          <p:nvSpPr>
            <p:cNvPr id="179" name=""/>
            <p:cNvSpPr/>
            <p:nvPr/>
          </p:nvSpPr>
          <p:spPr>
            <a:xfrm>
              <a:off x="4648320" y="1035000"/>
              <a:ext cx="738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865560" y="1035000"/>
              <a:ext cx="7398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1680" y="2133360"/>
              <a:ext cx="0" cy="56052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589120" y="4838400"/>
            <a:ext cx="2820960" cy="1562400"/>
            <a:chOff x="2589120" y="4838400"/>
            <a:chExt cx="2820960" cy="1562400"/>
          </a:xfrm>
        </p:grpSpPr>
        <p:sp>
          <p:nvSpPr>
            <p:cNvPr id="183" name=""/>
            <p:cNvSpPr/>
            <p:nvPr/>
          </p:nvSpPr>
          <p:spPr>
            <a:xfrm>
              <a:off x="2589120" y="5302080"/>
              <a:ext cx="2820960" cy="99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067280" y="5398560"/>
              <a:ext cx="177840" cy="260280"/>
              <a:chOff x="4067280" y="5398560"/>
              <a:chExt cx="177840" cy="260280"/>
            </a:xfrm>
          </p:grpSpPr>
          <p:sp>
            <p:nvSpPr>
              <p:cNvPr id="185" name=""/>
              <p:cNvSpPr/>
              <p:nvPr/>
            </p:nvSpPr>
            <p:spPr>
              <a:xfrm>
                <a:off x="4067280" y="5528880"/>
                <a:ext cx="177840" cy="12996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067280" y="5398200"/>
                <a:ext cx="177840" cy="12996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560840" y="5398560"/>
              <a:ext cx="179280" cy="260280"/>
              <a:chOff x="4560840" y="5398560"/>
              <a:chExt cx="179280" cy="260280"/>
            </a:xfrm>
          </p:grpSpPr>
          <p:sp>
            <p:nvSpPr>
              <p:cNvPr id="188" name=""/>
              <p:cNvSpPr/>
              <p:nvPr/>
            </p:nvSpPr>
            <p:spPr>
              <a:xfrm>
                <a:off x="4560840" y="5528880"/>
                <a:ext cx="179280" cy="12996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560840" y="5398200"/>
                <a:ext cx="179280" cy="12996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349880" y="5973480"/>
              <a:ext cx="177840" cy="260640"/>
              <a:chOff x="4349880" y="5973480"/>
              <a:chExt cx="177840" cy="260640"/>
            </a:xfrm>
          </p:grpSpPr>
          <p:sp>
            <p:nvSpPr>
              <p:cNvPr id="191" name=""/>
              <p:cNvSpPr/>
              <p:nvPr/>
            </p:nvSpPr>
            <p:spPr>
              <a:xfrm>
                <a:off x="4349880" y="610380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4349880" y="597348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632480" y="5973480"/>
              <a:ext cx="177480" cy="260640"/>
              <a:chOff x="4632480" y="5973480"/>
              <a:chExt cx="177480" cy="260640"/>
            </a:xfrm>
          </p:grpSpPr>
          <p:sp>
            <p:nvSpPr>
              <p:cNvPr id="194" name=""/>
              <p:cNvSpPr/>
              <p:nvPr/>
            </p:nvSpPr>
            <p:spPr>
              <a:xfrm>
                <a:off x="4632480" y="6103800"/>
                <a:ext cx="1774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632480" y="5973480"/>
                <a:ext cx="1774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915080" y="5973480"/>
              <a:ext cx="179280" cy="260640"/>
              <a:chOff x="4915080" y="5973480"/>
              <a:chExt cx="179280" cy="260640"/>
            </a:xfrm>
          </p:grpSpPr>
          <p:sp>
            <p:nvSpPr>
              <p:cNvPr id="197" name=""/>
              <p:cNvSpPr/>
              <p:nvPr/>
            </p:nvSpPr>
            <p:spPr>
              <a:xfrm>
                <a:off x="4915080" y="6103800"/>
                <a:ext cx="1792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4915080" y="5973480"/>
                <a:ext cx="17928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784680" y="5973480"/>
              <a:ext cx="177840" cy="260640"/>
              <a:chOff x="3784680" y="5973480"/>
              <a:chExt cx="177840" cy="260640"/>
            </a:xfrm>
          </p:grpSpPr>
          <p:sp>
            <p:nvSpPr>
              <p:cNvPr id="200" name=""/>
              <p:cNvSpPr/>
              <p:nvPr/>
            </p:nvSpPr>
            <p:spPr>
              <a:xfrm>
                <a:off x="3784680" y="610380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784680" y="597348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067280" y="5973480"/>
              <a:ext cx="177840" cy="260640"/>
              <a:chOff x="4067280" y="5973480"/>
              <a:chExt cx="177840" cy="260640"/>
            </a:xfrm>
          </p:grpSpPr>
          <p:sp>
            <p:nvSpPr>
              <p:cNvPr id="203" name=""/>
              <p:cNvSpPr/>
              <p:nvPr/>
            </p:nvSpPr>
            <p:spPr>
              <a:xfrm>
                <a:off x="4067280" y="610380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067280" y="5973480"/>
                <a:ext cx="177840" cy="130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flipH="1">
              <a:off x="3925440" y="5684760"/>
              <a:ext cx="18756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9320" y="5684760"/>
              <a:ext cx="79704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89120" y="5327640"/>
              <a:ext cx="12193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d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89120" y="5684760"/>
              <a:ext cx="13716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ource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65440" y="4843440"/>
              <a:ext cx="12812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Hiérarch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89120" y="5756040"/>
              <a:ext cx="2820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5520" y="4838760"/>
              <a:ext cx="210960" cy="531720"/>
            </a:xfrm>
            <a:prstGeom prst="downArrow">
              <a:avLst>
                <a:gd name="adj1" fmla="val 50000"/>
                <a:gd name="adj2" fmla="val 630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145760" y="4838040"/>
              <a:ext cx="212760" cy="531720"/>
            </a:xfrm>
            <a:prstGeom prst="downArrow">
              <a:avLst>
                <a:gd name="adj1" fmla="val 50000"/>
                <a:gd name="adj2" fmla="val 624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13372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ôles et relations (avantages et inconvénient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772160" y="4397040"/>
            <a:ext cx="2543040" cy="1469880"/>
            <a:chOff x="4772160" y="4397040"/>
            <a:chExt cx="2543040" cy="1469880"/>
          </a:xfrm>
        </p:grpSpPr>
        <p:sp>
          <p:nvSpPr>
            <p:cNvPr id="215" name=""/>
            <p:cNvSpPr/>
            <p:nvPr/>
          </p:nvSpPr>
          <p:spPr>
            <a:xfrm>
              <a:off x="4772160" y="4876560"/>
              <a:ext cx="254304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699160" y="4981320"/>
              <a:ext cx="216000" cy="282240"/>
              <a:chOff x="5699160" y="4981320"/>
              <a:chExt cx="216000" cy="282240"/>
            </a:xfrm>
          </p:grpSpPr>
          <p:sp>
            <p:nvSpPr>
              <p:cNvPr id="217" name=""/>
              <p:cNvSpPr/>
              <p:nvPr/>
            </p:nvSpPr>
            <p:spPr>
              <a:xfrm>
                <a:off x="5699160" y="5122440"/>
                <a:ext cx="2160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5699160" y="4981320"/>
                <a:ext cx="2160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077080" y="4952880"/>
              <a:ext cx="215640" cy="283680"/>
              <a:chOff x="5077080" y="4952880"/>
              <a:chExt cx="215640" cy="283680"/>
            </a:xfrm>
          </p:grpSpPr>
          <p:sp>
            <p:nvSpPr>
              <p:cNvPr id="220" name=""/>
              <p:cNvSpPr/>
              <p:nvPr/>
            </p:nvSpPr>
            <p:spPr>
              <a:xfrm>
                <a:off x="5077080" y="509472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077080" y="495288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720120" y="5025960"/>
              <a:ext cx="214200" cy="283680"/>
              <a:chOff x="6720120" y="5025960"/>
              <a:chExt cx="214200" cy="283680"/>
            </a:xfrm>
          </p:grpSpPr>
          <p:sp>
            <p:nvSpPr>
              <p:cNvPr id="223" name=""/>
              <p:cNvSpPr/>
              <p:nvPr/>
            </p:nvSpPr>
            <p:spPr>
              <a:xfrm>
                <a:off x="6720120" y="5167800"/>
                <a:ext cx="21420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720120" y="5025960"/>
                <a:ext cx="21420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445360" y="5516280"/>
              <a:ext cx="214200" cy="282240"/>
              <a:chOff x="5445360" y="5516280"/>
              <a:chExt cx="214200" cy="282240"/>
            </a:xfrm>
          </p:grpSpPr>
          <p:sp>
            <p:nvSpPr>
              <p:cNvPr id="226" name=""/>
              <p:cNvSpPr/>
              <p:nvPr/>
            </p:nvSpPr>
            <p:spPr>
              <a:xfrm>
                <a:off x="5445360" y="565740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445360" y="551628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720120" y="5516280"/>
              <a:ext cx="214200" cy="282240"/>
              <a:chOff x="6720120" y="5516280"/>
              <a:chExt cx="214200" cy="282240"/>
            </a:xfrm>
          </p:grpSpPr>
          <p:sp>
            <p:nvSpPr>
              <p:cNvPr id="229" name=""/>
              <p:cNvSpPr/>
              <p:nvPr/>
            </p:nvSpPr>
            <p:spPr>
              <a:xfrm>
                <a:off x="6720120" y="565740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6720120" y="551628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934160" y="5403600"/>
              <a:ext cx="215640" cy="283680"/>
              <a:chOff x="4934160" y="5403600"/>
              <a:chExt cx="215640" cy="283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934160" y="554544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934160" y="540360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040440" y="5460840"/>
              <a:ext cx="214560" cy="282240"/>
              <a:chOff x="6040440" y="5460840"/>
              <a:chExt cx="214560" cy="282240"/>
            </a:xfrm>
          </p:grpSpPr>
          <p:sp>
            <p:nvSpPr>
              <p:cNvPr id="235" name=""/>
              <p:cNvSpPr/>
              <p:nvPr/>
            </p:nvSpPr>
            <p:spPr>
              <a:xfrm>
                <a:off x="6040440" y="5601960"/>
                <a:ext cx="21456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6040440" y="5460840"/>
                <a:ext cx="21456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077080" y="4419360"/>
              <a:ext cx="195552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Egal à Eg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53440" y="4397400"/>
              <a:ext cx="255600" cy="593640"/>
            </a:xfrm>
            <a:prstGeom prst="downArrow">
              <a:avLst>
                <a:gd name="adj1" fmla="val 50000"/>
                <a:gd name="adj2" fmla="val 580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6809040" y="4396680"/>
              <a:ext cx="255600" cy="593640"/>
            </a:xfrm>
            <a:prstGeom prst="downArrow">
              <a:avLst>
                <a:gd name="adj1" fmla="val 50000"/>
                <a:gd name="adj2" fmla="val 580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29360" y="5105160"/>
              <a:ext cx="377640" cy="31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65840" y="5195520"/>
              <a:ext cx="992160" cy="496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841720" y="5101920"/>
              <a:ext cx="939960" cy="56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183280" y="5301720"/>
              <a:ext cx="176400" cy="163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572080" y="5643360"/>
              <a:ext cx="363600" cy="10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83400" y="5302080"/>
              <a:ext cx="152280" cy="26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7080" y="5562360"/>
              <a:ext cx="317520" cy="102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524640" y="3886200"/>
            <a:ext cx="2543040" cy="1447920"/>
            <a:chOff x="6524640" y="3886200"/>
            <a:chExt cx="2543040" cy="1447920"/>
          </a:xfrm>
        </p:grpSpPr>
        <p:sp>
          <p:nvSpPr>
            <p:cNvPr id="248" name=""/>
            <p:cNvSpPr/>
            <p:nvPr/>
          </p:nvSpPr>
          <p:spPr>
            <a:xfrm>
              <a:off x="6524640" y="4343400"/>
              <a:ext cx="25430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7451640" y="4448160"/>
              <a:ext cx="216000" cy="282240"/>
              <a:chOff x="7451640" y="4448160"/>
              <a:chExt cx="216000" cy="282240"/>
            </a:xfrm>
          </p:grpSpPr>
          <p:sp>
            <p:nvSpPr>
              <p:cNvPr id="250" name=""/>
              <p:cNvSpPr/>
              <p:nvPr/>
            </p:nvSpPr>
            <p:spPr>
              <a:xfrm>
                <a:off x="7451640" y="4589280"/>
                <a:ext cx="2160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451640" y="4448160"/>
                <a:ext cx="2160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829560" y="4419720"/>
              <a:ext cx="215640" cy="283680"/>
              <a:chOff x="6829560" y="4419720"/>
              <a:chExt cx="215640" cy="283680"/>
            </a:xfrm>
          </p:grpSpPr>
          <p:sp>
            <p:nvSpPr>
              <p:cNvPr id="253" name=""/>
              <p:cNvSpPr/>
              <p:nvPr/>
            </p:nvSpPr>
            <p:spPr>
              <a:xfrm>
                <a:off x="6829560" y="456156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829560" y="4419720"/>
                <a:ext cx="21564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472600" y="4492800"/>
              <a:ext cx="214200" cy="283680"/>
              <a:chOff x="8472600" y="4492800"/>
              <a:chExt cx="214200" cy="283680"/>
            </a:xfrm>
          </p:grpSpPr>
          <p:sp>
            <p:nvSpPr>
              <p:cNvPr id="256" name=""/>
              <p:cNvSpPr/>
              <p:nvPr/>
            </p:nvSpPr>
            <p:spPr>
              <a:xfrm>
                <a:off x="8472600" y="4634640"/>
                <a:ext cx="21420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8472600" y="4492800"/>
                <a:ext cx="214200" cy="14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197840" y="4983120"/>
              <a:ext cx="214200" cy="282240"/>
              <a:chOff x="7197840" y="4983120"/>
              <a:chExt cx="214200" cy="282240"/>
            </a:xfrm>
          </p:grpSpPr>
          <p:sp>
            <p:nvSpPr>
              <p:cNvPr id="259" name=""/>
              <p:cNvSpPr/>
              <p:nvPr/>
            </p:nvSpPr>
            <p:spPr>
              <a:xfrm>
                <a:off x="7197840" y="512424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7197840" y="498312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8472600" y="4983120"/>
              <a:ext cx="214200" cy="282240"/>
              <a:chOff x="8472600" y="4983120"/>
              <a:chExt cx="214200" cy="282240"/>
            </a:xfrm>
          </p:grpSpPr>
          <p:sp>
            <p:nvSpPr>
              <p:cNvPr id="262" name=""/>
              <p:cNvSpPr/>
              <p:nvPr/>
            </p:nvSpPr>
            <p:spPr>
              <a:xfrm>
                <a:off x="8472600" y="512424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472600" y="4983120"/>
                <a:ext cx="21420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686640" y="4870080"/>
              <a:ext cx="216000" cy="284760"/>
              <a:chOff x="6686640" y="4870080"/>
              <a:chExt cx="216000" cy="284760"/>
            </a:xfrm>
          </p:grpSpPr>
          <p:sp>
            <p:nvSpPr>
              <p:cNvPr id="265" name=""/>
              <p:cNvSpPr/>
              <p:nvPr/>
            </p:nvSpPr>
            <p:spPr>
              <a:xfrm>
                <a:off x="6686640" y="5012640"/>
                <a:ext cx="216000" cy="142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6686640" y="4869720"/>
                <a:ext cx="216000" cy="142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792920" y="4927680"/>
              <a:ext cx="214560" cy="282240"/>
              <a:chOff x="7792920" y="4927680"/>
              <a:chExt cx="214560" cy="282240"/>
            </a:xfrm>
          </p:grpSpPr>
          <p:sp>
            <p:nvSpPr>
              <p:cNvPr id="268" name=""/>
              <p:cNvSpPr/>
              <p:nvPr/>
            </p:nvSpPr>
            <p:spPr>
              <a:xfrm>
                <a:off x="7792920" y="5068800"/>
                <a:ext cx="21456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792920" y="4927680"/>
                <a:ext cx="21456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6829560" y="3886200"/>
              <a:ext cx="1955520" cy="10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Ré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05920" y="3902040"/>
              <a:ext cx="255600" cy="555840"/>
            </a:xfrm>
            <a:prstGeom prst="downArrow">
              <a:avLst>
                <a:gd name="adj1" fmla="val 50000"/>
                <a:gd name="adj2" fmla="val 543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8561520" y="3902040"/>
              <a:ext cx="255600" cy="555840"/>
            </a:xfrm>
            <a:prstGeom prst="downArrow">
              <a:avLst>
                <a:gd name="adj1" fmla="val 50000"/>
                <a:gd name="adj2" fmla="val 543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3200" y="990720"/>
            <a:ext cx="3429000" cy="1465560"/>
            <a:chOff x="2743200" y="990720"/>
            <a:chExt cx="3429000" cy="1465560"/>
          </a:xfrm>
        </p:grpSpPr>
        <p:sp>
          <p:nvSpPr>
            <p:cNvPr id="274" name=""/>
            <p:cNvSpPr/>
            <p:nvPr/>
          </p:nvSpPr>
          <p:spPr>
            <a:xfrm flipV="1">
              <a:off x="3479760" y="990720"/>
              <a:ext cx="2692440" cy="7617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2743200" y="990720"/>
              <a:ext cx="736560" cy="7617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124080" y="1523880"/>
              <a:ext cx="606600" cy="611640"/>
              <a:chOff x="3124080" y="1523880"/>
              <a:chExt cx="606600" cy="611640"/>
            </a:xfrm>
          </p:grpSpPr>
          <p:sp>
            <p:nvSpPr>
              <p:cNvPr id="277" name=""/>
              <p:cNvSpPr/>
              <p:nvPr/>
            </p:nvSpPr>
            <p:spPr>
              <a:xfrm>
                <a:off x="3425760" y="1523880"/>
                <a:ext cx="304920" cy="456840"/>
              </a:xfrm>
              <a:prstGeom prst="can">
                <a:avLst>
                  <a:gd name="adj" fmla="val 25000"/>
                </a:avLst>
              </a:prstGeom>
              <a:solidFill>
                <a:srgbClr val="cc33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3124080" y="1612440"/>
                <a:ext cx="533520" cy="523080"/>
                <a:chOff x="3124080" y="1612440"/>
                <a:chExt cx="533520" cy="52308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3429000" y="1891800"/>
                  <a:ext cx="228600" cy="243720"/>
                  <a:chOff x="3429000" y="1891800"/>
                  <a:chExt cx="228600" cy="243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3429000" y="1891800"/>
                    <a:ext cx="228600" cy="243720"/>
                  </a:xfrm>
                  <a:custGeom>
                    <a:avLst/>
                    <a:gdLst>
                      <a:gd name="textAreaLeft" fmla="*/ 60840 w 228600"/>
                      <a:gd name="textAreaRight" fmla="*/ 167760 w 228600"/>
                      <a:gd name="textAreaTop" fmla="*/ 64800 h 243720"/>
                      <a:gd name="textAreaBottom" fmla="*/ 178920 h 24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3791" y="12162"/>
                        </a:lnTo>
                        <a:lnTo>
                          <a:pt x="786" y="14846"/>
                        </a:lnTo>
                        <a:lnTo>
                          <a:pt x="4812" y="14689"/>
                        </a:lnTo>
                        <a:lnTo>
                          <a:pt x="3163" y="18437"/>
                        </a:lnTo>
                        <a:lnTo>
                          <a:pt x="6807" y="16719"/>
                        </a:lnTo>
                        <a:lnTo>
                          <a:pt x="6580" y="20741"/>
                        </a:lnTo>
                        <a:lnTo>
                          <a:pt x="9316" y="17784"/>
                        </a:lnTo>
                        <a:lnTo>
                          <a:pt x="10800" y="21600"/>
                        </a:lnTo>
                        <a:lnTo>
                          <a:pt x="12162" y="17809"/>
                        </a:lnTo>
                        <a:lnTo>
                          <a:pt x="14846" y="20814"/>
                        </a:lnTo>
                        <a:lnTo>
                          <a:pt x="14689" y="16788"/>
                        </a:lnTo>
                        <a:lnTo>
                          <a:pt x="18437" y="18437"/>
                        </a:lnTo>
                        <a:lnTo>
                          <a:pt x="16719" y="14793"/>
                        </a:lnTo>
                        <a:lnTo>
                          <a:pt x="20741" y="15020"/>
                        </a:lnTo>
                        <a:lnTo>
                          <a:pt x="17784" y="12284"/>
                        </a:lnTo>
                        <a:lnTo>
                          <a:pt x="21600" y="10800"/>
                        </a:lnTo>
                        <a:lnTo>
                          <a:pt x="17809" y="9438"/>
                        </a:lnTo>
                        <a:lnTo>
                          <a:pt x="20814" y="6754"/>
                        </a:lnTo>
                        <a:lnTo>
                          <a:pt x="16788" y="6911"/>
                        </a:lnTo>
                        <a:lnTo>
                          <a:pt x="18437" y="3163"/>
                        </a:lnTo>
                        <a:lnTo>
                          <a:pt x="14793" y="4881"/>
                        </a:lnTo>
                        <a:lnTo>
                          <a:pt x="15020" y="859"/>
                        </a:lnTo>
                        <a:lnTo>
                          <a:pt x="12284" y="3816"/>
                        </a:lnTo>
                        <a:lnTo>
                          <a:pt x="10800" y="0"/>
                        </a:lnTo>
                        <a:lnTo>
                          <a:pt x="9438" y="3791"/>
                        </a:lnTo>
                        <a:lnTo>
                          <a:pt x="6754" y="786"/>
                        </a:lnTo>
                        <a:lnTo>
                          <a:pt x="6911" y="4812"/>
                        </a:lnTo>
                        <a:lnTo>
                          <a:pt x="3163" y="3163"/>
                        </a:lnTo>
                        <a:lnTo>
                          <a:pt x="4881" y="6807"/>
                        </a:lnTo>
                        <a:lnTo>
                          <a:pt x="859" y="6580"/>
                        </a:lnTo>
                        <a:lnTo>
                          <a:pt x="3816" y="9316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520440" y="1990800"/>
                    <a:ext cx="45720" cy="45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3124080" y="1612440"/>
                  <a:ext cx="398880" cy="411480"/>
                  <a:chOff x="3124080" y="1612440"/>
                  <a:chExt cx="398880" cy="41148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3124080" y="1612440"/>
                    <a:ext cx="398880" cy="411480"/>
                  </a:xfrm>
                  <a:custGeom>
                    <a:avLst/>
                    <a:gdLst>
                      <a:gd name="textAreaLeft" fmla="*/ 91080 w 398880"/>
                      <a:gd name="textAreaRight" fmla="*/ 307800 w 398880"/>
                      <a:gd name="textAreaTop" fmla="*/ 93960 h 411480"/>
                      <a:gd name="textAreaBottom" fmla="*/ 317520 h 411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562" y="11812"/>
                        </a:lnTo>
                        <a:lnTo>
                          <a:pt x="368" y="13595"/>
                        </a:lnTo>
                        <a:lnTo>
                          <a:pt x="3104" y="13909"/>
                        </a:lnTo>
                        <a:lnTo>
                          <a:pt x="1447" y="16200"/>
                        </a:lnTo>
                        <a:lnTo>
                          <a:pt x="4171" y="15795"/>
                        </a:lnTo>
                        <a:lnTo>
                          <a:pt x="3163" y="18437"/>
                        </a:lnTo>
                        <a:lnTo>
                          <a:pt x="5690" y="17340"/>
                        </a:lnTo>
                        <a:lnTo>
                          <a:pt x="5400" y="20153"/>
                        </a:lnTo>
                        <a:lnTo>
                          <a:pt x="7557" y="18440"/>
                        </a:lnTo>
                        <a:lnTo>
                          <a:pt x="8005" y="21232"/>
                        </a:lnTo>
                        <a:lnTo>
                          <a:pt x="9645" y="19019"/>
                        </a:lnTo>
                        <a:lnTo>
                          <a:pt x="10800" y="21600"/>
                        </a:lnTo>
                        <a:lnTo>
                          <a:pt x="11812" y="19038"/>
                        </a:lnTo>
                        <a:lnTo>
                          <a:pt x="13595" y="21232"/>
                        </a:lnTo>
                        <a:lnTo>
                          <a:pt x="13909" y="18496"/>
                        </a:lnTo>
                        <a:lnTo>
                          <a:pt x="16200" y="20153"/>
                        </a:lnTo>
                        <a:lnTo>
                          <a:pt x="15795" y="17429"/>
                        </a:lnTo>
                        <a:lnTo>
                          <a:pt x="18437" y="18437"/>
                        </a:lnTo>
                        <a:lnTo>
                          <a:pt x="17340" y="15910"/>
                        </a:lnTo>
                        <a:lnTo>
                          <a:pt x="20153" y="16200"/>
                        </a:lnTo>
                        <a:lnTo>
                          <a:pt x="18440" y="14043"/>
                        </a:lnTo>
                        <a:lnTo>
                          <a:pt x="21232" y="13595"/>
                        </a:lnTo>
                        <a:lnTo>
                          <a:pt x="19019" y="11955"/>
                        </a:lnTo>
                        <a:lnTo>
                          <a:pt x="21600" y="10800"/>
                        </a:lnTo>
                        <a:lnTo>
                          <a:pt x="19038" y="9788"/>
                        </a:lnTo>
                        <a:lnTo>
                          <a:pt x="21232" y="8005"/>
                        </a:lnTo>
                        <a:lnTo>
                          <a:pt x="18496" y="7691"/>
                        </a:lnTo>
                        <a:lnTo>
                          <a:pt x="20153" y="5400"/>
                        </a:lnTo>
                        <a:lnTo>
                          <a:pt x="17429" y="5805"/>
                        </a:lnTo>
                        <a:lnTo>
                          <a:pt x="18437" y="3163"/>
                        </a:lnTo>
                        <a:lnTo>
                          <a:pt x="15910" y="4260"/>
                        </a:lnTo>
                        <a:lnTo>
                          <a:pt x="16200" y="1447"/>
                        </a:lnTo>
                        <a:lnTo>
                          <a:pt x="14043" y="3160"/>
                        </a:lnTo>
                        <a:lnTo>
                          <a:pt x="13595" y="368"/>
                        </a:lnTo>
                        <a:lnTo>
                          <a:pt x="11955" y="2581"/>
                        </a:lnTo>
                        <a:lnTo>
                          <a:pt x="10800" y="0"/>
                        </a:lnTo>
                        <a:lnTo>
                          <a:pt x="9788" y="2562"/>
                        </a:lnTo>
                        <a:lnTo>
                          <a:pt x="8005" y="368"/>
                        </a:lnTo>
                        <a:lnTo>
                          <a:pt x="7691" y="3104"/>
                        </a:lnTo>
                        <a:lnTo>
                          <a:pt x="5400" y="1447"/>
                        </a:lnTo>
                        <a:lnTo>
                          <a:pt x="5805" y="4171"/>
                        </a:lnTo>
                        <a:lnTo>
                          <a:pt x="3163" y="3163"/>
                        </a:lnTo>
                        <a:lnTo>
                          <a:pt x="4260" y="5690"/>
                        </a:lnTo>
                        <a:lnTo>
                          <a:pt x="1447" y="5400"/>
                        </a:lnTo>
                        <a:lnTo>
                          <a:pt x="3160" y="7557"/>
                        </a:lnTo>
                        <a:lnTo>
                          <a:pt x="368" y="8005"/>
                        </a:lnTo>
                        <a:lnTo>
                          <a:pt x="2581" y="9645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292920" y="1787760"/>
                    <a:ext cx="60840" cy="60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5" name=""/>
            <p:cNvSpPr/>
            <p:nvPr/>
          </p:nvSpPr>
          <p:spPr>
            <a:xfrm>
              <a:off x="2821320" y="205740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006A-2975-416E-A97B-F844729545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technique: Interactions entre ag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133360" y="-3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es &amp; Interactions (Université de Par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rcRect l="-553" t="-974" r="-553" b="-974"/>
          <a:stretch/>
        </p:blipFill>
        <p:spPr>
          <a:xfrm>
            <a:off x="2286000" y="129528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5000-AC5B-432A-88A2-E4A29B2B8D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technique: Apprentissage &amp; Communauté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133360" y="0"/>
            <a:ext cx="7010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ofils utilisateurs &amp; Profils grou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echniques d'apprenti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pprentissage au v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pprentissage diffé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aisonnement à partir de 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munautés d'intérê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roupes d'intérêts publics (push new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roupes émergents ('bouche à oreille'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0" lang="fr-FR" sz="2600" spc="-1" strike="noStrike">
                <a:solidFill>
                  <a:srgbClr val="cc3300"/>
                </a:solidFill>
                <a:latin typeface="Arial"/>
              </a:rPr>
              <a:t>: Représenter, apprendre et comparer les profils d'utilisation actuels afin d'améliorer la qualité de l'utilisation fu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EKA, XSLT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 u="sng">
                <a:solidFill>
                  <a:srgbClr val="cc3300"/>
                </a:solidFill>
                <a:uFillTx/>
                <a:latin typeface="Arial"/>
              </a:rPr>
              <a:t>Modélisation des connaissa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EAE8-32A8-43B9-B95D-D550011991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0" y="64771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génierie des connaissances : Scénar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133360" y="-7668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ques de recue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8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é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362320" y="990720"/>
            <a:ext cx="6629400" cy="5181480"/>
            <a:chOff x="2362320" y="990720"/>
            <a:chExt cx="6629400" cy="5181480"/>
          </a:xfrm>
        </p:grpSpPr>
        <p:sp>
          <p:nvSpPr>
            <p:cNvPr id="297" name=""/>
            <p:cNvSpPr/>
            <p:nvPr/>
          </p:nvSpPr>
          <p:spPr>
            <a:xfrm>
              <a:off x="2362320" y="990720"/>
              <a:ext cx="6629400" cy="51814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2371680" y="1011240"/>
              <a:ext cx="6620040" cy="409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2743200" y="1019160"/>
            <a:ext cx="6238800" cy="4774680"/>
            <a:chOff x="2743200" y="1019160"/>
            <a:chExt cx="6238800" cy="4774680"/>
          </a:xfrm>
        </p:grpSpPr>
        <p:sp>
          <p:nvSpPr>
            <p:cNvPr id="300" name=""/>
            <p:cNvSpPr/>
            <p:nvPr/>
          </p:nvSpPr>
          <p:spPr>
            <a:xfrm>
              <a:off x="2743200" y="1019160"/>
              <a:ext cx="2133720" cy="190440"/>
            </a:xfrm>
            <a:prstGeom prst="rect">
              <a:avLst/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0" y="1809720"/>
              <a:ext cx="1447920" cy="228600"/>
            </a:xfrm>
            <a:prstGeom prst="rect">
              <a:avLst/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080" y="4191120"/>
              <a:ext cx="1133640" cy="228600"/>
            </a:xfrm>
            <a:prstGeom prst="rect">
              <a:avLst/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3200" y="53341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3300"/>
                  </a:solidFill>
                  <a:latin typeface="Times New Roman"/>
                </a:rPr>
                <a:t>Document très riche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124080" y="1352520"/>
              <a:ext cx="5857920" cy="3390840"/>
              <a:chOff x="3124080" y="1352520"/>
              <a:chExt cx="5857920" cy="3390840"/>
            </a:xfrm>
          </p:grpSpPr>
          <p:sp>
            <p:nvSpPr>
              <p:cNvPr id="305" name=""/>
              <p:cNvSpPr/>
              <p:nvPr/>
            </p:nvSpPr>
            <p:spPr>
              <a:xfrm>
                <a:off x="7629120" y="1352520"/>
                <a:ext cx="129564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124080" y="3180960"/>
                <a:ext cx="274320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00760" y="4381200"/>
                <a:ext cx="99036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696080" y="3762000"/>
                <a:ext cx="76176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76760" y="3762000"/>
                <a:ext cx="91440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24280" y="4743360"/>
                <a:ext cx="137160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91160" y="3524040"/>
                <a:ext cx="144792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62680" y="4562280"/>
                <a:ext cx="121932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3733920" y="4905360"/>
              <a:ext cx="761760" cy="228600"/>
            </a:xfrm>
            <a:prstGeom prst="rect">
              <a:avLst/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0" y="76320"/>
            <a:ext cx="1905120" cy="67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L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M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oc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ion &amp; communau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Arial"/>
              </a:rPr>
              <a:t>Recueil et 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Repré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0E86-E5F8-44E3-A4F0-B4780534A0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9:07:16Z</dcterms:created>
  <dc:creator>fgandon</dc:creator>
  <dc:description/>
  <dc:language>en-US</dc:language>
  <cp:lastModifiedBy>fgandon</cp:lastModifiedBy>
  <dcterms:modified xsi:type="dcterms:W3CDTF">2000-11-27T07:58:36Z</dcterms:modified>
  <cp:revision>46</cp:revision>
  <dc:subject/>
  <dc:title>Séminaire Systèmes Distribués et Connaissances</dc:title>
</cp:coreProperties>
</file>