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81B17-813F-4D6C-8095-F1A5387EC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A6DE3-ABDA-4B78-9D3B-86229A412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A2D4A-EE3D-4A50-88D9-5BEB86FF1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84ACE-4447-4745-BA0A-28B7B1325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FFB81-2933-4FFD-859A-DD1A8409E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227AB-79CB-4ABB-A456-39E0B3871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C1184-5588-4080-BA6B-87322C49C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D502D-4C59-4D30-8814-CBCDE3FC4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DE900-3218-4317-9B26-6344B3603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CBB9A-6A54-4D3E-962E-9E39549B3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96BB0-EA6D-4AAB-9BE4-E0C8CAF23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11397-55DB-4266-B12E-A80867C7D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8F989-56FC-4E34-B1E1-4A6F7600A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EAD62-80AE-458C-B489-DA08A69F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C28AA-9B3F-4F86-91C6-235D4E216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1E751-597C-4EAD-AB54-A8106686B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7713A-805E-4A8A-8E42-8FFEC2235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09A76-FB11-4937-99D7-D6ABC62CE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3BFF4-E92A-4BC6-8D39-0EEC77ECC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F2676-9872-4148-BC9A-87E9881CA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20C0D-2CBE-4D1C-91E0-58BB0309F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3FCFF-64DA-42C8-82D1-46531D5E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EE656-26A5-4D5A-AD0C-5A0C47009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61C1B-98C2-48AE-B1E6-FA8BC876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F298C-6EC4-4081-8B3C-C76CB1926E6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5A1A7-B2A6-4A9D-BDC1-2546630B43D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Bump Mapping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5181480" y="1904760"/>
            <a:ext cx="3733920" cy="457560"/>
            <a:chOff x="5181480" y="1904760"/>
            <a:chExt cx="3733920" cy="457560"/>
          </a:xfrm>
        </p:grpSpPr>
        <p:sp>
          <p:nvSpPr>
            <p:cNvPr id="515" name=""/>
            <p:cNvSpPr/>
            <p:nvPr/>
          </p:nvSpPr>
          <p:spPr>
            <a:xfrm>
              <a:off x="5181480" y="2362320"/>
              <a:ext cx="1447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flipV="1">
              <a:off x="6629400" y="1942920"/>
              <a:ext cx="419040" cy="419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048440" y="1942920"/>
              <a:ext cx="419040" cy="4190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7467480" y="2362320"/>
              <a:ext cx="1447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5371920" y="2247480"/>
              <a:ext cx="0" cy="11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 flipV="1">
              <a:off x="5486400" y="2247480"/>
              <a:ext cx="0" cy="11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5600520" y="2247480"/>
              <a:ext cx="0" cy="11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5715000" y="2247480"/>
              <a:ext cx="0" cy="11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>
              <a:off x="5829120" y="2247480"/>
              <a:ext cx="0" cy="11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>
              <a:off x="5943600" y="2247480"/>
              <a:ext cx="0" cy="11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flipV="1">
              <a:off x="6057720" y="2247480"/>
              <a:ext cx="0" cy="11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>
              <a:off x="6172200" y="2247480"/>
              <a:ext cx="0" cy="11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 flipV="1">
              <a:off x="6286320" y="2247480"/>
              <a:ext cx="0" cy="11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 flipV="1">
              <a:off x="6400800" y="2247480"/>
              <a:ext cx="0" cy="11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flipV="1">
              <a:off x="6514920" y="2247480"/>
              <a:ext cx="0" cy="11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flipV="1">
              <a:off x="5257800" y="2247480"/>
              <a:ext cx="0" cy="11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629400" y="2209680"/>
              <a:ext cx="7596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705360" y="2133720"/>
              <a:ext cx="7596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781680" y="2057400"/>
              <a:ext cx="76320" cy="76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858000" y="1981080"/>
              <a:ext cx="7596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933960" y="1905120"/>
              <a:ext cx="7596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>
              <a:off x="7696080" y="2247480"/>
              <a:ext cx="0" cy="11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flipV="1">
              <a:off x="7810200" y="2247480"/>
              <a:ext cx="0" cy="11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>
              <a:off x="7924680" y="2247480"/>
              <a:ext cx="0" cy="11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flipV="1">
              <a:off x="8038800" y="2247480"/>
              <a:ext cx="0" cy="11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>
              <a:off x="8153280" y="2247480"/>
              <a:ext cx="0" cy="11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>
              <a:off x="8267400" y="2247480"/>
              <a:ext cx="0" cy="11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8381880" y="2247480"/>
              <a:ext cx="0" cy="11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8496000" y="2247480"/>
              <a:ext cx="0" cy="11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 flipV="1">
              <a:off x="8610480" y="2247480"/>
              <a:ext cx="0" cy="11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8724600" y="2247480"/>
              <a:ext cx="0" cy="11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8839080" y="2247480"/>
              <a:ext cx="0" cy="11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7581600" y="2247480"/>
              <a:ext cx="0" cy="114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7391160" y="2209320"/>
              <a:ext cx="7596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flipV="1">
              <a:off x="7315200" y="2133360"/>
              <a:ext cx="7596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7238880" y="2057400"/>
              <a:ext cx="76320" cy="76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7162560" y="1980720"/>
              <a:ext cx="7596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7086600" y="1904760"/>
              <a:ext cx="75960" cy="759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53" name=""/>
          <p:cNvGrpSpPr/>
          <p:nvPr/>
        </p:nvGrpSpPr>
        <p:grpSpPr>
          <a:xfrm>
            <a:off x="5105520" y="3885840"/>
            <a:ext cx="3733200" cy="152640"/>
            <a:chOff x="5105520" y="3885840"/>
            <a:chExt cx="3733200" cy="152640"/>
          </a:xfrm>
        </p:grpSpPr>
        <p:sp>
          <p:nvSpPr>
            <p:cNvPr id="554" name=""/>
            <p:cNvSpPr/>
            <p:nvPr/>
          </p:nvSpPr>
          <p:spPr>
            <a:xfrm>
              <a:off x="5105520" y="403848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553080" y="4038480"/>
              <a:ext cx="418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972120" y="4038480"/>
              <a:ext cx="418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7391160" y="4038480"/>
              <a:ext cx="1447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5295960" y="388584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>
              <a:off x="5410080" y="388584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5524560" y="388584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5638680" y="388584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5753160" y="388584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5867280" y="388584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5981760" y="388584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6095880" y="388584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6210360" y="388584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6324480" y="388584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6438960" y="388584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5181480" y="388584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553080" y="3936960"/>
              <a:ext cx="75960" cy="101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629400" y="3936960"/>
              <a:ext cx="75960" cy="101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705360" y="3936960"/>
              <a:ext cx="75960" cy="101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781680" y="3936960"/>
              <a:ext cx="75960" cy="101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858000" y="3936960"/>
              <a:ext cx="75960" cy="101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7619760" y="388584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7734240" y="388584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7848360" y="388584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7962840" y="388584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8076960" y="388584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8191440" y="388584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8305560" y="388584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8420040" y="388584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8534160" y="388584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8648640" y="388584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 flipV="1">
              <a:off x="8762760" y="388584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 flipV="1">
              <a:off x="7505640" y="388584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7315200" y="3936960"/>
              <a:ext cx="75960" cy="101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7238880" y="3936960"/>
              <a:ext cx="75960" cy="101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7162560" y="3936960"/>
              <a:ext cx="75960" cy="101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7086600" y="3936960"/>
              <a:ext cx="75960" cy="101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7010280" y="3936960"/>
              <a:ext cx="75960" cy="1015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5181480" y="2666880"/>
            <a:ext cx="3733560" cy="380880"/>
            <a:chOff x="5181480" y="2666880"/>
            <a:chExt cx="3733560" cy="380880"/>
          </a:xfrm>
        </p:grpSpPr>
        <p:sp>
          <p:nvSpPr>
            <p:cNvPr id="593" name=""/>
            <p:cNvSpPr/>
            <p:nvPr/>
          </p:nvSpPr>
          <p:spPr>
            <a:xfrm>
              <a:off x="5181480" y="2666880"/>
              <a:ext cx="1477440" cy="38088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658920" y="2666880"/>
              <a:ext cx="389160" cy="380880"/>
            </a:xfrm>
            <a:prstGeom prst="rect">
              <a:avLst/>
            </a:prstGeom>
            <a:solidFill>
              <a:srgbClr val="52527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048080" y="2666880"/>
              <a:ext cx="388800" cy="3808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437240" y="2666880"/>
              <a:ext cx="1477800" cy="38088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7" name=""/>
          <p:cNvSpPr/>
          <p:nvPr/>
        </p:nvSpPr>
        <p:spPr>
          <a:xfrm>
            <a:off x="1219320" y="3809880"/>
            <a:ext cx="38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lat polygon, fake normals appli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5105520" y="4343400"/>
            <a:ext cx="3733200" cy="380880"/>
            <a:chOff x="5105520" y="4343400"/>
            <a:chExt cx="3733200" cy="380880"/>
          </a:xfrm>
        </p:grpSpPr>
        <p:sp>
          <p:nvSpPr>
            <p:cNvPr id="599" name=""/>
            <p:cNvSpPr/>
            <p:nvPr/>
          </p:nvSpPr>
          <p:spPr>
            <a:xfrm>
              <a:off x="5105520" y="4343400"/>
              <a:ext cx="1477440" cy="38088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582960" y="4343400"/>
              <a:ext cx="388800" cy="380880"/>
            </a:xfrm>
            <a:prstGeom prst="rect">
              <a:avLst/>
            </a:prstGeom>
            <a:solidFill>
              <a:srgbClr val="52527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972120" y="4343400"/>
              <a:ext cx="388440" cy="3808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360920" y="4343400"/>
              <a:ext cx="1477800" cy="380880"/>
            </a:xfrm>
            <a:prstGeom prst="rect">
              <a:avLst/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3" name=""/>
          <p:cNvSpPr/>
          <p:nvPr/>
        </p:nvSpPr>
        <p:spPr>
          <a:xfrm>
            <a:off x="2819520" y="4343400"/>
            <a:ext cx="224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t with fake norma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752480" y="2133720"/>
            <a:ext cx="33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ne with bump, normals show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276720" y="2666880"/>
            <a:ext cx="186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rdinary ligh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7407000" y="1295280"/>
            <a:ext cx="517320" cy="6494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7698960" y="1447920"/>
            <a:ext cx="122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rect ligh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523880" y="5562720"/>
            <a:ext cx="739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“normal map” is a texture containing these fake norma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7772400" y="762120"/>
            <a:ext cx="609480" cy="6094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angent Vector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28600" y="1295280"/>
            <a:ext cx="4648320" cy="17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ery vertex ha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position (the usual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- texcoords (the usual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- normal (the usual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- tangent (pointing in +S direction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- binormal (pointing in +T direc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5338440" y="1600200"/>
            <a:ext cx="34772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rmal, Tangent, Binormal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ust form orthonormal basi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del Loader has to comput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angent and binormal from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ure coordinates and posi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9" name="" descr=""/>
          <p:cNvPicPr/>
          <p:nvPr/>
        </p:nvPicPr>
        <p:blipFill>
          <a:blip r:embed="rId1"/>
          <a:stretch/>
        </p:blipFill>
        <p:spPr>
          <a:xfrm>
            <a:off x="0" y="3902040"/>
            <a:ext cx="697248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angent Vector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791" name="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4724640" cy="2001960"/>
          </a:xfrm>
          <a:prstGeom prst="rect">
            <a:avLst/>
          </a:prstGeom>
          <a:ln w="0">
            <a:noFill/>
          </a:ln>
        </p:spPr>
      </p:pic>
      <p:sp>
        <p:nvSpPr>
          <p:cNvPr id="792" name=""/>
          <p:cNvSpPr/>
          <p:nvPr/>
        </p:nvSpPr>
        <p:spPr>
          <a:xfrm>
            <a:off x="304920" y="1143000"/>
            <a:ext cx="510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times, it is well-defined wha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ngent (+S) and binormal (+T) should b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343400" y="388620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times, not well defined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pproximations look f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4" name="" descr=""/>
          <p:cNvPicPr/>
          <p:nvPr/>
        </p:nvPicPr>
        <p:blipFill>
          <a:blip r:embed="rId2"/>
          <a:stretch/>
        </p:blipFill>
        <p:spPr>
          <a:xfrm>
            <a:off x="3581280" y="4572000"/>
            <a:ext cx="5181840" cy="21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5" name="" descr=""/>
          <p:cNvPicPr/>
          <p:nvPr/>
        </p:nvPicPr>
        <p:blipFill>
          <a:blip r:embed="rId1"/>
          <a:stretch/>
        </p:blipFill>
        <p:spPr>
          <a:xfrm>
            <a:off x="3809880" y="3886200"/>
            <a:ext cx="4953240" cy="2062080"/>
          </a:xfrm>
          <a:prstGeom prst="rect">
            <a:avLst/>
          </a:prstGeom>
          <a:ln w="0">
            <a:noFill/>
          </a:ln>
        </p:spPr>
      </p:pic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angent Vector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797" name="" descr=""/>
          <p:cNvPicPr/>
          <p:nvPr/>
        </p:nvPicPr>
        <p:blipFill>
          <a:blip r:embed="rId2"/>
          <a:stretch/>
        </p:blipFill>
        <p:spPr>
          <a:xfrm>
            <a:off x="228600" y="2362320"/>
            <a:ext cx="4419720" cy="1830240"/>
          </a:xfrm>
          <a:prstGeom prst="rect">
            <a:avLst/>
          </a:prstGeom>
          <a:ln w="0">
            <a:noFill/>
          </a:ln>
        </p:spPr>
      </p:pic>
      <p:sp>
        <p:nvSpPr>
          <p:cNvPr id="798" name=""/>
          <p:cNvSpPr/>
          <p:nvPr/>
        </p:nvSpPr>
        <p:spPr>
          <a:xfrm>
            <a:off x="762120" y="1600200"/>
            <a:ext cx="335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case of mirroring,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is no approximatio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764640" y="4191120"/>
            <a:ext cx="323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enter vertex has no idea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hich way tangent (+S) should g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 flipV="1">
            <a:off x="5029200" y="4800600"/>
            <a:ext cx="106668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3720240" y="6095880"/>
            <a:ext cx="234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vertex think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angent (+S) points ea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 flipH="1" flipV="1">
            <a:off x="6400440" y="4800600"/>
            <a:ext cx="1066680" cy="1295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566040" y="6095880"/>
            <a:ext cx="198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vertex thinks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angent (+S) is w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4648320" y="3200400"/>
            <a:ext cx="335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such cases,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litting mesh solves it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alculating Tangent Vector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382320" y="44956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7" name=""/>
          <p:cNvGrpSpPr/>
          <p:nvPr/>
        </p:nvGrpSpPr>
        <p:grpSpPr>
          <a:xfrm>
            <a:off x="685800" y="3048120"/>
            <a:ext cx="1752480" cy="1523880"/>
            <a:chOff x="685800" y="3048120"/>
            <a:chExt cx="1752480" cy="1523880"/>
          </a:xfrm>
        </p:grpSpPr>
        <p:sp>
          <p:nvSpPr>
            <p:cNvPr id="808" name=""/>
            <p:cNvSpPr/>
            <p:nvPr/>
          </p:nvSpPr>
          <p:spPr>
            <a:xfrm>
              <a:off x="685800" y="3048120"/>
              <a:ext cx="1752480" cy="1523880"/>
            </a:xfrm>
            <a:custGeom>
              <a:avLst/>
              <a:gdLst/>
              <a:ahLst/>
              <a:rect l="l" t="t" r="r" b="b"/>
              <a:pathLst>
                <a:path w="1104" h="960">
                  <a:moveTo>
                    <a:pt x="0" y="960"/>
                  </a:moveTo>
                  <a:lnTo>
                    <a:pt x="576" y="0"/>
                  </a:lnTo>
                  <a:lnTo>
                    <a:pt x="1104" y="576"/>
                  </a:lnTo>
                  <a:lnTo>
                    <a:pt x="0" y="96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449000" y="3733920"/>
              <a:ext cx="30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0" name=""/>
          <p:cNvSpPr/>
          <p:nvPr/>
        </p:nvSpPr>
        <p:spPr>
          <a:xfrm>
            <a:off x="1372680" y="274320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2363400" y="3809880"/>
            <a:ext cx="42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533520" y="1143000"/>
            <a:ext cx="8076960" cy="11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ed to calculate tangent at vertex V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amine a single triangle attached to vertex V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sk: “which way increases S texcoord, not T texcoord?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3200400" y="2773440"/>
            <a:ext cx="5257800" cy="193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t (ds1,dt1) be change in texcoords from V to V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t (ds2,dt2) be change in texcoords from V to V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ve: x*(ds1,dt1)+y*(ds2,dt2) = (1,0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t (dx1,dy1,dz1) be change in position from V to V1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t (dx2,dy2,dz2) be change in position from V to V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ngent = x*(dx1,dy1,dz1) + y*(dx2,dy2,dz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1143000" y="5334120"/>
            <a:ext cx="739152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r binormal, ask “which way increases T texcoord, not S texcoord” instea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very triangle attached to V will give you a different tangent. Average th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sulting average is an approximation. Not quite orthonormal. Orthonormaliz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angent Space and Animatio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57200" y="1600200"/>
            <a:ext cx="807732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 an animation package rotates a limb, it rotates the normals too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w, it also needs to rotate the tangents and binormals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tation uses same rotation matrix as was used for the norm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nce the (tangent, binormal, normal) vectors formed an orthonormal basis before, they’re still an orthonormal basis after rot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Use of T,B,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457200" y="1371600"/>
            <a:ext cx="807732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ve our three vectors: (tangent, binormal, norma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gether, (T,B,N) form “tangent-space to world-space rotation matrix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re is what pixel shader needs to d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read the texture containing the tangent-space fake norma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convert these to world-space using the (T,B,N) matri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calculate WorldSpaceFakeNormal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SLigh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ARNING: pixel shader missing an important step. See next slid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Interpolating T,B,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457200" y="1371600"/>
            <a:ext cx="807732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member: (T,B,N) are stored per-vertex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member: Video chip always interpolates vertex attribu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member: Matrices interpolate bad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re is what pixel shader really needs to d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renormalize (T,B,N) </a:t>
            </a:r>
            <a:r>
              <a:rPr b="0" lang="en-US" sz="1600" spc="-1" strike="noStrike">
                <a:solidFill>
                  <a:srgbClr val="ffffff"/>
                </a:solidFill>
                <a:latin typeface="Wingdings"/>
                <a:ea typeface="Wingdings"/>
              </a:rPr>
              <a:t>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This is ne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read the texture containing the tangent-space fake norm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convert these to world-space using the (T,B,N) matri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calculate RotatedFakeNormal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SLigh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pixel shader is very long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low Tangent-Space Bumpmap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457200" y="1371600"/>
            <a:ext cx="8229600" cy="41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T nlensq, N, 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# renormalize normal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SQ rsqnlensq, nlensq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UL N, N, rsqnlensq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T tlensq, T, 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# renormalize tangent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SQ rsqtlensq, tlensq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UL T, T, rsqtlensq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XPD B, N, 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# calculate binormal using cross-product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UL B, B, handedness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X fakenormal,texcoord0,texture[0]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# look up fake normal from normal ma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T wsfake.x, fakenormal, 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# transform fake normal into world-spac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T wsfake.y, fakenormal, B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T wsfake.z, fakenormal, 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T finalcolor, wsfake, wsligh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# do the lighting dot-produ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angent Space Speedhack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609480" y="121932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member this speedhack I told you to forget?  Unforget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 flipV="1">
            <a:off x="2286000" y="220968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2363760" y="2057400"/>
            <a:ext cx="116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ight vec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2286000" y="3352320"/>
            <a:ext cx="13716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659400" y="312408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rm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1371960" y="2666880"/>
            <a:ext cx="1828080" cy="152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2898720" y="2666880"/>
            <a:ext cx="116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ta = 80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2136600" y="3657600"/>
            <a:ext cx="2603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ke can rotated 1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°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CW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regular w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5337000" y="3657600"/>
            <a:ext cx="2603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ke can rotated 1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°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CW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cheap w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 flipV="1">
            <a:off x="5486400" y="2209680"/>
            <a:ext cx="22860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5716440" y="2057400"/>
            <a:ext cx="116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ight vec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5486400" y="358128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6936120" y="335268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rm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4876920" y="2666880"/>
            <a:ext cx="152352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6251760" y="2743200"/>
            <a:ext cx="116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ta = 80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609480" y="4648320"/>
            <a:ext cx="73915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hack works just as well with tangent-space bump mapp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, it’s even more useful, because tangent-space bump mapping without it is so expensiv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Fast Tangent-Space Bumpmap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609480" y="1143000"/>
            <a:ext cx="7848720" cy="555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is *with* the speedhack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DON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rotate normal from tangent-space into world-spac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DO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rotate light from world-space into tangent-spac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vertex shader, calculate tangent-space light vector (TSLigh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puts are (T,B,N) and world-space light vector (WSLigh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SLight = (T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· WSLight, B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· WSLight, N · WSLigh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pixel shader, do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renormalize TSLight – this is just a vector – quick and eas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read the texture containing the tangent-space fake norm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calculate FakeNormal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TSLigh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pixel shader is nice and short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Storing Normals in Textur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33520" y="1905120"/>
            <a:ext cx="7924680" cy="42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two different formats for Normal map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 space normal ma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ngent space normal ma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body uses model space normal map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wever, tangent space is more complex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t’s work up to it incremental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Fast Tangent-Space Bumpmap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457200" y="1371600"/>
            <a:ext cx="822960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T lensq, TSLight, TSLigh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# renormalize TSLight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SQ rsqlensq, lensq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UL TSLight, TSLight, rsqlensq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X fakenormal,texcoord0,texture[0]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# look up fake normal from normal ma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OT finalcolor, fakenormal, tsligh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# do the lighting dot-produc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533520" y="3657600"/>
            <a:ext cx="8001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 ALU instructions instead of Twelve – Big improvemen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think that somebody out there has a 2-instruction renormaliz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dding Specular Highlight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457200" y="137160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you remember your OpenGL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3733920" y="3733920"/>
            <a:ext cx="2514600" cy="647640"/>
          </a:xfrm>
          <a:custGeom>
            <a:avLst/>
            <a:gdLst/>
            <a:ahLst/>
            <a:rect l="l" t="t" r="r" b="b"/>
            <a:pathLst>
              <a:path w="1592" h="968">
                <a:moveTo>
                  <a:pt x="240" y="312"/>
                </a:moveTo>
                <a:cubicBezTo>
                  <a:pt x="312" y="208"/>
                  <a:pt x="432" y="48"/>
                  <a:pt x="624" y="24"/>
                </a:cubicBezTo>
                <a:cubicBezTo>
                  <a:pt x="816" y="0"/>
                  <a:pt x="1264" y="24"/>
                  <a:pt x="1392" y="168"/>
                </a:cubicBezTo>
                <a:cubicBezTo>
                  <a:pt x="1520" y="312"/>
                  <a:pt x="1592" y="808"/>
                  <a:pt x="1392" y="888"/>
                </a:cubicBezTo>
                <a:cubicBezTo>
                  <a:pt x="1192" y="968"/>
                  <a:pt x="384" y="744"/>
                  <a:pt x="192" y="648"/>
                </a:cubicBezTo>
                <a:cubicBezTo>
                  <a:pt x="0" y="552"/>
                  <a:pt x="168" y="416"/>
                  <a:pt x="240" y="312"/>
                </a:cubicBezTo>
                <a:close/>
              </a:path>
            </a:pathLst>
          </a:custGeom>
          <a:solidFill>
            <a:srgbClr val="6666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 flipV="1">
            <a:off x="5029200" y="2666880"/>
            <a:ext cx="144792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9" name=""/>
          <p:cNvGrpSpPr/>
          <p:nvPr/>
        </p:nvGrpSpPr>
        <p:grpSpPr>
          <a:xfrm>
            <a:off x="2895480" y="2209680"/>
            <a:ext cx="761760" cy="761760"/>
            <a:chOff x="2895480" y="2209680"/>
            <a:chExt cx="761760" cy="761760"/>
          </a:xfrm>
        </p:grpSpPr>
        <p:sp>
          <p:nvSpPr>
            <p:cNvPr id="850" name=""/>
            <p:cNvSpPr/>
            <p:nvPr/>
          </p:nvSpPr>
          <p:spPr>
            <a:xfrm>
              <a:off x="2895480" y="2209680"/>
              <a:ext cx="761760" cy="76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200040" y="2514240"/>
              <a:ext cx="381240" cy="38124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352680" y="26668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3" name=""/>
          <p:cNvSpPr/>
          <p:nvPr/>
        </p:nvSpPr>
        <p:spPr>
          <a:xfrm flipH="1" flipV="1">
            <a:off x="3657600" y="2895120"/>
            <a:ext cx="1371600" cy="838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2898000" y="3048120"/>
            <a:ext cx="1101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 = vector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 the ey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5793120" y="3124080"/>
            <a:ext cx="1118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 = vector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o the ligh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 flipH="1" flipV="1">
            <a:off x="4952880" y="2286000"/>
            <a:ext cx="763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4313160" y="1676520"/>
            <a:ext cx="1352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alfangle =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verage(E,L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4453560" y="3809880"/>
            <a:ext cx="116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oly mod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6400800" y="2133720"/>
            <a:ext cx="838080" cy="83808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533520" y="4800600"/>
            <a:ext cx="7772400" cy="193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tandard OpenGL rule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pecular = (Halfangle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· Normal) 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SpecPow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baseline="30000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Where SpecPow is a magic constant under your control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OpenGL does this calculation at every vertex.  If you want, you can calculate it at every pixel instead.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n your bumps will have specular highlights on th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Adding Specular Highlight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609480" y="1143000"/>
            <a:ext cx="7848720" cy="428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vertex shader, calculate tangent-space halfangle (TSHalf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nputs are (T,B,N) and world-space light vector (WSLight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SHalf = (T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· WSHalf, B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· WSHalf, N · WSHalf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pixel shader, do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renormalize TSHalf – this is just a vector – quick and eas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read the texture containing the tangent-space fake norm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calculate (FakeNormal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TSHalf) </a:t>
            </a:r>
            <a:r>
              <a:rPr b="0" lang="en-US" sz="1600" spc="-1" strike="noStrike" baseline="30000">
                <a:solidFill>
                  <a:srgbClr val="ffffff"/>
                </a:solidFill>
                <a:latin typeface="Arial"/>
              </a:rPr>
              <a:t>SpecPo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Add this to the total intensit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nvironment-Mapped Bump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609480" y="1523880"/>
            <a:ext cx="7848720" cy="462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rn video chips have special hardware for cube map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 “cube map” is essentially a sky box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iven a cube map (six textures forming a cube, viewed from insid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Given an eye vector originating in center of cub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ooks up a texel in 1 instr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MBM: shiny bumpy surface which reflects sky box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lassic example: ripply wate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xpensive. Can’t optimize it the way we optimized this other stuff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mplementation on the next slid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Environment-Mapped Bump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609480" y="1219320"/>
            <a:ext cx="7848720" cy="53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ertex data needs to inclu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T, B, N) vectors – explicit, not the speedhac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ye Vector – a vector pointing from the vertex toward the came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ixel Shade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renormalize Eye, T, B, 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read the texture containing the tangent-space fake norm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convert fake normal to world-space using the (T,B,N) matri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calculate reflection of eye vector using world-space fake norm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I’ll go into this more on the next slid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look up reflected eye vector in the cube-map sky bo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oks like bumpy chrome unless you mix it with something else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"/>
          <p:cNvSpPr/>
          <p:nvPr/>
        </p:nvSpPr>
        <p:spPr>
          <a:xfrm>
            <a:off x="1371600" y="1981080"/>
            <a:ext cx="6553080" cy="4191120"/>
          </a:xfrm>
          <a:prstGeom prst="rect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he Reflection Vector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533520" y="121932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at pixel shader needs to reflect the eye ve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ing the world-space fake norm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0" name=""/>
          <p:cNvGrpSpPr/>
          <p:nvPr/>
        </p:nvGrpSpPr>
        <p:grpSpPr>
          <a:xfrm>
            <a:off x="2362320" y="3200400"/>
            <a:ext cx="761760" cy="761760"/>
            <a:chOff x="2362320" y="3200400"/>
            <a:chExt cx="761760" cy="761760"/>
          </a:xfrm>
        </p:grpSpPr>
        <p:sp>
          <p:nvSpPr>
            <p:cNvPr id="871" name=""/>
            <p:cNvSpPr/>
            <p:nvPr/>
          </p:nvSpPr>
          <p:spPr>
            <a:xfrm>
              <a:off x="2362320" y="3200400"/>
              <a:ext cx="761760" cy="76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666880" y="3504960"/>
              <a:ext cx="381240" cy="38124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819520" y="36576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4" name=""/>
          <p:cNvSpPr/>
          <p:nvPr/>
        </p:nvSpPr>
        <p:spPr>
          <a:xfrm>
            <a:off x="3048120" y="3886200"/>
            <a:ext cx="1981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H="1" flipV="1">
            <a:off x="4343040" y="3048120"/>
            <a:ext cx="6858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3202560" y="4419720"/>
            <a:ext cx="84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ey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ec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>
            <a:off x="7545960" y="62485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ntinued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>
            <a:off x="4497840" y="3276720"/>
            <a:ext cx="161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world-spac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ake norm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>
            <a:off x="5029200" y="4876920"/>
            <a:ext cx="76320" cy="759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>
            <a:off x="5106240" y="4800600"/>
            <a:ext cx="9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pix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"/>
          <p:cNvSpPr/>
          <p:nvPr/>
        </p:nvSpPr>
        <p:spPr>
          <a:xfrm>
            <a:off x="1371600" y="1981080"/>
            <a:ext cx="6553080" cy="4191120"/>
          </a:xfrm>
          <a:prstGeom prst="rect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he Reflection Vector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533520" y="121932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at pixel shader needs to reflect the eye ve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ing the world-space fake norm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4" name=""/>
          <p:cNvGrpSpPr/>
          <p:nvPr/>
        </p:nvGrpSpPr>
        <p:grpSpPr>
          <a:xfrm>
            <a:off x="2362320" y="3200400"/>
            <a:ext cx="761760" cy="761760"/>
            <a:chOff x="2362320" y="3200400"/>
            <a:chExt cx="761760" cy="761760"/>
          </a:xfrm>
        </p:grpSpPr>
        <p:sp>
          <p:nvSpPr>
            <p:cNvPr id="885" name=""/>
            <p:cNvSpPr/>
            <p:nvPr/>
          </p:nvSpPr>
          <p:spPr>
            <a:xfrm>
              <a:off x="2362320" y="3200400"/>
              <a:ext cx="761760" cy="76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666880" y="3504960"/>
              <a:ext cx="381240" cy="38124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819520" y="36576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8" name=""/>
          <p:cNvSpPr/>
          <p:nvPr/>
        </p:nvSpPr>
        <p:spPr>
          <a:xfrm>
            <a:off x="3048120" y="3886200"/>
            <a:ext cx="1981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 flipH="1" flipV="1">
            <a:off x="4343040" y="3048120"/>
            <a:ext cx="6858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>
            <a:off x="3202560" y="4419720"/>
            <a:ext cx="84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ey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ec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 flipV="1">
            <a:off x="5029200" y="4190760"/>
            <a:ext cx="1828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 flipH="1">
            <a:off x="3200400" y="4876200"/>
            <a:ext cx="1828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 rot="20437200">
            <a:off x="3582720" y="4953240"/>
            <a:ext cx="314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at normal implies the existenc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of a mirror, right her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 flipV="1">
            <a:off x="5029200" y="1981080"/>
            <a:ext cx="91440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5490720" y="3276720"/>
            <a:ext cx="2404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reflected eye vector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hould go this way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5870160" y="1981080"/>
            <a:ext cx="1604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d hit the sky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ox her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"/>
          <p:cNvSpPr/>
          <p:nvPr/>
        </p:nvSpPr>
        <p:spPr>
          <a:xfrm>
            <a:off x="1371600" y="1981080"/>
            <a:ext cx="6553080" cy="4191120"/>
          </a:xfrm>
          <a:prstGeom prst="rect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he Reflection Vector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533520" y="121932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at pixel shader needs to reflect the eye ve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ing the world-space fake norm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0" name=""/>
          <p:cNvGrpSpPr/>
          <p:nvPr/>
        </p:nvGrpSpPr>
        <p:grpSpPr>
          <a:xfrm>
            <a:off x="2362320" y="3200400"/>
            <a:ext cx="761760" cy="761760"/>
            <a:chOff x="2362320" y="3200400"/>
            <a:chExt cx="761760" cy="761760"/>
          </a:xfrm>
        </p:grpSpPr>
        <p:sp>
          <p:nvSpPr>
            <p:cNvPr id="901" name=""/>
            <p:cNvSpPr/>
            <p:nvPr/>
          </p:nvSpPr>
          <p:spPr>
            <a:xfrm>
              <a:off x="2362320" y="3200400"/>
              <a:ext cx="761760" cy="76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666880" y="3504960"/>
              <a:ext cx="381240" cy="381240"/>
            </a:xfrm>
            <a:prstGeom prst="ellipse">
              <a:avLst/>
            </a:prstGeom>
            <a:solidFill>
              <a:srgbClr val="66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819520" y="365760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4" name=""/>
          <p:cNvSpPr/>
          <p:nvPr/>
        </p:nvSpPr>
        <p:spPr>
          <a:xfrm>
            <a:off x="3048120" y="3886200"/>
            <a:ext cx="1981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 flipH="1" flipV="1">
            <a:off x="4343040" y="3048120"/>
            <a:ext cx="6858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3202560" y="4419720"/>
            <a:ext cx="84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eye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vec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 flipV="1">
            <a:off x="5029200" y="4190760"/>
            <a:ext cx="1828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 flipH="1">
            <a:off x="3200400" y="4876200"/>
            <a:ext cx="182880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 flipV="1">
            <a:off x="5029200" y="1981080"/>
            <a:ext cx="91440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3352680" y="5791320"/>
            <a:ext cx="5181840" cy="707760"/>
          </a:xfrm>
          <a:prstGeom prst="rect">
            <a:avLst/>
          </a:prstGeom>
          <a:solidFill>
            <a:srgbClr val="dfdef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component = WSFakeNormal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·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y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lection = eye + WSFakeNormal * ncomponent * 2.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Model Space Normal Map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33520" y="114300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verhead view of dented coke can, showing normal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1219320" y="2133720"/>
            <a:ext cx="1371600" cy="1371600"/>
          </a:xfrm>
          <a:prstGeom prst="ellipse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k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905120" y="1981080"/>
            <a:ext cx="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1754280" y="16002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 flipV="1">
            <a:off x="2438280" y="2133360"/>
            <a:ext cx="15264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2516400" y="1828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2590920" y="28195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2745000" y="25909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V="1">
            <a:off x="1219320" y="3352680"/>
            <a:ext cx="152280" cy="152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1905120" y="350532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1754280" y="36576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2286000" y="3429000"/>
            <a:ext cx="1522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2363760" y="350532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87240" y="342900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066680" y="28195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687240" y="259092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1219320" y="2133720"/>
            <a:ext cx="1522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763920" y="182880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685800" y="5334120"/>
            <a:ext cx="7772400" cy="759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3962520" y="3352680"/>
            <a:ext cx="449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ylindrically map a texture onto can, th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py normals from can to text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offline processing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 flipH="1">
            <a:off x="6934320" y="4343400"/>
            <a:ext cx="380880" cy="533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35320" y="50292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4345200" y="5029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440080" y="50292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325920" y="5029200"/>
            <a:ext cx="3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8231400" y="50292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1373400" y="50292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3354480" y="5029200"/>
            <a:ext cx="48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5259240" y="502920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7317000" y="5029200"/>
            <a:ext cx="56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2438280" y="3048120"/>
            <a:ext cx="228600" cy="152280"/>
          </a:xfrm>
          <a:custGeom>
            <a:avLst/>
            <a:gdLst/>
            <a:ahLst/>
            <a:rect l="l" t="t" r="r" b="b"/>
            <a:pathLst>
              <a:path w="144" h="96">
                <a:moveTo>
                  <a:pt x="48" y="0"/>
                </a:moveTo>
                <a:lnTo>
                  <a:pt x="144" y="96"/>
                </a:lnTo>
                <a:lnTo>
                  <a:pt x="0" y="96"/>
                </a:lnTo>
                <a:lnTo>
                  <a:pt x="48" y="0"/>
                </a:lnTo>
                <a:close/>
              </a:path>
            </a:pathLst>
          </a:custGeom>
          <a:solidFill>
            <a:srgbClr val="6666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1219320" y="2133720"/>
            <a:ext cx="1371600" cy="1371600"/>
          </a:xfrm>
          <a:prstGeom prst="ellipse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n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2832120" y="5029200"/>
            <a:ext cx="32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3054240" y="5029200"/>
            <a:ext cx="247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 flipV="1">
            <a:off x="2590920" y="3047760"/>
            <a:ext cx="7596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2603520" y="2819520"/>
            <a:ext cx="32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590920" y="3200400"/>
            <a:ext cx="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2520720" y="3200400"/>
            <a:ext cx="247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 flipV="1">
            <a:off x="2514600" y="5562720"/>
            <a:ext cx="6094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840960" y="5867280"/>
            <a:ext cx="16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 the bu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4221720" y="6019920"/>
            <a:ext cx="446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 now have a model space normal map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Using the Normal Map: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609480" y="1143000"/>
            <a:ext cx="815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a low-poly version of the can: I left out the d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ut, I apply the model space normal map from the previous slid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3125520" y="2057400"/>
            <a:ext cx="2390760" cy="2425680"/>
            <a:chOff x="3125520" y="2057400"/>
            <a:chExt cx="2390760" cy="2425680"/>
          </a:xfrm>
        </p:grpSpPr>
        <p:sp>
          <p:nvSpPr>
            <p:cNvPr id="657" name=""/>
            <p:cNvSpPr/>
            <p:nvPr/>
          </p:nvSpPr>
          <p:spPr>
            <a:xfrm>
              <a:off x="3657600" y="2590920"/>
              <a:ext cx="1371600" cy="137160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k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343400" y="2438280"/>
              <a:ext cx="0" cy="152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192920" y="20574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4876920" y="259056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954680" y="228600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029200" y="327672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83280" y="30481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 flipV="1">
              <a:off x="3657600" y="3809880"/>
              <a:ext cx="152280" cy="152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343400" y="396252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192920" y="41148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724280" y="3886200"/>
              <a:ext cx="15264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802040" y="3962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3125520" y="3886200"/>
              <a:ext cx="54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W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3505320" y="327672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125520" y="304812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3657600" y="259092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3202200" y="228600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W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>
              <a:off x="5029200" y="3429000"/>
              <a:ext cx="76320" cy="76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041800" y="3276720"/>
              <a:ext cx="32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952880" y="365760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959360" y="3581280"/>
              <a:ext cx="247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8" name=""/>
          <p:cNvSpPr/>
          <p:nvPr/>
        </p:nvSpPr>
        <p:spPr>
          <a:xfrm>
            <a:off x="609480" y="4648320"/>
            <a:ext cx="7925040" cy="19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rite a pixel shader, accepts normal map and world-space light as inpu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ixel shader reads the texture containing the fake norma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ixel shader calculates FakeNormal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SLigh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all lighting now done by pixel unit, not by vertex un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ult: illusion of dent, without the polyg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Rotating the Ca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57200" y="1219320"/>
            <a:ext cx="769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t’s say some guy picks up the can and rotates it 45 degrees clockwise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5105520" y="2590920"/>
            <a:ext cx="34290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 any OpenGL guru knows, when you rotate an object, you have to rotate normals to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se stored, fake normals also need to be rota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 flipH="1" flipV="1">
            <a:off x="3885840" y="3124080"/>
            <a:ext cx="1219320" cy="609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57200" y="4724280"/>
            <a:ext cx="7772400" cy="189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n rotate the normals in the pixel shad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ad texture containing fake norma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ransform the fake normal using coke can’s rotation matri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w compute RotatedFakeNormal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SLigh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at’s quite a few extra pixel shader instructions: slow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4" name=""/>
          <p:cNvGrpSpPr/>
          <p:nvPr/>
        </p:nvGrpSpPr>
        <p:grpSpPr>
          <a:xfrm>
            <a:off x="1446120" y="1906560"/>
            <a:ext cx="2425320" cy="2390760"/>
            <a:chOff x="1446120" y="1906560"/>
            <a:chExt cx="2425320" cy="2390760"/>
          </a:xfrm>
        </p:grpSpPr>
        <p:sp>
          <p:nvSpPr>
            <p:cNvPr id="685" name=""/>
            <p:cNvSpPr/>
            <p:nvPr/>
          </p:nvSpPr>
          <p:spPr>
            <a:xfrm rot="5400000">
              <a:off x="1966680" y="2438640"/>
              <a:ext cx="1371600" cy="1371240"/>
            </a:xfrm>
            <a:prstGeom prst="ellipse">
              <a:avLst/>
            </a:prstGeom>
            <a:solidFill>
              <a:srgbClr val="66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k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>
              <a:off x="3338640" y="3124440"/>
              <a:ext cx="152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 rot="5400000">
              <a:off x="3514680" y="296244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186360" y="3657960"/>
              <a:ext cx="15192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 rot="5400000">
              <a:off x="3210120" y="3800520"/>
              <a:ext cx="497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652480" y="381024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 rot="5400000">
              <a:off x="2530440" y="39466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967400" y="2438640"/>
              <a:ext cx="15228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 flipH="1">
              <a:off x="1814760" y="3124440"/>
              <a:ext cx="151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 rot="5400000">
              <a:off x="1463760" y="29563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 flipH="1">
              <a:off x="1891080" y="3505320"/>
              <a:ext cx="151920" cy="152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 rot="5400000">
              <a:off x="1539720" y="364176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 rot="5400000">
              <a:off x="1584000" y="1996920"/>
              <a:ext cx="54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W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652480" y="2286360"/>
              <a:ext cx="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 rot="5400000">
              <a:off x="2498400" y="192096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 flipH="1">
              <a:off x="3186360" y="2438640"/>
              <a:ext cx="151920" cy="152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 rot="5400000">
              <a:off x="3178080" y="207972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W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424600" y="3810240"/>
              <a:ext cx="75960" cy="763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 rot="5400000">
              <a:off x="2286000" y="3783240"/>
              <a:ext cx="3268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n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 flipH="1">
              <a:off x="2119680" y="3733920"/>
              <a:ext cx="151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 rot="5400000">
              <a:off x="2021040" y="3661200"/>
              <a:ext cx="24768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baseline="-25000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Cheap Way to Rotate Normals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457200" y="99072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hen doing lighting calculations, it’s the angle, theta, that matter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 flipV="1">
            <a:off x="533520" y="167652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610920" y="1447920"/>
            <a:ext cx="116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ight vec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533520" y="304812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982880" y="281952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rm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-380520" y="2133720"/>
            <a:ext cx="182808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146240" y="2133720"/>
            <a:ext cx="116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ta = 90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2895480" y="1600200"/>
            <a:ext cx="57913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f coke can has been rotated 10 degrees CCW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rmals need to be rotated 10 degrees CCW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ust rotate light vector 10 degrees *clockwise* instea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sulting angle theta will be the same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rotation per coke can, instead of one per pixe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460080" y="3124080"/>
            <a:ext cx="190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ke can unrotat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3048120" y="3886200"/>
            <a:ext cx="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3125520" y="3733920"/>
            <a:ext cx="116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ight vec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3048120" y="5028840"/>
            <a:ext cx="1371600" cy="228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4421520" y="480060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rm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2134080" y="4343400"/>
            <a:ext cx="1828080" cy="1523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3660840" y="4343400"/>
            <a:ext cx="116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ta = 80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898360" y="5334120"/>
            <a:ext cx="2603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ke can rotated 1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°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CW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regular w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6098760" y="5334120"/>
            <a:ext cx="2603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ke can rotated 1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°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CW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cheap w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 flipV="1">
            <a:off x="6248520" y="3886200"/>
            <a:ext cx="22860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6478560" y="3733920"/>
            <a:ext cx="116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ight vect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6248520" y="525780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7697880" y="502920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rm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5639040" y="4343400"/>
            <a:ext cx="152352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7013520" y="4419720"/>
            <a:ext cx="116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ta = 80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2212200" y="6248520"/>
            <a:ext cx="654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w that I told you that, forget about it. It’s just an optimizati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What if Model is not Rigid?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533520" y="1371600"/>
            <a:ext cx="80010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re is not one “global object rotation.” There are lots of local rotation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ore local rotation as a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ertex attribu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ocal rotation will be interpolated across polygon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Quaternions interpolate nicely. Maybe use quaternion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- But matrices are cheaper. Maybe use rotation matrix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ixel shader now needs t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renormalize the local rot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read the texture containing the fake norma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rotate the fake normals using the local rota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* calculate RotatedFakeNormal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·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WSLigh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dfdef6"/>
                </a:solidFill>
                <a:latin typeface="Arial"/>
              </a:rPr>
              <a:t>Model Space Normal Maps: Bad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57200" y="114300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roblem with this method, illustrate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1905120" y="1828800"/>
            <a:ext cx="27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igh poly model of brick wall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 flipV="1">
            <a:off x="4724280" y="1752120"/>
            <a:ext cx="30492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5029200" y="17524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6248520" y="1752480"/>
            <a:ext cx="30456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6553080" y="1752120"/>
            <a:ext cx="30492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6858000" y="1752480"/>
            <a:ext cx="12193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8077320" y="1752480"/>
            <a:ext cx="304560" cy="304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4724280" y="2666880"/>
            <a:ext cx="3657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536400" y="2362320"/>
            <a:ext cx="41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opy normals into model-space normal map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4649760" y="236232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5183280" y="23623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5487840" y="23623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5792760" y="23623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6096960" y="2362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6554520" y="236232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7088040" y="23623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7392960" y="23623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7697880" y="236232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8002080" y="2362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533520" y="3352680"/>
            <a:ext cx="57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rap this normal map around a box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2286000" y="3809880"/>
            <a:ext cx="2545920" cy="2546280"/>
            <a:chOff x="2286000" y="3809880"/>
            <a:chExt cx="2545920" cy="2546280"/>
          </a:xfrm>
        </p:grpSpPr>
        <p:sp>
          <p:nvSpPr>
            <p:cNvPr id="756" name=""/>
            <p:cNvSpPr/>
            <p:nvPr/>
          </p:nvSpPr>
          <p:spPr>
            <a:xfrm>
              <a:off x="2590560" y="4114800"/>
              <a:ext cx="1904760" cy="190512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7" name=""/>
            <p:cNvGrpSpPr/>
            <p:nvPr/>
          </p:nvGrpSpPr>
          <p:grpSpPr>
            <a:xfrm>
              <a:off x="2592000" y="3809880"/>
              <a:ext cx="1909800" cy="337320"/>
              <a:chOff x="2592000" y="3809880"/>
              <a:chExt cx="1909800" cy="337320"/>
            </a:xfrm>
          </p:grpSpPr>
          <p:sp>
            <p:nvSpPr>
              <p:cNvPr id="758" name=""/>
              <p:cNvSpPr/>
              <p:nvPr/>
            </p:nvSpPr>
            <p:spPr>
              <a:xfrm>
                <a:off x="2592000" y="380988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NW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125160" y="3809880"/>
                <a:ext cx="32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430080" y="3809880"/>
                <a:ext cx="32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734640" y="3809880"/>
                <a:ext cx="32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4039200" y="3809880"/>
                <a:ext cx="462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N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63" name=""/>
            <p:cNvGrpSpPr/>
            <p:nvPr/>
          </p:nvGrpSpPr>
          <p:grpSpPr>
            <a:xfrm>
              <a:off x="4494600" y="4116240"/>
              <a:ext cx="337320" cy="1910160"/>
              <a:chOff x="4494600" y="4116240"/>
              <a:chExt cx="337320" cy="1910160"/>
            </a:xfrm>
          </p:grpSpPr>
          <p:sp>
            <p:nvSpPr>
              <p:cNvPr id="764" name=""/>
              <p:cNvSpPr/>
              <p:nvPr/>
            </p:nvSpPr>
            <p:spPr>
              <a:xfrm rot="5400000">
                <a:off x="4403520" y="420696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NW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rot="5400000">
                <a:off x="4499640" y="4644360"/>
                <a:ext cx="32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rot="5400000">
                <a:off x="4499640" y="4949280"/>
                <a:ext cx="32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rot="5400000">
                <a:off x="4499640" y="5254200"/>
                <a:ext cx="32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rot="5400000">
                <a:off x="4431960" y="5626440"/>
                <a:ext cx="462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N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69" name=""/>
            <p:cNvGrpSpPr/>
            <p:nvPr/>
          </p:nvGrpSpPr>
          <p:grpSpPr>
            <a:xfrm>
              <a:off x="2591640" y="6018840"/>
              <a:ext cx="1909800" cy="337320"/>
              <a:chOff x="2591640" y="6018840"/>
              <a:chExt cx="1909800" cy="337320"/>
            </a:xfrm>
          </p:grpSpPr>
          <p:sp>
            <p:nvSpPr>
              <p:cNvPr id="770" name=""/>
              <p:cNvSpPr/>
              <p:nvPr/>
            </p:nvSpPr>
            <p:spPr>
              <a:xfrm rot="10800000">
                <a:off x="3982320" y="601884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NW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rot="10800000">
                <a:off x="3641400" y="6018840"/>
                <a:ext cx="32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rot="10800000">
                <a:off x="3336480" y="6018840"/>
                <a:ext cx="32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rot="10800000">
                <a:off x="3031920" y="6018840"/>
                <a:ext cx="32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rot="10800000">
                <a:off x="2591640" y="6018840"/>
                <a:ext cx="462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N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75" name=""/>
            <p:cNvGrpSpPr/>
            <p:nvPr/>
          </p:nvGrpSpPr>
          <p:grpSpPr>
            <a:xfrm>
              <a:off x="2286000" y="4116240"/>
              <a:ext cx="337320" cy="1910160"/>
              <a:chOff x="2286000" y="4116240"/>
              <a:chExt cx="337320" cy="1910160"/>
            </a:xfrm>
          </p:grpSpPr>
          <p:sp>
            <p:nvSpPr>
              <p:cNvPr id="776" name=""/>
              <p:cNvSpPr/>
              <p:nvPr/>
            </p:nvSpPr>
            <p:spPr>
              <a:xfrm rot="16200000">
                <a:off x="2194920" y="5598000"/>
                <a:ext cx="51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NW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rot="16200000">
                <a:off x="2291040" y="5160600"/>
                <a:ext cx="32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rot="16200000">
                <a:off x="2291040" y="4855680"/>
                <a:ext cx="32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rot="16200000">
                <a:off x="2291040" y="4550760"/>
                <a:ext cx="3268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N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rot="16200000">
                <a:off x="2223360" y="4178880"/>
                <a:ext cx="462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Arial"/>
                  </a:rPr>
                  <a:t>NE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81" name=""/>
          <p:cNvSpPr/>
          <p:nvPr/>
        </p:nvSpPr>
        <p:spPr>
          <a:xfrm>
            <a:off x="5257800" y="4343400"/>
            <a:ext cx="335268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at’s not right, obvious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Model space normal maps work only if the polygon they are applied to is facing same way as polygon used to generate them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eed new method that compensates for wall facing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Tangent Spac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783" name="" descr=""/>
          <p:cNvPicPr/>
          <p:nvPr/>
        </p:nvPicPr>
        <p:blipFill>
          <a:blip r:embed="rId1"/>
          <a:stretch/>
        </p:blipFill>
        <p:spPr>
          <a:xfrm>
            <a:off x="4419720" y="1523880"/>
            <a:ext cx="4457520" cy="4572000"/>
          </a:xfrm>
          <a:prstGeom prst="rect">
            <a:avLst/>
          </a:prstGeom>
          <a:ln w="0">
            <a:noFill/>
          </a:ln>
        </p:spPr>
      </p:pic>
      <p:sp>
        <p:nvSpPr>
          <p:cNvPr id="784" name=""/>
          <p:cNvSpPr/>
          <p:nvPr/>
        </p:nvSpPr>
        <p:spPr>
          <a:xfrm>
            <a:off x="380880" y="3809880"/>
            <a:ext cx="3657600" cy="26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n actual tangent space normal ma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e normals (X,Y,Z) in the map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re relative to a special coordinate system called “tangent space”:</a:t>
            </a: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X direction defined by +S vector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Y direction defined by +T vector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Z direction defined by surface norm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5" name="" descr=""/>
          <p:cNvPicPr/>
          <p:nvPr/>
        </p:nvPicPr>
        <p:blipFill>
          <a:blip r:embed="rId2"/>
          <a:stretch/>
        </p:blipFill>
        <p:spPr>
          <a:xfrm>
            <a:off x="685800" y="121932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3T01:15:46Z</dcterms:created>
  <dc:creator>Julio Gonzales</dc:creator>
  <dc:description/>
  <dc:language>en-US</dc:language>
  <cp:lastModifiedBy>Josh Yelon</cp:lastModifiedBy>
  <dcterms:modified xsi:type="dcterms:W3CDTF">2005-03-23T21:42:03Z</dcterms:modified>
  <cp:revision>12</cp:revision>
  <dc:subject/>
  <dc:title>Bump Mapping</dc:title>
</cp:coreProperties>
</file>