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87E0-5AB5-4643-A34D-F60BBA4B2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D68A-D636-4C67-A5A8-1B53FDB45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347D-440B-4EED-B858-3EC36A567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D8D7-A3C8-4DC9-A3E1-289451EB7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4969-4A21-4AB8-BC6E-67C6A0C4B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EF74-D428-4911-959D-DE826683E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369E-83F3-4624-A74C-45F71037B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70EB-6D03-47E9-A60C-442F95096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A5DC-D1F2-43F2-B4AB-4964054F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FC0C-333E-493D-8475-95DAB0BF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1443-7F43-42D0-AAC6-7EF0ECE0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77CE-869E-4360-89C5-07D40CED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FBC38-D17C-46F6-99A8-8EEC6163D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Enginee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es almost always over bud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m to be some systematic facto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me developers are yo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gue requirements lead to overru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itical Path Mistake: EM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problem with E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s a dependenc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 waiting for Art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have to stop developing, switch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incredibly disruptive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 for entire proje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engine can do without 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ine synthesizes placeholder graph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ed up scrapping entire EML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itical Path Fix: EML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erage BabelScr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ed comman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text in any f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rectangle in any color or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tangle with bor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tangle with tiled bit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tangle with transparent bit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ociate actions with rectang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ialog is a BabelScript subrout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ical EML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1295280"/>
            <a:ext cx="8076960" cy="478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routine EditInterfaceSliderDialog(title, opts) of Pla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/ Calculate the window siz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 txtwidth, ctrlwidth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id,qty,txt inlist(opt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 v = clientfontmeasure("tahoma(9)", 10000, string(txt,":"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 w = nth(v,3)-nth(v,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(w &gt; txtwidth) txtwidth = w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(qty * 18 &gt; ctrlwidth) ctrlwidth = qty*18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 height = (length(opts) / 3) * 2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 x0=0; var x1=10; var x2=x1+txtwidth; var x3=x2+4; var x4=x3+ctrlwidth; var x5=x4+1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 y0=0; var y1=50; var y2=y1+height; var y3=y2+1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 win = boxdrag(boxplaced(Client.DialogID,Client.Screen,x5,y3,"c"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 cbox = boxposition("CBOX:",win,x4-16,y0+10,x4,y0+2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 titlebox = boxposition("TITLE:",win,x1,y0+10,x4-20,y0+44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intstyle(win,1,"wingeneric","win1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inttext(titlebox,0,"tahoma(9)lt",titl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intStyle(cbox,1,"wingeneric",string("close",buttonstate(cbox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ttonReply(cbox,client.DialogHost,"closebox",wi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tc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ual Approach to Loc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1143000"/>
            <a:ext cx="327672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 of BrickRackBuil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menu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(!Place.Inventory[Bricks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em("Make bricks“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876920" y="1143000"/>
            <a:ext cx="327636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 of BrickRackBuil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menu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(!Place.Inventory[Bricks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em(STRING_MAKE_BRICK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9880" y="3200400"/>
            <a:ext cx="4343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glis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ING_MAKE_BRICKS=“make bricks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ING_KICK_BABY=“kick the baby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09880" y="4114800"/>
            <a:ext cx="4343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rma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ING_MAKE_BRICKS=“mache Ziegel 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ING_KICK_BABY=“treten Sie das Baby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91120" y="205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510552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terrible approach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bad 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bugg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bad 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r Approach to Loc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1143000"/>
            <a:ext cx="327672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 of BrickRackBuil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menu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(!Place.Inventory[Bricks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em("Make bricks“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09880" y="3124080"/>
            <a:ext cx="434340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rma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late “make Bricks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“mache Ziegel 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late “kick the baby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“treten Sie das Baby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90720" y="5105520"/>
            <a:ext cx="7162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s dependency between translator and programmer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n’t interrupt programmer – bett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ow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failure mode – bett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ng / Buck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ed implementing just for sake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ine only does outd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ollision det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major mistake: “good graphic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eed good graph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sunderstood what good graphics ar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ng/Buck in Graph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352680" y="59436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escape Tor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47920" y="108576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23880" y="1104840"/>
            <a:ext cx="6172200" cy="46324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200400" y="57150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ntown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ng/Buck in Graph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rd-party 3D Eng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didn’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e time, no free engi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, I probably wou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ain, comes down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ng/bu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 and c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option: third-party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3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 pay a cost i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ck to Debugg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lay Mechanism to Replay Cras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me structured as event-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in a “recording”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deterministically play-back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ent could mail log back to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if it crashes, I can replay in debug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Tale in the Dese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icult game to wr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ayer online g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rn 3D renderer, high quality 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ly rated by reviewe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ed very chea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programmers + 2 artists, 3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han $1M sp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id we do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: unusual software engineering pract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ent Replay Partly Successfu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ows Heap not determin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d our own Heap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helped some, but still not quite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tually, Drivers were main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d RAM surprisingly com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rver Replay Fully Successfu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important to debug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ork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ux much more determin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ware was ours: known g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vers were not an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ers are rock-sol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ments in debugging paid o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 Bug Mgm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it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nvestment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n’t an option for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views in the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g Tra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ai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other Investment in Debugg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OpenGL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Z-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able Ble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Ligh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Light1 to 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der list of triangles (with zbuf, no blending, blue ligh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able Z-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Blending already Disab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able Ligh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Light1 color is irrele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der list of triangles (with no zbuf, no blending, no ligh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tern is “set state, then render list of triangle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 with this style: bug-pr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Eng and OpenG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OpenGL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Z-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able Ble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Ligh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Light1 to 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der list of triangles (with zbuf, no blending, blue ligh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able Z-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able Blending // redundant, but put it here any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able Ligh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Light1 to White // irrelevant, but put it here any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der list of triangles (with no zbuf, no blending, no ligh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tern is “set ALL state, then render list of triangle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 with this style of code: S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Eng and OpenG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rapper around OpenG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id RenderZNB(triang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Z_buffer_enabled==0) { Enable Z-buffer; Z_buffer_enabled=1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Blending_enabled==1) { Disable Blending; Blending_enabled=0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Light1_enabled==0) { Enable Light 1; Light1_enabled=1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Light1_color!=blue) { Set Light1 to Blue; Light1_color=blue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der list of triangles (with no zbuf, no blending, no ligh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bad. Used this for a whi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Eng and OpenG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special cases explod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GL ext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X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Force 2 pixel processing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Force 4 pixel processing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deon/GeForce FX pixel processing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ex program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rendering modes explod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: about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: about 1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me Unmanage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Eng and OpenG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1066680"/>
            <a:ext cx="5486400" cy="499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 dynclou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meters mat $PROJ mat $MODV int $NVERT arr $VA int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intsize 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phatest gt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buffer o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ll o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mask o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ending stand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tex simple $PROJ $MOD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simple triangles $NVERT arr vtx tex0 tex1 tex2 col $VA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gment nvrc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gb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ard = tex0.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ard = tex1.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x0 = sum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tc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.rgb = col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.a = tex0.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xture simple $NOISE wrap lin clod -2 $NOISE wrap lin clod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m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1066680"/>
            <a:ext cx="2819520" cy="494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ittle language, eliminated three classes of bug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r guarantees deterministic behavior if I omit a piece of state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r guarantees that DirectX and OpenGL produce same results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r guarantees that it runs code that the card suppor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dynamically edit rendering modes while game is runn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Eng and OpenGL Less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Variables Ba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ainly provides a nice API, but more importa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seen as investment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seen as investment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eGenesis Pl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n’t know what first game was to b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ed game based on Bug’s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ed game based on mad sc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ed up writing game in ancient Egyp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knowledge was a good 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7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e did kn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econom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yer builds fa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y cons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y produ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piration: Info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lan: implement a specialized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eGenesis Pl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48320" y="1828800"/>
            <a:ext cx="3733560" cy="26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consume(Wood,1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sleep(2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consume(Wood,1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sleep(2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produce(Boards,1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257800" y="14479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mber Mill Co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1066680"/>
            <a:ext cx="8305560" cy="3501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 of BrickRackBuilding guard macro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menu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(!Place.Inventory[Bricks] &amp; !Place.Inventory[WetFirebricks]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em("Make bricks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time 0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 req=&lt;&lt;Mud,3,Straw,2,Sand,1&gt;&gt;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(!has(actor,req)) ReqFail("To make Bricks, you need: ", req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or-&gt;eConsumeList(req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Graphic(Place,"model=brickrack-wet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time 30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ce-&gt;eProduce(Bricks,6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Graphic(Place,"model=brickrack-full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4800600"/>
            <a:ext cx="38098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icit menu hand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or and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access to Graph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952880" y="4800600"/>
            <a:ext cx="33530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icit Paralle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utable Data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llions of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lan Work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w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custom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ustom language to write g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ur case: 3MB engine, 8MB scrip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id this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seen as investment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seen as investment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effect of maximiz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bang/bu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ritical Pa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66880" y="990720"/>
            <a:ext cx="289584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D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Jos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943600" y="1676520"/>
            <a:ext cx="281952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me Scr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nd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14479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209680" y="2133360"/>
            <a:ext cx="3733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320040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roved Critical Pa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4191120"/>
            <a:ext cx="144792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D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nd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5257800"/>
            <a:ext cx="14479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Jos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86000" y="4572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286000" y="4723920"/>
            <a:ext cx="533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209680" y="15238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1828800"/>
            <a:ext cx="144756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Jos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19520" y="4191120"/>
            <a:ext cx="281916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me Scr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nd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19520" y="5257800"/>
            <a:ext cx="28954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D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Jos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286000" y="579096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urrent 2D &amp; La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divided engine into two pi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/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API between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Game_Get_Ter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Game_Get_Spr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Game_Pro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Game_InvokeAn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itical Path Mistake: EM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9528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pt: HTML for Dialog Bo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picture of dia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“mask” indicating “field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INI file giving fields n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L says what to put in the fie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3733920"/>
            <a:ext cx="5105520" cy="204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field “ok”&gt;  &lt;invoke “oksubroutine()”&gt; &lt;/field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field “cancel”&gt; &lt;invoke “cancelsubroutine()”&gt; &lt;/field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field “inventory”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&lt;vbox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&lt;hbox&gt;&lt;text “roosters”&gt;&lt;text “25”&gt;&lt;/hbox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&lt;hbox&gt;&lt;text “hens”&gt;&lt;text “16”&gt;&lt;/hbox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&lt;/vbox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fiel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172200" y="3048120"/>
            <a:ext cx="2336760" cy="17524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867280" y="990720"/>
            <a:ext cx="2438640" cy="18288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791320" y="4952880"/>
            <a:ext cx="251460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en=inventor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=o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ue=can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03:30:07Z</dcterms:created>
  <dc:creator>Julio Gonzales</dc:creator>
  <dc:description/>
  <dc:language>en-US</dc:language>
  <cp:lastModifiedBy>Josh Yelon</cp:lastModifiedBy>
  <dcterms:modified xsi:type="dcterms:W3CDTF">2005-01-24T17:26:29Z</dcterms:modified>
  <cp:revision>12</cp:revision>
  <dc:subject/>
  <dc:title>Game Creation with Panda3D</dc:title>
</cp:coreProperties>
</file>