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6DAD-9D32-47DC-8CFB-4CEAD55C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F07D-3596-41C4-9912-CC45A4E9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3F96-9F5B-47F9-B328-06AE1822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06C4-8DEC-4455-A2A8-50C9FF4D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1847-2135-4741-9301-FA7D31D7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AABA-6074-4EFE-8ACD-C862CF77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743E-B7C6-41DA-A89A-638F4770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EB82-C7F6-43B4-909A-E2B2CD09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D85E-396B-4FA9-888E-04025A92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0230-1940-45D0-A513-6DB6A85A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AB22-C0D2-4B2B-964C-B6B6437E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2B28-6827-4431-B41F-AF6FA385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453E-68B4-44E7-8E74-673EB1DDF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1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3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2.png"/><Relationship Id="rId21" Type="http://schemas.openxmlformats.org/officeDocument/2006/relationships/image" Target="../media/image22.png"/><Relationship Id="rId22" Type="http://schemas.openxmlformats.org/officeDocument/2006/relationships/image" Target="../media/image17.png"/><Relationship Id="rId23" Type="http://schemas.openxmlformats.org/officeDocument/2006/relationships/image" Target="../media/image12.png"/><Relationship Id="rId24" Type="http://schemas.openxmlformats.org/officeDocument/2006/relationships/image" Target="../media/image17.png"/><Relationship Id="rId25" Type="http://schemas.openxmlformats.org/officeDocument/2006/relationships/image" Target="../media/image20.png"/><Relationship Id="rId2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ightfield Ter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ightforward tesse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00400" y="1752120"/>
            <a:ext cx="2742840" cy="2133360"/>
            <a:chOff x="3200400" y="1752120"/>
            <a:chExt cx="2742840" cy="2133360"/>
          </a:xfrm>
        </p:grpSpPr>
        <p:grpSp>
          <p:nvGrpSpPr>
            <p:cNvPr id="44" name=""/>
            <p:cNvGrpSpPr/>
            <p:nvPr/>
          </p:nvGrpSpPr>
          <p:grpSpPr>
            <a:xfrm>
              <a:off x="3200400" y="1752120"/>
              <a:ext cx="1371240" cy="1066680"/>
              <a:chOff x="3200400" y="1752120"/>
              <a:chExt cx="1371240" cy="1066680"/>
            </a:xfrm>
          </p:grpSpPr>
          <p:grpSp>
            <p:nvGrpSpPr>
              <p:cNvPr id="45" name=""/>
              <p:cNvGrpSpPr/>
              <p:nvPr/>
            </p:nvGrpSpPr>
            <p:grpSpPr>
              <a:xfrm>
                <a:off x="3200400" y="1752120"/>
                <a:ext cx="342720" cy="355680"/>
                <a:chOff x="3200400" y="1752120"/>
                <a:chExt cx="342720" cy="35568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3200400" y="1752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flipV="1">
                  <a:off x="3200400" y="1752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3200400" y="2107440"/>
                <a:ext cx="342720" cy="355680"/>
                <a:chOff x="3200400" y="2107440"/>
                <a:chExt cx="342720" cy="35568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3200400" y="210780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flipV="1">
                  <a:off x="3200400" y="210744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3543120" y="1752120"/>
                <a:ext cx="342720" cy="355680"/>
                <a:chOff x="3543120" y="1752120"/>
                <a:chExt cx="342720" cy="35568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3543120" y="1752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flipV="1">
                  <a:off x="3543120" y="1752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3543120" y="2107440"/>
                <a:ext cx="342720" cy="355680"/>
                <a:chOff x="3543120" y="2107440"/>
                <a:chExt cx="342720" cy="35568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3543120" y="210780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V="1">
                  <a:off x="3543120" y="210744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3886200" y="1752120"/>
                <a:ext cx="342720" cy="355680"/>
                <a:chOff x="3886200" y="1752120"/>
                <a:chExt cx="342720" cy="35568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3886200" y="1752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V="1">
                  <a:off x="3886200" y="1752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3886200" y="2107440"/>
                <a:ext cx="342720" cy="355680"/>
                <a:chOff x="3886200" y="2107440"/>
                <a:chExt cx="342720" cy="3556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3886200" y="210780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flipV="1">
                  <a:off x="3886200" y="210744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3543120" y="2463120"/>
                <a:ext cx="342720" cy="355680"/>
                <a:chOff x="3543120" y="2463120"/>
                <a:chExt cx="342720" cy="35568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43120" y="2463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flipV="1">
                  <a:off x="3543120" y="2463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3886200" y="2463120"/>
                <a:ext cx="342720" cy="355680"/>
                <a:chOff x="3886200" y="2463120"/>
                <a:chExt cx="342720" cy="35568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3886200" y="2463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flipV="1">
                  <a:off x="3886200" y="2463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3200400" y="2463120"/>
                <a:ext cx="342720" cy="355680"/>
                <a:chOff x="3200400" y="2463120"/>
                <a:chExt cx="342720" cy="3556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200400" y="2463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V="1">
                  <a:off x="3200400" y="2463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4228920" y="1752120"/>
                <a:ext cx="342720" cy="355680"/>
                <a:chOff x="4228920" y="1752120"/>
                <a:chExt cx="342720" cy="3556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4228920" y="1752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V="1">
                  <a:off x="4228920" y="1752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4228920" y="2107440"/>
                <a:ext cx="342720" cy="355680"/>
                <a:chOff x="4228920" y="2107440"/>
                <a:chExt cx="342720" cy="3556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4228920" y="210780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4228920" y="210744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228920" y="2463120"/>
                <a:ext cx="342720" cy="355680"/>
                <a:chOff x="4228920" y="2463120"/>
                <a:chExt cx="342720" cy="3556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228920" y="2463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V="1">
                  <a:off x="4228920" y="2463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" name=""/>
            <p:cNvGrpSpPr/>
            <p:nvPr/>
          </p:nvGrpSpPr>
          <p:grpSpPr>
            <a:xfrm>
              <a:off x="4572000" y="1752120"/>
              <a:ext cx="1371240" cy="1066680"/>
              <a:chOff x="4572000" y="1752120"/>
              <a:chExt cx="1371240" cy="106668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4572000" y="1752120"/>
                <a:ext cx="342720" cy="355680"/>
                <a:chOff x="4572000" y="1752120"/>
                <a:chExt cx="342720" cy="35568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572000" y="1752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flipV="1">
                  <a:off x="4572000" y="1752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572000" y="2107440"/>
                <a:ext cx="342720" cy="355680"/>
                <a:chOff x="4572000" y="2107440"/>
                <a:chExt cx="342720" cy="3556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572000" y="210780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flipV="1">
                  <a:off x="4572000" y="210744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4914720" y="1752120"/>
                <a:ext cx="342720" cy="355680"/>
                <a:chOff x="4914720" y="1752120"/>
                <a:chExt cx="342720" cy="3556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4914720" y="1752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V="1">
                  <a:off x="4914720" y="1752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4914720" y="2107440"/>
                <a:ext cx="342720" cy="355680"/>
                <a:chOff x="4914720" y="2107440"/>
                <a:chExt cx="342720" cy="35568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4914720" y="210780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V="1">
                  <a:off x="4914720" y="210744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5257800" y="1752120"/>
                <a:ext cx="342720" cy="355680"/>
                <a:chOff x="5257800" y="1752120"/>
                <a:chExt cx="342720" cy="3556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5257800" y="1752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V="1">
                  <a:off x="5257800" y="1752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5257800" y="2107440"/>
                <a:ext cx="342720" cy="355680"/>
                <a:chOff x="5257800" y="2107440"/>
                <a:chExt cx="342720" cy="3556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5257800" y="210780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V="1">
                  <a:off x="5257800" y="210744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4914720" y="2463120"/>
                <a:ext cx="342720" cy="355680"/>
                <a:chOff x="4914720" y="2463120"/>
                <a:chExt cx="342720" cy="3556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914720" y="2463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V="1">
                  <a:off x="4914720" y="2463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5257800" y="2463120"/>
                <a:ext cx="342720" cy="355680"/>
                <a:chOff x="5257800" y="2463120"/>
                <a:chExt cx="342720" cy="3556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5257800" y="2463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V="1">
                  <a:off x="5257800" y="2463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572000" y="2463120"/>
                <a:ext cx="342720" cy="355680"/>
                <a:chOff x="4572000" y="2463120"/>
                <a:chExt cx="342720" cy="3556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572000" y="2463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V="1">
                  <a:off x="4572000" y="2463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600520" y="1752120"/>
                <a:ext cx="342720" cy="355680"/>
                <a:chOff x="5600520" y="1752120"/>
                <a:chExt cx="342720" cy="3556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600520" y="1752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V="1">
                  <a:off x="5600520" y="1752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600520" y="2107440"/>
                <a:ext cx="342720" cy="355680"/>
                <a:chOff x="5600520" y="2107440"/>
                <a:chExt cx="342720" cy="3556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600520" y="210780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V="1">
                  <a:off x="5600520" y="210744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600520" y="2463120"/>
                <a:ext cx="342720" cy="355680"/>
                <a:chOff x="5600520" y="2463120"/>
                <a:chExt cx="342720" cy="3556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600520" y="2463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V="1">
                  <a:off x="5600520" y="2463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3200400" y="2818800"/>
              <a:ext cx="1371240" cy="1066680"/>
              <a:chOff x="3200400" y="2818800"/>
              <a:chExt cx="1371240" cy="106668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3200400" y="2818800"/>
                <a:ext cx="342720" cy="355680"/>
                <a:chOff x="3200400" y="2818800"/>
                <a:chExt cx="342720" cy="3556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200400" y="2819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V="1">
                  <a:off x="3200400" y="2818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3200400" y="3174120"/>
                <a:ext cx="342720" cy="355680"/>
                <a:chOff x="3200400" y="3174120"/>
                <a:chExt cx="342720" cy="3556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3200400" y="3174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V="1">
                  <a:off x="3200400" y="3174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3543120" y="2818800"/>
                <a:ext cx="342720" cy="355680"/>
                <a:chOff x="3543120" y="2818800"/>
                <a:chExt cx="342720" cy="3556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543120" y="2819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V="1">
                  <a:off x="3543120" y="2818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3543120" y="3174120"/>
                <a:ext cx="342720" cy="355680"/>
                <a:chOff x="3543120" y="3174120"/>
                <a:chExt cx="342720" cy="3556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3543120" y="3174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V="1">
                  <a:off x="3543120" y="3174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3886200" y="2818800"/>
                <a:ext cx="342720" cy="355680"/>
                <a:chOff x="3886200" y="2818800"/>
                <a:chExt cx="342720" cy="3556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3886200" y="2819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3886200" y="2818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3886200" y="3174120"/>
                <a:ext cx="342720" cy="355680"/>
                <a:chOff x="3886200" y="3174120"/>
                <a:chExt cx="342720" cy="3556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886200" y="3174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V="1">
                  <a:off x="3886200" y="3174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3543120" y="3529800"/>
                <a:ext cx="342720" cy="355680"/>
                <a:chOff x="3543120" y="3529800"/>
                <a:chExt cx="342720" cy="3556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3543120" y="3530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3543120" y="3529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3886200" y="3529800"/>
                <a:ext cx="342720" cy="355680"/>
                <a:chOff x="3886200" y="3529800"/>
                <a:chExt cx="342720" cy="3556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3886200" y="3530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3886200" y="3529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3200400" y="3529800"/>
                <a:ext cx="342720" cy="355680"/>
                <a:chOff x="3200400" y="3529800"/>
                <a:chExt cx="342720" cy="35568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200400" y="3530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V="1">
                  <a:off x="3200400" y="3529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228920" y="2818800"/>
                <a:ext cx="342720" cy="355680"/>
                <a:chOff x="4228920" y="2818800"/>
                <a:chExt cx="342720" cy="35568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4228920" y="2819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4228920" y="2818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4228920" y="3174120"/>
                <a:ext cx="342720" cy="355680"/>
                <a:chOff x="4228920" y="3174120"/>
                <a:chExt cx="342720" cy="35568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228920" y="3174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4228920" y="3174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228920" y="3529800"/>
                <a:ext cx="342720" cy="355680"/>
                <a:chOff x="4228920" y="3529800"/>
                <a:chExt cx="342720" cy="3556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4228920" y="3530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4228920" y="3529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"/>
            <p:cNvGrpSpPr/>
            <p:nvPr/>
          </p:nvGrpSpPr>
          <p:grpSpPr>
            <a:xfrm>
              <a:off x="4572000" y="2818800"/>
              <a:ext cx="1371240" cy="1066680"/>
              <a:chOff x="4572000" y="2818800"/>
              <a:chExt cx="1371240" cy="106668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4572000" y="2818800"/>
                <a:ext cx="342720" cy="355680"/>
                <a:chOff x="4572000" y="2818800"/>
                <a:chExt cx="342720" cy="35568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572000" y="2819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4572000" y="2818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4572000" y="3174120"/>
                <a:ext cx="342720" cy="355680"/>
                <a:chOff x="4572000" y="3174120"/>
                <a:chExt cx="342720" cy="3556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4572000" y="3174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4572000" y="3174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914720" y="2818800"/>
                <a:ext cx="342720" cy="355680"/>
                <a:chOff x="4914720" y="2818800"/>
                <a:chExt cx="342720" cy="3556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914720" y="2819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>
                  <a:off x="4914720" y="2818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4914720" y="3174120"/>
                <a:ext cx="342720" cy="355680"/>
                <a:chOff x="4914720" y="3174120"/>
                <a:chExt cx="342720" cy="355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4914720" y="3174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V="1">
                  <a:off x="4914720" y="3174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5257800" y="2818800"/>
                <a:ext cx="342720" cy="355680"/>
                <a:chOff x="5257800" y="2818800"/>
                <a:chExt cx="342720" cy="3556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5257800" y="2819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V="1">
                  <a:off x="5257800" y="2818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257800" y="3174120"/>
                <a:ext cx="342720" cy="355680"/>
                <a:chOff x="5257800" y="3174120"/>
                <a:chExt cx="342720" cy="355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257800" y="3174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5257800" y="3174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914720" y="3529800"/>
                <a:ext cx="342720" cy="355680"/>
                <a:chOff x="4914720" y="3529800"/>
                <a:chExt cx="342720" cy="355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914720" y="3530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4914720" y="3529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5257800" y="3529800"/>
                <a:ext cx="342720" cy="355680"/>
                <a:chOff x="5257800" y="3529800"/>
                <a:chExt cx="342720" cy="355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5257800" y="3530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5257800" y="3529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4572000" y="3529800"/>
                <a:ext cx="342720" cy="355680"/>
                <a:chOff x="4572000" y="3529800"/>
                <a:chExt cx="342720" cy="355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572000" y="3530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4572000" y="3529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5600520" y="2818800"/>
                <a:ext cx="342720" cy="355680"/>
                <a:chOff x="5600520" y="2818800"/>
                <a:chExt cx="342720" cy="355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5600520" y="2819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V="1">
                  <a:off x="5600520" y="2818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5600520" y="3174120"/>
                <a:ext cx="342720" cy="355680"/>
                <a:chOff x="5600520" y="3174120"/>
                <a:chExt cx="342720" cy="355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5600520" y="3174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V="1">
                  <a:off x="5600520" y="3174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5600520" y="3529800"/>
                <a:ext cx="342720" cy="355680"/>
                <a:chOff x="5600520" y="3529800"/>
                <a:chExt cx="342720" cy="3556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5600520" y="3530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V="1">
                  <a:off x="5600520" y="3529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2" name=""/>
          <p:cNvSpPr/>
          <p:nvPr/>
        </p:nvSpPr>
        <p:spPr>
          <a:xfrm>
            <a:off x="533520" y="3962520"/>
            <a:ext cx="82296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 resolution: 1 fo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can see a long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 math: too many vertic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ed ROAM: basically just RO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 trivial metric: “distance from play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et radii correctly, no forced spl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vastly simplified data structur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2D bit-array indicating where vertices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me show you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303200" y="1600200"/>
            <a:ext cx="653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303200" y="1600200"/>
            <a:ext cx="653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303200" y="1600200"/>
            <a:ext cx="653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303200" y="1600200"/>
            <a:ext cx="653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very 4x4 cell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erRightTriangle(Upper left half of cel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erRightTriangle(Lower right half of c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RenderRightTriangle(apex, vert1, vert2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hyp = (vert1+vert2)/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itarray[midhyp] is se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erRightTriangle(midhyp, vert1, apex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erRightTriangle(midhyp, vert2, apex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Vertex(apex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Vertex(vert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Vertex(vert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rcise for rea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access i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it without the 2D bit-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do it with triangle f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*not* homework. 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algorithm walking dead to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r question: will CPU ever take over vertex transform respons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 co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PU reabsorbs vertex transform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his algorithm may live, otherwise d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y Challenging Ter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 5, Horiz 5000, Vert 1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push 100,000 pol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makes sense for Drakan-like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afford to do per-triangle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process larger chu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utilize vertex buffer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mipmapp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mip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heightfield into large p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atch, store multiple re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2514600" y="2362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4419720" y="2362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6324480" y="2362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6172200" y="43434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143000" y="4648320"/>
            <a:ext cx="4876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edge vertices are never elimin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selation might look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voids t-junctions with adjacent pa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ore 1 vertex array, 4 index ar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mip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16x16 patch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1: 64 edge + 225 interior = 289 vertices (10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2: 64 edge + 113 interior = 177 vertices (6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3: 64 edge + 036 interior = 100 vertices (3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4: 64 edge + 025 interior = 089 vertices (3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5: 64 edge + 009 interior = 073 vertices (2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many edge vertices. Try bigger patche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ing the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pel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: 1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: 5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es: 625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Challeng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: 5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: 1 m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es: 1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: 8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: ½ m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es: 1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: 8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: 500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es: 4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mip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64x64 patch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1: 256 edge + 3969 interior = 4225 vertices (10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2: 256 edge + 1985 interior = 2241 vertices (53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3: 256 edge + 0961 interior = 1217 vertices (29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4: 256 edge + 0481 interior = 0737 vertices (1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5: 256 edge + 0225 interior = 0481 vertices (1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s well on large terr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Geomip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use regular grid, like in prev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use edge-collapse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4114800"/>
            <a:ext cx="77724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simpler than it loo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k a vertex V1 to elimin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k an adjacent vertex V2 to collapse it in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triangle lists, replace all occurrences of V1 with V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 triangles that contain V2 tw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V1 from vertex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choose which vertex to elimin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11480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209680" y="2362320"/>
            <a:ext cx="1524240" cy="1600200"/>
            <a:chOff x="2209680" y="2362320"/>
            <a:chExt cx="1524240" cy="1600200"/>
          </a:xfrm>
        </p:grpSpPr>
        <p:sp>
          <p:nvSpPr>
            <p:cNvPr id="307" name=""/>
            <p:cNvSpPr/>
            <p:nvPr/>
          </p:nvSpPr>
          <p:spPr>
            <a:xfrm>
              <a:off x="2209680" y="2362320"/>
              <a:ext cx="838440" cy="1067040"/>
            </a:xfrm>
            <a:custGeom>
              <a:avLst/>
              <a:gdLst/>
              <a:ahLst/>
              <a:rect l="l" t="t" r="r" b="b"/>
              <a:pathLst>
                <a:path w="528" h="672">
                  <a:moveTo>
                    <a:pt x="528" y="384"/>
                  </a:moveTo>
                  <a:lnTo>
                    <a:pt x="0" y="672"/>
                  </a:lnTo>
                  <a:lnTo>
                    <a:pt x="96" y="0"/>
                  </a:lnTo>
                  <a:lnTo>
                    <a:pt x="528" y="384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62320" y="2362320"/>
              <a:ext cx="1218960" cy="609840"/>
            </a:xfrm>
            <a:custGeom>
              <a:avLst/>
              <a:gdLst/>
              <a:ahLst/>
              <a:rect l="l" t="t" r="r" b="b"/>
              <a:pathLst>
                <a:path w="768" h="384">
                  <a:moveTo>
                    <a:pt x="0" y="0"/>
                  </a:moveTo>
                  <a:lnTo>
                    <a:pt x="768" y="0"/>
                  </a:lnTo>
                  <a:lnTo>
                    <a:pt x="432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48120" y="2362320"/>
              <a:ext cx="685800" cy="914400"/>
            </a:xfrm>
            <a:custGeom>
              <a:avLst/>
              <a:gdLst/>
              <a:ahLst/>
              <a:rect l="l" t="t" r="r" b="b"/>
              <a:pathLst>
                <a:path w="432" h="576">
                  <a:moveTo>
                    <a:pt x="336" y="0"/>
                  </a:moveTo>
                  <a:lnTo>
                    <a:pt x="432" y="576"/>
                  </a:lnTo>
                  <a:lnTo>
                    <a:pt x="0" y="384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09680" y="2972160"/>
              <a:ext cx="838440" cy="990360"/>
            </a:xfrm>
            <a:custGeom>
              <a:avLst/>
              <a:gdLst/>
              <a:ahLst/>
              <a:rect l="l" t="t" r="r" b="b"/>
              <a:pathLst>
                <a:path w="528" h="624">
                  <a:moveTo>
                    <a:pt x="528" y="0"/>
                  </a:moveTo>
                  <a:lnTo>
                    <a:pt x="480" y="624"/>
                  </a:lnTo>
                  <a:lnTo>
                    <a:pt x="0" y="288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71800" y="2972160"/>
              <a:ext cx="762120" cy="990360"/>
            </a:xfrm>
            <a:custGeom>
              <a:avLst/>
              <a:gdLst/>
              <a:ahLst/>
              <a:rect l="l" t="t" r="r" b="b"/>
              <a:pathLst>
                <a:path w="480" h="624">
                  <a:moveTo>
                    <a:pt x="48" y="0"/>
                  </a:moveTo>
                  <a:lnTo>
                    <a:pt x="480" y="192"/>
                  </a:lnTo>
                  <a:lnTo>
                    <a:pt x="0" y="62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5105520" y="2438280"/>
            <a:ext cx="1371600" cy="1067040"/>
          </a:xfrm>
          <a:custGeom>
            <a:avLst/>
            <a:gdLst/>
            <a:ahLst/>
            <a:rect l="l" t="t" r="r" b="b"/>
            <a:pathLst>
              <a:path w="864" h="672">
                <a:moveTo>
                  <a:pt x="96" y="0"/>
                </a:moveTo>
                <a:lnTo>
                  <a:pt x="864" y="0"/>
                </a:lnTo>
                <a:lnTo>
                  <a:pt x="0" y="672"/>
                </a:lnTo>
                <a:lnTo>
                  <a:pt x="96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867280" y="2438280"/>
            <a:ext cx="762120" cy="1600200"/>
          </a:xfrm>
          <a:custGeom>
            <a:avLst/>
            <a:gdLst/>
            <a:ahLst/>
            <a:rect l="l" t="t" r="r" b="b"/>
            <a:pathLst>
              <a:path w="480" h="1008">
                <a:moveTo>
                  <a:pt x="384" y="0"/>
                </a:moveTo>
                <a:lnTo>
                  <a:pt x="480" y="576"/>
                </a:lnTo>
                <a:lnTo>
                  <a:pt x="0" y="1008"/>
                </a:lnTo>
                <a:lnTo>
                  <a:pt x="384" y="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05520" y="2438280"/>
            <a:ext cx="1371600" cy="1600200"/>
          </a:xfrm>
          <a:custGeom>
            <a:avLst/>
            <a:gdLst/>
            <a:ahLst/>
            <a:rect l="l" t="t" r="r" b="b"/>
            <a:pathLst>
              <a:path w="864" h="1008">
                <a:moveTo>
                  <a:pt x="864" y="0"/>
                </a:moveTo>
                <a:lnTo>
                  <a:pt x="480" y="1008"/>
                </a:lnTo>
                <a:lnTo>
                  <a:pt x="0" y="672"/>
                </a:lnTo>
                <a:lnTo>
                  <a:pt x="864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0" y="28195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401520" y="22096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6040" y="21337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uring: Frequ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 tileable “dirt” texture (photo of di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it to entire terrain, t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look good up c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look like a grid from a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hotoshop high pass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t looks like solid color from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multiple frequencies (high, med, 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uring: Frequ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tileable texture: “dirt”, 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it to entire terrain, t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it to entire terrain, tiled, scaled 5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it to entire terrain, tiled, scaled 25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often do this with multitext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 with different textures at 5x, 25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ooks very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uring: Tint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texture un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t texture, t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t texture, tiled, scaled 5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t texture, tiled, scaled 25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tint ma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nt map is large texture (2048x2048) stretched over entire terrain (not tiled at a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nt map is used to “colorize” the di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n dirt looks kinda like grass, suprising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uring: Multiple P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t texture, t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t texture, tiled, scaled 5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t texture, tiled, scaled 25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int-map for di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ss texture, t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t texture, tiled, scaled 5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t texture, tiled, scaled 25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int-and-transparency map for gr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ation: texture boundaries are blu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ation: small number of terrain tex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ypass this limit with sufficient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uring: Fragment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t tex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ss tex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int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s dirt texture, tiled, scaled 1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s grass texture, tiled, scaled 1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s dirt texture, tiled, scaled 5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s dirt texture, tiled, scaled 25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s two tint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it all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yourself a rendering 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ed performanc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ation: texture boundaries are blu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ation: small number of terrain tex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uring: 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2286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330" name=""/>
          <p:cNvGrpSpPr/>
          <p:nvPr/>
        </p:nvGrpSpPr>
        <p:grpSpPr>
          <a:xfrm>
            <a:off x="2743200" y="1295280"/>
            <a:ext cx="2895480" cy="3886200"/>
            <a:chOff x="2743200" y="1295280"/>
            <a:chExt cx="2895480" cy="3886200"/>
          </a:xfrm>
        </p:grpSpPr>
        <p:pic>
          <p:nvPicPr>
            <p:cNvPr id="331" name="" descr=""/>
            <p:cNvPicPr/>
            <p:nvPr/>
          </p:nvPicPr>
          <p:blipFill>
            <a:blip r:embed="rId2"/>
            <a:stretch/>
          </p:blipFill>
          <p:spPr>
            <a:xfrm rot="10800000">
              <a:off x="3733560" y="42670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3"/>
            <a:stretch/>
          </p:blipFill>
          <p:spPr>
            <a:xfrm>
              <a:off x="4724280" y="42670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4"/>
            <a:stretch/>
          </p:blipFill>
          <p:spPr>
            <a:xfrm>
              <a:off x="2743200" y="12952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5"/>
            <a:stretch/>
          </p:blipFill>
          <p:spPr>
            <a:xfrm>
              <a:off x="3733560" y="12952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6"/>
            <a:stretch/>
          </p:blipFill>
          <p:spPr>
            <a:xfrm>
              <a:off x="2743200" y="22860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7"/>
            <a:stretch/>
          </p:blipFill>
          <p:spPr>
            <a:xfrm>
              <a:off x="3733560" y="22860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8"/>
            <a:stretch/>
          </p:blipFill>
          <p:spPr>
            <a:xfrm>
              <a:off x="373356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9"/>
            <a:stretch/>
          </p:blipFill>
          <p:spPr>
            <a:xfrm>
              <a:off x="4724280" y="22860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 rot="10800000">
              <a:off x="472428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4724280" y="12952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274320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13"/>
            <a:stretch/>
          </p:blipFill>
          <p:spPr>
            <a:xfrm>
              <a:off x="2743200" y="426708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"/>
          <p:cNvGrpSpPr/>
          <p:nvPr/>
        </p:nvGrpSpPr>
        <p:grpSpPr>
          <a:xfrm>
            <a:off x="6019920" y="1295280"/>
            <a:ext cx="2895480" cy="3886200"/>
            <a:chOff x="6019920" y="1295280"/>
            <a:chExt cx="2895480" cy="3886200"/>
          </a:xfrm>
        </p:grpSpPr>
        <p:pic>
          <p:nvPicPr>
            <p:cNvPr id="344" name="" descr=""/>
            <p:cNvPicPr/>
            <p:nvPr/>
          </p:nvPicPr>
          <p:blipFill>
            <a:blip r:embed="rId14"/>
            <a:stretch/>
          </p:blipFill>
          <p:spPr>
            <a:xfrm>
              <a:off x="7010640" y="12952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5"/>
            <a:stretch/>
          </p:blipFill>
          <p:spPr>
            <a:xfrm>
              <a:off x="6019920" y="22860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16"/>
            <a:stretch/>
          </p:blipFill>
          <p:spPr>
            <a:xfrm>
              <a:off x="6019920" y="12952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17"/>
            <a:stretch/>
          </p:blipFill>
          <p:spPr>
            <a:xfrm>
              <a:off x="7010640" y="22860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18"/>
            <a:stretch/>
          </p:blipFill>
          <p:spPr>
            <a:xfrm>
              <a:off x="701064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19"/>
            <a:stretch/>
          </p:blipFill>
          <p:spPr>
            <a:xfrm>
              <a:off x="8001000" y="22860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20"/>
            <a:stretch/>
          </p:blipFill>
          <p:spPr>
            <a:xfrm>
              <a:off x="800100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21"/>
            <a:stretch/>
          </p:blipFill>
          <p:spPr>
            <a:xfrm>
              <a:off x="7010640" y="42670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22"/>
            <a:stretch/>
          </p:blipFill>
          <p:spPr>
            <a:xfrm>
              <a:off x="8001000" y="12952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23"/>
            <a:stretch/>
          </p:blipFill>
          <p:spPr>
            <a:xfrm>
              <a:off x="8001000" y="42670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24"/>
            <a:stretch/>
          </p:blipFill>
          <p:spPr>
            <a:xfrm>
              <a:off x="601992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25"/>
            <a:stretch/>
          </p:blipFill>
          <p:spPr>
            <a:xfrm>
              <a:off x="6019920" y="426708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"/>
          <p:cNvSpPr/>
          <p:nvPr/>
        </p:nvSpPr>
        <p:spPr>
          <a:xfrm>
            <a:off x="380880" y="4191120"/>
            <a:ext cx="60199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control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ary mid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: texture boundaries can be sha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: can use many terrain types, if done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get combinatorics und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le Combinator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tiles grows rapi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2 terrain types, 2^4 tile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3 terrain types, 3^4 tile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4 terrain types, 4^4 tile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ly, this is not prac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 limit adjac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multi-pass ren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les with Transpar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3733920" y="144792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867280" y="1447920"/>
            <a:ext cx="1625760" cy="16254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276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42900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48640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90720" y="35053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take up to four passes to render a 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ractice, 99% only take 1 or 2 p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mited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sixteen textures per terrain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’s still a lot of big textures, if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Ter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 8, Horiz 500, Vert 4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problem: hide that short hori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way to measure horizon: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leys and mou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ght – black f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ed backd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 Tiles with R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685800" y="373392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6934320" y="152388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2743200" y="152388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4876920" y="152388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5"/>
          <a:stretch/>
        </p:blipFill>
        <p:spPr>
          <a:xfrm>
            <a:off x="685800" y="1523880"/>
            <a:ext cx="1625760" cy="16257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2819520" y="3962520"/>
            <a:ext cx="57909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what ATITD u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tileable textures are hard to mak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teable, tileable are very hard to ma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les: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supports high-frequenc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atible with ROAM/Geomip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orporate medium and low-freq noi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eparate texture and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ure can be sum of 1x+5x+25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s another texture unit (already quite fe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o tiles and ROAM at same ti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do it with hairy pixel sh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try it, really. It’s not a good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ving it Dep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errain thus far looks somewhat f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bump 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bother with simple bump-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T-scan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ufts-of-grass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ing Ter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 8, Horiz 2500, Vert 100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problem: too many polyg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sible to store 100k ver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feasible to render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ve me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400800" y="1676520"/>
            <a:ext cx="10666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3047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esh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400800" y="167616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00800" y="3124080"/>
            <a:ext cx="106668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400800" y="3124080"/>
            <a:ext cx="106668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34320" y="36576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39560" y="19414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60480" y="274320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 – because of met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66640" y="3505320"/>
            <a:ext cx="38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finished yet – danger – t-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4572000"/>
            <a:ext cx="10666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400800" y="457164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51055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71200" y="4191120"/>
            <a:ext cx="35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d split to eliminate t-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4572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269960" y="495288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abl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67480" y="1676520"/>
            <a:ext cx="10670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1676520"/>
            <a:ext cx="10670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7480" y="3124080"/>
            <a:ext cx="106704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3124080"/>
            <a:ext cx="106704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7480" y="4572000"/>
            <a:ext cx="10670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67480" y="4572000"/>
            <a:ext cx="10670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579132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is out-of-fav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391520" y="5562720"/>
            <a:ext cx="10666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24480" y="1219320"/>
            <a:ext cx="10670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324480" y="1218960"/>
            <a:ext cx="10670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0" y="17524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24480" y="12193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91520" y="1219320"/>
            <a:ext cx="10666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91520" y="121932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24480" y="2666880"/>
            <a:ext cx="106704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324480" y="2666880"/>
            <a:ext cx="106704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0" y="32004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24480" y="26668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91520" y="2666880"/>
            <a:ext cx="106668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91520" y="2666880"/>
            <a:ext cx="106668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4114800"/>
            <a:ext cx="10670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324480" y="4114440"/>
            <a:ext cx="10670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0" y="46483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24480" y="41148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391520" y="4114800"/>
            <a:ext cx="10666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91520" y="411480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7391520" y="464796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7924680" y="41148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391520" y="6095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24480" y="5562720"/>
            <a:ext cx="10670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324480" y="5562360"/>
            <a:ext cx="10670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60958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324480" y="55627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391520" y="556272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0" y="6095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7391520" y="60958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924680" y="556236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8168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03120" y="15238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508200" y="228600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 – because of met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6800" y="37339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d spl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61560" y="304812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now have t-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27680" y="441972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l getting rid of t-j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41000" y="518148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orced spl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117680" y="59436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abl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M – choose your metr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thing reasonable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of midpoint of hypotenuse from height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midpoint, project true point, calc distance in screen-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ic c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attention to camera (or play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attention to height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attention to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old you basic ideas, but I didn’t show the actual data stru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algorithm is in ROAM paper: http://www.llnl.gov/graphics/ROA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ation: don’t implement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 is now out-of-favor, because of evolution of hard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ware and 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ROAM was inven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et: 100,000 v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 can process 5,000/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U can handle 5,000/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et: 500,000 v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 can process 10,000/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U can handle 50,000/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ion toward ever-simpler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17:18:07Z</dcterms:created>
  <dc:creator>Julio Gonzales</dc:creator>
  <dc:description/>
  <dc:language>en-US</dc:language>
  <cp:lastModifiedBy>Josh Yelon</cp:lastModifiedBy>
  <dcterms:modified xsi:type="dcterms:W3CDTF">2005-02-21T19:26:03Z</dcterms:modified>
  <cp:revision>10</cp:revision>
  <dc:subject/>
  <dc:title>Heightfield Terrain</dc:title>
</cp:coreProperties>
</file>