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D0C2-DAA8-4B01-A891-2DEF3C0F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FAED-4F91-451D-9F1C-53A8DF70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222B-78DE-4E1E-BF6C-301501C69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5141-F29A-4308-A070-D51703686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5E46-165F-4AA7-A9E9-2B4BC7273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D960-4C5F-4F92-9F03-36E57986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A02F-84D8-4441-AFEB-E5AFB668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85DE-A132-4BBE-91FB-ADC16D8C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6A6D-9611-44F9-9C6C-C2262CCB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11280" y="198000"/>
            <a:ext cx="7588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E37B-1F60-4742-A47A-4B41CB06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DB11-7152-44FD-90FE-90A4090A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0344-A49D-487D-91C3-AEBF5A87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9C24-C78F-412B-AFCF-BDEA0EE0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58E9-94D2-4AE9-B8B4-73CE4375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24AA-692D-411A-B153-17EDE955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31A7-8021-419C-A55D-A256CB13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9656-3A5B-474F-A7E4-18D08F2FB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2512-1E7E-494E-B41B-7DE95E5B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64CF-E29E-4152-9FAA-9E603DFB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AD5C-20D6-4D87-99C0-8B6A953B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11280" y="198000"/>
            <a:ext cx="7588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FA85-41AE-4328-9E24-17BA8935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67F4-10CD-40D4-A05E-F699EEB9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49F8-E2B3-4E61-900E-A6E33819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9F7D-196F-4DEC-A841-1CB29F84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81080" y="45720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8329680" y="733320"/>
            <a:ext cx="720720" cy="532080"/>
            <a:chOff x="8329680" y="733320"/>
            <a:chExt cx="720720" cy="532080"/>
          </a:xfrm>
        </p:grpSpPr>
        <p:sp>
          <p:nvSpPr>
            <p:cNvPr id="2" name=""/>
            <p:cNvSpPr/>
            <p:nvPr/>
          </p:nvSpPr>
          <p:spPr>
            <a:xfrm flipH="1" rot="10800000">
              <a:off x="8832960" y="733320"/>
              <a:ext cx="2174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10800000">
              <a:off x="8582400" y="733320"/>
              <a:ext cx="2192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10800000">
              <a:off x="8329680" y="733320"/>
              <a:ext cx="21888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77400" y="6040440"/>
            <a:ext cx="531720" cy="726840"/>
            <a:chOff x="77400" y="6040440"/>
            <a:chExt cx="531720" cy="726840"/>
          </a:xfrm>
        </p:grpSpPr>
        <p:sp>
          <p:nvSpPr>
            <p:cNvPr id="6" name=""/>
            <p:cNvSpPr/>
            <p:nvPr/>
          </p:nvSpPr>
          <p:spPr>
            <a:xfrm flipH="1" rot="5400000">
              <a:off x="234000" y="5883120"/>
              <a:ext cx="2174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233280" y="6142680"/>
              <a:ext cx="21888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233280" y="6391800"/>
              <a:ext cx="2192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6B73-8DAB-4926-8F34-8CFCD79AB49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22716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304200" y="914400"/>
            <a:ext cx="8839080" cy="228600"/>
          </a:xfrm>
          <a:custGeom>
            <a:avLst/>
            <a:gdLst>
              <a:gd name="textAreaLeft" fmla="*/ -360 w 8839080"/>
              <a:gd name="textAreaRight" fmla="*/ 8839080 w 88390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1" y="0"/>
                </a:lnTo>
                <a:lnTo>
                  <a:pt x="21600" y="10800"/>
                </a:lnTo>
                <a:lnTo>
                  <a:pt x="212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981080" y="2179800"/>
            <a:ext cx="19080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" name=""/>
          <p:cNvGrpSpPr/>
          <p:nvPr/>
        </p:nvGrpSpPr>
        <p:grpSpPr>
          <a:xfrm>
            <a:off x="77760" y="5903640"/>
            <a:ext cx="533520" cy="749160"/>
            <a:chOff x="77760" y="5903640"/>
            <a:chExt cx="533520" cy="749160"/>
          </a:xfrm>
        </p:grpSpPr>
        <p:sp>
          <p:nvSpPr>
            <p:cNvPr id="17" name=""/>
            <p:cNvSpPr/>
            <p:nvPr/>
          </p:nvSpPr>
          <p:spPr>
            <a:xfrm rot="16200000">
              <a:off x="226080" y="5756400"/>
              <a:ext cx="2379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223560" y="6010200"/>
              <a:ext cx="23976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225360" y="6266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8190000" y="731880"/>
            <a:ext cx="739800" cy="533520"/>
            <a:chOff x="8190000" y="731880"/>
            <a:chExt cx="739800" cy="533520"/>
          </a:xfrm>
        </p:grpSpPr>
        <p:sp>
          <p:nvSpPr>
            <p:cNvPr id="22" name=""/>
            <p:cNvSpPr/>
            <p:nvPr/>
          </p:nvSpPr>
          <p:spPr>
            <a:xfrm>
              <a:off x="8691480" y="733320"/>
              <a:ext cx="23832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442360" y="733320"/>
              <a:ext cx="2397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90000" y="731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F504-534A-49BB-A689-2AA0026BC22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19720" y="9907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4457520" y="-2934000"/>
            <a:ext cx="228600" cy="9144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andrew.cmu.edu/course/15-CSAP/Java/Demo/FileStuff.zip" TargetMode="External"/><Relationship Id="rId2" Type="http://schemas.openxmlformats.org/officeDocument/2006/relationships/hyperlink" Target="http://www.andrew.cmu.edu/course/15-CSAP/Java/Demo/FileStuff.zip" TargetMode="External"/><Relationship Id="rId3" Type="http://schemas.openxmlformats.org/officeDocument/2006/relationships/hyperlink" Target="http://www.andrew.cmu.edu/course/15-CSAP/Java/Demo/FileStuff.zip" TargetMode="External"/><Relationship Id="rId4" Type="http://schemas.openxmlformats.org/officeDocument/2006/relationships/hyperlink" Target="http://www.andrew.cmu.edu/course/15-CSAP/Java/Demo/FileStuff.zip" TargetMode="External"/><Relationship Id="rId5" Type="http://schemas.openxmlformats.org/officeDocument/2006/relationships/hyperlink" Target="http://www.andrew.cmu.edu/course/15-CSAP/Java/Demo/FileStuff.zip" TargetMode="External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I/O Stream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stream is a sequence of bytes that flow from a source to a destina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 a program, we read information from an input stream and write information to an output strea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program can manage multiple streams at a tim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java.io package contains many classes that allow us to define various streams with specific characteristic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Error Codes 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79250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raditional approach to error handling: method returns error cod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 JOptionPane.showInputDialog returns null if user hits Canc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oblem: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alling method may forget to check for error code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alling method may not know how to fix error--then it needs to return an error code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Exception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an't be overlooked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an be handled by a competent handler, not necessarily the calling method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row an exception object to indicate failur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if (failure)</a:t>
            </a:r>
            <a:br>
              <a:rPr sz="1600"/>
            </a:b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{</a:t>
            </a:r>
            <a:br>
              <a:rPr sz="1600"/>
            </a:b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   XxxException e = new XxxException(. . .);</a:t>
            </a:r>
            <a:br>
              <a:rPr sz="1600"/>
            </a:b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   throw e;</a:t>
            </a:r>
            <a:br>
              <a:rPr sz="1600"/>
            </a:b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} 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ore concisely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throw new XxxException(. . .)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ffff"/>
                </a:solidFill>
                <a:uFillTx/>
                <a:latin typeface="Impact"/>
              </a:rPr>
              <a:t>Exceptions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</a:rPr>
              <a:t> 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33668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Console"/>
              </a:rPr>
              <a:t>public class BankAccou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Lucida Console"/>
              </a:rPr>
              <a:t>{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Lucida Console"/>
              </a:rPr>
              <a:t>  public void withdraw(double amount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Lucida Console"/>
              </a:rPr>
              <a:t>   {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Lucida Console"/>
              </a:rPr>
              <a:t>        if (amount &gt; balance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Lucida Console"/>
              </a:rPr>
              <a:t>           throw new IllegalArgumentException(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Lucida Console"/>
              </a:rPr>
              <a:t>"Amount exceeds balance");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Lucida Console"/>
              </a:rPr>
              <a:t>        balance = balance - amount;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Lucida Console"/>
              </a:rPr>
              <a:t>   }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Lucida Console"/>
              </a:rPr>
              <a:t>   ..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Hierarchy of Exception Classes 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495288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38080" y="1371600"/>
            <a:ext cx="8077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2952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 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throw exceptionObjec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7146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Lucida Consol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952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Courier New"/>
              </a:rPr>
              <a:t> 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throw new IllegalArgumentException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7146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Font typeface="Lucida Consol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Purpos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14680" indent="-343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To throw an exception and transfer control to a handler for this exception type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Syntax 14.1: Throwing an Exception 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ffff"/>
                </a:solidFill>
                <a:uFillTx/>
                <a:latin typeface="Impact"/>
              </a:rPr>
              <a:t>Checked Exception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Compiler checks that you are aware of the exception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ffff99"/>
                </a:solidFill>
                <a:latin typeface="Times New Roman"/>
              </a:rPr>
              <a:t>Generally used for errors that can happen even in correct programs</a:t>
            </a:r>
            <a:r>
              <a:rPr b="0" lang="en-US" sz="17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1" lang="en-US" sz="17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ffff99"/>
                </a:solidFill>
                <a:latin typeface="Lucida Console"/>
              </a:rPr>
              <a:t>IOException</a:t>
            </a:r>
            <a:r>
              <a:rPr b="1" lang="en-US" sz="17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ffff99"/>
                </a:solidFill>
                <a:latin typeface="Times New Roman"/>
              </a:rPr>
              <a:t>and its sublcasses are checked exceptions</a:t>
            </a:r>
            <a:endParaRPr b="1" lang="en-US" sz="17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17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ffff99"/>
                </a:solidFill>
                <a:latin typeface="Lucida Console"/>
              </a:rPr>
              <a:t>NullPointerException, ArrayIndexOutOfBoundsException</a:t>
            </a:r>
            <a:r>
              <a:rPr b="0" lang="en-US" sz="1600" spc="-1" strike="noStrike">
                <a:solidFill>
                  <a:srgbClr val="ffff99"/>
                </a:solidFill>
                <a:latin typeface="Lucida Console"/>
              </a:rPr>
              <a:t> , ...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 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ffff99"/>
                </a:solidFill>
                <a:latin typeface="Times New Roman"/>
              </a:rPr>
              <a:t>are unchecked --they are </a:t>
            </a:r>
            <a:r>
              <a:rPr b="0" i="1" lang="en-US" sz="1700" spc="-1" strike="noStrike">
                <a:solidFill>
                  <a:srgbClr val="ffff99"/>
                </a:solidFill>
                <a:latin typeface="Times New Roman"/>
              </a:rPr>
              <a:t>your fault </a:t>
            </a:r>
            <a:r>
              <a:rPr b="0" lang="en-US" sz="1700" spc="-1" strike="noStrike">
                <a:solidFill>
                  <a:srgbClr val="ffff99"/>
                </a:solidFill>
                <a:latin typeface="Times New Roman"/>
              </a:rPr>
              <a:t>:-) </a:t>
            </a:r>
            <a:endParaRPr b="1" lang="en-US" sz="17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Virtual machine errors (e.g.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OutOfMemoryError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) are unchecked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Classification not perfect. For example, </a:t>
            </a:r>
            <a:r>
              <a:rPr b="1" lang="en-US" sz="1600" spc="-1" strike="noStrike">
                <a:solidFill>
                  <a:srgbClr val="ffff99"/>
                </a:solidFill>
                <a:latin typeface="Lucida Console"/>
              </a:rPr>
              <a:t>Integer.parseInt</a:t>
            </a:r>
            <a:r>
              <a:rPr b="0" lang="en-US" sz="1600" spc="-1" strike="noStrike">
                <a:solidFill>
                  <a:srgbClr val="ffff99"/>
                </a:solidFill>
                <a:latin typeface="Lucida Console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throws unchecked </a:t>
            </a:r>
            <a:r>
              <a:rPr b="1" lang="en-US" sz="1600" spc="-1" strike="noStrike">
                <a:solidFill>
                  <a:srgbClr val="ffff99"/>
                </a:solidFill>
                <a:latin typeface="Lucida Console"/>
              </a:rPr>
              <a:t>NumberFormatException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Checked exceptions are subclasses of </a:t>
            </a:r>
            <a:r>
              <a:rPr b="1" lang="en-US" sz="1600" spc="-1" strike="noStrike">
                <a:solidFill>
                  <a:srgbClr val="ffff99"/>
                </a:solidFill>
                <a:latin typeface="Lucida Console"/>
              </a:rPr>
              <a:t>Exception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that are </a:t>
            </a:r>
            <a:r>
              <a:rPr b="0" i="1" lang="en-US" sz="2000" spc="-1" strike="noStrike">
                <a:solidFill>
                  <a:srgbClr val="ffff99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 subclasses of </a:t>
            </a:r>
            <a:r>
              <a:rPr b="1" lang="en-US" sz="1600" spc="-1" strike="noStrike">
                <a:solidFill>
                  <a:srgbClr val="ffff99"/>
                </a:solidFill>
                <a:latin typeface="Lucida Console"/>
              </a:rPr>
              <a:t>RuntimeException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Checked and Unchecked Exceptions 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09480" y="1266840"/>
            <a:ext cx="830592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Exception Specifications 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ufferedReader.readLine() may throw IOExcep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Which is checked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ag calling method with throws IOException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public class Coin 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{ </a:t>
            </a:r>
            <a:br>
              <a:rPr sz="1600"/>
            </a:b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public void read(BufferedReader in) </a:t>
            </a:r>
            <a:r>
              <a:rPr b="1" i="1" lang="en-US" sz="1600" spc="-1" strike="noStrike" u="sng">
                <a:solidFill>
                  <a:srgbClr val="ffff99"/>
                </a:solidFill>
                <a:uFillTx/>
                <a:latin typeface="Courier New"/>
              </a:rPr>
              <a:t>throws IOException</a:t>
            </a:r>
            <a:r>
              <a:rPr b="1" i="1" lang="en-US" sz="1600" spc="-1" strike="noStrike">
                <a:solidFill>
                  <a:srgbClr val="ffff99"/>
                </a:solidFill>
                <a:latin typeface="Courier New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{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value = Double.parseDouble(in.readLine()); </a:t>
            </a:r>
            <a:br>
              <a:rPr sz="1600"/>
            </a:b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name =in.readLine(); </a:t>
            </a:r>
            <a:br>
              <a:rPr sz="1600"/>
            </a:b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...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}</a:t>
            </a:r>
            <a:br>
              <a:rPr sz="1600"/>
            </a:b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Exception Specifications 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137160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99"/>
                </a:solidFill>
                <a:latin typeface="Times New Roman"/>
              </a:rPr>
              <a:t>Need to tag caller of </a:t>
            </a:r>
            <a:r>
              <a:rPr b="1" lang="en-US" sz="1600" spc="-1" strike="noStrike">
                <a:solidFill>
                  <a:srgbClr val="ffff99"/>
                </a:solidFill>
                <a:latin typeface="Lucida Console"/>
              </a:rPr>
              <a:t>Coin.read()</a:t>
            </a:r>
            <a:r>
              <a:rPr b="1" lang="en-US" sz="2100" spc="-1" strike="noStrike">
                <a:solidFill>
                  <a:srgbClr val="ffff99"/>
                </a:solidFill>
                <a:latin typeface="Times New Roman"/>
              </a:rPr>
              <a:t> as wel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99"/>
                </a:solidFill>
                <a:latin typeface="Times New Roman"/>
              </a:rPr>
              <a:t>If fact, depending on the depth of the call in your class hierarchy, you need to tag all methods on the path to the original source of the checked exception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99"/>
                </a:solidFill>
                <a:latin typeface="Times New Roman"/>
              </a:rPr>
              <a:t>At each level, the JVM will check to see if the exception is handle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99"/>
                </a:solidFill>
                <a:latin typeface="Times New Roman"/>
              </a:rPr>
              <a:t>If not handled the exception is thrown to the next level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99"/>
                </a:solidFill>
                <a:latin typeface="Times New Roman"/>
              </a:rPr>
              <a:t>If there are no handlers in your code, the JVM will ultimately handle the exception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99"/>
                </a:solidFill>
                <a:latin typeface="Times New Roman"/>
              </a:rPr>
              <a:t>Can have multiple exception type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1" lang="en-US" sz="1600" spc="-1" strike="noStrike">
                <a:solidFill>
                  <a:srgbClr val="ffff99"/>
                </a:solidFill>
                <a:latin typeface="Lucida Console"/>
              </a:rPr>
              <a:t>public void read() </a:t>
            </a:r>
            <a:br>
              <a:rPr sz="1600"/>
            </a:br>
            <a:r>
              <a:rPr b="1" lang="en-US" sz="1600" spc="-1" strike="noStrike">
                <a:solidFill>
                  <a:srgbClr val="ffff99"/>
                </a:solidFill>
                <a:latin typeface="Lucida Console"/>
              </a:rPr>
              <a:t>   throws IOException, ClassNotFoundException</a:t>
            </a:r>
            <a:r>
              <a:rPr b="1" lang="en-US" sz="19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76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Syntax 14.2: Exception Specification 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accessSpec returnType methodName(parameterType parameterName)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throws ExceptionClass, ExceptionClass . .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   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public void read(BufferedReader in) throws IOException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urpose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o indicate the checked exceptions that a method can throw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I/O Stream Categori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classes in the I/O package divide input and output streams into other categori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I/O stream is either a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character stream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, which deals with text data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Use Reader and Writer and their subclasse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byte stream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, which deal with byte data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Use InputStream and OutputStream and their subclasse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I/O stream is also either a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data stream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, which acts as either a source or destinatio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processing stream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, which alters or manages information in the stream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Reading number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eadLine() reads the information in the stream as a String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onvert the String values to the data type the value represent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Get the value from the keyboard: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String value = in.readLine()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o get an int valu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int num = Integer.parseInt(value)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o get a double valu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double number = Double.parseDouble(value)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re are other methods for converting booleans and char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heck the API for the wrapper classes Boolean and Character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Demo Code: Reading int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3055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public static void main(String[] args) throws IOException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{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inputStreamReader isr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isr = new InputStreamReader(System.in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BufferedReader in = new BufferedReader(isr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System.out.print("Enter a number: “);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String line = in.readLine(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System.out.print ("And another: ");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String line2 = in.readLine(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int num1 = Integer.parseInt(line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int num2 = Integer.parseInt(line2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System.out.println (num1 + " " + num2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System.out.println (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System.out.println ("Done..."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Data entry of multiple object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Often we want to work with objects and not with the primitive data typ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We follow one of the two patterns (Count Entry or Sentinel Entry), and then do our object processing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CountEntry: get number of data elements and process (for loop)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entinel Entry: test for some ending condition for the data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Provided by the user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Intrinsic to the data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End of the file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ometimes it is useful to write the code to process one object, and when we see it is working correctly, we can then build the data entry pattern around it.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Reading Input Valu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General pattern: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boolean done = false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while (!done)</a:t>
            </a:r>
            <a:br>
              <a:rPr sz="1600"/>
            </a:b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{</a:t>
            </a:r>
            <a:br>
              <a:rPr sz="1600"/>
            </a:b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   String input = </a:t>
            </a:r>
            <a:r>
              <a:rPr b="1" i="1" lang="en-US" sz="1600" spc="-1" strike="noStrike">
                <a:solidFill>
                  <a:srgbClr val="ffff99"/>
                </a:solidFill>
                <a:latin typeface="Courier New"/>
              </a:rPr>
              <a:t>read input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   if (</a:t>
            </a:r>
            <a:r>
              <a:rPr b="1" i="1" lang="en-US" sz="1600" spc="-1" strike="noStrike">
                <a:solidFill>
                  <a:srgbClr val="ffff99"/>
                </a:solidFill>
                <a:latin typeface="Courier New"/>
              </a:rPr>
              <a:t>end of input indicated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)</a:t>
            </a:r>
            <a:br>
              <a:rPr sz="1600"/>
            </a:b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      done = true;</a:t>
            </a:r>
            <a:br>
              <a:rPr sz="1600"/>
            </a:b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   else</a:t>
            </a:r>
            <a:br>
              <a:rPr sz="1600"/>
            </a:b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   {</a:t>
            </a:r>
            <a:br>
              <a:rPr sz="1600"/>
            </a:b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      </a:t>
            </a:r>
            <a:r>
              <a:rPr b="1" i="1" lang="en-US" sz="1600" spc="-1" strike="noStrike">
                <a:solidFill>
                  <a:srgbClr val="ffff99"/>
                </a:solidFill>
                <a:latin typeface="Courier New"/>
              </a:rPr>
              <a:t>process input</a:t>
            </a:r>
            <a:br>
              <a:rPr sz="1600"/>
            </a:b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   }</a:t>
            </a:r>
            <a:br>
              <a:rPr sz="1600"/>
            </a:b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"Loop and a half”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ee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FileInputTestDemo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Disk Fil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dvantag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Persistence: data in a file lasts longer than data on the monitor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apacity: more information can be stored on a disk than displayed at one time on a monitor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ttribut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ontents (data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 file nam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perati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Writing to a file (creating and storing data for the first time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Deleting a fil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Renaming a fil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Overwriting a fil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Obtaining contents of a fil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Modeling disk fil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Java provides a predefined class to model disk files, called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Fil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Constructor for the file class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ccepts the files name (a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tr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reference) as the argumen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File f1 = new File(“myData.txt”);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IMPORTANT: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We have created a reference to a file object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This does not create a file on the disk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imes New Roman"/>
              </a:rPr>
              <a:t>If this file is not on the disk, we cannot do anything with this object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If the file is on the disk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File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object provides two methods that model some of the operations we listed earlier: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delete()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File f = new File(“junk.txt”)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f.delete()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renameTo()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File f1, f2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f1 = new File(“junk.txt”)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f2 = new File(“garbage.txt”)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f1.renameTo(f2);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Input: Disk Fil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nly slightly more involved that obtaining input from a keyboar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nstead of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BufferedInputStream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object (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System.in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), we need a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FileInputStream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objec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onstruct a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FileInputStream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object the same as constructing a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FileOutputStream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objec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File f = new File(“myData.txt”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FileInputStream fs = new FileInputStream(f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Now we can use the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FileInputStream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object as we used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System.in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in getting data from the keyboard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Getting a line from a disk fil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File f = new File(“myData.txt”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FileInputStream fs = new FileInputStream(f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InputStreamReader isr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BufferedReader input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isr = new InputStreamReader(fs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input = new BufferedReader(isr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String inputLine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inputLine = input.readLine(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System.out.println(inputLine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Writing output to disk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o create a new file, or overwrite an existing file, we need a pathway, or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stream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Java has a predefined class to model this stream,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FileOutputStream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 constructor for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FileOutputStream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uses a reference to a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File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object as its argumen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File f = new File(“stuff.txt”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FileOutputStream fstream = new fileOutputStream(f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Opens the file so that it can receive data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reates a new file if the file does not exis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However, it does not provide any convenient methods for outpu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Standard I/O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re are three standard I/O stream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standard input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– defined by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System.i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standard output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– defined by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System.ou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standard error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– defined by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System.err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e us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ystem.ou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when we execut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printl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statemen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ystem.i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declared to be a generic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InputStrea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reference, and therefore usually must be mapped to a more useful stream with specific characteristic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0920" y="198000"/>
            <a:ext cx="8304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Using </a:t>
            </a:r>
            <a:r>
              <a:rPr b="1" lang="en-US" sz="3200" spc="-1" strike="noStrike">
                <a:solidFill>
                  <a:srgbClr val="ccffff"/>
                </a:solidFill>
                <a:latin typeface="Courier New"/>
              </a:rPr>
              <a:t>PrintStream</a:t>
            </a: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 methods for disk file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e want a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PrintStrea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bject to be associated with a disk file and not a monito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PrintStream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constructor takes a reference to a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FileOutputStream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as its argumen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PrintStream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object is associated with the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FileOutPutStream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Using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println()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and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print()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methods on this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PrintStream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object means that output will go to the disk file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File f = new File(“stuff.txt”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FileOutputStream fstream = new FileOutputStream(f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PrintStream target = new PrintStream(fstream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target.println(“This is a new disk file.”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-533520" y="2133720"/>
            <a:ext cx="9144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714680" indent="-343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File Dialog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Use </a:t>
            </a:r>
            <a:r>
              <a:rPr b="0" lang="en-US" sz="2400" spc="-1" strike="noStrike">
                <a:solidFill>
                  <a:srgbClr val="ffff99"/>
                </a:solidFill>
                <a:latin typeface="Lucida Console"/>
              </a:rPr>
              <a:t>JFileChooser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to let a user supply a file name through a file dialog 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Construct a file chooser object 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Call its </a:t>
            </a:r>
            <a:r>
              <a:rPr b="0" lang="en-US" sz="2400" spc="-1" strike="noStrike">
                <a:solidFill>
                  <a:srgbClr val="ffff99"/>
                </a:solidFill>
                <a:latin typeface="Lucida Console"/>
              </a:rPr>
              <a:t>showOpenDialog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ffff99"/>
                </a:solidFill>
                <a:latin typeface="Lucida Console"/>
              </a:rPr>
              <a:t>showSaveDialog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method 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pecify null or the user interface component over which to pop up the dialog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File Dialog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If the user chooses a file:</a:t>
            </a:r>
            <a:br>
              <a:rPr sz="3200"/>
            </a:br>
            <a:r>
              <a:rPr b="0" lang="en-US" sz="2400" spc="-1" strike="noStrike">
                <a:solidFill>
                  <a:srgbClr val="ffff99"/>
                </a:solidFill>
                <a:latin typeface="Lucida Console"/>
              </a:rPr>
              <a:t>JFileChooser.APPROVE_OPTION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is returned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If the user cancels the selection:</a:t>
            </a:r>
            <a:br>
              <a:rPr sz="3200"/>
            </a:br>
            <a:r>
              <a:rPr b="0" lang="en-US" sz="2400" spc="-1" strike="noStrike">
                <a:solidFill>
                  <a:srgbClr val="ffff99"/>
                </a:solidFill>
                <a:latin typeface="Lucida Console"/>
              </a:rPr>
              <a:t>JFileChooser.CANCEL_OPTION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is returned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If a file is chosen, use </a:t>
            </a:r>
            <a:r>
              <a:rPr b="0" lang="en-US" sz="2400" spc="-1" strike="noStrike">
                <a:solidFill>
                  <a:srgbClr val="ffff99"/>
                </a:solidFill>
                <a:latin typeface="Lucida Console"/>
              </a:rPr>
              <a:t>GetSelectedFile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method 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o obtain a </a:t>
            </a:r>
            <a:r>
              <a:rPr b="0" lang="en-US" sz="2400" spc="-1" strike="noStrike">
                <a:solidFill>
                  <a:srgbClr val="ffff99"/>
                </a:solidFill>
                <a:latin typeface="Lucida Console"/>
              </a:rPr>
              <a:t>File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 object describing the file</a:t>
            </a:r>
            <a:endParaRPr b="1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ffff"/>
                </a:solidFill>
                <a:uFillTx/>
                <a:latin typeface="Impact"/>
              </a:rPr>
              <a:t>A </a:t>
            </a:r>
            <a:r>
              <a:rPr b="0" lang="en-US" sz="2400" spc="-1" strike="noStrike" u="sng">
                <a:solidFill>
                  <a:srgbClr val="ccffff"/>
                </a:solidFill>
                <a:uFillTx/>
                <a:latin typeface="Lucida Console"/>
              </a:rPr>
              <a:t>JFileChooser</a:t>
            </a:r>
            <a:r>
              <a:rPr b="0" lang="en-US" sz="3600" spc="-1" strike="noStrike" u="sng">
                <a:solidFill>
                  <a:srgbClr val="ccffff"/>
                </a:solidFill>
                <a:uFillTx/>
                <a:latin typeface="Impact"/>
              </a:rPr>
              <a:t> Dialog</a:t>
            </a: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04920" y="1523880"/>
            <a:ext cx="9220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7146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3" marL="17146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3" marL="17146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3" marL="17146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8001000" cy="514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ffff"/>
                </a:solidFill>
                <a:uFillTx/>
                <a:latin typeface="Impact"/>
              </a:rPr>
              <a:t>Code to Use a </a:t>
            </a:r>
            <a:r>
              <a:rPr b="0" lang="en-US" sz="2400" spc="-1" strike="noStrike" u="sng">
                <a:solidFill>
                  <a:srgbClr val="ccffff"/>
                </a:solidFill>
                <a:uFillTx/>
                <a:latin typeface="Lucida Console"/>
              </a:rPr>
              <a:t>JFileChooser</a:t>
            </a:r>
            <a:r>
              <a:rPr b="0" lang="en-US" sz="2400" spc="-1" strike="noStrike">
                <a:solidFill>
                  <a:srgbClr val="ccffff"/>
                </a:solidFill>
                <a:latin typeface="Lucida Console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</a:rPr>
              <a:t> 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JFileChooser chooser = new JFileChooser();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FileReader in = null;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if (chooser.showOpenDialog(null) ==    JFileChooser.APPROVE_OPTION)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{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File selectedFile =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chooser.getSelectedFile();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in = new FileReader(selectedFile);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}</a:t>
            </a:r>
            <a:r>
              <a:rPr b="1" lang="en-US" sz="2800" spc="-1" strike="noStrike">
                <a:solidFill>
                  <a:srgbClr val="ffff99"/>
                </a:solidFill>
                <a:latin typeface="Courier New"/>
              </a:rPr>
              <a:t> 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Object Serialization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Object serializat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the act of saving an object, and its current state, so that it can be used again in another progra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idea that an object can “live”  beyond the program that created it is calle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ersistenc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bject serialization is accomplished using the classes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ObjectOutputStrea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ObjectInputStrea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rialization takes into account any other objects that are referenced by an object being serialized, saving them too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Object Stream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Objects are saved in binary format; hence, you use stream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Lucida Console"/>
              </a:rPr>
              <a:t>ObjectOutputStream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lass can save entire objects to disk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Lucida Console"/>
              </a:rPr>
              <a:t>ObjectInputStream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lass can read objects back in from disk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Writing a Coin object to a fil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Coin c = ...; 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ObjectOutputStream out = new ObjectOutputStream(new FileOutputStream("coins.dat")); 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out.writeObject(c);</a:t>
            </a:r>
            <a:r>
              <a:rPr b="1" lang="en-US" sz="900" spc="-1" strike="noStrike">
                <a:solidFill>
                  <a:srgbClr val="ffff99"/>
                </a:solidFill>
                <a:latin typeface="Courier New"/>
              </a:rPr>
              <a:t> </a:t>
            </a:r>
            <a:endParaRPr b="1" lang="en-US" sz="9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Reading a Coin object from a fil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ObjectInputStream in = new ObjectInputStream(new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                            </a:t>
            </a: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FileInputStream("coins.dat")); 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ourier New"/>
              </a:rPr>
              <a:t>Coin c = (Coin)in.readObject();</a:t>
            </a: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The StringTokenizer Clas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next example makes use of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tringTokeniz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, which is defined in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java.uti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packag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ust have  </a:t>
            </a:r>
            <a:r>
              <a:rPr b="1" lang="en-US" sz="2000" spc="-1" strike="noStrike" u="sng">
                <a:solidFill>
                  <a:srgbClr val="ffff99"/>
                </a:solidFill>
                <a:uFillTx/>
                <a:latin typeface="Courier New"/>
              </a:rPr>
              <a:t>import java.util.*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t top of source file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tringTokeniz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bject separates a string into smaller substrings (tokens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y default, the tokenizer separates the string at white spac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tringTokeniz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onstructor takes the original string to be separated as a paramet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ach call to the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nextToke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method returns the next token in the string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StringTokenizer class method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99"/>
                </a:solidFill>
                <a:uFillTx/>
                <a:latin typeface="Arial Unicode MS"/>
                <a:hlinkClick r:id="rId1"/>
              </a:rPr>
              <a:t>StringTokenizer</a:t>
            </a:r>
            <a:r>
              <a:rPr b="1" lang="en-US" sz="1800" spc="-1" strike="noStrike" u="sng">
                <a:solidFill>
                  <a:srgbClr val="ffff99"/>
                </a:solidFill>
                <a:uFillTx/>
                <a:latin typeface="Arial Unicode MS"/>
                <a:hlinkClick r:id="rId2"/>
              </a:rPr>
              <a:t>(String </a:t>
            </a:r>
            <a:r>
              <a:rPr b="1" lang="en-US" sz="1800" spc="-1" strike="noStrike" u="sng">
                <a:solidFill>
                  <a:srgbClr val="ffff99"/>
                </a:solidFill>
                <a:uFillTx/>
                <a:latin typeface="Arial Unicode MS"/>
                <a:hlinkClick r:id="rId3"/>
              </a:rPr>
              <a:t>str</a:t>
            </a:r>
            <a:r>
              <a:rPr b="1" lang="en-US" sz="1800" spc="-1" strike="noStrike" u="sng">
                <a:solidFill>
                  <a:srgbClr val="ffff99"/>
                </a:solidFill>
                <a:uFillTx/>
                <a:latin typeface="Arial Unicode MS"/>
                <a:hlinkClick r:id="rId4"/>
              </a:rPr>
              <a:t>)</a:t>
            </a:r>
            <a:r>
              <a:rPr b="1" lang="en-US" sz="1800" spc="-1" strike="noStrike" u="sng">
                <a:solidFill>
                  <a:srgbClr val="ffff99"/>
                </a:solidFill>
                <a:uFillTx/>
                <a:latin typeface="Arial Unicode MS"/>
                <a:hlinkClick r:id="rId5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          Constructs a string tokenizer for the specified string.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nt countTokens(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Returns the number of tokens in a StringTokenizer object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boolean hasMoreTokens(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Tests if there are more tokens available from this tokenizer's string.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boolean hasMoreElements(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Returns the same value as the </a:t>
            </a:r>
            <a:r>
              <a:rPr b="1" lang="en-US" sz="1800" spc="-1" strike="noStrike">
                <a:solidFill>
                  <a:srgbClr val="ffff99"/>
                </a:solidFill>
                <a:latin typeface="Arial Unicode MS"/>
              </a:rPr>
              <a:t>hasMoreTokens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method.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tring nextToken(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Returns the next token from this string tokenizer.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Object nextElement(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Returns the same value as the </a:t>
            </a:r>
            <a:r>
              <a:rPr b="1" lang="en-US" sz="1800" spc="-1" strike="noStrike">
                <a:solidFill>
                  <a:srgbClr val="ffff99"/>
                </a:solidFill>
                <a:latin typeface="Arial Unicode MS"/>
              </a:rPr>
              <a:t>nextToken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method, except that its declared return value is </a:t>
            </a:r>
            <a:r>
              <a:rPr b="1" lang="en-US" sz="1800" spc="-1" strike="noStrike">
                <a:solidFill>
                  <a:srgbClr val="ffff99"/>
                </a:solidFill>
                <a:latin typeface="Arial Unicode MS"/>
              </a:rPr>
              <a:t>Object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rather than </a:t>
            </a:r>
            <a:r>
              <a:rPr b="1" lang="en-US" sz="1800" spc="-1" strike="noStrike">
                <a:solidFill>
                  <a:srgbClr val="ffff99"/>
                </a:solidFill>
                <a:latin typeface="Arial Unicode MS"/>
              </a:rPr>
              <a:t>String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Using the String Tokenizer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BufferedReader io = new BufferedReader(new InputStreamReader(System.in)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System.out.print(“Enter a series of numbers: ”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String entry = io.readLine(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StringTokenizer strk = new StringTokenizer(entry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int total = 0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while (strk.hasMoreTokens()) {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String temp = strk.nextToken(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int value = Integer.parseInt(temp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total += value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System.out.println(“The total of the numbers entered: ” + total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Using JOptionPane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Using a GUI dialog box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eed to import JOptionPane class from the javax.swing librar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Do not need to create a JoptionPane dialog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Use the showInputDialog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(prompt)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method of the JOptionPane clas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Provide the String prompt to be displayed to the user as an argumen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Returns a String valu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ee InputDemoTes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Sample program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import javax.swing.JOptionPane;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// import statement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class testJOptionPane {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public static void main(String[] args) {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String line = JOptionPane.showInputDialog("Enter a line of text: "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String line2 = JOptionPane.showInputDialog("And another: "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System.out.println(line + " " + line2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System.out.println(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System.out.println("Done..."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JOptionPane and numbers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the data values you wish to get from the keyboard using JOptionPane are numeric, then an extra step is requir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onvert the String values to the data type the value represent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Prompt with the following: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String value = JOptionPane.showInputDialog(“Enter a number”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o get an int valu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int num = Integer.parseInt(value)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o get a double valu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double number = Double.parseDouble(value)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teger and Double classes (note the capitalization) ar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wrapp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lass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se have methods that allow us to work with numbers as Objects when necessary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Input: the keyboard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Java provides a predefined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BufferedInputStrea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bject to represent a stream of input that comes from the keyboard,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System.i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Unlike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System.ou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System.i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annot be used right away (different classes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System.in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must be used to construct an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InputStreamReader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objec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Which is used as an argument to construct a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BufferedReader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objec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838080" indent="-380880">
              <a:spcBef>
                <a:spcPts val="45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Which can then be sent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readLine()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messages to read lines as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Strings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Getting a line from the keyboard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InputStreamReader isr;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BufferedReader keyBoard;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tring inputLine;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isr = new InputStreamReader(System.in);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keyBoard = new BufferedReader(isr);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inputLine = keyBoard.readLine();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ystem.out.print(inputLine);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System.out.println("s");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Impact"/>
              </a:rPr>
              <a:t>Sample program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public static void main(String[] args) 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throws IOException {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InputStreamReader isr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isr = new InputStreamReader(System.in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BufferedReader in = new BufferedReader(isr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System.out.print("Enter a phrase: “);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String line = in.readLine(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System.out.print ("And another: "); 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String line2 = in.readLine(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System.out.println (line + " " + line2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System.out.println (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System.out.println ("Done...");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3T17:38:43Z</dcterms:created>
  <dc:creator>John Lewis</dc:creator>
  <dc:description/>
  <dc:language>en-US</dc:language>
  <cp:lastModifiedBy>Don Slater</cp:lastModifiedBy>
  <dcterms:modified xsi:type="dcterms:W3CDTF">2003-06-24T12:54:46Z</dcterms:modified>
  <cp:revision>45</cp:revision>
  <dc:subject/>
  <dc:title>Chapter 2:  Using Objects </dc:title>
</cp:coreProperties>
</file>