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91D-C9D7-4EDB-9617-E86F97D8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99D-C6B3-4811-9264-DCF0D85B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3C2-525C-44F3-B921-620D9CBF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383-D0E1-43E8-A733-50BB2A23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FFF3-932D-4FBC-A6C5-84C0AF5B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6202-FA76-41B0-A915-5FDC19CF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409A-31AC-4C66-A2CB-F1D5B474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2B26-8386-4950-A509-5691754D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0714-7FEA-4F7E-A5F8-6FDA83F1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F25E-A730-4311-98DD-2697A856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8E3B-DA13-40F1-A7CD-4CA580E1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8E0-96A4-4B6C-9C51-61F3968C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AEBF-B772-4EEB-8210-32665576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5275-67E8-4553-8CB3-0C28D602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F1FF-1098-4D6F-B716-4C7730D3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833F-FE9C-4817-B2E9-0EE495F4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5BB3-BCB4-4A17-8A84-C6BC1C02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2FB-6335-4C61-A357-F4259C22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511-F43F-4887-A6C2-89897AA3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BB5-D504-4A93-98B1-F39528C8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F8A-7AB8-4D05-AEBD-96A74695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529-5777-4ECE-9F17-EDBC25F4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7B6-BC82-4D3A-A2DB-64E49056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32E-ED22-4904-8F04-A537624B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8CA0-1C1F-445F-90C5-3CE28C2658F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DA26-C521-481E-9DBF-3099F294492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ursion is a fundamental programming technique that can provide an elegant solution certain kinds of proble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will focus 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inking in a recursive mann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ogramming in a recursive mann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correct use of recurs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cursion exampl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EF0-BBA2-4B5D-B137-6D2F919318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Programm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35120" y="1422360"/>
            <a:ext cx="5982480" cy="4468680"/>
            <a:chOff x="1635120" y="1422360"/>
            <a:chExt cx="5982480" cy="4468680"/>
          </a:xfrm>
        </p:grpSpPr>
        <p:sp>
          <p:nvSpPr>
            <p:cNvPr id="162" name=""/>
            <p:cNvSpPr/>
            <p:nvPr/>
          </p:nvSpPr>
          <p:spPr>
            <a:xfrm>
              <a:off x="1635120" y="1593720"/>
              <a:ext cx="1135080" cy="486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24360" y="2851200"/>
              <a:ext cx="1134720" cy="485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urier New"/>
                </a:rPr>
                <a:t>s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87480" y="2108160"/>
              <a:ext cx="0" cy="32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87480" y="2454120"/>
              <a:ext cx="149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82920" y="2475000"/>
              <a:ext cx="0" cy="34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40320" y="4127400"/>
              <a:ext cx="1135080" cy="486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urier New"/>
                </a:rPr>
                <a:t>s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3440" y="3384720"/>
              <a:ext cx="0" cy="32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03440" y="3730680"/>
              <a:ext cx="149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98880" y="3751200"/>
              <a:ext cx="0" cy="34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76800" y="5405400"/>
              <a:ext cx="1135080" cy="4856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urier New"/>
                </a:rPr>
                <a:t>su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40280" y="4662360"/>
              <a:ext cx="0" cy="32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40280" y="5008680"/>
              <a:ext cx="1494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35720" y="5029200"/>
              <a:ext cx="0" cy="34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63600" y="2138400"/>
              <a:ext cx="916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sum(3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17840" y="4716360"/>
              <a:ext cx="916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sum(1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25640" y="3440160"/>
              <a:ext cx="916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sum(2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867360" y="4381560"/>
              <a:ext cx="0" cy="1017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698800" y="4381560"/>
              <a:ext cx="1168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13240" y="4021200"/>
              <a:ext cx="1404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result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396040" y="3103200"/>
              <a:ext cx="0" cy="10177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4227480" y="310356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41560" y="2743200"/>
              <a:ext cx="1404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result =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10040" y="1782360"/>
              <a:ext cx="0" cy="101772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2841480" y="17827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5560" y="1422360"/>
              <a:ext cx="1404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urier New"/>
                </a:rPr>
                <a:t>result =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7EA-DDC6-4B9D-8840-3F727DF80E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hat will this recursive function do?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method in class RecurseDemo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void countdown (int n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f (n &gt; 0)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ln(n +  “  ”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ountdown (n - 1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public static void main(String [] args) 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RecurseDemo obj = new RecurseDemo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obj.countdown(5);  // what will be displayed?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4267080"/>
            <a:ext cx="838224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verse the println() and recursive cal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ow will countdown2() be different?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method in class RecurseDemo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void countdown2(int n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f (n &gt; 0)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ountdown (n - 1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ln(n + “  ”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public static void main(String [] args) 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RecurseDemo obj = new RecurseDemo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obj.countdown(5);  // what will be displayed?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800600"/>
            <a:ext cx="822960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ng on a Str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minder: the substr() method for Strings extracts a section of the str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tring vege = “eggplant”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ege.substr(1) is the string “ggplant”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tr[0] is ‘e’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hen you recurse on numbers you generally reduce the number until you reach an ending point, usually 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hen you recurse on Strings, you reduce the string until you reach an ending point, when the string is the empty string “”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3962520"/>
            <a:ext cx="822960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on on a str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method in class RecurseDemo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void split(String str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f (str.equals(“”)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ln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 else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(str.charAt(0) + “ ”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plit (str.substring(1)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static void main(String [] args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try to trace thi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RecurseDemo obj = new RecurseDemo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obj.split (“cats”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191120"/>
            <a:ext cx="8305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uilding a String with recurs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turning a Stri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method in RecurseDemo clas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String reverse(String str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f (str.equals(“”)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return “”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else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return reverse(str.substring(1)) + str.charAt(0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static void main(String [] args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RecurseDemo obj = new RecurseDemo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tring result = obj.reverse(“frogs”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ln(result);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what is the output?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4114800"/>
            <a:ext cx="838188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Programm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 that just because we can use recursion to solve a problem, doesn't mean we shoul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instance, we usually would not use recursion to solve the sum of 1 to N problem, because the iterative version is easier to understan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ever, for some problems, recursion provides an elegant solution, often cleaner than an iterative ver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You must carefully decide whether recursion is the correct technique for any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6BE-1FDF-4D73-9B6C-3999C920E5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direct Recurs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method invoking itself is considered to b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irect recur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method could invoke another method, which invokes another, etc., until eventually the original method is invoked aga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example, metho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uld invok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which invoke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which in turn invoke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ga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i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direct recurs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nd requires all the same care as direct recur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often more difficult to trace and debu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C250-90F8-4797-93DE-3B03C0B039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direct Recurs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071720" y="1766880"/>
            <a:ext cx="7003800" cy="3565440"/>
            <a:chOff x="1071720" y="1766880"/>
            <a:chExt cx="7003800" cy="3565440"/>
          </a:xfrm>
        </p:grpSpPr>
        <p:grpSp>
          <p:nvGrpSpPr>
            <p:cNvPr id="208" name=""/>
            <p:cNvGrpSpPr/>
            <p:nvPr/>
          </p:nvGrpSpPr>
          <p:grpSpPr>
            <a:xfrm>
              <a:off x="1071720" y="1766880"/>
              <a:ext cx="4751280" cy="550800"/>
              <a:chOff x="1071720" y="1766880"/>
              <a:chExt cx="4751280" cy="5508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1071720" y="1766880"/>
                <a:ext cx="4751280" cy="550800"/>
                <a:chOff x="1071720" y="1766880"/>
                <a:chExt cx="4751280" cy="5508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071720" y="176688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890800" y="176688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710240" y="176688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2190600" y="1933560"/>
                <a:ext cx="67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10040" y="1932120"/>
                <a:ext cx="67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4052880" y="2193840"/>
                <a:ext cx="62856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235240" y="2193840"/>
                <a:ext cx="62856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217600" y="3262320"/>
              <a:ext cx="4751640" cy="550800"/>
              <a:chOff x="2217600" y="3262320"/>
              <a:chExt cx="4751640" cy="5508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217600" y="3262320"/>
                <a:ext cx="4751640" cy="550800"/>
                <a:chOff x="2217600" y="3262320"/>
                <a:chExt cx="4751640" cy="5508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217600" y="3262320"/>
                  <a:ext cx="111312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037040" y="326232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856120" y="3262320"/>
                  <a:ext cx="111312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>
                <a:off x="3336840" y="3429000"/>
                <a:ext cx="67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56280" y="3427560"/>
                <a:ext cx="67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199120" y="3689280"/>
                <a:ext cx="62856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381480" y="3689280"/>
                <a:ext cx="62856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324240" y="4781520"/>
              <a:ext cx="4751280" cy="550800"/>
              <a:chOff x="3324240" y="4781520"/>
              <a:chExt cx="4751280" cy="55080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3324240" y="4781520"/>
                <a:ext cx="4751280" cy="550800"/>
                <a:chOff x="3324240" y="4781520"/>
                <a:chExt cx="4751280" cy="5508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3324240" y="478152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143680" y="478152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962760" y="4781520"/>
                  <a:ext cx="1112760" cy="5508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urier New"/>
                    </a:rPr>
                    <a:t>m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443480" y="4948200"/>
                <a:ext cx="67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262560" y="4946760"/>
                <a:ext cx="671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305040" y="5208480"/>
                <a:ext cx="62892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4487400" y="5208480"/>
                <a:ext cx="628920" cy="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dash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 flipH="1">
              <a:off x="2514600" y="2346480"/>
              <a:ext cx="2533680" cy="86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619440" y="3862440"/>
              <a:ext cx="2533680" cy="887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990880" y="2346120"/>
              <a:ext cx="2533680" cy="887400"/>
            </a:xfrm>
            <a:prstGeom prst="line">
              <a:avLst/>
            </a:prstGeom>
            <a:ln w="12600">
              <a:solidFill>
                <a:srgbClr val="ffff99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183200" y="3862080"/>
              <a:ext cx="2531880" cy="887400"/>
            </a:xfrm>
            <a:prstGeom prst="line">
              <a:avLst/>
            </a:prstGeom>
            <a:ln w="12600">
              <a:solidFill>
                <a:srgbClr val="ffff99"/>
              </a:solidFill>
              <a:prstDash val="dash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599-DEA9-40C2-AE25-EED62BEF5C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aze Traversa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use recursion to find a path through a maz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rom each location, we can search in each direc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ursion keeps track of the path through the maz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base case is either an invalid move or reaching the final destin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azeSearch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aze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Think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cursive 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one which uses the word or concept being defined in the definition itsel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defining an English word, a recursive definition is often not helpfu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ut in other situations, a recursive definition can be an appropriate way to express a concep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fore applying recursion to programming, it is best to practice thinking recursive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A38-C6FC-4E24-A4BB-260A11E386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owers of Hanoi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owers of Hano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puzzle made up of three vertical pegs and several disks that slide on the peg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disks are of varying size, initially placed on one peg with the largest disk on the bottom with increasingly smaller ones on to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goal is to move all of the disks from one peg to another under the following rul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e can move only one disk at a tim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e cannot move a larger disk on top of a smaller on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owers of Hanoi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iterative solution to the Towers of Hanoi is quite comple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recursive solution is much shorter and more elega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olveTowers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owersOfHanoi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irrored Pictur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ider the task of repeatedly displaying a set of images in a mosaic that is reminiscent of looking in two mirrors reflecting each oth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base case is reached when the area for the images shrinks to a certain siz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MirroredPictures.java (double-click on the .html fil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28A-E33E-4818-B860-53D4C7247F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ractal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ract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geometric shape made up of the same pattern repeated in different sizes and orient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och Snowflak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particular fractal that begins with an equilateral triang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get a higher order of the fractal, the sides of the triangle are replaced with angled line seg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KochSnowflake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KochPanel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nclus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ecursionDemo.zip folder contains the recursive functions discussed in the lecture notes (minus multiply and Factorial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at you are expected to know about recursi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ow to read and understand (predict) the results of a recursive function cal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ater you will write recursive functions that are helpful when we work with linked lists and other data structur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Defini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ider the following list of number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24, 88, 40, 37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ch a list can be defined a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 LIST is a:  numb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or a:  number  comma  LIS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is, a LIST is defined to be a single number, or a number followed by a comma followed by a LI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ncept of a LIST is used to define itsel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AA67-825B-4FE3-A78C-5BDB2863EB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Defini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ecursive part of the LIST definition is used several times, terminating with the non-recursive par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number comma LIS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24     ,   88, 40, 37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number comma LIS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88     ,   40, 37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number comma LIS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40     ,   37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numbe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37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2AA-C725-4879-9E4C-C003AFAFC3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finite Recurs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l recursive definitions have to have a terminiating 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A LIST is a numb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y didn't, there would be no way to terminate the recursive pat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ch a definition would caus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finite recur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problem is similar to an infinite loop, but the non-terminating "loop" is part of the definition itsel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non-recursive part is often 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ase 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585-7C8D-44D3-8035-F59E103293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Defini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!, for any positive integer N, is defined to be the product of all integers between 1 and N inclusiv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definition can be expressed recursively a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1!  = 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!  =  N * (N-1)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ncept of the factorial is defined in terms of another factoria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ntually, the base case of 1! is reach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EAD-AD8F-42F8-95D5-D1E7FB3A67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Defini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5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5 * 4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4 * 3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3 * 2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2 * 1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441880" y="1744560"/>
            <a:ext cx="4281840" cy="3249360"/>
            <a:chOff x="2441880" y="1744560"/>
            <a:chExt cx="4281840" cy="3249360"/>
          </a:xfrm>
        </p:grpSpPr>
        <p:sp>
          <p:nvSpPr>
            <p:cNvPr id="122" name=""/>
            <p:cNvSpPr/>
            <p:nvPr/>
          </p:nvSpPr>
          <p:spPr>
            <a:xfrm>
              <a:off x="4671720" y="4257720"/>
              <a:ext cx="151452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2" y="1"/>
                  </a:moveTo>
                  <a:arcTo wR="10800" hR="10800" stAng="-5450446" swAng="108504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2" y="1"/>
                  </a:moveTo>
                  <a:arcTo wR="10800" hR="10800" stAng="-5450446" swAng="1085044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23000" y="3370320"/>
              <a:ext cx="151380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2" y="1"/>
                  </a:moveTo>
                  <a:arcTo wR="10800" hR="10800" stAng="-5450446" swAng="108504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2" y="1"/>
                  </a:moveTo>
                  <a:arcTo wR="10800" hR="10800" stAng="-5450446" swAng="1085044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78440" y="2525760"/>
              <a:ext cx="151380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2" y="1"/>
                  </a:moveTo>
                  <a:arcTo wR="10800" hR="10800" stAng="-5450446" swAng="108504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2" y="1"/>
                  </a:moveTo>
                  <a:arcTo wR="10800" hR="10800" stAng="-5450446" swAng="1085044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41880" y="1744560"/>
              <a:ext cx="1513800" cy="7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42" y="1"/>
                  </a:moveTo>
                  <a:arcTo wR="10800" hR="10800" stAng="-5450446" swAng="108504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42" y="1"/>
                  </a:moveTo>
                  <a:arcTo wR="10800" hR="10800" stAng="-5450446" swAng="1085044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1520" y="4373640"/>
              <a:ext cx="322200" cy="3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25240" y="3506760"/>
              <a:ext cx="322200" cy="3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68520" y="2641680"/>
              <a:ext cx="459360" cy="3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95080" y="1905120"/>
              <a:ext cx="596520" cy="36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1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EC8-229F-47E5-A741-829C8D7DC6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Programm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method in Java can invoke itself;  if set up that way, it is called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cursive metho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ode of a recursive method must be structured to handle both the base case and the recursive 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call to the method sets up a new execution environment, with new parameters and local variab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 always, when the method completes, control returns to the method that invoked it (which may be an earlier invocation of itself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C64-70C7-4352-847F-5DE3A2DB37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cursive Programming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ider the problem of computing the sum of all the numbers between 1 and any positive integer 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problem can be recursively defined a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319400" y="3178080"/>
            <a:ext cx="6819480" cy="1929960"/>
            <a:chOff x="1319400" y="3178080"/>
            <a:chExt cx="6819480" cy="1929960"/>
          </a:xfrm>
        </p:grpSpPr>
        <p:grpSp>
          <p:nvGrpSpPr>
            <p:cNvPr id="135" name=""/>
            <p:cNvGrpSpPr/>
            <p:nvPr/>
          </p:nvGrpSpPr>
          <p:grpSpPr>
            <a:xfrm>
              <a:off x="1319400" y="3178080"/>
              <a:ext cx="6819480" cy="1051920"/>
              <a:chOff x="1319400" y="3178080"/>
              <a:chExt cx="6819480" cy="10519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1319400" y="3178080"/>
                <a:ext cx="558360" cy="1051920"/>
                <a:chOff x="1319400" y="3178080"/>
                <a:chExt cx="558360" cy="1051920"/>
              </a:xfrm>
            </p:grpSpPr>
            <p:sp>
              <p:nvSpPr>
                <p:cNvPr id="137" name=""/>
                <p:cNvSpPr/>
                <p:nvPr/>
              </p:nvSpPr>
              <p:spPr>
                <a:xfrm flipH="1">
                  <a:off x="1453680" y="3517920"/>
                  <a:ext cx="28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454040" y="3540240"/>
                  <a:ext cx="173160" cy="150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1454040" y="366876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474920" y="3821040"/>
                  <a:ext cx="260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319400" y="3894120"/>
                  <a:ext cx="5583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i = 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426680" y="3178080"/>
                  <a:ext cx="3312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810240" y="3178080"/>
                <a:ext cx="558360" cy="1051920"/>
                <a:chOff x="3810240" y="3178080"/>
                <a:chExt cx="558360" cy="1051920"/>
              </a:xfrm>
            </p:grpSpPr>
            <p:sp>
              <p:nvSpPr>
                <p:cNvPr id="144" name=""/>
                <p:cNvSpPr/>
                <p:nvPr/>
              </p:nvSpPr>
              <p:spPr>
                <a:xfrm flipH="1">
                  <a:off x="3944520" y="3517920"/>
                  <a:ext cx="28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944880" y="3540240"/>
                  <a:ext cx="173160" cy="150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944520" y="366876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65400" y="3821040"/>
                  <a:ext cx="260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810240" y="3894120"/>
                  <a:ext cx="5583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i = 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852720" y="3178080"/>
                  <a:ext cx="500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N-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580520" y="3178080"/>
                <a:ext cx="558360" cy="1051920"/>
                <a:chOff x="7580520" y="3178080"/>
                <a:chExt cx="558360" cy="10519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7714800" y="3517920"/>
                  <a:ext cx="28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715160" y="3540240"/>
                  <a:ext cx="173160" cy="150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7715160" y="366876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736040" y="3821040"/>
                  <a:ext cx="260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580520" y="3894120"/>
                  <a:ext cx="5583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i = 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623000" y="3178080"/>
                  <a:ext cx="5004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Times New Roman"/>
                    </a:rPr>
                    <a:t>N-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2184480" y="3478320"/>
                <a:ext cx="14652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urier New"/>
                  </a:rPr>
                  <a:t>=  N  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98720" y="3479760"/>
                <a:ext cx="2745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urier New"/>
                  </a:rPr>
                  <a:t>=  N + (N-1) 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384200" y="4649760"/>
              <a:ext cx="164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urier New"/>
                </a:rPr>
                <a:t>=   etc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AD3D-DFC8-4E80-BEBC-4438C5DF1A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John Lewis</dc:creator>
  <dc:description/>
  <dc:language>en-US</dc:language>
  <cp:lastModifiedBy>Don Slater</cp:lastModifiedBy>
  <dcterms:modified xsi:type="dcterms:W3CDTF">2003-06-25T17:41:24Z</dcterms:modified>
  <cp:revision>25</cp:revision>
  <dc:subject/>
  <dc:title>Chapter 2:  Using Objects </dc:title>
</cp:coreProperties>
</file>