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A30-C1CC-4D32-A396-B1DE62A5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029-CB7D-4728-9F2B-1C011362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33A-67C9-43CA-8222-870901EA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FC8-FA8A-4C89-B9F4-F19039FE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4E7D-6372-4313-92DB-1D01060F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4A3F-BBC3-4416-908A-16AACA95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1660-84B4-4E5F-8DD4-5EF1ADDF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3703-8D87-45B2-8620-6F09E86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01C5-BE69-4789-A705-94CC108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B288-357C-42B9-A4C6-31D9E002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71AD-65C4-42AC-8A1D-6166EFBB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5DD-78F1-408C-AA58-1997B421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8EF3-6A0A-4A15-B392-6C6C4FE4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4815-E3D4-4752-BE8E-9ACB3DC0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8E81-BCBF-4433-9505-9B1DE79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55E9-0858-4699-83C1-C128AC73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5CD-1B73-4224-A0E4-14CAF13A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764-EDD6-4CAF-9118-B35BE95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4B2-2AF0-4E84-B7E5-B2697671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57A-C89F-427B-917E-7FDAECE0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E9D-B420-4A79-88F0-FBAD9016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2F7-1491-4D09-A03E-D1505C19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9FE-CC79-4396-B7B4-7462264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31D9-866C-4A20-AFBE-120448A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EDF8-D499-4FF2-A4E4-96642E37EEB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7116-7808-4C0F-B6CF-B577F40792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Programs and Model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lmost all computer programs model some artifa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Artifac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product of civilization, either concrete or abstract, simple or complex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del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a simplified representation of somet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t includes features that are considered importa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eglects other features not considered importa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odels can be more specific representations of other, more general model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eatures of a model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haracteristics of the model that distinguish one particular instance of a model from anoth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Size, color, name, location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Referred to as the </a:t>
            </a:r>
            <a:r>
              <a:rPr b="1" i="1" lang="en-US" sz="16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of the instanc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haviors of the model that are generally going to be true for all instances of the mode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The behavior is consistent for that specific model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The different behaviors can be grouped into into categories,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Generally behaviors are initiated by external force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Robot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great, flat, plane with standard compass poi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unded on west by infinite wall extending north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unded on south by infinite wall extending ea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risscrossing the world are vertical streets and horizontal aven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corner is an intersection of a street and aven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or more robots can occupy any corner, facing any dire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th streets and avenues have numb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igin is where 1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St and 1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ve inters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do not have to start from orig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s in the Robot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all Se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ed between adjacent street corners, blocking a robot’s direct path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d to represent obstacles around which robots must navigat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ep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mall plastic cones that emit a quiet beeping noi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und on street corners; do not interfere with robot mov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be carried, picked up and put down by 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re can be more than one beeper on a corner, and a robot can carry an infinite supply of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sed to represent tasks for the robots to manipulat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te of the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ose characteristics that are used to describe the current condition of the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robots look alik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tate of the robot that we are initially interested in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al (where is it in its world?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reet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venue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irection it is fac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nipulativ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it may be carry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isibility (can it be seen?)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obot Characteristics -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si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’s position will be defined by the corner of the World it is sitting 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irec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’s direction will be defined by which of the compass points it is facing in the worl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umber of Beepers it is carry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isibili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 can be hidden from view, but it is still able to be detected by other robo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itially, we are not interested in other characteristics of robots that we might imagin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later create other models of robots with some other characteristic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termining the Robot’s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bot can report its state (accessor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what street or avenue it is on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reet(), avenu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the direction it is facing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irectio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the number of beepers it is carrying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eeper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port its visibility --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sVisible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his is undocumented in Bergin’s text… But most IDE’s with context-sensitive help will show you these featur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nipulation of the Robot’s st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ly the visibility can be directly manipula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ll other state is manipulated indirectly through the robots interaction and behavior in it’s Worl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n other words, we cannot pick up a robot and place it somewhere else, it has to move to that pos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only time we directly manipulate the state of the robot (other than visibility) is when we build or construct the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pecify street, avenue, direction, and number of beepers being carri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therwise, we indirectly manipulate state through the messages we send to a robot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move will change street or avenu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turn will change the direction the robot is fac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can be picked up or put down, changing the number of beepers the robot can carry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ov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rward in the direction it is facing,from corner to corn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urn in plac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urn itself off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det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alls ½ block in front of them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 by being on the same corner as a beep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s by being on the same corner with other robo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naviga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y detecting the direction it is facing (north, south, east, wes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 can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anipulat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epers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y carrying them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icking them up, and putting them down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knowing if it is carrying any</a:t>
            </a: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ing pos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ov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oves forward to next corner if the path is clear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rror-shutoff if the path is blocked by a wall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urnLeft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ivots 90 degrees to the left (counter-clockwise)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ays on the same corn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urnOff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task is finished;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 turns off and is incapable of executing any new instructions until restarted on another task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undamental Robo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nipulating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pickBeepe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ttempts to pick up beeper on the corner it is standing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n error shutoff if no beeper is ther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f more than one beeper on the corner the robot picks up only on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putBeepe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ttempts to put beeper on the corner it is standing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an error shutoff if no beeper in the beeper bag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f more than one beeper in the beeper bag the robot puts down only on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nging Visibility -- modifi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setVisibility(boolean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We can make a robot visible or invisble by sending true or false with this messag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ending a messag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send a message we must specify the object and the behavior for that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eference to the receiver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eri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essage to be s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send a message to a Robot named Karel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	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Karel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.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ourier New"/>
              </a:rPr>
              <a:t>move()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9520" y="54100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676520" y="5181120"/>
            <a:ext cx="228600" cy="3812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7640" y="541008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2895480" y="5181120"/>
            <a:ext cx="609840" cy="3049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Object-Oriented Programming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 programming language uses an object-oriented programming approach to model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model is defined as a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rograms use multiple instances of different models or classes to solve a problem or perform a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se multiple instances are known as 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Programming (OOP), then, is the process of solving problems or performing tasks with multiple, interacting objec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king at a Java progra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sk for two Robo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woRobot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3135240"/>
            <a:ext cx="697572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Progr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different kinds of Java progra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rily concerned with Applets and Ap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pplets - run in the context of a web brows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pplications - stand-alone progra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-Oriented Programs solve problems with multiple, interacting objec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programmers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efin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s by creating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ly, a Java class is written in one file, with the same name and th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.jav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prefi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main() metho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Java application (not applet) has to have a main() method that is the starting point of the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DE’s such as CodeWarrior require that the class with the main be identifi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utside of an IDE, the Java application has to be started with the class that has the main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Karel progr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ll typically be ap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 that has the main() method will typically be called Applic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Application class will be found in the file Application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Application class wil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the world that has the task for the robot(s) to perfor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either mai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r in an anonymous, static, initializer (more on this later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tantiate (construct) the robot(s) necessary to complete the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nd the appropriate messages to the robot(s) to perform the tas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ava Syntax Iss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pecial symbo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mi-colon   ;     Separates one instruction from the nex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races    {  }      Group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blocks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of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eriod     .    Show which instructions belong to which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dentifi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For robot and class nam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ade up of characters (A..Z, a..z), digits (0..9), and underscore (_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ust start with a characte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served wor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Used to structure and organize primitive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// single line comments;  /*    */  multi line comments; /**   */ javadoc commen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rovide explanation of what is going on to other people who read our program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Err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ecution Errors / Error Shutoff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llegal move, putBeeper, or pickBeeper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botErrors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exical error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n a robot encounters an instruction that is not part of its vocabul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voe() instead of move(); turnleft() instead of turnLeft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Yes, capitalization counts; Java is case sensitiv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Programming Err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yntax error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 of incorrect grammar or punctu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instruction missing a semi-colon at the en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tent error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 seems to run successfully, but does not accomplish the tas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ask: pickup the beeper,  face north, move one bloc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robot picks up the beeper, and moves ahead two bloc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Some terminology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object ha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ta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characteristics)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ehavi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ference: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y word/phrase that is used to provide access to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uses a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referenc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o identify an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essages: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request for some desired behavior from an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Messag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re sent to references, specifying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ehavi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with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upporting detail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Objects, behavior, and classe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Java programming, model elements are called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bjec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bjects that share common behavior are grouped into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fining a class in Java is writing code that specifies how objects of the class behave or a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nce a class has been defined, objects of that class can be creat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very object belongs to exactly one class and is an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instanc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of that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edefined objects and class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Java comes with some classes already defined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use classes created by other programmer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will create our own 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Use Robots to First Illustrate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lass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bject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heritanc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ic Java Programming Syntax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trol Structur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terfa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lymorphis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obot Task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as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thing we want the robot to 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cape from an enclosed room that has a do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a beeper and deposit it on orig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scape from a maz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itu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exact description of what the world looks lik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’s current position and direction it is facing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cation and length of each wall section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cation of each beeper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 many beepers in the robots beeper bag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situations will be specified by a map or a brief written descri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Modeling a Robot’s Task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arel J.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will learn how to write instruction-sets (programs) so that programmable robots can perform tasks we give the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arel is object-oriented so the tasks will be performed using multiple, interacting objec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osition (implicit to become explici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ire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orl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orners (implici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treet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venu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eeper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all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1" name="kareln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761760" cy="6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Robot Program – </a:t>
            </a:r>
            <a:r>
              <a:rPr b="0" i="1" lang="en-US" sz="3600" spc="-1" strike="noStrike">
                <a:solidFill>
                  <a:srgbClr val="ccffff"/>
                </a:solidFill>
                <a:latin typeface="Impact"/>
              </a:rPr>
              <a:t>Karel Firs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RobotDemo1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89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 Robot in its Worl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5562360" cy="4346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1981080" y="2514600"/>
            <a:ext cx="5639040" cy="22860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81680" y="2251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3200" y="2971800"/>
            <a:ext cx="4876920" cy="18288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81680" y="2708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57600" y="3428640"/>
            <a:ext cx="4038480" cy="152388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56920" y="31654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91120" y="4038480"/>
            <a:ext cx="3504960" cy="99072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758000" y="37749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4572000"/>
            <a:ext cx="3124080" cy="83808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57280" y="43084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876920" y="5181480"/>
            <a:ext cx="2819160" cy="45720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57640" y="4917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5638680"/>
            <a:ext cx="5867280" cy="76320"/>
          </a:xfrm>
          <a:prstGeom prst="line">
            <a:avLst/>
          </a:prstGeom>
          <a:ln w="9360">
            <a:solidFill>
              <a:srgbClr val="00193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57280" y="5375160"/>
            <a:ext cx="9777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St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Av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19160" y="342864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971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34:49Z</dcterms:created>
  <dc:creator>Don Slater</dc:creator>
  <dc:description/>
  <dc:language>en-US</dc:language>
  <cp:lastModifiedBy>Don Slater</cp:lastModifiedBy>
  <dcterms:modified xsi:type="dcterms:W3CDTF">2003-06-21T18:44:58Z</dcterms:modified>
  <cp:revision>18</cp:revision>
  <dc:subject/>
  <dc:title>Programs and Models</dc:title>
</cp:coreProperties>
</file>