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A8B0-CD2E-4235-97ED-470EEF46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279-058D-4D06-B39D-0F4D04B6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01C0-1562-40FA-B5D6-C66E6A02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A6F-0606-4BFB-809A-1D261A78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4D99-7123-4BCE-A34C-8EC66525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F217-42AF-4B23-BE90-B9704EED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2E8E-027B-4390-BE1F-8B52DC2E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6B66-FAE8-45C5-BE75-8AAE15A1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3114-6A4D-4AC7-945B-B3BFCBDC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D70F-3FC8-4235-93C9-DE309B2D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67BE-1963-43CF-A54E-D0489D8F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981-F8D9-4CA4-82B1-17C17D51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E33F-1115-4061-B831-3A33FB64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478F-35D7-4C9D-BC10-0666194C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67C1-E09D-4907-804C-B520830F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5129-45E6-4E89-A5B7-263CD876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4566-43EE-4250-BB12-04EF746B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5EB-DFD0-4F90-A67C-40A17DCC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5D3-329F-417E-89DC-60AE4B0B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481-2393-4C22-ACB2-62D11F03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18C-C18D-4D6C-BA0C-5437085B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79F-9773-43D2-8DBB-E826333D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AEC0-AE54-43C2-AD49-7E5C0858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D1A-8CF9-4AB6-8977-1FEF2B80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BF5F-E7BB-44D7-92E5-B6628D8FA89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6880-5CB4-4A17-AEA4-3652CAE1F4E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ndrew.cmu.edu/course/15-CSAP/15-100/examples/KarelStairs.zip" TargetMode="External"/><Relationship Id="rId2" Type="http://schemas.openxmlformats.org/officeDocument/2006/relationships/hyperlink" Target="http://www.andrew.cmu.edu/course/15-CSAP/15-100/examples/KarelStairs.zip" TargetMode="External"/><Relationship Id="rId3" Type="http://schemas.openxmlformats.org/officeDocument/2006/relationships/hyperlink" Target="http://www.andrew.cmu.edu/course/15-CSAP/15-100/examples/KarelStairs.zip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reating Class Behavio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the Robot world 1 mile = 8 block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ppose we want a robot to run a marathon (26+ miles)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es our program have to have (26+) * 8 move() statements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uldn’t it be nice to tell a robot to run a marath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Karel.runMarathon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ain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class Main 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implements Directions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public static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void 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task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()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Stair_Sweeper Karel = new Stair_Sweeper(1, 1, East, 0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Karel.climbStair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Karel.pickBeeper();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// other instructions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…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Karel.turnOff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// Main entry point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static public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void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 main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(String[] args)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World.setDelay(20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World.readWorld("stairs.txt"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ask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Class Header: Main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class Application implements Directions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// details of the class specification her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me of class will be same as the name of the file, with 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uffi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is class is contained in the file </a:t>
            </a: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Main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pitalization cou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irection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n interface that is is implemented by Ma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other words Main fleshes out the details of Dire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in has the remaining details specific to the particular task the robot has to perfor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StairSweeper clas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ss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Stair_Sweeper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extends Robot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 constructo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Stair_Sweeper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int street, int avenue,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Directions.Direction dir, int count)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uper(street, avenue, dir, count);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//method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void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turnRight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void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climbStair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(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move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urnRight();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move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Class header: StairSweeper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ss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Stair_Sweeper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extends Robot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me of class will be same as the name of the file, with a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.jav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uffi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is class is specified in the file </a:t>
            </a: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StairSweeper.jav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StairSweeper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bot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inheri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formation and extends the capabilities of the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Rob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obo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verything a Robot can do, a StairSweeper can do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ve(), turnLeft(), pickBeeper(), putBeeper(), turnOff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ut a StairSweeper will be able to do more (have more features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Constructing a new robot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Stair_Sweeper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(int street, int avenue,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Directions.direction dir, int count)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super(street, avenue, dir, count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specifies how a robot is to be construc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o back and look at the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main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instruction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new Stair_Sweeper(1, 1, East, 0);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is using this method, known as a constructo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We are specifying location, direction, and number of beepers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constructor has the same name as the clas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uper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keyword is indicating that this object is to be built the same way as its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parent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Robo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Our robot constructors will always look like this at the beginning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w robot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737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void 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turnRight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()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void 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climbStair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()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move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Righ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move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41640" y="1266840"/>
            <a:ext cx="40734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is a modifier letting us know that we can access this method from outside the class (in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main(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for example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Notice that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climbStair(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can use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turnRight(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as part of its defini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method headers are known as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signatures (name and paramter list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ll of the signatures of a class are known as the class </a:t>
            </a: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interface or API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Interface vs. interface?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Advantages of building new robot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ructure problem solu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grams become easier to understand and rea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ad to fewer error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nable future modific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bugging programs is easi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ew instructions can be tested independentl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ew instructions impose structure, which makes it easier to find bug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nditional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 do we solve tasks in which every particular of a task is not specifically known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 robot needs the ability to survey its immediate environment and make decisions about what to do nex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and the 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IF/ELSE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provide robots with decision making abiliti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bot programs contain several different kinds of instruc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Message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to robots, either primitives or new instru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nstructor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(specifications on how to build a robot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ntrol statements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IF/ELS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are the first examples of thes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instruc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eneral for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f ( &lt;test&gt; 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instruction-list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Robot determines whether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is true or fals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instruction-list&gt;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is a sequence of any valid robot commands that will be performed when the robot determines the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is tru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Nothing will happen when the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is fals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ample of IF statemen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// in a method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// in a main task block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if (nextToABeeper())  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if (Karel.nextToABeeper())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{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ickBeeper();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Karel.pickBeeper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Karel.turnLef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beeper will be picked up only if there is a beeper on the same corner as the robo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pendent upon the results of the te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obot will turn left, regardless of whether a beeper is on the corner or no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dependent of the results of the te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Building a Marathon-Running Robo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t us build a robot to run a marath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we define a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moveMile(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behavior as eight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move(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messag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 can reduce the size of our program by (26+) * 8 / 8 or down to 26+ instru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n we do better than these 26 instructions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 can specify as many behaviors as we need for a class of robo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n we think of other behaviors to further simplify the problem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S – A relationship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rathon Robot HAS A move mile behavior or characteristic (that is different from a ur-Robot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onditions that a robot can tes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class Robot extends Robo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frontIsClear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nextToABeeper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nextToARobot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facingNorth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facingSouth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facingEast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facingWest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anyBeepersInBeeperBag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oolean isVisible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// notice we are checking the state of the robot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// we can also use accessors to build our own tests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gative conditions?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ppose we want a negative form of a predicate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precede a predicate with the negative operator </a:t>
            </a: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if (! Karel.next-To-A-Beeper()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// stuff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or practice – two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ublic void faceNorth(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public void faceNorthIfFacingSouth(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IF/ELSE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instruc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eneral for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f ( &lt;test&gt; ) {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note lack of semicolon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instruction-list-1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 else {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note lack of semicolon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instruction-list-2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bot determines whether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is true or fals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lt;instruction-list-1&gt;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is a sequence of any valid robot commands that will execute when the robot determines th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is tru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lt;instruction-list-2&gt;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will execute when th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is fals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acer Robo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hurdle jumping ra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robot will run a mile. The course may or may not have an obstacle (wall) in the path. If the robot encounters a wall, it will go around (hurdle) the wall. Otherwise it will continue on it’s path…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wnloa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print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mo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sted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Instruc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ritten with an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struction nested inside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E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use of anothe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an 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f ( &lt;test&gt; ) {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if ( &lt;test&gt; ) {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&lt;instruction-list-1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} else {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&lt;instruction-list-2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1932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 else {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instruction-list-2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ew predicate instruc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ould create a new subclass of the robot class and provide a new predicate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ss myRobot extends Robo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assume constructor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boolean frontIsBlocked(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return ! frontIsCLear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more stuff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Use of the new predicat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ublic static void main(String [] args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myRobot R = new myRobot(1, 1, North, 0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if (R.frontIsBlocked()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// stuff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// and so 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alls to the right or left?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ppose we needed to determine if there is a wall to the right or left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ublic boolean leftIsClear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if (frontIsClear())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Right();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// assume definition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return true; // method terminates here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urnRight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return false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atement immediately terminates the metho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hen to Use an </a:t>
            </a:r>
            <a:r>
              <a:rPr b="0" lang="en-US" sz="36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Instruc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struction allows a robot to decide whether to execute or skip entirely the block of instructions within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E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u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F/EL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struction allows a robot to decide whether to execute or skip the block of instructions within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E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use or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EL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u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esting these instructions allows robots to make more complex choi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efining New Classes of Robo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build a new class of robots, we include a class specification in a new file of our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general form of this specificati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ss &lt;new-class-name&gt; extends &lt;old-class-name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list-of-new-methods&g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op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 have already seen instances where a robot needs to repeat instructions to perform a task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urnRight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veMile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defining new instructions we can minimize repetitive instruc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unMarathon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Loops for known number of repeti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times when you know how many times an instruction needs to be repeated…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urnRight() is always 3 left tur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veMile() is always 8 moves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tho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urnRight(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with a loop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turnRight(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or (int count = 0; count &lt; 3; count++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OR loop: General form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for (int count = 0; count &lt; 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&lt;numberOfTimes&gt;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; count++)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&lt;instruction-list&gt;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int count: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ount is the name of a variable that stores </a:t>
            </a:r>
            <a:r>
              <a:rPr b="1" lang="en-US" sz="1800" spc="-1" strike="noStrike" u="sng">
                <a:solidFill>
                  <a:srgbClr val="ffff99"/>
                </a:solidFill>
                <a:uFillTx/>
                <a:latin typeface="Times New Roman"/>
              </a:rPr>
              <a:t>int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egers (whole numbers); it’s initial value is 0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count &lt; </a:t>
            </a:r>
            <a:r>
              <a:rPr b="0" i="1" lang="en-US" sz="1800" spc="-1" strike="noStrike">
                <a:solidFill>
                  <a:srgbClr val="ffff99"/>
                </a:solidFill>
                <a:latin typeface="Courier New"/>
              </a:rPr>
              <a:t>&lt;numberOfTimes&gt;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 :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s long as the current value of </a:t>
            </a:r>
            <a:r>
              <a:rPr b="1" i="1" lang="en-US" sz="1800" spc="-1" strike="noStrike">
                <a:solidFill>
                  <a:srgbClr val="ffff99"/>
                </a:solidFill>
                <a:latin typeface="Times New Roman"/>
              </a:rPr>
              <a:t>count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is less than the number of loops we want, we keep looping;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count will be equal to the number of loops we wanted when the loop is finished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count++: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we increment (add 1 to) the value of coun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Courier New"/>
              </a:rPr>
              <a:t>&lt;instructions&gt;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: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Any valid robot instructions, including other loop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OR loop: What does this do?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void whatDoIDo()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or (int count = 0; count &lt; 4; count++)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or (int count2 = 0; count2 &lt; 6; count2++)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move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turnLeft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An unknown number of repeti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ppose we know we want a robot to repeat a series of instructions, but we do not know how many times…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sk: There is a beeper somewhere on the same street in front of the robot, but we do not know exactly where… How does the robot find the beeper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R loop requires an upper limit (and there is no guarantee the beeper will fall within the range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statements are a one-time execute state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 need something to combine the testing ability of the IF statement with the iteration of a FOR loop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HILE loop: General form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while ( 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) 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&lt;instruction-list&gt;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served word </a:t>
            </a: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rts the instruction, parentheses enclose the </a:t>
            </a:r>
            <a:r>
              <a:rPr b="1" i="1" lang="en-US" sz="24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braces enclose the </a:t>
            </a:r>
            <a:r>
              <a:rPr b="1" i="1" lang="en-US" sz="2400" spc="-1" strike="noStrike">
                <a:solidFill>
                  <a:srgbClr val="ffff99"/>
                </a:solidFill>
                <a:latin typeface="Courier New"/>
              </a:rPr>
              <a:t>&lt;instruction-list&gt;;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the usual w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: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he same conditions used in the IF instru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A robot starts the loop by checking the </a:t>
            </a:r>
            <a:r>
              <a:rPr b="1" i="1" lang="en-US" sz="2400" spc="-1" strike="noStrike">
                <a:solidFill>
                  <a:srgbClr val="ffff99"/>
                </a:solidFill>
                <a:latin typeface="Courier New"/>
              </a:rPr>
              <a:t>&lt;test&gt;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n it’s current situ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TRUE, the robot executes the 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&lt;instruction-list&gt;;</a:t>
            </a:r>
            <a:r>
              <a:rPr b="0" i="1" lang="en-US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d rechecks the situ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f FALSE, the robot executes instructions that follow the WHILE loop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HILE loop: find the beepe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class BeeperFinder extends Robot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// usual constructo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// assumes no intervening wall segm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void findBeeper()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while (! nextToABeeper()) {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move(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HILE loop: Clear a corne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robot is on a corner that may or may not have beepers on it. The robot is to make sure that the corner is clear of all beeper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// fill in the blank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void clearCorner() {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while ( _____________________) {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_____________________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hen to use repeating instruc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84" name="Ch516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70860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Random Walk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393560"/>
            <a:ext cx="8305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random walk is a model built on mathematical and physical concepts that is used to explain how molecules move in a closed space.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an be used as the basis for several mathematical models that predict stock market price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Owen Astrachan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 Computer Science Tapestry”, Chapter 7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McGraw Hill, New York, 1997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pecification Detail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served Words and symbol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s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extend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braces { 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must replace the elements in angle brackets &lt; &gt; appropriatel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new-class-name&gt;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what do we call this new type of robot?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old-class-name&gt;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what old robot to add features to?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&lt;list-of-new-methods&gt;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list of new featur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Random </a:t>
            </a: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Walks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 will use random walks as a way to further our understanding of the use and development of classe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 will look at a random walk in Karel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is will coincide with moving from a one-dimensional random walk with a single object, to two objects walking in the same environment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arel provides a graphical interface in our exploration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A Random Walk with Kare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456920"/>
            <a:ext cx="83073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ee RandomWalker Demo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his application will tell us in a walk of </a:t>
            </a: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50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steps, how far a Robot will end up from origin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Impact"/>
              </a:rPr>
              <a:t>Two-D Robots</a:t>
            </a:r>
            <a:endParaRPr b="0" lang="en-US" sz="4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393560"/>
            <a:ext cx="830736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Suppose we wanted to track our robots in two-dimensional space, what changes do we have to make:</a:t>
            </a: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o Main.java program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To RandomWalker.java)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Do we need another class?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wo Robots Walk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393560"/>
            <a:ext cx="830592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i="1" lang="en-US" sz="3200" spc="-1" strike="noStrike">
                <a:solidFill>
                  <a:srgbClr val="ffff99"/>
                </a:solidFill>
                <a:latin typeface="Times New Roman"/>
              </a:rPr>
              <a:t>CountWalker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project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uppose we wanted to track two robots in the same space, and see how many times they collide?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Remember, a random walk is a model ... that is used to explain how molecules move in a closed space, among other things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wo Robots Walk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is presents a special problem: It is very difficult for an object of one class to be “aware” of a specific object of another class…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ou can pass one object of a class to another object of a class, but it is a very difficult for the receiving object to know that the sent object is a specific objec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best solution is to create a superclass or reporting class that can keep track of the sub-classes activities; in our case, we could create a “pond” class that could watch our robots, and report on the number of times they colli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ould do this, but not at this time; we will come back to this issue later in the cour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Minilab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393560"/>
            <a:ext cx="830592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e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andomWalk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 to solve these problem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Prompt the user for a location. Report the number of steps the robot takes until it reaches that position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Given a maximum number of steps from the user, report the number of collisions of two robots in a two dimensional space…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Right now, a 2D robot can move in only a north, south, east, or west direction with each step. Modify the class so that a 2D robot could move along 8 possible compass points, including, northeast, southeast, southwest, and northwest (in other words, move diagonally from it’s current position)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Play hide and seek with other robots using visibilit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imulating Board Gam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e RobotChutesLadders using GamePiece interface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y Uncle Wiggly, Parcheesi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Naming Thing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developing the names for robots and new metho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y uppercase and lowercase letters {A..Z, a..z}, digits {0..9}, and underscore { _ } can be us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unique name to the progra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oes not match any reserved word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st begin with a lett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ypically upper case for a clas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lower case for a method or instruc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pecifying a Marathon Robo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ss MarathonRobot extends Robo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void moveMile(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instructions omitted for now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other instruction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tends Robot?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class MarathonRobot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extends Robot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we indicate the MarathonRobot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inherit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ll the capabilities of the Robot clas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other words MarathonRobot knows all about move(), turnLeft(), pickBeeper(), putBeeper(), and shutOff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obot is the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class of MarathonRobot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MarathonRobot is a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rived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class of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Robot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S-A relationship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rathonRobot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S A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ur-Robo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Defining new methods in a program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Download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Stair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SweeperDem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Verify this program is correct by tracing the code before running i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23" name="Ch31" descr=""/>
          <p:cNvPicPr/>
          <p:nvPr/>
        </p:nvPicPr>
        <p:blipFill>
          <a:blip r:embed="rId4"/>
          <a:stretch/>
        </p:blipFill>
        <p:spPr>
          <a:xfrm>
            <a:off x="1523880" y="3581280"/>
            <a:ext cx="64008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Robot Program Format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use at least two files in creating new robots and robot metho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Main Class file which is where the robot is constructed and given its task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Main Class is defined, the world is accessed, the speed is se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robot is constructed and receives its task instructions in the </a:t>
            </a:r>
            <a:r>
              <a:rPr b="0" lang="en-US" sz="2000" spc="-1" strike="noStrike">
                <a:solidFill>
                  <a:srgbClr val="ffff99"/>
                </a:solidFill>
                <a:latin typeface="Courier New"/>
              </a:rPr>
              <a:t>task(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metho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second file contains the description of the new robot, and the definition of its method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constructor which describes how we build the robo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d the definitions of the new instruction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3:34:49Z</dcterms:created>
  <dc:creator>Don Slater</dc:creator>
  <dc:description/>
  <dc:language>en-US</dc:language>
  <cp:lastModifiedBy>Don Slater</cp:lastModifiedBy>
  <dcterms:modified xsi:type="dcterms:W3CDTF">2003-06-21T18:59:51Z</dcterms:modified>
  <cp:revision>24</cp:revision>
  <dc:subject/>
  <dc:title>Programs and Models</dc:title>
</cp:coreProperties>
</file>