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2132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21320" indent="-11304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21320" indent="-11304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21320" indent="-11304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121320" indent="-11304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121320" indent="-11304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121320" indent="-11304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marL="511920" indent="-329040">
              <a:spcAft>
                <a:spcPts val="25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859320" indent="-329040">
              <a:spcAft>
                <a:spcPts val="25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207080" indent="-329040">
              <a:spcAft>
                <a:spcPts val="25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554120" indent="-329040">
              <a:spcAft>
                <a:spcPts val="25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901880" indent="-329040">
              <a:spcAft>
                <a:spcPts val="25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901880" indent="-329040">
              <a:spcAft>
                <a:spcPts val="25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901880" indent="-329040">
              <a:spcAft>
                <a:spcPts val="25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5931000" y="2298240"/>
            <a:ext cx="32385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7000"/>
          </a:bodyPr>
          <a:p>
            <a:pPr marL="476280" indent="-306000">
              <a:spcAft>
                <a:spcPts val="25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99560" indent="-306000">
              <a:spcAft>
                <a:spcPts val="25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23200" indent="-306000">
              <a:spcAft>
                <a:spcPts val="25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46120" indent="-306000">
              <a:spcAft>
                <a:spcPts val="25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69760" indent="-306000">
              <a:spcAft>
                <a:spcPts val="25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69760" indent="-306000">
              <a:spcAft>
                <a:spcPts val="25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69760" indent="-306000">
              <a:spcAft>
                <a:spcPts val="25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689760" indent="-443160"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57760" indent="-443160"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626120" indent="-44316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2094120" indent="-44316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562120" indent="-44316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562120" indent="-443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562120" indent="-443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90360" y="825120"/>
            <a:ext cx="817884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654120" indent="-420480">
              <a:spcAft>
                <a:spcPts val="43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098000" indent="-420480">
              <a:spcAft>
                <a:spcPts val="43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542240" indent="-420480">
              <a:spcAft>
                <a:spcPts val="43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986120" indent="-420480">
              <a:spcAft>
                <a:spcPts val="43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430000" indent="-420480">
              <a:spcAft>
                <a:spcPts val="43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430000" indent="-420480">
              <a:spcAft>
                <a:spcPts val="43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430000" indent="-420480">
              <a:spcAft>
                <a:spcPts val="43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381560" y="1917720"/>
            <a:ext cx="1407960" cy="3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4240" y="1397160"/>
            <a:ext cx="469908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44240" y="3860280"/>
            <a:ext cx="469908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0564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305640" indent="-28440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305640" indent="-28440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305640" indent="-28440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305640" indent="-28440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305640" indent="-28440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305640" indent="-284400" algn="ctr">
              <a:spcAft>
                <a:spcPts val="201"/>
              </a:spcAft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477120" y="1473120"/>
            <a:ext cx="1407960" cy="3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marL="511920" indent="-329040">
              <a:spcAft>
                <a:spcPts val="25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859320" indent="-329040">
              <a:spcAft>
                <a:spcPts val="25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207080" indent="-329040">
              <a:spcAft>
                <a:spcPts val="25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554120" indent="-329040">
              <a:spcAft>
                <a:spcPts val="25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901880" indent="-329040">
              <a:spcAft>
                <a:spcPts val="25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901880" indent="-329040">
              <a:spcAft>
                <a:spcPts val="25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901880" indent="-329040">
              <a:spcAft>
                <a:spcPts val="25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0"/>
          <a:stretch/>
        </p:blipFill>
        <p:spPr>
          <a:xfrm>
            <a:off x="6477120" y="2197080"/>
            <a:ext cx="1407960" cy="3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csis.pace.edu/~bergin/KarelJava2ed/Karel++JavaEdition.html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cafepress.com/kareljrobot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990360" y="4063680"/>
            <a:ext cx="81788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 Sl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cturer, Carnegie Mellon Univers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slater@andrew.cmu.edu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www.cs.cmu.edu/~djsla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Helping Students “See” Polymorphism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990360" y="1701360"/>
            <a:ext cx="817884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Karel J. Robot package contains a Robot cla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ub-class of ur_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ith predicate methods (return boolea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67652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ntIsClear(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67652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xtToABeeper(); nextToARobot(); anyBeepersInBeeperBag()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676520" indent="-457200"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ingNorth(); facingSouth(); facingEast(); facingWest(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990360" y="165240"/>
            <a:ext cx="817884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obot Predicate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monstrates polymorphism through inheritance and overwritten methods (mov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pass at overwriting an inherited metho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of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p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eserved word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llustration of the IS-A relationshi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67652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StepRobot is a 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Two Step Robo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990360" y="1943280"/>
            <a:ext cx="817884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monstration of polymorphism with abstract clas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acerRobo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787320" y="3352680"/>
            <a:ext cx="6350040" cy="4084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19880" y="4267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eepleCha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7391880" y="5118120"/>
            <a:ext cx="25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ghHurd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7858440" y="5969160"/>
            <a:ext cx="16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urd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8024040" y="674388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ri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ch robot races to the finish line, a beep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unRace(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different obstacles may be encountered along the w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ceStride(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Similar, but not Identical Task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851040" y="2324160"/>
            <a:ext cx="8445240" cy="49910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Sprinter Class Relationship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4635360" y="3441600"/>
            <a:ext cx="2438640" cy="17020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90000"/>
            </a:srgbClr>
          </a:solidFill>
          <a:ln w="255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334120" y="2367000"/>
            <a:ext cx="3263760" cy="1341360"/>
            <a:chOff x="5334120" y="2367000"/>
            <a:chExt cx="3263760" cy="1341360"/>
          </a:xfrm>
        </p:grpSpPr>
        <p:sp>
          <p:nvSpPr>
            <p:cNvPr id="476" name=""/>
            <p:cNvSpPr/>
            <p:nvPr/>
          </p:nvSpPr>
          <p:spPr>
            <a:xfrm>
              <a:off x="5334120" y="2367000"/>
              <a:ext cx="3263760" cy="1042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27800" y="2438640"/>
              <a:ext cx="1270080" cy="12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536840" y="3416400"/>
            <a:ext cx="2806560" cy="2044440"/>
            <a:chOff x="1536840" y="3416400"/>
            <a:chExt cx="2806560" cy="2044440"/>
          </a:xfrm>
        </p:grpSpPr>
        <p:sp>
          <p:nvSpPr>
            <p:cNvPr id="479" name=""/>
            <p:cNvSpPr/>
            <p:nvPr/>
          </p:nvSpPr>
          <p:spPr>
            <a:xfrm>
              <a:off x="1536840" y="4190760"/>
              <a:ext cx="1270080" cy="1270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32120" y="3416400"/>
              <a:ext cx="1511280" cy="1180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806560" y="4419720"/>
            <a:ext cx="6324480" cy="2768040"/>
            <a:chOff x="2806560" y="4419720"/>
            <a:chExt cx="6324480" cy="2768040"/>
          </a:xfrm>
        </p:grpSpPr>
        <p:sp>
          <p:nvSpPr>
            <p:cNvPr id="482" name=""/>
            <p:cNvSpPr/>
            <p:nvPr/>
          </p:nvSpPr>
          <p:spPr>
            <a:xfrm>
              <a:off x="3784320" y="5143320"/>
              <a:ext cx="5346720" cy="2044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99200" y="4419720"/>
              <a:ext cx="1765080" cy="12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06560" y="4609800"/>
              <a:ext cx="1803240" cy="622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44920" y="4419720"/>
              <a:ext cx="2768400" cy="761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ement the runRace() metho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cify the abstract method raceStride() metho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acerRobot </a:t>
            </a: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Abstract Clas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printer race stride is substantially different than a Hurdler race stri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ceStride is simply a move(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bclass HurdleRobot realizes raceStride and then specifies up(), over(), and down() as behaviors a Hurdler robot must imple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Sprinter v. Hurdl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990360" y="1917720"/>
            <a:ext cx="81788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have also generated an interface for Racer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cerRobot implements raceStride in terms of running to the beeper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wanted to build RacerRobots that ran for a specified distance, instead of the finish li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raceStride could be implemented different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acerInterface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t us work with a collection of racing Robo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will use the Racer Interface but now create a Turtle (slow and steady) a Hare, (move when the spirit moves it) when we realize raceStride(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Turtle and Hare Robot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eady to Race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3733920" y="1498680"/>
            <a:ext cx="21715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ans “many shapes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nding the same message to different objects, and having them behave different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olymorphism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Turtle and Hare Class Relationship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520560" y="2413080"/>
            <a:ext cx="9118800" cy="469908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4546440" y="3187800"/>
            <a:ext cx="3542760" cy="1727280"/>
            <a:chOff x="4546440" y="3187800"/>
            <a:chExt cx="3542760" cy="1727280"/>
          </a:xfrm>
        </p:grpSpPr>
        <p:grpSp>
          <p:nvGrpSpPr>
            <p:cNvPr id="499" name=""/>
            <p:cNvGrpSpPr/>
            <p:nvPr/>
          </p:nvGrpSpPr>
          <p:grpSpPr>
            <a:xfrm>
              <a:off x="4673520" y="3187800"/>
              <a:ext cx="3415680" cy="1727280"/>
              <a:chOff x="4673520" y="3187800"/>
              <a:chExt cx="3415680" cy="172728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4673520" y="3187800"/>
                <a:ext cx="3415680" cy="1727280"/>
                <a:chOff x="4673520" y="3187800"/>
                <a:chExt cx="3415680" cy="17272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235560" y="3276720"/>
                  <a:ext cx="1853640" cy="16383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00"/>
                      </a:moveTo>
                      <a:lnTo>
                        <a:pt x="20000" y="10000"/>
                      </a:lnTo>
                      <a:lnTo>
                        <a:pt x="20000" y="20000"/>
                      </a:lnTo>
                      <a:lnTo>
                        <a:pt x="10000" y="20000"/>
                      </a:lnTo>
                      <a:close/>
                      <a:moveTo>
                        <a:pt x="10000" y="10000"/>
                      </a:moveTo>
                    </a:path>
                  </a:pathLst>
                </a:custGeom>
                <a:solidFill>
                  <a:srgbClr val="ffffff">
                    <a:alpha val="90000"/>
                  </a:srgbClr>
                </a:solidFill>
                <a:ln w="25560">
                  <a:solidFill>
                    <a:srgbClr val="ffffff">
                      <a:alpha val="9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673520" y="3187800"/>
                  <a:ext cx="1612800" cy="850680"/>
                </a:xfrm>
                <a:prstGeom prst="line">
                  <a:avLst/>
                </a:prstGeom>
                <a:ln w="254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 flipH="1">
                <a:off x="5358960" y="3530520"/>
                <a:ext cx="24120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4546440" y="4394160"/>
              <a:ext cx="1803240" cy="292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01800" y="4127400"/>
            <a:ext cx="8547120" cy="2857320"/>
            <a:chOff x="901800" y="4127400"/>
            <a:chExt cx="8547120" cy="2857320"/>
          </a:xfrm>
        </p:grpSpPr>
        <p:grpSp>
          <p:nvGrpSpPr>
            <p:cNvPr id="506" name=""/>
            <p:cNvGrpSpPr/>
            <p:nvPr/>
          </p:nvGrpSpPr>
          <p:grpSpPr>
            <a:xfrm>
              <a:off x="901800" y="4914720"/>
              <a:ext cx="8547120" cy="2070000"/>
              <a:chOff x="901800" y="4914720"/>
              <a:chExt cx="8547120" cy="2070000"/>
            </a:xfrm>
          </p:grpSpPr>
          <p:sp>
            <p:nvSpPr>
              <p:cNvPr id="507" name=""/>
              <p:cNvSpPr/>
              <p:nvPr/>
            </p:nvSpPr>
            <p:spPr>
              <a:xfrm>
                <a:off x="5118120" y="4914720"/>
                <a:ext cx="4330800" cy="20700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ffffff">
                  <a:alpha val="90000"/>
                </a:srgbClr>
              </a:solidFill>
              <a:ln w="2556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01800" y="6248160"/>
                <a:ext cx="4368600" cy="6858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ffffff">
                  <a:alpha val="90000"/>
                </a:srgbClr>
              </a:solidFill>
              <a:ln w="2556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952560" y="4127400"/>
              <a:ext cx="266760" cy="2197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990360" y="2146320"/>
            <a:ext cx="81788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have built an array of Racers, holding both HareRobots and TurtleRobo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cycle through the array, sending each Racer the raceStride() mess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ch will behave according to the nature of its cla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s on the IS-A relationship we saw at the beginn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An array of Rac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random walk is a model built on mathematical and physical concepts that is used to explain how molecules move in a closed space, or as the basis for several mathematical models that predict stock market prices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wen Astracha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A Computer Science Tapestry”, Chapter 7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cGraw Hill, New York, 1997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 can also use random walks as a way to further our understanding of the use and development of classes and poly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The RandomWalk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obot randomly moves East and West around its starting poi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obot “flips a coin” to determine which direction to mo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keeps track of how many steps it has tak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report its distance from origi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andomWalk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andomWalk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90440" y="1816200"/>
            <a:ext cx="7543800" cy="35607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417920" y="3111480"/>
            <a:ext cx="552456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the robot may move North and South as well as East and We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ill counts steps and reports dist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2-D Random Walk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2D Random Walk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6320" y="1785960"/>
            <a:ext cx="8170920" cy="4029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4444920" y="3046320"/>
            <a:ext cx="57103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want to track multiple robots in two-dimensional spa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differentiate between multiple robo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can give a robot different colo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can change the visibility of a 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2-D RandomWalk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Multiple Robots in Karel’s World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2438280" y="2333520"/>
            <a:ext cx="528336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better Environment for tracking randomly moving objects exists in the Marine Biology Simulation of the Advanced Placement Computer Science Exa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2-D RandomWalk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990360" y="2298600"/>
            <a:ext cx="817884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lop mental models with multiple “passes” at the material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iginally emphasized program decomposition, top down design and control structur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ynamic polymorphism is the key idea” to Karel++ and Karel J 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0">
              <a:spcAft>
                <a:spcPts val="11"/>
              </a:spcAft>
              <a:buNone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 algn="r">
              <a:lnSpc>
                <a:spcPts val="975"/>
              </a:lnSpc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ff1ff"/>
                </a:solidFill>
                <a:latin typeface="Arial"/>
              </a:rPr>
              <a:t>Introducing Objects with Karel J. Robo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 algn="r">
              <a:lnSpc>
                <a:spcPts val="975"/>
              </a:lnSpc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ff1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 algn="r">
              <a:lnSpc>
                <a:spcPts val="975"/>
              </a:lnSpc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ff1ff"/>
                </a:solidFill>
                <a:latin typeface="Arial"/>
              </a:rPr>
              <a:t>Joe Bergin, ECOOP 2000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Spiral Down Pedagogy and Karel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4987800" y="3720960"/>
            <a:ext cx="184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990360" y="2298600"/>
            <a:ext cx="81788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loped by Alyce Brady, Chris Nevison, and Julie Zelinsk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imulation using multiple interacting classes facilitating the study of a marine environment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Marine Biology Simulation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Multiple Fish in MBS Environmen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2870280" y="2273400"/>
            <a:ext cx="441324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want to turn our Walker Robot into a Fishbot and move it the Marine Biology Simu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2-D RandomWalke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Walker in The MBS Environmen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903400" y="2209680"/>
            <a:ext cx="4562640" cy="52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1905120" y="2235240"/>
            <a:ext cx="6350040" cy="461016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obot 2D Class Relationship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819480" y="2816280"/>
            <a:ext cx="469800" cy="942840"/>
            <a:chOff x="6819480" y="2816280"/>
            <a:chExt cx="469800" cy="942840"/>
          </a:xfrm>
        </p:grpSpPr>
        <p:sp>
          <p:nvSpPr>
            <p:cNvPr id="541" name=""/>
            <p:cNvSpPr/>
            <p:nvPr/>
          </p:nvSpPr>
          <p:spPr>
            <a:xfrm>
              <a:off x="7270920" y="2870280"/>
              <a:ext cx="5760" cy="888840"/>
            </a:xfrm>
            <a:prstGeom prst="line">
              <a:avLst/>
            </a:prstGeom>
            <a:ln w="25560">
              <a:solidFill>
                <a:srgbClr val="74747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819480" y="2895480"/>
              <a:ext cx="469800" cy="0"/>
            </a:xfrm>
            <a:prstGeom prst="line">
              <a:avLst/>
            </a:prstGeom>
            <a:ln w="25560">
              <a:solidFill>
                <a:srgbClr val="74747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19840" y="2895480"/>
              <a:ext cx="195840" cy="4608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844680" y="2816280"/>
              <a:ext cx="165240" cy="7920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84880" y="5346720"/>
            <a:ext cx="1270080" cy="12700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90000"/>
            </a:srgbClr>
          </a:solidFill>
          <a:ln w="255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168880" y="5321160"/>
            <a:ext cx="1460520" cy="130824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359320" y="5372280"/>
            <a:ext cx="1549440" cy="1218960"/>
            <a:chOff x="5359320" y="5372280"/>
            <a:chExt cx="1549440" cy="1218960"/>
          </a:xfrm>
        </p:grpSpPr>
        <p:sp>
          <p:nvSpPr>
            <p:cNvPr id="548" name=""/>
            <p:cNvSpPr/>
            <p:nvPr/>
          </p:nvSpPr>
          <p:spPr>
            <a:xfrm>
              <a:off x="5359320" y="5372280"/>
              <a:ext cx="1549440" cy="1218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ebd1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5562720" y="5575320"/>
              <a:ext cx="1130040" cy="812160"/>
              <a:chOff x="5562720" y="5575320"/>
              <a:chExt cx="1130040" cy="812160"/>
            </a:xfrm>
          </p:grpSpPr>
          <p:sp>
            <p:nvSpPr>
              <p:cNvPr id="550" name=""/>
              <p:cNvSpPr/>
              <p:nvPr/>
            </p:nvSpPr>
            <p:spPr>
              <a:xfrm>
                <a:off x="5562720" y="5575320"/>
                <a:ext cx="1130040" cy="812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ed1329">
                  <a:alpha val="90000"/>
                </a:srgbClr>
              </a:solidFill>
              <a:ln w="25560">
                <a:solidFill>
                  <a:srgbClr val="ffffff">
                    <a:alpha val="90000"/>
                  </a:srgbClr>
                </a:solidFill>
                <a:round/>
              </a:ln>
              <a:effectLst>
                <a:outerShdw dist="76252" dir="653131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587920" y="5879880"/>
                <a:ext cx="10789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20760" y="5600520"/>
                <a:ext cx="80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838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202"/>
                    </a:solidFill>
                    <a:latin typeface="Comic Sans MS"/>
                  </a:rPr>
                  <a:t>FishBot</a:t>
                </a:r>
                <a:endParaRPr b="0" lang="en-US" sz="1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An MBS Overview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346040" y="2247840"/>
            <a:ext cx="7594560" cy="5181480"/>
            <a:chOff x="1346040" y="2247840"/>
            <a:chExt cx="7594560" cy="5181480"/>
          </a:xfrm>
        </p:grpSpPr>
        <p:pic>
          <p:nvPicPr>
            <p:cNvPr id="556" name="" descr=""/>
            <p:cNvPicPr/>
            <p:nvPr/>
          </p:nvPicPr>
          <p:blipFill>
            <a:blip r:embed="rId2"/>
            <a:stretch/>
          </p:blipFill>
          <p:spPr>
            <a:xfrm>
              <a:off x="1346040" y="2247840"/>
              <a:ext cx="759456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5067000" y="4317840"/>
              <a:ext cx="1130400" cy="812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edcf75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  <a:effectLst>
              <a:outerShdw dist="76252" dir="653131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68800" y="4444920"/>
              <a:ext cx="1139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mic Sans MS"/>
                </a:rPr>
                <a:t>&lt;&lt;interface&gt;&gt;</a:t>
              </a:r>
              <a:endParaRPr b="0" lang="en-US" sz="11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00480" y="4597200"/>
              <a:ext cx="10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Locatable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79960" y="4825440"/>
              <a:ext cx="11048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931000" y="2832120"/>
            <a:ext cx="2450520" cy="2183760"/>
            <a:chOff x="5931000" y="2832120"/>
            <a:chExt cx="2450520" cy="2183760"/>
          </a:xfrm>
        </p:grpSpPr>
        <p:sp>
          <p:nvSpPr>
            <p:cNvPr id="562" name=""/>
            <p:cNvSpPr/>
            <p:nvPr/>
          </p:nvSpPr>
          <p:spPr>
            <a:xfrm>
              <a:off x="7251480" y="2832120"/>
              <a:ext cx="1130040" cy="81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ed1329">
                <a:alpha val="90000"/>
              </a:srgbClr>
            </a:solidFill>
            <a:ln w="25560">
              <a:solidFill>
                <a:srgbClr val="ffffff">
                  <a:alpha val="90000"/>
                </a:srgbClr>
              </a:solidFill>
              <a:round/>
            </a:ln>
            <a:effectLst>
              <a:outerShdw dist="76252" dir="653131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277040" y="3136680"/>
              <a:ext cx="10774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09880" y="2857320"/>
              <a:ext cx="80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0202"/>
                  </a:solidFill>
                  <a:latin typeface="Comic Sans MS"/>
                </a:rPr>
                <a:t>FishBot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7213320" y="3746520"/>
              <a:ext cx="494640" cy="1269360"/>
              <a:chOff x="7213320" y="3746520"/>
              <a:chExt cx="494640" cy="1269360"/>
            </a:xfrm>
          </p:grpSpPr>
          <p:sp>
            <p:nvSpPr>
              <p:cNvPr id="566" name=""/>
              <p:cNvSpPr/>
              <p:nvPr/>
            </p:nvSpPr>
            <p:spPr>
              <a:xfrm flipV="1">
                <a:off x="7340040" y="3746520"/>
                <a:ext cx="367920" cy="1041120"/>
              </a:xfrm>
              <a:prstGeom prst="line">
                <a:avLst/>
              </a:prstGeom>
              <a:ln w="936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13320" y="4736880"/>
                <a:ext cx="266400" cy="113760"/>
              </a:xfrm>
              <a:prstGeom prst="line">
                <a:avLst/>
              </a:prstGeom>
              <a:ln w="9360">
                <a:solidFill>
                  <a:srgbClr val="0606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13320" y="4736880"/>
                <a:ext cx="12240" cy="279000"/>
              </a:xfrm>
              <a:prstGeom prst="line">
                <a:avLst/>
              </a:prstGeom>
              <a:ln w="9360">
                <a:solidFill>
                  <a:srgbClr val="0505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7238520" y="4825800"/>
                <a:ext cx="228240" cy="190080"/>
              </a:xfrm>
              <a:prstGeom prst="line">
                <a:avLst/>
              </a:prstGeom>
              <a:ln w="9360">
                <a:solidFill>
                  <a:srgbClr val="0505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5943600" y="3200400"/>
              <a:ext cx="1206000" cy="0"/>
            </a:xfrm>
            <a:prstGeom prst="line">
              <a:avLst/>
            </a:prstGeom>
            <a:ln w="255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31000" y="3200400"/>
              <a:ext cx="0" cy="1079280"/>
            </a:xfrm>
            <a:prstGeom prst="line">
              <a:avLst/>
            </a:prstGeom>
            <a:ln w="255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2971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does inheritance get u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arterFish will be a model for Fish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Extending from Fish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5054760" y="1905120"/>
            <a:ext cx="2908080" cy="52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y having our Robot extend Fish instead of MyRobot we can use our Robots in the MBS Environment with the flexibility and display advantages it provid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Karel to MB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mechanism for dropping our FishBot into the Environment of the MB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y becoming a subclass of Fish we inherit an Environment obje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stead of keeping track of streets and avenues we need to have a Location object (also 2-D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 still have a Direction and Color (fortuitou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beepers (at presen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Building a FishBot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is also fortuitous that Robot classes and the MBS use move() to advance the objects from one location to the nex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hard will it be to take advantage of this to use inheritance and polymorphism to create our FishBo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the move() method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much in programming happens “under the hood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perienced programmers have developed abstract models for understanding what is going 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experienced programmers need help in developing these mode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Using Visualization in Teaching C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obot is entirely responsible for navigating through its worl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obot gets a random va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andom value is used to rotate the robot to the appropriate dir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the robot’s path is clear, it will then change its po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Walker move()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fish interacts with its environment in order to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out what neighboring positions are available (the fish does get to select one of these neighboring position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direction it is fac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 display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Fish move()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obots are always going to work in a 2-D worl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MBS, an Environment can be implemented in many different way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xagona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fish should not make assumptions about the world it lives i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Why this difference?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our purposes, (demonstrating polymorphism, you thought I forgot) we will assume a 2D worl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Environment provides us methods we can work wi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However...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ill need three different c’tors to deal with different ways MBS builds F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sentially cut and pas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parameters, change street and avenue to Location, numBeepers to Color, and add an enviro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actual body of the c’tor looks virtually the s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FishBot c’tor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Fish class, not in the Walker cla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useful way to think about the behavi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of the Walker move is here bu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67652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ad of turning to face a different direction we build a new lo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eck for validity with Enviro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FishBot nextLocation()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1788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’s its own next location (assuming a 2D wor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not valid, will remain unchang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ll the environment the new lo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the environment tell it what direction it is fac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s number of ste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Fishbot move()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changes must be made to the MBSGUI cla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ives the simu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d a FishBot to the list of fish in the simu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Finally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demonstration of loose coupling (?) of clas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demonstration of the power of inherit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teppingstone into the MB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ntifies different components  of MB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compare and contrast different ways to implement a RandomWalk  / MB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What’s the Point?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phics - screen shots fr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arelJRobot simulat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J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arterFish class diagram copied from Alyce Brady’s web s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rinter classes derived from Karel++ examples and proble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redit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736200" y="2298240"/>
            <a:ext cx="81788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blished by Richard Pattis in 198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sc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e Bergin, et. al in 1995 - 97 published Karel++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++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e Bergin, 1999 (?), developed KarelJ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Karel the Robot and me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990360" y="2298600"/>
            <a:ext cx="81788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e Bergin’s Karel webs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csis.pace.edu/~bergin/KarelJava2ed/Karel++JavaEdition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100000"/>
              </a:lnSpc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http://www.cafepress.com/kareljrobot</a:t>
            </a:r>
            <a:r>
              <a:rPr b="0" lang="en-US" sz="1600" spc="-1" strike="noStrike" u="sng">
                <a:solidFill>
                  <a:srgbClr val="1500e2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0">
              <a:spcAft>
                <a:spcPts val="1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 are other excellent Karel implementations, simulators, and resour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Google search on “Karel the Robot” returns about 10,200 hi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Documentation and References - Karel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Documentation and Reference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 Central: The official site for all Advanced Placement course inform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apcentral.collegeboard.co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fter registration, you have access to official MBS materia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67652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nuals, documentation, softwa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re is access to a growing collection of resources, many related to the MB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90360" y="2222280"/>
            <a:ext cx="81788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yce Brady’s MBS web s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max.cs.kzoo.edu/AP/MBS/index.htm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object diagrams are useful, source code for black box classes also available he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ris Nevison - Former APCS Chief Reader - the Unofficial APCS webs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cs.colgate.edu/APCS/Java/MBScasestudy/MBScasestudy.ht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terials from training programs he has conduc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Documentation and References - MB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165240"/>
            <a:ext cx="817884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The Robot World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07960" y="1560600"/>
            <a:ext cx="6413400" cy="563868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2413080" y="3390840"/>
            <a:ext cx="6720480" cy="2108160"/>
            <a:chOff x="2413080" y="3390840"/>
            <a:chExt cx="6720480" cy="2108160"/>
          </a:xfrm>
        </p:grpSpPr>
        <p:sp>
          <p:nvSpPr>
            <p:cNvPr id="432" name=""/>
            <p:cNvSpPr/>
            <p:nvPr/>
          </p:nvSpPr>
          <p:spPr>
            <a:xfrm>
              <a:off x="7809840" y="33908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Robot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413080" y="3835080"/>
              <a:ext cx="5435640" cy="166392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422360" y="1612800"/>
            <a:ext cx="7685280" cy="3860640"/>
            <a:chOff x="1422360" y="1612800"/>
            <a:chExt cx="7685280" cy="3860640"/>
          </a:xfrm>
        </p:grpSpPr>
        <p:sp>
          <p:nvSpPr>
            <p:cNvPr id="435" name=""/>
            <p:cNvSpPr/>
            <p:nvPr/>
          </p:nvSpPr>
          <p:spPr>
            <a:xfrm>
              <a:off x="7553880" y="1612800"/>
              <a:ext cx="15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Beeper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422360" y="2069640"/>
              <a:ext cx="6197400" cy="340380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517920" y="2514600"/>
            <a:ext cx="5298480" cy="2260440"/>
            <a:chOff x="3517920" y="2514600"/>
            <a:chExt cx="5298480" cy="2260440"/>
          </a:xfrm>
        </p:grpSpPr>
        <p:sp>
          <p:nvSpPr>
            <p:cNvPr id="438" name=""/>
            <p:cNvSpPr/>
            <p:nvPr/>
          </p:nvSpPr>
          <p:spPr>
            <a:xfrm>
              <a:off x="7818840" y="2514600"/>
              <a:ext cx="99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Wall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517920" y="2946240"/>
              <a:ext cx="4394520" cy="182880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755800" y="5156280"/>
            <a:ext cx="6411240" cy="1294560"/>
            <a:chOff x="2755800" y="5156280"/>
            <a:chExt cx="6411240" cy="1294560"/>
          </a:xfrm>
        </p:grpSpPr>
        <p:sp>
          <p:nvSpPr>
            <p:cNvPr id="441" name=""/>
            <p:cNvSpPr/>
            <p:nvPr/>
          </p:nvSpPr>
          <p:spPr>
            <a:xfrm>
              <a:off x="7470000" y="5156280"/>
              <a:ext cx="16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Corner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755800" y="5600160"/>
              <a:ext cx="4762800" cy="85068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981760" y="6058080"/>
            <a:ext cx="3675240" cy="672120"/>
            <a:chOff x="5981760" y="6058080"/>
            <a:chExt cx="3675240" cy="672120"/>
          </a:xfrm>
        </p:grpSpPr>
        <p:sp>
          <p:nvSpPr>
            <p:cNvPr id="444" name=""/>
            <p:cNvSpPr/>
            <p:nvPr/>
          </p:nvSpPr>
          <p:spPr>
            <a:xfrm>
              <a:off x="7284600" y="6058080"/>
              <a:ext cx="23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Boundarie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5981760" y="6514560"/>
              <a:ext cx="1396800" cy="21564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295280" y="4267080"/>
            <a:ext cx="8367840" cy="2171520"/>
            <a:chOff x="1295280" y="4267080"/>
            <a:chExt cx="8367840" cy="2171520"/>
          </a:xfrm>
        </p:grpSpPr>
        <p:sp>
          <p:nvSpPr>
            <p:cNvPr id="447" name=""/>
            <p:cNvSpPr/>
            <p:nvPr/>
          </p:nvSpPr>
          <p:spPr>
            <a:xfrm>
              <a:off x="7254360" y="4267080"/>
              <a:ext cx="240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Origin (1, 1)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1295280" y="4724280"/>
              <a:ext cx="6032160" cy="171432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990360" y="2095200"/>
            <a:ext cx="81788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cfc"/>
                </a:solidFill>
                <a:latin typeface="Comic Sans MS"/>
              </a:rPr>
              <a:t>A Robot can mov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Forward in the direction it is facing,from corner to corn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Turn in pla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Turn itself off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cfc"/>
                </a:solidFill>
                <a:latin typeface="Comic Sans MS"/>
              </a:rPr>
              <a:t>A Robot can dete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Walls that are 1/2 block in front of the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Beepers on the same corner as the robo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Other robots on the same corner with the robo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cfc"/>
                </a:solidFill>
                <a:latin typeface="Comic Sans MS"/>
              </a:rPr>
              <a:t>A Robot can navigate</a:t>
            </a: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 by detecting the direction it is facing (north, south, east, wes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cfc"/>
                </a:solidFill>
                <a:latin typeface="Comic Sans MS"/>
              </a:rPr>
              <a:t>A Robot can manipulate beepers</a:t>
            </a: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by carrying them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picking them up, and putting them down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lnSpc>
                <a:spcPct val="90000"/>
              </a:lnSpc>
              <a:spcAft>
                <a:spcPts val="11"/>
              </a:spcAft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cfc"/>
                </a:solidFill>
                <a:latin typeface="Comic Sans MS"/>
              </a:rPr>
              <a:t>knowing if it is carrying an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Robot Capabilitie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A Robot Task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1081080" y="655308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itial Situ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165240" y="2057400"/>
            <a:ext cx="48895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5207040" y="2057400"/>
            <a:ext cx="4862520" cy="5077080"/>
            <a:chOff x="5207040" y="2057400"/>
            <a:chExt cx="4862520" cy="5077080"/>
          </a:xfrm>
        </p:grpSpPr>
        <p:sp>
          <p:nvSpPr>
            <p:cNvPr id="455" name=""/>
            <p:cNvSpPr/>
            <p:nvPr/>
          </p:nvSpPr>
          <p:spPr>
            <a:xfrm>
              <a:off x="6198480" y="6553080"/>
              <a:ext cx="289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Final Situation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456" name="" descr=""/>
            <p:cNvPicPr/>
            <p:nvPr/>
          </p:nvPicPr>
          <p:blipFill>
            <a:blip r:embed="rId3"/>
            <a:stretch/>
          </p:blipFill>
          <p:spPr>
            <a:xfrm>
              <a:off x="5207040" y="2057400"/>
              <a:ext cx="486252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0" presetSubtype="1469476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11360" indent="-457200"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polymorphism is the key idea, then subclassing has to start right aw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obot base class is ur_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ve(); turnLeft()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ckBeeper(); putBeeper()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1193760" indent="-457200"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urnOff()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711360" indent="-457200"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Robots are subclasses of ur_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A Robot Program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OPA</cp:keywords>
  <dc:language>en-US</dc:language>
  <cp:lastModifiedBy>Don Slater</cp:lastModifiedBy>
  <dcterms:modified xsi:type="dcterms:W3CDTF">2005-07-10T12:23:57Z</dcterms:modified>
  <cp:revision>3</cp:revision>
  <dc:subject/>
  <dc:title>Helping Students “See” Polymorphism</dc:title>
</cp:coreProperties>
</file>