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5BB-806A-4BD3-AF92-99E2CE72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7D8-3D2F-435B-B566-4E5D5658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F68-6E28-4A32-8593-6B07D25A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F11-2EEC-49DA-B850-DA2858DE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53D4-062B-4E12-A8E8-0112122B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E86C-4F30-43C3-A38D-26CB9AD5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676A-A7F3-4B46-ABAF-4AB71C5A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D89F-B124-4235-9543-59E13BFC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3F4F-F29E-4585-BD4E-51D7FC3A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ECED-27FA-4107-8F9E-7D8019FC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B583-666E-4204-9D21-9EEE4A77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FDC-11B6-47D6-8AD8-D7B41921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F4AC-641D-46CA-A7C2-06CC8BE9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6738-0BB7-4872-ABC1-57C97717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9B48-36D1-467A-BAF5-20A4E80C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CC99-0C75-4746-8003-90A03F81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A7C0-BAE8-4545-B330-89528E3E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BD7-CAA5-489D-91CA-691BFC65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5BE-4B56-4E28-B9BD-BF0B96B7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874-93ED-47AA-A15B-3AC26B06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623-52FA-47F1-B0DB-DFFFC0E3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6B8-B29B-4904-8F88-5DB24326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F0B-DADE-4122-8A52-0EEDD3DB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5B7-6135-405C-A267-9BE6034A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7067-DED5-4237-91D6-7EB2D258658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5137-DFAD-4B36-9E62-FDF3C1404A0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naman@andrew.cmu.edu" TargetMode="External"/><Relationship Id="rId2" Type="http://schemas.openxmlformats.org/officeDocument/2006/relationships/hyperlink" Target="mailto:dday@andrew.cmu.edu" TargetMode="External"/><Relationship Id="rId3" Type="http://schemas.openxmlformats.org/officeDocument/2006/relationships/hyperlink" Target="mailto:dday@andrew.cmu.edu" TargetMode="External"/><Relationship Id="rId4" Type="http://schemas.openxmlformats.org/officeDocument/2006/relationships/hyperlink" Target="mailto:dday@andrew.cmu.edu" TargetMode="External"/><Relationship Id="rId5" Type="http://schemas.openxmlformats.org/officeDocument/2006/relationships/hyperlink" Target="mailto:dday@andrew.cmu.edu" TargetMode="Externa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mu.edu/blackboard/" TargetMode="External"/><Relationship Id="rId2" Type="http://schemas.openxmlformats.org/officeDocument/2006/relationships/hyperlink" Target="http://www.andrew.cmu.edu/course/15-CSAP/" TargetMode="External"/><Relationship Id="rId3" Type="http://schemas.openxmlformats.org/officeDocument/2006/relationships/hyperlink" Target="http://www.andrew.cmu.edu/course/15-CSAP/" TargetMode="External"/><Relationship Id="rId4" Type="http://schemas.openxmlformats.org/officeDocument/2006/relationships/hyperlink" Target="http://www.andrew.cmu.edu/course/15-CSAP/" TargetMode="External"/><Relationship Id="rId5" Type="http://schemas.openxmlformats.org/officeDocument/2006/relationships/hyperlink" Target="http://www.andrew.cmu.edu/course/15-CSAP/" TargetMode="External"/><Relationship Id="rId6" Type="http://schemas.openxmlformats.org/officeDocument/2006/relationships/hyperlink" Target="http://www.andrew.cmu.edu/course/15-CSAP/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58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15-200: Advanced Programming / Practicum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n Slater -- Lectur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chool of Computer Scien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hone : x84370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ffice: Wean Hall 511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dslater@andrew.cmu.edu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rse Assista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en Nama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bnaman@andrew.cmu.edu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awn Da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dday@andrew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.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  <a:hlinkClick r:id="rId4"/>
              </a:rPr>
              <a:t>cmu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  <a:hlinkClick r:id="rId5"/>
              </a:rPr>
              <a:t>.edu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ypes of Colle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we are study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ag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ists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tack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Queu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re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will discuss brief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aph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eap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iority Queu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ultiple Implementa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should have studied array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 you will be studying linked lists (and loving it!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are learning that all of the other collections are generally implemented (put together) using either arrays or linked lis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ing our understanding of complexity (Big-O) we will start thinking about which implementations make the most sen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will also see that many of the collections we discuss are already implemented as classes in the Java API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lle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ublic interface Collec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oot interface in the collection hierarchy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Collection represents a group of objects, known as element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haracteristics of Colle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ome are ordered, some no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ome contain duplicates, some no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Java API specifies the behavior of all Collections through the interfa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SDK does not directly implement Collec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t provides more specific implementations as sub-interfac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face typically used to pass collections around for manipula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THIS IS COOL!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19320" y="5791320"/>
            <a:ext cx="2743200" cy="6858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llection hierarchy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1523880"/>
            <a:ext cx="2210040" cy="106704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oll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819520"/>
            <a:ext cx="2057400" cy="6094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819520"/>
            <a:ext cx="2057400" cy="6094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038480"/>
            <a:ext cx="106704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ArrayL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038480"/>
            <a:ext cx="106668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LinkedL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3962520"/>
            <a:ext cx="13716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SortedS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5334120"/>
            <a:ext cx="121932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TreeS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7480" y="5334120"/>
            <a:ext cx="121932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HashS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4" idx="0"/>
            <a:endCxn id="133" idx="3"/>
          </p:cNvCxnSpPr>
          <p:nvPr/>
        </p:nvCxnSpPr>
        <p:spPr>
          <a:xfrm flipV="1">
            <a:off x="2323800" y="2434680"/>
            <a:ext cx="1353240" cy="384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42" name=""/>
          <p:cNvCxnSpPr>
            <a:stCxn id="135" idx="0"/>
            <a:endCxn id="133" idx="5"/>
          </p:cNvCxnSpPr>
          <p:nvPr/>
        </p:nvCxnSpPr>
        <p:spPr>
          <a:xfrm flipH="1" flipV="1">
            <a:off x="5238360" y="2434680"/>
            <a:ext cx="1734480" cy="384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43" name=""/>
          <p:cNvCxnSpPr>
            <a:stCxn id="136" idx="0"/>
            <a:endCxn id="134" idx="4"/>
          </p:cNvCxnSpPr>
          <p:nvPr/>
        </p:nvCxnSpPr>
        <p:spPr>
          <a:xfrm flipV="1">
            <a:off x="1371600" y="3428280"/>
            <a:ext cx="953280" cy="610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44" name=""/>
          <p:cNvCxnSpPr>
            <a:stCxn id="137" idx="0"/>
            <a:endCxn id="134" idx="4"/>
          </p:cNvCxnSpPr>
          <p:nvPr/>
        </p:nvCxnSpPr>
        <p:spPr>
          <a:xfrm flipH="1" flipV="1">
            <a:off x="2323800" y="3428280"/>
            <a:ext cx="1028880" cy="610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45" name=""/>
          <p:cNvCxnSpPr>
            <a:stCxn id="138" idx="0"/>
            <a:endCxn id="135" idx="4"/>
          </p:cNvCxnSpPr>
          <p:nvPr/>
        </p:nvCxnSpPr>
        <p:spPr>
          <a:xfrm flipV="1">
            <a:off x="5638320" y="3428640"/>
            <a:ext cx="1334520" cy="5342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46" name=""/>
          <p:cNvCxnSpPr>
            <a:stCxn id="139" idx="0"/>
            <a:endCxn id="138" idx="4"/>
          </p:cNvCxnSpPr>
          <p:nvPr/>
        </p:nvCxnSpPr>
        <p:spPr>
          <a:xfrm flipV="1">
            <a:off x="5562360" y="4419360"/>
            <a:ext cx="76680" cy="915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47" name=""/>
          <p:cNvCxnSpPr>
            <a:stCxn id="140" idx="0"/>
            <a:endCxn id="135" idx="4"/>
          </p:cNvCxnSpPr>
          <p:nvPr/>
        </p:nvCxnSpPr>
        <p:spPr>
          <a:xfrm flipH="1" flipV="1">
            <a:off x="6971760" y="3428640"/>
            <a:ext cx="1105560" cy="1905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148" name=""/>
          <p:cNvSpPr/>
          <p:nvPr/>
        </p:nvSpPr>
        <p:spPr>
          <a:xfrm>
            <a:off x="1143000" y="1676520"/>
            <a:ext cx="1600200" cy="53316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Ba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1676520"/>
            <a:ext cx="1600200" cy="53316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Multi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6"/>
            <a:endCxn id="133" idx="2"/>
          </p:cNvCxnSpPr>
          <p:nvPr/>
        </p:nvCxnSpPr>
        <p:spPr>
          <a:xfrm>
            <a:off x="2742840" y="1942920"/>
            <a:ext cx="610200" cy="114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1" name=""/>
          <p:cNvCxnSpPr>
            <a:stCxn id="149" idx="2"/>
            <a:endCxn id="133" idx="6"/>
          </p:cNvCxnSpPr>
          <p:nvPr/>
        </p:nvCxnSpPr>
        <p:spPr>
          <a:xfrm flipH="1">
            <a:off x="5562360" y="1942920"/>
            <a:ext cx="1296000" cy="114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1219320" y="5782320"/>
            <a:ext cx="2743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Actually implemented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Java Class Libra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2" idx="0"/>
            <a:endCxn id="136" idx="2"/>
          </p:cNvCxnSpPr>
          <p:nvPr/>
        </p:nvCxnSpPr>
        <p:spPr>
          <a:xfrm flipH="1" flipV="1">
            <a:off x="1370880" y="4494960"/>
            <a:ext cx="1220040" cy="1288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4" name=""/>
          <p:cNvCxnSpPr>
            <a:stCxn id="152" idx="0"/>
            <a:endCxn id="137" idx="2"/>
          </p:cNvCxnSpPr>
          <p:nvPr/>
        </p:nvCxnSpPr>
        <p:spPr>
          <a:xfrm flipV="1">
            <a:off x="2590920" y="4494960"/>
            <a:ext cx="762480" cy="1288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5" name=""/>
          <p:cNvCxnSpPr>
            <a:stCxn id="152" idx="3"/>
            <a:endCxn id="139" idx="2"/>
          </p:cNvCxnSpPr>
          <p:nvPr/>
        </p:nvCxnSpPr>
        <p:spPr>
          <a:xfrm flipV="1">
            <a:off x="3962160" y="5790960"/>
            <a:ext cx="1600920" cy="34344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156" name=""/>
          <p:cNvCxnSpPr>
            <a:endCxn id="140" idx="2"/>
          </p:cNvCxnSpPr>
          <p:nvPr/>
        </p:nvCxnSpPr>
        <p:spPr>
          <a:xfrm flipV="1">
            <a:off x="3962520" y="5790960"/>
            <a:ext cx="4115520" cy="381600"/>
          </a:xfrm>
          <a:prstGeom prst="bentConnector2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llection: a Ba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ag collection is a container that holds a collection of things that we place into it (Se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g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ntArrayBag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ag can be used by any program to store a collection of items for its own u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elements in a bag are unorder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ir may be multiple instances of the same val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ag is actually a MultiS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The conceptual view of a bag collection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43956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The operations on a bag collection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809640" y="121824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(See the Collections Interfa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905120"/>
          <a:ext cx="6934320" cy="4216320"/>
        </p:xfrm>
        <a:graphic>
          <a:graphicData uri="http://schemas.openxmlformats.org/drawingml/2006/table">
            <a:tbl>
              <a:tblPr/>
              <a:tblGrid>
                <a:gridCol w="1752840"/>
                <a:gridCol w="51814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ad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Add a single element to the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add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Add a Bag to this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Empties the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contai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Determines if element is in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contains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Determines if all elements of a Bag is in this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isEmp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Determines if there are any elements in the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remo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Removes an element from this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remove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Removes all elements found in other Bag from this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si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Determines number of elements in this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gra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Returns a random element from this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Iter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Returns an iterator for this B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932"/>
                      </a:solidFill>
                    </a:lnL>
                    <a:lnR w="5760">
                      <a:solidFill>
                        <a:srgbClr val="001932"/>
                      </a:solidFill>
                    </a:lnR>
                    <a:lnT w="5760">
                      <a:solidFill>
                        <a:srgbClr val="001932"/>
                      </a:solidFill>
                    </a:lnT>
                    <a:lnB w="5760">
                      <a:solidFill>
                        <a:srgbClr val="001932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se of the term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nterfac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in Java can be confus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Dictionary definition, Object-Oriented Programming definition, Java reserved word for a special type of 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ictionary defin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system of devices, or mechanisms, or behaviors that enable two entities to interact with each oth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 vending machine or automobil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 diplomat folloing an agrred upon protocol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bject-Oriented Programming defin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n objects interface: those methods and data elements that can be used to communicate with and / or manipulate an objec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public members (constants and methods) of a 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API (Application Programmers 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Interface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) is a collection of interfaces for the Java Class Library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0FC-E05A-4D7E-9577-D9F0C13B37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Impact"/>
              </a:rPr>
              <a:t>Vending Machine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class interfa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interface VendingMachine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boolean isEmpty();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void refill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void fill(int numItems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boolean hasChange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String displayItems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boolean insertMoney(double value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Object selectItem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double makeChange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void cancelTransaction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this is all users need to know (with documentation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about a class in order to use i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 Java interfa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Java interface is a class that contains only constants and method signatures.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It does not have any instance variables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None of the methods are defined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It does not have constructors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It cannot be instantiated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designer of an interface specifies the behavior of an object that implements the interfac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user of an interface defines how that behavior is to be implemente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re is a contract between  the designer of the interface and the user of the interface in which all the behaviors will be implemented according to the specification of the design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ll classes that implement an interface have the same behavior, but may be defined differently (with different data structures, for example)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15-200: Course Overview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bject-Oriented Programming (OOP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lgorithm analysi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ata Structur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lle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gramming larger projec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 solving skill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management skill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Impact"/>
              </a:rPr>
              <a:t>Comparable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interfa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mparable interface is defined by the API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is exactly one method compareTo(Object) that will be implemented by any class that implements Compar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lass may define is own compareTo() method without implementing Compar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ut by implementing Comparable, a contract is signed indicating to users of the class that compareTo(Object) will behave in a reasonable way, according to specifica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mpar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emo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tra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Review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ning Sessions on Graphic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ampu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frastructur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ctures in 7500 (at least to sta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5419 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citation at 4:30 p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vening open hours from 7:00 pm to 10:30 p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xplore possible afternoon hours from 3:00 to 4:30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cintosh comput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ay bring your own laptop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ireless network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places to wor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rom your roo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ther campus clusters (may or may not have Eclipse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arn to use the andrew network file syst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How to be Successful in this Cours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ttend class, attend recit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 the homewor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 the labs (programming assignment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y are designed to help you learn how to use the concepts covered in the text and discussed during lectur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tart the labs early, programming assignments ALWAYS take longer than you think they wil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material in each session builds on the material from the previous sess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ognize that 70% of your grade is based on the exa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urse Web Sit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http://www.cmu.edu/blackboard/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log in using andrew id and password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irrored at 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http://www.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andrew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  <a:hlinkClick r:id="rId5"/>
              </a:rPr>
              <a:t>cmu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  <a:hlinkClick r:id="rId6"/>
              </a:rPr>
              <a:t>.edu/course/15-CSAP/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Impact"/>
              </a:rPr>
              <a:t>Announcements: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ll important updates about the course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Impact"/>
              </a:rPr>
              <a:t>Course Information: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Syllabus and course polici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Impact"/>
              </a:rPr>
              <a:t>Staff Information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ffff99"/>
                </a:solidFill>
                <a:latin typeface="Impact"/>
              </a:rPr>
              <a:t>Communication: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tact information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Impact"/>
              </a:rPr>
              <a:t>Assignments: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Links to labs and homework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Impact"/>
              </a:rPr>
              <a:t>Course Documents: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ectures and demo cod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Impact"/>
              </a:rPr>
              <a:t>External Links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Extra support material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grams and Model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most all computer programs model some artifa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Artifac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product of civilization, either concrete or abstract, simple or complex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ode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simplified representation of somet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t includes features that are considered importa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eglects other features not considered importa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racteristics of a mod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lements of the model represent other, more complex thing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del elements exhibit consistent behavi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del elements can be grouped into different categories, depending on their behavio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ctions external to the model element cause the behavior of the model el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bject-Oriented Programm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programming language using an object-oriented programming approach to model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model is defined as a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programs use multiple instances of different models or classes to solve a problem or perform a tas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se multiple instances are known as objec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-Oriented Programming (OOP), then, is the process of solving problems or performing tasks with multiple, interacting object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lle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four broad categories of colle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inear (strings, lists, stacks, queues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ierarchical (trees or various types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aphs (directed, undirected, weighted, and unweighted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nordered (sets, bags, maps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llections ar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group of items we wish to treat as a conceptual uni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very non-trivial piece of software involves the use of colle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rrays are the most common and fundamental type of colle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ynamic structures are secon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ut more typically, arrays and dynamic structures are used to implement other colle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31E-6BEA-46BF-9E34-2F04C8A422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Don Slater</cp:lastModifiedBy>
  <cp:lastPrinted>2005-06-24T19:04:28Z</cp:lastPrinted>
  <dcterms:modified xsi:type="dcterms:W3CDTF">2005-06-27T03:16:17Z</dcterms:modified>
  <cp:revision>50</cp:revision>
  <dc:subject/>
  <dc:title>Chapter 2:  Using Objects </dc:title>
</cp:coreProperties>
</file>