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6069-B9E3-4915-B20A-308E5429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0AB3-60CD-4EA2-AB25-B32C2644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A22-0729-4224-A7A0-A1FE56CE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CDA-3DC1-425C-A901-36C2D750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0355-4679-44EE-A1C4-9F2D13FD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9BBE-55EB-4B38-B0A5-2BE260D8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7158-3E11-4C2D-A974-04DF9D61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D8E6-24E3-4748-930F-2B74E64C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710C-29A9-45A3-B9C1-6B3E4A0E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CF64-0E7C-4FA2-911A-1C7DA47D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94DC-54A5-44C0-A2F6-32C52D2F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E437-67C0-497E-9A82-3D937BB6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5133-0330-4760-897A-2324C2E4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EA92-B6ED-44DD-AC6D-B553F4BA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7B92-020D-4F2C-AEA4-E588B229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8C35-C8BB-413E-9C58-E0F0F46E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4729-4389-4EB7-9C9A-9FF660F0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DE88-7A79-4DBB-9A6F-A5F6907E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FF05-70C8-4437-9D4F-419C4B0A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873B-BDA8-431A-9BDE-530B3B17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1E5-B288-4029-B238-72FA0641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928E-36DE-42D3-97FF-58250B27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8CF-691A-4852-959A-F064A96D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3356-AFD3-446E-825A-5918E86A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81080" y="4572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2" name="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6" name="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32C1-9A12-4B5A-8015-14EBB915D4A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7" name="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2" name="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8DC1-F40E-4A49-84D4-AE4FF40EF7D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ndrew.cmu.edu/course/15-CSAP/15-100/examples/KarelStairs.zip" TargetMode="External"/><Relationship Id="rId2" Type="http://schemas.openxmlformats.org/officeDocument/2006/relationships/hyperlink" Target="http://www.andrew.cmu.edu/course/15-CSAP/15-100/examples/KarelStairs.zip" TargetMode="External"/><Relationship Id="rId3" Type="http://schemas.openxmlformats.org/officeDocument/2006/relationships/hyperlink" Target="http://www.andrew.cmu.edu/course/15-CSAP/15-100/examples/KarelStairs.zip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reating Class Behavio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the Robot world 1 mile = 8 block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ppose we want a robot to run a marathon (26+ miles)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es our program have to have (26+) * 8 move() statements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ouldn’t it be nice to tell a robot to run a marath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Karel.runMarathon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ain Clas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class Main 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implements Directions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public static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void </a:t>
            </a:r>
            <a:r>
              <a:rPr b="0" lang="en-US" sz="1600" spc="-1" strike="noStrike">
                <a:solidFill>
                  <a:srgbClr val="ffff99"/>
                </a:solidFill>
                <a:latin typeface="Courier New"/>
              </a:rPr>
              <a:t>task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() 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Stair_Sweeper Karel = new Stair_Sweeper(1, 1, East, 0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Karel.climbStair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Karel.pickBeeper();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// other instructions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…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Karel.turnOff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// Main entry point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static public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void</a:t>
            </a:r>
            <a:r>
              <a:rPr b="0" lang="en-US" sz="1600" spc="-1" strike="noStrike">
                <a:solidFill>
                  <a:srgbClr val="ffff99"/>
                </a:solidFill>
                <a:latin typeface="Courier New"/>
              </a:rPr>
              <a:t> main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(String[] args) 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World.setDelay(20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World.readWorld("stairs.txt"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task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Class Header: Main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class Application implements Directions 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// details of the class specification here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ame of class will be same as the name of the file, with a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.jav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uffix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is class is contained in the file </a:t>
            </a:r>
            <a:r>
              <a:rPr b="0" lang="en-US" sz="2400" spc="-1" strike="noStrike">
                <a:solidFill>
                  <a:srgbClr val="ffff99"/>
                </a:solidFill>
                <a:latin typeface="Courier New"/>
              </a:rPr>
              <a:t>Main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apitalization coun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irection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an interface that is is implemented by Mai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 other words Main fleshes out the details of Direct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ain has the remaining details specific to the particular task the robot has to perfor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StairSweeper clas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class 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Stair_Sweeper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extends Robot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// constructor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public 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Stair_Sweeper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(int street, int avenue,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Directions.Direction dir, int count)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{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uper(street, avenue, dir, count);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//method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public void 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turnRight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()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turnLeft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turnLeft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turnLeft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public void 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climbStair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()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turnLeft();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move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turnRight();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move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Class header: StairSweeper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class 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Stair_Sweeper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extends Robot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ame of class will be same as the name of the file, with a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.jav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uffix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is class is specified in the file </a:t>
            </a:r>
            <a:r>
              <a:rPr b="0" lang="en-US" sz="2400" spc="-1" strike="noStrike">
                <a:solidFill>
                  <a:srgbClr val="ffff99"/>
                </a:solidFill>
                <a:latin typeface="Courier New"/>
              </a:rPr>
              <a:t>StairSweeper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StairSweeper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obot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inherit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formation and extends the capabilities of the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Robo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robo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verything a Robot can do, a StairSweeper can do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ove(), turnLeft(), pickBeeper(), putBeeper(), turnOff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ut a StairSweeper will be able to do more (have more features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Constructing a new robot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public </a:t>
            </a:r>
            <a:r>
              <a:rPr b="0" lang="en-US" sz="1600" spc="-1" strike="noStrike">
                <a:solidFill>
                  <a:srgbClr val="ffff99"/>
                </a:solidFill>
                <a:latin typeface="Courier New"/>
              </a:rPr>
              <a:t>Stair_Sweeper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(int street, int avenue, 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Directions.direction dir, int count) 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super(street, avenue, dir, count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specifies how a robot is to be construc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o back and look at the </a:t>
            </a:r>
            <a:r>
              <a:rPr b="0" lang="en-US" sz="2000" spc="-1" strike="noStrike">
                <a:solidFill>
                  <a:srgbClr val="ffff99"/>
                </a:solidFill>
                <a:latin typeface="Courier New"/>
              </a:rPr>
              <a:t>main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e instruction 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new Stair_Sweeper(1, 1, East, 0);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 is using this method, known as a constructor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We are specifying location, direction, and number of beepers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 constructor has the same name as the clas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super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keyword is indicating that this object is to be built the same way as its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parent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Robo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Our robot constructors will always look like this at the beginning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New robot method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7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public void </a:t>
            </a:r>
            <a:r>
              <a:rPr b="0" lang="en-US" sz="1600" spc="-1" strike="noStrike">
                <a:solidFill>
                  <a:srgbClr val="ffff99"/>
                </a:solidFill>
                <a:latin typeface="Courier New"/>
              </a:rPr>
              <a:t>turnRight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() 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turnLeft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turnLeft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turnLeft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public void </a:t>
            </a:r>
            <a:r>
              <a:rPr b="0" lang="en-US" sz="1600" spc="-1" strike="noStrike">
                <a:solidFill>
                  <a:srgbClr val="ffff99"/>
                </a:solidFill>
                <a:latin typeface="Courier New"/>
              </a:rPr>
              <a:t>climbStair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() 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turnLeft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move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turnRight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move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41640" y="1266840"/>
            <a:ext cx="4073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is a modifier letting us know that we can access this method from outside the class (in 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main()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for example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Notice that 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climbStair()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can use 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turnRight()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as part of its definitio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e method headers are known as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signatures (name and paramter list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ll of the signatures of a class are known as the class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interface or API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Interface vs. interface?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Advantages of building new robot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ructure problem solu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grams become easier to understand and rea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ead to fewer errors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nable future modific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bugging programs is easi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ew instructions can be tested independently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ew instructions impose structure, which makes it easier to find bug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nditional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ow do we solve tasks in which every particular of a task is not specifically known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 robot needs the ability to survey its immediate environment and make decisions about what to do nex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and the 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IF/ELSE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provide robots with decision making abilitie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obot programs contain several different kinds of instruc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Messages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to robots, either primitives or new instruct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onstructors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(specifications on how to build a robot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ontrol statements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99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ffff99"/>
                </a:solidFill>
                <a:latin typeface="Courier New"/>
              </a:rPr>
              <a:t>IF/ELSE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are the first examples of thes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ccffff"/>
                </a:solidFill>
                <a:latin typeface="Courier New"/>
              </a:rPr>
              <a:t>IF</a:t>
            </a: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 instruc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eneral for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f ( &lt;test&gt; 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instruction-list&gt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Robot determines whether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test&gt;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is true or false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instruction-list&gt;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is a sequence of any valid robot commands that will be performed when the robot determines the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test&gt;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is true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Nothing will happen when the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test&gt;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is false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xample of IF state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// in a method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 // in a main task block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if (nextToABeeper())  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 if (Karel.nextToABeeper())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{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  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pickBeeper();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Karel.pickBeeper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  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turnLeft();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 Karel.turnLeft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beeper will be picked up only if there is a beeper on the same corner as the robo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ependent upon the results of the tes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robot will turn left, regardless of whether a beeper is on the corner or no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dependent of the results of the tes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Building a Marathon-Running Robo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et us build a robot to run a marath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f we define a </a:t>
            </a:r>
            <a:r>
              <a:rPr b="0" lang="en-US" sz="2000" spc="-1" strike="noStrike">
                <a:solidFill>
                  <a:srgbClr val="ffff99"/>
                </a:solidFill>
                <a:latin typeface="Courier New"/>
              </a:rPr>
              <a:t>moveMile(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behavior as eight </a:t>
            </a:r>
            <a:r>
              <a:rPr b="0" lang="en-US" sz="2000" spc="-1" strike="noStrike">
                <a:solidFill>
                  <a:srgbClr val="ffff99"/>
                </a:solidFill>
                <a:latin typeface="Courier New"/>
              </a:rPr>
              <a:t>move(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messag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e can reduce the size of our program by (26+) * 8 / 8 or down to 26+ instruct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n we do better than these 26 instructions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e can specify as many behaviors as we need for a class of robo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an we think of other behaviors to further simplify the problem?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AS – A relationship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arathon Robot HAS A move mile behavior or characteristic (that is different from a ur-Robot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nditions that a robot can tes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class Robot extends Robo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oolean frontIsClear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oolean nextToABeeper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oolean nextToARobot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oolean facingNorth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oolean facingSouth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oolean facingEast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oolean facingWest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oolean anyBeepersInBeeperBag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oolean isVisible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// notice we are checking the state of the robot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// we can also use accessors to build our own tests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Negative conditions?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ppose we want a negative form of a predicate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an precede a predicate with the negative operator </a:t>
            </a:r>
            <a:r>
              <a:rPr b="0" lang="en-US" sz="2400" spc="-1" strike="noStrike">
                <a:solidFill>
                  <a:srgbClr val="ffff99"/>
                </a:solidFill>
                <a:latin typeface="Courier New"/>
              </a:rPr>
              <a:t>!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if (! Karel.next-To-A-Beeper()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// stuff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For practice – two method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public void faceNorth()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public void faceNorthIfFacingSouth()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ccffff"/>
                </a:solidFill>
                <a:latin typeface="Courier New"/>
              </a:rPr>
              <a:t>IF/ELSE</a:t>
            </a: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 instruc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eneral for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f ( &lt;test&gt; ) {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note lack of semicolon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instruction-list-1&gt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 else {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note lack of semicolon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instruction-list-2&gt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obot determines whether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&lt;test&gt;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is true or fals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&lt;instruction-list-1&gt;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is a sequence of any valid robot commands that will execute when the robot determines the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&lt;test&gt;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is tru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&lt;instruction-list-2&gt;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will execute when the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&lt;test&gt;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is fals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acer Robo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hurdle jumping ra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robot will run a mile. The course may or may not have an obstacle (wall) in the path. If the robot encounters a wall, it will go around (hurdle) the wall. Otherwise it will continue on it’s path…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wnloa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printer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mo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Nested </a:t>
            </a:r>
            <a:r>
              <a:rPr b="0" lang="en-US" sz="3600" spc="-1" strike="noStrike">
                <a:solidFill>
                  <a:srgbClr val="ccffff"/>
                </a:solidFill>
                <a:latin typeface="Courier New"/>
              </a:rPr>
              <a:t>IF</a:t>
            </a: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 Instruc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ritten with an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struction nested inside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HE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use of another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IF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s an exampl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f ( &lt;test&gt; ) {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if ( &lt;test&gt; ) {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&lt;instruction-list-1&gt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} else {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&lt;instruction-list-2&gt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 else {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instruction-list-2&gt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New predicate instruc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ould create a new subclass of the robot class and provide a new predicate metho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class myRobot extends Robo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{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assume constructor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boolean frontIsBlocked(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return ! frontIsCLear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more stuff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Use of the new predicat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public static void main(String [] args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myRobot R = new myRobot(1, 1, North, 0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if (R.frontIsBlocked()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// stuff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// and so 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Walls to the right or left?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ppose we needed to determine if there is a wall to the right or left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public boolean leftIsClear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turnLeft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if (frontIsClear())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turnRight();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// assume definition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return true; // method terminates here 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turnRight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return false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tatement immediately terminates the metho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When to Use an </a:t>
            </a:r>
            <a:r>
              <a:rPr b="0" lang="en-US" sz="3600" spc="-1" strike="noStrike">
                <a:solidFill>
                  <a:srgbClr val="ccffff"/>
                </a:solidFill>
                <a:latin typeface="Courier New"/>
              </a:rPr>
              <a:t>IF</a:t>
            </a: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 Instruc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struction allows a robot to decide whether to execute or skip entirely the block of instructions within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HE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u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IF/ELS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struction allows a robot to decide whether to execute or skip the block of instructions within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HE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use or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u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esting these instructions allows robots to make more complex choic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efining New Classes of Robo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build a new class of robots, we include a class specification in a new file of our progra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general form of this specification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class &lt;new-class-name&gt; extends &lt;old-class-name&gt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list-of-new-methods&gt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Loop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We have already seen instances where a robot needs to repeat instructions to perform a task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urnRight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oveMile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defining new instructions we can minimize repetitive instruc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unMarathon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Loops for known number of repeti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 are times when you know how many times an instruction needs to be repeated…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urnRight() is always 3 left tur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oveMile() is always 8 moves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etho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urnRight(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with a loop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turnRight()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for (int count = 0; count &lt; 3; count++)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turnLeft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FOR loop: General form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for (int count = 0; count &lt; 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&lt;numberOfTimes&gt;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; count++) 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&lt;instruction-list&gt;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int count: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count is the name of a variable that stores </a:t>
            </a:r>
            <a:r>
              <a:rPr b="1" lang="en-US" sz="1800" spc="-1" strike="noStrike" u="sng">
                <a:solidFill>
                  <a:srgbClr val="ffff99"/>
                </a:solidFill>
                <a:uFillTx/>
                <a:latin typeface="Times New Roman"/>
              </a:rPr>
              <a:t>int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egers (whole numbers); it’s initial value is 0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count &lt; </a:t>
            </a:r>
            <a:r>
              <a:rPr b="0" i="1" lang="en-US" sz="1800" spc="-1" strike="noStrike">
                <a:solidFill>
                  <a:srgbClr val="ffff99"/>
                </a:solidFill>
                <a:latin typeface="Courier New"/>
              </a:rPr>
              <a:t>&lt;numberOfTimes&gt;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 :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s long as the current value of </a:t>
            </a:r>
            <a:r>
              <a:rPr b="1" i="1" lang="en-US" sz="1800" spc="-1" strike="noStrike">
                <a:solidFill>
                  <a:srgbClr val="ffff99"/>
                </a:solidFill>
                <a:latin typeface="Times New Roman"/>
              </a:rPr>
              <a:t>count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is less than the number of loops we want, we keep looping;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count will be equal to the number of loops we wanted when the loop is finished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count++: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we increment (add 1 to) the value of coun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Courier New"/>
              </a:rPr>
              <a:t>&lt;instructions&gt;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: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ny valid robot instructions, including other loop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FOR loop: What does this do?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void whatDoIDo() {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for (int count = 0; count &lt; 4; count++) {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for (int count2 = 0; count2 &lt; 6; count2++) {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move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}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turnLeft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n unknown number of repeti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ppose we know we want a robot to repeat a series of instructions, but we do not know how many times…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ask: There is a beeper somewhere on the same street in front of the robot, but we do not know exactly where… How does the robot find the beeper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OR loop requires an upper limit (and there is no guarantee the beeper will fall within the range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F statements are a one-time execute statemen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e need something to combine the testing ability of the IF statement with the iteration of a FOR loop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WHILE loop: General form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while ( 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&lt;test&gt;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) 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&lt;instruction-list&gt;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served word </a:t>
            </a:r>
            <a:r>
              <a:rPr b="0" lang="en-US" sz="2400" spc="-1" strike="noStrike">
                <a:solidFill>
                  <a:srgbClr val="ffff99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rts the instruction, parentheses enclose the </a:t>
            </a:r>
            <a:r>
              <a:rPr b="1" i="1" lang="en-US" sz="2400" spc="-1" strike="noStrike">
                <a:solidFill>
                  <a:srgbClr val="ffff99"/>
                </a:solidFill>
                <a:latin typeface="Courier New"/>
              </a:rPr>
              <a:t>&lt;test&gt;</a:t>
            </a:r>
            <a:r>
              <a:rPr b="0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and braces enclose the </a:t>
            </a:r>
            <a:r>
              <a:rPr b="1" i="1" lang="en-US" sz="2400" spc="-1" strike="noStrike">
                <a:solidFill>
                  <a:srgbClr val="ffff99"/>
                </a:solidFill>
                <a:latin typeface="Courier New"/>
              </a:rPr>
              <a:t>&lt;instruction-list&gt;;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 the usual wa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urier New"/>
              </a:rPr>
              <a:t>&lt;test&gt;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:</a:t>
            </a:r>
            <a:r>
              <a:rPr b="0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The same conditions used in the IF instruct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A robot starts the loop by checking the </a:t>
            </a:r>
            <a:r>
              <a:rPr b="1" i="1" lang="en-US" sz="2400" spc="-1" strike="noStrike">
                <a:solidFill>
                  <a:srgbClr val="ffff99"/>
                </a:solidFill>
                <a:latin typeface="Courier New"/>
              </a:rPr>
              <a:t>&lt;test&gt;</a:t>
            </a:r>
            <a:r>
              <a:rPr b="0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in it’s current situa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f TRUE, the robot executes the 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&lt;instruction-list&gt;;</a:t>
            </a:r>
            <a:r>
              <a:rPr b="0" i="1" lang="en-US" sz="18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nd rechecks the situa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f FALSE, the robot executes instructions that follow the WHILE loop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WHILE loop: find the beeper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class BeeperFinder extends Robot {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// usual constructo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// assumes no intervening wall segmen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void findBeeper() {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while (! nextToABeeper()) {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move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WHILE loop: Clear a corner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robot is on a corner that may or may not have beepers on it. The robot is to make sure that the corner is clear of all beepe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// fill in the blank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void clearCorner() {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while ( _____________________) {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_____________________;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When to use repeating instruc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84" name="Ch516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67086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Random Walk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393560"/>
            <a:ext cx="83059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 random walk is a model built on mathematical and physical concepts that is used to explain how molecules move in a closed space.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an be used as the basis for several mathematical models that predict stock market price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Owen Astrachan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A Computer Science Tapestry”, Chapter 7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McGraw Hill, New York, 1997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pecification Detail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served Words and symbol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clas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extend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braces { 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must replace the elements in angle brackets &lt; &gt; appropriately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new-class-name&gt;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what do we call this new type of robot?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old-class-name&gt;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what old robot to add features to?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list-of-new-methods&gt;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list of new feature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Random 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Walks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We will use random walks as a way to further our understanding of the use and development of classe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We will look at a random walk in Karel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is will coincide with moving from a one-dimensional random walk with a single object, to two objects walking in the same environment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arel provides a graphical interface in our exploration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A Random Walk with Kare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456920"/>
            <a:ext cx="83073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ee RandomWalker Demo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This application will tell us in a walk of </a:t>
            </a:r>
            <a:r>
              <a:rPr b="1" i="1" lang="en-US" sz="3200" spc="-1" strike="noStrike">
                <a:solidFill>
                  <a:srgbClr val="ffff99"/>
                </a:solidFill>
                <a:latin typeface="Times New Roman"/>
              </a:rPr>
              <a:t>50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steps, how far a Robot will end up from origin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Impact"/>
              </a:rPr>
              <a:t>Two-D Robots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93560"/>
            <a:ext cx="830736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Suppose we wanted to track our robots in two-dimensional space, what changes do we have to make:</a:t>
            </a: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To Main.java program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To RandomWalker.java)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Do we need another class?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wo Robots Walk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393560"/>
            <a:ext cx="83059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i="1" lang="en-US" sz="3200" spc="-1" strike="noStrike">
                <a:solidFill>
                  <a:srgbClr val="ffff99"/>
                </a:solidFill>
                <a:latin typeface="Times New Roman"/>
              </a:rPr>
              <a:t>CountWalker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project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uppose we wanted to track two robots in the same space, and see how many times they collide?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Remember, a random walk is a model ... that is used to explain how molecules move in a closed space, among other thing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wo Robots Walk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is presents a special problem: It is very difficult for an object of one class to be “aware” of a specific object of another class…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You can pass one object of a class to another object of a class, but it is a very difficult for the receiving object to know that the sent object is a specific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best solution is to create a superclass or reporting class that can keep track of the sub-classes activities; in our case, we could create a “pond” class that could watch our robots, and report on the number of times they collid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ould do this, but not at this time; we will come back to this issue later in the cour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inilab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393560"/>
            <a:ext cx="83059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se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andomWalk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to solve these problem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Prompt the user for a location. Report the number of steps the robot takes until it reaches that position.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Given a maximum number of steps from the user, report the number of collisions of two robots in a two dimensional space…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Right now, a 2D robot can move in only a north, south, east, or west direction with each step. Modify the class so that a 2D robot could move along 8 possible compass points, including, northeast, southeast, southwest, and northwest (in other words, move diagonally from it’s current position)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Play hide and seek with other robots using visibility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imulating Board Gam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RobotChutesLadders using GamePiece interface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y Uncle Wiggly, Parcheesi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Naming Thing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developing the names for robots and new metho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ny uppercase and lowercase letters {A..Z, a..z}, digits {0..9}, and underscore { _ } can be us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unique name to the progra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oes not match any reserved word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ust begin with a lette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ypically upper case for a clas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lower case for a method or instructio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pecifying a Marathon Robo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class MarathonRobot extends Robo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moveMile(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instructions omitted for now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other instruction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xtends Robot?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class MarathonRobot </a:t>
            </a:r>
            <a:r>
              <a:rPr b="0" lang="en-US" sz="2000" spc="-1" strike="noStrike">
                <a:solidFill>
                  <a:srgbClr val="ffff99"/>
                </a:solidFill>
                <a:latin typeface="Courier New"/>
              </a:rPr>
              <a:t>extends Robot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we indicate the MarathonRobot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inherits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all the capabilities of the Robot clas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 other words MarathonRobot knows all about move(), turnLeft(), pickBeeper(), putBeeper(), and shutOff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Robot is the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class of MarathonRobot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MarathonRobot is a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rived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class of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Robot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S-A relationship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arathonRobot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IS A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ur-Robo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Defining new methods in a program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"/>
              </a:rPr>
              <a:t>Download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"/>
              </a:rPr>
              <a:t>Stair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3"/>
              </a:rPr>
              <a:t>SweeperDem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Verify this program is correct by tracing the code before running i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23" name="Ch31" descr=""/>
          <p:cNvPicPr/>
          <p:nvPr/>
        </p:nvPicPr>
        <p:blipFill>
          <a:blip r:embed="rId4"/>
          <a:stretch/>
        </p:blipFill>
        <p:spPr>
          <a:xfrm>
            <a:off x="1523880" y="3581280"/>
            <a:ext cx="64008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Robot Program Format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use at least two files in creating new robots and robot metho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Main Class file which is where the robot is constructed and given its task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Main Class is defined, the world is accessed, the speed is se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robot is constructed and receives its task instructions in the </a:t>
            </a:r>
            <a:r>
              <a:rPr b="0" lang="en-US" sz="2000" spc="-1" strike="noStrike">
                <a:solidFill>
                  <a:srgbClr val="ffff99"/>
                </a:solidFill>
                <a:latin typeface="Courier New"/>
              </a:rPr>
              <a:t>task(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metho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second file contains the description of the new robot, and the definition of its method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constructor which describes how we build the robo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nd the definitions of the new instruct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3:34:49Z</dcterms:created>
  <dc:creator>Don Slater</dc:creator>
  <dc:description/>
  <dc:language>en-US</dc:language>
  <cp:lastModifiedBy>Don Slater</cp:lastModifiedBy>
  <dcterms:modified xsi:type="dcterms:W3CDTF">2003-06-21T18:59:51Z</dcterms:modified>
  <cp:revision>24</cp:revision>
  <dc:subject/>
  <dc:title>Programs and Models</dc:title>
</cp:coreProperties>
</file>