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09FD-AB70-4A57-9599-3F786C7B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CD06-21E5-4C04-9156-335DFF37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F897-342D-44C5-85BD-B145EF1E5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C36D-F673-4FF6-B934-550E39DF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A1AB-46B2-4F22-971B-CEE9635F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A89A-2866-407D-8F75-14CEAA32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B14C-CA74-41E4-BC27-958EA826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76D3-42CC-4C59-A597-05DAA8E6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816C-E6CF-4C2C-93C4-9A6DF0BE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D108-D683-486F-AC7C-0CFE8932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748C-58BC-4714-B440-26528A91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02F7-CE8E-404E-9A33-DCB49173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5BA7-9484-4B77-9FFD-9B785A1C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C321-91B0-408F-B9AA-0AEA648A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2F7F-99A8-4A47-926C-56D82E6F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8293-D073-447D-8125-CA5C6D10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CB46-7590-44D0-999D-509A0BC7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1B1F-97E4-4471-83A6-00032689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F282-B8E8-44B4-8A4E-F5ABB9A3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5E08-CB3A-42C1-A2AC-50F41CBB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B36F-8708-498B-91AC-07931673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FE8-FD0D-4E91-8CD7-DA23D56E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6F52-0C42-432C-80F2-A13F7B0D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8E5F-E13A-4B35-9FCE-B6FAAD87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179D-98BE-4170-B019-2D8C8E53C12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5BC8-00F7-4423-B4AB-5C535EDB1AE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ig-Oh and AP Computer Science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udy Hromcik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rlington High Schoo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ig-Oh and the Java Subset Class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erat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shS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ee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sNext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xt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*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ove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log 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*first call is O(log n) – O(1) amoritiz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ig-Oh and PriorityQueue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andard Min-Heap implement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orityQueu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ndom/Descending    Ascend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log n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oveMin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log n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log 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ekMin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Empty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g-Oh and Queue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eu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List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nkedL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queue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queue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n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ekFront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Empty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g-Oh and Stac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c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List*    LinkedL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sh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p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ekTop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Empty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*adding and removing at end of ArrayLi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g-Oh and Free Respon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B-1(part c): A library is a collection of library items and supports the following operation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Add a library item to the library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Check out a library item by specifying its ID and new holder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Determine the current holder of a library item, given its ID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sider the following incomplete class declaration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public class Librar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private 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SomeClass 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items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public Library(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{ /* implementation not shown */ 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public void add(LibraryItem theItem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{ /* implementation not shown */ 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public void checkout(String id, String holder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{ /* implementation not shown */ 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public String getHolder(String id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{ /* implementation not shown */ 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g-Oh and Free Respon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2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hoose a data representation for </a:t>
            </a: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SomeClass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rom the </a:t>
            </a: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java.util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ass librar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hat allows the operations add, checkout, and getHolder to be performed efficiently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n doing so, you must explain how you are using your chosen java.util class t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organize your data and give the expected Big-Oh running time for each of thes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hree operations in terms of n, the number of items in the library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data representation (Circle one)    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How data is organiz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rrayList 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LinkedLis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ashMap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reeMap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ashSet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reeSe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Operations Expected Big-Oh efficienc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d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heckou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getHold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g-Oh and Free Respon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AB–2:(part b) Write the </a:t>
            </a:r>
            <a:r>
              <a:rPr b="0" lang="en-US" sz="1000" spc="-1" strike="noStrike">
                <a:solidFill>
                  <a:srgbClr val="003366"/>
                </a:solidFill>
                <a:latin typeface="Courier New"/>
              </a:rPr>
              <a:t>VoterBallots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method </a:t>
            </a:r>
            <a:r>
              <a:rPr b="0" lang="en-US" sz="1000" spc="-1" strike="noStrike">
                <a:solidFill>
                  <a:srgbClr val="003366"/>
                </a:solidFill>
                <a:latin typeface="Courier New"/>
              </a:rPr>
              <a:t>candidatesWithMost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. Method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ourier New"/>
              </a:rPr>
              <a:t>candidatesWithMost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returns a </a:t>
            </a:r>
            <a:r>
              <a:rPr b="0" lang="en-US" sz="1000" spc="-1" strike="noStrike">
                <a:solidFill>
                  <a:srgbClr val="003366"/>
                </a:solidFill>
                <a:latin typeface="Courier New"/>
              </a:rPr>
              <a:t>Set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of the name(s) of the candidate(s) in </a:t>
            </a:r>
            <a:r>
              <a:rPr b="0" lang="en-US" sz="1000" spc="-1" strike="noStrike">
                <a:solidFill>
                  <a:srgbClr val="003366"/>
                </a:solidFill>
                <a:latin typeface="Courier New"/>
              </a:rPr>
              <a:t>voteCount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with th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most votes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In writing method </a:t>
            </a:r>
            <a:r>
              <a:rPr b="0" lang="en-US" sz="1000" spc="-1" strike="noStrike">
                <a:solidFill>
                  <a:srgbClr val="003366"/>
                </a:solidFill>
                <a:latin typeface="Courier New"/>
              </a:rPr>
              <a:t>candidatesWithMost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, you may call the private helper method </a:t>
            </a:r>
            <a:r>
              <a:rPr b="0" lang="en-US" sz="1000" spc="-1" strike="noStrike">
                <a:solidFill>
                  <a:srgbClr val="003366"/>
                </a:solidFill>
                <a:latin typeface="Courier New"/>
              </a:rPr>
              <a:t>maxVotes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olutions that reimplement functionality provided by </a:t>
            </a:r>
            <a:r>
              <a:rPr b="0" lang="en-US" sz="1000" spc="-1" strike="noStrike">
                <a:solidFill>
                  <a:srgbClr val="003366"/>
                </a:solidFill>
                <a:latin typeface="Courier New"/>
              </a:rPr>
              <a:t>maxVotes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, rather than invoking </a:t>
            </a:r>
            <a:r>
              <a:rPr b="0" lang="en-US" sz="1000" spc="-1" strike="noStrike">
                <a:solidFill>
                  <a:srgbClr val="003366"/>
                </a:solidFill>
                <a:latin typeface="Courier New"/>
              </a:rPr>
              <a:t>maxVotes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,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will not receive full credit. A solution that creates an unnecessary new instance of a </a:t>
            </a:r>
            <a:r>
              <a:rPr b="0" lang="en-US" sz="1000" spc="-1" strike="noStrike">
                <a:solidFill>
                  <a:srgbClr val="003366"/>
                </a:solidFill>
                <a:latin typeface="Courier New"/>
              </a:rPr>
              <a:t>List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1000" spc="-1" strike="noStrike">
                <a:solidFill>
                  <a:srgbClr val="003366"/>
                </a:solidFill>
                <a:latin typeface="Courier New"/>
              </a:rPr>
              <a:t>Set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will not receive full credit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plete method 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candidatesWithMost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below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// postcondition: returns a set containing the candidate(s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// with the most vo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public Set candidatesWithMost(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{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Set s = new HashSet(); </a:t>
            </a:r>
            <a:r>
              <a:rPr b="1" lang="en-US" sz="1200" spc="-1" strike="noStrike">
                <a:solidFill>
                  <a:srgbClr val="666699"/>
                </a:solidFill>
                <a:latin typeface="Courier New"/>
              </a:rPr>
              <a:t>//new TreeSet(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Integer max = maxVotes(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Iterator itr = voteCount.keySet().iterator(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while(itr.hasNext()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Object obj = itr.next(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if(voteCount.get(obj).equals(max)) </a:t>
            </a:r>
            <a:r>
              <a:rPr b="1" lang="en-US" sz="1000" spc="-1" strike="noStrike">
                <a:solidFill>
                  <a:srgbClr val="666699"/>
                </a:solidFill>
                <a:latin typeface="Courier New"/>
              </a:rPr>
              <a:t>//if(voteCount.get(obj).equals(maxVotes())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s.add(obj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return s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g-Oh and Free Respon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B-2:(part c) Assume that there ar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didates and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oters. What is the expected time complexity, in Big-O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tation in terms of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for your implementation o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thod </a:t>
            </a: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candidatesWithMo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917640" y="4191120"/>
          <a:ext cx="5770440" cy="2344680"/>
        </p:xfrm>
        <a:graphic>
          <a:graphicData uri="http://schemas.openxmlformats.org/drawingml/2006/table">
            <a:tbl>
              <a:tblPr/>
              <a:tblGrid>
                <a:gridCol w="1923840"/>
                <a:gridCol w="1922760"/>
                <a:gridCol w="1923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sing max in loop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eeMap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ashMap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eeSe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(c log c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(c log c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ashSe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(c log c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(c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g-Oh and Free Respon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B-2:(part c) Assume that there ar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didates and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oters. What is the expected time complexity, in Big-O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tation in terms of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for your implementation o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thod </a:t>
            </a: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candidatesWithMo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17640" y="4191120"/>
          <a:ext cx="5770440" cy="2286000"/>
        </p:xfrm>
        <a:graphic>
          <a:graphicData uri="http://schemas.openxmlformats.org/drawingml/2006/table">
            <a:tbl>
              <a:tblPr/>
              <a:tblGrid>
                <a:gridCol w="2206440"/>
                <a:gridCol w="1640160"/>
                <a:gridCol w="192384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sing maxVotes in loop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eeMap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ashMap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eeSe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(( c</a:t>
                      </a:r>
                      <a:r>
                        <a:rPr b="0" lang="en-US" sz="2000" spc="-1" strike="noStrike" baseline="30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log c)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(c</a:t>
                      </a:r>
                      <a:r>
                        <a:rPr b="0" lang="en-US" sz="2400" spc="-1" strike="noStrike" baseline="30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ashSe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(( c</a:t>
                      </a:r>
                      <a:r>
                        <a:rPr b="0" lang="en-US" sz="2000" spc="-1" strike="noStrike" baseline="30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log c)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(c</a:t>
                      </a:r>
                      <a:r>
                        <a:rPr b="0" lang="en-US" sz="2400" spc="-1" strike="noStrike" baseline="30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ig-Oh and the Java Subset Class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L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(index,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(index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t(index,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ove(index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erator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ze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ig-Oh and the Java Subset Class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nkedL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(index,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(index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t(index,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ove(index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erato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ze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ig-Oh and the Java Subset Class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nkedL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First(obj), addLast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First(), getLast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oveFirst(obj), removeLast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ig-Oh and the Java Subset Class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shS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ect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ove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erator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ze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ig-Oh and the Java Subset Class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eeS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ected/Wor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log n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log n)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ove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log n)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erator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ze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ig-Oh and the Java Subset Class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shMap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ect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Key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n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t(key,value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n)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(key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ove(key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eySet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*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ze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(n) 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ll, O(1) subsequent call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ig-Oh and the Java Subset Class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eeMap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ected/Wor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Key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log n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t(key,value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log n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(key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log 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ove(key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log n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eySet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*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ze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(n) 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ll, O(1) subsequent ca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ig-Oh and the Java Subset Class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erat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Li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nkedL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sNext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xt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ove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n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Itera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n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t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5T01:47:59Z</dcterms:created>
  <dc:creator>AISD</dc:creator>
  <dc:description/>
  <dc:language>en-US</dc:language>
  <cp:lastModifiedBy>jacobo carrasquel</cp:lastModifiedBy>
  <dcterms:modified xsi:type="dcterms:W3CDTF">2004-07-01T15:20:04Z</dcterms:modified>
  <cp:revision>10</cp:revision>
  <dc:subject/>
  <dc:title>Big-Oh and AP Computer Science </dc:title>
</cp:coreProperties>
</file>