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C53-D49C-4B7D-90ED-7CEF7F68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CA5-C099-4CAD-A8F1-5F9683F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6F6-5C8C-4D80-AD80-CC1AA498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F59-6D35-4925-8776-A469A5EC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235D-89EA-40A7-B30E-D238986F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6C8-C7D6-400F-A2A9-142644C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0E9-2119-418A-B882-57A6F2E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EEBD-A44A-46FC-9957-9F886AC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DB8-202D-41F1-BB04-BFEE98C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DEA7-6C9E-4894-B2CA-F400B0B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BAC5-E904-4157-982C-9B8F458A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F36-264C-408A-A0A8-6302EF6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679A-7B01-4434-84CC-3503DFB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669-BB1A-4E73-9059-C68F725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B35B-7B7A-4580-B910-E0D1B548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34CD-D4A9-4D6B-A41C-9B6502A2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05DD-51E5-4D52-9D33-0D9AF513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624-8509-4112-961E-F446199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F8B-D82D-4F3E-A225-DB22D4DE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45-F3FC-440C-AE5F-36B23454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0E8-6B88-4BE0-B07D-A69B566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A2E-7C17-4455-9F97-456D628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AA9-9899-4BF8-9C67-F0776F0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C72-967F-428B-B106-B1A1097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3428-9E59-480F-9618-AD84D0E6417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208-C9AC-4779-95D7-F2AB79CE41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Programs and Model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most all computer programs model some artifa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Artifac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product of civilization, either concrete or abstract, simple or complex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del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a simplified representation of somet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t includes features that are considered importa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eglects other features not considered importa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odels can be more specific representations of other, more general model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eatures of a mod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haracteristics of the model that distinguish one particular instance of a model from anoth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Size, color, name, location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Referred to as the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of the instanc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haviors of the model that are generally going to be true for all instances of the mod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The behavior is consistent for that specific model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The different behaviors can be grouped into into categories,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Generally behaviors are initiated by external force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Robot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great, flat, plane with standard compass poi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unded on west by infinite wall extending north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unded on south by infinite wall extending ea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risscrossing the world are vertical streets and horizontal aven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corner is an intersection of a street and aven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or more robots can occupy any corner, facing any dire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th streets and avenues have numb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igin is where 1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St and 1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ve inters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do not have to start from orig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s in the Robot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all Se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ed between adjacent street corners, blocking a robot’s direct path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d to represent obstacles around which robots must navigat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ep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mall plastic cones that emit a quiet beeping noi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und on street corners; do not interfere with robot mov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be carried, picked up and put down by 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re can be more than one beeper on a corner, and a robot can carry an infinite supply of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d to represent tasks for the robots to manipulat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e of the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ose characteristics that are used to describe the current condition of the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robots look alik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ate of the robot that we are initially interested in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al (where is it in its world?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reet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venue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irection it is fac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nipulativ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it may be carry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isibility (can it be seen?)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obot Characteristics -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’s position will be defined by the corner of the World it is sitting 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re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’s direction will be defined by which of the compass points it is facing in the worl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umber of Beepers it is carry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isibili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 can be hidden from view, but it is still able to be detected by other robo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itially, we are not interested in other characteristics of robots that we might imagin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later create other models of robots with some other characteristic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termining the Robot’s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bot can report its state (accessor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what street or avenue it is on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reet(), avenu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the direction it is facing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irectio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the number of beepers it is carrying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eeper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its visibility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sVisibl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his is undocumented in Bergin’s text… But most IDE’s with context-sensitive help will show you these fea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nipulation of the Robot’s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ly the visibility can be directly manipula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ll other state is manipulated indirectly through the robots interaction and behavior in it’s Worl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 other words, we cannot pick up a robot and place it somewhere else, it has to move to that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only time we directly manipulate the state of the robot (other than visibility) is when we build or construct the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pecify street, avenue, direction, and number of beepers being carri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therwise, we indirectly manipulate state through the messages we send to a robot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move will change street or avenu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turn will change the direction the robot is fac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can be picked up or put down, changing the number of beepers the robot can carry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rward in the direction it is facing,from corner to corn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urn in plac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urn itself off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det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alls ½ block in front of them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by being on the same corner as a beep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s by being on the same corner with other robo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aviga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y detecting the direction it is facing (north, south, east, wes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anipula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epers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y carrying them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icking them up, and putting them down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knowing if it is carrying any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ing pos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v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oves forward to next corner if the path is clear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rror-shutoff if the path is blocked by a wal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urnLeft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ivots 90 degrees to the left (counter-clockwise)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ays on the same corn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urnOff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task is finished;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 turns off and is incapable of executing any new instructions until restarted on another task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nipulating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pickBeepe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ttempts to pick up beeper on the corner it is standing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n error shutoff if no beeper is ther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f more than one beeper on the corner the robot picks up only on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putBeepe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ttempts to put beeper on the corner it is standing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n error shutoff if no beeper in the beeper bag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f more than one beeper in the beeper bag the robot puts down only on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nging Visibility -- modifi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setVisibility(boolean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We can make a robot visible or invisble by sending true or false with this messag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ending a messag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send a message we must specify the object and the behavior for that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eference to the receiver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eri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essage to be s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send a message to a Robot named Karel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Karel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.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move()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9520" y="5410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76520" y="5181120"/>
            <a:ext cx="228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7640" y="541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895480" y="5181120"/>
            <a:ext cx="60984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Object-Oriented Programming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programming language uses an object-oriented programming approach to model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model is defined as a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rograms use multiple instances of different models or classes to solve a problem or perform a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se multiple instances are known as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Programming (OOP), then, is the process of solving problems or performing tasks with multiple, interacting objec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king at a Java progra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sk for two Robo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woRobot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3135240"/>
            <a:ext cx="697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Progr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different kinds of Java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rily concerned with Applets and Ap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pplets - run in the context of a web brows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pplications - stand-alone progra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Programs solve problems with multiple, interacting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programmers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efin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s by creating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ly, a Java class is written in one file, with the same name and th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.jav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prefi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main() metho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Java application (not applet) has to have a main() method that is the starting point of the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DE’s such as CodeWarrior require that the class with the main be identifi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utside of an IDE, the Java application has to be started with the class that has the main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Karel progr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ll typically be ap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 that has the main() method will typically be called Applic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Application class will be found in the file Application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Application class wil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the world that has the task for the robot(s) to perfor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either mai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 in an anonymous, static, initializer (more on this later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tantiate (construct) the robot(s) necessary to complete the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nd the appropriate messages to the robot(s) to perform the tas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Syntax Iss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pecial symbo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mi-colon   ;     Separates one instruction from the nex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races    {  }      Group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locks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of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eriod     .    Show which instructions belong to which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dentifi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r robot and class nam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ade up of characters (A..Z, a..z), digits (0..9), and underscore (_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ust start with a charact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served wor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Used to structure and organize primitive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// single line comments;  /*    */  multi line comments; /**   */ javadoc commen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rovide explanation of what is going on to other people who read our program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Err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ecution Errors / Error Shutoff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llegal move, putBeeper, or pickBeeper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botErrors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xical error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 robot encounters an instruction that is not part of its vocabul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voe() instead of move(); turnleft() instead of turnLeft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Yes, capitalization counts; Java is case sensitiv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Err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yntax error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 of incorrect grammar or punc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instruction missing a semi-colon at the en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tent error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 seems to run successfully, but does not accomplish the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ask: pickup the beeper,  face north, move one bloc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robot picks up the beeper, and moves ahead two bloc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Some terminology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object ha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characteristics)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ehavi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ference: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y word/phrase that is used to provide access to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uses 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o identify an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ssages: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request for some desired behavior from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essag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re sent to references, specifying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ehavi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with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upporting detai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Objects, behavior, and classe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Java programming, model elements are called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bjects that share common behavior are grouped into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fining a class in Java is writing code that specifies how objects of the class behave or a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nce a class has been defined, objects of that class can be creat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very object belongs to exactly one class and is an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instanc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of that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edefined objects and 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Java comes with some classes already defin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use classes created by other programmer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create our own 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Use Robots to First Illustrate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bject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heritanc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ic Java Programming Syntax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trol Structur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terfa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lymorphis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obot Tas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as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thing we want the robot to 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cape from an enclosed room that has a do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a beeper and deposit it on orig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cape from a maz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itu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exact description of what the world looks lik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’s current position and direction it is facing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cation and length of each wall section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cation of each beeper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many beepers in the robots beeper bag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situations will be specified by a map or a brief written descri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Modeling a Robot’s Task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arel J.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will learn how to write instruction-sets (programs) so that programmable robots can perform tasks we give the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arel is object-oriented so the tasks will be performed using multiple, interacting objec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osition (implicit to become explici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ire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orl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orners (implici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ree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venu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all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1" name="kareln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7617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Robot Program – </a:t>
            </a:r>
            <a:r>
              <a:rPr b="0" i="1" lang="en-US" sz="3600" spc="-1" strike="noStrike">
                <a:solidFill>
                  <a:srgbClr val="ccffff"/>
                </a:solidFill>
                <a:latin typeface="Impact"/>
              </a:rPr>
              <a:t>Karel Firs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RobotDemo1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89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Robot in its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5562360" cy="434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1981080" y="2514600"/>
            <a:ext cx="5639040" cy="22860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81680" y="225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3200" y="2971800"/>
            <a:ext cx="4876920" cy="18288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81680" y="2708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57600" y="3428640"/>
            <a:ext cx="4038480" cy="152388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56920" y="3165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4038480"/>
            <a:ext cx="3504960" cy="99072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58000" y="3774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4572000"/>
            <a:ext cx="3124080" cy="83808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57280" y="4308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76920" y="5181480"/>
            <a:ext cx="2819160" cy="4572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57640" y="4917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638680"/>
            <a:ext cx="5867280" cy="7632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57280" y="5375160"/>
            <a:ext cx="97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St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A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19160" y="342864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34:49Z</dcterms:created>
  <dc:creator>Don Slater</dc:creator>
  <dc:description/>
  <dc:language>en-US</dc:language>
  <cp:lastModifiedBy>Don Slater</cp:lastModifiedBy>
  <dcterms:modified xsi:type="dcterms:W3CDTF">2003-06-21T18:44:58Z</dcterms:modified>
  <cp:revision>18</cp:revision>
  <dc:subject/>
  <dc:title>Programs and Models</dc:title>
</cp:coreProperties>
</file>