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58920" y="333360"/>
            <a:ext cx="76564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45984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371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58920" y="333360"/>
            <a:ext cx="76564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45984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58920" y="333360"/>
            <a:ext cx="76564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45984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FD176A-10B6-449F-927A-0892AFE42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58920" y="333360"/>
            <a:ext cx="76564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4598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18625D-3E6D-4504-9BB6-5F258232C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8920" y="333360"/>
            <a:ext cx="76564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4598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76B85C-C93A-4E4E-A308-ACCBFC43C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8920" y="333360"/>
            <a:ext cx="76564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4598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33EA7D-A628-480C-9F41-0BDB2CE7D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58920" y="333360"/>
            <a:ext cx="76564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4598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88855B-E3D6-4417-92E4-5ACF10C86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7656480" cy="32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9146F8-1478-45E3-B1B9-1A60B58CF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920" y="333360"/>
            <a:ext cx="76564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4598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431E07-2F9E-4518-8E24-F2DEC969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920" y="333360"/>
            <a:ext cx="76564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4598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8920" y="333360"/>
            <a:ext cx="76564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45984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15C14E-1857-426E-B8AA-90E15D3F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58920" y="333360"/>
            <a:ext cx="76564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45984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EA39EE-5EDF-4ACF-B7D2-223EC5A5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8920" y="333360"/>
            <a:ext cx="76564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45984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371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DA9245-C8D4-4321-9EB4-DC236EAC9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58920" y="333360"/>
            <a:ext cx="76564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4598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B2D810-A404-48CF-8B5B-FA4A357B9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58920" y="333360"/>
            <a:ext cx="76564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45984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AB44B7-23F1-4B5F-8EAF-AB67C03A7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58920" y="333360"/>
            <a:ext cx="76564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45984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58920" y="333360"/>
            <a:ext cx="76564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45984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58920" y="333360"/>
            <a:ext cx="76564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4598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7656480" cy="32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920" y="333360"/>
            <a:ext cx="76564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4598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920" y="333360"/>
            <a:ext cx="76564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4598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920" y="333360"/>
            <a:ext cx="76564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4598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8920" y="333360"/>
            <a:ext cx="76564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984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44598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  <a:ea typeface="굴림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295280" y="1052640"/>
            <a:ext cx="7848720" cy="0"/>
          </a:xfrm>
          <a:prstGeom prst="line">
            <a:avLst/>
          </a:prstGeom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219320" y="144792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19320" y="160020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12193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45984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445984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445984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445984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3366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3366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e6da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5492880" y="95400"/>
            <a:ext cx="3612960" cy="33948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0" y="30240"/>
            <a:ext cx="914400" cy="884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dt" idx="2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3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4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93441-55BE-411E-B06F-50B85BDD15AF}" type="slidenum">
              <a:rPr b="1" lang="en-US" sz="2600" spc="-1" strike="noStrike">
                <a:solidFill>
                  <a:srgbClr val="ffffff"/>
                </a:solidFill>
                <a:latin typeface="Times New Roman"/>
                <a:ea typeface="굴림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title"/>
          </p:nvPr>
        </p:nvSpPr>
        <p:spPr>
          <a:xfrm>
            <a:off x="1187280" y="1425240"/>
            <a:ext cx="752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45984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45984"/>
              </a:solidFill>
              <a:latin typeface="Verdana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e6da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492880" y="95400"/>
            <a:ext cx="3612960" cy="339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0" y="30240"/>
            <a:ext cx="914400" cy="8841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algn="ctr">
              <a:spcBef>
                <a:spcPts val="601"/>
              </a:spcBef>
              <a:buClr>
                <a:srgbClr val="4459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44598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44598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445984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52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45984"/>
                </a:solidFill>
                <a:latin typeface="Verdana"/>
              </a:rPr>
              <a:t>SymbSys246</a:t>
            </a:r>
            <a:br>
              <a:rPr sz="3200"/>
            </a:br>
            <a:r>
              <a:rPr b="1" lang="en-US" sz="3200" spc="-1" strike="noStrike">
                <a:solidFill>
                  <a:srgbClr val="445984"/>
                </a:solidFill>
                <a:latin typeface="Verdana"/>
              </a:rPr>
              <a:t>Cognitive Crash</a:t>
            </a:r>
            <a:br>
              <a:rPr sz="3200"/>
            </a:br>
            <a:r>
              <a:rPr b="1" lang="en-US" sz="3200" spc="-1" strike="noStrike">
                <a:solidFill>
                  <a:srgbClr val="445984"/>
                </a:solidFill>
                <a:latin typeface="Verdana"/>
              </a:rPr>
              <a:t>Dummies</a:t>
            </a:r>
            <a:endParaRPr b="1" lang="en-US" sz="3200" spc="-1" strike="noStrike">
              <a:solidFill>
                <a:srgbClr val="445984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38080" y="2927160"/>
            <a:ext cx="7143840" cy="27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onnie E. Joh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fessor, HCI Institu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omas A. Wasow Visiting Schola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in Symbolic System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anford Univers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anuary 23, 200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243400" y="914400"/>
            <a:ext cx="3900600" cy="493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8920" y="333360"/>
            <a:ext cx="76564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984"/>
                </a:solidFill>
                <a:latin typeface="Verdana"/>
              </a:rPr>
              <a:t>Benchmarking with HBMs </a:t>
            </a:r>
            <a:r>
              <a:rPr b="1" lang="en-US" sz="1800" spc="-1" strike="noStrike">
                <a:solidFill>
                  <a:srgbClr val="445984"/>
                </a:solidFill>
                <a:latin typeface="Verdana"/>
              </a:rPr>
              <a:t>(3)</a:t>
            </a:r>
            <a:endParaRPr b="1" lang="en-US" sz="1800" spc="-1" strike="noStrike">
              <a:solidFill>
                <a:srgbClr val="445984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del these tasks on “proposed” desig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459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ok for new designs that give substantial savings on the suite of task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44598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ss than 20% difference is not to be trusted, because these are approximate model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459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ok for trade-off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44598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asks that are faster on the old system than the proposed system deserve more design attention, maybe you can find designs that improve more task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459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 quantitative predictions to help decide where to put programming eff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459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 quantitative predictions to “market” your new design, both within your own organization and external to your organiz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58920" y="333360"/>
            <a:ext cx="76564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984"/>
                </a:solidFill>
                <a:latin typeface="Verdana"/>
              </a:rPr>
              <a:t>Rapidly comparing</a:t>
            </a:r>
            <a:br>
              <a:rPr sz="2800"/>
            </a:br>
            <a:r>
              <a:rPr b="1" lang="en-US" sz="2800" spc="-1" strike="noStrike">
                <a:solidFill>
                  <a:srgbClr val="445984"/>
                </a:solidFill>
                <a:latin typeface="Verdana"/>
              </a:rPr>
              <a:t>many different interface ideas </a:t>
            </a:r>
            <a:r>
              <a:rPr b="1" lang="en-US" sz="1800" spc="-1" strike="noStrike">
                <a:solidFill>
                  <a:srgbClr val="445984"/>
                </a:solidFill>
                <a:latin typeface="Verdana"/>
              </a:rPr>
              <a:t>(1)</a:t>
            </a:r>
            <a:endParaRPr b="1" lang="en-US" sz="1800" spc="-1" strike="noStrike">
              <a:solidFill>
                <a:srgbClr val="445984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get data on skilled performance time, you must ha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459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running prototype with reasonably accurate system response time, that doesn’t cras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459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killed us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44598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 have to “manufacture” skilled users by providing sufficient time to learn and practi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44598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ually measured by a sliding window of performance time averages that eventually does not detect a difference in perform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is expens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deling is now faster than user testing for skilled performanc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8920" y="333360"/>
            <a:ext cx="76564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984"/>
                </a:solidFill>
                <a:latin typeface="Verdana"/>
              </a:rPr>
              <a:t>Rapidly comparing</a:t>
            </a:r>
            <a:br>
              <a:rPr sz="2800"/>
            </a:br>
            <a:r>
              <a:rPr b="1" lang="en-US" sz="2800" spc="-1" strike="noStrike">
                <a:solidFill>
                  <a:srgbClr val="445984"/>
                </a:solidFill>
                <a:latin typeface="Verdana"/>
              </a:rPr>
              <a:t>many different interface ideas </a:t>
            </a:r>
            <a:r>
              <a:rPr b="1" lang="en-US" sz="1800" spc="-1" strike="noStrike">
                <a:solidFill>
                  <a:srgbClr val="445984"/>
                </a:solidFill>
                <a:latin typeface="Verdana"/>
              </a:rPr>
              <a:t>(2)</a:t>
            </a:r>
            <a:endParaRPr b="1" lang="en-US" sz="1800" spc="-1" strike="noStrike">
              <a:solidFill>
                <a:srgbClr val="445984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ou can play “what if” along many dimens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4459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nchmark tasks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rows in CogToo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4459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rface design ideas that accomplish those tasks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columns in CogToo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4459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accomplishing tasks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more rows in CogToo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4459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response times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usually columns in CogToo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58920" y="333360"/>
            <a:ext cx="76564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984"/>
                </a:solidFill>
                <a:latin typeface="Verdana"/>
              </a:rPr>
              <a:t>Rapidly comparing</a:t>
            </a:r>
            <a:br>
              <a:rPr sz="2800"/>
            </a:br>
            <a:r>
              <a:rPr b="1" lang="en-US" sz="2800" spc="-1" strike="noStrike">
                <a:solidFill>
                  <a:srgbClr val="445984"/>
                </a:solidFill>
                <a:latin typeface="Verdana"/>
              </a:rPr>
              <a:t>many different interface ideas </a:t>
            </a:r>
            <a:r>
              <a:rPr b="1" lang="en-US" sz="1800" spc="-1" strike="noStrike">
                <a:solidFill>
                  <a:srgbClr val="445984"/>
                </a:solidFill>
                <a:latin typeface="Verdana"/>
              </a:rPr>
              <a:t>(3)</a:t>
            </a:r>
            <a:endParaRPr b="1" lang="en-US" sz="1800" spc="-1" strike="noStrike">
              <a:solidFill>
                <a:srgbClr val="445984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student did 300 models in a summer cour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459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wo different designs for entering text on a cellph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44598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-9 and multi-ta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459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handful of benchmark task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44598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MS messag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459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ral different assumptions about when an error is ma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44598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fferent places in the SMS messag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459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ral different assumptions about when an error is detec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44598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. g., immediately, end of word, end of messa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459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ral different methods for correcting erro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44598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rase and start again, back-up, et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2193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oe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258920" y="333360"/>
            <a:ext cx="76564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984"/>
                </a:solidFill>
                <a:latin typeface="Verdana"/>
              </a:rPr>
              <a:t>Examples of CogTool models</a:t>
            </a:r>
            <a:endParaRPr b="1" lang="en-US" sz="2800" spc="-1" strike="noStrike">
              <a:solidFill>
                <a:srgbClr val="445984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46160" y="1828800"/>
            <a:ext cx="8921520" cy="402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58920" y="333360"/>
            <a:ext cx="76564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984"/>
                </a:solidFill>
                <a:latin typeface="Verdana"/>
              </a:rPr>
              <a:t>Examples of  CogTool models </a:t>
            </a:r>
            <a:r>
              <a:rPr b="1" lang="en-US" sz="1800" spc="-1" strike="noStrike">
                <a:solidFill>
                  <a:srgbClr val="445984"/>
                </a:solidFill>
                <a:latin typeface="Verdana"/>
              </a:rPr>
              <a:t>(2)</a:t>
            </a:r>
            <a:endParaRPr b="1" lang="en-US" sz="1800" spc="-1" strike="noStrike">
              <a:solidFill>
                <a:srgbClr val="445984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og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rec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276720" y="1219320"/>
            <a:ext cx="5676840" cy="503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58920" y="333360"/>
            <a:ext cx="76564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984"/>
                </a:solidFill>
                <a:latin typeface="Verdana"/>
              </a:rPr>
              <a:t>Examples of CogTool models </a:t>
            </a:r>
            <a:r>
              <a:rPr b="1" lang="en-US" sz="1800" spc="-1" strike="noStrike">
                <a:solidFill>
                  <a:srgbClr val="445984"/>
                </a:solidFill>
                <a:latin typeface="Verdana"/>
              </a:rPr>
              <a:t>(3)</a:t>
            </a:r>
            <a:endParaRPr b="1" lang="en-US" sz="1800" spc="-1" strike="noStrike">
              <a:solidFill>
                <a:srgbClr val="445984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ASA Crew Exploration Vehic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7391160" cy="44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920" y="333360"/>
            <a:ext cx="76564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984"/>
                </a:solidFill>
                <a:latin typeface="Verdana"/>
              </a:rPr>
              <a:t>Examples of CogTool models </a:t>
            </a:r>
            <a:r>
              <a:rPr b="1" lang="en-US" sz="1800" spc="-1" strike="noStrike">
                <a:solidFill>
                  <a:srgbClr val="445984"/>
                </a:solidFill>
                <a:latin typeface="Verdana"/>
              </a:rPr>
              <a:t>(3 con’t)</a:t>
            </a:r>
            <a:endParaRPr b="1" lang="en-US" sz="1800" spc="-1" strike="noStrike">
              <a:solidFill>
                <a:srgbClr val="445984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8637480" cy="46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697120" y="1295280"/>
            <a:ext cx="6446880" cy="48531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8920" y="333360"/>
            <a:ext cx="76564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984"/>
                </a:solidFill>
                <a:latin typeface="Verdana"/>
              </a:rPr>
              <a:t>Examples of CogTool models </a:t>
            </a:r>
            <a:r>
              <a:rPr b="1" lang="en-US" sz="1800" spc="-1" strike="noStrike">
                <a:solidFill>
                  <a:srgbClr val="445984"/>
                </a:solidFill>
                <a:latin typeface="Verdana"/>
              </a:rPr>
              <a:t>(4)</a:t>
            </a:r>
            <a:endParaRPr b="1" lang="en-US" sz="1800" spc="-1" strike="noStrike">
              <a:solidFill>
                <a:srgbClr val="445984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riv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235240" y="1789200"/>
            <a:ext cx="6908760" cy="45352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58920" y="333360"/>
            <a:ext cx="76564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984"/>
                </a:solidFill>
                <a:latin typeface="Verdana"/>
              </a:rPr>
              <a:t>Examples of CogTool models </a:t>
            </a:r>
            <a:r>
              <a:rPr b="1" lang="en-US" sz="1800" spc="-1" strike="noStrike">
                <a:solidFill>
                  <a:srgbClr val="445984"/>
                </a:solidFill>
                <a:latin typeface="Verdana"/>
              </a:rPr>
              <a:t>(5)</a:t>
            </a:r>
            <a:endParaRPr b="1" lang="en-US" sz="1800" spc="-1" strike="noStrike">
              <a:solidFill>
                <a:srgbClr val="445984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193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logg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HW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58920" y="333360"/>
            <a:ext cx="76564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5984"/>
                </a:solidFill>
                <a:latin typeface="Verdana"/>
              </a:rPr>
              <a:t>Schedule for SymbSys246</a:t>
            </a:r>
            <a:endParaRPr b="1" lang="en-US" sz="2400" spc="-1" strike="noStrike">
              <a:solidFill>
                <a:srgbClr val="445984"/>
              </a:solidFill>
              <a:latin typeface="Verdan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295280" y="1324080"/>
          <a:ext cx="6782040" cy="4782960"/>
        </p:xfrm>
        <a:graphic>
          <a:graphicData uri="http://schemas.openxmlformats.org/drawingml/2006/table">
            <a:tbl>
              <a:tblPr/>
              <a:tblGrid>
                <a:gridCol w="1371600"/>
                <a:gridCol w="2514600"/>
                <a:gridCol w="289584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cture/Discussion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ands-on/Critiqu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6dae1"/>
                          </a:solidFill>
                          <a:latin typeface="Verdana"/>
                        </a:rPr>
                        <a:t>Jan 16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6dae1"/>
                          </a:solidFill>
                          <a:latin typeface="Verdana"/>
                        </a:rPr>
                        <a:t>Introduction to predictive human behavior modeling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6dae1"/>
                          </a:solidFill>
                          <a:latin typeface="Verdana"/>
                        </a:rPr>
                        <a:t>CogTool tutorial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e6dae1"/>
                          </a:solidFill>
                          <a:latin typeface="Verdana"/>
                        </a:rPr>
                        <a:t>HW assigned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an 2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plications of human behavior modeling to interactive system design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view HW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pose Project 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an 3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onso Vera, NASA: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ling at NAS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view progress on Project 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pose Project 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b 6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ter Pirolli, PARC: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ling Information Foraging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view progress on Project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b 1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ture of human behavior modeling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sent Project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8920" y="333360"/>
            <a:ext cx="76564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984"/>
                </a:solidFill>
                <a:latin typeface="Verdana"/>
              </a:rPr>
              <a:t>Questions?</a:t>
            </a:r>
            <a:endParaRPr b="1" lang="en-US" sz="2800" spc="-1" strike="noStrike">
              <a:solidFill>
                <a:srgbClr val="445984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193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xt we’ll move on to the HW and your ideas for proj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58920" y="333360"/>
            <a:ext cx="76564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984"/>
                </a:solidFill>
                <a:latin typeface="Verdana"/>
              </a:rPr>
              <a:t>The Blogger editor HW</a:t>
            </a:r>
            <a:endParaRPr b="1" lang="en-US" sz="2800" spc="-1" strike="noStrike">
              <a:solidFill>
                <a:srgbClr val="445984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193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unwittingly set you up to fai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4459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ool new menus I showed you had some bu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4459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was painful, ugly, but not wro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44598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nsitions can only be drawn from 100% zo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44598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re’s an ugly work-around for th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4459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was really wro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44598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you get the menus in, they create the wrong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44598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y team has checked in a fix, they are testing it, and they say it will be available to you tomorro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44598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 will send you email with a pointer to a new Cog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let’s discuss it anyw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920" y="333360"/>
            <a:ext cx="76564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984"/>
                </a:solidFill>
                <a:latin typeface="Verdana"/>
              </a:rPr>
              <a:t>Applications</a:t>
            </a:r>
            <a:br>
              <a:rPr sz="2800"/>
            </a:br>
            <a:r>
              <a:rPr b="1" lang="en-US" sz="2800" spc="-1" strike="noStrike">
                <a:solidFill>
                  <a:srgbClr val="445984"/>
                </a:solidFill>
                <a:latin typeface="Verdana"/>
              </a:rPr>
              <a:t>of Human Behavior Modeling</a:t>
            </a:r>
            <a:endParaRPr b="1" lang="en-US" sz="2800" spc="-1" strike="noStrike">
              <a:solidFill>
                <a:srgbClr val="44598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ticular points to mak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459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fulness of skilled execution time predi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459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 examples of applications of models made in CogTo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ong the way we’ll talk about other metrics and other tools for modeling, as it comes up through questions and discus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8920" y="333360"/>
            <a:ext cx="76564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984"/>
                </a:solidFill>
                <a:latin typeface="Verdana"/>
              </a:rPr>
              <a:t>Usefulness</a:t>
            </a:r>
            <a:br>
              <a:rPr sz="2800"/>
            </a:br>
            <a:r>
              <a:rPr b="1" lang="en-US" sz="2800" spc="-1" strike="noStrike">
                <a:solidFill>
                  <a:srgbClr val="445984"/>
                </a:solidFill>
                <a:latin typeface="Verdana"/>
              </a:rPr>
              <a:t>of skilled execution time predictions</a:t>
            </a:r>
            <a:endParaRPr b="1" lang="en-US" sz="2800" spc="-1" strike="noStrike">
              <a:solidFill>
                <a:srgbClr val="445984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 i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459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e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459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chniq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459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nchmarking against existing produ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44598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etitors’ produc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44598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rlier vers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459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pidly comparing many different interface ide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58920" y="333360"/>
            <a:ext cx="76564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984"/>
                </a:solidFill>
                <a:latin typeface="Verdana"/>
              </a:rPr>
              <a:t>Time is Money</a:t>
            </a:r>
            <a:endParaRPr b="1" lang="en-US" sz="2800" spc="-1" strike="noStrike">
              <a:solidFill>
                <a:srgbClr val="445984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45984"/>
                </a:solidFill>
                <a:latin typeface="Verdana"/>
              </a:rPr>
              <a:t>Economies of scal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ig companies with a lot of staff doing relatively repetitive th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4459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ancial transactions / purcha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4459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y time you have customers wai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44598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lp desk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44598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alog sa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44598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irport li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45984"/>
                </a:solidFill>
                <a:latin typeface="Verdana"/>
              </a:rPr>
              <a:t>Marketing valu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dividuals feeling that your system wastes their time and those individuals have the power to vote with their pocketboo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58920" y="333360"/>
            <a:ext cx="76564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984"/>
                </a:solidFill>
                <a:latin typeface="Verdana"/>
              </a:rPr>
              <a:t>Time is Safety</a:t>
            </a:r>
            <a:endParaRPr b="1" lang="en-US" sz="2800" spc="-1" strike="noStrike">
              <a:solidFill>
                <a:srgbClr val="445984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45984"/>
                </a:solidFill>
                <a:latin typeface="Verdana"/>
              </a:rPr>
              <a:t>Human attention is a limited resourc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humans have to multi-task, performance slows dow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bine this fact with real-time deadlines and there can be dangerous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459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riving and in-vehicle information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459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lying with new cockpit desig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459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 of dynamic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459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litary weapons or communication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58920" y="333360"/>
            <a:ext cx="76564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984"/>
                </a:solidFill>
                <a:latin typeface="Verdana"/>
              </a:rPr>
              <a:t>Benchmarking</a:t>
            </a:r>
            <a:br>
              <a:rPr sz="2800"/>
            </a:br>
            <a:r>
              <a:rPr b="1" lang="en-US" sz="2800" spc="-1" strike="noStrike">
                <a:solidFill>
                  <a:srgbClr val="445984"/>
                </a:solidFill>
                <a:latin typeface="Verdana"/>
              </a:rPr>
              <a:t>against existing products</a:t>
            </a:r>
            <a:endParaRPr b="1" lang="en-US" sz="2800" spc="-1" strike="noStrike">
              <a:solidFill>
                <a:srgbClr val="445984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nchmarking is a common engineering approa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424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8920" y="333360"/>
            <a:ext cx="76564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984"/>
                </a:solidFill>
                <a:latin typeface="Verdana"/>
              </a:rPr>
              <a:t>Benchmarking with HBMs </a:t>
            </a:r>
            <a:r>
              <a:rPr b="1" lang="en-US" sz="1800" spc="-1" strike="noStrike">
                <a:solidFill>
                  <a:srgbClr val="445984"/>
                </a:solidFill>
                <a:latin typeface="Verdana"/>
              </a:rPr>
              <a:t>(1)</a:t>
            </a:r>
            <a:endParaRPr b="1" lang="en-US" sz="1800" spc="-1" strike="noStrike">
              <a:solidFill>
                <a:srgbClr val="445984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a reasonable suite of benchmark tas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459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equent tasks, tasks that cover the functionality of the system, important tas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459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45984"/>
                </a:solidFill>
                <a:latin typeface="Verdana"/>
              </a:rPr>
              <a:t>REA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asks (don’t just suck them out of your thumb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58920" y="333360"/>
            <a:ext cx="76564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984"/>
                </a:solidFill>
                <a:latin typeface="Verdana"/>
              </a:rPr>
              <a:t>Benchmarking with HBMs </a:t>
            </a:r>
            <a:r>
              <a:rPr b="1" lang="en-US" sz="1800" spc="-1" strike="noStrike">
                <a:solidFill>
                  <a:srgbClr val="445984"/>
                </a:solidFill>
                <a:latin typeface="Verdana"/>
              </a:rPr>
              <a:t>(2)</a:t>
            </a:r>
            <a:endParaRPr b="1" lang="en-US" sz="1800" spc="-1" strike="noStrike">
              <a:solidFill>
                <a:srgbClr val="445984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del these tasks on the “old” sy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5040" indent="-452520">
              <a:lnSpc>
                <a:spcPct val="90000"/>
              </a:lnSpc>
              <a:spcBef>
                <a:spcPts val="499"/>
              </a:spcBef>
              <a:buClr>
                <a:srgbClr val="44598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etitor’s existing produ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5040" indent="-452520">
              <a:lnSpc>
                <a:spcPct val="90000"/>
              </a:lnSpc>
              <a:spcBef>
                <a:spcPts val="499"/>
              </a:spcBef>
              <a:buClr>
                <a:srgbClr val="44598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version of your own syst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5040" indent="-452520">
              <a:lnSpc>
                <a:spcPct val="90000"/>
              </a:lnSpc>
              <a:spcBef>
                <a:spcPts val="499"/>
              </a:spcBef>
              <a:buClr>
                <a:srgbClr val="44598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per-based system that is already in pla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82320" indent="-376920">
              <a:lnSpc>
                <a:spcPct val="90000"/>
              </a:lnSpc>
              <a:spcBef>
                <a:spcPts val="451"/>
              </a:spcBef>
              <a:buClr>
                <a:srgbClr val="44598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t available in CogTool yet, but watch our website for a function allowing the addition of arbitrary physical operato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these models to profile where the time go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5040" indent="-452520">
              <a:lnSpc>
                <a:spcPct val="90000"/>
              </a:lnSpc>
              <a:spcBef>
                <a:spcPts val="499"/>
              </a:spcBef>
              <a:buClr>
                <a:srgbClr val="44598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sks that are the biggest time-sinks deserve the most design atten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82320" indent="-376920">
              <a:lnSpc>
                <a:spcPct val="90000"/>
              </a:lnSpc>
              <a:spcBef>
                <a:spcPts val="451"/>
              </a:spcBef>
              <a:buClr>
                <a:srgbClr val="44598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kin to the CS maxim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Profile before optimiz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5040" indent="-452520">
              <a:lnSpc>
                <a:spcPct val="90000"/>
              </a:lnSpc>
              <a:spcBef>
                <a:spcPts val="499"/>
              </a:spcBef>
              <a:buClr>
                <a:srgbClr val="44598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n a new design eliminate keystrokes? Mouse clicks? System response time? Thinking time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6T17:43:25Z</dcterms:created>
  <dc:creator>CMU SCS</dc:creator>
  <dc:description/>
  <dc:language>en-US</dc:language>
  <cp:lastModifiedBy>CMU SCS</cp:lastModifiedBy>
  <dcterms:modified xsi:type="dcterms:W3CDTF">2007-01-24T02:43:39Z</dcterms:modified>
  <cp:revision>79</cp:revision>
  <dc:subject/>
  <dc:title>PowerPoint Presentation</dc:title>
</cp:coreProperties>
</file>