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38A-C887-4BEB-9226-2E9F1B10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F2A-91F3-4F96-A03E-70C4E0E3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BAB-7FD2-486B-9061-ED3A37EF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D50-2A59-4B56-9131-4C8C2EC7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92F-BB1B-4786-BD39-E54FCE90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310-9E9F-40A0-8940-A3448224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9AF-686D-4658-9228-34B3FA1D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616-0D4C-4EC2-A63E-357D2005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2E4-FF29-49A3-B191-17F5BB18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331-0872-443D-A5CD-83B5950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546-7C82-437A-83E4-350D6E85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952-161E-477E-8F68-4923859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3F64-DDC9-412E-A5D5-E362DE33E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ustering with Prefer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rry Z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ie Z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anjiao C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ch Caru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tance metr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447920"/>
            <a:ext cx="822960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fines the distance between any two data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uclidean distance is a distance metr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(a,b)=sqrt[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+…+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133720" y="426708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655308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4723920"/>
            <a:ext cx="1600200" cy="12193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4480" y="4313160"/>
            <a:ext cx="166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=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68040" y="5181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(a,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60920" y="5913360"/>
            <a:ext cx="17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=(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tance metr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447920"/>
            <a:ext cx="8229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also a (different) distance metr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’(a,b)=sqrt[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+…+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me as stretching (double)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im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133720" y="426708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655308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4723920"/>
            <a:ext cx="1600200" cy="1219320"/>
          </a:xfrm>
          <a:prstGeom prst="line">
            <a:avLst/>
          </a:prstGeom>
          <a:ln cap="rnd" w="28440">
            <a:solidFill>
              <a:srgbClr val="969696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24480" y="4313160"/>
            <a:ext cx="166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a=(a</a:t>
            </a:r>
            <a:r>
              <a:rPr b="0" lang="en-US" sz="2400" spc="-1" strike="noStrike" baseline="-25000">
                <a:solidFill>
                  <a:srgbClr val="969696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,…,a</a:t>
            </a:r>
            <a:r>
              <a:rPr b="0" lang="en-US" sz="2400" spc="-1" strike="noStrike" baseline="-25000">
                <a:solidFill>
                  <a:srgbClr val="969696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68040" y="5181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D(a,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0920" y="5913360"/>
            <a:ext cx="17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b=(b</a:t>
            </a:r>
            <a:r>
              <a:rPr b="0" lang="en-US" sz="2400" spc="-1" strike="noStrike" baseline="-25000">
                <a:solidFill>
                  <a:srgbClr val="969696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,…,b</a:t>
            </a:r>
            <a:r>
              <a:rPr b="0" lang="en-US" sz="2400" spc="-1" strike="noStrike" baseline="-25000">
                <a:solidFill>
                  <a:srgbClr val="969696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05320" y="4723920"/>
            <a:ext cx="3276360" cy="12193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88400" y="5181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’(a,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tance metr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versely, stretching or compressing a space defines a new distance 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90920" y="32004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441972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046320" y="3886200"/>
            <a:ext cx="1800" cy="9907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3886200"/>
            <a:ext cx="1440" cy="9907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2004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3886200"/>
            <a:ext cx="761760" cy="3049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648320"/>
            <a:ext cx="761760" cy="22860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552720" y="4190760"/>
            <a:ext cx="227160" cy="68580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792400" y="3885840"/>
            <a:ext cx="227160" cy="76212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9000"/>
            <a:ext cx="380880" cy="38088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523880" y="5029200"/>
            <a:ext cx="381240" cy="3808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14680" y="5715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me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00720" y="57150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me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go back to the 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537000"/>
            <a:ext cx="330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are we so lucky: the original Euclid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tance metric works a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95280" y="2666880"/>
            <a:ext cx="380880" cy="609840"/>
            <a:chOff x="1295280" y="2666880"/>
            <a:chExt cx="380880" cy="609840"/>
          </a:xfrm>
        </p:grpSpPr>
        <p:sp>
          <p:nvSpPr>
            <p:cNvPr id="274" name=""/>
            <p:cNvSpPr/>
            <p:nvPr/>
          </p:nvSpPr>
          <p:spPr>
            <a:xfrm>
              <a:off x="13712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712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98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952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3808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1295280" y="3429000"/>
            <a:ext cx="380880" cy="609120"/>
            <a:chOff x="1295280" y="3429000"/>
            <a:chExt cx="380880" cy="609120"/>
          </a:xfrm>
        </p:grpSpPr>
        <p:sp>
          <p:nvSpPr>
            <p:cNvPr id="280" name=""/>
            <p:cNvSpPr/>
            <p:nvPr/>
          </p:nvSpPr>
          <p:spPr>
            <a:xfrm>
              <a:off x="13712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712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998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952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295280" y="4267080"/>
            <a:ext cx="380880" cy="609840"/>
            <a:chOff x="1295280" y="4267080"/>
            <a:chExt cx="380880" cy="609840"/>
          </a:xfrm>
        </p:grpSpPr>
        <p:sp>
          <p:nvSpPr>
            <p:cNvPr id="285" name=""/>
            <p:cNvSpPr/>
            <p:nvPr/>
          </p:nvSpPr>
          <p:spPr>
            <a:xfrm>
              <a:off x="13712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2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998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952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95280" y="5029200"/>
            <a:ext cx="380880" cy="609120"/>
            <a:chOff x="1295280" y="5029200"/>
            <a:chExt cx="380880" cy="609120"/>
          </a:xfrm>
        </p:grpSpPr>
        <p:sp>
          <p:nvSpPr>
            <p:cNvPr id="290" name=""/>
            <p:cNvSpPr/>
            <p:nvPr/>
          </p:nvSpPr>
          <p:spPr>
            <a:xfrm>
              <a:off x="137124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24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984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295280" y="5867280"/>
            <a:ext cx="380880" cy="609840"/>
            <a:chOff x="1295280" y="5867280"/>
            <a:chExt cx="380880" cy="609840"/>
          </a:xfrm>
        </p:grpSpPr>
        <p:sp>
          <p:nvSpPr>
            <p:cNvPr id="295" name=""/>
            <p:cNvSpPr/>
            <p:nvPr/>
          </p:nvSpPr>
          <p:spPr>
            <a:xfrm>
              <a:off x="137124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7124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9984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3309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0968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244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1076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2480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295280" y="2666880"/>
            <a:ext cx="380880" cy="609840"/>
            <a:chOff x="1295280" y="2666880"/>
            <a:chExt cx="380880" cy="609840"/>
          </a:xfrm>
        </p:grpSpPr>
        <p:sp>
          <p:nvSpPr>
            <p:cNvPr id="305" name=""/>
            <p:cNvSpPr/>
            <p:nvPr/>
          </p:nvSpPr>
          <p:spPr>
            <a:xfrm>
              <a:off x="13712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2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998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9" name=""/>
          <p:cNvGraphicFramePr/>
          <p:nvPr/>
        </p:nvGraphicFramePr>
        <p:xfrm>
          <a:off x="76212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1295280" y="3429000"/>
            <a:ext cx="380880" cy="609120"/>
            <a:chOff x="1295280" y="3429000"/>
            <a:chExt cx="380880" cy="609120"/>
          </a:xfrm>
        </p:grpSpPr>
        <p:sp>
          <p:nvSpPr>
            <p:cNvPr id="311" name=""/>
            <p:cNvSpPr/>
            <p:nvPr/>
          </p:nvSpPr>
          <p:spPr>
            <a:xfrm>
              <a:off x="13712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12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98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52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95280" y="4267080"/>
            <a:ext cx="380880" cy="609840"/>
            <a:chOff x="1295280" y="4267080"/>
            <a:chExt cx="380880" cy="609840"/>
          </a:xfrm>
        </p:grpSpPr>
        <p:sp>
          <p:nvSpPr>
            <p:cNvPr id="316" name=""/>
            <p:cNvSpPr/>
            <p:nvPr/>
          </p:nvSpPr>
          <p:spPr>
            <a:xfrm>
              <a:off x="13712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2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98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952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295280" y="5029200"/>
            <a:ext cx="380880" cy="609120"/>
            <a:chOff x="1295280" y="5029200"/>
            <a:chExt cx="380880" cy="609120"/>
          </a:xfrm>
        </p:grpSpPr>
        <p:sp>
          <p:nvSpPr>
            <p:cNvPr id="321" name=""/>
            <p:cNvSpPr/>
            <p:nvPr/>
          </p:nvSpPr>
          <p:spPr>
            <a:xfrm>
              <a:off x="137124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24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9984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9528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95280" y="5867280"/>
            <a:ext cx="380880" cy="609840"/>
            <a:chOff x="1295280" y="5867280"/>
            <a:chExt cx="380880" cy="609840"/>
          </a:xfrm>
        </p:grpSpPr>
        <p:sp>
          <p:nvSpPr>
            <p:cNvPr id="326" name=""/>
            <p:cNvSpPr/>
            <p:nvPr/>
          </p:nvSpPr>
          <p:spPr>
            <a:xfrm>
              <a:off x="137124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24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9984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9528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309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0968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4244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1076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2480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f the table used </a:t>
            </a: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, not </a:t>
            </a: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537000"/>
            <a:ext cx="3301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fectly normal: you WILL get a similar dataset some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697200" y="1981080"/>
            <a:ext cx="380880" cy="609840"/>
            <a:chOff x="3697200" y="1981080"/>
            <a:chExt cx="380880" cy="609840"/>
          </a:xfrm>
        </p:grpSpPr>
        <p:sp>
          <p:nvSpPr>
            <p:cNvPr id="338" name=""/>
            <p:cNvSpPr/>
            <p:nvPr/>
          </p:nvSpPr>
          <p:spPr>
            <a:xfrm>
              <a:off x="377316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316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0176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9720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843280" y="3124080"/>
            <a:ext cx="380880" cy="609840"/>
            <a:chOff x="2843280" y="3124080"/>
            <a:chExt cx="380880" cy="609840"/>
          </a:xfrm>
        </p:grpSpPr>
        <p:sp>
          <p:nvSpPr>
            <p:cNvPr id="343" name=""/>
            <p:cNvSpPr/>
            <p:nvPr/>
          </p:nvSpPr>
          <p:spPr>
            <a:xfrm>
              <a:off x="291924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1924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4784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4328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6000" y="3809880"/>
            <a:ext cx="380880" cy="609840"/>
            <a:chOff x="2286000" y="3809880"/>
            <a:chExt cx="380880" cy="609840"/>
          </a:xfrm>
        </p:grpSpPr>
        <p:sp>
          <p:nvSpPr>
            <p:cNvPr id="348" name=""/>
            <p:cNvSpPr/>
            <p:nvPr/>
          </p:nvSpPr>
          <p:spPr>
            <a:xfrm>
              <a:off x="236196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196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056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600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26120" y="3124080"/>
            <a:ext cx="380880" cy="609840"/>
            <a:chOff x="6126120" y="3124080"/>
            <a:chExt cx="380880" cy="609840"/>
          </a:xfrm>
        </p:grpSpPr>
        <p:sp>
          <p:nvSpPr>
            <p:cNvPr id="353" name=""/>
            <p:cNvSpPr/>
            <p:nvPr/>
          </p:nvSpPr>
          <p:spPr>
            <a:xfrm>
              <a:off x="6202080" y="3124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2080" y="3352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30680" y="3352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6120" y="3352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553080" y="1981080"/>
            <a:ext cx="380880" cy="609840"/>
            <a:chOff x="6553080" y="1981080"/>
            <a:chExt cx="380880" cy="609840"/>
          </a:xfrm>
        </p:grpSpPr>
        <p:sp>
          <p:nvSpPr>
            <p:cNvPr id="358" name=""/>
            <p:cNvSpPr/>
            <p:nvPr/>
          </p:nvSpPr>
          <p:spPr>
            <a:xfrm>
              <a:off x="6629040" y="1981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9040" y="2209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7640" y="2209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53080" y="2209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73284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5768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3280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412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8260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ld clustering (with c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1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28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85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7880000">
            <a:off x="5373360" y="2401920"/>
            <a:ext cx="22860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715400">
            <a:off x="2514240" y="1477440"/>
            <a:ext cx="1371600" cy="3505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0760" y="39625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3480" y="48006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392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397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402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407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412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clustering (with 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1407960" y="1715760"/>
            <a:ext cx="9144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19320" y="2895480"/>
            <a:ext cx="137160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49240" y="21034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79840" y="3657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2271600"/>
            <a:ext cx="472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the original Euclidean distance metric gives very different (and possibly wrong) clust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ften the original Euclidean distance metric is not the best for clus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2468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3124080"/>
            <a:ext cx="79246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aling some dimensions (which defines a new metric), or some other operation, may give us a better clust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e previous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se we may want to stretch the height dimension 100 times (to give us the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c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295280" y="2666880"/>
            <a:ext cx="380880" cy="609840"/>
            <a:chOff x="1295280" y="2666880"/>
            <a:chExt cx="380880" cy="609840"/>
          </a:xfrm>
        </p:grpSpPr>
        <p:sp>
          <p:nvSpPr>
            <p:cNvPr id="450" name=""/>
            <p:cNvSpPr/>
            <p:nvPr/>
          </p:nvSpPr>
          <p:spPr>
            <a:xfrm>
              <a:off x="13712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2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998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52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54" name=""/>
          <p:cNvGraphicFramePr/>
          <p:nvPr/>
        </p:nvGraphicFramePr>
        <p:xfrm>
          <a:off x="83808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"/>
          <p:cNvGrpSpPr/>
          <p:nvPr/>
        </p:nvGrpSpPr>
        <p:grpSpPr>
          <a:xfrm>
            <a:off x="1295280" y="3429000"/>
            <a:ext cx="380880" cy="609120"/>
            <a:chOff x="1295280" y="3429000"/>
            <a:chExt cx="380880" cy="609120"/>
          </a:xfrm>
        </p:grpSpPr>
        <p:sp>
          <p:nvSpPr>
            <p:cNvPr id="456" name=""/>
            <p:cNvSpPr/>
            <p:nvPr/>
          </p:nvSpPr>
          <p:spPr>
            <a:xfrm>
              <a:off x="13712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12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998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952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295280" y="4267080"/>
            <a:ext cx="380880" cy="609840"/>
            <a:chOff x="1295280" y="4267080"/>
            <a:chExt cx="380880" cy="609840"/>
          </a:xfrm>
        </p:grpSpPr>
        <p:sp>
          <p:nvSpPr>
            <p:cNvPr id="461" name=""/>
            <p:cNvSpPr/>
            <p:nvPr/>
          </p:nvSpPr>
          <p:spPr>
            <a:xfrm>
              <a:off x="13712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712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998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952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295280" y="5029200"/>
            <a:ext cx="380880" cy="609120"/>
            <a:chOff x="1295280" y="5029200"/>
            <a:chExt cx="380880" cy="609120"/>
          </a:xfrm>
        </p:grpSpPr>
        <p:sp>
          <p:nvSpPr>
            <p:cNvPr id="466" name=""/>
            <p:cNvSpPr/>
            <p:nvPr/>
          </p:nvSpPr>
          <p:spPr>
            <a:xfrm>
              <a:off x="137124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7124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9984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9528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295280" y="5867280"/>
            <a:ext cx="380880" cy="609840"/>
            <a:chOff x="1295280" y="5867280"/>
            <a:chExt cx="380880" cy="609840"/>
          </a:xfrm>
        </p:grpSpPr>
        <p:sp>
          <p:nvSpPr>
            <p:cNvPr id="471" name=""/>
            <p:cNvSpPr/>
            <p:nvPr/>
          </p:nvSpPr>
          <p:spPr>
            <a:xfrm>
              <a:off x="137124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7124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9984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9528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3309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0968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4244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076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2480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How do you know height*100 was the right thing to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13480" y="4419720"/>
            <a:ext cx="330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your familiarity with weight and height, mayb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666880"/>
            <a:ext cx="685800" cy="609840"/>
          </a:xfrm>
          <a:prstGeom prst="star5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85800" y="1523880"/>
          <a:ext cx="5181480" cy="498816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24382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ntrin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bright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>
            <a:off x="1289520" y="27432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How about an unfamiliar domai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3429000"/>
            <a:ext cx="685800" cy="609480"/>
          </a:xfrm>
          <a:prstGeom prst="star5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09680" y="3505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4191120"/>
            <a:ext cx="685800" cy="609480"/>
          </a:xfrm>
          <a:prstGeom prst="star5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2480" y="42670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5029200"/>
            <a:ext cx="685800" cy="609480"/>
          </a:xfrm>
          <a:prstGeom prst="star5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3120" y="5105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5867280"/>
            <a:ext cx="685800" cy="609840"/>
          </a:xfrm>
          <a:prstGeom prst="star5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94560" y="5943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d06662_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5080" y="1030320"/>
            <a:ext cx="6436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elcome new student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2440" y="269244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 say you want to know their gende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862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hacked into CMU system, but all you get is the student id, their weight and heigh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65040" y="1905120"/>
            <a:ext cx="844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thout additional information, you have no reason to abandon the original Euclidean distance metric (although we suspect it is usually sub-optim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rmalization doesn’t help either, due to no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You have no cho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28600" y="170640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consider 2 kinds of user p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-same: two points should be in the same clu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-different: two points should be in different clus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User preferences come to the resc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3886200"/>
            <a:ext cx="75960" cy="76320"/>
          </a:xfrm>
          <a:prstGeom prst="ellipse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0002800">
            <a:off x="5257800" y="3504960"/>
            <a:ext cx="1295280" cy="76176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6019920"/>
            <a:ext cx="75960" cy="75960"/>
          </a:xfrm>
          <a:prstGeom prst="ellipse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72200" y="5791320"/>
            <a:ext cx="76320" cy="75960"/>
          </a:xfrm>
          <a:prstGeom prst="ellipse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9815600">
            <a:off x="5105520" y="5562360"/>
            <a:ext cx="685800" cy="10666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9680000">
            <a:off x="5943600" y="5562360"/>
            <a:ext cx="914400" cy="380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references are so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1447920"/>
            <a:ext cx="85341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 are like ‘suggestions’, they don’t have to be satisfied by the final clust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 are not ‘constraints’, which must be satisfi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main experts examine the data and issue preferences, prior to clust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295280" y="2666880"/>
            <a:ext cx="380880" cy="609840"/>
            <a:chOff x="1295280" y="2666880"/>
            <a:chExt cx="380880" cy="609840"/>
          </a:xfrm>
        </p:grpSpPr>
        <p:sp>
          <p:nvSpPr>
            <p:cNvPr id="508" name=""/>
            <p:cNvSpPr/>
            <p:nvPr/>
          </p:nvSpPr>
          <p:spPr>
            <a:xfrm>
              <a:off x="13712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12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998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952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12" name=""/>
          <p:cNvGraphicFramePr/>
          <p:nvPr/>
        </p:nvGraphicFramePr>
        <p:xfrm>
          <a:off x="76212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1295280" y="3429000"/>
            <a:ext cx="380880" cy="609120"/>
            <a:chOff x="1295280" y="3429000"/>
            <a:chExt cx="380880" cy="609120"/>
          </a:xfrm>
        </p:grpSpPr>
        <p:sp>
          <p:nvSpPr>
            <p:cNvPr id="514" name=""/>
            <p:cNvSpPr/>
            <p:nvPr/>
          </p:nvSpPr>
          <p:spPr>
            <a:xfrm>
              <a:off x="13712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712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998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952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295280" y="4267080"/>
            <a:ext cx="380880" cy="609840"/>
            <a:chOff x="1295280" y="4267080"/>
            <a:chExt cx="380880" cy="609840"/>
          </a:xfrm>
        </p:grpSpPr>
        <p:sp>
          <p:nvSpPr>
            <p:cNvPr id="519" name=""/>
            <p:cNvSpPr/>
            <p:nvPr/>
          </p:nvSpPr>
          <p:spPr>
            <a:xfrm>
              <a:off x="13712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2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998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52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295280" y="5029200"/>
            <a:ext cx="380880" cy="609120"/>
            <a:chOff x="1295280" y="5029200"/>
            <a:chExt cx="380880" cy="609120"/>
          </a:xfrm>
        </p:grpSpPr>
        <p:sp>
          <p:nvSpPr>
            <p:cNvPr id="524" name=""/>
            <p:cNvSpPr/>
            <p:nvPr/>
          </p:nvSpPr>
          <p:spPr>
            <a:xfrm>
              <a:off x="137124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24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984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9528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295280" y="5867280"/>
            <a:ext cx="380880" cy="609840"/>
            <a:chOff x="1295280" y="5867280"/>
            <a:chExt cx="380880" cy="609840"/>
          </a:xfrm>
        </p:grpSpPr>
        <p:sp>
          <p:nvSpPr>
            <p:cNvPr id="529" name=""/>
            <p:cNvSpPr/>
            <p:nvPr/>
          </p:nvSpPr>
          <p:spPr>
            <a:xfrm>
              <a:off x="137124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124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9984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528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3309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0968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4244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1076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2480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table revis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50292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541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546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551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556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561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rong way to use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6200000">
            <a:off x="1407960" y="1715760"/>
            <a:ext cx="9144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895480"/>
            <a:ext cx="137160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49240" y="21034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79840" y="3657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271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cluster as befo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43434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597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602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607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612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617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rong way to use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1407960" y="1715760"/>
            <a:ext cx="9144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19320" y="2895480"/>
            <a:ext cx="137160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49240" y="21034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79840" y="3657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2716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t-process to satisfy p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43434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819520" y="2666880"/>
            <a:ext cx="0" cy="990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124080" y="2666880"/>
            <a:ext cx="0" cy="990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655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660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665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670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675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rong way to use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455400" y="2668320"/>
            <a:ext cx="281952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3124080"/>
            <a:ext cx="761760" cy="7621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664000" y="21034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b, c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6472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2271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wro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43434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rong way to use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" y="182880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dification doesn’t propagate to points not in p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ilar to ‘overfitting’ of the p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better way to use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17524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 use the preferences to find a better distance metric than the original Euclidean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715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720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725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730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735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200000">
            <a:off x="1407960" y="1715760"/>
            <a:ext cx="9144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19320" y="2895480"/>
            <a:ext cx="137160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49240" y="21034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679840" y="3657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2271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cluster as befo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43434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38680" y="1676520"/>
            <a:ext cx="3657600" cy="22096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coming stud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2666880"/>
            <a:ext cx="380880" cy="609840"/>
            <a:chOff x="1447920" y="2666880"/>
            <a:chExt cx="380880" cy="609840"/>
          </a:xfrm>
        </p:grpSpPr>
        <p:sp>
          <p:nvSpPr>
            <p:cNvPr id="50" name=""/>
            <p:cNvSpPr/>
            <p:nvPr/>
          </p:nvSpPr>
          <p:spPr>
            <a:xfrm>
              <a:off x="152388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388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5248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91440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"/>
          <p:cNvGrpSpPr/>
          <p:nvPr/>
        </p:nvGrpSpPr>
        <p:grpSpPr>
          <a:xfrm>
            <a:off x="1447920" y="3429000"/>
            <a:ext cx="380880" cy="609120"/>
            <a:chOff x="1447920" y="3429000"/>
            <a:chExt cx="380880" cy="609120"/>
          </a:xfrm>
        </p:grpSpPr>
        <p:sp>
          <p:nvSpPr>
            <p:cNvPr id="56" name=""/>
            <p:cNvSpPr/>
            <p:nvPr/>
          </p:nvSpPr>
          <p:spPr>
            <a:xfrm>
              <a:off x="152388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388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92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447920" y="4267080"/>
            <a:ext cx="380880" cy="609840"/>
            <a:chOff x="1447920" y="4267080"/>
            <a:chExt cx="380880" cy="609840"/>
          </a:xfrm>
        </p:grpSpPr>
        <p:sp>
          <p:nvSpPr>
            <p:cNvPr id="61" name=""/>
            <p:cNvSpPr/>
            <p:nvPr/>
          </p:nvSpPr>
          <p:spPr>
            <a:xfrm>
              <a:off x="152388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447920" y="5029200"/>
            <a:ext cx="380880" cy="609120"/>
            <a:chOff x="1447920" y="5029200"/>
            <a:chExt cx="380880" cy="609120"/>
          </a:xfrm>
        </p:grpSpPr>
        <p:sp>
          <p:nvSpPr>
            <p:cNvPr id="66" name=""/>
            <p:cNvSpPr/>
            <p:nvPr/>
          </p:nvSpPr>
          <p:spPr>
            <a:xfrm>
              <a:off x="152388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248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5867280"/>
            <a:ext cx="380880" cy="609840"/>
            <a:chOff x="1447920" y="586728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152388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388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48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4792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48320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232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9472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6304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7708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32160" y="2362320"/>
            <a:ext cx="27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s g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1676520" y="1981080"/>
            <a:ext cx="380880" cy="609840"/>
            <a:chOff x="1676520" y="1981080"/>
            <a:chExt cx="380880" cy="609840"/>
          </a:xfrm>
        </p:grpSpPr>
        <p:sp>
          <p:nvSpPr>
            <p:cNvPr id="771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248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8108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7652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676520" y="3124080"/>
            <a:ext cx="380880" cy="609840"/>
            <a:chOff x="1676520" y="3124080"/>
            <a:chExt cx="380880" cy="609840"/>
          </a:xfrm>
        </p:grpSpPr>
        <p:sp>
          <p:nvSpPr>
            <p:cNvPr id="776" name=""/>
            <p:cNvSpPr/>
            <p:nvPr/>
          </p:nvSpPr>
          <p:spPr>
            <a:xfrm>
              <a:off x="175248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5248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8108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7652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676520" y="3809880"/>
            <a:ext cx="380880" cy="609840"/>
            <a:chOff x="1676520" y="3809880"/>
            <a:chExt cx="380880" cy="609840"/>
          </a:xfrm>
        </p:grpSpPr>
        <p:sp>
          <p:nvSpPr>
            <p:cNvPr id="781" name=""/>
            <p:cNvSpPr/>
            <p:nvPr/>
          </p:nvSpPr>
          <p:spPr>
            <a:xfrm>
              <a:off x="175248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5248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8108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7652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676520" y="3200400"/>
            <a:ext cx="380880" cy="609120"/>
            <a:chOff x="1676520" y="3200400"/>
            <a:chExt cx="380880" cy="609120"/>
          </a:xfrm>
        </p:grpSpPr>
        <p:sp>
          <p:nvSpPr>
            <p:cNvPr id="786" name=""/>
            <p:cNvSpPr/>
            <p:nvPr/>
          </p:nvSpPr>
          <p:spPr>
            <a:xfrm>
              <a:off x="17524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524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9810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65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76520" y="2057400"/>
            <a:ext cx="380880" cy="609120"/>
            <a:chOff x="1676520" y="2057400"/>
            <a:chExt cx="380880" cy="609120"/>
          </a:xfrm>
        </p:grpSpPr>
        <p:sp>
          <p:nvSpPr>
            <p:cNvPr id="791" name=""/>
            <p:cNvSpPr/>
            <p:nvPr/>
          </p:nvSpPr>
          <p:spPr>
            <a:xfrm>
              <a:off x="175248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5248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108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652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71180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69092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2332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916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056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33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90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74760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80120" y="624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6200000">
            <a:off x="1407960" y="1715760"/>
            <a:ext cx="9144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2895480"/>
            <a:ext cx="137160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49240" y="21034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,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679840" y="3657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, c,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271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 zoom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43434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" y="1295280"/>
            <a:ext cx="3276720" cy="3886200"/>
          </a:xfrm>
          <a:prstGeom prst="rect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809880" y="2590920"/>
            <a:ext cx="457200" cy="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1828800" y="1905120"/>
            <a:ext cx="380880" cy="609120"/>
            <a:chOff x="1828800" y="1905120"/>
            <a:chExt cx="380880" cy="609120"/>
          </a:xfrm>
        </p:grpSpPr>
        <p:sp>
          <p:nvSpPr>
            <p:cNvPr id="829" name=""/>
            <p:cNvSpPr/>
            <p:nvPr/>
          </p:nvSpPr>
          <p:spPr>
            <a:xfrm>
              <a:off x="1904760" y="19051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04760" y="21333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33360" y="21333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8800" y="21333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752480" y="4495680"/>
            <a:ext cx="380880" cy="609840"/>
            <a:chOff x="1752480" y="4495680"/>
            <a:chExt cx="380880" cy="609840"/>
          </a:xfrm>
        </p:grpSpPr>
        <p:sp>
          <p:nvSpPr>
            <p:cNvPr id="834" name=""/>
            <p:cNvSpPr/>
            <p:nvPr/>
          </p:nvSpPr>
          <p:spPr>
            <a:xfrm>
              <a:off x="1828440" y="4495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28440" y="4724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57040" y="4724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52480" y="4724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676520" y="5181480"/>
            <a:ext cx="380880" cy="609840"/>
            <a:chOff x="1676520" y="5181480"/>
            <a:chExt cx="380880" cy="609840"/>
          </a:xfrm>
        </p:grpSpPr>
        <p:sp>
          <p:nvSpPr>
            <p:cNvPr id="839" name=""/>
            <p:cNvSpPr/>
            <p:nvPr/>
          </p:nvSpPr>
          <p:spPr>
            <a:xfrm>
              <a:off x="1752480" y="51814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52480" y="54100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81080" y="54100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76520" y="54100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209680" y="4419720"/>
            <a:ext cx="380880" cy="609120"/>
            <a:chOff x="2209680" y="4419720"/>
            <a:chExt cx="380880" cy="609120"/>
          </a:xfrm>
        </p:grpSpPr>
        <p:sp>
          <p:nvSpPr>
            <p:cNvPr id="844" name=""/>
            <p:cNvSpPr/>
            <p:nvPr/>
          </p:nvSpPr>
          <p:spPr>
            <a:xfrm>
              <a:off x="2285640" y="44197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85640" y="46479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14240" y="46479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09680" y="46479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86000" y="1828800"/>
            <a:ext cx="380880" cy="609120"/>
            <a:chOff x="2286000" y="1828800"/>
            <a:chExt cx="380880" cy="609120"/>
          </a:xfrm>
        </p:grpSpPr>
        <p:sp>
          <p:nvSpPr>
            <p:cNvPr id="849" name=""/>
            <p:cNvSpPr/>
            <p:nvPr/>
          </p:nvSpPr>
          <p:spPr>
            <a:xfrm>
              <a:off x="2361960" y="1828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61960" y="2057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90560" y="2057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86000" y="2057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823040" y="2057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66880" y="47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23320" y="53341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07520" y="45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528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1523880" y="1447560"/>
            <a:ext cx="1371600" cy="1219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447920" y="3657600"/>
            <a:ext cx="1371600" cy="28195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6576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t satis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rink along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19051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904760" y="2514600"/>
            <a:ext cx="75960" cy="198108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676520" y="3581280"/>
            <a:ext cx="7596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1752480" y="2971800"/>
            <a:ext cx="7632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1828800" y="2133720"/>
            <a:ext cx="380880" cy="609120"/>
            <a:chOff x="1828800" y="2133720"/>
            <a:chExt cx="380880" cy="609120"/>
          </a:xfrm>
        </p:grpSpPr>
        <p:sp>
          <p:nvSpPr>
            <p:cNvPr id="868" name=""/>
            <p:cNvSpPr/>
            <p:nvPr/>
          </p:nvSpPr>
          <p:spPr>
            <a:xfrm>
              <a:off x="1904760" y="21337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04760" y="23619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33360" y="23619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28800" y="23619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752480" y="4267080"/>
            <a:ext cx="380880" cy="609840"/>
            <a:chOff x="1752480" y="4267080"/>
            <a:chExt cx="380880" cy="609840"/>
          </a:xfrm>
        </p:grpSpPr>
        <p:sp>
          <p:nvSpPr>
            <p:cNvPr id="873" name=""/>
            <p:cNvSpPr/>
            <p:nvPr/>
          </p:nvSpPr>
          <p:spPr>
            <a:xfrm>
              <a:off x="18284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284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570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524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676520" y="4952880"/>
            <a:ext cx="380880" cy="609840"/>
            <a:chOff x="1676520" y="4952880"/>
            <a:chExt cx="380880" cy="609840"/>
          </a:xfrm>
        </p:grpSpPr>
        <p:sp>
          <p:nvSpPr>
            <p:cNvPr id="878" name=""/>
            <p:cNvSpPr/>
            <p:nvPr/>
          </p:nvSpPr>
          <p:spPr>
            <a:xfrm>
              <a:off x="1752480" y="4952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52480" y="5181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5181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6520" y="5181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2209680" y="4191120"/>
            <a:ext cx="380880" cy="609120"/>
            <a:chOff x="2209680" y="4191120"/>
            <a:chExt cx="380880" cy="609120"/>
          </a:xfrm>
        </p:grpSpPr>
        <p:sp>
          <p:nvSpPr>
            <p:cNvPr id="883" name=""/>
            <p:cNvSpPr/>
            <p:nvPr/>
          </p:nvSpPr>
          <p:spPr>
            <a:xfrm>
              <a:off x="2285640" y="41911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85640" y="44193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240" y="44193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09680" y="44193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2057400"/>
            <a:ext cx="380880" cy="609120"/>
            <a:chOff x="2286000" y="2057400"/>
            <a:chExt cx="380880" cy="609120"/>
          </a:xfrm>
        </p:grpSpPr>
        <p:sp>
          <p:nvSpPr>
            <p:cNvPr id="888" name=""/>
            <p:cNvSpPr/>
            <p:nvPr/>
          </p:nvSpPr>
          <p:spPr>
            <a:xfrm>
              <a:off x="236196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196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9056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8600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823040" y="2286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66880" y="449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723320" y="5105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07520" y="43434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85280" y="2209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16200000">
            <a:off x="1523880" y="1676160"/>
            <a:ext cx="1371600" cy="1219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3429000"/>
            <a:ext cx="1371600" cy="28195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67080" y="19051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1828800" y="2133720"/>
            <a:ext cx="380880" cy="609120"/>
            <a:chOff x="1828800" y="2133720"/>
            <a:chExt cx="380880" cy="609120"/>
          </a:xfrm>
        </p:grpSpPr>
        <p:sp>
          <p:nvSpPr>
            <p:cNvPr id="903" name=""/>
            <p:cNvSpPr/>
            <p:nvPr/>
          </p:nvSpPr>
          <p:spPr>
            <a:xfrm>
              <a:off x="1904760" y="21337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04760" y="23619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33360" y="23619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28800" y="23619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752480" y="4267080"/>
            <a:ext cx="380880" cy="609840"/>
            <a:chOff x="1752480" y="4267080"/>
            <a:chExt cx="380880" cy="609840"/>
          </a:xfrm>
        </p:grpSpPr>
        <p:sp>
          <p:nvSpPr>
            <p:cNvPr id="908" name=""/>
            <p:cNvSpPr/>
            <p:nvPr/>
          </p:nvSpPr>
          <p:spPr>
            <a:xfrm>
              <a:off x="18284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284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570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524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676520" y="4952880"/>
            <a:ext cx="380880" cy="609840"/>
            <a:chOff x="1676520" y="4952880"/>
            <a:chExt cx="380880" cy="609840"/>
          </a:xfrm>
        </p:grpSpPr>
        <p:sp>
          <p:nvSpPr>
            <p:cNvPr id="913" name=""/>
            <p:cNvSpPr/>
            <p:nvPr/>
          </p:nvSpPr>
          <p:spPr>
            <a:xfrm>
              <a:off x="1752480" y="4952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52480" y="5181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81080" y="5181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76520" y="5181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209680" y="4191120"/>
            <a:ext cx="380880" cy="609120"/>
            <a:chOff x="2209680" y="4191120"/>
            <a:chExt cx="380880" cy="609120"/>
          </a:xfrm>
        </p:grpSpPr>
        <p:sp>
          <p:nvSpPr>
            <p:cNvPr id="918" name=""/>
            <p:cNvSpPr/>
            <p:nvPr/>
          </p:nvSpPr>
          <p:spPr>
            <a:xfrm>
              <a:off x="2285640" y="41911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85640" y="44193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514240" y="44193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44193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2286000" y="2057400"/>
            <a:ext cx="380880" cy="609120"/>
            <a:chOff x="2286000" y="2057400"/>
            <a:chExt cx="380880" cy="609120"/>
          </a:xfrm>
        </p:grpSpPr>
        <p:sp>
          <p:nvSpPr>
            <p:cNvPr id="923" name=""/>
            <p:cNvSpPr/>
            <p:nvPr/>
          </p:nvSpPr>
          <p:spPr>
            <a:xfrm>
              <a:off x="2361960" y="2057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61960" y="2285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90560" y="2285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6000" y="2285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1823040" y="2286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66880" y="449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23320" y="5105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07520" y="43434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85280" y="2209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1523880" y="1676160"/>
            <a:ext cx="1371600" cy="1219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447920" y="3429000"/>
            <a:ext cx="1371600" cy="28195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981080" y="4800240"/>
            <a:ext cx="381240" cy="304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67080" y="36576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t satis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etch along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267080" y="19051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"/>
          <p:cNvGrpSpPr/>
          <p:nvPr/>
        </p:nvGrpSpPr>
        <p:grpSpPr>
          <a:xfrm>
            <a:off x="1752480" y="2209680"/>
            <a:ext cx="380880" cy="609840"/>
            <a:chOff x="1752480" y="2209680"/>
            <a:chExt cx="380880" cy="609840"/>
          </a:xfrm>
        </p:grpSpPr>
        <p:sp>
          <p:nvSpPr>
            <p:cNvPr id="940" name=""/>
            <p:cNvSpPr/>
            <p:nvPr/>
          </p:nvSpPr>
          <p:spPr>
            <a:xfrm>
              <a:off x="1828440" y="2209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28440" y="2438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57040" y="2438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52480" y="2438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1676520" y="4343400"/>
            <a:ext cx="380880" cy="609120"/>
            <a:chOff x="1676520" y="4343400"/>
            <a:chExt cx="380880" cy="609120"/>
          </a:xfrm>
        </p:grpSpPr>
        <p:sp>
          <p:nvSpPr>
            <p:cNvPr id="945" name=""/>
            <p:cNvSpPr/>
            <p:nvPr/>
          </p:nvSpPr>
          <p:spPr>
            <a:xfrm>
              <a:off x="1752480" y="4343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52480" y="4571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81080" y="4571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76520" y="4571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523880" y="5029200"/>
            <a:ext cx="380880" cy="609120"/>
            <a:chOff x="1523880" y="5029200"/>
            <a:chExt cx="380880" cy="609120"/>
          </a:xfrm>
        </p:grpSpPr>
        <p:sp>
          <p:nvSpPr>
            <p:cNvPr id="950" name=""/>
            <p:cNvSpPr/>
            <p:nvPr/>
          </p:nvSpPr>
          <p:spPr>
            <a:xfrm>
              <a:off x="1599840" y="5029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99840" y="5257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28440" y="5257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23880" y="5257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362320" y="4114800"/>
            <a:ext cx="380880" cy="609120"/>
            <a:chOff x="2362320" y="4114800"/>
            <a:chExt cx="380880" cy="609120"/>
          </a:xfrm>
        </p:grpSpPr>
        <p:sp>
          <p:nvSpPr>
            <p:cNvPr id="955" name=""/>
            <p:cNvSpPr/>
            <p:nvPr/>
          </p:nvSpPr>
          <p:spPr>
            <a:xfrm>
              <a:off x="2438280" y="4114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38280" y="4343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66880" y="4343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62320" y="4343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362320" y="1981080"/>
            <a:ext cx="380880" cy="609840"/>
            <a:chOff x="2362320" y="1981080"/>
            <a:chExt cx="380880" cy="609840"/>
          </a:xfrm>
        </p:grpSpPr>
        <p:sp>
          <p:nvSpPr>
            <p:cNvPr id="960" name=""/>
            <p:cNvSpPr/>
            <p:nvPr/>
          </p:nvSpPr>
          <p:spPr>
            <a:xfrm>
              <a:off x="2438280" y="1981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38280" y="2209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66880" y="2209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62320" y="2209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1746720" y="236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66880" y="449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71040" y="51814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59800" y="42670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6124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duce metric from p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6200000">
            <a:off x="1447560" y="1523880"/>
            <a:ext cx="1524240" cy="1523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3352680"/>
            <a:ext cx="1676520" cy="2895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67080" y="19051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Prefer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Comic Sans MS"/>
              </a:rPr>
              <a:t>In-same(a,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-different(c,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3962520" y="2209680"/>
            <a:ext cx="380880" cy="609840"/>
            <a:chOff x="3962520" y="2209680"/>
            <a:chExt cx="380880" cy="609840"/>
          </a:xfrm>
        </p:grpSpPr>
        <p:sp>
          <p:nvSpPr>
            <p:cNvPr id="974" name=""/>
            <p:cNvSpPr/>
            <p:nvPr/>
          </p:nvSpPr>
          <p:spPr>
            <a:xfrm>
              <a:off x="4038480" y="2209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38480" y="2438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67080" y="2438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62520" y="2438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86200" y="4343400"/>
            <a:ext cx="380880" cy="609120"/>
            <a:chOff x="3886200" y="4343400"/>
            <a:chExt cx="380880" cy="609120"/>
          </a:xfrm>
        </p:grpSpPr>
        <p:sp>
          <p:nvSpPr>
            <p:cNvPr id="979" name=""/>
            <p:cNvSpPr/>
            <p:nvPr/>
          </p:nvSpPr>
          <p:spPr>
            <a:xfrm>
              <a:off x="3962160" y="4343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62160" y="4571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90760" y="4571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86200" y="4571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3733920" y="5029200"/>
            <a:ext cx="380880" cy="609120"/>
            <a:chOff x="3733920" y="5029200"/>
            <a:chExt cx="380880" cy="609120"/>
          </a:xfrm>
        </p:grpSpPr>
        <p:sp>
          <p:nvSpPr>
            <p:cNvPr id="984" name=""/>
            <p:cNvSpPr/>
            <p:nvPr/>
          </p:nvSpPr>
          <p:spPr>
            <a:xfrm>
              <a:off x="3809880" y="5029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09880" y="5257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38480" y="5257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33920" y="5257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572000" y="4114800"/>
            <a:ext cx="380880" cy="609120"/>
            <a:chOff x="4572000" y="4114800"/>
            <a:chExt cx="380880" cy="609120"/>
          </a:xfrm>
        </p:grpSpPr>
        <p:sp>
          <p:nvSpPr>
            <p:cNvPr id="989" name=""/>
            <p:cNvSpPr/>
            <p:nvPr/>
          </p:nvSpPr>
          <p:spPr>
            <a:xfrm>
              <a:off x="4647960" y="4114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47960" y="4343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76560" y="4343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2000" y="4343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572000" y="1981080"/>
            <a:ext cx="380880" cy="609840"/>
            <a:chOff x="4572000" y="1981080"/>
            <a:chExt cx="380880" cy="609840"/>
          </a:xfrm>
        </p:grpSpPr>
        <p:sp>
          <p:nvSpPr>
            <p:cNvPr id="994" name=""/>
            <p:cNvSpPr/>
            <p:nvPr/>
          </p:nvSpPr>
          <p:spPr>
            <a:xfrm>
              <a:off x="4647960" y="1981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47960" y="2209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76560" y="2209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72000" y="2209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3956760" y="236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900600" y="449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780720" y="51814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69840" y="42670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712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hrinking, stretching = new distance metr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6200000">
            <a:off x="3657240" y="1523880"/>
            <a:ext cx="1524240" cy="1523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05320" y="3352680"/>
            <a:ext cx="1676160" cy="2895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295280" y="1905120"/>
            <a:ext cx="380880" cy="609120"/>
            <a:chOff x="1295280" y="1905120"/>
            <a:chExt cx="380880" cy="609120"/>
          </a:xfrm>
        </p:grpSpPr>
        <p:sp>
          <p:nvSpPr>
            <p:cNvPr id="1007" name=""/>
            <p:cNvSpPr/>
            <p:nvPr/>
          </p:nvSpPr>
          <p:spPr>
            <a:xfrm>
              <a:off x="1371240" y="19051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71240" y="21333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99840" y="21333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21333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219320" y="4495680"/>
            <a:ext cx="380880" cy="609840"/>
            <a:chOff x="1219320" y="4495680"/>
            <a:chExt cx="380880" cy="609840"/>
          </a:xfrm>
        </p:grpSpPr>
        <p:sp>
          <p:nvSpPr>
            <p:cNvPr id="1012" name=""/>
            <p:cNvSpPr/>
            <p:nvPr/>
          </p:nvSpPr>
          <p:spPr>
            <a:xfrm>
              <a:off x="1295280" y="4495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95280" y="4724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23880" y="4724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19320" y="4724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5181480"/>
            <a:ext cx="380880" cy="609840"/>
            <a:chOff x="1143000" y="5181480"/>
            <a:chExt cx="380880" cy="609840"/>
          </a:xfrm>
        </p:grpSpPr>
        <p:sp>
          <p:nvSpPr>
            <p:cNvPr id="1017" name=""/>
            <p:cNvSpPr/>
            <p:nvPr/>
          </p:nvSpPr>
          <p:spPr>
            <a:xfrm>
              <a:off x="1218960" y="51814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18960" y="54100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47560" y="54100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43000" y="54100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1676520" y="4419720"/>
            <a:ext cx="380880" cy="609120"/>
            <a:chOff x="1676520" y="4419720"/>
            <a:chExt cx="380880" cy="609120"/>
          </a:xfrm>
        </p:grpSpPr>
        <p:sp>
          <p:nvSpPr>
            <p:cNvPr id="1022" name=""/>
            <p:cNvSpPr/>
            <p:nvPr/>
          </p:nvSpPr>
          <p:spPr>
            <a:xfrm>
              <a:off x="1752480" y="44197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752480" y="46479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81080" y="46479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76520" y="46479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1752480" y="1828800"/>
            <a:ext cx="380880" cy="609120"/>
            <a:chOff x="1752480" y="1828800"/>
            <a:chExt cx="380880" cy="609120"/>
          </a:xfrm>
        </p:grpSpPr>
        <p:sp>
          <p:nvSpPr>
            <p:cNvPr id="1027" name=""/>
            <p:cNvSpPr/>
            <p:nvPr/>
          </p:nvSpPr>
          <p:spPr>
            <a:xfrm>
              <a:off x="1828440" y="1828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28440" y="2057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57040" y="2057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52480" y="2057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289520" y="2057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233720" y="47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189800" y="53341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74000" y="45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5176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6200000">
            <a:off x="990360" y="1447560"/>
            <a:ext cx="1371600" cy="1219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914400" y="3657600"/>
            <a:ext cx="1371600" cy="28195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59400" y="64008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71160" y="6400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962520" y="2209680"/>
            <a:ext cx="380880" cy="609840"/>
            <a:chOff x="3962520" y="2209680"/>
            <a:chExt cx="380880" cy="609840"/>
          </a:xfrm>
        </p:grpSpPr>
        <p:sp>
          <p:nvSpPr>
            <p:cNvPr id="1041" name=""/>
            <p:cNvSpPr/>
            <p:nvPr/>
          </p:nvSpPr>
          <p:spPr>
            <a:xfrm>
              <a:off x="4038480" y="2209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38480" y="2438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267080" y="2438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62520" y="2438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886200" y="4343400"/>
            <a:ext cx="380880" cy="609120"/>
            <a:chOff x="3886200" y="4343400"/>
            <a:chExt cx="380880" cy="609120"/>
          </a:xfrm>
        </p:grpSpPr>
        <p:sp>
          <p:nvSpPr>
            <p:cNvPr id="1046" name=""/>
            <p:cNvSpPr/>
            <p:nvPr/>
          </p:nvSpPr>
          <p:spPr>
            <a:xfrm>
              <a:off x="3962160" y="4343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62160" y="4571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90760" y="4571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86200" y="4571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733920" y="5029200"/>
            <a:ext cx="380880" cy="609120"/>
            <a:chOff x="3733920" y="5029200"/>
            <a:chExt cx="380880" cy="609120"/>
          </a:xfrm>
        </p:grpSpPr>
        <p:sp>
          <p:nvSpPr>
            <p:cNvPr id="1051" name=""/>
            <p:cNvSpPr/>
            <p:nvPr/>
          </p:nvSpPr>
          <p:spPr>
            <a:xfrm>
              <a:off x="3809880" y="5029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09880" y="5257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38480" y="5257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33920" y="5257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4572000" y="4114800"/>
            <a:ext cx="380880" cy="609120"/>
            <a:chOff x="4572000" y="4114800"/>
            <a:chExt cx="380880" cy="609120"/>
          </a:xfrm>
        </p:grpSpPr>
        <p:sp>
          <p:nvSpPr>
            <p:cNvPr id="1056" name=""/>
            <p:cNvSpPr/>
            <p:nvPr/>
          </p:nvSpPr>
          <p:spPr>
            <a:xfrm>
              <a:off x="4647960" y="4114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7960" y="4343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876560" y="4343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72000" y="4343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4572000" y="1981080"/>
            <a:ext cx="380880" cy="609840"/>
            <a:chOff x="4572000" y="1981080"/>
            <a:chExt cx="380880" cy="609840"/>
          </a:xfrm>
        </p:grpSpPr>
        <p:sp>
          <p:nvSpPr>
            <p:cNvPr id="1061" name=""/>
            <p:cNvSpPr/>
            <p:nvPr/>
          </p:nvSpPr>
          <p:spPr>
            <a:xfrm>
              <a:off x="4647960" y="1981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7960" y="2209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876560" y="2209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72000" y="2209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3956760" y="236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00600" y="4495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80720" y="51814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69840" y="42670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7128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Keep Shrinking, stretc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16200000">
            <a:off x="3657240" y="1523880"/>
            <a:ext cx="1524240" cy="1523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05320" y="3352680"/>
            <a:ext cx="1676160" cy="2895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1295280" y="1905120"/>
            <a:ext cx="380880" cy="609120"/>
            <a:chOff x="1295280" y="1905120"/>
            <a:chExt cx="380880" cy="609120"/>
          </a:xfrm>
        </p:grpSpPr>
        <p:sp>
          <p:nvSpPr>
            <p:cNvPr id="1074" name=""/>
            <p:cNvSpPr/>
            <p:nvPr/>
          </p:nvSpPr>
          <p:spPr>
            <a:xfrm>
              <a:off x="1371240" y="19051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71240" y="21333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99840" y="21333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95280" y="21333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1219320" y="4495680"/>
            <a:ext cx="380880" cy="609840"/>
            <a:chOff x="1219320" y="4495680"/>
            <a:chExt cx="380880" cy="609840"/>
          </a:xfrm>
        </p:grpSpPr>
        <p:sp>
          <p:nvSpPr>
            <p:cNvPr id="1079" name=""/>
            <p:cNvSpPr/>
            <p:nvPr/>
          </p:nvSpPr>
          <p:spPr>
            <a:xfrm>
              <a:off x="1295280" y="44956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95280" y="47242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47242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19320" y="47242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1143000" y="5181480"/>
            <a:ext cx="380880" cy="609840"/>
            <a:chOff x="1143000" y="5181480"/>
            <a:chExt cx="380880" cy="609840"/>
          </a:xfrm>
        </p:grpSpPr>
        <p:sp>
          <p:nvSpPr>
            <p:cNvPr id="1084" name=""/>
            <p:cNvSpPr/>
            <p:nvPr/>
          </p:nvSpPr>
          <p:spPr>
            <a:xfrm>
              <a:off x="1218960" y="51814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18960" y="54100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560" y="54100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143000" y="54100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676520" y="4419720"/>
            <a:ext cx="380880" cy="609120"/>
            <a:chOff x="1676520" y="4419720"/>
            <a:chExt cx="380880" cy="609120"/>
          </a:xfrm>
        </p:grpSpPr>
        <p:sp>
          <p:nvSpPr>
            <p:cNvPr id="1089" name=""/>
            <p:cNvSpPr/>
            <p:nvPr/>
          </p:nvSpPr>
          <p:spPr>
            <a:xfrm>
              <a:off x="1752480" y="44197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52480" y="46479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81080" y="46479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76520" y="46479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1752480" y="1828800"/>
            <a:ext cx="380880" cy="609120"/>
            <a:chOff x="1752480" y="1828800"/>
            <a:chExt cx="380880" cy="609120"/>
          </a:xfrm>
        </p:grpSpPr>
        <p:sp>
          <p:nvSpPr>
            <p:cNvPr id="1094" name=""/>
            <p:cNvSpPr/>
            <p:nvPr/>
          </p:nvSpPr>
          <p:spPr>
            <a:xfrm>
              <a:off x="1828440" y="1828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8440" y="2057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57040" y="2057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52480" y="2057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1289520" y="2057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33720" y="47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89800" y="53341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74000" y="45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176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6200000">
            <a:off x="990360" y="1447560"/>
            <a:ext cx="1371600" cy="1219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914400" y="3657600"/>
            <a:ext cx="1371600" cy="28195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59400" y="64008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971160" y="6400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6553080" y="2666880"/>
            <a:ext cx="380880" cy="609840"/>
            <a:chOff x="6553080" y="2666880"/>
            <a:chExt cx="380880" cy="609840"/>
          </a:xfrm>
        </p:grpSpPr>
        <p:sp>
          <p:nvSpPr>
            <p:cNvPr id="1108" name=""/>
            <p:cNvSpPr/>
            <p:nvPr/>
          </p:nvSpPr>
          <p:spPr>
            <a:xfrm>
              <a:off x="66290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290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576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30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324480" y="3429000"/>
            <a:ext cx="380880" cy="609120"/>
            <a:chOff x="6324480" y="3429000"/>
            <a:chExt cx="380880" cy="609120"/>
          </a:xfrm>
        </p:grpSpPr>
        <p:sp>
          <p:nvSpPr>
            <p:cNvPr id="1113" name=""/>
            <p:cNvSpPr/>
            <p:nvPr/>
          </p:nvSpPr>
          <p:spPr>
            <a:xfrm>
              <a:off x="64004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004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290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244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019920" y="3581280"/>
            <a:ext cx="380880" cy="609840"/>
            <a:chOff x="6019920" y="3581280"/>
            <a:chExt cx="380880" cy="609840"/>
          </a:xfrm>
        </p:grpSpPr>
        <p:sp>
          <p:nvSpPr>
            <p:cNvPr id="1118" name=""/>
            <p:cNvSpPr/>
            <p:nvPr/>
          </p:nvSpPr>
          <p:spPr>
            <a:xfrm>
              <a:off x="6095880" y="35812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095880" y="38098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4480" y="38098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19920" y="38098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8153280" y="3352680"/>
            <a:ext cx="380880" cy="609840"/>
            <a:chOff x="8153280" y="3352680"/>
            <a:chExt cx="380880" cy="609840"/>
          </a:xfrm>
        </p:grpSpPr>
        <p:sp>
          <p:nvSpPr>
            <p:cNvPr id="1123" name=""/>
            <p:cNvSpPr/>
            <p:nvPr/>
          </p:nvSpPr>
          <p:spPr>
            <a:xfrm>
              <a:off x="8229240" y="33526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29240" y="35812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57840" y="35812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53280" y="35812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8381880" y="2590920"/>
            <a:ext cx="380880" cy="609120"/>
            <a:chOff x="8381880" y="2590920"/>
            <a:chExt cx="380880" cy="609120"/>
          </a:xfrm>
        </p:grpSpPr>
        <p:sp>
          <p:nvSpPr>
            <p:cNvPr id="1128" name=""/>
            <p:cNvSpPr/>
            <p:nvPr/>
          </p:nvSpPr>
          <p:spPr>
            <a:xfrm>
              <a:off x="8457840" y="25909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457840" y="28191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86440" y="28191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381880" y="28191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5473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38880" y="3581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66720" y="37339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151120" y="3505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38116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36400" y="6400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Keep Shrinking, stretc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6553080" y="2666880"/>
            <a:ext cx="380880" cy="609840"/>
            <a:chOff x="6553080" y="2666880"/>
            <a:chExt cx="380880" cy="609840"/>
          </a:xfrm>
        </p:grpSpPr>
        <p:sp>
          <p:nvSpPr>
            <p:cNvPr id="1140" name=""/>
            <p:cNvSpPr/>
            <p:nvPr/>
          </p:nvSpPr>
          <p:spPr>
            <a:xfrm>
              <a:off x="66290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290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576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530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324480" y="3429000"/>
            <a:ext cx="380880" cy="609120"/>
            <a:chOff x="6324480" y="3429000"/>
            <a:chExt cx="380880" cy="609120"/>
          </a:xfrm>
        </p:grpSpPr>
        <p:sp>
          <p:nvSpPr>
            <p:cNvPr id="1145" name=""/>
            <p:cNvSpPr/>
            <p:nvPr/>
          </p:nvSpPr>
          <p:spPr>
            <a:xfrm>
              <a:off x="64004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004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290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244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6019920" y="3581280"/>
            <a:ext cx="380880" cy="609840"/>
            <a:chOff x="6019920" y="3581280"/>
            <a:chExt cx="380880" cy="609840"/>
          </a:xfrm>
        </p:grpSpPr>
        <p:sp>
          <p:nvSpPr>
            <p:cNvPr id="1150" name=""/>
            <p:cNvSpPr/>
            <p:nvPr/>
          </p:nvSpPr>
          <p:spPr>
            <a:xfrm>
              <a:off x="6095880" y="35812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95880" y="38098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24480" y="38098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19920" y="38098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8153280" y="3352680"/>
            <a:ext cx="380880" cy="609840"/>
            <a:chOff x="8153280" y="3352680"/>
            <a:chExt cx="380880" cy="609840"/>
          </a:xfrm>
        </p:grpSpPr>
        <p:sp>
          <p:nvSpPr>
            <p:cNvPr id="1155" name=""/>
            <p:cNvSpPr/>
            <p:nvPr/>
          </p:nvSpPr>
          <p:spPr>
            <a:xfrm>
              <a:off x="8229240" y="33526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9240" y="35812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57840" y="35812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53280" y="35812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8381880" y="2590920"/>
            <a:ext cx="380880" cy="609120"/>
            <a:chOff x="8381880" y="2590920"/>
            <a:chExt cx="380880" cy="609120"/>
          </a:xfrm>
        </p:grpSpPr>
        <p:sp>
          <p:nvSpPr>
            <p:cNvPr id="1160" name=""/>
            <p:cNvSpPr/>
            <p:nvPr/>
          </p:nvSpPr>
          <p:spPr>
            <a:xfrm>
              <a:off x="8457840" y="25909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457840" y="28191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86440" y="28191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381880" y="28191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5473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338880" y="3581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66720" y="37339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151120" y="35053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116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36400" y="6400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4400" y="3276720"/>
            <a:ext cx="46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the metric is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588800">
            <a:off x="5866920" y="2133360"/>
            <a:ext cx="1295640" cy="2666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099800">
            <a:off x="8076960" y="2362320"/>
            <a:ext cx="761760" cy="1752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he algorith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" y="1219320"/>
            <a:ext cx="8534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uster with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riginal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Euclidean 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satisfi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-same(x,y):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hrink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long 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-different(x,y):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retc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long 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o cluster with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til enough preferences satis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etai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0880" y="1828800"/>
            <a:ext cx="83059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uch to shrink/stretch? Currently 0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y variations: e.g. axis-parallel (eq. Scaling or feature weighting); instead of stretching, push to different cluster centers;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ough satisfied?  We run 100 iterations and pick the highest satisfied ite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00200" y="1295280"/>
            <a:ext cx="765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you’re to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d      have same gende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d      have different gende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guess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05120" y="2286000"/>
            <a:ext cx="380880" cy="609120"/>
            <a:chOff x="1905120" y="2286000"/>
            <a:chExt cx="380880" cy="609120"/>
          </a:xfrm>
        </p:grpSpPr>
        <p:sp>
          <p:nvSpPr>
            <p:cNvPr id="83" name=""/>
            <p:cNvSpPr/>
            <p:nvPr/>
          </p:nvSpPr>
          <p:spPr>
            <a:xfrm>
              <a:off x="1981080" y="2286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2514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2514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5120" y="2514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40400" y="2438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76720" y="2286000"/>
            <a:ext cx="380880" cy="609120"/>
            <a:chOff x="3276720" y="2286000"/>
            <a:chExt cx="380880" cy="609120"/>
          </a:xfrm>
        </p:grpSpPr>
        <p:sp>
          <p:nvSpPr>
            <p:cNvPr id="89" name=""/>
            <p:cNvSpPr/>
            <p:nvPr/>
          </p:nvSpPr>
          <p:spPr>
            <a:xfrm>
              <a:off x="3352680" y="2286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2680" y="2514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81280" y="2514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76720" y="2514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291120" y="2514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05120" y="3200400"/>
            <a:ext cx="380880" cy="609120"/>
            <a:chOff x="1905120" y="3200400"/>
            <a:chExt cx="380880" cy="609120"/>
          </a:xfrm>
        </p:grpSpPr>
        <p:sp>
          <p:nvSpPr>
            <p:cNvPr id="95" name=""/>
            <p:cNvSpPr/>
            <p:nvPr/>
          </p:nvSpPr>
          <p:spPr>
            <a:xfrm>
              <a:off x="1981080" y="3200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3428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3428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3428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953360" y="33526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76720" y="3200400"/>
            <a:ext cx="380880" cy="609120"/>
            <a:chOff x="3276720" y="3200400"/>
            <a:chExt cx="380880" cy="609120"/>
          </a:xfrm>
        </p:grpSpPr>
        <p:sp>
          <p:nvSpPr>
            <p:cNvPr id="101" name=""/>
            <p:cNvSpPr/>
            <p:nvPr/>
          </p:nvSpPr>
          <p:spPr>
            <a:xfrm>
              <a:off x="3352680" y="32004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2680" y="34286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34286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34286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274200" y="342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8840" y="5410080"/>
            <a:ext cx="706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e will show: yes, you 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How to evalu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65040" y="1244520"/>
            <a:ext cx="832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compare the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nd Inde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clusters obtained with the original Euclidean metric, and clusters obtained with the new metr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15360" y="4292640"/>
            <a:ext cx="51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nd Index = k / [n(n-1)/2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9960" y="5054760"/>
            <a:ext cx="77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: number of points t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: number of pairs consistent with 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nd Index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56560" y="1092240"/>
            <a:ext cx="79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=5, there are 5*4/2=10 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th: which pairs have the same g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380880" y="2514600"/>
          <a:ext cx="3365640" cy="338616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3200"/>
                <a:gridCol w="672840"/>
                <a:gridCol w="6732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4" name=""/>
          <p:cNvGrpSpPr/>
          <p:nvPr/>
        </p:nvGrpSpPr>
        <p:grpSpPr>
          <a:xfrm>
            <a:off x="533520" y="3200400"/>
            <a:ext cx="380880" cy="609120"/>
            <a:chOff x="533520" y="3200400"/>
            <a:chExt cx="380880" cy="609120"/>
          </a:xfrm>
        </p:grpSpPr>
        <p:sp>
          <p:nvSpPr>
            <p:cNvPr id="1185" name=""/>
            <p:cNvSpPr/>
            <p:nvPr/>
          </p:nvSpPr>
          <p:spPr>
            <a:xfrm>
              <a:off x="609480" y="3200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9480" y="3428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38080" y="3428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3520" y="3428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533520" y="3886200"/>
            <a:ext cx="380880" cy="609120"/>
            <a:chOff x="533520" y="3886200"/>
            <a:chExt cx="380880" cy="609120"/>
          </a:xfrm>
        </p:grpSpPr>
        <p:sp>
          <p:nvSpPr>
            <p:cNvPr id="1190" name=""/>
            <p:cNvSpPr/>
            <p:nvPr/>
          </p:nvSpPr>
          <p:spPr>
            <a:xfrm>
              <a:off x="609480" y="3886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114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4114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3520" y="4114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533520" y="4572000"/>
            <a:ext cx="380880" cy="609120"/>
            <a:chOff x="533520" y="4572000"/>
            <a:chExt cx="380880" cy="609120"/>
          </a:xfrm>
        </p:grpSpPr>
        <p:sp>
          <p:nvSpPr>
            <p:cNvPr id="1195" name=""/>
            <p:cNvSpPr/>
            <p:nvPr/>
          </p:nvSpPr>
          <p:spPr>
            <a:xfrm>
              <a:off x="609480" y="4572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9480" y="4800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8080" y="4800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800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33520" y="5257800"/>
            <a:ext cx="380880" cy="609120"/>
            <a:chOff x="533520" y="5257800"/>
            <a:chExt cx="380880" cy="609120"/>
          </a:xfrm>
        </p:grpSpPr>
        <p:sp>
          <p:nvSpPr>
            <p:cNvPr id="1200" name=""/>
            <p:cNvSpPr/>
            <p:nvPr/>
          </p:nvSpPr>
          <p:spPr>
            <a:xfrm>
              <a:off x="609480" y="5257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480" y="5486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8080" y="5486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3520" y="5486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568800" y="3352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47920" y="4114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0320" y="4724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48640" y="5334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203480" y="2514600"/>
            <a:ext cx="380880" cy="609120"/>
            <a:chOff x="1203480" y="2514600"/>
            <a:chExt cx="380880" cy="609120"/>
          </a:xfrm>
        </p:grpSpPr>
        <p:sp>
          <p:nvSpPr>
            <p:cNvPr id="1209" name=""/>
            <p:cNvSpPr/>
            <p:nvPr/>
          </p:nvSpPr>
          <p:spPr>
            <a:xfrm>
              <a:off x="1279440" y="2514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79440" y="2742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08040" y="2742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03480" y="2742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1865160" y="2514600"/>
            <a:ext cx="380880" cy="609120"/>
            <a:chOff x="1865160" y="2514600"/>
            <a:chExt cx="380880" cy="609120"/>
          </a:xfrm>
        </p:grpSpPr>
        <p:sp>
          <p:nvSpPr>
            <p:cNvPr id="1214" name=""/>
            <p:cNvSpPr/>
            <p:nvPr/>
          </p:nvSpPr>
          <p:spPr>
            <a:xfrm>
              <a:off x="1941120" y="2514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41120" y="2742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169720" y="2742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65160" y="2742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573280" y="2514600"/>
            <a:ext cx="380880" cy="609120"/>
            <a:chOff x="2573280" y="2514600"/>
            <a:chExt cx="380880" cy="609120"/>
          </a:xfrm>
        </p:grpSpPr>
        <p:sp>
          <p:nvSpPr>
            <p:cNvPr id="1219" name=""/>
            <p:cNvSpPr/>
            <p:nvPr/>
          </p:nvSpPr>
          <p:spPr>
            <a:xfrm>
              <a:off x="2649240" y="2514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49240" y="2742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77840" y="2742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573280" y="2742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246480" y="2514600"/>
            <a:ext cx="380880" cy="609120"/>
            <a:chOff x="3246480" y="2514600"/>
            <a:chExt cx="380880" cy="609120"/>
          </a:xfrm>
        </p:grpSpPr>
        <p:sp>
          <p:nvSpPr>
            <p:cNvPr id="1224" name=""/>
            <p:cNvSpPr/>
            <p:nvPr/>
          </p:nvSpPr>
          <p:spPr>
            <a:xfrm>
              <a:off x="3322440" y="2514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22440" y="2742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551040" y="2742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46480" y="2742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217880" y="2743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12320" y="2666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88400" y="2743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27564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943600" y="3200400"/>
            <a:ext cx="380880" cy="609120"/>
            <a:chOff x="5943600" y="3200400"/>
            <a:chExt cx="380880" cy="609120"/>
          </a:xfrm>
        </p:grpSpPr>
        <p:sp>
          <p:nvSpPr>
            <p:cNvPr id="1233" name=""/>
            <p:cNvSpPr/>
            <p:nvPr/>
          </p:nvSpPr>
          <p:spPr>
            <a:xfrm>
              <a:off x="6019560" y="3200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19560" y="3428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8160" y="3428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943600" y="3428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5715000" y="3962520"/>
            <a:ext cx="380880" cy="609120"/>
            <a:chOff x="5715000" y="3962520"/>
            <a:chExt cx="380880" cy="609120"/>
          </a:xfrm>
        </p:grpSpPr>
        <p:sp>
          <p:nvSpPr>
            <p:cNvPr id="1238" name=""/>
            <p:cNvSpPr/>
            <p:nvPr/>
          </p:nvSpPr>
          <p:spPr>
            <a:xfrm>
              <a:off x="5790960" y="39625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0960" y="41907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19560" y="41907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15000" y="41907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410080" y="4114800"/>
            <a:ext cx="380880" cy="609120"/>
            <a:chOff x="5410080" y="4114800"/>
            <a:chExt cx="380880" cy="609120"/>
          </a:xfrm>
        </p:grpSpPr>
        <p:sp>
          <p:nvSpPr>
            <p:cNvPr id="1243" name=""/>
            <p:cNvSpPr/>
            <p:nvPr/>
          </p:nvSpPr>
          <p:spPr>
            <a:xfrm>
              <a:off x="5486040" y="41148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486040" y="43430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14640" y="43430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10080" y="43430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543800" y="3886200"/>
            <a:ext cx="380880" cy="609120"/>
            <a:chOff x="7543800" y="3886200"/>
            <a:chExt cx="380880" cy="609120"/>
          </a:xfrm>
        </p:grpSpPr>
        <p:sp>
          <p:nvSpPr>
            <p:cNvPr id="1248" name=""/>
            <p:cNvSpPr/>
            <p:nvPr/>
          </p:nvSpPr>
          <p:spPr>
            <a:xfrm>
              <a:off x="7619760" y="3886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19760" y="4114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848360" y="4114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43800" y="4114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7772400" y="3124080"/>
            <a:ext cx="380880" cy="609840"/>
            <a:chOff x="7772400" y="3124080"/>
            <a:chExt cx="380880" cy="609840"/>
          </a:xfrm>
        </p:grpSpPr>
        <p:sp>
          <p:nvSpPr>
            <p:cNvPr id="1253" name=""/>
            <p:cNvSpPr/>
            <p:nvPr/>
          </p:nvSpPr>
          <p:spPr>
            <a:xfrm>
              <a:off x="7848360" y="3124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848360" y="3352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076960" y="3352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72400" y="3352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5937840" y="3352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29400" y="4114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57240" y="42670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41640" y="40384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71680" y="3276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588800">
            <a:off x="5257440" y="2666520"/>
            <a:ext cx="1295280" cy="26672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099800">
            <a:off x="7467120" y="2895480"/>
            <a:ext cx="762120" cy="175284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40800" y="59436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nd Index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6600" y="109224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different cluster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pairs have the same g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80880" y="2514600"/>
          <a:ext cx="3365640" cy="338616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3200"/>
                <a:gridCol w="672840"/>
                <a:gridCol w="6732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8" name=""/>
          <p:cNvGrpSpPr/>
          <p:nvPr/>
        </p:nvGrpSpPr>
        <p:grpSpPr>
          <a:xfrm>
            <a:off x="533520" y="3200400"/>
            <a:ext cx="380880" cy="609120"/>
            <a:chOff x="533520" y="3200400"/>
            <a:chExt cx="380880" cy="609120"/>
          </a:xfrm>
        </p:grpSpPr>
        <p:sp>
          <p:nvSpPr>
            <p:cNvPr id="1269" name=""/>
            <p:cNvSpPr/>
            <p:nvPr/>
          </p:nvSpPr>
          <p:spPr>
            <a:xfrm>
              <a:off x="609480" y="3200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9480" y="3428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38080" y="3428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520" y="3428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33520" y="3886200"/>
            <a:ext cx="380880" cy="609120"/>
            <a:chOff x="533520" y="3886200"/>
            <a:chExt cx="380880" cy="609120"/>
          </a:xfrm>
        </p:grpSpPr>
        <p:sp>
          <p:nvSpPr>
            <p:cNvPr id="1274" name=""/>
            <p:cNvSpPr/>
            <p:nvPr/>
          </p:nvSpPr>
          <p:spPr>
            <a:xfrm>
              <a:off x="609480" y="3886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9480" y="4114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8080" y="4114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3520" y="4114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533520" y="4572000"/>
            <a:ext cx="380880" cy="609120"/>
            <a:chOff x="533520" y="4572000"/>
            <a:chExt cx="380880" cy="609120"/>
          </a:xfrm>
        </p:grpSpPr>
        <p:sp>
          <p:nvSpPr>
            <p:cNvPr id="1279" name=""/>
            <p:cNvSpPr/>
            <p:nvPr/>
          </p:nvSpPr>
          <p:spPr>
            <a:xfrm>
              <a:off x="609480" y="4572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9480" y="4800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8080" y="4800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3520" y="4800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533520" y="5257800"/>
            <a:ext cx="380880" cy="609120"/>
            <a:chOff x="533520" y="5257800"/>
            <a:chExt cx="380880" cy="609120"/>
          </a:xfrm>
        </p:grpSpPr>
        <p:sp>
          <p:nvSpPr>
            <p:cNvPr id="1284" name=""/>
            <p:cNvSpPr/>
            <p:nvPr/>
          </p:nvSpPr>
          <p:spPr>
            <a:xfrm>
              <a:off x="609480" y="5257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9480" y="5486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38080" y="5486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3520" y="5486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568800" y="3352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7920" y="4114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0320" y="4724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8640" y="5334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203480" y="2514600"/>
            <a:ext cx="380880" cy="609120"/>
            <a:chOff x="1203480" y="2514600"/>
            <a:chExt cx="380880" cy="609120"/>
          </a:xfrm>
        </p:grpSpPr>
        <p:sp>
          <p:nvSpPr>
            <p:cNvPr id="1293" name=""/>
            <p:cNvSpPr/>
            <p:nvPr/>
          </p:nvSpPr>
          <p:spPr>
            <a:xfrm>
              <a:off x="1279440" y="2514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79440" y="2742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08040" y="2742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203480" y="2742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1865160" y="2514600"/>
            <a:ext cx="380880" cy="609120"/>
            <a:chOff x="1865160" y="2514600"/>
            <a:chExt cx="380880" cy="609120"/>
          </a:xfrm>
        </p:grpSpPr>
        <p:sp>
          <p:nvSpPr>
            <p:cNvPr id="1298" name=""/>
            <p:cNvSpPr/>
            <p:nvPr/>
          </p:nvSpPr>
          <p:spPr>
            <a:xfrm>
              <a:off x="1941120" y="2514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41120" y="2742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69720" y="2742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865160" y="2742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2573280" y="2514600"/>
            <a:ext cx="380880" cy="609120"/>
            <a:chOff x="2573280" y="2514600"/>
            <a:chExt cx="380880" cy="609120"/>
          </a:xfrm>
        </p:grpSpPr>
        <p:sp>
          <p:nvSpPr>
            <p:cNvPr id="1303" name=""/>
            <p:cNvSpPr/>
            <p:nvPr/>
          </p:nvSpPr>
          <p:spPr>
            <a:xfrm>
              <a:off x="2649240" y="2514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649240" y="2742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77840" y="2742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73280" y="2742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246480" y="2514600"/>
            <a:ext cx="380880" cy="609120"/>
            <a:chOff x="3246480" y="2514600"/>
            <a:chExt cx="380880" cy="609120"/>
          </a:xfrm>
        </p:grpSpPr>
        <p:sp>
          <p:nvSpPr>
            <p:cNvPr id="1308" name=""/>
            <p:cNvSpPr/>
            <p:nvPr/>
          </p:nvSpPr>
          <p:spPr>
            <a:xfrm>
              <a:off x="3322440" y="2514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322440" y="2742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551040" y="2742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46480" y="2742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1217880" y="2743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12320" y="2666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88400" y="2743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7564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5867280" y="2743200"/>
            <a:ext cx="380880" cy="609120"/>
            <a:chOff x="5867280" y="2743200"/>
            <a:chExt cx="380880" cy="609120"/>
          </a:xfrm>
        </p:grpSpPr>
        <p:sp>
          <p:nvSpPr>
            <p:cNvPr id="1317" name=""/>
            <p:cNvSpPr/>
            <p:nvPr/>
          </p:nvSpPr>
          <p:spPr>
            <a:xfrm>
              <a:off x="5943240" y="2743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943240" y="2971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71840" y="2971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67280" y="2971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791320" y="4876920"/>
            <a:ext cx="380880" cy="609120"/>
            <a:chOff x="5791320" y="4876920"/>
            <a:chExt cx="380880" cy="609120"/>
          </a:xfrm>
        </p:grpSpPr>
        <p:sp>
          <p:nvSpPr>
            <p:cNvPr id="1322" name=""/>
            <p:cNvSpPr/>
            <p:nvPr/>
          </p:nvSpPr>
          <p:spPr>
            <a:xfrm>
              <a:off x="5867280" y="48769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67280" y="51051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095880" y="51051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1320" y="51051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5638680" y="5562720"/>
            <a:ext cx="380880" cy="609120"/>
            <a:chOff x="5638680" y="5562720"/>
            <a:chExt cx="380880" cy="609120"/>
          </a:xfrm>
        </p:grpSpPr>
        <p:sp>
          <p:nvSpPr>
            <p:cNvPr id="1327" name=""/>
            <p:cNvSpPr/>
            <p:nvPr/>
          </p:nvSpPr>
          <p:spPr>
            <a:xfrm>
              <a:off x="5714640" y="556272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14640" y="579096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943240" y="579096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38680" y="579096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477120" y="4648320"/>
            <a:ext cx="380880" cy="609120"/>
            <a:chOff x="6477120" y="4648320"/>
            <a:chExt cx="380880" cy="609120"/>
          </a:xfrm>
        </p:grpSpPr>
        <p:sp>
          <p:nvSpPr>
            <p:cNvPr id="1332" name=""/>
            <p:cNvSpPr/>
            <p:nvPr/>
          </p:nvSpPr>
          <p:spPr>
            <a:xfrm>
              <a:off x="6553080" y="464832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3080" y="487656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81680" y="487656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7120" y="487656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477120" y="2514600"/>
            <a:ext cx="380880" cy="609120"/>
            <a:chOff x="6477120" y="2514600"/>
            <a:chExt cx="380880" cy="609120"/>
          </a:xfrm>
        </p:grpSpPr>
        <p:sp>
          <p:nvSpPr>
            <p:cNvPr id="1337" name=""/>
            <p:cNvSpPr/>
            <p:nvPr/>
          </p:nvSpPr>
          <p:spPr>
            <a:xfrm>
              <a:off x="6553080" y="2514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53080" y="2742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781680" y="2742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477120" y="2742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5861520" y="28954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805720" y="5029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685840" y="5715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474600" y="4800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47604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16200000">
            <a:off x="5562720" y="2057040"/>
            <a:ext cx="1523880" cy="15238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10080" y="3886200"/>
            <a:ext cx="1676520" cy="2895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03680" y="59436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different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nd Index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380880" y="1371600"/>
          <a:ext cx="3365640" cy="338616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3200"/>
                <a:gridCol w="672840"/>
                <a:gridCol w="6732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51" name=""/>
          <p:cNvGrpSpPr/>
          <p:nvPr/>
        </p:nvGrpSpPr>
        <p:grpSpPr>
          <a:xfrm>
            <a:off x="533520" y="2057400"/>
            <a:ext cx="380880" cy="609120"/>
            <a:chOff x="533520" y="2057400"/>
            <a:chExt cx="380880" cy="609120"/>
          </a:xfrm>
        </p:grpSpPr>
        <p:sp>
          <p:nvSpPr>
            <p:cNvPr id="1352" name=""/>
            <p:cNvSpPr/>
            <p:nvPr/>
          </p:nvSpPr>
          <p:spPr>
            <a:xfrm>
              <a:off x="609480" y="2057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9480" y="2285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38080" y="2285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3520" y="2285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33520" y="2743200"/>
            <a:ext cx="380880" cy="609120"/>
            <a:chOff x="533520" y="2743200"/>
            <a:chExt cx="380880" cy="609120"/>
          </a:xfrm>
        </p:grpSpPr>
        <p:sp>
          <p:nvSpPr>
            <p:cNvPr id="1357" name=""/>
            <p:cNvSpPr/>
            <p:nvPr/>
          </p:nvSpPr>
          <p:spPr>
            <a:xfrm>
              <a:off x="609480" y="2743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9480" y="2971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080" y="2971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3520" y="2971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33520" y="3429000"/>
            <a:ext cx="380880" cy="609120"/>
            <a:chOff x="533520" y="3429000"/>
            <a:chExt cx="380880" cy="609120"/>
          </a:xfrm>
        </p:grpSpPr>
        <p:sp>
          <p:nvSpPr>
            <p:cNvPr id="1362" name=""/>
            <p:cNvSpPr/>
            <p:nvPr/>
          </p:nvSpPr>
          <p:spPr>
            <a:xfrm>
              <a:off x="60948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948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808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352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533520" y="4114800"/>
            <a:ext cx="380880" cy="609120"/>
            <a:chOff x="533520" y="4114800"/>
            <a:chExt cx="380880" cy="609120"/>
          </a:xfrm>
        </p:grpSpPr>
        <p:sp>
          <p:nvSpPr>
            <p:cNvPr id="1367" name=""/>
            <p:cNvSpPr/>
            <p:nvPr/>
          </p:nvSpPr>
          <p:spPr>
            <a:xfrm>
              <a:off x="609480" y="4114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4343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38080" y="4343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3520" y="4343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68800" y="2209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47920" y="2971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80320" y="3581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8640" y="4191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1203480" y="1371600"/>
            <a:ext cx="380880" cy="609120"/>
            <a:chOff x="1203480" y="1371600"/>
            <a:chExt cx="380880" cy="609120"/>
          </a:xfrm>
        </p:grpSpPr>
        <p:sp>
          <p:nvSpPr>
            <p:cNvPr id="1376" name=""/>
            <p:cNvSpPr/>
            <p:nvPr/>
          </p:nvSpPr>
          <p:spPr>
            <a:xfrm>
              <a:off x="1279440" y="1371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279440" y="1599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508040" y="1599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03480" y="1599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1865160" y="1371600"/>
            <a:ext cx="380880" cy="609120"/>
            <a:chOff x="1865160" y="1371600"/>
            <a:chExt cx="380880" cy="609120"/>
          </a:xfrm>
        </p:grpSpPr>
        <p:sp>
          <p:nvSpPr>
            <p:cNvPr id="1381" name=""/>
            <p:cNvSpPr/>
            <p:nvPr/>
          </p:nvSpPr>
          <p:spPr>
            <a:xfrm>
              <a:off x="1941120" y="1371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941120" y="1599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69720" y="1599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865160" y="1599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2573280" y="1371600"/>
            <a:ext cx="380880" cy="609120"/>
            <a:chOff x="2573280" y="1371600"/>
            <a:chExt cx="380880" cy="609120"/>
          </a:xfrm>
        </p:grpSpPr>
        <p:sp>
          <p:nvSpPr>
            <p:cNvPr id="1386" name=""/>
            <p:cNvSpPr/>
            <p:nvPr/>
          </p:nvSpPr>
          <p:spPr>
            <a:xfrm>
              <a:off x="2649240" y="1371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649240" y="1599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77840" y="1599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73280" y="1599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3246480" y="1371600"/>
            <a:ext cx="380880" cy="609120"/>
            <a:chOff x="3246480" y="1371600"/>
            <a:chExt cx="380880" cy="609120"/>
          </a:xfrm>
        </p:grpSpPr>
        <p:sp>
          <p:nvSpPr>
            <p:cNvPr id="1391" name=""/>
            <p:cNvSpPr/>
            <p:nvPr/>
          </p:nvSpPr>
          <p:spPr>
            <a:xfrm>
              <a:off x="3322440" y="1371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22440" y="1599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551040" y="1599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246480" y="1599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217880" y="1600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12320" y="1523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588400" y="1600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275640" y="1523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40800" y="48006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5105520" y="1371600"/>
          <a:ext cx="3365280" cy="33861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2840"/>
                <a:gridCol w="6732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1" name=""/>
          <p:cNvGrpSpPr/>
          <p:nvPr/>
        </p:nvGrpSpPr>
        <p:grpSpPr>
          <a:xfrm>
            <a:off x="5257800" y="2057400"/>
            <a:ext cx="380880" cy="609120"/>
            <a:chOff x="5257800" y="2057400"/>
            <a:chExt cx="380880" cy="609120"/>
          </a:xfrm>
        </p:grpSpPr>
        <p:sp>
          <p:nvSpPr>
            <p:cNvPr id="1402" name=""/>
            <p:cNvSpPr/>
            <p:nvPr/>
          </p:nvSpPr>
          <p:spPr>
            <a:xfrm>
              <a:off x="5333760" y="20574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33760" y="22856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562360" y="22856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57800" y="22856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5257800" y="2743200"/>
            <a:ext cx="380880" cy="609120"/>
            <a:chOff x="5257800" y="2743200"/>
            <a:chExt cx="380880" cy="609120"/>
          </a:xfrm>
        </p:grpSpPr>
        <p:sp>
          <p:nvSpPr>
            <p:cNvPr id="1407" name=""/>
            <p:cNvSpPr/>
            <p:nvPr/>
          </p:nvSpPr>
          <p:spPr>
            <a:xfrm>
              <a:off x="5333760" y="27432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33760" y="29714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62360" y="29714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57800" y="29714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257800" y="3429000"/>
            <a:ext cx="380880" cy="609120"/>
            <a:chOff x="5257800" y="3429000"/>
            <a:chExt cx="380880" cy="609120"/>
          </a:xfrm>
        </p:grpSpPr>
        <p:sp>
          <p:nvSpPr>
            <p:cNvPr id="1412" name=""/>
            <p:cNvSpPr/>
            <p:nvPr/>
          </p:nvSpPr>
          <p:spPr>
            <a:xfrm>
              <a:off x="533376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3376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56236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5780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5257800" y="4114800"/>
            <a:ext cx="380880" cy="609120"/>
            <a:chOff x="5257800" y="4114800"/>
            <a:chExt cx="380880" cy="609120"/>
          </a:xfrm>
        </p:grpSpPr>
        <p:sp>
          <p:nvSpPr>
            <p:cNvPr id="1417" name=""/>
            <p:cNvSpPr/>
            <p:nvPr/>
          </p:nvSpPr>
          <p:spPr>
            <a:xfrm>
              <a:off x="5333760" y="41148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33760" y="43430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2360" y="43430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57800" y="43430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5293440" y="2209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272200" y="2971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04600" y="3581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72920" y="4191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5927760" y="1371600"/>
            <a:ext cx="380880" cy="609120"/>
            <a:chOff x="5927760" y="1371600"/>
            <a:chExt cx="380880" cy="609120"/>
          </a:xfrm>
        </p:grpSpPr>
        <p:sp>
          <p:nvSpPr>
            <p:cNvPr id="1426" name=""/>
            <p:cNvSpPr/>
            <p:nvPr/>
          </p:nvSpPr>
          <p:spPr>
            <a:xfrm>
              <a:off x="6003720" y="1371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03720" y="1599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32320" y="1599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27760" y="1599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6589800" y="1371600"/>
            <a:ext cx="380880" cy="609120"/>
            <a:chOff x="6589800" y="1371600"/>
            <a:chExt cx="380880" cy="609120"/>
          </a:xfrm>
        </p:grpSpPr>
        <p:sp>
          <p:nvSpPr>
            <p:cNvPr id="1431" name=""/>
            <p:cNvSpPr/>
            <p:nvPr/>
          </p:nvSpPr>
          <p:spPr>
            <a:xfrm>
              <a:off x="6665760" y="13716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65760" y="15998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4360" y="15998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589800" y="15998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7297560" y="1371600"/>
            <a:ext cx="380880" cy="609120"/>
            <a:chOff x="7297560" y="1371600"/>
            <a:chExt cx="380880" cy="609120"/>
          </a:xfrm>
        </p:grpSpPr>
        <p:sp>
          <p:nvSpPr>
            <p:cNvPr id="1436" name=""/>
            <p:cNvSpPr/>
            <p:nvPr/>
          </p:nvSpPr>
          <p:spPr>
            <a:xfrm>
              <a:off x="7373520" y="1371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73520" y="1599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602120" y="1599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297560" y="1599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970760" y="1371600"/>
            <a:ext cx="380880" cy="609120"/>
            <a:chOff x="7970760" y="1371600"/>
            <a:chExt cx="380880" cy="609120"/>
          </a:xfrm>
        </p:grpSpPr>
        <p:sp>
          <p:nvSpPr>
            <p:cNvPr id="1441" name=""/>
            <p:cNvSpPr/>
            <p:nvPr/>
          </p:nvSpPr>
          <p:spPr>
            <a:xfrm>
              <a:off x="8046720" y="13716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46720" y="15998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275320" y="15998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70760" y="15998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5942160" y="1600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636600" y="1523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313040" y="1600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000280" y="1523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28320" y="48006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different clus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72760" y="5486400"/>
            <a:ext cx="740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=4 consistent pairs among 10 p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nd Index(a different clustering)=0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nd Index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7680" y="1784520"/>
            <a:ext cx="832140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nd Index: within [0, 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higher the b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perfect clustering (same as truth) has Rand Index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ere do you get the ground trut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360" y="1600200"/>
            <a:ext cx="8397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datasets we use have class lab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take the class labels as ground truth (evaluation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take the number of classes as number of clus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generate random preferences according to class lab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taset 1: synthetic weight, height, noi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90600" y="1616040"/>
            <a:ext cx="837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6 points, each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height in m, weight in kg, random no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 clusters: female, m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whn1" descr=""/>
          <p:cNvPicPr/>
          <p:nvPr/>
        </p:nvPicPr>
        <p:blipFill>
          <a:blip r:embed="rId1"/>
          <a:stretch/>
        </p:blipFill>
        <p:spPr>
          <a:xfrm>
            <a:off x="1600200" y="1373040"/>
            <a:ext cx="6272280" cy="512784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taset1: as the algorithm runs (with 5 preference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9" name=""/>
          <p:cNvGraphicFramePr/>
          <p:nvPr/>
        </p:nvGraphicFramePr>
        <p:xfrm>
          <a:off x="1533600" y="1417680"/>
          <a:ext cx="616248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417680"/>
                    <a:ext cx="616248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taset1: more preference hel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2" name=""/>
          <p:cNvGraphicFramePr/>
          <p:nvPr/>
        </p:nvGraphicFramePr>
        <p:xfrm>
          <a:off x="1600200" y="1486080"/>
          <a:ext cx="628164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86080"/>
                    <a:ext cx="628164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taset2: UCI balance sc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86400" y="1676520"/>
            <a:ext cx="3657600" cy="22096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start from the 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95280" y="2666880"/>
            <a:ext cx="380880" cy="609840"/>
            <a:chOff x="1295280" y="2666880"/>
            <a:chExt cx="380880" cy="609840"/>
          </a:xfrm>
        </p:grpSpPr>
        <p:sp>
          <p:nvSpPr>
            <p:cNvPr id="110" name=""/>
            <p:cNvSpPr/>
            <p:nvPr/>
          </p:nvSpPr>
          <p:spPr>
            <a:xfrm>
              <a:off x="137124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24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9984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762120" y="1523880"/>
          <a:ext cx="4572000" cy="49881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1295280" y="3429000"/>
            <a:ext cx="380880" cy="609120"/>
            <a:chOff x="1295280" y="3429000"/>
            <a:chExt cx="380880" cy="609120"/>
          </a:xfrm>
        </p:grpSpPr>
        <p:sp>
          <p:nvSpPr>
            <p:cNvPr id="116" name=""/>
            <p:cNvSpPr/>
            <p:nvPr/>
          </p:nvSpPr>
          <p:spPr>
            <a:xfrm>
              <a:off x="137124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24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9984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95280" y="4267080"/>
            <a:ext cx="380880" cy="609840"/>
            <a:chOff x="1295280" y="4267080"/>
            <a:chExt cx="380880" cy="609840"/>
          </a:xfrm>
        </p:grpSpPr>
        <p:sp>
          <p:nvSpPr>
            <p:cNvPr id="121" name=""/>
            <p:cNvSpPr/>
            <p:nvPr/>
          </p:nvSpPr>
          <p:spPr>
            <a:xfrm>
              <a:off x="137124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24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9984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528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95280" y="5029200"/>
            <a:ext cx="380880" cy="609120"/>
            <a:chOff x="1295280" y="5029200"/>
            <a:chExt cx="380880" cy="609120"/>
          </a:xfrm>
        </p:grpSpPr>
        <p:sp>
          <p:nvSpPr>
            <p:cNvPr id="126" name=""/>
            <p:cNvSpPr/>
            <p:nvPr/>
          </p:nvSpPr>
          <p:spPr>
            <a:xfrm>
              <a:off x="137124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24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984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528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95280" y="5867280"/>
            <a:ext cx="380880" cy="609840"/>
            <a:chOff x="1295280" y="5867280"/>
            <a:chExt cx="380880" cy="609840"/>
          </a:xfrm>
        </p:grpSpPr>
        <p:sp>
          <p:nvSpPr>
            <p:cNvPr id="131" name=""/>
            <p:cNvSpPr/>
            <p:nvPr/>
          </p:nvSpPr>
          <p:spPr>
            <a:xfrm>
              <a:off x="137124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24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984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33092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0968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4244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076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2480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79880" y="2362320"/>
            <a:ext cx="27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ess g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5" name=""/>
          <p:cNvGraphicFramePr/>
          <p:nvPr/>
        </p:nvGraphicFramePr>
        <p:xfrm>
          <a:off x="1523880" y="1273320"/>
          <a:ext cx="6564600" cy="52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73320"/>
                    <a:ext cx="6564600" cy="52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ataset3: UCI balance sc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ne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33520" y="1905120"/>
            <a:ext cx="8610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upervised learning with unlabeled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-training, EM, transductiv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supervised learning with weakly labeled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r algorithm, others’ (see me for re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447920" y="2666880"/>
            <a:ext cx="380880" cy="609840"/>
            <a:chOff x="1447920" y="2666880"/>
            <a:chExt cx="380880" cy="609840"/>
          </a:xfrm>
        </p:grpSpPr>
        <p:sp>
          <p:nvSpPr>
            <p:cNvPr id="142" name=""/>
            <p:cNvSpPr/>
            <p:nvPr/>
          </p:nvSpPr>
          <p:spPr>
            <a:xfrm>
              <a:off x="1523880" y="2666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2895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480" y="2895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2895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7920" y="3429000"/>
            <a:ext cx="380880" cy="609120"/>
            <a:chOff x="1447920" y="3429000"/>
            <a:chExt cx="380880" cy="609120"/>
          </a:xfrm>
        </p:grpSpPr>
        <p:sp>
          <p:nvSpPr>
            <p:cNvPr id="147" name=""/>
            <p:cNvSpPr/>
            <p:nvPr/>
          </p:nvSpPr>
          <p:spPr>
            <a:xfrm>
              <a:off x="1523880" y="3429000"/>
              <a:ext cx="228600" cy="228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3657240"/>
              <a:ext cx="228600" cy="3808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2480" y="3657240"/>
              <a:ext cx="7632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7920" y="3657240"/>
              <a:ext cx="75960" cy="3045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447920" y="4267080"/>
            <a:ext cx="380880" cy="609840"/>
            <a:chOff x="1447920" y="4267080"/>
            <a:chExt cx="380880" cy="609840"/>
          </a:xfrm>
        </p:grpSpPr>
        <p:sp>
          <p:nvSpPr>
            <p:cNvPr id="152" name=""/>
            <p:cNvSpPr/>
            <p:nvPr/>
          </p:nvSpPr>
          <p:spPr>
            <a:xfrm>
              <a:off x="1523880" y="4267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4495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4495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4495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447920" y="5029200"/>
            <a:ext cx="380880" cy="609120"/>
            <a:chOff x="1447920" y="5029200"/>
            <a:chExt cx="380880" cy="609120"/>
          </a:xfrm>
        </p:grpSpPr>
        <p:sp>
          <p:nvSpPr>
            <p:cNvPr id="157" name=""/>
            <p:cNvSpPr/>
            <p:nvPr/>
          </p:nvSpPr>
          <p:spPr>
            <a:xfrm>
              <a:off x="1523880" y="5029200"/>
              <a:ext cx="228600" cy="2282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5257440"/>
              <a:ext cx="2286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257440"/>
              <a:ext cx="7632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7920" y="5257440"/>
              <a:ext cx="7596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47920" y="5867280"/>
            <a:ext cx="380880" cy="609840"/>
            <a:chOff x="1447920" y="5867280"/>
            <a:chExt cx="380880" cy="609840"/>
          </a:xfrm>
        </p:grpSpPr>
        <p:sp>
          <p:nvSpPr>
            <p:cNvPr id="162" name=""/>
            <p:cNvSpPr/>
            <p:nvPr/>
          </p:nvSpPr>
          <p:spPr>
            <a:xfrm>
              <a:off x="1523880" y="58672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60958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52480" y="60958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60958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83200" y="2819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62320" y="3657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4720" y="44197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63040" y="52578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7080" y="6019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us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6095880"/>
            <a:ext cx="5029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3664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056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697200" y="1981080"/>
            <a:ext cx="380880" cy="609840"/>
            <a:chOff x="3697200" y="1981080"/>
            <a:chExt cx="380880" cy="609840"/>
          </a:xfrm>
        </p:grpSpPr>
        <p:sp>
          <p:nvSpPr>
            <p:cNvPr id="177" name=""/>
            <p:cNvSpPr/>
            <p:nvPr/>
          </p:nvSpPr>
          <p:spPr>
            <a:xfrm>
              <a:off x="3773160" y="1981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73160" y="2209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01760" y="2209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7200" y="2209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43280" y="3124080"/>
            <a:ext cx="380880" cy="609840"/>
            <a:chOff x="2843280" y="3124080"/>
            <a:chExt cx="380880" cy="609840"/>
          </a:xfrm>
        </p:grpSpPr>
        <p:sp>
          <p:nvSpPr>
            <p:cNvPr id="182" name=""/>
            <p:cNvSpPr/>
            <p:nvPr/>
          </p:nvSpPr>
          <p:spPr>
            <a:xfrm>
              <a:off x="2919240" y="31240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19240" y="33526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7840" y="33526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33526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286000" y="3809880"/>
            <a:ext cx="380880" cy="609840"/>
            <a:chOff x="2286000" y="3809880"/>
            <a:chExt cx="380880" cy="609840"/>
          </a:xfrm>
        </p:grpSpPr>
        <p:sp>
          <p:nvSpPr>
            <p:cNvPr id="187" name=""/>
            <p:cNvSpPr/>
            <p:nvPr/>
          </p:nvSpPr>
          <p:spPr>
            <a:xfrm>
              <a:off x="2361960" y="380988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1960" y="4038480"/>
              <a:ext cx="228600" cy="381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560" y="4038480"/>
              <a:ext cx="7632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4038480"/>
              <a:ext cx="7596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26120" y="3124080"/>
            <a:ext cx="380880" cy="609840"/>
            <a:chOff x="6126120" y="3124080"/>
            <a:chExt cx="380880" cy="609840"/>
          </a:xfrm>
        </p:grpSpPr>
        <p:sp>
          <p:nvSpPr>
            <p:cNvPr id="192" name=""/>
            <p:cNvSpPr/>
            <p:nvPr/>
          </p:nvSpPr>
          <p:spPr>
            <a:xfrm>
              <a:off x="6202080" y="3124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2080" y="3352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30680" y="3352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6120" y="3352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553080" y="1981080"/>
            <a:ext cx="380880" cy="609840"/>
            <a:chOff x="6553080" y="1981080"/>
            <a:chExt cx="380880" cy="609840"/>
          </a:xfrm>
        </p:grpSpPr>
        <p:sp>
          <p:nvSpPr>
            <p:cNvPr id="197" name=""/>
            <p:cNvSpPr/>
            <p:nvPr/>
          </p:nvSpPr>
          <p:spPr>
            <a:xfrm>
              <a:off x="6629040" y="1981080"/>
              <a:ext cx="228600" cy="2286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040" y="2209680"/>
              <a:ext cx="228600" cy="38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7640" y="2209680"/>
              <a:ext cx="7632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53080" y="2209680"/>
              <a:ext cx="75960" cy="3049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73284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5768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32800" y="396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41240" y="3352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82600" y="2133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us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752480" y="1752120"/>
            <a:ext cx="0" cy="4343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6095880"/>
            <a:ext cx="6400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600" y="12654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14880" y="6248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3809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04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4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1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8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85880" y="62485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840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8036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58400" y="4724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7880000">
            <a:off x="5373360" y="2401920"/>
            <a:ext cx="2286000" cy="98748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715400">
            <a:off x="2514240" y="1477440"/>
            <a:ext cx="1371600" cy="3505320"/>
          </a:xfrm>
          <a:prstGeom prst="ellipse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0760" y="39625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03480" y="48006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49880" y="495288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e the same spaced ti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both 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 general, we ass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523880"/>
            <a:ext cx="81532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ta is numerical (as oppose to symbol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ector re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= (73, 158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 = (62, 152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mber of clusters is known (e.g.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ustering pro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treat clustering program (kmeans, EM, HAC, etc.) as a black 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ustering programs work on a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stance metri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much like your intu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 what is a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stance metric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25:46Z</dcterms:created>
  <dc:creator>cmu</dc:creator>
  <dc:description/>
  <dc:language>en-US</dc:language>
  <cp:lastModifiedBy>cmu</cp:lastModifiedBy>
  <dcterms:modified xsi:type="dcterms:W3CDTF">2001-07-19T16:22:32Z</dcterms:modified>
  <cp:revision>43</cp:revision>
  <dc:subject/>
  <dc:title>Clustering with Preferences</dc:title>
</cp:coreProperties>
</file>