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77.xml.rels" ContentType="application/vnd.openxmlformats-package.relationships+xml"/>
  <Override PartName="/ppt/notesSlides/_rels/notesSlide27.xml.rels" ContentType="application/vnd.openxmlformats-package.relationships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9.png" ContentType="image/png"/>
  <Override PartName="/ppt/media/image32.wmf" ContentType="image/x-wmf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15.wmf" ContentType="image/x-wmf"/>
  <Override PartName="/ppt/media/image54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18.png" ContentType="image/png"/>
  <Override PartName="/ppt/media/image6.jpeg" ContentType="image/jpeg"/>
  <Override PartName="/ppt/media/image46.png" ContentType="image/png"/>
  <Override PartName="/ppt/media/image37.png" ContentType="image/png"/>
  <Override PartName="/ppt/media/image49.png" ContentType="image/png"/>
  <Override PartName="/ppt/media/image51.png" ContentType="image/png"/>
  <Override PartName="/ppt/media/image34.wmf" ContentType="image/x-wmf"/>
  <Override PartName="/ppt/media/image52.png" ContentType="image/png"/>
  <Override PartName="/ppt/media/image53.png" ContentType="image/png"/>
  <Override PartName="/ppt/media/image36.wmf" ContentType="image/x-wmf"/>
  <Override PartName="/ppt/media/image43.png" ContentType="image/png"/>
  <Override PartName="/ppt/media/image55.png" ContentType="image/png"/>
  <Override PartName="/ppt/media/image35.png" ContentType="image/png"/>
  <Override PartName="/ppt/media/image33.wmf" ContentType="image/x-wmf"/>
  <Override PartName="/ppt/media/image12.jpeg" ContentType="image/jpeg"/>
  <Override PartName="/ppt/media/image13.png" ContentType="image/png"/>
  <Override PartName="/ppt/media/image10.png" ContentType="image/png"/>
  <Override PartName="/ppt/media/image47.png" ContentType="image/png"/>
  <Override PartName="/ppt/media/image48.png" ContentType="image/png"/>
  <Override PartName="/ppt/media/image9.jpeg" ContentType="image/jpeg"/>
  <Override PartName="/ppt/media/image38.png" ContentType="image/png"/>
  <Override PartName="/ppt/media/image8.jpeg" ContentType="image/jpeg"/>
  <Override PartName="/ppt/media/image31.wmf" ContentType="image/x-wmf"/>
  <Override PartName="/ppt/media/image7.jpeg" ContentType="image/jpeg"/>
  <Override PartName="/ppt/media/image2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11040" y="1023840"/>
            <a:ext cx="4676760" cy="35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82160" y="4871520"/>
            <a:ext cx="494028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opes of the exponents is different! We can distinguish graph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several different networks- from social media, academic citations, and comput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CA4DA-514C-47C4-A7C3-4D4563D7EDC9}" type="slidenum">
              <a:rPr b="0" lang="en-US" sz="1300" spc="-1" strike="noStrike">
                <a:solidFill>
                  <a:srgbClr val="000066"/>
                </a:solidFill>
                <a:latin typeface="Arial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F09-8399-45AE-AF9D-9E243168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96E-8BBB-42B2-AF0A-057850C7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63D-01B6-421F-A8FB-50E0E0AC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60F-CD89-46E7-99C9-6898F673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DBDA-045C-4B82-94ED-BADCC2C1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EEDC-75B4-4FD8-A1EA-11E353B5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E9DA-F367-49DB-B2B6-8B1CA35C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45EE-063F-40DE-844D-548A5E4C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89BC-52F0-426C-BDE0-834B6060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0F66-308B-4307-8CE6-F3E1207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77B4-52EB-47EF-A935-1B93F66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97A-5D63-4E77-BFED-AAFB9849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D126-8F33-4AF3-A70E-D94A6A5C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3A3A-E97A-4ACB-BE4A-4D2952F1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C89D-55FA-4780-AE9B-82EE91FB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918D-8ECB-462E-B014-78B77645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9299-2779-455F-9AFC-D2A66F1C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2707-8BFF-49A7-8723-7569D2CD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E583-B28F-4361-A14C-63C9AB0D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0F7A-C09A-49B9-B7AF-402A21D1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B891-160D-4ED5-AEF8-8E82800B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3E5D-7709-496A-AF59-A340513E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ED8-7173-4C7F-84DC-D861CA88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8458-821C-46C5-A8FE-5B2147A6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B019-4FBF-4624-A0DA-34264B3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EE22-B8FA-4339-909D-B2C6BBC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11A7-7605-4802-926A-9F5590C1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83BB-2293-4052-8D43-D100B979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BB58-B2D7-47CB-A7A3-8E461492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7FC3-01BF-4EEF-AFD3-EB4DE244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ECA4-8D3F-4505-8293-B5BFD949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A834-9FC8-45CE-84D2-5D3A26D1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F422-2579-4896-B152-214CDDB1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28F-D4E3-4876-8082-E3665D4E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3BC9-48AA-4AE9-A662-F35E6B85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CDA2-7E1F-4021-9A2D-B2C93D3B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0B22-1F80-42EE-8CC2-948AEC77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1A11-3D54-41A0-AB1C-7461ECB9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506F-0D94-4344-BFAF-9BA92F6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1B732-5BC5-4491-AACA-4405398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DCAE-F3BB-445B-ABCF-079D9041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5FF3-CFE4-4F85-97BD-F36F12EF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D5F2A-5DC3-4403-928F-4DDEEA8E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FAC-30FF-4F07-B230-1AC12EA7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5FF-966D-4212-A423-4F27E3FA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412-AE2A-4409-960B-CED8A7C1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B37-516E-480C-859E-C29B30F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207-286A-4C24-A543-63E7EE7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0D96BD0-FD7C-4D96-BB73-BEB0494C60B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7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8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919BA98-A560-4EAC-9C72-B0A734B94B1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7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8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8A85494-D20D-4E41-93AA-CE74014BF17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A2F4C92-A68B-4D7C-BFC7-50FAE2C4D59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cs.cmu.edu/~christos/courses/826-resources/PAPERS+BOOK/Statistical_mechanics_of_complex_networks.pdf" TargetMode="External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cs.cmu.edu/%7Ejure/pubs/kronFit-icml07.pdf" TargetMode="External"/><Relationship Id="rId2" Type="http://schemas.openxmlformats.org/officeDocument/2006/relationships/hyperlink" Target="http://oregonstate.edu/conferences/icml2007/" TargetMode="External"/><Relationship Id="rId3" Type="http://schemas.openxmlformats.org/officeDocument/2006/relationships/hyperlink" Target="http://www.cs.cmu.edu/~jure/pubs/microEvol-kdd08.pdf" TargetMode="External"/><Relationship Id="rId4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cs.cmu.edu/~jure/pubs/microEvol-kdd08.pdf" TargetMode="External"/><Relationship Id="rId2" Type="http://schemas.openxmlformats.org/officeDocument/2006/relationships/hyperlink" Target="http://www.kdd2008.com/" TargetMode="Externa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http://arxiv.org/abs/cond-mat/0412004v3" TargetMode="External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1680" y="1967040"/>
            <a:ext cx="9448920" cy="2001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4900"/>
            </a:b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Patterns, Tools and Case Studi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25560" y="4268520"/>
            <a:ext cx="8153280" cy="197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anghang Tong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FCDF0B4-3D0B-4C15-842B-1CA46111578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Why should we care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56" name="Picture 3" descr="Picture3"/>
          <p:cNvPicPr/>
          <p:nvPr/>
        </p:nvPicPr>
        <p:blipFill>
          <a:blip r:embed="rId1"/>
          <a:stretch/>
        </p:blipFill>
        <p:spPr>
          <a:xfrm>
            <a:off x="541440" y="1730520"/>
            <a:ext cx="2290680" cy="1720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food_web"/>
          <p:cNvPicPr/>
          <p:nvPr/>
        </p:nvPicPr>
        <p:blipFill>
          <a:blip r:embed="rId2"/>
          <a:stretch/>
        </p:blipFill>
        <p:spPr>
          <a:xfrm>
            <a:off x="3695760" y="1617840"/>
            <a:ext cx="2411280" cy="1806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tein_interaction"/>
          <p:cNvPicPr/>
          <p:nvPr/>
        </p:nvPicPr>
        <p:blipFill>
          <a:blip r:embed="rId3"/>
          <a:stretch/>
        </p:blipFill>
        <p:spPr>
          <a:xfrm>
            <a:off x="7056360" y="1569960"/>
            <a:ext cx="1787760" cy="17892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3988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rnet Map [lumeta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394812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od Web [Martinez ’9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719760" y="3359160"/>
            <a:ext cx="2773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tein Interactions [genomebiology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755640" y="6180120"/>
            <a:ext cx="2436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iendship Network [Moody ’0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3" name="Picture 11" descr="Picture4"/>
          <p:cNvPicPr/>
          <p:nvPr/>
        </p:nvPicPr>
        <p:blipFill>
          <a:blip r:embed="rId4"/>
          <a:stretch/>
        </p:blipFill>
        <p:spPr>
          <a:xfrm>
            <a:off x="614520" y="4368960"/>
            <a:ext cx="2511360" cy="187452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13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FBA2618-F9D2-4E4A-AD15-2803E05D78F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ther resourc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Visualization - graph algo’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62880" indent="-3628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raphviz: http://www.graphviz.org/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62880" indent="-3628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ajek: http://vlado.fmf.uni-lj.si/pub/networks/pajek/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6288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628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Kevin Bacon web site:        http://www.cs.virginia.edu/oracle/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ACD6CBF-BDAE-4443-9C04-34CE8F84759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[Aiello+, '00] William Aiello, Fan R. K. Chung, Linyuan Lu: </a:t>
            </a:r>
            <a:r>
              <a:rPr b="0" i="1" lang="en-US" sz="2500" spc="-1" strike="noStrike">
                <a:solidFill>
                  <a:srgbClr val="000066"/>
                </a:solidFill>
                <a:latin typeface="Times New Roman"/>
              </a:rPr>
              <a:t>A random graph model for massive graphs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. STOC 2000: 171-180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[Albert+] Reka Albert, Hawoong Jeong, and Albert-Laszlo Barabasi: </a:t>
            </a:r>
            <a:r>
              <a:rPr b="0" i="1" lang="en-US" sz="2500" spc="-1" strike="noStrike">
                <a:solidFill>
                  <a:srgbClr val="000066"/>
                </a:solidFill>
                <a:latin typeface="Times New Roman"/>
              </a:rPr>
              <a:t>Diameter of the World Wide Web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, Nature 401 130-131 (1999)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42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Réka Albert and Albert-László Barabási </a:t>
            </a:r>
            <a:r>
              <a:rPr b="0" lang="en-US" sz="25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Statistical mechanics of complex networks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, Reviews of Modern Physics, 74, 47 (2002). 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[Barabasi, '03] Albert-Laszlo Barabasi </a:t>
            </a:r>
            <a:r>
              <a:rPr b="0" i="1" lang="en-US" sz="2500" spc="-1" strike="noStrike">
                <a:solidFill>
                  <a:srgbClr val="000066"/>
                </a:solidFill>
                <a:latin typeface="Times New Roman"/>
              </a:rPr>
              <a:t>Linked: How Everything Is Connected to Everything Else and What It Means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 (Plume, 2003)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5CA3EC9-21B1-4B0E-9530-D3EF314898E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Barabasi+, '99] Albert-Laszlo Barabasi and Reka Albert.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Emergence of scaling in random network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Science, 286:509--512, 1999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Broder+, '00] Andrei Broder, Ravi Kumar, Farzin Maghoul, Prabhakar Raghavan, Sridhar Rajagopalan, Raymie Stata, Andrew Tomkins, and Janet Wiener.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Graph structure in the web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WWW, 2000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51A02CD-77ED-4E1B-836F-F47EAA24E3C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Chakrabarti+, ‘04]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 RMAT: A recursive graph generator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D. Chakrabarti, Y. Zhan, C. Faloutsos, SIAM-DM 2004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D. Chakrabarti and C. Faloutsos,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Graph Mining: Laws, Generators and Algorithm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 in ACM Computing Surveys, 38(1), 2006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Dill+, '01] Stephen Dill, Ravi Kumar, Kevin S. McCurley, Sridhar Rajagopalan, D. Sivakumar, Andrew Tomkins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Self-similarity in the Web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VLDB 2001: 69-78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4B55AD6-4F64-457B-8380-1BDDFA0E646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[Fabrikant+, '02] A. Fabrikant, E. Koutsoupias, and C.H. Papadimitriou.  </a:t>
            </a:r>
            <a:r>
              <a:rPr b="0" i="1" lang="en-US" sz="3400" spc="-1" strike="noStrike">
                <a:solidFill>
                  <a:srgbClr val="000066"/>
                </a:solidFill>
                <a:latin typeface="Times New Roman"/>
              </a:rPr>
              <a:t>Heuristically Optimized Trade-offs: A New Paradigm for Power Laws in the Internet</a:t>
            </a: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. ICALP, Malaga, Spain, July 2002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[FFF, 99] M. Faloutsos, P. Faloutsos, and C. Faloutsos, "</a:t>
            </a:r>
            <a:r>
              <a:rPr b="0" i="1" lang="en-US" sz="3400" spc="-1" strike="noStrike">
                <a:solidFill>
                  <a:srgbClr val="000066"/>
                </a:solidFill>
                <a:latin typeface="Times New Roman"/>
              </a:rPr>
              <a:t>On power-law relationships of the Internet topology</a:t>
            </a: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," in SIGCOMM, 1999.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6809F70-1D4E-466C-BCFA-FA82D40488A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Jovanovic+, '01] M. Jovanovic, F.S. Annexstein, and K.A. Berman. 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Modeling Peer-to-Peer Network Topologies through "Small-World" Models and Power Law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In TELFOR, Belgrade, Yugoslavia, November, 2001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Kumar+ '99] Ravi Kumar, Prabhakar Raghavan, Sridhar Rajagopalan, Andrew Tomkins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Extracting Large-Scale Knowledge Bases from the Web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 VLDB 1999: 639-650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B105087-09F4-4044-940C-A706D5EDD51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Leland+, '94] W. E. Leland, M.S. Taqqu,  W. Willinger, D.V. Wilson, 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On the Self-Similar Nature of Ethernet Traffic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IEEE Transactions on Networking, 2, 1, pp 1-15, Feb. 1994.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Leskovec+05a] Jure Leskovec, Jon Kleinberg, Christos Faloutsos,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Graphs over Time: Densification Laws, Shrinking Diameters and Possible Explanations 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(KDD 2005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27A35C1-FD62-42FF-A332-99F0C5F5490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755640" y="4568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Leskovec+05b] Jure Leskovec, Deepayan Chakrabarti, Jon Kleinberg, Christos Faloutsos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Realistic, Mathematically Tractable Graph Generation and Evolution, Using Kronecker Multiplication 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(ECML/PKDD 2005), Porto, Portugal, 2005.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0434429-217E-4484-9794-1FBA3D334B3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755640" y="4568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marL="340200" indent="-3402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Leskovec+07] Jure Leskovec and Christos Faloutsos, </a:t>
            </a:r>
            <a:r>
              <a:rPr b="0" lang="en-US" sz="3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Scalable Modeling of Real Graphs using Kronecker Multiplication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30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ICML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 2007. 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0200" indent="-3402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[Leskovec+ 08]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Jure Leskovec, Lars Backstrom, Ravi Kumar, Andrew Tomkins. </a:t>
            </a:r>
            <a:r>
              <a:rPr b="0" lang="en-US" sz="31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Microscopic Evolution of Social Networks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KDD, 2008. 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0200" indent="-3402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McGlohon+ ’08] M. McGlohon, L. Akoglu, and C. Faloutsos.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Weighted Graphs and Disconnected Component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: Patterns and a Generator. KDD 2008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3C19A79-E754-48C0-B374-5798C19E976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Mihail+, '02] Milena Mihail, Christos H. Papadimitriou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On the Eigenvalue Power Law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RANDOM 2002: 254-262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Milgram '67] Stanley Milgram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The Small World Problem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Psychology Today 1(1), 60-67 (1967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Montgomery+, ‘01] Alan L. Montgomery, Christos Faloutsos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Identifying Web Browsing Trends and Pattern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IEEE Computer  34(7): 94-95 (2001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A65DE3B-1EAA-4598-A2A9-03C8267009A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Why should we care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1: extrapolation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: how will the Internet/Web look like next year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2: algorithm design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: what is a realistic network topology,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5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to try a new routing protocol? 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5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to study virus/rumor propagation, and immunization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7441860-704A-4BF4-93A4-F263DF94E41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755640" y="18748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Palmer+, ‘01] Chris Palmer, Georgos Siganos, Michalis Faloutsos, Christos Faloutsos and Phil Gibbons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The connectivity and fault-tolerance of the Internet topology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 (NRDM 2001), Santa Barbara, CA, May 25, 2001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51360" indent="-35136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Pennock+, '02] David M. Pennock, Gary William Flake, Steve Lawrence, Eric J. Glover, C. Lee Giles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Winners don't take all: Characterizing the competition for links on the web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 Proc. Natl. Acad. Sci. USA 99(8): 5207-5211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(2002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51360" indent="0">
              <a:spcBef>
                <a:spcPts val="7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D2BD877-9F99-4F8F-8428-7ED1F1BDAC5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Schroeder, ‘91] Manfred Schroeder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Fractals, Chaos, Power Laws: Minutes from an Infinite Paradise 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W H Freeman &amp; Co., 1991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D3B81A5-1C15-4A60-B4D4-F0DC08245F0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755640" y="1798200"/>
            <a:ext cx="856944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Siganos+, '03] G. Siganos, M. Faloutsos, P. Faloutsos, C. Faloutsos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Power-Laws and the AS-level Internet Topology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Transactions on Networking, August 2003.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58920" indent="-35892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Watts+ Strogatz, '98] D. J. Watts and S. H. Strogatz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Collective dynamics of 'small-world' network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Nature, 393:440-442 (1998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58920" indent="-35892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Watts, '03] Duncan J. Watts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Six Degrees: The Science of a Connected Age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 W.W. Norton &amp; Company; (February 2003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58D83A3-B970-4BCE-9DF1-DDDD3962616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Why should we care? (cont’d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3: Sampling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: How to get a ‘good’ sample of a network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4: Abnormalitie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: is this sub-graph / sub-community / sub-network ‘normal’? (what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i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normal?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4" name="Group 1051"/>
          <p:cNvGrpSpPr/>
          <p:nvPr/>
        </p:nvGrpSpPr>
        <p:grpSpPr>
          <a:xfrm>
            <a:off x="2525760" y="5180040"/>
            <a:ext cx="4367160" cy="1343160"/>
            <a:chOff x="2525760" y="5180040"/>
            <a:chExt cx="4367160" cy="1343160"/>
          </a:xfrm>
        </p:grpSpPr>
        <p:grpSp>
          <p:nvGrpSpPr>
            <p:cNvPr id="275" name="Group 1050"/>
            <p:cNvGrpSpPr/>
            <p:nvPr/>
          </p:nvGrpSpPr>
          <p:grpSpPr>
            <a:xfrm>
              <a:off x="2525760" y="5180040"/>
              <a:ext cx="2857320" cy="1343160"/>
              <a:chOff x="2525760" y="5180040"/>
              <a:chExt cx="2857320" cy="1343160"/>
            </a:xfrm>
          </p:grpSpPr>
          <p:sp>
            <p:nvSpPr>
              <p:cNvPr id="276" name="Oval 1029"/>
              <p:cNvSpPr/>
              <p:nvPr/>
            </p:nvSpPr>
            <p:spPr>
              <a:xfrm>
                <a:off x="2693880" y="6103800"/>
                <a:ext cx="252360" cy="250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Oval 1030"/>
              <p:cNvSpPr/>
              <p:nvPr/>
            </p:nvSpPr>
            <p:spPr>
              <a:xfrm>
                <a:off x="4375080" y="5348160"/>
                <a:ext cx="252360" cy="250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Oval 1031"/>
              <p:cNvSpPr/>
              <p:nvPr/>
            </p:nvSpPr>
            <p:spPr>
              <a:xfrm>
                <a:off x="3618000" y="5264280"/>
                <a:ext cx="252360" cy="25236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Oval 1032"/>
              <p:cNvSpPr/>
              <p:nvPr/>
            </p:nvSpPr>
            <p:spPr>
              <a:xfrm>
                <a:off x="4794120" y="6270480"/>
                <a:ext cx="252720" cy="2527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Oval 1033"/>
              <p:cNvSpPr/>
              <p:nvPr/>
            </p:nvSpPr>
            <p:spPr>
              <a:xfrm>
                <a:off x="5130720" y="5180040"/>
                <a:ext cx="252360" cy="25236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Oval 1034"/>
              <p:cNvSpPr/>
              <p:nvPr/>
            </p:nvSpPr>
            <p:spPr>
              <a:xfrm>
                <a:off x="3701880" y="6270480"/>
                <a:ext cx="252720" cy="2527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Oval 1035"/>
              <p:cNvSpPr/>
              <p:nvPr/>
            </p:nvSpPr>
            <p:spPr>
              <a:xfrm>
                <a:off x="2525760" y="5348160"/>
                <a:ext cx="252360" cy="250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283" name="AutoShape 1036"/>
              <p:cNvCxnSpPr>
                <a:stCxn id="278" idx="6"/>
                <a:endCxn id="277" idx="2"/>
              </p:cNvCxnSpPr>
              <p:nvPr/>
            </p:nvCxnSpPr>
            <p:spPr>
              <a:xfrm>
                <a:off x="3879720" y="5389560"/>
                <a:ext cx="486720" cy="849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4" name="AutoShape 1037"/>
              <p:cNvCxnSpPr>
                <a:stCxn id="281" idx="6"/>
                <a:endCxn id="277" idx="3"/>
              </p:cNvCxnSpPr>
              <p:nvPr/>
            </p:nvCxnSpPr>
            <p:spPr>
              <a:xfrm flipV="1">
                <a:off x="3963960" y="5571360"/>
                <a:ext cx="448560" cy="82620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5" name="AutoShape 1038"/>
              <p:cNvCxnSpPr>
                <a:stCxn id="281" idx="6"/>
                <a:endCxn id="279" idx="2"/>
              </p:cNvCxnSpPr>
              <p:nvPr/>
            </p:nvCxnSpPr>
            <p:spPr>
              <a:xfrm>
                <a:off x="3963960" y="6397200"/>
                <a:ext cx="822960" cy="108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6" name="AutoShape 1039"/>
              <p:cNvCxnSpPr>
                <a:stCxn id="277" idx="6"/>
                <a:endCxn id="280" idx="2"/>
              </p:cNvCxnSpPr>
              <p:nvPr/>
            </p:nvCxnSpPr>
            <p:spPr>
              <a:xfrm flipV="1">
                <a:off x="4635360" y="5304960"/>
                <a:ext cx="488160" cy="16920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7" name="AutoShape 1040"/>
              <p:cNvCxnSpPr>
                <a:stCxn id="282" idx="6"/>
                <a:endCxn id="278" idx="2"/>
              </p:cNvCxnSpPr>
              <p:nvPr/>
            </p:nvCxnSpPr>
            <p:spPr>
              <a:xfrm flipV="1">
                <a:off x="2785680" y="5389200"/>
                <a:ext cx="824760" cy="849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8" name="AutoShape 1041"/>
              <p:cNvCxnSpPr>
                <a:stCxn id="276" idx="7"/>
                <a:endCxn id="278" idx="3"/>
              </p:cNvCxnSpPr>
              <p:nvPr/>
            </p:nvCxnSpPr>
            <p:spPr>
              <a:xfrm flipV="1">
                <a:off x="2909880" y="5487840"/>
                <a:ext cx="745200" cy="64332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9" name="AutoShape 1042"/>
              <p:cNvCxnSpPr>
                <a:stCxn id="281" idx="0"/>
                <a:endCxn id="278" idx="4"/>
              </p:cNvCxnSpPr>
              <p:nvPr/>
            </p:nvCxnSpPr>
            <p:spPr>
              <a:xfrm flipH="1" flipV="1">
                <a:off x="3744360" y="5524200"/>
                <a:ext cx="84600" cy="738720"/>
              </a:xfrm>
              <a:prstGeom prst="straightConnector1">
                <a:avLst/>
              </a:prstGeom>
              <a:ln w="12600">
                <a:solidFill>
                  <a:srgbClr val="000066"/>
                </a:solidFill>
                <a:miter/>
              </a:ln>
            </p:spPr>
          </p:cxnSp>
        </p:grpSp>
        <p:sp>
          <p:nvSpPr>
            <p:cNvPr id="290" name="Oval 1043"/>
            <p:cNvSpPr/>
            <p:nvPr/>
          </p:nvSpPr>
          <p:spPr>
            <a:xfrm>
              <a:off x="5421240" y="6270480"/>
              <a:ext cx="252360" cy="2527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044"/>
            <p:cNvSpPr/>
            <p:nvPr/>
          </p:nvSpPr>
          <p:spPr>
            <a:xfrm>
              <a:off x="6640560" y="6270480"/>
              <a:ext cx="252360" cy="2527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045"/>
            <p:cNvSpPr/>
            <p:nvPr/>
          </p:nvSpPr>
          <p:spPr>
            <a:xfrm>
              <a:off x="6031080" y="6270480"/>
              <a:ext cx="252360" cy="2527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93" name="AutoShape 1046"/>
            <p:cNvCxnSpPr>
              <a:stCxn id="279" idx="6"/>
              <a:endCxn id="290" idx="2"/>
            </p:cNvCxnSpPr>
            <p:nvPr/>
          </p:nvCxnSpPr>
          <p:spPr>
            <a:xfrm>
              <a:off x="5054760" y="6397200"/>
              <a:ext cx="358920" cy="1080"/>
            </a:xfrm>
            <a:prstGeom prst="straightConnector1">
              <a:avLst/>
            </a:prstGeom>
            <a:ln cap="sq" w="9360">
              <a:solidFill>
                <a:srgbClr val="000066"/>
              </a:solidFill>
              <a:miter/>
            </a:ln>
          </p:spPr>
        </p:cxnSp>
        <p:cxnSp>
          <p:nvCxnSpPr>
            <p:cNvPr id="294" name="AutoShape 1047"/>
            <p:cNvCxnSpPr>
              <a:stCxn id="290" idx="6"/>
              <a:endCxn id="292" idx="2"/>
            </p:cNvCxnSpPr>
            <p:nvPr/>
          </p:nvCxnSpPr>
          <p:spPr>
            <a:xfrm>
              <a:off x="5681520" y="6397200"/>
              <a:ext cx="342000" cy="1080"/>
            </a:xfrm>
            <a:prstGeom prst="straightConnector1">
              <a:avLst/>
            </a:prstGeom>
            <a:ln cap="sq" w="9360">
              <a:solidFill>
                <a:srgbClr val="000066"/>
              </a:solidFill>
              <a:miter/>
            </a:ln>
          </p:spPr>
        </p:cxnSp>
        <p:cxnSp>
          <p:nvCxnSpPr>
            <p:cNvPr id="295" name="AutoShape 1048"/>
            <p:cNvCxnSpPr>
              <a:stCxn id="292" idx="6"/>
              <a:endCxn id="291" idx="2"/>
            </p:cNvCxnSpPr>
            <p:nvPr/>
          </p:nvCxnSpPr>
          <p:spPr>
            <a:xfrm>
              <a:off x="6291360" y="6397200"/>
              <a:ext cx="342000" cy="1080"/>
            </a:xfrm>
            <a:prstGeom prst="straightConnector1">
              <a:avLst/>
            </a:prstGeom>
            <a:ln cap="sq" w="9360">
              <a:solidFill>
                <a:srgbClr val="000066"/>
              </a:solidFill>
              <a:miter/>
            </a:ln>
          </p:spPr>
        </p:cxnSp>
      </p:grpSp>
      <p:sp>
        <p:nvSpPr>
          <p:cNvPr id="296" name="Oval 1049"/>
          <p:cNvSpPr/>
          <p:nvPr/>
        </p:nvSpPr>
        <p:spPr>
          <a:xfrm>
            <a:off x="4430880" y="5989680"/>
            <a:ext cx="3047760" cy="762120"/>
          </a:xfrm>
          <a:prstGeom prst="ellipse">
            <a:avLst/>
          </a:prstGeom>
          <a:noFill/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Slide Number Placeholder 2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84FF46D-87BF-4B2C-8751-0DF73216717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316080" y="23320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2E9E061-8586-4231-9319-FFF26D7B49B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opology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134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How does the Internet look like? Any rule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8" name="Picture 4" descr="0iterations"/>
          <p:cNvPicPr/>
          <p:nvPr/>
        </p:nvPicPr>
        <p:blipFill>
          <a:blip r:embed="rId1"/>
          <a:stretch/>
        </p:blipFill>
        <p:spPr>
          <a:xfrm>
            <a:off x="987480" y="3024360"/>
            <a:ext cx="3054240" cy="33588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4871880" y="3678840"/>
            <a:ext cx="46720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(Looks random – right?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0C74CBF-1F3D-44D0-AAF2-70F1E0BD655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5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Footer Placeholder 6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re real graphs random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84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dom (Erdos-Renyi) graph – 100 nodes, avg degree = 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before layou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fter layou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o obvious pattern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(generated with: pajek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2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http://vlado.fmf.uni-lj.si/pub/networks/pajek/ 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5" name="Picture 1028" descr="random100-circular"/>
          <p:cNvPicPr/>
          <p:nvPr/>
        </p:nvPicPr>
        <p:blipFill>
          <a:blip r:embed="rId1"/>
          <a:stretch/>
        </p:blipFill>
        <p:spPr>
          <a:xfrm>
            <a:off x="5195880" y="2198520"/>
            <a:ext cx="4048200" cy="2162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30" descr="random100"/>
          <p:cNvPicPr/>
          <p:nvPr/>
        </p:nvPicPr>
        <p:blipFill>
          <a:blip r:embed="rId2"/>
          <a:stretch/>
        </p:blipFill>
        <p:spPr>
          <a:xfrm>
            <a:off x="5195880" y="4541760"/>
            <a:ext cx="4048200" cy="216216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2CAE903-331A-48BA-8D6E-BE14020CB99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aws and patter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graphs are NOT random!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- and out- degree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ther (surprising) patter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059E797-A77F-48B3-AC96-02E6B088434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aws – degree distributio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g degree is ~2 - what is the most probable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16000" y="3359160"/>
            <a:ext cx="2855880" cy="2016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5"/>
          <p:cNvSpPr/>
          <p:nvPr/>
        </p:nvSpPr>
        <p:spPr>
          <a:xfrm>
            <a:off x="2184480" y="4367160"/>
            <a:ext cx="2603520" cy="952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4433040" y="5589720"/>
            <a:ext cx="1083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903960" y="3236760"/>
            <a:ext cx="938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508560" y="3321000"/>
            <a:ext cx="495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?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3695760" y="5291280"/>
            <a:ext cx="0" cy="168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444840" y="5627520"/>
            <a:ext cx="587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Slide Number Placeholder 13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A046D02-4A1D-4315-95FB-52F8E1F67CB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aws – degree distributio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55640" y="1758600"/>
            <a:ext cx="856944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avg degree is ~3 - what is the most probable degre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8733600" y="5543640"/>
            <a:ext cx="1083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0" name="Group 19"/>
          <p:cNvGrpSpPr/>
          <p:nvPr/>
        </p:nvGrpSpPr>
        <p:grpSpPr>
          <a:xfrm>
            <a:off x="903960" y="2435400"/>
            <a:ext cx="8270280" cy="3690360"/>
            <a:chOff x="903960" y="2435400"/>
            <a:chExt cx="8270280" cy="3690360"/>
          </a:xfrm>
        </p:grpSpPr>
        <p:grpSp>
          <p:nvGrpSpPr>
            <p:cNvPr id="341" name="Group 4"/>
            <p:cNvGrpSpPr/>
            <p:nvPr/>
          </p:nvGrpSpPr>
          <p:grpSpPr>
            <a:xfrm>
              <a:off x="903960" y="3236760"/>
              <a:ext cx="4611600" cy="2889000"/>
              <a:chOff x="903960" y="3236760"/>
              <a:chExt cx="4611600" cy="2889000"/>
            </a:xfrm>
          </p:grpSpPr>
          <p:sp>
            <p:nvSpPr>
              <p:cNvPr id="342" name="Rectangle 5"/>
              <p:cNvSpPr/>
              <p:nvPr/>
            </p:nvSpPr>
            <p:spPr>
              <a:xfrm>
                <a:off x="2016000" y="3359160"/>
                <a:ext cx="2856240" cy="201708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2183760" y="4367880"/>
                <a:ext cx="2604240" cy="9525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Text Box 7"/>
              <p:cNvSpPr/>
              <p:nvPr/>
            </p:nvSpPr>
            <p:spPr>
              <a:xfrm>
                <a:off x="4432320" y="5590080"/>
                <a:ext cx="108324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degree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Text Box 8"/>
              <p:cNvSpPr/>
              <p:nvPr/>
            </p:nvSpPr>
            <p:spPr>
              <a:xfrm>
                <a:off x="903960" y="3236760"/>
                <a:ext cx="93852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count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Text Box 9"/>
              <p:cNvSpPr/>
              <p:nvPr/>
            </p:nvSpPr>
            <p:spPr>
              <a:xfrm>
                <a:off x="3509280" y="3320640"/>
                <a:ext cx="4950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??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10"/>
              <p:cNvSpPr/>
              <p:nvPr/>
            </p:nvSpPr>
            <p:spPr>
              <a:xfrm>
                <a:off x="3696120" y="5292360"/>
                <a:ext cx="0" cy="167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Text Box 11"/>
              <p:cNvSpPr/>
              <p:nvPr/>
            </p:nvSpPr>
            <p:spPr>
              <a:xfrm>
                <a:off x="3444120" y="5628600"/>
                <a:ext cx="5878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9" name="Rectangle 12"/>
            <p:cNvSpPr/>
            <p:nvPr/>
          </p:nvSpPr>
          <p:spPr>
            <a:xfrm>
              <a:off x="6318360" y="3314880"/>
              <a:ext cx="2855880" cy="20160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Freeform 13"/>
            <p:cNvSpPr/>
            <p:nvPr/>
          </p:nvSpPr>
          <p:spPr>
            <a:xfrm>
              <a:off x="6519960" y="3505320"/>
              <a:ext cx="2570040" cy="174132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5"/>
            <p:cNvSpPr/>
            <p:nvPr/>
          </p:nvSpPr>
          <p:spPr>
            <a:xfrm>
              <a:off x="5207040" y="3192480"/>
              <a:ext cx="9385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count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7997760" y="5246640"/>
              <a:ext cx="0" cy="168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7"/>
            <p:cNvSpPr/>
            <p:nvPr/>
          </p:nvSpPr>
          <p:spPr>
            <a:xfrm>
              <a:off x="7745400" y="5581800"/>
              <a:ext cx="5889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WordArt 18"/>
            <p:cNvSpPr txBox="1"/>
            <p:nvPr/>
          </p:nvSpPr>
          <p:spPr>
            <a:xfrm>
              <a:off x="2016000" y="2435400"/>
              <a:ext cx="2855880" cy="20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WRONG !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355" name="Slide Number Placeholder 2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698FE6C-153E-4B0D-96DB-B647196F7C4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3960" y="420840"/>
            <a:ext cx="902988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.Power-law: outdegree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O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1720" y="5708160"/>
            <a:ext cx="7872120" cy="768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56000"/>
          </a:bodyPr>
          <a:p>
            <a:pPr marL="2116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plot is linear in log-log scale [FFF’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21168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freq = degree </a:t>
            </a:r>
            <a:r>
              <a:rPr b="0" i="1" lang="en-US" sz="3500" spc="-1" strike="noStrike" baseline="30000">
                <a:solidFill>
                  <a:srgbClr val="ff0000"/>
                </a:solidFill>
                <a:latin typeface="Times New Roman"/>
              </a:rPr>
              <a:t>(-2.15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0" name="Picture 4" descr="971108"/>
          <p:cNvPicPr/>
          <p:nvPr/>
        </p:nvPicPr>
        <p:blipFill>
          <a:blip r:embed="rId1"/>
          <a:stretch/>
        </p:blipFill>
        <p:spPr>
          <a:xfrm>
            <a:off x="2803680" y="2154240"/>
            <a:ext cx="4473360" cy="3251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7779600" y="2948040"/>
            <a:ext cx="151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O = -2.15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290360" y="2440080"/>
            <a:ext cx="252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3975120" y="5232240"/>
            <a:ext cx="158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Out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1028160" y="2271600"/>
            <a:ext cx="159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requenc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7975080" y="4554360"/>
            <a:ext cx="1215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ov’97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4659480" y="3701880"/>
            <a:ext cx="1143000" cy="0"/>
          </a:xfrm>
          <a:prstGeom prst="line">
            <a:avLst/>
          </a:prstGeom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4659480" y="3701880"/>
            <a:ext cx="838080" cy="687600"/>
          </a:xfrm>
          <a:prstGeom prst="line">
            <a:avLst/>
          </a:prstGeom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Arc 12"/>
          <p:cNvSpPr/>
          <p:nvPr/>
        </p:nvSpPr>
        <p:spPr>
          <a:xfrm flipV="1">
            <a:off x="5118120" y="3701880"/>
            <a:ext cx="150840" cy="306720"/>
          </a:xfrm>
          <a:prstGeom prst="pie">
            <a:avLst/>
          </a:prstGeom>
          <a:noFill/>
          <a:ln cap="sq" w="1260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187960" y="3693960"/>
            <a:ext cx="925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-2.1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Slide Number Placeholder 1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57BB197-EB5D-41C8-98A4-604E0DC0379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5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Footer Placeholder 6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hank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72388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Deepayan Chakrabarti (CMU -&gt; Yahoo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ichalis Faloutsos (UCR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George Siganos (UCR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9" name="Picture 1028" descr="face-deepay"/>
          <p:cNvPicPr/>
          <p:nvPr/>
        </p:nvPicPr>
        <p:blipFill>
          <a:blip r:embed="rId1"/>
          <a:stretch/>
        </p:blipFill>
        <p:spPr>
          <a:xfrm>
            <a:off x="8153280" y="1839960"/>
            <a:ext cx="1135080" cy="1254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29" descr="Fal-michalis-face"/>
          <p:cNvPicPr/>
          <p:nvPr/>
        </p:nvPicPr>
        <p:blipFill>
          <a:blip r:embed="rId2"/>
          <a:stretch/>
        </p:blipFill>
        <p:spPr>
          <a:xfrm>
            <a:off x="8153280" y="3398760"/>
            <a:ext cx="1098720" cy="110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siganos-face"/>
          <p:cNvPicPr/>
          <p:nvPr/>
        </p:nvPicPr>
        <p:blipFill>
          <a:blip r:embed="rId3"/>
          <a:stretch/>
        </p:blipFill>
        <p:spPr>
          <a:xfrm>
            <a:off x="8153280" y="4618080"/>
            <a:ext cx="1016280" cy="1219320"/>
          </a:xfrm>
          <a:prstGeom prst="rect">
            <a:avLst/>
          </a:prstGeom>
          <a:ln w="0">
            <a:noFill/>
          </a:ln>
        </p:spPr>
      </p:pic>
      <p:sp>
        <p:nvSpPr>
          <p:cNvPr id="192" name="Slide Number Placeholder 10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D051928-7430-4ED1-A333-814BD4CE6DC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I.Power-law: rank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12320" y="5869080"/>
            <a:ext cx="8566200" cy="114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plot is a line in log-log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scale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7218720" y="2303640"/>
            <a:ext cx="25218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R = -0.74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6" name="Picture 5" descr="981205"/>
          <p:cNvPicPr/>
          <p:nvPr/>
        </p:nvPicPr>
        <p:blipFill>
          <a:blip r:embed="rId1"/>
          <a:stretch/>
        </p:blipFill>
        <p:spPr>
          <a:xfrm>
            <a:off x="2803680" y="2154240"/>
            <a:ext cx="4473360" cy="3251160"/>
          </a:xfrm>
          <a:prstGeom prst="rect">
            <a:avLst/>
          </a:prstGeom>
          <a:ln w="0">
            <a:noFill/>
          </a:ln>
        </p:spPr>
      </p:pic>
      <p:sp>
        <p:nvSpPr>
          <p:cNvPr id="377" name="Line 6"/>
          <p:cNvSpPr/>
          <p:nvPr/>
        </p:nvSpPr>
        <p:spPr>
          <a:xfrm>
            <a:off x="5119560" y="4330800"/>
            <a:ext cx="14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Arc 7"/>
          <p:cNvSpPr/>
          <p:nvPr/>
        </p:nvSpPr>
        <p:spPr>
          <a:xfrm flipV="1" rot="9554400">
            <a:off x="5723640" y="3929400"/>
            <a:ext cx="390960" cy="112572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9440" y="3735360"/>
            <a:ext cx="405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1344600" y="2255760"/>
            <a:ext cx="1506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out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2475000" y="5311800"/>
            <a:ext cx="6939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marL="503280" indent="-503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k: nodes  in decreasing outdegree orde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7739280" y="4365720"/>
            <a:ext cx="117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’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Slide Number Placeholder 14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8E4AFE2-8D07-4FBE-87BC-3B52C41D694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II. Eigenvalu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be the adjacency matrix of graph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eigenvalue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3100" spc="-1" strike="noStrike" u="sng">
                <a:solidFill>
                  <a:srgbClr val="000066"/>
                </a:solidFill>
                <a:uFillTx/>
                <a:latin typeface="Times New Roman"/>
              </a:rPr>
              <a:t>v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i="1" lang="en-US" sz="3100" spc="-1" strike="noStrike" u="sng">
                <a:solidFill>
                  <a:srgbClr val="000066"/>
                </a:solidFill>
                <a:uFillTx/>
                <a:latin typeface="Times New Roman"/>
              </a:rPr>
              <a:t>v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,   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ere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100" spc="-1" strike="noStrike" u="sng">
                <a:solidFill>
                  <a:srgbClr val="000066"/>
                </a:solidFill>
                <a:uFillTx/>
                <a:latin typeface="Times New Roman"/>
              </a:rPr>
              <a:t>v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ome vector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igenvalues are strongly related to graph topolog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8" name="Group 1028"/>
          <p:cNvGrpSpPr/>
          <p:nvPr/>
        </p:nvGrpSpPr>
        <p:grpSpPr>
          <a:xfrm>
            <a:off x="1131840" y="5213520"/>
            <a:ext cx="1852200" cy="1841760"/>
            <a:chOff x="1131840" y="5213520"/>
            <a:chExt cx="1852200" cy="1841760"/>
          </a:xfrm>
        </p:grpSpPr>
        <p:sp>
          <p:nvSpPr>
            <p:cNvPr id="389" name="Oval 1029"/>
            <p:cNvSpPr/>
            <p:nvPr/>
          </p:nvSpPr>
          <p:spPr>
            <a:xfrm>
              <a:off x="1571400" y="6595920"/>
              <a:ext cx="168120" cy="1684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1030"/>
            <p:cNvSpPr/>
            <p:nvPr/>
          </p:nvSpPr>
          <p:spPr>
            <a:xfrm>
              <a:off x="1990440" y="5840280"/>
              <a:ext cx="168120" cy="1684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1031"/>
            <p:cNvSpPr/>
            <p:nvPr/>
          </p:nvSpPr>
          <p:spPr>
            <a:xfrm>
              <a:off x="1487520" y="6093000"/>
              <a:ext cx="167760" cy="1681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1032"/>
            <p:cNvSpPr/>
            <p:nvPr/>
          </p:nvSpPr>
          <p:spPr>
            <a:xfrm>
              <a:off x="2663640" y="5840280"/>
              <a:ext cx="168120" cy="1684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93" name="AutoShape 1033"/>
            <p:cNvCxnSpPr>
              <a:stCxn id="391" idx="7"/>
              <a:endCxn id="390" idx="2"/>
            </p:cNvCxnSpPr>
            <p:nvPr/>
          </p:nvCxnSpPr>
          <p:spPr>
            <a:xfrm flipV="1">
              <a:off x="1630080" y="5923800"/>
              <a:ext cx="342000" cy="1753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394" name="AutoShape 1034"/>
            <p:cNvCxnSpPr>
              <a:stCxn id="390" idx="6"/>
              <a:endCxn id="392" idx="2"/>
            </p:cNvCxnSpPr>
            <p:nvPr/>
          </p:nvCxnSpPr>
          <p:spPr>
            <a:xfrm>
              <a:off x="2177640" y="5924160"/>
              <a:ext cx="46692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395" name="AutoShape 1035"/>
            <p:cNvCxnSpPr>
              <a:stCxn id="390" idx="4"/>
              <a:endCxn id="389" idx="7"/>
            </p:cNvCxnSpPr>
            <p:nvPr/>
          </p:nvCxnSpPr>
          <p:spPr>
            <a:xfrm flipH="1">
              <a:off x="1713960" y="6027840"/>
              <a:ext cx="360720" cy="5752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sp>
          <p:nvSpPr>
            <p:cNvPr id="396" name="Text Box 1036"/>
            <p:cNvSpPr/>
            <p:nvPr/>
          </p:nvSpPr>
          <p:spPr>
            <a:xfrm>
              <a:off x="1131840" y="5549760"/>
              <a:ext cx="441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1037"/>
            <p:cNvSpPr/>
            <p:nvPr/>
          </p:nvSpPr>
          <p:spPr>
            <a:xfrm>
              <a:off x="1803600" y="5213520"/>
              <a:ext cx="4233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1038"/>
            <p:cNvSpPr/>
            <p:nvPr/>
          </p:nvSpPr>
          <p:spPr>
            <a:xfrm>
              <a:off x="2560680" y="5213520"/>
              <a:ext cx="4233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1039"/>
            <p:cNvSpPr/>
            <p:nvPr/>
          </p:nvSpPr>
          <p:spPr>
            <a:xfrm>
              <a:off x="1971360" y="6558120"/>
              <a:ext cx="441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400" name="Object 1024"/>
          <p:cNvGraphicFramePr/>
          <p:nvPr/>
        </p:nvGraphicFramePr>
        <p:xfrm>
          <a:off x="4619520" y="4871880"/>
          <a:ext cx="3270240" cy="200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9520" y="4871880"/>
                    <a:ext cx="32702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Slide Number Placeholder 1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0F805D4-8CDB-42CE-934D-23FE5E07F86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II.Power-law: eigen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55240" y="5837040"/>
            <a:ext cx="8564760" cy="97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3000"/>
          </a:bodyPr>
          <a:p>
            <a:pPr marL="284400" indent="-284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igenvalues in decreasing order (first 20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[Mihail+, 02]:   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R = 2 * E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7" name="Picture 4" descr="981205"/>
          <p:cNvPicPr/>
          <p:nvPr/>
        </p:nvPicPr>
        <p:blipFill>
          <a:blip r:embed="rId1"/>
          <a:stretch/>
        </p:blipFill>
        <p:spPr>
          <a:xfrm>
            <a:off x="2922480" y="2154240"/>
            <a:ext cx="4233960" cy="32511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7544160" y="3152880"/>
            <a:ext cx="1482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E = -0.4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7290360" y="2470320"/>
            <a:ext cx="252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1004760" y="1987560"/>
            <a:ext cx="169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igenvalu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3687840" y="5389560"/>
            <a:ext cx="4269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k of decreasing eigenvalu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7661520" y="4145040"/>
            <a:ext cx="117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’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1A43602-D6D9-4120-89C6-FAE8DA88360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9960" y="420840"/>
            <a:ext cx="88041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IV. The Node Neighborhood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N(h)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= # of pairs of nodes within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hop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A78DC02-4FDF-4FB1-A8A9-D8187A035B9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39960" y="420840"/>
            <a:ext cx="88041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IV. The Node Neighborhood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erage degree = 3 - how many neighbors should I expect within 1,2,…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hop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tential answer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 hop -&gt; 3 neighbo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 hops -&gt; 3 * 3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 hops -&gt; 3</a:t>
            </a:r>
            <a:r>
              <a:rPr b="0" i="1" lang="en-US" sz="3100" spc="-1" strike="noStrike" baseline="30000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3" name="Group 4"/>
          <p:cNvGrpSpPr/>
          <p:nvPr/>
        </p:nvGrpSpPr>
        <p:grpSpPr>
          <a:xfrm>
            <a:off x="5545080" y="3780000"/>
            <a:ext cx="2939400" cy="1681920"/>
            <a:chOff x="5545080" y="3780000"/>
            <a:chExt cx="2939400" cy="1681920"/>
          </a:xfrm>
        </p:grpSpPr>
        <p:sp>
          <p:nvSpPr>
            <p:cNvPr id="424" name="Oval 5"/>
            <p:cNvSpPr/>
            <p:nvPr/>
          </p:nvSpPr>
          <p:spPr>
            <a:xfrm>
              <a:off x="6888960" y="3780000"/>
              <a:ext cx="167760" cy="1677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"/>
            <p:cNvSpPr/>
            <p:nvPr/>
          </p:nvSpPr>
          <p:spPr>
            <a:xfrm>
              <a:off x="5880960" y="4535280"/>
              <a:ext cx="167760" cy="1677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7"/>
            <p:cNvSpPr/>
            <p:nvPr/>
          </p:nvSpPr>
          <p:spPr>
            <a:xfrm>
              <a:off x="6888960" y="4535280"/>
              <a:ext cx="167760" cy="1677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8"/>
            <p:cNvSpPr/>
            <p:nvPr/>
          </p:nvSpPr>
          <p:spPr>
            <a:xfrm>
              <a:off x="7980840" y="4535280"/>
              <a:ext cx="168120" cy="1677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428" name="AutoShape 9"/>
            <p:cNvCxnSpPr>
              <a:stCxn id="424" idx="3"/>
              <a:endCxn id="425" idx="0"/>
            </p:cNvCxnSpPr>
            <p:nvPr/>
          </p:nvCxnSpPr>
          <p:spPr>
            <a:xfrm flipH="1">
              <a:off x="5964480" y="3944160"/>
              <a:ext cx="948960" cy="5706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429" name="AutoShape 10"/>
            <p:cNvCxnSpPr>
              <a:stCxn id="424" idx="4"/>
              <a:endCxn id="426" idx="0"/>
            </p:cNvCxnSpPr>
            <p:nvPr/>
          </p:nvCxnSpPr>
          <p:spPr>
            <a:xfrm>
              <a:off x="6972480" y="3968640"/>
              <a:ext cx="1080" cy="5464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430" name="AutoShape 11"/>
            <p:cNvCxnSpPr>
              <a:stCxn id="424" idx="5"/>
              <a:endCxn id="427" idx="1"/>
            </p:cNvCxnSpPr>
            <p:nvPr/>
          </p:nvCxnSpPr>
          <p:spPr>
            <a:xfrm>
              <a:off x="7031880" y="3944160"/>
              <a:ext cx="973800" cy="595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grpSp>
          <p:nvGrpSpPr>
            <p:cNvPr id="431" name="Group 12"/>
            <p:cNvGrpSpPr/>
            <p:nvPr/>
          </p:nvGrpSpPr>
          <p:grpSpPr>
            <a:xfrm>
              <a:off x="6553080" y="4703040"/>
              <a:ext cx="839520" cy="758880"/>
              <a:chOff x="6553080" y="4703040"/>
              <a:chExt cx="839520" cy="758880"/>
            </a:xfrm>
          </p:grpSpPr>
          <p:sp>
            <p:nvSpPr>
              <p:cNvPr id="432" name="Oval 13"/>
              <p:cNvSpPr/>
              <p:nvPr/>
            </p:nvSpPr>
            <p:spPr>
              <a:xfrm>
                <a:off x="6553080" y="529416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Oval 14"/>
              <p:cNvSpPr/>
              <p:nvPr/>
            </p:nvSpPr>
            <p:spPr>
              <a:xfrm>
                <a:off x="6888960" y="529416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Oval 15"/>
              <p:cNvSpPr/>
              <p:nvPr/>
            </p:nvSpPr>
            <p:spPr>
              <a:xfrm>
                <a:off x="7224480" y="529416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35" name="AutoShape 16"/>
              <p:cNvCxnSpPr>
                <a:endCxn id="432" idx="0"/>
              </p:cNvCxnSpPr>
              <p:nvPr/>
            </p:nvCxnSpPr>
            <p:spPr>
              <a:xfrm flipH="1">
                <a:off x="6636600" y="4703040"/>
                <a:ext cx="276480" cy="5706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36" name="AutoShape 17"/>
              <p:cNvCxnSpPr>
                <a:endCxn id="433" idx="0"/>
              </p:cNvCxnSpPr>
              <p:nvPr/>
            </p:nvCxnSpPr>
            <p:spPr>
              <a:xfrm>
                <a:off x="6972120" y="4727520"/>
                <a:ext cx="1080" cy="5464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37" name="AutoShape 18"/>
              <p:cNvCxnSpPr>
                <a:endCxn id="434" idx="1"/>
              </p:cNvCxnSpPr>
              <p:nvPr/>
            </p:nvCxnSpPr>
            <p:spPr>
              <a:xfrm>
                <a:off x="7032240" y="4703040"/>
                <a:ext cx="217440" cy="595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438" name="Group 19"/>
            <p:cNvGrpSpPr/>
            <p:nvPr/>
          </p:nvGrpSpPr>
          <p:grpSpPr>
            <a:xfrm>
              <a:off x="7645320" y="4703040"/>
              <a:ext cx="839160" cy="758880"/>
              <a:chOff x="7645320" y="4703040"/>
              <a:chExt cx="839160" cy="758880"/>
            </a:xfrm>
          </p:grpSpPr>
          <p:sp>
            <p:nvSpPr>
              <p:cNvPr id="439" name="Oval 20"/>
              <p:cNvSpPr/>
              <p:nvPr/>
            </p:nvSpPr>
            <p:spPr>
              <a:xfrm>
                <a:off x="7645320" y="5294160"/>
                <a:ext cx="16740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Oval 21"/>
              <p:cNvSpPr/>
              <p:nvPr/>
            </p:nvSpPr>
            <p:spPr>
              <a:xfrm>
                <a:off x="7980840" y="5294160"/>
                <a:ext cx="16740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Oval 22"/>
              <p:cNvSpPr/>
              <p:nvPr/>
            </p:nvSpPr>
            <p:spPr>
              <a:xfrm>
                <a:off x="8316360" y="529416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42" name="AutoShape 23"/>
              <p:cNvCxnSpPr>
                <a:endCxn id="439" idx="0"/>
              </p:cNvCxnSpPr>
              <p:nvPr/>
            </p:nvCxnSpPr>
            <p:spPr>
              <a:xfrm flipH="1">
                <a:off x="7728840" y="4703040"/>
                <a:ext cx="276480" cy="5706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3" name="AutoShape 24"/>
              <p:cNvCxnSpPr>
                <a:endCxn id="440" idx="0"/>
              </p:cNvCxnSpPr>
              <p:nvPr/>
            </p:nvCxnSpPr>
            <p:spPr>
              <a:xfrm>
                <a:off x="8064360" y="4727520"/>
                <a:ext cx="1080" cy="5464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4" name="AutoShape 25"/>
              <p:cNvCxnSpPr>
                <a:endCxn id="441" idx="1"/>
              </p:cNvCxnSpPr>
              <p:nvPr/>
            </p:nvCxnSpPr>
            <p:spPr>
              <a:xfrm>
                <a:off x="8124120" y="4703040"/>
                <a:ext cx="217440" cy="595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445" name="Group 26"/>
            <p:cNvGrpSpPr/>
            <p:nvPr/>
          </p:nvGrpSpPr>
          <p:grpSpPr>
            <a:xfrm>
              <a:off x="5545080" y="4703040"/>
              <a:ext cx="839520" cy="758880"/>
              <a:chOff x="5545080" y="4703040"/>
              <a:chExt cx="839520" cy="758880"/>
            </a:xfrm>
          </p:grpSpPr>
          <p:sp>
            <p:nvSpPr>
              <p:cNvPr id="446" name="Oval 27"/>
              <p:cNvSpPr/>
              <p:nvPr/>
            </p:nvSpPr>
            <p:spPr>
              <a:xfrm>
                <a:off x="5545080" y="529416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Oval 28"/>
              <p:cNvSpPr/>
              <p:nvPr/>
            </p:nvSpPr>
            <p:spPr>
              <a:xfrm>
                <a:off x="5880960" y="529416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Oval 29"/>
              <p:cNvSpPr/>
              <p:nvPr/>
            </p:nvSpPr>
            <p:spPr>
              <a:xfrm>
                <a:off x="6216480" y="529416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49" name="AutoShape 30"/>
              <p:cNvCxnSpPr>
                <a:endCxn id="446" idx="0"/>
              </p:cNvCxnSpPr>
              <p:nvPr/>
            </p:nvCxnSpPr>
            <p:spPr>
              <a:xfrm flipH="1">
                <a:off x="5628600" y="4703040"/>
                <a:ext cx="276480" cy="5706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50" name="AutoShape 31"/>
              <p:cNvCxnSpPr>
                <a:endCxn id="447" idx="0"/>
              </p:cNvCxnSpPr>
              <p:nvPr/>
            </p:nvCxnSpPr>
            <p:spPr>
              <a:xfrm>
                <a:off x="5964120" y="4727520"/>
                <a:ext cx="1080" cy="5464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51" name="AutoShape 32"/>
              <p:cNvCxnSpPr>
                <a:endCxn id="448" idx="1"/>
              </p:cNvCxnSpPr>
              <p:nvPr/>
            </p:nvCxnSpPr>
            <p:spPr>
              <a:xfrm>
                <a:off x="6024240" y="4703040"/>
                <a:ext cx="217440" cy="595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</p:grpSp>
      <p:sp>
        <p:nvSpPr>
          <p:cNvPr id="452" name="Slide Number Placeholder 35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E95F9E1-A927-4FA9-B6C2-B6E7F470B6E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39960" y="420840"/>
            <a:ext cx="88041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IV. The Node Neighborhood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erage degree = 3 - how many neighbors should I expect within 1,2,…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hop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tential answer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 hop -&gt; 3 neighbo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 hops -&gt; 3 * 3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h hops -&gt; 3</a:t>
            </a:r>
            <a:r>
              <a:rPr b="0" lang="en-US" sz="3100" spc="-1" strike="noStrike" baseline="30000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WordArt 4"/>
          <p:cNvSpPr txBox="1"/>
          <p:nvPr/>
        </p:nvSpPr>
        <p:spPr>
          <a:xfrm>
            <a:off x="4116240" y="3443400"/>
            <a:ext cx="226872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4194360" y="5711760"/>
            <a:ext cx="412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WE HAVE DUPLICATES!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6888240" y="378000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588024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688824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798048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63" name="AutoShape 10"/>
          <p:cNvCxnSpPr>
            <a:stCxn id="459" idx="3"/>
            <a:endCxn id="460" idx="0"/>
          </p:cNvCxnSpPr>
          <p:nvPr/>
        </p:nvCxnSpPr>
        <p:spPr>
          <a:xfrm flipH="1">
            <a:off x="5963400" y="3941280"/>
            <a:ext cx="950040" cy="5756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64" name="AutoShape 11"/>
          <p:cNvCxnSpPr>
            <a:stCxn id="459" idx="4"/>
            <a:endCxn id="461" idx="0"/>
          </p:cNvCxnSpPr>
          <p:nvPr/>
        </p:nvCxnSpPr>
        <p:spPr>
          <a:xfrm>
            <a:off x="6972120" y="3967200"/>
            <a:ext cx="1080" cy="55008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65" name="AutoShape 12"/>
          <p:cNvCxnSpPr>
            <a:stCxn id="459" idx="5"/>
            <a:endCxn id="462" idx="1"/>
          </p:cNvCxnSpPr>
          <p:nvPr/>
        </p:nvCxnSpPr>
        <p:spPr>
          <a:xfrm>
            <a:off x="7030800" y="3941280"/>
            <a:ext cx="975240" cy="6008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66" name="Oval 13"/>
          <p:cNvSpPr/>
          <p:nvPr/>
        </p:nvSpPr>
        <p:spPr>
          <a:xfrm>
            <a:off x="688824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67" name="AutoShape 14"/>
          <p:cNvCxnSpPr>
            <a:stCxn id="461" idx="3"/>
            <a:endCxn id="468" idx="7"/>
          </p:cNvCxnSpPr>
          <p:nvPr/>
        </p:nvCxnSpPr>
        <p:spPr>
          <a:xfrm flipH="1">
            <a:off x="6358680" y="4697280"/>
            <a:ext cx="55476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69" name="AutoShape 15"/>
          <p:cNvCxnSpPr>
            <a:stCxn id="461" idx="4"/>
            <a:endCxn id="466" idx="0"/>
          </p:cNvCxnSpPr>
          <p:nvPr/>
        </p:nvCxnSpPr>
        <p:spPr>
          <a:xfrm>
            <a:off x="697212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70" name="Oval 16"/>
          <p:cNvSpPr/>
          <p:nvPr/>
        </p:nvSpPr>
        <p:spPr>
          <a:xfrm>
            <a:off x="7643880" y="5295960"/>
            <a:ext cx="168120" cy="166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798048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Oval 18"/>
          <p:cNvSpPr/>
          <p:nvPr/>
        </p:nvSpPr>
        <p:spPr>
          <a:xfrm>
            <a:off x="831708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73" name="AutoShape 19"/>
          <p:cNvCxnSpPr>
            <a:stCxn id="462" idx="3"/>
            <a:endCxn id="470" idx="0"/>
          </p:cNvCxnSpPr>
          <p:nvPr/>
        </p:nvCxnSpPr>
        <p:spPr>
          <a:xfrm flipH="1">
            <a:off x="7727400" y="4697280"/>
            <a:ext cx="278280" cy="5803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74" name="AutoShape 20"/>
          <p:cNvCxnSpPr>
            <a:stCxn id="462" idx="4"/>
            <a:endCxn id="471" idx="0"/>
          </p:cNvCxnSpPr>
          <p:nvPr/>
        </p:nvCxnSpPr>
        <p:spPr>
          <a:xfrm>
            <a:off x="806400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75" name="AutoShape 21"/>
          <p:cNvCxnSpPr>
            <a:stCxn id="462" idx="5"/>
            <a:endCxn id="472" idx="1"/>
          </p:cNvCxnSpPr>
          <p:nvPr/>
        </p:nvCxnSpPr>
        <p:spPr>
          <a:xfrm>
            <a:off x="8123400" y="4697280"/>
            <a:ext cx="21960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76" name="Oval 22"/>
          <p:cNvSpPr/>
          <p:nvPr/>
        </p:nvSpPr>
        <p:spPr>
          <a:xfrm>
            <a:off x="5545080" y="5295960"/>
            <a:ext cx="16668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23"/>
          <p:cNvSpPr/>
          <p:nvPr/>
        </p:nvSpPr>
        <p:spPr>
          <a:xfrm>
            <a:off x="588024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24"/>
          <p:cNvSpPr/>
          <p:nvPr/>
        </p:nvSpPr>
        <p:spPr>
          <a:xfrm>
            <a:off x="6216480" y="5295960"/>
            <a:ext cx="168480" cy="166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78" name="AutoShape 25"/>
          <p:cNvCxnSpPr>
            <a:stCxn id="460" idx="3"/>
            <a:endCxn id="476" idx="0"/>
          </p:cNvCxnSpPr>
          <p:nvPr/>
        </p:nvCxnSpPr>
        <p:spPr>
          <a:xfrm flipH="1">
            <a:off x="5628600" y="4697280"/>
            <a:ext cx="276840" cy="5803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79" name="AutoShape 26"/>
          <p:cNvCxnSpPr>
            <a:stCxn id="460" idx="4"/>
            <a:endCxn id="477" idx="0"/>
          </p:cNvCxnSpPr>
          <p:nvPr/>
        </p:nvCxnSpPr>
        <p:spPr>
          <a:xfrm>
            <a:off x="596376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80" name="AutoShape 27"/>
          <p:cNvCxnSpPr>
            <a:stCxn id="460" idx="5"/>
            <a:endCxn id="468" idx="1"/>
          </p:cNvCxnSpPr>
          <p:nvPr/>
        </p:nvCxnSpPr>
        <p:spPr>
          <a:xfrm>
            <a:off x="6022440" y="4697280"/>
            <a:ext cx="21996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81" name="AutoShape 28"/>
          <p:cNvCxnSpPr>
            <a:stCxn id="461" idx="5"/>
            <a:endCxn id="470" idx="1"/>
          </p:cNvCxnSpPr>
          <p:nvPr/>
        </p:nvCxnSpPr>
        <p:spPr>
          <a:xfrm>
            <a:off x="7031160" y="4697280"/>
            <a:ext cx="63828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82" name="Slide Number Placeholder 31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E61CA6F-558E-4852-B837-D4B9338BF26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9960" y="420840"/>
            <a:ext cx="88041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IV. The Node Neighborhood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erage degree = 3 - how many neighbors should I expect within 1,2,…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hop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tential answer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 hop -&gt; 3 neighbo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 hops -&gt; 3 * 3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h hops -&gt; 3</a:t>
            </a:r>
            <a:r>
              <a:rPr b="0" lang="en-US" sz="3100" spc="-1" strike="noStrike" baseline="30000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WordArt 1028"/>
          <p:cNvSpPr txBox="1"/>
          <p:nvPr/>
        </p:nvSpPr>
        <p:spPr>
          <a:xfrm>
            <a:off x="4116240" y="3443400"/>
            <a:ext cx="226872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 x 2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88" name="Text Box 1029"/>
          <p:cNvSpPr/>
          <p:nvPr/>
        </p:nvSpPr>
        <p:spPr>
          <a:xfrm>
            <a:off x="4195800" y="5711760"/>
            <a:ext cx="3948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avg’ degree: meaningless!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1030"/>
          <p:cNvSpPr/>
          <p:nvPr/>
        </p:nvSpPr>
        <p:spPr>
          <a:xfrm>
            <a:off x="6888240" y="378000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1031"/>
          <p:cNvSpPr/>
          <p:nvPr/>
        </p:nvSpPr>
        <p:spPr>
          <a:xfrm>
            <a:off x="588024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Oval 1032"/>
          <p:cNvSpPr/>
          <p:nvPr/>
        </p:nvSpPr>
        <p:spPr>
          <a:xfrm>
            <a:off x="688824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Oval 1033"/>
          <p:cNvSpPr/>
          <p:nvPr/>
        </p:nvSpPr>
        <p:spPr>
          <a:xfrm>
            <a:off x="798048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93" name="AutoShape 1034"/>
          <p:cNvCxnSpPr>
            <a:stCxn id="489" idx="3"/>
            <a:endCxn id="490" idx="0"/>
          </p:cNvCxnSpPr>
          <p:nvPr/>
        </p:nvCxnSpPr>
        <p:spPr>
          <a:xfrm flipH="1">
            <a:off x="5963400" y="3941280"/>
            <a:ext cx="950040" cy="5756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94" name="AutoShape 1035"/>
          <p:cNvCxnSpPr>
            <a:stCxn id="489" idx="4"/>
            <a:endCxn id="491" idx="0"/>
          </p:cNvCxnSpPr>
          <p:nvPr/>
        </p:nvCxnSpPr>
        <p:spPr>
          <a:xfrm>
            <a:off x="6972120" y="3967200"/>
            <a:ext cx="1080" cy="55008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95" name="AutoShape 1036"/>
          <p:cNvCxnSpPr>
            <a:stCxn id="489" idx="5"/>
            <a:endCxn id="492" idx="1"/>
          </p:cNvCxnSpPr>
          <p:nvPr/>
        </p:nvCxnSpPr>
        <p:spPr>
          <a:xfrm>
            <a:off x="7030800" y="3941280"/>
            <a:ext cx="975240" cy="6008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96" name="Oval 1037"/>
          <p:cNvSpPr/>
          <p:nvPr/>
        </p:nvSpPr>
        <p:spPr>
          <a:xfrm>
            <a:off x="688824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97" name="AutoShape 1038"/>
          <p:cNvCxnSpPr>
            <a:stCxn id="491" idx="3"/>
            <a:endCxn id="498" idx="7"/>
          </p:cNvCxnSpPr>
          <p:nvPr/>
        </p:nvCxnSpPr>
        <p:spPr>
          <a:xfrm flipH="1">
            <a:off x="6358680" y="4697280"/>
            <a:ext cx="55476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99" name="AutoShape 1039"/>
          <p:cNvCxnSpPr>
            <a:stCxn id="491" idx="4"/>
            <a:endCxn id="496" idx="0"/>
          </p:cNvCxnSpPr>
          <p:nvPr/>
        </p:nvCxnSpPr>
        <p:spPr>
          <a:xfrm>
            <a:off x="697212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500" name="Oval 1040"/>
          <p:cNvSpPr/>
          <p:nvPr/>
        </p:nvSpPr>
        <p:spPr>
          <a:xfrm>
            <a:off x="7643880" y="5295960"/>
            <a:ext cx="168120" cy="166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Oval 1041"/>
          <p:cNvSpPr/>
          <p:nvPr/>
        </p:nvSpPr>
        <p:spPr>
          <a:xfrm>
            <a:off x="798048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Oval 1042"/>
          <p:cNvSpPr/>
          <p:nvPr/>
        </p:nvSpPr>
        <p:spPr>
          <a:xfrm>
            <a:off x="831708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03" name="AutoShape 1043"/>
          <p:cNvCxnSpPr>
            <a:stCxn id="492" idx="3"/>
            <a:endCxn id="500" idx="0"/>
          </p:cNvCxnSpPr>
          <p:nvPr/>
        </p:nvCxnSpPr>
        <p:spPr>
          <a:xfrm flipH="1">
            <a:off x="7727400" y="4697280"/>
            <a:ext cx="278280" cy="5803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04" name="AutoShape 1044"/>
          <p:cNvCxnSpPr>
            <a:stCxn id="492" idx="4"/>
            <a:endCxn id="501" idx="0"/>
          </p:cNvCxnSpPr>
          <p:nvPr/>
        </p:nvCxnSpPr>
        <p:spPr>
          <a:xfrm>
            <a:off x="806400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05" name="AutoShape 1045"/>
          <p:cNvCxnSpPr>
            <a:stCxn id="492" idx="5"/>
            <a:endCxn id="502" idx="1"/>
          </p:cNvCxnSpPr>
          <p:nvPr/>
        </p:nvCxnSpPr>
        <p:spPr>
          <a:xfrm>
            <a:off x="8123400" y="4697280"/>
            <a:ext cx="21960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506" name="Oval 1046"/>
          <p:cNvSpPr/>
          <p:nvPr/>
        </p:nvSpPr>
        <p:spPr>
          <a:xfrm>
            <a:off x="5545080" y="5295960"/>
            <a:ext cx="16668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1047"/>
          <p:cNvSpPr/>
          <p:nvPr/>
        </p:nvSpPr>
        <p:spPr>
          <a:xfrm>
            <a:off x="588024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Oval 1048"/>
          <p:cNvSpPr/>
          <p:nvPr/>
        </p:nvSpPr>
        <p:spPr>
          <a:xfrm>
            <a:off x="6216480" y="5295960"/>
            <a:ext cx="168480" cy="166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08" name="AutoShape 1049"/>
          <p:cNvCxnSpPr>
            <a:stCxn id="490" idx="3"/>
            <a:endCxn id="506" idx="0"/>
          </p:cNvCxnSpPr>
          <p:nvPr/>
        </p:nvCxnSpPr>
        <p:spPr>
          <a:xfrm flipH="1">
            <a:off x="5628600" y="4697280"/>
            <a:ext cx="276840" cy="5803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09" name="AutoShape 1050"/>
          <p:cNvCxnSpPr>
            <a:stCxn id="490" idx="4"/>
            <a:endCxn id="507" idx="0"/>
          </p:cNvCxnSpPr>
          <p:nvPr/>
        </p:nvCxnSpPr>
        <p:spPr>
          <a:xfrm>
            <a:off x="596376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10" name="AutoShape 1051"/>
          <p:cNvCxnSpPr>
            <a:stCxn id="490" idx="5"/>
            <a:endCxn id="498" idx="1"/>
          </p:cNvCxnSpPr>
          <p:nvPr/>
        </p:nvCxnSpPr>
        <p:spPr>
          <a:xfrm>
            <a:off x="6022440" y="4697280"/>
            <a:ext cx="21996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11" name="AutoShape 1052"/>
          <p:cNvCxnSpPr>
            <a:stCxn id="491" idx="5"/>
            <a:endCxn id="500" idx="1"/>
          </p:cNvCxnSpPr>
          <p:nvPr/>
        </p:nvCxnSpPr>
        <p:spPr>
          <a:xfrm>
            <a:off x="7031160" y="4697280"/>
            <a:ext cx="63828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512" name="Slide Number Placeholder 31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BE179E0-6F59-4FEA-A244-C473E21EABF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V. Power-law: hopplot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H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48880" y="5914800"/>
            <a:ext cx="8913960" cy="685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airs of nodes as a function of hops  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N(h)= h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3465720" y="1989000"/>
            <a:ext cx="1409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H = 4.86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3916800" y="5514840"/>
            <a:ext cx="1231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 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9" name="Picture 6" descr="981205"/>
          <p:cNvPicPr/>
          <p:nvPr/>
        </p:nvPicPr>
        <p:blipFill>
          <a:blip r:embed="rId1"/>
          <a:stretch/>
        </p:blipFill>
        <p:spPr>
          <a:xfrm>
            <a:off x="1004760" y="2468520"/>
            <a:ext cx="4140360" cy="29844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7"/>
          <p:cNvSpPr/>
          <p:nvPr/>
        </p:nvSpPr>
        <p:spPr>
          <a:xfrm>
            <a:off x="2322720" y="5530680"/>
            <a:ext cx="7920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Hop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954000" y="1955880"/>
            <a:ext cx="1273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# of Pai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22" name="Picture 9" descr="routes"/>
          <p:cNvPicPr/>
          <p:nvPr/>
        </p:nvPicPr>
        <p:blipFill>
          <a:blip r:embed="rId2"/>
          <a:stretch/>
        </p:blipFill>
        <p:spPr>
          <a:xfrm>
            <a:off x="5548320" y="2440080"/>
            <a:ext cx="4263840" cy="304776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0"/>
          <p:cNvSpPr/>
          <p:nvPr/>
        </p:nvSpPr>
        <p:spPr>
          <a:xfrm>
            <a:off x="5420160" y="1998720"/>
            <a:ext cx="1273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# of Pai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585480" y="5510160"/>
            <a:ext cx="30294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Hops      Router level ’95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858440" y="1951200"/>
            <a:ext cx="1409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H = 2.8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Slide Number Placeholder 15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913E1C2-01C9-4DB9-8B23-67AFCD5EBC9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36600" y="1595520"/>
            <a:ext cx="9323280" cy="520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Intuition behind ‘hop exponent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‘intrinsic=fractal dimensionality’ of the network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1028"/>
          <p:cNvSpPr/>
          <p:nvPr/>
        </p:nvSpPr>
        <p:spPr>
          <a:xfrm>
            <a:off x="1008000" y="4535640"/>
            <a:ext cx="16848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1029"/>
          <p:cNvSpPr/>
          <p:nvPr/>
        </p:nvSpPr>
        <p:spPr>
          <a:xfrm>
            <a:off x="1512720" y="4871880"/>
            <a:ext cx="166680" cy="1684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Oval 1030"/>
          <p:cNvSpPr/>
          <p:nvPr/>
        </p:nvSpPr>
        <p:spPr>
          <a:xfrm>
            <a:off x="2100240" y="478800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Oval 1031"/>
          <p:cNvSpPr/>
          <p:nvPr/>
        </p:nvSpPr>
        <p:spPr>
          <a:xfrm>
            <a:off x="2352600" y="4200480"/>
            <a:ext cx="16848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Oval 1032"/>
          <p:cNvSpPr/>
          <p:nvPr/>
        </p:nvSpPr>
        <p:spPr>
          <a:xfrm>
            <a:off x="1932120" y="369576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Oval 1033"/>
          <p:cNvSpPr/>
          <p:nvPr/>
        </p:nvSpPr>
        <p:spPr>
          <a:xfrm>
            <a:off x="1176480" y="378000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37" name="AutoShape 1034"/>
          <p:cNvCxnSpPr>
            <a:stCxn id="536" idx="3"/>
            <a:endCxn id="531" idx="0"/>
          </p:cNvCxnSpPr>
          <p:nvPr/>
        </p:nvCxnSpPr>
        <p:spPr>
          <a:xfrm flipH="1">
            <a:off x="1091880" y="3941280"/>
            <a:ext cx="110160" cy="5756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38" name="AutoShape 1035"/>
          <p:cNvCxnSpPr>
            <a:stCxn id="536" idx="6"/>
            <a:endCxn id="535" idx="2"/>
          </p:cNvCxnSpPr>
          <p:nvPr/>
        </p:nvCxnSpPr>
        <p:spPr>
          <a:xfrm flipV="1">
            <a:off x="1363680" y="3779280"/>
            <a:ext cx="550080" cy="8460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39" name="AutoShape 1036"/>
          <p:cNvCxnSpPr>
            <a:stCxn id="535" idx="5"/>
            <a:endCxn id="534" idx="1"/>
          </p:cNvCxnSpPr>
          <p:nvPr/>
        </p:nvCxnSpPr>
        <p:spPr>
          <a:xfrm>
            <a:off x="2075040" y="3857400"/>
            <a:ext cx="303840" cy="347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40" name="AutoShape 1037"/>
          <p:cNvCxnSpPr>
            <a:stCxn id="534" idx="3"/>
            <a:endCxn id="533" idx="7"/>
          </p:cNvCxnSpPr>
          <p:nvPr/>
        </p:nvCxnSpPr>
        <p:spPr>
          <a:xfrm flipH="1">
            <a:off x="2242440" y="4362120"/>
            <a:ext cx="135720" cy="4323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41" name="AutoShape 1038"/>
          <p:cNvCxnSpPr>
            <a:stCxn id="533" idx="2"/>
            <a:endCxn id="532" idx="6"/>
          </p:cNvCxnSpPr>
          <p:nvPr/>
        </p:nvCxnSpPr>
        <p:spPr>
          <a:xfrm flipH="1">
            <a:off x="1697760" y="4871880"/>
            <a:ext cx="383400" cy="849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42" name="AutoShape 1039"/>
          <p:cNvCxnSpPr>
            <a:stCxn id="532" idx="2"/>
            <a:endCxn id="531" idx="5"/>
          </p:cNvCxnSpPr>
          <p:nvPr/>
        </p:nvCxnSpPr>
        <p:spPr>
          <a:xfrm flipH="1" flipV="1">
            <a:off x="1150200" y="4696560"/>
            <a:ext cx="343800" cy="2595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543" name="Text Box 1040"/>
          <p:cNvSpPr/>
          <p:nvPr/>
        </p:nvSpPr>
        <p:spPr>
          <a:xfrm>
            <a:off x="994680" y="5842080"/>
            <a:ext cx="1431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(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) ~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600" spc="-1" strike="noStrike" baseline="30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4" name="Group 1041"/>
          <p:cNvGrpSpPr/>
          <p:nvPr/>
        </p:nvGrpSpPr>
        <p:grpSpPr>
          <a:xfrm>
            <a:off x="5292720" y="3073320"/>
            <a:ext cx="2687040" cy="2687040"/>
            <a:chOff x="5292720" y="3073320"/>
            <a:chExt cx="2687040" cy="2687040"/>
          </a:xfrm>
        </p:grpSpPr>
        <p:grpSp>
          <p:nvGrpSpPr>
            <p:cNvPr id="545" name="Group 1042"/>
            <p:cNvGrpSpPr/>
            <p:nvPr/>
          </p:nvGrpSpPr>
          <p:grpSpPr>
            <a:xfrm>
              <a:off x="5292720" y="3073320"/>
              <a:ext cx="1007280" cy="1007280"/>
              <a:chOff x="5292720" y="3073320"/>
              <a:chExt cx="1007280" cy="1007280"/>
            </a:xfrm>
          </p:grpSpPr>
          <p:sp>
            <p:nvSpPr>
              <p:cNvPr id="546" name="Oval 1043"/>
              <p:cNvSpPr/>
              <p:nvPr/>
            </p:nvSpPr>
            <p:spPr>
              <a:xfrm>
                <a:off x="5292720" y="3912480"/>
                <a:ext cx="16776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Oval 1044"/>
              <p:cNvSpPr/>
              <p:nvPr/>
            </p:nvSpPr>
            <p:spPr>
              <a:xfrm>
                <a:off x="6131880" y="391248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Oval 1045"/>
              <p:cNvSpPr/>
              <p:nvPr/>
            </p:nvSpPr>
            <p:spPr>
              <a:xfrm>
                <a:off x="6131880" y="307332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1046"/>
              <p:cNvSpPr/>
              <p:nvPr/>
            </p:nvSpPr>
            <p:spPr>
              <a:xfrm>
                <a:off x="5292720" y="307332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550" name="AutoShape 1047"/>
              <p:cNvCxnSpPr>
                <a:stCxn id="549" idx="6"/>
                <a:endCxn id="548" idx="2"/>
              </p:cNvCxnSpPr>
              <p:nvPr/>
            </p:nvCxnSpPr>
            <p:spPr>
              <a:xfrm>
                <a:off x="5481360" y="315648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51" name="AutoShape 1048"/>
              <p:cNvCxnSpPr>
                <a:stCxn id="549" idx="4"/>
                <a:endCxn id="546" idx="0"/>
              </p:cNvCxnSpPr>
              <p:nvPr/>
            </p:nvCxnSpPr>
            <p:spPr>
              <a:xfrm>
                <a:off x="5375880" y="326196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52" name="AutoShape 1049"/>
              <p:cNvCxnSpPr>
                <a:stCxn id="547" idx="0"/>
                <a:endCxn id="548" idx="4"/>
              </p:cNvCxnSpPr>
              <p:nvPr/>
            </p:nvCxnSpPr>
            <p:spPr>
              <a:xfrm flipV="1">
                <a:off x="6215760" y="326160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53" name="AutoShape 1050"/>
              <p:cNvCxnSpPr>
                <a:stCxn id="546" idx="6"/>
                <a:endCxn id="547" idx="2"/>
              </p:cNvCxnSpPr>
              <p:nvPr/>
            </p:nvCxnSpPr>
            <p:spPr>
              <a:xfrm>
                <a:off x="5481360" y="399636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54" name="Group 1051"/>
            <p:cNvGrpSpPr/>
            <p:nvPr/>
          </p:nvGrpSpPr>
          <p:grpSpPr>
            <a:xfrm>
              <a:off x="5292720" y="4753080"/>
              <a:ext cx="1007280" cy="1007280"/>
              <a:chOff x="5292720" y="4753080"/>
              <a:chExt cx="1007280" cy="1007280"/>
            </a:xfrm>
          </p:grpSpPr>
          <p:sp>
            <p:nvSpPr>
              <p:cNvPr id="555" name="Oval 1052"/>
              <p:cNvSpPr/>
              <p:nvPr/>
            </p:nvSpPr>
            <p:spPr>
              <a:xfrm>
                <a:off x="5292720" y="5592240"/>
                <a:ext cx="16776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Oval 1053"/>
              <p:cNvSpPr/>
              <p:nvPr/>
            </p:nvSpPr>
            <p:spPr>
              <a:xfrm>
                <a:off x="6131880" y="559224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Oval 1054"/>
              <p:cNvSpPr/>
              <p:nvPr/>
            </p:nvSpPr>
            <p:spPr>
              <a:xfrm>
                <a:off x="6131880" y="475308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Oval 1055"/>
              <p:cNvSpPr/>
              <p:nvPr/>
            </p:nvSpPr>
            <p:spPr>
              <a:xfrm>
                <a:off x="5292720" y="475308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559" name="AutoShape 1056"/>
              <p:cNvCxnSpPr>
                <a:stCxn id="558" idx="6"/>
                <a:endCxn id="557" idx="2"/>
              </p:cNvCxnSpPr>
              <p:nvPr/>
            </p:nvCxnSpPr>
            <p:spPr>
              <a:xfrm>
                <a:off x="5481360" y="483624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60" name="AutoShape 1057"/>
              <p:cNvCxnSpPr>
                <a:stCxn id="558" idx="4"/>
                <a:endCxn id="555" idx="0"/>
              </p:cNvCxnSpPr>
              <p:nvPr/>
            </p:nvCxnSpPr>
            <p:spPr>
              <a:xfrm>
                <a:off x="5375880" y="494172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61" name="AutoShape 1058"/>
              <p:cNvCxnSpPr>
                <a:stCxn id="556" idx="0"/>
                <a:endCxn id="557" idx="4"/>
              </p:cNvCxnSpPr>
              <p:nvPr/>
            </p:nvCxnSpPr>
            <p:spPr>
              <a:xfrm flipV="1">
                <a:off x="6215760" y="494136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62" name="AutoShape 1059"/>
              <p:cNvCxnSpPr>
                <a:stCxn id="555" idx="6"/>
                <a:endCxn id="556" idx="2"/>
              </p:cNvCxnSpPr>
              <p:nvPr/>
            </p:nvCxnSpPr>
            <p:spPr>
              <a:xfrm>
                <a:off x="5481360" y="567612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63" name="Group 1060"/>
            <p:cNvGrpSpPr/>
            <p:nvPr/>
          </p:nvGrpSpPr>
          <p:grpSpPr>
            <a:xfrm>
              <a:off x="6972480" y="3073320"/>
              <a:ext cx="1007280" cy="1007280"/>
              <a:chOff x="6972480" y="3073320"/>
              <a:chExt cx="1007280" cy="1007280"/>
            </a:xfrm>
          </p:grpSpPr>
          <p:sp>
            <p:nvSpPr>
              <p:cNvPr id="564" name="Oval 1061"/>
              <p:cNvSpPr/>
              <p:nvPr/>
            </p:nvSpPr>
            <p:spPr>
              <a:xfrm>
                <a:off x="6972480" y="3912480"/>
                <a:ext cx="16776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1062"/>
              <p:cNvSpPr/>
              <p:nvPr/>
            </p:nvSpPr>
            <p:spPr>
              <a:xfrm>
                <a:off x="7811640" y="391248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1063"/>
              <p:cNvSpPr/>
              <p:nvPr/>
            </p:nvSpPr>
            <p:spPr>
              <a:xfrm>
                <a:off x="7811640" y="307332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1064"/>
              <p:cNvSpPr/>
              <p:nvPr/>
            </p:nvSpPr>
            <p:spPr>
              <a:xfrm>
                <a:off x="6972480" y="307332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568" name="AutoShape 1065"/>
              <p:cNvCxnSpPr>
                <a:stCxn id="567" idx="6"/>
                <a:endCxn id="566" idx="2"/>
              </p:cNvCxnSpPr>
              <p:nvPr/>
            </p:nvCxnSpPr>
            <p:spPr>
              <a:xfrm>
                <a:off x="7161120" y="315648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69" name="AutoShape 1066"/>
              <p:cNvCxnSpPr>
                <a:stCxn id="567" idx="4"/>
                <a:endCxn id="564" idx="0"/>
              </p:cNvCxnSpPr>
              <p:nvPr/>
            </p:nvCxnSpPr>
            <p:spPr>
              <a:xfrm>
                <a:off x="7055640" y="326196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70" name="AutoShape 1067"/>
              <p:cNvCxnSpPr>
                <a:stCxn id="565" idx="0"/>
                <a:endCxn id="566" idx="4"/>
              </p:cNvCxnSpPr>
              <p:nvPr/>
            </p:nvCxnSpPr>
            <p:spPr>
              <a:xfrm flipV="1">
                <a:off x="7895520" y="326160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71" name="AutoShape 1068"/>
              <p:cNvCxnSpPr>
                <a:stCxn id="564" idx="6"/>
                <a:endCxn id="565" idx="2"/>
              </p:cNvCxnSpPr>
              <p:nvPr/>
            </p:nvCxnSpPr>
            <p:spPr>
              <a:xfrm>
                <a:off x="7161120" y="399636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72" name="Group 1069"/>
            <p:cNvGrpSpPr/>
            <p:nvPr/>
          </p:nvGrpSpPr>
          <p:grpSpPr>
            <a:xfrm>
              <a:off x="6972480" y="4753080"/>
              <a:ext cx="1007280" cy="1007280"/>
              <a:chOff x="6972480" y="4753080"/>
              <a:chExt cx="1007280" cy="1007280"/>
            </a:xfrm>
          </p:grpSpPr>
          <p:sp>
            <p:nvSpPr>
              <p:cNvPr id="573" name="Oval 1070"/>
              <p:cNvSpPr/>
              <p:nvPr/>
            </p:nvSpPr>
            <p:spPr>
              <a:xfrm>
                <a:off x="6972480" y="5592240"/>
                <a:ext cx="16776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Oval 1071"/>
              <p:cNvSpPr/>
              <p:nvPr/>
            </p:nvSpPr>
            <p:spPr>
              <a:xfrm>
                <a:off x="7811640" y="559224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Oval 1072"/>
              <p:cNvSpPr/>
              <p:nvPr/>
            </p:nvSpPr>
            <p:spPr>
              <a:xfrm>
                <a:off x="7811640" y="475308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Oval 1073"/>
              <p:cNvSpPr/>
              <p:nvPr/>
            </p:nvSpPr>
            <p:spPr>
              <a:xfrm>
                <a:off x="6972480" y="475308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577" name="AutoShape 1074"/>
              <p:cNvCxnSpPr>
                <a:stCxn id="576" idx="6"/>
                <a:endCxn id="575" idx="2"/>
              </p:cNvCxnSpPr>
              <p:nvPr/>
            </p:nvCxnSpPr>
            <p:spPr>
              <a:xfrm>
                <a:off x="7161120" y="483624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78" name="AutoShape 1075"/>
              <p:cNvCxnSpPr>
                <a:stCxn id="576" idx="4"/>
                <a:endCxn id="573" idx="0"/>
              </p:cNvCxnSpPr>
              <p:nvPr/>
            </p:nvCxnSpPr>
            <p:spPr>
              <a:xfrm>
                <a:off x="7055640" y="494172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79" name="AutoShape 1076"/>
              <p:cNvCxnSpPr>
                <a:stCxn id="574" idx="0"/>
                <a:endCxn id="575" idx="4"/>
              </p:cNvCxnSpPr>
              <p:nvPr/>
            </p:nvCxnSpPr>
            <p:spPr>
              <a:xfrm flipV="1">
                <a:off x="7895520" y="494136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80" name="AutoShape 1077"/>
              <p:cNvCxnSpPr>
                <a:stCxn id="573" idx="6"/>
                <a:endCxn id="574" idx="2"/>
              </p:cNvCxnSpPr>
              <p:nvPr/>
            </p:nvCxnSpPr>
            <p:spPr>
              <a:xfrm>
                <a:off x="7161120" y="567612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cxnSp>
          <p:nvCxnSpPr>
            <p:cNvPr id="581" name="AutoShape 1078"/>
            <p:cNvCxnSpPr>
              <a:stCxn id="548" idx="6"/>
              <a:endCxn id="567" idx="2"/>
            </p:cNvCxnSpPr>
            <p:nvPr/>
          </p:nvCxnSpPr>
          <p:spPr>
            <a:xfrm>
              <a:off x="6321240" y="3156480"/>
              <a:ext cx="63036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2" name="AutoShape 1079"/>
            <p:cNvCxnSpPr>
              <a:stCxn id="547" idx="6"/>
              <a:endCxn id="564" idx="2"/>
            </p:cNvCxnSpPr>
            <p:nvPr/>
          </p:nvCxnSpPr>
          <p:spPr>
            <a:xfrm>
              <a:off x="6321240" y="3996720"/>
              <a:ext cx="63036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3" name="AutoShape 1080"/>
            <p:cNvCxnSpPr>
              <a:stCxn id="557" idx="6"/>
              <a:endCxn id="576" idx="2"/>
            </p:cNvCxnSpPr>
            <p:nvPr/>
          </p:nvCxnSpPr>
          <p:spPr>
            <a:xfrm>
              <a:off x="6321240" y="4836600"/>
              <a:ext cx="63036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4" name="AutoShape 1081"/>
            <p:cNvCxnSpPr>
              <a:stCxn id="556" idx="6"/>
              <a:endCxn id="573" idx="2"/>
            </p:cNvCxnSpPr>
            <p:nvPr/>
          </p:nvCxnSpPr>
          <p:spPr>
            <a:xfrm>
              <a:off x="6321240" y="5676480"/>
              <a:ext cx="63036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5" name="AutoShape 1082"/>
            <p:cNvCxnSpPr>
              <a:stCxn id="558" idx="0"/>
              <a:endCxn id="546" idx="4"/>
            </p:cNvCxnSpPr>
            <p:nvPr/>
          </p:nvCxnSpPr>
          <p:spPr>
            <a:xfrm flipV="1">
              <a:off x="5375880" y="4101480"/>
              <a:ext cx="1080" cy="630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6" name="AutoShape 1083"/>
            <p:cNvCxnSpPr>
              <a:stCxn id="557" idx="0"/>
              <a:endCxn id="547" idx="4"/>
            </p:cNvCxnSpPr>
            <p:nvPr/>
          </p:nvCxnSpPr>
          <p:spPr>
            <a:xfrm flipV="1">
              <a:off x="6216120" y="4101480"/>
              <a:ext cx="1080" cy="630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7" name="AutoShape 1084"/>
            <p:cNvCxnSpPr>
              <a:stCxn id="576" idx="0"/>
              <a:endCxn id="564" idx="4"/>
            </p:cNvCxnSpPr>
            <p:nvPr/>
          </p:nvCxnSpPr>
          <p:spPr>
            <a:xfrm flipV="1">
              <a:off x="7056000" y="4101480"/>
              <a:ext cx="1080" cy="630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8" name="AutoShape 1085"/>
            <p:cNvCxnSpPr>
              <a:stCxn id="575" idx="0"/>
              <a:endCxn id="565" idx="4"/>
            </p:cNvCxnSpPr>
            <p:nvPr/>
          </p:nvCxnSpPr>
          <p:spPr>
            <a:xfrm flipV="1">
              <a:off x="7895880" y="4101480"/>
              <a:ext cx="1080" cy="630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</p:grpSp>
      <p:sp>
        <p:nvSpPr>
          <p:cNvPr id="589" name="Text Box 1086"/>
          <p:cNvSpPr/>
          <p:nvPr/>
        </p:nvSpPr>
        <p:spPr>
          <a:xfrm>
            <a:off x="5800680" y="5880240"/>
            <a:ext cx="1431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(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) ~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0" name="Group 1097"/>
          <p:cNvGrpSpPr/>
          <p:nvPr/>
        </p:nvGrpSpPr>
        <p:grpSpPr>
          <a:xfrm>
            <a:off x="696960" y="5303880"/>
            <a:ext cx="2318400" cy="579240"/>
            <a:chOff x="696960" y="5303880"/>
            <a:chExt cx="2318400" cy="579240"/>
          </a:xfrm>
        </p:grpSpPr>
        <p:grpSp>
          <p:nvGrpSpPr>
            <p:cNvPr id="591" name="Group 1089"/>
            <p:cNvGrpSpPr/>
            <p:nvPr/>
          </p:nvGrpSpPr>
          <p:grpSpPr>
            <a:xfrm>
              <a:off x="696960" y="5497560"/>
              <a:ext cx="625680" cy="168120"/>
              <a:chOff x="696960" y="5497560"/>
              <a:chExt cx="625680" cy="168120"/>
            </a:xfrm>
          </p:grpSpPr>
          <p:sp>
            <p:nvSpPr>
              <p:cNvPr id="592" name="Oval 1087"/>
              <p:cNvSpPr/>
              <p:nvPr/>
            </p:nvSpPr>
            <p:spPr>
              <a:xfrm>
                <a:off x="696960" y="5497560"/>
                <a:ext cx="16848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3" name="Line 1088"/>
              <p:cNvSpPr/>
              <p:nvPr/>
            </p:nvSpPr>
            <p:spPr>
              <a:xfrm>
                <a:off x="865440" y="5589720"/>
                <a:ext cx="457200" cy="0"/>
              </a:xfrm>
              <a:prstGeom prst="line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1090"/>
            <p:cNvGrpSpPr/>
            <p:nvPr/>
          </p:nvGrpSpPr>
          <p:grpSpPr>
            <a:xfrm>
              <a:off x="1306440" y="5513400"/>
              <a:ext cx="625680" cy="168120"/>
              <a:chOff x="1306440" y="5513400"/>
              <a:chExt cx="625680" cy="168120"/>
            </a:xfrm>
          </p:grpSpPr>
          <p:sp>
            <p:nvSpPr>
              <p:cNvPr id="595" name="Oval 1091"/>
              <p:cNvSpPr/>
              <p:nvPr/>
            </p:nvSpPr>
            <p:spPr>
              <a:xfrm>
                <a:off x="1306440" y="5513400"/>
                <a:ext cx="16848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Line 1092"/>
              <p:cNvSpPr/>
              <p:nvPr/>
            </p:nvSpPr>
            <p:spPr>
              <a:xfrm>
                <a:off x="1474920" y="5605560"/>
                <a:ext cx="457200" cy="0"/>
              </a:xfrm>
              <a:prstGeom prst="line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1093"/>
            <p:cNvGrpSpPr/>
            <p:nvPr/>
          </p:nvGrpSpPr>
          <p:grpSpPr>
            <a:xfrm>
              <a:off x="1932120" y="5513400"/>
              <a:ext cx="624960" cy="168120"/>
              <a:chOff x="1932120" y="5513400"/>
              <a:chExt cx="624960" cy="168120"/>
            </a:xfrm>
          </p:grpSpPr>
          <p:sp>
            <p:nvSpPr>
              <p:cNvPr id="598" name="Oval 1094"/>
              <p:cNvSpPr/>
              <p:nvPr/>
            </p:nvSpPr>
            <p:spPr>
              <a:xfrm>
                <a:off x="1932120" y="551340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Line 1095"/>
              <p:cNvSpPr/>
              <p:nvPr/>
            </p:nvSpPr>
            <p:spPr>
              <a:xfrm>
                <a:off x="2100240" y="5605560"/>
                <a:ext cx="456840" cy="0"/>
              </a:xfrm>
              <a:prstGeom prst="line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0" name="Text Box 1096"/>
            <p:cNvSpPr/>
            <p:nvPr/>
          </p:nvSpPr>
          <p:spPr>
            <a:xfrm>
              <a:off x="2525400" y="5303880"/>
              <a:ext cx="489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1" name="Slide Number Placeholder 7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36E18DB-A3EE-4722-A9E6-E7DB769B92D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riangle ‘Laws’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5640" y="25210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social networks have a lot of triangles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4" name="Group 5"/>
          <p:cNvGrpSpPr/>
          <p:nvPr/>
        </p:nvGrpSpPr>
        <p:grpSpPr>
          <a:xfrm>
            <a:off x="7643880" y="1427040"/>
            <a:ext cx="841320" cy="1008360"/>
            <a:chOff x="7643880" y="1427040"/>
            <a:chExt cx="841320" cy="1008360"/>
          </a:xfrm>
        </p:grpSpPr>
        <p:sp>
          <p:nvSpPr>
            <p:cNvPr id="605" name="Oval 4"/>
            <p:cNvSpPr/>
            <p:nvPr/>
          </p:nvSpPr>
          <p:spPr>
            <a:xfrm>
              <a:off x="7643880" y="2014560"/>
              <a:ext cx="168120" cy="16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5"/>
            <p:cNvSpPr/>
            <p:nvPr/>
          </p:nvSpPr>
          <p:spPr>
            <a:xfrm>
              <a:off x="8317080" y="2266920"/>
              <a:ext cx="16812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6"/>
            <p:cNvSpPr/>
            <p:nvPr/>
          </p:nvSpPr>
          <p:spPr>
            <a:xfrm>
              <a:off x="8148600" y="1427040"/>
              <a:ext cx="16848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08" name="AutoShape 7"/>
            <p:cNvCxnSpPr>
              <a:stCxn id="605" idx="7"/>
              <a:endCxn id="607" idx="3"/>
            </p:cNvCxnSpPr>
            <p:nvPr/>
          </p:nvCxnSpPr>
          <p:spPr>
            <a:xfrm flipV="1">
              <a:off x="7787880" y="1569240"/>
              <a:ext cx="384840" cy="47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609" name="AutoShape 8"/>
            <p:cNvCxnSpPr>
              <a:stCxn id="605" idx="5"/>
              <a:endCxn id="606" idx="2"/>
            </p:cNvCxnSpPr>
            <p:nvPr/>
          </p:nvCxnSpPr>
          <p:spPr>
            <a:xfrm>
              <a:off x="7787880" y="2158920"/>
              <a:ext cx="529200" cy="192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sp>
        <p:nvSpPr>
          <p:cNvPr id="610" name="Date Placeholder 9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Slide Number Placeholder 10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4F19109-72AC-44DF-8F4D-2EABCDDDE6A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Footer Placeholder 11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ntroduction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96" name="Picture 1027" descr="Picture3"/>
          <p:cNvPicPr/>
          <p:nvPr/>
        </p:nvPicPr>
        <p:blipFill>
          <a:blip r:embed="rId1"/>
          <a:stretch/>
        </p:blipFill>
        <p:spPr>
          <a:xfrm>
            <a:off x="541440" y="1730520"/>
            <a:ext cx="2290680" cy="1720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28" descr="food_web"/>
          <p:cNvPicPr/>
          <p:nvPr/>
        </p:nvPicPr>
        <p:blipFill>
          <a:blip r:embed="rId2"/>
          <a:stretch/>
        </p:blipFill>
        <p:spPr>
          <a:xfrm>
            <a:off x="3695760" y="1536840"/>
            <a:ext cx="2517840" cy="1887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29" descr="protein_interaction"/>
          <p:cNvPicPr/>
          <p:nvPr/>
        </p:nvPicPr>
        <p:blipFill>
          <a:blip r:embed="rId3"/>
          <a:stretch/>
        </p:blipFill>
        <p:spPr>
          <a:xfrm>
            <a:off x="7056360" y="1549440"/>
            <a:ext cx="1808280" cy="1809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30"/>
          <p:cNvSpPr/>
          <p:nvPr/>
        </p:nvSpPr>
        <p:spPr>
          <a:xfrm>
            <a:off x="83988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rnet Map [lumeta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394812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od Web [Martinez ’9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6719760" y="3359160"/>
            <a:ext cx="2773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tein Interactions [genomebiology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1033"/>
          <p:cNvSpPr/>
          <p:nvPr/>
        </p:nvSpPr>
        <p:spPr>
          <a:xfrm>
            <a:off x="755640" y="6180120"/>
            <a:ext cx="2436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iendship Network [Moody ’0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34"/>
          <p:cNvSpPr/>
          <p:nvPr/>
        </p:nvSpPr>
        <p:spPr>
          <a:xfrm>
            <a:off x="4456440" y="5068800"/>
            <a:ext cx="4480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Times New Roman"/>
              </a:rPr>
              <a:t>Graphs are everywhere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4" name="Picture 1035" descr="Picture4"/>
          <p:cNvPicPr/>
          <p:nvPr/>
        </p:nvPicPr>
        <p:blipFill>
          <a:blip r:embed="rId4"/>
          <a:stretch/>
        </p:blipFill>
        <p:spPr>
          <a:xfrm>
            <a:off x="614520" y="4368960"/>
            <a:ext cx="2511360" cy="187452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14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AA1D6CD-E427-47CC-9295-71066E0B028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riangle ‘Laws’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55640" y="25210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social networks have a lot of triangl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riends of friends are friends 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y pattern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4"/>
          <p:cNvGrpSpPr/>
          <p:nvPr/>
        </p:nvGrpSpPr>
        <p:grpSpPr>
          <a:xfrm>
            <a:off x="7643880" y="1427040"/>
            <a:ext cx="841320" cy="1008360"/>
            <a:chOff x="7643880" y="1427040"/>
            <a:chExt cx="841320" cy="1008360"/>
          </a:xfrm>
        </p:grpSpPr>
        <p:sp>
          <p:nvSpPr>
            <p:cNvPr id="616" name="Oval 4"/>
            <p:cNvSpPr/>
            <p:nvPr/>
          </p:nvSpPr>
          <p:spPr>
            <a:xfrm>
              <a:off x="7643880" y="2014560"/>
              <a:ext cx="168120" cy="16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5"/>
            <p:cNvSpPr/>
            <p:nvPr/>
          </p:nvSpPr>
          <p:spPr>
            <a:xfrm>
              <a:off x="8317080" y="2266920"/>
              <a:ext cx="16812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6"/>
            <p:cNvSpPr/>
            <p:nvPr/>
          </p:nvSpPr>
          <p:spPr>
            <a:xfrm>
              <a:off x="8148600" y="1427040"/>
              <a:ext cx="16848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19" name="AutoShape 7"/>
            <p:cNvCxnSpPr>
              <a:stCxn id="616" idx="7"/>
              <a:endCxn id="618" idx="3"/>
            </p:cNvCxnSpPr>
            <p:nvPr/>
          </p:nvCxnSpPr>
          <p:spPr>
            <a:xfrm flipV="1">
              <a:off x="7787880" y="1569240"/>
              <a:ext cx="384840" cy="47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620" name="AutoShape 8"/>
            <p:cNvCxnSpPr>
              <a:stCxn id="616" idx="5"/>
              <a:endCxn id="617" idx="2"/>
            </p:cNvCxnSpPr>
            <p:nvPr/>
          </p:nvCxnSpPr>
          <p:spPr>
            <a:xfrm>
              <a:off x="7787880" y="2158920"/>
              <a:ext cx="529200" cy="192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621" name="AutoShape 23"/>
            <p:cNvCxnSpPr>
              <a:stCxn id="617" idx="0"/>
              <a:endCxn id="618" idx="4"/>
            </p:cNvCxnSpPr>
            <p:nvPr/>
          </p:nvCxnSpPr>
          <p:spPr>
            <a:xfrm flipH="1" flipV="1">
              <a:off x="8232120" y="1594800"/>
              <a:ext cx="168840" cy="672120"/>
            </a:xfrm>
            <a:prstGeom prst="straightConnector1">
              <a:avLst/>
            </a:prstGeom>
            <a:ln w="12600">
              <a:solidFill>
                <a:srgbClr val="000066"/>
              </a:solidFill>
              <a:miter/>
            </a:ln>
          </p:spPr>
        </p:cxnSp>
      </p:grpSp>
      <p:sp>
        <p:nvSpPr>
          <p:cNvPr id="622" name="Date Placeholder 10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Slide Number Placeholder 11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2C50473-2808-4E18-BE64-7D6B8C086CD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Footer Placeholder 1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Triangles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aïve algo: 3-way join (slow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[Tsourakakis’08]: # triangles ~ sum of cubes of eigenvalu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us, super-fast computation of #triangles (100x - 25,000x faster than naïve; &gt;95% accurac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Date Placeholder 12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IKM, 2008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Slide Number Placeholder 13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-</a:t>
            </a:r>
            <a:fld id="{8A690098-7B16-4362-8C97-4C14102B847C}" type="slidenum"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Footer Placeholder 1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8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Date Placeholder 6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9F07C94-4F67-4E7F-8A2A-4D1AEC32775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Footer Placeholder 8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Triangles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asy to implement on ``hadoop’’: it only needs eigenvalues (e.g., with Lanczos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Date Placeholder 5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IKM, 2008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-</a:t>
            </a:r>
            <a:fld id="{785E674A-874B-476F-895D-A7F7903057E0}" type="slidenum"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Footer Placeholder 7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8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Date Placeholder 6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F19A237-AC48-4C96-A6E2-18B346BB73B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Footer Placeholder 8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riangle Law: #1 </a:t>
            </a:r>
            <a:br>
              <a:rPr sz="49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B352D76-97BC-4F39-B970-D008CA93CED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rcRect l="0" t="4385" r="0" b="0"/>
          <a:stretch/>
        </p:blipFill>
        <p:spPr>
          <a:xfrm>
            <a:off x="1359000" y="2027160"/>
            <a:ext cx="3757680" cy="2390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rcRect l="0" t="2808" r="0" b="0"/>
          <a:stretch/>
        </p:blipFill>
        <p:spPr>
          <a:xfrm>
            <a:off x="5421240" y="2027160"/>
            <a:ext cx="3714840" cy="2374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rcRect l="0" t="5395" r="0" b="0"/>
          <a:stretch/>
        </p:blipFill>
        <p:spPr>
          <a:xfrm>
            <a:off x="1359000" y="4786200"/>
            <a:ext cx="3757680" cy="2405160"/>
          </a:xfrm>
          <a:prstGeom prst="rect">
            <a:avLst/>
          </a:prstGeom>
          <a:ln w="0">
            <a:noFill/>
          </a:ln>
        </p:spPr>
      </p:pic>
      <p:sp>
        <p:nvSpPr>
          <p:cNvPr id="646" name="TextBox 10"/>
          <p:cNvSpPr/>
          <p:nvPr/>
        </p:nvSpPr>
        <p:spPr>
          <a:xfrm>
            <a:off x="9069840" y="24843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S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Box 11"/>
          <p:cNvSpPr/>
          <p:nvPr/>
        </p:nvSpPr>
        <p:spPr>
          <a:xfrm>
            <a:off x="7200" y="24843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P-T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Box 12"/>
          <p:cNvSpPr/>
          <p:nvPr/>
        </p:nvSpPr>
        <p:spPr>
          <a:xfrm>
            <a:off x="-23760" y="52275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n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5350680" y="5075280"/>
            <a:ext cx="473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X-axis: # of Triangl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node participates 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-axis: count of such n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2754360" y="7056360"/>
            <a:ext cx="990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2" name="Picture 14" descr="tsourakakis"/>
          <p:cNvPicPr/>
          <p:nvPr/>
        </p:nvPicPr>
        <p:blipFill>
          <a:blip r:embed="rId4"/>
          <a:srcRect l="16844" t="8422" r="16844" b="16844"/>
          <a:stretch/>
        </p:blipFill>
        <p:spPr>
          <a:xfrm>
            <a:off x="8393040" y="503280"/>
            <a:ext cx="1352520" cy="1523880"/>
          </a:xfrm>
          <a:prstGeom prst="rect">
            <a:avLst/>
          </a:prstGeom>
          <a:ln w="0">
            <a:noFill/>
          </a:ln>
        </p:spPr>
      </p:pic>
      <p:sp>
        <p:nvSpPr>
          <p:cNvPr id="653" name="Date Placeholder 1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Footer Placeholder 1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riangle Law: #2 </a:t>
            </a:r>
            <a:br>
              <a:rPr sz="49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6" name="Slide Number Placeholder 6"/>
          <p:cNvSpPr/>
          <p:nvPr/>
        </p:nvSpPr>
        <p:spPr>
          <a:xfrm>
            <a:off x="7224840" y="701028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60C1DAD-CB05-40C4-B53A-01220A8373B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TextBox 10"/>
          <p:cNvSpPr/>
          <p:nvPr/>
        </p:nvSpPr>
        <p:spPr>
          <a:xfrm>
            <a:off x="9068400" y="248436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TextBox 11"/>
          <p:cNvSpPr/>
          <p:nvPr/>
        </p:nvSpPr>
        <p:spPr>
          <a:xfrm>
            <a:off x="6840" y="2484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ut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-23760" y="52275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n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Box 13"/>
          <p:cNvSpPr/>
          <p:nvPr/>
        </p:nvSpPr>
        <p:spPr>
          <a:xfrm>
            <a:off x="5708160" y="4987800"/>
            <a:ext cx="417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X-axis: degre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-axis: mean # triangl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otice: slope ~ degre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ponent (inset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5"/>
          <p:cNvSpPr/>
          <p:nvPr/>
        </p:nvSpPr>
        <p:spPr>
          <a:xfrm>
            <a:off x="2754360" y="7056360"/>
            <a:ext cx="990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63" name="Content Placeholder 3" descr="dtlpEpinions.png"/>
          <p:cNvPicPr/>
          <p:nvPr/>
        </p:nvPicPr>
        <p:blipFill>
          <a:blip r:embed="rId1"/>
          <a:stretch/>
        </p:blipFill>
        <p:spPr>
          <a:xfrm>
            <a:off x="1521000" y="4618080"/>
            <a:ext cx="3367080" cy="2500200"/>
          </a:xfrm>
          <a:prstGeom prst="rect">
            <a:avLst/>
          </a:prstGeom>
          <a:ln w="0">
            <a:noFill/>
          </a:ln>
        </p:spPr>
      </p:pic>
      <p:pic>
        <p:nvPicPr>
          <p:cNvPr id="664" name="Content Placeholder 3" descr="dtplReuters.png"/>
          <p:cNvPicPr/>
          <p:nvPr/>
        </p:nvPicPr>
        <p:blipFill>
          <a:blip r:embed="rId2"/>
          <a:stretch/>
        </p:blipFill>
        <p:spPr>
          <a:xfrm>
            <a:off x="1514520" y="2117880"/>
            <a:ext cx="3378240" cy="2500200"/>
          </a:xfrm>
          <a:prstGeom prst="rect">
            <a:avLst/>
          </a:prstGeom>
          <a:ln w="0">
            <a:noFill/>
          </a:ln>
        </p:spPr>
      </p:pic>
      <p:pic>
        <p:nvPicPr>
          <p:cNvPr id="665" name="Content Placeholder 3" descr="dtlpFlickr2.png"/>
          <p:cNvPicPr/>
          <p:nvPr/>
        </p:nvPicPr>
        <p:blipFill>
          <a:blip r:embed="rId3"/>
          <a:stretch/>
        </p:blipFill>
        <p:spPr>
          <a:xfrm>
            <a:off x="5497560" y="2125800"/>
            <a:ext cx="3375000" cy="2492280"/>
          </a:xfrm>
          <a:prstGeom prst="rect">
            <a:avLst/>
          </a:prstGeom>
          <a:ln w="0">
            <a:noFill/>
          </a:ln>
        </p:spPr>
      </p:pic>
      <p:sp>
        <p:nvSpPr>
          <p:cNvPr id="666" name="Date Placeholder 4"/>
          <p:cNvSpPr/>
          <p:nvPr/>
        </p:nvSpPr>
        <p:spPr>
          <a:xfrm>
            <a:off x="755640" y="701028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Footer Placeholder 5"/>
          <p:cNvSpPr/>
          <p:nvPr/>
        </p:nvSpPr>
        <p:spPr>
          <a:xfrm>
            <a:off x="3444840" y="701028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9330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Triangle Law: Computations </a:t>
            </a:r>
            <a:br>
              <a:rPr sz="54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9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2DB3413-8D0F-4C46-8187-51520A73056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375120" y="2738520"/>
            <a:ext cx="747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ut: triangles are expensive to compu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3-way join; several approx. algos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: Can we do that quickly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9330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Triangle Law: Computations </a:t>
            </a:r>
            <a:br>
              <a:rPr sz="54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5C61E15-B9D6-4BE3-8079-F9CB20C5CC6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IKM’08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71520" y="2738520"/>
            <a:ext cx="931716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ut: triangles are expensive to compu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3-way join; several approx. algos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: Can we do that quickly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: Yes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#triangles = 1/6 Sum (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and, because of skewness, we only need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e top few eigenvalues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Date Placeholder 6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78A3F25-5BD9-41C7-97A3-6236D1BB1FB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Footer Placeholder 8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9330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Triangle Law: Computations </a:t>
            </a:r>
            <a:br>
              <a:rPr sz="54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3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063A77D-8F97-4F10-A02B-907776BE8A1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5" name="Content Placeholder 3" descr="wikipedia_2006_11_04.png"/>
          <p:cNvPicPr/>
          <p:nvPr/>
        </p:nvPicPr>
        <p:blipFill>
          <a:blip r:embed="rId1"/>
          <a:stretch/>
        </p:blipFill>
        <p:spPr>
          <a:xfrm>
            <a:off x="1801800" y="1920960"/>
            <a:ext cx="6210360" cy="4525920"/>
          </a:xfrm>
          <a:prstGeom prst="rect">
            <a:avLst/>
          </a:prstGeom>
          <a:ln w="0">
            <a:noFill/>
          </a:ln>
        </p:spPr>
      </p:pic>
      <p:sp>
        <p:nvSpPr>
          <p:cNvPr id="686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IKM’08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516760" y="6435720"/>
            <a:ext cx="549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000x+ speed-up, high accurac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Date Placeholder 7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BD28FE4-16FF-4B5D-91B3-172854408B1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Footer Placeholder 9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But: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How about graphs from other domain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2: How about temporal evolution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CCD0620-F66A-4D92-8AF8-B82B5F83CC0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5792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he Peer-to-Peer Topology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699" name="Picture 3" descr=""/>
          <p:cNvPicPr/>
          <p:nvPr/>
        </p:nvPicPr>
        <p:blipFill>
          <a:blip r:embed="rId1"/>
          <a:stretch/>
        </p:blipFill>
        <p:spPr>
          <a:xfrm>
            <a:off x="2184480" y="1511280"/>
            <a:ext cx="4124160" cy="420228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4360" y="5798880"/>
            <a:ext cx="9068040" cy="117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requency versus degree 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Number of adjacent peers follows a power-law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52800" y="4875120"/>
            <a:ext cx="1950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Jovanovic+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E445FA6-8253-467B-9B6C-948127E5332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Graph structur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hysical network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hysical Interne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elephone lin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odity distribution network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7F3ABBE-4F02-461F-BDAD-1B2F498B234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More Power law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lso hold for other web graphs [Barabasi+, ‘99], [Kumar+, ‘99] with additional ‘rules’ (bi-partite cores follow power laws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EA69129-379D-45AB-9EA7-39C51A7BE60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ime Evolution: rank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711" name="Object 1024"/>
          <p:cNvGraphicFramePr/>
          <p:nvPr/>
        </p:nvGraphicFramePr>
        <p:xfrm>
          <a:off x="1461960" y="2287440"/>
          <a:ext cx="6442200" cy="34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2287440"/>
                    <a:ext cx="644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Rectangle 4"/>
          <p:cNvSpPr/>
          <p:nvPr/>
        </p:nvSpPr>
        <p:spPr>
          <a:xfrm>
            <a:off x="609480" y="6058080"/>
            <a:ext cx="8610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e rank exponent has not changed! [Siganos+, ‘03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8385840" y="2824200"/>
            <a:ext cx="13071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Domai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level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4404960" y="5501520"/>
            <a:ext cx="36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#days since Nov. ‘97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Slide Number Placeholder 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73E65D7-877C-4079-8223-FA09C221D8C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AutoShape 4"/>
          <p:cNvSpPr/>
          <p:nvPr/>
        </p:nvSpPr>
        <p:spPr>
          <a:xfrm>
            <a:off x="316080" y="2865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7AE63BA-0320-49D4-A29B-6C0C8E11C19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Yes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530B15C-F3D4-4F2F-8FB2-2109BFAF3C3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Yes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mall diameter (~ constant!) –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ix degrees of separation / ‘Kevin Bacon’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mall worlds [Watts and Strogatz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015B19F-3104-445D-9893-3EE692E3C53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ow-tie, for the web [Kumar+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, SCC, OUT, ‘tendrils’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onnected components</a:t>
            </a:r>
            <a:br>
              <a:rPr sz="3500"/>
            </a:b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37" name="Picture 1028" descr="bowtie"/>
          <p:cNvPicPr/>
          <p:nvPr/>
        </p:nvPicPr>
        <p:blipFill>
          <a:blip r:embed="rId1"/>
          <a:stretch/>
        </p:blipFill>
        <p:spPr>
          <a:xfrm>
            <a:off x="5486400" y="3205080"/>
            <a:ext cx="4518000" cy="3408480"/>
          </a:xfrm>
          <a:prstGeom prst="rect">
            <a:avLst/>
          </a:prstGeom>
          <a:ln w="0">
            <a:noFill/>
          </a:ln>
        </p:spPr>
      </p:pic>
      <p:sp>
        <p:nvSpPr>
          <p:cNvPr id="738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3A20DA8-267A-4382-9F2B-78E6CA6A815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s in communities (bi-partite cores) [Kumar+,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"/>
          <p:cNvSpPr/>
          <p:nvPr/>
        </p:nvSpPr>
        <p:spPr>
          <a:xfrm>
            <a:off x="6716880" y="3659040"/>
            <a:ext cx="3045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6"/>
          <p:cNvSpPr/>
          <p:nvPr/>
        </p:nvSpPr>
        <p:spPr>
          <a:xfrm>
            <a:off x="6716880" y="4541760"/>
            <a:ext cx="304560" cy="2714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11"/>
          <p:cNvSpPr/>
          <p:nvPr/>
        </p:nvSpPr>
        <p:spPr>
          <a:xfrm>
            <a:off x="7631280" y="4084560"/>
            <a:ext cx="3063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12"/>
          <p:cNvSpPr/>
          <p:nvPr/>
        </p:nvSpPr>
        <p:spPr>
          <a:xfrm>
            <a:off x="7631280" y="4998960"/>
            <a:ext cx="3063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13"/>
          <p:cNvSpPr/>
          <p:nvPr/>
        </p:nvSpPr>
        <p:spPr>
          <a:xfrm>
            <a:off x="7631280" y="3354480"/>
            <a:ext cx="306360" cy="27288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48" name="AutoShape 14"/>
          <p:cNvCxnSpPr>
            <a:stCxn id="743" idx="7"/>
            <a:endCxn id="747" idx="2"/>
          </p:cNvCxnSpPr>
          <p:nvPr/>
        </p:nvCxnSpPr>
        <p:spPr>
          <a:xfrm flipV="1">
            <a:off x="6977160" y="3490200"/>
            <a:ext cx="635760" cy="18972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49" name="AutoShape 15"/>
          <p:cNvCxnSpPr>
            <a:stCxn id="743" idx="6"/>
            <a:endCxn id="745" idx="2"/>
          </p:cNvCxnSpPr>
          <p:nvPr/>
        </p:nvCxnSpPr>
        <p:spPr>
          <a:xfrm>
            <a:off x="7040520" y="3795480"/>
            <a:ext cx="572400" cy="42588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50" name="AutoShape 16"/>
          <p:cNvCxnSpPr>
            <a:stCxn id="743" idx="4"/>
            <a:endCxn id="746" idx="1"/>
          </p:cNvCxnSpPr>
          <p:nvPr/>
        </p:nvCxnSpPr>
        <p:spPr>
          <a:xfrm>
            <a:off x="6869160" y="3951360"/>
            <a:ext cx="807120" cy="10692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51" name="AutoShape 17"/>
          <p:cNvCxnSpPr>
            <a:stCxn id="744" idx="7"/>
            <a:endCxn id="747" idx="3"/>
          </p:cNvCxnSpPr>
          <p:nvPr/>
        </p:nvCxnSpPr>
        <p:spPr>
          <a:xfrm flipV="1">
            <a:off x="6977160" y="3606120"/>
            <a:ext cx="699120" cy="95652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52" name="AutoShape 18"/>
          <p:cNvCxnSpPr>
            <a:stCxn id="744" idx="6"/>
            <a:endCxn id="745" idx="3"/>
          </p:cNvCxnSpPr>
          <p:nvPr/>
        </p:nvCxnSpPr>
        <p:spPr>
          <a:xfrm flipV="1">
            <a:off x="7040520" y="4336560"/>
            <a:ext cx="635760" cy="3420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53" name="AutoShape 19"/>
          <p:cNvCxnSpPr>
            <a:stCxn id="744" idx="5"/>
            <a:endCxn id="746" idx="2"/>
          </p:cNvCxnSpPr>
          <p:nvPr/>
        </p:nvCxnSpPr>
        <p:spPr>
          <a:xfrm>
            <a:off x="6977160" y="4792680"/>
            <a:ext cx="635760" cy="34344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754" name="Text Box 20"/>
          <p:cNvSpPr/>
          <p:nvPr/>
        </p:nvSpPr>
        <p:spPr>
          <a:xfrm>
            <a:off x="6378840" y="5475240"/>
            <a:ext cx="189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:3 cor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m:n cor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1382760" y="3780000"/>
            <a:ext cx="4570200" cy="2438280"/>
          </a:xfrm>
          <a:prstGeom prst="rect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22"/>
          <p:cNvSpPr/>
          <p:nvPr/>
        </p:nvSpPr>
        <p:spPr>
          <a:xfrm>
            <a:off x="3491640" y="6237360"/>
            <a:ext cx="142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og(m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23"/>
          <p:cNvSpPr/>
          <p:nvPr/>
        </p:nvSpPr>
        <p:spPr>
          <a:xfrm>
            <a:off x="388440" y="313992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og(count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24"/>
          <p:cNvSpPr/>
          <p:nvPr/>
        </p:nvSpPr>
        <p:spPr>
          <a:xfrm>
            <a:off x="2297160" y="4084560"/>
            <a:ext cx="2971800" cy="129564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25"/>
          <p:cNvSpPr/>
          <p:nvPr/>
        </p:nvSpPr>
        <p:spPr>
          <a:xfrm>
            <a:off x="2143080" y="4465800"/>
            <a:ext cx="2975040" cy="1295280"/>
          </a:xfrm>
          <a:prstGeom prst="line">
            <a:avLst/>
          </a:prstGeom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26"/>
          <p:cNvSpPr/>
          <p:nvPr/>
        </p:nvSpPr>
        <p:spPr>
          <a:xfrm>
            <a:off x="1992240" y="4770360"/>
            <a:ext cx="2970360" cy="1295640"/>
          </a:xfrm>
          <a:prstGeom prst="line">
            <a:avLst/>
          </a:prstGeom>
          <a:ln cap="sq"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Text Box 27"/>
          <p:cNvSpPr/>
          <p:nvPr/>
        </p:nvSpPr>
        <p:spPr>
          <a:xfrm>
            <a:off x="3393360" y="379872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: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28"/>
          <p:cNvSpPr/>
          <p:nvPr/>
        </p:nvSpPr>
        <p:spPr>
          <a:xfrm>
            <a:off x="5098320" y="541008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: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29"/>
          <p:cNvSpPr/>
          <p:nvPr/>
        </p:nvSpPr>
        <p:spPr>
          <a:xfrm>
            <a:off x="2905920" y="538020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Times New Roman"/>
              </a:rPr>
              <a:t>n:3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Slide Number Placeholder 2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E7A92B9-7B31-4EA6-8D9A-0BE59C986DC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Jellyfish” for Internet [Tauro+ ’01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re: ~cliqu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~5 concentric laye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many 1-degree nod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Oval 1029"/>
          <p:cNvSpPr/>
          <p:nvPr/>
        </p:nvSpPr>
        <p:spPr>
          <a:xfrm>
            <a:off x="5711760" y="3024360"/>
            <a:ext cx="3863880" cy="327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1030"/>
          <p:cNvSpPr/>
          <p:nvPr/>
        </p:nvSpPr>
        <p:spPr>
          <a:xfrm>
            <a:off x="6048360" y="3443400"/>
            <a:ext cx="25092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1031"/>
          <p:cNvSpPr/>
          <p:nvPr/>
        </p:nvSpPr>
        <p:spPr>
          <a:xfrm>
            <a:off x="8483760" y="3192480"/>
            <a:ext cx="25236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1032"/>
          <p:cNvSpPr/>
          <p:nvPr/>
        </p:nvSpPr>
        <p:spPr>
          <a:xfrm>
            <a:off x="9407520" y="4956120"/>
            <a:ext cx="25236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1033"/>
          <p:cNvSpPr/>
          <p:nvPr/>
        </p:nvSpPr>
        <p:spPr>
          <a:xfrm>
            <a:off x="8820000" y="5796000"/>
            <a:ext cx="25272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Oval 1034"/>
          <p:cNvSpPr/>
          <p:nvPr/>
        </p:nvSpPr>
        <p:spPr>
          <a:xfrm>
            <a:off x="7391520" y="6215040"/>
            <a:ext cx="25236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Oval 1035"/>
          <p:cNvSpPr/>
          <p:nvPr/>
        </p:nvSpPr>
        <p:spPr>
          <a:xfrm>
            <a:off x="5964120" y="5459400"/>
            <a:ext cx="25092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Oval 1036"/>
          <p:cNvSpPr/>
          <p:nvPr/>
        </p:nvSpPr>
        <p:spPr>
          <a:xfrm>
            <a:off x="6383160" y="3611520"/>
            <a:ext cx="2521080" cy="2100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Oval 1037"/>
          <p:cNvSpPr/>
          <p:nvPr/>
        </p:nvSpPr>
        <p:spPr>
          <a:xfrm>
            <a:off x="7056360" y="5543640"/>
            <a:ext cx="25092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Oval 1038"/>
          <p:cNvSpPr/>
          <p:nvPr/>
        </p:nvSpPr>
        <p:spPr>
          <a:xfrm>
            <a:off x="6299280" y="4200480"/>
            <a:ext cx="25236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Oval 1039"/>
          <p:cNvSpPr/>
          <p:nvPr/>
        </p:nvSpPr>
        <p:spPr>
          <a:xfrm>
            <a:off x="7980480" y="3611520"/>
            <a:ext cx="25056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Oval 1040"/>
          <p:cNvSpPr/>
          <p:nvPr/>
        </p:nvSpPr>
        <p:spPr>
          <a:xfrm>
            <a:off x="8483760" y="5207040"/>
            <a:ext cx="25236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Oval 1041"/>
          <p:cNvSpPr/>
          <p:nvPr/>
        </p:nvSpPr>
        <p:spPr>
          <a:xfrm>
            <a:off x="7140600" y="4200480"/>
            <a:ext cx="1008000" cy="839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Oval 1042"/>
          <p:cNvSpPr/>
          <p:nvPr/>
        </p:nvSpPr>
        <p:spPr>
          <a:xfrm>
            <a:off x="7559640" y="4116240"/>
            <a:ext cx="25236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Oval 1043"/>
          <p:cNvSpPr/>
          <p:nvPr/>
        </p:nvSpPr>
        <p:spPr>
          <a:xfrm>
            <a:off x="7812000" y="4871880"/>
            <a:ext cx="252360" cy="25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Oval 1044"/>
          <p:cNvSpPr/>
          <p:nvPr/>
        </p:nvSpPr>
        <p:spPr>
          <a:xfrm>
            <a:off x="7140600" y="4788000"/>
            <a:ext cx="25092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Line 1045"/>
          <p:cNvSpPr/>
          <p:nvPr/>
        </p:nvSpPr>
        <p:spPr>
          <a:xfrm flipV="1">
            <a:off x="7643880" y="3695760"/>
            <a:ext cx="504720" cy="504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Line 1046"/>
          <p:cNvSpPr/>
          <p:nvPr/>
        </p:nvSpPr>
        <p:spPr>
          <a:xfrm flipH="1">
            <a:off x="6467400" y="4200480"/>
            <a:ext cx="1176480" cy="8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Line 1047"/>
          <p:cNvSpPr/>
          <p:nvPr/>
        </p:nvSpPr>
        <p:spPr>
          <a:xfrm flipH="1">
            <a:off x="7140240" y="4956120"/>
            <a:ext cx="82440" cy="755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Line 1048"/>
          <p:cNvSpPr/>
          <p:nvPr/>
        </p:nvSpPr>
        <p:spPr>
          <a:xfrm>
            <a:off x="7980480" y="5040360"/>
            <a:ext cx="587160" cy="250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Line 1049"/>
          <p:cNvSpPr/>
          <p:nvPr/>
        </p:nvSpPr>
        <p:spPr>
          <a:xfrm>
            <a:off x="8651880" y="5375160"/>
            <a:ext cx="336600" cy="5889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Line 1050"/>
          <p:cNvSpPr/>
          <p:nvPr/>
        </p:nvSpPr>
        <p:spPr>
          <a:xfrm flipV="1">
            <a:off x="8651880" y="5124600"/>
            <a:ext cx="839880" cy="25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Line 1051"/>
          <p:cNvSpPr/>
          <p:nvPr/>
        </p:nvSpPr>
        <p:spPr>
          <a:xfrm flipV="1">
            <a:off x="8148600" y="3360240"/>
            <a:ext cx="419040" cy="250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52"/>
          <p:cNvSpPr/>
          <p:nvPr/>
        </p:nvSpPr>
        <p:spPr>
          <a:xfrm flipH="1" flipV="1">
            <a:off x="7391160" y="3108240"/>
            <a:ext cx="672840" cy="503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53"/>
          <p:cNvSpPr/>
          <p:nvPr/>
        </p:nvSpPr>
        <p:spPr>
          <a:xfrm flipH="1" flipV="1">
            <a:off x="6214680" y="3695400"/>
            <a:ext cx="252360" cy="671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54"/>
          <p:cNvSpPr/>
          <p:nvPr/>
        </p:nvSpPr>
        <p:spPr>
          <a:xfrm>
            <a:off x="7140600" y="5711760"/>
            <a:ext cx="334800" cy="587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55"/>
          <p:cNvSpPr/>
          <p:nvPr/>
        </p:nvSpPr>
        <p:spPr>
          <a:xfrm flipH="1" flipV="1">
            <a:off x="6132600" y="5543280"/>
            <a:ext cx="923760" cy="168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1056"/>
          <p:cNvSpPr/>
          <p:nvPr/>
        </p:nvSpPr>
        <p:spPr>
          <a:xfrm>
            <a:off x="7223040" y="2940120"/>
            <a:ext cx="25236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97" name="AutoShape 1058"/>
          <p:cNvCxnSpPr>
            <a:stCxn id="784" idx="0"/>
            <a:endCxn id="782" idx="4"/>
          </p:cNvCxnSpPr>
          <p:nvPr/>
        </p:nvCxnSpPr>
        <p:spPr>
          <a:xfrm flipV="1">
            <a:off x="7265520" y="4366440"/>
            <a:ext cx="421560" cy="42156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</a:ln>
        </p:spPr>
      </p:cxnSp>
      <p:cxnSp>
        <p:nvCxnSpPr>
          <p:cNvPr id="798" name="AutoShape 1059"/>
          <p:cNvCxnSpPr>
            <a:stCxn id="782" idx="4"/>
            <a:endCxn id="783" idx="0"/>
          </p:cNvCxnSpPr>
          <p:nvPr/>
        </p:nvCxnSpPr>
        <p:spPr>
          <a:xfrm>
            <a:off x="7686360" y="4367160"/>
            <a:ext cx="253080" cy="50544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</a:ln>
        </p:spPr>
      </p:cxnSp>
      <p:cxnSp>
        <p:nvCxnSpPr>
          <p:cNvPr id="799" name="AutoShape 1060"/>
          <p:cNvCxnSpPr>
            <a:stCxn id="784" idx="6"/>
            <a:endCxn id="783" idx="2"/>
          </p:cNvCxnSpPr>
          <p:nvPr/>
        </p:nvCxnSpPr>
        <p:spPr>
          <a:xfrm>
            <a:off x="7391520" y="4914720"/>
            <a:ext cx="421200" cy="846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</a:ln>
        </p:spPr>
      </p:cxnSp>
      <p:sp>
        <p:nvSpPr>
          <p:cNvPr id="800" name="Slide Number Placeholder 3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C02B551-2C28-48E5-B591-CF591253FAA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ummary of ‘laws’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for degree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…………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... for eigenvalues, bi-partite cor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riangle law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mall diameter (‘6 degrees’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ow-tie’ for web; ‘jelly-fish’ for interne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F646A8F-8EAA-4ABA-A827-81D49DB7D97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AutoShape 4"/>
          <p:cNvSpPr/>
          <p:nvPr/>
        </p:nvSpPr>
        <p:spPr>
          <a:xfrm>
            <a:off x="316080" y="34750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CD98D03-2BFE-4440-8E8C-FAC25EBF0D2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Networks derived from "behavior"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elephone call patter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mail, Blogs, Web, Databases, XM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nguage processing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eb of trust, epin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BF5494D-6032-43F5-A0AC-50C98F12429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Evolution of diameter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ior analysis, on power-law-like graphs, hints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log(N))     o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 log(log(N))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.e.., slowly increasing with network siz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happening, in realit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C86AA06-C55C-42CE-8B81-AC500AFC613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Evolution of diameter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ior analysis, on power-law-like graphs, hints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log(N))     o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 log(log(N))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.e.., slowly increasing with network siz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happening, in realit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It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!!), towards a constant valu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AutoShape 4"/>
          <p:cNvSpPr/>
          <p:nvPr/>
        </p:nvSpPr>
        <p:spPr>
          <a:xfrm>
            <a:off x="4278240" y="3398760"/>
            <a:ext cx="2210040" cy="1981440"/>
          </a:xfrm>
          <a:prstGeom prst="pie">
            <a:avLst/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505FD88-6F72-43A0-BCEB-F39A2BAE8FE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skovec+05a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itations among physics papers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11yrs; @ 2003: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9,555 pap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52,807 cit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or each month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create a graph of all citations up to month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27" name="Picture 4" descr=""/>
          <p:cNvPicPr/>
          <p:nvPr/>
        </p:nvPicPr>
        <p:blipFill>
          <a:blip r:embed="rId1"/>
          <a:stretch/>
        </p:blipFill>
        <p:spPr>
          <a:xfrm>
            <a:off x="5118120" y="2719440"/>
            <a:ext cx="4206960" cy="346536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7519680" y="636984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4473360" y="20264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Slide Number Placeholder 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0C40623-C6CC-44FD-ABC1-2D7901F8680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1"/>
          <a:stretch/>
        </p:blipFill>
        <p:spPr>
          <a:xfrm>
            <a:off x="5118120" y="2651040"/>
            <a:ext cx="4206960" cy="360216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671400" y="1763640"/>
            <a:ext cx="36133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hors &amp; public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2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18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72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002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0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20,000 autho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38,000 pape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33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DA8DD64-9B44-4937-B792-1F312A5820F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40" name="Picture 3" descr=""/>
          <p:cNvPicPr/>
          <p:nvPr/>
        </p:nvPicPr>
        <p:blipFill>
          <a:blip r:embed="rId1"/>
          <a:srcRect l="0" t="0" r="1227" b="0"/>
          <a:stretch/>
        </p:blipFill>
        <p:spPr>
          <a:xfrm>
            <a:off x="5118120" y="2735280"/>
            <a:ext cx="4156200" cy="343368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4"/>
          <p:cNvSpPr/>
          <p:nvPr/>
        </p:nvSpPr>
        <p:spPr>
          <a:xfrm>
            <a:off x="504720" y="1847880"/>
            <a:ext cx="37800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atents &amp; cit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75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34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76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9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.9 million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6.5 million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ach year is a datapoin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3296FB9-F356-48EA-A226-AD1E6A89F1B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rcRect l="0" t="0" r="1227" b="0"/>
          <a:stretch/>
        </p:blipFill>
        <p:spPr>
          <a:xfrm>
            <a:off x="5118120" y="2743200"/>
            <a:ext cx="4156200" cy="341640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4"/>
          <p:cNvSpPr/>
          <p:nvPr/>
        </p:nvSpPr>
        <p:spPr>
          <a:xfrm>
            <a:off x="420840" y="1847880"/>
            <a:ext cx="36115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nomous system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7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0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000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6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ne graph per day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7782480" y="614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4168440" y="22550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Slide Number Placeholder 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47FBD62-E5AF-4E60-836D-D41B3082874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6940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) nodes; E(t) edges at time 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uppose that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+1) = 2 * N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your guess fo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(t+1) =? 2 * E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0789EEE-8E9B-42A7-85D2-401B150E6BB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6940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) nodes; E(t) edges at time 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uppose that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+1) = 2 * N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your guess fo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(t+1) =? 2 * E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over-doubled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WordArt 4"/>
          <p:cNvSpPr txBox="1"/>
          <p:nvPr/>
        </p:nvSpPr>
        <p:spPr>
          <a:xfrm>
            <a:off x="4276800" y="4809960"/>
            <a:ext cx="534960" cy="5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x</a:t>
            </a:r>
            <a:endParaRPr b="0" lang="en-US" sz="3200" spc="1" strike="noStrike">
              <a:ln cap="sq"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  <p:sp>
        <p:nvSpPr>
          <p:cNvPr id="861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A9E7702-B706-4A04-B0E4-6CB242595CE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7710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over-doubled - but obeying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E(t) ~ N(t)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a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all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t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0">
              <a:spcBef>
                <a:spcPts val="8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where 1&lt;</a:t>
            </a:r>
            <a:r>
              <a:rPr b="0" i="1" lang="en-US" sz="3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&lt;2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2362320" y="2789280"/>
            <a:ext cx="5180040" cy="685800"/>
          </a:xfrm>
          <a:prstGeom prst="rect">
            <a:avLst/>
          </a:prstGeom>
          <a:noFill/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5E37705-1C40-42D2-91EC-C12EDB72D30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71" name="Picture 3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Line 5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5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876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78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57E0B6A-C4D4-4346-BD4E-9A944C08EFC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 1: Patter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 2: Matrix and Tensor To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 3: Proxim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 4: Case Stud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16080" y="2408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F311D33-BBD0-40D9-A76D-3E2CC578D1C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82" name="Picture 3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Line 5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6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887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9" name="Line 10"/>
          <p:cNvSpPr/>
          <p:nvPr/>
        </p:nvSpPr>
        <p:spPr>
          <a:xfrm flipV="1">
            <a:off x="7021440" y="3780000"/>
            <a:ext cx="2057400" cy="12952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Text Box 11"/>
          <p:cNvSpPr/>
          <p:nvPr/>
        </p:nvSpPr>
        <p:spPr>
          <a:xfrm>
            <a:off x="8074080" y="4303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ree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Line 12"/>
          <p:cNvSpPr/>
          <p:nvPr/>
        </p:nvSpPr>
        <p:spPr>
          <a:xfrm>
            <a:off x="8850240" y="4008600"/>
            <a:ext cx="4572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Text Box 13"/>
          <p:cNvSpPr/>
          <p:nvPr/>
        </p:nvSpPr>
        <p:spPr>
          <a:xfrm>
            <a:off x="9280440" y="34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Slide Number Placeholder 1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536E7EC-86E1-4216-A17C-B60AAF4ABF0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5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Text Box 6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01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902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04" name="Line 10"/>
          <p:cNvSpPr/>
          <p:nvPr/>
        </p:nvSpPr>
        <p:spPr>
          <a:xfrm flipV="1">
            <a:off x="6259680" y="2636640"/>
            <a:ext cx="1523880" cy="2057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Text Box 11"/>
          <p:cNvSpPr/>
          <p:nvPr/>
        </p:nvSpPr>
        <p:spPr>
          <a:xfrm>
            <a:off x="6246360" y="2560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lique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6792840" y="3400560"/>
            <a:ext cx="4572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Text Box 13"/>
          <p:cNvSpPr/>
          <p:nvPr/>
        </p:nvSpPr>
        <p:spPr>
          <a:xfrm>
            <a:off x="648972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Slide Number Placeholder 1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B14A40D-27D6-47FD-BC7D-51AB469B0BA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U.S. Patents, citing each other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5118120" y="2838600"/>
            <a:ext cx="4206960" cy="3227400"/>
          </a:xfrm>
          <a:prstGeom prst="rect">
            <a:avLst/>
          </a:prstGeom>
          <a:ln w="0">
            <a:noFill/>
          </a:ln>
        </p:spPr>
      </p:pic>
      <p:sp>
        <p:nvSpPr>
          <p:cNvPr id="914" name="Line 5"/>
          <p:cNvSpPr/>
          <p:nvPr/>
        </p:nvSpPr>
        <p:spPr>
          <a:xfrm>
            <a:off x="7542360" y="4268880"/>
            <a:ext cx="83952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7999560" y="37339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6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6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917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9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B606F23-19A6-4F36-AA0B-2E1A604D886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nomous System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rcRect l="0" t="0" r="1242" b="0"/>
          <a:stretch/>
        </p:blipFill>
        <p:spPr>
          <a:xfrm>
            <a:off x="5118120" y="2637000"/>
            <a:ext cx="4206960" cy="3628800"/>
          </a:xfrm>
          <a:prstGeom prst="rect">
            <a:avLst/>
          </a:prstGeom>
          <a:ln w="0">
            <a:noFill/>
          </a:ln>
        </p:spPr>
      </p:pic>
      <p:sp>
        <p:nvSpPr>
          <p:cNvPr id="925" name="Line 5"/>
          <p:cNvSpPr/>
          <p:nvPr/>
        </p:nvSpPr>
        <p:spPr>
          <a:xfrm>
            <a:off x="7542360" y="4038480"/>
            <a:ext cx="91584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7781400" y="352116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18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7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928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0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8D709E0-952D-4F2A-8ED1-5F43DB5C493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rXiv: authors &amp; pape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35" name="Picture 4" descr=""/>
          <p:cNvPicPr/>
          <p:nvPr/>
        </p:nvPicPr>
        <p:blipFill>
          <a:blip r:embed="rId1"/>
          <a:stretch/>
        </p:blipFill>
        <p:spPr>
          <a:xfrm>
            <a:off x="5118120" y="2809800"/>
            <a:ext cx="4206960" cy="3284640"/>
          </a:xfrm>
          <a:prstGeom prst="rect">
            <a:avLst/>
          </a:prstGeom>
          <a:ln w="0">
            <a:noFill/>
          </a:ln>
        </p:spPr>
      </p:pic>
      <p:sp>
        <p:nvSpPr>
          <p:cNvPr id="936" name="Line 5"/>
          <p:cNvSpPr/>
          <p:nvPr/>
        </p:nvSpPr>
        <p:spPr>
          <a:xfrm>
            <a:off x="7467480" y="4191120"/>
            <a:ext cx="83844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Text Box 6"/>
          <p:cNvSpPr/>
          <p:nvPr/>
        </p:nvSpPr>
        <p:spPr>
          <a:xfrm>
            <a:off x="8075880" y="365760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15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8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939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1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DF5058A-3037-4E17-9BC4-80ED2A770EC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AutoShape 4"/>
          <p:cNvSpPr/>
          <p:nvPr/>
        </p:nvSpPr>
        <p:spPr>
          <a:xfrm>
            <a:off x="620640" y="3551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D913E44-3EF9-4BEA-AF12-F37717CFC9F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More on Time-evolving</a:t>
            </a:r>
            <a:r>
              <a:rPr b="1" lang="en-US" sz="4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50" name="Picture 5" descr=""/>
          <p:cNvPicPr/>
          <p:nvPr/>
        </p:nvPicPr>
        <p:blipFill>
          <a:blip r:embed="rId1"/>
          <a:srcRect l="10348" t="14426" r="6902" b="0"/>
          <a:stretch/>
        </p:blipFill>
        <p:spPr>
          <a:xfrm>
            <a:off x="3211560" y="2027160"/>
            <a:ext cx="1676520" cy="165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6" descr=""/>
          <p:cNvPicPr/>
          <p:nvPr/>
        </p:nvPicPr>
        <p:blipFill>
          <a:blip r:embed="rId2"/>
          <a:stretch/>
        </p:blipFill>
        <p:spPr>
          <a:xfrm>
            <a:off x="1077840" y="2103480"/>
            <a:ext cx="1600200" cy="1569960"/>
          </a:xfrm>
          <a:prstGeom prst="rect">
            <a:avLst/>
          </a:prstGeom>
          <a:ln w="0">
            <a:noFill/>
          </a:ln>
        </p:spPr>
      </p:pic>
      <p:sp>
        <p:nvSpPr>
          <p:cNvPr id="952" name="Slide Number Placeholder 18"/>
          <p:cNvSpPr/>
          <p:nvPr/>
        </p:nvSpPr>
        <p:spPr>
          <a:xfrm>
            <a:off x="7224840" y="685800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10004A9-6B1A-4212-9A8E-7E4CAC2D310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620640" y="4313160"/>
            <a:ext cx="753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. McGlohon, L. Akoglu, and C. Faloutso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Weighted Graphs and Disconnected Components: Patterns and a Generator.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IG-KD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2008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1: Gelling Poin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0">
              <a:spcBef>
                <a:spcPts val="9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3800" spc="-1" strike="noStrike">
                <a:solidFill>
                  <a:srgbClr val="000066"/>
                </a:solidFill>
                <a:latin typeface="Times New Roman"/>
              </a:rPr>
              <a:t>Q1: How does the GCC emerge?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0DD99D8-F898-4E11-976C-62D98B2CF93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1: Gelling Poin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55640" y="1798200"/>
            <a:ext cx="856944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st real graphs display a gelling p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fter gelling point, they exhibit typical behavior.  This is marked by a spike in diamete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4" name="Picture 10" descr="imdb-diam.pdf"/>
          <p:cNvPicPr/>
          <p:nvPr/>
        </p:nvPicPr>
        <p:blipFill>
          <a:blip r:embed="rId1"/>
          <a:srcRect l="12031" t="4572" r="8593" b="16002"/>
          <a:stretch/>
        </p:blipFill>
        <p:spPr>
          <a:xfrm>
            <a:off x="1459080" y="3855960"/>
            <a:ext cx="3060360" cy="2303640"/>
          </a:xfrm>
          <a:prstGeom prst="rect">
            <a:avLst/>
          </a:prstGeom>
          <a:ln w="0">
            <a:noFill/>
          </a:ln>
        </p:spPr>
      </p:pic>
      <p:sp>
        <p:nvSpPr>
          <p:cNvPr id="965" name="TextBox 12"/>
          <p:cNvSpPr/>
          <p:nvPr/>
        </p:nvSpPr>
        <p:spPr>
          <a:xfrm>
            <a:off x="3823920" y="6294600"/>
            <a:ext cx="9385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Tim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TextBox 14"/>
          <p:cNvSpPr/>
          <p:nvPr/>
        </p:nvSpPr>
        <p:spPr>
          <a:xfrm>
            <a:off x="-47160" y="4714920"/>
            <a:ext cx="15451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Diamete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TextBox 16"/>
          <p:cNvSpPr/>
          <p:nvPr/>
        </p:nvSpPr>
        <p:spPr>
          <a:xfrm>
            <a:off x="3818520" y="3322800"/>
            <a:ext cx="10483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IMD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TextBox 18"/>
          <p:cNvSpPr/>
          <p:nvPr/>
        </p:nvSpPr>
        <p:spPr>
          <a:xfrm>
            <a:off x="3108240" y="4282920"/>
            <a:ext cx="988560" cy="40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MS PGothic"/>
              </a:rPr>
              <a:t>t=191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9" name="Picture 5" descr="blog_1500.png"/>
          <p:cNvPicPr/>
          <p:nvPr/>
        </p:nvPicPr>
        <p:blipFill>
          <a:blip r:embed="rId2"/>
          <a:srcRect l="64267" t="5086" r="0" b="52543"/>
          <a:stretch/>
        </p:blipFill>
        <p:spPr>
          <a:xfrm>
            <a:off x="5796000" y="4367160"/>
            <a:ext cx="1512720" cy="18892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blog_1500.png"/>
          <p:cNvPicPr/>
          <p:nvPr/>
        </p:nvPicPr>
        <p:blipFill>
          <a:blip r:embed="rId3"/>
          <a:srcRect l="35592" t="26819" r="16955" b="0"/>
          <a:stretch/>
        </p:blipFill>
        <p:spPr>
          <a:xfrm>
            <a:off x="7980480" y="4094280"/>
            <a:ext cx="1533240" cy="2246040"/>
          </a:xfrm>
          <a:prstGeom prst="rect">
            <a:avLst/>
          </a:prstGeom>
          <a:ln w="0">
            <a:noFill/>
          </a:ln>
        </p:spPr>
      </p:pic>
      <p:cxnSp>
        <p:nvCxnSpPr>
          <p:cNvPr id="971" name="Straight Arrow Connector 19"/>
          <p:cNvCxnSpPr/>
          <p:nvPr/>
        </p:nvCxnSpPr>
        <p:spPr>
          <a:xfrm>
            <a:off x="7326000" y="4846680"/>
            <a:ext cx="610200" cy="21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972" name="Straight Connector 14"/>
          <p:cNvSpPr/>
          <p:nvPr/>
        </p:nvSpPr>
        <p:spPr>
          <a:xfrm>
            <a:off x="1611360" y="6292800"/>
            <a:ext cx="609480" cy="18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Straight Connector 16"/>
          <p:cNvSpPr/>
          <p:nvPr/>
        </p:nvSpPr>
        <p:spPr>
          <a:xfrm>
            <a:off x="2297160" y="6292800"/>
            <a:ext cx="190512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Rectangle 20"/>
          <p:cNvSpPr/>
          <p:nvPr/>
        </p:nvSpPr>
        <p:spPr>
          <a:xfrm>
            <a:off x="5796000" y="4282920"/>
            <a:ext cx="1428840" cy="2016360"/>
          </a:xfrm>
          <a:prstGeom prst="rect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Rectangle 21"/>
          <p:cNvSpPr/>
          <p:nvPr/>
        </p:nvSpPr>
        <p:spPr>
          <a:xfrm>
            <a:off x="7980480" y="3863880"/>
            <a:ext cx="1763640" cy="2687760"/>
          </a:xfrm>
          <a:prstGeom prst="rect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Slide Number Placeholder 20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6B954BB-65F0-471A-89FF-83196BA5B3F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2: NLCC behavio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4360" indent="-260640">
              <a:spcBef>
                <a:spcPts val="876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Q2: How do NLCC’s emerge and join with the GCC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876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7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(``NLCC’’ = non-largest conn. components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o they continue to grow in siz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r do they shrink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r stabiliz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731978B-9D38-4FC6-BFB7-E363D64229A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 (summary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Motivating question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0C717EC-9E09-4814-8E2B-923FF8F67A0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2: NLCC behavio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4360" y="1722600"/>
            <a:ext cx="9069480" cy="54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fter the gelling point, the GCC takes off, but NLCC’s remain ~constant (actually, oscillate).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86" name="Picture 8" descr="imdb-cc23"/>
          <p:cNvPicPr/>
          <p:nvPr/>
        </p:nvPicPr>
        <p:blipFill>
          <a:blip r:embed="rId1"/>
          <a:stretch/>
        </p:blipFill>
        <p:spPr>
          <a:xfrm>
            <a:off x="2940120" y="3611520"/>
            <a:ext cx="3863880" cy="2905200"/>
          </a:xfrm>
          <a:prstGeom prst="rect">
            <a:avLst/>
          </a:prstGeom>
          <a:ln w="0">
            <a:noFill/>
          </a:ln>
        </p:spPr>
      </p:pic>
      <p:sp>
        <p:nvSpPr>
          <p:cNvPr id="987" name="TextBox 8"/>
          <p:cNvSpPr/>
          <p:nvPr/>
        </p:nvSpPr>
        <p:spPr>
          <a:xfrm>
            <a:off x="4203360" y="6299280"/>
            <a:ext cx="9385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Tim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TextBox 10"/>
          <p:cNvSpPr/>
          <p:nvPr/>
        </p:nvSpPr>
        <p:spPr>
          <a:xfrm>
            <a:off x="4547880" y="3276720"/>
            <a:ext cx="10483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IMD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TextBox 14"/>
          <p:cNvSpPr/>
          <p:nvPr/>
        </p:nvSpPr>
        <p:spPr>
          <a:xfrm>
            <a:off x="2366640" y="4619520"/>
            <a:ext cx="136224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CC siz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115452E-22C9-4505-8774-4E9D24BE9CF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How do new edges appear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856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9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Times New Roman"/>
              </a:rPr>
              <a:t>[LBKT’08] </a:t>
            </a:r>
            <a:r>
              <a:rPr b="0" lang="en-US" sz="43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Microscopic Evolution of Social Networks</a:t>
            </a:r>
            <a:r>
              <a:rPr b="0" lang="en-US" sz="43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4300"/>
            </a:br>
            <a:r>
              <a:rPr b="0" lang="en-US" sz="4300" spc="-1" strike="noStrike">
                <a:solidFill>
                  <a:srgbClr val="000066"/>
                </a:solidFill>
                <a:latin typeface="Times New Roman"/>
              </a:rPr>
              <a:t>Jure Leskovec, Lars Backstrom, Ravi Kumar, Andrew Tomkins. </a:t>
            </a:r>
            <a:br>
              <a:rPr sz="4300"/>
            </a:br>
            <a:r>
              <a:rPr b="0" i="1" lang="en-US" sz="43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lang="en-US" sz="43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ACM KDD</a:t>
            </a:r>
            <a:r>
              <a:rPr b="0" i="1" lang="en-US" sz="43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4300" spc="-1" strike="noStrike">
                <a:solidFill>
                  <a:srgbClr val="000066"/>
                </a:solidFill>
                <a:latin typeface="Times New Roman"/>
              </a:rPr>
              <a:t>, 2008.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EFA96EE-7FCE-4773-8A02-FCDB3049A7B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6635880" y="1763640"/>
            <a:ext cx="3108240" cy="260352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38120" indent="-31896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Edge gap </a:t>
            </a:r>
            <a:r>
              <a:rPr b="1" lang="el-GR" sz="3300" spc="-1" strike="noStrike">
                <a:solidFill>
                  <a:srgbClr val="000066"/>
                </a:solidFill>
                <a:latin typeface="Times New Roman"/>
              </a:rPr>
              <a:t>δ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(d)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: inter-arrival time between </a:t>
            </a:r>
            <a:r>
              <a:rPr b="0" i="1" lang="en-US" sz="33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33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3300" spc="-1" strike="noStrike">
                <a:solidFill>
                  <a:srgbClr val="000066"/>
                </a:solidFill>
                <a:latin typeface="Times New Roman"/>
              </a:rPr>
              <a:t>d+1</a:t>
            </a:r>
            <a:r>
              <a:rPr b="0" i="1" lang="en-US" sz="3300" spc="-1" strike="noStrike" baseline="30000">
                <a:solidFill>
                  <a:srgbClr val="000066"/>
                </a:solidFill>
                <a:latin typeface="Times New Roman"/>
              </a:rPr>
              <a:t>st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edge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4FE94CF-8D30-416B-9AFC-5AC4028E030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How do edges appear in time?</a:t>
            </a:r>
            <a:br>
              <a:rPr sz="4500"/>
            </a:b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[LBKT’08]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1" name="Line 12"/>
          <p:cNvSpPr/>
          <p:nvPr/>
        </p:nvSpPr>
        <p:spPr>
          <a:xfrm>
            <a:off x="696960" y="4541760"/>
            <a:ext cx="5867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AutoShape 13"/>
          <p:cNvSpPr/>
          <p:nvPr/>
        </p:nvSpPr>
        <p:spPr>
          <a:xfrm>
            <a:off x="1154160" y="4084560"/>
            <a:ext cx="380880" cy="4572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AutoShape 14"/>
          <p:cNvSpPr/>
          <p:nvPr/>
        </p:nvSpPr>
        <p:spPr>
          <a:xfrm>
            <a:off x="1535040" y="4084560"/>
            <a:ext cx="381240" cy="4572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AutoShape 15"/>
          <p:cNvSpPr/>
          <p:nvPr/>
        </p:nvSpPr>
        <p:spPr>
          <a:xfrm>
            <a:off x="4354560" y="4084560"/>
            <a:ext cx="380880" cy="4572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AutoShape 16"/>
          <p:cNvSpPr/>
          <p:nvPr/>
        </p:nvSpPr>
        <p:spPr>
          <a:xfrm>
            <a:off x="5040360" y="4084560"/>
            <a:ext cx="380880" cy="4572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Line 17"/>
          <p:cNvSpPr/>
          <p:nvPr/>
        </p:nvSpPr>
        <p:spPr>
          <a:xfrm>
            <a:off x="4735440" y="4770360"/>
            <a:ext cx="6858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Text Box 18"/>
          <p:cNvSpPr/>
          <p:nvPr/>
        </p:nvSpPr>
        <p:spPr>
          <a:xfrm>
            <a:off x="4772160" y="485784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Text Box 19"/>
          <p:cNvSpPr/>
          <p:nvPr/>
        </p:nvSpPr>
        <p:spPr>
          <a:xfrm>
            <a:off x="514080" y="5524560"/>
            <a:ext cx="381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is the PDF of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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sson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Footer Placeholder 16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12" name="Picture 3" descr=""/>
          <p:cNvPicPr/>
          <p:nvPr/>
        </p:nvPicPr>
        <p:blipFill>
          <a:blip r:embed="rId1"/>
          <a:stretch/>
        </p:blipFill>
        <p:spPr>
          <a:xfrm>
            <a:off x="168120" y="1730520"/>
            <a:ext cx="6301080" cy="4652640"/>
          </a:xfrm>
          <a:prstGeom prst="rect">
            <a:avLst/>
          </a:prstGeom>
          <a:ln w="0">
            <a:noFill/>
          </a:ln>
        </p:spPr>
      </p:pic>
      <p:sp>
        <p:nvSpPr>
          <p:cNvPr id="1013" name="Rounded Rectangle 8"/>
          <p:cNvSpPr/>
          <p:nvPr/>
        </p:nvSpPr>
        <p:spPr>
          <a:xfrm>
            <a:off x="839880" y="6383160"/>
            <a:ext cx="856908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8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Object 2"/>
              <p:cNvSpPr txBox="1"/>
              <p:nvPr/>
            </p:nvSpPr>
            <p:spPr>
              <a:xfrm>
                <a:off x="1473120" y="6407280"/>
                <a:ext cx="7443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δ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5" name=""/>
          <p:cNvSpPr txBox="1"/>
          <p:nvPr/>
        </p:nvSpPr>
        <p:spPr>
          <a:xfrm>
            <a:off x="6635880" y="1763640"/>
            <a:ext cx="3108240" cy="260352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38120" indent="-31896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Edge gap </a:t>
            </a:r>
            <a:r>
              <a:rPr b="1" lang="el-GR" sz="3300" spc="-1" strike="noStrike">
                <a:solidFill>
                  <a:srgbClr val="000066"/>
                </a:solidFill>
                <a:latin typeface="Times New Roman"/>
              </a:rPr>
              <a:t>δ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(d)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: inter-arrival time between </a:t>
            </a:r>
            <a:r>
              <a:rPr b="0" i="1" lang="en-US" sz="33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33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3300" spc="-1" strike="noStrike">
                <a:solidFill>
                  <a:srgbClr val="000066"/>
                </a:solidFill>
                <a:latin typeface="Times New Roman"/>
              </a:rPr>
              <a:t>d+1</a:t>
            </a:r>
            <a:r>
              <a:rPr b="0" i="1" lang="en-US" sz="3300" spc="-1" strike="noStrike" baseline="30000">
                <a:solidFill>
                  <a:srgbClr val="000066"/>
                </a:solidFill>
                <a:latin typeface="Times New Roman"/>
              </a:rPr>
              <a:t>st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edge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TextBox 10"/>
          <p:cNvSpPr/>
          <p:nvPr/>
        </p:nvSpPr>
        <p:spPr>
          <a:xfrm>
            <a:off x="3808440" y="2090880"/>
            <a:ext cx="17035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rbel"/>
              </a:rPr>
              <a:t>LinkedIn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How do edges appear in time?</a:t>
            </a:r>
            <a:br>
              <a:rPr sz="4500"/>
            </a:b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[LBKT’08]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755640" y="2184480"/>
            <a:ext cx="8569440" cy="45352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2" descr=""/>
          <p:cNvPicPr/>
          <p:nvPr/>
        </p:nvPicPr>
        <p:blipFill>
          <a:blip r:embed="rId2"/>
          <a:stretch/>
        </p:blipFill>
        <p:spPr>
          <a:xfrm>
            <a:off x="117360" y="1460520"/>
            <a:ext cx="6602400" cy="5241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3" descr=""/>
          <p:cNvPicPr/>
          <p:nvPr/>
        </p:nvPicPr>
        <p:blipFill>
          <a:blip r:embed="rId3"/>
          <a:stretch/>
        </p:blipFill>
        <p:spPr>
          <a:xfrm>
            <a:off x="6692760" y="1341360"/>
            <a:ext cx="3219480" cy="27558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4" descr=""/>
          <p:cNvPicPr/>
          <p:nvPr/>
        </p:nvPicPr>
        <p:blipFill>
          <a:blip r:embed="rId4"/>
          <a:stretch/>
        </p:blipFill>
        <p:spPr>
          <a:xfrm>
            <a:off x="6635880" y="4100400"/>
            <a:ext cx="3171600" cy="268452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A20C4A7-FB09-4C25-BFD5-7CEE8E8F53A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96960" y="3506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Edge locality – closing triangles</a:t>
            </a:r>
            <a:br>
              <a:rPr sz="4500"/>
            </a:b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[LBKT’08]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AutoShape 4"/>
          <p:cNvSpPr/>
          <p:nvPr/>
        </p:nvSpPr>
        <p:spPr>
          <a:xfrm>
            <a:off x="620640" y="40845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D5A9D5A-038C-4655-9BDC-841C46E2587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B233AC8-2EAD-4319-9E46-DE5B37DCCC5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Weighted</a:t>
            </a:r>
            <a:r>
              <a:rPr b="1" lang="en-US" sz="4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5" name="Text Box 15"/>
          <p:cNvSpPr/>
          <p:nvPr/>
        </p:nvSpPr>
        <p:spPr>
          <a:xfrm>
            <a:off x="838800" y="2941560"/>
            <a:ext cx="846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. McGlohon, L. Akoglu, and C. Faloutsos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Weighted Graphs and Disconnected Components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Patterns and a Generator.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KDD 2008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Slide Number Placeholder 18"/>
          <p:cNvSpPr/>
          <p:nvPr/>
        </p:nvSpPr>
        <p:spPr>
          <a:xfrm>
            <a:off x="7224840" y="685800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D90865B-7D4E-430B-9E31-F07C4AAC2E4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96960" y="3506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Networks use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87160" y="1344600"/>
            <a:ext cx="604836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ostne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Posts in blogs, hyperlinks betwee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g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ggregated Postnet, repeated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atent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tent cit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IP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Academic cit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rxi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Academic cit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NetTraffic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c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eated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utonomous Systems 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c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eated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82640" indent="0">
              <a:spcBef>
                <a:spcPts val="70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0">
              <a:spcBef>
                <a:spcPts val="70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2" name="Group 19"/>
          <p:cNvGrpSpPr/>
          <p:nvPr/>
        </p:nvGrpSpPr>
        <p:grpSpPr>
          <a:xfrm>
            <a:off x="6888240" y="3780000"/>
            <a:ext cx="2697120" cy="3009600"/>
            <a:chOff x="6888240" y="3780000"/>
            <a:chExt cx="2697120" cy="3009600"/>
          </a:xfrm>
        </p:grpSpPr>
        <p:sp>
          <p:nvSpPr>
            <p:cNvPr id="1043" name="Oval 5"/>
            <p:cNvSpPr/>
            <p:nvPr/>
          </p:nvSpPr>
          <p:spPr>
            <a:xfrm>
              <a:off x="7476120" y="3780000"/>
              <a:ext cx="433800" cy="4251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1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Oval 6"/>
            <p:cNvSpPr/>
            <p:nvPr/>
          </p:nvSpPr>
          <p:spPr>
            <a:xfrm>
              <a:off x="7471080" y="443088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2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Oval 7"/>
            <p:cNvSpPr/>
            <p:nvPr/>
          </p:nvSpPr>
          <p:spPr>
            <a:xfrm>
              <a:off x="9151560" y="409464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3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Oval 8"/>
            <p:cNvSpPr/>
            <p:nvPr/>
          </p:nvSpPr>
          <p:spPr>
            <a:xfrm>
              <a:off x="7806960" y="527076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4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Line 12"/>
            <p:cNvSpPr/>
            <p:nvPr/>
          </p:nvSpPr>
          <p:spPr>
            <a:xfrm>
              <a:off x="7891200" y="4010760"/>
              <a:ext cx="1240920" cy="236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8" name="Line 13"/>
            <p:cNvSpPr/>
            <p:nvPr/>
          </p:nvSpPr>
          <p:spPr>
            <a:xfrm>
              <a:off x="7891200" y="4682880"/>
              <a:ext cx="167760" cy="587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Line 13"/>
            <p:cNvSpPr/>
            <p:nvPr/>
          </p:nvSpPr>
          <p:spPr>
            <a:xfrm flipV="1">
              <a:off x="7891200" y="4346280"/>
              <a:ext cx="1239120" cy="29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Oval 8"/>
            <p:cNvSpPr/>
            <p:nvPr/>
          </p:nvSpPr>
          <p:spPr>
            <a:xfrm>
              <a:off x="8143200" y="577476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5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1" name="Line 13"/>
            <p:cNvSpPr/>
            <p:nvPr/>
          </p:nvSpPr>
          <p:spPr>
            <a:xfrm flipV="1">
              <a:off x="8311320" y="4346640"/>
              <a:ext cx="819000" cy="142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2" name="Line 13"/>
            <p:cNvSpPr/>
            <p:nvPr/>
          </p:nvSpPr>
          <p:spPr>
            <a:xfrm flipV="1">
              <a:off x="8143200" y="4346640"/>
              <a:ext cx="1008000" cy="967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Oval 5"/>
            <p:cNvSpPr/>
            <p:nvPr/>
          </p:nvSpPr>
          <p:spPr>
            <a:xfrm>
              <a:off x="6888240" y="6047640"/>
              <a:ext cx="433800" cy="4251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6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4" name="Oval 7"/>
            <p:cNvSpPr/>
            <p:nvPr/>
          </p:nvSpPr>
          <p:spPr>
            <a:xfrm>
              <a:off x="8563320" y="636264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7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5" name="Line 12"/>
            <p:cNvSpPr/>
            <p:nvPr/>
          </p:nvSpPr>
          <p:spPr>
            <a:xfrm>
              <a:off x="7302960" y="6278760"/>
              <a:ext cx="1240920" cy="236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Line 12"/>
            <p:cNvSpPr/>
            <p:nvPr/>
          </p:nvSpPr>
          <p:spPr>
            <a:xfrm flipV="1">
              <a:off x="7302960" y="5606280"/>
              <a:ext cx="504000" cy="587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57" name="TextBox 21"/>
          <p:cNvSpPr/>
          <p:nvPr/>
        </p:nvSpPr>
        <p:spPr>
          <a:xfrm>
            <a:off x="8484120" y="3527280"/>
            <a:ext cx="5709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10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TextBox 22"/>
          <p:cNvSpPr/>
          <p:nvPr/>
        </p:nvSpPr>
        <p:spPr>
          <a:xfrm>
            <a:off x="7895160" y="4116240"/>
            <a:ext cx="66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1.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TextBox 23"/>
          <p:cNvSpPr/>
          <p:nvPr/>
        </p:nvSpPr>
        <p:spPr>
          <a:xfrm>
            <a:off x="8568360" y="4956120"/>
            <a:ext cx="66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8.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Box 24"/>
          <p:cNvSpPr/>
          <p:nvPr/>
        </p:nvSpPr>
        <p:spPr>
          <a:xfrm>
            <a:off x="7560360" y="6048360"/>
            <a:ext cx="386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Box 25"/>
          <p:cNvSpPr/>
          <p:nvPr/>
        </p:nvSpPr>
        <p:spPr>
          <a:xfrm>
            <a:off x="7223760" y="5459400"/>
            <a:ext cx="386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6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TextBox 26"/>
          <p:cNvSpPr/>
          <p:nvPr/>
        </p:nvSpPr>
        <p:spPr>
          <a:xfrm>
            <a:off x="8232840" y="4619520"/>
            <a:ext cx="392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Slide Number Placeholder 2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7A441E6-7B7F-4ECC-99CC-BBA6AF9C43E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1: Fortification Effec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$  = C*  # checks 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67" name="Picture 8" descr="com2cand-scat.pdf"/>
          <p:cNvPicPr/>
          <p:nvPr/>
        </p:nvPicPr>
        <p:blipFill>
          <a:blip r:embed="rId1"/>
          <a:stretch/>
        </p:blipFill>
        <p:spPr>
          <a:xfrm>
            <a:off x="5964120" y="3733920"/>
            <a:ext cx="3583080" cy="277308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9"/>
          <p:cNvSpPr/>
          <p:nvPr/>
        </p:nvSpPr>
        <p:spPr>
          <a:xfrm>
            <a:off x="7240680" y="6254640"/>
            <a:ext cx="14796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|Checks|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TextBox 12"/>
          <p:cNvSpPr/>
          <p:nvPr/>
        </p:nvSpPr>
        <p:spPr>
          <a:xfrm>
            <a:off x="6417720" y="3398760"/>
            <a:ext cx="2871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Orgs-Candidate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Right Triangle 12"/>
          <p:cNvSpPr/>
          <p:nvPr/>
        </p:nvSpPr>
        <p:spPr>
          <a:xfrm rot="16200000">
            <a:off x="6960240" y="3915360"/>
            <a:ext cx="1789200" cy="2771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TextBox 9"/>
          <p:cNvSpPr/>
          <p:nvPr/>
        </p:nvSpPr>
        <p:spPr>
          <a:xfrm>
            <a:off x="5969520" y="4657680"/>
            <a:ext cx="55728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|$|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TextBox 14"/>
          <p:cNvSpPr/>
          <p:nvPr/>
        </p:nvSpPr>
        <p:spPr>
          <a:xfrm>
            <a:off x="6888600" y="5415120"/>
            <a:ext cx="769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PGothic"/>
              </a:rPr>
              <a:t>198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TextBox 15"/>
          <p:cNvSpPr/>
          <p:nvPr/>
        </p:nvSpPr>
        <p:spPr>
          <a:xfrm>
            <a:off x="9156960" y="3986280"/>
            <a:ext cx="769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PGothic"/>
              </a:rPr>
              <a:t>200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Slide Number Placeholder 18"/>
          <p:cNvSpPr/>
          <p:nvPr/>
        </p:nvSpPr>
        <p:spPr>
          <a:xfrm>
            <a:off x="7224840" y="685800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9D1B865-AA9F-45F5-885B-1B011BF8E05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1: Fortification Effect – Weight P.L. (WPL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88080" indent="-290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ight additions follow a power law with respect to the number of edg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0">
              <a:spcBef>
                <a:spcPts val="70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0">
              <a:spcBef>
                <a:spcPts val="70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W(t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tal weight of graph at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E(t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total edges of graph at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PL expon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01 &lt; w &lt; 1.5 = super-linear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more checks, even more $)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80" name="Picture 8" descr="com2cand-scat.pdf"/>
          <p:cNvPicPr/>
          <p:nvPr/>
        </p:nvPicPr>
        <p:blipFill>
          <a:blip r:embed="rId1"/>
          <a:stretch/>
        </p:blipFill>
        <p:spPr>
          <a:xfrm>
            <a:off x="6029280" y="3809880"/>
            <a:ext cx="3583080" cy="2773440"/>
          </a:xfrm>
          <a:prstGeom prst="rect">
            <a:avLst/>
          </a:prstGeom>
          <a:ln w="0">
            <a:noFill/>
          </a:ln>
        </p:spPr>
      </p:pic>
      <p:sp>
        <p:nvSpPr>
          <p:cNvPr id="1081" name="TextBox 9"/>
          <p:cNvSpPr/>
          <p:nvPr/>
        </p:nvSpPr>
        <p:spPr>
          <a:xfrm>
            <a:off x="7113600" y="6599160"/>
            <a:ext cx="14796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|Checks|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Box 12"/>
          <p:cNvSpPr/>
          <p:nvPr/>
        </p:nvSpPr>
        <p:spPr>
          <a:xfrm>
            <a:off x="6492240" y="3475080"/>
            <a:ext cx="2871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Orgs-Candidate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Box 9"/>
          <p:cNvSpPr/>
          <p:nvPr/>
        </p:nvSpPr>
        <p:spPr>
          <a:xfrm>
            <a:off x="6044400" y="4734000"/>
            <a:ext cx="55728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|$|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14"/>
          <p:cNvSpPr/>
          <p:nvPr/>
        </p:nvSpPr>
        <p:spPr>
          <a:xfrm>
            <a:off x="6791040" y="6294600"/>
            <a:ext cx="769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PGothic"/>
              </a:rPr>
              <a:t>198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TextBox 15"/>
          <p:cNvSpPr/>
          <p:nvPr/>
        </p:nvSpPr>
        <p:spPr>
          <a:xfrm>
            <a:off x="9156960" y="4535640"/>
            <a:ext cx="769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PGothic"/>
              </a:rPr>
              <a:t>200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86" name="Picture 19" descr="image-71.pdf"/>
          <p:cNvPicPr/>
          <p:nvPr/>
        </p:nvPicPr>
        <p:blipFill>
          <a:blip r:embed="rId2"/>
          <a:stretch/>
        </p:blipFill>
        <p:spPr>
          <a:xfrm>
            <a:off x="2982960" y="3400560"/>
            <a:ext cx="2971800" cy="507960"/>
          </a:xfrm>
          <a:prstGeom prst="rect">
            <a:avLst/>
          </a:prstGeom>
          <a:ln w="0">
            <a:noFill/>
          </a:ln>
        </p:spPr>
      </p:pic>
      <p:sp>
        <p:nvSpPr>
          <p:cNvPr id="1087" name="Slide Number Placeholder 16"/>
          <p:cNvSpPr/>
          <p:nvPr/>
        </p:nvSpPr>
        <p:spPr>
          <a:xfrm>
            <a:off x="7326360" y="690408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04F7E69-B78D-4EF8-91A9-D1F8B854859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18"/>
          <p:cNvSpPr/>
          <p:nvPr/>
        </p:nvSpPr>
        <p:spPr>
          <a:xfrm>
            <a:off x="6945480" y="5989680"/>
            <a:ext cx="9144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19"/>
          <p:cNvSpPr/>
          <p:nvPr/>
        </p:nvSpPr>
        <p:spPr>
          <a:xfrm>
            <a:off x="7326360" y="5608800"/>
            <a:ext cx="762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Rectangle 20"/>
          <p:cNvSpPr/>
          <p:nvPr/>
        </p:nvSpPr>
        <p:spPr>
          <a:xfrm>
            <a:off x="8012160" y="5532480"/>
            <a:ext cx="762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Rectangle 21"/>
          <p:cNvSpPr/>
          <p:nvPr/>
        </p:nvSpPr>
        <p:spPr>
          <a:xfrm>
            <a:off x="8545680" y="5456160"/>
            <a:ext cx="76176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Rectangle 22"/>
          <p:cNvSpPr/>
          <p:nvPr/>
        </p:nvSpPr>
        <p:spPr>
          <a:xfrm>
            <a:off x="8164440" y="5151600"/>
            <a:ext cx="762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Rectangle 23"/>
          <p:cNvSpPr/>
          <p:nvPr/>
        </p:nvSpPr>
        <p:spPr>
          <a:xfrm>
            <a:off x="8621640" y="4846680"/>
            <a:ext cx="762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Motivating questio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hat do real graphs look lik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at properties of nodes, edges are important to model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at local and global properties are important to measure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How to generate realistic graph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E8F490C-D44B-4836-9BEF-711DB61E388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2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82640" indent="-260280">
              <a:spcBef>
                <a:spcPts val="10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4300" spc="-1" strike="noStrike">
                <a:solidFill>
                  <a:srgbClr val="000066"/>
                </a:solidFill>
                <a:latin typeface="Times New Roman"/>
              </a:rPr>
              <a:t>Q2: How do the weights </a:t>
            </a: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  <a:p>
            <a:pPr lvl="1" marL="782640" indent="-260280">
              <a:spcBef>
                <a:spcPts val="10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4300" spc="-1" strike="noStrike">
                <a:solidFill>
                  <a:srgbClr val="000066"/>
                </a:solidFill>
                <a:latin typeface="Times New Roman"/>
              </a:rPr>
              <a:t>of nodes relate to degree?</a:t>
            </a: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  <a:p>
            <a:pPr lvl="1" marL="782640" indent="-260280">
              <a:spcBef>
                <a:spcPts val="10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  <a:p>
            <a:pPr lvl="1" marL="782640" indent="-260280">
              <a:spcBef>
                <a:spcPts val="10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1074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89870D0-4E0E-4D0E-97C0-F13CFA3A6E8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55640" y="50292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2:</a:t>
            </a:r>
            <a:br>
              <a:rPr sz="4900"/>
            </a:b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napshot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04360" y="1798200"/>
            <a:ext cx="906948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At any time, total incoming weight of a node is proportional to in-degree with PL exponent ‘iw’: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lvl="1" marL="833400" indent="-29376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i.e.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1.01 &lt;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w &lt; 1.26,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super-linea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re donors, even more $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03" name="Picture 6" descr="com2cand-in3.pdf"/>
          <p:cNvPicPr/>
          <p:nvPr/>
        </p:nvPicPr>
        <p:blipFill>
          <a:blip r:embed="rId1"/>
          <a:stretch/>
        </p:blipFill>
        <p:spPr>
          <a:xfrm>
            <a:off x="3948120" y="3959280"/>
            <a:ext cx="3171960" cy="2593800"/>
          </a:xfrm>
          <a:prstGeom prst="rect">
            <a:avLst/>
          </a:prstGeom>
          <a:ln w="0">
            <a:noFill/>
          </a:ln>
        </p:spPr>
      </p:pic>
      <p:sp>
        <p:nvSpPr>
          <p:cNvPr id="1104" name="TextBox 8"/>
          <p:cNvSpPr/>
          <p:nvPr/>
        </p:nvSpPr>
        <p:spPr>
          <a:xfrm>
            <a:off x="4736520" y="6394320"/>
            <a:ext cx="274284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Edges (# donor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Box 9"/>
          <p:cNvSpPr/>
          <p:nvPr/>
        </p:nvSpPr>
        <p:spPr>
          <a:xfrm>
            <a:off x="2268360" y="4883040"/>
            <a:ext cx="1847880" cy="89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In-weigh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($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Box 12"/>
          <p:cNvSpPr/>
          <p:nvPr/>
        </p:nvSpPr>
        <p:spPr>
          <a:xfrm>
            <a:off x="5987520" y="3398760"/>
            <a:ext cx="2871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Orgs-Candidate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07" name="Straight Arrow Connector 14"/>
          <p:cNvCxnSpPr/>
          <p:nvPr/>
        </p:nvCxnSpPr>
        <p:spPr>
          <a:xfrm flipH="1" flipV="1">
            <a:off x="5562360" y="3962160"/>
            <a:ext cx="1372320" cy="21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108" name="Oval 17"/>
          <p:cNvSpPr/>
          <p:nvPr/>
        </p:nvSpPr>
        <p:spPr>
          <a:xfrm>
            <a:off x="5964120" y="4282920"/>
            <a:ext cx="168480" cy="1684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Box 18"/>
          <p:cNvSpPr/>
          <p:nvPr/>
        </p:nvSpPr>
        <p:spPr>
          <a:xfrm>
            <a:off x="7145640" y="4896000"/>
            <a:ext cx="26301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MS PGothic"/>
              </a:rPr>
              <a:t>e.g. John Kerry,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MS PGothic"/>
              </a:rPr>
              <a:t>$10M received,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MS PGothic"/>
              </a:rPr>
              <a:t>from 1K donor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Slide Number Placeholder 14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F102CDA-4438-4532-B2AE-C05FB3EF319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ummary of ‘laws’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ower laws for degree distribu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…………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... for eigenvalues, bi-partite core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iangle 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mall diameter (‘6 degrees’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ow-tie’ for web; ‘jelly-fish’ for interne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scillating NLCC’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PL (weight grows superlinearly to degree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~Power-law between edge gener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0922262-C0B4-444F-B200-83E9FED497C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AutoShape 4"/>
          <p:cNvSpPr/>
          <p:nvPr/>
        </p:nvSpPr>
        <p:spPr>
          <a:xfrm>
            <a:off x="316080" y="29415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A05B666-4B4B-4EF8-A04E-04D87FF9755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Generators (Summary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eferential attachment [Barabasi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Variations + extension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pying mod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iad-closing [Leskovec+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utterfly model [McGlohon+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cursion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–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Kronecker graphs [Leskovec+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57EDE34-42E6-449E-A117-DC26461CDA9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Rectangle 2"/>
          <p:cNvSpPr/>
          <p:nvPr/>
        </p:nvSpPr>
        <p:spPr>
          <a:xfrm>
            <a:off x="544680" y="591336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More Details Off-line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AutoShape 4"/>
          <p:cNvSpPr/>
          <p:nvPr/>
        </p:nvSpPr>
        <p:spPr>
          <a:xfrm>
            <a:off x="316080" y="36273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A178B48-E482-4439-BA68-77291B7D67A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Power law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Why so man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1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DB1BAFD-37AB-4C30-BF02-6D493B68215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Power law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Why so man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1: self-similarity; ‘rich-get-richer’, etc - see Newman’s pape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2300" spc="-1" strike="noStrike" u="sng">
                <a:solidFill>
                  <a:srgbClr val="3366ff"/>
                </a:solidFill>
                <a:uFillTx/>
                <a:latin typeface="Courier New"/>
                <a:hlinkClick r:id="rId1"/>
              </a:rPr>
              <a:t>http://arxiv.org/abs/cond-mat/0412004v3</a:t>
            </a:r>
            <a:r>
              <a:rPr b="1" lang="en-US" sz="23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ther settings with power law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CAC0C36-4FD4-4D20-AAD4-8034805A630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2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Footer Placeholder 3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 famous power law: Zipf’s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5040360" y="2940120"/>
            <a:ext cx="4368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48" name="Picture 4" descr=""/>
          <p:cNvPicPr/>
          <p:nvPr/>
        </p:nvPicPr>
        <p:blipFill>
          <a:blip r:embed="rId1"/>
          <a:stretch/>
        </p:blipFill>
        <p:spPr>
          <a:xfrm>
            <a:off x="504720" y="2184480"/>
            <a:ext cx="4788000" cy="335736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5"/>
          <p:cNvSpPr/>
          <p:nvPr/>
        </p:nvSpPr>
        <p:spPr>
          <a:xfrm>
            <a:off x="5796000" y="2603520"/>
            <a:ext cx="37814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206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Bible - 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rank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vs 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frequency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(log-log)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Text Box 6"/>
          <p:cNvSpPr/>
          <p:nvPr/>
        </p:nvSpPr>
        <p:spPr>
          <a:xfrm>
            <a:off x="2950560" y="5846040"/>
            <a:ext cx="16668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(rank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Text Box 7"/>
          <p:cNvSpPr/>
          <p:nvPr/>
        </p:nvSpPr>
        <p:spPr>
          <a:xfrm>
            <a:off x="334440" y="1679400"/>
            <a:ext cx="1601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(freq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Text Box 8"/>
          <p:cNvSpPr/>
          <p:nvPr/>
        </p:nvSpPr>
        <p:spPr>
          <a:xfrm>
            <a:off x="417960" y="2435040"/>
            <a:ext cx="728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”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Text Box 9"/>
          <p:cNvSpPr/>
          <p:nvPr/>
        </p:nvSpPr>
        <p:spPr>
          <a:xfrm>
            <a:off x="1344600" y="3359160"/>
            <a:ext cx="1176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e”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Line 10"/>
          <p:cNvSpPr/>
          <p:nvPr/>
        </p:nvSpPr>
        <p:spPr>
          <a:xfrm flipV="1">
            <a:off x="1512720" y="2519280"/>
            <a:ext cx="0" cy="757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Line 11"/>
          <p:cNvSpPr/>
          <p:nvPr/>
        </p:nvSpPr>
        <p:spPr>
          <a:xfrm flipV="1">
            <a:off x="1176480" y="2519280"/>
            <a:ext cx="168120" cy="168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Line 12"/>
          <p:cNvSpPr/>
          <p:nvPr/>
        </p:nvSpPr>
        <p:spPr>
          <a:xfrm>
            <a:off x="1344600" y="2435400"/>
            <a:ext cx="3024360" cy="2016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Slide Number Placeholder 15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2418767-3AAF-4A92-950F-DD2CA03170D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Power laws, cont’e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eb hit counts [Huberman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-stream data [Montgomery+01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60F4F4C-D713-49FA-866A-E4884564F9E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Motivating questio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932120"/>
            <a:ext cx="848520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iven a graph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587520" y="4032360"/>
            <a:ext cx="2856960" cy="1342440"/>
            <a:chOff x="587520" y="4032360"/>
            <a:chExt cx="2856960" cy="1342440"/>
          </a:xfrm>
        </p:grpSpPr>
        <p:sp>
          <p:nvSpPr>
            <p:cNvPr id="237" name="Oval 5"/>
            <p:cNvSpPr/>
            <p:nvPr/>
          </p:nvSpPr>
          <p:spPr>
            <a:xfrm>
              <a:off x="755280" y="495540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6"/>
            <p:cNvSpPr/>
            <p:nvPr/>
          </p:nvSpPr>
          <p:spPr>
            <a:xfrm>
              <a:off x="2436120" y="41997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1679760" y="411588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2856240" y="51231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192480" y="40323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1763640" y="51231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587520" y="41997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44" name="AutoShape 12"/>
            <p:cNvCxnSpPr>
              <a:stCxn id="239" idx="6"/>
              <a:endCxn id="238" idx="2"/>
            </p:cNvCxnSpPr>
            <p:nvPr/>
          </p:nvCxnSpPr>
          <p:spPr>
            <a:xfrm>
              <a:off x="1940760" y="4241520"/>
              <a:ext cx="487080" cy="846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5" name="AutoShape 13"/>
            <p:cNvCxnSpPr>
              <a:stCxn id="242" idx="6"/>
              <a:endCxn id="238" idx="3"/>
            </p:cNvCxnSpPr>
            <p:nvPr/>
          </p:nvCxnSpPr>
          <p:spPr>
            <a:xfrm flipV="1">
              <a:off x="2024280" y="4422960"/>
              <a:ext cx="448920" cy="8262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6" name="AutoShape 14"/>
            <p:cNvCxnSpPr>
              <a:stCxn id="242" idx="6"/>
              <a:endCxn id="240" idx="2"/>
            </p:cNvCxnSpPr>
            <p:nvPr/>
          </p:nvCxnSpPr>
          <p:spPr>
            <a:xfrm>
              <a:off x="2024640" y="5248800"/>
              <a:ext cx="823680" cy="108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7" name="AutoShape 15"/>
            <p:cNvCxnSpPr>
              <a:stCxn id="238" idx="6"/>
              <a:endCxn id="241" idx="2"/>
            </p:cNvCxnSpPr>
            <p:nvPr/>
          </p:nvCxnSpPr>
          <p:spPr>
            <a:xfrm flipV="1">
              <a:off x="2697120" y="4157280"/>
              <a:ext cx="487080" cy="1688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8" name="AutoShape 16"/>
            <p:cNvCxnSpPr>
              <a:stCxn id="243" idx="6"/>
              <a:endCxn id="239" idx="2"/>
            </p:cNvCxnSpPr>
            <p:nvPr/>
          </p:nvCxnSpPr>
          <p:spPr>
            <a:xfrm flipV="1">
              <a:off x="848160" y="4241160"/>
              <a:ext cx="823680" cy="846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9" name="AutoShape 17"/>
            <p:cNvCxnSpPr>
              <a:stCxn id="237" idx="7"/>
              <a:endCxn id="239" idx="3"/>
            </p:cNvCxnSpPr>
            <p:nvPr/>
          </p:nvCxnSpPr>
          <p:spPr>
            <a:xfrm flipV="1">
              <a:off x="970560" y="4339080"/>
              <a:ext cx="746280" cy="6440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50" name="AutoShape 18"/>
            <p:cNvCxnSpPr>
              <a:stCxn id="242" idx="0"/>
              <a:endCxn id="239" idx="4"/>
            </p:cNvCxnSpPr>
            <p:nvPr/>
          </p:nvCxnSpPr>
          <p:spPr>
            <a:xfrm flipH="1" flipV="1">
              <a:off x="1805040" y="4376160"/>
              <a:ext cx="84600" cy="738720"/>
            </a:xfrm>
            <a:prstGeom prst="straightConnector1">
              <a:avLst/>
            </a:prstGeom>
            <a:ln w="12600">
              <a:solidFill>
                <a:srgbClr val="000066"/>
              </a:solidFill>
              <a:miter/>
            </a:ln>
          </p:spPr>
        </p:cxnSp>
      </p:grpSp>
      <p:sp>
        <p:nvSpPr>
          <p:cNvPr id="251" name="Text Box 19"/>
          <p:cNvSpPr/>
          <p:nvPr/>
        </p:nvSpPr>
        <p:spPr>
          <a:xfrm>
            <a:off x="4284720" y="2940120"/>
            <a:ext cx="5208480" cy="27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93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re there un-natural sub-graphs? (criminals’ rings  or terrorist cells)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93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How do P2P networks evolve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Slide Number Placeholder 2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274BFD6-2E02-4EB0-9497-1521A1788D4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Text Box 2"/>
          <p:cNvSpPr/>
          <p:nvPr/>
        </p:nvSpPr>
        <p:spPr>
          <a:xfrm>
            <a:off x="1914480" y="755640"/>
            <a:ext cx="203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Text Box 3"/>
          <p:cNvSpPr/>
          <p:nvPr/>
        </p:nvSpPr>
        <p:spPr>
          <a:xfrm>
            <a:off x="486000" y="4929480"/>
            <a:ext cx="2023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67" name="Picture 4" descr=""/>
          <p:cNvPicPr/>
          <p:nvPr/>
        </p:nvPicPr>
        <p:blipFill>
          <a:blip r:embed="rId1"/>
          <a:stretch/>
        </p:blipFill>
        <p:spPr>
          <a:xfrm>
            <a:off x="4703760" y="923760"/>
            <a:ext cx="4595760" cy="335124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"/>
          <p:cNvPicPr/>
          <p:nvPr/>
        </p:nvPicPr>
        <p:blipFill>
          <a:blip r:embed="rId2"/>
          <a:srcRect l="0" t="9300" r="0" b="9300"/>
          <a:stretch/>
        </p:blipFill>
        <p:spPr>
          <a:xfrm>
            <a:off x="4830840" y="3882960"/>
            <a:ext cx="4373640" cy="283392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5982120" y="1095120"/>
            <a:ext cx="2421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Web Site Traffic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Text Box 7"/>
          <p:cNvSpPr/>
          <p:nvPr/>
        </p:nvSpPr>
        <p:spPr>
          <a:xfrm>
            <a:off x="8453520" y="3279600"/>
            <a:ext cx="137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freq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Text Box 8"/>
          <p:cNvSpPr/>
          <p:nvPr/>
        </p:nvSpPr>
        <p:spPr>
          <a:xfrm>
            <a:off x="3905640" y="143100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Line 9"/>
          <p:cNvSpPr/>
          <p:nvPr/>
        </p:nvSpPr>
        <p:spPr>
          <a:xfrm>
            <a:off x="5796000" y="1847880"/>
            <a:ext cx="923760" cy="11764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Text Box 10"/>
          <p:cNvSpPr/>
          <p:nvPr/>
        </p:nvSpPr>
        <p:spPr>
          <a:xfrm>
            <a:off x="6388560" y="1851480"/>
            <a:ext cx="772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PMingLiU"/>
              </a:rPr>
              <a:t>Zip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9520" y="167760"/>
            <a:ext cx="85690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-stream data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175" name="Group 12"/>
          <p:cNvGrpSpPr/>
          <p:nvPr/>
        </p:nvGrpSpPr>
        <p:grpSpPr>
          <a:xfrm>
            <a:off x="320760" y="1853640"/>
            <a:ext cx="3125880" cy="2695680"/>
            <a:chOff x="320760" y="1853640"/>
            <a:chExt cx="3125880" cy="2695680"/>
          </a:xfrm>
        </p:grpSpPr>
        <p:sp>
          <p:nvSpPr>
            <p:cNvPr id="1176" name="Text Box 13"/>
            <p:cNvSpPr/>
            <p:nvPr/>
          </p:nvSpPr>
          <p:spPr>
            <a:xfrm>
              <a:off x="320760" y="1853640"/>
              <a:ext cx="14104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4000" spc="-1" strike="noStrike">
                  <a:solidFill>
                    <a:srgbClr val="000066"/>
                  </a:solidFill>
                  <a:latin typeface="Times New Roman"/>
                  <a:ea typeface="PMingLiU"/>
                </a:rPr>
                <a:t>u-id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Oval 14"/>
            <p:cNvSpPr/>
            <p:nvPr/>
          </p:nvSpPr>
          <p:spPr>
            <a:xfrm>
              <a:off x="903240" y="266652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Oval 15"/>
            <p:cNvSpPr/>
            <p:nvPr/>
          </p:nvSpPr>
          <p:spPr>
            <a:xfrm>
              <a:off x="911880" y="298152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Oval 16"/>
            <p:cNvSpPr/>
            <p:nvPr/>
          </p:nvSpPr>
          <p:spPr>
            <a:xfrm>
              <a:off x="920880" y="3676320"/>
              <a:ext cx="16560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Oval 17"/>
            <p:cNvSpPr/>
            <p:nvPr/>
          </p:nvSpPr>
          <p:spPr>
            <a:xfrm>
              <a:off x="2926440" y="269316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Oval 18"/>
            <p:cNvSpPr/>
            <p:nvPr/>
          </p:nvSpPr>
          <p:spPr>
            <a:xfrm>
              <a:off x="2919240" y="439560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Oval 19"/>
            <p:cNvSpPr/>
            <p:nvPr/>
          </p:nvSpPr>
          <p:spPr>
            <a:xfrm>
              <a:off x="2919240" y="302904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Oval 20"/>
            <p:cNvSpPr/>
            <p:nvPr/>
          </p:nvSpPr>
          <p:spPr>
            <a:xfrm>
              <a:off x="2927880" y="368676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Oval 21"/>
            <p:cNvSpPr/>
            <p:nvPr/>
          </p:nvSpPr>
          <p:spPr>
            <a:xfrm>
              <a:off x="2925000" y="334404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Text Box 22"/>
            <p:cNvSpPr/>
            <p:nvPr/>
          </p:nvSpPr>
          <p:spPr>
            <a:xfrm>
              <a:off x="2290680" y="1862280"/>
              <a:ext cx="11559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4000" spc="-1" strike="noStrike">
                  <a:solidFill>
                    <a:srgbClr val="000066"/>
                  </a:solidFill>
                  <a:latin typeface="Times New Roman"/>
                  <a:ea typeface="PMingLiU"/>
                </a:rPr>
                <a:t>url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86" name="AutoShape 23"/>
            <p:cNvCxnSpPr>
              <a:stCxn id="1177" idx="6"/>
              <a:endCxn id="1180" idx="2"/>
            </p:cNvCxnSpPr>
            <p:nvPr/>
          </p:nvCxnSpPr>
          <p:spPr>
            <a:xfrm>
              <a:off x="1090080" y="2743200"/>
              <a:ext cx="1815480" cy="270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1187" name="AutoShape 24"/>
            <p:cNvCxnSpPr>
              <a:stCxn id="1177" idx="6"/>
            </p:cNvCxnSpPr>
            <p:nvPr/>
          </p:nvCxnSpPr>
          <p:spPr>
            <a:xfrm>
              <a:off x="1090080" y="2743200"/>
              <a:ext cx="1806840" cy="3315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1188" name="AutoShape 25"/>
            <p:cNvCxnSpPr/>
            <p:nvPr/>
          </p:nvCxnSpPr>
          <p:spPr>
            <a:xfrm>
              <a:off x="1097280" y="2743560"/>
              <a:ext cx="1811880" cy="63792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1189" name="AutoShape 26"/>
            <p:cNvCxnSpPr>
              <a:stCxn id="1178" idx="6"/>
            </p:cNvCxnSpPr>
            <p:nvPr/>
          </p:nvCxnSpPr>
          <p:spPr>
            <a:xfrm flipV="1">
              <a:off x="1098720" y="2794320"/>
              <a:ext cx="1810440" cy="2646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1190" name="AutoShape 27"/>
            <p:cNvCxnSpPr>
              <a:stCxn id="1179" idx="6"/>
              <a:endCxn id="1182" idx="2"/>
            </p:cNvCxnSpPr>
            <p:nvPr/>
          </p:nvCxnSpPr>
          <p:spPr>
            <a:xfrm flipV="1">
              <a:off x="1108080" y="3105360"/>
              <a:ext cx="1791360" cy="6480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</p:grpSp>
      <p:sp>
        <p:nvSpPr>
          <p:cNvPr id="1191" name="Line 28"/>
          <p:cNvSpPr/>
          <p:nvPr/>
        </p:nvSpPr>
        <p:spPr>
          <a:xfrm>
            <a:off x="7261200" y="5372280"/>
            <a:ext cx="484200" cy="971280"/>
          </a:xfrm>
          <a:prstGeom prst="line">
            <a:avLst/>
          </a:prstGeom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Text Box 29"/>
          <p:cNvSpPr/>
          <p:nvPr/>
        </p:nvSpPr>
        <p:spPr>
          <a:xfrm>
            <a:off x="8417160" y="6030000"/>
            <a:ext cx="137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freq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Text Box 30"/>
          <p:cNvSpPr/>
          <p:nvPr/>
        </p:nvSpPr>
        <p:spPr>
          <a:xfrm>
            <a:off x="3837600" y="430812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Text Box 31"/>
          <p:cNvSpPr/>
          <p:nvPr/>
        </p:nvSpPr>
        <p:spPr>
          <a:xfrm>
            <a:off x="7495920" y="2630160"/>
            <a:ext cx="1232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yahoo’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Line 32"/>
          <p:cNvSpPr/>
          <p:nvPr/>
        </p:nvSpPr>
        <p:spPr>
          <a:xfrm flipH="1">
            <a:off x="7875360" y="3133800"/>
            <a:ext cx="301320" cy="573120"/>
          </a:xfrm>
          <a:prstGeom prst="line">
            <a:avLst/>
          </a:prstGeom>
          <a:ln cap="sq" w="1260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Text Box 33"/>
          <p:cNvSpPr/>
          <p:nvPr/>
        </p:nvSpPr>
        <p:spPr>
          <a:xfrm>
            <a:off x="7530480" y="5174280"/>
            <a:ext cx="2017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super-surfer’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Line 34"/>
          <p:cNvSpPr/>
          <p:nvPr/>
        </p:nvSpPr>
        <p:spPr>
          <a:xfrm flipH="1">
            <a:off x="7839000" y="5821200"/>
            <a:ext cx="300240" cy="573120"/>
          </a:xfrm>
          <a:prstGeom prst="line">
            <a:avLst/>
          </a:prstGeom>
          <a:ln cap="sq" w="1260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8" name="Slide Number Placeholder 3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AC6481C-B26E-410B-A20B-ED862D9B50A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01" name="Picture 2" descr="fig1b-nature01a"/>
          <p:cNvPicPr/>
          <p:nvPr/>
        </p:nvPicPr>
        <p:blipFill>
          <a:blip r:embed="rId1"/>
          <a:stretch/>
        </p:blipFill>
        <p:spPr>
          <a:xfrm>
            <a:off x="5124600" y="2100240"/>
            <a:ext cx="4368600" cy="3537000"/>
          </a:xfrm>
          <a:prstGeom prst="rect">
            <a:avLst/>
          </a:prstGeom>
          <a:ln w="0">
            <a:noFill/>
          </a:ln>
        </p:spPr>
      </p:pic>
      <p:sp>
        <p:nvSpPr>
          <p:cNvPr id="1202" name="Text Box 3"/>
          <p:cNvSpPr/>
          <p:nvPr/>
        </p:nvSpPr>
        <p:spPr>
          <a:xfrm>
            <a:off x="6545880" y="-63360"/>
            <a:ext cx="33800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wedish sex-web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Text Box 4"/>
          <p:cNvSpPr/>
          <p:nvPr/>
        </p:nvSpPr>
        <p:spPr>
          <a:xfrm>
            <a:off x="5559480" y="671400"/>
            <a:ext cx="45226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Node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people (Females; Male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Link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sexual relationship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6372720" y="7056360"/>
            <a:ext cx="3699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ljeros et al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ature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6153840" y="5880240"/>
            <a:ext cx="30812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4781 Swedes; 18-74;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59% response rat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6" name="Text Box 7"/>
          <p:cNvSpPr/>
          <p:nvPr/>
        </p:nvSpPr>
        <p:spPr>
          <a:xfrm>
            <a:off x="0" y="993600"/>
            <a:ext cx="507672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lbert Laszlo Barabasi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http://www.nd.edu/~network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Publication%20Categorie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04%20Talks/2005-norway-3hours.pp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Slide Number Placeholder 10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E63BFBC-1AFC-4ABA-B6D0-11054431AF1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otka’s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39520" y="209988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Lotka’s law of publication count); and citation counts: (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citeseer.nj.nec.com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6/2001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12" name="Picture 4" descr="cited-pdf2-pv"/>
          <p:cNvPicPr/>
          <p:nvPr/>
        </p:nvPicPr>
        <p:blipFill>
          <a:blip r:embed="rId1"/>
          <a:stretch/>
        </p:blipFill>
        <p:spPr>
          <a:xfrm>
            <a:off x="2521080" y="3695760"/>
            <a:ext cx="4282920" cy="287172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5"/>
          <p:cNvSpPr/>
          <p:nvPr/>
        </p:nvSpPr>
        <p:spPr>
          <a:xfrm>
            <a:off x="7155000" y="6218640"/>
            <a:ext cx="213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#citation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388080" y="403524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6058800" y="5124600"/>
            <a:ext cx="14871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J. Ullma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6" name="Line 8"/>
          <p:cNvSpPr/>
          <p:nvPr/>
        </p:nvSpPr>
        <p:spPr>
          <a:xfrm flipH="1">
            <a:off x="6384960" y="5796000"/>
            <a:ext cx="84240" cy="419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7" name="Slide Number Placeholder 11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E37CD2E-9B66-4C2A-B6F5-2F76174F54D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Law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and pattern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ower laws for degrees, eigenvalues, </a:t>
            </a:r>
            <a:r>
              <a:rPr b="0" lang="en-US" sz="31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mmunities</a:t>
            </a:r>
            <a:r>
              <a:rPr b="0" lang="en-US" sz="31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/core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mall diameter and shrinking diameter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ow-tie; jelly-fish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densification power law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0161DDE-FC85-47EA-BFF8-8E86B51AF3C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ummary- Generator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eferential attachment (Barabasi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Variations + extension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pying mod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iad-closing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utterfly mod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cursion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–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Kronecker graph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7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F9987DB-72D8-4248-B95D-B92E69FDD7C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Tool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–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rank/frequency plots ~ log-log NCDF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-log PDF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lf-similarity / recursion / fractal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1D65597-C8B5-481A-A3B4-AE05E104679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Tools (cont’d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settings/graphs: skewed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ean’ is meaningles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lope of power law, instead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7" name="Rectangle 4"/>
          <p:cNvSpPr/>
          <p:nvPr/>
        </p:nvSpPr>
        <p:spPr>
          <a:xfrm>
            <a:off x="1644480" y="5106960"/>
            <a:ext cx="1733760" cy="1219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8" name="Freeform 5"/>
          <p:cNvSpPr/>
          <p:nvPr/>
        </p:nvSpPr>
        <p:spPr>
          <a:xfrm>
            <a:off x="1746360" y="5716440"/>
            <a:ext cx="1581120" cy="57636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3104280" y="6454800"/>
            <a:ext cx="12038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965520" y="5030640"/>
            <a:ext cx="104076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2548440" y="5081760"/>
            <a:ext cx="548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??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2" name="Line 9"/>
          <p:cNvSpPr/>
          <p:nvPr/>
        </p:nvSpPr>
        <p:spPr>
          <a:xfrm>
            <a:off x="2664000" y="6275520"/>
            <a:ext cx="0" cy="101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3" name="Text Box 10"/>
          <p:cNvSpPr/>
          <p:nvPr/>
        </p:nvSpPr>
        <p:spPr>
          <a:xfrm>
            <a:off x="2511360" y="6480000"/>
            <a:ext cx="3589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4" name="Rectangle 11"/>
          <p:cNvSpPr/>
          <p:nvPr/>
        </p:nvSpPr>
        <p:spPr>
          <a:xfrm>
            <a:off x="4254480" y="5078520"/>
            <a:ext cx="1731960" cy="12207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5" name="Freeform 12"/>
          <p:cNvSpPr/>
          <p:nvPr/>
        </p:nvSpPr>
        <p:spPr>
          <a:xfrm>
            <a:off x="4376880" y="5194440"/>
            <a:ext cx="1558800" cy="105228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6" name="Text Box 13"/>
          <p:cNvSpPr/>
          <p:nvPr/>
        </p:nvSpPr>
        <p:spPr>
          <a:xfrm>
            <a:off x="3575520" y="5003640"/>
            <a:ext cx="104076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7" name="Line 14"/>
          <p:cNvSpPr/>
          <p:nvPr/>
        </p:nvSpPr>
        <p:spPr>
          <a:xfrm>
            <a:off x="5273640" y="6246720"/>
            <a:ext cx="0" cy="1033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8" name="Text Box 15"/>
          <p:cNvSpPr/>
          <p:nvPr/>
        </p:nvSpPr>
        <p:spPr>
          <a:xfrm>
            <a:off x="5121360" y="6450120"/>
            <a:ext cx="3571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9" name="WordArt 16"/>
          <p:cNvSpPr txBox="1"/>
          <p:nvPr/>
        </p:nvSpPr>
        <p:spPr>
          <a:xfrm>
            <a:off x="1644480" y="4546440"/>
            <a:ext cx="1733760" cy="12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0" name="Slide Number Placeholder 1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650D56E-2323-4083-9B88-988A05815FE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Tools (cont’d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settings/graphs: skewed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ean’ is meaningles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lope of power law, instead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Rectangle 4"/>
          <p:cNvSpPr/>
          <p:nvPr/>
        </p:nvSpPr>
        <p:spPr>
          <a:xfrm>
            <a:off x="1644480" y="5106960"/>
            <a:ext cx="1733760" cy="1219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6" name="Freeform 5"/>
          <p:cNvSpPr/>
          <p:nvPr/>
        </p:nvSpPr>
        <p:spPr>
          <a:xfrm>
            <a:off x="1746360" y="5716440"/>
            <a:ext cx="1581120" cy="57636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7" name="Text Box 6"/>
          <p:cNvSpPr/>
          <p:nvPr/>
        </p:nvSpPr>
        <p:spPr>
          <a:xfrm>
            <a:off x="3104280" y="6454800"/>
            <a:ext cx="12038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965520" y="5030640"/>
            <a:ext cx="104076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Text Box 8"/>
          <p:cNvSpPr/>
          <p:nvPr/>
        </p:nvSpPr>
        <p:spPr>
          <a:xfrm>
            <a:off x="2548440" y="5081760"/>
            <a:ext cx="548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??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0" name="Line 9"/>
          <p:cNvSpPr/>
          <p:nvPr/>
        </p:nvSpPr>
        <p:spPr>
          <a:xfrm>
            <a:off x="2664000" y="6275520"/>
            <a:ext cx="0" cy="101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1" name="Text Box 10"/>
          <p:cNvSpPr/>
          <p:nvPr/>
        </p:nvSpPr>
        <p:spPr>
          <a:xfrm>
            <a:off x="2511360" y="6480000"/>
            <a:ext cx="3589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2" name="Rectangle 11"/>
          <p:cNvSpPr/>
          <p:nvPr/>
        </p:nvSpPr>
        <p:spPr>
          <a:xfrm>
            <a:off x="4254480" y="5078520"/>
            <a:ext cx="1731960" cy="12207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Freeform 12"/>
          <p:cNvSpPr/>
          <p:nvPr/>
        </p:nvSpPr>
        <p:spPr>
          <a:xfrm>
            <a:off x="4376880" y="5194440"/>
            <a:ext cx="1558800" cy="105228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4" name="Text Box 13"/>
          <p:cNvSpPr/>
          <p:nvPr/>
        </p:nvSpPr>
        <p:spPr>
          <a:xfrm>
            <a:off x="3575520" y="5003640"/>
            <a:ext cx="104076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Line 14"/>
          <p:cNvSpPr/>
          <p:nvPr/>
        </p:nvSpPr>
        <p:spPr>
          <a:xfrm>
            <a:off x="5273640" y="6246720"/>
            <a:ext cx="0" cy="1033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Text Box 15"/>
          <p:cNvSpPr/>
          <p:nvPr/>
        </p:nvSpPr>
        <p:spPr>
          <a:xfrm>
            <a:off x="5121360" y="6450120"/>
            <a:ext cx="3571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WordArt 16"/>
          <p:cNvSpPr txBox="1"/>
          <p:nvPr/>
        </p:nvSpPr>
        <p:spPr>
          <a:xfrm>
            <a:off x="1644480" y="4546440"/>
            <a:ext cx="1733760" cy="12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8" name="Rectangle 17"/>
          <p:cNvSpPr/>
          <p:nvPr/>
        </p:nvSpPr>
        <p:spPr>
          <a:xfrm>
            <a:off x="7415280" y="5073480"/>
            <a:ext cx="1731960" cy="12211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Text Box 18"/>
          <p:cNvSpPr/>
          <p:nvPr/>
        </p:nvSpPr>
        <p:spPr>
          <a:xfrm>
            <a:off x="7992000" y="6402240"/>
            <a:ext cx="19216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Times New Roman"/>
              </a:rPr>
              <a:t>log</a:t>
            </a: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(degree)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Text Box 19"/>
          <p:cNvSpPr/>
          <p:nvPr/>
        </p:nvSpPr>
        <p:spPr>
          <a:xfrm>
            <a:off x="7076520" y="4383000"/>
            <a:ext cx="175860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Times New Roman"/>
              </a:rPr>
              <a:t>log</a:t>
            </a: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(count)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Line 20"/>
          <p:cNvSpPr/>
          <p:nvPr/>
        </p:nvSpPr>
        <p:spPr>
          <a:xfrm>
            <a:off x="7746840" y="5281560"/>
            <a:ext cx="1144800" cy="795240"/>
          </a:xfrm>
          <a:prstGeom prst="line">
            <a:avLst/>
          </a:prstGeom>
          <a:ln cap="sq"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Slide Number Placeholder 23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BABB456-FC9E-41D6-8C67-E4EC5DBF413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Tools (cont’d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cursion/self-similarit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ay reveal non-obvious patterns (e.g., bow-ties within bow-ties within bow-ties) [Dill+, ‘01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2824200" y="4268880"/>
            <a:ext cx="3196440" cy="988560"/>
            <a:chOff x="2824200" y="4268880"/>
            <a:chExt cx="3196440" cy="988560"/>
          </a:xfrm>
        </p:grpSpPr>
        <p:sp>
          <p:nvSpPr>
            <p:cNvPr id="1278" name="Oval 5"/>
            <p:cNvSpPr/>
            <p:nvPr/>
          </p:nvSpPr>
          <p:spPr>
            <a:xfrm>
              <a:off x="3865320" y="4312800"/>
              <a:ext cx="1149480" cy="9169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824200" y="4268880"/>
              <a:ext cx="1007640" cy="967680"/>
            </a:xfrm>
            <a:prstGeom prst="pie">
              <a:avLst/>
            </a:prstGeom>
            <a:noFill/>
            <a:ln cap="sq"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0" name="Freeform 7"/>
            <p:cNvSpPr/>
            <p:nvPr/>
          </p:nvSpPr>
          <p:spPr>
            <a:xfrm flipH="1">
              <a:off x="5012640" y="4289760"/>
              <a:ext cx="1007640" cy="967680"/>
            </a:xfrm>
            <a:prstGeom prst="pie">
              <a:avLst/>
            </a:prstGeom>
            <a:noFill/>
            <a:ln cap="sq"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81" name="Group 8"/>
          <p:cNvGrpSpPr/>
          <p:nvPr/>
        </p:nvGrpSpPr>
        <p:grpSpPr>
          <a:xfrm>
            <a:off x="3184560" y="4584600"/>
            <a:ext cx="2445840" cy="303120"/>
            <a:chOff x="3184560" y="4584600"/>
            <a:chExt cx="2445840" cy="303120"/>
          </a:xfrm>
        </p:grpSpPr>
        <p:sp>
          <p:nvSpPr>
            <p:cNvPr id="1282" name="Oval 9"/>
            <p:cNvSpPr/>
            <p:nvPr/>
          </p:nvSpPr>
          <p:spPr>
            <a:xfrm>
              <a:off x="3981240" y="4597920"/>
              <a:ext cx="879480" cy="2815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3" name="Freeform 10"/>
            <p:cNvSpPr/>
            <p:nvPr/>
          </p:nvSpPr>
          <p:spPr>
            <a:xfrm>
              <a:off x="3184560" y="4584600"/>
              <a:ext cx="771120" cy="297000"/>
            </a:xfrm>
            <a:prstGeom prst="pie">
              <a:avLst/>
            </a:prstGeom>
            <a:noFill/>
            <a:ln cap="sq"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4" name="Freeform 11"/>
            <p:cNvSpPr/>
            <p:nvPr/>
          </p:nvSpPr>
          <p:spPr>
            <a:xfrm flipH="1">
              <a:off x="4859280" y="4590720"/>
              <a:ext cx="771120" cy="297000"/>
            </a:xfrm>
            <a:prstGeom prst="pie">
              <a:avLst/>
            </a:prstGeom>
            <a:noFill/>
            <a:ln cap="sq"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85" name="Text Box 12"/>
          <p:cNvSpPr/>
          <p:nvPr/>
        </p:nvSpPr>
        <p:spPr>
          <a:xfrm>
            <a:off x="843120" y="5727960"/>
            <a:ext cx="858492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 iterate is human, to recurse is divine”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Slide Number Placeholder 15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C20E51A-B8A4-4D67-9652-2FF115627DA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sourc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89218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Kronecker (christos@cs.cmu.edu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RITE  http://www.cs.bu.edu/brite/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ET: http://topology.eecs.umich.edu/ine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0E434EC-CB1C-441C-9609-EC09873B3E9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s Faloutsos</dc:creator>
  <dc:description/>
  <dc:language>en-US</dc:language>
  <cp:lastModifiedBy>Hanghang Tong</cp:lastModifiedBy>
  <cp:lastPrinted>2006-04-11T04:11:47Z</cp:lastPrinted>
  <dcterms:modified xsi:type="dcterms:W3CDTF">2009-02-19T03:31:26Z</dcterms:modified>
  <cp:revision>175</cp:revision>
  <dc:subject/>
  <dc:title>graph mining - part1</dc:title>
</cp:coreProperties>
</file>