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4.xml.rels" ContentType="application/vnd.openxmlformats-package.relationships+xml"/>
  <Override PartName="/ppt/notesSlides/notesSlide94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9.png" ContentType="image/png"/>
  <Override PartName="/ppt/media/image32.wmf" ContentType="image/x-wmf"/>
  <Override PartName="/ppt/media/image27.png" ContentType="image/png"/>
  <Override PartName="/ppt/media/image30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45.jpeg" ContentType="image/jpe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.jpeg" ContentType="image/jpeg"/>
  <Override PartName="/ppt/media/image18.wmf" ContentType="image/x-wmf"/>
  <Override PartName="/ppt/media/image26.png" ContentType="image/png"/>
  <Override PartName="/ppt/media/image6.jpeg" ContentType="image/jpeg"/>
  <Override PartName="/ppt/media/image28.wmf" ContentType="image/x-wmf"/>
  <Override PartName="/ppt/media/image10.png" ContentType="image/png"/>
  <Override PartName="/ppt/media/image35.jpeg" ContentType="image/jpeg"/>
  <Override PartName="/ppt/media/image34.png" ContentType="image/png"/>
  <Override PartName="/ppt/media/image12.png" ContentType="image/png"/>
  <Override PartName="/ppt/media/image36.png" ContentType="image/png"/>
  <Override PartName="/ppt/media/image37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4.png" ContentType="image/png"/>
  <Override PartName="/ppt/media/image46.jpeg" ContentType="image/jpeg"/>
  <Override PartName="/ppt/media/image43.png" ContentType="image/png"/>
  <Override PartName="/ppt/media/image47.jpeg" ContentType="image/jpeg"/>
  <Override PartName="/ppt/media/image8.jpeg" ContentType="image/jpeg"/>
  <Override PartName="/ppt/media/image38.png" ContentType="image/png"/>
  <Override PartName="/ppt/media/image13.png" ContentType="image/png"/>
  <Override PartName="/ppt/media/image9.jpeg" ContentType="image/jpeg"/>
  <Override PartName="/ppt/media/image48.png" ContentType="image/png"/>
  <Override PartName="/ppt/media/image11.png" ContentType="image/png"/>
  <Override PartName="/ppt/media/image7.jpeg" ContentType="image/jpeg"/>
  <Override PartName="/ppt/media/image5.jpeg" ContentType="image/jpeg"/>
  <Override PartName="/ppt/media/image20.wmf" ContentType="image/x-wmf"/>
  <Override PartName="/ppt/media/image40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</p:sldIdLst>
  <p:sldSz cx="10080625" cy="7559675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1116000" y="4570560"/>
            <a:ext cx="5089680" cy="365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Img"/>
          </p:nvPr>
        </p:nvSpPr>
        <p:spPr>
          <a:xfrm>
            <a:off x="1257480" y="729360"/>
            <a:ext cx="4799880" cy="3600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9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basically our main contribution: “wake up, you *can* do dimensionality reduction incrementally, in real-time”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373-42E8-469E-9B31-683E39D97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9638-6228-42A3-98E5-842DAA81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5CB4-4A37-401E-A661-02545E8C57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5292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50560" y="218448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5564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5292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50560" y="4553640"/>
            <a:ext cx="27590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674-EB78-4DFA-B203-30B6C5199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4936-23B8-4592-8E26-AA55528F0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AA63-3967-435C-B556-5C6E5C1F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F5E9-5C9A-4DFC-992B-9AE7A8BF4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46A6-DC7F-4413-8A1E-B0F350F7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55640" y="671400"/>
            <a:ext cx="856944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BCBD-43EA-43C9-A88F-B8B046A97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56DE-02EE-49C9-97E0-2FAD394B5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46920" y="455364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9A4E-71D1-4F49-ABB1-1BD70827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46920" y="2184480"/>
            <a:ext cx="418176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55640" y="4553640"/>
            <a:ext cx="8569440" cy="216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BE4C-C7C8-476E-A082-AA579F82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3" marL="176364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4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5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6" marL="2268360" indent="-252360">
              <a:spcBef>
                <a:spcPts val="876"/>
              </a:spcBef>
              <a:buClr>
                <a:srgbClr val="000066"/>
              </a:buClr>
              <a:buFont typeface="Times New Roman"/>
              <a:buChar char="»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56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888240"/>
            <a:ext cx="31910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840" y="6888240"/>
            <a:ext cx="2100240" cy="503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lstStyle>
            <a:lvl1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  <a:defRPr b="0" lang="en-US" sz="15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fld id="{28C14C68-D6C0-4D2C-AA47-42AC54C78D5F}" type="slidenum">
              <a:rPr b="0" lang="en-US" sz="15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44280" y="0"/>
          <a:ext cx="522360" cy="54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4280" y="0"/>
                    <a:ext cx="522360" cy="54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685440" y="1800"/>
            <a:ext cx="938520" cy="2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1300" spc="-1" strike="noStrike">
                <a:solidFill>
                  <a:srgbClr val="990000"/>
                </a:solidFill>
                <a:latin typeface="Times New Roman"/>
              </a:rPr>
              <a:t>CMU SCS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hyperlink" Target="http://www.cs.cmu.edu/~christos" TargetMode="External"/><Relationship Id="rId2" Type="http://schemas.openxmlformats.org/officeDocument/2006/relationships/hyperlink" Target="http://www.db.cs.cmu.edu/" TargetMode="External"/><Relationship Id="rId3" Type="http://schemas.openxmlformats.org/officeDocument/2006/relationships/hyperlink" Target="http://www.db.cs.cmu.edu/" TargetMode="External"/><Relationship Id="rId4" Type="http://schemas.openxmlformats.org/officeDocument/2006/relationships/hyperlink" Target="http://www.db.cs.cmu.edu/" TargetMode="External"/><Relationship Id="rId5" Type="http://schemas.openxmlformats.org/officeDocument/2006/relationships/oleObject" Target="../embeddings/oleObject1.bin"/><Relationship Id="rId6" Type="http://schemas.openxmlformats.org/officeDocument/2006/relationships/image" Target="../media/image48.png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8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png"/><Relationship Id="rId7" Type="http://schemas.openxmlformats.org/officeDocument/2006/relationships/slideLayout" Target="../slideLayouts/slideLayout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0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1.png"/><Relationship Id="rId7" Type="http://schemas.openxmlformats.org/officeDocument/2006/relationships/slideLayout" Target="../slideLayouts/slideLayout5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5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3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44.png"/><Relationship Id="rId7" Type="http://schemas.openxmlformats.org/officeDocument/2006/relationships/slideLayout" Target="../slideLayouts/slideLayout5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6.jpeg"/><Relationship Id="rId6" Type="http://schemas.openxmlformats.org/officeDocument/2006/relationships/image" Target="../media/image46.jpeg"/><Relationship Id="rId7" Type="http://schemas.openxmlformats.org/officeDocument/2006/relationships/slideLayout" Target="../slideLayouts/slideLayout5.xml"/><Relationship Id="rId8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image" Target="../media/image46.jpeg"/><Relationship Id="rId4" Type="http://schemas.openxmlformats.org/officeDocument/2006/relationships/image" Target="../media/image46.jpeg"/><Relationship Id="rId5" Type="http://schemas.openxmlformats.org/officeDocument/2006/relationships/image" Target="../media/image47.jpeg"/><Relationship Id="rId6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1967040"/>
            <a:ext cx="8569440" cy="2001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5500" spc="-1" strike="noStrike">
                <a:solidFill>
                  <a:srgbClr val="a50021"/>
                </a:solidFill>
                <a:latin typeface="Times New Roman"/>
              </a:rPr>
              <a:t>Finding patterns in large, real networks</a:t>
            </a:r>
            <a:endParaRPr b="0" lang="en-US" sz="5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773280" y="4268520"/>
            <a:ext cx="8610480" cy="1979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hristos Faloutsos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CMU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a50021"/>
                </a:solidFill>
                <a:latin typeface="Times New Roman"/>
              </a:rPr>
              <a:t>Laws – degree distributions</a:t>
            </a:r>
            <a:endParaRPr b="0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avg degree is ~2 - what is the most probable degre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016000" y="3359160"/>
            <a:ext cx="2855880" cy="201600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184480" y="4367160"/>
            <a:ext cx="2603520" cy="952560"/>
          </a:xfrm>
          <a:custGeom>
            <a:avLst/>
            <a:gdLst/>
            <a:ahLst/>
            <a:rect l="l" t="t" r="r" b="b"/>
            <a:pathLst>
              <a:path w="1488" h="544">
                <a:moveTo>
                  <a:pt x="0" y="528"/>
                </a:moveTo>
                <a:cubicBezTo>
                  <a:pt x="136" y="536"/>
                  <a:pt x="272" y="544"/>
                  <a:pt x="384" y="480"/>
                </a:cubicBezTo>
                <a:cubicBezTo>
                  <a:pt x="496" y="416"/>
                  <a:pt x="584" y="224"/>
                  <a:pt x="672" y="144"/>
                </a:cubicBezTo>
                <a:cubicBezTo>
                  <a:pt x="760" y="64"/>
                  <a:pt x="840" y="0"/>
                  <a:pt x="912" y="0"/>
                </a:cubicBezTo>
                <a:cubicBezTo>
                  <a:pt x="984" y="0"/>
                  <a:pt x="1048" y="72"/>
                  <a:pt x="1104" y="144"/>
                </a:cubicBezTo>
                <a:cubicBezTo>
                  <a:pt x="1160" y="216"/>
                  <a:pt x="1184" y="368"/>
                  <a:pt x="1248" y="432"/>
                </a:cubicBezTo>
                <a:cubicBezTo>
                  <a:pt x="1312" y="496"/>
                  <a:pt x="1400" y="512"/>
                  <a:pt x="1488" y="528"/>
                </a:cubicBezTo>
              </a:path>
            </a:pathLst>
          </a:custGeom>
          <a:noFill/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33040" y="5589720"/>
            <a:ext cx="1083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gre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3960" y="3236760"/>
            <a:ext cx="938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oun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8560" y="3321000"/>
            <a:ext cx="495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?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95760" y="5291280"/>
            <a:ext cx="0" cy="1681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444840" y="5627520"/>
            <a:ext cx="587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DA241-C24B-4BF3-8D27-78E2A804384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Aiello+, '00] William Aiello, Fan R. K. Chung, Linyuan Lu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A random graph model for massive graph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STOC 2000: 171-180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Albert+] Reka Albert, Hawoong Jeong, and Albert-Laszlo Barabasi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Diameter of the World Wide Web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Nature 401 130-131 (1999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Barabasi, '03] Albert-Laszlo Barabasi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Linked: How Everything Is Connected to Everything Else and What It Mean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(Plume, 2003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BEE6-2E19-46BA-8871-2283C76A5D5F}" type="slidenum">
              <a:t>10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Barabasi+, '99] Albert-Laszlo Barabasi and Reka Albert.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Emergence of scaling in random network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Science, 286:509--512, 1999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Broder+, '00] Andrei Broder, Ravi Kumar, Farzin Maghoul, Prabhakar Raghavan, Sridhar Rajagopalan, Raymie Stata, Andrew Tomkins, and Janet Wiener.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Graph structure in the web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WWW, 2000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AE79-BEB5-461D-8C4D-1B94427B0708}" type="slidenum">
              <a:t>10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Chakrabarti+, ‘04]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 RMAT: A recursive graph generator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D. Chakrabarti, Y. Zhan, C. Faloutsos, SIAM-DM 2004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Dill+, '01] Stephen Dill, Ravi Kumar, Kevin S. McCurley, Sridhar Rajagopalan, D. Sivakumar, Andrew Tomkins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Self-similarity in the Web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VLDB 2001: 69-78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7D5-C32D-4F60-87E6-4EB74894BF9C}" type="slidenum">
              <a:t>10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Fabrikant+, '02] A. Fabrikant, E. Koutsoupias, and C.H. Papadimitriou. 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Heuristically Optimized Trade-offs: A New Paradigm for Power Laws in the Internet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ICALP, Malaga, Spain, July 200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FFF, 99] M. Faloutsos, P. Faloutsos, and C. Faloutsos, "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On power-law relationships of the Internet topology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" in SIGCOMM, 1999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E277-93EE-43AC-B459-AF1B1B8D4F96}" type="slidenum">
              <a:t>10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Leskovec+05a] Jure Leskovec, Jon Kleinberg and Christos Faloutsos  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Graphs over Time: Densification Laws, Shrinking Diameters and Possible Explanation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  KDD 2005, Chicago, IL</a:t>
            </a: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.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Best research paper award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Leskovec+05b] Jure Leskovec, Deepayan Chakrabarti, Jon Kleinberg and Christos Faloutsos,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Realistic, Mathematically Tractable Graph Generation and Evolution, Using Kronecker Multiplication,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CML/PKDD 2005, Porto, Portugal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6113-FDCC-4598-A807-4B7F7C542981}" type="slidenum">
              <a:t>10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Jovanovic+, '01] M. Jovanovic, F.S. Annexstein, and K.A. Berman. 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odeling Peer-to-Peer Network Topologies through "Small-World" Models and Power Law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In TELFOR, Belgrade, Yugoslavia, November, 2001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Kumar+ '99] Ravi Kumar, Prabhakar Raghavan, Sridhar Rajagopalan, Andrew Tomkins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Extracting Large-Scale Knowledge Bases from the Web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 VLDB 1999: 639-650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A099-3771-46B2-8899-3B69AD97EDBC}" type="slidenum">
              <a:t>10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Leland+, '94] W. E. Leland, M.S. Taqqu,  W. Willinger, D.V. Wilson, 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On the Self-Similar Nature of Ethernet Traffic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IEEE Transactions on Networking, 2, 1, pp 1-15, Feb. 1994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Mihail+, '02] Milena Mihail, Christos H. Papadimitriou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On the Eigenvalue Power Law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RANDOM 2002: 254-26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6043-F55E-4A69-8C8E-F612E248E80B}" type="slidenum">
              <a:t>10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Milgram '67] Stanley Milgram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The Small World Problem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Psychology Today 1(1), 60-67 (1967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Montgomery+, ‘01] Alan L. Montgomery, Christos Faloutsos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Identifying Web Browsing Trends and Pattern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. IEEE Computer  34(7): 94-95 (2001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3C97-2CC2-4297-A652-862AC1E083FA}" type="slidenum">
              <a:t>10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Palmer+, ‘01] Chris Palmer, Georgos Siganos, Michalis Faloutsos, Christos Faloutsos and Phil Gibbons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The connectivity and fault-tolerance of the Internet topology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(NRDM 2001), Santa Barbara, CA, May 25, 2001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Papadimitriou+,’05] Spiros Papadimitriou, Jimeng Sun and Christos Faloutsos 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Streaming Pattern Discovery in Multiple Time-Serie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 VLDB 2005, Trondheim, Norwa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239F-BF8F-435E-AF31-693330858FFB}" type="slidenum">
              <a:t>10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Pennock+, '02] David M. Pennock, Gary William Flake, Steve Lawrence, Eric J. Glover, C. Lee Giles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Winners don't take all: Characterizing the competition for links on the web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Proc. Natl. Acad. Sci. USA 99(8): 5207-5211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(2002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Schroeder, ‘91] Manfred Schroeder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Fractals, Chaos, Power Laws: Minutes from an Infinite Paradise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W H Freeman &amp; Co., 1991 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(excellent book on fractals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80880" y="4114800"/>
            <a:ext cx="381240" cy="228600"/>
          </a:xfrm>
          <a:prstGeom prst="rightArrow">
            <a:avLst>
              <a:gd name="adj1" fmla="val 50000"/>
              <a:gd name="adj2" fmla="val 41693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2CDA-6F31-4DD3-BAAD-DA2060D83F65}" type="slidenum">
              <a:t>10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a50021"/>
                </a:solidFill>
                <a:latin typeface="Times New Roman"/>
              </a:rPr>
              <a:t>Laws – degree distributions</a:t>
            </a:r>
            <a:endParaRPr b="0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avg degree is ~2 - what is the most probable degre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733600" y="5543640"/>
            <a:ext cx="1083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gre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903960" y="2435400"/>
            <a:ext cx="8270280" cy="3690360"/>
            <a:chOff x="903960" y="2435400"/>
            <a:chExt cx="8270280" cy="3690360"/>
          </a:xfrm>
        </p:grpSpPr>
        <p:grpSp>
          <p:nvGrpSpPr>
            <p:cNvPr id="94" name=""/>
            <p:cNvGrpSpPr/>
            <p:nvPr/>
          </p:nvGrpSpPr>
          <p:grpSpPr>
            <a:xfrm>
              <a:off x="903960" y="3236760"/>
              <a:ext cx="4611600" cy="2889000"/>
              <a:chOff x="903960" y="3236760"/>
              <a:chExt cx="4611600" cy="2889000"/>
            </a:xfrm>
          </p:grpSpPr>
          <p:sp>
            <p:nvSpPr>
              <p:cNvPr id="95" name=""/>
              <p:cNvSpPr/>
              <p:nvPr/>
            </p:nvSpPr>
            <p:spPr>
              <a:xfrm>
                <a:off x="2016000" y="3359160"/>
                <a:ext cx="2856240" cy="2017080"/>
              </a:xfrm>
              <a:prstGeom prst="rect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2183760" y="4367880"/>
                <a:ext cx="2604240" cy="952560"/>
              </a:xfrm>
              <a:custGeom>
                <a:avLst/>
                <a:gdLst/>
                <a:ahLst/>
                <a:rect l="l" t="t" r="r" b="b"/>
                <a:pathLst>
                  <a:path w="1488" h="544">
                    <a:moveTo>
                      <a:pt x="0" y="528"/>
                    </a:moveTo>
                    <a:cubicBezTo>
                      <a:pt x="136" y="536"/>
                      <a:pt x="272" y="544"/>
                      <a:pt x="384" y="480"/>
                    </a:cubicBezTo>
                    <a:cubicBezTo>
                      <a:pt x="496" y="416"/>
                      <a:pt x="584" y="224"/>
                      <a:pt x="672" y="144"/>
                    </a:cubicBezTo>
                    <a:cubicBezTo>
                      <a:pt x="760" y="64"/>
                      <a:pt x="840" y="0"/>
                      <a:pt x="912" y="0"/>
                    </a:cubicBezTo>
                    <a:cubicBezTo>
                      <a:pt x="984" y="0"/>
                      <a:pt x="1048" y="72"/>
                      <a:pt x="1104" y="144"/>
                    </a:cubicBezTo>
                    <a:cubicBezTo>
                      <a:pt x="1160" y="216"/>
                      <a:pt x="1184" y="368"/>
                      <a:pt x="1248" y="432"/>
                    </a:cubicBezTo>
                    <a:cubicBezTo>
                      <a:pt x="1312" y="496"/>
                      <a:pt x="1400" y="512"/>
                      <a:pt x="1488" y="528"/>
                    </a:cubicBezTo>
                  </a:path>
                </a:pathLst>
              </a:custGeom>
              <a:noFill/>
              <a:ln w="381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32320" y="5590080"/>
                <a:ext cx="108324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600" spc="-1" strike="noStrike">
                    <a:solidFill>
                      <a:srgbClr val="000066"/>
                    </a:solidFill>
                    <a:latin typeface="Times New Roman"/>
                  </a:rPr>
                  <a:t>degree</a:t>
                </a:r>
                <a:endParaRPr b="0" lang="en-US" sz="2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3960" y="3236760"/>
                <a:ext cx="93852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600" spc="-1" strike="noStrike">
                    <a:solidFill>
                      <a:srgbClr val="000066"/>
                    </a:solidFill>
                    <a:latin typeface="Times New Roman"/>
                  </a:rPr>
                  <a:t>count</a:t>
                </a:r>
                <a:endParaRPr b="0" lang="en-US" sz="2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509280" y="3320640"/>
                <a:ext cx="49500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600" spc="-1" strike="noStrike">
                    <a:solidFill>
                      <a:srgbClr val="000066"/>
                    </a:solidFill>
                    <a:latin typeface="Times New Roman"/>
                  </a:rPr>
                  <a:t>??</a:t>
                </a:r>
                <a:endParaRPr b="0" lang="en-US" sz="2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696120" y="5292360"/>
                <a:ext cx="0" cy="1677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444120" y="5628600"/>
                <a:ext cx="587880" cy="49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0" rIns="100800" tIns="50400" bIns="50400" anchor="t">
                <a:spAutoFit/>
              </a:bodyPr>
              <a:p>
                <a:pPr>
                  <a:spcBef>
                    <a:spcPts val="1624"/>
                  </a:spcBef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600" spc="-1" strike="noStrike">
                    <a:solidFill>
                      <a:srgbClr val="ff3300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02" name=""/>
            <p:cNvSpPr/>
            <p:nvPr/>
          </p:nvSpPr>
          <p:spPr>
            <a:xfrm>
              <a:off x="6318360" y="3314880"/>
              <a:ext cx="2855880" cy="2016000"/>
            </a:xfrm>
            <a:prstGeom prst="rect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9960" y="3505320"/>
              <a:ext cx="2570040" cy="1741320"/>
            </a:xfrm>
            <a:custGeom>
              <a:avLst/>
              <a:gdLst/>
              <a:ahLst/>
              <a:rect l="l" t="t" r="r" b="b"/>
              <a:pathLst>
                <a:path w="1469" h="995">
                  <a:moveTo>
                    <a:pt x="0" y="0"/>
                  </a:moveTo>
                  <a:cubicBezTo>
                    <a:pt x="62" y="121"/>
                    <a:pt x="234" y="561"/>
                    <a:pt x="374" y="717"/>
                  </a:cubicBezTo>
                  <a:cubicBezTo>
                    <a:pt x="514" y="873"/>
                    <a:pt x="706" y="891"/>
                    <a:pt x="841" y="935"/>
                  </a:cubicBezTo>
                  <a:cubicBezTo>
                    <a:pt x="976" y="979"/>
                    <a:pt x="1079" y="972"/>
                    <a:pt x="1184" y="982"/>
                  </a:cubicBezTo>
                  <a:cubicBezTo>
                    <a:pt x="1289" y="992"/>
                    <a:pt x="1410" y="992"/>
                    <a:pt x="1469" y="995"/>
                  </a:cubicBezTo>
                </a:path>
              </a:pathLst>
            </a:custGeom>
            <a:noFill/>
            <a:ln w="381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07040" y="3192480"/>
              <a:ext cx="93852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count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997760" y="5246640"/>
              <a:ext cx="0" cy="1684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45400" y="5581800"/>
              <a:ext cx="588960" cy="49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ff33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" name=""/>
            <p:cNvSpPr txBox="1"/>
            <p:nvPr/>
          </p:nvSpPr>
          <p:spPr>
            <a:xfrm>
              <a:off x="2016000" y="2435400"/>
              <a:ext cx="2855880" cy="2057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scadeUp">
                <a:avLst>
                  <a:gd name="adj" fmla="val 44444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e701"/>
                      </a:gs>
                      <a:gs pos="100000">
                        <a:srgbClr val="fe3e02"/>
                      </a:gs>
                    </a:gsLst>
                    <a:lin ang="5400000"/>
                  </a:gradFill>
                  <a:latin typeface="Impact"/>
                </a:rPr>
                <a:t>WRONG !</a:t>
              </a:r>
              <a:endPara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BE01-B059-4223-AD71-3BA400A4EFD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s, cont’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Siganos+, '03] G. Siganos, M. Faloutsos, P. Faloutsos, C. Faloutsos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Power-Laws and the AS-level Internet Topology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Transactions on Networking, August 2003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Wang+03] Yang Wang, Deepayan Chakrabarti, Chenxi Wang and Christos Faloutsos: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Epidemic Spreading in Real Networks: an Eigenvalue Viewpoint,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SRDS 2003, Florence, Italy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C805-841A-4185-A7EE-A1F3D33FB31B}" type="slidenum">
              <a:t>1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Referenc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Watts+ Strogatz, '98] D. J. Watts and S. H. Strogatz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Collective dynamics of 'small-world' networks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Nature, 393:440-442 (1998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 algn="ctr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Watts, '03] Duncan J. Watts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Six Degrees: The Science of a Connected Age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W.W. Norton &amp; Company; (February 2003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66CB-3C46-4FC1-9BEE-8852E2941F91}" type="slidenum">
              <a:t>1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hank you!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3732120" y="2184480"/>
            <a:ext cx="5592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3366ff"/>
                </a:solidFill>
                <a:uFillTx/>
                <a:latin typeface="Times New Roman"/>
                <a:hlinkClick r:id="rId1"/>
              </a:rPr>
              <a:t>www.cs.cmu.edu/~christo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 u="sng">
                <a:solidFill>
                  <a:srgbClr val="3366ff"/>
                </a:solidFill>
                <a:uFillTx/>
                <a:latin typeface="Times New Roman"/>
                <a:hlinkClick r:id="rId2"/>
              </a:rPr>
              <a:t>www.</a:t>
            </a:r>
            <a:r>
              <a:rPr b="0" lang="en-US" sz="3500" spc="-1" strike="noStrike" u="sng">
                <a:solidFill>
                  <a:srgbClr val="3366ff"/>
                </a:solidFill>
                <a:uFillTx/>
                <a:latin typeface="Times New Roman"/>
                <a:hlinkClick r:id="rId3"/>
              </a:rPr>
              <a:t>db</a:t>
            </a:r>
            <a:r>
              <a:rPr b="0" lang="en-US" sz="3500" spc="-1" strike="noStrike" u="sng">
                <a:solidFill>
                  <a:srgbClr val="3366ff"/>
                </a:solidFill>
                <a:uFillTx/>
                <a:latin typeface="Times New Roman"/>
                <a:hlinkClick r:id="rId4"/>
              </a:rPr>
              <a:t>.cs.cmu.edu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987" name=""/>
          <p:cNvGraphicFramePr/>
          <p:nvPr/>
        </p:nvGraphicFramePr>
        <p:xfrm>
          <a:off x="1422360" y="2286000"/>
          <a:ext cx="1625760" cy="182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8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22360" y="2286000"/>
                    <a:ext cx="1625760" cy="18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AA11-B34A-4C19-8072-CC77E531F2CA}" type="slidenum">
              <a:t>1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13960" y="420840"/>
            <a:ext cx="9029880" cy="12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I.Power-law: outdegree </a:t>
            </a:r>
            <a:r>
              <a:rPr b="0" i="1" lang="en-US" sz="4900" spc="-1" strike="noStrike">
                <a:solidFill>
                  <a:srgbClr val="a50021"/>
                </a:solidFill>
                <a:latin typeface="Times New Roman"/>
              </a:rPr>
              <a:t>O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31720" y="5708160"/>
            <a:ext cx="7872120" cy="768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56000"/>
          </a:bodyPr>
          <a:p>
            <a:pPr marL="21168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e plot is linear in log-log</a:t>
            </a:r>
            <a:r>
              <a:rPr b="0" lang="en-GB" sz="3500" spc="-1" strike="noStrike">
                <a:solidFill>
                  <a:srgbClr val="000066"/>
                </a:solidFill>
                <a:latin typeface="Times New Roman"/>
              </a:rPr>
              <a:t> scale [FFF’99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21168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GB" sz="3500" spc="-1" strike="noStrike">
                <a:solidFill>
                  <a:srgbClr val="000066"/>
                </a:solidFill>
                <a:latin typeface="Times New Roman"/>
              </a:rPr>
              <a:t>freq = degree </a:t>
            </a:r>
            <a:r>
              <a:rPr b="0" i="1" lang="en-GB" sz="3500" spc="-1" strike="noStrike" baseline="30000">
                <a:solidFill>
                  <a:srgbClr val="ff0000"/>
                </a:solidFill>
                <a:latin typeface="Times New Roman"/>
              </a:rPr>
              <a:t>(-2.15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803680" y="2154240"/>
            <a:ext cx="4473360" cy="325116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779600" y="2948040"/>
            <a:ext cx="1519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O = -2.15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290360" y="2440080"/>
            <a:ext cx="252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xponent = slop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75120" y="5232240"/>
            <a:ext cx="15800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Outdegre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28160" y="2271600"/>
            <a:ext cx="15998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Frequenc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975080" y="4554360"/>
            <a:ext cx="1215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Nov’97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59480" y="3701880"/>
            <a:ext cx="1143000" cy="0"/>
          </a:xfrm>
          <a:prstGeom prst="line">
            <a:avLst/>
          </a:prstGeom>
          <a:ln cap="sq"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659480" y="3701880"/>
            <a:ext cx="838080" cy="687600"/>
          </a:xfrm>
          <a:prstGeom prst="line">
            <a:avLst/>
          </a:prstGeom>
          <a:ln cap="sq"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4967640" y="3395520"/>
            <a:ext cx="300960" cy="612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cap="sq"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7960" y="3693960"/>
            <a:ext cx="925920" cy="5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-2.15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EDD6-BBD4-437A-926C-67DCC96415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500" spc="-1" strike="noStrike">
                <a:solidFill>
                  <a:srgbClr val="a50021"/>
                </a:solidFill>
                <a:latin typeface="Times New Roman"/>
              </a:rPr>
              <a:t>II.Power-law: rank </a:t>
            </a:r>
            <a:r>
              <a:rPr b="0" i="1" lang="en-US" sz="4500" spc="-1" strike="noStrike">
                <a:solidFill>
                  <a:srgbClr val="a50021"/>
                </a:solidFill>
                <a:latin typeface="Times New Roman"/>
              </a:rPr>
              <a:t>R</a:t>
            </a:r>
            <a:endParaRPr b="0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12320" y="5869080"/>
            <a:ext cx="8566200" cy="1147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e plot is a line in log-log</a:t>
            </a:r>
            <a:r>
              <a:rPr b="0" lang="en-US" sz="3900" spc="-1" strike="noStrike">
                <a:solidFill>
                  <a:srgbClr val="000066"/>
                </a:solidFill>
                <a:latin typeface="Times New Roman"/>
              </a:rPr>
              <a:t> scale</a:t>
            </a:r>
            <a:endParaRPr b="0" lang="en-US" sz="3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19560" y="4330800"/>
            <a:ext cx="1433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 rot="9554400">
            <a:off x="5767560" y="3793680"/>
            <a:ext cx="1067400" cy="2310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3244" y="280"/>
                </a:moveTo>
                <a:arcTo wR="10800" hR="10800" stAng="-4615204" swAng="2036049"/>
                <a:lnTo>
                  <a:pt x="10800" y="10800"/>
                </a:lnTo>
                <a:close/>
              </a:path>
              <a:path fill="none" w="21600" h="21600">
                <a:moveTo>
                  <a:pt x="13244" y="280"/>
                </a:moveTo>
                <a:arcTo wR="10800" hR="10800" stAng="-4615204" swAng="2036049"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59440" y="3735360"/>
            <a:ext cx="4050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75720" y="5311800"/>
            <a:ext cx="65156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marL="503280" indent="-5032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Rank: </a:t>
            </a:r>
            <a:r>
              <a:rPr b="0" lang="en-GB" sz="2600" spc="-1" strike="noStrike">
                <a:solidFill>
                  <a:srgbClr val="000066"/>
                </a:solidFill>
                <a:latin typeface="Times New Roman"/>
              </a:rPr>
              <a:t>nodes  in 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creasing degree order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998120" y="2438280"/>
            <a:ext cx="1342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April’98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1235160" y="1782720"/>
            <a:ext cx="7399080" cy="3322440"/>
            <a:chOff x="1235160" y="1782720"/>
            <a:chExt cx="7399080" cy="3322440"/>
          </a:xfrm>
        </p:grpSpPr>
        <p:sp>
          <p:nvSpPr>
            <p:cNvPr id="128" name=""/>
            <p:cNvSpPr/>
            <p:nvPr/>
          </p:nvSpPr>
          <p:spPr>
            <a:xfrm>
              <a:off x="2841840" y="2143440"/>
              <a:ext cx="4445280" cy="296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2841840" y="2143440"/>
              <a:ext cx="4445280" cy="29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2841840" y="2143440"/>
              <a:ext cx="4445280" cy="296172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16640" y="4448520"/>
              <a:ext cx="1317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log(rank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235160" y="2267640"/>
              <a:ext cx="1589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66"/>
                  </a:solidFill>
                  <a:latin typeface="Times New Roman"/>
                </a:rPr>
                <a:t>log(degree)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3435120" y="2358360"/>
              <a:ext cx="3258360" cy="1899360"/>
              <a:chOff x="3435120" y="2358360"/>
              <a:chExt cx="3258360" cy="1899360"/>
            </a:xfrm>
          </p:grpSpPr>
          <p:sp>
            <p:nvSpPr>
              <p:cNvPr id="134" name=""/>
              <p:cNvSpPr/>
              <p:nvPr/>
            </p:nvSpPr>
            <p:spPr>
              <a:xfrm flipH="1" flipV="1">
                <a:off x="3435120" y="2358360"/>
                <a:ext cx="3186000" cy="18993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842720" y="3132000"/>
                <a:ext cx="51876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582160" y="3203640"/>
                <a:ext cx="1111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-0.82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 flipH="1">
              <a:off x="3567600" y="2143440"/>
              <a:ext cx="304920" cy="1018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200840" y="1782720"/>
              <a:ext cx="1316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att.com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3263040" y="2551320"/>
              <a:ext cx="304920" cy="4078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45000" y="3006360"/>
              <a:ext cx="1492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8000"/>
                  </a:solidFill>
                  <a:latin typeface="Times New Roman"/>
                </a:rPr>
                <a:t>ibm.com</a:t>
              </a:r>
              <a:endParaRPr b="0" lang="en-US" sz="2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98A0-1583-48E9-86B4-0029287B0F0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III.Power-law: eigen </a:t>
            </a:r>
            <a:r>
              <a:rPr b="0" i="1" lang="en-US" sz="4900" spc="-1" strike="noStrike">
                <a:solidFill>
                  <a:srgbClr val="a50021"/>
                </a:solidFill>
                <a:latin typeface="Times New Roman"/>
              </a:rPr>
              <a:t>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55240" y="5837040"/>
            <a:ext cx="8564760" cy="9745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83000"/>
          </a:bodyPr>
          <a:p>
            <a:pPr marL="284400" indent="-2844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igenvalues in decreasing order (first 20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284400" indent="-2844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[Mihail+, 02]:   </a:t>
            </a:r>
            <a:r>
              <a:rPr b="0" i="1" lang="en-US" sz="3100" spc="-1" strike="noStrike">
                <a:solidFill>
                  <a:srgbClr val="000066"/>
                </a:solidFill>
                <a:latin typeface="Times New Roman"/>
              </a:rPr>
              <a:t>R = 2 * E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922480" y="2154240"/>
            <a:ext cx="4233960" cy="32511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7544160" y="3152880"/>
            <a:ext cx="1482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ff0000"/>
                </a:solidFill>
                <a:latin typeface="Times New Roman"/>
              </a:rPr>
              <a:t>E = -0.48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290360" y="2470320"/>
            <a:ext cx="2521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xponent = slop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04760" y="1987560"/>
            <a:ext cx="1691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Eigenvalu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87840" y="5389560"/>
            <a:ext cx="42699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Rank of decreasing eigenvalue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61520" y="4145040"/>
            <a:ext cx="11761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Dec’98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F799-8E3A-429A-BCCD-B90C20C5695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0929-E70B-40E6-A4D0-FE06960EED2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Yes!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mall diamete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ix degrees of separation / ‘Kevin Bacon’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mall worlds [Watts and Strogatz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2BB8-8775-432B-8546-DECFA90FD2B9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3940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Bow-tie, for the web [Kumar+ ‘99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N, SCC, OUT, ‘tendrils’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sconnected components</a:t>
            </a:r>
            <a:br>
              <a:rPr sz="3500"/>
            </a:b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5486400" y="3205080"/>
            <a:ext cx="4516560" cy="340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A61B-D2C3-4721-9940-9D62EAE5714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Any other ‘laws’?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39400" cy="4994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s in communities (bi-partite cores) [Kumar+, ‘99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0">
              <a:spcBef>
                <a:spcPts val="876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716880" y="3659040"/>
            <a:ext cx="304560" cy="27324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716880" y="4541760"/>
            <a:ext cx="304560" cy="27144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1280" y="4084560"/>
            <a:ext cx="306360" cy="27324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1280" y="4998960"/>
            <a:ext cx="306360" cy="27324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31280" y="3354480"/>
            <a:ext cx="306360" cy="27288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58" idx="7"/>
            <a:endCxn id="162" idx="2"/>
          </p:cNvCxnSpPr>
          <p:nvPr/>
        </p:nvCxnSpPr>
        <p:spPr>
          <a:xfrm flipV="1">
            <a:off x="6977160" y="3490200"/>
            <a:ext cx="635760" cy="18972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58" idx="6"/>
            <a:endCxn id="160" idx="2"/>
          </p:cNvCxnSpPr>
          <p:nvPr/>
        </p:nvCxnSpPr>
        <p:spPr>
          <a:xfrm>
            <a:off x="7040520" y="3795480"/>
            <a:ext cx="572400" cy="42588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8" idx="4"/>
            <a:endCxn id="161" idx="1"/>
          </p:cNvCxnSpPr>
          <p:nvPr/>
        </p:nvCxnSpPr>
        <p:spPr>
          <a:xfrm>
            <a:off x="6869160" y="3951360"/>
            <a:ext cx="807120" cy="106920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9" idx="7"/>
            <a:endCxn id="162" idx="3"/>
          </p:cNvCxnSpPr>
          <p:nvPr/>
        </p:nvCxnSpPr>
        <p:spPr>
          <a:xfrm flipV="1">
            <a:off x="6977160" y="3606120"/>
            <a:ext cx="699120" cy="95652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9" idx="6"/>
            <a:endCxn id="160" idx="3"/>
          </p:cNvCxnSpPr>
          <p:nvPr/>
        </p:nvCxnSpPr>
        <p:spPr>
          <a:xfrm flipV="1">
            <a:off x="7040520" y="4336560"/>
            <a:ext cx="635760" cy="34200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59" idx="5"/>
            <a:endCxn id="161" idx="2"/>
          </p:cNvCxnSpPr>
          <p:nvPr/>
        </p:nvCxnSpPr>
        <p:spPr>
          <a:xfrm>
            <a:off x="6977160" y="4792680"/>
            <a:ext cx="635760" cy="343440"/>
          </a:xfrm>
          <a:prstGeom prst="straightConnector1">
            <a:avLst/>
          </a:prstGeom>
          <a:ln cap="sq" w="38160">
            <a:solidFill>
              <a:srgbClr val="000066"/>
            </a:solidFill>
            <a:miter/>
            <a:tailEnd len="med" type="triangle" w="med"/>
          </a:ln>
        </p:spPr>
      </p:cxnSp>
      <p:sp>
        <p:nvSpPr>
          <p:cNvPr id="169" name=""/>
          <p:cNvSpPr/>
          <p:nvPr/>
        </p:nvSpPr>
        <p:spPr>
          <a:xfrm>
            <a:off x="6378120" y="5475240"/>
            <a:ext cx="1893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2:3 cor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(m:n core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82760" y="3780000"/>
            <a:ext cx="4570200" cy="2438280"/>
          </a:xfrm>
          <a:prstGeom prst="rect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490920" y="6237360"/>
            <a:ext cx="1428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og(m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8440" y="3139920"/>
            <a:ext cx="20185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Log(count)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97160" y="4084560"/>
            <a:ext cx="2971800" cy="129564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143080" y="4465800"/>
            <a:ext cx="2975040" cy="1295280"/>
          </a:xfrm>
          <a:prstGeom prst="line">
            <a:avLst/>
          </a:prstGeom>
          <a:ln cap="sq"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92240" y="4770360"/>
            <a:ext cx="2970360" cy="1295640"/>
          </a:xfrm>
          <a:prstGeom prst="line">
            <a:avLst/>
          </a:prstGeom>
          <a:ln cap="sq" w="38160">
            <a:solidFill>
              <a:srgbClr val="66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93360" y="3798720"/>
            <a:ext cx="70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:1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098320" y="5410080"/>
            <a:ext cx="70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n:2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05920" y="5380200"/>
            <a:ext cx="7048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669900"/>
                </a:solidFill>
                <a:latin typeface="Times New Roman"/>
              </a:rPr>
              <a:t>n:3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6DF-867E-42DD-9C43-E84E180C376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More Power law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lso hold for other web graphs [Barabasi+, ‘99], [Kumar+, ‘99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itation graphs (see later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nd many mor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7917-36FF-45F2-924F-0450B2B46807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hanks to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44200" y="2103480"/>
            <a:ext cx="611532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Deepayan Chakrabarti (CMU/Yahoo)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Michalis Faloutsos (UCR)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piros Papadimitriou (CMU/IBM)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80000"/>
              </a:lnSpc>
              <a:spcBef>
                <a:spcPts val="6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George Siganos (UCR)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772400" y="1722600"/>
            <a:ext cx="1203480" cy="13302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16080" y="2760840"/>
            <a:ext cx="1323720" cy="1338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468360" y="5303880"/>
            <a:ext cx="1135080" cy="1401840"/>
          </a:xfrm>
          <a:prstGeom prst="rect">
            <a:avLst/>
          </a:prstGeom>
          <a:ln w="0">
            <a:noFill/>
          </a:ln>
        </p:spPr>
      </p:pic>
      <p:pic>
        <p:nvPicPr>
          <p:cNvPr id="55" name="spiros" descr=""/>
          <p:cNvPicPr/>
          <p:nvPr/>
        </p:nvPicPr>
        <p:blipFill>
          <a:blip r:embed="rId4"/>
          <a:stretch/>
        </p:blipFill>
        <p:spPr>
          <a:xfrm>
            <a:off x="7848720" y="3962520"/>
            <a:ext cx="1044360" cy="118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65E6-7444-40A4-BBDE-7143D67E818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2040" y="3548160"/>
            <a:ext cx="457200" cy="384120"/>
          </a:xfrm>
          <a:prstGeom prst="rightArrow">
            <a:avLst>
              <a:gd name="adj1" fmla="val 50000"/>
              <a:gd name="adj2" fmla="val 29756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7C26F-F579-476D-BEB2-961948E283D9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How do graphs evolve?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7BF4-A041-44DE-8FC5-C2CA028B3C5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ime Evolution: rank </a:t>
            </a:r>
            <a:r>
              <a:rPr b="0" i="1" lang="en-US" sz="4900" spc="-1" strike="noStrike">
                <a:solidFill>
                  <a:srgbClr val="a50021"/>
                </a:solidFill>
                <a:latin typeface="Times New Roman"/>
              </a:rPr>
              <a:t>R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1461960" y="2287440"/>
          <a:ext cx="6442200" cy="341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1960" y="2287440"/>
                    <a:ext cx="644220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"/>
          <p:cNvSpPr/>
          <p:nvPr/>
        </p:nvSpPr>
        <p:spPr>
          <a:xfrm>
            <a:off x="609480" y="6058080"/>
            <a:ext cx="86108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spcBef>
                <a:spcPts val="77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he rank exponent has not changed! [Siganos+, ‘03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85840" y="2824200"/>
            <a:ext cx="1307160" cy="8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</a:rPr>
              <a:t>Domai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i="1" lang="en-US" sz="2600" spc="-1" strike="noStrike">
                <a:solidFill>
                  <a:srgbClr val="000066"/>
                </a:solidFill>
                <a:latin typeface="Times New Roman"/>
              </a:rPr>
              <a:t>level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03520" y="5502240"/>
            <a:ext cx="3695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</a:rPr>
              <a:t>#days since Nov. ‘97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6483960" y="298080"/>
            <a:ext cx="3405960" cy="1850040"/>
            <a:chOff x="6483960" y="298080"/>
            <a:chExt cx="3405960" cy="1850040"/>
          </a:xfrm>
        </p:grpSpPr>
        <p:sp>
          <p:nvSpPr>
            <p:cNvPr id="193" name=""/>
            <p:cNvSpPr/>
            <p:nvPr/>
          </p:nvSpPr>
          <p:spPr>
            <a:xfrm>
              <a:off x="7477200" y="304920"/>
              <a:ext cx="2384280" cy="135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3"/>
            <a:stretch/>
          </p:blipFill>
          <p:spPr>
            <a:xfrm>
              <a:off x="7477200" y="304920"/>
              <a:ext cx="2384280" cy="135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7477200" y="304920"/>
              <a:ext cx="2384280" cy="1358640"/>
            </a:xfrm>
            <a:prstGeom prst="rect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953200" y="1810800"/>
              <a:ext cx="93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log(rank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483960" y="298080"/>
              <a:ext cx="111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Times New Roman"/>
                </a:rPr>
                <a:t>log(degree)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8" name=""/>
            <p:cNvGrpSpPr/>
            <p:nvPr/>
          </p:nvGrpSpPr>
          <p:grpSpPr>
            <a:xfrm>
              <a:off x="7794360" y="402840"/>
              <a:ext cx="1748160" cy="871560"/>
              <a:chOff x="7794360" y="402840"/>
              <a:chExt cx="1748160" cy="871560"/>
            </a:xfrm>
          </p:grpSpPr>
          <p:sp>
            <p:nvSpPr>
              <p:cNvPr id="199" name=""/>
              <p:cNvSpPr/>
              <p:nvPr/>
            </p:nvSpPr>
            <p:spPr>
              <a:xfrm flipH="1" flipV="1">
                <a:off x="7794360" y="402840"/>
                <a:ext cx="1709640" cy="87156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550000" y="758160"/>
                <a:ext cx="278280" cy="0"/>
              </a:xfrm>
              <a:prstGeom prst="line">
                <a:avLst/>
              </a:prstGeom>
              <a:ln w="1260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945280" y="790560"/>
                <a:ext cx="597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33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6C5A-D9CD-45E5-8BC2-755F983FE2D4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How do graphs evolve?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egree-exponent seems constant - anything els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8AAF-CA1D-429B-9773-FFE317221E9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Evolution of diameter?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rior analysis, on power-law-like graphs, hints th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 ~ O(log(N))     o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 ~ O( log(log(N))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.e.., slowly increasing with network siz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at is happening, in reality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8566-7DAC-4FC1-8C9F-4E03CCB22BF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Evolution of diameter?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rior analysis, on power-law-like graphs, hints th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 ~ O(log(N))     o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iameter ~ O( log(log(N))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.e.., slowly increasing with network siz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at is happening, in reality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It </a:t>
            </a: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shrinks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(!!), towards a constant valu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E7C6-E9E9-46C3-9CD6-E55C034FD35B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hrinking diameter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Leskovec+05a]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Citations among physics papers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11yrs; @ 2003: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29,555 paper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352,807 citation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For each month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, create a graph of all citations up to month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M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5118120" y="2719440"/>
            <a:ext cx="4206960" cy="3465360"/>
            <a:chOff x="5118120" y="2719440"/>
            <a:chExt cx="4206960" cy="3465360"/>
          </a:xfrm>
        </p:grpSpPr>
        <p:pic>
          <p:nvPicPr>
            <p:cNvPr id="211" name="" descr=""/>
            <p:cNvPicPr/>
            <p:nvPr/>
          </p:nvPicPr>
          <p:blipFill>
            <a:blip r:embed="rId1"/>
            <a:stretch/>
          </p:blipFill>
          <p:spPr>
            <a:xfrm>
              <a:off x="5118120" y="2719440"/>
              <a:ext cx="4206960" cy="34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 txBox="1"/>
            <p:nvPr/>
          </p:nvSpPr>
          <p:spPr>
            <a:xfrm>
              <a:off x="5118120" y="2719440"/>
              <a:ext cx="4206960" cy="3465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100800" rIns="100800" tIns="50400" bIns="50400" anchor="t">
              <a:normAutofit/>
            </a:bodyPr>
            <a:p>
              <a:pPr marL="378000" indent="-378000">
                <a:lnSpc>
                  <a:spcPct val="90000"/>
                </a:lnSpc>
                <a:spcBef>
                  <a:spcPts val="550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endParaRPr b="0" lang="en-US" sz="3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3" name=""/>
          <p:cNvSpPr/>
          <p:nvPr/>
        </p:nvSpPr>
        <p:spPr>
          <a:xfrm>
            <a:off x="7519680" y="6369840"/>
            <a:ext cx="81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tim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473360" y="202644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407F-31B4-4C08-9CDA-FC05BE15E92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hrinking diameter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5118120" y="2651040"/>
            <a:ext cx="4206960" cy="360216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671400" y="1763640"/>
            <a:ext cx="3613320" cy="55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uthors &amp; publication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992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318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272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2002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60,000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20,000 author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2" marL="1260360" indent="-25236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38,000 paper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133,000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6498-A20A-488A-B8C3-2D2CD8C6A350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hrinking diameter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rcRect l="0" t="0" r="1226" b="0"/>
          <a:stretch/>
        </p:blipFill>
        <p:spPr>
          <a:xfrm>
            <a:off x="5118120" y="2735280"/>
            <a:ext cx="4156200" cy="34336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04720" y="1847880"/>
            <a:ext cx="3780000" cy="54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Patents &amp; citation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975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334,000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676,000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999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2.9 million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16.5 million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ach year is a datapoint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06C-4CB7-474E-B90E-5344717552C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hrinking diameter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0" r="1226" b="0"/>
          <a:stretch/>
        </p:blipFill>
        <p:spPr>
          <a:xfrm>
            <a:off x="5118120" y="2743200"/>
            <a:ext cx="4156200" cy="341640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420840" y="1847880"/>
            <a:ext cx="3611520" cy="49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utonomous system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1997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3,000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10,000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2000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6,000 nod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26,000 edge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One graph per day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82480" y="61412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168440" y="2255040"/>
            <a:ext cx="14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imes New Roman"/>
              </a:rPr>
              <a:t>diameter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384A4-1401-4630-A7BE-38253D78BD7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Introduction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41440" y="1730520"/>
            <a:ext cx="2290680" cy="17208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3695760" y="1536840"/>
            <a:ext cx="2517840" cy="1887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7056360" y="1549440"/>
            <a:ext cx="1808280" cy="1809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39880" y="3443400"/>
            <a:ext cx="2268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Internet Map [lumeta.com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48120" y="3443400"/>
            <a:ext cx="22683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od Web [Martinez ’91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719760" y="3359160"/>
            <a:ext cx="27734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Protein Interactions [genomebiology.com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6180120"/>
            <a:ext cx="243684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riendship Network [Moody ’01]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456080" y="5068800"/>
            <a:ext cx="448020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a50021"/>
                </a:solidFill>
                <a:latin typeface="Times New Roman"/>
              </a:rPr>
              <a:t>Graphs are everywhere!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614520" y="4368960"/>
            <a:ext cx="2511360" cy="187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D13-5611-4D8D-BDE6-BA8CD690C9C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emporal evolution of graph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2184480"/>
            <a:ext cx="6940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(t) nodes; E(t) edges at time 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uppose that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(t+1) = 2 * N(t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at is your guess for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E(t+1) =? 2 * E(t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7C4-6CD7-4FC4-8084-92CAAA767D0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emporal evolution of graph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55280" y="2184480"/>
            <a:ext cx="6940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(t) nodes; E(t) edges at time 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uppose that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N(t+1) = 2 * N(t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at is your guess for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E(t+1) =? 2 * E(t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over-doubled!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276800" y="4809960"/>
            <a:ext cx="534960" cy="570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9360">
                  <a:solidFill>
                    <a:srgbClr val="a50021"/>
                  </a:solidFill>
                  <a:miter/>
                </a:ln>
                <a:solidFill>
                  <a:srgbClr val="a50021"/>
                </a:solidFill>
                <a:latin typeface="Arial Black"/>
              </a:rPr>
              <a:t>x</a:t>
            </a:r>
            <a:endParaRPr b="0" lang="en-US" sz="2400" spc="1" strike="noStrike">
              <a:ln cap="sq" w="9360">
                <a:solidFill>
                  <a:srgbClr val="a50021"/>
                </a:solidFill>
                <a:miter/>
              </a:ln>
              <a:solidFill>
                <a:srgbClr val="a50021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33FB-9F60-4F7A-BE61-6D0C2096962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emporal evolution of graph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7710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over-doubled - but obeying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E(t) ~ N(t)</a:t>
            </a:r>
            <a:r>
              <a:rPr b="0" i="1" lang="en-US" sz="3500" spc="-1" strike="noStrike" baseline="30000">
                <a:solidFill>
                  <a:srgbClr val="000066"/>
                </a:solidFill>
                <a:latin typeface="Times New Roman"/>
              </a:rPr>
              <a:t>a            </a:t>
            </a: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for all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 t</a:t>
            </a:r>
            <a:r>
              <a:rPr b="0" i="1" lang="en-US" sz="3500" spc="-1" strike="noStrike" baseline="30000">
                <a:solidFill>
                  <a:srgbClr val="000066"/>
                </a:solidFill>
                <a:latin typeface="Times New Roman"/>
              </a:rPr>
              <a:t> 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0">
              <a:spcBef>
                <a:spcPts val="8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where 1&lt;</a:t>
            </a:r>
            <a:r>
              <a:rPr b="0" i="1" lang="en-US" sz="34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n-US" sz="3400" spc="-1" strike="noStrike">
                <a:solidFill>
                  <a:srgbClr val="000066"/>
                </a:solidFill>
                <a:latin typeface="Times New Roman"/>
              </a:rPr>
              <a:t>&lt;2</a:t>
            </a:r>
            <a:endParaRPr b="0" lang="en-US" sz="3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2789280"/>
            <a:ext cx="5180040" cy="685800"/>
          </a:xfrm>
          <a:prstGeom prst="rect">
            <a:avLst/>
          </a:prstGeom>
          <a:noFill/>
          <a:ln cap="sq"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131F-7715-4BD1-AE9E-98EFB443869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rcRect l="0" t="0" r="1249" b="0"/>
          <a:stretch/>
        </p:blipFill>
        <p:spPr>
          <a:xfrm>
            <a:off x="5118120" y="2575080"/>
            <a:ext cx="4206960" cy="375588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rXiv: Physics pap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ir cit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42360" y="4114800"/>
            <a:ext cx="76356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704360" y="359712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69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240" name="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BBA1-EC4A-4E2E-9621-560216BE33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rcRect l="0" t="0" r="1249" b="0"/>
          <a:stretch/>
        </p:blipFill>
        <p:spPr>
          <a:xfrm>
            <a:off x="5118120" y="2575080"/>
            <a:ext cx="4206960" cy="375588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rXiv: Physics pap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ir cit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42360" y="4114800"/>
            <a:ext cx="76356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04360" y="359712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69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248" name="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 flipV="1">
            <a:off x="7021440" y="3780000"/>
            <a:ext cx="2057400" cy="129528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74080" y="4303800"/>
            <a:ext cx="95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ree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850240" y="4008600"/>
            <a:ext cx="45720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9280440" y="34653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842D-A334-42C0-9A47-B1B0CD1A1CF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rcRect l="0" t="0" r="1249" b="0"/>
          <a:stretch/>
        </p:blipFill>
        <p:spPr>
          <a:xfrm>
            <a:off x="5118120" y="2575080"/>
            <a:ext cx="4206960" cy="375588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rXiv: Physics paper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9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and their citations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42360" y="4114800"/>
            <a:ext cx="76356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704360" y="359712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69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260" name="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 flipV="1">
            <a:off x="6259680" y="2636640"/>
            <a:ext cx="1523880" cy="2057400"/>
          </a:xfrm>
          <a:prstGeom prst="line">
            <a:avLst/>
          </a:prstGeom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246360" y="2560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‘</a:t>
            </a: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clique’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792840" y="3400560"/>
            <a:ext cx="457200" cy="0"/>
          </a:xfrm>
          <a:prstGeom prst="line">
            <a:avLst/>
          </a:prstGeom>
          <a:ln w="1260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89720" y="34304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659B-287F-41A3-9FAC-2CC9AF382B6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U.S. Patents, citing each other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5118120" y="2838600"/>
            <a:ext cx="4206960" cy="322740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7542360" y="4268880"/>
            <a:ext cx="83952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999560" y="373392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66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272" name="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AAEE-FE3C-40E4-B45C-568F62A91D5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utonomous System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rcRect l="0" t="0" r="1241" b="0"/>
          <a:stretch/>
        </p:blipFill>
        <p:spPr>
          <a:xfrm>
            <a:off x="5118120" y="2637000"/>
            <a:ext cx="4206960" cy="362880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7542360" y="4038480"/>
            <a:ext cx="91584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781400" y="352116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18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280" name="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F732-4EE9-4157-8E42-23CCFA39AA7A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Densification Power Law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20696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rXiv: authors &amp; paper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5118120" y="2809800"/>
            <a:ext cx="4206960" cy="328464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467480" y="4191120"/>
            <a:ext cx="838440" cy="0"/>
          </a:xfrm>
          <a:prstGeom prst="line">
            <a:avLst/>
          </a:prstGeom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8075880" y="3657600"/>
            <a:ext cx="898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1.15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4609080" y="3048120"/>
            <a:ext cx="4459320" cy="3590640"/>
            <a:chOff x="4609080" y="3048120"/>
            <a:chExt cx="4459320" cy="3590640"/>
          </a:xfrm>
        </p:grpSpPr>
        <p:sp>
          <p:nvSpPr>
            <p:cNvPr id="288" name=""/>
            <p:cNvSpPr/>
            <p:nvPr/>
          </p:nvSpPr>
          <p:spPr>
            <a:xfrm>
              <a:off x="8206560" y="6059520"/>
              <a:ext cx="8618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N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09080" y="304812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3200" spc="-1" strike="noStrike">
                  <a:solidFill>
                    <a:srgbClr val="000066"/>
                  </a:solidFill>
                  <a:latin typeface="Times New Roman"/>
                </a:rPr>
                <a:t>E(t)</a:t>
              </a:r>
              <a:endParaRPr b="0" lang="en-US" sz="3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2BBE-592F-495E-BC5B-8B7A74D3CFF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ummary of ‘laws’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 laws for degree distribution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…………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... for eigenvalues, bi-partite cor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mall &amp; </a:t>
            </a: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shrinking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diameter (‘6 degrees’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Bow-tie’ for web; ‘jelly-fish’ for interne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``Densification Power Law’’, over tim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034F-7A93-45FA-B239-29FCA48EE36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0A5-EFFB-4922-8FF4-DE410DF0C5E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2" marL="1407960" indent="-49500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ther power law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2" marL="1407960" indent="-49500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fractals &amp; self-similarity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2" marL="1407960" indent="-49500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ase study: Kronecker graph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92040" y="3780000"/>
            <a:ext cx="457200" cy="382320"/>
          </a:xfrm>
          <a:prstGeom prst="rightArrow">
            <a:avLst>
              <a:gd name="adj1" fmla="val 50000"/>
              <a:gd name="adj2" fmla="val 29896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987F-4826-4194-AA89-610C09E354F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Power law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Many more power laws, in diverse setting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8A805-BD8B-427F-A31A-297086204AF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A famous power law: Zipf’s law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040360" y="2940120"/>
            <a:ext cx="4368600" cy="30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504720" y="2184480"/>
            <a:ext cx="4788000" cy="3357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5796000" y="2603520"/>
            <a:ext cx="378144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206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Bible - </a:t>
            </a:r>
            <a:r>
              <a:rPr b="1" lang="en-US" sz="3300" spc="-1" strike="noStrike">
                <a:solidFill>
                  <a:srgbClr val="000066"/>
                </a:solidFill>
                <a:latin typeface="Times New Roman"/>
              </a:rPr>
              <a:t>rank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vs </a:t>
            </a:r>
            <a:r>
              <a:rPr b="1" lang="en-US" sz="3300" spc="-1" strike="noStrike">
                <a:solidFill>
                  <a:srgbClr val="000066"/>
                </a:solidFill>
                <a:latin typeface="Times New Roman"/>
              </a:rPr>
              <a:t>frequency</a:t>
            </a:r>
            <a:r>
              <a:rPr b="0" lang="en-US" sz="3300" spc="-1" strike="noStrike">
                <a:solidFill>
                  <a:srgbClr val="000066"/>
                </a:solidFill>
                <a:latin typeface="Times New Roman"/>
              </a:rPr>
              <a:t> (log-log)</a:t>
            </a:r>
            <a:endParaRPr b="0" lang="en-US" sz="3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950560" y="5846040"/>
            <a:ext cx="16668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og(rank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34440" y="1679400"/>
            <a:ext cx="16012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og(freq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7960" y="2435040"/>
            <a:ext cx="7282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”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44600" y="3359160"/>
            <a:ext cx="11764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he”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1512720" y="2519280"/>
            <a:ext cx="0" cy="75744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1176480" y="2519280"/>
            <a:ext cx="168120" cy="168480"/>
          </a:xfrm>
          <a:prstGeom prst="line">
            <a:avLst/>
          </a:prstGeom>
          <a:ln w="1260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344600" y="2435400"/>
            <a:ext cx="3024360" cy="20160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0E89-B000-4F8A-BAD1-8F91764F3F5E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Power laws, cont’e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ength of  file transfers [Bestavros+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web hit counts [Huberman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magnitude of earthquakes (Guttenberg-Richter law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izes of lakes/islands (Korcak’s law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ncome distribution (Pareto’s law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755-43CF-4A56-B16D-68B167A8E9E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he Peer-to-Peer Topology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2184480" y="1511280"/>
            <a:ext cx="4124160" cy="42022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504720" y="5799240"/>
            <a:ext cx="9068040" cy="1173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requency versus degree 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Number of adjacent peers follows a power-law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652800" y="4875120"/>
            <a:ext cx="1950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[Jovanovic+]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408A-A99B-4AB3-977B-9934F62D83A2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1914480" y="755640"/>
            <a:ext cx="2034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486000" y="4929480"/>
            <a:ext cx="2023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4703760" y="923760"/>
            <a:ext cx="4595760" cy="3351240"/>
          </a:xfrm>
          <a:prstGeom prst="rect">
            <a:avLst/>
          </a:prstGeom>
          <a:ln w="0">
            <a:noFill/>
          </a:ln>
        </p:spPr>
      </p:pic>
      <p:pic>
        <p:nvPicPr>
          <p:cNvPr id="317" name="" descr=""/>
          <p:cNvPicPr/>
          <p:nvPr/>
        </p:nvPicPr>
        <p:blipFill>
          <a:blip r:embed="rId2"/>
          <a:srcRect l="0" t="9300" r="0" b="9300"/>
          <a:stretch/>
        </p:blipFill>
        <p:spPr>
          <a:xfrm>
            <a:off x="4830840" y="3882960"/>
            <a:ext cx="4373640" cy="283392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5982120" y="1095120"/>
            <a:ext cx="2421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Web Site Traffic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453520" y="3279600"/>
            <a:ext cx="1377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log(freq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05280" y="1431000"/>
            <a:ext cx="1581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log(count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796000" y="1847880"/>
            <a:ext cx="923760" cy="1176480"/>
          </a:xfrm>
          <a:prstGeom prst="line">
            <a:avLst/>
          </a:prstGeom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87840" y="1851480"/>
            <a:ext cx="772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a50021"/>
                </a:solidFill>
                <a:latin typeface="Times New Roman"/>
                <a:ea typeface="新細明體"/>
              </a:rPr>
              <a:t>Zipf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839520" y="167760"/>
            <a:ext cx="856908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lick-stream data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324" name=""/>
          <p:cNvGrpSpPr/>
          <p:nvPr/>
        </p:nvGrpSpPr>
        <p:grpSpPr>
          <a:xfrm>
            <a:off x="321120" y="1853640"/>
            <a:ext cx="3139920" cy="2695680"/>
            <a:chOff x="321120" y="1853640"/>
            <a:chExt cx="3139920" cy="2695680"/>
          </a:xfrm>
        </p:grpSpPr>
        <p:sp>
          <p:nvSpPr>
            <p:cNvPr id="325" name=""/>
            <p:cNvSpPr/>
            <p:nvPr/>
          </p:nvSpPr>
          <p:spPr>
            <a:xfrm>
              <a:off x="321120" y="1853640"/>
              <a:ext cx="141048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4000" spc="-1" strike="noStrike">
                  <a:solidFill>
                    <a:srgbClr val="000066"/>
                  </a:solidFill>
                  <a:latin typeface="Times New Roman"/>
                  <a:ea typeface="新細明體"/>
                </a:rPr>
                <a:t>u-id’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03240" y="266652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911880" y="298152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921240" y="3676320"/>
              <a:ext cx="16560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926800" y="269316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919600" y="439560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919600" y="302904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928240" y="368676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925000" y="3344040"/>
              <a:ext cx="165960" cy="153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0880" rIns="110880" tIns="53640" bIns="536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305080" y="1863360"/>
              <a:ext cx="115596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1240" rIns="111240" tIns="55440" bIns="55440" anchor="ctr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4000" spc="-1" strike="noStrike">
                  <a:solidFill>
                    <a:srgbClr val="000066"/>
                  </a:solidFill>
                  <a:latin typeface="Times New Roman"/>
                  <a:ea typeface="新細明體"/>
                </a:rPr>
                <a:t>url’s</a:t>
              </a:r>
              <a:endParaRPr b="0" lang="en-US" sz="4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35" name=""/>
            <p:cNvCxnSpPr>
              <a:stCxn id="326" idx="6"/>
              <a:endCxn id="329" idx="2"/>
            </p:cNvCxnSpPr>
            <p:nvPr/>
          </p:nvCxnSpPr>
          <p:spPr>
            <a:xfrm>
              <a:off x="1090080" y="2743200"/>
              <a:ext cx="1815480" cy="2700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  <p:cxnSp>
          <p:nvCxnSpPr>
            <p:cNvPr id="336" name=""/>
            <p:cNvCxnSpPr>
              <a:stCxn id="326" idx="6"/>
            </p:cNvCxnSpPr>
            <p:nvPr/>
          </p:nvCxnSpPr>
          <p:spPr>
            <a:xfrm>
              <a:off x="1090080" y="2743200"/>
              <a:ext cx="1806840" cy="33156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  <p:cxnSp>
          <p:nvCxnSpPr>
            <p:cNvPr id="337" name=""/>
            <p:cNvCxnSpPr/>
            <p:nvPr/>
          </p:nvCxnSpPr>
          <p:spPr>
            <a:xfrm>
              <a:off x="1097280" y="2743560"/>
              <a:ext cx="1811880" cy="63792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  <p:cxnSp>
          <p:nvCxnSpPr>
            <p:cNvPr id="338" name=""/>
            <p:cNvCxnSpPr>
              <a:stCxn id="327" idx="6"/>
            </p:cNvCxnSpPr>
            <p:nvPr/>
          </p:nvCxnSpPr>
          <p:spPr>
            <a:xfrm flipV="1">
              <a:off x="1099080" y="2794320"/>
              <a:ext cx="1810440" cy="26460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  <p:cxnSp>
          <p:nvCxnSpPr>
            <p:cNvPr id="339" name=""/>
            <p:cNvCxnSpPr>
              <a:stCxn id="328" idx="6"/>
              <a:endCxn id="331" idx="2"/>
            </p:cNvCxnSpPr>
            <p:nvPr/>
          </p:nvCxnSpPr>
          <p:spPr>
            <a:xfrm flipV="1">
              <a:off x="1108080" y="3105360"/>
              <a:ext cx="1791360" cy="648000"/>
            </a:xfrm>
            <a:prstGeom prst="straightConnector1">
              <a:avLst/>
            </a:prstGeom>
            <a:ln cap="sq" w="12600">
              <a:solidFill>
                <a:srgbClr val="000066"/>
              </a:solidFill>
              <a:miter/>
              <a:tailEnd len="sm" type="triangle" w="sm"/>
            </a:ln>
          </p:spPr>
        </p:cxnSp>
      </p:grpSp>
      <p:sp>
        <p:nvSpPr>
          <p:cNvPr id="340" name=""/>
          <p:cNvSpPr/>
          <p:nvPr/>
        </p:nvSpPr>
        <p:spPr>
          <a:xfrm>
            <a:off x="7261200" y="5372280"/>
            <a:ext cx="484200" cy="971280"/>
          </a:xfrm>
          <a:prstGeom prst="line">
            <a:avLst/>
          </a:prstGeom>
          <a:ln cap="sq"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417160" y="6030000"/>
            <a:ext cx="1377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log(freq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6880" y="4307400"/>
            <a:ext cx="1581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log(count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495920" y="2630160"/>
            <a:ext cx="12326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‘</a:t>
            </a: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yahoo’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7875360" y="3133800"/>
            <a:ext cx="301320" cy="573120"/>
          </a:xfrm>
          <a:prstGeom prst="line">
            <a:avLst/>
          </a:prstGeom>
          <a:ln cap="sq" w="12600">
            <a:solidFill>
              <a:srgbClr val="00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530480" y="5174280"/>
            <a:ext cx="20174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‘</a:t>
            </a:r>
            <a:r>
              <a:rPr b="0" lang="en-US" sz="2600" spc="-1" strike="noStrike">
                <a:solidFill>
                  <a:srgbClr val="006600"/>
                </a:solidFill>
                <a:latin typeface="Times New Roman"/>
              </a:rPr>
              <a:t>super-surfer’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7839000" y="5821200"/>
            <a:ext cx="300240" cy="573120"/>
          </a:xfrm>
          <a:prstGeom prst="line">
            <a:avLst/>
          </a:prstGeom>
          <a:ln cap="sq" w="12600">
            <a:solidFill>
              <a:srgbClr val="0066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85CA-4D1B-456D-8FC2-0D763E4FBF5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Lotka’s law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839520" y="2099880"/>
            <a:ext cx="856908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(Lotka’s law of publication count); and citation counts: (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citeseer.nj.nec.com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6/2001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9" name="" descr=""/>
          <p:cNvPicPr/>
          <p:nvPr/>
        </p:nvPicPr>
        <p:blipFill>
          <a:blip r:embed="rId1"/>
          <a:stretch/>
        </p:blipFill>
        <p:spPr>
          <a:xfrm>
            <a:off x="2521080" y="3695760"/>
            <a:ext cx="4282920" cy="287172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7155000" y="6218640"/>
            <a:ext cx="21301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log(#citations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87360" y="4034520"/>
            <a:ext cx="15814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ctr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log(count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57360" y="5124600"/>
            <a:ext cx="14871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  <a:ea typeface="新細明體"/>
              </a:rPr>
              <a:t>J. Ullma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6384960" y="5796000"/>
            <a:ext cx="84240" cy="4190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B947-C76C-439A-8367-D5AD888B588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5124600" y="2100240"/>
            <a:ext cx="4368600" cy="353700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6545880" y="-63360"/>
            <a:ext cx="33800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Swedish sex-web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559480" y="671400"/>
            <a:ext cx="45226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Nodes: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people (Females; Males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Links: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 sexual relationship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372720" y="7056360"/>
            <a:ext cx="3699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Liljeros et al.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ature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2001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153840" y="5880240"/>
            <a:ext cx="30812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4781 Swedes; 18-74;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59% response rat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0" y="993600"/>
            <a:ext cx="507672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lbert Laszlo Barabasi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http://www.nd.edu/~networks/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Publication%20Categories/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04%20Talks/2005-norway-3hours.pp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954760" y="4160880"/>
            <a:ext cx="1447920" cy="762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4D47-8298-4084-A02C-F453EF1D07A1}" type="slidenum">
              <a:t>4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5124600" y="2100240"/>
            <a:ext cx="4368600" cy="3537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545880" y="-63360"/>
            <a:ext cx="338004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Swedish sex-web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59480" y="671400"/>
            <a:ext cx="45226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Times New Roman"/>
              </a:rPr>
              <a:t>Nodes: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people (Females; Males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9900"/>
                </a:solidFill>
                <a:latin typeface="Times New Roman"/>
              </a:rPr>
              <a:t>Links: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 sexual relationship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372720" y="7056360"/>
            <a:ext cx="3699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Liljeros et al. </a:t>
            </a: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Nature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2001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153840" y="5880240"/>
            <a:ext cx="308124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4781 Swedes; 18-74; 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59% response rate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0" y="993600"/>
            <a:ext cx="5076720" cy="221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lbert Laszlo Barabasi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http://www.nd.edu/~networks/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Publication%20Categories/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04%20Talks/2005-norway-3hours.ppt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3140-0F73-40C8-B4FD-44CA14BF5C6B}" type="slidenum">
              <a:t>4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Power law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Why so many power law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1: self-similarity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2: ‘rich-get-richer’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D898-B1DC-47E3-A7B7-BCC752F6D49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Motivating question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1: What do real graphs look lik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2: How to generate realistic graph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A69B0-9420-4583-8D57-75605428D79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Digression: intro to fractal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ractals: sets of points that are self simila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80880" y="304920"/>
            <a:ext cx="990720" cy="6933960"/>
          </a:xfrm>
          <a:custGeom>
            <a:avLst/>
            <a:gdLst>
              <a:gd name="textAreaLeft" fmla="*/ 291240 w 990720"/>
              <a:gd name="textAreaRight" fmla="*/ 991080 w 990720"/>
              <a:gd name="textAreaTop" fmla="*/ 288720 h 6933960"/>
              <a:gd name="textAreaBottom" fmla="*/ 6645240 h 693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C5F2-FCE9-42CC-BAC4-92BB0E4B83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A famous fractal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839880" y="2435040"/>
            <a:ext cx="88200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.g., Sierpinski triangle: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1"/>
          <a:srcRect l="154" t="381" r="0" b="0"/>
          <a:stretch/>
        </p:blipFill>
        <p:spPr>
          <a:xfrm>
            <a:off x="596880" y="3117960"/>
            <a:ext cx="6699240" cy="259380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/>
          <p:nvPr/>
        </p:nvSpPr>
        <p:spPr>
          <a:xfrm>
            <a:off x="6972480" y="3780000"/>
            <a:ext cx="731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812000" y="3611520"/>
            <a:ext cx="2016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zero area;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infinite length!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61440" y="4116240"/>
            <a:ext cx="2505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981000" y="5837400"/>
            <a:ext cx="3403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imensionality = ??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2C7A-54BD-4991-BC84-13083855586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A famous fractal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839880" y="2435040"/>
            <a:ext cx="88200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.g., Sierpinski triangle: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rcRect l="154" t="381" r="0" b="0"/>
          <a:stretch/>
        </p:blipFill>
        <p:spPr>
          <a:xfrm>
            <a:off x="596880" y="3117960"/>
            <a:ext cx="6699240" cy="25938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972480" y="3780000"/>
            <a:ext cx="731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12000" y="3611520"/>
            <a:ext cx="201636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zero area;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Times New Roman"/>
              </a:rPr>
              <a:t>infinite length!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61440" y="4116240"/>
            <a:ext cx="250560" cy="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73800" y="5837400"/>
            <a:ext cx="62964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imensionality = log(3)/log(2) = 1.58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743-327F-4D97-976B-38AE481A9C1E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A famous fractal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839880" y="2435040"/>
            <a:ext cx="8820000" cy="1260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quivalent graph: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035000" y="3780000"/>
            <a:ext cx="2003760" cy="1935360"/>
            <a:chOff x="1035000" y="3780000"/>
            <a:chExt cx="2003760" cy="1935360"/>
          </a:xfrm>
        </p:grpSpPr>
        <p:sp>
          <p:nvSpPr>
            <p:cNvPr id="389" name=""/>
            <p:cNvSpPr/>
            <p:nvPr/>
          </p:nvSpPr>
          <p:spPr>
            <a:xfrm>
              <a:off x="1035000" y="5083560"/>
              <a:ext cx="550440" cy="61380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56800" y="3780000"/>
              <a:ext cx="550440" cy="61524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488320" y="5100120"/>
              <a:ext cx="550440" cy="61524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392" name=""/>
            <p:cNvCxnSpPr>
              <a:stCxn id="389" idx="6"/>
              <a:endCxn id="391" idx="2"/>
            </p:cNvCxnSpPr>
            <p:nvPr/>
          </p:nvCxnSpPr>
          <p:spPr>
            <a:xfrm>
              <a:off x="1651680" y="5392800"/>
              <a:ext cx="771120" cy="1728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  <p:cxnSp>
          <p:nvCxnSpPr>
            <p:cNvPr id="393" name=""/>
            <p:cNvCxnSpPr>
              <a:stCxn id="389" idx="7"/>
              <a:endCxn id="390" idx="3"/>
            </p:cNvCxnSpPr>
            <p:nvPr/>
          </p:nvCxnSpPr>
          <p:spPr>
            <a:xfrm flipV="1">
              <a:off x="1502640" y="4371840"/>
              <a:ext cx="336600" cy="73368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  <p:cxnSp>
          <p:nvCxnSpPr>
            <p:cNvPr id="394" name=""/>
            <p:cNvCxnSpPr>
              <a:stCxn id="390" idx="5"/>
              <a:endCxn id="391" idx="1"/>
            </p:cNvCxnSpPr>
            <p:nvPr/>
          </p:nvCxnSpPr>
          <p:spPr>
            <a:xfrm>
              <a:off x="2224800" y="4371840"/>
              <a:ext cx="346320" cy="75132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</p:grpSp>
      <p:grpSp>
        <p:nvGrpSpPr>
          <p:cNvPr id="395" name=""/>
          <p:cNvGrpSpPr/>
          <p:nvPr/>
        </p:nvGrpSpPr>
        <p:grpSpPr>
          <a:xfrm>
            <a:off x="3481560" y="3767040"/>
            <a:ext cx="2140560" cy="1864800"/>
            <a:chOff x="3481560" y="3767040"/>
            <a:chExt cx="2140560" cy="1864800"/>
          </a:xfrm>
        </p:grpSpPr>
        <p:grpSp>
          <p:nvGrpSpPr>
            <p:cNvPr id="396" name=""/>
            <p:cNvGrpSpPr/>
            <p:nvPr/>
          </p:nvGrpSpPr>
          <p:grpSpPr>
            <a:xfrm>
              <a:off x="3481560" y="4550040"/>
              <a:ext cx="1230120" cy="1077480"/>
              <a:chOff x="3481560" y="4550040"/>
              <a:chExt cx="1230120" cy="1077480"/>
            </a:xfrm>
          </p:grpSpPr>
          <p:sp>
            <p:nvSpPr>
              <p:cNvPr id="397" name=""/>
              <p:cNvSpPr/>
              <p:nvPr/>
            </p:nvSpPr>
            <p:spPr>
              <a:xfrm>
                <a:off x="3481560" y="5275800"/>
                <a:ext cx="338040" cy="34164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3924360" y="4550040"/>
                <a:ext cx="338040" cy="34236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4373640" y="5285160"/>
                <a:ext cx="338040" cy="34236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400" name=""/>
              <p:cNvCxnSpPr>
                <a:stCxn id="397" idx="6"/>
                <a:endCxn id="399" idx="2"/>
              </p:cNvCxnSpPr>
              <p:nvPr/>
            </p:nvCxnSpPr>
            <p:spPr>
              <a:xfrm>
                <a:off x="3859560" y="5447880"/>
                <a:ext cx="473400" cy="972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01" name=""/>
              <p:cNvCxnSpPr>
                <a:stCxn id="397" idx="7"/>
                <a:endCxn id="398" idx="3"/>
              </p:cNvCxnSpPr>
              <p:nvPr/>
            </p:nvCxnSpPr>
            <p:spPr>
              <a:xfrm flipV="1">
                <a:off x="3768840" y="4879080"/>
                <a:ext cx="206640" cy="40860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02" name=""/>
              <p:cNvCxnSpPr>
                <a:stCxn id="398" idx="5"/>
                <a:endCxn id="399" idx="1"/>
              </p:cNvCxnSpPr>
              <p:nvPr/>
            </p:nvCxnSpPr>
            <p:spPr>
              <a:xfrm>
                <a:off x="4211640" y="4879440"/>
                <a:ext cx="212760" cy="41868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</p:grpSp>
        <p:sp>
          <p:nvSpPr>
            <p:cNvPr id="403" name=""/>
            <p:cNvSpPr/>
            <p:nvPr/>
          </p:nvSpPr>
          <p:spPr>
            <a:xfrm>
              <a:off x="4371120" y="3767040"/>
              <a:ext cx="338040" cy="342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34440" y="4552920"/>
              <a:ext cx="338040" cy="342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284080" y="5289120"/>
              <a:ext cx="338040" cy="342720"/>
            </a:xfrm>
            <a:prstGeom prst="ellipse">
              <a:avLst/>
            </a:prstGeom>
            <a:noFill/>
            <a:ln cap="sq"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406" name=""/>
            <p:cNvCxnSpPr>
              <a:stCxn id="404" idx="5"/>
              <a:endCxn id="405" idx="1"/>
            </p:cNvCxnSpPr>
            <p:nvPr/>
          </p:nvCxnSpPr>
          <p:spPr>
            <a:xfrm>
              <a:off x="5122080" y="4882680"/>
              <a:ext cx="213840" cy="41940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  <p:cxnSp>
          <p:nvCxnSpPr>
            <p:cNvPr id="407" name=""/>
            <p:cNvCxnSpPr>
              <a:stCxn id="405" idx="2"/>
              <a:endCxn id="399" idx="6"/>
            </p:cNvCxnSpPr>
            <p:nvPr/>
          </p:nvCxnSpPr>
          <p:spPr>
            <a:xfrm flipH="1" flipV="1">
              <a:off x="4752360" y="5457960"/>
              <a:ext cx="491400" cy="396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  <p:cxnSp>
          <p:nvCxnSpPr>
            <p:cNvPr id="408" name=""/>
            <p:cNvCxnSpPr>
              <a:stCxn id="404" idx="3"/>
              <a:endCxn id="399" idx="7"/>
            </p:cNvCxnSpPr>
            <p:nvPr/>
          </p:nvCxnSpPr>
          <p:spPr>
            <a:xfrm flipH="1">
              <a:off x="4661640" y="4882680"/>
              <a:ext cx="223920" cy="41580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  <p:cxnSp>
          <p:nvCxnSpPr>
            <p:cNvPr id="409" name=""/>
            <p:cNvCxnSpPr>
              <a:stCxn id="403" idx="3"/>
              <a:endCxn id="398" idx="7"/>
            </p:cNvCxnSpPr>
            <p:nvPr/>
          </p:nvCxnSpPr>
          <p:spPr>
            <a:xfrm flipH="1">
              <a:off x="4211640" y="4096800"/>
              <a:ext cx="209880" cy="46620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  <p:cxnSp>
          <p:nvCxnSpPr>
            <p:cNvPr id="410" name=""/>
            <p:cNvCxnSpPr>
              <a:stCxn id="404" idx="1"/>
              <a:endCxn id="403" idx="5"/>
            </p:cNvCxnSpPr>
            <p:nvPr/>
          </p:nvCxnSpPr>
          <p:spPr>
            <a:xfrm flipH="1" flipV="1">
              <a:off x="4658400" y="4096440"/>
              <a:ext cx="226800" cy="46908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  <p:cxnSp>
          <p:nvCxnSpPr>
            <p:cNvPr id="411" name=""/>
            <p:cNvCxnSpPr>
              <a:stCxn id="398" idx="6"/>
              <a:endCxn id="404" idx="2"/>
            </p:cNvCxnSpPr>
            <p:nvPr/>
          </p:nvCxnSpPr>
          <p:spPr>
            <a:xfrm>
              <a:off x="4303440" y="4722120"/>
              <a:ext cx="490680" cy="3960"/>
            </a:xfrm>
            <a:prstGeom prst="straightConnector1">
              <a:avLst/>
            </a:prstGeom>
            <a:ln cap="sq" w="38160">
              <a:solidFill>
                <a:srgbClr val="000066"/>
              </a:solidFill>
              <a:miter/>
            </a:ln>
          </p:spPr>
        </p:cxnSp>
      </p:grpSp>
      <p:grpSp>
        <p:nvGrpSpPr>
          <p:cNvPr id="412" name=""/>
          <p:cNvGrpSpPr/>
          <p:nvPr/>
        </p:nvGrpSpPr>
        <p:grpSpPr>
          <a:xfrm>
            <a:off x="6253200" y="3773520"/>
            <a:ext cx="2265840" cy="1823040"/>
            <a:chOff x="6253200" y="3773520"/>
            <a:chExt cx="2265840" cy="1823040"/>
          </a:xfrm>
        </p:grpSpPr>
        <p:grpSp>
          <p:nvGrpSpPr>
            <p:cNvPr id="413" name=""/>
            <p:cNvGrpSpPr/>
            <p:nvPr/>
          </p:nvGrpSpPr>
          <p:grpSpPr>
            <a:xfrm>
              <a:off x="7301160" y="4590000"/>
              <a:ext cx="1217880" cy="1005480"/>
              <a:chOff x="7301160" y="4590000"/>
              <a:chExt cx="1217880" cy="1005480"/>
            </a:xfrm>
          </p:grpSpPr>
          <p:grpSp>
            <p:nvGrpSpPr>
              <p:cNvPr id="414" name=""/>
              <p:cNvGrpSpPr/>
              <p:nvPr/>
            </p:nvGrpSpPr>
            <p:grpSpPr>
              <a:xfrm>
                <a:off x="7301160" y="5012280"/>
                <a:ext cx="699840" cy="581040"/>
                <a:chOff x="7301160" y="5012280"/>
                <a:chExt cx="699840" cy="58104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7301160" y="5403600"/>
                  <a:ext cx="192240" cy="18432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7553160" y="5012280"/>
                  <a:ext cx="192240" cy="18468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808760" y="5408640"/>
                  <a:ext cx="192240" cy="18468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18" name=""/>
                <p:cNvCxnSpPr>
                  <a:stCxn id="415" idx="6"/>
                  <a:endCxn id="417" idx="2"/>
                </p:cNvCxnSpPr>
                <p:nvPr/>
              </p:nvCxnSpPr>
              <p:spPr>
                <a:xfrm>
                  <a:off x="7516080" y="5496120"/>
                  <a:ext cx="269640" cy="540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  <p:cxnSp>
              <p:nvCxnSpPr>
                <p:cNvPr id="419" name=""/>
                <p:cNvCxnSpPr>
                  <a:stCxn id="415" idx="7"/>
                  <a:endCxn id="416" idx="3"/>
                </p:cNvCxnSpPr>
                <p:nvPr/>
              </p:nvCxnSpPr>
              <p:spPr>
                <a:xfrm flipV="1">
                  <a:off x="7464240" y="5189400"/>
                  <a:ext cx="117720" cy="22068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  <p:cxnSp>
              <p:nvCxnSpPr>
                <p:cNvPr id="420" name=""/>
                <p:cNvCxnSpPr>
                  <a:stCxn id="416" idx="5"/>
                  <a:endCxn id="417" idx="1"/>
                </p:cNvCxnSpPr>
                <p:nvPr/>
              </p:nvCxnSpPr>
              <p:spPr>
                <a:xfrm>
                  <a:off x="7716240" y="5190120"/>
                  <a:ext cx="121320" cy="22608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</p:grpSp>
          <p:sp>
            <p:nvSpPr>
              <p:cNvPr id="421" name=""/>
              <p:cNvSpPr/>
              <p:nvPr/>
            </p:nvSpPr>
            <p:spPr>
              <a:xfrm>
                <a:off x="7807320" y="459000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8070840" y="501372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8326800" y="541080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424" name=""/>
              <p:cNvCxnSpPr>
                <a:stCxn id="422" idx="5"/>
                <a:endCxn id="423" idx="1"/>
              </p:cNvCxnSpPr>
              <p:nvPr/>
            </p:nvCxnSpPr>
            <p:spPr>
              <a:xfrm>
                <a:off x="8234280" y="5191560"/>
                <a:ext cx="122040" cy="22644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25" name=""/>
              <p:cNvCxnSpPr>
                <a:stCxn id="423" idx="2"/>
                <a:endCxn id="417" idx="6"/>
              </p:cNvCxnSpPr>
              <p:nvPr/>
            </p:nvCxnSpPr>
            <p:spPr>
              <a:xfrm flipH="1" flipV="1">
                <a:off x="8024040" y="5501520"/>
                <a:ext cx="279720" cy="252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26" name=""/>
              <p:cNvCxnSpPr>
                <a:stCxn id="422" idx="3"/>
                <a:endCxn id="417" idx="7"/>
              </p:cNvCxnSpPr>
              <p:nvPr/>
            </p:nvCxnSpPr>
            <p:spPr>
              <a:xfrm flipH="1">
                <a:off x="7972200" y="5191560"/>
                <a:ext cx="127440" cy="22428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27" name=""/>
              <p:cNvCxnSpPr>
                <a:stCxn id="421" idx="3"/>
                <a:endCxn id="416" idx="7"/>
              </p:cNvCxnSpPr>
              <p:nvPr/>
            </p:nvCxnSpPr>
            <p:spPr>
              <a:xfrm flipH="1">
                <a:off x="7716600" y="4767480"/>
                <a:ext cx="119520" cy="25164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28" name=""/>
              <p:cNvCxnSpPr>
                <a:stCxn id="422" idx="1"/>
                <a:endCxn id="421" idx="5"/>
              </p:cNvCxnSpPr>
              <p:nvPr/>
            </p:nvCxnSpPr>
            <p:spPr>
              <a:xfrm flipH="1" flipV="1">
                <a:off x="7970400" y="4767120"/>
                <a:ext cx="129240" cy="25308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29" name=""/>
              <p:cNvCxnSpPr>
                <a:stCxn id="416" idx="6"/>
                <a:endCxn id="422" idx="2"/>
              </p:cNvCxnSpPr>
              <p:nvPr/>
            </p:nvCxnSpPr>
            <p:spPr>
              <a:xfrm>
                <a:off x="7768800" y="5104800"/>
                <a:ext cx="279360" cy="252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430" name=""/>
            <p:cNvGrpSpPr/>
            <p:nvPr/>
          </p:nvGrpSpPr>
          <p:grpSpPr>
            <a:xfrm>
              <a:off x="6769440" y="3773520"/>
              <a:ext cx="1217520" cy="1005480"/>
              <a:chOff x="6769440" y="3773520"/>
              <a:chExt cx="1217520" cy="1005480"/>
            </a:xfrm>
          </p:grpSpPr>
          <p:grpSp>
            <p:nvGrpSpPr>
              <p:cNvPr id="431" name=""/>
              <p:cNvGrpSpPr/>
              <p:nvPr/>
            </p:nvGrpSpPr>
            <p:grpSpPr>
              <a:xfrm>
                <a:off x="6769440" y="4195800"/>
                <a:ext cx="699840" cy="581040"/>
                <a:chOff x="6769440" y="4195800"/>
                <a:chExt cx="699840" cy="581040"/>
              </a:xfrm>
            </p:grpSpPr>
            <p:sp>
              <p:nvSpPr>
                <p:cNvPr id="432" name=""/>
                <p:cNvSpPr/>
                <p:nvPr/>
              </p:nvSpPr>
              <p:spPr>
                <a:xfrm>
                  <a:off x="6769440" y="4587120"/>
                  <a:ext cx="192240" cy="18432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>
                  <a:off x="7021440" y="4195800"/>
                  <a:ext cx="192240" cy="18468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7277040" y="4592160"/>
                  <a:ext cx="192240" cy="18468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35" name=""/>
                <p:cNvCxnSpPr>
                  <a:stCxn id="432" idx="6"/>
                  <a:endCxn id="434" idx="2"/>
                </p:cNvCxnSpPr>
                <p:nvPr/>
              </p:nvCxnSpPr>
              <p:spPr>
                <a:xfrm>
                  <a:off x="6984360" y="4679640"/>
                  <a:ext cx="269640" cy="540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  <p:cxnSp>
              <p:nvCxnSpPr>
                <p:cNvPr id="436" name=""/>
                <p:cNvCxnSpPr>
                  <a:stCxn id="432" idx="7"/>
                  <a:endCxn id="433" idx="3"/>
                </p:cNvCxnSpPr>
                <p:nvPr/>
              </p:nvCxnSpPr>
              <p:spPr>
                <a:xfrm flipV="1">
                  <a:off x="6932520" y="4372920"/>
                  <a:ext cx="117720" cy="22068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  <p:cxnSp>
              <p:nvCxnSpPr>
                <p:cNvPr id="437" name=""/>
                <p:cNvCxnSpPr>
                  <a:stCxn id="433" idx="5"/>
                  <a:endCxn id="434" idx="1"/>
                </p:cNvCxnSpPr>
                <p:nvPr/>
              </p:nvCxnSpPr>
              <p:spPr>
                <a:xfrm>
                  <a:off x="7184520" y="4373640"/>
                  <a:ext cx="121320" cy="22608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</p:grpSp>
          <p:sp>
            <p:nvSpPr>
              <p:cNvPr id="438" name=""/>
              <p:cNvSpPr/>
              <p:nvPr/>
            </p:nvSpPr>
            <p:spPr>
              <a:xfrm>
                <a:off x="7275240" y="377352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539120" y="419724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794720" y="459432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441" name=""/>
              <p:cNvCxnSpPr>
                <a:stCxn id="439" idx="5"/>
                <a:endCxn id="440" idx="1"/>
              </p:cNvCxnSpPr>
              <p:nvPr/>
            </p:nvCxnSpPr>
            <p:spPr>
              <a:xfrm>
                <a:off x="7702560" y="4375080"/>
                <a:ext cx="121680" cy="22644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42" name=""/>
              <p:cNvCxnSpPr>
                <a:stCxn id="440" idx="2"/>
                <a:endCxn id="434" idx="6"/>
              </p:cNvCxnSpPr>
              <p:nvPr/>
            </p:nvCxnSpPr>
            <p:spPr>
              <a:xfrm flipH="1" flipV="1">
                <a:off x="7491960" y="4685040"/>
                <a:ext cx="279720" cy="252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43" name=""/>
              <p:cNvCxnSpPr>
                <a:stCxn id="439" idx="3"/>
                <a:endCxn id="434" idx="7"/>
              </p:cNvCxnSpPr>
              <p:nvPr/>
            </p:nvCxnSpPr>
            <p:spPr>
              <a:xfrm flipH="1">
                <a:off x="7440480" y="4375080"/>
                <a:ext cx="127440" cy="22428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44" name=""/>
              <p:cNvCxnSpPr>
                <a:stCxn id="438" idx="3"/>
                <a:endCxn id="433" idx="7"/>
              </p:cNvCxnSpPr>
              <p:nvPr/>
            </p:nvCxnSpPr>
            <p:spPr>
              <a:xfrm flipH="1">
                <a:off x="7184880" y="3951000"/>
                <a:ext cx="119520" cy="25164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45" name=""/>
              <p:cNvCxnSpPr>
                <a:stCxn id="439" idx="1"/>
                <a:endCxn id="438" idx="5"/>
              </p:cNvCxnSpPr>
              <p:nvPr/>
            </p:nvCxnSpPr>
            <p:spPr>
              <a:xfrm flipH="1" flipV="1">
                <a:off x="7438320" y="3950640"/>
                <a:ext cx="129240" cy="25308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46" name=""/>
              <p:cNvCxnSpPr>
                <a:stCxn id="433" idx="6"/>
                <a:endCxn id="439" idx="2"/>
              </p:cNvCxnSpPr>
              <p:nvPr/>
            </p:nvCxnSpPr>
            <p:spPr>
              <a:xfrm>
                <a:off x="7237080" y="4288320"/>
                <a:ext cx="279360" cy="252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</p:grpSp>
        <p:grpSp>
          <p:nvGrpSpPr>
            <p:cNvPr id="447" name=""/>
            <p:cNvGrpSpPr/>
            <p:nvPr/>
          </p:nvGrpSpPr>
          <p:grpSpPr>
            <a:xfrm>
              <a:off x="6253200" y="4591800"/>
              <a:ext cx="1217520" cy="1004760"/>
              <a:chOff x="6253200" y="4591800"/>
              <a:chExt cx="1217520" cy="1004760"/>
            </a:xfrm>
          </p:grpSpPr>
          <p:grpSp>
            <p:nvGrpSpPr>
              <p:cNvPr id="448" name=""/>
              <p:cNvGrpSpPr/>
              <p:nvPr/>
            </p:nvGrpSpPr>
            <p:grpSpPr>
              <a:xfrm>
                <a:off x="6253200" y="5013720"/>
                <a:ext cx="699840" cy="580680"/>
                <a:chOff x="6253200" y="5013720"/>
                <a:chExt cx="699840" cy="5806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6253200" y="5404680"/>
                  <a:ext cx="192240" cy="18432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6505200" y="5013720"/>
                  <a:ext cx="192240" cy="18468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6760800" y="5409720"/>
                  <a:ext cx="192240" cy="184680"/>
                </a:xfrm>
                <a:prstGeom prst="ellipse">
                  <a:avLst/>
                </a:prstGeom>
                <a:noFill/>
                <a:ln cap="sq" w="381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cxnSp>
              <p:nvCxnSpPr>
                <p:cNvPr id="452" name=""/>
                <p:cNvCxnSpPr>
                  <a:stCxn id="449" idx="6"/>
                  <a:endCxn id="451" idx="2"/>
                </p:cNvCxnSpPr>
                <p:nvPr/>
              </p:nvCxnSpPr>
              <p:spPr>
                <a:xfrm>
                  <a:off x="6468120" y="5497560"/>
                  <a:ext cx="269640" cy="540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  <p:cxnSp>
              <p:nvCxnSpPr>
                <p:cNvPr id="453" name=""/>
                <p:cNvCxnSpPr>
                  <a:stCxn id="449" idx="7"/>
                  <a:endCxn id="450" idx="3"/>
                </p:cNvCxnSpPr>
                <p:nvPr/>
              </p:nvCxnSpPr>
              <p:spPr>
                <a:xfrm flipV="1">
                  <a:off x="6416280" y="5190480"/>
                  <a:ext cx="117720" cy="22068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  <p:cxnSp>
              <p:nvCxnSpPr>
                <p:cNvPr id="454" name=""/>
                <p:cNvCxnSpPr>
                  <a:stCxn id="450" idx="5"/>
                  <a:endCxn id="451" idx="1"/>
                </p:cNvCxnSpPr>
                <p:nvPr/>
              </p:nvCxnSpPr>
              <p:spPr>
                <a:xfrm>
                  <a:off x="6668280" y="5191200"/>
                  <a:ext cx="121320" cy="226080"/>
                </a:xfrm>
                <a:prstGeom prst="straightConnector1">
                  <a:avLst/>
                </a:prstGeom>
                <a:ln cap="sq" w="38160">
                  <a:solidFill>
                    <a:srgbClr val="000066"/>
                  </a:solidFill>
                  <a:miter/>
                </a:ln>
              </p:spPr>
            </p:cxnSp>
          </p:grpSp>
          <p:sp>
            <p:nvSpPr>
              <p:cNvPr id="455" name=""/>
              <p:cNvSpPr/>
              <p:nvPr/>
            </p:nvSpPr>
            <p:spPr>
              <a:xfrm>
                <a:off x="6759000" y="459180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7022880" y="501516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7278480" y="5411880"/>
                <a:ext cx="192240" cy="184680"/>
              </a:xfrm>
              <a:prstGeom prst="ellipse">
                <a:avLst/>
              </a:prstGeom>
              <a:noFill/>
              <a:ln cap="sq"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cxnSp>
            <p:nvCxnSpPr>
              <p:cNvPr id="458" name=""/>
              <p:cNvCxnSpPr>
                <a:stCxn id="456" idx="5"/>
                <a:endCxn id="457" idx="1"/>
              </p:cNvCxnSpPr>
              <p:nvPr/>
            </p:nvCxnSpPr>
            <p:spPr>
              <a:xfrm>
                <a:off x="7186320" y="5193000"/>
                <a:ext cx="121680" cy="22608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59" name=""/>
              <p:cNvCxnSpPr>
                <a:stCxn id="457" idx="2"/>
                <a:endCxn id="451" idx="6"/>
              </p:cNvCxnSpPr>
              <p:nvPr/>
            </p:nvCxnSpPr>
            <p:spPr>
              <a:xfrm flipH="1" flipV="1">
                <a:off x="6975720" y="5502600"/>
                <a:ext cx="279720" cy="252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60" name=""/>
              <p:cNvCxnSpPr>
                <a:stCxn id="456" idx="3"/>
                <a:endCxn id="451" idx="7"/>
              </p:cNvCxnSpPr>
              <p:nvPr/>
            </p:nvCxnSpPr>
            <p:spPr>
              <a:xfrm flipH="1">
                <a:off x="6924240" y="5192640"/>
                <a:ext cx="127440" cy="22428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61" name=""/>
              <p:cNvCxnSpPr>
                <a:stCxn id="455" idx="3"/>
                <a:endCxn id="450" idx="7"/>
              </p:cNvCxnSpPr>
              <p:nvPr/>
            </p:nvCxnSpPr>
            <p:spPr>
              <a:xfrm flipH="1">
                <a:off x="6668640" y="4769280"/>
                <a:ext cx="119520" cy="25164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62" name=""/>
              <p:cNvCxnSpPr>
                <a:stCxn id="456" idx="1"/>
                <a:endCxn id="455" idx="5"/>
              </p:cNvCxnSpPr>
              <p:nvPr/>
            </p:nvCxnSpPr>
            <p:spPr>
              <a:xfrm flipH="1" flipV="1">
                <a:off x="6922080" y="4768920"/>
                <a:ext cx="129240" cy="25308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  <p:cxnSp>
            <p:nvCxnSpPr>
              <p:cNvPr id="463" name=""/>
              <p:cNvCxnSpPr>
                <a:stCxn id="450" idx="6"/>
                <a:endCxn id="456" idx="2"/>
              </p:cNvCxnSpPr>
              <p:nvPr/>
            </p:nvCxnSpPr>
            <p:spPr>
              <a:xfrm>
                <a:off x="6720840" y="5106240"/>
                <a:ext cx="279360" cy="2520"/>
              </a:xfrm>
              <a:prstGeom prst="straightConnector1">
                <a:avLst/>
              </a:prstGeom>
              <a:ln cap="sq" w="38160">
                <a:solidFill>
                  <a:srgbClr val="000066"/>
                </a:solidFill>
                <a:miter/>
              </a:ln>
            </p:spPr>
          </p:cxnSp>
        </p:grp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4B1B-832F-4309-8D93-A3C965679E4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Intrinsic (‘fractal’) dimension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55640" y="2184120"/>
            <a:ext cx="8569440" cy="2268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How to estimate it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BE06-2D09-4962-B9D3-C8DBABBDD61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Intrinsic (‘fractal’) dimension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755640" y="2184120"/>
            <a:ext cx="4200480" cy="184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2000"/>
          </a:bodyPr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Q: fractal dimension of a line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7760" indent="-34776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: nn ( &lt;= r ) ~ r^</a:t>
            </a:r>
            <a:r>
              <a:rPr b="0" lang="en-US" sz="31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477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(‘</a:t>
            </a:r>
            <a:r>
              <a:rPr b="1" lang="en-US" sz="3100" spc="-1" strike="noStrike">
                <a:solidFill>
                  <a:srgbClr val="000066"/>
                </a:solidFill>
                <a:latin typeface="Times New Roman"/>
              </a:rPr>
              <a:t>power law’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: y=x^</a:t>
            </a:r>
            <a:r>
              <a:rPr b="0" lang="en-US" sz="3100" spc="-1" strike="noStrike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124600" y="2184120"/>
            <a:ext cx="4200480" cy="1679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1000"/>
          </a:bodyPr>
          <a:p>
            <a:pPr marL="343800" indent="-3438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Q: fd of a plane?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800" indent="-343800">
              <a:spcBef>
                <a:spcPts val="649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A: nn ( &lt;= r ) ~ r^</a:t>
            </a:r>
            <a:r>
              <a:rPr b="0" lang="en-US" sz="26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800" indent="0">
              <a:spcBef>
                <a:spcPts val="649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fd== slope of (log(nn) vs log(r) 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marL="343800" indent="0">
              <a:spcBef>
                <a:spcPts val="649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1176480" y="4367160"/>
            <a:ext cx="3192120" cy="2268360"/>
            <a:chOff x="1176480" y="4367160"/>
            <a:chExt cx="3192120" cy="2268360"/>
          </a:xfrm>
        </p:grpSpPr>
        <p:sp>
          <p:nvSpPr>
            <p:cNvPr id="470" name=""/>
            <p:cNvSpPr/>
            <p:nvPr/>
          </p:nvSpPr>
          <p:spPr>
            <a:xfrm>
              <a:off x="1176480" y="4367160"/>
              <a:ext cx="3192120" cy="226836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436480" y="5123160"/>
              <a:ext cx="672120" cy="67176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016360" y="4702680"/>
              <a:ext cx="1512000" cy="151236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04600" y="529128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72360" y="5459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940480" y="562752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08600" y="579528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76720" y="5963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444480" y="613152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32480" y="461916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100600" y="478692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268360" y="4955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436480" y="512316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5208480" y="4367160"/>
            <a:ext cx="3192120" cy="2268360"/>
            <a:chOff x="5208480" y="4367160"/>
            <a:chExt cx="3192120" cy="2268360"/>
          </a:xfrm>
        </p:grpSpPr>
        <p:sp>
          <p:nvSpPr>
            <p:cNvPr id="484" name=""/>
            <p:cNvSpPr/>
            <p:nvPr/>
          </p:nvSpPr>
          <p:spPr>
            <a:xfrm>
              <a:off x="6468480" y="5038920"/>
              <a:ext cx="672120" cy="67176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048360" y="4619160"/>
              <a:ext cx="1512000" cy="1512360"/>
            </a:xfrm>
            <a:prstGeom prst="ellipse">
              <a:avLst/>
            </a:prstGeom>
            <a:noFill/>
            <a:ln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208480" y="4367160"/>
              <a:ext cx="3192120" cy="2268360"/>
            </a:xfrm>
            <a:prstGeom prst="rect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544360" y="478692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44360" y="5207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880600" y="5123160"/>
              <a:ext cx="8352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880600" y="4871160"/>
              <a:ext cx="8352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216480" y="5459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880600" y="571104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52360" y="5795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720480" y="5963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888600" y="6131520"/>
              <a:ext cx="8352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544360" y="453492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056360" y="6299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5880600" y="604728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6216480" y="512316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216480" y="621540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468480" y="5291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552360" y="621540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804360" y="562752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972480" y="5795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140600" y="596304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08720" y="613152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132600" y="453492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6300360" y="47026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712480" y="6047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628600" y="554328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804360" y="537516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7224480" y="4955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40600" y="554328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712480" y="621540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476480" y="587952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544360" y="5795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468480" y="453492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8148600" y="554328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7980480" y="638352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720480" y="478692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888600" y="495504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7308720" y="461916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224480" y="5291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2600" y="545904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300360" y="5711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728480" y="5795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896600" y="5963040"/>
              <a:ext cx="8352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560720" y="6299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7812720" y="461916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804360" y="453492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980480" y="529128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7728480" y="503892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468480" y="4955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964480" y="638352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7644600" y="5375160"/>
              <a:ext cx="8352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804360" y="5207040"/>
              <a:ext cx="83880" cy="8388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8064720" y="4871160"/>
              <a:ext cx="8388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8148600" y="5879520"/>
              <a:ext cx="83520" cy="83520"/>
            </a:xfrm>
            <a:prstGeom prst="ellipse">
              <a:avLst/>
            </a:prstGeom>
            <a:solidFill>
              <a:srgbClr val="000066"/>
            </a:solidFill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2449440" y="5456160"/>
            <a:ext cx="228600" cy="2286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488280" y="5303880"/>
            <a:ext cx="228600" cy="230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F0D1-EF6A-412F-B030-0242E3CDBF04}" type="slidenum">
              <a:t>55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ierpinsky triangl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845640" y="2603160"/>
            <a:ext cx="6797880" cy="4208040"/>
            <a:chOff x="845640" y="2603160"/>
            <a:chExt cx="6797880" cy="4208040"/>
          </a:xfrm>
        </p:grpSpPr>
        <p:sp>
          <p:nvSpPr>
            <p:cNvPr id="543" name=""/>
            <p:cNvSpPr/>
            <p:nvPr/>
          </p:nvSpPr>
          <p:spPr>
            <a:xfrm>
              <a:off x="2939400" y="6131880"/>
              <a:ext cx="47041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2400" rIns="122400" tIns="-61200" bIns="-61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2939400" y="2603160"/>
              <a:ext cx="0" cy="35283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22400" rIns="122400" tIns="61200" bIns="61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23640" y="3443040"/>
              <a:ext cx="4619880" cy="2100240"/>
            </a:xfrm>
            <a:custGeom>
              <a:avLst/>
              <a:gdLst/>
              <a:ahLst/>
              <a:rect l="l" t="t" r="r" b="b"/>
              <a:pathLst>
                <a:path w="2640" h="1200">
                  <a:moveTo>
                    <a:pt x="0" y="1200"/>
                  </a:moveTo>
                  <a:lnTo>
                    <a:pt x="432" y="1200"/>
                  </a:lnTo>
                  <a:lnTo>
                    <a:pt x="624" y="1152"/>
                  </a:lnTo>
                  <a:lnTo>
                    <a:pt x="768" y="1104"/>
                  </a:lnTo>
                  <a:lnTo>
                    <a:pt x="1776" y="192"/>
                  </a:lnTo>
                  <a:lnTo>
                    <a:pt x="1872" y="144"/>
                  </a:lnTo>
                  <a:lnTo>
                    <a:pt x="2016" y="48"/>
                  </a:lnTo>
                  <a:lnTo>
                    <a:pt x="2640" y="0"/>
                  </a:lnTo>
                </a:path>
              </a:pathLst>
            </a:custGeom>
            <a:noFill/>
            <a:ln w="3816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0" rIns="122400" tIns="61200" bIns="612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306840" y="6292440"/>
              <a:ext cx="11628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0" rIns="122400" tIns="61200" bIns="61200" anchor="ctr">
              <a:sp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log( r )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845640" y="2650320"/>
              <a:ext cx="184716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0" rIns="122400" tIns="61200" bIns="61200" anchor="ctr">
              <a:sp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log(#pairs 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000066"/>
                  </a:solidFill>
                  <a:latin typeface="Times New Roman"/>
                </a:rPr>
                <a:t>within &lt;=r )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291640" y="4535640"/>
              <a:ext cx="50364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22400" rIns="122400" tIns="-61200" bIns="-61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6096240" y="4108320"/>
              <a:ext cx="82620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22400" rIns="122400" tIns="61200" bIns="61200" anchor="ctr">
              <a:spAutoFit/>
            </a:bodyPr>
            <a:p>
              <a:pPr algn="ctr"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600" spc="-1" strike="noStrike">
                  <a:solidFill>
                    <a:srgbClr val="ff3300"/>
                  </a:solidFill>
                  <a:latin typeface="Times New Roman"/>
                </a:rPr>
                <a:t>1.58</a:t>
              </a:r>
              <a:endParaRPr b="0" lang="en-US" sz="2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4452840" y="2100240"/>
            <a:ext cx="516600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100" spc="-1" strike="noStrike">
                <a:solidFill>
                  <a:srgbClr val="a50021"/>
                </a:solidFill>
                <a:latin typeface="Times New Roman"/>
              </a:rPr>
              <a:t>== ‘correlation integral’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100" spc="-1" strike="noStrike">
                <a:solidFill>
                  <a:srgbClr val="a50021"/>
                </a:solidFill>
                <a:latin typeface="Times New Roman"/>
              </a:rPr>
              <a:t>= CDF of pairwise distance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860400" y="4649760"/>
            <a:ext cx="1548000" cy="1486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1714-6121-4914-A8C3-503BACDF7CD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Fractals and power law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ey are related concepts: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ractals &lt;=&gt;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elf-similarity &lt;=&gt;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cale-free &lt;=&gt;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 laws ( y= x</a:t>
            </a:r>
            <a:r>
              <a:rPr b="0" lang="en-US" sz="3500" spc="-1" strike="noStrike" baseline="30000">
                <a:solidFill>
                  <a:srgbClr val="a50021"/>
                </a:solidFill>
                <a:latin typeface="Times New Roman"/>
              </a:rPr>
              <a:t>a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 = C r</a:t>
            </a:r>
            <a:r>
              <a:rPr b="0" lang="en-US" sz="3100" spc="-1" strike="noStrike" baseline="30000">
                <a:solidFill>
                  <a:srgbClr val="000066"/>
                </a:solidFill>
                <a:latin typeface="Times New Roman"/>
              </a:rPr>
              <a:t>(-2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vs y=e</a:t>
            </a:r>
            <a:r>
              <a:rPr b="0" lang="en-US" sz="3100" spc="-1" strike="noStrike" baseline="30000">
                <a:solidFill>
                  <a:srgbClr val="000066"/>
                </a:solidFill>
                <a:latin typeface="Times New Roman"/>
              </a:rPr>
              <a:t>-ax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7240680" y="4330800"/>
            <a:ext cx="1546200" cy="148572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/>
          <p:nvPr/>
        </p:nvSpPr>
        <p:spPr>
          <a:xfrm>
            <a:off x="7238880" y="4452840"/>
            <a:ext cx="1733760" cy="1560600"/>
          </a:xfrm>
          <a:prstGeom prst="ellipse">
            <a:avLst/>
          </a:pr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7580160" y="4495680"/>
            <a:ext cx="938520" cy="793800"/>
          </a:xfrm>
          <a:prstGeom prst="ellipse">
            <a:avLst/>
          </a:prstGeom>
          <a:noFill/>
          <a:ln cap="sq"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D909-F1D7-4520-82F1-DC6F4E88634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Fractals and power law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 laws and fractals are closely related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lnSpc>
                <a:spcPct val="90000"/>
              </a:lnSpc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nd fractals appear in </a:t>
            </a: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MANY 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as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coast-lines: 1.1-1.5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brain-surface: 2.6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rain-patches: 1.3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ree-bark: ~2.1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ock prices / random walks: 1.5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lnSpc>
                <a:spcPct val="90000"/>
              </a:lnSpc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... [see Mandelbrot; or Schroeder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 flipH="1">
            <a:off x="8839080" y="304920"/>
            <a:ext cx="990720" cy="6933960"/>
          </a:xfrm>
          <a:custGeom>
            <a:avLst/>
            <a:gdLst>
              <a:gd name="textAreaLeft" fmla="*/ 291240 w 990720"/>
              <a:gd name="textAreaRight" fmla="*/ 991080 w 990720"/>
              <a:gd name="textAreaTop" fmla="*/ 288720 h 6933960"/>
              <a:gd name="textAreaBottom" fmla="*/ 6645240 h 693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452B-7C59-48C7-8B42-89A4655471E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2" marL="1407960" indent="-49500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other power laws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2" marL="1407960" indent="-49500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fractals &amp; self-similarity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lvl="2" marL="1407960" indent="-495000">
              <a:spcBef>
                <a:spcPts val="550"/>
              </a:spcBef>
              <a:buClr>
                <a:srgbClr val="000066"/>
              </a:buClr>
              <a:buFont typeface="Times New Roman"/>
              <a:buChar char="•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case study: Kronecker graph generator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92040" y="5073480"/>
            <a:ext cx="457200" cy="382680"/>
          </a:xfrm>
          <a:prstGeom prst="rightArrow">
            <a:avLst>
              <a:gd name="adj1" fmla="val 50000"/>
              <a:gd name="adj2" fmla="val 29868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FED0D-9C2A-445F-96E9-56800229830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a50021"/>
                </a:solidFill>
                <a:latin typeface="Times New Roman"/>
              </a:rPr>
              <a:t>Virus propagation</a:t>
            </a:r>
            <a:endParaRPr b="0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3: How do viruses/rumors propagat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4: Who is the best person/computer to immunize against a viru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CE93-7277-49DC-BB42-1333B9CFAA6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elf-similarity at work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2: How to generate a realistic graph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(Q2’) and how to grow it over tim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49AC-759F-4841-9500-A30E38C4CF8B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Wish list for a generator: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-tail in- and out-degre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-tail scree plo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shrinking/constant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diamete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ensification Power Law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ommunities-within-communiti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how to achieve all of them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0905-63AC-42B3-879A-87780A53BD1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Wish list for a generator: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-tail in- and out-degre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-tail scree plo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shrinking/constant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diamete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ensification Power Law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ommunities-within-communiti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: how to achieve all of them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Kronecker matrix product [Leskovec+05b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ED17-403C-4F56-9075-30C5BD944723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Kronecker product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rcRect l="11658" t="11096" r="29144" b="41610"/>
          <a:stretch/>
        </p:blipFill>
        <p:spPr>
          <a:xfrm>
            <a:off x="268200" y="2448000"/>
            <a:ext cx="9180720" cy="342252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5943600" y="2057400"/>
            <a:ext cx="3429000" cy="4114800"/>
          </a:xfrm>
          <a:prstGeom prst="rect">
            <a:avLst/>
          </a:prstGeom>
          <a:solidFill>
            <a:srgbClr val="ffffff"/>
          </a:solidFill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57C8-1A91-459A-B20E-42045D44882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Kronecker product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rcRect l="11658" t="11096" r="29144" b="41610"/>
          <a:stretch/>
        </p:blipFill>
        <p:spPr>
          <a:xfrm>
            <a:off x="268200" y="2448000"/>
            <a:ext cx="9180720" cy="3422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06F9-DD27-40F5-A5DA-016CAF4DDFAB}" type="slidenum">
              <a:t>6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Kronecker product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75" name="" descr=""/>
          <p:cNvPicPr/>
          <p:nvPr/>
        </p:nvPicPr>
        <p:blipFill>
          <a:blip r:embed="rId1"/>
          <a:stretch/>
        </p:blipFill>
        <p:spPr>
          <a:xfrm>
            <a:off x="380880" y="1754280"/>
            <a:ext cx="9699840" cy="452592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600200" y="6324480"/>
            <a:ext cx="1143000" cy="0"/>
          </a:xfrm>
          <a:prstGeom prst="line">
            <a:avLst/>
          </a:prstGeom>
          <a:ln cap="sq"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820160" y="6340320"/>
            <a:ext cx="477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654160" y="6354720"/>
            <a:ext cx="975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*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562720" y="6248520"/>
            <a:ext cx="1144440" cy="0"/>
          </a:xfrm>
          <a:prstGeom prst="line">
            <a:avLst/>
          </a:prstGeom>
          <a:ln cap="sq"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7086600" y="6248520"/>
            <a:ext cx="1143000" cy="0"/>
          </a:xfrm>
          <a:prstGeom prst="line">
            <a:avLst/>
          </a:prstGeom>
          <a:ln cap="sq" w="381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120800" y="6324480"/>
            <a:ext cx="109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N**4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ACBF1-3E0C-4329-AA31-90B02279F10E}" type="slidenum">
              <a:t>6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Properties of Kronecker graphs: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-tail in- and out-degre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-tail scree plo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constant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diamete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erfect Densification Power Law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ommunities-within-communiti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73280" y="263700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73280" y="454176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73280" y="393228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73280" y="324648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73280" y="195120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6C89-F600-4978-A87F-1B0CBFC017FE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Properties of Kronecker graphs: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85800" y="201780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-tail in- and out-degre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-law-tail scree plo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constant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diameter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erfect Densification Power Law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ommunities-within-communiti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nd we can </a:t>
            </a:r>
            <a:r>
              <a:rPr b="1" lang="en-US" sz="3500" spc="-1" strike="noStrike" u="sng">
                <a:solidFill>
                  <a:srgbClr val="000066"/>
                </a:solidFill>
                <a:uFillTx/>
                <a:latin typeface="Times New Roman"/>
              </a:rPr>
              <a:t>prove all</a:t>
            </a: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 of the abov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901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</a:rPr>
              <a:t>first and only</a:t>
            </a:r>
            <a:r>
              <a:rPr b="0" lang="en-US" sz="3600" spc="-1" strike="noStrike">
                <a:solidFill>
                  <a:srgbClr val="000066"/>
                </a:solidFill>
                <a:latin typeface="Times New Roman"/>
              </a:rPr>
              <a:t> generator that does that)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73280" y="263700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73280" y="454176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3280" y="393228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73280" y="324648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73280" y="1951200"/>
            <a:ext cx="30456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5C6A-37EF-42E7-9A90-006068F1502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Kronecker - patent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1"/>
          <a:stretch/>
        </p:blipFill>
        <p:spPr>
          <a:xfrm>
            <a:off x="0" y="2212920"/>
            <a:ext cx="8991720" cy="409104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294200" y="5715000"/>
            <a:ext cx="136152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egre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99680" y="5638680"/>
            <a:ext cx="10890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cree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104080" y="5715000"/>
            <a:ext cx="169992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iameter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085520" y="5638680"/>
            <a:ext cx="1258200" cy="57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D.P.L.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1077-45C7-47B3-B2C9-0B69C692A831}" type="slidenum">
              <a:t>6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virus propagation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connection subgraph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cross-association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92040" y="4343400"/>
            <a:ext cx="457200" cy="382680"/>
          </a:xfrm>
          <a:prstGeom prst="rightArrow">
            <a:avLst>
              <a:gd name="adj1" fmla="val 50000"/>
              <a:gd name="adj2" fmla="val 29868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7AB5-C21B-4A12-A718-389D7327240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Graph clustering &amp; mi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5: which edges/nodes are ‘abnormal’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6: split a graph in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‘natural’ communities - but how to determine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76C03-9210-447B-91B5-8A761BB36D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a50021"/>
                </a:solidFill>
                <a:latin typeface="Times New Roman"/>
              </a:rPr>
              <a:t>Virus propagation</a:t>
            </a:r>
            <a:endParaRPr b="0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3: How do viruses/rumors propagat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4: Who is the best person/computer to immunize against a viru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531A-E228-4802-A43B-6AEB42230D7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marL="119160"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he model: SI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755640" y="2015640"/>
            <a:ext cx="8569440" cy="45356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‘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lu’ like: Susceptible-Infected-Susceptible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Virus ‘strength’ s= </a:t>
            </a:r>
            <a:r>
              <a:rPr b="0" i="1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/</a:t>
            </a:r>
            <a:r>
              <a:rPr b="0" i="1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703760" y="5207040"/>
            <a:ext cx="673200" cy="58896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6469200" y="6048360"/>
            <a:ext cx="671400" cy="5875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603520" y="5207040"/>
            <a:ext cx="673200" cy="588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384960" y="4200480"/>
            <a:ext cx="671400" cy="58752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276720" y="5543640"/>
            <a:ext cx="14270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5292720" y="4619520"/>
            <a:ext cx="1176480" cy="6717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292720" y="5711760"/>
            <a:ext cx="1176480" cy="503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100240" y="5880240"/>
            <a:ext cx="1679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Infected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6888240" y="3780000"/>
            <a:ext cx="184788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Healthy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4788000" y="5207040"/>
            <a:ext cx="3366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603520" y="5207040"/>
            <a:ext cx="6732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N1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6469200" y="6048360"/>
            <a:ext cx="671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N3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6384960" y="4200480"/>
            <a:ext cx="6714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Times New Roman"/>
              </a:rPr>
              <a:t>N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4703760" y="5207040"/>
            <a:ext cx="673200" cy="588960"/>
          </a:xfrm>
          <a:prstGeom prst="ellipse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3" name=""/>
          <p:cNvGrpSpPr/>
          <p:nvPr/>
        </p:nvGrpSpPr>
        <p:grpSpPr>
          <a:xfrm>
            <a:off x="3276720" y="4703760"/>
            <a:ext cx="3726720" cy="1355040"/>
            <a:chOff x="3276720" y="4703760"/>
            <a:chExt cx="3726720" cy="1355040"/>
          </a:xfrm>
        </p:grpSpPr>
        <p:sp>
          <p:nvSpPr>
            <p:cNvPr id="624" name=""/>
            <p:cNvSpPr/>
            <p:nvPr/>
          </p:nvSpPr>
          <p:spPr>
            <a:xfrm>
              <a:off x="3612600" y="5207760"/>
              <a:ext cx="923760" cy="167760"/>
            </a:xfrm>
            <a:prstGeom prst="rightArrow">
              <a:avLst>
                <a:gd name="adj1" fmla="val 50000"/>
                <a:gd name="adj2" fmla="val 137661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880" rIns="110880" tIns="28800" bIns="28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2187800">
              <a:off x="5459760" y="5711760"/>
              <a:ext cx="924120" cy="167760"/>
            </a:xfrm>
            <a:prstGeom prst="rightArrow">
              <a:avLst>
                <a:gd name="adj1" fmla="val 50000"/>
                <a:gd name="adj2" fmla="val 137715"/>
              </a:avLst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10880" rIns="110880" tIns="28800" bIns="28800" anchor="t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276720" y="4703760"/>
              <a:ext cx="142776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5440" bIns="5544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Times New Roman"/>
                </a:rPr>
                <a:t>Prob. </a:t>
              </a:r>
              <a:r>
                <a:rPr b="1" lang="el-GR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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236000">
              <a:off x="5542920" y="5375520"/>
              <a:ext cx="1427760" cy="44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1240" rIns="111240" tIns="55440" bIns="5544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Times New Roman"/>
                </a:rPr>
                <a:t>Prob. </a:t>
              </a:r>
              <a:r>
                <a:rPr b="1" lang="el-GR" sz="22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β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28" name=""/>
          <p:cNvGrpSpPr/>
          <p:nvPr/>
        </p:nvGrpSpPr>
        <p:grpSpPr>
          <a:xfrm>
            <a:off x="4200480" y="4200480"/>
            <a:ext cx="1344240" cy="923400"/>
            <a:chOff x="4200480" y="4200480"/>
            <a:chExt cx="1344240" cy="923400"/>
          </a:xfrm>
        </p:grpSpPr>
        <p:grpSp>
          <p:nvGrpSpPr>
            <p:cNvPr id="629" name=""/>
            <p:cNvGrpSpPr/>
            <p:nvPr/>
          </p:nvGrpSpPr>
          <p:grpSpPr>
            <a:xfrm>
              <a:off x="4704480" y="4704480"/>
              <a:ext cx="419760" cy="419400"/>
              <a:chOff x="4704480" y="4704480"/>
              <a:chExt cx="419760" cy="419400"/>
            </a:xfrm>
          </p:grpSpPr>
          <p:sp>
            <p:nvSpPr>
              <p:cNvPr id="630" name=""/>
              <p:cNvSpPr/>
              <p:nvPr/>
            </p:nvSpPr>
            <p:spPr>
              <a:xfrm>
                <a:off x="4872240" y="4704480"/>
                <a:ext cx="83880" cy="41940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440" rIns="100440" tIns="50040" bIns="500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4704480" y="4872240"/>
                <a:ext cx="419760" cy="8388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440" rIns="100440" tIns="33840" bIns="338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704480" y="4704480"/>
                <a:ext cx="419760" cy="419400"/>
              </a:xfrm>
              <a:prstGeom prst="rect">
                <a:avLst/>
              </a:prstGeom>
              <a:noFill/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440" rIns="100440" tIns="50040" bIns="50040" anchor="t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33" name=""/>
            <p:cNvSpPr/>
            <p:nvPr/>
          </p:nvSpPr>
          <p:spPr>
            <a:xfrm>
              <a:off x="4200480" y="4200480"/>
              <a:ext cx="1344240" cy="43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0800" rIns="100800" tIns="50400" bIns="50400" anchor="t">
              <a:spAutoFit/>
            </a:bodyPr>
            <a:p>
              <a:pPr algn="ctr">
                <a:spcBef>
                  <a:spcPts val="1375"/>
                </a:spcBef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2200" spc="-1" strike="noStrike">
                  <a:solidFill>
                    <a:srgbClr val="000066"/>
                  </a:solidFill>
                  <a:latin typeface="Times New Roman"/>
                </a:rPr>
                <a:t>Prob. </a:t>
              </a:r>
              <a:r>
                <a:rPr b="1" lang="en-US" sz="22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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F3B1-7EF5-4904-8862-CDFC151C95F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Epidemic threshold </a:t>
            </a:r>
            <a:r>
              <a:rPr b="0" lang="en-US" sz="4900" spc="-1" strike="noStrike">
                <a:solidFill>
                  <a:srgbClr val="a50021"/>
                </a:solidFill>
                <a:latin typeface="Symbol"/>
                <a:ea typeface="Symbol"/>
              </a:rPr>
              <a:t>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of a graph: the value of </a:t>
            </a:r>
            <a:r>
              <a:rPr b="0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, such that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f   strength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s = </a:t>
            </a:r>
            <a:r>
              <a:rPr b="0" i="1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 / </a:t>
            </a:r>
            <a:r>
              <a:rPr b="0" i="1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 &lt;  </a:t>
            </a:r>
            <a:r>
              <a:rPr b="0" i="1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n epidemic can not happe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hus,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given a graph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ompute its epidemic threshold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5BC2-B2DA-4FBC-BD4D-2183C4A78FE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Epidemic threshold </a:t>
            </a:r>
            <a:r>
              <a:rPr b="0" lang="en-US" sz="4900" spc="-1" strike="noStrike">
                <a:solidFill>
                  <a:srgbClr val="a50021"/>
                </a:solidFill>
                <a:latin typeface="Symbol"/>
                <a:ea typeface="Symbol"/>
              </a:rPr>
              <a:t>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56908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What should </a:t>
            </a:r>
            <a:r>
              <a:rPr b="0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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depend on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vg. degree? and/or highest degree? 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nd/or variance of degre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nd/or third moment of degre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nd/or diameter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38" name=""/>
          <p:cNvGrpSpPr/>
          <p:nvPr/>
        </p:nvGrpSpPr>
        <p:grpSpPr>
          <a:xfrm>
            <a:off x="3863880" y="5124600"/>
            <a:ext cx="1512720" cy="1426680"/>
            <a:chOff x="3863880" y="5124600"/>
            <a:chExt cx="1512720" cy="1426680"/>
          </a:xfrm>
        </p:grpSpPr>
        <p:sp>
          <p:nvSpPr>
            <p:cNvPr id="639" name=""/>
            <p:cNvSpPr/>
            <p:nvPr/>
          </p:nvSpPr>
          <p:spPr>
            <a:xfrm>
              <a:off x="4367880" y="5796000"/>
              <a:ext cx="167760" cy="1681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536000" y="5376240"/>
              <a:ext cx="167760" cy="16776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04120" y="6131880"/>
              <a:ext cx="168120" cy="16776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872240" y="5712120"/>
              <a:ext cx="167760" cy="16776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43" name=""/>
            <p:cNvCxnSpPr>
              <a:stCxn id="642" idx="1"/>
              <a:endCxn id="640" idx="5"/>
            </p:cNvCxnSpPr>
            <p:nvPr/>
          </p:nvCxnSpPr>
          <p:spPr>
            <a:xfrm flipH="1" flipV="1">
              <a:off x="4679280" y="5533200"/>
              <a:ext cx="217440" cy="18936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644" name=""/>
            <p:cNvCxnSpPr>
              <a:stCxn id="641" idx="0"/>
              <a:endCxn id="642" idx="3"/>
            </p:cNvCxnSpPr>
            <p:nvPr/>
          </p:nvCxnSpPr>
          <p:spPr>
            <a:xfrm flipV="1">
              <a:off x="4788000" y="5869080"/>
              <a:ext cx="109080" cy="24876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645" name=""/>
            <p:cNvCxnSpPr>
              <a:stCxn id="639" idx="5"/>
              <a:endCxn id="641" idx="0"/>
            </p:cNvCxnSpPr>
            <p:nvPr/>
          </p:nvCxnSpPr>
          <p:spPr>
            <a:xfrm>
              <a:off x="4511520" y="5952960"/>
              <a:ext cx="277200" cy="16524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sp>
          <p:nvSpPr>
            <p:cNvPr id="646" name=""/>
            <p:cNvSpPr/>
            <p:nvPr/>
          </p:nvSpPr>
          <p:spPr>
            <a:xfrm>
              <a:off x="3863880" y="5124600"/>
              <a:ext cx="1512720" cy="1426680"/>
            </a:xfrm>
            <a:prstGeom prst="ellipse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6553080" y="5040360"/>
            <a:ext cx="1510920" cy="1426680"/>
            <a:chOff x="6553080" y="5040360"/>
            <a:chExt cx="1510920" cy="1426680"/>
          </a:xfrm>
        </p:grpSpPr>
        <p:sp>
          <p:nvSpPr>
            <p:cNvPr id="648" name=""/>
            <p:cNvSpPr/>
            <p:nvPr/>
          </p:nvSpPr>
          <p:spPr>
            <a:xfrm>
              <a:off x="6804720" y="5627880"/>
              <a:ext cx="167760" cy="16740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644240" y="5795640"/>
              <a:ext cx="168120" cy="16776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40240" y="5375880"/>
              <a:ext cx="168120" cy="16740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308360" y="6131520"/>
              <a:ext cx="167760" cy="16740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52" name=""/>
            <p:cNvCxnSpPr>
              <a:stCxn id="650" idx="1"/>
              <a:endCxn id="648" idx="7"/>
            </p:cNvCxnSpPr>
            <p:nvPr/>
          </p:nvCxnSpPr>
          <p:spPr>
            <a:xfrm flipH="1">
              <a:off x="6947640" y="5385960"/>
              <a:ext cx="217440" cy="25236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653" name=""/>
            <p:cNvCxnSpPr>
              <a:stCxn id="650" idx="5"/>
              <a:endCxn id="649" idx="1"/>
            </p:cNvCxnSpPr>
            <p:nvPr/>
          </p:nvCxnSpPr>
          <p:spPr>
            <a:xfrm>
              <a:off x="7283880" y="5533200"/>
              <a:ext cx="385200" cy="27324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654" name=""/>
            <p:cNvCxnSpPr>
              <a:stCxn id="650" idx="4"/>
              <a:endCxn id="651" idx="1"/>
            </p:cNvCxnSpPr>
            <p:nvPr/>
          </p:nvCxnSpPr>
          <p:spPr>
            <a:xfrm>
              <a:off x="7224480" y="5557680"/>
              <a:ext cx="108720" cy="58392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cxnSp>
          <p:nvCxnSpPr>
            <p:cNvPr id="655" name=""/>
            <p:cNvCxnSpPr>
              <a:stCxn id="648" idx="5"/>
              <a:endCxn id="651" idx="1"/>
            </p:cNvCxnSpPr>
            <p:nvPr/>
          </p:nvCxnSpPr>
          <p:spPr>
            <a:xfrm>
              <a:off x="6948000" y="5785200"/>
              <a:ext cx="385200" cy="357120"/>
            </a:xfrm>
            <a:prstGeom prst="straightConnector1">
              <a:avLst/>
            </a:prstGeom>
            <a:ln w="25560">
              <a:solidFill>
                <a:srgbClr val="000066"/>
              </a:solidFill>
              <a:miter/>
            </a:ln>
          </p:spPr>
        </p:cxnSp>
        <p:sp>
          <p:nvSpPr>
            <p:cNvPr id="656" name=""/>
            <p:cNvSpPr/>
            <p:nvPr/>
          </p:nvSpPr>
          <p:spPr>
            <a:xfrm>
              <a:off x="6553080" y="5040360"/>
              <a:ext cx="1510920" cy="1426680"/>
            </a:xfrm>
            <a:prstGeom prst="ellipse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7" name=""/>
          <p:cNvGrpSpPr/>
          <p:nvPr/>
        </p:nvGrpSpPr>
        <p:grpSpPr>
          <a:xfrm>
            <a:off x="1176480" y="5207040"/>
            <a:ext cx="1510920" cy="1428480"/>
            <a:chOff x="1176480" y="5207040"/>
            <a:chExt cx="1510920" cy="1428480"/>
          </a:xfrm>
        </p:grpSpPr>
        <p:sp>
          <p:nvSpPr>
            <p:cNvPr id="658" name=""/>
            <p:cNvSpPr/>
            <p:nvPr/>
          </p:nvSpPr>
          <p:spPr>
            <a:xfrm>
              <a:off x="1428120" y="5627160"/>
              <a:ext cx="168120" cy="1681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268000" y="5879160"/>
              <a:ext cx="167760" cy="1681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1596240" y="6047640"/>
              <a:ext cx="167760" cy="16776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016000" y="5543280"/>
              <a:ext cx="167760" cy="16776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1176480" y="5207040"/>
              <a:ext cx="1510920" cy="1428480"/>
            </a:xfrm>
            <a:prstGeom prst="ellipse">
              <a:avLst/>
            </a:prstGeom>
            <a:noFill/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E412-8CE9-438F-B5A9-6C9198129AD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Epidemic threshol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671400" y="2100240"/>
            <a:ext cx="8988480" cy="2100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900" spc="-1" strike="noStrike">
                <a:solidFill>
                  <a:srgbClr val="000066"/>
                </a:solidFill>
                <a:latin typeface="Times New Roman"/>
              </a:rPr>
              <a:t>[Theorem] We have no epidemic, if </a:t>
            </a:r>
            <a:endParaRPr b="0" lang="en-US" sz="3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529080" y="3611520"/>
            <a:ext cx="4114800" cy="12603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52360" y="3860640"/>
            <a:ext cx="3552120" cy="8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β/δ &lt;</a:t>
            </a:r>
            <a:r>
              <a:rPr b="0" i="1" lang="el-GR" sz="4400" spc="-1" strike="noStrike">
                <a:solidFill>
                  <a:srgbClr val="000066"/>
                </a:solidFill>
                <a:latin typeface="Times New Roman"/>
              </a:rPr>
              <a:t>τ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1/ λ</a:t>
            </a:r>
            <a:r>
              <a:rPr b="0" i="1" lang="en-US" sz="4400" spc="-1" strike="noStrike" baseline="-25000">
                <a:solidFill>
                  <a:srgbClr val="ff0000"/>
                </a:solidFill>
                <a:latin typeface="Times New Roman"/>
              </a:rPr>
              <a:t>1,</a:t>
            </a:r>
            <a:r>
              <a:rPr b="1" i="1" lang="en-US" sz="4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543-6BBB-4ADE-9FFB-1F7EA9D2079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Epidemic threshold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71400" y="2100240"/>
            <a:ext cx="8988480" cy="2100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975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900" spc="-1" strike="noStrike">
                <a:solidFill>
                  <a:srgbClr val="000066"/>
                </a:solidFill>
                <a:latin typeface="Times New Roman"/>
              </a:rPr>
              <a:t>[Theorem] We have no epidemic, if </a:t>
            </a:r>
            <a:endParaRPr b="0" lang="en-US" sz="39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529080" y="3611520"/>
            <a:ext cx="4114800" cy="126036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852360" y="3860640"/>
            <a:ext cx="3552120" cy="8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β/δ &lt;</a:t>
            </a:r>
            <a:r>
              <a:rPr b="0" i="1" lang="el-GR" sz="4400" spc="-1" strike="noStrike">
                <a:solidFill>
                  <a:srgbClr val="000066"/>
                </a:solidFill>
                <a:latin typeface="Times New Roman"/>
              </a:rPr>
              <a:t>τ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=</a:t>
            </a:r>
            <a:r>
              <a:rPr b="0" i="1" lang="en-US" sz="4400" spc="-1" strike="noStrike">
                <a:solidFill>
                  <a:srgbClr val="ff0000"/>
                </a:solidFill>
                <a:latin typeface="Times New Roman"/>
              </a:rPr>
              <a:t> 1/ λ</a:t>
            </a:r>
            <a:r>
              <a:rPr b="0" i="1" lang="en-US" sz="4400" spc="-1" strike="noStrike" baseline="-25000">
                <a:solidFill>
                  <a:srgbClr val="ff0000"/>
                </a:solidFill>
                <a:latin typeface="Times New Roman"/>
              </a:rPr>
              <a:t>1,</a:t>
            </a:r>
            <a:r>
              <a:rPr b="1" i="1" lang="en-US" sz="4400" spc="-1" strike="noStrike" baseline="-25000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286240" y="4944960"/>
            <a:ext cx="3058200" cy="10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Times New Roman"/>
              </a:rPr>
              <a:t>largest eigenvalue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cc0000"/>
                </a:solidFill>
                <a:latin typeface="Times New Roman"/>
              </a:rPr>
              <a:t>of adj. matrix </a:t>
            </a:r>
            <a:r>
              <a:rPr b="1" i="1" lang="en-US" sz="31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1543320" y="5067360"/>
            <a:ext cx="206316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ttack prob.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671400" y="3108240"/>
            <a:ext cx="268920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 algn="ctr">
              <a:spcBef>
                <a:spcPts val="1939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recovery prob.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 flipV="1">
            <a:off x="3444840" y="4619160"/>
            <a:ext cx="335160" cy="755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444840" y="3346560"/>
            <a:ext cx="1008000" cy="601560"/>
          </a:xfrm>
          <a:custGeom>
            <a:avLst/>
            <a:gdLst/>
            <a:ahLst/>
            <a:rect l="l" t="t" r="r" b="b"/>
            <a:pathLst>
              <a:path w="576" h="344">
                <a:moveTo>
                  <a:pt x="0" y="8"/>
                </a:moveTo>
                <a:cubicBezTo>
                  <a:pt x="168" y="4"/>
                  <a:pt x="336" y="0"/>
                  <a:pt x="432" y="56"/>
                </a:cubicBezTo>
                <a:cubicBezTo>
                  <a:pt x="528" y="112"/>
                  <a:pt x="552" y="228"/>
                  <a:pt x="576" y="344"/>
                </a:cubicBezTo>
              </a:path>
            </a:pathLst>
          </a:custGeom>
          <a:noFill/>
          <a:ln w="38160">
            <a:solidFill>
              <a:srgbClr val="00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 flipV="1">
            <a:off x="6553080" y="4535640"/>
            <a:ext cx="82800" cy="504720"/>
          </a:xfrm>
          <a:prstGeom prst="line">
            <a:avLst/>
          </a:prstGeom>
          <a:ln w="381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283640" y="2844720"/>
            <a:ext cx="321084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pidemic threshold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>
            <a:off x="5292360" y="3443400"/>
            <a:ext cx="168120" cy="6728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1280" y="5900760"/>
            <a:ext cx="3480480" cy="6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roof: [Wang+03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1822-6F16-40FE-9E4F-61B0E2033589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/>
          <p:nvPr/>
        </p:nvSpPr>
        <p:spPr>
          <a:xfrm>
            <a:off x="755640" y="6383160"/>
            <a:ext cx="8821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noAutofit/>
          </a:bodyPr>
          <a:p>
            <a:pPr marL="378000" indent="-3780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755640" y="252000"/>
            <a:ext cx="856944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Experiments (Oregon)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682" name=""/>
          <p:cNvGraphicFramePr/>
          <p:nvPr/>
        </p:nvGraphicFramePr>
        <p:xfrm>
          <a:off x="671400" y="1344600"/>
          <a:ext cx="6469200" cy="5494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1344600"/>
                    <a:ext cx="6469200" cy="549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4" name=""/>
          <p:cNvSpPr/>
          <p:nvPr/>
        </p:nvSpPr>
        <p:spPr>
          <a:xfrm flipH="1">
            <a:off x="5796000" y="2519280"/>
            <a:ext cx="1681200" cy="2016360"/>
          </a:xfrm>
          <a:prstGeom prst="line">
            <a:avLst/>
          </a:prstGeom>
          <a:ln w="2556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392960" y="2016000"/>
            <a:ext cx="31924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l-GR" sz="2600" spc="-1" strike="noStrike">
                <a:solidFill>
                  <a:srgbClr val="a50021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/</a:t>
            </a:r>
            <a:r>
              <a:rPr b="1" lang="el-GR" sz="2600" spc="-1" strike="noStrike">
                <a:solidFill>
                  <a:srgbClr val="a50021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&gt; </a:t>
            </a:r>
            <a:r>
              <a:rPr b="1" lang="el-GR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τ</a:t>
            </a:r>
            <a:r>
              <a:rPr b="1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a50021"/>
                </a:solidFill>
                <a:latin typeface="Times New Roman"/>
                <a:ea typeface="Times New Roman"/>
              </a:rPr>
              <a:t>(above threshold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 flipH="1">
            <a:off x="5795640" y="4649760"/>
            <a:ext cx="1444680" cy="725400"/>
          </a:xfrm>
          <a:prstGeom prst="line">
            <a:avLst/>
          </a:prstGeom>
          <a:ln w="255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7240680" y="4200480"/>
            <a:ext cx="309240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l-GR" sz="2600" spc="-1" strike="noStrike">
                <a:solidFill>
                  <a:srgbClr val="008000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/</a:t>
            </a:r>
            <a:r>
              <a:rPr b="1" lang="el-GR" sz="2600" spc="-1" strike="noStrike">
                <a:solidFill>
                  <a:srgbClr val="008000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= </a:t>
            </a:r>
            <a:r>
              <a:rPr b="1" lang="el-GR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τ</a:t>
            </a:r>
            <a:r>
              <a:rPr b="1" lang="en-US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(at the threshold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flipV="1">
            <a:off x="5796000" y="5711760"/>
            <a:ext cx="1596960" cy="503280"/>
          </a:xfrm>
          <a:prstGeom prst="line">
            <a:avLst/>
          </a:prstGeom>
          <a:ln w="255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308720" y="5711760"/>
            <a:ext cx="31924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l-GR" sz="2600" spc="-1" strike="noStrike">
                <a:solidFill>
                  <a:srgbClr val="000066"/>
                </a:solidFill>
                <a:latin typeface="Symbol"/>
                <a:ea typeface="Symbol"/>
              </a:rPr>
              <a:t>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/</a:t>
            </a:r>
            <a:r>
              <a:rPr b="1" lang="el-GR" sz="2600" spc="-1" strike="noStrike">
                <a:solidFill>
                  <a:srgbClr val="000066"/>
                </a:solidFill>
                <a:latin typeface="Symbol"/>
                <a:ea typeface="Symbol"/>
              </a:rPr>
              <a:t>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&lt; </a:t>
            </a:r>
            <a:r>
              <a:rPr b="1" lang="el-GR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τ</a:t>
            </a: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br>
              <a:rPr sz="2600"/>
            </a:br>
            <a:r>
              <a:rPr b="1" lang="en-US" sz="2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(below threshold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1E00-9C6D-45C0-8550-BAAB56EC4FD2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a50021"/>
                </a:solidFill>
                <a:latin typeface="Times New Roman"/>
              </a:rPr>
              <a:t>Our result:</a:t>
            </a:r>
            <a:endParaRPr b="0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Holds for </a:t>
            </a:r>
            <a:r>
              <a:rPr b="1" lang="en-US" sz="3500" spc="-1" strike="noStrike">
                <a:solidFill>
                  <a:srgbClr val="000066"/>
                </a:solidFill>
                <a:latin typeface="Times New Roman"/>
              </a:rPr>
              <a:t>any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graph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includes older results as special cas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3C00-CA45-4575-9F17-BA43956A700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500" spc="-1" strike="noStrike">
                <a:solidFill>
                  <a:srgbClr val="a50021"/>
                </a:solidFill>
                <a:latin typeface="Times New Roman"/>
              </a:rPr>
              <a:t>Virus propagation</a:t>
            </a:r>
            <a:endParaRPr b="0" lang="en-US" sz="45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3: How do viruses/rumors propagate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4: Who is the best person/computer to immunize against a viru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4: the one that causes the highest decrease in  </a:t>
            </a:r>
            <a:r>
              <a:rPr b="0" lang="en-US" sz="35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914400" y="2133720"/>
            <a:ext cx="30492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58DB-7845-4760-B310-BD166C3FEE7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virus propagation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connection subgraph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cross-association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392040" y="5332320"/>
            <a:ext cx="457200" cy="382680"/>
          </a:xfrm>
          <a:prstGeom prst="rightArrow">
            <a:avLst>
              <a:gd name="adj1" fmla="val 50000"/>
              <a:gd name="adj2" fmla="val 29868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831-69B8-4F3C-A07F-46E209DB4CD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92040" y="2863800"/>
            <a:ext cx="457200" cy="382680"/>
          </a:xfrm>
          <a:prstGeom prst="rightArrow">
            <a:avLst>
              <a:gd name="adj1" fmla="val 50000"/>
              <a:gd name="adj2" fmla="val 29868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6AA3-66B0-473F-B8C2-A66F6AB6F6F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8" name="" descr=""/>
          <p:cNvPicPr/>
          <p:nvPr/>
        </p:nvPicPr>
        <p:blipFill>
          <a:blip r:embed="rId1"/>
          <a:srcRect l="-1420" t="44850" r="0" b="38184"/>
          <a:stretch/>
        </p:blipFill>
        <p:spPr>
          <a:xfrm>
            <a:off x="468360" y="3489480"/>
            <a:ext cx="8991720" cy="28936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741240" y="939960"/>
            <a:ext cx="86090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(A-A) Kidman-Diaz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What are the best paths between ‘Kidman’ and ‘Diaz’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703680"/>
            <a:ext cx="1219320" cy="42552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7097760" y="3780000"/>
            <a:ext cx="1219320" cy="42516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572000" y="3430440"/>
            <a:ext cx="1219320" cy="42552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78040" y="6097680"/>
            <a:ext cx="1219320" cy="425520"/>
          </a:xfrm>
          <a:prstGeom prst="ellipse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 flipV="1">
            <a:off x="2144880" y="4160880"/>
            <a:ext cx="685800" cy="3808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 flipV="1">
            <a:off x="3440160" y="3703320"/>
            <a:ext cx="1131840" cy="1522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192640" y="3932280"/>
            <a:ext cx="0" cy="609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flipH="1">
            <a:off x="5421240" y="4084560"/>
            <a:ext cx="1828800" cy="5335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flipV="1">
            <a:off x="3440160" y="5074920"/>
            <a:ext cx="1523880" cy="10666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896C-87FC-4FC0-A97D-996DE325EF3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" descr=""/>
          <p:cNvPicPr/>
          <p:nvPr/>
        </p:nvPicPr>
        <p:blipFill>
          <a:blip r:embed="rId1"/>
          <a:srcRect l="-1420" t="44850" r="0" b="38184"/>
          <a:stretch/>
        </p:blipFill>
        <p:spPr>
          <a:xfrm>
            <a:off x="468360" y="3489480"/>
            <a:ext cx="8991720" cy="289368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741240" y="939960"/>
            <a:ext cx="860904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(A-A) Kidman-Diaz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4506840" y="5684400"/>
            <a:ext cx="152640" cy="30492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952800" y="6008760"/>
            <a:ext cx="3138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imes New Roman"/>
              </a:rPr>
              <a:t>Strong, direct link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What are the best paths between ‘Kidman’ and ‘Diaz’? [KDD’04, w/ McCurley+Tomkins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AD85-FB83-455E-A48A-7D7D9F5B2B9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6000"/>
          </a:bodyPr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virus propagation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connection subgraph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05480" indent="-56664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cross-association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639720" indent="-639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92040" y="5789520"/>
            <a:ext cx="457200" cy="382680"/>
          </a:xfrm>
          <a:prstGeom prst="rightArrow">
            <a:avLst>
              <a:gd name="adj1" fmla="val 50000"/>
              <a:gd name="adj2" fmla="val 29868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CBAE-78CA-47E9-81C3-BCE7603B7DAD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Graph clustering &amp; mi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5: which edges/nodes are ‘abnormal’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6: split a graph in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‘natural’ communities - but how to determine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BDBC-9635-4685-8D07-03A39FC4C404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Graph partitio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78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ocument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term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ustomer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produc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User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web-sit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553080" y="30243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53080" y="3359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553080" y="3695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553080" y="5375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553080" y="5711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53080" y="6048360"/>
            <a:ext cx="250920" cy="2509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148600" y="2771640"/>
            <a:ext cx="252360" cy="252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148600" y="3108240"/>
            <a:ext cx="252360" cy="250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8148600" y="4619520"/>
            <a:ext cx="252360" cy="2523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148600" y="5040360"/>
            <a:ext cx="252360" cy="250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8148600" y="4282920"/>
            <a:ext cx="252360" cy="252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735" name=""/>
          <p:cNvCxnSpPr>
            <a:stCxn id="724" idx="6"/>
            <a:endCxn id="730" idx="2"/>
          </p:cNvCxnSpPr>
          <p:nvPr/>
        </p:nvCxnSpPr>
        <p:spPr>
          <a:xfrm flipV="1">
            <a:off x="6822720" y="2898000"/>
            <a:ext cx="1307160" cy="253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36" name=""/>
          <p:cNvCxnSpPr>
            <a:stCxn id="724" idx="6"/>
            <a:endCxn id="731" idx="2"/>
          </p:cNvCxnSpPr>
          <p:nvPr/>
        </p:nvCxnSpPr>
        <p:spPr>
          <a:xfrm>
            <a:off x="6822720" y="3151080"/>
            <a:ext cx="1307160" cy="835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37" name=""/>
          <p:cNvCxnSpPr>
            <a:stCxn id="725" idx="6"/>
            <a:endCxn id="730" idx="2"/>
          </p:cNvCxnSpPr>
          <p:nvPr/>
        </p:nvCxnSpPr>
        <p:spPr>
          <a:xfrm flipV="1">
            <a:off x="6822720" y="2898360"/>
            <a:ext cx="1307160" cy="5882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38" name=""/>
          <p:cNvCxnSpPr>
            <a:stCxn id="726" idx="6"/>
            <a:endCxn id="731" idx="2"/>
          </p:cNvCxnSpPr>
          <p:nvPr/>
        </p:nvCxnSpPr>
        <p:spPr>
          <a:xfrm flipV="1">
            <a:off x="6822720" y="3233520"/>
            <a:ext cx="1307160" cy="589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39" name=""/>
          <p:cNvCxnSpPr>
            <a:stCxn id="725" idx="6"/>
            <a:endCxn id="731" idx="2"/>
          </p:cNvCxnSpPr>
          <p:nvPr/>
        </p:nvCxnSpPr>
        <p:spPr>
          <a:xfrm flipV="1">
            <a:off x="6822720" y="3233160"/>
            <a:ext cx="1307160" cy="253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40" name=""/>
          <p:cNvCxnSpPr>
            <a:stCxn id="727" idx="6"/>
            <a:endCxn id="734" idx="2"/>
          </p:cNvCxnSpPr>
          <p:nvPr/>
        </p:nvCxnSpPr>
        <p:spPr>
          <a:xfrm flipV="1">
            <a:off x="6822720" y="4409640"/>
            <a:ext cx="1307160" cy="1092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41" name=""/>
          <p:cNvCxnSpPr>
            <a:stCxn id="728" idx="6"/>
            <a:endCxn id="734" idx="2"/>
          </p:cNvCxnSpPr>
          <p:nvPr/>
        </p:nvCxnSpPr>
        <p:spPr>
          <a:xfrm flipV="1">
            <a:off x="6822720" y="4409280"/>
            <a:ext cx="1307160" cy="1429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42" name=""/>
          <p:cNvCxnSpPr>
            <a:stCxn id="729" idx="6"/>
            <a:endCxn id="733" idx="2"/>
          </p:cNvCxnSpPr>
          <p:nvPr/>
        </p:nvCxnSpPr>
        <p:spPr>
          <a:xfrm flipV="1">
            <a:off x="6822720" y="5165280"/>
            <a:ext cx="1307160" cy="1008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43" name=""/>
          <p:cNvCxnSpPr>
            <a:stCxn id="732" idx="2"/>
            <a:endCxn id="728" idx="6"/>
          </p:cNvCxnSpPr>
          <p:nvPr/>
        </p:nvCxnSpPr>
        <p:spPr>
          <a:xfrm flipH="1">
            <a:off x="6822360" y="4746600"/>
            <a:ext cx="1307160" cy="1092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44" name=""/>
          <p:cNvCxnSpPr>
            <a:stCxn id="727" idx="6"/>
            <a:endCxn id="733" idx="2"/>
          </p:cNvCxnSpPr>
          <p:nvPr/>
        </p:nvCxnSpPr>
        <p:spPr>
          <a:xfrm flipV="1">
            <a:off x="6822720" y="5164920"/>
            <a:ext cx="1307160" cy="337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745" name=""/>
          <p:cNvSpPr/>
          <p:nvPr/>
        </p:nvSpPr>
        <p:spPr>
          <a:xfrm>
            <a:off x="6553080" y="4367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553080" y="4703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747" name=""/>
          <p:cNvCxnSpPr>
            <a:stCxn id="745" idx="6"/>
            <a:endCxn id="731" idx="2"/>
          </p:cNvCxnSpPr>
          <p:nvPr/>
        </p:nvCxnSpPr>
        <p:spPr>
          <a:xfrm flipV="1">
            <a:off x="6822720" y="3233160"/>
            <a:ext cx="1307160" cy="126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48" name=""/>
          <p:cNvCxnSpPr>
            <a:stCxn id="745" idx="6"/>
            <a:endCxn id="734" idx="2"/>
          </p:cNvCxnSpPr>
          <p:nvPr/>
        </p:nvCxnSpPr>
        <p:spPr>
          <a:xfrm flipV="1">
            <a:off x="6822720" y="4409640"/>
            <a:ext cx="1307160" cy="84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49" name=""/>
          <p:cNvCxnSpPr>
            <a:stCxn id="746" idx="6"/>
            <a:endCxn id="730" idx="2"/>
          </p:cNvCxnSpPr>
          <p:nvPr/>
        </p:nvCxnSpPr>
        <p:spPr>
          <a:xfrm flipV="1">
            <a:off x="6822720" y="2898000"/>
            <a:ext cx="1307160" cy="193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50" name=""/>
          <p:cNvCxnSpPr>
            <a:stCxn id="746" idx="5"/>
            <a:endCxn id="734" idx="2"/>
          </p:cNvCxnSpPr>
          <p:nvPr/>
        </p:nvCxnSpPr>
        <p:spPr>
          <a:xfrm flipV="1">
            <a:off x="6767280" y="4409640"/>
            <a:ext cx="1362600" cy="529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751" name=""/>
          <p:cNvSpPr/>
          <p:nvPr/>
        </p:nvSpPr>
        <p:spPr>
          <a:xfrm>
            <a:off x="6048360" y="2771640"/>
            <a:ext cx="1176480" cy="134460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6048360" y="5124600"/>
            <a:ext cx="1176480" cy="134280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643880" y="4116240"/>
            <a:ext cx="1176120" cy="134316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728120" y="2352600"/>
            <a:ext cx="1176120" cy="134316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216480" y="4200480"/>
            <a:ext cx="839880" cy="83988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CE4-E34F-4AB0-8520-D0A81F4B0D0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Graph partitio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78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ocument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term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ustomer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produc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User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web-sit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a50021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a50021"/>
                </a:solidFill>
                <a:latin typeface="Times New Roman"/>
              </a:rPr>
              <a:t>Q: HOW MANY PIECE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553080" y="30243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6553080" y="3359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6553080" y="3695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553080" y="5375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553080" y="5711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553080" y="6048360"/>
            <a:ext cx="250920" cy="2509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8148600" y="2771640"/>
            <a:ext cx="252360" cy="252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8148600" y="3108240"/>
            <a:ext cx="252360" cy="250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148600" y="4619520"/>
            <a:ext cx="252360" cy="2523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8148600" y="5040360"/>
            <a:ext cx="252360" cy="250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8148600" y="4282920"/>
            <a:ext cx="252360" cy="252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769" name=""/>
          <p:cNvCxnSpPr>
            <a:stCxn id="758" idx="6"/>
            <a:endCxn id="764" idx="2"/>
          </p:cNvCxnSpPr>
          <p:nvPr/>
        </p:nvCxnSpPr>
        <p:spPr>
          <a:xfrm flipV="1">
            <a:off x="6822720" y="2898000"/>
            <a:ext cx="1307160" cy="253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0" name=""/>
          <p:cNvCxnSpPr>
            <a:stCxn id="758" idx="6"/>
            <a:endCxn id="765" idx="2"/>
          </p:cNvCxnSpPr>
          <p:nvPr/>
        </p:nvCxnSpPr>
        <p:spPr>
          <a:xfrm>
            <a:off x="6822720" y="3151080"/>
            <a:ext cx="1307160" cy="835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1" name=""/>
          <p:cNvCxnSpPr>
            <a:stCxn id="759" idx="6"/>
            <a:endCxn id="764" idx="2"/>
          </p:cNvCxnSpPr>
          <p:nvPr/>
        </p:nvCxnSpPr>
        <p:spPr>
          <a:xfrm flipV="1">
            <a:off x="6822720" y="2898360"/>
            <a:ext cx="1307160" cy="5882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2" name=""/>
          <p:cNvCxnSpPr>
            <a:stCxn id="760" idx="6"/>
            <a:endCxn id="765" idx="2"/>
          </p:cNvCxnSpPr>
          <p:nvPr/>
        </p:nvCxnSpPr>
        <p:spPr>
          <a:xfrm flipV="1">
            <a:off x="6822720" y="3233520"/>
            <a:ext cx="1307160" cy="589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3" name=""/>
          <p:cNvCxnSpPr>
            <a:stCxn id="759" idx="6"/>
            <a:endCxn id="765" idx="2"/>
          </p:cNvCxnSpPr>
          <p:nvPr/>
        </p:nvCxnSpPr>
        <p:spPr>
          <a:xfrm flipV="1">
            <a:off x="6822720" y="3233160"/>
            <a:ext cx="1307160" cy="253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4" name=""/>
          <p:cNvCxnSpPr>
            <a:stCxn id="761" idx="6"/>
            <a:endCxn id="768" idx="2"/>
          </p:cNvCxnSpPr>
          <p:nvPr/>
        </p:nvCxnSpPr>
        <p:spPr>
          <a:xfrm flipV="1">
            <a:off x="6822720" y="4409640"/>
            <a:ext cx="1307160" cy="1092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5" name=""/>
          <p:cNvCxnSpPr>
            <a:stCxn id="762" idx="6"/>
            <a:endCxn id="768" idx="2"/>
          </p:cNvCxnSpPr>
          <p:nvPr/>
        </p:nvCxnSpPr>
        <p:spPr>
          <a:xfrm flipV="1">
            <a:off x="6822720" y="4409280"/>
            <a:ext cx="1307160" cy="1429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6" name=""/>
          <p:cNvCxnSpPr>
            <a:stCxn id="763" idx="6"/>
            <a:endCxn id="767" idx="2"/>
          </p:cNvCxnSpPr>
          <p:nvPr/>
        </p:nvCxnSpPr>
        <p:spPr>
          <a:xfrm flipV="1">
            <a:off x="6822720" y="5165280"/>
            <a:ext cx="1307160" cy="1008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7" name=""/>
          <p:cNvCxnSpPr>
            <a:stCxn id="766" idx="2"/>
            <a:endCxn id="762" idx="6"/>
          </p:cNvCxnSpPr>
          <p:nvPr/>
        </p:nvCxnSpPr>
        <p:spPr>
          <a:xfrm flipH="1">
            <a:off x="6822360" y="4746600"/>
            <a:ext cx="1307160" cy="1092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78" name=""/>
          <p:cNvCxnSpPr>
            <a:stCxn id="761" idx="6"/>
            <a:endCxn id="767" idx="2"/>
          </p:cNvCxnSpPr>
          <p:nvPr/>
        </p:nvCxnSpPr>
        <p:spPr>
          <a:xfrm flipV="1">
            <a:off x="6822720" y="5164920"/>
            <a:ext cx="1307160" cy="337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779" name=""/>
          <p:cNvSpPr/>
          <p:nvPr/>
        </p:nvSpPr>
        <p:spPr>
          <a:xfrm>
            <a:off x="6553080" y="4367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6553080" y="4703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781" name=""/>
          <p:cNvCxnSpPr>
            <a:stCxn id="779" idx="6"/>
            <a:endCxn id="765" idx="2"/>
          </p:cNvCxnSpPr>
          <p:nvPr/>
        </p:nvCxnSpPr>
        <p:spPr>
          <a:xfrm flipV="1">
            <a:off x="6822720" y="3233160"/>
            <a:ext cx="1307160" cy="126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82" name=""/>
          <p:cNvCxnSpPr>
            <a:stCxn id="779" idx="6"/>
            <a:endCxn id="768" idx="2"/>
          </p:cNvCxnSpPr>
          <p:nvPr/>
        </p:nvCxnSpPr>
        <p:spPr>
          <a:xfrm flipV="1">
            <a:off x="6822720" y="4409640"/>
            <a:ext cx="1307160" cy="84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83" name=""/>
          <p:cNvCxnSpPr>
            <a:stCxn id="780" idx="6"/>
            <a:endCxn id="764" idx="2"/>
          </p:cNvCxnSpPr>
          <p:nvPr/>
        </p:nvCxnSpPr>
        <p:spPr>
          <a:xfrm flipV="1">
            <a:off x="6822720" y="2898000"/>
            <a:ext cx="1307160" cy="193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784" name=""/>
          <p:cNvCxnSpPr>
            <a:stCxn id="780" idx="5"/>
            <a:endCxn id="768" idx="2"/>
          </p:cNvCxnSpPr>
          <p:nvPr/>
        </p:nvCxnSpPr>
        <p:spPr>
          <a:xfrm flipV="1">
            <a:off x="6767280" y="4409640"/>
            <a:ext cx="1362600" cy="529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785" name=""/>
          <p:cNvSpPr/>
          <p:nvPr/>
        </p:nvSpPr>
        <p:spPr>
          <a:xfrm>
            <a:off x="6048360" y="2771640"/>
            <a:ext cx="1176480" cy="134460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6048360" y="5124600"/>
            <a:ext cx="1176480" cy="134280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643880" y="4116240"/>
            <a:ext cx="1176120" cy="134316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7728120" y="2352600"/>
            <a:ext cx="1176120" cy="134316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216480" y="4200480"/>
            <a:ext cx="839880" cy="83988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37327-7C56-4E48-96EB-F67458A8E691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Graph partitio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478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Document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term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Customer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product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Users x </a:t>
            </a:r>
            <a:r>
              <a:rPr b="0" lang="en-US" sz="3500" spc="-1" strike="noStrike">
                <a:solidFill>
                  <a:srgbClr val="006600"/>
                </a:solidFill>
                <a:latin typeface="Times New Roman"/>
              </a:rPr>
              <a:t>web-site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a50021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a50021"/>
                </a:solidFill>
                <a:latin typeface="Times New Roman"/>
              </a:rPr>
              <a:t>Q: HOW MANY PIECE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: MDL/ compression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6553080" y="30243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553080" y="3359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553080" y="3695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553080" y="5375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6553080" y="5711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553080" y="6048360"/>
            <a:ext cx="250920" cy="25092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8148600" y="2771640"/>
            <a:ext cx="252360" cy="252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8148600" y="3108240"/>
            <a:ext cx="252360" cy="250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8148600" y="4619520"/>
            <a:ext cx="252360" cy="25236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8148600" y="5040360"/>
            <a:ext cx="252360" cy="2509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148600" y="4282920"/>
            <a:ext cx="252360" cy="252720"/>
          </a:xfrm>
          <a:prstGeom prst="ellipse">
            <a:avLst/>
          </a:prstGeom>
          <a:noFill/>
          <a:ln w="381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803" name=""/>
          <p:cNvCxnSpPr>
            <a:stCxn id="792" idx="6"/>
            <a:endCxn id="798" idx="2"/>
          </p:cNvCxnSpPr>
          <p:nvPr/>
        </p:nvCxnSpPr>
        <p:spPr>
          <a:xfrm flipV="1">
            <a:off x="6822720" y="2898000"/>
            <a:ext cx="1307160" cy="253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04" name=""/>
          <p:cNvCxnSpPr>
            <a:stCxn id="792" idx="6"/>
            <a:endCxn id="799" idx="2"/>
          </p:cNvCxnSpPr>
          <p:nvPr/>
        </p:nvCxnSpPr>
        <p:spPr>
          <a:xfrm>
            <a:off x="6822720" y="3151080"/>
            <a:ext cx="1307160" cy="835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05" name=""/>
          <p:cNvCxnSpPr>
            <a:stCxn id="793" idx="6"/>
            <a:endCxn id="798" idx="2"/>
          </p:cNvCxnSpPr>
          <p:nvPr/>
        </p:nvCxnSpPr>
        <p:spPr>
          <a:xfrm flipV="1">
            <a:off x="6822720" y="2898360"/>
            <a:ext cx="1307160" cy="5882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06" name=""/>
          <p:cNvCxnSpPr>
            <a:stCxn id="794" idx="6"/>
            <a:endCxn id="799" idx="2"/>
          </p:cNvCxnSpPr>
          <p:nvPr/>
        </p:nvCxnSpPr>
        <p:spPr>
          <a:xfrm flipV="1">
            <a:off x="6822720" y="3233520"/>
            <a:ext cx="1307160" cy="5896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07" name=""/>
          <p:cNvCxnSpPr>
            <a:stCxn id="793" idx="6"/>
            <a:endCxn id="799" idx="2"/>
          </p:cNvCxnSpPr>
          <p:nvPr/>
        </p:nvCxnSpPr>
        <p:spPr>
          <a:xfrm flipV="1">
            <a:off x="6822720" y="3233160"/>
            <a:ext cx="1307160" cy="253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08" name=""/>
          <p:cNvCxnSpPr>
            <a:stCxn id="795" idx="6"/>
            <a:endCxn id="802" idx="2"/>
          </p:cNvCxnSpPr>
          <p:nvPr/>
        </p:nvCxnSpPr>
        <p:spPr>
          <a:xfrm flipV="1">
            <a:off x="6822720" y="4409640"/>
            <a:ext cx="1307160" cy="1092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09" name=""/>
          <p:cNvCxnSpPr>
            <a:stCxn id="796" idx="6"/>
            <a:endCxn id="802" idx="2"/>
          </p:cNvCxnSpPr>
          <p:nvPr/>
        </p:nvCxnSpPr>
        <p:spPr>
          <a:xfrm flipV="1">
            <a:off x="6822720" y="4409280"/>
            <a:ext cx="1307160" cy="14295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10" name=""/>
          <p:cNvCxnSpPr>
            <a:stCxn id="797" idx="6"/>
            <a:endCxn id="801" idx="2"/>
          </p:cNvCxnSpPr>
          <p:nvPr/>
        </p:nvCxnSpPr>
        <p:spPr>
          <a:xfrm flipV="1">
            <a:off x="6822720" y="5165280"/>
            <a:ext cx="1307160" cy="10087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11" name=""/>
          <p:cNvCxnSpPr>
            <a:stCxn id="800" idx="2"/>
            <a:endCxn id="796" idx="6"/>
          </p:cNvCxnSpPr>
          <p:nvPr/>
        </p:nvCxnSpPr>
        <p:spPr>
          <a:xfrm flipH="1">
            <a:off x="6822360" y="4746600"/>
            <a:ext cx="1307160" cy="1092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12" name=""/>
          <p:cNvCxnSpPr>
            <a:stCxn id="795" idx="6"/>
            <a:endCxn id="801" idx="2"/>
          </p:cNvCxnSpPr>
          <p:nvPr/>
        </p:nvCxnSpPr>
        <p:spPr>
          <a:xfrm flipV="1">
            <a:off x="6822720" y="5164920"/>
            <a:ext cx="1307160" cy="33732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813" name=""/>
          <p:cNvSpPr/>
          <p:nvPr/>
        </p:nvSpPr>
        <p:spPr>
          <a:xfrm>
            <a:off x="6553080" y="43671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6553080" y="4703760"/>
            <a:ext cx="250920" cy="252360"/>
          </a:xfrm>
          <a:prstGeom prst="ellipse">
            <a:avLst/>
          </a:pr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cxnSp>
        <p:nvCxnSpPr>
          <p:cNvPr id="815" name=""/>
          <p:cNvCxnSpPr>
            <a:stCxn id="813" idx="6"/>
            <a:endCxn id="799" idx="2"/>
          </p:cNvCxnSpPr>
          <p:nvPr/>
        </p:nvCxnSpPr>
        <p:spPr>
          <a:xfrm flipV="1">
            <a:off x="6822720" y="3233160"/>
            <a:ext cx="1307160" cy="126108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16" name=""/>
          <p:cNvCxnSpPr>
            <a:stCxn id="813" idx="6"/>
            <a:endCxn id="802" idx="2"/>
          </p:cNvCxnSpPr>
          <p:nvPr/>
        </p:nvCxnSpPr>
        <p:spPr>
          <a:xfrm flipV="1">
            <a:off x="6822720" y="4409640"/>
            <a:ext cx="1307160" cy="8496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17" name=""/>
          <p:cNvCxnSpPr>
            <a:stCxn id="814" idx="6"/>
            <a:endCxn id="798" idx="2"/>
          </p:cNvCxnSpPr>
          <p:nvPr/>
        </p:nvCxnSpPr>
        <p:spPr>
          <a:xfrm flipV="1">
            <a:off x="6822720" y="2898000"/>
            <a:ext cx="1307160" cy="193284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cxnSp>
        <p:nvCxnSpPr>
          <p:cNvPr id="818" name=""/>
          <p:cNvCxnSpPr>
            <a:stCxn id="814" idx="5"/>
            <a:endCxn id="802" idx="2"/>
          </p:cNvCxnSpPr>
          <p:nvPr/>
        </p:nvCxnSpPr>
        <p:spPr>
          <a:xfrm flipV="1">
            <a:off x="6767280" y="4409640"/>
            <a:ext cx="1362600" cy="529200"/>
          </a:xfrm>
          <a:prstGeom prst="straightConnector1">
            <a:avLst/>
          </a:prstGeom>
          <a:ln w="9360">
            <a:solidFill>
              <a:srgbClr val="000066"/>
            </a:solidFill>
            <a:miter/>
          </a:ln>
        </p:spPr>
      </p:cxnSp>
      <p:sp>
        <p:nvSpPr>
          <p:cNvPr id="819" name=""/>
          <p:cNvSpPr/>
          <p:nvPr/>
        </p:nvSpPr>
        <p:spPr>
          <a:xfrm>
            <a:off x="6048360" y="2771640"/>
            <a:ext cx="1176480" cy="134460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48360" y="5124600"/>
            <a:ext cx="1176480" cy="134280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7643880" y="4116240"/>
            <a:ext cx="1176120" cy="134316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7728120" y="2352600"/>
            <a:ext cx="1176120" cy="134316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6216480" y="4200480"/>
            <a:ext cx="839880" cy="839880"/>
          </a:xfrm>
          <a:prstGeom prst="ellipse">
            <a:avLst/>
          </a:prstGeom>
          <a:noFill/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81E0-6EBC-4158-8312-69782E4017C5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ross-association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998640" y="3193920"/>
          <a:ext cx="290196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8640" y="3193920"/>
                    <a:ext cx="29019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7" name=""/>
          <p:cNvGraphicFramePr/>
          <p:nvPr/>
        </p:nvGraphicFramePr>
        <p:xfrm>
          <a:off x="3603600" y="3192480"/>
          <a:ext cx="2901960" cy="25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03600" y="3192480"/>
                    <a:ext cx="29019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9" name=""/>
          <p:cNvGraphicFramePr/>
          <p:nvPr/>
        </p:nvGraphicFramePr>
        <p:xfrm>
          <a:off x="6300720" y="3154320"/>
          <a:ext cx="2901960" cy="2557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3154320"/>
                    <a:ext cx="2901960" cy="25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1" name=""/>
          <p:cNvSpPr/>
          <p:nvPr/>
        </p:nvSpPr>
        <p:spPr>
          <a:xfrm>
            <a:off x="4521600" y="6093000"/>
            <a:ext cx="700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1x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378560" y="5924520"/>
            <a:ext cx="700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2x2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763640" y="3170160"/>
            <a:ext cx="1524240" cy="30492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36" y="96"/>
                  <a:pt x="272" y="0"/>
                  <a:pt x="432" y="0"/>
                </a:cubicBezTo>
                <a:cubicBezTo>
                  <a:pt x="592" y="0"/>
                  <a:pt x="776" y="96"/>
                  <a:pt x="960" y="192"/>
                </a:cubicBezTo>
              </a:path>
            </a:pathLst>
          </a:custGeom>
          <a:noFill/>
          <a:ln w="28440">
            <a:solidFill>
              <a:srgbClr val="00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068560" y="3094200"/>
            <a:ext cx="609480" cy="38088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36" y="96"/>
                  <a:pt x="272" y="0"/>
                  <a:pt x="432" y="0"/>
                </a:cubicBezTo>
                <a:cubicBezTo>
                  <a:pt x="592" y="0"/>
                  <a:pt x="776" y="96"/>
                  <a:pt x="960" y="192"/>
                </a:cubicBezTo>
              </a:path>
            </a:pathLst>
          </a:custGeom>
          <a:noFill/>
          <a:ln w="28440">
            <a:solidFill>
              <a:srgbClr val="a50021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297160" y="2941560"/>
            <a:ext cx="762120" cy="53352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36" y="96"/>
                  <a:pt x="272" y="0"/>
                  <a:pt x="432" y="0"/>
                </a:cubicBezTo>
                <a:cubicBezTo>
                  <a:pt x="592" y="0"/>
                  <a:pt x="776" y="96"/>
                  <a:pt x="960" y="192"/>
                </a:cubicBezTo>
              </a:path>
            </a:pathLst>
          </a:custGeom>
          <a:noFill/>
          <a:ln w="28440">
            <a:solidFill>
              <a:srgbClr val="0066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 rot="16200000">
            <a:off x="163440" y="4694400"/>
            <a:ext cx="1524240" cy="3045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36" y="96"/>
                  <a:pt x="272" y="0"/>
                  <a:pt x="432" y="0"/>
                </a:cubicBezTo>
                <a:cubicBezTo>
                  <a:pt x="592" y="0"/>
                  <a:pt x="776" y="96"/>
                  <a:pt x="960" y="192"/>
                </a:cubicBezTo>
              </a:path>
            </a:pathLst>
          </a:custGeom>
          <a:noFill/>
          <a:ln w="28440">
            <a:solidFill>
              <a:srgbClr val="3366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rot="16200000">
            <a:off x="582480" y="4656240"/>
            <a:ext cx="609840" cy="38088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36" y="96"/>
                  <a:pt x="272" y="0"/>
                  <a:pt x="432" y="0"/>
                </a:cubicBezTo>
                <a:cubicBezTo>
                  <a:pt x="592" y="0"/>
                  <a:pt x="776" y="96"/>
                  <a:pt x="960" y="192"/>
                </a:cubicBezTo>
              </a:path>
            </a:pathLst>
          </a:custGeom>
          <a:noFill/>
          <a:ln w="28440">
            <a:solidFill>
              <a:srgbClr val="cc0066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rot="16200000">
            <a:off x="277560" y="4579920"/>
            <a:ext cx="1067040" cy="533160"/>
          </a:xfrm>
          <a:custGeom>
            <a:avLst/>
            <a:gdLst/>
            <a:ahLst/>
            <a:rect l="l" t="t" r="r" b="b"/>
            <a:pathLst>
              <a:path w="960" h="192">
                <a:moveTo>
                  <a:pt x="0" y="192"/>
                </a:moveTo>
                <a:cubicBezTo>
                  <a:pt x="136" y="96"/>
                  <a:pt x="272" y="0"/>
                  <a:pt x="432" y="0"/>
                </a:cubicBezTo>
                <a:cubicBezTo>
                  <a:pt x="592" y="0"/>
                  <a:pt x="776" y="96"/>
                  <a:pt x="960" y="192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00FC-2C40-428E-B390-09E201BB60D8}" type="slidenum">
              <a:t>8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ross-association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40" name=""/>
          <p:cNvGraphicFramePr/>
          <p:nvPr/>
        </p:nvGraphicFramePr>
        <p:xfrm>
          <a:off x="671400" y="3192480"/>
          <a:ext cx="2901960" cy="25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400" y="3192480"/>
                    <a:ext cx="29019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2" name=""/>
          <p:cNvGraphicFramePr/>
          <p:nvPr/>
        </p:nvGraphicFramePr>
        <p:xfrm>
          <a:off x="3529080" y="3192480"/>
          <a:ext cx="2900160" cy="25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29080" y="3192480"/>
                    <a:ext cx="29001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"/>
          <p:cNvGraphicFramePr/>
          <p:nvPr/>
        </p:nvGraphicFramePr>
        <p:xfrm>
          <a:off x="6384960" y="3192480"/>
          <a:ext cx="2900160" cy="25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84960" y="3192480"/>
                    <a:ext cx="29001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6" name=""/>
          <p:cNvSpPr/>
          <p:nvPr/>
        </p:nvSpPr>
        <p:spPr>
          <a:xfrm>
            <a:off x="1497600" y="5924520"/>
            <a:ext cx="700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2x3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4773960" y="5842080"/>
            <a:ext cx="700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3x3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7545960" y="5757840"/>
            <a:ext cx="700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3x4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955C-0799-415A-B618-FE74267B9A11}" type="slidenum">
              <a:t>8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ross-association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50" name=""/>
          <p:cNvGraphicFramePr/>
          <p:nvPr/>
        </p:nvGraphicFramePr>
        <p:xfrm>
          <a:off x="1092240" y="2911320"/>
          <a:ext cx="2882880" cy="25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2911320"/>
                    <a:ext cx="288288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2" name=""/>
          <p:cNvGraphicFramePr/>
          <p:nvPr/>
        </p:nvGraphicFramePr>
        <p:xfrm>
          <a:off x="3695760" y="2913120"/>
          <a:ext cx="2882880" cy="25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5760" y="2913120"/>
                    <a:ext cx="288288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4" name=""/>
          <p:cNvGraphicFramePr/>
          <p:nvPr/>
        </p:nvGraphicFramePr>
        <p:xfrm>
          <a:off x="6300720" y="2905200"/>
          <a:ext cx="2892600" cy="25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2905200"/>
                    <a:ext cx="289260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D21A-59AE-4990-8C84-11EB4E74F68A}" type="slidenum">
              <a:t>8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Topology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1342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0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1: How does the Internet look like? Any rules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87480" y="3024360"/>
            <a:ext cx="3054240" cy="3358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4871880" y="3678840"/>
            <a:ext cx="46720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ctr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(Looks random – right?)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1434-4259-4C16-A32A-E500CF58031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ross-association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57" name=""/>
          <p:cNvGraphicFramePr/>
          <p:nvPr/>
        </p:nvGraphicFramePr>
        <p:xfrm>
          <a:off x="6300720" y="2905200"/>
          <a:ext cx="2892600" cy="25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0720" y="2905200"/>
                    <a:ext cx="289260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9" name=""/>
          <p:cNvGraphicFramePr/>
          <p:nvPr/>
        </p:nvGraphicFramePr>
        <p:xfrm>
          <a:off x="533520" y="2895480"/>
          <a:ext cx="2901960" cy="2556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2895480"/>
                    <a:ext cx="29019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1" name=""/>
          <p:cNvGraphicFramePr/>
          <p:nvPr/>
        </p:nvGraphicFramePr>
        <p:xfrm>
          <a:off x="3429000" y="4038480"/>
          <a:ext cx="2901960" cy="255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4038480"/>
                    <a:ext cx="29019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3" name=""/>
          <p:cNvSpPr/>
          <p:nvPr/>
        </p:nvSpPr>
        <p:spPr>
          <a:xfrm rot="772200">
            <a:off x="3123720" y="55627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rot="20395800">
            <a:off x="6400800" y="5638320"/>
            <a:ext cx="457200" cy="457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a50021"/>
          </a:solidFill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785-9FEC-408E-B320-390388E128AA}" type="slidenum">
              <a:t>9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Graph clustering &amp; mi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5: which edges/nodes are ‘abnormal’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Q6: split a graph in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‘natural’ communities - but how to determine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?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6: choose the </a:t>
            </a:r>
            <a:r>
              <a:rPr b="0" i="1" lang="en-US" sz="35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 that leads to best overall compression (= MDL = Minimum Description Language)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838080" y="3352680"/>
            <a:ext cx="304920" cy="457200"/>
          </a:xfrm>
          <a:custGeom>
            <a:avLst/>
            <a:gdLst/>
            <a:ahLst/>
            <a:rect l="l" t="t" r="r" b="b"/>
            <a:pathLst>
              <a:path w="672" h="672">
                <a:moveTo>
                  <a:pt x="0" y="288"/>
                </a:moveTo>
                <a:lnTo>
                  <a:pt x="144" y="672"/>
                </a:lnTo>
                <a:lnTo>
                  <a:pt x="672" y="0"/>
                </a:lnTo>
                <a:lnTo>
                  <a:pt x="185" y="439"/>
                </a:lnTo>
                <a:lnTo>
                  <a:pt x="0" y="288"/>
                </a:lnTo>
                <a:close/>
              </a:path>
            </a:pathLst>
          </a:custGeom>
          <a:solidFill>
            <a:srgbClr val="a50021"/>
          </a:solidFill>
          <a:ln w="284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B48EB-8765-472F-A9AB-65DFB563C75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ross-association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graphicFrame>
        <p:nvGraphicFramePr>
          <p:cNvPr id="869" name=""/>
          <p:cNvGraphicFramePr/>
          <p:nvPr/>
        </p:nvGraphicFramePr>
        <p:xfrm>
          <a:off x="1092240" y="2911320"/>
          <a:ext cx="2882880" cy="25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92240" y="2911320"/>
                    <a:ext cx="2882880" cy="25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1" name=""/>
          <p:cNvGraphicFramePr/>
          <p:nvPr/>
        </p:nvGraphicFramePr>
        <p:xfrm>
          <a:off x="3695760" y="2913120"/>
          <a:ext cx="2882880" cy="2539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95760" y="2913120"/>
                    <a:ext cx="2882880" cy="25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3" name=""/>
          <p:cNvGraphicFramePr/>
          <p:nvPr/>
        </p:nvGraphicFramePr>
        <p:xfrm>
          <a:off x="6300720" y="2905200"/>
          <a:ext cx="2892600" cy="2549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00720" y="2905200"/>
                    <a:ext cx="2892600" cy="25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5" name=""/>
          <p:cNvSpPr/>
          <p:nvPr/>
        </p:nvSpPr>
        <p:spPr>
          <a:xfrm>
            <a:off x="7859880" y="3703680"/>
            <a:ext cx="228600" cy="228600"/>
          </a:xfrm>
          <a:prstGeom prst="ellipse">
            <a:avLst/>
          </a:prstGeom>
          <a:noFill/>
          <a:ln w="284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8012160" y="2712960"/>
            <a:ext cx="304920" cy="990720"/>
          </a:xfrm>
          <a:prstGeom prst="line">
            <a:avLst/>
          </a:prstGeom>
          <a:ln w="28440">
            <a:solidFill>
              <a:srgbClr val="a50021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402680" y="2103480"/>
            <a:ext cx="186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outlier ed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361280" y="3627360"/>
            <a:ext cx="228600" cy="228600"/>
          </a:xfrm>
          <a:prstGeom prst="ellipse">
            <a:avLst/>
          </a:prstGeom>
          <a:noFill/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 flipV="1">
            <a:off x="6183000" y="2560320"/>
            <a:ext cx="1143000" cy="1143000"/>
          </a:xfrm>
          <a:prstGeom prst="line">
            <a:avLst/>
          </a:prstGeom>
          <a:ln w="28440">
            <a:solidFill>
              <a:srgbClr val="0066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800600" y="1951200"/>
            <a:ext cx="204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00"/>
                </a:solidFill>
                <a:latin typeface="Times New Roman"/>
              </a:rPr>
              <a:t>missing edge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8214-912E-4F8F-B343-C05026759662}" type="slidenum">
              <a:t>9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static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time-evolution laws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lvl="1" marL="1047600" indent="-590400">
              <a:spcBef>
                <a:spcPts val="675"/>
              </a:spcBef>
              <a:buClr>
                <a:srgbClr val="000066"/>
              </a:buClr>
              <a:buFont typeface="Times New Roman"/>
              <a:buChar char="–"/>
              <a:tabLst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700" spc="-1" strike="noStrike">
                <a:solidFill>
                  <a:srgbClr val="000066"/>
                </a:solidFill>
                <a:latin typeface="Times New Roman"/>
              </a:rPr>
              <a:t>why so many power laws?</a:t>
            </a:r>
            <a:endParaRPr b="0" lang="en-US" sz="27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other related projec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04920" y="4952880"/>
            <a:ext cx="457200" cy="382680"/>
          </a:xfrm>
          <a:prstGeom prst="rightArrow">
            <a:avLst>
              <a:gd name="adj1" fmla="val 50000"/>
              <a:gd name="adj2" fmla="val 29868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C07C-659F-48F1-89B8-2C00B2EFFB2D}" type="slidenum">
              <a:t>9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tream mi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pic>
        <p:nvPicPr>
          <p:cNvPr id="885" name="" descr=""/>
          <p:cNvPicPr/>
          <p:nvPr/>
        </p:nvPicPr>
        <p:blipFill>
          <a:blip r:embed="rId1"/>
          <a:stretch/>
        </p:blipFill>
        <p:spPr>
          <a:xfrm>
            <a:off x="-96840" y="1595520"/>
            <a:ext cx="4213080" cy="3495600"/>
          </a:xfrm>
          <a:prstGeom prst="rect">
            <a:avLst/>
          </a:prstGeom>
          <a:ln w="0">
            <a:noFill/>
          </a:ln>
        </p:spPr>
      </p:pic>
      <p:sp>
        <p:nvSpPr>
          <p:cNvPr id="886" name=""/>
          <p:cNvSpPr/>
          <p:nvPr/>
        </p:nvSpPr>
        <p:spPr>
          <a:xfrm>
            <a:off x="501840" y="5040360"/>
            <a:ext cx="33904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Verdana"/>
              </a:rPr>
              <a:t>water distribution networ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887" name=""/>
          <p:cNvGrpSpPr/>
          <p:nvPr/>
        </p:nvGrpSpPr>
        <p:grpSpPr>
          <a:xfrm>
            <a:off x="5727600" y="1595520"/>
            <a:ext cx="6200640" cy="3863520"/>
            <a:chOff x="5727600" y="1595520"/>
            <a:chExt cx="6200640" cy="3863520"/>
          </a:xfrm>
        </p:grpSpPr>
        <p:grpSp>
          <p:nvGrpSpPr>
            <p:cNvPr id="888" name=""/>
            <p:cNvGrpSpPr/>
            <p:nvPr/>
          </p:nvGrpSpPr>
          <p:grpSpPr>
            <a:xfrm>
              <a:off x="5727600" y="1595520"/>
              <a:ext cx="6116040" cy="3817800"/>
              <a:chOff x="5727600" y="1595520"/>
              <a:chExt cx="6116040" cy="3817800"/>
            </a:xfrm>
          </p:grpSpPr>
          <p:grpSp>
            <p:nvGrpSpPr>
              <p:cNvPr id="889" name=""/>
              <p:cNvGrpSpPr/>
              <p:nvPr/>
            </p:nvGrpSpPr>
            <p:grpSpPr>
              <a:xfrm>
                <a:off x="5879880" y="1595520"/>
                <a:ext cx="5963760" cy="3817800"/>
                <a:chOff x="5879880" y="1595520"/>
                <a:chExt cx="5963760" cy="3817800"/>
              </a:xfrm>
            </p:grpSpPr>
            <p:pic>
              <p:nvPicPr>
                <p:cNvPr id="890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879880" y="1595520"/>
                  <a:ext cx="4695120" cy="381780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891" name=""/>
                <p:cNvGrpSpPr/>
                <p:nvPr/>
              </p:nvGrpSpPr>
              <p:grpSpPr>
                <a:xfrm>
                  <a:off x="6690600" y="1595520"/>
                  <a:ext cx="3533400" cy="329400"/>
                  <a:chOff x="6690600" y="1595520"/>
                  <a:chExt cx="3533400" cy="329400"/>
                </a:xfrm>
              </p:grpSpPr>
              <p:sp>
                <p:nvSpPr>
                  <p:cNvPr id="892" name=""/>
                  <p:cNvSpPr/>
                  <p:nvPr/>
                </p:nvSpPr>
                <p:spPr>
                  <a:xfrm>
                    <a:off x="6690600" y="1595520"/>
                    <a:ext cx="9309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800" rIns="100800" tIns="50400" bIns="504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008000"/>
                        <a:tab algn="l" pos="2016000"/>
                        <a:tab algn="l" pos="3024360"/>
                        <a:tab algn="l" pos="4032360"/>
                        <a:tab algn="l" pos="5040360"/>
                        <a:tab algn="l" pos="6048360"/>
                        <a:tab algn="l" pos="7056360"/>
                        <a:tab algn="l" pos="8064360"/>
                        <a:tab algn="l" pos="9072720"/>
                        <a:tab algn="l" pos="10080720"/>
                      </a:tabLst>
                    </a:pPr>
                    <a:r>
                      <a:rPr b="1" lang="en-US" sz="1500" spc="-1" strike="noStrike">
                        <a:solidFill>
                          <a:srgbClr val="006600"/>
                        </a:solidFill>
                        <a:latin typeface="Verdana"/>
                      </a:rPr>
                      <a:t>Phase 1</a:t>
                    </a:r>
                    <a:endParaRPr b="0" lang="en-US" sz="15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3" name=""/>
                  <p:cNvSpPr/>
                  <p:nvPr/>
                </p:nvSpPr>
                <p:spPr>
                  <a:xfrm>
                    <a:off x="8034480" y="1595520"/>
                    <a:ext cx="9309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800" rIns="100800" tIns="50400" bIns="504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008000"/>
                        <a:tab algn="l" pos="2016000"/>
                        <a:tab algn="l" pos="3024360"/>
                        <a:tab algn="l" pos="4032360"/>
                        <a:tab algn="l" pos="5040360"/>
                        <a:tab algn="l" pos="6048360"/>
                        <a:tab algn="l" pos="7056360"/>
                        <a:tab algn="l" pos="8064360"/>
                        <a:tab algn="l" pos="9072720"/>
                        <a:tab algn="l" pos="10080720"/>
                      </a:tabLst>
                    </a:pPr>
                    <a:r>
                      <a:rPr b="1" lang="en-US" sz="1500" spc="-1" strike="noStrike">
                        <a:solidFill>
                          <a:srgbClr val="cc3300"/>
                        </a:solidFill>
                        <a:latin typeface="Verdana"/>
                      </a:rPr>
                      <a:t>Phase 2</a:t>
                    </a:r>
                    <a:endParaRPr b="0" lang="en-US" sz="15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9293040" y="1595520"/>
                    <a:ext cx="930960" cy="32940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100800" rIns="100800" tIns="50400" bIns="504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1008000"/>
                        <a:tab algn="l" pos="2016000"/>
                        <a:tab algn="l" pos="3024360"/>
                        <a:tab algn="l" pos="4032360"/>
                        <a:tab algn="l" pos="5040360"/>
                        <a:tab algn="l" pos="6048360"/>
                        <a:tab algn="l" pos="7056360"/>
                        <a:tab algn="l" pos="8064360"/>
                        <a:tab algn="l" pos="9072720"/>
                        <a:tab algn="l" pos="10080720"/>
                      </a:tabLst>
                    </a:pPr>
                    <a:r>
                      <a:rPr b="1" lang="en-US" sz="1500" spc="-1" strike="noStrike">
                        <a:solidFill>
                          <a:srgbClr val="006600"/>
                        </a:solidFill>
                        <a:latin typeface="Verdana"/>
                      </a:rPr>
                      <a:t>Phase 3</a:t>
                    </a:r>
                    <a:endParaRPr b="0" lang="en-US" sz="15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6329520" y="1894680"/>
                  <a:ext cx="4251600" cy="3416040"/>
                  <a:chOff x="6329520" y="1894680"/>
                  <a:chExt cx="4251600" cy="3416040"/>
                </a:xfrm>
              </p:grpSpPr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6336360" y="1894680"/>
                    <a:ext cx="4244760" cy="1617480"/>
                    <a:chOff x="6336360" y="1894680"/>
                    <a:chExt cx="4244760" cy="1617480"/>
                  </a:xfrm>
                </p:grpSpPr>
                <p:grpSp>
                  <p:nvGrpSpPr>
                    <p:cNvPr id="897" name=""/>
                    <p:cNvGrpSpPr/>
                    <p:nvPr/>
                  </p:nvGrpSpPr>
                  <p:grpSpPr>
                    <a:xfrm>
                      <a:off x="6336360" y="1894680"/>
                      <a:ext cx="4237920" cy="666000"/>
                      <a:chOff x="6336360" y="1894680"/>
                      <a:chExt cx="4237920" cy="666000"/>
                    </a:xfrm>
                  </p:grpSpPr>
                  <p:pic>
                    <p:nvPicPr>
                      <p:cNvPr id="898" name="" descr=""/>
                      <p:cNvPicPr/>
                      <p:nvPr/>
                    </p:nvPicPr>
                    <p:blipFill>
                      <a:blip r:embed="rId3"/>
                      <a:srcRect l="9739" t="7880" r="0" b="63042"/>
                      <a:stretch/>
                    </p:blipFill>
                    <p:spPr>
                      <a:xfrm>
                        <a:off x="6336360" y="1894680"/>
                        <a:ext cx="4237920" cy="664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899" name=""/>
                      <p:cNvSpPr/>
                      <p:nvPr/>
                    </p:nvSpPr>
                    <p:spPr>
                      <a:xfrm>
                        <a:off x="6362280" y="1903320"/>
                        <a:ext cx="4080960" cy="657360"/>
                      </a:xfrm>
                      <a:prstGeom prst="rect">
                        <a:avLst/>
                      </a:prstGeom>
                      <a:noFill/>
                      <a:ln w="19080">
                        <a:solidFill>
                          <a:srgbClr val="1111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00" name=""/>
                    <p:cNvGrpSpPr/>
                    <p:nvPr/>
                  </p:nvGrpSpPr>
                  <p:grpSpPr>
                    <a:xfrm>
                      <a:off x="6342840" y="2846160"/>
                      <a:ext cx="4238280" cy="666000"/>
                      <a:chOff x="6342840" y="2846160"/>
                      <a:chExt cx="4238280" cy="666000"/>
                    </a:xfrm>
                  </p:grpSpPr>
                  <p:pic>
                    <p:nvPicPr>
                      <p:cNvPr id="901" name="" descr=""/>
                      <p:cNvPicPr/>
                      <p:nvPr/>
                    </p:nvPicPr>
                    <p:blipFill>
                      <a:blip r:embed="rId4"/>
                      <a:srcRect l="9739" t="7880" r="0" b="63042"/>
                      <a:stretch/>
                    </p:blipFill>
                    <p:spPr>
                      <a:xfrm>
                        <a:off x="6342840" y="2846160"/>
                        <a:ext cx="4238280" cy="6642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02" name=""/>
                      <p:cNvSpPr/>
                      <p:nvPr/>
                    </p:nvSpPr>
                    <p:spPr>
                      <a:xfrm>
                        <a:off x="6368760" y="2854800"/>
                        <a:ext cx="4080960" cy="657360"/>
                      </a:xfrm>
                      <a:prstGeom prst="rect">
                        <a:avLst/>
                      </a:prstGeom>
                      <a:noFill/>
                      <a:ln w="19080">
                        <a:solidFill>
                          <a:srgbClr val="1111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03" name=""/>
                    <p:cNvSpPr/>
                    <p:nvPr/>
                  </p:nvSpPr>
                  <p:spPr>
                    <a:xfrm>
                      <a:off x="6362280" y="2553840"/>
                      <a:ext cx="4080600" cy="300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200" spc="-1" strike="noStrike">
                          <a:solidFill>
                            <a:srgbClr val="111111"/>
                          </a:solidFill>
                          <a:latin typeface="Verdana"/>
                        </a:rPr>
                        <a:t>:  :          :  :           :  :</a:t>
                      </a:r>
                      <a:endParaRPr b="0" lang="en-US" sz="2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904" name=""/>
                  <p:cNvGrpSpPr/>
                  <p:nvPr/>
                </p:nvGrpSpPr>
                <p:grpSpPr>
                  <a:xfrm>
                    <a:off x="6329520" y="3728160"/>
                    <a:ext cx="4237560" cy="1582560"/>
                    <a:chOff x="6329520" y="3728160"/>
                    <a:chExt cx="4237560" cy="1582560"/>
                  </a:xfrm>
                </p:grpSpPr>
                <p:grpSp>
                  <p:nvGrpSpPr>
                    <p:cNvPr id="905" name=""/>
                    <p:cNvGrpSpPr/>
                    <p:nvPr/>
                  </p:nvGrpSpPr>
                  <p:grpSpPr>
                    <a:xfrm>
                      <a:off x="6329520" y="3728160"/>
                      <a:ext cx="4237560" cy="659160"/>
                      <a:chOff x="6329520" y="3728160"/>
                      <a:chExt cx="4237560" cy="659160"/>
                    </a:xfrm>
                  </p:grpSpPr>
                  <p:pic>
                    <p:nvPicPr>
                      <p:cNvPr id="906" name="" descr=""/>
                      <p:cNvPicPr/>
                      <p:nvPr/>
                    </p:nvPicPr>
                    <p:blipFill>
                      <a:blip r:embed="rId5"/>
                      <a:srcRect l="9739" t="55163" r="0" b="27579"/>
                      <a:stretch/>
                    </p:blipFill>
                    <p:spPr>
                      <a:xfrm>
                        <a:off x="6329520" y="3728160"/>
                        <a:ext cx="4237560" cy="65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07" name=""/>
                      <p:cNvSpPr/>
                      <p:nvPr/>
                    </p:nvSpPr>
                    <p:spPr>
                      <a:xfrm>
                        <a:off x="6362640" y="3729960"/>
                        <a:ext cx="4080240" cy="657360"/>
                      </a:xfrm>
                      <a:prstGeom prst="rect">
                        <a:avLst/>
                      </a:prstGeom>
                      <a:noFill/>
                      <a:ln w="19080">
                        <a:solidFill>
                          <a:srgbClr val="1111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908" name=""/>
                    <p:cNvGrpSpPr/>
                    <p:nvPr/>
                  </p:nvGrpSpPr>
                  <p:grpSpPr>
                    <a:xfrm>
                      <a:off x="6329520" y="4651560"/>
                      <a:ext cx="4237560" cy="659160"/>
                      <a:chOff x="6329520" y="4651560"/>
                      <a:chExt cx="4237560" cy="659160"/>
                    </a:xfrm>
                  </p:grpSpPr>
                  <p:pic>
                    <p:nvPicPr>
                      <p:cNvPr id="909" name="" descr=""/>
                      <p:cNvPicPr/>
                      <p:nvPr/>
                    </p:nvPicPr>
                    <p:blipFill>
                      <a:blip r:embed="rId6"/>
                      <a:srcRect l="9739" t="55163" r="0" b="27579"/>
                      <a:stretch/>
                    </p:blipFill>
                    <p:spPr>
                      <a:xfrm>
                        <a:off x="6329520" y="4651560"/>
                        <a:ext cx="4237560" cy="657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  <p:sp>
                    <p:nvSpPr>
                      <p:cNvPr id="910" name=""/>
                      <p:cNvSpPr/>
                      <p:nvPr/>
                    </p:nvSpPr>
                    <p:spPr>
                      <a:xfrm>
                        <a:off x="6362640" y="4653360"/>
                        <a:ext cx="4080240" cy="657360"/>
                      </a:xfrm>
                      <a:prstGeom prst="rect">
                        <a:avLst/>
                      </a:prstGeom>
                      <a:noFill/>
                      <a:ln w="19080">
                        <a:solidFill>
                          <a:srgbClr val="111111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11" name=""/>
                    <p:cNvSpPr/>
                    <p:nvPr/>
                  </p:nvSpPr>
                  <p:spPr>
                    <a:xfrm>
                      <a:off x="6362640" y="4359600"/>
                      <a:ext cx="4080600" cy="30096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100800" rIns="100800" tIns="50400" bIns="504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1" lang="en-US" sz="2200" spc="-1" strike="noStrike">
                          <a:solidFill>
                            <a:srgbClr val="111111"/>
                          </a:solidFill>
                          <a:latin typeface="Verdana"/>
                        </a:rPr>
                        <a:t>:  :          :  :           :  :</a:t>
                      </a:r>
                      <a:endParaRPr b="0" lang="en-US" sz="22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912" name=""/>
                <p:cNvSpPr/>
                <p:nvPr/>
              </p:nvSpPr>
              <p:spPr>
                <a:xfrm>
                  <a:off x="6131880" y="3611160"/>
                  <a:ext cx="5711760" cy="0"/>
                </a:xfrm>
                <a:prstGeom prst="line">
                  <a:avLst/>
                </a:prstGeom>
                <a:ln w="3816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3" name=""/>
              <p:cNvSpPr/>
              <p:nvPr/>
            </p:nvSpPr>
            <p:spPr>
              <a:xfrm rot="16200000">
                <a:off x="4419720" y="3290760"/>
                <a:ext cx="3021840" cy="406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0800" rIns="100800" tIns="50400" bIns="50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008000"/>
                    <a:tab algn="l" pos="2016000"/>
                    <a:tab algn="l" pos="3024360"/>
                    <a:tab algn="l" pos="4032360"/>
                    <a:tab algn="l" pos="5040360"/>
                    <a:tab algn="l" pos="6048360"/>
                    <a:tab algn="l" pos="7056360"/>
                    <a:tab algn="l" pos="8064360"/>
                    <a:tab algn="l" pos="9072720"/>
                    <a:tab algn="l" pos="10080720"/>
                  </a:tabLst>
                </a:pPr>
                <a:r>
                  <a:rPr b="0" lang="en-US" sz="2000" spc="-1" strike="noStrike">
                    <a:solidFill>
                      <a:srgbClr val="000066"/>
                    </a:solidFill>
                    <a:latin typeface="Verdana"/>
                  </a:rPr>
                  <a:t>chlorine concentrations</a:t>
                </a:r>
                <a:endParaRPr b="0" lang="en-US" sz="2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14" name=""/>
            <p:cNvSpPr/>
            <p:nvPr/>
          </p:nvSpPr>
          <p:spPr>
            <a:xfrm>
              <a:off x="7812000" y="1595520"/>
              <a:ext cx="4116240" cy="38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15" name=""/>
          <p:cNvSpPr/>
          <p:nvPr/>
        </p:nvSpPr>
        <p:spPr>
          <a:xfrm rot="16200000">
            <a:off x="6971400" y="4870800"/>
            <a:ext cx="252360" cy="1428840"/>
          </a:xfrm>
          <a:custGeom>
            <a:avLst/>
            <a:gdLst>
              <a:gd name="textAreaLeft" fmla="*/ 161280 w 252360"/>
              <a:gd name="textAreaRight" fmla="*/ 252720 w 252360"/>
              <a:gd name="textAreaTop" fmla="*/ 37080 h 1428840"/>
              <a:gd name="textAreaBottom" fmla="*/ 1391760 h 1428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1497-D802-4D1C-83D3-577C021A31E4}" type="slidenum">
              <a:t>9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tream mi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293120" y="5257800"/>
            <a:ext cx="296244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actual measurement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0" lang="en-US" sz="2200" spc="-1" strike="noStrike">
                <a:solidFill>
                  <a:srgbClr val="000066"/>
                </a:solidFill>
                <a:latin typeface="Times New Roman"/>
              </a:rPr>
              <a:t> streams)</a:t>
            </a:r>
            <a:endParaRPr b="0" lang="en-US" sz="2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787720" y="5334120"/>
            <a:ext cx="2826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i="1" lang="en-US" sz="2600" spc="-1" strike="noStrike">
                <a:solidFill>
                  <a:srgbClr val="000066"/>
                </a:solidFill>
                <a:latin typeface="Times New Roman"/>
              </a:rPr>
              <a:t>k</a:t>
            </a: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 hidden variable(s)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901160" y="6095880"/>
            <a:ext cx="662148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We would like to discover a few “hidden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Times New Roman"/>
              </a:rPr>
              <a:t>(latent) variables” that summarize the key trends</a:t>
            </a:r>
            <a:endParaRPr b="0" lang="en-US" sz="2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920" name=""/>
          <p:cNvGrpSpPr/>
          <p:nvPr/>
        </p:nvGrpSpPr>
        <p:grpSpPr>
          <a:xfrm>
            <a:off x="9360" y="1595520"/>
            <a:ext cx="5198760" cy="3863520"/>
            <a:chOff x="9360" y="1595520"/>
            <a:chExt cx="5198760" cy="3863520"/>
          </a:xfrm>
        </p:grpSpPr>
        <p:sp>
          <p:nvSpPr>
            <p:cNvPr id="921" name=""/>
            <p:cNvSpPr/>
            <p:nvPr/>
          </p:nvSpPr>
          <p:spPr>
            <a:xfrm>
              <a:off x="943560" y="1600560"/>
              <a:ext cx="822600" cy="32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Times New Roman"/>
                </a:rPr>
                <a:t>Phase 1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922" name=""/>
            <p:cNvGrpSpPr/>
            <p:nvPr/>
          </p:nvGrpSpPr>
          <p:grpSpPr>
            <a:xfrm>
              <a:off x="716400" y="1911960"/>
              <a:ext cx="4250880" cy="3416040"/>
              <a:chOff x="716400" y="1911960"/>
              <a:chExt cx="4250880" cy="3416040"/>
            </a:xfrm>
          </p:grpSpPr>
          <p:grpSp>
            <p:nvGrpSpPr>
              <p:cNvPr id="923" name=""/>
              <p:cNvGrpSpPr/>
              <p:nvPr/>
            </p:nvGrpSpPr>
            <p:grpSpPr>
              <a:xfrm>
                <a:off x="723240" y="1911960"/>
                <a:ext cx="4244040" cy="1617840"/>
                <a:chOff x="723240" y="1911960"/>
                <a:chExt cx="4244040" cy="1617840"/>
              </a:xfrm>
            </p:grpSpPr>
            <p:grpSp>
              <p:nvGrpSpPr>
                <p:cNvPr id="924" name=""/>
                <p:cNvGrpSpPr/>
                <p:nvPr/>
              </p:nvGrpSpPr>
              <p:grpSpPr>
                <a:xfrm>
                  <a:off x="723240" y="1911960"/>
                  <a:ext cx="4237200" cy="666000"/>
                  <a:chOff x="723240" y="1911960"/>
                  <a:chExt cx="4237200" cy="666000"/>
                </a:xfrm>
              </p:grpSpPr>
              <p:pic>
                <p:nvPicPr>
                  <p:cNvPr id="925" name="" descr=""/>
                  <p:cNvPicPr/>
                  <p:nvPr/>
                </p:nvPicPr>
                <p:blipFill>
                  <a:blip r:embed="rId1"/>
                  <a:srcRect l="9739" t="7880" r="0" b="63042"/>
                  <a:stretch/>
                </p:blipFill>
                <p:spPr>
                  <a:xfrm>
                    <a:off x="723240" y="1911960"/>
                    <a:ext cx="4237200" cy="66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6" name=""/>
                  <p:cNvSpPr/>
                  <p:nvPr/>
                </p:nvSpPr>
                <p:spPr>
                  <a:xfrm>
                    <a:off x="749160" y="1920600"/>
                    <a:ext cx="4080240" cy="657360"/>
                  </a:xfrm>
                  <a:prstGeom prst="rect">
                    <a:avLst/>
                  </a:prstGeom>
                  <a:noFill/>
                  <a:ln w="19080">
                    <a:solidFill>
                      <a:srgbClr val="1111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7" name=""/>
                <p:cNvGrpSpPr/>
                <p:nvPr/>
              </p:nvGrpSpPr>
              <p:grpSpPr>
                <a:xfrm>
                  <a:off x="729720" y="2863800"/>
                  <a:ext cx="4237560" cy="666000"/>
                  <a:chOff x="729720" y="2863800"/>
                  <a:chExt cx="4237560" cy="666000"/>
                </a:xfrm>
              </p:grpSpPr>
              <p:pic>
                <p:nvPicPr>
                  <p:cNvPr id="928" name="" descr=""/>
                  <p:cNvPicPr/>
                  <p:nvPr/>
                </p:nvPicPr>
                <p:blipFill>
                  <a:blip r:embed="rId2"/>
                  <a:srcRect l="9739" t="7880" r="0" b="63042"/>
                  <a:stretch/>
                </p:blipFill>
                <p:spPr>
                  <a:xfrm>
                    <a:off x="729720" y="2863800"/>
                    <a:ext cx="4237560" cy="6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29" name=""/>
                  <p:cNvSpPr/>
                  <p:nvPr/>
                </p:nvSpPr>
                <p:spPr>
                  <a:xfrm>
                    <a:off x="755640" y="2872440"/>
                    <a:ext cx="4080240" cy="657360"/>
                  </a:xfrm>
                  <a:prstGeom prst="rect">
                    <a:avLst/>
                  </a:prstGeom>
                  <a:noFill/>
                  <a:ln w="19080">
                    <a:solidFill>
                      <a:srgbClr val="1111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0" name=""/>
                <p:cNvSpPr/>
                <p:nvPr/>
              </p:nvSpPr>
              <p:spPr>
                <a:xfrm>
                  <a:off x="749160" y="2571120"/>
                  <a:ext cx="4079880" cy="300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0800" rIns="100800" tIns="50400" bIns="50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008000"/>
                      <a:tab algn="l" pos="2016000"/>
                      <a:tab algn="l" pos="3024360"/>
                      <a:tab algn="l" pos="4032360"/>
                      <a:tab algn="l" pos="5040360"/>
                      <a:tab algn="l" pos="6048360"/>
                      <a:tab algn="l" pos="7056360"/>
                      <a:tab algn="l" pos="8064360"/>
                      <a:tab algn="l" pos="9072720"/>
                      <a:tab algn="l" pos="10080720"/>
                    </a:tabLst>
                  </a:pPr>
                  <a:r>
                    <a:rPr b="1" lang="en-US" sz="2200" spc="-1" strike="noStrike">
                      <a:solidFill>
                        <a:srgbClr val="111111"/>
                      </a:solidFill>
                      <a:latin typeface="Verdana"/>
                    </a:rPr>
                    <a:t>:  :          :  :           :  :</a:t>
                  </a:r>
                  <a:endParaRPr b="0" lang="en-US" sz="22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1" name=""/>
              <p:cNvGrpSpPr/>
              <p:nvPr/>
            </p:nvGrpSpPr>
            <p:grpSpPr>
              <a:xfrm>
                <a:off x="716400" y="3745440"/>
                <a:ext cx="4236840" cy="1582560"/>
                <a:chOff x="716400" y="3745440"/>
                <a:chExt cx="4236840" cy="1582560"/>
              </a:xfrm>
            </p:grpSpPr>
            <p:grpSp>
              <p:nvGrpSpPr>
                <p:cNvPr id="932" name=""/>
                <p:cNvGrpSpPr/>
                <p:nvPr/>
              </p:nvGrpSpPr>
              <p:grpSpPr>
                <a:xfrm>
                  <a:off x="716400" y="3745440"/>
                  <a:ext cx="4236840" cy="659160"/>
                  <a:chOff x="716400" y="3745440"/>
                  <a:chExt cx="4236840" cy="659160"/>
                </a:xfrm>
              </p:grpSpPr>
              <p:pic>
                <p:nvPicPr>
                  <p:cNvPr id="933" name="" descr=""/>
                  <p:cNvPicPr/>
                  <p:nvPr/>
                </p:nvPicPr>
                <p:blipFill>
                  <a:blip r:embed="rId3"/>
                  <a:srcRect l="9739" t="55163" r="0" b="27579"/>
                  <a:stretch/>
                </p:blipFill>
                <p:spPr>
                  <a:xfrm>
                    <a:off x="716400" y="3745440"/>
                    <a:ext cx="4236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4" name=""/>
                  <p:cNvSpPr/>
                  <p:nvPr/>
                </p:nvSpPr>
                <p:spPr>
                  <a:xfrm>
                    <a:off x="749520" y="3747240"/>
                    <a:ext cx="4079520" cy="657360"/>
                  </a:xfrm>
                  <a:prstGeom prst="rect">
                    <a:avLst/>
                  </a:prstGeom>
                  <a:noFill/>
                  <a:ln w="19080">
                    <a:solidFill>
                      <a:srgbClr val="1111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5" name=""/>
                <p:cNvGrpSpPr/>
                <p:nvPr/>
              </p:nvGrpSpPr>
              <p:grpSpPr>
                <a:xfrm>
                  <a:off x="716400" y="4668840"/>
                  <a:ext cx="4236840" cy="659160"/>
                  <a:chOff x="716400" y="4668840"/>
                  <a:chExt cx="4236840" cy="659160"/>
                </a:xfrm>
              </p:grpSpPr>
              <p:pic>
                <p:nvPicPr>
                  <p:cNvPr id="936" name="" descr=""/>
                  <p:cNvPicPr/>
                  <p:nvPr/>
                </p:nvPicPr>
                <p:blipFill>
                  <a:blip r:embed="rId4"/>
                  <a:srcRect l="9739" t="55163" r="0" b="27579"/>
                  <a:stretch/>
                </p:blipFill>
                <p:spPr>
                  <a:xfrm>
                    <a:off x="716400" y="4668840"/>
                    <a:ext cx="423684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37" name=""/>
                  <p:cNvSpPr/>
                  <p:nvPr/>
                </p:nvSpPr>
                <p:spPr>
                  <a:xfrm>
                    <a:off x="749520" y="4670640"/>
                    <a:ext cx="4079520" cy="657360"/>
                  </a:xfrm>
                  <a:prstGeom prst="rect">
                    <a:avLst/>
                  </a:prstGeom>
                  <a:noFill/>
                  <a:ln w="19080">
                    <a:solidFill>
                      <a:srgbClr val="111111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38" name=""/>
                <p:cNvSpPr/>
                <p:nvPr/>
              </p:nvSpPr>
              <p:spPr>
                <a:xfrm>
                  <a:off x="749520" y="4376880"/>
                  <a:ext cx="4079880" cy="30096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0800" rIns="100800" tIns="50400" bIns="504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1008000"/>
                      <a:tab algn="l" pos="2016000"/>
                      <a:tab algn="l" pos="3024360"/>
                      <a:tab algn="l" pos="4032360"/>
                      <a:tab algn="l" pos="5040360"/>
                      <a:tab algn="l" pos="6048360"/>
                      <a:tab algn="l" pos="7056360"/>
                      <a:tab algn="l" pos="8064360"/>
                      <a:tab algn="l" pos="9072720"/>
                      <a:tab algn="l" pos="10080720"/>
                    </a:tabLst>
                  </a:pPr>
                  <a:r>
                    <a:rPr b="1" lang="en-US" sz="2200" spc="-1" strike="noStrike">
                      <a:solidFill>
                        <a:srgbClr val="111111"/>
                      </a:solidFill>
                      <a:latin typeface="Verdana"/>
                    </a:rPr>
                    <a:t>:  :          :  :           :  :</a:t>
                  </a:r>
                  <a:endParaRPr b="0" lang="en-US" sz="22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39" name=""/>
            <p:cNvSpPr/>
            <p:nvPr/>
          </p:nvSpPr>
          <p:spPr>
            <a:xfrm rot="16200000">
              <a:off x="-1081080" y="3668400"/>
              <a:ext cx="2587320" cy="40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lang="en-US" sz="2000" spc="-1" strike="noStrike">
                  <a:solidFill>
                    <a:srgbClr val="000066"/>
                  </a:solidFill>
                  <a:latin typeface="Times New Roman"/>
                </a:rPr>
                <a:t>chlorine concentrations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2268360" y="1595520"/>
              <a:ext cx="2939760" cy="38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20480" y="3611520"/>
              <a:ext cx="1847880" cy="0"/>
            </a:xfrm>
            <a:prstGeom prst="line">
              <a:avLst/>
            </a:prstGeom>
            <a:ln w="381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942" name=""/>
          <p:cNvGrpSpPr/>
          <p:nvPr/>
        </p:nvGrpSpPr>
        <p:grpSpPr>
          <a:xfrm>
            <a:off x="5040360" y="1595520"/>
            <a:ext cx="4955760" cy="3863520"/>
            <a:chOff x="5040360" y="1595520"/>
            <a:chExt cx="4955760" cy="3863520"/>
          </a:xfrm>
        </p:grpSpPr>
        <p:pic>
          <p:nvPicPr>
            <p:cNvPr id="943" name="" descr=""/>
            <p:cNvPicPr/>
            <p:nvPr/>
          </p:nvPicPr>
          <p:blipFill>
            <a:blip r:embed="rId5"/>
            <a:stretch/>
          </p:blipFill>
          <p:spPr>
            <a:xfrm>
              <a:off x="5040360" y="1595520"/>
              <a:ext cx="4705920" cy="383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4" name=""/>
            <p:cNvSpPr/>
            <p:nvPr/>
          </p:nvSpPr>
          <p:spPr>
            <a:xfrm>
              <a:off x="5733360" y="1600560"/>
              <a:ext cx="822600" cy="329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1" lang="en-US" sz="1500" spc="-1" strike="noStrike">
                  <a:solidFill>
                    <a:srgbClr val="006600"/>
                  </a:solidFill>
                  <a:latin typeface="Times New Roman"/>
                </a:rPr>
                <a:t>Phase 1</a:t>
              </a:r>
              <a:endParaRPr b="0" lang="en-US" sz="1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056360" y="1595520"/>
              <a:ext cx="2939760" cy="386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292360" y="3779280"/>
              <a:ext cx="2520000" cy="167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812560" y="3779280"/>
              <a:ext cx="995040" cy="57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tabLst>
                  <a:tab algn="l" pos="0"/>
                  <a:tab algn="l" pos="1008000"/>
                  <a:tab algn="l" pos="2016000"/>
                  <a:tab algn="l" pos="3024360"/>
                  <a:tab algn="l" pos="4032360"/>
                  <a:tab algn="l" pos="5040360"/>
                  <a:tab algn="l" pos="6048360"/>
                  <a:tab algn="l" pos="7056360"/>
                  <a:tab algn="l" pos="8064360"/>
                  <a:tab algn="l" pos="9072720"/>
                  <a:tab algn="l" pos="10080720"/>
                </a:tabLst>
              </a:pPr>
              <a:r>
                <a:rPr b="0" i="1" lang="en-US" sz="3100" spc="-1" strike="noStrike">
                  <a:solidFill>
                    <a:srgbClr val="000066"/>
                  </a:solidFill>
                  <a:latin typeface="Times New Roman"/>
                </a:rPr>
                <a:t>k</a:t>
              </a:r>
              <a:r>
                <a:rPr b="0" lang="en-US" sz="3100" spc="-1" strike="noStrike">
                  <a:solidFill>
                    <a:srgbClr val="000066"/>
                  </a:solidFill>
                  <a:latin typeface="Times New Roman"/>
                </a:rPr>
                <a:t> = 1</a:t>
              </a:r>
              <a:endParaRPr b="0" lang="en-US" sz="31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956120" y="2100240"/>
            <a:ext cx="252360" cy="294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flipV="1">
            <a:off x="2184480" y="2855520"/>
            <a:ext cx="3276360" cy="1847880"/>
          </a:xfrm>
          <a:prstGeom prst="line">
            <a:avLst/>
          </a:prstGeom>
          <a:ln w="1908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2184480" y="2603520"/>
            <a:ext cx="3276360" cy="0"/>
          </a:xfrm>
          <a:prstGeom prst="line">
            <a:avLst/>
          </a:prstGeom>
          <a:ln w="1908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A8B-B6F2-4626-82BC-24EE4FFD246B}" type="slidenum">
              <a:t>9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 2.83237E-006 L -3.33333E-006 2.83237E-006 E">
                                      <p:cBhvr>
                                        <p:cTn id="16" dur="2000" fill="hold"/>
                                        <p:tgtEl>
                                          <p:spTgt spid="9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500"/>
                            </p:stCondLst>
                            <p:childTnLst>
                              <p:par>
                                <p:cTn id="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Stream mining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Solution: SPIRIT [VLDB’05]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incremental, on-line PCA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0B65-8A3D-47CA-937F-F5E7BB8521CD}" type="slidenum">
              <a:t>9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Outline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Law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ools/resul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other related project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future step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80880" y="4038480"/>
            <a:ext cx="457200" cy="382680"/>
          </a:xfrm>
          <a:prstGeom prst="rightArrow">
            <a:avLst>
              <a:gd name="adj1" fmla="val 50000"/>
              <a:gd name="adj2" fmla="val 29868"/>
            </a:avLst>
          </a:prstGeom>
          <a:solidFill>
            <a:srgbClr val="000066"/>
          </a:solidFill>
          <a:ln cap="sq"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ABAA-DC27-4403-B50B-54275D9D8B05}" type="slidenum">
              <a:t>9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Future step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connection sub-graphs on multi-graphs [Tong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traffic matrix, evolving over time [Sun+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influence propagation on blogs [Leskovec+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666720" indent="-666720">
              <a:spcBef>
                <a:spcPts val="774"/>
              </a:spcBef>
              <a:buClr>
                <a:srgbClr val="000066"/>
              </a:buClr>
              <a:buFont typeface="Times New Roman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automatic web site classification [Leskovec]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74A8-1997-4699-9919-92A246F1CEAE}" type="slidenum">
              <a:t>9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755640" y="671400"/>
            <a:ext cx="8569440" cy="12607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4900" spc="-1" strike="noStrike">
                <a:solidFill>
                  <a:srgbClr val="a50021"/>
                </a:solidFill>
                <a:latin typeface="Times New Roman"/>
              </a:rPr>
              <a:t>Conclusions</a:t>
            </a:r>
            <a:endParaRPr b="0" lang="en-US" sz="49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755640" y="2184480"/>
            <a:ext cx="8569440" cy="45352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Power laws &amp; self similarity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xcellent tools, for real datasets,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where Gaussian, uniform etc assumptions fail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marL="378000" indent="-378000">
              <a:spcBef>
                <a:spcPts val="876"/>
              </a:spcBef>
              <a:buClr>
                <a:srgbClr val="000066"/>
              </a:buClr>
              <a:buFont typeface="Times New Roman"/>
              <a:buChar char="•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000066"/>
                </a:solidFill>
                <a:latin typeface="Times New Roman"/>
              </a:rPr>
              <a:t>Additional tools</a:t>
            </a:r>
            <a:endParaRPr b="0" lang="en-US" sz="35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Kronecker, for graph generators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eigenvalues for virus propagation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  <a:p>
            <a:pPr lvl="1" marL="819000" indent="-315720">
              <a:spcBef>
                <a:spcPts val="774"/>
              </a:spcBef>
              <a:buClr>
                <a:srgbClr val="000066"/>
              </a:buClr>
              <a:buFont typeface="Times New Roman"/>
              <a:buChar char="–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100" spc="-1" strike="noStrike">
                <a:solidFill>
                  <a:srgbClr val="000066"/>
                </a:solidFill>
                <a:latin typeface="Times New Roman"/>
              </a:rPr>
              <a:t>MDL/compression for graph partitioning</a:t>
            </a:r>
            <a:endParaRPr b="0" lang="en-US" sz="3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(c) 2005 C. Faloutso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9247-DD53-40B2-AA00-DA03F9A226ED}" type="slidenum">
              <a:t>9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Yahoo 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os Faloutsos</dc:creator>
  <dc:description/>
  <dc:language>en-US</dc:language>
  <cp:lastModifiedBy>christos faloutsos</cp:lastModifiedBy>
  <dcterms:modified xsi:type="dcterms:W3CDTF">2005-11-09T06:32:19Z</dcterms:modified>
  <cp:revision>204</cp:revision>
  <dc:subject/>
  <dc:title>yahoo 2005</dc:title>
</cp:coreProperties>
</file>