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6.png" ContentType="image/png"/>
  <Override PartName="/ppt/media/image8.jpeg" ContentType="image/jpeg"/>
  <Override PartName="/ppt/media/image30.png" ContentType="image/png"/>
  <Override PartName="/ppt/media/image5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7.png" ContentType="image/png"/>
  <Override PartName="/ppt/media/image9.png" ContentType="image/png"/>
  <Override PartName="/ppt/media/image13.png" ContentType="image/png"/>
  <Override PartName="/ppt/media/image33.wmf" ContentType="image/x-wmf"/>
  <Override PartName="/ppt/media/image31.wmf" ContentType="image/x-wmf"/>
  <Override PartName="/ppt/media/image11.png" ContentType="image/png"/>
  <Override PartName="/ppt/media/image34.wmf" ContentType="image/x-wmf"/>
  <Override PartName="/ppt/media/image1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6F9F1-ADA9-40E6-A3B1-E9C81A9F8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6240" y="380088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D985-7B95-463A-AA04-FFC142F2B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174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1119-1098-44A4-BE62-C1F7C4A20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3560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0496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624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13560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0496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45FB-79CC-4FE0-8FED-C7CD607B4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62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76312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62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BE2A-BCB2-4BAE-9AB0-17B517B54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174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240" y="380088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174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3560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04960" y="45720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624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3560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04960" y="3800880"/>
            <a:ext cx="2922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13B98-6183-405F-9DF4-50F9333FD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B97B-2654-48E8-BC2C-41333DC8E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E2FF-B09A-4A15-B232-B1B64E0C8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360360" y="-360"/>
            <a:ext cx="8763120" cy="14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0CEE-F491-4A3A-82CD-D08F21C22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D08D-63F8-4128-9A84-FA62F3D2E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17440" y="380088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2117-F217-498A-949D-69AD101CB9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-39600"/>
            <a:ext cx="8763120" cy="3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7440" y="457200"/>
            <a:ext cx="44294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40" y="3800880"/>
            <a:ext cx="907740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8077-5F07-490B-8D8B-52E3802BB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2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Click to edit the outline text format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Second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2" marL="1092240" indent="-228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Third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3" marL="1701720" indent="-228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Fourth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4" marL="2120760" indent="-22860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Fifth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5" marL="212076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Sixth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6" marL="2120760" indent="-2286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Seventh Outline Level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19560" y="6660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Fabien.Gandon@sophia.inria.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04920"/>
            <a:ext cx="29718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940960" y="640080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59720" y="6705720"/>
            <a:ext cx="5428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315200" y="66546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C634-D7D3-4E67-A400-530EB2A3B055}" type="slidenum">
              <a:rPr b="1" lang="en-US" sz="10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0"/>
            <a:ext cx="0" cy="640080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90440" y="620640"/>
            <a:ext cx="0" cy="594360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228600"/>
            <a:ext cx="1519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 rot="5400000">
            <a:off x="8864640" y="6629400"/>
            <a:ext cx="1519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940960" y="601992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04920" y="6400800"/>
            <a:ext cx="0" cy="17928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90440" y="6553080"/>
            <a:ext cx="0" cy="17964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71800" y="304920"/>
            <a:ext cx="22860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331120" y="6705720"/>
            <a:ext cx="22860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914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-1260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3"/>
          </p:nvPr>
        </p:nvSpPr>
        <p:spPr>
          <a:xfrm>
            <a:off x="6019560" y="665460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&lt;footer&gt;</a:t>
            </a: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Fabien.Gandon@sophia.inria.f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0"/>
            <a:ext cx="0" cy="44956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04920"/>
            <a:ext cx="29718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5840" y="230040"/>
            <a:ext cx="15228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4495680"/>
            <a:ext cx="0" cy="106704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304920"/>
            <a:ext cx="30492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940960" y="640080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559720" y="6705720"/>
            <a:ext cx="54288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rot="5400000">
            <a:off x="8864640" y="6629400"/>
            <a:ext cx="151920" cy="15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0506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050626"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40960" y="6019920"/>
            <a:ext cx="0" cy="45720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31120" y="6705720"/>
            <a:ext cx="228600" cy="0"/>
          </a:xfrm>
          <a:prstGeom prst="line">
            <a:avLst/>
          </a:prstGeom>
          <a:ln w="93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7cba"/>
                </a:solidFill>
                <a:latin typeface="Arial"/>
              </a:rPr>
              <a:t>Click to edit the outline text format</a:t>
            </a:r>
            <a:endParaRPr b="0" i="1" lang="en-US" sz="4800" spc="-1" strike="noStrike">
              <a:solidFill>
                <a:srgbClr val="007cba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2" marL="863640" algn="ctr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3" marL="1371600" indent="101520" algn="ctr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cba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7cba"/>
              </a:solidFill>
              <a:latin typeface="Arial"/>
            </a:endParaRPr>
          </a:p>
          <a:p>
            <a:pPr lvl="4" marL="1828800" indent="63360" algn="ctr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cba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  <a:p>
            <a:pPr lvl="5" marL="1828800" indent="633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cba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  <a:p>
            <a:pPr lvl="6" marL="1828800" indent="633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cba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11.png"/><Relationship Id="rId13" Type="http://schemas.openxmlformats.org/officeDocument/2006/relationships/image" Target="../media/image3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3.png"/><Relationship Id="rId25" Type="http://schemas.openxmlformats.org/officeDocument/2006/relationships/image" Target="../media/image14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6.png"/><Relationship Id="rId31" Type="http://schemas.openxmlformats.org/officeDocument/2006/relationships/image" Target="../media/image17.png"/><Relationship Id="rId32" Type="http://schemas.openxmlformats.org/officeDocument/2006/relationships/image" Target="../media/image12.png"/><Relationship Id="rId33" Type="http://schemas.openxmlformats.org/officeDocument/2006/relationships/image" Target="../media/image16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6.png"/><Relationship Id="rId37" Type="http://schemas.openxmlformats.org/officeDocument/2006/relationships/image" Target="../media/image6.png"/><Relationship Id="rId38" Type="http://schemas.openxmlformats.org/officeDocument/2006/relationships/image" Target="../media/image20.png"/><Relationship Id="rId39" Type="http://schemas.openxmlformats.org/officeDocument/2006/relationships/image" Target="../media/image4.png"/><Relationship Id="rId40" Type="http://schemas.openxmlformats.org/officeDocument/2006/relationships/image" Target="../media/image5.png"/><Relationship Id="rId41" Type="http://schemas.openxmlformats.org/officeDocument/2006/relationships/image" Target="../media/image11.png"/><Relationship Id="rId42" Type="http://schemas.openxmlformats.org/officeDocument/2006/relationships/image" Target="../media/image21.png"/><Relationship Id="rId43" Type="http://schemas.openxmlformats.org/officeDocument/2006/relationships/image" Target="../media/image22.png"/><Relationship Id="rId44" Type="http://schemas.openxmlformats.org/officeDocument/2006/relationships/image" Target="../media/image6.png"/><Relationship Id="rId45" Type="http://schemas.openxmlformats.org/officeDocument/2006/relationships/image" Target="../media/image23.png"/><Relationship Id="rId46" Type="http://schemas.openxmlformats.org/officeDocument/2006/relationships/image" Target="../media/image24.png"/><Relationship Id="rId47" Type="http://schemas.openxmlformats.org/officeDocument/2006/relationships/image" Target="../media/image25.png"/><Relationship Id="rId4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6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63248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99"/>
                </a:solidFill>
                <a:latin typeface="Arial"/>
              </a:rPr>
              <a:t>Tuan-Dung CAO</a:t>
            </a:r>
            <a:r>
              <a:rPr b="0" lang="en-GB" sz="19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1" lang="en-GB" sz="1900" spc="-1" strike="noStrike">
                <a:solidFill>
                  <a:srgbClr val="000099"/>
                </a:solidFill>
                <a:latin typeface="Arial"/>
              </a:rPr>
              <a:t>, Fabien GANDON</a:t>
            </a:r>
            <a:r>
              <a:rPr b="0" lang="en-GB" sz="1900" spc="-1" strike="noStrike" baseline="30000">
                <a:solidFill>
                  <a:srgbClr val="000099"/>
                </a:solidFill>
                <a:latin typeface="Arial"/>
              </a:rPr>
              <a:t>1,2</a:t>
            </a:r>
            <a:r>
              <a:rPr b="1" lang="en-GB" sz="19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1900"/>
            </a:br>
            <a:r>
              <a:rPr b="0" lang="en-GB" sz="1900" spc="-1" strike="noStrike" baseline="30000">
                <a:solidFill>
                  <a:srgbClr val="000099"/>
                </a:solidFill>
                <a:latin typeface="Arial"/>
              </a:rPr>
              <a:t>1 </a:t>
            </a: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ACACIA Team, INRIA Sophia Antipolis</a:t>
            </a:r>
            <a:br>
              <a:rPr sz="1900"/>
            </a:br>
            <a:r>
              <a:rPr b="0" lang="en-GB" sz="1900" spc="-1" strike="noStrike" baseline="30000">
                <a:solidFill>
                  <a:srgbClr val="000099"/>
                </a:solidFill>
                <a:latin typeface="Arial"/>
              </a:rPr>
              <a:t>2 </a:t>
            </a:r>
            <a:r>
              <a:rPr b="0" lang="en-GB" sz="1900" spc="-1" strike="noStrike">
                <a:solidFill>
                  <a:srgbClr val="000099"/>
                </a:solidFill>
                <a:latin typeface="Arial"/>
              </a:rPr>
              <a:t>Computer School, Carnegie Mellon University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90720" y="119664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Arial"/>
              </a:rPr>
              <a:t>Integrating external sources</a:t>
            </a:r>
            <a:br>
              <a:rPr sz="3800"/>
            </a:br>
            <a:r>
              <a:rPr b="0" lang="en-US" sz="3800" spc="-1" strike="noStrike">
                <a:solidFill>
                  <a:srgbClr val="000099"/>
                </a:solidFill>
                <a:latin typeface="Arial"/>
              </a:rPr>
              <a:t>in a corporate semantic web managed by a multi-agent system</a:t>
            </a:r>
            <a:endParaRPr b="0" i="1" lang="en-US" sz="3800" spc="-1" strike="noStrike">
              <a:solidFill>
                <a:srgbClr val="007cba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007cba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861320" y="279360"/>
            <a:ext cx="1219320" cy="333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XSLT for extraction rule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6600" y="450720"/>
            <a:ext cx="5585040" cy="63291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 fontScale="99000"/>
          </a:bodyPr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XML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-based intraweb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Ontology: XML syntax of RDF/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Web page: XHTML document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nnotations: XML syntax of RDF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XSLT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XML transformation language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XML syntax: communication of extraction rul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XPath expressions for data extraction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Template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construction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GUI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manipulation translation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Built-in library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of extraction templat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e.g., list extraction, keyword mapping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Transparent, embedded, combined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5508720" y="665280"/>
            <a:ext cx="3635280" cy="6114600"/>
            <a:chOff x="5508720" y="665280"/>
            <a:chExt cx="3635280" cy="6114600"/>
          </a:xfrm>
        </p:grpSpPr>
        <p:sp>
          <p:nvSpPr>
            <p:cNvPr id="778" name=""/>
            <p:cNvSpPr/>
            <p:nvPr/>
          </p:nvSpPr>
          <p:spPr>
            <a:xfrm>
              <a:off x="5580360" y="1006560"/>
              <a:ext cx="3504600" cy="56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t">
              <a:spAutoFit/>
            </a:bodyPr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template name="getListItem"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param name="list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param name="delimiter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param name="openning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param name="closing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choo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hen test ="$delimiter = 'br'"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for-each select="$list"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openning" disable-output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normalize-space()" /&gt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closing" disable-output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for-each&gt; 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when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otherwi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choo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hen test="string-length($list) = 0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otherwi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choo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hen test="contains($list, $delimiter)"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openning"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sable-output-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concat(normalize-spa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ubstring-before($list, $delimiter)),'&amp;#10;')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closing"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sable-output-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when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otherwi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openning"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sable-output-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concat(normalize-spa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$list),'&amp;#10;')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value-of select="$closing"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isable-output-escaping="yes"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otherwise&gt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choo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call-template name="getListItem"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ith-param name="list" select="substring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fter($list, $delimiter)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ith-param name="delimiter"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lect="$delimiter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ith-param name="openning"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lect="$openning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l:with-param name="closing" select="$closing" /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call-template&gt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otherwi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choose&gt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otherwi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choose&gt;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l:template&gt;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08880" y="665280"/>
              <a:ext cx="1485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exampl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8372520" y="817920"/>
              <a:ext cx="771480" cy="837720"/>
              <a:chOff x="8372520" y="817920"/>
              <a:chExt cx="771480" cy="83772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8982360" y="81792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601120" y="97020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 flipV="1" rot="16200000">
                <a:off x="8906040" y="89424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8982360" y="119880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372520" y="97020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5508720" y="6094440"/>
              <a:ext cx="622080" cy="685440"/>
              <a:chOff x="5508720" y="6094440"/>
              <a:chExt cx="622080" cy="685440"/>
            </a:xfrm>
          </p:grpSpPr>
          <p:sp>
            <p:nvSpPr>
              <p:cNvPr id="787" name=""/>
              <p:cNvSpPr/>
              <p:nvPr/>
            </p:nvSpPr>
            <p:spPr>
              <a:xfrm>
                <a:off x="5639040" y="640620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5508720" y="665532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 flipV="1" rot="5400000">
                <a:off x="5577120" y="659304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639040" y="609444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5946480" y="665532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9508-A5DC-4A5A-B9DB-C2204B5D3FC6}" type="slidenum">
              <a:t>10</a:t>
            </a:fld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4" dur="1" fill="hold"/>
                                  <p:tgtEl>
                                    <p:spTgt spid="77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99"/>
                </a:solidFill>
                <a:latin typeface="Arial"/>
              </a:rPr>
              <a:t>Example of extraction from the PubMed catalog</a:t>
            </a:r>
            <a:endParaRPr b="0" i="1" lang="en-US" sz="1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6391440" cy="6234120"/>
          </a:xfrm>
          <a:prstGeom prst="rect">
            <a:avLst/>
          </a:prstGeom>
          <a:ln w="0">
            <a:noFill/>
          </a:ln>
        </p:spPr>
      </p:pic>
      <p:grpSp>
        <p:nvGrpSpPr>
          <p:cNvPr id="794" name=""/>
          <p:cNvGrpSpPr/>
          <p:nvPr/>
        </p:nvGrpSpPr>
        <p:grpSpPr>
          <a:xfrm>
            <a:off x="501480" y="2637000"/>
            <a:ext cx="8589960" cy="3313080"/>
            <a:chOff x="501480" y="2637000"/>
            <a:chExt cx="8589960" cy="3313080"/>
          </a:xfrm>
        </p:grpSpPr>
        <p:sp>
          <p:nvSpPr>
            <p:cNvPr id="795" name=""/>
            <p:cNvSpPr/>
            <p:nvPr/>
          </p:nvSpPr>
          <p:spPr>
            <a:xfrm>
              <a:off x="501480" y="2852640"/>
              <a:ext cx="8589960" cy="309744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rdf:RDF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ResearchReport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rdf:about="http://www.ncbi.nlm.nih.gov/entrez/query.fcgi?cmd=Retrieve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                              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b=PubMed&amp;list_uids=12635132&amp;dopt=Abstract\"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Title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Expression of cyclins E, A, and B, and prognosis in lymph node-negative breast canc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Title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CreatedBy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&lt;c: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Researcher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&lt;c: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Name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Kuhling H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Alm P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Olsson H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Ferno M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Baldetorp B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Parwaresch R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c:CreatedBy&gt;&lt;c:Researcher&gt;&lt;c:Name&gt;</a:t>
              </a:r>
              <a:r>
                <a:rPr b="1" sz="1200" spc="-1" strike="noStrike">
                  <a:solidFill>
                    <a:srgbClr val="cc0000"/>
                  </a:solidFill>
                  <a:latin typeface="Courier New"/>
                  <a:ea typeface="Courier New"/>
                </a:rPr>
                <a:t>Rudolph P.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Name&gt;&lt;/c:Researcher&gt;&lt;/c:CreatedBy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c:ResearchReport 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rdf:RDF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5400000">
              <a:off x="6228360" y="2709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BF5A-1093-4A22-B9F5-8A3C5FE986C2}" type="slidenum">
              <a:t>11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Example of extraction from the INRIA librarian page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416720" cy="6043680"/>
          </a:xfrm>
          <a:prstGeom prst="rect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pic>
      <p:grpSp>
        <p:nvGrpSpPr>
          <p:cNvPr id="799" name=""/>
          <p:cNvGrpSpPr/>
          <p:nvPr/>
        </p:nvGrpSpPr>
        <p:grpSpPr>
          <a:xfrm>
            <a:off x="1449360" y="1019160"/>
            <a:ext cx="7392960" cy="5616720"/>
            <a:chOff x="1449360" y="1019160"/>
            <a:chExt cx="7392960" cy="5616720"/>
          </a:xfrm>
        </p:grpSpPr>
        <p:sp>
          <p:nvSpPr>
            <p:cNvPr id="800" name=""/>
            <p:cNvSpPr/>
            <p:nvPr/>
          </p:nvSpPr>
          <p:spPr>
            <a:xfrm>
              <a:off x="1643040" y="1019160"/>
              <a:ext cx="7199280" cy="561672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Article rdf:about="http://www.inria.fr/rrrt/rr-3845.html"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Titl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RR-3485 - Methods and Tools for Corporate Knowledge 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 Titl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createdB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Name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Dieng, Rose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 Comma:N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createdB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createdB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Name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Corby, Olivier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N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createdBy&gt;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createdB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Name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Giboin, Alain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N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createdBy&gt;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createdBy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Name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Ribière, Myriam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Na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Research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createdBy&gt;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Keywords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CORPORATE MEMORY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Keyword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Keywords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ORGANIZATIONAL MEMORY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Keyword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Keywords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TECHNICAL MEMORY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Keyword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Comma:Keywords&gt;</a:t>
              </a:r>
              <a:r>
                <a:rPr b="1" sz="1400" spc="-1" strike="noStrike">
                  <a:solidFill>
                    <a:srgbClr val="cc0000"/>
                  </a:solidFill>
                  <a:latin typeface="Courier New"/>
                </a:rPr>
                <a:t>KNOWLEDGE MANAGEMENT</a:t>
              </a: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Keywords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Courier New"/>
                </a:rPr>
                <a:t>&lt;/Comma:Articl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449360" y="141300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97E6-DE97-497D-9D36-C1317BDEDB3B}" type="slidenum">
              <a:t>12</a:t>
            </a:fld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Roles and interaction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4000" y="419040"/>
            <a:ext cx="90774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rmAutofit/>
          </a:bodyPr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Modified the interface controller to add new GU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58AA-A9E8-4FFA-9175-069C34AE5E5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34F3-7453-4BFD-9C99-9E6F32EDE322}" type="slidenum">
              <a:t>14</a:t>
            </a:fld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266750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Roles and interaction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4000" y="419040"/>
            <a:ext cx="907740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rmAutofit/>
          </a:bodyPr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349c"/>
                </a:solidFill>
                <a:latin typeface="Arial"/>
              </a:rPr>
              <a:t>Modified the interface controller to add new GUI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The two roles of the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 wrapper 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societ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Annotation wrapper archivists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attached to 1 external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Wrapper manage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creates and manages wrap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Hierarchical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AWA: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 2 (sub-)roles 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involved in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2 societi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Annotation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Wrappe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role under Wrapper manager super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Annotation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Archivist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role under Annotation Mediator super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4930920" y="4581360"/>
            <a:ext cx="3592440" cy="2071440"/>
            <a:chOff x="4930920" y="4581360"/>
            <a:chExt cx="3592440" cy="2071440"/>
          </a:xfrm>
        </p:grpSpPr>
        <p:grpSp>
          <p:nvGrpSpPr>
            <p:cNvPr id="809" name=""/>
            <p:cNvGrpSpPr/>
            <p:nvPr/>
          </p:nvGrpSpPr>
          <p:grpSpPr>
            <a:xfrm>
              <a:off x="4930920" y="4581360"/>
              <a:ext cx="3384360" cy="1766880"/>
              <a:chOff x="4930920" y="4581360"/>
              <a:chExt cx="3384360" cy="1766880"/>
            </a:xfrm>
          </p:grpSpPr>
          <p:sp>
            <p:nvSpPr>
              <p:cNvPr id="810" name=""/>
              <p:cNvSpPr/>
              <p:nvPr/>
            </p:nvSpPr>
            <p:spPr>
              <a:xfrm>
                <a:off x="4930920" y="4581360"/>
                <a:ext cx="3384360" cy="176688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1" name=""/>
              <p:cNvGrpSpPr/>
              <p:nvPr/>
            </p:nvGrpSpPr>
            <p:grpSpPr>
              <a:xfrm>
                <a:off x="7740720" y="4653000"/>
                <a:ext cx="431640" cy="488880"/>
                <a:chOff x="7740720" y="4653000"/>
                <a:chExt cx="431640" cy="48888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7740720" y="4653000"/>
                  <a:ext cx="431640" cy="488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0099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746840" y="4880160"/>
                  <a:ext cx="381240" cy="15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Arial"/>
                    </a:rPr>
                    <a:t>www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7774920" y="4829040"/>
                  <a:ext cx="370800" cy="297720"/>
                </a:xfrm>
                <a:custGeom>
                  <a:avLst/>
                  <a:gdLst>
                    <a:gd name="textAreaLeft" fmla="*/ 49680 w 370800"/>
                    <a:gd name="textAreaRight" fmla="*/ 321120 w 370800"/>
                    <a:gd name="textAreaTop" fmla="*/ 55080 h 297720"/>
                    <a:gd name="textAreaBottom" fmla="*/ 212760 h 2977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8029" stAng="-5400000" swAng="-5400000"/>
                      <a:lnTo>
                        <a:pt x="0" y="11412"/>
                      </a:lnTo>
                      <a:arcTo wR="21600" hR="8029" stAng="10800000" swAng="-3493248"/>
                      <a:lnTo>
                        <a:pt x="16753" y="21395"/>
                      </a:lnTo>
                      <a:lnTo>
                        <a:pt x="21600" y="17749"/>
                      </a:lnTo>
                      <a:lnTo>
                        <a:pt x="16753" y="13692"/>
                      </a:lnTo>
                      <a:lnTo>
                        <a:pt x="16753" y="15852"/>
                      </a:lnTo>
                      <a:arcTo wR="21600" hR="8029" stAng="7306752" swAng="3218443"/>
                      <a:lnTo>
                        <a:pt x="485" y="9720"/>
                      </a:lnTo>
                      <a:arcTo wR="21600" hR="8029" stAng="-10525195" swAng="512519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8029" stAng="-5400000" swAng="-5400000"/>
                      <a:lnTo>
                        <a:pt x="0" y="8029"/>
                      </a:lnTo>
                      <a:arcTo wR="21600" hR="8029" stAng="10800000" swAng="-274805"/>
                      <a:lnTo>
                        <a:pt x="485" y="9720"/>
                      </a:lnTo>
                      <a:arcTo wR="21600" hR="8029" stAng="-10525195" swAng="5125195"/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8033040" y="4807800"/>
                  <a:ext cx="127080" cy="1209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7823880" y="4660920"/>
                  <a:ext cx="284040" cy="281520"/>
                  <a:chOff x="7823880" y="4660920"/>
                  <a:chExt cx="284040" cy="28152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>
                    <a:off x="7825320" y="4660920"/>
                    <a:ext cx="282600" cy="28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0" tIns="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7823880" y="4662720"/>
                    <a:ext cx="284040" cy="277560"/>
                    <a:chOff x="7823880" y="4662720"/>
                    <a:chExt cx="284040" cy="27756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7864920" y="4889880"/>
                      <a:ext cx="20304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7" h="33">
                          <a:moveTo>
                            <a:pt x="10" y="33"/>
                          </a:moveTo>
                          <a:lnTo>
                            <a:pt x="805" y="21"/>
                          </a:lnTo>
                          <a:lnTo>
                            <a:pt x="817" y="0"/>
                          </a:lnTo>
                          <a:lnTo>
                            <a:pt x="0" y="12"/>
                          </a:lnTo>
                          <a:lnTo>
                            <a:pt x="10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7823880" y="4662720"/>
                      <a:ext cx="284040" cy="27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2" h="1162">
                          <a:moveTo>
                            <a:pt x="971" y="167"/>
                          </a:moveTo>
                          <a:lnTo>
                            <a:pt x="951" y="148"/>
                          </a:lnTo>
                          <a:lnTo>
                            <a:pt x="929" y="129"/>
                          </a:lnTo>
                          <a:lnTo>
                            <a:pt x="907" y="112"/>
                          </a:lnTo>
                          <a:lnTo>
                            <a:pt x="884" y="96"/>
                          </a:lnTo>
                          <a:lnTo>
                            <a:pt x="861" y="81"/>
                          </a:lnTo>
                          <a:lnTo>
                            <a:pt x="836" y="67"/>
                          </a:lnTo>
                          <a:lnTo>
                            <a:pt x="812" y="54"/>
                          </a:lnTo>
                          <a:lnTo>
                            <a:pt x="787" y="44"/>
                          </a:lnTo>
                          <a:lnTo>
                            <a:pt x="762" y="34"/>
                          </a:lnTo>
                          <a:lnTo>
                            <a:pt x="735" y="24"/>
                          </a:lnTo>
                          <a:lnTo>
                            <a:pt x="709" y="18"/>
                          </a:lnTo>
                          <a:lnTo>
                            <a:pt x="682" y="12"/>
                          </a:lnTo>
                          <a:lnTo>
                            <a:pt x="654" y="6"/>
                          </a:lnTo>
                          <a:lnTo>
                            <a:pt x="627" y="3"/>
                          </a:lnTo>
                          <a:lnTo>
                            <a:pt x="599" y="1"/>
                          </a:lnTo>
                          <a:lnTo>
                            <a:pt x="571" y="0"/>
                          </a:lnTo>
                          <a:lnTo>
                            <a:pt x="546" y="1"/>
                          </a:lnTo>
                          <a:lnTo>
                            <a:pt x="521" y="3"/>
                          </a:lnTo>
                          <a:lnTo>
                            <a:pt x="495" y="5"/>
                          </a:lnTo>
                          <a:lnTo>
                            <a:pt x="471" y="9"/>
                          </a:lnTo>
                          <a:lnTo>
                            <a:pt x="446" y="14"/>
                          </a:lnTo>
                          <a:lnTo>
                            <a:pt x="422" y="21"/>
                          </a:lnTo>
                          <a:lnTo>
                            <a:pt x="399" y="28"/>
                          </a:lnTo>
                          <a:lnTo>
                            <a:pt x="374" y="36"/>
                          </a:lnTo>
                          <a:lnTo>
                            <a:pt x="351" y="45"/>
                          </a:lnTo>
                          <a:lnTo>
                            <a:pt x="328" y="56"/>
                          </a:lnTo>
                          <a:lnTo>
                            <a:pt x="306" y="67"/>
                          </a:lnTo>
                          <a:lnTo>
                            <a:pt x="285" y="80"/>
                          </a:lnTo>
                          <a:lnTo>
                            <a:pt x="263" y="94"/>
                          </a:lnTo>
                          <a:lnTo>
                            <a:pt x="242" y="107"/>
                          </a:lnTo>
                          <a:lnTo>
                            <a:pt x="222" y="124"/>
                          </a:lnTo>
                          <a:lnTo>
                            <a:pt x="203" y="140"/>
                          </a:lnTo>
                          <a:lnTo>
                            <a:pt x="206" y="143"/>
                          </a:lnTo>
                          <a:lnTo>
                            <a:pt x="211" y="147"/>
                          </a:lnTo>
                          <a:lnTo>
                            <a:pt x="214" y="150"/>
                          </a:lnTo>
                          <a:lnTo>
                            <a:pt x="218" y="153"/>
                          </a:lnTo>
                          <a:lnTo>
                            <a:pt x="236" y="138"/>
                          </a:lnTo>
                          <a:lnTo>
                            <a:pt x="256" y="124"/>
                          </a:lnTo>
                          <a:lnTo>
                            <a:pt x="276" y="110"/>
                          </a:lnTo>
                          <a:lnTo>
                            <a:pt x="296" y="97"/>
                          </a:lnTo>
                          <a:lnTo>
                            <a:pt x="318" y="85"/>
                          </a:lnTo>
                          <a:lnTo>
                            <a:pt x="339" y="74"/>
                          </a:lnTo>
                          <a:lnTo>
                            <a:pt x="361" y="64"/>
                          </a:lnTo>
                          <a:lnTo>
                            <a:pt x="382" y="56"/>
                          </a:lnTo>
                          <a:lnTo>
                            <a:pt x="406" y="47"/>
                          </a:lnTo>
                          <a:lnTo>
                            <a:pt x="429" y="41"/>
                          </a:lnTo>
                          <a:lnTo>
                            <a:pt x="452" y="35"/>
                          </a:lnTo>
                          <a:lnTo>
                            <a:pt x="475" y="30"/>
                          </a:lnTo>
                          <a:lnTo>
                            <a:pt x="499" y="26"/>
                          </a:lnTo>
                          <a:lnTo>
                            <a:pt x="523" y="23"/>
                          </a:lnTo>
                          <a:lnTo>
                            <a:pt x="547" y="21"/>
                          </a:lnTo>
                          <a:lnTo>
                            <a:pt x="571" y="21"/>
                          </a:lnTo>
                          <a:lnTo>
                            <a:pt x="598" y="22"/>
                          </a:lnTo>
                          <a:lnTo>
                            <a:pt x="626" y="23"/>
                          </a:lnTo>
                          <a:lnTo>
                            <a:pt x="652" y="27"/>
                          </a:lnTo>
                          <a:lnTo>
                            <a:pt x="677" y="31"/>
                          </a:lnTo>
                          <a:lnTo>
                            <a:pt x="704" y="37"/>
                          </a:lnTo>
                          <a:lnTo>
                            <a:pt x="729" y="45"/>
                          </a:lnTo>
                          <a:lnTo>
                            <a:pt x="755" y="53"/>
                          </a:lnTo>
                          <a:lnTo>
                            <a:pt x="779" y="62"/>
                          </a:lnTo>
                          <a:lnTo>
                            <a:pt x="803" y="74"/>
                          </a:lnTo>
                          <a:lnTo>
                            <a:pt x="827" y="85"/>
                          </a:lnTo>
                          <a:lnTo>
                            <a:pt x="850" y="99"/>
                          </a:lnTo>
                          <a:lnTo>
                            <a:pt x="872" y="113"/>
                          </a:lnTo>
                          <a:lnTo>
                            <a:pt x="894" y="129"/>
                          </a:lnTo>
                          <a:lnTo>
                            <a:pt x="916" y="145"/>
                          </a:lnTo>
                          <a:lnTo>
                            <a:pt x="937" y="164"/>
                          </a:lnTo>
                          <a:lnTo>
                            <a:pt x="956" y="182"/>
                          </a:lnTo>
                          <a:lnTo>
                            <a:pt x="994" y="224"/>
                          </a:lnTo>
                          <a:lnTo>
                            <a:pt x="1027" y="267"/>
                          </a:lnTo>
                          <a:lnTo>
                            <a:pt x="1055" y="315"/>
                          </a:lnTo>
                          <a:lnTo>
                            <a:pt x="1078" y="363"/>
                          </a:lnTo>
                          <a:lnTo>
                            <a:pt x="1097" y="414"/>
                          </a:lnTo>
                          <a:lnTo>
                            <a:pt x="1111" y="467"/>
                          </a:lnTo>
                          <a:lnTo>
                            <a:pt x="1119" y="521"/>
                          </a:lnTo>
                          <a:lnTo>
                            <a:pt x="1121" y="576"/>
                          </a:lnTo>
                          <a:lnTo>
                            <a:pt x="1119" y="631"/>
                          </a:lnTo>
                          <a:lnTo>
                            <a:pt x="1111" y="686"/>
                          </a:lnTo>
                          <a:lnTo>
                            <a:pt x="1097" y="739"/>
                          </a:lnTo>
                          <a:lnTo>
                            <a:pt x="1080" y="790"/>
                          </a:lnTo>
                          <a:lnTo>
                            <a:pt x="1057" y="840"/>
                          </a:lnTo>
                          <a:lnTo>
                            <a:pt x="1028" y="887"/>
                          </a:lnTo>
                          <a:lnTo>
                            <a:pt x="995" y="931"/>
                          </a:lnTo>
                          <a:lnTo>
                            <a:pt x="959" y="974"/>
                          </a:lnTo>
                          <a:lnTo>
                            <a:pt x="939" y="993"/>
                          </a:lnTo>
                          <a:lnTo>
                            <a:pt x="918" y="1012"/>
                          </a:lnTo>
                          <a:lnTo>
                            <a:pt x="896" y="1029"/>
                          </a:lnTo>
                          <a:lnTo>
                            <a:pt x="874" y="1045"/>
                          </a:lnTo>
                          <a:lnTo>
                            <a:pt x="851" y="1061"/>
                          </a:lnTo>
                          <a:lnTo>
                            <a:pt x="828" y="1075"/>
                          </a:lnTo>
                          <a:lnTo>
                            <a:pt x="804" y="1086"/>
                          </a:lnTo>
                          <a:lnTo>
                            <a:pt x="780" y="1098"/>
                          </a:lnTo>
                          <a:lnTo>
                            <a:pt x="755" y="1108"/>
                          </a:lnTo>
                          <a:lnTo>
                            <a:pt x="729" y="1117"/>
                          </a:lnTo>
                          <a:lnTo>
                            <a:pt x="704" y="1124"/>
                          </a:lnTo>
                          <a:lnTo>
                            <a:pt x="677" y="1130"/>
                          </a:lnTo>
                          <a:lnTo>
                            <a:pt x="652" y="1136"/>
                          </a:lnTo>
                          <a:lnTo>
                            <a:pt x="626" y="1139"/>
                          </a:lnTo>
                          <a:lnTo>
                            <a:pt x="598" y="1141"/>
                          </a:lnTo>
                          <a:lnTo>
                            <a:pt x="571" y="1142"/>
                          </a:lnTo>
                          <a:lnTo>
                            <a:pt x="545" y="1141"/>
                          </a:lnTo>
                          <a:lnTo>
                            <a:pt x="517" y="1139"/>
                          </a:lnTo>
                          <a:lnTo>
                            <a:pt x="491" y="1136"/>
                          </a:lnTo>
                          <a:lnTo>
                            <a:pt x="465" y="1131"/>
                          </a:lnTo>
                          <a:lnTo>
                            <a:pt x="439" y="1126"/>
                          </a:lnTo>
                          <a:lnTo>
                            <a:pt x="414" y="1117"/>
                          </a:lnTo>
                          <a:lnTo>
                            <a:pt x="388" y="1109"/>
                          </a:lnTo>
                          <a:lnTo>
                            <a:pt x="364" y="1100"/>
                          </a:lnTo>
                          <a:lnTo>
                            <a:pt x="340" y="1089"/>
                          </a:lnTo>
                          <a:lnTo>
                            <a:pt x="316" y="1077"/>
                          </a:lnTo>
                          <a:lnTo>
                            <a:pt x="293" y="1063"/>
                          </a:lnTo>
                          <a:lnTo>
                            <a:pt x="271" y="1050"/>
                          </a:lnTo>
                          <a:lnTo>
                            <a:pt x="249" y="1033"/>
                          </a:lnTo>
                          <a:lnTo>
                            <a:pt x="227" y="1017"/>
                          </a:lnTo>
                          <a:lnTo>
                            <a:pt x="206" y="999"/>
                          </a:lnTo>
                          <a:lnTo>
                            <a:pt x="187" y="980"/>
                          </a:lnTo>
                          <a:lnTo>
                            <a:pt x="149" y="939"/>
                          </a:lnTo>
                          <a:lnTo>
                            <a:pt x="116" y="895"/>
                          </a:lnTo>
                          <a:lnTo>
                            <a:pt x="88" y="847"/>
                          </a:lnTo>
                          <a:lnTo>
                            <a:pt x="64" y="797"/>
                          </a:lnTo>
                          <a:lnTo>
                            <a:pt x="45" y="745"/>
                          </a:lnTo>
                          <a:lnTo>
                            <a:pt x="32" y="691"/>
                          </a:lnTo>
                          <a:lnTo>
                            <a:pt x="23" y="637"/>
                          </a:lnTo>
                          <a:lnTo>
                            <a:pt x="21" y="582"/>
                          </a:lnTo>
                          <a:lnTo>
                            <a:pt x="23" y="527"/>
                          </a:lnTo>
                          <a:lnTo>
                            <a:pt x="32" y="471"/>
                          </a:lnTo>
                          <a:lnTo>
                            <a:pt x="45" y="418"/>
                          </a:lnTo>
                          <a:lnTo>
                            <a:pt x="64" y="367"/>
                          </a:lnTo>
                          <a:lnTo>
                            <a:pt x="88" y="316"/>
                          </a:lnTo>
                          <a:lnTo>
                            <a:pt x="116" y="269"/>
                          </a:lnTo>
                          <a:lnTo>
                            <a:pt x="149" y="224"/>
                          </a:lnTo>
                          <a:lnTo>
                            <a:pt x="187" y="182"/>
                          </a:lnTo>
                          <a:lnTo>
                            <a:pt x="195" y="174"/>
                          </a:lnTo>
                          <a:lnTo>
                            <a:pt x="203" y="167"/>
                          </a:lnTo>
                          <a:lnTo>
                            <a:pt x="210" y="160"/>
                          </a:lnTo>
                          <a:lnTo>
                            <a:pt x="218" y="153"/>
                          </a:lnTo>
                          <a:lnTo>
                            <a:pt x="214" y="150"/>
                          </a:lnTo>
                          <a:lnTo>
                            <a:pt x="211" y="147"/>
                          </a:lnTo>
                          <a:lnTo>
                            <a:pt x="206" y="143"/>
                          </a:lnTo>
                          <a:lnTo>
                            <a:pt x="203" y="140"/>
                          </a:lnTo>
                          <a:lnTo>
                            <a:pt x="198" y="143"/>
                          </a:lnTo>
                          <a:lnTo>
                            <a:pt x="194" y="148"/>
                          </a:lnTo>
                          <a:lnTo>
                            <a:pt x="189" y="151"/>
                          </a:lnTo>
                          <a:lnTo>
                            <a:pt x="184" y="156"/>
                          </a:lnTo>
                          <a:lnTo>
                            <a:pt x="180" y="160"/>
                          </a:lnTo>
                          <a:lnTo>
                            <a:pt x="176" y="165"/>
                          </a:lnTo>
                          <a:lnTo>
                            <a:pt x="172" y="168"/>
                          </a:lnTo>
                          <a:lnTo>
                            <a:pt x="167" y="173"/>
                          </a:lnTo>
                          <a:lnTo>
                            <a:pt x="129" y="216"/>
                          </a:lnTo>
                          <a:lnTo>
                            <a:pt x="96" y="262"/>
                          </a:lnTo>
                          <a:lnTo>
                            <a:pt x="67" y="310"/>
                          </a:lnTo>
                          <a:lnTo>
                            <a:pt x="43" y="362"/>
                          </a:lnTo>
                          <a:lnTo>
                            <a:pt x="24" y="415"/>
                          </a:lnTo>
                          <a:lnTo>
                            <a:pt x="10" y="469"/>
                          </a:lnTo>
                          <a:lnTo>
                            <a:pt x="2" y="524"/>
                          </a:lnTo>
                          <a:lnTo>
                            <a:pt x="0" y="582"/>
                          </a:lnTo>
                          <a:lnTo>
                            <a:pt x="3" y="640"/>
                          </a:lnTo>
                          <a:lnTo>
                            <a:pt x="11" y="696"/>
                          </a:lnTo>
                          <a:lnTo>
                            <a:pt x="25" y="751"/>
                          </a:lnTo>
                          <a:lnTo>
                            <a:pt x="45" y="805"/>
                          </a:lnTo>
                          <a:lnTo>
                            <a:pt x="69" y="857"/>
                          </a:lnTo>
                          <a:lnTo>
                            <a:pt x="99" y="907"/>
                          </a:lnTo>
                          <a:lnTo>
                            <a:pt x="132" y="953"/>
                          </a:lnTo>
                          <a:lnTo>
                            <a:pt x="172" y="995"/>
                          </a:lnTo>
                          <a:lnTo>
                            <a:pt x="192" y="1015"/>
                          </a:lnTo>
                          <a:lnTo>
                            <a:pt x="214" y="1033"/>
                          </a:lnTo>
                          <a:lnTo>
                            <a:pt x="236" y="1051"/>
                          </a:lnTo>
                          <a:lnTo>
                            <a:pt x="259" y="1067"/>
                          </a:lnTo>
                          <a:lnTo>
                            <a:pt x="282" y="1082"/>
                          </a:lnTo>
                          <a:lnTo>
                            <a:pt x="306" y="1096"/>
                          </a:lnTo>
                          <a:lnTo>
                            <a:pt x="331" y="1108"/>
                          </a:lnTo>
                          <a:lnTo>
                            <a:pt x="356" y="1120"/>
                          </a:lnTo>
                          <a:lnTo>
                            <a:pt x="381" y="1129"/>
                          </a:lnTo>
                          <a:lnTo>
                            <a:pt x="408" y="1138"/>
                          </a:lnTo>
                          <a:lnTo>
                            <a:pt x="434" y="1145"/>
                          </a:lnTo>
                          <a:lnTo>
                            <a:pt x="461" y="1152"/>
                          </a:lnTo>
                          <a:lnTo>
                            <a:pt x="488" y="1157"/>
                          </a:lnTo>
                          <a:lnTo>
                            <a:pt x="516" y="1160"/>
                          </a:lnTo>
                          <a:lnTo>
                            <a:pt x="544" y="1161"/>
                          </a:lnTo>
                          <a:lnTo>
                            <a:pt x="571" y="1162"/>
                          </a:lnTo>
                          <a:lnTo>
                            <a:pt x="599" y="1161"/>
                          </a:lnTo>
                          <a:lnTo>
                            <a:pt x="626" y="1160"/>
                          </a:lnTo>
                          <a:lnTo>
                            <a:pt x="653" y="1157"/>
                          </a:lnTo>
                          <a:lnTo>
                            <a:pt x="680" y="1152"/>
                          </a:lnTo>
                          <a:lnTo>
                            <a:pt x="706" y="1145"/>
                          </a:lnTo>
                          <a:lnTo>
                            <a:pt x="733" y="1138"/>
                          </a:lnTo>
                          <a:lnTo>
                            <a:pt x="758" y="1129"/>
                          </a:lnTo>
                          <a:lnTo>
                            <a:pt x="783" y="1120"/>
                          </a:lnTo>
                          <a:lnTo>
                            <a:pt x="808" y="1108"/>
                          </a:lnTo>
                          <a:lnTo>
                            <a:pt x="833" y="1096"/>
                          </a:lnTo>
                          <a:lnTo>
                            <a:pt x="856" y="1082"/>
                          </a:lnTo>
                          <a:lnTo>
                            <a:pt x="880" y="1067"/>
                          </a:lnTo>
                          <a:lnTo>
                            <a:pt x="902" y="1051"/>
                          </a:lnTo>
                          <a:lnTo>
                            <a:pt x="924" y="1033"/>
                          </a:lnTo>
                          <a:lnTo>
                            <a:pt x="946" y="1015"/>
                          </a:lnTo>
                          <a:lnTo>
                            <a:pt x="967" y="995"/>
                          </a:lnTo>
                          <a:lnTo>
                            <a:pt x="1006" y="952"/>
                          </a:lnTo>
                          <a:lnTo>
                            <a:pt x="1040" y="906"/>
                          </a:lnTo>
                          <a:lnTo>
                            <a:pt x="1070" y="855"/>
                          </a:lnTo>
                          <a:lnTo>
                            <a:pt x="1096" y="803"/>
                          </a:lnTo>
                          <a:lnTo>
                            <a:pt x="1115" y="748"/>
                          </a:lnTo>
                          <a:lnTo>
                            <a:pt x="1130" y="691"/>
                          </a:lnTo>
                          <a:lnTo>
                            <a:pt x="1138" y="634"/>
                          </a:lnTo>
                          <a:lnTo>
                            <a:pt x="1142" y="576"/>
                          </a:lnTo>
                          <a:lnTo>
                            <a:pt x="1139" y="519"/>
                          </a:lnTo>
                          <a:lnTo>
                            <a:pt x="1130" y="463"/>
                          </a:lnTo>
                          <a:lnTo>
                            <a:pt x="1116" y="409"/>
                          </a:lnTo>
                          <a:lnTo>
                            <a:pt x="1098" y="356"/>
                          </a:lnTo>
                          <a:lnTo>
                            <a:pt x="1074" y="304"/>
                          </a:lnTo>
                          <a:lnTo>
                            <a:pt x="1044" y="256"/>
                          </a:lnTo>
                          <a:lnTo>
                            <a:pt x="1010" y="210"/>
                          </a:lnTo>
                          <a:lnTo>
                            <a:pt x="971" y="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7962840" y="4664520"/>
                      <a:ext cx="10080" cy="26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096">
                          <a:moveTo>
                            <a:pt x="0" y="2"/>
                          </a:moveTo>
                          <a:lnTo>
                            <a:pt x="21" y="1096"/>
                          </a:lnTo>
                          <a:lnTo>
                            <a:pt x="41" y="1095"/>
                          </a:lnTo>
                          <a:lnTo>
                            <a:pt x="21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7832880" y="4753440"/>
                      <a:ext cx="26352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9" h="34">
                          <a:moveTo>
                            <a:pt x="0" y="34"/>
                          </a:moveTo>
                          <a:lnTo>
                            <a:pt x="1059" y="21"/>
                          </a:lnTo>
                          <a:lnTo>
                            <a:pt x="1059" y="0"/>
                          </a:lnTo>
                          <a:lnTo>
                            <a:pt x="0" y="13"/>
                          </a:lnTo>
                          <a:lnTo>
                            <a:pt x="0" y="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7826760" y="4796280"/>
                      <a:ext cx="27900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4" h="42">
                          <a:moveTo>
                            <a:pt x="0" y="42"/>
                          </a:moveTo>
                          <a:lnTo>
                            <a:pt x="1124" y="21"/>
                          </a:lnTo>
                          <a:lnTo>
                            <a:pt x="1124" y="0"/>
                          </a:lnTo>
                          <a:lnTo>
                            <a:pt x="0" y="21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7837560" y="4842720"/>
                      <a:ext cx="26064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37">
                          <a:moveTo>
                            <a:pt x="0" y="37"/>
                          </a:moveTo>
                          <a:lnTo>
                            <a:pt x="1050" y="20"/>
                          </a:lnTo>
                          <a:lnTo>
                            <a:pt x="1050" y="0"/>
                          </a:lnTo>
                          <a:lnTo>
                            <a:pt x="0" y="16"/>
                          </a:lnTo>
                          <a:lnTo>
                            <a:pt x="0" y="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7863840" y="4689720"/>
                      <a:ext cx="83880" cy="24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1027">
                          <a:moveTo>
                            <a:pt x="197" y="0"/>
                          </a:moveTo>
                          <a:lnTo>
                            <a:pt x="195" y="3"/>
                          </a:lnTo>
                          <a:lnTo>
                            <a:pt x="188" y="8"/>
                          </a:lnTo>
                          <a:lnTo>
                            <a:pt x="179" y="18"/>
                          </a:lnTo>
                          <a:lnTo>
                            <a:pt x="166" y="30"/>
                          </a:lnTo>
                          <a:lnTo>
                            <a:pt x="151" y="48"/>
                          </a:lnTo>
                          <a:lnTo>
                            <a:pt x="135" y="67"/>
                          </a:lnTo>
                          <a:lnTo>
                            <a:pt x="118" y="91"/>
                          </a:lnTo>
                          <a:lnTo>
                            <a:pt x="100" y="118"/>
                          </a:lnTo>
                          <a:lnTo>
                            <a:pt x="82" y="149"/>
                          </a:lnTo>
                          <a:lnTo>
                            <a:pt x="64" y="183"/>
                          </a:lnTo>
                          <a:lnTo>
                            <a:pt x="48" y="221"/>
                          </a:lnTo>
                          <a:lnTo>
                            <a:pt x="33" y="264"/>
                          </a:lnTo>
                          <a:lnTo>
                            <a:pt x="20" y="309"/>
                          </a:lnTo>
                          <a:lnTo>
                            <a:pt x="10" y="357"/>
                          </a:lnTo>
                          <a:lnTo>
                            <a:pt x="4" y="410"/>
                          </a:lnTo>
                          <a:lnTo>
                            <a:pt x="0" y="467"/>
                          </a:lnTo>
                          <a:lnTo>
                            <a:pt x="0" y="471"/>
                          </a:lnTo>
                          <a:lnTo>
                            <a:pt x="2" y="485"/>
                          </a:lnTo>
                          <a:lnTo>
                            <a:pt x="3" y="505"/>
                          </a:lnTo>
                          <a:lnTo>
                            <a:pt x="6" y="532"/>
                          </a:lnTo>
                          <a:lnTo>
                            <a:pt x="12" y="564"/>
                          </a:lnTo>
                          <a:lnTo>
                            <a:pt x="19" y="600"/>
                          </a:lnTo>
                          <a:lnTo>
                            <a:pt x="29" y="641"/>
                          </a:lnTo>
                          <a:lnTo>
                            <a:pt x="43" y="683"/>
                          </a:lnTo>
                          <a:lnTo>
                            <a:pt x="61" y="728"/>
                          </a:lnTo>
                          <a:lnTo>
                            <a:pt x="83" y="774"/>
                          </a:lnTo>
                          <a:lnTo>
                            <a:pt x="110" y="822"/>
                          </a:lnTo>
                          <a:lnTo>
                            <a:pt x="141" y="866"/>
                          </a:lnTo>
                          <a:lnTo>
                            <a:pt x="178" y="911"/>
                          </a:lnTo>
                          <a:lnTo>
                            <a:pt x="222" y="953"/>
                          </a:lnTo>
                          <a:lnTo>
                            <a:pt x="271" y="992"/>
                          </a:lnTo>
                          <a:lnTo>
                            <a:pt x="328" y="1027"/>
                          </a:lnTo>
                          <a:lnTo>
                            <a:pt x="338" y="1009"/>
                          </a:lnTo>
                          <a:lnTo>
                            <a:pt x="283" y="976"/>
                          </a:lnTo>
                          <a:lnTo>
                            <a:pt x="235" y="938"/>
                          </a:lnTo>
                          <a:lnTo>
                            <a:pt x="193" y="898"/>
                          </a:lnTo>
                          <a:lnTo>
                            <a:pt x="157" y="854"/>
                          </a:lnTo>
                          <a:lnTo>
                            <a:pt x="127" y="810"/>
                          </a:lnTo>
                          <a:lnTo>
                            <a:pt x="101" y="765"/>
                          </a:lnTo>
                          <a:lnTo>
                            <a:pt x="80" y="720"/>
                          </a:lnTo>
                          <a:lnTo>
                            <a:pt x="63" y="676"/>
                          </a:lnTo>
                          <a:lnTo>
                            <a:pt x="50" y="635"/>
                          </a:lnTo>
                          <a:lnTo>
                            <a:pt x="40" y="596"/>
                          </a:lnTo>
                          <a:lnTo>
                            <a:pt x="32" y="561"/>
                          </a:lnTo>
                          <a:lnTo>
                            <a:pt x="27" y="530"/>
                          </a:lnTo>
                          <a:lnTo>
                            <a:pt x="23" y="504"/>
                          </a:lnTo>
                          <a:lnTo>
                            <a:pt x="22" y="484"/>
                          </a:lnTo>
                          <a:lnTo>
                            <a:pt x="21" y="471"/>
                          </a:lnTo>
                          <a:lnTo>
                            <a:pt x="21" y="467"/>
                          </a:lnTo>
                          <a:lnTo>
                            <a:pt x="23" y="413"/>
                          </a:lnTo>
                          <a:lnTo>
                            <a:pt x="30" y="362"/>
                          </a:lnTo>
                          <a:lnTo>
                            <a:pt x="41" y="315"/>
                          </a:lnTo>
                          <a:lnTo>
                            <a:pt x="52" y="270"/>
                          </a:lnTo>
                          <a:lnTo>
                            <a:pt x="67" y="231"/>
                          </a:lnTo>
                          <a:lnTo>
                            <a:pt x="82" y="194"/>
                          </a:lnTo>
                          <a:lnTo>
                            <a:pt x="100" y="160"/>
                          </a:lnTo>
                          <a:lnTo>
                            <a:pt x="117" y="130"/>
                          </a:lnTo>
                          <a:lnTo>
                            <a:pt x="134" y="104"/>
                          </a:lnTo>
                          <a:lnTo>
                            <a:pt x="151" y="81"/>
                          </a:lnTo>
                          <a:lnTo>
                            <a:pt x="166" y="61"/>
                          </a:lnTo>
                          <a:lnTo>
                            <a:pt x="181" y="45"/>
                          </a:lnTo>
                          <a:lnTo>
                            <a:pt x="193" y="34"/>
                          </a:lnTo>
                          <a:lnTo>
                            <a:pt x="202" y="24"/>
                          </a:lnTo>
                          <a:lnTo>
                            <a:pt x="208" y="19"/>
                          </a:lnTo>
                          <a:lnTo>
                            <a:pt x="210" y="16"/>
                          </a:lnTo>
                          <a:lnTo>
                            <a:pt x="19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7907400" y="4740480"/>
                      <a:ext cx="57240" cy="18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786">
                          <a:moveTo>
                            <a:pt x="46" y="0"/>
                          </a:moveTo>
                          <a:lnTo>
                            <a:pt x="43" y="5"/>
                          </a:lnTo>
                          <a:lnTo>
                            <a:pt x="37" y="18"/>
                          </a:lnTo>
                          <a:lnTo>
                            <a:pt x="29" y="38"/>
                          </a:lnTo>
                          <a:lnTo>
                            <a:pt x="20" y="67"/>
                          </a:lnTo>
                          <a:lnTo>
                            <a:pt x="11" y="104"/>
                          </a:lnTo>
                          <a:lnTo>
                            <a:pt x="4" y="148"/>
                          </a:lnTo>
                          <a:lnTo>
                            <a:pt x="0" y="201"/>
                          </a:lnTo>
                          <a:lnTo>
                            <a:pt x="2" y="262"/>
                          </a:lnTo>
                          <a:lnTo>
                            <a:pt x="4" y="291"/>
                          </a:lnTo>
                          <a:lnTo>
                            <a:pt x="6" y="319"/>
                          </a:lnTo>
                          <a:lnTo>
                            <a:pt x="10" y="349"/>
                          </a:lnTo>
                          <a:lnTo>
                            <a:pt x="14" y="379"/>
                          </a:lnTo>
                          <a:lnTo>
                            <a:pt x="20" y="410"/>
                          </a:lnTo>
                          <a:lnTo>
                            <a:pt x="27" y="442"/>
                          </a:lnTo>
                          <a:lnTo>
                            <a:pt x="35" y="473"/>
                          </a:lnTo>
                          <a:lnTo>
                            <a:pt x="46" y="505"/>
                          </a:lnTo>
                          <a:lnTo>
                            <a:pt x="58" y="537"/>
                          </a:lnTo>
                          <a:lnTo>
                            <a:pt x="73" y="571"/>
                          </a:lnTo>
                          <a:lnTo>
                            <a:pt x="90" y="605"/>
                          </a:lnTo>
                          <a:lnTo>
                            <a:pt x="110" y="640"/>
                          </a:lnTo>
                          <a:lnTo>
                            <a:pt x="132" y="675"/>
                          </a:lnTo>
                          <a:lnTo>
                            <a:pt x="157" y="711"/>
                          </a:lnTo>
                          <a:lnTo>
                            <a:pt x="185" y="748"/>
                          </a:lnTo>
                          <a:lnTo>
                            <a:pt x="216" y="786"/>
                          </a:lnTo>
                          <a:lnTo>
                            <a:pt x="231" y="772"/>
                          </a:lnTo>
                          <a:lnTo>
                            <a:pt x="201" y="735"/>
                          </a:lnTo>
                          <a:lnTo>
                            <a:pt x="173" y="699"/>
                          </a:lnTo>
                          <a:lnTo>
                            <a:pt x="149" y="665"/>
                          </a:lnTo>
                          <a:lnTo>
                            <a:pt x="127" y="630"/>
                          </a:lnTo>
                          <a:lnTo>
                            <a:pt x="109" y="596"/>
                          </a:lnTo>
                          <a:lnTo>
                            <a:pt x="93" y="562"/>
                          </a:lnTo>
                          <a:lnTo>
                            <a:pt x="78" y="530"/>
                          </a:lnTo>
                          <a:lnTo>
                            <a:pt x="66" y="498"/>
                          </a:lnTo>
                          <a:lnTo>
                            <a:pt x="56" y="467"/>
                          </a:lnTo>
                          <a:lnTo>
                            <a:pt x="46" y="436"/>
                          </a:lnTo>
                          <a:lnTo>
                            <a:pt x="40" y="406"/>
                          </a:lnTo>
                          <a:lnTo>
                            <a:pt x="34" y="376"/>
                          </a:lnTo>
                          <a:lnTo>
                            <a:pt x="30" y="346"/>
                          </a:lnTo>
                          <a:lnTo>
                            <a:pt x="27" y="317"/>
                          </a:lnTo>
                          <a:lnTo>
                            <a:pt x="25" y="288"/>
                          </a:lnTo>
                          <a:lnTo>
                            <a:pt x="22" y="261"/>
                          </a:lnTo>
                          <a:lnTo>
                            <a:pt x="21" y="202"/>
                          </a:lnTo>
                          <a:lnTo>
                            <a:pt x="25" y="151"/>
                          </a:lnTo>
                          <a:lnTo>
                            <a:pt x="32" y="109"/>
                          </a:lnTo>
                          <a:lnTo>
                            <a:pt x="40" y="73"/>
                          </a:lnTo>
                          <a:lnTo>
                            <a:pt x="49" y="46"/>
                          </a:lnTo>
                          <a:lnTo>
                            <a:pt x="56" y="27"/>
                          </a:lnTo>
                          <a:lnTo>
                            <a:pt x="61" y="15"/>
                          </a:lnTo>
                          <a:lnTo>
                            <a:pt x="64" y="11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7998480" y="4721400"/>
                      <a:ext cx="24120" cy="6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261">
                          <a:moveTo>
                            <a:pt x="0" y="14"/>
                          </a:moveTo>
                          <a:lnTo>
                            <a:pt x="0" y="14"/>
                          </a:lnTo>
                          <a:lnTo>
                            <a:pt x="2" y="17"/>
                          </a:lnTo>
                          <a:lnTo>
                            <a:pt x="9" y="27"/>
                          </a:lnTo>
                          <a:lnTo>
                            <a:pt x="19" y="46"/>
                          </a:lnTo>
                          <a:lnTo>
                            <a:pt x="32" y="71"/>
                          </a:lnTo>
                          <a:lnTo>
                            <a:pt x="45" y="106"/>
                          </a:lnTo>
                          <a:lnTo>
                            <a:pt x="57" y="148"/>
                          </a:lnTo>
                          <a:lnTo>
                            <a:pt x="68" y="200"/>
                          </a:lnTo>
                          <a:lnTo>
                            <a:pt x="76" y="261"/>
                          </a:lnTo>
                          <a:lnTo>
                            <a:pt x="97" y="260"/>
                          </a:lnTo>
                          <a:lnTo>
                            <a:pt x="89" y="196"/>
                          </a:lnTo>
                          <a:lnTo>
                            <a:pt x="77" y="141"/>
                          </a:lnTo>
                          <a:lnTo>
                            <a:pt x="64" y="96"/>
                          </a:lnTo>
                          <a:lnTo>
                            <a:pt x="50" y="61"/>
                          </a:lnTo>
                          <a:lnTo>
                            <a:pt x="38" y="34"/>
                          </a:lnTo>
                          <a:lnTo>
                            <a:pt x="26" y="16"/>
                          </a:lnTo>
                          <a:lnTo>
                            <a:pt x="18" y="4"/>
                          </a:lnTo>
                          <a:lnTo>
                            <a:pt x="15" y="0"/>
                          </a:lnTo>
                          <a:lnTo>
                            <a:pt x="0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7990560" y="4690800"/>
                      <a:ext cx="79560" cy="2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1022">
                          <a:moveTo>
                            <a:pt x="11" y="1022"/>
                          </a:moveTo>
                          <a:lnTo>
                            <a:pt x="47" y="996"/>
                          </a:lnTo>
                          <a:lnTo>
                            <a:pt x="81" y="970"/>
                          </a:lnTo>
                          <a:lnTo>
                            <a:pt x="112" y="942"/>
                          </a:lnTo>
                          <a:lnTo>
                            <a:pt x="142" y="913"/>
                          </a:lnTo>
                          <a:lnTo>
                            <a:pt x="170" y="883"/>
                          </a:lnTo>
                          <a:lnTo>
                            <a:pt x="195" y="852"/>
                          </a:lnTo>
                          <a:lnTo>
                            <a:pt x="217" y="820"/>
                          </a:lnTo>
                          <a:lnTo>
                            <a:pt x="238" y="787"/>
                          </a:lnTo>
                          <a:lnTo>
                            <a:pt x="256" y="752"/>
                          </a:lnTo>
                          <a:lnTo>
                            <a:pt x="273" y="716"/>
                          </a:lnTo>
                          <a:lnTo>
                            <a:pt x="286" y="679"/>
                          </a:lnTo>
                          <a:lnTo>
                            <a:pt x="298" y="641"/>
                          </a:lnTo>
                          <a:lnTo>
                            <a:pt x="307" y="603"/>
                          </a:lnTo>
                          <a:lnTo>
                            <a:pt x="314" y="563"/>
                          </a:lnTo>
                          <a:lnTo>
                            <a:pt x="318" y="523"/>
                          </a:lnTo>
                          <a:lnTo>
                            <a:pt x="320" y="481"/>
                          </a:lnTo>
                          <a:lnTo>
                            <a:pt x="319" y="421"/>
                          </a:lnTo>
                          <a:lnTo>
                            <a:pt x="313" y="365"/>
                          </a:lnTo>
                          <a:lnTo>
                            <a:pt x="304" y="314"/>
                          </a:lnTo>
                          <a:lnTo>
                            <a:pt x="291" y="266"/>
                          </a:lnTo>
                          <a:lnTo>
                            <a:pt x="277" y="223"/>
                          </a:lnTo>
                          <a:lnTo>
                            <a:pt x="260" y="183"/>
                          </a:lnTo>
                          <a:lnTo>
                            <a:pt x="243" y="148"/>
                          </a:lnTo>
                          <a:lnTo>
                            <a:pt x="224" y="116"/>
                          </a:lnTo>
                          <a:lnTo>
                            <a:pt x="206" y="89"/>
                          </a:lnTo>
                          <a:lnTo>
                            <a:pt x="188" y="66"/>
                          </a:lnTo>
                          <a:lnTo>
                            <a:pt x="171" y="45"/>
                          </a:lnTo>
                          <a:lnTo>
                            <a:pt x="156" y="29"/>
                          </a:lnTo>
                          <a:lnTo>
                            <a:pt x="144" y="16"/>
                          </a:lnTo>
                          <a:lnTo>
                            <a:pt x="133" y="7"/>
                          </a:lnTo>
                          <a:lnTo>
                            <a:pt x="126" y="2"/>
                          </a:lnTo>
                          <a:lnTo>
                            <a:pt x="124" y="0"/>
                          </a:lnTo>
                          <a:lnTo>
                            <a:pt x="111" y="17"/>
                          </a:lnTo>
                          <a:lnTo>
                            <a:pt x="111" y="17"/>
                          </a:lnTo>
                          <a:lnTo>
                            <a:pt x="114" y="19"/>
                          </a:lnTo>
                          <a:lnTo>
                            <a:pt x="121" y="24"/>
                          </a:lnTo>
                          <a:lnTo>
                            <a:pt x="130" y="33"/>
                          </a:lnTo>
                          <a:lnTo>
                            <a:pt x="142" y="45"/>
                          </a:lnTo>
                          <a:lnTo>
                            <a:pt x="156" y="61"/>
                          </a:lnTo>
                          <a:lnTo>
                            <a:pt x="174" y="81"/>
                          </a:lnTo>
                          <a:lnTo>
                            <a:pt x="190" y="102"/>
                          </a:lnTo>
                          <a:lnTo>
                            <a:pt x="208" y="129"/>
                          </a:lnTo>
                          <a:lnTo>
                            <a:pt x="225" y="160"/>
                          </a:lnTo>
                          <a:lnTo>
                            <a:pt x="243" y="193"/>
                          </a:lnTo>
                          <a:lnTo>
                            <a:pt x="258" y="231"/>
                          </a:lnTo>
                          <a:lnTo>
                            <a:pt x="273" y="273"/>
                          </a:lnTo>
                          <a:lnTo>
                            <a:pt x="284" y="319"/>
                          </a:lnTo>
                          <a:lnTo>
                            <a:pt x="292" y="368"/>
                          </a:lnTo>
                          <a:lnTo>
                            <a:pt x="298" y="423"/>
                          </a:lnTo>
                          <a:lnTo>
                            <a:pt x="299" y="480"/>
                          </a:lnTo>
                          <a:lnTo>
                            <a:pt x="297" y="521"/>
                          </a:lnTo>
                          <a:lnTo>
                            <a:pt x="293" y="560"/>
                          </a:lnTo>
                          <a:lnTo>
                            <a:pt x="286" y="598"/>
                          </a:lnTo>
                          <a:lnTo>
                            <a:pt x="278" y="636"/>
                          </a:lnTo>
                          <a:lnTo>
                            <a:pt x="267" y="673"/>
                          </a:lnTo>
                          <a:lnTo>
                            <a:pt x="253" y="708"/>
                          </a:lnTo>
                          <a:lnTo>
                            <a:pt x="238" y="743"/>
                          </a:lnTo>
                          <a:lnTo>
                            <a:pt x="221" y="776"/>
                          </a:lnTo>
                          <a:lnTo>
                            <a:pt x="200" y="808"/>
                          </a:lnTo>
                          <a:lnTo>
                            <a:pt x="178" y="840"/>
                          </a:lnTo>
                          <a:lnTo>
                            <a:pt x="154" y="871"/>
                          </a:lnTo>
                          <a:lnTo>
                            <a:pt x="127" y="899"/>
                          </a:lnTo>
                          <a:lnTo>
                            <a:pt x="99" y="927"/>
                          </a:lnTo>
                          <a:lnTo>
                            <a:pt x="68" y="955"/>
                          </a:lnTo>
                          <a:lnTo>
                            <a:pt x="34" y="980"/>
                          </a:lnTo>
                          <a:lnTo>
                            <a:pt x="0" y="1004"/>
                          </a:lnTo>
                          <a:lnTo>
                            <a:pt x="11" y="10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7942680" y="4923720"/>
                      <a:ext cx="536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58">
                          <a:moveTo>
                            <a:pt x="15" y="58"/>
                          </a:moveTo>
                          <a:lnTo>
                            <a:pt x="15" y="58"/>
                          </a:lnTo>
                          <a:lnTo>
                            <a:pt x="16" y="57"/>
                          </a:lnTo>
                          <a:lnTo>
                            <a:pt x="22" y="52"/>
                          </a:lnTo>
                          <a:lnTo>
                            <a:pt x="30" y="46"/>
                          </a:lnTo>
                          <a:lnTo>
                            <a:pt x="40" y="41"/>
                          </a:lnTo>
                          <a:lnTo>
                            <a:pt x="54" y="34"/>
                          </a:lnTo>
                          <a:lnTo>
                            <a:pt x="72" y="28"/>
                          </a:lnTo>
                          <a:lnTo>
                            <a:pt x="90" y="23"/>
                          </a:lnTo>
                          <a:lnTo>
                            <a:pt x="112" y="21"/>
                          </a:lnTo>
                          <a:lnTo>
                            <a:pt x="111" y="21"/>
                          </a:lnTo>
                          <a:lnTo>
                            <a:pt x="114" y="21"/>
                          </a:lnTo>
                          <a:lnTo>
                            <a:pt x="121" y="22"/>
                          </a:lnTo>
                          <a:lnTo>
                            <a:pt x="133" y="24"/>
                          </a:lnTo>
                          <a:lnTo>
                            <a:pt x="146" y="27"/>
                          </a:lnTo>
                          <a:lnTo>
                            <a:pt x="161" y="31"/>
                          </a:lnTo>
                          <a:lnTo>
                            <a:pt x="176" y="37"/>
                          </a:lnTo>
                          <a:lnTo>
                            <a:pt x="190" y="44"/>
                          </a:lnTo>
                          <a:lnTo>
                            <a:pt x="203" y="53"/>
                          </a:lnTo>
                          <a:lnTo>
                            <a:pt x="217" y="38"/>
                          </a:lnTo>
                          <a:lnTo>
                            <a:pt x="203" y="28"/>
                          </a:lnTo>
                          <a:lnTo>
                            <a:pt x="187" y="19"/>
                          </a:lnTo>
                          <a:lnTo>
                            <a:pt x="169" y="13"/>
                          </a:lnTo>
                          <a:lnTo>
                            <a:pt x="153" y="7"/>
                          </a:lnTo>
                          <a:lnTo>
                            <a:pt x="137" y="4"/>
                          </a:lnTo>
                          <a:lnTo>
                            <a:pt x="125" y="3"/>
                          </a:lnTo>
                          <a:lnTo>
                            <a:pt x="116" y="1"/>
                          </a:lnTo>
                          <a:lnTo>
                            <a:pt x="112" y="0"/>
                          </a:lnTo>
                          <a:lnTo>
                            <a:pt x="112" y="0"/>
                          </a:lnTo>
                          <a:lnTo>
                            <a:pt x="111" y="0"/>
                          </a:lnTo>
                          <a:lnTo>
                            <a:pt x="87" y="3"/>
                          </a:lnTo>
                          <a:lnTo>
                            <a:pt x="65" y="8"/>
                          </a:lnTo>
                          <a:lnTo>
                            <a:pt x="46" y="15"/>
                          </a:lnTo>
                          <a:lnTo>
                            <a:pt x="30" y="22"/>
                          </a:lnTo>
                          <a:lnTo>
                            <a:pt x="17" y="30"/>
                          </a:lnTo>
                          <a:lnTo>
                            <a:pt x="8" y="36"/>
                          </a:lnTo>
                          <a:lnTo>
                            <a:pt x="2" y="41"/>
                          </a:lnTo>
                          <a:lnTo>
                            <a:pt x="0" y="43"/>
                          </a:lnTo>
                          <a:lnTo>
                            <a:pt x="15" y="5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7858440" y="4708440"/>
                      <a:ext cx="20844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7" h="40">
                          <a:moveTo>
                            <a:pt x="0" y="40"/>
                          </a:moveTo>
                          <a:lnTo>
                            <a:pt x="837" y="20"/>
                          </a:lnTo>
                          <a:lnTo>
                            <a:pt x="836" y="0"/>
                          </a:lnTo>
                          <a:lnTo>
                            <a:pt x="3" y="19"/>
                          </a:lnTo>
                          <a:lnTo>
                            <a:pt x="0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7886880" y="4664520"/>
                      <a:ext cx="202320" cy="26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3" h="1102">
                          <a:moveTo>
                            <a:pt x="444" y="149"/>
                          </a:moveTo>
                          <a:lnTo>
                            <a:pt x="457" y="143"/>
                          </a:lnTo>
                          <a:lnTo>
                            <a:pt x="469" y="135"/>
                          </a:lnTo>
                          <a:lnTo>
                            <a:pt x="478" y="134"/>
                          </a:lnTo>
                          <a:lnTo>
                            <a:pt x="486" y="136"/>
                          </a:lnTo>
                          <a:lnTo>
                            <a:pt x="471" y="148"/>
                          </a:lnTo>
                          <a:lnTo>
                            <a:pt x="469" y="149"/>
                          </a:lnTo>
                          <a:lnTo>
                            <a:pt x="464" y="150"/>
                          </a:lnTo>
                          <a:lnTo>
                            <a:pt x="458" y="153"/>
                          </a:lnTo>
                          <a:lnTo>
                            <a:pt x="456" y="155"/>
                          </a:lnTo>
                          <a:lnTo>
                            <a:pt x="454" y="155"/>
                          </a:lnTo>
                          <a:lnTo>
                            <a:pt x="449" y="153"/>
                          </a:lnTo>
                          <a:lnTo>
                            <a:pt x="445" y="150"/>
                          </a:lnTo>
                          <a:lnTo>
                            <a:pt x="444" y="149"/>
                          </a:lnTo>
                          <a:lnTo>
                            <a:pt x="432" y="121"/>
                          </a:lnTo>
                          <a:lnTo>
                            <a:pt x="427" y="126"/>
                          </a:lnTo>
                          <a:lnTo>
                            <a:pt x="419" y="127"/>
                          </a:lnTo>
                          <a:lnTo>
                            <a:pt x="428" y="147"/>
                          </a:lnTo>
                          <a:lnTo>
                            <a:pt x="435" y="148"/>
                          </a:lnTo>
                          <a:lnTo>
                            <a:pt x="432" y="156"/>
                          </a:lnTo>
                          <a:lnTo>
                            <a:pt x="421" y="162"/>
                          </a:lnTo>
                          <a:lnTo>
                            <a:pt x="399" y="165"/>
                          </a:lnTo>
                          <a:lnTo>
                            <a:pt x="399" y="156"/>
                          </a:lnTo>
                          <a:lnTo>
                            <a:pt x="414" y="156"/>
                          </a:lnTo>
                          <a:lnTo>
                            <a:pt x="422" y="154"/>
                          </a:lnTo>
                          <a:lnTo>
                            <a:pt x="428" y="147"/>
                          </a:lnTo>
                          <a:lnTo>
                            <a:pt x="419" y="127"/>
                          </a:lnTo>
                          <a:lnTo>
                            <a:pt x="414" y="121"/>
                          </a:lnTo>
                          <a:lnTo>
                            <a:pt x="406" y="118"/>
                          </a:lnTo>
                          <a:lnTo>
                            <a:pt x="406" y="125"/>
                          </a:lnTo>
                          <a:lnTo>
                            <a:pt x="406" y="126"/>
                          </a:lnTo>
                          <a:lnTo>
                            <a:pt x="405" y="128"/>
                          </a:lnTo>
                          <a:lnTo>
                            <a:pt x="404" y="131"/>
                          </a:lnTo>
                          <a:lnTo>
                            <a:pt x="402" y="134"/>
                          </a:lnTo>
                          <a:lnTo>
                            <a:pt x="399" y="136"/>
                          </a:lnTo>
                          <a:lnTo>
                            <a:pt x="397" y="138"/>
                          </a:lnTo>
                          <a:lnTo>
                            <a:pt x="396" y="138"/>
                          </a:lnTo>
                          <a:lnTo>
                            <a:pt x="395" y="138"/>
                          </a:lnTo>
                          <a:lnTo>
                            <a:pt x="395" y="117"/>
                          </a:lnTo>
                          <a:lnTo>
                            <a:pt x="384" y="115"/>
                          </a:lnTo>
                          <a:lnTo>
                            <a:pt x="382" y="116"/>
                          </a:lnTo>
                          <a:lnTo>
                            <a:pt x="378" y="118"/>
                          </a:lnTo>
                          <a:lnTo>
                            <a:pt x="373" y="120"/>
                          </a:lnTo>
                          <a:lnTo>
                            <a:pt x="371" y="123"/>
                          </a:lnTo>
                          <a:lnTo>
                            <a:pt x="368" y="125"/>
                          </a:lnTo>
                          <a:lnTo>
                            <a:pt x="364" y="129"/>
                          </a:lnTo>
                          <a:lnTo>
                            <a:pt x="360" y="133"/>
                          </a:lnTo>
                          <a:lnTo>
                            <a:pt x="357" y="136"/>
                          </a:lnTo>
                          <a:lnTo>
                            <a:pt x="354" y="138"/>
                          </a:lnTo>
                          <a:lnTo>
                            <a:pt x="352" y="139"/>
                          </a:lnTo>
                          <a:lnTo>
                            <a:pt x="351" y="139"/>
                          </a:lnTo>
                          <a:lnTo>
                            <a:pt x="350" y="139"/>
                          </a:lnTo>
                          <a:lnTo>
                            <a:pt x="352" y="123"/>
                          </a:lnTo>
                          <a:lnTo>
                            <a:pt x="354" y="121"/>
                          </a:lnTo>
                          <a:lnTo>
                            <a:pt x="359" y="118"/>
                          </a:lnTo>
                          <a:lnTo>
                            <a:pt x="364" y="115"/>
                          </a:lnTo>
                          <a:lnTo>
                            <a:pt x="366" y="113"/>
                          </a:lnTo>
                          <a:lnTo>
                            <a:pt x="368" y="112"/>
                          </a:lnTo>
                          <a:lnTo>
                            <a:pt x="372" y="110"/>
                          </a:lnTo>
                          <a:lnTo>
                            <a:pt x="374" y="109"/>
                          </a:lnTo>
                          <a:lnTo>
                            <a:pt x="375" y="110"/>
                          </a:lnTo>
                          <a:lnTo>
                            <a:pt x="375" y="109"/>
                          </a:lnTo>
                          <a:lnTo>
                            <a:pt x="375" y="104"/>
                          </a:lnTo>
                          <a:lnTo>
                            <a:pt x="375" y="100"/>
                          </a:lnTo>
                          <a:lnTo>
                            <a:pt x="375" y="97"/>
                          </a:lnTo>
                          <a:lnTo>
                            <a:pt x="363" y="87"/>
                          </a:lnTo>
                          <a:lnTo>
                            <a:pt x="372" y="81"/>
                          </a:lnTo>
                          <a:lnTo>
                            <a:pt x="382" y="88"/>
                          </a:lnTo>
                          <a:lnTo>
                            <a:pt x="395" y="102"/>
                          </a:lnTo>
                          <a:lnTo>
                            <a:pt x="414" y="101"/>
                          </a:lnTo>
                          <a:lnTo>
                            <a:pt x="418" y="101"/>
                          </a:lnTo>
                          <a:lnTo>
                            <a:pt x="455" y="21"/>
                          </a:lnTo>
                          <a:lnTo>
                            <a:pt x="383" y="0"/>
                          </a:lnTo>
                          <a:lnTo>
                            <a:pt x="311" y="3"/>
                          </a:lnTo>
                          <a:lnTo>
                            <a:pt x="197" y="17"/>
                          </a:lnTo>
                          <a:lnTo>
                            <a:pt x="76" y="58"/>
                          </a:lnTo>
                          <a:lnTo>
                            <a:pt x="0" y="104"/>
                          </a:lnTo>
                          <a:lnTo>
                            <a:pt x="12" y="120"/>
                          </a:lnTo>
                          <a:lnTo>
                            <a:pt x="27" y="120"/>
                          </a:lnTo>
                          <a:lnTo>
                            <a:pt x="40" y="127"/>
                          </a:lnTo>
                          <a:lnTo>
                            <a:pt x="81" y="111"/>
                          </a:lnTo>
                          <a:lnTo>
                            <a:pt x="95" y="124"/>
                          </a:lnTo>
                          <a:lnTo>
                            <a:pt x="95" y="176"/>
                          </a:lnTo>
                          <a:lnTo>
                            <a:pt x="79" y="197"/>
                          </a:lnTo>
                          <a:lnTo>
                            <a:pt x="72" y="283"/>
                          </a:lnTo>
                          <a:lnTo>
                            <a:pt x="100" y="334"/>
                          </a:lnTo>
                          <a:lnTo>
                            <a:pt x="121" y="345"/>
                          </a:lnTo>
                          <a:lnTo>
                            <a:pt x="148" y="407"/>
                          </a:lnTo>
                          <a:lnTo>
                            <a:pt x="164" y="393"/>
                          </a:lnTo>
                          <a:lnTo>
                            <a:pt x="154" y="363"/>
                          </a:lnTo>
                          <a:lnTo>
                            <a:pt x="161" y="353"/>
                          </a:lnTo>
                          <a:lnTo>
                            <a:pt x="179" y="383"/>
                          </a:lnTo>
                          <a:lnTo>
                            <a:pt x="199" y="446"/>
                          </a:lnTo>
                          <a:lnTo>
                            <a:pt x="251" y="466"/>
                          </a:lnTo>
                          <a:lnTo>
                            <a:pt x="275" y="490"/>
                          </a:lnTo>
                          <a:lnTo>
                            <a:pt x="282" y="505"/>
                          </a:lnTo>
                          <a:lnTo>
                            <a:pt x="325" y="521"/>
                          </a:lnTo>
                          <a:lnTo>
                            <a:pt x="363" y="522"/>
                          </a:lnTo>
                          <a:lnTo>
                            <a:pt x="366" y="543"/>
                          </a:lnTo>
                          <a:lnTo>
                            <a:pt x="382" y="552"/>
                          </a:lnTo>
                          <a:lnTo>
                            <a:pt x="406" y="557"/>
                          </a:lnTo>
                          <a:lnTo>
                            <a:pt x="410" y="569"/>
                          </a:lnTo>
                          <a:lnTo>
                            <a:pt x="392" y="574"/>
                          </a:lnTo>
                          <a:lnTo>
                            <a:pt x="387" y="590"/>
                          </a:lnTo>
                          <a:lnTo>
                            <a:pt x="376" y="609"/>
                          </a:lnTo>
                          <a:lnTo>
                            <a:pt x="389" y="692"/>
                          </a:lnTo>
                          <a:lnTo>
                            <a:pt x="399" y="701"/>
                          </a:lnTo>
                          <a:lnTo>
                            <a:pt x="410" y="761"/>
                          </a:lnTo>
                          <a:lnTo>
                            <a:pt x="451" y="785"/>
                          </a:lnTo>
                          <a:lnTo>
                            <a:pt x="436" y="861"/>
                          </a:lnTo>
                          <a:lnTo>
                            <a:pt x="392" y="951"/>
                          </a:lnTo>
                          <a:lnTo>
                            <a:pt x="387" y="981"/>
                          </a:lnTo>
                          <a:lnTo>
                            <a:pt x="387" y="1022"/>
                          </a:lnTo>
                          <a:lnTo>
                            <a:pt x="376" y="1051"/>
                          </a:lnTo>
                          <a:lnTo>
                            <a:pt x="380" y="1070"/>
                          </a:lnTo>
                          <a:lnTo>
                            <a:pt x="369" y="1092"/>
                          </a:lnTo>
                          <a:lnTo>
                            <a:pt x="380" y="1096"/>
                          </a:lnTo>
                          <a:lnTo>
                            <a:pt x="390" y="1079"/>
                          </a:lnTo>
                          <a:lnTo>
                            <a:pt x="403" y="1102"/>
                          </a:lnTo>
                          <a:lnTo>
                            <a:pt x="443" y="1096"/>
                          </a:lnTo>
                          <a:lnTo>
                            <a:pt x="444" y="1060"/>
                          </a:lnTo>
                          <a:lnTo>
                            <a:pt x="467" y="1050"/>
                          </a:lnTo>
                          <a:lnTo>
                            <a:pt x="469" y="1036"/>
                          </a:lnTo>
                          <a:lnTo>
                            <a:pt x="498" y="1022"/>
                          </a:lnTo>
                          <a:lnTo>
                            <a:pt x="502" y="996"/>
                          </a:lnTo>
                          <a:lnTo>
                            <a:pt x="526" y="991"/>
                          </a:lnTo>
                          <a:lnTo>
                            <a:pt x="550" y="961"/>
                          </a:lnTo>
                          <a:lnTo>
                            <a:pt x="607" y="951"/>
                          </a:lnTo>
                          <a:lnTo>
                            <a:pt x="661" y="864"/>
                          </a:lnTo>
                          <a:lnTo>
                            <a:pt x="710" y="836"/>
                          </a:lnTo>
                          <a:lnTo>
                            <a:pt x="727" y="811"/>
                          </a:lnTo>
                          <a:lnTo>
                            <a:pt x="747" y="781"/>
                          </a:lnTo>
                          <a:lnTo>
                            <a:pt x="749" y="760"/>
                          </a:lnTo>
                          <a:lnTo>
                            <a:pt x="773" y="736"/>
                          </a:lnTo>
                          <a:lnTo>
                            <a:pt x="813" y="685"/>
                          </a:lnTo>
                          <a:lnTo>
                            <a:pt x="811" y="614"/>
                          </a:lnTo>
                          <a:lnTo>
                            <a:pt x="765" y="595"/>
                          </a:lnTo>
                          <a:lnTo>
                            <a:pt x="734" y="571"/>
                          </a:lnTo>
                          <a:lnTo>
                            <a:pt x="699" y="522"/>
                          </a:lnTo>
                          <a:lnTo>
                            <a:pt x="689" y="504"/>
                          </a:lnTo>
                          <a:lnTo>
                            <a:pt x="669" y="500"/>
                          </a:lnTo>
                          <a:lnTo>
                            <a:pt x="617" y="491"/>
                          </a:lnTo>
                          <a:lnTo>
                            <a:pt x="572" y="466"/>
                          </a:lnTo>
                          <a:lnTo>
                            <a:pt x="540" y="460"/>
                          </a:lnTo>
                          <a:lnTo>
                            <a:pt x="500" y="460"/>
                          </a:lnTo>
                          <a:lnTo>
                            <a:pt x="465" y="491"/>
                          </a:lnTo>
                          <a:lnTo>
                            <a:pt x="450" y="484"/>
                          </a:lnTo>
                          <a:lnTo>
                            <a:pt x="416" y="490"/>
                          </a:lnTo>
                          <a:lnTo>
                            <a:pt x="410" y="477"/>
                          </a:lnTo>
                          <a:lnTo>
                            <a:pt x="386" y="459"/>
                          </a:lnTo>
                          <a:lnTo>
                            <a:pt x="394" y="449"/>
                          </a:lnTo>
                          <a:lnTo>
                            <a:pt x="386" y="421"/>
                          </a:lnTo>
                          <a:lnTo>
                            <a:pt x="356" y="407"/>
                          </a:lnTo>
                          <a:lnTo>
                            <a:pt x="328" y="414"/>
                          </a:lnTo>
                          <a:lnTo>
                            <a:pt x="292" y="407"/>
                          </a:lnTo>
                          <a:lnTo>
                            <a:pt x="282" y="386"/>
                          </a:lnTo>
                          <a:lnTo>
                            <a:pt x="285" y="367"/>
                          </a:lnTo>
                          <a:lnTo>
                            <a:pt x="286" y="352"/>
                          </a:lnTo>
                          <a:lnTo>
                            <a:pt x="297" y="341"/>
                          </a:lnTo>
                          <a:lnTo>
                            <a:pt x="300" y="348"/>
                          </a:lnTo>
                          <a:lnTo>
                            <a:pt x="304" y="379"/>
                          </a:lnTo>
                          <a:lnTo>
                            <a:pt x="316" y="384"/>
                          </a:lnTo>
                          <a:lnTo>
                            <a:pt x="321" y="348"/>
                          </a:lnTo>
                          <a:lnTo>
                            <a:pt x="335" y="341"/>
                          </a:lnTo>
                          <a:lnTo>
                            <a:pt x="361" y="360"/>
                          </a:lnTo>
                          <a:lnTo>
                            <a:pt x="375" y="360"/>
                          </a:lnTo>
                          <a:lnTo>
                            <a:pt x="382" y="352"/>
                          </a:lnTo>
                          <a:lnTo>
                            <a:pt x="387" y="332"/>
                          </a:lnTo>
                          <a:lnTo>
                            <a:pt x="404" y="329"/>
                          </a:lnTo>
                          <a:lnTo>
                            <a:pt x="422" y="338"/>
                          </a:lnTo>
                          <a:lnTo>
                            <a:pt x="433" y="366"/>
                          </a:lnTo>
                          <a:lnTo>
                            <a:pt x="454" y="381"/>
                          </a:lnTo>
                          <a:lnTo>
                            <a:pt x="482" y="383"/>
                          </a:lnTo>
                          <a:lnTo>
                            <a:pt x="481" y="353"/>
                          </a:lnTo>
                          <a:lnTo>
                            <a:pt x="467" y="314"/>
                          </a:lnTo>
                          <a:lnTo>
                            <a:pt x="462" y="290"/>
                          </a:lnTo>
                          <a:lnTo>
                            <a:pt x="481" y="280"/>
                          </a:lnTo>
                          <a:lnTo>
                            <a:pt x="503" y="234"/>
                          </a:lnTo>
                          <a:lnTo>
                            <a:pt x="523" y="197"/>
                          </a:lnTo>
                          <a:lnTo>
                            <a:pt x="554" y="163"/>
                          </a:lnTo>
                          <a:lnTo>
                            <a:pt x="569" y="155"/>
                          </a:lnTo>
                          <a:lnTo>
                            <a:pt x="568" y="125"/>
                          </a:lnTo>
                          <a:lnTo>
                            <a:pt x="533" y="79"/>
                          </a:lnTo>
                          <a:lnTo>
                            <a:pt x="545" y="73"/>
                          </a:lnTo>
                          <a:lnTo>
                            <a:pt x="555" y="59"/>
                          </a:lnTo>
                          <a:lnTo>
                            <a:pt x="455" y="21"/>
                          </a:lnTo>
                          <a:lnTo>
                            <a:pt x="418" y="101"/>
                          </a:lnTo>
                          <a:lnTo>
                            <a:pt x="432" y="121"/>
                          </a:lnTo>
                          <a:lnTo>
                            <a:pt x="444" y="14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32" name=""/>
              <p:cNvSpPr/>
              <p:nvPr/>
            </p:nvSpPr>
            <p:spPr>
              <a:xfrm>
                <a:off x="5796000" y="4654440"/>
                <a:ext cx="216072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rapper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5219640" y="5035680"/>
              <a:ext cx="2952720" cy="419040"/>
              <a:chOff x="5219640" y="5035680"/>
              <a:chExt cx="2952720" cy="419040"/>
            </a:xfrm>
          </p:grpSpPr>
          <p:pic>
            <p:nvPicPr>
              <p:cNvPr id="83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659280" y="5107320"/>
                <a:ext cx="285840" cy="285480"/>
              </a:xfrm>
              <a:prstGeom prst="rect">
                <a:avLst/>
              </a:prstGeom>
              <a:ln w="28440">
                <a:solidFill>
                  <a:srgbClr val="cc3300"/>
                </a:solidFill>
                <a:miter/>
              </a:ln>
            </p:spPr>
          </p:pic>
          <p:pic>
            <p:nvPicPr>
              <p:cNvPr id="8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940360" y="5107320"/>
                <a:ext cx="285480" cy="285480"/>
              </a:xfrm>
              <a:prstGeom prst="rect">
                <a:avLst/>
              </a:prstGeom>
              <a:ln w="28440">
                <a:solidFill>
                  <a:srgbClr val="cc3300"/>
                </a:solidFill>
                <a:miter/>
              </a:ln>
            </p:spPr>
          </p:pic>
          <p:pic>
            <p:nvPicPr>
              <p:cNvPr id="8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298920" y="5107320"/>
                <a:ext cx="285840" cy="285480"/>
              </a:xfrm>
              <a:prstGeom prst="rect">
                <a:avLst/>
              </a:prstGeom>
              <a:ln w="28440">
                <a:solidFill>
                  <a:srgbClr val="cc3300"/>
                </a:solidFill>
                <a:miter/>
              </a:ln>
            </p:spPr>
          </p:pic>
          <p:pic>
            <p:nvPicPr>
              <p:cNvPr id="8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80000" y="5107320"/>
                <a:ext cx="285480" cy="285480"/>
              </a:xfrm>
              <a:prstGeom prst="rect">
                <a:avLst/>
              </a:prstGeom>
              <a:ln w="28440">
                <a:solidFill>
                  <a:srgbClr val="cc3300"/>
                </a:solidFill>
                <a:miter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6930720" y="5035680"/>
                <a:ext cx="12416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3300"/>
                    </a:solidFill>
                    <a:latin typeface="Times New Roman"/>
                  </a:rPr>
                  <a:t>Wrapp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219640" y="5107320"/>
                <a:ext cx="285480" cy="285480"/>
              </a:xfrm>
              <a:prstGeom prst="rect">
                <a:avLst/>
              </a:prstGeom>
              <a:ln w="28440">
                <a:solidFill>
                  <a:srgbClr val="cc3300"/>
                </a:solidFill>
                <a:miter/>
              </a:ln>
            </p:spPr>
          </p:pic>
        </p:grpSp>
        <p:grpSp>
          <p:nvGrpSpPr>
            <p:cNvPr id="840" name=""/>
            <p:cNvGrpSpPr/>
            <p:nvPr/>
          </p:nvGrpSpPr>
          <p:grpSpPr>
            <a:xfrm>
              <a:off x="5075280" y="5454720"/>
              <a:ext cx="2016000" cy="360360"/>
              <a:chOff x="5075280" y="5454720"/>
              <a:chExt cx="2016000" cy="360360"/>
            </a:xfrm>
          </p:grpSpPr>
          <p:sp>
            <p:nvSpPr>
              <p:cNvPr id="841" name=""/>
              <p:cNvSpPr/>
              <p:nvPr/>
            </p:nvSpPr>
            <p:spPr>
              <a:xfrm>
                <a:off x="5075280" y="5599440"/>
                <a:ext cx="20160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384600" y="5454720"/>
                <a:ext cx="502920" cy="360360"/>
              </a:xfrm>
              <a:prstGeom prst="line">
                <a:avLst/>
              </a:prstGeom>
              <a:ln w="28440">
                <a:solidFill>
                  <a:srgbClr val="cc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35280" y="5454720"/>
                <a:ext cx="1368360" cy="360360"/>
              </a:xfrm>
              <a:prstGeom prst="line">
                <a:avLst/>
              </a:prstGeom>
              <a:ln w="28440">
                <a:solidFill>
                  <a:srgbClr val="cc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804000" y="5454720"/>
                <a:ext cx="144000" cy="360360"/>
              </a:xfrm>
              <a:prstGeom prst="line">
                <a:avLst/>
              </a:prstGeom>
              <a:ln w="28440">
                <a:solidFill>
                  <a:srgbClr val="cc66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5" name=""/>
            <p:cNvGrpSpPr/>
            <p:nvPr/>
          </p:nvGrpSpPr>
          <p:grpSpPr>
            <a:xfrm>
              <a:off x="6423120" y="5815080"/>
              <a:ext cx="2100240" cy="419040"/>
              <a:chOff x="6423120" y="5815080"/>
              <a:chExt cx="2100240" cy="419040"/>
            </a:xfrm>
          </p:grpSpPr>
          <p:sp>
            <p:nvSpPr>
              <p:cNvPr id="846" name=""/>
              <p:cNvSpPr/>
              <p:nvPr/>
            </p:nvSpPr>
            <p:spPr>
              <a:xfrm>
                <a:off x="7164720" y="5815080"/>
                <a:ext cx="135864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6600"/>
                    </a:solidFill>
                    <a:latin typeface="Times New Roman"/>
                  </a:rPr>
                  <a:t>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4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423120" y="5886720"/>
                <a:ext cx="308160" cy="287280"/>
              </a:xfrm>
              <a:prstGeom prst="rect">
                <a:avLst/>
              </a:prstGeom>
              <a:ln w="28440">
                <a:solidFill>
                  <a:srgbClr val="cc6600"/>
                </a:solidFill>
                <a:miter/>
              </a:ln>
            </p:spPr>
          </p:pic>
          <p:pic>
            <p:nvPicPr>
              <p:cNvPr id="84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4360" y="5886720"/>
                <a:ext cx="285480" cy="285840"/>
              </a:xfrm>
              <a:prstGeom prst="rect">
                <a:avLst/>
              </a:prstGeom>
              <a:ln w="28440">
                <a:solidFill>
                  <a:srgbClr val="cc6600"/>
                </a:solidFill>
                <a:miter/>
              </a:ln>
            </p:spPr>
          </p:pic>
        </p:grpSp>
        <p:sp>
          <p:nvSpPr>
            <p:cNvPr id="849" name=""/>
            <p:cNvSpPr/>
            <p:nvPr/>
          </p:nvSpPr>
          <p:spPr>
            <a:xfrm flipV="1">
              <a:off x="6948360" y="6221160"/>
              <a:ext cx="0" cy="431640"/>
            </a:xfrm>
            <a:prstGeom prst="line">
              <a:avLst/>
            </a:prstGeom>
            <a:ln w="28440">
              <a:solidFill>
                <a:srgbClr val="cc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1979640" y="4581360"/>
            <a:ext cx="6687720" cy="2086920"/>
            <a:chOff x="1979640" y="4581360"/>
            <a:chExt cx="6687720" cy="2086920"/>
          </a:xfrm>
        </p:grpSpPr>
        <p:pic>
          <p:nvPicPr>
            <p:cNvPr id="851" name="" descr=""/>
            <p:cNvPicPr/>
            <p:nvPr/>
          </p:nvPicPr>
          <p:blipFill>
            <a:blip r:embed="rId8"/>
            <a:stretch/>
          </p:blipFill>
          <p:spPr>
            <a:xfrm>
              <a:off x="3593880" y="5331960"/>
              <a:ext cx="28548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sp>
          <p:nvSpPr>
            <p:cNvPr id="852" name=""/>
            <p:cNvSpPr/>
            <p:nvPr/>
          </p:nvSpPr>
          <p:spPr>
            <a:xfrm>
              <a:off x="1979640" y="4581360"/>
              <a:ext cx="6408720" cy="1784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508120" y="4651200"/>
              <a:ext cx="317160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4" name="" descr=""/>
            <p:cNvPicPr/>
            <p:nvPr/>
          </p:nvPicPr>
          <p:blipFill>
            <a:blip r:embed="rId9"/>
            <a:stretch/>
          </p:blipFill>
          <p:spPr>
            <a:xfrm>
              <a:off x="2130120" y="4721040"/>
              <a:ext cx="377640" cy="2649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855" name=""/>
            <p:cNvSpPr/>
            <p:nvPr/>
          </p:nvSpPr>
          <p:spPr>
            <a:xfrm>
              <a:off x="2357280" y="5846400"/>
              <a:ext cx="1358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130120" y="5095440"/>
              <a:ext cx="17366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7" name="" descr=""/>
            <p:cNvPicPr/>
            <p:nvPr/>
          </p:nvPicPr>
          <p:blipFill>
            <a:blip r:embed="rId10"/>
            <a:stretch/>
          </p:blipFill>
          <p:spPr>
            <a:xfrm>
              <a:off x="3338280" y="5095440"/>
              <a:ext cx="307800" cy="2890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58" name="" descr=""/>
            <p:cNvPicPr/>
            <p:nvPr/>
          </p:nvPicPr>
          <p:blipFill>
            <a:blip r:embed="rId11"/>
            <a:stretch/>
          </p:blipFill>
          <p:spPr>
            <a:xfrm>
              <a:off x="3716280" y="5095440"/>
              <a:ext cx="307440" cy="2890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59" name="" descr=""/>
            <p:cNvPicPr/>
            <p:nvPr/>
          </p:nvPicPr>
          <p:blipFill>
            <a:blip r:embed="rId12"/>
            <a:stretch/>
          </p:blipFill>
          <p:spPr>
            <a:xfrm>
              <a:off x="4093920" y="5095440"/>
              <a:ext cx="307800" cy="2890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60" name="" descr=""/>
            <p:cNvPicPr/>
            <p:nvPr/>
          </p:nvPicPr>
          <p:blipFill>
            <a:blip r:embed="rId13"/>
            <a:stretch/>
          </p:blipFill>
          <p:spPr>
            <a:xfrm>
              <a:off x="4470120" y="5095440"/>
              <a:ext cx="309240" cy="28908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61" name="" descr=""/>
            <p:cNvPicPr/>
            <p:nvPr/>
          </p:nvPicPr>
          <p:blipFill>
            <a:blip r:embed="rId14"/>
            <a:stretch/>
          </p:blipFill>
          <p:spPr>
            <a:xfrm>
              <a:off x="3716280" y="5871960"/>
              <a:ext cx="307440" cy="287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862" name="" descr=""/>
            <p:cNvPicPr/>
            <p:nvPr/>
          </p:nvPicPr>
          <p:blipFill>
            <a:blip r:embed="rId15"/>
            <a:stretch/>
          </p:blipFill>
          <p:spPr>
            <a:xfrm>
              <a:off x="4093920" y="5871960"/>
              <a:ext cx="307800" cy="28728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sp>
          <p:nvSpPr>
            <p:cNvPr id="863" name=""/>
            <p:cNvSpPr/>
            <p:nvPr/>
          </p:nvSpPr>
          <p:spPr>
            <a:xfrm flipV="1">
              <a:off x="3851280" y="6236640"/>
              <a:ext cx="0" cy="431640"/>
            </a:xfrm>
            <a:prstGeom prst="line">
              <a:avLst/>
            </a:prstGeom>
            <a:ln w="28440">
              <a:solidFill>
                <a:srgbClr val="cc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7710480" y="4628880"/>
              <a:ext cx="431280" cy="503280"/>
              <a:chOff x="7710480" y="4628880"/>
              <a:chExt cx="431280" cy="503280"/>
            </a:xfrm>
          </p:grpSpPr>
          <p:sp>
            <p:nvSpPr>
              <p:cNvPr id="865" name=""/>
              <p:cNvSpPr/>
              <p:nvPr/>
            </p:nvSpPr>
            <p:spPr>
              <a:xfrm>
                <a:off x="7710480" y="4628880"/>
                <a:ext cx="431280" cy="50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201"/>
                  </a:spcBef>
                  <a:buClr>
                    <a:srgbClr val="0000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716600" y="4862880"/>
                <a:ext cx="381240" cy="15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ww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744680" y="4809960"/>
                <a:ext cx="370440" cy="306360"/>
              </a:xfrm>
              <a:custGeom>
                <a:avLst/>
                <a:gdLst>
                  <a:gd name="textAreaLeft" fmla="*/ 49320 w 370440"/>
                  <a:gd name="textAreaRight" fmla="*/ 321120 w 370440"/>
                  <a:gd name="textAreaTop" fmla="*/ 56880 h 306360"/>
                  <a:gd name="textAreaBottom" fmla="*/ 218880 h 30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029" stAng="-5400000" swAng="-5400000"/>
                    <a:lnTo>
                      <a:pt x="0" y="11412"/>
                    </a:lnTo>
                    <a:arcTo wR="21600" hR="8029" stAng="10800000" swAng="-3493248"/>
                    <a:lnTo>
                      <a:pt x="16753" y="21395"/>
                    </a:lnTo>
                    <a:lnTo>
                      <a:pt x="21600" y="17749"/>
                    </a:lnTo>
                    <a:lnTo>
                      <a:pt x="16753" y="13692"/>
                    </a:lnTo>
                    <a:lnTo>
                      <a:pt x="16753" y="15852"/>
                    </a:lnTo>
                    <a:arcTo wR="21600" hR="8029" stAng="7306752" swAng="3218443"/>
                    <a:lnTo>
                      <a:pt x="485" y="9720"/>
                    </a:lnTo>
                    <a:arcTo wR="21600" hR="8029" stAng="-10525195" swAng="512519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029" stAng="-5400000" swAng="-5400000"/>
                    <a:lnTo>
                      <a:pt x="0" y="8029"/>
                    </a:lnTo>
                    <a:arcTo wR="21600" hR="8029" stAng="10800000" swAng="-274805"/>
                    <a:lnTo>
                      <a:pt x="485" y="9720"/>
                    </a:lnTo>
                    <a:arcTo wR="21600" hR="8029" stAng="-10525195" swAng="5125195"/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002800" y="4788000"/>
                <a:ext cx="127080" cy="124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7793640" y="4636800"/>
                <a:ext cx="283680" cy="289800"/>
                <a:chOff x="7793640" y="4636800"/>
                <a:chExt cx="283680" cy="28980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7795080" y="4636800"/>
                  <a:ext cx="282240" cy="289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1" name=""/>
                <p:cNvGrpSpPr/>
                <p:nvPr/>
              </p:nvGrpSpPr>
              <p:grpSpPr>
                <a:xfrm>
                  <a:off x="7793640" y="4638600"/>
                  <a:ext cx="283680" cy="285840"/>
                  <a:chOff x="7793640" y="4638600"/>
                  <a:chExt cx="283680" cy="285840"/>
                </a:xfrm>
              </p:grpSpPr>
              <p:sp>
                <p:nvSpPr>
                  <p:cNvPr id="872" name=""/>
                  <p:cNvSpPr/>
                  <p:nvPr/>
                </p:nvSpPr>
                <p:spPr>
                  <a:xfrm>
                    <a:off x="7834680" y="4872240"/>
                    <a:ext cx="2026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33">
                        <a:moveTo>
                          <a:pt x="10" y="33"/>
                        </a:moveTo>
                        <a:lnTo>
                          <a:pt x="805" y="21"/>
                        </a:lnTo>
                        <a:lnTo>
                          <a:pt x="817" y="0"/>
                        </a:lnTo>
                        <a:lnTo>
                          <a:pt x="0" y="12"/>
                        </a:lnTo>
                        <a:lnTo>
                          <a:pt x="1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7793640" y="4638600"/>
                    <a:ext cx="2836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42" h="1162">
                        <a:moveTo>
                          <a:pt x="971" y="167"/>
                        </a:moveTo>
                        <a:lnTo>
                          <a:pt x="951" y="148"/>
                        </a:lnTo>
                        <a:lnTo>
                          <a:pt x="929" y="129"/>
                        </a:lnTo>
                        <a:lnTo>
                          <a:pt x="907" y="112"/>
                        </a:lnTo>
                        <a:lnTo>
                          <a:pt x="884" y="96"/>
                        </a:lnTo>
                        <a:lnTo>
                          <a:pt x="861" y="81"/>
                        </a:lnTo>
                        <a:lnTo>
                          <a:pt x="836" y="67"/>
                        </a:lnTo>
                        <a:lnTo>
                          <a:pt x="812" y="54"/>
                        </a:lnTo>
                        <a:lnTo>
                          <a:pt x="787" y="44"/>
                        </a:lnTo>
                        <a:lnTo>
                          <a:pt x="762" y="34"/>
                        </a:lnTo>
                        <a:lnTo>
                          <a:pt x="735" y="24"/>
                        </a:lnTo>
                        <a:lnTo>
                          <a:pt x="709" y="18"/>
                        </a:lnTo>
                        <a:lnTo>
                          <a:pt x="682" y="12"/>
                        </a:lnTo>
                        <a:lnTo>
                          <a:pt x="654" y="6"/>
                        </a:lnTo>
                        <a:lnTo>
                          <a:pt x="627" y="3"/>
                        </a:lnTo>
                        <a:lnTo>
                          <a:pt x="599" y="1"/>
                        </a:lnTo>
                        <a:lnTo>
                          <a:pt x="571" y="0"/>
                        </a:lnTo>
                        <a:lnTo>
                          <a:pt x="546" y="1"/>
                        </a:lnTo>
                        <a:lnTo>
                          <a:pt x="521" y="3"/>
                        </a:lnTo>
                        <a:lnTo>
                          <a:pt x="495" y="5"/>
                        </a:lnTo>
                        <a:lnTo>
                          <a:pt x="471" y="9"/>
                        </a:lnTo>
                        <a:lnTo>
                          <a:pt x="446" y="14"/>
                        </a:lnTo>
                        <a:lnTo>
                          <a:pt x="422" y="21"/>
                        </a:lnTo>
                        <a:lnTo>
                          <a:pt x="399" y="28"/>
                        </a:lnTo>
                        <a:lnTo>
                          <a:pt x="374" y="36"/>
                        </a:lnTo>
                        <a:lnTo>
                          <a:pt x="351" y="45"/>
                        </a:lnTo>
                        <a:lnTo>
                          <a:pt x="328" y="56"/>
                        </a:lnTo>
                        <a:lnTo>
                          <a:pt x="306" y="67"/>
                        </a:lnTo>
                        <a:lnTo>
                          <a:pt x="285" y="80"/>
                        </a:lnTo>
                        <a:lnTo>
                          <a:pt x="263" y="94"/>
                        </a:lnTo>
                        <a:lnTo>
                          <a:pt x="242" y="107"/>
                        </a:lnTo>
                        <a:lnTo>
                          <a:pt x="222" y="124"/>
                        </a:lnTo>
                        <a:lnTo>
                          <a:pt x="203" y="140"/>
                        </a:lnTo>
                        <a:lnTo>
                          <a:pt x="206" y="143"/>
                        </a:lnTo>
                        <a:lnTo>
                          <a:pt x="211" y="147"/>
                        </a:lnTo>
                        <a:lnTo>
                          <a:pt x="214" y="150"/>
                        </a:lnTo>
                        <a:lnTo>
                          <a:pt x="218" y="153"/>
                        </a:lnTo>
                        <a:lnTo>
                          <a:pt x="236" y="138"/>
                        </a:lnTo>
                        <a:lnTo>
                          <a:pt x="256" y="124"/>
                        </a:lnTo>
                        <a:lnTo>
                          <a:pt x="276" y="110"/>
                        </a:lnTo>
                        <a:lnTo>
                          <a:pt x="296" y="97"/>
                        </a:lnTo>
                        <a:lnTo>
                          <a:pt x="318" y="85"/>
                        </a:lnTo>
                        <a:lnTo>
                          <a:pt x="339" y="74"/>
                        </a:lnTo>
                        <a:lnTo>
                          <a:pt x="361" y="64"/>
                        </a:lnTo>
                        <a:lnTo>
                          <a:pt x="382" y="56"/>
                        </a:lnTo>
                        <a:lnTo>
                          <a:pt x="406" y="47"/>
                        </a:lnTo>
                        <a:lnTo>
                          <a:pt x="429" y="41"/>
                        </a:lnTo>
                        <a:lnTo>
                          <a:pt x="452" y="35"/>
                        </a:lnTo>
                        <a:lnTo>
                          <a:pt x="475" y="30"/>
                        </a:lnTo>
                        <a:lnTo>
                          <a:pt x="499" y="26"/>
                        </a:lnTo>
                        <a:lnTo>
                          <a:pt x="523" y="23"/>
                        </a:lnTo>
                        <a:lnTo>
                          <a:pt x="547" y="21"/>
                        </a:lnTo>
                        <a:lnTo>
                          <a:pt x="571" y="21"/>
                        </a:lnTo>
                        <a:lnTo>
                          <a:pt x="598" y="22"/>
                        </a:lnTo>
                        <a:lnTo>
                          <a:pt x="626" y="23"/>
                        </a:lnTo>
                        <a:lnTo>
                          <a:pt x="652" y="27"/>
                        </a:lnTo>
                        <a:lnTo>
                          <a:pt x="677" y="31"/>
                        </a:lnTo>
                        <a:lnTo>
                          <a:pt x="704" y="37"/>
                        </a:lnTo>
                        <a:lnTo>
                          <a:pt x="729" y="45"/>
                        </a:lnTo>
                        <a:lnTo>
                          <a:pt x="755" y="53"/>
                        </a:lnTo>
                        <a:lnTo>
                          <a:pt x="779" y="62"/>
                        </a:lnTo>
                        <a:lnTo>
                          <a:pt x="803" y="74"/>
                        </a:lnTo>
                        <a:lnTo>
                          <a:pt x="827" y="85"/>
                        </a:lnTo>
                        <a:lnTo>
                          <a:pt x="850" y="99"/>
                        </a:lnTo>
                        <a:lnTo>
                          <a:pt x="872" y="113"/>
                        </a:lnTo>
                        <a:lnTo>
                          <a:pt x="894" y="129"/>
                        </a:lnTo>
                        <a:lnTo>
                          <a:pt x="916" y="145"/>
                        </a:lnTo>
                        <a:lnTo>
                          <a:pt x="937" y="164"/>
                        </a:lnTo>
                        <a:lnTo>
                          <a:pt x="956" y="182"/>
                        </a:lnTo>
                        <a:lnTo>
                          <a:pt x="994" y="224"/>
                        </a:lnTo>
                        <a:lnTo>
                          <a:pt x="1027" y="267"/>
                        </a:lnTo>
                        <a:lnTo>
                          <a:pt x="1055" y="315"/>
                        </a:lnTo>
                        <a:lnTo>
                          <a:pt x="1078" y="363"/>
                        </a:lnTo>
                        <a:lnTo>
                          <a:pt x="1097" y="414"/>
                        </a:lnTo>
                        <a:lnTo>
                          <a:pt x="1111" y="467"/>
                        </a:lnTo>
                        <a:lnTo>
                          <a:pt x="1119" y="521"/>
                        </a:lnTo>
                        <a:lnTo>
                          <a:pt x="1121" y="576"/>
                        </a:lnTo>
                        <a:lnTo>
                          <a:pt x="1119" y="631"/>
                        </a:lnTo>
                        <a:lnTo>
                          <a:pt x="1111" y="686"/>
                        </a:lnTo>
                        <a:lnTo>
                          <a:pt x="1097" y="739"/>
                        </a:lnTo>
                        <a:lnTo>
                          <a:pt x="1080" y="790"/>
                        </a:lnTo>
                        <a:lnTo>
                          <a:pt x="1057" y="840"/>
                        </a:lnTo>
                        <a:lnTo>
                          <a:pt x="1028" y="887"/>
                        </a:lnTo>
                        <a:lnTo>
                          <a:pt x="995" y="931"/>
                        </a:lnTo>
                        <a:lnTo>
                          <a:pt x="959" y="974"/>
                        </a:lnTo>
                        <a:lnTo>
                          <a:pt x="939" y="993"/>
                        </a:lnTo>
                        <a:lnTo>
                          <a:pt x="918" y="1012"/>
                        </a:lnTo>
                        <a:lnTo>
                          <a:pt x="896" y="1029"/>
                        </a:lnTo>
                        <a:lnTo>
                          <a:pt x="874" y="1045"/>
                        </a:lnTo>
                        <a:lnTo>
                          <a:pt x="851" y="1061"/>
                        </a:lnTo>
                        <a:lnTo>
                          <a:pt x="828" y="1075"/>
                        </a:lnTo>
                        <a:lnTo>
                          <a:pt x="804" y="1086"/>
                        </a:lnTo>
                        <a:lnTo>
                          <a:pt x="780" y="1098"/>
                        </a:lnTo>
                        <a:lnTo>
                          <a:pt x="755" y="1108"/>
                        </a:lnTo>
                        <a:lnTo>
                          <a:pt x="729" y="1117"/>
                        </a:lnTo>
                        <a:lnTo>
                          <a:pt x="704" y="1124"/>
                        </a:lnTo>
                        <a:lnTo>
                          <a:pt x="677" y="1130"/>
                        </a:lnTo>
                        <a:lnTo>
                          <a:pt x="652" y="1136"/>
                        </a:lnTo>
                        <a:lnTo>
                          <a:pt x="626" y="1139"/>
                        </a:lnTo>
                        <a:lnTo>
                          <a:pt x="598" y="1141"/>
                        </a:lnTo>
                        <a:lnTo>
                          <a:pt x="571" y="1142"/>
                        </a:lnTo>
                        <a:lnTo>
                          <a:pt x="545" y="1141"/>
                        </a:lnTo>
                        <a:lnTo>
                          <a:pt x="517" y="1139"/>
                        </a:lnTo>
                        <a:lnTo>
                          <a:pt x="491" y="1136"/>
                        </a:lnTo>
                        <a:lnTo>
                          <a:pt x="465" y="1131"/>
                        </a:lnTo>
                        <a:lnTo>
                          <a:pt x="439" y="1126"/>
                        </a:lnTo>
                        <a:lnTo>
                          <a:pt x="414" y="1117"/>
                        </a:lnTo>
                        <a:lnTo>
                          <a:pt x="388" y="1109"/>
                        </a:lnTo>
                        <a:lnTo>
                          <a:pt x="364" y="1100"/>
                        </a:lnTo>
                        <a:lnTo>
                          <a:pt x="340" y="1089"/>
                        </a:lnTo>
                        <a:lnTo>
                          <a:pt x="316" y="1077"/>
                        </a:lnTo>
                        <a:lnTo>
                          <a:pt x="293" y="1063"/>
                        </a:lnTo>
                        <a:lnTo>
                          <a:pt x="271" y="1050"/>
                        </a:lnTo>
                        <a:lnTo>
                          <a:pt x="249" y="1033"/>
                        </a:lnTo>
                        <a:lnTo>
                          <a:pt x="227" y="1017"/>
                        </a:lnTo>
                        <a:lnTo>
                          <a:pt x="206" y="999"/>
                        </a:lnTo>
                        <a:lnTo>
                          <a:pt x="187" y="980"/>
                        </a:lnTo>
                        <a:lnTo>
                          <a:pt x="149" y="939"/>
                        </a:lnTo>
                        <a:lnTo>
                          <a:pt x="116" y="895"/>
                        </a:lnTo>
                        <a:lnTo>
                          <a:pt x="88" y="847"/>
                        </a:lnTo>
                        <a:lnTo>
                          <a:pt x="64" y="797"/>
                        </a:lnTo>
                        <a:lnTo>
                          <a:pt x="45" y="745"/>
                        </a:lnTo>
                        <a:lnTo>
                          <a:pt x="32" y="691"/>
                        </a:lnTo>
                        <a:lnTo>
                          <a:pt x="23" y="637"/>
                        </a:lnTo>
                        <a:lnTo>
                          <a:pt x="21" y="582"/>
                        </a:lnTo>
                        <a:lnTo>
                          <a:pt x="23" y="527"/>
                        </a:lnTo>
                        <a:lnTo>
                          <a:pt x="32" y="471"/>
                        </a:lnTo>
                        <a:lnTo>
                          <a:pt x="45" y="418"/>
                        </a:lnTo>
                        <a:lnTo>
                          <a:pt x="64" y="367"/>
                        </a:lnTo>
                        <a:lnTo>
                          <a:pt x="88" y="316"/>
                        </a:lnTo>
                        <a:lnTo>
                          <a:pt x="116" y="269"/>
                        </a:lnTo>
                        <a:lnTo>
                          <a:pt x="149" y="224"/>
                        </a:lnTo>
                        <a:lnTo>
                          <a:pt x="187" y="182"/>
                        </a:lnTo>
                        <a:lnTo>
                          <a:pt x="195" y="174"/>
                        </a:lnTo>
                        <a:lnTo>
                          <a:pt x="203" y="167"/>
                        </a:lnTo>
                        <a:lnTo>
                          <a:pt x="210" y="160"/>
                        </a:lnTo>
                        <a:lnTo>
                          <a:pt x="218" y="153"/>
                        </a:lnTo>
                        <a:lnTo>
                          <a:pt x="214" y="150"/>
                        </a:lnTo>
                        <a:lnTo>
                          <a:pt x="211" y="147"/>
                        </a:lnTo>
                        <a:lnTo>
                          <a:pt x="206" y="143"/>
                        </a:lnTo>
                        <a:lnTo>
                          <a:pt x="203" y="140"/>
                        </a:lnTo>
                        <a:lnTo>
                          <a:pt x="198" y="143"/>
                        </a:lnTo>
                        <a:lnTo>
                          <a:pt x="194" y="148"/>
                        </a:lnTo>
                        <a:lnTo>
                          <a:pt x="189" y="151"/>
                        </a:lnTo>
                        <a:lnTo>
                          <a:pt x="184" y="156"/>
                        </a:lnTo>
                        <a:lnTo>
                          <a:pt x="180" y="160"/>
                        </a:lnTo>
                        <a:lnTo>
                          <a:pt x="176" y="165"/>
                        </a:lnTo>
                        <a:lnTo>
                          <a:pt x="172" y="168"/>
                        </a:lnTo>
                        <a:lnTo>
                          <a:pt x="167" y="173"/>
                        </a:lnTo>
                        <a:lnTo>
                          <a:pt x="129" y="216"/>
                        </a:lnTo>
                        <a:lnTo>
                          <a:pt x="96" y="262"/>
                        </a:lnTo>
                        <a:lnTo>
                          <a:pt x="67" y="310"/>
                        </a:lnTo>
                        <a:lnTo>
                          <a:pt x="43" y="362"/>
                        </a:lnTo>
                        <a:lnTo>
                          <a:pt x="24" y="415"/>
                        </a:lnTo>
                        <a:lnTo>
                          <a:pt x="10" y="469"/>
                        </a:lnTo>
                        <a:lnTo>
                          <a:pt x="2" y="524"/>
                        </a:lnTo>
                        <a:lnTo>
                          <a:pt x="0" y="582"/>
                        </a:lnTo>
                        <a:lnTo>
                          <a:pt x="3" y="640"/>
                        </a:lnTo>
                        <a:lnTo>
                          <a:pt x="11" y="696"/>
                        </a:lnTo>
                        <a:lnTo>
                          <a:pt x="25" y="751"/>
                        </a:lnTo>
                        <a:lnTo>
                          <a:pt x="45" y="805"/>
                        </a:lnTo>
                        <a:lnTo>
                          <a:pt x="69" y="857"/>
                        </a:lnTo>
                        <a:lnTo>
                          <a:pt x="99" y="907"/>
                        </a:lnTo>
                        <a:lnTo>
                          <a:pt x="132" y="953"/>
                        </a:lnTo>
                        <a:lnTo>
                          <a:pt x="172" y="995"/>
                        </a:lnTo>
                        <a:lnTo>
                          <a:pt x="192" y="1015"/>
                        </a:lnTo>
                        <a:lnTo>
                          <a:pt x="214" y="1033"/>
                        </a:lnTo>
                        <a:lnTo>
                          <a:pt x="236" y="1051"/>
                        </a:lnTo>
                        <a:lnTo>
                          <a:pt x="259" y="1067"/>
                        </a:lnTo>
                        <a:lnTo>
                          <a:pt x="282" y="1082"/>
                        </a:lnTo>
                        <a:lnTo>
                          <a:pt x="306" y="1096"/>
                        </a:lnTo>
                        <a:lnTo>
                          <a:pt x="331" y="1108"/>
                        </a:lnTo>
                        <a:lnTo>
                          <a:pt x="356" y="1120"/>
                        </a:lnTo>
                        <a:lnTo>
                          <a:pt x="381" y="1129"/>
                        </a:lnTo>
                        <a:lnTo>
                          <a:pt x="408" y="1138"/>
                        </a:lnTo>
                        <a:lnTo>
                          <a:pt x="434" y="1145"/>
                        </a:lnTo>
                        <a:lnTo>
                          <a:pt x="461" y="1152"/>
                        </a:lnTo>
                        <a:lnTo>
                          <a:pt x="488" y="1157"/>
                        </a:lnTo>
                        <a:lnTo>
                          <a:pt x="516" y="1160"/>
                        </a:lnTo>
                        <a:lnTo>
                          <a:pt x="544" y="1161"/>
                        </a:lnTo>
                        <a:lnTo>
                          <a:pt x="571" y="1162"/>
                        </a:lnTo>
                        <a:lnTo>
                          <a:pt x="599" y="1161"/>
                        </a:lnTo>
                        <a:lnTo>
                          <a:pt x="626" y="1160"/>
                        </a:lnTo>
                        <a:lnTo>
                          <a:pt x="653" y="1157"/>
                        </a:lnTo>
                        <a:lnTo>
                          <a:pt x="680" y="1152"/>
                        </a:lnTo>
                        <a:lnTo>
                          <a:pt x="706" y="1145"/>
                        </a:lnTo>
                        <a:lnTo>
                          <a:pt x="733" y="1138"/>
                        </a:lnTo>
                        <a:lnTo>
                          <a:pt x="758" y="1129"/>
                        </a:lnTo>
                        <a:lnTo>
                          <a:pt x="783" y="1120"/>
                        </a:lnTo>
                        <a:lnTo>
                          <a:pt x="808" y="1108"/>
                        </a:lnTo>
                        <a:lnTo>
                          <a:pt x="833" y="1096"/>
                        </a:lnTo>
                        <a:lnTo>
                          <a:pt x="856" y="1082"/>
                        </a:lnTo>
                        <a:lnTo>
                          <a:pt x="880" y="1067"/>
                        </a:lnTo>
                        <a:lnTo>
                          <a:pt x="902" y="1051"/>
                        </a:lnTo>
                        <a:lnTo>
                          <a:pt x="924" y="1033"/>
                        </a:lnTo>
                        <a:lnTo>
                          <a:pt x="946" y="1015"/>
                        </a:lnTo>
                        <a:lnTo>
                          <a:pt x="967" y="995"/>
                        </a:lnTo>
                        <a:lnTo>
                          <a:pt x="1006" y="952"/>
                        </a:lnTo>
                        <a:lnTo>
                          <a:pt x="1040" y="906"/>
                        </a:lnTo>
                        <a:lnTo>
                          <a:pt x="1070" y="855"/>
                        </a:lnTo>
                        <a:lnTo>
                          <a:pt x="1096" y="803"/>
                        </a:lnTo>
                        <a:lnTo>
                          <a:pt x="1115" y="748"/>
                        </a:lnTo>
                        <a:lnTo>
                          <a:pt x="1130" y="691"/>
                        </a:lnTo>
                        <a:lnTo>
                          <a:pt x="1138" y="634"/>
                        </a:lnTo>
                        <a:lnTo>
                          <a:pt x="1142" y="576"/>
                        </a:lnTo>
                        <a:lnTo>
                          <a:pt x="1139" y="519"/>
                        </a:lnTo>
                        <a:lnTo>
                          <a:pt x="1130" y="463"/>
                        </a:lnTo>
                        <a:lnTo>
                          <a:pt x="1116" y="409"/>
                        </a:lnTo>
                        <a:lnTo>
                          <a:pt x="1098" y="356"/>
                        </a:lnTo>
                        <a:lnTo>
                          <a:pt x="1074" y="304"/>
                        </a:lnTo>
                        <a:lnTo>
                          <a:pt x="1044" y="256"/>
                        </a:lnTo>
                        <a:lnTo>
                          <a:pt x="1010" y="210"/>
                        </a:lnTo>
                        <a:lnTo>
                          <a:pt x="971" y="1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7932240" y="4640400"/>
                    <a:ext cx="100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96">
                        <a:moveTo>
                          <a:pt x="0" y="2"/>
                        </a:moveTo>
                        <a:lnTo>
                          <a:pt x="21" y="1096"/>
                        </a:lnTo>
                        <a:lnTo>
                          <a:pt x="41" y="1095"/>
                        </a:lnTo>
                        <a:lnTo>
                          <a:pt x="21" y="0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7802640" y="4731840"/>
                    <a:ext cx="2631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9" h="34">
                        <a:moveTo>
                          <a:pt x="0" y="34"/>
                        </a:moveTo>
                        <a:lnTo>
                          <a:pt x="1059" y="21"/>
                        </a:lnTo>
                        <a:lnTo>
                          <a:pt x="1059" y="0"/>
                        </a:lnTo>
                        <a:lnTo>
                          <a:pt x="0" y="13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7796520" y="4776480"/>
                    <a:ext cx="2786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4" h="42">
                        <a:moveTo>
                          <a:pt x="0" y="42"/>
                        </a:moveTo>
                        <a:lnTo>
                          <a:pt x="1124" y="21"/>
                        </a:lnTo>
                        <a:lnTo>
                          <a:pt x="1124" y="0"/>
                        </a:lnTo>
                        <a:lnTo>
                          <a:pt x="0" y="21"/>
                        </a:lnTo>
                        <a:lnTo>
                          <a:pt x="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7807320" y="4824000"/>
                    <a:ext cx="2602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0" h="37">
                        <a:moveTo>
                          <a:pt x="0" y="37"/>
                        </a:moveTo>
                        <a:lnTo>
                          <a:pt x="1050" y="20"/>
                        </a:lnTo>
                        <a:lnTo>
                          <a:pt x="1050" y="0"/>
                        </a:lnTo>
                        <a:lnTo>
                          <a:pt x="0" y="16"/>
                        </a:lnTo>
                        <a:lnTo>
                          <a:pt x="0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7833600" y="4666320"/>
                    <a:ext cx="838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1027">
                        <a:moveTo>
                          <a:pt x="197" y="0"/>
                        </a:moveTo>
                        <a:lnTo>
                          <a:pt x="195" y="3"/>
                        </a:lnTo>
                        <a:lnTo>
                          <a:pt x="188" y="8"/>
                        </a:lnTo>
                        <a:lnTo>
                          <a:pt x="179" y="18"/>
                        </a:lnTo>
                        <a:lnTo>
                          <a:pt x="166" y="30"/>
                        </a:lnTo>
                        <a:lnTo>
                          <a:pt x="151" y="48"/>
                        </a:lnTo>
                        <a:lnTo>
                          <a:pt x="135" y="67"/>
                        </a:lnTo>
                        <a:lnTo>
                          <a:pt x="118" y="91"/>
                        </a:lnTo>
                        <a:lnTo>
                          <a:pt x="100" y="118"/>
                        </a:lnTo>
                        <a:lnTo>
                          <a:pt x="82" y="149"/>
                        </a:lnTo>
                        <a:lnTo>
                          <a:pt x="64" y="183"/>
                        </a:lnTo>
                        <a:lnTo>
                          <a:pt x="48" y="221"/>
                        </a:lnTo>
                        <a:lnTo>
                          <a:pt x="33" y="264"/>
                        </a:lnTo>
                        <a:lnTo>
                          <a:pt x="20" y="309"/>
                        </a:lnTo>
                        <a:lnTo>
                          <a:pt x="10" y="357"/>
                        </a:lnTo>
                        <a:lnTo>
                          <a:pt x="4" y="410"/>
                        </a:lnTo>
                        <a:lnTo>
                          <a:pt x="0" y="467"/>
                        </a:lnTo>
                        <a:lnTo>
                          <a:pt x="0" y="471"/>
                        </a:lnTo>
                        <a:lnTo>
                          <a:pt x="2" y="485"/>
                        </a:lnTo>
                        <a:lnTo>
                          <a:pt x="3" y="505"/>
                        </a:lnTo>
                        <a:lnTo>
                          <a:pt x="6" y="532"/>
                        </a:lnTo>
                        <a:lnTo>
                          <a:pt x="12" y="564"/>
                        </a:lnTo>
                        <a:lnTo>
                          <a:pt x="19" y="600"/>
                        </a:lnTo>
                        <a:lnTo>
                          <a:pt x="29" y="641"/>
                        </a:lnTo>
                        <a:lnTo>
                          <a:pt x="43" y="683"/>
                        </a:lnTo>
                        <a:lnTo>
                          <a:pt x="61" y="728"/>
                        </a:lnTo>
                        <a:lnTo>
                          <a:pt x="83" y="774"/>
                        </a:lnTo>
                        <a:lnTo>
                          <a:pt x="110" y="822"/>
                        </a:lnTo>
                        <a:lnTo>
                          <a:pt x="141" y="866"/>
                        </a:lnTo>
                        <a:lnTo>
                          <a:pt x="178" y="911"/>
                        </a:lnTo>
                        <a:lnTo>
                          <a:pt x="222" y="953"/>
                        </a:lnTo>
                        <a:lnTo>
                          <a:pt x="271" y="992"/>
                        </a:lnTo>
                        <a:lnTo>
                          <a:pt x="328" y="1027"/>
                        </a:lnTo>
                        <a:lnTo>
                          <a:pt x="338" y="1009"/>
                        </a:lnTo>
                        <a:lnTo>
                          <a:pt x="283" y="976"/>
                        </a:lnTo>
                        <a:lnTo>
                          <a:pt x="235" y="938"/>
                        </a:lnTo>
                        <a:lnTo>
                          <a:pt x="193" y="898"/>
                        </a:lnTo>
                        <a:lnTo>
                          <a:pt x="157" y="854"/>
                        </a:lnTo>
                        <a:lnTo>
                          <a:pt x="127" y="810"/>
                        </a:lnTo>
                        <a:lnTo>
                          <a:pt x="101" y="765"/>
                        </a:lnTo>
                        <a:lnTo>
                          <a:pt x="80" y="720"/>
                        </a:lnTo>
                        <a:lnTo>
                          <a:pt x="63" y="676"/>
                        </a:lnTo>
                        <a:lnTo>
                          <a:pt x="50" y="635"/>
                        </a:lnTo>
                        <a:lnTo>
                          <a:pt x="40" y="596"/>
                        </a:lnTo>
                        <a:lnTo>
                          <a:pt x="32" y="561"/>
                        </a:lnTo>
                        <a:lnTo>
                          <a:pt x="27" y="530"/>
                        </a:lnTo>
                        <a:lnTo>
                          <a:pt x="23" y="504"/>
                        </a:lnTo>
                        <a:lnTo>
                          <a:pt x="22" y="484"/>
                        </a:lnTo>
                        <a:lnTo>
                          <a:pt x="21" y="471"/>
                        </a:lnTo>
                        <a:lnTo>
                          <a:pt x="21" y="467"/>
                        </a:lnTo>
                        <a:lnTo>
                          <a:pt x="23" y="413"/>
                        </a:lnTo>
                        <a:lnTo>
                          <a:pt x="30" y="362"/>
                        </a:lnTo>
                        <a:lnTo>
                          <a:pt x="41" y="315"/>
                        </a:lnTo>
                        <a:lnTo>
                          <a:pt x="52" y="270"/>
                        </a:lnTo>
                        <a:lnTo>
                          <a:pt x="67" y="231"/>
                        </a:lnTo>
                        <a:lnTo>
                          <a:pt x="82" y="194"/>
                        </a:lnTo>
                        <a:lnTo>
                          <a:pt x="100" y="160"/>
                        </a:lnTo>
                        <a:lnTo>
                          <a:pt x="117" y="130"/>
                        </a:lnTo>
                        <a:lnTo>
                          <a:pt x="134" y="104"/>
                        </a:lnTo>
                        <a:lnTo>
                          <a:pt x="151" y="81"/>
                        </a:lnTo>
                        <a:lnTo>
                          <a:pt x="166" y="61"/>
                        </a:lnTo>
                        <a:lnTo>
                          <a:pt x="181" y="45"/>
                        </a:lnTo>
                        <a:lnTo>
                          <a:pt x="193" y="34"/>
                        </a:lnTo>
                        <a:lnTo>
                          <a:pt x="202" y="24"/>
                        </a:lnTo>
                        <a:lnTo>
                          <a:pt x="208" y="19"/>
                        </a:lnTo>
                        <a:lnTo>
                          <a:pt x="210" y="16"/>
                        </a:lnTo>
                        <a:lnTo>
                          <a:pt x="19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7877160" y="4718880"/>
                    <a:ext cx="56880" cy="193320"/>
                  </a:xfrm>
                  <a:custGeom>
                    <a:avLst/>
                    <a:gdLst/>
                    <a:ahLst/>
                    <a:rect l="l" t="t" r="r" b="b"/>
                    <a:pathLst>
                      <a:path w="231" h="786">
                        <a:moveTo>
                          <a:pt x="46" y="0"/>
                        </a:moveTo>
                        <a:lnTo>
                          <a:pt x="43" y="5"/>
                        </a:lnTo>
                        <a:lnTo>
                          <a:pt x="37" y="18"/>
                        </a:lnTo>
                        <a:lnTo>
                          <a:pt x="29" y="38"/>
                        </a:lnTo>
                        <a:lnTo>
                          <a:pt x="20" y="67"/>
                        </a:lnTo>
                        <a:lnTo>
                          <a:pt x="11" y="104"/>
                        </a:lnTo>
                        <a:lnTo>
                          <a:pt x="4" y="148"/>
                        </a:lnTo>
                        <a:lnTo>
                          <a:pt x="0" y="201"/>
                        </a:lnTo>
                        <a:lnTo>
                          <a:pt x="2" y="262"/>
                        </a:lnTo>
                        <a:lnTo>
                          <a:pt x="4" y="291"/>
                        </a:lnTo>
                        <a:lnTo>
                          <a:pt x="6" y="319"/>
                        </a:lnTo>
                        <a:lnTo>
                          <a:pt x="10" y="349"/>
                        </a:lnTo>
                        <a:lnTo>
                          <a:pt x="14" y="379"/>
                        </a:lnTo>
                        <a:lnTo>
                          <a:pt x="20" y="410"/>
                        </a:lnTo>
                        <a:lnTo>
                          <a:pt x="27" y="442"/>
                        </a:lnTo>
                        <a:lnTo>
                          <a:pt x="35" y="473"/>
                        </a:lnTo>
                        <a:lnTo>
                          <a:pt x="46" y="505"/>
                        </a:lnTo>
                        <a:lnTo>
                          <a:pt x="58" y="537"/>
                        </a:lnTo>
                        <a:lnTo>
                          <a:pt x="73" y="571"/>
                        </a:lnTo>
                        <a:lnTo>
                          <a:pt x="90" y="605"/>
                        </a:lnTo>
                        <a:lnTo>
                          <a:pt x="110" y="640"/>
                        </a:lnTo>
                        <a:lnTo>
                          <a:pt x="132" y="675"/>
                        </a:lnTo>
                        <a:lnTo>
                          <a:pt x="157" y="711"/>
                        </a:lnTo>
                        <a:lnTo>
                          <a:pt x="185" y="748"/>
                        </a:lnTo>
                        <a:lnTo>
                          <a:pt x="216" y="786"/>
                        </a:lnTo>
                        <a:lnTo>
                          <a:pt x="231" y="772"/>
                        </a:lnTo>
                        <a:lnTo>
                          <a:pt x="201" y="735"/>
                        </a:lnTo>
                        <a:lnTo>
                          <a:pt x="173" y="699"/>
                        </a:lnTo>
                        <a:lnTo>
                          <a:pt x="149" y="665"/>
                        </a:lnTo>
                        <a:lnTo>
                          <a:pt x="127" y="630"/>
                        </a:lnTo>
                        <a:lnTo>
                          <a:pt x="109" y="596"/>
                        </a:lnTo>
                        <a:lnTo>
                          <a:pt x="93" y="562"/>
                        </a:lnTo>
                        <a:lnTo>
                          <a:pt x="78" y="530"/>
                        </a:lnTo>
                        <a:lnTo>
                          <a:pt x="66" y="498"/>
                        </a:lnTo>
                        <a:lnTo>
                          <a:pt x="56" y="467"/>
                        </a:lnTo>
                        <a:lnTo>
                          <a:pt x="46" y="436"/>
                        </a:lnTo>
                        <a:lnTo>
                          <a:pt x="40" y="406"/>
                        </a:lnTo>
                        <a:lnTo>
                          <a:pt x="34" y="376"/>
                        </a:lnTo>
                        <a:lnTo>
                          <a:pt x="30" y="346"/>
                        </a:lnTo>
                        <a:lnTo>
                          <a:pt x="27" y="317"/>
                        </a:lnTo>
                        <a:lnTo>
                          <a:pt x="25" y="288"/>
                        </a:lnTo>
                        <a:lnTo>
                          <a:pt x="22" y="261"/>
                        </a:lnTo>
                        <a:lnTo>
                          <a:pt x="21" y="202"/>
                        </a:lnTo>
                        <a:lnTo>
                          <a:pt x="25" y="151"/>
                        </a:lnTo>
                        <a:lnTo>
                          <a:pt x="32" y="109"/>
                        </a:lnTo>
                        <a:lnTo>
                          <a:pt x="40" y="73"/>
                        </a:lnTo>
                        <a:lnTo>
                          <a:pt x="49" y="46"/>
                        </a:lnTo>
                        <a:lnTo>
                          <a:pt x="56" y="27"/>
                        </a:lnTo>
                        <a:lnTo>
                          <a:pt x="61" y="15"/>
                        </a:lnTo>
                        <a:lnTo>
                          <a:pt x="64" y="11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7967880" y="4699080"/>
                    <a:ext cx="2412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261">
                        <a:moveTo>
                          <a:pt x="0" y="14"/>
                        </a:moveTo>
                        <a:lnTo>
                          <a:pt x="0" y="14"/>
                        </a:lnTo>
                        <a:lnTo>
                          <a:pt x="2" y="17"/>
                        </a:lnTo>
                        <a:lnTo>
                          <a:pt x="9" y="27"/>
                        </a:lnTo>
                        <a:lnTo>
                          <a:pt x="19" y="46"/>
                        </a:lnTo>
                        <a:lnTo>
                          <a:pt x="32" y="71"/>
                        </a:lnTo>
                        <a:lnTo>
                          <a:pt x="45" y="106"/>
                        </a:lnTo>
                        <a:lnTo>
                          <a:pt x="57" y="148"/>
                        </a:lnTo>
                        <a:lnTo>
                          <a:pt x="68" y="200"/>
                        </a:lnTo>
                        <a:lnTo>
                          <a:pt x="76" y="261"/>
                        </a:lnTo>
                        <a:lnTo>
                          <a:pt x="97" y="260"/>
                        </a:lnTo>
                        <a:lnTo>
                          <a:pt x="89" y="196"/>
                        </a:lnTo>
                        <a:lnTo>
                          <a:pt x="77" y="141"/>
                        </a:lnTo>
                        <a:lnTo>
                          <a:pt x="64" y="96"/>
                        </a:lnTo>
                        <a:lnTo>
                          <a:pt x="50" y="61"/>
                        </a:lnTo>
                        <a:lnTo>
                          <a:pt x="38" y="34"/>
                        </a:lnTo>
                        <a:lnTo>
                          <a:pt x="26" y="16"/>
                        </a:lnTo>
                        <a:lnTo>
                          <a:pt x="18" y="4"/>
                        </a:lnTo>
                        <a:lnTo>
                          <a:pt x="15" y="0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7959960" y="4667400"/>
                    <a:ext cx="7920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022">
                        <a:moveTo>
                          <a:pt x="11" y="1022"/>
                        </a:moveTo>
                        <a:lnTo>
                          <a:pt x="47" y="996"/>
                        </a:lnTo>
                        <a:lnTo>
                          <a:pt x="81" y="970"/>
                        </a:lnTo>
                        <a:lnTo>
                          <a:pt x="112" y="942"/>
                        </a:lnTo>
                        <a:lnTo>
                          <a:pt x="142" y="913"/>
                        </a:lnTo>
                        <a:lnTo>
                          <a:pt x="170" y="883"/>
                        </a:lnTo>
                        <a:lnTo>
                          <a:pt x="195" y="852"/>
                        </a:lnTo>
                        <a:lnTo>
                          <a:pt x="217" y="820"/>
                        </a:lnTo>
                        <a:lnTo>
                          <a:pt x="238" y="787"/>
                        </a:lnTo>
                        <a:lnTo>
                          <a:pt x="256" y="752"/>
                        </a:lnTo>
                        <a:lnTo>
                          <a:pt x="273" y="716"/>
                        </a:lnTo>
                        <a:lnTo>
                          <a:pt x="286" y="679"/>
                        </a:lnTo>
                        <a:lnTo>
                          <a:pt x="298" y="641"/>
                        </a:lnTo>
                        <a:lnTo>
                          <a:pt x="307" y="603"/>
                        </a:lnTo>
                        <a:lnTo>
                          <a:pt x="314" y="563"/>
                        </a:lnTo>
                        <a:lnTo>
                          <a:pt x="318" y="523"/>
                        </a:lnTo>
                        <a:lnTo>
                          <a:pt x="320" y="481"/>
                        </a:lnTo>
                        <a:lnTo>
                          <a:pt x="319" y="421"/>
                        </a:lnTo>
                        <a:lnTo>
                          <a:pt x="313" y="365"/>
                        </a:lnTo>
                        <a:lnTo>
                          <a:pt x="304" y="314"/>
                        </a:lnTo>
                        <a:lnTo>
                          <a:pt x="291" y="266"/>
                        </a:lnTo>
                        <a:lnTo>
                          <a:pt x="277" y="223"/>
                        </a:lnTo>
                        <a:lnTo>
                          <a:pt x="260" y="183"/>
                        </a:lnTo>
                        <a:lnTo>
                          <a:pt x="243" y="148"/>
                        </a:lnTo>
                        <a:lnTo>
                          <a:pt x="224" y="116"/>
                        </a:lnTo>
                        <a:lnTo>
                          <a:pt x="206" y="89"/>
                        </a:lnTo>
                        <a:lnTo>
                          <a:pt x="188" y="66"/>
                        </a:lnTo>
                        <a:lnTo>
                          <a:pt x="171" y="45"/>
                        </a:lnTo>
                        <a:lnTo>
                          <a:pt x="156" y="29"/>
                        </a:lnTo>
                        <a:lnTo>
                          <a:pt x="144" y="16"/>
                        </a:lnTo>
                        <a:lnTo>
                          <a:pt x="133" y="7"/>
                        </a:lnTo>
                        <a:lnTo>
                          <a:pt x="126" y="2"/>
                        </a:lnTo>
                        <a:lnTo>
                          <a:pt x="124" y="0"/>
                        </a:lnTo>
                        <a:lnTo>
                          <a:pt x="111" y="17"/>
                        </a:lnTo>
                        <a:lnTo>
                          <a:pt x="111" y="17"/>
                        </a:lnTo>
                        <a:lnTo>
                          <a:pt x="114" y="19"/>
                        </a:lnTo>
                        <a:lnTo>
                          <a:pt x="121" y="24"/>
                        </a:lnTo>
                        <a:lnTo>
                          <a:pt x="130" y="33"/>
                        </a:lnTo>
                        <a:lnTo>
                          <a:pt x="142" y="45"/>
                        </a:lnTo>
                        <a:lnTo>
                          <a:pt x="156" y="61"/>
                        </a:lnTo>
                        <a:lnTo>
                          <a:pt x="174" y="81"/>
                        </a:lnTo>
                        <a:lnTo>
                          <a:pt x="190" y="102"/>
                        </a:lnTo>
                        <a:lnTo>
                          <a:pt x="208" y="129"/>
                        </a:lnTo>
                        <a:lnTo>
                          <a:pt x="225" y="160"/>
                        </a:lnTo>
                        <a:lnTo>
                          <a:pt x="243" y="193"/>
                        </a:lnTo>
                        <a:lnTo>
                          <a:pt x="258" y="231"/>
                        </a:lnTo>
                        <a:lnTo>
                          <a:pt x="273" y="273"/>
                        </a:lnTo>
                        <a:lnTo>
                          <a:pt x="284" y="319"/>
                        </a:lnTo>
                        <a:lnTo>
                          <a:pt x="292" y="368"/>
                        </a:lnTo>
                        <a:lnTo>
                          <a:pt x="298" y="423"/>
                        </a:lnTo>
                        <a:lnTo>
                          <a:pt x="299" y="480"/>
                        </a:lnTo>
                        <a:lnTo>
                          <a:pt x="297" y="521"/>
                        </a:lnTo>
                        <a:lnTo>
                          <a:pt x="293" y="560"/>
                        </a:lnTo>
                        <a:lnTo>
                          <a:pt x="286" y="598"/>
                        </a:lnTo>
                        <a:lnTo>
                          <a:pt x="278" y="636"/>
                        </a:lnTo>
                        <a:lnTo>
                          <a:pt x="267" y="673"/>
                        </a:lnTo>
                        <a:lnTo>
                          <a:pt x="253" y="708"/>
                        </a:lnTo>
                        <a:lnTo>
                          <a:pt x="238" y="743"/>
                        </a:lnTo>
                        <a:lnTo>
                          <a:pt x="221" y="776"/>
                        </a:lnTo>
                        <a:lnTo>
                          <a:pt x="200" y="808"/>
                        </a:lnTo>
                        <a:lnTo>
                          <a:pt x="178" y="840"/>
                        </a:lnTo>
                        <a:lnTo>
                          <a:pt x="154" y="871"/>
                        </a:lnTo>
                        <a:lnTo>
                          <a:pt x="127" y="899"/>
                        </a:lnTo>
                        <a:lnTo>
                          <a:pt x="99" y="927"/>
                        </a:lnTo>
                        <a:lnTo>
                          <a:pt x="68" y="955"/>
                        </a:lnTo>
                        <a:lnTo>
                          <a:pt x="34" y="980"/>
                        </a:lnTo>
                        <a:lnTo>
                          <a:pt x="0" y="1004"/>
                        </a:lnTo>
                        <a:lnTo>
                          <a:pt x="11" y="10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7912440" y="4907160"/>
                    <a:ext cx="536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58">
                        <a:moveTo>
                          <a:pt x="15" y="58"/>
                        </a:moveTo>
                        <a:lnTo>
                          <a:pt x="15" y="58"/>
                        </a:lnTo>
                        <a:lnTo>
                          <a:pt x="16" y="57"/>
                        </a:lnTo>
                        <a:lnTo>
                          <a:pt x="22" y="52"/>
                        </a:lnTo>
                        <a:lnTo>
                          <a:pt x="30" y="46"/>
                        </a:lnTo>
                        <a:lnTo>
                          <a:pt x="40" y="41"/>
                        </a:lnTo>
                        <a:lnTo>
                          <a:pt x="54" y="34"/>
                        </a:lnTo>
                        <a:lnTo>
                          <a:pt x="72" y="28"/>
                        </a:lnTo>
                        <a:lnTo>
                          <a:pt x="90" y="23"/>
                        </a:lnTo>
                        <a:lnTo>
                          <a:pt x="112" y="21"/>
                        </a:lnTo>
                        <a:lnTo>
                          <a:pt x="111" y="21"/>
                        </a:lnTo>
                        <a:lnTo>
                          <a:pt x="114" y="21"/>
                        </a:lnTo>
                        <a:lnTo>
                          <a:pt x="121" y="22"/>
                        </a:lnTo>
                        <a:lnTo>
                          <a:pt x="133" y="24"/>
                        </a:lnTo>
                        <a:lnTo>
                          <a:pt x="146" y="27"/>
                        </a:lnTo>
                        <a:lnTo>
                          <a:pt x="161" y="31"/>
                        </a:lnTo>
                        <a:lnTo>
                          <a:pt x="176" y="37"/>
                        </a:lnTo>
                        <a:lnTo>
                          <a:pt x="190" y="44"/>
                        </a:lnTo>
                        <a:lnTo>
                          <a:pt x="203" y="53"/>
                        </a:lnTo>
                        <a:lnTo>
                          <a:pt x="217" y="38"/>
                        </a:lnTo>
                        <a:lnTo>
                          <a:pt x="203" y="28"/>
                        </a:lnTo>
                        <a:lnTo>
                          <a:pt x="187" y="19"/>
                        </a:lnTo>
                        <a:lnTo>
                          <a:pt x="169" y="13"/>
                        </a:lnTo>
                        <a:lnTo>
                          <a:pt x="153" y="7"/>
                        </a:lnTo>
                        <a:lnTo>
                          <a:pt x="137" y="4"/>
                        </a:lnTo>
                        <a:lnTo>
                          <a:pt x="125" y="3"/>
                        </a:lnTo>
                        <a:lnTo>
                          <a:pt x="116" y="1"/>
                        </a:lnTo>
                        <a:lnTo>
                          <a:pt x="112" y="0"/>
                        </a:lnTo>
                        <a:lnTo>
                          <a:pt x="112" y="0"/>
                        </a:lnTo>
                        <a:lnTo>
                          <a:pt x="111" y="0"/>
                        </a:lnTo>
                        <a:lnTo>
                          <a:pt x="87" y="3"/>
                        </a:lnTo>
                        <a:lnTo>
                          <a:pt x="65" y="8"/>
                        </a:lnTo>
                        <a:lnTo>
                          <a:pt x="46" y="15"/>
                        </a:lnTo>
                        <a:lnTo>
                          <a:pt x="30" y="22"/>
                        </a:lnTo>
                        <a:lnTo>
                          <a:pt x="17" y="30"/>
                        </a:lnTo>
                        <a:lnTo>
                          <a:pt x="8" y="36"/>
                        </a:lnTo>
                        <a:lnTo>
                          <a:pt x="2" y="41"/>
                        </a:lnTo>
                        <a:lnTo>
                          <a:pt x="0" y="43"/>
                        </a:lnTo>
                        <a:lnTo>
                          <a:pt x="15" y="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7828200" y="4685760"/>
                    <a:ext cx="20808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837" h="40">
                        <a:moveTo>
                          <a:pt x="0" y="40"/>
                        </a:moveTo>
                        <a:lnTo>
                          <a:pt x="837" y="20"/>
                        </a:lnTo>
                        <a:lnTo>
                          <a:pt x="836" y="0"/>
                        </a:lnTo>
                        <a:lnTo>
                          <a:pt x="3" y="19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7856640" y="4640400"/>
                    <a:ext cx="20232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813" h="1102">
                        <a:moveTo>
                          <a:pt x="444" y="149"/>
                        </a:moveTo>
                        <a:lnTo>
                          <a:pt x="457" y="143"/>
                        </a:lnTo>
                        <a:lnTo>
                          <a:pt x="469" y="135"/>
                        </a:lnTo>
                        <a:lnTo>
                          <a:pt x="478" y="134"/>
                        </a:lnTo>
                        <a:lnTo>
                          <a:pt x="486" y="136"/>
                        </a:lnTo>
                        <a:lnTo>
                          <a:pt x="471" y="148"/>
                        </a:lnTo>
                        <a:lnTo>
                          <a:pt x="469" y="149"/>
                        </a:lnTo>
                        <a:lnTo>
                          <a:pt x="464" y="150"/>
                        </a:lnTo>
                        <a:lnTo>
                          <a:pt x="458" y="153"/>
                        </a:lnTo>
                        <a:lnTo>
                          <a:pt x="456" y="155"/>
                        </a:lnTo>
                        <a:lnTo>
                          <a:pt x="454" y="155"/>
                        </a:lnTo>
                        <a:lnTo>
                          <a:pt x="449" y="153"/>
                        </a:lnTo>
                        <a:lnTo>
                          <a:pt x="445" y="150"/>
                        </a:lnTo>
                        <a:lnTo>
                          <a:pt x="444" y="149"/>
                        </a:lnTo>
                        <a:lnTo>
                          <a:pt x="432" y="121"/>
                        </a:lnTo>
                        <a:lnTo>
                          <a:pt x="427" y="126"/>
                        </a:lnTo>
                        <a:lnTo>
                          <a:pt x="419" y="127"/>
                        </a:lnTo>
                        <a:lnTo>
                          <a:pt x="428" y="147"/>
                        </a:lnTo>
                        <a:lnTo>
                          <a:pt x="435" y="148"/>
                        </a:lnTo>
                        <a:lnTo>
                          <a:pt x="432" y="156"/>
                        </a:lnTo>
                        <a:lnTo>
                          <a:pt x="421" y="162"/>
                        </a:lnTo>
                        <a:lnTo>
                          <a:pt x="399" y="165"/>
                        </a:lnTo>
                        <a:lnTo>
                          <a:pt x="399" y="156"/>
                        </a:lnTo>
                        <a:lnTo>
                          <a:pt x="414" y="156"/>
                        </a:lnTo>
                        <a:lnTo>
                          <a:pt x="422" y="154"/>
                        </a:lnTo>
                        <a:lnTo>
                          <a:pt x="428" y="147"/>
                        </a:lnTo>
                        <a:lnTo>
                          <a:pt x="419" y="127"/>
                        </a:lnTo>
                        <a:lnTo>
                          <a:pt x="414" y="121"/>
                        </a:lnTo>
                        <a:lnTo>
                          <a:pt x="406" y="118"/>
                        </a:lnTo>
                        <a:lnTo>
                          <a:pt x="406" y="125"/>
                        </a:lnTo>
                        <a:lnTo>
                          <a:pt x="406" y="126"/>
                        </a:lnTo>
                        <a:lnTo>
                          <a:pt x="405" y="128"/>
                        </a:lnTo>
                        <a:lnTo>
                          <a:pt x="404" y="131"/>
                        </a:lnTo>
                        <a:lnTo>
                          <a:pt x="402" y="134"/>
                        </a:lnTo>
                        <a:lnTo>
                          <a:pt x="399" y="136"/>
                        </a:lnTo>
                        <a:lnTo>
                          <a:pt x="397" y="138"/>
                        </a:lnTo>
                        <a:lnTo>
                          <a:pt x="396" y="138"/>
                        </a:lnTo>
                        <a:lnTo>
                          <a:pt x="395" y="138"/>
                        </a:lnTo>
                        <a:lnTo>
                          <a:pt x="395" y="117"/>
                        </a:lnTo>
                        <a:lnTo>
                          <a:pt x="384" y="115"/>
                        </a:lnTo>
                        <a:lnTo>
                          <a:pt x="382" y="116"/>
                        </a:lnTo>
                        <a:lnTo>
                          <a:pt x="378" y="118"/>
                        </a:lnTo>
                        <a:lnTo>
                          <a:pt x="373" y="120"/>
                        </a:lnTo>
                        <a:lnTo>
                          <a:pt x="371" y="123"/>
                        </a:lnTo>
                        <a:lnTo>
                          <a:pt x="368" y="125"/>
                        </a:lnTo>
                        <a:lnTo>
                          <a:pt x="364" y="129"/>
                        </a:lnTo>
                        <a:lnTo>
                          <a:pt x="360" y="133"/>
                        </a:lnTo>
                        <a:lnTo>
                          <a:pt x="357" y="136"/>
                        </a:lnTo>
                        <a:lnTo>
                          <a:pt x="354" y="138"/>
                        </a:lnTo>
                        <a:lnTo>
                          <a:pt x="352" y="139"/>
                        </a:lnTo>
                        <a:lnTo>
                          <a:pt x="351" y="139"/>
                        </a:lnTo>
                        <a:lnTo>
                          <a:pt x="350" y="139"/>
                        </a:lnTo>
                        <a:lnTo>
                          <a:pt x="352" y="123"/>
                        </a:lnTo>
                        <a:lnTo>
                          <a:pt x="354" y="121"/>
                        </a:lnTo>
                        <a:lnTo>
                          <a:pt x="359" y="118"/>
                        </a:lnTo>
                        <a:lnTo>
                          <a:pt x="364" y="115"/>
                        </a:lnTo>
                        <a:lnTo>
                          <a:pt x="366" y="113"/>
                        </a:lnTo>
                        <a:lnTo>
                          <a:pt x="368" y="112"/>
                        </a:lnTo>
                        <a:lnTo>
                          <a:pt x="372" y="110"/>
                        </a:lnTo>
                        <a:lnTo>
                          <a:pt x="374" y="109"/>
                        </a:lnTo>
                        <a:lnTo>
                          <a:pt x="375" y="110"/>
                        </a:lnTo>
                        <a:lnTo>
                          <a:pt x="375" y="109"/>
                        </a:lnTo>
                        <a:lnTo>
                          <a:pt x="375" y="104"/>
                        </a:lnTo>
                        <a:lnTo>
                          <a:pt x="375" y="100"/>
                        </a:lnTo>
                        <a:lnTo>
                          <a:pt x="375" y="97"/>
                        </a:lnTo>
                        <a:lnTo>
                          <a:pt x="363" y="87"/>
                        </a:lnTo>
                        <a:lnTo>
                          <a:pt x="372" y="81"/>
                        </a:lnTo>
                        <a:lnTo>
                          <a:pt x="382" y="88"/>
                        </a:lnTo>
                        <a:lnTo>
                          <a:pt x="395" y="102"/>
                        </a:lnTo>
                        <a:lnTo>
                          <a:pt x="414" y="101"/>
                        </a:lnTo>
                        <a:lnTo>
                          <a:pt x="418" y="101"/>
                        </a:lnTo>
                        <a:lnTo>
                          <a:pt x="455" y="21"/>
                        </a:lnTo>
                        <a:lnTo>
                          <a:pt x="383" y="0"/>
                        </a:lnTo>
                        <a:lnTo>
                          <a:pt x="311" y="3"/>
                        </a:lnTo>
                        <a:lnTo>
                          <a:pt x="197" y="17"/>
                        </a:lnTo>
                        <a:lnTo>
                          <a:pt x="76" y="58"/>
                        </a:lnTo>
                        <a:lnTo>
                          <a:pt x="0" y="104"/>
                        </a:lnTo>
                        <a:lnTo>
                          <a:pt x="12" y="120"/>
                        </a:lnTo>
                        <a:lnTo>
                          <a:pt x="27" y="120"/>
                        </a:lnTo>
                        <a:lnTo>
                          <a:pt x="40" y="127"/>
                        </a:lnTo>
                        <a:lnTo>
                          <a:pt x="81" y="111"/>
                        </a:lnTo>
                        <a:lnTo>
                          <a:pt x="95" y="124"/>
                        </a:lnTo>
                        <a:lnTo>
                          <a:pt x="95" y="176"/>
                        </a:lnTo>
                        <a:lnTo>
                          <a:pt x="79" y="197"/>
                        </a:lnTo>
                        <a:lnTo>
                          <a:pt x="72" y="283"/>
                        </a:lnTo>
                        <a:lnTo>
                          <a:pt x="100" y="334"/>
                        </a:lnTo>
                        <a:lnTo>
                          <a:pt x="121" y="345"/>
                        </a:lnTo>
                        <a:lnTo>
                          <a:pt x="148" y="407"/>
                        </a:lnTo>
                        <a:lnTo>
                          <a:pt x="164" y="393"/>
                        </a:lnTo>
                        <a:lnTo>
                          <a:pt x="154" y="363"/>
                        </a:lnTo>
                        <a:lnTo>
                          <a:pt x="161" y="353"/>
                        </a:lnTo>
                        <a:lnTo>
                          <a:pt x="179" y="383"/>
                        </a:lnTo>
                        <a:lnTo>
                          <a:pt x="199" y="446"/>
                        </a:lnTo>
                        <a:lnTo>
                          <a:pt x="251" y="466"/>
                        </a:lnTo>
                        <a:lnTo>
                          <a:pt x="275" y="490"/>
                        </a:lnTo>
                        <a:lnTo>
                          <a:pt x="282" y="505"/>
                        </a:lnTo>
                        <a:lnTo>
                          <a:pt x="325" y="521"/>
                        </a:lnTo>
                        <a:lnTo>
                          <a:pt x="363" y="522"/>
                        </a:lnTo>
                        <a:lnTo>
                          <a:pt x="366" y="543"/>
                        </a:lnTo>
                        <a:lnTo>
                          <a:pt x="382" y="552"/>
                        </a:lnTo>
                        <a:lnTo>
                          <a:pt x="406" y="557"/>
                        </a:lnTo>
                        <a:lnTo>
                          <a:pt x="410" y="569"/>
                        </a:lnTo>
                        <a:lnTo>
                          <a:pt x="392" y="574"/>
                        </a:lnTo>
                        <a:lnTo>
                          <a:pt x="387" y="590"/>
                        </a:lnTo>
                        <a:lnTo>
                          <a:pt x="376" y="609"/>
                        </a:lnTo>
                        <a:lnTo>
                          <a:pt x="389" y="692"/>
                        </a:lnTo>
                        <a:lnTo>
                          <a:pt x="399" y="701"/>
                        </a:lnTo>
                        <a:lnTo>
                          <a:pt x="410" y="761"/>
                        </a:lnTo>
                        <a:lnTo>
                          <a:pt x="451" y="785"/>
                        </a:lnTo>
                        <a:lnTo>
                          <a:pt x="436" y="861"/>
                        </a:lnTo>
                        <a:lnTo>
                          <a:pt x="392" y="951"/>
                        </a:lnTo>
                        <a:lnTo>
                          <a:pt x="387" y="981"/>
                        </a:lnTo>
                        <a:lnTo>
                          <a:pt x="387" y="1022"/>
                        </a:lnTo>
                        <a:lnTo>
                          <a:pt x="376" y="1051"/>
                        </a:lnTo>
                        <a:lnTo>
                          <a:pt x="380" y="1070"/>
                        </a:lnTo>
                        <a:lnTo>
                          <a:pt x="369" y="1092"/>
                        </a:lnTo>
                        <a:lnTo>
                          <a:pt x="380" y="1096"/>
                        </a:lnTo>
                        <a:lnTo>
                          <a:pt x="390" y="1079"/>
                        </a:lnTo>
                        <a:lnTo>
                          <a:pt x="403" y="1102"/>
                        </a:lnTo>
                        <a:lnTo>
                          <a:pt x="443" y="1096"/>
                        </a:lnTo>
                        <a:lnTo>
                          <a:pt x="444" y="1060"/>
                        </a:lnTo>
                        <a:lnTo>
                          <a:pt x="467" y="1050"/>
                        </a:lnTo>
                        <a:lnTo>
                          <a:pt x="469" y="1036"/>
                        </a:lnTo>
                        <a:lnTo>
                          <a:pt x="498" y="1022"/>
                        </a:lnTo>
                        <a:lnTo>
                          <a:pt x="502" y="996"/>
                        </a:lnTo>
                        <a:lnTo>
                          <a:pt x="526" y="991"/>
                        </a:lnTo>
                        <a:lnTo>
                          <a:pt x="550" y="961"/>
                        </a:lnTo>
                        <a:lnTo>
                          <a:pt x="607" y="951"/>
                        </a:lnTo>
                        <a:lnTo>
                          <a:pt x="661" y="864"/>
                        </a:lnTo>
                        <a:lnTo>
                          <a:pt x="710" y="836"/>
                        </a:lnTo>
                        <a:lnTo>
                          <a:pt x="727" y="811"/>
                        </a:lnTo>
                        <a:lnTo>
                          <a:pt x="747" y="781"/>
                        </a:lnTo>
                        <a:lnTo>
                          <a:pt x="749" y="760"/>
                        </a:lnTo>
                        <a:lnTo>
                          <a:pt x="773" y="736"/>
                        </a:lnTo>
                        <a:lnTo>
                          <a:pt x="813" y="685"/>
                        </a:lnTo>
                        <a:lnTo>
                          <a:pt x="811" y="614"/>
                        </a:lnTo>
                        <a:lnTo>
                          <a:pt x="765" y="595"/>
                        </a:lnTo>
                        <a:lnTo>
                          <a:pt x="734" y="571"/>
                        </a:lnTo>
                        <a:lnTo>
                          <a:pt x="699" y="522"/>
                        </a:lnTo>
                        <a:lnTo>
                          <a:pt x="689" y="504"/>
                        </a:lnTo>
                        <a:lnTo>
                          <a:pt x="669" y="500"/>
                        </a:lnTo>
                        <a:lnTo>
                          <a:pt x="617" y="491"/>
                        </a:lnTo>
                        <a:lnTo>
                          <a:pt x="572" y="466"/>
                        </a:lnTo>
                        <a:lnTo>
                          <a:pt x="540" y="460"/>
                        </a:lnTo>
                        <a:lnTo>
                          <a:pt x="500" y="460"/>
                        </a:lnTo>
                        <a:lnTo>
                          <a:pt x="465" y="491"/>
                        </a:lnTo>
                        <a:lnTo>
                          <a:pt x="450" y="484"/>
                        </a:lnTo>
                        <a:lnTo>
                          <a:pt x="416" y="490"/>
                        </a:lnTo>
                        <a:lnTo>
                          <a:pt x="410" y="477"/>
                        </a:lnTo>
                        <a:lnTo>
                          <a:pt x="386" y="459"/>
                        </a:lnTo>
                        <a:lnTo>
                          <a:pt x="394" y="449"/>
                        </a:lnTo>
                        <a:lnTo>
                          <a:pt x="386" y="421"/>
                        </a:lnTo>
                        <a:lnTo>
                          <a:pt x="356" y="407"/>
                        </a:lnTo>
                        <a:lnTo>
                          <a:pt x="328" y="414"/>
                        </a:lnTo>
                        <a:lnTo>
                          <a:pt x="292" y="407"/>
                        </a:lnTo>
                        <a:lnTo>
                          <a:pt x="282" y="386"/>
                        </a:lnTo>
                        <a:lnTo>
                          <a:pt x="285" y="367"/>
                        </a:lnTo>
                        <a:lnTo>
                          <a:pt x="286" y="352"/>
                        </a:lnTo>
                        <a:lnTo>
                          <a:pt x="297" y="341"/>
                        </a:lnTo>
                        <a:lnTo>
                          <a:pt x="300" y="348"/>
                        </a:lnTo>
                        <a:lnTo>
                          <a:pt x="304" y="379"/>
                        </a:lnTo>
                        <a:lnTo>
                          <a:pt x="316" y="384"/>
                        </a:lnTo>
                        <a:lnTo>
                          <a:pt x="321" y="348"/>
                        </a:lnTo>
                        <a:lnTo>
                          <a:pt x="335" y="341"/>
                        </a:lnTo>
                        <a:lnTo>
                          <a:pt x="361" y="360"/>
                        </a:lnTo>
                        <a:lnTo>
                          <a:pt x="375" y="360"/>
                        </a:lnTo>
                        <a:lnTo>
                          <a:pt x="382" y="352"/>
                        </a:lnTo>
                        <a:lnTo>
                          <a:pt x="387" y="332"/>
                        </a:lnTo>
                        <a:lnTo>
                          <a:pt x="404" y="329"/>
                        </a:lnTo>
                        <a:lnTo>
                          <a:pt x="422" y="338"/>
                        </a:lnTo>
                        <a:lnTo>
                          <a:pt x="433" y="366"/>
                        </a:lnTo>
                        <a:lnTo>
                          <a:pt x="454" y="381"/>
                        </a:lnTo>
                        <a:lnTo>
                          <a:pt x="482" y="383"/>
                        </a:lnTo>
                        <a:lnTo>
                          <a:pt x="481" y="353"/>
                        </a:lnTo>
                        <a:lnTo>
                          <a:pt x="467" y="314"/>
                        </a:lnTo>
                        <a:lnTo>
                          <a:pt x="462" y="290"/>
                        </a:lnTo>
                        <a:lnTo>
                          <a:pt x="481" y="280"/>
                        </a:lnTo>
                        <a:lnTo>
                          <a:pt x="503" y="234"/>
                        </a:lnTo>
                        <a:lnTo>
                          <a:pt x="523" y="197"/>
                        </a:lnTo>
                        <a:lnTo>
                          <a:pt x="554" y="163"/>
                        </a:lnTo>
                        <a:lnTo>
                          <a:pt x="569" y="155"/>
                        </a:lnTo>
                        <a:lnTo>
                          <a:pt x="568" y="125"/>
                        </a:lnTo>
                        <a:lnTo>
                          <a:pt x="533" y="79"/>
                        </a:lnTo>
                        <a:lnTo>
                          <a:pt x="545" y="73"/>
                        </a:lnTo>
                        <a:lnTo>
                          <a:pt x="555" y="59"/>
                        </a:lnTo>
                        <a:lnTo>
                          <a:pt x="455" y="21"/>
                        </a:lnTo>
                        <a:lnTo>
                          <a:pt x="418" y="101"/>
                        </a:lnTo>
                        <a:lnTo>
                          <a:pt x="432" y="121"/>
                        </a:lnTo>
                        <a:lnTo>
                          <a:pt x="444" y="1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85" name=""/>
            <p:cNvSpPr/>
            <p:nvPr/>
          </p:nvSpPr>
          <p:spPr>
            <a:xfrm>
              <a:off x="3490920" y="5445000"/>
              <a:ext cx="288360" cy="36036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3851280" y="5445000"/>
              <a:ext cx="647280" cy="28728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148000" y="5538600"/>
              <a:ext cx="1726920" cy="0"/>
            </a:xfrm>
            <a:prstGeom prst="line">
              <a:avLst/>
            </a:prstGeom>
            <a:ln w="28440">
              <a:solidFill>
                <a:srgbClr val="00336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75280" y="4601880"/>
              <a:ext cx="142560" cy="934920"/>
            </a:xfrm>
            <a:custGeom>
              <a:avLst/>
              <a:gdLst>
                <a:gd name="textAreaLeft" fmla="*/ 0 w 142560"/>
                <a:gd name="textAreaRight" fmla="*/ 100080 w 142560"/>
                <a:gd name="textAreaTop" fmla="*/ 38880 h 934920"/>
                <a:gd name="textAreaBottom" fmla="*/ 89604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5140080" y="4589280"/>
              <a:ext cx="188640" cy="1778040"/>
            </a:xfrm>
            <a:custGeom>
              <a:avLst/>
              <a:gdLst>
                <a:gd name="textAreaLeft" fmla="*/ 0 w 188640"/>
                <a:gd name="textAreaRight" fmla="*/ 132480 w 188640"/>
                <a:gd name="textAreaTop" fmla="*/ 29160 h 1778040"/>
                <a:gd name="textAreaBottom" fmla="*/ 1748880 h 177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357"/>
                    <a:pt x="21600" y="713"/>
                  </a:cubicBezTo>
                  <a:lnTo>
                    <a:pt x="21600" y="20887"/>
                  </a:lnTo>
                  <a:cubicBezTo>
                    <a:pt x="21600" y="21244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336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0" name="" descr=""/>
            <p:cNvPicPr/>
            <p:nvPr/>
          </p:nvPicPr>
          <p:blipFill>
            <a:blip r:embed="rId16"/>
            <a:stretch/>
          </p:blipFill>
          <p:spPr>
            <a:xfrm>
              <a:off x="6659280" y="5097240"/>
              <a:ext cx="28548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pic>
          <p:nvPicPr>
            <p:cNvPr id="891" name="" descr=""/>
            <p:cNvPicPr/>
            <p:nvPr/>
          </p:nvPicPr>
          <p:blipFill>
            <a:blip r:embed="rId17"/>
            <a:stretch/>
          </p:blipFill>
          <p:spPr>
            <a:xfrm>
              <a:off x="5940360" y="5097240"/>
              <a:ext cx="28512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pic>
          <p:nvPicPr>
            <p:cNvPr id="892" name="" descr=""/>
            <p:cNvPicPr/>
            <p:nvPr/>
          </p:nvPicPr>
          <p:blipFill>
            <a:blip r:embed="rId18"/>
            <a:stretch/>
          </p:blipFill>
          <p:spPr>
            <a:xfrm>
              <a:off x="6298920" y="5097240"/>
              <a:ext cx="28548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pic>
          <p:nvPicPr>
            <p:cNvPr id="893" name="" descr=""/>
            <p:cNvPicPr/>
            <p:nvPr/>
          </p:nvPicPr>
          <p:blipFill>
            <a:blip r:embed="rId19"/>
            <a:stretch/>
          </p:blipFill>
          <p:spPr>
            <a:xfrm>
              <a:off x="5580000" y="5097240"/>
              <a:ext cx="28512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sp>
          <p:nvSpPr>
            <p:cNvPr id="894" name=""/>
            <p:cNvSpPr/>
            <p:nvPr/>
          </p:nvSpPr>
          <p:spPr>
            <a:xfrm>
              <a:off x="6930720" y="5025600"/>
              <a:ext cx="17366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Wrapp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20"/>
            <a:stretch/>
          </p:blipFill>
          <p:spPr>
            <a:xfrm>
              <a:off x="4859280" y="5097240"/>
              <a:ext cx="285120" cy="28584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896" name="" descr=""/>
            <p:cNvPicPr/>
            <p:nvPr/>
          </p:nvPicPr>
          <p:blipFill>
            <a:blip r:embed="rId21"/>
            <a:stretch/>
          </p:blipFill>
          <p:spPr>
            <a:xfrm>
              <a:off x="5219640" y="5097240"/>
              <a:ext cx="285120" cy="28584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  <p:sp>
          <p:nvSpPr>
            <p:cNvPr id="897" name=""/>
            <p:cNvSpPr/>
            <p:nvPr/>
          </p:nvSpPr>
          <p:spPr>
            <a:xfrm>
              <a:off x="5684760" y="4652640"/>
              <a:ext cx="21600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rapper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74920" y="5660640"/>
              <a:ext cx="259200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074920" y="5589360"/>
              <a:ext cx="2016000" cy="0"/>
            </a:xfrm>
            <a:prstGeom prst="line">
              <a:avLst/>
            </a:prstGeom>
            <a:ln w="93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64360" y="5805360"/>
              <a:ext cx="13582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imes New Roman"/>
                </a:rPr>
                <a:t>Manag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84600" y="5445000"/>
              <a:ext cx="502920" cy="360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435280" y="5445000"/>
              <a:ext cx="1368360" cy="360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804000" y="5445000"/>
              <a:ext cx="144000" cy="360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4" name="" descr=""/>
            <p:cNvPicPr/>
            <p:nvPr/>
          </p:nvPicPr>
          <p:blipFill>
            <a:blip r:embed="rId22"/>
            <a:stretch/>
          </p:blipFill>
          <p:spPr>
            <a:xfrm>
              <a:off x="6422760" y="5876640"/>
              <a:ext cx="307800" cy="28728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  <p:pic>
          <p:nvPicPr>
            <p:cNvPr id="905" name="" descr=""/>
            <p:cNvPicPr/>
            <p:nvPr/>
          </p:nvPicPr>
          <p:blipFill>
            <a:blip r:embed="rId23"/>
            <a:stretch/>
          </p:blipFill>
          <p:spPr>
            <a:xfrm>
              <a:off x="6804000" y="5876640"/>
              <a:ext cx="285120" cy="285840"/>
            </a:xfrm>
            <a:prstGeom prst="rect">
              <a:avLst/>
            </a:prstGeom>
            <a:ln w="28440">
              <a:solidFill>
                <a:srgbClr val="cc6600"/>
              </a:solidFill>
              <a:miter/>
            </a:ln>
          </p:spPr>
        </p:pic>
        <p:sp>
          <p:nvSpPr>
            <p:cNvPr id="906" name=""/>
            <p:cNvSpPr/>
            <p:nvPr/>
          </p:nvSpPr>
          <p:spPr>
            <a:xfrm flipV="1">
              <a:off x="6948360" y="6236640"/>
              <a:ext cx="0" cy="431640"/>
            </a:xfrm>
            <a:prstGeom prst="line">
              <a:avLst/>
            </a:prstGeom>
            <a:ln w="28440">
              <a:solidFill>
                <a:srgbClr val="cc33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3995640" y="5445000"/>
              <a:ext cx="1342440" cy="28728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4066920" y="5444640"/>
              <a:ext cx="2304720" cy="36036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CD52-D7D9-4C5E-8D7F-F9BB2505627C}" type="slidenum">
              <a:t>15</a:t>
            </a:fld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Wrapper society (wrapper manager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54080" y="4400640"/>
            <a:ext cx="89517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Contact point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for other sub-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Currently only creates AWA</a:t>
            </a:r>
            <a:br>
              <a:rPr sz="2400"/>
            </a:b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but evolving toward managing wrapper’s lif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609480" y="1308240"/>
          <a:ext cx="6934320" cy="307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08240"/>
                    <a:ext cx="693432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3" name=""/>
          <p:cNvSpPr/>
          <p:nvPr/>
        </p:nvSpPr>
        <p:spPr>
          <a:xfrm>
            <a:off x="152280" y="355680"/>
            <a:ext cx="8952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1960" indent="-291960">
              <a:lnSpc>
                <a:spcPct val="13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Wrapper Manag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7596360" y="1555920"/>
            <a:ext cx="1368360" cy="1944360"/>
            <a:chOff x="7596360" y="1555920"/>
            <a:chExt cx="1368360" cy="1944360"/>
          </a:xfrm>
        </p:grpSpPr>
        <p:sp>
          <p:nvSpPr>
            <p:cNvPr id="915" name=""/>
            <p:cNvSpPr/>
            <p:nvPr/>
          </p:nvSpPr>
          <p:spPr>
            <a:xfrm>
              <a:off x="8346960" y="2471760"/>
              <a:ext cx="47304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W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8067600" y="2411280"/>
              <a:ext cx="312480" cy="482400"/>
              <a:chOff x="8067600" y="2411280"/>
              <a:chExt cx="312480" cy="482400"/>
            </a:xfrm>
          </p:grpSpPr>
          <p:sp>
            <p:nvSpPr>
              <p:cNvPr id="917" name=""/>
              <p:cNvSpPr/>
              <p:nvPr/>
            </p:nvSpPr>
            <p:spPr>
              <a:xfrm>
                <a:off x="8067600" y="2652480"/>
                <a:ext cx="312480" cy="241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8067600" y="2411280"/>
                <a:ext cx="312480" cy="2412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" name=""/>
            <p:cNvSpPr/>
            <p:nvPr/>
          </p:nvSpPr>
          <p:spPr>
            <a:xfrm flipV="1">
              <a:off x="8221680" y="2050920"/>
              <a:ext cx="0" cy="3002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753320" y="1555920"/>
              <a:ext cx="106668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dir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facili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812000" y="2939760"/>
              <a:ext cx="260280" cy="34452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596360" y="3198960"/>
              <a:ext cx="4730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8236080" y="2939760"/>
              <a:ext cx="0" cy="29988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8375400" y="2939760"/>
              <a:ext cx="299880" cy="34452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058240" y="3198960"/>
              <a:ext cx="4744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489880" y="3198960"/>
              <a:ext cx="47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39165-3D5C-46B5-B5C3-BCF800B86B6F}" type="slidenum">
              <a:t>16</a:t>
            </a:fld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3" dur="1" fill="hold"/>
                                  <p:tgtEl>
                                    <p:spTgt spid="9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Wrapper society (annotation wrapper archivist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54080" y="4724280"/>
            <a:ext cx="8951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Extraction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 maintenance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of a base of anno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Makes annotations available for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query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609480" y="1079640"/>
          <a:ext cx="698508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79640"/>
                    <a:ext cx="69850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1" name=""/>
          <p:cNvSpPr/>
          <p:nvPr/>
        </p:nvSpPr>
        <p:spPr>
          <a:xfrm>
            <a:off x="152280" y="355680"/>
            <a:ext cx="8952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1960" indent="-291960">
              <a:lnSpc>
                <a:spcPct val="13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Annotation Wrapper Archivis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7667640" y="1341360"/>
            <a:ext cx="1008000" cy="2016360"/>
            <a:chOff x="7667640" y="1341360"/>
            <a:chExt cx="1008000" cy="2016360"/>
          </a:xfrm>
        </p:grpSpPr>
        <p:sp>
          <p:nvSpPr>
            <p:cNvPr id="933" name=""/>
            <p:cNvSpPr/>
            <p:nvPr/>
          </p:nvSpPr>
          <p:spPr>
            <a:xfrm>
              <a:off x="8013960" y="2598840"/>
              <a:ext cx="258840" cy="388080"/>
            </a:xfrm>
            <a:prstGeom prst="can">
              <a:avLst>
                <a:gd name="adj" fmla="val 38814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8244720" y="2177280"/>
              <a:ext cx="3906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AW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8013960" y="2128680"/>
              <a:ext cx="258480" cy="388440"/>
              <a:chOff x="8013960" y="2128680"/>
              <a:chExt cx="258480" cy="388440"/>
            </a:xfrm>
          </p:grpSpPr>
          <p:sp>
            <p:nvSpPr>
              <p:cNvPr id="936" name=""/>
              <p:cNvSpPr/>
              <p:nvPr/>
            </p:nvSpPr>
            <p:spPr>
              <a:xfrm>
                <a:off x="8013960" y="2323080"/>
                <a:ext cx="258480" cy="194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8013960" y="2128320"/>
                <a:ext cx="258480" cy="194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8152920" y="2446560"/>
              <a:ext cx="0" cy="24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V="1">
              <a:off x="8141040" y="1740240"/>
              <a:ext cx="0" cy="33948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754760" y="1341360"/>
              <a:ext cx="88092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667640" y="2991600"/>
              <a:ext cx="1008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rchive 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tract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2771640" y="2781360"/>
            <a:ext cx="4680000" cy="2808000"/>
            <a:chOff x="2771640" y="2781360"/>
            <a:chExt cx="4680000" cy="2808000"/>
          </a:xfrm>
        </p:grpSpPr>
        <p:sp>
          <p:nvSpPr>
            <p:cNvPr id="943" name=""/>
            <p:cNvSpPr/>
            <p:nvPr/>
          </p:nvSpPr>
          <p:spPr>
            <a:xfrm flipH="1" flipV="1">
              <a:off x="7308360" y="2997000"/>
              <a:ext cx="71640" cy="2592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lg" type="oval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771640" y="2781360"/>
              <a:ext cx="4680000" cy="21600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173D6-E279-4C49-BE17-E0D6331843E5}" type="slidenum">
              <a:t>17</a:t>
            </a:fld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Annotation-dedicated sub-society (archivist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609480" y="1440000"/>
          <a:ext cx="6820200" cy="220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0000"/>
                    <a:ext cx="682020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8" name=""/>
          <p:cNvSpPr/>
          <p:nvPr/>
        </p:nvSpPr>
        <p:spPr>
          <a:xfrm>
            <a:off x="154080" y="3933720"/>
            <a:ext cx="8951760" cy="25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ttached to &amp; exploits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local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nswers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to query as much as it can with local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Normally proposes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rchiving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One sub-behavior overwritten to refuse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rchiving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2280" y="380880"/>
            <a:ext cx="895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Existing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Archivist 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role (manage a local archiv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7524720" y="1413000"/>
            <a:ext cx="1008000" cy="1944360"/>
            <a:chOff x="7524720" y="1413000"/>
            <a:chExt cx="1008000" cy="1944360"/>
          </a:xfrm>
        </p:grpSpPr>
        <p:sp>
          <p:nvSpPr>
            <p:cNvPr id="951" name=""/>
            <p:cNvSpPr/>
            <p:nvPr/>
          </p:nvSpPr>
          <p:spPr>
            <a:xfrm>
              <a:off x="7871040" y="2625840"/>
              <a:ext cx="258840" cy="374400"/>
            </a:xfrm>
            <a:prstGeom prst="can">
              <a:avLst>
                <a:gd name="adj" fmla="val 38814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101800" y="2219400"/>
              <a:ext cx="390600" cy="2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"/>
            <p:cNvGrpSpPr/>
            <p:nvPr/>
          </p:nvGrpSpPr>
          <p:grpSpPr>
            <a:xfrm>
              <a:off x="7871040" y="2172240"/>
              <a:ext cx="258480" cy="374040"/>
              <a:chOff x="7871040" y="2172240"/>
              <a:chExt cx="258480" cy="374040"/>
            </a:xfrm>
          </p:grpSpPr>
          <p:sp>
            <p:nvSpPr>
              <p:cNvPr id="954" name=""/>
              <p:cNvSpPr/>
              <p:nvPr/>
            </p:nvSpPr>
            <p:spPr>
              <a:xfrm>
                <a:off x="7871040" y="2359440"/>
                <a:ext cx="258480" cy="186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7871040" y="2171880"/>
                <a:ext cx="258480" cy="186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8010000" y="2478600"/>
              <a:ext cx="0" cy="234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7998120" y="1797840"/>
              <a:ext cx="0" cy="32760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611840" y="1413000"/>
              <a:ext cx="880920" cy="3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medi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524720" y="3004560"/>
              <a:ext cx="100800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nno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rch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87290-EDE6-467D-8D6C-BE5B75E7CF40}" type="slidenum">
              <a:t>18</a:t>
            </a:fld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9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Annotation-dedicated sub-society (mediator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54080" y="4191120"/>
            <a:ext cx="89517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Contact point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for other sub-socie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Supervising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of tasks for query 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llocating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a new annotation to an archive (semantic dis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3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Notifying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arrival new annotations to trigger push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2" name=""/>
          <p:cNvGraphicFramePr/>
          <p:nvPr/>
        </p:nvGraphicFramePr>
        <p:xfrm>
          <a:off x="609480" y="1434960"/>
          <a:ext cx="6908760" cy="264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34960"/>
                    <a:ext cx="6908760" cy="26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4" name=""/>
          <p:cNvSpPr/>
          <p:nvPr/>
        </p:nvSpPr>
        <p:spPr>
          <a:xfrm>
            <a:off x="152280" y="355680"/>
            <a:ext cx="89521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288720" indent="-288720">
              <a:lnSpc>
                <a:spcPct val="13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Existing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Annotation Mediator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   (untouched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667640" y="1684440"/>
            <a:ext cx="1007640" cy="1871280"/>
            <a:chOff x="7667640" y="1684440"/>
            <a:chExt cx="1007640" cy="1871280"/>
          </a:xfrm>
        </p:grpSpPr>
        <p:sp>
          <p:nvSpPr>
            <p:cNvPr id="966" name=""/>
            <p:cNvSpPr/>
            <p:nvPr/>
          </p:nvSpPr>
          <p:spPr>
            <a:xfrm>
              <a:off x="8261640" y="2566080"/>
              <a:ext cx="4136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urier New"/>
                </a:rPr>
                <a:t>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8016840" y="2507760"/>
              <a:ext cx="273960" cy="463320"/>
              <a:chOff x="8016840" y="2507760"/>
              <a:chExt cx="273960" cy="463320"/>
            </a:xfrm>
          </p:grpSpPr>
          <p:sp>
            <p:nvSpPr>
              <p:cNvPr id="968" name=""/>
              <p:cNvSpPr/>
              <p:nvPr/>
            </p:nvSpPr>
            <p:spPr>
              <a:xfrm>
                <a:off x="8016840" y="2739600"/>
                <a:ext cx="273960" cy="231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8016840" y="2507400"/>
                <a:ext cx="273960" cy="231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 flipV="1">
              <a:off x="8151840" y="2160720"/>
              <a:ext cx="0" cy="2894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742520" y="1684440"/>
              <a:ext cx="93276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dire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facilit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7857000" y="3016440"/>
              <a:ext cx="164520" cy="2894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67640" y="3266280"/>
              <a:ext cx="4136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8164080" y="3016440"/>
              <a:ext cx="0" cy="2894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flipV="1">
              <a:off x="8286120" y="3016440"/>
              <a:ext cx="164520" cy="28944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961040" y="3266280"/>
              <a:ext cx="4136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244000" y="3266280"/>
              <a:ext cx="4136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4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3D40-25E4-479A-A08E-650EE12ED918}" type="slidenum">
              <a:t>19</a:t>
            </a:fld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7" dur="1" fill="hold"/>
                                  <p:tgtEl>
                                    <p:spTgt spid="9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Introduction and plan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640" y="444600"/>
            <a:ext cx="9077400" cy="2676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 fontScale="99000"/>
          </a:bodyPr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Research problems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 in ACACIA team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Organisations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need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to adapt to an ever changing world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cba"/>
                </a:solidFill>
                <a:latin typeface="Arial"/>
              </a:rPr>
              <a:t>Nervous system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: capture and diffuse knowledge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cba"/>
                </a:solidFill>
                <a:latin typeface="Arial"/>
              </a:rPr>
              <a:t>Persistent memory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: store and/or index knowledge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Study problematics of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organisational memori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Here: special case of external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organizational knowledge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391520" y="266760"/>
            <a:ext cx="1711080" cy="952200"/>
            <a:chOff x="7391520" y="266760"/>
            <a:chExt cx="1711080" cy="952200"/>
          </a:xfrm>
        </p:grpSpPr>
        <p:sp>
          <p:nvSpPr>
            <p:cNvPr id="109" name=""/>
            <p:cNvSpPr/>
            <p:nvPr/>
          </p:nvSpPr>
          <p:spPr>
            <a:xfrm>
              <a:off x="7391520" y="266760"/>
              <a:ext cx="1523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Introduc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8331120" y="380520"/>
              <a:ext cx="771480" cy="838440"/>
              <a:chOff x="8331120" y="380520"/>
              <a:chExt cx="771480" cy="838440"/>
            </a:xfrm>
          </p:grpSpPr>
          <p:sp>
            <p:nvSpPr>
              <p:cNvPr id="111" name=""/>
              <p:cNvSpPr/>
              <p:nvPr/>
            </p:nvSpPr>
            <p:spPr>
              <a:xfrm flipV="1">
                <a:off x="8940960" y="380520"/>
                <a:ext cx="0" cy="45720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559720" y="53316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 rot="16200000">
                <a:off x="8864640" y="457200"/>
                <a:ext cx="15192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8940960" y="761760"/>
                <a:ext cx="0" cy="45720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331120" y="53316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904000" y="2446200"/>
            <a:ext cx="1980720" cy="355680"/>
            <a:chOff x="5904000" y="2446200"/>
            <a:chExt cx="1980720" cy="355680"/>
          </a:xfrm>
        </p:grpSpPr>
        <p:grpSp>
          <p:nvGrpSpPr>
            <p:cNvPr id="117" name=""/>
            <p:cNvGrpSpPr/>
            <p:nvPr/>
          </p:nvGrpSpPr>
          <p:grpSpPr>
            <a:xfrm>
              <a:off x="5904000" y="2446200"/>
              <a:ext cx="152280" cy="152280"/>
              <a:chOff x="5904000" y="2446200"/>
              <a:chExt cx="152280" cy="152280"/>
            </a:xfrm>
          </p:grpSpPr>
          <p:sp>
            <p:nvSpPr>
              <p:cNvPr id="118" name=""/>
              <p:cNvSpPr/>
              <p:nvPr/>
            </p:nvSpPr>
            <p:spPr>
              <a:xfrm>
                <a:off x="5942160" y="2484360"/>
                <a:ext cx="75960" cy="759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904000" y="244620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79960" y="2522520"/>
              <a:ext cx="1904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You are he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4000" y="3645000"/>
            <a:ext cx="907740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rmAutofit/>
          </a:bodyPr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Brief summary of previous work on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CoMM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Corporate semantic Webs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as corporate memo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Multi-agent system as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management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New society of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wrappers / HTML scrapper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XML-based extraction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Wrapper society: roles and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147160" y="3327480"/>
            <a:ext cx="958680" cy="965160"/>
            <a:chOff x="8147160" y="3327480"/>
            <a:chExt cx="958680" cy="965160"/>
          </a:xfrm>
        </p:grpSpPr>
        <p:sp>
          <p:nvSpPr>
            <p:cNvPr id="123" name=""/>
            <p:cNvSpPr/>
            <p:nvPr/>
          </p:nvSpPr>
          <p:spPr>
            <a:xfrm>
              <a:off x="8147160" y="3327480"/>
              <a:ext cx="774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Pla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8334360" y="3454920"/>
              <a:ext cx="771480" cy="837720"/>
              <a:chOff x="8334360" y="3454920"/>
              <a:chExt cx="771480" cy="837720"/>
            </a:xfrm>
          </p:grpSpPr>
          <p:sp>
            <p:nvSpPr>
              <p:cNvPr id="125" name=""/>
              <p:cNvSpPr/>
              <p:nvPr/>
            </p:nvSpPr>
            <p:spPr>
              <a:xfrm flipV="1">
                <a:off x="8944200" y="345492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562960" y="360720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flipV="1" rot="16200000">
                <a:off x="8867880" y="353124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8944200" y="383580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334360" y="360720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E821-DDAF-41B1-AB91-525DB542A19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62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63" dur="1" fill="hold"/>
                                  <p:tgtEl>
                                    <p:spTgt spid="1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Wrapping interaction protocol (acquaintance graph and interactions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36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1494000" y="1208160"/>
            <a:ext cx="6126120" cy="322200"/>
            <a:chOff x="1494000" y="1208160"/>
            <a:chExt cx="6126120" cy="322200"/>
          </a:xfrm>
        </p:grpSpPr>
        <p:sp>
          <p:nvSpPr>
            <p:cNvPr id="981" name=""/>
            <p:cNvSpPr/>
            <p:nvPr/>
          </p:nvSpPr>
          <p:spPr>
            <a:xfrm>
              <a:off x="1494000" y="1208160"/>
              <a:ext cx="1225440" cy="32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John: 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394680" y="1208160"/>
              <a:ext cx="1225440" cy="322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localYP: D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19440" y="1370160"/>
              <a:ext cx="3675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"/>
          <p:cNvGrpSpPr/>
          <p:nvPr/>
        </p:nvGrpSpPr>
        <p:grpSpPr>
          <a:xfrm>
            <a:off x="2597040" y="1530360"/>
            <a:ext cx="3126960" cy="1852560"/>
            <a:chOff x="2597040" y="1530360"/>
            <a:chExt cx="3126960" cy="1852560"/>
          </a:xfrm>
        </p:grpSpPr>
        <p:sp>
          <p:nvSpPr>
            <p:cNvPr id="985" name=""/>
            <p:cNvSpPr/>
            <p:nvPr/>
          </p:nvSpPr>
          <p:spPr>
            <a:xfrm>
              <a:off x="4066920" y="2898720"/>
              <a:ext cx="1657080" cy="48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localWrapperMgr: W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97040" y="1530360"/>
              <a:ext cx="146988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071800" y="1538280"/>
            <a:ext cx="0" cy="30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106720" y="5073480"/>
            <a:ext cx="3330360" cy="1668240"/>
            <a:chOff x="2106720" y="5073480"/>
            <a:chExt cx="3330360" cy="1668240"/>
          </a:xfrm>
        </p:grpSpPr>
        <p:sp>
          <p:nvSpPr>
            <p:cNvPr id="989" name=""/>
            <p:cNvSpPr/>
            <p:nvPr/>
          </p:nvSpPr>
          <p:spPr>
            <a:xfrm>
              <a:off x="4067280" y="5671800"/>
              <a:ext cx="1369800" cy="106992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75200" y="6065640"/>
              <a:ext cx="12906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B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'annotatio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06720" y="5073480"/>
              <a:ext cx="1960560" cy="104760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18520" y="5284440"/>
              <a:ext cx="103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it-IT" sz="1600" spc="-1" strike="noStrike">
                  <a:solidFill>
                    <a:srgbClr val="003366"/>
                  </a:solidFill>
                  <a:latin typeface="Arial"/>
                </a:rPr>
                <a:t>(10:creat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2931120" y="431640"/>
            <a:ext cx="3464640" cy="1208160"/>
            <a:chOff x="2931120" y="431640"/>
            <a:chExt cx="3464640" cy="1208160"/>
          </a:xfrm>
        </p:grpSpPr>
        <p:grpSp>
          <p:nvGrpSpPr>
            <p:cNvPr id="994" name=""/>
            <p:cNvGrpSpPr/>
            <p:nvPr/>
          </p:nvGrpSpPr>
          <p:grpSpPr>
            <a:xfrm>
              <a:off x="2963520" y="1288800"/>
              <a:ext cx="539640" cy="42840"/>
              <a:chOff x="2963520" y="1288800"/>
              <a:chExt cx="539640" cy="42840"/>
            </a:xfrm>
          </p:grpSpPr>
          <p:sp>
            <p:nvSpPr>
              <p:cNvPr id="995" name=""/>
              <p:cNvSpPr/>
              <p:nvPr/>
            </p:nvSpPr>
            <p:spPr>
              <a:xfrm>
                <a:off x="2963520" y="1323360"/>
                <a:ext cx="527040" cy="360"/>
              </a:xfrm>
              <a:prstGeom prst="line">
                <a:avLst/>
              </a:prstGeom>
              <a:ln w="2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 flipV="1">
                <a:off x="3368520" y="1288800"/>
                <a:ext cx="121680" cy="3456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3368520" y="1323360"/>
                <a:ext cx="121680" cy="36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3369240" y="1331640"/>
                <a:ext cx="1224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 flipV="1">
                <a:off x="3381480" y="1288800"/>
                <a:ext cx="121680" cy="3456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>
              <a:off x="2931120" y="1104480"/>
              <a:ext cx="902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: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983400" y="1420560"/>
              <a:ext cx="744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2: a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3971160" y="1425240"/>
              <a:ext cx="559080" cy="41040"/>
              <a:chOff x="3971160" y="1425240"/>
              <a:chExt cx="559080" cy="41040"/>
            </a:xfrm>
          </p:grpSpPr>
          <p:sp>
            <p:nvSpPr>
              <p:cNvPr id="1003" name=""/>
              <p:cNvSpPr/>
              <p:nvPr/>
            </p:nvSpPr>
            <p:spPr>
              <a:xfrm flipH="1">
                <a:off x="3971160" y="1425240"/>
                <a:ext cx="559080" cy="360"/>
              </a:xfrm>
              <a:prstGeom prst="line">
                <a:avLst/>
              </a:prstGeom>
              <a:ln w="2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971520" y="1425240"/>
                <a:ext cx="120600" cy="3312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971520" y="1425240"/>
                <a:ext cx="120600" cy="3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971520" y="1433160"/>
                <a:ext cx="120600" cy="3312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002120" y="1433880"/>
                <a:ext cx="1224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8" name=""/>
            <p:cNvSpPr/>
            <p:nvPr/>
          </p:nvSpPr>
          <p:spPr>
            <a:xfrm>
              <a:off x="5356800" y="1412640"/>
              <a:ext cx="790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3: in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9" name=""/>
            <p:cNvGrpSpPr/>
            <p:nvPr/>
          </p:nvGrpSpPr>
          <p:grpSpPr>
            <a:xfrm>
              <a:off x="5319360" y="1425240"/>
              <a:ext cx="558720" cy="41040"/>
              <a:chOff x="5319360" y="1425240"/>
              <a:chExt cx="558720" cy="41040"/>
            </a:xfrm>
          </p:grpSpPr>
          <p:sp>
            <p:nvSpPr>
              <p:cNvPr id="1010" name=""/>
              <p:cNvSpPr/>
              <p:nvPr/>
            </p:nvSpPr>
            <p:spPr>
              <a:xfrm flipH="1">
                <a:off x="5319360" y="1425240"/>
                <a:ext cx="558720" cy="360"/>
              </a:xfrm>
              <a:prstGeom prst="line">
                <a:avLst/>
              </a:prstGeom>
              <a:ln w="25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319360" y="1425240"/>
                <a:ext cx="120600" cy="3312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319360" y="1425240"/>
                <a:ext cx="120600" cy="3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19360" y="1433160"/>
                <a:ext cx="120600" cy="3312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349960" y="1433880"/>
                <a:ext cx="12240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 flipH="1" flipV="1">
              <a:off x="5612760" y="928440"/>
              <a:ext cx="106200" cy="4982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4371840" y="936360"/>
              <a:ext cx="139680" cy="4809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3132000" y="936000"/>
              <a:ext cx="210960" cy="189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3039480" y="431640"/>
              <a:ext cx="3356280" cy="765720"/>
              <a:chOff x="3039480" y="431640"/>
              <a:chExt cx="3356280" cy="765720"/>
            </a:xfrm>
          </p:grpSpPr>
          <p:sp>
            <p:nvSpPr>
              <p:cNvPr id="1019" name=""/>
              <p:cNvSpPr/>
              <p:nvPr/>
            </p:nvSpPr>
            <p:spPr>
              <a:xfrm>
                <a:off x="3039480" y="1060200"/>
                <a:ext cx="32760" cy="13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044520" y="434520"/>
                <a:ext cx="3351240" cy="615960"/>
              </a:xfrm>
              <a:custGeom>
                <a:avLst/>
                <a:gdLst/>
                <a:ahLst/>
                <a:rect l="l" t="t" r="r" b="b"/>
                <a:pathLst>
                  <a:path w="4222" h="971">
                    <a:moveTo>
                      <a:pt x="0" y="0"/>
                    </a:moveTo>
                    <a:lnTo>
                      <a:pt x="4070" y="0"/>
                    </a:lnTo>
                    <a:lnTo>
                      <a:pt x="4222" y="154"/>
                    </a:lnTo>
                    <a:lnTo>
                      <a:pt x="4222" y="971"/>
                    </a:lnTo>
                    <a:lnTo>
                      <a:pt x="0" y="9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273360" y="434520"/>
                <a:ext cx="122400" cy="100080"/>
              </a:xfrm>
              <a:custGeom>
                <a:avLst/>
                <a:gdLst/>
                <a:ahLst/>
                <a:rect l="l" t="t" r="r" b="b"/>
                <a:pathLst>
                  <a:path w="155" h="157">
                    <a:moveTo>
                      <a:pt x="0" y="0"/>
                    </a:moveTo>
                    <a:lnTo>
                      <a:pt x="0" y="157"/>
                    </a:lnTo>
                    <a:lnTo>
                      <a:pt x="155" y="157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85560" y="456840"/>
                <a:ext cx="4852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607560" y="4316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704400" y="482400"/>
                <a:ext cx="709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780720" y="4586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784320" y="456840"/>
                <a:ext cx="203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002840" y="4316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001400" y="45684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045320" y="456840"/>
                <a:ext cx="4230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500000" y="4316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084480" y="591840"/>
                <a:ext cx="450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cont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569760" y="566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706560" y="591840"/>
                <a:ext cx="18889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Search for WM/Search Result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739840" y="566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85560" y="726840"/>
                <a:ext cx="9043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language  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061880" y="72684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107960" y="726840"/>
                <a:ext cx="224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L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349160" y="701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085200" y="863280"/>
                <a:ext cx="8208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ontology   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971160" y="86328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015800" y="86328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168080" y="86328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213080" y="86328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476240" y="8395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2668680" y="1533600"/>
            <a:ext cx="6213240" cy="3298320"/>
            <a:chOff x="2668680" y="1533600"/>
            <a:chExt cx="6213240" cy="3298320"/>
          </a:xfrm>
        </p:grpSpPr>
        <p:sp>
          <p:nvSpPr>
            <p:cNvPr id="1046" name=""/>
            <p:cNvSpPr/>
            <p:nvPr/>
          </p:nvSpPr>
          <p:spPr>
            <a:xfrm flipV="1">
              <a:off x="2668680" y="3360600"/>
              <a:ext cx="4267080" cy="14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935760" y="1533600"/>
              <a:ext cx="0" cy="18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6826680" y="2781000"/>
              <a:ext cx="64440" cy="366840"/>
              <a:chOff x="6826680" y="2781000"/>
              <a:chExt cx="64440" cy="366840"/>
            </a:xfrm>
          </p:grpSpPr>
          <p:sp>
            <p:nvSpPr>
              <p:cNvPr id="1049" name=""/>
              <p:cNvSpPr/>
              <p:nvPr/>
            </p:nvSpPr>
            <p:spPr>
              <a:xfrm flipH="1" flipV="1">
                <a:off x="6890400" y="2781000"/>
                <a:ext cx="720" cy="366840"/>
              </a:xfrm>
              <a:prstGeom prst="line">
                <a:avLst/>
              </a:prstGeom>
              <a:ln w="2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839280" y="2781360"/>
                <a:ext cx="51840" cy="7920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890400" y="2781360"/>
                <a:ext cx="720" cy="7920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6826680" y="2781360"/>
                <a:ext cx="51840" cy="7920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877440" y="2801160"/>
                <a:ext cx="0" cy="80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4" name=""/>
            <p:cNvSpPr/>
            <p:nvPr/>
          </p:nvSpPr>
          <p:spPr>
            <a:xfrm>
              <a:off x="6946200" y="2887560"/>
              <a:ext cx="10155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1: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567680" y="4061160"/>
              <a:ext cx="523440" cy="203400"/>
              <a:chOff x="4567680" y="4061160"/>
              <a:chExt cx="523440" cy="203400"/>
            </a:xfrm>
          </p:grpSpPr>
          <p:sp>
            <p:nvSpPr>
              <p:cNvPr id="1056" name=""/>
              <p:cNvSpPr/>
              <p:nvPr/>
            </p:nvSpPr>
            <p:spPr>
              <a:xfrm flipH="1">
                <a:off x="4568040" y="4061160"/>
                <a:ext cx="523080" cy="195840"/>
              </a:xfrm>
              <a:prstGeom prst="line">
                <a:avLst/>
              </a:prstGeom>
              <a:ln w="2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4567680" y="4246920"/>
                <a:ext cx="125280" cy="972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567680" y="4214880"/>
                <a:ext cx="113400" cy="417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V="1">
                <a:off x="4570560" y="4254480"/>
                <a:ext cx="125280" cy="1008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4599720" y="4211640"/>
                <a:ext cx="114480" cy="428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"/>
            <p:cNvGrpSpPr/>
            <p:nvPr/>
          </p:nvGrpSpPr>
          <p:grpSpPr>
            <a:xfrm>
              <a:off x="6037560" y="3548160"/>
              <a:ext cx="525240" cy="197280"/>
              <a:chOff x="6037560" y="3548160"/>
              <a:chExt cx="525240" cy="197280"/>
            </a:xfrm>
          </p:grpSpPr>
          <p:sp>
            <p:nvSpPr>
              <p:cNvPr id="1062" name=""/>
              <p:cNvSpPr/>
              <p:nvPr/>
            </p:nvSpPr>
            <p:spPr>
              <a:xfrm flipH="1">
                <a:off x="6037560" y="3548160"/>
                <a:ext cx="525240" cy="190080"/>
              </a:xfrm>
              <a:prstGeom prst="line">
                <a:avLst/>
              </a:prstGeom>
              <a:ln w="25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6037560" y="3728160"/>
                <a:ext cx="124560" cy="972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6037560" y="3697200"/>
                <a:ext cx="113400" cy="4068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6040080" y="3735360"/>
                <a:ext cx="124920" cy="1008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V="1">
                <a:off x="6069240" y="3693960"/>
                <a:ext cx="115200" cy="4176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4758480" y="4156200"/>
              <a:ext cx="857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2: a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285600" y="3614760"/>
              <a:ext cx="902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3: in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 flipV="1">
              <a:off x="7232400" y="3141720"/>
              <a:ext cx="903240" cy="7747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 flipV="1">
              <a:off x="6233760" y="3675240"/>
              <a:ext cx="122040" cy="2412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4856040" y="4149720"/>
              <a:ext cx="1293840" cy="79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6153120" y="3915000"/>
              <a:ext cx="2728800" cy="539640"/>
              <a:chOff x="6153120" y="3915000"/>
              <a:chExt cx="2728800" cy="539640"/>
            </a:xfrm>
          </p:grpSpPr>
          <p:sp>
            <p:nvSpPr>
              <p:cNvPr id="1073" name=""/>
              <p:cNvSpPr/>
              <p:nvPr/>
            </p:nvSpPr>
            <p:spPr>
              <a:xfrm>
                <a:off x="6153120" y="3919680"/>
                <a:ext cx="2728800" cy="534960"/>
              </a:xfrm>
              <a:custGeom>
                <a:avLst/>
                <a:gdLst/>
                <a:ahLst/>
                <a:rect l="l" t="t" r="r" b="b"/>
                <a:pathLst>
                  <a:path w="3439" h="1011">
                    <a:moveTo>
                      <a:pt x="0" y="0"/>
                    </a:moveTo>
                    <a:lnTo>
                      <a:pt x="3287" y="0"/>
                    </a:lnTo>
                    <a:lnTo>
                      <a:pt x="3439" y="152"/>
                    </a:lnTo>
                    <a:lnTo>
                      <a:pt x="3439" y="1011"/>
                    </a:lnTo>
                    <a:lnTo>
                      <a:pt x="0" y="1011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762760" y="391968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52" h="152">
                    <a:moveTo>
                      <a:pt x="0" y="0"/>
                    </a:moveTo>
                    <a:lnTo>
                      <a:pt x="0" y="152"/>
                    </a:lnTo>
                    <a:lnTo>
                      <a:pt x="152" y="15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194160" y="3936960"/>
                <a:ext cx="4852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16160" y="39164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811920" y="3935520"/>
                <a:ext cx="203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032240" y="39150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032240" y="393552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077600" y="3935520"/>
                <a:ext cx="4230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530840" y="39150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93080" y="4049640"/>
                <a:ext cx="450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cont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678360" y="40291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812640" y="4049640"/>
                <a:ext cx="18766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search for AM} /Search Result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8830800" y="40291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193800" y="4164120"/>
                <a:ext cx="5889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languag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828840" y="41436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832440" y="4164120"/>
                <a:ext cx="2811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133760" y="416412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178400" y="4164120"/>
                <a:ext cx="224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L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421040" y="41436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193800" y="4278240"/>
                <a:ext cx="512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ontolog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746400" y="42577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811920" y="427824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076520" y="427824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121160" y="427824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272000" y="427824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318440" y="427824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83040" y="42577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0" name=""/>
          <p:cNvGrpSpPr/>
          <p:nvPr/>
        </p:nvGrpSpPr>
        <p:grpSpPr>
          <a:xfrm>
            <a:off x="471600" y="2063520"/>
            <a:ext cx="3011760" cy="4332240"/>
            <a:chOff x="471600" y="2063520"/>
            <a:chExt cx="3011760" cy="4332240"/>
          </a:xfrm>
        </p:grpSpPr>
        <p:grpSp>
          <p:nvGrpSpPr>
            <p:cNvPr id="1101" name=""/>
            <p:cNvGrpSpPr/>
            <p:nvPr/>
          </p:nvGrpSpPr>
          <p:grpSpPr>
            <a:xfrm>
              <a:off x="2130480" y="2707920"/>
              <a:ext cx="64800" cy="366840"/>
              <a:chOff x="2130480" y="2707920"/>
              <a:chExt cx="64800" cy="366840"/>
            </a:xfrm>
          </p:grpSpPr>
          <p:sp>
            <p:nvSpPr>
              <p:cNvPr id="1102" name=""/>
              <p:cNvSpPr/>
              <p:nvPr/>
            </p:nvSpPr>
            <p:spPr>
              <a:xfrm flipH="1">
                <a:off x="2131200" y="2707920"/>
                <a:ext cx="1440" cy="366840"/>
              </a:xfrm>
              <a:prstGeom prst="line">
                <a:avLst/>
              </a:prstGeom>
              <a:ln w="2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V="1">
                <a:off x="2130480" y="2995560"/>
                <a:ext cx="52200" cy="7884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V="1">
                <a:off x="2130480" y="2995200"/>
                <a:ext cx="1080" cy="7920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2143080" y="2995920"/>
                <a:ext cx="52200" cy="7884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V="1">
                <a:off x="2144160" y="2974680"/>
                <a:ext cx="720" cy="80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7" name=""/>
            <p:cNvSpPr/>
            <p:nvPr/>
          </p:nvSpPr>
          <p:spPr>
            <a:xfrm>
              <a:off x="2184840" y="2776680"/>
              <a:ext cx="902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8: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1938240" y="2063520"/>
              <a:ext cx="64440" cy="368280"/>
              <a:chOff x="1938240" y="2063520"/>
              <a:chExt cx="64440" cy="368280"/>
            </a:xfrm>
          </p:grpSpPr>
          <p:sp>
            <p:nvSpPr>
              <p:cNvPr id="1109" name=""/>
              <p:cNvSpPr/>
              <p:nvPr/>
            </p:nvSpPr>
            <p:spPr>
              <a:xfrm flipH="1" flipV="1">
                <a:off x="2001960" y="2063520"/>
                <a:ext cx="720" cy="368280"/>
              </a:xfrm>
              <a:prstGeom prst="line">
                <a:avLst/>
              </a:prstGeom>
              <a:ln w="2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1950840" y="2063880"/>
                <a:ext cx="51840" cy="795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2001960" y="2063880"/>
                <a:ext cx="720" cy="795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1938240" y="2063880"/>
                <a:ext cx="51840" cy="795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89000" y="2084040"/>
                <a:ext cx="0" cy="8064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4" name=""/>
            <p:cNvSpPr/>
            <p:nvPr/>
          </p:nvSpPr>
          <p:spPr>
            <a:xfrm>
              <a:off x="1235160" y="2206800"/>
              <a:ext cx="744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9: a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958680" y="2467080"/>
              <a:ext cx="1037880" cy="10000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712440" y="2854440"/>
              <a:ext cx="1410840" cy="144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836280" y="3466800"/>
              <a:ext cx="122040" cy="23353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2440" y="2886120"/>
              <a:ext cx="0" cy="28987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9" name=""/>
            <p:cNvGrpSpPr/>
            <p:nvPr/>
          </p:nvGrpSpPr>
          <p:grpSpPr>
            <a:xfrm>
              <a:off x="471600" y="5800680"/>
              <a:ext cx="3011760" cy="595080"/>
              <a:chOff x="471600" y="5800680"/>
              <a:chExt cx="3011760" cy="595080"/>
            </a:xfrm>
          </p:grpSpPr>
          <p:sp>
            <p:nvSpPr>
              <p:cNvPr id="1120" name=""/>
              <p:cNvSpPr/>
              <p:nvPr/>
            </p:nvSpPr>
            <p:spPr>
              <a:xfrm>
                <a:off x="471600" y="5806080"/>
                <a:ext cx="3011400" cy="589680"/>
              </a:xfrm>
              <a:custGeom>
                <a:avLst/>
                <a:gdLst/>
                <a:ahLst/>
                <a:rect l="l" t="t" r="r" b="b"/>
                <a:pathLst>
                  <a:path w="3439" h="1011">
                    <a:moveTo>
                      <a:pt x="0" y="0"/>
                    </a:moveTo>
                    <a:lnTo>
                      <a:pt x="3287" y="0"/>
                    </a:lnTo>
                    <a:lnTo>
                      <a:pt x="3439" y="152"/>
                    </a:lnTo>
                    <a:lnTo>
                      <a:pt x="3439" y="1011"/>
                    </a:lnTo>
                    <a:lnTo>
                      <a:pt x="0" y="1011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351960" y="5806080"/>
                <a:ext cx="131400" cy="88920"/>
              </a:xfrm>
              <a:custGeom>
                <a:avLst/>
                <a:gdLst/>
                <a:ahLst/>
                <a:rect l="l" t="t" r="r" b="b"/>
                <a:pathLst>
                  <a:path w="152" h="152">
                    <a:moveTo>
                      <a:pt x="0" y="0"/>
                    </a:moveTo>
                    <a:lnTo>
                      <a:pt x="0" y="152"/>
                    </a:lnTo>
                    <a:lnTo>
                      <a:pt x="152" y="15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16240" y="5825160"/>
                <a:ext cx="4852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093320" y="58024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198440" y="5823360"/>
                <a:ext cx="203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441800" y="5800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442520" y="582336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491840" y="5823360"/>
                <a:ext cx="4230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91880" y="5800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16240" y="5949360"/>
                <a:ext cx="450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cont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051560" y="5926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200240" y="5949360"/>
                <a:ext cx="17974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XSLT, {URL} /Wrapper Done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335760" y="5926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16240" y="6075720"/>
                <a:ext cx="5889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languag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217520" y="6052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222560" y="6075720"/>
                <a:ext cx="4564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MM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62920" y="607572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12600" y="6075720"/>
                <a:ext cx="261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D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119680" y="6052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16600" y="6201360"/>
                <a:ext cx="512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ontolog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126080" y="6178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199880" y="6201360"/>
                <a:ext cx="4564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MM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741320" y="620136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789920" y="6201360"/>
                <a:ext cx="2476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082960" y="6178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2681280" y="4551480"/>
            <a:ext cx="5651640" cy="1365120"/>
            <a:chOff x="2681280" y="4551480"/>
            <a:chExt cx="5651640" cy="1365120"/>
          </a:xfrm>
        </p:grpSpPr>
        <p:sp>
          <p:nvSpPr>
            <p:cNvPr id="1146" name=""/>
            <p:cNvSpPr/>
            <p:nvPr/>
          </p:nvSpPr>
          <p:spPr>
            <a:xfrm>
              <a:off x="6600960" y="4667040"/>
              <a:ext cx="1225440" cy="33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localAM: 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681280" y="4844880"/>
              <a:ext cx="391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3454560" y="4726080"/>
              <a:ext cx="528120" cy="79200"/>
              <a:chOff x="3454560" y="4726080"/>
              <a:chExt cx="528120" cy="79200"/>
            </a:xfrm>
          </p:grpSpPr>
          <p:sp>
            <p:nvSpPr>
              <p:cNvPr id="1149" name=""/>
              <p:cNvSpPr/>
              <p:nvPr/>
            </p:nvSpPr>
            <p:spPr>
              <a:xfrm>
                <a:off x="3454560" y="4789440"/>
                <a:ext cx="515880" cy="720"/>
              </a:xfrm>
              <a:prstGeom prst="line">
                <a:avLst/>
              </a:prstGeom>
              <a:ln w="2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3850920" y="4726080"/>
                <a:ext cx="119160" cy="6336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3850920" y="4789440"/>
                <a:ext cx="119160" cy="72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852000" y="4805280"/>
                <a:ext cx="1198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3863520" y="4726080"/>
                <a:ext cx="119160" cy="6336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3577680" y="4551480"/>
              <a:ext cx="10155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4: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5" name=""/>
            <p:cNvGrpSpPr/>
            <p:nvPr/>
          </p:nvGrpSpPr>
          <p:grpSpPr>
            <a:xfrm>
              <a:off x="4462560" y="4898880"/>
              <a:ext cx="558720" cy="42840"/>
              <a:chOff x="4462560" y="4898880"/>
              <a:chExt cx="558720" cy="42840"/>
            </a:xfrm>
          </p:grpSpPr>
          <p:sp>
            <p:nvSpPr>
              <p:cNvPr id="1156" name=""/>
              <p:cNvSpPr/>
              <p:nvPr/>
            </p:nvSpPr>
            <p:spPr>
              <a:xfrm flipH="1">
                <a:off x="4462560" y="4898880"/>
                <a:ext cx="558720" cy="360"/>
              </a:xfrm>
              <a:prstGeom prst="line">
                <a:avLst/>
              </a:prstGeom>
              <a:ln w="2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462560" y="4898880"/>
                <a:ext cx="120600" cy="345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462560" y="4898880"/>
                <a:ext cx="120600" cy="3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462560" y="4907160"/>
                <a:ext cx="120600" cy="3456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493160" y="4907880"/>
                <a:ext cx="1224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1" name=""/>
            <p:cNvGrpSpPr/>
            <p:nvPr/>
          </p:nvGrpSpPr>
          <p:grpSpPr>
            <a:xfrm>
              <a:off x="5810400" y="4898880"/>
              <a:ext cx="558720" cy="42840"/>
              <a:chOff x="5810400" y="4898880"/>
              <a:chExt cx="558720" cy="42840"/>
            </a:xfrm>
          </p:grpSpPr>
          <p:sp>
            <p:nvSpPr>
              <p:cNvPr id="1162" name=""/>
              <p:cNvSpPr/>
              <p:nvPr/>
            </p:nvSpPr>
            <p:spPr>
              <a:xfrm flipH="1">
                <a:off x="5810400" y="4898880"/>
                <a:ext cx="558720" cy="360"/>
              </a:xfrm>
              <a:prstGeom prst="line">
                <a:avLst/>
              </a:prstGeom>
              <a:ln w="25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10400" y="4898880"/>
                <a:ext cx="120600" cy="345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10400" y="4898880"/>
                <a:ext cx="120600" cy="3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10400" y="4907160"/>
                <a:ext cx="120600" cy="345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41000" y="4907880"/>
                <a:ext cx="122400" cy="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7" name=""/>
            <p:cNvSpPr/>
            <p:nvPr/>
          </p:nvSpPr>
          <p:spPr>
            <a:xfrm flipH="1" flipV="1">
              <a:off x="6336000" y="5055840"/>
              <a:ext cx="490320" cy="3222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 flipV="1">
              <a:off x="4988160" y="5056200"/>
              <a:ext cx="612720" cy="4032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flipV="1">
              <a:off x="3640320" y="4797000"/>
              <a:ext cx="1960560" cy="7254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0" name=""/>
            <p:cNvGrpSpPr/>
            <p:nvPr/>
          </p:nvGrpSpPr>
          <p:grpSpPr>
            <a:xfrm>
              <a:off x="5604120" y="5376960"/>
              <a:ext cx="2728800" cy="539640"/>
              <a:chOff x="5604120" y="5376960"/>
              <a:chExt cx="2728800" cy="539640"/>
            </a:xfrm>
          </p:grpSpPr>
          <p:sp>
            <p:nvSpPr>
              <p:cNvPr id="1171" name=""/>
              <p:cNvSpPr/>
              <p:nvPr/>
            </p:nvSpPr>
            <p:spPr>
              <a:xfrm>
                <a:off x="5604120" y="5381640"/>
                <a:ext cx="2728800" cy="534960"/>
              </a:xfrm>
              <a:custGeom>
                <a:avLst/>
                <a:gdLst/>
                <a:ahLst/>
                <a:rect l="l" t="t" r="r" b="b"/>
                <a:pathLst>
                  <a:path w="3439" h="1011">
                    <a:moveTo>
                      <a:pt x="0" y="0"/>
                    </a:moveTo>
                    <a:lnTo>
                      <a:pt x="3287" y="0"/>
                    </a:lnTo>
                    <a:lnTo>
                      <a:pt x="3439" y="152"/>
                    </a:lnTo>
                    <a:lnTo>
                      <a:pt x="3439" y="1011"/>
                    </a:lnTo>
                    <a:lnTo>
                      <a:pt x="0" y="1011"/>
                    </a:lnTo>
                    <a:lnTo>
                      <a:pt x="0" y="0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213760" y="53816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52" h="152">
                    <a:moveTo>
                      <a:pt x="0" y="0"/>
                    </a:moveTo>
                    <a:lnTo>
                      <a:pt x="0" y="152"/>
                    </a:lnTo>
                    <a:lnTo>
                      <a:pt x="152" y="152"/>
                    </a:lnTo>
                  </a:path>
                </a:pathLst>
              </a:custGeom>
              <a:noFill/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644800" y="5398920"/>
                <a:ext cx="4852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167160" y="53784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62920" y="5397480"/>
                <a:ext cx="203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483240" y="537696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483240" y="539748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528600" y="5397480"/>
                <a:ext cx="4230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981480" y="537696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644080" y="5511600"/>
                <a:ext cx="450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cont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129000" y="54910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265080" y="5511600"/>
                <a:ext cx="1346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Register AWA /Done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715160" y="54910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644440" y="5626080"/>
                <a:ext cx="5889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language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279840" y="560556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283440" y="5626080"/>
                <a:ext cx="2811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84760" y="562608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629040" y="5626080"/>
                <a:ext cx="224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L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872040" y="560556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44440" y="5740200"/>
                <a:ext cx="512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ontolog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97400" y="5719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262920" y="574020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27520" y="574020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72160" y="574020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723000" y="574020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769080" y="574020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034040" y="57196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4704480" y="4941720"/>
              <a:ext cx="857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5: a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641560" y="4949640"/>
              <a:ext cx="9028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6: in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2774160" y="2396520"/>
            <a:ext cx="942840" cy="286560"/>
            <a:chOff x="2774160" y="2396520"/>
            <a:chExt cx="942840" cy="286560"/>
          </a:xfrm>
        </p:grpSpPr>
        <p:sp>
          <p:nvSpPr>
            <p:cNvPr id="1201" name=""/>
            <p:cNvSpPr/>
            <p:nvPr/>
          </p:nvSpPr>
          <p:spPr>
            <a:xfrm>
              <a:off x="2774160" y="2463840"/>
              <a:ext cx="790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7: in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"/>
            <p:cNvGrpSpPr/>
            <p:nvPr/>
          </p:nvGrpSpPr>
          <p:grpSpPr>
            <a:xfrm>
              <a:off x="3435840" y="2396520"/>
              <a:ext cx="281160" cy="246600"/>
              <a:chOff x="3435840" y="2396520"/>
              <a:chExt cx="281160" cy="246600"/>
            </a:xfrm>
          </p:grpSpPr>
          <p:sp>
            <p:nvSpPr>
              <p:cNvPr id="1203" name=""/>
              <p:cNvSpPr/>
              <p:nvPr/>
            </p:nvSpPr>
            <p:spPr>
              <a:xfrm flipH="1" flipV="1">
                <a:off x="3443400" y="2396520"/>
                <a:ext cx="273600" cy="246600"/>
              </a:xfrm>
              <a:prstGeom prst="line">
                <a:avLst/>
              </a:prstGeom>
              <a:ln w="25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44120" y="2396520"/>
                <a:ext cx="24120" cy="9180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44120" y="2396520"/>
                <a:ext cx="58680" cy="5364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435840" y="2405520"/>
                <a:ext cx="24120" cy="921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3449880" y="2419920"/>
                <a:ext cx="60120" cy="5436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8" name=""/>
          <p:cNvGrpSpPr/>
          <p:nvPr/>
        </p:nvGrpSpPr>
        <p:grpSpPr>
          <a:xfrm>
            <a:off x="2261160" y="1557360"/>
            <a:ext cx="4507560" cy="946800"/>
            <a:chOff x="2261160" y="1557360"/>
            <a:chExt cx="4507560" cy="946800"/>
          </a:xfrm>
        </p:grpSpPr>
        <p:grpSp>
          <p:nvGrpSpPr>
            <p:cNvPr id="1209" name=""/>
            <p:cNvGrpSpPr/>
            <p:nvPr/>
          </p:nvGrpSpPr>
          <p:grpSpPr>
            <a:xfrm>
              <a:off x="2877120" y="1689120"/>
              <a:ext cx="240120" cy="264960"/>
              <a:chOff x="2877120" y="1689120"/>
              <a:chExt cx="240120" cy="264960"/>
            </a:xfrm>
          </p:grpSpPr>
          <p:sp>
            <p:nvSpPr>
              <p:cNvPr id="1210" name=""/>
              <p:cNvSpPr/>
              <p:nvPr/>
            </p:nvSpPr>
            <p:spPr>
              <a:xfrm>
                <a:off x="2877120" y="1689120"/>
                <a:ext cx="234000" cy="256320"/>
              </a:xfrm>
              <a:prstGeom prst="line">
                <a:avLst/>
              </a:prstGeom>
              <a:ln w="25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 flipV="1">
                <a:off x="3096360" y="1850040"/>
                <a:ext cx="15480" cy="9432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 flipV="1">
                <a:off x="3057120" y="1886040"/>
                <a:ext cx="54360" cy="5868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048120" y="1894680"/>
                <a:ext cx="54720" cy="59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H="1" flipV="1">
                <a:off x="3101760" y="1856160"/>
                <a:ext cx="15480" cy="94320"/>
              </a:xfrm>
              <a:prstGeom prst="line">
                <a:avLst/>
              </a:prstGeom>
              <a:ln w="68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2989800" y="1557360"/>
              <a:ext cx="902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4: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61160" y="1892520"/>
              <a:ext cx="744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5: ag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7" name=""/>
            <p:cNvGrpSpPr/>
            <p:nvPr/>
          </p:nvGrpSpPr>
          <p:grpSpPr>
            <a:xfrm>
              <a:off x="2835000" y="1827360"/>
              <a:ext cx="266760" cy="260280"/>
              <a:chOff x="2835000" y="1827360"/>
              <a:chExt cx="266760" cy="260280"/>
            </a:xfrm>
          </p:grpSpPr>
          <p:sp>
            <p:nvSpPr>
              <p:cNvPr id="1218" name=""/>
              <p:cNvSpPr/>
              <p:nvPr/>
            </p:nvSpPr>
            <p:spPr>
              <a:xfrm flipH="1" flipV="1">
                <a:off x="2843280" y="1827720"/>
                <a:ext cx="258480" cy="259920"/>
              </a:xfrm>
              <a:prstGeom prst="line">
                <a:avLst/>
              </a:prstGeom>
              <a:ln w="252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844000" y="1827360"/>
                <a:ext cx="18720" cy="9288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844000" y="1827360"/>
                <a:ext cx="55080" cy="5688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835000" y="1836360"/>
                <a:ext cx="18720" cy="92880"/>
              </a:xfrm>
              <a:prstGeom prst="line">
                <a:avLst/>
              </a:prstGeom>
              <a:ln w="68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847960" y="1851120"/>
                <a:ext cx="56520" cy="568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3" name=""/>
            <p:cNvSpPr/>
            <p:nvPr/>
          </p:nvSpPr>
          <p:spPr>
            <a:xfrm flipV="1">
              <a:off x="3708000" y="2386080"/>
              <a:ext cx="68400" cy="1080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041280" y="2063880"/>
              <a:ext cx="62856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188880" y="1928880"/>
              <a:ext cx="51588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3712320" y="1835280"/>
              <a:ext cx="3056400" cy="668880"/>
              <a:chOff x="3712320" y="1835280"/>
              <a:chExt cx="3056400" cy="668880"/>
            </a:xfrm>
          </p:grpSpPr>
          <p:sp>
            <p:nvSpPr>
              <p:cNvPr id="1227" name=""/>
              <p:cNvSpPr/>
              <p:nvPr/>
            </p:nvSpPr>
            <p:spPr>
              <a:xfrm>
                <a:off x="3712320" y="23670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717720" y="1838520"/>
                <a:ext cx="3051000" cy="520560"/>
              </a:xfrm>
              <a:custGeom>
                <a:avLst/>
                <a:gdLst/>
                <a:ahLst/>
                <a:rect l="l" t="t" r="r" b="b"/>
                <a:pathLst>
                  <a:path w="3845" h="986">
                    <a:moveTo>
                      <a:pt x="0" y="0"/>
                    </a:moveTo>
                    <a:lnTo>
                      <a:pt x="3706" y="0"/>
                    </a:lnTo>
                    <a:lnTo>
                      <a:pt x="3845" y="156"/>
                    </a:lnTo>
                    <a:lnTo>
                      <a:pt x="3845" y="986"/>
                    </a:lnTo>
                    <a:lnTo>
                      <a:pt x="0" y="98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657840" y="1838520"/>
                <a:ext cx="110880" cy="83880"/>
              </a:xfrm>
              <a:custGeom>
                <a:avLst/>
                <a:gdLst/>
                <a:ahLst/>
                <a:rect l="l" t="t" r="r" b="b"/>
                <a:pathLst>
                  <a:path w="141" h="160">
                    <a:moveTo>
                      <a:pt x="0" y="0"/>
                    </a:moveTo>
                    <a:lnTo>
                      <a:pt x="0" y="160"/>
                    </a:lnTo>
                    <a:lnTo>
                      <a:pt x="141" y="16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3755520" y="1855800"/>
                <a:ext cx="4852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protoc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230000" y="1835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318920" y="1878120"/>
                <a:ext cx="709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387320" y="18576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390560" y="1855800"/>
                <a:ext cx="2034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90360" y="1835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588920" y="185580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629240" y="1855800"/>
                <a:ext cx="4230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ques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42880" y="183528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754440" y="1970280"/>
                <a:ext cx="4503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conten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195080" y="19494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322520" y="1970280"/>
                <a:ext cx="16329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Create AWA/Result:AWA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923800" y="194940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755520" y="2086200"/>
                <a:ext cx="9043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language  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642920" y="208620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685760" y="2086200"/>
                <a:ext cx="224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L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06440" y="206532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755160" y="2201760"/>
                <a:ext cx="8208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:ontology   fip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560120" y="220176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601520" y="220176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39760" y="2201760"/>
                <a:ext cx="435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781160" y="2201760"/>
                <a:ext cx="246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022360" y="2181240"/>
                <a:ext cx="32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3" name=""/>
          <p:cNvGrpSpPr/>
          <p:nvPr/>
        </p:nvGrpSpPr>
        <p:grpSpPr>
          <a:xfrm>
            <a:off x="958680" y="3271320"/>
            <a:ext cx="1018800" cy="2530800"/>
            <a:chOff x="958680" y="3271320"/>
            <a:chExt cx="1018800" cy="2530800"/>
          </a:xfrm>
        </p:grpSpPr>
        <p:grpSp>
          <p:nvGrpSpPr>
            <p:cNvPr id="1254" name=""/>
            <p:cNvGrpSpPr/>
            <p:nvPr/>
          </p:nvGrpSpPr>
          <p:grpSpPr>
            <a:xfrm>
              <a:off x="1912680" y="3271320"/>
              <a:ext cx="64800" cy="368280"/>
              <a:chOff x="1912680" y="3271320"/>
              <a:chExt cx="64800" cy="368280"/>
            </a:xfrm>
          </p:grpSpPr>
          <p:sp>
            <p:nvSpPr>
              <p:cNvPr id="1255" name=""/>
              <p:cNvSpPr/>
              <p:nvPr/>
            </p:nvSpPr>
            <p:spPr>
              <a:xfrm flipH="1" flipV="1">
                <a:off x="1976760" y="3271320"/>
                <a:ext cx="720" cy="368280"/>
              </a:xfrm>
              <a:prstGeom prst="line">
                <a:avLst/>
              </a:prstGeom>
              <a:ln w="252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1925280" y="3271680"/>
                <a:ext cx="52200" cy="795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>
                <a:off x="1976760" y="3271680"/>
                <a:ext cx="720" cy="795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1912680" y="3271680"/>
                <a:ext cx="52200" cy="79560"/>
              </a:xfrm>
              <a:prstGeom prst="line">
                <a:avLst/>
              </a:prstGeom>
              <a:ln w="68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963800" y="3291840"/>
                <a:ext cx="0" cy="80640"/>
              </a:xfrm>
              <a:prstGeom prst="line">
                <a:avLst/>
              </a:prstGeom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0" name=""/>
            <p:cNvSpPr/>
            <p:nvPr/>
          </p:nvSpPr>
          <p:spPr>
            <a:xfrm flipH="1">
              <a:off x="958680" y="3454200"/>
              <a:ext cx="979200" cy="23479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045080" y="3433320"/>
              <a:ext cx="9028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7: in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1447920" y="3382920"/>
            <a:ext cx="3187080" cy="1703520"/>
            <a:chOff x="1447920" y="3382920"/>
            <a:chExt cx="3187080" cy="1703520"/>
          </a:xfrm>
        </p:grpSpPr>
        <p:grpSp>
          <p:nvGrpSpPr>
            <p:cNvPr id="1263" name=""/>
            <p:cNvGrpSpPr/>
            <p:nvPr/>
          </p:nvGrpSpPr>
          <p:grpSpPr>
            <a:xfrm>
              <a:off x="1447920" y="3382920"/>
              <a:ext cx="3187080" cy="1703520"/>
              <a:chOff x="1447920" y="3382920"/>
              <a:chExt cx="3187080" cy="1703520"/>
            </a:xfrm>
          </p:grpSpPr>
          <p:sp>
            <p:nvSpPr>
              <p:cNvPr id="1264" name=""/>
              <p:cNvSpPr/>
              <p:nvPr/>
            </p:nvSpPr>
            <p:spPr>
              <a:xfrm>
                <a:off x="1447920" y="4619520"/>
                <a:ext cx="1225440" cy="46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600" spc="-1" strike="noStrike">
                    <a:solidFill>
                      <a:srgbClr val="cc0000"/>
                    </a:solidFill>
                    <a:latin typeface="Arial"/>
                  </a:rPr>
                  <a:t>WrapperArchivist: AW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>
                <a:off x="2722320" y="3382920"/>
                <a:ext cx="1346040" cy="120816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dash"/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3710520" y="3713040"/>
                <a:ext cx="9244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(6:create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7" name=""/>
            <p:cNvSpPr/>
            <p:nvPr/>
          </p:nvSpPr>
          <p:spPr>
            <a:xfrm>
              <a:off x="2987640" y="3860640"/>
              <a:ext cx="72072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cc0000"/>
                  </a:solidFill>
                  <a:latin typeface="Arial"/>
                </a:rPr>
                <a:t>A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44CD-E0A6-444B-808C-441D0AA1CC8E}" type="slidenum">
              <a:t>20</a:t>
            </a:fld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Conclusions and perspective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53640" y="4446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Tested on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 3 different libraries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: research reports of INRIA, technical reports of SCS – CMU, Library of medicines of MedLINE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(correctly annotated)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Generate and feed a large annotation base for performance evaluation of CORESE search engine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Improvements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Relative XPaths, machine learning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multiple sourc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Wrapper manager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role: manage the Wrappers Archivists life cycle (kill, restart, alerts to administrator, </a:t>
            </a:r>
            <a:r>
              <a:rPr b="0" i="1" lang="en-US" sz="2400" spc="-1" strike="noStrike">
                <a:solidFill>
                  <a:srgbClr val="007cba"/>
                </a:solidFill>
                <a:latin typeface="Arial"/>
              </a:rPr>
              <a:t>etc.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nnotation Wrapper Archivist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role: registration services to notify changes in the structure or content, automatic adjustment of XPath when the structure chang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Applies to XML documents in general, including: RDF, XTopic, DAML+OIL, OWL, </a:t>
            </a:r>
            <a:r>
              <a:rPr b="0" i="1" lang="en-US" sz="2900" spc="-1" strike="noStrike">
                <a:solidFill>
                  <a:srgbClr val="007cba"/>
                </a:solidFill>
                <a:latin typeface="Arial"/>
              </a:rPr>
              <a:t>etc.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General interest: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flexible 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and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modular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customization 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of sub-behaviors info. agents, exchange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procedural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knowledge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standard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773A-7D16-4690-A601-1A1852DC45FD}" type="slidenum">
              <a:t>21</a:t>
            </a:fld>
          </a:p>
        </p:txBody>
      </p:sp>
    </p:spTree>
  </p:cSld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4" dur="1" fill="hold"/>
                                  <p:tgtEl>
                                    <p:spTgt spid="12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Pointer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3640" y="380880"/>
            <a:ext cx="9077400" cy="52768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 fontScale="95000"/>
          </a:bodyPr>
          <a:p>
            <a:pPr marL="277200" indent="-27720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about current &amp; future work o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rapp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br>
              <a:rPr sz="28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ilto:TuanDung.Cao@sophia.inria.fr</a:t>
            </a:r>
            <a:endParaRPr b="1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77200" indent="-27720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re about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CoMM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e PhD Dissertation “Distributed Artificial Intelligence and Knowledge Management: ontologies and multi-agent systems for a corporate semantic web”</a:t>
            </a:r>
            <a:br>
              <a:rPr sz="28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ttp://www-2.cs.cmu.edu/afs/.cs.cmu.edu/Web/People/fgandon/</a:t>
            </a: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ilto:Fabien.Gandon@sophia.inria.fr / @cs.cmu.edu</a:t>
            </a:r>
            <a:endParaRPr b="1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77200" indent="-27720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urrent work at C.M.U.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my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mpus”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antic web services &amp; agents for context-aware nomadic PDA-based access to campus intraweb</a:t>
            </a:r>
            <a:br>
              <a:rPr sz="2800"/>
            </a:b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http://mycampus.sadehlab.cs.cmu.edu/project/</a:t>
            </a:r>
            <a:endParaRPr b="1" lang="en-US" sz="2400" spc="-1" strike="noStrike">
              <a:solidFill>
                <a:srgbClr val="007cba"/>
              </a:solidFill>
              <a:latin typeface="Arial"/>
            </a:endParaRPr>
          </a:p>
        </p:txBody>
      </p:sp>
      <p:pic>
        <p:nvPicPr>
          <p:cNvPr id="1272" name="" descr=""/>
          <p:cNvPicPr/>
          <p:nvPr/>
        </p:nvPicPr>
        <p:blipFill>
          <a:blip r:embed="rId1"/>
          <a:stretch/>
        </p:blipFill>
        <p:spPr>
          <a:xfrm>
            <a:off x="7380360" y="52560"/>
            <a:ext cx="1565280" cy="42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</p:pic>
      <p:sp>
        <p:nvSpPr>
          <p:cNvPr id="1273" name=""/>
          <p:cNvSpPr txBox="1"/>
          <p:nvPr/>
        </p:nvSpPr>
        <p:spPr>
          <a:xfrm>
            <a:off x="6600960" y="6093000"/>
            <a:ext cx="2162160" cy="441000"/>
          </a:xfrm>
          <a:prstGeom prst="rect">
            <a:avLst/>
          </a:prstGeom>
        </p:spPr>
        <p:txBody>
          <a:bodyPr wrap="none" lIns="90000" rIns="0" tIns="4680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c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s</a:t>
            </a:r>
            <a:endParaRPr b="0" lang="en-US" sz="2400" spc="1" strike="noStrike">
              <a:ln w="0">
                <a:noFill/>
              </a:ln>
              <a:solidFill>
                <a:srgbClr val="cc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7F07-593B-4B43-843D-57096C8961FC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Positioning and pointer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000" y="457200"/>
            <a:ext cx="90932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Dynamically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integrating heterogeneous sources 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of information                  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OBSERVER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Mena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6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 InfoSleuth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Nodine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9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Carnot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Collet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1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 InfoMaster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Genesereth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7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 SIMS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Arens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6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RETSINA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Decker &amp; Sycara, 1997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Manifold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Kirk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1995]</a:t>
            </a:r>
            <a:br>
              <a:rPr sz="2000"/>
            </a:b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Assist the management of digital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libraries</a:t>
            </a:r>
            <a:br>
              <a:rPr sz="2900"/>
            </a:b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SAIRE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Odubiyi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7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  UMDL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Weinstein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1999]</a:t>
            </a:r>
            <a:br>
              <a:rPr sz="1600"/>
            </a:b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Organisational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knowledge </a:t>
            </a: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management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Collaborative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gathering, filtering and profiling</a:t>
            </a:r>
            <a:br>
              <a:rPr sz="2400"/>
            </a:b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CASMIR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Berney &amp; Ferneley, 1999]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 Ricochet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Bothorel &amp; Thomas, 1999]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Mobile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access &amp; domain model for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document classification</a:t>
            </a:r>
            <a:br>
              <a:rPr sz="2400"/>
            </a:b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KnowWeb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Dzbor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2000]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Taxonomy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of topics, profiling and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push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RICA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Aguirre </a:t>
            </a:r>
            <a:r>
              <a:rPr b="0" i="1" lang="en-GB" sz="1600" spc="-1" strike="noStrike">
                <a:solidFill>
                  <a:srgbClr val="007cba"/>
                </a:solidFill>
                <a:latin typeface="Arial"/>
              </a:rPr>
              <a:t>et al.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, 2000]</a:t>
            </a:r>
            <a:endParaRPr b="0" lang="en-US" sz="16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Ontology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corporate memory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multiple ontologies                       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FRODO </a:t>
            </a:r>
            <a:r>
              <a:rPr b="0" lang="en-GB" sz="1600" spc="-1" strike="noStrike">
                <a:solidFill>
                  <a:srgbClr val="007cba"/>
                </a:solidFill>
                <a:latin typeface="Arial"/>
              </a:rPr>
              <a:t>[Van Elst &amp; Abecker, 2001]</a:t>
            </a:r>
            <a:br>
              <a:rPr sz="1600"/>
            </a:b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semantic intraweb, ontology, user profiling              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CoMMA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6804000" y="5589720"/>
            <a:ext cx="1905120" cy="944280"/>
            <a:chOff x="6804000" y="5589720"/>
            <a:chExt cx="1905120" cy="944280"/>
          </a:xfrm>
        </p:grpSpPr>
        <p:grpSp>
          <p:nvGrpSpPr>
            <p:cNvPr id="133" name=""/>
            <p:cNvGrpSpPr/>
            <p:nvPr/>
          </p:nvGrpSpPr>
          <p:grpSpPr>
            <a:xfrm>
              <a:off x="6842160" y="6381720"/>
              <a:ext cx="152280" cy="152280"/>
              <a:chOff x="6842160" y="6381720"/>
              <a:chExt cx="152280" cy="152280"/>
            </a:xfrm>
          </p:grpSpPr>
          <p:sp>
            <p:nvSpPr>
              <p:cNvPr id="134" name=""/>
              <p:cNvSpPr/>
              <p:nvPr/>
            </p:nvSpPr>
            <p:spPr>
              <a:xfrm>
                <a:off x="6880320" y="6419880"/>
                <a:ext cx="75960" cy="759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842160" y="63817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804000" y="5589720"/>
              <a:ext cx="1905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You are he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6934320" y="5877000"/>
              <a:ext cx="39600" cy="479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A8FF-681C-4584-A430-412FF4508610}" type="slidenum">
              <a:t>3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888400" y="1060560"/>
            <a:ext cx="147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Implementation choices (1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640" y="367920"/>
            <a:ext cx="90774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11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Implementation 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choices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Materialisation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of memory</a:t>
            </a:r>
            <a:br>
              <a:rPr sz="2400"/>
            </a:b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RDF(S) and its XML syntax            </a:t>
            </a: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(manipulated with </a:t>
            </a:r>
            <a:r>
              <a:rPr b="1" lang="en-US" sz="2000" spc="-1" strike="noStrike">
                <a:solidFill>
                  <a:srgbClr val="007cba"/>
                </a:solidFill>
                <a:latin typeface="Arial"/>
              </a:rPr>
              <a:t>CORESE</a:t>
            </a: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336560" y="1943280"/>
            <a:ext cx="2122920" cy="4840920"/>
            <a:chOff x="4336560" y="1943280"/>
            <a:chExt cx="2122920" cy="4840920"/>
          </a:xfrm>
        </p:grpSpPr>
        <p:sp>
          <p:nvSpPr>
            <p:cNvPr id="142" name=""/>
            <p:cNvSpPr/>
            <p:nvPr/>
          </p:nvSpPr>
          <p:spPr>
            <a:xfrm>
              <a:off x="4965840" y="4187520"/>
              <a:ext cx="75960" cy="1828440"/>
            </a:xfrm>
            <a:custGeom>
              <a:avLst/>
              <a:gdLst>
                <a:gd name="textAreaLeft" fmla="*/ 0 w 75960"/>
                <a:gd name="textAreaRight" fmla="*/ 53280 w 75960"/>
                <a:gd name="textAreaTop" fmla="*/ 75960 h 1828440"/>
                <a:gd name="textAreaBottom" fmla="*/ 175248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0" tIns="4680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41960" y="2970000"/>
              <a:ext cx="1217520" cy="8409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17920" y="2966760"/>
              <a:ext cx="1087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Res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n C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43680" y="1943280"/>
              <a:ext cx="0" cy="448272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36560" y="6324480"/>
              <a:ext cx="14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Proj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024520" y="2293560"/>
              <a:ext cx="715680" cy="706320"/>
            </a:xfrm>
            <a:custGeom>
              <a:avLst/>
              <a:gdLst>
                <a:gd name="textAreaLeft" fmla="*/ 0 w 715680"/>
                <a:gd name="textAreaRight" fmla="*/ 716040 w 715680"/>
                <a:gd name="textAreaTop" fmla="*/ 0 h 706320"/>
                <a:gd name="textAreaBottom" fmla="*/ 706680 h 70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908" stAng="10800000" swAng="5400000"/>
                  <a:lnTo>
                    <a:pt x="14847" y="3252"/>
                  </a:lnTo>
                  <a:lnTo>
                    <a:pt x="14847" y="0"/>
                  </a:lnTo>
                  <a:lnTo>
                    <a:pt x="21600" y="6079"/>
                  </a:lnTo>
                  <a:lnTo>
                    <a:pt x="14847" y="12158"/>
                  </a:lnTo>
                  <a:lnTo>
                    <a:pt x="14847" y="8906"/>
                  </a:lnTo>
                  <a:lnTo>
                    <a:pt x="12427" y="8906"/>
                  </a:lnTo>
                  <a:arcTo wR="6773" hR="3254" stAng="16200000" swAng="-5400000"/>
                  <a:lnTo>
                    <a:pt x="5654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 rot="16200000">
              <a:off x="4730400" y="4083840"/>
              <a:ext cx="1328400" cy="706680"/>
            </a:xfrm>
            <a:custGeom>
              <a:avLst/>
              <a:gdLst>
                <a:gd name="textAreaLeft" fmla="*/ 0 w 1328400"/>
                <a:gd name="textAreaRight" fmla="*/ 1328760 w 1328400"/>
                <a:gd name="textAreaTop" fmla="*/ -36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132" stAng="10800000" swAng="5400000"/>
                  <a:lnTo>
                    <a:pt x="17780" y="4028"/>
                  </a:lnTo>
                  <a:lnTo>
                    <a:pt x="17780" y="0"/>
                  </a:lnTo>
                  <a:lnTo>
                    <a:pt x="21600" y="6079"/>
                  </a:lnTo>
                  <a:lnTo>
                    <a:pt x="17780" y="12158"/>
                  </a:lnTo>
                  <a:lnTo>
                    <a:pt x="17780" y="8130"/>
                  </a:lnTo>
                  <a:lnTo>
                    <a:pt x="12427" y="8130"/>
                  </a:lnTo>
                  <a:arcTo wR="8325" hR="4030" stAng="16200000" swAng="-5400000"/>
                  <a:lnTo>
                    <a:pt x="4102" y="216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5640" y="5192640"/>
            <a:ext cx="2973600" cy="855720"/>
            <a:chOff x="485640" y="5192640"/>
            <a:chExt cx="2973600" cy="855720"/>
          </a:xfrm>
        </p:grpSpPr>
        <p:sp>
          <p:nvSpPr>
            <p:cNvPr id="150" name=""/>
            <p:cNvSpPr/>
            <p:nvPr/>
          </p:nvSpPr>
          <p:spPr>
            <a:xfrm>
              <a:off x="1719360" y="5236920"/>
              <a:ext cx="1739880" cy="811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39040" y="5197320"/>
              <a:ext cx="101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85640" y="5271840"/>
              <a:ext cx="411120" cy="758880"/>
              <a:chOff x="485640" y="5271840"/>
              <a:chExt cx="411120" cy="758880"/>
            </a:xfrm>
          </p:grpSpPr>
          <p:sp>
            <p:nvSpPr>
              <p:cNvPr id="153" name=""/>
              <p:cNvSpPr/>
              <p:nvPr/>
            </p:nvSpPr>
            <p:spPr>
              <a:xfrm flipH="1">
                <a:off x="604440" y="5313960"/>
                <a:ext cx="160920" cy="165600"/>
              </a:xfrm>
              <a:custGeom>
                <a:avLst/>
                <a:gdLst/>
                <a:ahLst/>
                <a:rect l="l" t="t" r="r" b="b"/>
                <a:pathLst>
                  <a:path w="471" h="522">
                    <a:moveTo>
                      <a:pt x="245" y="120"/>
                    </a:moveTo>
                    <a:lnTo>
                      <a:pt x="204" y="67"/>
                    </a:lnTo>
                    <a:lnTo>
                      <a:pt x="146" y="26"/>
                    </a:lnTo>
                    <a:lnTo>
                      <a:pt x="94" y="0"/>
                    </a:lnTo>
                    <a:lnTo>
                      <a:pt x="53" y="7"/>
                    </a:lnTo>
                    <a:lnTo>
                      <a:pt x="23" y="37"/>
                    </a:lnTo>
                    <a:lnTo>
                      <a:pt x="0" y="127"/>
                    </a:lnTo>
                    <a:lnTo>
                      <a:pt x="9" y="231"/>
                    </a:lnTo>
                    <a:lnTo>
                      <a:pt x="34" y="331"/>
                    </a:lnTo>
                    <a:lnTo>
                      <a:pt x="60" y="409"/>
                    </a:lnTo>
                    <a:lnTo>
                      <a:pt x="112" y="489"/>
                    </a:lnTo>
                    <a:lnTo>
                      <a:pt x="156" y="522"/>
                    </a:lnTo>
                    <a:lnTo>
                      <a:pt x="217" y="522"/>
                    </a:lnTo>
                    <a:lnTo>
                      <a:pt x="279" y="499"/>
                    </a:lnTo>
                    <a:lnTo>
                      <a:pt x="310" y="441"/>
                    </a:lnTo>
                    <a:lnTo>
                      <a:pt x="326" y="368"/>
                    </a:lnTo>
                    <a:lnTo>
                      <a:pt x="320" y="278"/>
                    </a:lnTo>
                    <a:lnTo>
                      <a:pt x="463" y="288"/>
                    </a:lnTo>
                    <a:lnTo>
                      <a:pt x="471" y="248"/>
                    </a:lnTo>
                    <a:lnTo>
                      <a:pt x="307" y="231"/>
                    </a:lnTo>
                    <a:lnTo>
                      <a:pt x="265" y="138"/>
                    </a:lnTo>
                    <a:lnTo>
                      <a:pt x="245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711000" y="5271840"/>
                <a:ext cx="185400" cy="265680"/>
              </a:xfrm>
              <a:custGeom>
                <a:avLst/>
                <a:gdLst/>
                <a:ahLst/>
                <a:rect l="l" t="t" r="r" b="b"/>
                <a:pathLst>
                  <a:path w="542" h="837">
                    <a:moveTo>
                      <a:pt x="317" y="19"/>
                    </a:moveTo>
                    <a:lnTo>
                      <a:pt x="385" y="0"/>
                    </a:lnTo>
                    <a:lnTo>
                      <a:pt x="439" y="3"/>
                    </a:lnTo>
                    <a:lnTo>
                      <a:pt x="480" y="33"/>
                    </a:lnTo>
                    <a:lnTo>
                      <a:pt x="508" y="80"/>
                    </a:lnTo>
                    <a:lnTo>
                      <a:pt x="498" y="130"/>
                    </a:lnTo>
                    <a:lnTo>
                      <a:pt x="460" y="130"/>
                    </a:lnTo>
                    <a:lnTo>
                      <a:pt x="470" y="89"/>
                    </a:lnTo>
                    <a:lnTo>
                      <a:pt x="439" y="53"/>
                    </a:lnTo>
                    <a:lnTo>
                      <a:pt x="409" y="40"/>
                    </a:lnTo>
                    <a:lnTo>
                      <a:pt x="358" y="53"/>
                    </a:lnTo>
                    <a:lnTo>
                      <a:pt x="378" y="94"/>
                    </a:lnTo>
                    <a:lnTo>
                      <a:pt x="385" y="130"/>
                    </a:lnTo>
                    <a:lnTo>
                      <a:pt x="378" y="160"/>
                    </a:lnTo>
                    <a:lnTo>
                      <a:pt x="327" y="174"/>
                    </a:lnTo>
                    <a:lnTo>
                      <a:pt x="272" y="164"/>
                    </a:lnTo>
                    <a:lnTo>
                      <a:pt x="262" y="140"/>
                    </a:lnTo>
                    <a:lnTo>
                      <a:pt x="204" y="204"/>
                    </a:lnTo>
                    <a:lnTo>
                      <a:pt x="170" y="274"/>
                    </a:lnTo>
                    <a:lnTo>
                      <a:pt x="123" y="364"/>
                    </a:lnTo>
                    <a:lnTo>
                      <a:pt x="92" y="445"/>
                    </a:lnTo>
                    <a:lnTo>
                      <a:pt x="78" y="522"/>
                    </a:lnTo>
                    <a:lnTo>
                      <a:pt x="89" y="562"/>
                    </a:lnTo>
                    <a:lnTo>
                      <a:pt x="143" y="613"/>
                    </a:lnTo>
                    <a:lnTo>
                      <a:pt x="256" y="656"/>
                    </a:lnTo>
                    <a:lnTo>
                      <a:pt x="317" y="675"/>
                    </a:lnTo>
                    <a:lnTo>
                      <a:pt x="378" y="686"/>
                    </a:lnTo>
                    <a:lnTo>
                      <a:pt x="470" y="723"/>
                    </a:lnTo>
                    <a:lnTo>
                      <a:pt x="538" y="746"/>
                    </a:lnTo>
                    <a:lnTo>
                      <a:pt x="542" y="793"/>
                    </a:lnTo>
                    <a:lnTo>
                      <a:pt x="508" y="827"/>
                    </a:lnTo>
                    <a:lnTo>
                      <a:pt x="467" y="837"/>
                    </a:lnTo>
                    <a:lnTo>
                      <a:pt x="405" y="806"/>
                    </a:lnTo>
                    <a:lnTo>
                      <a:pt x="262" y="733"/>
                    </a:lnTo>
                    <a:lnTo>
                      <a:pt x="143" y="683"/>
                    </a:lnTo>
                    <a:lnTo>
                      <a:pt x="61" y="626"/>
                    </a:lnTo>
                    <a:lnTo>
                      <a:pt x="6" y="575"/>
                    </a:lnTo>
                    <a:lnTo>
                      <a:pt x="0" y="515"/>
                    </a:lnTo>
                    <a:lnTo>
                      <a:pt x="30" y="434"/>
                    </a:lnTo>
                    <a:lnTo>
                      <a:pt x="92" y="314"/>
                    </a:lnTo>
                    <a:lnTo>
                      <a:pt x="150" y="214"/>
                    </a:lnTo>
                    <a:lnTo>
                      <a:pt x="222" y="110"/>
                    </a:lnTo>
                    <a:lnTo>
                      <a:pt x="276" y="49"/>
                    </a:lnTo>
                    <a:lnTo>
                      <a:pt x="344" y="19"/>
                    </a:lnTo>
                    <a:lnTo>
                      <a:pt x="317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25320" y="5491800"/>
                <a:ext cx="96120" cy="249120"/>
              </a:xfrm>
              <a:custGeom>
                <a:avLst/>
                <a:gdLst/>
                <a:ahLst/>
                <a:rect l="l" t="t" r="r" b="b"/>
                <a:pathLst>
                  <a:path w="284" h="786">
                    <a:moveTo>
                      <a:pt x="18" y="61"/>
                    </a:moveTo>
                    <a:lnTo>
                      <a:pt x="28" y="20"/>
                    </a:lnTo>
                    <a:lnTo>
                      <a:pt x="72" y="0"/>
                    </a:lnTo>
                    <a:lnTo>
                      <a:pt x="113" y="0"/>
                    </a:lnTo>
                    <a:lnTo>
                      <a:pt x="164" y="30"/>
                    </a:lnTo>
                    <a:lnTo>
                      <a:pt x="213" y="101"/>
                    </a:lnTo>
                    <a:lnTo>
                      <a:pt x="247" y="174"/>
                    </a:lnTo>
                    <a:lnTo>
                      <a:pt x="263" y="274"/>
                    </a:lnTo>
                    <a:lnTo>
                      <a:pt x="278" y="391"/>
                    </a:lnTo>
                    <a:lnTo>
                      <a:pt x="284" y="504"/>
                    </a:lnTo>
                    <a:lnTo>
                      <a:pt x="284" y="652"/>
                    </a:lnTo>
                    <a:lnTo>
                      <a:pt x="263" y="742"/>
                    </a:lnTo>
                    <a:lnTo>
                      <a:pt x="226" y="775"/>
                    </a:lnTo>
                    <a:lnTo>
                      <a:pt x="161" y="786"/>
                    </a:lnTo>
                    <a:lnTo>
                      <a:pt x="93" y="783"/>
                    </a:lnTo>
                    <a:lnTo>
                      <a:pt x="58" y="742"/>
                    </a:lnTo>
                    <a:lnTo>
                      <a:pt x="38" y="672"/>
                    </a:lnTo>
                    <a:lnTo>
                      <a:pt x="21" y="602"/>
                    </a:lnTo>
                    <a:lnTo>
                      <a:pt x="8" y="475"/>
                    </a:lnTo>
                    <a:lnTo>
                      <a:pt x="0" y="331"/>
                    </a:lnTo>
                    <a:lnTo>
                      <a:pt x="0" y="164"/>
                    </a:lnTo>
                    <a:lnTo>
                      <a:pt x="18" y="91"/>
                    </a:lnTo>
                    <a:lnTo>
                      <a:pt x="18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528840" y="5499000"/>
                <a:ext cx="148320" cy="191520"/>
              </a:xfrm>
              <a:custGeom>
                <a:avLst/>
                <a:gdLst/>
                <a:ahLst/>
                <a:rect l="l" t="t" r="r" b="b"/>
                <a:pathLst>
                  <a:path w="433" h="603">
                    <a:moveTo>
                      <a:pt x="24" y="0"/>
                    </a:moveTo>
                    <a:lnTo>
                      <a:pt x="113" y="10"/>
                    </a:lnTo>
                    <a:lnTo>
                      <a:pt x="204" y="26"/>
                    </a:lnTo>
                    <a:lnTo>
                      <a:pt x="300" y="80"/>
                    </a:lnTo>
                    <a:lnTo>
                      <a:pt x="368" y="120"/>
                    </a:lnTo>
                    <a:lnTo>
                      <a:pt x="413" y="178"/>
                    </a:lnTo>
                    <a:lnTo>
                      <a:pt x="433" y="211"/>
                    </a:lnTo>
                    <a:lnTo>
                      <a:pt x="392" y="308"/>
                    </a:lnTo>
                    <a:lnTo>
                      <a:pt x="327" y="368"/>
                    </a:lnTo>
                    <a:lnTo>
                      <a:pt x="249" y="411"/>
                    </a:lnTo>
                    <a:lnTo>
                      <a:pt x="207" y="438"/>
                    </a:lnTo>
                    <a:lnTo>
                      <a:pt x="136" y="452"/>
                    </a:lnTo>
                    <a:lnTo>
                      <a:pt x="133" y="478"/>
                    </a:lnTo>
                    <a:lnTo>
                      <a:pt x="188" y="502"/>
                    </a:lnTo>
                    <a:lnTo>
                      <a:pt x="266" y="523"/>
                    </a:lnTo>
                    <a:lnTo>
                      <a:pt x="340" y="563"/>
                    </a:lnTo>
                    <a:lnTo>
                      <a:pt x="310" y="593"/>
                    </a:lnTo>
                    <a:lnTo>
                      <a:pt x="280" y="603"/>
                    </a:lnTo>
                    <a:lnTo>
                      <a:pt x="235" y="559"/>
                    </a:lnTo>
                    <a:lnTo>
                      <a:pt x="167" y="532"/>
                    </a:lnTo>
                    <a:lnTo>
                      <a:pt x="113" y="512"/>
                    </a:lnTo>
                    <a:lnTo>
                      <a:pt x="113" y="472"/>
                    </a:lnTo>
                    <a:lnTo>
                      <a:pt x="123" y="429"/>
                    </a:lnTo>
                    <a:lnTo>
                      <a:pt x="157" y="411"/>
                    </a:lnTo>
                    <a:lnTo>
                      <a:pt x="266" y="368"/>
                    </a:lnTo>
                    <a:lnTo>
                      <a:pt x="327" y="301"/>
                    </a:lnTo>
                    <a:lnTo>
                      <a:pt x="371" y="231"/>
                    </a:lnTo>
                    <a:lnTo>
                      <a:pt x="361" y="197"/>
                    </a:lnTo>
                    <a:lnTo>
                      <a:pt x="327" y="157"/>
                    </a:lnTo>
                    <a:lnTo>
                      <a:pt x="246" y="100"/>
                    </a:lnTo>
                    <a:lnTo>
                      <a:pt x="147" y="80"/>
                    </a:lnTo>
                    <a:lnTo>
                      <a:pt x="82" y="77"/>
                    </a:lnTo>
                    <a:lnTo>
                      <a:pt x="24" y="77"/>
                    </a:lnTo>
                    <a:lnTo>
                      <a:pt x="0" y="4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485640" y="5716080"/>
                <a:ext cx="180000" cy="309600"/>
              </a:xfrm>
              <a:custGeom>
                <a:avLst/>
                <a:gdLst/>
                <a:ahLst/>
                <a:rect l="l" t="t" r="r" b="b"/>
                <a:pathLst>
                  <a:path w="527" h="976">
                    <a:moveTo>
                      <a:pt x="61" y="0"/>
                    </a:moveTo>
                    <a:lnTo>
                      <a:pt x="14" y="0"/>
                    </a:lnTo>
                    <a:lnTo>
                      <a:pt x="0" y="70"/>
                    </a:lnTo>
                    <a:lnTo>
                      <a:pt x="34" y="112"/>
                    </a:lnTo>
                    <a:lnTo>
                      <a:pt x="144" y="208"/>
                    </a:lnTo>
                    <a:lnTo>
                      <a:pt x="239" y="332"/>
                    </a:lnTo>
                    <a:lnTo>
                      <a:pt x="301" y="460"/>
                    </a:lnTo>
                    <a:lnTo>
                      <a:pt x="311" y="543"/>
                    </a:lnTo>
                    <a:lnTo>
                      <a:pt x="307" y="604"/>
                    </a:lnTo>
                    <a:lnTo>
                      <a:pt x="281" y="741"/>
                    </a:lnTo>
                    <a:lnTo>
                      <a:pt x="246" y="852"/>
                    </a:lnTo>
                    <a:lnTo>
                      <a:pt x="216" y="916"/>
                    </a:lnTo>
                    <a:lnTo>
                      <a:pt x="208" y="956"/>
                    </a:lnTo>
                    <a:lnTo>
                      <a:pt x="239" y="956"/>
                    </a:lnTo>
                    <a:lnTo>
                      <a:pt x="287" y="943"/>
                    </a:lnTo>
                    <a:lnTo>
                      <a:pt x="301" y="946"/>
                    </a:lnTo>
                    <a:lnTo>
                      <a:pt x="400" y="952"/>
                    </a:lnTo>
                    <a:lnTo>
                      <a:pt x="475" y="976"/>
                    </a:lnTo>
                    <a:lnTo>
                      <a:pt x="502" y="962"/>
                    </a:lnTo>
                    <a:lnTo>
                      <a:pt x="527" y="912"/>
                    </a:lnTo>
                    <a:lnTo>
                      <a:pt x="502" y="885"/>
                    </a:lnTo>
                    <a:lnTo>
                      <a:pt x="390" y="882"/>
                    </a:lnTo>
                    <a:lnTo>
                      <a:pt x="311" y="892"/>
                    </a:lnTo>
                    <a:lnTo>
                      <a:pt x="270" y="912"/>
                    </a:lnTo>
                    <a:lnTo>
                      <a:pt x="276" y="865"/>
                    </a:lnTo>
                    <a:lnTo>
                      <a:pt x="318" y="794"/>
                    </a:lnTo>
                    <a:lnTo>
                      <a:pt x="352" y="684"/>
                    </a:lnTo>
                    <a:lnTo>
                      <a:pt x="380" y="590"/>
                    </a:lnTo>
                    <a:lnTo>
                      <a:pt x="359" y="483"/>
                    </a:lnTo>
                    <a:lnTo>
                      <a:pt x="328" y="369"/>
                    </a:lnTo>
                    <a:lnTo>
                      <a:pt x="266" y="238"/>
                    </a:lnTo>
                    <a:lnTo>
                      <a:pt x="178" y="118"/>
                    </a:lnTo>
                    <a:lnTo>
                      <a:pt x="102" y="3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7720" y="5715360"/>
                <a:ext cx="120960" cy="315360"/>
              </a:xfrm>
              <a:custGeom>
                <a:avLst/>
                <a:gdLst/>
                <a:ahLst/>
                <a:rect l="l" t="t" r="r" b="b"/>
                <a:pathLst>
                  <a:path w="355" h="994">
                    <a:moveTo>
                      <a:pt x="246" y="0"/>
                    </a:moveTo>
                    <a:lnTo>
                      <a:pt x="201" y="94"/>
                    </a:lnTo>
                    <a:lnTo>
                      <a:pt x="170" y="231"/>
                    </a:lnTo>
                    <a:lnTo>
                      <a:pt x="133" y="382"/>
                    </a:lnTo>
                    <a:lnTo>
                      <a:pt x="99" y="536"/>
                    </a:lnTo>
                    <a:lnTo>
                      <a:pt x="99" y="592"/>
                    </a:lnTo>
                    <a:lnTo>
                      <a:pt x="133" y="693"/>
                    </a:lnTo>
                    <a:lnTo>
                      <a:pt x="181" y="747"/>
                    </a:lnTo>
                    <a:lnTo>
                      <a:pt x="225" y="814"/>
                    </a:lnTo>
                    <a:lnTo>
                      <a:pt x="256" y="863"/>
                    </a:lnTo>
                    <a:lnTo>
                      <a:pt x="243" y="887"/>
                    </a:lnTo>
                    <a:lnTo>
                      <a:pt x="164" y="897"/>
                    </a:lnTo>
                    <a:lnTo>
                      <a:pt x="37" y="917"/>
                    </a:lnTo>
                    <a:lnTo>
                      <a:pt x="0" y="948"/>
                    </a:lnTo>
                    <a:lnTo>
                      <a:pt x="31" y="974"/>
                    </a:lnTo>
                    <a:lnTo>
                      <a:pt x="102" y="994"/>
                    </a:lnTo>
                    <a:lnTo>
                      <a:pt x="185" y="954"/>
                    </a:lnTo>
                    <a:lnTo>
                      <a:pt x="246" y="927"/>
                    </a:lnTo>
                    <a:lnTo>
                      <a:pt x="324" y="917"/>
                    </a:lnTo>
                    <a:lnTo>
                      <a:pt x="355" y="907"/>
                    </a:lnTo>
                    <a:lnTo>
                      <a:pt x="345" y="874"/>
                    </a:lnTo>
                    <a:lnTo>
                      <a:pt x="256" y="787"/>
                    </a:lnTo>
                    <a:lnTo>
                      <a:pt x="204" y="696"/>
                    </a:lnTo>
                    <a:lnTo>
                      <a:pt x="160" y="636"/>
                    </a:lnTo>
                    <a:lnTo>
                      <a:pt x="154" y="576"/>
                    </a:lnTo>
                    <a:lnTo>
                      <a:pt x="175" y="476"/>
                    </a:lnTo>
                    <a:lnTo>
                      <a:pt x="222" y="372"/>
                    </a:lnTo>
                    <a:lnTo>
                      <a:pt x="274" y="195"/>
                    </a:lnTo>
                    <a:lnTo>
                      <a:pt x="318" y="91"/>
                    </a:lnTo>
                    <a:lnTo>
                      <a:pt x="314" y="30"/>
                    </a:lnTo>
                    <a:lnTo>
                      <a:pt x="274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900000" y="5192640"/>
              <a:ext cx="452520" cy="396720"/>
              <a:chOff x="900000" y="5192640"/>
              <a:chExt cx="452520" cy="396720"/>
            </a:xfrm>
          </p:grpSpPr>
          <p:sp>
            <p:nvSpPr>
              <p:cNvPr id="160" name=""/>
              <p:cNvSpPr/>
              <p:nvPr/>
            </p:nvSpPr>
            <p:spPr>
              <a:xfrm>
                <a:off x="900000" y="5192640"/>
                <a:ext cx="452520" cy="396720"/>
              </a:xfrm>
              <a:prstGeom prst="cloudCallout">
                <a:avLst>
                  <a:gd name="adj1" fmla="val -75731"/>
                  <a:gd name="adj2" fmla="val 15087"/>
                </a:avLst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0880" y="5262840"/>
                <a:ext cx="22608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698400" y="5621040"/>
              <a:ext cx="58284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35080" y="5773680"/>
              <a:ext cx="50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143000" y="3036960"/>
            <a:ext cx="2292480" cy="825480"/>
            <a:chOff x="1143000" y="3036960"/>
            <a:chExt cx="2292480" cy="825480"/>
          </a:xfrm>
        </p:grpSpPr>
        <p:sp>
          <p:nvSpPr>
            <p:cNvPr id="165" name=""/>
            <p:cNvSpPr/>
            <p:nvPr/>
          </p:nvSpPr>
          <p:spPr>
            <a:xfrm>
              <a:off x="1697040" y="3047760"/>
              <a:ext cx="1738440" cy="811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27280" y="303696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u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143000" y="3197160"/>
              <a:ext cx="5335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80880" y="4111560"/>
            <a:ext cx="3065760" cy="925560"/>
            <a:chOff x="380880" y="4111560"/>
            <a:chExt cx="3065760" cy="925560"/>
          </a:xfrm>
        </p:grpSpPr>
        <p:sp>
          <p:nvSpPr>
            <p:cNvPr id="169" name=""/>
            <p:cNvSpPr/>
            <p:nvPr/>
          </p:nvSpPr>
          <p:spPr>
            <a:xfrm>
              <a:off x="1708200" y="4159080"/>
              <a:ext cx="1738440" cy="8780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48440" y="4133520"/>
              <a:ext cx="177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93560" y="4395600"/>
              <a:ext cx="411480" cy="630360"/>
              <a:chOff x="493560" y="4395600"/>
              <a:chExt cx="411480" cy="630360"/>
            </a:xfrm>
          </p:grpSpPr>
          <p:sp>
            <p:nvSpPr>
              <p:cNvPr id="172" name=""/>
              <p:cNvSpPr/>
              <p:nvPr/>
            </p:nvSpPr>
            <p:spPr>
              <a:xfrm>
                <a:off x="673920" y="4605120"/>
                <a:ext cx="95760" cy="222480"/>
              </a:xfrm>
              <a:custGeom>
                <a:avLst/>
                <a:gdLst/>
                <a:ahLst/>
                <a:rect l="l" t="t" r="r" b="b"/>
                <a:pathLst>
                  <a:path w="771" h="1535">
                    <a:moveTo>
                      <a:pt x="182" y="123"/>
                    </a:moveTo>
                    <a:lnTo>
                      <a:pt x="265" y="33"/>
                    </a:lnTo>
                    <a:lnTo>
                      <a:pt x="423" y="0"/>
                    </a:lnTo>
                    <a:lnTo>
                      <a:pt x="558" y="33"/>
                    </a:lnTo>
                    <a:lnTo>
                      <a:pt x="633" y="83"/>
                    </a:lnTo>
                    <a:lnTo>
                      <a:pt x="693" y="183"/>
                    </a:lnTo>
                    <a:lnTo>
                      <a:pt x="746" y="361"/>
                    </a:lnTo>
                    <a:lnTo>
                      <a:pt x="771" y="554"/>
                    </a:lnTo>
                    <a:lnTo>
                      <a:pt x="771" y="899"/>
                    </a:lnTo>
                    <a:lnTo>
                      <a:pt x="693" y="1200"/>
                    </a:lnTo>
                    <a:lnTo>
                      <a:pt x="581" y="1370"/>
                    </a:lnTo>
                    <a:lnTo>
                      <a:pt x="468" y="1468"/>
                    </a:lnTo>
                    <a:lnTo>
                      <a:pt x="340" y="1535"/>
                    </a:lnTo>
                    <a:lnTo>
                      <a:pt x="160" y="1528"/>
                    </a:lnTo>
                    <a:lnTo>
                      <a:pt x="17" y="1425"/>
                    </a:lnTo>
                    <a:lnTo>
                      <a:pt x="0" y="1302"/>
                    </a:lnTo>
                    <a:lnTo>
                      <a:pt x="70" y="1119"/>
                    </a:lnTo>
                    <a:lnTo>
                      <a:pt x="130" y="914"/>
                    </a:lnTo>
                    <a:lnTo>
                      <a:pt x="152" y="649"/>
                    </a:lnTo>
                    <a:lnTo>
                      <a:pt x="115" y="423"/>
                    </a:lnTo>
                    <a:lnTo>
                      <a:pt x="115" y="258"/>
                    </a:lnTo>
                    <a:lnTo>
                      <a:pt x="182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11000" y="4803480"/>
                <a:ext cx="109440" cy="219240"/>
              </a:xfrm>
              <a:custGeom>
                <a:avLst/>
                <a:gdLst/>
                <a:ahLst/>
                <a:rect l="l" t="t" r="r" b="b"/>
                <a:pathLst>
                  <a:path w="881" h="1512">
                    <a:moveTo>
                      <a:pt x="293" y="63"/>
                    </a:moveTo>
                    <a:lnTo>
                      <a:pt x="187" y="0"/>
                    </a:lnTo>
                    <a:lnTo>
                      <a:pt x="52" y="0"/>
                    </a:lnTo>
                    <a:lnTo>
                      <a:pt x="0" y="83"/>
                    </a:lnTo>
                    <a:lnTo>
                      <a:pt x="22" y="205"/>
                    </a:lnTo>
                    <a:lnTo>
                      <a:pt x="142" y="325"/>
                    </a:lnTo>
                    <a:lnTo>
                      <a:pt x="390" y="436"/>
                    </a:lnTo>
                    <a:lnTo>
                      <a:pt x="676" y="671"/>
                    </a:lnTo>
                    <a:lnTo>
                      <a:pt x="721" y="774"/>
                    </a:lnTo>
                    <a:lnTo>
                      <a:pt x="698" y="821"/>
                    </a:lnTo>
                    <a:lnTo>
                      <a:pt x="480" y="977"/>
                    </a:lnTo>
                    <a:lnTo>
                      <a:pt x="225" y="1162"/>
                    </a:lnTo>
                    <a:lnTo>
                      <a:pt x="165" y="1242"/>
                    </a:lnTo>
                    <a:lnTo>
                      <a:pt x="165" y="1325"/>
                    </a:lnTo>
                    <a:lnTo>
                      <a:pt x="360" y="1412"/>
                    </a:lnTo>
                    <a:lnTo>
                      <a:pt x="661" y="1512"/>
                    </a:lnTo>
                    <a:lnTo>
                      <a:pt x="766" y="1512"/>
                    </a:lnTo>
                    <a:lnTo>
                      <a:pt x="881" y="1445"/>
                    </a:lnTo>
                    <a:lnTo>
                      <a:pt x="881" y="1392"/>
                    </a:lnTo>
                    <a:lnTo>
                      <a:pt x="796" y="1365"/>
                    </a:lnTo>
                    <a:lnTo>
                      <a:pt x="413" y="1325"/>
                    </a:lnTo>
                    <a:lnTo>
                      <a:pt x="270" y="1290"/>
                    </a:lnTo>
                    <a:lnTo>
                      <a:pt x="255" y="1229"/>
                    </a:lnTo>
                    <a:lnTo>
                      <a:pt x="503" y="1059"/>
                    </a:lnTo>
                    <a:lnTo>
                      <a:pt x="773" y="896"/>
                    </a:lnTo>
                    <a:lnTo>
                      <a:pt x="833" y="836"/>
                    </a:lnTo>
                    <a:lnTo>
                      <a:pt x="856" y="754"/>
                    </a:lnTo>
                    <a:lnTo>
                      <a:pt x="833" y="638"/>
                    </a:lnTo>
                    <a:lnTo>
                      <a:pt x="751" y="551"/>
                    </a:lnTo>
                    <a:lnTo>
                      <a:pt x="480" y="253"/>
                    </a:lnTo>
                    <a:lnTo>
                      <a:pt x="29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6640" y="4792320"/>
                <a:ext cx="136440" cy="233640"/>
              </a:xfrm>
              <a:custGeom>
                <a:avLst/>
                <a:gdLst/>
                <a:ahLst/>
                <a:rect l="l" t="t" r="r" b="b"/>
                <a:pathLst>
                  <a:path w="1097" h="1610">
                    <a:moveTo>
                      <a:pt x="596" y="218"/>
                    </a:moveTo>
                    <a:lnTo>
                      <a:pt x="771" y="80"/>
                    </a:lnTo>
                    <a:lnTo>
                      <a:pt x="937" y="0"/>
                    </a:lnTo>
                    <a:lnTo>
                      <a:pt x="1042" y="12"/>
                    </a:lnTo>
                    <a:lnTo>
                      <a:pt x="1097" y="80"/>
                    </a:lnTo>
                    <a:lnTo>
                      <a:pt x="1097" y="155"/>
                    </a:lnTo>
                    <a:lnTo>
                      <a:pt x="1064" y="238"/>
                    </a:lnTo>
                    <a:lnTo>
                      <a:pt x="952" y="285"/>
                    </a:lnTo>
                    <a:lnTo>
                      <a:pt x="724" y="400"/>
                    </a:lnTo>
                    <a:lnTo>
                      <a:pt x="589" y="543"/>
                    </a:lnTo>
                    <a:lnTo>
                      <a:pt x="499" y="713"/>
                    </a:lnTo>
                    <a:lnTo>
                      <a:pt x="476" y="814"/>
                    </a:lnTo>
                    <a:lnTo>
                      <a:pt x="596" y="936"/>
                    </a:lnTo>
                    <a:lnTo>
                      <a:pt x="724" y="1114"/>
                    </a:lnTo>
                    <a:lnTo>
                      <a:pt x="817" y="1277"/>
                    </a:lnTo>
                    <a:lnTo>
                      <a:pt x="839" y="1380"/>
                    </a:lnTo>
                    <a:lnTo>
                      <a:pt x="839" y="1440"/>
                    </a:lnTo>
                    <a:lnTo>
                      <a:pt x="779" y="1480"/>
                    </a:lnTo>
                    <a:lnTo>
                      <a:pt x="589" y="1487"/>
                    </a:lnTo>
                    <a:lnTo>
                      <a:pt x="301" y="1547"/>
                    </a:lnTo>
                    <a:lnTo>
                      <a:pt x="248" y="1602"/>
                    </a:lnTo>
                    <a:lnTo>
                      <a:pt x="203" y="1610"/>
                    </a:lnTo>
                    <a:lnTo>
                      <a:pt x="0" y="1547"/>
                    </a:lnTo>
                    <a:lnTo>
                      <a:pt x="0" y="1487"/>
                    </a:lnTo>
                    <a:lnTo>
                      <a:pt x="90" y="1440"/>
                    </a:lnTo>
                    <a:lnTo>
                      <a:pt x="453" y="1380"/>
                    </a:lnTo>
                    <a:lnTo>
                      <a:pt x="641" y="1400"/>
                    </a:lnTo>
                    <a:lnTo>
                      <a:pt x="734" y="1400"/>
                    </a:lnTo>
                    <a:lnTo>
                      <a:pt x="756" y="1365"/>
                    </a:lnTo>
                    <a:lnTo>
                      <a:pt x="679" y="1214"/>
                    </a:lnTo>
                    <a:lnTo>
                      <a:pt x="521" y="1019"/>
                    </a:lnTo>
                    <a:lnTo>
                      <a:pt x="408" y="876"/>
                    </a:lnTo>
                    <a:lnTo>
                      <a:pt x="363" y="794"/>
                    </a:lnTo>
                    <a:lnTo>
                      <a:pt x="363" y="671"/>
                    </a:lnTo>
                    <a:lnTo>
                      <a:pt x="438" y="468"/>
                    </a:lnTo>
                    <a:lnTo>
                      <a:pt x="506" y="340"/>
                    </a:lnTo>
                    <a:lnTo>
                      <a:pt x="596" y="2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93560" y="4605480"/>
                <a:ext cx="184320" cy="174240"/>
              </a:xfrm>
              <a:custGeom>
                <a:avLst/>
                <a:gdLst/>
                <a:ahLst/>
                <a:rect l="l" t="t" r="r" b="b"/>
                <a:pathLst>
                  <a:path w="1482" h="1202">
                    <a:moveTo>
                      <a:pt x="889" y="1202"/>
                    </a:moveTo>
                    <a:lnTo>
                      <a:pt x="981" y="1192"/>
                    </a:lnTo>
                    <a:lnTo>
                      <a:pt x="1009" y="1124"/>
                    </a:lnTo>
                    <a:lnTo>
                      <a:pt x="1034" y="881"/>
                    </a:lnTo>
                    <a:lnTo>
                      <a:pt x="1172" y="596"/>
                    </a:lnTo>
                    <a:lnTo>
                      <a:pt x="1314" y="465"/>
                    </a:lnTo>
                    <a:lnTo>
                      <a:pt x="1482" y="330"/>
                    </a:lnTo>
                    <a:lnTo>
                      <a:pt x="1467" y="235"/>
                    </a:lnTo>
                    <a:lnTo>
                      <a:pt x="1367" y="185"/>
                    </a:lnTo>
                    <a:lnTo>
                      <a:pt x="1242" y="235"/>
                    </a:lnTo>
                    <a:lnTo>
                      <a:pt x="1104" y="373"/>
                    </a:lnTo>
                    <a:lnTo>
                      <a:pt x="976" y="673"/>
                    </a:lnTo>
                    <a:lnTo>
                      <a:pt x="921" y="906"/>
                    </a:lnTo>
                    <a:lnTo>
                      <a:pt x="884" y="1029"/>
                    </a:lnTo>
                    <a:lnTo>
                      <a:pt x="779" y="984"/>
                    </a:lnTo>
                    <a:lnTo>
                      <a:pt x="661" y="783"/>
                    </a:lnTo>
                    <a:lnTo>
                      <a:pt x="563" y="505"/>
                    </a:lnTo>
                    <a:lnTo>
                      <a:pt x="581" y="380"/>
                    </a:lnTo>
                    <a:lnTo>
                      <a:pt x="636" y="248"/>
                    </a:lnTo>
                    <a:lnTo>
                      <a:pt x="658" y="150"/>
                    </a:lnTo>
                    <a:lnTo>
                      <a:pt x="418" y="145"/>
                    </a:lnTo>
                    <a:lnTo>
                      <a:pt x="178" y="105"/>
                    </a:lnTo>
                    <a:lnTo>
                      <a:pt x="65" y="0"/>
                    </a:lnTo>
                    <a:lnTo>
                      <a:pt x="0" y="50"/>
                    </a:lnTo>
                    <a:lnTo>
                      <a:pt x="88" y="230"/>
                    </a:lnTo>
                    <a:lnTo>
                      <a:pt x="280" y="250"/>
                    </a:lnTo>
                    <a:lnTo>
                      <a:pt x="488" y="270"/>
                    </a:lnTo>
                    <a:lnTo>
                      <a:pt x="493" y="428"/>
                    </a:lnTo>
                    <a:lnTo>
                      <a:pt x="513" y="611"/>
                    </a:lnTo>
                    <a:lnTo>
                      <a:pt x="583" y="816"/>
                    </a:lnTo>
                    <a:lnTo>
                      <a:pt x="671" y="1019"/>
                    </a:lnTo>
                    <a:lnTo>
                      <a:pt x="804" y="1154"/>
                    </a:lnTo>
                    <a:lnTo>
                      <a:pt x="889" y="1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69320" y="4395600"/>
                <a:ext cx="135720" cy="235800"/>
              </a:xfrm>
              <a:custGeom>
                <a:avLst/>
                <a:gdLst/>
                <a:ahLst/>
                <a:rect l="l" t="t" r="r" b="b"/>
                <a:pathLst>
                  <a:path w="1091" h="1625">
                    <a:moveTo>
                      <a:pt x="0" y="1610"/>
                    </a:moveTo>
                    <a:lnTo>
                      <a:pt x="0" y="1503"/>
                    </a:lnTo>
                    <a:lnTo>
                      <a:pt x="67" y="1420"/>
                    </a:lnTo>
                    <a:lnTo>
                      <a:pt x="363" y="1325"/>
                    </a:lnTo>
                    <a:lnTo>
                      <a:pt x="728" y="1245"/>
                    </a:lnTo>
                    <a:lnTo>
                      <a:pt x="939" y="1197"/>
                    </a:lnTo>
                    <a:lnTo>
                      <a:pt x="964" y="1155"/>
                    </a:lnTo>
                    <a:lnTo>
                      <a:pt x="864" y="1034"/>
                    </a:lnTo>
                    <a:lnTo>
                      <a:pt x="666" y="857"/>
                    </a:lnTo>
                    <a:lnTo>
                      <a:pt x="463" y="706"/>
                    </a:lnTo>
                    <a:lnTo>
                      <a:pt x="303" y="626"/>
                    </a:lnTo>
                    <a:lnTo>
                      <a:pt x="213" y="544"/>
                    </a:lnTo>
                    <a:lnTo>
                      <a:pt x="205" y="483"/>
                    </a:lnTo>
                    <a:lnTo>
                      <a:pt x="258" y="428"/>
                    </a:lnTo>
                    <a:lnTo>
                      <a:pt x="385" y="401"/>
                    </a:lnTo>
                    <a:lnTo>
                      <a:pt x="546" y="298"/>
                    </a:lnTo>
                    <a:lnTo>
                      <a:pt x="568" y="198"/>
                    </a:lnTo>
                    <a:lnTo>
                      <a:pt x="568" y="55"/>
                    </a:lnTo>
                    <a:lnTo>
                      <a:pt x="553" y="0"/>
                    </a:lnTo>
                    <a:lnTo>
                      <a:pt x="613" y="13"/>
                    </a:lnTo>
                    <a:lnTo>
                      <a:pt x="698" y="135"/>
                    </a:lnTo>
                    <a:lnTo>
                      <a:pt x="728" y="266"/>
                    </a:lnTo>
                    <a:lnTo>
                      <a:pt x="636" y="361"/>
                    </a:lnTo>
                    <a:lnTo>
                      <a:pt x="553" y="388"/>
                    </a:lnTo>
                    <a:lnTo>
                      <a:pt x="393" y="463"/>
                    </a:lnTo>
                    <a:lnTo>
                      <a:pt x="363" y="504"/>
                    </a:lnTo>
                    <a:lnTo>
                      <a:pt x="385" y="544"/>
                    </a:lnTo>
                    <a:lnTo>
                      <a:pt x="531" y="654"/>
                    </a:lnTo>
                    <a:lnTo>
                      <a:pt x="683" y="714"/>
                    </a:lnTo>
                    <a:lnTo>
                      <a:pt x="886" y="869"/>
                    </a:lnTo>
                    <a:lnTo>
                      <a:pt x="1024" y="1054"/>
                    </a:lnTo>
                    <a:lnTo>
                      <a:pt x="1091" y="1197"/>
                    </a:lnTo>
                    <a:lnTo>
                      <a:pt x="1069" y="1245"/>
                    </a:lnTo>
                    <a:lnTo>
                      <a:pt x="1024" y="1277"/>
                    </a:lnTo>
                    <a:lnTo>
                      <a:pt x="849" y="1340"/>
                    </a:lnTo>
                    <a:lnTo>
                      <a:pt x="501" y="1443"/>
                    </a:lnTo>
                    <a:lnTo>
                      <a:pt x="280" y="1530"/>
                    </a:lnTo>
                    <a:lnTo>
                      <a:pt x="138" y="1605"/>
                    </a:lnTo>
                    <a:lnTo>
                      <a:pt x="45" y="1625"/>
                    </a:lnTo>
                    <a:lnTo>
                      <a:pt x="0" y="16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5760" y="4430880"/>
                <a:ext cx="105840" cy="167760"/>
              </a:xfrm>
              <a:custGeom>
                <a:avLst/>
                <a:gdLst/>
                <a:ahLst/>
                <a:rect l="l" t="t" r="r" b="b"/>
                <a:pathLst>
                  <a:path w="851" h="1157">
                    <a:moveTo>
                      <a:pt x="173" y="939"/>
                    </a:moveTo>
                    <a:lnTo>
                      <a:pt x="271" y="1042"/>
                    </a:lnTo>
                    <a:lnTo>
                      <a:pt x="431" y="1137"/>
                    </a:lnTo>
                    <a:lnTo>
                      <a:pt x="566" y="1157"/>
                    </a:lnTo>
                    <a:lnTo>
                      <a:pt x="669" y="1137"/>
                    </a:lnTo>
                    <a:lnTo>
                      <a:pt x="791" y="1057"/>
                    </a:lnTo>
                    <a:lnTo>
                      <a:pt x="836" y="892"/>
                    </a:lnTo>
                    <a:lnTo>
                      <a:pt x="851" y="769"/>
                    </a:lnTo>
                    <a:lnTo>
                      <a:pt x="814" y="654"/>
                    </a:lnTo>
                    <a:lnTo>
                      <a:pt x="744" y="511"/>
                    </a:lnTo>
                    <a:lnTo>
                      <a:pt x="679" y="388"/>
                    </a:lnTo>
                    <a:lnTo>
                      <a:pt x="669" y="361"/>
                    </a:lnTo>
                    <a:lnTo>
                      <a:pt x="699" y="218"/>
                    </a:lnTo>
                    <a:lnTo>
                      <a:pt x="791" y="75"/>
                    </a:lnTo>
                    <a:lnTo>
                      <a:pt x="806" y="33"/>
                    </a:lnTo>
                    <a:lnTo>
                      <a:pt x="759" y="0"/>
                    </a:lnTo>
                    <a:lnTo>
                      <a:pt x="699" y="0"/>
                    </a:lnTo>
                    <a:lnTo>
                      <a:pt x="634" y="185"/>
                    </a:lnTo>
                    <a:lnTo>
                      <a:pt x="604" y="306"/>
                    </a:lnTo>
                    <a:lnTo>
                      <a:pt x="521" y="225"/>
                    </a:lnTo>
                    <a:lnTo>
                      <a:pt x="451" y="163"/>
                    </a:lnTo>
                    <a:lnTo>
                      <a:pt x="308" y="115"/>
                    </a:lnTo>
                    <a:lnTo>
                      <a:pt x="203" y="115"/>
                    </a:lnTo>
                    <a:lnTo>
                      <a:pt x="45" y="185"/>
                    </a:lnTo>
                    <a:lnTo>
                      <a:pt x="0" y="381"/>
                    </a:lnTo>
                    <a:lnTo>
                      <a:pt x="38" y="634"/>
                    </a:lnTo>
                    <a:lnTo>
                      <a:pt x="105" y="872"/>
                    </a:lnTo>
                    <a:lnTo>
                      <a:pt x="173" y="9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60320" y="4111560"/>
              <a:ext cx="228600" cy="239760"/>
              <a:chOff x="760320" y="4111560"/>
              <a:chExt cx="228600" cy="239760"/>
            </a:xfrm>
          </p:grpSpPr>
          <p:sp>
            <p:nvSpPr>
              <p:cNvPr id="179" name=""/>
              <p:cNvSpPr/>
              <p:nvPr/>
            </p:nvSpPr>
            <p:spPr>
              <a:xfrm>
                <a:off x="760320" y="4111560"/>
                <a:ext cx="228600" cy="23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86240" y="4133160"/>
                <a:ext cx="190440" cy="1998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181" name=""/>
            <p:cNvGrpSpPr/>
            <p:nvPr/>
          </p:nvGrpSpPr>
          <p:grpSpPr>
            <a:xfrm>
              <a:off x="517680" y="4136760"/>
              <a:ext cx="244440" cy="279360"/>
              <a:chOff x="517680" y="4136760"/>
              <a:chExt cx="244440" cy="279360"/>
            </a:xfrm>
          </p:grpSpPr>
          <p:sp>
            <p:nvSpPr>
              <p:cNvPr id="182" name=""/>
              <p:cNvSpPr/>
              <p:nvPr/>
            </p:nvSpPr>
            <p:spPr>
              <a:xfrm>
                <a:off x="517680" y="4136760"/>
                <a:ext cx="244440" cy="27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5600" y="4155480"/>
                <a:ext cx="226440" cy="2394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grpSp>
          <p:nvGrpSpPr>
            <p:cNvPr id="184" name=""/>
            <p:cNvGrpSpPr/>
            <p:nvPr/>
          </p:nvGrpSpPr>
          <p:grpSpPr>
            <a:xfrm>
              <a:off x="380880" y="4390920"/>
              <a:ext cx="195480" cy="244440"/>
              <a:chOff x="380880" y="4390920"/>
              <a:chExt cx="195480" cy="244440"/>
            </a:xfrm>
          </p:grpSpPr>
          <p:sp>
            <p:nvSpPr>
              <p:cNvPr id="185" name=""/>
              <p:cNvSpPr/>
              <p:nvPr/>
            </p:nvSpPr>
            <p:spPr>
              <a:xfrm>
                <a:off x="380880" y="4390920"/>
                <a:ext cx="195480" cy="24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00680" y="4407480"/>
                <a:ext cx="159840" cy="21528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</p:grpSp>
        <p:sp>
          <p:nvSpPr>
            <p:cNvPr id="187" name=""/>
            <p:cNvSpPr/>
            <p:nvPr/>
          </p:nvSpPr>
          <p:spPr>
            <a:xfrm>
              <a:off x="747720" y="4568760"/>
              <a:ext cx="58428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73240" y="4709880"/>
              <a:ext cx="51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06440" y="2017800"/>
            <a:ext cx="3049560" cy="1332000"/>
            <a:chOff x="406440" y="2017800"/>
            <a:chExt cx="3049560" cy="1332000"/>
          </a:xfrm>
        </p:grpSpPr>
        <p:sp>
          <p:nvSpPr>
            <p:cNvPr id="190" name=""/>
            <p:cNvSpPr/>
            <p:nvPr/>
          </p:nvSpPr>
          <p:spPr>
            <a:xfrm>
              <a:off x="1717560" y="2021040"/>
              <a:ext cx="1738440" cy="860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7520" y="2017800"/>
              <a:ext cx="1197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ch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98400" y="2752920"/>
              <a:ext cx="10922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gine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06440" y="2435400"/>
              <a:ext cx="362880" cy="875520"/>
              <a:chOff x="406440" y="2435400"/>
              <a:chExt cx="362880" cy="87552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406440" y="2435400"/>
                <a:ext cx="178200" cy="73080"/>
                <a:chOff x="406440" y="2435400"/>
                <a:chExt cx="178200" cy="730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06440" y="2490480"/>
                  <a:ext cx="43920" cy="18000"/>
                </a:xfrm>
                <a:custGeom>
                  <a:avLst/>
                  <a:gdLst/>
                  <a:ahLst/>
                  <a:rect l="l" t="t" r="r" b="b"/>
                  <a:pathLst>
                    <a:path w="149" h="69">
                      <a:moveTo>
                        <a:pt x="149" y="69"/>
                      </a:moveTo>
                      <a:lnTo>
                        <a:pt x="25" y="48"/>
                      </a:lnTo>
                      <a:lnTo>
                        <a:pt x="0" y="23"/>
                      </a:lnTo>
                      <a:lnTo>
                        <a:pt x="10" y="2"/>
                      </a:lnTo>
                      <a:lnTo>
                        <a:pt x="39" y="0"/>
                      </a:lnTo>
                      <a:lnTo>
                        <a:pt x="149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50360" y="24429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66" h="115">
                      <a:moveTo>
                        <a:pt x="66" y="115"/>
                      </a:moveTo>
                      <a:lnTo>
                        <a:pt x="0" y="42"/>
                      </a:lnTo>
                      <a:lnTo>
                        <a:pt x="7" y="11"/>
                      </a:lnTo>
                      <a:lnTo>
                        <a:pt x="39" y="0"/>
                      </a:lnTo>
                      <a:lnTo>
                        <a:pt x="57" y="22"/>
                      </a:lnTo>
                      <a:lnTo>
                        <a:pt x="66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11920" y="2435400"/>
                  <a:ext cx="16200" cy="35640"/>
                </a:xfrm>
                <a:custGeom>
                  <a:avLst/>
                  <a:gdLst/>
                  <a:ahLst/>
                  <a:rect l="l" t="t" r="r" b="b"/>
                  <a:pathLst>
                    <a:path w="56" h="138">
                      <a:moveTo>
                        <a:pt x="9" y="138"/>
                      </a:moveTo>
                      <a:lnTo>
                        <a:pt x="0" y="35"/>
                      </a:lnTo>
                      <a:lnTo>
                        <a:pt x="30" y="0"/>
                      </a:lnTo>
                      <a:lnTo>
                        <a:pt x="56" y="15"/>
                      </a:lnTo>
                      <a:lnTo>
                        <a:pt x="52" y="42"/>
                      </a:lnTo>
                      <a:lnTo>
                        <a:pt x="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45760" y="2463480"/>
                  <a:ext cx="38880" cy="21960"/>
                </a:xfrm>
                <a:custGeom>
                  <a:avLst/>
                  <a:gdLst/>
                  <a:ahLst/>
                  <a:rect l="l" t="t" r="r" b="b"/>
                  <a:pathLst>
                    <a:path w="135" h="86">
                      <a:moveTo>
                        <a:pt x="0" y="86"/>
                      </a:moveTo>
                      <a:lnTo>
                        <a:pt x="100" y="0"/>
                      </a:lnTo>
                      <a:lnTo>
                        <a:pt x="135" y="17"/>
                      </a:lnTo>
                      <a:lnTo>
                        <a:pt x="132" y="45"/>
                      </a:lnTo>
                      <a:lnTo>
                        <a:pt x="114" y="59"/>
                      </a:lnTo>
                      <a:lnTo>
                        <a:pt x="0" y="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469440" y="2486880"/>
                <a:ext cx="299880" cy="824040"/>
                <a:chOff x="469440" y="2486880"/>
                <a:chExt cx="299880" cy="8240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23800" y="2622600"/>
                  <a:ext cx="150840" cy="143280"/>
                </a:xfrm>
                <a:custGeom>
                  <a:avLst/>
                  <a:gdLst/>
                  <a:ahLst/>
                  <a:rect l="l" t="t" r="r" b="b"/>
                  <a:pathLst>
                    <a:path w="560" h="554">
                      <a:moveTo>
                        <a:pt x="366" y="160"/>
                      </a:moveTo>
                      <a:lnTo>
                        <a:pt x="297" y="56"/>
                      </a:lnTo>
                      <a:lnTo>
                        <a:pt x="228" y="0"/>
                      </a:lnTo>
                      <a:lnTo>
                        <a:pt x="145" y="0"/>
                      </a:lnTo>
                      <a:lnTo>
                        <a:pt x="55" y="36"/>
                      </a:lnTo>
                      <a:lnTo>
                        <a:pt x="14" y="97"/>
                      </a:lnTo>
                      <a:lnTo>
                        <a:pt x="0" y="181"/>
                      </a:lnTo>
                      <a:lnTo>
                        <a:pt x="14" y="291"/>
                      </a:lnTo>
                      <a:lnTo>
                        <a:pt x="69" y="416"/>
                      </a:lnTo>
                      <a:lnTo>
                        <a:pt x="166" y="499"/>
                      </a:lnTo>
                      <a:lnTo>
                        <a:pt x="241" y="540"/>
                      </a:lnTo>
                      <a:lnTo>
                        <a:pt x="318" y="554"/>
                      </a:lnTo>
                      <a:lnTo>
                        <a:pt x="380" y="533"/>
                      </a:lnTo>
                      <a:lnTo>
                        <a:pt x="414" y="499"/>
                      </a:lnTo>
                      <a:lnTo>
                        <a:pt x="436" y="416"/>
                      </a:lnTo>
                      <a:lnTo>
                        <a:pt x="429" y="319"/>
                      </a:lnTo>
                      <a:lnTo>
                        <a:pt x="407" y="237"/>
                      </a:lnTo>
                      <a:lnTo>
                        <a:pt x="545" y="160"/>
                      </a:lnTo>
                      <a:lnTo>
                        <a:pt x="560" y="126"/>
                      </a:lnTo>
                      <a:lnTo>
                        <a:pt x="545" y="111"/>
                      </a:lnTo>
                      <a:lnTo>
                        <a:pt x="393" y="201"/>
                      </a:lnTo>
                      <a:lnTo>
                        <a:pt x="366" y="1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31440" y="2486880"/>
                  <a:ext cx="134280" cy="320760"/>
                </a:xfrm>
                <a:custGeom>
                  <a:avLst/>
                  <a:gdLst/>
                  <a:ahLst/>
                  <a:rect l="l" t="t" r="r" b="b"/>
                  <a:pathLst>
                    <a:path w="498" h="1238">
                      <a:moveTo>
                        <a:pt x="138" y="1045"/>
                      </a:moveTo>
                      <a:lnTo>
                        <a:pt x="47" y="1113"/>
                      </a:lnTo>
                      <a:lnTo>
                        <a:pt x="20" y="1135"/>
                      </a:lnTo>
                      <a:lnTo>
                        <a:pt x="0" y="1183"/>
                      </a:lnTo>
                      <a:lnTo>
                        <a:pt x="27" y="1231"/>
                      </a:lnTo>
                      <a:lnTo>
                        <a:pt x="54" y="1238"/>
                      </a:lnTo>
                      <a:lnTo>
                        <a:pt x="138" y="1210"/>
                      </a:lnTo>
                      <a:lnTo>
                        <a:pt x="262" y="1113"/>
                      </a:lnTo>
                      <a:lnTo>
                        <a:pt x="373" y="997"/>
                      </a:lnTo>
                      <a:lnTo>
                        <a:pt x="491" y="864"/>
                      </a:lnTo>
                      <a:lnTo>
                        <a:pt x="498" y="809"/>
                      </a:lnTo>
                      <a:lnTo>
                        <a:pt x="498" y="658"/>
                      </a:lnTo>
                      <a:lnTo>
                        <a:pt x="464" y="422"/>
                      </a:lnTo>
                      <a:lnTo>
                        <a:pt x="484" y="284"/>
                      </a:lnTo>
                      <a:lnTo>
                        <a:pt x="498" y="228"/>
                      </a:lnTo>
                      <a:lnTo>
                        <a:pt x="477" y="201"/>
                      </a:lnTo>
                      <a:lnTo>
                        <a:pt x="428" y="173"/>
                      </a:lnTo>
                      <a:lnTo>
                        <a:pt x="394" y="153"/>
                      </a:lnTo>
                      <a:lnTo>
                        <a:pt x="414" y="28"/>
                      </a:lnTo>
                      <a:lnTo>
                        <a:pt x="401" y="0"/>
                      </a:lnTo>
                      <a:lnTo>
                        <a:pt x="373" y="8"/>
                      </a:lnTo>
                      <a:lnTo>
                        <a:pt x="360" y="167"/>
                      </a:lnTo>
                      <a:lnTo>
                        <a:pt x="346" y="208"/>
                      </a:lnTo>
                      <a:lnTo>
                        <a:pt x="339" y="235"/>
                      </a:lnTo>
                      <a:lnTo>
                        <a:pt x="283" y="214"/>
                      </a:lnTo>
                      <a:lnTo>
                        <a:pt x="242" y="214"/>
                      </a:lnTo>
                      <a:lnTo>
                        <a:pt x="242" y="242"/>
                      </a:lnTo>
                      <a:lnTo>
                        <a:pt x="269" y="264"/>
                      </a:lnTo>
                      <a:lnTo>
                        <a:pt x="319" y="264"/>
                      </a:lnTo>
                      <a:lnTo>
                        <a:pt x="353" y="291"/>
                      </a:lnTo>
                      <a:lnTo>
                        <a:pt x="380" y="339"/>
                      </a:lnTo>
                      <a:lnTo>
                        <a:pt x="408" y="416"/>
                      </a:lnTo>
                      <a:lnTo>
                        <a:pt x="428" y="567"/>
                      </a:lnTo>
                      <a:lnTo>
                        <a:pt x="428" y="706"/>
                      </a:lnTo>
                      <a:lnTo>
                        <a:pt x="414" y="816"/>
                      </a:lnTo>
                      <a:lnTo>
                        <a:pt x="387" y="864"/>
                      </a:lnTo>
                      <a:lnTo>
                        <a:pt x="290" y="934"/>
                      </a:lnTo>
                      <a:lnTo>
                        <a:pt x="186" y="997"/>
                      </a:lnTo>
                      <a:lnTo>
                        <a:pt x="138" y="10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9440" y="2782800"/>
                  <a:ext cx="121320" cy="193320"/>
                </a:xfrm>
                <a:custGeom>
                  <a:avLst/>
                  <a:gdLst/>
                  <a:ahLst/>
                  <a:rect l="l" t="t" r="r" b="b"/>
                  <a:pathLst>
                    <a:path w="451" h="747">
                      <a:moveTo>
                        <a:pt x="451" y="20"/>
                      </a:moveTo>
                      <a:lnTo>
                        <a:pt x="401" y="0"/>
                      </a:lnTo>
                      <a:lnTo>
                        <a:pt x="297" y="7"/>
                      </a:lnTo>
                      <a:lnTo>
                        <a:pt x="207" y="76"/>
                      </a:lnTo>
                      <a:lnTo>
                        <a:pt x="75" y="221"/>
                      </a:lnTo>
                      <a:lnTo>
                        <a:pt x="7" y="339"/>
                      </a:lnTo>
                      <a:lnTo>
                        <a:pt x="0" y="380"/>
                      </a:lnTo>
                      <a:lnTo>
                        <a:pt x="34" y="457"/>
                      </a:lnTo>
                      <a:lnTo>
                        <a:pt x="110" y="491"/>
                      </a:lnTo>
                      <a:lnTo>
                        <a:pt x="207" y="532"/>
                      </a:lnTo>
                      <a:lnTo>
                        <a:pt x="283" y="552"/>
                      </a:lnTo>
                      <a:lnTo>
                        <a:pt x="318" y="588"/>
                      </a:lnTo>
                      <a:lnTo>
                        <a:pt x="297" y="636"/>
                      </a:lnTo>
                      <a:lnTo>
                        <a:pt x="242" y="692"/>
                      </a:lnTo>
                      <a:lnTo>
                        <a:pt x="173" y="699"/>
                      </a:lnTo>
                      <a:lnTo>
                        <a:pt x="125" y="677"/>
                      </a:lnTo>
                      <a:lnTo>
                        <a:pt x="96" y="699"/>
                      </a:lnTo>
                      <a:lnTo>
                        <a:pt x="103" y="726"/>
                      </a:lnTo>
                      <a:lnTo>
                        <a:pt x="159" y="747"/>
                      </a:lnTo>
                      <a:lnTo>
                        <a:pt x="242" y="747"/>
                      </a:lnTo>
                      <a:lnTo>
                        <a:pt x="318" y="726"/>
                      </a:lnTo>
                      <a:lnTo>
                        <a:pt x="360" y="699"/>
                      </a:lnTo>
                      <a:lnTo>
                        <a:pt x="388" y="650"/>
                      </a:lnTo>
                      <a:lnTo>
                        <a:pt x="401" y="595"/>
                      </a:lnTo>
                      <a:lnTo>
                        <a:pt x="367" y="546"/>
                      </a:lnTo>
                      <a:lnTo>
                        <a:pt x="283" y="511"/>
                      </a:lnTo>
                      <a:lnTo>
                        <a:pt x="186" y="484"/>
                      </a:lnTo>
                      <a:lnTo>
                        <a:pt x="103" y="436"/>
                      </a:lnTo>
                      <a:lnTo>
                        <a:pt x="82" y="394"/>
                      </a:lnTo>
                      <a:lnTo>
                        <a:pt x="96" y="319"/>
                      </a:lnTo>
                      <a:lnTo>
                        <a:pt x="159" y="221"/>
                      </a:lnTo>
                      <a:lnTo>
                        <a:pt x="236" y="165"/>
                      </a:lnTo>
                      <a:lnTo>
                        <a:pt x="353" y="124"/>
                      </a:lnTo>
                      <a:lnTo>
                        <a:pt x="451" y="104"/>
                      </a:lnTo>
                      <a:lnTo>
                        <a:pt x="451" y="48"/>
                      </a:lnTo>
                      <a:lnTo>
                        <a:pt x="451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68080" y="2773800"/>
                  <a:ext cx="113760" cy="237600"/>
                </a:xfrm>
                <a:custGeom>
                  <a:avLst/>
                  <a:gdLst/>
                  <a:ahLst/>
                  <a:rect l="l" t="t" r="r" b="b"/>
                  <a:pathLst>
                    <a:path w="422" h="919">
                      <a:moveTo>
                        <a:pt x="367" y="290"/>
                      </a:moveTo>
                      <a:lnTo>
                        <a:pt x="325" y="117"/>
                      </a:lnTo>
                      <a:lnTo>
                        <a:pt x="277" y="34"/>
                      </a:lnTo>
                      <a:lnTo>
                        <a:pt x="173" y="0"/>
                      </a:lnTo>
                      <a:lnTo>
                        <a:pt x="68" y="13"/>
                      </a:lnTo>
                      <a:lnTo>
                        <a:pt x="21" y="104"/>
                      </a:lnTo>
                      <a:lnTo>
                        <a:pt x="27" y="214"/>
                      </a:lnTo>
                      <a:lnTo>
                        <a:pt x="55" y="394"/>
                      </a:lnTo>
                      <a:lnTo>
                        <a:pt x="55" y="552"/>
                      </a:lnTo>
                      <a:lnTo>
                        <a:pt x="21" y="690"/>
                      </a:lnTo>
                      <a:lnTo>
                        <a:pt x="0" y="767"/>
                      </a:lnTo>
                      <a:lnTo>
                        <a:pt x="14" y="835"/>
                      </a:lnTo>
                      <a:lnTo>
                        <a:pt x="62" y="871"/>
                      </a:lnTo>
                      <a:lnTo>
                        <a:pt x="125" y="905"/>
                      </a:lnTo>
                      <a:lnTo>
                        <a:pt x="186" y="919"/>
                      </a:lnTo>
                      <a:lnTo>
                        <a:pt x="263" y="919"/>
                      </a:lnTo>
                      <a:lnTo>
                        <a:pt x="353" y="849"/>
                      </a:lnTo>
                      <a:lnTo>
                        <a:pt x="422" y="704"/>
                      </a:lnTo>
                      <a:lnTo>
                        <a:pt x="415" y="573"/>
                      </a:lnTo>
                      <a:lnTo>
                        <a:pt x="374" y="421"/>
                      </a:lnTo>
                      <a:lnTo>
                        <a:pt x="367" y="2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34600" y="2967120"/>
                  <a:ext cx="86040" cy="343800"/>
                </a:xfrm>
                <a:custGeom>
                  <a:avLst/>
                  <a:gdLst/>
                  <a:ahLst/>
                  <a:rect l="l" t="t" r="r" b="b"/>
                  <a:pathLst>
                    <a:path w="320" h="1329">
                      <a:moveTo>
                        <a:pt x="305" y="21"/>
                      </a:moveTo>
                      <a:lnTo>
                        <a:pt x="223" y="0"/>
                      </a:lnTo>
                      <a:lnTo>
                        <a:pt x="174" y="21"/>
                      </a:lnTo>
                      <a:lnTo>
                        <a:pt x="153" y="89"/>
                      </a:lnTo>
                      <a:lnTo>
                        <a:pt x="174" y="470"/>
                      </a:lnTo>
                      <a:lnTo>
                        <a:pt x="174" y="560"/>
                      </a:lnTo>
                      <a:lnTo>
                        <a:pt x="147" y="727"/>
                      </a:lnTo>
                      <a:lnTo>
                        <a:pt x="140" y="920"/>
                      </a:lnTo>
                      <a:lnTo>
                        <a:pt x="153" y="1017"/>
                      </a:lnTo>
                      <a:lnTo>
                        <a:pt x="140" y="1071"/>
                      </a:lnTo>
                      <a:lnTo>
                        <a:pt x="42" y="1155"/>
                      </a:lnTo>
                      <a:lnTo>
                        <a:pt x="0" y="1259"/>
                      </a:lnTo>
                      <a:lnTo>
                        <a:pt x="8" y="1293"/>
                      </a:lnTo>
                      <a:lnTo>
                        <a:pt x="84" y="1329"/>
                      </a:lnTo>
                      <a:lnTo>
                        <a:pt x="104" y="1314"/>
                      </a:lnTo>
                      <a:lnTo>
                        <a:pt x="112" y="1252"/>
                      </a:lnTo>
                      <a:lnTo>
                        <a:pt x="133" y="1162"/>
                      </a:lnTo>
                      <a:lnTo>
                        <a:pt x="167" y="1121"/>
                      </a:lnTo>
                      <a:lnTo>
                        <a:pt x="208" y="1093"/>
                      </a:lnTo>
                      <a:lnTo>
                        <a:pt x="244" y="1058"/>
                      </a:lnTo>
                      <a:lnTo>
                        <a:pt x="251" y="1030"/>
                      </a:lnTo>
                      <a:lnTo>
                        <a:pt x="230" y="996"/>
                      </a:lnTo>
                      <a:lnTo>
                        <a:pt x="208" y="976"/>
                      </a:lnTo>
                      <a:lnTo>
                        <a:pt x="194" y="892"/>
                      </a:lnTo>
                      <a:lnTo>
                        <a:pt x="208" y="719"/>
                      </a:lnTo>
                      <a:lnTo>
                        <a:pt x="257" y="519"/>
                      </a:lnTo>
                      <a:lnTo>
                        <a:pt x="305" y="359"/>
                      </a:lnTo>
                      <a:lnTo>
                        <a:pt x="320" y="166"/>
                      </a:lnTo>
                      <a:lnTo>
                        <a:pt x="305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27840" y="2967120"/>
                  <a:ext cx="141480" cy="290160"/>
                </a:xfrm>
                <a:custGeom>
                  <a:avLst/>
                  <a:gdLst/>
                  <a:ahLst/>
                  <a:rect l="l" t="t" r="r" b="b"/>
                  <a:pathLst>
                    <a:path w="526" h="1121">
                      <a:moveTo>
                        <a:pt x="172" y="166"/>
                      </a:moveTo>
                      <a:lnTo>
                        <a:pt x="159" y="55"/>
                      </a:lnTo>
                      <a:lnTo>
                        <a:pt x="97" y="0"/>
                      </a:lnTo>
                      <a:lnTo>
                        <a:pt x="7" y="7"/>
                      </a:lnTo>
                      <a:lnTo>
                        <a:pt x="0" y="55"/>
                      </a:lnTo>
                      <a:lnTo>
                        <a:pt x="7" y="159"/>
                      </a:lnTo>
                      <a:lnTo>
                        <a:pt x="55" y="318"/>
                      </a:lnTo>
                      <a:lnTo>
                        <a:pt x="90" y="435"/>
                      </a:lnTo>
                      <a:lnTo>
                        <a:pt x="131" y="594"/>
                      </a:lnTo>
                      <a:lnTo>
                        <a:pt x="145" y="732"/>
                      </a:lnTo>
                      <a:lnTo>
                        <a:pt x="145" y="843"/>
                      </a:lnTo>
                      <a:lnTo>
                        <a:pt x="124" y="926"/>
                      </a:lnTo>
                      <a:lnTo>
                        <a:pt x="104" y="954"/>
                      </a:lnTo>
                      <a:lnTo>
                        <a:pt x="104" y="981"/>
                      </a:lnTo>
                      <a:lnTo>
                        <a:pt x="131" y="1024"/>
                      </a:lnTo>
                      <a:lnTo>
                        <a:pt x="179" y="1037"/>
                      </a:lnTo>
                      <a:lnTo>
                        <a:pt x="256" y="1037"/>
                      </a:lnTo>
                      <a:lnTo>
                        <a:pt x="394" y="1071"/>
                      </a:lnTo>
                      <a:lnTo>
                        <a:pt x="435" y="1121"/>
                      </a:lnTo>
                      <a:lnTo>
                        <a:pt x="498" y="1092"/>
                      </a:lnTo>
                      <a:lnTo>
                        <a:pt x="526" y="1024"/>
                      </a:lnTo>
                      <a:lnTo>
                        <a:pt x="498" y="996"/>
                      </a:lnTo>
                      <a:lnTo>
                        <a:pt x="380" y="981"/>
                      </a:lnTo>
                      <a:lnTo>
                        <a:pt x="249" y="981"/>
                      </a:lnTo>
                      <a:lnTo>
                        <a:pt x="193" y="974"/>
                      </a:lnTo>
                      <a:lnTo>
                        <a:pt x="179" y="933"/>
                      </a:lnTo>
                      <a:lnTo>
                        <a:pt x="193" y="857"/>
                      </a:lnTo>
                      <a:lnTo>
                        <a:pt x="201" y="725"/>
                      </a:lnTo>
                      <a:lnTo>
                        <a:pt x="186" y="580"/>
                      </a:lnTo>
                      <a:lnTo>
                        <a:pt x="165" y="388"/>
                      </a:lnTo>
                      <a:lnTo>
                        <a:pt x="172" y="221"/>
                      </a:lnTo>
                      <a:lnTo>
                        <a:pt x="172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9560" y="2480760"/>
                <a:ext cx="113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"/>
            <p:cNvSpPr/>
            <p:nvPr/>
          </p:nvSpPr>
          <p:spPr>
            <a:xfrm flipV="1">
              <a:off x="1143000" y="2578320"/>
              <a:ext cx="52704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544920" y="1951200"/>
            <a:ext cx="3167280" cy="4262400"/>
            <a:chOff x="3544920" y="1951200"/>
            <a:chExt cx="3167280" cy="4262400"/>
          </a:xfrm>
        </p:grpSpPr>
        <p:sp>
          <p:nvSpPr>
            <p:cNvPr id="209" name=""/>
            <p:cNvSpPr/>
            <p:nvPr/>
          </p:nvSpPr>
          <p:spPr>
            <a:xfrm>
              <a:off x="3544920" y="1951200"/>
              <a:ext cx="3090600" cy="4190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84600" y="5814720"/>
              <a:ext cx="122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RE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2716560" y="1943280"/>
            <a:ext cx="2274480" cy="4840920"/>
            <a:chOff x="2716560" y="1943280"/>
            <a:chExt cx="2274480" cy="4840920"/>
          </a:xfrm>
        </p:grpSpPr>
        <p:grpSp>
          <p:nvGrpSpPr>
            <p:cNvPr id="212" name=""/>
            <p:cNvGrpSpPr/>
            <p:nvPr/>
          </p:nvGrpSpPr>
          <p:grpSpPr>
            <a:xfrm>
              <a:off x="2716560" y="1943280"/>
              <a:ext cx="1572120" cy="4840920"/>
              <a:chOff x="2716560" y="1943280"/>
              <a:chExt cx="1572120" cy="4840920"/>
            </a:xfrm>
          </p:grpSpPr>
          <p:sp>
            <p:nvSpPr>
              <p:cNvPr id="213" name=""/>
              <p:cNvSpPr/>
              <p:nvPr/>
            </p:nvSpPr>
            <p:spPr>
              <a:xfrm>
                <a:off x="3544920" y="1943280"/>
                <a:ext cx="0" cy="448128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16560" y="6324480"/>
                <a:ext cx="157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Transl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998800" y="1962000"/>
              <a:ext cx="1992240" cy="4115520"/>
              <a:chOff x="2998800" y="1962000"/>
              <a:chExt cx="1992240" cy="4115520"/>
            </a:xfrm>
          </p:grpSpPr>
          <p:sp>
            <p:nvSpPr>
              <p:cNvPr id="216" name=""/>
              <p:cNvSpPr/>
              <p:nvPr/>
            </p:nvSpPr>
            <p:spPr>
              <a:xfrm>
                <a:off x="3706920" y="2034720"/>
                <a:ext cx="1251000" cy="845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74520" y="1962000"/>
                <a:ext cx="124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uppor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in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01880" y="4182480"/>
                <a:ext cx="1213200" cy="845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735360" y="4203000"/>
                <a:ext cx="1087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of 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10160" y="3036240"/>
                <a:ext cx="1214280" cy="84600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95760" y="3052080"/>
                <a:ext cx="1295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 Ru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998800" y="2250360"/>
                <a:ext cx="861840" cy="430200"/>
              </a:xfrm>
              <a:custGeom>
                <a:avLst/>
                <a:gdLst>
                  <a:gd name="textAreaLeft" fmla="*/ 134640 w 861840"/>
                  <a:gd name="textAreaRight" fmla="*/ 754200 w 861840"/>
                  <a:gd name="textAreaTop" fmla="*/ 107640 h 430200"/>
                  <a:gd name="textAreaBottom" fmla="*/ 322920 h 430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998800" y="3218760"/>
                <a:ext cx="861840" cy="426960"/>
              </a:xfrm>
              <a:custGeom>
                <a:avLst/>
                <a:gdLst>
                  <a:gd name="textAreaLeft" fmla="*/ 134640 w 861840"/>
                  <a:gd name="textAreaRight" fmla="*/ 754200 w 861840"/>
                  <a:gd name="textAreaTop" fmla="*/ 106560 h 426960"/>
                  <a:gd name="textAreaBottom" fmla="*/ 320400 h 42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03480" y="4263480"/>
                <a:ext cx="854280" cy="429840"/>
              </a:xfrm>
              <a:custGeom>
                <a:avLst/>
                <a:gdLst>
                  <a:gd name="textAreaLeft" fmla="*/ 133200 w 854280"/>
                  <a:gd name="textAreaRight" fmla="*/ 747720 w 854280"/>
                  <a:gd name="textAreaTop" fmla="*/ 107280 h 429840"/>
                  <a:gd name="textAreaBottom" fmla="*/ 322560 h 42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08360" y="5231880"/>
                <a:ext cx="1214640" cy="845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78920" y="5193720"/>
                <a:ext cx="101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C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Que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02040" y="5400000"/>
                <a:ext cx="853920" cy="429840"/>
              </a:xfrm>
              <a:custGeom>
                <a:avLst/>
                <a:gdLst>
                  <a:gd name="textAreaLeft" fmla="*/ 133200 w 853920"/>
                  <a:gd name="textAreaRight" fmla="*/ 747360 w 853920"/>
                  <a:gd name="textAreaTop" fmla="*/ 107280 h 429840"/>
                  <a:gd name="textAreaBottom" fmla="*/ 322560 h 42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3503520" y="3654360"/>
            <a:ext cx="1649160" cy="758880"/>
            <a:chOff x="3503520" y="3654360"/>
            <a:chExt cx="1649160" cy="758880"/>
          </a:xfrm>
        </p:grpSpPr>
        <p:sp>
          <p:nvSpPr>
            <p:cNvPr id="229" name=""/>
            <p:cNvSpPr/>
            <p:nvPr/>
          </p:nvSpPr>
          <p:spPr>
            <a:xfrm flipH="1">
              <a:off x="3544920" y="4127400"/>
              <a:ext cx="1607760" cy="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3520" y="380196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Times New Roman"/>
                </a:rPr>
                <a:t>Infer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 rot="5400000">
              <a:off x="4458960" y="3900600"/>
              <a:ext cx="758880" cy="266400"/>
            </a:xfrm>
            <a:prstGeom prst="rightArrow">
              <a:avLst>
                <a:gd name="adj1" fmla="val 50000"/>
                <a:gd name="adj2" fmla="val 71216"/>
              </a:avLst>
            </a:pr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814000" y="1943280"/>
            <a:ext cx="3101400" cy="4840920"/>
            <a:chOff x="5814000" y="1943280"/>
            <a:chExt cx="3101400" cy="4840920"/>
          </a:xfrm>
        </p:grpSpPr>
        <p:grpSp>
          <p:nvGrpSpPr>
            <p:cNvPr id="233" name=""/>
            <p:cNvGrpSpPr/>
            <p:nvPr/>
          </p:nvGrpSpPr>
          <p:grpSpPr>
            <a:xfrm>
              <a:off x="6681240" y="2965320"/>
              <a:ext cx="2234160" cy="847440"/>
              <a:chOff x="6681240" y="2965320"/>
              <a:chExt cx="2234160" cy="847440"/>
            </a:xfrm>
          </p:grpSpPr>
          <p:sp>
            <p:nvSpPr>
              <p:cNvPr id="234" name=""/>
              <p:cNvSpPr/>
              <p:nvPr/>
            </p:nvSpPr>
            <p:spPr>
              <a:xfrm>
                <a:off x="6751800" y="2965320"/>
                <a:ext cx="1357200" cy="845640"/>
              </a:xfrm>
              <a:prstGeom prst="foldedCorner">
                <a:avLst>
                  <a:gd name="adj" fmla="val 125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81240" y="2987280"/>
                <a:ext cx="1418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sult 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D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8534520" y="2968200"/>
                <a:ext cx="380880" cy="758160"/>
                <a:chOff x="8534520" y="2968200"/>
                <a:chExt cx="380880" cy="75816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8645040" y="3010320"/>
                  <a:ext cx="149040" cy="1652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8743320" y="2968200"/>
                  <a:ext cx="171720" cy="26568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8663760" y="3188160"/>
                  <a:ext cx="89280" cy="24912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H="1">
                  <a:off x="8574480" y="3195360"/>
                  <a:ext cx="137520" cy="1911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>
                  <a:off x="8534160" y="3412080"/>
                  <a:ext cx="166680" cy="30924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 flipH="1">
                  <a:off x="8693640" y="3411360"/>
                  <a:ext cx="111960" cy="31500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8077320" y="3487320"/>
                <a:ext cx="57312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158320" y="3472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6642000" y="1943280"/>
              <a:ext cx="0" cy="4481280"/>
            </a:xfrm>
            <a:prstGeom prst="line">
              <a:avLst/>
            </a:prstGeom>
            <a:ln w="28440">
              <a:solidFill>
                <a:srgbClr val="cc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14000" y="632448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Trans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48520" y="3220920"/>
              <a:ext cx="653760" cy="382320"/>
            </a:xfrm>
            <a:custGeom>
              <a:avLst/>
              <a:gdLst>
                <a:gd name="textAreaLeft" fmla="*/ 101880 w 653760"/>
                <a:gd name="textAreaRight" fmla="*/ 549720 w 653760"/>
                <a:gd name="textAreaTop" fmla="*/ 106560 h 382320"/>
                <a:gd name="textAreaBottom" fmla="*/ 275760 h 38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022"/>
                  </a:moveTo>
                  <a:lnTo>
                    <a:pt x="13826" y="6022"/>
                  </a:lnTo>
                  <a:lnTo>
                    <a:pt x="13826" y="0"/>
                  </a:lnTo>
                  <a:lnTo>
                    <a:pt x="21600" y="10800"/>
                  </a:lnTo>
                  <a:lnTo>
                    <a:pt x="13826" y="21600"/>
                  </a:lnTo>
                  <a:lnTo>
                    <a:pt x="13826" y="15578"/>
                  </a:lnTo>
                  <a:lnTo>
                    <a:pt x="3375" y="15578"/>
                  </a:lnTo>
                  <a:close/>
                </a:path>
                <a:path w="21600" h="21600">
                  <a:moveTo>
                    <a:pt x="0" y="6022"/>
                  </a:moveTo>
                  <a:lnTo>
                    <a:pt x="675" y="6022"/>
                  </a:lnTo>
                  <a:lnTo>
                    <a:pt x="675" y="15578"/>
                  </a:lnTo>
                  <a:lnTo>
                    <a:pt x="0" y="15578"/>
                  </a:lnTo>
                  <a:close/>
                </a:path>
                <a:path w="21600" h="21600">
                  <a:moveTo>
                    <a:pt x="1350" y="6022"/>
                  </a:moveTo>
                  <a:lnTo>
                    <a:pt x="2700" y="6022"/>
                  </a:lnTo>
                  <a:lnTo>
                    <a:pt x="2700" y="15578"/>
                  </a:lnTo>
                  <a:lnTo>
                    <a:pt x="1350" y="15578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04920" y="1587600"/>
            <a:ext cx="8800920" cy="5231880"/>
            <a:chOff x="304920" y="1587600"/>
            <a:chExt cx="8800920" cy="5231880"/>
          </a:xfrm>
        </p:grpSpPr>
        <p:sp>
          <p:nvSpPr>
            <p:cNvPr id="249" name=""/>
            <p:cNvSpPr/>
            <p:nvPr/>
          </p:nvSpPr>
          <p:spPr>
            <a:xfrm>
              <a:off x="7470720" y="1587600"/>
              <a:ext cx="1486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principl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8334360" y="1740240"/>
              <a:ext cx="771480" cy="837720"/>
              <a:chOff x="8334360" y="1740240"/>
              <a:chExt cx="771480" cy="837720"/>
            </a:xfrm>
          </p:grpSpPr>
          <p:sp>
            <p:nvSpPr>
              <p:cNvPr id="251" name=""/>
              <p:cNvSpPr/>
              <p:nvPr/>
            </p:nvSpPr>
            <p:spPr>
              <a:xfrm flipV="1">
                <a:off x="8944200" y="174024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62960" y="189252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 rot="16200000">
                <a:off x="8867880" y="181656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944200" y="212112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334360" y="189252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04920" y="6134040"/>
              <a:ext cx="622080" cy="685440"/>
              <a:chOff x="304920" y="6134040"/>
              <a:chExt cx="622080" cy="685440"/>
            </a:xfrm>
          </p:grpSpPr>
          <p:sp>
            <p:nvSpPr>
              <p:cNvPr id="257" name=""/>
              <p:cNvSpPr/>
              <p:nvPr/>
            </p:nvSpPr>
            <p:spPr>
              <a:xfrm>
                <a:off x="435240" y="644580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304920" y="669492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flipV="1" rot="5400000">
                <a:off x="373320" y="663264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240" y="613404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742680" y="669492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2844720" y="2664000"/>
            <a:ext cx="6261120" cy="2666520"/>
            <a:chOff x="2844720" y="2664000"/>
            <a:chExt cx="6261120" cy="2666520"/>
          </a:xfrm>
        </p:grpSpPr>
        <p:sp>
          <p:nvSpPr>
            <p:cNvPr id="263" name=""/>
            <p:cNvSpPr/>
            <p:nvPr/>
          </p:nvSpPr>
          <p:spPr>
            <a:xfrm>
              <a:off x="3018600" y="3044880"/>
              <a:ext cx="5911560" cy="206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Class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Entity’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Class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Document’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subClassOf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Entity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/rdfs:Class&gt;  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Property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ID=‘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Author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subPropertyOf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Creator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domain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Document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rdfs: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range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 rdf:resource=‘#</a:t>
              </a:r>
              <a:r>
                <a:rPr b="1" sz="1600" spc="-1" strike="noStrike">
                  <a:solidFill>
                    <a:srgbClr val="006600"/>
                  </a:solidFill>
                  <a:latin typeface="Courier New"/>
                </a:rPr>
                <a:t>Person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’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&lt;/rdf:Property&gt;  </a:t>
              </a:r>
              <a:r>
                <a:rPr b="0" sz="1600" spc="-1" strike="noStrike">
                  <a:solidFill>
                    <a:srgbClr val="006600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6327720" y="2664000"/>
              <a:ext cx="2778120" cy="989640"/>
              <a:chOff x="6327720" y="2664000"/>
              <a:chExt cx="2778120" cy="989640"/>
            </a:xfrm>
          </p:grpSpPr>
          <p:sp>
            <p:nvSpPr>
              <p:cNvPr id="265" name=""/>
              <p:cNvSpPr/>
              <p:nvPr/>
            </p:nvSpPr>
            <p:spPr>
              <a:xfrm>
                <a:off x="6327720" y="2664000"/>
                <a:ext cx="259092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c3300"/>
                    </a:solidFill>
                    <a:latin typeface="Arial"/>
                  </a:rPr>
                  <a:t>example of schema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8334360" y="2816280"/>
                <a:ext cx="771480" cy="837360"/>
                <a:chOff x="8334360" y="2816280"/>
                <a:chExt cx="771480" cy="83736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8944200" y="2816280"/>
                  <a:ext cx="0" cy="4564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8562960" y="2968560"/>
                  <a:ext cx="54288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 rot="16200000">
                  <a:off x="8867880" y="2892600"/>
                  <a:ext cx="151560" cy="15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60506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6050626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V="1">
                  <a:off x="8944200" y="3197160"/>
                  <a:ext cx="0" cy="4564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34360" y="2968560"/>
                  <a:ext cx="22860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"/>
            <p:cNvGrpSpPr/>
            <p:nvPr/>
          </p:nvGrpSpPr>
          <p:grpSpPr>
            <a:xfrm>
              <a:off x="2844720" y="4645080"/>
              <a:ext cx="622080" cy="685440"/>
              <a:chOff x="2844720" y="4645080"/>
              <a:chExt cx="622080" cy="685440"/>
            </a:xfrm>
          </p:grpSpPr>
          <p:sp>
            <p:nvSpPr>
              <p:cNvPr id="273" name=""/>
              <p:cNvSpPr/>
              <p:nvPr/>
            </p:nvSpPr>
            <p:spPr>
              <a:xfrm>
                <a:off x="2975040" y="495684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2844720" y="520596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 rot="5400000">
                <a:off x="2913120" y="514368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975040" y="464508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3282480" y="520596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1209600" y="4797360"/>
            <a:ext cx="7896240" cy="1828440"/>
            <a:chOff x="1209600" y="4797360"/>
            <a:chExt cx="7896240" cy="1828440"/>
          </a:xfrm>
        </p:grpSpPr>
        <p:sp>
          <p:nvSpPr>
            <p:cNvPr id="279" name=""/>
            <p:cNvSpPr/>
            <p:nvPr/>
          </p:nvSpPr>
          <p:spPr>
            <a:xfrm>
              <a:off x="1386000" y="5178240"/>
              <a:ext cx="7495920" cy="12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Document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rdf:about=“http://www-sop.inria.fr/aar.doc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Title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gt;Annual activity report of ACACIA&lt;/CoMMA:Title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Author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Person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rdf:about=“http://www.inria.fr/~rdieng/”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Autho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Document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6327720" y="4797360"/>
              <a:ext cx="2778120" cy="990720"/>
              <a:chOff x="6327720" y="4797360"/>
              <a:chExt cx="2778120" cy="990720"/>
            </a:xfrm>
          </p:grpSpPr>
          <p:sp>
            <p:nvSpPr>
              <p:cNvPr id="281" name=""/>
              <p:cNvSpPr/>
              <p:nvPr/>
            </p:nvSpPr>
            <p:spPr>
              <a:xfrm>
                <a:off x="6327720" y="4797360"/>
                <a:ext cx="259092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c3300"/>
                    </a:solidFill>
                    <a:latin typeface="Arial"/>
                  </a:rPr>
                  <a:t>example of annotation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8334360" y="4950360"/>
                <a:ext cx="771480" cy="837720"/>
                <a:chOff x="8334360" y="4950360"/>
                <a:chExt cx="771480" cy="83772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8944200" y="4950360"/>
                  <a:ext cx="0" cy="45684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562960" y="5102640"/>
                  <a:ext cx="54288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 flipV="1" rot="16200000">
                  <a:off x="8867880" y="5026680"/>
                  <a:ext cx="151560" cy="15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60506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6050626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8944200" y="5331240"/>
                  <a:ext cx="0" cy="45684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334360" y="5102640"/>
                  <a:ext cx="22860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1209600" y="5940360"/>
              <a:ext cx="622080" cy="685440"/>
              <a:chOff x="1209600" y="5940360"/>
              <a:chExt cx="622080" cy="685440"/>
            </a:xfrm>
          </p:grpSpPr>
          <p:sp>
            <p:nvSpPr>
              <p:cNvPr id="289" name=""/>
              <p:cNvSpPr/>
              <p:nvPr/>
            </p:nvSpPr>
            <p:spPr>
              <a:xfrm>
                <a:off x="1339920" y="625212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1209600" y="650124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 flipV="1" rot="5400000">
                <a:off x="1278000" y="643896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39920" y="594036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1647360" y="650124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4419720" y="3197160"/>
            <a:ext cx="3352680" cy="3352320"/>
            <a:chOff x="4419720" y="3197160"/>
            <a:chExt cx="3352680" cy="3352320"/>
          </a:xfrm>
        </p:grpSpPr>
        <p:sp>
          <p:nvSpPr>
            <p:cNvPr id="295" name=""/>
            <p:cNvSpPr/>
            <p:nvPr/>
          </p:nvSpPr>
          <p:spPr>
            <a:xfrm>
              <a:off x="4572000" y="3501720"/>
              <a:ext cx="3048120" cy="283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ourier New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nclu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Courier New"/>
                </a:rPr>
                <a:t>?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nclu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Courier New"/>
                </a:rPr>
                <a:t>?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Courier New"/>
                </a:rPr>
                <a:t>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Courier New"/>
                </a:rPr>
                <a:t>?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ollea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erson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i="1" lang="en-US" sz="1800" spc="-1" strike="noStrike">
                  <a:solidFill>
                    <a:srgbClr val="cc3300"/>
                  </a:solidFill>
                  <a:latin typeface="Courier New"/>
                </a:rPr>
                <a:t>?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994280" y="3197160"/>
              <a:ext cx="2778120" cy="989640"/>
              <a:chOff x="4994280" y="3197160"/>
              <a:chExt cx="2778120" cy="989640"/>
            </a:xfrm>
          </p:grpSpPr>
          <p:sp>
            <p:nvSpPr>
              <p:cNvPr id="297" name=""/>
              <p:cNvSpPr/>
              <p:nvPr/>
            </p:nvSpPr>
            <p:spPr>
              <a:xfrm>
                <a:off x="4994280" y="3197160"/>
                <a:ext cx="259092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c3300"/>
                    </a:solidFill>
                    <a:latin typeface="Arial"/>
                  </a:rPr>
                  <a:t>example of rule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7000920" y="3349440"/>
                <a:ext cx="771480" cy="837360"/>
                <a:chOff x="7000920" y="3349440"/>
                <a:chExt cx="771480" cy="837360"/>
              </a:xfrm>
            </p:grpSpPr>
            <p:sp>
              <p:nvSpPr>
                <p:cNvPr id="299" name=""/>
                <p:cNvSpPr/>
                <p:nvPr/>
              </p:nvSpPr>
              <p:spPr>
                <a:xfrm flipV="1">
                  <a:off x="7610760" y="3349440"/>
                  <a:ext cx="0" cy="4564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229520" y="3501720"/>
                  <a:ext cx="54288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 rot="16200000">
                  <a:off x="7534440" y="3425760"/>
                  <a:ext cx="151560" cy="15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60506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6050626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V="1">
                  <a:off x="7610760" y="3730320"/>
                  <a:ext cx="0" cy="45648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000920" y="3501720"/>
                  <a:ext cx="22860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4" name=""/>
            <p:cNvGrpSpPr/>
            <p:nvPr/>
          </p:nvGrpSpPr>
          <p:grpSpPr>
            <a:xfrm>
              <a:off x="4419720" y="5864040"/>
              <a:ext cx="622080" cy="685440"/>
              <a:chOff x="4419720" y="5864040"/>
              <a:chExt cx="622080" cy="685440"/>
            </a:xfrm>
          </p:grpSpPr>
          <p:sp>
            <p:nvSpPr>
              <p:cNvPr id="305" name=""/>
              <p:cNvSpPr/>
              <p:nvPr/>
            </p:nvSpPr>
            <p:spPr>
              <a:xfrm>
                <a:off x="4550040" y="617580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4419720" y="642492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 rot="5400000">
                <a:off x="4488120" y="636264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50040" y="586404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4857480" y="642492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0" name=""/>
          <p:cNvGrpSpPr/>
          <p:nvPr/>
        </p:nvGrpSpPr>
        <p:grpSpPr>
          <a:xfrm>
            <a:off x="4597560" y="4635360"/>
            <a:ext cx="4508280" cy="2133360"/>
            <a:chOff x="4597560" y="4635360"/>
            <a:chExt cx="4508280" cy="2133360"/>
          </a:xfrm>
        </p:grpSpPr>
        <p:sp>
          <p:nvSpPr>
            <p:cNvPr id="311" name=""/>
            <p:cNvSpPr/>
            <p:nvPr/>
          </p:nvSpPr>
          <p:spPr>
            <a:xfrm>
              <a:off x="4768920" y="5092560"/>
              <a:ext cx="4082400" cy="1454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000099"/>
                  </a:solidFill>
                  <a:latin typeface="Courier New"/>
                </a:rPr>
                <a:t>Article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rdf:about=“?d”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Title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?t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Title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Author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?a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Autho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</a:t>
              </a:r>
              <a:r>
                <a:rPr b="1" sz="1600" spc="-1" strike="noStrike">
                  <a:solidFill>
                    <a:srgbClr val="cc3300"/>
                  </a:solidFill>
                  <a:latin typeface="Courier New"/>
                </a:rPr>
                <a:t>Concern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CoMMA:UMTSTopic /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Concern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Courier New"/>
                </a:rPr>
                <a:t>&lt;/CoMMA:Article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6327720" y="4635360"/>
              <a:ext cx="2778120" cy="990720"/>
              <a:chOff x="6327720" y="4635360"/>
              <a:chExt cx="2778120" cy="990720"/>
            </a:xfrm>
          </p:grpSpPr>
          <p:sp>
            <p:nvSpPr>
              <p:cNvPr id="313" name=""/>
              <p:cNvSpPr/>
              <p:nvPr/>
            </p:nvSpPr>
            <p:spPr>
              <a:xfrm>
                <a:off x="6327720" y="4635360"/>
                <a:ext cx="259092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cc3300"/>
                    </a:solidFill>
                    <a:latin typeface="Arial"/>
                  </a:rPr>
                  <a:t>example of query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8334360" y="4788360"/>
                <a:ext cx="771480" cy="837720"/>
                <a:chOff x="8334360" y="4788360"/>
                <a:chExt cx="771480" cy="837720"/>
              </a:xfrm>
            </p:grpSpPr>
            <p:sp>
              <p:nvSpPr>
                <p:cNvPr id="315" name=""/>
                <p:cNvSpPr/>
                <p:nvPr/>
              </p:nvSpPr>
              <p:spPr>
                <a:xfrm flipV="1">
                  <a:off x="8944200" y="4788360"/>
                  <a:ext cx="0" cy="45684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562960" y="4940640"/>
                  <a:ext cx="54288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H="1" flipV="1" rot="16200000">
                  <a:off x="8867880" y="4864680"/>
                  <a:ext cx="151560" cy="151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605062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6050626"/>
                    </a:path>
                  </a:pathLst>
                </a:custGeom>
                <a:noFill/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8944200" y="5169240"/>
                  <a:ext cx="0" cy="45684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8334360" y="4940640"/>
                  <a:ext cx="228600" cy="0"/>
                </a:xfrm>
                <a:prstGeom prst="line">
                  <a:avLst/>
                </a:prstGeom>
                <a:ln w="9360">
                  <a:solidFill>
                    <a:srgbClr val="cc33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597560" y="6083280"/>
              <a:ext cx="622080" cy="685440"/>
              <a:chOff x="4597560" y="6083280"/>
              <a:chExt cx="622080" cy="685440"/>
            </a:xfrm>
          </p:grpSpPr>
          <p:sp>
            <p:nvSpPr>
              <p:cNvPr id="321" name=""/>
              <p:cNvSpPr/>
              <p:nvPr/>
            </p:nvSpPr>
            <p:spPr>
              <a:xfrm>
                <a:off x="4727880" y="639504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4597560" y="664416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 rot="5400000">
                <a:off x="4665960" y="658188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27880" y="608328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035320" y="664416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A202-9D11-45F2-8238-7B722CFA7B8E}" type="slidenum">
              <a:t>4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8888400" y="1060560"/>
            <a:ext cx="147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Implementation choices (2)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640" y="380520"/>
            <a:ext cx="9077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11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99"/>
                </a:solidFill>
                <a:latin typeface="Arial"/>
              </a:rPr>
              <a:t>Implementation </a:t>
            </a:r>
            <a:r>
              <a:rPr b="0" lang="en-GB" sz="2900" spc="-1" strike="noStrike">
                <a:solidFill>
                  <a:srgbClr val="000099"/>
                </a:solidFill>
                <a:latin typeface="Arial"/>
              </a:rPr>
              <a:t>choices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aterialisation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of memory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DF(S) and its XML syntax             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(manipulated with 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RES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Exploitation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of memory    (DAI Archi. adequate D. Memory)</a:t>
            </a:r>
            <a:br>
              <a:rPr sz="2400"/>
            </a:b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Multi-agent system            and   machine learning techniques</a:t>
            </a:r>
            <a:br>
              <a:rPr sz="2400"/>
            </a:b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(implemented with                 )                       (implemented with </a:t>
            </a:r>
            <a:r>
              <a:rPr b="1" lang="en-GB" sz="2000" spc="-1" strike="noStrike">
                <a:solidFill>
                  <a:srgbClr val="007cba"/>
                </a:solidFill>
                <a:latin typeface="Arial"/>
              </a:rPr>
              <a:t>WEKA</a:t>
            </a:r>
            <a:r>
              <a:rPr b="0" lang="en-GB" sz="2000" spc="-1" strike="noStrike">
                <a:solidFill>
                  <a:srgbClr val="007cb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2933640" y="2395440"/>
            <a:ext cx="1143000" cy="279360"/>
            <a:chOff x="2933640" y="2395440"/>
            <a:chExt cx="1143000" cy="279360"/>
          </a:xfrm>
        </p:grpSpPr>
        <p:sp>
          <p:nvSpPr>
            <p:cNvPr id="330" name=""/>
            <p:cNvSpPr/>
            <p:nvPr/>
          </p:nvSpPr>
          <p:spPr>
            <a:xfrm>
              <a:off x="2933640" y="2395440"/>
              <a:ext cx="1143000" cy="27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2973240" y="2427120"/>
              <a:ext cx="600120" cy="2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2"/>
            <a:stretch/>
          </p:blipFill>
          <p:spPr>
            <a:xfrm>
              <a:off x="3584520" y="2427120"/>
              <a:ext cx="453960" cy="22248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</p:grpSp>
      <p:grpSp>
        <p:nvGrpSpPr>
          <p:cNvPr id="333" name=""/>
          <p:cNvGrpSpPr/>
          <p:nvPr/>
        </p:nvGrpSpPr>
        <p:grpSpPr>
          <a:xfrm>
            <a:off x="966960" y="2936880"/>
            <a:ext cx="7772400" cy="3741480"/>
            <a:chOff x="966960" y="2936880"/>
            <a:chExt cx="7772400" cy="3741480"/>
          </a:xfrm>
        </p:grpSpPr>
        <p:grpSp>
          <p:nvGrpSpPr>
            <p:cNvPr id="334" name=""/>
            <p:cNvGrpSpPr/>
            <p:nvPr/>
          </p:nvGrpSpPr>
          <p:grpSpPr>
            <a:xfrm>
              <a:off x="966960" y="2936880"/>
              <a:ext cx="7772400" cy="3708360"/>
              <a:chOff x="966960" y="2936880"/>
              <a:chExt cx="7772400" cy="3708360"/>
            </a:xfrm>
          </p:grpSpPr>
          <p:sp>
            <p:nvSpPr>
              <p:cNvPr id="335" name=""/>
              <p:cNvSpPr/>
              <p:nvPr/>
            </p:nvSpPr>
            <p:spPr>
              <a:xfrm>
                <a:off x="966960" y="2936880"/>
                <a:ext cx="7772400" cy="3708360"/>
              </a:xfrm>
              <a:prstGeom prst="rect">
                <a:avLst/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324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4083120" y="3004200"/>
                <a:ext cx="1657080" cy="3539520"/>
                <a:chOff x="4083120" y="3004200"/>
                <a:chExt cx="1657080" cy="35395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083120" y="3138480"/>
                  <a:ext cx="1500120" cy="34052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241880" y="3004200"/>
                  <a:ext cx="1498320" cy="2026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100" spc="-1" strike="noStrike">
                      <a:solidFill>
                        <a:srgbClr val="000000"/>
                      </a:solidFill>
                      <a:latin typeface="Bookman Old Style"/>
                    </a:rPr>
                    <a:t>Corporate Memor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1773360" y="4150440"/>
                <a:ext cx="6532560" cy="842040"/>
                <a:chOff x="1773360" y="4150440"/>
                <a:chExt cx="6532560" cy="8420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773360" y="4222800"/>
                  <a:ext cx="6392880" cy="76968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586560" y="4150440"/>
                  <a:ext cx="1719360" cy="2016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100" spc="-1" strike="noStrike">
                      <a:solidFill>
                        <a:srgbClr val="000000"/>
                      </a:solidFill>
                      <a:latin typeface="Courier New"/>
                    </a:rPr>
                    <a:t>Multi-Agents Syste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5643720" y="4295520"/>
                  <a:ext cx="788760" cy="1342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earnin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95680" y="4710600"/>
                  <a:ext cx="66960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Us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189160" y="4338720"/>
                  <a:ext cx="828720" cy="14868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earnin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4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62360" y="4415040"/>
                  <a:ext cx="311040" cy="2656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346" name=""/>
                <p:cNvGrpSpPr/>
                <p:nvPr/>
              </p:nvGrpSpPr>
              <p:grpSpPr>
                <a:xfrm>
                  <a:off x="5740560" y="4420440"/>
                  <a:ext cx="907920" cy="538200"/>
                  <a:chOff x="5740560" y="4420440"/>
                  <a:chExt cx="907920" cy="5382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5740560" y="4725000"/>
                    <a:ext cx="907920" cy="23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Courier New"/>
                      </a:rPr>
                      <a:t>Profil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6680" y="4420440"/>
                    <a:ext cx="311760" cy="2656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</p:grpSp>
            <p:sp>
              <p:nvSpPr>
                <p:cNvPr id="349" name=""/>
                <p:cNvSpPr/>
                <p:nvPr/>
              </p:nvSpPr>
              <p:spPr>
                <a:xfrm>
                  <a:off x="4083120" y="4224240"/>
                  <a:ext cx="1500120" cy="7682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102120" y="4457880"/>
                  <a:ext cx="311040" cy="2656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sp>
              <p:nvSpPr>
                <p:cNvPr id="351" name=""/>
                <p:cNvSpPr/>
                <p:nvPr/>
              </p:nvSpPr>
              <p:spPr>
                <a:xfrm>
                  <a:off x="2820960" y="4757760"/>
                  <a:ext cx="908280" cy="20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Ontology and Models Ag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648480" y="4755240"/>
                  <a:ext cx="828720" cy="20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Us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ourier New"/>
                    </a:rPr>
                    <a:t>Ag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121520" y="4382640"/>
                  <a:ext cx="828720" cy="13824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earnin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54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94720" y="4459680"/>
                  <a:ext cx="311040" cy="265680"/>
                </a:xfrm>
                <a:prstGeom prst="rect">
                  <a:avLst/>
                </a:prstGeom>
                <a:ln w="9360">
                  <a:solidFill>
                    <a:srgbClr val="808080"/>
                  </a:solidFill>
                  <a:miter/>
                </a:ln>
              </p:spPr>
            </p:pic>
            <p:grpSp>
              <p:nvGrpSpPr>
                <p:cNvPr id="355" name=""/>
                <p:cNvGrpSpPr/>
                <p:nvPr/>
              </p:nvGrpSpPr>
              <p:grpSpPr>
                <a:xfrm>
                  <a:off x="3557520" y="4261680"/>
                  <a:ext cx="1036800" cy="570600"/>
                  <a:chOff x="3557520" y="4261680"/>
                  <a:chExt cx="1036800" cy="570600"/>
                </a:xfrm>
              </p:grpSpPr>
              <p:pic>
                <p:nvPicPr>
                  <p:cNvPr id="3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4261680"/>
                    <a:ext cx="311040" cy="265680"/>
                  </a:xfrm>
                  <a:prstGeom prst="rect">
                    <a:avLst/>
                  </a:prstGeom>
                  <a:ln w="9360">
                    <a:solidFill>
                      <a:srgbClr val="808080"/>
                    </a:solidFill>
                    <a:miter/>
                  </a:ln>
                </p:spPr>
              </p:pic>
              <p:sp>
                <p:nvSpPr>
                  <p:cNvPr id="357" name=""/>
                  <p:cNvSpPr/>
                  <p:nvPr/>
                </p:nvSpPr>
                <p:spPr>
                  <a:xfrm>
                    <a:off x="3557520" y="4565160"/>
                    <a:ext cx="1036800" cy="26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Courier New"/>
                      </a:rPr>
                      <a:t>Interconnec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Courier New"/>
                      </a:rPr>
                      <a:t>Ag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58" name=""/>
            <p:cNvGrpSpPr/>
            <p:nvPr/>
          </p:nvGrpSpPr>
          <p:grpSpPr>
            <a:xfrm>
              <a:off x="1128600" y="5025960"/>
              <a:ext cx="1101240" cy="1315800"/>
              <a:chOff x="1128600" y="5025960"/>
              <a:chExt cx="1101240" cy="1315800"/>
            </a:xfrm>
          </p:grpSpPr>
          <p:sp>
            <p:nvSpPr>
              <p:cNvPr id="359" name=""/>
              <p:cNvSpPr/>
              <p:nvPr/>
            </p:nvSpPr>
            <p:spPr>
              <a:xfrm>
                <a:off x="1128600" y="5835960"/>
                <a:ext cx="1074600" cy="50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Knowledg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Engine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800000" y="5025960"/>
                <a:ext cx="429840" cy="1001160"/>
                <a:chOff x="1800000" y="5025960"/>
                <a:chExt cx="429840" cy="1001160"/>
              </a:xfrm>
            </p:grpSpPr>
            <p:grpSp>
              <p:nvGrpSpPr>
                <p:cNvPr id="361" name=""/>
                <p:cNvGrpSpPr/>
                <p:nvPr/>
              </p:nvGrpSpPr>
              <p:grpSpPr>
                <a:xfrm>
                  <a:off x="1800000" y="5025960"/>
                  <a:ext cx="210960" cy="83160"/>
                  <a:chOff x="1800000" y="5025960"/>
                  <a:chExt cx="210960" cy="8316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>
                    <a:off x="1800000" y="5088600"/>
                    <a:ext cx="518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69">
                        <a:moveTo>
                          <a:pt x="149" y="69"/>
                        </a:moveTo>
                        <a:lnTo>
                          <a:pt x="25" y="48"/>
                        </a:lnTo>
                        <a:lnTo>
                          <a:pt x="0" y="23"/>
                        </a:lnTo>
                        <a:lnTo>
                          <a:pt x="10" y="2"/>
                        </a:lnTo>
                        <a:lnTo>
                          <a:pt x="39" y="0"/>
                        </a:lnTo>
                        <a:lnTo>
                          <a:pt x="149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1851840" y="5034600"/>
                    <a:ext cx="2268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15">
                        <a:moveTo>
                          <a:pt x="66" y="115"/>
                        </a:moveTo>
                        <a:lnTo>
                          <a:pt x="0" y="42"/>
                        </a:lnTo>
                        <a:lnTo>
                          <a:pt x="7" y="11"/>
                        </a:lnTo>
                        <a:lnTo>
                          <a:pt x="39" y="0"/>
                        </a:lnTo>
                        <a:lnTo>
                          <a:pt x="57" y="22"/>
                        </a:lnTo>
                        <a:lnTo>
                          <a:pt x="66" y="1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1924560" y="5025960"/>
                    <a:ext cx="194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138">
                        <a:moveTo>
                          <a:pt x="9" y="138"/>
                        </a:moveTo>
                        <a:lnTo>
                          <a:pt x="0" y="35"/>
                        </a:lnTo>
                        <a:lnTo>
                          <a:pt x="30" y="0"/>
                        </a:lnTo>
                        <a:lnTo>
                          <a:pt x="56" y="15"/>
                        </a:lnTo>
                        <a:lnTo>
                          <a:pt x="52" y="42"/>
                        </a:lnTo>
                        <a:lnTo>
                          <a:pt x="9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1964880" y="5058000"/>
                    <a:ext cx="460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6">
                        <a:moveTo>
                          <a:pt x="0" y="86"/>
                        </a:moveTo>
                        <a:lnTo>
                          <a:pt x="100" y="0"/>
                        </a:lnTo>
                        <a:lnTo>
                          <a:pt x="135" y="17"/>
                        </a:lnTo>
                        <a:lnTo>
                          <a:pt x="132" y="45"/>
                        </a:lnTo>
                        <a:lnTo>
                          <a:pt x="114" y="59"/>
                        </a:lnTo>
                        <a:lnTo>
                          <a:pt x="0" y="8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1874520" y="5085000"/>
                  <a:ext cx="355320" cy="942120"/>
                  <a:chOff x="1874520" y="5085000"/>
                  <a:chExt cx="355320" cy="94212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>
                    <a:off x="1938600" y="5240160"/>
                    <a:ext cx="178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560" h="554">
                        <a:moveTo>
                          <a:pt x="366" y="160"/>
                        </a:moveTo>
                        <a:lnTo>
                          <a:pt x="297" y="56"/>
                        </a:lnTo>
                        <a:lnTo>
                          <a:pt x="228" y="0"/>
                        </a:lnTo>
                        <a:lnTo>
                          <a:pt x="145" y="0"/>
                        </a:lnTo>
                        <a:lnTo>
                          <a:pt x="55" y="36"/>
                        </a:lnTo>
                        <a:lnTo>
                          <a:pt x="14" y="97"/>
                        </a:lnTo>
                        <a:lnTo>
                          <a:pt x="0" y="181"/>
                        </a:lnTo>
                        <a:lnTo>
                          <a:pt x="14" y="291"/>
                        </a:lnTo>
                        <a:lnTo>
                          <a:pt x="69" y="416"/>
                        </a:lnTo>
                        <a:lnTo>
                          <a:pt x="166" y="499"/>
                        </a:lnTo>
                        <a:lnTo>
                          <a:pt x="241" y="540"/>
                        </a:lnTo>
                        <a:lnTo>
                          <a:pt x="318" y="554"/>
                        </a:lnTo>
                        <a:lnTo>
                          <a:pt x="380" y="533"/>
                        </a:lnTo>
                        <a:lnTo>
                          <a:pt x="414" y="499"/>
                        </a:lnTo>
                        <a:lnTo>
                          <a:pt x="436" y="416"/>
                        </a:lnTo>
                        <a:lnTo>
                          <a:pt x="429" y="319"/>
                        </a:lnTo>
                        <a:lnTo>
                          <a:pt x="407" y="237"/>
                        </a:lnTo>
                        <a:lnTo>
                          <a:pt x="545" y="160"/>
                        </a:lnTo>
                        <a:lnTo>
                          <a:pt x="560" y="126"/>
                        </a:lnTo>
                        <a:lnTo>
                          <a:pt x="545" y="111"/>
                        </a:lnTo>
                        <a:lnTo>
                          <a:pt x="393" y="201"/>
                        </a:lnTo>
                        <a:lnTo>
                          <a:pt x="366" y="1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066400" y="5085000"/>
                    <a:ext cx="158760" cy="366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8" h="1238">
                        <a:moveTo>
                          <a:pt x="138" y="1045"/>
                        </a:moveTo>
                        <a:lnTo>
                          <a:pt x="47" y="1113"/>
                        </a:lnTo>
                        <a:lnTo>
                          <a:pt x="20" y="1135"/>
                        </a:lnTo>
                        <a:lnTo>
                          <a:pt x="0" y="1183"/>
                        </a:lnTo>
                        <a:lnTo>
                          <a:pt x="27" y="1231"/>
                        </a:lnTo>
                        <a:lnTo>
                          <a:pt x="54" y="1238"/>
                        </a:lnTo>
                        <a:lnTo>
                          <a:pt x="138" y="1210"/>
                        </a:lnTo>
                        <a:lnTo>
                          <a:pt x="262" y="1113"/>
                        </a:lnTo>
                        <a:lnTo>
                          <a:pt x="373" y="997"/>
                        </a:lnTo>
                        <a:lnTo>
                          <a:pt x="491" y="864"/>
                        </a:lnTo>
                        <a:lnTo>
                          <a:pt x="498" y="809"/>
                        </a:lnTo>
                        <a:lnTo>
                          <a:pt x="498" y="658"/>
                        </a:lnTo>
                        <a:lnTo>
                          <a:pt x="464" y="422"/>
                        </a:lnTo>
                        <a:lnTo>
                          <a:pt x="484" y="284"/>
                        </a:lnTo>
                        <a:lnTo>
                          <a:pt x="498" y="228"/>
                        </a:lnTo>
                        <a:lnTo>
                          <a:pt x="477" y="201"/>
                        </a:lnTo>
                        <a:lnTo>
                          <a:pt x="428" y="173"/>
                        </a:lnTo>
                        <a:lnTo>
                          <a:pt x="394" y="153"/>
                        </a:lnTo>
                        <a:lnTo>
                          <a:pt x="414" y="28"/>
                        </a:lnTo>
                        <a:lnTo>
                          <a:pt x="401" y="0"/>
                        </a:lnTo>
                        <a:lnTo>
                          <a:pt x="373" y="8"/>
                        </a:lnTo>
                        <a:lnTo>
                          <a:pt x="360" y="167"/>
                        </a:lnTo>
                        <a:lnTo>
                          <a:pt x="346" y="208"/>
                        </a:lnTo>
                        <a:lnTo>
                          <a:pt x="339" y="235"/>
                        </a:lnTo>
                        <a:lnTo>
                          <a:pt x="283" y="214"/>
                        </a:lnTo>
                        <a:lnTo>
                          <a:pt x="242" y="214"/>
                        </a:lnTo>
                        <a:lnTo>
                          <a:pt x="242" y="242"/>
                        </a:lnTo>
                        <a:lnTo>
                          <a:pt x="269" y="264"/>
                        </a:lnTo>
                        <a:lnTo>
                          <a:pt x="319" y="264"/>
                        </a:lnTo>
                        <a:lnTo>
                          <a:pt x="353" y="291"/>
                        </a:lnTo>
                        <a:lnTo>
                          <a:pt x="380" y="339"/>
                        </a:lnTo>
                        <a:lnTo>
                          <a:pt x="408" y="416"/>
                        </a:lnTo>
                        <a:lnTo>
                          <a:pt x="428" y="567"/>
                        </a:lnTo>
                        <a:lnTo>
                          <a:pt x="428" y="706"/>
                        </a:lnTo>
                        <a:lnTo>
                          <a:pt x="414" y="816"/>
                        </a:lnTo>
                        <a:lnTo>
                          <a:pt x="387" y="864"/>
                        </a:lnTo>
                        <a:lnTo>
                          <a:pt x="290" y="934"/>
                        </a:lnTo>
                        <a:lnTo>
                          <a:pt x="186" y="997"/>
                        </a:lnTo>
                        <a:lnTo>
                          <a:pt x="138" y="10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1874520" y="5423040"/>
                    <a:ext cx="14328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47">
                        <a:moveTo>
                          <a:pt x="451" y="20"/>
                        </a:moveTo>
                        <a:lnTo>
                          <a:pt x="401" y="0"/>
                        </a:lnTo>
                        <a:lnTo>
                          <a:pt x="297" y="7"/>
                        </a:lnTo>
                        <a:lnTo>
                          <a:pt x="207" y="76"/>
                        </a:lnTo>
                        <a:lnTo>
                          <a:pt x="75" y="221"/>
                        </a:lnTo>
                        <a:lnTo>
                          <a:pt x="7" y="339"/>
                        </a:lnTo>
                        <a:lnTo>
                          <a:pt x="0" y="380"/>
                        </a:lnTo>
                        <a:lnTo>
                          <a:pt x="34" y="457"/>
                        </a:lnTo>
                        <a:lnTo>
                          <a:pt x="110" y="491"/>
                        </a:lnTo>
                        <a:lnTo>
                          <a:pt x="207" y="532"/>
                        </a:lnTo>
                        <a:lnTo>
                          <a:pt x="283" y="552"/>
                        </a:lnTo>
                        <a:lnTo>
                          <a:pt x="318" y="588"/>
                        </a:lnTo>
                        <a:lnTo>
                          <a:pt x="297" y="636"/>
                        </a:lnTo>
                        <a:lnTo>
                          <a:pt x="242" y="692"/>
                        </a:lnTo>
                        <a:lnTo>
                          <a:pt x="173" y="699"/>
                        </a:lnTo>
                        <a:lnTo>
                          <a:pt x="125" y="677"/>
                        </a:lnTo>
                        <a:lnTo>
                          <a:pt x="96" y="699"/>
                        </a:lnTo>
                        <a:lnTo>
                          <a:pt x="103" y="726"/>
                        </a:lnTo>
                        <a:lnTo>
                          <a:pt x="159" y="747"/>
                        </a:lnTo>
                        <a:lnTo>
                          <a:pt x="242" y="747"/>
                        </a:lnTo>
                        <a:lnTo>
                          <a:pt x="318" y="726"/>
                        </a:lnTo>
                        <a:lnTo>
                          <a:pt x="360" y="699"/>
                        </a:lnTo>
                        <a:lnTo>
                          <a:pt x="388" y="650"/>
                        </a:lnTo>
                        <a:lnTo>
                          <a:pt x="401" y="595"/>
                        </a:lnTo>
                        <a:lnTo>
                          <a:pt x="367" y="546"/>
                        </a:lnTo>
                        <a:lnTo>
                          <a:pt x="283" y="511"/>
                        </a:lnTo>
                        <a:lnTo>
                          <a:pt x="186" y="484"/>
                        </a:lnTo>
                        <a:lnTo>
                          <a:pt x="103" y="436"/>
                        </a:lnTo>
                        <a:lnTo>
                          <a:pt x="82" y="394"/>
                        </a:lnTo>
                        <a:lnTo>
                          <a:pt x="96" y="319"/>
                        </a:lnTo>
                        <a:lnTo>
                          <a:pt x="159" y="221"/>
                        </a:lnTo>
                        <a:lnTo>
                          <a:pt x="236" y="165"/>
                        </a:lnTo>
                        <a:lnTo>
                          <a:pt x="353" y="124"/>
                        </a:lnTo>
                        <a:lnTo>
                          <a:pt x="451" y="104"/>
                        </a:lnTo>
                        <a:lnTo>
                          <a:pt x="451" y="48"/>
                        </a:lnTo>
                        <a:lnTo>
                          <a:pt x="451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1991160" y="5412960"/>
                    <a:ext cx="13428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22" h="919">
                        <a:moveTo>
                          <a:pt x="367" y="290"/>
                        </a:moveTo>
                        <a:lnTo>
                          <a:pt x="325" y="117"/>
                        </a:lnTo>
                        <a:lnTo>
                          <a:pt x="277" y="34"/>
                        </a:lnTo>
                        <a:lnTo>
                          <a:pt x="173" y="0"/>
                        </a:lnTo>
                        <a:lnTo>
                          <a:pt x="68" y="13"/>
                        </a:lnTo>
                        <a:lnTo>
                          <a:pt x="21" y="104"/>
                        </a:lnTo>
                        <a:lnTo>
                          <a:pt x="27" y="214"/>
                        </a:lnTo>
                        <a:lnTo>
                          <a:pt x="55" y="394"/>
                        </a:lnTo>
                        <a:lnTo>
                          <a:pt x="55" y="552"/>
                        </a:lnTo>
                        <a:lnTo>
                          <a:pt x="21" y="690"/>
                        </a:lnTo>
                        <a:lnTo>
                          <a:pt x="0" y="767"/>
                        </a:lnTo>
                        <a:lnTo>
                          <a:pt x="14" y="835"/>
                        </a:lnTo>
                        <a:lnTo>
                          <a:pt x="62" y="871"/>
                        </a:lnTo>
                        <a:lnTo>
                          <a:pt x="125" y="905"/>
                        </a:lnTo>
                        <a:lnTo>
                          <a:pt x="186" y="919"/>
                        </a:lnTo>
                        <a:lnTo>
                          <a:pt x="263" y="919"/>
                        </a:lnTo>
                        <a:lnTo>
                          <a:pt x="353" y="849"/>
                        </a:lnTo>
                        <a:lnTo>
                          <a:pt x="422" y="704"/>
                        </a:lnTo>
                        <a:lnTo>
                          <a:pt x="415" y="573"/>
                        </a:lnTo>
                        <a:lnTo>
                          <a:pt x="374" y="421"/>
                        </a:lnTo>
                        <a:lnTo>
                          <a:pt x="367" y="2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1951560" y="5634000"/>
                    <a:ext cx="101880" cy="39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1329">
                        <a:moveTo>
                          <a:pt x="305" y="21"/>
                        </a:moveTo>
                        <a:lnTo>
                          <a:pt x="223" y="0"/>
                        </a:lnTo>
                        <a:lnTo>
                          <a:pt x="174" y="21"/>
                        </a:lnTo>
                        <a:lnTo>
                          <a:pt x="153" y="89"/>
                        </a:lnTo>
                        <a:lnTo>
                          <a:pt x="174" y="470"/>
                        </a:lnTo>
                        <a:lnTo>
                          <a:pt x="174" y="560"/>
                        </a:lnTo>
                        <a:lnTo>
                          <a:pt x="147" y="727"/>
                        </a:lnTo>
                        <a:lnTo>
                          <a:pt x="140" y="920"/>
                        </a:lnTo>
                        <a:lnTo>
                          <a:pt x="153" y="1017"/>
                        </a:lnTo>
                        <a:lnTo>
                          <a:pt x="140" y="1071"/>
                        </a:lnTo>
                        <a:lnTo>
                          <a:pt x="42" y="1155"/>
                        </a:lnTo>
                        <a:lnTo>
                          <a:pt x="0" y="1259"/>
                        </a:lnTo>
                        <a:lnTo>
                          <a:pt x="8" y="1293"/>
                        </a:lnTo>
                        <a:lnTo>
                          <a:pt x="84" y="1329"/>
                        </a:lnTo>
                        <a:lnTo>
                          <a:pt x="104" y="1314"/>
                        </a:lnTo>
                        <a:lnTo>
                          <a:pt x="112" y="1252"/>
                        </a:lnTo>
                        <a:lnTo>
                          <a:pt x="133" y="1162"/>
                        </a:lnTo>
                        <a:lnTo>
                          <a:pt x="167" y="1121"/>
                        </a:lnTo>
                        <a:lnTo>
                          <a:pt x="208" y="1093"/>
                        </a:lnTo>
                        <a:lnTo>
                          <a:pt x="244" y="1058"/>
                        </a:lnTo>
                        <a:lnTo>
                          <a:pt x="251" y="1030"/>
                        </a:lnTo>
                        <a:lnTo>
                          <a:pt x="230" y="996"/>
                        </a:lnTo>
                        <a:lnTo>
                          <a:pt x="208" y="976"/>
                        </a:lnTo>
                        <a:lnTo>
                          <a:pt x="194" y="892"/>
                        </a:lnTo>
                        <a:lnTo>
                          <a:pt x="208" y="719"/>
                        </a:lnTo>
                        <a:lnTo>
                          <a:pt x="257" y="519"/>
                        </a:lnTo>
                        <a:lnTo>
                          <a:pt x="305" y="359"/>
                        </a:lnTo>
                        <a:lnTo>
                          <a:pt x="320" y="166"/>
                        </a:lnTo>
                        <a:lnTo>
                          <a:pt x="305" y="2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062080" y="5634000"/>
                    <a:ext cx="167760" cy="33156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1121">
                        <a:moveTo>
                          <a:pt x="172" y="166"/>
                        </a:moveTo>
                        <a:lnTo>
                          <a:pt x="159" y="55"/>
                        </a:lnTo>
                        <a:lnTo>
                          <a:pt x="97" y="0"/>
                        </a:lnTo>
                        <a:lnTo>
                          <a:pt x="7" y="7"/>
                        </a:lnTo>
                        <a:lnTo>
                          <a:pt x="0" y="55"/>
                        </a:lnTo>
                        <a:lnTo>
                          <a:pt x="7" y="159"/>
                        </a:lnTo>
                        <a:lnTo>
                          <a:pt x="55" y="318"/>
                        </a:lnTo>
                        <a:lnTo>
                          <a:pt x="90" y="435"/>
                        </a:lnTo>
                        <a:lnTo>
                          <a:pt x="131" y="594"/>
                        </a:lnTo>
                        <a:lnTo>
                          <a:pt x="145" y="732"/>
                        </a:lnTo>
                        <a:lnTo>
                          <a:pt x="145" y="843"/>
                        </a:lnTo>
                        <a:lnTo>
                          <a:pt x="124" y="926"/>
                        </a:lnTo>
                        <a:lnTo>
                          <a:pt x="104" y="954"/>
                        </a:lnTo>
                        <a:lnTo>
                          <a:pt x="104" y="981"/>
                        </a:lnTo>
                        <a:lnTo>
                          <a:pt x="131" y="1024"/>
                        </a:lnTo>
                        <a:lnTo>
                          <a:pt x="179" y="1037"/>
                        </a:lnTo>
                        <a:lnTo>
                          <a:pt x="256" y="1037"/>
                        </a:lnTo>
                        <a:lnTo>
                          <a:pt x="394" y="1071"/>
                        </a:lnTo>
                        <a:lnTo>
                          <a:pt x="435" y="1121"/>
                        </a:lnTo>
                        <a:lnTo>
                          <a:pt x="498" y="1092"/>
                        </a:lnTo>
                        <a:lnTo>
                          <a:pt x="526" y="1024"/>
                        </a:lnTo>
                        <a:lnTo>
                          <a:pt x="498" y="996"/>
                        </a:lnTo>
                        <a:lnTo>
                          <a:pt x="380" y="981"/>
                        </a:lnTo>
                        <a:lnTo>
                          <a:pt x="249" y="981"/>
                        </a:lnTo>
                        <a:lnTo>
                          <a:pt x="193" y="974"/>
                        </a:lnTo>
                        <a:lnTo>
                          <a:pt x="179" y="933"/>
                        </a:lnTo>
                        <a:lnTo>
                          <a:pt x="193" y="857"/>
                        </a:lnTo>
                        <a:lnTo>
                          <a:pt x="201" y="725"/>
                        </a:lnTo>
                        <a:lnTo>
                          <a:pt x="186" y="580"/>
                        </a:lnTo>
                        <a:lnTo>
                          <a:pt x="165" y="388"/>
                        </a:lnTo>
                        <a:lnTo>
                          <a:pt x="172" y="221"/>
                        </a:lnTo>
                        <a:lnTo>
                          <a:pt x="172" y="1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37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839240" y="5077800"/>
                  <a:ext cx="133560" cy="182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74" name=""/>
            <p:cNvGrpSpPr/>
            <p:nvPr/>
          </p:nvGrpSpPr>
          <p:grpSpPr>
            <a:xfrm>
              <a:off x="1050840" y="3003480"/>
              <a:ext cx="1774800" cy="1214280"/>
              <a:chOff x="1050840" y="3003480"/>
              <a:chExt cx="1774800" cy="1214280"/>
            </a:xfrm>
          </p:grpSpPr>
          <p:sp>
            <p:nvSpPr>
              <p:cNvPr id="375" name=""/>
              <p:cNvSpPr/>
              <p:nvPr/>
            </p:nvSpPr>
            <p:spPr>
              <a:xfrm>
                <a:off x="1050840" y="3913920"/>
                <a:ext cx="1774800" cy="30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uthors an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notators of docu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1603080" y="3003480"/>
                <a:ext cx="789120" cy="1043280"/>
                <a:chOff x="1603080" y="3003480"/>
                <a:chExt cx="789120" cy="10432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1878480" y="3382920"/>
                  <a:ext cx="477360" cy="663840"/>
                  <a:chOff x="1878480" y="3382920"/>
                  <a:chExt cx="477360" cy="66384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2087640" y="3603600"/>
                    <a:ext cx="11124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771" h="1535">
                        <a:moveTo>
                          <a:pt x="182" y="123"/>
                        </a:moveTo>
                        <a:lnTo>
                          <a:pt x="265" y="33"/>
                        </a:lnTo>
                        <a:lnTo>
                          <a:pt x="423" y="0"/>
                        </a:lnTo>
                        <a:lnTo>
                          <a:pt x="558" y="33"/>
                        </a:lnTo>
                        <a:lnTo>
                          <a:pt x="633" y="83"/>
                        </a:lnTo>
                        <a:lnTo>
                          <a:pt x="693" y="183"/>
                        </a:lnTo>
                        <a:lnTo>
                          <a:pt x="746" y="361"/>
                        </a:lnTo>
                        <a:lnTo>
                          <a:pt x="771" y="554"/>
                        </a:lnTo>
                        <a:lnTo>
                          <a:pt x="771" y="899"/>
                        </a:lnTo>
                        <a:lnTo>
                          <a:pt x="693" y="1200"/>
                        </a:lnTo>
                        <a:lnTo>
                          <a:pt x="581" y="1370"/>
                        </a:lnTo>
                        <a:lnTo>
                          <a:pt x="468" y="1468"/>
                        </a:lnTo>
                        <a:lnTo>
                          <a:pt x="340" y="1535"/>
                        </a:lnTo>
                        <a:lnTo>
                          <a:pt x="160" y="1528"/>
                        </a:lnTo>
                        <a:lnTo>
                          <a:pt x="17" y="1425"/>
                        </a:lnTo>
                        <a:lnTo>
                          <a:pt x="0" y="1302"/>
                        </a:lnTo>
                        <a:lnTo>
                          <a:pt x="70" y="1119"/>
                        </a:lnTo>
                        <a:lnTo>
                          <a:pt x="130" y="914"/>
                        </a:lnTo>
                        <a:lnTo>
                          <a:pt x="152" y="649"/>
                        </a:lnTo>
                        <a:lnTo>
                          <a:pt x="115" y="423"/>
                        </a:lnTo>
                        <a:lnTo>
                          <a:pt x="115" y="258"/>
                        </a:lnTo>
                        <a:lnTo>
                          <a:pt x="182" y="1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2130840" y="3812400"/>
                    <a:ext cx="12708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881" h="1512">
                        <a:moveTo>
                          <a:pt x="293" y="63"/>
                        </a:moveTo>
                        <a:lnTo>
                          <a:pt x="187" y="0"/>
                        </a:lnTo>
                        <a:lnTo>
                          <a:pt x="52" y="0"/>
                        </a:lnTo>
                        <a:lnTo>
                          <a:pt x="0" y="83"/>
                        </a:lnTo>
                        <a:lnTo>
                          <a:pt x="22" y="205"/>
                        </a:lnTo>
                        <a:lnTo>
                          <a:pt x="142" y="325"/>
                        </a:lnTo>
                        <a:lnTo>
                          <a:pt x="390" y="436"/>
                        </a:lnTo>
                        <a:lnTo>
                          <a:pt x="676" y="671"/>
                        </a:lnTo>
                        <a:lnTo>
                          <a:pt x="721" y="774"/>
                        </a:lnTo>
                        <a:lnTo>
                          <a:pt x="698" y="821"/>
                        </a:lnTo>
                        <a:lnTo>
                          <a:pt x="480" y="977"/>
                        </a:lnTo>
                        <a:lnTo>
                          <a:pt x="225" y="1162"/>
                        </a:lnTo>
                        <a:lnTo>
                          <a:pt x="165" y="1242"/>
                        </a:lnTo>
                        <a:lnTo>
                          <a:pt x="165" y="1325"/>
                        </a:lnTo>
                        <a:lnTo>
                          <a:pt x="360" y="1412"/>
                        </a:lnTo>
                        <a:lnTo>
                          <a:pt x="661" y="1512"/>
                        </a:lnTo>
                        <a:lnTo>
                          <a:pt x="766" y="1512"/>
                        </a:lnTo>
                        <a:lnTo>
                          <a:pt x="881" y="1445"/>
                        </a:lnTo>
                        <a:lnTo>
                          <a:pt x="881" y="1392"/>
                        </a:lnTo>
                        <a:lnTo>
                          <a:pt x="796" y="1365"/>
                        </a:lnTo>
                        <a:lnTo>
                          <a:pt x="413" y="1325"/>
                        </a:lnTo>
                        <a:lnTo>
                          <a:pt x="270" y="1290"/>
                        </a:lnTo>
                        <a:lnTo>
                          <a:pt x="255" y="1229"/>
                        </a:lnTo>
                        <a:lnTo>
                          <a:pt x="503" y="1059"/>
                        </a:lnTo>
                        <a:lnTo>
                          <a:pt x="773" y="896"/>
                        </a:lnTo>
                        <a:lnTo>
                          <a:pt x="833" y="836"/>
                        </a:lnTo>
                        <a:lnTo>
                          <a:pt x="856" y="754"/>
                        </a:lnTo>
                        <a:lnTo>
                          <a:pt x="833" y="638"/>
                        </a:lnTo>
                        <a:lnTo>
                          <a:pt x="751" y="551"/>
                        </a:lnTo>
                        <a:lnTo>
                          <a:pt x="480" y="253"/>
                        </a:lnTo>
                        <a:lnTo>
                          <a:pt x="293" y="6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1963080" y="3800880"/>
                    <a:ext cx="158400" cy="24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7" h="1610">
                        <a:moveTo>
                          <a:pt x="596" y="218"/>
                        </a:moveTo>
                        <a:lnTo>
                          <a:pt x="771" y="80"/>
                        </a:lnTo>
                        <a:lnTo>
                          <a:pt x="937" y="0"/>
                        </a:lnTo>
                        <a:lnTo>
                          <a:pt x="1042" y="12"/>
                        </a:lnTo>
                        <a:lnTo>
                          <a:pt x="1097" y="80"/>
                        </a:lnTo>
                        <a:lnTo>
                          <a:pt x="1097" y="155"/>
                        </a:lnTo>
                        <a:lnTo>
                          <a:pt x="1064" y="238"/>
                        </a:lnTo>
                        <a:lnTo>
                          <a:pt x="952" y="285"/>
                        </a:lnTo>
                        <a:lnTo>
                          <a:pt x="724" y="400"/>
                        </a:lnTo>
                        <a:lnTo>
                          <a:pt x="589" y="543"/>
                        </a:lnTo>
                        <a:lnTo>
                          <a:pt x="499" y="713"/>
                        </a:lnTo>
                        <a:lnTo>
                          <a:pt x="476" y="814"/>
                        </a:lnTo>
                        <a:lnTo>
                          <a:pt x="596" y="936"/>
                        </a:lnTo>
                        <a:lnTo>
                          <a:pt x="724" y="1114"/>
                        </a:lnTo>
                        <a:lnTo>
                          <a:pt x="817" y="1277"/>
                        </a:lnTo>
                        <a:lnTo>
                          <a:pt x="839" y="1380"/>
                        </a:lnTo>
                        <a:lnTo>
                          <a:pt x="839" y="1440"/>
                        </a:lnTo>
                        <a:lnTo>
                          <a:pt x="779" y="1480"/>
                        </a:lnTo>
                        <a:lnTo>
                          <a:pt x="589" y="1487"/>
                        </a:lnTo>
                        <a:lnTo>
                          <a:pt x="301" y="1547"/>
                        </a:lnTo>
                        <a:lnTo>
                          <a:pt x="248" y="1602"/>
                        </a:lnTo>
                        <a:lnTo>
                          <a:pt x="203" y="1610"/>
                        </a:lnTo>
                        <a:lnTo>
                          <a:pt x="0" y="1547"/>
                        </a:lnTo>
                        <a:lnTo>
                          <a:pt x="0" y="1487"/>
                        </a:lnTo>
                        <a:lnTo>
                          <a:pt x="90" y="1440"/>
                        </a:lnTo>
                        <a:lnTo>
                          <a:pt x="453" y="1380"/>
                        </a:lnTo>
                        <a:lnTo>
                          <a:pt x="641" y="1400"/>
                        </a:lnTo>
                        <a:lnTo>
                          <a:pt x="734" y="1400"/>
                        </a:lnTo>
                        <a:lnTo>
                          <a:pt x="756" y="1365"/>
                        </a:lnTo>
                        <a:lnTo>
                          <a:pt x="679" y="1214"/>
                        </a:lnTo>
                        <a:lnTo>
                          <a:pt x="521" y="1019"/>
                        </a:lnTo>
                        <a:lnTo>
                          <a:pt x="408" y="876"/>
                        </a:lnTo>
                        <a:lnTo>
                          <a:pt x="363" y="794"/>
                        </a:lnTo>
                        <a:lnTo>
                          <a:pt x="363" y="671"/>
                        </a:lnTo>
                        <a:lnTo>
                          <a:pt x="438" y="468"/>
                        </a:lnTo>
                        <a:lnTo>
                          <a:pt x="506" y="340"/>
                        </a:lnTo>
                        <a:lnTo>
                          <a:pt x="596" y="2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878480" y="3604320"/>
                    <a:ext cx="21384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82" h="1202">
                        <a:moveTo>
                          <a:pt x="889" y="1202"/>
                        </a:moveTo>
                        <a:lnTo>
                          <a:pt x="981" y="1192"/>
                        </a:lnTo>
                        <a:lnTo>
                          <a:pt x="1009" y="1124"/>
                        </a:lnTo>
                        <a:lnTo>
                          <a:pt x="1034" y="881"/>
                        </a:lnTo>
                        <a:lnTo>
                          <a:pt x="1172" y="596"/>
                        </a:lnTo>
                        <a:lnTo>
                          <a:pt x="1314" y="465"/>
                        </a:lnTo>
                        <a:lnTo>
                          <a:pt x="1482" y="330"/>
                        </a:lnTo>
                        <a:lnTo>
                          <a:pt x="1467" y="235"/>
                        </a:lnTo>
                        <a:lnTo>
                          <a:pt x="1367" y="185"/>
                        </a:lnTo>
                        <a:lnTo>
                          <a:pt x="1242" y="235"/>
                        </a:lnTo>
                        <a:lnTo>
                          <a:pt x="1104" y="373"/>
                        </a:lnTo>
                        <a:lnTo>
                          <a:pt x="976" y="673"/>
                        </a:lnTo>
                        <a:lnTo>
                          <a:pt x="921" y="906"/>
                        </a:lnTo>
                        <a:lnTo>
                          <a:pt x="884" y="1029"/>
                        </a:lnTo>
                        <a:lnTo>
                          <a:pt x="779" y="984"/>
                        </a:lnTo>
                        <a:lnTo>
                          <a:pt x="661" y="783"/>
                        </a:lnTo>
                        <a:lnTo>
                          <a:pt x="563" y="505"/>
                        </a:lnTo>
                        <a:lnTo>
                          <a:pt x="581" y="380"/>
                        </a:lnTo>
                        <a:lnTo>
                          <a:pt x="636" y="248"/>
                        </a:lnTo>
                        <a:lnTo>
                          <a:pt x="658" y="150"/>
                        </a:lnTo>
                        <a:lnTo>
                          <a:pt x="418" y="145"/>
                        </a:lnTo>
                        <a:lnTo>
                          <a:pt x="178" y="105"/>
                        </a:lnTo>
                        <a:lnTo>
                          <a:pt x="65" y="0"/>
                        </a:lnTo>
                        <a:lnTo>
                          <a:pt x="0" y="50"/>
                        </a:lnTo>
                        <a:lnTo>
                          <a:pt x="88" y="230"/>
                        </a:lnTo>
                        <a:lnTo>
                          <a:pt x="280" y="250"/>
                        </a:lnTo>
                        <a:lnTo>
                          <a:pt x="488" y="270"/>
                        </a:lnTo>
                        <a:lnTo>
                          <a:pt x="493" y="428"/>
                        </a:lnTo>
                        <a:lnTo>
                          <a:pt x="513" y="611"/>
                        </a:lnTo>
                        <a:lnTo>
                          <a:pt x="583" y="816"/>
                        </a:lnTo>
                        <a:lnTo>
                          <a:pt x="671" y="1019"/>
                        </a:lnTo>
                        <a:lnTo>
                          <a:pt x="804" y="1154"/>
                        </a:lnTo>
                        <a:lnTo>
                          <a:pt x="889" y="120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198520" y="3382920"/>
                    <a:ext cx="15732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1625">
                        <a:moveTo>
                          <a:pt x="0" y="1610"/>
                        </a:moveTo>
                        <a:lnTo>
                          <a:pt x="0" y="1503"/>
                        </a:lnTo>
                        <a:lnTo>
                          <a:pt x="67" y="1420"/>
                        </a:lnTo>
                        <a:lnTo>
                          <a:pt x="363" y="1325"/>
                        </a:lnTo>
                        <a:lnTo>
                          <a:pt x="728" y="1245"/>
                        </a:lnTo>
                        <a:lnTo>
                          <a:pt x="939" y="1197"/>
                        </a:lnTo>
                        <a:lnTo>
                          <a:pt x="964" y="1155"/>
                        </a:lnTo>
                        <a:lnTo>
                          <a:pt x="864" y="1034"/>
                        </a:lnTo>
                        <a:lnTo>
                          <a:pt x="666" y="857"/>
                        </a:lnTo>
                        <a:lnTo>
                          <a:pt x="463" y="706"/>
                        </a:lnTo>
                        <a:lnTo>
                          <a:pt x="303" y="626"/>
                        </a:lnTo>
                        <a:lnTo>
                          <a:pt x="213" y="544"/>
                        </a:lnTo>
                        <a:lnTo>
                          <a:pt x="205" y="483"/>
                        </a:lnTo>
                        <a:lnTo>
                          <a:pt x="258" y="428"/>
                        </a:lnTo>
                        <a:lnTo>
                          <a:pt x="385" y="401"/>
                        </a:lnTo>
                        <a:lnTo>
                          <a:pt x="546" y="298"/>
                        </a:lnTo>
                        <a:lnTo>
                          <a:pt x="568" y="198"/>
                        </a:lnTo>
                        <a:lnTo>
                          <a:pt x="568" y="55"/>
                        </a:lnTo>
                        <a:lnTo>
                          <a:pt x="553" y="0"/>
                        </a:lnTo>
                        <a:lnTo>
                          <a:pt x="613" y="13"/>
                        </a:lnTo>
                        <a:lnTo>
                          <a:pt x="698" y="135"/>
                        </a:lnTo>
                        <a:lnTo>
                          <a:pt x="728" y="266"/>
                        </a:lnTo>
                        <a:lnTo>
                          <a:pt x="636" y="361"/>
                        </a:lnTo>
                        <a:lnTo>
                          <a:pt x="553" y="388"/>
                        </a:lnTo>
                        <a:lnTo>
                          <a:pt x="393" y="463"/>
                        </a:lnTo>
                        <a:lnTo>
                          <a:pt x="363" y="504"/>
                        </a:lnTo>
                        <a:lnTo>
                          <a:pt x="385" y="544"/>
                        </a:lnTo>
                        <a:lnTo>
                          <a:pt x="531" y="654"/>
                        </a:lnTo>
                        <a:lnTo>
                          <a:pt x="683" y="714"/>
                        </a:lnTo>
                        <a:lnTo>
                          <a:pt x="886" y="869"/>
                        </a:lnTo>
                        <a:lnTo>
                          <a:pt x="1024" y="1054"/>
                        </a:lnTo>
                        <a:lnTo>
                          <a:pt x="1091" y="1197"/>
                        </a:lnTo>
                        <a:lnTo>
                          <a:pt x="1069" y="1245"/>
                        </a:lnTo>
                        <a:lnTo>
                          <a:pt x="1024" y="1277"/>
                        </a:lnTo>
                        <a:lnTo>
                          <a:pt x="849" y="1340"/>
                        </a:lnTo>
                        <a:lnTo>
                          <a:pt x="501" y="1443"/>
                        </a:lnTo>
                        <a:lnTo>
                          <a:pt x="280" y="1530"/>
                        </a:lnTo>
                        <a:lnTo>
                          <a:pt x="138" y="1605"/>
                        </a:lnTo>
                        <a:lnTo>
                          <a:pt x="45" y="1625"/>
                        </a:lnTo>
                        <a:lnTo>
                          <a:pt x="0" y="16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043720" y="3420000"/>
                    <a:ext cx="12276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157">
                        <a:moveTo>
                          <a:pt x="173" y="939"/>
                        </a:moveTo>
                        <a:lnTo>
                          <a:pt x="271" y="1042"/>
                        </a:lnTo>
                        <a:lnTo>
                          <a:pt x="431" y="1137"/>
                        </a:lnTo>
                        <a:lnTo>
                          <a:pt x="566" y="1157"/>
                        </a:lnTo>
                        <a:lnTo>
                          <a:pt x="669" y="1137"/>
                        </a:lnTo>
                        <a:lnTo>
                          <a:pt x="791" y="1057"/>
                        </a:lnTo>
                        <a:lnTo>
                          <a:pt x="836" y="892"/>
                        </a:lnTo>
                        <a:lnTo>
                          <a:pt x="851" y="769"/>
                        </a:lnTo>
                        <a:lnTo>
                          <a:pt x="814" y="654"/>
                        </a:lnTo>
                        <a:lnTo>
                          <a:pt x="744" y="511"/>
                        </a:lnTo>
                        <a:lnTo>
                          <a:pt x="679" y="388"/>
                        </a:lnTo>
                        <a:lnTo>
                          <a:pt x="669" y="361"/>
                        </a:lnTo>
                        <a:lnTo>
                          <a:pt x="699" y="218"/>
                        </a:lnTo>
                        <a:lnTo>
                          <a:pt x="791" y="75"/>
                        </a:lnTo>
                        <a:lnTo>
                          <a:pt x="806" y="33"/>
                        </a:lnTo>
                        <a:lnTo>
                          <a:pt x="759" y="0"/>
                        </a:lnTo>
                        <a:lnTo>
                          <a:pt x="699" y="0"/>
                        </a:lnTo>
                        <a:lnTo>
                          <a:pt x="634" y="185"/>
                        </a:lnTo>
                        <a:lnTo>
                          <a:pt x="604" y="306"/>
                        </a:lnTo>
                        <a:lnTo>
                          <a:pt x="521" y="225"/>
                        </a:lnTo>
                        <a:lnTo>
                          <a:pt x="451" y="163"/>
                        </a:lnTo>
                        <a:lnTo>
                          <a:pt x="308" y="115"/>
                        </a:lnTo>
                        <a:lnTo>
                          <a:pt x="203" y="115"/>
                        </a:lnTo>
                        <a:lnTo>
                          <a:pt x="45" y="185"/>
                        </a:lnTo>
                        <a:lnTo>
                          <a:pt x="0" y="381"/>
                        </a:lnTo>
                        <a:lnTo>
                          <a:pt x="38" y="634"/>
                        </a:lnTo>
                        <a:lnTo>
                          <a:pt x="105" y="872"/>
                        </a:lnTo>
                        <a:lnTo>
                          <a:pt x="173" y="9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1889280" y="3003480"/>
                  <a:ext cx="236520" cy="202320"/>
                  <a:chOff x="1889280" y="3003480"/>
                  <a:chExt cx="236520" cy="20232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1889280" y="3003480"/>
                    <a:ext cx="236520" cy="202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16280" y="3021840"/>
                    <a:ext cx="197280" cy="168480"/>
                  </a:xfrm>
                  <a:prstGeom prst="rect">
                    <a:avLst/>
                  </a:prstGeom>
                  <a:ln w="9360">
                    <a:solidFill>
                      <a:srgbClr val="c0c0c0"/>
                    </a:solidFill>
                    <a:miter/>
                  </a:ln>
                </p:spPr>
              </p:pic>
            </p:grpSp>
            <p:grpSp>
              <p:nvGrpSpPr>
                <p:cNvPr id="387" name=""/>
                <p:cNvGrpSpPr/>
                <p:nvPr/>
              </p:nvGrpSpPr>
              <p:grpSpPr>
                <a:xfrm>
                  <a:off x="1603080" y="3108240"/>
                  <a:ext cx="255240" cy="236160"/>
                  <a:chOff x="1603080" y="3108240"/>
                  <a:chExt cx="255240" cy="236160"/>
                </a:xfrm>
              </p:grpSpPr>
              <p:sp>
                <p:nvSpPr>
                  <p:cNvPr id="388" name=""/>
                  <p:cNvSpPr/>
                  <p:nvPr/>
                </p:nvSpPr>
                <p:spPr>
                  <a:xfrm>
                    <a:off x="1603080" y="3108240"/>
                    <a:ext cx="255240" cy="236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11360" y="3124080"/>
                    <a:ext cx="236520" cy="2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1760760" y="3378240"/>
                  <a:ext cx="204120" cy="207720"/>
                  <a:chOff x="1760760" y="3378240"/>
                  <a:chExt cx="204120" cy="20772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1760760" y="3378240"/>
                    <a:ext cx="204120" cy="2077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81280" y="3392280"/>
                    <a:ext cx="166680" cy="1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2155320" y="3141720"/>
                  <a:ext cx="236880" cy="236160"/>
                  <a:chOff x="2155320" y="3141720"/>
                  <a:chExt cx="236880" cy="236160"/>
                </a:xfrm>
              </p:grpSpPr>
              <p:sp>
                <p:nvSpPr>
                  <p:cNvPr id="394" name=""/>
                  <p:cNvSpPr/>
                  <p:nvPr/>
                </p:nvSpPr>
                <p:spPr>
                  <a:xfrm>
                    <a:off x="2155320" y="3141720"/>
                    <a:ext cx="236880" cy="2361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39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60720" y="3170160"/>
                    <a:ext cx="225000" cy="1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396" name=""/>
            <p:cNvGrpSpPr/>
            <p:nvPr/>
          </p:nvGrpSpPr>
          <p:grpSpPr>
            <a:xfrm>
              <a:off x="7323120" y="5667480"/>
              <a:ext cx="1106280" cy="1010880"/>
              <a:chOff x="7323120" y="5667480"/>
              <a:chExt cx="1106280" cy="1010880"/>
            </a:xfrm>
          </p:grpSpPr>
          <p:sp>
            <p:nvSpPr>
              <p:cNvPr id="397" name=""/>
              <p:cNvSpPr/>
              <p:nvPr/>
            </p:nvSpPr>
            <p:spPr>
              <a:xfrm>
                <a:off x="7323120" y="6468840"/>
                <a:ext cx="110628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nd Us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7481520" y="5734440"/>
                <a:ext cx="430200" cy="765000"/>
                <a:chOff x="7481520" y="5734440"/>
                <a:chExt cx="430200" cy="765000"/>
              </a:xfrm>
            </p:grpSpPr>
            <p:sp>
              <p:nvSpPr>
                <p:cNvPr id="399" name=""/>
                <p:cNvSpPr/>
                <p:nvPr/>
              </p:nvSpPr>
              <p:spPr>
                <a:xfrm flipH="1">
                  <a:off x="7606080" y="5776920"/>
                  <a:ext cx="168120" cy="16704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H="1">
                  <a:off x="7717320" y="5734440"/>
                  <a:ext cx="194040" cy="26820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7627680" y="5956200"/>
                  <a:ext cx="100800" cy="25128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>
                  <a:off x="7526520" y="5963400"/>
                  <a:ext cx="155160" cy="19296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7481160" y="6182280"/>
                  <a:ext cx="188280" cy="31212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7661160" y="6181560"/>
                  <a:ext cx="126360" cy="3178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7914960" y="5667480"/>
                <a:ext cx="473400" cy="335880"/>
                <a:chOff x="7914960" y="5667480"/>
                <a:chExt cx="473400" cy="3358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914960" y="5667480"/>
                  <a:ext cx="473400" cy="335880"/>
                </a:xfrm>
                <a:prstGeom prst="cloudCallout">
                  <a:avLst>
                    <a:gd name="adj1" fmla="val -75731"/>
                    <a:gd name="adj2" fmla="val 15087"/>
                  </a:avLst>
                </a:prstGeom>
                <a:solidFill>
                  <a:srgbClr val="c0c0c0"/>
                </a:solidFill>
                <a:ln w="93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0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031240" y="5726880"/>
                  <a:ext cx="236520" cy="20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08" name=""/>
            <p:cNvGrpSpPr/>
            <p:nvPr/>
          </p:nvGrpSpPr>
          <p:grpSpPr>
            <a:xfrm>
              <a:off x="2392560" y="3351240"/>
              <a:ext cx="1617120" cy="765000"/>
              <a:chOff x="2392560" y="3351240"/>
              <a:chExt cx="1617120" cy="765000"/>
            </a:xfrm>
          </p:grpSpPr>
          <p:pic>
            <p:nvPicPr>
              <p:cNvPr id="40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92560" y="3754800"/>
                <a:ext cx="236160" cy="201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0" name=""/>
              <p:cNvGrpSpPr/>
              <p:nvPr/>
            </p:nvGrpSpPr>
            <p:grpSpPr>
              <a:xfrm>
                <a:off x="2668320" y="3351240"/>
                <a:ext cx="1025280" cy="765000"/>
                <a:chOff x="2668320" y="3351240"/>
                <a:chExt cx="1025280" cy="7650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2668320" y="3576600"/>
                  <a:ext cx="1025280" cy="539640"/>
                </a:xfrm>
                <a:prstGeom prst="foldedCorner">
                  <a:avLst>
                    <a:gd name="adj" fmla="val 10726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668320" y="3351240"/>
                  <a:ext cx="1025280" cy="202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36000" bIns="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Annotation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685960" y="3579120"/>
                  <a:ext cx="1007280" cy="28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Docu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14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62520" y="3776400"/>
                  <a:ext cx="31536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45000" y="3377160"/>
                  <a:ext cx="263520" cy="16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1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773160" y="3745080"/>
                <a:ext cx="236520" cy="201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7" name=""/>
            <p:cNvGrpSpPr/>
            <p:nvPr/>
          </p:nvGrpSpPr>
          <p:grpSpPr>
            <a:xfrm>
              <a:off x="5665680" y="5702400"/>
              <a:ext cx="1697040" cy="841320"/>
              <a:chOff x="5665680" y="5702400"/>
              <a:chExt cx="1697040" cy="841320"/>
            </a:xfrm>
          </p:grpSpPr>
          <p:pic>
            <p:nvPicPr>
              <p:cNvPr id="41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665680" y="6105960"/>
                <a:ext cx="237960" cy="20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126200" y="6105960"/>
                <a:ext cx="236520" cy="201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0" name=""/>
              <p:cNvGrpSpPr/>
              <p:nvPr/>
            </p:nvGrpSpPr>
            <p:grpSpPr>
              <a:xfrm>
                <a:off x="5941800" y="5702400"/>
                <a:ext cx="1104840" cy="841320"/>
                <a:chOff x="5941800" y="5702400"/>
                <a:chExt cx="1104840" cy="841320"/>
              </a:xfrm>
            </p:grpSpPr>
            <p:grpSp>
              <p:nvGrpSpPr>
                <p:cNvPr id="421" name=""/>
                <p:cNvGrpSpPr/>
                <p:nvPr/>
              </p:nvGrpSpPr>
              <p:grpSpPr>
                <a:xfrm>
                  <a:off x="5941800" y="5702400"/>
                  <a:ext cx="1026000" cy="762840"/>
                  <a:chOff x="5941800" y="5702400"/>
                  <a:chExt cx="1026000" cy="76284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5941800" y="5927040"/>
                    <a:ext cx="1026000" cy="53820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5941800" y="5702400"/>
                    <a:ext cx="1026000" cy="2016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5959440" y="5929560"/>
                    <a:ext cx="100800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336360" y="6126120"/>
                    <a:ext cx="315720" cy="2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2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018480" y="5728320"/>
                    <a:ext cx="263520" cy="1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5981040" y="5735880"/>
                  <a:ext cx="1026000" cy="763560"/>
                  <a:chOff x="5981040" y="5735880"/>
                  <a:chExt cx="1026000" cy="76356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5981040" y="5960880"/>
                    <a:ext cx="1026000" cy="53856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5981040" y="5735880"/>
                    <a:ext cx="1026000" cy="20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5998680" y="5963040"/>
                    <a:ext cx="100800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75600" y="6159960"/>
                    <a:ext cx="315720" cy="2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057720" y="5761800"/>
                    <a:ext cx="263520" cy="1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33" name=""/>
                <p:cNvGrpSpPr/>
                <p:nvPr/>
              </p:nvGrpSpPr>
              <p:grpSpPr>
                <a:xfrm>
                  <a:off x="6020640" y="5780160"/>
                  <a:ext cx="1026000" cy="763560"/>
                  <a:chOff x="6020640" y="5780160"/>
                  <a:chExt cx="1026000" cy="76356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6020640" y="6005160"/>
                    <a:ext cx="1026000" cy="538560"/>
                  </a:xfrm>
                  <a:prstGeom prst="foldedCorner">
                    <a:avLst>
                      <a:gd name="adj" fmla="val 10726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20640" y="5780160"/>
                    <a:ext cx="1026000" cy="2019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2000" rIns="72000" tIns="36000" bIns="36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9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Annotation</a:t>
                    </a: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38280" y="6007320"/>
                    <a:ext cx="100800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54000" rIns="54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Documen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43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415200" y="6204240"/>
                    <a:ext cx="315720" cy="2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38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6097320" y="5806080"/>
                    <a:ext cx="263520" cy="1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439" name=""/>
            <p:cNvGrpSpPr/>
            <p:nvPr/>
          </p:nvGrpSpPr>
          <p:grpSpPr>
            <a:xfrm>
              <a:off x="2432160" y="5127840"/>
              <a:ext cx="2168640" cy="574200"/>
              <a:chOff x="2432160" y="5127840"/>
              <a:chExt cx="2168640" cy="574200"/>
            </a:xfrm>
          </p:grpSpPr>
          <p:pic>
            <p:nvPicPr>
              <p:cNvPr id="440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432160" y="5364360"/>
                <a:ext cx="2365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33920" y="5364360"/>
                <a:ext cx="236520" cy="201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2" name=""/>
              <p:cNvGrpSpPr/>
              <p:nvPr/>
            </p:nvGrpSpPr>
            <p:grpSpPr>
              <a:xfrm>
                <a:off x="2629080" y="5127840"/>
                <a:ext cx="1008000" cy="574200"/>
                <a:chOff x="2629080" y="5127840"/>
                <a:chExt cx="1008000" cy="5742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2786760" y="5161320"/>
                  <a:ext cx="670680" cy="5407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4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2944800" y="5359680"/>
                  <a:ext cx="315720" cy="27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5" name=""/>
                <p:cNvSpPr/>
                <p:nvPr/>
              </p:nvSpPr>
              <p:spPr>
                <a:xfrm>
                  <a:off x="2629080" y="5127840"/>
                  <a:ext cx="10080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Ontolog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4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4286520" y="5330880"/>
                <a:ext cx="314280" cy="268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7" name=""/>
            <p:cNvGrpSpPr/>
            <p:nvPr/>
          </p:nvGrpSpPr>
          <p:grpSpPr>
            <a:xfrm>
              <a:off x="2219400" y="5762520"/>
              <a:ext cx="1631880" cy="747000"/>
              <a:chOff x="2219400" y="5762520"/>
              <a:chExt cx="1631880" cy="74700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2219400" y="6003000"/>
                <a:ext cx="1631880" cy="506520"/>
                <a:chOff x="2219400" y="6003000"/>
                <a:chExt cx="1631880" cy="5065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2298240" y="6036480"/>
                  <a:ext cx="1340640" cy="473040"/>
                </a:xfrm>
                <a:prstGeom prst="foldedCorner">
                  <a:avLst>
                    <a:gd name="adj" fmla="val 6138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50" name="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2337480" y="6209280"/>
                  <a:ext cx="275760" cy="236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1" name=""/>
                <p:cNvSpPr/>
                <p:nvPr/>
              </p:nvSpPr>
              <p:spPr>
                <a:xfrm>
                  <a:off x="2219400" y="6003000"/>
                  <a:ext cx="749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Mode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521080" y="6171840"/>
                  <a:ext cx="1330200" cy="30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Enterprise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- User's Profil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53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022560" y="5762520"/>
                <a:ext cx="236160" cy="201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4" name=""/>
            <p:cNvGrpSpPr/>
            <p:nvPr/>
          </p:nvGrpSpPr>
          <p:grpSpPr>
            <a:xfrm>
              <a:off x="3733920" y="6072120"/>
              <a:ext cx="1065240" cy="303480"/>
              <a:chOff x="3733920" y="6072120"/>
              <a:chExt cx="1065240" cy="303480"/>
            </a:xfrm>
          </p:grpSpPr>
          <p:pic>
            <p:nvPicPr>
              <p:cNvPr id="45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33920" y="6139440"/>
                <a:ext cx="2365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6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443480" y="6072120"/>
                <a:ext cx="355680" cy="303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7" name=""/>
            <p:cNvGrpSpPr/>
            <p:nvPr/>
          </p:nvGrpSpPr>
          <p:grpSpPr>
            <a:xfrm>
              <a:off x="7402680" y="5046840"/>
              <a:ext cx="631800" cy="655200"/>
              <a:chOff x="7402680" y="5046840"/>
              <a:chExt cx="631800" cy="655200"/>
            </a:xfrm>
          </p:grpSpPr>
          <p:pic>
            <p:nvPicPr>
              <p:cNvPr id="458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7599600" y="5499000"/>
                <a:ext cx="236520" cy="203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59" name=""/>
              <p:cNvGrpSpPr/>
              <p:nvPr/>
            </p:nvGrpSpPr>
            <p:grpSpPr>
              <a:xfrm>
                <a:off x="7402680" y="5046840"/>
                <a:ext cx="631800" cy="415800"/>
                <a:chOff x="7402680" y="5046840"/>
                <a:chExt cx="631800" cy="41580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7441920" y="5091120"/>
                  <a:ext cx="552960" cy="3715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7402680" y="5046840"/>
                  <a:ext cx="6318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4000" rIns="54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000000"/>
                      </a:solidFill>
                      <a:latin typeface="Bookman Old Style"/>
                    </a:rPr>
                    <a:t>Query</a:t>
                  </a: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Bookman Old Style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462" name="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7639560" y="5244480"/>
                  <a:ext cx="236880" cy="202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463" name=""/>
            <p:cNvGrpSpPr/>
            <p:nvPr/>
          </p:nvGrpSpPr>
          <p:grpSpPr>
            <a:xfrm>
              <a:off x="4143600" y="3276720"/>
              <a:ext cx="1375920" cy="3018960"/>
              <a:chOff x="4143600" y="3276720"/>
              <a:chExt cx="1375920" cy="3018960"/>
            </a:xfrm>
          </p:grpSpPr>
          <p:pic>
            <p:nvPicPr>
              <p:cNvPr id="464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5103720" y="3796560"/>
                <a:ext cx="22644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5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5061960" y="3729600"/>
                <a:ext cx="22644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4143600" y="3276720"/>
                <a:ext cx="35064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4309920" y="5622480"/>
                <a:ext cx="417600" cy="335880"/>
              </a:xfrm>
              <a:prstGeom prst="rect">
                <a:avLst/>
              </a:prstGeom>
              <a:ln w="9360">
                <a:solidFill>
                  <a:srgbClr val="c0c0c0"/>
                </a:solidFill>
                <a:miter/>
              </a:ln>
            </p:spPr>
          </p:pic>
          <p:pic>
            <p:nvPicPr>
              <p:cNvPr id="468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4227480" y="3696120"/>
                <a:ext cx="291600" cy="23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9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935960" y="5553720"/>
                <a:ext cx="321840" cy="246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0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853520" y="5078160"/>
                <a:ext cx="4345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1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4669200" y="3310200"/>
                <a:ext cx="3502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145480" y="3830400"/>
                <a:ext cx="226440" cy="23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3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185800" y="6027120"/>
                <a:ext cx="333720" cy="26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4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4644000" y="3830400"/>
                <a:ext cx="352080" cy="2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5185800" y="3358440"/>
                <a:ext cx="333720" cy="270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6" name=""/>
            <p:cNvSpPr txBox="1"/>
            <p:nvPr/>
          </p:nvSpPr>
          <p:spPr>
            <a:xfrm>
              <a:off x="2313000" y="5769000"/>
              <a:ext cx="23652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1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2982960" y="3105360"/>
              <a:ext cx="23796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2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7166160" y="5869080"/>
              <a:ext cx="236520" cy="141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 </a:t>
              </a: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808080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(3)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2352600" y="4892760"/>
              <a:ext cx="1971720" cy="1077840"/>
              <a:chOff x="2352600" y="4892760"/>
              <a:chExt cx="1971720" cy="1077840"/>
            </a:xfrm>
          </p:grpSpPr>
          <p:sp>
            <p:nvSpPr>
              <p:cNvPr id="480" name=""/>
              <p:cNvSpPr/>
              <p:nvPr/>
            </p:nvSpPr>
            <p:spPr>
              <a:xfrm>
                <a:off x="3654360" y="4892760"/>
                <a:ext cx="669960" cy="40464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2352600" y="4892760"/>
                <a:ext cx="512640" cy="40464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497040" y="4960080"/>
                <a:ext cx="117720" cy="101052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1917720" y="4049640"/>
              <a:ext cx="947160" cy="336600"/>
              <a:chOff x="1917720" y="4049640"/>
              <a:chExt cx="947160" cy="336600"/>
            </a:xfrm>
          </p:grpSpPr>
          <p:sp>
            <p:nvSpPr>
              <p:cNvPr id="484" name=""/>
              <p:cNvSpPr/>
              <p:nvPr/>
            </p:nvSpPr>
            <p:spPr>
              <a:xfrm>
                <a:off x="1917720" y="4138200"/>
                <a:ext cx="118800" cy="21384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2233080" y="4049640"/>
                <a:ext cx="631800" cy="336600"/>
              </a:xfrm>
              <a:prstGeom prst="line">
                <a:avLst/>
              </a:prstGeom>
              <a:ln w="19080">
                <a:solidFill>
                  <a:srgbClr val="00808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5467320" y="3581280"/>
              <a:ext cx="2247840" cy="2120760"/>
              <a:chOff x="5467320" y="3581280"/>
              <a:chExt cx="2247840" cy="2120760"/>
            </a:xfrm>
          </p:grpSpPr>
          <p:sp>
            <p:nvSpPr>
              <p:cNvPr id="487" name=""/>
              <p:cNvSpPr/>
              <p:nvPr/>
            </p:nvSpPr>
            <p:spPr>
              <a:xfrm flipH="1" flipV="1">
                <a:off x="5467320" y="3581280"/>
                <a:ext cx="1371600" cy="9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283520" y="4689720"/>
                <a:ext cx="431640" cy="37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6573600" y="4960080"/>
                <a:ext cx="355320" cy="673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65800" y="4960080"/>
                <a:ext cx="316080" cy="74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5271840" y="4859280"/>
              <a:ext cx="2130840" cy="876240"/>
              <a:chOff x="5271840" y="4859280"/>
              <a:chExt cx="2130840" cy="87624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5271840" y="4859280"/>
                <a:ext cx="552600" cy="3362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100920" y="4910400"/>
                <a:ext cx="0" cy="75816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56600" y="4960080"/>
                <a:ext cx="946080" cy="77544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865080" y="2925720"/>
            <a:ext cx="8051040" cy="3806640"/>
            <a:chOff x="865080" y="2925720"/>
            <a:chExt cx="8051040" cy="3806640"/>
          </a:xfrm>
        </p:grpSpPr>
        <p:grpSp>
          <p:nvGrpSpPr>
            <p:cNvPr id="496" name=""/>
            <p:cNvGrpSpPr/>
            <p:nvPr/>
          </p:nvGrpSpPr>
          <p:grpSpPr>
            <a:xfrm>
              <a:off x="915840" y="2925720"/>
              <a:ext cx="8000280" cy="3806640"/>
              <a:chOff x="915840" y="2925720"/>
              <a:chExt cx="8000280" cy="3806640"/>
            </a:xfrm>
          </p:grpSpPr>
          <p:sp>
            <p:nvSpPr>
              <p:cNvPr id="497" name=""/>
              <p:cNvSpPr/>
              <p:nvPr/>
            </p:nvSpPr>
            <p:spPr>
              <a:xfrm>
                <a:off x="915840" y="4216320"/>
                <a:ext cx="3174480" cy="2516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690520" y="2925720"/>
                <a:ext cx="3225600" cy="20646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014000" y="2925720"/>
                <a:ext cx="1676160" cy="3742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966240" y="2925720"/>
                <a:ext cx="3047400" cy="1290600"/>
              </a:xfrm>
              <a:prstGeom prst="rect">
                <a:avLst/>
              </a:prstGeom>
              <a:noFill/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690520" y="4990320"/>
                <a:ext cx="3047760" cy="1677240"/>
              </a:xfrm>
              <a:prstGeom prst="rect">
                <a:avLst/>
              </a:prstGeom>
              <a:noFill/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865080" y="4179960"/>
              <a:ext cx="167616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427440" y="4605480"/>
              <a:ext cx="2285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pull and pus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09560" y="2595600"/>
            <a:ext cx="8282160" cy="4249440"/>
            <a:chOff x="709560" y="2595600"/>
            <a:chExt cx="8282160" cy="4249440"/>
          </a:xfrm>
        </p:grpSpPr>
        <p:sp>
          <p:nvSpPr>
            <p:cNvPr id="505" name=""/>
            <p:cNvSpPr/>
            <p:nvPr/>
          </p:nvSpPr>
          <p:spPr>
            <a:xfrm>
              <a:off x="7343640" y="2595600"/>
              <a:ext cx="1486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overview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8220240" y="2709360"/>
              <a:ext cx="771480" cy="838440"/>
              <a:chOff x="8220240" y="2709360"/>
              <a:chExt cx="771480" cy="838440"/>
            </a:xfrm>
          </p:grpSpPr>
          <p:sp>
            <p:nvSpPr>
              <p:cNvPr id="507" name=""/>
              <p:cNvSpPr/>
              <p:nvPr/>
            </p:nvSpPr>
            <p:spPr>
              <a:xfrm flipV="1">
                <a:off x="8830080" y="2709360"/>
                <a:ext cx="0" cy="45720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448840" y="286200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 flipV="1" rot="16200000">
                <a:off x="8753760" y="2786040"/>
                <a:ext cx="15192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8830080" y="3090600"/>
                <a:ext cx="0" cy="45720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220240" y="286200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709560" y="6159600"/>
              <a:ext cx="622080" cy="685440"/>
              <a:chOff x="709560" y="6159600"/>
              <a:chExt cx="622080" cy="685440"/>
            </a:xfrm>
          </p:grpSpPr>
          <p:sp>
            <p:nvSpPr>
              <p:cNvPr id="513" name=""/>
              <p:cNvSpPr/>
              <p:nvPr/>
            </p:nvSpPr>
            <p:spPr>
              <a:xfrm>
                <a:off x="839880" y="647136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709560" y="672048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flipV="1" rot="5400000">
                <a:off x="777960" y="665820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39880" y="615960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1147320" y="672048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1374-7D61-43BF-9F82-173FFF4A3C60}" type="slidenum">
              <a:t>5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3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Sub-societies of CoMMA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6880" y="453960"/>
            <a:ext cx="9077400" cy="61606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 fontScale="99000"/>
          </a:bodyPr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Ontology &amp; model society: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replication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Ontologist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to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store 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 provide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ontology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Corporate model archivist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to 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store 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 provide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structural model of the (human) organisation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Annotations society: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hierarchy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Archivist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handles local annotation sources / archiv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Mediato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manage distributed processes for 2 tasks: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new annotation submissions (contract-net and semantic distance) 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lvl="2" marL="1081080" indent="-226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cba"/>
                </a:solidFill>
                <a:latin typeface="Arial"/>
              </a:rPr>
              <a:t>query solving processes (decomposition using URI as cut/joint points)</a:t>
            </a:r>
            <a:endParaRPr b="0" lang="en-US" sz="2000" spc="-1" strike="noStrike">
              <a:solidFill>
                <a:srgbClr val="007cba"/>
              </a:solidFill>
              <a:latin typeface="Arial"/>
            </a:endParaRPr>
          </a:p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Matchmakers society: 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peer-to-peer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Directory facilitato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yellow pages service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Agent management system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white pages service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88720" indent="-28872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7cba"/>
                </a:solidFill>
                <a:latin typeface="Arial"/>
              </a:rPr>
              <a:t>User-dedicated sub-society:</a:t>
            </a:r>
            <a:r>
              <a:rPr b="1" lang="en-GB" sz="2900" spc="-1" strike="noStrike">
                <a:solidFill>
                  <a:srgbClr val="007cba"/>
                </a:solidFill>
                <a:latin typeface="Arial"/>
              </a:rPr>
              <a:t> three main roles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Handle users' profile: profile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 manage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 &amp; profile</a:t>
            </a: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 archivist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66360" indent="-1882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cba"/>
                </a:solidFill>
                <a:latin typeface="Arial"/>
              </a:rPr>
              <a:t>Interface controller</a:t>
            </a:r>
            <a:r>
              <a:rPr b="0" lang="en-GB" sz="2400" spc="-1" strike="noStrike">
                <a:solidFill>
                  <a:srgbClr val="007cba"/>
                </a:solidFill>
                <a:latin typeface="Arial"/>
              </a:rPr>
              <a:t>: graphical user interface.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359480" y="4221000"/>
            <a:ext cx="1460520" cy="533520"/>
            <a:chOff x="7359480" y="4221000"/>
            <a:chExt cx="1460520" cy="533520"/>
          </a:xfrm>
        </p:grpSpPr>
        <p:sp>
          <p:nvSpPr>
            <p:cNvPr id="521" name=""/>
            <p:cNvSpPr/>
            <p:nvPr/>
          </p:nvSpPr>
          <p:spPr>
            <a:xfrm>
              <a:off x="7359480" y="4221000"/>
              <a:ext cx="1460520" cy="533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1"/>
            <a:stretch/>
          </p:blipFill>
          <p:spPr>
            <a:xfrm>
              <a:off x="7409880" y="4280040"/>
              <a:ext cx="76752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2"/>
            <a:stretch/>
          </p:blipFill>
          <p:spPr>
            <a:xfrm>
              <a:off x="8186400" y="4280040"/>
              <a:ext cx="580320" cy="44928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</p:grpSp>
      <p:grpSp>
        <p:nvGrpSpPr>
          <p:cNvPr id="524" name=""/>
          <p:cNvGrpSpPr/>
          <p:nvPr/>
        </p:nvGrpSpPr>
        <p:grpSpPr>
          <a:xfrm>
            <a:off x="1187280" y="4005360"/>
            <a:ext cx="5968800" cy="2818800"/>
            <a:chOff x="1187280" y="4005360"/>
            <a:chExt cx="5968800" cy="2818800"/>
          </a:xfrm>
        </p:grpSpPr>
        <p:sp>
          <p:nvSpPr>
            <p:cNvPr id="525" name=""/>
            <p:cNvSpPr/>
            <p:nvPr/>
          </p:nvSpPr>
          <p:spPr>
            <a:xfrm>
              <a:off x="3714480" y="4005360"/>
              <a:ext cx="3254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cc3300"/>
                  </a:solidFill>
                  <a:latin typeface="Arial"/>
                </a:rPr>
                <a:t>extract 1 from O'CoMM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6384600" y="4158000"/>
              <a:ext cx="771480" cy="837720"/>
              <a:chOff x="6384600" y="4158000"/>
              <a:chExt cx="771480" cy="837720"/>
            </a:xfrm>
          </p:grpSpPr>
          <p:sp>
            <p:nvSpPr>
              <p:cNvPr id="527" name=""/>
              <p:cNvSpPr/>
              <p:nvPr/>
            </p:nvSpPr>
            <p:spPr>
              <a:xfrm flipV="1">
                <a:off x="6994440" y="415800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613200" y="431028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 rot="16200000">
                <a:off x="6918120" y="423432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6994440" y="453888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384600" y="431028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187280" y="6138720"/>
              <a:ext cx="622080" cy="685440"/>
              <a:chOff x="1187280" y="6138720"/>
              <a:chExt cx="622080" cy="685440"/>
            </a:xfrm>
          </p:grpSpPr>
          <p:sp>
            <p:nvSpPr>
              <p:cNvPr id="533" name=""/>
              <p:cNvSpPr/>
              <p:nvPr/>
            </p:nvSpPr>
            <p:spPr>
              <a:xfrm>
                <a:off x="1317600" y="645048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1187280" y="669960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 flipV="1" rot="5400000">
                <a:off x="1255680" y="663732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17600" y="613872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1625040" y="669960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4988880" y="4462560"/>
              <a:ext cx="13845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97120" y="5300640"/>
              <a:ext cx="792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ch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40080" y="5300640"/>
              <a:ext cx="7902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65040" y="6138720"/>
              <a:ext cx="8755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99560" y="6138720"/>
              <a:ext cx="1181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ia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3" name=""/>
            <p:cNvCxnSpPr>
              <a:stCxn id="538" idx="2"/>
              <a:endCxn id="539" idx="0"/>
            </p:cNvCxnSpPr>
            <p:nvPr/>
          </p:nvCxnSpPr>
          <p:spPr>
            <a:xfrm flipH="1">
              <a:off x="4893480" y="4932000"/>
              <a:ext cx="78840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4" name=""/>
            <p:cNvCxnSpPr>
              <a:stCxn id="538" idx="2"/>
              <a:endCxn id="540" idx="0"/>
            </p:cNvCxnSpPr>
            <p:nvPr/>
          </p:nvCxnSpPr>
          <p:spPr>
            <a:xfrm>
              <a:off x="5681520" y="4932000"/>
              <a:ext cx="75456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5" name=""/>
            <p:cNvCxnSpPr>
              <a:stCxn id="539" idx="2"/>
              <a:endCxn id="542" idx="0"/>
            </p:cNvCxnSpPr>
            <p:nvPr/>
          </p:nvCxnSpPr>
          <p:spPr>
            <a:xfrm flipH="1">
              <a:off x="4089960" y="5770080"/>
              <a:ext cx="803880" cy="3690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546" name=""/>
            <p:cNvCxnSpPr>
              <a:stCxn id="539" idx="2"/>
              <a:endCxn id="541" idx="0"/>
            </p:cNvCxnSpPr>
            <p:nvPr/>
          </p:nvCxnSpPr>
          <p:spPr>
            <a:xfrm>
              <a:off x="4893840" y="5770080"/>
              <a:ext cx="410400" cy="36900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</a:ln>
          </p:spPr>
        </p:cxnSp>
        <p:sp>
          <p:nvSpPr>
            <p:cNvPr id="547" name=""/>
            <p:cNvSpPr/>
            <p:nvPr/>
          </p:nvSpPr>
          <p:spPr>
            <a:xfrm>
              <a:off x="3791520" y="519264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46040" y="5656320"/>
              <a:ext cx="319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istance(diagram,graph)=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67280" y="6138720"/>
              <a:ext cx="10965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ok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0" name=""/>
            <p:cNvCxnSpPr>
              <a:stCxn id="540" idx="2"/>
              <a:endCxn id="549" idx="0"/>
            </p:cNvCxnSpPr>
            <p:nvPr/>
          </p:nvCxnSpPr>
          <p:spPr>
            <a:xfrm flipH="1">
              <a:off x="6415560" y="5770080"/>
              <a:ext cx="19800" cy="3690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551" name=""/>
          <p:cNvGrpSpPr/>
          <p:nvPr/>
        </p:nvGrpSpPr>
        <p:grpSpPr>
          <a:xfrm>
            <a:off x="1195560" y="3954600"/>
            <a:ext cx="5968800" cy="2818440"/>
            <a:chOff x="1195560" y="3954600"/>
            <a:chExt cx="5968800" cy="2818440"/>
          </a:xfrm>
        </p:grpSpPr>
        <p:sp>
          <p:nvSpPr>
            <p:cNvPr id="552" name=""/>
            <p:cNvSpPr/>
            <p:nvPr/>
          </p:nvSpPr>
          <p:spPr>
            <a:xfrm>
              <a:off x="4984560" y="4462200"/>
              <a:ext cx="13845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3300"/>
                  </a:solidFill>
                  <a:latin typeface="Times New Roman"/>
                </a:rPr>
                <a:t>docu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92800" y="5300280"/>
              <a:ext cx="7920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35760" y="5300280"/>
              <a:ext cx="7902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oo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60360" y="6138720"/>
              <a:ext cx="8755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95240" y="6138720"/>
              <a:ext cx="118188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dia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2" idx="2"/>
              <a:endCxn id="553" idx="0"/>
            </p:cNvCxnSpPr>
            <p:nvPr/>
          </p:nvCxnSpPr>
          <p:spPr>
            <a:xfrm flipH="1">
              <a:off x="4888800" y="4932000"/>
              <a:ext cx="788040" cy="36864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558" name=""/>
            <p:cNvCxnSpPr>
              <a:stCxn id="552" idx="2"/>
              <a:endCxn id="554" idx="0"/>
            </p:cNvCxnSpPr>
            <p:nvPr/>
          </p:nvCxnSpPr>
          <p:spPr>
            <a:xfrm>
              <a:off x="5676480" y="4932000"/>
              <a:ext cx="754920" cy="36864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559" name=""/>
            <p:cNvCxnSpPr>
              <a:stCxn id="553" idx="2"/>
              <a:endCxn id="556" idx="0"/>
            </p:cNvCxnSpPr>
            <p:nvPr/>
          </p:nvCxnSpPr>
          <p:spPr>
            <a:xfrm flipH="1">
              <a:off x="4085640" y="5770440"/>
              <a:ext cx="803880" cy="368640"/>
            </a:xfrm>
            <a:prstGeom prst="straightConnector1">
              <a:avLst/>
            </a:prstGeom>
            <a:ln w="28440">
              <a:solidFill>
                <a:srgbClr val="000099"/>
              </a:solidFill>
              <a:miter/>
            </a:ln>
          </p:spPr>
        </p:cxnSp>
        <p:cxnSp>
          <p:nvCxnSpPr>
            <p:cNvPr id="560" name=""/>
            <p:cNvCxnSpPr>
              <a:stCxn id="553" idx="2"/>
              <a:endCxn id="555" idx="0"/>
            </p:cNvCxnSpPr>
            <p:nvPr/>
          </p:nvCxnSpPr>
          <p:spPr>
            <a:xfrm>
              <a:off x="4889520" y="5770440"/>
              <a:ext cx="41040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1" name=""/>
            <p:cNvSpPr/>
            <p:nvPr/>
          </p:nvSpPr>
          <p:spPr>
            <a:xfrm>
              <a:off x="4320360" y="4322520"/>
              <a:ext cx="71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Times New Roman"/>
                </a:rPr>
                <a:t>LC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341720" y="4856040"/>
              <a:ext cx="308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Distance(diagram,book)=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862600" y="6138720"/>
              <a:ext cx="10965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okl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4" name=""/>
            <p:cNvCxnSpPr>
              <a:stCxn id="554" idx="2"/>
              <a:endCxn id="563" idx="0"/>
            </p:cNvCxnSpPr>
            <p:nvPr/>
          </p:nvCxnSpPr>
          <p:spPr>
            <a:xfrm flipH="1">
              <a:off x="6411240" y="5770440"/>
              <a:ext cx="19800" cy="36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5" name=""/>
            <p:cNvSpPr/>
            <p:nvPr/>
          </p:nvSpPr>
          <p:spPr>
            <a:xfrm>
              <a:off x="3722760" y="3954600"/>
              <a:ext cx="32544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cc3300"/>
                  </a:solidFill>
                  <a:latin typeface="Arial"/>
                </a:rPr>
                <a:t>extract 2 from O'CoMM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6392880" y="4106880"/>
              <a:ext cx="771480" cy="837720"/>
              <a:chOff x="6392880" y="4106880"/>
              <a:chExt cx="771480" cy="837720"/>
            </a:xfrm>
          </p:grpSpPr>
          <p:sp>
            <p:nvSpPr>
              <p:cNvPr id="567" name=""/>
              <p:cNvSpPr/>
              <p:nvPr/>
            </p:nvSpPr>
            <p:spPr>
              <a:xfrm flipV="1">
                <a:off x="7002720" y="410688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621480" y="425916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 flipV="1" rot="16200000">
                <a:off x="6926400" y="418320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7002720" y="448776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92880" y="425916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1195560" y="6087960"/>
              <a:ext cx="622080" cy="685080"/>
              <a:chOff x="1195560" y="6087960"/>
              <a:chExt cx="622080" cy="685080"/>
            </a:xfrm>
          </p:grpSpPr>
          <p:sp>
            <p:nvSpPr>
              <p:cNvPr id="573" name=""/>
              <p:cNvSpPr/>
              <p:nvPr/>
            </p:nvSpPr>
            <p:spPr>
              <a:xfrm>
                <a:off x="1325880" y="639936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1195560" y="664848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 rot="5400000">
                <a:off x="1264320" y="6587280"/>
                <a:ext cx="12384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25880" y="608796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1633320" y="664848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C838C-54AD-4726-8EA6-10F9686861F8}" type="slidenum">
              <a:t>6</a:t>
            </a:fld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519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Roles and interaction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282760" y="4970520"/>
            <a:ext cx="4377960" cy="1784160"/>
            <a:chOff x="2282760" y="4970520"/>
            <a:chExt cx="4377960" cy="1784160"/>
          </a:xfrm>
        </p:grpSpPr>
        <p:sp>
          <p:nvSpPr>
            <p:cNvPr id="580" name=""/>
            <p:cNvSpPr/>
            <p:nvPr/>
          </p:nvSpPr>
          <p:spPr>
            <a:xfrm>
              <a:off x="2282760" y="4970520"/>
              <a:ext cx="4151520" cy="1784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62080" y="5022720"/>
              <a:ext cx="369864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Users'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2559240" y="4993920"/>
              <a:ext cx="440280" cy="559080"/>
              <a:chOff x="2559240" y="4993920"/>
              <a:chExt cx="440280" cy="559080"/>
            </a:xfrm>
          </p:grpSpPr>
          <p:sp>
            <p:nvSpPr>
              <p:cNvPr id="583" name=""/>
              <p:cNvSpPr/>
              <p:nvPr/>
            </p:nvSpPr>
            <p:spPr>
              <a:xfrm>
                <a:off x="2559240" y="4993920"/>
                <a:ext cx="440280" cy="5590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4" name=""/>
              <p:cNvGrpSpPr/>
              <p:nvPr/>
            </p:nvGrpSpPr>
            <p:grpSpPr>
              <a:xfrm>
                <a:off x="2608920" y="5017320"/>
                <a:ext cx="350280" cy="505080"/>
                <a:chOff x="2608920" y="5017320"/>
                <a:chExt cx="350280" cy="505080"/>
              </a:xfrm>
            </p:grpSpPr>
            <p:sp>
              <p:nvSpPr>
                <p:cNvPr id="585" name=""/>
                <p:cNvSpPr/>
                <p:nvPr/>
              </p:nvSpPr>
              <p:spPr>
                <a:xfrm flipH="1">
                  <a:off x="2710080" y="5045400"/>
                  <a:ext cx="137160" cy="110160"/>
                </a:xfrm>
                <a:custGeom>
                  <a:avLst/>
                  <a:gdLst/>
                  <a:ahLst/>
                  <a:rect l="l" t="t" r="r" b="b"/>
                  <a:pathLst>
                    <a:path w="471" h="522">
                      <a:moveTo>
                        <a:pt x="245" y="120"/>
                      </a:moveTo>
                      <a:lnTo>
                        <a:pt x="204" y="67"/>
                      </a:lnTo>
                      <a:lnTo>
                        <a:pt x="146" y="26"/>
                      </a:lnTo>
                      <a:lnTo>
                        <a:pt x="94" y="0"/>
                      </a:lnTo>
                      <a:lnTo>
                        <a:pt x="53" y="7"/>
                      </a:lnTo>
                      <a:lnTo>
                        <a:pt x="23" y="37"/>
                      </a:lnTo>
                      <a:lnTo>
                        <a:pt x="0" y="127"/>
                      </a:lnTo>
                      <a:lnTo>
                        <a:pt x="9" y="231"/>
                      </a:lnTo>
                      <a:lnTo>
                        <a:pt x="34" y="331"/>
                      </a:lnTo>
                      <a:lnTo>
                        <a:pt x="60" y="409"/>
                      </a:lnTo>
                      <a:lnTo>
                        <a:pt x="112" y="489"/>
                      </a:lnTo>
                      <a:lnTo>
                        <a:pt x="156" y="522"/>
                      </a:lnTo>
                      <a:lnTo>
                        <a:pt x="217" y="522"/>
                      </a:lnTo>
                      <a:lnTo>
                        <a:pt x="279" y="499"/>
                      </a:lnTo>
                      <a:lnTo>
                        <a:pt x="310" y="441"/>
                      </a:lnTo>
                      <a:lnTo>
                        <a:pt x="326" y="368"/>
                      </a:lnTo>
                      <a:lnTo>
                        <a:pt x="320" y="278"/>
                      </a:lnTo>
                      <a:lnTo>
                        <a:pt x="463" y="288"/>
                      </a:lnTo>
                      <a:lnTo>
                        <a:pt x="471" y="248"/>
                      </a:lnTo>
                      <a:lnTo>
                        <a:pt x="307" y="231"/>
                      </a:lnTo>
                      <a:lnTo>
                        <a:pt x="265" y="138"/>
                      </a:lnTo>
                      <a:lnTo>
                        <a:pt x="245" y="1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 flipH="1">
                  <a:off x="2800800" y="5017320"/>
                  <a:ext cx="158040" cy="176760"/>
                </a:xfrm>
                <a:custGeom>
                  <a:avLst/>
                  <a:gdLst/>
                  <a:ahLst/>
                  <a:rect l="l" t="t" r="r" b="b"/>
                  <a:pathLst>
                    <a:path w="542" h="837">
                      <a:moveTo>
                        <a:pt x="317" y="19"/>
                      </a:moveTo>
                      <a:lnTo>
                        <a:pt x="385" y="0"/>
                      </a:lnTo>
                      <a:lnTo>
                        <a:pt x="439" y="3"/>
                      </a:lnTo>
                      <a:lnTo>
                        <a:pt x="480" y="33"/>
                      </a:lnTo>
                      <a:lnTo>
                        <a:pt x="508" y="80"/>
                      </a:lnTo>
                      <a:lnTo>
                        <a:pt x="498" y="130"/>
                      </a:lnTo>
                      <a:lnTo>
                        <a:pt x="460" y="130"/>
                      </a:lnTo>
                      <a:lnTo>
                        <a:pt x="470" y="89"/>
                      </a:lnTo>
                      <a:lnTo>
                        <a:pt x="439" y="53"/>
                      </a:lnTo>
                      <a:lnTo>
                        <a:pt x="409" y="40"/>
                      </a:lnTo>
                      <a:lnTo>
                        <a:pt x="358" y="53"/>
                      </a:lnTo>
                      <a:lnTo>
                        <a:pt x="378" y="94"/>
                      </a:lnTo>
                      <a:lnTo>
                        <a:pt x="385" y="130"/>
                      </a:lnTo>
                      <a:lnTo>
                        <a:pt x="378" y="160"/>
                      </a:lnTo>
                      <a:lnTo>
                        <a:pt x="327" y="174"/>
                      </a:lnTo>
                      <a:lnTo>
                        <a:pt x="272" y="164"/>
                      </a:lnTo>
                      <a:lnTo>
                        <a:pt x="262" y="140"/>
                      </a:lnTo>
                      <a:lnTo>
                        <a:pt x="204" y="204"/>
                      </a:lnTo>
                      <a:lnTo>
                        <a:pt x="170" y="274"/>
                      </a:lnTo>
                      <a:lnTo>
                        <a:pt x="123" y="364"/>
                      </a:lnTo>
                      <a:lnTo>
                        <a:pt x="92" y="445"/>
                      </a:lnTo>
                      <a:lnTo>
                        <a:pt x="78" y="522"/>
                      </a:lnTo>
                      <a:lnTo>
                        <a:pt x="89" y="562"/>
                      </a:lnTo>
                      <a:lnTo>
                        <a:pt x="143" y="613"/>
                      </a:lnTo>
                      <a:lnTo>
                        <a:pt x="256" y="656"/>
                      </a:lnTo>
                      <a:lnTo>
                        <a:pt x="317" y="675"/>
                      </a:lnTo>
                      <a:lnTo>
                        <a:pt x="378" y="686"/>
                      </a:lnTo>
                      <a:lnTo>
                        <a:pt x="470" y="723"/>
                      </a:lnTo>
                      <a:lnTo>
                        <a:pt x="538" y="746"/>
                      </a:lnTo>
                      <a:lnTo>
                        <a:pt x="542" y="793"/>
                      </a:lnTo>
                      <a:lnTo>
                        <a:pt x="508" y="827"/>
                      </a:lnTo>
                      <a:lnTo>
                        <a:pt x="467" y="837"/>
                      </a:lnTo>
                      <a:lnTo>
                        <a:pt x="405" y="806"/>
                      </a:lnTo>
                      <a:lnTo>
                        <a:pt x="262" y="733"/>
                      </a:lnTo>
                      <a:lnTo>
                        <a:pt x="143" y="683"/>
                      </a:lnTo>
                      <a:lnTo>
                        <a:pt x="61" y="626"/>
                      </a:lnTo>
                      <a:lnTo>
                        <a:pt x="6" y="575"/>
                      </a:lnTo>
                      <a:lnTo>
                        <a:pt x="0" y="515"/>
                      </a:lnTo>
                      <a:lnTo>
                        <a:pt x="30" y="434"/>
                      </a:lnTo>
                      <a:lnTo>
                        <a:pt x="92" y="314"/>
                      </a:lnTo>
                      <a:lnTo>
                        <a:pt x="150" y="214"/>
                      </a:lnTo>
                      <a:lnTo>
                        <a:pt x="222" y="110"/>
                      </a:lnTo>
                      <a:lnTo>
                        <a:pt x="276" y="49"/>
                      </a:lnTo>
                      <a:lnTo>
                        <a:pt x="344" y="19"/>
                      </a:lnTo>
                      <a:lnTo>
                        <a:pt x="31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 flipH="1">
                  <a:off x="2728080" y="5163840"/>
                  <a:ext cx="82080" cy="165960"/>
                </a:xfrm>
                <a:custGeom>
                  <a:avLst/>
                  <a:gdLst/>
                  <a:ahLst/>
                  <a:rect l="l" t="t" r="r" b="b"/>
                  <a:pathLst>
                    <a:path w="284" h="786">
                      <a:moveTo>
                        <a:pt x="18" y="61"/>
                      </a:moveTo>
                      <a:lnTo>
                        <a:pt x="28" y="20"/>
                      </a:lnTo>
                      <a:lnTo>
                        <a:pt x="72" y="0"/>
                      </a:lnTo>
                      <a:lnTo>
                        <a:pt x="113" y="0"/>
                      </a:lnTo>
                      <a:lnTo>
                        <a:pt x="164" y="30"/>
                      </a:lnTo>
                      <a:lnTo>
                        <a:pt x="213" y="101"/>
                      </a:lnTo>
                      <a:lnTo>
                        <a:pt x="247" y="174"/>
                      </a:lnTo>
                      <a:lnTo>
                        <a:pt x="263" y="274"/>
                      </a:lnTo>
                      <a:lnTo>
                        <a:pt x="278" y="391"/>
                      </a:lnTo>
                      <a:lnTo>
                        <a:pt x="284" y="504"/>
                      </a:lnTo>
                      <a:lnTo>
                        <a:pt x="284" y="652"/>
                      </a:lnTo>
                      <a:lnTo>
                        <a:pt x="263" y="742"/>
                      </a:lnTo>
                      <a:lnTo>
                        <a:pt x="226" y="775"/>
                      </a:lnTo>
                      <a:lnTo>
                        <a:pt x="161" y="786"/>
                      </a:lnTo>
                      <a:lnTo>
                        <a:pt x="93" y="783"/>
                      </a:lnTo>
                      <a:lnTo>
                        <a:pt x="58" y="742"/>
                      </a:lnTo>
                      <a:lnTo>
                        <a:pt x="38" y="672"/>
                      </a:lnTo>
                      <a:lnTo>
                        <a:pt x="21" y="602"/>
                      </a:lnTo>
                      <a:lnTo>
                        <a:pt x="8" y="475"/>
                      </a:lnTo>
                      <a:lnTo>
                        <a:pt x="0" y="331"/>
                      </a:lnTo>
                      <a:lnTo>
                        <a:pt x="0" y="164"/>
                      </a:lnTo>
                      <a:lnTo>
                        <a:pt x="18" y="91"/>
                      </a:lnTo>
                      <a:lnTo>
                        <a:pt x="1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 flipH="1">
                  <a:off x="2645640" y="5168520"/>
                  <a:ext cx="126360" cy="127440"/>
                </a:xfrm>
                <a:custGeom>
                  <a:avLst/>
                  <a:gdLst/>
                  <a:ahLst/>
                  <a:rect l="l" t="t" r="r" b="b"/>
                  <a:pathLst>
                    <a:path w="433" h="603">
                      <a:moveTo>
                        <a:pt x="24" y="0"/>
                      </a:moveTo>
                      <a:lnTo>
                        <a:pt x="113" y="10"/>
                      </a:lnTo>
                      <a:lnTo>
                        <a:pt x="204" y="26"/>
                      </a:lnTo>
                      <a:lnTo>
                        <a:pt x="300" y="80"/>
                      </a:lnTo>
                      <a:lnTo>
                        <a:pt x="368" y="120"/>
                      </a:lnTo>
                      <a:lnTo>
                        <a:pt x="413" y="178"/>
                      </a:lnTo>
                      <a:lnTo>
                        <a:pt x="433" y="211"/>
                      </a:lnTo>
                      <a:lnTo>
                        <a:pt x="392" y="308"/>
                      </a:lnTo>
                      <a:lnTo>
                        <a:pt x="327" y="368"/>
                      </a:lnTo>
                      <a:lnTo>
                        <a:pt x="249" y="411"/>
                      </a:lnTo>
                      <a:lnTo>
                        <a:pt x="207" y="438"/>
                      </a:lnTo>
                      <a:lnTo>
                        <a:pt x="136" y="452"/>
                      </a:lnTo>
                      <a:lnTo>
                        <a:pt x="133" y="478"/>
                      </a:lnTo>
                      <a:lnTo>
                        <a:pt x="188" y="502"/>
                      </a:lnTo>
                      <a:lnTo>
                        <a:pt x="266" y="523"/>
                      </a:lnTo>
                      <a:lnTo>
                        <a:pt x="340" y="563"/>
                      </a:lnTo>
                      <a:lnTo>
                        <a:pt x="310" y="593"/>
                      </a:lnTo>
                      <a:lnTo>
                        <a:pt x="280" y="603"/>
                      </a:lnTo>
                      <a:lnTo>
                        <a:pt x="235" y="559"/>
                      </a:lnTo>
                      <a:lnTo>
                        <a:pt x="167" y="532"/>
                      </a:lnTo>
                      <a:lnTo>
                        <a:pt x="113" y="512"/>
                      </a:lnTo>
                      <a:lnTo>
                        <a:pt x="113" y="472"/>
                      </a:lnTo>
                      <a:lnTo>
                        <a:pt x="123" y="429"/>
                      </a:lnTo>
                      <a:lnTo>
                        <a:pt x="157" y="411"/>
                      </a:lnTo>
                      <a:lnTo>
                        <a:pt x="266" y="368"/>
                      </a:lnTo>
                      <a:lnTo>
                        <a:pt x="327" y="301"/>
                      </a:lnTo>
                      <a:lnTo>
                        <a:pt x="371" y="231"/>
                      </a:lnTo>
                      <a:lnTo>
                        <a:pt x="361" y="197"/>
                      </a:lnTo>
                      <a:lnTo>
                        <a:pt x="327" y="157"/>
                      </a:lnTo>
                      <a:lnTo>
                        <a:pt x="246" y="100"/>
                      </a:lnTo>
                      <a:lnTo>
                        <a:pt x="147" y="80"/>
                      </a:lnTo>
                      <a:lnTo>
                        <a:pt x="82" y="77"/>
                      </a:lnTo>
                      <a:lnTo>
                        <a:pt x="24" y="77"/>
                      </a:lnTo>
                      <a:lnTo>
                        <a:pt x="0" y="40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 flipH="1">
                  <a:off x="2608920" y="5312880"/>
                  <a:ext cx="153360" cy="205920"/>
                </a:xfrm>
                <a:custGeom>
                  <a:avLst/>
                  <a:gdLst/>
                  <a:ahLst/>
                  <a:rect l="l" t="t" r="r" b="b"/>
                  <a:pathLst>
                    <a:path w="527" h="976">
                      <a:moveTo>
                        <a:pt x="61" y="0"/>
                      </a:moveTo>
                      <a:lnTo>
                        <a:pt x="14" y="0"/>
                      </a:lnTo>
                      <a:lnTo>
                        <a:pt x="0" y="70"/>
                      </a:lnTo>
                      <a:lnTo>
                        <a:pt x="34" y="112"/>
                      </a:lnTo>
                      <a:lnTo>
                        <a:pt x="144" y="208"/>
                      </a:lnTo>
                      <a:lnTo>
                        <a:pt x="239" y="332"/>
                      </a:lnTo>
                      <a:lnTo>
                        <a:pt x="301" y="460"/>
                      </a:lnTo>
                      <a:lnTo>
                        <a:pt x="311" y="543"/>
                      </a:lnTo>
                      <a:lnTo>
                        <a:pt x="307" y="604"/>
                      </a:lnTo>
                      <a:lnTo>
                        <a:pt x="281" y="741"/>
                      </a:lnTo>
                      <a:lnTo>
                        <a:pt x="246" y="852"/>
                      </a:lnTo>
                      <a:lnTo>
                        <a:pt x="216" y="916"/>
                      </a:lnTo>
                      <a:lnTo>
                        <a:pt x="208" y="956"/>
                      </a:lnTo>
                      <a:lnTo>
                        <a:pt x="239" y="956"/>
                      </a:lnTo>
                      <a:lnTo>
                        <a:pt x="287" y="943"/>
                      </a:lnTo>
                      <a:lnTo>
                        <a:pt x="301" y="946"/>
                      </a:lnTo>
                      <a:lnTo>
                        <a:pt x="400" y="952"/>
                      </a:lnTo>
                      <a:lnTo>
                        <a:pt x="475" y="976"/>
                      </a:lnTo>
                      <a:lnTo>
                        <a:pt x="502" y="962"/>
                      </a:lnTo>
                      <a:lnTo>
                        <a:pt x="527" y="912"/>
                      </a:lnTo>
                      <a:lnTo>
                        <a:pt x="502" y="885"/>
                      </a:lnTo>
                      <a:lnTo>
                        <a:pt x="390" y="882"/>
                      </a:lnTo>
                      <a:lnTo>
                        <a:pt x="311" y="892"/>
                      </a:lnTo>
                      <a:lnTo>
                        <a:pt x="270" y="912"/>
                      </a:lnTo>
                      <a:lnTo>
                        <a:pt x="276" y="865"/>
                      </a:lnTo>
                      <a:lnTo>
                        <a:pt x="318" y="794"/>
                      </a:lnTo>
                      <a:lnTo>
                        <a:pt x="352" y="684"/>
                      </a:lnTo>
                      <a:lnTo>
                        <a:pt x="380" y="590"/>
                      </a:lnTo>
                      <a:lnTo>
                        <a:pt x="359" y="483"/>
                      </a:lnTo>
                      <a:lnTo>
                        <a:pt x="328" y="369"/>
                      </a:lnTo>
                      <a:lnTo>
                        <a:pt x="266" y="238"/>
                      </a:lnTo>
                      <a:lnTo>
                        <a:pt x="178" y="118"/>
                      </a:lnTo>
                      <a:lnTo>
                        <a:pt x="102" y="30"/>
                      </a:lnTo>
                      <a:lnTo>
                        <a:pt x="6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 flipH="1">
                  <a:off x="2755440" y="5312520"/>
                  <a:ext cx="102960" cy="209880"/>
                </a:xfrm>
                <a:custGeom>
                  <a:avLst/>
                  <a:gdLst/>
                  <a:ahLst/>
                  <a:rect l="l" t="t" r="r" b="b"/>
                  <a:pathLst>
                    <a:path w="355" h="994">
                      <a:moveTo>
                        <a:pt x="246" y="0"/>
                      </a:moveTo>
                      <a:lnTo>
                        <a:pt x="201" y="94"/>
                      </a:lnTo>
                      <a:lnTo>
                        <a:pt x="170" y="231"/>
                      </a:lnTo>
                      <a:lnTo>
                        <a:pt x="133" y="382"/>
                      </a:lnTo>
                      <a:lnTo>
                        <a:pt x="99" y="536"/>
                      </a:lnTo>
                      <a:lnTo>
                        <a:pt x="99" y="592"/>
                      </a:lnTo>
                      <a:lnTo>
                        <a:pt x="133" y="693"/>
                      </a:lnTo>
                      <a:lnTo>
                        <a:pt x="181" y="747"/>
                      </a:lnTo>
                      <a:lnTo>
                        <a:pt x="225" y="814"/>
                      </a:lnTo>
                      <a:lnTo>
                        <a:pt x="256" y="863"/>
                      </a:lnTo>
                      <a:lnTo>
                        <a:pt x="243" y="887"/>
                      </a:lnTo>
                      <a:lnTo>
                        <a:pt x="164" y="897"/>
                      </a:lnTo>
                      <a:lnTo>
                        <a:pt x="37" y="917"/>
                      </a:lnTo>
                      <a:lnTo>
                        <a:pt x="0" y="948"/>
                      </a:lnTo>
                      <a:lnTo>
                        <a:pt x="31" y="974"/>
                      </a:lnTo>
                      <a:lnTo>
                        <a:pt x="102" y="994"/>
                      </a:lnTo>
                      <a:lnTo>
                        <a:pt x="185" y="954"/>
                      </a:lnTo>
                      <a:lnTo>
                        <a:pt x="246" y="927"/>
                      </a:lnTo>
                      <a:lnTo>
                        <a:pt x="324" y="917"/>
                      </a:lnTo>
                      <a:lnTo>
                        <a:pt x="355" y="907"/>
                      </a:lnTo>
                      <a:lnTo>
                        <a:pt x="345" y="874"/>
                      </a:lnTo>
                      <a:lnTo>
                        <a:pt x="256" y="787"/>
                      </a:lnTo>
                      <a:lnTo>
                        <a:pt x="204" y="696"/>
                      </a:lnTo>
                      <a:lnTo>
                        <a:pt x="160" y="636"/>
                      </a:lnTo>
                      <a:lnTo>
                        <a:pt x="154" y="576"/>
                      </a:lnTo>
                      <a:lnTo>
                        <a:pt x="175" y="476"/>
                      </a:lnTo>
                      <a:lnTo>
                        <a:pt x="222" y="372"/>
                      </a:lnTo>
                      <a:lnTo>
                        <a:pt x="274" y="195"/>
                      </a:lnTo>
                      <a:lnTo>
                        <a:pt x="318" y="91"/>
                      </a:lnTo>
                      <a:lnTo>
                        <a:pt x="314" y="30"/>
                      </a:lnTo>
                      <a:lnTo>
                        <a:pt x="274" y="0"/>
                      </a:lnTo>
                      <a:lnTo>
                        <a:pt x="2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  <a:effectLst>
                  <a:outerShdw dist="36147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91" name=""/>
          <p:cNvGrpSpPr/>
          <p:nvPr/>
        </p:nvGrpSpPr>
        <p:grpSpPr>
          <a:xfrm>
            <a:off x="4622760" y="1017720"/>
            <a:ext cx="3851280" cy="1784160"/>
            <a:chOff x="4622760" y="1017720"/>
            <a:chExt cx="3851280" cy="1784160"/>
          </a:xfrm>
        </p:grpSpPr>
        <p:sp>
          <p:nvSpPr>
            <p:cNvPr id="592" name=""/>
            <p:cNvSpPr/>
            <p:nvPr/>
          </p:nvSpPr>
          <p:spPr>
            <a:xfrm>
              <a:off x="4622760" y="1017720"/>
              <a:ext cx="3851280" cy="1784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50880" y="1087560"/>
              <a:ext cx="31716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notations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773600" y="1157400"/>
              <a:ext cx="377280" cy="2649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grpSp>
        <p:nvGrpSpPr>
          <p:cNvPr id="595" name=""/>
          <p:cNvGrpSpPr/>
          <p:nvPr/>
        </p:nvGrpSpPr>
        <p:grpSpPr>
          <a:xfrm>
            <a:off x="395280" y="1017720"/>
            <a:ext cx="3849840" cy="1784160"/>
            <a:chOff x="395280" y="1017720"/>
            <a:chExt cx="3849840" cy="1784160"/>
          </a:xfrm>
        </p:grpSpPr>
        <p:sp>
          <p:nvSpPr>
            <p:cNvPr id="596" name=""/>
            <p:cNvSpPr/>
            <p:nvPr/>
          </p:nvSpPr>
          <p:spPr>
            <a:xfrm>
              <a:off x="395280" y="1017720"/>
              <a:ext cx="3849840" cy="17841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284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48160" y="1087560"/>
              <a:ext cx="3321000" cy="6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ntology and Model Socie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2"/>
            <a:stretch/>
          </p:blipFill>
          <p:spPr>
            <a:xfrm>
              <a:off x="536760" y="1157400"/>
              <a:ext cx="311040" cy="29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599" name=""/>
          <p:cNvSpPr/>
          <p:nvPr/>
        </p:nvSpPr>
        <p:spPr>
          <a:xfrm>
            <a:off x="2282760" y="2989440"/>
            <a:ext cx="4151520" cy="1784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33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86120" y="3129120"/>
            <a:ext cx="362412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connection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2433600" y="3129120"/>
            <a:ext cx="469800" cy="347400"/>
          </a:xfrm>
          <a:prstGeom prst="rect">
            <a:avLst/>
          </a:prstGeom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602" name=""/>
          <p:cNvGrpSpPr/>
          <p:nvPr/>
        </p:nvGrpSpPr>
        <p:grpSpPr>
          <a:xfrm>
            <a:off x="696960" y="1577880"/>
            <a:ext cx="3246120" cy="917280"/>
            <a:chOff x="696960" y="1577880"/>
            <a:chExt cx="3246120" cy="917280"/>
          </a:xfrm>
        </p:grpSpPr>
        <p:sp>
          <p:nvSpPr>
            <p:cNvPr id="603" name=""/>
            <p:cNvSpPr/>
            <p:nvPr/>
          </p:nvSpPr>
          <p:spPr>
            <a:xfrm>
              <a:off x="1677960" y="1647720"/>
              <a:ext cx="22651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Ontologist 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4" name="" descr=""/>
            <p:cNvPicPr/>
            <p:nvPr/>
          </p:nvPicPr>
          <p:blipFill>
            <a:blip r:embed="rId4"/>
            <a:stretch/>
          </p:blipFill>
          <p:spPr>
            <a:xfrm>
              <a:off x="1300680" y="1577880"/>
              <a:ext cx="308160" cy="2883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605" name="" descr=""/>
            <p:cNvPicPr/>
            <p:nvPr/>
          </p:nvPicPr>
          <p:blipFill>
            <a:blip r:embed="rId5"/>
            <a:stretch/>
          </p:blipFill>
          <p:spPr>
            <a:xfrm>
              <a:off x="696960" y="1857240"/>
              <a:ext cx="308160" cy="2880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606" name="" descr=""/>
            <p:cNvPicPr/>
            <p:nvPr/>
          </p:nvPicPr>
          <p:blipFill>
            <a:blip r:embed="rId6"/>
            <a:stretch/>
          </p:blipFill>
          <p:spPr>
            <a:xfrm>
              <a:off x="1225080" y="2206800"/>
              <a:ext cx="308520" cy="28836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  <p:pic>
          <p:nvPicPr>
            <p:cNvPr id="607" name="" descr=""/>
            <p:cNvPicPr/>
            <p:nvPr/>
          </p:nvPicPr>
          <p:blipFill>
            <a:blip r:embed="rId7"/>
            <a:stretch/>
          </p:blipFill>
          <p:spPr>
            <a:xfrm>
              <a:off x="1753560" y="2067120"/>
              <a:ext cx="308160" cy="288000"/>
            </a:xfrm>
            <a:prstGeom prst="rect">
              <a:avLst/>
            </a:prstGeom>
            <a:ln w="28440">
              <a:solidFill>
                <a:srgbClr val="808080"/>
              </a:solidFill>
              <a:miter/>
            </a:ln>
          </p:spPr>
        </p:pic>
      </p:grpSp>
      <p:grpSp>
        <p:nvGrpSpPr>
          <p:cNvPr id="608" name=""/>
          <p:cNvGrpSpPr/>
          <p:nvPr/>
        </p:nvGrpSpPr>
        <p:grpSpPr>
          <a:xfrm>
            <a:off x="4773600" y="1531800"/>
            <a:ext cx="3623760" cy="1118880"/>
            <a:chOff x="4773600" y="1531800"/>
            <a:chExt cx="3623760" cy="1118880"/>
          </a:xfrm>
        </p:grpSpPr>
        <p:sp>
          <p:nvSpPr>
            <p:cNvPr id="609" name=""/>
            <p:cNvSpPr/>
            <p:nvPr/>
          </p:nvSpPr>
          <p:spPr>
            <a:xfrm>
              <a:off x="5679360" y="2021400"/>
              <a:ext cx="2718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00040" y="2231280"/>
              <a:ext cx="13590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imes New Roman"/>
                </a:rPr>
                <a:t>Medi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773600" y="1531800"/>
              <a:ext cx="17362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imes New Roman"/>
                </a:rPr>
                <a:t>Archivi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8"/>
            <a:stretch/>
          </p:blipFill>
          <p:spPr>
            <a:xfrm>
              <a:off x="5981760" y="1531800"/>
              <a:ext cx="30816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3" name="" descr=""/>
            <p:cNvPicPr/>
            <p:nvPr/>
          </p:nvPicPr>
          <p:blipFill>
            <a:blip r:embed="rId9"/>
            <a:stretch/>
          </p:blipFill>
          <p:spPr>
            <a:xfrm>
              <a:off x="6359040" y="1531800"/>
              <a:ext cx="30816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4" name="" descr=""/>
            <p:cNvPicPr/>
            <p:nvPr/>
          </p:nvPicPr>
          <p:blipFill>
            <a:blip r:embed="rId10"/>
            <a:stretch/>
          </p:blipFill>
          <p:spPr>
            <a:xfrm>
              <a:off x="6736320" y="1531800"/>
              <a:ext cx="30852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5" name="" descr=""/>
            <p:cNvPicPr/>
            <p:nvPr/>
          </p:nvPicPr>
          <p:blipFill>
            <a:blip r:embed="rId11"/>
            <a:stretch/>
          </p:blipFill>
          <p:spPr>
            <a:xfrm>
              <a:off x="7113960" y="1531800"/>
              <a:ext cx="30816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6" name="" descr=""/>
            <p:cNvPicPr/>
            <p:nvPr/>
          </p:nvPicPr>
          <p:blipFill>
            <a:blip r:embed="rId12"/>
            <a:stretch/>
          </p:blipFill>
          <p:spPr>
            <a:xfrm>
              <a:off x="7491600" y="1531800"/>
              <a:ext cx="30816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7" name="" descr=""/>
            <p:cNvPicPr/>
            <p:nvPr/>
          </p:nvPicPr>
          <p:blipFill>
            <a:blip r:embed="rId13"/>
            <a:stretch/>
          </p:blipFill>
          <p:spPr>
            <a:xfrm>
              <a:off x="7868880" y="1531800"/>
              <a:ext cx="308520" cy="288720"/>
            </a:xfrm>
            <a:prstGeom prst="rect">
              <a:avLst/>
            </a:prstGeom>
            <a:ln w="28440">
              <a:solidFill>
                <a:srgbClr val="3333cc"/>
              </a:solidFill>
              <a:miter/>
            </a:ln>
          </p:spPr>
        </p:pic>
        <p:pic>
          <p:nvPicPr>
            <p:cNvPr id="618" name="" descr=""/>
            <p:cNvPicPr/>
            <p:nvPr/>
          </p:nvPicPr>
          <p:blipFill>
            <a:blip r:embed="rId14"/>
            <a:stretch/>
          </p:blipFill>
          <p:spPr>
            <a:xfrm>
              <a:off x="6359040" y="2231280"/>
              <a:ext cx="308160" cy="28836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  <p:pic>
          <p:nvPicPr>
            <p:cNvPr id="619" name="" descr=""/>
            <p:cNvPicPr/>
            <p:nvPr/>
          </p:nvPicPr>
          <p:blipFill>
            <a:blip r:embed="rId15"/>
            <a:stretch/>
          </p:blipFill>
          <p:spPr>
            <a:xfrm>
              <a:off x="6736320" y="2231280"/>
              <a:ext cx="308520" cy="288360"/>
            </a:xfrm>
            <a:prstGeom prst="rect">
              <a:avLst/>
            </a:prstGeom>
            <a:ln w="28440">
              <a:solidFill>
                <a:srgbClr val="339933"/>
              </a:solidFill>
              <a:miter/>
            </a:ln>
          </p:spPr>
        </p:pic>
      </p:grpSp>
      <p:grpSp>
        <p:nvGrpSpPr>
          <p:cNvPr id="620" name=""/>
          <p:cNvGrpSpPr/>
          <p:nvPr/>
        </p:nvGrpSpPr>
        <p:grpSpPr>
          <a:xfrm>
            <a:off x="2433600" y="5521320"/>
            <a:ext cx="3925440" cy="917280"/>
            <a:chOff x="2433600" y="5521320"/>
            <a:chExt cx="3925440" cy="917280"/>
          </a:xfrm>
        </p:grpSpPr>
        <p:grpSp>
          <p:nvGrpSpPr>
            <p:cNvPr id="621" name=""/>
            <p:cNvGrpSpPr/>
            <p:nvPr/>
          </p:nvGrpSpPr>
          <p:grpSpPr>
            <a:xfrm>
              <a:off x="3716640" y="5739840"/>
              <a:ext cx="1358640" cy="698760"/>
              <a:chOff x="3716640" y="5739840"/>
              <a:chExt cx="1358640" cy="698760"/>
            </a:xfrm>
          </p:grpSpPr>
          <p:pic>
            <p:nvPicPr>
              <p:cNvPr id="62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245120" y="5739840"/>
                <a:ext cx="307800" cy="288000"/>
              </a:xfrm>
              <a:prstGeom prst="rect">
                <a:avLst/>
              </a:prstGeom>
              <a:ln w="28440">
                <a:solidFill>
                  <a:srgbClr val="808080"/>
                </a:solidFill>
                <a:miter/>
              </a:ln>
            </p:spPr>
          </p:pic>
          <p:sp>
            <p:nvSpPr>
              <p:cNvPr id="623" name=""/>
              <p:cNvSpPr/>
              <p:nvPr/>
            </p:nvSpPr>
            <p:spPr>
              <a:xfrm>
                <a:off x="3716640" y="6019200"/>
                <a:ext cx="135864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8080"/>
                    </a:solidFill>
                    <a:latin typeface="Times New Roman"/>
                  </a:rPr>
                  <a:t>Profile Manag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773960" y="5521320"/>
              <a:ext cx="1585080" cy="847440"/>
              <a:chOff x="4773960" y="5521320"/>
              <a:chExt cx="1585080" cy="847440"/>
            </a:xfrm>
          </p:grpSpPr>
          <p:pic>
            <p:nvPicPr>
              <p:cNvPr id="62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371200" y="5521320"/>
                <a:ext cx="308160" cy="2880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626" name=""/>
              <p:cNvSpPr/>
              <p:nvPr/>
            </p:nvSpPr>
            <p:spPr>
              <a:xfrm>
                <a:off x="4773960" y="5809320"/>
                <a:ext cx="1585080" cy="55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Times New Roman"/>
                  </a:rPr>
                  <a:t>Profiles Archivis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2433600" y="5669640"/>
              <a:ext cx="1358640" cy="699120"/>
              <a:chOff x="2433600" y="5669640"/>
              <a:chExt cx="1358640" cy="699120"/>
            </a:xfrm>
          </p:grpSpPr>
          <p:pic>
            <p:nvPicPr>
              <p:cNvPr id="62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62080" y="5669640"/>
                <a:ext cx="307800" cy="288000"/>
              </a:xfrm>
              <a:prstGeom prst="rect">
                <a:avLst/>
              </a:prstGeom>
              <a:ln w="28440">
                <a:solidFill>
                  <a:srgbClr val="800080"/>
                </a:solidFill>
                <a:miter/>
              </a:ln>
            </p:spPr>
          </p:pic>
          <p:sp>
            <p:nvSpPr>
              <p:cNvPr id="629" name=""/>
              <p:cNvSpPr/>
              <p:nvPr/>
            </p:nvSpPr>
            <p:spPr>
              <a:xfrm>
                <a:off x="2433600" y="5949360"/>
                <a:ext cx="1358640" cy="41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Interfa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800080"/>
                    </a:solidFill>
                    <a:latin typeface="Times New Roman"/>
                  </a:rPr>
                  <a:t>Controller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2282760" y="3548160"/>
            <a:ext cx="3931920" cy="1118880"/>
            <a:chOff x="2282760" y="3548160"/>
            <a:chExt cx="3931920" cy="1118880"/>
          </a:xfrm>
        </p:grpSpPr>
        <p:sp>
          <p:nvSpPr>
            <p:cNvPr id="631" name=""/>
            <p:cNvSpPr/>
            <p:nvPr/>
          </p:nvSpPr>
          <p:spPr>
            <a:xfrm>
              <a:off x="2282760" y="4037760"/>
              <a:ext cx="1585440" cy="62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Federa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00"/>
                  </a:solidFill>
                  <a:latin typeface="Times New Roman"/>
                </a:rPr>
                <a:t>Matchmak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2" name="" descr=""/>
            <p:cNvPicPr/>
            <p:nvPr/>
          </p:nvPicPr>
          <p:blipFill>
            <a:blip r:embed="rId19"/>
            <a:stretch/>
          </p:blipFill>
          <p:spPr>
            <a:xfrm>
              <a:off x="3490200" y="3757680"/>
              <a:ext cx="308520" cy="2887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633" name="" descr=""/>
            <p:cNvPicPr/>
            <p:nvPr/>
          </p:nvPicPr>
          <p:blipFill>
            <a:blip r:embed="rId20"/>
            <a:stretch/>
          </p:blipFill>
          <p:spPr>
            <a:xfrm>
              <a:off x="4321080" y="3618000"/>
              <a:ext cx="308160" cy="28836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634" name="" descr=""/>
            <p:cNvPicPr/>
            <p:nvPr/>
          </p:nvPicPr>
          <p:blipFill>
            <a:blip r:embed="rId21"/>
            <a:stretch/>
          </p:blipFill>
          <p:spPr>
            <a:xfrm>
              <a:off x="5302440" y="3827880"/>
              <a:ext cx="308520" cy="28836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635" name="" descr=""/>
            <p:cNvPicPr/>
            <p:nvPr/>
          </p:nvPicPr>
          <p:blipFill>
            <a:blip r:embed="rId22"/>
            <a:stretch/>
          </p:blipFill>
          <p:spPr>
            <a:xfrm>
              <a:off x="4471920" y="4247640"/>
              <a:ext cx="308160" cy="28836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  <p:pic>
          <p:nvPicPr>
            <p:cNvPr id="636" name="" descr=""/>
            <p:cNvPicPr/>
            <p:nvPr/>
          </p:nvPicPr>
          <p:blipFill>
            <a:blip r:embed="rId23"/>
            <a:stretch/>
          </p:blipFill>
          <p:spPr>
            <a:xfrm>
              <a:off x="5906520" y="3548160"/>
              <a:ext cx="308160" cy="288720"/>
            </a:xfrm>
            <a:prstGeom prst="rect">
              <a:avLst/>
            </a:prstGeom>
            <a:ln w="28440">
              <a:solidFill>
                <a:srgbClr val="990000"/>
              </a:solidFill>
              <a:miter/>
            </a:ln>
          </p:spPr>
        </p:pic>
      </p:grpSp>
      <p:grpSp>
        <p:nvGrpSpPr>
          <p:cNvPr id="637" name=""/>
          <p:cNvGrpSpPr/>
          <p:nvPr/>
        </p:nvGrpSpPr>
        <p:grpSpPr>
          <a:xfrm>
            <a:off x="1905120" y="1893960"/>
            <a:ext cx="5736240" cy="3984480"/>
            <a:chOff x="1905120" y="1893960"/>
            <a:chExt cx="5736240" cy="3984480"/>
          </a:xfrm>
        </p:grpSpPr>
        <p:sp>
          <p:nvSpPr>
            <p:cNvPr id="638" name=""/>
            <p:cNvSpPr/>
            <p:nvPr/>
          </p:nvSpPr>
          <p:spPr>
            <a:xfrm flipH="1" flipV="1">
              <a:off x="6132240" y="1893960"/>
              <a:ext cx="377280" cy="2793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6509160" y="1893960"/>
              <a:ext cx="377640" cy="2793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6660360" y="1893960"/>
              <a:ext cx="981000" cy="2793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056640" y="2592720"/>
              <a:ext cx="452880" cy="7689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05120" y="3920760"/>
              <a:ext cx="150948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3867480" y="3781080"/>
              <a:ext cx="377280" cy="1396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97640" y="3781080"/>
              <a:ext cx="528480" cy="1396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7480" y="4060440"/>
              <a:ext cx="528480" cy="2797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4849200" y="4200480"/>
              <a:ext cx="528120" cy="2095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5679360" y="3920760"/>
              <a:ext cx="377280" cy="1396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97640" y="4619880"/>
              <a:ext cx="604080" cy="9784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546800" y="4619880"/>
              <a:ext cx="0" cy="1048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339000" y="5878440"/>
              <a:ext cx="8305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1905120" y="2382840"/>
              <a:ext cx="0" cy="15379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54000" y="419040"/>
            <a:ext cx="90774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normAutofit/>
          </a:bodyPr>
          <a:p>
            <a:pPr marL="291960" indent="-291960">
              <a:lnSpc>
                <a:spcPct val="10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Roles 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and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intera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24000" y="907920"/>
            <a:ext cx="8785080" cy="5950080"/>
            <a:chOff x="324000" y="907920"/>
            <a:chExt cx="8785080" cy="5950080"/>
          </a:xfrm>
        </p:grpSpPr>
        <p:grpSp>
          <p:nvGrpSpPr>
            <p:cNvPr id="654" name=""/>
            <p:cNvGrpSpPr/>
            <p:nvPr/>
          </p:nvGrpSpPr>
          <p:grpSpPr>
            <a:xfrm>
              <a:off x="324000" y="907920"/>
              <a:ext cx="8424720" cy="5950080"/>
              <a:chOff x="324000" y="907920"/>
              <a:chExt cx="8424720" cy="5950080"/>
            </a:xfrm>
          </p:grpSpPr>
          <p:sp>
            <p:nvSpPr>
              <p:cNvPr id="655" name=""/>
              <p:cNvSpPr/>
              <p:nvPr/>
            </p:nvSpPr>
            <p:spPr>
              <a:xfrm>
                <a:off x="324000" y="907920"/>
                <a:ext cx="6335640" cy="5950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659640" y="907920"/>
                <a:ext cx="2089080" cy="28814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0" tIns="4680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724360" y="4149720"/>
              <a:ext cx="3384720" cy="1655640"/>
              <a:chOff x="5724360" y="4149720"/>
              <a:chExt cx="3384720" cy="1655640"/>
            </a:xfrm>
          </p:grpSpPr>
          <p:sp>
            <p:nvSpPr>
              <p:cNvPr id="658" name=""/>
              <p:cNvSpPr/>
              <p:nvPr/>
            </p:nvSpPr>
            <p:spPr>
              <a:xfrm>
                <a:off x="6264360" y="4149720"/>
                <a:ext cx="2735280" cy="1655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28440">
                <a:solidFill>
                  <a:srgbClr val="00336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6407280" y="4230720"/>
                <a:ext cx="576000" cy="576360"/>
                <a:chOff x="6407280" y="4230720"/>
                <a:chExt cx="576000" cy="5763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6407280" y="4230720"/>
                  <a:ext cx="576000" cy="576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601"/>
                    </a:spcBef>
                    <a:buClr>
                      <a:srgbClr val="000099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6415200" y="4498920"/>
                  <a:ext cx="509040" cy="17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t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2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www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453000" y="4438440"/>
                  <a:ext cx="495000" cy="351000"/>
                </a:xfrm>
                <a:custGeom>
                  <a:avLst/>
                  <a:gdLst>
                    <a:gd name="textAreaLeft" fmla="*/ 66240 w 495000"/>
                    <a:gd name="textAreaRight" fmla="*/ 428760 w 495000"/>
                    <a:gd name="textAreaTop" fmla="*/ 65160 h 351000"/>
                    <a:gd name="textAreaBottom" fmla="*/ 250920 h 351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8029" stAng="-5400000" swAng="-5400000"/>
                      <a:lnTo>
                        <a:pt x="0" y="11412"/>
                      </a:lnTo>
                      <a:arcTo wR="21600" hR="8029" stAng="10800000" swAng="-3493248"/>
                      <a:lnTo>
                        <a:pt x="16753" y="21395"/>
                      </a:lnTo>
                      <a:lnTo>
                        <a:pt x="21600" y="17749"/>
                      </a:lnTo>
                      <a:lnTo>
                        <a:pt x="16753" y="13692"/>
                      </a:lnTo>
                      <a:lnTo>
                        <a:pt x="16753" y="15852"/>
                      </a:lnTo>
                      <a:arcTo wR="21600" hR="8029" stAng="7306752" swAng="3218443"/>
                      <a:lnTo>
                        <a:pt x="485" y="9720"/>
                      </a:lnTo>
                      <a:arcTo wR="21600" hR="8029" stAng="-10525195" swAng="512519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8029" stAng="-5400000" swAng="-5400000"/>
                      <a:lnTo>
                        <a:pt x="0" y="8029"/>
                      </a:lnTo>
                      <a:arcTo wR="21600" hR="8029" stAng="10800000" swAng="-274805"/>
                      <a:lnTo>
                        <a:pt x="485" y="9720"/>
                      </a:lnTo>
                      <a:arcTo wR="21600" hR="8029" stAng="-10525195" swAng="5125195"/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6797520" y="4413240"/>
                  <a:ext cx="169560" cy="14292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0" tIns="4680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4" name=""/>
                <p:cNvGrpSpPr/>
                <p:nvPr/>
              </p:nvGrpSpPr>
              <p:grpSpPr>
                <a:xfrm>
                  <a:off x="6518160" y="4240080"/>
                  <a:ext cx="379080" cy="331920"/>
                  <a:chOff x="6518160" y="4240080"/>
                  <a:chExt cx="379080" cy="33192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>
                    <a:off x="6519960" y="4240080"/>
                    <a:ext cx="376920" cy="33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0" tIns="46800" bIns="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6" name=""/>
                  <p:cNvGrpSpPr/>
                  <p:nvPr/>
                </p:nvGrpSpPr>
                <p:grpSpPr>
                  <a:xfrm>
                    <a:off x="6518160" y="4242240"/>
                    <a:ext cx="379080" cy="327240"/>
                    <a:chOff x="6518160" y="4242240"/>
                    <a:chExt cx="379080" cy="327240"/>
                  </a:xfrm>
                </p:grpSpPr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6573240" y="4509720"/>
                      <a:ext cx="27072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7" h="33">
                          <a:moveTo>
                            <a:pt x="10" y="33"/>
                          </a:moveTo>
                          <a:lnTo>
                            <a:pt x="805" y="21"/>
                          </a:lnTo>
                          <a:lnTo>
                            <a:pt x="817" y="0"/>
                          </a:lnTo>
                          <a:lnTo>
                            <a:pt x="0" y="12"/>
                          </a:lnTo>
                          <a:lnTo>
                            <a:pt x="10" y="3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6518160" y="4242240"/>
                      <a:ext cx="37908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2" h="1162">
                          <a:moveTo>
                            <a:pt x="971" y="167"/>
                          </a:moveTo>
                          <a:lnTo>
                            <a:pt x="951" y="148"/>
                          </a:lnTo>
                          <a:lnTo>
                            <a:pt x="929" y="129"/>
                          </a:lnTo>
                          <a:lnTo>
                            <a:pt x="907" y="112"/>
                          </a:lnTo>
                          <a:lnTo>
                            <a:pt x="884" y="96"/>
                          </a:lnTo>
                          <a:lnTo>
                            <a:pt x="861" y="81"/>
                          </a:lnTo>
                          <a:lnTo>
                            <a:pt x="836" y="67"/>
                          </a:lnTo>
                          <a:lnTo>
                            <a:pt x="812" y="54"/>
                          </a:lnTo>
                          <a:lnTo>
                            <a:pt x="787" y="44"/>
                          </a:lnTo>
                          <a:lnTo>
                            <a:pt x="762" y="34"/>
                          </a:lnTo>
                          <a:lnTo>
                            <a:pt x="735" y="24"/>
                          </a:lnTo>
                          <a:lnTo>
                            <a:pt x="709" y="18"/>
                          </a:lnTo>
                          <a:lnTo>
                            <a:pt x="682" y="12"/>
                          </a:lnTo>
                          <a:lnTo>
                            <a:pt x="654" y="6"/>
                          </a:lnTo>
                          <a:lnTo>
                            <a:pt x="627" y="3"/>
                          </a:lnTo>
                          <a:lnTo>
                            <a:pt x="599" y="1"/>
                          </a:lnTo>
                          <a:lnTo>
                            <a:pt x="571" y="0"/>
                          </a:lnTo>
                          <a:lnTo>
                            <a:pt x="546" y="1"/>
                          </a:lnTo>
                          <a:lnTo>
                            <a:pt x="521" y="3"/>
                          </a:lnTo>
                          <a:lnTo>
                            <a:pt x="495" y="5"/>
                          </a:lnTo>
                          <a:lnTo>
                            <a:pt x="471" y="9"/>
                          </a:lnTo>
                          <a:lnTo>
                            <a:pt x="446" y="14"/>
                          </a:lnTo>
                          <a:lnTo>
                            <a:pt x="422" y="21"/>
                          </a:lnTo>
                          <a:lnTo>
                            <a:pt x="399" y="28"/>
                          </a:lnTo>
                          <a:lnTo>
                            <a:pt x="374" y="36"/>
                          </a:lnTo>
                          <a:lnTo>
                            <a:pt x="351" y="45"/>
                          </a:lnTo>
                          <a:lnTo>
                            <a:pt x="328" y="56"/>
                          </a:lnTo>
                          <a:lnTo>
                            <a:pt x="306" y="67"/>
                          </a:lnTo>
                          <a:lnTo>
                            <a:pt x="285" y="80"/>
                          </a:lnTo>
                          <a:lnTo>
                            <a:pt x="263" y="94"/>
                          </a:lnTo>
                          <a:lnTo>
                            <a:pt x="242" y="107"/>
                          </a:lnTo>
                          <a:lnTo>
                            <a:pt x="222" y="124"/>
                          </a:lnTo>
                          <a:lnTo>
                            <a:pt x="203" y="140"/>
                          </a:lnTo>
                          <a:lnTo>
                            <a:pt x="206" y="143"/>
                          </a:lnTo>
                          <a:lnTo>
                            <a:pt x="211" y="147"/>
                          </a:lnTo>
                          <a:lnTo>
                            <a:pt x="214" y="150"/>
                          </a:lnTo>
                          <a:lnTo>
                            <a:pt x="218" y="153"/>
                          </a:lnTo>
                          <a:lnTo>
                            <a:pt x="236" y="138"/>
                          </a:lnTo>
                          <a:lnTo>
                            <a:pt x="256" y="124"/>
                          </a:lnTo>
                          <a:lnTo>
                            <a:pt x="276" y="110"/>
                          </a:lnTo>
                          <a:lnTo>
                            <a:pt x="296" y="97"/>
                          </a:lnTo>
                          <a:lnTo>
                            <a:pt x="318" y="85"/>
                          </a:lnTo>
                          <a:lnTo>
                            <a:pt x="339" y="74"/>
                          </a:lnTo>
                          <a:lnTo>
                            <a:pt x="361" y="64"/>
                          </a:lnTo>
                          <a:lnTo>
                            <a:pt x="382" y="56"/>
                          </a:lnTo>
                          <a:lnTo>
                            <a:pt x="406" y="47"/>
                          </a:lnTo>
                          <a:lnTo>
                            <a:pt x="429" y="41"/>
                          </a:lnTo>
                          <a:lnTo>
                            <a:pt x="452" y="35"/>
                          </a:lnTo>
                          <a:lnTo>
                            <a:pt x="475" y="30"/>
                          </a:lnTo>
                          <a:lnTo>
                            <a:pt x="499" y="26"/>
                          </a:lnTo>
                          <a:lnTo>
                            <a:pt x="523" y="23"/>
                          </a:lnTo>
                          <a:lnTo>
                            <a:pt x="547" y="21"/>
                          </a:lnTo>
                          <a:lnTo>
                            <a:pt x="571" y="21"/>
                          </a:lnTo>
                          <a:lnTo>
                            <a:pt x="598" y="22"/>
                          </a:lnTo>
                          <a:lnTo>
                            <a:pt x="626" y="23"/>
                          </a:lnTo>
                          <a:lnTo>
                            <a:pt x="652" y="27"/>
                          </a:lnTo>
                          <a:lnTo>
                            <a:pt x="677" y="31"/>
                          </a:lnTo>
                          <a:lnTo>
                            <a:pt x="704" y="37"/>
                          </a:lnTo>
                          <a:lnTo>
                            <a:pt x="729" y="45"/>
                          </a:lnTo>
                          <a:lnTo>
                            <a:pt x="755" y="53"/>
                          </a:lnTo>
                          <a:lnTo>
                            <a:pt x="779" y="62"/>
                          </a:lnTo>
                          <a:lnTo>
                            <a:pt x="803" y="74"/>
                          </a:lnTo>
                          <a:lnTo>
                            <a:pt x="827" y="85"/>
                          </a:lnTo>
                          <a:lnTo>
                            <a:pt x="850" y="99"/>
                          </a:lnTo>
                          <a:lnTo>
                            <a:pt x="872" y="113"/>
                          </a:lnTo>
                          <a:lnTo>
                            <a:pt x="894" y="129"/>
                          </a:lnTo>
                          <a:lnTo>
                            <a:pt x="916" y="145"/>
                          </a:lnTo>
                          <a:lnTo>
                            <a:pt x="937" y="164"/>
                          </a:lnTo>
                          <a:lnTo>
                            <a:pt x="956" y="182"/>
                          </a:lnTo>
                          <a:lnTo>
                            <a:pt x="994" y="224"/>
                          </a:lnTo>
                          <a:lnTo>
                            <a:pt x="1027" y="267"/>
                          </a:lnTo>
                          <a:lnTo>
                            <a:pt x="1055" y="315"/>
                          </a:lnTo>
                          <a:lnTo>
                            <a:pt x="1078" y="363"/>
                          </a:lnTo>
                          <a:lnTo>
                            <a:pt x="1097" y="414"/>
                          </a:lnTo>
                          <a:lnTo>
                            <a:pt x="1111" y="467"/>
                          </a:lnTo>
                          <a:lnTo>
                            <a:pt x="1119" y="521"/>
                          </a:lnTo>
                          <a:lnTo>
                            <a:pt x="1121" y="576"/>
                          </a:lnTo>
                          <a:lnTo>
                            <a:pt x="1119" y="631"/>
                          </a:lnTo>
                          <a:lnTo>
                            <a:pt x="1111" y="686"/>
                          </a:lnTo>
                          <a:lnTo>
                            <a:pt x="1097" y="739"/>
                          </a:lnTo>
                          <a:lnTo>
                            <a:pt x="1080" y="790"/>
                          </a:lnTo>
                          <a:lnTo>
                            <a:pt x="1057" y="840"/>
                          </a:lnTo>
                          <a:lnTo>
                            <a:pt x="1028" y="887"/>
                          </a:lnTo>
                          <a:lnTo>
                            <a:pt x="995" y="931"/>
                          </a:lnTo>
                          <a:lnTo>
                            <a:pt x="959" y="974"/>
                          </a:lnTo>
                          <a:lnTo>
                            <a:pt x="939" y="993"/>
                          </a:lnTo>
                          <a:lnTo>
                            <a:pt x="918" y="1012"/>
                          </a:lnTo>
                          <a:lnTo>
                            <a:pt x="896" y="1029"/>
                          </a:lnTo>
                          <a:lnTo>
                            <a:pt x="874" y="1045"/>
                          </a:lnTo>
                          <a:lnTo>
                            <a:pt x="851" y="1061"/>
                          </a:lnTo>
                          <a:lnTo>
                            <a:pt x="828" y="1075"/>
                          </a:lnTo>
                          <a:lnTo>
                            <a:pt x="804" y="1086"/>
                          </a:lnTo>
                          <a:lnTo>
                            <a:pt x="780" y="1098"/>
                          </a:lnTo>
                          <a:lnTo>
                            <a:pt x="755" y="1108"/>
                          </a:lnTo>
                          <a:lnTo>
                            <a:pt x="729" y="1117"/>
                          </a:lnTo>
                          <a:lnTo>
                            <a:pt x="704" y="1124"/>
                          </a:lnTo>
                          <a:lnTo>
                            <a:pt x="677" y="1130"/>
                          </a:lnTo>
                          <a:lnTo>
                            <a:pt x="652" y="1136"/>
                          </a:lnTo>
                          <a:lnTo>
                            <a:pt x="626" y="1139"/>
                          </a:lnTo>
                          <a:lnTo>
                            <a:pt x="598" y="1141"/>
                          </a:lnTo>
                          <a:lnTo>
                            <a:pt x="571" y="1142"/>
                          </a:lnTo>
                          <a:lnTo>
                            <a:pt x="545" y="1141"/>
                          </a:lnTo>
                          <a:lnTo>
                            <a:pt x="517" y="1139"/>
                          </a:lnTo>
                          <a:lnTo>
                            <a:pt x="491" y="1136"/>
                          </a:lnTo>
                          <a:lnTo>
                            <a:pt x="465" y="1131"/>
                          </a:lnTo>
                          <a:lnTo>
                            <a:pt x="439" y="1126"/>
                          </a:lnTo>
                          <a:lnTo>
                            <a:pt x="414" y="1117"/>
                          </a:lnTo>
                          <a:lnTo>
                            <a:pt x="388" y="1109"/>
                          </a:lnTo>
                          <a:lnTo>
                            <a:pt x="364" y="1100"/>
                          </a:lnTo>
                          <a:lnTo>
                            <a:pt x="340" y="1089"/>
                          </a:lnTo>
                          <a:lnTo>
                            <a:pt x="316" y="1077"/>
                          </a:lnTo>
                          <a:lnTo>
                            <a:pt x="293" y="1063"/>
                          </a:lnTo>
                          <a:lnTo>
                            <a:pt x="271" y="1050"/>
                          </a:lnTo>
                          <a:lnTo>
                            <a:pt x="249" y="1033"/>
                          </a:lnTo>
                          <a:lnTo>
                            <a:pt x="227" y="1017"/>
                          </a:lnTo>
                          <a:lnTo>
                            <a:pt x="206" y="999"/>
                          </a:lnTo>
                          <a:lnTo>
                            <a:pt x="187" y="980"/>
                          </a:lnTo>
                          <a:lnTo>
                            <a:pt x="149" y="939"/>
                          </a:lnTo>
                          <a:lnTo>
                            <a:pt x="116" y="895"/>
                          </a:lnTo>
                          <a:lnTo>
                            <a:pt x="88" y="847"/>
                          </a:lnTo>
                          <a:lnTo>
                            <a:pt x="64" y="797"/>
                          </a:lnTo>
                          <a:lnTo>
                            <a:pt x="45" y="745"/>
                          </a:lnTo>
                          <a:lnTo>
                            <a:pt x="32" y="691"/>
                          </a:lnTo>
                          <a:lnTo>
                            <a:pt x="23" y="637"/>
                          </a:lnTo>
                          <a:lnTo>
                            <a:pt x="21" y="582"/>
                          </a:lnTo>
                          <a:lnTo>
                            <a:pt x="23" y="527"/>
                          </a:lnTo>
                          <a:lnTo>
                            <a:pt x="32" y="471"/>
                          </a:lnTo>
                          <a:lnTo>
                            <a:pt x="45" y="418"/>
                          </a:lnTo>
                          <a:lnTo>
                            <a:pt x="64" y="367"/>
                          </a:lnTo>
                          <a:lnTo>
                            <a:pt x="88" y="316"/>
                          </a:lnTo>
                          <a:lnTo>
                            <a:pt x="116" y="269"/>
                          </a:lnTo>
                          <a:lnTo>
                            <a:pt x="149" y="224"/>
                          </a:lnTo>
                          <a:lnTo>
                            <a:pt x="187" y="182"/>
                          </a:lnTo>
                          <a:lnTo>
                            <a:pt x="195" y="174"/>
                          </a:lnTo>
                          <a:lnTo>
                            <a:pt x="203" y="167"/>
                          </a:lnTo>
                          <a:lnTo>
                            <a:pt x="210" y="160"/>
                          </a:lnTo>
                          <a:lnTo>
                            <a:pt x="218" y="153"/>
                          </a:lnTo>
                          <a:lnTo>
                            <a:pt x="214" y="150"/>
                          </a:lnTo>
                          <a:lnTo>
                            <a:pt x="211" y="147"/>
                          </a:lnTo>
                          <a:lnTo>
                            <a:pt x="206" y="143"/>
                          </a:lnTo>
                          <a:lnTo>
                            <a:pt x="203" y="140"/>
                          </a:lnTo>
                          <a:lnTo>
                            <a:pt x="198" y="143"/>
                          </a:lnTo>
                          <a:lnTo>
                            <a:pt x="194" y="148"/>
                          </a:lnTo>
                          <a:lnTo>
                            <a:pt x="189" y="151"/>
                          </a:lnTo>
                          <a:lnTo>
                            <a:pt x="184" y="156"/>
                          </a:lnTo>
                          <a:lnTo>
                            <a:pt x="180" y="160"/>
                          </a:lnTo>
                          <a:lnTo>
                            <a:pt x="176" y="165"/>
                          </a:lnTo>
                          <a:lnTo>
                            <a:pt x="172" y="168"/>
                          </a:lnTo>
                          <a:lnTo>
                            <a:pt x="167" y="173"/>
                          </a:lnTo>
                          <a:lnTo>
                            <a:pt x="129" y="216"/>
                          </a:lnTo>
                          <a:lnTo>
                            <a:pt x="96" y="262"/>
                          </a:lnTo>
                          <a:lnTo>
                            <a:pt x="67" y="310"/>
                          </a:lnTo>
                          <a:lnTo>
                            <a:pt x="43" y="362"/>
                          </a:lnTo>
                          <a:lnTo>
                            <a:pt x="24" y="415"/>
                          </a:lnTo>
                          <a:lnTo>
                            <a:pt x="10" y="469"/>
                          </a:lnTo>
                          <a:lnTo>
                            <a:pt x="2" y="524"/>
                          </a:lnTo>
                          <a:lnTo>
                            <a:pt x="0" y="582"/>
                          </a:lnTo>
                          <a:lnTo>
                            <a:pt x="3" y="640"/>
                          </a:lnTo>
                          <a:lnTo>
                            <a:pt x="11" y="696"/>
                          </a:lnTo>
                          <a:lnTo>
                            <a:pt x="25" y="751"/>
                          </a:lnTo>
                          <a:lnTo>
                            <a:pt x="45" y="805"/>
                          </a:lnTo>
                          <a:lnTo>
                            <a:pt x="69" y="857"/>
                          </a:lnTo>
                          <a:lnTo>
                            <a:pt x="99" y="907"/>
                          </a:lnTo>
                          <a:lnTo>
                            <a:pt x="132" y="953"/>
                          </a:lnTo>
                          <a:lnTo>
                            <a:pt x="172" y="995"/>
                          </a:lnTo>
                          <a:lnTo>
                            <a:pt x="192" y="1015"/>
                          </a:lnTo>
                          <a:lnTo>
                            <a:pt x="214" y="1033"/>
                          </a:lnTo>
                          <a:lnTo>
                            <a:pt x="236" y="1051"/>
                          </a:lnTo>
                          <a:lnTo>
                            <a:pt x="259" y="1067"/>
                          </a:lnTo>
                          <a:lnTo>
                            <a:pt x="282" y="1082"/>
                          </a:lnTo>
                          <a:lnTo>
                            <a:pt x="306" y="1096"/>
                          </a:lnTo>
                          <a:lnTo>
                            <a:pt x="331" y="1108"/>
                          </a:lnTo>
                          <a:lnTo>
                            <a:pt x="356" y="1120"/>
                          </a:lnTo>
                          <a:lnTo>
                            <a:pt x="381" y="1129"/>
                          </a:lnTo>
                          <a:lnTo>
                            <a:pt x="408" y="1138"/>
                          </a:lnTo>
                          <a:lnTo>
                            <a:pt x="434" y="1145"/>
                          </a:lnTo>
                          <a:lnTo>
                            <a:pt x="461" y="1152"/>
                          </a:lnTo>
                          <a:lnTo>
                            <a:pt x="488" y="1157"/>
                          </a:lnTo>
                          <a:lnTo>
                            <a:pt x="516" y="1160"/>
                          </a:lnTo>
                          <a:lnTo>
                            <a:pt x="544" y="1161"/>
                          </a:lnTo>
                          <a:lnTo>
                            <a:pt x="571" y="1162"/>
                          </a:lnTo>
                          <a:lnTo>
                            <a:pt x="599" y="1161"/>
                          </a:lnTo>
                          <a:lnTo>
                            <a:pt x="626" y="1160"/>
                          </a:lnTo>
                          <a:lnTo>
                            <a:pt x="653" y="1157"/>
                          </a:lnTo>
                          <a:lnTo>
                            <a:pt x="680" y="1152"/>
                          </a:lnTo>
                          <a:lnTo>
                            <a:pt x="706" y="1145"/>
                          </a:lnTo>
                          <a:lnTo>
                            <a:pt x="733" y="1138"/>
                          </a:lnTo>
                          <a:lnTo>
                            <a:pt x="758" y="1129"/>
                          </a:lnTo>
                          <a:lnTo>
                            <a:pt x="783" y="1120"/>
                          </a:lnTo>
                          <a:lnTo>
                            <a:pt x="808" y="1108"/>
                          </a:lnTo>
                          <a:lnTo>
                            <a:pt x="833" y="1096"/>
                          </a:lnTo>
                          <a:lnTo>
                            <a:pt x="856" y="1082"/>
                          </a:lnTo>
                          <a:lnTo>
                            <a:pt x="880" y="1067"/>
                          </a:lnTo>
                          <a:lnTo>
                            <a:pt x="902" y="1051"/>
                          </a:lnTo>
                          <a:lnTo>
                            <a:pt x="924" y="1033"/>
                          </a:lnTo>
                          <a:lnTo>
                            <a:pt x="946" y="1015"/>
                          </a:lnTo>
                          <a:lnTo>
                            <a:pt x="967" y="995"/>
                          </a:lnTo>
                          <a:lnTo>
                            <a:pt x="1006" y="952"/>
                          </a:lnTo>
                          <a:lnTo>
                            <a:pt x="1040" y="906"/>
                          </a:lnTo>
                          <a:lnTo>
                            <a:pt x="1070" y="855"/>
                          </a:lnTo>
                          <a:lnTo>
                            <a:pt x="1096" y="803"/>
                          </a:lnTo>
                          <a:lnTo>
                            <a:pt x="1115" y="748"/>
                          </a:lnTo>
                          <a:lnTo>
                            <a:pt x="1130" y="691"/>
                          </a:lnTo>
                          <a:lnTo>
                            <a:pt x="1138" y="634"/>
                          </a:lnTo>
                          <a:lnTo>
                            <a:pt x="1142" y="576"/>
                          </a:lnTo>
                          <a:lnTo>
                            <a:pt x="1139" y="519"/>
                          </a:lnTo>
                          <a:lnTo>
                            <a:pt x="1130" y="463"/>
                          </a:lnTo>
                          <a:lnTo>
                            <a:pt x="1116" y="409"/>
                          </a:lnTo>
                          <a:lnTo>
                            <a:pt x="1098" y="356"/>
                          </a:lnTo>
                          <a:lnTo>
                            <a:pt x="1074" y="304"/>
                          </a:lnTo>
                          <a:lnTo>
                            <a:pt x="1044" y="256"/>
                          </a:lnTo>
                          <a:lnTo>
                            <a:pt x="1010" y="210"/>
                          </a:lnTo>
                          <a:lnTo>
                            <a:pt x="971" y="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6703560" y="4244400"/>
                      <a:ext cx="13680" cy="30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096">
                          <a:moveTo>
                            <a:pt x="0" y="2"/>
                          </a:moveTo>
                          <a:lnTo>
                            <a:pt x="21" y="1096"/>
                          </a:lnTo>
                          <a:lnTo>
                            <a:pt x="41" y="1095"/>
                          </a:lnTo>
                          <a:lnTo>
                            <a:pt x="21" y="0"/>
                          </a:lnTo>
                          <a:lnTo>
                            <a:pt x="0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6530040" y="4349160"/>
                      <a:ext cx="35172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9" h="34">
                          <a:moveTo>
                            <a:pt x="0" y="34"/>
                          </a:moveTo>
                          <a:lnTo>
                            <a:pt x="1059" y="21"/>
                          </a:lnTo>
                          <a:lnTo>
                            <a:pt x="1059" y="0"/>
                          </a:lnTo>
                          <a:lnTo>
                            <a:pt x="0" y="13"/>
                          </a:lnTo>
                          <a:lnTo>
                            <a:pt x="0" y="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6522120" y="4399920"/>
                      <a:ext cx="37260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4" h="42">
                          <a:moveTo>
                            <a:pt x="0" y="42"/>
                          </a:moveTo>
                          <a:lnTo>
                            <a:pt x="1124" y="21"/>
                          </a:lnTo>
                          <a:lnTo>
                            <a:pt x="1124" y="0"/>
                          </a:lnTo>
                          <a:lnTo>
                            <a:pt x="0" y="21"/>
                          </a:lnTo>
                          <a:lnTo>
                            <a:pt x="0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6536520" y="4454640"/>
                      <a:ext cx="3477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0" h="37">
                          <a:moveTo>
                            <a:pt x="0" y="37"/>
                          </a:moveTo>
                          <a:lnTo>
                            <a:pt x="1050" y="20"/>
                          </a:lnTo>
                          <a:lnTo>
                            <a:pt x="1050" y="0"/>
                          </a:lnTo>
                          <a:lnTo>
                            <a:pt x="0" y="16"/>
                          </a:lnTo>
                          <a:lnTo>
                            <a:pt x="0" y="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6571800" y="4274280"/>
                      <a:ext cx="112320" cy="28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1027">
                          <a:moveTo>
                            <a:pt x="197" y="0"/>
                          </a:moveTo>
                          <a:lnTo>
                            <a:pt x="195" y="3"/>
                          </a:lnTo>
                          <a:lnTo>
                            <a:pt x="188" y="8"/>
                          </a:lnTo>
                          <a:lnTo>
                            <a:pt x="179" y="18"/>
                          </a:lnTo>
                          <a:lnTo>
                            <a:pt x="166" y="30"/>
                          </a:lnTo>
                          <a:lnTo>
                            <a:pt x="151" y="48"/>
                          </a:lnTo>
                          <a:lnTo>
                            <a:pt x="135" y="67"/>
                          </a:lnTo>
                          <a:lnTo>
                            <a:pt x="118" y="91"/>
                          </a:lnTo>
                          <a:lnTo>
                            <a:pt x="100" y="118"/>
                          </a:lnTo>
                          <a:lnTo>
                            <a:pt x="82" y="149"/>
                          </a:lnTo>
                          <a:lnTo>
                            <a:pt x="64" y="183"/>
                          </a:lnTo>
                          <a:lnTo>
                            <a:pt x="48" y="221"/>
                          </a:lnTo>
                          <a:lnTo>
                            <a:pt x="33" y="264"/>
                          </a:lnTo>
                          <a:lnTo>
                            <a:pt x="20" y="309"/>
                          </a:lnTo>
                          <a:lnTo>
                            <a:pt x="10" y="357"/>
                          </a:lnTo>
                          <a:lnTo>
                            <a:pt x="4" y="410"/>
                          </a:lnTo>
                          <a:lnTo>
                            <a:pt x="0" y="467"/>
                          </a:lnTo>
                          <a:lnTo>
                            <a:pt x="0" y="471"/>
                          </a:lnTo>
                          <a:lnTo>
                            <a:pt x="2" y="485"/>
                          </a:lnTo>
                          <a:lnTo>
                            <a:pt x="3" y="505"/>
                          </a:lnTo>
                          <a:lnTo>
                            <a:pt x="6" y="532"/>
                          </a:lnTo>
                          <a:lnTo>
                            <a:pt x="12" y="564"/>
                          </a:lnTo>
                          <a:lnTo>
                            <a:pt x="19" y="600"/>
                          </a:lnTo>
                          <a:lnTo>
                            <a:pt x="29" y="641"/>
                          </a:lnTo>
                          <a:lnTo>
                            <a:pt x="43" y="683"/>
                          </a:lnTo>
                          <a:lnTo>
                            <a:pt x="61" y="728"/>
                          </a:lnTo>
                          <a:lnTo>
                            <a:pt x="83" y="774"/>
                          </a:lnTo>
                          <a:lnTo>
                            <a:pt x="110" y="822"/>
                          </a:lnTo>
                          <a:lnTo>
                            <a:pt x="141" y="866"/>
                          </a:lnTo>
                          <a:lnTo>
                            <a:pt x="178" y="911"/>
                          </a:lnTo>
                          <a:lnTo>
                            <a:pt x="222" y="953"/>
                          </a:lnTo>
                          <a:lnTo>
                            <a:pt x="271" y="992"/>
                          </a:lnTo>
                          <a:lnTo>
                            <a:pt x="328" y="1027"/>
                          </a:lnTo>
                          <a:lnTo>
                            <a:pt x="338" y="1009"/>
                          </a:lnTo>
                          <a:lnTo>
                            <a:pt x="283" y="976"/>
                          </a:lnTo>
                          <a:lnTo>
                            <a:pt x="235" y="938"/>
                          </a:lnTo>
                          <a:lnTo>
                            <a:pt x="193" y="898"/>
                          </a:lnTo>
                          <a:lnTo>
                            <a:pt x="157" y="854"/>
                          </a:lnTo>
                          <a:lnTo>
                            <a:pt x="127" y="810"/>
                          </a:lnTo>
                          <a:lnTo>
                            <a:pt x="101" y="765"/>
                          </a:lnTo>
                          <a:lnTo>
                            <a:pt x="80" y="720"/>
                          </a:lnTo>
                          <a:lnTo>
                            <a:pt x="63" y="676"/>
                          </a:lnTo>
                          <a:lnTo>
                            <a:pt x="50" y="635"/>
                          </a:lnTo>
                          <a:lnTo>
                            <a:pt x="40" y="596"/>
                          </a:lnTo>
                          <a:lnTo>
                            <a:pt x="32" y="561"/>
                          </a:lnTo>
                          <a:lnTo>
                            <a:pt x="27" y="530"/>
                          </a:lnTo>
                          <a:lnTo>
                            <a:pt x="23" y="504"/>
                          </a:lnTo>
                          <a:lnTo>
                            <a:pt x="22" y="484"/>
                          </a:lnTo>
                          <a:lnTo>
                            <a:pt x="21" y="471"/>
                          </a:lnTo>
                          <a:lnTo>
                            <a:pt x="21" y="467"/>
                          </a:lnTo>
                          <a:lnTo>
                            <a:pt x="23" y="413"/>
                          </a:lnTo>
                          <a:lnTo>
                            <a:pt x="30" y="362"/>
                          </a:lnTo>
                          <a:lnTo>
                            <a:pt x="41" y="315"/>
                          </a:lnTo>
                          <a:lnTo>
                            <a:pt x="52" y="270"/>
                          </a:lnTo>
                          <a:lnTo>
                            <a:pt x="67" y="231"/>
                          </a:lnTo>
                          <a:lnTo>
                            <a:pt x="82" y="194"/>
                          </a:lnTo>
                          <a:lnTo>
                            <a:pt x="100" y="160"/>
                          </a:lnTo>
                          <a:lnTo>
                            <a:pt x="117" y="130"/>
                          </a:lnTo>
                          <a:lnTo>
                            <a:pt x="134" y="104"/>
                          </a:lnTo>
                          <a:lnTo>
                            <a:pt x="151" y="81"/>
                          </a:lnTo>
                          <a:lnTo>
                            <a:pt x="166" y="61"/>
                          </a:lnTo>
                          <a:lnTo>
                            <a:pt x="181" y="45"/>
                          </a:lnTo>
                          <a:lnTo>
                            <a:pt x="193" y="34"/>
                          </a:lnTo>
                          <a:lnTo>
                            <a:pt x="202" y="24"/>
                          </a:lnTo>
                          <a:lnTo>
                            <a:pt x="208" y="19"/>
                          </a:lnTo>
                          <a:lnTo>
                            <a:pt x="210" y="16"/>
                          </a:lnTo>
                          <a:lnTo>
                            <a:pt x="197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6629760" y="4334040"/>
                      <a:ext cx="76320" cy="22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786">
                          <a:moveTo>
                            <a:pt x="46" y="0"/>
                          </a:moveTo>
                          <a:lnTo>
                            <a:pt x="43" y="5"/>
                          </a:lnTo>
                          <a:lnTo>
                            <a:pt x="37" y="18"/>
                          </a:lnTo>
                          <a:lnTo>
                            <a:pt x="29" y="38"/>
                          </a:lnTo>
                          <a:lnTo>
                            <a:pt x="20" y="67"/>
                          </a:lnTo>
                          <a:lnTo>
                            <a:pt x="11" y="104"/>
                          </a:lnTo>
                          <a:lnTo>
                            <a:pt x="4" y="148"/>
                          </a:lnTo>
                          <a:lnTo>
                            <a:pt x="0" y="201"/>
                          </a:lnTo>
                          <a:lnTo>
                            <a:pt x="2" y="262"/>
                          </a:lnTo>
                          <a:lnTo>
                            <a:pt x="4" y="291"/>
                          </a:lnTo>
                          <a:lnTo>
                            <a:pt x="6" y="319"/>
                          </a:lnTo>
                          <a:lnTo>
                            <a:pt x="10" y="349"/>
                          </a:lnTo>
                          <a:lnTo>
                            <a:pt x="14" y="379"/>
                          </a:lnTo>
                          <a:lnTo>
                            <a:pt x="20" y="410"/>
                          </a:lnTo>
                          <a:lnTo>
                            <a:pt x="27" y="442"/>
                          </a:lnTo>
                          <a:lnTo>
                            <a:pt x="35" y="473"/>
                          </a:lnTo>
                          <a:lnTo>
                            <a:pt x="46" y="505"/>
                          </a:lnTo>
                          <a:lnTo>
                            <a:pt x="58" y="537"/>
                          </a:lnTo>
                          <a:lnTo>
                            <a:pt x="73" y="571"/>
                          </a:lnTo>
                          <a:lnTo>
                            <a:pt x="90" y="605"/>
                          </a:lnTo>
                          <a:lnTo>
                            <a:pt x="110" y="640"/>
                          </a:lnTo>
                          <a:lnTo>
                            <a:pt x="132" y="675"/>
                          </a:lnTo>
                          <a:lnTo>
                            <a:pt x="157" y="711"/>
                          </a:lnTo>
                          <a:lnTo>
                            <a:pt x="185" y="748"/>
                          </a:lnTo>
                          <a:lnTo>
                            <a:pt x="216" y="786"/>
                          </a:lnTo>
                          <a:lnTo>
                            <a:pt x="231" y="772"/>
                          </a:lnTo>
                          <a:lnTo>
                            <a:pt x="201" y="735"/>
                          </a:lnTo>
                          <a:lnTo>
                            <a:pt x="173" y="699"/>
                          </a:lnTo>
                          <a:lnTo>
                            <a:pt x="149" y="665"/>
                          </a:lnTo>
                          <a:lnTo>
                            <a:pt x="127" y="630"/>
                          </a:lnTo>
                          <a:lnTo>
                            <a:pt x="109" y="596"/>
                          </a:lnTo>
                          <a:lnTo>
                            <a:pt x="93" y="562"/>
                          </a:lnTo>
                          <a:lnTo>
                            <a:pt x="78" y="530"/>
                          </a:lnTo>
                          <a:lnTo>
                            <a:pt x="66" y="498"/>
                          </a:lnTo>
                          <a:lnTo>
                            <a:pt x="56" y="467"/>
                          </a:lnTo>
                          <a:lnTo>
                            <a:pt x="46" y="436"/>
                          </a:lnTo>
                          <a:lnTo>
                            <a:pt x="40" y="406"/>
                          </a:lnTo>
                          <a:lnTo>
                            <a:pt x="34" y="376"/>
                          </a:lnTo>
                          <a:lnTo>
                            <a:pt x="30" y="346"/>
                          </a:lnTo>
                          <a:lnTo>
                            <a:pt x="27" y="317"/>
                          </a:lnTo>
                          <a:lnTo>
                            <a:pt x="25" y="288"/>
                          </a:lnTo>
                          <a:lnTo>
                            <a:pt x="22" y="261"/>
                          </a:lnTo>
                          <a:lnTo>
                            <a:pt x="21" y="202"/>
                          </a:lnTo>
                          <a:lnTo>
                            <a:pt x="25" y="151"/>
                          </a:lnTo>
                          <a:lnTo>
                            <a:pt x="32" y="109"/>
                          </a:lnTo>
                          <a:lnTo>
                            <a:pt x="40" y="73"/>
                          </a:lnTo>
                          <a:lnTo>
                            <a:pt x="49" y="46"/>
                          </a:lnTo>
                          <a:lnTo>
                            <a:pt x="56" y="27"/>
                          </a:lnTo>
                          <a:lnTo>
                            <a:pt x="61" y="15"/>
                          </a:lnTo>
                          <a:lnTo>
                            <a:pt x="64" y="11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6751080" y="4311360"/>
                      <a:ext cx="3240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7" h="261">
                          <a:moveTo>
                            <a:pt x="0" y="14"/>
                          </a:moveTo>
                          <a:lnTo>
                            <a:pt x="0" y="14"/>
                          </a:lnTo>
                          <a:lnTo>
                            <a:pt x="2" y="17"/>
                          </a:lnTo>
                          <a:lnTo>
                            <a:pt x="9" y="27"/>
                          </a:lnTo>
                          <a:lnTo>
                            <a:pt x="19" y="46"/>
                          </a:lnTo>
                          <a:lnTo>
                            <a:pt x="32" y="71"/>
                          </a:lnTo>
                          <a:lnTo>
                            <a:pt x="45" y="106"/>
                          </a:lnTo>
                          <a:lnTo>
                            <a:pt x="57" y="148"/>
                          </a:lnTo>
                          <a:lnTo>
                            <a:pt x="68" y="200"/>
                          </a:lnTo>
                          <a:lnTo>
                            <a:pt x="76" y="261"/>
                          </a:lnTo>
                          <a:lnTo>
                            <a:pt x="97" y="260"/>
                          </a:lnTo>
                          <a:lnTo>
                            <a:pt x="89" y="196"/>
                          </a:lnTo>
                          <a:lnTo>
                            <a:pt x="77" y="141"/>
                          </a:lnTo>
                          <a:lnTo>
                            <a:pt x="64" y="96"/>
                          </a:lnTo>
                          <a:lnTo>
                            <a:pt x="50" y="61"/>
                          </a:lnTo>
                          <a:lnTo>
                            <a:pt x="38" y="34"/>
                          </a:lnTo>
                          <a:lnTo>
                            <a:pt x="26" y="16"/>
                          </a:lnTo>
                          <a:lnTo>
                            <a:pt x="18" y="4"/>
                          </a:lnTo>
                          <a:lnTo>
                            <a:pt x="15" y="0"/>
                          </a:lnTo>
                          <a:lnTo>
                            <a:pt x="0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6740640" y="4275360"/>
                      <a:ext cx="10584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0" h="1022">
                          <a:moveTo>
                            <a:pt x="11" y="1022"/>
                          </a:moveTo>
                          <a:lnTo>
                            <a:pt x="47" y="996"/>
                          </a:lnTo>
                          <a:lnTo>
                            <a:pt x="81" y="970"/>
                          </a:lnTo>
                          <a:lnTo>
                            <a:pt x="112" y="942"/>
                          </a:lnTo>
                          <a:lnTo>
                            <a:pt x="142" y="913"/>
                          </a:lnTo>
                          <a:lnTo>
                            <a:pt x="170" y="883"/>
                          </a:lnTo>
                          <a:lnTo>
                            <a:pt x="195" y="852"/>
                          </a:lnTo>
                          <a:lnTo>
                            <a:pt x="217" y="820"/>
                          </a:lnTo>
                          <a:lnTo>
                            <a:pt x="238" y="787"/>
                          </a:lnTo>
                          <a:lnTo>
                            <a:pt x="256" y="752"/>
                          </a:lnTo>
                          <a:lnTo>
                            <a:pt x="273" y="716"/>
                          </a:lnTo>
                          <a:lnTo>
                            <a:pt x="286" y="679"/>
                          </a:lnTo>
                          <a:lnTo>
                            <a:pt x="298" y="641"/>
                          </a:lnTo>
                          <a:lnTo>
                            <a:pt x="307" y="603"/>
                          </a:lnTo>
                          <a:lnTo>
                            <a:pt x="314" y="563"/>
                          </a:lnTo>
                          <a:lnTo>
                            <a:pt x="318" y="523"/>
                          </a:lnTo>
                          <a:lnTo>
                            <a:pt x="320" y="481"/>
                          </a:lnTo>
                          <a:lnTo>
                            <a:pt x="319" y="421"/>
                          </a:lnTo>
                          <a:lnTo>
                            <a:pt x="313" y="365"/>
                          </a:lnTo>
                          <a:lnTo>
                            <a:pt x="304" y="314"/>
                          </a:lnTo>
                          <a:lnTo>
                            <a:pt x="291" y="266"/>
                          </a:lnTo>
                          <a:lnTo>
                            <a:pt x="277" y="223"/>
                          </a:lnTo>
                          <a:lnTo>
                            <a:pt x="260" y="183"/>
                          </a:lnTo>
                          <a:lnTo>
                            <a:pt x="243" y="148"/>
                          </a:lnTo>
                          <a:lnTo>
                            <a:pt x="224" y="116"/>
                          </a:lnTo>
                          <a:lnTo>
                            <a:pt x="206" y="89"/>
                          </a:lnTo>
                          <a:lnTo>
                            <a:pt x="188" y="66"/>
                          </a:lnTo>
                          <a:lnTo>
                            <a:pt x="171" y="45"/>
                          </a:lnTo>
                          <a:lnTo>
                            <a:pt x="156" y="29"/>
                          </a:lnTo>
                          <a:lnTo>
                            <a:pt x="144" y="16"/>
                          </a:lnTo>
                          <a:lnTo>
                            <a:pt x="133" y="7"/>
                          </a:lnTo>
                          <a:lnTo>
                            <a:pt x="126" y="2"/>
                          </a:lnTo>
                          <a:lnTo>
                            <a:pt x="124" y="0"/>
                          </a:lnTo>
                          <a:lnTo>
                            <a:pt x="111" y="17"/>
                          </a:lnTo>
                          <a:lnTo>
                            <a:pt x="111" y="17"/>
                          </a:lnTo>
                          <a:lnTo>
                            <a:pt x="114" y="19"/>
                          </a:lnTo>
                          <a:lnTo>
                            <a:pt x="121" y="24"/>
                          </a:lnTo>
                          <a:lnTo>
                            <a:pt x="130" y="33"/>
                          </a:lnTo>
                          <a:lnTo>
                            <a:pt x="142" y="45"/>
                          </a:lnTo>
                          <a:lnTo>
                            <a:pt x="156" y="61"/>
                          </a:lnTo>
                          <a:lnTo>
                            <a:pt x="174" y="81"/>
                          </a:lnTo>
                          <a:lnTo>
                            <a:pt x="190" y="102"/>
                          </a:lnTo>
                          <a:lnTo>
                            <a:pt x="208" y="129"/>
                          </a:lnTo>
                          <a:lnTo>
                            <a:pt x="225" y="160"/>
                          </a:lnTo>
                          <a:lnTo>
                            <a:pt x="243" y="193"/>
                          </a:lnTo>
                          <a:lnTo>
                            <a:pt x="258" y="231"/>
                          </a:lnTo>
                          <a:lnTo>
                            <a:pt x="273" y="273"/>
                          </a:lnTo>
                          <a:lnTo>
                            <a:pt x="284" y="319"/>
                          </a:lnTo>
                          <a:lnTo>
                            <a:pt x="292" y="368"/>
                          </a:lnTo>
                          <a:lnTo>
                            <a:pt x="298" y="423"/>
                          </a:lnTo>
                          <a:lnTo>
                            <a:pt x="299" y="480"/>
                          </a:lnTo>
                          <a:lnTo>
                            <a:pt x="297" y="521"/>
                          </a:lnTo>
                          <a:lnTo>
                            <a:pt x="293" y="560"/>
                          </a:lnTo>
                          <a:lnTo>
                            <a:pt x="286" y="598"/>
                          </a:lnTo>
                          <a:lnTo>
                            <a:pt x="278" y="636"/>
                          </a:lnTo>
                          <a:lnTo>
                            <a:pt x="267" y="673"/>
                          </a:lnTo>
                          <a:lnTo>
                            <a:pt x="253" y="708"/>
                          </a:lnTo>
                          <a:lnTo>
                            <a:pt x="238" y="743"/>
                          </a:lnTo>
                          <a:lnTo>
                            <a:pt x="221" y="776"/>
                          </a:lnTo>
                          <a:lnTo>
                            <a:pt x="200" y="808"/>
                          </a:lnTo>
                          <a:lnTo>
                            <a:pt x="178" y="840"/>
                          </a:lnTo>
                          <a:lnTo>
                            <a:pt x="154" y="871"/>
                          </a:lnTo>
                          <a:lnTo>
                            <a:pt x="127" y="899"/>
                          </a:lnTo>
                          <a:lnTo>
                            <a:pt x="99" y="927"/>
                          </a:lnTo>
                          <a:lnTo>
                            <a:pt x="68" y="955"/>
                          </a:lnTo>
                          <a:lnTo>
                            <a:pt x="34" y="980"/>
                          </a:lnTo>
                          <a:lnTo>
                            <a:pt x="0" y="1004"/>
                          </a:lnTo>
                          <a:lnTo>
                            <a:pt x="11" y="10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6676920" y="4549680"/>
                      <a:ext cx="716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7" h="58">
                          <a:moveTo>
                            <a:pt x="15" y="58"/>
                          </a:moveTo>
                          <a:lnTo>
                            <a:pt x="15" y="58"/>
                          </a:lnTo>
                          <a:lnTo>
                            <a:pt x="16" y="57"/>
                          </a:lnTo>
                          <a:lnTo>
                            <a:pt x="22" y="52"/>
                          </a:lnTo>
                          <a:lnTo>
                            <a:pt x="30" y="46"/>
                          </a:lnTo>
                          <a:lnTo>
                            <a:pt x="40" y="41"/>
                          </a:lnTo>
                          <a:lnTo>
                            <a:pt x="54" y="34"/>
                          </a:lnTo>
                          <a:lnTo>
                            <a:pt x="72" y="28"/>
                          </a:lnTo>
                          <a:lnTo>
                            <a:pt x="90" y="23"/>
                          </a:lnTo>
                          <a:lnTo>
                            <a:pt x="112" y="21"/>
                          </a:lnTo>
                          <a:lnTo>
                            <a:pt x="111" y="21"/>
                          </a:lnTo>
                          <a:lnTo>
                            <a:pt x="114" y="21"/>
                          </a:lnTo>
                          <a:lnTo>
                            <a:pt x="121" y="22"/>
                          </a:lnTo>
                          <a:lnTo>
                            <a:pt x="133" y="24"/>
                          </a:lnTo>
                          <a:lnTo>
                            <a:pt x="146" y="27"/>
                          </a:lnTo>
                          <a:lnTo>
                            <a:pt x="161" y="31"/>
                          </a:lnTo>
                          <a:lnTo>
                            <a:pt x="176" y="37"/>
                          </a:lnTo>
                          <a:lnTo>
                            <a:pt x="190" y="44"/>
                          </a:lnTo>
                          <a:lnTo>
                            <a:pt x="203" y="53"/>
                          </a:lnTo>
                          <a:lnTo>
                            <a:pt x="217" y="38"/>
                          </a:lnTo>
                          <a:lnTo>
                            <a:pt x="203" y="28"/>
                          </a:lnTo>
                          <a:lnTo>
                            <a:pt x="187" y="19"/>
                          </a:lnTo>
                          <a:lnTo>
                            <a:pt x="169" y="13"/>
                          </a:lnTo>
                          <a:lnTo>
                            <a:pt x="153" y="7"/>
                          </a:lnTo>
                          <a:lnTo>
                            <a:pt x="137" y="4"/>
                          </a:lnTo>
                          <a:lnTo>
                            <a:pt x="125" y="3"/>
                          </a:lnTo>
                          <a:lnTo>
                            <a:pt x="116" y="1"/>
                          </a:lnTo>
                          <a:lnTo>
                            <a:pt x="112" y="0"/>
                          </a:lnTo>
                          <a:lnTo>
                            <a:pt x="112" y="0"/>
                          </a:lnTo>
                          <a:lnTo>
                            <a:pt x="111" y="0"/>
                          </a:lnTo>
                          <a:lnTo>
                            <a:pt x="87" y="3"/>
                          </a:lnTo>
                          <a:lnTo>
                            <a:pt x="65" y="8"/>
                          </a:lnTo>
                          <a:lnTo>
                            <a:pt x="46" y="15"/>
                          </a:lnTo>
                          <a:lnTo>
                            <a:pt x="30" y="22"/>
                          </a:lnTo>
                          <a:lnTo>
                            <a:pt x="17" y="30"/>
                          </a:lnTo>
                          <a:lnTo>
                            <a:pt x="8" y="36"/>
                          </a:lnTo>
                          <a:lnTo>
                            <a:pt x="2" y="41"/>
                          </a:lnTo>
                          <a:lnTo>
                            <a:pt x="0" y="43"/>
                          </a:lnTo>
                          <a:lnTo>
                            <a:pt x="15" y="5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6564600" y="4296240"/>
                      <a:ext cx="27828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7" h="40">
                          <a:moveTo>
                            <a:pt x="0" y="40"/>
                          </a:moveTo>
                          <a:lnTo>
                            <a:pt x="837" y="20"/>
                          </a:lnTo>
                          <a:lnTo>
                            <a:pt x="836" y="0"/>
                          </a:lnTo>
                          <a:lnTo>
                            <a:pt x="3" y="19"/>
                          </a:lnTo>
                          <a:lnTo>
                            <a:pt x="0" y="4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6602400" y="4244400"/>
                      <a:ext cx="270360" cy="31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3" h="1102">
                          <a:moveTo>
                            <a:pt x="444" y="149"/>
                          </a:moveTo>
                          <a:lnTo>
                            <a:pt x="457" y="143"/>
                          </a:lnTo>
                          <a:lnTo>
                            <a:pt x="469" y="135"/>
                          </a:lnTo>
                          <a:lnTo>
                            <a:pt x="478" y="134"/>
                          </a:lnTo>
                          <a:lnTo>
                            <a:pt x="486" y="136"/>
                          </a:lnTo>
                          <a:lnTo>
                            <a:pt x="471" y="148"/>
                          </a:lnTo>
                          <a:lnTo>
                            <a:pt x="469" y="149"/>
                          </a:lnTo>
                          <a:lnTo>
                            <a:pt x="464" y="150"/>
                          </a:lnTo>
                          <a:lnTo>
                            <a:pt x="458" y="153"/>
                          </a:lnTo>
                          <a:lnTo>
                            <a:pt x="456" y="155"/>
                          </a:lnTo>
                          <a:lnTo>
                            <a:pt x="454" y="155"/>
                          </a:lnTo>
                          <a:lnTo>
                            <a:pt x="449" y="153"/>
                          </a:lnTo>
                          <a:lnTo>
                            <a:pt x="445" y="150"/>
                          </a:lnTo>
                          <a:lnTo>
                            <a:pt x="444" y="149"/>
                          </a:lnTo>
                          <a:lnTo>
                            <a:pt x="432" y="121"/>
                          </a:lnTo>
                          <a:lnTo>
                            <a:pt x="427" y="126"/>
                          </a:lnTo>
                          <a:lnTo>
                            <a:pt x="419" y="127"/>
                          </a:lnTo>
                          <a:lnTo>
                            <a:pt x="428" y="147"/>
                          </a:lnTo>
                          <a:lnTo>
                            <a:pt x="435" y="148"/>
                          </a:lnTo>
                          <a:lnTo>
                            <a:pt x="432" y="156"/>
                          </a:lnTo>
                          <a:lnTo>
                            <a:pt x="421" y="162"/>
                          </a:lnTo>
                          <a:lnTo>
                            <a:pt x="399" y="165"/>
                          </a:lnTo>
                          <a:lnTo>
                            <a:pt x="399" y="156"/>
                          </a:lnTo>
                          <a:lnTo>
                            <a:pt x="414" y="156"/>
                          </a:lnTo>
                          <a:lnTo>
                            <a:pt x="422" y="154"/>
                          </a:lnTo>
                          <a:lnTo>
                            <a:pt x="428" y="147"/>
                          </a:lnTo>
                          <a:lnTo>
                            <a:pt x="419" y="127"/>
                          </a:lnTo>
                          <a:lnTo>
                            <a:pt x="414" y="121"/>
                          </a:lnTo>
                          <a:lnTo>
                            <a:pt x="406" y="118"/>
                          </a:lnTo>
                          <a:lnTo>
                            <a:pt x="406" y="125"/>
                          </a:lnTo>
                          <a:lnTo>
                            <a:pt x="406" y="126"/>
                          </a:lnTo>
                          <a:lnTo>
                            <a:pt x="405" y="128"/>
                          </a:lnTo>
                          <a:lnTo>
                            <a:pt x="404" y="131"/>
                          </a:lnTo>
                          <a:lnTo>
                            <a:pt x="402" y="134"/>
                          </a:lnTo>
                          <a:lnTo>
                            <a:pt x="399" y="136"/>
                          </a:lnTo>
                          <a:lnTo>
                            <a:pt x="397" y="138"/>
                          </a:lnTo>
                          <a:lnTo>
                            <a:pt x="396" y="138"/>
                          </a:lnTo>
                          <a:lnTo>
                            <a:pt x="395" y="138"/>
                          </a:lnTo>
                          <a:lnTo>
                            <a:pt x="395" y="117"/>
                          </a:lnTo>
                          <a:lnTo>
                            <a:pt x="384" y="115"/>
                          </a:lnTo>
                          <a:lnTo>
                            <a:pt x="382" y="116"/>
                          </a:lnTo>
                          <a:lnTo>
                            <a:pt x="378" y="118"/>
                          </a:lnTo>
                          <a:lnTo>
                            <a:pt x="373" y="120"/>
                          </a:lnTo>
                          <a:lnTo>
                            <a:pt x="371" y="123"/>
                          </a:lnTo>
                          <a:lnTo>
                            <a:pt x="368" y="125"/>
                          </a:lnTo>
                          <a:lnTo>
                            <a:pt x="364" y="129"/>
                          </a:lnTo>
                          <a:lnTo>
                            <a:pt x="360" y="133"/>
                          </a:lnTo>
                          <a:lnTo>
                            <a:pt x="357" y="136"/>
                          </a:lnTo>
                          <a:lnTo>
                            <a:pt x="354" y="138"/>
                          </a:lnTo>
                          <a:lnTo>
                            <a:pt x="352" y="139"/>
                          </a:lnTo>
                          <a:lnTo>
                            <a:pt x="351" y="139"/>
                          </a:lnTo>
                          <a:lnTo>
                            <a:pt x="350" y="139"/>
                          </a:lnTo>
                          <a:lnTo>
                            <a:pt x="352" y="123"/>
                          </a:lnTo>
                          <a:lnTo>
                            <a:pt x="354" y="121"/>
                          </a:lnTo>
                          <a:lnTo>
                            <a:pt x="359" y="118"/>
                          </a:lnTo>
                          <a:lnTo>
                            <a:pt x="364" y="115"/>
                          </a:lnTo>
                          <a:lnTo>
                            <a:pt x="366" y="113"/>
                          </a:lnTo>
                          <a:lnTo>
                            <a:pt x="368" y="112"/>
                          </a:lnTo>
                          <a:lnTo>
                            <a:pt x="372" y="110"/>
                          </a:lnTo>
                          <a:lnTo>
                            <a:pt x="374" y="109"/>
                          </a:lnTo>
                          <a:lnTo>
                            <a:pt x="375" y="110"/>
                          </a:lnTo>
                          <a:lnTo>
                            <a:pt x="375" y="109"/>
                          </a:lnTo>
                          <a:lnTo>
                            <a:pt x="375" y="104"/>
                          </a:lnTo>
                          <a:lnTo>
                            <a:pt x="375" y="100"/>
                          </a:lnTo>
                          <a:lnTo>
                            <a:pt x="375" y="97"/>
                          </a:lnTo>
                          <a:lnTo>
                            <a:pt x="363" y="87"/>
                          </a:lnTo>
                          <a:lnTo>
                            <a:pt x="372" y="81"/>
                          </a:lnTo>
                          <a:lnTo>
                            <a:pt x="382" y="88"/>
                          </a:lnTo>
                          <a:lnTo>
                            <a:pt x="395" y="102"/>
                          </a:lnTo>
                          <a:lnTo>
                            <a:pt x="414" y="101"/>
                          </a:lnTo>
                          <a:lnTo>
                            <a:pt x="418" y="101"/>
                          </a:lnTo>
                          <a:lnTo>
                            <a:pt x="455" y="21"/>
                          </a:lnTo>
                          <a:lnTo>
                            <a:pt x="383" y="0"/>
                          </a:lnTo>
                          <a:lnTo>
                            <a:pt x="311" y="3"/>
                          </a:lnTo>
                          <a:lnTo>
                            <a:pt x="197" y="17"/>
                          </a:lnTo>
                          <a:lnTo>
                            <a:pt x="76" y="58"/>
                          </a:lnTo>
                          <a:lnTo>
                            <a:pt x="0" y="104"/>
                          </a:lnTo>
                          <a:lnTo>
                            <a:pt x="12" y="120"/>
                          </a:lnTo>
                          <a:lnTo>
                            <a:pt x="27" y="120"/>
                          </a:lnTo>
                          <a:lnTo>
                            <a:pt x="40" y="127"/>
                          </a:lnTo>
                          <a:lnTo>
                            <a:pt x="81" y="111"/>
                          </a:lnTo>
                          <a:lnTo>
                            <a:pt x="95" y="124"/>
                          </a:lnTo>
                          <a:lnTo>
                            <a:pt x="95" y="176"/>
                          </a:lnTo>
                          <a:lnTo>
                            <a:pt x="79" y="197"/>
                          </a:lnTo>
                          <a:lnTo>
                            <a:pt x="72" y="283"/>
                          </a:lnTo>
                          <a:lnTo>
                            <a:pt x="100" y="334"/>
                          </a:lnTo>
                          <a:lnTo>
                            <a:pt x="121" y="345"/>
                          </a:lnTo>
                          <a:lnTo>
                            <a:pt x="148" y="407"/>
                          </a:lnTo>
                          <a:lnTo>
                            <a:pt x="164" y="393"/>
                          </a:lnTo>
                          <a:lnTo>
                            <a:pt x="154" y="363"/>
                          </a:lnTo>
                          <a:lnTo>
                            <a:pt x="161" y="353"/>
                          </a:lnTo>
                          <a:lnTo>
                            <a:pt x="179" y="383"/>
                          </a:lnTo>
                          <a:lnTo>
                            <a:pt x="199" y="446"/>
                          </a:lnTo>
                          <a:lnTo>
                            <a:pt x="251" y="466"/>
                          </a:lnTo>
                          <a:lnTo>
                            <a:pt x="275" y="490"/>
                          </a:lnTo>
                          <a:lnTo>
                            <a:pt x="282" y="505"/>
                          </a:lnTo>
                          <a:lnTo>
                            <a:pt x="325" y="521"/>
                          </a:lnTo>
                          <a:lnTo>
                            <a:pt x="363" y="522"/>
                          </a:lnTo>
                          <a:lnTo>
                            <a:pt x="366" y="543"/>
                          </a:lnTo>
                          <a:lnTo>
                            <a:pt x="382" y="552"/>
                          </a:lnTo>
                          <a:lnTo>
                            <a:pt x="406" y="557"/>
                          </a:lnTo>
                          <a:lnTo>
                            <a:pt x="410" y="569"/>
                          </a:lnTo>
                          <a:lnTo>
                            <a:pt x="392" y="574"/>
                          </a:lnTo>
                          <a:lnTo>
                            <a:pt x="387" y="590"/>
                          </a:lnTo>
                          <a:lnTo>
                            <a:pt x="376" y="609"/>
                          </a:lnTo>
                          <a:lnTo>
                            <a:pt x="389" y="692"/>
                          </a:lnTo>
                          <a:lnTo>
                            <a:pt x="399" y="701"/>
                          </a:lnTo>
                          <a:lnTo>
                            <a:pt x="410" y="761"/>
                          </a:lnTo>
                          <a:lnTo>
                            <a:pt x="451" y="785"/>
                          </a:lnTo>
                          <a:lnTo>
                            <a:pt x="436" y="861"/>
                          </a:lnTo>
                          <a:lnTo>
                            <a:pt x="392" y="951"/>
                          </a:lnTo>
                          <a:lnTo>
                            <a:pt x="387" y="981"/>
                          </a:lnTo>
                          <a:lnTo>
                            <a:pt x="387" y="1022"/>
                          </a:lnTo>
                          <a:lnTo>
                            <a:pt x="376" y="1051"/>
                          </a:lnTo>
                          <a:lnTo>
                            <a:pt x="380" y="1070"/>
                          </a:lnTo>
                          <a:lnTo>
                            <a:pt x="369" y="1092"/>
                          </a:lnTo>
                          <a:lnTo>
                            <a:pt x="380" y="1096"/>
                          </a:lnTo>
                          <a:lnTo>
                            <a:pt x="390" y="1079"/>
                          </a:lnTo>
                          <a:lnTo>
                            <a:pt x="403" y="1102"/>
                          </a:lnTo>
                          <a:lnTo>
                            <a:pt x="443" y="1096"/>
                          </a:lnTo>
                          <a:lnTo>
                            <a:pt x="444" y="1060"/>
                          </a:lnTo>
                          <a:lnTo>
                            <a:pt x="467" y="1050"/>
                          </a:lnTo>
                          <a:lnTo>
                            <a:pt x="469" y="1036"/>
                          </a:lnTo>
                          <a:lnTo>
                            <a:pt x="498" y="1022"/>
                          </a:lnTo>
                          <a:lnTo>
                            <a:pt x="502" y="996"/>
                          </a:lnTo>
                          <a:lnTo>
                            <a:pt x="526" y="991"/>
                          </a:lnTo>
                          <a:lnTo>
                            <a:pt x="550" y="961"/>
                          </a:lnTo>
                          <a:lnTo>
                            <a:pt x="607" y="951"/>
                          </a:lnTo>
                          <a:lnTo>
                            <a:pt x="661" y="864"/>
                          </a:lnTo>
                          <a:lnTo>
                            <a:pt x="710" y="836"/>
                          </a:lnTo>
                          <a:lnTo>
                            <a:pt x="727" y="811"/>
                          </a:lnTo>
                          <a:lnTo>
                            <a:pt x="747" y="781"/>
                          </a:lnTo>
                          <a:lnTo>
                            <a:pt x="749" y="760"/>
                          </a:lnTo>
                          <a:lnTo>
                            <a:pt x="773" y="736"/>
                          </a:lnTo>
                          <a:lnTo>
                            <a:pt x="813" y="685"/>
                          </a:lnTo>
                          <a:lnTo>
                            <a:pt x="811" y="614"/>
                          </a:lnTo>
                          <a:lnTo>
                            <a:pt x="765" y="595"/>
                          </a:lnTo>
                          <a:lnTo>
                            <a:pt x="734" y="571"/>
                          </a:lnTo>
                          <a:lnTo>
                            <a:pt x="699" y="522"/>
                          </a:lnTo>
                          <a:lnTo>
                            <a:pt x="689" y="504"/>
                          </a:lnTo>
                          <a:lnTo>
                            <a:pt x="669" y="500"/>
                          </a:lnTo>
                          <a:lnTo>
                            <a:pt x="617" y="491"/>
                          </a:lnTo>
                          <a:lnTo>
                            <a:pt x="572" y="466"/>
                          </a:lnTo>
                          <a:lnTo>
                            <a:pt x="540" y="460"/>
                          </a:lnTo>
                          <a:lnTo>
                            <a:pt x="500" y="460"/>
                          </a:lnTo>
                          <a:lnTo>
                            <a:pt x="465" y="491"/>
                          </a:lnTo>
                          <a:lnTo>
                            <a:pt x="450" y="484"/>
                          </a:lnTo>
                          <a:lnTo>
                            <a:pt x="416" y="490"/>
                          </a:lnTo>
                          <a:lnTo>
                            <a:pt x="410" y="477"/>
                          </a:lnTo>
                          <a:lnTo>
                            <a:pt x="386" y="459"/>
                          </a:lnTo>
                          <a:lnTo>
                            <a:pt x="394" y="449"/>
                          </a:lnTo>
                          <a:lnTo>
                            <a:pt x="386" y="421"/>
                          </a:lnTo>
                          <a:lnTo>
                            <a:pt x="356" y="407"/>
                          </a:lnTo>
                          <a:lnTo>
                            <a:pt x="328" y="414"/>
                          </a:lnTo>
                          <a:lnTo>
                            <a:pt x="292" y="407"/>
                          </a:lnTo>
                          <a:lnTo>
                            <a:pt x="282" y="386"/>
                          </a:lnTo>
                          <a:lnTo>
                            <a:pt x="285" y="367"/>
                          </a:lnTo>
                          <a:lnTo>
                            <a:pt x="286" y="352"/>
                          </a:lnTo>
                          <a:lnTo>
                            <a:pt x="297" y="341"/>
                          </a:lnTo>
                          <a:lnTo>
                            <a:pt x="300" y="348"/>
                          </a:lnTo>
                          <a:lnTo>
                            <a:pt x="304" y="379"/>
                          </a:lnTo>
                          <a:lnTo>
                            <a:pt x="316" y="384"/>
                          </a:lnTo>
                          <a:lnTo>
                            <a:pt x="321" y="348"/>
                          </a:lnTo>
                          <a:lnTo>
                            <a:pt x="335" y="341"/>
                          </a:lnTo>
                          <a:lnTo>
                            <a:pt x="361" y="360"/>
                          </a:lnTo>
                          <a:lnTo>
                            <a:pt x="375" y="360"/>
                          </a:lnTo>
                          <a:lnTo>
                            <a:pt x="382" y="352"/>
                          </a:lnTo>
                          <a:lnTo>
                            <a:pt x="387" y="332"/>
                          </a:lnTo>
                          <a:lnTo>
                            <a:pt x="404" y="329"/>
                          </a:lnTo>
                          <a:lnTo>
                            <a:pt x="422" y="338"/>
                          </a:lnTo>
                          <a:lnTo>
                            <a:pt x="433" y="366"/>
                          </a:lnTo>
                          <a:lnTo>
                            <a:pt x="454" y="381"/>
                          </a:lnTo>
                          <a:lnTo>
                            <a:pt x="482" y="383"/>
                          </a:lnTo>
                          <a:lnTo>
                            <a:pt x="481" y="353"/>
                          </a:lnTo>
                          <a:lnTo>
                            <a:pt x="467" y="314"/>
                          </a:lnTo>
                          <a:lnTo>
                            <a:pt x="462" y="290"/>
                          </a:lnTo>
                          <a:lnTo>
                            <a:pt x="481" y="280"/>
                          </a:lnTo>
                          <a:lnTo>
                            <a:pt x="503" y="234"/>
                          </a:lnTo>
                          <a:lnTo>
                            <a:pt x="523" y="197"/>
                          </a:lnTo>
                          <a:lnTo>
                            <a:pt x="554" y="163"/>
                          </a:lnTo>
                          <a:lnTo>
                            <a:pt x="569" y="155"/>
                          </a:lnTo>
                          <a:lnTo>
                            <a:pt x="568" y="125"/>
                          </a:lnTo>
                          <a:lnTo>
                            <a:pt x="533" y="79"/>
                          </a:lnTo>
                          <a:lnTo>
                            <a:pt x="545" y="73"/>
                          </a:lnTo>
                          <a:lnTo>
                            <a:pt x="555" y="59"/>
                          </a:lnTo>
                          <a:lnTo>
                            <a:pt x="455" y="21"/>
                          </a:lnTo>
                          <a:lnTo>
                            <a:pt x="418" y="101"/>
                          </a:lnTo>
                          <a:lnTo>
                            <a:pt x="432" y="121"/>
                          </a:lnTo>
                          <a:lnTo>
                            <a:pt x="444" y="14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80" name=""/>
              <p:cNvSpPr/>
              <p:nvPr/>
            </p:nvSpPr>
            <p:spPr>
              <a:xfrm>
                <a:off x="6877080" y="5098680"/>
                <a:ext cx="333360" cy="329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04000" y="5390640"/>
                <a:ext cx="333360" cy="329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244000" y="4666680"/>
                <a:ext cx="333360" cy="329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7380360" y="4868640"/>
                <a:ext cx="792000" cy="36036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8172360" y="5084640"/>
                <a:ext cx="216000" cy="43200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724360" y="4508640"/>
                <a:ext cx="1079640" cy="720720"/>
              </a:xfrm>
              <a:prstGeom prst="line">
                <a:avLst/>
              </a:prstGeom>
              <a:ln w="28440">
                <a:solidFill>
                  <a:srgbClr val="cc3300"/>
                </a:solidFill>
                <a:prstDash val="dash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4680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948360" y="4241880"/>
                <a:ext cx="216072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rapper socie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524720" y="4890960"/>
                <a:ext cx="333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197920" y="5267160"/>
                <a:ext cx="333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00720" y="5033880"/>
                <a:ext cx="333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c3300"/>
                    </a:solidFill>
                    <a:latin typeface="Arial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9A71C-3BAE-4D1E-A81D-98E99D040687}" type="slidenum">
              <a:t>7</a:t>
            </a:fld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Motivation for a new society of wrapper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640" y="457200"/>
            <a:ext cx="9077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0" anchor="t">
            <a:normAutofit/>
          </a:bodyPr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No organization is an island: in a society, a market…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Information resources on the </a:t>
            </a: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open Web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relevant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8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7cba"/>
                </a:solidFill>
                <a:latin typeface="Arial"/>
              </a:rPr>
              <a:t>Integrate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external resources in memory </a:t>
            </a:r>
            <a:r>
              <a:rPr b="0" i="1" lang="en-US" sz="2900" spc="-1" strike="noStrike">
                <a:solidFill>
                  <a:srgbClr val="007cba"/>
                </a:solidFill>
                <a:latin typeface="Arial"/>
              </a:rPr>
              <a:t>i.e.</a:t>
            </a: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annotate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Corporate portal: outer </a:t>
            </a:r>
            <a:r>
              <a:rPr b="0" lang="en-US" sz="2400" spc="-1" strike="noStrike">
                <a:solidFill>
                  <a:srgbClr val="007cb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inner </a:t>
            </a:r>
            <a:r>
              <a:rPr b="0" i="1" lang="en-US" sz="2400" spc="-1" strike="noStrike">
                <a:solidFill>
                  <a:srgbClr val="007cba"/>
                </a:solidFill>
                <a:latin typeface="Arial"/>
              </a:rPr>
              <a:t>vs.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inner </a:t>
            </a:r>
            <a:r>
              <a:rPr b="1" lang="en-US" sz="2400" spc="-1" strike="noStrike">
                <a:solidFill>
                  <a:srgbClr val="007cb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 outer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CoMMA: scenarios with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nnotation roles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(e.g., librarians)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Large sets of documents </a:t>
            </a:r>
            <a:r>
              <a:rPr b="0" lang="en-US" sz="2400" spc="-1" strike="noStrike">
                <a:solidFill>
                  <a:srgbClr val="007cba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annotate = tedious repetitive task</a:t>
            </a:r>
            <a:br>
              <a:rPr sz="2400"/>
            </a:b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Manual annotation unrealistic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Repositories, digital libraries, </a:t>
            </a:r>
            <a:r>
              <a:rPr b="0" i="1" lang="en-US" sz="2400" spc="-1" strike="noStrike">
                <a:solidFill>
                  <a:srgbClr val="007cba"/>
                </a:solidFill>
                <a:latin typeface="Arial"/>
              </a:rPr>
              <a:t>etc.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: recurrent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structural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clue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nnotations mainly based on information present in the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page 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utomate some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extractions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rules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to scale-up annotation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For pages of one site: “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annotate one, extract every others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Introduction of a new society of wrappers / scrappers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&lt;InAnAsideToTheReviewers&gt;</a:t>
            </a:r>
            <a:endParaRPr b="1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Multiple ontology &amp; mapping: 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another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 on-going work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Focus on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one use scenario</a:t>
            </a: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 with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one appropriate ontology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91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7cba"/>
                </a:solidFill>
                <a:latin typeface="Arial"/>
              </a:rPr>
              <a:t>&lt;/InAnAsideToTheReviewers&gt;</a:t>
            </a:r>
            <a:endParaRPr b="1" lang="en-US" sz="2400" spc="-1" strike="noStrike">
              <a:solidFill>
                <a:srgbClr val="007cb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6C21-6D3D-49A8-AD16-C76983D765AB}" type="slidenum">
              <a:t>8</a:t>
            </a:fld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6" dur="1" fill="hold"/>
                                  <p:tgtEl>
                                    <p:spTgt spid="691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691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318" dur="1" fill="hold"/>
                                  <p:tgtEl>
                                    <p:spTgt spid="691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  <p:animClr clrSpc="rgb">
                                <p:cBhvr>
                                  <p:cTn id="319" dur="1" fill="hold"/>
                                  <p:tgtEl>
                                    <p:spTgt spid="691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60360" y="-360"/>
            <a:ext cx="8763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99"/>
                </a:solidFill>
                <a:latin typeface="Arial"/>
              </a:rPr>
              <a:t>Annotation extraction process</a:t>
            </a:r>
            <a:endParaRPr b="0" i="1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53640" y="457200"/>
            <a:ext cx="9077400" cy="2807280"/>
          </a:xfrm>
          <a:prstGeom prst="rect">
            <a:avLst/>
          </a:prstGeom>
          <a:noFill/>
          <a:ln w="0">
            <a:noFill/>
          </a:ln>
        </p:spPr>
        <p:txBody>
          <a:bodyPr rIns="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Two options for the annotation extraction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On-the-fly conversion: generate annotations when needed</a:t>
            </a:r>
            <a:br>
              <a:rPr sz="2400"/>
            </a:b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up-to-date, no duplication, slow, connected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Local archive maintenance: generate and maintain a base</a:t>
            </a:r>
            <a:br>
              <a:rPr sz="2400"/>
            </a:b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rapid, disconnected, needs monitoring, memory-consuming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lvl="1" marL="673200" indent="-1904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cba"/>
                </a:solidFill>
                <a:latin typeface="Arial"/>
              </a:rPr>
              <a:t>Second option: rapid &amp; decouples intraweb from open-Web</a:t>
            </a:r>
            <a:endParaRPr b="0" lang="en-US" sz="2400" spc="-1" strike="noStrike">
              <a:solidFill>
                <a:srgbClr val="007cba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726"/>
              </a:spcBef>
              <a:buClr>
                <a:srgbClr val="0000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7cba"/>
                </a:solidFill>
                <a:latin typeface="Arial"/>
              </a:rPr>
              <a:t>XML-based approach:</a:t>
            </a:r>
            <a:endParaRPr b="1" lang="en-US" sz="2900" spc="-1" strike="noStrike">
              <a:solidFill>
                <a:srgbClr val="007cba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92240" y="3544920"/>
            <a:ext cx="2952720" cy="2576520"/>
            <a:chOff x="192240" y="3544920"/>
            <a:chExt cx="2952720" cy="2576520"/>
          </a:xfrm>
        </p:grpSpPr>
        <p:grpSp>
          <p:nvGrpSpPr>
            <p:cNvPr id="695" name=""/>
            <p:cNvGrpSpPr/>
            <p:nvPr/>
          </p:nvGrpSpPr>
          <p:grpSpPr>
            <a:xfrm>
              <a:off x="417600" y="3544920"/>
              <a:ext cx="1239840" cy="2576520"/>
              <a:chOff x="417600" y="3544920"/>
              <a:chExt cx="1239840" cy="2576520"/>
            </a:xfrm>
          </p:grpSpPr>
          <p:sp>
            <p:nvSpPr>
              <p:cNvPr id="696" name=""/>
              <p:cNvSpPr/>
              <p:nvPr/>
            </p:nvSpPr>
            <p:spPr>
              <a:xfrm>
                <a:off x="656280" y="3544920"/>
                <a:ext cx="1000800" cy="25765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57440" y="3544920"/>
                <a:ext cx="0" cy="257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17600" y="3544920"/>
                <a:ext cx="253800" cy="2576520"/>
              </a:xfrm>
              <a:prstGeom prst="rect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192240" y="3562200"/>
              <a:ext cx="148572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World Wide W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4600" y="3562200"/>
              <a:ext cx="153036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Corporate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865080" y="4855680"/>
              <a:ext cx="582120" cy="655920"/>
              <a:chOff x="865080" y="4855680"/>
              <a:chExt cx="582120" cy="655920"/>
            </a:xfrm>
          </p:grpSpPr>
          <p:sp>
            <p:nvSpPr>
              <p:cNvPr id="702" name=""/>
              <p:cNvSpPr/>
              <p:nvPr/>
            </p:nvSpPr>
            <p:spPr>
              <a:xfrm rot="10800000">
                <a:off x="865080" y="4855680"/>
                <a:ext cx="433440" cy="538200"/>
              </a:xfrm>
              <a:prstGeom prst="foldedCorner">
                <a:avLst>
                  <a:gd name="adj" fmla="val 2537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0800000">
                <a:off x="925200" y="4896000"/>
                <a:ext cx="433080" cy="537840"/>
              </a:xfrm>
              <a:prstGeom prst="foldedCorner">
                <a:avLst>
                  <a:gd name="adj" fmla="val 2537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0800000">
                <a:off x="969840" y="4935240"/>
                <a:ext cx="433440" cy="538200"/>
              </a:xfrm>
              <a:prstGeom prst="foldedCorner">
                <a:avLst>
                  <a:gd name="adj" fmla="val 2537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0800000">
                <a:off x="1014120" y="4974840"/>
                <a:ext cx="433080" cy="536760"/>
              </a:xfrm>
              <a:prstGeom prst="foldedCorner">
                <a:avLst>
                  <a:gd name="adj" fmla="val 2537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>
              <a:off x="568440" y="5524560"/>
              <a:ext cx="11984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T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1508040" y="5054760"/>
            <a:ext cx="2519280" cy="1110960"/>
            <a:chOff x="1508040" y="5054760"/>
            <a:chExt cx="2519280" cy="1110960"/>
          </a:xfrm>
        </p:grpSpPr>
        <p:sp>
          <p:nvSpPr>
            <p:cNvPr id="708" name=""/>
            <p:cNvSpPr/>
            <p:nvPr/>
          </p:nvSpPr>
          <p:spPr>
            <a:xfrm rot="10800000">
              <a:off x="2823840" y="5079960"/>
              <a:ext cx="477720" cy="625680"/>
            </a:xfrm>
            <a:prstGeom prst="foldedCorner">
              <a:avLst>
                <a:gd name="adj" fmla="val 253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508040" y="5237280"/>
              <a:ext cx="1225800" cy="249120"/>
            </a:xfrm>
            <a:prstGeom prst="rightArrow">
              <a:avLst>
                <a:gd name="adj1" fmla="val 50176"/>
                <a:gd name="adj2" fmla="val 672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125800" y="5664240"/>
              <a:ext cx="19015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empor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HTML ver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666800" y="5054760"/>
              <a:ext cx="9730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Trans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66800" y="5369040"/>
              <a:ext cx="12873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with JTi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3273480" y="3643200"/>
            <a:ext cx="1755720" cy="2202120"/>
            <a:chOff x="3273480" y="3643200"/>
            <a:chExt cx="1755720" cy="2202120"/>
          </a:xfrm>
        </p:grpSpPr>
        <p:sp>
          <p:nvSpPr>
            <p:cNvPr id="714" name=""/>
            <p:cNvSpPr/>
            <p:nvPr/>
          </p:nvSpPr>
          <p:spPr>
            <a:xfrm>
              <a:off x="3825720" y="3828960"/>
              <a:ext cx="52236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5" name=""/>
            <p:cNvGrpSpPr/>
            <p:nvPr/>
          </p:nvGrpSpPr>
          <p:grpSpPr>
            <a:xfrm>
              <a:off x="3884760" y="3903840"/>
              <a:ext cx="396360" cy="248760"/>
              <a:chOff x="3884760" y="3903840"/>
              <a:chExt cx="396360" cy="248760"/>
            </a:xfrm>
          </p:grpSpPr>
          <p:sp>
            <p:nvSpPr>
              <p:cNvPr id="716" name=""/>
              <p:cNvSpPr/>
              <p:nvPr/>
            </p:nvSpPr>
            <p:spPr>
              <a:xfrm>
                <a:off x="3884760" y="4016160"/>
                <a:ext cx="86400" cy="6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039920" y="3951360"/>
                <a:ext cx="85680" cy="6444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039920" y="4079880"/>
                <a:ext cx="85680" cy="637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194720" y="3903840"/>
                <a:ext cx="86400" cy="6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194720" y="3999960"/>
                <a:ext cx="86400" cy="6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194720" y="4088880"/>
                <a:ext cx="86400" cy="637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3971160" y="3983400"/>
                <a:ext cx="68760" cy="637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71160" y="4047480"/>
                <a:ext cx="68760" cy="637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125960" y="3983760"/>
                <a:ext cx="68760" cy="47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125960" y="3935880"/>
                <a:ext cx="68760" cy="47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25960" y="4111560"/>
                <a:ext cx="6876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595680" y="3643200"/>
              <a:ext cx="9651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ntolo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451320" y="5040360"/>
              <a:ext cx="1195200" cy="222120"/>
            </a:xfrm>
            <a:prstGeom prst="rightArrow">
              <a:avLst>
                <a:gd name="adj1" fmla="val 50176"/>
                <a:gd name="adj2" fmla="val 9311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405240" y="4857840"/>
              <a:ext cx="11206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Data lo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435480" y="5159520"/>
              <a:ext cx="1090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using X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73480" y="4338720"/>
              <a:ext cx="963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concepts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rel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5400000">
              <a:off x="4192920" y="4363200"/>
              <a:ext cx="444600" cy="461880"/>
            </a:xfrm>
            <a:custGeom>
              <a:avLst/>
              <a:gdLst>
                <a:gd name="textAreaLeft" fmla="*/ 179640 w 444600"/>
                <a:gd name="textAreaRight" fmla="*/ 386280 w 444600"/>
                <a:gd name="textAreaTop" fmla="*/ 291600 h 461880"/>
                <a:gd name="textAreaBottom" fmla="*/ 40140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475"/>
                  </a:moveTo>
                  <a:lnTo>
                    <a:pt x="13637" y="16475"/>
                  </a:lnTo>
                  <a:lnTo>
                    <a:pt x="13637" y="8732"/>
                  </a:lnTo>
                  <a:lnTo>
                    <a:pt x="10799" y="8732"/>
                  </a:lnTo>
                  <a:lnTo>
                    <a:pt x="16200" y="0"/>
                  </a:lnTo>
                  <a:lnTo>
                    <a:pt x="21600" y="8732"/>
                  </a:lnTo>
                  <a:lnTo>
                    <a:pt x="18762" y="8732"/>
                  </a:lnTo>
                  <a:lnTo>
                    <a:pt x="1876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41920" y="3687840"/>
              <a:ext cx="287280" cy="21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 Narrow"/>
                </a:rPr>
                <a:t>Extraction GUI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94400" y="382896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4960" y="382896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3809880" y="4483080"/>
            <a:ext cx="3689640" cy="1682640"/>
            <a:chOff x="3809880" y="4483080"/>
            <a:chExt cx="3689640" cy="1682640"/>
          </a:xfrm>
        </p:grpSpPr>
        <p:sp>
          <p:nvSpPr>
            <p:cNvPr id="737" name=""/>
            <p:cNvSpPr/>
            <p:nvPr/>
          </p:nvSpPr>
          <p:spPr>
            <a:xfrm>
              <a:off x="5799240" y="4711680"/>
              <a:ext cx="522360" cy="61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5888160" y="4791240"/>
              <a:ext cx="280800" cy="245880"/>
              <a:chOff x="5888160" y="4791240"/>
              <a:chExt cx="280800" cy="245880"/>
            </a:xfrm>
          </p:grpSpPr>
          <p:sp>
            <p:nvSpPr>
              <p:cNvPr id="739" name=""/>
              <p:cNvSpPr/>
              <p:nvPr/>
            </p:nvSpPr>
            <p:spPr>
              <a:xfrm>
                <a:off x="5888160" y="4791240"/>
                <a:ext cx="280800" cy="245880"/>
              </a:xfrm>
              <a:custGeom>
                <a:avLst/>
                <a:gdLst>
                  <a:gd name="textAreaLeft" fmla="*/ 64080 w 280800"/>
                  <a:gd name="textAreaRight" fmla="*/ 216720 w 280800"/>
                  <a:gd name="textAreaTop" fmla="*/ 56160 h 245880"/>
                  <a:gd name="textAreaBottom" fmla="*/ 189720 h 245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000480" y="4889520"/>
                <a:ext cx="55440" cy="48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6081840" y="4960800"/>
              <a:ext cx="169560" cy="149400"/>
              <a:chOff x="6081840" y="4960800"/>
              <a:chExt cx="169560" cy="149400"/>
            </a:xfrm>
          </p:grpSpPr>
          <p:sp>
            <p:nvSpPr>
              <p:cNvPr id="742" name=""/>
              <p:cNvSpPr/>
              <p:nvPr/>
            </p:nvSpPr>
            <p:spPr>
              <a:xfrm>
                <a:off x="6081840" y="4960800"/>
                <a:ext cx="169560" cy="149400"/>
              </a:xfrm>
              <a:custGeom>
                <a:avLst/>
                <a:gdLst>
                  <a:gd name="textAreaLeft" fmla="*/ 38520 w 169560"/>
                  <a:gd name="textAreaRight" fmla="*/ 131040 w 169560"/>
                  <a:gd name="textAreaTop" fmla="*/ 33840 h 149400"/>
                  <a:gd name="textAreaBottom" fmla="*/ 115560 h 149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49520" y="5020560"/>
                <a:ext cx="33480" cy="29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5883120" y="5013360"/>
              <a:ext cx="227160" cy="200160"/>
              <a:chOff x="5883120" y="5013360"/>
              <a:chExt cx="227160" cy="200160"/>
            </a:xfrm>
          </p:grpSpPr>
          <p:sp>
            <p:nvSpPr>
              <p:cNvPr id="745" name=""/>
              <p:cNvSpPr/>
              <p:nvPr/>
            </p:nvSpPr>
            <p:spPr>
              <a:xfrm>
                <a:off x="5883120" y="5013360"/>
                <a:ext cx="227160" cy="200160"/>
              </a:xfrm>
              <a:custGeom>
                <a:avLst/>
                <a:gdLst>
                  <a:gd name="textAreaLeft" fmla="*/ 51840 w 227160"/>
                  <a:gd name="textAreaRight" fmla="*/ 175320 w 227160"/>
                  <a:gd name="textAreaTop" fmla="*/ 45720 h 200160"/>
                  <a:gd name="textAreaBottom" fmla="*/ 154440 h 200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652" y="12384"/>
                    </a:lnTo>
                    <a:lnTo>
                      <a:pt x="786" y="14846"/>
                    </a:lnTo>
                    <a:lnTo>
                      <a:pt x="3839" y="15321"/>
                    </a:lnTo>
                    <a:lnTo>
                      <a:pt x="3163" y="18437"/>
                    </a:lnTo>
                    <a:lnTo>
                      <a:pt x="6159" y="17681"/>
                    </a:lnTo>
                    <a:lnTo>
                      <a:pt x="6580" y="20741"/>
                    </a:lnTo>
                    <a:lnTo>
                      <a:pt x="9074" y="18919"/>
                    </a:lnTo>
                    <a:lnTo>
                      <a:pt x="10800" y="21600"/>
                    </a:lnTo>
                    <a:lnTo>
                      <a:pt x="12384" y="18948"/>
                    </a:lnTo>
                    <a:lnTo>
                      <a:pt x="14846" y="20814"/>
                    </a:lnTo>
                    <a:lnTo>
                      <a:pt x="15321" y="17761"/>
                    </a:lnTo>
                    <a:lnTo>
                      <a:pt x="18437" y="18437"/>
                    </a:lnTo>
                    <a:lnTo>
                      <a:pt x="17681" y="15441"/>
                    </a:lnTo>
                    <a:lnTo>
                      <a:pt x="20741" y="15020"/>
                    </a:lnTo>
                    <a:lnTo>
                      <a:pt x="18919" y="12526"/>
                    </a:lnTo>
                    <a:lnTo>
                      <a:pt x="21600" y="10800"/>
                    </a:lnTo>
                    <a:lnTo>
                      <a:pt x="18948" y="9216"/>
                    </a:lnTo>
                    <a:lnTo>
                      <a:pt x="20814" y="6754"/>
                    </a:lnTo>
                    <a:lnTo>
                      <a:pt x="17761" y="6279"/>
                    </a:lnTo>
                    <a:lnTo>
                      <a:pt x="18437" y="3163"/>
                    </a:lnTo>
                    <a:lnTo>
                      <a:pt x="15441" y="3919"/>
                    </a:lnTo>
                    <a:lnTo>
                      <a:pt x="15020" y="859"/>
                    </a:lnTo>
                    <a:lnTo>
                      <a:pt x="12526" y="2681"/>
                    </a:lnTo>
                    <a:lnTo>
                      <a:pt x="10800" y="0"/>
                    </a:lnTo>
                    <a:lnTo>
                      <a:pt x="9216" y="2652"/>
                    </a:lnTo>
                    <a:lnTo>
                      <a:pt x="6754" y="786"/>
                    </a:lnTo>
                    <a:lnTo>
                      <a:pt x="6279" y="3839"/>
                    </a:lnTo>
                    <a:lnTo>
                      <a:pt x="3163" y="3163"/>
                    </a:lnTo>
                    <a:lnTo>
                      <a:pt x="3919" y="6159"/>
                    </a:lnTo>
                    <a:lnTo>
                      <a:pt x="859" y="6580"/>
                    </a:lnTo>
                    <a:lnTo>
                      <a:pt x="2681" y="907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973840" y="5093280"/>
                <a:ext cx="45000" cy="3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5089680" y="5342040"/>
              <a:ext cx="190152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SLT Anno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traction templ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399360" y="4856040"/>
              <a:ext cx="744480" cy="223920"/>
            </a:xfrm>
            <a:prstGeom prst="rightArrow">
              <a:avLst>
                <a:gd name="adj1" fmla="val 50176"/>
                <a:gd name="adj2" fmla="val 5753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09880" y="5776920"/>
              <a:ext cx="3333960" cy="262080"/>
            </a:xfrm>
            <a:prstGeom prst="rightArrow">
              <a:avLst>
                <a:gd name="adj1" fmla="val 50000"/>
                <a:gd name="adj2" fmla="val 5259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30880" y="4483080"/>
              <a:ext cx="368640" cy="16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 Narrow"/>
                </a:rPr>
                <a:t>XSLT Eng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84880" y="4803840"/>
              <a:ext cx="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427880" y="4803840"/>
              <a:ext cx="0" cy="12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11560" y="4836960"/>
              <a:ext cx="744840" cy="223920"/>
            </a:xfrm>
            <a:prstGeom prst="rightArrow">
              <a:avLst>
                <a:gd name="adj1" fmla="val 50176"/>
                <a:gd name="adj2" fmla="val 575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7469280" y="4699080"/>
            <a:ext cx="1547280" cy="1338120"/>
            <a:chOff x="7469280" y="4699080"/>
            <a:chExt cx="1547280" cy="1338120"/>
          </a:xfrm>
        </p:grpSpPr>
        <p:sp>
          <p:nvSpPr>
            <p:cNvPr id="755" name=""/>
            <p:cNvSpPr/>
            <p:nvPr/>
          </p:nvSpPr>
          <p:spPr>
            <a:xfrm>
              <a:off x="8053200" y="4699080"/>
              <a:ext cx="865080" cy="13381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980120" y="5207040"/>
              <a:ext cx="103644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D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469280" y="5329080"/>
              <a:ext cx="564840" cy="222480"/>
            </a:xfrm>
            <a:prstGeom prst="rightArrow">
              <a:avLst>
                <a:gd name="adj1" fmla="val 50176"/>
                <a:gd name="adj2" fmla="val 439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317520" y="3213000"/>
            <a:ext cx="8788320" cy="3133440"/>
            <a:chOff x="317520" y="3213000"/>
            <a:chExt cx="8788320" cy="3133440"/>
          </a:xfrm>
        </p:grpSpPr>
        <p:sp>
          <p:nvSpPr>
            <p:cNvPr id="759" name=""/>
            <p:cNvSpPr/>
            <p:nvPr/>
          </p:nvSpPr>
          <p:spPr>
            <a:xfrm>
              <a:off x="7470720" y="3213000"/>
              <a:ext cx="1486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3300"/>
                  </a:solidFill>
                  <a:latin typeface="Arial"/>
                </a:rPr>
                <a:t>principl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0" name=""/>
            <p:cNvGrpSpPr/>
            <p:nvPr/>
          </p:nvGrpSpPr>
          <p:grpSpPr>
            <a:xfrm>
              <a:off x="8334360" y="3366000"/>
              <a:ext cx="771480" cy="837720"/>
              <a:chOff x="8334360" y="3366000"/>
              <a:chExt cx="771480" cy="837720"/>
            </a:xfrm>
          </p:grpSpPr>
          <p:sp>
            <p:nvSpPr>
              <p:cNvPr id="761" name=""/>
              <p:cNvSpPr/>
              <p:nvPr/>
            </p:nvSpPr>
            <p:spPr>
              <a:xfrm flipV="1">
                <a:off x="8944200" y="336600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562960" y="3518280"/>
                <a:ext cx="54288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flipV="1" rot="16200000">
                <a:off x="8867880" y="3442320"/>
                <a:ext cx="151560" cy="151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8944200" y="3746880"/>
                <a:ext cx="0" cy="45684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334360" y="3518280"/>
                <a:ext cx="22860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317520" y="5661000"/>
              <a:ext cx="622080" cy="685440"/>
              <a:chOff x="317520" y="5661000"/>
              <a:chExt cx="622080" cy="685440"/>
            </a:xfrm>
          </p:grpSpPr>
          <p:sp>
            <p:nvSpPr>
              <p:cNvPr id="767" name=""/>
              <p:cNvSpPr/>
              <p:nvPr/>
            </p:nvSpPr>
            <p:spPr>
              <a:xfrm>
                <a:off x="447840" y="597276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317520" y="6221880"/>
                <a:ext cx="43776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 rot="5400000">
                <a:off x="385920" y="6159600"/>
                <a:ext cx="12420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605062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6050626"/>
                  </a:path>
                </a:pathLst>
              </a:custGeom>
              <a:noFill/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47840" y="5661000"/>
                <a:ext cx="0" cy="37368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55280" y="6221880"/>
                <a:ext cx="184320" cy="0"/>
              </a:xfrm>
              <a:prstGeom prst="line">
                <a:avLst/>
              </a:prstGeom>
              <a:ln w="9360">
                <a:solidFill>
                  <a:srgbClr val="cc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2" name=""/>
          <p:cNvGrpSpPr/>
          <p:nvPr/>
        </p:nvGrpSpPr>
        <p:grpSpPr>
          <a:xfrm>
            <a:off x="6525000" y="3626280"/>
            <a:ext cx="575640" cy="2682360"/>
            <a:chOff x="6525000" y="3626280"/>
            <a:chExt cx="575640" cy="2682360"/>
          </a:xfrm>
        </p:grpSpPr>
        <p:pic>
          <p:nvPicPr>
            <p:cNvPr id="773" name="" descr=""/>
            <p:cNvPicPr/>
            <p:nvPr/>
          </p:nvPicPr>
          <p:blipFill>
            <a:blip r:embed="rId1"/>
            <a:stretch/>
          </p:blipFill>
          <p:spPr>
            <a:xfrm rot="14889000">
              <a:off x="6524640" y="3771360"/>
              <a:ext cx="5763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6804000" y="4221000"/>
              <a:ext cx="0" cy="208764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D978-0A3E-459B-B08B-11C296E6F401}" type="slidenum">
              <a:t>9</a:t>
            </a:fld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2:27:51Z</dcterms:created>
  <dc:creator>Fabien GANDON</dc:creator>
  <dc:description/>
  <dc:language>en-US</dc:language>
  <cp:lastModifiedBy>Fabien Gandon</cp:lastModifiedBy>
  <dcterms:modified xsi:type="dcterms:W3CDTF">2003-03-26T00:30:35Z</dcterms:modified>
  <cp:revision>217</cp:revision>
  <dc:subject/>
  <dc:title>Fabien GANDON</dc:title>
</cp:coreProperties>
</file>